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1C6-E03A-45CA-A9AB-9FA7830D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2BA-A13F-4C4D-B159-F655931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D48-E345-47BE-A5FD-899C0CA8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D25-505C-49AE-BC13-1273A84A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C1A-ACFB-4099-93FA-D34C19AB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B77-987C-414C-B78D-84F3617C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F0F-F5B6-41DA-9FA3-8ACA62D5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774-4900-4CEB-A90E-DB6477E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6F3-D076-44DC-8097-038C1AE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4AF-885E-4F98-BC01-6F9F921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FAB-1456-4196-9E6D-CA28DB11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466-2485-4752-9B86-94E9FB7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E8CE-6277-449B-BF14-EF16396E3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993600"/>
            <a:ext cx="4570200" cy="365616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990720"/>
            <a:ext cx="685800" cy="3657600"/>
          </a:xfrm>
          <a:custGeom>
            <a:avLst/>
            <a:gdLst/>
            <a:ahLst/>
            <a:rect l="l" t="t" r="r" b="b"/>
            <a:pathLst>
              <a:path w="432" h="2304">
                <a:moveTo>
                  <a:pt x="0" y="0"/>
                </a:moveTo>
                <a:cubicBezTo>
                  <a:pt x="64" y="80"/>
                  <a:pt x="128" y="160"/>
                  <a:pt x="144" y="240"/>
                </a:cubicBezTo>
                <a:cubicBezTo>
                  <a:pt x="160" y="320"/>
                  <a:pt x="80" y="392"/>
                  <a:pt x="96" y="480"/>
                </a:cubicBezTo>
                <a:cubicBezTo>
                  <a:pt x="112" y="568"/>
                  <a:pt x="216" y="672"/>
                  <a:pt x="240" y="768"/>
                </a:cubicBezTo>
                <a:cubicBezTo>
                  <a:pt x="264" y="864"/>
                  <a:pt x="224" y="968"/>
                  <a:pt x="240" y="1056"/>
                </a:cubicBezTo>
                <a:cubicBezTo>
                  <a:pt x="256" y="1144"/>
                  <a:pt x="320" y="1216"/>
                  <a:pt x="336" y="1296"/>
                </a:cubicBezTo>
                <a:cubicBezTo>
                  <a:pt x="352" y="1376"/>
                  <a:pt x="344" y="1464"/>
                  <a:pt x="336" y="1536"/>
                </a:cubicBezTo>
                <a:cubicBezTo>
                  <a:pt x="328" y="1608"/>
                  <a:pt x="280" y="1656"/>
                  <a:pt x="288" y="1728"/>
                </a:cubicBezTo>
                <a:cubicBezTo>
                  <a:pt x="296" y="1800"/>
                  <a:pt x="360" y="1896"/>
                  <a:pt x="384" y="1968"/>
                </a:cubicBezTo>
                <a:cubicBezTo>
                  <a:pt x="408" y="2040"/>
                  <a:pt x="432" y="2104"/>
                  <a:pt x="432" y="2160"/>
                </a:cubicBezTo>
                <a:cubicBezTo>
                  <a:pt x="432" y="2216"/>
                  <a:pt x="408" y="2260"/>
                  <a:pt x="384" y="230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3048120"/>
            <a:ext cx="457200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03520" y="2976480"/>
            <a:ext cx="301680" cy="141120"/>
            <a:chOff x="4403520" y="2976480"/>
            <a:chExt cx="301680" cy="141120"/>
          </a:xfrm>
        </p:grpSpPr>
        <p:sp>
          <p:nvSpPr>
            <p:cNvPr id="45" name=""/>
            <p:cNvSpPr/>
            <p:nvPr/>
          </p:nvSpPr>
          <p:spPr>
            <a:xfrm>
              <a:off x="4403880" y="2976480"/>
              <a:ext cx="301320" cy="3348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0" y="2"/>
                  </a:moveTo>
                  <a:lnTo>
                    <a:pt x="51" y="21"/>
                  </a:lnTo>
                  <a:lnTo>
                    <a:pt x="141" y="21"/>
                  </a:lnTo>
                  <a:lnTo>
                    <a:pt x="19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4403520" y="3084120"/>
              <a:ext cx="301320" cy="3348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0" y="2"/>
                  </a:moveTo>
                  <a:lnTo>
                    <a:pt x="51" y="21"/>
                  </a:lnTo>
                  <a:lnTo>
                    <a:pt x="141" y="21"/>
                  </a:lnTo>
                  <a:lnTo>
                    <a:pt x="19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314880" y="990720"/>
            <a:ext cx="3038400" cy="2038320"/>
          </a:xfrm>
          <a:custGeom>
            <a:avLst/>
            <a:gdLst/>
            <a:ahLst/>
            <a:rect l="l" t="t" r="r" b="b"/>
            <a:pathLst>
              <a:path w="1914" h="1284">
                <a:moveTo>
                  <a:pt x="0" y="1284"/>
                </a:moveTo>
                <a:lnTo>
                  <a:pt x="486" y="738"/>
                </a:lnTo>
                <a:lnTo>
                  <a:pt x="1026" y="468"/>
                </a:lnTo>
                <a:lnTo>
                  <a:pt x="1548" y="378"/>
                </a:lnTo>
                <a:lnTo>
                  <a:pt x="1914" y="0"/>
                </a:lnTo>
              </a:path>
            </a:pathLst>
          </a:cu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178880" y="1891800"/>
            <a:ext cx="331200" cy="272880"/>
            <a:chOff x="4178880" y="1891800"/>
            <a:chExt cx="331200" cy="272880"/>
          </a:xfrm>
        </p:grpSpPr>
        <p:sp>
          <p:nvSpPr>
            <p:cNvPr id="49" name=""/>
            <p:cNvSpPr/>
            <p:nvPr/>
          </p:nvSpPr>
          <p:spPr>
            <a:xfrm rot="19800000">
              <a:off x="4167000" y="1964520"/>
              <a:ext cx="301320" cy="3348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0" y="2"/>
                  </a:moveTo>
                  <a:lnTo>
                    <a:pt x="51" y="21"/>
                  </a:lnTo>
                  <a:lnTo>
                    <a:pt x="141" y="21"/>
                  </a:lnTo>
                  <a:lnTo>
                    <a:pt x="19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9000000">
              <a:off x="4220280" y="2057760"/>
              <a:ext cx="301320" cy="3348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0" y="2"/>
                  </a:moveTo>
                  <a:lnTo>
                    <a:pt x="51" y="21"/>
                  </a:lnTo>
                  <a:lnTo>
                    <a:pt x="141" y="21"/>
                  </a:lnTo>
                  <a:lnTo>
                    <a:pt x="19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705200" y="1866960"/>
            <a:ext cx="1028880" cy="1000080"/>
          </a:xfrm>
          <a:custGeom>
            <a:avLst/>
            <a:gdLst/>
            <a:ahLst/>
            <a:rect l="l" t="t" r="r" b="b"/>
            <a:pathLst>
              <a:path w="648" h="630">
                <a:moveTo>
                  <a:pt x="270" y="0"/>
                </a:moveTo>
                <a:cubicBezTo>
                  <a:pt x="308" y="2"/>
                  <a:pt x="346" y="1"/>
                  <a:pt x="384" y="6"/>
                </a:cubicBezTo>
                <a:cubicBezTo>
                  <a:pt x="404" y="9"/>
                  <a:pt x="422" y="40"/>
                  <a:pt x="432" y="54"/>
                </a:cubicBezTo>
                <a:cubicBezTo>
                  <a:pt x="457" y="89"/>
                  <a:pt x="474" y="126"/>
                  <a:pt x="498" y="162"/>
                </a:cubicBezTo>
                <a:cubicBezTo>
                  <a:pt x="502" y="167"/>
                  <a:pt x="500" y="176"/>
                  <a:pt x="504" y="180"/>
                </a:cubicBezTo>
                <a:cubicBezTo>
                  <a:pt x="541" y="217"/>
                  <a:pt x="593" y="227"/>
                  <a:pt x="630" y="264"/>
                </a:cubicBezTo>
                <a:cubicBezTo>
                  <a:pt x="636" y="286"/>
                  <a:pt x="642" y="308"/>
                  <a:pt x="648" y="330"/>
                </a:cubicBezTo>
                <a:cubicBezTo>
                  <a:pt x="643" y="381"/>
                  <a:pt x="644" y="426"/>
                  <a:pt x="600" y="456"/>
                </a:cubicBezTo>
                <a:cubicBezTo>
                  <a:pt x="581" y="484"/>
                  <a:pt x="588" y="520"/>
                  <a:pt x="570" y="546"/>
                </a:cubicBezTo>
                <a:cubicBezTo>
                  <a:pt x="533" y="601"/>
                  <a:pt x="431" y="596"/>
                  <a:pt x="378" y="600"/>
                </a:cubicBezTo>
                <a:cubicBezTo>
                  <a:pt x="354" y="616"/>
                  <a:pt x="328" y="623"/>
                  <a:pt x="300" y="630"/>
                </a:cubicBezTo>
                <a:cubicBezTo>
                  <a:pt x="242" y="620"/>
                  <a:pt x="214" y="581"/>
                  <a:pt x="162" y="564"/>
                </a:cubicBezTo>
                <a:cubicBezTo>
                  <a:pt x="145" y="558"/>
                  <a:pt x="126" y="557"/>
                  <a:pt x="108" y="552"/>
                </a:cubicBezTo>
                <a:cubicBezTo>
                  <a:pt x="96" y="548"/>
                  <a:pt x="84" y="544"/>
                  <a:pt x="72" y="540"/>
                </a:cubicBezTo>
                <a:cubicBezTo>
                  <a:pt x="66" y="538"/>
                  <a:pt x="54" y="534"/>
                  <a:pt x="54" y="534"/>
                </a:cubicBezTo>
                <a:cubicBezTo>
                  <a:pt x="23" y="503"/>
                  <a:pt x="10" y="478"/>
                  <a:pt x="0" y="438"/>
                </a:cubicBezTo>
                <a:cubicBezTo>
                  <a:pt x="4" y="386"/>
                  <a:pt x="9" y="358"/>
                  <a:pt x="24" y="312"/>
                </a:cubicBezTo>
                <a:cubicBezTo>
                  <a:pt x="30" y="293"/>
                  <a:pt x="48" y="258"/>
                  <a:pt x="48" y="258"/>
                </a:cubicBezTo>
                <a:cubicBezTo>
                  <a:pt x="44" y="226"/>
                  <a:pt x="34" y="161"/>
                  <a:pt x="48" y="132"/>
                </a:cubicBezTo>
                <a:cubicBezTo>
                  <a:pt x="54" y="121"/>
                  <a:pt x="72" y="123"/>
                  <a:pt x="84" y="120"/>
                </a:cubicBezTo>
                <a:cubicBezTo>
                  <a:pt x="113" y="113"/>
                  <a:pt x="89" y="64"/>
                  <a:pt x="120" y="60"/>
                </a:cubicBezTo>
                <a:cubicBezTo>
                  <a:pt x="137" y="48"/>
                  <a:pt x="181" y="51"/>
                  <a:pt x="186" y="48"/>
                </a:cubicBezTo>
                <a:cubicBezTo>
                  <a:pt x="211" y="38"/>
                  <a:pt x="237" y="7"/>
                  <a:pt x="27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874760" y="2376360"/>
            <a:ext cx="62280" cy="82440"/>
            <a:chOff x="4874760" y="2376360"/>
            <a:chExt cx="62280" cy="82440"/>
          </a:xfrm>
        </p:grpSpPr>
        <p:sp>
          <p:nvSpPr>
            <p:cNvPr id="53" name=""/>
            <p:cNvSpPr/>
            <p:nvPr/>
          </p:nvSpPr>
          <p:spPr>
            <a:xfrm>
              <a:off x="4905360" y="237636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874760" y="237636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03560" y="237636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03560" y="240480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876560" y="240948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32000" y="2138400"/>
            <a:ext cx="62280" cy="82440"/>
            <a:chOff x="4932000" y="2138400"/>
            <a:chExt cx="62280" cy="82440"/>
          </a:xfrm>
        </p:grpSpPr>
        <p:sp>
          <p:nvSpPr>
            <p:cNvPr id="59" name=""/>
            <p:cNvSpPr/>
            <p:nvPr/>
          </p:nvSpPr>
          <p:spPr>
            <a:xfrm>
              <a:off x="4962600" y="213840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932000" y="213840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60800" y="213840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60800" y="216684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933800" y="217152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79680" y="2681280"/>
            <a:ext cx="62280" cy="82440"/>
            <a:chOff x="5179680" y="2681280"/>
            <a:chExt cx="62280" cy="82440"/>
          </a:xfrm>
        </p:grpSpPr>
        <p:sp>
          <p:nvSpPr>
            <p:cNvPr id="65" name=""/>
            <p:cNvSpPr/>
            <p:nvPr/>
          </p:nvSpPr>
          <p:spPr>
            <a:xfrm>
              <a:off x="5210280" y="268128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179680" y="268128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8480" y="268128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08480" y="270972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181480" y="271440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027400" y="2529000"/>
            <a:ext cx="62280" cy="82440"/>
            <a:chOff x="5027400" y="2529000"/>
            <a:chExt cx="62280" cy="82440"/>
          </a:xfrm>
        </p:grpSpPr>
        <p:sp>
          <p:nvSpPr>
            <p:cNvPr id="71" name=""/>
            <p:cNvSpPr/>
            <p:nvPr/>
          </p:nvSpPr>
          <p:spPr>
            <a:xfrm>
              <a:off x="5058000" y="252900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027400" y="252900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56200" y="252900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56200" y="255744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029200" y="256212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084280" y="2290680"/>
            <a:ext cx="62280" cy="82440"/>
            <a:chOff x="5084280" y="2290680"/>
            <a:chExt cx="62280" cy="82440"/>
          </a:xfrm>
        </p:grpSpPr>
        <p:sp>
          <p:nvSpPr>
            <p:cNvPr id="77" name=""/>
            <p:cNvSpPr/>
            <p:nvPr/>
          </p:nvSpPr>
          <p:spPr>
            <a:xfrm>
              <a:off x="5114880" y="229068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084280" y="229068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13080" y="229068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13080" y="231912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086080" y="232380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36920" y="2443320"/>
            <a:ext cx="62280" cy="82440"/>
            <a:chOff x="5236920" y="2443320"/>
            <a:chExt cx="62280" cy="82440"/>
          </a:xfrm>
        </p:grpSpPr>
        <p:sp>
          <p:nvSpPr>
            <p:cNvPr id="83" name=""/>
            <p:cNvSpPr/>
            <p:nvPr/>
          </p:nvSpPr>
          <p:spPr>
            <a:xfrm>
              <a:off x="5267520" y="244332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236920" y="244332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65720" y="244332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5720" y="247176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238720" y="247644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89200" y="2595600"/>
            <a:ext cx="62280" cy="82440"/>
            <a:chOff x="5389200" y="2595600"/>
            <a:chExt cx="62280" cy="82440"/>
          </a:xfrm>
        </p:grpSpPr>
        <p:sp>
          <p:nvSpPr>
            <p:cNvPr id="89" name=""/>
            <p:cNvSpPr/>
            <p:nvPr/>
          </p:nvSpPr>
          <p:spPr>
            <a:xfrm>
              <a:off x="5419800" y="259560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389200" y="259560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18000" y="259560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8000" y="262404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91000" y="262872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79680" y="2014560"/>
            <a:ext cx="62280" cy="82440"/>
            <a:chOff x="5179680" y="2014560"/>
            <a:chExt cx="62280" cy="82440"/>
          </a:xfrm>
        </p:grpSpPr>
        <p:sp>
          <p:nvSpPr>
            <p:cNvPr id="95" name=""/>
            <p:cNvSpPr/>
            <p:nvPr/>
          </p:nvSpPr>
          <p:spPr>
            <a:xfrm>
              <a:off x="5210280" y="201456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179680" y="201456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08480" y="201456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8480" y="204300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181480" y="204768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1960" y="2166840"/>
            <a:ext cx="62280" cy="82440"/>
            <a:chOff x="5331960" y="2166840"/>
            <a:chExt cx="62280" cy="82440"/>
          </a:xfrm>
        </p:grpSpPr>
        <p:sp>
          <p:nvSpPr>
            <p:cNvPr id="101" name=""/>
            <p:cNvSpPr/>
            <p:nvPr/>
          </p:nvSpPr>
          <p:spPr>
            <a:xfrm>
              <a:off x="5362560" y="216684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331960" y="216684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0760" y="216684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60760" y="219528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333760" y="219996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84600" y="2319480"/>
            <a:ext cx="62280" cy="82440"/>
            <a:chOff x="5484600" y="2319480"/>
            <a:chExt cx="62280" cy="82440"/>
          </a:xfrm>
        </p:grpSpPr>
        <p:sp>
          <p:nvSpPr>
            <p:cNvPr id="107" name=""/>
            <p:cNvSpPr/>
            <p:nvPr/>
          </p:nvSpPr>
          <p:spPr>
            <a:xfrm>
              <a:off x="5515200" y="2319480"/>
              <a:ext cx="0" cy="82440"/>
            </a:xfrm>
            <a:prstGeom prst="line">
              <a:avLst/>
            </a:prstGeom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484600" y="2319480"/>
              <a:ext cx="28440" cy="33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3400" y="2319480"/>
              <a:ext cx="33480" cy="29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3400" y="2347920"/>
              <a:ext cx="28800" cy="3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486400" y="2352600"/>
              <a:ext cx="23760" cy="23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76560" y="2876400"/>
            <a:ext cx="161640" cy="104760"/>
            <a:chOff x="3076560" y="2876400"/>
            <a:chExt cx="161640" cy="104760"/>
          </a:xfrm>
        </p:grpSpPr>
        <p:sp>
          <p:nvSpPr>
            <p:cNvPr id="113" name=""/>
            <p:cNvSpPr/>
            <p:nvPr/>
          </p:nvSpPr>
          <p:spPr>
            <a:xfrm>
              <a:off x="3076560" y="2876400"/>
              <a:ext cx="161640" cy="10476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57560" y="2877840"/>
              <a:ext cx="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86080" y="3133800"/>
            <a:ext cx="161640" cy="104760"/>
            <a:chOff x="3286080" y="3133800"/>
            <a:chExt cx="161640" cy="104760"/>
          </a:xfrm>
        </p:grpSpPr>
        <p:sp>
          <p:nvSpPr>
            <p:cNvPr id="116" name=""/>
            <p:cNvSpPr/>
            <p:nvPr/>
          </p:nvSpPr>
          <p:spPr>
            <a:xfrm>
              <a:off x="3286080" y="3133800"/>
              <a:ext cx="161640" cy="10476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67080" y="3135240"/>
              <a:ext cx="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01360" y="2768400"/>
            <a:ext cx="188280" cy="188280"/>
            <a:chOff x="3501360" y="2768400"/>
            <a:chExt cx="188280" cy="188280"/>
          </a:xfrm>
        </p:grpSpPr>
        <p:sp>
          <p:nvSpPr>
            <p:cNvPr id="119" name=""/>
            <p:cNvSpPr/>
            <p:nvPr/>
          </p:nvSpPr>
          <p:spPr>
            <a:xfrm rot="18900000">
              <a:off x="3514680" y="2809800"/>
              <a:ext cx="161640" cy="10476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9680" y="2826000"/>
              <a:ext cx="7092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105000" y="325764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ossenfeh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7:29:11Z</dcterms:created>
  <dc:creator>pecuser</dc:creator>
  <dc:description/>
  <dc:language>en-US</dc:language>
  <cp:lastModifiedBy>pecuser</cp:lastModifiedBy>
  <dcterms:modified xsi:type="dcterms:W3CDTF">2003-09-02T17:59:06Z</dcterms:modified>
  <cp:revision>1</cp:revision>
  <dc:subject/>
  <dc:title>PowerPoint Presentation</dc:title>
</cp:coreProperties>
</file>