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882F-55E5-4D4C-983F-4DF94DBE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0C5-B979-4873-9547-608369C1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6C4-11CC-40E5-9E75-F8755369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991-5C1A-4761-A5D6-26A5F588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BA3-FDB6-43B5-A75E-E9DBB873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722-94EB-45F1-8344-C1BDB2FD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728-834B-460B-850D-EF95D3E2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187-5D91-472E-A564-2ADEBEAE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F38-7018-46B8-AF79-FC9C2041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8F5-C622-4465-AC2F-D27302BA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DFB-E0DB-4F07-9154-2A46AACF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B019-BF44-4285-ADD7-AF267A59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BDCB-D0BF-4CCC-AB9F-C2F37DEF7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765520" y="3736800"/>
            <a:ext cx="231840" cy="157320"/>
            <a:chOff x="2765520" y="3736800"/>
            <a:chExt cx="231840" cy="157320"/>
          </a:xfrm>
        </p:grpSpPr>
        <p:sp>
          <p:nvSpPr>
            <p:cNvPr id="42" name=""/>
            <p:cNvSpPr/>
            <p:nvPr/>
          </p:nvSpPr>
          <p:spPr>
            <a:xfrm>
              <a:off x="2765520" y="3736800"/>
              <a:ext cx="23184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08000" y="3776040"/>
              <a:ext cx="1486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57200" y="748800"/>
            <a:ext cx="239760" cy="157680"/>
            <a:chOff x="457200" y="748800"/>
            <a:chExt cx="239760" cy="157680"/>
          </a:xfrm>
        </p:grpSpPr>
        <p:grpSp>
          <p:nvGrpSpPr>
            <p:cNvPr id="45" name=""/>
            <p:cNvGrpSpPr/>
            <p:nvPr/>
          </p:nvGrpSpPr>
          <p:grpSpPr>
            <a:xfrm>
              <a:off x="457200" y="749160"/>
              <a:ext cx="239760" cy="157320"/>
              <a:chOff x="457200" y="749160"/>
              <a:chExt cx="239760" cy="157320"/>
            </a:xfrm>
          </p:grpSpPr>
          <p:sp>
            <p:nvSpPr>
              <p:cNvPr id="46" name=""/>
              <p:cNvSpPr/>
              <p:nvPr/>
            </p:nvSpPr>
            <p:spPr>
              <a:xfrm>
                <a:off x="457200" y="74916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01120" y="788400"/>
                <a:ext cx="15156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 flipV="1">
              <a:off x="457200" y="748800"/>
              <a:ext cx="236160" cy="157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33440" y="2298600"/>
            <a:ext cx="240840" cy="157320"/>
            <a:chOff x="433440" y="2298600"/>
            <a:chExt cx="240840" cy="157320"/>
          </a:xfrm>
        </p:grpSpPr>
        <p:sp>
          <p:nvSpPr>
            <p:cNvPr id="50" name=""/>
            <p:cNvSpPr/>
            <p:nvPr/>
          </p:nvSpPr>
          <p:spPr>
            <a:xfrm>
              <a:off x="434520" y="2298600"/>
              <a:ext cx="23976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4400" y="2333160"/>
              <a:ext cx="1717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33440" y="2299320"/>
              <a:ext cx="115560" cy="15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9000" y="2298600"/>
              <a:ext cx="124200" cy="156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030320" y="1039320"/>
            <a:ext cx="241200" cy="157680"/>
            <a:chOff x="1030320" y="1039320"/>
            <a:chExt cx="241200" cy="157680"/>
          </a:xfrm>
        </p:grpSpPr>
        <p:sp>
          <p:nvSpPr>
            <p:cNvPr id="55" name=""/>
            <p:cNvSpPr/>
            <p:nvPr/>
          </p:nvSpPr>
          <p:spPr>
            <a:xfrm>
              <a:off x="1031400" y="1039680"/>
              <a:ext cx="23976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7400" y="1078560"/>
              <a:ext cx="16920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1031400" y="1039320"/>
              <a:ext cx="237240" cy="15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30320" y="1039680"/>
              <a:ext cx="24120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041480" y="763200"/>
            <a:ext cx="241200" cy="189360"/>
            <a:chOff x="1041480" y="763200"/>
            <a:chExt cx="241200" cy="189360"/>
          </a:xfrm>
        </p:grpSpPr>
        <p:sp>
          <p:nvSpPr>
            <p:cNvPr id="60" name=""/>
            <p:cNvSpPr/>
            <p:nvPr/>
          </p:nvSpPr>
          <p:spPr>
            <a:xfrm>
              <a:off x="1042560" y="763560"/>
              <a:ext cx="240120" cy="158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78200" y="802800"/>
              <a:ext cx="169920" cy="75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042560" y="763200"/>
              <a:ext cx="237960" cy="15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41480" y="763560"/>
              <a:ext cx="241200" cy="15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56600" y="925200"/>
              <a:ext cx="2736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70360" y="924120"/>
              <a:ext cx="2736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46680" y="924120"/>
              <a:ext cx="2736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90520" y="924120"/>
              <a:ext cx="61920" cy="27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971640" y="1838160"/>
            <a:ext cx="239760" cy="188640"/>
            <a:chOff x="971640" y="1838160"/>
            <a:chExt cx="239760" cy="188640"/>
          </a:xfrm>
        </p:grpSpPr>
        <p:sp>
          <p:nvSpPr>
            <p:cNvPr id="69" name=""/>
            <p:cNvSpPr/>
            <p:nvPr/>
          </p:nvSpPr>
          <p:spPr>
            <a:xfrm>
              <a:off x="971640" y="1838160"/>
              <a:ext cx="239760" cy="15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85680" y="1999440"/>
              <a:ext cx="2700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99080" y="1998360"/>
              <a:ext cx="2700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75400" y="1998360"/>
              <a:ext cx="2700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9240" y="1998360"/>
              <a:ext cx="61920" cy="27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04760" y="1872720"/>
              <a:ext cx="165600" cy="84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91880" y="1889640"/>
              <a:ext cx="0" cy="47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58760" y="1939680"/>
              <a:ext cx="676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841480" y="793800"/>
            <a:ext cx="238320" cy="158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744560" y="1333080"/>
            <a:ext cx="231840" cy="190440"/>
            <a:chOff x="1744560" y="1333080"/>
            <a:chExt cx="231840" cy="190440"/>
          </a:xfrm>
        </p:grpSpPr>
        <p:sp>
          <p:nvSpPr>
            <p:cNvPr id="79" name=""/>
            <p:cNvSpPr/>
            <p:nvPr/>
          </p:nvSpPr>
          <p:spPr>
            <a:xfrm>
              <a:off x="1744560" y="1333440"/>
              <a:ext cx="23184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744560" y="1333080"/>
              <a:ext cx="230400" cy="15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55000" y="1496160"/>
              <a:ext cx="2736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36800" y="1496160"/>
              <a:ext cx="2700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763640" y="1042920"/>
            <a:ext cx="231840" cy="190080"/>
            <a:chOff x="1763640" y="1042920"/>
            <a:chExt cx="231840" cy="190080"/>
          </a:xfrm>
        </p:grpSpPr>
        <p:sp>
          <p:nvSpPr>
            <p:cNvPr id="84" name=""/>
            <p:cNvSpPr/>
            <p:nvPr/>
          </p:nvSpPr>
          <p:spPr>
            <a:xfrm>
              <a:off x="1763640" y="1042920"/>
              <a:ext cx="23184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74080" y="1205640"/>
              <a:ext cx="2736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55880" y="1205640"/>
              <a:ext cx="2700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08360" y="1654200"/>
            <a:ext cx="231840" cy="156960"/>
            <a:chOff x="2808360" y="1654200"/>
            <a:chExt cx="231840" cy="156960"/>
          </a:xfrm>
        </p:grpSpPr>
        <p:sp>
          <p:nvSpPr>
            <p:cNvPr id="88" name=""/>
            <p:cNvSpPr/>
            <p:nvPr/>
          </p:nvSpPr>
          <p:spPr>
            <a:xfrm>
              <a:off x="2808360" y="1654200"/>
              <a:ext cx="23184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08360" y="1657440"/>
              <a:ext cx="113760" cy="15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22120" y="1654200"/>
              <a:ext cx="113760" cy="15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044720" y="528480"/>
            <a:ext cx="231480" cy="157320"/>
            <a:chOff x="1044720" y="528480"/>
            <a:chExt cx="231480" cy="157320"/>
          </a:xfrm>
        </p:grpSpPr>
        <p:sp>
          <p:nvSpPr>
            <p:cNvPr id="92" name=""/>
            <p:cNvSpPr/>
            <p:nvPr/>
          </p:nvSpPr>
          <p:spPr>
            <a:xfrm>
              <a:off x="1044720" y="528480"/>
              <a:ext cx="23148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046880" y="530280"/>
              <a:ext cx="22536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4720" y="530640"/>
              <a:ext cx="230400" cy="149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flipV="1">
            <a:off x="5972040" y="2329920"/>
            <a:ext cx="115920" cy="15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87960" y="2328840"/>
            <a:ext cx="123840" cy="15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55720" y="773280"/>
            <a:ext cx="239760" cy="156960"/>
            <a:chOff x="1755720" y="773280"/>
            <a:chExt cx="239760" cy="156960"/>
          </a:xfrm>
        </p:grpSpPr>
        <p:sp>
          <p:nvSpPr>
            <p:cNvPr id="98" name=""/>
            <p:cNvSpPr/>
            <p:nvPr/>
          </p:nvSpPr>
          <p:spPr>
            <a:xfrm>
              <a:off x="1755720" y="773280"/>
              <a:ext cx="23976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97120" y="812880"/>
              <a:ext cx="15408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59040" y="833400"/>
              <a:ext cx="28440" cy="2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254320" y="754200"/>
            <a:ext cx="239400" cy="156960"/>
            <a:chOff x="2254320" y="754200"/>
            <a:chExt cx="239400" cy="156960"/>
          </a:xfrm>
        </p:grpSpPr>
        <p:sp>
          <p:nvSpPr>
            <p:cNvPr id="102" name=""/>
            <p:cNvSpPr/>
            <p:nvPr/>
          </p:nvSpPr>
          <p:spPr>
            <a:xfrm>
              <a:off x="2254320" y="754200"/>
              <a:ext cx="23940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90680" y="793800"/>
              <a:ext cx="16020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2254320" y="755280"/>
              <a:ext cx="23796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4320" y="757080"/>
              <a:ext cx="23796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59080" y="817560"/>
              <a:ext cx="27000" cy="2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958680" y="2608200"/>
            <a:ext cx="231480" cy="157320"/>
            <a:chOff x="958680" y="2608200"/>
            <a:chExt cx="231480" cy="157320"/>
          </a:xfrm>
        </p:grpSpPr>
        <p:sp>
          <p:nvSpPr>
            <p:cNvPr id="108" name=""/>
            <p:cNvSpPr/>
            <p:nvPr/>
          </p:nvSpPr>
          <p:spPr>
            <a:xfrm>
              <a:off x="958680" y="2608200"/>
              <a:ext cx="23148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69840" y="2635200"/>
              <a:ext cx="19656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41120" y="2658960"/>
              <a:ext cx="57240" cy="5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57200" y="998640"/>
            <a:ext cx="231840" cy="190080"/>
            <a:chOff x="457200" y="998640"/>
            <a:chExt cx="231840" cy="190080"/>
          </a:xfrm>
        </p:grpSpPr>
        <p:sp>
          <p:nvSpPr>
            <p:cNvPr id="112" name=""/>
            <p:cNvSpPr/>
            <p:nvPr/>
          </p:nvSpPr>
          <p:spPr>
            <a:xfrm>
              <a:off x="457200" y="998640"/>
              <a:ext cx="23184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7640" y="1161360"/>
              <a:ext cx="2700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9800" y="1161360"/>
              <a:ext cx="2700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0320" y="1040040"/>
              <a:ext cx="16164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59360" y="998640"/>
              <a:ext cx="228240" cy="15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19360" y="1614600"/>
            <a:ext cx="239760" cy="188280"/>
            <a:chOff x="1719360" y="1614600"/>
            <a:chExt cx="239760" cy="188280"/>
          </a:xfrm>
        </p:grpSpPr>
        <p:sp>
          <p:nvSpPr>
            <p:cNvPr id="118" name=""/>
            <p:cNvSpPr/>
            <p:nvPr/>
          </p:nvSpPr>
          <p:spPr>
            <a:xfrm>
              <a:off x="1719360" y="1614600"/>
              <a:ext cx="23976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56080" y="1654200"/>
              <a:ext cx="16992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5200" y="17762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48240" y="177480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4200" y="1774800"/>
              <a:ext cx="288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8760" y="1774800"/>
              <a:ext cx="61920" cy="26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816200" y="1676160"/>
              <a:ext cx="55440" cy="26640"/>
              <a:chOff x="1816200" y="1676160"/>
              <a:chExt cx="55440" cy="26640"/>
            </a:xfrm>
          </p:grpSpPr>
          <p:sp>
            <p:nvSpPr>
              <p:cNvPr id="125" name=""/>
              <p:cNvSpPr/>
              <p:nvPr/>
            </p:nvSpPr>
            <p:spPr>
              <a:xfrm>
                <a:off x="1816200" y="167616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44640" y="167616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71640" y="167616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16200" y="1676160"/>
                <a:ext cx="55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2265480" y="1947960"/>
            <a:ext cx="231480" cy="156960"/>
            <a:chOff x="2265480" y="1947960"/>
            <a:chExt cx="231480" cy="156960"/>
          </a:xfrm>
        </p:grpSpPr>
        <p:sp>
          <p:nvSpPr>
            <p:cNvPr id="130" name=""/>
            <p:cNvSpPr/>
            <p:nvPr/>
          </p:nvSpPr>
          <p:spPr>
            <a:xfrm>
              <a:off x="2265480" y="1947960"/>
              <a:ext cx="23148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07960" y="1987560"/>
              <a:ext cx="14904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354040" y="2009520"/>
              <a:ext cx="55440" cy="26640"/>
              <a:chOff x="2354040" y="2009520"/>
              <a:chExt cx="55440" cy="26640"/>
            </a:xfrm>
          </p:grpSpPr>
          <p:sp>
            <p:nvSpPr>
              <p:cNvPr id="133" name=""/>
              <p:cNvSpPr/>
              <p:nvPr/>
            </p:nvSpPr>
            <p:spPr>
              <a:xfrm>
                <a:off x="2354040" y="200952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82480" y="200952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09480" y="2009520"/>
                <a:ext cx="0" cy="2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354040" y="2009520"/>
                <a:ext cx="55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2246400" y="1644480"/>
            <a:ext cx="231840" cy="157320"/>
            <a:chOff x="2246400" y="1644480"/>
            <a:chExt cx="231840" cy="157320"/>
          </a:xfrm>
        </p:grpSpPr>
        <p:sp>
          <p:nvSpPr>
            <p:cNvPr id="138" name=""/>
            <p:cNvSpPr/>
            <p:nvPr/>
          </p:nvSpPr>
          <p:spPr>
            <a:xfrm>
              <a:off x="2246400" y="1644480"/>
              <a:ext cx="23184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333520" y="1701720"/>
              <a:ext cx="55440" cy="36360"/>
              <a:chOff x="2333520" y="1701720"/>
              <a:chExt cx="55440" cy="36360"/>
            </a:xfrm>
          </p:grpSpPr>
          <p:sp>
            <p:nvSpPr>
              <p:cNvPr id="140" name=""/>
              <p:cNvSpPr/>
              <p:nvPr/>
            </p:nvSpPr>
            <p:spPr>
              <a:xfrm>
                <a:off x="2333520" y="1701720"/>
                <a:ext cx="0" cy="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61960" y="1701720"/>
                <a:ext cx="0" cy="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88960" y="1701720"/>
                <a:ext cx="0" cy="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333520" y="1701720"/>
                <a:ext cx="55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449280" y="1257480"/>
            <a:ext cx="239760" cy="188640"/>
            <a:chOff x="449280" y="1257480"/>
            <a:chExt cx="239760" cy="188640"/>
          </a:xfrm>
        </p:grpSpPr>
        <p:sp>
          <p:nvSpPr>
            <p:cNvPr id="145" name=""/>
            <p:cNvSpPr/>
            <p:nvPr/>
          </p:nvSpPr>
          <p:spPr>
            <a:xfrm>
              <a:off x="449280" y="1257480"/>
              <a:ext cx="23976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200" y="1297080"/>
              <a:ext cx="1699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49280" y="1257480"/>
              <a:ext cx="236520" cy="156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3680" y="14191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6360" y="14176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2680" y="14176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6880" y="1417680"/>
              <a:ext cx="61920" cy="2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719360" y="1917720"/>
            <a:ext cx="239760" cy="189000"/>
            <a:chOff x="1719360" y="1917720"/>
            <a:chExt cx="239760" cy="189000"/>
          </a:xfrm>
        </p:grpSpPr>
        <p:sp>
          <p:nvSpPr>
            <p:cNvPr id="153" name=""/>
            <p:cNvSpPr/>
            <p:nvPr/>
          </p:nvSpPr>
          <p:spPr>
            <a:xfrm>
              <a:off x="1719360" y="1917720"/>
              <a:ext cx="23976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4280" y="1957680"/>
              <a:ext cx="1699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33760" y="20797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46440" y="2078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22400" y="20782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66960" y="2078280"/>
              <a:ext cx="61920" cy="2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728720" y="1928880"/>
              <a:ext cx="105120" cy="131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33840" y="1930680"/>
              <a:ext cx="109440" cy="125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8800" y="1986120"/>
              <a:ext cx="19080" cy="1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255760" y="503280"/>
            <a:ext cx="239760" cy="156960"/>
            <a:chOff x="2255760" y="503280"/>
            <a:chExt cx="239760" cy="156960"/>
          </a:xfrm>
        </p:grpSpPr>
        <p:sp>
          <p:nvSpPr>
            <p:cNvPr id="163" name=""/>
            <p:cNvSpPr/>
            <p:nvPr/>
          </p:nvSpPr>
          <p:spPr>
            <a:xfrm>
              <a:off x="2255760" y="503280"/>
              <a:ext cx="23976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90680" y="542520"/>
              <a:ext cx="16992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265480" y="513720"/>
              <a:ext cx="104760" cy="131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70240" y="515520"/>
              <a:ext cx="109440" cy="1252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65560" y="571320"/>
              <a:ext cx="19080" cy="1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33400" y="2219400"/>
            <a:ext cx="239760" cy="189000"/>
            <a:chOff x="1733400" y="2219400"/>
            <a:chExt cx="239760" cy="189000"/>
          </a:xfrm>
        </p:grpSpPr>
        <p:sp>
          <p:nvSpPr>
            <p:cNvPr id="169" name=""/>
            <p:cNvSpPr/>
            <p:nvPr/>
          </p:nvSpPr>
          <p:spPr>
            <a:xfrm>
              <a:off x="1733400" y="2219400"/>
              <a:ext cx="23976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47440" y="23814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60120" y="23799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36440" y="23799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81000" y="2379960"/>
              <a:ext cx="61920" cy="2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941400" y="2131920"/>
            <a:ext cx="239760" cy="157320"/>
            <a:chOff x="941400" y="2131920"/>
            <a:chExt cx="239760" cy="157320"/>
          </a:xfrm>
        </p:grpSpPr>
        <p:sp>
          <p:nvSpPr>
            <p:cNvPr id="175" name=""/>
            <p:cNvSpPr/>
            <p:nvPr/>
          </p:nvSpPr>
          <p:spPr>
            <a:xfrm>
              <a:off x="941400" y="2131920"/>
              <a:ext cx="239760" cy="1573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025640" y="2247840"/>
              <a:ext cx="6336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57320" y="2163600"/>
              <a:ext cx="0" cy="84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849400" y="1038240"/>
            <a:ext cx="239400" cy="189000"/>
            <a:chOff x="2849400" y="1038240"/>
            <a:chExt cx="239400" cy="189000"/>
          </a:xfrm>
        </p:grpSpPr>
        <p:sp>
          <p:nvSpPr>
            <p:cNvPr id="179" name=""/>
            <p:cNvSpPr/>
            <p:nvPr/>
          </p:nvSpPr>
          <p:spPr>
            <a:xfrm>
              <a:off x="2849400" y="1038240"/>
              <a:ext cx="23940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84320" y="1077840"/>
              <a:ext cx="1695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63440" y="12002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76120" y="11988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52440" y="11988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97000" y="1198800"/>
              <a:ext cx="61920" cy="2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58760" y="1049400"/>
              <a:ext cx="104760" cy="1317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63520" y="1050840"/>
              <a:ext cx="109440" cy="125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257560" y="2243160"/>
            <a:ext cx="239400" cy="193680"/>
            <a:chOff x="2257560" y="2243160"/>
            <a:chExt cx="239400" cy="193680"/>
          </a:xfrm>
        </p:grpSpPr>
        <p:sp>
          <p:nvSpPr>
            <p:cNvPr id="188" name=""/>
            <p:cNvSpPr/>
            <p:nvPr/>
          </p:nvSpPr>
          <p:spPr>
            <a:xfrm>
              <a:off x="2257560" y="2243160"/>
              <a:ext cx="23940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96800" y="2284560"/>
              <a:ext cx="16020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259000" y="2244600"/>
              <a:ext cx="23760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59000" y="2244600"/>
              <a:ext cx="23760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3760" y="2308320"/>
              <a:ext cx="26640" cy="2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71600" y="24098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84280" y="240840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60600" y="240840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04800" y="2408400"/>
              <a:ext cx="61560" cy="2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015920" y="1297080"/>
            <a:ext cx="236520" cy="164880"/>
            <a:chOff x="1015920" y="1297080"/>
            <a:chExt cx="236520" cy="164880"/>
          </a:xfrm>
        </p:grpSpPr>
        <p:sp>
          <p:nvSpPr>
            <p:cNvPr id="198" name=""/>
            <p:cNvSpPr/>
            <p:nvPr/>
          </p:nvSpPr>
          <p:spPr>
            <a:xfrm>
              <a:off x="1015920" y="1301760"/>
              <a:ext cx="23184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15920" y="1307880"/>
              <a:ext cx="50760" cy="1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1022400" y="1297080"/>
              <a:ext cx="23004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33560" y="1325520"/>
              <a:ext cx="218880" cy="13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49280" y="2610000"/>
            <a:ext cx="239760" cy="158760"/>
            <a:chOff x="449280" y="2610000"/>
            <a:chExt cx="239760" cy="158760"/>
          </a:xfrm>
        </p:grpSpPr>
        <p:sp>
          <p:nvSpPr>
            <p:cNvPr id="203" name=""/>
            <p:cNvSpPr/>
            <p:nvPr/>
          </p:nvSpPr>
          <p:spPr>
            <a:xfrm>
              <a:off x="449280" y="2611440"/>
              <a:ext cx="23976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960" y="2649600"/>
              <a:ext cx="1717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960" y="2686320"/>
              <a:ext cx="11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49280" y="2611080"/>
              <a:ext cx="115920" cy="15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5200" y="2610000"/>
              <a:ext cx="123840" cy="155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265480" y="1333440"/>
            <a:ext cx="239760" cy="190440"/>
            <a:chOff x="2265480" y="1333440"/>
            <a:chExt cx="239760" cy="190440"/>
          </a:xfrm>
        </p:grpSpPr>
        <p:grpSp>
          <p:nvGrpSpPr>
            <p:cNvPr id="209" name=""/>
            <p:cNvGrpSpPr/>
            <p:nvPr/>
          </p:nvGrpSpPr>
          <p:grpSpPr>
            <a:xfrm>
              <a:off x="2265480" y="1333440"/>
              <a:ext cx="239760" cy="158760"/>
              <a:chOff x="2265480" y="1333440"/>
              <a:chExt cx="239760" cy="158760"/>
            </a:xfrm>
          </p:grpSpPr>
          <p:sp>
            <p:nvSpPr>
              <p:cNvPr id="210" name=""/>
              <p:cNvSpPr/>
              <p:nvPr/>
            </p:nvSpPr>
            <p:spPr>
              <a:xfrm>
                <a:off x="2265480" y="1335240"/>
                <a:ext cx="23976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24160" y="1409760"/>
                <a:ext cx="119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2265480" y="1335240"/>
                <a:ext cx="115920" cy="15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81400" y="1333440"/>
                <a:ext cx="123840" cy="155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2273400" y="14968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86080" y="14950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62400" y="14950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06600" y="1495080"/>
              <a:ext cx="61920" cy="2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286000" y="1039680"/>
            <a:ext cx="239760" cy="195480"/>
            <a:chOff x="2286000" y="1039680"/>
            <a:chExt cx="239760" cy="195480"/>
          </a:xfrm>
        </p:grpSpPr>
        <p:grpSp>
          <p:nvGrpSpPr>
            <p:cNvPr id="219" name=""/>
            <p:cNvGrpSpPr/>
            <p:nvPr/>
          </p:nvGrpSpPr>
          <p:grpSpPr>
            <a:xfrm>
              <a:off x="2286000" y="1039680"/>
              <a:ext cx="239760" cy="158760"/>
              <a:chOff x="2286000" y="1039680"/>
              <a:chExt cx="239760" cy="158760"/>
            </a:xfrm>
          </p:grpSpPr>
          <p:sp>
            <p:nvSpPr>
              <p:cNvPr id="220" name=""/>
              <p:cNvSpPr/>
              <p:nvPr/>
            </p:nvSpPr>
            <p:spPr>
              <a:xfrm>
                <a:off x="2286000" y="1041120"/>
                <a:ext cx="239760" cy="15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17680" y="1079280"/>
                <a:ext cx="1717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44680" y="1116000"/>
                <a:ext cx="119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2286000" y="1040760"/>
                <a:ext cx="115920" cy="155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401920" y="1039680"/>
                <a:ext cx="123840" cy="15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2293920" y="12081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06600" y="12063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82920" y="12063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27120" y="1206360"/>
              <a:ext cx="61920" cy="2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08360" y="487440"/>
            <a:ext cx="239760" cy="158760"/>
            <a:chOff x="2808360" y="487440"/>
            <a:chExt cx="239760" cy="158760"/>
          </a:xfrm>
        </p:grpSpPr>
        <p:sp>
          <p:nvSpPr>
            <p:cNvPr id="230" name=""/>
            <p:cNvSpPr/>
            <p:nvPr/>
          </p:nvSpPr>
          <p:spPr>
            <a:xfrm>
              <a:off x="2808360" y="489240"/>
              <a:ext cx="23976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67040" y="563760"/>
              <a:ext cx="11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808360" y="489240"/>
              <a:ext cx="115920" cy="155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24280" y="487440"/>
              <a:ext cx="123840" cy="15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41360" y="1803240"/>
            <a:ext cx="239760" cy="189000"/>
            <a:chOff x="441360" y="1803240"/>
            <a:chExt cx="239760" cy="189000"/>
          </a:xfrm>
        </p:grpSpPr>
        <p:sp>
          <p:nvSpPr>
            <p:cNvPr id="235" name=""/>
            <p:cNvSpPr/>
            <p:nvPr/>
          </p:nvSpPr>
          <p:spPr>
            <a:xfrm>
              <a:off x="441360" y="1803240"/>
              <a:ext cx="23976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7720" y="1842840"/>
              <a:ext cx="1699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7200" y="19652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9880" y="19634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5840" y="19634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0400" y="1963440"/>
              <a:ext cx="61920" cy="2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3400" y="1879560"/>
              <a:ext cx="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63400" y="1810800"/>
              <a:ext cx="47520" cy="5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23800" y="1810800"/>
              <a:ext cx="39600" cy="5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008000" y="1558800"/>
            <a:ext cx="239760" cy="193680"/>
            <a:chOff x="1008000" y="1558800"/>
            <a:chExt cx="239760" cy="193680"/>
          </a:xfrm>
        </p:grpSpPr>
        <p:sp>
          <p:nvSpPr>
            <p:cNvPr id="245" name=""/>
            <p:cNvSpPr/>
            <p:nvPr/>
          </p:nvSpPr>
          <p:spPr>
            <a:xfrm>
              <a:off x="1008000" y="1558800"/>
              <a:ext cx="23976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47600" y="1600200"/>
              <a:ext cx="16020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1009440" y="1560240"/>
              <a:ext cx="23832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14200" y="1623960"/>
              <a:ext cx="27000" cy="2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22040" y="1725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35080" y="17240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1040" y="17240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55600" y="1724040"/>
              <a:ext cx="61920" cy="2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985680" y="2362320"/>
            <a:ext cx="231480" cy="156960"/>
            <a:chOff x="985680" y="2362320"/>
            <a:chExt cx="231480" cy="156960"/>
          </a:xfrm>
        </p:grpSpPr>
        <p:sp>
          <p:nvSpPr>
            <p:cNvPr id="254" name=""/>
            <p:cNvSpPr/>
            <p:nvPr/>
          </p:nvSpPr>
          <p:spPr>
            <a:xfrm>
              <a:off x="985680" y="2362320"/>
              <a:ext cx="23148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68120" y="2413080"/>
              <a:ext cx="57240" cy="55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754280" y="531720"/>
            <a:ext cx="239760" cy="156960"/>
            <a:chOff x="1754280" y="531720"/>
            <a:chExt cx="239760" cy="156960"/>
          </a:xfrm>
        </p:grpSpPr>
        <p:sp>
          <p:nvSpPr>
            <p:cNvPr id="257" name=""/>
            <p:cNvSpPr/>
            <p:nvPr/>
          </p:nvSpPr>
          <p:spPr>
            <a:xfrm>
              <a:off x="1754280" y="531720"/>
              <a:ext cx="23976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57600" y="591840"/>
              <a:ext cx="28440" cy="2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46040" y="1558800"/>
            <a:ext cx="231840" cy="157320"/>
            <a:chOff x="446040" y="1558800"/>
            <a:chExt cx="231840" cy="157320"/>
          </a:xfrm>
        </p:grpSpPr>
        <p:sp>
          <p:nvSpPr>
            <p:cNvPr id="260" name=""/>
            <p:cNvSpPr/>
            <p:nvPr/>
          </p:nvSpPr>
          <p:spPr>
            <a:xfrm>
              <a:off x="446040" y="1558800"/>
              <a:ext cx="23184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0440" y="1582560"/>
              <a:ext cx="201600" cy="10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3800" y="1600200"/>
              <a:ext cx="77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168800" y="514440"/>
            <a:ext cx="131760" cy="27000"/>
            <a:chOff x="4168800" y="514440"/>
            <a:chExt cx="131760" cy="27000"/>
          </a:xfrm>
        </p:grpSpPr>
        <p:sp>
          <p:nvSpPr>
            <p:cNvPr id="264" name=""/>
            <p:cNvSpPr/>
            <p:nvPr/>
          </p:nvSpPr>
          <p:spPr>
            <a:xfrm>
              <a:off x="4168800" y="514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19560" y="5144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73560" y="514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673440" y="7095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878280" y="709560"/>
            <a:ext cx="76320" cy="63360"/>
            <a:chOff x="3878280" y="709560"/>
            <a:chExt cx="76320" cy="63360"/>
          </a:xfrm>
        </p:grpSpPr>
        <p:sp>
          <p:nvSpPr>
            <p:cNvPr id="269" name=""/>
            <p:cNvSpPr/>
            <p:nvPr/>
          </p:nvSpPr>
          <p:spPr>
            <a:xfrm>
              <a:off x="3878280" y="709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54600" y="709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673440" y="5144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168800" y="660240"/>
            <a:ext cx="131760" cy="64800"/>
            <a:chOff x="4168800" y="660240"/>
            <a:chExt cx="131760" cy="64800"/>
          </a:xfrm>
        </p:grpSpPr>
        <p:sp>
          <p:nvSpPr>
            <p:cNvPr id="273" name=""/>
            <p:cNvSpPr/>
            <p:nvPr/>
          </p:nvSpPr>
          <p:spPr>
            <a:xfrm>
              <a:off x="4235760" y="6616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168800" y="660240"/>
              <a:ext cx="131760" cy="64800"/>
              <a:chOff x="4168800" y="660240"/>
              <a:chExt cx="131760" cy="64800"/>
            </a:xfrm>
          </p:grpSpPr>
          <p:sp>
            <p:nvSpPr>
              <p:cNvPr id="275" name=""/>
              <p:cNvSpPr/>
              <p:nvPr/>
            </p:nvSpPr>
            <p:spPr>
              <a:xfrm>
                <a:off x="4168800" y="6616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00560" y="660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434880" y="2043000"/>
            <a:ext cx="239760" cy="156960"/>
            <a:chOff x="434880" y="2043000"/>
            <a:chExt cx="239760" cy="156960"/>
          </a:xfrm>
        </p:grpSpPr>
        <p:sp>
          <p:nvSpPr>
            <p:cNvPr id="278" name=""/>
            <p:cNvSpPr/>
            <p:nvPr/>
          </p:nvSpPr>
          <p:spPr>
            <a:xfrm>
              <a:off x="434880" y="2043000"/>
              <a:ext cx="23976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1600" y="2082600"/>
              <a:ext cx="1699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7280" y="2118960"/>
              <a:ext cx="0" cy="7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557280" y="2050560"/>
              <a:ext cx="47520" cy="5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17680" y="2050560"/>
              <a:ext cx="39600" cy="5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860640" y="515880"/>
            <a:ext cx="74880" cy="27000"/>
            <a:chOff x="3860640" y="515880"/>
            <a:chExt cx="74880" cy="27000"/>
          </a:xfrm>
        </p:grpSpPr>
        <p:sp>
          <p:nvSpPr>
            <p:cNvPr id="284" name=""/>
            <p:cNvSpPr/>
            <p:nvPr/>
          </p:nvSpPr>
          <p:spPr>
            <a:xfrm>
              <a:off x="3860640" y="5158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08520" y="5158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817720" y="1365120"/>
            <a:ext cx="231840" cy="156960"/>
            <a:chOff x="2817720" y="1365120"/>
            <a:chExt cx="231840" cy="156960"/>
          </a:xfrm>
        </p:grpSpPr>
        <p:grpSp>
          <p:nvGrpSpPr>
            <p:cNvPr id="287" name=""/>
            <p:cNvGrpSpPr/>
            <p:nvPr/>
          </p:nvGrpSpPr>
          <p:grpSpPr>
            <a:xfrm>
              <a:off x="2817720" y="1365120"/>
              <a:ext cx="231840" cy="156960"/>
              <a:chOff x="2817720" y="1365120"/>
              <a:chExt cx="231840" cy="156960"/>
            </a:xfrm>
          </p:grpSpPr>
          <p:sp>
            <p:nvSpPr>
              <p:cNvPr id="288" name=""/>
              <p:cNvSpPr/>
              <p:nvPr/>
            </p:nvSpPr>
            <p:spPr>
              <a:xfrm>
                <a:off x="2817720" y="1365120"/>
                <a:ext cx="231840" cy="156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2819880" y="1367280"/>
                <a:ext cx="225720" cy="15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17720" y="1367280"/>
                <a:ext cx="230760" cy="14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919240" y="1433520"/>
              <a:ext cx="28440" cy="2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163440"/>
            <a:ext cx="77724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33400" y="2492280"/>
            <a:ext cx="239760" cy="193680"/>
            <a:chOff x="1733400" y="2492280"/>
            <a:chExt cx="239760" cy="193680"/>
          </a:xfrm>
        </p:grpSpPr>
        <p:sp>
          <p:nvSpPr>
            <p:cNvPr id="294" name=""/>
            <p:cNvSpPr/>
            <p:nvPr/>
          </p:nvSpPr>
          <p:spPr>
            <a:xfrm>
              <a:off x="1733400" y="2492280"/>
              <a:ext cx="23976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3360" y="2533680"/>
              <a:ext cx="16020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735200" y="2493720"/>
              <a:ext cx="23796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39960" y="2557440"/>
              <a:ext cx="27000" cy="2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47800" y="26589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36800" y="26575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189240" y="2468520"/>
            <a:ext cx="231840" cy="15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82760" y="512640"/>
            <a:ext cx="231480" cy="157320"/>
            <a:chOff x="482760" y="512640"/>
            <a:chExt cx="231480" cy="157320"/>
          </a:xfrm>
        </p:grpSpPr>
        <p:sp>
          <p:nvSpPr>
            <p:cNvPr id="302" name=""/>
            <p:cNvSpPr/>
            <p:nvPr/>
          </p:nvSpPr>
          <p:spPr>
            <a:xfrm>
              <a:off x="482760" y="512640"/>
              <a:ext cx="23148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880" y="542880"/>
              <a:ext cx="1645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282680" y="3027240"/>
            <a:ext cx="233280" cy="157320"/>
            <a:chOff x="1282680" y="3027240"/>
            <a:chExt cx="233280" cy="157320"/>
          </a:xfrm>
        </p:grpSpPr>
        <p:sp>
          <p:nvSpPr>
            <p:cNvPr id="305" name=""/>
            <p:cNvSpPr/>
            <p:nvPr/>
          </p:nvSpPr>
          <p:spPr>
            <a:xfrm>
              <a:off x="1282680" y="3027240"/>
              <a:ext cx="23184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17600" y="3057480"/>
              <a:ext cx="198360" cy="9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17600" y="3105000"/>
              <a:ext cx="7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34960" y="3027240"/>
              <a:ext cx="79560" cy="15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435480" y="1338120"/>
            <a:ext cx="237960" cy="160560"/>
            <a:chOff x="3435480" y="1338120"/>
            <a:chExt cx="237960" cy="160560"/>
          </a:xfrm>
        </p:grpSpPr>
        <p:grpSp>
          <p:nvGrpSpPr>
            <p:cNvPr id="310" name=""/>
            <p:cNvGrpSpPr/>
            <p:nvPr/>
          </p:nvGrpSpPr>
          <p:grpSpPr>
            <a:xfrm>
              <a:off x="3435480" y="1338120"/>
              <a:ext cx="237960" cy="160560"/>
              <a:chOff x="3435480" y="1338120"/>
              <a:chExt cx="237960" cy="160560"/>
            </a:xfrm>
          </p:grpSpPr>
          <p:sp>
            <p:nvSpPr>
              <p:cNvPr id="311" name=""/>
              <p:cNvSpPr/>
              <p:nvPr/>
            </p:nvSpPr>
            <p:spPr>
              <a:xfrm>
                <a:off x="3435480" y="1338120"/>
                <a:ext cx="237960" cy="160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0400" y="1369440"/>
                <a:ext cx="168840" cy="97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3518280" y="1397160"/>
              <a:ext cx="71280" cy="42120"/>
              <a:chOff x="3518280" y="1397160"/>
              <a:chExt cx="71280" cy="4212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3518280" y="1397160"/>
                <a:ext cx="20880" cy="38880"/>
                <a:chOff x="3518280" y="1397160"/>
                <a:chExt cx="20880" cy="388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3518280" y="1397160"/>
                  <a:ext cx="20880" cy="38880"/>
                  <a:chOff x="3518280" y="1397160"/>
                  <a:chExt cx="20880" cy="388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3518280" y="1397160"/>
                    <a:ext cx="0" cy="38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539160" y="1397160"/>
                    <a:ext cx="0" cy="38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3518280" y="1416240"/>
                  <a:ext cx="20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3557160" y="1397160"/>
                <a:ext cx="28440" cy="42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77680" y="1429560"/>
                <a:ext cx="11880" cy="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4092480" y="1136160"/>
            <a:ext cx="76320" cy="64080"/>
            <a:chOff x="4092480" y="1136160"/>
            <a:chExt cx="76320" cy="64080"/>
          </a:xfrm>
        </p:grpSpPr>
        <p:sp>
          <p:nvSpPr>
            <p:cNvPr id="322" name=""/>
            <p:cNvSpPr/>
            <p:nvPr/>
          </p:nvSpPr>
          <p:spPr>
            <a:xfrm>
              <a:off x="4092480" y="1136520"/>
              <a:ext cx="7632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092480" y="1136160"/>
              <a:ext cx="7632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BE-03-&gt;BG-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1095480" y="350640"/>
            <a:ext cx="1817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Battle Group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zergrenadier Reg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 per 1943-45 Panz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5862600" y="747360"/>
            <a:ext cx="2457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Battle Group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zergrenadier Battalion (Armor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6912000" y="142560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3244680" y="966960"/>
            <a:ext cx="0" cy="3036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4" name=""/>
          <p:cNvGrpSpPr/>
          <p:nvPr/>
        </p:nvGrpSpPr>
        <p:grpSpPr>
          <a:xfrm>
            <a:off x="485640" y="2235240"/>
            <a:ext cx="2578320" cy="299160"/>
            <a:chOff x="485640" y="2235240"/>
            <a:chExt cx="2578320" cy="299160"/>
          </a:xfrm>
        </p:grpSpPr>
        <p:sp>
          <p:nvSpPr>
            <p:cNvPr id="3015" name=""/>
            <p:cNvSpPr/>
            <p:nvPr/>
          </p:nvSpPr>
          <p:spPr>
            <a:xfrm>
              <a:off x="485640" y="2405160"/>
              <a:ext cx="23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1095480" y="2310840"/>
              <a:ext cx="1968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Panzergrenadier Bn (Mtz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BG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719280" y="2235240"/>
              <a:ext cx="364680" cy="299160"/>
              <a:chOff x="719280" y="2235240"/>
              <a:chExt cx="364680" cy="299160"/>
            </a:xfrm>
          </p:grpSpPr>
          <p:grpSp>
            <p:nvGrpSpPr>
              <p:cNvPr id="3018" name=""/>
              <p:cNvGrpSpPr/>
              <p:nvPr/>
            </p:nvGrpSpPr>
            <p:grpSpPr>
              <a:xfrm>
                <a:off x="863640" y="2235240"/>
                <a:ext cx="76320" cy="63000"/>
                <a:chOff x="863640" y="2235240"/>
                <a:chExt cx="76320" cy="63000"/>
              </a:xfrm>
            </p:grpSpPr>
            <p:sp>
              <p:nvSpPr>
                <p:cNvPr id="3019" name=""/>
                <p:cNvSpPr/>
                <p:nvPr/>
              </p:nvSpPr>
              <p:spPr>
                <a:xfrm>
                  <a:off x="863640" y="223524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939960" y="223524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1" name=""/>
              <p:cNvGrpSpPr/>
              <p:nvPr/>
            </p:nvGrpSpPr>
            <p:grpSpPr>
              <a:xfrm>
                <a:off x="719280" y="2296440"/>
                <a:ext cx="364680" cy="237960"/>
                <a:chOff x="719280" y="2296440"/>
                <a:chExt cx="364680" cy="237960"/>
              </a:xfrm>
            </p:grpSpPr>
            <p:sp>
              <p:nvSpPr>
                <p:cNvPr id="3022" name=""/>
                <p:cNvSpPr/>
                <p:nvPr/>
              </p:nvSpPr>
              <p:spPr>
                <a:xfrm>
                  <a:off x="721080" y="2296800"/>
                  <a:ext cx="362880" cy="2376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75080" y="2355840"/>
                  <a:ext cx="256320" cy="113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 flipV="1">
                  <a:off x="721080" y="2296440"/>
                  <a:ext cx="358920" cy="2358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19280" y="2296800"/>
                  <a:ext cx="364680" cy="232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26" name=""/>
          <p:cNvGrpSpPr/>
          <p:nvPr/>
        </p:nvGrpSpPr>
        <p:grpSpPr>
          <a:xfrm>
            <a:off x="485640" y="1830240"/>
            <a:ext cx="2759040" cy="299880"/>
            <a:chOff x="485640" y="1830240"/>
            <a:chExt cx="2759040" cy="299880"/>
          </a:xfrm>
        </p:grpSpPr>
        <p:sp>
          <p:nvSpPr>
            <p:cNvPr id="3027" name=""/>
            <p:cNvSpPr/>
            <p:nvPr/>
          </p:nvSpPr>
          <p:spPr>
            <a:xfrm>
              <a:off x="485640" y="1996920"/>
              <a:ext cx="23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1084320" y="1885320"/>
              <a:ext cx="21603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Panzergrenadier Bn. (Armd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BG-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9" name=""/>
            <p:cNvGrpSpPr/>
            <p:nvPr/>
          </p:nvGrpSpPr>
          <p:grpSpPr>
            <a:xfrm>
              <a:off x="716040" y="1830240"/>
              <a:ext cx="364680" cy="299880"/>
              <a:chOff x="716040" y="1830240"/>
              <a:chExt cx="364680" cy="299880"/>
            </a:xfrm>
          </p:grpSpPr>
          <p:grpSp>
            <p:nvGrpSpPr>
              <p:cNvPr id="3030" name=""/>
              <p:cNvGrpSpPr/>
              <p:nvPr/>
            </p:nvGrpSpPr>
            <p:grpSpPr>
              <a:xfrm>
                <a:off x="860400" y="1830240"/>
                <a:ext cx="76320" cy="63360"/>
                <a:chOff x="860400" y="1830240"/>
                <a:chExt cx="76320" cy="63360"/>
              </a:xfrm>
            </p:grpSpPr>
            <p:sp>
              <p:nvSpPr>
                <p:cNvPr id="3031" name=""/>
                <p:cNvSpPr/>
                <p:nvPr/>
              </p:nvSpPr>
              <p:spPr>
                <a:xfrm>
                  <a:off x="860400" y="18302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936720" y="18302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3" name=""/>
              <p:cNvGrpSpPr/>
              <p:nvPr/>
            </p:nvGrpSpPr>
            <p:grpSpPr>
              <a:xfrm>
                <a:off x="716040" y="1892160"/>
                <a:ext cx="364680" cy="237960"/>
                <a:chOff x="716040" y="1892160"/>
                <a:chExt cx="364680" cy="237960"/>
              </a:xfrm>
            </p:grpSpPr>
            <p:sp>
              <p:nvSpPr>
                <p:cNvPr id="3034" name=""/>
                <p:cNvSpPr/>
                <p:nvPr/>
              </p:nvSpPr>
              <p:spPr>
                <a:xfrm>
                  <a:off x="717840" y="1892160"/>
                  <a:ext cx="362880" cy="237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771840" y="1951200"/>
                  <a:ext cx="256320" cy="11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 flipV="1">
                  <a:off x="717840" y="1892160"/>
                  <a:ext cx="358920" cy="236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716040" y="1892160"/>
                  <a:ext cx="364680" cy="232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38" name=""/>
          <p:cNvGrpSpPr/>
          <p:nvPr/>
        </p:nvGrpSpPr>
        <p:grpSpPr>
          <a:xfrm>
            <a:off x="482760" y="3104640"/>
            <a:ext cx="2746080" cy="337320"/>
            <a:chOff x="482760" y="3104640"/>
            <a:chExt cx="2746080" cy="337320"/>
          </a:xfrm>
        </p:grpSpPr>
        <p:sp>
          <p:nvSpPr>
            <p:cNvPr id="3039" name=""/>
            <p:cNvSpPr/>
            <p:nvPr/>
          </p:nvSpPr>
          <p:spPr>
            <a:xfrm>
              <a:off x="482760" y="3265560"/>
              <a:ext cx="239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0" name=""/>
            <p:cNvGrpSpPr/>
            <p:nvPr/>
          </p:nvGrpSpPr>
          <p:grpSpPr>
            <a:xfrm>
              <a:off x="685800" y="3108240"/>
              <a:ext cx="283680" cy="256680"/>
              <a:chOff x="685800" y="3108240"/>
              <a:chExt cx="283680" cy="256680"/>
            </a:xfrm>
          </p:grpSpPr>
          <p:grpSp>
            <p:nvGrpSpPr>
              <p:cNvPr id="3041" name=""/>
              <p:cNvGrpSpPr/>
              <p:nvPr/>
            </p:nvGrpSpPr>
            <p:grpSpPr>
              <a:xfrm>
                <a:off x="685800" y="3171600"/>
                <a:ext cx="283680" cy="193320"/>
                <a:chOff x="685800" y="3171600"/>
                <a:chExt cx="283680" cy="193320"/>
              </a:xfrm>
            </p:grpSpPr>
            <p:sp>
              <p:nvSpPr>
                <p:cNvPr id="3042" name=""/>
                <p:cNvSpPr/>
                <p:nvPr/>
              </p:nvSpPr>
              <p:spPr>
                <a:xfrm>
                  <a:off x="685800" y="3171600"/>
                  <a:ext cx="283680" cy="19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738000" y="3220560"/>
                  <a:ext cx="182880" cy="9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4" name=""/>
                <p:cNvGrpSpPr/>
                <p:nvPr/>
              </p:nvGrpSpPr>
              <p:grpSpPr>
                <a:xfrm>
                  <a:off x="794520" y="3247560"/>
                  <a:ext cx="67680" cy="32760"/>
                  <a:chOff x="794520" y="3247560"/>
                  <a:chExt cx="67680" cy="32760"/>
                </a:xfrm>
              </p:grpSpPr>
              <p:sp>
                <p:nvSpPr>
                  <p:cNvPr id="3045" name=""/>
                  <p:cNvSpPr/>
                  <p:nvPr/>
                </p:nvSpPr>
                <p:spPr>
                  <a:xfrm>
                    <a:off x="794520" y="324756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>
                    <a:off x="829080" y="324756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862200" y="324756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8" name=""/>
                  <p:cNvSpPr/>
                  <p:nvPr/>
                </p:nvSpPr>
                <p:spPr>
                  <a:xfrm>
                    <a:off x="794520" y="3247560"/>
                    <a:ext cx="676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49" name=""/>
              <p:cNvSpPr/>
              <p:nvPr/>
            </p:nvSpPr>
            <p:spPr>
              <a:xfrm>
                <a:off x="827280" y="3108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0" name=""/>
            <p:cNvSpPr/>
            <p:nvPr/>
          </p:nvSpPr>
          <p:spPr>
            <a:xfrm>
              <a:off x="969840" y="3104640"/>
              <a:ext cx="225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Panzer Engineer Company (Armd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433440" y="4289400"/>
            <a:ext cx="2795400" cy="270720"/>
            <a:chOff x="433440" y="4289400"/>
            <a:chExt cx="2795400" cy="270720"/>
          </a:xfrm>
        </p:grpSpPr>
        <p:grpSp>
          <p:nvGrpSpPr>
            <p:cNvPr id="3052" name=""/>
            <p:cNvGrpSpPr/>
            <p:nvPr/>
          </p:nvGrpSpPr>
          <p:grpSpPr>
            <a:xfrm>
              <a:off x="628560" y="4289400"/>
              <a:ext cx="284040" cy="259920"/>
              <a:chOff x="628560" y="4289400"/>
              <a:chExt cx="284040" cy="259920"/>
            </a:xfrm>
          </p:grpSpPr>
          <p:grpSp>
            <p:nvGrpSpPr>
              <p:cNvPr id="3053" name=""/>
              <p:cNvGrpSpPr/>
              <p:nvPr/>
            </p:nvGrpSpPr>
            <p:grpSpPr>
              <a:xfrm>
                <a:off x="628560" y="4356000"/>
                <a:ext cx="284040" cy="193320"/>
                <a:chOff x="628560" y="4356000"/>
                <a:chExt cx="284040" cy="193320"/>
              </a:xfrm>
            </p:grpSpPr>
            <p:sp>
              <p:nvSpPr>
                <p:cNvPr id="3054" name=""/>
                <p:cNvSpPr/>
                <p:nvPr/>
              </p:nvSpPr>
              <p:spPr>
                <a:xfrm>
                  <a:off x="628560" y="4356000"/>
                  <a:ext cx="284040" cy="19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5" name=""/>
                <p:cNvGrpSpPr/>
                <p:nvPr/>
              </p:nvGrpSpPr>
              <p:grpSpPr>
                <a:xfrm>
                  <a:off x="735840" y="4426200"/>
                  <a:ext cx="67320" cy="32760"/>
                  <a:chOff x="735840" y="4426200"/>
                  <a:chExt cx="67320" cy="32760"/>
                </a:xfrm>
              </p:grpSpPr>
              <p:sp>
                <p:nvSpPr>
                  <p:cNvPr id="3056" name=""/>
                  <p:cNvSpPr/>
                  <p:nvPr/>
                </p:nvSpPr>
                <p:spPr>
                  <a:xfrm>
                    <a:off x="735840" y="442620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7" name=""/>
                  <p:cNvSpPr/>
                  <p:nvPr/>
                </p:nvSpPr>
                <p:spPr>
                  <a:xfrm>
                    <a:off x="770400" y="442620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8" name=""/>
                  <p:cNvSpPr/>
                  <p:nvPr/>
                </p:nvSpPr>
                <p:spPr>
                  <a:xfrm>
                    <a:off x="803160" y="442620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9" name=""/>
                  <p:cNvSpPr/>
                  <p:nvPr/>
                </p:nvSpPr>
                <p:spPr>
                  <a:xfrm>
                    <a:off x="735840" y="4426200"/>
                    <a:ext cx="673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60" name=""/>
              <p:cNvSpPr/>
              <p:nvPr/>
            </p:nvSpPr>
            <p:spPr>
              <a:xfrm>
                <a:off x="770040" y="4289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1" name=""/>
            <p:cNvSpPr/>
            <p:nvPr/>
          </p:nvSpPr>
          <p:spPr>
            <a:xfrm>
              <a:off x="433440" y="4459320"/>
              <a:ext cx="209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920880" y="4344480"/>
              <a:ext cx="230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Panzer Engineer Company (Mtz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3" name=""/>
          <p:cNvSpPr/>
          <p:nvPr/>
        </p:nvSpPr>
        <p:spPr>
          <a:xfrm>
            <a:off x="415800" y="3479760"/>
            <a:ext cx="238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lternative Battle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4" name=""/>
          <p:cNvGrpSpPr/>
          <p:nvPr/>
        </p:nvGrpSpPr>
        <p:grpSpPr>
          <a:xfrm>
            <a:off x="447840" y="3716280"/>
            <a:ext cx="2485080" cy="299880"/>
            <a:chOff x="447840" y="3716280"/>
            <a:chExt cx="2485080" cy="299880"/>
          </a:xfrm>
        </p:grpSpPr>
        <p:sp>
          <p:nvSpPr>
            <p:cNvPr id="3065" name=""/>
            <p:cNvSpPr/>
            <p:nvPr/>
          </p:nvSpPr>
          <p:spPr>
            <a:xfrm>
              <a:off x="447840" y="3878280"/>
              <a:ext cx="239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1022400" y="3779280"/>
              <a:ext cx="1910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Panzergrenadier Bn. (Mtz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BG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7" name=""/>
            <p:cNvGrpSpPr/>
            <p:nvPr/>
          </p:nvGrpSpPr>
          <p:grpSpPr>
            <a:xfrm>
              <a:off x="644400" y="3716280"/>
              <a:ext cx="364320" cy="299880"/>
              <a:chOff x="644400" y="3716280"/>
              <a:chExt cx="364320" cy="299880"/>
            </a:xfrm>
          </p:grpSpPr>
          <p:grpSp>
            <p:nvGrpSpPr>
              <p:cNvPr id="3068" name=""/>
              <p:cNvGrpSpPr/>
              <p:nvPr/>
            </p:nvGrpSpPr>
            <p:grpSpPr>
              <a:xfrm>
                <a:off x="788400" y="3716280"/>
                <a:ext cx="75960" cy="63360"/>
                <a:chOff x="788400" y="3716280"/>
                <a:chExt cx="75960" cy="63360"/>
              </a:xfrm>
            </p:grpSpPr>
            <p:sp>
              <p:nvSpPr>
                <p:cNvPr id="3069" name=""/>
                <p:cNvSpPr/>
                <p:nvPr/>
              </p:nvSpPr>
              <p:spPr>
                <a:xfrm>
                  <a:off x="788400" y="37162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864360" y="37162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1" name=""/>
              <p:cNvGrpSpPr/>
              <p:nvPr/>
            </p:nvGrpSpPr>
            <p:grpSpPr>
              <a:xfrm>
                <a:off x="644400" y="3778200"/>
                <a:ext cx="364320" cy="237960"/>
                <a:chOff x="644400" y="3778200"/>
                <a:chExt cx="364320" cy="237960"/>
              </a:xfrm>
            </p:grpSpPr>
            <p:sp>
              <p:nvSpPr>
                <p:cNvPr id="3072" name=""/>
                <p:cNvSpPr/>
                <p:nvPr/>
              </p:nvSpPr>
              <p:spPr>
                <a:xfrm>
                  <a:off x="646200" y="3778200"/>
                  <a:ext cx="362520" cy="237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700200" y="3837240"/>
                  <a:ext cx="255960" cy="11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 flipV="1">
                  <a:off x="646200" y="3778200"/>
                  <a:ext cx="358560" cy="236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644400" y="3778200"/>
                  <a:ext cx="364320" cy="232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76" name=""/>
          <p:cNvSpPr/>
          <p:nvPr/>
        </p:nvSpPr>
        <p:spPr>
          <a:xfrm>
            <a:off x="371520" y="4071960"/>
            <a:ext cx="202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lternative Maneuver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482760" y="844560"/>
            <a:ext cx="0" cy="242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1146240" y="1733400"/>
            <a:ext cx="112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BATTLE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1112760" y="2604960"/>
            <a:ext cx="138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0" name=""/>
          <p:cNvGrpSpPr/>
          <p:nvPr/>
        </p:nvGrpSpPr>
        <p:grpSpPr>
          <a:xfrm>
            <a:off x="297000" y="542880"/>
            <a:ext cx="364680" cy="304560"/>
            <a:chOff x="297000" y="542880"/>
            <a:chExt cx="364680" cy="304560"/>
          </a:xfrm>
        </p:grpSpPr>
        <p:grpSp>
          <p:nvGrpSpPr>
            <p:cNvPr id="3081" name=""/>
            <p:cNvGrpSpPr/>
            <p:nvPr/>
          </p:nvGrpSpPr>
          <p:grpSpPr>
            <a:xfrm>
              <a:off x="414360" y="542880"/>
              <a:ext cx="131760" cy="64800"/>
              <a:chOff x="414360" y="542880"/>
              <a:chExt cx="131760" cy="64800"/>
            </a:xfrm>
          </p:grpSpPr>
          <p:sp>
            <p:nvSpPr>
              <p:cNvPr id="3082" name=""/>
              <p:cNvSpPr/>
              <p:nvPr/>
            </p:nvSpPr>
            <p:spPr>
              <a:xfrm>
                <a:off x="481320" y="544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3" name=""/>
              <p:cNvGrpSpPr/>
              <p:nvPr/>
            </p:nvGrpSpPr>
            <p:grpSpPr>
              <a:xfrm>
                <a:off x="414360" y="542880"/>
                <a:ext cx="131760" cy="64800"/>
                <a:chOff x="414360" y="542880"/>
                <a:chExt cx="131760" cy="64800"/>
              </a:xfrm>
            </p:grpSpPr>
            <p:sp>
              <p:nvSpPr>
                <p:cNvPr id="3084" name=""/>
                <p:cNvSpPr/>
                <p:nvPr/>
              </p:nvSpPr>
              <p:spPr>
                <a:xfrm>
                  <a:off x="414360" y="5443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546120" y="542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86" name=""/>
            <p:cNvGrpSpPr/>
            <p:nvPr/>
          </p:nvGrpSpPr>
          <p:grpSpPr>
            <a:xfrm>
              <a:off x="297000" y="609480"/>
              <a:ext cx="364680" cy="237960"/>
              <a:chOff x="297000" y="609480"/>
              <a:chExt cx="364680" cy="237960"/>
            </a:xfrm>
          </p:grpSpPr>
          <p:sp>
            <p:nvSpPr>
              <p:cNvPr id="3087" name=""/>
              <p:cNvSpPr/>
              <p:nvPr/>
            </p:nvSpPr>
            <p:spPr>
              <a:xfrm>
                <a:off x="298800" y="609480"/>
                <a:ext cx="362880" cy="237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352800" y="668520"/>
                <a:ext cx="256320" cy="11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 flipV="1">
                <a:off x="298800" y="609480"/>
                <a:ext cx="358920" cy="23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297000" y="609480"/>
                <a:ext cx="364680" cy="232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1" name=""/>
          <p:cNvSpPr/>
          <p:nvPr/>
        </p:nvSpPr>
        <p:spPr>
          <a:xfrm>
            <a:off x="1117440" y="210168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2" name=""/>
          <p:cNvGrpSpPr/>
          <p:nvPr/>
        </p:nvGrpSpPr>
        <p:grpSpPr>
          <a:xfrm>
            <a:off x="485640" y="2732040"/>
            <a:ext cx="2270880" cy="258120"/>
            <a:chOff x="485640" y="2732040"/>
            <a:chExt cx="2270880" cy="258120"/>
          </a:xfrm>
        </p:grpSpPr>
        <p:sp>
          <p:nvSpPr>
            <p:cNvPr id="3093" name=""/>
            <p:cNvSpPr/>
            <p:nvPr/>
          </p:nvSpPr>
          <p:spPr>
            <a:xfrm>
              <a:off x="485640" y="2862360"/>
              <a:ext cx="23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984960" y="2774520"/>
              <a:ext cx="1771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Light Flak Platoon (SP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5" name=""/>
            <p:cNvGrpSpPr/>
            <p:nvPr/>
          </p:nvGrpSpPr>
          <p:grpSpPr>
            <a:xfrm>
              <a:off x="725400" y="2732040"/>
              <a:ext cx="291960" cy="236160"/>
              <a:chOff x="725400" y="2732040"/>
              <a:chExt cx="291960" cy="236160"/>
            </a:xfrm>
          </p:grpSpPr>
          <p:grpSp>
            <p:nvGrpSpPr>
              <p:cNvPr id="3096" name=""/>
              <p:cNvGrpSpPr/>
              <p:nvPr/>
            </p:nvGrpSpPr>
            <p:grpSpPr>
              <a:xfrm>
                <a:off x="800280" y="2732040"/>
                <a:ext cx="131760" cy="27000"/>
                <a:chOff x="800280" y="2732040"/>
                <a:chExt cx="131760" cy="27000"/>
              </a:xfrm>
            </p:grpSpPr>
            <p:sp>
              <p:nvSpPr>
                <p:cNvPr id="3097" name=""/>
                <p:cNvSpPr/>
                <p:nvPr/>
              </p:nvSpPr>
              <p:spPr>
                <a:xfrm>
                  <a:off x="800280" y="27320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851040" y="27320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905040" y="27320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0" name=""/>
              <p:cNvGrpSpPr/>
              <p:nvPr/>
            </p:nvGrpSpPr>
            <p:grpSpPr>
              <a:xfrm>
                <a:off x="725400" y="2774880"/>
                <a:ext cx="291960" cy="193320"/>
                <a:chOff x="725400" y="2774880"/>
                <a:chExt cx="291960" cy="193320"/>
              </a:xfrm>
            </p:grpSpPr>
            <p:sp>
              <p:nvSpPr>
                <p:cNvPr id="3101" name=""/>
                <p:cNvSpPr/>
                <p:nvPr/>
              </p:nvSpPr>
              <p:spPr>
                <a:xfrm>
                  <a:off x="725400" y="2777040"/>
                  <a:ext cx="291960" cy="191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796680" y="2867760"/>
                  <a:ext cx="145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 flipV="1">
                  <a:off x="725400" y="2777040"/>
                  <a:ext cx="14112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866520" y="2774880"/>
                  <a:ext cx="150840" cy="190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05" name=""/>
          <p:cNvSpPr/>
          <p:nvPr/>
        </p:nvSpPr>
        <p:spPr>
          <a:xfrm>
            <a:off x="482760" y="958680"/>
            <a:ext cx="2770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6" name=""/>
          <p:cNvGrpSpPr/>
          <p:nvPr/>
        </p:nvGrpSpPr>
        <p:grpSpPr>
          <a:xfrm>
            <a:off x="3244680" y="2347920"/>
            <a:ext cx="2654280" cy="252720"/>
            <a:chOff x="3244680" y="2347920"/>
            <a:chExt cx="2654280" cy="252720"/>
          </a:xfrm>
        </p:grpSpPr>
        <p:grpSp>
          <p:nvGrpSpPr>
            <p:cNvPr id="3107" name=""/>
            <p:cNvGrpSpPr/>
            <p:nvPr/>
          </p:nvGrpSpPr>
          <p:grpSpPr>
            <a:xfrm>
              <a:off x="3424320" y="2347920"/>
              <a:ext cx="291600" cy="236160"/>
              <a:chOff x="3424320" y="2347920"/>
              <a:chExt cx="291600" cy="236160"/>
            </a:xfrm>
          </p:grpSpPr>
          <p:grpSp>
            <p:nvGrpSpPr>
              <p:cNvPr id="3108" name=""/>
              <p:cNvGrpSpPr/>
              <p:nvPr/>
            </p:nvGrpSpPr>
            <p:grpSpPr>
              <a:xfrm>
                <a:off x="3424320" y="2390760"/>
                <a:ext cx="291600" cy="193320"/>
                <a:chOff x="3424320" y="2390760"/>
                <a:chExt cx="291600" cy="193320"/>
              </a:xfrm>
            </p:grpSpPr>
            <p:sp>
              <p:nvSpPr>
                <p:cNvPr id="3109" name=""/>
                <p:cNvSpPr/>
                <p:nvPr/>
              </p:nvSpPr>
              <p:spPr>
                <a:xfrm>
                  <a:off x="3424320" y="2392920"/>
                  <a:ext cx="291600" cy="191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3495600" y="2483640"/>
                  <a:ext cx="144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 flipV="1">
                  <a:off x="3424320" y="2392920"/>
                  <a:ext cx="14112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3565440" y="2390760"/>
                  <a:ext cx="150480" cy="190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3" name=""/>
              <p:cNvGrpSpPr/>
              <p:nvPr/>
            </p:nvGrpSpPr>
            <p:grpSpPr>
              <a:xfrm>
                <a:off x="3503520" y="2347920"/>
                <a:ext cx="131040" cy="27000"/>
                <a:chOff x="3503520" y="2347920"/>
                <a:chExt cx="131040" cy="27000"/>
              </a:xfrm>
            </p:grpSpPr>
            <p:sp>
              <p:nvSpPr>
                <p:cNvPr id="3114" name=""/>
                <p:cNvSpPr/>
                <p:nvPr/>
              </p:nvSpPr>
              <p:spPr>
                <a:xfrm>
                  <a:off x="3503520" y="23479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3553920" y="234792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3607920" y="23479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7" name=""/>
            <p:cNvSpPr/>
            <p:nvPr/>
          </p:nvSpPr>
          <p:spPr>
            <a:xfrm>
              <a:off x="3244680" y="248940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3716280" y="2409480"/>
              <a:ext cx="21826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Light Flak Platoon (Towed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9" name=""/>
          <p:cNvGrpSpPr/>
          <p:nvPr/>
        </p:nvGrpSpPr>
        <p:grpSpPr>
          <a:xfrm>
            <a:off x="3247920" y="1068480"/>
            <a:ext cx="2203200" cy="418680"/>
            <a:chOff x="3247920" y="1068480"/>
            <a:chExt cx="2203200" cy="418680"/>
          </a:xfrm>
        </p:grpSpPr>
        <p:grpSp>
          <p:nvGrpSpPr>
            <p:cNvPr id="3120" name=""/>
            <p:cNvGrpSpPr/>
            <p:nvPr/>
          </p:nvGrpSpPr>
          <p:grpSpPr>
            <a:xfrm>
              <a:off x="3382920" y="1068480"/>
              <a:ext cx="347400" cy="310680"/>
              <a:chOff x="3382920" y="1068480"/>
              <a:chExt cx="347400" cy="310680"/>
            </a:xfrm>
          </p:grpSpPr>
          <p:grpSp>
            <p:nvGrpSpPr>
              <p:cNvPr id="3121" name=""/>
              <p:cNvGrpSpPr/>
              <p:nvPr/>
            </p:nvGrpSpPr>
            <p:grpSpPr>
              <a:xfrm>
                <a:off x="3382920" y="1143000"/>
                <a:ext cx="347400" cy="236160"/>
                <a:chOff x="3382920" y="1143000"/>
                <a:chExt cx="347400" cy="236160"/>
              </a:xfrm>
            </p:grpSpPr>
            <p:sp>
              <p:nvSpPr>
                <p:cNvPr id="3122" name=""/>
                <p:cNvSpPr/>
                <p:nvPr/>
              </p:nvSpPr>
              <p:spPr>
                <a:xfrm>
                  <a:off x="3382920" y="1143000"/>
                  <a:ext cx="347400" cy="23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3446640" y="1202040"/>
                  <a:ext cx="222840" cy="112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4" name=""/>
              <p:cNvGrpSpPr/>
              <p:nvPr/>
            </p:nvGrpSpPr>
            <p:grpSpPr>
              <a:xfrm>
                <a:off x="3524400" y="1068480"/>
                <a:ext cx="75960" cy="63360"/>
                <a:chOff x="3524400" y="1068480"/>
                <a:chExt cx="75960" cy="63360"/>
              </a:xfrm>
            </p:grpSpPr>
            <p:sp>
              <p:nvSpPr>
                <p:cNvPr id="3125" name=""/>
                <p:cNvSpPr/>
                <p:nvPr/>
              </p:nvSpPr>
              <p:spPr>
                <a:xfrm>
                  <a:off x="3524400" y="10684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3600360" y="10684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27" name=""/>
            <p:cNvSpPr/>
            <p:nvPr/>
          </p:nvSpPr>
          <p:spPr>
            <a:xfrm>
              <a:off x="3247920" y="1247760"/>
              <a:ext cx="1764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694680" y="1086480"/>
              <a:ext cx="1756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Panzer Battalion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BG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Mixed Pz IIs,IIIs, IVs or all Pz IV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9" name=""/>
          <p:cNvGrpSpPr/>
          <p:nvPr/>
        </p:nvGrpSpPr>
        <p:grpSpPr>
          <a:xfrm>
            <a:off x="3247920" y="1486080"/>
            <a:ext cx="2614680" cy="284760"/>
            <a:chOff x="3247920" y="1486080"/>
            <a:chExt cx="2614680" cy="284760"/>
          </a:xfrm>
        </p:grpSpPr>
        <p:grpSp>
          <p:nvGrpSpPr>
            <p:cNvPr id="3130" name=""/>
            <p:cNvGrpSpPr/>
            <p:nvPr/>
          </p:nvGrpSpPr>
          <p:grpSpPr>
            <a:xfrm>
              <a:off x="3424320" y="1486080"/>
              <a:ext cx="291600" cy="253800"/>
              <a:chOff x="3424320" y="1486080"/>
              <a:chExt cx="291600" cy="253800"/>
            </a:xfrm>
          </p:grpSpPr>
          <p:grpSp>
            <p:nvGrpSpPr>
              <p:cNvPr id="3131" name=""/>
              <p:cNvGrpSpPr/>
              <p:nvPr/>
            </p:nvGrpSpPr>
            <p:grpSpPr>
              <a:xfrm>
                <a:off x="3424320" y="1549440"/>
                <a:ext cx="291600" cy="190440"/>
                <a:chOff x="3424320" y="1549440"/>
                <a:chExt cx="291600" cy="190440"/>
              </a:xfrm>
            </p:grpSpPr>
            <p:sp>
              <p:nvSpPr>
                <p:cNvPr id="3132" name=""/>
                <p:cNvSpPr/>
                <p:nvPr/>
              </p:nvSpPr>
              <p:spPr>
                <a:xfrm>
                  <a:off x="3425760" y="1549440"/>
                  <a:ext cx="290160" cy="190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3461760" y="1591200"/>
                  <a:ext cx="20808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 flipV="1">
                  <a:off x="3424320" y="1550880"/>
                  <a:ext cx="140040" cy="18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3564360" y="1549440"/>
                  <a:ext cx="15012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6" name=""/>
              <p:cNvSpPr/>
              <p:nvPr/>
            </p:nvSpPr>
            <p:spPr>
              <a:xfrm>
                <a:off x="3570480" y="14860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7" name=""/>
            <p:cNvSpPr/>
            <p:nvPr/>
          </p:nvSpPr>
          <p:spPr>
            <a:xfrm>
              <a:off x="3247920" y="164304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3700440" y="1555200"/>
              <a:ext cx="216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Panzerjaeger Company (SP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9" name=""/>
          <p:cNvGrpSpPr/>
          <p:nvPr/>
        </p:nvGrpSpPr>
        <p:grpSpPr>
          <a:xfrm>
            <a:off x="3244680" y="1924200"/>
            <a:ext cx="2638440" cy="288360"/>
            <a:chOff x="3244680" y="1924200"/>
            <a:chExt cx="2638440" cy="288360"/>
          </a:xfrm>
        </p:grpSpPr>
        <p:grpSp>
          <p:nvGrpSpPr>
            <p:cNvPr id="3140" name=""/>
            <p:cNvGrpSpPr/>
            <p:nvPr/>
          </p:nvGrpSpPr>
          <p:grpSpPr>
            <a:xfrm>
              <a:off x="3427200" y="1924200"/>
              <a:ext cx="284400" cy="245520"/>
              <a:chOff x="3427200" y="1924200"/>
              <a:chExt cx="284400" cy="245520"/>
            </a:xfrm>
          </p:grpSpPr>
          <p:grpSp>
            <p:nvGrpSpPr>
              <p:cNvPr id="3141" name=""/>
              <p:cNvGrpSpPr/>
              <p:nvPr/>
            </p:nvGrpSpPr>
            <p:grpSpPr>
              <a:xfrm>
                <a:off x="3427200" y="1976400"/>
                <a:ext cx="284400" cy="193320"/>
                <a:chOff x="3427200" y="1976400"/>
                <a:chExt cx="284400" cy="193320"/>
              </a:xfrm>
            </p:grpSpPr>
            <p:sp>
              <p:nvSpPr>
                <p:cNvPr id="3142" name=""/>
                <p:cNvSpPr/>
                <p:nvPr/>
              </p:nvSpPr>
              <p:spPr>
                <a:xfrm>
                  <a:off x="3427200" y="1976400"/>
                  <a:ext cx="284400" cy="19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 flipV="1">
                  <a:off x="3427200" y="1980360"/>
                  <a:ext cx="139680" cy="187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3566880" y="1976400"/>
                  <a:ext cx="13968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5" name=""/>
              <p:cNvGrpSpPr/>
              <p:nvPr/>
            </p:nvGrpSpPr>
            <p:grpSpPr>
              <a:xfrm>
                <a:off x="3508200" y="1924200"/>
                <a:ext cx="131760" cy="26640"/>
                <a:chOff x="3508200" y="1924200"/>
                <a:chExt cx="131760" cy="26640"/>
              </a:xfrm>
            </p:grpSpPr>
            <p:sp>
              <p:nvSpPr>
                <p:cNvPr id="3146" name=""/>
                <p:cNvSpPr/>
                <p:nvPr/>
              </p:nvSpPr>
              <p:spPr>
                <a:xfrm>
                  <a:off x="3508200" y="19242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3558960" y="19242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3612960" y="19242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9" name=""/>
            <p:cNvSpPr/>
            <p:nvPr/>
          </p:nvSpPr>
          <p:spPr>
            <a:xfrm>
              <a:off x="3244680" y="206064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3700440" y="2009160"/>
              <a:ext cx="2182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Panzerjaeger Platoon (Towed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3263760" y="2665440"/>
            <a:ext cx="2619360" cy="270720"/>
            <a:chOff x="3263760" y="2665440"/>
            <a:chExt cx="2619360" cy="270720"/>
          </a:xfrm>
        </p:grpSpPr>
        <p:grpSp>
          <p:nvGrpSpPr>
            <p:cNvPr id="3152" name=""/>
            <p:cNvGrpSpPr/>
            <p:nvPr/>
          </p:nvGrpSpPr>
          <p:grpSpPr>
            <a:xfrm>
              <a:off x="3424320" y="2665440"/>
              <a:ext cx="291600" cy="264600"/>
              <a:chOff x="3424320" y="2665440"/>
              <a:chExt cx="291600" cy="264600"/>
            </a:xfrm>
          </p:grpSpPr>
          <p:grpSp>
            <p:nvGrpSpPr>
              <p:cNvPr id="3153" name=""/>
              <p:cNvGrpSpPr/>
              <p:nvPr/>
            </p:nvGrpSpPr>
            <p:grpSpPr>
              <a:xfrm>
                <a:off x="3424320" y="2736720"/>
                <a:ext cx="291600" cy="193320"/>
                <a:chOff x="3424320" y="2736720"/>
                <a:chExt cx="291600" cy="193320"/>
              </a:xfrm>
            </p:grpSpPr>
            <p:sp>
              <p:nvSpPr>
                <p:cNvPr id="3154" name=""/>
                <p:cNvSpPr/>
                <p:nvPr/>
              </p:nvSpPr>
              <p:spPr>
                <a:xfrm>
                  <a:off x="3424320" y="2738880"/>
                  <a:ext cx="291600" cy="191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3495600" y="2829600"/>
                  <a:ext cx="144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 flipV="1">
                  <a:off x="3424320" y="2738880"/>
                  <a:ext cx="14112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3565440" y="2736720"/>
                  <a:ext cx="150480" cy="190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8" name=""/>
              <p:cNvSpPr/>
              <p:nvPr/>
            </p:nvSpPr>
            <p:spPr>
              <a:xfrm>
                <a:off x="3570480" y="26654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9" name=""/>
            <p:cNvSpPr/>
            <p:nvPr/>
          </p:nvSpPr>
          <p:spPr>
            <a:xfrm>
              <a:off x="3263760" y="2828880"/>
              <a:ext cx="190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3700440" y="2720520"/>
              <a:ext cx="2182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Heavy Flak Battery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1" name=""/>
          <p:cNvGrpSpPr/>
          <p:nvPr/>
        </p:nvGrpSpPr>
        <p:grpSpPr>
          <a:xfrm>
            <a:off x="3247920" y="2994120"/>
            <a:ext cx="2840040" cy="277200"/>
            <a:chOff x="3247920" y="2994120"/>
            <a:chExt cx="2840040" cy="277200"/>
          </a:xfrm>
        </p:grpSpPr>
        <p:sp>
          <p:nvSpPr>
            <p:cNvPr id="3162" name=""/>
            <p:cNvSpPr/>
            <p:nvPr/>
          </p:nvSpPr>
          <p:spPr>
            <a:xfrm>
              <a:off x="3700440" y="3067920"/>
              <a:ext cx="23875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Panzer Engineer Company (Armd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3" name=""/>
            <p:cNvGrpSpPr/>
            <p:nvPr/>
          </p:nvGrpSpPr>
          <p:grpSpPr>
            <a:xfrm>
              <a:off x="3427560" y="2994120"/>
              <a:ext cx="283680" cy="256680"/>
              <a:chOff x="3427560" y="2994120"/>
              <a:chExt cx="283680" cy="256680"/>
            </a:xfrm>
          </p:grpSpPr>
          <p:grpSp>
            <p:nvGrpSpPr>
              <p:cNvPr id="3164" name=""/>
              <p:cNvGrpSpPr/>
              <p:nvPr/>
            </p:nvGrpSpPr>
            <p:grpSpPr>
              <a:xfrm>
                <a:off x="3427560" y="3057480"/>
                <a:ext cx="283680" cy="193320"/>
                <a:chOff x="3427560" y="3057480"/>
                <a:chExt cx="283680" cy="193320"/>
              </a:xfrm>
            </p:grpSpPr>
            <p:sp>
              <p:nvSpPr>
                <p:cNvPr id="3165" name=""/>
                <p:cNvSpPr/>
                <p:nvPr/>
              </p:nvSpPr>
              <p:spPr>
                <a:xfrm>
                  <a:off x="3427560" y="3057480"/>
                  <a:ext cx="283680" cy="19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3479760" y="3106440"/>
                  <a:ext cx="182880" cy="9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7" name=""/>
                <p:cNvGrpSpPr/>
                <p:nvPr/>
              </p:nvGrpSpPr>
              <p:grpSpPr>
                <a:xfrm>
                  <a:off x="3536280" y="3133440"/>
                  <a:ext cx="67680" cy="32760"/>
                  <a:chOff x="3536280" y="3133440"/>
                  <a:chExt cx="67680" cy="32760"/>
                </a:xfrm>
              </p:grpSpPr>
              <p:sp>
                <p:nvSpPr>
                  <p:cNvPr id="3168" name=""/>
                  <p:cNvSpPr/>
                  <p:nvPr/>
                </p:nvSpPr>
                <p:spPr>
                  <a:xfrm>
                    <a:off x="3536280" y="313344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9" name=""/>
                  <p:cNvSpPr/>
                  <p:nvPr/>
                </p:nvSpPr>
                <p:spPr>
                  <a:xfrm>
                    <a:off x="3570840" y="313344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>
                    <a:off x="3603960" y="313344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1" name=""/>
                  <p:cNvSpPr/>
                  <p:nvPr/>
                </p:nvSpPr>
                <p:spPr>
                  <a:xfrm>
                    <a:off x="3536280" y="3133440"/>
                    <a:ext cx="676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72" name=""/>
              <p:cNvSpPr/>
              <p:nvPr/>
            </p:nvSpPr>
            <p:spPr>
              <a:xfrm>
                <a:off x="3569040" y="2994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3" name=""/>
            <p:cNvSpPr/>
            <p:nvPr/>
          </p:nvSpPr>
          <p:spPr>
            <a:xfrm>
              <a:off x="3247920" y="314964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4" name=""/>
          <p:cNvGrpSpPr/>
          <p:nvPr/>
        </p:nvGrpSpPr>
        <p:grpSpPr>
          <a:xfrm>
            <a:off x="3252960" y="3368520"/>
            <a:ext cx="2629800" cy="262440"/>
            <a:chOff x="3252960" y="3368520"/>
            <a:chExt cx="2629800" cy="262440"/>
          </a:xfrm>
        </p:grpSpPr>
        <p:grpSp>
          <p:nvGrpSpPr>
            <p:cNvPr id="3175" name=""/>
            <p:cNvGrpSpPr/>
            <p:nvPr/>
          </p:nvGrpSpPr>
          <p:grpSpPr>
            <a:xfrm>
              <a:off x="3424320" y="3368520"/>
              <a:ext cx="291240" cy="253440"/>
              <a:chOff x="3424320" y="3368520"/>
              <a:chExt cx="291240" cy="253440"/>
            </a:xfrm>
          </p:grpSpPr>
          <p:grpSp>
            <p:nvGrpSpPr>
              <p:cNvPr id="3176" name=""/>
              <p:cNvGrpSpPr/>
              <p:nvPr/>
            </p:nvGrpSpPr>
            <p:grpSpPr>
              <a:xfrm>
                <a:off x="3424320" y="3431880"/>
                <a:ext cx="291240" cy="190080"/>
                <a:chOff x="3424320" y="3431880"/>
                <a:chExt cx="291240" cy="190080"/>
              </a:xfrm>
            </p:grpSpPr>
            <p:sp>
              <p:nvSpPr>
                <p:cNvPr id="3177" name=""/>
                <p:cNvSpPr/>
                <p:nvPr/>
              </p:nvSpPr>
              <p:spPr>
                <a:xfrm>
                  <a:off x="3424320" y="3431880"/>
                  <a:ext cx="291240" cy="190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3474360" y="3480120"/>
                  <a:ext cx="187200" cy="90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3549600" y="3504960"/>
                  <a:ext cx="34560" cy="3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0" name=""/>
              <p:cNvGrpSpPr/>
              <p:nvPr/>
            </p:nvGrpSpPr>
            <p:grpSpPr>
              <a:xfrm>
                <a:off x="3531960" y="3368520"/>
                <a:ext cx="75600" cy="63360"/>
                <a:chOff x="3531960" y="3368520"/>
                <a:chExt cx="75600" cy="63360"/>
              </a:xfrm>
            </p:grpSpPr>
            <p:sp>
              <p:nvSpPr>
                <p:cNvPr id="3181" name=""/>
                <p:cNvSpPr/>
                <p:nvPr/>
              </p:nvSpPr>
              <p:spPr>
                <a:xfrm>
                  <a:off x="3531960" y="33685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3607560" y="33685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83" name=""/>
            <p:cNvSpPr/>
            <p:nvPr/>
          </p:nvSpPr>
          <p:spPr>
            <a:xfrm>
              <a:off x="3252960" y="3517560"/>
              <a:ext cx="190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00440" y="3415320"/>
              <a:ext cx="2182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Mixed Artillery Battalion (SP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FS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5" name=""/>
          <p:cNvGrpSpPr/>
          <p:nvPr/>
        </p:nvGrpSpPr>
        <p:grpSpPr>
          <a:xfrm>
            <a:off x="3244680" y="3843360"/>
            <a:ext cx="2638440" cy="284760"/>
            <a:chOff x="3244680" y="3843360"/>
            <a:chExt cx="2638440" cy="284760"/>
          </a:xfrm>
        </p:grpSpPr>
        <p:grpSp>
          <p:nvGrpSpPr>
            <p:cNvPr id="3186" name=""/>
            <p:cNvGrpSpPr/>
            <p:nvPr/>
          </p:nvGrpSpPr>
          <p:grpSpPr>
            <a:xfrm>
              <a:off x="3427560" y="3843360"/>
              <a:ext cx="284040" cy="257040"/>
              <a:chOff x="3427560" y="3843360"/>
              <a:chExt cx="284040" cy="257040"/>
            </a:xfrm>
          </p:grpSpPr>
          <p:grpSp>
            <p:nvGrpSpPr>
              <p:cNvPr id="3187" name=""/>
              <p:cNvGrpSpPr/>
              <p:nvPr/>
            </p:nvGrpSpPr>
            <p:grpSpPr>
              <a:xfrm>
                <a:off x="3427560" y="3906720"/>
                <a:ext cx="284040" cy="193680"/>
                <a:chOff x="3427560" y="3906720"/>
                <a:chExt cx="284040" cy="193680"/>
              </a:xfrm>
            </p:grpSpPr>
            <p:sp>
              <p:nvSpPr>
                <p:cNvPr id="3188" name=""/>
                <p:cNvSpPr/>
                <p:nvPr/>
              </p:nvSpPr>
              <p:spPr>
                <a:xfrm>
                  <a:off x="3427560" y="3906720"/>
                  <a:ext cx="284040" cy="193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3479400" y="3954960"/>
                  <a:ext cx="182160" cy="92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0" name=""/>
              <p:cNvSpPr/>
              <p:nvPr/>
            </p:nvSpPr>
            <p:spPr>
              <a:xfrm>
                <a:off x="3570120" y="38433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1" name=""/>
            <p:cNvSpPr/>
            <p:nvPr/>
          </p:nvSpPr>
          <p:spPr>
            <a:xfrm>
              <a:off x="3244680" y="4003560"/>
              <a:ext cx="209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700440" y="3912480"/>
              <a:ext cx="2182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Heavy Panzer Company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3" name=""/>
          <p:cNvSpPr/>
          <p:nvPr/>
        </p:nvSpPr>
        <p:spPr>
          <a:xfrm>
            <a:off x="3635280" y="3629160"/>
            <a:ext cx="202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NON-DIVISIONAL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3454560" y="824040"/>
            <a:ext cx="20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5" name=""/>
          <p:cNvGrpSpPr/>
          <p:nvPr/>
        </p:nvGrpSpPr>
        <p:grpSpPr>
          <a:xfrm>
            <a:off x="3220920" y="4710240"/>
            <a:ext cx="2867040" cy="272160"/>
            <a:chOff x="3220920" y="4710240"/>
            <a:chExt cx="2867040" cy="272160"/>
          </a:xfrm>
        </p:grpSpPr>
        <p:grpSp>
          <p:nvGrpSpPr>
            <p:cNvPr id="3196" name=""/>
            <p:cNvGrpSpPr/>
            <p:nvPr/>
          </p:nvGrpSpPr>
          <p:grpSpPr>
            <a:xfrm>
              <a:off x="3220920" y="4710240"/>
              <a:ext cx="527040" cy="258120"/>
              <a:chOff x="3220920" y="4710240"/>
              <a:chExt cx="527040" cy="258120"/>
            </a:xfrm>
          </p:grpSpPr>
          <p:grpSp>
            <p:nvGrpSpPr>
              <p:cNvPr id="3197" name=""/>
              <p:cNvGrpSpPr/>
              <p:nvPr/>
            </p:nvGrpSpPr>
            <p:grpSpPr>
              <a:xfrm>
                <a:off x="3405240" y="4710240"/>
                <a:ext cx="342720" cy="258120"/>
                <a:chOff x="3405240" y="4710240"/>
                <a:chExt cx="342720" cy="258120"/>
              </a:xfrm>
            </p:grpSpPr>
            <p:grpSp>
              <p:nvGrpSpPr>
                <p:cNvPr id="3198" name=""/>
                <p:cNvGrpSpPr/>
                <p:nvPr/>
              </p:nvGrpSpPr>
              <p:grpSpPr>
                <a:xfrm>
                  <a:off x="3405240" y="4778280"/>
                  <a:ext cx="291600" cy="190080"/>
                  <a:chOff x="3405240" y="4778280"/>
                  <a:chExt cx="291600" cy="190080"/>
                </a:xfrm>
              </p:grpSpPr>
              <p:sp>
                <p:nvSpPr>
                  <p:cNvPr id="3199" name=""/>
                  <p:cNvSpPr/>
                  <p:nvPr/>
                </p:nvSpPr>
                <p:spPr>
                  <a:xfrm>
                    <a:off x="3405240" y="4778280"/>
                    <a:ext cx="29160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>
                    <a:off x="3530880" y="485100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1" name=""/>
                <p:cNvGrpSpPr/>
                <p:nvPr/>
              </p:nvGrpSpPr>
              <p:grpSpPr>
                <a:xfrm>
                  <a:off x="3454560" y="4721040"/>
                  <a:ext cx="75960" cy="63360"/>
                  <a:chOff x="3454560" y="4721040"/>
                  <a:chExt cx="75960" cy="63360"/>
                </a:xfrm>
              </p:grpSpPr>
              <p:sp>
                <p:nvSpPr>
                  <p:cNvPr id="3202" name=""/>
                  <p:cNvSpPr/>
                  <p:nvPr/>
                </p:nvSpPr>
                <p:spPr>
                  <a:xfrm>
                    <a:off x="3454560" y="4721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3" name=""/>
                  <p:cNvSpPr/>
                  <p:nvPr/>
                </p:nvSpPr>
                <p:spPr>
                  <a:xfrm>
                    <a:off x="3530520" y="4721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4" name=""/>
                <p:cNvSpPr/>
                <p:nvPr/>
              </p:nvSpPr>
              <p:spPr>
                <a:xfrm>
                  <a:off x="3530520" y="4710240"/>
                  <a:ext cx="217440" cy="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(+)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5" name=""/>
              <p:cNvSpPr/>
              <p:nvPr/>
            </p:nvSpPr>
            <p:spPr>
              <a:xfrm>
                <a:off x="3220920" y="4867200"/>
                <a:ext cx="20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6" name=""/>
            <p:cNvSpPr/>
            <p:nvPr/>
          </p:nvSpPr>
          <p:spPr>
            <a:xfrm>
              <a:off x="3700440" y="4766760"/>
              <a:ext cx="238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Light Artillery Battalion (Towed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FS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7" name=""/>
          <p:cNvSpPr/>
          <p:nvPr/>
        </p:nvSpPr>
        <p:spPr>
          <a:xfrm>
            <a:off x="3389400" y="4137120"/>
            <a:ext cx="202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lternat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8" name=""/>
          <p:cNvGrpSpPr/>
          <p:nvPr/>
        </p:nvGrpSpPr>
        <p:grpSpPr>
          <a:xfrm>
            <a:off x="3205080" y="4351320"/>
            <a:ext cx="2882880" cy="270720"/>
            <a:chOff x="3205080" y="4351320"/>
            <a:chExt cx="2882880" cy="270720"/>
          </a:xfrm>
        </p:grpSpPr>
        <p:grpSp>
          <p:nvGrpSpPr>
            <p:cNvPr id="3209" name=""/>
            <p:cNvGrpSpPr/>
            <p:nvPr/>
          </p:nvGrpSpPr>
          <p:grpSpPr>
            <a:xfrm>
              <a:off x="3400560" y="4351320"/>
              <a:ext cx="283680" cy="259920"/>
              <a:chOff x="3400560" y="4351320"/>
              <a:chExt cx="283680" cy="259920"/>
            </a:xfrm>
          </p:grpSpPr>
          <p:grpSp>
            <p:nvGrpSpPr>
              <p:cNvPr id="3210" name=""/>
              <p:cNvGrpSpPr/>
              <p:nvPr/>
            </p:nvGrpSpPr>
            <p:grpSpPr>
              <a:xfrm>
                <a:off x="3400560" y="4417920"/>
                <a:ext cx="283680" cy="193320"/>
                <a:chOff x="3400560" y="4417920"/>
                <a:chExt cx="283680" cy="193320"/>
              </a:xfrm>
            </p:grpSpPr>
            <p:sp>
              <p:nvSpPr>
                <p:cNvPr id="3211" name=""/>
                <p:cNvSpPr/>
                <p:nvPr/>
              </p:nvSpPr>
              <p:spPr>
                <a:xfrm>
                  <a:off x="3400560" y="4417920"/>
                  <a:ext cx="283680" cy="19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2" name=""/>
                <p:cNvGrpSpPr/>
                <p:nvPr/>
              </p:nvGrpSpPr>
              <p:grpSpPr>
                <a:xfrm>
                  <a:off x="3507480" y="4488120"/>
                  <a:ext cx="67320" cy="32760"/>
                  <a:chOff x="3507480" y="4488120"/>
                  <a:chExt cx="67320" cy="32760"/>
                </a:xfrm>
              </p:grpSpPr>
              <p:sp>
                <p:nvSpPr>
                  <p:cNvPr id="3213" name=""/>
                  <p:cNvSpPr/>
                  <p:nvPr/>
                </p:nvSpPr>
                <p:spPr>
                  <a:xfrm>
                    <a:off x="3507480" y="448812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4" name=""/>
                  <p:cNvSpPr/>
                  <p:nvPr/>
                </p:nvSpPr>
                <p:spPr>
                  <a:xfrm>
                    <a:off x="3542040" y="448812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5" name=""/>
                  <p:cNvSpPr/>
                  <p:nvPr/>
                </p:nvSpPr>
                <p:spPr>
                  <a:xfrm>
                    <a:off x="3574800" y="448812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6" name=""/>
                  <p:cNvSpPr/>
                  <p:nvPr/>
                </p:nvSpPr>
                <p:spPr>
                  <a:xfrm>
                    <a:off x="3507480" y="4488120"/>
                    <a:ext cx="673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17" name=""/>
              <p:cNvSpPr/>
              <p:nvPr/>
            </p:nvSpPr>
            <p:spPr>
              <a:xfrm>
                <a:off x="3541680" y="4351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8" name=""/>
            <p:cNvSpPr/>
            <p:nvPr/>
          </p:nvSpPr>
          <p:spPr>
            <a:xfrm>
              <a:off x="3205080" y="4521240"/>
              <a:ext cx="209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692520" y="4406400"/>
              <a:ext cx="239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Panzer Engineer Company (Mtz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0" name=""/>
          <p:cNvGrpSpPr/>
          <p:nvPr/>
        </p:nvGrpSpPr>
        <p:grpSpPr>
          <a:xfrm>
            <a:off x="469800" y="957240"/>
            <a:ext cx="2791080" cy="776880"/>
            <a:chOff x="469800" y="957240"/>
            <a:chExt cx="2791080" cy="776880"/>
          </a:xfrm>
        </p:grpSpPr>
        <p:sp>
          <p:nvSpPr>
            <p:cNvPr id="3221" name=""/>
            <p:cNvSpPr/>
            <p:nvPr/>
          </p:nvSpPr>
          <p:spPr>
            <a:xfrm>
              <a:off x="1103400" y="957240"/>
              <a:ext cx="21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2" name=""/>
            <p:cNvGrpSpPr/>
            <p:nvPr/>
          </p:nvGrpSpPr>
          <p:grpSpPr>
            <a:xfrm>
              <a:off x="730440" y="1091520"/>
              <a:ext cx="1945800" cy="350640"/>
              <a:chOff x="730440" y="1091520"/>
              <a:chExt cx="1945800" cy="350640"/>
            </a:xfrm>
          </p:grpSpPr>
          <p:sp>
            <p:nvSpPr>
              <p:cNvPr id="3223" name=""/>
              <p:cNvSpPr/>
              <p:nvPr/>
            </p:nvSpPr>
            <p:spPr>
              <a:xfrm>
                <a:off x="997200" y="1091520"/>
                <a:ext cx="65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24" name=""/>
              <p:cNvGrpSpPr/>
              <p:nvPr/>
            </p:nvGrpSpPr>
            <p:grpSpPr>
              <a:xfrm>
                <a:off x="730440" y="1152360"/>
                <a:ext cx="237960" cy="194760"/>
                <a:chOff x="730440" y="1152360"/>
                <a:chExt cx="237960" cy="194760"/>
              </a:xfrm>
            </p:grpSpPr>
            <p:sp>
              <p:nvSpPr>
                <p:cNvPr id="3225" name=""/>
                <p:cNvSpPr/>
                <p:nvPr/>
              </p:nvSpPr>
              <p:spPr>
                <a:xfrm>
                  <a:off x="730440" y="1188720"/>
                  <a:ext cx="237960" cy="158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>
                  <a:off x="834840" y="115236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7" name=""/>
              <p:cNvSpPr/>
              <p:nvPr/>
            </p:nvSpPr>
            <p:spPr>
              <a:xfrm>
                <a:off x="1008000" y="1226520"/>
                <a:ext cx="1668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            GE-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8" name=""/>
            <p:cNvSpPr/>
            <p:nvPr/>
          </p:nvSpPr>
          <p:spPr>
            <a:xfrm>
              <a:off x="469800" y="125892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9" name=""/>
            <p:cNvGrpSpPr/>
            <p:nvPr/>
          </p:nvGrpSpPr>
          <p:grpSpPr>
            <a:xfrm>
              <a:off x="730440" y="1328760"/>
              <a:ext cx="1958760" cy="405360"/>
              <a:chOff x="730440" y="1328760"/>
              <a:chExt cx="1958760" cy="405360"/>
            </a:xfrm>
          </p:grpSpPr>
          <p:sp>
            <p:nvSpPr>
              <p:cNvPr id="3230" name=""/>
              <p:cNvSpPr/>
              <p:nvPr/>
            </p:nvSpPr>
            <p:spPr>
              <a:xfrm>
                <a:off x="776160" y="1328760"/>
                <a:ext cx="0" cy="16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1" name=""/>
              <p:cNvGrpSpPr/>
              <p:nvPr/>
            </p:nvGrpSpPr>
            <p:grpSpPr>
              <a:xfrm>
                <a:off x="730440" y="1399680"/>
                <a:ext cx="1958760" cy="334440"/>
                <a:chOff x="730440" y="1399680"/>
                <a:chExt cx="1958760" cy="334440"/>
              </a:xfrm>
            </p:grpSpPr>
            <p:sp>
              <p:nvSpPr>
                <p:cNvPr id="3232" name=""/>
                <p:cNvSpPr/>
                <p:nvPr/>
              </p:nvSpPr>
              <p:spPr>
                <a:xfrm>
                  <a:off x="972000" y="139968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1022400" y="1518480"/>
                  <a:ext cx="1666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dKfz 251/1                 GE-2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4" name=""/>
                <p:cNvGrpSpPr/>
                <p:nvPr/>
              </p:nvGrpSpPr>
              <p:grpSpPr>
                <a:xfrm>
                  <a:off x="730440" y="1431720"/>
                  <a:ext cx="241200" cy="239760"/>
                  <a:chOff x="730440" y="1431720"/>
                  <a:chExt cx="241200" cy="239760"/>
                </a:xfrm>
              </p:grpSpPr>
              <p:sp>
                <p:nvSpPr>
                  <p:cNvPr id="3235" name=""/>
                  <p:cNvSpPr/>
                  <p:nvPr/>
                </p:nvSpPr>
                <p:spPr>
                  <a:xfrm>
                    <a:off x="828720" y="14317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36" name=""/>
                  <p:cNvGrpSpPr/>
                  <p:nvPr/>
                </p:nvGrpSpPr>
                <p:grpSpPr>
                  <a:xfrm>
                    <a:off x="730440" y="1482840"/>
                    <a:ext cx="241200" cy="188640"/>
                    <a:chOff x="730440" y="1482840"/>
                    <a:chExt cx="241200" cy="188640"/>
                  </a:xfrm>
                </p:grpSpPr>
                <p:sp>
                  <p:nvSpPr>
                    <p:cNvPr id="3237" name=""/>
                    <p:cNvSpPr/>
                    <p:nvPr/>
                  </p:nvSpPr>
                  <p:spPr>
                    <a:xfrm>
                      <a:off x="731520" y="1482840"/>
                      <a:ext cx="240120" cy="1576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8" name=""/>
                    <p:cNvSpPr/>
                    <p:nvPr/>
                  </p:nvSpPr>
                  <p:spPr>
                    <a:xfrm>
                      <a:off x="767160" y="1522080"/>
                      <a:ext cx="169920" cy="75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9" name=""/>
                    <p:cNvSpPr/>
                    <p:nvPr/>
                  </p:nvSpPr>
                  <p:spPr>
                    <a:xfrm flipV="1">
                      <a:off x="731520" y="1482840"/>
                      <a:ext cx="237960" cy="156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0" name=""/>
                    <p:cNvSpPr/>
                    <p:nvPr/>
                  </p:nvSpPr>
                  <p:spPr>
                    <a:xfrm>
                      <a:off x="730440" y="1482840"/>
                      <a:ext cx="241200" cy="1540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1" name=""/>
                    <p:cNvSpPr/>
                    <p:nvPr/>
                  </p:nvSpPr>
                  <p:spPr>
                    <a:xfrm>
                      <a:off x="745560" y="1644120"/>
                      <a:ext cx="2736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2" name=""/>
                    <p:cNvSpPr/>
                    <p:nvPr/>
                  </p:nvSpPr>
                  <p:spPr>
                    <a:xfrm>
                      <a:off x="859320" y="1643040"/>
                      <a:ext cx="2736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3" name=""/>
                    <p:cNvSpPr/>
                    <p:nvPr/>
                  </p:nvSpPr>
                  <p:spPr>
                    <a:xfrm>
                      <a:off x="935640" y="1643040"/>
                      <a:ext cx="2736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4" name=""/>
                    <p:cNvSpPr/>
                    <p:nvPr/>
                  </p:nvSpPr>
                  <p:spPr>
                    <a:xfrm>
                      <a:off x="879480" y="1643040"/>
                      <a:ext cx="61920" cy="27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440" bIns="-19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3245" name=""/>
          <p:cNvGrpSpPr/>
          <p:nvPr/>
        </p:nvGrpSpPr>
        <p:grpSpPr>
          <a:xfrm>
            <a:off x="6278400" y="2357280"/>
            <a:ext cx="2798640" cy="253800"/>
            <a:chOff x="6278400" y="2357280"/>
            <a:chExt cx="2798640" cy="253800"/>
          </a:xfrm>
        </p:grpSpPr>
        <p:grpSp>
          <p:nvGrpSpPr>
            <p:cNvPr id="3246" name=""/>
            <p:cNvGrpSpPr/>
            <p:nvPr/>
          </p:nvGrpSpPr>
          <p:grpSpPr>
            <a:xfrm>
              <a:off x="6485040" y="2420640"/>
              <a:ext cx="291960" cy="190440"/>
              <a:chOff x="6485040" y="2420640"/>
              <a:chExt cx="291960" cy="190440"/>
            </a:xfrm>
          </p:grpSpPr>
          <p:sp>
            <p:nvSpPr>
              <p:cNvPr id="3247" name=""/>
              <p:cNvSpPr/>
              <p:nvPr/>
            </p:nvSpPr>
            <p:spPr>
              <a:xfrm>
                <a:off x="6486480" y="2420640"/>
                <a:ext cx="290160" cy="190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6529680" y="2467800"/>
                <a:ext cx="20484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V="1">
                <a:off x="6486480" y="2420640"/>
                <a:ext cx="287280" cy="18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6485040" y="2420640"/>
                <a:ext cx="291960" cy="18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1" name=""/>
            <p:cNvSpPr/>
            <p:nvPr/>
          </p:nvSpPr>
          <p:spPr>
            <a:xfrm>
              <a:off x="6632640" y="2357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6769080" y="2391480"/>
              <a:ext cx="230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Panzergrenadier Company (Armd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0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6278400" y="2511000"/>
              <a:ext cx="211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4" name=""/>
          <p:cNvGrpSpPr/>
          <p:nvPr/>
        </p:nvGrpSpPr>
        <p:grpSpPr>
          <a:xfrm>
            <a:off x="6093000" y="1301760"/>
            <a:ext cx="2404800" cy="3013560"/>
            <a:chOff x="6093000" y="1301760"/>
            <a:chExt cx="2404800" cy="3013560"/>
          </a:xfrm>
        </p:grpSpPr>
        <p:sp>
          <p:nvSpPr>
            <p:cNvPr id="3255" name=""/>
            <p:cNvSpPr/>
            <p:nvPr/>
          </p:nvSpPr>
          <p:spPr>
            <a:xfrm>
              <a:off x="6278400" y="1593720"/>
              <a:ext cx="0" cy="200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6492960" y="2165400"/>
              <a:ext cx="164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7" name=""/>
            <p:cNvGrpSpPr/>
            <p:nvPr/>
          </p:nvGrpSpPr>
          <p:grpSpPr>
            <a:xfrm>
              <a:off x="6269040" y="3570120"/>
              <a:ext cx="2050920" cy="745200"/>
              <a:chOff x="6269040" y="3570120"/>
              <a:chExt cx="2050920" cy="745200"/>
            </a:xfrm>
          </p:grpSpPr>
          <p:sp>
            <p:nvSpPr>
              <p:cNvPr id="3258" name=""/>
              <p:cNvSpPr/>
              <p:nvPr/>
            </p:nvSpPr>
            <p:spPr>
              <a:xfrm>
                <a:off x="6477120" y="3740040"/>
                <a:ext cx="1641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DIVISIONAL ATTACH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9" name=""/>
              <p:cNvGrpSpPr/>
              <p:nvPr/>
            </p:nvGrpSpPr>
            <p:grpSpPr>
              <a:xfrm>
                <a:off x="6473880" y="3962520"/>
                <a:ext cx="284040" cy="257040"/>
                <a:chOff x="6473880" y="3962520"/>
                <a:chExt cx="284040" cy="257040"/>
              </a:xfrm>
            </p:grpSpPr>
            <p:grpSp>
              <p:nvGrpSpPr>
                <p:cNvPr id="3260" name=""/>
                <p:cNvGrpSpPr/>
                <p:nvPr/>
              </p:nvGrpSpPr>
              <p:grpSpPr>
                <a:xfrm>
                  <a:off x="6473880" y="4025880"/>
                  <a:ext cx="284040" cy="193680"/>
                  <a:chOff x="6473880" y="4025880"/>
                  <a:chExt cx="284040" cy="193680"/>
                </a:xfrm>
              </p:grpSpPr>
              <p:sp>
                <p:nvSpPr>
                  <p:cNvPr id="3261" name=""/>
                  <p:cNvSpPr/>
                  <p:nvPr/>
                </p:nvSpPr>
                <p:spPr>
                  <a:xfrm>
                    <a:off x="6473880" y="4025880"/>
                    <a:ext cx="284040" cy="19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2" name=""/>
                  <p:cNvSpPr/>
                  <p:nvPr/>
                </p:nvSpPr>
                <p:spPr>
                  <a:xfrm>
                    <a:off x="6525720" y="4074120"/>
                    <a:ext cx="182160" cy="92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63" name=""/>
                <p:cNvSpPr/>
                <p:nvPr/>
              </p:nvSpPr>
              <p:spPr>
                <a:xfrm>
                  <a:off x="6618240" y="39625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4" name=""/>
              <p:cNvSpPr/>
              <p:nvPr/>
            </p:nvSpPr>
            <p:spPr>
              <a:xfrm>
                <a:off x="6769080" y="3978000"/>
                <a:ext cx="155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Panzer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(from a Panzer Battal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 flipV="1">
                <a:off x="6269040" y="3570120"/>
                <a:ext cx="0" cy="51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6269040" y="4087800"/>
                <a:ext cx="222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7" name=""/>
            <p:cNvGrpSpPr/>
            <p:nvPr/>
          </p:nvGrpSpPr>
          <p:grpSpPr>
            <a:xfrm>
              <a:off x="6093000" y="1301760"/>
              <a:ext cx="364680" cy="301320"/>
              <a:chOff x="6093000" y="1301760"/>
              <a:chExt cx="364680" cy="301320"/>
            </a:xfrm>
          </p:grpSpPr>
          <p:grpSp>
            <p:nvGrpSpPr>
              <p:cNvPr id="3268" name=""/>
              <p:cNvGrpSpPr/>
              <p:nvPr/>
            </p:nvGrpSpPr>
            <p:grpSpPr>
              <a:xfrm>
                <a:off x="6246720" y="1301760"/>
                <a:ext cx="76320" cy="63360"/>
                <a:chOff x="6246720" y="1301760"/>
                <a:chExt cx="76320" cy="63360"/>
              </a:xfrm>
            </p:grpSpPr>
            <p:sp>
              <p:nvSpPr>
                <p:cNvPr id="3269" name=""/>
                <p:cNvSpPr/>
                <p:nvPr/>
              </p:nvSpPr>
              <p:spPr>
                <a:xfrm>
                  <a:off x="6246720" y="13017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6323040" y="13017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1" name=""/>
              <p:cNvGrpSpPr/>
              <p:nvPr/>
            </p:nvGrpSpPr>
            <p:grpSpPr>
              <a:xfrm>
                <a:off x="6093000" y="1365120"/>
                <a:ext cx="364680" cy="237960"/>
                <a:chOff x="6093000" y="1365120"/>
                <a:chExt cx="364680" cy="237960"/>
              </a:xfrm>
            </p:grpSpPr>
            <p:sp>
              <p:nvSpPr>
                <p:cNvPr id="3272" name=""/>
                <p:cNvSpPr/>
                <p:nvPr/>
              </p:nvSpPr>
              <p:spPr>
                <a:xfrm>
                  <a:off x="6094800" y="1365120"/>
                  <a:ext cx="362880" cy="237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6148800" y="1424160"/>
                  <a:ext cx="256320" cy="11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 flipV="1">
                  <a:off x="6094800" y="1365120"/>
                  <a:ext cx="358920" cy="236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>
                  <a:off x="6093000" y="1365120"/>
                  <a:ext cx="364680" cy="232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6" name=""/>
            <p:cNvGrpSpPr/>
            <p:nvPr/>
          </p:nvGrpSpPr>
          <p:grpSpPr>
            <a:xfrm>
              <a:off x="6539040" y="1559880"/>
              <a:ext cx="1945800" cy="350640"/>
              <a:chOff x="6539040" y="1559880"/>
              <a:chExt cx="1945800" cy="350640"/>
            </a:xfrm>
          </p:grpSpPr>
          <p:sp>
            <p:nvSpPr>
              <p:cNvPr id="3277" name=""/>
              <p:cNvSpPr/>
              <p:nvPr/>
            </p:nvSpPr>
            <p:spPr>
              <a:xfrm>
                <a:off x="6805800" y="1559880"/>
                <a:ext cx="65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78" name=""/>
              <p:cNvGrpSpPr/>
              <p:nvPr/>
            </p:nvGrpSpPr>
            <p:grpSpPr>
              <a:xfrm>
                <a:off x="6539040" y="1620720"/>
                <a:ext cx="237960" cy="194760"/>
                <a:chOff x="6539040" y="1620720"/>
                <a:chExt cx="237960" cy="194760"/>
              </a:xfrm>
            </p:grpSpPr>
            <p:sp>
              <p:nvSpPr>
                <p:cNvPr id="3279" name=""/>
                <p:cNvSpPr/>
                <p:nvPr/>
              </p:nvSpPr>
              <p:spPr>
                <a:xfrm>
                  <a:off x="6539040" y="1657080"/>
                  <a:ext cx="237960" cy="158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>
                  <a:off x="6643440" y="16207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1" name=""/>
              <p:cNvSpPr/>
              <p:nvPr/>
            </p:nvSpPr>
            <p:spPr>
              <a:xfrm>
                <a:off x="6816600" y="1694880"/>
                <a:ext cx="1668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            GE-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2" name=""/>
            <p:cNvSpPr/>
            <p:nvPr/>
          </p:nvSpPr>
          <p:spPr>
            <a:xfrm>
              <a:off x="6278400" y="172728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3" name=""/>
            <p:cNvGrpSpPr/>
            <p:nvPr/>
          </p:nvGrpSpPr>
          <p:grpSpPr>
            <a:xfrm>
              <a:off x="6539040" y="1797120"/>
              <a:ext cx="1958760" cy="405360"/>
              <a:chOff x="6539040" y="1797120"/>
              <a:chExt cx="1958760" cy="405360"/>
            </a:xfrm>
          </p:grpSpPr>
          <p:sp>
            <p:nvSpPr>
              <p:cNvPr id="3284" name=""/>
              <p:cNvSpPr/>
              <p:nvPr/>
            </p:nvSpPr>
            <p:spPr>
              <a:xfrm>
                <a:off x="6585120" y="1797120"/>
                <a:ext cx="0" cy="16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6780600" y="186804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6831000" y="1986840"/>
                <a:ext cx="1666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dKfz 251/1                 GE-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7" name=""/>
              <p:cNvGrpSpPr/>
              <p:nvPr/>
            </p:nvGrpSpPr>
            <p:grpSpPr>
              <a:xfrm>
                <a:off x="6539040" y="1900080"/>
                <a:ext cx="241200" cy="239760"/>
                <a:chOff x="6539040" y="1900080"/>
                <a:chExt cx="241200" cy="239760"/>
              </a:xfrm>
            </p:grpSpPr>
            <p:sp>
              <p:nvSpPr>
                <p:cNvPr id="3288" name=""/>
                <p:cNvSpPr/>
                <p:nvPr/>
              </p:nvSpPr>
              <p:spPr>
                <a:xfrm>
                  <a:off x="6637320" y="19000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89" name=""/>
                <p:cNvGrpSpPr/>
                <p:nvPr/>
              </p:nvGrpSpPr>
              <p:grpSpPr>
                <a:xfrm>
                  <a:off x="6539040" y="1951200"/>
                  <a:ext cx="241200" cy="188640"/>
                  <a:chOff x="6539040" y="1951200"/>
                  <a:chExt cx="241200" cy="188640"/>
                </a:xfrm>
              </p:grpSpPr>
              <p:sp>
                <p:nvSpPr>
                  <p:cNvPr id="3290" name=""/>
                  <p:cNvSpPr/>
                  <p:nvPr/>
                </p:nvSpPr>
                <p:spPr>
                  <a:xfrm>
                    <a:off x="6540120" y="1951200"/>
                    <a:ext cx="240120" cy="157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1" name=""/>
                  <p:cNvSpPr/>
                  <p:nvPr/>
                </p:nvSpPr>
                <p:spPr>
                  <a:xfrm>
                    <a:off x="6575760" y="1990440"/>
                    <a:ext cx="169920" cy="75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2" name=""/>
                  <p:cNvSpPr/>
                  <p:nvPr/>
                </p:nvSpPr>
                <p:spPr>
                  <a:xfrm flipV="1">
                    <a:off x="6540120" y="1951200"/>
                    <a:ext cx="237960" cy="1562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3" name=""/>
                  <p:cNvSpPr/>
                  <p:nvPr/>
                </p:nvSpPr>
                <p:spPr>
                  <a:xfrm>
                    <a:off x="6539040" y="1951200"/>
                    <a:ext cx="241200" cy="154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4" name=""/>
                  <p:cNvSpPr/>
                  <p:nvPr/>
                </p:nvSpPr>
                <p:spPr>
                  <a:xfrm>
                    <a:off x="6554160" y="211248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5" name=""/>
                  <p:cNvSpPr/>
                  <p:nvPr/>
                </p:nvSpPr>
                <p:spPr>
                  <a:xfrm>
                    <a:off x="6667920" y="211140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6" name=""/>
                  <p:cNvSpPr/>
                  <p:nvPr/>
                </p:nvSpPr>
                <p:spPr>
                  <a:xfrm>
                    <a:off x="6744240" y="211140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7" name=""/>
                  <p:cNvSpPr/>
                  <p:nvPr/>
                </p:nvSpPr>
                <p:spPr>
                  <a:xfrm>
                    <a:off x="6688080" y="2111400"/>
                    <a:ext cx="61920" cy="273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298" name=""/>
            <p:cNvSpPr/>
            <p:nvPr/>
          </p:nvSpPr>
          <p:spPr>
            <a:xfrm>
              <a:off x="6475320" y="2616120"/>
              <a:ext cx="16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6781680" y="2928240"/>
              <a:ext cx="1660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dKfz 251/9 75mm      GE-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0" name=""/>
            <p:cNvGrpSpPr/>
            <p:nvPr/>
          </p:nvGrpSpPr>
          <p:grpSpPr>
            <a:xfrm>
              <a:off x="6278400" y="2763000"/>
              <a:ext cx="1607400" cy="394200"/>
              <a:chOff x="6278400" y="2763000"/>
              <a:chExt cx="1607400" cy="394200"/>
            </a:xfrm>
          </p:grpSpPr>
          <p:grpSp>
            <p:nvGrpSpPr>
              <p:cNvPr id="3301" name=""/>
              <p:cNvGrpSpPr/>
              <p:nvPr/>
            </p:nvGrpSpPr>
            <p:grpSpPr>
              <a:xfrm>
                <a:off x="6524640" y="2920680"/>
                <a:ext cx="239760" cy="236520"/>
                <a:chOff x="6524640" y="2920680"/>
                <a:chExt cx="239760" cy="236520"/>
              </a:xfrm>
            </p:grpSpPr>
            <p:grpSp>
              <p:nvGrpSpPr>
                <p:cNvPr id="3302" name=""/>
                <p:cNvGrpSpPr/>
                <p:nvPr/>
              </p:nvGrpSpPr>
              <p:grpSpPr>
                <a:xfrm>
                  <a:off x="6524640" y="2963520"/>
                  <a:ext cx="239760" cy="193680"/>
                  <a:chOff x="6524640" y="2963520"/>
                  <a:chExt cx="239760" cy="193680"/>
                </a:xfrm>
              </p:grpSpPr>
              <p:sp>
                <p:nvSpPr>
                  <p:cNvPr id="3303" name=""/>
                  <p:cNvSpPr/>
                  <p:nvPr/>
                </p:nvSpPr>
                <p:spPr>
                  <a:xfrm>
                    <a:off x="6524640" y="2963520"/>
                    <a:ext cx="23976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4" name=""/>
                  <p:cNvSpPr/>
                  <p:nvPr/>
                </p:nvSpPr>
                <p:spPr>
                  <a:xfrm>
                    <a:off x="6564240" y="3004920"/>
                    <a:ext cx="160560" cy="74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5" name=""/>
                  <p:cNvSpPr/>
                  <p:nvPr/>
                </p:nvSpPr>
                <p:spPr>
                  <a:xfrm flipV="1">
                    <a:off x="6526440" y="2964960"/>
                    <a:ext cx="237960" cy="154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6" name=""/>
                  <p:cNvSpPr/>
                  <p:nvPr/>
                </p:nvSpPr>
                <p:spPr>
                  <a:xfrm>
                    <a:off x="6526440" y="2964960"/>
                    <a:ext cx="237960" cy="152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7" name=""/>
                  <p:cNvSpPr/>
                  <p:nvPr/>
                </p:nvSpPr>
                <p:spPr>
                  <a:xfrm>
                    <a:off x="6631200" y="3028680"/>
                    <a:ext cx="2700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8" name=""/>
                  <p:cNvSpPr/>
                  <p:nvPr/>
                </p:nvSpPr>
                <p:spPr>
                  <a:xfrm>
                    <a:off x="6539040" y="31302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9" name=""/>
                  <p:cNvSpPr/>
                  <p:nvPr/>
                </p:nvSpPr>
                <p:spPr>
                  <a:xfrm>
                    <a:off x="6651720" y="31287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0" name=""/>
                  <p:cNvSpPr/>
                  <p:nvPr/>
                </p:nvSpPr>
                <p:spPr>
                  <a:xfrm>
                    <a:off x="6728040" y="31287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1" name=""/>
                  <p:cNvSpPr/>
                  <p:nvPr/>
                </p:nvSpPr>
                <p:spPr>
                  <a:xfrm>
                    <a:off x="6672240" y="3128760"/>
                    <a:ext cx="6192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2" name=""/>
                <p:cNvGrpSpPr/>
                <p:nvPr/>
              </p:nvGrpSpPr>
              <p:grpSpPr>
                <a:xfrm>
                  <a:off x="6605640" y="2920680"/>
                  <a:ext cx="74520" cy="28080"/>
                  <a:chOff x="6605640" y="2920680"/>
                  <a:chExt cx="74520" cy="28080"/>
                </a:xfrm>
              </p:grpSpPr>
              <p:sp>
                <p:nvSpPr>
                  <p:cNvPr id="3313" name=""/>
                  <p:cNvSpPr/>
                  <p:nvPr/>
                </p:nvSpPr>
                <p:spPr>
                  <a:xfrm>
                    <a:off x="6605640" y="29206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4" name=""/>
                  <p:cNvSpPr/>
                  <p:nvPr/>
                </p:nvSpPr>
                <p:spPr>
                  <a:xfrm>
                    <a:off x="6653160" y="29221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15" name=""/>
              <p:cNvSpPr/>
              <p:nvPr/>
            </p:nvSpPr>
            <p:spPr>
              <a:xfrm>
                <a:off x="6758640" y="2763000"/>
                <a:ext cx="1127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6278400" y="303372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7" name=""/>
            <p:cNvSpPr/>
            <p:nvPr/>
          </p:nvSpPr>
          <p:spPr>
            <a:xfrm>
              <a:off x="6508800" y="3182760"/>
              <a:ext cx="16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FIRE SUPPORT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8" name=""/>
            <p:cNvGrpSpPr/>
            <p:nvPr/>
          </p:nvGrpSpPr>
          <p:grpSpPr>
            <a:xfrm>
              <a:off x="6269040" y="3301200"/>
              <a:ext cx="2177640" cy="426600"/>
              <a:chOff x="6269040" y="3301200"/>
              <a:chExt cx="2177640" cy="426600"/>
            </a:xfrm>
          </p:grpSpPr>
          <p:sp>
            <p:nvSpPr>
              <p:cNvPr id="3319" name=""/>
              <p:cNvSpPr/>
              <p:nvPr/>
            </p:nvSpPr>
            <p:spPr>
              <a:xfrm>
                <a:off x="6269040" y="3612960"/>
                <a:ext cx="211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0" name=""/>
              <p:cNvGrpSpPr/>
              <p:nvPr/>
            </p:nvGrpSpPr>
            <p:grpSpPr>
              <a:xfrm>
                <a:off x="6453360" y="3460320"/>
                <a:ext cx="291600" cy="247320"/>
                <a:chOff x="6453360" y="3460320"/>
                <a:chExt cx="291600" cy="247320"/>
              </a:xfrm>
            </p:grpSpPr>
            <p:grpSp>
              <p:nvGrpSpPr>
                <p:cNvPr id="3321" name=""/>
                <p:cNvGrpSpPr/>
                <p:nvPr/>
              </p:nvGrpSpPr>
              <p:grpSpPr>
                <a:xfrm>
                  <a:off x="6532560" y="3460320"/>
                  <a:ext cx="131760" cy="27000"/>
                  <a:chOff x="6532560" y="3460320"/>
                  <a:chExt cx="131760" cy="27000"/>
                </a:xfrm>
              </p:grpSpPr>
              <p:sp>
                <p:nvSpPr>
                  <p:cNvPr id="3322" name=""/>
                  <p:cNvSpPr/>
                  <p:nvPr/>
                </p:nvSpPr>
                <p:spPr>
                  <a:xfrm>
                    <a:off x="6532560" y="34603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>
                    <a:off x="6583320" y="34603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>
                    <a:off x="6637320" y="34603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5" name=""/>
                <p:cNvGrpSpPr/>
                <p:nvPr/>
              </p:nvGrpSpPr>
              <p:grpSpPr>
                <a:xfrm>
                  <a:off x="6453360" y="3517560"/>
                  <a:ext cx="291600" cy="190080"/>
                  <a:chOff x="6453360" y="3517560"/>
                  <a:chExt cx="291600" cy="190080"/>
                </a:xfrm>
              </p:grpSpPr>
              <p:sp>
                <p:nvSpPr>
                  <p:cNvPr id="3326" name=""/>
                  <p:cNvSpPr/>
                  <p:nvPr/>
                </p:nvSpPr>
                <p:spPr>
                  <a:xfrm>
                    <a:off x="6453360" y="3517560"/>
                    <a:ext cx="29160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7" name=""/>
                  <p:cNvSpPr/>
                  <p:nvPr/>
                </p:nvSpPr>
                <p:spPr>
                  <a:xfrm flipV="1">
                    <a:off x="6555600" y="3657600"/>
                    <a:ext cx="77040" cy="14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>
                    <a:off x="6594480" y="3555720"/>
                    <a:ext cx="0" cy="1018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29" name=""/>
              <p:cNvSpPr/>
              <p:nvPr/>
            </p:nvSpPr>
            <p:spPr>
              <a:xfrm>
                <a:off x="6713640" y="3301200"/>
                <a:ext cx="1585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769800" y="3512160"/>
                <a:ext cx="1676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Heavy Mortar Plato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FS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title"/>
          </p:nvPr>
        </p:nvSpPr>
        <p:spPr>
          <a:xfrm>
            <a:off x="2484000" y="98280"/>
            <a:ext cx="389412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BG-05-&gt;BG-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216000" y="274680"/>
            <a:ext cx="2457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Battle Group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zergrenadier Battalion (Motoriz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6060960" y="236160"/>
            <a:ext cx="1817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Battle Group-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zergrenadier Reg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 per 1943-45 Panz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6491160" y="3911760"/>
            <a:ext cx="202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NON-DIVISIONAL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6310440" y="1106640"/>
            <a:ext cx="20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6" name=""/>
          <p:cNvGrpSpPr/>
          <p:nvPr/>
        </p:nvGrpSpPr>
        <p:grpSpPr>
          <a:xfrm>
            <a:off x="6076800" y="4743360"/>
            <a:ext cx="2867040" cy="521640"/>
            <a:chOff x="6076800" y="4743360"/>
            <a:chExt cx="2867040" cy="521640"/>
          </a:xfrm>
        </p:grpSpPr>
        <p:grpSp>
          <p:nvGrpSpPr>
            <p:cNvPr id="3337" name=""/>
            <p:cNvGrpSpPr/>
            <p:nvPr/>
          </p:nvGrpSpPr>
          <p:grpSpPr>
            <a:xfrm>
              <a:off x="6076800" y="4992840"/>
              <a:ext cx="2867040" cy="272160"/>
              <a:chOff x="6076800" y="4992840"/>
              <a:chExt cx="2867040" cy="272160"/>
            </a:xfrm>
          </p:grpSpPr>
          <p:grpSp>
            <p:nvGrpSpPr>
              <p:cNvPr id="3338" name=""/>
              <p:cNvGrpSpPr/>
              <p:nvPr/>
            </p:nvGrpSpPr>
            <p:grpSpPr>
              <a:xfrm>
                <a:off x="6076800" y="4992840"/>
                <a:ext cx="527040" cy="258120"/>
                <a:chOff x="6076800" y="4992840"/>
                <a:chExt cx="527040" cy="258120"/>
              </a:xfrm>
            </p:grpSpPr>
            <p:grpSp>
              <p:nvGrpSpPr>
                <p:cNvPr id="3339" name=""/>
                <p:cNvGrpSpPr/>
                <p:nvPr/>
              </p:nvGrpSpPr>
              <p:grpSpPr>
                <a:xfrm>
                  <a:off x="6261120" y="4992840"/>
                  <a:ext cx="342720" cy="258120"/>
                  <a:chOff x="6261120" y="4992840"/>
                  <a:chExt cx="342720" cy="258120"/>
                </a:xfrm>
              </p:grpSpPr>
              <p:grpSp>
                <p:nvGrpSpPr>
                  <p:cNvPr id="3340" name=""/>
                  <p:cNvGrpSpPr/>
                  <p:nvPr/>
                </p:nvGrpSpPr>
                <p:grpSpPr>
                  <a:xfrm>
                    <a:off x="6261120" y="5060880"/>
                    <a:ext cx="291600" cy="190080"/>
                    <a:chOff x="6261120" y="5060880"/>
                    <a:chExt cx="291600" cy="190080"/>
                  </a:xfrm>
                </p:grpSpPr>
                <p:sp>
                  <p:nvSpPr>
                    <p:cNvPr id="3341" name=""/>
                    <p:cNvSpPr/>
                    <p:nvPr/>
                  </p:nvSpPr>
                  <p:spPr>
                    <a:xfrm>
                      <a:off x="6261120" y="5060880"/>
                      <a:ext cx="291600" cy="190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2" name=""/>
                    <p:cNvSpPr/>
                    <p:nvPr/>
                  </p:nvSpPr>
                  <p:spPr>
                    <a:xfrm>
                      <a:off x="6386760" y="513360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43" name=""/>
                  <p:cNvGrpSpPr/>
                  <p:nvPr/>
                </p:nvGrpSpPr>
                <p:grpSpPr>
                  <a:xfrm>
                    <a:off x="6310440" y="5003640"/>
                    <a:ext cx="75960" cy="63360"/>
                    <a:chOff x="6310440" y="5003640"/>
                    <a:chExt cx="75960" cy="63360"/>
                  </a:xfrm>
                </p:grpSpPr>
                <p:sp>
                  <p:nvSpPr>
                    <p:cNvPr id="3344" name=""/>
                    <p:cNvSpPr/>
                    <p:nvPr/>
                  </p:nvSpPr>
                  <p:spPr>
                    <a:xfrm>
                      <a:off x="6310440" y="500364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5" name=""/>
                    <p:cNvSpPr/>
                    <p:nvPr/>
                  </p:nvSpPr>
                  <p:spPr>
                    <a:xfrm>
                      <a:off x="6386400" y="500364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46" name=""/>
                  <p:cNvSpPr/>
                  <p:nvPr/>
                </p:nvSpPr>
                <p:spPr>
                  <a:xfrm>
                    <a:off x="6386400" y="4992840"/>
                    <a:ext cx="217440" cy="74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600" spc="-1" strike="noStrike">
                        <a:solidFill>
                          <a:srgbClr val="000000"/>
                        </a:solidFill>
                        <a:latin typeface="Arial"/>
                      </a:rPr>
                      <a:t>(+)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47" name=""/>
                <p:cNvSpPr/>
                <p:nvPr/>
              </p:nvSpPr>
              <p:spPr>
                <a:xfrm>
                  <a:off x="6076800" y="5149800"/>
                  <a:ext cx="209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8" name=""/>
              <p:cNvSpPr/>
              <p:nvPr/>
            </p:nvSpPr>
            <p:spPr>
              <a:xfrm>
                <a:off x="6556320" y="5049360"/>
                <a:ext cx="2387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Artillery Battalion (Towed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FS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9" name=""/>
            <p:cNvSpPr/>
            <p:nvPr/>
          </p:nvSpPr>
          <p:spPr>
            <a:xfrm>
              <a:off x="6245280" y="4743360"/>
              <a:ext cx="2025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Alternativ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0" name=""/>
          <p:cNvGrpSpPr/>
          <p:nvPr/>
        </p:nvGrpSpPr>
        <p:grpSpPr>
          <a:xfrm>
            <a:off x="446040" y="888840"/>
            <a:ext cx="2887920" cy="3255120"/>
            <a:chOff x="446040" y="888840"/>
            <a:chExt cx="2887920" cy="3255120"/>
          </a:xfrm>
        </p:grpSpPr>
        <p:sp>
          <p:nvSpPr>
            <p:cNvPr id="3351" name=""/>
            <p:cNvSpPr/>
            <p:nvPr/>
          </p:nvSpPr>
          <p:spPr>
            <a:xfrm>
              <a:off x="631800" y="1181160"/>
              <a:ext cx="0" cy="284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2" name=""/>
            <p:cNvGrpSpPr/>
            <p:nvPr/>
          </p:nvGrpSpPr>
          <p:grpSpPr>
            <a:xfrm>
              <a:off x="631800" y="1944720"/>
              <a:ext cx="2702160" cy="253800"/>
              <a:chOff x="631800" y="1944720"/>
              <a:chExt cx="2702160" cy="253800"/>
            </a:xfrm>
          </p:grpSpPr>
          <p:grpSp>
            <p:nvGrpSpPr>
              <p:cNvPr id="3353" name=""/>
              <p:cNvGrpSpPr/>
              <p:nvPr/>
            </p:nvGrpSpPr>
            <p:grpSpPr>
              <a:xfrm>
                <a:off x="838080" y="2008080"/>
                <a:ext cx="291600" cy="190440"/>
                <a:chOff x="838080" y="2008080"/>
                <a:chExt cx="291600" cy="190440"/>
              </a:xfrm>
            </p:grpSpPr>
            <p:sp>
              <p:nvSpPr>
                <p:cNvPr id="3354" name=""/>
                <p:cNvSpPr/>
                <p:nvPr/>
              </p:nvSpPr>
              <p:spPr>
                <a:xfrm>
                  <a:off x="839520" y="2008080"/>
                  <a:ext cx="289800" cy="190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>
                  <a:off x="882720" y="2055240"/>
                  <a:ext cx="20484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 flipV="1">
                  <a:off x="839520" y="2008080"/>
                  <a:ext cx="286920" cy="18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>
                  <a:off x="838080" y="2008080"/>
                  <a:ext cx="291600" cy="18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8" name=""/>
              <p:cNvSpPr/>
              <p:nvPr/>
            </p:nvSpPr>
            <p:spPr>
              <a:xfrm>
                <a:off x="985680" y="1944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1121760" y="1978920"/>
                <a:ext cx="2212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Panzergrenadier Company (Mtz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631800" y="2098440"/>
                <a:ext cx="210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1" name=""/>
            <p:cNvSpPr/>
            <p:nvPr/>
          </p:nvSpPr>
          <p:spPr>
            <a:xfrm>
              <a:off x="846000" y="1752480"/>
              <a:ext cx="16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2" name=""/>
            <p:cNvGrpSpPr/>
            <p:nvPr/>
          </p:nvGrpSpPr>
          <p:grpSpPr>
            <a:xfrm>
              <a:off x="446040" y="888840"/>
              <a:ext cx="364680" cy="301320"/>
              <a:chOff x="446040" y="888840"/>
              <a:chExt cx="364680" cy="301320"/>
            </a:xfrm>
          </p:grpSpPr>
          <p:grpSp>
            <p:nvGrpSpPr>
              <p:cNvPr id="3363" name=""/>
              <p:cNvGrpSpPr/>
              <p:nvPr/>
            </p:nvGrpSpPr>
            <p:grpSpPr>
              <a:xfrm>
                <a:off x="599760" y="888840"/>
                <a:ext cx="76320" cy="63360"/>
                <a:chOff x="599760" y="888840"/>
                <a:chExt cx="76320" cy="63360"/>
              </a:xfrm>
            </p:grpSpPr>
            <p:sp>
              <p:nvSpPr>
                <p:cNvPr id="3364" name=""/>
                <p:cNvSpPr/>
                <p:nvPr/>
              </p:nvSpPr>
              <p:spPr>
                <a:xfrm>
                  <a:off x="599760" y="888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>
                  <a:off x="676080" y="888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6" name=""/>
              <p:cNvGrpSpPr/>
              <p:nvPr/>
            </p:nvGrpSpPr>
            <p:grpSpPr>
              <a:xfrm>
                <a:off x="446040" y="952200"/>
                <a:ext cx="364680" cy="237960"/>
                <a:chOff x="446040" y="952200"/>
                <a:chExt cx="364680" cy="237960"/>
              </a:xfrm>
            </p:grpSpPr>
            <p:sp>
              <p:nvSpPr>
                <p:cNvPr id="3367" name=""/>
                <p:cNvSpPr/>
                <p:nvPr/>
              </p:nvSpPr>
              <p:spPr>
                <a:xfrm>
                  <a:off x="447840" y="952200"/>
                  <a:ext cx="362880" cy="237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>
                  <a:off x="501840" y="1011240"/>
                  <a:ext cx="256320" cy="11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 flipV="1">
                  <a:off x="447840" y="952200"/>
                  <a:ext cx="358920" cy="236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446040" y="952200"/>
                  <a:ext cx="364680" cy="232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71" name=""/>
            <p:cNvSpPr/>
            <p:nvPr/>
          </p:nvSpPr>
          <p:spPr>
            <a:xfrm>
              <a:off x="828720" y="2203560"/>
              <a:ext cx="16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808200" y="3591000"/>
              <a:ext cx="164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FIRE SUPPORT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3" name=""/>
            <p:cNvGrpSpPr/>
            <p:nvPr/>
          </p:nvGrpSpPr>
          <p:grpSpPr>
            <a:xfrm>
              <a:off x="623880" y="3717360"/>
              <a:ext cx="2177640" cy="426600"/>
              <a:chOff x="623880" y="3717360"/>
              <a:chExt cx="2177640" cy="426600"/>
            </a:xfrm>
          </p:grpSpPr>
          <p:sp>
            <p:nvSpPr>
              <p:cNvPr id="3374" name=""/>
              <p:cNvSpPr/>
              <p:nvPr/>
            </p:nvSpPr>
            <p:spPr>
              <a:xfrm>
                <a:off x="623880" y="4029120"/>
                <a:ext cx="211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5" name=""/>
              <p:cNvGrpSpPr/>
              <p:nvPr/>
            </p:nvGrpSpPr>
            <p:grpSpPr>
              <a:xfrm>
                <a:off x="808200" y="3876840"/>
                <a:ext cx="291600" cy="246600"/>
                <a:chOff x="808200" y="3876840"/>
                <a:chExt cx="291600" cy="246600"/>
              </a:xfrm>
            </p:grpSpPr>
            <p:grpSp>
              <p:nvGrpSpPr>
                <p:cNvPr id="3376" name=""/>
                <p:cNvGrpSpPr/>
                <p:nvPr/>
              </p:nvGrpSpPr>
              <p:grpSpPr>
                <a:xfrm>
                  <a:off x="887400" y="3876840"/>
                  <a:ext cx="131760" cy="26640"/>
                  <a:chOff x="887400" y="3876840"/>
                  <a:chExt cx="131760" cy="26640"/>
                </a:xfrm>
              </p:grpSpPr>
              <p:sp>
                <p:nvSpPr>
                  <p:cNvPr id="3377" name=""/>
                  <p:cNvSpPr/>
                  <p:nvPr/>
                </p:nvSpPr>
                <p:spPr>
                  <a:xfrm>
                    <a:off x="887400" y="38768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8" name=""/>
                  <p:cNvSpPr/>
                  <p:nvPr/>
                </p:nvSpPr>
                <p:spPr>
                  <a:xfrm>
                    <a:off x="938160" y="38768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9" name=""/>
                  <p:cNvSpPr/>
                  <p:nvPr/>
                </p:nvSpPr>
                <p:spPr>
                  <a:xfrm>
                    <a:off x="992160" y="38768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0" name=""/>
                <p:cNvGrpSpPr/>
                <p:nvPr/>
              </p:nvGrpSpPr>
              <p:grpSpPr>
                <a:xfrm>
                  <a:off x="808200" y="3933720"/>
                  <a:ext cx="291600" cy="189720"/>
                  <a:chOff x="808200" y="3933720"/>
                  <a:chExt cx="291600" cy="189720"/>
                </a:xfrm>
              </p:grpSpPr>
              <p:sp>
                <p:nvSpPr>
                  <p:cNvPr id="3381" name=""/>
                  <p:cNvSpPr/>
                  <p:nvPr/>
                </p:nvSpPr>
                <p:spPr>
                  <a:xfrm>
                    <a:off x="808200" y="3933720"/>
                    <a:ext cx="291600" cy="189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2" name=""/>
                  <p:cNvSpPr/>
                  <p:nvPr/>
                </p:nvSpPr>
                <p:spPr>
                  <a:xfrm flipV="1">
                    <a:off x="910440" y="4073400"/>
                    <a:ext cx="77040" cy="14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3" name=""/>
                  <p:cNvSpPr/>
                  <p:nvPr/>
                </p:nvSpPr>
                <p:spPr>
                  <a:xfrm>
                    <a:off x="949320" y="3971880"/>
                    <a:ext cx="0" cy="10152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84" name=""/>
              <p:cNvSpPr/>
              <p:nvPr/>
            </p:nvSpPr>
            <p:spPr>
              <a:xfrm>
                <a:off x="1068480" y="3717360"/>
                <a:ext cx="1585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1124640" y="3928320"/>
                <a:ext cx="1676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Heavy Mortar Plato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FS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885960" y="3354480"/>
              <a:ext cx="231480" cy="226080"/>
              <a:chOff x="885960" y="3354480"/>
              <a:chExt cx="231480" cy="226080"/>
            </a:xfrm>
          </p:grpSpPr>
          <p:grpSp>
            <p:nvGrpSpPr>
              <p:cNvPr id="3387" name=""/>
              <p:cNvGrpSpPr/>
              <p:nvPr/>
            </p:nvGrpSpPr>
            <p:grpSpPr>
              <a:xfrm>
                <a:off x="885960" y="3390840"/>
                <a:ext cx="231480" cy="189720"/>
                <a:chOff x="885960" y="3390840"/>
                <a:chExt cx="231480" cy="189720"/>
              </a:xfrm>
            </p:grpSpPr>
            <p:sp>
              <p:nvSpPr>
                <p:cNvPr id="3388" name=""/>
                <p:cNvSpPr/>
                <p:nvPr/>
              </p:nvSpPr>
              <p:spPr>
                <a:xfrm>
                  <a:off x="885960" y="3390840"/>
                  <a:ext cx="231480" cy="1566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>
                  <a:off x="896400" y="355320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>
                  <a:off x="1078200" y="355320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1" name=""/>
              <p:cNvGrpSpPr/>
              <p:nvPr/>
            </p:nvGrpSpPr>
            <p:grpSpPr>
              <a:xfrm>
                <a:off x="963720" y="3354480"/>
                <a:ext cx="74520" cy="28080"/>
                <a:chOff x="963720" y="3354480"/>
                <a:chExt cx="74520" cy="28080"/>
              </a:xfrm>
            </p:grpSpPr>
            <p:sp>
              <p:nvSpPr>
                <p:cNvPr id="3392" name=""/>
                <p:cNvSpPr/>
                <p:nvPr/>
              </p:nvSpPr>
              <p:spPr>
                <a:xfrm>
                  <a:off x="963720" y="33544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>
                  <a:off x="1011240" y="33559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94" name=""/>
            <p:cNvGrpSpPr/>
            <p:nvPr/>
          </p:nvGrpSpPr>
          <p:grpSpPr>
            <a:xfrm>
              <a:off x="885960" y="3014640"/>
              <a:ext cx="239400" cy="194760"/>
              <a:chOff x="885960" y="3014640"/>
              <a:chExt cx="239400" cy="194760"/>
            </a:xfrm>
          </p:grpSpPr>
          <p:grpSp>
            <p:nvGrpSpPr>
              <p:cNvPr id="3395" name=""/>
              <p:cNvGrpSpPr/>
              <p:nvPr/>
            </p:nvGrpSpPr>
            <p:grpSpPr>
              <a:xfrm>
                <a:off x="885960" y="3051360"/>
                <a:ext cx="239400" cy="158040"/>
                <a:chOff x="885960" y="3051360"/>
                <a:chExt cx="239400" cy="158040"/>
              </a:xfrm>
            </p:grpSpPr>
            <p:sp>
              <p:nvSpPr>
                <p:cNvPr id="3396" name=""/>
                <p:cNvSpPr/>
                <p:nvPr/>
              </p:nvSpPr>
              <p:spPr>
                <a:xfrm>
                  <a:off x="885960" y="3052800"/>
                  <a:ext cx="239400" cy="1566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>
                  <a:off x="944280" y="3127320"/>
                  <a:ext cx="118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 flipV="1">
                  <a:off x="885960" y="3052440"/>
                  <a:ext cx="115560" cy="155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>
                  <a:off x="1001520" y="3051360"/>
                  <a:ext cx="12348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0" name=""/>
              <p:cNvGrpSpPr/>
              <p:nvPr/>
            </p:nvGrpSpPr>
            <p:grpSpPr>
              <a:xfrm>
                <a:off x="958680" y="3014640"/>
                <a:ext cx="73800" cy="28080"/>
                <a:chOff x="958680" y="3014640"/>
                <a:chExt cx="73800" cy="28080"/>
              </a:xfrm>
            </p:grpSpPr>
            <p:sp>
              <p:nvSpPr>
                <p:cNvPr id="3401" name=""/>
                <p:cNvSpPr/>
                <p:nvPr/>
              </p:nvSpPr>
              <p:spPr>
                <a:xfrm>
                  <a:off x="958680" y="301464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1005840" y="30160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03" name=""/>
            <p:cNvSpPr/>
            <p:nvPr/>
          </p:nvSpPr>
          <p:spPr>
            <a:xfrm>
              <a:off x="631800" y="311940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4" name=""/>
            <p:cNvGrpSpPr/>
            <p:nvPr/>
          </p:nvGrpSpPr>
          <p:grpSpPr>
            <a:xfrm>
              <a:off x="639720" y="2417760"/>
              <a:ext cx="2160000" cy="542160"/>
              <a:chOff x="639720" y="2417760"/>
              <a:chExt cx="2160000" cy="542160"/>
            </a:xfrm>
          </p:grpSpPr>
          <p:sp>
            <p:nvSpPr>
              <p:cNvPr id="3405" name=""/>
              <p:cNvSpPr/>
              <p:nvPr/>
            </p:nvSpPr>
            <p:spPr>
              <a:xfrm>
                <a:off x="1113120" y="2430000"/>
                <a:ext cx="1686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k38 50mm AT Gun   GE-4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6" name=""/>
              <p:cNvGrpSpPr/>
              <p:nvPr/>
            </p:nvGrpSpPr>
            <p:grpSpPr>
              <a:xfrm>
                <a:off x="639720" y="2417760"/>
                <a:ext cx="470880" cy="518760"/>
                <a:chOff x="639720" y="2417760"/>
                <a:chExt cx="470880" cy="518760"/>
              </a:xfrm>
            </p:grpSpPr>
            <p:grpSp>
              <p:nvGrpSpPr>
                <p:cNvPr id="3407" name=""/>
                <p:cNvGrpSpPr/>
                <p:nvPr/>
              </p:nvGrpSpPr>
              <p:grpSpPr>
                <a:xfrm>
                  <a:off x="639720" y="2417760"/>
                  <a:ext cx="468000" cy="193680"/>
                  <a:chOff x="639720" y="2417760"/>
                  <a:chExt cx="468000" cy="193680"/>
                </a:xfrm>
              </p:grpSpPr>
              <p:sp>
                <p:nvSpPr>
                  <p:cNvPr id="3408" name=""/>
                  <p:cNvSpPr/>
                  <p:nvPr/>
                </p:nvSpPr>
                <p:spPr>
                  <a:xfrm>
                    <a:off x="639720" y="2514600"/>
                    <a:ext cx="2746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09" name=""/>
                  <p:cNvGrpSpPr/>
                  <p:nvPr/>
                </p:nvGrpSpPr>
                <p:grpSpPr>
                  <a:xfrm>
                    <a:off x="876240" y="2417760"/>
                    <a:ext cx="231480" cy="193680"/>
                    <a:chOff x="876240" y="2417760"/>
                    <a:chExt cx="231480" cy="193680"/>
                  </a:xfrm>
                </p:grpSpPr>
                <p:grpSp>
                  <p:nvGrpSpPr>
                    <p:cNvPr id="3410" name=""/>
                    <p:cNvGrpSpPr/>
                    <p:nvPr/>
                  </p:nvGrpSpPr>
                  <p:grpSpPr>
                    <a:xfrm>
                      <a:off x="876240" y="2454480"/>
                      <a:ext cx="231480" cy="156960"/>
                      <a:chOff x="876240" y="2454480"/>
                      <a:chExt cx="231480" cy="156960"/>
                    </a:xfrm>
                  </p:grpSpPr>
                  <p:sp>
                    <p:nvSpPr>
                      <p:cNvPr id="3411" name=""/>
                      <p:cNvSpPr/>
                      <p:nvPr/>
                    </p:nvSpPr>
                    <p:spPr>
                      <a:xfrm>
                        <a:off x="876240" y="245448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2" name=""/>
                      <p:cNvSpPr/>
                      <p:nvPr/>
                    </p:nvSpPr>
                    <p:spPr>
                      <a:xfrm flipV="1">
                        <a:off x="876240" y="2457720"/>
                        <a:ext cx="11376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3" name=""/>
                      <p:cNvSpPr/>
                      <p:nvPr/>
                    </p:nvSpPr>
                    <p:spPr>
                      <a:xfrm>
                        <a:off x="990000" y="2454480"/>
                        <a:ext cx="11376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14" name=""/>
                    <p:cNvGrpSpPr/>
                    <p:nvPr/>
                  </p:nvGrpSpPr>
                  <p:grpSpPr>
                    <a:xfrm>
                      <a:off x="955440" y="2417760"/>
                      <a:ext cx="74520" cy="28800"/>
                      <a:chOff x="955440" y="2417760"/>
                      <a:chExt cx="74520" cy="28800"/>
                    </a:xfrm>
                  </p:grpSpPr>
                  <p:sp>
                    <p:nvSpPr>
                      <p:cNvPr id="3415" name=""/>
                      <p:cNvSpPr/>
                      <p:nvPr/>
                    </p:nvSpPr>
                    <p:spPr>
                      <a:xfrm>
                        <a:off x="955440" y="241776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6" name=""/>
                      <p:cNvSpPr/>
                      <p:nvPr/>
                    </p:nvSpPr>
                    <p:spPr>
                      <a:xfrm>
                        <a:off x="1002960" y="241956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417" name=""/>
                <p:cNvGrpSpPr/>
                <p:nvPr/>
              </p:nvGrpSpPr>
              <p:grpSpPr>
                <a:xfrm>
                  <a:off x="871200" y="2711160"/>
                  <a:ext cx="239400" cy="225360"/>
                  <a:chOff x="871200" y="2711160"/>
                  <a:chExt cx="239400" cy="225360"/>
                </a:xfrm>
              </p:grpSpPr>
              <p:grpSp>
                <p:nvGrpSpPr>
                  <p:cNvPr id="3418" name=""/>
                  <p:cNvGrpSpPr/>
                  <p:nvPr/>
                </p:nvGrpSpPr>
                <p:grpSpPr>
                  <a:xfrm>
                    <a:off x="871200" y="2747520"/>
                    <a:ext cx="239400" cy="189000"/>
                    <a:chOff x="871200" y="2747520"/>
                    <a:chExt cx="239400" cy="189000"/>
                  </a:xfrm>
                </p:grpSpPr>
                <p:sp>
                  <p:nvSpPr>
                    <p:cNvPr id="3419" name=""/>
                    <p:cNvSpPr/>
                    <p:nvPr/>
                  </p:nvSpPr>
                  <p:spPr>
                    <a:xfrm>
                      <a:off x="871200" y="2747520"/>
                      <a:ext cx="23940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0" name=""/>
                    <p:cNvSpPr/>
                    <p:nvPr/>
                  </p:nvSpPr>
                  <p:spPr>
                    <a:xfrm>
                      <a:off x="884880" y="290952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1" name=""/>
                    <p:cNvSpPr/>
                    <p:nvPr/>
                  </p:nvSpPr>
                  <p:spPr>
                    <a:xfrm>
                      <a:off x="997560" y="29080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2" name=""/>
                    <p:cNvSpPr/>
                    <p:nvPr/>
                  </p:nvSpPr>
                  <p:spPr>
                    <a:xfrm>
                      <a:off x="1073880" y="29080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3" name=""/>
                    <p:cNvSpPr/>
                    <p:nvPr/>
                  </p:nvSpPr>
                  <p:spPr>
                    <a:xfrm>
                      <a:off x="1018440" y="2908080"/>
                      <a:ext cx="61560" cy="27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24" name=""/>
                  <p:cNvGrpSpPr/>
                  <p:nvPr/>
                </p:nvGrpSpPr>
                <p:grpSpPr>
                  <a:xfrm>
                    <a:off x="953640" y="2711160"/>
                    <a:ext cx="74520" cy="28080"/>
                    <a:chOff x="953640" y="2711160"/>
                    <a:chExt cx="74520" cy="28080"/>
                  </a:xfrm>
                </p:grpSpPr>
                <p:sp>
                  <p:nvSpPr>
                    <p:cNvPr id="3425" name=""/>
                    <p:cNvSpPr/>
                    <p:nvPr/>
                  </p:nvSpPr>
                  <p:spPr>
                    <a:xfrm>
                      <a:off x="953640" y="27111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6" name=""/>
                    <p:cNvSpPr/>
                    <p:nvPr/>
                  </p:nvSpPr>
                  <p:spPr>
                    <a:xfrm>
                      <a:off x="1001160" y="27126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427" name=""/>
                <p:cNvSpPr/>
                <p:nvPr/>
              </p:nvSpPr>
              <p:spPr>
                <a:xfrm>
                  <a:off x="930240" y="2611440"/>
                  <a:ext cx="0" cy="156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8" name=""/>
              <p:cNvSpPr/>
              <p:nvPr/>
            </p:nvSpPr>
            <p:spPr>
              <a:xfrm>
                <a:off x="1124280" y="255996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1113120" y="2744280"/>
                <a:ext cx="1669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dKfz 10                      GE-2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0" name=""/>
            <p:cNvSpPr/>
            <p:nvPr/>
          </p:nvSpPr>
          <p:spPr>
            <a:xfrm>
              <a:off x="1115280" y="3017160"/>
              <a:ext cx="1596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mm Flak AA Gun   GE-4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1127520" y="320148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1116720" y="3369600"/>
              <a:ext cx="158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 Truck                GE-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930240" y="3201840"/>
              <a:ext cx="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4" name=""/>
            <p:cNvGrpSpPr/>
            <p:nvPr/>
          </p:nvGrpSpPr>
          <p:grpSpPr>
            <a:xfrm>
              <a:off x="631800" y="993600"/>
              <a:ext cx="2333520" cy="796320"/>
              <a:chOff x="631800" y="993600"/>
              <a:chExt cx="2333520" cy="796320"/>
            </a:xfrm>
          </p:grpSpPr>
          <p:grpSp>
            <p:nvGrpSpPr>
              <p:cNvPr id="3435" name=""/>
              <p:cNvGrpSpPr/>
              <p:nvPr/>
            </p:nvGrpSpPr>
            <p:grpSpPr>
              <a:xfrm>
                <a:off x="892080" y="1146960"/>
                <a:ext cx="1946160" cy="350640"/>
                <a:chOff x="892080" y="1146960"/>
                <a:chExt cx="1946160" cy="350640"/>
              </a:xfrm>
            </p:grpSpPr>
            <p:sp>
              <p:nvSpPr>
                <p:cNvPr id="3436" name=""/>
                <p:cNvSpPr/>
                <p:nvPr/>
              </p:nvSpPr>
              <p:spPr>
                <a:xfrm>
                  <a:off x="1159200" y="114696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7" name=""/>
                <p:cNvGrpSpPr/>
                <p:nvPr/>
              </p:nvGrpSpPr>
              <p:grpSpPr>
                <a:xfrm>
                  <a:off x="892080" y="1207800"/>
                  <a:ext cx="238320" cy="194760"/>
                  <a:chOff x="892080" y="1207800"/>
                  <a:chExt cx="238320" cy="194760"/>
                </a:xfrm>
              </p:grpSpPr>
              <p:sp>
                <p:nvSpPr>
                  <p:cNvPr id="3438" name=""/>
                  <p:cNvSpPr/>
                  <p:nvPr/>
                </p:nvSpPr>
                <p:spPr>
                  <a:xfrm>
                    <a:off x="892080" y="1244160"/>
                    <a:ext cx="238320" cy="1584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9" name=""/>
                  <p:cNvSpPr/>
                  <p:nvPr/>
                </p:nvSpPr>
                <p:spPr>
                  <a:xfrm>
                    <a:off x="996840" y="12078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0" name=""/>
                <p:cNvSpPr/>
                <p:nvPr/>
              </p:nvSpPr>
              <p:spPr>
                <a:xfrm>
                  <a:off x="1170000" y="1281960"/>
                  <a:ext cx="166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   GE-4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1" name=""/>
              <p:cNvSpPr/>
              <p:nvPr/>
            </p:nvSpPr>
            <p:spPr>
              <a:xfrm>
                <a:off x="631800" y="131436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938160" y="1384200"/>
                <a:ext cx="0" cy="16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3" name=""/>
              <p:cNvGrpSpPr/>
              <p:nvPr/>
            </p:nvGrpSpPr>
            <p:grpSpPr>
              <a:xfrm>
                <a:off x="890640" y="1455120"/>
                <a:ext cx="1935000" cy="334800"/>
                <a:chOff x="890640" y="1455120"/>
                <a:chExt cx="1935000" cy="334800"/>
              </a:xfrm>
            </p:grpSpPr>
            <p:sp>
              <p:nvSpPr>
                <p:cNvPr id="3444" name=""/>
                <p:cNvSpPr/>
                <p:nvPr/>
              </p:nvSpPr>
              <p:spPr>
                <a:xfrm>
                  <a:off x="1133640" y="145512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1186200" y="1574280"/>
                  <a:ext cx="1639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Kubelwagen                GE-3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46" name=""/>
                <p:cNvGrpSpPr/>
                <p:nvPr/>
              </p:nvGrpSpPr>
              <p:grpSpPr>
                <a:xfrm>
                  <a:off x="890640" y="1487520"/>
                  <a:ext cx="231840" cy="237600"/>
                  <a:chOff x="890640" y="1487520"/>
                  <a:chExt cx="231840" cy="237600"/>
                </a:xfrm>
              </p:grpSpPr>
              <p:sp>
                <p:nvSpPr>
                  <p:cNvPr id="3447" name=""/>
                  <p:cNvSpPr/>
                  <p:nvPr/>
                </p:nvSpPr>
                <p:spPr>
                  <a:xfrm>
                    <a:off x="990720" y="14875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48" name=""/>
                  <p:cNvGrpSpPr/>
                  <p:nvPr/>
                </p:nvGrpSpPr>
                <p:grpSpPr>
                  <a:xfrm>
                    <a:off x="890640" y="1535040"/>
                    <a:ext cx="231840" cy="190080"/>
                    <a:chOff x="890640" y="1535040"/>
                    <a:chExt cx="231840" cy="190080"/>
                  </a:xfrm>
                </p:grpSpPr>
                <p:sp>
                  <p:nvSpPr>
                    <p:cNvPr id="3449" name=""/>
                    <p:cNvSpPr/>
                    <p:nvPr/>
                  </p:nvSpPr>
                  <p:spPr>
                    <a:xfrm>
                      <a:off x="890640" y="153504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0" name=""/>
                    <p:cNvSpPr/>
                    <p:nvPr/>
                  </p:nvSpPr>
                  <p:spPr>
                    <a:xfrm>
                      <a:off x="901080" y="1697760"/>
                      <a:ext cx="2736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1" name=""/>
                    <p:cNvSpPr/>
                    <p:nvPr/>
                  </p:nvSpPr>
                  <p:spPr>
                    <a:xfrm>
                      <a:off x="1082880" y="1697760"/>
                      <a:ext cx="2700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452" name=""/>
              <p:cNvSpPr/>
              <p:nvPr/>
            </p:nvSpPr>
            <p:spPr>
              <a:xfrm>
                <a:off x="808200" y="993600"/>
                <a:ext cx="2157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3" name=""/>
          <p:cNvGrpSpPr/>
          <p:nvPr/>
        </p:nvGrpSpPr>
        <p:grpSpPr>
          <a:xfrm>
            <a:off x="3152880" y="825480"/>
            <a:ext cx="2762280" cy="4379040"/>
            <a:chOff x="3152880" y="825480"/>
            <a:chExt cx="2762280" cy="4379040"/>
          </a:xfrm>
        </p:grpSpPr>
        <p:grpSp>
          <p:nvGrpSpPr>
            <p:cNvPr id="3454" name=""/>
            <p:cNvGrpSpPr/>
            <p:nvPr/>
          </p:nvGrpSpPr>
          <p:grpSpPr>
            <a:xfrm>
              <a:off x="3336840" y="2152800"/>
              <a:ext cx="2578320" cy="299160"/>
              <a:chOff x="3336840" y="2152800"/>
              <a:chExt cx="2578320" cy="299160"/>
            </a:xfrm>
          </p:grpSpPr>
          <p:sp>
            <p:nvSpPr>
              <p:cNvPr id="3455" name=""/>
              <p:cNvSpPr/>
              <p:nvPr/>
            </p:nvSpPr>
            <p:spPr>
              <a:xfrm>
                <a:off x="3336840" y="232272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3946680" y="2228400"/>
                <a:ext cx="1968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Panzergrenadier Bn (Mtz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BG-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7" name=""/>
              <p:cNvGrpSpPr/>
              <p:nvPr/>
            </p:nvGrpSpPr>
            <p:grpSpPr>
              <a:xfrm>
                <a:off x="3570480" y="2152800"/>
                <a:ext cx="364680" cy="299160"/>
                <a:chOff x="3570480" y="2152800"/>
                <a:chExt cx="364680" cy="299160"/>
              </a:xfrm>
            </p:grpSpPr>
            <p:grpSp>
              <p:nvGrpSpPr>
                <p:cNvPr id="3458" name=""/>
                <p:cNvGrpSpPr/>
                <p:nvPr/>
              </p:nvGrpSpPr>
              <p:grpSpPr>
                <a:xfrm>
                  <a:off x="3714840" y="2152800"/>
                  <a:ext cx="76320" cy="63000"/>
                  <a:chOff x="3714840" y="2152800"/>
                  <a:chExt cx="76320" cy="63000"/>
                </a:xfrm>
              </p:grpSpPr>
              <p:sp>
                <p:nvSpPr>
                  <p:cNvPr id="3459" name=""/>
                  <p:cNvSpPr/>
                  <p:nvPr/>
                </p:nvSpPr>
                <p:spPr>
                  <a:xfrm>
                    <a:off x="3714840" y="2152800"/>
                    <a:ext cx="0" cy="630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0" name=""/>
                  <p:cNvSpPr/>
                  <p:nvPr/>
                </p:nvSpPr>
                <p:spPr>
                  <a:xfrm>
                    <a:off x="3791160" y="2152800"/>
                    <a:ext cx="0" cy="630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1" name=""/>
                <p:cNvGrpSpPr/>
                <p:nvPr/>
              </p:nvGrpSpPr>
              <p:grpSpPr>
                <a:xfrm>
                  <a:off x="3570480" y="2214000"/>
                  <a:ext cx="364680" cy="237960"/>
                  <a:chOff x="3570480" y="2214000"/>
                  <a:chExt cx="364680" cy="237960"/>
                </a:xfrm>
              </p:grpSpPr>
              <p:sp>
                <p:nvSpPr>
                  <p:cNvPr id="3462" name=""/>
                  <p:cNvSpPr/>
                  <p:nvPr/>
                </p:nvSpPr>
                <p:spPr>
                  <a:xfrm>
                    <a:off x="3572280" y="2214360"/>
                    <a:ext cx="362880" cy="237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3" name=""/>
                  <p:cNvSpPr/>
                  <p:nvPr/>
                </p:nvSpPr>
                <p:spPr>
                  <a:xfrm>
                    <a:off x="3626280" y="2273400"/>
                    <a:ext cx="256320" cy="113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4" name=""/>
                  <p:cNvSpPr/>
                  <p:nvPr/>
                </p:nvSpPr>
                <p:spPr>
                  <a:xfrm flipV="1">
                    <a:off x="3572280" y="2214000"/>
                    <a:ext cx="358920" cy="2358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5" name=""/>
                  <p:cNvSpPr/>
                  <p:nvPr/>
                </p:nvSpPr>
                <p:spPr>
                  <a:xfrm>
                    <a:off x="3570480" y="2214360"/>
                    <a:ext cx="364680" cy="232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466" name=""/>
            <p:cNvSpPr/>
            <p:nvPr/>
          </p:nvSpPr>
          <p:spPr>
            <a:xfrm flipH="1">
              <a:off x="3336480" y="1127160"/>
              <a:ext cx="1800" cy="364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4002120" y="2016000"/>
              <a:ext cx="112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3968640" y="2490840"/>
              <a:ext cx="138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9" name=""/>
            <p:cNvGrpSpPr/>
            <p:nvPr/>
          </p:nvGrpSpPr>
          <p:grpSpPr>
            <a:xfrm>
              <a:off x="3152880" y="825480"/>
              <a:ext cx="364680" cy="304560"/>
              <a:chOff x="3152880" y="825480"/>
              <a:chExt cx="364680" cy="304560"/>
            </a:xfrm>
          </p:grpSpPr>
          <p:grpSp>
            <p:nvGrpSpPr>
              <p:cNvPr id="3470" name=""/>
              <p:cNvGrpSpPr/>
              <p:nvPr/>
            </p:nvGrpSpPr>
            <p:grpSpPr>
              <a:xfrm>
                <a:off x="3270240" y="825480"/>
                <a:ext cx="131760" cy="64800"/>
                <a:chOff x="3270240" y="825480"/>
                <a:chExt cx="131760" cy="64800"/>
              </a:xfrm>
            </p:grpSpPr>
            <p:sp>
              <p:nvSpPr>
                <p:cNvPr id="3471" name=""/>
                <p:cNvSpPr/>
                <p:nvPr/>
              </p:nvSpPr>
              <p:spPr>
                <a:xfrm>
                  <a:off x="3337200" y="8269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72" name=""/>
                <p:cNvGrpSpPr/>
                <p:nvPr/>
              </p:nvGrpSpPr>
              <p:grpSpPr>
                <a:xfrm>
                  <a:off x="3270240" y="825480"/>
                  <a:ext cx="131760" cy="64800"/>
                  <a:chOff x="3270240" y="825480"/>
                  <a:chExt cx="131760" cy="64800"/>
                </a:xfrm>
              </p:grpSpPr>
              <p:sp>
                <p:nvSpPr>
                  <p:cNvPr id="3473" name=""/>
                  <p:cNvSpPr/>
                  <p:nvPr/>
                </p:nvSpPr>
                <p:spPr>
                  <a:xfrm>
                    <a:off x="3270240" y="8269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4" name=""/>
                  <p:cNvSpPr/>
                  <p:nvPr/>
                </p:nvSpPr>
                <p:spPr>
                  <a:xfrm>
                    <a:off x="3402000" y="8254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75" name=""/>
              <p:cNvGrpSpPr/>
              <p:nvPr/>
            </p:nvGrpSpPr>
            <p:grpSpPr>
              <a:xfrm>
                <a:off x="3152880" y="892080"/>
                <a:ext cx="364680" cy="237960"/>
                <a:chOff x="3152880" y="892080"/>
                <a:chExt cx="364680" cy="237960"/>
              </a:xfrm>
            </p:grpSpPr>
            <p:sp>
              <p:nvSpPr>
                <p:cNvPr id="3476" name=""/>
                <p:cNvSpPr/>
                <p:nvPr/>
              </p:nvSpPr>
              <p:spPr>
                <a:xfrm>
                  <a:off x="3154680" y="892080"/>
                  <a:ext cx="362880" cy="237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3208680" y="951120"/>
                  <a:ext cx="256320" cy="11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 flipV="1">
                  <a:off x="3154680" y="892080"/>
                  <a:ext cx="358920" cy="236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3152880" y="892080"/>
                  <a:ext cx="364680" cy="232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80" name=""/>
            <p:cNvGrpSpPr/>
            <p:nvPr/>
          </p:nvGrpSpPr>
          <p:grpSpPr>
            <a:xfrm>
              <a:off x="3341520" y="2617920"/>
              <a:ext cx="2270880" cy="257400"/>
              <a:chOff x="3341520" y="2617920"/>
              <a:chExt cx="2270880" cy="257400"/>
            </a:xfrm>
          </p:grpSpPr>
          <p:sp>
            <p:nvSpPr>
              <p:cNvPr id="3481" name=""/>
              <p:cNvSpPr/>
              <p:nvPr/>
            </p:nvSpPr>
            <p:spPr>
              <a:xfrm>
                <a:off x="3341520" y="274788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3840840" y="2659680"/>
                <a:ext cx="1771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Light Flak Platoon (SP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3" name=""/>
              <p:cNvGrpSpPr/>
              <p:nvPr/>
            </p:nvGrpSpPr>
            <p:grpSpPr>
              <a:xfrm>
                <a:off x="3581280" y="2617920"/>
                <a:ext cx="291960" cy="235440"/>
                <a:chOff x="3581280" y="2617920"/>
                <a:chExt cx="291960" cy="235440"/>
              </a:xfrm>
            </p:grpSpPr>
            <p:grpSp>
              <p:nvGrpSpPr>
                <p:cNvPr id="3484" name=""/>
                <p:cNvGrpSpPr/>
                <p:nvPr/>
              </p:nvGrpSpPr>
              <p:grpSpPr>
                <a:xfrm>
                  <a:off x="3656160" y="2617920"/>
                  <a:ext cx="131760" cy="26640"/>
                  <a:chOff x="3656160" y="2617920"/>
                  <a:chExt cx="131760" cy="26640"/>
                </a:xfrm>
              </p:grpSpPr>
              <p:sp>
                <p:nvSpPr>
                  <p:cNvPr id="3485" name=""/>
                  <p:cNvSpPr/>
                  <p:nvPr/>
                </p:nvSpPr>
                <p:spPr>
                  <a:xfrm>
                    <a:off x="3656160" y="26179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6" name=""/>
                  <p:cNvSpPr/>
                  <p:nvPr/>
                </p:nvSpPr>
                <p:spPr>
                  <a:xfrm>
                    <a:off x="3706920" y="26179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7" name=""/>
                  <p:cNvSpPr/>
                  <p:nvPr/>
                </p:nvSpPr>
                <p:spPr>
                  <a:xfrm>
                    <a:off x="3760920" y="26179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88" name=""/>
                <p:cNvGrpSpPr/>
                <p:nvPr/>
              </p:nvGrpSpPr>
              <p:grpSpPr>
                <a:xfrm>
                  <a:off x="3581280" y="2660400"/>
                  <a:ext cx="291960" cy="192960"/>
                  <a:chOff x="3581280" y="2660400"/>
                  <a:chExt cx="291960" cy="192960"/>
                </a:xfrm>
              </p:grpSpPr>
              <p:sp>
                <p:nvSpPr>
                  <p:cNvPr id="3489" name=""/>
                  <p:cNvSpPr/>
                  <p:nvPr/>
                </p:nvSpPr>
                <p:spPr>
                  <a:xfrm>
                    <a:off x="3581280" y="2662560"/>
                    <a:ext cx="291960" cy="1908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0" name=""/>
                  <p:cNvSpPr/>
                  <p:nvPr/>
                </p:nvSpPr>
                <p:spPr>
                  <a:xfrm>
                    <a:off x="3652560" y="2753280"/>
                    <a:ext cx="1450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1" name=""/>
                  <p:cNvSpPr/>
                  <p:nvPr/>
                </p:nvSpPr>
                <p:spPr>
                  <a:xfrm flipV="1">
                    <a:off x="3581280" y="2662200"/>
                    <a:ext cx="141120" cy="189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2" name=""/>
                  <p:cNvSpPr/>
                  <p:nvPr/>
                </p:nvSpPr>
                <p:spPr>
                  <a:xfrm>
                    <a:off x="3722400" y="2660400"/>
                    <a:ext cx="150840" cy="189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493" name=""/>
            <p:cNvGrpSpPr/>
            <p:nvPr/>
          </p:nvGrpSpPr>
          <p:grpSpPr>
            <a:xfrm>
              <a:off x="3341520" y="1231920"/>
              <a:ext cx="2333520" cy="795240"/>
              <a:chOff x="3341520" y="1231920"/>
              <a:chExt cx="2333520" cy="795240"/>
            </a:xfrm>
          </p:grpSpPr>
          <p:grpSp>
            <p:nvGrpSpPr>
              <p:cNvPr id="3494" name=""/>
              <p:cNvGrpSpPr/>
              <p:nvPr/>
            </p:nvGrpSpPr>
            <p:grpSpPr>
              <a:xfrm>
                <a:off x="3601800" y="1384920"/>
                <a:ext cx="1946160" cy="349920"/>
                <a:chOff x="3601800" y="1384920"/>
                <a:chExt cx="1946160" cy="349920"/>
              </a:xfrm>
            </p:grpSpPr>
            <p:sp>
              <p:nvSpPr>
                <p:cNvPr id="3495" name=""/>
                <p:cNvSpPr/>
                <p:nvPr/>
              </p:nvSpPr>
              <p:spPr>
                <a:xfrm>
                  <a:off x="3868920" y="138492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6" name=""/>
                <p:cNvGrpSpPr/>
                <p:nvPr/>
              </p:nvGrpSpPr>
              <p:grpSpPr>
                <a:xfrm>
                  <a:off x="3601800" y="1445400"/>
                  <a:ext cx="238320" cy="194400"/>
                  <a:chOff x="3601800" y="1445400"/>
                  <a:chExt cx="238320" cy="194400"/>
                </a:xfrm>
              </p:grpSpPr>
              <p:sp>
                <p:nvSpPr>
                  <p:cNvPr id="3497" name=""/>
                  <p:cNvSpPr/>
                  <p:nvPr/>
                </p:nvSpPr>
                <p:spPr>
                  <a:xfrm>
                    <a:off x="3601800" y="1481760"/>
                    <a:ext cx="238320" cy="158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8" name=""/>
                  <p:cNvSpPr/>
                  <p:nvPr/>
                </p:nvSpPr>
                <p:spPr>
                  <a:xfrm>
                    <a:off x="3706560" y="14454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99" name=""/>
                <p:cNvSpPr/>
                <p:nvPr/>
              </p:nvSpPr>
              <p:spPr>
                <a:xfrm>
                  <a:off x="3879720" y="1519200"/>
                  <a:ext cx="166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   GE-4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0" name=""/>
              <p:cNvSpPr/>
              <p:nvPr/>
            </p:nvSpPr>
            <p:spPr>
              <a:xfrm>
                <a:off x="3341520" y="155232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3647880" y="1622160"/>
                <a:ext cx="0" cy="1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2" name=""/>
              <p:cNvGrpSpPr/>
              <p:nvPr/>
            </p:nvGrpSpPr>
            <p:grpSpPr>
              <a:xfrm>
                <a:off x="3600360" y="1693080"/>
                <a:ext cx="1935000" cy="334080"/>
                <a:chOff x="3600360" y="1693080"/>
                <a:chExt cx="1935000" cy="334080"/>
              </a:xfrm>
            </p:grpSpPr>
            <p:sp>
              <p:nvSpPr>
                <p:cNvPr id="3503" name=""/>
                <p:cNvSpPr/>
                <p:nvPr/>
              </p:nvSpPr>
              <p:spPr>
                <a:xfrm>
                  <a:off x="3843360" y="169308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4" name=""/>
                <p:cNvSpPr/>
                <p:nvPr/>
              </p:nvSpPr>
              <p:spPr>
                <a:xfrm>
                  <a:off x="3895920" y="1811520"/>
                  <a:ext cx="1639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Kubelwagen                GE-3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05" name=""/>
                <p:cNvGrpSpPr/>
                <p:nvPr/>
              </p:nvGrpSpPr>
              <p:grpSpPr>
                <a:xfrm>
                  <a:off x="3600360" y="1725120"/>
                  <a:ext cx="231840" cy="236880"/>
                  <a:chOff x="3600360" y="1725120"/>
                  <a:chExt cx="231840" cy="236880"/>
                </a:xfrm>
              </p:grpSpPr>
              <p:sp>
                <p:nvSpPr>
                  <p:cNvPr id="3506" name=""/>
                  <p:cNvSpPr/>
                  <p:nvPr/>
                </p:nvSpPr>
                <p:spPr>
                  <a:xfrm>
                    <a:off x="3700440" y="17251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07" name=""/>
                  <p:cNvGrpSpPr/>
                  <p:nvPr/>
                </p:nvGrpSpPr>
                <p:grpSpPr>
                  <a:xfrm>
                    <a:off x="3600360" y="1772280"/>
                    <a:ext cx="231840" cy="189720"/>
                    <a:chOff x="3600360" y="1772280"/>
                    <a:chExt cx="231840" cy="189720"/>
                  </a:xfrm>
                </p:grpSpPr>
                <p:sp>
                  <p:nvSpPr>
                    <p:cNvPr id="3508" name=""/>
                    <p:cNvSpPr/>
                    <p:nvPr/>
                  </p:nvSpPr>
                  <p:spPr>
                    <a:xfrm>
                      <a:off x="3600360" y="1772280"/>
                      <a:ext cx="231840" cy="1566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9" name=""/>
                    <p:cNvSpPr/>
                    <p:nvPr/>
                  </p:nvSpPr>
                  <p:spPr>
                    <a:xfrm>
                      <a:off x="3610800" y="1934640"/>
                      <a:ext cx="2736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0" name=""/>
                    <p:cNvSpPr/>
                    <p:nvPr/>
                  </p:nvSpPr>
                  <p:spPr>
                    <a:xfrm>
                      <a:off x="3792600" y="1934640"/>
                      <a:ext cx="2700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511" name=""/>
              <p:cNvSpPr/>
              <p:nvPr/>
            </p:nvSpPr>
            <p:spPr>
              <a:xfrm>
                <a:off x="3517920" y="1231920"/>
                <a:ext cx="2157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2" name=""/>
            <p:cNvSpPr/>
            <p:nvPr/>
          </p:nvSpPr>
          <p:spPr>
            <a:xfrm>
              <a:off x="4002120" y="2867040"/>
              <a:ext cx="16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3810240" y="3072960"/>
              <a:ext cx="1686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k38 50mm AT Gun   GE-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4" name=""/>
            <p:cNvGrpSpPr/>
            <p:nvPr/>
          </p:nvGrpSpPr>
          <p:grpSpPr>
            <a:xfrm>
              <a:off x="3336840" y="3060720"/>
              <a:ext cx="468000" cy="193680"/>
              <a:chOff x="3336840" y="3060720"/>
              <a:chExt cx="468000" cy="193680"/>
            </a:xfrm>
          </p:grpSpPr>
          <p:sp>
            <p:nvSpPr>
              <p:cNvPr id="3515" name=""/>
              <p:cNvSpPr/>
              <p:nvPr/>
            </p:nvSpPr>
            <p:spPr>
              <a:xfrm>
                <a:off x="3336840" y="315756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16" name=""/>
              <p:cNvGrpSpPr/>
              <p:nvPr/>
            </p:nvGrpSpPr>
            <p:grpSpPr>
              <a:xfrm>
                <a:off x="3573360" y="3060720"/>
                <a:ext cx="231480" cy="193680"/>
                <a:chOff x="3573360" y="3060720"/>
                <a:chExt cx="231480" cy="193680"/>
              </a:xfrm>
            </p:grpSpPr>
            <p:grpSp>
              <p:nvGrpSpPr>
                <p:cNvPr id="3517" name=""/>
                <p:cNvGrpSpPr/>
                <p:nvPr/>
              </p:nvGrpSpPr>
              <p:grpSpPr>
                <a:xfrm>
                  <a:off x="3573360" y="3097440"/>
                  <a:ext cx="231480" cy="156960"/>
                  <a:chOff x="3573360" y="3097440"/>
                  <a:chExt cx="231480" cy="156960"/>
                </a:xfrm>
              </p:grpSpPr>
              <p:sp>
                <p:nvSpPr>
                  <p:cNvPr id="3518" name=""/>
                  <p:cNvSpPr/>
                  <p:nvPr/>
                </p:nvSpPr>
                <p:spPr>
                  <a:xfrm>
                    <a:off x="3573360" y="3097440"/>
                    <a:ext cx="23148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9" name=""/>
                  <p:cNvSpPr/>
                  <p:nvPr/>
                </p:nvSpPr>
                <p:spPr>
                  <a:xfrm flipV="1">
                    <a:off x="3573360" y="3100680"/>
                    <a:ext cx="113760" cy="15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0" name=""/>
                  <p:cNvSpPr/>
                  <p:nvPr/>
                </p:nvSpPr>
                <p:spPr>
                  <a:xfrm>
                    <a:off x="3687120" y="3097440"/>
                    <a:ext cx="1137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1" name=""/>
                <p:cNvGrpSpPr/>
                <p:nvPr/>
              </p:nvGrpSpPr>
              <p:grpSpPr>
                <a:xfrm>
                  <a:off x="3652560" y="3060720"/>
                  <a:ext cx="74520" cy="28800"/>
                  <a:chOff x="3652560" y="3060720"/>
                  <a:chExt cx="74520" cy="28800"/>
                </a:xfrm>
              </p:grpSpPr>
              <p:sp>
                <p:nvSpPr>
                  <p:cNvPr id="3522" name=""/>
                  <p:cNvSpPr/>
                  <p:nvPr/>
                </p:nvSpPr>
                <p:spPr>
                  <a:xfrm>
                    <a:off x="3652560" y="30607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3" name=""/>
                  <p:cNvSpPr/>
                  <p:nvPr/>
                </p:nvSpPr>
                <p:spPr>
                  <a:xfrm>
                    <a:off x="3700080" y="30625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524" name=""/>
            <p:cNvSpPr/>
            <p:nvPr/>
          </p:nvSpPr>
          <p:spPr>
            <a:xfrm>
              <a:off x="3627360" y="3254400"/>
              <a:ext cx="0" cy="15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821400" y="32029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6" name=""/>
            <p:cNvGrpSpPr/>
            <p:nvPr/>
          </p:nvGrpSpPr>
          <p:grpSpPr>
            <a:xfrm>
              <a:off x="3568680" y="3354480"/>
              <a:ext cx="1911240" cy="248400"/>
              <a:chOff x="3568680" y="3354480"/>
              <a:chExt cx="1911240" cy="248400"/>
            </a:xfrm>
          </p:grpSpPr>
          <p:grpSp>
            <p:nvGrpSpPr>
              <p:cNvPr id="3527" name=""/>
              <p:cNvGrpSpPr/>
              <p:nvPr/>
            </p:nvGrpSpPr>
            <p:grpSpPr>
              <a:xfrm>
                <a:off x="3568680" y="3354480"/>
                <a:ext cx="239400" cy="225360"/>
                <a:chOff x="3568680" y="3354480"/>
                <a:chExt cx="239400" cy="225360"/>
              </a:xfrm>
            </p:grpSpPr>
            <p:grpSp>
              <p:nvGrpSpPr>
                <p:cNvPr id="3528" name=""/>
                <p:cNvGrpSpPr/>
                <p:nvPr/>
              </p:nvGrpSpPr>
              <p:grpSpPr>
                <a:xfrm>
                  <a:off x="3568680" y="3390840"/>
                  <a:ext cx="239400" cy="189000"/>
                  <a:chOff x="3568680" y="3390840"/>
                  <a:chExt cx="239400" cy="189000"/>
                </a:xfrm>
              </p:grpSpPr>
              <p:sp>
                <p:nvSpPr>
                  <p:cNvPr id="3529" name=""/>
                  <p:cNvSpPr/>
                  <p:nvPr/>
                </p:nvSpPr>
                <p:spPr>
                  <a:xfrm>
                    <a:off x="3568680" y="3390840"/>
                    <a:ext cx="23940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0" name=""/>
                  <p:cNvSpPr/>
                  <p:nvPr/>
                </p:nvSpPr>
                <p:spPr>
                  <a:xfrm>
                    <a:off x="3582360" y="355284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1" name=""/>
                  <p:cNvSpPr/>
                  <p:nvPr/>
                </p:nvSpPr>
                <p:spPr>
                  <a:xfrm>
                    <a:off x="3695040" y="35514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2" name=""/>
                  <p:cNvSpPr/>
                  <p:nvPr/>
                </p:nvSpPr>
                <p:spPr>
                  <a:xfrm>
                    <a:off x="3771360" y="35514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3" name=""/>
                  <p:cNvSpPr/>
                  <p:nvPr/>
                </p:nvSpPr>
                <p:spPr>
                  <a:xfrm>
                    <a:off x="3715920" y="3551400"/>
                    <a:ext cx="6156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4" name=""/>
                <p:cNvGrpSpPr/>
                <p:nvPr/>
              </p:nvGrpSpPr>
              <p:grpSpPr>
                <a:xfrm>
                  <a:off x="3651120" y="3354480"/>
                  <a:ext cx="74520" cy="28080"/>
                  <a:chOff x="3651120" y="3354480"/>
                  <a:chExt cx="74520" cy="28080"/>
                </a:xfrm>
              </p:grpSpPr>
              <p:sp>
                <p:nvSpPr>
                  <p:cNvPr id="3535" name=""/>
                  <p:cNvSpPr/>
                  <p:nvPr/>
                </p:nvSpPr>
                <p:spPr>
                  <a:xfrm>
                    <a:off x="3651120" y="33544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>
                    <a:off x="3698640" y="33559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37" name=""/>
              <p:cNvSpPr/>
              <p:nvPr/>
            </p:nvSpPr>
            <p:spPr>
              <a:xfrm>
                <a:off x="3810240" y="3387240"/>
                <a:ext cx="1669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dKfz 10                      GE-2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8" name=""/>
            <p:cNvSpPr/>
            <p:nvPr/>
          </p:nvSpPr>
          <p:spPr>
            <a:xfrm>
              <a:off x="3820680" y="3688920"/>
              <a:ext cx="1669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nzerschreck             GE-5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9" name=""/>
            <p:cNvGrpSpPr/>
            <p:nvPr/>
          </p:nvGrpSpPr>
          <p:grpSpPr>
            <a:xfrm>
              <a:off x="3349800" y="3676680"/>
              <a:ext cx="468000" cy="193680"/>
              <a:chOff x="3349800" y="3676680"/>
              <a:chExt cx="468000" cy="193680"/>
            </a:xfrm>
          </p:grpSpPr>
          <p:sp>
            <p:nvSpPr>
              <p:cNvPr id="3540" name=""/>
              <p:cNvSpPr/>
              <p:nvPr/>
            </p:nvSpPr>
            <p:spPr>
              <a:xfrm>
                <a:off x="3349800" y="377352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41" name=""/>
              <p:cNvGrpSpPr/>
              <p:nvPr/>
            </p:nvGrpSpPr>
            <p:grpSpPr>
              <a:xfrm>
                <a:off x="3586320" y="3676680"/>
                <a:ext cx="231480" cy="193680"/>
                <a:chOff x="3586320" y="3676680"/>
                <a:chExt cx="231480" cy="193680"/>
              </a:xfrm>
            </p:grpSpPr>
            <p:grpSp>
              <p:nvGrpSpPr>
                <p:cNvPr id="3542" name=""/>
                <p:cNvGrpSpPr/>
                <p:nvPr/>
              </p:nvGrpSpPr>
              <p:grpSpPr>
                <a:xfrm>
                  <a:off x="3586320" y="3713400"/>
                  <a:ext cx="231480" cy="156960"/>
                  <a:chOff x="3586320" y="3713400"/>
                  <a:chExt cx="231480" cy="156960"/>
                </a:xfrm>
              </p:grpSpPr>
              <p:sp>
                <p:nvSpPr>
                  <p:cNvPr id="3543" name=""/>
                  <p:cNvSpPr/>
                  <p:nvPr/>
                </p:nvSpPr>
                <p:spPr>
                  <a:xfrm>
                    <a:off x="3586320" y="3713400"/>
                    <a:ext cx="23148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 flipV="1">
                    <a:off x="3586320" y="3716640"/>
                    <a:ext cx="113760" cy="15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>
                    <a:off x="3700080" y="3713400"/>
                    <a:ext cx="1137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46" name=""/>
                <p:cNvGrpSpPr/>
                <p:nvPr/>
              </p:nvGrpSpPr>
              <p:grpSpPr>
                <a:xfrm>
                  <a:off x="3665520" y="3676680"/>
                  <a:ext cx="74520" cy="28800"/>
                  <a:chOff x="3665520" y="3676680"/>
                  <a:chExt cx="74520" cy="28800"/>
                </a:xfrm>
              </p:grpSpPr>
              <p:sp>
                <p:nvSpPr>
                  <p:cNvPr id="3547" name=""/>
                  <p:cNvSpPr/>
                  <p:nvPr/>
                </p:nvSpPr>
                <p:spPr>
                  <a:xfrm>
                    <a:off x="3665520" y="36766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8" name=""/>
                  <p:cNvSpPr/>
                  <p:nvPr/>
                </p:nvSpPr>
                <p:spPr>
                  <a:xfrm>
                    <a:off x="3713040" y="36784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49" name=""/>
            <p:cNvGrpSpPr/>
            <p:nvPr/>
          </p:nvGrpSpPr>
          <p:grpSpPr>
            <a:xfrm>
              <a:off x="3336840" y="3979800"/>
              <a:ext cx="2392920" cy="515160"/>
              <a:chOff x="3336840" y="3979800"/>
              <a:chExt cx="2392920" cy="515160"/>
            </a:xfrm>
          </p:grpSpPr>
          <p:sp>
            <p:nvSpPr>
              <p:cNvPr id="3550" name=""/>
              <p:cNvSpPr/>
              <p:nvPr/>
            </p:nvSpPr>
            <p:spPr>
              <a:xfrm>
                <a:off x="3625920" y="4151160"/>
                <a:ext cx="0" cy="15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1" name=""/>
              <p:cNvGrpSpPr/>
              <p:nvPr/>
            </p:nvGrpSpPr>
            <p:grpSpPr>
              <a:xfrm>
                <a:off x="3591000" y="4263840"/>
                <a:ext cx="231480" cy="226800"/>
                <a:chOff x="3591000" y="4263840"/>
                <a:chExt cx="231480" cy="226800"/>
              </a:xfrm>
            </p:grpSpPr>
            <p:grpSp>
              <p:nvGrpSpPr>
                <p:cNvPr id="3552" name=""/>
                <p:cNvGrpSpPr/>
                <p:nvPr/>
              </p:nvGrpSpPr>
              <p:grpSpPr>
                <a:xfrm>
                  <a:off x="3591000" y="4300560"/>
                  <a:ext cx="231480" cy="190080"/>
                  <a:chOff x="3591000" y="4300560"/>
                  <a:chExt cx="231480" cy="190080"/>
                </a:xfrm>
              </p:grpSpPr>
              <p:sp>
                <p:nvSpPr>
                  <p:cNvPr id="3553" name=""/>
                  <p:cNvSpPr/>
                  <p:nvPr/>
                </p:nvSpPr>
                <p:spPr>
                  <a:xfrm>
                    <a:off x="3591000" y="4300560"/>
                    <a:ext cx="23148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4" name=""/>
                  <p:cNvSpPr/>
                  <p:nvPr/>
                </p:nvSpPr>
                <p:spPr>
                  <a:xfrm>
                    <a:off x="3601440" y="446328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5" name=""/>
                  <p:cNvSpPr/>
                  <p:nvPr/>
                </p:nvSpPr>
                <p:spPr>
                  <a:xfrm>
                    <a:off x="3783240" y="446328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6" name=""/>
                <p:cNvGrpSpPr/>
                <p:nvPr/>
              </p:nvGrpSpPr>
              <p:grpSpPr>
                <a:xfrm>
                  <a:off x="3668760" y="4263840"/>
                  <a:ext cx="74520" cy="28800"/>
                  <a:chOff x="3668760" y="4263840"/>
                  <a:chExt cx="74520" cy="28800"/>
                </a:xfrm>
              </p:grpSpPr>
              <p:sp>
                <p:nvSpPr>
                  <p:cNvPr id="3557" name=""/>
                  <p:cNvSpPr/>
                  <p:nvPr/>
                </p:nvSpPr>
                <p:spPr>
                  <a:xfrm>
                    <a:off x="3668760" y="42638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>
                    <a:off x="3716280" y="42656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59" name=""/>
              <p:cNvSpPr/>
              <p:nvPr/>
            </p:nvSpPr>
            <p:spPr>
              <a:xfrm>
                <a:off x="3336840" y="408456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3822120" y="3982320"/>
                <a:ext cx="1907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5mm leIG37 Infantry Gun   GE-3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3832560" y="411084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3822120" y="4279320"/>
                <a:ext cx="1585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ht Truck                GE-3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3" name=""/>
              <p:cNvGrpSpPr/>
              <p:nvPr/>
            </p:nvGrpSpPr>
            <p:grpSpPr>
              <a:xfrm>
                <a:off x="3586320" y="3979800"/>
                <a:ext cx="231480" cy="187200"/>
                <a:chOff x="3586320" y="3979800"/>
                <a:chExt cx="231480" cy="187200"/>
              </a:xfrm>
            </p:grpSpPr>
            <p:grpSp>
              <p:nvGrpSpPr>
                <p:cNvPr id="3564" name=""/>
                <p:cNvGrpSpPr/>
                <p:nvPr/>
              </p:nvGrpSpPr>
              <p:grpSpPr>
                <a:xfrm>
                  <a:off x="3664080" y="3979800"/>
                  <a:ext cx="74520" cy="28080"/>
                  <a:chOff x="3664080" y="3979800"/>
                  <a:chExt cx="74520" cy="28080"/>
                </a:xfrm>
              </p:grpSpPr>
              <p:sp>
                <p:nvSpPr>
                  <p:cNvPr id="3565" name=""/>
                  <p:cNvSpPr/>
                  <p:nvPr/>
                </p:nvSpPr>
                <p:spPr>
                  <a:xfrm>
                    <a:off x="3664080" y="39798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6" name=""/>
                  <p:cNvSpPr/>
                  <p:nvPr/>
                </p:nvSpPr>
                <p:spPr>
                  <a:xfrm>
                    <a:off x="3711600" y="39812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7" name=""/>
                <p:cNvGrpSpPr/>
                <p:nvPr/>
              </p:nvGrpSpPr>
              <p:grpSpPr>
                <a:xfrm>
                  <a:off x="3586320" y="4010040"/>
                  <a:ext cx="231480" cy="156960"/>
                  <a:chOff x="3586320" y="4010040"/>
                  <a:chExt cx="231480" cy="156960"/>
                </a:xfrm>
              </p:grpSpPr>
              <p:grpSp>
                <p:nvGrpSpPr>
                  <p:cNvPr id="3568" name=""/>
                  <p:cNvGrpSpPr/>
                  <p:nvPr/>
                </p:nvGrpSpPr>
                <p:grpSpPr>
                  <a:xfrm>
                    <a:off x="3586320" y="4010040"/>
                    <a:ext cx="231480" cy="156960"/>
                    <a:chOff x="3586320" y="4010040"/>
                    <a:chExt cx="231480" cy="156960"/>
                  </a:xfrm>
                </p:grpSpPr>
                <p:sp>
                  <p:nvSpPr>
                    <p:cNvPr id="3569" name=""/>
                    <p:cNvSpPr/>
                    <p:nvPr/>
                  </p:nvSpPr>
                  <p:spPr>
                    <a:xfrm>
                      <a:off x="3586320" y="4010040"/>
                      <a:ext cx="23148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0" name=""/>
                    <p:cNvSpPr/>
                    <p:nvPr/>
                  </p:nvSpPr>
                  <p:spPr>
                    <a:xfrm flipV="1">
                      <a:off x="3588480" y="4012200"/>
                      <a:ext cx="225360" cy="153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1" name=""/>
                    <p:cNvSpPr/>
                    <p:nvPr/>
                  </p:nvSpPr>
                  <p:spPr>
                    <a:xfrm>
                      <a:off x="3586320" y="4012200"/>
                      <a:ext cx="230400" cy="149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72" name=""/>
                  <p:cNvSpPr/>
                  <p:nvPr/>
                </p:nvSpPr>
                <p:spPr>
                  <a:xfrm>
                    <a:off x="3687480" y="4078440"/>
                    <a:ext cx="28080" cy="2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573" name=""/>
            <p:cNvSpPr/>
            <p:nvPr/>
          </p:nvSpPr>
          <p:spPr>
            <a:xfrm>
              <a:off x="3790080" y="4474440"/>
              <a:ext cx="112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753360" y="3820680"/>
              <a:ext cx="112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5" name=""/>
            <p:cNvGrpSpPr/>
            <p:nvPr/>
          </p:nvGrpSpPr>
          <p:grpSpPr>
            <a:xfrm>
              <a:off x="3336840" y="4657680"/>
              <a:ext cx="2374560" cy="546840"/>
              <a:chOff x="3336840" y="4657680"/>
              <a:chExt cx="2374560" cy="546840"/>
            </a:xfrm>
          </p:grpSpPr>
          <p:sp>
            <p:nvSpPr>
              <p:cNvPr id="3576" name=""/>
              <p:cNvSpPr/>
              <p:nvPr/>
            </p:nvSpPr>
            <p:spPr>
              <a:xfrm>
                <a:off x="3625560" y="4829400"/>
                <a:ext cx="0" cy="15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3336840" y="4762440"/>
                <a:ext cx="274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3832200" y="478908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9" name=""/>
              <p:cNvGrpSpPr/>
              <p:nvPr/>
            </p:nvGrpSpPr>
            <p:grpSpPr>
              <a:xfrm>
                <a:off x="3585960" y="4657680"/>
                <a:ext cx="2125440" cy="218520"/>
                <a:chOff x="3585960" y="4657680"/>
                <a:chExt cx="2125440" cy="218520"/>
              </a:xfrm>
            </p:grpSpPr>
            <p:sp>
              <p:nvSpPr>
                <p:cNvPr id="3580" name=""/>
                <p:cNvSpPr/>
                <p:nvPr/>
              </p:nvSpPr>
              <p:spPr>
                <a:xfrm>
                  <a:off x="3822120" y="4660560"/>
                  <a:ext cx="188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50mm SiG33 Infantry Gun GE-3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81" name=""/>
                <p:cNvGrpSpPr/>
                <p:nvPr/>
              </p:nvGrpSpPr>
              <p:grpSpPr>
                <a:xfrm>
                  <a:off x="3585960" y="4657680"/>
                  <a:ext cx="231480" cy="187200"/>
                  <a:chOff x="3585960" y="4657680"/>
                  <a:chExt cx="231480" cy="187200"/>
                </a:xfrm>
              </p:grpSpPr>
              <p:grpSp>
                <p:nvGrpSpPr>
                  <p:cNvPr id="3582" name=""/>
                  <p:cNvGrpSpPr/>
                  <p:nvPr/>
                </p:nvGrpSpPr>
                <p:grpSpPr>
                  <a:xfrm>
                    <a:off x="3663720" y="4657680"/>
                    <a:ext cx="74520" cy="28080"/>
                    <a:chOff x="3663720" y="4657680"/>
                    <a:chExt cx="74520" cy="28080"/>
                  </a:xfrm>
                </p:grpSpPr>
                <p:sp>
                  <p:nvSpPr>
                    <p:cNvPr id="3583" name=""/>
                    <p:cNvSpPr/>
                    <p:nvPr/>
                  </p:nvSpPr>
                  <p:spPr>
                    <a:xfrm>
                      <a:off x="3663720" y="46576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4" name=""/>
                    <p:cNvSpPr/>
                    <p:nvPr/>
                  </p:nvSpPr>
                  <p:spPr>
                    <a:xfrm>
                      <a:off x="3711240" y="46591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85" name=""/>
                  <p:cNvGrpSpPr/>
                  <p:nvPr/>
                </p:nvGrpSpPr>
                <p:grpSpPr>
                  <a:xfrm>
                    <a:off x="3585960" y="4687920"/>
                    <a:ext cx="231480" cy="156960"/>
                    <a:chOff x="3585960" y="4687920"/>
                    <a:chExt cx="231480" cy="156960"/>
                  </a:xfrm>
                </p:grpSpPr>
                <p:grpSp>
                  <p:nvGrpSpPr>
                    <p:cNvPr id="3586" name=""/>
                    <p:cNvGrpSpPr/>
                    <p:nvPr/>
                  </p:nvGrpSpPr>
                  <p:grpSpPr>
                    <a:xfrm>
                      <a:off x="3585960" y="4687920"/>
                      <a:ext cx="231480" cy="156960"/>
                      <a:chOff x="3585960" y="4687920"/>
                      <a:chExt cx="231480" cy="156960"/>
                    </a:xfrm>
                  </p:grpSpPr>
                  <p:sp>
                    <p:nvSpPr>
                      <p:cNvPr id="3587" name=""/>
                      <p:cNvSpPr/>
                      <p:nvPr/>
                    </p:nvSpPr>
                    <p:spPr>
                      <a:xfrm>
                        <a:off x="3585960" y="468792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8" name=""/>
                      <p:cNvSpPr/>
                      <p:nvPr/>
                    </p:nvSpPr>
                    <p:spPr>
                      <a:xfrm flipV="1">
                        <a:off x="3588120" y="4690080"/>
                        <a:ext cx="22536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9" name=""/>
                      <p:cNvSpPr/>
                      <p:nvPr/>
                    </p:nvSpPr>
                    <p:spPr>
                      <a:xfrm>
                        <a:off x="3585960" y="4690080"/>
                        <a:ext cx="230400" cy="1497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590" name=""/>
                    <p:cNvSpPr/>
                    <p:nvPr/>
                  </p:nvSpPr>
                  <p:spPr>
                    <a:xfrm>
                      <a:off x="3687120" y="4756320"/>
                      <a:ext cx="28080" cy="26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591" name=""/>
              <p:cNvGrpSpPr/>
              <p:nvPr/>
            </p:nvGrpSpPr>
            <p:grpSpPr>
              <a:xfrm>
                <a:off x="3578040" y="4956120"/>
                <a:ext cx="1911240" cy="248400"/>
                <a:chOff x="3578040" y="4956120"/>
                <a:chExt cx="1911240" cy="248400"/>
              </a:xfrm>
            </p:grpSpPr>
            <p:grpSp>
              <p:nvGrpSpPr>
                <p:cNvPr id="3592" name=""/>
                <p:cNvGrpSpPr/>
                <p:nvPr/>
              </p:nvGrpSpPr>
              <p:grpSpPr>
                <a:xfrm>
                  <a:off x="3578040" y="4956120"/>
                  <a:ext cx="239400" cy="225360"/>
                  <a:chOff x="3578040" y="4956120"/>
                  <a:chExt cx="239400" cy="225360"/>
                </a:xfrm>
              </p:grpSpPr>
              <p:grpSp>
                <p:nvGrpSpPr>
                  <p:cNvPr id="3593" name=""/>
                  <p:cNvGrpSpPr/>
                  <p:nvPr/>
                </p:nvGrpSpPr>
                <p:grpSpPr>
                  <a:xfrm>
                    <a:off x="3578040" y="4992480"/>
                    <a:ext cx="239400" cy="189000"/>
                    <a:chOff x="3578040" y="4992480"/>
                    <a:chExt cx="239400" cy="189000"/>
                  </a:xfrm>
                </p:grpSpPr>
                <p:sp>
                  <p:nvSpPr>
                    <p:cNvPr id="3594" name=""/>
                    <p:cNvSpPr/>
                    <p:nvPr/>
                  </p:nvSpPr>
                  <p:spPr>
                    <a:xfrm>
                      <a:off x="3578040" y="4992480"/>
                      <a:ext cx="23940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5" name=""/>
                    <p:cNvSpPr/>
                    <p:nvPr/>
                  </p:nvSpPr>
                  <p:spPr>
                    <a:xfrm>
                      <a:off x="3591720" y="515448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6" name=""/>
                    <p:cNvSpPr/>
                    <p:nvPr/>
                  </p:nvSpPr>
                  <p:spPr>
                    <a:xfrm>
                      <a:off x="3704400" y="515304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7" name=""/>
                    <p:cNvSpPr/>
                    <p:nvPr/>
                  </p:nvSpPr>
                  <p:spPr>
                    <a:xfrm>
                      <a:off x="3780720" y="515304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8" name=""/>
                    <p:cNvSpPr/>
                    <p:nvPr/>
                  </p:nvSpPr>
                  <p:spPr>
                    <a:xfrm>
                      <a:off x="3725280" y="5153040"/>
                      <a:ext cx="61560" cy="27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9" name=""/>
                  <p:cNvGrpSpPr/>
                  <p:nvPr/>
                </p:nvGrpSpPr>
                <p:grpSpPr>
                  <a:xfrm>
                    <a:off x="3660480" y="4956120"/>
                    <a:ext cx="74520" cy="28080"/>
                    <a:chOff x="3660480" y="4956120"/>
                    <a:chExt cx="74520" cy="28080"/>
                  </a:xfrm>
                </p:grpSpPr>
                <p:sp>
                  <p:nvSpPr>
                    <p:cNvPr id="3600" name=""/>
                    <p:cNvSpPr/>
                    <p:nvPr/>
                  </p:nvSpPr>
                  <p:spPr>
                    <a:xfrm>
                      <a:off x="3660480" y="49561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1" name=""/>
                    <p:cNvSpPr/>
                    <p:nvPr/>
                  </p:nvSpPr>
                  <p:spPr>
                    <a:xfrm>
                      <a:off x="3708000" y="49575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602" name=""/>
                <p:cNvSpPr/>
                <p:nvPr/>
              </p:nvSpPr>
              <p:spPr>
                <a:xfrm>
                  <a:off x="3819600" y="4988880"/>
                  <a:ext cx="1669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dKfz 11                      GE-3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03" name=""/>
          <p:cNvSpPr/>
          <p:nvPr/>
        </p:nvSpPr>
        <p:spPr>
          <a:xfrm>
            <a:off x="3338640" y="1241280"/>
            <a:ext cx="2770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4" name=""/>
          <p:cNvGrpSpPr/>
          <p:nvPr/>
        </p:nvGrpSpPr>
        <p:grpSpPr>
          <a:xfrm>
            <a:off x="6100920" y="2479680"/>
            <a:ext cx="2654280" cy="252720"/>
            <a:chOff x="6100920" y="2479680"/>
            <a:chExt cx="2654280" cy="252720"/>
          </a:xfrm>
        </p:grpSpPr>
        <p:grpSp>
          <p:nvGrpSpPr>
            <p:cNvPr id="3605" name=""/>
            <p:cNvGrpSpPr/>
            <p:nvPr/>
          </p:nvGrpSpPr>
          <p:grpSpPr>
            <a:xfrm>
              <a:off x="6280560" y="2479680"/>
              <a:ext cx="291600" cy="236160"/>
              <a:chOff x="6280560" y="2479680"/>
              <a:chExt cx="291600" cy="236160"/>
            </a:xfrm>
          </p:grpSpPr>
          <p:grpSp>
            <p:nvGrpSpPr>
              <p:cNvPr id="3606" name=""/>
              <p:cNvGrpSpPr/>
              <p:nvPr/>
            </p:nvGrpSpPr>
            <p:grpSpPr>
              <a:xfrm>
                <a:off x="6280560" y="2522520"/>
                <a:ext cx="291600" cy="193320"/>
                <a:chOff x="6280560" y="2522520"/>
                <a:chExt cx="291600" cy="193320"/>
              </a:xfrm>
            </p:grpSpPr>
            <p:sp>
              <p:nvSpPr>
                <p:cNvPr id="3607" name=""/>
                <p:cNvSpPr/>
                <p:nvPr/>
              </p:nvSpPr>
              <p:spPr>
                <a:xfrm>
                  <a:off x="6280560" y="2524680"/>
                  <a:ext cx="291600" cy="191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8" name=""/>
                <p:cNvSpPr/>
                <p:nvPr/>
              </p:nvSpPr>
              <p:spPr>
                <a:xfrm>
                  <a:off x="6351840" y="2615400"/>
                  <a:ext cx="144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 flipV="1">
                  <a:off x="6280560" y="2524680"/>
                  <a:ext cx="14112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0" name=""/>
                <p:cNvSpPr/>
                <p:nvPr/>
              </p:nvSpPr>
              <p:spPr>
                <a:xfrm>
                  <a:off x="6421680" y="2522520"/>
                  <a:ext cx="150480" cy="190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1" name=""/>
              <p:cNvGrpSpPr/>
              <p:nvPr/>
            </p:nvGrpSpPr>
            <p:grpSpPr>
              <a:xfrm>
                <a:off x="6359760" y="2479680"/>
                <a:ext cx="131040" cy="27000"/>
                <a:chOff x="6359760" y="2479680"/>
                <a:chExt cx="131040" cy="27000"/>
              </a:xfrm>
            </p:grpSpPr>
            <p:sp>
              <p:nvSpPr>
                <p:cNvPr id="3612" name=""/>
                <p:cNvSpPr/>
                <p:nvPr/>
              </p:nvSpPr>
              <p:spPr>
                <a:xfrm>
                  <a:off x="6359760" y="24796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>
                  <a:off x="6410160" y="247968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"/>
                <p:cNvSpPr/>
                <p:nvPr/>
              </p:nvSpPr>
              <p:spPr>
                <a:xfrm>
                  <a:off x="6464160" y="24796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5" name=""/>
            <p:cNvSpPr/>
            <p:nvPr/>
          </p:nvSpPr>
          <p:spPr>
            <a:xfrm>
              <a:off x="6100920" y="262116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572520" y="2541240"/>
              <a:ext cx="21826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-2 Light Flak Platoon (Towed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7" name=""/>
          <p:cNvSpPr/>
          <p:nvPr/>
        </p:nvSpPr>
        <p:spPr>
          <a:xfrm>
            <a:off x="6100920" y="1249200"/>
            <a:ext cx="0" cy="3036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8" name=""/>
          <p:cNvGrpSpPr/>
          <p:nvPr/>
        </p:nvGrpSpPr>
        <p:grpSpPr>
          <a:xfrm>
            <a:off x="6103800" y="1665360"/>
            <a:ext cx="2413080" cy="346320"/>
            <a:chOff x="6103800" y="1665360"/>
            <a:chExt cx="2413080" cy="346320"/>
          </a:xfrm>
        </p:grpSpPr>
        <p:grpSp>
          <p:nvGrpSpPr>
            <p:cNvPr id="3619" name=""/>
            <p:cNvGrpSpPr/>
            <p:nvPr/>
          </p:nvGrpSpPr>
          <p:grpSpPr>
            <a:xfrm>
              <a:off x="6280200" y="1665360"/>
              <a:ext cx="291600" cy="253800"/>
              <a:chOff x="6280200" y="1665360"/>
              <a:chExt cx="291600" cy="253800"/>
            </a:xfrm>
          </p:grpSpPr>
          <p:grpSp>
            <p:nvGrpSpPr>
              <p:cNvPr id="3620" name=""/>
              <p:cNvGrpSpPr/>
              <p:nvPr/>
            </p:nvGrpSpPr>
            <p:grpSpPr>
              <a:xfrm>
                <a:off x="6280200" y="1728720"/>
                <a:ext cx="291600" cy="190440"/>
                <a:chOff x="6280200" y="1728720"/>
                <a:chExt cx="291600" cy="190440"/>
              </a:xfrm>
            </p:grpSpPr>
            <p:sp>
              <p:nvSpPr>
                <p:cNvPr id="3621" name=""/>
                <p:cNvSpPr/>
                <p:nvPr/>
              </p:nvSpPr>
              <p:spPr>
                <a:xfrm>
                  <a:off x="6281640" y="1728720"/>
                  <a:ext cx="290160" cy="190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2" name=""/>
                <p:cNvSpPr/>
                <p:nvPr/>
              </p:nvSpPr>
              <p:spPr>
                <a:xfrm>
                  <a:off x="6317640" y="1770480"/>
                  <a:ext cx="20808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3" name=""/>
                <p:cNvSpPr/>
                <p:nvPr/>
              </p:nvSpPr>
              <p:spPr>
                <a:xfrm flipV="1">
                  <a:off x="6280200" y="1730160"/>
                  <a:ext cx="140040" cy="18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4" name=""/>
                <p:cNvSpPr/>
                <p:nvPr/>
              </p:nvSpPr>
              <p:spPr>
                <a:xfrm>
                  <a:off x="6420240" y="1728720"/>
                  <a:ext cx="15012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5" name=""/>
              <p:cNvSpPr/>
              <p:nvPr/>
            </p:nvSpPr>
            <p:spPr>
              <a:xfrm>
                <a:off x="6426360" y="16653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6" name=""/>
            <p:cNvSpPr/>
            <p:nvPr/>
          </p:nvSpPr>
          <p:spPr>
            <a:xfrm>
              <a:off x="6103800" y="182232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556320" y="1674360"/>
              <a:ext cx="196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Panzerjaeger Company (SP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100920" y="2048040"/>
            <a:ext cx="2638440" cy="343800"/>
            <a:chOff x="6100920" y="2048040"/>
            <a:chExt cx="2638440" cy="343800"/>
          </a:xfrm>
        </p:grpSpPr>
        <p:grpSp>
          <p:nvGrpSpPr>
            <p:cNvPr id="3629" name=""/>
            <p:cNvGrpSpPr/>
            <p:nvPr/>
          </p:nvGrpSpPr>
          <p:grpSpPr>
            <a:xfrm>
              <a:off x="6283440" y="2048040"/>
              <a:ext cx="284400" cy="245520"/>
              <a:chOff x="6283440" y="2048040"/>
              <a:chExt cx="284400" cy="245520"/>
            </a:xfrm>
          </p:grpSpPr>
          <p:grpSp>
            <p:nvGrpSpPr>
              <p:cNvPr id="3630" name=""/>
              <p:cNvGrpSpPr/>
              <p:nvPr/>
            </p:nvGrpSpPr>
            <p:grpSpPr>
              <a:xfrm>
                <a:off x="6283440" y="2100240"/>
                <a:ext cx="284400" cy="193320"/>
                <a:chOff x="6283440" y="2100240"/>
                <a:chExt cx="284400" cy="193320"/>
              </a:xfrm>
            </p:grpSpPr>
            <p:sp>
              <p:nvSpPr>
                <p:cNvPr id="3631" name=""/>
                <p:cNvSpPr/>
                <p:nvPr/>
              </p:nvSpPr>
              <p:spPr>
                <a:xfrm>
                  <a:off x="6283440" y="2100240"/>
                  <a:ext cx="284400" cy="19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2" name=""/>
                <p:cNvSpPr/>
                <p:nvPr/>
              </p:nvSpPr>
              <p:spPr>
                <a:xfrm flipV="1">
                  <a:off x="6283440" y="2104200"/>
                  <a:ext cx="139680" cy="187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3" name=""/>
                <p:cNvSpPr/>
                <p:nvPr/>
              </p:nvSpPr>
              <p:spPr>
                <a:xfrm>
                  <a:off x="6423120" y="2100240"/>
                  <a:ext cx="13968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4" name=""/>
              <p:cNvGrpSpPr/>
              <p:nvPr/>
            </p:nvGrpSpPr>
            <p:grpSpPr>
              <a:xfrm>
                <a:off x="6364440" y="2048040"/>
                <a:ext cx="131760" cy="26640"/>
                <a:chOff x="6364440" y="2048040"/>
                <a:chExt cx="131760" cy="26640"/>
              </a:xfrm>
            </p:grpSpPr>
            <p:sp>
              <p:nvSpPr>
                <p:cNvPr id="3635" name=""/>
                <p:cNvSpPr/>
                <p:nvPr/>
              </p:nvSpPr>
              <p:spPr>
                <a:xfrm>
                  <a:off x="6364440" y="20480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6" name=""/>
                <p:cNvSpPr/>
                <p:nvPr/>
              </p:nvSpPr>
              <p:spPr>
                <a:xfrm>
                  <a:off x="6415200" y="20480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7" name=""/>
                <p:cNvSpPr/>
                <p:nvPr/>
              </p:nvSpPr>
              <p:spPr>
                <a:xfrm>
                  <a:off x="6469200" y="20480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38" name=""/>
            <p:cNvSpPr/>
            <p:nvPr/>
          </p:nvSpPr>
          <p:spPr>
            <a:xfrm>
              <a:off x="6100920" y="218448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556680" y="2079000"/>
              <a:ext cx="2182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-2 Panzerjaeger Platoon (Towed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0" name=""/>
          <p:cNvGrpSpPr/>
          <p:nvPr/>
        </p:nvGrpSpPr>
        <p:grpSpPr>
          <a:xfrm>
            <a:off x="6119640" y="2820960"/>
            <a:ext cx="2619360" cy="270720"/>
            <a:chOff x="6119640" y="2820960"/>
            <a:chExt cx="2619360" cy="270720"/>
          </a:xfrm>
        </p:grpSpPr>
        <p:grpSp>
          <p:nvGrpSpPr>
            <p:cNvPr id="3641" name=""/>
            <p:cNvGrpSpPr/>
            <p:nvPr/>
          </p:nvGrpSpPr>
          <p:grpSpPr>
            <a:xfrm>
              <a:off x="6280200" y="2820960"/>
              <a:ext cx="291600" cy="264600"/>
              <a:chOff x="6280200" y="2820960"/>
              <a:chExt cx="291600" cy="264600"/>
            </a:xfrm>
          </p:grpSpPr>
          <p:grpSp>
            <p:nvGrpSpPr>
              <p:cNvPr id="3642" name=""/>
              <p:cNvGrpSpPr/>
              <p:nvPr/>
            </p:nvGrpSpPr>
            <p:grpSpPr>
              <a:xfrm>
                <a:off x="6280200" y="2892240"/>
                <a:ext cx="291600" cy="193320"/>
                <a:chOff x="6280200" y="2892240"/>
                <a:chExt cx="291600" cy="193320"/>
              </a:xfrm>
            </p:grpSpPr>
            <p:sp>
              <p:nvSpPr>
                <p:cNvPr id="3643" name=""/>
                <p:cNvSpPr/>
                <p:nvPr/>
              </p:nvSpPr>
              <p:spPr>
                <a:xfrm>
                  <a:off x="6280200" y="2894400"/>
                  <a:ext cx="291600" cy="191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4" name=""/>
                <p:cNvSpPr/>
                <p:nvPr/>
              </p:nvSpPr>
              <p:spPr>
                <a:xfrm>
                  <a:off x="6351480" y="2985120"/>
                  <a:ext cx="144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5" name=""/>
                <p:cNvSpPr/>
                <p:nvPr/>
              </p:nvSpPr>
              <p:spPr>
                <a:xfrm flipV="1">
                  <a:off x="6280200" y="2894400"/>
                  <a:ext cx="14112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6" name=""/>
                <p:cNvSpPr/>
                <p:nvPr/>
              </p:nvSpPr>
              <p:spPr>
                <a:xfrm>
                  <a:off x="6421320" y="2892240"/>
                  <a:ext cx="150480" cy="190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47" name=""/>
              <p:cNvSpPr/>
              <p:nvPr/>
            </p:nvSpPr>
            <p:spPr>
              <a:xfrm>
                <a:off x="6426360" y="2820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8" name=""/>
            <p:cNvSpPr/>
            <p:nvPr/>
          </p:nvSpPr>
          <p:spPr>
            <a:xfrm>
              <a:off x="6119640" y="2984400"/>
              <a:ext cx="190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556320" y="2876040"/>
              <a:ext cx="2182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Heavy Flak Battery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0" name=""/>
          <p:cNvGrpSpPr/>
          <p:nvPr/>
        </p:nvGrpSpPr>
        <p:grpSpPr>
          <a:xfrm>
            <a:off x="6108840" y="3651120"/>
            <a:ext cx="2630520" cy="262440"/>
            <a:chOff x="6108840" y="3651120"/>
            <a:chExt cx="2630520" cy="262440"/>
          </a:xfrm>
        </p:grpSpPr>
        <p:grpSp>
          <p:nvGrpSpPr>
            <p:cNvPr id="3651" name=""/>
            <p:cNvGrpSpPr/>
            <p:nvPr/>
          </p:nvGrpSpPr>
          <p:grpSpPr>
            <a:xfrm>
              <a:off x="6280560" y="3651120"/>
              <a:ext cx="291600" cy="253440"/>
              <a:chOff x="6280560" y="3651120"/>
              <a:chExt cx="291600" cy="253440"/>
            </a:xfrm>
          </p:grpSpPr>
          <p:grpSp>
            <p:nvGrpSpPr>
              <p:cNvPr id="3652" name=""/>
              <p:cNvGrpSpPr/>
              <p:nvPr/>
            </p:nvGrpSpPr>
            <p:grpSpPr>
              <a:xfrm>
                <a:off x="6280560" y="3714480"/>
                <a:ext cx="291600" cy="190080"/>
                <a:chOff x="6280560" y="3714480"/>
                <a:chExt cx="291600" cy="190080"/>
              </a:xfrm>
            </p:grpSpPr>
            <p:sp>
              <p:nvSpPr>
                <p:cNvPr id="3653" name=""/>
                <p:cNvSpPr/>
                <p:nvPr/>
              </p:nvSpPr>
              <p:spPr>
                <a:xfrm>
                  <a:off x="6280560" y="3714480"/>
                  <a:ext cx="291600" cy="190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>
                  <a:off x="6330960" y="3762720"/>
                  <a:ext cx="187560" cy="90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5" name=""/>
                <p:cNvSpPr/>
                <p:nvPr/>
              </p:nvSpPr>
              <p:spPr>
                <a:xfrm>
                  <a:off x="6406200" y="3787560"/>
                  <a:ext cx="34560" cy="3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6" name=""/>
              <p:cNvGrpSpPr/>
              <p:nvPr/>
            </p:nvGrpSpPr>
            <p:grpSpPr>
              <a:xfrm>
                <a:off x="6388560" y="3651120"/>
                <a:ext cx="75960" cy="63360"/>
                <a:chOff x="6388560" y="3651120"/>
                <a:chExt cx="75960" cy="63360"/>
              </a:xfrm>
            </p:grpSpPr>
            <p:sp>
              <p:nvSpPr>
                <p:cNvPr id="3657" name=""/>
                <p:cNvSpPr/>
                <p:nvPr/>
              </p:nvSpPr>
              <p:spPr>
                <a:xfrm>
                  <a:off x="6388560" y="36511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8" name=""/>
                <p:cNvSpPr/>
                <p:nvPr/>
              </p:nvSpPr>
              <p:spPr>
                <a:xfrm>
                  <a:off x="6464520" y="36511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59" name=""/>
            <p:cNvSpPr/>
            <p:nvPr/>
          </p:nvSpPr>
          <p:spPr>
            <a:xfrm>
              <a:off x="6108840" y="380016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556680" y="3697920"/>
              <a:ext cx="2182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Mixed Artillery Battalion (SP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FS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1" name=""/>
          <p:cNvGrpSpPr/>
          <p:nvPr/>
        </p:nvGrpSpPr>
        <p:grpSpPr>
          <a:xfrm>
            <a:off x="6100920" y="3157560"/>
            <a:ext cx="2882880" cy="286560"/>
            <a:chOff x="6100920" y="3157560"/>
            <a:chExt cx="2882880" cy="286560"/>
          </a:xfrm>
        </p:grpSpPr>
        <p:grpSp>
          <p:nvGrpSpPr>
            <p:cNvPr id="3662" name=""/>
            <p:cNvGrpSpPr/>
            <p:nvPr/>
          </p:nvGrpSpPr>
          <p:grpSpPr>
            <a:xfrm>
              <a:off x="6296040" y="3157560"/>
              <a:ext cx="312120" cy="259920"/>
              <a:chOff x="6296040" y="3157560"/>
              <a:chExt cx="312120" cy="259920"/>
            </a:xfrm>
          </p:grpSpPr>
          <p:grpSp>
            <p:nvGrpSpPr>
              <p:cNvPr id="3663" name=""/>
              <p:cNvGrpSpPr/>
              <p:nvPr/>
            </p:nvGrpSpPr>
            <p:grpSpPr>
              <a:xfrm>
                <a:off x="6296040" y="3224160"/>
                <a:ext cx="312120" cy="193320"/>
                <a:chOff x="6296040" y="3224160"/>
                <a:chExt cx="312120" cy="193320"/>
              </a:xfrm>
            </p:grpSpPr>
            <p:sp>
              <p:nvSpPr>
                <p:cNvPr id="3664" name=""/>
                <p:cNvSpPr/>
                <p:nvPr/>
              </p:nvSpPr>
              <p:spPr>
                <a:xfrm>
                  <a:off x="6296040" y="3224160"/>
                  <a:ext cx="312120" cy="19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65" name=""/>
                <p:cNvGrpSpPr/>
                <p:nvPr/>
              </p:nvGrpSpPr>
              <p:grpSpPr>
                <a:xfrm>
                  <a:off x="6413760" y="3294360"/>
                  <a:ext cx="74160" cy="32760"/>
                  <a:chOff x="6413760" y="3294360"/>
                  <a:chExt cx="74160" cy="32760"/>
                </a:xfrm>
              </p:grpSpPr>
              <p:sp>
                <p:nvSpPr>
                  <p:cNvPr id="3666" name=""/>
                  <p:cNvSpPr/>
                  <p:nvPr/>
                </p:nvSpPr>
                <p:spPr>
                  <a:xfrm>
                    <a:off x="6413760" y="329436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7" name=""/>
                  <p:cNvSpPr/>
                  <p:nvPr/>
                </p:nvSpPr>
                <p:spPr>
                  <a:xfrm>
                    <a:off x="6451920" y="329436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8" name=""/>
                  <p:cNvSpPr/>
                  <p:nvPr/>
                </p:nvSpPr>
                <p:spPr>
                  <a:xfrm>
                    <a:off x="6487920" y="329436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9" name=""/>
                  <p:cNvSpPr/>
                  <p:nvPr/>
                </p:nvSpPr>
                <p:spPr>
                  <a:xfrm>
                    <a:off x="6413760" y="3294360"/>
                    <a:ext cx="7416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70" name=""/>
              <p:cNvSpPr/>
              <p:nvPr/>
            </p:nvSpPr>
            <p:spPr>
              <a:xfrm>
                <a:off x="6451560" y="31575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1" name=""/>
            <p:cNvSpPr/>
            <p:nvPr/>
          </p:nvSpPr>
          <p:spPr>
            <a:xfrm>
              <a:off x="6100920" y="3327480"/>
              <a:ext cx="23004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588000" y="3228480"/>
              <a:ext cx="239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-2 Panzer Engineer Company (Mtz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3" name=""/>
          <p:cNvGrpSpPr/>
          <p:nvPr/>
        </p:nvGrpSpPr>
        <p:grpSpPr>
          <a:xfrm>
            <a:off x="6119640" y="1314360"/>
            <a:ext cx="2413080" cy="284760"/>
            <a:chOff x="6119640" y="1314360"/>
            <a:chExt cx="2413080" cy="284760"/>
          </a:xfrm>
        </p:grpSpPr>
        <p:grpSp>
          <p:nvGrpSpPr>
            <p:cNvPr id="3674" name=""/>
            <p:cNvGrpSpPr/>
            <p:nvPr/>
          </p:nvGrpSpPr>
          <p:grpSpPr>
            <a:xfrm>
              <a:off x="6296040" y="1314360"/>
              <a:ext cx="291600" cy="253800"/>
              <a:chOff x="6296040" y="1314360"/>
              <a:chExt cx="291600" cy="253800"/>
            </a:xfrm>
          </p:grpSpPr>
          <p:grpSp>
            <p:nvGrpSpPr>
              <p:cNvPr id="3675" name=""/>
              <p:cNvGrpSpPr/>
              <p:nvPr/>
            </p:nvGrpSpPr>
            <p:grpSpPr>
              <a:xfrm>
                <a:off x="6296040" y="1377720"/>
                <a:ext cx="291600" cy="190440"/>
                <a:chOff x="6296040" y="1377720"/>
                <a:chExt cx="291600" cy="190440"/>
              </a:xfrm>
            </p:grpSpPr>
            <p:sp>
              <p:nvSpPr>
                <p:cNvPr id="3676" name=""/>
                <p:cNvSpPr/>
                <p:nvPr/>
              </p:nvSpPr>
              <p:spPr>
                <a:xfrm>
                  <a:off x="6297480" y="1377720"/>
                  <a:ext cx="290160" cy="190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7" name=""/>
                <p:cNvSpPr/>
                <p:nvPr/>
              </p:nvSpPr>
              <p:spPr>
                <a:xfrm>
                  <a:off x="6333480" y="1419480"/>
                  <a:ext cx="20808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8" name=""/>
                <p:cNvSpPr/>
                <p:nvPr/>
              </p:nvSpPr>
              <p:spPr>
                <a:xfrm flipV="1">
                  <a:off x="6296040" y="1379160"/>
                  <a:ext cx="140040" cy="18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>
                  <a:off x="6436080" y="1377720"/>
                  <a:ext cx="15012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0" name=""/>
              <p:cNvSpPr/>
              <p:nvPr/>
            </p:nvSpPr>
            <p:spPr>
              <a:xfrm>
                <a:off x="6442200" y="13143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1" name=""/>
            <p:cNvSpPr/>
            <p:nvPr/>
          </p:nvSpPr>
          <p:spPr>
            <a:xfrm>
              <a:off x="6119640" y="147132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572160" y="1383480"/>
              <a:ext cx="196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-2 Assault Gun Company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3" name=""/>
          <p:cNvGrpSpPr/>
          <p:nvPr/>
        </p:nvGrpSpPr>
        <p:grpSpPr>
          <a:xfrm>
            <a:off x="6100920" y="4124160"/>
            <a:ext cx="2882880" cy="285120"/>
            <a:chOff x="6100920" y="4124160"/>
            <a:chExt cx="2882880" cy="285120"/>
          </a:xfrm>
        </p:grpSpPr>
        <p:grpSp>
          <p:nvGrpSpPr>
            <p:cNvPr id="3684" name=""/>
            <p:cNvGrpSpPr/>
            <p:nvPr/>
          </p:nvGrpSpPr>
          <p:grpSpPr>
            <a:xfrm>
              <a:off x="6276960" y="4124160"/>
              <a:ext cx="291600" cy="253800"/>
              <a:chOff x="6276960" y="4124160"/>
              <a:chExt cx="291600" cy="253800"/>
            </a:xfrm>
          </p:grpSpPr>
          <p:grpSp>
            <p:nvGrpSpPr>
              <p:cNvPr id="3685" name=""/>
              <p:cNvGrpSpPr/>
              <p:nvPr/>
            </p:nvGrpSpPr>
            <p:grpSpPr>
              <a:xfrm>
                <a:off x="6276960" y="4187520"/>
                <a:ext cx="291600" cy="190440"/>
                <a:chOff x="6276960" y="4187520"/>
                <a:chExt cx="291600" cy="190440"/>
              </a:xfrm>
            </p:grpSpPr>
            <p:sp>
              <p:nvSpPr>
                <p:cNvPr id="3686" name=""/>
                <p:cNvSpPr/>
                <p:nvPr/>
              </p:nvSpPr>
              <p:spPr>
                <a:xfrm>
                  <a:off x="6278400" y="4187520"/>
                  <a:ext cx="290160" cy="190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>
                  <a:off x="6314400" y="4229280"/>
                  <a:ext cx="20808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8" name=""/>
                <p:cNvSpPr/>
                <p:nvPr/>
              </p:nvSpPr>
              <p:spPr>
                <a:xfrm flipV="1">
                  <a:off x="6276960" y="4188960"/>
                  <a:ext cx="140040" cy="18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>
                  <a:off x="6417000" y="4187520"/>
                  <a:ext cx="15012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0" name=""/>
              <p:cNvSpPr/>
              <p:nvPr/>
            </p:nvSpPr>
            <p:spPr>
              <a:xfrm>
                <a:off x="6423120" y="4124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1" name=""/>
            <p:cNvSpPr/>
            <p:nvPr/>
          </p:nvSpPr>
          <p:spPr>
            <a:xfrm>
              <a:off x="6100920" y="4281480"/>
              <a:ext cx="19044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6553080" y="4193640"/>
              <a:ext cx="243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Heavy Panzerjaeger Company (SP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1886040" y="4320"/>
            <a:ext cx="3603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BG-07-&gt;BG-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779400" y="209160"/>
            <a:ext cx="2457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Battle Group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mored Reconnaissance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5" name=""/>
          <p:cNvGrpSpPr/>
          <p:nvPr/>
        </p:nvGrpSpPr>
        <p:grpSpPr>
          <a:xfrm>
            <a:off x="2930400" y="4735440"/>
            <a:ext cx="1992600" cy="275400"/>
            <a:chOff x="2930400" y="4735440"/>
            <a:chExt cx="1992600" cy="275400"/>
          </a:xfrm>
        </p:grpSpPr>
        <p:grpSp>
          <p:nvGrpSpPr>
            <p:cNvPr id="3696" name=""/>
            <p:cNvGrpSpPr/>
            <p:nvPr/>
          </p:nvGrpSpPr>
          <p:grpSpPr>
            <a:xfrm>
              <a:off x="3157200" y="4735440"/>
              <a:ext cx="284040" cy="260280"/>
              <a:chOff x="3157200" y="4735440"/>
              <a:chExt cx="284040" cy="260280"/>
            </a:xfrm>
          </p:grpSpPr>
          <p:grpSp>
            <p:nvGrpSpPr>
              <p:cNvPr id="3697" name=""/>
              <p:cNvGrpSpPr/>
              <p:nvPr/>
            </p:nvGrpSpPr>
            <p:grpSpPr>
              <a:xfrm>
                <a:off x="3157200" y="4802040"/>
                <a:ext cx="284040" cy="193680"/>
                <a:chOff x="3157200" y="4802040"/>
                <a:chExt cx="284040" cy="193680"/>
              </a:xfrm>
            </p:grpSpPr>
            <p:sp>
              <p:nvSpPr>
                <p:cNvPr id="3698" name=""/>
                <p:cNvSpPr/>
                <p:nvPr/>
              </p:nvSpPr>
              <p:spPr>
                <a:xfrm>
                  <a:off x="3157200" y="4802040"/>
                  <a:ext cx="284040" cy="193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9" name=""/>
                <p:cNvSpPr/>
                <p:nvPr/>
              </p:nvSpPr>
              <p:spPr>
                <a:xfrm>
                  <a:off x="3209040" y="4850280"/>
                  <a:ext cx="182160" cy="92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0" name=""/>
              <p:cNvSpPr/>
              <p:nvPr/>
            </p:nvSpPr>
            <p:spPr>
              <a:xfrm>
                <a:off x="3299760" y="47354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1" name=""/>
            <p:cNvSpPr/>
            <p:nvPr/>
          </p:nvSpPr>
          <p:spPr>
            <a:xfrm>
              <a:off x="3442320" y="4795200"/>
              <a:ext cx="1480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Panzer Company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2930400" y="4898880"/>
              <a:ext cx="2397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3" name=""/>
          <p:cNvGrpSpPr/>
          <p:nvPr/>
        </p:nvGrpSpPr>
        <p:grpSpPr>
          <a:xfrm>
            <a:off x="284040" y="568440"/>
            <a:ext cx="3311640" cy="5229720"/>
            <a:chOff x="284040" y="568440"/>
            <a:chExt cx="3311640" cy="5229720"/>
          </a:xfrm>
        </p:grpSpPr>
        <p:grpSp>
          <p:nvGrpSpPr>
            <p:cNvPr id="3704" name=""/>
            <p:cNvGrpSpPr/>
            <p:nvPr/>
          </p:nvGrpSpPr>
          <p:grpSpPr>
            <a:xfrm>
              <a:off x="284040" y="568440"/>
              <a:ext cx="364680" cy="302400"/>
              <a:chOff x="284040" y="568440"/>
              <a:chExt cx="364680" cy="302400"/>
            </a:xfrm>
          </p:grpSpPr>
          <p:grpSp>
            <p:nvGrpSpPr>
              <p:cNvPr id="3705" name=""/>
              <p:cNvGrpSpPr/>
              <p:nvPr/>
            </p:nvGrpSpPr>
            <p:grpSpPr>
              <a:xfrm>
                <a:off x="433440" y="568440"/>
                <a:ext cx="75960" cy="63360"/>
                <a:chOff x="433440" y="568440"/>
                <a:chExt cx="75960" cy="63360"/>
              </a:xfrm>
            </p:grpSpPr>
            <p:sp>
              <p:nvSpPr>
                <p:cNvPr id="3706" name=""/>
                <p:cNvSpPr/>
                <p:nvPr/>
              </p:nvSpPr>
              <p:spPr>
                <a:xfrm>
                  <a:off x="433440" y="568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"/>
                <p:cNvSpPr/>
                <p:nvPr/>
              </p:nvSpPr>
              <p:spPr>
                <a:xfrm>
                  <a:off x="509400" y="568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8" name=""/>
              <p:cNvGrpSpPr/>
              <p:nvPr/>
            </p:nvGrpSpPr>
            <p:grpSpPr>
              <a:xfrm>
                <a:off x="284040" y="631440"/>
                <a:ext cx="364680" cy="239400"/>
                <a:chOff x="284040" y="631440"/>
                <a:chExt cx="364680" cy="239400"/>
              </a:xfrm>
            </p:grpSpPr>
            <p:grpSp>
              <p:nvGrpSpPr>
                <p:cNvPr id="3709" name=""/>
                <p:cNvGrpSpPr/>
                <p:nvPr/>
              </p:nvGrpSpPr>
              <p:grpSpPr>
                <a:xfrm>
                  <a:off x="284040" y="631800"/>
                  <a:ext cx="364680" cy="239040"/>
                  <a:chOff x="284040" y="631800"/>
                  <a:chExt cx="364680" cy="239040"/>
                </a:xfrm>
              </p:grpSpPr>
              <p:sp>
                <p:nvSpPr>
                  <p:cNvPr id="3710" name=""/>
                  <p:cNvSpPr/>
                  <p:nvPr/>
                </p:nvSpPr>
                <p:spPr>
                  <a:xfrm>
                    <a:off x="284040" y="631800"/>
                    <a:ext cx="364680" cy="23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1" name=""/>
                  <p:cNvSpPr/>
                  <p:nvPr/>
                </p:nvSpPr>
                <p:spPr>
                  <a:xfrm>
                    <a:off x="351000" y="691560"/>
                    <a:ext cx="230400" cy="11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12" name=""/>
                <p:cNvSpPr/>
                <p:nvPr/>
              </p:nvSpPr>
              <p:spPr>
                <a:xfrm flipV="1">
                  <a:off x="284040" y="631440"/>
                  <a:ext cx="359640" cy="239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13" name=""/>
            <p:cNvSpPr/>
            <p:nvPr/>
          </p:nvSpPr>
          <p:spPr>
            <a:xfrm>
              <a:off x="658800" y="1182600"/>
              <a:ext cx="138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4" name=""/>
            <p:cNvGrpSpPr/>
            <p:nvPr/>
          </p:nvGrpSpPr>
          <p:grpSpPr>
            <a:xfrm>
              <a:off x="433440" y="1397160"/>
              <a:ext cx="2234520" cy="267840"/>
              <a:chOff x="433440" y="1397160"/>
              <a:chExt cx="2234520" cy="267840"/>
            </a:xfrm>
          </p:grpSpPr>
          <p:grpSp>
            <p:nvGrpSpPr>
              <p:cNvPr id="3715" name=""/>
              <p:cNvGrpSpPr/>
              <p:nvPr/>
            </p:nvGrpSpPr>
            <p:grpSpPr>
              <a:xfrm>
                <a:off x="658800" y="1397160"/>
                <a:ext cx="284040" cy="267840"/>
                <a:chOff x="658800" y="1397160"/>
                <a:chExt cx="284040" cy="267840"/>
              </a:xfrm>
            </p:grpSpPr>
            <p:grpSp>
              <p:nvGrpSpPr>
                <p:cNvPr id="3716" name=""/>
                <p:cNvGrpSpPr/>
                <p:nvPr/>
              </p:nvGrpSpPr>
              <p:grpSpPr>
                <a:xfrm>
                  <a:off x="658800" y="1431720"/>
                  <a:ext cx="284040" cy="233280"/>
                  <a:chOff x="658800" y="1431720"/>
                  <a:chExt cx="284040" cy="233280"/>
                </a:xfrm>
              </p:grpSpPr>
              <p:sp>
                <p:nvSpPr>
                  <p:cNvPr id="3717" name=""/>
                  <p:cNvSpPr/>
                  <p:nvPr/>
                </p:nvSpPr>
                <p:spPr>
                  <a:xfrm>
                    <a:off x="658800" y="1432080"/>
                    <a:ext cx="284040" cy="19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8" name=""/>
                  <p:cNvSpPr/>
                  <p:nvPr/>
                </p:nvSpPr>
                <p:spPr>
                  <a:xfrm>
                    <a:off x="671760" y="1631520"/>
                    <a:ext cx="33120" cy="33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9" name=""/>
                  <p:cNvSpPr/>
                  <p:nvPr/>
                </p:nvSpPr>
                <p:spPr>
                  <a:xfrm>
                    <a:off x="894960" y="1631520"/>
                    <a:ext cx="33120" cy="33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0" name=""/>
                  <p:cNvSpPr/>
                  <p:nvPr/>
                </p:nvSpPr>
                <p:spPr>
                  <a:xfrm>
                    <a:off x="699480" y="1482840"/>
                    <a:ext cx="198000" cy="9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1" name=""/>
                  <p:cNvSpPr/>
                  <p:nvPr/>
                </p:nvSpPr>
                <p:spPr>
                  <a:xfrm flipV="1">
                    <a:off x="661680" y="1431720"/>
                    <a:ext cx="279720" cy="186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22" name=""/>
                <p:cNvGrpSpPr/>
                <p:nvPr/>
              </p:nvGrpSpPr>
              <p:grpSpPr>
                <a:xfrm>
                  <a:off x="734760" y="1397160"/>
                  <a:ext cx="131760" cy="27000"/>
                  <a:chOff x="734760" y="1397160"/>
                  <a:chExt cx="131760" cy="27000"/>
                </a:xfrm>
              </p:grpSpPr>
              <p:sp>
                <p:nvSpPr>
                  <p:cNvPr id="3723" name=""/>
                  <p:cNvSpPr/>
                  <p:nvPr/>
                </p:nvSpPr>
                <p:spPr>
                  <a:xfrm>
                    <a:off x="734760" y="13971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4" name=""/>
                  <p:cNvSpPr/>
                  <p:nvPr/>
                </p:nvSpPr>
                <p:spPr>
                  <a:xfrm>
                    <a:off x="785520" y="13971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5" name=""/>
                  <p:cNvSpPr/>
                  <p:nvPr/>
                </p:nvSpPr>
                <p:spPr>
                  <a:xfrm>
                    <a:off x="839520" y="13971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26" name=""/>
              <p:cNvSpPr/>
              <p:nvPr/>
            </p:nvSpPr>
            <p:spPr>
              <a:xfrm>
                <a:off x="433440" y="151128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989280" y="1431360"/>
                <a:ext cx="1678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Armored Car Plato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8" name=""/>
            <p:cNvGrpSpPr/>
            <p:nvPr/>
          </p:nvGrpSpPr>
          <p:grpSpPr>
            <a:xfrm>
              <a:off x="433440" y="722160"/>
              <a:ext cx="2376360" cy="470520"/>
              <a:chOff x="433440" y="722160"/>
              <a:chExt cx="2376360" cy="470520"/>
            </a:xfrm>
          </p:grpSpPr>
          <p:sp>
            <p:nvSpPr>
              <p:cNvPr id="3729" name=""/>
              <p:cNvSpPr/>
              <p:nvPr/>
            </p:nvSpPr>
            <p:spPr>
              <a:xfrm>
                <a:off x="433440" y="106668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0" name=""/>
              <p:cNvGrpSpPr/>
              <p:nvPr/>
            </p:nvGrpSpPr>
            <p:grpSpPr>
              <a:xfrm>
                <a:off x="652320" y="722160"/>
                <a:ext cx="2157480" cy="470520"/>
                <a:chOff x="652320" y="722160"/>
                <a:chExt cx="2157480" cy="470520"/>
              </a:xfrm>
            </p:grpSpPr>
            <p:grpSp>
              <p:nvGrpSpPr>
                <p:cNvPr id="3731" name=""/>
                <p:cNvGrpSpPr/>
                <p:nvPr/>
              </p:nvGrpSpPr>
              <p:grpSpPr>
                <a:xfrm>
                  <a:off x="689040" y="961920"/>
                  <a:ext cx="231840" cy="225000"/>
                  <a:chOff x="689040" y="961920"/>
                  <a:chExt cx="231840" cy="225000"/>
                </a:xfrm>
              </p:grpSpPr>
              <p:grpSp>
                <p:nvGrpSpPr>
                  <p:cNvPr id="3732" name=""/>
                  <p:cNvGrpSpPr/>
                  <p:nvPr/>
                </p:nvGrpSpPr>
                <p:grpSpPr>
                  <a:xfrm>
                    <a:off x="689040" y="996840"/>
                    <a:ext cx="231840" cy="190080"/>
                    <a:chOff x="689040" y="996840"/>
                    <a:chExt cx="231840" cy="190080"/>
                  </a:xfrm>
                </p:grpSpPr>
                <p:sp>
                  <p:nvSpPr>
                    <p:cNvPr id="3733" name=""/>
                    <p:cNvSpPr/>
                    <p:nvPr/>
                  </p:nvSpPr>
                  <p:spPr>
                    <a:xfrm>
                      <a:off x="689040" y="99684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4" name=""/>
                    <p:cNvSpPr/>
                    <p:nvPr/>
                  </p:nvSpPr>
                  <p:spPr>
                    <a:xfrm>
                      <a:off x="699480" y="1159560"/>
                      <a:ext cx="2700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5" name=""/>
                    <p:cNvSpPr/>
                    <p:nvPr/>
                  </p:nvSpPr>
                  <p:spPr>
                    <a:xfrm>
                      <a:off x="881640" y="1159560"/>
                      <a:ext cx="2700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6" name=""/>
                    <p:cNvSpPr/>
                    <p:nvPr/>
                  </p:nvSpPr>
                  <p:spPr>
                    <a:xfrm>
                      <a:off x="722160" y="1038240"/>
                      <a:ext cx="16164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7" name=""/>
                    <p:cNvSpPr/>
                    <p:nvPr/>
                  </p:nvSpPr>
                  <p:spPr>
                    <a:xfrm flipV="1">
                      <a:off x="691200" y="996840"/>
                      <a:ext cx="22824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38" name=""/>
                  <p:cNvSpPr/>
                  <p:nvPr/>
                </p:nvSpPr>
                <p:spPr>
                  <a:xfrm>
                    <a:off x="787320" y="9619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9" name=""/>
                <p:cNvSpPr/>
                <p:nvPr/>
              </p:nvSpPr>
              <p:spPr>
                <a:xfrm>
                  <a:off x="912960" y="84204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927000" y="977040"/>
                  <a:ext cx="181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dKfz 234/1 Armored Car GE-3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652320" y="722160"/>
                  <a:ext cx="21574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99cc00"/>
                      </a:solidFill>
                      <a:latin typeface="Arial"/>
                    </a:rPr>
                    <a:t>HEADQUARTERS ELE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2" name=""/>
            <p:cNvSpPr/>
            <p:nvPr/>
          </p:nvSpPr>
          <p:spPr>
            <a:xfrm>
              <a:off x="542880" y="2692440"/>
              <a:ext cx="16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3" name=""/>
            <p:cNvGrpSpPr/>
            <p:nvPr/>
          </p:nvGrpSpPr>
          <p:grpSpPr>
            <a:xfrm>
              <a:off x="433440" y="1760400"/>
              <a:ext cx="2680200" cy="267840"/>
              <a:chOff x="433440" y="1760400"/>
              <a:chExt cx="2680200" cy="267840"/>
            </a:xfrm>
          </p:grpSpPr>
          <p:grpSp>
            <p:nvGrpSpPr>
              <p:cNvPr id="3744" name=""/>
              <p:cNvGrpSpPr/>
              <p:nvPr/>
            </p:nvGrpSpPr>
            <p:grpSpPr>
              <a:xfrm>
                <a:off x="658800" y="1760400"/>
                <a:ext cx="284040" cy="267840"/>
                <a:chOff x="658800" y="1760400"/>
                <a:chExt cx="284040" cy="267840"/>
              </a:xfrm>
            </p:grpSpPr>
            <p:grpSp>
              <p:nvGrpSpPr>
                <p:cNvPr id="3745" name=""/>
                <p:cNvGrpSpPr/>
                <p:nvPr/>
              </p:nvGrpSpPr>
              <p:grpSpPr>
                <a:xfrm>
                  <a:off x="658800" y="1794960"/>
                  <a:ext cx="284040" cy="233280"/>
                  <a:chOff x="658800" y="1794960"/>
                  <a:chExt cx="284040" cy="233280"/>
                </a:xfrm>
              </p:grpSpPr>
              <p:sp>
                <p:nvSpPr>
                  <p:cNvPr id="3746" name=""/>
                  <p:cNvSpPr/>
                  <p:nvPr/>
                </p:nvSpPr>
                <p:spPr>
                  <a:xfrm>
                    <a:off x="658800" y="1795320"/>
                    <a:ext cx="284040" cy="19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7" name=""/>
                  <p:cNvSpPr/>
                  <p:nvPr/>
                </p:nvSpPr>
                <p:spPr>
                  <a:xfrm>
                    <a:off x="671760" y="1994760"/>
                    <a:ext cx="33120" cy="33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8" name=""/>
                  <p:cNvSpPr/>
                  <p:nvPr/>
                </p:nvSpPr>
                <p:spPr>
                  <a:xfrm>
                    <a:off x="894960" y="1994760"/>
                    <a:ext cx="33120" cy="33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9" name=""/>
                  <p:cNvSpPr/>
                  <p:nvPr/>
                </p:nvSpPr>
                <p:spPr>
                  <a:xfrm>
                    <a:off x="699480" y="1846080"/>
                    <a:ext cx="198000" cy="9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0" name=""/>
                  <p:cNvSpPr/>
                  <p:nvPr/>
                </p:nvSpPr>
                <p:spPr>
                  <a:xfrm flipV="1">
                    <a:off x="661680" y="1794960"/>
                    <a:ext cx="279720" cy="186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51" name=""/>
                <p:cNvGrpSpPr/>
                <p:nvPr/>
              </p:nvGrpSpPr>
              <p:grpSpPr>
                <a:xfrm>
                  <a:off x="734760" y="1760400"/>
                  <a:ext cx="131760" cy="27000"/>
                  <a:chOff x="734760" y="1760400"/>
                  <a:chExt cx="131760" cy="27000"/>
                </a:xfrm>
              </p:grpSpPr>
              <p:sp>
                <p:nvSpPr>
                  <p:cNvPr id="3752" name=""/>
                  <p:cNvSpPr/>
                  <p:nvPr/>
                </p:nvSpPr>
                <p:spPr>
                  <a:xfrm>
                    <a:off x="734760" y="17604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3" name=""/>
                  <p:cNvSpPr/>
                  <p:nvPr/>
                </p:nvSpPr>
                <p:spPr>
                  <a:xfrm>
                    <a:off x="785520" y="17604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4" name=""/>
                  <p:cNvSpPr/>
                  <p:nvPr/>
                </p:nvSpPr>
                <p:spPr>
                  <a:xfrm>
                    <a:off x="839520" y="17604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55" name=""/>
              <p:cNvSpPr/>
              <p:nvPr/>
            </p:nvSpPr>
            <p:spPr>
              <a:xfrm>
                <a:off x="433440" y="187488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990000" y="1794960"/>
                <a:ext cx="212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Armored Car Platoon (H-track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7" name=""/>
            <p:cNvGrpSpPr/>
            <p:nvPr/>
          </p:nvGrpSpPr>
          <p:grpSpPr>
            <a:xfrm>
              <a:off x="433440" y="2062080"/>
              <a:ext cx="2945160" cy="275400"/>
              <a:chOff x="433440" y="2062080"/>
              <a:chExt cx="2945160" cy="275400"/>
            </a:xfrm>
          </p:grpSpPr>
          <p:grpSp>
            <p:nvGrpSpPr>
              <p:cNvPr id="3758" name=""/>
              <p:cNvGrpSpPr/>
              <p:nvPr/>
            </p:nvGrpSpPr>
            <p:grpSpPr>
              <a:xfrm>
                <a:off x="658800" y="2062080"/>
                <a:ext cx="291960" cy="250920"/>
                <a:chOff x="658800" y="2062080"/>
                <a:chExt cx="291960" cy="250920"/>
              </a:xfrm>
            </p:grpSpPr>
            <p:sp>
              <p:nvSpPr>
                <p:cNvPr id="3759" name=""/>
                <p:cNvSpPr/>
                <p:nvPr/>
              </p:nvSpPr>
              <p:spPr>
                <a:xfrm>
                  <a:off x="804600" y="206208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0" name=""/>
                <p:cNvGrpSpPr/>
                <p:nvPr/>
              </p:nvGrpSpPr>
              <p:grpSpPr>
                <a:xfrm>
                  <a:off x="658800" y="2122200"/>
                  <a:ext cx="291960" cy="190800"/>
                  <a:chOff x="658800" y="2122200"/>
                  <a:chExt cx="291960" cy="190800"/>
                </a:xfrm>
              </p:grpSpPr>
              <p:grpSp>
                <p:nvGrpSpPr>
                  <p:cNvPr id="3761" name=""/>
                  <p:cNvGrpSpPr/>
                  <p:nvPr/>
                </p:nvGrpSpPr>
                <p:grpSpPr>
                  <a:xfrm>
                    <a:off x="658800" y="2122560"/>
                    <a:ext cx="291960" cy="190440"/>
                    <a:chOff x="658800" y="2122560"/>
                    <a:chExt cx="291960" cy="190440"/>
                  </a:xfrm>
                </p:grpSpPr>
                <p:sp>
                  <p:nvSpPr>
                    <p:cNvPr id="3762" name=""/>
                    <p:cNvSpPr/>
                    <p:nvPr/>
                  </p:nvSpPr>
                  <p:spPr>
                    <a:xfrm>
                      <a:off x="658800" y="2122560"/>
                      <a:ext cx="291960" cy="190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3" name=""/>
                    <p:cNvSpPr/>
                    <p:nvPr/>
                  </p:nvSpPr>
                  <p:spPr>
                    <a:xfrm>
                      <a:off x="712440" y="2170080"/>
                      <a:ext cx="184320" cy="90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64" name=""/>
                  <p:cNvSpPr/>
                  <p:nvPr/>
                </p:nvSpPr>
                <p:spPr>
                  <a:xfrm flipV="1">
                    <a:off x="658800" y="2122200"/>
                    <a:ext cx="287640" cy="190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65" name=""/>
              <p:cNvSpPr/>
              <p:nvPr/>
            </p:nvSpPr>
            <p:spPr>
              <a:xfrm>
                <a:off x="433440" y="2203560"/>
                <a:ext cx="239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951480" y="2121840"/>
                <a:ext cx="2427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t. Armd. Reconnaissance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2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7" name=""/>
            <p:cNvGrpSpPr/>
            <p:nvPr/>
          </p:nvGrpSpPr>
          <p:grpSpPr>
            <a:xfrm>
              <a:off x="433440" y="2438280"/>
              <a:ext cx="2980800" cy="251640"/>
              <a:chOff x="433440" y="2438280"/>
              <a:chExt cx="2980800" cy="251640"/>
            </a:xfrm>
          </p:grpSpPr>
          <p:grpSp>
            <p:nvGrpSpPr>
              <p:cNvPr id="3768" name=""/>
              <p:cNvGrpSpPr/>
              <p:nvPr/>
            </p:nvGrpSpPr>
            <p:grpSpPr>
              <a:xfrm>
                <a:off x="654120" y="2438280"/>
                <a:ext cx="291960" cy="250920"/>
                <a:chOff x="654120" y="2438280"/>
                <a:chExt cx="291960" cy="250920"/>
              </a:xfrm>
            </p:grpSpPr>
            <p:sp>
              <p:nvSpPr>
                <p:cNvPr id="3769" name=""/>
                <p:cNvSpPr/>
                <p:nvPr/>
              </p:nvSpPr>
              <p:spPr>
                <a:xfrm>
                  <a:off x="799920" y="243828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70" name=""/>
                <p:cNvGrpSpPr/>
                <p:nvPr/>
              </p:nvGrpSpPr>
              <p:grpSpPr>
                <a:xfrm>
                  <a:off x="654120" y="2498400"/>
                  <a:ext cx="291960" cy="190800"/>
                  <a:chOff x="654120" y="2498400"/>
                  <a:chExt cx="291960" cy="190800"/>
                </a:xfrm>
              </p:grpSpPr>
              <p:grpSp>
                <p:nvGrpSpPr>
                  <p:cNvPr id="3771" name=""/>
                  <p:cNvGrpSpPr/>
                  <p:nvPr/>
                </p:nvGrpSpPr>
                <p:grpSpPr>
                  <a:xfrm>
                    <a:off x="654120" y="2498760"/>
                    <a:ext cx="291960" cy="190440"/>
                    <a:chOff x="654120" y="2498760"/>
                    <a:chExt cx="291960" cy="190440"/>
                  </a:xfrm>
                </p:grpSpPr>
                <p:sp>
                  <p:nvSpPr>
                    <p:cNvPr id="3772" name=""/>
                    <p:cNvSpPr/>
                    <p:nvPr/>
                  </p:nvSpPr>
                  <p:spPr>
                    <a:xfrm>
                      <a:off x="654120" y="2498760"/>
                      <a:ext cx="291960" cy="190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3" name=""/>
                    <p:cNvSpPr/>
                    <p:nvPr/>
                  </p:nvSpPr>
                  <p:spPr>
                    <a:xfrm>
                      <a:off x="707760" y="2546280"/>
                      <a:ext cx="184320" cy="90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74" name=""/>
                  <p:cNvSpPr/>
                  <p:nvPr/>
                </p:nvSpPr>
                <p:spPr>
                  <a:xfrm flipV="1">
                    <a:off x="654120" y="2498400"/>
                    <a:ext cx="287640" cy="190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5" name=""/>
              <p:cNvSpPr/>
              <p:nvPr/>
            </p:nvSpPr>
            <p:spPr>
              <a:xfrm>
                <a:off x="433440" y="258768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972000" y="2474280"/>
                <a:ext cx="2442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Armored Reconnaissance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9*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7" name=""/>
            <p:cNvGrpSpPr/>
            <p:nvPr/>
          </p:nvGrpSpPr>
          <p:grpSpPr>
            <a:xfrm>
              <a:off x="433440" y="2871000"/>
              <a:ext cx="2191680" cy="794880"/>
              <a:chOff x="433440" y="2871000"/>
              <a:chExt cx="2191680" cy="794880"/>
            </a:xfrm>
          </p:grpSpPr>
          <p:sp>
            <p:nvSpPr>
              <p:cNvPr id="3778" name=""/>
              <p:cNvSpPr/>
              <p:nvPr/>
            </p:nvSpPr>
            <p:spPr>
              <a:xfrm>
                <a:off x="698400" y="3068640"/>
                <a:ext cx="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79" name=""/>
              <p:cNvGrpSpPr/>
              <p:nvPr/>
            </p:nvGrpSpPr>
            <p:grpSpPr>
              <a:xfrm>
                <a:off x="433440" y="2871000"/>
                <a:ext cx="2191680" cy="215640"/>
                <a:chOff x="433440" y="2871000"/>
                <a:chExt cx="2191680" cy="215640"/>
              </a:xfrm>
            </p:grpSpPr>
            <p:grpSp>
              <p:nvGrpSpPr>
                <p:cNvPr id="3780" name=""/>
                <p:cNvGrpSpPr/>
                <p:nvPr/>
              </p:nvGrpSpPr>
              <p:grpSpPr>
                <a:xfrm>
                  <a:off x="657000" y="2882520"/>
                  <a:ext cx="231840" cy="185760"/>
                  <a:chOff x="657000" y="2882520"/>
                  <a:chExt cx="231840" cy="185760"/>
                </a:xfrm>
              </p:grpSpPr>
              <p:grpSp>
                <p:nvGrpSpPr>
                  <p:cNvPr id="3781" name=""/>
                  <p:cNvGrpSpPr/>
                  <p:nvPr/>
                </p:nvGrpSpPr>
                <p:grpSpPr>
                  <a:xfrm>
                    <a:off x="657000" y="2910960"/>
                    <a:ext cx="231840" cy="157320"/>
                    <a:chOff x="657000" y="2910960"/>
                    <a:chExt cx="231840" cy="157320"/>
                  </a:xfrm>
                </p:grpSpPr>
                <p:sp>
                  <p:nvSpPr>
                    <p:cNvPr id="3782" name=""/>
                    <p:cNvSpPr/>
                    <p:nvPr/>
                  </p:nvSpPr>
                  <p:spPr>
                    <a:xfrm>
                      <a:off x="657000" y="2910960"/>
                      <a:ext cx="23184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783" name=""/>
                    <p:cNvGrpSpPr/>
                    <p:nvPr/>
                  </p:nvGrpSpPr>
                  <p:grpSpPr>
                    <a:xfrm>
                      <a:off x="744480" y="2968200"/>
                      <a:ext cx="55440" cy="27000"/>
                      <a:chOff x="744480" y="2968200"/>
                      <a:chExt cx="55440" cy="27000"/>
                    </a:xfrm>
                  </p:grpSpPr>
                  <p:sp>
                    <p:nvSpPr>
                      <p:cNvPr id="3784" name=""/>
                      <p:cNvSpPr/>
                      <p:nvPr/>
                    </p:nvSpPr>
                    <p:spPr>
                      <a:xfrm>
                        <a:off x="744480" y="2968200"/>
                        <a:ext cx="0" cy="270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5" name=""/>
                      <p:cNvSpPr/>
                      <p:nvPr/>
                    </p:nvSpPr>
                    <p:spPr>
                      <a:xfrm>
                        <a:off x="772920" y="2968200"/>
                        <a:ext cx="0" cy="270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6" name=""/>
                      <p:cNvSpPr/>
                      <p:nvPr/>
                    </p:nvSpPr>
                    <p:spPr>
                      <a:xfrm>
                        <a:off x="799920" y="2968200"/>
                        <a:ext cx="0" cy="270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7" name=""/>
                      <p:cNvSpPr/>
                      <p:nvPr/>
                    </p:nvSpPr>
                    <p:spPr>
                      <a:xfrm>
                        <a:off x="744480" y="2968200"/>
                        <a:ext cx="554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788" name=""/>
                  <p:cNvGrpSpPr/>
                  <p:nvPr/>
                </p:nvGrpSpPr>
                <p:grpSpPr>
                  <a:xfrm>
                    <a:off x="734760" y="2882520"/>
                    <a:ext cx="74520" cy="28080"/>
                    <a:chOff x="734760" y="2882520"/>
                    <a:chExt cx="74520" cy="28080"/>
                  </a:xfrm>
                </p:grpSpPr>
                <p:sp>
                  <p:nvSpPr>
                    <p:cNvPr id="3789" name=""/>
                    <p:cNvSpPr/>
                    <p:nvPr/>
                  </p:nvSpPr>
                  <p:spPr>
                    <a:xfrm>
                      <a:off x="734760" y="28825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0" name=""/>
                    <p:cNvSpPr/>
                    <p:nvPr/>
                  </p:nvSpPr>
                  <p:spPr>
                    <a:xfrm>
                      <a:off x="782280" y="28839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791" name=""/>
                <p:cNvSpPr/>
                <p:nvPr/>
              </p:nvSpPr>
              <p:spPr>
                <a:xfrm>
                  <a:off x="433440" y="2987640"/>
                  <a:ext cx="239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"/>
                <p:cNvSpPr/>
                <p:nvPr/>
              </p:nvSpPr>
              <p:spPr>
                <a:xfrm>
                  <a:off x="902160" y="2871000"/>
                  <a:ext cx="1722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ioniere (1 with Flame)  GE-4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3" name=""/>
              <p:cNvGrpSpPr/>
              <p:nvPr/>
            </p:nvGrpSpPr>
            <p:grpSpPr>
              <a:xfrm>
                <a:off x="439560" y="3156120"/>
                <a:ext cx="2171880" cy="243360"/>
                <a:chOff x="439560" y="3156120"/>
                <a:chExt cx="2171880" cy="243360"/>
              </a:xfrm>
            </p:grpSpPr>
            <p:sp>
              <p:nvSpPr>
                <p:cNvPr id="3794" name=""/>
                <p:cNvSpPr/>
                <p:nvPr/>
              </p:nvSpPr>
              <p:spPr>
                <a:xfrm>
                  <a:off x="439560" y="3282840"/>
                  <a:ext cx="239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95" name=""/>
                <p:cNvGrpSpPr/>
                <p:nvPr/>
              </p:nvGrpSpPr>
              <p:grpSpPr>
                <a:xfrm>
                  <a:off x="649080" y="3156120"/>
                  <a:ext cx="236520" cy="212040"/>
                  <a:chOff x="649080" y="3156120"/>
                  <a:chExt cx="236520" cy="212040"/>
                </a:xfrm>
              </p:grpSpPr>
              <p:grpSp>
                <p:nvGrpSpPr>
                  <p:cNvPr id="3796" name=""/>
                  <p:cNvGrpSpPr/>
                  <p:nvPr/>
                </p:nvGrpSpPr>
                <p:grpSpPr>
                  <a:xfrm>
                    <a:off x="649080" y="3203280"/>
                    <a:ext cx="236520" cy="164880"/>
                    <a:chOff x="649080" y="3203280"/>
                    <a:chExt cx="236520" cy="164880"/>
                  </a:xfrm>
                </p:grpSpPr>
                <p:sp>
                  <p:nvSpPr>
                    <p:cNvPr id="3797" name=""/>
                    <p:cNvSpPr/>
                    <p:nvPr/>
                  </p:nvSpPr>
                  <p:spPr>
                    <a:xfrm>
                      <a:off x="649080" y="320796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8" name=""/>
                    <p:cNvSpPr/>
                    <p:nvPr/>
                  </p:nvSpPr>
                  <p:spPr>
                    <a:xfrm>
                      <a:off x="649080" y="3214080"/>
                      <a:ext cx="50760" cy="146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9" name=""/>
                    <p:cNvSpPr/>
                    <p:nvPr/>
                  </p:nvSpPr>
                  <p:spPr>
                    <a:xfrm flipV="1">
                      <a:off x="655560" y="3203280"/>
                      <a:ext cx="230040" cy="142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0" name=""/>
                    <p:cNvSpPr/>
                    <p:nvPr/>
                  </p:nvSpPr>
                  <p:spPr>
                    <a:xfrm>
                      <a:off x="666720" y="3231720"/>
                      <a:ext cx="218880" cy="136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01" name=""/>
                  <p:cNvGrpSpPr/>
                  <p:nvPr/>
                </p:nvGrpSpPr>
                <p:grpSpPr>
                  <a:xfrm>
                    <a:off x="730080" y="3156120"/>
                    <a:ext cx="74520" cy="27720"/>
                    <a:chOff x="730080" y="3156120"/>
                    <a:chExt cx="74520" cy="27720"/>
                  </a:xfrm>
                </p:grpSpPr>
                <p:sp>
                  <p:nvSpPr>
                    <p:cNvPr id="3802" name=""/>
                    <p:cNvSpPr/>
                    <p:nvPr/>
                  </p:nvSpPr>
                  <p:spPr>
                    <a:xfrm>
                      <a:off x="730080" y="315612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3" name=""/>
                    <p:cNvSpPr/>
                    <p:nvPr/>
                  </p:nvSpPr>
                  <p:spPr>
                    <a:xfrm>
                      <a:off x="777600" y="315756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804" name=""/>
                <p:cNvSpPr/>
                <p:nvPr/>
              </p:nvSpPr>
              <p:spPr>
                <a:xfrm>
                  <a:off x="905040" y="3183840"/>
                  <a:ext cx="1706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MG                              GE-4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5" name=""/>
              <p:cNvGrpSpPr/>
              <p:nvPr/>
            </p:nvGrpSpPr>
            <p:grpSpPr>
              <a:xfrm>
                <a:off x="641160" y="3320280"/>
                <a:ext cx="1962360" cy="345600"/>
                <a:chOff x="641160" y="3320280"/>
                <a:chExt cx="1962360" cy="345600"/>
              </a:xfrm>
            </p:grpSpPr>
            <p:grpSp>
              <p:nvGrpSpPr>
                <p:cNvPr id="3806" name=""/>
                <p:cNvGrpSpPr/>
                <p:nvPr/>
              </p:nvGrpSpPr>
              <p:grpSpPr>
                <a:xfrm>
                  <a:off x="641160" y="3428640"/>
                  <a:ext cx="239760" cy="233280"/>
                  <a:chOff x="641160" y="3428640"/>
                  <a:chExt cx="239760" cy="233280"/>
                </a:xfrm>
              </p:grpSpPr>
              <p:grpSp>
                <p:nvGrpSpPr>
                  <p:cNvPr id="3807" name=""/>
                  <p:cNvGrpSpPr/>
                  <p:nvPr/>
                </p:nvGrpSpPr>
                <p:grpSpPr>
                  <a:xfrm>
                    <a:off x="641160" y="3472920"/>
                    <a:ext cx="239760" cy="189000"/>
                    <a:chOff x="641160" y="3472920"/>
                    <a:chExt cx="239760" cy="189000"/>
                  </a:xfrm>
                </p:grpSpPr>
                <p:sp>
                  <p:nvSpPr>
                    <p:cNvPr id="3808" name=""/>
                    <p:cNvSpPr/>
                    <p:nvPr/>
                  </p:nvSpPr>
                  <p:spPr>
                    <a:xfrm>
                      <a:off x="641160" y="3472920"/>
                      <a:ext cx="23976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9" name=""/>
                    <p:cNvSpPr/>
                    <p:nvPr/>
                  </p:nvSpPr>
                  <p:spPr>
                    <a:xfrm>
                      <a:off x="677880" y="3512880"/>
                      <a:ext cx="169920" cy="74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0" name=""/>
                    <p:cNvSpPr/>
                    <p:nvPr/>
                  </p:nvSpPr>
                  <p:spPr>
                    <a:xfrm>
                      <a:off x="657000" y="363492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1" name=""/>
                    <p:cNvSpPr/>
                    <p:nvPr/>
                  </p:nvSpPr>
                  <p:spPr>
                    <a:xfrm>
                      <a:off x="770040" y="36334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2" name=""/>
                    <p:cNvSpPr/>
                    <p:nvPr/>
                  </p:nvSpPr>
                  <p:spPr>
                    <a:xfrm>
                      <a:off x="846000" y="3633480"/>
                      <a:ext cx="288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3" name=""/>
                    <p:cNvSpPr/>
                    <p:nvPr/>
                  </p:nvSpPr>
                  <p:spPr>
                    <a:xfrm>
                      <a:off x="790560" y="3633480"/>
                      <a:ext cx="61920" cy="27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814" name=""/>
                    <p:cNvGrpSpPr/>
                    <p:nvPr/>
                  </p:nvGrpSpPr>
                  <p:grpSpPr>
                    <a:xfrm>
                      <a:off x="738000" y="3534840"/>
                      <a:ext cx="55440" cy="27000"/>
                      <a:chOff x="738000" y="3534840"/>
                      <a:chExt cx="55440" cy="27000"/>
                    </a:xfrm>
                  </p:grpSpPr>
                  <p:sp>
                    <p:nvSpPr>
                      <p:cNvPr id="3815" name=""/>
                      <p:cNvSpPr/>
                      <p:nvPr/>
                    </p:nvSpPr>
                    <p:spPr>
                      <a:xfrm>
                        <a:off x="738000" y="3534840"/>
                        <a:ext cx="0" cy="270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6" name=""/>
                      <p:cNvSpPr/>
                      <p:nvPr/>
                    </p:nvSpPr>
                    <p:spPr>
                      <a:xfrm>
                        <a:off x="766440" y="3534840"/>
                        <a:ext cx="0" cy="270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7" name=""/>
                      <p:cNvSpPr/>
                      <p:nvPr/>
                    </p:nvSpPr>
                    <p:spPr>
                      <a:xfrm>
                        <a:off x="793440" y="3534840"/>
                        <a:ext cx="0" cy="270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8" name=""/>
                      <p:cNvSpPr/>
                      <p:nvPr/>
                    </p:nvSpPr>
                    <p:spPr>
                      <a:xfrm>
                        <a:off x="738000" y="3534840"/>
                        <a:ext cx="554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819" name=""/>
                  <p:cNvGrpSpPr/>
                  <p:nvPr/>
                </p:nvGrpSpPr>
                <p:grpSpPr>
                  <a:xfrm>
                    <a:off x="723600" y="3428640"/>
                    <a:ext cx="74520" cy="28080"/>
                    <a:chOff x="723600" y="3428640"/>
                    <a:chExt cx="74520" cy="28080"/>
                  </a:xfrm>
                </p:grpSpPr>
                <p:sp>
                  <p:nvSpPr>
                    <p:cNvPr id="3820" name=""/>
                    <p:cNvSpPr/>
                    <p:nvPr/>
                  </p:nvSpPr>
                  <p:spPr>
                    <a:xfrm>
                      <a:off x="723600" y="34286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1" name=""/>
                    <p:cNvSpPr/>
                    <p:nvPr/>
                  </p:nvSpPr>
                  <p:spPr>
                    <a:xfrm>
                      <a:off x="771120" y="34300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822" name=""/>
                <p:cNvSpPr/>
                <p:nvPr/>
              </p:nvSpPr>
              <p:spPr>
                <a:xfrm>
                  <a:off x="907920" y="3450240"/>
                  <a:ext cx="16956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dKfz 251/7                  GE-2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3" name=""/>
                <p:cNvSpPr/>
                <p:nvPr/>
              </p:nvSpPr>
              <p:spPr>
                <a:xfrm>
                  <a:off x="927360" y="332028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24" name=""/>
            <p:cNvSpPr/>
            <p:nvPr/>
          </p:nvSpPr>
          <p:spPr>
            <a:xfrm>
              <a:off x="2931840" y="454752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Alternati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5" name=""/>
            <p:cNvGrpSpPr/>
            <p:nvPr/>
          </p:nvGrpSpPr>
          <p:grpSpPr>
            <a:xfrm>
              <a:off x="439560" y="3687120"/>
              <a:ext cx="2352960" cy="353880"/>
              <a:chOff x="439560" y="3687120"/>
              <a:chExt cx="2352960" cy="353880"/>
            </a:xfrm>
          </p:grpSpPr>
          <p:sp>
            <p:nvSpPr>
              <p:cNvPr id="3826" name=""/>
              <p:cNvSpPr/>
              <p:nvPr/>
            </p:nvSpPr>
            <p:spPr>
              <a:xfrm>
                <a:off x="439560" y="392580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27" name=""/>
              <p:cNvGrpSpPr/>
              <p:nvPr/>
            </p:nvGrpSpPr>
            <p:grpSpPr>
              <a:xfrm>
                <a:off x="653760" y="3687120"/>
                <a:ext cx="2138760" cy="353880"/>
                <a:chOff x="653760" y="3687120"/>
                <a:chExt cx="2138760" cy="353880"/>
              </a:xfrm>
            </p:grpSpPr>
            <p:grpSp>
              <p:nvGrpSpPr>
                <p:cNvPr id="3828" name=""/>
                <p:cNvGrpSpPr/>
                <p:nvPr/>
              </p:nvGrpSpPr>
              <p:grpSpPr>
                <a:xfrm>
                  <a:off x="653760" y="3811680"/>
                  <a:ext cx="239760" cy="229320"/>
                  <a:chOff x="653760" y="3811680"/>
                  <a:chExt cx="239760" cy="229320"/>
                </a:xfrm>
              </p:grpSpPr>
              <p:grpSp>
                <p:nvGrpSpPr>
                  <p:cNvPr id="3829" name=""/>
                  <p:cNvGrpSpPr/>
                  <p:nvPr/>
                </p:nvGrpSpPr>
                <p:grpSpPr>
                  <a:xfrm>
                    <a:off x="653760" y="3848040"/>
                    <a:ext cx="239760" cy="192960"/>
                    <a:chOff x="653760" y="3848040"/>
                    <a:chExt cx="239760" cy="192960"/>
                  </a:xfrm>
                </p:grpSpPr>
                <p:sp>
                  <p:nvSpPr>
                    <p:cNvPr id="3830" name=""/>
                    <p:cNvSpPr/>
                    <p:nvPr/>
                  </p:nvSpPr>
                  <p:spPr>
                    <a:xfrm>
                      <a:off x="653760" y="3848040"/>
                      <a:ext cx="23976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1" name=""/>
                    <p:cNvSpPr/>
                    <p:nvPr/>
                  </p:nvSpPr>
                  <p:spPr>
                    <a:xfrm>
                      <a:off x="693360" y="3889080"/>
                      <a:ext cx="160200" cy="74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760" bIns="5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2" name=""/>
                    <p:cNvSpPr/>
                    <p:nvPr/>
                  </p:nvSpPr>
                  <p:spPr>
                    <a:xfrm flipV="1">
                      <a:off x="655200" y="3848760"/>
                      <a:ext cx="23832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3" name=""/>
                    <p:cNvSpPr/>
                    <p:nvPr/>
                  </p:nvSpPr>
                  <p:spPr>
                    <a:xfrm>
                      <a:off x="759960" y="3912840"/>
                      <a:ext cx="27000" cy="26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4" name=""/>
                    <p:cNvSpPr/>
                    <p:nvPr/>
                  </p:nvSpPr>
                  <p:spPr>
                    <a:xfrm>
                      <a:off x="667800" y="40143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5" name=""/>
                    <p:cNvSpPr/>
                    <p:nvPr/>
                  </p:nvSpPr>
                  <p:spPr>
                    <a:xfrm>
                      <a:off x="780840" y="40129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6" name=""/>
                    <p:cNvSpPr/>
                    <p:nvPr/>
                  </p:nvSpPr>
                  <p:spPr>
                    <a:xfrm>
                      <a:off x="856800" y="4012920"/>
                      <a:ext cx="288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7" name=""/>
                    <p:cNvSpPr/>
                    <p:nvPr/>
                  </p:nvSpPr>
                  <p:spPr>
                    <a:xfrm>
                      <a:off x="801360" y="4012920"/>
                      <a:ext cx="61920" cy="26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38" name=""/>
                  <p:cNvGrpSpPr/>
                  <p:nvPr/>
                </p:nvGrpSpPr>
                <p:grpSpPr>
                  <a:xfrm>
                    <a:off x="736200" y="3811680"/>
                    <a:ext cx="74520" cy="28080"/>
                    <a:chOff x="736200" y="3811680"/>
                    <a:chExt cx="74520" cy="28080"/>
                  </a:xfrm>
                </p:grpSpPr>
                <p:sp>
                  <p:nvSpPr>
                    <p:cNvPr id="3839" name=""/>
                    <p:cNvSpPr/>
                    <p:nvPr/>
                  </p:nvSpPr>
                  <p:spPr>
                    <a:xfrm>
                      <a:off x="736200" y="38116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0" name=""/>
                    <p:cNvSpPr/>
                    <p:nvPr/>
                  </p:nvSpPr>
                  <p:spPr>
                    <a:xfrm>
                      <a:off x="783720" y="38131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841" name=""/>
                <p:cNvSpPr/>
                <p:nvPr/>
              </p:nvSpPr>
              <p:spPr>
                <a:xfrm>
                  <a:off x="884520" y="3687120"/>
                  <a:ext cx="1127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rganic Fire Sup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2" name=""/>
                <p:cNvSpPr/>
                <p:nvPr/>
              </p:nvSpPr>
              <p:spPr>
                <a:xfrm>
                  <a:off x="918360" y="3822120"/>
                  <a:ext cx="1874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dKfz 250/8 75mm H-track GE-2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43" name=""/>
            <p:cNvGrpSpPr/>
            <p:nvPr/>
          </p:nvGrpSpPr>
          <p:grpSpPr>
            <a:xfrm>
              <a:off x="422280" y="4036320"/>
              <a:ext cx="2452680" cy="350640"/>
              <a:chOff x="422280" y="4036320"/>
              <a:chExt cx="2452680" cy="350640"/>
            </a:xfrm>
          </p:grpSpPr>
          <p:sp>
            <p:nvSpPr>
              <p:cNvPr id="3844" name=""/>
              <p:cNvSpPr/>
              <p:nvPr/>
            </p:nvSpPr>
            <p:spPr>
              <a:xfrm>
                <a:off x="422280" y="420840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45" name=""/>
              <p:cNvGrpSpPr/>
              <p:nvPr/>
            </p:nvGrpSpPr>
            <p:grpSpPr>
              <a:xfrm>
                <a:off x="631800" y="4087800"/>
                <a:ext cx="239760" cy="234720"/>
                <a:chOff x="631800" y="4087800"/>
                <a:chExt cx="239760" cy="234720"/>
              </a:xfrm>
            </p:grpSpPr>
            <p:grpSp>
              <p:nvGrpSpPr>
                <p:cNvPr id="3846" name=""/>
                <p:cNvGrpSpPr/>
                <p:nvPr/>
              </p:nvGrpSpPr>
              <p:grpSpPr>
                <a:xfrm>
                  <a:off x="631800" y="4133880"/>
                  <a:ext cx="239760" cy="188640"/>
                  <a:chOff x="631800" y="4133880"/>
                  <a:chExt cx="239760" cy="188640"/>
                </a:xfrm>
              </p:grpSpPr>
              <p:sp>
                <p:nvSpPr>
                  <p:cNvPr id="3847" name=""/>
                  <p:cNvSpPr/>
                  <p:nvPr/>
                </p:nvSpPr>
                <p:spPr>
                  <a:xfrm>
                    <a:off x="631800" y="4133880"/>
                    <a:ext cx="239760" cy="157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8" name=""/>
                  <p:cNvSpPr/>
                  <p:nvPr/>
                </p:nvSpPr>
                <p:spPr>
                  <a:xfrm>
                    <a:off x="645840" y="429516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9" name=""/>
                  <p:cNvSpPr/>
                  <p:nvPr/>
                </p:nvSpPr>
                <p:spPr>
                  <a:xfrm>
                    <a:off x="759240" y="429408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0" name=""/>
                  <p:cNvSpPr/>
                  <p:nvPr/>
                </p:nvSpPr>
                <p:spPr>
                  <a:xfrm>
                    <a:off x="835560" y="429408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1" name=""/>
                  <p:cNvSpPr/>
                  <p:nvPr/>
                </p:nvSpPr>
                <p:spPr>
                  <a:xfrm>
                    <a:off x="779400" y="4294080"/>
                    <a:ext cx="61920" cy="273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2" name=""/>
                  <p:cNvSpPr/>
                  <p:nvPr/>
                </p:nvSpPr>
                <p:spPr>
                  <a:xfrm>
                    <a:off x="664920" y="4168440"/>
                    <a:ext cx="165600" cy="84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3" name=""/>
                  <p:cNvSpPr/>
                  <p:nvPr/>
                </p:nvSpPr>
                <p:spPr>
                  <a:xfrm>
                    <a:off x="752040" y="4185360"/>
                    <a:ext cx="0" cy="4752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4" name=""/>
                  <p:cNvSpPr/>
                  <p:nvPr/>
                </p:nvSpPr>
                <p:spPr>
                  <a:xfrm>
                    <a:off x="718920" y="4235400"/>
                    <a:ext cx="6768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55" name=""/>
                <p:cNvGrpSpPr/>
                <p:nvPr/>
              </p:nvGrpSpPr>
              <p:grpSpPr>
                <a:xfrm>
                  <a:off x="714240" y="4087800"/>
                  <a:ext cx="74520" cy="28080"/>
                  <a:chOff x="714240" y="4087800"/>
                  <a:chExt cx="74520" cy="28080"/>
                </a:xfrm>
              </p:grpSpPr>
              <p:sp>
                <p:nvSpPr>
                  <p:cNvPr id="3856" name=""/>
                  <p:cNvSpPr/>
                  <p:nvPr/>
                </p:nvSpPr>
                <p:spPr>
                  <a:xfrm>
                    <a:off x="714240" y="40878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7" name=""/>
                  <p:cNvSpPr/>
                  <p:nvPr/>
                </p:nvSpPr>
                <p:spPr>
                  <a:xfrm>
                    <a:off x="761760" y="40892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58" name=""/>
              <p:cNvSpPr/>
              <p:nvPr/>
            </p:nvSpPr>
            <p:spPr>
              <a:xfrm>
                <a:off x="860400" y="4036320"/>
                <a:ext cx="127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895320" y="4171320"/>
                <a:ext cx="1979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dKfz 250/7 Mortar H-track GE-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0" name=""/>
            <p:cNvGrpSpPr/>
            <p:nvPr/>
          </p:nvGrpSpPr>
          <p:grpSpPr>
            <a:xfrm>
              <a:off x="439560" y="4385520"/>
              <a:ext cx="2417760" cy="350640"/>
              <a:chOff x="439560" y="4385520"/>
              <a:chExt cx="2417760" cy="350640"/>
            </a:xfrm>
          </p:grpSpPr>
          <p:sp>
            <p:nvSpPr>
              <p:cNvPr id="3861" name=""/>
              <p:cNvSpPr/>
              <p:nvPr/>
            </p:nvSpPr>
            <p:spPr>
              <a:xfrm>
                <a:off x="439560" y="457344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62" name=""/>
              <p:cNvGrpSpPr/>
              <p:nvPr/>
            </p:nvGrpSpPr>
            <p:grpSpPr>
              <a:xfrm>
                <a:off x="637920" y="4385520"/>
                <a:ext cx="2219400" cy="350640"/>
                <a:chOff x="637920" y="4385520"/>
                <a:chExt cx="2219400" cy="350640"/>
              </a:xfrm>
            </p:grpSpPr>
            <p:grpSp>
              <p:nvGrpSpPr>
                <p:cNvPr id="3863" name=""/>
                <p:cNvGrpSpPr/>
                <p:nvPr/>
              </p:nvGrpSpPr>
              <p:grpSpPr>
                <a:xfrm>
                  <a:off x="637920" y="4473360"/>
                  <a:ext cx="239760" cy="226800"/>
                  <a:chOff x="637920" y="4473360"/>
                  <a:chExt cx="239760" cy="226800"/>
                </a:xfrm>
              </p:grpSpPr>
              <p:grpSp>
                <p:nvGrpSpPr>
                  <p:cNvPr id="3864" name=""/>
                  <p:cNvGrpSpPr/>
                  <p:nvPr/>
                </p:nvGrpSpPr>
                <p:grpSpPr>
                  <a:xfrm>
                    <a:off x="720720" y="4473360"/>
                    <a:ext cx="74520" cy="28080"/>
                    <a:chOff x="720720" y="4473360"/>
                    <a:chExt cx="74520" cy="28080"/>
                  </a:xfrm>
                </p:grpSpPr>
                <p:sp>
                  <p:nvSpPr>
                    <p:cNvPr id="3865" name=""/>
                    <p:cNvSpPr/>
                    <p:nvPr/>
                  </p:nvSpPr>
                  <p:spPr>
                    <a:xfrm>
                      <a:off x="720720" y="44733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6" name=""/>
                    <p:cNvSpPr/>
                    <p:nvPr/>
                  </p:nvSpPr>
                  <p:spPr>
                    <a:xfrm>
                      <a:off x="768240" y="44748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7" name=""/>
                  <p:cNvGrpSpPr/>
                  <p:nvPr/>
                </p:nvGrpSpPr>
                <p:grpSpPr>
                  <a:xfrm>
                    <a:off x="637920" y="4506480"/>
                    <a:ext cx="239760" cy="193680"/>
                    <a:chOff x="637920" y="4506480"/>
                    <a:chExt cx="239760" cy="193680"/>
                  </a:xfrm>
                </p:grpSpPr>
                <p:sp>
                  <p:nvSpPr>
                    <p:cNvPr id="3868" name=""/>
                    <p:cNvSpPr/>
                    <p:nvPr/>
                  </p:nvSpPr>
                  <p:spPr>
                    <a:xfrm>
                      <a:off x="637920" y="4506480"/>
                      <a:ext cx="23976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9" name=""/>
                    <p:cNvSpPr/>
                    <p:nvPr/>
                  </p:nvSpPr>
                  <p:spPr>
                    <a:xfrm>
                      <a:off x="677880" y="4547880"/>
                      <a:ext cx="160200" cy="74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0" name=""/>
                    <p:cNvSpPr/>
                    <p:nvPr/>
                  </p:nvSpPr>
                  <p:spPr>
                    <a:xfrm flipV="1">
                      <a:off x="639720" y="4507920"/>
                      <a:ext cx="23796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1" name=""/>
                    <p:cNvSpPr/>
                    <p:nvPr/>
                  </p:nvSpPr>
                  <p:spPr>
                    <a:xfrm>
                      <a:off x="744480" y="4571640"/>
                      <a:ext cx="27000" cy="2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2" name=""/>
                    <p:cNvSpPr/>
                    <p:nvPr/>
                  </p:nvSpPr>
                  <p:spPr>
                    <a:xfrm>
                      <a:off x="652320" y="467316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3" name=""/>
                    <p:cNvSpPr/>
                    <p:nvPr/>
                  </p:nvSpPr>
                  <p:spPr>
                    <a:xfrm>
                      <a:off x="841320" y="467172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874" name=""/>
                <p:cNvSpPr/>
                <p:nvPr/>
              </p:nvSpPr>
              <p:spPr>
                <a:xfrm>
                  <a:off x="842760" y="4385520"/>
                  <a:ext cx="1271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rganic Fire Sup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5" name=""/>
                <p:cNvSpPr/>
                <p:nvPr/>
              </p:nvSpPr>
              <p:spPr>
                <a:xfrm>
                  <a:off x="877680" y="4520520"/>
                  <a:ext cx="1979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dKfz 234/3 75mm A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76" name=""/>
            <p:cNvGrpSpPr/>
            <p:nvPr/>
          </p:nvGrpSpPr>
          <p:grpSpPr>
            <a:xfrm>
              <a:off x="422280" y="5541840"/>
              <a:ext cx="2889720" cy="256320"/>
              <a:chOff x="422280" y="5541840"/>
              <a:chExt cx="2889720" cy="256320"/>
            </a:xfrm>
          </p:grpSpPr>
          <p:grpSp>
            <p:nvGrpSpPr>
              <p:cNvPr id="3877" name=""/>
              <p:cNvGrpSpPr/>
              <p:nvPr/>
            </p:nvGrpSpPr>
            <p:grpSpPr>
              <a:xfrm>
                <a:off x="633240" y="5541840"/>
                <a:ext cx="291600" cy="231480"/>
                <a:chOff x="633240" y="5541840"/>
                <a:chExt cx="291600" cy="231480"/>
              </a:xfrm>
            </p:grpSpPr>
            <p:grpSp>
              <p:nvGrpSpPr>
                <p:cNvPr id="3878" name=""/>
                <p:cNvGrpSpPr/>
                <p:nvPr/>
              </p:nvGrpSpPr>
              <p:grpSpPr>
                <a:xfrm>
                  <a:off x="633240" y="5582880"/>
                  <a:ext cx="291600" cy="190440"/>
                  <a:chOff x="633240" y="5582880"/>
                  <a:chExt cx="291600" cy="190440"/>
                </a:xfrm>
              </p:grpSpPr>
              <p:sp>
                <p:nvSpPr>
                  <p:cNvPr id="3879" name=""/>
                  <p:cNvSpPr/>
                  <p:nvPr/>
                </p:nvSpPr>
                <p:spPr>
                  <a:xfrm>
                    <a:off x="633240" y="5582880"/>
                    <a:ext cx="291600" cy="190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0" name=""/>
                  <p:cNvSpPr/>
                  <p:nvPr/>
                </p:nvSpPr>
                <p:spPr>
                  <a:xfrm>
                    <a:off x="683640" y="5631120"/>
                    <a:ext cx="187560" cy="90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1" name=""/>
                  <p:cNvSpPr/>
                  <p:nvPr/>
                </p:nvSpPr>
                <p:spPr>
                  <a:xfrm>
                    <a:off x="758880" y="565596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82" name=""/>
                <p:cNvSpPr/>
                <p:nvPr/>
              </p:nvSpPr>
              <p:spPr>
                <a:xfrm>
                  <a:off x="779040" y="5541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3" name=""/>
              <p:cNvSpPr/>
              <p:nvPr/>
            </p:nvSpPr>
            <p:spPr>
              <a:xfrm>
                <a:off x="948960" y="5582520"/>
                <a:ext cx="2363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Artillery Battery (SP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(element) </a:t>
                </a: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FS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22280" y="567684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5" name=""/>
            <p:cNvGrpSpPr/>
            <p:nvPr/>
          </p:nvGrpSpPr>
          <p:grpSpPr>
            <a:xfrm>
              <a:off x="444600" y="4735440"/>
              <a:ext cx="2532600" cy="253080"/>
              <a:chOff x="444600" y="4735440"/>
              <a:chExt cx="2532600" cy="253080"/>
            </a:xfrm>
          </p:grpSpPr>
          <p:grpSp>
            <p:nvGrpSpPr>
              <p:cNvPr id="3886" name=""/>
              <p:cNvGrpSpPr/>
              <p:nvPr/>
            </p:nvGrpSpPr>
            <p:grpSpPr>
              <a:xfrm>
                <a:off x="662040" y="4735440"/>
                <a:ext cx="291960" cy="247680"/>
                <a:chOff x="662040" y="4735440"/>
                <a:chExt cx="291960" cy="247680"/>
              </a:xfrm>
            </p:grpSpPr>
            <p:grpSp>
              <p:nvGrpSpPr>
                <p:cNvPr id="3887" name=""/>
                <p:cNvGrpSpPr/>
                <p:nvPr/>
              </p:nvGrpSpPr>
              <p:grpSpPr>
                <a:xfrm>
                  <a:off x="662040" y="4792680"/>
                  <a:ext cx="291960" cy="190440"/>
                  <a:chOff x="662040" y="4792680"/>
                  <a:chExt cx="291960" cy="190440"/>
                </a:xfrm>
              </p:grpSpPr>
              <p:sp>
                <p:nvSpPr>
                  <p:cNvPr id="3888" name=""/>
                  <p:cNvSpPr/>
                  <p:nvPr/>
                </p:nvSpPr>
                <p:spPr>
                  <a:xfrm>
                    <a:off x="663480" y="4792680"/>
                    <a:ext cx="290520" cy="190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9" name=""/>
                  <p:cNvSpPr/>
                  <p:nvPr/>
                </p:nvSpPr>
                <p:spPr>
                  <a:xfrm>
                    <a:off x="699480" y="4834440"/>
                    <a:ext cx="208080" cy="9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0" name=""/>
                  <p:cNvSpPr/>
                  <p:nvPr/>
                </p:nvSpPr>
                <p:spPr>
                  <a:xfrm flipV="1">
                    <a:off x="662040" y="4794120"/>
                    <a:ext cx="140400" cy="188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1" name=""/>
                  <p:cNvSpPr/>
                  <p:nvPr/>
                </p:nvSpPr>
                <p:spPr>
                  <a:xfrm>
                    <a:off x="802440" y="4792680"/>
                    <a:ext cx="150480" cy="189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92" name=""/>
                <p:cNvSpPr/>
                <p:nvPr/>
              </p:nvSpPr>
              <p:spPr>
                <a:xfrm>
                  <a:off x="808200" y="4735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3" name=""/>
              <p:cNvSpPr/>
              <p:nvPr/>
            </p:nvSpPr>
            <p:spPr>
              <a:xfrm>
                <a:off x="444600" y="486720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963360" y="4772880"/>
                <a:ext cx="2013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Panzerjaeger Company (SP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5" name=""/>
            <p:cNvGrpSpPr/>
            <p:nvPr/>
          </p:nvGrpSpPr>
          <p:grpSpPr>
            <a:xfrm>
              <a:off x="444600" y="5286240"/>
              <a:ext cx="2464920" cy="230760"/>
              <a:chOff x="444600" y="5286240"/>
              <a:chExt cx="2464920" cy="230760"/>
            </a:xfrm>
          </p:grpSpPr>
          <p:grpSp>
            <p:nvGrpSpPr>
              <p:cNvPr id="3896" name=""/>
              <p:cNvGrpSpPr/>
              <p:nvPr/>
            </p:nvGrpSpPr>
            <p:grpSpPr>
              <a:xfrm>
                <a:off x="660240" y="5286240"/>
                <a:ext cx="291600" cy="223560"/>
                <a:chOff x="660240" y="5286240"/>
                <a:chExt cx="291600" cy="223560"/>
              </a:xfrm>
            </p:grpSpPr>
            <p:grpSp>
              <p:nvGrpSpPr>
                <p:cNvPr id="3897" name=""/>
                <p:cNvGrpSpPr/>
                <p:nvPr/>
              </p:nvGrpSpPr>
              <p:grpSpPr>
                <a:xfrm>
                  <a:off x="660240" y="5316480"/>
                  <a:ext cx="291600" cy="193320"/>
                  <a:chOff x="660240" y="5316480"/>
                  <a:chExt cx="291600" cy="193320"/>
                </a:xfrm>
              </p:grpSpPr>
              <p:sp>
                <p:nvSpPr>
                  <p:cNvPr id="3898" name=""/>
                  <p:cNvSpPr/>
                  <p:nvPr/>
                </p:nvSpPr>
                <p:spPr>
                  <a:xfrm>
                    <a:off x="660240" y="5318640"/>
                    <a:ext cx="291600" cy="191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9" name=""/>
                  <p:cNvSpPr/>
                  <p:nvPr/>
                </p:nvSpPr>
                <p:spPr>
                  <a:xfrm>
                    <a:off x="731520" y="5409360"/>
                    <a:ext cx="144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0" name=""/>
                  <p:cNvSpPr/>
                  <p:nvPr/>
                </p:nvSpPr>
                <p:spPr>
                  <a:xfrm flipV="1">
                    <a:off x="660240" y="5318640"/>
                    <a:ext cx="14112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1" name=""/>
                  <p:cNvSpPr/>
                  <p:nvPr/>
                </p:nvSpPr>
                <p:spPr>
                  <a:xfrm>
                    <a:off x="801360" y="5316480"/>
                    <a:ext cx="150480" cy="190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2" name=""/>
                <p:cNvGrpSpPr/>
                <p:nvPr/>
              </p:nvGrpSpPr>
              <p:grpSpPr>
                <a:xfrm>
                  <a:off x="739440" y="5286240"/>
                  <a:ext cx="131760" cy="27000"/>
                  <a:chOff x="739440" y="5286240"/>
                  <a:chExt cx="131760" cy="27000"/>
                </a:xfrm>
              </p:grpSpPr>
              <p:sp>
                <p:nvSpPr>
                  <p:cNvPr id="3903" name=""/>
                  <p:cNvSpPr/>
                  <p:nvPr/>
                </p:nvSpPr>
                <p:spPr>
                  <a:xfrm>
                    <a:off x="739440" y="52862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4" name=""/>
                  <p:cNvSpPr/>
                  <p:nvPr/>
                </p:nvSpPr>
                <p:spPr>
                  <a:xfrm>
                    <a:off x="790200" y="52862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5" name=""/>
                  <p:cNvSpPr/>
                  <p:nvPr/>
                </p:nvSpPr>
                <p:spPr>
                  <a:xfrm>
                    <a:off x="844200" y="52862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06" name=""/>
              <p:cNvSpPr/>
              <p:nvPr/>
            </p:nvSpPr>
            <p:spPr>
              <a:xfrm>
                <a:off x="444600" y="540540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951840" y="5301360"/>
                <a:ext cx="1957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Flak Platoon (Towed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8" name=""/>
            <p:cNvGrpSpPr/>
            <p:nvPr/>
          </p:nvGrpSpPr>
          <p:grpSpPr>
            <a:xfrm>
              <a:off x="439560" y="5040360"/>
              <a:ext cx="2692440" cy="246600"/>
              <a:chOff x="439560" y="5040360"/>
              <a:chExt cx="2692440" cy="246600"/>
            </a:xfrm>
          </p:grpSpPr>
          <p:sp>
            <p:nvSpPr>
              <p:cNvPr id="3909" name=""/>
              <p:cNvSpPr/>
              <p:nvPr/>
            </p:nvSpPr>
            <p:spPr>
              <a:xfrm>
                <a:off x="439560" y="515952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10" name=""/>
              <p:cNvGrpSpPr/>
              <p:nvPr/>
            </p:nvGrpSpPr>
            <p:grpSpPr>
              <a:xfrm>
                <a:off x="679320" y="5040360"/>
                <a:ext cx="284040" cy="225000"/>
                <a:chOff x="679320" y="5040360"/>
                <a:chExt cx="284040" cy="225000"/>
              </a:xfrm>
            </p:grpSpPr>
            <p:grpSp>
              <p:nvGrpSpPr>
                <p:cNvPr id="3911" name=""/>
                <p:cNvGrpSpPr/>
                <p:nvPr/>
              </p:nvGrpSpPr>
              <p:grpSpPr>
                <a:xfrm>
                  <a:off x="679320" y="5072040"/>
                  <a:ext cx="284040" cy="193320"/>
                  <a:chOff x="679320" y="5072040"/>
                  <a:chExt cx="284040" cy="193320"/>
                </a:xfrm>
              </p:grpSpPr>
              <p:sp>
                <p:nvSpPr>
                  <p:cNvPr id="3912" name=""/>
                  <p:cNvSpPr/>
                  <p:nvPr/>
                </p:nvSpPr>
                <p:spPr>
                  <a:xfrm>
                    <a:off x="679320" y="5072040"/>
                    <a:ext cx="284040" cy="193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3" name=""/>
                  <p:cNvSpPr/>
                  <p:nvPr/>
                </p:nvSpPr>
                <p:spPr>
                  <a:xfrm flipV="1">
                    <a:off x="679320" y="5076000"/>
                    <a:ext cx="139680" cy="187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4" name=""/>
                  <p:cNvSpPr/>
                  <p:nvPr/>
                </p:nvSpPr>
                <p:spPr>
                  <a:xfrm>
                    <a:off x="819000" y="5072040"/>
                    <a:ext cx="139680" cy="189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5" name=""/>
                <p:cNvGrpSpPr/>
                <p:nvPr/>
              </p:nvGrpSpPr>
              <p:grpSpPr>
                <a:xfrm>
                  <a:off x="753840" y="5040360"/>
                  <a:ext cx="131760" cy="26640"/>
                  <a:chOff x="753840" y="5040360"/>
                  <a:chExt cx="131760" cy="26640"/>
                </a:xfrm>
              </p:grpSpPr>
              <p:sp>
                <p:nvSpPr>
                  <p:cNvPr id="3916" name=""/>
                  <p:cNvSpPr/>
                  <p:nvPr/>
                </p:nvSpPr>
                <p:spPr>
                  <a:xfrm>
                    <a:off x="753840" y="50403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7" name=""/>
                  <p:cNvSpPr/>
                  <p:nvPr/>
                </p:nvSpPr>
                <p:spPr>
                  <a:xfrm>
                    <a:off x="804600" y="50403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8" name=""/>
                  <p:cNvSpPr/>
                  <p:nvPr/>
                </p:nvSpPr>
                <p:spPr>
                  <a:xfrm>
                    <a:off x="858600" y="50403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19" name=""/>
              <p:cNvSpPr/>
              <p:nvPr/>
            </p:nvSpPr>
            <p:spPr>
              <a:xfrm>
                <a:off x="994680" y="5071320"/>
                <a:ext cx="2137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PanzerJaeger Platoon (Towed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0" name=""/>
            <p:cNvSpPr/>
            <p:nvPr/>
          </p:nvSpPr>
          <p:spPr>
            <a:xfrm>
              <a:off x="433440" y="871560"/>
              <a:ext cx="0" cy="370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430200" y="4572000"/>
              <a:ext cx="0" cy="1117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2" name=""/>
          <p:cNvSpPr/>
          <p:nvPr/>
        </p:nvSpPr>
        <p:spPr>
          <a:xfrm>
            <a:off x="4010040" y="630000"/>
            <a:ext cx="14050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Battle Group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Reg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3" name=""/>
          <p:cNvGrpSpPr/>
          <p:nvPr/>
        </p:nvGrpSpPr>
        <p:grpSpPr>
          <a:xfrm>
            <a:off x="5489640" y="5418000"/>
            <a:ext cx="2867040" cy="272160"/>
            <a:chOff x="5489640" y="5418000"/>
            <a:chExt cx="2867040" cy="272160"/>
          </a:xfrm>
        </p:grpSpPr>
        <p:grpSp>
          <p:nvGrpSpPr>
            <p:cNvPr id="3924" name=""/>
            <p:cNvGrpSpPr/>
            <p:nvPr/>
          </p:nvGrpSpPr>
          <p:grpSpPr>
            <a:xfrm>
              <a:off x="5489640" y="5418000"/>
              <a:ext cx="527040" cy="258120"/>
              <a:chOff x="5489640" y="5418000"/>
              <a:chExt cx="527040" cy="258120"/>
            </a:xfrm>
          </p:grpSpPr>
          <p:grpSp>
            <p:nvGrpSpPr>
              <p:cNvPr id="3925" name=""/>
              <p:cNvGrpSpPr/>
              <p:nvPr/>
            </p:nvGrpSpPr>
            <p:grpSpPr>
              <a:xfrm>
                <a:off x="5673960" y="5418000"/>
                <a:ext cx="342720" cy="258120"/>
                <a:chOff x="5673960" y="5418000"/>
                <a:chExt cx="342720" cy="258120"/>
              </a:xfrm>
            </p:grpSpPr>
            <p:grpSp>
              <p:nvGrpSpPr>
                <p:cNvPr id="3926" name=""/>
                <p:cNvGrpSpPr/>
                <p:nvPr/>
              </p:nvGrpSpPr>
              <p:grpSpPr>
                <a:xfrm>
                  <a:off x="5673960" y="5486040"/>
                  <a:ext cx="291600" cy="190080"/>
                  <a:chOff x="5673960" y="5486040"/>
                  <a:chExt cx="291600" cy="190080"/>
                </a:xfrm>
              </p:grpSpPr>
              <p:sp>
                <p:nvSpPr>
                  <p:cNvPr id="3927" name=""/>
                  <p:cNvSpPr/>
                  <p:nvPr/>
                </p:nvSpPr>
                <p:spPr>
                  <a:xfrm>
                    <a:off x="5673960" y="5486040"/>
                    <a:ext cx="29160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8" name=""/>
                  <p:cNvSpPr/>
                  <p:nvPr/>
                </p:nvSpPr>
                <p:spPr>
                  <a:xfrm>
                    <a:off x="5799600" y="555876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29" name=""/>
                <p:cNvGrpSpPr/>
                <p:nvPr/>
              </p:nvGrpSpPr>
              <p:grpSpPr>
                <a:xfrm>
                  <a:off x="5723280" y="5428800"/>
                  <a:ext cx="75960" cy="63360"/>
                  <a:chOff x="5723280" y="5428800"/>
                  <a:chExt cx="75960" cy="63360"/>
                </a:xfrm>
              </p:grpSpPr>
              <p:sp>
                <p:nvSpPr>
                  <p:cNvPr id="3930" name=""/>
                  <p:cNvSpPr/>
                  <p:nvPr/>
                </p:nvSpPr>
                <p:spPr>
                  <a:xfrm>
                    <a:off x="5723280" y="54288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1" name=""/>
                  <p:cNvSpPr/>
                  <p:nvPr/>
                </p:nvSpPr>
                <p:spPr>
                  <a:xfrm>
                    <a:off x="5799240" y="54288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32" name=""/>
                <p:cNvSpPr/>
                <p:nvPr/>
              </p:nvSpPr>
              <p:spPr>
                <a:xfrm>
                  <a:off x="5799240" y="5418000"/>
                  <a:ext cx="217440" cy="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(+)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3" name=""/>
              <p:cNvSpPr/>
              <p:nvPr/>
            </p:nvSpPr>
            <p:spPr>
              <a:xfrm>
                <a:off x="5489640" y="5574960"/>
                <a:ext cx="20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4" name=""/>
            <p:cNvSpPr/>
            <p:nvPr/>
          </p:nvSpPr>
          <p:spPr>
            <a:xfrm>
              <a:off x="5969160" y="5474520"/>
              <a:ext cx="238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Light Artillery Battalion (Towed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FS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5" name=""/>
          <p:cNvGrpSpPr/>
          <p:nvPr/>
        </p:nvGrpSpPr>
        <p:grpSpPr>
          <a:xfrm>
            <a:off x="5307120" y="246240"/>
            <a:ext cx="2862360" cy="6091920"/>
            <a:chOff x="5307120" y="246240"/>
            <a:chExt cx="2862360" cy="6091920"/>
          </a:xfrm>
        </p:grpSpPr>
        <p:sp>
          <p:nvSpPr>
            <p:cNvPr id="3936" name=""/>
            <p:cNvSpPr/>
            <p:nvPr/>
          </p:nvSpPr>
          <p:spPr>
            <a:xfrm>
              <a:off x="5759280" y="2006640"/>
              <a:ext cx="0" cy="31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5634000" y="1231920"/>
              <a:ext cx="138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5605560" y="1749600"/>
              <a:ext cx="164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9" name=""/>
            <p:cNvGrpSpPr/>
            <p:nvPr/>
          </p:nvGrpSpPr>
          <p:grpSpPr>
            <a:xfrm>
              <a:off x="5491080" y="2785320"/>
              <a:ext cx="2141280" cy="215640"/>
              <a:chOff x="5491080" y="2785320"/>
              <a:chExt cx="2141280" cy="215640"/>
            </a:xfrm>
          </p:grpSpPr>
          <p:grpSp>
            <p:nvGrpSpPr>
              <p:cNvPr id="3940" name=""/>
              <p:cNvGrpSpPr/>
              <p:nvPr/>
            </p:nvGrpSpPr>
            <p:grpSpPr>
              <a:xfrm>
                <a:off x="5714640" y="2796840"/>
                <a:ext cx="231840" cy="185760"/>
                <a:chOff x="5714640" y="2796840"/>
                <a:chExt cx="231840" cy="185760"/>
              </a:xfrm>
            </p:grpSpPr>
            <p:grpSp>
              <p:nvGrpSpPr>
                <p:cNvPr id="3941" name=""/>
                <p:cNvGrpSpPr/>
                <p:nvPr/>
              </p:nvGrpSpPr>
              <p:grpSpPr>
                <a:xfrm>
                  <a:off x="5714640" y="2825280"/>
                  <a:ext cx="231840" cy="157320"/>
                  <a:chOff x="5714640" y="2825280"/>
                  <a:chExt cx="231840" cy="157320"/>
                </a:xfrm>
              </p:grpSpPr>
              <p:sp>
                <p:nvSpPr>
                  <p:cNvPr id="3942" name=""/>
                  <p:cNvSpPr/>
                  <p:nvPr/>
                </p:nvSpPr>
                <p:spPr>
                  <a:xfrm>
                    <a:off x="5714640" y="2825280"/>
                    <a:ext cx="23184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43" name=""/>
                  <p:cNvGrpSpPr/>
                  <p:nvPr/>
                </p:nvGrpSpPr>
                <p:grpSpPr>
                  <a:xfrm>
                    <a:off x="5802120" y="2882520"/>
                    <a:ext cx="55440" cy="27000"/>
                    <a:chOff x="5802120" y="2882520"/>
                    <a:chExt cx="55440" cy="27000"/>
                  </a:xfrm>
                </p:grpSpPr>
                <p:sp>
                  <p:nvSpPr>
                    <p:cNvPr id="3944" name=""/>
                    <p:cNvSpPr/>
                    <p:nvPr/>
                  </p:nvSpPr>
                  <p:spPr>
                    <a:xfrm>
                      <a:off x="5802120" y="2882520"/>
                      <a:ext cx="0" cy="27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5" name=""/>
                    <p:cNvSpPr/>
                    <p:nvPr/>
                  </p:nvSpPr>
                  <p:spPr>
                    <a:xfrm>
                      <a:off x="5830560" y="2882520"/>
                      <a:ext cx="0" cy="27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6" name=""/>
                    <p:cNvSpPr/>
                    <p:nvPr/>
                  </p:nvSpPr>
                  <p:spPr>
                    <a:xfrm>
                      <a:off x="5857560" y="2882520"/>
                      <a:ext cx="0" cy="27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7" name=""/>
                    <p:cNvSpPr/>
                    <p:nvPr/>
                  </p:nvSpPr>
                  <p:spPr>
                    <a:xfrm>
                      <a:off x="5802120" y="2882520"/>
                      <a:ext cx="5544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948" name=""/>
                <p:cNvGrpSpPr/>
                <p:nvPr/>
              </p:nvGrpSpPr>
              <p:grpSpPr>
                <a:xfrm>
                  <a:off x="5792400" y="2796840"/>
                  <a:ext cx="74520" cy="28080"/>
                  <a:chOff x="5792400" y="2796840"/>
                  <a:chExt cx="74520" cy="28080"/>
                </a:xfrm>
              </p:grpSpPr>
              <p:sp>
                <p:nvSpPr>
                  <p:cNvPr id="3949" name=""/>
                  <p:cNvSpPr/>
                  <p:nvPr/>
                </p:nvSpPr>
                <p:spPr>
                  <a:xfrm>
                    <a:off x="5792400" y="27968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0" name=""/>
                  <p:cNvSpPr/>
                  <p:nvPr/>
                </p:nvSpPr>
                <p:spPr>
                  <a:xfrm>
                    <a:off x="5839920" y="27982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51" name=""/>
              <p:cNvSpPr/>
              <p:nvPr/>
            </p:nvSpPr>
            <p:spPr>
              <a:xfrm>
                <a:off x="5491080" y="2901960"/>
                <a:ext cx="239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5959440" y="2785320"/>
                <a:ext cx="1672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ioniere (No Flame)     GE-4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3" name=""/>
            <p:cNvGrpSpPr/>
            <p:nvPr/>
          </p:nvGrpSpPr>
          <p:grpSpPr>
            <a:xfrm>
              <a:off x="5510160" y="4861080"/>
              <a:ext cx="2464920" cy="230760"/>
              <a:chOff x="5510160" y="4861080"/>
              <a:chExt cx="2464920" cy="230760"/>
            </a:xfrm>
          </p:grpSpPr>
          <p:grpSp>
            <p:nvGrpSpPr>
              <p:cNvPr id="3954" name=""/>
              <p:cNvGrpSpPr/>
              <p:nvPr/>
            </p:nvGrpSpPr>
            <p:grpSpPr>
              <a:xfrm>
                <a:off x="5725800" y="4861080"/>
                <a:ext cx="291600" cy="223560"/>
                <a:chOff x="5725800" y="4861080"/>
                <a:chExt cx="291600" cy="223560"/>
              </a:xfrm>
            </p:grpSpPr>
            <p:grpSp>
              <p:nvGrpSpPr>
                <p:cNvPr id="3955" name=""/>
                <p:cNvGrpSpPr/>
                <p:nvPr/>
              </p:nvGrpSpPr>
              <p:grpSpPr>
                <a:xfrm>
                  <a:off x="5725800" y="4891320"/>
                  <a:ext cx="291600" cy="193320"/>
                  <a:chOff x="5725800" y="4891320"/>
                  <a:chExt cx="291600" cy="193320"/>
                </a:xfrm>
              </p:grpSpPr>
              <p:sp>
                <p:nvSpPr>
                  <p:cNvPr id="3956" name=""/>
                  <p:cNvSpPr/>
                  <p:nvPr/>
                </p:nvSpPr>
                <p:spPr>
                  <a:xfrm>
                    <a:off x="5725800" y="4893480"/>
                    <a:ext cx="291600" cy="191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7" name=""/>
                  <p:cNvSpPr/>
                  <p:nvPr/>
                </p:nvSpPr>
                <p:spPr>
                  <a:xfrm>
                    <a:off x="5797080" y="4984200"/>
                    <a:ext cx="144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8" name=""/>
                  <p:cNvSpPr/>
                  <p:nvPr/>
                </p:nvSpPr>
                <p:spPr>
                  <a:xfrm flipV="1">
                    <a:off x="5725800" y="4893480"/>
                    <a:ext cx="14112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9" name=""/>
                  <p:cNvSpPr/>
                  <p:nvPr/>
                </p:nvSpPr>
                <p:spPr>
                  <a:xfrm>
                    <a:off x="5866920" y="4891320"/>
                    <a:ext cx="150480" cy="190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60" name=""/>
                <p:cNvGrpSpPr/>
                <p:nvPr/>
              </p:nvGrpSpPr>
              <p:grpSpPr>
                <a:xfrm>
                  <a:off x="5805000" y="4861080"/>
                  <a:ext cx="131760" cy="27000"/>
                  <a:chOff x="5805000" y="4861080"/>
                  <a:chExt cx="131760" cy="27000"/>
                </a:xfrm>
              </p:grpSpPr>
              <p:sp>
                <p:nvSpPr>
                  <p:cNvPr id="3961" name=""/>
                  <p:cNvSpPr/>
                  <p:nvPr/>
                </p:nvSpPr>
                <p:spPr>
                  <a:xfrm>
                    <a:off x="5805000" y="48610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2" name=""/>
                  <p:cNvSpPr/>
                  <p:nvPr/>
                </p:nvSpPr>
                <p:spPr>
                  <a:xfrm>
                    <a:off x="5855760" y="48610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3" name=""/>
                  <p:cNvSpPr/>
                  <p:nvPr/>
                </p:nvSpPr>
                <p:spPr>
                  <a:xfrm>
                    <a:off x="5909760" y="48610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64" name=""/>
              <p:cNvSpPr/>
              <p:nvPr/>
            </p:nvSpPr>
            <p:spPr>
              <a:xfrm>
                <a:off x="5510160" y="498024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6017400" y="4876200"/>
                <a:ext cx="1957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Flak Platoon (Towed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6" name=""/>
            <p:cNvGrpSpPr/>
            <p:nvPr/>
          </p:nvGrpSpPr>
          <p:grpSpPr>
            <a:xfrm>
              <a:off x="5478480" y="4594320"/>
              <a:ext cx="2691000" cy="226080"/>
              <a:chOff x="5478480" y="4594320"/>
              <a:chExt cx="2691000" cy="226080"/>
            </a:xfrm>
          </p:grpSpPr>
          <p:sp>
            <p:nvSpPr>
              <p:cNvPr id="3967" name=""/>
              <p:cNvSpPr/>
              <p:nvPr/>
            </p:nvSpPr>
            <p:spPr>
              <a:xfrm>
                <a:off x="5478480" y="471348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8" name=""/>
              <p:cNvGrpSpPr/>
              <p:nvPr/>
            </p:nvGrpSpPr>
            <p:grpSpPr>
              <a:xfrm>
                <a:off x="5718240" y="4594320"/>
                <a:ext cx="284040" cy="225360"/>
                <a:chOff x="5718240" y="4594320"/>
                <a:chExt cx="284040" cy="225360"/>
              </a:xfrm>
            </p:grpSpPr>
            <p:grpSp>
              <p:nvGrpSpPr>
                <p:cNvPr id="3969" name=""/>
                <p:cNvGrpSpPr/>
                <p:nvPr/>
              </p:nvGrpSpPr>
              <p:grpSpPr>
                <a:xfrm>
                  <a:off x="5718240" y="4626000"/>
                  <a:ext cx="284040" cy="193680"/>
                  <a:chOff x="5718240" y="4626000"/>
                  <a:chExt cx="284040" cy="193680"/>
                </a:xfrm>
              </p:grpSpPr>
              <p:sp>
                <p:nvSpPr>
                  <p:cNvPr id="3970" name=""/>
                  <p:cNvSpPr/>
                  <p:nvPr/>
                </p:nvSpPr>
                <p:spPr>
                  <a:xfrm>
                    <a:off x="5718240" y="4626000"/>
                    <a:ext cx="284040" cy="19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1" name=""/>
                  <p:cNvSpPr/>
                  <p:nvPr/>
                </p:nvSpPr>
                <p:spPr>
                  <a:xfrm flipV="1">
                    <a:off x="5718240" y="4629960"/>
                    <a:ext cx="139680" cy="187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2" name=""/>
                  <p:cNvSpPr/>
                  <p:nvPr/>
                </p:nvSpPr>
                <p:spPr>
                  <a:xfrm>
                    <a:off x="5857920" y="4626000"/>
                    <a:ext cx="13968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73" name=""/>
                <p:cNvGrpSpPr/>
                <p:nvPr/>
              </p:nvGrpSpPr>
              <p:grpSpPr>
                <a:xfrm>
                  <a:off x="5792760" y="4594320"/>
                  <a:ext cx="131760" cy="27000"/>
                  <a:chOff x="5792760" y="4594320"/>
                  <a:chExt cx="131760" cy="27000"/>
                </a:xfrm>
              </p:grpSpPr>
              <p:sp>
                <p:nvSpPr>
                  <p:cNvPr id="3974" name=""/>
                  <p:cNvSpPr/>
                  <p:nvPr/>
                </p:nvSpPr>
                <p:spPr>
                  <a:xfrm>
                    <a:off x="5792760" y="45943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5" name=""/>
                  <p:cNvSpPr/>
                  <p:nvPr/>
                </p:nvSpPr>
                <p:spPr>
                  <a:xfrm>
                    <a:off x="5843520" y="45943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6" name=""/>
                  <p:cNvSpPr/>
                  <p:nvPr/>
                </p:nvSpPr>
                <p:spPr>
                  <a:xfrm>
                    <a:off x="5897520" y="45943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77" name=""/>
              <p:cNvSpPr/>
              <p:nvPr/>
            </p:nvSpPr>
            <p:spPr>
              <a:xfrm>
                <a:off x="6032160" y="4604760"/>
                <a:ext cx="2137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PanzerJaeger Platoon (Towed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8" name=""/>
            <p:cNvSpPr/>
            <p:nvPr/>
          </p:nvSpPr>
          <p:spPr>
            <a:xfrm>
              <a:off x="5472000" y="527040"/>
              <a:ext cx="0" cy="329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 flipH="1">
              <a:off x="5464080" y="3822840"/>
              <a:ext cx="7920" cy="2425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0" name=""/>
            <p:cNvGrpSpPr/>
            <p:nvPr/>
          </p:nvGrpSpPr>
          <p:grpSpPr>
            <a:xfrm>
              <a:off x="5478480" y="468360"/>
              <a:ext cx="2333520" cy="795240"/>
              <a:chOff x="5478480" y="468360"/>
              <a:chExt cx="2333520" cy="795240"/>
            </a:xfrm>
          </p:grpSpPr>
          <p:grpSp>
            <p:nvGrpSpPr>
              <p:cNvPr id="3981" name=""/>
              <p:cNvGrpSpPr/>
              <p:nvPr/>
            </p:nvGrpSpPr>
            <p:grpSpPr>
              <a:xfrm>
                <a:off x="5738760" y="621360"/>
                <a:ext cx="1946160" cy="349920"/>
                <a:chOff x="5738760" y="621360"/>
                <a:chExt cx="1946160" cy="349920"/>
              </a:xfrm>
            </p:grpSpPr>
            <p:sp>
              <p:nvSpPr>
                <p:cNvPr id="3982" name=""/>
                <p:cNvSpPr/>
                <p:nvPr/>
              </p:nvSpPr>
              <p:spPr>
                <a:xfrm>
                  <a:off x="6005880" y="62136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83" name=""/>
                <p:cNvGrpSpPr/>
                <p:nvPr/>
              </p:nvGrpSpPr>
              <p:grpSpPr>
                <a:xfrm>
                  <a:off x="5738760" y="681840"/>
                  <a:ext cx="238320" cy="194400"/>
                  <a:chOff x="5738760" y="681840"/>
                  <a:chExt cx="238320" cy="194400"/>
                </a:xfrm>
              </p:grpSpPr>
              <p:sp>
                <p:nvSpPr>
                  <p:cNvPr id="3984" name=""/>
                  <p:cNvSpPr/>
                  <p:nvPr/>
                </p:nvSpPr>
                <p:spPr>
                  <a:xfrm>
                    <a:off x="5738760" y="718200"/>
                    <a:ext cx="238320" cy="158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5" name=""/>
                  <p:cNvSpPr/>
                  <p:nvPr/>
                </p:nvSpPr>
                <p:spPr>
                  <a:xfrm>
                    <a:off x="5843520" y="6818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86" name=""/>
                <p:cNvSpPr/>
                <p:nvPr/>
              </p:nvSpPr>
              <p:spPr>
                <a:xfrm>
                  <a:off x="6016680" y="755640"/>
                  <a:ext cx="166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   GE-4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7" name=""/>
              <p:cNvSpPr/>
              <p:nvPr/>
            </p:nvSpPr>
            <p:spPr>
              <a:xfrm>
                <a:off x="5478480" y="78876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5784840" y="858600"/>
                <a:ext cx="0" cy="1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89" name=""/>
              <p:cNvGrpSpPr/>
              <p:nvPr/>
            </p:nvGrpSpPr>
            <p:grpSpPr>
              <a:xfrm>
                <a:off x="5737320" y="929520"/>
                <a:ext cx="1935000" cy="334080"/>
                <a:chOff x="5737320" y="929520"/>
                <a:chExt cx="1935000" cy="334080"/>
              </a:xfrm>
            </p:grpSpPr>
            <p:sp>
              <p:nvSpPr>
                <p:cNvPr id="3990" name=""/>
                <p:cNvSpPr/>
                <p:nvPr/>
              </p:nvSpPr>
              <p:spPr>
                <a:xfrm>
                  <a:off x="5980320" y="92952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>
                  <a:off x="6032880" y="1047960"/>
                  <a:ext cx="1639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Kubelwagen                GE-3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92" name=""/>
                <p:cNvGrpSpPr/>
                <p:nvPr/>
              </p:nvGrpSpPr>
              <p:grpSpPr>
                <a:xfrm>
                  <a:off x="5737320" y="961560"/>
                  <a:ext cx="231840" cy="236880"/>
                  <a:chOff x="5737320" y="961560"/>
                  <a:chExt cx="231840" cy="236880"/>
                </a:xfrm>
              </p:grpSpPr>
              <p:sp>
                <p:nvSpPr>
                  <p:cNvPr id="3993" name=""/>
                  <p:cNvSpPr/>
                  <p:nvPr/>
                </p:nvSpPr>
                <p:spPr>
                  <a:xfrm>
                    <a:off x="5837400" y="9615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94" name=""/>
                  <p:cNvGrpSpPr/>
                  <p:nvPr/>
                </p:nvGrpSpPr>
                <p:grpSpPr>
                  <a:xfrm>
                    <a:off x="5737320" y="1008720"/>
                    <a:ext cx="231840" cy="189720"/>
                    <a:chOff x="5737320" y="1008720"/>
                    <a:chExt cx="231840" cy="189720"/>
                  </a:xfrm>
                </p:grpSpPr>
                <p:sp>
                  <p:nvSpPr>
                    <p:cNvPr id="3995" name=""/>
                    <p:cNvSpPr/>
                    <p:nvPr/>
                  </p:nvSpPr>
                  <p:spPr>
                    <a:xfrm>
                      <a:off x="5737320" y="1008720"/>
                      <a:ext cx="231840" cy="1566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6" name=""/>
                    <p:cNvSpPr/>
                    <p:nvPr/>
                  </p:nvSpPr>
                  <p:spPr>
                    <a:xfrm>
                      <a:off x="5747760" y="1171080"/>
                      <a:ext cx="2736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7" name=""/>
                    <p:cNvSpPr/>
                    <p:nvPr/>
                  </p:nvSpPr>
                  <p:spPr>
                    <a:xfrm>
                      <a:off x="5929560" y="1171080"/>
                      <a:ext cx="2700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998" name=""/>
              <p:cNvSpPr/>
              <p:nvPr/>
            </p:nvSpPr>
            <p:spPr>
              <a:xfrm>
                <a:off x="5654880" y="468360"/>
                <a:ext cx="2157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9" name=""/>
            <p:cNvGrpSpPr/>
            <p:nvPr/>
          </p:nvGrpSpPr>
          <p:grpSpPr>
            <a:xfrm>
              <a:off x="5481720" y="1943280"/>
              <a:ext cx="2160000" cy="541080"/>
              <a:chOff x="5481720" y="1943280"/>
              <a:chExt cx="2160000" cy="541080"/>
            </a:xfrm>
          </p:grpSpPr>
          <p:sp>
            <p:nvSpPr>
              <p:cNvPr id="4000" name=""/>
              <p:cNvSpPr/>
              <p:nvPr/>
            </p:nvSpPr>
            <p:spPr>
              <a:xfrm>
                <a:off x="5955120" y="1954800"/>
                <a:ext cx="1686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k38 50mm AT Gun   GE-4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1" name=""/>
              <p:cNvGrpSpPr/>
              <p:nvPr/>
            </p:nvGrpSpPr>
            <p:grpSpPr>
              <a:xfrm>
                <a:off x="5481720" y="1943280"/>
                <a:ext cx="468000" cy="192960"/>
                <a:chOff x="5481720" y="1943280"/>
                <a:chExt cx="468000" cy="192960"/>
              </a:xfrm>
            </p:grpSpPr>
            <p:sp>
              <p:nvSpPr>
                <p:cNvPr id="4002" name=""/>
                <p:cNvSpPr/>
                <p:nvPr/>
              </p:nvSpPr>
              <p:spPr>
                <a:xfrm>
                  <a:off x="5481720" y="2039760"/>
                  <a:ext cx="274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03" name=""/>
                <p:cNvGrpSpPr/>
                <p:nvPr/>
              </p:nvGrpSpPr>
              <p:grpSpPr>
                <a:xfrm>
                  <a:off x="5718240" y="1943280"/>
                  <a:ext cx="231480" cy="192960"/>
                  <a:chOff x="5718240" y="1943280"/>
                  <a:chExt cx="231480" cy="192960"/>
                </a:xfrm>
              </p:grpSpPr>
              <p:grpSp>
                <p:nvGrpSpPr>
                  <p:cNvPr id="4004" name=""/>
                  <p:cNvGrpSpPr/>
                  <p:nvPr/>
                </p:nvGrpSpPr>
                <p:grpSpPr>
                  <a:xfrm>
                    <a:off x="5718240" y="1979640"/>
                    <a:ext cx="231480" cy="156600"/>
                    <a:chOff x="5718240" y="1979640"/>
                    <a:chExt cx="231480" cy="156600"/>
                  </a:xfrm>
                </p:grpSpPr>
                <p:sp>
                  <p:nvSpPr>
                    <p:cNvPr id="4005" name=""/>
                    <p:cNvSpPr/>
                    <p:nvPr/>
                  </p:nvSpPr>
                  <p:spPr>
                    <a:xfrm>
                      <a:off x="5718240" y="1979640"/>
                      <a:ext cx="231480" cy="1566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6" name=""/>
                    <p:cNvSpPr/>
                    <p:nvPr/>
                  </p:nvSpPr>
                  <p:spPr>
                    <a:xfrm flipV="1">
                      <a:off x="5718240" y="1982520"/>
                      <a:ext cx="113760" cy="151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7" name=""/>
                    <p:cNvSpPr/>
                    <p:nvPr/>
                  </p:nvSpPr>
                  <p:spPr>
                    <a:xfrm>
                      <a:off x="5832000" y="1979640"/>
                      <a:ext cx="113760" cy="153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08" name=""/>
                  <p:cNvGrpSpPr/>
                  <p:nvPr/>
                </p:nvGrpSpPr>
                <p:grpSpPr>
                  <a:xfrm>
                    <a:off x="5797440" y="1943280"/>
                    <a:ext cx="74520" cy="28080"/>
                    <a:chOff x="5797440" y="1943280"/>
                    <a:chExt cx="74520" cy="28080"/>
                  </a:xfrm>
                </p:grpSpPr>
                <p:sp>
                  <p:nvSpPr>
                    <p:cNvPr id="4009" name=""/>
                    <p:cNvSpPr/>
                    <p:nvPr/>
                  </p:nvSpPr>
                  <p:spPr>
                    <a:xfrm>
                      <a:off x="5797440" y="19432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0" name=""/>
                    <p:cNvSpPr/>
                    <p:nvPr/>
                  </p:nvSpPr>
                  <p:spPr>
                    <a:xfrm>
                      <a:off x="5844960" y="19447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011" name=""/>
              <p:cNvSpPr/>
              <p:nvPr/>
            </p:nvSpPr>
            <p:spPr>
              <a:xfrm>
                <a:off x="5966280" y="208512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12" name=""/>
              <p:cNvGrpSpPr/>
              <p:nvPr/>
            </p:nvGrpSpPr>
            <p:grpSpPr>
              <a:xfrm>
                <a:off x="5713560" y="2236680"/>
                <a:ext cx="1911240" cy="247680"/>
                <a:chOff x="5713560" y="2236680"/>
                <a:chExt cx="1911240" cy="247680"/>
              </a:xfrm>
            </p:grpSpPr>
            <p:grpSp>
              <p:nvGrpSpPr>
                <p:cNvPr id="4013" name=""/>
                <p:cNvGrpSpPr/>
                <p:nvPr/>
              </p:nvGrpSpPr>
              <p:grpSpPr>
                <a:xfrm>
                  <a:off x="5713560" y="2236680"/>
                  <a:ext cx="239400" cy="224280"/>
                  <a:chOff x="5713560" y="2236680"/>
                  <a:chExt cx="239400" cy="224280"/>
                </a:xfrm>
              </p:grpSpPr>
              <p:grpSp>
                <p:nvGrpSpPr>
                  <p:cNvPr id="4014" name=""/>
                  <p:cNvGrpSpPr/>
                  <p:nvPr/>
                </p:nvGrpSpPr>
                <p:grpSpPr>
                  <a:xfrm>
                    <a:off x="5713560" y="2272680"/>
                    <a:ext cx="239400" cy="188280"/>
                    <a:chOff x="5713560" y="2272680"/>
                    <a:chExt cx="239400" cy="188280"/>
                  </a:xfrm>
                </p:grpSpPr>
                <p:sp>
                  <p:nvSpPr>
                    <p:cNvPr id="4015" name=""/>
                    <p:cNvSpPr/>
                    <p:nvPr/>
                  </p:nvSpPr>
                  <p:spPr>
                    <a:xfrm>
                      <a:off x="5713560" y="2272680"/>
                      <a:ext cx="23940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6" name=""/>
                    <p:cNvSpPr/>
                    <p:nvPr/>
                  </p:nvSpPr>
                  <p:spPr>
                    <a:xfrm>
                      <a:off x="5727240" y="243432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7" name=""/>
                    <p:cNvSpPr/>
                    <p:nvPr/>
                  </p:nvSpPr>
                  <p:spPr>
                    <a:xfrm>
                      <a:off x="5839920" y="24328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8" name=""/>
                    <p:cNvSpPr/>
                    <p:nvPr/>
                  </p:nvSpPr>
                  <p:spPr>
                    <a:xfrm>
                      <a:off x="5916240" y="24328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9" name=""/>
                    <p:cNvSpPr/>
                    <p:nvPr/>
                  </p:nvSpPr>
                  <p:spPr>
                    <a:xfrm>
                      <a:off x="5860800" y="2432880"/>
                      <a:ext cx="61560" cy="26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20" name=""/>
                  <p:cNvGrpSpPr/>
                  <p:nvPr/>
                </p:nvGrpSpPr>
                <p:grpSpPr>
                  <a:xfrm>
                    <a:off x="5796000" y="2236680"/>
                    <a:ext cx="74520" cy="27720"/>
                    <a:chOff x="5796000" y="2236680"/>
                    <a:chExt cx="74520" cy="27720"/>
                  </a:xfrm>
                </p:grpSpPr>
                <p:sp>
                  <p:nvSpPr>
                    <p:cNvPr id="4021" name=""/>
                    <p:cNvSpPr/>
                    <p:nvPr/>
                  </p:nvSpPr>
                  <p:spPr>
                    <a:xfrm>
                      <a:off x="5796000" y="223668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2" name=""/>
                    <p:cNvSpPr/>
                    <p:nvPr/>
                  </p:nvSpPr>
                  <p:spPr>
                    <a:xfrm>
                      <a:off x="5843520" y="223812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023" name=""/>
                <p:cNvSpPr/>
                <p:nvPr/>
              </p:nvSpPr>
              <p:spPr>
                <a:xfrm>
                  <a:off x="5955120" y="2268720"/>
                  <a:ext cx="1669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dKfz 10                      GE-2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24" name=""/>
            <p:cNvGrpSpPr/>
            <p:nvPr/>
          </p:nvGrpSpPr>
          <p:grpSpPr>
            <a:xfrm>
              <a:off x="5483160" y="2527200"/>
              <a:ext cx="2139480" cy="227880"/>
              <a:chOff x="5483160" y="2527200"/>
              <a:chExt cx="2139480" cy="227880"/>
            </a:xfrm>
          </p:grpSpPr>
          <p:sp>
            <p:nvSpPr>
              <p:cNvPr id="4025" name=""/>
              <p:cNvSpPr/>
              <p:nvPr/>
            </p:nvSpPr>
            <p:spPr>
              <a:xfrm>
                <a:off x="5954760" y="2539440"/>
                <a:ext cx="166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nzerschreck           GE-5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6" name=""/>
              <p:cNvGrpSpPr/>
              <p:nvPr/>
            </p:nvGrpSpPr>
            <p:grpSpPr>
              <a:xfrm>
                <a:off x="5483160" y="2527200"/>
                <a:ext cx="468000" cy="193680"/>
                <a:chOff x="5483160" y="2527200"/>
                <a:chExt cx="468000" cy="193680"/>
              </a:xfrm>
            </p:grpSpPr>
            <p:sp>
              <p:nvSpPr>
                <p:cNvPr id="4027" name=""/>
                <p:cNvSpPr/>
                <p:nvPr/>
              </p:nvSpPr>
              <p:spPr>
                <a:xfrm>
                  <a:off x="5483160" y="2624040"/>
                  <a:ext cx="274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28" name=""/>
                <p:cNvGrpSpPr/>
                <p:nvPr/>
              </p:nvGrpSpPr>
              <p:grpSpPr>
                <a:xfrm>
                  <a:off x="5719680" y="2527200"/>
                  <a:ext cx="231480" cy="193680"/>
                  <a:chOff x="5719680" y="2527200"/>
                  <a:chExt cx="231480" cy="193680"/>
                </a:xfrm>
              </p:grpSpPr>
              <p:grpSp>
                <p:nvGrpSpPr>
                  <p:cNvPr id="4029" name=""/>
                  <p:cNvGrpSpPr/>
                  <p:nvPr/>
                </p:nvGrpSpPr>
                <p:grpSpPr>
                  <a:xfrm>
                    <a:off x="5719680" y="2563920"/>
                    <a:ext cx="231480" cy="156960"/>
                    <a:chOff x="5719680" y="2563920"/>
                    <a:chExt cx="231480" cy="156960"/>
                  </a:xfrm>
                </p:grpSpPr>
                <p:sp>
                  <p:nvSpPr>
                    <p:cNvPr id="4030" name=""/>
                    <p:cNvSpPr/>
                    <p:nvPr/>
                  </p:nvSpPr>
                  <p:spPr>
                    <a:xfrm>
                      <a:off x="5719680" y="2563920"/>
                      <a:ext cx="23148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1" name=""/>
                    <p:cNvSpPr/>
                    <p:nvPr/>
                  </p:nvSpPr>
                  <p:spPr>
                    <a:xfrm flipV="1">
                      <a:off x="5719680" y="2567160"/>
                      <a:ext cx="11376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2" name=""/>
                    <p:cNvSpPr/>
                    <p:nvPr/>
                  </p:nvSpPr>
                  <p:spPr>
                    <a:xfrm>
                      <a:off x="5833440" y="2563920"/>
                      <a:ext cx="113760" cy="153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33" name=""/>
                  <p:cNvGrpSpPr/>
                  <p:nvPr/>
                </p:nvGrpSpPr>
                <p:grpSpPr>
                  <a:xfrm>
                    <a:off x="5798880" y="2527200"/>
                    <a:ext cx="74520" cy="28800"/>
                    <a:chOff x="5798880" y="2527200"/>
                    <a:chExt cx="74520" cy="28800"/>
                  </a:xfrm>
                </p:grpSpPr>
                <p:sp>
                  <p:nvSpPr>
                    <p:cNvPr id="4034" name=""/>
                    <p:cNvSpPr/>
                    <p:nvPr/>
                  </p:nvSpPr>
                  <p:spPr>
                    <a:xfrm>
                      <a:off x="5798880" y="252720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5" name=""/>
                    <p:cNvSpPr/>
                    <p:nvPr/>
                  </p:nvSpPr>
                  <p:spPr>
                    <a:xfrm>
                      <a:off x="5846400" y="252900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036" name=""/>
            <p:cNvGrpSpPr/>
            <p:nvPr/>
          </p:nvGrpSpPr>
          <p:grpSpPr>
            <a:xfrm>
              <a:off x="5492880" y="3094200"/>
              <a:ext cx="2400840" cy="514440"/>
              <a:chOff x="5492880" y="3094200"/>
              <a:chExt cx="2400840" cy="514440"/>
            </a:xfrm>
          </p:grpSpPr>
          <p:sp>
            <p:nvSpPr>
              <p:cNvPr id="4037" name=""/>
              <p:cNvSpPr/>
              <p:nvPr/>
            </p:nvSpPr>
            <p:spPr>
              <a:xfrm>
                <a:off x="5781960" y="3265200"/>
                <a:ext cx="0" cy="15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8" name=""/>
              <p:cNvGrpSpPr/>
              <p:nvPr/>
            </p:nvGrpSpPr>
            <p:grpSpPr>
              <a:xfrm>
                <a:off x="5747040" y="3377880"/>
                <a:ext cx="231480" cy="226080"/>
                <a:chOff x="5747040" y="3377880"/>
                <a:chExt cx="231480" cy="226080"/>
              </a:xfrm>
            </p:grpSpPr>
            <p:grpSp>
              <p:nvGrpSpPr>
                <p:cNvPr id="4039" name=""/>
                <p:cNvGrpSpPr/>
                <p:nvPr/>
              </p:nvGrpSpPr>
              <p:grpSpPr>
                <a:xfrm>
                  <a:off x="5747040" y="3414240"/>
                  <a:ext cx="231480" cy="189720"/>
                  <a:chOff x="5747040" y="3414240"/>
                  <a:chExt cx="231480" cy="189720"/>
                </a:xfrm>
              </p:grpSpPr>
              <p:sp>
                <p:nvSpPr>
                  <p:cNvPr id="4040" name=""/>
                  <p:cNvSpPr/>
                  <p:nvPr/>
                </p:nvSpPr>
                <p:spPr>
                  <a:xfrm>
                    <a:off x="5747040" y="3414240"/>
                    <a:ext cx="231480" cy="156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1" name=""/>
                  <p:cNvSpPr/>
                  <p:nvPr/>
                </p:nvSpPr>
                <p:spPr>
                  <a:xfrm>
                    <a:off x="5757480" y="357660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2" name=""/>
                  <p:cNvSpPr/>
                  <p:nvPr/>
                </p:nvSpPr>
                <p:spPr>
                  <a:xfrm>
                    <a:off x="5939280" y="357660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3" name=""/>
                <p:cNvGrpSpPr/>
                <p:nvPr/>
              </p:nvGrpSpPr>
              <p:grpSpPr>
                <a:xfrm>
                  <a:off x="5824800" y="3377880"/>
                  <a:ext cx="74520" cy="28080"/>
                  <a:chOff x="5824800" y="3377880"/>
                  <a:chExt cx="74520" cy="28080"/>
                </a:xfrm>
              </p:grpSpPr>
              <p:sp>
                <p:nvSpPr>
                  <p:cNvPr id="4044" name=""/>
                  <p:cNvSpPr/>
                  <p:nvPr/>
                </p:nvSpPr>
                <p:spPr>
                  <a:xfrm>
                    <a:off x="5824800" y="33778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5" name=""/>
                  <p:cNvSpPr/>
                  <p:nvPr/>
                </p:nvSpPr>
                <p:spPr>
                  <a:xfrm>
                    <a:off x="5872320" y="33793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46" name=""/>
              <p:cNvSpPr/>
              <p:nvPr/>
            </p:nvSpPr>
            <p:spPr>
              <a:xfrm>
                <a:off x="5492880" y="319860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5978160" y="3096360"/>
                <a:ext cx="1907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5mm leIG37 Infantry Gun   GE-3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5988600" y="322488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5979960" y="3393000"/>
                <a:ext cx="1913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orse-drawn Limber             GE-3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50" name=""/>
              <p:cNvGrpSpPr/>
              <p:nvPr/>
            </p:nvGrpSpPr>
            <p:grpSpPr>
              <a:xfrm>
                <a:off x="5742360" y="3094200"/>
                <a:ext cx="231480" cy="186480"/>
                <a:chOff x="5742360" y="3094200"/>
                <a:chExt cx="231480" cy="186480"/>
              </a:xfrm>
            </p:grpSpPr>
            <p:grpSp>
              <p:nvGrpSpPr>
                <p:cNvPr id="4051" name=""/>
                <p:cNvGrpSpPr/>
                <p:nvPr/>
              </p:nvGrpSpPr>
              <p:grpSpPr>
                <a:xfrm>
                  <a:off x="5820120" y="3094200"/>
                  <a:ext cx="74520" cy="27720"/>
                  <a:chOff x="5820120" y="3094200"/>
                  <a:chExt cx="74520" cy="27720"/>
                </a:xfrm>
              </p:grpSpPr>
              <p:sp>
                <p:nvSpPr>
                  <p:cNvPr id="4052" name=""/>
                  <p:cNvSpPr/>
                  <p:nvPr/>
                </p:nvSpPr>
                <p:spPr>
                  <a:xfrm>
                    <a:off x="5820120" y="309420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3" name=""/>
                  <p:cNvSpPr/>
                  <p:nvPr/>
                </p:nvSpPr>
                <p:spPr>
                  <a:xfrm>
                    <a:off x="5867640" y="309564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4" name=""/>
                <p:cNvGrpSpPr/>
                <p:nvPr/>
              </p:nvGrpSpPr>
              <p:grpSpPr>
                <a:xfrm>
                  <a:off x="5742360" y="3124080"/>
                  <a:ext cx="231480" cy="156600"/>
                  <a:chOff x="5742360" y="3124080"/>
                  <a:chExt cx="231480" cy="156600"/>
                </a:xfrm>
              </p:grpSpPr>
              <p:grpSp>
                <p:nvGrpSpPr>
                  <p:cNvPr id="4055" name=""/>
                  <p:cNvGrpSpPr/>
                  <p:nvPr/>
                </p:nvGrpSpPr>
                <p:grpSpPr>
                  <a:xfrm>
                    <a:off x="5742360" y="3124080"/>
                    <a:ext cx="231480" cy="156600"/>
                    <a:chOff x="5742360" y="3124080"/>
                    <a:chExt cx="231480" cy="156600"/>
                  </a:xfrm>
                </p:grpSpPr>
                <p:sp>
                  <p:nvSpPr>
                    <p:cNvPr id="4056" name=""/>
                    <p:cNvSpPr/>
                    <p:nvPr/>
                  </p:nvSpPr>
                  <p:spPr>
                    <a:xfrm>
                      <a:off x="5742360" y="3124080"/>
                      <a:ext cx="231480" cy="1566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7" name=""/>
                    <p:cNvSpPr/>
                    <p:nvPr/>
                  </p:nvSpPr>
                  <p:spPr>
                    <a:xfrm flipV="1">
                      <a:off x="5744520" y="3125880"/>
                      <a:ext cx="225360" cy="153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8" name=""/>
                    <p:cNvSpPr/>
                    <p:nvPr/>
                  </p:nvSpPr>
                  <p:spPr>
                    <a:xfrm>
                      <a:off x="5742360" y="3126240"/>
                      <a:ext cx="230400" cy="1494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59" name=""/>
                  <p:cNvSpPr/>
                  <p:nvPr/>
                </p:nvSpPr>
                <p:spPr>
                  <a:xfrm>
                    <a:off x="5843520" y="3192120"/>
                    <a:ext cx="28080" cy="26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060" name=""/>
            <p:cNvSpPr/>
            <p:nvPr/>
          </p:nvSpPr>
          <p:spPr>
            <a:xfrm>
              <a:off x="5958360" y="3533040"/>
              <a:ext cx="112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5879160" y="2937960"/>
              <a:ext cx="112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2" name=""/>
            <p:cNvGrpSpPr/>
            <p:nvPr/>
          </p:nvGrpSpPr>
          <p:grpSpPr>
            <a:xfrm>
              <a:off x="5473800" y="3710160"/>
              <a:ext cx="2374560" cy="545760"/>
              <a:chOff x="5473800" y="3710160"/>
              <a:chExt cx="2374560" cy="545760"/>
            </a:xfrm>
          </p:grpSpPr>
          <p:sp>
            <p:nvSpPr>
              <p:cNvPr id="4063" name=""/>
              <p:cNvSpPr/>
              <p:nvPr/>
            </p:nvSpPr>
            <p:spPr>
              <a:xfrm>
                <a:off x="5762520" y="3881520"/>
                <a:ext cx="0" cy="15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5473800" y="3814560"/>
                <a:ext cx="274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5969160" y="384084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6" name=""/>
              <p:cNvGrpSpPr/>
              <p:nvPr/>
            </p:nvGrpSpPr>
            <p:grpSpPr>
              <a:xfrm>
                <a:off x="5722920" y="3710160"/>
                <a:ext cx="2125440" cy="217800"/>
                <a:chOff x="5722920" y="3710160"/>
                <a:chExt cx="2125440" cy="217800"/>
              </a:xfrm>
            </p:grpSpPr>
            <p:sp>
              <p:nvSpPr>
                <p:cNvPr id="4067" name=""/>
                <p:cNvSpPr/>
                <p:nvPr/>
              </p:nvSpPr>
              <p:spPr>
                <a:xfrm>
                  <a:off x="5959080" y="3712320"/>
                  <a:ext cx="1889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50mm SiG33 Infantry Gun GE-3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68" name=""/>
                <p:cNvGrpSpPr/>
                <p:nvPr/>
              </p:nvGrpSpPr>
              <p:grpSpPr>
                <a:xfrm>
                  <a:off x="5722920" y="3710160"/>
                  <a:ext cx="231480" cy="187200"/>
                  <a:chOff x="5722920" y="3710160"/>
                  <a:chExt cx="231480" cy="187200"/>
                </a:xfrm>
              </p:grpSpPr>
              <p:grpSp>
                <p:nvGrpSpPr>
                  <p:cNvPr id="4069" name=""/>
                  <p:cNvGrpSpPr/>
                  <p:nvPr/>
                </p:nvGrpSpPr>
                <p:grpSpPr>
                  <a:xfrm>
                    <a:off x="5800680" y="3710160"/>
                    <a:ext cx="74520" cy="28080"/>
                    <a:chOff x="5800680" y="3710160"/>
                    <a:chExt cx="74520" cy="28080"/>
                  </a:xfrm>
                </p:grpSpPr>
                <p:sp>
                  <p:nvSpPr>
                    <p:cNvPr id="4070" name=""/>
                    <p:cNvSpPr/>
                    <p:nvPr/>
                  </p:nvSpPr>
                  <p:spPr>
                    <a:xfrm>
                      <a:off x="5800680" y="37101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1" name=""/>
                    <p:cNvSpPr/>
                    <p:nvPr/>
                  </p:nvSpPr>
                  <p:spPr>
                    <a:xfrm>
                      <a:off x="5848200" y="37116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2" name=""/>
                  <p:cNvGrpSpPr/>
                  <p:nvPr/>
                </p:nvGrpSpPr>
                <p:grpSpPr>
                  <a:xfrm>
                    <a:off x="5722920" y="3740400"/>
                    <a:ext cx="231480" cy="156960"/>
                    <a:chOff x="5722920" y="3740400"/>
                    <a:chExt cx="231480" cy="156960"/>
                  </a:xfrm>
                </p:grpSpPr>
                <p:grpSp>
                  <p:nvGrpSpPr>
                    <p:cNvPr id="4073" name=""/>
                    <p:cNvGrpSpPr/>
                    <p:nvPr/>
                  </p:nvGrpSpPr>
                  <p:grpSpPr>
                    <a:xfrm>
                      <a:off x="5722920" y="3740400"/>
                      <a:ext cx="231480" cy="156960"/>
                      <a:chOff x="5722920" y="3740400"/>
                      <a:chExt cx="231480" cy="156960"/>
                    </a:xfrm>
                  </p:grpSpPr>
                  <p:sp>
                    <p:nvSpPr>
                      <p:cNvPr id="4074" name=""/>
                      <p:cNvSpPr/>
                      <p:nvPr/>
                    </p:nvSpPr>
                    <p:spPr>
                      <a:xfrm>
                        <a:off x="5722920" y="374040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5" name=""/>
                      <p:cNvSpPr/>
                      <p:nvPr/>
                    </p:nvSpPr>
                    <p:spPr>
                      <a:xfrm flipV="1">
                        <a:off x="5725080" y="3742560"/>
                        <a:ext cx="22536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6" name=""/>
                      <p:cNvSpPr/>
                      <p:nvPr/>
                    </p:nvSpPr>
                    <p:spPr>
                      <a:xfrm>
                        <a:off x="5722920" y="3742560"/>
                        <a:ext cx="230400" cy="1497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077" name=""/>
                    <p:cNvSpPr/>
                    <p:nvPr/>
                  </p:nvSpPr>
                  <p:spPr>
                    <a:xfrm>
                      <a:off x="5824080" y="3808800"/>
                      <a:ext cx="28080" cy="26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078" name=""/>
              <p:cNvGrpSpPr/>
              <p:nvPr/>
            </p:nvGrpSpPr>
            <p:grpSpPr>
              <a:xfrm>
                <a:off x="5715000" y="4008240"/>
                <a:ext cx="1911240" cy="247680"/>
                <a:chOff x="5715000" y="4008240"/>
                <a:chExt cx="1911240" cy="247680"/>
              </a:xfrm>
            </p:grpSpPr>
            <p:grpSp>
              <p:nvGrpSpPr>
                <p:cNvPr id="4079" name=""/>
                <p:cNvGrpSpPr/>
                <p:nvPr/>
              </p:nvGrpSpPr>
              <p:grpSpPr>
                <a:xfrm>
                  <a:off x="5715000" y="4008240"/>
                  <a:ext cx="239400" cy="224280"/>
                  <a:chOff x="5715000" y="4008240"/>
                  <a:chExt cx="239400" cy="224280"/>
                </a:xfrm>
              </p:grpSpPr>
              <p:grpSp>
                <p:nvGrpSpPr>
                  <p:cNvPr id="4080" name=""/>
                  <p:cNvGrpSpPr/>
                  <p:nvPr/>
                </p:nvGrpSpPr>
                <p:grpSpPr>
                  <a:xfrm>
                    <a:off x="5715000" y="4044240"/>
                    <a:ext cx="239400" cy="188280"/>
                    <a:chOff x="5715000" y="4044240"/>
                    <a:chExt cx="239400" cy="188280"/>
                  </a:xfrm>
                </p:grpSpPr>
                <p:sp>
                  <p:nvSpPr>
                    <p:cNvPr id="4081" name=""/>
                    <p:cNvSpPr/>
                    <p:nvPr/>
                  </p:nvSpPr>
                  <p:spPr>
                    <a:xfrm>
                      <a:off x="5715000" y="4044240"/>
                      <a:ext cx="23940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2" name=""/>
                    <p:cNvSpPr/>
                    <p:nvPr/>
                  </p:nvSpPr>
                  <p:spPr>
                    <a:xfrm>
                      <a:off x="5728680" y="420588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3" name=""/>
                    <p:cNvSpPr/>
                    <p:nvPr/>
                  </p:nvSpPr>
                  <p:spPr>
                    <a:xfrm>
                      <a:off x="5841360" y="42044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4" name=""/>
                    <p:cNvSpPr/>
                    <p:nvPr/>
                  </p:nvSpPr>
                  <p:spPr>
                    <a:xfrm>
                      <a:off x="5917680" y="42044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5" name=""/>
                    <p:cNvSpPr/>
                    <p:nvPr/>
                  </p:nvSpPr>
                  <p:spPr>
                    <a:xfrm>
                      <a:off x="5862240" y="4204440"/>
                      <a:ext cx="61560" cy="26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86" name=""/>
                  <p:cNvGrpSpPr/>
                  <p:nvPr/>
                </p:nvGrpSpPr>
                <p:grpSpPr>
                  <a:xfrm>
                    <a:off x="5797440" y="4008240"/>
                    <a:ext cx="74520" cy="27720"/>
                    <a:chOff x="5797440" y="4008240"/>
                    <a:chExt cx="74520" cy="27720"/>
                  </a:xfrm>
                </p:grpSpPr>
                <p:sp>
                  <p:nvSpPr>
                    <p:cNvPr id="4087" name=""/>
                    <p:cNvSpPr/>
                    <p:nvPr/>
                  </p:nvSpPr>
                  <p:spPr>
                    <a:xfrm>
                      <a:off x="5797440" y="400824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8" name=""/>
                    <p:cNvSpPr/>
                    <p:nvPr/>
                  </p:nvSpPr>
                  <p:spPr>
                    <a:xfrm>
                      <a:off x="5844960" y="400968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089" name=""/>
                <p:cNvSpPr/>
                <p:nvPr/>
              </p:nvSpPr>
              <p:spPr>
                <a:xfrm>
                  <a:off x="5956560" y="4040280"/>
                  <a:ext cx="1669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dKfz 11                      GE-3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90" name=""/>
            <p:cNvGrpSpPr/>
            <p:nvPr/>
          </p:nvGrpSpPr>
          <p:grpSpPr>
            <a:xfrm>
              <a:off x="5307120" y="246240"/>
              <a:ext cx="347040" cy="288000"/>
              <a:chOff x="5307120" y="246240"/>
              <a:chExt cx="347040" cy="288000"/>
            </a:xfrm>
          </p:grpSpPr>
          <p:grpSp>
            <p:nvGrpSpPr>
              <p:cNvPr id="4091" name=""/>
              <p:cNvGrpSpPr/>
              <p:nvPr/>
            </p:nvGrpSpPr>
            <p:grpSpPr>
              <a:xfrm>
                <a:off x="5307120" y="298440"/>
                <a:ext cx="347040" cy="235800"/>
                <a:chOff x="5307120" y="298440"/>
                <a:chExt cx="347040" cy="235800"/>
              </a:xfrm>
            </p:grpSpPr>
            <p:sp>
              <p:nvSpPr>
                <p:cNvPr id="4092" name=""/>
                <p:cNvSpPr/>
                <p:nvPr/>
              </p:nvSpPr>
              <p:spPr>
                <a:xfrm>
                  <a:off x="5307120" y="298440"/>
                  <a:ext cx="347040" cy="2358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"/>
                <p:cNvSpPr/>
                <p:nvPr/>
              </p:nvSpPr>
              <p:spPr>
                <a:xfrm flipV="1">
                  <a:off x="5310720" y="301680"/>
                  <a:ext cx="338400" cy="230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4" name=""/>
                <p:cNvSpPr/>
                <p:nvPr/>
              </p:nvSpPr>
              <p:spPr>
                <a:xfrm>
                  <a:off x="5307120" y="302040"/>
                  <a:ext cx="345600" cy="225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5" name=""/>
              <p:cNvGrpSpPr/>
              <p:nvPr/>
            </p:nvGrpSpPr>
            <p:grpSpPr>
              <a:xfrm>
                <a:off x="5414760" y="246240"/>
                <a:ext cx="131400" cy="64800"/>
                <a:chOff x="5414760" y="246240"/>
                <a:chExt cx="131400" cy="64800"/>
              </a:xfrm>
            </p:grpSpPr>
            <p:sp>
              <p:nvSpPr>
                <p:cNvPr id="4096" name=""/>
                <p:cNvSpPr/>
                <p:nvPr/>
              </p:nvSpPr>
              <p:spPr>
                <a:xfrm>
                  <a:off x="5481360" y="2476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97" name=""/>
                <p:cNvGrpSpPr/>
                <p:nvPr/>
              </p:nvGrpSpPr>
              <p:grpSpPr>
                <a:xfrm>
                  <a:off x="5414760" y="246240"/>
                  <a:ext cx="131400" cy="64800"/>
                  <a:chOff x="5414760" y="246240"/>
                  <a:chExt cx="131400" cy="64800"/>
                </a:xfrm>
              </p:grpSpPr>
              <p:sp>
                <p:nvSpPr>
                  <p:cNvPr id="4098" name=""/>
                  <p:cNvSpPr/>
                  <p:nvPr/>
                </p:nvSpPr>
                <p:spPr>
                  <a:xfrm>
                    <a:off x="5414760" y="2476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9" name=""/>
                  <p:cNvSpPr/>
                  <p:nvPr/>
                </p:nvSpPr>
                <p:spPr>
                  <a:xfrm>
                    <a:off x="5546160" y="2462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100" name=""/>
            <p:cNvGrpSpPr/>
            <p:nvPr/>
          </p:nvGrpSpPr>
          <p:grpSpPr>
            <a:xfrm>
              <a:off x="5464080" y="1395360"/>
              <a:ext cx="2033280" cy="296280"/>
              <a:chOff x="5464080" y="1395360"/>
              <a:chExt cx="2033280" cy="296280"/>
            </a:xfrm>
          </p:grpSpPr>
          <p:grpSp>
            <p:nvGrpSpPr>
              <p:cNvPr id="4101" name=""/>
              <p:cNvGrpSpPr/>
              <p:nvPr/>
            </p:nvGrpSpPr>
            <p:grpSpPr>
              <a:xfrm>
                <a:off x="5661000" y="1395360"/>
                <a:ext cx="347040" cy="296280"/>
                <a:chOff x="5661000" y="1395360"/>
                <a:chExt cx="347040" cy="296280"/>
              </a:xfrm>
            </p:grpSpPr>
            <p:grpSp>
              <p:nvGrpSpPr>
                <p:cNvPr id="4102" name=""/>
                <p:cNvGrpSpPr/>
                <p:nvPr/>
              </p:nvGrpSpPr>
              <p:grpSpPr>
                <a:xfrm>
                  <a:off x="5792760" y="1395360"/>
                  <a:ext cx="75960" cy="63360"/>
                  <a:chOff x="5792760" y="1395360"/>
                  <a:chExt cx="75960" cy="63360"/>
                </a:xfrm>
              </p:grpSpPr>
              <p:sp>
                <p:nvSpPr>
                  <p:cNvPr id="4103" name=""/>
                  <p:cNvSpPr/>
                  <p:nvPr/>
                </p:nvSpPr>
                <p:spPr>
                  <a:xfrm>
                    <a:off x="5792760" y="13953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4" name=""/>
                  <p:cNvSpPr/>
                  <p:nvPr/>
                </p:nvSpPr>
                <p:spPr>
                  <a:xfrm>
                    <a:off x="5868720" y="13953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5" name=""/>
                <p:cNvGrpSpPr/>
                <p:nvPr/>
              </p:nvGrpSpPr>
              <p:grpSpPr>
                <a:xfrm>
                  <a:off x="5661000" y="1455480"/>
                  <a:ext cx="347040" cy="236160"/>
                  <a:chOff x="5661000" y="1455480"/>
                  <a:chExt cx="347040" cy="236160"/>
                </a:xfrm>
              </p:grpSpPr>
              <p:sp>
                <p:nvSpPr>
                  <p:cNvPr id="4106" name=""/>
                  <p:cNvSpPr/>
                  <p:nvPr/>
                </p:nvSpPr>
                <p:spPr>
                  <a:xfrm>
                    <a:off x="5661000" y="1455480"/>
                    <a:ext cx="347040" cy="236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7" name=""/>
                  <p:cNvSpPr/>
                  <p:nvPr/>
                </p:nvSpPr>
                <p:spPr>
                  <a:xfrm flipV="1">
                    <a:off x="5664600" y="1459080"/>
                    <a:ext cx="33840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8" name=""/>
                  <p:cNvSpPr/>
                  <p:nvPr/>
                </p:nvSpPr>
                <p:spPr>
                  <a:xfrm>
                    <a:off x="5661000" y="1459080"/>
                    <a:ext cx="34560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09" name=""/>
              <p:cNvSpPr/>
              <p:nvPr/>
            </p:nvSpPr>
            <p:spPr>
              <a:xfrm>
                <a:off x="6009120" y="1469160"/>
                <a:ext cx="1488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Infantry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BG-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5464080" y="156528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1" name=""/>
            <p:cNvGrpSpPr/>
            <p:nvPr/>
          </p:nvGrpSpPr>
          <p:grpSpPr>
            <a:xfrm>
              <a:off x="5499000" y="4314960"/>
              <a:ext cx="2448720" cy="248400"/>
              <a:chOff x="5499000" y="4314960"/>
              <a:chExt cx="2448720" cy="248400"/>
            </a:xfrm>
          </p:grpSpPr>
          <p:sp>
            <p:nvSpPr>
              <p:cNvPr id="4112" name=""/>
              <p:cNvSpPr/>
              <p:nvPr/>
            </p:nvSpPr>
            <p:spPr>
              <a:xfrm>
                <a:off x="5499000" y="444348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6023520" y="4347720"/>
                <a:ext cx="1924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Panzerjaeger Platoon (SP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14" name=""/>
              <p:cNvGrpSpPr/>
              <p:nvPr/>
            </p:nvGrpSpPr>
            <p:grpSpPr>
              <a:xfrm>
                <a:off x="5699160" y="4314960"/>
                <a:ext cx="291600" cy="241200"/>
                <a:chOff x="5699160" y="4314960"/>
                <a:chExt cx="291600" cy="241200"/>
              </a:xfrm>
            </p:grpSpPr>
            <p:grpSp>
              <p:nvGrpSpPr>
                <p:cNvPr id="4115" name=""/>
                <p:cNvGrpSpPr/>
                <p:nvPr/>
              </p:nvGrpSpPr>
              <p:grpSpPr>
                <a:xfrm>
                  <a:off x="5699160" y="4365720"/>
                  <a:ext cx="291600" cy="190440"/>
                  <a:chOff x="5699160" y="4365720"/>
                  <a:chExt cx="291600" cy="190440"/>
                </a:xfrm>
              </p:grpSpPr>
              <p:sp>
                <p:nvSpPr>
                  <p:cNvPr id="4116" name=""/>
                  <p:cNvSpPr/>
                  <p:nvPr/>
                </p:nvSpPr>
                <p:spPr>
                  <a:xfrm>
                    <a:off x="5700600" y="4365720"/>
                    <a:ext cx="290160" cy="190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7" name=""/>
                  <p:cNvSpPr/>
                  <p:nvPr/>
                </p:nvSpPr>
                <p:spPr>
                  <a:xfrm>
                    <a:off x="5736600" y="4407480"/>
                    <a:ext cx="208080" cy="9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8" name=""/>
                  <p:cNvSpPr/>
                  <p:nvPr/>
                </p:nvSpPr>
                <p:spPr>
                  <a:xfrm flipV="1">
                    <a:off x="5699160" y="4367160"/>
                    <a:ext cx="140040" cy="188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9" name=""/>
                  <p:cNvSpPr/>
                  <p:nvPr/>
                </p:nvSpPr>
                <p:spPr>
                  <a:xfrm>
                    <a:off x="5839200" y="4365720"/>
                    <a:ext cx="150120" cy="189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20" name=""/>
                <p:cNvGrpSpPr/>
                <p:nvPr/>
              </p:nvGrpSpPr>
              <p:grpSpPr>
                <a:xfrm>
                  <a:off x="5775120" y="4314960"/>
                  <a:ext cx="131760" cy="27000"/>
                  <a:chOff x="5775120" y="4314960"/>
                  <a:chExt cx="131760" cy="27000"/>
                </a:xfrm>
              </p:grpSpPr>
              <p:sp>
                <p:nvSpPr>
                  <p:cNvPr id="4121" name=""/>
                  <p:cNvSpPr/>
                  <p:nvPr/>
                </p:nvSpPr>
                <p:spPr>
                  <a:xfrm>
                    <a:off x="5775120" y="43149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2" name=""/>
                  <p:cNvSpPr/>
                  <p:nvPr/>
                </p:nvSpPr>
                <p:spPr>
                  <a:xfrm>
                    <a:off x="5825880" y="43149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3" name=""/>
                  <p:cNvSpPr/>
                  <p:nvPr/>
                </p:nvSpPr>
                <p:spPr>
                  <a:xfrm>
                    <a:off x="5879880" y="43149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124" name=""/>
            <p:cNvGrpSpPr/>
            <p:nvPr/>
          </p:nvGrpSpPr>
          <p:grpSpPr>
            <a:xfrm>
              <a:off x="5521320" y="5108400"/>
              <a:ext cx="2152440" cy="286560"/>
              <a:chOff x="5521320" y="5108400"/>
              <a:chExt cx="2152440" cy="286560"/>
            </a:xfrm>
          </p:grpSpPr>
          <p:grpSp>
            <p:nvGrpSpPr>
              <p:cNvPr id="4125" name=""/>
              <p:cNvGrpSpPr/>
              <p:nvPr/>
            </p:nvGrpSpPr>
            <p:grpSpPr>
              <a:xfrm>
                <a:off x="5716440" y="5108400"/>
                <a:ext cx="312120" cy="259920"/>
                <a:chOff x="5716440" y="5108400"/>
                <a:chExt cx="312120" cy="259920"/>
              </a:xfrm>
            </p:grpSpPr>
            <p:grpSp>
              <p:nvGrpSpPr>
                <p:cNvPr id="4126" name=""/>
                <p:cNvGrpSpPr/>
                <p:nvPr/>
              </p:nvGrpSpPr>
              <p:grpSpPr>
                <a:xfrm>
                  <a:off x="5716440" y="5175000"/>
                  <a:ext cx="312120" cy="193320"/>
                  <a:chOff x="5716440" y="5175000"/>
                  <a:chExt cx="312120" cy="193320"/>
                </a:xfrm>
              </p:grpSpPr>
              <p:sp>
                <p:nvSpPr>
                  <p:cNvPr id="4127" name=""/>
                  <p:cNvSpPr/>
                  <p:nvPr/>
                </p:nvSpPr>
                <p:spPr>
                  <a:xfrm>
                    <a:off x="5716440" y="5175000"/>
                    <a:ext cx="312120" cy="193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28" name=""/>
                  <p:cNvGrpSpPr/>
                  <p:nvPr/>
                </p:nvGrpSpPr>
                <p:grpSpPr>
                  <a:xfrm>
                    <a:off x="5834160" y="5245200"/>
                    <a:ext cx="74160" cy="32760"/>
                    <a:chOff x="5834160" y="5245200"/>
                    <a:chExt cx="74160" cy="32760"/>
                  </a:xfrm>
                </p:grpSpPr>
                <p:sp>
                  <p:nvSpPr>
                    <p:cNvPr id="4129" name=""/>
                    <p:cNvSpPr/>
                    <p:nvPr/>
                  </p:nvSpPr>
                  <p:spPr>
                    <a:xfrm>
                      <a:off x="5834160" y="5245200"/>
                      <a:ext cx="0" cy="32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0" name=""/>
                    <p:cNvSpPr/>
                    <p:nvPr/>
                  </p:nvSpPr>
                  <p:spPr>
                    <a:xfrm>
                      <a:off x="5872320" y="5245200"/>
                      <a:ext cx="0" cy="32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1" name=""/>
                    <p:cNvSpPr/>
                    <p:nvPr/>
                  </p:nvSpPr>
                  <p:spPr>
                    <a:xfrm>
                      <a:off x="5908320" y="5245200"/>
                      <a:ext cx="0" cy="32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2" name=""/>
                    <p:cNvSpPr/>
                    <p:nvPr/>
                  </p:nvSpPr>
                  <p:spPr>
                    <a:xfrm>
                      <a:off x="5834160" y="5245200"/>
                      <a:ext cx="74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133" name=""/>
                <p:cNvSpPr/>
                <p:nvPr/>
              </p:nvSpPr>
              <p:spPr>
                <a:xfrm>
                  <a:off x="5871960" y="51084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4" name=""/>
              <p:cNvSpPr/>
              <p:nvPr/>
            </p:nvSpPr>
            <p:spPr>
              <a:xfrm>
                <a:off x="5521320" y="5278320"/>
                <a:ext cx="2300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008760" y="5179320"/>
                <a:ext cx="1665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Engineer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1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6" name=""/>
            <p:cNvGrpSpPr/>
            <p:nvPr/>
          </p:nvGrpSpPr>
          <p:grpSpPr>
            <a:xfrm>
              <a:off x="5494320" y="5794200"/>
              <a:ext cx="2156400" cy="259560"/>
              <a:chOff x="5494320" y="5794200"/>
              <a:chExt cx="2156400" cy="259560"/>
            </a:xfrm>
          </p:grpSpPr>
          <p:sp>
            <p:nvSpPr>
              <p:cNvPr id="4137" name=""/>
              <p:cNvSpPr/>
              <p:nvPr/>
            </p:nvSpPr>
            <p:spPr>
              <a:xfrm>
                <a:off x="5842080" y="579420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5494320" y="593388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6020640" y="5838120"/>
                <a:ext cx="1630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Assault Gun Batter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0" name=""/>
              <p:cNvGrpSpPr/>
              <p:nvPr/>
            </p:nvGrpSpPr>
            <p:grpSpPr>
              <a:xfrm>
                <a:off x="5694480" y="5856120"/>
                <a:ext cx="291600" cy="190440"/>
                <a:chOff x="5694480" y="5856120"/>
                <a:chExt cx="291600" cy="190440"/>
              </a:xfrm>
            </p:grpSpPr>
            <p:sp>
              <p:nvSpPr>
                <p:cNvPr id="4141" name=""/>
                <p:cNvSpPr/>
                <p:nvPr/>
              </p:nvSpPr>
              <p:spPr>
                <a:xfrm>
                  <a:off x="5695920" y="5856120"/>
                  <a:ext cx="290160" cy="190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2" name=""/>
                <p:cNvSpPr/>
                <p:nvPr/>
              </p:nvSpPr>
              <p:spPr>
                <a:xfrm>
                  <a:off x="5731920" y="5897880"/>
                  <a:ext cx="20808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3" name=""/>
                <p:cNvSpPr/>
                <p:nvPr/>
              </p:nvSpPr>
              <p:spPr>
                <a:xfrm flipV="1">
                  <a:off x="5694480" y="5857560"/>
                  <a:ext cx="140040" cy="18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4" name=""/>
                <p:cNvSpPr/>
                <p:nvPr/>
              </p:nvSpPr>
              <p:spPr>
                <a:xfrm>
                  <a:off x="5834520" y="5856120"/>
                  <a:ext cx="15012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45" name=""/>
            <p:cNvGrpSpPr/>
            <p:nvPr/>
          </p:nvGrpSpPr>
          <p:grpSpPr>
            <a:xfrm>
              <a:off x="5486400" y="6078600"/>
              <a:ext cx="2635200" cy="259560"/>
              <a:chOff x="5486400" y="6078600"/>
              <a:chExt cx="2635200" cy="259560"/>
            </a:xfrm>
          </p:grpSpPr>
          <p:sp>
            <p:nvSpPr>
              <p:cNvPr id="4146" name=""/>
              <p:cNvSpPr/>
              <p:nvPr/>
            </p:nvSpPr>
            <p:spPr>
              <a:xfrm>
                <a:off x="5834160" y="607860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5486400" y="621828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6013080" y="6122520"/>
                <a:ext cx="210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Heavy Panzerjaeger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9" name=""/>
              <p:cNvGrpSpPr/>
              <p:nvPr/>
            </p:nvGrpSpPr>
            <p:grpSpPr>
              <a:xfrm>
                <a:off x="5686560" y="6140520"/>
                <a:ext cx="291600" cy="190440"/>
                <a:chOff x="5686560" y="6140520"/>
                <a:chExt cx="291600" cy="190440"/>
              </a:xfrm>
            </p:grpSpPr>
            <p:sp>
              <p:nvSpPr>
                <p:cNvPr id="4150" name=""/>
                <p:cNvSpPr/>
                <p:nvPr/>
              </p:nvSpPr>
              <p:spPr>
                <a:xfrm>
                  <a:off x="5688000" y="6140520"/>
                  <a:ext cx="290160" cy="190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1" name=""/>
                <p:cNvSpPr/>
                <p:nvPr/>
              </p:nvSpPr>
              <p:spPr>
                <a:xfrm>
                  <a:off x="5724000" y="6182280"/>
                  <a:ext cx="20808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2" name=""/>
                <p:cNvSpPr/>
                <p:nvPr/>
              </p:nvSpPr>
              <p:spPr>
                <a:xfrm flipV="1">
                  <a:off x="5686560" y="6141960"/>
                  <a:ext cx="140040" cy="18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3" name=""/>
                <p:cNvSpPr/>
                <p:nvPr/>
              </p:nvSpPr>
              <p:spPr>
                <a:xfrm>
                  <a:off x="5826600" y="6140520"/>
                  <a:ext cx="15012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54" name=""/>
            <p:cNvSpPr/>
            <p:nvPr/>
          </p:nvSpPr>
          <p:spPr>
            <a:xfrm>
              <a:off x="5899320" y="5656320"/>
              <a:ext cx="2255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NON-DIVISIONAL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043680" y="4184640"/>
              <a:ext cx="164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DIVISIONAL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6" name="PlaceHolder 1"/>
          <p:cNvSpPr>
            <a:spLocks noGrp="1"/>
          </p:cNvSpPr>
          <p:nvPr>
            <p:ph type="title"/>
          </p:nvPr>
        </p:nvSpPr>
        <p:spPr>
          <a:xfrm>
            <a:off x="4152960" y="-68400"/>
            <a:ext cx="37418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BG-09-&gt;BG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1463760" y="33480"/>
            <a:ext cx="1404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Battle Group-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ksgrenadier Reg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8" name=""/>
          <p:cNvGrpSpPr/>
          <p:nvPr/>
        </p:nvGrpSpPr>
        <p:grpSpPr>
          <a:xfrm>
            <a:off x="353880" y="5159520"/>
            <a:ext cx="2867040" cy="272160"/>
            <a:chOff x="353880" y="5159520"/>
            <a:chExt cx="2867040" cy="272160"/>
          </a:xfrm>
        </p:grpSpPr>
        <p:grpSp>
          <p:nvGrpSpPr>
            <p:cNvPr id="4159" name=""/>
            <p:cNvGrpSpPr/>
            <p:nvPr/>
          </p:nvGrpSpPr>
          <p:grpSpPr>
            <a:xfrm>
              <a:off x="353880" y="5159520"/>
              <a:ext cx="527040" cy="258120"/>
              <a:chOff x="353880" y="5159520"/>
              <a:chExt cx="527040" cy="258120"/>
            </a:xfrm>
          </p:grpSpPr>
          <p:grpSp>
            <p:nvGrpSpPr>
              <p:cNvPr id="4160" name=""/>
              <p:cNvGrpSpPr/>
              <p:nvPr/>
            </p:nvGrpSpPr>
            <p:grpSpPr>
              <a:xfrm>
                <a:off x="538200" y="5159520"/>
                <a:ext cx="342720" cy="258120"/>
                <a:chOff x="538200" y="5159520"/>
                <a:chExt cx="342720" cy="258120"/>
              </a:xfrm>
            </p:grpSpPr>
            <p:grpSp>
              <p:nvGrpSpPr>
                <p:cNvPr id="4161" name=""/>
                <p:cNvGrpSpPr/>
                <p:nvPr/>
              </p:nvGrpSpPr>
              <p:grpSpPr>
                <a:xfrm>
                  <a:off x="538200" y="5227560"/>
                  <a:ext cx="291600" cy="190080"/>
                  <a:chOff x="538200" y="5227560"/>
                  <a:chExt cx="291600" cy="190080"/>
                </a:xfrm>
              </p:grpSpPr>
              <p:sp>
                <p:nvSpPr>
                  <p:cNvPr id="4162" name=""/>
                  <p:cNvSpPr/>
                  <p:nvPr/>
                </p:nvSpPr>
                <p:spPr>
                  <a:xfrm>
                    <a:off x="538200" y="5227560"/>
                    <a:ext cx="29160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3" name=""/>
                  <p:cNvSpPr/>
                  <p:nvPr/>
                </p:nvSpPr>
                <p:spPr>
                  <a:xfrm>
                    <a:off x="663840" y="530028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4" name=""/>
                <p:cNvGrpSpPr/>
                <p:nvPr/>
              </p:nvGrpSpPr>
              <p:grpSpPr>
                <a:xfrm>
                  <a:off x="587520" y="5170320"/>
                  <a:ext cx="75960" cy="63360"/>
                  <a:chOff x="587520" y="5170320"/>
                  <a:chExt cx="75960" cy="63360"/>
                </a:xfrm>
              </p:grpSpPr>
              <p:sp>
                <p:nvSpPr>
                  <p:cNvPr id="4165" name=""/>
                  <p:cNvSpPr/>
                  <p:nvPr/>
                </p:nvSpPr>
                <p:spPr>
                  <a:xfrm>
                    <a:off x="587520" y="51703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6" name=""/>
                  <p:cNvSpPr/>
                  <p:nvPr/>
                </p:nvSpPr>
                <p:spPr>
                  <a:xfrm>
                    <a:off x="663480" y="51703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67" name=""/>
                <p:cNvSpPr/>
                <p:nvPr/>
              </p:nvSpPr>
              <p:spPr>
                <a:xfrm>
                  <a:off x="663480" y="5159520"/>
                  <a:ext cx="217440" cy="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(+)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68" name=""/>
              <p:cNvSpPr/>
              <p:nvPr/>
            </p:nvSpPr>
            <p:spPr>
              <a:xfrm>
                <a:off x="353880" y="5316480"/>
                <a:ext cx="20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9" name=""/>
            <p:cNvSpPr/>
            <p:nvPr/>
          </p:nvSpPr>
          <p:spPr>
            <a:xfrm>
              <a:off x="833400" y="5216040"/>
              <a:ext cx="238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Light Artillery Battalion (105mm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FS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0" name=""/>
          <p:cNvGrpSpPr/>
          <p:nvPr/>
        </p:nvGrpSpPr>
        <p:grpSpPr>
          <a:xfrm>
            <a:off x="171360" y="257040"/>
            <a:ext cx="2878200" cy="5936400"/>
            <a:chOff x="171360" y="257040"/>
            <a:chExt cx="2878200" cy="5936400"/>
          </a:xfrm>
        </p:grpSpPr>
        <p:sp>
          <p:nvSpPr>
            <p:cNvPr id="4171" name=""/>
            <p:cNvSpPr/>
            <p:nvPr/>
          </p:nvSpPr>
          <p:spPr>
            <a:xfrm>
              <a:off x="498600" y="1243080"/>
              <a:ext cx="138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469800" y="1760400"/>
              <a:ext cx="16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3" name=""/>
            <p:cNvGrpSpPr/>
            <p:nvPr/>
          </p:nvGrpSpPr>
          <p:grpSpPr>
            <a:xfrm>
              <a:off x="347760" y="2201040"/>
              <a:ext cx="2141280" cy="215640"/>
              <a:chOff x="347760" y="2201040"/>
              <a:chExt cx="2141280" cy="215640"/>
            </a:xfrm>
          </p:grpSpPr>
          <p:grpSp>
            <p:nvGrpSpPr>
              <p:cNvPr id="4174" name=""/>
              <p:cNvGrpSpPr/>
              <p:nvPr/>
            </p:nvGrpSpPr>
            <p:grpSpPr>
              <a:xfrm>
                <a:off x="571320" y="2212560"/>
                <a:ext cx="231840" cy="185760"/>
                <a:chOff x="571320" y="2212560"/>
                <a:chExt cx="231840" cy="185760"/>
              </a:xfrm>
            </p:grpSpPr>
            <p:grpSp>
              <p:nvGrpSpPr>
                <p:cNvPr id="4175" name=""/>
                <p:cNvGrpSpPr/>
                <p:nvPr/>
              </p:nvGrpSpPr>
              <p:grpSpPr>
                <a:xfrm>
                  <a:off x="571320" y="2241000"/>
                  <a:ext cx="231840" cy="157320"/>
                  <a:chOff x="571320" y="2241000"/>
                  <a:chExt cx="231840" cy="157320"/>
                </a:xfrm>
              </p:grpSpPr>
              <p:sp>
                <p:nvSpPr>
                  <p:cNvPr id="4176" name=""/>
                  <p:cNvSpPr/>
                  <p:nvPr/>
                </p:nvSpPr>
                <p:spPr>
                  <a:xfrm>
                    <a:off x="571320" y="2241000"/>
                    <a:ext cx="23184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77" name=""/>
                  <p:cNvGrpSpPr/>
                  <p:nvPr/>
                </p:nvGrpSpPr>
                <p:grpSpPr>
                  <a:xfrm>
                    <a:off x="658800" y="2298240"/>
                    <a:ext cx="55440" cy="27000"/>
                    <a:chOff x="658800" y="2298240"/>
                    <a:chExt cx="55440" cy="27000"/>
                  </a:xfrm>
                </p:grpSpPr>
                <p:sp>
                  <p:nvSpPr>
                    <p:cNvPr id="4178" name=""/>
                    <p:cNvSpPr/>
                    <p:nvPr/>
                  </p:nvSpPr>
                  <p:spPr>
                    <a:xfrm>
                      <a:off x="658800" y="2298240"/>
                      <a:ext cx="0" cy="27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9" name=""/>
                    <p:cNvSpPr/>
                    <p:nvPr/>
                  </p:nvSpPr>
                  <p:spPr>
                    <a:xfrm>
                      <a:off x="687240" y="2298240"/>
                      <a:ext cx="0" cy="27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0" name=""/>
                    <p:cNvSpPr/>
                    <p:nvPr/>
                  </p:nvSpPr>
                  <p:spPr>
                    <a:xfrm>
                      <a:off x="714240" y="2298240"/>
                      <a:ext cx="0" cy="27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1" name=""/>
                    <p:cNvSpPr/>
                    <p:nvPr/>
                  </p:nvSpPr>
                  <p:spPr>
                    <a:xfrm>
                      <a:off x="658800" y="2298240"/>
                      <a:ext cx="5544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182" name=""/>
                <p:cNvGrpSpPr/>
                <p:nvPr/>
              </p:nvGrpSpPr>
              <p:grpSpPr>
                <a:xfrm>
                  <a:off x="649080" y="2212560"/>
                  <a:ext cx="74520" cy="28080"/>
                  <a:chOff x="649080" y="2212560"/>
                  <a:chExt cx="74520" cy="28080"/>
                </a:xfrm>
              </p:grpSpPr>
              <p:sp>
                <p:nvSpPr>
                  <p:cNvPr id="4183" name=""/>
                  <p:cNvSpPr/>
                  <p:nvPr/>
                </p:nvSpPr>
                <p:spPr>
                  <a:xfrm>
                    <a:off x="649080" y="22125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4" name=""/>
                  <p:cNvSpPr/>
                  <p:nvPr/>
                </p:nvSpPr>
                <p:spPr>
                  <a:xfrm>
                    <a:off x="696600" y="22140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85" name=""/>
              <p:cNvSpPr/>
              <p:nvPr/>
            </p:nvSpPr>
            <p:spPr>
              <a:xfrm>
                <a:off x="347760" y="2317680"/>
                <a:ext cx="239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816120" y="2201040"/>
                <a:ext cx="1672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ioniere (No Flame)     GE-4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7" name=""/>
            <p:cNvGrpSpPr/>
            <p:nvPr/>
          </p:nvGrpSpPr>
          <p:grpSpPr>
            <a:xfrm>
              <a:off x="366840" y="4530600"/>
              <a:ext cx="2464920" cy="230760"/>
              <a:chOff x="366840" y="4530600"/>
              <a:chExt cx="2464920" cy="230760"/>
            </a:xfrm>
          </p:grpSpPr>
          <p:grpSp>
            <p:nvGrpSpPr>
              <p:cNvPr id="4188" name=""/>
              <p:cNvGrpSpPr/>
              <p:nvPr/>
            </p:nvGrpSpPr>
            <p:grpSpPr>
              <a:xfrm>
                <a:off x="582480" y="4530600"/>
                <a:ext cx="291600" cy="223560"/>
                <a:chOff x="582480" y="4530600"/>
                <a:chExt cx="291600" cy="223560"/>
              </a:xfrm>
            </p:grpSpPr>
            <p:grpSp>
              <p:nvGrpSpPr>
                <p:cNvPr id="4189" name=""/>
                <p:cNvGrpSpPr/>
                <p:nvPr/>
              </p:nvGrpSpPr>
              <p:grpSpPr>
                <a:xfrm>
                  <a:off x="582480" y="4560840"/>
                  <a:ext cx="291600" cy="193320"/>
                  <a:chOff x="582480" y="4560840"/>
                  <a:chExt cx="291600" cy="193320"/>
                </a:xfrm>
              </p:grpSpPr>
              <p:sp>
                <p:nvSpPr>
                  <p:cNvPr id="4190" name=""/>
                  <p:cNvSpPr/>
                  <p:nvPr/>
                </p:nvSpPr>
                <p:spPr>
                  <a:xfrm>
                    <a:off x="582480" y="4563000"/>
                    <a:ext cx="291600" cy="191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1" name=""/>
                  <p:cNvSpPr/>
                  <p:nvPr/>
                </p:nvSpPr>
                <p:spPr>
                  <a:xfrm>
                    <a:off x="653760" y="4653720"/>
                    <a:ext cx="144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2" name=""/>
                  <p:cNvSpPr/>
                  <p:nvPr/>
                </p:nvSpPr>
                <p:spPr>
                  <a:xfrm flipV="1">
                    <a:off x="582480" y="4563000"/>
                    <a:ext cx="14112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3" name=""/>
                  <p:cNvSpPr/>
                  <p:nvPr/>
                </p:nvSpPr>
                <p:spPr>
                  <a:xfrm>
                    <a:off x="723600" y="4560840"/>
                    <a:ext cx="150480" cy="190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4" name=""/>
                <p:cNvGrpSpPr/>
                <p:nvPr/>
              </p:nvGrpSpPr>
              <p:grpSpPr>
                <a:xfrm>
                  <a:off x="661680" y="4530600"/>
                  <a:ext cx="131760" cy="27000"/>
                  <a:chOff x="661680" y="4530600"/>
                  <a:chExt cx="131760" cy="27000"/>
                </a:xfrm>
              </p:grpSpPr>
              <p:sp>
                <p:nvSpPr>
                  <p:cNvPr id="4195" name=""/>
                  <p:cNvSpPr/>
                  <p:nvPr/>
                </p:nvSpPr>
                <p:spPr>
                  <a:xfrm>
                    <a:off x="661680" y="45306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6" name=""/>
                  <p:cNvSpPr/>
                  <p:nvPr/>
                </p:nvSpPr>
                <p:spPr>
                  <a:xfrm>
                    <a:off x="712440" y="45306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7" name=""/>
                  <p:cNvSpPr/>
                  <p:nvPr/>
                </p:nvSpPr>
                <p:spPr>
                  <a:xfrm>
                    <a:off x="766440" y="45306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98" name=""/>
              <p:cNvSpPr/>
              <p:nvPr/>
            </p:nvSpPr>
            <p:spPr>
              <a:xfrm>
                <a:off x="366840" y="464976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874080" y="4545720"/>
                <a:ext cx="1957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Flak Platoon (Towed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0" name=""/>
            <p:cNvGrpSpPr/>
            <p:nvPr/>
          </p:nvGrpSpPr>
          <p:grpSpPr>
            <a:xfrm>
              <a:off x="343080" y="4241880"/>
              <a:ext cx="2690640" cy="226080"/>
              <a:chOff x="343080" y="4241880"/>
              <a:chExt cx="2690640" cy="226080"/>
            </a:xfrm>
          </p:grpSpPr>
          <p:sp>
            <p:nvSpPr>
              <p:cNvPr id="4201" name=""/>
              <p:cNvSpPr/>
              <p:nvPr/>
            </p:nvSpPr>
            <p:spPr>
              <a:xfrm>
                <a:off x="343080" y="4361040"/>
                <a:ext cx="239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02" name=""/>
              <p:cNvGrpSpPr/>
              <p:nvPr/>
            </p:nvGrpSpPr>
            <p:grpSpPr>
              <a:xfrm>
                <a:off x="582480" y="4241880"/>
                <a:ext cx="283680" cy="225360"/>
                <a:chOff x="582480" y="4241880"/>
                <a:chExt cx="283680" cy="225360"/>
              </a:xfrm>
            </p:grpSpPr>
            <p:grpSp>
              <p:nvGrpSpPr>
                <p:cNvPr id="4203" name=""/>
                <p:cNvGrpSpPr/>
                <p:nvPr/>
              </p:nvGrpSpPr>
              <p:grpSpPr>
                <a:xfrm>
                  <a:off x="582480" y="4273560"/>
                  <a:ext cx="283680" cy="193680"/>
                  <a:chOff x="582480" y="4273560"/>
                  <a:chExt cx="283680" cy="193680"/>
                </a:xfrm>
              </p:grpSpPr>
              <p:sp>
                <p:nvSpPr>
                  <p:cNvPr id="4204" name=""/>
                  <p:cNvSpPr/>
                  <p:nvPr/>
                </p:nvSpPr>
                <p:spPr>
                  <a:xfrm>
                    <a:off x="582480" y="4273560"/>
                    <a:ext cx="283680" cy="19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5" name=""/>
                  <p:cNvSpPr/>
                  <p:nvPr/>
                </p:nvSpPr>
                <p:spPr>
                  <a:xfrm flipV="1">
                    <a:off x="582480" y="4277520"/>
                    <a:ext cx="139320" cy="187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6" name=""/>
                  <p:cNvSpPr/>
                  <p:nvPr/>
                </p:nvSpPr>
                <p:spPr>
                  <a:xfrm>
                    <a:off x="721800" y="4273560"/>
                    <a:ext cx="13932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7" name=""/>
                <p:cNvGrpSpPr/>
                <p:nvPr/>
              </p:nvGrpSpPr>
              <p:grpSpPr>
                <a:xfrm>
                  <a:off x="656640" y="4241880"/>
                  <a:ext cx="131040" cy="27000"/>
                  <a:chOff x="656640" y="4241880"/>
                  <a:chExt cx="131040" cy="27000"/>
                </a:xfrm>
              </p:grpSpPr>
              <p:sp>
                <p:nvSpPr>
                  <p:cNvPr id="4208" name=""/>
                  <p:cNvSpPr/>
                  <p:nvPr/>
                </p:nvSpPr>
                <p:spPr>
                  <a:xfrm>
                    <a:off x="656640" y="42418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9" name=""/>
                  <p:cNvSpPr/>
                  <p:nvPr/>
                </p:nvSpPr>
                <p:spPr>
                  <a:xfrm>
                    <a:off x="707040" y="424188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0" name=""/>
                  <p:cNvSpPr/>
                  <p:nvPr/>
                </p:nvSpPr>
                <p:spPr>
                  <a:xfrm>
                    <a:off x="761040" y="42418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11" name=""/>
              <p:cNvSpPr/>
              <p:nvPr/>
            </p:nvSpPr>
            <p:spPr>
              <a:xfrm>
                <a:off x="896400" y="4252320"/>
                <a:ext cx="2137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PanzerJaeger Platoon (Towed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2" name=""/>
            <p:cNvSpPr/>
            <p:nvPr/>
          </p:nvSpPr>
          <p:spPr>
            <a:xfrm>
              <a:off x="336600" y="538200"/>
              <a:ext cx="0" cy="301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28680" y="3549600"/>
              <a:ext cx="0" cy="2532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4" name=""/>
            <p:cNvGrpSpPr/>
            <p:nvPr/>
          </p:nvGrpSpPr>
          <p:grpSpPr>
            <a:xfrm>
              <a:off x="343080" y="479520"/>
              <a:ext cx="2333520" cy="795240"/>
              <a:chOff x="343080" y="479520"/>
              <a:chExt cx="2333520" cy="795240"/>
            </a:xfrm>
          </p:grpSpPr>
          <p:grpSp>
            <p:nvGrpSpPr>
              <p:cNvPr id="4215" name=""/>
              <p:cNvGrpSpPr/>
              <p:nvPr/>
            </p:nvGrpSpPr>
            <p:grpSpPr>
              <a:xfrm>
                <a:off x="603360" y="632520"/>
                <a:ext cx="1946160" cy="349920"/>
                <a:chOff x="603360" y="632520"/>
                <a:chExt cx="1946160" cy="349920"/>
              </a:xfrm>
            </p:grpSpPr>
            <p:sp>
              <p:nvSpPr>
                <p:cNvPr id="4216" name=""/>
                <p:cNvSpPr/>
                <p:nvPr/>
              </p:nvSpPr>
              <p:spPr>
                <a:xfrm>
                  <a:off x="870480" y="63252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17" name=""/>
                <p:cNvGrpSpPr/>
                <p:nvPr/>
              </p:nvGrpSpPr>
              <p:grpSpPr>
                <a:xfrm>
                  <a:off x="603360" y="693000"/>
                  <a:ext cx="238320" cy="194400"/>
                  <a:chOff x="603360" y="693000"/>
                  <a:chExt cx="238320" cy="194400"/>
                </a:xfrm>
              </p:grpSpPr>
              <p:sp>
                <p:nvSpPr>
                  <p:cNvPr id="4218" name=""/>
                  <p:cNvSpPr/>
                  <p:nvPr/>
                </p:nvSpPr>
                <p:spPr>
                  <a:xfrm>
                    <a:off x="603360" y="729360"/>
                    <a:ext cx="238320" cy="158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9" name=""/>
                  <p:cNvSpPr/>
                  <p:nvPr/>
                </p:nvSpPr>
                <p:spPr>
                  <a:xfrm>
                    <a:off x="708120" y="6930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20" name=""/>
                <p:cNvSpPr/>
                <p:nvPr/>
              </p:nvSpPr>
              <p:spPr>
                <a:xfrm>
                  <a:off x="881280" y="766800"/>
                  <a:ext cx="166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   GE-4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1" name=""/>
              <p:cNvSpPr/>
              <p:nvPr/>
            </p:nvSpPr>
            <p:spPr>
              <a:xfrm>
                <a:off x="343080" y="79992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649440" y="869760"/>
                <a:ext cx="0" cy="1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23" name=""/>
              <p:cNvGrpSpPr/>
              <p:nvPr/>
            </p:nvGrpSpPr>
            <p:grpSpPr>
              <a:xfrm>
                <a:off x="601920" y="940680"/>
                <a:ext cx="1935000" cy="334080"/>
                <a:chOff x="601920" y="940680"/>
                <a:chExt cx="1935000" cy="334080"/>
              </a:xfrm>
            </p:grpSpPr>
            <p:sp>
              <p:nvSpPr>
                <p:cNvPr id="4224" name=""/>
                <p:cNvSpPr/>
                <p:nvPr/>
              </p:nvSpPr>
              <p:spPr>
                <a:xfrm>
                  <a:off x="844920" y="94068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5" name=""/>
                <p:cNvSpPr/>
                <p:nvPr/>
              </p:nvSpPr>
              <p:spPr>
                <a:xfrm>
                  <a:off x="897480" y="1059120"/>
                  <a:ext cx="1639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Kubelwagen                GE-3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26" name=""/>
                <p:cNvGrpSpPr/>
                <p:nvPr/>
              </p:nvGrpSpPr>
              <p:grpSpPr>
                <a:xfrm>
                  <a:off x="601920" y="972720"/>
                  <a:ext cx="231840" cy="236880"/>
                  <a:chOff x="601920" y="972720"/>
                  <a:chExt cx="231840" cy="236880"/>
                </a:xfrm>
              </p:grpSpPr>
              <p:sp>
                <p:nvSpPr>
                  <p:cNvPr id="4227" name=""/>
                  <p:cNvSpPr/>
                  <p:nvPr/>
                </p:nvSpPr>
                <p:spPr>
                  <a:xfrm>
                    <a:off x="702000" y="9727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28" name=""/>
                  <p:cNvGrpSpPr/>
                  <p:nvPr/>
                </p:nvGrpSpPr>
                <p:grpSpPr>
                  <a:xfrm>
                    <a:off x="601920" y="1019880"/>
                    <a:ext cx="231840" cy="189720"/>
                    <a:chOff x="601920" y="1019880"/>
                    <a:chExt cx="231840" cy="189720"/>
                  </a:xfrm>
                </p:grpSpPr>
                <p:sp>
                  <p:nvSpPr>
                    <p:cNvPr id="4229" name=""/>
                    <p:cNvSpPr/>
                    <p:nvPr/>
                  </p:nvSpPr>
                  <p:spPr>
                    <a:xfrm>
                      <a:off x="601920" y="1019880"/>
                      <a:ext cx="231840" cy="1566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0" name=""/>
                    <p:cNvSpPr/>
                    <p:nvPr/>
                  </p:nvSpPr>
                  <p:spPr>
                    <a:xfrm>
                      <a:off x="612360" y="1182240"/>
                      <a:ext cx="2736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1" name=""/>
                    <p:cNvSpPr/>
                    <p:nvPr/>
                  </p:nvSpPr>
                  <p:spPr>
                    <a:xfrm>
                      <a:off x="794160" y="1182240"/>
                      <a:ext cx="2700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232" name=""/>
              <p:cNvSpPr/>
              <p:nvPr/>
            </p:nvSpPr>
            <p:spPr>
              <a:xfrm>
                <a:off x="519480" y="479520"/>
                <a:ext cx="2157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3" name=""/>
            <p:cNvGrpSpPr/>
            <p:nvPr/>
          </p:nvGrpSpPr>
          <p:grpSpPr>
            <a:xfrm>
              <a:off x="336600" y="1974960"/>
              <a:ext cx="2139480" cy="227160"/>
              <a:chOff x="336600" y="1974960"/>
              <a:chExt cx="2139480" cy="227160"/>
            </a:xfrm>
          </p:grpSpPr>
          <p:sp>
            <p:nvSpPr>
              <p:cNvPr id="4234" name=""/>
              <p:cNvSpPr/>
              <p:nvPr/>
            </p:nvSpPr>
            <p:spPr>
              <a:xfrm>
                <a:off x="808200" y="1986480"/>
                <a:ext cx="166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8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nzerschreck           GE-5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5" name=""/>
              <p:cNvGrpSpPr/>
              <p:nvPr/>
            </p:nvGrpSpPr>
            <p:grpSpPr>
              <a:xfrm>
                <a:off x="336600" y="1974960"/>
                <a:ext cx="468000" cy="192960"/>
                <a:chOff x="336600" y="1974960"/>
                <a:chExt cx="468000" cy="192960"/>
              </a:xfrm>
            </p:grpSpPr>
            <p:sp>
              <p:nvSpPr>
                <p:cNvPr id="4236" name=""/>
                <p:cNvSpPr/>
                <p:nvPr/>
              </p:nvSpPr>
              <p:spPr>
                <a:xfrm>
                  <a:off x="336600" y="2071440"/>
                  <a:ext cx="274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7" name=""/>
                <p:cNvGrpSpPr/>
                <p:nvPr/>
              </p:nvGrpSpPr>
              <p:grpSpPr>
                <a:xfrm>
                  <a:off x="573120" y="1974960"/>
                  <a:ext cx="231480" cy="192960"/>
                  <a:chOff x="573120" y="1974960"/>
                  <a:chExt cx="231480" cy="192960"/>
                </a:xfrm>
              </p:grpSpPr>
              <p:grpSp>
                <p:nvGrpSpPr>
                  <p:cNvPr id="4238" name=""/>
                  <p:cNvGrpSpPr/>
                  <p:nvPr/>
                </p:nvGrpSpPr>
                <p:grpSpPr>
                  <a:xfrm>
                    <a:off x="573120" y="2011320"/>
                    <a:ext cx="231480" cy="156600"/>
                    <a:chOff x="573120" y="2011320"/>
                    <a:chExt cx="231480" cy="156600"/>
                  </a:xfrm>
                </p:grpSpPr>
                <p:sp>
                  <p:nvSpPr>
                    <p:cNvPr id="4239" name=""/>
                    <p:cNvSpPr/>
                    <p:nvPr/>
                  </p:nvSpPr>
                  <p:spPr>
                    <a:xfrm>
                      <a:off x="573120" y="2011320"/>
                      <a:ext cx="231480" cy="1566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0" name=""/>
                    <p:cNvSpPr/>
                    <p:nvPr/>
                  </p:nvSpPr>
                  <p:spPr>
                    <a:xfrm flipV="1">
                      <a:off x="573120" y="2014200"/>
                      <a:ext cx="113760" cy="151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1" name=""/>
                    <p:cNvSpPr/>
                    <p:nvPr/>
                  </p:nvSpPr>
                  <p:spPr>
                    <a:xfrm>
                      <a:off x="686880" y="2011320"/>
                      <a:ext cx="113760" cy="153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42" name=""/>
                  <p:cNvGrpSpPr/>
                  <p:nvPr/>
                </p:nvGrpSpPr>
                <p:grpSpPr>
                  <a:xfrm>
                    <a:off x="652320" y="1974960"/>
                    <a:ext cx="74520" cy="28080"/>
                    <a:chOff x="652320" y="1974960"/>
                    <a:chExt cx="74520" cy="28080"/>
                  </a:xfrm>
                </p:grpSpPr>
                <p:sp>
                  <p:nvSpPr>
                    <p:cNvPr id="4243" name=""/>
                    <p:cNvSpPr/>
                    <p:nvPr/>
                  </p:nvSpPr>
                  <p:spPr>
                    <a:xfrm>
                      <a:off x="652320" y="19749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4" name=""/>
                    <p:cNvSpPr/>
                    <p:nvPr/>
                  </p:nvSpPr>
                  <p:spPr>
                    <a:xfrm>
                      <a:off x="699840" y="19764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245" name=""/>
            <p:cNvGrpSpPr/>
            <p:nvPr/>
          </p:nvGrpSpPr>
          <p:grpSpPr>
            <a:xfrm>
              <a:off x="328680" y="2550960"/>
              <a:ext cx="2400840" cy="515160"/>
              <a:chOff x="328680" y="2550960"/>
              <a:chExt cx="2400840" cy="515160"/>
            </a:xfrm>
          </p:grpSpPr>
          <p:sp>
            <p:nvSpPr>
              <p:cNvPr id="4246" name=""/>
              <p:cNvSpPr/>
              <p:nvPr/>
            </p:nvSpPr>
            <p:spPr>
              <a:xfrm>
                <a:off x="617760" y="2722320"/>
                <a:ext cx="0" cy="15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7" name=""/>
              <p:cNvGrpSpPr/>
              <p:nvPr/>
            </p:nvGrpSpPr>
            <p:grpSpPr>
              <a:xfrm>
                <a:off x="582840" y="2835000"/>
                <a:ext cx="231480" cy="226800"/>
                <a:chOff x="582840" y="2835000"/>
                <a:chExt cx="231480" cy="226800"/>
              </a:xfrm>
            </p:grpSpPr>
            <p:grpSp>
              <p:nvGrpSpPr>
                <p:cNvPr id="4248" name=""/>
                <p:cNvGrpSpPr/>
                <p:nvPr/>
              </p:nvGrpSpPr>
              <p:grpSpPr>
                <a:xfrm>
                  <a:off x="582840" y="2871720"/>
                  <a:ext cx="231480" cy="190080"/>
                  <a:chOff x="582840" y="2871720"/>
                  <a:chExt cx="231480" cy="190080"/>
                </a:xfrm>
              </p:grpSpPr>
              <p:sp>
                <p:nvSpPr>
                  <p:cNvPr id="4249" name=""/>
                  <p:cNvSpPr/>
                  <p:nvPr/>
                </p:nvSpPr>
                <p:spPr>
                  <a:xfrm>
                    <a:off x="582840" y="2871720"/>
                    <a:ext cx="23148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0" name=""/>
                  <p:cNvSpPr/>
                  <p:nvPr/>
                </p:nvSpPr>
                <p:spPr>
                  <a:xfrm>
                    <a:off x="593280" y="303444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1" name=""/>
                  <p:cNvSpPr/>
                  <p:nvPr/>
                </p:nvSpPr>
                <p:spPr>
                  <a:xfrm>
                    <a:off x="775080" y="303444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2" name=""/>
                <p:cNvGrpSpPr/>
                <p:nvPr/>
              </p:nvGrpSpPr>
              <p:grpSpPr>
                <a:xfrm>
                  <a:off x="660600" y="2835000"/>
                  <a:ext cx="74520" cy="28800"/>
                  <a:chOff x="660600" y="2835000"/>
                  <a:chExt cx="74520" cy="28800"/>
                </a:xfrm>
              </p:grpSpPr>
              <p:sp>
                <p:nvSpPr>
                  <p:cNvPr id="4253" name=""/>
                  <p:cNvSpPr/>
                  <p:nvPr/>
                </p:nvSpPr>
                <p:spPr>
                  <a:xfrm>
                    <a:off x="660600" y="28350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4" name=""/>
                  <p:cNvSpPr/>
                  <p:nvPr/>
                </p:nvSpPr>
                <p:spPr>
                  <a:xfrm>
                    <a:off x="708120" y="28368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55" name=""/>
              <p:cNvSpPr/>
              <p:nvPr/>
            </p:nvSpPr>
            <p:spPr>
              <a:xfrm>
                <a:off x="328680" y="265572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813960" y="2553480"/>
                <a:ext cx="1907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5mm leIG37 Infantry Gun   GE-3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824400" y="268200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815760" y="2850480"/>
                <a:ext cx="1913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orse-drawn Limber             GE-3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9" name=""/>
              <p:cNvGrpSpPr/>
              <p:nvPr/>
            </p:nvGrpSpPr>
            <p:grpSpPr>
              <a:xfrm>
                <a:off x="578160" y="2550960"/>
                <a:ext cx="231480" cy="187200"/>
                <a:chOff x="578160" y="2550960"/>
                <a:chExt cx="231480" cy="187200"/>
              </a:xfrm>
            </p:grpSpPr>
            <p:grpSp>
              <p:nvGrpSpPr>
                <p:cNvPr id="4260" name=""/>
                <p:cNvGrpSpPr/>
                <p:nvPr/>
              </p:nvGrpSpPr>
              <p:grpSpPr>
                <a:xfrm>
                  <a:off x="655920" y="2550960"/>
                  <a:ext cx="74520" cy="28080"/>
                  <a:chOff x="655920" y="2550960"/>
                  <a:chExt cx="74520" cy="28080"/>
                </a:xfrm>
              </p:grpSpPr>
              <p:sp>
                <p:nvSpPr>
                  <p:cNvPr id="4261" name=""/>
                  <p:cNvSpPr/>
                  <p:nvPr/>
                </p:nvSpPr>
                <p:spPr>
                  <a:xfrm>
                    <a:off x="655920" y="25509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2" name=""/>
                  <p:cNvSpPr/>
                  <p:nvPr/>
                </p:nvSpPr>
                <p:spPr>
                  <a:xfrm>
                    <a:off x="703440" y="25524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63" name=""/>
                <p:cNvGrpSpPr/>
                <p:nvPr/>
              </p:nvGrpSpPr>
              <p:grpSpPr>
                <a:xfrm>
                  <a:off x="578160" y="2581200"/>
                  <a:ext cx="231480" cy="156960"/>
                  <a:chOff x="578160" y="2581200"/>
                  <a:chExt cx="231480" cy="156960"/>
                </a:xfrm>
              </p:grpSpPr>
              <p:grpSp>
                <p:nvGrpSpPr>
                  <p:cNvPr id="4264" name=""/>
                  <p:cNvGrpSpPr/>
                  <p:nvPr/>
                </p:nvGrpSpPr>
                <p:grpSpPr>
                  <a:xfrm>
                    <a:off x="578160" y="2581200"/>
                    <a:ext cx="231480" cy="156960"/>
                    <a:chOff x="578160" y="2581200"/>
                    <a:chExt cx="231480" cy="156960"/>
                  </a:xfrm>
                </p:grpSpPr>
                <p:sp>
                  <p:nvSpPr>
                    <p:cNvPr id="4265" name=""/>
                    <p:cNvSpPr/>
                    <p:nvPr/>
                  </p:nvSpPr>
                  <p:spPr>
                    <a:xfrm>
                      <a:off x="578160" y="2581200"/>
                      <a:ext cx="23148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6" name=""/>
                    <p:cNvSpPr/>
                    <p:nvPr/>
                  </p:nvSpPr>
                  <p:spPr>
                    <a:xfrm flipV="1">
                      <a:off x="580320" y="2583360"/>
                      <a:ext cx="225360" cy="153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7" name=""/>
                    <p:cNvSpPr/>
                    <p:nvPr/>
                  </p:nvSpPr>
                  <p:spPr>
                    <a:xfrm>
                      <a:off x="578160" y="2583360"/>
                      <a:ext cx="230400" cy="149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68" name=""/>
                  <p:cNvSpPr/>
                  <p:nvPr/>
                </p:nvSpPr>
                <p:spPr>
                  <a:xfrm>
                    <a:off x="679320" y="2649600"/>
                    <a:ext cx="28080" cy="2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69" name=""/>
            <p:cNvSpPr/>
            <p:nvPr/>
          </p:nvSpPr>
          <p:spPr>
            <a:xfrm>
              <a:off x="749880" y="2397960"/>
              <a:ext cx="112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0" name=""/>
            <p:cNvGrpSpPr/>
            <p:nvPr/>
          </p:nvGrpSpPr>
          <p:grpSpPr>
            <a:xfrm>
              <a:off x="171360" y="257040"/>
              <a:ext cx="347400" cy="288720"/>
              <a:chOff x="171360" y="257040"/>
              <a:chExt cx="347400" cy="288720"/>
            </a:xfrm>
          </p:grpSpPr>
          <p:grpSp>
            <p:nvGrpSpPr>
              <p:cNvPr id="4271" name=""/>
              <p:cNvGrpSpPr/>
              <p:nvPr/>
            </p:nvGrpSpPr>
            <p:grpSpPr>
              <a:xfrm>
                <a:off x="171360" y="309600"/>
                <a:ext cx="347400" cy="236160"/>
                <a:chOff x="171360" y="309600"/>
                <a:chExt cx="347400" cy="236160"/>
              </a:xfrm>
            </p:grpSpPr>
            <p:sp>
              <p:nvSpPr>
                <p:cNvPr id="4272" name=""/>
                <p:cNvSpPr/>
                <p:nvPr/>
              </p:nvSpPr>
              <p:spPr>
                <a:xfrm>
                  <a:off x="171360" y="309600"/>
                  <a:ext cx="347400" cy="23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 flipV="1">
                  <a:off x="174960" y="313200"/>
                  <a:ext cx="338760" cy="23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4" name=""/>
                <p:cNvSpPr/>
                <p:nvPr/>
              </p:nvSpPr>
              <p:spPr>
                <a:xfrm>
                  <a:off x="171360" y="313200"/>
                  <a:ext cx="345960" cy="22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5" name=""/>
              <p:cNvGrpSpPr/>
              <p:nvPr/>
            </p:nvGrpSpPr>
            <p:grpSpPr>
              <a:xfrm>
                <a:off x="279360" y="257040"/>
                <a:ext cx="131760" cy="64800"/>
                <a:chOff x="279360" y="257040"/>
                <a:chExt cx="131760" cy="64800"/>
              </a:xfrm>
            </p:grpSpPr>
            <p:sp>
              <p:nvSpPr>
                <p:cNvPr id="4276" name=""/>
                <p:cNvSpPr/>
                <p:nvPr/>
              </p:nvSpPr>
              <p:spPr>
                <a:xfrm>
                  <a:off x="346320" y="2584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77" name=""/>
                <p:cNvGrpSpPr/>
                <p:nvPr/>
              </p:nvGrpSpPr>
              <p:grpSpPr>
                <a:xfrm>
                  <a:off x="279360" y="257040"/>
                  <a:ext cx="131760" cy="64800"/>
                  <a:chOff x="279360" y="257040"/>
                  <a:chExt cx="131760" cy="64800"/>
                </a:xfrm>
              </p:grpSpPr>
              <p:sp>
                <p:nvSpPr>
                  <p:cNvPr id="4278" name=""/>
                  <p:cNvSpPr/>
                  <p:nvPr/>
                </p:nvSpPr>
                <p:spPr>
                  <a:xfrm>
                    <a:off x="279360" y="2584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9" name=""/>
                  <p:cNvSpPr/>
                  <p:nvPr/>
                </p:nvSpPr>
                <p:spPr>
                  <a:xfrm>
                    <a:off x="411120" y="257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280" name=""/>
            <p:cNvGrpSpPr/>
            <p:nvPr/>
          </p:nvGrpSpPr>
          <p:grpSpPr>
            <a:xfrm>
              <a:off x="328680" y="1406520"/>
              <a:ext cx="2397240" cy="296280"/>
              <a:chOff x="328680" y="1406520"/>
              <a:chExt cx="2397240" cy="296280"/>
            </a:xfrm>
          </p:grpSpPr>
          <p:grpSp>
            <p:nvGrpSpPr>
              <p:cNvPr id="4281" name=""/>
              <p:cNvGrpSpPr/>
              <p:nvPr/>
            </p:nvGrpSpPr>
            <p:grpSpPr>
              <a:xfrm>
                <a:off x="525240" y="1406520"/>
                <a:ext cx="347040" cy="296280"/>
                <a:chOff x="525240" y="1406520"/>
                <a:chExt cx="347040" cy="296280"/>
              </a:xfrm>
            </p:grpSpPr>
            <p:grpSp>
              <p:nvGrpSpPr>
                <p:cNvPr id="4282" name=""/>
                <p:cNvGrpSpPr/>
                <p:nvPr/>
              </p:nvGrpSpPr>
              <p:grpSpPr>
                <a:xfrm>
                  <a:off x="657000" y="1406520"/>
                  <a:ext cx="75960" cy="63360"/>
                  <a:chOff x="657000" y="1406520"/>
                  <a:chExt cx="75960" cy="63360"/>
                </a:xfrm>
              </p:grpSpPr>
              <p:sp>
                <p:nvSpPr>
                  <p:cNvPr id="4283" name=""/>
                  <p:cNvSpPr/>
                  <p:nvPr/>
                </p:nvSpPr>
                <p:spPr>
                  <a:xfrm>
                    <a:off x="657000" y="14065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4" name=""/>
                  <p:cNvSpPr/>
                  <p:nvPr/>
                </p:nvSpPr>
                <p:spPr>
                  <a:xfrm>
                    <a:off x="732960" y="14065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5" name=""/>
                <p:cNvGrpSpPr/>
                <p:nvPr/>
              </p:nvGrpSpPr>
              <p:grpSpPr>
                <a:xfrm>
                  <a:off x="525240" y="1466640"/>
                  <a:ext cx="347040" cy="236160"/>
                  <a:chOff x="525240" y="1466640"/>
                  <a:chExt cx="347040" cy="236160"/>
                </a:xfrm>
              </p:grpSpPr>
              <p:sp>
                <p:nvSpPr>
                  <p:cNvPr id="4286" name=""/>
                  <p:cNvSpPr/>
                  <p:nvPr/>
                </p:nvSpPr>
                <p:spPr>
                  <a:xfrm>
                    <a:off x="525240" y="1466640"/>
                    <a:ext cx="347040" cy="236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7" name=""/>
                  <p:cNvSpPr/>
                  <p:nvPr/>
                </p:nvSpPr>
                <p:spPr>
                  <a:xfrm flipV="1">
                    <a:off x="528840" y="1470240"/>
                    <a:ext cx="33840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8" name=""/>
                  <p:cNvSpPr/>
                  <p:nvPr/>
                </p:nvSpPr>
                <p:spPr>
                  <a:xfrm>
                    <a:off x="525240" y="1470240"/>
                    <a:ext cx="34560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89" name=""/>
              <p:cNvSpPr/>
              <p:nvPr/>
            </p:nvSpPr>
            <p:spPr>
              <a:xfrm>
                <a:off x="873720" y="1480320"/>
                <a:ext cx="1852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Volksgrenadier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BG-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328680" y="1576440"/>
                <a:ext cx="239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1" name=""/>
            <p:cNvGrpSpPr/>
            <p:nvPr/>
          </p:nvGrpSpPr>
          <p:grpSpPr>
            <a:xfrm>
              <a:off x="343080" y="3894120"/>
              <a:ext cx="2448720" cy="248400"/>
              <a:chOff x="343080" y="3894120"/>
              <a:chExt cx="2448720" cy="248400"/>
            </a:xfrm>
          </p:grpSpPr>
          <p:sp>
            <p:nvSpPr>
              <p:cNvPr id="4292" name=""/>
              <p:cNvSpPr/>
              <p:nvPr/>
            </p:nvSpPr>
            <p:spPr>
              <a:xfrm>
                <a:off x="343080" y="402264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867600" y="3926880"/>
                <a:ext cx="1924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Panzerjaeger Platoon (SP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94" name=""/>
              <p:cNvGrpSpPr/>
              <p:nvPr/>
            </p:nvGrpSpPr>
            <p:grpSpPr>
              <a:xfrm>
                <a:off x="543240" y="3894120"/>
                <a:ext cx="291600" cy="241200"/>
                <a:chOff x="543240" y="3894120"/>
                <a:chExt cx="291600" cy="241200"/>
              </a:xfrm>
            </p:grpSpPr>
            <p:grpSp>
              <p:nvGrpSpPr>
                <p:cNvPr id="4295" name=""/>
                <p:cNvGrpSpPr/>
                <p:nvPr/>
              </p:nvGrpSpPr>
              <p:grpSpPr>
                <a:xfrm>
                  <a:off x="543240" y="3944880"/>
                  <a:ext cx="291600" cy="190440"/>
                  <a:chOff x="543240" y="3944880"/>
                  <a:chExt cx="291600" cy="190440"/>
                </a:xfrm>
              </p:grpSpPr>
              <p:sp>
                <p:nvSpPr>
                  <p:cNvPr id="4296" name=""/>
                  <p:cNvSpPr/>
                  <p:nvPr/>
                </p:nvSpPr>
                <p:spPr>
                  <a:xfrm>
                    <a:off x="544680" y="3944880"/>
                    <a:ext cx="290160" cy="190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7" name=""/>
                  <p:cNvSpPr/>
                  <p:nvPr/>
                </p:nvSpPr>
                <p:spPr>
                  <a:xfrm>
                    <a:off x="580680" y="3986640"/>
                    <a:ext cx="208080" cy="9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8" name=""/>
                  <p:cNvSpPr/>
                  <p:nvPr/>
                </p:nvSpPr>
                <p:spPr>
                  <a:xfrm flipV="1">
                    <a:off x="543240" y="3946320"/>
                    <a:ext cx="140040" cy="188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9" name=""/>
                  <p:cNvSpPr/>
                  <p:nvPr/>
                </p:nvSpPr>
                <p:spPr>
                  <a:xfrm>
                    <a:off x="683280" y="3944880"/>
                    <a:ext cx="150120" cy="189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00" name=""/>
                <p:cNvGrpSpPr/>
                <p:nvPr/>
              </p:nvGrpSpPr>
              <p:grpSpPr>
                <a:xfrm>
                  <a:off x="619200" y="3894120"/>
                  <a:ext cx="131760" cy="27000"/>
                  <a:chOff x="619200" y="3894120"/>
                  <a:chExt cx="131760" cy="27000"/>
                </a:xfrm>
              </p:grpSpPr>
              <p:sp>
                <p:nvSpPr>
                  <p:cNvPr id="4301" name=""/>
                  <p:cNvSpPr/>
                  <p:nvPr/>
                </p:nvSpPr>
                <p:spPr>
                  <a:xfrm>
                    <a:off x="619200" y="38941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2" name=""/>
                  <p:cNvSpPr/>
                  <p:nvPr/>
                </p:nvSpPr>
                <p:spPr>
                  <a:xfrm>
                    <a:off x="669960" y="38941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3" name=""/>
                  <p:cNvSpPr/>
                  <p:nvPr/>
                </p:nvSpPr>
                <p:spPr>
                  <a:xfrm>
                    <a:off x="723960" y="38941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304" name=""/>
            <p:cNvGrpSpPr/>
            <p:nvPr/>
          </p:nvGrpSpPr>
          <p:grpSpPr>
            <a:xfrm>
              <a:off x="378000" y="4794120"/>
              <a:ext cx="2152440" cy="286560"/>
              <a:chOff x="378000" y="4794120"/>
              <a:chExt cx="2152440" cy="286560"/>
            </a:xfrm>
          </p:grpSpPr>
          <p:grpSp>
            <p:nvGrpSpPr>
              <p:cNvPr id="4305" name=""/>
              <p:cNvGrpSpPr/>
              <p:nvPr/>
            </p:nvGrpSpPr>
            <p:grpSpPr>
              <a:xfrm>
                <a:off x="573120" y="4794120"/>
                <a:ext cx="312120" cy="259920"/>
                <a:chOff x="573120" y="4794120"/>
                <a:chExt cx="312120" cy="259920"/>
              </a:xfrm>
            </p:grpSpPr>
            <p:grpSp>
              <p:nvGrpSpPr>
                <p:cNvPr id="4306" name=""/>
                <p:cNvGrpSpPr/>
                <p:nvPr/>
              </p:nvGrpSpPr>
              <p:grpSpPr>
                <a:xfrm>
                  <a:off x="573120" y="4860720"/>
                  <a:ext cx="312120" cy="193320"/>
                  <a:chOff x="573120" y="4860720"/>
                  <a:chExt cx="312120" cy="193320"/>
                </a:xfrm>
              </p:grpSpPr>
              <p:sp>
                <p:nvSpPr>
                  <p:cNvPr id="4307" name=""/>
                  <p:cNvSpPr/>
                  <p:nvPr/>
                </p:nvSpPr>
                <p:spPr>
                  <a:xfrm>
                    <a:off x="573120" y="4860720"/>
                    <a:ext cx="312120" cy="193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08" name=""/>
                  <p:cNvGrpSpPr/>
                  <p:nvPr/>
                </p:nvGrpSpPr>
                <p:grpSpPr>
                  <a:xfrm>
                    <a:off x="690840" y="4930920"/>
                    <a:ext cx="74160" cy="32760"/>
                    <a:chOff x="690840" y="4930920"/>
                    <a:chExt cx="74160" cy="32760"/>
                  </a:xfrm>
                </p:grpSpPr>
                <p:sp>
                  <p:nvSpPr>
                    <p:cNvPr id="4309" name=""/>
                    <p:cNvSpPr/>
                    <p:nvPr/>
                  </p:nvSpPr>
                  <p:spPr>
                    <a:xfrm>
                      <a:off x="690840" y="4930920"/>
                      <a:ext cx="0" cy="32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0" name=""/>
                    <p:cNvSpPr/>
                    <p:nvPr/>
                  </p:nvSpPr>
                  <p:spPr>
                    <a:xfrm>
                      <a:off x="729000" y="4930920"/>
                      <a:ext cx="0" cy="32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1" name=""/>
                    <p:cNvSpPr/>
                    <p:nvPr/>
                  </p:nvSpPr>
                  <p:spPr>
                    <a:xfrm>
                      <a:off x="765000" y="4930920"/>
                      <a:ext cx="0" cy="32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2" name=""/>
                    <p:cNvSpPr/>
                    <p:nvPr/>
                  </p:nvSpPr>
                  <p:spPr>
                    <a:xfrm>
                      <a:off x="690840" y="4930920"/>
                      <a:ext cx="74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13" name=""/>
                <p:cNvSpPr/>
                <p:nvPr/>
              </p:nvSpPr>
              <p:spPr>
                <a:xfrm>
                  <a:off x="728640" y="47941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4" name=""/>
              <p:cNvSpPr/>
              <p:nvPr/>
            </p:nvSpPr>
            <p:spPr>
              <a:xfrm>
                <a:off x="378000" y="4964040"/>
                <a:ext cx="2300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865440" y="4865040"/>
                <a:ext cx="1665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Engineer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1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6" name=""/>
            <p:cNvGrpSpPr/>
            <p:nvPr/>
          </p:nvGrpSpPr>
          <p:grpSpPr>
            <a:xfrm>
              <a:off x="347760" y="5614920"/>
              <a:ext cx="2156400" cy="259560"/>
              <a:chOff x="347760" y="5614920"/>
              <a:chExt cx="2156400" cy="259560"/>
            </a:xfrm>
          </p:grpSpPr>
          <p:sp>
            <p:nvSpPr>
              <p:cNvPr id="4317" name=""/>
              <p:cNvSpPr/>
              <p:nvPr/>
            </p:nvSpPr>
            <p:spPr>
              <a:xfrm>
                <a:off x="695520" y="56149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347760" y="575460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874080" y="5658840"/>
                <a:ext cx="1630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Assault Gun Batter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0" name=""/>
              <p:cNvGrpSpPr/>
              <p:nvPr/>
            </p:nvGrpSpPr>
            <p:grpSpPr>
              <a:xfrm>
                <a:off x="547920" y="5676840"/>
                <a:ext cx="291600" cy="190440"/>
                <a:chOff x="547920" y="5676840"/>
                <a:chExt cx="291600" cy="190440"/>
              </a:xfrm>
            </p:grpSpPr>
            <p:sp>
              <p:nvSpPr>
                <p:cNvPr id="4321" name=""/>
                <p:cNvSpPr/>
                <p:nvPr/>
              </p:nvSpPr>
              <p:spPr>
                <a:xfrm>
                  <a:off x="549360" y="5676840"/>
                  <a:ext cx="290160" cy="190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2" name=""/>
                <p:cNvSpPr/>
                <p:nvPr/>
              </p:nvSpPr>
              <p:spPr>
                <a:xfrm>
                  <a:off x="585360" y="5718600"/>
                  <a:ext cx="20808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3" name=""/>
                <p:cNvSpPr/>
                <p:nvPr/>
              </p:nvSpPr>
              <p:spPr>
                <a:xfrm flipV="1">
                  <a:off x="547920" y="5678280"/>
                  <a:ext cx="140040" cy="18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4" name=""/>
                <p:cNvSpPr/>
                <p:nvPr/>
              </p:nvSpPr>
              <p:spPr>
                <a:xfrm>
                  <a:off x="687960" y="5676840"/>
                  <a:ext cx="15012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25" name=""/>
            <p:cNvGrpSpPr/>
            <p:nvPr/>
          </p:nvGrpSpPr>
          <p:grpSpPr>
            <a:xfrm>
              <a:off x="336600" y="5934240"/>
              <a:ext cx="2635200" cy="259200"/>
              <a:chOff x="336600" y="5934240"/>
              <a:chExt cx="2635200" cy="259200"/>
            </a:xfrm>
          </p:grpSpPr>
          <p:sp>
            <p:nvSpPr>
              <p:cNvPr id="4326" name=""/>
              <p:cNvSpPr/>
              <p:nvPr/>
            </p:nvSpPr>
            <p:spPr>
              <a:xfrm>
                <a:off x="684360" y="5934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336600" y="607356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863280" y="5977800"/>
                <a:ext cx="210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Heavy Panzerjaeger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9" name=""/>
              <p:cNvGrpSpPr/>
              <p:nvPr/>
            </p:nvGrpSpPr>
            <p:grpSpPr>
              <a:xfrm>
                <a:off x="536760" y="5995800"/>
                <a:ext cx="291600" cy="190080"/>
                <a:chOff x="536760" y="5995800"/>
                <a:chExt cx="291600" cy="190080"/>
              </a:xfrm>
            </p:grpSpPr>
            <p:sp>
              <p:nvSpPr>
                <p:cNvPr id="4330" name=""/>
                <p:cNvSpPr/>
                <p:nvPr/>
              </p:nvSpPr>
              <p:spPr>
                <a:xfrm>
                  <a:off x="538200" y="5995800"/>
                  <a:ext cx="290160" cy="190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574200" y="6037560"/>
                  <a:ext cx="20808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 flipV="1">
                  <a:off x="536760" y="5996880"/>
                  <a:ext cx="140040" cy="188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3" name=""/>
                <p:cNvSpPr/>
                <p:nvPr/>
              </p:nvSpPr>
              <p:spPr>
                <a:xfrm>
                  <a:off x="676800" y="5995800"/>
                  <a:ext cx="150120" cy="18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4" name=""/>
            <p:cNvSpPr/>
            <p:nvPr/>
          </p:nvSpPr>
          <p:spPr>
            <a:xfrm>
              <a:off x="793800" y="5442120"/>
              <a:ext cx="2255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NON-DIVISIONAL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5" name=""/>
            <p:cNvGrpSpPr/>
            <p:nvPr/>
          </p:nvGrpSpPr>
          <p:grpSpPr>
            <a:xfrm>
              <a:off x="336600" y="3237840"/>
              <a:ext cx="2176920" cy="426600"/>
              <a:chOff x="336600" y="3237840"/>
              <a:chExt cx="2176920" cy="426600"/>
            </a:xfrm>
          </p:grpSpPr>
          <p:sp>
            <p:nvSpPr>
              <p:cNvPr id="4336" name=""/>
              <p:cNvSpPr/>
              <p:nvPr/>
            </p:nvSpPr>
            <p:spPr>
              <a:xfrm>
                <a:off x="336600" y="3549600"/>
                <a:ext cx="210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37" name=""/>
              <p:cNvGrpSpPr/>
              <p:nvPr/>
            </p:nvGrpSpPr>
            <p:grpSpPr>
              <a:xfrm>
                <a:off x="520560" y="3397320"/>
                <a:ext cx="291240" cy="246600"/>
                <a:chOff x="520560" y="3397320"/>
                <a:chExt cx="291240" cy="246600"/>
              </a:xfrm>
            </p:grpSpPr>
            <p:grpSp>
              <p:nvGrpSpPr>
                <p:cNvPr id="4338" name=""/>
                <p:cNvGrpSpPr/>
                <p:nvPr/>
              </p:nvGrpSpPr>
              <p:grpSpPr>
                <a:xfrm>
                  <a:off x="599400" y="3397320"/>
                  <a:ext cx="131040" cy="26640"/>
                  <a:chOff x="599400" y="3397320"/>
                  <a:chExt cx="131040" cy="26640"/>
                </a:xfrm>
              </p:grpSpPr>
              <p:sp>
                <p:nvSpPr>
                  <p:cNvPr id="4339" name=""/>
                  <p:cNvSpPr/>
                  <p:nvPr/>
                </p:nvSpPr>
                <p:spPr>
                  <a:xfrm>
                    <a:off x="599400" y="33973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0" name=""/>
                  <p:cNvSpPr/>
                  <p:nvPr/>
                </p:nvSpPr>
                <p:spPr>
                  <a:xfrm>
                    <a:off x="649800" y="339732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1" name=""/>
                  <p:cNvSpPr/>
                  <p:nvPr/>
                </p:nvSpPr>
                <p:spPr>
                  <a:xfrm>
                    <a:off x="703800" y="33973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2" name=""/>
                <p:cNvGrpSpPr/>
                <p:nvPr/>
              </p:nvGrpSpPr>
              <p:grpSpPr>
                <a:xfrm>
                  <a:off x="520560" y="3454200"/>
                  <a:ext cx="291240" cy="189720"/>
                  <a:chOff x="520560" y="3454200"/>
                  <a:chExt cx="291240" cy="189720"/>
                </a:xfrm>
              </p:grpSpPr>
              <p:sp>
                <p:nvSpPr>
                  <p:cNvPr id="4343" name=""/>
                  <p:cNvSpPr/>
                  <p:nvPr/>
                </p:nvSpPr>
                <p:spPr>
                  <a:xfrm>
                    <a:off x="520560" y="3454200"/>
                    <a:ext cx="291240" cy="189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4" name=""/>
                  <p:cNvSpPr/>
                  <p:nvPr/>
                </p:nvSpPr>
                <p:spPr>
                  <a:xfrm flipV="1">
                    <a:off x="622800" y="3593880"/>
                    <a:ext cx="76680" cy="14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5" name=""/>
                  <p:cNvSpPr/>
                  <p:nvPr/>
                </p:nvSpPr>
                <p:spPr>
                  <a:xfrm>
                    <a:off x="661320" y="3492360"/>
                    <a:ext cx="0" cy="10152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46" name=""/>
              <p:cNvSpPr/>
              <p:nvPr/>
            </p:nvSpPr>
            <p:spPr>
              <a:xfrm>
                <a:off x="780480" y="3237840"/>
                <a:ext cx="1585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836640" y="3448800"/>
                <a:ext cx="1676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Heavy Mortar Plato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FS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8" name=""/>
            <p:cNvSpPr/>
            <p:nvPr/>
          </p:nvSpPr>
          <p:spPr>
            <a:xfrm>
              <a:off x="469800" y="3079800"/>
              <a:ext cx="16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FIRE SUPPORT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469800" y="3679920"/>
              <a:ext cx="16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DIVISIONAL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0" name=""/>
          <p:cNvGrpSpPr/>
          <p:nvPr/>
        </p:nvGrpSpPr>
        <p:grpSpPr>
          <a:xfrm>
            <a:off x="363600" y="6351480"/>
            <a:ext cx="2867040" cy="272160"/>
            <a:chOff x="363600" y="6351480"/>
            <a:chExt cx="2867040" cy="272160"/>
          </a:xfrm>
        </p:grpSpPr>
        <p:grpSp>
          <p:nvGrpSpPr>
            <p:cNvPr id="4351" name=""/>
            <p:cNvGrpSpPr/>
            <p:nvPr/>
          </p:nvGrpSpPr>
          <p:grpSpPr>
            <a:xfrm>
              <a:off x="363600" y="6351480"/>
              <a:ext cx="527040" cy="258120"/>
              <a:chOff x="363600" y="6351480"/>
              <a:chExt cx="527040" cy="258120"/>
            </a:xfrm>
          </p:grpSpPr>
          <p:grpSp>
            <p:nvGrpSpPr>
              <p:cNvPr id="4352" name=""/>
              <p:cNvGrpSpPr/>
              <p:nvPr/>
            </p:nvGrpSpPr>
            <p:grpSpPr>
              <a:xfrm>
                <a:off x="547920" y="6351480"/>
                <a:ext cx="342720" cy="258120"/>
                <a:chOff x="547920" y="6351480"/>
                <a:chExt cx="342720" cy="258120"/>
              </a:xfrm>
            </p:grpSpPr>
            <p:grpSp>
              <p:nvGrpSpPr>
                <p:cNvPr id="4353" name=""/>
                <p:cNvGrpSpPr/>
                <p:nvPr/>
              </p:nvGrpSpPr>
              <p:grpSpPr>
                <a:xfrm>
                  <a:off x="547920" y="6419520"/>
                  <a:ext cx="291600" cy="190080"/>
                  <a:chOff x="547920" y="6419520"/>
                  <a:chExt cx="291600" cy="190080"/>
                </a:xfrm>
              </p:grpSpPr>
              <p:sp>
                <p:nvSpPr>
                  <p:cNvPr id="4354" name=""/>
                  <p:cNvSpPr/>
                  <p:nvPr/>
                </p:nvSpPr>
                <p:spPr>
                  <a:xfrm>
                    <a:off x="547920" y="6419520"/>
                    <a:ext cx="29160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5" name=""/>
                  <p:cNvSpPr/>
                  <p:nvPr/>
                </p:nvSpPr>
                <p:spPr>
                  <a:xfrm>
                    <a:off x="673560" y="649224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56" name=""/>
                <p:cNvGrpSpPr/>
                <p:nvPr/>
              </p:nvGrpSpPr>
              <p:grpSpPr>
                <a:xfrm>
                  <a:off x="597240" y="6362280"/>
                  <a:ext cx="75960" cy="63360"/>
                  <a:chOff x="597240" y="6362280"/>
                  <a:chExt cx="75960" cy="63360"/>
                </a:xfrm>
              </p:grpSpPr>
              <p:sp>
                <p:nvSpPr>
                  <p:cNvPr id="4357" name=""/>
                  <p:cNvSpPr/>
                  <p:nvPr/>
                </p:nvSpPr>
                <p:spPr>
                  <a:xfrm>
                    <a:off x="597240" y="63622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8" name=""/>
                  <p:cNvSpPr/>
                  <p:nvPr/>
                </p:nvSpPr>
                <p:spPr>
                  <a:xfrm>
                    <a:off x="673200" y="63622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59" name=""/>
                <p:cNvSpPr/>
                <p:nvPr/>
              </p:nvSpPr>
              <p:spPr>
                <a:xfrm>
                  <a:off x="673200" y="6351480"/>
                  <a:ext cx="217440" cy="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(+)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0" name=""/>
              <p:cNvSpPr/>
              <p:nvPr/>
            </p:nvSpPr>
            <p:spPr>
              <a:xfrm>
                <a:off x="363600" y="6508440"/>
                <a:ext cx="20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1" name=""/>
            <p:cNvSpPr/>
            <p:nvPr/>
          </p:nvSpPr>
          <p:spPr>
            <a:xfrm>
              <a:off x="843120" y="6408000"/>
              <a:ext cx="238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Light Artillery Battalion (75mm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FS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2" name=""/>
          <p:cNvSpPr/>
          <p:nvPr/>
        </p:nvSpPr>
        <p:spPr>
          <a:xfrm>
            <a:off x="2906640" y="48960"/>
            <a:ext cx="14605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Battle Group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3" name=""/>
          <p:cNvGrpSpPr/>
          <p:nvPr/>
        </p:nvGrpSpPr>
        <p:grpSpPr>
          <a:xfrm>
            <a:off x="2978280" y="520560"/>
            <a:ext cx="2389680" cy="2426400"/>
            <a:chOff x="2978280" y="520560"/>
            <a:chExt cx="2389680" cy="2426400"/>
          </a:xfrm>
        </p:grpSpPr>
        <p:sp>
          <p:nvSpPr>
            <p:cNvPr id="4364" name=""/>
            <p:cNvSpPr/>
            <p:nvPr/>
          </p:nvSpPr>
          <p:spPr>
            <a:xfrm>
              <a:off x="3151080" y="812880"/>
              <a:ext cx="0" cy="200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349800" y="1109520"/>
              <a:ext cx="164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6" name=""/>
            <p:cNvGrpSpPr/>
            <p:nvPr/>
          </p:nvGrpSpPr>
          <p:grpSpPr>
            <a:xfrm>
              <a:off x="3411360" y="778680"/>
              <a:ext cx="1946160" cy="350640"/>
              <a:chOff x="3411360" y="778680"/>
              <a:chExt cx="1946160" cy="350640"/>
            </a:xfrm>
          </p:grpSpPr>
          <p:sp>
            <p:nvSpPr>
              <p:cNvPr id="4367" name=""/>
              <p:cNvSpPr/>
              <p:nvPr/>
            </p:nvSpPr>
            <p:spPr>
              <a:xfrm>
                <a:off x="3678480" y="778680"/>
                <a:ext cx="65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8" name=""/>
              <p:cNvGrpSpPr/>
              <p:nvPr/>
            </p:nvGrpSpPr>
            <p:grpSpPr>
              <a:xfrm>
                <a:off x="3411360" y="839520"/>
                <a:ext cx="238320" cy="194760"/>
                <a:chOff x="3411360" y="839520"/>
                <a:chExt cx="238320" cy="194760"/>
              </a:xfrm>
            </p:grpSpPr>
            <p:sp>
              <p:nvSpPr>
                <p:cNvPr id="4369" name=""/>
                <p:cNvSpPr/>
                <p:nvPr/>
              </p:nvSpPr>
              <p:spPr>
                <a:xfrm>
                  <a:off x="3411360" y="875880"/>
                  <a:ext cx="238320" cy="158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>
                  <a:off x="3516120" y="8395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71" name=""/>
              <p:cNvSpPr/>
              <p:nvPr/>
            </p:nvSpPr>
            <p:spPr>
              <a:xfrm>
                <a:off x="3689280" y="913680"/>
                <a:ext cx="1668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            GE-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2" name=""/>
            <p:cNvSpPr/>
            <p:nvPr/>
          </p:nvSpPr>
          <p:spPr>
            <a:xfrm>
              <a:off x="3151080" y="94608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3357720" y="1581120"/>
              <a:ext cx="164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654720" y="1783800"/>
              <a:ext cx="1686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avy Machine Gun     GE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3631320" y="1982160"/>
              <a:ext cx="112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3151080" y="188928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381480" y="2401920"/>
              <a:ext cx="164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FIRE SUPPORT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8" name=""/>
            <p:cNvGrpSpPr/>
            <p:nvPr/>
          </p:nvGrpSpPr>
          <p:grpSpPr>
            <a:xfrm>
              <a:off x="3141720" y="2520360"/>
              <a:ext cx="2176920" cy="426600"/>
              <a:chOff x="3141720" y="2520360"/>
              <a:chExt cx="2176920" cy="426600"/>
            </a:xfrm>
          </p:grpSpPr>
          <p:sp>
            <p:nvSpPr>
              <p:cNvPr id="4379" name=""/>
              <p:cNvSpPr/>
              <p:nvPr/>
            </p:nvSpPr>
            <p:spPr>
              <a:xfrm>
                <a:off x="3141720" y="2832120"/>
                <a:ext cx="210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80" name=""/>
              <p:cNvGrpSpPr/>
              <p:nvPr/>
            </p:nvGrpSpPr>
            <p:grpSpPr>
              <a:xfrm>
                <a:off x="3325680" y="2679480"/>
                <a:ext cx="291240" cy="247320"/>
                <a:chOff x="3325680" y="2679480"/>
                <a:chExt cx="291240" cy="247320"/>
              </a:xfrm>
            </p:grpSpPr>
            <p:grpSp>
              <p:nvGrpSpPr>
                <p:cNvPr id="4381" name=""/>
                <p:cNvGrpSpPr/>
                <p:nvPr/>
              </p:nvGrpSpPr>
              <p:grpSpPr>
                <a:xfrm>
                  <a:off x="3404520" y="2679480"/>
                  <a:ext cx="131040" cy="27000"/>
                  <a:chOff x="3404520" y="2679480"/>
                  <a:chExt cx="131040" cy="27000"/>
                </a:xfrm>
              </p:grpSpPr>
              <p:sp>
                <p:nvSpPr>
                  <p:cNvPr id="4382" name=""/>
                  <p:cNvSpPr/>
                  <p:nvPr/>
                </p:nvSpPr>
                <p:spPr>
                  <a:xfrm>
                    <a:off x="3404520" y="26794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3" name=""/>
                  <p:cNvSpPr/>
                  <p:nvPr/>
                </p:nvSpPr>
                <p:spPr>
                  <a:xfrm>
                    <a:off x="3454920" y="267948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4" name=""/>
                  <p:cNvSpPr/>
                  <p:nvPr/>
                </p:nvSpPr>
                <p:spPr>
                  <a:xfrm>
                    <a:off x="3508920" y="26794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5" name=""/>
                <p:cNvGrpSpPr/>
                <p:nvPr/>
              </p:nvGrpSpPr>
              <p:grpSpPr>
                <a:xfrm>
                  <a:off x="3325680" y="2736720"/>
                  <a:ext cx="291240" cy="190080"/>
                  <a:chOff x="3325680" y="2736720"/>
                  <a:chExt cx="291240" cy="190080"/>
                </a:xfrm>
              </p:grpSpPr>
              <p:sp>
                <p:nvSpPr>
                  <p:cNvPr id="4386" name=""/>
                  <p:cNvSpPr/>
                  <p:nvPr/>
                </p:nvSpPr>
                <p:spPr>
                  <a:xfrm>
                    <a:off x="3325680" y="2736720"/>
                    <a:ext cx="29124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7" name=""/>
                  <p:cNvSpPr/>
                  <p:nvPr/>
                </p:nvSpPr>
                <p:spPr>
                  <a:xfrm flipV="1">
                    <a:off x="3427920" y="2876760"/>
                    <a:ext cx="76680" cy="14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8" name=""/>
                  <p:cNvSpPr/>
                  <p:nvPr/>
                </p:nvSpPr>
                <p:spPr>
                  <a:xfrm>
                    <a:off x="3466440" y="2774880"/>
                    <a:ext cx="0" cy="1018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89" name=""/>
              <p:cNvSpPr/>
              <p:nvPr/>
            </p:nvSpPr>
            <p:spPr>
              <a:xfrm>
                <a:off x="3585600" y="2520360"/>
                <a:ext cx="1585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3641760" y="2731320"/>
                <a:ext cx="1676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Heavy Mortar Plato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FS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1" name=""/>
            <p:cNvGrpSpPr/>
            <p:nvPr/>
          </p:nvGrpSpPr>
          <p:grpSpPr>
            <a:xfrm>
              <a:off x="2978280" y="520560"/>
              <a:ext cx="347040" cy="299880"/>
              <a:chOff x="2978280" y="520560"/>
              <a:chExt cx="347040" cy="299880"/>
            </a:xfrm>
          </p:grpSpPr>
          <p:grpSp>
            <p:nvGrpSpPr>
              <p:cNvPr id="4392" name=""/>
              <p:cNvGrpSpPr/>
              <p:nvPr/>
            </p:nvGrpSpPr>
            <p:grpSpPr>
              <a:xfrm>
                <a:off x="3119400" y="520560"/>
                <a:ext cx="76320" cy="63360"/>
                <a:chOff x="3119400" y="520560"/>
                <a:chExt cx="76320" cy="63360"/>
              </a:xfrm>
            </p:grpSpPr>
            <p:sp>
              <p:nvSpPr>
                <p:cNvPr id="4393" name=""/>
                <p:cNvSpPr/>
                <p:nvPr/>
              </p:nvSpPr>
              <p:spPr>
                <a:xfrm>
                  <a:off x="3119400" y="520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4" name=""/>
                <p:cNvSpPr/>
                <p:nvPr/>
              </p:nvSpPr>
              <p:spPr>
                <a:xfrm>
                  <a:off x="3195720" y="5205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5" name=""/>
              <p:cNvGrpSpPr/>
              <p:nvPr/>
            </p:nvGrpSpPr>
            <p:grpSpPr>
              <a:xfrm>
                <a:off x="2978280" y="584280"/>
                <a:ext cx="347040" cy="236160"/>
                <a:chOff x="2978280" y="584280"/>
                <a:chExt cx="347040" cy="236160"/>
              </a:xfrm>
            </p:grpSpPr>
            <p:sp>
              <p:nvSpPr>
                <p:cNvPr id="4396" name=""/>
                <p:cNvSpPr/>
                <p:nvPr/>
              </p:nvSpPr>
              <p:spPr>
                <a:xfrm>
                  <a:off x="2978280" y="584280"/>
                  <a:ext cx="347040" cy="23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7" name=""/>
                <p:cNvSpPr/>
                <p:nvPr/>
              </p:nvSpPr>
              <p:spPr>
                <a:xfrm flipV="1">
                  <a:off x="2981880" y="58788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8" name=""/>
                <p:cNvSpPr/>
                <p:nvPr/>
              </p:nvSpPr>
              <p:spPr>
                <a:xfrm>
                  <a:off x="2978280" y="58788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99" name=""/>
            <p:cNvGrpSpPr/>
            <p:nvPr/>
          </p:nvGrpSpPr>
          <p:grpSpPr>
            <a:xfrm>
              <a:off x="3143160" y="1301760"/>
              <a:ext cx="2224800" cy="278640"/>
              <a:chOff x="3143160" y="1301760"/>
              <a:chExt cx="2224800" cy="278640"/>
            </a:xfrm>
          </p:grpSpPr>
          <p:sp>
            <p:nvSpPr>
              <p:cNvPr id="4400" name=""/>
              <p:cNvSpPr/>
              <p:nvPr/>
            </p:nvSpPr>
            <p:spPr>
              <a:xfrm>
                <a:off x="3588840" y="1364760"/>
                <a:ext cx="1779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Infantry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3143160" y="1455840"/>
                <a:ext cx="211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02" name=""/>
              <p:cNvGrpSpPr/>
              <p:nvPr/>
            </p:nvGrpSpPr>
            <p:grpSpPr>
              <a:xfrm>
                <a:off x="3354480" y="1301760"/>
                <a:ext cx="284040" cy="258840"/>
                <a:chOff x="3354480" y="1301760"/>
                <a:chExt cx="284040" cy="258840"/>
              </a:xfrm>
            </p:grpSpPr>
            <p:sp>
              <p:nvSpPr>
                <p:cNvPr id="4403" name=""/>
                <p:cNvSpPr/>
                <p:nvPr/>
              </p:nvSpPr>
              <p:spPr>
                <a:xfrm>
                  <a:off x="3497400" y="13017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4" name=""/>
                <p:cNvGrpSpPr/>
                <p:nvPr/>
              </p:nvGrpSpPr>
              <p:grpSpPr>
                <a:xfrm>
                  <a:off x="3354480" y="1366920"/>
                  <a:ext cx="284040" cy="193680"/>
                  <a:chOff x="3354480" y="1366920"/>
                  <a:chExt cx="284040" cy="193680"/>
                </a:xfrm>
              </p:grpSpPr>
              <p:sp>
                <p:nvSpPr>
                  <p:cNvPr id="4405" name=""/>
                  <p:cNvSpPr/>
                  <p:nvPr/>
                </p:nvSpPr>
                <p:spPr>
                  <a:xfrm>
                    <a:off x="3354480" y="1366920"/>
                    <a:ext cx="284040" cy="19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6" name=""/>
                  <p:cNvSpPr/>
                  <p:nvPr/>
                </p:nvSpPr>
                <p:spPr>
                  <a:xfrm flipV="1">
                    <a:off x="3357360" y="136980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7" name=""/>
                  <p:cNvSpPr/>
                  <p:nvPr/>
                </p:nvSpPr>
                <p:spPr>
                  <a:xfrm>
                    <a:off x="3354480" y="136980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408" name=""/>
            <p:cNvGrpSpPr/>
            <p:nvPr/>
          </p:nvGrpSpPr>
          <p:grpSpPr>
            <a:xfrm>
              <a:off x="3432240" y="1770120"/>
              <a:ext cx="236520" cy="215640"/>
              <a:chOff x="3432240" y="1770120"/>
              <a:chExt cx="236520" cy="215640"/>
            </a:xfrm>
          </p:grpSpPr>
          <p:grpSp>
            <p:nvGrpSpPr>
              <p:cNvPr id="4409" name=""/>
              <p:cNvGrpSpPr/>
              <p:nvPr/>
            </p:nvGrpSpPr>
            <p:grpSpPr>
              <a:xfrm>
                <a:off x="3432240" y="1820880"/>
                <a:ext cx="236520" cy="164880"/>
                <a:chOff x="3432240" y="1820880"/>
                <a:chExt cx="236520" cy="164880"/>
              </a:xfrm>
            </p:grpSpPr>
            <p:sp>
              <p:nvSpPr>
                <p:cNvPr id="4410" name=""/>
                <p:cNvSpPr/>
                <p:nvPr/>
              </p:nvSpPr>
              <p:spPr>
                <a:xfrm>
                  <a:off x="3432240" y="182556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1" name=""/>
                <p:cNvSpPr/>
                <p:nvPr/>
              </p:nvSpPr>
              <p:spPr>
                <a:xfrm>
                  <a:off x="3432240" y="183168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2" name=""/>
                <p:cNvSpPr/>
                <p:nvPr/>
              </p:nvSpPr>
              <p:spPr>
                <a:xfrm flipV="1">
                  <a:off x="3438720" y="1820880"/>
                  <a:ext cx="230040" cy="142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3" name=""/>
                <p:cNvSpPr/>
                <p:nvPr/>
              </p:nvSpPr>
              <p:spPr>
                <a:xfrm>
                  <a:off x="3449880" y="1849320"/>
                  <a:ext cx="218880" cy="136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4" name=""/>
              <p:cNvGrpSpPr/>
              <p:nvPr/>
            </p:nvGrpSpPr>
            <p:grpSpPr>
              <a:xfrm>
                <a:off x="3508200" y="1770120"/>
                <a:ext cx="74520" cy="28080"/>
                <a:chOff x="3508200" y="1770120"/>
                <a:chExt cx="74520" cy="28080"/>
              </a:xfrm>
            </p:grpSpPr>
            <p:sp>
              <p:nvSpPr>
                <p:cNvPr id="4415" name=""/>
                <p:cNvSpPr/>
                <p:nvPr/>
              </p:nvSpPr>
              <p:spPr>
                <a:xfrm>
                  <a:off x="3508200" y="17701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6" name=""/>
                <p:cNvSpPr/>
                <p:nvPr/>
              </p:nvSpPr>
              <p:spPr>
                <a:xfrm>
                  <a:off x="3555720" y="17715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7" name=""/>
            <p:cNvGrpSpPr/>
            <p:nvPr/>
          </p:nvGrpSpPr>
          <p:grpSpPr>
            <a:xfrm>
              <a:off x="3449520" y="2152800"/>
              <a:ext cx="239760" cy="206280"/>
              <a:chOff x="3449520" y="2152800"/>
              <a:chExt cx="239760" cy="206280"/>
            </a:xfrm>
          </p:grpSpPr>
          <p:grpSp>
            <p:nvGrpSpPr>
              <p:cNvPr id="4418" name=""/>
              <p:cNvGrpSpPr/>
              <p:nvPr/>
            </p:nvGrpSpPr>
            <p:grpSpPr>
              <a:xfrm>
                <a:off x="3449520" y="2202120"/>
                <a:ext cx="239760" cy="156960"/>
                <a:chOff x="3449520" y="2202120"/>
                <a:chExt cx="239760" cy="156960"/>
              </a:xfrm>
            </p:grpSpPr>
            <p:sp>
              <p:nvSpPr>
                <p:cNvPr id="4419" name=""/>
                <p:cNvSpPr/>
                <p:nvPr/>
              </p:nvSpPr>
              <p:spPr>
                <a:xfrm>
                  <a:off x="3449520" y="2202120"/>
                  <a:ext cx="239760" cy="15696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0" name=""/>
                <p:cNvSpPr/>
                <p:nvPr/>
              </p:nvSpPr>
              <p:spPr>
                <a:xfrm flipV="1">
                  <a:off x="3533760" y="2317320"/>
                  <a:ext cx="6336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1" name=""/>
                <p:cNvSpPr/>
                <p:nvPr/>
              </p:nvSpPr>
              <p:spPr>
                <a:xfrm>
                  <a:off x="3565440" y="2233440"/>
                  <a:ext cx="0" cy="838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2" name=""/>
              <p:cNvGrpSpPr/>
              <p:nvPr/>
            </p:nvGrpSpPr>
            <p:grpSpPr>
              <a:xfrm>
                <a:off x="3527280" y="2152800"/>
                <a:ext cx="74520" cy="28080"/>
                <a:chOff x="3527280" y="2152800"/>
                <a:chExt cx="74520" cy="28080"/>
              </a:xfrm>
            </p:grpSpPr>
            <p:sp>
              <p:nvSpPr>
                <p:cNvPr id="4423" name=""/>
                <p:cNvSpPr/>
                <p:nvPr/>
              </p:nvSpPr>
              <p:spPr>
                <a:xfrm>
                  <a:off x="3527280" y="21528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4" name=""/>
                <p:cNvSpPr/>
                <p:nvPr/>
              </p:nvSpPr>
              <p:spPr>
                <a:xfrm>
                  <a:off x="3574800" y="21542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25" name=""/>
            <p:cNvSpPr/>
            <p:nvPr/>
          </p:nvSpPr>
          <p:spPr>
            <a:xfrm>
              <a:off x="3174840" y="227484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688560" y="2180520"/>
              <a:ext cx="1628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 mm Mortar             GE-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7" name=""/>
          <p:cNvSpPr/>
          <p:nvPr/>
        </p:nvSpPr>
        <p:spPr>
          <a:xfrm>
            <a:off x="5872320" y="436680"/>
            <a:ext cx="1460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Battle Group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ksgrenadier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8" name=""/>
          <p:cNvGrpSpPr/>
          <p:nvPr/>
        </p:nvGrpSpPr>
        <p:grpSpPr>
          <a:xfrm>
            <a:off x="5943600" y="1015920"/>
            <a:ext cx="2581920" cy="2705400"/>
            <a:chOff x="5943600" y="1015920"/>
            <a:chExt cx="2581920" cy="2705400"/>
          </a:xfrm>
        </p:grpSpPr>
        <p:sp>
          <p:nvSpPr>
            <p:cNvPr id="4429" name=""/>
            <p:cNvSpPr/>
            <p:nvPr/>
          </p:nvSpPr>
          <p:spPr>
            <a:xfrm>
              <a:off x="6116760" y="1308240"/>
              <a:ext cx="0" cy="200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315120" y="1604880"/>
              <a:ext cx="16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1" name=""/>
            <p:cNvGrpSpPr/>
            <p:nvPr/>
          </p:nvGrpSpPr>
          <p:grpSpPr>
            <a:xfrm>
              <a:off x="6377040" y="1274040"/>
              <a:ext cx="1945800" cy="350640"/>
              <a:chOff x="6377040" y="1274040"/>
              <a:chExt cx="1945800" cy="350640"/>
            </a:xfrm>
          </p:grpSpPr>
          <p:sp>
            <p:nvSpPr>
              <p:cNvPr id="4432" name=""/>
              <p:cNvSpPr/>
              <p:nvPr/>
            </p:nvSpPr>
            <p:spPr>
              <a:xfrm>
                <a:off x="6643800" y="1274040"/>
                <a:ext cx="65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33" name=""/>
              <p:cNvGrpSpPr/>
              <p:nvPr/>
            </p:nvGrpSpPr>
            <p:grpSpPr>
              <a:xfrm>
                <a:off x="6377040" y="1334880"/>
                <a:ext cx="237960" cy="194760"/>
                <a:chOff x="6377040" y="1334880"/>
                <a:chExt cx="237960" cy="194760"/>
              </a:xfrm>
            </p:grpSpPr>
            <p:sp>
              <p:nvSpPr>
                <p:cNvPr id="4434" name=""/>
                <p:cNvSpPr/>
                <p:nvPr/>
              </p:nvSpPr>
              <p:spPr>
                <a:xfrm>
                  <a:off x="6377040" y="1371240"/>
                  <a:ext cx="237960" cy="158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5" name=""/>
                <p:cNvSpPr/>
                <p:nvPr/>
              </p:nvSpPr>
              <p:spPr>
                <a:xfrm>
                  <a:off x="6481440" y="13348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6" name=""/>
              <p:cNvSpPr/>
              <p:nvPr/>
            </p:nvSpPr>
            <p:spPr>
              <a:xfrm>
                <a:off x="6654600" y="1409040"/>
                <a:ext cx="1668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            GE-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7" name=""/>
            <p:cNvSpPr/>
            <p:nvPr/>
          </p:nvSpPr>
          <p:spPr>
            <a:xfrm>
              <a:off x="6116760" y="144144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6323040" y="2076480"/>
              <a:ext cx="16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6596640" y="2477520"/>
              <a:ext cx="112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0" name=""/>
            <p:cNvGrpSpPr/>
            <p:nvPr/>
          </p:nvGrpSpPr>
          <p:grpSpPr>
            <a:xfrm>
              <a:off x="5943600" y="1015920"/>
              <a:ext cx="347040" cy="299880"/>
              <a:chOff x="5943600" y="1015920"/>
              <a:chExt cx="347040" cy="299880"/>
            </a:xfrm>
          </p:grpSpPr>
          <p:grpSp>
            <p:nvGrpSpPr>
              <p:cNvPr id="4441" name=""/>
              <p:cNvGrpSpPr/>
              <p:nvPr/>
            </p:nvGrpSpPr>
            <p:grpSpPr>
              <a:xfrm>
                <a:off x="6084720" y="1015920"/>
                <a:ext cx="76320" cy="63360"/>
                <a:chOff x="6084720" y="1015920"/>
                <a:chExt cx="76320" cy="63360"/>
              </a:xfrm>
            </p:grpSpPr>
            <p:sp>
              <p:nvSpPr>
                <p:cNvPr id="4442" name=""/>
                <p:cNvSpPr/>
                <p:nvPr/>
              </p:nvSpPr>
              <p:spPr>
                <a:xfrm>
                  <a:off x="6084720" y="10159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3" name=""/>
                <p:cNvSpPr/>
                <p:nvPr/>
              </p:nvSpPr>
              <p:spPr>
                <a:xfrm>
                  <a:off x="6161040" y="10159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4" name=""/>
              <p:cNvGrpSpPr/>
              <p:nvPr/>
            </p:nvGrpSpPr>
            <p:grpSpPr>
              <a:xfrm>
                <a:off x="5943600" y="1079640"/>
                <a:ext cx="347040" cy="236160"/>
                <a:chOff x="5943600" y="1079640"/>
                <a:chExt cx="347040" cy="236160"/>
              </a:xfrm>
            </p:grpSpPr>
            <p:sp>
              <p:nvSpPr>
                <p:cNvPr id="4445" name=""/>
                <p:cNvSpPr/>
                <p:nvPr/>
              </p:nvSpPr>
              <p:spPr>
                <a:xfrm>
                  <a:off x="5943600" y="1079640"/>
                  <a:ext cx="347040" cy="23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6" name=""/>
                <p:cNvSpPr/>
                <p:nvPr/>
              </p:nvSpPr>
              <p:spPr>
                <a:xfrm flipV="1">
                  <a:off x="5947200" y="108324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7" name=""/>
                <p:cNvSpPr/>
                <p:nvPr/>
              </p:nvSpPr>
              <p:spPr>
                <a:xfrm>
                  <a:off x="5943600" y="108324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48" name=""/>
            <p:cNvGrpSpPr/>
            <p:nvPr/>
          </p:nvGrpSpPr>
          <p:grpSpPr>
            <a:xfrm>
              <a:off x="6108840" y="1797120"/>
              <a:ext cx="2329920" cy="278640"/>
              <a:chOff x="6108840" y="1797120"/>
              <a:chExt cx="2329920" cy="278640"/>
            </a:xfrm>
          </p:grpSpPr>
          <p:sp>
            <p:nvSpPr>
              <p:cNvPr id="4449" name=""/>
              <p:cNvSpPr/>
              <p:nvPr/>
            </p:nvSpPr>
            <p:spPr>
              <a:xfrm>
                <a:off x="6555960" y="1860120"/>
                <a:ext cx="188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Volksgrenadier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6108840" y="1951200"/>
                <a:ext cx="210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51" name=""/>
              <p:cNvGrpSpPr/>
              <p:nvPr/>
            </p:nvGrpSpPr>
            <p:grpSpPr>
              <a:xfrm>
                <a:off x="6319800" y="1797120"/>
                <a:ext cx="283680" cy="258840"/>
                <a:chOff x="6319800" y="1797120"/>
                <a:chExt cx="283680" cy="258840"/>
              </a:xfrm>
            </p:grpSpPr>
            <p:sp>
              <p:nvSpPr>
                <p:cNvPr id="4452" name=""/>
                <p:cNvSpPr/>
                <p:nvPr/>
              </p:nvSpPr>
              <p:spPr>
                <a:xfrm>
                  <a:off x="6462360" y="17971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53" name=""/>
                <p:cNvGrpSpPr/>
                <p:nvPr/>
              </p:nvGrpSpPr>
              <p:grpSpPr>
                <a:xfrm>
                  <a:off x="6319800" y="1862280"/>
                  <a:ext cx="283680" cy="193680"/>
                  <a:chOff x="6319800" y="1862280"/>
                  <a:chExt cx="283680" cy="193680"/>
                </a:xfrm>
              </p:grpSpPr>
              <p:sp>
                <p:nvSpPr>
                  <p:cNvPr id="4454" name=""/>
                  <p:cNvSpPr/>
                  <p:nvPr/>
                </p:nvSpPr>
                <p:spPr>
                  <a:xfrm>
                    <a:off x="6319800" y="1862280"/>
                    <a:ext cx="283680" cy="19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5" name=""/>
                  <p:cNvSpPr/>
                  <p:nvPr/>
                </p:nvSpPr>
                <p:spPr>
                  <a:xfrm flipV="1">
                    <a:off x="6322680" y="1865160"/>
                    <a:ext cx="27612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6" name=""/>
                  <p:cNvSpPr/>
                  <p:nvPr/>
                </p:nvSpPr>
                <p:spPr>
                  <a:xfrm>
                    <a:off x="6319800" y="1865160"/>
                    <a:ext cx="28224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457" name=""/>
            <p:cNvGrpSpPr/>
            <p:nvPr/>
          </p:nvGrpSpPr>
          <p:grpSpPr>
            <a:xfrm>
              <a:off x="6116760" y="2265480"/>
              <a:ext cx="2189880" cy="229320"/>
              <a:chOff x="6116760" y="2265480"/>
              <a:chExt cx="2189880" cy="229320"/>
            </a:xfrm>
          </p:grpSpPr>
          <p:sp>
            <p:nvSpPr>
              <p:cNvPr id="4458" name=""/>
              <p:cNvSpPr/>
              <p:nvPr/>
            </p:nvSpPr>
            <p:spPr>
              <a:xfrm>
                <a:off x="6620040" y="2279160"/>
                <a:ext cx="1686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eavy Machine Gun     GE-5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6116760" y="238428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60" name=""/>
              <p:cNvGrpSpPr/>
              <p:nvPr/>
            </p:nvGrpSpPr>
            <p:grpSpPr>
              <a:xfrm>
                <a:off x="6397560" y="2265480"/>
                <a:ext cx="236520" cy="215640"/>
                <a:chOff x="6397560" y="2265480"/>
                <a:chExt cx="236520" cy="215640"/>
              </a:xfrm>
            </p:grpSpPr>
            <p:grpSp>
              <p:nvGrpSpPr>
                <p:cNvPr id="4461" name=""/>
                <p:cNvGrpSpPr/>
                <p:nvPr/>
              </p:nvGrpSpPr>
              <p:grpSpPr>
                <a:xfrm>
                  <a:off x="6397560" y="2316240"/>
                  <a:ext cx="236520" cy="164880"/>
                  <a:chOff x="6397560" y="2316240"/>
                  <a:chExt cx="236520" cy="164880"/>
                </a:xfrm>
              </p:grpSpPr>
              <p:sp>
                <p:nvSpPr>
                  <p:cNvPr id="4462" name=""/>
                  <p:cNvSpPr/>
                  <p:nvPr/>
                </p:nvSpPr>
                <p:spPr>
                  <a:xfrm>
                    <a:off x="6397560" y="232092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3" name=""/>
                  <p:cNvSpPr/>
                  <p:nvPr/>
                </p:nvSpPr>
                <p:spPr>
                  <a:xfrm>
                    <a:off x="6397560" y="2327040"/>
                    <a:ext cx="50760" cy="14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4" name=""/>
                  <p:cNvSpPr/>
                  <p:nvPr/>
                </p:nvSpPr>
                <p:spPr>
                  <a:xfrm flipV="1">
                    <a:off x="6404040" y="2316240"/>
                    <a:ext cx="230040" cy="142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5" name=""/>
                  <p:cNvSpPr/>
                  <p:nvPr/>
                </p:nvSpPr>
                <p:spPr>
                  <a:xfrm>
                    <a:off x="6415200" y="2344680"/>
                    <a:ext cx="218880" cy="136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66" name=""/>
                <p:cNvGrpSpPr/>
                <p:nvPr/>
              </p:nvGrpSpPr>
              <p:grpSpPr>
                <a:xfrm>
                  <a:off x="6473520" y="2265480"/>
                  <a:ext cx="74520" cy="28080"/>
                  <a:chOff x="6473520" y="2265480"/>
                  <a:chExt cx="74520" cy="28080"/>
                </a:xfrm>
              </p:grpSpPr>
              <p:sp>
                <p:nvSpPr>
                  <p:cNvPr id="4467" name=""/>
                  <p:cNvSpPr/>
                  <p:nvPr/>
                </p:nvSpPr>
                <p:spPr>
                  <a:xfrm>
                    <a:off x="6473520" y="22654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8" name=""/>
                  <p:cNvSpPr/>
                  <p:nvPr/>
                </p:nvSpPr>
                <p:spPr>
                  <a:xfrm>
                    <a:off x="6521040" y="22669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469" name=""/>
            <p:cNvGrpSpPr/>
            <p:nvPr/>
          </p:nvGrpSpPr>
          <p:grpSpPr>
            <a:xfrm>
              <a:off x="6116760" y="2647800"/>
              <a:ext cx="2142000" cy="243720"/>
              <a:chOff x="6116760" y="2647800"/>
              <a:chExt cx="2142000" cy="243720"/>
            </a:xfrm>
          </p:grpSpPr>
          <p:grpSp>
            <p:nvGrpSpPr>
              <p:cNvPr id="4470" name=""/>
              <p:cNvGrpSpPr/>
              <p:nvPr/>
            </p:nvGrpSpPr>
            <p:grpSpPr>
              <a:xfrm>
                <a:off x="6391080" y="2647800"/>
                <a:ext cx="239400" cy="206280"/>
                <a:chOff x="6391080" y="2647800"/>
                <a:chExt cx="239400" cy="206280"/>
              </a:xfrm>
            </p:grpSpPr>
            <p:grpSp>
              <p:nvGrpSpPr>
                <p:cNvPr id="4471" name=""/>
                <p:cNvGrpSpPr/>
                <p:nvPr/>
              </p:nvGrpSpPr>
              <p:grpSpPr>
                <a:xfrm>
                  <a:off x="6391080" y="2697120"/>
                  <a:ext cx="239400" cy="156960"/>
                  <a:chOff x="6391080" y="2697120"/>
                  <a:chExt cx="239400" cy="156960"/>
                </a:xfrm>
              </p:grpSpPr>
              <p:sp>
                <p:nvSpPr>
                  <p:cNvPr id="4472" name=""/>
                  <p:cNvSpPr/>
                  <p:nvPr/>
                </p:nvSpPr>
                <p:spPr>
                  <a:xfrm>
                    <a:off x="6391080" y="2697120"/>
                    <a:ext cx="23940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3" name=""/>
                  <p:cNvSpPr/>
                  <p:nvPr/>
                </p:nvSpPr>
                <p:spPr>
                  <a:xfrm flipV="1">
                    <a:off x="6474960" y="2812320"/>
                    <a:ext cx="6300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4" name=""/>
                  <p:cNvSpPr/>
                  <p:nvPr/>
                </p:nvSpPr>
                <p:spPr>
                  <a:xfrm>
                    <a:off x="6506640" y="2728440"/>
                    <a:ext cx="0" cy="838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5" name=""/>
                <p:cNvGrpSpPr/>
                <p:nvPr/>
              </p:nvGrpSpPr>
              <p:grpSpPr>
                <a:xfrm>
                  <a:off x="6468480" y="2647800"/>
                  <a:ext cx="73800" cy="28080"/>
                  <a:chOff x="6468480" y="2647800"/>
                  <a:chExt cx="73800" cy="28080"/>
                </a:xfrm>
              </p:grpSpPr>
              <p:sp>
                <p:nvSpPr>
                  <p:cNvPr id="4476" name=""/>
                  <p:cNvSpPr/>
                  <p:nvPr/>
                </p:nvSpPr>
                <p:spPr>
                  <a:xfrm>
                    <a:off x="6468480" y="264780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7" name=""/>
                  <p:cNvSpPr/>
                  <p:nvPr/>
                </p:nvSpPr>
                <p:spPr>
                  <a:xfrm>
                    <a:off x="6515640" y="264924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78" name=""/>
              <p:cNvSpPr/>
              <p:nvPr/>
            </p:nvSpPr>
            <p:spPr>
              <a:xfrm>
                <a:off x="6116760" y="2770200"/>
                <a:ext cx="274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6630120" y="2675880"/>
                <a:ext cx="16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0 mm Mortar             GE-5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0" name=""/>
            <p:cNvSpPr/>
            <p:nvPr/>
          </p:nvSpPr>
          <p:spPr>
            <a:xfrm>
              <a:off x="6593400" y="2876040"/>
              <a:ext cx="112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1" name=""/>
            <p:cNvGrpSpPr/>
            <p:nvPr/>
          </p:nvGrpSpPr>
          <p:grpSpPr>
            <a:xfrm>
              <a:off x="6124680" y="3206880"/>
              <a:ext cx="2400840" cy="514440"/>
              <a:chOff x="6124680" y="3206880"/>
              <a:chExt cx="2400840" cy="514440"/>
            </a:xfrm>
          </p:grpSpPr>
          <p:sp>
            <p:nvSpPr>
              <p:cNvPr id="4482" name=""/>
              <p:cNvSpPr/>
              <p:nvPr/>
            </p:nvSpPr>
            <p:spPr>
              <a:xfrm>
                <a:off x="6413760" y="3377880"/>
                <a:ext cx="0" cy="156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3" name=""/>
              <p:cNvGrpSpPr/>
              <p:nvPr/>
            </p:nvGrpSpPr>
            <p:grpSpPr>
              <a:xfrm>
                <a:off x="6378840" y="3490560"/>
                <a:ext cx="231480" cy="226080"/>
                <a:chOff x="6378840" y="3490560"/>
                <a:chExt cx="231480" cy="226080"/>
              </a:xfrm>
            </p:grpSpPr>
            <p:grpSp>
              <p:nvGrpSpPr>
                <p:cNvPr id="4484" name=""/>
                <p:cNvGrpSpPr/>
                <p:nvPr/>
              </p:nvGrpSpPr>
              <p:grpSpPr>
                <a:xfrm>
                  <a:off x="6378840" y="3526920"/>
                  <a:ext cx="231480" cy="189720"/>
                  <a:chOff x="6378840" y="3526920"/>
                  <a:chExt cx="231480" cy="189720"/>
                </a:xfrm>
              </p:grpSpPr>
              <p:sp>
                <p:nvSpPr>
                  <p:cNvPr id="4485" name=""/>
                  <p:cNvSpPr/>
                  <p:nvPr/>
                </p:nvSpPr>
                <p:spPr>
                  <a:xfrm>
                    <a:off x="6378840" y="3526920"/>
                    <a:ext cx="231480" cy="156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6" name=""/>
                  <p:cNvSpPr/>
                  <p:nvPr/>
                </p:nvSpPr>
                <p:spPr>
                  <a:xfrm>
                    <a:off x="6389280" y="368928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7" name=""/>
                  <p:cNvSpPr/>
                  <p:nvPr/>
                </p:nvSpPr>
                <p:spPr>
                  <a:xfrm>
                    <a:off x="6571080" y="368928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8" name=""/>
                <p:cNvGrpSpPr/>
                <p:nvPr/>
              </p:nvGrpSpPr>
              <p:grpSpPr>
                <a:xfrm>
                  <a:off x="6456600" y="3490560"/>
                  <a:ext cx="74520" cy="28080"/>
                  <a:chOff x="6456600" y="3490560"/>
                  <a:chExt cx="74520" cy="28080"/>
                </a:xfrm>
              </p:grpSpPr>
              <p:sp>
                <p:nvSpPr>
                  <p:cNvPr id="4489" name=""/>
                  <p:cNvSpPr/>
                  <p:nvPr/>
                </p:nvSpPr>
                <p:spPr>
                  <a:xfrm>
                    <a:off x="6456600" y="34905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0" name=""/>
                  <p:cNvSpPr/>
                  <p:nvPr/>
                </p:nvSpPr>
                <p:spPr>
                  <a:xfrm>
                    <a:off x="6504120" y="34920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91" name=""/>
              <p:cNvSpPr/>
              <p:nvPr/>
            </p:nvSpPr>
            <p:spPr>
              <a:xfrm>
                <a:off x="6124680" y="331128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6609960" y="3209040"/>
                <a:ext cx="1907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5mm leIG37 Infantry Gun   GE-3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6620400" y="333756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6611760" y="3505680"/>
                <a:ext cx="1913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orse-drawn Limber             GE-3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5" name=""/>
              <p:cNvGrpSpPr/>
              <p:nvPr/>
            </p:nvGrpSpPr>
            <p:grpSpPr>
              <a:xfrm>
                <a:off x="6374160" y="3206880"/>
                <a:ext cx="231480" cy="186480"/>
                <a:chOff x="6374160" y="3206880"/>
                <a:chExt cx="231480" cy="186480"/>
              </a:xfrm>
            </p:grpSpPr>
            <p:grpSp>
              <p:nvGrpSpPr>
                <p:cNvPr id="4496" name=""/>
                <p:cNvGrpSpPr/>
                <p:nvPr/>
              </p:nvGrpSpPr>
              <p:grpSpPr>
                <a:xfrm>
                  <a:off x="6451920" y="3206880"/>
                  <a:ext cx="74520" cy="27720"/>
                  <a:chOff x="6451920" y="3206880"/>
                  <a:chExt cx="74520" cy="27720"/>
                </a:xfrm>
              </p:grpSpPr>
              <p:sp>
                <p:nvSpPr>
                  <p:cNvPr id="4497" name=""/>
                  <p:cNvSpPr/>
                  <p:nvPr/>
                </p:nvSpPr>
                <p:spPr>
                  <a:xfrm>
                    <a:off x="6451920" y="320688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8" name=""/>
                  <p:cNvSpPr/>
                  <p:nvPr/>
                </p:nvSpPr>
                <p:spPr>
                  <a:xfrm>
                    <a:off x="6499440" y="320832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9" name=""/>
                <p:cNvGrpSpPr/>
                <p:nvPr/>
              </p:nvGrpSpPr>
              <p:grpSpPr>
                <a:xfrm>
                  <a:off x="6374160" y="3236760"/>
                  <a:ext cx="231480" cy="156600"/>
                  <a:chOff x="6374160" y="3236760"/>
                  <a:chExt cx="231480" cy="156600"/>
                </a:xfrm>
              </p:grpSpPr>
              <p:grpSp>
                <p:nvGrpSpPr>
                  <p:cNvPr id="4500" name=""/>
                  <p:cNvGrpSpPr/>
                  <p:nvPr/>
                </p:nvGrpSpPr>
                <p:grpSpPr>
                  <a:xfrm>
                    <a:off x="6374160" y="3236760"/>
                    <a:ext cx="231480" cy="156600"/>
                    <a:chOff x="6374160" y="3236760"/>
                    <a:chExt cx="231480" cy="156600"/>
                  </a:xfrm>
                </p:grpSpPr>
                <p:sp>
                  <p:nvSpPr>
                    <p:cNvPr id="4501" name=""/>
                    <p:cNvSpPr/>
                    <p:nvPr/>
                  </p:nvSpPr>
                  <p:spPr>
                    <a:xfrm>
                      <a:off x="6374160" y="3236760"/>
                      <a:ext cx="231480" cy="1566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2" name=""/>
                    <p:cNvSpPr/>
                    <p:nvPr/>
                  </p:nvSpPr>
                  <p:spPr>
                    <a:xfrm flipV="1">
                      <a:off x="6376320" y="3238560"/>
                      <a:ext cx="225360" cy="153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3" name=""/>
                    <p:cNvSpPr/>
                    <p:nvPr/>
                  </p:nvSpPr>
                  <p:spPr>
                    <a:xfrm>
                      <a:off x="6374160" y="3238920"/>
                      <a:ext cx="230400" cy="1494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04" name=""/>
                  <p:cNvSpPr/>
                  <p:nvPr/>
                </p:nvSpPr>
                <p:spPr>
                  <a:xfrm>
                    <a:off x="6475320" y="3304800"/>
                    <a:ext cx="28080" cy="26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12520" y="29880"/>
            <a:ext cx="54356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ME-01-&gt;ME-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18960" y="1427040"/>
            <a:ext cx="1976760" cy="828720"/>
            <a:chOff x="318960" y="1427040"/>
            <a:chExt cx="1976760" cy="828720"/>
          </a:xfrm>
        </p:grpSpPr>
        <p:grpSp>
          <p:nvGrpSpPr>
            <p:cNvPr id="326" name=""/>
            <p:cNvGrpSpPr/>
            <p:nvPr/>
          </p:nvGrpSpPr>
          <p:grpSpPr>
            <a:xfrm>
              <a:off x="318960" y="1427040"/>
              <a:ext cx="284040" cy="257040"/>
              <a:chOff x="318960" y="1427040"/>
              <a:chExt cx="284040" cy="25704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318960" y="1490400"/>
                <a:ext cx="284040" cy="193680"/>
                <a:chOff x="318960" y="1490400"/>
                <a:chExt cx="284040" cy="1936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18960" y="1490400"/>
                  <a:ext cx="284040" cy="193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70800" y="1538640"/>
                  <a:ext cx="182160" cy="92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466560" y="14270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455760" y="1684440"/>
              <a:ext cx="0" cy="49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455760" y="1724040"/>
              <a:ext cx="1788840" cy="258840"/>
              <a:chOff x="455760" y="1724040"/>
              <a:chExt cx="1788840" cy="258840"/>
            </a:xfrm>
          </p:grpSpPr>
          <p:sp>
            <p:nvSpPr>
              <p:cNvPr id="333" name=""/>
              <p:cNvSpPr/>
              <p:nvPr/>
            </p:nvSpPr>
            <p:spPr>
              <a:xfrm>
                <a:off x="455760" y="1905120"/>
                <a:ext cx="24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596880" y="1781280"/>
                <a:ext cx="231840" cy="201600"/>
                <a:chOff x="596880" y="1781280"/>
                <a:chExt cx="231840" cy="20160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596880" y="1825920"/>
                  <a:ext cx="231840" cy="156960"/>
                  <a:chOff x="596880" y="1825920"/>
                  <a:chExt cx="231840" cy="15696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596880" y="182592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639360" y="1865160"/>
                    <a:ext cx="14868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6440" y="1781280"/>
                  <a:ext cx="74520" cy="28800"/>
                  <a:chOff x="676440" y="1781280"/>
                  <a:chExt cx="74520" cy="288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6440" y="17812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23960" y="17830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1" name=""/>
              <p:cNvSpPr/>
              <p:nvPr/>
            </p:nvSpPr>
            <p:spPr>
              <a:xfrm>
                <a:off x="885960" y="172404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84520" y="1844640"/>
                <a:ext cx="1360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zKpfw IV G, H (b)  GE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446040" y="2054160"/>
              <a:ext cx="1849680" cy="201600"/>
              <a:chOff x="446040" y="2054160"/>
              <a:chExt cx="1849680" cy="201600"/>
            </a:xfrm>
          </p:grpSpPr>
          <p:sp>
            <p:nvSpPr>
              <p:cNvPr id="344" name=""/>
              <p:cNvSpPr/>
              <p:nvPr/>
            </p:nvSpPr>
            <p:spPr>
              <a:xfrm>
                <a:off x="446040" y="2174760"/>
                <a:ext cx="252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603000" y="2054160"/>
                <a:ext cx="231840" cy="201600"/>
                <a:chOff x="603000" y="2054160"/>
                <a:chExt cx="231840" cy="20160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603000" y="2098800"/>
                  <a:ext cx="231840" cy="156960"/>
                  <a:chOff x="603000" y="2098800"/>
                  <a:chExt cx="231840" cy="15696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603000" y="209880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45480" y="2138040"/>
                    <a:ext cx="14868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682560" y="2054160"/>
                  <a:ext cx="74520" cy="28800"/>
                  <a:chOff x="682560" y="2054160"/>
                  <a:chExt cx="74520" cy="2880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682560" y="20541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730080" y="20559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2" name=""/>
              <p:cNvSpPr/>
              <p:nvPr/>
            </p:nvSpPr>
            <p:spPr>
              <a:xfrm>
                <a:off x="883800" y="2119320"/>
                <a:ext cx="1411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8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zKpfw IV G, H (bc)  GE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318960" y="2463840"/>
            <a:ext cx="1932120" cy="814320"/>
            <a:chOff x="318960" y="2463840"/>
            <a:chExt cx="1932120" cy="814320"/>
          </a:xfrm>
        </p:grpSpPr>
        <p:grpSp>
          <p:nvGrpSpPr>
            <p:cNvPr id="354" name=""/>
            <p:cNvGrpSpPr/>
            <p:nvPr/>
          </p:nvGrpSpPr>
          <p:grpSpPr>
            <a:xfrm>
              <a:off x="318960" y="2463840"/>
              <a:ext cx="284400" cy="229680"/>
              <a:chOff x="318960" y="2463840"/>
              <a:chExt cx="284400" cy="22968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399960" y="2463840"/>
                <a:ext cx="131760" cy="26640"/>
                <a:chOff x="399960" y="2463840"/>
                <a:chExt cx="131760" cy="266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399960" y="24638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50720" y="24638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04720" y="24638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18960" y="2500200"/>
                <a:ext cx="284400" cy="193320"/>
                <a:chOff x="318960" y="2500200"/>
                <a:chExt cx="284400" cy="1933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18960" y="2500200"/>
                  <a:ext cx="284400" cy="19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71160" y="2548440"/>
                  <a:ext cx="182520" cy="92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2" name=""/>
            <p:cNvSpPr/>
            <p:nvPr/>
          </p:nvSpPr>
          <p:spPr>
            <a:xfrm>
              <a:off x="458640" y="2706840"/>
              <a:ext cx="0" cy="49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458640" y="2719440"/>
              <a:ext cx="1792440" cy="285840"/>
              <a:chOff x="458640" y="2719440"/>
              <a:chExt cx="1792440" cy="285840"/>
            </a:xfrm>
          </p:grpSpPr>
          <p:sp>
            <p:nvSpPr>
              <p:cNvPr id="364" name=""/>
              <p:cNvSpPr/>
              <p:nvPr/>
            </p:nvSpPr>
            <p:spPr>
              <a:xfrm>
                <a:off x="458640" y="2927160"/>
                <a:ext cx="236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600120" y="2803680"/>
                <a:ext cx="231840" cy="201600"/>
                <a:chOff x="600120" y="2803680"/>
                <a:chExt cx="231840" cy="201600"/>
              </a:xfrm>
            </p:grpSpPr>
            <p:grpSp>
              <p:nvGrpSpPr>
                <p:cNvPr id="366" name=""/>
                <p:cNvGrpSpPr/>
                <p:nvPr/>
              </p:nvGrpSpPr>
              <p:grpSpPr>
                <a:xfrm>
                  <a:off x="600120" y="2848320"/>
                  <a:ext cx="231840" cy="156960"/>
                  <a:chOff x="600120" y="2848320"/>
                  <a:chExt cx="231840" cy="15696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600120" y="284832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642600" y="2887560"/>
                    <a:ext cx="14868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679680" y="2803680"/>
                  <a:ext cx="74520" cy="28800"/>
                  <a:chOff x="679680" y="2803680"/>
                  <a:chExt cx="74520" cy="2880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679680" y="28036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27200" y="28054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2" name=""/>
              <p:cNvSpPr/>
              <p:nvPr/>
            </p:nvSpPr>
            <p:spPr>
              <a:xfrm>
                <a:off x="892080" y="271944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91000" y="2870280"/>
                <a:ext cx="1360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zKpfw IV G, H (b)  GE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449280" y="3076560"/>
              <a:ext cx="1801800" cy="201600"/>
              <a:chOff x="449280" y="3076560"/>
              <a:chExt cx="1801800" cy="201600"/>
            </a:xfrm>
          </p:grpSpPr>
          <p:sp>
            <p:nvSpPr>
              <p:cNvPr id="375" name=""/>
              <p:cNvSpPr/>
              <p:nvPr/>
            </p:nvSpPr>
            <p:spPr>
              <a:xfrm>
                <a:off x="449280" y="3197160"/>
                <a:ext cx="330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606600" y="3076560"/>
                <a:ext cx="231480" cy="201600"/>
                <a:chOff x="606600" y="3076560"/>
                <a:chExt cx="231480" cy="20160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606600" y="3121200"/>
                  <a:ext cx="231480" cy="156960"/>
                  <a:chOff x="606600" y="3121200"/>
                  <a:chExt cx="231480" cy="15696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606600" y="3121200"/>
                    <a:ext cx="23148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649080" y="3160440"/>
                    <a:ext cx="14832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685800" y="3076560"/>
                  <a:ext cx="73800" cy="28800"/>
                  <a:chOff x="685800" y="3076560"/>
                  <a:chExt cx="73800" cy="288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685800" y="307656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32960" y="30783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3" name=""/>
              <p:cNvSpPr/>
              <p:nvPr/>
            </p:nvSpPr>
            <p:spPr>
              <a:xfrm>
                <a:off x="891000" y="3144960"/>
                <a:ext cx="1360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zKpfw IV G, H (b)  GE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4" name=""/>
          <p:cNvSpPr/>
          <p:nvPr/>
        </p:nvSpPr>
        <p:spPr>
          <a:xfrm>
            <a:off x="259200" y="2332080"/>
            <a:ext cx="1721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operate as x4 Panzer Plato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8960" y="1060920"/>
            <a:ext cx="14623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zer Company 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777000" y="1041480"/>
            <a:ext cx="1955880" cy="2298600"/>
            <a:chOff x="6777000" y="1041480"/>
            <a:chExt cx="1955880" cy="2298600"/>
          </a:xfrm>
        </p:grpSpPr>
        <p:sp>
          <p:nvSpPr>
            <p:cNvPr id="387" name=""/>
            <p:cNvSpPr/>
            <p:nvPr/>
          </p:nvSpPr>
          <p:spPr>
            <a:xfrm>
              <a:off x="6777000" y="2400480"/>
              <a:ext cx="195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y operate as x3 Assault Gun Plato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77000" y="1041480"/>
              <a:ext cx="1549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Maneuver Element-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sault Gun Company 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777000" y="1495440"/>
              <a:ext cx="1550880" cy="816120"/>
              <a:chOff x="6777000" y="1495440"/>
              <a:chExt cx="1550880" cy="816120"/>
            </a:xfrm>
          </p:grpSpPr>
          <p:sp>
            <p:nvSpPr>
              <p:cNvPr id="390" name=""/>
              <p:cNvSpPr/>
              <p:nvPr/>
            </p:nvSpPr>
            <p:spPr>
              <a:xfrm>
                <a:off x="6924240" y="1754280"/>
                <a:ext cx="0" cy="49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6924240" y="1793880"/>
                <a:ext cx="1403640" cy="258840"/>
                <a:chOff x="6924240" y="1793880"/>
                <a:chExt cx="1403640" cy="25884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924240" y="1974960"/>
                  <a:ext cx="315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3" name=""/>
                <p:cNvGrpSpPr/>
                <p:nvPr/>
              </p:nvGrpSpPr>
              <p:grpSpPr>
                <a:xfrm>
                  <a:off x="7060680" y="1851120"/>
                  <a:ext cx="240480" cy="201600"/>
                  <a:chOff x="7060680" y="1851120"/>
                  <a:chExt cx="240480" cy="20160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7060680" y="1895400"/>
                    <a:ext cx="240480" cy="157320"/>
                    <a:chOff x="7060680" y="1895400"/>
                    <a:chExt cx="240480" cy="15732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7061760" y="1895400"/>
                      <a:ext cx="23940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7091640" y="1929960"/>
                      <a:ext cx="17136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V="1">
                      <a:off x="7060680" y="1896120"/>
                      <a:ext cx="11556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7176240" y="1895400"/>
                      <a:ext cx="123840" cy="156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7144200" y="1851120"/>
                    <a:ext cx="74520" cy="28080"/>
                    <a:chOff x="7144200" y="1851120"/>
                    <a:chExt cx="74520" cy="2808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7144200" y="18511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7191720" y="18525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02" name=""/>
                <p:cNvSpPr/>
                <p:nvPr/>
              </p:nvSpPr>
              <p:spPr>
                <a:xfrm>
                  <a:off x="7369920" y="1793880"/>
                  <a:ext cx="470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369920" y="1914480"/>
                  <a:ext cx="9579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ug III G   GE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777000" y="1495440"/>
                <a:ext cx="291600" cy="254160"/>
                <a:chOff x="6777000" y="1495440"/>
                <a:chExt cx="291600" cy="25416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6921360" y="149544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6" name=""/>
                <p:cNvGrpSpPr/>
                <p:nvPr/>
              </p:nvGrpSpPr>
              <p:grpSpPr>
                <a:xfrm>
                  <a:off x="6777000" y="1559160"/>
                  <a:ext cx="291600" cy="190440"/>
                  <a:chOff x="6777000" y="1559160"/>
                  <a:chExt cx="291600" cy="19044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6778440" y="1559160"/>
                    <a:ext cx="290160" cy="190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814440" y="1600920"/>
                    <a:ext cx="208080" cy="9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V="1">
                    <a:off x="6777000" y="1560600"/>
                    <a:ext cx="140040" cy="188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917040" y="1559160"/>
                    <a:ext cx="150120" cy="189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6914880" y="2109960"/>
                <a:ext cx="1413000" cy="201600"/>
                <a:chOff x="6914880" y="2109960"/>
                <a:chExt cx="1413000" cy="2016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6914880" y="2244960"/>
                  <a:ext cx="250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7081200" y="2109960"/>
                  <a:ext cx="240480" cy="201600"/>
                  <a:chOff x="7081200" y="2109960"/>
                  <a:chExt cx="240480" cy="201600"/>
                </a:xfrm>
              </p:grpSpPr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7081200" y="2154240"/>
                    <a:ext cx="240480" cy="157320"/>
                    <a:chOff x="7081200" y="2154240"/>
                    <a:chExt cx="240480" cy="15732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7082280" y="2154240"/>
                      <a:ext cx="23940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7112160" y="2188800"/>
                      <a:ext cx="17136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V="1">
                      <a:off x="7081200" y="2154960"/>
                      <a:ext cx="11556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7196760" y="2154240"/>
                      <a:ext cx="123840" cy="156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7164720" y="2109960"/>
                    <a:ext cx="74520" cy="28080"/>
                    <a:chOff x="7164720" y="2109960"/>
                    <a:chExt cx="74520" cy="280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7164720" y="21099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7212240" y="21114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22" name=""/>
                <p:cNvSpPr/>
                <p:nvPr/>
              </p:nvSpPr>
              <p:spPr>
                <a:xfrm>
                  <a:off x="7369920" y="2157480"/>
                  <a:ext cx="9579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6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ug III G   GE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3" name=""/>
            <p:cNvGrpSpPr/>
            <p:nvPr/>
          </p:nvGrpSpPr>
          <p:grpSpPr>
            <a:xfrm>
              <a:off x="6777000" y="2532240"/>
              <a:ext cx="1517760" cy="807840"/>
              <a:chOff x="6777000" y="2532240"/>
              <a:chExt cx="1517760" cy="807840"/>
            </a:xfrm>
          </p:grpSpPr>
          <p:sp>
            <p:nvSpPr>
              <p:cNvPr id="424" name=""/>
              <p:cNvSpPr/>
              <p:nvPr/>
            </p:nvSpPr>
            <p:spPr>
              <a:xfrm>
                <a:off x="6911640" y="2775240"/>
                <a:ext cx="0" cy="49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6777000" y="2532240"/>
                <a:ext cx="291600" cy="233280"/>
                <a:chOff x="6777000" y="2532240"/>
                <a:chExt cx="291600" cy="23328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6852960" y="2532240"/>
                  <a:ext cx="131760" cy="27000"/>
                  <a:chOff x="6852960" y="2532240"/>
                  <a:chExt cx="131760" cy="270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6852960" y="25322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903720" y="25322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6957720" y="25322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6777000" y="2575080"/>
                  <a:ext cx="291600" cy="190440"/>
                  <a:chOff x="6777000" y="2575080"/>
                  <a:chExt cx="291600" cy="19044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>
                    <a:off x="6778440" y="2575080"/>
                    <a:ext cx="290160" cy="190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6814440" y="2616840"/>
                    <a:ext cx="208080" cy="9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V="1">
                    <a:off x="6777000" y="2576520"/>
                    <a:ext cx="140040" cy="188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917040" y="2575080"/>
                    <a:ext cx="150120" cy="189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5" name=""/>
              <p:cNvGrpSpPr/>
              <p:nvPr/>
            </p:nvGrpSpPr>
            <p:grpSpPr>
              <a:xfrm>
                <a:off x="6911640" y="2806920"/>
                <a:ext cx="1382760" cy="266760"/>
                <a:chOff x="6911640" y="2806920"/>
                <a:chExt cx="1382760" cy="2667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911640" y="2995560"/>
                  <a:ext cx="129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336800" y="2806920"/>
                  <a:ext cx="470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040160" y="2872080"/>
                  <a:ext cx="240840" cy="201600"/>
                  <a:chOff x="7040160" y="2872080"/>
                  <a:chExt cx="240840" cy="20160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7040160" y="2916360"/>
                    <a:ext cx="240840" cy="157320"/>
                    <a:chOff x="7040160" y="2916360"/>
                    <a:chExt cx="240840" cy="15732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7041240" y="2916360"/>
                      <a:ext cx="23976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7071120" y="2950920"/>
                      <a:ext cx="1717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flipV="1">
                      <a:off x="7040160" y="2917080"/>
                      <a:ext cx="11556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7155720" y="2916360"/>
                      <a:ext cx="124200" cy="156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4" name=""/>
                  <p:cNvGrpSpPr/>
                  <p:nvPr/>
                </p:nvGrpSpPr>
                <p:grpSpPr>
                  <a:xfrm>
                    <a:off x="7124040" y="2872080"/>
                    <a:ext cx="74520" cy="28080"/>
                    <a:chOff x="7124040" y="2872080"/>
                    <a:chExt cx="74520" cy="28080"/>
                  </a:xfrm>
                </p:grpSpPr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7124040" y="28720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7171560" y="28735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47" name=""/>
                <p:cNvSpPr/>
                <p:nvPr/>
              </p:nvSpPr>
              <p:spPr>
                <a:xfrm>
                  <a:off x="7336440" y="2927520"/>
                  <a:ext cx="9579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ug III G   GE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6902280" y="3138480"/>
                <a:ext cx="1392480" cy="201600"/>
                <a:chOff x="6902280" y="3138480"/>
                <a:chExt cx="1392480" cy="2016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902280" y="3265560"/>
                  <a:ext cx="166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0" name=""/>
                <p:cNvGrpSpPr/>
                <p:nvPr/>
              </p:nvGrpSpPr>
              <p:grpSpPr>
                <a:xfrm>
                  <a:off x="7056360" y="3138480"/>
                  <a:ext cx="240840" cy="201600"/>
                  <a:chOff x="7056360" y="3138480"/>
                  <a:chExt cx="240840" cy="201600"/>
                </a:xfrm>
              </p:grpSpPr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7056360" y="3182760"/>
                    <a:ext cx="240840" cy="157320"/>
                    <a:chOff x="7056360" y="3182760"/>
                    <a:chExt cx="240840" cy="1573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7057440" y="3182760"/>
                      <a:ext cx="23976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7087320" y="3217320"/>
                      <a:ext cx="1717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flipV="1">
                      <a:off x="7056360" y="3183480"/>
                      <a:ext cx="11556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7171920" y="3182760"/>
                      <a:ext cx="124200" cy="156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7140240" y="3138480"/>
                    <a:ext cx="74520" cy="28080"/>
                    <a:chOff x="7140240" y="3138480"/>
                    <a:chExt cx="74520" cy="2808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7140240" y="31384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7187760" y="31399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59" name=""/>
                <p:cNvSpPr/>
                <p:nvPr/>
              </p:nvSpPr>
              <p:spPr>
                <a:xfrm>
                  <a:off x="7336800" y="3197520"/>
                  <a:ext cx="9579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ug III G   GE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0" name=""/>
          <p:cNvGrpSpPr/>
          <p:nvPr/>
        </p:nvGrpSpPr>
        <p:grpSpPr>
          <a:xfrm>
            <a:off x="2938320" y="1393920"/>
            <a:ext cx="1932840" cy="828720"/>
            <a:chOff x="2938320" y="1393920"/>
            <a:chExt cx="1932840" cy="828720"/>
          </a:xfrm>
        </p:grpSpPr>
        <p:grpSp>
          <p:nvGrpSpPr>
            <p:cNvPr id="461" name=""/>
            <p:cNvGrpSpPr/>
            <p:nvPr/>
          </p:nvGrpSpPr>
          <p:grpSpPr>
            <a:xfrm>
              <a:off x="2938320" y="1393920"/>
              <a:ext cx="348480" cy="257040"/>
              <a:chOff x="2938320" y="1393920"/>
              <a:chExt cx="348480" cy="2570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2938320" y="1457280"/>
                <a:ext cx="348480" cy="193680"/>
                <a:chOff x="2938320" y="1457280"/>
                <a:chExt cx="348480" cy="1936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938320" y="1457280"/>
                  <a:ext cx="348480" cy="193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002400" y="1505520"/>
                  <a:ext cx="223560" cy="92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3119400" y="1393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3106080" y="1651320"/>
              <a:ext cx="0" cy="49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3106080" y="1690920"/>
              <a:ext cx="1765080" cy="258840"/>
              <a:chOff x="3106080" y="1690920"/>
              <a:chExt cx="1765080" cy="258840"/>
            </a:xfrm>
          </p:grpSpPr>
          <p:sp>
            <p:nvSpPr>
              <p:cNvPr id="468" name=""/>
              <p:cNvSpPr/>
              <p:nvPr/>
            </p:nvSpPr>
            <p:spPr>
              <a:xfrm>
                <a:off x="3106080" y="1872000"/>
                <a:ext cx="29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3279960" y="1748160"/>
                <a:ext cx="284760" cy="201600"/>
                <a:chOff x="3279960" y="1748160"/>
                <a:chExt cx="284760" cy="20160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3279960" y="1792800"/>
                  <a:ext cx="284760" cy="156960"/>
                  <a:chOff x="3279960" y="1792800"/>
                  <a:chExt cx="284760" cy="1569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3279960" y="1792800"/>
                    <a:ext cx="28476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3332160" y="1832040"/>
                    <a:ext cx="18252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3377520" y="1748160"/>
                  <a:ext cx="90720" cy="28800"/>
                  <a:chOff x="3377520" y="1748160"/>
                  <a:chExt cx="90720" cy="2880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3377520" y="1748160"/>
                    <a:ext cx="3456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3435480" y="1749960"/>
                    <a:ext cx="3276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3687840" y="169092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34200" y="1811520"/>
                <a:ext cx="1236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zKpfw VI (b)      GE-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094560" y="2021040"/>
              <a:ext cx="1775520" cy="201600"/>
              <a:chOff x="3094560" y="2021040"/>
              <a:chExt cx="1775520" cy="201600"/>
            </a:xfrm>
          </p:grpSpPr>
          <p:sp>
            <p:nvSpPr>
              <p:cNvPr id="479" name=""/>
              <p:cNvSpPr/>
              <p:nvPr/>
            </p:nvSpPr>
            <p:spPr>
              <a:xfrm>
                <a:off x="3094560" y="2141640"/>
                <a:ext cx="31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3287520" y="2021040"/>
                <a:ext cx="284760" cy="201600"/>
                <a:chOff x="3287520" y="2021040"/>
                <a:chExt cx="284760" cy="20160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3287520" y="2065680"/>
                  <a:ext cx="284760" cy="156960"/>
                  <a:chOff x="3287520" y="2065680"/>
                  <a:chExt cx="284760" cy="1569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3287520" y="2065680"/>
                    <a:ext cx="28476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339720" y="2104920"/>
                    <a:ext cx="18252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3385080" y="2021040"/>
                  <a:ext cx="90720" cy="28800"/>
                  <a:chOff x="3385080" y="2021040"/>
                  <a:chExt cx="90720" cy="2880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3385080" y="2021040"/>
                    <a:ext cx="3456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3443040" y="2022840"/>
                    <a:ext cx="3276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7" name=""/>
              <p:cNvSpPr/>
              <p:nvPr/>
            </p:nvSpPr>
            <p:spPr>
              <a:xfrm>
                <a:off x="3633120" y="2086200"/>
                <a:ext cx="1236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zKpfw VI (b)      GE-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8" name=""/>
          <p:cNvGrpSpPr/>
          <p:nvPr/>
        </p:nvGrpSpPr>
        <p:grpSpPr>
          <a:xfrm>
            <a:off x="2938320" y="2430360"/>
            <a:ext cx="1940040" cy="814320"/>
            <a:chOff x="2938320" y="2430360"/>
            <a:chExt cx="1940040" cy="814320"/>
          </a:xfrm>
        </p:grpSpPr>
        <p:grpSp>
          <p:nvGrpSpPr>
            <p:cNvPr id="489" name=""/>
            <p:cNvGrpSpPr/>
            <p:nvPr/>
          </p:nvGrpSpPr>
          <p:grpSpPr>
            <a:xfrm>
              <a:off x="2938320" y="2430360"/>
              <a:ext cx="349200" cy="229680"/>
              <a:chOff x="2938320" y="2430360"/>
              <a:chExt cx="349200" cy="22968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3037680" y="2430360"/>
                <a:ext cx="161640" cy="26640"/>
                <a:chOff x="3037680" y="2430360"/>
                <a:chExt cx="161640" cy="26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3037680" y="2430360"/>
                  <a:ext cx="3312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099960" y="2430360"/>
                  <a:ext cx="3492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166200" y="2430360"/>
                  <a:ext cx="3312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2938320" y="2466720"/>
                <a:ext cx="349200" cy="193320"/>
                <a:chOff x="2938320" y="2466720"/>
                <a:chExt cx="349200" cy="1933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2938320" y="2466720"/>
                  <a:ext cx="349200" cy="19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002400" y="2514960"/>
                  <a:ext cx="224280" cy="92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7" name=""/>
            <p:cNvSpPr/>
            <p:nvPr/>
          </p:nvSpPr>
          <p:spPr>
            <a:xfrm>
              <a:off x="3110040" y="2673360"/>
              <a:ext cx="0" cy="49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3110040" y="2685960"/>
              <a:ext cx="1768320" cy="285840"/>
              <a:chOff x="3110040" y="2685960"/>
              <a:chExt cx="1768320" cy="285840"/>
            </a:xfrm>
          </p:grpSpPr>
          <p:sp>
            <p:nvSpPr>
              <p:cNvPr id="499" name=""/>
              <p:cNvSpPr/>
              <p:nvPr/>
            </p:nvSpPr>
            <p:spPr>
              <a:xfrm>
                <a:off x="3110040" y="2893680"/>
                <a:ext cx="29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3283920" y="2770200"/>
                <a:ext cx="284760" cy="201600"/>
                <a:chOff x="3283920" y="2770200"/>
                <a:chExt cx="284760" cy="201600"/>
              </a:xfrm>
            </p:grpSpPr>
            <p:grpSp>
              <p:nvGrpSpPr>
                <p:cNvPr id="501" name=""/>
                <p:cNvGrpSpPr/>
                <p:nvPr/>
              </p:nvGrpSpPr>
              <p:grpSpPr>
                <a:xfrm>
                  <a:off x="3283920" y="2814840"/>
                  <a:ext cx="284760" cy="156960"/>
                  <a:chOff x="3283920" y="2814840"/>
                  <a:chExt cx="284760" cy="15696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3283920" y="2814840"/>
                    <a:ext cx="28476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3336120" y="2854080"/>
                    <a:ext cx="18252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4" name=""/>
                <p:cNvGrpSpPr/>
                <p:nvPr/>
              </p:nvGrpSpPr>
              <p:grpSpPr>
                <a:xfrm>
                  <a:off x="3381480" y="2770200"/>
                  <a:ext cx="90720" cy="28800"/>
                  <a:chOff x="3381480" y="2770200"/>
                  <a:chExt cx="90720" cy="2880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>
                    <a:off x="3381480" y="2770200"/>
                    <a:ext cx="3456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3439440" y="2772000"/>
                    <a:ext cx="3276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07" name=""/>
              <p:cNvSpPr/>
              <p:nvPr/>
            </p:nvSpPr>
            <p:spPr>
              <a:xfrm>
                <a:off x="3697560" y="268596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41400" y="2836800"/>
                <a:ext cx="1236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zKpfw VI (b)      GE-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3098520" y="3043080"/>
              <a:ext cx="1779840" cy="201600"/>
              <a:chOff x="3098520" y="3043080"/>
              <a:chExt cx="1779840" cy="201600"/>
            </a:xfrm>
          </p:grpSpPr>
          <p:sp>
            <p:nvSpPr>
              <p:cNvPr id="510" name=""/>
              <p:cNvSpPr/>
              <p:nvPr/>
            </p:nvSpPr>
            <p:spPr>
              <a:xfrm>
                <a:off x="3098520" y="3163680"/>
                <a:ext cx="406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1" name=""/>
              <p:cNvGrpSpPr/>
              <p:nvPr/>
            </p:nvGrpSpPr>
            <p:grpSpPr>
              <a:xfrm>
                <a:off x="3291840" y="3043080"/>
                <a:ext cx="284400" cy="201600"/>
                <a:chOff x="3291840" y="3043080"/>
                <a:chExt cx="284400" cy="201600"/>
              </a:xfrm>
            </p:grpSpPr>
            <p:grpSp>
              <p:nvGrpSpPr>
                <p:cNvPr id="512" name=""/>
                <p:cNvGrpSpPr/>
                <p:nvPr/>
              </p:nvGrpSpPr>
              <p:grpSpPr>
                <a:xfrm>
                  <a:off x="3291840" y="3087720"/>
                  <a:ext cx="284400" cy="156960"/>
                  <a:chOff x="3291840" y="3087720"/>
                  <a:chExt cx="284400" cy="15696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3291840" y="3087720"/>
                    <a:ext cx="28440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3344040" y="3126960"/>
                    <a:ext cx="18252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3389400" y="3043080"/>
                  <a:ext cx="90720" cy="28800"/>
                  <a:chOff x="3389400" y="3043080"/>
                  <a:chExt cx="90720" cy="2880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>
                    <a:off x="3389400" y="3043080"/>
                    <a:ext cx="3456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3447360" y="3044880"/>
                    <a:ext cx="3276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8" name=""/>
              <p:cNvSpPr/>
              <p:nvPr/>
            </p:nvSpPr>
            <p:spPr>
              <a:xfrm>
                <a:off x="3641400" y="3111480"/>
                <a:ext cx="1236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zKpfw VI (b)      GE-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9" name=""/>
          <p:cNvSpPr/>
          <p:nvPr/>
        </p:nvSpPr>
        <p:spPr>
          <a:xfrm>
            <a:off x="3003480" y="2298600"/>
            <a:ext cx="206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operate as x3 Heavy Panzer Plato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938320" y="1027800"/>
            <a:ext cx="18003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vy Panzer Company 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8840" y="3340080"/>
            <a:ext cx="217944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id-late '43, one or two companies in a PzIV battalion might still be equipped with PzIII. Substitute all GE-03 oith one type or a mix of PzIII L, M (GE-01) and PzIII N (GE-0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te '43 and Late '44 after summer offensives there were shortages of tanks. May Replace all tanks in a company with Stug III G (GE-13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d-Late '43, some Pz battalions were re-equipped with PzV. Replace all tanks with PzV Panther GE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Late'44, Pz companies were authorized alternative company strengths of x1 command and x6 or x3 tanks. Each reduced company can operate as platoon-sized ME of 2 tanks ea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94200" y="3340080"/>
            <a:ext cx="203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Late '44 may replace PzVIE tanks in SS divisions with Konigstiger PzVIB GE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2612880" y="447840"/>
            <a:ext cx="2733480" cy="2745720"/>
            <a:chOff x="2612880" y="447840"/>
            <a:chExt cx="2733480" cy="2745720"/>
          </a:xfrm>
        </p:grpSpPr>
        <p:grpSp>
          <p:nvGrpSpPr>
            <p:cNvPr id="524" name=""/>
            <p:cNvGrpSpPr/>
            <p:nvPr/>
          </p:nvGrpSpPr>
          <p:grpSpPr>
            <a:xfrm>
              <a:off x="2612880" y="447840"/>
              <a:ext cx="2585880" cy="815760"/>
              <a:chOff x="2612880" y="447840"/>
              <a:chExt cx="2585880" cy="81576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2917800" y="1062000"/>
                <a:ext cx="240840" cy="201600"/>
                <a:chOff x="2917800" y="1062000"/>
                <a:chExt cx="240840" cy="201600"/>
              </a:xfrm>
            </p:grpSpPr>
            <p:grpSp>
              <p:nvGrpSpPr>
                <p:cNvPr id="526" name=""/>
                <p:cNvGrpSpPr/>
                <p:nvPr/>
              </p:nvGrpSpPr>
              <p:grpSpPr>
                <a:xfrm>
                  <a:off x="2917800" y="1106280"/>
                  <a:ext cx="240840" cy="157320"/>
                  <a:chOff x="2917800" y="1106280"/>
                  <a:chExt cx="240840" cy="15732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2918880" y="1106280"/>
                    <a:ext cx="23976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948760" y="1140840"/>
                    <a:ext cx="17172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2917800" y="1107000"/>
                    <a:ext cx="115560" cy="155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033360" y="1106280"/>
                    <a:ext cx="124200" cy="1562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3001680" y="1062000"/>
                  <a:ext cx="74520" cy="28080"/>
                  <a:chOff x="3001680" y="1062000"/>
                  <a:chExt cx="74520" cy="2808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3001680" y="10620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3049200" y="10634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4" name=""/>
              <p:cNvSpPr/>
              <p:nvPr/>
            </p:nvSpPr>
            <p:spPr>
              <a:xfrm>
                <a:off x="2958840" y="552600"/>
                <a:ext cx="223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E-05 Panzerj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ä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er Company (SP)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760480" y="700200"/>
                <a:ext cx="0" cy="49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751120" y="1197000"/>
                <a:ext cx="16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760480" y="927000"/>
                <a:ext cx="13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2896920" y="803160"/>
                <a:ext cx="240840" cy="201600"/>
                <a:chOff x="2896920" y="803160"/>
                <a:chExt cx="240840" cy="201600"/>
              </a:xfrm>
            </p:grpSpPr>
            <p:grpSp>
              <p:nvGrpSpPr>
                <p:cNvPr id="539" name=""/>
                <p:cNvGrpSpPr/>
                <p:nvPr/>
              </p:nvGrpSpPr>
              <p:grpSpPr>
                <a:xfrm>
                  <a:off x="2896920" y="847440"/>
                  <a:ext cx="240840" cy="157320"/>
                  <a:chOff x="2896920" y="847440"/>
                  <a:chExt cx="240840" cy="15732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2898000" y="847440"/>
                    <a:ext cx="23976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927880" y="882000"/>
                    <a:ext cx="17172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2896920" y="848160"/>
                    <a:ext cx="115560" cy="155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3012480" y="847440"/>
                    <a:ext cx="124200" cy="1562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2980800" y="803160"/>
                  <a:ext cx="74520" cy="28080"/>
                  <a:chOff x="2980800" y="803160"/>
                  <a:chExt cx="74520" cy="2808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2980800" y="8031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3028320" y="8046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47" name=""/>
              <p:cNvSpPr/>
              <p:nvPr/>
            </p:nvSpPr>
            <p:spPr>
              <a:xfrm>
                <a:off x="3178080" y="74628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77720" y="866880"/>
                <a:ext cx="1113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arder III   GE-07 (b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2612880" y="447840"/>
                <a:ext cx="291600" cy="253440"/>
                <a:chOff x="2612880" y="447840"/>
                <a:chExt cx="291600" cy="25344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2757240" y="447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1" name=""/>
                <p:cNvGrpSpPr/>
                <p:nvPr/>
              </p:nvGrpSpPr>
              <p:grpSpPr>
                <a:xfrm>
                  <a:off x="2612880" y="511200"/>
                  <a:ext cx="291600" cy="190080"/>
                  <a:chOff x="2612880" y="511200"/>
                  <a:chExt cx="291600" cy="19008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2614320" y="511200"/>
                    <a:ext cx="29016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2650320" y="552960"/>
                    <a:ext cx="208080" cy="9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V="1">
                    <a:off x="2612880" y="512280"/>
                    <a:ext cx="140040" cy="188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2752920" y="511200"/>
                    <a:ext cx="150120" cy="188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6" name=""/>
              <p:cNvSpPr/>
              <p:nvPr/>
            </p:nvSpPr>
            <p:spPr>
              <a:xfrm>
                <a:off x="3177720" y="1109880"/>
                <a:ext cx="1113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arder III   GE-07 (b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2612880" y="1555920"/>
              <a:ext cx="1774800" cy="807120"/>
              <a:chOff x="2612880" y="1555920"/>
              <a:chExt cx="1774800" cy="807120"/>
            </a:xfrm>
          </p:grpSpPr>
          <p:sp>
            <p:nvSpPr>
              <p:cNvPr id="558" name=""/>
              <p:cNvSpPr/>
              <p:nvPr/>
            </p:nvSpPr>
            <p:spPr>
              <a:xfrm>
                <a:off x="3029040" y="1617480"/>
                <a:ext cx="1358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Panzerj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ä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ger Platoon (SP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747880" y="1798560"/>
                <a:ext cx="0" cy="49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0" name=""/>
              <p:cNvGrpSpPr/>
              <p:nvPr/>
            </p:nvGrpSpPr>
            <p:grpSpPr>
              <a:xfrm>
                <a:off x="2612880" y="1555920"/>
                <a:ext cx="291600" cy="233280"/>
                <a:chOff x="2612880" y="1555920"/>
                <a:chExt cx="291600" cy="233280"/>
              </a:xfrm>
            </p:grpSpPr>
            <p:grpSp>
              <p:nvGrpSpPr>
                <p:cNvPr id="561" name=""/>
                <p:cNvGrpSpPr/>
                <p:nvPr/>
              </p:nvGrpSpPr>
              <p:grpSpPr>
                <a:xfrm>
                  <a:off x="2688840" y="1555920"/>
                  <a:ext cx="131760" cy="27000"/>
                  <a:chOff x="2688840" y="1555920"/>
                  <a:chExt cx="131760" cy="2700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>
                    <a:off x="2688840" y="15559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739600" y="15559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2793600" y="15559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2612880" y="1598760"/>
                  <a:ext cx="291600" cy="190440"/>
                  <a:chOff x="2612880" y="1598760"/>
                  <a:chExt cx="291600" cy="19044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614320" y="1598760"/>
                    <a:ext cx="290160" cy="190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650320" y="1640520"/>
                    <a:ext cx="208080" cy="9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V="1">
                    <a:off x="2612880" y="1600200"/>
                    <a:ext cx="140040" cy="188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752920" y="1598760"/>
                    <a:ext cx="150120" cy="189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0" name=""/>
              <p:cNvGrpSpPr/>
              <p:nvPr/>
            </p:nvGrpSpPr>
            <p:grpSpPr>
              <a:xfrm>
                <a:off x="2747880" y="1811160"/>
                <a:ext cx="1518840" cy="284760"/>
                <a:chOff x="2747880" y="1811160"/>
                <a:chExt cx="1518840" cy="2847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2747880" y="2018880"/>
                  <a:ext cx="129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11200" y="1811160"/>
                  <a:ext cx="470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3" name=""/>
                <p:cNvGrpSpPr/>
                <p:nvPr/>
              </p:nvGrpSpPr>
              <p:grpSpPr>
                <a:xfrm>
                  <a:off x="2876400" y="1895040"/>
                  <a:ext cx="240840" cy="200880"/>
                  <a:chOff x="2876400" y="1895040"/>
                  <a:chExt cx="240840" cy="200880"/>
                </a:xfrm>
              </p:grpSpPr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2876400" y="1938960"/>
                    <a:ext cx="240840" cy="156960"/>
                    <a:chOff x="2876400" y="1938960"/>
                    <a:chExt cx="240840" cy="15696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877480" y="1938960"/>
                      <a:ext cx="23976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2907360" y="1973160"/>
                      <a:ext cx="1717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V="1">
                      <a:off x="2876400" y="1940040"/>
                      <a:ext cx="11556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2991960" y="1938960"/>
                      <a:ext cx="12420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2960280" y="1895040"/>
                    <a:ext cx="74520" cy="27720"/>
                    <a:chOff x="2960280" y="1895040"/>
                    <a:chExt cx="74520" cy="2772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2960280" y="189504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3007800" y="189648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82" name=""/>
                <p:cNvSpPr/>
                <p:nvPr/>
              </p:nvSpPr>
              <p:spPr>
                <a:xfrm>
                  <a:off x="3211200" y="1941120"/>
                  <a:ext cx="10555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arder III GE-07 (b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2738160" y="2162160"/>
                <a:ext cx="1528560" cy="200880"/>
                <a:chOff x="2738160" y="2162160"/>
                <a:chExt cx="1528560" cy="2008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2738160" y="2288880"/>
                  <a:ext cx="166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5" name=""/>
                <p:cNvGrpSpPr/>
                <p:nvPr/>
              </p:nvGrpSpPr>
              <p:grpSpPr>
                <a:xfrm>
                  <a:off x="2892240" y="2162160"/>
                  <a:ext cx="240840" cy="200880"/>
                  <a:chOff x="2892240" y="2162160"/>
                  <a:chExt cx="240840" cy="200880"/>
                </a:xfrm>
              </p:grpSpPr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2892240" y="2206080"/>
                    <a:ext cx="240840" cy="156960"/>
                    <a:chOff x="2892240" y="2206080"/>
                    <a:chExt cx="240840" cy="15696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2893320" y="2206080"/>
                      <a:ext cx="23976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2923200" y="2240280"/>
                      <a:ext cx="1717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flipV="1">
                      <a:off x="2892240" y="2207160"/>
                      <a:ext cx="11556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3007800" y="2206080"/>
                      <a:ext cx="12420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2976120" y="2162160"/>
                    <a:ext cx="74520" cy="27720"/>
                    <a:chOff x="2976120" y="2162160"/>
                    <a:chExt cx="74520" cy="2772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2976120" y="216216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3023640" y="216360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94" name=""/>
                <p:cNvSpPr/>
                <p:nvPr/>
              </p:nvSpPr>
              <p:spPr>
                <a:xfrm>
                  <a:off x="3211200" y="2220480"/>
                  <a:ext cx="10555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arder III GE-07 (b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5" name=""/>
            <p:cNvSpPr/>
            <p:nvPr/>
          </p:nvSpPr>
          <p:spPr>
            <a:xfrm>
              <a:off x="2612880" y="1271880"/>
              <a:ext cx="229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A PzJgr Co. May operate as 3 separate platoon-sized elements as follow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612880" y="2516400"/>
              <a:ext cx="27334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arly '43 may replace Marders with Stug IIIG GE-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arly '44 with Jadgpanzer IV with L48 Gun     GE-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d '44 with Jadgpanzer IV with L70 Gun         GE-10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d '44 with Hetzer                                            GE-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74680" y="447840"/>
            <a:ext cx="2347920" cy="1636200"/>
            <a:chOff x="274680" y="447840"/>
            <a:chExt cx="2347920" cy="1636200"/>
          </a:xfrm>
        </p:grpSpPr>
        <p:sp>
          <p:nvSpPr>
            <p:cNvPr id="598" name=""/>
            <p:cNvSpPr/>
            <p:nvPr/>
          </p:nvSpPr>
          <p:spPr>
            <a:xfrm>
              <a:off x="642960" y="550800"/>
              <a:ext cx="1979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-04 Assault Gun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22280" y="706320"/>
              <a:ext cx="0" cy="86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422280" y="746280"/>
              <a:ext cx="1395720" cy="257760"/>
              <a:chOff x="422280" y="746280"/>
              <a:chExt cx="1395720" cy="257760"/>
            </a:xfrm>
          </p:grpSpPr>
          <p:sp>
            <p:nvSpPr>
              <p:cNvPr id="601" name=""/>
              <p:cNvSpPr/>
              <p:nvPr/>
            </p:nvSpPr>
            <p:spPr>
              <a:xfrm>
                <a:off x="422280" y="927000"/>
                <a:ext cx="12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2" name=""/>
              <p:cNvGrpSpPr/>
              <p:nvPr/>
            </p:nvGrpSpPr>
            <p:grpSpPr>
              <a:xfrm>
                <a:off x="558720" y="803160"/>
                <a:ext cx="240840" cy="200880"/>
                <a:chOff x="558720" y="803160"/>
                <a:chExt cx="240840" cy="200880"/>
              </a:xfrm>
            </p:grpSpPr>
            <p:grpSp>
              <p:nvGrpSpPr>
                <p:cNvPr id="603" name=""/>
                <p:cNvGrpSpPr/>
                <p:nvPr/>
              </p:nvGrpSpPr>
              <p:grpSpPr>
                <a:xfrm>
                  <a:off x="558720" y="847080"/>
                  <a:ext cx="240840" cy="156960"/>
                  <a:chOff x="558720" y="847080"/>
                  <a:chExt cx="240840" cy="15696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>
                    <a:off x="559800" y="847080"/>
                    <a:ext cx="23976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589680" y="881280"/>
                    <a:ext cx="17172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V="1">
                    <a:off x="558720" y="848160"/>
                    <a:ext cx="115560" cy="15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674280" y="847080"/>
                    <a:ext cx="124200" cy="155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642600" y="803160"/>
                  <a:ext cx="74520" cy="27720"/>
                  <a:chOff x="642600" y="803160"/>
                  <a:chExt cx="74520" cy="2772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>
                    <a:off x="642600" y="80316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690120" y="80460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11" name=""/>
              <p:cNvSpPr/>
              <p:nvPr/>
            </p:nvSpPr>
            <p:spPr>
              <a:xfrm>
                <a:off x="860400" y="74628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60040" y="866520"/>
                <a:ext cx="957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ug III G   GE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274680" y="447840"/>
              <a:ext cx="291600" cy="253440"/>
              <a:chOff x="274680" y="447840"/>
              <a:chExt cx="291600" cy="253440"/>
            </a:xfrm>
          </p:grpSpPr>
          <p:sp>
            <p:nvSpPr>
              <p:cNvPr id="614" name=""/>
              <p:cNvSpPr/>
              <p:nvPr/>
            </p:nvSpPr>
            <p:spPr>
              <a:xfrm>
                <a:off x="419040" y="447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274680" y="511200"/>
                <a:ext cx="291600" cy="190080"/>
                <a:chOff x="274680" y="511200"/>
                <a:chExt cx="291600" cy="19008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76120" y="511200"/>
                  <a:ext cx="290160" cy="190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12120" y="552960"/>
                  <a:ext cx="20808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274680" y="512280"/>
                  <a:ext cx="140040" cy="188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14720" y="511200"/>
                  <a:ext cx="150120" cy="18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0" name=""/>
            <p:cNvGrpSpPr/>
            <p:nvPr/>
          </p:nvGrpSpPr>
          <p:grpSpPr>
            <a:xfrm>
              <a:off x="420840" y="1062000"/>
              <a:ext cx="1397160" cy="201600"/>
              <a:chOff x="420840" y="1062000"/>
              <a:chExt cx="1397160" cy="201600"/>
            </a:xfrm>
          </p:grpSpPr>
          <p:sp>
            <p:nvSpPr>
              <p:cNvPr id="621" name=""/>
              <p:cNvSpPr/>
              <p:nvPr/>
            </p:nvSpPr>
            <p:spPr>
              <a:xfrm>
                <a:off x="420840" y="1181160"/>
                <a:ext cx="16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2" name=""/>
              <p:cNvGrpSpPr/>
              <p:nvPr/>
            </p:nvGrpSpPr>
            <p:grpSpPr>
              <a:xfrm>
                <a:off x="579240" y="1062000"/>
                <a:ext cx="240840" cy="201600"/>
                <a:chOff x="579240" y="1062000"/>
                <a:chExt cx="240840" cy="201600"/>
              </a:xfrm>
            </p:grpSpPr>
            <p:grpSp>
              <p:nvGrpSpPr>
                <p:cNvPr id="623" name=""/>
                <p:cNvGrpSpPr/>
                <p:nvPr/>
              </p:nvGrpSpPr>
              <p:grpSpPr>
                <a:xfrm>
                  <a:off x="579240" y="1106280"/>
                  <a:ext cx="240840" cy="157320"/>
                  <a:chOff x="579240" y="1106280"/>
                  <a:chExt cx="240840" cy="15732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580320" y="1106280"/>
                    <a:ext cx="23976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610200" y="1140840"/>
                    <a:ext cx="17172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V="1">
                    <a:off x="579240" y="1107000"/>
                    <a:ext cx="115560" cy="155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694800" y="1106280"/>
                    <a:ext cx="124200" cy="1562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663120" y="1062000"/>
                  <a:ext cx="74520" cy="28080"/>
                  <a:chOff x="663120" y="1062000"/>
                  <a:chExt cx="74520" cy="2808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>
                    <a:off x="663120" y="10620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710640" y="10634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31" name=""/>
              <p:cNvSpPr/>
              <p:nvPr/>
            </p:nvSpPr>
            <p:spPr>
              <a:xfrm>
                <a:off x="860040" y="1109520"/>
                <a:ext cx="957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ug III G   GE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420840" y="1465200"/>
              <a:ext cx="1303560" cy="201600"/>
              <a:chOff x="420840" y="1465200"/>
              <a:chExt cx="1303560" cy="201600"/>
            </a:xfrm>
          </p:grpSpPr>
          <p:sp>
            <p:nvSpPr>
              <p:cNvPr id="633" name=""/>
              <p:cNvSpPr/>
              <p:nvPr/>
            </p:nvSpPr>
            <p:spPr>
              <a:xfrm>
                <a:off x="420840" y="1568520"/>
                <a:ext cx="16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79240" y="1465200"/>
                <a:ext cx="240840" cy="201600"/>
                <a:chOff x="579240" y="1465200"/>
                <a:chExt cx="240840" cy="201600"/>
              </a:xfrm>
            </p:grpSpPr>
            <p:grpSp>
              <p:nvGrpSpPr>
                <p:cNvPr id="635" name=""/>
                <p:cNvGrpSpPr/>
                <p:nvPr/>
              </p:nvGrpSpPr>
              <p:grpSpPr>
                <a:xfrm>
                  <a:off x="579240" y="1509480"/>
                  <a:ext cx="240840" cy="157320"/>
                  <a:chOff x="579240" y="1509480"/>
                  <a:chExt cx="240840" cy="15732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580320" y="1509480"/>
                    <a:ext cx="23976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10200" y="1544040"/>
                    <a:ext cx="17172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V="1">
                    <a:off x="579240" y="1510200"/>
                    <a:ext cx="115560" cy="155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94800" y="1509480"/>
                    <a:ext cx="124200" cy="1562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663120" y="1465200"/>
                  <a:ext cx="74520" cy="28080"/>
                  <a:chOff x="663120" y="1465200"/>
                  <a:chExt cx="74520" cy="2808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663120" y="14652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710640" y="14666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3" name=""/>
              <p:cNvSpPr/>
              <p:nvPr/>
            </p:nvSpPr>
            <p:spPr>
              <a:xfrm>
                <a:off x="861120" y="1512720"/>
                <a:ext cx="863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uH42   GE-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60760" y="1362240"/>
              <a:ext cx="947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19040" y="1568520"/>
              <a:ext cx="0" cy="3301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414360" y="1785960"/>
              <a:ext cx="2001600" cy="298080"/>
              <a:chOff x="414360" y="1785960"/>
              <a:chExt cx="2001600" cy="298080"/>
            </a:xfrm>
          </p:grpSpPr>
          <p:sp>
            <p:nvSpPr>
              <p:cNvPr id="647" name=""/>
              <p:cNvSpPr/>
              <p:nvPr/>
            </p:nvSpPr>
            <p:spPr>
              <a:xfrm>
                <a:off x="414360" y="1898640"/>
                <a:ext cx="16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60400" y="1840320"/>
                <a:ext cx="1555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ubmachine Gunners GE-45 (Tank riders)               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552240" y="1785960"/>
                <a:ext cx="231840" cy="191880"/>
                <a:chOff x="552240" y="1785960"/>
                <a:chExt cx="231840" cy="19188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552240" y="1820880"/>
                  <a:ext cx="231840" cy="156960"/>
                  <a:chOff x="552240" y="1820880"/>
                  <a:chExt cx="231840" cy="15696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>
                    <a:off x="552240" y="182088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V="1">
                    <a:off x="554400" y="182304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552240" y="182304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4" name=""/>
                <p:cNvGrpSpPr/>
                <p:nvPr/>
              </p:nvGrpSpPr>
              <p:grpSpPr>
                <a:xfrm>
                  <a:off x="642960" y="1785960"/>
                  <a:ext cx="74520" cy="28080"/>
                  <a:chOff x="642960" y="1785960"/>
                  <a:chExt cx="74520" cy="2808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642960" y="17859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690480" y="17874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57" name=""/>
            <p:cNvSpPr/>
            <p:nvPr/>
          </p:nvSpPr>
          <p:spPr>
            <a:xfrm>
              <a:off x="860400" y="1689120"/>
              <a:ext cx="1309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IGADE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95480" y="142920"/>
            <a:ext cx="42242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ME-04-&gt;ME-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5622840" y="420840"/>
            <a:ext cx="3433680" cy="2435040"/>
            <a:chOff x="5622840" y="420840"/>
            <a:chExt cx="3433680" cy="2435040"/>
          </a:xfrm>
        </p:grpSpPr>
        <p:grpSp>
          <p:nvGrpSpPr>
            <p:cNvPr id="660" name=""/>
            <p:cNvGrpSpPr/>
            <p:nvPr/>
          </p:nvGrpSpPr>
          <p:grpSpPr>
            <a:xfrm>
              <a:off x="5622840" y="420840"/>
              <a:ext cx="2901960" cy="815760"/>
              <a:chOff x="5622840" y="420840"/>
              <a:chExt cx="2901960" cy="815760"/>
            </a:xfrm>
          </p:grpSpPr>
          <p:sp>
            <p:nvSpPr>
              <p:cNvPr id="661" name=""/>
              <p:cNvSpPr/>
              <p:nvPr/>
            </p:nvSpPr>
            <p:spPr>
              <a:xfrm>
                <a:off x="5968800" y="525600"/>
                <a:ext cx="2556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E-06 Hvy Panzerj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ä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er Company (SP)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770440" y="673200"/>
                <a:ext cx="0" cy="49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5770440" y="719280"/>
                <a:ext cx="1478520" cy="258480"/>
                <a:chOff x="5770440" y="719280"/>
                <a:chExt cx="1478520" cy="25848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5770440" y="900000"/>
                  <a:ext cx="129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5" name=""/>
                <p:cNvGrpSpPr/>
                <p:nvPr/>
              </p:nvGrpSpPr>
              <p:grpSpPr>
                <a:xfrm>
                  <a:off x="5906880" y="776160"/>
                  <a:ext cx="240840" cy="201600"/>
                  <a:chOff x="5906880" y="776160"/>
                  <a:chExt cx="240840" cy="201600"/>
                </a:xfrm>
              </p:grpSpPr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5906880" y="820440"/>
                    <a:ext cx="240840" cy="157320"/>
                    <a:chOff x="5906880" y="820440"/>
                    <a:chExt cx="240840" cy="15732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5907960" y="820440"/>
                      <a:ext cx="23976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5937840" y="855000"/>
                      <a:ext cx="1717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V="1">
                      <a:off x="5906880" y="821160"/>
                      <a:ext cx="11556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6022440" y="820440"/>
                      <a:ext cx="124200" cy="156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5990760" y="776160"/>
                    <a:ext cx="74520" cy="28080"/>
                    <a:chOff x="5990760" y="776160"/>
                    <a:chExt cx="74520" cy="28080"/>
                  </a:xfrm>
                </p:grpSpPr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5990760" y="7761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6038280" y="7776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74" name=""/>
                <p:cNvSpPr/>
                <p:nvPr/>
              </p:nvSpPr>
              <p:spPr>
                <a:xfrm>
                  <a:off x="6188040" y="719280"/>
                  <a:ext cx="470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189120" y="839880"/>
                  <a:ext cx="10598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ashorn   GE-09 (b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5622840" y="420840"/>
                <a:ext cx="291600" cy="253440"/>
                <a:chOff x="5622840" y="420840"/>
                <a:chExt cx="291600" cy="25344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767200" y="420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8" name=""/>
                <p:cNvGrpSpPr/>
                <p:nvPr/>
              </p:nvGrpSpPr>
              <p:grpSpPr>
                <a:xfrm>
                  <a:off x="5622840" y="484200"/>
                  <a:ext cx="291600" cy="190080"/>
                  <a:chOff x="5622840" y="484200"/>
                  <a:chExt cx="291600" cy="190080"/>
                </a:xfrm>
              </p:grpSpPr>
              <p:sp>
                <p:nvSpPr>
                  <p:cNvPr id="679" name=""/>
                  <p:cNvSpPr/>
                  <p:nvPr/>
                </p:nvSpPr>
                <p:spPr>
                  <a:xfrm>
                    <a:off x="5624280" y="484200"/>
                    <a:ext cx="29016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660280" y="525960"/>
                    <a:ext cx="208080" cy="9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V="1">
                    <a:off x="5622840" y="485280"/>
                    <a:ext cx="140040" cy="188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762880" y="484200"/>
                    <a:ext cx="150120" cy="188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3" name=""/>
              <p:cNvGrpSpPr/>
              <p:nvPr/>
            </p:nvGrpSpPr>
            <p:grpSpPr>
              <a:xfrm>
                <a:off x="5760720" y="1035000"/>
                <a:ext cx="1488240" cy="201600"/>
                <a:chOff x="5760720" y="1035000"/>
                <a:chExt cx="1488240" cy="201600"/>
              </a:xfrm>
            </p:grpSpPr>
            <p:grpSp>
              <p:nvGrpSpPr>
                <p:cNvPr id="684" name=""/>
                <p:cNvGrpSpPr/>
                <p:nvPr/>
              </p:nvGrpSpPr>
              <p:grpSpPr>
                <a:xfrm>
                  <a:off x="5927400" y="1035000"/>
                  <a:ext cx="240840" cy="201600"/>
                  <a:chOff x="5927400" y="1035000"/>
                  <a:chExt cx="240840" cy="201600"/>
                </a:xfrm>
              </p:grpSpPr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927400" y="1079280"/>
                    <a:ext cx="240840" cy="157320"/>
                    <a:chOff x="5927400" y="1079280"/>
                    <a:chExt cx="240840" cy="15732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5928480" y="1079280"/>
                      <a:ext cx="23976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5958360" y="1113840"/>
                      <a:ext cx="1717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 flipV="1">
                      <a:off x="5927400" y="1080000"/>
                      <a:ext cx="11556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6042960" y="1079280"/>
                      <a:ext cx="124200" cy="156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6011280" y="1035000"/>
                    <a:ext cx="74520" cy="28080"/>
                    <a:chOff x="6011280" y="1035000"/>
                    <a:chExt cx="74520" cy="28080"/>
                  </a:xfrm>
                </p:grpSpPr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6011280" y="103500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6058800" y="103644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93" name=""/>
                <p:cNvSpPr/>
                <p:nvPr/>
              </p:nvSpPr>
              <p:spPr>
                <a:xfrm>
                  <a:off x="5760720" y="1170000"/>
                  <a:ext cx="166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189120" y="1082520"/>
                  <a:ext cx="10598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6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ashorn   GE-09 (b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5" name=""/>
            <p:cNvGrpSpPr/>
            <p:nvPr/>
          </p:nvGrpSpPr>
          <p:grpSpPr>
            <a:xfrm>
              <a:off x="5622840" y="1528920"/>
              <a:ext cx="1901160" cy="807840"/>
              <a:chOff x="5622840" y="1528920"/>
              <a:chExt cx="1901160" cy="807840"/>
            </a:xfrm>
          </p:grpSpPr>
          <p:sp>
            <p:nvSpPr>
              <p:cNvPr id="696" name=""/>
              <p:cNvSpPr/>
              <p:nvPr/>
            </p:nvSpPr>
            <p:spPr>
              <a:xfrm>
                <a:off x="5950440" y="1590840"/>
                <a:ext cx="1573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Hvy Panzerj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ä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ger Platoon (SP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757840" y="1771560"/>
                <a:ext cx="0" cy="49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8" name=""/>
              <p:cNvGrpSpPr/>
              <p:nvPr/>
            </p:nvGrpSpPr>
            <p:grpSpPr>
              <a:xfrm>
                <a:off x="5622840" y="1528920"/>
                <a:ext cx="291600" cy="233280"/>
                <a:chOff x="5622840" y="1528920"/>
                <a:chExt cx="291600" cy="233280"/>
              </a:xfrm>
            </p:grpSpPr>
            <p:grpSp>
              <p:nvGrpSpPr>
                <p:cNvPr id="699" name=""/>
                <p:cNvGrpSpPr/>
                <p:nvPr/>
              </p:nvGrpSpPr>
              <p:grpSpPr>
                <a:xfrm>
                  <a:off x="5698800" y="1528920"/>
                  <a:ext cx="131760" cy="27000"/>
                  <a:chOff x="5698800" y="1528920"/>
                  <a:chExt cx="131760" cy="270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5698800" y="15289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5749560" y="15289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5803560" y="15289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5622840" y="1571760"/>
                  <a:ext cx="291600" cy="190440"/>
                  <a:chOff x="5622840" y="1571760"/>
                  <a:chExt cx="291600" cy="19044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5624280" y="1571760"/>
                    <a:ext cx="290160" cy="190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5660280" y="1613520"/>
                    <a:ext cx="208080" cy="9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flipV="1">
                    <a:off x="5622840" y="1573200"/>
                    <a:ext cx="140040" cy="188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5762880" y="1571760"/>
                    <a:ext cx="150120" cy="189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8" name=""/>
              <p:cNvGrpSpPr/>
              <p:nvPr/>
            </p:nvGrpSpPr>
            <p:grpSpPr>
              <a:xfrm>
                <a:off x="5757840" y="1784520"/>
                <a:ext cx="1467000" cy="284760"/>
                <a:chOff x="5757840" y="1784520"/>
                <a:chExt cx="1467000" cy="2847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5757840" y="1992240"/>
                  <a:ext cx="129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21160" y="1784520"/>
                  <a:ext cx="470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1" name=""/>
                <p:cNvGrpSpPr/>
                <p:nvPr/>
              </p:nvGrpSpPr>
              <p:grpSpPr>
                <a:xfrm>
                  <a:off x="5886360" y="1868400"/>
                  <a:ext cx="240840" cy="200880"/>
                  <a:chOff x="5886360" y="1868400"/>
                  <a:chExt cx="240840" cy="200880"/>
                </a:xfrm>
              </p:grpSpPr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5886360" y="1912320"/>
                    <a:ext cx="240840" cy="156960"/>
                    <a:chOff x="5886360" y="1912320"/>
                    <a:chExt cx="240840" cy="15696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5887440" y="1912320"/>
                      <a:ext cx="23976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5917320" y="1946520"/>
                      <a:ext cx="1717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 flipV="1">
                      <a:off x="5886360" y="1913400"/>
                      <a:ext cx="11556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6001920" y="1912320"/>
                      <a:ext cx="12420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970240" y="1868400"/>
                    <a:ext cx="74520" cy="27720"/>
                    <a:chOff x="5970240" y="1868400"/>
                    <a:chExt cx="74520" cy="2772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5970240" y="186840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6017760" y="186984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20" name=""/>
                <p:cNvSpPr/>
                <p:nvPr/>
              </p:nvSpPr>
              <p:spPr>
                <a:xfrm>
                  <a:off x="6222600" y="1914480"/>
                  <a:ext cx="10022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ashorn GE-09 (b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5748120" y="2135160"/>
                <a:ext cx="1476720" cy="201600"/>
                <a:chOff x="5748120" y="2135160"/>
                <a:chExt cx="1476720" cy="20160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5748120" y="2262240"/>
                  <a:ext cx="166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3" name=""/>
                <p:cNvGrpSpPr/>
                <p:nvPr/>
              </p:nvGrpSpPr>
              <p:grpSpPr>
                <a:xfrm>
                  <a:off x="5902200" y="2135160"/>
                  <a:ext cx="240840" cy="201600"/>
                  <a:chOff x="5902200" y="2135160"/>
                  <a:chExt cx="240840" cy="201600"/>
                </a:xfrm>
              </p:grpSpPr>
              <p:grpSp>
                <p:nvGrpSpPr>
                  <p:cNvPr id="724" name=""/>
                  <p:cNvGrpSpPr/>
                  <p:nvPr/>
                </p:nvGrpSpPr>
                <p:grpSpPr>
                  <a:xfrm>
                    <a:off x="5902200" y="2179440"/>
                    <a:ext cx="240840" cy="157320"/>
                    <a:chOff x="5902200" y="2179440"/>
                    <a:chExt cx="240840" cy="157320"/>
                  </a:xfrm>
                </p:grpSpPr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5903280" y="2179440"/>
                      <a:ext cx="23976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5933160" y="2214000"/>
                      <a:ext cx="1717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 flipV="1">
                      <a:off x="5902200" y="2180160"/>
                      <a:ext cx="11556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6017760" y="2179440"/>
                      <a:ext cx="124200" cy="156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5986080" y="2135160"/>
                    <a:ext cx="74520" cy="28080"/>
                    <a:chOff x="5986080" y="2135160"/>
                    <a:chExt cx="74520" cy="2808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5986080" y="21351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6033600" y="21366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32" name=""/>
                <p:cNvSpPr/>
                <p:nvPr/>
              </p:nvSpPr>
              <p:spPr>
                <a:xfrm>
                  <a:off x="6222600" y="2193840"/>
                  <a:ext cx="10022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ashorn GE-09 (b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3" name=""/>
            <p:cNvSpPr/>
            <p:nvPr/>
          </p:nvSpPr>
          <p:spPr>
            <a:xfrm>
              <a:off x="5622840" y="1244520"/>
              <a:ext cx="229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A Hvy PzJgr Co. May operate as 3 separate platoon-sized elements as follow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622840" y="2363760"/>
              <a:ext cx="34336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d '43 may replace Nashorn with Ferdinand/Elefant GE-12/GE-12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te '44 with Jadgpanther                                           GE-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te '44 with JadgTiger                                               GE-5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422280" y="3413160"/>
            <a:ext cx="3963960" cy="2150280"/>
            <a:chOff x="422280" y="3413160"/>
            <a:chExt cx="3963960" cy="2150280"/>
          </a:xfrm>
        </p:grpSpPr>
        <p:grpSp>
          <p:nvGrpSpPr>
            <p:cNvPr id="736" name=""/>
            <p:cNvGrpSpPr/>
            <p:nvPr/>
          </p:nvGrpSpPr>
          <p:grpSpPr>
            <a:xfrm>
              <a:off x="422280" y="3413160"/>
              <a:ext cx="2876400" cy="1312560"/>
              <a:chOff x="422280" y="3413160"/>
              <a:chExt cx="2876400" cy="1312560"/>
            </a:xfrm>
          </p:grpSpPr>
          <p:sp>
            <p:nvSpPr>
              <p:cNvPr id="737" name=""/>
              <p:cNvSpPr/>
              <p:nvPr/>
            </p:nvSpPr>
            <p:spPr>
              <a:xfrm>
                <a:off x="803160" y="3495600"/>
                <a:ext cx="2495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E-07 Panzerj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ä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er Platoon (Towed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8" name=""/>
              <p:cNvGrpSpPr/>
              <p:nvPr/>
            </p:nvGrpSpPr>
            <p:grpSpPr>
              <a:xfrm>
                <a:off x="422280" y="3413160"/>
                <a:ext cx="284040" cy="233280"/>
                <a:chOff x="422280" y="3413160"/>
                <a:chExt cx="284040" cy="233280"/>
              </a:xfrm>
            </p:grpSpPr>
            <p:grpSp>
              <p:nvGrpSpPr>
                <p:cNvPr id="739" name=""/>
                <p:cNvGrpSpPr/>
                <p:nvPr/>
              </p:nvGrpSpPr>
              <p:grpSpPr>
                <a:xfrm>
                  <a:off x="422280" y="3452760"/>
                  <a:ext cx="284040" cy="193680"/>
                  <a:chOff x="422280" y="3452760"/>
                  <a:chExt cx="284040" cy="19368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>
                    <a:off x="422280" y="3452760"/>
                    <a:ext cx="284040" cy="19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flipV="1">
                    <a:off x="422280" y="3456720"/>
                    <a:ext cx="139680" cy="187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561960" y="3452760"/>
                    <a:ext cx="13968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3" name=""/>
                <p:cNvGrpSpPr/>
                <p:nvPr/>
              </p:nvGrpSpPr>
              <p:grpSpPr>
                <a:xfrm>
                  <a:off x="498240" y="3413160"/>
                  <a:ext cx="131040" cy="26640"/>
                  <a:chOff x="498240" y="3413160"/>
                  <a:chExt cx="131040" cy="26640"/>
                </a:xfrm>
              </p:grpSpPr>
              <p:sp>
                <p:nvSpPr>
                  <p:cNvPr id="744" name=""/>
                  <p:cNvSpPr/>
                  <p:nvPr/>
                </p:nvSpPr>
                <p:spPr>
                  <a:xfrm>
                    <a:off x="498240" y="34131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548640" y="341316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602640" y="34131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47" name=""/>
              <p:cNvSpPr/>
              <p:nvPr/>
            </p:nvSpPr>
            <p:spPr>
              <a:xfrm>
                <a:off x="561960" y="3495600"/>
                <a:ext cx="0" cy="86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8" name=""/>
              <p:cNvGrpSpPr/>
              <p:nvPr/>
            </p:nvGrpSpPr>
            <p:grpSpPr>
              <a:xfrm>
                <a:off x="565200" y="3637080"/>
                <a:ext cx="1920960" cy="551160"/>
                <a:chOff x="565200" y="3637080"/>
                <a:chExt cx="1920960" cy="551160"/>
              </a:xfrm>
            </p:grpSpPr>
            <p:grpSp>
              <p:nvGrpSpPr>
                <p:cNvPr id="749" name=""/>
                <p:cNvGrpSpPr/>
                <p:nvPr/>
              </p:nvGrpSpPr>
              <p:grpSpPr>
                <a:xfrm>
                  <a:off x="727200" y="3840120"/>
                  <a:ext cx="1550880" cy="348120"/>
                  <a:chOff x="727200" y="3840120"/>
                  <a:chExt cx="1550880" cy="348120"/>
                </a:xfrm>
              </p:grpSpPr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727200" y="3960720"/>
                    <a:ext cx="231480" cy="227520"/>
                    <a:chOff x="727200" y="3960720"/>
                    <a:chExt cx="231480" cy="227520"/>
                  </a:xfrm>
                </p:grpSpPr>
                <p:grpSp>
                  <p:nvGrpSpPr>
                    <p:cNvPr id="751" name=""/>
                    <p:cNvGrpSpPr/>
                    <p:nvPr/>
                  </p:nvGrpSpPr>
                  <p:grpSpPr>
                    <a:xfrm>
                      <a:off x="727200" y="3998520"/>
                      <a:ext cx="231480" cy="189720"/>
                      <a:chOff x="727200" y="3998520"/>
                      <a:chExt cx="231480" cy="189720"/>
                    </a:xfrm>
                  </p:grpSpPr>
                  <p:sp>
                    <p:nvSpPr>
                      <p:cNvPr id="752" name=""/>
                      <p:cNvSpPr/>
                      <p:nvPr/>
                    </p:nvSpPr>
                    <p:spPr>
                      <a:xfrm>
                        <a:off x="727200" y="3998520"/>
                        <a:ext cx="231480" cy="1566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3" name=""/>
                      <p:cNvSpPr/>
                      <p:nvPr/>
                    </p:nvSpPr>
                    <p:spPr>
                      <a:xfrm>
                        <a:off x="737640" y="4160880"/>
                        <a:ext cx="27360" cy="27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4" name=""/>
                      <p:cNvSpPr/>
                      <p:nvPr/>
                    </p:nvSpPr>
                    <p:spPr>
                      <a:xfrm>
                        <a:off x="919440" y="4160880"/>
                        <a:ext cx="27000" cy="27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817560" y="39607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6" name=""/>
                  <p:cNvSpPr/>
                  <p:nvPr/>
                </p:nvSpPr>
                <p:spPr>
                  <a:xfrm>
                    <a:off x="757440" y="3840120"/>
                    <a:ext cx="2880" cy="176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1019160" y="4024080"/>
                    <a:ext cx="125892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Kubelwagen   GE-34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1019160" y="3906720"/>
                    <a:ext cx="43668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9" name=""/>
                <p:cNvGrpSpPr/>
                <p:nvPr/>
              </p:nvGrpSpPr>
              <p:grpSpPr>
                <a:xfrm>
                  <a:off x="565200" y="3637080"/>
                  <a:ext cx="1920960" cy="276120"/>
                  <a:chOff x="565200" y="3637080"/>
                  <a:chExt cx="1920960" cy="276120"/>
                </a:xfrm>
              </p:grpSpPr>
              <p:grpSp>
                <p:nvGrpSpPr>
                  <p:cNvPr id="760" name=""/>
                  <p:cNvGrpSpPr/>
                  <p:nvPr/>
                </p:nvGrpSpPr>
                <p:grpSpPr>
                  <a:xfrm>
                    <a:off x="720720" y="3733920"/>
                    <a:ext cx="228600" cy="179280"/>
                    <a:chOff x="720720" y="3733920"/>
                    <a:chExt cx="228600" cy="179280"/>
                  </a:xfrm>
                </p:grpSpPr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720720" y="3760920"/>
                      <a:ext cx="228600" cy="1522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>
                      <a:off x="822240" y="373392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3" name=""/>
                  <p:cNvSpPr/>
                  <p:nvPr/>
                </p:nvSpPr>
                <p:spPr>
                  <a:xfrm>
                    <a:off x="565200" y="3840120"/>
                    <a:ext cx="1731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1019160" y="3637080"/>
                    <a:ext cx="47016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1019160" y="3768840"/>
                    <a:ext cx="146700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er   GE-46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6" name=""/>
              <p:cNvGrpSpPr/>
              <p:nvPr/>
            </p:nvGrpSpPr>
            <p:grpSpPr>
              <a:xfrm>
                <a:off x="554040" y="4248000"/>
                <a:ext cx="1949400" cy="477720"/>
                <a:chOff x="554040" y="4248000"/>
                <a:chExt cx="1949400" cy="477720"/>
              </a:xfrm>
            </p:grpSpPr>
            <p:grpSp>
              <p:nvGrpSpPr>
                <p:cNvPr id="767" name=""/>
                <p:cNvGrpSpPr/>
                <p:nvPr/>
              </p:nvGrpSpPr>
              <p:grpSpPr>
                <a:xfrm>
                  <a:off x="720720" y="4398840"/>
                  <a:ext cx="1557360" cy="326880"/>
                  <a:chOff x="720720" y="4398840"/>
                  <a:chExt cx="1557360" cy="326880"/>
                </a:xfrm>
              </p:grpSpPr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720720" y="4505040"/>
                    <a:ext cx="239760" cy="220680"/>
                    <a:chOff x="720720" y="4505040"/>
                    <a:chExt cx="239760" cy="220680"/>
                  </a:xfrm>
                </p:grpSpPr>
                <p:grpSp>
                  <p:nvGrpSpPr>
                    <p:cNvPr id="769" name=""/>
                    <p:cNvGrpSpPr/>
                    <p:nvPr/>
                  </p:nvGrpSpPr>
                  <p:grpSpPr>
                    <a:xfrm>
                      <a:off x="720720" y="4536720"/>
                      <a:ext cx="239760" cy="189000"/>
                      <a:chOff x="720720" y="4536720"/>
                      <a:chExt cx="239760" cy="189000"/>
                    </a:xfrm>
                  </p:grpSpPr>
                  <p:sp>
                    <p:nvSpPr>
                      <p:cNvPr id="770" name=""/>
                      <p:cNvSpPr/>
                      <p:nvPr/>
                    </p:nvSpPr>
                    <p:spPr>
                      <a:xfrm>
                        <a:off x="720720" y="4536720"/>
                        <a:ext cx="239760" cy="1573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1" name=""/>
                      <p:cNvSpPr/>
                      <p:nvPr/>
                    </p:nvSpPr>
                    <p:spPr>
                      <a:xfrm>
                        <a:off x="734760" y="469872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2" name=""/>
                      <p:cNvSpPr/>
                      <p:nvPr/>
                    </p:nvSpPr>
                    <p:spPr>
                      <a:xfrm>
                        <a:off x="847440" y="4697280"/>
                        <a:ext cx="288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923760" y="4697280"/>
                        <a:ext cx="288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868320" y="4697280"/>
                        <a:ext cx="61920" cy="270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75" name=""/>
                    <p:cNvGrpSpPr/>
                    <p:nvPr/>
                  </p:nvGrpSpPr>
                  <p:grpSpPr>
                    <a:xfrm>
                      <a:off x="803520" y="4505040"/>
                      <a:ext cx="74520" cy="28080"/>
                      <a:chOff x="803520" y="4505040"/>
                      <a:chExt cx="74520" cy="28080"/>
                    </a:xfrm>
                  </p:grpSpPr>
                  <p:sp>
                    <p:nvSpPr>
                      <p:cNvPr id="776" name=""/>
                      <p:cNvSpPr/>
                      <p:nvPr/>
                    </p:nvSpPr>
                    <p:spPr>
                      <a:xfrm>
                        <a:off x="803520" y="450504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7" name=""/>
                      <p:cNvSpPr/>
                      <p:nvPr/>
                    </p:nvSpPr>
                    <p:spPr>
                      <a:xfrm>
                        <a:off x="851040" y="450648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78" name=""/>
                  <p:cNvSpPr/>
                  <p:nvPr/>
                </p:nvSpPr>
                <p:spPr>
                  <a:xfrm>
                    <a:off x="750960" y="4398840"/>
                    <a:ext cx="0" cy="182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1019160" y="4422600"/>
                    <a:ext cx="43668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019160" y="4549680"/>
                    <a:ext cx="125892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dKfz 10        GE-29 (a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1" name=""/>
                <p:cNvGrpSpPr/>
                <p:nvPr/>
              </p:nvGrpSpPr>
              <p:grpSpPr>
                <a:xfrm>
                  <a:off x="554040" y="4248000"/>
                  <a:ext cx="1949400" cy="196920"/>
                  <a:chOff x="554040" y="4248000"/>
                  <a:chExt cx="1949400" cy="196920"/>
                </a:xfrm>
              </p:grpSpPr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720720" y="4248000"/>
                    <a:ext cx="231840" cy="196920"/>
                    <a:chOff x="720720" y="4248000"/>
                    <a:chExt cx="231840" cy="196920"/>
                  </a:xfrm>
                </p:grpSpPr>
                <p:grpSp>
                  <p:nvGrpSpPr>
                    <p:cNvPr id="783" name=""/>
                    <p:cNvGrpSpPr/>
                    <p:nvPr/>
                  </p:nvGrpSpPr>
                  <p:grpSpPr>
                    <a:xfrm>
                      <a:off x="798480" y="4248000"/>
                      <a:ext cx="74520" cy="28800"/>
                      <a:chOff x="798480" y="4248000"/>
                      <a:chExt cx="74520" cy="28800"/>
                    </a:xfrm>
                  </p:grpSpPr>
                  <p:sp>
                    <p:nvSpPr>
                      <p:cNvPr id="784" name=""/>
                      <p:cNvSpPr/>
                      <p:nvPr/>
                    </p:nvSpPr>
                    <p:spPr>
                      <a:xfrm>
                        <a:off x="798480" y="424800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5" name=""/>
                      <p:cNvSpPr/>
                      <p:nvPr/>
                    </p:nvSpPr>
                    <p:spPr>
                      <a:xfrm>
                        <a:off x="846000" y="424980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6" name=""/>
                    <p:cNvGrpSpPr/>
                    <p:nvPr/>
                  </p:nvGrpSpPr>
                  <p:grpSpPr>
                    <a:xfrm>
                      <a:off x="720720" y="4287600"/>
                      <a:ext cx="231840" cy="157320"/>
                      <a:chOff x="720720" y="4287600"/>
                      <a:chExt cx="231840" cy="157320"/>
                    </a:xfrm>
                  </p:grpSpPr>
                  <p:sp>
                    <p:nvSpPr>
                      <p:cNvPr id="787" name=""/>
                      <p:cNvSpPr/>
                      <p:nvPr/>
                    </p:nvSpPr>
                    <p:spPr>
                      <a:xfrm>
                        <a:off x="720720" y="4287600"/>
                        <a:ext cx="231840" cy="1573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8" name=""/>
                      <p:cNvSpPr/>
                      <p:nvPr/>
                    </p:nvSpPr>
                    <p:spPr>
                      <a:xfrm flipV="1">
                        <a:off x="720720" y="4290480"/>
                        <a:ext cx="113760" cy="1522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9" name=""/>
                      <p:cNvSpPr/>
                      <p:nvPr/>
                    </p:nvSpPr>
                    <p:spPr>
                      <a:xfrm>
                        <a:off x="834480" y="4287600"/>
                        <a:ext cx="113760" cy="1537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90" name=""/>
                  <p:cNvSpPr/>
                  <p:nvPr/>
                </p:nvSpPr>
                <p:spPr>
                  <a:xfrm>
                    <a:off x="554040" y="4357800"/>
                    <a:ext cx="1731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1019160" y="4290840"/>
                    <a:ext cx="148428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2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0mm PaK38  GE-40 (a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92" name=""/>
            <p:cNvSpPr/>
            <p:nvPr/>
          </p:nvSpPr>
          <p:spPr>
            <a:xfrm>
              <a:off x="422280" y="4886280"/>
              <a:ext cx="396396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arly '44 may replace Pak38 GE-40/transport GE-29 with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5mm Pak 40  GE-41/SdKfz Medium Prime Mover GE-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te'44 may replace with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8mm Pak 43/41 GE-65.1/SdKfz Heavy Prime Mover GE-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ME-08-&gt;ME-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346560" y="811800"/>
            <a:ext cx="24858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zergrenadier Company (Armor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3314880" y="1182600"/>
            <a:ext cx="2885760" cy="2719080"/>
            <a:chOff x="3314880" y="1182600"/>
            <a:chExt cx="2885760" cy="2719080"/>
          </a:xfrm>
        </p:grpSpPr>
        <p:sp>
          <p:nvSpPr>
            <p:cNvPr id="796" name=""/>
            <p:cNvSpPr/>
            <p:nvPr/>
          </p:nvSpPr>
          <p:spPr>
            <a:xfrm>
              <a:off x="3649680" y="2220840"/>
              <a:ext cx="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3605040" y="2097000"/>
              <a:ext cx="231840" cy="192240"/>
              <a:chOff x="3605040" y="2097000"/>
              <a:chExt cx="231840" cy="192240"/>
            </a:xfrm>
          </p:grpSpPr>
          <p:grpSp>
            <p:nvGrpSpPr>
              <p:cNvPr id="798" name=""/>
              <p:cNvGrpSpPr/>
              <p:nvPr/>
            </p:nvGrpSpPr>
            <p:grpSpPr>
              <a:xfrm>
                <a:off x="3605040" y="2131920"/>
                <a:ext cx="231840" cy="157320"/>
                <a:chOff x="3605040" y="2131920"/>
                <a:chExt cx="231840" cy="1573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3605040" y="2131920"/>
                  <a:ext cx="23184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V="1">
                  <a:off x="3607200" y="2133720"/>
                  <a:ext cx="225720" cy="153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605040" y="213408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3682800" y="2097000"/>
                <a:ext cx="74520" cy="28800"/>
                <a:chOff x="3682800" y="2097000"/>
                <a:chExt cx="74520" cy="2880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3682800" y="2097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3730320" y="20988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5" name=""/>
            <p:cNvSpPr/>
            <p:nvPr/>
          </p:nvSpPr>
          <p:spPr>
            <a:xfrm>
              <a:off x="3891600" y="2139840"/>
              <a:ext cx="1451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 (b)                  GE-4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460680" y="2206800"/>
              <a:ext cx="14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894120" y="14256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3602160" y="1525680"/>
              <a:ext cx="237960" cy="194760"/>
              <a:chOff x="3602160" y="1525680"/>
              <a:chExt cx="237960" cy="194760"/>
            </a:xfrm>
          </p:grpSpPr>
          <p:sp>
            <p:nvSpPr>
              <p:cNvPr id="809" name=""/>
              <p:cNvSpPr/>
              <p:nvPr/>
            </p:nvSpPr>
            <p:spPr>
              <a:xfrm>
                <a:off x="3602160" y="1562040"/>
                <a:ext cx="237960" cy="158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06560" y="152568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3892320" y="1560600"/>
              <a:ext cx="1488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GE-4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456000" y="1631880"/>
              <a:ext cx="14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3602160" y="1805040"/>
              <a:ext cx="239400" cy="234360"/>
              <a:chOff x="3602160" y="1805040"/>
              <a:chExt cx="239400" cy="234360"/>
            </a:xfrm>
          </p:grpSpPr>
          <p:grpSp>
            <p:nvGrpSpPr>
              <p:cNvPr id="814" name=""/>
              <p:cNvGrpSpPr/>
              <p:nvPr/>
            </p:nvGrpSpPr>
            <p:grpSpPr>
              <a:xfrm>
                <a:off x="3602160" y="1851120"/>
                <a:ext cx="239400" cy="188280"/>
                <a:chOff x="3602160" y="1851120"/>
                <a:chExt cx="239400" cy="18828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3602160" y="1851120"/>
                  <a:ext cx="23940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3637080" y="1890360"/>
                  <a:ext cx="16956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3616200" y="20127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728880" y="201132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805200" y="20113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749760" y="2011320"/>
                  <a:ext cx="61920" cy="266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V="1">
                  <a:off x="3611520" y="1861560"/>
                  <a:ext cx="104760" cy="13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716280" y="1863360"/>
                  <a:ext cx="109440" cy="12528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3" name=""/>
              <p:cNvSpPr/>
              <p:nvPr/>
            </p:nvSpPr>
            <p:spPr>
              <a:xfrm>
                <a:off x="3708360" y="18050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3894120" y="176220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894120" y="1881360"/>
              <a:ext cx="1434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dKfz 251/10  (a)       GE-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35280" y="1701720"/>
              <a:ext cx="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3314880" y="1182600"/>
              <a:ext cx="291960" cy="244440"/>
              <a:chOff x="3314880" y="1182600"/>
              <a:chExt cx="291960" cy="244440"/>
            </a:xfrm>
          </p:grpSpPr>
          <p:grpSp>
            <p:nvGrpSpPr>
              <p:cNvPr id="828" name=""/>
              <p:cNvGrpSpPr/>
              <p:nvPr/>
            </p:nvGrpSpPr>
            <p:grpSpPr>
              <a:xfrm>
                <a:off x="3314880" y="1236600"/>
                <a:ext cx="291960" cy="190440"/>
                <a:chOff x="3314880" y="1236600"/>
                <a:chExt cx="291960" cy="19044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3316320" y="1236600"/>
                  <a:ext cx="290160" cy="190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359520" y="1283760"/>
                  <a:ext cx="20484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3316320" y="1236600"/>
                  <a:ext cx="287280" cy="18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314880" y="1236600"/>
                  <a:ext cx="291960" cy="18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"/>
              <p:cNvSpPr/>
              <p:nvPr/>
            </p:nvSpPr>
            <p:spPr>
              <a:xfrm>
                <a:off x="3460680" y="11826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3457440" y="1425600"/>
              <a:ext cx="3240" cy="237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68600" y="3003480"/>
              <a:ext cx="18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94480" y="2921040"/>
              <a:ext cx="141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avy Machine Gun  GE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3603600" y="2879640"/>
              <a:ext cx="236520" cy="201600"/>
              <a:chOff x="3603600" y="2879640"/>
              <a:chExt cx="236520" cy="201600"/>
            </a:xfrm>
          </p:grpSpPr>
          <p:grpSp>
            <p:nvGrpSpPr>
              <p:cNvPr id="838" name=""/>
              <p:cNvGrpSpPr/>
              <p:nvPr/>
            </p:nvGrpSpPr>
            <p:grpSpPr>
              <a:xfrm>
                <a:off x="3681360" y="2879640"/>
                <a:ext cx="74520" cy="28800"/>
                <a:chOff x="3681360" y="2879640"/>
                <a:chExt cx="74520" cy="2880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3681360" y="28796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728880" y="28814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3603600" y="2916360"/>
                <a:ext cx="236520" cy="164880"/>
                <a:chOff x="3603600" y="2916360"/>
                <a:chExt cx="236520" cy="16488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603600" y="292104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603600" y="292716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V="1">
                  <a:off x="3610080" y="2916360"/>
                  <a:ext cx="230040" cy="142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621240" y="2944800"/>
                  <a:ext cx="218880" cy="136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6" name=""/>
            <p:cNvSpPr/>
            <p:nvPr/>
          </p:nvSpPr>
          <p:spPr>
            <a:xfrm>
              <a:off x="3467160" y="2470320"/>
              <a:ext cx="18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94840" y="2398680"/>
              <a:ext cx="1467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 Machine Gun      GE-4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3603600" y="2355840"/>
              <a:ext cx="236520" cy="191880"/>
              <a:chOff x="3603600" y="2355840"/>
              <a:chExt cx="236520" cy="19188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3684240" y="2355840"/>
                <a:ext cx="74520" cy="28800"/>
                <a:chOff x="3684240" y="2355840"/>
                <a:chExt cx="74520" cy="2880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3684240" y="23558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3731760" y="23576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3603600" y="2382840"/>
                <a:ext cx="236520" cy="164880"/>
                <a:chOff x="3603600" y="2382840"/>
                <a:chExt cx="236520" cy="16488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3603600" y="238752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603600" y="239364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V="1">
                  <a:off x="3610080" y="2382840"/>
                  <a:ext cx="230040" cy="142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3621240" y="2411280"/>
                  <a:ext cx="218880" cy="136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7" name=""/>
            <p:cNvSpPr/>
            <p:nvPr/>
          </p:nvSpPr>
          <p:spPr>
            <a:xfrm>
              <a:off x="3467160" y="3527280"/>
              <a:ext cx="18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94120" y="3483000"/>
              <a:ext cx="230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dKfz 251/2 80mm Mortar Halftrack GE-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894480" y="3360600"/>
              <a:ext cx="947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3602160" y="3425760"/>
              <a:ext cx="239760" cy="221760"/>
              <a:chOff x="3602160" y="3425760"/>
              <a:chExt cx="239760" cy="221760"/>
            </a:xfrm>
          </p:grpSpPr>
          <p:grpSp>
            <p:nvGrpSpPr>
              <p:cNvPr id="861" name=""/>
              <p:cNvGrpSpPr/>
              <p:nvPr/>
            </p:nvGrpSpPr>
            <p:grpSpPr>
              <a:xfrm>
                <a:off x="3602160" y="3458880"/>
                <a:ext cx="239760" cy="188640"/>
                <a:chOff x="3602160" y="3458880"/>
                <a:chExt cx="239760" cy="18864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602160" y="3458880"/>
                  <a:ext cx="239760" cy="157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3616200" y="362016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3729600" y="361908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3805920" y="361908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749760" y="3619080"/>
                  <a:ext cx="61920" cy="27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635280" y="3493440"/>
                  <a:ext cx="165600" cy="84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722400" y="3510360"/>
                  <a:ext cx="0" cy="4752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689280" y="3560400"/>
                  <a:ext cx="6768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3684600" y="3425760"/>
                <a:ext cx="74520" cy="28080"/>
                <a:chOff x="3684600" y="3425760"/>
                <a:chExt cx="74520" cy="2808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3684600" y="34257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3732120" y="34272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3" name=""/>
            <p:cNvGrpSpPr/>
            <p:nvPr/>
          </p:nvGrpSpPr>
          <p:grpSpPr>
            <a:xfrm>
              <a:off x="3600360" y="2637000"/>
              <a:ext cx="241560" cy="188640"/>
              <a:chOff x="3600360" y="2637000"/>
              <a:chExt cx="241560" cy="188640"/>
            </a:xfrm>
          </p:grpSpPr>
          <p:sp>
            <p:nvSpPr>
              <p:cNvPr id="874" name=""/>
              <p:cNvSpPr/>
              <p:nvPr/>
            </p:nvSpPr>
            <p:spPr>
              <a:xfrm>
                <a:off x="3601440" y="2637000"/>
                <a:ext cx="240480" cy="15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37080" y="2676240"/>
                <a:ext cx="169920" cy="75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3601440" y="2637000"/>
                <a:ext cx="238320" cy="15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00360" y="2637000"/>
                <a:ext cx="241560" cy="15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15480" y="279828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729600" y="279720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805920" y="279720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749760" y="2797200"/>
                <a:ext cx="61920" cy="27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3684600" y="2590920"/>
              <a:ext cx="74520" cy="28080"/>
              <a:chOff x="3684600" y="2590920"/>
              <a:chExt cx="74520" cy="28080"/>
            </a:xfrm>
          </p:grpSpPr>
          <p:sp>
            <p:nvSpPr>
              <p:cNvPr id="883" name=""/>
              <p:cNvSpPr/>
              <p:nvPr/>
            </p:nvSpPr>
            <p:spPr>
              <a:xfrm>
                <a:off x="3684600" y="25909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732120" y="25923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3894120" y="255276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92680" y="2681280"/>
              <a:ext cx="1428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dKfz 251/1               GE-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3600360" y="3169800"/>
              <a:ext cx="241560" cy="189360"/>
              <a:chOff x="3600360" y="3169800"/>
              <a:chExt cx="241560" cy="189360"/>
            </a:xfrm>
          </p:grpSpPr>
          <p:sp>
            <p:nvSpPr>
              <p:cNvPr id="888" name=""/>
              <p:cNvSpPr/>
              <p:nvPr/>
            </p:nvSpPr>
            <p:spPr>
              <a:xfrm>
                <a:off x="3601440" y="3170160"/>
                <a:ext cx="240480" cy="158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37080" y="3209400"/>
                <a:ext cx="169920" cy="75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3601440" y="3169800"/>
                <a:ext cx="238320" cy="156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00360" y="3170160"/>
                <a:ext cx="241560" cy="154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15480" y="333180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729600" y="333072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805920" y="333072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749760" y="3330720"/>
                <a:ext cx="61920" cy="27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3684600" y="3124080"/>
              <a:ext cx="74520" cy="28800"/>
              <a:chOff x="3684600" y="3124080"/>
              <a:chExt cx="74520" cy="28800"/>
            </a:xfrm>
          </p:grpSpPr>
          <p:sp>
            <p:nvSpPr>
              <p:cNvPr id="897" name=""/>
              <p:cNvSpPr/>
              <p:nvPr/>
            </p:nvSpPr>
            <p:spPr>
              <a:xfrm>
                <a:off x="3684600" y="31240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32120" y="3125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>
              <a:off x="3894120" y="307188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93400" y="3191040"/>
              <a:ext cx="1436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dKfz 251/1  (a)         GE-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635280" y="3070080"/>
              <a:ext cx="0" cy="11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57440" y="3795840"/>
              <a:ext cx="18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3602160" y="3670200"/>
              <a:ext cx="239400" cy="231480"/>
              <a:chOff x="3602160" y="3670200"/>
              <a:chExt cx="239400" cy="23148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3602160" y="3708000"/>
                <a:ext cx="239400" cy="193680"/>
                <a:chOff x="3602160" y="3708000"/>
                <a:chExt cx="239400" cy="19368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3602160" y="3708000"/>
                  <a:ext cx="23940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641400" y="3749400"/>
                  <a:ext cx="16020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3603240" y="3709800"/>
                  <a:ext cx="237960" cy="154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03240" y="3709800"/>
                  <a:ext cx="237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708000" y="3773160"/>
                  <a:ext cx="26640" cy="2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16200" y="38746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28880" y="387324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804840" y="38732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49400" y="3873240"/>
                  <a:ext cx="61560" cy="27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3678120" y="3670200"/>
                <a:ext cx="83880" cy="37440"/>
                <a:chOff x="3678120" y="3670200"/>
                <a:chExt cx="83880" cy="3744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3678120" y="3670200"/>
                  <a:ext cx="36360" cy="3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725640" y="3671640"/>
                  <a:ext cx="3636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7" name=""/>
            <p:cNvSpPr/>
            <p:nvPr/>
          </p:nvSpPr>
          <p:spPr>
            <a:xfrm>
              <a:off x="3894120" y="3753000"/>
              <a:ext cx="230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dKfz 251/9 75mm Halftrack GE-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6200640" y="765720"/>
            <a:ext cx="15112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6181560" y="1133640"/>
            <a:ext cx="2012040" cy="1000080"/>
            <a:chOff x="6181560" y="1133640"/>
            <a:chExt cx="2012040" cy="1000080"/>
          </a:xfrm>
        </p:grpSpPr>
        <p:grpSp>
          <p:nvGrpSpPr>
            <p:cNvPr id="920" name=""/>
            <p:cNvGrpSpPr/>
            <p:nvPr/>
          </p:nvGrpSpPr>
          <p:grpSpPr>
            <a:xfrm>
              <a:off x="6440400" y="1700280"/>
              <a:ext cx="231840" cy="191520"/>
              <a:chOff x="6440400" y="1700280"/>
              <a:chExt cx="231840" cy="19152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6440400" y="1734840"/>
                <a:ext cx="231840" cy="156960"/>
                <a:chOff x="6440400" y="1734840"/>
                <a:chExt cx="231840" cy="15696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6440400" y="173484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V="1">
                  <a:off x="6442560" y="173700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6440400" y="173700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6518160" y="1700280"/>
                <a:ext cx="74520" cy="28080"/>
                <a:chOff x="6518160" y="1700280"/>
                <a:chExt cx="74520" cy="2808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6518160" y="17002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565680" y="17017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8" name=""/>
            <p:cNvSpPr/>
            <p:nvPr/>
          </p:nvSpPr>
          <p:spPr>
            <a:xfrm>
              <a:off x="6705000" y="1771560"/>
              <a:ext cx="1479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  (ab)                GE-4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329520" y="1809720"/>
              <a:ext cx="14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707160" y="137016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6437160" y="1450800"/>
              <a:ext cx="238320" cy="195480"/>
              <a:chOff x="6437160" y="1450800"/>
              <a:chExt cx="238320" cy="195480"/>
            </a:xfrm>
          </p:grpSpPr>
          <p:sp>
            <p:nvSpPr>
              <p:cNvPr id="932" name=""/>
              <p:cNvSpPr/>
              <p:nvPr/>
            </p:nvSpPr>
            <p:spPr>
              <a:xfrm>
                <a:off x="6437160" y="1487520"/>
                <a:ext cx="238320" cy="158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541920" y="1450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6705360" y="1504800"/>
              <a:ext cx="1488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GE-4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329520" y="1557360"/>
              <a:ext cx="14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34200" y="1343160"/>
              <a:ext cx="0" cy="72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340320" y="2055960"/>
              <a:ext cx="18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707520" y="1987560"/>
              <a:ext cx="147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avy Machine Gun    GE-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6438960" y="1932120"/>
              <a:ext cx="236520" cy="201600"/>
              <a:chOff x="6438960" y="1932120"/>
              <a:chExt cx="236520" cy="20160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6516720" y="1932120"/>
                <a:ext cx="74520" cy="28800"/>
                <a:chOff x="6516720" y="1932120"/>
                <a:chExt cx="74520" cy="2880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6516720" y="19321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564240" y="19339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6438960" y="1968840"/>
                <a:ext cx="236520" cy="164880"/>
                <a:chOff x="6438960" y="1968840"/>
                <a:chExt cx="236520" cy="16488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6438960" y="197352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438960" y="197964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V="1">
                  <a:off x="6445440" y="1968840"/>
                  <a:ext cx="230040" cy="142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6456600" y="1997280"/>
                  <a:ext cx="218880" cy="136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8" name=""/>
            <p:cNvGrpSpPr/>
            <p:nvPr/>
          </p:nvGrpSpPr>
          <p:grpSpPr>
            <a:xfrm>
              <a:off x="6181560" y="1133640"/>
              <a:ext cx="284400" cy="242280"/>
              <a:chOff x="6181560" y="1133640"/>
              <a:chExt cx="284400" cy="242280"/>
            </a:xfrm>
          </p:grpSpPr>
          <p:sp>
            <p:nvSpPr>
              <p:cNvPr id="949" name=""/>
              <p:cNvSpPr/>
              <p:nvPr/>
            </p:nvSpPr>
            <p:spPr>
              <a:xfrm>
                <a:off x="6334200" y="113364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0" name=""/>
              <p:cNvGrpSpPr/>
              <p:nvPr/>
            </p:nvGrpSpPr>
            <p:grpSpPr>
              <a:xfrm>
                <a:off x="6181560" y="1182600"/>
                <a:ext cx="284400" cy="193320"/>
                <a:chOff x="6181560" y="1182600"/>
                <a:chExt cx="284400" cy="19332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6181560" y="1182600"/>
                  <a:ext cx="284400" cy="19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V="1">
                  <a:off x="6184440" y="1185120"/>
                  <a:ext cx="27684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6181560" y="1185480"/>
                  <a:ext cx="282960" cy="184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54" name=""/>
          <p:cNvSpPr/>
          <p:nvPr/>
        </p:nvSpPr>
        <p:spPr>
          <a:xfrm>
            <a:off x="6103800" y="3932640"/>
            <a:ext cx="16002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ksgrenadier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111720" y="4379760"/>
            <a:ext cx="2015640" cy="1284480"/>
            <a:chOff x="6111720" y="4379760"/>
            <a:chExt cx="2015640" cy="1284480"/>
          </a:xfrm>
        </p:grpSpPr>
        <p:grpSp>
          <p:nvGrpSpPr>
            <p:cNvPr id="956" name=""/>
            <p:cNvGrpSpPr/>
            <p:nvPr/>
          </p:nvGrpSpPr>
          <p:grpSpPr>
            <a:xfrm>
              <a:off x="6357960" y="4946760"/>
              <a:ext cx="231840" cy="191520"/>
              <a:chOff x="6357960" y="4946760"/>
              <a:chExt cx="231840" cy="191520"/>
            </a:xfrm>
          </p:grpSpPr>
          <p:grpSp>
            <p:nvGrpSpPr>
              <p:cNvPr id="957" name=""/>
              <p:cNvGrpSpPr/>
              <p:nvPr/>
            </p:nvGrpSpPr>
            <p:grpSpPr>
              <a:xfrm>
                <a:off x="6357960" y="4981320"/>
                <a:ext cx="231840" cy="156960"/>
                <a:chOff x="6357960" y="4981320"/>
                <a:chExt cx="231840" cy="1569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6357960" y="498132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V="1">
                  <a:off x="6360120" y="498348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357960" y="498348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1" name=""/>
              <p:cNvGrpSpPr/>
              <p:nvPr/>
            </p:nvGrpSpPr>
            <p:grpSpPr>
              <a:xfrm>
                <a:off x="6435720" y="4946760"/>
                <a:ext cx="74520" cy="28080"/>
                <a:chOff x="6435720" y="4946760"/>
                <a:chExt cx="74520" cy="2808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6435720" y="49467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483240" y="49482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4" name=""/>
            <p:cNvSpPr/>
            <p:nvPr/>
          </p:nvSpPr>
          <p:spPr>
            <a:xfrm>
              <a:off x="6629760" y="4989600"/>
              <a:ext cx="1476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 with Pzfaust    GE-4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59680" y="5056200"/>
              <a:ext cx="14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630840" y="46260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6359400" y="4697280"/>
              <a:ext cx="238320" cy="195480"/>
              <a:chOff x="6359400" y="4697280"/>
              <a:chExt cx="238320" cy="195480"/>
            </a:xfrm>
          </p:grpSpPr>
          <p:sp>
            <p:nvSpPr>
              <p:cNvPr id="968" name=""/>
              <p:cNvSpPr/>
              <p:nvPr/>
            </p:nvSpPr>
            <p:spPr>
              <a:xfrm>
                <a:off x="6359400" y="4734000"/>
                <a:ext cx="238320" cy="158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464160" y="46972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6629040" y="4761000"/>
              <a:ext cx="1488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             GE-4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259680" y="4803840"/>
              <a:ext cx="14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64360" y="4589640"/>
              <a:ext cx="0" cy="10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259680" y="5586480"/>
              <a:ext cx="185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631560" y="5518080"/>
              <a:ext cx="1495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 Machine Gun       GE-4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6367320" y="5462640"/>
              <a:ext cx="236520" cy="201600"/>
              <a:chOff x="6367320" y="5462640"/>
              <a:chExt cx="236520" cy="201600"/>
            </a:xfrm>
          </p:grpSpPr>
          <p:grpSp>
            <p:nvGrpSpPr>
              <p:cNvPr id="976" name=""/>
              <p:cNvGrpSpPr/>
              <p:nvPr/>
            </p:nvGrpSpPr>
            <p:grpSpPr>
              <a:xfrm>
                <a:off x="6445080" y="5462640"/>
                <a:ext cx="74520" cy="28800"/>
                <a:chOff x="6445080" y="5462640"/>
                <a:chExt cx="74520" cy="2880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6445080" y="54626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492600" y="54644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6367320" y="5499360"/>
                <a:ext cx="236520" cy="164880"/>
                <a:chOff x="6367320" y="5499360"/>
                <a:chExt cx="236520" cy="16488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6367320" y="550404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367320" y="551016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V="1">
                  <a:off x="6373800" y="5499360"/>
                  <a:ext cx="230040" cy="142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6384960" y="5527800"/>
                  <a:ext cx="218880" cy="136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4" name=""/>
            <p:cNvSpPr/>
            <p:nvPr/>
          </p:nvSpPr>
          <p:spPr>
            <a:xfrm>
              <a:off x="6264360" y="43797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6111720" y="4429080"/>
              <a:ext cx="284400" cy="193680"/>
              <a:chOff x="6111720" y="4429080"/>
              <a:chExt cx="284400" cy="193680"/>
            </a:xfrm>
          </p:grpSpPr>
          <p:sp>
            <p:nvSpPr>
              <p:cNvPr id="986" name=""/>
              <p:cNvSpPr/>
              <p:nvPr/>
            </p:nvSpPr>
            <p:spPr>
              <a:xfrm>
                <a:off x="6111720" y="4429080"/>
                <a:ext cx="284400" cy="193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6114600" y="4431960"/>
                <a:ext cx="276840" cy="18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111720" y="4431960"/>
                <a:ext cx="282960" cy="18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6357960" y="5187960"/>
              <a:ext cx="231840" cy="192240"/>
              <a:chOff x="6357960" y="5187960"/>
              <a:chExt cx="231840" cy="192240"/>
            </a:xfrm>
          </p:grpSpPr>
          <p:grpSp>
            <p:nvGrpSpPr>
              <p:cNvPr id="990" name=""/>
              <p:cNvGrpSpPr/>
              <p:nvPr/>
            </p:nvGrpSpPr>
            <p:grpSpPr>
              <a:xfrm>
                <a:off x="6357960" y="5222880"/>
                <a:ext cx="231840" cy="157320"/>
                <a:chOff x="6357960" y="5222880"/>
                <a:chExt cx="231840" cy="15732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6357960" y="5222880"/>
                  <a:ext cx="23184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V="1">
                  <a:off x="6360120" y="5224680"/>
                  <a:ext cx="225720" cy="153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357960" y="522504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6435720" y="5187960"/>
                <a:ext cx="74520" cy="28800"/>
                <a:chOff x="6435720" y="5187960"/>
                <a:chExt cx="74520" cy="2880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6435720" y="51879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483240" y="5189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7" name=""/>
            <p:cNvSpPr/>
            <p:nvPr/>
          </p:nvSpPr>
          <p:spPr>
            <a:xfrm>
              <a:off x="6632640" y="5259240"/>
              <a:ext cx="148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machinegunners    GE-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259680" y="5297400"/>
              <a:ext cx="14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250920" y="952920"/>
            <a:ext cx="2485800" cy="2495520"/>
            <a:chOff x="250920" y="952920"/>
            <a:chExt cx="2485800" cy="2495520"/>
          </a:xfrm>
        </p:grpSpPr>
        <p:sp>
          <p:nvSpPr>
            <p:cNvPr id="1000" name=""/>
            <p:cNvSpPr/>
            <p:nvPr/>
          </p:nvSpPr>
          <p:spPr>
            <a:xfrm>
              <a:off x="250920" y="952920"/>
              <a:ext cx="24858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Maneuver Element-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nzergrenadier Company (Mtz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250920" y="1331640"/>
              <a:ext cx="2072160" cy="2116800"/>
              <a:chOff x="250920" y="1331640"/>
              <a:chExt cx="2072160" cy="2116800"/>
            </a:xfrm>
          </p:grpSpPr>
          <p:sp>
            <p:nvSpPr>
              <p:cNvPr id="1002" name=""/>
              <p:cNvSpPr/>
              <p:nvPr/>
            </p:nvSpPr>
            <p:spPr>
              <a:xfrm>
                <a:off x="401760" y="1478880"/>
                <a:ext cx="0" cy="163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42880" y="2210760"/>
                <a:ext cx="0" cy="113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92040" y="2474280"/>
                <a:ext cx="18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01760" y="2763360"/>
                <a:ext cx="18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6" name=""/>
              <p:cNvGrpSpPr/>
              <p:nvPr/>
            </p:nvGrpSpPr>
            <p:grpSpPr>
              <a:xfrm>
                <a:off x="531720" y="2936160"/>
                <a:ext cx="239760" cy="195120"/>
                <a:chOff x="531720" y="2936160"/>
                <a:chExt cx="239760" cy="195120"/>
              </a:xfrm>
            </p:grpSpPr>
            <p:grpSp>
              <p:nvGrpSpPr>
                <p:cNvPr id="1007" name=""/>
                <p:cNvGrpSpPr/>
                <p:nvPr/>
              </p:nvGrpSpPr>
              <p:grpSpPr>
                <a:xfrm>
                  <a:off x="531720" y="2974320"/>
                  <a:ext cx="239760" cy="156960"/>
                  <a:chOff x="531720" y="2974320"/>
                  <a:chExt cx="239760" cy="156960"/>
                </a:xfrm>
              </p:grpSpPr>
              <p:sp>
                <p:nvSpPr>
                  <p:cNvPr id="1008" name=""/>
                  <p:cNvSpPr/>
                  <p:nvPr/>
                </p:nvSpPr>
                <p:spPr>
                  <a:xfrm>
                    <a:off x="531720" y="2974320"/>
                    <a:ext cx="23976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V="1">
                    <a:off x="615960" y="3089520"/>
                    <a:ext cx="633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647640" y="3005640"/>
                    <a:ext cx="0" cy="838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1" name=""/>
                <p:cNvGrpSpPr/>
                <p:nvPr/>
              </p:nvGrpSpPr>
              <p:grpSpPr>
                <a:xfrm>
                  <a:off x="606600" y="2936160"/>
                  <a:ext cx="74520" cy="28080"/>
                  <a:chOff x="606600" y="2936160"/>
                  <a:chExt cx="74520" cy="28080"/>
                </a:xfrm>
              </p:grpSpPr>
              <p:sp>
                <p:nvSpPr>
                  <p:cNvPr id="1012" name=""/>
                  <p:cNvSpPr/>
                  <p:nvPr/>
                </p:nvSpPr>
                <p:spPr>
                  <a:xfrm>
                    <a:off x="606600" y="29361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654120" y="29376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14" name=""/>
              <p:cNvSpPr/>
              <p:nvPr/>
            </p:nvSpPr>
            <p:spPr>
              <a:xfrm>
                <a:off x="833760" y="2991960"/>
                <a:ext cx="1448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0mm Mortar              GE-5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37000" y="2863080"/>
                <a:ext cx="947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6" name=""/>
              <p:cNvGrpSpPr/>
              <p:nvPr/>
            </p:nvGrpSpPr>
            <p:grpSpPr>
              <a:xfrm>
                <a:off x="528480" y="3225240"/>
                <a:ext cx="231840" cy="223200"/>
                <a:chOff x="528480" y="3225240"/>
                <a:chExt cx="231840" cy="223200"/>
              </a:xfrm>
            </p:grpSpPr>
            <p:grpSp>
              <p:nvGrpSpPr>
                <p:cNvPr id="1017" name=""/>
                <p:cNvGrpSpPr/>
                <p:nvPr/>
              </p:nvGrpSpPr>
              <p:grpSpPr>
                <a:xfrm>
                  <a:off x="528480" y="3258360"/>
                  <a:ext cx="231840" cy="190080"/>
                  <a:chOff x="528480" y="3258360"/>
                  <a:chExt cx="231840" cy="19008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528480" y="325836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538920" y="342108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720720" y="342108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1" name=""/>
                <p:cNvGrpSpPr/>
                <p:nvPr/>
              </p:nvGrpSpPr>
              <p:grpSpPr>
                <a:xfrm>
                  <a:off x="608040" y="3225240"/>
                  <a:ext cx="74520" cy="28080"/>
                  <a:chOff x="608040" y="3225240"/>
                  <a:chExt cx="74520" cy="2808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608040" y="32252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655560" y="32266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24" name=""/>
              <p:cNvSpPr/>
              <p:nvPr/>
            </p:nvSpPr>
            <p:spPr>
              <a:xfrm>
                <a:off x="836640" y="3152160"/>
                <a:ext cx="436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34480" y="3280680"/>
                <a:ext cx="1442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ht Truck (a)            GE-3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"/>
              <p:cNvGrpSpPr/>
              <p:nvPr/>
            </p:nvGrpSpPr>
            <p:grpSpPr>
              <a:xfrm>
                <a:off x="504720" y="2110680"/>
                <a:ext cx="231840" cy="191520"/>
                <a:chOff x="504720" y="2110680"/>
                <a:chExt cx="231840" cy="191520"/>
              </a:xfrm>
            </p:grpSpPr>
            <p:grpSp>
              <p:nvGrpSpPr>
                <p:cNvPr id="1027" name=""/>
                <p:cNvGrpSpPr/>
                <p:nvPr/>
              </p:nvGrpSpPr>
              <p:grpSpPr>
                <a:xfrm>
                  <a:off x="504720" y="2145240"/>
                  <a:ext cx="231840" cy="156960"/>
                  <a:chOff x="504720" y="2145240"/>
                  <a:chExt cx="231840" cy="15696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504720" y="214524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 flipV="1">
                    <a:off x="506880" y="214740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504720" y="214740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1" name=""/>
                <p:cNvGrpSpPr/>
                <p:nvPr/>
              </p:nvGrpSpPr>
              <p:grpSpPr>
                <a:xfrm>
                  <a:off x="582480" y="2110680"/>
                  <a:ext cx="74520" cy="28080"/>
                  <a:chOff x="582480" y="2110680"/>
                  <a:chExt cx="74520" cy="2808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582480" y="21106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630000" y="21121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34" name=""/>
              <p:cNvSpPr/>
              <p:nvPr/>
            </p:nvSpPr>
            <p:spPr>
              <a:xfrm>
                <a:off x="834120" y="2153520"/>
                <a:ext cx="1451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fantry  (b)                 GE-4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37000" y="2714040"/>
                <a:ext cx="1448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eavy Machine Gun   GE-5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03200" y="3118680"/>
                <a:ext cx="18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06440" y="222012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8" name=""/>
              <p:cNvGrpSpPr/>
              <p:nvPr/>
            </p:nvGrpSpPr>
            <p:grpSpPr>
              <a:xfrm>
                <a:off x="504720" y="1828080"/>
                <a:ext cx="231840" cy="227520"/>
                <a:chOff x="504720" y="1828080"/>
                <a:chExt cx="231840" cy="227520"/>
              </a:xfrm>
            </p:grpSpPr>
            <p:grpSp>
              <p:nvGrpSpPr>
                <p:cNvPr id="1039" name=""/>
                <p:cNvGrpSpPr/>
                <p:nvPr/>
              </p:nvGrpSpPr>
              <p:grpSpPr>
                <a:xfrm>
                  <a:off x="504720" y="1865880"/>
                  <a:ext cx="231840" cy="189720"/>
                  <a:chOff x="504720" y="1865880"/>
                  <a:chExt cx="231840" cy="18972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504720" y="1865880"/>
                    <a:ext cx="231840" cy="156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515160" y="202824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96960" y="202824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3" name=""/>
                <p:cNvSpPr/>
                <p:nvPr/>
              </p:nvSpPr>
              <p:spPr>
                <a:xfrm>
                  <a:off x="606600" y="18280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4" name=""/>
              <p:cNvSpPr/>
              <p:nvPr/>
            </p:nvSpPr>
            <p:spPr>
              <a:xfrm>
                <a:off x="836640" y="1794960"/>
                <a:ext cx="436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6280" y="1913760"/>
                <a:ext cx="1459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ubelwagen                GE-3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6640" y="1477440"/>
                <a:ext cx="47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7" name=""/>
              <p:cNvGrpSpPr/>
              <p:nvPr/>
            </p:nvGrpSpPr>
            <p:grpSpPr>
              <a:xfrm>
                <a:off x="501480" y="1548720"/>
                <a:ext cx="238320" cy="194400"/>
                <a:chOff x="501480" y="1548720"/>
                <a:chExt cx="238320" cy="1944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01480" y="1585080"/>
                  <a:ext cx="238320" cy="158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06240" y="15487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>
                <a:off x="834840" y="1612080"/>
                <a:ext cx="1488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             GE-4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01760" y="1655280"/>
                <a:ext cx="14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47560" y="1725120"/>
                <a:ext cx="0" cy="1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250920" y="1331640"/>
                <a:ext cx="291960" cy="243720"/>
                <a:chOff x="250920" y="1331640"/>
                <a:chExt cx="291960" cy="243720"/>
              </a:xfrm>
            </p:grpSpPr>
            <p:grpSp>
              <p:nvGrpSpPr>
                <p:cNvPr id="1054" name=""/>
                <p:cNvGrpSpPr/>
                <p:nvPr/>
              </p:nvGrpSpPr>
              <p:grpSpPr>
                <a:xfrm>
                  <a:off x="250920" y="1384920"/>
                  <a:ext cx="291960" cy="190440"/>
                  <a:chOff x="250920" y="1384920"/>
                  <a:chExt cx="291960" cy="1904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252360" y="1385280"/>
                    <a:ext cx="29016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295560" y="1432440"/>
                    <a:ext cx="204840" cy="9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flipV="1">
                    <a:off x="252360" y="1384920"/>
                    <a:ext cx="287280" cy="188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50920" y="1385280"/>
                    <a:ext cx="291960" cy="185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9" name=""/>
                <p:cNvSpPr/>
                <p:nvPr/>
              </p:nvSpPr>
              <p:spPr>
                <a:xfrm>
                  <a:off x="396720" y="133164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509760" y="2639520"/>
                <a:ext cx="236520" cy="200880"/>
                <a:chOff x="509760" y="2639520"/>
                <a:chExt cx="236520" cy="200880"/>
              </a:xfrm>
            </p:grpSpPr>
            <p:grpSp>
              <p:nvGrpSpPr>
                <p:cNvPr id="1061" name=""/>
                <p:cNvGrpSpPr/>
                <p:nvPr/>
              </p:nvGrpSpPr>
              <p:grpSpPr>
                <a:xfrm>
                  <a:off x="590400" y="2639520"/>
                  <a:ext cx="74880" cy="26640"/>
                  <a:chOff x="590400" y="2639520"/>
                  <a:chExt cx="74880" cy="26640"/>
                </a:xfrm>
              </p:grpSpPr>
              <p:sp>
                <p:nvSpPr>
                  <p:cNvPr id="1062" name=""/>
                  <p:cNvSpPr/>
                  <p:nvPr/>
                </p:nvSpPr>
                <p:spPr>
                  <a:xfrm>
                    <a:off x="590400" y="2639520"/>
                    <a:ext cx="288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638280" y="26395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4" name=""/>
                <p:cNvGrpSpPr/>
                <p:nvPr/>
              </p:nvGrpSpPr>
              <p:grpSpPr>
                <a:xfrm>
                  <a:off x="509760" y="2683800"/>
                  <a:ext cx="236520" cy="156600"/>
                  <a:chOff x="509760" y="2683800"/>
                  <a:chExt cx="236520" cy="156600"/>
                </a:xfrm>
              </p:grpSpPr>
              <p:sp>
                <p:nvSpPr>
                  <p:cNvPr id="1065" name=""/>
                  <p:cNvSpPr/>
                  <p:nvPr/>
                </p:nvSpPr>
                <p:spPr>
                  <a:xfrm>
                    <a:off x="509760" y="2683800"/>
                    <a:ext cx="231480" cy="156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509760" y="2684880"/>
                    <a:ext cx="56880" cy="15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flipV="1">
                    <a:off x="515880" y="2689560"/>
                    <a:ext cx="230400" cy="142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520560" y="2692800"/>
                    <a:ext cx="219240" cy="136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69" name=""/>
              <p:cNvSpPr/>
              <p:nvPr/>
            </p:nvSpPr>
            <p:spPr>
              <a:xfrm>
                <a:off x="837360" y="2432880"/>
                <a:ext cx="1467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ht Machine Gun      GE-4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0" name=""/>
              <p:cNvGrpSpPr/>
              <p:nvPr/>
            </p:nvGrpSpPr>
            <p:grpSpPr>
              <a:xfrm>
                <a:off x="515880" y="2353680"/>
                <a:ext cx="236520" cy="200880"/>
                <a:chOff x="515880" y="2353680"/>
                <a:chExt cx="236520" cy="200880"/>
              </a:xfrm>
            </p:grpSpPr>
            <p:grpSp>
              <p:nvGrpSpPr>
                <p:cNvPr id="1071" name=""/>
                <p:cNvGrpSpPr/>
                <p:nvPr/>
              </p:nvGrpSpPr>
              <p:grpSpPr>
                <a:xfrm>
                  <a:off x="596520" y="2353680"/>
                  <a:ext cx="74880" cy="26640"/>
                  <a:chOff x="596520" y="2353680"/>
                  <a:chExt cx="74880" cy="2664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596520" y="2353680"/>
                    <a:ext cx="288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644400" y="23536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4" name=""/>
                <p:cNvGrpSpPr/>
                <p:nvPr/>
              </p:nvGrpSpPr>
              <p:grpSpPr>
                <a:xfrm>
                  <a:off x="515880" y="2397960"/>
                  <a:ext cx="236520" cy="156600"/>
                  <a:chOff x="515880" y="2397960"/>
                  <a:chExt cx="236520" cy="15660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>
                    <a:off x="515880" y="2397960"/>
                    <a:ext cx="231480" cy="156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515880" y="2399040"/>
                    <a:ext cx="56880" cy="15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V="1">
                    <a:off x="522000" y="2403720"/>
                    <a:ext cx="230400" cy="142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526680" y="2406960"/>
                    <a:ext cx="219240" cy="136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79" name=""/>
          <p:cNvSpPr/>
          <p:nvPr/>
        </p:nvSpPr>
        <p:spPr>
          <a:xfrm>
            <a:off x="250920" y="3573360"/>
            <a:ext cx="23493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substitute groups of 3 light trucks with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um Truck GE-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rly '44, may arm up to ½ of infantry with Pzfaust. Late '44 ½ or more with Pzfau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316320" y="4030560"/>
            <a:ext cx="23493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d '44, replace the halftracks transporting the commander and HMG with SdKfz 251/17 20mm AA halfgrack. Allow it to transport 1 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rly '44, may arm up to ½ of infantry with Pzfaust. Late '44 ½ or more with Pzfau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103800" y="2235240"/>
            <a:ext cx="23497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replace 1-3 infantry with LMG GE-49 to reflect personnel short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rly '44, may arm up to ½ of infantry with Pzfaust. Late '44 ½ or more with Pzfau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ME-12-&gt;ME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239760" y="2743920"/>
            <a:ext cx="2373480" cy="215640"/>
            <a:chOff x="239760" y="2743920"/>
            <a:chExt cx="2373480" cy="215640"/>
          </a:xfrm>
        </p:grpSpPr>
        <p:sp>
          <p:nvSpPr>
            <p:cNvPr id="1084" name=""/>
            <p:cNvSpPr/>
            <p:nvPr/>
          </p:nvSpPr>
          <p:spPr>
            <a:xfrm>
              <a:off x="239760" y="2858760"/>
              <a:ext cx="14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366480" y="2744640"/>
              <a:ext cx="239760" cy="212760"/>
              <a:chOff x="366480" y="2744640"/>
              <a:chExt cx="239760" cy="21276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366480" y="2798640"/>
                <a:ext cx="239760" cy="158760"/>
                <a:chOff x="366480" y="2798640"/>
                <a:chExt cx="239760" cy="15876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366480" y="280008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98160" y="2838240"/>
                  <a:ext cx="171720" cy="7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25160" y="2874960"/>
                  <a:ext cx="119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V="1">
                  <a:off x="366480" y="2799720"/>
                  <a:ext cx="11592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82400" y="2798640"/>
                  <a:ext cx="12384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448920" y="2744640"/>
                <a:ext cx="74520" cy="28080"/>
                <a:chOff x="448920" y="2744640"/>
                <a:chExt cx="74520" cy="2808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48920" y="27446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96440" y="27460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5" name=""/>
            <p:cNvSpPr/>
            <p:nvPr/>
          </p:nvSpPr>
          <p:spPr>
            <a:xfrm>
              <a:off x="632520" y="2743920"/>
              <a:ext cx="198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belwagen FlakPanzer IV    GE-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241200" y="1598760"/>
            <a:ext cx="2514960" cy="825840"/>
            <a:chOff x="241200" y="1598760"/>
            <a:chExt cx="2514960" cy="825840"/>
          </a:xfrm>
        </p:grpSpPr>
        <p:sp>
          <p:nvSpPr>
            <p:cNvPr id="1097" name=""/>
            <p:cNvSpPr/>
            <p:nvPr/>
          </p:nvSpPr>
          <p:spPr>
            <a:xfrm>
              <a:off x="797040" y="1772640"/>
              <a:ext cx="65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382680" y="1942560"/>
              <a:ext cx="2373480" cy="215640"/>
              <a:chOff x="382680" y="1942560"/>
              <a:chExt cx="2373480" cy="215640"/>
            </a:xfrm>
          </p:grpSpPr>
          <p:sp>
            <p:nvSpPr>
              <p:cNvPr id="1099" name=""/>
              <p:cNvSpPr/>
              <p:nvPr/>
            </p:nvSpPr>
            <p:spPr>
              <a:xfrm>
                <a:off x="382680" y="2057400"/>
                <a:ext cx="14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0" name=""/>
              <p:cNvGrpSpPr/>
              <p:nvPr/>
            </p:nvGrpSpPr>
            <p:grpSpPr>
              <a:xfrm>
                <a:off x="509400" y="1943280"/>
                <a:ext cx="239760" cy="212760"/>
                <a:chOff x="509400" y="1943280"/>
                <a:chExt cx="239760" cy="212760"/>
              </a:xfrm>
            </p:grpSpPr>
            <p:grpSp>
              <p:nvGrpSpPr>
                <p:cNvPr id="1101" name=""/>
                <p:cNvGrpSpPr/>
                <p:nvPr/>
              </p:nvGrpSpPr>
              <p:grpSpPr>
                <a:xfrm>
                  <a:off x="509400" y="1997280"/>
                  <a:ext cx="239760" cy="158760"/>
                  <a:chOff x="509400" y="1997280"/>
                  <a:chExt cx="239760" cy="158760"/>
                </a:xfrm>
              </p:grpSpPr>
              <p:sp>
                <p:nvSpPr>
                  <p:cNvPr id="1102" name=""/>
                  <p:cNvSpPr/>
                  <p:nvPr/>
                </p:nvSpPr>
                <p:spPr>
                  <a:xfrm>
                    <a:off x="509400" y="1998720"/>
                    <a:ext cx="23976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541080" y="2036880"/>
                    <a:ext cx="17172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568080" y="2073600"/>
                    <a:ext cx="11916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 flipV="1">
                    <a:off x="509400" y="1998360"/>
                    <a:ext cx="115920" cy="155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625320" y="1997280"/>
                    <a:ext cx="123840" cy="15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7" name=""/>
                <p:cNvGrpSpPr/>
                <p:nvPr/>
              </p:nvGrpSpPr>
              <p:grpSpPr>
                <a:xfrm>
                  <a:off x="591840" y="1943280"/>
                  <a:ext cx="74520" cy="28080"/>
                  <a:chOff x="591840" y="1943280"/>
                  <a:chExt cx="74520" cy="28080"/>
                </a:xfrm>
              </p:grpSpPr>
              <p:sp>
                <p:nvSpPr>
                  <p:cNvPr id="1108" name=""/>
                  <p:cNvSpPr/>
                  <p:nvPr/>
                </p:nvSpPr>
                <p:spPr>
                  <a:xfrm>
                    <a:off x="591840" y="19432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639360" y="19447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10" name=""/>
              <p:cNvSpPr/>
              <p:nvPr/>
            </p:nvSpPr>
            <p:spPr>
              <a:xfrm>
                <a:off x="775440" y="1942560"/>
                <a:ext cx="198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obelwagen FlakPanzer IV    GE-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382680" y="2208960"/>
              <a:ext cx="2373480" cy="215640"/>
              <a:chOff x="382680" y="2208960"/>
              <a:chExt cx="2373480" cy="215640"/>
            </a:xfrm>
          </p:grpSpPr>
          <p:sp>
            <p:nvSpPr>
              <p:cNvPr id="1112" name=""/>
              <p:cNvSpPr/>
              <p:nvPr/>
            </p:nvSpPr>
            <p:spPr>
              <a:xfrm>
                <a:off x="382680" y="2323800"/>
                <a:ext cx="14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09400" y="2209680"/>
                <a:ext cx="239760" cy="212760"/>
                <a:chOff x="509400" y="2209680"/>
                <a:chExt cx="239760" cy="212760"/>
              </a:xfrm>
            </p:grpSpPr>
            <p:grpSp>
              <p:nvGrpSpPr>
                <p:cNvPr id="1114" name=""/>
                <p:cNvGrpSpPr/>
                <p:nvPr/>
              </p:nvGrpSpPr>
              <p:grpSpPr>
                <a:xfrm>
                  <a:off x="509400" y="2263680"/>
                  <a:ext cx="239760" cy="158760"/>
                  <a:chOff x="509400" y="2263680"/>
                  <a:chExt cx="239760" cy="158760"/>
                </a:xfrm>
              </p:grpSpPr>
              <p:sp>
                <p:nvSpPr>
                  <p:cNvPr id="1115" name=""/>
                  <p:cNvSpPr/>
                  <p:nvPr/>
                </p:nvSpPr>
                <p:spPr>
                  <a:xfrm>
                    <a:off x="509400" y="2265120"/>
                    <a:ext cx="23976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541080" y="2303280"/>
                    <a:ext cx="17172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568080" y="2340000"/>
                    <a:ext cx="11916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V="1">
                    <a:off x="509400" y="2264760"/>
                    <a:ext cx="115920" cy="155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625320" y="2263680"/>
                    <a:ext cx="123840" cy="15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0" name=""/>
                <p:cNvGrpSpPr/>
                <p:nvPr/>
              </p:nvGrpSpPr>
              <p:grpSpPr>
                <a:xfrm>
                  <a:off x="591840" y="2209680"/>
                  <a:ext cx="74520" cy="28080"/>
                  <a:chOff x="591840" y="2209680"/>
                  <a:chExt cx="74520" cy="28080"/>
                </a:xfrm>
              </p:grpSpPr>
              <p:sp>
                <p:nvSpPr>
                  <p:cNvPr id="1121" name=""/>
                  <p:cNvSpPr/>
                  <p:nvPr/>
                </p:nvSpPr>
                <p:spPr>
                  <a:xfrm>
                    <a:off x="591840" y="22096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639360" y="22111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23" name=""/>
              <p:cNvSpPr/>
              <p:nvPr/>
            </p:nvSpPr>
            <p:spPr>
              <a:xfrm>
                <a:off x="775440" y="2208960"/>
                <a:ext cx="198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obelwagen FlakPanzer IV    GE-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241200" y="1598760"/>
              <a:ext cx="291960" cy="741240"/>
              <a:chOff x="241200" y="1598760"/>
              <a:chExt cx="291960" cy="741240"/>
            </a:xfrm>
          </p:grpSpPr>
          <p:grpSp>
            <p:nvGrpSpPr>
              <p:cNvPr id="1125" name=""/>
              <p:cNvGrpSpPr/>
              <p:nvPr/>
            </p:nvGrpSpPr>
            <p:grpSpPr>
              <a:xfrm>
                <a:off x="241200" y="1598760"/>
                <a:ext cx="291960" cy="240480"/>
                <a:chOff x="241200" y="1598760"/>
                <a:chExt cx="291960" cy="240480"/>
              </a:xfrm>
            </p:grpSpPr>
            <p:grpSp>
              <p:nvGrpSpPr>
                <p:cNvPr id="1126" name=""/>
                <p:cNvGrpSpPr/>
                <p:nvPr/>
              </p:nvGrpSpPr>
              <p:grpSpPr>
                <a:xfrm>
                  <a:off x="241200" y="1646280"/>
                  <a:ext cx="291960" cy="192960"/>
                  <a:chOff x="241200" y="1646280"/>
                  <a:chExt cx="291960" cy="1929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241200" y="1647720"/>
                    <a:ext cx="291960" cy="1915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79720" y="1694520"/>
                    <a:ext cx="209160" cy="91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12480" y="1739160"/>
                    <a:ext cx="1450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 flipV="1">
                    <a:off x="241200" y="1647720"/>
                    <a:ext cx="141120" cy="190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382320" y="1646280"/>
                    <a:ext cx="15084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2" name=""/>
                <p:cNvGrpSpPr/>
                <p:nvPr/>
              </p:nvGrpSpPr>
              <p:grpSpPr>
                <a:xfrm>
                  <a:off x="320760" y="1598760"/>
                  <a:ext cx="131760" cy="27000"/>
                  <a:chOff x="320760" y="1598760"/>
                  <a:chExt cx="131760" cy="2700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>
                    <a:off x="320760" y="15987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371520" y="15987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25520" y="15987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6" name=""/>
              <p:cNvSpPr/>
              <p:nvPr/>
            </p:nvSpPr>
            <p:spPr>
              <a:xfrm>
                <a:off x="382680" y="1839960"/>
                <a:ext cx="0" cy="500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7" name=""/>
          <p:cNvSpPr/>
          <p:nvPr/>
        </p:nvSpPr>
        <p:spPr>
          <a:xfrm>
            <a:off x="240840" y="251244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30320" y="1110960"/>
            <a:ext cx="2485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akpanzer Plato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50640" y="478260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39760" y="3381120"/>
            <a:ext cx="2485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ht Flak Platoon (S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341280" y="3868560"/>
            <a:ext cx="2619720" cy="870120"/>
            <a:chOff x="341280" y="3868560"/>
            <a:chExt cx="2619720" cy="870120"/>
          </a:xfrm>
        </p:grpSpPr>
        <p:sp>
          <p:nvSpPr>
            <p:cNvPr id="1142" name=""/>
            <p:cNvSpPr/>
            <p:nvPr/>
          </p:nvSpPr>
          <p:spPr>
            <a:xfrm>
              <a:off x="906840" y="4042800"/>
              <a:ext cx="65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492120" y="4212720"/>
              <a:ext cx="2464200" cy="235440"/>
              <a:chOff x="492120" y="4212720"/>
              <a:chExt cx="2464200" cy="235440"/>
            </a:xfrm>
          </p:grpSpPr>
          <p:sp>
            <p:nvSpPr>
              <p:cNvPr id="1144" name=""/>
              <p:cNvSpPr/>
              <p:nvPr/>
            </p:nvSpPr>
            <p:spPr>
              <a:xfrm>
                <a:off x="492120" y="432756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5" name=""/>
              <p:cNvGrpSpPr/>
              <p:nvPr/>
            </p:nvGrpSpPr>
            <p:grpSpPr>
              <a:xfrm>
                <a:off x="606600" y="4213080"/>
                <a:ext cx="239400" cy="235080"/>
                <a:chOff x="606600" y="4213080"/>
                <a:chExt cx="239400" cy="235080"/>
              </a:xfrm>
            </p:grpSpPr>
            <p:grpSp>
              <p:nvGrpSpPr>
                <p:cNvPr id="1146" name=""/>
                <p:cNvGrpSpPr/>
                <p:nvPr/>
              </p:nvGrpSpPr>
              <p:grpSpPr>
                <a:xfrm>
                  <a:off x="606600" y="4257720"/>
                  <a:ext cx="239400" cy="190440"/>
                  <a:chOff x="606600" y="4257720"/>
                  <a:chExt cx="239400" cy="190440"/>
                </a:xfrm>
              </p:grpSpPr>
              <p:grpSp>
                <p:nvGrpSpPr>
                  <p:cNvPr id="1147" name=""/>
                  <p:cNvGrpSpPr/>
                  <p:nvPr/>
                </p:nvGrpSpPr>
                <p:grpSpPr>
                  <a:xfrm>
                    <a:off x="606600" y="4257720"/>
                    <a:ext cx="239400" cy="158760"/>
                    <a:chOff x="606600" y="4257720"/>
                    <a:chExt cx="239400" cy="158760"/>
                  </a:xfrm>
                </p:grpSpPr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606600" y="4259520"/>
                      <a:ext cx="23940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664920" y="4334040"/>
                      <a:ext cx="11880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 flipV="1">
                      <a:off x="606600" y="4259520"/>
                      <a:ext cx="11556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722160" y="4257720"/>
                      <a:ext cx="12348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52" name=""/>
                  <p:cNvSpPr/>
                  <p:nvPr/>
                </p:nvSpPr>
                <p:spPr>
                  <a:xfrm>
                    <a:off x="614160" y="44211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26840" y="441936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803160" y="441936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747360" y="4419360"/>
                    <a:ext cx="6156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6" name=""/>
                <p:cNvGrpSpPr/>
                <p:nvPr/>
              </p:nvGrpSpPr>
              <p:grpSpPr>
                <a:xfrm>
                  <a:off x="701640" y="4213080"/>
                  <a:ext cx="74520" cy="28800"/>
                  <a:chOff x="701640" y="4213080"/>
                  <a:chExt cx="74520" cy="2880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701640" y="42130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49160" y="42148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59" name=""/>
              <p:cNvSpPr/>
              <p:nvPr/>
            </p:nvSpPr>
            <p:spPr>
              <a:xfrm>
                <a:off x="882720" y="4212720"/>
                <a:ext cx="207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dKfz 10/4 20mm Flak H-Track GE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0" name=""/>
            <p:cNvSpPr/>
            <p:nvPr/>
          </p:nvSpPr>
          <p:spPr>
            <a:xfrm>
              <a:off x="492120" y="4110120"/>
              <a:ext cx="0" cy="50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341280" y="3868560"/>
              <a:ext cx="291600" cy="241200"/>
              <a:chOff x="341280" y="3868560"/>
              <a:chExt cx="291600" cy="24120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430200" y="3868560"/>
                <a:ext cx="131760" cy="27000"/>
                <a:chOff x="430200" y="3868560"/>
                <a:chExt cx="131760" cy="2700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430200" y="38685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80960" y="38685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34960" y="38685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341280" y="3916440"/>
                <a:ext cx="291600" cy="193320"/>
                <a:chOff x="341280" y="3916440"/>
                <a:chExt cx="291600" cy="19332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341280" y="3918600"/>
                  <a:ext cx="291600" cy="191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12560" y="4009320"/>
                  <a:ext cx="144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41280" y="3918600"/>
                  <a:ext cx="14112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82400" y="3916440"/>
                  <a:ext cx="150480" cy="190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1" name=""/>
            <p:cNvGrpSpPr/>
            <p:nvPr/>
          </p:nvGrpSpPr>
          <p:grpSpPr>
            <a:xfrm>
              <a:off x="496800" y="4503240"/>
              <a:ext cx="2464200" cy="235440"/>
              <a:chOff x="496800" y="4503240"/>
              <a:chExt cx="2464200" cy="235440"/>
            </a:xfrm>
          </p:grpSpPr>
          <p:sp>
            <p:nvSpPr>
              <p:cNvPr id="1172" name=""/>
              <p:cNvSpPr/>
              <p:nvPr/>
            </p:nvSpPr>
            <p:spPr>
              <a:xfrm>
                <a:off x="496800" y="461808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3" name=""/>
              <p:cNvGrpSpPr/>
              <p:nvPr/>
            </p:nvGrpSpPr>
            <p:grpSpPr>
              <a:xfrm>
                <a:off x="611280" y="4503600"/>
                <a:ext cx="239400" cy="235080"/>
                <a:chOff x="611280" y="4503600"/>
                <a:chExt cx="239400" cy="235080"/>
              </a:xfrm>
            </p:grpSpPr>
            <p:grpSp>
              <p:nvGrpSpPr>
                <p:cNvPr id="1174" name=""/>
                <p:cNvGrpSpPr/>
                <p:nvPr/>
              </p:nvGrpSpPr>
              <p:grpSpPr>
                <a:xfrm>
                  <a:off x="611280" y="4548240"/>
                  <a:ext cx="239400" cy="190440"/>
                  <a:chOff x="611280" y="4548240"/>
                  <a:chExt cx="239400" cy="190440"/>
                </a:xfrm>
              </p:grpSpPr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611280" y="4548240"/>
                    <a:ext cx="239400" cy="158760"/>
                    <a:chOff x="611280" y="4548240"/>
                    <a:chExt cx="239400" cy="15876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611280" y="4550040"/>
                      <a:ext cx="23940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>
                      <a:off x="669600" y="4624560"/>
                      <a:ext cx="11880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 flipV="1">
                      <a:off x="611280" y="4550040"/>
                      <a:ext cx="11556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>
                      <a:off x="726840" y="4548240"/>
                      <a:ext cx="12348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80" name=""/>
                  <p:cNvSpPr/>
                  <p:nvPr/>
                </p:nvSpPr>
                <p:spPr>
                  <a:xfrm>
                    <a:off x="618840" y="47116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731520" y="470988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807840" y="470988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752040" y="4709880"/>
                    <a:ext cx="6156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4" name=""/>
                <p:cNvGrpSpPr/>
                <p:nvPr/>
              </p:nvGrpSpPr>
              <p:grpSpPr>
                <a:xfrm>
                  <a:off x="706320" y="4503600"/>
                  <a:ext cx="74520" cy="28800"/>
                  <a:chOff x="706320" y="4503600"/>
                  <a:chExt cx="74520" cy="2880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706320" y="45036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753840" y="45054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87" name=""/>
              <p:cNvSpPr/>
              <p:nvPr/>
            </p:nvSpPr>
            <p:spPr>
              <a:xfrm>
                <a:off x="887400" y="4503240"/>
                <a:ext cx="207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dKfz 10/4 20mm Flak H-Track GE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8" name=""/>
          <p:cNvGrpSpPr/>
          <p:nvPr/>
        </p:nvGrpSpPr>
        <p:grpSpPr>
          <a:xfrm>
            <a:off x="382680" y="4996800"/>
            <a:ext cx="2464200" cy="234720"/>
            <a:chOff x="382680" y="4996800"/>
            <a:chExt cx="2464200" cy="234720"/>
          </a:xfrm>
        </p:grpSpPr>
        <p:sp>
          <p:nvSpPr>
            <p:cNvPr id="1189" name=""/>
            <p:cNvSpPr/>
            <p:nvPr/>
          </p:nvSpPr>
          <p:spPr>
            <a:xfrm>
              <a:off x="382680" y="5111640"/>
              <a:ext cx="14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0" name=""/>
            <p:cNvGrpSpPr/>
            <p:nvPr/>
          </p:nvGrpSpPr>
          <p:grpSpPr>
            <a:xfrm>
              <a:off x="497160" y="4997520"/>
              <a:ext cx="239400" cy="234000"/>
              <a:chOff x="497160" y="4997520"/>
              <a:chExt cx="239400" cy="234000"/>
            </a:xfrm>
          </p:grpSpPr>
          <p:grpSp>
            <p:nvGrpSpPr>
              <p:cNvPr id="1191" name=""/>
              <p:cNvGrpSpPr/>
              <p:nvPr/>
            </p:nvGrpSpPr>
            <p:grpSpPr>
              <a:xfrm>
                <a:off x="497160" y="5041800"/>
                <a:ext cx="239400" cy="189720"/>
                <a:chOff x="497160" y="5041800"/>
                <a:chExt cx="239400" cy="189720"/>
              </a:xfrm>
            </p:grpSpPr>
            <p:grpSp>
              <p:nvGrpSpPr>
                <p:cNvPr id="1192" name=""/>
                <p:cNvGrpSpPr/>
                <p:nvPr/>
              </p:nvGrpSpPr>
              <p:grpSpPr>
                <a:xfrm>
                  <a:off x="497160" y="5041800"/>
                  <a:ext cx="239400" cy="158040"/>
                  <a:chOff x="497160" y="5041800"/>
                  <a:chExt cx="239400" cy="158040"/>
                </a:xfrm>
              </p:grpSpPr>
              <p:sp>
                <p:nvSpPr>
                  <p:cNvPr id="1193" name=""/>
                  <p:cNvSpPr/>
                  <p:nvPr/>
                </p:nvSpPr>
                <p:spPr>
                  <a:xfrm>
                    <a:off x="497160" y="5043240"/>
                    <a:ext cx="239400" cy="156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555480" y="5117760"/>
                    <a:ext cx="1188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flipV="1">
                    <a:off x="497160" y="5042880"/>
                    <a:ext cx="115560" cy="1551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612720" y="5041800"/>
                    <a:ext cx="123480" cy="15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7" name=""/>
                <p:cNvSpPr/>
                <p:nvPr/>
              </p:nvSpPr>
              <p:spPr>
                <a:xfrm>
                  <a:off x="504720" y="520488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617400" y="520308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693720" y="520308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637920" y="5203080"/>
                  <a:ext cx="61560" cy="266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592200" y="4997520"/>
                <a:ext cx="74520" cy="28080"/>
                <a:chOff x="592200" y="4997520"/>
                <a:chExt cx="74520" cy="2808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592200" y="49975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39720" y="49989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4" name=""/>
            <p:cNvSpPr/>
            <p:nvPr/>
          </p:nvSpPr>
          <p:spPr>
            <a:xfrm>
              <a:off x="773280" y="4996800"/>
              <a:ext cx="207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dKfz 10/4 20mm Flak H-Track GE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2937960" y="306324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2965320" y="1525680"/>
            <a:ext cx="2239920" cy="1419840"/>
            <a:chOff x="2965320" y="1525680"/>
            <a:chExt cx="2239920" cy="1419840"/>
          </a:xfrm>
        </p:grpSpPr>
        <p:grpSp>
          <p:nvGrpSpPr>
            <p:cNvPr id="1207" name=""/>
            <p:cNvGrpSpPr/>
            <p:nvPr/>
          </p:nvGrpSpPr>
          <p:grpSpPr>
            <a:xfrm>
              <a:off x="3116160" y="1750320"/>
              <a:ext cx="2045880" cy="642600"/>
              <a:chOff x="3116160" y="1750320"/>
              <a:chExt cx="2045880" cy="642600"/>
            </a:xfrm>
          </p:grpSpPr>
          <p:grpSp>
            <p:nvGrpSpPr>
              <p:cNvPr id="1208" name=""/>
              <p:cNvGrpSpPr/>
              <p:nvPr/>
            </p:nvGrpSpPr>
            <p:grpSpPr>
              <a:xfrm>
                <a:off x="3219120" y="2058120"/>
                <a:ext cx="1930320" cy="334800"/>
                <a:chOff x="3219120" y="2058120"/>
                <a:chExt cx="1930320" cy="334800"/>
              </a:xfrm>
            </p:grpSpPr>
            <p:grpSp>
              <p:nvGrpSpPr>
                <p:cNvPr id="1209" name=""/>
                <p:cNvGrpSpPr/>
                <p:nvPr/>
              </p:nvGrpSpPr>
              <p:grpSpPr>
                <a:xfrm>
                  <a:off x="3219120" y="2090520"/>
                  <a:ext cx="231840" cy="228240"/>
                  <a:chOff x="3219120" y="2090520"/>
                  <a:chExt cx="231840" cy="228240"/>
                </a:xfrm>
              </p:grpSpPr>
              <p:grpSp>
                <p:nvGrpSpPr>
                  <p:cNvPr id="1210" name=""/>
                  <p:cNvGrpSpPr/>
                  <p:nvPr/>
                </p:nvGrpSpPr>
                <p:grpSpPr>
                  <a:xfrm>
                    <a:off x="3219120" y="2128680"/>
                    <a:ext cx="231840" cy="190080"/>
                    <a:chOff x="3219120" y="2128680"/>
                    <a:chExt cx="231840" cy="190080"/>
                  </a:xfrm>
                </p:grpSpPr>
                <p:sp>
                  <p:nvSpPr>
                    <p:cNvPr id="1211" name=""/>
                    <p:cNvSpPr/>
                    <p:nvPr/>
                  </p:nvSpPr>
                  <p:spPr>
                    <a:xfrm>
                      <a:off x="3219120" y="212868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>
                      <a:off x="3229560" y="2291400"/>
                      <a:ext cx="2736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3411360" y="2291400"/>
                      <a:ext cx="2700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14" name=""/>
                  <p:cNvSpPr/>
                  <p:nvPr/>
                </p:nvSpPr>
                <p:spPr>
                  <a:xfrm>
                    <a:off x="3321000" y="20905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5" name=""/>
                <p:cNvSpPr/>
                <p:nvPr/>
              </p:nvSpPr>
              <p:spPr>
                <a:xfrm>
                  <a:off x="3457800" y="205812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510000" y="2177280"/>
                  <a:ext cx="1639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Kubelwagen                GE-3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3215880" y="1750320"/>
                <a:ext cx="1946160" cy="350640"/>
                <a:chOff x="3215880" y="1750320"/>
                <a:chExt cx="1946160" cy="35064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3483000" y="175032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9" name=""/>
                <p:cNvGrpSpPr/>
                <p:nvPr/>
              </p:nvGrpSpPr>
              <p:grpSpPr>
                <a:xfrm>
                  <a:off x="3215880" y="1811160"/>
                  <a:ext cx="238320" cy="194760"/>
                  <a:chOff x="3215880" y="1811160"/>
                  <a:chExt cx="238320" cy="194760"/>
                </a:xfrm>
              </p:grpSpPr>
              <p:sp>
                <p:nvSpPr>
                  <p:cNvPr id="1220" name=""/>
                  <p:cNvSpPr/>
                  <p:nvPr/>
                </p:nvSpPr>
                <p:spPr>
                  <a:xfrm>
                    <a:off x="3215880" y="1847520"/>
                    <a:ext cx="238320" cy="1584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320640" y="18111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2" name=""/>
                <p:cNvSpPr/>
                <p:nvPr/>
              </p:nvSpPr>
              <p:spPr>
                <a:xfrm>
                  <a:off x="3493800" y="1885320"/>
                  <a:ext cx="166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   GE-4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" name=""/>
              <p:cNvSpPr/>
              <p:nvPr/>
            </p:nvSpPr>
            <p:spPr>
              <a:xfrm>
                <a:off x="3116160" y="1917720"/>
                <a:ext cx="14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261960" y="1987560"/>
                <a:ext cx="0" cy="16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 flipH="1">
              <a:off x="3104640" y="1751040"/>
              <a:ext cx="3240" cy="76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2965320" y="1525680"/>
              <a:ext cx="291600" cy="240480"/>
              <a:chOff x="2965320" y="1525680"/>
              <a:chExt cx="291600" cy="240480"/>
            </a:xfrm>
          </p:grpSpPr>
          <p:grpSp>
            <p:nvGrpSpPr>
              <p:cNvPr id="1227" name=""/>
              <p:cNvGrpSpPr/>
              <p:nvPr/>
            </p:nvGrpSpPr>
            <p:grpSpPr>
              <a:xfrm>
                <a:off x="3054240" y="1525680"/>
                <a:ext cx="131760" cy="26640"/>
                <a:chOff x="3054240" y="1525680"/>
                <a:chExt cx="131760" cy="2664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3054240" y="15256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105000" y="15256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3159000" y="15256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2965320" y="1573200"/>
                <a:ext cx="291600" cy="192960"/>
                <a:chOff x="2965320" y="1573200"/>
                <a:chExt cx="291600" cy="19296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2965320" y="1575360"/>
                  <a:ext cx="291600" cy="1908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3036600" y="1666080"/>
                  <a:ext cx="144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V="1">
                  <a:off x="2965320" y="1575000"/>
                  <a:ext cx="14112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3106440" y="1573200"/>
                  <a:ext cx="150480" cy="189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6" name=""/>
            <p:cNvGrpSpPr/>
            <p:nvPr/>
          </p:nvGrpSpPr>
          <p:grpSpPr>
            <a:xfrm>
              <a:off x="3116160" y="2397960"/>
              <a:ext cx="2089080" cy="547560"/>
              <a:chOff x="3116160" y="2397960"/>
              <a:chExt cx="2089080" cy="547560"/>
            </a:xfrm>
          </p:grpSpPr>
          <p:grpSp>
            <p:nvGrpSpPr>
              <p:cNvPr id="1237" name=""/>
              <p:cNvGrpSpPr/>
              <p:nvPr/>
            </p:nvGrpSpPr>
            <p:grpSpPr>
              <a:xfrm>
                <a:off x="3116160" y="2397960"/>
                <a:ext cx="2089080" cy="547560"/>
                <a:chOff x="3116160" y="2397960"/>
                <a:chExt cx="2089080" cy="547560"/>
              </a:xfrm>
            </p:grpSpPr>
            <p:grpSp>
              <p:nvGrpSpPr>
                <p:cNvPr id="1238" name=""/>
                <p:cNvGrpSpPr/>
                <p:nvPr/>
              </p:nvGrpSpPr>
              <p:grpSpPr>
                <a:xfrm>
                  <a:off x="3244680" y="2601360"/>
                  <a:ext cx="1960560" cy="344160"/>
                  <a:chOff x="3244680" y="2601360"/>
                  <a:chExt cx="1960560" cy="344160"/>
                </a:xfrm>
              </p:grpSpPr>
              <p:grpSp>
                <p:nvGrpSpPr>
                  <p:cNvPr id="1239" name=""/>
                  <p:cNvGrpSpPr/>
                  <p:nvPr/>
                </p:nvGrpSpPr>
                <p:grpSpPr>
                  <a:xfrm>
                    <a:off x="3244680" y="2721240"/>
                    <a:ext cx="231840" cy="223200"/>
                    <a:chOff x="3244680" y="2721240"/>
                    <a:chExt cx="231840" cy="223200"/>
                  </a:xfrm>
                </p:grpSpPr>
                <p:grpSp>
                  <p:nvGrpSpPr>
                    <p:cNvPr id="1240" name=""/>
                    <p:cNvGrpSpPr/>
                    <p:nvPr/>
                  </p:nvGrpSpPr>
                  <p:grpSpPr>
                    <a:xfrm>
                      <a:off x="3244680" y="2754360"/>
                      <a:ext cx="231840" cy="190080"/>
                      <a:chOff x="3244680" y="2754360"/>
                      <a:chExt cx="231840" cy="190080"/>
                    </a:xfrm>
                  </p:grpSpPr>
                  <p:sp>
                    <p:nvSpPr>
                      <p:cNvPr id="1241" name=""/>
                      <p:cNvSpPr/>
                      <p:nvPr/>
                    </p:nvSpPr>
                    <p:spPr>
                      <a:xfrm>
                        <a:off x="3244680" y="275436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2" name=""/>
                      <p:cNvSpPr/>
                      <p:nvPr/>
                    </p:nvSpPr>
                    <p:spPr>
                      <a:xfrm>
                        <a:off x="3255120" y="2917080"/>
                        <a:ext cx="27360" cy="27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3" name=""/>
                      <p:cNvSpPr/>
                      <p:nvPr/>
                    </p:nvSpPr>
                    <p:spPr>
                      <a:xfrm>
                        <a:off x="3436920" y="2917080"/>
                        <a:ext cx="27000" cy="27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44" name=""/>
                    <p:cNvGrpSpPr/>
                    <p:nvPr/>
                  </p:nvGrpSpPr>
                  <p:grpSpPr>
                    <a:xfrm>
                      <a:off x="3324240" y="2721240"/>
                      <a:ext cx="74520" cy="28080"/>
                      <a:chOff x="3324240" y="2721240"/>
                      <a:chExt cx="74520" cy="28080"/>
                    </a:xfrm>
                  </p:grpSpPr>
                  <p:sp>
                    <p:nvSpPr>
                      <p:cNvPr id="1245" name=""/>
                      <p:cNvSpPr/>
                      <p:nvPr/>
                    </p:nvSpPr>
                    <p:spPr>
                      <a:xfrm>
                        <a:off x="3324240" y="272124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6" name=""/>
                      <p:cNvSpPr/>
                      <p:nvPr/>
                    </p:nvSpPr>
                    <p:spPr>
                      <a:xfrm>
                        <a:off x="3371760" y="272268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47" name=""/>
                  <p:cNvSpPr/>
                  <p:nvPr/>
                </p:nvSpPr>
                <p:spPr>
                  <a:xfrm>
                    <a:off x="3467160" y="2601360"/>
                    <a:ext cx="6166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3532320" y="2729880"/>
                    <a:ext cx="16729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2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Light Truck                   GE-35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9" name=""/>
                <p:cNvGrpSpPr/>
                <p:nvPr/>
              </p:nvGrpSpPr>
              <p:grpSpPr>
                <a:xfrm>
                  <a:off x="3116160" y="2397960"/>
                  <a:ext cx="2044080" cy="215640"/>
                  <a:chOff x="3116160" y="2397960"/>
                  <a:chExt cx="2044080" cy="21564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>
                    <a:off x="3116160" y="2512800"/>
                    <a:ext cx="1461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51" name=""/>
                  <p:cNvGrpSpPr/>
                  <p:nvPr/>
                </p:nvGrpSpPr>
                <p:grpSpPr>
                  <a:xfrm>
                    <a:off x="3244680" y="2398680"/>
                    <a:ext cx="239760" cy="203040"/>
                    <a:chOff x="3244680" y="2398680"/>
                    <a:chExt cx="239760" cy="203040"/>
                  </a:xfrm>
                </p:grpSpPr>
                <p:grpSp>
                  <p:nvGrpSpPr>
                    <p:cNvPr id="1252" name=""/>
                    <p:cNvGrpSpPr/>
                    <p:nvPr/>
                  </p:nvGrpSpPr>
                  <p:grpSpPr>
                    <a:xfrm>
                      <a:off x="3244680" y="2442960"/>
                      <a:ext cx="239760" cy="158760"/>
                      <a:chOff x="3244680" y="2442960"/>
                      <a:chExt cx="239760" cy="158760"/>
                    </a:xfrm>
                  </p:grpSpPr>
                  <p:sp>
                    <p:nvSpPr>
                      <p:cNvPr id="1253" name=""/>
                      <p:cNvSpPr/>
                      <p:nvPr/>
                    </p:nvSpPr>
                    <p:spPr>
                      <a:xfrm>
                        <a:off x="3244680" y="244476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4" name=""/>
                      <p:cNvSpPr/>
                      <p:nvPr/>
                    </p:nvSpPr>
                    <p:spPr>
                      <a:xfrm>
                        <a:off x="3303360" y="2519280"/>
                        <a:ext cx="1191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5" name=""/>
                      <p:cNvSpPr/>
                      <p:nvPr/>
                    </p:nvSpPr>
                    <p:spPr>
                      <a:xfrm flipV="1">
                        <a:off x="3244680" y="2444760"/>
                        <a:ext cx="115920" cy="1555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6" name=""/>
                      <p:cNvSpPr/>
                      <p:nvPr/>
                    </p:nvSpPr>
                    <p:spPr>
                      <a:xfrm>
                        <a:off x="3360600" y="2442960"/>
                        <a:ext cx="123840" cy="1558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57" name=""/>
                    <p:cNvGrpSpPr/>
                    <p:nvPr/>
                  </p:nvGrpSpPr>
                  <p:grpSpPr>
                    <a:xfrm>
                      <a:off x="3325680" y="2398680"/>
                      <a:ext cx="74520" cy="28080"/>
                      <a:chOff x="3325680" y="2398680"/>
                      <a:chExt cx="74520" cy="28080"/>
                    </a:xfrm>
                  </p:grpSpPr>
                  <p:sp>
                    <p:nvSpPr>
                      <p:cNvPr id="1258" name=""/>
                      <p:cNvSpPr/>
                      <p:nvPr/>
                    </p:nvSpPr>
                    <p:spPr>
                      <a:xfrm>
                        <a:off x="3325680" y="239868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9" name=""/>
                      <p:cNvSpPr/>
                      <p:nvPr/>
                    </p:nvSpPr>
                    <p:spPr>
                      <a:xfrm>
                        <a:off x="3373200" y="240012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60" name=""/>
                  <p:cNvSpPr/>
                  <p:nvPr/>
                </p:nvSpPr>
                <p:spPr>
                  <a:xfrm>
                    <a:off x="3508920" y="2397960"/>
                    <a:ext cx="16513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2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Flak38 20mm AA Gun GE-4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61" name=""/>
              <p:cNvSpPr/>
              <p:nvPr/>
            </p:nvSpPr>
            <p:spPr>
              <a:xfrm>
                <a:off x="3278160" y="2593800"/>
                <a:ext cx="0" cy="18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2" name=""/>
          <p:cNvGrpSpPr/>
          <p:nvPr/>
        </p:nvGrpSpPr>
        <p:grpSpPr>
          <a:xfrm>
            <a:off x="3054240" y="3277440"/>
            <a:ext cx="2089080" cy="547560"/>
            <a:chOff x="3054240" y="3277440"/>
            <a:chExt cx="2089080" cy="547560"/>
          </a:xfrm>
        </p:grpSpPr>
        <p:grpSp>
          <p:nvGrpSpPr>
            <p:cNvPr id="1263" name=""/>
            <p:cNvGrpSpPr/>
            <p:nvPr/>
          </p:nvGrpSpPr>
          <p:grpSpPr>
            <a:xfrm>
              <a:off x="3054240" y="3277440"/>
              <a:ext cx="2089080" cy="547560"/>
              <a:chOff x="3054240" y="3277440"/>
              <a:chExt cx="2089080" cy="547560"/>
            </a:xfrm>
          </p:grpSpPr>
          <p:grpSp>
            <p:nvGrpSpPr>
              <p:cNvPr id="1264" name=""/>
              <p:cNvGrpSpPr/>
              <p:nvPr/>
            </p:nvGrpSpPr>
            <p:grpSpPr>
              <a:xfrm>
                <a:off x="3182760" y="3480840"/>
                <a:ext cx="1960560" cy="344160"/>
                <a:chOff x="3182760" y="3480840"/>
                <a:chExt cx="1960560" cy="344160"/>
              </a:xfrm>
            </p:grpSpPr>
            <p:grpSp>
              <p:nvGrpSpPr>
                <p:cNvPr id="1265" name=""/>
                <p:cNvGrpSpPr/>
                <p:nvPr/>
              </p:nvGrpSpPr>
              <p:grpSpPr>
                <a:xfrm>
                  <a:off x="3182760" y="3600720"/>
                  <a:ext cx="231840" cy="223200"/>
                  <a:chOff x="3182760" y="3600720"/>
                  <a:chExt cx="231840" cy="223200"/>
                </a:xfrm>
              </p:grpSpPr>
              <p:grpSp>
                <p:nvGrpSpPr>
                  <p:cNvPr id="1266" name=""/>
                  <p:cNvGrpSpPr/>
                  <p:nvPr/>
                </p:nvGrpSpPr>
                <p:grpSpPr>
                  <a:xfrm>
                    <a:off x="3182760" y="3633840"/>
                    <a:ext cx="231840" cy="190080"/>
                    <a:chOff x="3182760" y="3633840"/>
                    <a:chExt cx="231840" cy="190080"/>
                  </a:xfrm>
                </p:grpSpPr>
                <p:sp>
                  <p:nvSpPr>
                    <p:cNvPr id="1267" name=""/>
                    <p:cNvSpPr/>
                    <p:nvPr/>
                  </p:nvSpPr>
                  <p:spPr>
                    <a:xfrm>
                      <a:off x="3182760" y="363384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8" name=""/>
                    <p:cNvSpPr/>
                    <p:nvPr/>
                  </p:nvSpPr>
                  <p:spPr>
                    <a:xfrm>
                      <a:off x="3193200" y="3796560"/>
                      <a:ext cx="2736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9" name=""/>
                    <p:cNvSpPr/>
                    <p:nvPr/>
                  </p:nvSpPr>
                  <p:spPr>
                    <a:xfrm>
                      <a:off x="3375000" y="3796560"/>
                      <a:ext cx="2700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70" name=""/>
                  <p:cNvGrpSpPr/>
                  <p:nvPr/>
                </p:nvGrpSpPr>
                <p:grpSpPr>
                  <a:xfrm>
                    <a:off x="3262320" y="3600720"/>
                    <a:ext cx="74520" cy="28080"/>
                    <a:chOff x="3262320" y="3600720"/>
                    <a:chExt cx="74520" cy="28080"/>
                  </a:xfrm>
                </p:grpSpPr>
                <p:sp>
                  <p:nvSpPr>
                    <p:cNvPr id="1271" name=""/>
                    <p:cNvSpPr/>
                    <p:nvPr/>
                  </p:nvSpPr>
                  <p:spPr>
                    <a:xfrm>
                      <a:off x="3262320" y="36007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2" name=""/>
                    <p:cNvSpPr/>
                    <p:nvPr/>
                  </p:nvSpPr>
                  <p:spPr>
                    <a:xfrm>
                      <a:off x="3309840" y="36021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73" name=""/>
                <p:cNvSpPr/>
                <p:nvPr/>
              </p:nvSpPr>
              <p:spPr>
                <a:xfrm>
                  <a:off x="3405240" y="348084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3470400" y="3609360"/>
                  <a:ext cx="1672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ght Truck                   GE-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3054240" y="3277440"/>
                <a:ext cx="2044080" cy="215640"/>
                <a:chOff x="3054240" y="3277440"/>
                <a:chExt cx="2044080" cy="21564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3054240" y="3392280"/>
                  <a:ext cx="146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7" name=""/>
                <p:cNvGrpSpPr/>
                <p:nvPr/>
              </p:nvGrpSpPr>
              <p:grpSpPr>
                <a:xfrm>
                  <a:off x="3182760" y="3278160"/>
                  <a:ext cx="239760" cy="203040"/>
                  <a:chOff x="3182760" y="3278160"/>
                  <a:chExt cx="239760" cy="203040"/>
                </a:xfrm>
              </p:grpSpPr>
              <p:grpSp>
                <p:nvGrpSpPr>
                  <p:cNvPr id="1278" name=""/>
                  <p:cNvGrpSpPr/>
                  <p:nvPr/>
                </p:nvGrpSpPr>
                <p:grpSpPr>
                  <a:xfrm>
                    <a:off x="3182760" y="3322440"/>
                    <a:ext cx="239760" cy="158760"/>
                    <a:chOff x="3182760" y="3322440"/>
                    <a:chExt cx="239760" cy="158760"/>
                  </a:xfrm>
                </p:grpSpPr>
                <p:sp>
                  <p:nvSpPr>
                    <p:cNvPr id="1279" name=""/>
                    <p:cNvSpPr/>
                    <p:nvPr/>
                  </p:nvSpPr>
                  <p:spPr>
                    <a:xfrm>
                      <a:off x="3182760" y="3324240"/>
                      <a:ext cx="23976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0" name=""/>
                    <p:cNvSpPr/>
                    <p:nvPr/>
                  </p:nvSpPr>
                  <p:spPr>
                    <a:xfrm>
                      <a:off x="3241440" y="3398760"/>
                      <a:ext cx="119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1" name=""/>
                    <p:cNvSpPr/>
                    <p:nvPr/>
                  </p:nvSpPr>
                  <p:spPr>
                    <a:xfrm flipV="1">
                      <a:off x="3182760" y="3324240"/>
                      <a:ext cx="11592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2" name=""/>
                    <p:cNvSpPr/>
                    <p:nvPr/>
                  </p:nvSpPr>
                  <p:spPr>
                    <a:xfrm>
                      <a:off x="3298680" y="3322440"/>
                      <a:ext cx="12384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3" name=""/>
                  <p:cNvGrpSpPr/>
                  <p:nvPr/>
                </p:nvGrpSpPr>
                <p:grpSpPr>
                  <a:xfrm>
                    <a:off x="3263760" y="3278160"/>
                    <a:ext cx="74520" cy="28080"/>
                    <a:chOff x="3263760" y="3278160"/>
                    <a:chExt cx="74520" cy="28080"/>
                  </a:xfrm>
                </p:grpSpPr>
                <p:sp>
                  <p:nvSpPr>
                    <p:cNvPr id="1284" name=""/>
                    <p:cNvSpPr/>
                    <p:nvPr/>
                  </p:nvSpPr>
                  <p:spPr>
                    <a:xfrm>
                      <a:off x="3263760" y="32781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5" name=""/>
                    <p:cNvSpPr/>
                    <p:nvPr/>
                  </p:nvSpPr>
                  <p:spPr>
                    <a:xfrm>
                      <a:off x="3311280" y="32796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86" name=""/>
                <p:cNvSpPr/>
                <p:nvPr/>
              </p:nvSpPr>
              <p:spPr>
                <a:xfrm>
                  <a:off x="3447000" y="3277440"/>
                  <a:ext cx="1651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lak38 20mm AA Gun GE-4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7" name=""/>
            <p:cNvSpPr/>
            <p:nvPr/>
          </p:nvSpPr>
          <p:spPr>
            <a:xfrm>
              <a:off x="3216240" y="3473280"/>
              <a:ext cx="0" cy="18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2759040" y="1031760"/>
            <a:ext cx="24861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ht Flak Platoon (Tow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664240" y="1195200"/>
            <a:ext cx="24861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vy Flak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5788080" y="1763640"/>
            <a:ext cx="2494080" cy="2061360"/>
            <a:chOff x="5788080" y="1763640"/>
            <a:chExt cx="2494080" cy="2061360"/>
          </a:xfrm>
        </p:grpSpPr>
        <p:grpSp>
          <p:nvGrpSpPr>
            <p:cNvPr id="1291" name=""/>
            <p:cNvGrpSpPr/>
            <p:nvPr/>
          </p:nvGrpSpPr>
          <p:grpSpPr>
            <a:xfrm>
              <a:off x="5951520" y="2018520"/>
              <a:ext cx="2292120" cy="642600"/>
              <a:chOff x="5951520" y="2018520"/>
              <a:chExt cx="2292120" cy="642600"/>
            </a:xfrm>
          </p:grpSpPr>
          <p:grpSp>
            <p:nvGrpSpPr>
              <p:cNvPr id="1292" name=""/>
              <p:cNvGrpSpPr/>
              <p:nvPr/>
            </p:nvGrpSpPr>
            <p:grpSpPr>
              <a:xfrm>
                <a:off x="6054480" y="2326320"/>
                <a:ext cx="2189160" cy="334800"/>
                <a:chOff x="6054480" y="2326320"/>
                <a:chExt cx="2189160" cy="33480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054480" y="2358720"/>
                  <a:ext cx="231840" cy="228240"/>
                  <a:chOff x="6054480" y="2358720"/>
                  <a:chExt cx="231840" cy="228240"/>
                </a:xfrm>
              </p:grpSpPr>
              <p:grpSp>
                <p:nvGrpSpPr>
                  <p:cNvPr id="1294" name=""/>
                  <p:cNvGrpSpPr/>
                  <p:nvPr/>
                </p:nvGrpSpPr>
                <p:grpSpPr>
                  <a:xfrm>
                    <a:off x="6054480" y="2396880"/>
                    <a:ext cx="231840" cy="190080"/>
                    <a:chOff x="6054480" y="2396880"/>
                    <a:chExt cx="231840" cy="190080"/>
                  </a:xfrm>
                </p:grpSpPr>
                <p:sp>
                  <p:nvSpPr>
                    <p:cNvPr id="1295" name=""/>
                    <p:cNvSpPr/>
                    <p:nvPr/>
                  </p:nvSpPr>
                  <p:spPr>
                    <a:xfrm>
                      <a:off x="6054480" y="239688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6" name=""/>
                    <p:cNvSpPr/>
                    <p:nvPr/>
                  </p:nvSpPr>
                  <p:spPr>
                    <a:xfrm>
                      <a:off x="6064920" y="2559600"/>
                      <a:ext cx="2736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>
                      <a:off x="6246720" y="2559600"/>
                      <a:ext cx="2700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98" name=""/>
                  <p:cNvSpPr/>
                  <p:nvPr/>
                </p:nvSpPr>
                <p:spPr>
                  <a:xfrm>
                    <a:off x="6156360" y="23587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9" name=""/>
                <p:cNvSpPr/>
                <p:nvPr/>
              </p:nvSpPr>
              <p:spPr>
                <a:xfrm>
                  <a:off x="6293160" y="232632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343560" y="2445480"/>
                  <a:ext cx="1900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Kubelwagen                         GE-3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6051240" y="2018520"/>
                <a:ext cx="2176560" cy="350640"/>
                <a:chOff x="6051240" y="2018520"/>
                <a:chExt cx="2176560" cy="35064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6318360" y="201852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3" name=""/>
                <p:cNvGrpSpPr/>
                <p:nvPr/>
              </p:nvGrpSpPr>
              <p:grpSpPr>
                <a:xfrm>
                  <a:off x="6051240" y="2079360"/>
                  <a:ext cx="238320" cy="194760"/>
                  <a:chOff x="6051240" y="2079360"/>
                  <a:chExt cx="238320" cy="194760"/>
                </a:xfrm>
              </p:grpSpPr>
              <p:sp>
                <p:nvSpPr>
                  <p:cNvPr id="1304" name=""/>
                  <p:cNvSpPr/>
                  <p:nvPr/>
                </p:nvSpPr>
                <p:spPr>
                  <a:xfrm>
                    <a:off x="6051240" y="2115720"/>
                    <a:ext cx="238320" cy="1584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6156000" y="20793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6" name=""/>
                <p:cNvSpPr/>
                <p:nvPr/>
              </p:nvSpPr>
              <p:spPr>
                <a:xfrm>
                  <a:off x="6327720" y="2153520"/>
                  <a:ext cx="1900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           GE-4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7" name=""/>
              <p:cNvSpPr/>
              <p:nvPr/>
            </p:nvSpPr>
            <p:spPr>
              <a:xfrm>
                <a:off x="5951520" y="2185920"/>
                <a:ext cx="14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097320" y="2255760"/>
                <a:ext cx="0" cy="16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 flipH="1">
              <a:off x="5940000" y="2019240"/>
              <a:ext cx="324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5788080" y="1763640"/>
              <a:ext cx="291600" cy="266040"/>
              <a:chOff x="5788080" y="1763640"/>
              <a:chExt cx="291600" cy="266040"/>
            </a:xfrm>
          </p:grpSpPr>
          <p:sp>
            <p:nvSpPr>
              <p:cNvPr id="1311" name=""/>
              <p:cNvSpPr/>
              <p:nvPr/>
            </p:nvSpPr>
            <p:spPr>
              <a:xfrm>
                <a:off x="5934240" y="17636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2" name=""/>
              <p:cNvGrpSpPr/>
              <p:nvPr/>
            </p:nvGrpSpPr>
            <p:grpSpPr>
              <a:xfrm>
                <a:off x="5788080" y="1836360"/>
                <a:ext cx="291600" cy="193320"/>
                <a:chOff x="5788080" y="1836360"/>
                <a:chExt cx="291600" cy="19332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5788080" y="1838520"/>
                  <a:ext cx="291600" cy="191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5859360" y="1929240"/>
                  <a:ext cx="144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 flipV="1">
                  <a:off x="5788080" y="1838520"/>
                  <a:ext cx="14112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5929200" y="1836360"/>
                  <a:ext cx="150480" cy="190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7" name=""/>
            <p:cNvGrpSpPr/>
            <p:nvPr/>
          </p:nvGrpSpPr>
          <p:grpSpPr>
            <a:xfrm>
              <a:off x="5951520" y="2666160"/>
              <a:ext cx="2301480" cy="547560"/>
              <a:chOff x="5951520" y="2666160"/>
              <a:chExt cx="2301480" cy="547560"/>
            </a:xfrm>
          </p:grpSpPr>
          <p:grpSp>
            <p:nvGrpSpPr>
              <p:cNvPr id="1318" name=""/>
              <p:cNvGrpSpPr/>
              <p:nvPr/>
            </p:nvGrpSpPr>
            <p:grpSpPr>
              <a:xfrm>
                <a:off x="5951520" y="2666160"/>
                <a:ext cx="2301480" cy="547560"/>
                <a:chOff x="5951520" y="2666160"/>
                <a:chExt cx="2301480" cy="547560"/>
              </a:xfrm>
            </p:grpSpPr>
            <p:grpSp>
              <p:nvGrpSpPr>
                <p:cNvPr id="1319" name=""/>
                <p:cNvGrpSpPr/>
                <p:nvPr/>
              </p:nvGrpSpPr>
              <p:grpSpPr>
                <a:xfrm>
                  <a:off x="6080040" y="2869560"/>
                  <a:ext cx="2172960" cy="344160"/>
                  <a:chOff x="6080040" y="2869560"/>
                  <a:chExt cx="2172960" cy="344160"/>
                </a:xfrm>
              </p:grpSpPr>
              <p:grpSp>
                <p:nvGrpSpPr>
                  <p:cNvPr id="1320" name=""/>
                  <p:cNvGrpSpPr/>
                  <p:nvPr/>
                </p:nvGrpSpPr>
                <p:grpSpPr>
                  <a:xfrm>
                    <a:off x="6080040" y="2989440"/>
                    <a:ext cx="231480" cy="223200"/>
                    <a:chOff x="6080040" y="2989440"/>
                    <a:chExt cx="231480" cy="223200"/>
                  </a:xfrm>
                </p:grpSpPr>
                <p:grpSp>
                  <p:nvGrpSpPr>
                    <p:cNvPr id="1321" name=""/>
                    <p:cNvGrpSpPr/>
                    <p:nvPr/>
                  </p:nvGrpSpPr>
                  <p:grpSpPr>
                    <a:xfrm>
                      <a:off x="6080040" y="3022560"/>
                      <a:ext cx="231480" cy="190080"/>
                      <a:chOff x="6080040" y="3022560"/>
                      <a:chExt cx="231480" cy="190080"/>
                    </a:xfrm>
                  </p:grpSpPr>
                  <p:sp>
                    <p:nvSpPr>
                      <p:cNvPr id="1322" name=""/>
                      <p:cNvSpPr/>
                      <p:nvPr/>
                    </p:nvSpPr>
                    <p:spPr>
                      <a:xfrm>
                        <a:off x="6080040" y="302256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3" name=""/>
                      <p:cNvSpPr/>
                      <p:nvPr/>
                    </p:nvSpPr>
                    <p:spPr>
                      <a:xfrm>
                        <a:off x="6090480" y="3185280"/>
                        <a:ext cx="27360" cy="27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4" name=""/>
                      <p:cNvSpPr/>
                      <p:nvPr/>
                    </p:nvSpPr>
                    <p:spPr>
                      <a:xfrm>
                        <a:off x="6272280" y="3185280"/>
                        <a:ext cx="27000" cy="27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25" name=""/>
                    <p:cNvGrpSpPr/>
                    <p:nvPr/>
                  </p:nvGrpSpPr>
                  <p:grpSpPr>
                    <a:xfrm>
                      <a:off x="6159240" y="2989440"/>
                      <a:ext cx="73800" cy="28080"/>
                      <a:chOff x="6159240" y="2989440"/>
                      <a:chExt cx="73800" cy="28080"/>
                    </a:xfrm>
                  </p:grpSpPr>
                  <p:sp>
                    <p:nvSpPr>
                      <p:cNvPr id="1326" name=""/>
                      <p:cNvSpPr/>
                      <p:nvPr/>
                    </p:nvSpPr>
                    <p:spPr>
                      <a:xfrm>
                        <a:off x="6159240" y="298944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7" name=""/>
                      <p:cNvSpPr/>
                      <p:nvPr/>
                    </p:nvSpPr>
                    <p:spPr>
                      <a:xfrm>
                        <a:off x="6206400" y="299088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28" name=""/>
                  <p:cNvSpPr/>
                  <p:nvPr/>
                </p:nvSpPr>
                <p:spPr>
                  <a:xfrm>
                    <a:off x="6302160" y="2869560"/>
                    <a:ext cx="6166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6366960" y="2998080"/>
                    <a:ext cx="188604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2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dkfz 7 Prime Mover           GE-31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0" name=""/>
                <p:cNvGrpSpPr/>
                <p:nvPr/>
              </p:nvGrpSpPr>
              <p:grpSpPr>
                <a:xfrm>
                  <a:off x="5951520" y="2666160"/>
                  <a:ext cx="2289600" cy="215640"/>
                  <a:chOff x="5951520" y="2666160"/>
                  <a:chExt cx="2289600" cy="215640"/>
                </a:xfrm>
              </p:grpSpPr>
              <p:sp>
                <p:nvSpPr>
                  <p:cNvPr id="1331" name=""/>
                  <p:cNvSpPr/>
                  <p:nvPr/>
                </p:nvSpPr>
                <p:spPr>
                  <a:xfrm>
                    <a:off x="5951520" y="2781000"/>
                    <a:ext cx="1461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32" name=""/>
                  <p:cNvGrpSpPr/>
                  <p:nvPr/>
                </p:nvGrpSpPr>
                <p:grpSpPr>
                  <a:xfrm>
                    <a:off x="6080040" y="2666880"/>
                    <a:ext cx="239760" cy="203040"/>
                    <a:chOff x="6080040" y="2666880"/>
                    <a:chExt cx="239760" cy="203040"/>
                  </a:xfrm>
                </p:grpSpPr>
                <p:grpSp>
                  <p:nvGrpSpPr>
                    <p:cNvPr id="1333" name=""/>
                    <p:cNvGrpSpPr/>
                    <p:nvPr/>
                  </p:nvGrpSpPr>
                  <p:grpSpPr>
                    <a:xfrm>
                      <a:off x="6080040" y="2711160"/>
                      <a:ext cx="239760" cy="158760"/>
                      <a:chOff x="6080040" y="2711160"/>
                      <a:chExt cx="239760" cy="158760"/>
                    </a:xfrm>
                  </p:grpSpPr>
                  <p:sp>
                    <p:nvSpPr>
                      <p:cNvPr id="1334" name=""/>
                      <p:cNvSpPr/>
                      <p:nvPr/>
                    </p:nvSpPr>
                    <p:spPr>
                      <a:xfrm>
                        <a:off x="6080040" y="271296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5" name=""/>
                      <p:cNvSpPr/>
                      <p:nvPr/>
                    </p:nvSpPr>
                    <p:spPr>
                      <a:xfrm>
                        <a:off x="6138720" y="2787480"/>
                        <a:ext cx="1191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6" name=""/>
                      <p:cNvSpPr/>
                      <p:nvPr/>
                    </p:nvSpPr>
                    <p:spPr>
                      <a:xfrm flipV="1">
                        <a:off x="6080040" y="2712960"/>
                        <a:ext cx="115920" cy="1555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7" name=""/>
                      <p:cNvSpPr/>
                      <p:nvPr/>
                    </p:nvSpPr>
                    <p:spPr>
                      <a:xfrm>
                        <a:off x="6195960" y="2711160"/>
                        <a:ext cx="123840" cy="1558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38" name=""/>
                    <p:cNvGrpSpPr/>
                    <p:nvPr/>
                  </p:nvGrpSpPr>
                  <p:grpSpPr>
                    <a:xfrm>
                      <a:off x="6161040" y="2666880"/>
                      <a:ext cx="74520" cy="28080"/>
                      <a:chOff x="6161040" y="2666880"/>
                      <a:chExt cx="74520" cy="28080"/>
                    </a:xfrm>
                  </p:grpSpPr>
                  <p:sp>
                    <p:nvSpPr>
                      <p:cNvPr id="1339" name=""/>
                      <p:cNvSpPr/>
                      <p:nvPr/>
                    </p:nvSpPr>
                    <p:spPr>
                      <a:xfrm>
                        <a:off x="6161040" y="266688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0" name=""/>
                      <p:cNvSpPr/>
                      <p:nvPr/>
                    </p:nvSpPr>
                    <p:spPr>
                      <a:xfrm>
                        <a:off x="6208560" y="266832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41" name=""/>
                  <p:cNvSpPr/>
                  <p:nvPr/>
                </p:nvSpPr>
                <p:spPr>
                  <a:xfrm>
                    <a:off x="6342840" y="2666160"/>
                    <a:ext cx="18982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2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88mm Flak 41 AA/AT   Gun GE-4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42" name=""/>
              <p:cNvSpPr/>
              <p:nvPr/>
            </p:nvSpPr>
            <p:spPr>
              <a:xfrm>
                <a:off x="6113520" y="2862000"/>
                <a:ext cx="0" cy="18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5934240" y="3277440"/>
              <a:ext cx="2347920" cy="547560"/>
              <a:chOff x="5934240" y="3277440"/>
              <a:chExt cx="2347920" cy="547560"/>
            </a:xfrm>
          </p:grpSpPr>
          <p:grpSp>
            <p:nvGrpSpPr>
              <p:cNvPr id="1344" name=""/>
              <p:cNvGrpSpPr/>
              <p:nvPr/>
            </p:nvGrpSpPr>
            <p:grpSpPr>
              <a:xfrm>
                <a:off x="5934240" y="3277440"/>
                <a:ext cx="2347920" cy="547560"/>
                <a:chOff x="5934240" y="3277440"/>
                <a:chExt cx="2347920" cy="547560"/>
              </a:xfrm>
            </p:grpSpPr>
            <p:grpSp>
              <p:nvGrpSpPr>
                <p:cNvPr id="1345" name=""/>
                <p:cNvGrpSpPr/>
                <p:nvPr/>
              </p:nvGrpSpPr>
              <p:grpSpPr>
                <a:xfrm>
                  <a:off x="6062760" y="3480840"/>
                  <a:ext cx="2219400" cy="344160"/>
                  <a:chOff x="6062760" y="3480840"/>
                  <a:chExt cx="2219400" cy="344160"/>
                </a:xfrm>
              </p:grpSpPr>
              <p:grpSp>
                <p:nvGrpSpPr>
                  <p:cNvPr id="1346" name=""/>
                  <p:cNvGrpSpPr/>
                  <p:nvPr/>
                </p:nvGrpSpPr>
                <p:grpSpPr>
                  <a:xfrm>
                    <a:off x="6062760" y="3600720"/>
                    <a:ext cx="231840" cy="223200"/>
                    <a:chOff x="6062760" y="3600720"/>
                    <a:chExt cx="231840" cy="223200"/>
                  </a:xfrm>
                </p:grpSpPr>
                <p:grpSp>
                  <p:nvGrpSpPr>
                    <p:cNvPr id="1347" name=""/>
                    <p:cNvGrpSpPr/>
                    <p:nvPr/>
                  </p:nvGrpSpPr>
                  <p:grpSpPr>
                    <a:xfrm>
                      <a:off x="6062760" y="3633840"/>
                      <a:ext cx="231840" cy="190080"/>
                      <a:chOff x="6062760" y="3633840"/>
                      <a:chExt cx="231840" cy="190080"/>
                    </a:xfrm>
                  </p:grpSpPr>
                  <p:sp>
                    <p:nvSpPr>
                      <p:cNvPr id="1348" name=""/>
                      <p:cNvSpPr/>
                      <p:nvPr/>
                    </p:nvSpPr>
                    <p:spPr>
                      <a:xfrm>
                        <a:off x="6062760" y="363384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9" name=""/>
                      <p:cNvSpPr/>
                      <p:nvPr/>
                    </p:nvSpPr>
                    <p:spPr>
                      <a:xfrm>
                        <a:off x="6073200" y="3796560"/>
                        <a:ext cx="27360" cy="27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0" name=""/>
                      <p:cNvSpPr/>
                      <p:nvPr/>
                    </p:nvSpPr>
                    <p:spPr>
                      <a:xfrm>
                        <a:off x="6255000" y="3796560"/>
                        <a:ext cx="27000" cy="27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51" name=""/>
                    <p:cNvGrpSpPr/>
                    <p:nvPr/>
                  </p:nvGrpSpPr>
                  <p:grpSpPr>
                    <a:xfrm>
                      <a:off x="6142320" y="3600720"/>
                      <a:ext cx="74520" cy="28080"/>
                      <a:chOff x="6142320" y="3600720"/>
                      <a:chExt cx="74520" cy="28080"/>
                    </a:xfrm>
                  </p:grpSpPr>
                  <p:sp>
                    <p:nvSpPr>
                      <p:cNvPr id="1352" name=""/>
                      <p:cNvSpPr/>
                      <p:nvPr/>
                    </p:nvSpPr>
                    <p:spPr>
                      <a:xfrm>
                        <a:off x="6142320" y="360072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3" name=""/>
                      <p:cNvSpPr/>
                      <p:nvPr/>
                    </p:nvSpPr>
                    <p:spPr>
                      <a:xfrm>
                        <a:off x="6189840" y="360216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54" name=""/>
                  <p:cNvSpPr/>
                  <p:nvPr/>
                </p:nvSpPr>
                <p:spPr>
                  <a:xfrm>
                    <a:off x="6285240" y="3480840"/>
                    <a:ext cx="6166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6348600" y="3609360"/>
                    <a:ext cx="19335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Light Truck                            GE-35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6" name=""/>
                <p:cNvGrpSpPr/>
                <p:nvPr/>
              </p:nvGrpSpPr>
              <p:grpSpPr>
                <a:xfrm>
                  <a:off x="5934240" y="3277440"/>
                  <a:ext cx="2302560" cy="215640"/>
                  <a:chOff x="5934240" y="3277440"/>
                  <a:chExt cx="2302560" cy="215640"/>
                </a:xfrm>
              </p:grpSpPr>
              <p:sp>
                <p:nvSpPr>
                  <p:cNvPr id="1357" name=""/>
                  <p:cNvSpPr/>
                  <p:nvPr/>
                </p:nvSpPr>
                <p:spPr>
                  <a:xfrm>
                    <a:off x="5934240" y="3392280"/>
                    <a:ext cx="145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58" name=""/>
                  <p:cNvGrpSpPr/>
                  <p:nvPr/>
                </p:nvGrpSpPr>
                <p:grpSpPr>
                  <a:xfrm>
                    <a:off x="6062400" y="3278160"/>
                    <a:ext cx="239400" cy="203040"/>
                    <a:chOff x="6062400" y="3278160"/>
                    <a:chExt cx="239400" cy="203040"/>
                  </a:xfrm>
                </p:grpSpPr>
                <p:grpSp>
                  <p:nvGrpSpPr>
                    <p:cNvPr id="1359" name=""/>
                    <p:cNvGrpSpPr/>
                    <p:nvPr/>
                  </p:nvGrpSpPr>
                  <p:grpSpPr>
                    <a:xfrm>
                      <a:off x="6062400" y="3322440"/>
                      <a:ext cx="239400" cy="158760"/>
                      <a:chOff x="6062400" y="3322440"/>
                      <a:chExt cx="239400" cy="158760"/>
                    </a:xfrm>
                  </p:grpSpPr>
                  <p:sp>
                    <p:nvSpPr>
                      <p:cNvPr id="1360" name=""/>
                      <p:cNvSpPr/>
                      <p:nvPr/>
                    </p:nvSpPr>
                    <p:spPr>
                      <a:xfrm>
                        <a:off x="6062400" y="3324240"/>
                        <a:ext cx="239400" cy="156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1" name=""/>
                      <p:cNvSpPr/>
                      <p:nvPr/>
                    </p:nvSpPr>
                    <p:spPr>
                      <a:xfrm>
                        <a:off x="6120720" y="3398760"/>
                        <a:ext cx="1188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2" name=""/>
                      <p:cNvSpPr/>
                      <p:nvPr/>
                    </p:nvSpPr>
                    <p:spPr>
                      <a:xfrm flipV="1">
                        <a:off x="6062400" y="3324240"/>
                        <a:ext cx="115560" cy="1555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" name=""/>
                      <p:cNvSpPr/>
                      <p:nvPr/>
                    </p:nvSpPr>
                    <p:spPr>
                      <a:xfrm>
                        <a:off x="6177960" y="3322440"/>
                        <a:ext cx="123480" cy="1558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64" name=""/>
                    <p:cNvGrpSpPr/>
                    <p:nvPr/>
                  </p:nvGrpSpPr>
                  <p:grpSpPr>
                    <a:xfrm>
                      <a:off x="6143040" y="3278160"/>
                      <a:ext cx="74520" cy="28080"/>
                      <a:chOff x="6143040" y="3278160"/>
                      <a:chExt cx="74520" cy="28080"/>
                    </a:xfrm>
                  </p:grpSpPr>
                  <p:sp>
                    <p:nvSpPr>
                      <p:cNvPr id="1365" name=""/>
                      <p:cNvSpPr/>
                      <p:nvPr/>
                    </p:nvSpPr>
                    <p:spPr>
                      <a:xfrm>
                        <a:off x="6143040" y="327816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6" name=""/>
                      <p:cNvSpPr/>
                      <p:nvPr/>
                    </p:nvSpPr>
                    <p:spPr>
                      <a:xfrm>
                        <a:off x="6190560" y="327960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67" name=""/>
                  <p:cNvSpPr/>
                  <p:nvPr/>
                </p:nvSpPr>
                <p:spPr>
                  <a:xfrm>
                    <a:off x="6324840" y="3277440"/>
                    <a:ext cx="19119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Flak38 20mm AA Gun          GE-4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68" name=""/>
              <p:cNvSpPr/>
              <p:nvPr/>
            </p:nvSpPr>
            <p:spPr>
              <a:xfrm>
                <a:off x="6096240" y="3473280"/>
                <a:ext cx="0" cy="18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105840"/>
            <a:ext cx="7772400" cy="4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ME-16-&gt;ME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216000" y="1119240"/>
            <a:ext cx="2887560" cy="2508480"/>
            <a:chOff x="216000" y="1119240"/>
            <a:chExt cx="2887560" cy="2508480"/>
          </a:xfrm>
        </p:grpSpPr>
        <p:grpSp>
          <p:nvGrpSpPr>
            <p:cNvPr id="1371" name=""/>
            <p:cNvGrpSpPr/>
            <p:nvPr/>
          </p:nvGrpSpPr>
          <p:grpSpPr>
            <a:xfrm>
              <a:off x="542880" y="2033640"/>
              <a:ext cx="74520" cy="28080"/>
              <a:chOff x="542880" y="2033640"/>
              <a:chExt cx="74520" cy="28080"/>
            </a:xfrm>
          </p:grpSpPr>
          <p:sp>
            <p:nvSpPr>
              <p:cNvPr id="1372" name=""/>
              <p:cNvSpPr/>
              <p:nvPr/>
            </p:nvSpPr>
            <p:spPr>
              <a:xfrm>
                <a:off x="542880" y="20336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90400" y="20350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61800" y="1401120"/>
              <a:ext cx="2045880" cy="350640"/>
              <a:chOff x="361800" y="1401120"/>
              <a:chExt cx="2045880" cy="350640"/>
            </a:xfrm>
          </p:grpSpPr>
          <p:grpSp>
            <p:nvGrpSpPr>
              <p:cNvPr id="1375" name=""/>
              <p:cNvGrpSpPr/>
              <p:nvPr/>
            </p:nvGrpSpPr>
            <p:grpSpPr>
              <a:xfrm>
                <a:off x="461880" y="1401120"/>
                <a:ext cx="1945800" cy="350640"/>
                <a:chOff x="461880" y="1401120"/>
                <a:chExt cx="1945800" cy="35064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728640" y="140112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7" name=""/>
                <p:cNvGrpSpPr/>
                <p:nvPr/>
              </p:nvGrpSpPr>
              <p:grpSpPr>
                <a:xfrm>
                  <a:off x="461880" y="1461960"/>
                  <a:ext cx="237960" cy="194760"/>
                  <a:chOff x="461880" y="1461960"/>
                  <a:chExt cx="237960" cy="194760"/>
                </a:xfrm>
              </p:grpSpPr>
              <p:sp>
                <p:nvSpPr>
                  <p:cNvPr id="1378" name=""/>
                  <p:cNvSpPr/>
                  <p:nvPr/>
                </p:nvSpPr>
                <p:spPr>
                  <a:xfrm>
                    <a:off x="461880" y="1498320"/>
                    <a:ext cx="237960" cy="1584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566280" y="14619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0" name=""/>
                <p:cNvSpPr/>
                <p:nvPr/>
              </p:nvSpPr>
              <p:spPr>
                <a:xfrm>
                  <a:off x="739440" y="1536120"/>
                  <a:ext cx="166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   GE-4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1" name=""/>
              <p:cNvSpPr/>
              <p:nvPr/>
            </p:nvSpPr>
            <p:spPr>
              <a:xfrm>
                <a:off x="361800" y="156852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453960" y="1638360"/>
              <a:ext cx="1937160" cy="404640"/>
              <a:chOff x="453960" y="1638360"/>
              <a:chExt cx="1937160" cy="404640"/>
            </a:xfrm>
          </p:grpSpPr>
          <p:grpSp>
            <p:nvGrpSpPr>
              <p:cNvPr id="1383" name=""/>
              <p:cNvGrpSpPr/>
              <p:nvPr/>
            </p:nvGrpSpPr>
            <p:grpSpPr>
              <a:xfrm>
                <a:off x="453960" y="1708920"/>
                <a:ext cx="1937160" cy="334080"/>
                <a:chOff x="453960" y="1708920"/>
                <a:chExt cx="1937160" cy="334080"/>
              </a:xfrm>
            </p:grpSpPr>
            <p:grpSp>
              <p:nvGrpSpPr>
                <p:cNvPr id="1384" name=""/>
                <p:cNvGrpSpPr/>
                <p:nvPr/>
              </p:nvGrpSpPr>
              <p:grpSpPr>
                <a:xfrm>
                  <a:off x="453960" y="1740960"/>
                  <a:ext cx="239400" cy="233640"/>
                  <a:chOff x="453960" y="1740960"/>
                  <a:chExt cx="239400" cy="233640"/>
                </a:xfrm>
              </p:grpSpPr>
              <p:grpSp>
                <p:nvGrpSpPr>
                  <p:cNvPr id="1385" name=""/>
                  <p:cNvGrpSpPr/>
                  <p:nvPr/>
                </p:nvGrpSpPr>
                <p:grpSpPr>
                  <a:xfrm>
                    <a:off x="453960" y="1786680"/>
                    <a:ext cx="239400" cy="187920"/>
                    <a:chOff x="453960" y="1786680"/>
                    <a:chExt cx="239400" cy="187920"/>
                  </a:xfrm>
                </p:grpSpPr>
                <p:sp>
                  <p:nvSpPr>
                    <p:cNvPr id="1386" name=""/>
                    <p:cNvSpPr/>
                    <p:nvPr/>
                  </p:nvSpPr>
                  <p:spPr>
                    <a:xfrm>
                      <a:off x="453960" y="1786680"/>
                      <a:ext cx="239400" cy="1566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7" name=""/>
                    <p:cNvSpPr/>
                    <p:nvPr/>
                  </p:nvSpPr>
                  <p:spPr>
                    <a:xfrm>
                      <a:off x="488880" y="1825920"/>
                      <a:ext cx="169560" cy="74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8" name=""/>
                    <p:cNvSpPr/>
                    <p:nvPr/>
                  </p:nvSpPr>
                  <p:spPr>
                    <a:xfrm>
                      <a:off x="468000" y="19479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9" name=""/>
                    <p:cNvSpPr/>
                    <p:nvPr/>
                  </p:nvSpPr>
                  <p:spPr>
                    <a:xfrm>
                      <a:off x="580680" y="1946520"/>
                      <a:ext cx="288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0" name=""/>
                    <p:cNvSpPr/>
                    <p:nvPr/>
                  </p:nvSpPr>
                  <p:spPr>
                    <a:xfrm>
                      <a:off x="657000" y="19465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1" name=""/>
                    <p:cNvSpPr/>
                    <p:nvPr/>
                  </p:nvSpPr>
                  <p:spPr>
                    <a:xfrm>
                      <a:off x="601560" y="1946520"/>
                      <a:ext cx="61920" cy="26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2" name=""/>
                    <p:cNvSpPr/>
                    <p:nvPr/>
                  </p:nvSpPr>
                  <p:spPr>
                    <a:xfrm flipV="1">
                      <a:off x="463320" y="1797480"/>
                      <a:ext cx="104760" cy="131040"/>
                    </a:xfrm>
                    <a:prstGeom prst="line">
                      <a:avLst/>
                    </a:prstGeom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3" name=""/>
                    <p:cNvSpPr/>
                    <p:nvPr/>
                  </p:nvSpPr>
                  <p:spPr>
                    <a:xfrm>
                      <a:off x="568080" y="1798920"/>
                      <a:ext cx="109440" cy="124920"/>
                    </a:xfrm>
                    <a:prstGeom prst="line">
                      <a:avLst/>
                    </a:prstGeom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94" name=""/>
                  <p:cNvSpPr/>
                  <p:nvPr/>
                </p:nvSpPr>
                <p:spPr>
                  <a:xfrm>
                    <a:off x="560160" y="17409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5" name=""/>
                <p:cNvSpPr/>
                <p:nvPr/>
              </p:nvSpPr>
              <p:spPr>
                <a:xfrm>
                  <a:off x="703440" y="170892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754920" y="1827360"/>
                  <a:ext cx="16362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dKfz 251/10              GE-2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7" name=""/>
              <p:cNvSpPr/>
              <p:nvPr/>
            </p:nvSpPr>
            <p:spPr>
              <a:xfrm>
                <a:off x="507960" y="1638360"/>
                <a:ext cx="0" cy="1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365040" y="3261600"/>
              <a:ext cx="2738520" cy="366120"/>
              <a:chOff x="365040" y="3261600"/>
              <a:chExt cx="2738520" cy="366120"/>
            </a:xfrm>
          </p:grpSpPr>
          <p:sp>
            <p:nvSpPr>
              <p:cNvPr id="1399" name=""/>
              <p:cNvSpPr/>
              <p:nvPr/>
            </p:nvSpPr>
            <p:spPr>
              <a:xfrm>
                <a:off x="365040" y="3470040"/>
                <a:ext cx="18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0" name=""/>
              <p:cNvGrpSpPr/>
              <p:nvPr/>
            </p:nvGrpSpPr>
            <p:grpSpPr>
              <a:xfrm>
                <a:off x="517320" y="3261600"/>
                <a:ext cx="2586240" cy="366120"/>
                <a:chOff x="517320" y="3261600"/>
                <a:chExt cx="2586240" cy="36612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796680" y="3412080"/>
                  <a:ext cx="2306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dKfz 251/2 80mm Mortar Halftrack GE-2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805320" y="3261600"/>
                  <a:ext cx="1127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rganic Fire Sup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3" name=""/>
                <p:cNvGrpSpPr/>
                <p:nvPr/>
              </p:nvGrpSpPr>
              <p:grpSpPr>
                <a:xfrm>
                  <a:off x="517320" y="3368520"/>
                  <a:ext cx="239760" cy="221040"/>
                  <a:chOff x="517320" y="3368520"/>
                  <a:chExt cx="239760" cy="221040"/>
                </a:xfrm>
              </p:grpSpPr>
              <p:grpSp>
                <p:nvGrpSpPr>
                  <p:cNvPr id="1404" name=""/>
                  <p:cNvGrpSpPr/>
                  <p:nvPr/>
                </p:nvGrpSpPr>
                <p:grpSpPr>
                  <a:xfrm>
                    <a:off x="517320" y="3401280"/>
                    <a:ext cx="239760" cy="188280"/>
                    <a:chOff x="517320" y="3401280"/>
                    <a:chExt cx="239760" cy="188280"/>
                  </a:xfrm>
                </p:grpSpPr>
                <p:sp>
                  <p:nvSpPr>
                    <p:cNvPr id="1405" name=""/>
                    <p:cNvSpPr/>
                    <p:nvPr/>
                  </p:nvSpPr>
                  <p:spPr>
                    <a:xfrm>
                      <a:off x="517320" y="3401280"/>
                      <a:ext cx="23976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6" name=""/>
                    <p:cNvSpPr/>
                    <p:nvPr/>
                  </p:nvSpPr>
                  <p:spPr>
                    <a:xfrm>
                      <a:off x="531360" y="3562200"/>
                      <a:ext cx="2700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7" name=""/>
                    <p:cNvSpPr/>
                    <p:nvPr/>
                  </p:nvSpPr>
                  <p:spPr>
                    <a:xfrm>
                      <a:off x="644760" y="356112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8" name=""/>
                    <p:cNvSpPr/>
                    <p:nvPr/>
                  </p:nvSpPr>
                  <p:spPr>
                    <a:xfrm>
                      <a:off x="721080" y="356112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9" name=""/>
                    <p:cNvSpPr/>
                    <p:nvPr/>
                  </p:nvSpPr>
                  <p:spPr>
                    <a:xfrm>
                      <a:off x="664920" y="3561120"/>
                      <a:ext cx="61920" cy="27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0" name=""/>
                    <p:cNvSpPr/>
                    <p:nvPr/>
                  </p:nvSpPr>
                  <p:spPr>
                    <a:xfrm>
                      <a:off x="550440" y="3435840"/>
                      <a:ext cx="165600" cy="84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320" bIns="13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1" name=""/>
                    <p:cNvSpPr/>
                    <p:nvPr/>
                  </p:nvSpPr>
                  <p:spPr>
                    <a:xfrm>
                      <a:off x="637560" y="3452400"/>
                      <a:ext cx="0" cy="4752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"/>
                    <p:cNvSpPr/>
                    <p:nvPr/>
                  </p:nvSpPr>
                  <p:spPr>
                    <a:xfrm>
                      <a:off x="604440" y="3502800"/>
                      <a:ext cx="6768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3" name=""/>
                  <p:cNvGrpSpPr/>
                  <p:nvPr/>
                </p:nvGrpSpPr>
                <p:grpSpPr>
                  <a:xfrm>
                    <a:off x="599760" y="3368520"/>
                    <a:ext cx="74520" cy="27720"/>
                    <a:chOff x="599760" y="3368520"/>
                    <a:chExt cx="74520" cy="27720"/>
                  </a:xfrm>
                </p:grpSpPr>
                <p:sp>
                  <p:nvSpPr>
                    <p:cNvPr id="1414" name=""/>
                    <p:cNvSpPr/>
                    <p:nvPr/>
                  </p:nvSpPr>
                  <p:spPr>
                    <a:xfrm>
                      <a:off x="599760" y="336852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5" name=""/>
                    <p:cNvSpPr/>
                    <p:nvPr/>
                  </p:nvSpPr>
                  <p:spPr>
                    <a:xfrm>
                      <a:off x="647280" y="336996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416" name=""/>
            <p:cNvGrpSpPr/>
            <p:nvPr/>
          </p:nvGrpSpPr>
          <p:grpSpPr>
            <a:xfrm>
              <a:off x="374760" y="2816280"/>
              <a:ext cx="2031120" cy="504000"/>
              <a:chOff x="374760" y="2816280"/>
              <a:chExt cx="2031120" cy="504000"/>
            </a:xfrm>
          </p:grpSpPr>
          <p:grpSp>
            <p:nvGrpSpPr>
              <p:cNvPr id="1417" name=""/>
              <p:cNvGrpSpPr/>
              <p:nvPr/>
            </p:nvGrpSpPr>
            <p:grpSpPr>
              <a:xfrm>
                <a:off x="374760" y="2816280"/>
                <a:ext cx="2031120" cy="243720"/>
                <a:chOff x="374760" y="2816280"/>
                <a:chExt cx="2031120" cy="243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374760" y="2940120"/>
                  <a:ext cx="185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9" name=""/>
                <p:cNvGrpSpPr/>
                <p:nvPr/>
              </p:nvGrpSpPr>
              <p:grpSpPr>
                <a:xfrm>
                  <a:off x="520920" y="2816280"/>
                  <a:ext cx="1884960" cy="243720"/>
                  <a:chOff x="520920" y="2816280"/>
                  <a:chExt cx="1884960" cy="243720"/>
                </a:xfrm>
              </p:grpSpPr>
              <p:sp>
                <p:nvSpPr>
                  <p:cNvPr id="1420" name=""/>
                  <p:cNvSpPr/>
                  <p:nvPr/>
                </p:nvSpPr>
                <p:spPr>
                  <a:xfrm>
                    <a:off x="806040" y="2844360"/>
                    <a:ext cx="159984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eavy Machine Gun  GE-5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21" name=""/>
                  <p:cNvGrpSpPr/>
                  <p:nvPr/>
                </p:nvGrpSpPr>
                <p:grpSpPr>
                  <a:xfrm>
                    <a:off x="520920" y="2816280"/>
                    <a:ext cx="236520" cy="201600"/>
                    <a:chOff x="520920" y="2816280"/>
                    <a:chExt cx="236520" cy="201600"/>
                  </a:xfrm>
                </p:grpSpPr>
                <p:grpSp>
                  <p:nvGrpSpPr>
                    <p:cNvPr id="1422" name=""/>
                    <p:cNvGrpSpPr/>
                    <p:nvPr/>
                  </p:nvGrpSpPr>
                  <p:grpSpPr>
                    <a:xfrm>
                      <a:off x="598680" y="2816280"/>
                      <a:ext cx="74520" cy="28800"/>
                      <a:chOff x="598680" y="2816280"/>
                      <a:chExt cx="74520" cy="28800"/>
                    </a:xfrm>
                  </p:grpSpPr>
                  <p:sp>
                    <p:nvSpPr>
                      <p:cNvPr id="1423" name=""/>
                      <p:cNvSpPr/>
                      <p:nvPr/>
                    </p:nvSpPr>
                    <p:spPr>
                      <a:xfrm>
                        <a:off x="598680" y="281628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4" name=""/>
                      <p:cNvSpPr/>
                      <p:nvPr/>
                    </p:nvSpPr>
                    <p:spPr>
                      <a:xfrm>
                        <a:off x="646200" y="281808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25" name=""/>
                    <p:cNvGrpSpPr/>
                    <p:nvPr/>
                  </p:nvGrpSpPr>
                  <p:grpSpPr>
                    <a:xfrm>
                      <a:off x="520920" y="2853000"/>
                      <a:ext cx="236520" cy="164880"/>
                      <a:chOff x="520920" y="2853000"/>
                      <a:chExt cx="236520" cy="164880"/>
                    </a:xfrm>
                  </p:grpSpPr>
                  <p:sp>
                    <p:nvSpPr>
                      <p:cNvPr id="1426" name=""/>
                      <p:cNvSpPr/>
                      <p:nvPr/>
                    </p:nvSpPr>
                    <p:spPr>
                      <a:xfrm>
                        <a:off x="520920" y="285768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7" name=""/>
                      <p:cNvSpPr/>
                      <p:nvPr/>
                    </p:nvSpPr>
                    <p:spPr>
                      <a:xfrm>
                        <a:off x="520920" y="2863800"/>
                        <a:ext cx="50760" cy="1461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8" name=""/>
                      <p:cNvSpPr/>
                      <p:nvPr/>
                    </p:nvSpPr>
                    <p:spPr>
                      <a:xfrm flipV="1">
                        <a:off x="527400" y="2853000"/>
                        <a:ext cx="230040" cy="1425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9" name=""/>
                      <p:cNvSpPr/>
                      <p:nvPr/>
                    </p:nvSpPr>
                    <p:spPr>
                      <a:xfrm>
                        <a:off x="538560" y="2881440"/>
                        <a:ext cx="218880" cy="1364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430" name=""/>
              <p:cNvGrpSpPr/>
              <p:nvPr/>
            </p:nvGrpSpPr>
            <p:grpSpPr>
              <a:xfrm>
                <a:off x="519480" y="2976120"/>
                <a:ext cx="1881720" cy="344160"/>
                <a:chOff x="519480" y="2976120"/>
                <a:chExt cx="1881720" cy="344160"/>
              </a:xfrm>
            </p:grpSpPr>
            <p:grpSp>
              <p:nvGrpSpPr>
                <p:cNvPr id="1431" name=""/>
                <p:cNvGrpSpPr/>
                <p:nvPr/>
              </p:nvGrpSpPr>
              <p:grpSpPr>
                <a:xfrm>
                  <a:off x="519480" y="3060720"/>
                  <a:ext cx="241200" cy="234720"/>
                  <a:chOff x="519480" y="3060720"/>
                  <a:chExt cx="241200" cy="234720"/>
                </a:xfrm>
              </p:grpSpPr>
              <p:grpSp>
                <p:nvGrpSpPr>
                  <p:cNvPr id="1432" name=""/>
                  <p:cNvGrpSpPr/>
                  <p:nvPr/>
                </p:nvGrpSpPr>
                <p:grpSpPr>
                  <a:xfrm>
                    <a:off x="519480" y="3106080"/>
                    <a:ext cx="241200" cy="189360"/>
                    <a:chOff x="519480" y="3106080"/>
                    <a:chExt cx="241200" cy="189360"/>
                  </a:xfrm>
                </p:grpSpPr>
                <p:sp>
                  <p:nvSpPr>
                    <p:cNvPr id="1433" name=""/>
                    <p:cNvSpPr/>
                    <p:nvPr/>
                  </p:nvSpPr>
                  <p:spPr>
                    <a:xfrm>
                      <a:off x="520560" y="3106440"/>
                      <a:ext cx="240120" cy="158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4" name=""/>
                    <p:cNvSpPr/>
                    <p:nvPr/>
                  </p:nvSpPr>
                  <p:spPr>
                    <a:xfrm>
                      <a:off x="556200" y="3145680"/>
                      <a:ext cx="169920" cy="75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5" name=""/>
                    <p:cNvSpPr/>
                    <p:nvPr/>
                  </p:nvSpPr>
                  <p:spPr>
                    <a:xfrm flipV="1">
                      <a:off x="520560" y="3106080"/>
                      <a:ext cx="237960" cy="1566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6" name=""/>
                    <p:cNvSpPr/>
                    <p:nvPr/>
                  </p:nvSpPr>
                  <p:spPr>
                    <a:xfrm>
                      <a:off x="519480" y="3106440"/>
                      <a:ext cx="241200" cy="154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7" name=""/>
                    <p:cNvSpPr/>
                    <p:nvPr/>
                  </p:nvSpPr>
                  <p:spPr>
                    <a:xfrm>
                      <a:off x="534600" y="3268080"/>
                      <a:ext cx="2736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8" name=""/>
                    <p:cNvSpPr/>
                    <p:nvPr/>
                  </p:nvSpPr>
                  <p:spPr>
                    <a:xfrm>
                      <a:off x="648360" y="3267000"/>
                      <a:ext cx="2736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9" name=""/>
                    <p:cNvSpPr/>
                    <p:nvPr/>
                  </p:nvSpPr>
                  <p:spPr>
                    <a:xfrm>
                      <a:off x="724680" y="3267000"/>
                      <a:ext cx="2736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0" name=""/>
                    <p:cNvSpPr/>
                    <p:nvPr/>
                  </p:nvSpPr>
                  <p:spPr>
                    <a:xfrm>
                      <a:off x="668520" y="3267000"/>
                      <a:ext cx="61920" cy="27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440" bIns="-19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41" name=""/>
                  <p:cNvGrpSpPr/>
                  <p:nvPr/>
                </p:nvGrpSpPr>
                <p:grpSpPr>
                  <a:xfrm>
                    <a:off x="592200" y="3060720"/>
                    <a:ext cx="73800" cy="28080"/>
                    <a:chOff x="592200" y="3060720"/>
                    <a:chExt cx="73800" cy="28080"/>
                  </a:xfrm>
                </p:grpSpPr>
                <p:sp>
                  <p:nvSpPr>
                    <p:cNvPr id="1442" name=""/>
                    <p:cNvSpPr/>
                    <p:nvPr/>
                  </p:nvSpPr>
                  <p:spPr>
                    <a:xfrm>
                      <a:off x="592200" y="306072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3" name=""/>
                    <p:cNvSpPr/>
                    <p:nvPr/>
                  </p:nvSpPr>
                  <p:spPr>
                    <a:xfrm>
                      <a:off x="639360" y="306216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44" name=""/>
                <p:cNvSpPr/>
                <p:nvPr/>
              </p:nvSpPr>
              <p:spPr>
                <a:xfrm>
                  <a:off x="800280" y="297612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792360" y="3104640"/>
                  <a:ext cx="16088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dKfz 251/7               GE-2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6" name=""/>
              <p:cNvSpPr/>
              <p:nvPr/>
            </p:nvSpPr>
            <p:spPr>
              <a:xfrm>
                <a:off x="571680" y="3025800"/>
                <a:ext cx="0" cy="11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7" name=""/>
            <p:cNvSpPr/>
            <p:nvPr/>
          </p:nvSpPr>
          <p:spPr>
            <a:xfrm>
              <a:off x="363600" y="1362240"/>
              <a:ext cx="0" cy="210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8" name=""/>
            <p:cNvGrpSpPr/>
            <p:nvPr/>
          </p:nvGrpSpPr>
          <p:grpSpPr>
            <a:xfrm>
              <a:off x="216000" y="1119240"/>
              <a:ext cx="283680" cy="256320"/>
              <a:chOff x="216000" y="1119240"/>
              <a:chExt cx="283680" cy="256320"/>
            </a:xfrm>
          </p:grpSpPr>
          <p:sp>
            <p:nvSpPr>
              <p:cNvPr id="1449" name=""/>
              <p:cNvSpPr/>
              <p:nvPr/>
            </p:nvSpPr>
            <p:spPr>
              <a:xfrm>
                <a:off x="366480" y="1119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0" name=""/>
              <p:cNvGrpSpPr/>
              <p:nvPr/>
            </p:nvGrpSpPr>
            <p:grpSpPr>
              <a:xfrm>
                <a:off x="216000" y="1182600"/>
                <a:ext cx="283680" cy="192960"/>
                <a:chOff x="216000" y="1182600"/>
                <a:chExt cx="283680" cy="19296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216000" y="1182600"/>
                  <a:ext cx="283680" cy="192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268200" y="1231560"/>
                  <a:ext cx="182880" cy="9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3" name=""/>
                <p:cNvGrpSpPr/>
                <p:nvPr/>
              </p:nvGrpSpPr>
              <p:grpSpPr>
                <a:xfrm>
                  <a:off x="324720" y="1258560"/>
                  <a:ext cx="67680" cy="32760"/>
                  <a:chOff x="324720" y="1258560"/>
                  <a:chExt cx="67680" cy="32760"/>
                </a:xfrm>
              </p:grpSpPr>
              <p:sp>
                <p:nvSpPr>
                  <p:cNvPr id="1454" name=""/>
                  <p:cNvSpPr/>
                  <p:nvPr/>
                </p:nvSpPr>
                <p:spPr>
                  <a:xfrm>
                    <a:off x="324720" y="125856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359280" y="125856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392400" y="125856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324720" y="1258560"/>
                    <a:ext cx="676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58" name=""/>
            <p:cNvGrpSpPr/>
            <p:nvPr/>
          </p:nvGrpSpPr>
          <p:grpSpPr>
            <a:xfrm>
              <a:off x="366840" y="2029680"/>
              <a:ext cx="2032920" cy="215640"/>
              <a:chOff x="366840" y="2029680"/>
              <a:chExt cx="2032920" cy="215640"/>
            </a:xfrm>
          </p:grpSpPr>
          <p:sp>
            <p:nvSpPr>
              <p:cNvPr id="1459" name=""/>
              <p:cNvSpPr/>
              <p:nvPr/>
            </p:nvSpPr>
            <p:spPr>
              <a:xfrm>
                <a:off x="756000" y="2029680"/>
                <a:ext cx="1643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ioniere (3 w/Flame)   GE-4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66840" y="214308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1" name=""/>
              <p:cNvGrpSpPr/>
              <p:nvPr/>
            </p:nvGrpSpPr>
            <p:grpSpPr>
              <a:xfrm>
                <a:off x="454320" y="2063520"/>
                <a:ext cx="231840" cy="156960"/>
                <a:chOff x="454320" y="2063520"/>
                <a:chExt cx="231840" cy="15696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454320" y="206352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3" name=""/>
                <p:cNvGrpSpPr/>
                <p:nvPr/>
              </p:nvGrpSpPr>
              <p:grpSpPr>
                <a:xfrm>
                  <a:off x="541800" y="2120400"/>
                  <a:ext cx="55440" cy="26640"/>
                  <a:chOff x="541800" y="2120400"/>
                  <a:chExt cx="55440" cy="26640"/>
                </a:xfrm>
              </p:grpSpPr>
              <p:sp>
                <p:nvSpPr>
                  <p:cNvPr id="1464" name=""/>
                  <p:cNvSpPr/>
                  <p:nvPr/>
                </p:nvSpPr>
                <p:spPr>
                  <a:xfrm>
                    <a:off x="541800" y="2120400"/>
                    <a:ext cx="0" cy="26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570240" y="2120400"/>
                    <a:ext cx="0" cy="26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597240" y="2120400"/>
                    <a:ext cx="0" cy="26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541800" y="2120400"/>
                    <a:ext cx="554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68" name=""/>
            <p:cNvGrpSpPr/>
            <p:nvPr/>
          </p:nvGrpSpPr>
          <p:grpSpPr>
            <a:xfrm>
              <a:off x="372960" y="2220840"/>
              <a:ext cx="2038680" cy="565560"/>
              <a:chOff x="372960" y="2220840"/>
              <a:chExt cx="2038680" cy="565560"/>
            </a:xfrm>
          </p:grpSpPr>
          <p:sp>
            <p:nvSpPr>
              <p:cNvPr id="1469" name=""/>
              <p:cNvSpPr/>
              <p:nvPr/>
            </p:nvSpPr>
            <p:spPr>
              <a:xfrm>
                <a:off x="542880" y="2220840"/>
                <a:ext cx="0" cy="10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0" name=""/>
              <p:cNvGrpSpPr/>
              <p:nvPr/>
            </p:nvGrpSpPr>
            <p:grpSpPr>
              <a:xfrm>
                <a:off x="372960" y="2288160"/>
                <a:ext cx="2038680" cy="215640"/>
                <a:chOff x="372960" y="2288160"/>
                <a:chExt cx="2038680" cy="21564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372960" y="2406240"/>
                  <a:ext cx="185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2" name=""/>
                <p:cNvGrpSpPr/>
                <p:nvPr/>
              </p:nvGrpSpPr>
              <p:grpSpPr>
                <a:xfrm>
                  <a:off x="490320" y="2288160"/>
                  <a:ext cx="1921320" cy="215640"/>
                  <a:chOff x="490320" y="2288160"/>
                  <a:chExt cx="1921320" cy="215640"/>
                </a:xfrm>
              </p:grpSpPr>
              <p:sp>
                <p:nvSpPr>
                  <p:cNvPr id="1473" name=""/>
                  <p:cNvSpPr/>
                  <p:nvPr/>
                </p:nvSpPr>
                <p:spPr>
                  <a:xfrm>
                    <a:off x="764640" y="2288160"/>
                    <a:ext cx="16470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3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Light Machine Gun      GE-49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74" name=""/>
                  <p:cNvGrpSpPr/>
                  <p:nvPr/>
                </p:nvGrpSpPr>
                <p:grpSpPr>
                  <a:xfrm>
                    <a:off x="490320" y="2291760"/>
                    <a:ext cx="236520" cy="191880"/>
                    <a:chOff x="490320" y="2291760"/>
                    <a:chExt cx="236520" cy="191880"/>
                  </a:xfrm>
                </p:grpSpPr>
                <p:grpSp>
                  <p:nvGrpSpPr>
                    <p:cNvPr id="1475" name=""/>
                    <p:cNvGrpSpPr/>
                    <p:nvPr/>
                  </p:nvGrpSpPr>
                  <p:grpSpPr>
                    <a:xfrm>
                      <a:off x="570960" y="2291760"/>
                      <a:ext cx="74520" cy="28800"/>
                      <a:chOff x="570960" y="2291760"/>
                      <a:chExt cx="74520" cy="28800"/>
                    </a:xfrm>
                  </p:grpSpPr>
                  <p:sp>
                    <p:nvSpPr>
                      <p:cNvPr id="1476" name=""/>
                      <p:cNvSpPr/>
                      <p:nvPr/>
                    </p:nvSpPr>
                    <p:spPr>
                      <a:xfrm>
                        <a:off x="570960" y="229176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7" name=""/>
                      <p:cNvSpPr/>
                      <p:nvPr/>
                    </p:nvSpPr>
                    <p:spPr>
                      <a:xfrm>
                        <a:off x="618480" y="229356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78" name=""/>
                    <p:cNvGrpSpPr/>
                    <p:nvPr/>
                  </p:nvGrpSpPr>
                  <p:grpSpPr>
                    <a:xfrm>
                      <a:off x="490320" y="2318760"/>
                      <a:ext cx="236520" cy="164880"/>
                      <a:chOff x="490320" y="2318760"/>
                      <a:chExt cx="236520" cy="164880"/>
                    </a:xfrm>
                  </p:grpSpPr>
                  <p:sp>
                    <p:nvSpPr>
                      <p:cNvPr id="1479" name=""/>
                      <p:cNvSpPr/>
                      <p:nvPr/>
                    </p:nvSpPr>
                    <p:spPr>
                      <a:xfrm>
                        <a:off x="490320" y="232344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0" name=""/>
                      <p:cNvSpPr/>
                      <p:nvPr/>
                    </p:nvSpPr>
                    <p:spPr>
                      <a:xfrm>
                        <a:off x="490320" y="2329560"/>
                        <a:ext cx="50760" cy="1461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1" name=""/>
                      <p:cNvSpPr/>
                      <p:nvPr/>
                    </p:nvSpPr>
                    <p:spPr>
                      <a:xfrm flipV="1">
                        <a:off x="496800" y="2318760"/>
                        <a:ext cx="230040" cy="1425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2" name=""/>
                      <p:cNvSpPr/>
                      <p:nvPr/>
                    </p:nvSpPr>
                    <p:spPr>
                      <a:xfrm>
                        <a:off x="507960" y="2347200"/>
                        <a:ext cx="218880" cy="1364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483" name=""/>
              <p:cNvGrpSpPr/>
              <p:nvPr/>
            </p:nvGrpSpPr>
            <p:grpSpPr>
              <a:xfrm>
                <a:off x="490320" y="2442240"/>
                <a:ext cx="1919160" cy="344160"/>
                <a:chOff x="490320" y="2442240"/>
                <a:chExt cx="1919160" cy="34416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779760" y="244224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771840" y="2570760"/>
                  <a:ext cx="1637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6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dKfz 251/7                GE-2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544320" y="2492280"/>
                  <a:ext cx="0" cy="11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7" name=""/>
                <p:cNvGrpSpPr/>
                <p:nvPr/>
              </p:nvGrpSpPr>
              <p:grpSpPr>
                <a:xfrm>
                  <a:off x="490320" y="2527200"/>
                  <a:ext cx="239760" cy="233280"/>
                  <a:chOff x="490320" y="2527200"/>
                  <a:chExt cx="239760" cy="233280"/>
                </a:xfrm>
              </p:grpSpPr>
              <p:grpSp>
                <p:nvGrpSpPr>
                  <p:cNvPr id="1488" name=""/>
                  <p:cNvGrpSpPr/>
                  <p:nvPr/>
                </p:nvGrpSpPr>
                <p:grpSpPr>
                  <a:xfrm>
                    <a:off x="571320" y="2527200"/>
                    <a:ext cx="74520" cy="28080"/>
                    <a:chOff x="571320" y="2527200"/>
                    <a:chExt cx="74520" cy="28080"/>
                  </a:xfrm>
                </p:grpSpPr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71320" y="252720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618840" y="252864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90320" y="2571480"/>
                    <a:ext cx="239760" cy="189000"/>
                    <a:chOff x="490320" y="2571480"/>
                    <a:chExt cx="239760" cy="18900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90320" y="2571480"/>
                      <a:ext cx="23976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527040" y="2611440"/>
                      <a:ext cx="169920" cy="74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506160" y="27334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619200" y="273204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6" name=""/>
                    <p:cNvSpPr/>
                    <p:nvPr/>
                  </p:nvSpPr>
                  <p:spPr>
                    <a:xfrm>
                      <a:off x="695160" y="2732040"/>
                      <a:ext cx="288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639720" y="2732040"/>
                      <a:ext cx="61920" cy="27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98" name=""/>
                    <p:cNvGrpSpPr/>
                    <p:nvPr/>
                  </p:nvGrpSpPr>
                  <p:grpSpPr>
                    <a:xfrm>
                      <a:off x="587160" y="2633400"/>
                      <a:ext cx="55440" cy="27000"/>
                      <a:chOff x="587160" y="2633400"/>
                      <a:chExt cx="55440" cy="27000"/>
                    </a:xfrm>
                  </p:grpSpPr>
                  <p:sp>
                    <p:nvSpPr>
                      <p:cNvPr id="1499" name=""/>
                      <p:cNvSpPr/>
                      <p:nvPr/>
                    </p:nvSpPr>
                    <p:spPr>
                      <a:xfrm>
                        <a:off x="587160" y="2633400"/>
                        <a:ext cx="0" cy="270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0" name=""/>
                      <p:cNvSpPr/>
                      <p:nvPr/>
                    </p:nvSpPr>
                    <p:spPr>
                      <a:xfrm>
                        <a:off x="615600" y="2633400"/>
                        <a:ext cx="0" cy="270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1" name=""/>
                      <p:cNvSpPr/>
                      <p:nvPr/>
                    </p:nvSpPr>
                    <p:spPr>
                      <a:xfrm>
                        <a:off x="642600" y="2633400"/>
                        <a:ext cx="0" cy="270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2" name=""/>
                      <p:cNvSpPr/>
                      <p:nvPr/>
                    </p:nvSpPr>
                    <p:spPr>
                      <a:xfrm>
                        <a:off x="587160" y="2633400"/>
                        <a:ext cx="554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1503" name=""/>
          <p:cNvGrpSpPr/>
          <p:nvPr/>
        </p:nvGrpSpPr>
        <p:grpSpPr>
          <a:xfrm>
            <a:off x="393840" y="3695760"/>
            <a:ext cx="2260440" cy="405360"/>
            <a:chOff x="393840" y="3695760"/>
            <a:chExt cx="2260440" cy="405360"/>
          </a:xfrm>
        </p:grpSpPr>
        <p:grpSp>
          <p:nvGrpSpPr>
            <p:cNvPr id="1504" name=""/>
            <p:cNvGrpSpPr/>
            <p:nvPr/>
          </p:nvGrpSpPr>
          <p:grpSpPr>
            <a:xfrm>
              <a:off x="393840" y="3798720"/>
              <a:ext cx="241200" cy="249120"/>
              <a:chOff x="393840" y="3798720"/>
              <a:chExt cx="241200" cy="249120"/>
            </a:xfrm>
          </p:grpSpPr>
          <p:grpSp>
            <p:nvGrpSpPr>
              <p:cNvPr id="1505" name=""/>
              <p:cNvGrpSpPr/>
              <p:nvPr/>
            </p:nvGrpSpPr>
            <p:grpSpPr>
              <a:xfrm>
                <a:off x="393840" y="3854160"/>
                <a:ext cx="241200" cy="193680"/>
                <a:chOff x="393840" y="3854160"/>
                <a:chExt cx="241200" cy="193680"/>
              </a:xfrm>
            </p:grpSpPr>
            <p:grpSp>
              <p:nvGrpSpPr>
                <p:cNvPr id="1506" name=""/>
                <p:cNvGrpSpPr/>
                <p:nvPr/>
              </p:nvGrpSpPr>
              <p:grpSpPr>
                <a:xfrm>
                  <a:off x="393840" y="3854160"/>
                  <a:ext cx="241200" cy="156960"/>
                  <a:chOff x="393840" y="3854160"/>
                  <a:chExt cx="241200" cy="156960"/>
                </a:xfrm>
              </p:grpSpPr>
              <p:sp>
                <p:nvSpPr>
                  <p:cNvPr id="1507" name=""/>
                  <p:cNvSpPr/>
                  <p:nvPr/>
                </p:nvSpPr>
                <p:spPr>
                  <a:xfrm>
                    <a:off x="394920" y="3854160"/>
                    <a:ext cx="24012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424800" y="3888360"/>
                    <a:ext cx="171720" cy="74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 flipV="1">
                    <a:off x="393840" y="3854520"/>
                    <a:ext cx="115560" cy="155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509400" y="3854160"/>
                    <a:ext cx="123840" cy="15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460440" y="3920760"/>
                    <a:ext cx="979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2" name=""/>
                <p:cNvSpPr/>
                <p:nvPr/>
              </p:nvSpPr>
              <p:spPr>
                <a:xfrm>
                  <a:off x="408240" y="40208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520920" y="40194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596880" y="401940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541440" y="4019400"/>
                  <a:ext cx="61920" cy="27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6" name=""/>
              <p:cNvSpPr/>
              <p:nvPr/>
            </p:nvSpPr>
            <p:spPr>
              <a:xfrm>
                <a:off x="500040" y="37987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7" name=""/>
            <p:cNvSpPr/>
            <p:nvPr/>
          </p:nvSpPr>
          <p:spPr>
            <a:xfrm>
              <a:off x="642960" y="37663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94800" y="3885480"/>
              <a:ext cx="195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dKfz 251/17 20mm H-track  GE-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47480" y="3695760"/>
              <a:ext cx="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115920" y="668160"/>
            <a:ext cx="24861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z. Engineer Company (Armor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60360" y="4225320"/>
            <a:ext cx="109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407880" y="4421160"/>
            <a:ext cx="2044080" cy="921240"/>
            <a:chOff x="407880" y="4421160"/>
            <a:chExt cx="2044080" cy="921240"/>
          </a:xfrm>
        </p:grpSpPr>
        <p:grpSp>
          <p:nvGrpSpPr>
            <p:cNvPr id="1523" name=""/>
            <p:cNvGrpSpPr/>
            <p:nvPr/>
          </p:nvGrpSpPr>
          <p:grpSpPr>
            <a:xfrm>
              <a:off x="407880" y="4585680"/>
              <a:ext cx="2032920" cy="215640"/>
              <a:chOff x="407880" y="4585680"/>
              <a:chExt cx="2032920" cy="215640"/>
            </a:xfrm>
          </p:grpSpPr>
          <p:sp>
            <p:nvSpPr>
              <p:cNvPr id="1524" name=""/>
              <p:cNvSpPr/>
              <p:nvPr/>
            </p:nvSpPr>
            <p:spPr>
              <a:xfrm>
                <a:off x="797040" y="4585680"/>
                <a:ext cx="1643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ioniere (1 w/Flame)   GE-4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07880" y="469908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6" name=""/>
              <p:cNvGrpSpPr/>
              <p:nvPr/>
            </p:nvGrpSpPr>
            <p:grpSpPr>
              <a:xfrm>
                <a:off x="495360" y="4619520"/>
                <a:ext cx="231840" cy="156960"/>
                <a:chOff x="495360" y="4619520"/>
                <a:chExt cx="231840" cy="15696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495360" y="461952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8" name=""/>
                <p:cNvGrpSpPr/>
                <p:nvPr/>
              </p:nvGrpSpPr>
              <p:grpSpPr>
                <a:xfrm>
                  <a:off x="582840" y="4676400"/>
                  <a:ext cx="55440" cy="26640"/>
                  <a:chOff x="582840" y="4676400"/>
                  <a:chExt cx="55440" cy="2664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582840" y="4676400"/>
                    <a:ext cx="0" cy="26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611280" y="4676400"/>
                    <a:ext cx="0" cy="26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638280" y="4676400"/>
                    <a:ext cx="0" cy="26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582840" y="4676400"/>
                    <a:ext cx="554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33" name=""/>
            <p:cNvGrpSpPr/>
            <p:nvPr/>
          </p:nvGrpSpPr>
          <p:grpSpPr>
            <a:xfrm>
              <a:off x="414360" y="4776840"/>
              <a:ext cx="2037600" cy="565560"/>
              <a:chOff x="414360" y="4776840"/>
              <a:chExt cx="2037600" cy="565560"/>
            </a:xfrm>
          </p:grpSpPr>
          <p:sp>
            <p:nvSpPr>
              <p:cNvPr id="1534" name=""/>
              <p:cNvSpPr/>
              <p:nvPr/>
            </p:nvSpPr>
            <p:spPr>
              <a:xfrm>
                <a:off x="583920" y="4776840"/>
                <a:ext cx="0" cy="10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5" name=""/>
              <p:cNvGrpSpPr/>
              <p:nvPr/>
            </p:nvGrpSpPr>
            <p:grpSpPr>
              <a:xfrm>
                <a:off x="414360" y="4844160"/>
                <a:ext cx="2037600" cy="215640"/>
                <a:chOff x="414360" y="4844160"/>
                <a:chExt cx="2037600" cy="21564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414360" y="4962240"/>
                  <a:ext cx="185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7" name=""/>
                <p:cNvGrpSpPr/>
                <p:nvPr/>
              </p:nvGrpSpPr>
              <p:grpSpPr>
                <a:xfrm>
                  <a:off x="531360" y="4844160"/>
                  <a:ext cx="1920600" cy="215640"/>
                  <a:chOff x="531360" y="4844160"/>
                  <a:chExt cx="1920600" cy="215640"/>
                </a:xfrm>
              </p:grpSpPr>
              <p:sp>
                <p:nvSpPr>
                  <p:cNvPr id="1538" name=""/>
                  <p:cNvSpPr/>
                  <p:nvPr/>
                </p:nvSpPr>
                <p:spPr>
                  <a:xfrm>
                    <a:off x="804960" y="4844160"/>
                    <a:ext cx="16470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Light Machine Gun      GE-49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39" name=""/>
                  <p:cNvGrpSpPr/>
                  <p:nvPr/>
                </p:nvGrpSpPr>
                <p:grpSpPr>
                  <a:xfrm>
                    <a:off x="531360" y="4847760"/>
                    <a:ext cx="235800" cy="191880"/>
                    <a:chOff x="531360" y="4847760"/>
                    <a:chExt cx="235800" cy="191880"/>
                  </a:xfrm>
                </p:grpSpPr>
                <p:grpSp>
                  <p:nvGrpSpPr>
                    <p:cNvPr id="1540" name=""/>
                    <p:cNvGrpSpPr/>
                    <p:nvPr/>
                  </p:nvGrpSpPr>
                  <p:grpSpPr>
                    <a:xfrm>
                      <a:off x="611640" y="4847760"/>
                      <a:ext cx="74520" cy="28800"/>
                      <a:chOff x="611640" y="4847760"/>
                      <a:chExt cx="74520" cy="28800"/>
                    </a:xfrm>
                  </p:grpSpPr>
                  <p:sp>
                    <p:nvSpPr>
                      <p:cNvPr id="1541" name=""/>
                      <p:cNvSpPr/>
                      <p:nvPr/>
                    </p:nvSpPr>
                    <p:spPr>
                      <a:xfrm>
                        <a:off x="611640" y="484776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2" name=""/>
                      <p:cNvSpPr/>
                      <p:nvPr/>
                    </p:nvSpPr>
                    <p:spPr>
                      <a:xfrm>
                        <a:off x="659160" y="484956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43" name=""/>
                    <p:cNvGrpSpPr/>
                    <p:nvPr/>
                  </p:nvGrpSpPr>
                  <p:grpSpPr>
                    <a:xfrm>
                      <a:off x="531360" y="4874760"/>
                      <a:ext cx="235800" cy="164880"/>
                      <a:chOff x="531360" y="4874760"/>
                      <a:chExt cx="235800" cy="164880"/>
                    </a:xfrm>
                  </p:grpSpPr>
                  <p:sp>
                    <p:nvSpPr>
                      <p:cNvPr id="1544" name=""/>
                      <p:cNvSpPr/>
                      <p:nvPr/>
                    </p:nvSpPr>
                    <p:spPr>
                      <a:xfrm>
                        <a:off x="531360" y="487944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5" name=""/>
                      <p:cNvSpPr/>
                      <p:nvPr/>
                    </p:nvSpPr>
                    <p:spPr>
                      <a:xfrm>
                        <a:off x="531360" y="4885560"/>
                        <a:ext cx="50400" cy="1461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6" name=""/>
                      <p:cNvSpPr/>
                      <p:nvPr/>
                    </p:nvSpPr>
                    <p:spPr>
                      <a:xfrm flipV="1">
                        <a:off x="537480" y="4874760"/>
                        <a:ext cx="229680" cy="1425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7" name=""/>
                      <p:cNvSpPr/>
                      <p:nvPr/>
                    </p:nvSpPr>
                    <p:spPr>
                      <a:xfrm>
                        <a:off x="548640" y="4903200"/>
                        <a:ext cx="218520" cy="1364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548" name=""/>
              <p:cNvGrpSpPr/>
              <p:nvPr/>
            </p:nvGrpSpPr>
            <p:grpSpPr>
              <a:xfrm>
                <a:off x="531360" y="4998240"/>
                <a:ext cx="1918440" cy="344160"/>
                <a:chOff x="531360" y="4998240"/>
                <a:chExt cx="1918440" cy="34416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820080" y="499824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12160" y="5126760"/>
                  <a:ext cx="1637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dKfz 251/7                GE-2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585000" y="5048280"/>
                  <a:ext cx="0" cy="11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2" name=""/>
                <p:cNvGrpSpPr/>
                <p:nvPr/>
              </p:nvGrpSpPr>
              <p:grpSpPr>
                <a:xfrm>
                  <a:off x="531360" y="5083200"/>
                  <a:ext cx="239400" cy="233280"/>
                  <a:chOff x="531360" y="5083200"/>
                  <a:chExt cx="239400" cy="233280"/>
                </a:xfrm>
              </p:grpSpPr>
              <p:grpSp>
                <p:nvGrpSpPr>
                  <p:cNvPr id="1553" name=""/>
                  <p:cNvGrpSpPr/>
                  <p:nvPr/>
                </p:nvGrpSpPr>
                <p:grpSpPr>
                  <a:xfrm>
                    <a:off x="612000" y="5083200"/>
                    <a:ext cx="73800" cy="28080"/>
                    <a:chOff x="612000" y="5083200"/>
                    <a:chExt cx="73800" cy="28080"/>
                  </a:xfrm>
                </p:grpSpPr>
                <p:sp>
                  <p:nvSpPr>
                    <p:cNvPr id="1554" name=""/>
                    <p:cNvSpPr/>
                    <p:nvPr/>
                  </p:nvSpPr>
                  <p:spPr>
                    <a:xfrm>
                      <a:off x="612000" y="508320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5" name=""/>
                    <p:cNvSpPr/>
                    <p:nvPr/>
                  </p:nvSpPr>
                  <p:spPr>
                    <a:xfrm>
                      <a:off x="659160" y="508464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56" name=""/>
                  <p:cNvGrpSpPr/>
                  <p:nvPr/>
                </p:nvGrpSpPr>
                <p:grpSpPr>
                  <a:xfrm>
                    <a:off x="531360" y="5127480"/>
                    <a:ext cx="239400" cy="189000"/>
                    <a:chOff x="531360" y="5127480"/>
                    <a:chExt cx="239400" cy="189000"/>
                  </a:xfrm>
                </p:grpSpPr>
                <p:sp>
                  <p:nvSpPr>
                    <p:cNvPr id="1557" name=""/>
                    <p:cNvSpPr/>
                    <p:nvPr/>
                  </p:nvSpPr>
                  <p:spPr>
                    <a:xfrm>
                      <a:off x="531360" y="5127480"/>
                      <a:ext cx="23940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8" name=""/>
                    <p:cNvSpPr/>
                    <p:nvPr/>
                  </p:nvSpPr>
                  <p:spPr>
                    <a:xfrm>
                      <a:off x="567720" y="5167440"/>
                      <a:ext cx="169560" cy="74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9" name=""/>
                    <p:cNvSpPr/>
                    <p:nvPr/>
                  </p:nvSpPr>
                  <p:spPr>
                    <a:xfrm>
                      <a:off x="546840" y="528948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0" name=""/>
                    <p:cNvSpPr/>
                    <p:nvPr/>
                  </p:nvSpPr>
                  <p:spPr>
                    <a:xfrm>
                      <a:off x="659880" y="528804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1" name=""/>
                    <p:cNvSpPr/>
                    <p:nvPr/>
                  </p:nvSpPr>
                  <p:spPr>
                    <a:xfrm>
                      <a:off x="735840" y="528804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2" name=""/>
                    <p:cNvSpPr/>
                    <p:nvPr/>
                  </p:nvSpPr>
                  <p:spPr>
                    <a:xfrm>
                      <a:off x="680400" y="5288040"/>
                      <a:ext cx="61560" cy="27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63" name=""/>
                    <p:cNvGrpSpPr/>
                    <p:nvPr/>
                  </p:nvGrpSpPr>
                  <p:grpSpPr>
                    <a:xfrm>
                      <a:off x="627840" y="5189400"/>
                      <a:ext cx="55440" cy="27000"/>
                      <a:chOff x="627840" y="5189400"/>
                      <a:chExt cx="55440" cy="27000"/>
                    </a:xfrm>
                  </p:grpSpPr>
                  <p:sp>
                    <p:nvSpPr>
                      <p:cNvPr id="1564" name=""/>
                      <p:cNvSpPr/>
                      <p:nvPr/>
                    </p:nvSpPr>
                    <p:spPr>
                      <a:xfrm>
                        <a:off x="627840" y="5189400"/>
                        <a:ext cx="0" cy="270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5" name=""/>
                      <p:cNvSpPr/>
                      <p:nvPr/>
                    </p:nvSpPr>
                    <p:spPr>
                      <a:xfrm>
                        <a:off x="656280" y="5189400"/>
                        <a:ext cx="0" cy="270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6" name=""/>
                      <p:cNvSpPr/>
                      <p:nvPr/>
                    </p:nvSpPr>
                    <p:spPr>
                      <a:xfrm>
                        <a:off x="683280" y="5189400"/>
                        <a:ext cx="0" cy="270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7" name=""/>
                      <p:cNvSpPr/>
                      <p:nvPr/>
                    </p:nvSpPr>
                    <p:spPr>
                      <a:xfrm>
                        <a:off x="627840" y="5189400"/>
                        <a:ext cx="554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1568" name=""/>
            <p:cNvSpPr/>
            <p:nvPr/>
          </p:nvSpPr>
          <p:spPr>
            <a:xfrm flipV="1">
              <a:off x="407880" y="4421160"/>
              <a:ext cx="6480" cy="54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9" name=""/>
          <p:cNvSpPr/>
          <p:nvPr/>
        </p:nvSpPr>
        <p:spPr>
          <a:xfrm>
            <a:off x="3170160" y="704520"/>
            <a:ext cx="24861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z. Engineer Company (Armor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3289320" y="4545000"/>
            <a:ext cx="2076120" cy="1139040"/>
            <a:chOff x="3289320" y="4545000"/>
            <a:chExt cx="2076120" cy="1139040"/>
          </a:xfrm>
        </p:grpSpPr>
        <p:grpSp>
          <p:nvGrpSpPr>
            <p:cNvPr id="1571" name=""/>
            <p:cNvGrpSpPr/>
            <p:nvPr/>
          </p:nvGrpSpPr>
          <p:grpSpPr>
            <a:xfrm>
              <a:off x="3298680" y="4698360"/>
              <a:ext cx="2032920" cy="215640"/>
              <a:chOff x="3298680" y="4698360"/>
              <a:chExt cx="2032920" cy="215640"/>
            </a:xfrm>
          </p:grpSpPr>
          <p:sp>
            <p:nvSpPr>
              <p:cNvPr id="1572" name=""/>
              <p:cNvSpPr/>
              <p:nvPr/>
            </p:nvSpPr>
            <p:spPr>
              <a:xfrm>
                <a:off x="3687840" y="4698360"/>
                <a:ext cx="1643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ioniere (1 w/Flame)   GE-4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98680" y="481176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3386160" y="4732200"/>
                <a:ext cx="231840" cy="156960"/>
                <a:chOff x="3386160" y="4732200"/>
                <a:chExt cx="231840" cy="15696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3386160" y="473220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3473640" y="4789080"/>
                  <a:ext cx="55440" cy="26640"/>
                  <a:chOff x="3473640" y="4789080"/>
                  <a:chExt cx="55440" cy="2664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3473640" y="4789080"/>
                    <a:ext cx="0" cy="26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3502080" y="4789080"/>
                    <a:ext cx="0" cy="26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3529080" y="4789080"/>
                    <a:ext cx="0" cy="26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3473640" y="4789080"/>
                    <a:ext cx="554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81" name=""/>
            <p:cNvGrpSpPr/>
            <p:nvPr/>
          </p:nvGrpSpPr>
          <p:grpSpPr>
            <a:xfrm>
              <a:off x="3289320" y="4971240"/>
              <a:ext cx="2038680" cy="215640"/>
              <a:chOff x="3289320" y="4971240"/>
              <a:chExt cx="2038680" cy="215640"/>
            </a:xfrm>
          </p:grpSpPr>
          <p:sp>
            <p:nvSpPr>
              <p:cNvPr id="1582" name=""/>
              <p:cNvSpPr/>
              <p:nvPr/>
            </p:nvSpPr>
            <p:spPr>
              <a:xfrm>
                <a:off x="3289320" y="5089320"/>
                <a:ext cx="18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3" name=""/>
              <p:cNvGrpSpPr/>
              <p:nvPr/>
            </p:nvGrpSpPr>
            <p:grpSpPr>
              <a:xfrm>
                <a:off x="3406680" y="4971240"/>
                <a:ext cx="1921320" cy="215640"/>
                <a:chOff x="3406680" y="4971240"/>
                <a:chExt cx="1921320" cy="215640"/>
              </a:xfrm>
            </p:grpSpPr>
            <p:sp>
              <p:nvSpPr>
                <p:cNvPr id="1584" name=""/>
                <p:cNvSpPr/>
                <p:nvPr/>
              </p:nvSpPr>
              <p:spPr>
                <a:xfrm>
                  <a:off x="3681000" y="4971240"/>
                  <a:ext cx="1647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ght Machine Gun      GE-4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5" name=""/>
                <p:cNvGrpSpPr/>
                <p:nvPr/>
              </p:nvGrpSpPr>
              <p:grpSpPr>
                <a:xfrm>
                  <a:off x="3406680" y="4974840"/>
                  <a:ext cx="236520" cy="191880"/>
                  <a:chOff x="3406680" y="4974840"/>
                  <a:chExt cx="236520" cy="191880"/>
                </a:xfrm>
              </p:grpSpPr>
              <p:grpSp>
                <p:nvGrpSpPr>
                  <p:cNvPr id="1586" name=""/>
                  <p:cNvGrpSpPr/>
                  <p:nvPr/>
                </p:nvGrpSpPr>
                <p:grpSpPr>
                  <a:xfrm>
                    <a:off x="3487320" y="4974840"/>
                    <a:ext cx="74520" cy="28800"/>
                    <a:chOff x="3487320" y="4974840"/>
                    <a:chExt cx="74520" cy="28800"/>
                  </a:xfrm>
                </p:grpSpPr>
                <p:sp>
                  <p:nvSpPr>
                    <p:cNvPr id="1587" name=""/>
                    <p:cNvSpPr/>
                    <p:nvPr/>
                  </p:nvSpPr>
                  <p:spPr>
                    <a:xfrm>
                      <a:off x="3487320" y="497484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8" name=""/>
                    <p:cNvSpPr/>
                    <p:nvPr/>
                  </p:nvSpPr>
                  <p:spPr>
                    <a:xfrm>
                      <a:off x="3534840" y="497664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9" name=""/>
                  <p:cNvGrpSpPr/>
                  <p:nvPr/>
                </p:nvGrpSpPr>
                <p:grpSpPr>
                  <a:xfrm>
                    <a:off x="3406680" y="5001840"/>
                    <a:ext cx="236520" cy="164880"/>
                    <a:chOff x="3406680" y="5001840"/>
                    <a:chExt cx="236520" cy="164880"/>
                  </a:xfrm>
                </p:grpSpPr>
                <p:sp>
                  <p:nvSpPr>
                    <p:cNvPr id="1590" name=""/>
                    <p:cNvSpPr/>
                    <p:nvPr/>
                  </p:nvSpPr>
                  <p:spPr>
                    <a:xfrm>
                      <a:off x="3406680" y="500652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1" name=""/>
                    <p:cNvSpPr/>
                    <p:nvPr/>
                  </p:nvSpPr>
                  <p:spPr>
                    <a:xfrm>
                      <a:off x="3406680" y="5012640"/>
                      <a:ext cx="50760" cy="146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2" name=""/>
                    <p:cNvSpPr/>
                    <p:nvPr/>
                  </p:nvSpPr>
                  <p:spPr>
                    <a:xfrm flipV="1">
                      <a:off x="3413160" y="5001840"/>
                      <a:ext cx="230040" cy="142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3" name=""/>
                    <p:cNvSpPr/>
                    <p:nvPr/>
                  </p:nvSpPr>
                  <p:spPr>
                    <a:xfrm>
                      <a:off x="3424320" y="5030280"/>
                      <a:ext cx="218880" cy="136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594" name=""/>
            <p:cNvGrpSpPr/>
            <p:nvPr/>
          </p:nvGrpSpPr>
          <p:grpSpPr>
            <a:xfrm>
              <a:off x="3414600" y="5125320"/>
              <a:ext cx="1919160" cy="344160"/>
              <a:chOff x="3414600" y="5125320"/>
              <a:chExt cx="1919160" cy="344160"/>
            </a:xfrm>
          </p:grpSpPr>
          <p:sp>
            <p:nvSpPr>
              <p:cNvPr id="1595" name=""/>
              <p:cNvSpPr/>
              <p:nvPr/>
            </p:nvSpPr>
            <p:spPr>
              <a:xfrm>
                <a:off x="3704040" y="512532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696120" y="5253840"/>
                <a:ext cx="1637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dKfz 251/7                GE-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468600" y="5175000"/>
                <a:ext cx="0" cy="11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8" name=""/>
              <p:cNvGrpSpPr/>
              <p:nvPr/>
            </p:nvGrpSpPr>
            <p:grpSpPr>
              <a:xfrm>
                <a:off x="3414600" y="5209920"/>
                <a:ext cx="239760" cy="233280"/>
                <a:chOff x="3414600" y="5209920"/>
                <a:chExt cx="239760" cy="233280"/>
              </a:xfrm>
            </p:grpSpPr>
            <p:grpSp>
              <p:nvGrpSpPr>
                <p:cNvPr id="1599" name=""/>
                <p:cNvGrpSpPr/>
                <p:nvPr/>
              </p:nvGrpSpPr>
              <p:grpSpPr>
                <a:xfrm>
                  <a:off x="3495600" y="5209920"/>
                  <a:ext cx="74520" cy="28080"/>
                  <a:chOff x="3495600" y="5209920"/>
                  <a:chExt cx="74520" cy="28080"/>
                </a:xfrm>
              </p:grpSpPr>
              <p:sp>
                <p:nvSpPr>
                  <p:cNvPr id="1600" name=""/>
                  <p:cNvSpPr/>
                  <p:nvPr/>
                </p:nvSpPr>
                <p:spPr>
                  <a:xfrm>
                    <a:off x="3495600" y="52099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3543120" y="52113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2" name=""/>
                <p:cNvGrpSpPr/>
                <p:nvPr/>
              </p:nvGrpSpPr>
              <p:grpSpPr>
                <a:xfrm>
                  <a:off x="3414600" y="5254200"/>
                  <a:ext cx="239760" cy="189000"/>
                  <a:chOff x="3414600" y="5254200"/>
                  <a:chExt cx="239760" cy="189000"/>
                </a:xfrm>
              </p:grpSpPr>
              <p:sp>
                <p:nvSpPr>
                  <p:cNvPr id="1603" name=""/>
                  <p:cNvSpPr/>
                  <p:nvPr/>
                </p:nvSpPr>
                <p:spPr>
                  <a:xfrm>
                    <a:off x="3414600" y="5254200"/>
                    <a:ext cx="23976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3451320" y="5294160"/>
                    <a:ext cx="169920" cy="74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3430440" y="54162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3543480" y="54147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3619440" y="5414760"/>
                    <a:ext cx="288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3564000" y="5414760"/>
                    <a:ext cx="6192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9" name=""/>
                  <p:cNvGrpSpPr/>
                  <p:nvPr/>
                </p:nvGrpSpPr>
                <p:grpSpPr>
                  <a:xfrm>
                    <a:off x="3511440" y="5316120"/>
                    <a:ext cx="55440" cy="27000"/>
                    <a:chOff x="3511440" y="5316120"/>
                    <a:chExt cx="55440" cy="27000"/>
                  </a:xfrm>
                </p:grpSpPr>
                <p:sp>
                  <p:nvSpPr>
                    <p:cNvPr id="1610" name=""/>
                    <p:cNvSpPr/>
                    <p:nvPr/>
                  </p:nvSpPr>
                  <p:spPr>
                    <a:xfrm>
                      <a:off x="3511440" y="5316120"/>
                      <a:ext cx="0" cy="27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1" name=""/>
                    <p:cNvSpPr/>
                    <p:nvPr/>
                  </p:nvSpPr>
                  <p:spPr>
                    <a:xfrm>
                      <a:off x="3539880" y="5316120"/>
                      <a:ext cx="0" cy="27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2" name=""/>
                    <p:cNvSpPr/>
                    <p:nvPr/>
                  </p:nvSpPr>
                  <p:spPr>
                    <a:xfrm>
                      <a:off x="3566880" y="5316120"/>
                      <a:ext cx="0" cy="27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3" name=""/>
                    <p:cNvSpPr/>
                    <p:nvPr/>
                  </p:nvSpPr>
                  <p:spPr>
                    <a:xfrm>
                      <a:off x="3511440" y="5316120"/>
                      <a:ext cx="5544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14" name=""/>
            <p:cNvGrpSpPr/>
            <p:nvPr/>
          </p:nvGrpSpPr>
          <p:grpSpPr>
            <a:xfrm>
              <a:off x="3405240" y="5411880"/>
              <a:ext cx="1960200" cy="272160"/>
              <a:chOff x="3405240" y="5411880"/>
              <a:chExt cx="1960200" cy="272160"/>
            </a:xfrm>
          </p:grpSpPr>
          <p:grpSp>
            <p:nvGrpSpPr>
              <p:cNvPr id="1615" name=""/>
              <p:cNvGrpSpPr/>
              <p:nvPr/>
            </p:nvGrpSpPr>
            <p:grpSpPr>
              <a:xfrm>
                <a:off x="3405240" y="5468400"/>
                <a:ext cx="1960200" cy="215640"/>
                <a:chOff x="3405240" y="5468400"/>
                <a:chExt cx="1960200" cy="215640"/>
              </a:xfrm>
            </p:grpSpPr>
            <p:grpSp>
              <p:nvGrpSpPr>
                <p:cNvPr id="1616" name=""/>
                <p:cNvGrpSpPr/>
                <p:nvPr/>
              </p:nvGrpSpPr>
              <p:grpSpPr>
                <a:xfrm>
                  <a:off x="3405240" y="5492880"/>
                  <a:ext cx="231480" cy="189720"/>
                  <a:chOff x="3405240" y="5492880"/>
                  <a:chExt cx="231480" cy="189720"/>
                </a:xfrm>
              </p:grpSpPr>
              <p:sp>
                <p:nvSpPr>
                  <p:cNvPr id="1617" name=""/>
                  <p:cNvSpPr/>
                  <p:nvPr/>
                </p:nvSpPr>
                <p:spPr>
                  <a:xfrm>
                    <a:off x="3405240" y="5492880"/>
                    <a:ext cx="231480" cy="156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3415680" y="565524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>
                    <a:off x="3597480" y="565524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0" name=""/>
                <p:cNvSpPr/>
                <p:nvPr/>
              </p:nvSpPr>
              <p:spPr>
                <a:xfrm>
                  <a:off x="3692520" y="5468400"/>
                  <a:ext cx="1672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ght Truck                   GE-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1" name=""/>
              <p:cNvSpPr/>
              <p:nvPr/>
            </p:nvSpPr>
            <p:spPr>
              <a:xfrm>
                <a:off x="3492360" y="5411880"/>
                <a:ext cx="0" cy="16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2" name=""/>
            <p:cNvSpPr/>
            <p:nvPr/>
          </p:nvSpPr>
          <p:spPr>
            <a:xfrm flipH="1">
              <a:off x="3297240" y="4545000"/>
              <a:ext cx="1440" cy="54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3506760" y="4404600"/>
            <a:ext cx="109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232680" y="664920"/>
            <a:ext cx="24858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ineer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6191280" y="1133640"/>
            <a:ext cx="2190600" cy="1419840"/>
            <a:chOff x="6191280" y="1133640"/>
            <a:chExt cx="2190600" cy="1419840"/>
          </a:xfrm>
        </p:grpSpPr>
        <p:grpSp>
          <p:nvGrpSpPr>
            <p:cNvPr id="1626" name=""/>
            <p:cNvGrpSpPr/>
            <p:nvPr/>
          </p:nvGrpSpPr>
          <p:grpSpPr>
            <a:xfrm>
              <a:off x="6429240" y="1700280"/>
              <a:ext cx="231840" cy="201600"/>
              <a:chOff x="6429240" y="1700280"/>
              <a:chExt cx="231840" cy="201600"/>
            </a:xfrm>
          </p:grpSpPr>
          <p:grpSp>
            <p:nvGrpSpPr>
              <p:cNvPr id="1627" name=""/>
              <p:cNvGrpSpPr/>
              <p:nvPr/>
            </p:nvGrpSpPr>
            <p:grpSpPr>
              <a:xfrm>
                <a:off x="6429240" y="1744560"/>
                <a:ext cx="231840" cy="157320"/>
                <a:chOff x="6429240" y="1744560"/>
                <a:chExt cx="231840" cy="15732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6429240" y="1744560"/>
                  <a:ext cx="23184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9" name=""/>
                <p:cNvGrpSpPr/>
                <p:nvPr/>
              </p:nvGrpSpPr>
              <p:grpSpPr>
                <a:xfrm>
                  <a:off x="6516720" y="1801800"/>
                  <a:ext cx="55440" cy="27000"/>
                  <a:chOff x="6516720" y="1801800"/>
                  <a:chExt cx="55440" cy="2700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>
                    <a:off x="6516720" y="1801800"/>
                    <a:ext cx="0" cy="27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6545160" y="1801800"/>
                    <a:ext cx="0" cy="27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6572160" y="1801800"/>
                    <a:ext cx="0" cy="27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6516720" y="1801800"/>
                    <a:ext cx="554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34" name=""/>
              <p:cNvGrpSpPr/>
              <p:nvPr/>
            </p:nvGrpSpPr>
            <p:grpSpPr>
              <a:xfrm>
                <a:off x="6505560" y="1700280"/>
                <a:ext cx="74520" cy="28080"/>
                <a:chOff x="6505560" y="1700280"/>
                <a:chExt cx="74520" cy="2808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6505560" y="17002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6553080" y="17017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7" name=""/>
            <p:cNvSpPr/>
            <p:nvPr/>
          </p:nvSpPr>
          <p:spPr>
            <a:xfrm>
              <a:off x="6708960" y="1725120"/>
              <a:ext cx="1672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ioniere  (3 w/Flame)   GE-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329520" y="1809720"/>
              <a:ext cx="14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9" name=""/>
            <p:cNvGrpSpPr/>
            <p:nvPr/>
          </p:nvGrpSpPr>
          <p:grpSpPr>
            <a:xfrm>
              <a:off x="6329520" y="1389960"/>
              <a:ext cx="2045880" cy="350640"/>
              <a:chOff x="6329520" y="1389960"/>
              <a:chExt cx="2045880" cy="350640"/>
            </a:xfrm>
          </p:grpSpPr>
          <p:grpSp>
            <p:nvGrpSpPr>
              <p:cNvPr id="1640" name=""/>
              <p:cNvGrpSpPr/>
              <p:nvPr/>
            </p:nvGrpSpPr>
            <p:grpSpPr>
              <a:xfrm>
                <a:off x="6429600" y="1389960"/>
                <a:ext cx="1945800" cy="350640"/>
                <a:chOff x="6429600" y="1389960"/>
                <a:chExt cx="1945800" cy="350640"/>
              </a:xfrm>
            </p:grpSpPr>
            <p:sp>
              <p:nvSpPr>
                <p:cNvPr id="1641" name=""/>
                <p:cNvSpPr/>
                <p:nvPr/>
              </p:nvSpPr>
              <p:spPr>
                <a:xfrm>
                  <a:off x="6696360" y="138996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2" name=""/>
                <p:cNvGrpSpPr/>
                <p:nvPr/>
              </p:nvGrpSpPr>
              <p:grpSpPr>
                <a:xfrm>
                  <a:off x="6429600" y="1450800"/>
                  <a:ext cx="237960" cy="194760"/>
                  <a:chOff x="6429600" y="1450800"/>
                  <a:chExt cx="237960" cy="19476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>
                    <a:off x="6429600" y="1487160"/>
                    <a:ext cx="237960" cy="1584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6534000" y="145080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5" name=""/>
                <p:cNvSpPr/>
                <p:nvPr/>
              </p:nvSpPr>
              <p:spPr>
                <a:xfrm>
                  <a:off x="6707160" y="1524960"/>
                  <a:ext cx="166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   GE-4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6" name=""/>
              <p:cNvSpPr/>
              <p:nvPr/>
            </p:nvSpPr>
            <p:spPr>
              <a:xfrm>
                <a:off x="6329520" y="155736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7" name=""/>
            <p:cNvSpPr/>
            <p:nvPr/>
          </p:nvSpPr>
          <p:spPr>
            <a:xfrm flipH="1">
              <a:off x="6332040" y="1343160"/>
              <a:ext cx="1800" cy="11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8" name=""/>
            <p:cNvGrpSpPr/>
            <p:nvPr/>
          </p:nvGrpSpPr>
          <p:grpSpPr>
            <a:xfrm>
              <a:off x="6340320" y="1932120"/>
              <a:ext cx="2031120" cy="224280"/>
              <a:chOff x="6340320" y="1932120"/>
              <a:chExt cx="2031120" cy="224280"/>
            </a:xfrm>
          </p:grpSpPr>
          <p:sp>
            <p:nvSpPr>
              <p:cNvPr id="1649" name=""/>
              <p:cNvSpPr/>
              <p:nvPr/>
            </p:nvSpPr>
            <p:spPr>
              <a:xfrm>
                <a:off x="6340320" y="2055960"/>
                <a:ext cx="18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0" name=""/>
              <p:cNvGrpSpPr/>
              <p:nvPr/>
            </p:nvGrpSpPr>
            <p:grpSpPr>
              <a:xfrm>
                <a:off x="6448320" y="1932120"/>
                <a:ext cx="1923120" cy="224280"/>
                <a:chOff x="6448320" y="1932120"/>
                <a:chExt cx="1923120" cy="22428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6714000" y="1940760"/>
                  <a:ext cx="1657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vy Machine Gun    GE-5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2" name=""/>
                <p:cNvGrpSpPr/>
                <p:nvPr/>
              </p:nvGrpSpPr>
              <p:grpSpPr>
                <a:xfrm>
                  <a:off x="6448320" y="1932120"/>
                  <a:ext cx="236520" cy="201600"/>
                  <a:chOff x="6448320" y="1932120"/>
                  <a:chExt cx="236520" cy="201600"/>
                </a:xfrm>
              </p:grpSpPr>
              <p:grpSp>
                <p:nvGrpSpPr>
                  <p:cNvPr id="1653" name=""/>
                  <p:cNvGrpSpPr/>
                  <p:nvPr/>
                </p:nvGrpSpPr>
                <p:grpSpPr>
                  <a:xfrm>
                    <a:off x="6526080" y="1932120"/>
                    <a:ext cx="74520" cy="28800"/>
                    <a:chOff x="6526080" y="1932120"/>
                    <a:chExt cx="74520" cy="28800"/>
                  </a:xfrm>
                </p:grpSpPr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6526080" y="193212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6573600" y="193392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6" name=""/>
                  <p:cNvGrpSpPr/>
                  <p:nvPr/>
                </p:nvGrpSpPr>
                <p:grpSpPr>
                  <a:xfrm>
                    <a:off x="6448320" y="1968840"/>
                    <a:ext cx="236520" cy="164880"/>
                    <a:chOff x="6448320" y="1968840"/>
                    <a:chExt cx="236520" cy="164880"/>
                  </a:xfrm>
                </p:grpSpPr>
                <p:sp>
                  <p:nvSpPr>
                    <p:cNvPr id="1657" name=""/>
                    <p:cNvSpPr/>
                    <p:nvPr/>
                  </p:nvSpPr>
                  <p:spPr>
                    <a:xfrm>
                      <a:off x="6448320" y="197352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8" name=""/>
                    <p:cNvSpPr/>
                    <p:nvPr/>
                  </p:nvSpPr>
                  <p:spPr>
                    <a:xfrm>
                      <a:off x="6448320" y="1979640"/>
                      <a:ext cx="50760" cy="146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9" name=""/>
                    <p:cNvSpPr/>
                    <p:nvPr/>
                  </p:nvSpPr>
                  <p:spPr>
                    <a:xfrm flipV="1">
                      <a:off x="6454800" y="1968840"/>
                      <a:ext cx="230040" cy="142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0" name=""/>
                    <p:cNvSpPr/>
                    <p:nvPr/>
                  </p:nvSpPr>
                  <p:spPr>
                    <a:xfrm>
                      <a:off x="6465960" y="1997280"/>
                      <a:ext cx="218880" cy="136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1" name=""/>
            <p:cNvGrpSpPr/>
            <p:nvPr/>
          </p:nvGrpSpPr>
          <p:grpSpPr>
            <a:xfrm>
              <a:off x="6191280" y="1133640"/>
              <a:ext cx="283680" cy="242280"/>
              <a:chOff x="6191280" y="1133640"/>
              <a:chExt cx="283680" cy="242280"/>
            </a:xfrm>
          </p:grpSpPr>
          <p:sp>
            <p:nvSpPr>
              <p:cNvPr id="1662" name=""/>
              <p:cNvSpPr/>
              <p:nvPr/>
            </p:nvSpPr>
            <p:spPr>
              <a:xfrm>
                <a:off x="6334200" y="11336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3" name=""/>
              <p:cNvGrpSpPr/>
              <p:nvPr/>
            </p:nvGrpSpPr>
            <p:grpSpPr>
              <a:xfrm>
                <a:off x="6191280" y="1182600"/>
                <a:ext cx="283680" cy="193320"/>
                <a:chOff x="6191280" y="1182600"/>
                <a:chExt cx="283680" cy="19332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6191280" y="1182600"/>
                  <a:ext cx="283680" cy="19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5" name=""/>
                <p:cNvGrpSpPr/>
                <p:nvPr/>
              </p:nvGrpSpPr>
              <p:grpSpPr>
                <a:xfrm>
                  <a:off x="6298200" y="1252800"/>
                  <a:ext cx="67320" cy="32760"/>
                  <a:chOff x="6298200" y="1252800"/>
                  <a:chExt cx="67320" cy="32760"/>
                </a:xfrm>
              </p:grpSpPr>
              <p:sp>
                <p:nvSpPr>
                  <p:cNvPr id="1666" name=""/>
                  <p:cNvSpPr/>
                  <p:nvPr/>
                </p:nvSpPr>
                <p:spPr>
                  <a:xfrm>
                    <a:off x="6298200" y="125280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>
                    <a:off x="6332760" y="125280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6365520" y="125280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6298200" y="1252800"/>
                    <a:ext cx="673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70" name=""/>
            <p:cNvSpPr/>
            <p:nvPr/>
          </p:nvSpPr>
          <p:spPr>
            <a:xfrm>
              <a:off x="6669720" y="2140920"/>
              <a:ext cx="112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1" name=""/>
            <p:cNvGrpSpPr/>
            <p:nvPr/>
          </p:nvGrpSpPr>
          <p:grpSpPr>
            <a:xfrm>
              <a:off x="6332400" y="2309760"/>
              <a:ext cx="2032560" cy="243720"/>
              <a:chOff x="6332400" y="2309760"/>
              <a:chExt cx="2032560" cy="24372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6497280" y="2309760"/>
                <a:ext cx="1867680" cy="243720"/>
                <a:chOff x="6497280" y="2309760"/>
                <a:chExt cx="1867680" cy="243720"/>
              </a:xfrm>
            </p:grpSpPr>
            <p:grpSp>
              <p:nvGrpSpPr>
                <p:cNvPr id="1673" name=""/>
                <p:cNvGrpSpPr/>
                <p:nvPr/>
              </p:nvGrpSpPr>
              <p:grpSpPr>
                <a:xfrm>
                  <a:off x="6497280" y="2309760"/>
                  <a:ext cx="239760" cy="214200"/>
                  <a:chOff x="6497280" y="2309760"/>
                  <a:chExt cx="239760" cy="214200"/>
                </a:xfrm>
              </p:grpSpPr>
              <p:grpSp>
                <p:nvGrpSpPr>
                  <p:cNvPr id="1674" name=""/>
                  <p:cNvGrpSpPr/>
                  <p:nvPr/>
                </p:nvGrpSpPr>
                <p:grpSpPr>
                  <a:xfrm>
                    <a:off x="6497280" y="2366640"/>
                    <a:ext cx="239760" cy="157320"/>
                    <a:chOff x="6497280" y="2366640"/>
                    <a:chExt cx="239760" cy="157320"/>
                  </a:xfrm>
                </p:grpSpPr>
                <p:sp>
                  <p:nvSpPr>
                    <p:cNvPr id="1675" name=""/>
                    <p:cNvSpPr/>
                    <p:nvPr/>
                  </p:nvSpPr>
                  <p:spPr>
                    <a:xfrm>
                      <a:off x="6497280" y="2366640"/>
                      <a:ext cx="23976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6" name=""/>
                    <p:cNvSpPr/>
                    <p:nvPr/>
                  </p:nvSpPr>
                  <p:spPr>
                    <a:xfrm flipV="1">
                      <a:off x="6581520" y="2482560"/>
                      <a:ext cx="6336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7" name=""/>
                    <p:cNvSpPr/>
                    <p:nvPr/>
                  </p:nvSpPr>
                  <p:spPr>
                    <a:xfrm>
                      <a:off x="6613200" y="2398320"/>
                      <a:ext cx="0" cy="842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78" name=""/>
                  <p:cNvGrpSpPr/>
                  <p:nvPr/>
                </p:nvGrpSpPr>
                <p:grpSpPr>
                  <a:xfrm>
                    <a:off x="6571800" y="2309760"/>
                    <a:ext cx="74520" cy="28080"/>
                    <a:chOff x="6571800" y="2309760"/>
                    <a:chExt cx="74520" cy="28080"/>
                  </a:xfrm>
                </p:grpSpPr>
                <p:sp>
                  <p:nvSpPr>
                    <p:cNvPr id="1679" name=""/>
                    <p:cNvSpPr/>
                    <p:nvPr/>
                  </p:nvSpPr>
                  <p:spPr>
                    <a:xfrm>
                      <a:off x="6571800" y="23097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0" name=""/>
                    <p:cNvSpPr/>
                    <p:nvPr/>
                  </p:nvSpPr>
                  <p:spPr>
                    <a:xfrm>
                      <a:off x="6619320" y="23112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81" name=""/>
                <p:cNvSpPr/>
                <p:nvPr/>
              </p:nvSpPr>
              <p:spPr>
                <a:xfrm>
                  <a:off x="6736320" y="2337840"/>
                  <a:ext cx="1628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80mm Mortar              GE-5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2" name=""/>
              <p:cNvSpPr/>
              <p:nvPr/>
            </p:nvSpPr>
            <p:spPr>
              <a:xfrm>
                <a:off x="6332400" y="2438280"/>
                <a:ext cx="18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3" name=""/>
          <p:cNvGrpSpPr/>
          <p:nvPr/>
        </p:nvGrpSpPr>
        <p:grpSpPr>
          <a:xfrm>
            <a:off x="6232680" y="2687760"/>
            <a:ext cx="2032920" cy="322920"/>
            <a:chOff x="6232680" y="2687760"/>
            <a:chExt cx="2032920" cy="322920"/>
          </a:xfrm>
        </p:grpSpPr>
        <p:grpSp>
          <p:nvGrpSpPr>
            <p:cNvPr id="1684" name=""/>
            <p:cNvGrpSpPr/>
            <p:nvPr/>
          </p:nvGrpSpPr>
          <p:grpSpPr>
            <a:xfrm>
              <a:off x="6232680" y="2795040"/>
              <a:ext cx="2032920" cy="215640"/>
              <a:chOff x="6232680" y="2795040"/>
              <a:chExt cx="2032920" cy="215640"/>
            </a:xfrm>
          </p:grpSpPr>
          <p:sp>
            <p:nvSpPr>
              <p:cNvPr id="1685" name=""/>
              <p:cNvSpPr/>
              <p:nvPr/>
            </p:nvSpPr>
            <p:spPr>
              <a:xfrm>
                <a:off x="6621840" y="2795040"/>
                <a:ext cx="1643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ioniere (1 w/Flame)   GE-4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232680" y="290844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7" name=""/>
              <p:cNvGrpSpPr/>
              <p:nvPr/>
            </p:nvGrpSpPr>
            <p:grpSpPr>
              <a:xfrm>
                <a:off x="6320160" y="2828880"/>
                <a:ext cx="231840" cy="156960"/>
                <a:chOff x="6320160" y="2828880"/>
                <a:chExt cx="231840" cy="156960"/>
              </a:xfrm>
            </p:grpSpPr>
            <p:sp>
              <p:nvSpPr>
                <p:cNvPr id="1688" name=""/>
                <p:cNvSpPr/>
                <p:nvPr/>
              </p:nvSpPr>
              <p:spPr>
                <a:xfrm>
                  <a:off x="6320160" y="282888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9" name=""/>
                <p:cNvGrpSpPr/>
                <p:nvPr/>
              </p:nvGrpSpPr>
              <p:grpSpPr>
                <a:xfrm>
                  <a:off x="6407640" y="2885760"/>
                  <a:ext cx="55440" cy="26640"/>
                  <a:chOff x="6407640" y="2885760"/>
                  <a:chExt cx="55440" cy="26640"/>
                </a:xfrm>
              </p:grpSpPr>
              <p:sp>
                <p:nvSpPr>
                  <p:cNvPr id="1690" name=""/>
                  <p:cNvSpPr/>
                  <p:nvPr/>
                </p:nvSpPr>
                <p:spPr>
                  <a:xfrm>
                    <a:off x="6407640" y="2885760"/>
                    <a:ext cx="0" cy="26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6436080" y="2885760"/>
                    <a:ext cx="0" cy="26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6463080" y="2885760"/>
                    <a:ext cx="0" cy="26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6407640" y="2885760"/>
                    <a:ext cx="554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94" name=""/>
            <p:cNvSpPr/>
            <p:nvPr/>
          </p:nvSpPr>
          <p:spPr>
            <a:xfrm>
              <a:off x="6232680" y="26877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6297480" y="2594880"/>
            <a:ext cx="109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3170160" y="1119240"/>
            <a:ext cx="2322720" cy="3239280"/>
            <a:chOff x="3170160" y="1119240"/>
            <a:chExt cx="2322720" cy="3239280"/>
          </a:xfrm>
        </p:grpSpPr>
        <p:grpSp>
          <p:nvGrpSpPr>
            <p:cNvPr id="1697" name=""/>
            <p:cNvGrpSpPr/>
            <p:nvPr/>
          </p:nvGrpSpPr>
          <p:grpSpPr>
            <a:xfrm>
              <a:off x="3497400" y="2033640"/>
              <a:ext cx="74520" cy="28080"/>
              <a:chOff x="3497400" y="2033640"/>
              <a:chExt cx="74520" cy="28080"/>
            </a:xfrm>
          </p:grpSpPr>
          <p:sp>
            <p:nvSpPr>
              <p:cNvPr id="1698" name=""/>
              <p:cNvSpPr/>
              <p:nvPr/>
            </p:nvSpPr>
            <p:spPr>
              <a:xfrm>
                <a:off x="3497400" y="20336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3544920" y="20350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3316320" y="1401120"/>
              <a:ext cx="2045880" cy="350640"/>
              <a:chOff x="3316320" y="1401120"/>
              <a:chExt cx="2045880" cy="350640"/>
            </a:xfrm>
          </p:grpSpPr>
          <p:grpSp>
            <p:nvGrpSpPr>
              <p:cNvPr id="1701" name=""/>
              <p:cNvGrpSpPr/>
              <p:nvPr/>
            </p:nvGrpSpPr>
            <p:grpSpPr>
              <a:xfrm>
                <a:off x="3416400" y="1401120"/>
                <a:ext cx="1945800" cy="350640"/>
                <a:chOff x="3416400" y="1401120"/>
                <a:chExt cx="1945800" cy="35064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3683160" y="140112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3" name=""/>
                <p:cNvGrpSpPr/>
                <p:nvPr/>
              </p:nvGrpSpPr>
              <p:grpSpPr>
                <a:xfrm>
                  <a:off x="3416400" y="1461960"/>
                  <a:ext cx="237960" cy="194760"/>
                  <a:chOff x="3416400" y="1461960"/>
                  <a:chExt cx="237960" cy="194760"/>
                </a:xfrm>
              </p:grpSpPr>
              <p:sp>
                <p:nvSpPr>
                  <p:cNvPr id="1704" name=""/>
                  <p:cNvSpPr/>
                  <p:nvPr/>
                </p:nvSpPr>
                <p:spPr>
                  <a:xfrm>
                    <a:off x="3416400" y="1498320"/>
                    <a:ext cx="237960" cy="1584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3520800" y="14619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06" name=""/>
                <p:cNvSpPr/>
                <p:nvPr/>
              </p:nvSpPr>
              <p:spPr>
                <a:xfrm>
                  <a:off x="3693960" y="1536120"/>
                  <a:ext cx="166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   GE-4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7" name=""/>
              <p:cNvSpPr/>
              <p:nvPr/>
            </p:nvSpPr>
            <p:spPr>
              <a:xfrm>
                <a:off x="3316320" y="156852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3408480" y="1638360"/>
              <a:ext cx="1937160" cy="404640"/>
              <a:chOff x="3408480" y="1638360"/>
              <a:chExt cx="1937160" cy="404640"/>
            </a:xfrm>
          </p:grpSpPr>
          <p:grpSp>
            <p:nvGrpSpPr>
              <p:cNvPr id="1709" name=""/>
              <p:cNvGrpSpPr/>
              <p:nvPr/>
            </p:nvGrpSpPr>
            <p:grpSpPr>
              <a:xfrm>
                <a:off x="3408480" y="1708920"/>
                <a:ext cx="1937160" cy="334080"/>
                <a:chOff x="3408480" y="1708920"/>
                <a:chExt cx="1937160" cy="334080"/>
              </a:xfrm>
            </p:grpSpPr>
            <p:grpSp>
              <p:nvGrpSpPr>
                <p:cNvPr id="1710" name=""/>
                <p:cNvGrpSpPr/>
                <p:nvPr/>
              </p:nvGrpSpPr>
              <p:grpSpPr>
                <a:xfrm>
                  <a:off x="3408480" y="1740960"/>
                  <a:ext cx="239400" cy="233640"/>
                  <a:chOff x="3408480" y="1740960"/>
                  <a:chExt cx="239400" cy="233640"/>
                </a:xfrm>
              </p:grpSpPr>
              <p:grpSp>
                <p:nvGrpSpPr>
                  <p:cNvPr id="1711" name=""/>
                  <p:cNvGrpSpPr/>
                  <p:nvPr/>
                </p:nvGrpSpPr>
                <p:grpSpPr>
                  <a:xfrm>
                    <a:off x="3408480" y="1786680"/>
                    <a:ext cx="239400" cy="187920"/>
                    <a:chOff x="3408480" y="1786680"/>
                    <a:chExt cx="239400" cy="187920"/>
                  </a:xfrm>
                </p:grpSpPr>
                <p:sp>
                  <p:nvSpPr>
                    <p:cNvPr id="1712" name=""/>
                    <p:cNvSpPr/>
                    <p:nvPr/>
                  </p:nvSpPr>
                  <p:spPr>
                    <a:xfrm>
                      <a:off x="3408480" y="1786680"/>
                      <a:ext cx="239400" cy="1566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3" name=""/>
                    <p:cNvSpPr/>
                    <p:nvPr/>
                  </p:nvSpPr>
                  <p:spPr>
                    <a:xfrm>
                      <a:off x="3443400" y="1825920"/>
                      <a:ext cx="169560" cy="74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4" name=""/>
                    <p:cNvSpPr/>
                    <p:nvPr/>
                  </p:nvSpPr>
                  <p:spPr>
                    <a:xfrm>
                      <a:off x="3422520" y="19479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5" name=""/>
                    <p:cNvSpPr/>
                    <p:nvPr/>
                  </p:nvSpPr>
                  <p:spPr>
                    <a:xfrm>
                      <a:off x="3535200" y="1946520"/>
                      <a:ext cx="288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6" name=""/>
                    <p:cNvSpPr/>
                    <p:nvPr/>
                  </p:nvSpPr>
                  <p:spPr>
                    <a:xfrm>
                      <a:off x="3611520" y="19465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7" name=""/>
                    <p:cNvSpPr/>
                    <p:nvPr/>
                  </p:nvSpPr>
                  <p:spPr>
                    <a:xfrm>
                      <a:off x="3556080" y="1946520"/>
                      <a:ext cx="61920" cy="26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8" name=""/>
                    <p:cNvSpPr/>
                    <p:nvPr/>
                  </p:nvSpPr>
                  <p:spPr>
                    <a:xfrm flipV="1">
                      <a:off x="3417840" y="1797480"/>
                      <a:ext cx="104760" cy="131040"/>
                    </a:xfrm>
                    <a:prstGeom prst="line">
                      <a:avLst/>
                    </a:prstGeom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9" name=""/>
                    <p:cNvSpPr/>
                    <p:nvPr/>
                  </p:nvSpPr>
                  <p:spPr>
                    <a:xfrm>
                      <a:off x="3522600" y="1798920"/>
                      <a:ext cx="109440" cy="124920"/>
                    </a:xfrm>
                    <a:prstGeom prst="line">
                      <a:avLst/>
                    </a:prstGeom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20" name=""/>
                  <p:cNvSpPr/>
                  <p:nvPr/>
                </p:nvSpPr>
                <p:spPr>
                  <a:xfrm>
                    <a:off x="3514680" y="17409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1" name=""/>
                <p:cNvSpPr/>
                <p:nvPr/>
              </p:nvSpPr>
              <p:spPr>
                <a:xfrm>
                  <a:off x="3657960" y="170892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3709440" y="1827360"/>
                  <a:ext cx="16362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dKfz 251/10              GE-2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3" name=""/>
              <p:cNvSpPr/>
              <p:nvPr/>
            </p:nvSpPr>
            <p:spPr>
              <a:xfrm>
                <a:off x="3462480" y="1638360"/>
                <a:ext cx="0" cy="1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4" name=""/>
            <p:cNvSpPr/>
            <p:nvPr/>
          </p:nvSpPr>
          <p:spPr>
            <a:xfrm>
              <a:off x="3317760" y="1362240"/>
              <a:ext cx="0" cy="263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5" name=""/>
            <p:cNvGrpSpPr/>
            <p:nvPr/>
          </p:nvGrpSpPr>
          <p:grpSpPr>
            <a:xfrm>
              <a:off x="3170160" y="1119240"/>
              <a:ext cx="284040" cy="256320"/>
              <a:chOff x="3170160" y="1119240"/>
              <a:chExt cx="284040" cy="256320"/>
            </a:xfrm>
          </p:grpSpPr>
          <p:sp>
            <p:nvSpPr>
              <p:cNvPr id="1726" name=""/>
              <p:cNvSpPr/>
              <p:nvPr/>
            </p:nvSpPr>
            <p:spPr>
              <a:xfrm>
                <a:off x="3321000" y="1119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7" name=""/>
              <p:cNvGrpSpPr/>
              <p:nvPr/>
            </p:nvGrpSpPr>
            <p:grpSpPr>
              <a:xfrm>
                <a:off x="3170160" y="1182600"/>
                <a:ext cx="284040" cy="192960"/>
                <a:chOff x="3170160" y="1182600"/>
                <a:chExt cx="284040" cy="192960"/>
              </a:xfrm>
            </p:grpSpPr>
            <p:sp>
              <p:nvSpPr>
                <p:cNvPr id="1728" name=""/>
                <p:cNvSpPr/>
                <p:nvPr/>
              </p:nvSpPr>
              <p:spPr>
                <a:xfrm>
                  <a:off x="3170160" y="1182600"/>
                  <a:ext cx="284040" cy="192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3222360" y="1231560"/>
                  <a:ext cx="182880" cy="9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0" name=""/>
                <p:cNvGrpSpPr/>
                <p:nvPr/>
              </p:nvGrpSpPr>
              <p:grpSpPr>
                <a:xfrm>
                  <a:off x="3278880" y="1258560"/>
                  <a:ext cx="68040" cy="32760"/>
                  <a:chOff x="3278880" y="1258560"/>
                  <a:chExt cx="68040" cy="32760"/>
                </a:xfrm>
              </p:grpSpPr>
              <p:sp>
                <p:nvSpPr>
                  <p:cNvPr id="1731" name=""/>
                  <p:cNvSpPr/>
                  <p:nvPr/>
                </p:nvSpPr>
                <p:spPr>
                  <a:xfrm>
                    <a:off x="3278880" y="125856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3313800" y="125856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346920" y="125856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3278880" y="1258560"/>
                    <a:ext cx="680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35" name=""/>
            <p:cNvGrpSpPr/>
            <p:nvPr/>
          </p:nvGrpSpPr>
          <p:grpSpPr>
            <a:xfrm>
              <a:off x="3321000" y="2029680"/>
              <a:ext cx="2032920" cy="215640"/>
              <a:chOff x="3321000" y="2029680"/>
              <a:chExt cx="2032920" cy="215640"/>
            </a:xfrm>
          </p:grpSpPr>
          <p:sp>
            <p:nvSpPr>
              <p:cNvPr id="1736" name=""/>
              <p:cNvSpPr/>
              <p:nvPr/>
            </p:nvSpPr>
            <p:spPr>
              <a:xfrm>
                <a:off x="3710160" y="2029680"/>
                <a:ext cx="1643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ioniere (3 w/Flame)   GE-4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321000" y="214308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8" name=""/>
              <p:cNvGrpSpPr/>
              <p:nvPr/>
            </p:nvGrpSpPr>
            <p:grpSpPr>
              <a:xfrm>
                <a:off x="3408480" y="2063520"/>
                <a:ext cx="231840" cy="156960"/>
                <a:chOff x="3408480" y="2063520"/>
                <a:chExt cx="231840" cy="15696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3408480" y="2063520"/>
                  <a:ext cx="23184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0" name=""/>
                <p:cNvGrpSpPr/>
                <p:nvPr/>
              </p:nvGrpSpPr>
              <p:grpSpPr>
                <a:xfrm>
                  <a:off x="3495960" y="2120400"/>
                  <a:ext cx="55440" cy="26640"/>
                  <a:chOff x="3495960" y="2120400"/>
                  <a:chExt cx="55440" cy="26640"/>
                </a:xfrm>
              </p:grpSpPr>
              <p:sp>
                <p:nvSpPr>
                  <p:cNvPr id="1741" name=""/>
                  <p:cNvSpPr/>
                  <p:nvPr/>
                </p:nvSpPr>
                <p:spPr>
                  <a:xfrm>
                    <a:off x="3495960" y="2120400"/>
                    <a:ext cx="0" cy="26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3524400" y="2120400"/>
                    <a:ext cx="0" cy="26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3551400" y="2120400"/>
                    <a:ext cx="0" cy="26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495960" y="2120400"/>
                    <a:ext cx="554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45" name=""/>
            <p:cNvSpPr/>
            <p:nvPr/>
          </p:nvSpPr>
          <p:spPr>
            <a:xfrm>
              <a:off x="3497400" y="2220840"/>
              <a:ext cx="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6" name=""/>
            <p:cNvGrpSpPr/>
            <p:nvPr/>
          </p:nvGrpSpPr>
          <p:grpSpPr>
            <a:xfrm>
              <a:off x="3319560" y="2288520"/>
              <a:ext cx="2038680" cy="215640"/>
              <a:chOff x="3319560" y="2288520"/>
              <a:chExt cx="2038680" cy="215640"/>
            </a:xfrm>
          </p:grpSpPr>
          <p:sp>
            <p:nvSpPr>
              <p:cNvPr id="1747" name=""/>
              <p:cNvSpPr/>
              <p:nvPr/>
            </p:nvSpPr>
            <p:spPr>
              <a:xfrm>
                <a:off x="3319560" y="2406600"/>
                <a:ext cx="18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8" name=""/>
              <p:cNvGrpSpPr/>
              <p:nvPr/>
            </p:nvGrpSpPr>
            <p:grpSpPr>
              <a:xfrm>
                <a:off x="3436920" y="2288520"/>
                <a:ext cx="1921320" cy="215640"/>
                <a:chOff x="3436920" y="2288520"/>
                <a:chExt cx="1921320" cy="21564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3711240" y="2288520"/>
                  <a:ext cx="1647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ght Machine Gun      GE-4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0" name=""/>
                <p:cNvGrpSpPr/>
                <p:nvPr/>
              </p:nvGrpSpPr>
              <p:grpSpPr>
                <a:xfrm>
                  <a:off x="3436920" y="2292120"/>
                  <a:ext cx="236520" cy="191880"/>
                  <a:chOff x="3436920" y="2292120"/>
                  <a:chExt cx="236520" cy="191880"/>
                </a:xfrm>
              </p:grpSpPr>
              <p:grpSp>
                <p:nvGrpSpPr>
                  <p:cNvPr id="1751" name=""/>
                  <p:cNvGrpSpPr/>
                  <p:nvPr/>
                </p:nvGrpSpPr>
                <p:grpSpPr>
                  <a:xfrm>
                    <a:off x="3517560" y="2292120"/>
                    <a:ext cx="74520" cy="28800"/>
                    <a:chOff x="3517560" y="2292120"/>
                    <a:chExt cx="74520" cy="28800"/>
                  </a:xfrm>
                </p:grpSpPr>
                <p:sp>
                  <p:nvSpPr>
                    <p:cNvPr id="1752" name=""/>
                    <p:cNvSpPr/>
                    <p:nvPr/>
                  </p:nvSpPr>
                  <p:spPr>
                    <a:xfrm>
                      <a:off x="3517560" y="229212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3" name=""/>
                    <p:cNvSpPr/>
                    <p:nvPr/>
                  </p:nvSpPr>
                  <p:spPr>
                    <a:xfrm>
                      <a:off x="3565080" y="229392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54" name=""/>
                  <p:cNvGrpSpPr/>
                  <p:nvPr/>
                </p:nvGrpSpPr>
                <p:grpSpPr>
                  <a:xfrm>
                    <a:off x="3436920" y="2319120"/>
                    <a:ext cx="236520" cy="164880"/>
                    <a:chOff x="3436920" y="2319120"/>
                    <a:chExt cx="236520" cy="164880"/>
                  </a:xfrm>
                </p:grpSpPr>
                <p:sp>
                  <p:nvSpPr>
                    <p:cNvPr id="1755" name=""/>
                    <p:cNvSpPr/>
                    <p:nvPr/>
                  </p:nvSpPr>
                  <p:spPr>
                    <a:xfrm>
                      <a:off x="3436920" y="232380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6" name=""/>
                    <p:cNvSpPr/>
                    <p:nvPr/>
                  </p:nvSpPr>
                  <p:spPr>
                    <a:xfrm>
                      <a:off x="3436920" y="2329920"/>
                      <a:ext cx="50760" cy="146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7" name=""/>
                    <p:cNvSpPr/>
                    <p:nvPr/>
                  </p:nvSpPr>
                  <p:spPr>
                    <a:xfrm flipV="1">
                      <a:off x="3443400" y="2319120"/>
                      <a:ext cx="230040" cy="142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8" name=""/>
                    <p:cNvSpPr/>
                    <p:nvPr/>
                  </p:nvSpPr>
                  <p:spPr>
                    <a:xfrm>
                      <a:off x="3454560" y="2347560"/>
                      <a:ext cx="218880" cy="136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59" name=""/>
            <p:cNvGrpSpPr/>
            <p:nvPr/>
          </p:nvGrpSpPr>
          <p:grpSpPr>
            <a:xfrm>
              <a:off x="3444840" y="2442600"/>
              <a:ext cx="1918440" cy="344160"/>
              <a:chOff x="3444840" y="2442600"/>
              <a:chExt cx="1918440" cy="344160"/>
            </a:xfrm>
          </p:grpSpPr>
          <p:sp>
            <p:nvSpPr>
              <p:cNvPr id="1760" name=""/>
              <p:cNvSpPr/>
              <p:nvPr/>
            </p:nvSpPr>
            <p:spPr>
              <a:xfrm>
                <a:off x="3733560" y="244260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725640" y="2571120"/>
                <a:ext cx="1637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dKfz 251/7                GE-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498480" y="2492280"/>
                <a:ext cx="0" cy="11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3" name=""/>
              <p:cNvGrpSpPr/>
              <p:nvPr/>
            </p:nvGrpSpPr>
            <p:grpSpPr>
              <a:xfrm>
                <a:off x="3444840" y="2527200"/>
                <a:ext cx="239400" cy="233280"/>
                <a:chOff x="3444840" y="2527200"/>
                <a:chExt cx="239400" cy="233280"/>
              </a:xfrm>
            </p:grpSpPr>
            <p:grpSp>
              <p:nvGrpSpPr>
                <p:cNvPr id="1764" name=""/>
                <p:cNvGrpSpPr/>
                <p:nvPr/>
              </p:nvGrpSpPr>
              <p:grpSpPr>
                <a:xfrm>
                  <a:off x="3525480" y="2527200"/>
                  <a:ext cx="73800" cy="28080"/>
                  <a:chOff x="3525480" y="2527200"/>
                  <a:chExt cx="73800" cy="28080"/>
                </a:xfrm>
              </p:grpSpPr>
              <p:sp>
                <p:nvSpPr>
                  <p:cNvPr id="1765" name=""/>
                  <p:cNvSpPr/>
                  <p:nvPr/>
                </p:nvSpPr>
                <p:spPr>
                  <a:xfrm>
                    <a:off x="3525480" y="252720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3572640" y="252864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7" name=""/>
                <p:cNvGrpSpPr/>
                <p:nvPr/>
              </p:nvGrpSpPr>
              <p:grpSpPr>
                <a:xfrm>
                  <a:off x="3444840" y="2571480"/>
                  <a:ext cx="239400" cy="189000"/>
                  <a:chOff x="3444840" y="2571480"/>
                  <a:chExt cx="239400" cy="189000"/>
                </a:xfrm>
              </p:grpSpPr>
              <p:sp>
                <p:nvSpPr>
                  <p:cNvPr id="1768" name=""/>
                  <p:cNvSpPr/>
                  <p:nvPr/>
                </p:nvSpPr>
                <p:spPr>
                  <a:xfrm>
                    <a:off x="3444840" y="2571480"/>
                    <a:ext cx="23940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3481200" y="2611440"/>
                    <a:ext cx="169560" cy="74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3460320" y="27334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573360" y="273204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3649320" y="27320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3593880" y="2732040"/>
                    <a:ext cx="6156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74" name=""/>
                  <p:cNvGrpSpPr/>
                  <p:nvPr/>
                </p:nvGrpSpPr>
                <p:grpSpPr>
                  <a:xfrm>
                    <a:off x="3541320" y="2633400"/>
                    <a:ext cx="55440" cy="27000"/>
                    <a:chOff x="3541320" y="2633400"/>
                    <a:chExt cx="55440" cy="27000"/>
                  </a:xfrm>
                </p:grpSpPr>
                <p:sp>
                  <p:nvSpPr>
                    <p:cNvPr id="1775" name=""/>
                    <p:cNvSpPr/>
                    <p:nvPr/>
                  </p:nvSpPr>
                  <p:spPr>
                    <a:xfrm>
                      <a:off x="3541320" y="2633400"/>
                      <a:ext cx="0" cy="27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6" name=""/>
                    <p:cNvSpPr/>
                    <p:nvPr/>
                  </p:nvSpPr>
                  <p:spPr>
                    <a:xfrm>
                      <a:off x="3569760" y="2633400"/>
                      <a:ext cx="0" cy="27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7" name=""/>
                    <p:cNvSpPr/>
                    <p:nvPr/>
                  </p:nvSpPr>
                  <p:spPr>
                    <a:xfrm>
                      <a:off x="3596760" y="2633400"/>
                      <a:ext cx="0" cy="27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3541320" y="2633400"/>
                      <a:ext cx="5544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79" name=""/>
            <p:cNvGrpSpPr/>
            <p:nvPr/>
          </p:nvGrpSpPr>
          <p:grpSpPr>
            <a:xfrm>
              <a:off x="3305160" y="3745800"/>
              <a:ext cx="2187720" cy="612720"/>
              <a:chOff x="3305160" y="3745800"/>
              <a:chExt cx="2187720" cy="612720"/>
            </a:xfrm>
          </p:grpSpPr>
          <p:sp>
            <p:nvSpPr>
              <p:cNvPr id="1780" name=""/>
              <p:cNvSpPr/>
              <p:nvPr/>
            </p:nvSpPr>
            <p:spPr>
              <a:xfrm>
                <a:off x="3802680" y="3745800"/>
                <a:ext cx="1127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1" name=""/>
              <p:cNvGrpSpPr/>
              <p:nvPr/>
            </p:nvGrpSpPr>
            <p:grpSpPr>
              <a:xfrm>
                <a:off x="3481560" y="3886200"/>
                <a:ext cx="2011320" cy="243720"/>
                <a:chOff x="3481560" y="3886200"/>
                <a:chExt cx="2011320" cy="243720"/>
              </a:xfrm>
            </p:grpSpPr>
            <p:grpSp>
              <p:nvGrpSpPr>
                <p:cNvPr id="1782" name=""/>
                <p:cNvGrpSpPr/>
                <p:nvPr/>
              </p:nvGrpSpPr>
              <p:grpSpPr>
                <a:xfrm>
                  <a:off x="3481560" y="3886200"/>
                  <a:ext cx="239760" cy="214200"/>
                  <a:chOff x="3481560" y="3886200"/>
                  <a:chExt cx="239760" cy="214200"/>
                </a:xfrm>
              </p:grpSpPr>
              <p:grpSp>
                <p:nvGrpSpPr>
                  <p:cNvPr id="1783" name=""/>
                  <p:cNvGrpSpPr/>
                  <p:nvPr/>
                </p:nvGrpSpPr>
                <p:grpSpPr>
                  <a:xfrm>
                    <a:off x="3481560" y="3943080"/>
                    <a:ext cx="239760" cy="157320"/>
                    <a:chOff x="3481560" y="3943080"/>
                    <a:chExt cx="239760" cy="157320"/>
                  </a:xfrm>
                </p:grpSpPr>
                <p:sp>
                  <p:nvSpPr>
                    <p:cNvPr id="1784" name=""/>
                    <p:cNvSpPr/>
                    <p:nvPr/>
                  </p:nvSpPr>
                  <p:spPr>
                    <a:xfrm>
                      <a:off x="3481560" y="3943080"/>
                      <a:ext cx="23976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5" name=""/>
                    <p:cNvSpPr/>
                    <p:nvPr/>
                  </p:nvSpPr>
                  <p:spPr>
                    <a:xfrm flipV="1">
                      <a:off x="3565800" y="4059000"/>
                      <a:ext cx="6336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6" name=""/>
                    <p:cNvSpPr/>
                    <p:nvPr/>
                  </p:nvSpPr>
                  <p:spPr>
                    <a:xfrm>
                      <a:off x="3597480" y="3974760"/>
                      <a:ext cx="0" cy="842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87" name=""/>
                  <p:cNvGrpSpPr/>
                  <p:nvPr/>
                </p:nvGrpSpPr>
                <p:grpSpPr>
                  <a:xfrm>
                    <a:off x="3556080" y="3886200"/>
                    <a:ext cx="74520" cy="28080"/>
                    <a:chOff x="3556080" y="3886200"/>
                    <a:chExt cx="74520" cy="28080"/>
                  </a:xfrm>
                </p:grpSpPr>
                <p:sp>
                  <p:nvSpPr>
                    <p:cNvPr id="1788" name=""/>
                    <p:cNvSpPr/>
                    <p:nvPr/>
                  </p:nvSpPr>
                  <p:spPr>
                    <a:xfrm>
                      <a:off x="3556080" y="388620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9" name=""/>
                    <p:cNvSpPr/>
                    <p:nvPr/>
                  </p:nvSpPr>
                  <p:spPr>
                    <a:xfrm>
                      <a:off x="3603600" y="388764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90" name=""/>
                <p:cNvSpPr/>
                <p:nvPr/>
              </p:nvSpPr>
              <p:spPr>
                <a:xfrm>
                  <a:off x="3719520" y="3914280"/>
                  <a:ext cx="17733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80mm Mortar                   GE-5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1" name=""/>
              <p:cNvGrpSpPr/>
              <p:nvPr/>
            </p:nvGrpSpPr>
            <p:grpSpPr>
              <a:xfrm>
                <a:off x="3481560" y="4129200"/>
                <a:ext cx="2007000" cy="229320"/>
                <a:chOff x="3481560" y="4129200"/>
                <a:chExt cx="2007000" cy="229320"/>
              </a:xfrm>
            </p:grpSpPr>
            <p:grpSp>
              <p:nvGrpSpPr>
                <p:cNvPr id="1792" name=""/>
                <p:cNvGrpSpPr/>
                <p:nvPr/>
              </p:nvGrpSpPr>
              <p:grpSpPr>
                <a:xfrm>
                  <a:off x="3481560" y="4129200"/>
                  <a:ext cx="231480" cy="228240"/>
                  <a:chOff x="3481560" y="4129200"/>
                  <a:chExt cx="231480" cy="228240"/>
                </a:xfrm>
              </p:grpSpPr>
              <p:grpSp>
                <p:nvGrpSpPr>
                  <p:cNvPr id="1793" name=""/>
                  <p:cNvGrpSpPr/>
                  <p:nvPr/>
                </p:nvGrpSpPr>
                <p:grpSpPr>
                  <a:xfrm>
                    <a:off x="3560760" y="4129200"/>
                    <a:ext cx="74520" cy="28800"/>
                    <a:chOff x="3560760" y="4129200"/>
                    <a:chExt cx="74520" cy="28800"/>
                  </a:xfrm>
                </p:grpSpPr>
                <p:sp>
                  <p:nvSpPr>
                    <p:cNvPr id="1794" name=""/>
                    <p:cNvSpPr/>
                    <p:nvPr/>
                  </p:nvSpPr>
                  <p:spPr>
                    <a:xfrm>
                      <a:off x="3560760" y="412920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5" name=""/>
                    <p:cNvSpPr/>
                    <p:nvPr/>
                  </p:nvSpPr>
                  <p:spPr>
                    <a:xfrm>
                      <a:off x="3608280" y="413100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6" name=""/>
                  <p:cNvGrpSpPr/>
                  <p:nvPr/>
                </p:nvGrpSpPr>
                <p:grpSpPr>
                  <a:xfrm>
                    <a:off x="3481560" y="4167360"/>
                    <a:ext cx="231480" cy="190080"/>
                    <a:chOff x="3481560" y="4167360"/>
                    <a:chExt cx="231480" cy="190080"/>
                  </a:xfrm>
                </p:grpSpPr>
                <p:sp>
                  <p:nvSpPr>
                    <p:cNvPr id="1797" name=""/>
                    <p:cNvSpPr/>
                    <p:nvPr/>
                  </p:nvSpPr>
                  <p:spPr>
                    <a:xfrm>
                      <a:off x="3481560" y="4167360"/>
                      <a:ext cx="23148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8" name=""/>
                    <p:cNvSpPr/>
                    <p:nvPr/>
                  </p:nvSpPr>
                  <p:spPr>
                    <a:xfrm>
                      <a:off x="3492000" y="4330080"/>
                      <a:ext cx="2736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9" name=""/>
                    <p:cNvSpPr/>
                    <p:nvPr/>
                  </p:nvSpPr>
                  <p:spPr>
                    <a:xfrm>
                      <a:off x="3673800" y="4330080"/>
                      <a:ext cx="2700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00" name=""/>
                <p:cNvSpPr/>
                <p:nvPr/>
              </p:nvSpPr>
              <p:spPr>
                <a:xfrm>
                  <a:off x="3728880" y="4142880"/>
                  <a:ext cx="1759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ght Truck                      GE-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1" name=""/>
              <p:cNvSpPr/>
              <p:nvPr/>
            </p:nvSpPr>
            <p:spPr>
              <a:xfrm>
                <a:off x="3516480" y="4056120"/>
                <a:ext cx="0" cy="168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305160" y="4000680"/>
                <a:ext cx="18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3" name=""/>
            <p:cNvGrpSpPr/>
            <p:nvPr/>
          </p:nvGrpSpPr>
          <p:grpSpPr>
            <a:xfrm>
              <a:off x="3321000" y="3033720"/>
              <a:ext cx="2081160" cy="492840"/>
              <a:chOff x="3321000" y="3033720"/>
              <a:chExt cx="2081160" cy="492840"/>
            </a:xfrm>
          </p:grpSpPr>
          <p:grpSp>
            <p:nvGrpSpPr>
              <p:cNvPr id="1804" name=""/>
              <p:cNvGrpSpPr/>
              <p:nvPr/>
            </p:nvGrpSpPr>
            <p:grpSpPr>
              <a:xfrm>
                <a:off x="3321000" y="3033720"/>
                <a:ext cx="2031120" cy="243720"/>
                <a:chOff x="3321000" y="3033720"/>
                <a:chExt cx="2031120" cy="243720"/>
              </a:xfrm>
            </p:grpSpPr>
            <p:sp>
              <p:nvSpPr>
                <p:cNvPr id="1805" name=""/>
                <p:cNvSpPr/>
                <p:nvPr/>
              </p:nvSpPr>
              <p:spPr>
                <a:xfrm>
                  <a:off x="3321000" y="3157560"/>
                  <a:ext cx="185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6" name=""/>
                <p:cNvGrpSpPr/>
                <p:nvPr/>
              </p:nvGrpSpPr>
              <p:grpSpPr>
                <a:xfrm>
                  <a:off x="3467160" y="3033720"/>
                  <a:ext cx="1884960" cy="243720"/>
                  <a:chOff x="3467160" y="3033720"/>
                  <a:chExt cx="1884960" cy="243720"/>
                </a:xfrm>
              </p:grpSpPr>
              <p:sp>
                <p:nvSpPr>
                  <p:cNvPr id="1807" name=""/>
                  <p:cNvSpPr/>
                  <p:nvPr/>
                </p:nvSpPr>
                <p:spPr>
                  <a:xfrm>
                    <a:off x="3752280" y="3061800"/>
                    <a:ext cx="159984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eavy Machine Gun  GE-5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08" name=""/>
                  <p:cNvGrpSpPr/>
                  <p:nvPr/>
                </p:nvGrpSpPr>
                <p:grpSpPr>
                  <a:xfrm>
                    <a:off x="3467160" y="3033720"/>
                    <a:ext cx="236520" cy="201600"/>
                    <a:chOff x="3467160" y="3033720"/>
                    <a:chExt cx="236520" cy="201600"/>
                  </a:xfrm>
                </p:grpSpPr>
                <p:grpSp>
                  <p:nvGrpSpPr>
                    <p:cNvPr id="1809" name=""/>
                    <p:cNvGrpSpPr/>
                    <p:nvPr/>
                  </p:nvGrpSpPr>
                  <p:grpSpPr>
                    <a:xfrm>
                      <a:off x="3544920" y="3033720"/>
                      <a:ext cx="74520" cy="28800"/>
                      <a:chOff x="3544920" y="3033720"/>
                      <a:chExt cx="74520" cy="28800"/>
                    </a:xfrm>
                  </p:grpSpPr>
                  <p:sp>
                    <p:nvSpPr>
                      <p:cNvPr id="1810" name=""/>
                      <p:cNvSpPr/>
                      <p:nvPr/>
                    </p:nvSpPr>
                    <p:spPr>
                      <a:xfrm>
                        <a:off x="3544920" y="303372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1" name=""/>
                      <p:cNvSpPr/>
                      <p:nvPr/>
                    </p:nvSpPr>
                    <p:spPr>
                      <a:xfrm>
                        <a:off x="3592440" y="303552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2" name=""/>
                    <p:cNvGrpSpPr/>
                    <p:nvPr/>
                  </p:nvGrpSpPr>
                  <p:grpSpPr>
                    <a:xfrm>
                      <a:off x="3467160" y="3070440"/>
                      <a:ext cx="236520" cy="164880"/>
                      <a:chOff x="3467160" y="3070440"/>
                      <a:chExt cx="236520" cy="164880"/>
                    </a:xfrm>
                  </p:grpSpPr>
                  <p:sp>
                    <p:nvSpPr>
                      <p:cNvPr id="1813" name=""/>
                      <p:cNvSpPr/>
                      <p:nvPr/>
                    </p:nvSpPr>
                    <p:spPr>
                      <a:xfrm>
                        <a:off x="3467160" y="307512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4" name=""/>
                      <p:cNvSpPr/>
                      <p:nvPr/>
                    </p:nvSpPr>
                    <p:spPr>
                      <a:xfrm>
                        <a:off x="3467160" y="3081240"/>
                        <a:ext cx="50760" cy="1461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5" name=""/>
                      <p:cNvSpPr/>
                      <p:nvPr/>
                    </p:nvSpPr>
                    <p:spPr>
                      <a:xfrm flipV="1">
                        <a:off x="3473640" y="3070440"/>
                        <a:ext cx="230040" cy="1425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6" name=""/>
                      <p:cNvSpPr/>
                      <p:nvPr/>
                    </p:nvSpPr>
                    <p:spPr>
                      <a:xfrm>
                        <a:off x="3484800" y="3098880"/>
                        <a:ext cx="218880" cy="1364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817" name=""/>
              <p:cNvSpPr/>
              <p:nvPr/>
            </p:nvSpPr>
            <p:spPr>
              <a:xfrm>
                <a:off x="3746880" y="319356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8" name=""/>
              <p:cNvGrpSpPr/>
              <p:nvPr/>
            </p:nvGrpSpPr>
            <p:grpSpPr>
              <a:xfrm>
                <a:off x="3441600" y="3310920"/>
                <a:ext cx="1960560" cy="215640"/>
                <a:chOff x="3441600" y="3310920"/>
                <a:chExt cx="1960560" cy="215640"/>
              </a:xfrm>
            </p:grpSpPr>
            <p:grpSp>
              <p:nvGrpSpPr>
                <p:cNvPr id="1819" name=""/>
                <p:cNvGrpSpPr/>
                <p:nvPr/>
              </p:nvGrpSpPr>
              <p:grpSpPr>
                <a:xfrm>
                  <a:off x="3441600" y="3335400"/>
                  <a:ext cx="231840" cy="189720"/>
                  <a:chOff x="3441600" y="3335400"/>
                  <a:chExt cx="231840" cy="189720"/>
                </a:xfrm>
              </p:grpSpPr>
              <p:sp>
                <p:nvSpPr>
                  <p:cNvPr id="1820" name=""/>
                  <p:cNvSpPr/>
                  <p:nvPr/>
                </p:nvSpPr>
                <p:spPr>
                  <a:xfrm>
                    <a:off x="3441600" y="3335400"/>
                    <a:ext cx="231840" cy="156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>
                    <a:off x="3452040" y="349776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3633840" y="349776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3" name=""/>
                <p:cNvSpPr/>
                <p:nvPr/>
              </p:nvSpPr>
              <p:spPr>
                <a:xfrm>
                  <a:off x="3729240" y="3310920"/>
                  <a:ext cx="1672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ght Truck                   GE-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4" name=""/>
              <p:cNvSpPr/>
              <p:nvPr/>
            </p:nvSpPr>
            <p:spPr>
              <a:xfrm>
                <a:off x="3517920" y="3243240"/>
                <a:ext cx="0" cy="11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5" name=""/>
            <p:cNvSpPr/>
            <p:nvPr/>
          </p:nvSpPr>
          <p:spPr>
            <a:xfrm>
              <a:off x="3514680" y="2712960"/>
              <a:ext cx="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6" name=""/>
            <p:cNvGrpSpPr/>
            <p:nvPr/>
          </p:nvGrpSpPr>
          <p:grpSpPr>
            <a:xfrm>
              <a:off x="3324240" y="3593520"/>
              <a:ext cx="2013480" cy="215640"/>
              <a:chOff x="3324240" y="3593520"/>
              <a:chExt cx="2013480" cy="215640"/>
            </a:xfrm>
          </p:grpSpPr>
          <p:sp>
            <p:nvSpPr>
              <p:cNvPr id="1827" name=""/>
              <p:cNvSpPr/>
              <p:nvPr/>
            </p:nvSpPr>
            <p:spPr>
              <a:xfrm>
                <a:off x="3696840" y="3593520"/>
                <a:ext cx="1640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dKfz 251/16 Flame H-T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8" name=""/>
              <p:cNvGrpSpPr/>
              <p:nvPr/>
            </p:nvGrpSpPr>
            <p:grpSpPr>
              <a:xfrm>
                <a:off x="3452760" y="3603960"/>
                <a:ext cx="239760" cy="188280"/>
                <a:chOff x="3452760" y="3603960"/>
                <a:chExt cx="239760" cy="18828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452760" y="3603960"/>
                  <a:ext cx="23976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489120" y="3643200"/>
                  <a:ext cx="1699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3468600" y="37656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3581280" y="37638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3657240" y="3763800"/>
                  <a:ext cx="288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3601800" y="3763800"/>
                  <a:ext cx="61920" cy="266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3574800" y="3679920"/>
                  <a:ext cx="0" cy="74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 flipV="1">
                  <a:off x="3574800" y="3611520"/>
                  <a:ext cx="47520" cy="58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flipH="1" flipV="1">
                  <a:off x="3535200" y="3611520"/>
                  <a:ext cx="39600" cy="58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8" name=""/>
              <p:cNvSpPr/>
              <p:nvPr/>
            </p:nvSpPr>
            <p:spPr>
              <a:xfrm>
                <a:off x="3324240" y="367848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3435480" y="2773440"/>
              <a:ext cx="1960200" cy="227520"/>
              <a:chOff x="3435480" y="2773440"/>
              <a:chExt cx="1960200" cy="227520"/>
            </a:xfrm>
          </p:grpSpPr>
          <p:sp>
            <p:nvSpPr>
              <p:cNvPr id="1840" name=""/>
              <p:cNvSpPr/>
              <p:nvPr/>
            </p:nvSpPr>
            <p:spPr>
              <a:xfrm>
                <a:off x="3722760" y="2785320"/>
                <a:ext cx="1672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ht Truck                   GE-3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1" name=""/>
              <p:cNvGrpSpPr/>
              <p:nvPr/>
            </p:nvGrpSpPr>
            <p:grpSpPr>
              <a:xfrm>
                <a:off x="3435480" y="2773440"/>
                <a:ext cx="231480" cy="226440"/>
                <a:chOff x="3435480" y="2773440"/>
                <a:chExt cx="231480" cy="226440"/>
              </a:xfrm>
            </p:grpSpPr>
            <p:grpSp>
              <p:nvGrpSpPr>
                <p:cNvPr id="1842" name=""/>
                <p:cNvGrpSpPr/>
                <p:nvPr/>
              </p:nvGrpSpPr>
              <p:grpSpPr>
                <a:xfrm>
                  <a:off x="3435480" y="2809800"/>
                  <a:ext cx="231480" cy="190080"/>
                  <a:chOff x="3435480" y="2809800"/>
                  <a:chExt cx="231480" cy="190080"/>
                </a:xfrm>
              </p:grpSpPr>
              <p:sp>
                <p:nvSpPr>
                  <p:cNvPr id="1843" name=""/>
                  <p:cNvSpPr/>
                  <p:nvPr/>
                </p:nvSpPr>
                <p:spPr>
                  <a:xfrm>
                    <a:off x="3435480" y="2809800"/>
                    <a:ext cx="23148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>
                    <a:off x="3445920" y="297252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>
                    <a:off x="3627720" y="297252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6" name=""/>
                <p:cNvGrpSpPr/>
                <p:nvPr/>
              </p:nvGrpSpPr>
              <p:grpSpPr>
                <a:xfrm>
                  <a:off x="3521160" y="2773440"/>
                  <a:ext cx="74520" cy="28080"/>
                  <a:chOff x="3521160" y="2773440"/>
                  <a:chExt cx="74520" cy="28080"/>
                </a:xfrm>
              </p:grpSpPr>
              <p:sp>
                <p:nvSpPr>
                  <p:cNvPr id="1847" name=""/>
                  <p:cNvSpPr/>
                  <p:nvPr/>
                </p:nvSpPr>
                <p:spPr>
                  <a:xfrm>
                    <a:off x="3521160" y="27734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>
                    <a:off x="3568680" y="27748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ME-19-&gt;ME-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0" name=""/>
          <p:cNvGrpSpPr/>
          <p:nvPr/>
        </p:nvGrpSpPr>
        <p:grpSpPr>
          <a:xfrm>
            <a:off x="270000" y="3909960"/>
            <a:ext cx="2053800" cy="902160"/>
            <a:chOff x="270000" y="3909960"/>
            <a:chExt cx="2053800" cy="902160"/>
          </a:xfrm>
        </p:grpSpPr>
        <p:sp>
          <p:nvSpPr>
            <p:cNvPr id="1851" name=""/>
            <p:cNvSpPr/>
            <p:nvPr/>
          </p:nvSpPr>
          <p:spPr>
            <a:xfrm>
              <a:off x="426960" y="4222440"/>
              <a:ext cx="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2" name=""/>
            <p:cNvGrpSpPr/>
            <p:nvPr/>
          </p:nvGrpSpPr>
          <p:grpSpPr>
            <a:xfrm>
              <a:off x="279360" y="4079160"/>
              <a:ext cx="2032920" cy="215640"/>
              <a:chOff x="279360" y="4079160"/>
              <a:chExt cx="2032920" cy="215640"/>
            </a:xfrm>
          </p:grpSpPr>
          <p:sp>
            <p:nvSpPr>
              <p:cNvPr id="1853" name=""/>
              <p:cNvSpPr/>
              <p:nvPr/>
            </p:nvSpPr>
            <p:spPr>
              <a:xfrm>
                <a:off x="668520" y="4079160"/>
                <a:ext cx="1643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ioniere (1 w/Flame)   GE-4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279360" y="419256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5" name=""/>
              <p:cNvGrpSpPr/>
              <p:nvPr/>
            </p:nvGrpSpPr>
            <p:grpSpPr>
              <a:xfrm>
                <a:off x="366840" y="4113000"/>
                <a:ext cx="231840" cy="157320"/>
                <a:chOff x="366840" y="4113000"/>
                <a:chExt cx="231840" cy="157320"/>
              </a:xfrm>
            </p:grpSpPr>
            <p:sp>
              <p:nvSpPr>
                <p:cNvPr id="1856" name=""/>
                <p:cNvSpPr/>
                <p:nvPr/>
              </p:nvSpPr>
              <p:spPr>
                <a:xfrm>
                  <a:off x="366840" y="4113000"/>
                  <a:ext cx="231840" cy="157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7" name=""/>
                <p:cNvGrpSpPr/>
                <p:nvPr/>
              </p:nvGrpSpPr>
              <p:grpSpPr>
                <a:xfrm>
                  <a:off x="454320" y="4170240"/>
                  <a:ext cx="55440" cy="27000"/>
                  <a:chOff x="454320" y="4170240"/>
                  <a:chExt cx="55440" cy="27000"/>
                </a:xfrm>
              </p:grpSpPr>
              <p:sp>
                <p:nvSpPr>
                  <p:cNvPr id="1858" name=""/>
                  <p:cNvSpPr/>
                  <p:nvPr/>
                </p:nvSpPr>
                <p:spPr>
                  <a:xfrm>
                    <a:off x="454320" y="4170240"/>
                    <a:ext cx="0" cy="27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>
                    <a:off x="482760" y="4170240"/>
                    <a:ext cx="0" cy="27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0" name=""/>
                  <p:cNvSpPr/>
                  <p:nvPr/>
                </p:nvSpPr>
                <p:spPr>
                  <a:xfrm>
                    <a:off x="509760" y="4170240"/>
                    <a:ext cx="0" cy="27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454320" y="4170240"/>
                    <a:ext cx="554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62" name=""/>
            <p:cNvGrpSpPr/>
            <p:nvPr/>
          </p:nvGrpSpPr>
          <p:grpSpPr>
            <a:xfrm>
              <a:off x="270000" y="4336200"/>
              <a:ext cx="2038680" cy="215640"/>
              <a:chOff x="270000" y="4336200"/>
              <a:chExt cx="2038680" cy="215640"/>
            </a:xfrm>
          </p:grpSpPr>
          <p:sp>
            <p:nvSpPr>
              <p:cNvPr id="1863" name=""/>
              <p:cNvSpPr/>
              <p:nvPr/>
            </p:nvSpPr>
            <p:spPr>
              <a:xfrm>
                <a:off x="270000" y="4454280"/>
                <a:ext cx="18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4" name=""/>
              <p:cNvGrpSpPr/>
              <p:nvPr/>
            </p:nvGrpSpPr>
            <p:grpSpPr>
              <a:xfrm>
                <a:off x="387360" y="4336200"/>
                <a:ext cx="1921320" cy="215640"/>
                <a:chOff x="387360" y="4336200"/>
                <a:chExt cx="1921320" cy="21564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661680" y="4336200"/>
                  <a:ext cx="1647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ght Machine Gun      GE-4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6" name=""/>
                <p:cNvGrpSpPr/>
                <p:nvPr/>
              </p:nvGrpSpPr>
              <p:grpSpPr>
                <a:xfrm>
                  <a:off x="387360" y="4339800"/>
                  <a:ext cx="236520" cy="191880"/>
                  <a:chOff x="387360" y="4339800"/>
                  <a:chExt cx="236520" cy="191880"/>
                </a:xfrm>
              </p:grpSpPr>
              <p:grpSp>
                <p:nvGrpSpPr>
                  <p:cNvPr id="1867" name=""/>
                  <p:cNvGrpSpPr/>
                  <p:nvPr/>
                </p:nvGrpSpPr>
                <p:grpSpPr>
                  <a:xfrm>
                    <a:off x="468000" y="4339800"/>
                    <a:ext cx="74520" cy="28800"/>
                    <a:chOff x="468000" y="4339800"/>
                    <a:chExt cx="74520" cy="28800"/>
                  </a:xfrm>
                </p:grpSpPr>
                <p:sp>
                  <p:nvSpPr>
                    <p:cNvPr id="1868" name=""/>
                    <p:cNvSpPr/>
                    <p:nvPr/>
                  </p:nvSpPr>
                  <p:spPr>
                    <a:xfrm>
                      <a:off x="468000" y="433980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9" name=""/>
                    <p:cNvSpPr/>
                    <p:nvPr/>
                  </p:nvSpPr>
                  <p:spPr>
                    <a:xfrm>
                      <a:off x="515520" y="434160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70" name=""/>
                  <p:cNvGrpSpPr/>
                  <p:nvPr/>
                </p:nvGrpSpPr>
                <p:grpSpPr>
                  <a:xfrm>
                    <a:off x="387360" y="4366800"/>
                    <a:ext cx="236520" cy="164880"/>
                    <a:chOff x="387360" y="4366800"/>
                    <a:chExt cx="236520" cy="164880"/>
                  </a:xfrm>
                </p:grpSpPr>
                <p:sp>
                  <p:nvSpPr>
                    <p:cNvPr id="1871" name=""/>
                    <p:cNvSpPr/>
                    <p:nvPr/>
                  </p:nvSpPr>
                  <p:spPr>
                    <a:xfrm>
                      <a:off x="387360" y="437148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387360" y="4377600"/>
                      <a:ext cx="50760" cy="146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 flipV="1">
                      <a:off x="393840" y="4366800"/>
                      <a:ext cx="230040" cy="142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4" name=""/>
                    <p:cNvSpPr/>
                    <p:nvPr/>
                  </p:nvSpPr>
                  <p:spPr>
                    <a:xfrm>
                      <a:off x="405000" y="4395240"/>
                      <a:ext cx="218880" cy="136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875" name=""/>
            <p:cNvSpPr/>
            <p:nvPr/>
          </p:nvSpPr>
          <p:spPr>
            <a:xfrm>
              <a:off x="684360" y="447444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6" name=""/>
            <p:cNvGrpSpPr/>
            <p:nvPr/>
          </p:nvGrpSpPr>
          <p:grpSpPr>
            <a:xfrm>
              <a:off x="363600" y="4596480"/>
              <a:ext cx="1960200" cy="215640"/>
              <a:chOff x="363600" y="4596480"/>
              <a:chExt cx="1960200" cy="215640"/>
            </a:xfrm>
          </p:grpSpPr>
          <p:grpSp>
            <p:nvGrpSpPr>
              <p:cNvPr id="1877" name=""/>
              <p:cNvGrpSpPr/>
              <p:nvPr/>
            </p:nvGrpSpPr>
            <p:grpSpPr>
              <a:xfrm>
                <a:off x="363600" y="4620960"/>
                <a:ext cx="231480" cy="189720"/>
                <a:chOff x="363600" y="4620960"/>
                <a:chExt cx="231480" cy="18972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63600" y="4620960"/>
                  <a:ext cx="231480" cy="1566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74040" y="4783320"/>
                  <a:ext cx="2736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555840" y="4783320"/>
                  <a:ext cx="27000" cy="27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1" name=""/>
              <p:cNvSpPr/>
              <p:nvPr/>
            </p:nvSpPr>
            <p:spPr>
              <a:xfrm>
                <a:off x="650880" y="4596480"/>
                <a:ext cx="1672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ht Truck                   GE-3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2" name=""/>
            <p:cNvSpPr/>
            <p:nvPr/>
          </p:nvSpPr>
          <p:spPr>
            <a:xfrm>
              <a:off x="450720" y="4539960"/>
              <a:ext cx="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277920" y="3909960"/>
              <a:ext cx="1440" cy="54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468360" y="3869640"/>
            <a:ext cx="109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93760" y="1091880"/>
            <a:ext cx="2050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z. Engineer Company (Mt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3760" y="1467000"/>
            <a:ext cx="2289240" cy="2234160"/>
            <a:chOff x="293760" y="1467000"/>
            <a:chExt cx="2289240" cy="2234160"/>
          </a:xfrm>
        </p:grpSpPr>
        <p:grpSp>
          <p:nvGrpSpPr>
            <p:cNvPr id="1887" name=""/>
            <p:cNvGrpSpPr/>
            <p:nvPr/>
          </p:nvGrpSpPr>
          <p:grpSpPr>
            <a:xfrm>
              <a:off x="436680" y="1733040"/>
              <a:ext cx="2045880" cy="350640"/>
              <a:chOff x="436680" y="1733040"/>
              <a:chExt cx="2045880" cy="350640"/>
            </a:xfrm>
          </p:grpSpPr>
          <p:grpSp>
            <p:nvGrpSpPr>
              <p:cNvPr id="1888" name=""/>
              <p:cNvGrpSpPr/>
              <p:nvPr/>
            </p:nvGrpSpPr>
            <p:grpSpPr>
              <a:xfrm>
                <a:off x="536760" y="1733040"/>
                <a:ext cx="1945800" cy="350640"/>
                <a:chOff x="536760" y="1733040"/>
                <a:chExt cx="1945800" cy="350640"/>
              </a:xfrm>
            </p:grpSpPr>
            <p:sp>
              <p:nvSpPr>
                <p:cNvPr id="1889" name=""/>
                <p:cNvSpPr/>
                <p:nvPr/>
              </p:nvSpPr>
              <p:spPr>
                <a:xfrm>
                  <a:off x="803520" y="173304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0" name=""/>
                <p:cNvGrpSpPr/>
                <p:nvPr/>
              </p:nvGrpSpPr>
              <p:grpSpPr>
                <a:xfrm>
                  <a:off x="536760" y="1793880"/>
                  <a:ext cx="237960" cy="194760"/>
                  <a:chOff x="536760" y="1793880"/>
                  <a:chExt cx="237960" cy="194760"/>
                </a:xfrm>
              </p:grpSpPr>
              <p:sp>
                <p:nvSpPr>
                  <p:cNvPr id="1891" name=""/>
                  <p:cNvSpPr/>
                  <p:nvPr/>
                </p:nvSpPr>
                <p:spPr>
                  <a:xfrm>
                    <a:off x="536760" y="1830240"/>
                    <a:ext cx="237960" cy="1584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641160" y="179388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3" name=""/>
                <p:cNvSpPr/>
                <p:nvPr/>
              </p:nvSpPr>
              <p:spPr>
                <a:xfrm>
                  <a:off x="814320" y="1868040"/>
                  <a:ext cx="166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   GE-4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4" name=""/>
              <p:cNvSpPr/>
              <p:nvPr/>
            </p:nvSpPr>
            <p:spPr>
              <a:xfrm>
                <a:off x="436680" y="190044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5" name=""/>
            <p:cNvSpPr/>
            <p:nvPr/>
          </p:nvSpPr>
          <p:spPr>
            <a:xfrm>
              <a:off x="778320" y="200124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2480" y="1986120"/>
              <a:ext cx="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38120" y="168588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8" name=""/>
            <p:cNvGrpSpPr/>
            <p:nvPr/>
          </p:nvGrpSpPr>
          <p:grpSpPr>
            <a:xfrm>
              <a:off x="441360" y="2377440"/>
              <a:ext cx="2032920" cy="215640"/>
              <a:chOff x="441360" y="2377440"/>
              <a:chExt cx="2032920" cy="215640"/>
            </a:xfrm>
          </p:grpSpPr>
          <p:sp>
            <p:nvSpPr>
              <p:cNvPr id="1899" name=""/>
              <p:cNvSpPr/>
              <p:nvPr/>
            </p:nvSpPr>
            <p:spPr>
              <a:xfrm>
                <a:off x="830520" y="2377440"/>
                <a:ext cx="1643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ioniere (3 w/Flame)   GE-4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41360" y="249084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1" name=""/>
              <p:cNvGrpSpPr/>
              <p:nvPr/>
            </p:nvGrpSpPr>
            <p:grpSpPr>
              <a:xfrm>
                <a:off x="528480" y="2381400"/>
                <a:ext cx="231840" cy="187200"/>
                <a:chOff x="528480" y="2381400"/>
                <a:chExt cx="231840" cy="187200"/>
              </a:xfrm>
            </p:grpSpPr>
            <p:grpSp>
              <p:nvGrpSpPr>
                <p:cNvPr id="1902" name=""/>
                <p:cNvGrpSpPr/>
                <p:nvPr/>
              </p:nvGrpSpPr>
              <p:grpSpPr>
                <a:xfrm>
                  <a:off x="617400" y="2381400"/>
                  <a:ext cx="74520" cy="28080"/>
                  <a:chOff x="617400" y="2381400"/>
                  <a:chExt cx="74520" cy="28080"/>
                </a:xfrm>
              </p:grpSpPr>
              <p:sp>
                <p:nvSpPr>
                  <p:cNvPr id="1903" name=""/>
                  <p:cNvSpPr/>
                  <p:nvPr/>
                </p:nvSpPr>
                <p:spPr>
                  <a:xfrm>
                    <a:off x="617400" y="23814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664920" y="23828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5" name=""/>
                <p:cNvGrpSpPr/>
                <p:nvPr/>
              </p:nvGrpSpPr>
              <p:grpSpPr>
                <a:xfrm>
                  <a:off x="528480" y="2411280"/>
                  <a:ext cx="231840" cy="157320"/>
                  <a:chOff x="528480" y="2411280"/>
                  <a:chExt cx="231840" cy="157320"/>
                </a:xfrm>
              </p:grpSpPr>
              <p:sp>
                <p:nvSpPr>
                  <p:cNvPr id="1906" name=""/>
                  <p:cNvSpPr/>
                  <p:nvPr/>
                </p:nvSpPr>
                <p:spPr>
                  <a:xfrm>
                    <a:off x="528480" y="2411280"/>
                    <a:ext cx="23184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7" name=""/>
                  <p:cNvGrpSpPr/>
                  <p:nvPr/>
                </p:nvGrpSpPr>
                <p:grpSpPr>
                  <a:xfrm>
                    <a:off x="615960" y="2468520"/>
                    <a:ext cx="55440" cy="27000"/>
                    <a:chOff x="615960" y="2468520"/>
                    <a:chExt cx="55440" cy="27000"/>
                  </a:xfrm>
                </p:grpSpPr>
                <p:sp>
                  <p:nvSpPr>
                    <p:cNvPr id="1908" name=""/>
                    <p:cNvSpPr/>
                    <p:nvPr/>
                  </p:nvSpPr>
                  <p:spPr>
                    <a:xfrm>
                      <a:off x="615960" y="2468520"/>
                      <a:ext cx="0" cy="27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9" name=""/>
                    <p:cNvSpPr/>
                    <p:nvPr/>
                  </p:nvSpPr>
                  <p:spPr>
                    <a:xfrm>
                      <a:off x="644400" y="2468520"/>
                      <a:ext cx="0" cy="27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0" name=""/>
                    <p:cNvSpPr/>
                    <p:nvPr/>
                  </p:nvSpPr>
                  <p:spPr>
                    <a:xfrm>
                      <a:off x="671400" y="2468520"/>
                      <a:ext cx="0" cy="27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1" name=""/>
                    <p:cNvSpPr/>
                    <p:nvPr/>
                  </p:nvSpPr>
                  <p:spPr>
                    <a:xfrm>
                      <a:off x="615960" y="2468520"/>
                      <a:ext cx="5544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912" name=""/>
            <p:cNvSpPr/>
            <p:nvPr/>
          </p:nvSpPr>
          <p:spPr>
            <a:xfrm>
              <a:off x="617400" y="2568600"/>
              <a:ext cx="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3" name=""/>
            <p:cNvGrpSpPr/>
            <p:nvPr/>
          </p:nvGrpSpPr>
          <p:grpSpPr>
            <a:xfrm>
              <a:off x="439920" y="2636280"/>
              <a:ext cx="2037600" cy="215640"/>
              <a:chOff x="439920" y="2636280"/>
              <a:chExt cx="2037600" cy="215640"/>
            </a:xfrm>
          </p:grpSpPr>
          <p:sp>
            <p:nvSpPr>
              <p:cNvPr id="1914" name=""/>
              <p:cNvSpPr/>
              <p:nvPr/>
            </p:nvSpPr>
            <p:spPr>
              <a:xfrm>
                <a:off x="439920" y="2754360"/>
                <a:ext cx="185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5" name=""/>
              <p:cNvGrpSpPr/>
              <p:nvPr/>
            </p:nvGrpSpPr>
            <p:grpSpPr>
              <a:xfrm>
                <a:off x="556920" y="2636280"/>
                <a:ext cx="1920600" cy="215640"/>
                <a:chOff x="556920" y="2636280"/>
                <a:chExt cx="1920600" cy="21564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830520" y="2636280"/>
                  <a:ext cx="1647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ght Machine Gun      GE-4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7" name=""/>
                <p:cNvGrpSpPr/>
                <p:nvPr/>
              </p:nvGrpSpPr>
              <p:grpSpPr>
                <a:xfrm>
                  <a:off x="556920" y="2639880"/>
                  <a:ext cx="235800" cy="191880"/>
                  <a:chOff x="556920" y="2639880"/>
                  <a:chExt cx="235800" cy="191880"/>
                </a:xfrm>
              </p:grpSpPr>
              <p:grpSp>
                <p:nvGrpSpPr>
                  <p:cNvPr id="1918" name=""/>
                  <p:cNvGrpSpPr/>
                  <p:nvPr/>
                </p:nvGrpSpPr>
                <p:grpSpPr>
                  <a:xfrm>
                    <a:off x="637200" y="2639880"/>
                    <a:ext cx="74520" cy="28800"/>
                    <a:chOff x="637200" y="2639880"/>
                    <a:chExt cx="74520" cy="28800"/>
                  </a:xfrm>
                </p:grpSpPr>
                <p:sp>
                  <p:nvSpPr>
                    <p:cNvPr id="1919" name=""/>
                    <p:cNvSpPr/>
                    <p:nvPr/>
                  </p:nvSpPr>
                  <p:spPr>
                    <a:xfrm>
                      <a:off x="637200" y="26398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0" name=""/>
                    <p:cNvSpPr/>
                    <p:nvPr/>
                  </p:nvSpPr>
                  <p:spPr>
                    <a:xfrm>
                      <a:off x="684720" y="26416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1" name=""/>
                  <p:cNvGrpSpPr/>
                  <p:nvPr/>
                </p:nvGrpSpPr>
                <p:grpSpPr>
                  <a:xfrm>
                    <a:off x="556920" y="2666880"/>
                    <a:ext cx="235800" cy="164880"/>
                    <a:chOff x="556920" y="2666880"/>
                    <a:chExt cx="235800" cy="164880"/>
                  </a:xfrm>
                </p:grpSpPr>
                <p:sp>
                  <p:nvSpPr>
                    <p:cNvPr id="1922" name=""/>
                    <p:cNvSpPr/>
                    <p:nvPr/>
                  </p:nvSpPr>
                  <p:spPr>
                    <a:xfrm>
                      <a:off x="556920" y="2671560"/>
                      <a:ext cx="23148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3" name=""/>
                    <p:cNvSpPr/>
                    <p:nvPr/>
                  </p:nvSpPr>
                  <p:spPr>
                    <a:xfrm>
                      <a:off x="556920" y="2677680"/>
                      <a:ext cx="50400" cy="146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4" name=""/>
                    <p:cNvSpPr/>
                    <p:nvPr/>
                  </p:nvSpPr>
                  <p:spPr>
                    <a:xfrm flipV="1">
                      <a:off x="563040" y="2666880"/>
                      <a:ext cx="229680" cy="142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5" name=""/>
                    <p:cNvSpPr/>
                    <p:nvPr/>
                  </p:nvSpPr>
                  <p:spPr>
                    <a:xfrm>
                      <a:off x="574200" y="2695320"/>
                      <a:ext cx="218520" cy="136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926" name=""/>
            <p:cNvSpPr/>
            <p:nvPr/>
          </p:nvSpPr>
          <p:spPr>
            <a:xfrm>
              <a:off x="892800" y="3053880"/>
              <a:ext cx="112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7" name=""/>
            <p:cNvGrpSpPr/>
            <p:nvPr/>
          </p:nvGrpSpPr>
          <p:grpSpPr>
            <a:xfrm>
              <a:off x="571680" y="3160800"/>
              <a:ext cx="2011320" cy="243720"/>
              <a:chOff x="571680" y="3160800"/>
              <a:chExt cx="2011320" cy="243720"/>
            </a:xfrm>
          </p:grpSpPr>
          <p:grpSp>
            <p:nvGrpSpPr>
              <p:cNvPr id="1928" name=""/>
              <p:cNvGrpSpPr/>
              <p:nvPr/>
            </p:nvGrpSpPr>
            <p:grpSpPr>
              <a:xfrm>
                <a:off x="571680" y="3160800"/>
                <a:ext cx="239760" cy="214200"/>
                <a:chOff x="571680" y="3160800"/>
                <a:chExt cx="239760" cy="214200"/>
              </a:xfrm>
            </p:grpSpPr>
            <p:grpSp>
              <p:nvGrpSpPr>
                <p:cNvPr id="1929" name=""/>
                <p:cNvGrpSpPr/>
                <p:nvPr/>
              </p:nvGrpSpPr>
              <p:grpSpPr>
                <a:xfrm>
                  <a:off x="571680" y="3217680"/>
                  <a:ext cx="239760" cy="157320"/>
                  <a:chOff x="571680" y="3217680"/>
                  <a:chExt cx="239760" cy="157320"/>
                </a:xfrm>
              </p:grpSpPr>
              <p:sp>
                <p:nvSpPr>
                  <p:cNvPr id="1930" name=""/>
                  <p:cNvSpPr/>
                  <p:nvPr/>
                </p:nvSpPr>
                <p:spPr>
                  <a:xfrm>
                    <a:off x="571680" y="3217680"/>
                    <a:ext cx="23976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 flipV="1">
                    <a:off x="655920" y="3333600"/>
                    <a:ext cx="63360" cy="14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>
                    <a:off x="687600" y="3249360"/>
                    <a:ext cx="0" cy="842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3" name=""/>
                <p:cNvGrpSpPr/>
                <p:nvPr/>
              </p:nvGrpSpPr>
              <p:grpSpPr>
                <a:xfrm>
                  <a:off x="646200" y="3160800"/>
                  <a:ext cx="74520" cy="28080"/>
                  <a:chOff x="646200" y="3160800"/>
                  <a:chExt cx="74520" cy="28080"/>
                </a:xfrm>
              </p:grpSpPr>
              <p:sp>
                <p:nvSpPr>
                  <p:cNvPr id="1934" name=""/>
                  <p:cNvSpPr/>
                  <p:nvPr/>
                </p:nvSpPr>
                <p:spPr>
                  <a:xfrm>
                    <a:off x="646200" y="31608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>
                    <a:off x="693720" y="31622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36" name=""/>
              <p:cNvSpPr/>
              <p:nvPr/>
            </p:nvSpPr>
            <p:spPr>
              <a:xfrm>
                <a:off x="809640" y="3188880"/>
                <a:ext cx="177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0mm Mortar                   GE-5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7" name=""/>
            <p:cNvGrpSpPr/>
            <p:nvPr/>
          </p:nvGrpSpPr>
          <p:grpSpPr>
            <a:xfrm>
              <a:off x="425520" y="2890800"/>
              <a:ext cx="2031120" cy="243720"/>
              <a:chOff x="425520" y="2890800"/>
              <a:chExt cx="2031120" cy="243720"/>
            </a:xfrm>
          </p:grpSpPr>
          <p:sp>
            <p:nvSpPr>
              <p:cNvPr id="1938" name=""/>
              <p:cNvSpPr/>
              <p:nvPr/>
            </p:nvSpPr>
            <p:spPr>
              <a:xfrm>
                <a:off x="425520" y="3014640"/>
                <a:ext cx="18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9" name=""/>
              <p:cNvGrpSpPr/>
              <p:nvPr/>
            </p:nvGrpSpPr>
            <p:grpSpPr>
              <a:xfrm>
                <a:off x="571680" y="2890800"/>
                <a:ext cx="1884960" cy="243720"/>
                <a:chOff x="571680" y="2890800"/>
                <a:chExt cx="1884960" cy="24372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856800" y="2918880"/>
                  <a:ext cx="15998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vy Machine Gun  GE-5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1" name=""/>
                <p:cNvGrpSpPr/>
                <p:nvPr/>
              </p:nvGrpSpPr>
              <p:grpSpPr>
                <a:xfrm>
                  <a:off x="571680" y="2890800"/>
                  <a:ext cx="236520" cy="201600"/>
                  <a:chOff x="571680" y="2890800"/>
                  <a:chExt cx="236520" cy="201600"/>
                </a:xfrm>
              </p:grpSpPr>
              <p:grpSp>
                <p:nvGrpSpPr>
                  <p:cNvPr id="1942" name=""/>
                  <p:cNvGrpSpPr/>
                  <p:nvPr/>
                </p:nvGrpSpPr>
                <p:grpSpPr>
                  <a:xfrm>
                    <a:off x="649440" y="2890800"/>
                    <a:ext cx="74520" cy="28800"/>
                    <a:chOff x="649440" y="2890800"/>
                    <a:chExt cx="74520" cy="28800"/>
                  </a:xfrm>
                </p:grpSpPr>
                <p:sp>
                  <p:nvSpPr>
                    <p:cNvPr id="1943" name=""/>
                    <p:cNvSpPr/>
                    <p:nvPr/>
                  </p:nvSpPr>
                  <p:spPr>
                    <a:xfrm>
                      <a:off x="649440" y="289080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4" name=""/>
                    <p:cNvSpPr/>
                    <p:nvPr/>
                  </p:nvSpPr>
                  <p:spPr>
                    <a:xfrm>
                      <a:off x="696960" y="289260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45" name=""/>
                  <p:cNvGrpSpPr/>
                  <p:nvPr/>
                </p:nvGrpSpPr>
                <p:grpSpPr>
                  <a:xfrm>
                    <a:off x="571680" y="2927520"/>
                    <a:ext cx="236520" cy="164880"/>
                    <a:chOff x="571680" y="2927520"/>
                    <a:chExt cx="236520" cy="164880"/>
                  </a:xfrm>
                </p:grpSpPr>
                <p:sp>
                  <p:nvSpPr>
                    <p:cNvPr id="1946" name=""/>
                    <p:cNvSpPr/>
                    <p:nvPr/>
                  </p:nvSpPr>
                  <p:spPr>
                    <a:xfrm>
                      <a:off x="571680" y="293220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7" name=""/>
                    <p:cNvSpPr/>
                    <p:nvPr/>
                  </p:nvSpPr>
                  <p:spPr>
                    <a:xfrm>
                      <a:off x="571680" y="2938320"/>
                      <a:ext cx="50760" cy="146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8" name=""/>
                    <p:cNvSpPr/>
                    <p:nvPr/>
                  </p:nvSpPr>
                  <p:spPr>
                    <a:xfrm flipV="1">
                      <a:off x="578160" y="2927520"/>
                      <a:ext cx="230040" cy="142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9" name=""/>
                    <p:cNvSpPr/>
                    <p:nvPr/>
                  </p:nvSpPr>
                  <p:spPr>
                    <a:xfrm>
                      <a:off x="589320" y="2955960"/>
                      <a:ext cx="218880" cy="136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950" name=""/>
            <p:cNvSpPr/>
            <p:nvPr/>
          </p:nvSpPr>
          <p:spPr>
            <a:xfrm>
              <a:off x="608040" y="2832120"/>
              <a:ext cx="0" cy="11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1" name=""/>
            <p:cNvGrpSpPr/>
            <p:nvPr/>
          </p:nvGrpSpPr>
          <p:grpSpPr>
            <a:xfrm>
              <a:off x="293760" y="1467000"/>
              <a:ext cx="283680" cy="256680"/>
              <a:chOff x="293760" y="1467000"/>
              <a:chExt cx="283680" cy="256680"/>
            </a:xfrm>
          </p:grpSpPr>
          <p:sp>
            <p:nvSpPr>
              <p:cNvPr id="1952" name=""/>
              <p:cNvSpPr/>
              <p:nvPr/>
            </p:nvSpPr>
            <p:spPr>
              <a:xfrm>
                <a:off x="441360" y="14670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3" name=""/>
              <p:cNvGrpSpPr/>
              <p:nvPr/>
            </p:nvGrpSpPr>
            <p:grpSpPr>
              <a:xfrm>
                <a:off x="293760" y="1530360"/>
                <a:ext cx="283680" cy="193320"/>
                <a:chOff x="293760" y="1530360"/>
                <a:chExt cx="283680" cy="19332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293760" y="1530360"/>
                  <a:ext cx="283680" cy="19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5" name=""/>
                <p:cNvGrpSpPr/>
                <p:nvPr/>
              </p:nvGrpSpPr>
              <p:grpSpPr>
                <a:xfrm>
                  <a:off x="400680" y="1600560"/>
                  <a:ext cx="67320" cy="32760"/>
                  <a:chOff x="400680" y="1600560"/>
                  <a:chExt cx="67320" cy="32760"/>
                </a:xfrm>
              </p:grpSpPr>
              <p:sp>
                <p:nvSpPr>
                  <p:cNvPr id="1956" name=""/>
                  <p:cNvSpPr/>
                  <p:nvPr/>
                </p:nvSpPr>
                <p:spPr>
                  <a:xfrm>
                    <a:off x="400680" y="160056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435240" y="160056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468000" y="160056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400680" y="1600560"/>
                    <a:ext cx="673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60" name=""/>
            <p:cNvGrpSpPr/>
            <p:nvPr/>
          </p:nvGrpSpPr>
          <p:grpSpPr>
            <a:xfrm>
              <a:off x="563400" y="3341880"/>
              <a:ext cx="1960560" cy="359280"/>
              <a:chOff x="563400" y="3341880"/>
              <a:chExt cx="1960560" cy="359280"/>
            </a:xfrm>
          </p:grpSpPr>
          <p:sp>
            <p:nvSpPr>
              <p:cNvPr id="1961" name=""/>
              <p:cNvSpPr/>
              <p:nvPr/>
            </p:nvSpPr>
            <p:spPr>
              <a:xfrm>
                <a:off x="873360" y="335376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851040" y="3485520"/>
                <a:ext cx="1672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8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ght Truck                   GE-3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03360" y="3341880"/>
                <a:ext cx="0" cy="164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4" name=""/>
              <p:cNvGrpSpPr/>
              <p:nvPr/>
            </p:nvGrpSpPr>
            <p:grpSpPr>
              <a:xfrm>
                <a:off x="563400" y="3457440"/>
                <a:ext cx="231840" cy="242640"/>
                <a:chOff x="563400" y="3457440"/>
                <a:chExt cx="231840" cy="242640"/>
              </a:xfrm>
            </p:grpSpPr>
            <p:grpSp>
              <p:nvGrpSpPr>
                <p:cNvPr id="1965" name=""/>
                <p:cNvGrpSpPr/>
                <p:nvPr/>
              </p:nvGrpSpPr>
              <p:grpSpPr>
                <a:xfrm>
                  <a:off x="563400" y="3510000"/>
                  <a:ext cx="231840" cy="190080"/>
                  <a:chOff x="563400" y="3510000"/>
                  <a:chExt cx="231840" cy="190080"/>
                </a:xfrm>
              </p:grpSpPr>
              <p:sp>
                <p:nvSpPr>
                  <p:cNvPr id="1966" name=""/>
                  <p:cNvSpPr/>
                  <p:nvPr/>
                </p:nvSpPr>
                <p:spPr>
                  <a:xfrm>
                    <a:off x="563400" y="351000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573840" y="367272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>
                    <a:off x="755640" y="367272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9" name=""/>
                <p:cNvGrpSpPr/>
                <p:nvPr/>
              </p:nvGrpSpPr>
              <p:grpSpPr>
                <a:xfrm>
                  <a:off x="644400" y="3457440"/>
                  <a:ext cx="74520" cy="28080"/>
                  <a:chOff x="644400" y="3457440"/>
                  <a:chExt cx="74520" cy="2808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>
                    <a:off x="644400" y="34574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691920" y="34588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72" name=""/>
            <p:cNvGrpSpPr/>
            <p:nvPr/>
          </p:nvGrpSpPr>
          <p:grpSpPr>
            <a:xfrm>
              <a:off x="542880" y="2090880"/>
              <a:ext cx="1843920" cy="240480"/>
              <a:chOff x="542880" y="2090880"/>
              <a:chExt cx="1843920" cy="240480"/>
            </a:xfrm>
          </p:grpSpPr>
          <p:sp>
            <p:nvSpPr>
              <p:cNvPr id="1973" name=""/>
              <p:cNvSpPr/>
              <p:nvPr/>
            </p:nvSpPr>
            <p:spPr>
              <a:xfrm>
                <a:off x="834480" y="2115720"/>
                <a:ext cx="1552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Kubelwagen             GE-3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4" name=""/>
              <p:cNvGrpSpPr/>
              <p:nvPr/>
            </p:nvGrpSpPr>
            <p:grpSpPr>
              <a:xfrm>
                <a:off x="542880" y="2090880"/>
                <a:ext cx="231840" cy="239400"/>
                <a:chOff x="542880" y="2090880"/>
                <a:chExt cx="231840" cy="239400"/>
              </a:xfrm>
            </p:grpSpPr>
            <p:grpSp>
              <p:nvGrpSpPr>
                <p:cNvPr id="1975" name=""/>
                <p:cNvGrpSpPr/>
                <p:nvPr/>
              </p:nvGrpSpPr>
              <p:grpSpPr>
                <a:xfrm>
                  <a:off x="542880" y="2140200"/>
                  <a:ext cx="231840" cy="190080"/>
                  <a:chOff x="542880" y="2140200"/>
                  <a:chExt cx="231840" cy="190080"/>
                </a:xfrm>
              </p:grpSpPr>
              <p:sp>
                <p:nvSpPr>
                  <p:cNvPr id="1976" name=""/>
                  <p:cNvSpPr/>
                  <p:nvPr/>
                </p:nvSpPr>
                <p:spPr>
                  <a:xfrm>
                    <a:off x="542880" y="214020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553320" y="230292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735120" y="230292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9" name=""/>
                <p:cNvGrpSpPr/>
                <p:nvPr/>
              </p:nvGrpSpPr>
              <p:grpSpPr>
                <a:xfrm>
                  <a:off x="617400" y="2090880"/>
                  <a:ext cx="74520" cy="28080"/>
                  <a:chOff x="617400" y="2090880"/>
                  <a:chExt cx="74520" cy="28080"/>
                </a:xfrm>
              </p:grpSpPr>
              <p:sp>
                <p:nvSpPr>
                  <p:cNvPr id="1980" name=""/>
                  <p:cNvSpPr/>
                  <p:nvPr/>
                </p:nvSpPr>
                <p:spPr>
                  <a:xfrm>
                    <a:off x="617400" y="20908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664920" y="20923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82" name=""/>
            <p:cNvSpPr/>
            <p:nvPr/>
          </p:nvSpPr>
          <p:spPr>
            <a:xfrm>
              <a:off x="593640" y="309240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25520" y="3284640"/>
              <a:ext cx="16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4" name=""/>
          <p:cNvGrpSpPr/>
          <p:nvPr/>
        </p:nvGrpSpPr>
        <p:grpSpPr>
          <a:xfrm>
            <a:off x="4000680" y="4152960"/>
            <a:ext cx="231480" cy="190080"/>
            <a:chOff x="4000680" y="4152960"/>
            <a:chExt cx="231480" cy="190080"/>
          </a:xfrm>
        </p:grpSpPr>
        <p:sp>
          <p:nvSpPr>
            <p:cNvPr id="1985" name=""/>
            <p:cNvSpPr/>
            <p:nvPr/>
          </p:nvSpPr>
          <p:spPr>
            <a:xfrm>
              <a:off x="4000680" y="4152960"/>
              <a:ext cx="23148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011120" y="4315680"/>
              <a:ext cx="2700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192920" y="4315680"/>
              <a:ext cx="2700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033800" y="4194360"/>
              <a:ext cx="1612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4002840" y="4152960"/>
              <a:ext cx="227880" cy="15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0" name=""/>
          <p:cNvGrpSpPr/>
          <p:nvPr/>
        </p:nvGrpSpPr>
        <p:grpSpPr>
          <a:xfrm>
            <a:off x="2816280" y="4152960"/>
            <a:ext cx="239760" cy="188640"/>
            <a:chOff x="2816280" y="4152960"/>
            <a:chExt cx="239760" cy="188640"/>
          </a:xfrm>
        </p:grpSpPr>
        <p:sp>
          <p:nvSpPr>
            <p:cNvPr id="1991" name=""/>
            <p:cNvSpPr/>
            <p:nvPr/>
          </p:nvSpPr>
          <p:spPr>
            <a:xfrm>
              <a:off x="2816280" y="4152960"/>
              <a:ext cx="239760" cy="15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851200" y="4192560"/>
              <a:ext cx="1699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2816280" y="4152960"/>
              <a:ext cx="236520" cy="156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830680" y="43146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943360" y="4313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019680" y="4313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963880" y="4313160"/>
              <a:ext cx="61920" cy="2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8" name=""/>
          <p:cNvGrpSpPr/>
          <p:nvPr/>
        </p:nvGrpSpPr>
        <p:grpSpPr>
          <a:xfrm>
            <a:off x="2679840" y="5035680"/>
            <a:ext cx="1952280" cy="849960"/>
            <a:chOff x="2679840" y="5035680"/>
            <a:chExt cx="1952280" cy="849960"/>
          </a:xfrm>
        </p:grpSpPr>
        <p:sp>
          <p:nvSpPr>
            <p:cNvPr id="1999" name=""/>
            <p:cNvSpPr/>
            <p:nvPr/>
          </p:nvSpPr>
          <p:spPr>
            <a:xfrm>
              <a:off x="2822760" y="5278680"/>
              <a:ext cx="0" cy="49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813040" y="5769000"/>
              <a:ext cx="1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822760" y="5499360"/>
              <a:ext cx="12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216600" y="5244480"/>
              <a:ext cx="65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215160" y="5395320"/>
              <a:ext cx="1416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Kpfw IV G, H   GE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208680" y="5670000"/>
              <a:ext cx="1416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zKpfw IV G, H   GE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5" name=""/>
            <p:cNvGrpSpPr/>
            <p:nvPr/>
          </p:nvGrpSpPr>
          <p:grpSpPr>
            <a:xfrm>
              <a:off x="2679840" y="5035680"/>
              <a:ext cx="291960" cy="235080"/>
              <a:chOff x="2679840" y="5035680"/>
              <a:chExt cx="291960" cy="235080"/>
            </a:xfrm>
          </p:grpSpPr>
          <p:grpSp>
            <p:nvGrpSpPr>
              <p:cNvPr id="2006" name=""/>
              <p:cNvGrpSpPr/>
              <p:nvPr/>
            </p:nvGrpSpPr>
            <p:grpSpPr>
              <a:xfrm>
                <a:off x="2763720" y="5035680"/>
                <a:ext cx="131760" cy="27000"/>
                <a:chOff x="2763720" y="5035680"/>
                <a:chExt cx="131760" cy="27000"/>
              </a:xfrm>
            </p:grpSpPr>
            <p:sp>
              <p:nvSpPr>
                <p:cNvPr id="2007" name=""/>
                <p:cNvSpPr/>
                <p:nvPr/>
              </p:nvSpPr>
              <p:spPr>
                <a:xfrm>
                  <a:off x="2763720" y="50356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2814480" y="50356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2868480" y="50356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0" name=""/>
              <p:cNvGrpSpPr/>
              <p:nvPr/>
            </p:nvGrpSpPr>
            <p:grpSpPr>
              <a:xfrm>
                <a:off x="2679840" y="5079960"/>
                <a:ext cx="291960" cy="190800"/>
                <a:chOff x="2679840" y="5079960"/>
                <a:chExt cx="291960" cy="190800"/>
              </a:xfrm>
            </p:grpSpPr>
            <p:grpSp>
              <p:nvGrpSpPr>
                <p:cNvPr id="2011" name=""/>
                <p:cNvGrpSpPr/>
                <p:nvPr/>
              </p:nvGrpSpPr>
              <p:grpSpPr>
                <a:xfrm>
                  <a:off x="2679840" y="5079960"/>
                  <a:ext cx="291960" cy="190800"/>
                  <a:chOff x="2679840" y="5079960"/>
                  <a:chExt cx="291960" cy="190800"/>
                </a:xfrm>
              </p:grpSpPr>
              <p:sp>
                <p:nvSpPr>
                  <p:cNvPr id="2012" name=""/>
                  <p:cNvSpPr/>
                  <p:nvPr/>
                </p:nvSpPr>
                <p:spPr>
                  <a:xfrm>
                    <a:off x="2679840" y="5079960"/>
                    <a:ext cx="291960" cy="1908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2733480" y="5127480"/>
                    <a:ext cx="184320" cy="91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4" name=""/>
                <p:cNvSpPr/>
                <p:nvPr/>
              </p:nvSpPr>
              <p:spPr>
                <a:xfrm flipV="1">
                  <a:off x="2679840" y="5079960"/>
                  <a:ext cx="287640" cy="1908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5" name=""/>
            <p:cNvGrpSpPr/>
            <p:nvPr/>
          </p:nvGrpSpPr>
          <p:grpSpPr>
            <a:xfrm>
              <a:off x="2967120" y="5648400"/>
              <a:ext cx="239760" cy="200160"/>
              <a:chOff x="2967120" y="5648400"/>
              <a:chExt cx="239760" cy="200160"/>
            </a:xfrm>
          </p:grpSpPr>
          <p:grpSp>
            <p:nvGrpSpPr>
              <p:cNvPr id="2016" name=""/>
              <p:cNvGrpSpPr/>
              <p:nvPr/>
            </p:nvGrpSpPr>
            <p:grpSpPr>
              <a:xfrm>
                <a:off x="3049560" y="5648400"/>
                <a:ext cx="74520" cy="28080"/>
                <a:chOff x="3049560" y="5648400"/>
                <a:chExt cx="74520" cy="28080"/>
              </a:xfrm>
            </p:grpSpPr>
            <p:sp>
              <p:nvSpPr>
                <p:cNvPr id="2017" name=""/>
                <p:cNvSpPr/>
                <p:nvPr/>
              </p:nvSpPr>
              <p:spPr>
                <a:xfrm>
                  <a:off x="3049560" y="56484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3097080" y="56498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9" name=""/>
              <p:cNvGrpSpPr/>
              <p:nvPr/>
            </p:nvGrpSpPr>
            <p:grpSpPr>
              <a:xfrm>
                <a:off x="2967120" y="5690880"/>
                <a:ext cx="239760" cy="157680"/>
                <a:chOff x="2967120" y="5690880"/>
                <a:chExt cx="239760" cy="157680"/>
              </a:xfrm>
            </p:grpSpPr>
            <p:grpSp>
              <p:nvGrpSpPr>
                <p:cNvPr id="2020" name=""/>
                <p:cNvGrpSpPr/>
                <p:nvPr/>
              </p:nvGrpSpPr>
              <p:grpSpPr>
                <a:xfrm>
                  <a:off x="2967120" y="5691240"/>
                  <a:ext cx="239760" cy="157320"/>
                  <a:chOff x="2967120" y="5691240"/>
                  <a:chExt cx="239760" cy="157320"/>
                </a:xfrm>
              </p:grpSpPr>
              <p:sp>
                <p:nvSpPr>
                  <p:cNvPr id="2021" name=""/>
                  <p:cNvSpPr/>
                  <p:nvPr/>
                </p:nvSpPr>
                <p:spPr>
                  <a:xfrm>
                    <a:off x="2967120" y="5691240"/>
                    <a:ext cx="23976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3011040" y="5730480"/>
                    <a:ext cx="15156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23" name=""/>
                <p:cNvSpPr/>
                <p:nvPr/>
              </p:nvSpPr>
              <p:spPr>
                <a:xfrm flipV="1">
                  <a:off x="2967120" y="5690880"/>
                  <a:ext cx="236160" cy="157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4" name=""/>
            <p:cNvGrpSpPr/>
            <p:nvPr/>
          </p:nvGrpSpPr>
          <p:grpSpPr>
            <a:xfrm>
              <a:off x="2952720" y="5375520"/>
              <a:ext cx="239760" cy="204480"/>
              <a:chOff x="2952720" y="5375520"/>
              <a:chExt cx="239760" cy="204480"/>
            </a:xfrm>
          </p:grpSpPr>
          <p:grpSp>
            <p:nvGrpSpPr>
              <p:cNvPr id="2025" name=""/>
              <p:cNvGrpSpPr/>
              <p:nvPr/>
            </p:nvGrpSpPr>
            <p:grpSpPr>
              <a:xfrm>
                <a:off x="3043440" y="5375520"/>
                <a:ext cx="74520" cy="28080"/>
                <a:chOff x="3043440" y="5375520"/>
                <a:chExt cx="74520" cy="28080"/>
              </a:xfrm>
            </p:grpSpPr>
            <p:sp>
              <p:nvSpPr>
                <p:cNvPr id="2026" name=""/>
                <p:cNvSpPr/>
                <p:nvPr/>
              </p:nvSpPr>
              <p:spPr>
                <a:xfrm>
                  <a:off x="3043440" y="53755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3090960" y="53769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8" name=""/>
              <p:cNvGrpSpPr/>
              <p:nvPr/>
            </p:nvGrpSpPr>
            <p:grpSpPr>
              <a:xfrm>
                <a:off x="2952720" y="5423040"/>
                <a:ext cx="239760" cy="156960"/>
                <a:chOff x="2952720" y="5423040"/>
                <a:chExt cx="239760" cy="156960"/>
              </a:xfrm>
            </p:grpSpPr>
            <p:grpSp>
              <p:nvGrpSpPr>
                <p:cNvPr id="2029" name=""/>
                <p:cNvGrpSpPr/>
                <p:nvPr/>
              </p:nvGrpSpPr>
              <p:grpSpPr>
                <a:xfrm>
                  <a:off x="2952720" y="5423040"/>
                  <a:ext cx="239760" cy="156960"/>
                  <a:chOff x="2952720" y="5423040"/>
                  <a:chExt cx="239760" cy="156960"/>
                </a:xfrm>
              </p:grpSpPr>
              <p:sp>
                <p:nvSpPr>
                  <p:cNvPr id="2030" name=""/>
                  <p:cNvSpPr/>
                  <p:nvPr/>
                </p:nvSpPr>
                <p:spPr>
                  <a:xfrm>
                    <a:off x="2952720" y="5423040"/>
                    <a:ext cx="23976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2996640" y="5462280"/>
                    <a:ext cx="15156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2" name=""/>
                <p:cNvSpPr/>
                <p:nvPr/>
              </p:nvSpPr>
              <p:spPr>
                <a:xfrm flipV="1">
                  <a:off x="2952720" y="5423040"/>
                  <a:ext cx="236160" cy="156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33" name=""/>
          <p:cNvSpPr/>
          <p:nvPr/>
        </p:nvSpPr>
        <p:spPr>
          <a:xfrm>
            <a:off x="2581200" y="4595760"/>
            <a:ext cx="20512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z. Reconnaissance Plato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825640" y="1160280"/>
            <a:ext cx="20512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mored Car Plato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5" name=""/>
          <p:cNvGrpSpPr/>
          <p:nvPr/>
        </p:nvGrpSpPr>
        <p:grpSpPr>
          <a:xfrm>
            <a:off x="2809800" y="1533600"/>
            <a:ext cx="2383200" cy="848880"/>
            <a:chOff x="2809800" y="1533600"/>
            <a:chExt cx="2383200" cy="848880"/>
          </a:xfrm>
        </p:grpSpPr>
        <p:sp>
          <p:nvSpPr>
            <p:cNvPr id="2036" name=""/>
            <p:cNvSpPr/>
            <p:nvPr/>
          </p:nvSpPr>
          <p:spPr>
            <a:xfrm>
              <a:off x="2954160" y="1776240"/>
              <a:ext cx="0" cy="49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944800" y="2266920"/>
              <a:ext cx="1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954160" y="1996920"/>
              <a:ext cx="13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348360" y="1742400"/>
              <a:ext cx="65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0" name=""/>
            <p:cNvGrpSpPr/>
            <p:nvPr/>
          </p:nvGrpSpPr>
          <p:grpSpPr>
            <a:xfrm>
              <a:off x="2809800" y="1533600"/>
              <a:ext cx="292320" cy="242640"/>
              <a:chOff x="2809800" y="1533600"/>
              <a:chExt cx="292320" cy="242640"/>
            </a:xfrm>
          </p:grpSpPr>
          <p:grpSp>
            <p:nvGrpSpPr>
              <p:cNvPr id="2041" name=""/>
              <p:cNvGrpSpPr/>
              <p:nvPr/>
            </p:nvGrpSpPr>
            <p:grpSpPr>
              <a:xfrm>
                <a:off x="2895480" y="1533600"/>
                <a:ext cx="131760" cy="27000"/>
                <a:chOff x="2895480" y="1533600"/>
                <a:chExt cx="131760" cy="27000"/>
              </a:xfrm>
            </p:grpSpPr>
            <p:sp>
              <p:nvSpPr>
                <p:cNvPr id="2042" name=""/>
                <p:cNvSpPr/>
                <p:nvPr/>
              </p:nvSpPr>
              <p:spPr>
                <a:xfrm>
                  <a:off x="2895480" y="15336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946240" y="15336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3000240" y="15336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5" name=""/>
              <p:cNvGrpSpPr/>
              <p:nvPr/>
            </p:nvGrpSpPr>
            <p:grpSpPr>
              <a:xfrm>
                <a:off x="2809800" y="1585440"/>
                <a:ext cx="292320" cy="190800"/>
                <a:chOff x="2809800" y="1585440"/>
                <a:chExt cx="292320" cy="190800"/>
              </a:xfrm>
            </p:grpSpPr>
            <p:grpSp>
              <p:nvGrpSpPr>
                <p:cNvPr id="2046" name=""/>
                <p:cNvGrpSpPr/>
                <p:nvPr/>
              </p:nvGrpSpPr>
              <p:grpSpPr>
                <a:xfrm>
                  <a:off x="2809800" y="1585800"/>
                  <a:ext cx="292320" cy="190440"/>
                  <a:chOff x="2809800" y="1585800"/>
                  <a:chExt cx="292320" cy="190440"/>
                </a:xfrm>
              </p:grpSpPr>
              <p:sp>
                <p:nvSpPr>
                  <p:cNvPr id="2047" name=""/>
                  <p:cNvSpPr/>
                  <p:nvPr/>
                </p:nvSpPr>
                <p:spPr>
                  <a:xfrm>
                    <a:off x="2809800" y="1585800"/>
                    <a:ext cx="292320" cy="190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2863440" y="1633320"/>
                    <a:ext cx="184680" cy="9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9" name=""/>
                <p:cNvSpPr/>
                <p:nvPr/>
              </p:nvSpPr>
              <p:spPr>
                <a:xfrm flipV="1">
                  <a:off x="2809800" y="1585440"/>
                  <a:ext cx="288000" cy="190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50" name=""/>
            <p:cNvGrpSpPr/>
            <p:nvPr/>
          </p:nvGrpSpPr>
          <p:grpSpPr>
            <a:xfrm>
              <a:off x="3097080" y="1873080"/>
              <a:ext cx="2095920" cy="235800"/>
              <a:chOff x="3097080" y="1873080"/>
              <a:chExt cx="2095920" cy="235800"/>
            </a:xfrm>
          </p:grpSpPr>
          <p:sp>
            <p:nvSpPr>
              <p:cNvPr id="2051" name=""/>
              <p:cNvSpPr/>
              <p:nvPr/>
            </p:nvSpPr>
            <p:spPr>
              <a:xfrm>
                <a:off x="3349440" y="1893240"/>
                <a:ext cx="1843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dKfz 234/1 Armored Car  GE-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2" name=""/>
              <p:cNvGrpSpPr/>
              <p:nvPr/>
            </p:nvGrpSpPr>
            <p:grpSpPr>
              <a:xfrm>
                <a:off x="3097080" y="1873080"/>
                <a:ext cx="231840" cy="223560"/>
                <a:chOff x="3097080" y="1873080"/>
                <a:chExt cx="231840" cy="223560"/>
              </a:xfrm>
            </p:grpSpPr>
            <p:grpSp>
              <p:nvGrpSpPr>
                <p:cNvPr id="2053" name=""/>
                <p:cNvGrpSpPr/>
                <p:nvPr/>
              </p:nvGrpSpPr>
              <p:grpSpPr>
                <a:xfrm>
                  <a:off x="3175200" y="1873080"/>
                  <a:ext cx="74520" cy="28800"/>
                  <a:chOff x="3175200" y="1873080"/>
                  <a:chExt cx="74520" cy="28800"/>
                </a:xfrm>
              </p:grpSpPr>
              <p:sp>
                <p:nvSpPr>
                  <p:cNvPr id="2054" name=""/>
                  <p:cNvSpPr/>
                  <p:nvPr/>
                </p:nvSpPr>
                <p:spPr>
                  <a:xfrm>
                    <a:off x="3175200" y="18730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3222720" y="18748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6" name=""/>
                <p:cNvGrpSpPr/>
                <p:nvPr/>
              </p:nvGrpSpPr>
              <p:grpSpPr>
                <a:xfrm>
                  <a:off x="3097080" y="1906560"/>
                  <a:ext cx="231840" cy="190080"/>
                  <a:chOff x="3097080" y="1906560"/>
                  <a:chExt cx="231840" cy="190080"/>
                </a:xfrm>
              </p:grpSpPr>
              <p:sp>
                <p:nvSpPr>
                  <p:cNvPr id="2057" name=""/>
                  <p:cNvSpPr/>
                  <p:nvPr/>
                </p:nvSpPr>
                <p:spPr>
                  <a:xfrm>
                    <a:off x="3097080" y="190656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3107520" y="206928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3289680" y="206928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3130200" y="1947960"/>
                    <a:ext cx="16164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 flipV="1">
                    <a:off x="3099240" y="1906560"/>
                    <a:ext cx="228240" cy="15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62" name=""/>
            <p:cNvGrpSpPr/>
            <p:nvPr/>
          </p:nvGrpSpPr>
          <p:grpSpPr>
            <a:xfrm>
              <a:off x="3098880" y="2134440"/>
              <a:ext cx="2094120" cy="248040"/>
              <a:chOff x="3098880" y="2134440"/>
              <a:chExt cx="2094120" cy="248040"/>
            </a:xfrm>
          </p:grpSpPr>
          <p:grpSp>
            <p:nvGrpSpPr>
              <p:cNvPr id="2063" name=""/>
              <p:cNvGrpSpPr/>
              <p:nvPr/>
            </p:nvGrpSpPr>
            <p:grpSpPr>
              <a:xfrm>
                <a:off x="3098880" y="2146320"/>
                <a:ext cx="231840" cy="236160"/>
                <a:chOff x="3098880" y="2146320"/>
                <a:chExt cx="231840" cy="236160"/>
              </a:xfrm>
            </p:grpSpPr>
            <p:grpSp>
              <p:nvGrpSpPr>
                <p:cNvPr id="2064" name=""/>
                <p:cNvGrpSpPr/>
                <p:nvPr/>
              </p:nvGrpSpPr>
              <p:grpSpPr>
                <a:xfrm>
                  <a:off x="3181320" y="2146320"/>
                  <a:ext cx="74520" cy="28080"/>
                  <a:chOff x="3181320" y="2146320"/>
                  <a:chExt cx="74520" cy="28080"/>
                </a:xfrm>
              </p:grpSpPr>
              <p:sp>
                <p:nvSpPr>
                  <p:cNvPr id="2065" name=""/>
                  <p:cNvSpPr/>
                  <p:nvPr/>
                </p:nvSpPr>
                <p:spPr>
                  <a:xfrm>
                    <a:off x="3181320" y="21463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3228840" y="21477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7" name=""/>
                <p:cNvGrpSpPr/>
                <p:nvPr/>
              </p:nvGrpSpPr>
              <p:grpSpPr>
                <a:xfrm>
                  <a:off x="3098880" y="2192400"/>
                  <a:ext cx="231840" cy="190080"/>
                  <a:chOff x="3098880" y="2192400"/>
                  <a:chExt cx="231840" cy="190080"/>
                </a:xfrm>
              </p:grpSpPr>
              <p:sp>
                <p:nvSpPr>
                  <p:cNvPr id="2068" name=""/>
                  <p:cNvSpPr/>
                  <p:nvPr/>
                </p:nvSpPr>
                <p:spPr>
                  <a:xfrm>
                    <a:off x="3098880" y="219240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3109320" y="235512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"/>
                  <p:cNvSpPr/>
                  <p:nvPr/>
                </p:nvSpPr>
                <p:spPr>
                  <a:xfrm>
                    <a:off x="3291480" y="2355120"/>
                    <a:ext cx="2700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1" name=""/>
                  <p:cNvSpPr/>
                  <p:nvPr/>
                </p:nvSpPr>
                <p:spPr>
                  <a:xfrm>
                    <a:off x="3132000" y="2233800"/>
                    <a:ext cx="161640" cy="7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 flipV="1">
                    <a:off x="3101040" y="2192400"/>
                    <a:ext cx="228240" cy="15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73" name=""/>
              <p:cNvSpPr/>
              <p:nvPr/>
            </p:nvSpPr>
            <p:spPr>
              <a:xfrm>
                <a:off x="3349440" y="2134440"/>
                <a:ext cx="1843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dKfz 234/1 Armored Car  GE-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4" name=""/>
          <p:cNvSpPr/>
          <p:nvPr/>
        </p:nvSpPr>
        <p:spPr>
          <a:xfrm>
            <a:off x="2658960" y="2600280"/>
            <a:ext cx="22179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mored Car Platoon (Halftrac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5" name=""/>
          <p:cNvGrpSpPr/>
          <p:nvPr/>
        </p:nvGrpSpPr>
        <p:grpSpPr>
          <a:xfrm>
            <a:off x="2643120" y="2973240"/>
            <a:ext cx="2397600" cy="831240"/>
            <a:chOff x="2643120" y="2973240"/>
            <a:chExt cx="2397600" cy="831240"/>
          </a:xfrm>
        </p:grpSpPr>
        <p:sp>
          <p:nvSpPr>
            <p:cNvPr id="2076" name=""/>
            <p:cNvSpPr/>
            <p:nvPr/>
          </p:nvSpPr>
          <p:spPr>
            <a:xfrm>
              <a:off x="2787480" y="3216240"/>
              <a:ext cx="0" cy="49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78120" y="3706920"/>
              <a:ext cx="1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787480" y="3436920"/>
              <a:ext cx="13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181680" y="3182400"/>
              <a:ext cx="65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0" name=""/>
            <p:cNvGrpSpPr/>
            <p:nvPr/>
          </p:nvGrpSpPr>
          <p:grpSpPr>
            <a:xfrm>
              <a:off x="2643120" y="2973240"/>
              <a:ext cx="292320" cy="242640"/>
              <a:chOff x="2643120" y="2973240"/>
              <a:chExt cx="292320" cy="242640"/>
            </a:xfrm>
          </p:grpSpPr>
          <p:grpSp>
            <p:nvGrpSpPr>
              <p:cNvPr id="2081" name=""/>
              <p:cNvGrpSpPr/>
              <p:nvPr/>
            </p:nvGrpSpPr>
            <p:grpSpPr>
              <a:xfrm>
                <a:off x="2728800" y="2973240"/>
                <a:ext cx="131760" cy="27000"/>
                <a:chOff x="2728800" y="2973240"/>
                <a:chExt cx="131760" cy="27000"/>
              </a:xfrm>
            </p:grpSpPr>
            <p:sp>
              <p:nvSpPr>
                <p:cNvPr id="2082" name=""/>
                <p:cNvSpPr/>
                <p:nvPr/>
              </p:nvSpPr>
              <p:spPr>
                <a:xfrm>
                  <a:off x="2728800" y="29732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2779560" y="29732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2833560" y="29732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5" name=""/>
              <p:cNvGrpSpPr/>
              <p:nvPr/>
            </p:nvGrpSpPr>
            <p:grpSpPr>
              <a:xfrm>
                <a:off x="2643120" y="3025080"/>
                <a:ext cx="292320" cy="190800"/>
                <a:chOff x="2643120" y="3025080"/>
                <a:chExt cx="292320" cy="190800"/>
              </a:xfrm>
            </p:grpSpPr>
            <p:grpSp>
              <p:nvGrpSpPr>
                <p:cNvPr id="2086" name=""/>
                <p:cNvGrpSpPr/>
                <p:nvPr/>
              </p:nvGrpSpPr>
              <p:grpSpPr>
                <a:xfrm>
                  <a:off x="2643120" y="3025440"/>
                  <a:ext cx="292320" cy="190440"/>
                  <a:chOff x="2643120" y="3025440"/>
                  <a:chExt cx="292320" cy="190440"/>
                </a:xfrm>
              </p:grpSpPr>
              <p:sp>
                <p:nvSpPr>
                  <p:cNvPr id="2087" name=""/>
                  <p:cNvSpPr/>
                  <p:nvPr/>
                </p:nvSpPr>
                <p:spPr>
                  <a:xfrm>
                    <a:off x="2643120" y="3025440"/>
                    <a:ext cx="292320" cy="190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>
                    <a:off x="2696760" y="3072960"/>
                    <a:ext cx="184680" cy="9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89" name=""/>
                <p:cNvSpPr/>
                <p:nvPr/>
              </p:nvSpPr>
              <p:spPr>
                <a:xfrm flipV="1">
                  <a:off x="2643120" y="3025080"/>
                  <a:ext cx="288000" cy="190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0" name=""/>
            <p:cNvGrpSpPr/>
            <p:nvPr/>
          </p:nvGrpSpPr>
          <p:grpSpPr>
            <a:xfrm>
              <a:off x="2922480" y="3313080"/>
              <a:ext cx="2103840" cy="235800"/>
              <a:chOff x="2922480" y="3313080"/>
              <a:chExt cx="2103840" cy="235800"/>
            </a:xfrm>
          </p:grpSpPr>
          <p:sp>
            <p:nvSpPr>
              <p:cNvPr id="2091" name=""/>
              <p:cNvSpPr/>
              <p:nvPr/>
            </p:nvSpPr>
            <p:spPr>
              <a:xfrm>
                <a:off x="3182760" y="3333240"/>
                <a:ext cx="1843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dKfz 250/9 Armored Car  GE-2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2" name=""/>
              <p:cNvGrpSpPr/>
              <p:nvPr/>
            </p:nvGrpSpPr>
            <p:grpSpPr>
              <a:xfrm>
                <a:off x="2922480" y="3313080"/>
                <a:ext cx="239760" cy="234720"/>
                <a:chOff x="2922480" y="3313080"/>
                <a:chExt cx="239760" cy="234720"/>
              </a:xfrm>
            </p:grpSpPr>
            <p:grpSp>
              <p:nvGrpSpPr>
                <p:cNvPr id="2093" name=""/>
                <p:cNvGrpSpPr/>
                <p:nvPr/>
              </p:nvGrpSpPr>
              <p:grpSpPr>
                <a:xfrm>
                  <a:off x="3008160" y="3313080"/>
                  <a:ext cx="74520" cy="28080"/>
                  <a:chOff x="3008160" y="3313080"/>
                  <a:chExt cx="74520" cy="28080"/>
                </a:xfrm>
              </p:grpSpPr>
              <p:sp>
                <p:nvSpPr>
                  <p:cNvPr id="2094" name=""/>
                  <p:cNvSpPr/>
                  <p:nvPr/>
                </p:nvSpPr>
                <p:spPr>
                  <a:xfrm>
                    <a:off x="3008160" y="33130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5" name=""/>
                  <p:cNvSpPr/>
                  <p:nvPr/>
                </p:nvSpPr>
                <p:spPr>
                  <a:xfrm>
                    <a:off x="3055680" y="33145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6" name=""/>
                <p:cNvGrpSpPr/>
                <p:nvPr/>
              </p:nvGrpSpPr>
              <p:grpSpPr>
                <a:xfrm>
                  <a:off x="2922480" y="3359160"/>
                  <a:ext cx="239760" cy="188640"/>
                  <a:chOff x="2922480" y="3359160"/>
                  <a:chExt cx="239760" cy="188640"/>
                </a:xfrm>
              </p:grpSpPr>
              <p:sp>
                <p:nvSpPr>
                  <p:cNvPr id="2097" name=""/>
                  <p:cNvSpPr/>
                  <p:nvPr/>
                </p:nvSpPr>
                <p:spPr>
                  <a:xfrm>
                    <a:off x="2922480" y="3359160"/>
                    <a:ext cx="23976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2957400" y="3398760"/>
                    <a:ext cx="169920" cy="74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 flipV="1">
                    <a:off x="2922480" y="3359160"/>
                    <a:ext cx="236520" cy="156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2936880" y="35208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3049560" y="35193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>
                    <a:off x="3125880" y="35193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>
                    <a:off x="3070080" y="3519360"/>
                    <a:ext cx="6192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04" name=""/>
            <p:cNvGrpSpPr/>
            <p:nvPr/>
          </p:nvGrpSpPr>
          <p:grpSpPr>
            <a:xfrm>
              <a:off x="2936880" y="3568680"/>
              <a:ext cx="2103840" cy="235800"/>
              <a:chOff x="2936880" y="3568680"/>
              <a:chExt cx="2103840" cy="235800"/>
            </a:xfrm>
          </p:grpSpPr>
          <p:sp>
            <p:nvSpPr>
              <p:cNvPr id="2105" name=""/>
              <p:cNvSpPr/>
              <p:nvPr/>
            </p:nvSpPr>
            <p:spPr>
              <a:xfrm>
                <a:off x="3197160" y="3588840"/>
                <a:ext cx="1843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dKfz 250/9 Armored Car  GE-2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6" name=""/>
              <p:cNvGrpSpPr/>
              <p:nvPr/>
            </p:nvGrpSpPr>
            <p:grpSpPr>
              <a:xfrm>
                <a:off x="2936880" y="3568680"/>
                <a:ext cx="239760" cy="234720"/>
                <a:chOff x="2936880" y="3568680"/>
                <a:chExt cx="239760" cy="234720"/>
              </a:xfrm>
            </p:grpSpPr>
            <p:grpSp>
              <p:nvGrpSpPr>
                <p:cNvPr id="2107" name=""/>
                <p:cNvGrpSpPr/>
                <p:nvPr/>
              </p:nvGrpSpPr>
              <p:grpSpPr>
                <a:xfrm>
                  <a:off x="3022560" y="3568680"/>
                  <a:ext cx="74520" cy="28080"/>
                  <a:chOff x="3022560" y="3568680"/>
                  <a:chExt cx="74520" cy="28080"/>
                </a:xfrm>
              </p:grpSpPr>
              <p:sp>
                <p:nvSpPr>
                  <p:cNvPr id="2108" name=""/>
                  <p:cNvSpPr/>
                  <p:nvPr/>
                </p:nvSpPr>
                <p:spPr>
                  <a:xfrm>
                    <a:off x="3022560" y="35686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9" name=""/>
                  <p:cNvSpPr/>
                  <p:nvPr/>
                </p:nvSpPr>
                <p:spPr>
                  <a:xfrm>
                    <a:off x="3070080" y="35701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0" name=""/>
                <p:cNvGrpSpPr/>
                <p:nvPr/>
              </p:nvGrpSpPr>
              <p:grpSpPr>
                <a:xfrm>
                  <a:off x="2936880" y="3614760"/>
                  <a:ext cx="239760" cy="188640"/>
                  <a:chOff x="2936880" y="3614760"/>
                  <a:chExt cx="239760" cy="188640"/>
                </a:xfrm>
              </p:grpSpPr>
              <p:sp>
                <p:nvSpPr>
                  <p:cNvPr id="2111" name=""/>
                  <p:cNvSpPr/>
                  <p:nvPr/>
                </p:nvSpPr>
                <p:spPr>
                  <a:xfrm>
                    <a:off x="2936880" y="3614760"/>
                    <a:ext cx="23976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>
                    <a:off x="2971800" y="3654360"/>
                    <a:ext cx="169920" cy="74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3" name=""/>
                  <p:cNvSpPr/>
                  <p:nvPr/>
                </p:nvSpPr>
                <p:spPr>
                  <a:xfrm flipV="1">
                    <a:off x="2936880" y="3614760"/>
                    <a:ext cx="236520" cy="156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2951280" y="37764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>
                    <a:off x="3063960" y="37749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>
                    <a:off x="3140280" y="37749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>
                    <a:off x="3084480" y="3774960"/>
                    <a:ext cx="6192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118" name=""/>
          <p:cNvSpPr/>
          <p:nvPr/>
        </p:nvSpPr>
        <p:spPr>
          <a:xfrm>
            <a:off x="5462640" y="992160"/>
            <a:ext cx="2050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ht Armored Reconnaissance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9" name=""/>
          <p:cNvGrpSpPr/>
          <p:nvPr/>
        </p:nvGrpSpPr>
        <p:grpSpPr>
          <a:xfrm>
            <a:off x="5554800" y="1407960"/>
            <a:ext cx="2903400" cy="2834280"/>
            <a:chOff x="5554800" y="1407960"/>
            <a:chExt cx="2903400" cy="2834280"/>
          </a:xfrm>
        </p:grpSpPr>
        <p:grpSp>
          <p:nvGrpSpPr>
            <p:cNvPr id="2120" name=""/>
            <p:cNvGrpSpPr/>
            <p:nvPr/>
          </p:nvGrpSpPr>
          <p:grpSpPr>
            <a:xfrm>
              <a:off x="5713560" y="2318400"/>
              <a:ext cx="2037960" cy="215640"/>
              <a:chOff x="5713560" y="2318400"/>
              <a:chExt cx="2037960" cy="215640"/>
            </a:xfrm>
          </p:grpSpPr>
          <p:grpSp>
            <p:nvGrpSpPr>
              <p:cNvPr id="2121" name=""/>
              <p:cNvGrpSpPr/>
              <p:nvPr/>
            </p:nvGrpSpPr>
            <p:grpSpPr>
              <a:xfrm>
                <a:off x="5811840" y="2318400"/>
                <a:ext cx="1939680" cy="215640"/>
                <a:chOff x="5811840" y="2318400"/>
                <a:chExt cx="1939680" cy="215640"/>
              </a:xfrm>
            </p:grpSpPr>
            <p:grpSp>
              <p:nvGrpSpPr>
                <p:cNvPr id="2122" name=""/>
                <p:cNvGrpSpPr/>
                <p:nvPr/>
              </p:nvGrpSpPr>
              <p:grpSpPr>
                <a:xfrm>
                  <a:off x="5811840" y="2322360"/>
                  <a:ext cx="231480" cy="191520"/>
                  <a:chOff x="5811840" y="2322360"/>
                  <a:chExt cx="231480" cy="191520"/>
                </a:xfrm>
              </p:grpSpPr>
              <p:grpSp>
                <p:nvGrpSpPr>
                  <p:cNvPr id="2123" name=""/>
                  <p:cNvGrpSpPr/>
                  <p:nvPr/>
                </p:nvGrpSpPr>
                <p:grpSpPr>
                  <a:xfrm>
                    <a:off x="5811840" y="2356920"/>
                    <a:ext cx="231480" cy="156960"/>
                    <a:chOff x="5811840" y="2356920"/>
                    <a:chExt cx="231480" cy="156960"/>
                  </a:xfrm>
                </p:grpSpPr>
                <p:sp>
                  <p:nvSpPr>
                    <p:cNvPr id="2124" name=""/>
                    <p:cNvSpPr/>
                    <p:nvPr/>
                  </p:nvSpPr>
                  <p:spPr>
                    <a:xfrm>
                      <a:off x="5811840" y="2356920"/>
                      <a:ext cx="23148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/>
                    <p:nvPr/>
                  </p:nvSpPr>
                  <p:spPr>
                    <a:xfrm flipV="1">
                      <a:off x="5814000" y="2359080"/>
                      <a:ext cx="225360" cy="153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6" name=""/>
                    <p:cNvSpPr/>
                    <p:nvPr/>
                  </p:nvSpPr>
                  <p:spPr>
                    <a:xfrm>
                      <a:off x="5811840" y="2359080"/>
                      <a:ext cx="230400" cy="149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27" name=""/>
                  <p:cNvGrpSpPr/>
                  <p:nvPr/>
                </p:nvGrpSpPr>
                <p:grpSpPr>
                  <a:xfrm>
                    <a:off x="5889240" y="2322360"/>
                    <a:ext cx="74520" cy="28080"/>
                    <a:chOff x="5889240" y="2322360"/>
                    <a:chExt cx="74520" cy="28080"/>
                  </a:xfrm>
                </p:grpSpPr>
                <p:sp>
                  <p:nvSpPr>
                    <p:cNvPr id="2128" name=""/>
                    <p:cNvSpPr/>
                    <p:nvPr/>
                  </p:nvSpPr>
                  <p:spPr>
                    <a:xfrm>
                      <a:off x="5889240" y="23223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9" name=""/>
                    <p:cNvSpPr/>
                    <p:nvPr/>
                  </p:nvSpPr>
                  <p:spPr>
                    <a:xfrm>
                      <a:off x="5936760" y="23238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30" name=""/>
                <p:cNvSpPr/>
                <p:nvPr/>
              </p:nvSpPr>
              <p:spPr>
                <a:xfrm>
                  <a:off x="6098400" y="2318400"/>
                  <a:ext cx="1653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6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fantry                        GE-4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1" name=""/>
              <p:cNvSpPr/>
              <p:nvPr/>
            </p:nvSpPr>
            <p:spPr>
              <a:xfrm>
                <a:off x="5713560" y="2431440"/>
                <a:ext cx="14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2" name=""/>
            <p:cNvGrpSpPr/>
            <p:nvPr/>
          </p:nvGrpSpPr>
          <p:grpSpPr>
            <a:xfrm>
              <a:off x="5708520" y="1689840"/>
              <a:ext cx="2045880" cy="350640"/>
              <a:chOff x="5708520" y="1689840"/>
              <a:chExt cx="2045880" cy="350640"/>
            </a:xfrm>
          </p:grpSpPr>
          <p:grpSp>
            <p:nvGrpSpPr>
              <p:cNvPr id="2133" name=""/>
              <p:cNvGrpSpPr/>
              <p:nvPr/>
            </p:nvGrpSpPr>
            <p:grpSpPr>
              <a:xfrm>
                <a:off x="5808600" y="1689840"/>
                <a:ext cx="1945800" cy="350640"/>
                <a:chOff x="5808600" y="1689840"/>
                <a:chExt cx="1945800" cy="350640"/>
              </a:xfrm>
            </p:grpSpPr>
            <p:sp>
              <p:nvSpPr>
                <p:cNvPr id="2134" name=""/>
                <p:cNvSpPr/>
                <p:nvPr/>
              </p:nvSpPr>
              <p:spPr>
                <a:xfrm>
                  <a:off x="6075360" y="168984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5" name=""/>
                <p:cNvGrpSpPr/>
                <p:nvPr/>
              </p:nvGrpSpPr>
              <p:grpSpPr>
                <a:xfrm>
                  <a:off x="5808600" y="1750680"/>
                  <a:ext cx="237960" cy="194760"/>
                  <a:chOff x="5808600" y="1750680"/>
                  <a:chExt cx="237960" cy="194760"/>
                </a:xfrm>
              </p:grpSpPr>
              <p:sp>
                <p:nvSpPr>
                  <p:cNvPr id="2136" name=""/>
                  <p:cNvSpPr/>
                  <p:nvPr/>
                </p:nvSpPr>
                <p:spPr>
                  <a:xfrm>
                    <a:off x="5808600" y="1787040"/>
                    <a:ext cx="237960" cy="1584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5913000" y="175068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8" name=""/>
                <p:cNvSpPr/>
                <p:nvPr/>
              </p:nvSpPr>
              <p:spPr>
                <a:xfrm>
                  <a:off x="6086160" y="1824840"/>
                  <a:ext cx="1668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   GE-4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9" name=""/>
              <p:cNvSpPr/>
              <p:nvPr/>
            </p:nvSpPr>
            <p:spPr>
              <a:xfrm>
                <a:off x="5708520" y="1857240"/>
                <a:ext cx="14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0" name=""/>
            <p:cNvGrpSpPr/>
            <p:nvPr/>
          </p:nvGrpSpPr>
          <p:grpSpPr>
            <a:xfrm>
              <a:off x="5796000" y="2030040"/>
              <a:ext cx="239760" cy="234720"/>
              <a:chOff x="5796000" y="2030040"/>
              <a:chExt cx="239760" cy="234720"/>
            </a:xfrm>
          </p:grpSpPr>
          <p:grpSp>
            <p:nvGrpSpPr>
              <p:cNvPr id="2141" name=""/>
              <p:cNvGrpSpPr/>
              <p:nvPr/>
            </p:nvGrpSpPr>
            <p:grpSpPr>
              <a:xfrm>
                <a:off x="5796000" y="2076120"/>
                <a:ext cx="239760" cy="188640"/>
                <a:chOff x="5796000" y="2076120"/>
                <a:chExt cx="239760" cy="188640"/>
              </a:xfrm>
            </p:grpSpPr>
            <p:sp>
              <p:nvSpPr>
                <p:cNvPr id="2142" name=""/>
                <p:cNvSpPr/>
                <p:nvPr/>
              </p:nvSpPr>
              <p:spPr>
                <a:xfrm>
                  <a:off x="5796000" y="2076120"/>
                  <a:ext cx="23976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5830920" y="2115720"/>
                  <a:ext cx="1699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 flipV="1">
                  <a:off x="5796000" y="2076120"/>
                  <a:ext cx="236520" cy="156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5810400" y="2237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5923080" y="22363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5999400" y="22363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5943600" y="2236320"/>
                  <a:ext cx="61920" cy="27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9" name=""/>
              <p:cNvSpPr/>
              <p:nvPr/>
            </p:nvSpPr>
            <p:spPr>
              <a:xfrm>
                <a:off x="5907240" y="20300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0" name=""/>
            <p:cNvSpPr/>
            <p:nvPr/>
          </p:nvSpPr>
          <p:spPr>
            <a:xfrm>
              <a:off x="6050160" y="199764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101640" y="2116800"/>
              <a:ext cx="1636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dKfz 250/10              GE-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854680" y="1927080"/>
              <a:ext cx="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710320" y="1650600"/>
              <a:ext cx="3240" cy="244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889600" y="2509560"/>
              <a:ext cx="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5" name=""/>
            <p:cNvGrpSpPr/>
            <p:nvPr/>
          </p:nvGrpSpPr>
          <p:grpSpPr>
            <a:xfrm>
              <a:off x="5721480" y="3105000"/>
              <a:ext cx="2030040" cy="243360"/>
              <a:chOff x="5721480" y="3105000"/>
              <a:chExt cx="2030040" cy="243360"/>
            </a:xfrm>
          </p:grpSpPr>
          <p:sp>
            <p:nvSpPr>
              <p:cNvPr id="2156" name=""/>
              <p:cNvSpPr/>
              <p:nvPr/>
            </p:nvSpPr>
            <p:spPr>
              <a:xfrm>
                <a:off x="5721480" y="3228480"/>
                <a:ext cx="185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7" name=""/>
              <p:cNvGrpSpPr/>
              <p:nvPr/>
            </p:nvGrpSpPr>
            <p:grpSpPr>
              <a:xfrm>
                <a:off x="5867280" y="3105000"/>
                <a:ext cx="1884240" cy="243360"/>
                <a:chOff x="5867280" y="3105000"/>
                <a:chExt cx="1884240" cy="243360"/>
              </a:xfrm>
            </p:grpSpPr>
            <p:sp>
              <p:nvSpPr>
                <p:cNvPr id="2158" name=""/>
                <p:cNvSpPr/>
                <p:nvPr/>
              </p:nvSpPr>
              <p:spPr>
                <a:xfrm>
                  <a:off x="6151680" y="3132720"/>
                  <a:ext cx="15998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vy Machine Gun  GE-5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9" name=""/>
                <p:cNvGrpSpPr/>
                <p:nvPr/>
              </p:nvGrpSpPr>
              <p:grpSpPr>
                <a:xfrm>
                  <a:off x="5867280" y="3105000"/>
                  <a:ext cx="235800" cy="200520"/>
                  <a:chOff x="5867280" y="3105000"/>
                  <a:chExt cx="235800" cy="200520"/>
                </a:xfrm>
              </p:grpSpPr>
              <p:grpSp>
                <p:nvGrpSpPr>
                  <p:cNvPr id="2160" name=""/>
                  <p:cNvGrpSpPr/>
                  <p:nvPr/>
                </p:nvGrpSpPr>
                <p:grpSpPr>
                  <a:xfrm>
                    <a:off x="5944680" y="3105000"/>
                    <a:ext cx="73800" cy="28080"/>
                    <a:chOff x="5944680" y="3105000"/>
                    <a:chExt cx="73800" cy="28080"/>
                  </a:xfrm>
                </p:grpSpPr>
                <p:sp>
                  <p:nvSpPr>
                    <p:cNvPr id="2161" name=""/>
                    <p:cNvSpPr/>
                    <p:nvPr/>
                  </p:nvSpPr>
                  <p:spPr>
                    <a:xfrm>
                      <a:off x="5944680" y="310500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2" name=""/>
                    <p:cNvSpPr/>
                    <p:nvPr/>
                  </p:nvSpPr>
                  <p:spPr>
                    <a:xfrm>
                      <a:off x="5991840" y="310644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3" name=""/>
                  <p:cNvGrpSpPr/>
                  <p:nvPr/>
                </p:nvGrpSpPr>
                <p:grpSpPr>
                  <a:xfrm>
                    <a:off x="5867280" y="3141000"/>
                    <a:ext cx="235800" cy="164520"/>
                    <a:chOff x="5867280" y="3141000"/>
                    <a:chExt cx="235800" cy="164520"/>
                  </a:xfrm>
                </p:grpSpPr>
                <p:sp>
                  <p:nvSpPr>
                    <p:cNvPr id="2164" name=""/>
                    <p:cNvSpPr/>
                    <p:nvPr/>
                  </p:nvSpPr>
                  <p:spPr>
                    <a:xfrm>
                      <a:off x="5867280" y="3145680"/>
                      <a:ext cx="231480" cy="1566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5" name=""/>
                    <p:cNvSpPr/>
                    <p:nvPr/>
                  </p:nvSpPr>
                  <p:spPr>
                    <a:xfrm>
                      <a:off x="5867280" y="3151800"/>
                      <a:ext cx="50400" cy="14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6" name=""/>
                    <p:cNvSpPr/>
                    <p:nvPr/>
                  </p:nvSpPr>
                  <p:spPr>
                    <a:xfrm flipV="1">
                      <a:off x="5873400" y="3141000"/>
                      <a:ext cx="229680" cy="142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7" name=""/>
                    <p:cNvSpPr/>
                    <p:nvPr/>
                  </p:nvSpPr>
                  <p:spPr>
                    <a:xfrm>
                      <a:off x="5884560" y="3169440"/>
                      <a:ext cx="218520" cy="1360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168" name=""/>
            <p:cNvGrpSpPr/>
            <p:nvPr/>
          </p:nvGrpSpPr>
          <p:grpSpPr>
            <a:xfrm>
              <a:off x="5719680" y="2577240"/>
              <a:ext cx="2038680" cy="215640"/>
              <a:chOff x="5719680" y="2577240"/>
              <a:chExt cx="2038680" cy="215640"/>
            </a:xfrm>
          </p:grpSpPr>
          <p:sp>
            <p:nvSpPr>
              <p:cNvPr id="2169" name=""/>
              <p:cNvSpPr/>
              <p:nvPr/>
            </p:nvSpPr>
            <p:spPr>
              <a:xfrm>
                <a:off x="5719680" y="2695320"/>
                <a:ext cx="18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0" name=""/>
              <p:cNvGrpSpPr/>
              <p:nvPr/>
            </p:nvGrpSpPr>
            <p:grpSpPr>
              <a:xfrm>
                <a:off x="5837040" y="2577240"/>
                <a:ext cx="1921320" cy="215640"/>
                <a:chOff x="5837040" y="2577240"/>
                <a:chExt cx="1921320" cy="215640"/>
              </a:xfrm>
            </p:grpSpPr>
            <p:sp>
              <p:nvSpPr>
                <p:cNvPr id="2171" name=""/>
                <p:cNvSpPr/>
                <p:nvPr/>
              </p:nvSpPr>
              <p:spPr>
                <a:xfrm>
                  <a:off x="6111360" y="2577240"/>
                  <a:ext cx="1647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ght Machine Gun      GE-4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2" name=""/>
                <p:cNvGrpSpPr/>
                <p:nvPr/>
              </p:nvGrpSpPr>
              <p:grpSpPr>
                <a:xfrm>
                  <a:off x="5837040" y="2580840"/>
                  <a:ext cx="236520" cy="191880"/>
                  <a:chOff x="5837040" y="2580840"/>
                  <a:chExt cx="236520" cy="191880"/>
                </a:xfrm>
              </p:grpSpPr>
              <p:grpSp>
                <p:nvGrpSpPr>
                  <p:cNvPr id="2173" name=""/>
                  <p:cNvGrpSpPr/>
                  <p:nvPr/>
                </p:nvGrpSpPr>
                <p:grpSpPr>
                  <a:xfrm>
                    <a:off x="5917680" y="2580840"/>
                    <a:ext cx="74520" cy="28800"/>
                    <a:chOff x="5917680" y="2580840"/>
                    <a:chExt cx="74520" cy="28800"/>
                  </a:xfrm>
                </p:grpSpPr>
                <p:sp>
                  <p:nvSpPr>
                    <p:cNvPr id="2174" name=""/>
                    <p:cNvSpPr/>
                    <p:nvPr/>
                  </p:nvSpPr>
                  <p:spPr>
                    <a:xfrm>
                      <a:off x="5917680" y="258084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5" name=""/>
                    <p:cNvSpPr/>
                    <p:nvPr/>
                  </p:nvSpPr>
                  <p:spPr>
                    <a:xfrm>
                      <a:off x="5965200" y="258264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6" name=""/>
                  <p:cNvGrpSpPr/>
                  <p:nvPr/>
                </p:nvGrpSpPr>
                <p:grpSpPr>
                  <a:xfrm>
                    <a:off x="5837040" y="2607840"/>
                    <a:ext cx="236520" cy="164880"/>
                    <a:chOff x="5837040" y="2607840"/>
                    <a:chExt cx="236520" cy="164880"/>
                  </a:xfrm>
                </p:grpSpPr>
                <p:sp>
                  <p:nvSpPr>
                    <p:cNvPr id="2177" name=""/>
                    <p:cNvSpPr/>
                    <p:nvPr/>
                  </p:nvSpPr>
                  <p:spPr>
                    <a:xfrm>
                      <a:off x="5837040" y="2612520"/>
                      <a:ext cx="231840" cy="156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8" name=""/>
                    <p:cNvSpPr/>
                    <p:nvPr/>
                  </p:nvSpPr>
                  <p:spPr>
                    <a:xfrm>
                      <a:off x="5837040" y="2618640"/>
                      <a:ext cx="50760" cy="146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9" name=""/>
                    <p:cNvSpPr/>
                    <p:nvPr/>
                  </p:nvSpPr>
                  <p:spPr>
                    <a:xfrm flipV="1">
                      <a:off x="5843520" y="2607840"/>
                      <a:ext cx="230040" cy="142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0" name=""/>
                    <p:cNvSpPr/>
                    <p:nvPr/>
                  </p:nvSpPr>
                  <p:spPr>
                    <a:xfrm>
                      <a:off x="5854680" y="2636280"/>
                      <a:ext cx="218880" cy="136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181" name=""/>
            <p:cNvGrpSpPr/>
            <p:nvPr/>
          </p:nvGrpSpPr>
          <p:grpSpPr>
            <a:xfrm>
              <a:off x="5719680" y="3558240"/>
              <a:ext cx="2738520" cy="366120"/>
              <a:chOff x="5719680" y="3558240"/>
              <a:chExt cx="2738520" cy="366120"/>
            </a:xfrm>
          </p:grpSpPr>
          <p:sp>
            <p:nvSpPr>
              <p:cNvPr id="2182" name=""/>
              <p:cNvSpPr/>
              <p:nvPr/>
            </p:nvSpPr>
            <p:spPr>
              <a:xfrm>
                <a:off x="5719680" y="3766680"/>
                <a:ext cx="18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3" name=""/>
              <p:cNvGrpSpPr/>
              <p:nvPr/>
            </p:nvGrpSpPr>
            <p:grpSpPr>
              <a:xfrm>
                <a:off x="5871960" y="3558240"/>
                <a:ext cx="2586240" cy="366120"/>
                <a:chOff x="5871960" y="3558240"/>
                <a:chExt cx="2586240" cy="36612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6151320" y="3708720"/>
                  <a:ext cx="2306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dKfz 250/7 80mm Mortar Halftrack GE-2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6159960" y="3558240"/>
                  <a:ext cx="1127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rganic Fire Sup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6" name=""/>
                <p:cNvGrpSpPr/>
                <p:nvPr/>
              </p:nvGrpSpPr>
              <p:grpSpPr>
                <a:xfrm>
                  <a:off x="5871960" y="3665160"/>
                  <a:ext cx="239760" cy="221040"/>
                  <a:chOff x="5871960" y="3665160"/>
                  <a:chExt cx="239760" cy="221040"/>
                </a:xfrm>
              </p:grpSpPr>
              <p:grpSp>
                <p:nvGrpSpPr>
                  <p:cNvPr id="2187" name=""/>
                  <p:cNvGrpSpPr/>
                  <p:nvPr/>
                </p:nvGrpSpPr>
                <p:grpSpPr>
                  <a:xfrm>
                    <a:off x="5871960" y="3697920"/>
                    <a:ext cx="239760" cy="188280"/>
                    <a:chOff x="5871960" y="3697920"/>
                    <a:chExt cx="239760" cy="188280"/>
                  </a:xfrm>
                </p:grpSpPr>
                <p:sp>
                  <p:nvSpPr>
                    <p:cNvPr id="2188" name=""/>
                    <p:cNvSpPr/>
                    <p:nvPr/>
                  </p:nvSpPr>
                  <p:spPr>
                    <a:xfrm>
                      <a:off x="5871960" y="3697920"/>
                      <a:ext cx="239760" cy="157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9" name=""/>
                    <p:cNvSpPr/>
                    <p:nvPr/>
                  </p:nvSpPr>
                  <p:spPr>
                    <a:xfrm>
                      <a:off x="5886000" y="3858840"/>
                      <a:ext cx="27000" cy="27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0" name=""/>
                    <p:cNvSpPr/>
                    <p:nvPr/>
                  </p:nvSpPr>
                  <p:spPr>
                    <a:xfrm>
                      <a:off x="5999400" y="385776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1" name=""/>
                    <p:cNvSpPr/>
                    <p:nvPr/>
                  </p:nvSpPr>
                  <p:spPr>
                    <a:xfrm>
                      <a:off x="6075720" y="385776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2" name=""/>
                    <p:cNvSpPr/>
                    <p:nvPr/>
                  </p:nvSpPr>
                  <p:spPr>
                    <a:xfrm>
                      <a:off x="6019560" y="3857760"/>
                      <a:ext cx="61920" cy="27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3" name=""/>
                    <p:cNvSpPr/>
                    <p:nvPr/>
                  </p:nvSpPr>
                  <p:spPr>
                    <a:xfrm>
                      <a:off x="5905080" y="3732480"/>
                      <a:ext cx="165600" cy="84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3320" bIns="13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4" name=""/>
                    <p:cNvSpPr/>
                    <p:nvPr/>
                  </p:nvSpPr>
                  <p:spPr>
                    <a:xfrm>
                      <a:off x="5992200" y="3749040"/>
                      <a:ext cx="0" cy="4752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5" name=""/>
                    <p:cNvSpPr/>
                    <p:nvPr/>
                  </p:nvSpPr>
                  <p:spPr>
                    <a:xfrm>
                      <a:off x="5959080" y="3799440"/>
                      <a:ext cx="6768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6" name=""/>
                  <p:cNvGrpSpPr/>
                  <p:nvPr/>
                </p:nvGrpSpPr>
                <p:grpSpPr>
                  <a:xfrm>
                    <a:off x="5954400" y="3665160"/>
                    <a:ext cx="74520" cy="27720"/>
                    <a:chOff x="5954400" y="3665160"/>
                    <a:chExt cx="74520" cy="27720"/>
                  </a:xfrm>
                </p:grpSpPr>
                <p:sp>
                  <p:nvSpPr>
                    <p:cNvPr id="2197" name=""/>
                    <p:cNvSpPr/>
                    <p:nvPr/>
                  </p:nvSpPr>
                  <p:spPr>
                    <a:xfrm>
                      <a:off x="5954400" y="366516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8" name=""/>
                    <p:cNvSpPr/>
                    <p:nvPr/>
                  </p:nvSpPr>
                  <p:spPr>
                    <a:xfrm>
                      <a:off x="6001920" y="366660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199" name=""/>
            <p:cNvGrpSpPr/>
            <p:nvPr/>
          </p:nvGrpSpPr>
          <p:grpSpPr>
            <a:xfrm>
              <a:off x="5830920" y="2815920"/>
              <a:ext cx="239760" cy="234720"/>
              <a:chOff x="5830920" y="2815920"/>
              <a:chExt cx="239760" cy="234720"/>
            </a:xfrm>
          </p:grpSpPr>
          <p:grpSp>
            <p:nvGrpSpPr>
              <p:cNvPr id="2200" name=""/>
              <p:cNvGrpSpPr/>
              <p:nvPr/>
            </p:nvGrpSpPr>
            <p:grpSpPr>
              <a:xfrm>
                <a:off x="5830920" y="2862000"/>
                <a:ext cx="239760" cy="188640"/>
                <a:chOff x="5830920" y="2862000"/>
                <a:chExt cx="239760" cy="188640"/>
              </a:xfrm>
            </p:grpSpPr>
            <p:sp>
              <p:nvSpPr>
                <p:cNvPr id="2201" name=""/>
                <p:cNvSpPr/>
                <p:nvPr/>
              </p:nvSpPr>
              <p:spPr>
                <a:xfrm>
                  <a:off x="5830920" y="2862000"/>
                  <a:ext cx="23976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5865840" y="2901600"/>
                  <a:ext cx="1699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 flipV="1">
                  <a:off x="5830920" y="2862000"/>
                  <a:ext cx="236520" cy="156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845320" y="30236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958000" y="30222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6034320" y="30222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5978520" y="3022200"/>
                  <a:ext cx="61920" cy="27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8" name=""/>
              <p:cNvGrpSpPr/>
              <p:nvPr/>
            </p:nvGrpSpPr>
            <p:grpSpPr>
              <a:xfrm>
                <a:off x="5918040" y="2815920"/>
                <a:ext cx="74520" cy="28080"/>
                <a:chOff x="5918040" y="2815920"/>
                <a:chExt cx="74520" cy="28080"/>
              </a:xfrm>
            </p:grpSpPr>
            <p:sp>
              <p:nvSpPr>
                <p:cNvPr id="2209" name=""/>
                <p:cNvSpPr/>
                <p:nvPr/>
              </p:nvSpPr>
              <p:spPr>
                <a:xfrm>
                  <a:off x="5918040" y="28159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965560" y="28173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11" name=""/>
            <p:cNvSpPr/>
            <p:nvPr/>
          </p:nvSpPr>
          <p:spPr>
            <a:xfrm>
              <a:off x="6126480" y="27313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118560" y="2859840"/>
              <a:ext cx="1608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dKfz 250/1               GE-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891040" y="2781000"/>
              <a:ext cx="0" cy="11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4" name=""/>
            <p:cNvGrpSpPr/>
            <p:nvPr/>
          </p:nvGrpSpPr>
          <p:grpSpPr>
            <a:xfrm>
              <a:off x="5888160" y="3264480"/>
              <a:ext cx="1882440" cy="344160"/>
              <a:chOff x="5888160" y="3264480"/>
              <a:chExt cx="1882440" cy="344160"/>
            </a:xfrm>
          </p:grpSpPr>
          <p:grpSp>
            <p:nvGrpSpPr>
              <p:cNvPr id="2215" name=""/>
              <p:cNvGrpSpPr/>
              <p:nvPr/>
            </p:nvGrpSpPr>
            <p:grpSpPr>
              <a:xfrm>
                <a:off x="5888160" y="3349440"/>
                <a:ext cx="241560" cy="234720"/>
                <a:chOff x="5888160" y="3349440"/>
                <a:chExt cx="241560" cy="234720"/>
              </a:xfrm>
            </p:grpSpPr>
            <p:grpSp>
              <p:nvGrpSpPr>
                <p:cNvPr id="2216" name=""/>
                <p:cNvGrpSpPr/>
                <p:nvPr/>
              </p:nvGrpSpPr>
              <p:grpSpPr>
                <a:xfrm>
                  <a:off x="5888160" y="3394800"/>
                  <a:ext cx="241560" cy="189360"/>
                  <a:chOff x="5888160" y="3394800"/>
                  <a:chExt cx="241560" cy="189360"/>
                </a:xfrm>
              </p:grpSpPr>
              <p:sp>
                <p:nvSpPr>
                  <p:cNvPr id="2217" name=""/>
                  <p:cNvSpPr/>
                  <p:nvPr/>
                </p:nvSpPr>
                <p:spPr>
                  <a:xfrm>
                    <a:off x="5889240" y="3395160"/>
                    <a:ext cx="240480" cy="158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5924880" y="3434400"/>
                    <a:ext cx="169920" cy="75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 flipV="1">
                    <a:off x="5889240" y="3394800"/>
                    <a:ext cx="238320" cy="156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5888160" y="3395160"/>
                    <a:ext cx="241560" cy="154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5903280" y="355680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6017400" y="355572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6093720" y="3555720"/>
                    <a:ext cx="27360" cy="27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6037560" y="3555720"/>
                    <a:ext cx="61920" cy="273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5" name=""/>
                <p:cNvGrpSpPr/>
                <p:nvPr/>
              </p:nvGrpSpPr>
              <p:grpSpPr>
                <a:xfrm>
                  <a:off x="5961240" y="3349440"/>
                  <a:ext cx="74520" cy="28080"/>
                  <a:chOff x="5961240" y="3349440"/>
                  <a:chExt cx="74520" cy="28080"/>
                </a:xfrm>
              </p:grpSpPr>
              <p:sp>
                <p:nvSpPr>
                  <p:cNvPr id="2226" name=""/>
                  <p:cNvSpPr/>
                  <p:nvPr/>
                </p:nvSpPr>
                <p:spPr>
                  <a:xfrm>
                    <a:off x="5961240" y="33494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6008760" y="33508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28" name=""/>
              <p:cNvSpPr/>
              <p:nvPr/>
            </p:nvSpPr>
            <p:spPr>
              <a:xfrm>
                <a:off x="6169680" y="326448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161760" y="3393000"/>
                <a:ext cx="1608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dKfz 251/1               GE-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934240" y="3314520"/>
                <a:ext cx="0" cy="11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1" name=""/>
            <p:cNvSpPr/>
            <p:nvPr/>
          </p:nvSpPr>
          <p:spPr>
            <a:xfrm>
              <a:off x="5710320" y="4092120"/>
              <a:ext cx="18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2" name=""/>
            <p:cNvGrpSpPr/>
            <p:nvPr/>
          </p:nvGrpSpPr>
          <p:grpSpPr>
            <a:xfrm>
              <a:off x="5877000" y="3894840"/>
              <a:ext cx="2563560" cy="347400"/>
              <a:chOff x="5877000" y="3894840"/>
              <a:chExt cx="2563560" cy="347400"/>
            </a:xfrm>
          </p:grpSpPr>
          <p:grpSp>
            <p:nvGrpSpPr>
              <p:cNvPr id="2233" name=""/>
              <p:cNvGrpSpPr/>
              <p:nvPr/>
            </p:nvGrpSpPr>
            <p:grpSpPr>
              <a:xfrm>
                <a:off x="5877000" y="3966840"/>
                <a:ext cx="239760" cy="231840"/>
                <a:chOff x="5877000" y="3966840"/>
                <a:chExt cx="239760" cy="231840"/>
              </a:xfrm>
            </p:grpSpPr>
            <p:grpSp>
              <p:nvGrpSpPr>
                <p:cNvPr id="2234" name=""/>
                <p:cNvGrpSpPr/>
                <p:nvPr/>
              </p:nvGrpSpPr>
              <p:grpSpPr>
                <a:xfrm>
                  <a:off x="5877000" y="4005000"/>
                  <a:ext cx="239760" cy="193680"/>
                  <a:chOff x="5877000" y="4005000"/>
                  <a:chExt cx="239760" cy="193680"/>
                </a:xfrm>
              </p:grpSpPr>
              <p:sp>
                <p:nvSpPr>
                  <p:cNvPr id="2235" name=""/>
                  <p:cNvSpPr/>
                  <p:nvPr/>
                </p:nvSpPr>
                <p:spPr>
                  <a:xfrm>
                    <a:off x="5877000" y="4005000"/>
                    <a:ext cx="23976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5916600" y="4046400"/>
                    <a:ext cx="160200" cy="74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 flipV="1">
                    <a:off x="5878440" y="4006440"/>
                    <a:ext cx="238320" cy="154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5983200" y="4070160"/>
                    <a:ext cx="2700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5891040" y="41716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6004080" y="41702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6080040" y="4170240"/>
                    <a:ext cx="288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6024600" y="4170240"/>
                    <a:ext cx="6192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3" name=""/>
                <p:cNvGrpSpPr/>
                <p:nvPr/>
              </p:nvGrpSpPr>
              <p:grpSpPr>
                <a:xfrm>
                  <a:off x="5952960" y="3966840"/>
                  <a:ext cx="83880" cy="38160"/>
                  <a:chOff x="5952960" y="3966840"/>
                  <a:chExt cx="83880" cy="38160"/>
                </a:xfrm>
              </p:grpSpPr>
              <p:sp>
                <p:nvSpPr>
                  <p:cNvPr id="2244" name=""/>
                  <p:cNvSpPr/>
                  <p:nvPr/>
                </p:nvSpPr>
                <p:spPr>
                  <a:xfrm>
                    <a:off x="5952960" y="3966840"/>
                    <a:ext cx="363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6000480" y="3968640"/>
                    <a:ext cx="36360" cy="36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46" name=""/>
              <p:cNvSpPr/>
              <p:nvPr/>
            </p:nvSpPr>
            <p:spPr>
              <a:xfrm>
                <a:off x="6134040" y="4026600"/>
                <a:ext cx="2306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dKfz 250/8 75mm Halftrack GE-2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142680" y="3894840"/>
                <a:ext cx="1127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"/>
            <p:cNvGrpSpPr/>
            <p:nvPr/>
          </p:nvGrpSpPr>
          <p:grpSpPr>
            <a:xfrm>
              <a:off x="5554800" y="1407960"/>
              <a:ext cx="291960" cy="252360"/>
              <a:chOff x="5554800" y="1407960"/>
              <a:chExt cx="291960" cy="252360"/>
            </a:xfrm>
          </p:grpSpPr>
          <p:sp>
            <p:nvSpPr>
              <p:cNvPr id="2249" name=""/>
              <p:cNvSpPr/>
              <p:nvPr/>
            </p:nvSpPr>
            <p:spPr>
              <a:xfrm>
                <a:off x="5700600" y="1407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0" name=""/>
              <p:cNvGrpSpPr/>
              <p:nvPr/>
            </p:nvGrpSpPr>
            <p:grpSpPr>
              <a:xfrm>
                <a:off x="5554800" y="1469520"/>
                <a:ext cx="291960" cy="190800"/>
                <a:chOff x="5554800" y="1469520"/>
                <a:chExt cx="291960" cy="190800"/>
              </a:xfrm>
            </p:grpSpPr>
            <p:grpSp>
              <p:nvGrpSpPr>
                <p:cNvPr id="2251" name=""/>
                <p:cNvGrpSpPr/>
                <p:nvPr/>
              </p:nvGrpSpPr>
              <p:grpSpPr>
                <a:xfrm>
                  <a:off x="5554800" y="1469880"/>
                  <a:ext cx="291960" cy="190440"/>
                  <a:chOff x="5554800" y="1469880"/>
                  <a:chExt cx="291960" cy="190440"/>
                </a:xfrm>
              </p:grpSpPr>
              <p:sp>
                <p:nvSpPr>
                  <p:cNvPr id="2252" name=""/>
                  <p:cNvSpPr/>
                  <p:nvPr/>
                </p:nvSpPr>
                <p:spPr>
                  <a:xfrm>
                    <a:off x="5554800" y="1469880"/>
                    <a:ext cx="291960" cy="190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>
                    <a:off x="5608440" y="1517400"/>
                    <a:ext cx="184320" cy="9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4" name=""/>
                <p:cNvSpPr/>
                <p:nvPr/>
              </p:nvSpPr>
              <p:spPr>
                <a:xfrm flipV="1">
                  <a:off x="5554800" y="1469520"/>
                  <a:ext cx="287640" cy="190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2072880" y="81000"/>
            <a:ext cx="311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FS-01-&gt;FS-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198360" y="199800"/>
            <a:ext cx="20512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Fire Support Element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vy Mortar Plato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7" name=""/>
          <p:cNvGrpSpPr/>
          <p:nvPr/>
        </p:nvGrpSpPr>
        <p:grpSpPr>
          <a:xfrm>
            <a:off x="293760" y="641520"/>
            <a:ext cx="2155680" cy="684360"/>
            <a:chOff x="293760" y="641520"/>
            <a:chExt cx="2155680" cy="684360"/>
          </a:xfrm>
        </p:grpSpPr>
        <p:grpSp>
          <p:nvGrpSpPr>
            <p:cNvPr id="2258" name=""/>
            <p:cNvGrpSpPr/>
            <p:nvPr/>
          </p:nvGrpSpPr>
          <p:grpSpPr>
            <a:xfrm>
              <a:off x="293760" y="641520"/>
              <a:ext cx="291600" cy="244080"/>
              <a:chOff x="293760" y="641520"/>
              <a:chExt cx="291600" cy="244080"/>
            </a:xfrm>
          </p:grpSpPr>
          <p:grpSp>
            <p:nvGrpSpPr>
              <p:cNvPr id="2259" name=""/>
              <p:cNvGrpSpPr/>
              <p:nvPr/>
            </p:nvGrpSpPr>
            <p:grpSpPr>
              <a:xfrm>
                <a:off x="365040" y="641520"/>
                <a:ext cx="131760" cy="27000"/>
                <a:chOff x="365040" y="641520"/>
                <a:chExt cx="131760" cy="27000"/>
              </a:xfrm>
            </p:grpSpPr>
            <p:sp>
              <p:nvSpPr>
                <p:cNvPr id="2260" name=""/>
                <p:cNvSpPr/>
                <p:nvPr/>
              </p:nvSpPr>
              <p:spPr>
                <a:xfrm>
                  <a:off x="365040" y="6415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415800" y="6415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469800" y="6415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3" name=""/>
              <p:cNvGrpSpPr/>
              <p:nvPr/>
            </p:nvGrpSpPr>
            <p:grpSpPr>
              <a:xfrm>
                <a:off x="293760" y="695520"/>
                <a:ext cx="291600" cy="190080"/>
                <a:chOff x="293760" y="695520"/>
                <a:chExt cx="291600" cy="190080"/>
              </a:xfrm>
            </p:grpSpPr>
            <p:sp>
              <p:nvSpPr>
                <p:cNvPr id="2264" name=""/>
                <p:cNvSpPr/>
                <p:nvPr/>
              </p:nvSpPr>
              <p:spPr>
                <a:xfrm>
                  <a:off x="293760" y="695520"/>
                  <a:ext cx="291600" cy="1900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V="1">
                  <a:off x="396000" y="835560"/>
                  <a:ext cx="77040" cy="1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434880" y="733680"/>
                  <a:ext cx="0" cy="1018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7" name=""/>
            <p:cNvGrpSpPr/>
            <p:nvPr/>
          </p:nvGrpSpPr>
          <p:grpSpPr>
            <a:xfrm>
              <a:off x="673200" y="1078200"/>
              <a:ext cx="239760" cy="196200"/>
              <a:chOff x="673200" y="1078200"/>
              <a:chExt cx="239760" cy="196200"/>
            </a:xfrm>
          </p:grpSpPr>
          <p:grpSp>
            <p:nvGrpSpPr>
              <p:cNvPr id="2268" name=""/>
              <p:cNvGrpSpPr/>
              <p:nvPr/>
            </p:nvGrpSpPr>
            <p:grpSpPr>
              <a:xfrm>
                <a:off x="673200" y="1117440"/>
                <a:ext cx="239760" cy="156960"/>
                <a:chOff x="673200" y="1117440"/>
                <a:chExt cx="239760" cy="156960"/>
              </a:xfrm>
            </p:grpSpPr>
            <p:sp>
              <p:nvSpPr>
                <p:cNvPr id="2269" name=""/>
                <p:cNvSpPr/>
                <p:nvPr/>
              </p:nvSpPr>
              <p:spPr>
                <a:xfrm>
                  <a:off x="673200" y="1117440"/>
                  <a:ext cx="239760" cy="15696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 flipV="1">
                  <a:off x="757440" y="1232640"/>
                  <a:ext cx="6336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789120" y="1148760"/>
                  <a:ext cx="0" cy="838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2" name=""/>
              <p:cNvGrpSpPr/>
              <p:nvPr/>
            </p:nvGrpSpPr>
            <p:grpSpPr>
              <a:xfrm>
                <a:off x="757440" y="1078200"/>
                <a:ext cx="74520" cy="27720"/>
                <a:chOff x="757440" y="1078200"/>
                <a:chExt cx="74520" cy="27720"/>
              </a:xfrm>
            </p:grpSpPr>
            <p:sp>
              <p:nvSpPr>
                <p:cNvPr id="2273" name=""/>
                <p:cNvSpPr/>
                <p:nvPr/>
              </p:nvSpPr>
              <p:spPr>
                <a:xfrm>
                  <a:off x="757440" y="1078200"/>
                  <a:ext cx="2844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804960" y="1079640"/>
                  <a:ext cx="2700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5" name=""/>
            <p:cNvSpPr/>
            <p:nvPr/>
          </p:nvSpPr>
          <p:spPr>
            <a:xfrm>
              <a:off x="655560" y="831960"/>
              <a:ext cx="173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f-Board Organic Fire Suppor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19040" y="870120"/>
              <a:ext cx="0" cy="31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19040" y="1185840"/>
              <a:ext cx="2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925560" y="107964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120mm Mort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9" name=""/>
          <p:cNvSpPr/>
          <p:nvPr/>
        </p:nvSpPr>
        <p:spPr>
          <a:xfrm>
            <a:off x="184320" y="1358280"/>
            <a:ext cx="205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Heavy Mortar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0" name=""/>
          <p:cNvGrpSpPr/>
          <p:nvPr/>
        </p:nvGrpSpPr>
        <p:grpSpPr>
          <a:xfrm>
            <a:off x="303120" y="1582560"/>
            <a:ext cx="2155680" cy="675000"/>
            <a:chOff x="303120" y="1582560"/>
            <a:chExt cx="2155680" cy="675000"/>
          </a:xfrm>
        </p:grpSpPr>
        <p:grpSp>
          <p:nvGrpSpPr>
            <p:cNvPr id="2281" name=""/>
            <p:cNvGrpSpPr/>
            <p:nvPr/>
          </p:nvGrpSpPr>
          <p:grpSpPr>
            <a:xfrm>
              <a:off x="303120" y="1626840"/>
              <a:ext cx="291600" cy="190440"/>
              <a:chOff x="303120" y="1626840"/>
              <a:chExt cx="291600" cy="190440"/>
            </a:xfrm>
          </p:grpSpPr>
          <p:sp>
            <p:nvSpPr>
              <p:cNvPr id="2282" name=""/>
              <p:cNvSpPr/>
              <p:nvPr/>
            </p:nvSpPr>
            <p:spPr>
              <a:xfrm>
                <a:off x="303120" y="1626840"/>
                <a:ext cx="291600" cy="1904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405360" y="1767240"/>
                <a:ext cx="7704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44240" y="1665000"/>
                <a:ext cx="0" cy="101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5" name=""/>
            <p:cNvGrpSpPr/>
            <p:nvPr/>
          </p:nvGrpSpPr>
          <p:grpSpPr>
            <a:xfrm>
              <a:off x="682560" y="2009520"/>
              <a:ext cx="239760" cy="196920"/>
              <a:chOff x="682560" y="2009520"/>
              <a:chExt cx="239760" cy="196920"/>
            </a:xfrm>
          </p:grpSpPr>
          <p:grpSp>
            <p:nvGrpSpPr>
              <p:cNvPr id="2286" name=""/>
              <p:cNvGrpSpPr/>
              <p:nvPr/>
            </p:nvGrpSpPr>
            <p:grpSpPr>
              <a:xfrm>
                <a:off x="682560" y="2049120"/>
                <a:ext cx="239760" cy="157320"/>
                <a:chOff x="682560" y="2049120"/>
                <a:chExt cx="239760" cy="157320"/>
              </a:xfrm>
            </p:grpSpPr>
            <p:sp>
              <p:nvSpPr>
                <p:cNvPr id="2287" name=""/>
                <p:cNvSpPr/>
                <p:nvPr/>
              </p:nvSpPr>
              <p:spPr>
                <a:xfrm>
                  <a:off x="682560" y="2049120"/>
                  <a:ext cx="239760" cy="15732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flipV="1">
                  <a:off x="766800" y="2165040"/>
                  <a:ext cx="63360" cy="1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798480" y="2080800"/>
                  <a:ext cx="0" cy="84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0" name=""/>
              <p:cNvGrpSpPr/>
              <p:nvPr/>
            </p:nvGrpSpPr>
            <p:grpSpPr>
              <a:xfrm>
                <a:off x="766800" y="2009520"/>
                <a:ext cx="74520" cy="28080"/>
                <a:chOff x="766800" y="2009520"/>
                <a:chExt cx="74520" cy="28080"/>
              </a:xfrm>
            </p:grpSpPr>
            <p:sp>
              <p:nvSpPr>
                <p:cNvPr id="2291" name=""/>
                <p:cNvSpPr/>
                <p:nvPr/>
              </p:nvSpPr>
              <p:spPr>
                <a:xfrm>
                  <a:off x="766800" y="20095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814320" y="20109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93" name=""/>
            <p:cNvSpPr/>
            <p:nvPr/>
          </p:nvSpPr>
          <p:spPr>
            <a:xfrm>
              <a:off x="664920" y="1763640"/>
              <a:ext cx="173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f-Board Organic Fire Suppor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28400" y="1801440"/>
              <a:ext cx="0" cy="31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28400" y="2117520"/>
              <a:ext cx="2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934920" y="201132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120mm Mort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7" name=""/>
            <p:cNvGrpSpPr/>
            <p:nvPr/>
          </p:nvGrpSpPr>
          <p:grpSpPr>
            <a:xfrm>
              <a:off x="401400" y="1582560"/>
              <a:ext cx="74520" cy="28080"/>
              <a:chOff x="401400" y="1582560"/>
              <a:chExt cx="74520" cy="28080"/>
            </a:xfrm>
          </p:grpSpPr>
          <p:sp>
            <p:nvSpPr>
              <p:cNvPr id="2298" name=""/>
              <p:cNvSpPr/>
              <p:nvPr/>
            </p:nvSpPr>
            <p:spPr>
              <a:xfrm>
                <a:off x="401400" y="15825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448920" y="15840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0" name=""/>
          <p:cNvSpPr/>
          <p:nvPr/>
        </p:nvSpPr>
        <p:spPr>
          <a:xfrm>
            <a:off x="184320" y="2239920"/>
            <a:ext cx="2050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Fire Support Element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xed Artillery Battalion (S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1" name=""/>
          <p:cNvGrpSpPr/>
          <p:nvPr/>
        </p:nvGrpSpPr>
        <p:grpSpPr>
          <a:xfrm>
            <a:off x="184320" y="2620800"/>
            <a:ext cx="2702520" cy="1752120"/>
            <a:chOff x="184320" y="2620800"/>
            <a:chExt cx="2702520" cy="1752120"/>
          </a:xfrm>
        </p:grpSpPr>
        <p:grpSp>
          <p:nvGrpSpPr>
            <p:cNvPr id="2302" name=""/>
            <p:cNvGrpSpPr/>
            <p:nvPr/>
          </p:nvGrpSpPr>
          <p:grpSpPr>
            <a:xfrm>
              <a:off x="561960" y="2768400"/>
              <a:ext cx="2324880" cy="339480"/>
              <a:chOff x="561960" y="2768400"/>
              <a:chExt cx="2324880" cy="339480"/>
            </a:xfrm>
          </p:grpSpPr>
          <p:sp>
            <p:nvSpPr>
              <p:cNvPr id="2303" name=""/>
              <p:cNvSpPr/>
              <p:nvPr/>
            </p:nvSpPr>
            <p:spPr>
              <a:xfrm>
                <a:off x="815400" y="2892240"/>
                <a:ext cx="20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PzBeobWg III (FO)   GE-20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4" name=""/>
              <p:cNvGrpSpPr/>
              <p:nvPr/>
            </p:nvGrpSpPr>
            <p:grpSpPr>
              <a:xfrm>
                <a:off x="561960" y="2865240"/>
                <a:ext cx="231480" cy="201600"/>
                <a:chOff x="561960" y="2865240"/>
                <a:chExt cx="231480" cy="201600"/>
              </a:xfrm>
            </p:grpSpPr>
            <p:grpSp>
              <p:nvGrpSpPr>
                <p:cNvPr id="2305" name=""/>
                <p:cNvGrpSpPr/>
                <p:nvPr/>
              </p:nvGrpSpPr>
              <p:grpSpPr>
                <a:xfrm>
                  <a:off x="561960" y="2909880"/>
                  <a:ext cx="231480" cy="156960"/>
                  <a:chOff x="561960" y="2909880"/>
                  <a:chExt cx="231480" cy="156960"/>
                </a:xfrm>
              </p:grpSpPr>
              <p:sp>
                <p:nvSpPr>
                  <p:cNvPr id="2306" name=""/>
                  <p:cNvSpPr/>
                  <p:nvPr/>
                </p:nvSpPr>
                <p:spPr>
                  <a:xfrm>
                    <a:off x="561960" y="2909880"/>
                    <a:ext cx="23148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573120" y="2936520"/>
                    <a:ext cx="196560" cy="11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644400" y="2960280"/>
                    <a:ext cx="57240" cy="55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9" name=""/>
                <p:cNvSpPr/>
                <p:nvPr/>
              </p:nvSpPr>
              <p:spPr>
                <a:xfrm>
                  <a:off x="658440" y="286524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0" name=""/>
              <p:cNvSpPr/>
              <p:nvPr/>
            </p:nvSpPr>
            <p:spPr>
              <a:xfrm>
                <a:off x="791640" y="2768400"/>
                <a:ext cx="1523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1" name=""/>
            <p:cNvSpPr/>
            <p:nvPr/>
          </p:nvSpPr>
          <p:spPr>
            <a:xfrm>
              <a:off x="803160" y="3066840"/>
              <a:ext cx="159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f-Board Direct Fire Suppor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42760" y="387468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3" name=""/>
            <p:cNvGrpSpPr/>
            <p:nvPr/>
          </p:nvGrpSpPr>
          <p:grpSpPr>
            <a:xfrm>
              <a:off x="557280" y="3182760"/>
              <a:ext cx="1911960" cy="364680"/>
              <a:chOff x="557280" y="3182760"/>
              <a:chExt cx="1911960" cy="364680"/>
            </a:xfrm>
          </p:grpSpPr>
          <p:sp>
            <p:nvSpPr>
              <p:cNvPr id="2314" name=""/>
              <p:cNvSpPr/>
              <p:nvPr/>
            </p:nvSpPr>
            <p:spPr>
              <a:xfrm>
                <a:off x="853560" y="3182760"/>
                <a:ext cx="161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ight Artillery Battery (SP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5" name=""/>
              <p:cNvGrpSpPr/>
              <p:nvPr/>
            </p:nvGrpSpPr>
            <p:grpSpPr>
              <a:xfrm>
                <a:off x="557280" y="3293640"/>
                <a:ext cx="1820160" cy="253800"/>
                <a:chOff x="557280" y="3293640"/>
                <a:chExt cx="1820160" cy="253800"/>
              </a:xfrm>
            </p:grpSpPr>
            <p:grpSp>
              <p:nvGrpSpPr>
                <p:cNvPr id="2316" name=""/>
                <p:cNvGrpSpPr/>
                <p:nvPr/>
              </p:nvGrpSpPr>
              <p:grpSpPr>
                <a:xfrm>
                  <a:off x="557280" y="3293640"/>
                  <a:ext cx="291240" cy="234720"/>
                  <a:chOff x="557280" y="3293640"/>
                  <a:chExt cx="291240" cy="234720"/>
                </a:xfrm>
              </p:grpSpPr>
              <p:grpSp>
                <p:nvGrpSpPr>
                  <p:cNvPr id="2317" name=""/>
                  <p:cNvGrpSpPr/>
                  <p:nvPr/>
                </p:nvGrpSpPr>
                <p:grpSpPr>
                  <a:xfrm>
                    <a:off x="664920" y="3293640"/>
                    <a:ext cx="73800" cy="28800"/>
                    <a:chOff x="664920" y="3293640"/>
                    <a:chExt cx="73800" cy="28800"/>
                  </a:xfrm>
                </p:grpSpPr>
                <p:sp>
                  <p:nvSpPr>
                    <p:cNvPr id="2318" name=""/>
                    <p:cNvSpPr/>
                    <p:nvPr/>
                  </p:nvSpPr>
                  <p:spPr>
                    <a:xfrm>
                      <a:off x="664920" y="329364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9" name=""/>
                    <p:cNvSpPr/>
                    <p:nvPr/>
                  </p:nvSpPr>
                  <p:spPr>
                    <a:xfrm>
                      <a:off x="712080" y="329544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20" name=""/>
                  <p:cNvGrpSpPr/>
                  <p:nvPr/>
                </p:nvGrpSpPr>
                <p:grpSpPr>
                  <a:xfrm>
                    <a:off x="557280" y="3338280"/>
                    <a:ext cx="291240" cy="190080"/>
                    <a:chOff x="557280" y="3338280"/>
                    <a:chExt cx="291240" cy="190080"/>
                  </a:xfrm>
                </p:grpSpPr>
                <p:sp>
                  <p:nvSpPr>
                    <p:cNvPr id="2321" name=""/>
                    <p:cNvSpPr/>
                    <p:nvPr/>
                  </p:nvSpPr>
                  <p:spPr>
                    <a:xfrm>
                      <a:off x="557280" y="3338280"/>
                      <a:ext cx="291240" cy="190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2" name=""/>
                    <p:cNvSpPr/>
                    <p:nvPr/>
                  </p:nvSpPr>
                  <p:spPr>
                    <a:xfrm>
                      <a:off x="607320" y="3386520"/>
                      <a:ext cx="187200" cy="90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3" name=""/>
                    <p:cNvSpPr/>
                    <p:nvPr/>
                  </p:nvSpPr>
                  <p:spPr>
                    <a:xfrm>
                      <a:off x="682560" y="341136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24" name=""/>
                <p:cNvSpPr/>
                <p:nvPr/>
              </p:nvSpPr>
              <p:spPr>
                <a:xfrm>
                  <a:off x="853560" y="3331800"/>
                  <a:ext cx="1523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Wespe 105mm SP How.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25" name=""/>
            <p:cNvGrpSpPr/>
            <p:nvPr/>
          </p:nvGrpSpPr>
          <p:grpSpPr>
            <a:xfrm>
              <a:off x="557280" y="3590640"/>
              <a:ext cx="1910520" cy="354960"/>
              <a:chOff x="557280" y="3590640"/>
              <a:chExt cx="1910520" cy="354960"/>
            </a:xfrm>
          </p:grpSpPr>
          <p:grpSp>
            <p:nvGrpSpPr>
              <p:cNvPr id="2326" name=""/>
              <p:cNvGrpSpPr/>
              <p:nvPr/>
            </p:nvGrpSpPr>
            <p:grpSpPr>
              <a:xfrm>
                <a:off x="557280" y="3692160"/>
                <a:ext cx="1820160" cy="253440"/>
                <a:chOff x="557280" y="3692160"/>
                <a:chExt cx="1820160" cy="253440"/>
              </a:xfrm>
            </p:grpSpPr>
            <p:grpSp>
              <p:nvGrpSpPr>
                <p:cNvPr id="2327" name=""/>
                <p:cNvGrpSpPr/>
                <p:nvPr/>
              </p:nvGrpSpPr>
              <p:grpSpPr>
                <a:xfrm>
                  <a:off x="557280" y="3692160"/>
                  <a:ext cx="291240" cy="234000"/>
                  <a:chOff x="557280" y="3692160"/>
                  <a:chExt cx="291240" cy="234000"/>
                </a:xfrm>
              </p:grpSpPr>
              <p:grpSp>
                <p:nvGrpSpPr>
                  <p:cNvPr id="2328" name=""/>
                  <p:cNvGrpSpPr/>
                  <p:nvPr/>
                </p:nvGrpSpPr>
                <p:grpSpPr>
                  <a:xfrm>
                    <a:off x="664920" y="3692160"/>
                    <a:ext cx="73800" cy="28080"/>
                    <a:chOff x="664920" y="3692160"/>
                    <a:chExt cx="73800" cy="28080"/>
                  </a:xfrm>
                </p:grpSpPr>
                <p:sp>
                  <p:nvSpPr>
                    <p:cNvPr id="2329" name=""/>
                    <p:cNvSpPr/>
                    <p:nvPr/>
                  </p:nvSpPr>
                  <p:spPr>
                    <a:xfrm>
                      <a:off x="664920" y="369216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0" name=""/>
                    <p:cNvSpPr/>
                    <p:nvPr/>
                  </p:nvSpPr>
                  <p:spPr>
                    <a:xfrm>
                      <a:off x="712080" y="369360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31" name=""/>
                  <p:cNvGrpSpPr/>
                  <p:nvPr/>
                </p:nvGrpSpPr>
                <p:grpSpPr>
                  <a:xfrm>
                    <a:off x="557280" y="3736440"/>
                    <a:ext cx="291240" cy="189720"/>
                    <a:chOff x="557280" y="3736440"/>
                    <a:chExt cx="291240" cy="189720"/>
                  </a:xfrm>
                </p:grpSpPr>
                <p:sp>
                  <p:nvSpPr>
                    <p:cNvPr id="2332" name=""/>
                    <p:cNvSpPr/>
                    <p:nvPr/>
                  </p:nvSpPr>
                  <p:spPr>
                    <a:xfrm>
                      <a:off x="557280" y="3736440"/>
                      <a:ext cx="291240" cy="189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3" name=""/>
                    <p:cNvSpPr/>
                    <p:nvPr/>
                  </p:nvSpPr>
                  <p:spPr>
                    <a:xfrm>
                      <a:off x="607320" y="3784680"/>
                      <a:ext cx="187200" cy="90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4" name=""/>
                    <p:cNvSpPr/>
                    <p:nvPr/>
                  </p:nvSpPr>
                  <p:spPr>
                    <a:xfrm>
                      <a:off x="682560" y="380916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35" name=""/>
                <p:cNvSpPr/>
                <p:nvPr/>
              </p:nvSpPr>
              <p:spPr>
                <a:xfrm>
                  <a:off x="853560" y="3729960"/>
                  <a:ext cx="1523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Wespe 105mm SP How.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6" name=""/>
              <p:cNvSpPr/>
              <p:nvPr/>
            </p:nvSpPr>
            <p:spPr>
              <a:xfrm>
                <a:off x="852120" y="3590640"/>
                <a:ext cx="161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ight Artillery Battery (SP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"/>
            <p:cNvGrpSpPr/>
            <p:nvPr/>
          </p:nvGrpSpPr>
          <p:grpSpPr>
            <a:xfrm>
              <a:off x="557280" y="3997080"/>
              <a:ext cx="1902600" cy="375840"/>
              <a:chOff x="557280" y="3997080"/>
              <a:chExt cx="1902600" cy="375840"/>
            </a:xfrm>
          </p:grpSpPr>
          <p:grpSp>
            <p:nvGrpSpPr>
              <p:cNvPr id="2338" name=""/>
              <p:cNvGrpSpPr/>
              <p:nvPr/>
            </p:nvGrpSpPr>
            <p:grpSpPr>
              <a:xfrm>
                <a:off x="557280" y="4119480"/>
                <a:ext cx="1820160" cy="253440"/>
                <a:chOff x="557280" y="4119480"/>
                <a:chExt cx="1820160" cy="253440"/>
              </a:xfrm>
            </p:grpSpPr>
            <p:grpSp>
              <p:nvGrpSpPr>
                <p:cNvPr id="2339" name=""/>
                <p:cNvGrpSpPr/>
                <p:nvPr/>
              </p:nvGrpSpPr>
              <p:grpSpPr>
                <a:xfrm>
                  <a:off x="557280" y="4119480"/>
                  <a:ext cx="291240" cy="234000"/>
                  <a:chOff x="557280" y="4119480"/>
                  <a:chExt cx="291240" cy="234000"/>
                </a:xfrm>
              </p:grpSpPr>
              <p:grpSp>
                <p:nvGrpSpPr>
                  <p:cNvPr id="2340" name=""/>
                  <p:cNvGrpSpPr/>
                  <p:nvPr/>
                </p:nvGrpSpPr>
                <p:grpSpPr>
                  <a:xfrm>
                    <a:off x="664920" y="4119480"/>
                    <a:ext cx="73800" cy="28080"/>
                    <a:chOff x="664920" y="4119480"/>
                    <a:chExt cx="73800" cy="28080"/>
                  </a:xfrm>
                </p:grpSpPr>
                <p:sp>
                  <p:nvSpPr>
                    <p:cNvPr id="2341" name=""/>
                    <p:cNvSpPr/>
                    <p:nvPr/>
                  </p:nvSpPr>
                  <p:spPr>
                    <a:xfrm>
                      <a:off x="664920" y="411948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2" name=""/>
                    <p:cNvSpPr/>
                    <p:nvPr/>
                  </p:nvSpPr>
                  <p:spPr>
                    <a:xfrm>
                      <a:off x="712080" y="412092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3" name=""/>
                  <p:cNvGrpSpPr/>
                  <p:nvPr/>
                </p:nvGrpSpPr>
                <p:grpSpPr>
                  <a:xfrm>
                    <a:off x="557280" y="4163760"/>
                    <a:ext cx="291240" cy="189720"/>
                    <a:chOff x="557280" y="4163760"/>
                    <a:chExt cx="291240" cy="189720"/>
                  </a:xfrm>
                </p:grpSpPr>
                <p:sp>
                  <p:nvSpPr>
                    <p:cNvPr id="2344" name=""/>
                    <p:cNvSpPr/>
                    <p:nvPr/>
                  </p:nvSpPr>
                  <p:spPr>
                    <a:xfrm>
                      <a:off x="557280" y="4163760"/>
                      <a:ext cx="291240" cy="189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5" name=""/>
                    <p:cNvSpPr/>
                    <p:nvPr/>
                  </p:nvSpPr>
                  <p:spPr>
                    <a:xfrm>
                      <a:off x="607320" y="4212000"/>
                      <a:ext cx="187200" cy="90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6" name=""/>
                    <p:cNvSpPr/>
                    <p:nvPr/>
                  </p:nvSpPr>
                  <p:spPr>
                    <a:xfrm>
                      <a:off x="682560" y="423648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47" name=""/>
                <p:cNvSpPr/>
                <p:nvPr/>
              </p:nvSpPr>
              <p:spPr>
                <a:xfrm>
                  <a:off x="853560" y="4157280"/>
                  <a:ext cx="1523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Hummel 150mm SP How.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8" name=""/>
              <p:cNvSpPr/>
              <p:nvPr/>
            </p:nvSpPr>
            <p:spPr>
              <a:xfrm>
                <a:off x="844200" y="3997080"/>
                <a:ext cx="161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eavy Artillery Battery (SP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9" name=""/>
            <p:cNvSpPr/>
            <p:nvPr/>
          </p:nvSpPr>
          <p:spPr>
            <a:xfrm>
              <a:off x="847800" y="3457440"/>
              <a:ext cx="60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0" name=""/>
            <p:cNvGrpSpPr/>
            <p:nvPr/>
          </p:nvGrpSpPr>
          <p:grpSpPr>
            <a:xfrm>
              <a:off x="184320" y="2620800"/>
              <a:ext cx="291600" cy="245520"/>
              <a:chOff x="184320" y="2620800"/>
              <a:chExt cx="291600" cy="245520"/>
            </a:xfrm>
          </p:grpSpPr>
          <p:grpSp>
            <p:nvGrpSpPr>
              <p:cNvPr id="2351" name=""/>
              <p:cNvGrpSpPr/>
              <p:nvPr/>
            </p:nvGrpSpPr>
            <p:grpSpPr>
              <a:xfrm>
                <a:off x="293400" y="2620800"/>
                <a:ext cx="75960" cy="63360"/>
                <a:chOff x="293400" y="2620800"/>
                <a:chExt cx="75960" cy="63360"/>
              </a:xfrm>
            </p:grpSpPr>
            <p:sp>
              <p:nvSpPr>
                <p:cNvPr id="2352" name=""/>
                <p:cNvSpPr/>
                <p:nvPr/>
              </p:nvSpPr>
              <p:spPr>
                <a:xfrm>
                  <a:off x="293400" y="262080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369360" y="262080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4" name=""/>
              <p:cNvGrpSpPr/>
              <p:nvPr/>
            </p:nvGrpSpPr>
            <p:grpSpPr>
              <a:xfrm>
                <a:off x="184320" y="2676240"/>
                <a:ext cx="291600" cy="190080"/>
                <a:chOff x="184320" y="2676240"/>
                <a:chExt cx="291600" cy="190080"/>
              </a:xfrm>
            </p:grpSpPr>
            <p:sp>
              <p:nvSpPr>
                <p:cNvPr id="2355" name=""/>
                <p:cNvSpPr/>
                <p:nvPr/>
              </p:nvSpPr>
              <p:spPr>
                <a:xfrm>
                  <a:off x="184320" y="2676240"/>
                  <a:ext cx="291600" cy="1900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234720" y="2724480"/>
                  <a:ext cx="187560" cy="900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309960" y="2749320"/>
                  <a:ext cx="34560" cy="324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58" name=""/>
            <p:cNvSpPr/>
            <p:nvPr/>
          </p:nvSpPr>
          <p:spPr>
            <a:xfrm>
              <a:off x="330120" y="286524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49200" y="3809880"/>
              <a:ext cx="22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341280" y="3419280"/>
              <a:ext cx="22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41280" y="2982600"/>
              <a:ext cx="22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31560" y="4228920"/>
              <a:ext cx="22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3" name=""/>
          <p:cNvGrpSpPr/>
          <p:nvPr/>
        </p:nvGrpSpPr>
        <p:grpSpPr>
          <a:xfrm>
            <a:off x="546120" y="4738680"/>
            <a:ext cx="2325600" cy="339480"/>
            <a:chOff x="546120" y="4738680"/>
            <a:chExt cx="2325600" cy="339480"/>
          </a:xfrm>
        </p:grpSpPr>
        <p:sp>
          <p:nvSpPr>
            <p:cNvPr id="2364" name=""/>
            <p:cNvSpPr/>
            <p:nvPr/>
          </p:nvSpPr>
          <p:spPr>
            <a:xfrm>
              <a:off x="799920" y="4862520"/>
              <a:ext cx="207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PzBeobWg III (FO)   GE-20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5" name=""/>
            <p:cNvGrpSpPr/>
            <p:nvPr/>
          </p:nvGrpSpPr>
          <p:grpSpPr>
            <a:xfrm>
              <a:off x="546120" y="4835520"/>
              <a:ext cx="231480" cy="201600"/>
              <a:chOff x="546120" y="4835520"/>
              <a:chExt cx="231480" cy="201600"/>
            </a:xfrm>
          </p:grpSpPr>
          <p:grpSp>
            <p:nvGrpSpPr>
              <p:cNvPr id="2366" name=""/>
              <p:cNvGrpSpPr/>
              <p:nvPr/>
            </p:nvGrpSpPr>
            <p:grpSpPr>
              <a:xfrm>
                <a:off x="546120" y="4880160"/>
                <a:ext cx="231480" cy="156960"/>
                <a:chOff x="546120" y="4880160"/>
                <a:chExt cx="231480" cy="156960"/>
              </a:xfrm>
            </p:grpSpPr>
            <p:sp>
              <p:nvSpPr>
                <p:cNvPr id="2367" name=""/>
                <p:cNvSpPr/>
                <p:nvPr/>
              </p:nvSpPr>
              <p:spPr>
                <a:xfrm>
                  <a:off x="546120" y="488016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557280" y="4906800"/>
                  <a:ext cx="196560" cy="114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628560" y="4930560"/>
                  <a:ext cx="57240" cy="55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0" name=""/>
              <p:cNvSpPr/>
              <p:nvPr/>
            </p:nvSpPr>
            <p:spPr>
              <a:xfrm>
                <a:off x="642960" y="4835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1" name=""/>
            <p:cNvSpPr/>
            <p:nvPr/>
          </p:nvSpPr>
          <p:spPr>
            <a:xfrm>
              <a:off x="776160" y="4738680"/>
              <a:ext cx="152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n-Board Attach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2" name=""/>
          <p:cNvGrpSpPr/>
          <p:nvPr/>
        </p:nvGrpSpPr>
        <p:grpSpPr>
          <a:xfrm>
            <a:off x="560520" y="5149800"/>
            <a:ext cx="1912680" cy="364680"/>
            <a:chOff x="560520" y="5149800"/>
            <a:chExt cx="1912680" cy="364680"/>
          </a:xfrm>
        </p:grpSpPr>
        <p:sp>
          <p:nvSpPr>
            <p:cNvPr id="2373" name=""/>
            <p:cNvSpPr/>
            <p:nvPr/>
          </p:nvSpPr>
          <p:spPr>
            <a:xfrm>
              <a:off x="857160" y="5149800"/>
              <a:ext cx="161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ight Artillery Battery (S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4" name=""/>
            <p:cNvGrpSpPr/>
            <p:nvPr/>
          </p:nvGrpSpPr>
          <p:grpSpPr>
            <a:xfrm>
              <a:off x="560520" y="5260680"/>
              <a:ext cx="1820880" cy="253800"/>
              <a:chOff x="560520" y="5260680"/>
              <a:chExt cx="1820880" cy="253800"/>
            </a:xfrm>
          </p:grpSpPr>
          <p:grpSp>
            <p:nvGrpSpPr>
              <p:cNvPr id="2375" name=""/>
              <p:cNvGrpSpPr/>
              <p:nvPr/>
            </p:nvGrpSpPr>
            <p:grpSpPr>
              <a:xfrm>
                <a:off x="560520" y="5260680"/>
                <a:ext cx="291600" cy="234720"/>
                <a:chOff x="560520" y="5260680"/>
                <a:chExt cx="291600" cy="234720"/>
              </a:xfrm>
            </p:grpSpPr>
            <p:grpSp>
              <p:nvGrpSpPr>
                <p:cNvPr id="2376" name=""/>
                <p:cNvGrpSpPr/>
                <p:nvPr/>
              </p:nvGrpSpPr>
              <p:grpSpPr>
                <a:xfrm>
                  <a:off x="668160" y="5260680"/>
                  <a:ext cx="73800" cy="28800"/>
                  <a:chOff x="668160" y="5260680"/>
                  <a:chExt cx="73800" cy="28800"/>
                </a:xfrm>
              </p:grpSpPr>
              <p:sp>
                <p:nvSpPr>
                  <p:cNvPr id="2377" name=""/>
                  <p:cNvSpPr/>
                  <p:nvPr/>
                </p:nvSpPr>
                <p:spPr>
                  <a:xfrm>
                    <a:off x="668160" y="526068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8" name=""/>
                  <p:cNvSpPr/>
                  <p:nvPr/>
                </p:nvSpPr>
                <p:spPr>
                  <a:xfrm>
                    <a:off x="715320" y="52624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9" name=""/>
                <p:cNvGrpSpPr/>
                <p:nvPr/>
              </p:nvGrpSpPr>
              <p:grpSpPr>
                <a:xfrm>
                  <a:off x="560520" y="5305320"/>
                  <a:ext cx="291600" cy="190080"/>
                  <a:chOff x="560520" y="5305320"/>
                  <a:chExt cx="291600" cy="190080"/>
                </a:xfrm>
              </p:grpSpPr>
              <p:sp>
                <p:nvSpPr>
                  <p:cNvPr id="2380" name=""/>
                  <p:cNvSpPr/>
                  <p:nvPr/>
                </p:nvSpPr>
                <p:spPr>
                  <a:xfrm>
                    <a:off x="560520" y="5305320"/>
                    <a:ext cx="29160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>
                    <a:off x="610920" y="5353560"/>
                    <a:ext cx="187560" cy="90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>
                    <a:off x="686160" y="537840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83" name=""/>
              <p:cNvSpPr/>
              <p:nvPr/>
            </p:nvSpPr>
            <p:spPr>
              <a:xfrm>
                <a:off x="857160" y="5298840"/>
                <a:ext cx="152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Wespe 105mm SP How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4" name=""/>
          <p:cNvSpPr/>
          <p:nvPr/>
        </p:nvSpPr>
        <p:spPr>
          <a:xfrm>
            <a:off x="422280" y="4442760"/>
            <a:ext cx="205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Light Artillery Battery (S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501480" y="5538240"/>
            <a:ext cx="20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Heavy Artillery Battery (S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6" name=""/>
          <p:cNvGrpSpPr/>
          <p:nvPr/>
        </p:nvGrpSpPr>
        <p:grpSpPr>
          <a:xfrm>
            <a:off x="590400" y="5769000"/>
            <a:ext cx="2325600" cy="339480"/>
            <a:chOff x="590400" y="5769000"/>
            <a:chExt cx="2325600" cy="339480"/>
          </a:xfrm>
        </p:grpSpPr>
        <p:sp>
          <p:nvSpPr>
            <p:cNvPr id="2387" name=""/>
            <p:cNvSpPr/>
            <p:nvPr/>
          </p:nvSpPr>
          <p:spPr>
            <a:xfrm>
              <a:off x="844200" y="5892840"/>
              <a:ext cx="207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PzBeobWg III (FO)   GE-20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8" name=""/>
            <p:cNvGrpSpPr/>
            <p:nvPr/>
          </p:nvGrpSpPr>
          <p:grpSpPr>
            <a:xfrm>
              <a:off x="590400" y="5865840"/>
              <a:ext cx="231480" cy="201600"/>
              <a:chOff x="590400" y="5865840"/>
              <a:chExt cx="231480" cy="201600"/>
            </a:xfrm>
          </p:grpSpPr>
          <p:grpSp>
            <p:nvGrpSpPr>
              <p:cNvPr id="2389" name=""/>
              <p:cNvGrpSpPr/>
              <p:nvPr/>
            </p:nvGrpSpPr>
            <p:grpSpPr>
              <a:xfrm>
                <a:off x="590400" y="5910480"/>
                <a:ext cx="231480" cy="156960"/>
                <a:chOff x="590400" y="5910480"/>
                <a:chExt cx="231480" cy="156960"/>
              </a:xfrm>
            </p:grpSpPr>
            <p:sp>
              <p:nvSpPr>
                <p:cNvPr id="2390" name=""/>
                <p:cNvSpPr/>
                <p:nvPr/>
              </p:nvSpPr>
              <p:spPr>
                <a:xfrm>
                  <a:off x="590400" y="5910480"/>
                  <a:ext cx="231480" cy="156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601560" y="5937120"/>
                  <a:ext cx="196560" cy="114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672840" y="5960880"/>
                  <a:ext cx="57240" cy="55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3" name=""/>
              <p:cNvSpPr/>
              <p:nvPr/>
            </p:nvSpPr>
            <p:spPr>
              <a:xfrm>
                <a:off x="687240" y="58658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4" name=""/>
            <p:cNvSpPr/>
            <p:nvPr/>
          </p:nvSpPr>
          <p:spPr>
            <a:xfrm>
              <a:off x="820440" y="5769000"/>
              <a:ext cx="152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n-Board Attach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5" name=""/>
          <p:cNvSpPr/>
          <p:nvPr/>
        </p:nvSpPr>
        <p:spPr>
          <a:xfrm>
            <a:off x="2249640" y="560160"/>
            <a:ext cx="18176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Fire Support Element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ht Artillery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963880" y="3476520"/>
            <a:ext cx="166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   GE-48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389320" y="2891880"/>
            <a:ext cx="205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Light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8" name=""/>
          <p:cNvGrpSpPr/>
          <p:nvPr/>
        </p:nvGrpSpPr>
        <p:grpSpPr>
          <a:xfrm>
            <a:off x="217440" y="4586400"/>
            <a:ext cx="355680" cy="798480"/>
            <a:chOff x="217440" y="4586400"/>
            <a:chExt cx="355680" cy="798480"/>
          </a:xfrm>
        </p:grpSpPr>
        <p:sp>
          <p:nvSpPr>
            <p:cNvPr id="2399" name=""/>
            <p:cNvSpPr/>
            <p:nvPr/>
          </p:nvSpPr>
          <p:spPr>
            <a:xfrm>
              <a:off x="352440" y="538488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352440" y="494820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43080" y="4832280"/>
              <a:ext cx="0" cy="55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2" name=""/>
            <p:cNvGrpSpPr/>
            <p:nvPr/>
          </p:nvGrpSpPr>
          <p:grpSpPr>
            <a:xfrm>
              <a:off x="217440" y="4586400"/>
              <a:ext cx="291960" cy="245520"/>
              <a:chOff x="217440" y="4586400"/>
              <a:chExt cx="291960" cy="245520"/>
            </a:xfrm>
          </p:grpSpPr>
          <p:grpSp>
            <p:nvGrpSpPr>
              <p:cNvPr id="2403" name=""/>
              <p:cNvGrpSpPr/>
              <p:nvPr/>
            </p:nvGrpSpPr>
            <p:grpSpPr>
              <a:xfrm>
                <a:off x="217440" y="4641840"/>
                <a:ext cx="291960" cy="190080"/>
                <a:chOff x="217440" y="4641840"/>
                <a:chExt cx="291960" cy="190080"/>
              </a:xfrm>
            </p:grpSpPr>
            <p:sp>
              <p:nvSpPr>
                <p:cNvPr id="2404" name=""/>
                <p:cNvSpPr/>
                <p:nvPr/>
              </p:nvSpPr>
              <p:spPr>
                <a:xfrm>
                  <a:off x="217440" y="4641840"/>
                  <a:ext cx="291960" cy="1900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267840" y="4690080"/>
                  <a:ext cx="187560" cy="900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343080" y="4714920"/>
                  <a:ext cx="34560" cy="324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7" name=""/>
              <p:cNvSpPr/>
              <p:nvPr/>
            </p:nvSpPr>
            <p:spPr>
              <a:xfrm>
                <a:off x="360360" y="4586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8" name=""/>
          <p:cNvGrpSpPr/>
          <p:nvPr/>
        </p:nvGrpSpPr>
        <p:grpSpPr>
          <a:xfrm>
            <a:off x="235080" y="5616720"/>
            <a:ext cx="2255400" cy="936000"/>
            <a:chOff x="235080" y="5616720"/>
            <a:chExt cx="2255400" cy="936000"/>
          </a:xfrm>
        </p:grpSpPr>
        <p:grpSp>
          <p:nvGrpSpPr>
            <p:cNvPr id="2409" name=""/>
            <p:cNvGrpSpPr/>
            <p:nvPr/>
          </p:nvGrpSpPr>
          <p:grpSpPr>
            <a:xfrm>
              <a:off x="577800" y="6188040"/>
              <a:ext cx="1912680" cy="364680"/>
              <a:chOff x="577800" y="6188040"/>
              <a:chExt cx="1912680" cy="364680"/>
            </a:xfrm>
          </p:grpSpPr>
          <p:sp>
            <p:nvSpPr>
              <p:cNvPr id="2410" name=""/>
              <p:cNvSpPr/>
              <p:nvPr/>
            </p:nvSpPr>
            <p:spPr>
              <a:xfrm>
                <a:off x="874440" y="618804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ight Artillery Battery (SP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1" name=""/>
              <p:cNvGrpSpPr/>
              <p:nvPr/>
            </p:nvGrpSpPr>
            <p:grpSpPr>
              <a:xfrm>
                <a:off x="577800" y="6298920"/>
                <a:ext cx="1820880" cy="253800"/>
                <a:chOff x="577800" y="6298920"/>
                <a:chExt cx="1820880" cy="253800"/>
              </a:xfrm>
            </p:grpSpPr>
            <p:grpSp>
              <p:nvGrpSpPr>
                <p:cNvPr id="2412" name=""/>
                <p:cNvGrpSpPr/>
                <p:nvPr/>
              </p:nvGrpSpPr>
              <p:grpSpPr>
                <a:xfrm>
                  <a:off x="577800" y="6298920"/>
                  <a:ext cx="291600" cy="234720"/>
                  <a:chOff x="577800" y="6298920"/>
                  <a:chExt cx="291600" cy="234720"/>
                </a:xfrm>
              </p:grpSpPr>
              <p:grpSp>
                <p:nvGrpSpPr>
                  <p:cNvPr id="2413" name=""/>
                  <p:cNvGrpSpPr/>
                  <p:nvPr/>
                </p:nvGrpSpPr>
                <p:grpSpPr>
                  <a:xfrm>
                    <a:off x="685440" y="6298920"/>
                    <a:ext cx="73800" cy="28800"/>
                    <a:chOff x="685440" y="6298920"/>
                    <a:chExt cx="73800" cy="28800"/>
                  </a:xfrm>
                </p:grpSpPr>
                <p:sp>
                  <p:nvSpPr>
                    <p:cNvPr id="2414" name=""/>
                    <p:cNvSpPr/>
                    <p:nvPr/>
                  </p:nvSpPr>
                  <p:spPr>
                    <a:xfrm>
                      <a:off x="685440" y="629892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5" name=""/>
                    <p:cNvSpPr/>
                    <p:nvPr/>
                  </p:nvSpPr>
                  <p:spPr>
                    <a:xfrm>
                      <a:off x="732600" y="630072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16" name=""/>
                  <p:cNvGrpSpPr/>
                  <p:nvPr/>
                </p:nvGrpSpPr>
                <p:grpSpPr>
                  <a:xfrm>
                    <a:off x="577800" y="6343560"/>
                    <a:ext cx="291600" cy="190080"/>
                    <a:chOff x="577800" y="6343560"/>
                    <a:chExt cx="291600" cy="190080"/>
                  </a:xfrm>
                </p:grpSpPr>
                <p:sp>
                  <p:nvSpPr>
                    <p:cNvPr id="2417" name=""/>
                    <p:cNvSpPr/>
                    <p:nvPr/>
                  </p:nvSpPr>
                  <p:spPr>
                    <a:xfrm>
                      <a:off x="577800" y="6343560"/>
                      <a:ext cx="291600" cy="190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8" name=""/>
                    <p:cNvSpPr/>
                    <p:nvPr/>
                  </p:nvSpPr>
                  <p:spPr>
                    <a:xfrm>
                      <a:off x="628200" y="6391800"/>
                      <a:ext cx="187560" cy="90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9" name=""/>
                    <p:cNvSpPr/>
                    <p:nvPr/>
                  </p:nvSpPr>
                  <p:spPr>
                    <a:xfrm>
                      <a:off x="703440" y="641664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420" name=""/>
                <p:cNvSpPr/>
                <p:nvPr/>
              </p:nvSpPr>
              <p:spPr>
                <a:xfrm>
                  <a:off x="874440" y="6337080"/>
                  <a:ext cx="1524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Hummel 150mm SP How.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1" name=""/>
            <p:cNvSpPr/>
            <p:nvPr/>
          </p:nvSpPr>
          <p:spPr>
            <a:xfrm>
              <a:off x="369720" y="642312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69720" y="598644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60360" y="5870520"/>
              <a:ext cx="0" cy="55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4" name=""/>
            <p:cNvGrpSpPr/>
            <p:nvPr/>
          </p:nvGrpSpPr>
          <p:grpSpPr>
            <a:xfrm>
              <a:off x="235080" y="5616720"/>
              <a:ext cx="291600" cy="253440"/>
              <a:chOff x="235080" y="5616720"/>
              <a:chExt cx="291600" cy="253440"/>
            </a:xfrm>
          </p:grpSpPr>
          <p:grpSp>
            <p:nvGrpSpPr>
              <p:cNvPr id="2425" name=""/>
              <p:cNvGrpSpPr/>
              <p:nvPr/>
            </p:nvGrpSpPr>
            <p:grpSpPr>
              <a:xfrm>
                <a:off x="235080" y="5680080"/>
                <a:ext cx="291600" cy="190080"/>
                <a:chOff x="235080" y="5680080"/>
                <a:chExt cx="291600" cy="190080"/>
              </a:xfrm>
            </p:grpSpPr>
            <p:sp>
              <p:nvSpPr>
                <p:cNvPr id="2426" name=""/>
                <p:cNvSpPr/>
                <p:nvPr/>
              </p:nvSpPr>
              <p:spPr>
                <a:xfrm>
                  <a:off x="235080" y="5680080"/>
                  <a:ext cx="291600" cy="1900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285480" y="5728320"/>
                  <a:ext cx="187560" cy="900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360720" y="5753160"/>
                  <a:ext cx="34560" cy="324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9" name=""/>
              <p:cNvSpPr/>
              <p:nvPr/>
            </p:nvSpPr>
            <p:spPr>
              <a:xfrm>
                <a:off x="369720" y="5616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0" name=""/>
          <p:cNvSpPr/>
          <p:nvPr/>
        </p:nvSpPr>
        <p:spPr>
          <a:xfrm>
            <a:off x="4356000" y="612720"/>
            <a:ext cx="18176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Fire Support Element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ht Artillery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6431040" y="560160"/>
            <a:ext cx="18176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Fire Support Element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ht Artillery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4356000" y="1066680"/>
            <a:ext cx="2458800" cy="2215800"/>
            <a:chOff x="4356000" y="1066680"/>
            <a:chExt cx="2458800" cy="2215800"/>
          </a:xfrm>
        </p:grpSpPr>
        <p:sp>
          <p:nvSpPr>
            <p:cNvPr id="2433" name=""/>
            <p:cNvSpPr/>
            <p:nvPr/>
          </p:nvSpPr>
          <p:spPr>
            <a:xfrm>
              <a:off x="4974840" y="151272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f-Board Direct Fire Suppor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019480" y="190332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5" name=""/>
            <p:cNvGrpSpPr/>
            <p:nvPr/>
          </p:nvGrpSpPr>
          <p:grpSpPr>
            <a:xfrm>
              <a:off x="4356000" y="1066680"/>
              <a:ext cx="291600" cy="253800"/>
              <a:chOff x="4356000" y="1066680"/>
              <a:chExt cx="291600" cy="253800"/>
            </a:xfrm>
          </p:grpSpPr>
          <p:grpSp>
            <p:nvGrpSpPr>
              <p:cNvPr id="2436" name=""/>
              <p:cNvGrpSpPr/>
              <p:nvPr/>
            </p:nvGrpSpPr>
            <p:grpSpPr>
              <a:xfrm>
                <a:off x="4356000" y="1130040"/>
                <a:ext cx="291600" cy="190440"/>
                <a:chOff x="4356000" y="1130040"/>
                <a:chExt cx="291600" cy="190440"/>
              </a:xfrm>
            </p:grpSpPr>
            <p:sp>
              <p:nvSpPr>
                <p:cNvPr id="2437" name=""/>
                <p:cNvSpPr/>
                <p:nvPr/>
              </p:nvSpPr>
              <p:spPr>
                <a:xfrm>
                  <a:off x="4356000" y="1130040"/>
                  <a:ext cx="291600" cy="190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4481640" y="1202760"/>
                  <a:ext cx="34560" cy="32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9" name=""/>
              <p:cNvGrpSpPr/>
              <p:nvPr/>
            </p:nvGrpSpPr>
            <p:grpSpPr>
              <a:xfrm>
                <a:off x="4465440" y="1066680"/>
                <a:ext cx="75600" cy="63360"/>
                <a:chOff x="4465440" y="1066680"/>
                <a:chExt cx="75600" cy="63360"/>
              </a:xfrm>
            </p:grpSpPr>
            <p:sp>
              <p:nvSpPr>
                <p:cNvPr id="2440" name=""/>
                <p:cNvSpPr/>
                <p:nvPr/>
              </p:nvSpPr>
              <p:spPr>
                <a:xfrm>
                  <a:off x="4465440" y="106668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4541040" y="1066680"/>
                  <a:ext cx="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2" name=""/>
            <p:cNvSpPr/>
            <p:nvPr/>
          </p:nvSpPr>
          <p:spPr>
            <a:xfrm>
              <a:off x="4501800" y="1311120"/>
              <a:ext cx="0" cy="142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3" name=""/>
            <p:cNvGrpSpPr/>
            <p:nvPr/>
          </p:nvGrpSpPr>
          <p:grpSpPr>
            <a:xfrm>
              <a:off x="4505040" y="1628640"/>
              <a:ext cx="2128680" cy="364680"/>
              <a:chOff x="4505040" y="1628640"/>
              <a:chExt cx="2128680" cy="364680"/>
            </a:xfrm>
          </p:grpSpPr>
          <p:grpSp>
            <p:nvGrpSpPr>
              <p:cNvPr id="2444" name=""/>
              <p:cNvGrpSpPr/>
              <p:nvPr/>
            </p:nvGrpSpPr>
            <p:grpSpPr>
              <a:xfrm>
                <a:off x="4717800" y="1628640"/>
                <a:ext cx="1915920" cy="364680"/>
                <a:chOff x="4717800" y="1628640"/>
                <a:chExt cx="1915920" cy="364680"/>
              </a:xfrm>
            </p:grpSpPr>
            <p:sp>
              <p:nvSpPr>
                <p:cNvPr id="2445" name=""/>
                <p:cNvSpPr/>
                <p:nvPr/>
              </p:nvSpPr>
              <p:spPr>
                <a:xfrm>
                  <a:off x="5017680" y="1628640"/>
                  <a:ext cx="1616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st Light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6" name=""/>
                <p:cNvGrpSpPr/>
                <p:nvPr/>
              </p:nvGrpSpPr>
              <p:grpSpPr>
                <a:xfrm>
                  <a:off x="4717800" y="1739520"/>
                  <a:ext cx="291600" cy="227520"/>
                  <a:chOff x="4717800" y="1739520"/>
                  <a:chExt cx="291600" cy="227520"/>
                </a:xfrm>
              </p:grpSpPr>
              <p:grpSp>
                <p:nvGrpSpPr>
                  <p:cNvPr id="2447" name=""/>
                  <p:cNvGrpSpPr/>
                  <p:nvPr/>
                </p:nvGrpSpPr>
                <p:grpSpPr>
                  <a:xfrm>
                    <a:off x="4717800" y="1777320"/>
                    <a:ext cx="291600" cy="189720"/>
                    <a:chOff x="4717800" y="1777320"/>
                    <a:chExt cx="291600" cy="189720"/>
                  </a:xfrm>
                </p:grpSpPr>
                <p:sp>
                  <p:nvSpPr>
                    <p:cNvPr id="2448" name=""/>
                    <p:cNvSpPr/>
                    <p:nvPr/>
                  </p:nvSpPr>
                  <p:spPr>
                    <a:xfrm>
                      <a:off x="4717800" y="1777320"/>
                      <a:ext cx="291600" cy="189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9" name=""/>
                    <p:cNvSpPr/>
                    <p:nvPr/>
                  </p:nvSpPr>
                  <p:spPr>
                    <a:xfrm>
                      <a:off x="4843440" y="185004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50" name=""/>
                  <p:cNvGrpSpPr/>
                  <p:nvPr/>
                </p:nvGrpSpPr>
                <p:grpSpPr>
                  <a:xfrm>
                    <a:off x="4829040" y="1739520"/>
                    <a:ext cx="74520" cy="27720"/>
                    <a:chOff x="4829040" y="1739520"/>
                    <a:chExt cx="74520" cy="27720"/>
                  </a:xfrm>
                </p:grpSpPr>
                <p:sp>
                  <p:nvSpPr>
                    <p:cNvPr id="2451" name=""/>
                    <p:cNvSpPr/>
                    <p:nvPr/>
                  </p:nvSpPr>
                  <p:spPr>
                    <a:xfrm>
                      <a:off x="4829040" y="173952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2" name=""/>
                    <p:cNvSpPr/>
                    <p:nvPr/>
                  </p:nvSpPr>
                  <p:spPr>
                    <a:xfrm>
                      <a:off x="4876560" y="174096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453" name=""/>
                <p:cNvSpPr/>
                <p:nvPr/>
              </p:nvSpPr>
              <p:spPr>
                <a:xfrm>
                  <a:off x="5017680" y="1777680"/>
                  <a:ext cx="1524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105mm Howitz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4" name=""/>
              <p:cNvSpPr/>
              <p:nvPr/>
            </p:nvSpPr>
            <p:spPr>
              <a:xfrm>
                <a:off x="4505040" y="186516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5" name=""/>
            <p:cNvGrpSpPr/>
            <p:nvPr/>
          </p:nvGrpSpPr>
          <p:grpSpPr>
            <a:xfrm>
              <a:off x="4505040" y="1214280"/>
              <a:ext cx="2106720" cy="339480"/>
              <a:chOff x="4505040" y="1214280"/>
              <a:chExt cx="2106720" cy="339480"/>
            </a:xfrm>
          </p:grpSpPr>
          <p:sp>
            <p:nvSpPr>
              <p:cNvPr id="2456" name=""/>
              <p:cNvSpPr/>
              <p:nvPr/>
            </p:nvSpPr>
            <p:spPr>
              <a:xfrm>
                <a:off x="4987800" y="1338120"/>
                <a:ext cx="1623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Forward Observer   GE-48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7" name=""/>
              <p:cNvGrpSpPr/>
              <p:nvPr/>
            </p:nvGrpSpPr>
            <p:grpSpPr>
              <a:xfrm>
                <a:off x="4724280" y="1274760"/>
                <a:ext cx="231480" cy="205920"/>
                <a:chOff x="4724280" y="1274760"/>
                <a:chExt cx="231480" cy="205920"/>
              </a:xfrm>
            </p:grpSpPr>
            <p:sp>
              <p:nvSpPr>
                <p:cNvPr id="2458" name=""/>
                <p:cNvSpPr/>
                <p:nvPr/>
              </p:nvSpPr>
              <p:spPr>
                <a:xfrm>
                  <a:off x="4822200" y="127476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59" name=""/>
                <p:cNvGrpSpPr/>
                <p:nvPr/>
              </p:nvGrpSpPr>
              <p:grpSpPr>
                <a:xfrm>
                  <a:off x="4724280" y="1323720"/>
                  <a:ext cx="231480" cy="156960"/>
                  <a:chOff x="4724280" y="1323720"/>
                  <a:chExt cx="231480" cy="156960"/>
                </a:xfrm>
              </p:grpSpPr>
              <p:sp>
                <p:nvSpPr>
                  <p:cNvPr id="2460" name=""/>
                  <p:cNvSpPr/>
                  <p:nvPr/>
                </p:nvSpPr>
                <p:spPr>
                  <a:xfrm>
                    <a:off x="4724280" y="1323720"/>
                    <a:ext cx="23148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>
                    <a:off x="4806720" y="1374480"/>
                    <a:ext cx="57240" cy="55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62" name=""/>
              <p:cNvSpPr/>
              <p:nvPr/>
            </p:nvSpPr>
            <p:spPr>
              <a:xfrm>
                <a:off x="4963680" y="1214280"/>
                <a:ext cx="152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505040" y="140472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4" name=""/>
            <p:cNvGrpSpPr/>
            <p:nvPr/>
          </p:nvGrpSpPr>
          <p:grpSpPr>
            <a:xfrm>
              <a:off x="4505040" y="2044800"/>
              <a:ext cx="2119320" cy="329760"/>
              <a:chOff x="4505040" y="2044800"/>
              <a:chExt cx="2119320" cy="329760"/>
            </a:xfrm>
          </p:grpSpPr>
          <p:sp>
            <p:nvSpPr>
              <p:cNvPr id="2465" name=""/>
              <p:cNvSpPr/>
              <p:nvPr/>
            </p:nvSpPr>
            <p:spPr>
              <a:xfrm>
                <a:off x="4505040" y="225540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6" name=""/>
              <p:cNvGrpSpPr/>
              <p:nvPr/>
            </p:nvGrpSpPr>
            <p:grpSpPr>
              <a:xfrm>
                <a:off x="4717800" y="2044800"/>
                <a:ext cx="1906560" cy="329760"/>
                <a:chOff x="4717800" y="2044800"/>
                <a:chExt cx="1906560" cy="329760"/>
              </a:xfrm>
            </p:grpSpPr>
            <p:sp>
              <p:nvSpPr>
                <p:cNvPr id="2467" name=""/>
                <p:cNvSpPr/>
                <p:nvPr/>
              </p:nvSpPr>
              <p:spPr>
                <a:xfrm>
                  <a:off x="5008320" y="2044800"/>
                  <a:ext cx="1616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nd Light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8" name=""/>
                <p:cNvGrpSpPr/>
                <p:nvPr/>
              </p:nvGrpSpPr>
              <p:grpSpPr>
                <a:xfrm>
                  <a:off x="4717800" y="2120760"/>
                  <a:ext cx="275760" cy="227520"/>
                  <a:chOff x="4717800" y="2120760"/>
                  <a:chExt cx="275760" cy="227520"/>
                </a:xfrm>
              </p:grpSpPr>
              <p:grpSp>
                <p:nvGrpSpPr>
                  <p:cNvPr id="2469" name=""/>
                  <p:cNvGrpSpPr/>
                  <p:nvPr/>
                </p:nvGrpSpPr>
                <p:grpSpPr>
                  <a:xfrm>
                    <a:off x="4717800" y="2158560"/>
                    <a:ext cx="275760" cy="189720"/>
                    <a:chOff x="4717800" y="2158560"/>
                    <a:chExt cx="275760" cy="189720"/>
                  </a:xfrm>
                </p:grpSpPr>
                <p:sp>
                  <p:nvSpPr>
                    <p:cNvPr id="2470" name=""/>
                    <p:cNvSpPr/>
                    <p:nvPr/>
                  </p:nvSpPr>
                  <p:spPr>
                    <a:xfrm>
                      <a:off x="4717800" y="2158560"/>
                      <a:ext cx="275760" cy="189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1" name=""/>
                    <p:cNvSpPr/>
                    <p:nvPr/>
                  </p:nvSpPr>
                  <p:spPr>
                    <a:xfrm>
                      <a:off x="4836600" y="2231280"/>
                      <a:ext cx="3240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2" name=""/>
                  <p:cNvGrpSpPr/>
                  <p:nvPr/>
                </p:nvGrpSpPr>
                <p:grpSpPr>
                  <a:xfrm>
                    <a:off x="4822920" y="2120760"/>
                    <a:ext cx="69840" cy="27720"/>
                    <a:chOff x="4822920" y="2120760"/>
                    <a:chExt cx="69840" cy="27720"/>
                  </a:xfrm>
                </p:grpSpPr>
                <p:sp>
                  <p:nvSpPr>
                    <p:cNvPr id="2473" name=""/>
                    <p:cNvSpPr/>
                    <p:nvPr/>
                  </p:nvSpPr>
                  <p:spPr>
                    <a:xfrm>
                      <a:off x="4822920" y="2120760"/>
                      <a:ext cx="266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4" name=""/>
                    <p:cNvSpPr/>
                    <p:nvPr/>
                  </p:nvSpPr>
                  <p:spPr>
                    <a:xfrm>
                      <a:off x="4867560" y="2122200"/>
                      <a:ext cx="252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475" name=""/>
                <p:cNvSpPr/>
                <p:nvPr/>
              </p:nvSpPr>
              <p:spPr>
                <a:xfrm>
                  <a:off x="5017680" y="2158920"/>
                  <a:ext cx="1444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105mm Howitz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76" name=""/>
            <p:cNvSpPr/>
            <p:nvPr/>
          </p:nvSpPr>
          <p:spPr>
            <a:xfrm>
              <a:off x="4530600" y="273672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033520" y="2525760"/>
              <a:ext cx="161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rd Light Artillery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8" name=""/>
            <p:cNvGrpSpPr/>
            <p:nvPr/>
          </p:nvGrpSpPr>
          <p:grpSpPr>
            <a:xfrm>
              <a:off x="4743360" y="2601720"/>
              <a:ext cx="275760" cy="228240"/>
              <a:chOff x="4743360" y="2601720"/>
              <a:chExt cx="275760" cy="228240"/>
            </a:xfrm>
          </p:grpSpPr>
          <p:grpSp>
            <p:nvGrpSpPr>
              <p:cNvPr id="2479" name=""/>
              <p:cNvGrpSpPr/>
              <p:nvPr/>
            </p:nvGrpSpPr>
            <p:grpSpPr>
              <a:xfrm>
                <a:off x="4743360" y="2639880"/>
                <a:ext cx="275760" cy="190080"/>
                <a:chOff x="4743360" y="2639880"/>
                <a:chExt cx="275760" cy="190080"/>
              </a:xfrm>
            </p:grpSpPr>
            <p:sp>
              <p:nvSpPr>
                <p:cNvPr id="2480" name=""/>
                <p:cNvSpPr/>
                <p:nvPr/>
              </p:nvSpPr>
              <p:spPr>
                <a:xfrm>
                  <a:off x="4743360" y="2639880"/>
                  <a:ext cx="275760" cy="190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4862160" y="2712600"/>
                  <a:ext cx="32400" cy="3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2" name=""/>
              <p:cNvGrpSpPr/>
              <p:nvPr/>
            </p:nvGrpSpPr>
            <p:grpSpPr>
              <a:xfrm>
                <a:off x="4848480" y="2601720"/>
                <a:ext cx="69840" cy="28080"/>
                <a:chOff x="4848480" y="2601720"/>
                <a:chExt cx="69840" cy="28080"/>
              </a:xfrm>
            </p:grpSpPr>
            <p:sp>
              <p:nvSpPr>
                <p:cNvPr id="2483" name=""/>
                <p:cNvSpPr/>
                <p:nvPr/>
              </p:nvSpPr>
              <p:spPr>
                <a:xfrm>
                  <a:off x="4848480" y="26017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4893120" y="2603160"/>
                  <a:ext cx="252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5" name=""/>
            <p:cNvSpPr/>
            <p:nvPr/>
          </p:nvSpPr>
          <p:spPr>
            <a:xfrm>
              <a:off x="5043240" y="2639880"/>
              <a:ext cx="144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105mm Howitz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043240" y="234936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7" name=""/>
            <p:cNvGrpSpPr/>
            <p:nvPr/>
          </p:nvGrpSpPr>
          <p:grpSpPr>
            <a:xfrm>
              <a:off x="4501800" y="2760480"/>
              <a:ext cx="2313000" cy="522000"/>
              <a:chOff x="4501800" y="2760480"/>
              <a:chExt cx="2313000" cy="522000"/>
            </a:xfrm>
          </p:grpSpPr>
          <p:sp>
            <p:nvSpPr>
              <p:cNvPr id="2488" name=""/>
              <p:cNvSpPr/>
              <p:nvPr/>
            </p:nvSpPr>
            <p:spPr>
              <a:xfrm>
                <a:off x="4965480" y="2846520"/>
                <a:ext cx="184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General Fire Support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9" name=""/>
              <p:cNvGrpSpPr/>
              <p:nvPr/>
            </p:nvGrpSpPr>
            <p:grpSpPr>
              <a:xfrm>
                <a:off x="4724280" y="3029040"/>
                <a:ext cx="291600" cy="228240"/>
                <a:chOff x="4724280" y="3029040"/>
                <a:chExt cx="291600" cy="228240"/>
              </a:xfrm>
            </p:grpSpPr>
            <p:grpSp>
              <p:nvGrpSpPr>
                <p:cNvPr id="2490" name=""/>
                <p:cNvGrpSpPr/>
                <p:nvPr/>
              </p:nvGrpSpPr>
              <p:grpSpPr>
                <a:xfrm>
                  <a:off x="4724280" y="3067200"/>
                  <a:ext cx="291600" cy="190080"/>
                  <a:chOff x="4724280" y="3067200"/>
                  <a:chExt cx="291600" cy="190080"/>
                </a:xfrm>
              </p:grpSpPr>
              <p:sp>
                <p:nvSpPr>
                  <p:cNvPr id="2491" name=""/>
                  <p:cNvSpPr/>
                  <p:nvPr/>
                </p:nvSpPr>
                <p:spPr>
                  <a:xfrm>
                    <a:off x="4724280" y="3067200"/>
                    <a:ext cx="29160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4849920" y="313992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93" name=""/>
                <p:cNvGrpSpPr/>
                <p:nvPr/>
              </p:nvGrpSpPr>
              <p:grpSpPr>
                <a:xfrm>
                  <a:off x="4835520" y="3029040"/>
                  <a:ext cx="74520" cy="28080"/>
                  <a:chOff x="4835520" y="3029040"/>
                  <a:chExt cx="74520" cy="28080"/>
                </a:xfrm>
              </p:grpSpPr>
              <p:sp>
                <p:nvSpPr>
                  <p:cNvPr id="2494" name=""/>
                  <p:cNvSpPr/>
                  <p:nvPr/>
                </p:nvSpPr>
                <p:spPr>
                  <a:xfrm>
                    <a:off x="4835520" y="30290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>
                    <a:off x="4883040" y="30304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6" name=""/>
              <p:cNvSpPr/>
              <p:nvPr/>
            </p:nvSpPr>
            <p:spPr>
              <a:xfrm>
                <a:off x="5032080" y="3066840"/>
                <a:ext cx="1523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50mm Howitz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519440" y="315288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501800" y="2760480"/>
                <a:ext cx="0" cy="395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5032080" y="294300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eavy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0" name=""/>
          <p:cNvGrpSpPr/>
          <p:nvPr/>
        </p:nvGrpSpPr>
        <p:grpSpPr>
          <a:xfrm>
            <a:off x="2340000" y="3198960"/>
            <a:ext cx="2463840" cy="1331280"/>
            <a:chOff x="2340000" y="3198960"/>
            <a:chExt cx="2463840" cy="1331280"/>
          </a:xfrm>
        </p:grpSpPr>
        <p:grpSp>
          <p:nvGrpSpPr>
            <p:cNvPr id="2501" name=""/>
            <p:cNvGrpSpPr/>
            <p:nvPr/>
          </p:nvGrpSpPr>
          <p:grpSpPr>
            <a:xfrm>
              <a:off x="2340000" y="3198960"/>
              <a:ext cx="2285640" cy="921600"/>
              <a:chOff x="2340000" y="3198960"/>
              <a:chExt cx="2285640" cy="921600"/>
            </a:xfrm>
          </p:grpSpPr>
          <p:grpSp>
            <p:nvGrpSpPr>
              <p:cNvPr id="2502" name=""/>
              <p:cNvGrpSpPr/>
              <p:nvPr/>
            </p:nvGrpSpPr>
            <p:grpSpPr>
              <a:xfrm>
                <a:off x="2708280" y="3402000"/>
                <a:ext cx="231480" cy="205560"/>
                <a:chOff x="2708280" y="3402000"/>
                <a:chExt cx="231480" cy="205560"/>
              </a:xfrm>
            </p:grpSpPr>
            <p:sp>
              <p:nvSpPr>
                <p:cNvPr id="2503" name=""/>
                <p:cNvSpPr/>
                <p:nvPr/>
              </p:nvSpPr>
              <p:spPr>
                <a:xfrm>
                  <a:off x="2806560" y="34020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4" name=""/>
                <p:cNvGrpSpPr/>
                <p:nvPr/>
              </p:nvGrpSpPr>
              <p:grpSpPr>
                <a:xfrm>
                  <a:off x="2708280" y="3450960"/>
                  <a:ext cx="231480" cy="156600"/>
                  <a:chOff x="2708280" y="3450960"/>
                  <a:chExt cx="231480" cy="156600"/>
                </a:xfrm>
              </p:grpSpPr>
              <p:sp>
                <p:nvSpPr>
                  <p:cNvPr id="2505" name=""/>
                  <p:cNvSpPr/>
                  <p:nvPr/>
                </p:nvSpPr>
                <p:spPr>
                  <a:xfrm>
                    <a:off x="2708280" y="3450960"/>
                    <a:ext cx="231480" cy="156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6" name=""/>
                  <p:cNvSpPr/>
                  <p:nvPr/>
                </p:nvSpPr>
                <p:spPr>
                  <a:xfrm>
                    <a:off x="2790720" y="3501360"/>
                    <a:ext cx="57240" cy="55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07" name=""/>
              <p:cNvSpPr/>
              <p:nvPr/>
            </p:nvSpPr>
            <p:spPr>
              <a:xfrm>
                <a:off x="2948040" y="3341520"/>
                <a:ext cx="1523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2959200" y="3639960"/>
                <a:ext cx="1600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Direct Fire Support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9" name=""/>
              <p:cNvGrpSpPr/>
              <p:nvPr/>
            </p:nvGrpSpPr>
            <p:grpSpPr>
              <a:xfrm>
                <a:off x="2709720" y="3755880"/>
                <a:ext cx="1915920" cy="364680"/>
                <a:chOff x="2709720" y="3755880"/>
                <a:chExt cx="1915920" cy="364680"/>
              </a:xfrm>
            </p:grpSpPr>
            <p:sp>
              <p:nvSpPr>
                <p:cNvPr id="2510" name=""/>
                <p:cNvSpPr/>
                <p:nvPr/>
              </p:nvSpPr>
              <p:spPr>
                <a:xfrm>
                  <a:off x="3009600" y="3755880"/>
                  <a:ext cx="1616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st Light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1" name=""/>
                <p:cNvGrpSpPr/>
                <p:nvPr/>
              </p:nvGrpSpPr>
              <p:grpSpPr>
                <a:xfrm>
                  <a:off x="2709720" y="3866760"/>
                  <a:ext cx="291600" cy="227520"/>
                  <a:chOff x="2709720" y="3866760"/>
                  <a:chExt cx="291600" cy="227520"/>
                </a:xfrm>
              </p:grpSpPr>
              <p:grpSp>
                <p:nvGrpSpPr>
                  <p:cNvPr id="2512" name=""/>
                  <p:cNvGrpSpPr/>
                  <p:nvPr/>
                </p:nvGrpSpPr>
                <p:grpSpPr>
                  <a:xfrm>
                    <a:off x="2709720" y="3904560"/>
                    <a:ext cx="291600" cy="189720"/>
                    <a:chOff x="2709720" y="3904560"/>
                    <a:chExt cx="291600" cy="189720"/>
                  </a:xfrm>
                </p:grpSpPr>
                <p:sp>
                  <p:nvSpPr>
                    <p:cNvPr id="2513" name=""/>
                    <p:cNvSpPr/>
                    <p:nvPr/>
                  </p:nvSpPr>
                  <p:spPr>
                    <a:xfrm>
                      <a:off x="2709720" y="3904560"/>
                      <a:ext cx="291600" cy="189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4" name=""/>
                    <p:cNvSpPr/>
                    <p:nvPr/>
                  </p:nvSpPr>
                  <p:spPr>
                    <a:xfrm>
                      <a:off x="2835360" y="397728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5" name=""/>
                  <p:cNvGrpSpPr/>
                  <p:nvPr/>
                </p:nvGrpSpPr>
                <p:grpSpPr>
                  <a:xfrm>
                    <a:off x="2820960" y="3866760"/>
                    <a:ext cx="74520" cy="27720"/>
                    <a:chOff x="2820960" y="3866760"/>
                    <a:chExt cx="74520" cy="27720"/>
                  </a:xfrm>
                </p:grpSpPr>
                <p:sp>
                  <p:nvSpPr>
                    <p:cNvPr id="2516" name=""/>
                    <p:cNvSpPr/>
                    <p:nvPr/>
                  </p:nvSpPr>
                  <p:spPr>
                    <a:xfrm>
                      <a:off x="2820960" y="386676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7" name=""/>
                    <p:cNvSpPr/>
                    <p:nvPr/>
                  </p:nvSpPr>
                  <p:spPr>
                    <a:xfrm>
                      <a:off x="2868480" y="386820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18" name=""/>
                <p:cNvSpPr/>
                <p:nvPr/>
              </p:nvSpPr>
              <p:spPr>
                <a:xfrm>
                  <a:off x="3009600" y="3904920"/>
                  <a:ext cx="1524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105mm Howitz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9" name=""/>
              <p:cNvGrpSpPr/>
              <p:nvPr/>
            </p:nvGrpSpPr>
            <p:grpSpPr>
              <a:xfrm>
                <a:off x="2340000" y="3198960"/>
                <a:ext cx="291600" cy="248040"/>
                <a:chOff x="2340000" y="3198960"/>
                <a:chExt cx="291600" cy="248040"/>
              </a:xfrm>
            </p:grpSpPr>
            <p:sp>
              <p:nvSpPr>
                <p:cNvPr id="2520" name=""/>
                <p:cNvSpPr/>
                <p:nvPr/>
              </p:nvSpPr>
              <p:spPr>
                <a:xfrm>
                  <a:off x="2485800" y="319896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1" name=""/>
                <p:cNvGrpSpPr/>
                <p:nvPr/>
              </p:nvGrpSpPr>
              <p:grpSpPr>
                <a:xfrm>
                  <a:off x="2340000" y="3257280"/>
                  <a:ext cx="291600" cy="189720"/>
                  <a:chOff x="2340000" y="3257280"/>
                  <a:chExt cx="291600" cy="189720"/>
                </a:xfrm>
              </p:grpSpPr>
              <p:sp>
                <p:nvSpPr>
                  <p:cNvPr id="2522" name=""/>
                  <p:cNvSpPr/>
                  <p:nvPr/>
                </p:nvSpPr>
                <p:spPr>
                  <a:xfrm>
                    <a:off x="2340000" y="3257280"/>
                    <a:ext cx="291600" cy="189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>
                    <a:off x="2465640" y="333000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24" name=""/>
              <p:cNvSpPr/>
              <p:nvPr/>
            </p:nvSpPr>
            <p:spPr>
              <a:xfrm>
                <a:off x="2486160" y="3438360"/>
                <a:ext cx="0" cy="55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496960" y="399240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2496960" y="355572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7" name=""/>
            <p:cNvGrpSpPr/>
            <p:nvPr/>
          </p:nvGrpSpPr>
          <p:grpSpPr>
            <a:xfrm>
              <a:off x="2490840" y="4008600"/>
              <a:ext cx="2313000" cy="521640"/>
              <a:chOff x="2490840" y="4008600"/>
              <a:chExt cx="2313000" cy="521640"/>
            </a:xfrm>
          </p:grpSpPr>
          <p:sp>
            <p:nvSpPr>
              <p:cNvPr id="2528" name=""/>
              <p:cNvSpPr/>
              <p:nvPr/>
            </p:nvSpPr>
            <p:spPr>
              <a:xfrm>
                <a:off x="2954520" y="4094280"/>
                <a:ext cx="184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General Fire Support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9" name=""/>
              <p:cNvGrpSpPr/>
              <p:nvPr/>
            </p:nvGrpSpPr>
            <p:grpSpPr>
              <a:xfrm>
                <a:off x="2713320" y="4276800"/>
                <a:ext cx="291600" cy="227520"/>
                <a:chOff x="2713320" y="4276800"/>
                <a:chExt cx="291600" cy="227520"/>
              </a:xfrm>
            </p:grpSpPr>
            <p:grpSp>
              <p:nvGrpSpPr>
                <p:cNvPr id="2530" name=""/>
                <p:cNvGrpSpPr/>
                <p:nvPr/>
              </p:nvGrpSpPr>
              <p:grpSpPr>
                <a:xfrm>
                  <a:off x="2713320" y="4314600"/>
                  <a:ext cx="291600" cy="189720"/>
                  <a:chOff x="2713320" y="4314600"/>
                  <a:chExt cx="291600" cy="189720"/>
                </a:xfrm>
              </p:grpSpPr>
              <p:sp>
                <p:nvSpPr>
                  <p:cNvPr id="2531" name=""/>
                  <p:cNvSpPr/>
                  <p:nvPr/>
                </p:nvSpPr>
                <p:spPr>
                  <a:xfrm>
                    <a:off x="2713320" y="4314600"/>
                    <a:ext cx="291600" cy="189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>
                    <a:off x="2838960" y="438732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3" name=""/>
                <p:cNvGrpSpPr/>
                <p:nvPr/>
              </p:nvGrpSpPr>
              <p:grpSpPr>
                <a:xfrm>
                  <a:off x="2824560" y="4276800"/>
                  <a:ext cx="74520" cy="27720"/>
                  <a:chOff x="2824560" y="4276800"/>
                  <a:chExt cx="74520" cy="27720"/>
                </a:xfrm>
              </p:grpSpPr>
              <p:sp>
                <p:nvSpPr>
                  <p:cNvPr id="2534" name=""/>
                  <p:cNvSpPr/>
                  <p:nvPr/>
                </p:nvSpPr>
                <p:spPr>
                  <a:xfrm>
                    <a:off x="2824560" y="427680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>
                    <a:off x="2872080" y="427824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36" name=""/>
              <p:cNvSpPr/>
              <p:nvPr/>
            </p:nvSpPr>
            <p:spPr>
              <a:xfrm>
                <a:off x="3021120" y="4314600"/>
                <a:ext cx="1523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50mm Howitz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2508480" y="440064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2490840" y="4008600"/>
                <a:ext cx="0" cy="39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021120" y="419076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eavy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0" name=""/>
          <p:cNvGrpSpPr/>
          <p:nvPr/>
        </p:nvGrpSpPr>
        <p:grpSpPr>
          <a:xfrm>
            <a:off x="2249640" y="993600"/>
            <a:ext cx="2452680" cy="1731240"/>
            <a:chOff x="2249640" y="993600"/>
            <a:chExt cx="2452680" cy="1731240"/>
          </a:xfrm>
        </p:grpSpPr>
        <p:sp>
          <p:nvSpPr>
            <p:cNvPr id="2541" name=""/>
            <p:cNvSpPr/>
            <p:nvPr/>
          </p:nvSpPr>
          <p:spPr>
            <a:xfrm>
              <a:off x="2857680" y="1141200"/>
              <a:ext cx="152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n-Board Attach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868480" y="143964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f-Board Direct Fire Suppor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913120" y="183024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4" name=""/>
            <p:cNvGrpSpPr/>
            <p:nvPr/>
          </p:nvGrpSpPr>
          <p:grpSpPr>
            <a:xfrm>
              <a:off x="2249640" y="993600"/>
              <a:ext cx="291600" cy="253080"/>
              <a:chOff x="2249640" y="993600"/>
              <a:chExt cx="291600" cy="253080"/>
            </a:xfrm>
          </p:grpSpPr>
          <p:grpSp>
            <p:nvGrpSpPr>
              <p:cNvPr id="2545" name=""/>
              <p:cNvGrpSpPr/>
              <p:nvPr/>
            </p:nvGrpSpPr>
            <p:grpSpPr>
              <a:xfrm>
                <a:off x="2249640" y="1056600"/>
                <a:ext cx="291600" cy="190080"/>
                <a:chOff x="2249640" y="1056600"/>
                <a:chExt cx="291600" cy="190080"/>
              </a:xfrm>
            </p:grpSpPr>
            <p:sp>
              <p:nvSpPr>
                <p:cNvPr id="2546" name=""/>
                <p:cNvSpPr/>
                <p:nvPr/>
              </p:nvSpPr>
              <p:spPr>
                <a:xfrm>
                  <a:off x="2249640" y="1056600"/>
                  <a:ext cx="291600" cy="190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2375280" y="1129320"/>
                  <a:ext cx="34560" cy="3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8" name=""/>
              <p:cNvGrpSpPr/>
              <p:nvPr/>
            </p:nvGrpSpPr>
            <p:grpSpPr>
              <a:xfrm>
                <a:off x="2359080" y="993600"/>
                <a:ext cx="75600" cy="63000"/>
                <a:chOff x="2359080" y="993600"/>
                <a:chExt cx="75600" cy="63000"/>
              </a:xfrm>
            </p:grpSpPr>
            <p:sp>
              <p:nvSpPr>
                <p:cNvPr id="2549" name=""/>
                <p:cNvSpPr/>
                <p:nvPr/>
              </p:nvSpPr>
              <p:spPr>
                <a:xfrm>
                  <a:off x="2359080" y="993600"/>
                  <a:ext cx="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2434680" y="993600"/>
                  <a:ext cx="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1" name=""/>
            <p:cNvSpPr/>
            <p:nvPr/>
          </p:nvSpPr>
          <p:spPr>
            <a:xfrm>
              <a:off x="2395440" y="1238040"/>
              <a:ext cx="0" cy="94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2" name=""/>
            <p:cNvGrpSpPr/>
            <p:nvPr/>
          </p:nvGrpSpPr>
          <p:grpSpPr>
            <a:xfrm>
              <a:off x="2406600" y="1555560"/>
              <a:ext cx="2128680" cy="364680"/>
              <a:chOff x="2406600" y="1555560"/>
              <a:chExt cx="2128680" cy="364680"/>
            </a:xfrm>
          </p:grpSpPr>
          <p:grpSp>
            <p:nvGrpSpPr>
              <p:cNvPr id="2553" name=""/>
              <p:cNvGrpSpPr/>
              <p:nvPr/>
            </p:nvGrpSpPr>
            <p:grpSpPr>
              <a:xfrm>
                <a:off x="2619360" y="1555560"/>
                <a:ext cx="1915920" cy="364680"/>
                <a:chOff x="2619360" y="1555560"/>
                <a:chExt cx="1915920" cy="36468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2919240" y="1555560"/>
                  <a:ext cx="1616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st Light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5" name=""/>
                <p:cNvGrpSpPr/>
                <p:nvPr/>
              </p:nvGrpSpPr>
              <p:grpSpPr>
                <a:xfrm>
                  <a:off x="2619360" y="1666440"/>
                  <a:ext cx="291600" cy="227520"/>
                  <a:chOff x="2619360" y="1666440"/>
                  <a:chExt cx="291600" cy="227520"/>
                </a:xfrm>
              </p:grpSpPr>
              <p:grpSp>
                <p:nvGrpSpPr>
                  <p:cNvPr id="2556" name=""/>
                  <p:cNvGrpSpPr/>
                  <p:nvPr/>
                </p:nvGrpSpPr>
                <p:grpSpPr>
                  <a:xfrm>
                    <a:off x="2619360" y="1704240"/>
                    <a:ext cx="291600" cy="189720"/>
                    <a:chOff x="2619360" y="1704240"/>
                    <a:chExt cx="291600" cy="189720"/>
                  </a:xfrm>
                </p:grpSpPr>
                <p:sp>
                  <p:nvSpPr>
                    <p:cNvPr id="2557" name=""/>
                    <p:cNvSpPr/>
                    <p:nvPr/>
                  </p:nvSpPr>
                  <p:spPr>
                    <a:xfrm>
                      <a:off x="2619360" y="1704240"/>
                      <a:ext cx="291600" cy="189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8" name=""/>
                    <p:cNvSpPr/>
                    <p:nvPr/>
                  </p:nvSpPr>
                  <p:spPr>
                    <a:xfrm>
                      <a:off x="2745000" y="177696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9" name=""/>
                  <p:cNvGrpSpPr/>
                  <p:nvPr/>
                </p:nvGrpSpPr>
                <p:grpSpPr>
                  <a:xfrm>
                    <a:off x="2730600" y="1666440"/>
                    <a:ext cx="74520" cy="27720"/>
                    <a:chOff x="2730600" y="1666440"/>
                    <a:chExt cx="74520" cy="27720"/>
                  </a:xfrm>
                </p:grpSpPr>
                <p:sp>
                  <p:nvSpPr>
                    <p:cNvPr id="2560" name=""/>
                    <p:cNvSpPr/>
                    <p:nvPr/>
                  </p:nvSpPr>
                  <p:spPr>
                    <a:xfrm>
                      <a:off x="2730600" y="166644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1" name=""/>
                    <p:cNvSpPr/>
                    <p:nvPr/>
                  </p:nvSpPr>
                  <p:spPr>
                    <a:xfrm>
                      <a:off x="2778120" y="166788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62" name=""/>
                <p:cNvSpPr/>
                <p:nvPr/>
              </p:nvSpPr>
              <p:spPr>
                <a:xfrm>
                  <a:off x="2919240" y="1704600"/>
                  <a:ext cx="1524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105mm Howitz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3" name=""/>
              <p:cNvSpPr/>
              <p:nvPr/>
            </p:nvSpPr>
            <p:spPr>
              <a:xfrm>
                <a:off x="2406600" y="179208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4" name=""/>
            <p:cNvGrpSpPr/>
            <p:nvPr/>
          </p:nvGrpSpPr>
          <p:grpSpPr>
            <a:xfrm>
              <a:off x="2406600" y="1201320"/>
              <a:ext cx="2098800" cy="279360"/>
              <a:chOff x="2406600" y="1201320"/>
              <a:chExt cx="2098800" cy="279360"/>
            </a:xfrm>
          </p:grpSpPr>
          <p:sp>
            <p:nvSpPr>
              <p:cNvPr id="2565" name=""/>
              <p:cNvSpPr/>
              <p:nvPr/>
            </p:nvSpPr>
            <p:spPr>
              <a:xfrm>
                <a:off x="2881440" y="1265040"/>
                <a:ext cx="1623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Forward Observer   GE-48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6" name=""/>
              <p:cNvGrpSpPr/>
              <p:nvPr/>
            </p:nvGrpSpPr>
            <p:grpSpPr>
              <a:xfrm>
                <a:off x="2617920" y="1201320"/>
                <a:ext cx="231480" cy="206280"/>
                <a:chOff x="2617920" y="1201320"/>
                <a:chExt cx="231480" cy="206280"/>
              </a:xfrm>
            </p:grpSpPr>
            <p:sp>
              <p:nvSpPr>
                <p:cNvPr id="2567" name=""/>
                <p:cNvSpPr/>
                <p:nvPr/>
              </p:nvSpPr>
              <p:spPr>
                <a:xfrm>
                  <a:off x="2715840" y="12013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8" name=""/>
                <p:cNvGrpSpPr/>
                <p:nvPr/>
              </p:nvGrpSpPr>
              <p:grpSpPr>
                <a:xfrm>
                  <a:off x="2617920" y="1250640"/>
                  <a:ext cx="231480" cy="156960"/>
                  <a:chOff x="2617920" y="1250640"/>
                  <a:chExt cx="231480" cy="156960"/>
                </a:xfrm>
              </p:grpSpPr>
              <p:sp>
                <p:nvSpPr>
                  <p:cNvPr id="2569" name=""/>
                  <p:cNvSpPr/>
                  <p:nvPr/>
                </p:nvSpPr>
                <p:spPr>
                  <a:xfrm>
                    <a:off x="2617920" y="1250640"/>
                    <a:ext cx="23148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>
                    <a:off x="2700360" y="1301400"/>
                    <a:ext cx="57240" cy="55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71" name=""/>
              <p:cNvSpPr/>
              <p:nvPr/>
            </p:nvSpPr>
            <p:spPr>
              <a:xfrm>
                <a:off x="2406600" y="132372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2" name=""/>
            <p:cNvGrpSpPr/>
            <p:nvPr/>
          </p:nvGrpSpPr>
          <p:grpSpPr>
            <a:xfrm>
              <a:off x="2414520" y="1971360"/>
              <a:ext cx="2119320" cy="330120"/>
              <a:chOff x="2414520" y="1971360"/>
              <a:chExt cx="2119320" cy="330120"/>
            </a:xfrm>
          </p:grpSpPr>
          <p:sp>
            <p:nvSpPr>
              <p:cNvPr id="2573" name=""/>
              <p:cNvSpPr/>
              <p:nvPr/>
            </p:nvSpPr>
            <p:spPr>
              <a:xfrm>
                <a:off x="2414520" y="218232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4" name=""/>
              <p:cNvGrpSpPr/>
              <p:nvPr/>
            </p:nvGrpSpPr>
            <p:grpSpPr>
              <a:xfrm>
                <a:off x="2627280" y="1971360"/>
                <a:ext cx="1906560" cy="330120"/>
                <a:chOff x="2627280" y="1971360"/>
                <a:chExt cx="1906560" cy="330120"/>
              </a:xfrm>
            </p:grpSpPr>
            <p:sp>
              <p:nvSpPr>
                <p:cNvPr id="2575" name=""/>
                <p:cNvSpPr/>
                <p:nvPr/>
              </p:nvSpPr>
              <p:spPr>
                <a:xfrm>
                  <a:off x="2917800" y="1971360"/>
                  <a:ext cx="1616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nd Light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6" name=""/>
                <p:cNvGrpSpPr/>
                <p:nvPr/>
              </p:nvGrpSpPr>
              <p:grpSpPr>
                <a:xfrm>
                  <a:off x="2627280" y="2047680"/>
                  <a:ext cx="275760" cy="228240"/>
                  <a:chOff x="2627280" y="2047680"/>
                  <a:chExt cx="275760" cy="228240"/>
                </a:xfrm>
              </p:grpSpPr>
              <p:grpSp>
                <p:nvGrpSpPr>
                  <p:cNvPr id="2577" name=""/>
                  <p:cNvGrpSpPr/>
                  <p:nvPr/>
                </p:nvGrpSpPr>
                <p:grpSpPr>
                  <a:xfrm>
                    <a:off x="2627280" y="2085840"/>
                    <a:ext cx="275760" cy="190080"/>
                    <a:chOff x="2627280" y="2085840"/>
                    <a:chExt cx="275760" cy="190080"/>
                  </a:xfrm>
                </p:grpSpPr>
                <p:sp>
                  <p:nvSpPr>
                    <p:cNvPr id="2578" name=""/>
                    <p:cNvSpPr/>
                    <p:nvPr/>
                  </p:nvSpPr>
                  <p:spPr>
                    <a:xfrm>
                      <a:off x="2627280" y="2085840"/>
                      <a:ext cx="275760" cy="190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9" name=""/>
                    <p:cNvSpPr/>
                    <p:nvPr/>
                  </p:nvSpPr>
                  <p:spPr>
                    <a:xfrm>
                      <a:off x="2746080" y="2158560"/>
                      <a:ext cx="3240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0" name=""/>
                  <p:cNvGrpSpPr/>
                  <p:nvPr/>
                </p:nvGrpSpPr>
                <p:grpSpPr>
                  <a:xfrm>
                    <a:off x="2732400" y="2047680"/>
                    <a:ext cx="69840" cy="28080"/>
                    <a:chOff x="2732400" y="2047680"/>
                    <a:chExt cx="69840" cy="28080"/>
                  </a:xfrm>
                </p:grpSpPr>
                <p:sp>
                  <p:nvSpPr>
                    <p:cNvPr id="2581" name=""/>
                    <p:cNvSpPr/>
                    <p:nvPr/>
                  </p:nvSpPr>
                  <p:spPr>
                    <a:xfrm>
                      <a:off x="2732400" y="204768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2" name=""/>
                    <p:cNvSpPr/>
                    <p:nvPr/>
                  </p:nvSpPr>
                  <p:spPr>
                    <a:xfrm>
                      <a:off x="2777040" y="2049120"/>
                      <a:ext cx="252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83" name=""/>
                <p:cNvSpPr/>
                <p:nvPr/>
              </p:nvSpPr>
              <p:spPr>
                <a:xfrm>
                  <a:off x="2927160" y="2085840"/>
                  <a:ext cx="1444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105mm Howitz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4" name=""/>
            <p:cNvGrpSpPr/>
            <p:nvPr/>
          </p:nvGrpSpPr>
          <p:grpSpPr>
            <a:xfrm>
              <a:off x="2389320" y="2203200"/>
              <a:ext cx="2313000" cy="521640"/>
              <a:chOff x="2389320" y="2203200"/>
              <a:chExt cx="2313000" cy="521640"/>
            </a:xfrm>
          </p:grpSpPr>
          <p:sp>
            <p:nvSpPr>
              <p:cNvPr id="2585" name=""/>
              <p:cNvSpPr/>
              <p:nvPr/>
            </p:nvSpPr>
            <p:spPr>
              <a:xfrm>
                <a:off x="2853000" y="2288880"/>
                <a:ext cx="184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General Fire Support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6" name=""/>
              <p:cNvGrpSpPr/>
              <p:nvPr/>
            </p:nvGrpSpPr>
            <p:grpSpPr>
              <a:xfrm>
                <a:off x="2611800" y="2471400"/>
                <a:ext cx="291600" cy="227520"/>
                <a:chOff x="2611800" y="2471400"/>
                <a:chExt cx="291600" cy="227520"/>
              </a:xfrm>
            </p:grpSpPr>
            <p:grpSp>
              <p:nvGrpSpPr>
                <p:cNvPr id="2587" name=""/>
                <p:cNvGrpSpPr/>
                <p:nvPr/>
              </p:nvGrpSpPr>
              <p:grpSpPr>
                <a:xfrm>
                  <a:off x="2611800" y="2509200"/>
                  <a:ext cx="291600" cy="189720"/>
                  <a:chOff x="2611800" y="2509200"/>
                  <a:chExt cx="291600" cy="189720"/>
                </a:xfrm>
              </p:grpSpPr>
              <p:sp>
                <p:nvSpPr>
                  <p:cNvPr id="2588" name=""/>
                  <p:cNvSpPr/>
                  <p:nvPr/>
                </p:nvSpPr>
                <p:spPr>
                  <a:xfrm>
                    <a:off x="2611800" y="2509200"/>
                    <a:ext cx="291600" cy="189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>
                    <a:off x="2737440" y="258192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0" name=""/>
                <p:cNvGrpSpPr/>
                <p:nvPr/>
              </p:nvGrpSpPr>
              <p:grpSpPr>
                <a:xfrm>
                  <a:off x="2723040" y="2471400"/>
                  <a:ext cx="74520" cy="27720"/>
                  <a:chOff x="2723040" y="2471400"/>
                  <a:chExt cx="74520" cy="27720"/>
                </a:xfrm>
              </p:grpSpPr>
              <p:sp>
                <p:nvSpPr>
                  <p:cNvPr id="2591" name=""/>
                  <p:cNvSpPr/>
                  <p:nvPr/>
                </p:nvSpPr>
                <p:spPr>
                  <a:xfrm>
                    <a:off x="2723040" y="247140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2770560" y="247284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93" name=""/>
              <p:cNvSpPr/>
              <p:nvPr/>
            </p:nvSpPr>
            <p:spPr>
              <a:xfrm>
                <a:off x="2919600" y="2509200"/>
                <a:ext cx="1523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50mm Howitz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2406960" y="259524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2389320" y="2203200"/>
                <a:ext cx="0" cy="39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2919600" y="238536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eavy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7" name=""/>
          <p:cNvGrpSpPr/>
          <p:nvPr/>
        </p:nvGrpSpPr>
        <p:grpSpPr>
          <a:xfrm>
            <a:off x="6415200" y="952560"/>
            <a:ext cx="2458800" cy="2215080"/>
            <a:chOff x="6415200" y="952560"/>
            <a:chExt cx="2458800" cy="2215080"/>
          </a:xfrm>
        </p:grpSpPr>
        <p:sp>
          <p:nvSpPr>
            <p:cNvPr id="2598" name=""/>
            <p:cNvSpPr/>
            <p:nvPr/>
          </p:nvSpPr>
          <p:spPr>
            <a:xfrm>
              <a:off x="7034040" y="139824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f-Board Direct Fire Suppor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078680" y="178884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0" name=""/>
            <p:cNvGrpSpPr/>
            <p:nvPr/>
          </p:nvGrpSpPr>
          <p:grpSpPr>
            <a:xfrm>
              <a:off x="6415200" y="952560"/>
              <a:ext cx="291600" cy="253080"/>
              <a:chOff x="6415200" y="952560"/>
              <a:chExt cx="291600" cy="253080"/>
            </a:xfrm>
          </p:grpSpPr>
          <p:grpSp>
            <p:nvGrpSpPr>
              <p:cNvPr id="2601" name=""/>
              <p:cNvGrpSpPr/>
              <p:nvPr/>
            </p:nvGrpSpPr>
            <p:grpSpPr>
              <a:xfrm>
                <a:off x="6415200" y="1015560"/>
                <a:ext cx="291600" cy="190080"/>
                <a:chOff x="6415200" y="1015560"/>
                <a:chExt cx="291600" cy="190080"/>
              </a:xfrm>
            </p:grpSpPr>
            <p:sp>
              <p:nvSpPr>
                <p:cNvPr id="2602" name=""/>
                <p:cNvSpPr/>
                <p:nvPr/>
              </p:nvSpPr>
              <p:spPr>
                <a:xfrm>
                  <a:off x="6415200" y="1015560"/>
                  <a:ext cx="291600" cy="190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540840" y="1088280"/>
                  <a:ext cx="34560" cy="3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4" name=""/>
              <p:cNvGrpSpPr/>
              <p:nvPr/>
            </p:nvGrpSpPr>
            <p:grpSpPr>
              <a:xfrm>
                <a:off x="6524640" y="952560"/>
                <a:ext cx="75600" cy="63000"/>
                <a:chOff x="6524640" y="952560"/>
                <a:chExt cx="75600" cy="63000"/>
              </a:xfrm>
            </p:grpSpPr>
            <p:sp>
              <p:nvSpPr>
                <p:cNvPr id="2605" name=""/>
                <p:cNvSpPr/>
                <p:nvPr/>
              </p:nvSpPr>
              <p:spPr>
                <a:xfrm>
                  <a:off x="6524640" y="952560"/>
                  <a:ext cx="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6600240" y="952560"/>
                  <a:ext cx="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7" name=""/>
            <p:cNvSpPr/>
            <p:nvPr/>
          </p:nvSpPr>
          <p:spPr>
            <a:xfrm>
              <a:off x="6561000" y="1196640"/>
              <a:ext cx="0" cy="142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8" name=""/>
            <p:cNvGrpSpPr/>
            <p:nvPr/>
          </p:nvGrpSpPr>
          <p:grpSpPr>
            <a:xfrm>
              <a:off x="6564240" y="1514160"/>
              <a:ext cx="2128680" cy="364680"/>
              <a:chOff x="6564240" y="1514160"/>
              <a:chExt cx="2128680" cy="364680"/>
            </a:xfrm>
          </p:grpSpPr>
          <p:grpSp>
            <p:nvGrpSpPr>
              <p:cNvPr id="2609" name=""/>
              <p:cNvGrpSpPr/>
              <p:nvPr/>
            </p:nvGrpSpPr>
            <p:grpSpPr>
              <a:xfrm>
                <a:off x="6777000" y="1514160"/>
                <a:ext cx="1915920" cy="364680"/>
                <a:chOff x="6777000" y="1514160"/>
                <a:chExt cx="1915920" cy="36468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7076880" y="1514160"/>
                  <a:ext cx="1616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st Light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1" name=""/>
                <p:cNvGrpSpPr/>
                <p:nvPr/>
              </p:nvGrpSpPr>
              <p:grpSpPr>
                <a:xfrm>
                  <a:off x="6777000" y="1625040"/>
                  <a:ext cx="291600" cy="227520"/>
                  <a:chOff x="6777000" y="1625040"/>
                  <a:chExt cx="291600" cy="227520"/>
                </a:xfrm>
              </p:grpSpPr>
              <p:grpSp>
                <p:nvGrpSpPr>
                  <p:cNvPr id="2612" name=""/>
                  <p:cNvGrpSpPr/>
                  <p:nvPr/>
                </p:nvGrpSpPr>
                <p:grpSpPr>
                  <a:xfrm>
                    <a:off x="6777000" y="1662840"/>
                    <a:ext cx="291600" cy="189720"/>
                    <a:chOff x="6777000" y="1662840"/>
                    <a:chExt cx="291600" cy="189720"/>
                  </a:xfrm>
                </p:grpSpPr>
                <p:sp>
                  <p:nvSpPr>
                    <p:cNvPr id="2613" name=""/>
                    <p:cNvSpPr/>
                    <p:nvPr/>
                  </p:nvSpPr>
                  <p:spPr>
                    <a:xfrm>
                      <a:off x="6777000" y="1662840"/>
                      <a:ext cx="291600" cy="189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4" name=""/>
                    <p:cNvSpPr/>
                    <p:nvPr/>
                  </p:nvSpPr>
                  <p:spPr>
                    <a:xfrm>
                      <a:off x="6902640" y="173556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5" name=""/>
                  <p:cNvGrpSpPr/>
                  <p:nvPr/>
                </p:nvGrpSpPr>
                <p:grpSpPr>
                  <a:xfrm>
                    <a:off x="6888240" y="1625040"/>
                    <a:ext cx="74520" cy="27720"/>
                    <a:chOff x="6888240" y="1625040"/>
                    <a:chExt cx="74520" cy="27720"/>
                  </a:xfrm>
                </p:grpSpPr>
                <p:sp>
                  <p:nvSpPr>
                    <p:cNvPr id="2616" name=""/>
                    <p:cNvSpPr/>
                    <p:nvPr/>
                  </p:nvSpPr>
                  <p:spPr>
                    <a:xfrm>
                      <a:off x="6888240" y="162504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7" name=""/>
                    <p:cNvSpPr/>
                    <p:nvPr/>
                  </p:nvSpPr>
                  <p:spPr>
                    <a:xfrm>
                      <a:off x="6935760" y="162648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18" name=""/>
                <p:cNvSpPr/>
                <p:nvPr/>
              </p:nvSpPr>
              <p:spPr>
                <a:xfrm>
                  <a:off x="7076880" y="1663200"/>
                  <a:ext cx="1524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75mm Howitz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9" name=""/>
              <p:cNvSpPr/>
              <p:nvPr/>
            </p:nvSpPr>
            <p:spPr>
              <a:xfrm>
                <a:off x="6564240" y="175068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0" name=""/>
            <p:cNvGrpSpPr/>
            <p:nvPr/>
          </p:nvGrpSpPr>
          <p:grpSpPr>
            <a:xfrm>
              <a:off x="6564240" y="1099800"/>
              <a:ext cx="2106720" cy="339120"/>
              <a:chOff x="6564240" y="1099800"/>
              <a:chExt cx="2106720" cy="339120"/>
            </a:xfrm>
          </p:grpSpPr>
          <p:sp>
            <p:nvSpPr>
              <p:cNvPr id="2621" name=""/>
              <p:cNvSpPr/>
              <p:nvPr/>
            </p:nvSpPr>
            <p:spPr>
              <a:xfrm>
                <a:off x="7047000" y="1223280"/>
                <a:ext cx="1623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Forward Observer   GE-48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2" name=""/>
              <p:cNvGrpSpPr/>
              <p:nvPr/>
            </p:nvGrpSpPr>
            <p:grpSpPr>
              <a:xfrm>
                <a:off x="6783480" y="1159920"/>
                <a:ext cx="231480" cy="205560"/>
                <a:chOff x="6783480" y="1159920"/>
                <a:chExt cx="231480" cy="205560"/>
              </a:xfrm>
            </p:grpSpPr>
            <p:sp>
              <p:nvSpPr>
                <p:cNvPr id="2623" name=""/>
                <p:cNvSpPr/>
                <p:nvPr/>
              </p:nvSpPr>
              <p:spPr>
                <a:xfrm>
                  <a:off x="6881400" y="11599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4" name=""/>
                <p:cNvGrpSpPr/>
                <p:nvPr/>
              </p:nvGrpSpPr>
              <p:grpSpPr>
                <a:xfrm>
                  <a:off x="6783480" y="1208880"/>
                  <a:ext cx="231480" cy="156600"/>
                  <a:chOff x="6783480" y="1208880"/>
                  <a:chExt cx="231480" cy="156600"/>
                </a:xfrm>
              </p:grpSpPr>
              <p:sp>
                <p:nvSpPr>
                  <p:cNvPr id="2625" name=""/>
                  <p:cNvSpPr/>
                  <p:nvPr/>
                </p:nvSpPr>
                <p:spPr>
                  <a:xfrm>
                    <a:off x="6783480" y="1208880"/>
                    <a:ext cx="231480" cy="156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>
                    <a:off x="6865920" y="1259280"/>
                    <a:ext cx="57240" cy="55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27" name=""/>
              <p:cNvSpPr/>
              <p:nvPr/>
            </p:nvSpPr>
            <p:spPr>
              <a:xfrm>
                <a:off x="7022880" y="1099800"/>
                <a:ext cx="152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64240" y="128988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9" name=""/>
            <p:cNvGrpSpPr/>
            <p:nvPr/>
          </p:nvGrpSpPr>
          <p:grpSpPr>
            <a:xfrm>
              <a:off x="6564240" y="1930320"/>
              <a:ext cx="2119320" cy="329760"/>
              <a:chOff x="6564240" y="1930320"/>
              <a:chExt cx="2119320" cy="329760"/>
            </a:xfrm>
          </p:grpSpPr>
          <p:sp>
            <p:nvSpPr>
              <p:cNvPr id="2630" name=""/>
              <p:cNvSpPr/>
              <p:nvPr/>
            </p:nvSpPr>
            <p:spPr>
              <a:xfrm>
                <a:off x="6564240" y="214056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1" name=""/>
              <p:cNvGrpSpPr/>
              <p:nvPr/>
            </p:nvGrpSpPr>
            <p:grpSpPr>
              <a:xfrm>
                <a:off x="6777000" y="1930320"/>
                <a:ext cx="1906560" cy="329760"/>
                <a:chOff x="6777000" y="1930320"/>
                <a:chExt cx="1906560" cy="32976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7067520" y="1930320"/>
                  <a:ext cx="1616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nd Light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3" name=""/>
                <p:cNvGrpSpPr/>
                <p:nvPr/>
              </p:nvGrpSpPr>
              <p:grpSpPr>
                <a:xfrm>
                  <a:off x="6777000" y="2006280"/>
                  <a:ext cx="275760" cy="227160"/>
                  <a:chOff x="6777000" y="2006280"/>
                  <a:chExt cx="275760" cy="227160"/>
                </a:xfrm>
              </p:grpSpPr>
              <p:grpSp>
                <p:nvGrpSpPr>
                  <p:cNvPr id="2634" name=""/>
                  <p:cNvGrpSpPr/>
                  <p:nvPr/>
                </p:nvGrpSpPr>
                <p:grpSpPr>
                  <a:xfrm>
                    <a:off x="6777000" y="2044080"/>
                    <a:ext cx="275760" cy="189360"/>
                    <a:chOff x="6777000" y="2044080"/>
                    <a:chExt cx="275760" cy="189360"/>
                  </a:xfrm>
                </p:grpSpPr>
                <p:sp>
                  <p:nvSpPr>
                    <p:cNvPr id="2635" name=""/>
                    <p:cNvSpPr/>
                    <p:nvPr/>
                  </p:nvSpPr>
                  <p:spPr>
                    <a:xfrm>
                      <a:off x="6777000" y="2044080"/>
                      <a:ext cx="275760" cy="18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6" name=""/>
                    <p:cNvSpPr/>
                    <p:nvPr/>
                  </p:nvSpPr>
                  <p:spPr>
                    <a:xfrm>
                      <a:off x="6895800" y="2116440"/>
                      <a:ext cx="3240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7" name=""/>
                  <p:cNvGrpSpPr/>
                  <p:nvPr/>
                </p:nvGrpSpPr>
                <p:grpSpPr>
                  <a:xfrm>
                    <a:off x="6882120" y="2006280"/>
                    <a:ext cx="69840" cy="27720"/>
                    <a:chOff x="6882120" y="2006280"/>
                    <a:chExt cx="69840" cy="27720"/>
                  </a:xfrm>
                </p:grpSpPr>
                <p:sp>
                  <p:nvSpPr>
                    <p:cNvPr id="2638" name=""/>
                    <p:cNvSpPr/>
                    <p:nvPr/>
                  </p:nvSpPr>
                  <p:spPr>
                    <a:xfrm>
                      <a:off x="6882120" y="2006280"/>
                      <a:ext cx="266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9" name=""/>
                    <p:cNvSpPr/>
                    <p:nvPr/>
                  </p:nvSpPr>
                  <p:spPr>
                    <a:xfrm>
                      <a:off x="6926760" y="2007720"/>
                      <a:ext cx="252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40" name=""/>
                <p:cNvSpPr/>
                <p:nvPr/>
              </p:nvSpPr>
              <p:spPr>
                <a:xfrm>
                  <a:off x="7076880" y="2044440"/>
                  <a:ext cx="1444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75mm Howitz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1" name=""/>
            <p:cNvSpPr/>
            <p:nvPr/>
          </p:nvSpPr>
          <p:spPr>
            <a:xfrm>
              <a:off x="6589800" y="262224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092720" y="2411280"/>
              <a:ext cx="1616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rd Light Artillery Batte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3" name=""/>
            <p:cNvGrpSpPr/>
            <p:nvPr/>
          </p:nvGrpSpPr>
          <p:grpSpPr>
            <a:xfrm>
              <a:off x="6802560" y="2487240"/>
              <a:ext cx="275760" cy="227520"/>
              <a:chOff x="6802560" y="2487240"/>
              <a:chExt cx="275760" cy="227520"/>
            </a:xfrm>
          </p:grpSpPr>
          <p:grpSp>
            <p:nvGrpSpPr>
              <p:cNvPr id="2644" name=""/>
              <p:cNvGrpSpPr/>
              <p:nvPr/>
            </p:nvGrpSpPr>
            <p:grpSpPr>
              <a:xfrm>
                <a:off x="6802560" y="2525040"/>
                <a:ext cx="275760" cy="189720"/>
                <a:chOff x="6802560" y="2525040"/>
                <a:chExt cx="275760" cy="189720"/>
              </a:xfrm>
            </p:grpSpPr>
            <p:sp>
              <p:nvSpPr>
                <p:cNvPr id="2645" name=""/>
                <p:cNvSpPr/>
                <p:nvPr/>
              </p:nvSpPr>
              <p:spPr>
                <a:xfrm>
                  <a:off x="6802560" y="2525040"/>
                  <a:ext cx="275760" cy="189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6921360" y="2597760"/>
                  <a:ext cx="32400" cy="3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7" name=""/>
              <p:cNvGrpSpPr/>
              <p:nvPr/>
            </p:nvGrpSpPr>
            <p:grpSpPr>
              <a:xfrm>
                <a:off x="6907680" y="2487240"/>
                <a:ext cx="69840" cy="27720"/>
                <a:chOff x="6907680" y="2487240"/>
                <a:chExt cx="69840" cy="27720"/>
              </a:xfrm>
            </p:grpSpPr>
            <p:sp>
              <p:nvSpPr>
                <p:cNvPr id="2648" name=""/>
                <p:cNvSpPr/>
                <p:nvPr/>
              </p:nvSpPr>
              <p:spPr>
                <a:xfrm>
                  <a:off x="6907680" y="2487240"/>
                  <a:ext cx="2664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6952320" y="2488680"/>
                  <a:ext cx="2520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0" name=""/>
            <p:cNvSpPr/>
            <p:nvPr/>
          </p:nvSpPr>
          <p:spPr>
            <a:xfrm>
              <a:off x="7102440" y="2525400"/>
              <a:ext cx="144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75mm Howitz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102440" y="223488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and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2" name=""/>
            <p:cNvGrpSpPr/>
            <p:nvPr/>
          </p:nvGrpSpPr>
          <p:grpSpPr>
            <a:xfrm>
              <a:off x="6561000" y="2646000"/>
              <a:ext cx="2313000" cy="521640"/>
              <a:chOff x="6561000" y="2646000"/>
              <a:chExt cx="2313000" cy="521640"/>
            </a:xfrm>
          </p:grpSpPr>
          <p:sp>
            <p:nvSpPr>
              <p:cNvPr id="2653" name=""/>
              <p:cNvSpPr/>
              <p:nvPr/>
            </p:nvSpPr>
            <p:spPr>
              <a:xfrm>
                <a:off x="7024680" y="2731680"/>
                <a:ext cx="184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General Fire Support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4" name=""/>
              <p:cNvGrpSpPr/>
              <p:nvPr/>
            </p:nvGrpSpPr>
            <p:grpSpPr>
              <a:xfrm>
                <a:off x="6783480" y="2914200"/>
                <a:ext cx="291600" cy="227520"/>
                <a:chOff x="6783480" y="2914200"/>
                <a:chExt cx="291600" cy="227520"/>
              </a:xfrm>
            </p:grpSpPr>
            <p:grpSp>
              <p:nvGrpSpPr>
                <p:cNvPr id="2655" name=""/>
                <p:cNvGrpSpPr/>
                <p:nvPr/>
              </p:nvGrpSpPr>
              <p:grpSpPr>
                <a:xfrm>
                  <a:off x="6783480" y="2952000"/>
                  <a:ext cx="291600" cy="189720"/>
                  <a:chOff x="6783480" y="2952000"/>
                  <a:chExt cx="291600" cy="189720"/>
                </a:xfrm>
              </p:grpSpPr>
              <p:sp>
                <p:nvSpPr>
                  <p:cNvPr id="2656" name=""/>
                  <p:cNvSpPr/>
                  <p:nvPr/>
                </p:nvSpPr>
                <p:spPr>
                  <a:xfrm>
                    <a:off x="6783480" y="2952000"/>
                    <a:ext cx="291600" cy="189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>
                    <a:off x="6909120" y="302472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8" name=""/>
                <p:cNvGrpSpPr/>
                <p:nvPr/>
              </p:nvGrpSpPr>
              <p:grpSpPr>
                <a:xfrm>
                  <a:off x="6894720" y="2914200"/>
                  <a:ext cx="74520" cy="27720"/>
                  <a:chOff x="6894720" y="2914200"/>
                  <a:chExt cx="74520" cy="27720"/>
                </a:xfrm>
              </p:grpSpPr>
              <p:sp>
                <p:nvSpPr>
                  <p:cNvPr id="2659" name=""/>
                  <p:cNvSpPr/>
                  <p:nvPr/>
                </p:nvSpPr>
                <p:spPr>
                  <a:xfrm>
                    <a:off x="6894720" y="291420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>
                    <a:off x="6942240" y="291564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61" name=""/>
              <p:cNvSpPr/>
              <p:nvPr/>
            </p:nvSpPr>
            <p:spPr>
              <a:xfrm>
                <a:off x="7091280" y="2952000"/>
                <a:ext cx="1523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50mm Howitz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6578640" y="303804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561000" y="2646000"/>
                <a:ext cx="0" cy="39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091280" y="282816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eavy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5" name=""/>
          <p:cNvGrpSpPr/>
          <p:nvPr/>
        </p:nvGrpSpPr>
        <p:grpSpPr>
          <a:xfrm>
            <a:off x="4492800" y="3828960"/>
            <a:ext cx="2462760" cy="1331280"/>
            <a:chOff x="4492800" y="3828960"/>
            <a:chExt cx="2462760" cy="1331280"/>
          </a:xfrm>
        </p:grpSpPr>
        <p:grpSp>
          <p:nvGrpSpPr>
            <p:cNvPr id="2666" name=""/>
            <p:cNvGrpSpPr/>
            <p:nvPr/>
          </p:nvGrpSpPr>
          <p:grpSpPr>
            <a:xfrm>
              <a:off x="4492800" y="3828960"/>
              <a:ext cx="2285280" cy="921600"/>
              <a:chOff x="4492800" y="3828960"/>
              <a:chExt cx="2285280" cy="921600"/>
            </a:xfrm>
          </p:grpSpPr>
          <p:grpSp>
            <p:nvGrpSpPr>
              <p:cNvPr id="2667" name=""/>
              <p:cNvGrpSpPr/>
              <p:nvPr/>
            </p:nvGrpSpPr>
            <p:grpSpPr>
              <a:xfrm>
                <a:off x="4860720" y="4032000"/>
                <a:ext cx="231480" cy="205560"/>
                <a:chOff x="4860720" y="4032000"/>
                <a:chExt cx="231480" cy="205560"/>
              </a:xfrm>
            </p:grpSpPr>
            <p:sp>
              <p:nvSpPr>
                <p:cNvPr id="2668" name=""/>
                <p:cNvSpPr/>
                <p:nvPr/>
              </p:nvSpPr>
              <p:spPr>
                <a:xfrm>
                  <a:off x="4958640" y="403200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9" name=""/>
                <p:cNvGrpSpPr/>
                <p:nvPr/>
              </p:nvGrpSpPr>
              <p:grpSpPr>
                <a:xfrm>
                  <a:off x="4860720" y="4080960"/>
                  <a:ext cx="231480" cy="156600"/>
                  <a:chOff x="4860720" y="4080960"/>
                  <a:chExt cx="231480" cy="156600"/>
                </a:xfrm>
              </p:grpSpPr>
              <p:sp>
                <p:nvSpPr>
                  <p:cNvPr id="2670" name=""/>
                  <p:cNvSpPr/>
                  <p:nvPr/>
                </p:nvSpPr>
                <p:spPr>
                  <a:xfrm>
                    <a:off x="4860720" y="4080960"/>
                    <a:ext cx="231480" cy="156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>
                    <a:off x="4943160" y="4131360"/>
                    <a:ext cx="57240" cy="55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72" name=""/>
              <p:cNvSpPr/>
              <p:nvPr/>
            </p:nvSpPr>
            <p:spPr>
              <a:xfrm>
                <a:off x="5100480" y="3971520"/>
                <a:ext cx="1523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5111640" y="4269960"/>
                <a:ext cx="1599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Direct Fire Support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4" name=""/>
              <p:cNvGrpSpPr/>
              <p:nvPr/>
            </p:nvGrpSpPr>
            <p:grpSpPr>
              <a:xfrm>
                <a:off x="4862160" y="4385880"/>
                <a:ext cx="1915920" cy="364680"/>
                <a:chOff x="4862160" y="4385880"/>
                <a:chExt cx="1915920" cy="364680"/>
              </a:xfrm>
            </p:grpSpPr>
            <p:sp>
              <p:nvSpPr>
                <p:cNvPr id="2675" name=""/>
                <p:cNvSpPr/>
                <p:nvPr/>
              </p:nvSpPr>
              <p:spPr>
                <a:xfrm>
                  <a:off x="5162040" y="4385880"/>
                  <a:ext cx="1616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st Light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6" name=""/>
                <p:cNvGrpSpPr/>
                <p:nvPr/>
              </p:nvGrpSpPr>
              <p:grpSpPr>
                <a:xfrm>
                  <a:off x="4862160" y="4496760"/>
                  <a:ext cx="291600" cy="227520"/>
                  <a:chOff x="4862160" y="4496760"/>
                  <a:chExt cx="291600" cy="227520"/>
                </a:xfrm>
              </p:grpSpPr>
              <p:grpSp>
                <p:nvGrpSpPr>
                  <p:cNvPr id="2677" name=""/>
                  <p:cNvGrpSpPr/>
                  <p:nvPr/>
                </p:nvGrpSpPr>
                <p:grpSpPr>
                  <a:xfrm>
                    <a:off x="4862160" y="4534560"/>
                    <a:ext cx="291600" cy="189720"/>
                    <a:chOff x="4862160" y="4534560"/>
                    <a:chExt cx="291600" cy="189720"/>
                  </a:xfrm>
                </p:grpSpPr>
                <p:sp>
                  <p:nvSpPr>
                    <p:cNvPr id="2678" name=""/>
                    <p:cNvSpPr/>
                    <p:nvPr/>
                  </p:nvSpPr>
                  <p:spPr>
                    <a:xfrm>
                      <a:off x="4862160" y="4534560"/>
                      <a:ext cx="291600" cy="189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9" name=""/>
                    <p:cNvSpPr/>
                    <p:nvPr/>
                  </p:nvSpPr>
                  <p:spPr>
                    <a:xfrm>
                      <a:off x="4987800" y="460728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80" name=""/>
                  <p:cNvGrpSpPr/>
                  <p:nvPr/>
                </p:nvGrpSpPr>
                <p:grpSpPr>
                  <a:xfrm>
                    <a:off x="4973400" y="4496760"/>
                    <a:ext cx="74520" cy="27720"/>
                    <a:chOff x="4973400" y="4496760"/>
                    <a:chExt cx="74520" cy="27720"/>
                  </a:xfrm>
                </p:grpSpPr>
                <p:sp>
                  <p:nvSpPr>
                    <p:cNvPr id="2681" name=""/>
                    <p:cNvSpPr/>
                    <p:nvPr/>
                  </p:nvSpPr>
                  <p:spPr>
                    <a:xfrm>
                      <a:off x="4973400" y="449676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2" name=""/>
                    <p:cNvSpPr/>
                    <p:nvPr/>
                  </p:nvSpPr>
                  <p:spPr>
                    <a:xfrm>
                      <a:off x="5020920" y="449820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83" name=""/>
                <p:cNvSpPr/>
                <p:nvPr/>
              </p:nvSpPr>
              <p:spPr>
                <a:xfrm>
                  <a:off x="5162040" y="4534920"/>
                  <a:ext cx="1524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105mm Howitz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4492800" y="3828960"/>
                <a:ext cx="291240" cy="248040"/>
                <a:chOff x="4492800" y="3828960"/>
                <a:chExt cx="291240" cy="24804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4638600" y="382896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6" name=""/>
                <p:cNvGrpSpPr/>
                <p:nvPr/>
              </p:nvGrpSpPr>
              <p:grpSpPr>
                <a:xfrm>
                  <a:off x="4492800" y="3887280"/>
                  <a:ext cx="291240" cy="189720"/>
                  <a:chOff x="4492800" y="3887280"/>
                  <a:chExt cx="291240" cy="189720"/>
                </a:xfrm>
              </p:grpSpPr>
              <p:sp>
                <p:nvSpPr>
                  <p:cNvPr id="2687" name=""/>
                  <p:cNvSpPr/>
                  <p:nvPr/>
                </p:nvSpPr>
                <p:spPr>
                  <a:xfrm>
                    <a:off x="4492800" y="3887280"/>
                    <a:ext cx="291240" cy="189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8" name=""/>
                  <p:cNvSpPr/>
                  <p:nvPr/>
                </p:nvSpPr>
                <p:spPr>
                  <a:xfrm>
                    <a:off x="4618080" y="396000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89" name=""/>
              <p:cNvSpPr/>
              <p:nvPr/>
            </p:nvSpPr>
            <p:spPr>
              <a:xfrm>
                <a:off x="4638600" y="4068360"/>
                <a:ext cx="0" cy="55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4649400" y="4622400"/>
                <a:ext cx="22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4649400" y="4185720"/>
                <a:ext cx="22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2" name=""/>
            <p:cNvGrpSpPr/>
            <p:nvPr/>
          </p:nvGrpSpPr>
          <p:grpSpPr>
            <a:xfrm>
              <a:off x="4643280" y="4638600"/>
              <a:ext cx="2312280" cy="521640"/>
              <a:chOff x="4643280" y="4638600"/>
              <a:chExt cx="2312280" cy="521640"/>
            </a:xfrm>
          </p:grpSpPr>
          <p:sp>
            <p:nvSpPr>
              <p:cNvPr id="2693" name=""/>
              <p:cNvSpPr/>
              <p:nvPr/>
            </p:nvSpPr>
            <p:spPr>
              <a:xfrm>
                <a:off x="5106600" y="4724280"/>
                <a:ext cx="184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General Fire Support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4" name=""/>
              <p:cNvGrpSpPr/>
              <p:nvPr/>
            </p:nvGrpSpPr>
            <p:grpSpPr>
              <a:xfrm>
                <a:off x="4865400" y="4906800"/>
                <a:ext cx="291240" cy="227520"/>
                <a:chOff x="4865400" y="4906800"/>
                <a:chExt cx="291240" cy="227520"/>
              </a:xfrm>
            </p:grpSpPr>
            <p:grpSp>
              <p:nvGrpSpPr>
                <p:cNvPr id="2695" name=""/>
                <p:cNvGrpSpPr/>
                <p:nvPr/>
              </p:nvGrpSpPr>
              <p:grpSpPr>
                <a:xfrm>
                  <a:off x="4865400" y="4944600"/>
                  <a:ext cx="291240" cy="189720"/>
                  <a:chOff x="4865400" y="4944600"/>
                  <a:chExt cx="291240" cy="189720"/>
                </a:xfrm>
              </p:grpSpPr>
              <p:sp>
                <p:nvSpPr>
                  <p:cNvPr id="2696" name=""/>
                  <p:cNvSpPr/>
                  <p:nvPr/>
                </p:nvSpPr>
                <p:spPr>
                  <a:xfrm>
                    <a:off x="4865400" y="4944600"/>
                    <a:ext cx="291240" cy="189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>
                    <a:off x="4990680" y="501732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8" name=""/>
                <p:cNvGrpSpPr/>
                <p:nvPr/>
              </p:nvGrpSpPr>
              <p:grpSpPr>
                <a:xfrm>
                  <a:off x="4976280" y="4906800"/>
                  <a:ext cx="73800" cy="27720"/>
                  <a:chOff x="4976280" y="4906800"/>
                  <a:chExt cx="73800" cy="27720"/>
                </a:xfrm>
              </p:grpSpPr>
              <p:sp>
                <p:nvSpPr>
                  <p:cNvPr id="2699" name=""/>
                  <p:cNvSpPr/>
                  <p:nvPr/>
                </p:nvSpPr>
                <p:spPr>
                  <a:xfrm>
                    <a:off x="4976280" y="4906800"/>
                    <a:ext cx="2808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0" name=""/>
                  <p:cNvSpPr/>
                  <p:nvPr/>
                </p:nvSpPr>
                <p:spPr>
                  <a:xfrm>
                    <a:off x="5023440" y="4908240"/>
                    <a:ext cx="266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01" name=""/>
              <p:cNvSpPr/>
              <p:nvPr/>
            </p:nvSpPr>
            <p:spPr>
              <a:xfrm>
                <a:off x="5173200" y="4944600"/>
                <a:ext cx="1523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50mm Howitz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660560" y="5030640"/>
                <a:ext cx="22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4643280" y="4638600"/>
                <a:ext cx="0" cy="39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5173200" y="4820760"/>
                <a:ext cx="161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eavy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5" name=""/>
          <p:cNvGrpSpPr/>
          <p:nvPr/>
        </p:nvGrpSpPr>
        <p:grpSpPr>
          <a:xfrm>
            <a:off x="6589800" y="3502080"/>
            <a:ext cx="2463840" cy="1331280"/>
            <a:chOff x="6589800" y="3502080"/>
            <a:chExt cx="2463840" cy="1331280"/>
          </a:xfrm>
        </p:grpSpPr>
        <p:grpSp>
          <p:nvGrpSpPr>
            <p:cNvPr id="2706" name=""/>
            <p:cNvGrpSpPr/>
            <p:nvPr/>
          </p:nvGrpSpPr>
          <p:grpSpPr>
            <a:xfrm>
              <a:off x="6589800" y="3502080"/>
              <a:ext cx="2285640" cy="921600"/>
              <a:chOff x="6589800" y="3502080"/>
              <a:chExt cx="2285640" cy="921600"/>
            </a:xfrm>
          </p:grpSpPr>
          <p:grpSp>
            <p:nvGrpSpPr>
              <p:cNvPr id="2707" name=""/>
              <p:cNvGrpSpPr/>
              <p:nvPr/>
            </p:nvGrpSpPr>
            <p:grpSpPr>
              <a:xfrm>
                <a:off x="6958080" y="3705120"/>
                <a:ext cx="231480" cy="205560"/>
                <a:chOff x="6958080" y="3705120"/>
                <a:chExt cx="231480" cy="205560"/>
              </a:xfrm>
            </p:grpSpPr>
            <p:sp>
              <p:nvSpPr>
                <p:cNvPr id="2708" name=""/>
                <p:cNvSpPr/>
                <p:nvPr/>
              </p:nvSpPr>
              <p:spPr>
                <a:xfrm>
                  <a:off x="7056360" y="37051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9" name=""/>
                <p:cNvGrpSpPr/>
                <p:nvPr/>
              </p:nvGrpSpPr>
              <p:grpSpPr>
                <a:xfrm>
                  <a:off x="6958080" y="3754080"/>
                  <a:ext cx="231480" cy="156600"/>
                  <a:chOff x="6958080" y="3754080"/>
                  <a:chExt cx="231480" cy="156600"/>
                </a:xfrm>
              </p:grpSpPr>
              <p:sp>
                <p:nvSpPr>
                  <p:cNvPr id="2710" name=""/>
                  <p:cNvSpPr/>
                  <p:nvPr/>
                </p:nvSpPr>
                <p:spPr>
                  <a:xfrm>
                    <a:off x="6958080" y="3754080"/>
                    <a:ext cx="231480" cy="156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1" name=""/>
                  <p:cNvSpPr/>
                  <p:nvPr/>
                </p:nvSpPr>
                <p:spPr>
                  <a:xfrm>
                    <a:off x="7040520" y="3804480"/>
                    <a:ext cx="57240" cy="55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12" name=""/>
              <p:cNvSpPr/>
              <p:nvPr/>
            </p:nvSpPr>
            <p:spPr>
              <a:xfrm>
                <a:off x="7197840" y="3644640"/>
                <a:ext cx="1523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209000" y="3943080"/>
                <a:ext cx="1600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Direct Fire Support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4" name=""/>
              <p:cNvGrpSpPr/>
              <p:nvPr/>
            </p:nvGrpSpPr>
            <p:grpSpPr>
              <a:xfrm>
                <a:off x="6959520" y="4059000"/>
                <a:ext cx="1915920" cy="364680"/>
                <a:chOff x="6959520" y="4059000"/>
                <a:chExt cx="1915920" cy="364680"/>
              </a:xfrm>
            </p:grpSpPr>
            <p:sp>
              <p:nvSpPr>
                <p:cNvPr id="2715" name=""/>
                <p:cNvSpPr/>
                <p:nvPr/>
              </p:nvSpPr>
              <p:spPr>
                <a:xfrm>
                  <a:off x="7259400" y="4059000"/>
                  <a:ext cx="1616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st Light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6" name=""/>
                <p:cNvGrpSpPr/>
                <p:nvPr/>
              </p:nvGrpSpPr>
              <p:grpSpPr>
                <a:xfrm>
                  <a:off x="6959520" y="4169880"/>
                  <a:ext cx="291600" cy="227520"/>
                  <a:chOff x="6959520" y="4169880"/>
                  <a:chExt cx="291600" cy="227520"/>
                </a:xfrm>
              </p:grpSpPr>
              <p:grpSp>
                <p:nvGrpSpPr>
                  <p:cNvPr id="2717" name=""/>
                  <p:cNvGrpSpPr/>
                  <p:nvPr/>
                </p:nvGrpSpPr>
                <p:grpSpPr>
                  <a:xfrm>
                    <a:off x="6959520" y="4207680"/>
                    <a:ext cx="291600" cy="189720"/>
                    <a:chOff x="6959520" y="4207680"/>
                    <a:chExt cx="291600" cy="189720"/>
                  </a:xfrm>
                </p:grpSpPr>
                <p:sp>
                  <p:nvSpPr>
                    <p:cNvPr id="2718" name=""/>
                    <p:cNvSpPr/>
                    <p:nvPr/>
                  </p:nvSpPr>
                  <p:spPr>
                    <a:xfrm>
                      <a:off x="6959520" y="4207680"/>
                      <a:ext cx="291600" cy="189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9" name=""/>
                    <p:cNvSpPr/>
                    <p:nvPr/>
                  </p:nvSpPr>
                  <p:spPr>
                    <a:xfrm>
                      <a:off x="7085160" y="4280400"/>
                      <a:ext cx="3456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0" name=""/>
                  <p:cNvGrpSpPr/>
                  <p:nvPr/>
                </p:nvGrpSpPr>
                <p:grpSpPr>
                  <a:xfrm>
                    <a:off x="7070760" y="4169880"/>
                    <a:ext cx="74520" cy="27720"/>
                    <a:chOff x="7070760" y="4169880"/>
                    <a:chExt cx="74520" cy="27720"/>
                  </a:xfrm>
                </p:grpSpPr>
                <p:sp>
                  <p:nvSpPr>
                    <p:cNvPr id="2721" name=""/>
                    <p:cNvSpPr/>
                    <p:nvPr/>
                  </p:nvSpPr>
                  <p:spPr>
                    <a:xfrm>
                      <a:off x="7070760" y="416988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2" name=""/>
                    <p:cNvSpPr/>
                    <p:nvPr/>
                  </p:nvSpPr>
                  <p:spPr>
                    <a:xfrm>
                      <a:off x="7118280" y="417132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23" name=""/>
                <p:cNvSpPr/>
                <p:nvPr/>
              </p:nvSpPr>
              <p:spPr>
                <a:xfrm>
                  <a:off x="7259400" y="4208040"/>
                  <a:ext cx="1524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75mm Howitz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6589800" y="3502080"/>
                <a:ext cx="291600" cy="248040"/>
                <a:chOff x="6589800" y="3502080"/>
                <a:chExt cx="291600" cy="24804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6735600" y="350208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6" name=""/>
                <p:cNvGrpSpPr/>
                <p:nvPr/>
              </p:nvGrpSpPr>
              <p:grpSpPr>
                <a:xfrm>
                  <a:off x="6589800" y="3560400"/>
                  <a:ext cx="291600" cy="189720"/>
                  <a:chOff x="6589800" y="3560400"/>
                  <a:chExt cx="291600" cy="189720"/>
                </a:xfrm>
              </p:grpSpPr>
              <p:sp>
                <p:nvSpPr>
                  <p:cNvPr id="2727" name=""/>
                  <p:cNvSpPr/>
                  <p:nvPr/>
                </p:nvSpPr>
                <p:spPr>
                  <a:xfrm>
                    <a:off x="6589800" y="3560400"/>
                    <a:ext cx="291600" cy="189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8" name=""/>
                  <p:cNvSpPr/>
                  <p:nvPr/>
                </p:nvSpPr>
                <p:spPr>
                  <a:xfrm>
                    <a:off x="6715440" y="363312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29" name=""/>
              <p:cNvSpPr/>
              <p:nvPr/>
            </p:nvSpPr>
            <p:spPr>
              <a:xfrm>
                <a:off x="6735960" y="3741480"/>
                <a:ext cx="0" cy="55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746760" y="429552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746760" y="385884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2" name=""/>
            <p:cNvGrpSpPr/>
            <p:nvPr/>
          </p:nvGrpSpPr>
          <p:grpSpPr>
            <a:xfrm>
              <a:off x="6740640" y="4311720"/>
              <a:ext cx="2313000" cy="521640"/>
              <a:chOff x="6740640" y="4311720"/>
              <a:chExt cx="2313000" cy="521640"/>
            </a:xfrm>
          </p:grpSpPr>
          <p:sp>
            <p:nvSpPr>
              <p:cNvPr id="2733" name=""/>
              <p:cNvSpPr/>
              <p:nvPr/>
            </p:nvSpPr>
            <p:spPr>
              <a:xfrm>
                <a:off x="7204320" y="4397400"/>
                <a:ext cx="184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General Fire Support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4" name=""/>
              <p:cNvGrpSpPr/>
              <p:nvPr/>
            </p:nvGrpSpPr>
            <p:grpSpPr>
              <a:xfrm>
                <a:off x="6963120" y="4579920"/>
                <a:ext cx="291600" cy="227520"/>
                <a:chOff x="6963120" y="4579920"/>
                <a:chExt cx="291600" cy="227520"/>
              </a:xfrm>
            </p:grpSpPr>
            <p:grpSp>
              <p:nvGrpSpPr>
                <p:cNvPr id="2735" name=""/>
                <p:cNvGrpSpPr/>
                <p:nvPr/>
              </p:nvGrpSpPr>
              <p:grpSpPr>
                <a:xfrm>
                  <a:off x="6963120" y="4617720"/>
                  <a:ext cx="291600" cy="189720"/>
                  <a:chOff x="6963120" y="4617720"/>
                  <a:chExt cx="291600" cy="189720"/>
                </a:xfrm>
              </p:grpSpPr>
              <p:sp>
                <p:nvSpPr>
                  <p:cNvPr id="2736" name=""/>
                  <p:cNvSpPr/>
                  <p:nvPr/>
                </p:nvSpPr>
                <p:spPr>
                  <a:xfrm>
                    <a:off x="6963120" y="4617720"/>
                    <a:ext cx="291600" cy="189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>
                    <a:off x="7088760" y="469044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8" name=""/>
                <p:cNvGrpSpPr/>
                <p:nvPr/>
              </p:nvGrpSpPr>
              <p:grpSpPr>
                <a:xfrm>
                  <a:off x="7074360" y="4579920"/>
                  <a:ext cx="74520" cy="27720"/>
                  <a:chOff x="7074360" y="4579920"/>
                  <a:chExt cx="74520" cy="27720"/>
                </a:xfrm>
              </p:grpSpPr>
              <p:sp>
                <p:nvSpPr>
                  <p:cNvPr id="2739" name=""/>
                  <p:cNvSpPr/>
                  <p:nvPr/>
                </p:nvSpPr>
                <p:spPr>
                  <a:xfrm>
                    <a:off x="7074360" y="457992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>
                    <a:off x="7121880" y="458136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41" name=""/>
              <p:cNvSpPr/>
              <p:nvPr/>
            </p:nvSpPr>
            <p:spPr>
              <a:xfrm>
                <a:off x="7270920" y="4617720"/>
                <a:ext cx="1523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50mm Howitz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758280" y="470376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740640" y="4311720"/>
                <a:ext cx="0" cy="39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270920" y="449388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eavy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45" name=""/>
          <p:cNvSpPr/>
          <p:nvPr/>
        </p:nvSpPr>
        <p:spPr>
          <a:xfrm>
            <a:off x="4492800" y="3594960"/>
            <a:ext cx="205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Light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6750000" y="3309480"/>
            <a:ext cx="20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Light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1401480" y="0"/>
            <a:ext cx="522756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BG-01-&gt;BG-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8" name=""/>
          <p:cNvGrpSpPr/>
          <p:nvPr/>
        </p:nvGrpSpPr>
        <p:grpSpPr>
          <a:xfrm>
            <a:off x="3243240" y="4997520"/>
            <a:ext cx="2867040" cy="300240"/>
            <a:chOff x="3243240" y="4997520"/>
            <a:chExt cx="2867040" cy="300240"/>
          </a:xfrm>
        </p:grpSpPr>
        <p:grpSp>
          <p:nvGrpSpPr>
            <p:cNvPr id="2749" name=""/>
            <p:cNvGrpSpPr/>
            <p:nvPr/>
          </p:nvGrpSpPr>
          <p:grpSpPr>
            <a:xfrm>
              <a:off x="3243240" y="4997520"/>
              <a:ext cx="479160" cy="259920"/>
              <a:chOff x="3243240" y="4997520"/>
              <a:chExt cx="479160" cy="259920"/>
            </a:xfrm>
          </p:grpSpPr>
          <p:grpSp>
            <p:nvGrpSpPr>
              <p:cNvPr id="2750" name=""/>
              <p:cNvGrpSpPr/>
              <p:nvPr/>
            </p:nvGrpSpPr>
            <p:grpSpPr>
              <a:xfrm>
                <a:off x="3438360" y="4997520"/>
                <a:ext cx="284040" cy="259920"/>
                <a:chOff x="3438360" y="4997520"/>
                <a:chExt cx="284040" cy="259920"/>
              </a:xfrm>
            </p:grpSpPr>
            <p:grpSp>
              <p:nvGrpSpPr>
                <p:cNvPr id="2751" name=""/>
                <p:cNvGrpSpPr/>
                <p:nvPr/>
              </p:nvGrpSpPr>
              <p:grpSpPr>
                <a:xfrm>
                  <a:off x="3438360" y="5064120"/>
                  <a:ext cx="284040" cy="193320"/>
                  <a:chOff x="3438360" y="5064120"/>
                  <a:chExt cx="284040" cy="193320"/>
                </a:xfrm>
              </p:grpSpPr>
              <p:sp>
                <p:nvSpPr>
                  <p:cNvPr id="2752" name=""/>
                  <p:cNvSpPr/>
                  <p:nvPr/>
                </p:nvSpPr>
                <p:spPr>
                  <a:xfrm>
                    <a:off x="3438360" y="5064120"/>
                    <a:ext cx="284040" cy="193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53" name=""/>
                  <p:cNvGrpSpPr/>
                  <p:nvPr/>
                </p:nvGrpSpPr>
                <p:grpSpPr>
                  <a:xfrm>
                    <a:off x="3545640" y="5134320"/>
                    <a:ext cx="67320" cy="32760"/>
                    <a:chOff x="3545640" y="5134320"/>
                    <a:chExt cx="67320" cy="32760"/>
                  </a:xfrm>
                </p:grpSpPr>
                <p:sp>
                  <p:nvSpPr>
                    <p:cNvPr id="2754" name=""/>
                    <p:cNvSpPr/>
                    <p:nvPr/>
                  </p:nvSpPr>
                  <p:spPr>
                    <a:xfrm>
                      <a:off x="3545640" y="5134320"/>
                      <a:ext cx="0" cy="32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5" name=""/>
                    <p:cNvSpPr/>
                    <p:nvPr/>
                  </p:nvSpPr>
                  <p:spPr>
                    <a:xfrm>
                      <a:off x="3580200" y="5134320"/>
                      <a:ext cx="0" cy="32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6" name=""/>
                    <p:cNvSpPr/>
                    <p:nvPr/>
                  </p:nvSpPr>
                  <p:spPr>
                    <a:xfrm>
                      <a:off x="3612960" y="5134320"/>
                      <a:ext cx="0" cy="32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7" name=""/>
                    <p:cNvSpPr/>
                    <p:nvPr/>
                  </p:nvSpPr>
                  <p:spPr>
                    <a:xfrm>
                      <a:off x="3545640" y="5134320"/>
                      <a:ext cx="6732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58" name=""/>
                <p:cNvSpPr/>
                <p:nvPr/>
              </p:nvSpPr>
              <p:spPr>
                <a:xfrm>
                  <a:off x="3579840" y="49975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9" name=""/>
              <p:cNvSpPr/>
              <p:nvPr/>
            </p:nvSpPr>
            <p:spPr>
              <a:xfrm>
                <a:off x="3243240" y="5167080"/>
                <a:ext cx="20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0" name=""/>
            <p:cNvSpPr/>
            <p:nvPr/>
          </p:nvSpPr>
          <p:spPr>
            <a:xfrm>
              <a:off x="3722760" y="5070240"/>
              <a:ext cx="238752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Panzer Engineer Company (Mtz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3251160" y="5297400"/>
            <a:ext cx="2867040" cy="272160"/>
            <a:chOff x="3251160" y="5297400"/>
            <a:chExt cx="2867040" cy="272160"/>
          </a:xfrm>
        </p:grpSpPr>
        <p:grpSp>
          <p:nvGrpSpPr>
            <p:cNvPr id="2762" name=""/>
            <p:cNvGrpSpPr/>
            <p:nvPr/>
          </p:nvGrpSpPr>
          <p:grpSpPr>
            <a:xfrm>
              <a:off x="3251160" y="5297400"/>
              <a:ext cx="527040" cy="258120"/>
              <a:chOff x="3251160" y="5297400"/>
              <a:chExt cx="527040" cy="258120"/>
            </a:xfrm>
          </p:grpSpPr>
          <p:grpSp>
            <p:nvGrpSpPr>
              <p:cNvPr id="2763" name=""/>
              <p:cNvGrpSpPr/>
              <p:nvPr/>
            </p:nvGrpSpPr>
            <p:grpSpPr>
              <a:xfrm>
                <a:off x="3435480" y="5297400"/>
                <a:ext cx="342720" cy="258120"/>
                <a:chOff x="3435480" y="5297400"/>
                <a:chExt cx="342720" cy="258120"/>
              </a:xfrm>
            </p:grpSpPr>
            <p:grpSp>
              <p:nvGrpSpPr>
                <p:cNvPr id="2764" name=""/>
                <p:cNvGrpSpPr/>
                <p:nvPr/>
              </p:nvGrpSpPr>
              <p:grpSpPr>
                <a:xfrm>
                  <a:off x="3435480" y="5365440"/>
                  <a:ext cx="291600" cy="190080"/>
                  <a:chOff x="3435480" y="5365440"/>
                  <a:chExt cx="291600" cy="190080"/>
                </a:xfrm>
              </p:grpSpPr>
              <p:sp>
                <p:nvSpPr>
                  <p:cNvPr id="2765" name=""/>
                  <p:cNvSpPr/>
                  <p:nvPr/>
                </p:nvSpPr>
                <p:spPr>
                  <a:xfrm>
                    <a:off x="3435480" y="5365440"/>
                    <a:ext cx="29160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6" name=""/>
                  <p:cNvSpPr/>
                  <p:nvPr/>
                </p:nvSpPr>
                <p:spPr>
                  <a:xfrm>
                    <a:off x="3561120" y="543816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7" name=""/>
                <p:cNvGrpSpPr/>
                <p:nvPr/>
              </p:nvGrpSpPr>
              <p:grpSpPr>
                <a:xfrm>
                  <a:off x="3484800" y="5308200"/>
                  <a:ext cx="75960" cy="63360"/>
                  <a:chOff x="3484800" y="5308200"/>
                  <a:chExt cx="75960" cy="63360"/>
                </a:xfrm>
              </p:grpSpPr>
              <p:sp>
                <p:nvSpPr>
                  <p:cNvPr id="2768" name=""/>
                  <p:cNvSpPr/>
                  <p:nvPr/>
                </p:nvSpPr>
                <p:spPr>
                  <a:xfrm>
                    <a:off x="3484800" y="53082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9" name=""/>
                  <p:cNvSpPr/>
                  <p:nvPr/>
                </p:nvSpPr>
                <p:spPr>
                  <a:xfrm>
                    <a:off x="3560760" y="53082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70" name=""/>
                <p:cNvSpPr/>
                <p:nvPr/>
              </p:nvSpPr>
              <p:spPr>
                <a:xfrm>
                  <a:off x="3560760" y="5297400"/>
                  <a:ext cx="217440" cy="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(+)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1" name=""/>
              <p:cNvSpPr/>
              <p:nvPr/>
            </p:nvSpPr>
            <p:spPr>
              <a:xfrm>
                <a:off x="3251160" y="5454360"/>
                <a:ext cx="20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2" name=""/>
            <p:cNvSpPr/>
            <p:nvPr/>
          </p:nvSpPr>
          <p:spPr>
            <a:xfrm>
              <a:off x="3730680" y="5353920"/>
              <a:ext cx="238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Light Artillery Battalion (Towed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FS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3" name=""/>
          <p:cNvSpPr/>
          <p:nvPr/>
        </p:nvSpPr>
        <p:spPr>
          <a:xfrm>
            <a:off x="1125360" y="749160"/>
            <a:ext cx="181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Battle Group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zer Reg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 per 1943-45 Panz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1125360" y="149400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5" name=""/>
          <p:cNvGrpSpPr/>
          <p:nvPr/>
        </p:nvGrpSpPr>
        <p:grpSpPr>
          <a:xfrm>
            <a:off x="446040" y="3878280"/>
            <a:ext cx="2444400" cy="1215720"/>
            <a:chOff x="446040" y="3878280"/>
            <a:chExt cx="2444400" cy="1215720"/>
          </a:xfrm>
        </p:grpSpPr>
        <p:grpSp>
          <p:nvGrpSpPr>
            <p:cNvPr id="2776" name=""/>
            <p:cNvGrpSpPr/>
            <p:nvPr/>
          </p:nvGrpSpPr>
          <p:grpSpPr>
            <a:xfrm>
              <a:off x="446040" y="4114800"/>
              <a:ext cx="2163960" cy="456480"/>
              <a:chOff x="446040" y="4114800"/>
              <a:chExt cx="2163960" cy="456480"/>
            </a:xfrm>
          </p:grpSpPr>
          <p:grpSp>
            <p:nvGrpSpPr>
              <p:cNvPr id="2777" name=""/>
              <p:cNvGrpSpPr/>
              <p:nvPr/>
            </p:nvGrpSpPr>
            <p:grpSpPr>
              <a:xfrm>
                <a:off x="671400" y="4114800"/>
                <a:ext cx="347040" cy="299160"/>
                <a:chOff x="671400" y="4114800"/>
                <a:chExt cx="347040" cy="299160"/>
              </a:xfrm>
            </p:grpSpPr>
            <p:grpSp>
              <p:nvGrpSpPr>
                <p:cNvPr id="2778" name=""/>
                <p:cNvGrpSpPr/>
                <p:nvPr/>
              </p:nvGrpSpPr>
              <p:grpSpPr>
                <a:xfrm>
                  <a:off x="671400" y="4178160"/>
                  <a:ext cx="347040" cy="235800"/>
                  <a:chOff x="671400" y="4178160"/>
                  <a:chExt cx="347040" cy="235800"/>
                </a:xfrm>
              </p:grpSpPr>
              <p:sp>
                <p:nvSpPr>
                  <p:cNvPr id="2779" name=""/>
                  <p:cNvSpPr/>
                  <p:nvPr/>
                </p:nvSpPr>
                <p:spPr>
                  <a:xfrm>
                    <a:off x="671400" y="4178160"/>
                    <a:ext cx="347040" cy="2358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0" name=""/>
                  <p:cNvSpPr/>
                  <p:nvPr/>
                </p:nvSpPr>
                <p:spPr>
                  <a:xfrm>
                    <a:off x="735120" y="4237200"/>
                    <a:ext cx="222840" cy="112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1" name=""/>
                <p:cNvGrpSpPr/>
                <p:nvPr/>
              </p:nvGrpSpPr>
              <p:grpSpPr>
                <a:xfrm>
                  <a:off x="807840" y="4114800"/>
                  <a:ext cx="76320" cy="63360"/>
                  <a:chOff x="807840" y="4114800"/>
                  <a:chExt cx="76320" cy="63360"/>
                </a:xfrm>
              </p:grpSpPr>
              <p:sp>
                <p:nvSpPr>
                  <p:cNvPr id="2782" name=""/>
                  <p:cNvSpPr/>
                  <p:nvPr/>
                </p:nvSpPr>
                <p:spPr>
                  <a:xfrm>
                    <a:off x="807840" y="41148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>
                    <a:off x="884160" y="41148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84" name=""/>
              <p:cNvSpPr/>
              <p:nvPr/>
            </p:nvSpPr>
            <p:spPr>
              <a:xfrm>
                <a:off x="446040" y="426564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1071720" y="4195080"/>
                <a:ext cx="1538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Panzer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BG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all PzV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6" name=""/>
            <p:cNvGrpSpPr/>
            <p:nvPr/>
          </p:nvGrpSpPr>
          <p:grpSpPr>
            <a:xfrm>
              <a:off x="446040" y="4638600"/>
              <a:ext cx="2444400" cy="455400"/>
              <a:chOff x="446040" y="4638600"/>
              <a:chExt cx="2444400" cy="455400"/>
            </a:xfrm>
          </p:grpSpPr>
          <p:grpSp>
            <p:nvGrpSpPr>
              <p:cNvPr id="2787" name=""/>
              <p:cNvGrpSpPr/>
              <p:nvPr/>
            </p:nvGrpSpPr>
            <p:grpSpPr>
              <a:xfrm>
                <a:off x="654120" y="4638600"/>
                <a:ext cx="347040" cy="299880"/>
                <a:chOff x="654120" y="4638600"/>
                <a:chExt cx="347040" cy="299880"/>
              </a:xfrm>
            </p:grpSpPr>
            <p:grpSp>
              <p:nvGrpSpPr>
                <p:cNvPr id="2788" name=""/>
                <p:cNvGrpSpPr/>
                <p:nvPr/>
              </p:nvGrpSpPr>
              <p:grpSpPr>
                <a:xfrm>
                  <a:off x="654120" y="4702320"/>
                  <a:ext cx="347040" cy="236160"/>
                  <a:chOff x="654120" y="4702320"/>
                  <a:chExt cx="347040" cy="236160"/>
                </a:xfrm>
              </p:grpSpPr>
              <p:sp>
                <p:nvSpPr>
                  <p:cNvPr id="2789" name=""/>
                  <p:cNvSpPr/>
                  <p:nvPr/>
                </p:nvSpPr>
                <p:spPr>
                  <a:xfrm>
                    <a:off x="654120" y="4702320"/>
                    <a:ext cx="347040" cy="236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0" name=""/>
                  <p:cNvSpPr/>
                  <p:nvPr/>
                </p:nvSpPr>
                <p:spPr>
                  <a:xfrm>
                    <a:off x="717840" y="4761360"/>
                    <a:ext cx="222840" cy="112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1" name=""/>
                <p:cNvGrpSpPr/>
                <p:nvPr/>
              </p:nvGrpSpPr>
              <p:grpSpPr>
                <a:xfrm>
                  <a:off x="790560" y="4638600"/>
                  <a:ext cx="76320" cy="63360"/>
                  <a:chOff x="790560" y="4638600"/>
                  <a:chExt cx="76320" cy="63360"/>
                </a:xfrm>
              </p:grpSpPr>
              <p:sp>
                <p:nvSpPr>
                  <p:cNvPr id="2792" name=""/>
                  <p:cNvSpPr/>
                  <p:nvPr/>
                </p:nvSpPr>
                <p:spPr>
                  <a:xfrm>
                    <a:off x="790560" y="46386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>
                    <a:off x="866880" y="46386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94" name=""/>
              <p:cNvSpPr/>
              <p:nvPr/>
            </p:nvSpPr>
            <p:spPr>
              <a:xfrm>
                <a:off x="446040" y="481644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1051560" y="4693320"/>
                <a:ext cx="1838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Panzer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BG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Mixed Pz IIs, IIIs, and IVs or all IV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6" name=""/>
            <p:cNvSpPr/>
            <p:nvPr/>
          </p:nvSpPr>
          <p:spPr>
            <a:xfrm>
              <a:off x="1077840" y="4473720"/>
              <a:ext cx="704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46040" y="3878280"/>
              <a:ext cx="238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alternative 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3278160" y="3463920"/>
            <a:ext cx="2840040" cy="277200"/>
            <a:chOff x="3278160" y="3463920"/>
            <a:chExt cx="2840040" cy="277200"/>
          </a:xfrm>
        </p:grpSpPr>
        <p:grpSp>
          <p:nvGrpSpPr>
            <p:cNvPr id="2799" name=""/>
            <p:cNvGrpSpPr/>
            <p:nvPr/>
          </p:nvGrpSpPr>
          <p:grpSpPr>
            <a:xfrm>
              <a:off x="3457440" y="3463920"/>
              <a:ext cx="283680" cy="256680"/>
              <a:chOff x="3457440" y="3463920"/>
              <a:chExt cx="283680" cy="256680"/>
            </a:xfrm>
          </p:grpSpPr>
          <p:grpSp>
            <p:nvGrpSpPr>
              <p:cNvPr id="2800" name=""/>
              <p:cNvGrpSpPr/>
              <p:nvPr/>
            </p:nvGrpSpPr>
            <p:grpSpPr>
              <a:xfrm>
                <a:off x="3457440" y="3527280"/>
                <a:ext cx="283680" cy="193320"/>
                <a:chOff x="3457440" y="3527280"/>
                <a:chExt cx="283680" cy="193320"/>
              </a:xfrm>
            </p:grpSpPr>
            <p:sp>
              <p:nvSpPr>
                <p:cNvPr id="2801" name=""/>
                <p:cNvSpPr/>
                <p:nvPr/>
              </p:nvSpPr>
              <p:spPr>
                <a:xfrm>
                  <a:off x="3457440" y="3527280"/>
                  <a:ext cx="283680" cy="19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3509640" y="3576240"/>
                  <a:ext cx="182880" cy="91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3" name=""/>
                <p:cNvGrpSpPr/>
                <p:nvPr/>
              </p:nvGrpSpPr>
              <p:grpSpPr>
                <a:xfrm>
                  <a:off x="3566160" y="3603240"/>
                  <a:ext cx="67680" cy="32760"/>
                  <a:chOff x="3566160" y="3603240"/>
                  <a:chExt cx="67680" cy="32760"/>
                </a:xfrm>
              </p:grpSpPr>
              <p:sp>
                <p:nvSpPr>
                  <p:cNvPr id="2804" name=""/>
                  <p:cNvSpPr/>
                  <p:nvPr/>
                </p:nvSpPr>
                <p:spPr>
                  <a:xfrm>
                    <a:off x="3566160" y="360324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5" name=""/>
                  <p:cNvSpPr/>
                  <p:nvPr/>
                </p:nvSpPr>
                <p:spPr>
                  <a:xfrm>
                    <a:off x="3600720" y="360324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>
                    <a:off x="3633840" y="3603240"/>
                    <a:ext cx="0" cy="32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>
                    <a:off x="3566160" y="3603240"/>
                    <a:ext cx="676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08" name=""/>
              <p:cNvSpPr/>
              <p:nvPr/>
            </p:nvSpPr>
            <p:spPr>
              <a:xfrm>
                <a:off x="3598920" y="3463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9" name=""/>
            <p:cNvSpPr/>
            <p:nvPr/>
          </p:nvSpPr>
          <p:spPr>
            <a:xfrm>
              <a:off x="3278160" y="361944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3730680" y="3537720"/>
              <a:ext cx="23875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Panzer Engineer Company (Armd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1" name=""/>
          <p:cNvGrpSpPr/>
          <p:nvPr/>
        </p:nvGrpSpPr>
        <p:grpSpPr>
          <a:xfrm>
            <a:off x="512640" y="1222200"/>
            <a:ext cx="5416560" cy="3376080"/>
            <a:chOff x="512640" y="1222200"/>
            <a:chExt cx="5416560" cy="3376080"/>
          </a:xfrm>
        </p:grpSpPr>
        <p:sp>
          <p:nvSpPr>
            <p:cNvPr id="2812" name=""/>
            <p:cNvSpPr/>
            <p:nvPr/>
          </p:nvSpPr>
          <p:spPr>
            <a:xfrm>
              <a:off x="512640" y="1436760"/>
              <a:ext cx="2770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274920" y="1436760"/>
              <a:ext cx="0" cy="30369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4" name=""/>
            <p:cNvGrpSpPr/>
            <p:nvPr/>
          </p:nvGrpSpPr>
          <p:grpSpPr>
            <a:xfrm>
              <a:off x="3278160" y="1538280"/>
              <a:ext cx="2427840" cy="418680"/>
              <a:chOff x="3278160" y="1538280"/>
              <a:chExt cx="2427840" cy="418680"/>
            </a:xfrm>
          </p:grpSpPr>
          <p:grpSp>
            <p:nvGrpSpPr>
              <p:cNvPr id="2815" name=""/>
              <p:cNvGrpSpPr/>
              <p:nvPr/>
            </p:nvGrpSpPr>
            <p:grpSpPr>
              <a:xfrm>
                <a:off x="3417840" y="1538280"/>
                <a:ext cx="364680" cy="301320"/>
                <a:chOff x="3417840" y="1538280"/>
                <a:chExt cx="364680" cy="301320"/>
              </a:xfrm>
            </p:grpSpPr>
            <p:grpSp>
              <p:nvGrpSpPr>
                <p:cNvPr id="2816" name=""/>
                <p:cNvGrpSpPr/>
                <p:nvPr/>
              </p:nvGrpSpPr>
              <p:grpSpPr>
                <a:xfrm>
                  <a:off x="3417840" y="1601640"/>
                  <a:ext cx="364680" cy="237960"/>
                  <a:chOff x="3417840" y="1601640"/>
                  <a:chExt cx="364680" cy="237960"/>
                </a:xfrm>
              </p:grpSpPr>
              <p:sp>
                <p:nvSpPr>
                  <p:cNvPr id="2817" name=""/>
                  <p:cNvSpPr/>
                  <p:nvPr/>
                </p:nvSpPr>
                <p:spPr>
                  <a:xfrm>
                    <a:off x="3419640" y="1602000"/>
                    <a:ext cx="362880" cy="2376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3473640" y="1661040"/>
                    <a:ext cx="256320" cy="113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 flipV="1">
                    <a:off x="3419640" y="1601640"/>
                    <a:ext cx="358920" cy="2358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3417840" y="1602000"/>
                    <a:ext cx="364680" cy="232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1" name=""/>
                <p:cNvGrpSpPr/>
                <p:nvPr/>
              </p:nvGrpSpPr>
              <p:grpSpPr>
                <a:xfrm>
                  <a:off x="3554280" y="1538280"/>
                  <a:ext cx="76320" cy="63360"/>
                  <a:chOff x="3554280" y="1538280"/>
                  <a:chExt cx="76320" cy="63360"/>
                </a:xfrm>
              </p:grpSpPr>
              <p:sp>
                <p:nvSpPr>
                  <p:cNvPr id="2822" name=""/>
                  <p:cNvSpPr/>
                  <p:nvPr/>
                </p:nvSpPr>
                <p:spPr>
                  <a:xfrm>
                    <a:off x="3554280" y="15382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3" name=""/>
                  <p:cNvSpPr/>
                  <p:nvPr/>
                </p:nvSpPr>
                <p:spPr>
                  <a:xfrm>
                    <a:off x="3630600" y="15382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24" name=""/>
              <p:cNvSpPr/>
              <p:nvPr/>
            </p:nvSpPr>
            <p:spPr>
              <a:xfrm>
                <a:off x="3278160" y="1717560"/>
                <a:ext cx="17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733200" y="1556280"/>
                <a:ext cx="1972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Panzergrenadier Battal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BG-04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(armored) or </a:t>
                </a: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BG-05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(Motorized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6" name=""/>
            <p:cNvGrpSpPr/>
            <p:nvPr/>
          </p:nvGrpSpPr>
          <p:grpSpPr>
            <a:xfrm>
              <a:off x="3454560" y="1955880"/>
              <a:ext cx="291600" cy="253800"/>
              <a:chOff x="3454560" y="1955880"/>
              <a:chExt cx="291600" cy="253800"/>
            </a:xfrm>
          </p:grpSpPr>
          <p:grpSp>
            <p:nvGrpSpPr>
              <p:cNvPr id="2827" name=""/>
              <p:cNvGrpSpPr/>
              <p:nvPr/>
            </p:nvGrpSpPr>
            <p:grpSpPr>
              <a:xfrm>
                <a:off x="3454560" y="2019240"/>
                <a:ext cx="291600" cy="190440"/>
                <a:chOff x="3454560" y="2019240"/>
                <a:chExt cx="291600" cy="190440"/>
              </a:xfrm>
            </p:grpSpPr>
            <p:sp>
              <p:nvSpPr>
                <p:cNvPr id="2828" name=""/>
                <p:cNvSpPr/>
                <p:nvPr/>
              </p:nvSpPr>
              <p:spPr>
                <a:xfrm>
                  <a:off x="3456000" y="2019240"/>
                  <a:ext cx="290160" cy="190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3492000" y="2061000"/>
                  <a:ext cx="208080" cy="90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V="1">
                  <a:off x="3454560" y="2020680"/>
                  <a:ext cx="140040" cy="18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3594600" y="2019240"/>
                  <a:ext cx="15012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2" name=""/>
              <p:cNvSpPr/>
              <p:nvPr/>
            </p:nvSpPr>
            <p:spPr>
              <a:xfrm>
                <a:off x="3600720" y="1955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3" name=""/>
            <p:cNvSpPr/>
            <p:nvPr/>
          </p:nvSpPr>
          <p:spPr>
            <a:xfrm>
              <a:off x="3278160" y="211284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730680" y="2031120"/>
              <a:ext cx="21319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Panzerjaeger Company (SP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E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5" name=""/>
            <p:cNvGrpSpPr/>
            <p:nvPr/>
          </p:nvGrpSpPr>
          <p:grpSpPr>
            <a:xfrm>
              <a:off x="3274920" y="2394000"/>
              <a:ext cx="2638440" cy="294480"/>
              <a:chOff x="3274920" y="2394000"/>
              <a:chExt cx="2638440" cy="294480"/>
            </a:xfrm>
          </p:grpSpPr>
          <p:grpSp>
            <p:nvGrpSpPr>
              <p:cNvPr id="2836" name=""/>
              <p:cNvGrpSpPr/>
              <p:nvPr/>
            </p:nvGrpSpPr>
            <p:grpSpPr>
              <a:xfrm>
                <a:off x="3457440" y="2394000"/>
                <a:ext cx="284400" cy="245520"/>
                <a:chOff x="3457440" y="2394000"/>
                <a:chExt cx="284400" cy="245520"/>
              </a:xfrm>
            </p:grpSpPr>
            <p:grpSp>
              <p:nvGrpSpPr>
                <p:cNvPr id="2837" name=""/>
                <p:cNvGrpSpPr/>
                <p:nvPr/>
              </p:nvGrpSpPr>
              <p:grpSpPr>
                <a:xfrm>
                  <a:off x="3457440" y="2446200"/>
                  <a:ext cx="284400" cy="193320"/>
                  <a:chOff x="3457440" y="2446200"/>
                  <a:chExt cx="284400" cy="193320"/>
                </a:xfrm>
              </p:grpSpPr>
              <p:sp>
                <p:nvSpPr>
                  <p:cNvPr id="2838" name=""/>
                  <p:cNvSpPr/>
                  <p:nvPr/>
                </p:nvSpPr>
                <p:spPr>
                  <a:xfrm>
                    <a:off x="3457440" y="2446200"/>
                    <a:ext cx="284400" cy="193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 flipV="1">
                    <a:off x="3457440" y="2450160"/>
                    <a:ext cx="139680" cy="187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>
                    <a:off x="3597120" y="2446200"/>
                    <a:ext cx="139680" cy="189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1" name=""/>
                <p:cNvGrpSpPr/>
                <p:nvPr/>
              </p:nvGrpSpPr>
              <p:grpSpPr>
                <a:xfrm>
                  <a:off x="3538440" y="2394000"/>
                  <a:ext cx="131760" cy="26640"/>
                  <a:chOff x="3538440" y="2394000"/>
                  <a:chExt cx="131760" cy="26640"/>
                </a:xfrm>
              </p:grpSpPr>
              <p:sp>
                <p:nvSpPr>
                  <p:cNvPr id="2842" name=""/>
                  <p:cNvSpPr/>
                  <p:nvPr/>
                </p:nvSpPr>
                <p:spPr>
                  <a:xfrm>
                    <a:off x="3538440" y="23940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3" name=""/>
                  <p:cNvSpPr/>
                  <p:nvPr/>
                </p:nvSpPr>
                <p:spPr>
                  <a:xfrm>
                    <a:off x="3589200" y="23940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"/>
                  <p:cNvSpPr/>
                  <p:nvPr/>
                </p:nvSpPr>
                <p:spPr>
                  <a:xfrm>
                    <a:off x="3643200" y="23940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45" name=""/>
              <p:cNvSpPr/>
              <p:nvPr/>
            </p:nvSpPr>
            <p:spPr>
              <a:xfrm>
                <a:off x="3274920" y="2530440"/>
                <a:ext cx="190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730680" y="2472840"/>
                <a:ext cx="2182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Panzerjaeger Platoon (Towed)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7" name=""/>
            <p:cNvGrpSpPr/>
            <p:nvPr/>
          </p:nvGrpSpPr>
          <p:grpSpPr>
            <a:xfrm>
              <a:off x="3274920" y="2817720"/>
              <a:ext cx="2654280" cy="266040"/>
              <a:chOff x="3274920" y="2817720"/>
              <a:chExt cx="2654280" cy="266040"/>
            </a:xfrm>
          </p:grpSpPr>
          <p:grpSp>
            <p:nvGrpSpPr>
              <p:cNvPr id="2848" name=""/>
              <p:cNvGrpSpPr/>
              <p:nvPr/>
            </p:nvGrpSpPr>
            <p:grpSpPr>
              <a:xfrm>
                <a:off x="3454560" y="2817720"/>
                <a:ext cx="291600" cy="236160"/>
                <a:chOff x="3454560" y="2817720"/>
                <a:chExt cx="291600" cy="236160"/>
              </a:xfrm>
            </p:grpSpPr>
            <p:grpSp>
              <p:nvGrpSpPr>
                <p:cNvPr id="2849" name=""/>
                <p:cNvGrpSpPr/>
                <p:nvPr/>
              </p:nvGrpSpPr>
              <p:grpSpPr>
                <a:xfrm>
                  <a:off x="3454560" y="2860560"/>
                  <a:ext cx="291600" cy="193320"/>
                  <a:chOff x="3454560" y="2860560"/>
                  <a:chExt cx="291600" cy="193320"/>
                </a:xfrm>
              </p:grpSpPr>
              <p:sp>
                <p:nvSpPr>
                  <p:cNvPr id="2850" name=""/>
                  <p:cNvSpPr/>
                  <p:nvPr/>
                </p:nvSpPr>
                <p:spPr>
                  <a:xfrm>
                    <a:off x="3454560" y="2862720"/>
                    <a:ext cx="291600" cy="191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>
                    <a:off x="3525840" y="2953440"/>
                    <a:ext cx="144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 flipV="1">
                    <a:off x="3454560" y="2862720"/>
                    <a:ext cx="14112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3" name=""/>
                  <p:cNvSpPr/>
                  <p:nvPr/>
                </p:nvSpPr>
                <p:spPr>
                  <a:xfrm>
                    <a:off x="3595680" y="2860560"/>
                    <a:ext cx="150480" cy="190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4" name=""/>
                <p:cNvGrpSpPr/>
                <p:nvPr/>
              </p:nvGrpSpPr>
              <p:grpSpPr>
                <a:xfrm>
                  <a:off x="3533760" y="2817720"/>
                  <a:ext cx="131040" cy="27000"/>
                  <a:chOff x="3533760" y="2817720"/>
                  <a:chExt cx="131040" cy="27000"/>
                </a:xfrm>
              </p:grpSpPr>
              <p:sp>
                <p:nvSpPr>
                  <p:cNvPr id="2855" name=""/>
                  <p:cNvSpPr/>
                  <p:nvPr/>
                </p:nvSpPr>
                <p:spPr>
                  <a:xfrm>
                    <a:off x="3533760" y="28177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>
                    <a:off x="3584160" y="281772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>
                    <a:off x="3638160" y="28177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58" name=""/>
              <p:cNvSpPr/>
              <p:nvPr/>
            </p:nvSpPr>
            <p:spPr>
              <a:xfrm>
                <a:off x="3274920" y="2959200"/>
                <a:ext cx="190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746520" y="2868120"/>
                <a:ext cx="2182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Flak Platoon (Towed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0" name=""/>
            <p:cNvGrpSpPr/>
            <p:nvPr/>
          </p:nvGrpSpPr>
          <p:grpSpPr>
            <a:xfrm>
              <a:off x="3294000" y="3135240"/>
              <a:ext cx="2619360" cy="270720"/>
              <a:chOff x="3294000" y="3135240"/>
              <a:chExt cx="2619360" cy="270720"/>
            </a:xfrm>
          </p:grpSpPr>
          <p:grpSp>
            <p:nvGrpSpPr>
              <p:cNvPr id="2861" name=""/>
              <p:cNvGrpSpPr/>
              <p:nvPr/>
            </p:nvGrpSpPr>
            <p:grpSpPr>
              <a:xfrm>
                <a:off x="3454560" y="3135240"/>
                <a:ext cx="291600" cy="264600"/>
                <a:chOff x="3454560" y="3135240"/>
                <a:chExt cx="291600" cy="264600"/>
              </a:xfrm>
            </p:grpSpPr>
            <p:grpSp>
              <p:nvGrpSpPr>
                <p:cNvPr id="2862" name=""/>
                <p:cNvGrpSpPr/>
                <p:nvPr/>
              </p:nvGrpSpPr>
              <p:grpSpPr>
                <a:xfrm>
                  <a:off x="3454560" y="3206520"/>
                  <a:ext cx="291600" cy="193320"/>
                  <a:chOff x="3454560" y="3206520"/>
                  <a:chExt cx="291600" cy="193320"/>
                </a:xfrm>
              </p:grpSpPr>
              <p:sp>
                <p:nvSpPr>
                  <p:cNvPr id="2863" name=""/>
                  <p:cNvSpPr/>
                  <p:nvPr/>
                </p:nvSpPr>
                <p:spPr>
                  <a:xfrm>
                    <a:off x="3454560" y="3208680"/>
                    <a:ext cx="291600" cy="191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>
                    <a:off x="3525840" y="3299400"/>
                    <a:ext cx="144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 flipV="1">
                    <a:off x="3454560" y="3208680"/>
                    <a:ext cx="14112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>
                    <a:off x="3595680" y="3206520"/>
                    <a:ext cx="150480" cy="190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67" name=""/>
                <p:cNvSpPr/>
                <p:nvPr/>
              </p:nvSpPr>
              <p:spPr>
                <a:xfrm>
                  <a:off x="3600720" y="31352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8" name=""/>
              <p:cNvSpPr/>
              <p:nvPr/>
            </p:nvSpPr>
            <p:spPr>
              <a:xfrm>
                <a:off x="3294000" y="3298680"/>
                <a:ext cx="190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3730680" y="3190320"/>
                <a:ext cx="2182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Heavy Flak Batter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1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0" name=""/>
            <p:cNvGrpSpPr/>
            <p:nvPr/>
          </p:nvGrpSpPr>
          <p:grpSpPr>
            <a:xfrm>
              <a:off x="3282840" y="3838680"/>
              <a:ext cx="2630520" cy="262440"/>
              <a:chOff x="3282840" y="3838680"/>
              <a:chExt cx="2630520" cy="262440"/>
            </a:xfrm>
          </p:grpSpPr>
          <p:grpSp>
            <p:nvGrpSpPr>
              <p:cNvPr id="2871" name=""/>
              <p:cNvGrpSpPr/>
              <p:nvPr/>
            </p:nvGrpSpPr>
            <p:grpSpPr>
              <a:xfrm>
                <a:off x="3454560" y="3838680"/>
                <a:ext cx="291600" cy="253440"/>
                <a:chOff x="3454560" y="3838680"/>
                <a:chExt cx="291600" cy="253440"/>
              </a:xfrm>
            </p:grpSpPr>
            <p:grpSp>
              <p:nvGrpSpPr>
                <p:cNvPr id="2872" name=""/>
                <p:cNvGrpSpPr/>
                <p:nvPr/>
              </p:nvGrpSpPr>
              <p:grpSpPr>
                <a:xfrm>
                  <a:off x="3454560" y="3902040"/>
                  <a:ext cx="291600" cy="190080"/>
                  <a:chOff x="3454560" y="3902040"/>
                  <a:chExt cx="291600" cy="190080"/>
                </a:xfrm>
              </p:grpSpPr>
              <p:sp>
                <p:nvSpPr>
                  <p:cNvPr id="2873" name=""/>
                  <p:cNvSpPr/>
                  <p:nvPr/>
                </p:nvSpPr>
                <p:spPr>
                  <a:xfrm>
                    <a:off x="3454560" y="3902040"/>
                    <a:ext cx="29160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"/>
                  <p:cNvSpPr/>
                  <p:nvPr/>
                </p:nvSpPr>
                <p:spPr>
                  <a:xfrm>
                    <a:off x="3504960" y="3950280"/>
                    <a:ext cx="187560" cy="90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3580200" y="3975120"/>
                    <a:ext cx="3456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6" name=""/>
                <p:cNvGrpSpPr/>
                <p:nvPr/>
              </p:nvGrpSpPr>
              <p:grpSpPr>
                <a:xfrm>
                  <a:off x="3562560" y="3838680"/>
                  <a:ext cx="75960" cy="63360"/>
                  <a:chOff x="3562560" y="3838680"/>
                  <a:chExt cx="75960" cy="63360"/>
                </a:xfrm>
              </p:grpSpPr>
              <p:sp>
                <p:nvSpPr>
                  <p:cNvPr id="2877" name=""/>
                  <p:cNvSpPr/>
                  <p:nvPr/>
                </p:nvSpPr>
                <p:spPr>
                  <a:xfrm>
                    <a:off x="3562560" y="38386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>
                    <a:off x="3638520" y="38386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79" name=""/>
              <p:cNvSpPr/>
              <p:nvPr/>
            </p:nvSpPr>
            <p:spPr>
              <a:xfrm>
                <a:off x="3282840" y="3987720"/>
                <a:ext cx="190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3730680" y="3885480"/>
                <a:ext cx="2182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ixed Artillery Battalion (SP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FS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1" name=""/>
            <p:cNvGrpSpPr/>
            <p:nvPr/>
          </p:nvGrpSpPr>
          <p:grpSpPr>
            <a:xfrm>
              <a:off x="3274920" y="4313160"/>
              <a:ext cx="2638440" cy="285120"/>
              <a:chOff x="3274920" y="4313160"/>
              <a:chExt cx="2638440" cy="285120"/>
            </a:xfrm>
          </p:grpSpPr>
          <p:grpSp>
            <p:nvGrpSpPr>
              <p:cNvPr id="2882" name=""/>
              <p:cNvGrpSpPr/>
              <p:nvPr/>
            </p:nvGrpSpPr>
            <p:grpSpPr>
              <a:xfrm>
                <a:off x="3457440" y="4313160"/>
                <a:ext cx="284040" cy="257040"/>
                <a:chOff x="3457440" y="4313160"/>
                <a:chExt cx="284040" cy="257040"/>
              </a:xfrm>
            </p:grpSpPr>
            <p:grpSp>
              <p:nvGrpSpPr>
                <p:cNvPr id="2883" name=""/>
                <p:cNvGrpSpPr/>
                <p:nvPr/>
              </p:nvGrpSpPr>
              <p:grpSpPr>
                <a:xfrm>
                  <a:off x="3457440" y="4376520"/>
                  <a:ext cx="284040" cy="193680"/>
                  <a:chOff x="3457440" y="4376520"/>
                  <a:chExt cx="284040" cy="193680"/>
                </a:xfrm>
              </p:grpSpPr>
              <p:sp>
                <p:nvSpPr>
                  <p:cNvPr id="2884" name=""/>
                  <p:cNvSpPr/>
                  <p:nvPr/>
                </p:nvSpPr>
                <p:spPr>
                  <a:xfrm>
                    <a:off x="3457440" y="4376520"/>
                    <a:ext cx="284040" cy="19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>
                    <a:off x="3509280" y="4424760"/>
                    <a:ext cx="182160" cy="92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6" name=""/>
                <p:cNvSpPr/>
                <p:nvPr/>
              </p:nvSpPr>
              <p:spPr>
                <a:xfrm>
                  <a:off x="3600000" y="43131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7" name=""/>
              <p:cNvSpPr/>
              <p:nvPr/>
            </p:nvSpPr>
            <p:spPr>
              <a:xfrm>
                <a:off x="3274920" y="4473720"/>
                <a:ext cx="20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730680" y="4382640"/>
                <a:ext cx="2182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Heavy Panzer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9" name=""/>
            <p:cNvSpPr/>
            <p:nvPr/>
          </p:nvSpPr>
          <p:spPr>
            <a:xfrm>
              <a:off x="3665520" y="4098960"/>
              <a:ext cx="2025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NON-DIVISIONAL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484440" y="1222200"/>
              <a:ext cx="2025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DIVISIONAL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1" name=""/>
          <p:cNvSpPr/>
          <p:nvPr/>
        </p:nvSpPr>
        <p:spPr>
          <a:xfrm>
            <a:off x="3419640" y="4724280"/>
            <a:ext cx="20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lternat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5862600" y="747360"/>
            <a:ext cx="18176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Battle Group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zer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3" name=""/>
          <p:cNvGrpSpPr/>
          <p:nvPr/>
        </p:nvGrpSpPr>
        <p:grpSpPr>
          <a:xfrm>
            <a:off x="338040" y="941400"/>
            <a:ext cx="2702520" cy="2821680"/>
            <a:chOff x="338040" y="941400"/>
            <a:chExt cx="2702520" cy="2821680"/>
          </a:xfrm>
        </p:grpSpPr>
        <p:grpSp>
          <p:nvGrpSpPr>
            <p:cNvPr id="2894" name=""/>
            <p:cNvGrpSpPr/>
            <p:nvPr/>
          </p:nvGrpSpPr>
          <p:grpSpPr>
            <a:xfrm>
              <a:off x="338040" y="941400"/>
              <a:ext cx="347400" cy="301320"/>
              <a:chOff x="338040" y="941400"/>
              <a:chExt cx="347400" cy="301320"/>
            </a:xfrm>
          </p:grpSpPr>
          <p:grpSp>
            <p:nvGrpSpPr>
              <p:cNvPr id="2895" name=""/>
              <p:cNvGrpSpPr/>
              <p:nvPr/>
            </p:nvGrpSpPr>
            <p:grpSpPr>
              <a:xfrm>
                <a:off x="338040" y="1006560"/>
                <a:ext cx="347400" cy="236160"/>
                <a:chOff x="338040" y="1006560"/>
                <a:chExt cx="347400" cy="236160"/>
              </a:xfrm>
            </p:grpSpPr>
            <p:sp>
              <p:nvSpPr>
                <p:cNvPr id="2896" name=""/>
                <p:cNvSpPr/>
                <p:nvPr/>
              </p:nvSpPr>
              <p:spPr>
                <a:xfrm>
                  <a:off x="338040" y="1006560"/>
                  <a:ext cx="347400" cy="236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401760" y="1065600"/>
                  <a:ext cx="222840" cy="112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8" name=""/>
              <p:cNvGrpSpPr/>
              <p:nvPr/>
            </p:nvGrpSpPr>
            <p:grpSpPr>
              <a:xfrm>
                <a:off x="446040" y="941400"/>
                <a:ext cx="131760" cy="64800"/>
                <a:chOff x="446040" y="941400"/>
                <a:chExt cx="131760" cy="64800"/>
              </a:xfrm>
            </p:grpSpPr>
            <p:sp>
              <p:nvSpPr>
                <p:cNvPr id="2899" name=""/>
                <p:cNvSpPr/>
                <p:nvPr/>
              </p:nvSpPr>
              <p:spPr>
                <a:xfrm>
                  <a:off x="513000" y="942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0" name=""/>
                <p:cNvGrpSpPr/>
                <p:nvPr/>
              </p:nvGrpSpPr>
              <p:grpSpPr>
                <a:xfrm>
                  <a:off x="446040" y="941400"/>
                  <a:ext cx="131760" cy="64800"/>
                  <a:chOff x="446040" y="941400"/>
                  <a:chExt cx="131760" cy="64800"/>
                </a:xfrm>
              </p:grpSpPr>
              <p:sp>
                <p:nvSpPr>
                  <p:cNvPr id="2901" name=""/>
                  <p:cNvSpPr/>
                  <p:nvPr/>
                </p:nvSpPr>
                <p:spPr>
                  <a:xfrm>
                    <a:off x="446040" y="9428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577800" y="9414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03" name=""/>
            <p:cNvSpPr/>
            <p:nvPr/>
          </p:nvSpPr>
          <p:spPr>
            <a:xfrm>
              <a:off x="512640" y="1243080"/>
              <a:ext cx="0" cy="242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1176480" y="2092320"/>
              <a:ext cx="112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5" name=""/>
            <p:cNvGrpSpPr/>
            <p:nvPr/>
          </p:nvGrpSpPr>
          <p:grpSpPr>
            <a:xfrm>
              <a:off x="515880" y="2254320"/>
              <a:ext cx="2444400" cy="494640"/>
              <a:chOff x="515880" y="2254320"/>
              <a:chExt cx="2444400" cy="494640"/>
            </a:xfrm>
          </p:grpSpPr>
          <p:grpSp>
            <p:nvGrpSpPr>
              <p:cNvPr id="2906" name=""/>
              <p:cNvGrpSpPr/>
              <p:nvPr/>
            </p:nvGrpSpPr>
            <p:grpSpPr>
              <a:xfrm>
                <a:off x="723960" y="2254320"/>
                <a:ext cx="347040" cy="299160"/>
                <a:chOff x="723960" y="2254320"/>
                <a:chExt cx="347040" cy="299160"/>
              </a:xfrm>
            </p:grpSpPr>
            <p:grpSp>
              <p:nvGrpSpPr>
                <p:cNvPr id="2907" name=""/>
                <p:cNvGrpSpPr/>
                <p:nvPr/>
              </p:nvGrpSpPr>
              <p:grpSpPr>
                <a:xfrm>
                  <a:off x="723960" y="2317680"/>
                  <a:ext cx="347040" cy="235800"/>
                  <a:chOff x="723960" y="2317680"/>
                  <a:chExt cx="347040" cy="235800"/>
                </a:xfrm>
              </p:grpSpPr>
              <p:sp>
                <p:nvSpPr>
                  <p:cNvPr id="2908" name=""/>
                  <p:cNvSpPr/>
                  <p:nvPr/>
                </p:nvSpPr>
                <p:spPr>
                  <a:xfrm>
                    <a:off x="723960" y="2317680"/>
                    <a:ext cx="347040" cy="2358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>
                    <a:off x="787680" y="2376720"/>
                    <a:ext cx="222840" cy="112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0" name=""/>
                <p:cNvGrpSpPr/>
                <p:nvPr/>
              </p:nvGrpSpPr>
              <p:grpSpPr>
                <a:xfrm>
                  <a:off x="860400" y="2254320"/>
                  <a:ext cx="76320" cy="63360"/>
                  <a:chOff x="860400" y="2254320"/>
                  <a:chExt cx="76320" cy="63360"/>
                </a:xfrm>
              </p:grpSpPr>
              <p:sp>
                <p:nvSpPr>
                  <p:cNvPr id="2911" name=""/>
                  <p:cNvSpPr/>
                  <p:nvPr/>
                </p:nvSpPr>
                <p:spPr>
                  <a:xfrm>
                    <a:off x="860400" y="22543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>
                    <a:off x="936720" y="22543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13" name=""/>
              <p:cNvSpPr/>
              <p:nvPr/>
            </p:nvSpPr>
            <p:spPr>
              <a:xfrm>
                <a:off x="515880" y="243216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1121400" y="2348280"/>
                <a:ext cx="1838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Panzer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99cc00"/>
                    </a:solidFill>
                    <a:latin typeface="Arial"/>
                  </a:rPr>
                  <a:t>BG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Mixed Pz IIs, IIIs, and IVs or all IV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5" name=""/>
            <p:cNvSpPr/>
            <p:nvPr/>
          </p:nvSpPr>
          <p:spPr>
            <a:xfrm>
              <a:off x="1198440" y="2932200"/>
              <a:ext cx="138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6" name=""/>
            <p:cNvGrpSpPr/>
            <p:nvPr/>
          </p:nvGrpSpPr>
          <p:grpSpPr>
            <a:xfrm>
              <a:off x="515880" y="3138480"/>
              <a:ext cx="2391120" cy="241920"/>
              <a:chOff x="515880" y="3138480"/>
              <a:chExt cx="2391120" cy="241920"/>
            </a:xfrm>
          </p:grpSpPr>
          <p:grpSp>
            <p:nvGrpSpPr>
              <p:cNvPr id="2917" name=""/>
              <p:cNvGrpSpPr/>
              <p:nvPr/>
            </p:nvGrpSpPr>
            <p:grpSpPr>
              <a:xfrm>
                <a:off x="752400" y="3138480"/>
                <a:ext cx="291600" cy="219960"/>
                <a:chOff x="752400" y="3138480"/>
                <a:chExt cx="291600" cy="219960"/>
              </a:xfrm>
            </p:grpSpPr>
            <p:grpSp>
              <p:nvGrpSpPr>
                <p:cNvPr id="2918" name=""/>
                <p:cNvGrpSpPr/>
                <p:nvPr/>
              </p:nvGrpSpPr>
              <p:grpSpPr>
                <a:xfrm>
                  <a:off x="752400" y="3165480"/>
                  <a:ext cx="291600" cy="192960"/>
                  <a:chOff x="752400" y="3165480"/>
                  <a:chExt cx="291600" cy="192960"/>
                </a:xfrm>
              </p:grpSpPr>
              <p:sp>
                <p:nvSpPr>
                  <p:cNvPr id="2919" name=""/>
                  <p:cNvSpPr/>
                  <p:nvPr/>
                </p:nvSpPr>
                <p:spPr>
                  <a:xfrm>
                    <a:off x="752400" y="3166920"/>
                    <a:ext cx="291600" cy="1915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0" name=""/>
                  <p:cNvSpPr/>
                  <p:nvPr/>
                </p:nvSpPr>
                <p:spPr>
                  <a:xfrm>
                    <a:off x="790920" y="3213720"/>
                    <a:ext cx="208800" cy="91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1" name=""/>
                  <p:cNvSpPr/>
                  <p:nvPr/>
                </p:nvSpPr>
                <p:spPr>
                  <a:xfrm>
                    <a:off x="823680" y="3258360"/>
                    <a:ext cx="144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2" name=""/>
                  <p:cNvSpPr/>
                  <p:nvPr/>
                </p:nvSpPr>
                <p:spPr>
                  <a:xfrm flipV="1">
                    <a:off x="752400" y="3166920"/>
                    <a:ext cx="141120" cy="190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3" name=""/>
                  <p:cNvSpPr/>
                  <p:nvPr/>
                </p:nvSpPr>
                <p:spPr>
                  <a:xfrm>
                    <a:off x="893520" y="3165480"/>
                    <a:ext cx="15048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4" name=""/>
                <p:cNvGrpSpPr/>
                <p:nvPr/>
              </p:nvGrpSpPr>
              <p:grpSpPr>
                <a:xfrm>
                  <a:off x="830160" y="3138480"/>
                  <a:ext cx="131760" cy="27000"/>
                  <a:chOff x="830160" y="3138480"/>
                  <a:chExt cx="131760" cy="27000"/>
                </a:xfrm>
              </p:grpSpPr>
              <p:sp>
                <p:nvSpPr>
                  <p:cNvPr id="2925" name=""/>
                  <p:cNvSpPr/>
                  <p:nvPr/>
                </p:nvSpPr>
                <p:spPr>
                  <a:xfrm>
                    <a:off x="830160" y="31384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6" name=""/>
                  <p:cNvSpPr/>
                  <p:nvPr/>
                </p:nvSpPr>
                <p:spPr>
                  <a:xfrm>
                    <a:off x="880920" y="31384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7" name=""/>
                  <p:cNvSpPr/>
                  <p:nvPr/>
                </p:nvSpPr>
                <p:spPr>
                  <a:xfrm>
                    <a:off x="934920" y="31384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28" name=""/>
              <p:cNvSpPr/>
              <p:nvPr/>
            </p:nvSpPr>
            <p:spPr>
              <a:xfrm>
                <a:off x="515880" y="325296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1199520" y="3164760"/>
                <a:ext cx="170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Flakpananzer Plato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0" name=""/>
            <p:cNvGrpSpPr/>
            <p:nvPr/>
          </p:nvGrpSpPr>
          <p:grpSpPr>
            <a:xfrm>
              <a:off x="512640" y="3537000"/>
              <a:ext cx="2071080" cy="226080"/>
              <a:chOff x="512640" y="3537000"/>
              <a:chExt cx="2071080" cy="226080"/>
            </a:xfrm>
          </p:grpSpPr>
          <p:grpSp>
            <p:nvGrpSpPr>
              <p:cNvPr id="2931" name=""/>
              <p:cNvGrpSpPr/>
              <p:nvPr/>
            </p:nvGrpSpPr>
            <p:grpSpPr>
              <a:xfrm>
                <a:off x="752400" y="3537000"/>
                <a:ext cx="291600" cy="225000"/>
                <a:chOff x="752400" y="3537000"/>
                <a:chExt cx="291600" cy="225000"/>
              </a:xfrm>
            </p:grpSpPr>
            <p:grpSp>
              <p:nvGrpSpPr>
                <p:cNvPr id="2932" name=""/>
                <p:cNvGrpSpPr/>
                <p:nvPr/>
              </p:nvGrpSpPr>
              <p:grpSpPr>
                <a:xfrm>
                  <a:off x="752400" y="3571920"/>
                  <a:ext cx="291600" cy="190080"/>
                  <a:chOff x="752400" y="3571920"/>
                  <a:chExt cx="291600" cy="190080"/>
                </a:xfrm>
              </p:grpSpPr>
              <p:sp>
                <p:nvSpPr>
                  <p:cNvPr id="2933" name=""/>
                  <p:cNvSpPr/>
                  <p:nvPr/>
                </p:nvSpPr>
                <p:spPr>
                  <a:xfrm>
                    <a:off x="752400" y="3571920"/>
                    <a:ext cx="291600" cy="190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4" name=""/>
                  <p:cNvSpPr/>
                  <p:nvPr/>
                </p:nvSpPr>
                <p:spPr>
                  <a:xfrm>
                    <a:off x="797040" y="3619800"/>
                    <a:ext cx="206640" cy="90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5" name=""/>
                  <p:cNvSpPr/>
                  <p:nvPr/>
                </p:nvSpPr>
                <p:spPr>
                  <a:xfrm>
                    <a:off x="901080" y="3663720"/>
                    <a:ext cx="0" cy="90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6" name=""/>
                  <p:cNvSpPr/>
                  <p:nvPr/>
                </p:nvSpPr>
                <p:spPr>
                  <a:xfrm flipV="1">
                    <a:off x="901080" y="3580920"/>
                    <a:ext cx="57600" cy="70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7" name=""/>
                  <p:cNvSpPr/>
                  <p:nvPr/>
                </p:nvSpPr>
                <p:spPr>
                  <a:xfrm flipH="1" flipV="1">
                    <a:off x="852840" y="3580920"/>
                    <a:ext cx="47880" cy="70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38" name=""/>
                <p:cNvGrpSpPr/>
                <p:nvPr/>
              </p:nvGrpSpPr>
              <p:grpSpPr>
                <a:xfrm>
                  <a:off x="834840" y="3537000"/>
                  <a:ext cx="131760" cy="27000"/>
                  <a:chOff x="834840" y="3537000"/>
                  <a:chExt cx="131760" cy="27000"/>
                </a:xfrm>
              </p:grpSpPr>
              <p:sp>
                <p:nvSpPr>
                  <p:cNvPr id="2939" name=""/>
                  <p:cNvSpPr/>
                  <p:nvPr/>
                </p:nvSpPr>
                <p:spPr>
                  <a:xfrm>
                    <a:off x="834840" y="35370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0" name=""/>
                  <p:cNvSpPr/>
                  <p:nvPr/>
                </p:nvSpPr>
                <p:spPr>
                  <a:xfrm>
                    <a:off x="885600" y="35370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1" name=""/>
                  <p:cNvSpPr/>
                  <p:nvPr/>
                </p:nvSpPr>
                <p:spPr>
                  <a:xfrm>
                    <a:off x="939600" y="35370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42" name=""/>
              <p:cNvSpPr/>
              <p:nvPr/>
            </p:nvSpPr>
            <p:spPr>
              <a:xfrm>
                <a:off x="512640" y="3664080"/>
                <a:ext cx="239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199160" y="3547440"/>
                <a:ext cx="1384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-2 Flampanzer Platoon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4" name=""/>
            <p:cNvGrpSpPr/>
            <p:nvPr/>
          </p:nvGrpSpPr>
          <p:grpSpPr>
            <a:xfrm>
              <a:off x="515880" y="1658160"/>
              <a:ext cx="2524680" cy="366480"/>
              <a:chOff x="515880" y="1658160"/>
              <a:chExt cx="2524680" cy="366480"/>
            </a:xfrm>
          </p:grpSpPr>
          <p:sp>
            <p:nvSpPr>
              <p:cNvPr id="2945" name=""/>
              <p:cNvSpPr/>
              <p:nvPr/>
            </p:nvSpPr>
            <p:spPr>
              <a:xfrm>
                <a:off x="515880" y="1916280"/>
                <a:ext cx="666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1409760" y="1658160"/>
                <a:ext cx="65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1409040" y="1809000"/>
                <a:ext cx="163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zBefehlsWg III Tank GE-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8" name=""/>
              <p:cNvGrpSpPr/>
              <p:nvPr/>
            </p:nvGrpSpPr>
            <p:grpSpPr>
              <a:xfrm>
                <a:off x="1179360" y="1800360"/>
                <a:ext cx="231840" cy="198360"/>
                <a:chOff x="1179360" y="1800360"/>
                <a:chExt cx="231840" cy="198360"/>
              </a:xfrm>
            </p:grpSpPr>
            <p:sp>
              <p:nvSpPr>
                <p:cNvPr id="2949" name=""/>
                <p:cNvSpPr/>
                <p:nvPr/>
              </p:nvSpPr>
              <p:spPr>
                <a:xfrm>
                  <a:off x="1278000" y="18003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0" name=""/>
                <p:cNvGrpSpPr/>
                <p:nvPr/>
              </p:nvGrpSpPr>
              <p:grpSpPr>
                <a:xfrm>
                  <a:off x="1179360" y="1841400"/>
                  <a:ext cx="231840" cy="157320"/>
                  <a:chOff x="1179360" y="1841400"/>
                  <a:chExt cx="231840" cy="157320"/>
                </a:xfrm>
              </p:grpSpPr>
              <p:sp>
                <p:nvSpPr>
                  <p:cNvPr id="2951" name=""/>
                  <p:cNvSpPr/>
                  <p:nvPr/>
                </p:nvSpPr>
                <p:spPr>
                  <a:xfrm>
                    <a:off x="1179360" y="1841400"/>
                    <a:ext cx="231840" cy="1573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2" name=""/>
                  <p:cNvSpPr/>
                  <p:nvPr/>
                </p:nvSpPr>
                <p:spPr>
                  <a:xfrm>
                    <a:off x="1193760" y="1865160"/>
                    <a:ext cx="201600" cy="103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3" name=""/>
                  <p:cNvSpPr/>
                  <p:nvPr/>
                </p:nvSpPr>
                <p:spPr>
                  <a:xfrm>
                    <a:off x="1257120" y="1882800"/>
                    <a:ext cx="77760" cy="76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954" name=""/>
          <p:cNvGrpSpPr/>
          <p:nvPr/>
        </p:nvGrpSpPr>
        <p:grpSpPr>
          <a:xfrm>
            <a:off x="6110280" y="1301760"/>
            <a:ext cx="2698920" cy="2137680"/>
            <a:chOff x="6110280" y="1301760"/>
            <a:chExt cx="2698920" cy="2137680"/>
          </a:xfrm>
        </p:grpSpPr>
        <p:grpSp>
          <p:nvGrpSpPr>
            <p:cNvPr id="2955" name=""/>
            <p:cNvGrpSpPr/>
            <p:nvPr/>
          </p:nvGrpSpPr>
          <p:grpSpPr>
            <a:xfrm>
              <a:off x="6286680" y="2523600"/>
              <a:ext cx="2522520" cy="337320"/>
              <a:chOff x="6286680" y="2523600"/>
              <a:chExt cx="2522520" cy="337320"/>
            </a:xfrm>
          </p:grpSpPr>
          <p:sp>
            <p:nvSpPr>
              <p:cNvPr id="2956" name=""/>
              <p:cNvSpPr/>
              <p:nvPr/>
            </p:nvSpPr>
            <p:spPr>
              <a:xfrm>
                <a:off x="6789600" y="2523600"/>
                <a:ext cx="201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Panzer Reconnaissance Plato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     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6286680" y="2662200"/>
                <a:ext cx="2347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8" name=""/>
              <p:cNvGrpSpPr/>
              <p:nvPr/>
            </p:nvGrpSpPr>
            <p:grpSpPr>
              <a:xfrm>
                <a:off x="6497640" y="2562120"/>
                <a:ext cx="324360" cy="230400"/>
                <a:chOff x="6497640" y="2562120"/>
                <a:chExt cx="324360" cy="230400"/>
              </a:xfrm>
            </p:grpSpPr>
            <p:grpSp>
              <p:nvGrpSpPr>
                <p:cNvPr id="2959" name=""/>
                <p:cNvGrpSpPr/>
                <p:nvPr/>
              </p:nvGrpSpPr>
              <p:grpSpPr>
                <a:xfrm>
                  <a:off x="6497640" y="2601720"/>
                  <a:ext cx="324360" cy="190800"/>
                  <a:chOff x="6497640" y="2601720"/>
                  <a:chExt cx="324360" cy="190800"/>
                </a:xfrm>
              </p:grpSpPr>
              <p:grpSp>
                <p:nvGrpSpPr>
                  <p:cNvPr id="2960" name=""/>
                  <p:cNvGrpSpPr/>
                  <p:nvPr/>
                </p:nvGrpSpPr>
                <p:grpSpPr>
                  <a:xfrm>
                    <a:off x="6497640" y="2602080"/>
                    <a:ext cx="324360" cy="190440"/>
                    <a:chOff x="6497640" y="2602080"/>
                    <a:chExt cx="324360" cy="190440"/>
                  </a:xfrm>
                </p:grpSpPr>
                <p:sp>
                  <p:nvSpPr>
                    <p:cNvPr id="2961" name=""/>
                    <p:cNvSpPr/>
                    <p:nvPr/>
                  </p:nvSpPr>
                  <p:spPr>
                    <a:xfrm>
                      <a:off x="6497640" y="2602080"/>
                      <a:ext cx="324360" cy="190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2" name=""/>
                    <p:cNvSpPr/>
                    <p:nvPr/>
                  </p:nvSpPr>
                  <p:spPr>
                    <a:xfrm>
                      <a:off x="6557040" y="2649600"/>
                      <a:ext cx="205200" cy="90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63" name=""/>
                  <p:cNvSpPr/>
                  <p:nvPr/>
                </p:nvSpPr>
                <p:spPr>
                  <a:xfrm flipV="1">
                    <a:off x="6497640" y="2601720"/>
                    <a:ext cx="320040" cy="190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64" name=""/>
                <p:cNvGrpSpPr/>
                <p:nvPr/>
              </p:nvGrpSpPr>
              <p:grpSpPr>
                <a:xfrm>
                  <a:off x="6591240" y="2562120"/>
                  <a:ext cx="146160" cy="27000"/>
                  <a:chOff x="6591240" y="2562120"/>
                  <a:chExt cx="146160" cy="27000"/>
                </a:xfrm>
              </p:grpSpPr>
              <p:sp>
                <p:nvSpPr>
                  <p:cNvPr id="2965" name=""/>
                  <p:cNvSpPr/>
                  <p:nvPr/>
                </p:nvSpPr>
                <p:spPr>
                  <a:xfrm>
                    <a:off x="6591240" y="2562120"/>
                    <a:ext cx="298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6" name=""/>
                  <p:cNvSpPr/>
                  <p:nvPr/>
                </p:nvSpPr>
                <p:spPr>
                  <a:xfrm>
                    <a:off x="6647400" y="2562120"/>
                    <a:ext cx="3132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7" name=""/>
                  <p:cNvSpPr/>
                  <p:nvPr/>
                </p:nvSpPr>
                <p:spPr>
                  <a:xfrm>
                    <a:off x="6707520" y="2562120"/>
                    <a:ext cx="298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68" name=""/>
            <p:cNvGrpSpPr/>
            <p:nvPr/>
          </p:nvGrpSpPr>
          <p:grpSpPr>
            <a:xfrm>
              <a:off x="6110280" y="1301760"/>
              <a:ext cx="347040" cy="299160"/>
              <a:chOff x="6110280" y="1301760"/>
              <a:chExt cx="347040" cy="299160"/>
            </a:xfrm>
          </p:grpSpPr>
          <p:grpSp>
            <p:nvGrpSpPr>
              <p:cNvPr id="2969" name=""/>
              <p:cNvGrpSpPr/>
              <p:nvPr/>
            </p:nvGrpSpPr>
            <p:grpSpPr>
              <a:xfrm>
                <a:off x="6110280" y="1365120"/>
                <a:ext cx="347040" cy="235800"/>
                <a:chOff x="6110280" y="1365120"/>
                <a:chExt cx="347040" cy="235800"/>
              </a:xfrm>
            </p:grpSpPr>
            <p:sp>
              <p:nvSpPr>
                <p:cNvPr id="2970" name=""/>
                <p:cNvSpPr/>
                <p:nvPr/>
              </p:nvSpPr>
              <p:spPr>
                <a:xfrm>
                  <a:off x="6110280" y="1365120"/>
                  <a:ext cx="347040" cy="2358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6174000" y="1424160"/>
                  <a:ext cx="222840" cy="112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2" name=""/>
              <p:cNvGrpSpPr/>
              <p:nvPr/>
            </p:nvGrpSpPr>
            <p:grpSpPr>
              <a:xfrm>
                <a:off x="6246720" y="1301760"/>
                <a:ext cx="76320" cy="63360"/>
                <a:chOff x="6246720" y="1301760"/>
                <a:chExt cx="76320" cy="63360"/>
              </a:xfrm>
            </p:grpSpPr>
            <p:sp>
              <p:nvSpPr>
                <p:cNvPr id="2973" name=""/>
                <p:cNvSpPr/>
                <p:nvPr/>
              </p:nvSpPr>
              <p:spPr>
                <a:xfrm>
                  <a:off x="6246720" y="13017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6323040" y="13017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75" name=""/>
            <p:cNvSpPr/>
            <p:nvPr/>
          </p:nvSpPr>
          <p:spPr>
            <a:xfrm>
              <a:off x="6523200" y="1503360"/>
              <a:ext cx="164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278400" y="1593720"/>
              <a:ext cx="0" cy="107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7" name=""/>
            <p:cNvGrpSpPr/>
            <p:nvPr/>
          </p:nvGrpSpPr>
          <p:grpSpPr>
            <a:xfrm>
              <a:off x="6286680" y="2152800"/>
              <a:ext cx="2317320" cy="257040"/>
              <a:chOff x="6286680" y="2152800"/>
              <a:chExt cx="2317320" cy="257040"/>
            </a:xfrm>
          </p:grpSpPr>
          <p:grpSp>
            <p:nvGrpSpPr>
              <p:cNvPr id="2978" name=""/>
              <p:cNvGrpSpPr/>
              <p:nvPr/>
            </p:nvGrpSpPr>
            <p:grpSpPr>
              <a:xfrm>
                <a:off x="6497640" y="2152800"/>
                <a:ext cx="284040" cy="257040"/>
                <a:chOff x="6497640" y="2152800"/>
                <a:chExt cx="284040" cy="257040"/>
              </a:xfrm>
            </p:grpSpPr>
            <p:grpSp>
              <p:nvGrpSpPr>
                <p:cNvPr id="2979" name=""/>
                <p:cNvGrpSpPr/>
                <p:nvPr/>
              </p:nvGrpSpPr>
              <p:grpSpPr>
                <a:xfrm>
                  <a:off x="6497640" y="2216160"/>
                  <a:ext cx="284040" cy="193680"/>
                  <a:chOff x="6497640" y="2216160"/>
                  <a:chExt cx="284040" cy="193680"/>
                </a:xfrm>
              </p:grpSpPr>
              <p:sp>
                <p:nvSpPr>
                  <p:cNvPr id="2980" name=""/>
                  <p:cNvSpPr/>
                  <p:nvPr/>
                </p:nvSpPr>
                <p:spPr>
                  <a:xfrm>
                    <a:off x="6497640" y="2216160"/>
                    <a:ext cx="284040" cy="19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1" name=""/>
                  <p:cNvSpPr/>
                  <p:nvPr/>
                </p:nvSpPr>
                <p:spPr>
                  <a:xfrm>
                    <a:off x="6549480" y="2264400"/>
                    <a:ext cx="182160" cy="92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82" name=""/>
                <p:cNvSpPr/>
                <p:nvPr/>
              </p:nvSpPr>
              <p:spPr>
                <a:xfrm>
                  <a:off x="6640200" y="21528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3" name=""/>
              <p:cNvSpPr/>
              <p:nvPr/>
            </p:nvSpPr>
            <p:spPr>
              <a:xfrm>
                <a:off x="6775560" y="2187000"/>
                <a:ext cx="1828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 Panzer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ME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286680" y="2306520"/>
                <a:ext cx="210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5" name=""/>
            <p:cNvSpPr/>
            <p:nvPr/>
          </p:nvSpPr>
          <p:spPr>
            <a:xfrm>
              <a:off x="6500880" y="1960560"/>
              <a:ext cx="164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540480" y="2844720"/>
              <a:ext cx="16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DIVISIONAL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7" name=""/>
            <p:cNvGrpSpPr/>
            <p:nvPr/>
          </p:nvGrpSpPr>
          <p:grpSpPr>
            <a:xfrm>
              <a:off x="6278400" y="2649600"/>
              <a:ext cx="2311560" cy="789840"/>
              <a:chOff x="6278400" y="2649600"/>
              <a:chExt cx="2311560" cy="789840"/>
            </a:xfrm>
          </p:grpSpPr>
          <p:grpSp>
            <p:nvGrpSpPr>
              <p:cNvPr id="2988" name=""/>
              <p:cNvGrpSpPr/>
              <p:nvPr/>
            </p:nvGrpSpPr>
            <p:grpSpPr>
              <a:xfrm>
                <a:off x="6481800" y="2980440"/>
                <a:ext cx="2108160" cy="459000"/>
                <a:chOff x="6481800" y="2980440"/>
                <a:chExt cx="2108160" cy="459000"/>
              </a:xfrm>
            </p:grpSpPr>
            <p:grpSp>
              <p:nvGrpSpPr>
                <p:cNvPr id="2989" name=""/>
                <p:cNvGrpSpPr/>
                <p:nvPr/>
              </p:nvGrpSpPr>
              <p:grpSpPr>
                <a:xfrm>
                  <a:off x="6481800" y="3041640"/>
                  <a:ext cx="291960" cy="261720"/>
                  <a:chOff x="6481800" y="3041640"/>
                  <a:chExt cx="291960" cy="261720"/>
                </a:xfrm>
              </p:grpSpPr>
              <p:sp>
                <p:nvSpPr>
                  <p:cNvPr id="2990" name=""/>
                  <p:cNvSpPr/>
                  <p:nvPr/>
                </p:nvSpPr>
                <p:spPr>
                  <a:xfrm>
                    <a:off x="6627600" y="30416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91" name=""/>
                  <p:cNvGrpSpPr/>
                  <p:nvPr/>
                </p:nvGrpSpPr>
                <p:grpSpPr>
                  <a:xfrm>
                    <a:off x="6481800" y="3112920"/>
                    <a:ext cx="291960" cy="190440"/>
                    <a:chOff x="6481800" y="3112920"/>
                    <a:chExt cx="291960" cy="190440"/>
                  </a:xfrm>
                </p:grpSpPr>
                <p:sp>
                  <p:nvSpPr>
                    <p:cNvPr id="2992" name=""/>
                    <p:cNvSpPr/>
                    <p:nvPr/>
                  </p:nvSpPr>
                  <p:spPr>
                    <a:xfrm>
                      <a:off x="6483240" y="3112920"/>
                      <a:ext cx="290160" cy="190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3" name=""/>
                    <p:cNvSpPr/>
                    <p:nvPr/>
                  </p:nvSpPr>
                  <p:spPr>
                    <a:xfrm>
                      <a:off x="6526440" y="3160080"/>
                      <a:ext cx="204840" cy="90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4" name=""/>
                    <p:cNvSpPr/>
                    <p:nvPr/>
                  </p:nvSpPr>
                  <p:spPr>
                    <a:xfrm flipV="1">
                      <a:off x="6483240" y="3112920"/>
                      <a:ext cx="287280" cy="188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5" name=""/>
                    <p:cNvSpPr/>
                    <p:nvPr/>
                  </p:nvSpPr>
                  <p:spPr>
                    <a:xfrm>
                      <a:off x="6481800" y="3112920"/>
                      <a:ext cx="291960" cy="186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96" name=""/>
                <p:cNvSpPr/>
                <p:nvPr/>
              </p:nvSpPr>
              <p:spPr>
                <a:xfrm>
                  <a:off x="6778800" y="2980440"/>
                  <a:ext cx="18111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Panzergrenadier Company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</a:t>
                  </a: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ME-09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(Armd) OR </a:t>
                  </a: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ME-08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(Mtz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7" name=""/>
              <p:cNvSpPr/>
              <p:nvPr/>
            </p:nvSpPr>
            <p:spPr>
              <a:xfrm flipV="1">
                <a:off x="6278400" y="2649600"/>
                <a:ext cx="0" cy="51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278400" y="3166920"/>
                <a:ext cx="22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9" name=""/>
            <p:cNvGrpSpPr/>
            <p:nvPr/>
          </p:nvGrpSpPr>
          <p:grpSpPr>
            <a:xfrm>
              <a:off x="6281640" y="1661400"/>
              <a:ext cx="2308680" cy="358560"/>
              <a:chOff x="6281640" y="1661400"/>
              <a:chExt cx="2308680" cy="358560"/>
            </a:xfrm>
          </p:grpSpPr>
          <p:sp>
            <p:nvSpPr>
              <p:cNvPr id="3000" name=""/>
              <p:cNvSpPr/>
              <p:nvPr/>
            </p:nvSpPr>
            <p:spPr>
              <a:xfrm>
                <a:off x="6797880" y="1661400"/>
                <a:ext cx="65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756120" y="1804320"/>
                <a:ext cx="1834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zBefehlsWg III Tank        GE-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281640" y="1916280"/>
                <a:ext cx="211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3" name=""/>
              <p:cNvGrpSpPr/>
              <p:nvPr/>
            </p:nvGrpSpPr>
            <p:grpSpPr>
              <a:xfrm>
                <a:off x="6494400" y="1795320"/>
                <a:ext cx="231840" cy="201600"/>
                <a:chOff x="6494400" y="1795320"/>
                <a:chExt cx="231840" cy="201600"/>
              </a:xfrm>
            </p:grpSpPr>
            <p:sp>
              <p:nvSpPr>
                <p:cNvPr id="3004" name=""/>
                <p:cNvSpPr/>
                <p:nvPr/>
              </p:nvSpPr>
              <p:spPr>
                <a:xfrm>
                  <a:off x="6602400" y="17953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5" name=""/>
                <p:cNvGrpSpPr/>
                <p:nvPr/>
              </p:nvGrpSpPr>
              <p:grpSpPr>
                <a:xfrm>
                  <a:off x="6494400" y="1839960"/>
                  <a:ext cx="231840" cy="156960"/>
                  <a:chOff x="6494400" y="1839960"/>
                  <a:chExt cx="231840" cy="156960"/>
                </a:xfrm>
              </p:grpSpPr>
              <p:sp>
                <p:nvSpPr>
                  <p:cNvPr id="3006" name=""/>
                  <p:cNvSpPr/>
                  <p:nvPr/>
                </p:nvSpPr>
                <p:spPr>
                  <a:xfrm>
                    <a:off x="6494400" y="1839960"/>
                    <a:ext cx="231840" cy="15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>
                    <a:off x="6508800" y="1863360"/>
                    <a:ext cx="201600" cy="102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920" bIns="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>
                    <a:off x="6572160" y="1881000"/>
                    <a:ext cx="777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4:46:52Z</dcterms:created>
  <dc:creator>James Baker</dc:creator>
  <dc:description/>
  <dc:language>en-US</dc:language>
  <cp:lastModifiedBy>James Baker</cp:lastModifiedBy>
  <dcterms:modified xsi:type="dcterms:W3CDTF">2008-02-17T12:30:44Z</dcterms:modified>
  <cp:revision>83</cp:revision>
  <dc:subject/>
  <dc:title>PowerPoint Presentation</dc:title>
</cp:coreProperties>
</file>