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9BBE-A656-4031-AE0E-6FDC0E694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F70-7502-4149-9B44-30F7FA6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DF5-7A45-425C-807A-14258CB8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08E-B8A1-4383-A6CE-B4A613387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01E-29B4-4D9F-8856-C4758DE1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2D31-DD7D-4C28-BA54-FA05C30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915-6816-40F2-A47C-88BFB979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1ABF-CE30-4232-B7CC-1E3013DB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CB6-D1D3-4DB8-8907-71D7B5D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724C-555F-4A90-B9D3-381AF7D6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A52C-55FB-4951-8C06-5D0E1B63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900A-1D3D-4611-BFDC-4223DD2F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A3DB-D1BC-4B82-9FA3-2CEC38615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548640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(Blitz) BG-01-&gt;BG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04920" y="4335120"/>
            <a:ext cx="2890440" cy="744480"/>
            <a:chOff x="304920" y="4335120"/>
            <a:chExt cx="2890440" cy="744480"/>
          </a:xfrm>
        </p:grpSpPr>
        <p:sp>
          <p:nvSpPr>
            <p:cNvPr id="43" name=""/>
            <p:cNvSpPr/>
            <p:nvPr/>
          </p:nvSpPr>
          <p:spPr>
            <a:xfrm>
              <a:off x="304920" y="4734000"/>
              <a:ext cx="40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483480" y="4335120"/>
              <a:ext cx="2711880" cy="744480"/>
              <a:chOff x="483480" y="4335120"/>
              <a:chExt cx="2711880" cy="744480"/>
            </a:xfrm>
          </p:grpSpPr>
          <p:grpSp>
            <p:nvGrpSpPr>
              <p:cNvPr id="45" name=""/>
              <p:cNvGrpSpPr/>
              <p:nvPr/>
            </p:nvGrpSpPr>
            <p:grpSpPr>
              <a:xfrm>
                <a:off x="637920" y="4572000"/>
                <a:ext cx="283680" cy="259920"/>
                <a:chOff x="637920" y="4572000"/>
                <a:chExt cx="283680" cy="259920"/>
              </a:xfrm>
            </p:grpSpPr>
            <p:grpSp>
              <p:nvGrpSpPr>
                <p:cNvPr id="46" name=""/>
                <p:cNvGrpSpPr/>
                <p:nvPr/>
              </p:nvGrpSpPr>
              <p:grpSpPr>
                <a:xfrm>
                  <a:off x="637920" y="4638600"/>
                  <a:ext cx="283680" cy="193320"/>
                  <a:chOff x="637920" y="4638600"/>
                  <a:chExt cx="283680" cy="193320"/>
                </a:xfrm>
              </p:grpSpPr>
              <p:sp>
                <p:nvSpPr>
                  <p:cNvPr id="47" name=""/>
                  <p:cNvSpPr/>
                  <p:nvPr/>
                </p:nvSpPr>
                <p:spPr>
                  <a:xfrm>
                    <a:off x="637920" y="4638600"/>
                    <a:ext cx="283680" cy="193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752400" y="4706640"/>
                    <a:ext cx="56160" cy="56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" name=""/>
                <p:cNvSpPr/>
                <p:nvPr/>
              </p:nvSpPr>
              <p:spPr>
                <a:xfrm>
                  <a:off x="780840" y="457200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" name=""/>
              <p:cNvSpPr/>
              <p:nvPr/>
            </p:nvSpPr>
            <p:spPr>
              <a:xfrm>
                <a:off x="483480" y="4335120"/>
                <a:ext cx="152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FIRE SUPPORT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05120" y="4514400"/>
                <a:ext cx="457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FS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61920" y="4678920"/>
                <a:ext cx="223344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 Light Artillery Battery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4 per division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103320" y="97200"/>
            <a:ext cx="3149280" cy="5734800"/>
            <a:chOff x="103320" y="97200"/>
            <a:chExt cx="3149280" cy="5734800"/>
          </a:xfrm>
        </p:grpSpPr>
        <p:sp>
          <p:nvSpPr>
            <p:cNvPr id="54" name=""/>
            <p:cNvSpPr/>
            <p:nvPr/>
          </p:nvSpPr>
          <p:spPr>
            <a:xfrm>
              <a:off x="304920" y="1000080"/>
              <a:ext cx="0" cy="37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3320" y="97200"/>
              <a:ext cx="2334960" cy="6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Battle Group-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giment Huzaren Motorrijd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torcycle Regiment (Light Division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295200" y="951840"/>
              <a:ext cx="2193120" cy="838080"/>
              <a:chOff x="295200" y="951840"/>
              <a:chExt cx="2193120" cy="83808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295200" y="1180440"/>
                <a:ext cx="2183040" cy="350640"/>
                <a:chOff x="295200" y="1180440"/>
                <a:chExt cx="2183040" cy="3506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95200" y="1352520"/>
                  <a:ext cx="428760" cy="9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" name=""/>
                <p:cNvGrpSpPr/>
                <p:nvPr/>
              </p:nvGrpSpPr>
              <p:grpSpPr>
                <a:xfrm>
                  <a:off x="604800" y="1243080"/>
                  <a:ext cx="231840" cy="210960"/>
                  <a:chOff x="604800" y="1243080"/>
                  <a:chExt cx="231840" cy="210960"/>
                </a:xfrm>
              </p:grpSpPr>
              <p:grpSp>
                <p:nvGrpSpPr>
                  <p:cNvPr id="60" name=""/>
                  <p:cNvGrpSpPr/>
                  <p:nvPr/>
                </p:nvGrpSpPr>
                <p:grpSpPr>
                  <a:xfrm>
                    <a:off x="604800" y="1297080"/>
                    <a:ext cx="231840" cy="156960"/>
                    <a:chOff x="604800" y="1297080"/>
                    <a:chExt cx="231840" cy="15696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>
                      <a:off x="604800" y="129708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630360" y="1319040"/>
                      <a:ext cx="183960" cy="110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" name=""/>
                  <p:cNvSpPr/>
                  <p:nvPr/>
                </p:nvSpPr>
                <p:spPr>
                  <a:xfrm>
                    <a:off x="706320" y="12430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" name=""/>
                <p:cNvSpPr/>
                <p:nvPr/>
              </p:nvSpPr>
              <p:spPr>
                <a:xfrm>
                  <a:off x="822600" y="118044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61840" y="1315440"/>
                  <a:ext cx="1616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NE-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599760" y="1409760"/>
                <a:ext cx="1888560" cy="380160"/>
                <a:chOff x="599760" y="1409760"/>
                <a:chExt cx="1888560" cy="38016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618840" y="1409760"/>
                  <a:ext cx="0" cy="22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22240" y="146772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59680" y="1574280"/>
                  <a:ext cx="1628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Staff Car                     FR-18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599760" y="1514520"/>
                  <a:ext cx="231840" cy="237960"/>
                  <a:chOff x="599760" y="1514520"/>
                  <a:chExt cx="231840" cy="23796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599760" y="1562040"/>
                    <a:ext cx="231840" cy="190440"/>
                    <a:chOff x="599760" y="1562040"/>
                    <a:chExt cx="231840" cy="19044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599760" y="156204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610920" y="17254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792000" y="17254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5" name=""/>
                  <p:cNvSpPr/>
                  <p:nvPr/>
                </p:nvSpPr>
                <p:spPr>
                  <a:xfrm>
                    <a:off x="704520" y="1514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6" name=""/>
              <p:cNvSpPr/>
              <p:nvPr/>
            </p:nvSpPr>
            <p:spPr>
              <a:xfrm>
                <a:off x="544680" y="951840"/>
                <a:ext cx="1262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52280" y="838080"/>
              <a:ext cx="347400" cy="348840"/>
              <a:chOff x="152280" y="838080"/>
              <a:chExt cx="347400" cy="34884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152280" y="901440"/>
                <a:ext cx="347400" cy="285480"/>
                <a:chOff x="152280" y="901440"/>
                <a:chExt cx="347400" cy="2854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52280" y="901440"/>
                  <a:ext cx="347400" cy="2354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68840" y="1146600"/>
                  <a:ext cx="40320" cy="40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40280" y="1146600"/>
                  <a:ext cx="42480" cy="40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000" bIns="-18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62080" y="838080"/>
                <a:ext cx="131760" cy="64800"/>
                <a:chOff x="262080" y="838080"/>
                <a:chExt cx="131760" cy="6480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29040" y="8395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262080" y="838080"/>
                  <a:ext cx="131760" cy="64800"/>
                  <a:chOff x="262080" y="838080"/>
                  <a:chExt cx="131760" cy="6480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262080" y="83952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393840" y="838080"/>
                    <a:ext cx="0" cy="6336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7" name=""/>
            <p:cNvGrpSpPr/>
            <p:nvPr/>
          </p:nvGrpSpPr>
          <p:grpSpPr>
            <a:xfrm>
              <a:off x="304560" y="1856880"/>
              <a:ext cx="2233800" cy="371160"/>
              <a:chOff x="304560" y="1856880"/>
              <a:chExt cx="2233800" cy="371160"/>
            </a:xfrm>
          </p:grpSpPr>
          <p:sp>
            <p:nvSpPr>
              <p:cNvPr id="88" name=""/>
              <p:cNvSpPr/>
              <p:nvPr/>
            </p:nvSpPr>
            <p:spPr>
              <a:xfrm flipH="1">
                <a:off x="304560" y="2085840"/>
                <a:ext cx="547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963360" y="185688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ME-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933480" y="2009160"/>
                <a:ext cx="1604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 Motorcycle Squadr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" name=""/>
              <p:cNvGrpSpPr/>
              <p:nvPr/>
            </p:nvGrpSpPr>
            <p:grpSpPr>
              <a:xfrm>
                <a:off x="666720" y="1933560"/>
                <a:ext cx="283680" cy="294480"/>
                <a:chOff x="666720" y="1933560"/>
                <a:chExt cx="283680" cy="294480"/>
              </a:xfrm>
            </p:grpSpPr>
            <p:grpSp>
              <p:nvGrpSpPr>
                <p:cNvPr id="92" name=""/>
                <p:cNvGrpSpPr/>
                <p:nvPr/>
              </p:nvGrpSpPr>
              <p:grpSpPr>
                <a:xfrm>
                  <a:off x="666720" y="1995480"/>
                  <a:ext cx="283680" cy="232560"/>
                  <a:chOff x="666720" y="1995480"/>
                  <a:chExt cx="283680" cy="23256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>
                    <a:off x="666720" y="1995480"/>
                    <a:ext cx="283680" cy="19188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680040" y="2195280"/>
                    <a:ext cx="3276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902160" y="2195280"/>
                    <a:ext cx="3456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6" name=""/>
                <p:cNvSpPr/>
                <p:nvPr/>
              </p:nvSpPr>
              <p:spPr>
                <a:xfrm>
                  <a:off x="807840" y="1933560"/>
                  <a:ext cx="0" cy="6372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487440" y="1742400"/>
              <a:ext cx="113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14280" y="2438280"/>
              <a:ext cx="2361960" cy="595440"/>
              <a:chOff x="314280" y="2438280"/>
              <a:chExt cx="2361960" cy="59544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685800" y="2571480"/>
                <a:ext cx="1990080" cy="462240"/>
                <a:chOff x="685800" y="2571480"/>
                <a:chExt cx="1990080" cy="4622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14240" y="257148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685800" y="2665800"/>
                  <a:ext cx="1990080" cy="367920"/>
                  <a:chOff x="685800" y="2665800"/>
                  <a:chExt cx="1990080" cy="36792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685800" y="2795040"/>
                    <a:ext cx="231480" cy="232920"/>
                    <a:chOff x="685800" y="2795040"/>
                    <a:chExt cx="231480" cy="23292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763200" y="2795040"/>
                      <a:ext cx="73800" cy="28080"/>
                      <a:chOff x="763200" y="2795040"/>
                      <a:chExt cx="73800" cy="28080"/>
                    </a:xfrm>
                  </p:grpSpPr>
                  <p:sp>
                    <p:nvSpPr>
                      <p:cNvPr id="104" name=""/>
                      <p:cNvSpPr/>
                      <p:nvPr/>
                    </p:nvSpPr>
                    <p:spPr>
                      <a:xfrm>
                        <a:off x="763200" y="279504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" name=""/>
                      <p:cNvSpPr/>
                      <p:nvPr/>
                    </p:nvSpPr>
                    <p:spPr>
                      <a:xfrm>
                        <a:off x="810360" y="279648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6" name=""/>
                    <p:cNvGrpSpPr/>
                    <p:nvPr/>
                  </p:nvGrpSpPr>
                  <p:grpSpPr>
                    <a:xfrm>
                      <a:off x="685800" y="2837520"/>
                      <a:ext cx="231480" cy="190440"/>
                      <a:chOff x="685800" y="2837520"/>
                      <a:chExt cx="231480" cy="190440"/>
                    </a:xfrm>
                  </p:grpSpPr>
                  <p:sp>
                    <p:nvSpPr>
                      <p:cNvPr id="107" name=""/>
                      <p:cNvSpPr/>
                      <p:nvPr/>
                    </p:nvSpPr>
                    <p:spPr>
                      <a:xfrm>
                        <a:off x="685800" y="283752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" name=""/>
                      <p:cNvSpPr/>
                      <p:nvPr/>
                    </p:nvSpPr>
                    <p:spPr>
                      <a:xfrm>
                        <a:off x="696600" y="300096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" name=""/>
                      <p:cNvSpPr/>
                      <p:nvPr/>
                    </p:nvSpPr>
                    <p:spPr>
                      <a:xfrm>
                        <a:off x="877680" y="300096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10" name=""/>
                  <p:cNvSpPr/>
                  <p:nvPr/>
                </p:nvSpPr>
                <p:spPr>
                  <a:xfrm>
                    <a:off x="923760" y="281808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Motorcycle                    NE-0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925560" y="266580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2" name=""/>
              <p:cNvGrpSpPr/>
              <p:nvPr/>
            </p:nvGrpSpPr>
            <p:grpSpPr>
              <a:xfrm>
                <a:off x="314280" y="2438280"/>
                <a:ext cx="2361960" cy="262440"/>
                <a:chOff x="314280" y="2438280"/>
                <a:chExt cx="2361960" cy="26244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314280" y="25714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" name=""/>
                <p:cNvGrpSpPr/>
                <p:nvPr/>
              </p:nvGrpSpPr>
              <p:grpSpPr>
                <a:xfrm>
                  <a:off x="676080" y="2438280"/>
                  <a:ext cx="231480" cy="213840"/>
                  <a:chOff x="676080" y="2438280"/>
                  <a:chExt cx="231480" cy="213840"/>
                </a:xfrm>
              </p:grpSpPr>
              <p:grpSp>
                <p:nvGrpSpPr>
                  <p:cNvPr id="115" name=""/>
                  <p:cNvGrpSpPr/>
                  <p:nvPr/>
                </p:nvGrpSpPr>
                <p:grpSpPr>
                  <a:xfrm>
                    <a:off x="676080" y="2495160"/>
                    <a:ext cx="231480" cy="156960"/>
                    <a:chOff x="676080" y="2495160"/>
                    <a:chExt cx="231480" cy="156960"/>
                  </a:xfrm>
                </p:grpSpPr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676080" y="2495160"/>
                      <a:ext cx="23148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676080" y="2495160"/>
                      <a:ext cx="55440" cy="155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flipV="1">
                      <a:off x="676080" y="2498040"/>
                      <a:ext cx="228240" cy="150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677520" y="2495160"/>
                      <a:ext cx="2264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" name=""/>
                  <p:cNvGrpSpPr/>
                  <p:nvPr/>
                </p:nvGrpSpPr>
                <p:grpSpPr>
                  <a:xfrm>
                    <a:off x="755280" y="2438280"/>
                    <a:ext cx="74520" cy="28080"/>
                    <a:chOff x="755280" y="2438280"/>
                    <a:chExt cx="74520" cy="28080"/>
                  </a:xfrm>
                </p:grpSpPr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755280" y="24382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802800" y="24397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23" name=""/>
                <p:cNvSpPr/>
                <p:nvPr/>
              </p:nvSpPr>
              <p:spPr>
                <a:xfrm>
                  <a:off x="923760" y="2485080"/>
                  <a:ext cx="1752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Heavy Machine Gun     NE-2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487440" y="2256840"/>
              <a:ext cx="796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14280" y="2990160"/>
              <a:ext cx="2409120" cy="691200"/>
              <a:chOff x="314280" y="2990160"/>
              <a:chExt cx="2409120" cy="6912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733320" y="3219120"/>
                <a:ext cx="1990080" cy="462240"/>
                <a:chOff x="733320" y="3219120"/>
                <a:chExt cx="1990080" cy="4622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1760" y="321912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733320" y="3313440"/>
                  <a:ext cx="1990080" cy="367920"/>
                  <a:chOff x="733320" y="3313440"/>
                  <a:chExt cx="1990080" cy="367920"/>
                </a:xfrm>
              </p:grpSpPr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733320" y="3442680"/>
                    <a:ext cx="231480" cy="232920"/>
                    <a:chOff x="733320" y="3442680"/>
                    <a:chExt cx="231480" cy="232920"/>
                  </a:xfrm>
                </p:grpSpPr>
                <p:grpSp>
                  <p:nvGrpSpPr>
                    <p:cNvPr id="130" name=""/>
                    <p:cNvGrpSpPr/>
                    <p:nvPr/>
                  </p:nvGrpSpPr>
                  <p:grpSpPr>
                    <a:xfrm>
                      <a:off x="810720" y="3442680"/>
                      <a:ext cx="73800" cy="28080"/>
                      <a:chOff x="810720" y="3442680"/>
                      <a:chExt cx="73800" cy="28080"/>
                    </a:xfrm>
                  </p:grpSpPr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810720" y="344268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857880" y="344412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33" name=""/>
                    <p:cNvGrpSpPr/>
                    <p:nvPr/>
                  </p:nvGrpSpPr>
                  <p:grpSpPr>
                    <a:xfrm>
                      <a:off x="733320" y="3485160"/>
                      <a:ext cx="231480" cy="190440"/>
                      <a:chOff x="733320" y="3485160"/>
                      <a:chExt cx="231480" cy="190440"/>
                    </a:xfrm>
                  </p:grpSpPr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733320" y="348516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>
                        <a:off x="744120" y="364860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925200" y="364860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37" name=""/>
                  <p:cNvSpPr/>
                  <p:nvPr/>
                </p:nvSpPr>
                <p:spPr>
                  <a:xfrm>
                    <a:off x="971280" y="346572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Motorcycle                  NE-05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973080" y="331344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314280" y="2990160"/>
                <a:ext cx="2361960" cy="367920"/>
                <a:chOff x="314280" y="2990160"/>
                <a:chExt cx="2361960" cy="3679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14280" y="323820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723600" y="3114360"/>
                  <a:ext cx="239760" cy="204120"/>
                  <a:chOff x="723600" y="3114360"/>
                  <a:chExt cx="239760" cy="20412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806400" y="3114360"/>
                    <a:ext cx="74520" cy="27720"/>
                    <a:chOff x="806400" y="3114360"/>
                    <a:chExt cx="74520" cy="2772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806400" y="3114360"/>
                      <a:ext cx="2844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853920" y="3115800"/>
                      <a:ext cx="27000" cy="262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723600" y="3161520"/>
                    <a:ext cx="239760" cy="156960"/>
                    <a:chOff x="723600" y="3161520"/>
                    <a:chExt cx="239760" cy="156960"/>
                  </a:xfrm>
                </p:grpSpPr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723600" y="3161520"/>
                      <a:ext cx="23976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47" name=""/>
                    <p:cNvGrpSpPr/>
                    <p:nvPr/>
                  </p:nvGrpSpPr>
                  <p:grpSpPr>
                    <a:xfrm>
                      <a:off x="809280" y="3204000"/>
                      <a:ext cx="68400" cy="72720"/>
                      <a:chOff x="809280" y="3204000"/>
                      <a:chExt cx="68400" cy="72720"/>
                    </a:xfrm>
                  </p:grpSpPr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809280" y="3276720"/>
                        <a:ext cx="68400" cy="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842760" y="3204000"/>
                        <a:ext cx="0" cy="72720"/>
                      </a:xfrm>
                      <a:prstGeom prst="line">
                        <a:avLst/>
                      </a:prstGeom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50" name=""/>
                <p:cNvSpPr/>
                <p:nvPr/>
              </p:nvSpPr>
              <p:spPr>
                <a:xfrm>
                  <a:off x="923760" y="3142440"/>
                  <a:ext cx="1752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80mm Mortar                NE-2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925920" y="2990160"/>
                  <a:ext cx="1127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Organic Fire Sup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314280" y="3762360"/>
              <a:ext cx="2409480" cy="586080"/>
              <a:chOff x="314280" y="3762360"/>
              <a:chExt cx="2409480" cy="58608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733680" y="3886200"/>
                <a:ext cx="1990080" cy="462240"/>
                <a:chOff x="733680" y="3886200"/>
                <a:chExt cx="1990080" cy="4622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762120" y="38862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5" name=""/>
                <p:cNvGrpSpPr/>
                <p:nvPr/>
              </p:nvGrpSpPr>
              <p:grpSpPr>
                <a:xfrm>
                  <a:off x="733680" y="3980520"/>
                  <a:ext cx="1990080" cy="367920"/>
                  <a:chOff x="733680" y="3980520"/>
                  <a:chExt cx="1990080" cy="367920"/>
                </a:xfrm>
              </p:grpSpPr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733680" y="4109760"/>
                    <a:ext cx="231480" cy="232920"/>
                    <a:chOff x="733680" y="4109760"/>
                    <a:chExt cx="231480" cy="232920"/>
                  </a:xfrm>
                </p:grpSpPr>
                <p:grpSp>
                  <p:nvGrpSpPr>
                    <p:cNvPr id="157" name=""/>
                    <p:cNvGrpSpPr/>
                    <p:nvPr/>
                  </p:nvGrpSpPr>
                  <p:grpSpPr>
                    <a:xfrm>
                      <a:off x="811080" y="4109760"/>
                      <a:ext cx="73800" cy="28080"/>
                      <a:chOff x="811080" y="4109760"/>
                      <a:chExt cx="73800" cy="28080"/>
                    </a:xfrm>
                  </p:grpSpPr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811080" y="410976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858240" y="411120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733680" y="4152240"/>
                      <a:ext cx="231480" cy="190440"/>
                      <a:chOff x="733680" y="4152240"/>
                      <a:chExt cx="231480" cy="19044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733680" y="415224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744480" y="43156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925560" y="431568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4" name=""/>
                  <p:cNvSpPr/>
                  <p:nvPr/>
                </p:nvSpPr>
                <p:spPr>
                  <a:xfrm>
                    <a:off x="971640" y="413280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Vickers Utility Tractor NE-04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973440" y="398052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6" name=""/>
              <p:cNvGrpSpPr/>
              <p:nvPr/>
            </p:nvGrpSpPr>
            <p:grpSpPr>
              <a:xfrm>
                <a:off x="314280" y="3762360"/>
                <a:ext cx="2362320" cy="262800"/>
                <a:chOff x="314280" y="3762360"/>
                <a:chExt cx="2362320" cy="2628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14280" y="39052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924120" y="3809520"/>
                  <a:ext cx="17524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47mm Antitank Gun     NE-10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714600" y="3762360"/>
                  <a:ext cx="231480" cy="214200"/>
                  <a:chOff x="714600" y="3762360"/>
                  <a:chExt cx="231480" cy="21420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714600" y="3819600"/>
                    <a:ext cx="231480" cy="156960"/>
                    <a:chOff x="714600" y="3819600"/>
                    <a:chExt cx="231480" cy="15696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714600" y="3819600"/>
                      <a:ext cx="23148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V="1">
                      <a:off x="714600" y="382284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828360" y="381960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792000" y="3762360"/>
                    <a:ext cx="74520" cy="28080"/>
                    <a:chOff x="792000" y="3762360"/>
                    <a:chExt cx="74520" cy="2808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792000" y="37623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839520" y="37638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77" name=""/>
            <p:cNvGrpSpPr/>
            <p:nvPr/>
          </p:nvGrpSpPr>
          <p:grpSpPr>
            <a:xfrm>
              <a:off x="304920" y="4734000"/>
              <a:ext cx="2947680" cy="1098000"/>
              <a:chOff x="304920" y="4734000"/>
              <a:chExt cx="2947680" cy="1098000"/>
            </a:xfrm>
          </p:grpSpPr>
          <p:sp>
            <p:nvSpPr>
              <p:cNvPr id="178" name=""/>
              <p:cNvSpPr/>
              <p:nvPr/>
            </p:nvSpPr>
            <p:spPr>
              <a:xfrm>
                <a:off x="304920" y="5495760"/>
                <a:ext cx="533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541080" y="5096880"/>
                <a:ext cx="2711520" cy="735120"/>
                <a:chOff x="541080" y="5096880"/>
                <a:chExt cx="2711520" cy="735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41080" y="5096880"/>
                  <a:ext cx="1570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6600"/>
                      </a:solidFill>
                      <a:latin typeface="Arial"/>
                    </a:rPr>
                    <a:t>DIVISIONAL ATTACHMENT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1" name=""/>
                <p:cNvGrpSpPr/>
                <p:nvPr/>
              </p:nvGrpSpPr>
              <p:grpSpPr>
                <a:xfrm>
                  <a:off x="771480" y="5276160"/>
                  <a:ext cx="2481120" cy="555840"/>
                  <a:chOff x="771480" y="5276160"/>
                  <a:chExt cx="2481120" cy="555840"/>
                </a:xfrm>
              </p:grpSpPr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771480" y="5353200"/>
                    <a:ext cx="283680" cy="258480"/>
                    <a:chOff x="771480" y="5353200"/>
                    <a:chExt cx="283680" cy="25848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912600" y="53532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84" name=""/>
                    <p:cNvGrpSpPr/>
                    <p:nvPr/>
                  </p:nvGrpSpPr>
                  <p:grpSpPr>
                    <a:xfrm>
                      <a:off x="771480" y="5418360"/>
                      <a:ext cx="283680" cy="193320"/>
                      <a:chOff x="771480" y="5418360"/>
                      <a:chExt cx="283680" cy="193320"/>
                    </a:xfrm>
                  </p:grpSpPr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480" y="5418360"/>
                        <a:ext cx="283680" cy="19332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6" name=""/>
                      <p:cNvSpPr/>
                      <p:nvPr/>
                    </p:nvSpPr>
                    <p:spPr>
                      <a:xfrm>
                        <a:off x="771480" y="5418360"/>
                        <a:ext cx="68040" cy="191160"/>
                      </a:xfrm>
                      <a:prstGeom prst="rect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7" name=""/>
                      <p:cNvSpPr/>
                      <p:nvPr/>
                    </p:nvSpPr>
                    <p:spPr>
                      <a:xfrm flipV="1">
                        <a:off x="771480" y="5421960"/>
                        <a:ext cx="279720" cy="185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8" name=""/>
                      <p:cNvSpPr/>
                      <p:nvPr/>
                    </p:nvSpPr>
                    <p:spPr>
                      <a:xfrm>
                        <a:off x="773640" y="5418360"/>
                        <a:ext cx="277560" cy="187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89" name=""/>
                  <p:cNvSpPr/>
                  <p:nvPr/>
                </p:nvSpPr>
                <p:spPr>
                  <a:xfrm>
                    <a:off x="1049040" y="5276160"/>
                    <a:ext cx="48096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ME-0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019160" y="5431320"/>
                    <a:ext cx="2233440" cy="40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 Motorized Machinegun Squadr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(1 per division)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1" name=""/>
              <p:cNvSpPr/>
              <p:nvPr/>
            </p:nvSpPr>
            <p:spPr>
              <a:xfrm>
                <a:off x="304920" y="4734000"/>
                <a:ext cx="0" cy="75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2" name=""/>
          <p:cNvSpPr/>
          <p:nvPr/>
        </p:nvSpPr>
        <p:spPr>
          <a:xfrm>
            <a:off x="3531960" y="3696840"/>
            <a:ext cx="1570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6600"/>
                </a:solidFill>
                <a:latin typeface="Arial"/>
              </a:rPr>
              <a:t>DIVISIONAL ATTACHM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894040" y="466200"/>
            <a:ext cx="3158640" cy="6140160"/>
            <a:chOff x="2894040" y="466200"/>
            <a:chExt cx="3158640" cy="6140160"/>
          </a:xfrm>
        </p:grpSpPr>
        <p:sp>
          <p:nvSpPr>
            <p:cNvPr id="194" name=""/>
            <p:cNvSpPr/>
            <p:nvPr/>
          </p:nvSpPr>
          <p:spPr>
            <a:xfrm>
              <a:off x="2894040" y="466200"/>
              <a:ext cx="2335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Battle Group-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Regi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171960" y="1066320"/>
              <a:ext cx="2183040" cy="817200"/>
              <a:chOff x="3171960" y="1066320"/>
              <a:chExt cx="2183040" cy="8172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3171960" y="1294560"/>
                <a:ext cx="2183040" cy="350640"/>
                <a:chOff x="3171960" y="1294560"/>
                <a:chExt cx="2183040" cy="350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171960" y="1466640"/>
                  <a:ext cx="428760" cy="9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3481560" y="1357200"/>
                  <a:ext cx="231840" cy="210960"/>
                  <a:chOff x="3481560" y="1357200"/>
                  <a:chExt cx="231840" cy="210960"/>
                </a:xfrm>
              </p:grpSpPr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3481560" y="1411200"/>
                    <a:ext cx="231840" cy="156960"/>
                    <a:chOff x="3481560" y="1411200"/>
                    <a:chExt cx="231840" cy="15696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3481560" y="141120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3507120" y="1433160"/>
                      <a:ext cx="183960" cy="110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2" name=""/>
                  <p:cNvSpPr/>
                  <p:nvPr/>
                </p:nvSpPr>
                <p:spPr>
                  <a:xfrm>
                    <a:off x="3583080" y="135720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699360" y="129456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38600" y="1429560"/>
                  <a:ext cx="161640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 NE-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421080" y="1066320"/>
                <a:ext cx="1262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3171960" y="1657440"/>
                <a:ext cx="2165760" cy="226080"/>
                <a:chOff x="3171960" y="1657440"/>
                <a:chExt cx="2165760" cy="22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171960" y="1762200"/>
                  <a:ext cx="42840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07640" y="1667880"/>
                  <a:ext cx="16300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Infantry                       NE-15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" name=""/>
                <p:cNvGrpSpPr/>
                <p:nvPr/>
              </p:nvGrpSpPr>
              <p:grpSpPr>
                <a:xfrm>
                  <a:off x="3505320" y="1657440"/>
                  <a:ext cx="231480" cy="204840"/>
                  <a:chOff x="3505320" y="1657440"/>
                  <a:chExt cx="231480" cy="20484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3505320" y="1704960"/>
                    <a:ext cx="231480" cy="157320"/>
                    <a:chOff x="3505320" y="1704960"/>
                    <a:chExt cx="231480" cy="1573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3505320" y="1704960"/>
                      <a:ext cx="231480" cy="15732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V="1">
                      <a:off x="3507480" y="1706760"/>
                      <a:ext cx="225360" cy="15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3505320" y="1707120"/>
                      <a:ext cx="230400" cy="149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3582720" y="1657440"/>
                    <a:ext cx="73800" cy="28080"/>
                    <a:chOff x="3582720" y="1657440"/>
                    <a:chExt cx="73800" cy="2808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3582720" y="165744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3629880" y="165888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7" name=""/>
            <p:cNvGrpSpPr/>
            <p:nvPr/>
          </p:nvGrpSpPr>
          <p:grpSpPr>
            <a:xfrm>
              <a:off x="3171960" y="1858320"/>
              <a:ext cx="2032560" cy="558720"/>
              <a:chOff x="3171960" y="1858320"/>
              <a:chExt cx="2032560" cy="558720"/>
            </a:xfrm>
          </p:grpSpPr>
          <p:sp>
            <p:nvSpPr>
              <p:cNvPr id="218" name=""/>
              <p:cNvSpPr/>
              <p:nvPr/>
            </p:nvSpPr>
            <p:spPr>
              <a:xfrm>
                <a:off x="3171960" y="2305080"/>
                <a:ext cx="40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3419280" y="1858320"/>
                <a:ext cx="1785240" cy="558720"/>
                <a:chOff x="3419280" y="1858320"/>
                <a:chExt cx="1785240" cy="5587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3523680" y="2124000"/>
                  <a:ext cx="347040" cy="293040"/>
                  <a:chOff x="3523680" y="2124000"/>
                  <a:chExt cx="347040" cy="29304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3523680" y="2180880"/>
                    <a:ext cx="347040" cy="236160"/>
                    <a:chOff x="3523680" y="2180880"/>
                    <a:chExt cx="347040" cy="2361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3523680" y="2180880"/>
                      <a:ext cx="347040" cy="2361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 flipV="1">
                      <a:off x="3527280" y="218448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23680" y="218448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3656520" y="2124000"/>
                    <a:ext cx="75960" cy="63360"/>
                    <a:chOff x="3656520" y="2124000"/>
                    <a:chExt cx="75960" cy="633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3656520" y="21240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3732480" y="212400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28" name=""/>
                <p:cNvSpPr/>
                <p:nvPr/>
              </p:nvSpPr>
              <p:spPr>
                <a:xfrm>
                  <a:off x="3419280" y="1858320"/>
                  <a:ext cx="1024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6600"/>
                      </a:solidFill>
                      <a:latin typeface="Arial"/>
                    </a:rPr>
                    <a:t>BATTLEGROUP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889440" y="2046960"/>
                  <a:ext cx="4795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6600"/>
                      </a:solidFill>
                      <a:latin typeface="Arial"/>
                    </a:rPr>
                    <a:t>BG-0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6760" y="2189880"/>
                  <a:ext cx="1337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2-3 Infantry Battal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" name=""/>
            <p:cNvGrpSpPr/>
            <p:nvPr/>
          </p:nvGrpSpPr>
          <p:grpSpPr>
            <a:xfrm>
              <a:off x="3162240" y="2449080"/>
              <a:ext cx="2890440" cy="1258560"/>
              <a:chOff x="3162240" y="2449080"/>
              <a:chExt cx="2890440" cy="1258560"/>
            </a:xfrm>
          </p:grpSpPr>
          <p:sp>
            <p:nvSpPr>
              <p:cNvPr id="232" name=""/>
              <p:cNvSpPr/>
              <p:nvPr/>
            </p:nvSpPr>
            <p:spPr>
              <a:xfrm>
                <a:off x="3445920" y="2449080"/>
                <a:ext cx="15235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FIRE SUPPORT ELEMENT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3162240" y="2637720"/>
                <a:ext cx="2890440" cy="565200"/>
                <a:chOff x="3162240" y="2637720"/>
                <a:chExt cx="2890440" cy="5652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162240" y="2857320"/>
                  <a:ext cx="409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62440" y="2637720"/>
                  <a:ext cx="457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6600"/>
                      </a:solidFill>
                      <a:latin typeface="Arial"/>
                    </a:rPr>
                    <a:t>FS-0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19240" y="2802240"/>
                  <a:ext cx="22334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Light Artillery Battal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2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7" name=""/>
                <p:cNvGrpSpPr/>
                <p:nvPr/>
              </p:nvGrpSpPr>
              <p:grpSpPr>
                <a:xfrm>
                  <a:off x="3495600" y="2695320"/>
                  <a:ext cx="283320" cy="259920"/>
                  <a:chOff x="3495600" y="2695320"/>
                  <a:chExt cx="283320" cy="259920"/>
                </a:xfrm>
              </p:grpSpPr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3495600" y="2762280"/>
                    <a:ext cx="283320" cy="192960"/>
                    <a:chOff x="3495600" y="2762280"/>
                    <a:chExt cx="283320" cy="19296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3495600" y="2762280"/>
                      <a:ext cx="283320" cy="192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3610080" y="2830320"/>
                      <a:ext cx="56160" cy="56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3598200" y="2695320"/>
                    <a:ext cx="75960" cy="63360"/>
                    <a:chOff x="3598200" y="2695320"/>
                    <a:chExt cx="75960" cy="63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3598200" y="26953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3674160" y="269532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3162240" y="3142440"/>
                <a:ext cx="2890440" cy="565200"/>
                <a:chOff x="3162240" y="3142440"/>
                <a:chExt cx="2890440" cy="56520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162240" y="3362040"/>
                  <a:ext cx="409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862440" y="3142440"/>
                  <a:ext cx="4579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6600"/>
                      </a:solidFill>
                      <a:latin typeface="Arial"/>
                    </a:rPr>
                    <a:t>FS-04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819240" y="3306960"/>
                  <a:ext cx="22334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 Heavy Howitzer Battalion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1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95600" y="3200040"/>
                  <a:ext cx="283320" cy="259920"/>
                  <a:chOff x="3495600" y="3200040"/>
                  <a:chExt cx="283320" cy="259920"/>
                </a:xfrm>
              </p:grpSpPr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3495600" y="3267000"/>
                    <a:ext cx="283320" cy="192960"/>
                    <a:chOff x="3495600" y="3267000"/>
                    <a:chExt cx="283320" cy="1929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3495600" y="3267000"/>
                      <a:ext cx="283320" cy="192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3610080" y="3335040"/>
                      <a:ext cx="56160" cy="565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6840" bIns="-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2" name=""/>
                  <p:cNvGrpSpPr/>
                  <p:nvPr/>
                </p:nvGrpSpPr>
                <p:grpSpPr>
                  <a:xfrm>
                    <a:off x="3598200" y="3200040"/>
                    <a:ext cx="75960" cy="63360"/>
                    <a:chOff x="3598200" y="3200040"/>
                    <a:chExt cx="75960" cy="63360"/>
                  </a:xfrm>
                </p:grpSpPr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3598200" y="32000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3674160" y="320004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55" name=""/>
              <p:cNvSpPr/>
              <p:nvPr/>
            </p:nvSpPr>
            <p:spPr>
              <a:xfrm>
                <a:off x="3459240" y="3001320"/>
                <a:ext cx="3330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162240" y="4486320"/>
              <a:ext cx="2409120" cy="585720"/>
              <a:chOff x="3162240" y="4486320"/>
              <a:chExt cx="2409120" cy="58572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3581280" y="4609800"/>
                <a:ext cx="1990080" cy="462240"/>
                <a:chOff x="3581280" y="4609800"/>
                <a:chExt cx="1990080" cy="46224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609720" y="460980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" name=""/>
                <p:cNvGrpSpPr/>
                <p:nvPr/>
              </p:nvGrpSpPr>
              <p:grpSpPr>
                <a:xfrm>
                  <a:off x="3581280" y="4704120"/>
                  <a:ext cx="1990080" cy="367920"/>
                  <a:chOff x="3581280" y="4704120"/>
                  <a:chExt cx="1990080" cy="367920"/>
                </a:xfrm>
              </p:grpSpPr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581280" y="4833360"/>
                    <a:ext cx="231480" cy="232920"/>
                    <a:chOff x="3581280" y="4833360"/>
                    <a:chExt cx="231480" cy="232920"/>
                  </a:xfrm>
                </p:grpSpPr>
                <p:grpSp>
                  <p:nvGrpSpPr>
                    <p:cNvPr id="261" name=""/>
                    <p:cNvGrpSpPr/>
                    <p:nvPr/>
                  </p:nvGrpSpPr>
                  <p:grpSpPr>
                    <a:xfrm>
                      <a:off x="3658680" y="4833360"/>
                      <a:ext cx="73800" cy="28080"/>
                      <a:chOff x="3658680" y="4833360"/>
                      <a:chExt cx="73800" cy="28080"/>
                    </a:xfrm>
                  </p:grpSpPr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3658680" y="483336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3705840" y="483480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4" name=""/>
                    <p:cNvGrpSpPr/>
                    <p:nvPr/>
                  </p:nvGrpSpPr>
                  <p:grpSpPr>
                    <a:xfrm>
                      <a:off x="3581280" y="4875840"/>
                      <a:ext cx="231480" cy="190440"/>
                      <a:chOff x="3581280" y="4875840"/>
                      <a:chExt cx="231480" cy="190440"/>
                    </a:xfrm>
                  </p:grpSpPr>
                  <p:sp>
                    <p:nvSpPr>
                      <p:cNvPr id="265" name=""/>
                      <p:cNvSpPr/>
                      <p:nvPr/>
                    </p:nvSpPr>
                    <p:spPr>
                      <a:xfrm>
                        <a:off x="3581280" y="487584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6" name=""/>
                      <p:cNvSpPr/>
                      <p:nvPr/>
                    </p:nvSpPr>
                    <p:spPr>
                      <a:xfrm>
                        <a:off x="3592080" y="503928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7" name=""/>
                      <p:cNvSpPr/>
                      <p:nvPr/>
                    </p:nvSpPr>
                    <p:spPr>
                      <a:xfrm>
                        <a:off x="3773160" y="503928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68" name=""/>
                  <p:cNvSpPr/>
                  <p:nvPr/>
                </p:nvSpPr>
                <p:spPr>
                  <a:xfrm>
                    <a:off x="3819240" y="485640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Horse-drawn Limber     FR-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3821040" y="470412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0" name=""/>
              <p:cNvSpPr/>
              <p:nvPr/>
            </p:nvSpPr>
            <p:spPr>
              <a:xfrm>
                <a:off x="3162240" y="46288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72080" y="453312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47mm Antitank Gun       NE-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3562200" y="4486320"/>
                <a:ext cx="231840" cy="214200"/>
                <a:chOff x="3562200" y="4486320"/>
                <a:chExt cx="231840" cy="21420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3562200" y="4543560"/>
                  <a:ext cx="231840" cy="156960"/>
                  <a:chOff x="3562200" y="4543560"/>
                  <a:chExt cx="231840" cy="15696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3562200" y="454356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3562200" y="454680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675960" y="454356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7" name=""/>
                <p:cNvGrpSpPr/>
                <p:nvPr/>
              </p:nvGrpSpPr>
              <p:grpSpPr>
                <a:xfrm>
                  <a:off x="3639960" y="4486320"/>
                  <a:ext cx="74520" cy="28080"/>
                  <a:chOff x="3639960" y="4486320"/>
                  <a:chExt cx="74520" cy="2808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3639960" y="44863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3687480" y="44877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80" name=""/>
            <p:cNvGrpSpPr/>
            <p:nvPr/>
          </p:nvGrpSpPr>
          <p:grpSpPr>
            <a:xfrm>
              <a:off x="3162240" y="3905280"/>
              <a:ext cx="2457360" cy="243720"/>
              <a:chOff x="3162240" y="3905280"/>
              <a:chExt cx="2457360" cy="243720"/>
            </a:xfrm>
          </p:grpSpPr>
          <p:sp>
            <p:nvSpPr>
              <p:cNvPr id="281" name=""/>
              <p:cNvSpPr/>
              <p:nvPr/>
            </p:nvSpPr>
            <p:spPr>
              <a:xfrm>
                <a:off x="3162240" y="402912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3571920" y="3905280"/>
                <a:ext cx="231480" cy="204840"/>
                <a:chOff x="3571920" y="3905280"/>
                <a:chExt cx="231480" cy="20484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3571920" y="3952800"/>
                  <a:ext cx="231480" cy="157320"/>
                  <a:chOff x="3571920" y="3952800"/>
                  <a:chExt cx="231480" cy="1573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3571920" y="3952800"/>
                    <a:ext cx="23148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3643200" y="4000320"/>
                    <a:ext cx="0" cy="500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3684600" y="4002480"/>
                    <a:ext cx="0" cy="4752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3724920" y="4003920"/>
                    <a:ext cx="0" cy="4644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3638160" y="4002480"/>
                    <a:ext cx="93600" cy="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3651120" y="3905280"/>
                  <a:ext cx="73800" cy="28080"/>
                  <a:chOff x="3651120" y="3905280"/>
                  <a:chExt cx="73800" cy="2808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3651120" y="3905280"/>
                    <a:ext cx="2808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3698280" y="3906720"/>
                    <a:ext cx="266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2" name=""/>
              <p:cNvSpPr/>
              <p:nvPr/>
            </p:nvSpPr>
            <p:spPr>
              <a:xfrm>
                <a:off x="3867120" y="393336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Engineers                  NE-1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3162240" y="4200480"/>
              <a:ext cx="2419560" cy="243360"/>
              <a:chOff x="3162240" y="4200480"/>
              <a:chExt cx="2419560" cy="243360"/>
            </a:xfrm>
          </p:grpSpPr>
          <p:sp>
            <p:nvSpPr>
              <p:cNvPr id="294" name=""/>
              <p:cNvSpPr/>
              <p:nvPr/>
            </p:nvSpPr>
            <p:spPr>
              <a:xfrm>
                <a:off x="3162240" y="43146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3543480" y="4200480"/>
                <a:ext cx="231840" cy="204840"/>
                <a:chOff x="3543480" y="4200480"/>
                <a:chExt cx="231840" cy="20484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43480" y="4248360"/>
                  <a:ext cx="231840" cy="156960"/>
                  <a:chOff x="3543480" y="4248360"/>
                  <a:chExt cx="231840" cy="15696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43480" y="424836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543480" y="4248360"/>
                    <a:ext cx="55800" cy="15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V="1">
                    <a:off x="3543480" y="4251240"/>
                    <a:ext cx="228600" cy="15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3545280" y="4248360"/>
                    <a:ext cx="2268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" name=""/>
                <p:cNvGrpSpPr/>
                <p:nvPr/>
              </p:nvGrpSpPr>
              <p:grpSpPr>
                <a:xfrm>
                  <a:off x="3623040" y="4200480"/>
                  <a:ext cx="74520" cy="28800"/>
                  <a:chOff x="3623040" y="4200480"/>
                  <a:chExt cx="74520" cy="2880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3623040" y="42004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670560" y="42022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4" name=""/>
              <p:cNvSpPr/>
              <p:nvPr/>
            </p:nvSpPr>
            <p:spPr>
              <a:xfrm>
                <a:off x="3829320" y="422820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Heavy Machine Gun     NE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3162240" y="5124600"/>
              <a:ext cx="2419560" cy="1481760"/>
              <a:chOff x="3162240" y="5124600"/>
              <a:chExt cx="2419560" cy="1481760"/>
            </a:xfrm>
          </p:grpSpPr>
          <p:sp>
            <p:nvSpPr>
              <p:cNvPr id="306" name=""/>
              <p:cNvSpPr/>
              <p:nvPr/>
            </p:nvSpPr>
            <p:spPr>
              <a:xfrm>
                <a:off x="3571920" y="5239080"/>
                <a:ext cx="0" cy="1279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3543480" y="6238440"/>
                <a:ext cx="1990080" cy="367920"/>
                <a:chOff x="3543480" y="6238440"/>
                <a:chExt cx="1990080" cy="3679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3543480" y="6367680"/>
                  <a:ext cx="231480" cy="232920"/>
                  <a:chOff x="3543480" y="6367680"/>
                  <a:chExt cx="231480" cy="2329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3620880" y="6367680"/>
                    <a:ext cx="73800" cy="28080"/>
                    <a:chOff x="3620880" y="6367680"/>
                    <a:chExt cx="73800" cy="2808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3620880" y="636768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3668040" y="63691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3543480" y="6410160"/>
                    <a:ext cx="231480" cy="190440"/>
                    <a:chOff x="3543480" y="6410160"/>
                    <a:chExt cx="231480" cy="19044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3543480" y="6410160"/>
                      <a:ext cx="23148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3554280" y="657360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735360" y="657360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6" name=""/>
                <p:cNvSpPr/>
                <p:nvPr/>
              </p:nvSpPr>
              <p:spPr>
                <a:xfrm>
                  <a:off x="3781440" y="6390720"/>
                  <a:ext cx="175212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Light Truck                  NE-0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783240" y="6238440"/>
                  <a:ext cx="616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162240" y="5124600"/>
                <a:ext cx="2419200" cy="421920"/>
                <a:chOff x="3162240" y="5124600"/>
                <a:chExt cx="2419200" cy="4219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162240" y="5239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0" name=""/>
                <p:cNvGrpSpPr/>
                <p:nvPr/>
              </p:nvGrpSpPr>
              <p:grpSpPr>
                <a:xfrm>
                  <a:off x="3543120" y="5124600"/>
                  <a:ext cx="231840" cy="204840"/>
                  <a:chOff x="3543120" y="5124600"/>
                  <a:chExt cx="231840" cy="204840"/>
                </a:xfrm>
              </p:grpSpPr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543120" y="5172480"/>
                    <a:ext cx="231840" cy="156960"/>
                    <a:chOff x="3543120" y="5172480"/>
                    <a:chExt cx="231840" cy="15696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3543120" y="517248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3120" y="5172480"/>
                      <a:ext cx="55800" cy="1551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V="1">
                      <a:off x="3543120" y="5175360"/>
                      <a:ext cx="228600" cy="150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544920" y="5172480"/>
                      <a:ext cx="22680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6" name=""/>
                  <p:cNvGrpSpPr/>
                  <p:nvPr/>
                </p:nvGrpSpPr>
                <p:grpSpPr>
                  <a:xfrm>
                    <a:off x="3622680" y="5124600"/>
                    <a:ext cx="74520" cy="28800"/>
                    <a:chOff x="3622680" y="5124600"/>
                    <a:chExt cx="74520" cy="28800"/>
                  </a:xfrm>
                </p:grpSpPr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3622680" y="51246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670200" y="51264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9" name=""/>
                <p:cNvSpPr/>
                <p:nvPr/>
              </p:nvSpPr>
              <p:spPr>
                <a:xfrm>
                  <a:off x="3828960" y="5145840"/>
                  <a:ext cx="17524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A Machine Gun         NE-11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3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3162240" y="5467680"/>
                <a:ext cx="2419560" cy="431280"/>
                <a:chOff x="3162240" y="5467680"/>
                <a:chExt cx="2419560" cy="43128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162240" y="559152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3543480" y="5467680"/>
                  <a:ext cx="241200" cy="214200"/>
                  <a:chOff x="3543480" y="5467680"/>
                  <a:chExt cx="241200" cy="214200"/>
                </a:xfrm>
              </p:grpSpPr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3543480" y="5524920"/>
                    <a:ext cx="241200" cy="156960"/>
                    <a:chOff x="3543480" y="5524920"/>
                    <a:chExt cx="241200" cy="15696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544920" y="5524920"/>
                      <a:ext cx="23976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V="1">
                      <a:off x="3543480" y="552636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3659400" y="5524920"/>
                      <a:ext cx="12384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610080" y="55915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3625920" y="5467680"/>
                    <a:ext cx="74520" cy="28080"/>
                    <a:chOff x="3625920" y="5467680"/>
                    <a:chExt cx="74520" cy="2808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3625920" y="54676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3673440" y="54691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1" name=""/>
                <p:cNvSpPr/>
                <p:nvPr/>
              </p:nvSpPr>
              <p:spPr>
                <a:xfrm>
                  <a:off x="3828960" y="5498280"/>
                  <a:ext cx="17528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Light AA Gun              NE-12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5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3162240" y="5886720"/>
                <a:ext cx="2419560" cy="431280"/>
                <a:chOff x="3162240" y="5886720"/>
                <a:chExt cx="2419560" cy="43128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3162240" y="601056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" name=""/>
                <p:cNvGrpSpPr/>
                <p:nvPr/>
              </p:nvGrpSpPr>
              <p:grpSpPr>
                <a:xfrm>
                  <a:off x="3543480" y="5886720"/>
                  <a:ext cx="241200" cy="214200"/>
                  <a:chOff x="3543480" y="5886720"/>
                  <a:chExt cx="241200" cy="21420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3543480" y="5943960"/>
                    <a:ext cx="241200" cy="156960"/>
                    <a:chOff x="3543480" y="5943960"/>
                    <a:chExt cx="241200" cy="15696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544920" y="5943960"/>
                      <a:ext cx="23976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3543480" y="594540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3659400" y="5943960"/>
                      <a:ext cx="12384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3610080" y="601056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3625920" y="5886720"/>
                    <a:ext cx="74520" cy="28080"/>
                    <a:chOff x="3625920" y="5886720"/>
                    <a:chExt cx="74520" cy="2808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3625920" y="58867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3673440" y="58881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3" name=""/>
                <p:cNvSpPr/>
                <p:nvPr/>
              </p:nvSpPr>
              <p:spPr>
                <a:xfrm>
                  <a:off x="3828960" y="5917320"/>
                  <a:ext cx="175284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Medium AA Gun         NE-13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1 per division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2990880" y="960480"/>
              <a:ext cx="347040" cy="5059440"/>
              <a:chOff x="2990880" y="960480"/>
              <a:chExt cx="347040" cy="5059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2990880" y="960480"/>
                <a:ext cx="347040" cy="2440080"/>
                <a:chOff x="2990880" y="960480"/>
                <a:chExt cx="347040" cy="24400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162240" y="1123920"/>
                  <a:ext cx="0" cy="2276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7" name=""/>
                <p:cNvGrpSpPr/>
                <p:nvPr/>
              </p:nvGrpSpPr>
              <p:grpSpPr>
                <a:xfrm>
                  <a:off x="2990880" y="960480"/>
                  <a:ext cx="347040" cy="294840"/>
                  <a:chOff x="2990880" y="960480"/>
                  <a:chExt cx="347040" cy="294840"/>
                </a:xfrm>
              </p:grpSpPr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3098880" y="960480"/>
                    <a:ext cx="131760" cy="63360"/>
                    <a:chOff x="3098880" y="960480"/>
                    <a:chExt cx="131760" cy="6336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>
                      <a:off x="3165480" y="9604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3098880" y="9604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3230640" y="960480"/>
                      <a:ext cx="0" cy="63360"/>
                    </a:xfrm>
                    <a:prstGeom prst="line">
                      <a:avLst/>
                    </a:prstGeom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2990880" y="1019160"/>
                    <a:ext cx="347040" cy="236160"/>
                    <a:chOff x="2990880" y="1019160"/>
                    <a:chExt cx="347040" cy="236160"/>
                  </a:xfrm>
                </p:grpSpPr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2990880" y="1019160"/>
                      <a:ext cx="347040" cy="2361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 flipV="1">
                      <a:off x="2994480" y="1022760"/>
                      <a:ext cx="338400" cy="231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2990880" y="1022760"/>
                      <a:ext cx="345600" cy="225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66" name=""/>
              <p:cNvSpPr/>
              <p:nvPr/>
            </p:nvSpPr>
            <p:spPr>
              <a:xfrm>
                <a:off x="3162240" y="3390840"/>
                <a:ext cx="0" cy="262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7" name=""/>
          <p:cNvGrpSpPr/>
          <p:nvPr/>
        </p:nvGrpSpPr>
        <p:grpSpPr>
          <a:xfrm>
            <a:off x="5541840" y="475560"/>
            <a:ext cx="2697120" cy="4301640"/>
            <a:chOff x="5541840" y="475560"/>
            <a:chExt cx="2697120" cy="4301640"/>
          </a:xfrm>
        </p:grpSpPr>
        <p:sp>
          <p:nvSpPr>
            <p:cNvPr id="368" name=""/>
            <p:cNvSpPr/>
            <p:nvPr/>
          </p:nvSpPr>
          <p:spPr>
            <a:xfrm>
              <a:off x="5541840" y="475560"/>
              <a:ext cx="233532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Battle Group-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00680" y="1133640"/>
              <a:ext cx="0" cy="320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5810400" y="1075680"/>
              <a:ext cx="2153880" cy="579240"/>
              <a:chOff x="5810400" y="1075680"/>
              <a:chExt cx="2153880" cy="579240"/>
            </a:xfrm>
          </p:grpSpPr>
          <p:grpSp>
            <p:nvGrpSpPr>
              <p:cNvPr id="371" name=""/>
              <p:cNvGrpSpPr/>
              <p:nvPr/>
            </p:nvGrpSpPr>
            <p:grpSpPr>
              <a:xfrm>
                <a:off x="5810400" y="1304280"/>
                <a:ext cx="2153880" cy="350640"/>
                <a:chOff x="5810400" y="1304280"/>
                <a:chExt cx="2153880" cy="3506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810400" y="1476360"/>
                  <a:ext cx="428760" cy="9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3" name=""/>
                <p:cNvGrpSpPr/>
                <p:nvPr/>
              </p:nvGrpSpPr>
              <p:grpSpPr>
                <a:xfrm>
                  <a:off x="6120000" y="1366920"/>
                  <a:ext cx="231840" cy="210960"/>
                  <a:chOff x="6120000" y="1366920"/>
                  <a:chExt cx="231840" cy="21096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6120000" y="1420920"/>
                    <a:ext cx="231840" cy="156960"/>
                    <a:chOff x="6120000" y="1420920"/>
                    <a:chExt cx="231840" cy="15696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6120000" y="142092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6145560" y="1442880"/>
                      <a:ext cx="183960" cy="110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77" name=""/>
                  <p:cNvSpPr/>
                  <p:nvPr/>
                </p:nvSpPr>
                <p:spPr>
                  <a:xfrm>
                    <a:off x="6221520" y="13669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8" name=""/>
                <p:cNvSpPr/>
                <p:nvPr/>
              </p:nvSpPr>
              <p:spPr>
                <a:xfrm>
                  <a:off x="6337800" y="1304280"/>
                  <a:ext cx="6501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377040" y="1439280"/>
                  <a:ext cx="15872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 NE-16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6088320" y="1075680"/>
                <a:ext cx="1262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Headquarters El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6162480" y="2296440"/>
              <a:ext cx="9565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ATTACH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619600" y="895320"/>
              <a:ext cx="347400" cy="293040"/>
              <a:chOff x="5619600" y="895320"/>
              <a:chExt cx="347400" cy="29304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5619600" y="952200"/>
                <a:ext cx="347400" cy="236160"/>
                <a:chOff x="5619600" y="952200"/>
                <a:chExt cx="347400" cy="23616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5619600" y="952200"/>
                  <a:ext cx="347400" cy="2361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623200" y="955800"/>
                  <a:ext cx="338760" cy="231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619600" y="955800"/>
                  <a:ext cx="345960" cy="225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752800" y="895320"/>
                <a:ext cx="76320" cy="63360"/>
                <a:chOff x="5752800" y="895320"/>
                <a:chExt cx="76320" cy="633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752800" y="895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829120" y="89532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0" name=""/>
            <p:cNvSpPr/>
            <p:nvPr/>
          </p:nvSpPr>
          <p:spPr>
            <a:xfrm>
              <a:off x="6088320" y="1658160"/>
              <a:ext cx="1139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6600"/>
                  </a:solidFill>
                  <a:latin typeface="Arial"/>
                </a:rPr>
                <a:t>Maneuver Element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5810400" y="3143160"/>
              <a:ext cx="2409120" cy="672120"/>
              <a:chOff x="5810400" y="3143160"/>
              <a:chExt cx="2409120" cy="672120"/>
            </a:xfrm>
          </p:grpSpPr>
          <p:grpSp>
            <p:nvGrpSpPr>
              <p:cNvPr id="392" name=""/>
              <p:cNvGrpSpPr/>
              <p:nvPr/>
            </p:nvGrpSpPr>
            <p:grpSpPr>
              <a:xfrm>
                <a:off x="6229440" y="3352680"/>
                <a:ext cx="1990080" cy="462600"/>
                <a:chOff x="6229440" y="3352680"/>
                <a:chExt cx="1990080" cy="4626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6257880" y="3352680"/>
                  <a:ext cx="0" cy="38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6229440" y="3447360"/>
                  <a:ext cx="1990080" cy="367920"/>
                  <a:chOff x="6229440" y="3447360"/>
                  <a:chExt cx="1990080" cy="367920"/>
                </a:xfrm>
              </p:grpSpPr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229440" y="3576600"/>
                    <a:ext cx="231480" cy="232920"/>
                    <a:chOff x="6229440" y="3576600"/>
                    <a:chExt cx="231480" cy="232920"/>
                  </a:xfrm>
                </p:grpSpPr>
                <p:grpSp>
                  <p:nvGrpSpPr>
                    <p:cNvPr id="396" name=""/>
                    <p:cNvGrpSpPr/>
                    <p:nvPr/>
                  </p:nvGrpSpPr>
                  <p:grpSpPr>
                    <a:xfrm>
                      <a:off x="6306840" y="3576600"/>
                      <a:ext cx="73800" cy="28080"/>
                      <a:chOff x="6306840" y="3576600"/>
                      <a:chExt cx="73800" cy="28080"/>
                    </a:xfrm>
                  </p:grpSpPr>
                  <p:sp>
                    <p:nvSpPr>
                      <p:cNvPr id="397" name=""/>
                      <p:cNvSpPr/>
                      <p:nvPr/>
                    </p:nvSpPr>
                    <p:spPr>
                      <a:xfrm>
                        <a:off x="6306840" y="357660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8" name=""/>
                      <p:cNvSpPr/>
                      <p:nvPr/>
                    </p:nvSpPr>
                    <p:spPr>
                      <a:xfrm>
                        <a:off x="6354000" y="35780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6229440" y="3619080"/>
                      <a:ext cx="231480" cy="190440"/>
                      <a:chOff x="6229440" y="3619080"/>
                      <a:chExt cx="231480" cy="19044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6229440" y="361908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6240240" y="378252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>
                        <a:off x="6421320" y="378252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03" name=""/>
                  <p:cNvSpPr/>
                  <p:nvPr/>
                </p:nvSpPr>
                <p:spPr>
                  <a:xfrm>
                    <a:off x="6467400" y="359964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Horse-drawn Limber     FR-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6469200" y="344736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5810400" y="3143160"/>
                <a:ext cx="2361960" cy="371880"/>
                <a:chOff x="5810400" y="3143160"/>
                <a:chExt cx="2361960" cy="371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5810400" y="3286080"/>
                  <a:ext cx="45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419880" y="3177720"/>
                  <a:ext cx="1752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47mm Antitank Gun       NE-10 (3 per regiment)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8" name=""/>
                <p:cNvGrpSpPr/>
                <p:nvPr/>
              </p:nvGrpSpPr>
              <p:grpSpPr>
                <a:xfrm>
                  <a:off x="6210360" y="3143160"/>
                  <a:ext cx="231840" cy="214200"/>
                  <a:chOff x="6210360" y="3143160"/>
                  <a:chExt cx="231840" cy="214200"/>
                </a:xfrm>
              </p:grpSpPr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6210360" y="3200400"/>
                    <a:ext cx="231840" cy="156960"/>
                    <a:chOff x="6210360" y="3200400"/>
                    <a:chExt cx="231840" cy="15696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6210360" y="320040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 flipV="1">
                      <a:off x="6210360" y="3203640"/>
                      <a:ext cx="11376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324120" y="3200400"/>
                      <a:ext cx="113760" cy="15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6288120" y="3143160"/>
                    <a:ext cx="74520" cy="28080"/>
                    <a:chOff x="6288120" y="3143160"/>
                    <a:chExt cx="74520" cy="280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6288120" y="3143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6335640" y="3144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16" name=""/>
            <p:cNvGrpSpPr/>
            <p:nvPr/>
          </p:nvGrpSpPr>
          <p:grpSpPr>
            <a:xfrm>
              <a:off x="5810400" y="2828880"/>
              <a:ext cx="2419200" cy="243720"/>
              <a:chOff x="5810400" y="2828880"/>
              <a:chExt cx="2419200" cy="243720"/>
            </a:xfrm>
          </p:grpSpPr>
          <p:sp>
            <p:nvSpPr>
              <p:cNvPr id="417" name=""/>
              <p:cNvSpPr/>
              <p:nvPr/>
            </p:nvSpPr>
            <p:spPr>
              <a:xfrm>
                <a:off x="5810400" y="29430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6191280" y="2828880"/>
                <a:ext cx="231840" cy="204840"/>
                <a:chOff x="6191280" y="2828880"/>
                <a:chExt cx="231840" cy="204840"/>
              </a:xfrm>
            </p:grpSpPr>
            <p:grpSp>
              <p:nvGrpSpPr>
                <p:cNvPr id="419" name=""/>
                <p:cNvGrpSpPr/>
                <p:nvPr/>
              </p:nvGrpSpPr>
              <p:grpSpPr>
                <a:xfrm>
                  <a:off x="6191280" y="2876760"/>
                  <a:ext cx="231840" cy="156960"/>
                  <a:chOff x="6191280" y="2876760"/>
                  <a:chExt cx="231840" cy="15696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>
                    <a:off x="6191280" y="287676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191280" y="2876760"/>
                    <a:ext cx="55800" cy="15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6191280" y="2879640"/>
                    <a:ext cx="228600" cy="15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193080" y="2876760"/>
                    <a:ext cx="2268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" name=""/>
                <p:cNvGrpSpPr/>
                <p:nvPr/>
              </p:nvGrpSpPr>
              <p:grpSpPr>
                <a:xfrm>
                  <a:off x="6270840" y="2828880"/>
                  <a:ext cx="74520" cy="28800"/>
                  <a:chOff x="6270840" y="2828880"/>
                  <a:chExt cx="74520" cy="288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6270840" y="282888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318360" y="283068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7" name=""/>
              <p:cNvSpPr/>
              <p:nvPr/>
            </p:nvSpPr>
            <p:spPr>
              <a:xfrm>
                <a:off x="6477120" y="285696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4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Heavy Machine Gun     NE-2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5810400" y="1847160"/>
              <a:ext cx="2032920" cy="358560"/>
              <a:chOff x="5810400" y="1847160"/>
              <a:chExt cx="2032920" cy="358560"/>
            </a:xfrm>
          </p:grpSpPr>
          <p:sp>
            <p:nvSpPr>
              <p:cNvPr id="429" name=""/>
              <p:cNvSpPr/>
              <p:nvPr/>
            </p:nvSpPr>
            <p:spPr>
              <a:xfrm>
                <a:off x="5810400" y="2104920"/>
                <a:ext cx="409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28960" y="1847160"/>
                <a:ext cx="48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00"/>
                    </a:solidFill>
                    <a:latin typeface="Arial"/>
                  </a:rPr>
                  <a:t>ME-0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505200" y="1990080"/>
                <a:ext cx="13381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3 Infantry Compan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6181560" y="1943280"/>
                <a:ext cx="283680" cy="260280"/>
                <a:chOff x="6181560" y="1943280"/>
                <a:chExt cx="283680" cy="2602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324120" y="194328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6181560" y="2009880"/>
                  <a:ext cx="283680" cy="193680"/>
                  <a:chOff x="6181560" y="2009880"/>
                  <a:chExt cx="283680" cy="1936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181560" y="2009880"/>
                    <a:ext cx="283680" cy="19368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V="1">
                    <a:off x="6184440" y="2012760"/>
                    <a:ext cx="276120" cy="189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181560" y="2012760"/>
                    <a:ext cx="282240" cy="184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38" name=""/>
            <p:cNvGrpSpPr/>
            <p:nvPr/>
          </p:nvGrpSpPr>
          <p:grpSpPr>
            <a:xfrm>
              <a:off x="5800680" y="3771360"/>
              <a:ext cx="2361960" cy="367920"/>
              <a:chOff x="5800680" y="3771360"/>
              <a:chExt cx="2361960" cy="367920"/>
            </a:xfrm>
          </p:grpSpPr>
          <p:sp>
            <p:nvSpPr>
              <p:cNvPr id="439" name=""/>
              <p:cNvSpPr/>
              <p:nvPr/>
            </p:nvSpPr>
            <p:spPr>
              <a:xfrm>
                <a:off x="5800680" y="401940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" name=""/>
              <p:cNvGrpSpPr/>
              <p:nvPr/>
            </p:nvGrpSpPr>
            <p:grpSpPr>
              <a:xfrm>
                <a:off x="6210000" y="3895560"/>
                <a:ext cx="239760" cy="204120"/>
                <a:chOff x="6210000" y="3895560"/>
                <a:chExt cx="239760" cy="204120"/>
              </a:xfrm>
            </p:grpSpPr>
            <p:grpSp>
              <p:nvGrpSpPr>
                <p:cNvPr id="441" name=""/>
                <p:cNvGrpSpPr/>
                <p:nvPr/>
              </p:nvGrpSpPr>
              <p:grpSpPr>
                <a:xfrm>
                  <a:off x="6292800" y="3895560"/>
                  <a:ext cx="74520" cy="27720"/>
                  <a:chOff x="6292800" y="3895560"/>
                  <a:chExt cx="74520" cy="2772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6292800" y="389556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6340320" y="389700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4" name=""/>
                <p:cNvGrpSpPr/>
                <p:nvPr/>
              </p:nvGrpSpPr>
              <p:grpSpPr>
                <a:xfrm>
                  <a:off x="6210000" y="3942720"/>
                  <a:ext cx="239760" cy="156960"/>
                  <a:chOff x="6210000" y="3942720"/>
                  <a:chExt cx="239760" cy="156960"/>
                </a:xfrm>
              </p:grpSpPr>
              <p:sp>
                <p:nvSpPr>
                  <p:cNvPr id="445" name=""/>
                  <p:cNvSpPr/>
                  <p:nvPr/>
                </p:nvSpPr>
                <p:spPr>
                  <a:xfrm>
                    <a:off x="6210000" y="3942720"/>
                    <a:ext cx="23976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6" name=""/>
                  <p:cNvGrpSpPr/>
                  <p:nvPr/>
                </p:nvGrpSpPr>
                <p:grpSpPr>
                  <a:xfrm>
                    <a:off x="6295680" y="3985200"/>
                    <a:ext cx="68400" cy="72720"/>
                    <a:chOff x="6295680" y="3985200"/>
                    <a:chExt cx="68400" cy="72720"/>
                  </a:xfrm>
                </p:grpSpPr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6295680" y="4057920"/>
                      <a:ext cx="684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6329160" y="3985200"/>
                      <a:ext cx="0" cy="7272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49" name=""/>
              <p:cNvSpPr/>
              <p:nvPr/>
            </p:nvSpPr>
            <p:spPr>
              <a:xfrm>
                <a:off x="6410160" y="392364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80mm Mortar               NE-2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412320" y="3771360"/>
                <a:ext cx="1127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Organic Fire Sup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819760" y="2486160"/>
              <a:ext cx="2419200" cy="243360"/>
              <a:chOff x="5819760" y="2486160"/>
              <a:chExt cx="2419200" cy="243360"/>
            </a:xfrm>
          </p:grpSpPr>
          <p:sp>
            <p:nvSpPr>
              <p:cNvPr id="452" name=""/>
              <p:cNvSpPr/>
              <p:nvPr/>
            </p:nvSpPr>
            <p:spPr>
              <a:xfrm>
                <a:off x="5819760" y="26002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200640" y="2486160"/>
                <a:ext cx="231840" cy="204480"/>
                <a:chOff x="6200640" y="2486160"/>
                <a:chExt cx="231840" cy="20448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6200640" y="2533680"/>
                  <a:ext cx="231840" cy="156960"/>
                  <a:chOff x="6200640" y="2533680"/>
                  <a:chExt cx="231840" cy="156960"/>
                </a:xfrm>
              </p:grpSpPr>
              <p:sp>
                <p:nvSpPr>
                  <p:cNvPr id="455" name=""/>
                  <p:cNvSpPr/>
                  <p:nvPr/>
                </p:nvSpPr>
                <p:spPr>
                  <a:xfrm>
                    <a:off x="6200640" y="253368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 flipV="1">
                    <a:off x="6200640" y="2536920"/>
                    <a:ext cx="113760" cy="15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6314400" y="2533680"/>
                    <a:ext cx="11376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6280200" y="2486160"/>
                  <a:ext cx="74520" cy="28080"/>
                  <a:chOff x="6280200" y="2486160"/>
                  <a:chExt cx="74520" cy="280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>
                    <a:off x="6280200" y="24861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6327720" y="24876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1" name=""/>
              <p:cNvSpPr/>
              <p:nvPr/>
            </p:nvSpPr>
            <p:spPr>
              <a:xfrm>
                <a:off x="6486480" y="2513880"/>
                <a:ext cx="1752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20mm AT Rifle       NE-2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5800680" y="4191120"/>
              <a:ext cx="2409120" cy="586080"/>
              <a:chOff x="5800680" y="4191120"/>
              <a:chExt cx="2409120" cy="586080"/>
            </a:xfrm>
          </p:grpSpPr>
          <p:grpSp>
            <p:nvGrpSpPr>
              <p:cNvPr id="463" name=""/>
              <p:cNvGrpSpPr/>
              <p:nvPr/>
            </p:nvGrpSpPr>
            <p:grpSpPr>
              <a:xfrm>
                <a:off x="6219720" y="4314960"/>
                <a:ext cx="1990080" cy="462240"/>
                <a:chOff x="6219720" y="4314960"/>
                <a:chExt cx="1990080" cy="46224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6248160" y="431496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6219720" y="4409280"/>
                  <a:ext cx="1990080" cy="367920"/>
                  <a:chOff x="6219720" y="4409280"/>
                  <a:chExt cx="1990080" cy="36792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6219720" y="4538520"/>
                    <a:ext cx="231480" cy="232920"/>
                    <a:chOff x="6219720" y="4538520"/>
                    <a:chExt cx="231480" cy="232920"/>
                  </a:xfrm>
                </p:grpSpPr>
                <p:grpSp>
                  <p:nvGrpSpPr>
                    <p:cNvPr id="467" name=""/>
                    <p:cNvGrpSpPr/>
                    <p:nvPr/>
                  </p:nvGrpSpPr>
                  <p:grpSpPr>
                    <a:xfrm>
                      <a:off x="6297120" y="4538520"/>
                      <a:ext cx="73800" cy="28080"/>
                      <a:chOff x="6297120" y="4538520"/>
                      <a:chExt cx="73800" cy="28080"/>
                    </a:xfrm>
                  </p:grpSpPr>
                  <p:sp>
                    <p:nvSpPr>
                      <p:cNvPr id="468" name=""/>
                      <p:cNvSpPr/>
                      <p:nvPr/>
                    </p:nvSpPr>
                    <p:spPr>
                      <a:xfrm>
                        <a:off x="6297120" y="453852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9" name=""/>
                      <p:cNvSpPr/>
                      <p:nvPr/>
                    </p:nvSpPr>
                    <p:spPr>
                      <a:xfrm>
                        <a:off x="6344280" y="453996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70" name=""/>
                    <p:cNvGrpSpPr/>
                    <p:nvPr/>
                  </p:nvGrpSpPr>
                  <p:grpSpPr>
                    <a:xfrm>
                      <a:off x="6219720" y="4581000"/>
                      <a:ext cx="231480" cy="190440"/>
                      <a:chOff x="6219720" y="4581000"/>
                      <a:chExt cx="231480" cy="190440"/>
                    </a:xfrm>
                  </p:grpSpPr>
                  <p:sp>
                    <p:nvSpPr>
                      <p:cNvPr id="471" name=""/>
                      <p:cNvSpPr/>
                      <p:nvPr/>
                    </p:nvSpPr>
                    <p:spPr>
                      <a:xfrm>
                        <a:off x="6219720" y="458100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2" name=""/>
                      <p:cNvSpPr/>
                      <p:nvPr/>
                    </p:nvSpPr>
                    <p:spPr>
                      <a:xfrm>
                        <a:off x="6230520" y="474444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3" name=""/>
                      <p:cNvSpPr/>
                      <p:nvPr/>
                    </p:nvSpPr>
                    <p:spPr>
                      <a:xfrm>
                        <a:off x="6411600" y="474444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74" name=""/>
                  <p:cNvSpPr/>
                  <p:nvPr/>
                </p:nvSpPr>
                <p:spPr>
                  <a:xfrm>
                    <a:off x="6457680" y="456156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Horse-drawn Limber     FR-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459480" y="440928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5800680" y="433368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410160" y="4228560"/>
                <a:ext cx="17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57 Infantry Gun       NE-08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8" name=""/>
              <p:cNvGrpSpPr/>
              <p:nvPr/>
            </p:nvGrpSpPr>
            <p:grpSpPr>
              <a:xfrm>
                <a:off x="6197400" y="4191120"/>
                <a:ext cx="231840" cy="214200"/>
                <a:chOff x="6197400" y="4191120"/>
                <a:chExt cx="231840" cy="21420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6278400" y="4191120"/>
                  <a:ext cx="74520" cy="28080"/>
                  <a:chOff x="6278400" y="4191120"/>
                  <a:chExt cx="74520" cy="28080"/>
                </a:xfrm>
              </p:grpSpPr>
              <p:sp>
                <p:nvSpPr>
                  <p:cNvPr id="480" name=""/>
                  <p:cNvSpPr/>
                  <p:nvPr/>
                </p:nvSpPr>
                <p:spPr>
                  <a:xfrm>
                    <a:off x="6278400" y="4191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325920" y="4192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2" name=""/>
                <p:cNvGrpSpPr/>
                <p:nvPr/>
              </p:nvGrpSpPr>
              <p:grpSpPr>
                <a:xfrm>
                  <a:off x="6197400" y="4248000"/>
                  <a:ext cx="231840" cy="157320"/>
                  <a:chOff x="6197400" y="4248000"/>
                  <a:chExt cx="231840" cy="1573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6197400" y="424800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291000" y="4303440"/>
                    <a:ext cx="46080" cy="46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(Blitz) ME-01-&gt;ME-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9240" y="666720"/>
            <a:ext cx="18381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Maneuver Element-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torcycle Squad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57200" y="1276200"/>
            <a:ext cx="2104920" cy="1227600"/>
            <a:chOff x="457200" y="1276200"/>
            <a:chExt cx="2104920" cy="1227600"/>
          </a:xfrm>
        </p:grpSpPr>
        <p:grpSp>
          <p:nvGrpSpPr>
            <p:cNvPr id="488" name=""/>
            <p:cNvGrpSpPr/>
            <p:nvPr/>
          </p:nvGrpSpPr>
          <p:grpSpPr>
            <a:xfrm>
              <a:off x="809640" y="1685880"/>
              <a:ext cx="1752120" cy="817920"/>
              <a:chOff x="809640" y="1685880"/>
              <a:chExt cx="1752120" cy="817920"/>
            </a:xfrm>
          </p:grpSpPr>
          <p:sp>
            <p:nvSpPr>
              <p:cNvPr id="489" name=""/>
              <p:cNvSpPr/>
              <p:nvPr/>
            </p:nvSpPr>
            <p:spPr>
              <a:xfrm>
                <a:off x="828360" y="1685880"/>
                <a:ext cx="0" cy="66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0" name=""/>
              <p:cNvGrpSpPr/>
              <p:nvPr/>
            </p:nvGrpSpPr>
            <p:grpSpPr>
              <a:xfrm>
                <a:off x="809640" y="2228760"/>
                <a:ext cx="231480" cy="247320"/>
                <a:chOff x="809640" y="2228760"/>
                <a:chExt cx="231480" cy="24732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809640" y="2285640"/>
                  <a:ext cx="231480" cy="190440"/>
                  <a:chOff x="809640" y="2285640"/>
                  <a:chExt cx="231480" cy="1904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809640" y="2285640"/>
                    <a:ext cx="23148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820440" y="2449080"/>
                    <a:ext cx="266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1001520" y="2449080"/>
                    <a:ext cx="2808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876240" y="2228760"/>
                  <a:ext cx="74520" cy="28080"/>
                  <a:chOff x="876240" y="2228760"/>
                  <a:chExt cx="74520" cy="28080"/>
                </a:xfrm>
              </p:grpSpPr>
              <p:sp>
                <p:nvSpPr>
                  <p:cNvPr id="496" name=""/>
                  <p:cNvSpPr/>
                  <p:nvPr/>
                </p:nvSpPr>
                <p:spPr>
                  <a:xfrm>
                    <a:off x="876240" y="222876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923760" y="223020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8" name=""/>
              <p:cNvSpPr/>
              <p:nvPr/>
            </p:nvSpPr>
            <p:spPr>
              <a:xfrm>
                <a:off x="981000" y="2257560"/>
                <a:ext cx="158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0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otorcycle    NE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81000" y="2105280"/>
                <a:ext cx="761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Transpor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590400" y="1438200"/>
              <a:ext cx="0" cy="52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590400" y="1380960"/>
              <a:ext cx="1971720" cy="436680"/>
              <a:chOff x="590400" y="1380960"/>
              <a:chExt cx="1971720" cy="436680"/>
            </a:xfrm>
          </p:grpSpPr>
          <p:sp>
            <p:nvSpPr>
              <p:cNvPr id="502" name=""/>
              <p:cNvSpPr/>
              <p:nvPr/>
            </p:nvSpPr>
            <p:spPr>
              <a:xfrm>
                <a:off x="590400" y="170460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81000" y="1571400"/>
                <a:ext cx="15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NE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981000" y="13809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785520" y="1571400"/>
                <a:ext cx="231840" cy="212760"/>
                <a:chOff x="785520" y="1571400"/>
                <a:chExt cx="231840" cy="212760"/>
              </a:xfrm>
            </p:grpSpPr>
            <p:grpSp>
              <p:nvGrpSpPr>
                <p:cNvPr id="506" name=""/>
                <p:cNvGrpSpPr/>
                <p:nvPr/>
              </p:nvGrpSpPr>
              <p:grpSpPr>
                <a:xfrm>
                  <a:off x="785520" y="1626840"/>
                  <a:ext cx="231840" cy="157320"/>
                  <a:chOff x="785520" y="1626840"/>
                  <a:chExt cx="231840" cy="157320"/>
                </a:xfrm>
              </p:grpSpPr>
              <p:sp>
                <p:nvSpPr>
                  <p:cNvPr id="507" name=""/>
                  <p:cNvSpPr/>
                  <p:nvPr/>
                </p:nvSpPr>
                <p:spPr>
                  <a:xfrm>
                    <a:off x="785520" y="162684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09280" y="1649160"/>
                    <a:ext cx="184320" cy="11088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" name=""/>
                <p:cNvSpPr/>
                <p:nvPr/>
              </p:nvSpPr>
              <p:spPr>
                <a:xfrm>
                  <a:off x="887040" y="15714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0" name=""/>
            <p:cNvGrpSpPr/>
            <p:nvPr/>
          </p:nvGrpSpPr>
          <p:grpSpPr>
            <a:xfrm>
              <a:off x="457200" y="1276200"/>
              <a:ext cx="283680" cy="299160"/>
              <a:chOff x="457200" y="1276200"/>
              <a:chExt cx="283680" cy="299160"/>
            </a:xfrm>
          </p:grpSpPr>
          <p:sp>
            <p:nvSpPr>
              <p:cNvPr id="511" name=""/>
              <p:cNvSpPr/>
              <p:nvPr/>
            </p:nvSpPr>
            <p:spPr>
              <a:xfrm>
                <a:off x="598320" y="12762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457200" y="1342800"/>
                <a:ext cx="283680" cy="232560"/>
                <a:chOff x="457200" y="1342800"/>
                <a:chExt cx="283680" cy="232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57200" y="1342800"/>
                  <a:ext cx="283680" cy="1918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70520" y="1542600"/>
                  <a:ext cx="3276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92640" y="1542600"/>
                  <a:ext cx="3456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6" name=""/>
            <p:cNvGrpSpPr/>
            <p:nvPr/>
          </p:nvGrpSpPr>
          <p:grpSpPr>
            <a:xfrm>
              <a:off x="581040" y="1847880"/>
              <a:ext cx="1980720" cy="255600"/>
              <a:chOff x="581040" y="1847880"/>
              <a:chExt cx="1980720" cy="255600"/>
            </a:xfrm>
          </p:grpSpPr>
          <p:sp>
            <p:nvSpPr>
              <p:cNvPr id="517" name=""/>
              <p:cNvSpPr/>
              <p:nvPr/>
            </p:nvSpPr>
            <p:spPr>
              <a:xfrm>
                <a:off x="581040" y="197136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90560" y="1847880"/>
                <a:ext cx="231120" cy="204120"/>
                <a:chOff x="790560" y="1847880"/>
                <a:chExt cx="231120" cy="20412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790560" y="1895040"/>
                  <a:ext cx="231120" cy="156960"/>
                  <a:chOff x="790560" y="1895040"/>
                  <a:chExt cx="231120" cy="1569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790560" y="1895040"/>
                    <a:ext cx="23112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792720" y="1897200"/>
                    <a:ext cx="225000" cy="153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90560" y="1897200"/>
                    <a:ext cx="230040" cy="149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867960" y="1847880"/>
                  <a:ext cx="73800" cy="27720"/>
                  <a:chOff x="867960" y="1847880"/>
                  <a:chExt cx="73800" cy="2772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>
                    <a:off x="867960" y="1847880"/>
                    <a:ext cx="2808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915120" y="1849320"/>
                    <a:ext cx="266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26" name=""/>
              <p:cNvSpPr/>
              <p:nvPr/>
            </p:nvSpPr>
            <p:spPr>
              <a:xfrm>
                <a:off x="981000" y="1857240"/>
                <a:ext cx="1580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9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Infantry            NE-1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7" name=""/>
          <p:cNvGrpSpPr/>
          <p:nvPr/>
        </p:nvGrpSpPr>
        <p:grpSpPr>
          <a:xfrm>
            <a:off x="896760" y="4219560"/>
            <a:ext cx="74520" cy="28080"/>
            <a:chOff x="896760" y="4219560"/>
            <a:chExt cx="74520" cy="28080"/>
          </a:xfrm>
        </p:grpSpPr>
        <p:sp>
          <p:nvSpPr>
            <p:cNvPr id="528" name=""/>
            <p:cNvSpPr/>
            <p:nvPr/>
          </p:nvSpPr>
          <p:spPr>
            <a:xfrm>
              <a:off x="896760" y="4219560"/>
              <a:ext cx="2844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4280" y="4221000"/>
              <a:ext cx="27000" cy="26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114480" y="2562120"/>
            <a:ext cx="3038400" cy="1837080"/>
            <a:chOff x="114480" y="2562120"/>
            <a:chExt cx="3038400" cy="1837080"/>
          </a:xfrm>
        </p:grpSpPr>
        <p:sp>
          <p:nvSpPr>
            <p:cNvPr id="531" name=""/>
            <p:cNvSpPr/>
            <p:nvPr/>
          </p:nvSpPr>
          <p:spPr>
            <a:xfrm>
              <a:off x="114480" y="2562120"/>
              <a:ext cx="234324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-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torized Machine Gun Squ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52440" y="3171960"/>
              <a:ext cx="2800440" cy="1227240"/>
              <a:chOff x="352440" y="3171960"/>
              <a:chExt cx="2800440" cy="1227240"/>
            </a:xfrm>
          </p:grpSpPr>
          <p:grpSp>
            <p:nvGrpSpPr>
              <p:cNvPr id="533" name=""/>
              <p:cNvGrpSpPr/>
              <p:nvPr/>
            </p:nvGrpSpPr>
            <p:grpSpPr>
              <a:xfrm>
                <a:off x="704880" y="3581280"/>
                <a:ext cx="2114640" cy="817920"/>
                <a:chOff x="704880" y="3581280"/>
                <a:chExt cx="2114640" cy="8179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23960" y="3581280"/>
                  <a:ext cx="0" cy="66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5" name=""/>
                <p:cNvGrpSpPr/>
                <p:nvPr/>
              </p:nvGrpSpPr>
              <p:grpSpPr>
                <a:xfrm>
                  <a:off x="704880" y="4124160"/>
                  <a:ext cx="231480" cy="247320"/>
                  <a:chOff x="704880" y="4124160"/>
                  <a:chExt cx="231480" cy="247320"/>
                </a:xfrm>
              </p:grpSpPr>
              <p:grpSp>
                <p:nvGrpSpPr>
                  <p:cNvPr id="536" name=""/>
                  <p:cNvGrpSpPr/>
                  <p:nvPr/>
                </p:nvGrpSpPr>
                <p:grpSpPr>
                  <a:xfrm>
                    <a:off x="704880" y="4181040"/>
                    <a:ext cx="231480" cy="190440"/>
                    <a:chOff x="704880" y="4181040"/>
                    <a:chExt cx="231480" cy="190440"/>
                  </a:xfrm>
                </p:grpSpPr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704880" y="4181040"/>
                      <a:ext cx="23148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715680" y="4344480"/>
                      <a:ext cx="266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>
                      <a:off x="896760" y="4344480"/>
                      <a:ext cx="2808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771480" y="4124160"/>
                    <a:ext cx="74520" cy="28080"/>
                    <a:chOff x="771480" y="4124160"/>
                    <a:chExt cx="74520" cy="280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771480" y="41241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819000" y="41256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43" name=""/>
                <p:cNvSpPr/>
                <p:nvPr/>
              </p:nvSpPr>
              <p:spPr>
                <a:xfrm>
                  <a:off x="876600" y="4152960"/>
                  <a:ext cx="1942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Light Truck               NE-0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876600" y="400032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Transpor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5" name=""/>
              <p:cNvSpPr/>
              <p:nvPr/>
            </p:nvSpPr>
            <p:spPr>
              <a:xfrm>
                <a:off x="486000" y="3333600"/>
                <a:ext cx="0" cy="524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486000" y="3276720"/>
                <a:ext cx="2305080" cy="436680"/>
                <a:chOff x="486000" y="3276720"/>
                <a:chExt cx="2305080" cy="4366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86000" y="3600360"/>
                  <a:ext cx="32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76600" y="3467160"/>
                  <a:ext cx="19144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Commander             NE-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876600" y="327672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681120" y="3467160"/>
                  <a:ext cx="231840" cy="212760"/>
                  <a:chOff x="681120" y="3467160"/>
                  <a:chExt cx="231840" cy="212760"/>
                </a:xfrm>
              </p:grpSpPr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681120" y="3522600"/>
                    <a:ext cx="231840" cy="157320"/>
                    <a:chOff x="681120" y="3522600"/>
                    <a:chExt cx="231840" cy="15732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681120" y="3522600"/>
                      <a:ext cx="231840" cy="15732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704880" y="3544920"/>
                      <a:ext cx="184320" cy="110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4" name=""/>
                  <p:cNvSpPr/>
                  <p:nvPr/>
                </p:nvSpPr>
                <p:spPr>
                  <a:xfrm>
                    <a:off x="782640" y="34671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55" name=""/>
              <p:cNvGrpSpPr/>
              <p:nvPr/>
            </p:nvGrpSpPr>
            <p:grpSpPr>
              <a:xfrm>
                <a:off x="352440" y="3171960"/>
                <a:ext cx="284040" cy="299160"/>
                <a:chOff x="352440" y="3171960"/>
                <a:chExt cx="284040" cy="299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93920" y="3171960"/>
                  <a:ext cx="0" cy="633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7" name=""/>
                <p:cNvGrpSpPr/>
                <p:nvPr/>
              </p:nvGrpSpPr>
              <p:grpSpPr>
                <a:xfrm>
                  <a:off x="352440" y="3238560"/>
                  <a:ext cx="284040" cy="232560"/>
                  <a:chOff x="352440" y="3238560"/>
                  <a:chExt cx="284040" cy="232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>
                    <a:off x="352440" y="3238560"/>
                    <a:ext cx="284040" cy="19188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366120" y="3438360"/>
                    <a:ext cx="3276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587880" y="3438360"/>
                    <a:ext cx="34560" cy="32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61" name=""/>
              <p:cNvGrpSpPr/>
              <p:nvPr/>
            </p:nvGrpSpPr>
            <p:grpSpPr>
              <a:xfrm>
                <a:off x="476280" y="3753000"/>
                <a:ext cx="2676600" cy="246240"/>
                <a:chOff x="476280" y="3753000"/>
                <a:chExt cx="2676600" cy="246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76280" y="3867120"/>
                  <a:ext cx="324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63" name=""/>
                <p:cNvGrpSpPr/>
                <p:nvPr/>
              </p:nvGrpSpPr>
              <p:grpSpPr>
                <a:xfrm>
                  <a:off x="685800" y="3790800"/>
                  <a:ext cx="231840" cy="157320"/>
                  <a:chOff x="685800" y="3790800"/>
                  <a:chExt cx="231840" cy="157320"/>
                </a:xfrm>
              </p:grpSpPr>
              <p:sp>
                <p:nvSpPr>
                  <p:cNvPr id="564" name=""/>
                  <p:cNvSpPr/>
                  <p:nvPr/>
                </p:nvSpPr>
                <p:spPr>
                  <a:xfrm>
                    <a:off x="685800" y="379080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685800" y="379080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V="1">
                    <a:off x="685800" y="3793680"/>
                    <a:ext cx="228600" cy="15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687600" y="3790800"/>
                    <a:ext cx="2268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8" name=""/>
                <p:cNvSpPr/>
                <p:nvPr/>
              </p:nvSpPr>
              <p:spPr>
                <a:xfrm>
                  <a:off x="876600" y="3753000"/>
                  <a:ext cx="2276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Heavy Machine Gun NE-2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69" name=""/>
          <p:cNvGrpSpPr/>
          <p:nvPr/>
        </p:nvGrpSpPr>
        <p:grpSpPr>
          <a:xfrm>
            <a:off x="2619360" y="666720"/>
            <a:ext cx="2990880" cy="1722240"/>
            <a:chOff x="2619360" y="666720"/>
            <a:chExt cx="2990880" cy="1722240"/>
          </a:xfrm>
        </p:grpSpPr>
        <p:sp>
          <p:nvSpPr>
            <p:cNvPr id="570" name=""/>
            <p:cNvSpPr/>
            <p:nvPr/>
          </p:nvSpPr>
          <p:spPr>
            <a:xfrm>
              <a:off x="2619360" y="666720"/>
              <a:ext cx="183816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-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fantry Compan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2857320" y="1276200"/>
              <a:ext cx="2752920" cy="1112760"/>
              <a:chOff x="2857320" y="1276200"/>
              <a:chExt cx="2752920" cy="1112760"/>
            </a:xfrm>
          </p:grpSpPr>
          <p:sp>
            <p:nvSpPr>
              <p:cNvPr id="572" name=""/>
              <p:cNvSpPr/>
              <p:nvPr/>
            </p:nvSpPr>
            <p:spPr>
              <a:xfrm>
                <a:off x="2981160" y="225684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3" name=""/>
              <p:cNvGrpSpPr/>
              <p:nvPr/>
            </p:nvGrpSpPr>
            <p:grpSpPr>
              <a:xfrm>
                <a:off x="3190680" y="2133000"/>
                <a:ext cx="231480" cy="204480"/>
                <a:chOff x="3190680" y="2133000"/>
                <a:chExt cx="231480" cy="204480"/>
              </a:xfrm>
            </p:grpSpPr>
            <p:grpSp>
              <p:nvGrpSpPr>
                <p:cNvPr id="574" name=""/>
                <p:cNvGrpSpPr/>
                <p:nvPr/>
              </p:nvGrpSpPr>
              <p:grpSpPr>
                <a:xfrm>
                  <a:off x="3190680" y="2180520"/>
                  <a:ext cx="231480" cy="156960"/>
                  <a:chOff x="3190680" y="2180520"/>
                  <a:chExt cx="231480" cy="15696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3190680" y="2180520"/>
                    <a:ext cx="23148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3190680" y="2180520"/>
                    <a:ext cx="55440" cy="1551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V="1">
                    <a:off x="3190680" y="2183400"/>
                    <a:ext cx="228240" cy="150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3192120" y="2180520"/>
                    <a:ext cx="22644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3268440" y="2133000"/>
                  <a:ext cx="74520" cy="28080"/>
                  <a:chOff x="3268440" y="2133000"/>
                  <a:chExt cx="74520" cy="2808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3268440" y="21330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3315960" y="21344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82" name=""/>
              <p:cNvGrpSpPr/>
              <p:nvPr/>
            </p:nvGrpSpPr>
            <p:grpSpPr>
              <a:xfrm>
                <a:off x="2857320" y="1276200"/>
                <a:ext cx="2752920" cy="1112760"/>
                <a:chOff x="2857320" y="1276200"/>
                <a:chExt cx="2752920" cy="11127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2981160" y="1456920"/>
                  <a:ext cx="0" cy="79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4" name=""/>
                <p:cNvGrpSpPr/>
                <p:nvPr/>
              </p:nvGrpSpPr>
              <p:grpSpPr>
                <a:xfrm>
                  <a:off x="2990880" y="1380600"/>
                  <a:ext cx="2342880" cy="436320"/>
                  <a:chOff x="2990880" y="1380600"/>
                  <a:chExt cx="2342880" cy="436320"/>
                </a:xfrm>
              </p:grpSpPr>
              <p:sp>
                <p:nvSpPr>
                  <p:cNvPr id="585" name=""/>
                  <p:cNvSpPr/>
                  <p:nvPr/>
                </p:nvSpPr>
                <p:spPr>
                  <a:xfrm>
                    <a:off x="2990880" y="1703880"/>
                    <a:ext cx="32364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3381120" y="1570680"/>
                    <a:ext cx="19526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1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Commander             NE-16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3381120" y="1380600"/>
                    <a:ext cx="76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Command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3186000" y="1570680"/>
                    <a:ext cx="231840" cy="212040"/>
                    <a:chOff x="3186000" y="1570680"/>
                    <a:chExt cx="231840" cy="212040"/>
                  </a:xfrm>
                </p:grpSpPr>
                <p:grpSp>
                  <p:nvGrpSpPr>
                    <p:cNvPr id="589" name=""/>
                    <p:cNvGrpSpPr/>
                    <p:nvPr/>
                  </p:nvGrpSpPr>
                  <p:grpSpPr>
                    <a:xfrm>
                      <a:off x="3186000" y="1625760"/>
                      <a:ext cx="231840" cy="156960"/>
                      <a:chOff x="3186000" y="1625760"/>
                      <a:chExt cx="231840" cy="156960"/>
                    </a:xfrm>
                  </p:grpSpPr>
                  <p:sp>
                    <p:nvSpPr>
                      <p:cNvPr id="590" name=""/>
                      <p:cNvSpPr/>
                      <p:nvPr/>
                    </p:nvSpPr>
                    <p:spPr>
                      <a:xfrm>
                        <a:off x="3186000" y="162576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3209760" y="1647720"/>
                        <a:ext cx="184320" cy="11052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 anchorCtr="1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spcBef>
                            <a:spcPts val="49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HQ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92" name=""/>
                    <p:cNvSpPr/>
                    <p:nvPr/>
                  </p:nvSpPr>
                  <p:spPr>
                    <a:xfrm>
                      <a:off x="3287520" y="15706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3" name=""/>
                <p:cNvGrpSpPr/>
                <p:nvPr/>
              </p:nvGrpSpPr>
              <p:grpSpPr>
                <a:xfrm>
                  <a:off x="2857320" y="1276200"/>
                  <a:ext cx="284040" cy="298800"/>
                  <a:chOff x="2857320" y="1276200"/>
                  <a:chExt cx="284040" cy="298800"/>
                </a:xfrm>
              </p:grpSpPr>
              <p:sp>
                <p:nvSpPr>
                  <p:cNvPr id="594" name=""/>
                  <p:cNvSpPr/>
                  <p:nvPr/>
                </p:nvSpPr>
                <p:spPr>
                  <a:xfrm>
                    <a:off x="2998800" y="1276200"/>
                    <a:ext cx="0" cy="6300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2857320" y="1342440"/>
                    <a:ext cx="284040" cy="232560"/>
                    <a:chOff x="2857320" y="1342440"/>
                    <a:chExt cx="284040" cy="23256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2857320" y="1342440"/>
                      <a:ext cx="284040" cy="191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2871000" y="1542240"/>
                      <a:ext cx="32760" cy="32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3092760" y="1542240"/>
                      <a:ext cx="34560" cy="32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3400" bIns="-234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99" name=""/>
                <p:cNvGrpSpPr/>
                <p:nvPr/>
              </p:nvGrpSpPr>
              <p:grpSpPr>
                <a:xfrm>
                  <a:off x="2981160" y="1847160"/>
                  <a:ext cx="2362320" cy="255600"/>
                  <a:chOff x="2981160" y="1847160"/>
                  <a:chExt cx="2362320" cy="25560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>
                    <a:off x="2981160" y="1970640"/>
                    <a:ext cx="324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3190680" y="1847160"/>
                    <a:ext cx="231840" cy="204120"/>
                    <a:chOff x="3190680" y="1847160"/>
                    <a:chExt cx="231840" cy="204120"/>
                  </a:xfrm>
                </p:grpSpPr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3190680" y="1894320"/>
                      <a:ext cx="231840" cy="156960"/>
                      <a:chOff x="3190680" y="1894320"/>
                      <a:chExt cx="231840" cy="156960"/>
                    </a:xfrm>
                  </p:grpSpPr>
                  <p:sp>
                    <p:nvSpPr>
                      <p:cNvPr id="603" name=""/>
                      <p:cNvSpPr/>
                      <p:nvPr/>
                    </p:nvSpPr>
                    <p:spPr>
                      <a:xfrm>
                        <a:off x="3190680" y="1894320"/>
                        <a:ext cx="23184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 flipV="1">
                        <a:off x="3192840" y="1896480"/>
                        <a:ext cx="225720" cy="1533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5" name=""/>
                      <p:cNvSpPr/>
                      <p:nvPr/>
                    </p:nvSpPr>
                    <p:spPr>
                      <a:xfrm>
                        <a:off x="3190680" y="1896480"/>
                        <a:ext cx="230760" cy="1497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6" name=""/>
                    <p:cNvGrpSpPr/>
                    <p:nvPr/>
                  </p:nvGrpSpPr>
                  <p:grpSpPr>
                    <a:xfrm>
                      <a:off x="3268440" y="1847160"/>
                      <a:ext cx="74520" cy="27720"/>
                      <a:chOff x="3268440" y="1847160"/>
                      <a:chExt cx="74520" cy="27720"/>
                    </a:xfrm>
                  </p:grpSpPr>
                  <p:sp>
                    <p:nvSpPr>
                      <p:cNvPr id="607" name=""/>
                      <p:cNvSpPr/>
                      <p:nvPr/>
                    </p:nvSpPr>
                    <p:spPr>
                      <a:xfrm>
                        <a:off x="3268440" y="1847160"/>
                        <a:ext cx="2844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8" name=""/>
                      <p:cNvSpPr/>
                      <p:nvPr/>
                    </p:nvSpPr>
                    <p:spPr>
                      <a:xfrm>
                        <a:off x="3315960" y="1848600"/>
                        <a:ext cx="27000" cy="262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09" name=""/>
                  <p:cNvSpPr/>
                  <p:nvPr/>
                </p:nvSpPr>
                <p:spPr>
                  <a:xfrm>
                    <a:off x="3381120" y="1856520"/>
                    <a:ext cx="196236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24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x9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Infantry                     NE-15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10" name=""/>
                <p:cNvSpPr/>
                <p:nvPr/>
              </p:nvSpPr>
              <p:spPr>
                <a:xfrm>
                  <a:off x="3381120" y="2142720"/>
                  <a:ext cx="2229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Light Machine Gun   NE-19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1" name=""/>
          <p:cNvGrpSpPr/>
          <p:nvPr/>
        </p:nvGrpSpPr>
        <p:grpSpPr>
          <a:xfrm>
            <a:off x="2886120" y="2581200"/>
            <a:ext cx="2981160" cy="2303640"/>
            <a:chOff x="2886120" y="2581200"/>
            <a:chExt cx="2981160" cy="2303640"/>
          </a:xfrm>
        </p:grpSpPr>
        <p:sp>
          <p:nvSpPr>
            <p:cNvPr id="612" name=""/>
            <p:cNvSpPr/>
            <p:nvPr/>
          </p:nvSpPr>
          <p:spPr>
            <a:xfrm>
              <a:off x="3429000" y="3809880"/>
              <a:ext cx="187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6600"/>
                  </a:solidFill>
                  <a:latin typeface="Arial"/>
                </a:rPr>
                <a:t>Basic Organization is for 2nd squadron. For First Squadron, AD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3162240" y="4448160"/>
              <a:ext cx="2504880" cy="436680"/>
              <a:chOff x="3162240" y="4448160"/>
              <a:chExt cx="2504880" cy="436680"/>
            </a:xfrm>
          </p:grpSpPr>
          <p:grpSp>
            <p:nvGrpSpPr>
              <p:cNvPr id="614" name=""/>
              <p:cNvGrpSpPr/>
              <p:nvPr/>
            </p:nvGrpSpPr>
            <p:grpSpPr>
              <a:xfrm>
                <a:off x="3247920" y="4638600"/>
                <a:ext cx="2419200" cy="246240"/>
                <a:chOff x="3247920" y="4638600"/>
                <a:chExt cx="2419200" cy="24624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438360" y="4638600"/>
                  <a:ext cx="2228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.39 Armored Car    NE-0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6" name=""/>
                <p:cNvGrpSpPr/>
                <p:nvPr/>
              </p:nvGrpSpPr>
              <p:grpSpPr>
                <a:xfrm>
                  <a:off x="3247920" y="4638600"/>
                  <a:ext cx="231840" cy="238320"/>
                  <a:chOff x="3247920" y="4638600"/>
                  <a:chExt cx="231840" cy="23832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3247920" y="4686120"/>
                    <a:ext cx="231840" cy="190800"/>
                    <a:chOff x="3247920" y="4686120"/>
                    <a:chExt cx="231840" cy="19080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3247920" y="4686480"/>
                      <a:ext cx="231840" cy="15732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3259080" y="484992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3440160" y="484992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3281400" y="4727880"/>
                      <a:ext cx="162000" cy="7596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V="1">
                      <a:off x="3249720" y="4686120"/>
                      <a:ext cx="22860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325680" y="4638600"/>
                    <a:ext cx="74520" cy="28800"/>
                    <a:chOff x="3325680" y="4638600"/>
                    <a:chExt cx="74520" cy="2880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3325680" y="46386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3373200" y="46404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626" name=""/>
              <p:cNvSpPr/>
              <p:nvPr/>
            </p:nvSpPr>
            <p:spPr>
              <a:xfrm>
                <a:off x="3162240" y="4448160"/>
                <a:ext cx="24289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(a) In Third Squadron, replace DU-02 with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3029040" y="3019320"/>
              <a:ext cx="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2886120" y="2886120"/>
              <a:ext cx="283680" cy="280080"/>
              <a:chOff x="2886120" y="2886120"/>
              <a:chExt cx="283680" cy="280080"/>
            </a:xfrm>
          </p:grpSpPr>
          <p:grpSp>
            <p:nvGrpSpPr>
              <p:cNvPr id="629" name=""/>
              <p:cNvGrpSpPr/>
              <p:nvPr/>
            </p:nvGrpSpPr>
            <p:grpSpPr>
              <a:xfrm>
                <a:off x="2962080" y="2886120"/>
                <a:ext cx="131040" cy="27000"/>
                <a:chOff x="2962080" y="2886120"/>
                <a:chExt cx="131040" cy="2700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2962080" y="28861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012480" y="2886120"/>
                  <a:ext cx="2808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066480" y="2886120"/>
                  <a:ext cx="2664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2886120" y="2933280"/>
                <a:ext cx="283680" cy="232920"/>
                <a:chOff x="2886120" y="2933280"/>
                <a:chExt cx="283680" cy="23292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2886120" y="2933640"/>
                  <a:ext cx="283680" cy="192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899440" y="3133440"/>
                  <a:ext cx="3276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3121560" y="3133440"/>
                  <a:ext cx="34560" cy="32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926800" y="2984040"/>
                  <a:ext cx="198360" cy="9288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440" bIns="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 flipV="1">
                  <a:off x="2888280" y="2933280"/>
                  <a:ext cx="279720" cy="186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9" name=""/>
            <p:cNvGrpSpPr/>
            <p:nvPr/>
          </p:nvGrpSpPr>
          <p:grpSpPr>
            <a:xfrm>
              <a:off x="3038400" y="3133800"/>
              <a:ext cx="2619360" cy="389160"/>
              <a:chOff x="3038400" y="3133800"/>
              <a:chExt cx="2619360" cy="389160"/>
            </a:xfrm>
          </p:grpSpPr>
          <p:sp>
            <p:nvSpPr>
              <p:cNvPr id="640" name=""/>
              <p:cNvSpPr/>
              <p:nvPr/>
            </p:nvSpPr>
            <p:spPr>
              <a:xfrm>
                <a:off x="3429000" y="313380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3038400" y="3276720"/>
                <a:ext cx="2619360" cy="246240"/>
                <a:chOff x="3038400" y="3276720"/>
                <a:chExt cx="2619360" cy="24624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038400" y="3409920"/>
                  <a:ext cx="32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429000" y="3276720"/>
                  <a:ext cx="2228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.38 Armored Car      NE-0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3238560" y="3276720"/>
                  <a:ext cx="231480" cy="237240"/>
                  <a:chOff x="3238560" y="3276720"/>
                  <a:chExt cx="231480" cy="237240"/>
                </a:xfrm>
              </p:grpSpPr>
              <p:grpSp>
                <p:nvGrpSpPr>
                  <p:cNvPr id="645" name=""/>
                  <p:cNvGrpSpPr/>
                  <p:nvPr/>
                </p:nvGrpSpPr>
                <p:grpSpPr>
                  <a:xfrm>
                    <a:off x="3238560" y="3324240"/>
                    <a:ext cx="231480" cy="189720"/>
                    <a:chOff x="3238560" y="3324240"/>
                    <a:chExt cx="231480" cy="189720"/>
                  </a:xfrm>
                </p:grpSpPr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3238560" y="3324240"/>
                      <a:ext cx="23148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>
                      <a:off x="3249360" y="348732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>
                      <a:off x="3430440" y="34873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>
                      <a:off x="3271680" y="3365280"/>
                      <a:ext cx="161640" cy="756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V="1">
                      <a:off x="3240000" y="3324240"/>
                      <a:ext cx="22824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3315960" y="3276720"/>
                    <a:ext cx="73800" cy="28080"/>
                    <a:chOff x="3315960" y="3276720"/>
                    <a:chExt cx="73800" cy="28080"/>
                  </a:xfrm>
                </p:grpSpPr>
                <p:sp>
                  <p:nvSpPr>
                    <p:cNvPr id="652" name=""/>
                    <p:cNvSpPr/>
                    <p:nvPr/>
                  </p:nvSpPr>
                  <p:spPr>
                    <a:xfrm>
                      <a:off x="3315960" y="3276720"/>
                      <a:ext cx="2808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>
                      <a:off x="3363120" y="3278160"/>
                      <a:ext cx="266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54" name=""/>
            <p:cNvGrpSpPr/>
            <p:nvPr/>
          </p:nvGrpSpPr>
          <p:grpSpPr>
            <a:xfrm>
              <a:off x="3038400" y="3619440"/>
              <a:ext cx="2638440" cy="265320"/>
              <a:chOff x="3038400" y="3619440"/>
              <a:chExt cx="2638440" cy="265320"/>
            </a:xfrm>
          </p:grpSpPr>
          <p:sp>
            <p:nvSpPr>
              <p:cNvPr id="655" name=""/>
              <p:cNvSpPr/>
              <p:nvPr/>
            </p:nvSpPr>
            <p:spPr>
              <a:xfrm>
                <a:off x="3038400" y="37530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48080" y="3638520"/>
                <a:ext cx="2228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M.38 Armored Car (a) NE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7" name=""/>
              <p:cNvGrpSpPr/>
              <p:nvPr/>
            </p:nvGrpSpPr>
            <p:grpSpPr>
              <a:xfrm>
                <a:off x="3238560" y="3619440"/>
                <a:ext cx="231840" cy="238320"/>
                <a:chOff x="3238560" y="3619440"/>
                <a:chExt cx="231840" cy="238320"/>
              </a:xfrm>
            </p:grpSpPr>
            <p:grpSp>
              <p:nvGrpSpPr>
                <p:cNvPr id="658" name=""/>
                <p:cNvGrpSpPr/>
                <p:nvPr/>
              </p:nvGrpSpPr>
              <p:grpSpPr>
                <a:xfrm>
                  <a:off x="3238560" y="3666960"/>
                  <a:ext cx="231840" cy="190800"/>
                  <a:chOff x="3238560" y="3666960"/>
                  <a:chExt cx="231840" cy="190800"/>
                </a:xfrm>
              </p:grpSpPr>
              <p:sp>
                <p:nvSpPr>
                  <p:cNvPr id="659" name=""/>
                  <p:cNvSpPr/>
                  <p:nvPr/>
                </p:nvSpPr>
                <p:spPr>
                  <a:xfrm>
                    <a:off x="3238560" y="366732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249720" y="3830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3430800" y="38307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3272040" y="3708720"/>
                    <a:ext cx="162000" cy="75960"/>
                  </a:xfrm>
                  <a:prstGeom prst="ellipse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 flipV="1">
                    <a:off x="3240360" y="3666960"/>
                    <a:ext cx="228600" cy="152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4" name=""/>
                <p:cNvGrpSpPr/>
                <p:nvPr/>
              </p:nvGrpSpPr>
              <p:grpSpPr>
                <a:xfrm>
                  <a:off x="3316320" y="3619440"/>
                  <a:ext cx="74520" cy="28800"/>
                  <a:chOff x="3316320" y="3619440"/>
                  <a:chExt cx="74520" cy="28800"/>
                </a:xfrm>
              </p:grpSpPr>
              <p:sp>
                <p:nvSpPr>
                  <p:cNvPr id="665" name=""/>
                  <p:cNvSpPr/>
                  <p:nvPr/>
                </p:nvSpPr>
                <p:spPr>
                  <a:xfrm>
                    <a:off x="3316320" y="361944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3363840" y="362124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67" name=""/>
            <p:cNvGrpSpPr/>
            <p:nvPr/>
          </p:nvGrpSpPr>
          <p:grpSpPr>
            <a:xfrm>
              <a:off x="3019320" y="4105440"/>
              <a:ext cx="2629080" cy="246240"/>
              <a:chOff x="3019320" y="4105440"/>
              <a:chExt cx="2629080" cy="246240"/>
            </a:xfrm>
          </p:grpSpPr>
          <p:sp>
            <p:nvSpPr>
              <p:cNvPr id="668" name=""/>
              <p:cNvSpPr/>
              <p:nvPr/>
            </p:nvSpPr>
            <p:spPr>
              <a:xfrm>
                <a:off x="3019320" y="422928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3228840" y="4105440"/>
                <a:ext cx="2419560" cy="246240"/>
                <a:chOff x="3228840" y="4105440"/>
                <a:chExt cx="2419560" cy="24624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3419640" y="4105440"/>
                  <a:ext cx="22287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4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M.36 Armored Car    NE-0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1" name=""/>
                <p:cNvGrpSpPr/>
                <p:nvPr/>
              </p:nvGrpSpPr>
              <p:grpSpPr>
                <a:xfrm>
                  <a:off x="3228840" y="4105440"/>
                  <a:ext cx="231840" cy="237240"/>
                  <a:chOff x="3228840" y="4105440"/>
                  <a:chExt cx="231840" cy="237240"/>
                </a:xfrm>
              </p:grpSpPr>
              <p:grpSp>
                <p:nvGrpSpPr>
                  <p:cNvPr id="672" name=""/>
                  <p:cNvGrpSpPr/>
                  <p:nvPr/>
                </p:nvGrpSpPr>
                <p:grpSpPr>
                  <a:xfrm>
                    <a:off x="3228840" y="4152960"/>
                    <a:ext cx="231840" cy="189720"/>
                    <a:chOff x="3228840" y="4152960"/>
                    <a:chExt cx="231840" cy="189720"/>
                  </a:xfrm>
                </p:grpSpPr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3228840" y="4152960"/>
                      <a:ext cx="23184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3240000" y="431604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3421080" y="43160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3262320" y="4194000"/>
                      <a:ext cx="162000" cy="75600"/>
                    </a:xfrm>
                    <a:prstGeom prst="ellipse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V="1">
                      <a:off x="3230640" y="4152960"/>
                      <a:ext cx="228600" cy="151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8" name=""/>
                  <p:cNvGrpSpPr/>
                  <p:nvPr/>
                </p:nvGrpSpPr>
                <p:grpSpPr>
                  <a:xfrm>
                    <a:off x="3306600" y="4105440"/>
                    <a:ext cx="74520" cy="28080"/>
                    <a:chOff x="3306600" y="4105440"/>
                    <a:chExt cx="74520" cy="28080"/>
                  </a:xfrm>
                </p:grpSpPr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3306600" y="410544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3354120" y="410688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81" name=""/>
            <p:cNvSpPr/>
            <p:nvPr/>
          </p:nvSpPr>
          <p:spPr>
            <a:xfrm>
              <a:off x="3029040" y="3743280"/>
              <a:ext cx="0" cy="4953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33600" y="2581200"/>
              <a:ext cx="253368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-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mored Reconnaissance Squadr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(Blitz) ME-05-&gt;ME-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81080" y="619200"/>
            <a:ext cx="183816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Maneuver Element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eavy Antiaircraft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85840" y="1076400"/>
            <a:ext cx="2228760" cy="1103040"/>
            <a:chOff x="285840" y="1076400"/>
            <a:chExt cx="2228760" cy="1103040"/>
          </a:xfrm>
        </p:grpSpPr>
        <p:sp>
          <p:nvSpPr>
            <p:cNvPr id="686" name=""/>
            <p:cNvSpPr/>
            <p:nvPr/>
          </p:nvSpPr>
          <p:spPr>
            <a:xfrm>
              <a:off x="428760" y="1238040"/>
              <a:ext cx="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428760" y="1181160"/>
              <a:ext cx="1971720" cy="436680"/>
              <a:chOff x="428760" y="1181160"/>
              <a:chExt cx="1971720" cy="436680"/>
            </a:xfrm>
          </p:grpSpPr>
          <p:sp>
            <p:nvSpPr>
              <p:cNvPr id="688" name=""/>
              <p:cNvSpPr/>
              <p:nvPr/>
            </p:nvSpPr>
            <p:spPr>
              <a:xfrm>
                <a:off x="428760" y="150480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19360" y="1371600"/>
                <a:ext cx="15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NE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19360" y="118116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1" name=""/>
              <p:cNvGrpSpPr/>
              <p:nvPr/>
            </p:nvGrpSpPr>
            <p:grpSpPr>
              <a:xfrm>
                <a:off x="623880" y="1371600"/>
                <a:ext cx="231840" cy="212760"/>
                <a:chOff x="623880" y="1371600"/>
                <a:chExt cx="231840" cy="212760"/>
              </a:xfrm>
            </p:grpSpPr>
            <p:grpSp>
              <p:nvGrpSpPr>
                <p:cNvPr id="692" name=""/>
                <p:cNvGrpSpPr/>
                <p:nvPr/>
              </p:nvGrpSpPr>
              <p:grpSpPr>
                <a:xfrm>
                  <a:off x="623880" y="1427040"/>
                  <a:ext cx="231840" cy="157320"/>
                  <a:chOff x="623880" y="1427040"/>
                  <a:chExt cx="231840" cy="157320"/>
                </a:xfrm>
              </p:grpSpPr>
              <p:sp>
                <p:nvSpPr>
                  <p:cNvPr id="693" name=""/>
                  <p:cNvSpPr/>
                  <p:nvPr/>
                </p:nvSpPr>
                <p:spPr>
                  <a:xfrm>
                    <a:off x="623880" y="142704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47640" y="1449360"/>
                    <a:ext cx="184320" cy="11088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5" name=""/>
                <p:cNvSpPr/>
                <p:nvPr/>
              </p:nvSpPr>
              <p:spPr>
                <a:xfrm>
                  <a:off x="725400" y="137160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285840" y="1076400"/>
              <a:ext cx="291240" cy="266040"/>
              <a:chOff x="285840" y="1076400"/>
              <a:chExt cx="291240" cy="266040"/>
            </a:xfrm>
          </p:grpSpPr>
          <p:sp>
            <p:nvSpPr>
              <p:cNvPr id="697" name=""/>
              <p:cNvSpPr/>
              <p:nvPr/>
            </p:nvSpPr>
            <p:spPr>
              <a:xfrm>
                <a:off x="436680" y="107640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285840" y="1152360"/>
                <a:ext cx="291240" cy="190080"/>
                <a:chOff x="285840" y="1152360"/>
                <a:chExt cx="291240" cy="19008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287280" y="1152360"/>
                  <a:ext cx="289800" cy="190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 flipV="1">
                  <a:off x="285840" y="115344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25880" y="1152360"/>
                  <a:ext cx="14976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66120" y="1233000"/>
                  <a:ext cx="1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19040" y="1647720"/>
              <a:ext cx="2095560" cy="255960"/>
              <a:chOff x="419040" y="1647720"/>
              <a:chExt cx="2095560" cy="255960"/>
            </a:xfrm>
          </p:grpSpPr>
          <p:sp>
            <p:nvSpPr>
              <p:cNvPr id="704" name=""/>
              <p:cNvSpPr/>
              <p:nvPr/>
            </p:nvSpPr>
            <p:spPr>
              <a:xfrm>
                <a:off x="419040" y="177156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19360" y="1657440"/>
                <a:ext cx="169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5mm AA Gun NE-1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619200" y="1647720"/>
                <a:ext cx="241200" cy="214200"/>
                <a:chOff x="619200" y="1647720"/>
                <a:chExt cx="241200" cy="214200"/>
              </a:xfrm>
            </p:grpSpPr>
            <p:grpSp>
              <p:nvGrpSpPr>
                <p:cNvPr id="707" name=""/>
                <p:cNvGrpSpPr/>
                <p:nvPr/>
              </p:nvGrpSpPr>
              <p:grpSpPr>
                <a:xfrm>
                  <a:off x="706680" y="1647720"/>
                  <a:ext cx="74520" cy="28800"/>
                  <a:chOff x="706680" y="1647720"/>
                  <a:chExt cx="74520" cy="28800"/>
                </a:xfrm>
              </p:grpSpPr>
              <p:sp>
                <p:nvSpPr>
                  <p:cNvPr id="708" name=""/>
                  <p:cNvSpPr/>
                  <p:nvPr/>
                </p:nvSpPr>
                <p:spPr>
                  <a:xfrm>
                    <a:off x="706680" y="164772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754200" y="1649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0" name=""/>
                <p:cNvGrpSpPr/>
                <p:nvPr/>
              </p:nvGrpSpPr>
              <p:grpSpPr>
                <a:xfrm>
                  <a:off x="619200" y="1704960"/>
                  <a:ext cx="241200" cy="156960"/>
                  <a:chOff x="619200" y="1704960"/>
                  <a:chExt cx="241200" cy="1569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620640" y="1704960"/>
                    <a:ext cx="23976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 flipV="1">
                    <a:off x="619200" y="1706400"/>
                    <a:ext cx="11592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735120" y="170496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685800" y="1771560"/>
                    <a:ext cx="9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15" name=""/>
            <p:cNvGrpSpPr/>
            <p:nvPr/>
          </p:nvGrpSpPr>
          <p:grpSpPr>
            <a:xfrm>
              <a:off x="419040" y="1923840"/>
              <a:ext cx="2095560" cy="255600"/>
              <a:chOff x="419040" y="1923840"/>
              <a:chExt cx="2095560" cy="255600"/>
            </a:xfrm>
          </p:grpSpPr>
          <p:sp>
            <p:nvSpPr>
              <p:cNvPr id="716" name=""/>
              <p:cNvSpPr/>
              <p:nvPr/>
            </p:nvSpPr>
            <p:spPr>
              <a:xfrm>
                <a:off x="419040" y="204768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19000" y="1933200"/>
                <a:ext cx="169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A MG             NE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8" name=""/>
              <p:cNvGrpSpPr/>
              <p:nvPr/>
            </p:nvGrpSpPr>
            <p:grpSpPr>
              <a:xfrm>
                <a:off x="628560" y="1923840"/>
                <a:ext cx="231840" cy="204840"/>
                <a:chOff x="628560" y="1923840"/>
                <a:chExt cx="231840" cy="204840"/>
              </a:xfrm>
            </p:grpSpPr>
            <p:grpSp>
              <p:nvGrpSpPr>
                <p:cNvPr id="719" name=""/>
                <p:cNvGrpSpPr/>
                <p:nvPr/>
              </p:nvGrpSpPr>
              <p:grpSpPr>
                <a:xfrm>
                  <a:off x="628560" y="1971360"/>
                  <a:ext cx="231840" cy="157320"/>
                  <a:chOff x="628560" y="1971360"/>
                  <a:chExt cx="231840" cy="157320"/>
                </a:xfrm>
              </p:grpSpPr>
              <p:sp>
                <p:nvSpPr>
                  <p:cNvPr id="720" name=""/>
                  <p:cNvSpPr/>
                  <p:nvPr/>
                </p:nvSpPr>
                <p:spPr>
                  <a:xfrm>
                    <a:off x="628560" y="197136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628560" y="197136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 flipV="1">
                    <a:off x="628560" y="1974240"/>
                    <a:ext cx="228600" cy="15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630360" y="1971360"/>
                    <a:ext cx="2268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4" name=""/>
                <p:cNvGrpSpPr/>
                <p:nvPr/>
              </p:nvGrpSpPr>
              <p:grpSpPr>
                <a:xfrm>
                  <a:off x="706320" y="1923840"/>
                  <a:ext cx="74520" cy="28080"/>
                  <a:chOff x="706320" y="1923840"/>
                  <a:chExt cx="74520" cy="2808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706320" y="19238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753840" y="19252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27" name=""/>
          <p:cNvSpPr/>
          <p:nvPr/>
        </p:nvSpPr>
        <p:spPr>
          <a:xfrm>
            <a:off x="133200" y="2390760"/>
            <a:ext cx="21243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Maneuver Element-06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um Antiaircraft Batte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219240" y="2771640"/>
            <a:ext cx="2228760" cy="1103040"/>
            <a:chOff x="219240" y="2771640"/>
            <a:chExt cx="2228760" cy="1103040"/>
          </a:xfrm>
        </p:grpSpPr>
        <p:sp>
          <p:nvSpPr>
            <p:cNvPr id="729" name=""/>
            <p:cNvSpPr/>
            <p:nvPr/>
          </p:nvSpPr>
          <p:spPr>
            <a:xfrm>
              <a:off x="362160" y="2933280"/>
              <a:ext cx="0" cy="80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362160" y="2876400"/>
              <a:ext cx="1971720" cy="436680"/>
              <a:chOff x="362160" y="2876400"/>
              <a:chExt cx="1971720" cy="436680"/>
            </a:xfrm>
          </p:grpSpPr>
          <p:sp>
            <p:nvSpPr>
              <p:cNvPr id="731" name=""/>
              <p:cNvSpPr/>
              <p:nvPr/>
            </p:nvSpPr>
            <p:spPr>
              <a:xfrm>
                <a:off x="362160" y="320004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52760" y="3066840"/>
                <a:ext cx="15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NE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52760" y="287640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4" name=""/>
              <p:cNvGrpSpPr/>
              <p:nvPr/>
            </p:nvGrpSpPr>
            <p:grpSpPr>
              <a:xfrm>
                <a:off x="557280" y="3066840"/>
                <a:ext cx="231840" cy="212760"/>
                <a:chOff x="557280" y="3066840"/>
                <a:chExt cx="231840" cy="212760"/>
              </a:xfrm>
            </p:grpSpPr>
            <p:grpSp>
              <p:nvGrpSpPr>
                <p:cNvPr id="735" name=""/>
                <p:cNvGrpSpPr/>
                <p:nvPr/>
              </p:nvGrpSpPr>
              <p:grpSpPr>
                <a:xfrm>
                  <a:off x="557280" y="3122280"/>
                  <a:ext cx="231840" cy="157320"/>
                  <a:chOff x="557280" y="3122280"/>
                  <a:chExt cx="231840" cy="15732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557280" y="312228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581040" y="3144600"/>
                    <a:ext cx="184320" cy="11088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8" name=""/>
                <p:cNvSpPr/>
                <p:nvPr/>
              </p:nvSpPr>
              <p:spPr>
                <a:xfrm>
                  <a:off x="658800" y="306684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9" name=""/>
            <p:cNvGrpSpPr/>
            <p:nvPr/>
          </p:nvGrpSpPr>
          <p:grpSpPr>
            <a:xfrm>
              <a:off x="219240" y="2771640"/>
              <a:ext cx="291240" cy="266040"/>
              <a:chOff x="219240" y="2771640"/>
              <a:chExt cx="291240" cy="266040"/>
            </a:xfrm>
          </p:grpSpPr>
          <p:sp>
            <p:nvSpPr>
              <p:cNvPr id="740" name=""/>
              <p:cNvSpPr/>
              <p:nvPr/>
            </p:nvSpPr>
            <p:spPr>
              <a:xfrm>
                <a:off x="370080" y="2771640"/>
                <a:ext cx="0" cy="63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1" name=""/>
              <p:cNvGrpSpPr/>
              <p:nvPr/>
            </p:nvGrpSpPr>
            <p:grpSpPr>
              <a:xfrm>
                <a:off x="219240" y="2847600"/>
                <a:ext cx="291240" cy="190080"/>
                <a:chOff x="219240" y="2847600"/>
                <a:chExt cx="291240" cy="1900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220680" y="2847600"/>
                  <a:ext cx="289800" cy="1900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V="1">
                  <a:off x="219240" y="2848680"/>
                  <a:ext cx="14004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59280" y="2847600"/>
                  <a:ext cx="149760" cy="188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99520" y="2928240"/>
                  <a:ext cx="1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6" name=""/>
            <p:cNvGrpSpPr/>
            <p:nvPr/>
          </p:nvGrpSpPr>
          <p:grpSpPr>
            <a:xfrm>
              <a:off x="352440" y="3342960"/>
              <a:ext cx="2095560" cy="255960"/>
              <a:chOff x="352440" y="3342960"/>
              <a:chExt cx="2095560" cy="255960"/>
            </a:xfrm>
          </p:grpSpPr>
          <p:sp>
            <p:nvSpPr>
              <p:cNvPr id="747" name=""/>
              <p:cNvSpPr/>
              <p:nvPr/>
            </p:nvSpPr>
            <p:spPr>
              <a:xfrm>
                <a:off x="352440" y="34668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52760" y="3352680"/>
                <a:ext cx="169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40mm AA Gun NE-1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9" name=""/>
              <p:cNvGrpSpPr/>
              <p:nvPr/>
            </p:nvGrpSpPr>
            <p:grpSpPr>
              <a:xfrm>
                <a:off x="552600" y="3342960"/>
                <a:ext cx="241200" cy="214200"/>
                <a:chOff x="552600" y="3342960"/>
                <a:chExt cx="241200" cy="214200"/>
              </a:xfrm>
            </p:grpSpPr>
            <p:grpSp>
              <p:nvGrpSpPr>
                <p:cNvPr id="750" name=""/>
                <p:cNvGrpSpPr/>
                <p:nvPr/>
              </p:nvGrpSpPr>
              <p:grpSpPr>
                <a:xfrm>
                  <a:off x="640080" y="3342960"/>
                  <a:ext cx="74520" cy="28800"/>
                  <a:chOff x="640080" y="3342960"/>
                  <a:chExt cx="74520" cy="2880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640080" y="3342960"/>
                    <a:ext cx="2844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687600" y="3344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552600" y="3400200"/>
                  <a:ext cx="241200" cy="156960"/>
                  <a:chOff x="552600" y="3400200"/>
                  <a:chExt cx="241200" cy="156960"/>
                </a:xfrm>
              </p:grpSpPr>
              <p:sp>
                <p:nvSpPr>
                  <p:cNvPr id="754" name=""/>
                  <p:cNvSpPr/>
                  <p:nvPr/>
                </p:nvSpPr>
                <p:spPr>
                  <a:xfrm>
                    <a:off x="554040" y="3400200"/>
                    <a:ext cx="23976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 flipV="1">
                    <a:off x="552600" y="3401640"/>
                    <a:ext cx="11592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668520" y="3400200"/>
                    <a:ext cx="123840" cy="155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619200" y="3466800"/>
                    <a:ext cx="98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58" name=""/>
            <p:cNvGrpSpPr/>
            <p:nvPr/>
          </p:nvGrpSpPr>
          <p:grpSpPr>
            <a:xfrm>
              <a:off x="352440" y="3619080"/>
              <a:ext cx="2095560" cy="255600"/>
              <a:chOff x="352440" y="3619080"/>
              <a:chExt cx="2095560" cy="255600"/>
            </a:xfrm>
          </p:grpSpPr>
          <p:sp>
            <p:nvSpPr>
              <p:cNvPr id="759" name=""/>
              <p:cNvSpPr/>
              <p:nvPr/>
            </p:nvSpPr>
            <p:spPr>
              <a:xfrm>
                <a:off x="352440" y="374292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52400" y="3628440"/>
                <a:ext cx="169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A MG             NE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" name=""/>
              <p:cNvGrpSpPr/>
              <p:nvPr/>
            </p:nvGrpSpPr>
            <p:grpSpPr>
              <a:xfrm>
                <a:off x="561960" y="3619080"/>
                <a:ext cx="231840" cy="204840"/>
                <a:chOff x="561960" y="3619080"/>
                <a:chExt cx="231840" cy="20484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561960" y="3666600"/>
                  <a:ext cx="231840" cy="157320"/>
                  <a:chOff x="561960" y="3666600"/>
                  <a:chExt cx="231840" cy="1573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561960" y="366660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561960" y="366660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V="1">
                    <a:off x="561960" y="3669480"/>
                    <a:ext cx="228600" cy="15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63760" y="3666600"/>
                    <a:ext cx="2268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7" name=""/>
                <p:cNvGrpSpPr/>
                <p:nvPr/>
              </p:nvGrpSpPr>
              <p:grpSpPr>
                <a:xfrm>
                  <a:off x="639720" y="3619080"/>
                  <a:ext cx="74520" cy="28080"/>
                  <a:chOff x="639720" y="3619080"/>
                  <a:chExt cx="74520" cy="28080"/>
                </a:xfrm>
              </p:grpSpPr>
              <p:sp>
                <p:nvSpPr>
                  <p:cNvPr id="768" name=""/>
                  <p:cNvSpPr/>
                  <p:nvPr/>
                </p:nvSpPr>
                <p:spPr>
                  <a:xfrm>
                    <a:off x="639720" y="361908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687240" y="362052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770" name=""/>
          <p:cNvGrpSpPr/>
          <p:nvPr/>
        </p:nvGrpSpPr>
        <p:grpSpPr>
          <a:xfrm>
            <a:off x="2924280" y="666720"/>
            <a:ext cx="2314440" cy="1617840"/>
            <a:chOff x="2924280" y="666720"/>
            <a:chExt cx="2314440" cy="1617840"/>
          </a:xfrm>
        </p:grpSpPr>
        <p:sp>
          <p:nvSpPr>
            <p:cNvPr id="771" name=""/>
            <p:cNvSpPr/>
            <p:nvPr/>
          </p:nvSpPr>
          <p:spPr>
            <a:xfrm>
              <a:off x="2924280" y="666720"/>
              <a:ext cx="212400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-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ntiaircraft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3009960" y="1209600"/>
              <a:ext cx="2228760" cy="1074960"/>
              <a:chOff x="3009960" y="1209600"/>
              <a:chExt cx="2228760" cy="107496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3152880" y="1285920"/>
                <a:ext cx="1971720" cy="436680"/>
                <a:chOff x="3152880" y="1285920"/>
                <a:chExt cx="1971720" cy="43668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3152880" y="1609560"/>
                  <a:ext cx="32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543480" y="1476360"/>
                  <a:ext cx="1581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Commander    NE-16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543480" y="1285920"/>
                  <a:ext cx="76176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Command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7" name=""/>
                <p:cNvGrpSpPr/>
                <p:nvPr/>
              </p:nvGrpSpPr>
              <p:grpSpPr>
                <a:xfrm>
                  <a:off x="3348000" y="1476360"/>
                  <a:ext cx="231840" cy="212760"/>
                  <a:chOff x="3348000" y="1476360"/>
                  <a:chExt cx="231840" cy="212760"/>
                </a:xfrm>
              </p:grpSpPr>
              <p:grpSp>
                <p:nvGrpSpPr>
                  <p:cNvPr id="778" name=""/>
                  <p:cNvGrpSpPr/>
                  <p:nvPr/>
                </p:nvGrpSpPr>
                <p:grpSpPr>
                  <a:xfrm>
                    <a:off x="3348000" y="1531800"/>
                    <a:ext cx="231840" cy="157320"/>
                    <a:chOff x="3348000" y="1531800"/>
                    <a:chExt cx="231840" cy="157320"/>
                  </a:xfrm>
                </p:grpSpPr>
                <p:sp>
                  <p:nvSpPr>
                    <p:cNvPr id="779" name=""/>
                    <p:cNvSpPr/>
                    <p:nvPr/>
                  </p:nvSpPr>
                  <p:spPr>
                    <a:xfrm>
                      <a:off x="3348000" y="1531800"/>
                      <a:ext cx="231840" cy="15732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>
                      <a:off x="3371760" y="1554120"/>
                      <a:ext cx="184320" cy="1108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Q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1" name=""/>
                  <p:cNvSpPr/>
                  <p:nvPr/>
                </p:nvSpPr>
                <p:spPr>
                  <a:xfrm>
                    <a:off x="3449520" y="14763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2" name=""/>
              <p:cNvGrpSpPr/>
              <p:nvPr/>
            </p:nvGrpSpPr>
            <p:grpSpPr>
              <a:xfrm>
                <a:off x="3143160" y="1752480"/>
                <a:ext cx="2095560" cy="255960"/>
                <a:chOff x="3143160" y="1752480"/>
                <a:chExt cx="2095560" cy="25596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3143160" y="1876320"/>
                  <a:ext cx="324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543480" y="1762200"/>
                  <a:ext cx="169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20mm AA Gun NE-1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" name=""/>
                <p:cNvGrpSpPr/>
                <p:nvPr/>
              </p:nvGrpSpPr>
              <p:grpSpPr>
                <a:xfrm>
                  <a:off x="3343320" y="1752480"/>
                  <a:ext cx="241200" cy="214200"/>
                  <a:chOff x="3343320" y="1752480"/>
                  <a:chExt cx="241200" cy="214200"/>
                </a:xfrm>
              </p:grpSpPr>
              <p:grpSp>
                <p:nvGrpSpPr>
                  <p:cNvPr id="786" name=""/>
                  <p:cNvGrpSpPr/>
                  <p:nvPr/>
                </p:nvGrpSpPr>
                <p:grpSpPr>
                  <a:xfrm>
                    <a:off x="3430800" y="1752480"/>
                    <a:ext cx="74520" cy="28800"/>
                    <a:chOff x="3430800" y="1752480"/>
                    <a:chExt cx="74520" cy="28800"/>
                  </a:xfrm>
                </p:grpSpPr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3430800" y="175248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3478320" y="175428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9" name=""/>
                  <p:cNvGrpSpPr/>
                  <p:nvPr/>
                </p:nvGrpSpPr>
                <p:grpSpPr>
                  <a:xfrm>
                    <a:off x="3343320" y="1809720"/>
                    <a:ext cx="241200" cy="156960"/>
                    <a:chOff x="3343320" y="1809720"/>
                    <a:chExt cx="241200" cy="156960"/>
                  </a:xfrm>
                </p:grpSpPr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344760" y="1809720"/>
                      <a:ext cx="239760" cy="15696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 flipV="1">
                      <a:off x="3343320" y="1811160"/>
                      <a:ext cx="11592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3459240" y="1809720"/>
                      <a:ext cx="123840" cy="155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>
                      <a:off x="3409920" y="1876320"/>
                      <a:ext cx="98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94" name=""/>
              <p:cNvGrpSpPr/>
              <p:nvPr/>
            </p:nvGrpSpPr>
            <p:grpSpPr>
              <a:xfrm>
                <a:off x="3143160" y="2028960"/>
                <a:ext cx="2095560" cy="255600"/>
                <a:chOff x="3143160" y="2028960"/>
                <a:chExt cx="2095560" cy="2556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3143160" y="2152800"/>
                  <a:ext cx="323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543120" y="2038320"/>
                  <a:ext cx="16956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AA MG             NE-1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7" name=""/>
                <p:cNvGrpSpPr/>
                <p:nvPr/>
              </p:nvGrpSpPr>
              <p:grpSpPr>
                <a:xfrm>
                  <a:off x="3352680" y="2028960"/>
                  <a:ext cx="231840" cy="204840"/>
                  <a:chOff x="3352680" y="2028960"/>
                  <a:chExt cx="231840" cy="204840"/>
                </a:xfrm>
              </p:grpSpPr>
              <p:grpSp>
                <p:nvGrpSpPr>
                  <p:cNvPr id="798" name=""/>
                  <p:cNvGrpSpPr/>
                  <p:nvPr/>
                </p:nvGrpSpPr>
                <p:grpSpPr>
                  <a:xfrm>
                    <a:off x="3352680" y="2076480"/>
                    <a:ext cx="231840" cy="157320"/>
                    <a:chOff x="3352680" y="2076480"/>
                    <a:chExt cx="231840" cy="157320"/>
                  </a:xfrm>
                </p:grpSpPr>
                <p:sp>
                  <p:nvSpPr>
                    <p:cNvPr id="799" name=""/>
                    <p:cNvSpPr/>
                    <p:nvPr/>
                  </p:nvSpPr>
                  <p:spPr>
                    <a:xfrm>
                      <a:off x="3352680" y="2076480"/>
                      <a:ext cx="231840" cy="15732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3352680" y="2076480"/>
                      <a:ext cx="55800" cy="155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 flipV="1">
                      <a:off x="3352680" y="2079360"/>
                      <a:ext cx="228600" cy="1508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354480" y="2076480"/>
                      <a:ext cx="226800" cy="152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3" name=""/>
                  <p:cNvGrpSpPr/>
                  <p:nvPr/>
                </p:nvGrpSpPr>
                <p:grpSpPr>
                  <a:xfrm>
                    <a:off x="3430440" y="2028960"/>
                    <a:ext cx="74520" cy="28080"/>
                    <a:chOff x="3430440" y="2028960"/>
                    <a:chExt cx="74520" cy="28080"/>
                  </a:xfrm>
                </p:grpSpPr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3430440" y="202896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3477960" y="203040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06" name=""/>
              <p:cNvGrpSpPr/>
              <p:nvPr/>
            </p:nvGrpSpPr>
            <p:grpSpPr>
              <a:xfrm>
                <a:off x="3009960" y="1209600"/>
                <a:ext cx="291240" cy="933480"/>
                <a:chOff x="3009960" y="1209600"/>
                <a:chExt cx="291240" cy="93348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3152880" y="1343160"/>
                  <a:ext cx="0" cy="799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" name=""/>
                <p:cNvGrpSpPr/>
                <p:nvPr/>
              </p:nvGrpSpPr>
              <p:grpSpPr>
                <a:xfrm>
                  <a:off x="3009960" y="1209600"/>
                  <a:ext cx="291240" cy="237960"/>
                  <a:chOff x="3009960" y="1209600"/>
                  <a:chExt cx="291240" cy="237960"/>
                </a:xfrm>
              </p:grpSpPr>
              <p:grpSp>
                <p:nvGrpSpPr>
                  <p:cNvPr id="809" name=""/>
                  <p:cNvGrpSpPr/>
                  <p:nvPr/>
                </p:nvGrpSpPr>
                <p:grpSpPr>
                  <a:xfrm>
                    <a:off x="3009960" y="1257480"/>
                    <a:ext cx="291240" cy="190080"/>
                    <a:chOff x="3009960" y="1257480"/>
                    <a:chExt cx="291240" cy="190080"/>
                  </a:xfrm>
                </p:grpSpPr>
                <p:sp>
                  <p:nvSpPr>
                    <p:cNvPr id="810" name=""/>
                    <p:cNvSpPr/>
                    <p:nvPr/>
                  </p:nvSpPr>
                  <p:spPr>
                    <a:xfrm>
                      <a:off x="3011400" y="1257480"/>
                      <a:ext cx="289800" cy="190080"/>
                    </a:xfrm>
                    <a:prstGeom prst="rect">
                      <a:avLst/>
                    </a:prstGeom>
                    <a:solidFill>
                      <a:srgbClr val="ff66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V="1">
                      <a:off x="3009960" y="1258560"/>
                      <a:ext cx="140040" cy="18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>
                      <a:off x="3150000" y="1257480"/>
                      <a:ext cx="149760" cy="18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>
                      <a:off x="3090240" y="1338120"/>
                      <a:ext cx="119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3086280" y="1209600"/>
                    <a:ext cx="131760" cy="27000"/>
                    <a:chOff x="3086280" y="1209600"/>
                    <a:chExt cx="131760" cy="2700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3086280" y="1209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3137040" y="1209600"/>
                      <a:ext cx="2844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3191040" y="1209600"/>
                      <a:ext cx="27000" cy="27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818" name=""/>
          <p:cNvGrpSpPr/>
          <p:nvPr/>
        </p:nvGrpSpPr>
        <p:grpSpPr>
          <a:xfrm>
            <a:off x="2971800" y="2533680"/>
            <a:ext cx="2514600" cy="1350720"/>
            <a:chOff x="2971800" y="2533680"/>
            <a:chExt cx="2514600" cy="1350720"/>
          </a:xfrm>
        </p:grpSpPr>
        <p:sp>
          <p:nvSpPr>
            <p:cNvPr id="819" name=""/>
            <p:cNvSpPr/>
            <p:nvPr/>
          </p:nvSpPr>
          <p:spPr>
            <a:xfrm>
              <a:off x="2971800" y="2533680"/>
              <a:ext cx="2514600" cy="50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-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ntiaircraft Machinegun Plato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200400" y="3152520"/>
              <a:ext cx="1971720" cy="436320"/>
              <a:chOff x="3200400" y="3152520"/>
              <a:chExt cx="1971720" cy="436320"/>
            </a:xfrm>
          </p:grpSpPr>
          <p:sp>
            <p:nvSpPr>
              <p:cNvPr id="821" name=""/>
              <p:cNvSpPr/>
              <p:nvPr/>
            </p:nvSpPr>
            <p:spPr>
              <a:xfrm>
                <a:off x="3200400" y="347580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591000" y="3342600"/>
                <a:ext cx="1581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Commander    NE-1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591000" y="3152520"/>
                <a:ext cx="761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4" name=""/>
              <p:cNvGrpSpPr/>
              <p:nvPr/>
            </p:nvGrpSpPr>
            <p:grpSpPr>
              <a:xfrm>
                <a:off x="3395520" y="3342600"/>
                <a:ext cx="231840" cy="212040"/>
                <a:chOff x="3395520" y="3342600"/>
                <a:chExt cx="231840" cy="212040"/>
              </a:xfrm>
            </p:grpSpPr>
            <p:grpSp>
              <p:nvGrpSpPr>
                <p:cNvPr id="825" name=""/>
                <p:cNvGrpSpPr/>
                <p:nvPr/>
              </p:nvGrpSpPr>
              <p:grpSpPr>
                <a:xfrm>
                  <a:off x="3395520" y="3397680"/>
                  <a:ext cx="231840" cy="156960"/>
                  <a:chOff x="3395520" y="3397680"/>
                  <a:chExt cx="231840" cy="156960"/>
                </a:xfrm>
              </p:grpSpPr>
              <p:sp>
                <p:nvSpPr>
                  <p:cNvPr id="826" name=""/>
                  <p:cNvSpPr/>
                  <p:nvPr/>
                </p:nvSpPr>
                <p:spPr>
                  <a:xfrm>
                    <a:off x="3395520" y="339768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3419280" y="3419640"/>
                    <a:ext cx="184320" cy="110520"/>
                  </a:xfrm>
                  <a:prstGeom prst="rect">
                    <a:avLst/>
                  </a:prstGeom>
                  <a:solidFill>
                    <a:srgbClr val="ff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anchorCtr="1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HQ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8" name=""/>
                <p:cNvSpPr/>
                <p:nvPr/>
              </p:nvSpPr>
              <p:spPr>
                <a:xfrm>
                  <a:off x="3497040" y="33426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29" name=""/>
            <p:cNvGrpSpPr/>
            <p:nvPr/>
          </p:nvGrpSpPr>
          <p:grpSpPr>
            <a:xfrm>
              <a:off x="3190680" y="3628800"/>
              <a:ext cx="2095560" cy="255600"/>
              <a:chOff x="3190680" y="3628800"/>
              <a:chExt cx="2095560" cy="255600"/>
            </a:xfrm>
          </p:grpSpPr>
          <p:sp>
            <p:nvSpPr>
              <p:cNvPr id="830" name=""/>
              <p:cNvSpPr/>
              <p:nvPr/>
            </p:nvSpPr>
            <p:spPr>
              <a:xfrm>
                <a:off x="3190680" y="3752640"/>
                <a:ext cx="32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590640" y="3638160"/>
                <a:ext cx="169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AA MG             NE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" name=""/>
              <p:cNvGrpSpPr/>
              <p:nvPr/>
            </p:nvGrpSpPr>
            <p:grpSpPr>
              <a:xfrm>
                <a:off x="3400200" y="3628800"/>
                <a:ext cx="231840" cy="204840"/>
                <a:chOff x="3400200" y="3628800"/>
                <a:chExt cx="231840" cy="204840"/>
              </a:xfrm>
            </p:grpSpPr>
            <p:grpSp>
              <p:nvGrpSpPr>
                <p:cNvPr id="833" name=""/>
                <p:cNvGrpSpPr/>
                <p:nvPr/>
              </p:nvGrpSpPr>
              <p:grpSpPr>
                <a:xfrm>
                  <a:off x="3400200" y="3676320"/>
                  <a:ext cx="231840" cy="157320"/>
                  <a:chOff x="3400200" y="3676320"/>
                  <a:chExt cx="231840" cy="157320"/>
                </a:xfrm>
              </p:grpSpPr>
              <p:sp>
                <p:nvSpPr>
                  <p:cNvPr id="834" name=""/>
                  <p:cNvSpPr/>
                  <p:nvPr/>
                </p:nvSpPr>
                <p:spPr>
                  <a:xfrm>
                    <a:off x="3400200" y="367632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3400200" y="3676320"/>
                    <a:ext cx="55800" cy="1555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V="1">
                    <a:off x="3400200" y="3679200"/>
                    <a:ext cx="228600" cy="1508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402000" y="3676320"/>
                    <a:ext cx="226800" cy="152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8" name=""/>
                <p:cNvGrpSpPr/>
                <p:nvPr/>
              </p:nvGrpSpPr>
              <p:grpSpPr>
                <a:xfrm>
                  <a:off x="3477960" y="3628800"/>
                  <a:ext cx="74520" cy="28080"/>
                  <a:chOff x="3477960" y="3628800"/>
                  <a:chExt cx="74520" cy="2808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3477960" y="36288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525480" y="36302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841" name=""/>
            <p:cNvSpPr/>
            <p:nvPr/>
          </p:nvSpPr>
          <p:spPr>
            <a:xfrm>
              <a:off x="3190680" y="3228840"/>
              <a:ext cx="0" cy="52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"/>
            <p:cNvGrpSpPr/>
            <p:nvPr/>
          </p:nvGrpSpPr>
          <p:grpSpPr>
            <a:xfrm>
              <a:off x="3057480" y="3076200"/>
              <a:ext cx="291240" cy="237240"/>
              <a:chOff x="3057480" y="3076200"/>
              <a:chExt cx="291240" cy="237240"/>
            </a:xfrm>
          </p:grpSpPr>
          <p:grpSp>
            <p:nvGrpSpPr>
              <p:cNvPr id="843" name=""/>
              <p:cNvGrpSpPr/>
              <p:nvPr/>
            </p:nvGrpSpPr>
            <p:grpSpPr>
              <a:xfrm>
                <a:off x="3057480" y="3123720"/>
                <a:ext cx="291240" cy="189720"/>
                <a:chOff x="3057480" y="3123720"/>
                <a:chExt cx="291240" cy="1897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3058920" y="3123720"/>
                  <a:ext cx="289800" cy="1897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V="1">
                  <a:off x="3057480" y="3125160"/>
                  <a:ext cx="14004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197520" y="3123720"/>
                  <a:ext cx="149760" cy="18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137760" y="3204000"/>
                  <a:ext cx="119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3133800" y="3076200"/>
                <a:ext cx="131760" cy="26640"/>
                <a:chOff x="3133800" y="3076200"/>
                <a:chExt cx="131760" cy="266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3133800" y="3076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184560" y="3076200"/>
                  <a:ext cx="2844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238560" y="3076200"/>
                  <a:ext cx="27000" cy="266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(Blitz) FS-01-&gt;FS-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4762440" y="549360"/>
            <a:ext cx="3686040" cy="2777400"/>
            <a:chOff x="4762440" y="549360"/>
            <a:chExt cx="3686040" cy="2777400"/>
          </a:xfrm>
        </p:grpSpPr>
        <p:sp>
          <p:nvSpPr>
            <p:cNvPr id="854" name=""/>
            <p:cNvSpPr/>
            <p:nvPr/>
          </p:nvSpPr>
          <p:spPr>
            <a:xfrm>
              <a:off x="5216400" y="772920"/>
              <a:ext cx="21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14960" y="549360"/>
              <a:ext cx="201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Fire Support Element-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87800" y="1012680"/>
              <a:ext cx="6480" cy="161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7" name=""/>
            <p:cNvGrpSpPr/>
            <p:nvPr/>
          </p:nvGrpSpPr>
          <p:grpSpPr>
            <a:xfrm>
              <a:off x="4987800" y="1020600"/>
              <a:ext cx="3211560" cy="398880"/>
              <a:chOff x="4987800" y="1020600"/>
              <a:chExt cx="3211560" cy="398880"/>
            </a:xfrm>
          </p:grpSpPr>
          <p:sp>
            <p:nvSpPr>
              <p:cNvPr id="858" name=""/>
              <p:cNvSpPr/>
              <p:nvPr/>
            </p:nvSpPr>
            <p:spPr>
              <a:xfrm>
                <a:off x="5597280" y="1173240"/>
                <a:ext cx="26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NE-18 (a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987800" y="124920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597280" y="102060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1" name=""/>
              <p:cNvGrpSpPr/>
              <p:nvPr/>
            </p:nvGrpSpPr>
            <p:grpSpPr>
              <a:xfrm>
                <a:off x="5294160" y="1135080"/>
                <a:ext cx="231840" cy="195120"/>
                <a:chOff x="5294160" y="1135080"/>
                <a:chExt cx="231840" cy="1951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5294160" y="1173240"/>
                  <a:ext cx="231840" cy="1569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5381280" y="122400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397120" y="113508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65" name=""/>
            <p:cNvSpPr/>
            <p:nvPr/>
          </p:nvSpPr>
          <p:spPr>
            <a:xfrm>
              <a:off x="5587920" y="134928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66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844880" y="749160"/>
              <a:ext cx="284040" cy="257400"/>
              <a:chOff x="4844880" y="749160"/>
              <a:chExt cx="284040" cy="257400"/>
            </a:xfrm>
          </p:grpSpPr>
          <p:sp>
            <p:nvSpPr>
              <p:cNvPr id="867" name=""/>
              <p:cNvSpPr/>
              <p:nvPr/>
            </p:nvSpPr>
            <p:spPr>
              <a:xfrm>
                <a:off x="4844880" y="812880"/>
                <a:ext cx="284040" cy="193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959000" y="88092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986000" y="749160"/>
                <a:ext cx="0" cy="7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4986360" y="1531800"/>
              <a:ext cx="2708280" cy="419400"/>
              <a:chOff x="4986360" y="1531800"/>
              <a:chExt cx="2708280" cy="419400"/>
            </a:xfrm>
          </p:grpSpPr>
          <p:sp>
            <p:nvSpPr>
              <p:cNvPr id="871" name=""/>
              <p:cNvSpPr/>
              <p:nvPr/>
            </p:nvSpPr>
            <p:spPr>
              <a:xfrm>
                <a:off x="5599080" y="170496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5mm Field Gun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86360" y="181908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3" name=""/>
              <p:cNvGrpSpPr/>
              <p:nvPr/>
            </p:nvGrpSpPr>
            <p:grpSpPr>
              <a:xfrm>
                <a:off x="5286240" y="1711440"/>
                <a:ext cx="231480" cy="209520"/>
                <a:chOff x="5286240" y="1711440"/>
                <a:chExt cx="231480" cy="209520"/>
              </a:xfrm>
            </p:grpSpPr>
            <p:grpSp>
              <p:nvGrpSpPr>
                <p:cNvPr id="874" name=""/>
                <p:cNvGrpSpPr/>
                <p:nvPr/>
              </p:nvGrpSpPr>
              <p:grpSpPr>
                <a:xfrm>
                  <a:off x="5365440" y="1711440"/>
                  <a:ext cx="74520" cy="28080"/>
                  <a:chOff x="5365440" y="1711440"/>
                  <a:chExt cx="74520" cy="28080"/>
                </a:xfrm>
              </p:grpSpPr>
              <p:sp>
                <p:nvSpPr>
                  <p:cNvPr id="875" name=""/>
                  <p:cNvSpPr/>
                  <p:nvPr/>
                </p:nvSpPr>
                <p:spPr>
                  <a:xfrm>
                    <a:off x="5365440" y="17114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5412960" y="17128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" name=""/>
                <p:cNvSpPr/>
                <p:nvPr/>
              </p:nvSpPr>
              <p:spPr>
                <a:xfrm>
                  <a:off x="5286240" y="1763640"/>
                  <a:ext cx="231480" cy="1573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379840" y="18194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9" name=""/>
              <p:cNvSpPr/>
              <p:nvPr/>
            </p:nvSpPr>
            <p:spPr>
              <a:xfrm>
                <a:off x="5565960" y="153180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st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4986360" y="1922400"/>
              <a:ext cx="2708280" cy="419400"/>
              <a:chOff x="4986360" y="1922400"/>
              <a:chExt cx="2708280" cy="419400"/>
            </a:xfrm>
          </p:grpSpPr>
          <p:sp>
            <p:nvSpPr>
              <p:cNvPr id="881" name=""/>
              <p:cNvSpPr/>
              <p:nvPr/>
            </p:nvSpPr>
            <p:spPr>
              <a:xfrm>
                <a:off x="5599080" y="209556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5mm Field Gun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986360" y="220968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3" name=""/>
              <p:cNvGrpSpPr/>
              <p:nvPr/>
            </p:nvGrpSpPr>
            <p:grpSpPr>
              <a:xfrm>
                <a:off x="5286240" y="2102040"/>
                <a:ext cx="231480" cy="209520"/>
                <a:chOff x="5286240" y="2102040"/>
                <a:chExt cx="231480" cy="20952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5365440" y="2102040"/>
                  <a:ext cx="74520" cy="28080"/>
                  <a:chOff x="5365440" y="2102040"/>
                  <a:chExt cx="74520" cy="2808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5365440" y="210204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5412960" y="210348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" name=""/>
                <p:cNvSpPr/>
                <p:nvPr/>
              </p:nvSpPr>
              <p:spPr>
                <a:xfrm>
                  <a:off x="5286240" y="2154240"/>
                  <a:ext cx="231480" cy="1573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5379840" y="221004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9" name=""/>
              <p:cNvSpPr/>
              <p:nvPr/>
            </p:nvSpPr>
            <p:spPr>
              <a:xfrm>
                <a:off x="5565960" y="192240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0" name=""/>
            <p:cNvGrpSpPr/>
            <p:nvPr/>
          </p:nvGrpSpPr>
          <p:grpSpPr>
            <a:xfrm>
              <a:off x="4986360" y="2351160"/>
              <a:ext cx="2708280" cy="419040"/>
              <a:chOff x="4986360" y="2351160"/>
              <a:chExt cx="2708280" cy="419040"/>
            </a:xfrm>
          </p:grpSpPr>
          <p:sp>
            <p:nvSpPr>
              <p:cNvPr id="891" name=""/>
              <p:cNvSpPr/>
              <p:nvPr/>
            </p:nvSpPr>
            <p:spPr>
              <a:xfrm>
                <a:off x="5599080" y="252396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75mm Field Gun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986360" y="2638080"/>
                <a:ext cx="29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93" name=""/>
              <p:cNvGrpSpPr/>
              <p:nvPr/>
            </p:nvGrpSpPr>
            <p:grpSpPr>
              <a:xfrm>
                <a:off x="5286240" y="2530440"/>
                <a:ext cx="231480" cy="208800"/>
                <a:chOff x="5286240" y="2530440"/>
                <a:chExt cx="231480" cy="208800"/>
              </a:xfrm>
            </p:grpSpPr>
            <p:grpSp>
              <p:nvGrpSpPr>
                <p:cNvPr id="894" name=""/>
                <p:cNvGrpSpPr/>
                <p:nvPr/>
              </p:nvGrpSpPr>
              <p:grpSpPr>
                <a:xfrm>
                  <a:off x="5365440" y="2530440"/>
                  <a:ext cx="74520" cy="27720"/>
                  <a:chOff x="5365440" y="2530440"/>
                  <a:chExt cx="74520" cy="27720"/>
                </a:xfrm>
              </p:grpSpPr>
              <p:sp>
                <p:nvSpPr>
                  <p:cNvPr id="895" name=""/>
                  <p:cNvSpPr/>
                  <p:nvPr/>
                </p:nvSpPr>
                <p:spPr>
                  <a:xfrm>
                    <a:off x="5365440" y="253044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412960" y="253188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" name=""/>
                <p:cNvSpPr/>
                <p:nvPr/>
              </p:nvSpPr>
              <p:spPr>
                <a:xfrm>
                  <a:off x="5286240" y="2582280"/>
                  <a:ext cx="231480" cy="1569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5379840" y="2638080"/>
                  <a:ext cx="46080" cy="45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9" name=""/>
              <p:cNvSpPr/>
              <p:nvPr/>
            </p:nvSpPr>
            <p:spPr>
              <a:xfrm>
                <a:off x="5565960" y="235116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rd Light Artillery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0" name=""/>
            <p:cNvSpPr/>
            <p:nvPr/>
          </p:nvSpPr>
          <p:spPr>
            <a:xfrm>
              <a:off x="4762440" y="285732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a) The forward observer may be attached to any maneuver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62440" y="309564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b) Indirect fire weapon rating: -1 vs V, 0 vs T,G,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81080" y="577800"/>
            <a:ext cx="3686040" cy="1843920"/>
            <a:chOff x="181080" y="577800"/>
            <a:chExt cx="3686040" cy="1843920"/>
          </a:xfrm>
        </p:grpSpPr>
        <p:grpSp>
          <p:nvGrpSpPr>
            <p:cNvPr id="903" name=""/>
            <p:cNvGrpSpPr/>
            <p:nvPr/>
          </p:nvGrpSpPr>
          <p:grpSpPr>
            <a:xfrm>
              <a:off x="254160" y="577800"/>
              <a:ext cx="3354480" cy="1239840"/>
              <a:chOff x="254160" y="577800"/>
              <a:chExt cx="3354480" cy="1239840"/>
            </a:xfrm>
          </p:grpSpPr>
          <p:sp>
            <p:nvSpPr>
              <p:cNvPr id="904" name=""/>
              <p:cNvSpPr/>
              <p:nvPr/>
            </p:nvSpPr>
            <p:spPr>
              <a:xfrm>
                <a:off x="625680" y="801360"/>
                <a:ext cx="218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ight Artillery Batte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23880" y="577800"/>
                <a:ext cx="20131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600"/>
                    </a:solidFill>
                    <a:latin typeface="Arial"/>
                  </a:rPr>
                  <a:t>Fire Support Element-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97080" y="1041120"/>
                <a:ext cx="6120" cy="646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7" name=""/>
              <p:cNvGrpSpPr/>
              <p:nvPr/>
            </p:nvGrpSpPr>
            <p:grpSpPr>
              <a:xfrm>
                <a:off x="397080" y="1049040"/>
                <a:ext cx="3211560" cy="398880"/>
                <a:chOff x="397080" y="1049040"/>
                <a:chExt cx="3211560" cy="39888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1006560" y="1201680"/>
                  <a:ext cx="2602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NE-18 (a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97080" y="1277640"/>
                  <a:ext cx="2998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1006560" y="104904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1" name=""/>
                <p:cNvGrpSpPr/>
                <p:nvPr/>
              </p:nvGrpSpPr>
              <p:grpSpPr>
                <a:xfrm>
                  <a:off x="703440" y="1163520"/>
                  <a:ext cx="231840" cy="195120"/>
                  <a:chOff x="703440" y="1163520"/>
                  <a:chExt cx="231840" cy="195120"/>
                </a:xfrm>
              </p:grpSpPr>
              <p:sp>
                <p:nvSpPr>
                  <p:cNvPr id="912" name=""/>
                  <p:cNvSpPr/>
                  <p:nvPr/>
                </p:nvSpPr>
                <p:spPr>
                  <a:xfrm>
                    <a:off x="703440" y="120168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790560" y="125244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806400" y="116352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15" name=""/>
              <p:cNvGrpSpPr/>
              <p:nvPr/>
            </p:nvGrpSpPr>
            <p:grpSpPr>
              <a:xfrm>
                <a:off x="414360" y="1387440"/>
                <a:ext cx="2708280" cy="430200"/>
                <a:chOff x="414360" y="1387440"/>
                <a:chExt cx="2708280" cy="430200"/>
              </a:xfrm>
            </p:grpSpPr>
            <p:sp>
              <p:nvSpPr>
                <p:cNvPr id="916" name=""/>
                <p:cNvSpPr/>
                <p:nvPr/>
              </p:nvSpPr>
              <p:spPr>
                <a:xfrm>
                  <a:off x="1006560" y="138744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Off-Board Direct Fire Support</a:t>
                  </a:r>
                  <a:r>
                    <a:rPr b="1" lang="en-US" sz="1000" spc="-1" strike="noStrike">
                      <a:solidFill>
                        <a:srgbClr val="ff66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27080" y="1571400"/>
                  <a:ext cx="2095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75mm Field Gun              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414360" y="1685880"/>
                  <a:ext cx="3002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19" name=""/>
                <p:cNvGrpSpPr/>
                <p:nvPr/>
              </p:nvGrpSpPr>
              <p:grpSpPr>
                <a:xfrm>
                  <a:off x="714600" y="1577880"/>
                  <a:ext cx="231480" cy="209520"/>
                  <a:chOff x="714600" y="1577880"/>
                  <a:chExt cx="231480" cy="209520"/>
                </a:xfrm>
              </p:grpSpPr>
              <p:grpSp>
                <p:nvGrpSpPr>
                  <p:cNvPr id="920" name=""/>
                  <p:cNvGrpSpPr/>
                  <p:nvPr/>
                </p:nvGrpSpPr>
                <p:grpSpPr>
                  <a:xfrm>
                    <a:off x="793800" y="1577880"/>
                    <a:ext cx="74520" cy="28080"/>
                    <a:chOff x="793800" y="1577880"/>
                    <a:chExt cx="74520" cy="28080"/>
                  </a:xfrm>
                </p:grpSpPr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793800" y="157788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841320" y="157932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23" name=""/>
                  <p:cNvSpPr/>
                  <p:nvPr/>
                </p:nvSpPr>
                <p:spPr>
                  <a:xfrm>
                    <a:off x="714600" y="1630080"/>
                    <a:ext cx="23148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>
                    <a:off x="808200" y="1685880"/>
                    <a:ext cx="460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5" name=""/>
              <p:cNvGrpSpPr/>
              <p:nvPr/>
            </p:nvGrpSpPr>
            <p:grpSpPr>
              <a:xfrm>
                <a:off x="254160" y="777600"/>
                <a:ext cx="284040" cy="257400"/>
                <a:chOff x="254160" y="777600"/>
                <a:chExt cx="284040" cy="25740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254160" y="841320"/>
                  <a:ext cx="284040" cy="1936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368280" y="909360"/>
                  <a:ext cx="57240" cy="57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395280" y="777600"/>
                  <a:ext cx="0" cy="73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29" name=""/>
            <p:cNvSpPr/>
            <p:nvPr/>
          </p:nvSpPr>
          <p:spPr>
            <a:xfrm>
              <a:off x="181080" y="195228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a) The forward observer may be attached to any maneuver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81080" y="219060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b) Indirect fire weapon rating: -1 vs V, 0 vs T,G,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216000" y="2514600"/>
            <a:ext cx="2958840" cy="1633680"/>
            <a:chOff x="216000" y="2514600"/>
            <a:chExt cx="2958840" cy="1633680"/>
          </a:xfrm>
        </p:grpSpPr>
        <p:grpSp>
          <p:nvGrpSpPr>
            <p:cNvPr id="932" name=""/>
            <p:cNvGrpSpPr/>
            <p:nvPr/>
          </p:nvGrpSpPr>
          <p:grpSpPr>
            <a:xfrm>
              <a:off x="355680" y="3160800"/>
              <a:ext cx="2819160" cy="367920"/>
              <a:chOff x="355680" y="3160800"/>
              <a:chExt cx="2819160" cy="367920"/>
            </a:xfrm>
          </p:grpSpPr>
          <p:sp>
            <p:nvSpPr>
              <p:cNvPr id="933" name=""/>
              <p:cNvSpPr/>
              <p:nvPr/>
            </p:nvSpPr>
            <p:spPr>
              <a:xfrm>
                <a:off x="965160" y="3313080"/>
                <a:ext cx="2209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Commander                   NE-16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55680" y="3389400"/>
                <a:ext cx="5572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965160" y="3160800"/>
                <a:ext cx="9907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Comman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6" name=""/>
              <p:cNvGrpSpPr/>
              <p:nvPr/>
            </p:nvGrpSpPr>
            <p:grpSpPr>
              <a:xfrm>
                <a:off x="755640" y="3274920"/>
                <a:ext cx="231840" cy="195120"/>
                <a:chOff x="755640" y="3274920"/>
                <a:chExt cx="231840" cy="19512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755640" y="3312720"/>
                  <a:ext cx="231840" cy="1573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779760" y="3335040"/>
                  <a:ext cx="183960" cy="111240"/>
                </a:xfrm>
                <a:prstGeom prst="rect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Q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862200" y="3274920"/>
                  <a:ext cx="27000" cy="27000"/>
                </a:xfrm>
                <a:prstGeom prst="ellipse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0" name=""/>
            <p:cNvSpPr/>
            <p:nvPr/>
          </p:nvSpPr>
          <p:spPr>
            <a:xfrm>
              <a:off x="219240" y="2514600"/>
              <a:ext cx="183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ption:May operate on-boa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87520" y="2963880"/>
              <a:ext cx="218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ight Artillery Batte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5720" y="2739960"/>
              <a:ext cx="218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Maneuver E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58920" y="3203640"/>
              <a:ext cx="6120" cy="493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216000" y="2940120"/>
              <a:ext cx="284040" cy="256680"/>
              <a:chOff x="216000" y="2940120"/>
              <a:chExt cx="284040" cy="256680"/>
            </a:xfrm>
          </p:grpSpPr>
          <p:sp>
            <p:nvSpPr>
              <p:cNvPr id="945" name=""/>
              <p:cNvSpPr/>
              <p:nvPr/>
            </p:nvSpPr>
            <p:spPr>
              <a:xfrm>
                <a:off x="216000" y="3003480"/>
                <a:ext cx="284040" cy="1933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30120" y="3071520"/>
                <a:ext cx="57240" cy="56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57120" y="2940120"/>
                <a:ext cx="0" cy="72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"/>
            <p:cNvGrpSpPr/>
            <p:nvPr/>
          </p:nvGrpSpPr>
          <p:grpSpPr>
            <a:xfrm>
              <a:off x="352440" y="3562200"/>
              <a:ext cx="2409120" cy="586080"/>
              <a:chOff x="352440" y="3562200"/>
              <a:chExt cx="2409120" cy="586080"/>
            </a:xfrm>
          </p:grpSpPr>
          <p:grpSp>
            <p:nvGrpSpPr>
              <p:cNvPr id="949" name=""/>
              <p:cNvGrpSpPr/>
              <p:nvPr/>
            </p:nvGrpSpPr>
            <p:grpSpPr>
              <a:xfrm>
                <a:off x="771480" y="3686040"/>
                <a:ext cx="1990080" cy="462240"/>
                <a:chOff x="771480" y="3686040"/>
                <a:chExt cx="1990080" cy="46224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799920" y="3686040"/>
                  <a:ext cx="0" cy="38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1" name=""/>
                <p:cNvGrpSpPr/>
                <p:nvPr/>
              </p:nvGrpSpPr>
              <p:grpSpPr>
                <a:xfrm>
                  <a:off x="771480" y="3780360"/>
                  <a:ext cx="1990080" cy="367920"/>
                  <a:chOff x="771480" y="3780360"/>
                  <a:chExt cx="1990080" cy="367920"/>
                </a:xfrm>
              </p:grpSpPr>
              <p:grpSp>
                <p:nvGrpSpPr>
                  <p:cNvPr id="952" name=""/>
                  <p:cNvGrpSpPr/>
                  <p:nvPr/>
                </p:nvGrpSpPr>
                <p:grpSpPr>
                  <a:xfrm>
                    <a:off x="771480" y="3909600"/>
                    <a:ext cx="231480" cy="232920"/>
                    <a:chOff x="771480" y="3909600"/>
                    <a:chExt cx="231480" cy="232920"/>
                  </a:xfrm>
                </p:grpSpPr>
                <p:grpSp>
                  <p:nvGrpSpPr>
                    <p:cNvPr id="953" name=""/>
                    <p:cNvGrpSpPr/>
                    <p:nvPr/>
                  </p:nvGrpSpPr>
                  <p:grpSpPr>
                    <a:xfrm>
                      <a:off x="848880" y="3909600"/>
                      <a:ext cx="73800" cy="28080"/>
                      <a:chOff x="848880" y="3909600"/>
                      <a:chExt cx="73800" cy="28080"/>
                    </a:xfrm>
                  </p:grpSpPr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848880" y="3909600"/>
                        <a:ext cx="2808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5" name=""/>
                      <p:cNvSpPr/>
                      <p:nvPr/>
                    </p:nvSpPr>
                    <p:spPr>
                      <a:xfrm>
                        <a:off x="896040" y="3911040"/>
                        <a:ext cx="26640" cy="266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360" bIns="-2736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56" name=""/>
                    <p:cNvGrpSpPr/>
                    <p:nvPr/>
                  </p:nvGrpSpPr>
                  <p:grpSpPr>
                    <a:xfrm>
                      <a:off x="771480" y="3952080"/>
                      <a:ext cx="231480" cy="190440"/>
                      <a:chOff x="771480" y="3952080"/>
                      <a:chExt cx="231480" cy="190440"/>
                    </a:xfrm>
                  </p:grpSpPr>
                  <p:sp>
                    <p:nvSpPr>
                      <p:cNvPr id="957" name=""/>
                      <p:cNvSpPr/>
                      <p:nvPr/>
                    </p:nvSpPr>
                    <p:spPr>
                      <a:xfrm>
                        <a:off x="771480" y="3952080"/>
                        <a:ext cx="231480" cy="156960"/>
                      </a:xfrm>
                      <a:prstGeom prst="rect">
                        <a:avLst/>
                      </a:prstGeom>
                      <a:solidFill>
                        <a:srgbClr val="ff66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8" name=""/>
                      <p:cNvSpPr/>
                      <p:nvPr/>
                    </p:nvSpPr>
                    <p:spPr>
                      <a:xfrm>
                        <a:off x="782280" y="4115520"/>
                        <a:ext cx="2664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>
                        <a:off x="963360" y="4115520"/>
                        <a:ext cx="28080" cy="2700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7720" bIns="-27720" anchor="ctr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60" name=""/>
                  <p:cNvSpPr/>
                  <p:nvPr/>
                </p:nvSpPr>
                <p:spPr>
                  <a:xfrm>
                    <a:off x="1009440" y="3932640"/>
                    <a:ext cx="175212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X2</a:t>
                    </a: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 Horse-drawn Limber     FR-22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1011240" y="3780360"/>
                    <a:ext cx="616680" cy="21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ff6600"/>
                        </a:solidFill>
                        <a:latin typeface="Arial"/>
                      </a:rPr>
                      <a:t>Transpor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62" name=""/>
              <p:cNvSpPr/>
              <p:nvPr/>
            </p:nvSpPr>
            <p:spPr>
              <a:xfrm>
                <a:off x="352440" y="3704760"/>
                <a:ext cx="457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961920" y="3599640"/>
                <a:ext cx="17528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75 mm Field Gun           NE-09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4" name=""/>
              <p:cNvGrpSpPr/>
              <p:nvPr/>
            </p:nvGrpSpPr>
            <p:grpSpPr>
              <a:xfrm>
                <a:off x="749160" y="3562200"/>
                <a:ext cx="231840" cy="214200"/>
                <a:chOff x="749160" y="3562200"/>
                <a:chExt cx="231840" cy="214200"/>
              </a:xfrm>
            </p:grpSpPr>
            <p:grpSp>
              <p:nvGrpSpPr>
                <p:cNvPr id="965" name=""/>
                <p:cNvGrpSpPr/>
                <p:nvPr/>
              </p:nvGrpSpPr>
              <p:grpSpPr>
                <a:xfrm>
                  <a:off x="830160" y="3562200"/>
                  <a:ext cx="74520" cy="28080"/>
                  <a:chOff x="830160" y="3562200"/>
                  <a:chExt cx="74520" cy="2808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830160" y="356220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877680" y="356364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49160" y="3619080"/>
                  <a:ext cx="231840" cy="157320"/>
                  <a:chOff x="749160" y="3619080"/>
                  <a:chExt cx="231840" cy="1573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749160" y="3619080"/>
                    <a:ext cx="23184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842760" y="3674520"/>
                    <a:ext cx="46080" cy="46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3680" bIns="-136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66720" y="0"/>
            <a:ext cx="77724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(Blitz) FS-03-&gt;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314280" y="797040"/>
            <a:ext cx="3686040" cy="1843920"/>
            <a:chOff x="314280" y="797040"/>
            <a:chExt cx="3686040" cy="1843920"/>
          </a:xfrm>
        </p:grpSpPr>
        <p:grpSp>
          <p:nvGrpSpPr>
            <p:cNvPr id="973" name=""/>
            <p:cNvGrpSpPr/>
            <p:nvPr/>
          </p:nvGrpSpPr>
          <p:grpSpPr>
            <a:xfrm>
              <a:off x="387360" y="797040"/>
              <a:ext cx="3354480" cy="1239840"/>
              <a:chOff x="387360" y="797040"/>
              <a:chExt cx="3354480" cy="1239840"/>
            </a:xfrm>
          </p:grpSpPr>
          <p:sp>
            <p:nvSpPr>
              <p:cNvPr id="974" name=""/>
              <p:cNvSpPr/>
              <p:nvPr/>
            </p:nvSpPr>
            <p:spPr>
              <a:xfrm>
                <a:off x="758880" y="1020600"/>
                <a:ext cx="2184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Heavy Howitzer Batte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7080" y="797040"/>
                <a:ext cx="2013120" cy="27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600"/>
                    </a:solidFill>
                    <a:latin typeface="Arial"/>
                  </a:rPr>
                  <a:t>Fire Support Element-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30280" y="1260360"/>
                <a:ext cx="6120" cy="6462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530280" y="1268280"/>
                <a:ext cx="3211560" cy="398880"/>
                <a:chOff x="530280" y="1268280"/>
                <a:chExt cx="3211560" cy="39888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1139760" y="1420920"/>
                  <a:ext cx="26020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1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Forward Observer  NE-18 (a)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530280" y="1496880"/>
                  <a:ext cx="29988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1139760" y="1268280"/>
                  <a:ext cx="15238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On-Board Attachment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1" name=""/>
                <p:cNvGrpSpPr/>
                <p:nvPr/>
              </p:nvGrpSpPr>
              <p:grpSpPr>
                <a:xfrm>
                  <a:off x="836640" y="1382760"/>
                  <a:ext cx="231840" cy="195120"/>
                  <a:chOff x="836640" y="1382760"/>
                  <a:chExt cx="231840" cy="195120"/>
                </a:xfrm>
              </p:grpSpPr>
              <p:sp>
                <p:nvSpPr>
                  <p:cNvPr id="982" name=""/>
                  <p:cNvSpPr/>
                  <p:nvPr/>
                </p:nvSpPr>
                <p:spPr>
                  <a:xfrm>
                    <a:off x="836640" y="1420920"/>
                    <a:ext cx="231840" cy="15696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923760" y="1471680"/>
                    <a:ext cx="57240" cy="55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939600" y="1382760"/>
                    <a:ext cx="27000" cy="270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85" name=""/>
              <p:cNvGrpSpPr/>
              <p:nvPr/>
            </p:nvGrpSpPr>
            <p:grpSpPr>
              <a:xfrm>
                <a:off x="547560" y="1606680"/>
                <a:ext cx="2708280" cy="430200"/>
                <a:chOff x="547560" y="1606680"/>
                <a:chExt cx="2708280" cy="43020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1139760" y="1606680"/>
                  <a:ext cx="1600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6600"/>
                      </a:solidFill>
                      <a:latin typeface="Arial"/>
                    </a:rPr>
                    <a:t>Off-Board Direct Fire Support</a:t>
                  </a:r>
                  <a:r>
                    <a:rPr b="1" lang="en-US" sz="1000" spc="-1" strike="noStrike">
                      <a:solidFill>
                        <a:srgbClr val="ff6600"/>
                      </a:solidFill>
                      <a:latin typeface="Arial"/>
                    </a:rPr>
                    <a:t>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1160280" y="1790640"/>
                  <a:ext cx="2095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x2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150mm Howitzer              (b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7560" y="1905120"/>
                  <a:ext cx="3002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89" name=""/>
                <p:cNvGrpSpPr/>
                <p:nvPr/>
              </p:nvGrpSpPr>
              <p:grpSpPr>
                <a:xfrm>
                  <a:off x="847800" y="1797120"/>
                  <a:ext cx="231480" cy="209520"/>
                  <a:chOff x="847800" y="1797120"/>
                  <a:chExt cx="231480" cy="209520"/>
                </a:xfrm>
              </p:grpSpPr>
              <p:grpSp>
                <p:nvGrpSpPr>
                  <p:cNvPr id="990" name=""/>
                  <p:cNvGrpSpPr/>
                  <p:nvPr/>
                </p:nvGrpSpPr>
                <p:grpSpPr>
                  <a:xfrm>
                    <a:off x="927000" y="1797120"/>
                    <a:ext cx="74520" cy="28080"/>
                    <a:chOff x="927000" y="1797120"/>
                    <a:chExt cx="74520" cy="28080"/>
                  </a:xfrm>
                </p:grpSpPr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927000" y="1797120"/>
                      <a:ext cx="2844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974520" y="1798560"/>
                      <a:ext cx="27000" cy="26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360" bIns="-273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3" name=""/>
                  <p:cNvSpPr/>
                  <p:nvPr/>
                </p:nvSpPr>
                <p:spPr>
                  <a:xfrm>
                    <a:off x="847800" y="1849320"/>
                    <a:ext cx="231480" cy="157320"/>
                  </a:xfrm>
                  <a:prstGeom prst="rect">
                    <a:avLst/>
                  </a:prstGeom>
                  <a:solidFill>
                    <a:srgbClr val="ff66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941400" y="1905120"/>
                    <a:ext cx="46080" cy="45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040" bIns="-140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95" name=""/>
              <p:cNvGrpSpPr/>
              <p:nvPr/>
            </p:nvGrpSpPr>
            <p:grpSpPr>
              <a:xfrm>
                <a:off x="387360" y="996840"/>
                <a:ext cx="284040" cy="257400"/>
                <a:chOff x="387360" y="996840"/>
                <a:chExt cx="284040" cy="25740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387360" y="1060560"/>
                  <a:ext cx="284040" cy="19368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01480" y="1128600"/>
                  <a:ext cx="57240" cy="572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8480" y="996840"/>
                  <a:ext cx="0" cy="73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9" name=""/>
            <p:cNvSpPr/>
            <p:nvPr/>
          </p:nvSpPr>
          <p:spPr>
            <a:xfrm>
              <a:off x="314280" y="217152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a) The forward observer may be attached to any maneuver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14280" y="240984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b) Indirect fire weapon rating: +1 vs V, +2 vs T,G,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819600" y="797040"/>
            <a:ext cx="3686040" cy="2777400"/>
            <a:chOff x="3819600" y="797040"/>
            <a:chExt cx="3686040" cy="2777400"/>
          </a:xfrm>
        </p:grpSpPr>
        <p:sp>
          <p:nvSpPr>
            <p:cNvPr id="1002" name=""/>
            <p:cNvSpPr/>
            <p:nvPr/>
          </p:nvSpPr>
          <p:spPr>
            <a:xfrm>
              <a:off x="4273560" y="1020600"/>
              <a:ext cx="218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Heavy Howitzer Battal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72120" y="797040"/>
              <a:ext cx="20127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Fire Support Element-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044960" y="1260360"/>
              <a:ext cx="6480" cy="1617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"/>
            <p:cNvGrpSpPr/>
            <p:nvPr/>
          </p:nvGrpSpPr>
          <p:grpSpPr>
            <a:xfrm>
              <a:off x="4044960" y="1268280"/>
              <a:ext cx="3211560" cy="398880"/>
              <a:chOff x="4044960" y="1268280"/>
              <a:chExt cx="3211560" cy="398880"/>
            </a:xfrm>
          </p:grpSpPr>
          <p:sp>
            <p:nvSpPr>
              <p:cNvPr id="1006" name=""/>
              <p:cNvSpPr/>
              <p:nvPr/>
            </p:nvSpPr>
            <p:spPr>
              <a:xfrm>
                <a:off x="4654440" y="1420920"/>
                <a:ext cx="2602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1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Forward Observer  NE-18 (a)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044960" y="149688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654440" y="1268280"/>
                <a:ext cx="15238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6600"/>
                    </a:solidFill>
                    <a:latin typeface="Arial"/>
                  </a:rPr>
                  <a:t>On-Board Attach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4351320" y="1382760"/>
                <a:ext cx="231840" cy="195120"/>
                <a:chOff x="4351320" y="1382760"/>
                <a:chExt cx="231840" cy="19512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4351320" y="1420920"/>
                  <a:ext cx="231840" cy="1569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438440" y="1471680"/>
                  <a:ext cx="57240" cy="55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454280" y="1382760"/>
                  <a:ext cx="27000" cy="27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3" name=""/>
            <p:cNvSpPr/>
            <p:nvPr/>
          </p:nvSpPr>
          <p:spPr>
            <a:xfrm>
              <a:off x="4645080" y="159696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6600"/>
                  </a:solidFill>
                  <a:latin typeface="Arial"/>
                </a:rPr>
                <a:t>Off-Board Direct Fire Support</a:t>
              </a:r>
              <a:r>
                <a:rPr b="1" lang="en-US" sz="1000" spc="-1" strike="noStrike">
                  <a:solidFill>
                    <a:srgbClr val="ff66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3902040" y="996840"/>
              <a:ext cx="284040" cy="257400"/>
              <a:chOff x="3902040" y="996840"/>
              <a:chExt cx="284040" cy="257400"/>
            </a:xfrm>
          </p:grpSpPr>
          <p:sp>
            <p:nvSpPr>
              <p:cNvPr id="1015" name=""/>
              <p:cNvSpPr/>
              <p:nvPr/>
            </p:nvSpPr>
            <p:spPr>
              <a:xfrm>
                <a:off x="3902040" y="1060560"/>
                <a:ext cx="284040" cy="19368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6160" y="112860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043160" y="996840"/>
                <a:ext cx="0" cy="73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4043520" y="1779480"/>
              <a:ext cx="2708280" cy="419400"/>
              <a:chOff x="4043520" y="1779480"/>
              <a:chExt cx="2708280" cy="419400"/>
            </a:xfrm>
          </p:grpSpPr>
          <p:sp>
            <p:nvSpPr>
              <p:cNvPr id="1019" name=""/>
              <p:cNvSpPr/>
              <p:nvPr/>
            </p:nvSpPr>
            <p:spPr>
              <a:xfrm>
                <a:off x="4656240" y="195264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50mm Howitzer             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043520" y="206676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21" name=""/>
              <p:cNvGrpSpPr/>
              <p:nvPr/>
            </p:nvGrpSpPr>
            <p:grpSpPr>
              <a:xfrm>
                <a:off x="4343400" y="1959120"/>
                <a:ext cx="231480" cy="209520"/>
                <a:chOff x="4343400" y="1959120"/>
                <a:chExt cx="231480" cy="209520"/>
              </a:xfrm>
            </p:grpSpPr>
            <p:grpSp>
              <p:nvGrpSpPr>
                <p:cNvPr id="1022" name=""/>
                <p:cNvGrpSpPr/>
                <p:nvPr/>
              </p:nvGrpSpPr>
              <p:grpSpPr>
                <a:xfrm>
                  <a:off x="4422600" y="1959120"/>
                  <a:ext cx="74520" cy="28080"/>
                  <a:chOff x="4422600" y="1959120"/>
                  <a:chExt cx="74520" cy="280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422600" y="19591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4470120" y="19605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25" name=""/>
                <p:cNvSpPr/>
                <p:nvPr/>
              </p:nvSpPr>
              <p:spPr>
                <a:xfrm>
                  <a:off x="4343400" y="2011320"/>
                  <a:ext cx="231480" cy="1573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437000" y="20671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7" name=""/>
              <p:cNvSpPr/>
              <p:nvPr/>
            </p:nvSpPr>
            <p:spPr>
              <a:xfrm>
                <a:off x="4623120" y="177948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1st Heavy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8" name=""/>
            <p:cNvGrpSpPr/>
            <p:nvPr/>
          </p:nvGrpSpPr>
          <p:grpSpPr>
            <a:xfrm>
              <a:off x="4043520" y="2170080"/>
              <a:ext cx="2708280" cy="419400"/>
              <a:chOff x="4043520" y="2170080"/>
              <a:chExt cx="2708280" cy="419400"/>
            </a:xfrm>
          </p:grpSpPr>
          <p:sp>
            <p:nvSpPr>
              <p:cNvPr id="1029" name=""/>
              <p:cNvSpPr/>
              <p:nvPr/>
            </p:nvSpPr>
            <p:spPr>
              <a:xfrm>
                <a:off x="4656240" y="234324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50mm Howitzer             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043520" y="2457360"/>
                <a:ext cx="29988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1" name=""/>
              <p:cNvGrpSpPr/>
              <p:nvPr/>
            </p:nvGrpSpPr>
            <p:grpSpPr>
              <a:xfrm>
                <a:off x="4343400" y="2349720"/>
                <a:ext cx="231480" cy="209520"/>
                <a:chOff x="4343400" y="2349720"/>
                <a:chExt cx="231480" cy="20952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4422600" y="2349720"/>
                  <a:ext cx="74520" cy="28080"/>
                  <a:chOff x="4422600" y="2349720"/>
                  <a:chExt cx="74520" cy="28080"/>
                </a:xfrm>
              </p:grpSpPr>
              <p:sp>
                <p:nvSpPr>
                  <p:cNvPr id="1033" name=""/>
                  <p:cNvSpPr/>
                  <p:nvPr/>
                </p:nvSpPr>
                <p:spPr>
                  <a:xfrm>
                    <a:off x="4422600" y="2349720"/>
                    <a:ext cx="2844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4470120" y="2351160"/>
                    <a:ext cx="27000" cy="26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35" name=""/>
                <p:cNvSpPr/>
                <p:nvPr/>
              </p:nvSpPr>
              <p:spPr>
                <a:xfrm>
                  <a:off x="4343400" y="2401920"/>
                  <a:ext cx="231480" cy="1573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437000" y="2457720"/>
                  <a:ext cx="46080" cy="45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7" name=""/>
              <p:cNvSpPr/>
              <p:nvPr/>
            </p:nvSpPr>
            <p:spPr>
              <a:xfrm>
                <a:off x="4623120" y="217008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2nd Heavy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4043520" y="2598840"/>
              <a:ext cx="2708280" cy="419040"/>
              <a:chOff x="4043520" y="2598840"/>
              <a:chExt cx="2708280" cy="419040"/>
            </a:xfrm>
          </p:grpSpPr>
          <p:sp>
            <p:nvSpPr>
              <p:cNvPr id="1039" name=""/>
              <p:cNvSpPr/>
              <p:nvPr/>
            </p:nvSpPr>
            <p:spPr>
              <a:xfrm>
                <a:off x="4656240" y="2771640"/>
                <a:ext cx="20955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x2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150mm Howitzer              (b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043520" y="2885760"/>
                <a:ext cx="29988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1" name=""/>
              <p:cNvGrpSpPr/>
              <p:nvPr/>
            </p:nvGrpSpPr>
            <p:grpSpPr>
              <a:xfrm>
                <a:off x="4343400" y="2778120"/>
                <a:ext cx="231480" cy="208800"/>
                <a:chOff x="4343400" y="2778120"/>
                <a:chExt cx="231480" cy="208800"/>
              </a:xfrm>
            </p:grpSpPr>
            <p:grpSp>
              <p:nvGrpSpPr>
                <p:cNvPr id="1042" name=""/>
                <p:cNvGrpSpPr/>
                <p:nvPr/>
              </p:nvGrpSpPr>
              <p:grpSpPr>
                <a:xfrm>
                  <a:off x="4422600" y="2778120"/>
                  <a:ext cx="74520" cy="27720"/>
                  <a:chOff x="4422600" y="2778120"/>
                  <a:chExt cx="74520" cy="2772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4422600" y="2778120"/>
                    <a:ext cx="2844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470120" y="2779560"/>
                    <a:ext cx="27000" cy="26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5" name=""/>
                <p:cNvSpPr/>
                <p:nvPr/>
              </p:nvSpPr>
              <p:spPr>
                <a:xfrm>
                  <a:off x="4343400" y="2829960"/>
                  <a:ext cx="231480" cy="15696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437000" y="2885760"/>
                  <a:ext cx="46080" cy="453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" name=""/>
              <p:cNvSpPr/>
              <p:nvPr/>
            </p:nvSpPr>
            <p:spPr>
              <a:xfrm>
                <a:off x="4623120" y="2598840"/>
                <a:ext cx="16160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3rd Heavy Howitzer Batter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3819600" y="310500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a) The forward observer may be attached to any maneuver elem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9600" y="3343320"/>
              <a:ext cx="368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b) Indirect fire weapon rating: +1 vs V, +2 vs T,G,s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3:03:30Z</dcterms:created>
  <dc:creator>JBaker</dc:creator>
  <dc:description/>
  <dc:language>en-US</dc:language>
  <cp:lastModifiedBy>James Baker</cp:lastModifiedBy>
  <cp:lastPrinted>2002-07-20T14:55:43Z</cp:lastPrinted>
  <dcterms:modified xsi:type="dcterms:W3CDTF">2002-07-20T14:56:48Z</dcterms:modified>
  <cp:revision>18</cp:revision>
  <dc:subject/>
  <dc:title>US Symbols</dc:title>
</cp:coreProperties>
</file>