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64FB-24D4-43EE-B906-CE5D2260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4EDB-7D0B-45C2-AE02-B2B4D5C1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7DC-AFFA-41F1-B7FB-778BF1B8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9A2-1C35-4FE1-B591-298A171C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1F2A-CCD0-4BED-8AC9-94B3F79B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079-5039-4330-AA7E-4EDEAB77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BEF-FE5E-42F5-B7CA-7B5D49FA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9BF9-74C5-4BEB-BD8A-DAC6EB5E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433C-7BF3-491A-AECE-E7DF73B2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67A-2414-4D40-AC7F-63651E2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3B2-3B83-4674-AD6E-40A6736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7D3-EDF5-49E6-8DF2-803D3BF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203D-205D-4DE9-B035-222187CE7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3400" y="-36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BG-01-&gt;BG-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833560" y="1739880"/>
            <a:ext cx="2659320" cy="1707480"/>
            <a:chOff x="2833560" y="1739880"/>
            <a:chExt cx="2659320" cy="1707480"/>
          </a:xfrm>
        </p:grpSpPr>
        <p:grpSp>
          <p:nvGrpSpPr>
            <p:cNvPr id="43" name=""/>
            <p:cNvGrpSpPr/>
            <p:nvPr/>
          </p:nvGrpSpPr>
          <p:grpSpPr>
            <a:xfrm>
              <a:off x="2833560" y="1739880"/>
              <a:ext cx="2216160" cy="1618920"/>
              <a:chOff x="2833560" y="1739880"/>
              <a:chExt cx="2216160" cy="1618920"/>
            </a:xfrm>
          </p:grpSpPr>
          <p:sp>
            <p:nvSpPr>
              <p:cNvPr id="44" name=""/>
              <p:cNvSpPr/>
              <p:nvPr/>
            </p:nvSpPr>
            <p:spPr>
              <a:xfrm>
                <a:off x="3009960" y="1996920"/>
                <a:ext cx="0" cy="136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2833560" y="1806480"/>
                <a:ext cx="347040" cy="299520"/>
                <a:chOff x="2833560" y="1806480"/>
                <a:chExt cx="347040" cy="299520"/>
              </a:xfrm>
            </p:grpSpPr>
            <p:grpSp>
              <p:nvGrpSpPr>
                <p:cNvPr id="46" name=""/>
                <p:cNvGrpSpPr/>
                <p:nvPr/>
              </p:nvGrpSpPr>
              <p:grpSpPr>
                <a:xfrm>
                  <a:off x="2970000" y="1806480"/>
                  <a:ext cx="76320" cy="63360"/>
                  <a:chOff x="2970000" y="1806480"/>
                  <a:chExt cx="76320" cy="6336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2970000" y="1806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046320" y="18064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2833560" y="1869840"/>
                  <a:ext cx="347040" cy="236160"/>
                  <a:chOff x="2833560" y="1869840"/>
                  <a:chExt cx="347040" cy="2361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2833560" y="1869840"/>
                    <a:ext cx="347040" cy="236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 flipV="1">
                    <a:off x="2837160" y="187344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2833560" y="187344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" name=""/>
              <p:cNvSpPr/>
              <p:nvPr/>
            </p:nvSpPr>
            <p:spPr>
              <a:xfrm>
                <a:off x="3564000" y="1739880"/>
                <a:ext cx="1485720" cy="57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BATTLE GROUP BG-02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                                  Rifle Battalion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x3 per Infantry Regiment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006720" y="2163600"/>
              <a:ext cx="2478240" cy="288360"/>
              <a:chOff x="3006720" y="2163600"/>
              <a:chExt cx="2478240" cy="288360"/>
            </a:xfrm>
          </p:grpSpPr>
          <p:sp>
            <p:nvSpPr>
              <p:cNvPr id="55" name=""/>
              <p:cNvSpPr/>
              <p:nvPr/>
            </p:nvSpPr>
            <p:spPr>
              <a:xfrm>
                <a:off x="3006720" y="237780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3198960" y="2163600"/>
                <a:ext cx="2286000" cy="288360"/>
                <a:chOff x="3198960" y="2163600"/>
                <a:chExt cx="2286000" cy="288360"/>
              </a:xfrm>
            </p:grpSpPr>
            <p:grpSp>
              <p:nvGrpSpPr>
                <p:cNvPr id="57" name=""/>
                <p:cNvGrpSpPr/>
                <p:nvPr/>
              </p:nvGrpSpPr>
              <p:grpSpPr>
                <a:xfrm>
                  <a:off x="3198960" y="2257200"/>
                  <a:ext cx="237960" cy="193680"/>
                  <a:chOff x="3198960" y="2257200"/>
                  <a:chExt cx="237960" cy="19368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>
                    <a:off x="3198960" y="229212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3305160" y="2257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3564000" y="2314440"/>
                  <a:ext cx="152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564000" y="2163600"/>
                  <a:ext cx="1920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" name=""/>
            <p:cNvGrpSpPr/>
            <p:nvPr/>
          </p:nvGrpSpPr>
          <p:grpSpPr>
            <a:xfrm>
              <a:off x="3013200" y="2498400"/>
              <a:ext cx="2471760" cy="288720"/>
              <a:chOff x="3013200" y="2498400"/>
              <a:chExt cx="2471760" cy="288720"/>
            </a:xfrm>
          </p:grpSpPr>
          <p:sp>
            <p:nvSpPr>
              <p:cNvPr id="63" name=""/>
              <p:cNvSpPr/>
              <p:nvPr/>
            </p:nvSpPr>
            <p:spPr>
              <a:xfrm>
                <a:off x="3013200" y="269064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3176640" y="2498400"/>
                <a:ext cx="2308320" cy="288720"/>
                <a:chOff x="3176640" y="2498400"/>
                <a:chExt cx="2308320" cy="28872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3176640" y="2530080"/>
                  <a:ext cx="284040" cy="257040"/>
                  <a:chOff x="3176640" y="2530080"/>
                  <a:chExt cx="284040" cy="257040"/>
                </a:xfrm>
              </p:grpSpPr>
              <p:grpSp>
                <p:nvGrpSpPr>
                  <p:cNvPr id="66" name=""/>
                  <p:cNvGrpSpPr/>
                  <p:nvPr/>
                </p:nvGrpSpPr>
                <p:grpSpPr>
                  <a:xfrm>
                    <a:off x="3176640" y="2593440"/>
                    <a:ext cx="284040" cy="193680"/>
                    <a:chOff x="3176640" y="2593440"/>
                    <a:chExt cx="284040" cy="193680"/>
                  </a:xfrm>
                </p:grpSpPr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3176640" y="2593440"/>
                      <a:ext cx="284040" cy="1936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V="1">
                      <a:off x="3179520" y="2596320"/>
                      <a:ext cx="276480" cy="189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>
                      <a:off x="3176640" y="2596320"/>
                      <a:ext cx="282600" cy="1846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0" name=""/>
                  <p:cNvSpPr/>
                  <p:nvPr/>
                </p:nvSpPr>
                <p:spPr>
                  <a:xfrm>
                    <a:off x="3318120" y="2530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" name=""/>
                <p:cNvSpPr/>
                <p:nvPr/>
              </p:nvSpPr>
              <p:spPr>
                <a:xfrm>
                  <a:off x="3564000" y="2498400"/>
                  <a:ext cx="1920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NEUVER ELEMEN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564000" y="2634840"/>
                  <a:ext cx="18050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3 Infantry Company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   ME-0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" name=""/>
            <p:cNvGrpSpPr/>
            <p:nvPr/>
          </p:nvGrpSpPr>
          <p:grpSpPr>
            <a:xfrm>
              <a:off x="3002040" y="2844720"/>
              <a:ext cx="2490840" cy="602640"/>
              <a:chOff x="3002040" y="2844720"/>
              <a:chExt cx="2490840" cy="602640"/>
            </a:xfrm>
          </p:grpSpPr>
          <p:sp>
            <p:nvSpPr>
              <p:cNvPr id="74" name=""/>
              <p:cNvSpPr/>
              <p:nvPr/>
            </p:nvSpPr>
            <p:spPr>
              <a:xfrm>
                <a:off x="3556080" y="2844720"/>
                <a:ext cx="192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3003480" y="2965320"/>
                <a:ext cx="2473560" cy="199440"/>
                <a:chOff x="3003480" y="2965320"/>
                <a:chExt cx="2473560" cy="199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003480" y="3079440"/>
                  <a:ext cx="295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" name=""/>
                <p:cNvGrpSpPr/>
                <p:nvPr/>
              </p:nvGrpSpPr>
              <p:grpSpPr>
                <a:xfrm>
                  <a:off x="3200400" y="2965320"/>
                  <a:ext cx="2276640" cy="199440"/>
                  <a:chOff x="3200400" y="2965320"/>
                  <a:chExt cx="2276640" cy="199440"/>
                </a:xfrm>
              </p:grpSpPr>
              <p:grpSp>
                <p:nvGrpSpPr>
                  <p:cNvPr id="78" name=""/>
                  <p:cNvGrpSpPr/>
                  <p:nvPr/>
                </p:nvGrpSpPr>
                <p:grpSpPr>
                  <a:xfrm>
                    <a:off x="3200400" y="2965320"/>
                    <a:ext cx="236520" cy="199440"/>
                    <a:chOff x="3200400" y="2965320"/>
                    <a:chExt cx="236520" cy="199440"/>
                  </a:xfrm>
                </p:grpSpPr>
                <p:grpSp>
                  <p:nvGrpSpPr>
                    <p:cNvPr id="79" name=""/>
                    <p:cNvGrpSpPr/>
                    <p:nvPr/>
                  </p:nvGrpSpPr>
                  <p:grpSpPr>
                    <a:xfrm>
                      <a:off x="3281400" y="2965320"/>
                      <a:ext cx="74160" cy="26640"/>
                      <a:chOff x="3281400" y="2965320"/>
                      <a:chExt cx="74160" cy="26640"/>
                    </a:xfrm>
                  </p:grpSpPr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3281400" y="296532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" name=""/>
                      <p:cNvSpPr/>
                      <p:nvPr/>
                    </p:nvSpPr>
                    <p:spPr>
                      <a:xfrm>
                        <a:off x="3328920" y="296532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" name=""/>
                    <p:cNvGrpSpPr/>
                    <p:nvPr/>
                  </p:nvGrpSpPr>
                  <p:grpSpPr>
                    <a:xfrm>
                      <a:off x="3200400" y="2999520"/>
                      <a:ext cx="236520" cy="165240"/>
                      <a:chOff x="3200400" y="2999520"/>
                      <a:chExt cx="236520" cy="165240"/>
                    </a:xfrm>
                  </p:grpSpPr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3200400" y="3004560"/>
                        <a:ext cx="231480" cy="15732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" name=""/>
                      <p:cNvSpPr/>
                      <p:nvPr/>
                    </p:nvSpPr>
                    <p:spPr>
                      <a:xfrm flipV="1">
                        <a:off x="3206520" y="2999520"/>
                        <a:ext cx="230400" cy="142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3217680" y="3028320"/>
                        <a:ext cx="21924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3200400" y="3011040"/>
                        <a:ext cx="50760" cy="14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cc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7" name=""/>
                  <p:cNvSpPr/>
                  <p:nvPr/>
                </p:nvSpPr>
                <p:spPr>
                  <a:xfrm>
                    <a:off x="3564000" y="2992320"/>
                    <a:ext cx="191304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4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Medium Machine Gun  PO-18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" name=""/>
              <p:cNvGrpSpPr/>
              <p:nvPr/>
            </p:nvGrpSpPr>
            <p:grpSpPr>
              <a:xfrm>
                <a:off x="3002040" y="3192120"/>
                <a:ext cx="2490840" cy="255240"/>
                <a:chOff x="3002040" y="3192120"/>
                <a:chExt cx="2490840" cy="2552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3002040" y="3366720"/>
                  <a:ext cx="295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" name=""/>
                <p:cNvGrpSpPr/>
                <p:nvPr/>
              </p:nvGrpSpPr>
              <p:grpSpPr>
                <a:xfrm>
                  <a:off x="3198960" y="3240000"/>
                  <a:ext cx="239760" cy="207360"/>
                  <a:chOff x="3198960" y="3240000"/>
                  <a:chExt cx="239760" cy="207360"/>
                </a:xfrm>
              </p:grpSpPr>
              <p:grpSp>
                <p:nvGrpSpPr>
                  <p:cNvPr id="91" name=""/>
                  <p:cNvGrpSpPr/>
                  <p:nvPr/>
                </p:nvGrpSpPr>
                <p:grpSpPr>
                  <a:xfrm>
                    <a:off x="3198960" y="3290400"/>
                    <a:ext cx="239760" cy="156960"/>
                    <a:chOff x="3198960" y="3290400"/>
                    <a:chExt cx="239760" cy="156960"/>
                  </a:xfrm>
                </p:grpSpPr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3198960" y="329040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" name=""/>
                    <p:cNvSpPr/>
                    <p:nvPr/>
                  </p:nvSpPr>
                  <p:spPr>
                    <a:xfrm flipV="1">
                      <a:off x="3283200" y="3405600"/>
                      <a:ext cx="633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" name=""/>
                    <p:cNvSpPr/>
                    <p:nvPr/>
                  </p:nvSpPr>
                  <p:spPr>
                    <a:xfrm>
                      <a:off x="3314880" y="3321720"/>
                      <a:ext cx="0" cy="838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5" name=""/>
                  <p:cNvGrpSpPr/>
                  <p:nvPr/>
                </p:nvGrpSpPr>
                <p:grpSpPr>
                  <a:xfrm>
                    <a:off x="3198960" y="3290400"/>
                    <a:ext cx="239760" cy="156960"/>
                    <a:chOff x="3198960" y="3290400"/>
                    <a:chExt cx="239760" cy="156960"/>
                  </a:xfrm>
                </p:grpSpPr>
                <p:sp>
                  <p:nvSpPr>
                    <p:cNvPr id="96" name=""/>
                    <p:cNvSpPr/>
                    <p:nvPr/>
                  </p:nvSpPr>
                  <p:spPr>
                    <a:xfrm>
                      <a:off x="3198960" y="329040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" name=""/>
                    <p:cNvSpPr/>
                    <p:nvPr/>
                  </p:nvSpPr>
                  <p:spPr>
                    <a:xfrm flipV="1">
                      <a:off x="3283200" y="3405600"/>
                      <a:ext cx="633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>
                      <a:off x="3314880" y="3321720"/>
                      <a:ext cx="0" cy="838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3281400" y="3240000"/>
                    <a:ext cx="74880" cy="42120"/>
                    <a:chOff x="3281400" y="3240000"/>
                    <a:chExt cx="74880" cy="4212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>
                      <a:off x="3281400" y="3240000"/>
                      <a:ext cx="28800" cy="42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>
                      <a:off x="3329280" y="3240000"/>
                      <a:ext cx="27000" cy="421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6920" bIns="-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02" name=""/>
                <p:cNvSpPr/>
                <p:nvPr/>
              </p:nvSpPr>
              <p:spPr>
                <a:xfrm>
                  <a:off x="3564000" y="3306600"/>
                  <a:ext cx="19288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81mm Mortar            PO-2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564000" y="3192120"/>
                  <a:ext cx="1154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04" name=""/>
          <p:cNvGrpSpPr/>
          <p:nvPr/>
        </p:nvGrpSpPr>
        <p:grpSpPr>
          <a:xfrm>
            <a:off x="307800" y="932040"/>
            <a:ext cx="2251080" cy="788400"/>
            <a:chOff x="307800" y="932040"/>
            <a:chExt cx="2251080" cy="788400"/>
          </a:xfrm>
        </p:grpSpPr>
        <p:sp>
          <p:nvSpPr>
            <p:cNvPr id="105" name=""/>
            <p:cNvSpPr/>
            <p:nvPr/>
          </p:nvSpPr>
          <p:spPr>
            <a:xfrm>
              <a:off x="307800" y="1274760"/>
              <a:ext cx="208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455400" y="932040"/>
              <a:ext cx="2103480" cy="788400"/>
              <a:chOff x="455400" y="932040"/>
              <a:chExt cx="2103480" cy="788400"/>
            </a:xfrm>
          </p:grpSpPr>
          <p:sp>
            <p:nvSpPr>
              <p:cNvPr id="107" name=""/>
              <p:cNvSpPr/>
              <p:nvPr/>
            </p:nvSpPr>
            <p:spPr>
              <a:xfrm>
                <a:off x="527040" y="1305000"/>
                <a:ext cx="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55400" y="1100160"/>
                <a:ext cx="2103480" cy="282600"/>
                <a:chOff x="455400" y="1100160"/>
                <a:chExt cx="2103480" cy="282600"/>
              </a:xfrm>
            </p:grpSpPr>
            <p:grpSp>
              <p:nvGrpSpPr>
                <p:cNvPr id="109" name=""/>
                <p:cNvGrpSpPr/>
                <p:nvPr/>
              </p:nvGrpSpPr>
              <p:grpSpPr>
                <a:xfrm>
                  <a:off x="455400" y="1165320"/>
                  <a:ext cx="237960" cy="188640"/>
                  <a:chOff x="455400" y="1165320"/>
                  <a:chExt cx="237960" cy="1886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455400" y="119520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560160" y="1165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801360" y="123516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01360" y="110016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58640" y="1455840"/>
                <a:ext cx="2049480" cy="264600"/>
                <a:chOff x="458640" y="1455840"/>
                <a:chExt cx="2049480" cy="26460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458640" y="1490760"/>
                  <a:ext cx="231840" cy="228600"/>
                  <a:chOff x="458640" y="1490760"/>
                  <a:chExt cx="231840" cy="22860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458640" y="1532160"/>
                    <a:ext cx="23184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465120" y="1692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646200" y="16923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560520" y="1490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" name=""/>
                <p:cNvSpPr/>
                <p:nvPr/>
              </p:nvSpPr>
              <p:spPr>
                <a:xfrm>
                  <a:off x="801360" y="15829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801360" y="145584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1720" y="93204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307800" y="1805040"/>
            <a:ext cx="1929600" cy="336960"/>
            <a:chOff x="307800" y="1805040"/>
            <a:chExt cx="1929600" cy="336960"/>
          </a:xfrm>
        </p:grpSpPr>
        <p:sp>
          <p:nvSpPr>
            <p:cNvPr id="124" name=""/>
            <p:cNvSpPr/>
            <p:nvPr/>
          </p:nvSpPr>
          <p:spPr>
            <a:xfrm flipV="1">
              <a:off x="307800" y="1971360"/>
              <a:ext cx="2793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99960" y="1805040"/>
              <a:ext cx="1837440" cy="336960"/>
              <a:chOff x="399960" y="1805040"/>
              <a:chExt cx="1837440" cy="33696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399960" y="1805040"/>
                <a:ext cx="347040" cy="285480"/>
                <a:chOff x="399960" y="1805040"/>
                <a:chExt cx="347040" cy="28548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99960" y="1854360"/>
                  <a:ext cx="347040" cy="236160"/>
                  <a:chOff x="399960" y="1854360"/>
                  <a:chExt cx="347040" cy="23616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399960" y="1854360"/>
                    <a:ext cx="347040" cy="236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flipV="1">
                    <a:off x="403560" y="1857960"/>
                    <a:ext cx="338400" cy="2311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99960" y="1857960"/>
                    <a:ext cx="345600" cy="225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1" name=""/>
                <p:cNvGrpSpPr/>
                <p:nvPr/>
              </p:nvGrpSpPr>
              <p:grpSpPr>
                <a:xfrm>
                  <a:off x="536400" y="1805040"/>
                  <a:ext cx="75960" cy="63360"/>
                  <a:chOff x="536400" y="1805040"/>
                  <a:chExt cx="75960" cy="63360"/>
                </a:xfrm>
              </p:grpSpPr>
              <p:sp>
                <p:nvSpPr>
                  <p:cNvPr id="132" name=""/>
                  <p:cNvSpPr/>
                  <p:nvPr/>
                </p:nvSpPr>
                <p:spPr>
                  <a:xfrm>
                    <a:off x="536400" y="1805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12360" y="180504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4" name=""/>
              <p:cNvSpPr/>
              <p:nvPr/>
            </p:nvSpPr>
            <p:spPr>
              <a:xfrm>
                <a:off x="801000" y="1989360"/>
                <a:ext cx="1436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BG-02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Rifle Battal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01360" y="1805040"/>
                <a:ext cx="959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ATTLE GROU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6" name=""/>
          <p:cNvGrpSpPr/>
          <p:nvPr/>
        </p:nvGrpSpPr>
        <p:grpSpPr>
          <a:xfrm>
            <a:off x="299880" y="2246400"/>
            <a:ext cx="2208240" cy="872640"/>
            <a:chOff x="299880" y="2246400"/>
            <a:chExt cx="2208240" cy="872640"/>
          </a:xfrm>
        </p:grpSpPr>
        <p:sp>
          <p:nvSpPr>
            <p:cNvPr id="137" name=""/>
            <p:cNvSpPr/>
            <p:nvPr/>
          </p:nvSpPr>
          <p:spPr>
            <a:xfrm>
              <a:off x="299880" y="2421000"/>
              <a:ext cx="252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53960" y="2246400"/>
              <a:ext cx="2054160" cy="872640"/>
              <a:chOff x="453960" y="2246400"/>
              <a:chExt cx="2054160" cy="872640"/>
            </a:xfrm>
          </p:grpSpPr>
          <p:sp>
            <p:nvSpPr>
              <p:cNvPr id="139" name=""/>
              <p:cNvSpPr/>
              <p:nvPr/>
            </p:nvSpPr>
            <p:spPr>
              <a:xfrm>
                <a:off x="512640" y="2401920"/>
                <a:ext cx="4680" cy="590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58640" y="2870280"/>
                <a:ext cx="2049480" cy="248760"/>
                <a:chOff x="458640" y="2870280"/>
                <a:chExt cx="2049480" cy="248760"/>
              </a:xfrm>
            </p:grpSpPr>
            <p:grpSp>
              <p:nvGrpSpPr>
                <p:cNvPr id="141" name=""/>
                <p:cNvGrpSpPr/>
                <p:nvPr/>
              </p:nvGrpSpPr>
              <p:grpSpPr>
                <a:xfrm>
                  <a:off x="458640" y="2894040"/>
                  <a:ext cx="231480" cy="215640"/>
                  <a:chOff x="458640" y="2894040"/>
                  <a:chExt cx="231480" cy="215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458640" y="292248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72680" y="3082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645840" y="30826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37840" y="2894040"/>
                    <a:ext cx="74160" cy="27000"/>
                    <a:chOff x="537840" y="2894040"/>
                    <a:chExt cx="74160" cy="2700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537840" y="28940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>
                      <a:off x="585360" y="289404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8" name=""/>
                <p:cNvSpPr/>
                <p:nvPr/>
              </p:nvSpPr>
              <p:spPr>
                <a:xfrm>
                  <a:off x="801360" y="29815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5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Horse-drawn Limber    FR-22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1360" y="287028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58640" y="2320920"/>
                <a:ext cx="2049480" cy="218520"/>
                <a:chOff x="458640" y="2320920"/>
                <a:chExt cx="2049480" cy="218520"/>
              </a:xfrm>
            </p:grpSpPr>
            <p:grpSp>
              <p:nvGrpSpPr>
                <p:cNvPr id="151" name=""/>
                <p:cNvGrpSpPr/>
                <p:nvPr/>
              </p:nvGrpSpPr>
              <p:grpSpPr>
                <a:xfrm>
                  <a:off x="458640" y="2320920"/>
                  <a:ext cx="231840" cy="191880"/>
                  <a:chOff x="458640" y="2320920"/>
                  <a:chExt cx="231840" cy="191880"/>
                </a:xfrm>
              </p:grpSpPr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458640" y="2355840"/>
                    <a:ext cx="231840" cy="156960"/>
                    <a:chOff x="458640" y="2355840"/>
                    <a:chExt cx="231840" cy="15696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458640" y="2355840"/>
                      <a:ext cx="23184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 flipV="1">
                      <a:off x="458640" y="235908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572400" y="235584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538200" y="2320920"/>
                    <a:ext cx="74160" cy="27000"/>
                    <a:chOff x="538200" y="2320920"/>
                    <a:chExt cx="74160" cy="2700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538200" y="23209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585720" y="23209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9" name=""/>
                <p:cNvSpPr/>
                <p:nvPr/>
              </p:nvSpPr>
              <p:spPr>
                <a:xfrm>
                  <a:off x="801360" y="24019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4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7mm Antitank Gun      PO-13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453960" y="2600280"/>
                <a:ext cx="2054160" cy="210600"/>
                <a:chOff x="453960" y="2600280"/>
                <a:chExt cx="2054160" cy="210600"/>
              </a:xfrm>
            </p:grpSpPr>
            <p:grpSp>
              <p:nvGrpSpPr>
                <p:cNvPr id="161" name=""/>
                <p:cNvGrpSpPr/>
                <p:nvPr/>
              </p:nvGrpSpPr>
              <p:grpSpPr>
                <a:xfrm>
                  <a:off x="453960" y="2600280"/>
                  <a:ext cx="239760" cy="198000"/>
                  <a:chOff x="453960" y="2600280"/>
                  <a:chExt cx="239760" cy="198000"/>
                </a:xfrm>
              </p:grpSpPr>
              <p:grpSp>
                <p:nvGrpSpPr>
                  <p:cNvPr id="162" name=""/>
                  <p:cNvGrpSpPr/>
                  <p:nvPr/>
                </p:nvGrpSpPr>
                <p:grpSpPr>
                  <a:xfrm>
                    <a:off x="453960" y="2641320"/>
                    <a:ext cx="239760" cy="156960"/>
                    <a:chOff x="453960" y="2641320"/>
                    <a:chExt cx="239760" cy="156960"/>
                  </a:xfrm>
                </p:grpSpPr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453960" y="264132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556920" y="2701440"/>
                      <a:ext cx="28800" cy="2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536400" y="2600280"/>
                    <a:ext cx="74160" cy="27000"/>
                    <a:chOff x="536400" y="2600280"/>
                    <a:chExt cx="74160" cy="2700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536400" y="26002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583920" y="26002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8" name=""/>
                <p:cNvSpPr/>
                <p:nvPr/>
              </p:nvSpPr>
              <p:spPr>
                <a:xfrm>
                  <a:off x="801360" y="267336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5m Field Gun             PO-1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" name=""/>
              <p:cNvSpPr/>
              <p:nvPr/>
            </p:nvSpPr>
            <p:spPr>
              <a:xfrm>
                <a:off x="801360" y="224640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299880" y="4543560"/>
            <a:ext cx="2741760" cy="1699560"/>
            <a:chOff x="299880" y="4543560"/>
            <a:chExt cx="2741760" cy="1699560"/>
          </a:xfrm>
        </p:grpSpPr>
        <p:sp>
          <p:nvSpPr>
            <p:cNvPr id="171" name=""/>
            <p:cNvSpPr/>
            <p:nvPr/>
          </p:nvSpPr>
          <p:spPr>
            <a:xfrm>
              <a:off x="299880" y="483732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7800" y="52578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7800" y="561672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7800" y="602928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26960" y="4543560"/>
              <a:ext cx="2614680" cy="1699560"/>
              <a:chOff x="426960" y="4543560"/>
              <a:chExt cx="2614680" cy="1699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01360" y="4543560"/>
                <a:ext cx="1492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IRE SUPPORT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426960" y="4687920"/>
                <a:ext cx="2614680" cy="353520"/>
                <a:chOff x="426960" y="4687920"/>
                <a:chExt cx="2614680" cy="3535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426960" y="4687920"/>
                  <a:ext cx="291600" cy="245520"/>
                  <a:chOff x="426960" y="4687920"/>
                  <a:chExt cx="291600" cy="2455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426960" y="4743360"/>
                    <a:ext cx="291600" cy="190080"/>
                    <a:chOff x="426960" y="4743360"/>
                    <a:chExt cx="291600" cy="19008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426960" y="4743360"/>
                      <a:ext cx="291600" cy="1900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552240" y="4816080"/>
                      <a:ext cx="3492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534960" y="4687920"/>
                    <a:ext cx="76320" cy="63360"/>
                    <a:chOff x="534960" y="4687920"/>
                    <a:chExt cx="76320" cy="6336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534960" y="46879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611280" y="46879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5" name=""/>
                <p:cNvSpPr/>
                <p:nvPr/>
              </p:nvSpPr>
              <p:spPr>
                <a:xfrm>
                  <a:off x="801360" y="4738680"/>
                  <a:ext cx="22402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FS-01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ight Howitzer Battal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x3 per Infantry Division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26960" y="5121360"/>
                <a:ext cx="2614680" cy="340920"/>
                <a:chOff x="426960" y="5121360"/>
                <a:chExt cx="2614680" cy="34092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426960" y="5121360"/>
                  <a:ext cx="291600" cy="236160"/>
                  <a:chOff x="426960" y="5121360"/>
                  <a:chExt cx="291600" cy="236160"/>
                </a:xfrm>
              </p:grpSpPr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426960" y="5167440"/>
                    <a:ext cx="291600" cy="190080"/>
                    <a:chOff x="426960" y="5167440"/>
                    <a:chExt cx="291600" cy="19008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6960" y="5167440"/>
                      <a:ext cx="291600" cy="1900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52240" y="5240160"/>
                      <a:ext cx="3492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572760" y="51213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2" name=""/>
                <p:cNvSpPr/>
                <p:nvPr/>
              </p:nvSpPr>
              <p:spPr>
                <a:xfrm>
                  <a:off x="801360" y="5159520"/>
                  <a:ext cx="22402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FS-02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ight Howitzer Batte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x3 per Infantry Division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426960" y="5477040"/>
                <a:ext cx="2614680" cy="354960"/>
                <a:chOff x="426960" y="5477040"/>
                <a:chExt cx="2614680" cy="35496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426960" y="5477040"/>
                  <a:ext cx="291600" cy="236160"/>
                  <a:chOff x="426960" y="5477040"/>
                  <a:chExt cx="291600" cy="236160"/>
                </a:xfrm>
              </p:grpSpPr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426960" y="5523120"/>
                    <a:ext cx="291600" cy="190080"/>
                    <a:chOff x="426960" y="5523120"/>
                    <a:chExt cx="291600" cy="19008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26960" y="5523120"/>
                      <a:ext cx="291600" cy="1900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552240" y="5595840"/>
                      <a:ext cx="3492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8" name=""/>
                  <p:cNvSpPr/>
                  <p:nvPr/>
                </p:nvSpPr>
                <p:spPr>
                  <a:xfrm>
                    <a:off x="572760" y="547704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>
                  <a:off x="801360" y="5529240"/>
                  <a:ext cx="22402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FS-03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dium Artillery Batte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x3 per Infantry Division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426960" y="5888160"/>
                <a:ext cx="2614680" cy="354960"/>
                <a:chOff x="426960" y="5888160"/>
                <a:chExt cx="2614680" cy="35496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26960" y="5888160"/>
                  <a:ext cx="291600" cy="236160"/>
                  <a:chOff x="426960" y="5888160"/>
                  <a:chExt cx="291600" cy="236160"/>
                </a:xfrm>
              </p:grpSpPr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960" y="5934240"/>
                    <a:ext cx="291600" cy="190080"/>
                    <a:chOff x="426960" y="5934240"/>
                    <a:chExt cx="291600" cy="19008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26960" y="5934240"/>
                      <a:ext cx="291600" cy="1900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552240" y="6006960"/>
                      <a:ext cx="3492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5" name=""/>
                  <p:cNvSpPr/>
                  <p:nvPr/>
                </p:nvSpPr>
                <p:spPr>
                  <a:xfrm>
                    <a:off x="572760" y="588816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" name=""/>
                <p:cNvSpPr/>
                <p:nvPr/>
              </p:nvSpPr>
              <p:spPr>
                <a:xfrm>
                  <a:off x="801360" y="5940360"/>
                  <a:ext cx="22402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FS-04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eavy Howitzer Batte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8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x3 per Infantry Division)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299880" y="3208320"/>
            <a:ext cx="2382120" cy="1206000"/>
            <a:chOff x="299880" y="3208320"/>
            <a:chExt cx="2382120" cy="1206000"/>
          </a:xfrm>
        </p:grpSpPr>
        <p:sp>
          <p:nvSpPr>
            <p:cNvPr id="208" name=""/>
            <p:cNvSpPr/>
            <p:nvPr/>
          </p:nvSpPr>
          <p:spPr>
            <a:xfrm>
              <a:off x="299880" y="369432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9240" y="40086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99880" y="3208320"/>
              <a:ext cx="2382120" cy="1206000"/>
              <a:chOff x="299880" y="3208320"/>
              <a:chExt cx="2382120" cy="1206000"/>
            </a:xfrm>
          </p:grpSpPr>
          <p:sp>
            <p:nvSpPr>
              <p:cNvPr id="211" name=""/>
              <p:cNvSpPr/>
              <p:nvPr/>
            </p:nvSpPr>
            <p:spPr>
              <a:xfrm>
                <a:off x="299880" y="3378240"/>
                <a:ext cx="312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31640" y="3208320"/>
                <a:ext cx="2250360" cy="1206000"/>
                <a:chOff x="431640" y="3208320"/>
                <a:chExt cx="2250360" cy="12060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00040" y="3965760"/>
                  <a:ext cx="0" cy="365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4" name=""/>
                <p:cNvGrpSpPr/>
                <p:nvPr/>
              </p:nvGrpSpPr>
              <p:grpSpPr>
                <a:xfrm>
                  <a:off x="453960" y="4165560"/>
                  <a:ext cx="2054160" cy="248760"/>
                  <a:chOff x="453960" y="4165560"/>
                  <a:chExt cx="2054160" cy="24876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53960" y="4202280"/>
                    <a:ext cx="239760" cy="210600"/>
                    <a:chOff x="453960" y="4202280"/>
                    <a:chExt cx="239760" cy="2106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53960" y="422568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522360" y="4386240"/>
                      <a:ext cx="104760" cy="26640"/>
                      <a:chOff x="522360" y="4386240"/>
                      <a:chExt cx="104760" cy="2664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522360" y="4386240"/>
                        <a:ext cx="2880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598680" y="438624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543240" y="4386240"/>
                        <a:ext cx="61920" cy="2664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1" name=""/>
                    <p:cNvGrpSpPr/>
                    <p:nvPr/>
                  </p:nvGrpSpPr>
                  <p:grpSpPr>
                    <a:xfrm>
                      <a:off x="536760" y="4202280"/>
                      <a:ext cx="74160" cy="26640"/>
                      <a:chOff x="536760" y="4202280"/>
                      <a:chExt cx="74160" cy="26640"/>
                    </a:xfrm>
                  </p:grpSpPr>
                  <p:sp>
                    <p:nvSpPr>
                      <p:cNvPr id="222" name=""/>
                      <p:cNvSpPr/>
                      <p:nvPr/>
                    </p:nvSpPr>
                    <p:spPr>
                      <a:xfrm>
                        <a:off x="536760" y="4202280"/>
                        <a:ext cx="284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584280" y="42022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4" name=""/>
                  <p:cNvSpPr/>
                  <p:nvPr/>
                </p:nvSpPr>
                <p:spPr>
                  <a:xfrm>
                    <a:off x="801360" y="427680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2P Artillery Tractor   web PT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1360" y="4165560"/>
                    <a:ext cx="578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455400" y="3570480"/>
                  <a:ext cx="2052720" cy="221400"/>
                  <a:chOff x="455400" y="3570480"/>
                  <a:chExt cx="2052720" cy="2214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455400" y="3570480"/>
                    <a:ext cx="236520" cy="204840"/>
                    <a:chOff x="455400" y="3570480"/>
                    <a:chExt cx="236520" cy="204840"/>
                  </a:xfrm>
                </p:grpSpPr>
                <p:grpSp>
                  <p:nvGrpSpPr>
                    <p:cNvPr id="228" name=""/>
                    <p:cNvGrpSpPr/>
                    <p:nvPr/>
                  </p:nvGrpSpPr>
                  <p:grpSpPr>
                    <a:xfrm>
                      <a:off x="455400" y="3610080"/>
                      <a:ext cx="236520" cy="165240"/>
                      <a:chOff x="455400" y="3610080"/>
                      <a:chExt cx="236520" cy="165240"/>
                    </a:xfrm>
                  </p:grpSpPr>
                  <p:sp>
                    <p:nvSpPr>
                      <p:cNvPr id="229" name=""/>
                      <p:cNvSpPr/>
                      <p:nvPr/>
                    </p:nvSpPr>
                    <p:spPr>
                      <a:xfrm>
                        <a:off x="455400" y="3615120"/>
                        <a:ext cx="231480" cy="15732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" name=""/>
                      <p:cNvSpPr/>
                      <p:nvPr/>
                    </p:nvSpPr>
                    <p:spPr>
                      <a:xfrm flipV="1">
                        <a:off x="461520" y="3610080"/>
                        <a:ext cx="230400" cy="142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" name=""/>
                      <p:cNvSpPr/>
                      <p:nvPr/>
                    </p:nvSpPr>
                    <p:spPr>
                      <a:xfrm>
                        <a:off x="472680" y="3638880"/>
                        <a:ext cx="219240" cy="136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2" name=""/>
                      <p:cNvSpPr/>
                      <p:nvPr/>
                    </p:nvSpPr>
                    <p:spPr>
                      <a:xfrm>
                        <a:off x="455400" y="3621600"/>
                        <a:ext cx="50760" cy="14580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cc33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536040" y="3570480"/>
                      <a:ext cx="74880" cy="27000"/>
                      <a:chOff x="536040" y="3570480"/>
                      <a:chExt cx="74880" cy="27000"/>
                    </a:xfrm>
                  </p:grpSpPr>
                  <p:sp>
                    <p:nvSpPr>
                      <p:cNvPr id="234" name=""/>
                      <p:cNvSpPr/>
                      <p:nvPr/>
                    </p:nvSpPr>
                    <p:spPr>
                      <a:xfrm>
                        <a:off x="536040" y="3570480"/>
                        <a:ext cx="288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5" name=""/>
                      <p:cNvSpPr/>
                      <p:nvPr/>
                    </p:nvSpPr>
                    <p:spPr>
                      <a:xfrm>
                        <a:off x="583920" y="3570480"/>
                        <a:ext cx="2700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6" name=""/>
                  <p:cNvSpPr/>
                  <p:nvPr/>
                </p:nvSpPr>
                <p:spPr>
                  <a:xfrm>
                    <a:off x="801360" y="365436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Medium Machine Gun  PO-18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"/>
                <p:cNvGrpSpPr/>
                <p:nvPr/>
              </p:nvGrpSpPr>
              <p:grpSpPr>
                <a:xfrm>
                  <a:off x="453960" y="3892680"/>
                  <a:ext cx="2054160" cy="205920"/>
                  <a:chOff x="453960" y="3892680"/>
                  <a:chExt cx="2054160" cy="2059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53960" y="3892680"/>
                    <a:ext cx="239760" cy="193680"/>
                    <a:chOff x="453960" y="3892680"/>
                    <a:chExt cx="239760" cy="19368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53960" y="3927600"/>
                      <a:ext cx="239760" cy="158760"/>
                      <a:chOff x="453960" y="3927600"/>
                      <a:chExt cx="239760" cy="158760"/>
                    </a:xfrm>
                  </p:grpSpPr>
                  <p:sp>
                    <p:nvSpPr>
                      <p:cNvPr id="240" name=""/>
                      <p:cNvSpPr/>
                      <p:nvPr/>
                    </p:nvSpPr>
                    <p:spPr>
                      <a:xfrm>
                        <a:off x="453960" y="3929400"/>
                        <a:ext cx="239760" cy="15696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1" name=""/>
                      <p:cNvSpPr/>
                      <p:nvPr/>
                    </p:nvSpPr>
                    <p:spPr>
                      <a:xfrm>
                        <a:off x="512640" y="4003920"/>
                        <a:ext cx="1191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2" name=""/>
                      <p:cNvSpPr/>
                      <p:nvPr/>
                    </p:nvSpPr>
                    <p:spPr>
                      <a:xfrm flipV="1">
                        <a:off x="453960" y="3929400"/>
                        <a:ext cx="115920" cy="1555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>
                        <a:off x="569880" y="3927600"/>
                        <a:ext cx="123840" cy="15588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4" name=""/>
                    <p:cNvGrpSpPr/>
                    <p:nvPr/>
                  </p:nvGrpSpPr>
                  <p:grpSpPr>
                    <a:xfrm>
                      <a:off x="536400" y="3892680"/>
                      <a:ext cx="74160" cy="27000"/>
                      <a:chOff x="536400" y="3892680"/>
                      <a:chExt cx="74160" cy="27000"/>
                    </a:xfrm>
                  </p:grpSpPr>
                  <p:sp>
                    <p:nvSpPr>
                      <p:cNvPr id="245" name=""/>
                      <p:cNvSpPr/>
                      <p:nvPr/>
                    </p:nvSpPr>
                    <p:spPr>
                      <a:xfrm>
                        <a:off x="536400" y="38926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>
                        <a:off x="583920" y="38926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47" name=""/>
                  <p:cNvSpPr/>
                  <p:nvPr/>
                </p:nvSpPr>
                <p:spPr>
                  <a:xfrm>
                    <a:off x="801360" y="396108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0mm AA Gun            web PT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8" name=""/>
                <p:cNvGrpSpPr/>
                <p:nvPr/>
              </p:nvGrpSpPr>
              <p:grpSpPr>
                <a:xfrm>
                  <a:off x="431640" y="3208320"/>
                  <a:ext cx="2250360" cy="290520"/>
                  <a:chOff x="431640" y="3208320"/>
                  <a:chExt cx="2250360" cy="29052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431640" y="3208320"/>
                    <a:ext cx="284040" cy="257400"/>
                    <a:chOff x="431640" y="3208320"/>
                    <a:chExt cx="284040" cy="25740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574560" y="3208320"/>
                      <a:ext cx="0" cy="6372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431640" y="3272040"/>
                      <a:ext cx="284040" cy="1936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V="1">
                      <a:off x="434880" y="3274560"/>
                      <a:ext cx="276120" cy="189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802080" y="3376800"/>
                    <a:ext cx="187992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 ME-01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Reconnaissance Compan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801360" y="3218040"/>
                    <a:ext cx="153072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DIVISIONAL ATTACHMENT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55" name=""/>
          <p:cNvGrpSpPr/>
          <p:nvPr/>
        </p:nvGrpSpPr>
        <p:grpSpPr>
          <a:xfrm>
            <a:off x="135000" y="387360"/>
            <a:ext cx="4938480" cy="5659560"/>
            <a:chOff x="135000" y="387360"/>
            <a:chExt cx="4938480" cy="5659560"/>
          </a:xfrm>
        </p:grpSpPr>
        <p:grpSp>
          <p:nvGrpSpPr>
            <p:cNvPr id="256" name=""/>
            <p:cNvGrpSpPr/>
            <p:nvPr/>
          </p:nvGrpSpPr>
          <p:grpSpPr>
            <a:xfrm>
              <a:off x="135000" y="387360"/>
              <a:ext cx="2275920" cy="5659560"/>
              <a:chOff x="135000" y="387360"/>
              <a:chExt cx="2275920" cy="565956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135000" y="457200"/>
                <a:ext cx="347040" cy="5589720"/>
                <a:chOff x="135000" y="457200"/>
                <a:chExt cx="347040" cy="558972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309240" y="641520"/>
                  <a:ext cx="0" cy="5405400"/>
                  <a:chOff x="309240" y="641520"/>
                  <a:chExt cx="0" cy="54054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309240" y="641520"/>
                    <a:ext cx="0" cy="1800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309240" y="2422440"/>
                    <a:ext cx="0" cy="36244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" name=""/>
                <p:cNvGrpSpPr/>
                <p:nvPr/>
              </p:nvGrpSpPr>
              <p:grpSpPr>
                <a:xfrm>
                  <a:off x="135000" y="457200"/>
                  <a:ext cx="347040" cy="293400"/>
                  <a:chOff x="135000" y="457200"/>
                  <a:chExt cx="347040" cy="293400"/>
                </a:xfrm>
              </p:grpSpPr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135000" y="514440"/>
                    <a:ext cx="347040" cy="236160"/>
                    <a:chOff x="135000" y="514440"/>
                    <a:chExt cx="347040" cy="23616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135000" y="514440"/>
                      <a:ext cx="347040" cy="2361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 flipV="1">
                      <a:off x="138600" y="51804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135000" y="51804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42640" y="457200"/>
                    <a:ext cx="131760" cy="64800"/>
                    <a:chOff x="242640" y="457200"/>
                    <a:chExt cx="131760" cy="64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309600" y="4586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68" name=""/>
                    <p:cNvGrpSpPr/>
                    <p:nvPr/>
                  </p:nvGrpSpPr>
                  <p:grpSpPr>
                    <a:xfrm>
                      <a:off x="242640" y="457200"/>
                      <a:ext cx="131760" cy="64800"/>
                      <a:chOff x="242640" y="457200"/>
                      <a:chExt cx="131760" cy="64800"/>
                    </a:xfrm>
                  </p:grpSpPr>
                  <p:sp>
                    <p:nvSpPr>
                      <p:cNvPr id="269" name=""/>
                      <p:cNvSpPr/>
                      <p:nvPr/>
                    </p:nvSpPr>
                    <p:spPr>
                      <a:xfrm>
                        <a:off x="242640" y="45864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0" name=""/>
                      <p:cNvSpPr/>
                      <p:nvPr/>
                    </p:nvSpPr>
                    <p:spPr>
                      <a:xfrm>
                        <a:off x="374400" y="457200"/>
                        <a:ext cx="0" cy="63360"/>
                      </a:xfrm>
                      <a:prstGeom prst="line">
                        <a:avLst/>
                      </a:prstGeom>
                      <a:ln w="158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71" name=""/>
              <p:cNvSpPr/>
              <p:nvPr/>
            </p:nvSpPr>
            <p:spPr>
              <a:xfrm>
                <a:off x="801360" y="387360"/>
                <a:ext cx="160956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BATTLE GROUP BG-01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 Rifle Regiment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x3 per Infantry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309600" y="604800"/>
              <a:ext cx="4763880" cy="773280"/>
              <a:chOff x="309600" y="604800"/>
              <a:chExt cx="4763880" cy="77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309600" y="868320"/>
                <a:ext cx="2523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2776680" y="703440"/>
                <a:ext cx="284040" cy="253800"/>
                <a:chOff x="2776680" y="703440"/>
                <a:chExt cx="284040" cy="25380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2776680" y="763560"/>
                  <a:ext cx="284040" cy="193680"/>
                  <a:chOff x="2776680" y="763560"/>
                  <a:chExt cx="284040" cy="1936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2776680" y="763560"/>
                    <a:ext cx="284040" cy="193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828520" y="811800"/>
                    <a:ext cx="182160" cy="9252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8" name=""/>
                <p:cNvSpPr/>
                <p:nvPr/>
              </p:nvSpPr>
              <p:spPr>
                <a:xfrm>
                  <a:off x="2917800" y="7034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9" name=""/>
              <p:cNvSpPr/>
              <p:nvPr/>
            </p:nvSpPr>
            <p:spPr>
              <a:xfrm>
                <a:off x="3202200" y="604800"/>
                <a:ext cx="1745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N-DIVISIONAL ATTACH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73400" y="781920"/>
                <a:ext cx="17906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ME-05 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dependent Reconnaissance Tank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73400" y="1012680"/>
                <a:ext cx="190008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1 each in the 4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8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10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14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15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17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20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25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28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, and 30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"/>
                    <a:ea typeface="Times New Roman"/>
                  </a:rPr>
                  <a:t>th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Infantry Divisions; and 3 in Army Group Krakow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2836800" y="3832200"/>
            <a:ext cx="2657520" cy="1891080"/>
            <a:chOff x="2836800" y="3832200"/>
            <a:chExt cx="2657520" cy="1891080"/>
          </a:xfrm>
        </p:grpSpPr>
        <p:sp>
          <p:nvSpPr>
            <p:cNvPr id="283" name=""/>
            <p:cNvSpPr/>
            <p:nvPr/>
          </p:nvSpPr>
          <p:spPr>
            <a:xfrm>
              <a:off x="3028680" y="3998520"/>
              <a:ext cx="0" cy="164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3031920" y="4382640"/>
              <a:ext cx="2216160" cy="587160"/>
              <a:chOff x="3031920" y="4382640"/>
              <a:chExt cx="2216160" cy="587160"/>
            </a:xfrm>
          </p:grpSpPr>
          <p:sp>
            <p:nvSpPr>
              <p:cNvPr id="285" name=""/>
              <p:cNvSpPr/>
              <p:nvPr/>
            </p:nvSpPr>
            <p:spPr>
              <a:xfrm>
                <a:off x="3193560" y="4576320"/>
                <a:ext cx="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3031920" y="4382640"/>
                <a:ext cx="2216160" cy="272520"/>
                <a:chOff x="3031920" y="4382640"/>
                <a:chExt cx="2216160" cy="2725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031920" y="4576320"/>
                  <a:ext cx="207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161880" y="4466520"/>
                  <a:ext cx="237960" cy="188640"/>
                  <a:chOff x="3161880" y="4466520"/>
                  <a:chExt cx="237960" cy="188640"/>
                </a:xfrm>
              </p:grpSpPr>
              <p:sp>
                <p:nvSpPr>
                  <p:cNvPr id="289" name=""/>
                  <p:cNvSpPr/>
                  <p:nvPr/>
                </p:nvSpPr>
                <p:spPr>
                  <a:xfrm>
                    <a:off x="3161880" y="449640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3266640" y="4466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3490560" y="450648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490560" y="438264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3163680" y="4674600"/>
                <a:ext cx="2033640" cy="295200"/>
                <a:chOff x="3163680" y="4674600"/>
                <a:chExt cx="2033640" cy="295200"/>
              </a:xfrm>
            </p:grpSpPr>
            <p:grpSp>
              <p:nvGrpSpPr>
                <p:cNvPr id="294" name=""/>
                <p:cNvGrpSpPr/>
                <p:nvPr/>
              </p:nvGrpSpPr>
              <p:grpSpPr>
                <a:xfrm>
                  <a:off x="3163680" y="4741200"/>
                  <a:ext cx="231480" cy="228600"/>
                  <a:chOff x="3163680" y="4741200"/>
                  <a:chExt cx="231480" cy="2286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>
                    <a:off x="3163680" y="478260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3169800" y="49428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3350880" y="494280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265200" y="47412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3490560" y="478584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492000" y="467460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1" name=""/>
            <p:cNvGrpSpPr/>
            <p:nvPr/>
          </p:nvGrpSpPr>
          <p:grpSpPr>
            <a:xfrm>
              <a:off x="2836800" y="3832200"/>
              <a:ext cx="364320" cy="297000"/>
              <a:chOff x="2836800" y="3832200"/>
              <a:chExt cx="364320" cy="2970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836800" y="3890520"/>
                <a:ext cx="364320" cy="238680"/>
                <a:chOff x="2836800" y="3890520"/>
                <a:chExt cx="364320" cy="23868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2836800" y="3890880"/>
                  <a:ext cx="364320" cy="238320"/>
                  <a:chOff x="2836800" y="3890880"/>
                  <a:chExt cx="364320" cy="2383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2836800" y="3890880"/>
                    <a:ext cx="364320" cy="238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903760" y="3950640"/>
                    <a:ext cx="230400" cy="11376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3840" bIns="33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6" name=""/>
                <p:cNvSpPr/>
                <p:nvPr/>
              </p:nvSpPr>
              <p:spPr>
                <a:xfrm flipV="1">
                  <a:off x="2836800" y="3890520"/>
                  <a:ext cx="359280" cy="238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2981160" y="3832200"/>
                <a:ext cx="76320" cy="63360"/>
                <a:chOff x="2981160" y="3832200"/>
                <a:chExt cx="76320" cy="633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2981160" y="3832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57480" y="3832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0" name=""/>
            <p:cNvSpPr/>
            <p:nvPr/>
          </p:nvSpPr>
          <p:spPr>
            <a:xfrm>
              <a:off x="3502440" y="4221000"/>
              <a:ext cx="152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2080" y="3843000"/>
              <a:ext cx="1746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4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ored Recon Grou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022560" y="5071680"/>
              <a:ext cx="2471760" cy="651600"/>
              <a:chOff x="3022560" y="5071680"/>
              <a:chExt cx="2471760" cy="65160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28680" y="5144400"/>
                <a:ext cx="2465640" cy="253800"/>
                <a:chOff x="3028680" y="5144400"/>
                <a:chExt cx="2465640" cy="2538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028680" y="5302800"/>
                  <a:ext cx="2368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5" name=""/>
                <p:cNvGrpSpPr/>
                <p:nvPr/>
              </p:nvGrpSpPr>
              <p:grpSpPr>
                <a:xfrm>
                  <a:off x="3112920" y="5144400"/>
                  <a:ext cx="2381400" cy="253800"/>
                  <a:chOff x="3112920" y="5144400"/>
                  <a:chExt cx="2381400" cy="2538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3504960" y="5263200"/>
                    <a:ext cx="19893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ME-06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rmored Car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7" name=""/>
                  <p:cNvGrpSpPr/>
                  <p:nvPr/>
                </p:nvGrpSpPr>
                <p:grpSpPr>
                  <a:xfrm>
                    <a:off x="3112920" y="5144400"/>
                    <a:ext cx="291960" cy="253800"/>
                    <a:chOff x="3112920" y="5144400"/>
                    <a:chExt cx="291960" cy="253800"/>
                  </a:xfrm>
                </p:grpSpPr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3261960" y="51444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9" name=""/>
                    <p:cNvGrpSpPr/>
                    <p:nvPr/>
                  </p:nvGrpSpPr>
                  <p:grpSpPr>
                    <a:xfrm>
                      <a:off x="3112920" y="5207400"/>
                      <a:ext cx="291960" cy="190800"/>
                      <a:chOff x="3112920" y="5207400"/>
                      <a:chExt cx="291960" cy="190800"/>
                    </a:xfrm>
                  </p:grpSpPr>
                  <p:grpSp>
                    <p:nvGrpSpPr>
                      <p:cNvPr id="320" name=""/>
                      <p:cNvGrpSpPr/>
                      <p:nvPr/>
                    </p:nvGrpSpPr>
                    <p:grpSpPr>
                      <a:xfrm>
                        <a:off x="3112920" y="5207760"/>
                        <a:ext cx="291960" cy="190440"/>
                        <a:chOff x="3112920" y="5207760"/>
                        <a:chExt cx="291960" cy="190440"/>
                      </a:xfrm>
                    </p:grpSpPr>
                    <p:sp>
                      <p:nvSpPr>
                        <p:cNvPr id="321" name=""/>
                        <p:cNvSpPr/>
                        <p:nvPr/>
                      </p:nvSpPr>
                      <p:spPr>
                        <a:xfrm>
                          <a:off x="3112920" y="5207760"/>
                          <a:ext cx="291960" cy="190440"/>
                        </a:xfrm>
                        <a:prstGeom prst="rect">
                          <a:avLst/>
                        </a:prstGeom>
                        <a:solidFill>
                          <a:srgbClr val="cc33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2" name=""/>
                        <p:cNvSpPr/>
                        <p:nvPr/>
                      </p:nvSpPr>
                      <p:spPr>
                        <a:xfrm>
                          <a:off x="3166560" y="5255280"/>
                          <a:ext cx="184320" cy="90720"/>
                        </a:xfrm>
                        <a:prstGeom prst="ellipse">
                          <a:avLst/>
                        </a:prstGeom>
                        <a:solidFill>
                          <a:srgbClr val="cc3300"/>
                        </a:solidFill>
                        <a:ln w="936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7280" bIns="172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23" name=""/>
                      <p:cNvSpPr/>
                      <p:nvPr/>
                    </p:nvSpPr>
                    <p:spPr>
                      <a:xfrm flipV="1">
                        <a:off x="3112920" y="5207400"/>
                        <a:ext cx="287640" cy="19044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24" name=""/>
              <p:cNvGrpSpPr/>
              <p:nvPr/>
            </p:nvGrpSpPr>
            <p:grpSpPr>
              <a:xfrm>
                <a:off x="3022560" y="5473080"/>
                <a:ext cx="2460600" cy="250200"/>
                <a:chOff x="3022560" y="5473080"/>
                <a:chExt cx="2460600" cy="2502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3022560" y="5637600"/>
                  <a:ext cx="2379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" name=""/>
                <p:cNvGrpSpPr/>
                <p:nvPr/>
              </p:nvGrpSpPr>
              <p:grpSpPr>
                <a:xfrm>
                  <a:off x="3117600" y="5473080"/>
                  <a:ext cx="2365560" cy="250200"/>
                  <a:chOff x="3117600" y="5473080"/>
                  <a:chExt cx="2365560" cy="2502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3494160" y="5572800"/>
                    <a:ext cx="198900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ctr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1" lang="en-US" sz="1000" spc="-1" strike="noStrike">
                        <a:solidFill>
                          <a:srgbClr val="cc3300"/>
                        </a:solidFill>
                        <a:latin typeface="Arial"/>
                      </a:rPr>
                      <a:t>ME-07 </a:t>
                    </a: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ankette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3117600" y="5473080"/>
                    <a:ext cx="284040" cy="250200"/>
                    <a:chOff x="3117600" y="5473080"/>
                    <a:chExt cx="284040" cy="25020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266640" y="5473080"/>
                      <a:ext cx="0" cy="6300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0" name=""/>
                    <p:cNvGrpSpPr/>
                    <p:nvPr/>
                  </p:nvGrpSpPr>
                  <p:grpSpPr>
                    <a:xfrm>
                      <a:off x="3117600" y="5529960"/>
                      <a:ext cx="284040" cy="193320"/>
                      <a:chOff x="3117600" y="5529960"/>
                      <a:chExt cx="284040" cy="193320"/>
                    </a:xfrm>
                  </p:grpSpPr>
                  <p:sp>
                    <p:nvSpPr>
                      <p:cNvPr id="331" name=""/>
                      <p:cNvSpPr/>
                      <p:nvPr/>
                    </p:nvSpPr>
                    <p:spPr>
                      <a:xfrm>
                        <a:off x="3117600" y="5529960"/>
                        <a:ext cx="284040" cy="19332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3169440" y="5578200"/>
                        <a:ext cx="182160" cy="92160"/>
                      </a:xfrm>
                      <a:prstGeom prst="ellipse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720" bIns="18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333" name=""/>
              <p:cNvSpPr/>
              <p:nvPr/>
            </p:nvSpPr>
            <p:spPr>
              <a:xfrm>
                <a:off x="3518280" y="507168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"/>
          <p:cNvGrpSpPr/>
          <p:nvPr/>
        </p:nvGrpSpPr>
        <p:grpSpPr>
          <a:xfrm>
            <a:off x="5494320" y="479520"/>
            <a:ext cx="2906640" cy="5520960"/>
            <a:chOff x="5494320" y="479520"/>
            <a:chExt cx="2906640" cy="5520960"/>
          </a:xfrm>
        </p:grpSpPr>
        <p:sp>
          <p:nvSpPr>
            <p:cNvPr id="335" name=""/>
            <p:cNvSpPr/>
            <p:nvPr/>
          </p:nvSpPr>
          <p:spPr>
            <a:xfrm>
              <a:off x="5670720" y="4038480"/>
              <a:ext cx="274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5667480" y="982800"/>
              <a:ext cx="2251080" cy="788400"/>
              <a:chOff x="5667480" y="982800"/>
              <a:chExt cx="2251080" cy="788400"/>
            </a:xfrm>
          </p:grpSpPr>
          <p:sp>
            <p:nvSpPr>
              <p:cNvPr id="337" name=""/>
              <p:cNvSpPr/>
              <p:nvPr/>
            </p:nvSpPr>
            <p:spPr>
              <a:xfrm>
                <a:off x="5667480" y="1325520"/>
                <a:ext cx="208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5815080" y="982800"/>
                <a:ext cx="2103480" cy="788400"/>
                <a:chOff x="5815080" y="982800"/>
                <a:chExt cx="2103480" cy="78840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5886720" y="1355760"/>
                  <a:ext cx="0" cy="27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0" name=""/>
                <p:cNvGrpSpPr/>
                <p:nvPr/>
              </p:nvGrpSpPr>
              <p:grpSpPr>
                <a:xfrm>
                  <a:off x="5815080" y="1150920"/>
                  <a:ext cx="2103480" cy="282600"/>
                  <a:chOff x="5815080" y="1150920"/>
                  <a:chExt cx="2103480" cy="28260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5815080" y="1216080"/>
                    <a:ext cx="237960" cy="188640"/>
                    <a:chOff x="5815080" y="1216080"/>
                    <a:chExt cx="237960" cy="188640"/>
                  </a:xfrm>
                </p:grpSpPr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5815080" y="1245960"/>
                      <a:ext cx="237960" cy="1587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5919840" y="12160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44" name=""/>
                  <p:cNvSpPr/>
                  <p:nvPr/>
                </p:nvSpPr>
                <p:spPr>
                  <a:xfrm>
                    <a:off x="6161040" y="1285920"/>
                    <a:ext cx="1757520" cy="147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Commander              PO-15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6161040" y="1150920"/>
                    <a:ext cx="578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5818320" y="1506600"/>
                  <a:ext cx="2049480" cy="264600"/>
                  <a:chOff x="5818320" y="1506600"/>
                  <a:chExt cx="2049480" cy="264600"/>
                </a:xfrm>
              </p:grpSpPr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5818320" y="1541520"/>
                    <a:ext cx="231840" cy="228600"/>
                    <a:chOff x="5818320" y="1541520"/>
                    <a:chExt cx="231840" cy="22860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5818320" y="1582920"/>
                      <a:ext cx="231840" cy="1573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5824800" y="17431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6005880" y="17431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920200" y="15415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2" name=""/>
                  <p:cNvSpPr/>
                  <p:nvPr/>
                </p:nvSpPr>
                <p:spPr>
                  <a:xfrm>
                    <a:off x="6161040" y="163368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F 508/518                PO-09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6161040" y="1506600"/>
                    <a:ext cx="578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4" name=""/>
                <p:cNvSpPr/>
                <p:nvPr/>
              </p:nvSpPr>
              <p:spPr>
                <a:xfrm>
                  <a:off x="6161400" y="982800"/>
                  <a:ext cx="1523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HEADQUARTERS E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5" name=""/>
            <p:cNvSpPr/>
            <p:nvPr/>
          </p:nvSpPr>
          <p:spPr>
            <a:xfrm flipV="1">
              <a:off x="5667480" y="2109960"/>
              <a:ext cx="2793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5759280" y="1943280"/>
              <a:ext cx="347040" cy="284760"/>
              <a:chOff x="5759280" y="1943280"/>
              <a:chExt cx="347040" cy="28476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5759280" y="1992240"/>
                <a:ext cx="347040" cy="235800"/>
                <a:chOff x="5759280" y="1992240"/>
                <a:chExt cx="347040" cy="2358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759280" y="1992240"/>
                  <a:ext cx="347040" cy="2358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 flipV="1">
                  <a:off x="5762880" y="1995480"/>
                  <a:ext cx="338400" cy="230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759280" y="1995840"/>
                  <a:ext cx="345600" cy="22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895720" y="1943280"/>
                <a:ext cx="75960" cy="63000"/>
                <a:chOff x="5895720" y="1943280"/>
                <a:chExt cx="75960" cy="6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895720" y="194328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971680" y="194328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4" name=""/>
            <p:cNvSpPr/>
            <p:nvPr/>
          </p:nvSpPr>
          <p:spPr>
            <a:xfrm>
              <a:off x="6165720" y="2036880"/>
              <a:ext cx="1487520" cy="63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BG-02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Rifle Battalion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Only in the Krakowska, Kresowa, Mazowiecka, Podlaska, Wielkopolska, and Wilenska Cavalry Brigades)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61040" y="185580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TTLE GROU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62440" y="4341960"/>
              <a:ext cx="25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75200" y="4322880"/>
              <a:ext cx="5040" cy="30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5821200" y="4481640"/>
              <a:ext cx="2049480" cy="248760"/>
              <a:chOff x="5821200" y="4481640"/>
              <a:chExt cx="2049480" cy="248760"/>
            </a:xfrm>
          </p:grpSpPr>
          <p:grpSp>
            <p:nvGrpSpPr>
              <p:cNvPr id="369" name=""/>
              <p:cNvGrpSpPr/>
              <p:nvPr/>
            </p:nvGrpSpPr>
            <p:grpSpPr>
              <a:xfrm>
                <a:off x="5821200" y="4505400"/>
                <a:ext cx="231480" cy="215640"/>
                <a:chOff x="5821200" y="4505400"/>
                <a:chExt cx="231480" cy="2156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821200" y="4533840"/>
                  <a:ext cx="231480" cy="157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835240" y="46940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008400" y="469404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5900400" y="4505400"/>
                  <a:ext cx="74160" cy="27000"/>
                  <a:chOff x="5900400" y="4505400"/>
                  <a:chExt cx="74160" cy="2700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5900400" y="45054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5947920" y="45054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6" name=""/>
              <p:cNvSpPr/>
              <p:nvPr/>
            </p:nvSpPr>
            <p:spPr>
              <a:xfrm>
                <a:off x="6163920" y="4592880"/>
                <a:ext cx="1706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orse-drawn Limber     FR-22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163920" y="448164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5821200" y="4241880"/>
              <a:ext cx="2049480" cy="218520"/>
              <a:chOff x="5821200" y="4241880"/>
              <a:chExt cx="2049480" cy="21852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5821200" y="4241880"/>
                <a:ext cx="231840" cy="191880"/>
                <a:chOff x="5821200" y="4241880"/>
                <a:chExt cx="231840" cy="191880"/>
              </a:xfrm>
            </p:grpSpPr>
            <p:grpSp>
              <p:nvGrpSpPr>
                <p:cNvPr id="380" name=""/>
                <p:cNvGrpSpPr/>
                <p:nvPr/>
              </p:nvGrpSpPr>
              <p:grpSpPr>
                <a:xfrm>
                  <a:off x="5821200" y="4276800"/>
                  <a:ext cx="231840" cy="156960"/>
                  <a:chOff x="5821200" y="4276800"/>
                  <a:chExt cx="231840" cy="15696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>
                    <a:off x="5821200" y="4276800"/>
                    <a:ext cx="23184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V="1">
                    <a:off x="5821200" y="428004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5934960" y="427680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5900760" y="4241880"/>
                  <a:ext cx="74160" cy="27000"/>
                  <a:chOff x="5900760" y="4241880"/>
                  <a:chExt cx="74160" cy="270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5900760" y="42418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5948280" y="42418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7" name=""/>
              <p:cNvSpPr/>
              <p:nvPr/>
            </p:nvSpPr>
            <p:spPr>
              <a:xfrm>
                <a:off x="6163920" y="4322880"/>
                <a:ext cx="1706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37mm Antitank Gun      PO-1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6164280" y="4167360"/>
              <a:ext cx="85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67480" y="590400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80120" y="5659560"/>
              <a:ext cx="149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E SUPPORT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61040" y="5816520"/>
              <a:ext cx="223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FS-05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orse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5661000" y="692280"/>
              <a:ext cx="7920" cy="447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661000" y="4835520"/>
              <a:ext cx="7920" cy="1071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41960" y="515880"/>
              <a:ext cx="160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3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Cavalry Briga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61000" y="4911840"/>
              <a:ext cx="274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5819760" y="4788000"/>
              <a:ext cx="236520" cy="201600"/>
              <a:chOff x="5819760" y="4788000"/>
              <a:chExt cx="236520" cy="201600"/>
            </a:xfrm>
          </p:grpSpPr>
          <p:sp>
            <p:nvSpPr>
              <p:cNvPr id="397" name=""/>
              <p:cNvSpPr/>
              <p:nvPr/>
            </p:nvSpPr>
            <p:spPr>
              <a:xfrm>
                <a:off x="5819760" y="4832280"/>
                <a:ext cx="231840" cy="15732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5826240" y="4827240"/>
                <a:ext cx="230040" cy="142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19760" y="4838760"/>
                <a:ext cx="50760" cy="14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0" name=""/>
              <p:cNvGrpSpPr/>
              <p:nvPr/>
            </p:nvGrpSpPr>
            <p:grpSpPr>
              <a:xfrm>
                <a:off x="5900760" y="4788000"/>
                <a:ext cx="74160" cy="27000"/>
                <a:chOff x="5900760" y="4788000"/>
                <a:chExt cx="74160" cy="27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5900760" y="478800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5948280" y="478800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"/>
            <p:cNvSpPr/>
            <p:nvPr/>
          </p:nvSpPr>
          <p:spPr>
            <a:xfrm>
              <a:off x="6165720" y="4871880"/>
              <a:ext cx="1706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czanka                      PO-11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5680080" y="5056200"/>
              <a:ext cx="2211120" cy="521640"/>
              <a:chOff x="5680080" y="5056200"/>
              <a:chExt cx="2211120" cy="521640"/>
            </a:xfrm>
          </p:grpSpPr>
          <p:sp>
            <p:nvSpPr>
              <p:cNvPr id="405" name=""/>
              <p:cNvSpPr/>
              <p:nvPr/>
            </p:nvSpPr>
            <p:spPr>
              <a:xfrm>
                <a:off x="5680080" y="51721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70520" y="512928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5824440" y="5329080"/>
                <a:ext cx="2054160" cy="248760"/>
                <a:chOff x="5824440" y="5329080"/>
                <a:chExt cx="2054160" cy="248760"/>
              </a:xfrm>
            </p:grpSpPr>
            <p:grpSp>
              <p:nvGrpSpPr>
                <p:cNvPr id="408" name=""/>
                <p:cNvGrpSpPr/>
                <p:nvPr/>
              </p:nvGrpSpPr>
              <p:grpSpPr>
                <a:xfrm>
                  <a:off x="5824440" y="5365800"/>
                  <a:ext cx="239760" cy="210600"/>
                  <a:chOff x="5824440" y="5365800"/>
                  <a:chExt cx="239760" cy="210600"/>
                </a:xfrm>
              </p:grpSpPr>
              <p:sp>
                <p:nvSpPr>
                  <p:cNvPr id="409" name=""/>
                  <p:cNvSpPr/>
                  <p:nvPr/>
                </p:nvSpPr>
                <p:spPr>
                  <a:xfrm>
                    <a:off x="5824440" y="5389200"/>
                    <a:ext cx="23976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5892840" y="5549760"/>
                    <a:ext cx="104760" cy="26640"/>
                    <a:chOff x="5892840" y="5549760"/>
                    <a:chExt cx="104760" cy="2664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5892840" y="554976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5969160" y="55497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13720" y="5549760"/>
                      <a:ext cx="6192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907240" y="5365800"/>
                    <a:ext cx="74160" cy="26640"/>
                    <a:chOff x="5907240" y="5365800"/>
                    <a:chExt cx="74160" cy="2664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907240" y="53658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5954760" y="53658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17" name=""/>
                <p:cNvSpPr/>
                <p:nvPr/>
              </p:nvSpPr>
              <p:spPr>
                <a:xfrm>
                  <a:off x="6171840" y="54403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2P Artillery Tractor   web PT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171840" y="532908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837040" y="5056200"/>
                <a:ext cx="2054160" cy="205920"/>
                <a:chOff x="5837040" y="5056200"/>
                <a:chExt cx="2054160" cy="205920"/>
              </a:xfrm>
            </p:grpSpPr>
            <p:grpSp>
              <p:nvGrpSpPr>
                <p:cNvPr id="420" name=""/>
                <p:cNvGrpSpPr/>
                <p:nvPr/>
              </p:nvGrpSpPr>
              <p:grpSpPr>
                <a:xfrm>
                  <a:off x="5837040" y="5056200"/>
                  <a:ext cx="239760" cy="193680"/>
                  <a:chOff x="5837040" y="5056200"/>
                  <a:chExt cx="239760" cy="193680"/>
                </a:xfrm>
              </p:grpSpPr>
              <p:grpSp>
                <p:nvGrpSpPr>
                  <p:cNvPr id="421" name=""/>
                  <p:cNvGrpSpPr/>
                  <p:nvPr/>
                </p:nvGrpSpPr>
                <p:grpSpPr>
                  <a:xfrm>
                    <a:off x="5837040" y="5091120"/>
                    <a:ext cx="239760" cy="158760"/>
                    <a:chOff x="5837040" y="5091120"/>
                    <a:chExt cx="239760" cy="158760"/>
                  </a:xfrm>
                </p:grpSpPr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837040" y="509292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5895720" y="5167440"/>
                      <a:ext cx="119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flipV="1">
                      <a:off x="5837040" y="509292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5952960" y="5091120"/>
                      <a:ext cx="12384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5919480" y="5056200"/>
                    <a:ext cx="74160" cy="27000"/>
                    <a:chOff x="5919480" y="5056200"/>
                    <a:chExt cx="74160" cy="2700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5919480" y="50562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5967000" y="505620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29" name=""/>
                <p:cNvSpPr/>
                <p:nvPr/>
              </p:nvSpPr>
              <p:spPr>
                <a:xfrm>
                  <a:off x="6184440" y="512460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mm AA Gun            web PT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"/>
            <p:cNvGrpSpPr/>
            <p:nvPr/>
          </p:nvGrpSpPr>
          <p:grpSpPr>
            <a:xfrm>
              <a:off x="5494320" y="479520"/>
              <a:ext cx="347760" cy="322200"/>
              <a:chOff x="5494320" y="479520"/>
              <a:chExt cx="347760" cy="322200"/>
            </a:xfrm>
          </p:grpSpPr>
          <p:sp>
            <p:nvSpPr>
              <p:cNvPr id="431" name=""/>
              <p:cNvSpPr/>
              <p:nvPr/>
            </p:nvSpPr>
            <p:spPr>
              <a:xfrm>
                <a:off x="5494320" y="565200"/>
                <a:ext cx="347760" cy="23652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497560" y="568080"/>
                <a:ext cx="339480" cy="231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05560" y="479520"/>
                <a:ext cx="12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5670720" y="2697120"/>
              <a:ext cx="2468160" cy="371520"/>
              <a:chOff x="5670720" y="2697120"/>
              <a:chExt cx="2468160" cy="371520"/>
            </a:xfrm>
          </p:grpSpPr>
          <p:sp>
            <p:nvSpPr>
              <p:cNvPr id="435" name=""/>
              <p:cNvSpPr/>
              <p:nvPr/>
            </p:nvSpPr>
            <p:spPr>
              <a:xfrm flipV="1">
                <a:off x="5670720" y="2873160"/>
                <a:ext cx="27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6" name=""/>
              <p:cNvGrpSpPr/>
              <p:nvPr/>
            </p:nvGrpSpPr>
            <p:grpSpPr>
              <a:xfrm>
                <a:off x="5769000" y="2697120"/>
                <a:ext cx="363960" cy="298080"/>
                <a:chOff x="5769000" y="2697120"/>
                <a:chExt cx="363960" cy="298080"/>
              </a:xfrm>
            </p:grpSpPr>
            <p:grpSp>
              <p:nvGrpSpPr>
                <p:cNvPr id="437" name=""/>
                <p:cNvGrpSpPr/>
                <p:nvPr/>
              </p:nvGrpSpPr>
              <p:grpSpPr>
                <a:xfrm>
                  <a:off x="5769000" y="2756160"/>
                  <a:ext cx="363960" cy="239040"/>
                  <a:chOff x="5769000" y="2756160"/>
                  <a:chExt cx="363960" cy="239040"/>
                </a:xfrm>
              </p:grpSpPr>
              <p:grpSp>
                <p:nvGrpSpPr>
                  <p:cNvPr id="438" name=""/>
                  <p:cNvGrpSpPr/>
                  <p:nvPr/>
                </p:nvGrpSpPr>
                <p:grpSpPr>
                  <a:xfrm>
                    <a:off x="5769000" y="2756160"/>
                    <a:ext cx="363960" cy="238680"/>
                    <a:chOff x="5769000" y="2756160"/>
                    <a:chExt cx="363960" cy="238680"/>
                  </a:xfrm>
                </p:grpSpPr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5769000" y="2756160"/>
                      <a:ext cx="363960" cy="2386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5835960" y="2815920"/>
                      <a:ext cx="230040" cy="11412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4200" bIns="34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1" name=""/>
                  <p:cNvSpPr/>
                  <p:nvPr/>
                </p:nvSpPr>
                <p:spPr>
                  <a:xfrm flipV="1">
                    <a:off x="5769000" y="2756160"/>
                    <a:ext cx="358920" cy="239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"/>
                <p:cNvGrpSpPr/>
                <p:nvPr/>
              </p:nvGrpSpPr>
              <p:grpSpPr>
                <a:xfrm>
                  <a:off x="5913000" y="2697120"/>
                  <a:ext cx="75960" cy="63360"/>
                  <a:chOff x="5913000" y="2697120"/>
                  <a:chExt cx="75960" cy="63360"/>
                </a:xfrm>
              </p:grpSpPr>
              <p:sp>
                <p:nvSpPr>
                  <p:cNvPr id="443" name=""/>
                  <p:cNvSpPr/>
                  <p:nvPr/>
                </p:nvSpPr>
                <p:spPr>
                  <a:xfrm>
                    <a:off x="5913000" y="2697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5988960" y="26971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45" name=""/>
              <p:cNvSpPr/>
              <p:nvPr/>
            </p:nvSpPr>
            <p:spPr>
              <a:xfrm>
                <a:off x="6172200" y="2763720"/>
                <a:ext cx="19666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BG-04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rmored Recon Group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x2 in the Kresowa Cavalry Bgde)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670720" y="3197160"/>
              <a:ext cx="2468160" cy="491760"/>
              <a:chOff x="5670720" y="3197160"/>
              <a:chExt cx="2468160" cy="491760"/>
            </a:xfrm>
          </p:grpSpPr>
          <p:sp>
            <p:nvSpPr>
              <p:cNvPr id="447" name=""/>
              <p:cNvSpPr/>
              <p:nvPr/>
            </p:nvSpPr>
            <p:spPr>
              <a:xfrm flipV="1">
                <a:off x="5670720" y="3371400"/>
                <a:ext cx="27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2200" y="3262320"/>
                <a:ext cx="19666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BG-05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avalry Regiment     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(x4 in the Nowogrodzka, Suwalska, and Wolynska Cavalry )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5769000" y="3197160"/>
                <a:ext cx="364680" cy="296640"/>
                <a:chOff x="5769000" y="3197160"/>
                <a:chExt cx="364680" cy="296640"/>
              </a:xfrm>
            </p:grpSpPr>
            <p:grpSp>
              <p:nvGrpSpPr>
                <p:cNvPr id="450" name=""/>
                <p:cNvGrpSpPr/>
                <p:nvPr/>
              </p:nvGrpSpPr>
              <p:grpSpPr>
                <a:xfrm>
                  <a:off x="5769000" y="3254040"/>
                  <a:ext cx="364680" cy="239760"/>
                  <a:chOff x="5769000" y="3254040"/>
                  <a:chExt cx="364680" cy="239760"/>
                </a:xfrm>
              </p:grpSpPr>
              <p:sp>
                <p:nvSpPr>
                  <p:cNvPr id="451" name=""/>
                  <p:cNvSpPr/>
                  <p:nvPr/>
                </p:nvSpPr>
                <p:spPr>
                  <a:xfrm>
                    <a:off x="5769000" y="3254400"/>
                    <a:ext cx="364680" cy="23940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 flipV="1">
                    <a:off x="5769000" y="3254040"/>
                    <a:ext cx="360000" cy="239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5881320" y="3197160"/>
                  <a:ext cx="131400" cy="64800"/>
                  <a:chOff x="5881320" y="3197160"/>
                  <a:chExt cx="131400" cy="6480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5947920" y="3198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5881320" y="3197160"/>
                    <a:ext cx="131400" cy="64800"/>
                    <a:chOff x="5881320" y="3197160"/>
                    <a:chExt cx="131400" cy="648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5881320" y="31986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6012720" y="319716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8" name=""/>
            <p:cNvSpPr/>
            <p:nvPr/>
          </p:nvSpPr>
          <p:spPr>
            <a:xfrm>
              <a:off x="6175800" y="3763800"/>
              <a:ext cx="1294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80120" y="3987720"/>
              <a:ext cx="1523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E-03 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icycle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5807160" y="3868560"/>
              <a:ext cx="284040" cy="257040"/>
              <a:chOff x="5807160" y="3868560"/>
              <a:chExt cx="284040" cy="257040"/>
            </a:xfrm>
          </p:grpSpPr>
          <p:sp>
            <p:nvSpPr>
              <p:cNvPr id="461" name=""/>
              <p:cNvSpPr/>
              <p:nvPr/>
            </p:nvSpPr>
            <p:spPr>
              <a:xfrm>
                <a:off x="5950080" y="38685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5807160" y="3931920"/>
                <a:ext cx="284040" cy="193680"/>
                <a:chOff x="5807160" y="3931920"/>
                <a:chExt cx="284040" cy="19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5807160" y="3931920"/>
                  <a:ext cx="284040" cy="19368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V="1">
                  <a:off x="5810040" y="393480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807160" y="393480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5786280" y="5764320"/>
              <a:ext cx="292320" cy="236160"/>
              <a:chOff x="5786280" y="5764320"/>
              <a:chExt cx="292320" cy="23616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5786280" y="5764320"/>
                <a:ext cx="291600" cy="236160"/>
                <a:chOff x="5786280" y="5764320"/>
                <a:chExt cx="291600" cy="23616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5786280" y="5810400"/>
                  <a:ext cx="291600" cy="190080"/>
                  <a:chOff x="5786280" y="5810400"/>
                  <a:chExt cx="291600" cy="19008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5786280" y="5810400"/>
                    <a:ext cx="291600" cy="1900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5911560" y="5883120"/>
                    <a:ext cx="34920" cy="324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760" bIns="-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1" name=""/>
                <p:cNvSpPr/>
                <p:nvPr/>
              </p:nvSpPr>
              <p:spPr>
                <a:xfrm>
                  <a:off x="5932080" y="57643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 flipV="1">
                <a:off x="5786280" y="5808600"/>
                <a:ext cx="292320" cy="18432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76120" y="118800"/>
            <a:ext cx="338148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BG-05-&gt;BG-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82520" y="950760"/>
            <a:ext cx="2651040" cy="1998360"/>
            <a:chOff x="182520" y="950760"/>
            <a:chExt cx="2651040" cy="1998360"/>
          </a:xfrm>
        </p:grpSpPr>
        <p:sp>
          <p:nvSpPr>
            <p:cNvPr id="475" name=""/>
            <p:cNvSpPr/>
            <p:nvPr/>
          </p:nvSpPr>
          <p:spPr>
            <a:xfrm>
              <a:off x="358560" y="1208160"/>
              <a:ext cx="0" cy="136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12600" y="950760"/>
              <a:ext cx="1486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5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                            Caval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361800" y="1709640"/>
              <a:ext cx="2471760" cy="289080"/>
              <a:chOff x="361800" y="1709640"/>
              <a:chExt cx="2471760" cy="289080"/>
            </a:xfrm>
          </p:grpSpPr>
          <p:sp>
            <p:nvSpPr>
              <p:cNvPr id="478" name=""/>
              <p:cNvSpPr/>
              <p:nvPr/>
            </p:nvSpPr>
            <p:spPr>
              <a:xfrm>
                <a:off x="361800" y="190188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525240" y="1741320"/>
                <a:ext cx="284040" cy="257400"/>
                <a:chOff x="525240" y="1741320"/>
                <a:chExt cx="284040" cy="25740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525240" y="1805040"/>
                  <a:ext cx="284040" cy="19368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528480" y="1808280"/>
                  <a:ext cx="276120" cy="188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6720" y="17413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3" name=""/>
              <p:cNvSpPr/>
              <p:nvPr/>
            </p:nvSpPr>
            <p:spPr>
              <a:xfrm>
                <a:off x="912600" y="1709640"/>
                <a:ext cx="192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912600" y="1846080"/>
                <a:ext cx="1805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1" lang="en-US" sz="900" spc="-1" strike="noStrike">
                    <a:solidFill>
                      <a:srgbClr val="cc3300"/>
                    </a:solidFill>
                    <a:latin typeface="Arial"/>
                  </a:rPr>
                  <a:t>ME-04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Cavalry Squadro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352080" y="2039760"/>
              <a:ext cx="2473560" cy="317520"/>
              <a:chOff x="352080" y="2039760"/>
              <a:chExt cx="2473560" cy="317520"/>
            </a:xfrm>
          </p:grpSpPr>
          <p:sp>
            <p:nvSpPr>
              <p:cNvPr id="486" name=""/>
              <p:cNvSpPr/>
              <p:nvPr/>
            </p:nvSpPr>
            <p:spPr>
              <a:xfrm>
                <a:off x="904680" y="2039760"/>
                <a:ext cx="192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2080" y="2274840"/>
                <a:ext cx="295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549000" y="2160720"/>
                <a:ext cx="236520" cy="196560"/>
                <a:chOff x="549000" y="2160720"/>
                <a:chExt cx="236520" cy="19656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630000" y="2160720"/>
                  <a:ext cx="74160" cy="27000"/>
                  <a:chOff x="630000" y="2160720"/>
                  <a:chExt cx="74160" cy="27000"/>
                </a:xfrm>
              </p:grpSpPr>
              <p:sp>
                <p:nvSpPr>
                  <p:cNvPr id="490" name=""/>
                  <p:cNvSpPr/>
                  <p:nvPr/>
                </p:nvSpPr>
                <p:spPr>
                  <a:xfrm>
                    <a:off x="630000" y="21607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77520" y="21607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" name=""/>
                <p:cNvSpPr/>
                <p:nvPr/>
              </p:nvSpPr>
              <p:spPr>
                <a:xfrm>
                  <a:off x="549000" y="2200320"/>
                  <a:ext cx="231840" cy="1569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V="1">
                  <a:off x="555480" y="2195640"/>
                  <a:ext cx="230040" cy="142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549000" y="2206440"/>
                  <a:ext cx="50760" cy="146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912600" y="2187720"/>
                <a:ext cx="1913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aczanka                   PO-1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182520" y="1019160"/>
              <a:ext cx="347400" cy="298440"/>
              <a:chOff x="182520" y="1019160"/>
              <a:chExt cx="347400" cy="29844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182520" y="1081080"/>
                <a:ext cx="347400" cy="236520"/>
                <a:chOff x="182520" y="1081080"/>
                <a:chExt cx="347400" cy="236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82520" y="1081080"/>
                  <a:ext cx="347400" cy="2365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V="1">
                  <a:off x="185400" y="1084320"/>
                  <a:ext cx="339840" cy="231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88720" y="1019160"/>
                <a:ext cx="131760" cy="64800"/>
                <a:chOff x="288720" y="1019160"/>
                <a:chExt cx="131760" cy="6480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55680" y="10206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" name=""/>
                <p:cNvGrpSpPr/>
                <p:nvPr/>
              </p:nvGrpSpPr>
              <p:grpSpPr>
                <a:xfrm>
                  <a:off x="288720" y="1019160"/>
                  <a:ext cx="131760" cy="64800"/>
                  <a:chOff x="288720" y="1019160"/>
                  <a:chExt cx="131760" cy="6480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>
                    <a:off x="288720" y="1020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420480" y="10191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5" name=""/>
            <p:cNvGrpSpPr/>
            <p:nvPr/>
          </p:nvGrpSpPr>
          <p:grpSpPr>
            <a:xfrm>
              <a:off x="355320" y="1374840"/>
              <a:ext cx="2478240" cy="293040"/>
              <a:chOff x="355320" y="1374840"/>
              <a:chExt cx="2478240" cy="293040"/>
            </a:xfrm>
          </p:grpSpPr>
          <p:sp>
            <p:nvSpPr>
              <p:cNvPr id="506" name=""/>
              <p:cNvSpPr/>
              <p:nvPr/>
            </p:nvSpPr>
            <p:spPr>
              <a:xfrm>
                <a:off x="355320" y="158904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12600" y="1374840"/>
                <a:ext cx="192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525240" y="1476360"/>
                <a:ext cx="1717560" cy="191520"/>
                <a:chOff x="525240" y="1476360"/>
                <a:chExt cx="1717560" cy="1915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852120" y="1511280"/>
                  <a:ext cx="139068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avalry                         PO-2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525240" y="1476360"/>
                  <a:ext cx="237960" cy="191520"/>
                  <a:chOff x="525240" y="1476360"/>
                  <a:chExt cx="237960" cy="1915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628560" y="14763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525240" y="1503000"/>
                    <a:ext cx="237960" cy="164880"/>
                    <a:chOff x="525240" y="1503000"/>
                    <a:chExt cx="237960" cy="1648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25240" y="1509480"/>
                      <a:ext cx="237960" cy="15840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532800" y="1503000"/>
                      <a:ext cx="230040" cy="1551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515" name=""/>
            <p:cNvGrpSpPr/>
            <p:nvPr/>
          </p:nvGrpSpPr>
          <p:grpSpPr>
            <a:xfrm>
              <a:off x="358560" y="2460600"/>
              <a:ext cx="2208240" cy="488520"/>
              <a:chOff x="358560" y="2460600"/>
              <a:chExt cx="2208240" cy="488520"/>
            </a:xfrm>
          </p:grpSpPr>
          <p:grpSp>
            <p:nvGrpSpPr>
              <p:cNvPr id="516" name=""/>
              <p:cNvGrpSpPr/>
              <p:nvPr/>
            </p:nvGrpSpPr>
            <p:grpSpPr>
              <a:xfrm>
                <a:off x="517320" y="2541600"/>
                <a:ext cx="2049480" cy="407520"/>
                <a:chOff x="517320" y="2541600"/>
                <a:chExt cx="2049480" cy="4075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571320" y="2541600"/>
                  <a:ext cx="4680" cy="301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517320" y="2700360"/>
                  <a:ext cx="2049480" cy="248760"/>
                  <a:chOff x="517320" y="2700360"/>
                  <a:chExt cx="2049480" cy="248760"/>
                </a:xfrm>
              </p:grpSpPr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517320" y="2724120"/>
                    <a:ext cx="231480" cy="215640"/>
                    <a:chOff x="517320" y="2724120"/>
                    <a:chExt cx="231480" cy="21564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7320" y="2752560"/>
                      <a:ext cx="231480" cy="1573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531360" y="291276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704520" y="29127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23" name=""/>
                    <p:cNvGrpSpPr/>
                    <p:nvPr/>
                  </p:nvGrpSpPr>
                  <p:grpSpPr>
                    <a:xfrm>
                      <a:off x="596520" y="2724120"/>
                      <a:ext cx="74160" cy="27000"/>
                      <a:chOff x="596520" y="2724120"/>
                      <a:chExt cx="74160" cy="27000"/>
                    </a:xfrm>
                  </p:grpSpPr>
                  <p:sp>
                    <p:nvSpPr>
                      <p:cNvPr id="524" name=""/>
                      <p:cNvSpPr/>
                      <p:nvPr/>
                    </p:nvSpPr>
                    <p:spPr>
                      <a:xfrm>
                        <a:off x="596520" y="272412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644040" y="272412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26" name=""/>
                  <p:cNvSpPr/>
                  <p:nvPr/>
                </p:nvSpPr>
                <p:spPr>
                  <a:xfrm>
                    <a:off x="860040" y="281160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Horse-drawn Limber    FR-22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860040" y="2700360"/>
                    <a:ext cx="578160" cy="122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"/>
              <p:cNvGrpSpPr/>
              <p:nvPr/>
            </p:nvGrpSpPr>
            <p:grpSpPr>
              <a:xfrm>
                <a:off x="358560" y="2460600"/>
                <a:ext cx="2208240" cy="218520"/>
                <a:chOff x="358560" y="2460600"/>
                <a:chExt cx="2208240" cy="2185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358560" y="2560680"/>
                  <a:ext cx="252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517320" y="2460600"/>
                  <a:ext cx="2049480" cy="218520"/>
                  <a:chOff x="517320" y="2460600"/>
                  <a:chExt cx="2049480" cy="218520"/>
                </a:xfrm>
              </p:grpSpPr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517320" y="2460600"/>
                    <a:ext cx="231840" cy="191880"/>
                    <a:chOff x="517320" y="2460600"/>
                    <a:chExt cx="231840" cy="191880"/>
                  </a:xfrm>
                </p:grpSpPr>
                <p:grpSp>
                  <p:nvGrpSpPr>
                    <p:cNvPr id="532" name=""/>
                    <p:cNvGrpSpPr/>
                    <p:nvPr/>
                  </p:nvGrpSpPr>
                  <p:grpSpPr>
                    <a:xfrm>
                      <a:off x="517320" y="2495520"/>
                      <a:ext cx="231840" cy="156960"/>
                      <a:chOff x="517320" y="2495520"/>
                      <a:chExt cx="231840" cy="156960"/>
                    </a:xfrm>
                  </p:grpSpPr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517320" y="24955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 flipV="1">
                        <a:off x="517320" y="249876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631080" y="249552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6" name=""/>
                    <p:cNvGrpSpPr/>
                    <p:nvPr/>
                  </p:nvGrpSpPr>
                  <p:grpSpPr>
                    <a:xfrm>
                      <a:off x="596880" y="2460600"/>
                      <a:ext cx="74160" cy="27000"/>
                      <a:chOff x="596880" y="2460600"/>
                      <a:chExt cx="74160" cy="27000"/>
                    </a:xfrm>
                  </p:grpSpPr>
                  <p:sp>
                    <p:nvSpPr>
                      <p:cNvPr id="537" name=""/>
                      <p:cNvSpPr/>
                      <p:nvPr/>
                    </p:nvSpPr>
                    <p:spPr>
                      <a:xfrm>
                        <a:off x="596880" y="246060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8" name=""/>
                      <p:cNvSpPr/>
                      <p:nvPr/>
                    </p:nvSpPr>
                    <p:spPr>
                      <a:xfrm>
                        <a:off x="644400" y="246060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860040" y="254160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2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37mm Antitank Gun    PO-13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40" name=""/>
          <p:cNvGrpSpPr/>
          <p:nvPr/>
        </p:nvGrpSpPr>
        <p:grpSpPr>
          <a:xfrm>
            <a:off x="2867040" y="762120"/>
            <a:ext cx="2906640" cy="4685040"/>
            <a:chOff x="2867040" y="762120"/>
            <a:chExt cx="2906640" cy="4685040"/>
          </a:xfrm>
        </p:grpSpPr>
        <p:sp>
          <p:nvSpPr>
            <p:cNvPr id="541" name=""/>
            <p:cNvSpPr/>
            <p:nvPr/>
          </p:nvSpPr>
          <p:spPr>
            <a:xfrm>
              <a:off x="3040200" y="1600200"/>
              <a:ext cx="207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259080" y="163044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187800" y="1425600"/>
              <a:ext cx="2103480" cy="282600"/>
              <a:chOff x="3187800" y="1425600"/>
              <a:chExt cx="2103480" cy="28260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3187800" y="1490760"/>
                <a:ext cx="237960" cy="188640"/>
                <a:chOff x="3187800" y="1490760"/>
                <a:chExt cx="237960" cy="18864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3187800" y="1520640"/>
                  <a:ext cx="237960" cy="1587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292560" y="1490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7" name=""/>
              <p:cNvSpPr/>
              <p:nvPr/>
            </p:nvSpPr>
            <p:spPr>
              <a:xfrm>
                <a:off x="3533760" y="1560600"/>
                <a:ext cx="17575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       PO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533760" y="1425600"/>
                <a:ext cx="5781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3191040" y="1704960"/>
              <a:ext cx="2048760" cy="264600"/>
              <a:chOff x="3191040" y="1704960"/>
              <a:chExt cx="2048760" cy="264600"/>
            </a:xfrm>
          </p:grpSpPr>
          <p:grpSp>
            <p:nvGrpSpPr>
              <p:cNvPr id="550" name=""/>
              <p:cNvGrpSpPr/>
              <p:nvPr/>
            </p:nvGrpSpPr>
            <p:grpSpPr>
              <a:xfrm>
                <a:off x="3191040" y="1739880"/>
                <a:ext cx="231480" cy="228600"/>
                <a:chOff x="3191040" y="1739880"/>
                <a:chExt cx="231480" cy="2286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3191040" y="1781280"/>
                  <a:ext cx="231480" cy="157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197160" y="19414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3378240" y="194148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292560" y="1739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3533400" y="1832040"/>
                <a:ext cx="1706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F 508/518                PO-09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33400" y="170496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>
              <a:off x="3534120" y="1257480"/>
              <a:ext cx="152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ADQUARTERS EL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3040200" y="2230560"/>
              <a:ext cx="27936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38440" y="2157480"/>
              <a:ext cx="197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 BG-07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otorized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33760" y="1976400"/>
              <a:ext cx="95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ATTLE GROUP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043080" y="3556080"/>
              <a:ext cx="2208240" cy="505800"/>
              <a:chOff x="3043080" y="3556080"/>
              <a:chExt cx="2208240" cy="505800"/>
            </a:xfrm>
          </p:grpSpPr>
          <p:sp>
            <p:nvSpPr>
              <p:cNvPr id="562" name=""/>
              <p:cNvSpPr/>
              <p:nvPr/>
            </p:nvSpPr>
            <p:spPr>
              <a:xfrm>
                <a:off x="3043080" y="3674880"/>
                <a:ext cx="252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255840" y="3760560"/>
                <a:ext cx="4680" cy="30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3201840" y="3795480"/>
                <a:ext cx="2049480" cy="248400"/>
                <a:chOff x="3201840" y="3795480"/>
                <a:chExt cx="2049480" cy="248400"/>
              </a:xfrm>
            </p:grpSpPr>
            <p:grpSp>
              <p:nvGrpSpPr>
                <p:cNvPr id="565" name=""/>
                <p:cNvGrpSpPr/>
                <p:nvPr/>
              </p:nvGrpSpPr>
              <p:grpSpPr>
                <a:xfrm>
                  <a:off x="3201840" y="3818880"/>
                  <a:ext cx="231480" cy="215640"/>
                  <a:chOff x="3201840" y="3818880"/>
                  <a:chExt cx="231480" cy="215640"/>
                </a:xfrm>
              </p:grpSpPr>
              <p:sp>
                <p:nvSpPr>
                  <p:cNvPr id="566" name=""/>
                  <p:cNvSpPr/>
                  <p:nvPr/>
                </p:nvSpPr>
                <p:spPr>
                  <a:xfrm>
                    <a:off x="3201840" y="384732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3215880" y="4007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3389040" y="4007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281040" y="3818880"/>
                    <a:ext cx="74160" cy="27000"/>
                    <a:chOff x="3281040" y="3818880"/>
                    <a:chExt cx="74160" cy="2700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>
                      <a:off x="3281040" y="38188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>
                      <a:off x="3328560" y="38188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2" name=""/>
                <p:cNvSpPr/>
                <p:nvPr/>
              </p:nvSpPr>
              <p:spPr>
                <a:xfrm>
                  <a:off x="3544560" y="390636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   PO-0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544560" y="379548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3201840" y="3556080"/>
                <a:ext cx="2049480" cy="218160"/>
                <a:chOff x="3201840" y="3556080"/>
                <a:chExt cx="2049480" cy="218160"/>
              </a:xfrm>
            </p:grpSpPr>
            <p:grpSp>
              <p:nvGrpSpPr>
                <p:cNvPr id="575" name=""/>
                <p:cNvGrpSpPr/>
                <p:nvPr/>
              </p:nvGrpSpPr>
              <p:grpSpPr>
                <a:xfrm>
                  <a:off x="3201840" y="3556080"/>
                  <a:ext cx="231840" cy="191880"/>
                  <a:chOff x="3201840" y="3556080"/>
                  <a:chExt cx="231840" cy="191880"/>
                </a:xfrm>
              </p:grpSpPr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3201840" y="3591000"/>
                    <a:ext cx="231840" cy="156960"/>
                    <a:chOff x="3201840" y="3591000"/>
                    <a:chExt cx="231840" cy="15696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3201840" y="3591000"/>
                      <a:ext cx="23184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 flipV="1">
                      <a:off x="3201840" y="359424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3315600" y="359100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0" name=""/>
                  <p:cNvGrpSpPr/>
                  <p:nvPr/>
                </p:nvGrpSpPr>
                <p:grpSpPr>
                  <a:xfrm>
                    <a:off x="3281400" y="3556080"/>
                    <a:ext cx="74160" cy="27000"/>
                    <a:chOff x="3281400" y="3556080"/>
                    <a:chExt cx="74160" cy="27000"/>
                  </a:xfrm>
                </p:grpSpPr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3281400" y="35560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3328920" y="35560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83" name=""/>
                <p:cNvSpPr/>
                <p:nvPr/>
              </p:nvSpPr>
              <p:spPr>
                <a:xfrm>
                  <a:off x="3544560" y="36367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7mm Antitank Gun      PO-13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4" name=""/>
            <p:cNvSpPr/>
            <p:nvPr/>
          </p:nvSpPr>
          <p:spPr>
            <a:xfrm>
              <a:off x="3544920" y="3424320"/>
              <a:ext cx="857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TTACH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52840" y="4627440"/>
              <a:ext cx="149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E SUPPORT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3040200" y="4732200"/>
              <a:ext cx="2732760" cy="417600"/>
              <a:chOff x="3040200" y="4732200"/>
              <a:chExt cx="2732760" cy="417600"/>
            </a:xfrm>
          </p:grpSpPr>
          <p:sp>
            <p:nvSpPr>
              <p:cNvPr id="587" name=""/>
              <p:cNvSpPr/>
              <p:nvPr/>
            </p:nvSpPr>
            <p:spPr>
              <a:xfrm>
                <a:off x="3040200" y="4871880"/>
                <a:ext cx="274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3159000" y="4732200"/>
                <a:ext cx="2613960" cy="417600"/>
                <a:chOff x="3159000" y="4732200"/>
                <a:chExt cx="2613960" cy="4176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3159000" y="4732200"/>
                  <a:ext cx="291240" cy="236160"/>
                  <a:chOff x="3159000" y="4732200"/>
                  <a:chExt cx="291240" cy="236160"/>
                </a:xfrm>
              </p:grpSpPr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3159000" y="4778280"/>
                    <a:ext cx="291240" cy="190080"/>
                    <a:chOff x="3159000" y="4778280"/>
                    <a:chExt cx="291240" cy="19008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3159000" y="4778280"/>
                      <a:ext cx="291240" cy="19008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3283920" y="4851000"/>
                      <a:ext cx="3492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3" name=""/>
                  <p:cNvSpPr/>
                  <p:nvPr/>
                </p:nvSpPr>
                <p:spPr>
                  <a:xfrm>
                    <a:off x="3304440" y="4732200"/>
                    <a:ext cx="0" cy="637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4" name=""/>
                <p:cNvSpPr/>
                <p:nvPr/>
              </p:nvSpPr>
              <p:spPr>
                <a:xfrm>
                  <a:off x="3533040" y="4784400"/>
                  <a:ext cx="223992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FS-02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ight Howitzer Battery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Direct Fire Support. Not in Warsaw Mot Cav Bgd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5" name=""/>
            <p:cNvSpPr/>
            <p:nvPr/>
          </p:nvSpPr>
          <p:spPr>
            <a:xfrm flipH="1">
              <a:off x="3033720" y="974880"/>
              <a:ext cx="7920" cy="358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38400" y="4143240"/>
              <a:ext cx="0" cy="11430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514680" y="798480"/>
              <a:ext cx="1997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6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Motorized Cavalry Brigade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10th and Warsaw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038400" y="4083120"/>
              <a:ext cx="2211120" cy="521640"/>
              <a:chOff x="3038400" y="4083120"/>
              <a:chExt cx="2211120" cy="521640"/>
            </a:xfrm>
          </p:grpSpPr>
          <p:sp>
            <p:nvSpPr>
              <p:cNvPr id="599" name=""/>
              <p:cNvSpPr/>
              <p:nvPr/>
            </p:nvSpPr>
            <p:spPr>
              <a:xfrm>
                <a:off x="3038400" y="419904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228840" y="4156200"/>
                <a:ext cx="0" cy="365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3182760" y="4356000"/>
                <a:ext cx="2054160" cy="248760"/>
                <a:chOff x="3182760" y="4356000"/>
                <a:chExt cx="2054160" cy="248760"/>
              </a:xfrm>
            </p:grpSpPr>
            <p:grpSp>
              <p:nvGrpSpPr>
                <p:cNvPr id="602" name=""/>
                <p:cNvGrpSpPr/>
                <p:nvPr/>
              </p:nvGrpSpPr>
              <p:grpSpPr>
                <a:xfrm>
                  <a:off x="3182760" y="4392720"/>
                  <a:ext cx="239760" cy="210600"/>
                  <a:chOff x="3182760" y="4392720"/>
                  <a:chExt cx="239760" cy="21060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>
                    <a:off x="3182760" y="4416120"/>
                    <a:ext cx="23976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4" name=""/>
                  <p:cNvGrpSpPr/>
                  <p:nvPr/>
                </p:nvGrpSpPr>
                <p:grpSpPr>
                  <a:xfrm>
                    <a:off x="3251160" y="4576680"/>
                    <a:ext cx="104760" cy="26640"/>
                    <a:chOff x="3251160" y="4576680"/>
                    <a:chExt cx="104760" cy="26640"/>
                  </a:xfrm>
                </p:grpSpPr>
                <p:sp>
                  <p:nvSpPr>
                    <p:cNvPr id="605" name=""/>
                    <p:cNvSpPr/>
                    <p:nvPr/>
                  </p:nvSpPr>
                  <p:spPr>
                    <a:xfrm>
                      <a:off x="3251160" y="4576680"/>
                      <a:ext cx="288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>
                      <a:off x="3327480" y="45766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>
                      <a:off x="3272040" y="4576680"/>
                      <a:ext cx="61920" cy="2664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3265560" y="4392720"/>
                    <a:ext cx="74160" cy="26640"/>
                    <a:chOff x="3265560" y="4392720"/>
                    <a:chExt cx="74160" cy="266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>
                      <a:off x="3265560" y="4392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>
                      <a:off x="3313080" y="43927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11" name=""/>
                <p:cNvSpPr/>
                <p:nvPr/>
              </p:nvSpPr>
              <p:spPr>
                <a:xfrm>
                  <a:off x="3530160" y="446724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2P Artillery Tractor   web PT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530160" y="435600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3195360" y="4083120"/>
                <a:ext cx="2054160" cy="205920"/>
                <a:chOff x="3195360" y="4083120"/>
                <a:chExt cx="2054160" cy="20592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3195360" y="4083120"/>
                  <a:ext cx="239760" cy="193680"/>
                  <a:chOff x="3195360" y="4083120"/>
                  <a:chExt cx="239760" cy="193680"/>
                </a:xfrm>
              </p:grpSpPr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3195360" y="4118040"/>
                    <a:ext cx="239760" cy="158760"/>
                    <a:chOff x="3195360" y="4118040"/>
                    <a:chExt cx="239760" cy="15876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3195360" y="411984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3254040" y="4194360"/>
                      <a:ext cx="1191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V="1">
                      <a:off x="3195360" y="411984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3311280" y="4118040"/>
                      <a:ext cx="123840" cy="1558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277800" y="4083120"/>
                    <a:ext cx="74160" cy="27000"/>
                    <a:chOff x="3277800" y="4083120"/>
                    <a:chExt cx="74160" cy="2700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277800" y="40831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3325320" y="40831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23" name=""/>
                <p:cNvSpPr/>
                <p:nvPr/>
              </p:nvSpPr>
              <p:spPr>
                <a:xfrm>
                  <a:off x="3542760" y="41515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0mm AA Gun            web PT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"/>
            <p:cNvGrpSpPr/>
            <p:nvPr/>
          </p:nvGrpSpPr>
          <p:grpSpPr>
            <a:xfrm>
              <a:off x="2867040" y="762120"/>
              <a:ext cx="347760" cy="322200"/>
              <a:chOff x="2867040" y="762120"/>
              <a:chExt cx="347760" cy="322200"/>
            </a:xfrm>
          </p:grpSpPr>
          <p:sp>
            <p:nvSpPr>
              <p:cNvPr id="625" name=""/>
              <p:cNvSpPr/>
              <p:nvPr/>
            </p:nvSpPr>
            <p:spPr>
              <a:xfrm>
                <a:off x="2867040" y="847800"/>
                <a:ext cx="347760" cy="23652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870280" y="850680"/>
                <a:ext cx="339480" cy="231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978280" y="762120"/>
                <a:ext cx="1252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3544920" y="2473200"/>
              <a:ext cx="2228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G-08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ized Recon Battalion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Not in Warsaw Mot. Cav Bgde. )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534120" y="2803680"/>
              <a:ext cx="1294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11320" y="109872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51080" y="1101600"/>
              <a:ext cx="27000" cy="2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2" name=""/>
            <p:cNvGrpSpPr/>
            <p:nvPr/>
          </p:nvGrpSpPr>
          <p:grpSpPr>
            <a:xfrm>
              <a:off x="3043080" y="2409840"/>
              <a:ext cx="463680" cy="326520"/>
              <a:chOff x="3043080" y="2409840"/>
              <a:chExt cx="463680" cy="32652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3043080" y="2582640"/>
                <a:ext cx="2793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3141720" y="2464920"/>
                <a:ext cx="365040" cy="239760"/>
                <a:chOff x="3141720" y="2464920"/>
                <a:chExt cx="365040" cy="239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3141720" y="2465280"/>
                  <a:ext cx="365040" cy="2394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3141720" y="2464920"/>
                  <a:ext cx="360360" cy="23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3430440" y="27097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186000" y="2705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3286080" y="2409840"/>
                <a:ext cx="76320" cy="63360"/>
                <a:chOff x="3286080" y="2409840"/>
                <a:chExt cx="76320" cy="633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3286080" y="240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362400" y="24098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2" name=""/>
            <p:cNvGrpSpPr/>
            <p:nvPr/>
          </p:nvGrpSpPr>
          <p:grpSpPr>
            <a:xfrm>
              <a:off x="3132000" y="2062080"/>
              <a:ext cx="347400" cy="321840"/>
              <a:chOff x="3132000" y="2062080"/>
              <a:chExt cx="347400" cy="321840"/>
            </a:xfrm>
          </p:grpSpPr>
          <p:grpSp>
            <p:nvGrpSpPr>
              <p:cNvPr id="643" name=""/>
              <p:cNvGrpSpPr/>
              <p:nvPr/>
            </p:nvGrpSpPr>
            <p:grpSpPr>
              <a:xfrm>
                <a:off x="3132000" y="2112840"/>
                <a:ext cx="347400" cy="235800"/>
                <a:chOff x="3132000" y="2112840"/>
                <a:chExt cx="347400" cy="23580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3132000" y="2112840"/>
                  <a:ext cx="347400" cy="2358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 flipV="1">
                  <a:off x="3135600" y="2116080"/>
                  <a:ext cx="338760" cy="230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132000" y="2116440"/>
                  <a:ext cx="345960" cy="22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7" name=""/>
              <p:cNvSpPr/>
              <p:nvPr/>
            </p:nvSpPr>
            <p:spPr>
              <a:xfrm>
                <a:off x="3163680" y="2357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414600" y="235404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46480" y="2062080"/>
                <a:ext cx="131760" cy="64800"/>
                <a:chOff x="3246480" y="2062080"/>
                <a:chExt cx="131760" cy="6480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313440" y="2063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246480" y="2062080"/>
                  <a:ext cx="131760" cy="64800"/>
                  <a:chOff x="3246480" y="2062080"/>
                  <a:chExt cx="131760" cy="6480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246480" y="2063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78240" y="2062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54" name=""/>
            <p:cNvGrpSpPr/>
            <p:nvPr/>
          </p:nvGrpSpPr>
          <p:grpSpPr>
            <a:xfrm>
              <a:off x="3038400" y="2857680"/>
              <a:ext cx="2470320" cy="266040"/>
              <a:chOff x="3038400" y="2857680"/>
              <a:chExt cx="2470320" cy="266040"/>
            </a:xfrm>
          </p:grpSpPr>
          <p:sp>
            <p:nvSpPr>
              <p:cNvPr id="655" name=""/>
              <p:cNvSpPr/>
              <p:nvPr/>
            </p:nvSpPr>
            <p:spPr>
              <a:xfrm flipV="1">
                <a:off x="3038400" y="3024000"/>
                <a:ext cx="2793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519360" y="2965320"/>
                <a:ext cx="19893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ME-07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ankette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3178080" y="2857680"/>
                <a:ext cx="284040" cy="266040"/>
                <a:chOff x="3178080" y="2857680"/>
                <a:chExt cx="284040" cy="2660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327120" y="285768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59" name=""/>
                <p:cNvGrpSpPr/>
                <p:nvPr/>
              </p:nvGrpSpPr>
              <p:grpSpPr>
                <a:xfrm>
                  <a:off x="3178080" y="2930400"/>
                  <a:ext cx="284040" cy="193320"/>
                  <a:chOff x="3178080" y="2930400"/>
                  <a:chExt cx="284040" cy="193320"/>
                </a:xfrm>
              </p:grpSpPr>
              <p:sp>
                <p:nvSpPr>
                  <p:cNvPr id="660" name=""/>
                  <p:cNvSpPr/>
                  <p:nvPr/>
                </p:nvSpPr>
                <p:spPr>
                  <a:xfrm>
                    <a:off x="3178080" y="2930400"/>
                    <a:ext cx="284040" cy="193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229920" y="2978640"/>
                    <a:ext cx="182160" cy="9216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62" name=""/>
            <p:cNvGrpSpPr/>
            <p:nvPr/>
          </p:nvGrpSpPr>
          <p:grpSpPr>
            <a:xfrm>
              <a:off x="3029040" y="3156120"/>
              <a:ext cx="2469600" cy="266040"/>
              <a:chOff x="3029040" y="3156120"/>
              <a:chExt cx="2469600" cy="266040"/>
            </a:xfrm>
          </p:grpSpPr>
          <p:sp>
            <p:nvSpPr>
              <p:cNvPr id="663" name=""/>
              <p:cNvSpPr/>
              <p:nvPr/>
            </p:nvSpPr>
            <p:spPr>
              <a:xfrm flipV="1">
                <a:off x="3029040" y="3322440"/>
                <a:ext cx="2790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09640" y="3263760"/>
                <a:ext cx="19890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ME-08 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Light Tank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5" name=""/>
              <p:cNvGrpSpPr/>
              <p:nvPr/>
            </p:nvGrpSpPr>
            <p:grpSpPr>
              <a:xfrm>
                <a:off x="3168360" y="3156120"/>
                <a:ext cx="283680" cy="266040"/>
                <a:chOff x="3168360" y="3156120"/>
                <a:chExt cx="283680" cy="26604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317040" y="3156120"/>
                  <a:ext cx="0" cy="630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67" name=""/>
                <p:cNvGrpSpPr/>
                <p:nvPr/>
              </p:nvGrpSpPr>
              <p:grpSpPr>
                <a:xfrm>
                  <a:off x="3168360" y="3228840"/>
                  <a:ext cx="283680" cy="193320"/>
                  <a:chOff x="3168360" y="3228840"/>
                  <a:chExt cx="283680" cy="193320"/>
                </a:xfrm>
              </p:grpSpPr>
              <p:sp>
                <p:nvSpPr>
                  <p:cNvPr id="668" name=""/>
                  <p:cNvSpPr/>
                  <p:nvPr/>
                </p:nvSpPr>
                <p:spPr>
                  <a:xfrm>
                    <a:off x="3168360" y="3228840"/>
                    <a:ext cx="283680" cy="193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3220200" y="3277080"/>
                    <a:ext cx="181800" cy="9216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70" name=""/>
            <p:cNvGrpSpPr/>
            <p:nvPr/>
          </p:nvGrpSpPr>
          <p:grpSpPr>
            <a:xfrm>
              <a:off x="3035160" y="5151600"/>
              <a:ext cx="2733840" cy="295560"/>
              <a:chOff x="3035160" y="5151600"/>
              <a:chExt cx="2733840" cy="295560"/>
            </a:xfrm>
          </p:grpSpPr>
          <p:sp>
            <p:nvSpPr>
              <p:cNvPr id="671" name=""/>
              <p:cNvSpPr/>
              <p:nvPr/>
            </p:nvSpPr>
            <p:spPr>
              <a:xfrm>
                <a:off x="3035160" y="529128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" name=""/>
              <p:cNvGrpSpPr/>
              <p:nvPr/>
            </p:nvGrpSpPr>
            <p:grpSpPr>
              <a:xfrm>
                <a:off x="3154320" y="5151600"/>
                <a:ext cx="2614680" cy="295560"/>
                <a:chOff x="3154320" y="5151600"/>
                <a:chExt cx="2614680" cy="295560"/>
              </a:xfrm>
            </p:grpSpPr>
            <p:grpSp>
              <p:nvGrpSpPr>
                <p:cNvPr id="673" name=""/>
                <p:cNvGrpSpPr/>
                <p:nvPr/>
              </p:nvGrpSpPr>
              <p:grpSpPr>
                <a:xfrm>
                  <a:off x="3154320" y="5151600"/>
                  <a:ext cx="291600" cy="235440"/>
                  <a:chOff x="3154320" y="5151600"/>
                  <a:chExt cx="291600" cy="235440"/>
                </a:xfrm>
              </p:grpSpPr>
              <p:grpSp>
                <p:nvGrpSpPr>
                  <p:cNvPr id="674" name=""/>
                  <p:cNvGrpSpPr/>
                  <p:nvPr/>
                </p:nvGrpSpPr>
                <p:grpSpPr>
                  <a:xfrm>
                    <a:off x="3154320" y="5197320"/>
                    <a:ext cx="291600" cy="189720"/>
                    <a:chOff x="3154320" y="5197320"/>
                    <a:chExt cx="291600" cy="189720"/>
                  </a:xfrm>
                </p:grpSpPr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3154320" y="5197320"/>
                      <a:ext cx="291600" cy="1897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3279600" y="5270040"/>
                      <a:ext cx="34920" cy="32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760" bIns="-23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77" name=""/>
                  <p:cNvSpPr/>
                  <p:nvPr/>
                </p:nvSpPr>
                <p:spPr>
                  <a:xfrm>
                    <a:off x="3300120" y="515160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8" name=""/>
                <p:cNvSpPr/>
                <p:nvPr/>
              </p:nvSpPr>
              <p:spPr>
                <a:xfrm>
                  <a:off x="3528720" y="5203440"/>
                  <a:ext cx="22402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1" lang="en-US" sz="1000" spc="-1" strike="noStrike">
                      <a:solidFill>
                        <a:srgbClr val="cc3300"/>
                      </a:solidFill>
                      <a:latin typeface="Arial"/>
                    </a:rPr>
                    <a:t> FS-06 </a:t>
                  </a: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ight Field Gun Battery   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x2 in Warsaw Mot Cav Bgd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79" name=""/>
          <p:cNvGrpSpPr/>
          <p:nvPr/>
        </p:nvGrpSpPr>
        <p:grpSpPr>
          <a:xfrm>
            <a:off x="185760" y="3154320"/>
            <a:ext cx="2782800" cy="2698200"/>
            <a:chOff x="185760" y="3154320"/>
            <a:chExt cx="2782800" cy="2698200"/>
          </a:xfrm>
        </p:grpSpPr>
        <p:grpSp>
          <p:nvGrpSpPr>
            <p:cNvPr id="680" name=""/>
            <p:cNvGrpSpPr/>
            <p:nvPr/>
          </p:nvGrpSpPr>
          <p:grpSpPr>
            <a:xfrm>
              <a:off x="366840" y="3535200"/>
              <a:ext cx="2251080" cy="712440"/>
              <a:chOff x="366840" y="3535200"/>
              <a:chExt cx="2251080" cy="712440"/>
            </a:xfrm>
          </p:grpSpPr>
          <p:sp>
            <p:nvSpPr>
              <p:cNvPr id="681" name=""/>
              <p:cNvSpPr/>
              <p:nvPr/>
            </p:nvSpPr>
            <p:spPr>
              <a:xfrm>
                <a:off x="585720" y="3898800"/>
                <a:ext cx="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66840" y="3878280"/>
                <a:ext cx="207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514440" y="3703680"/>
                <a:ext cx="2103480" cy="282600"/>
                <a:chOff x="514440" y="3703680"/>
                <a:chExt cx="2103480" cy="282600"/>
              </a:xfrm>
            </p:grpSpPr>
            <p:grpSp>
              <p:nvGrpSpPr>
                <p:cNvPr id="684" name=""/>
                <p:cNvGrpSpPr/>
                <p:nvPr/>
              </p:nvGrpSpPr>
              <p:grpSpPr>
                <a:xfrm>
                  <a:off x="514440" y="3768840"/>
                  <a:ext cx="237960" cy="188640"/>
                  <a:chOff x="514440" y="3768840"/>
                  <a:chExt cx="237960" cy="18864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>
                    <a:off x="514440" y="379872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19200" y="3768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7" name=""/>
                <p:cNvSpPr/>
                <p:nvPr/>
              </p:nvSpPr>
              <p:spPr>
                <a:xfrm>
                  <a:off x="860400" y="383868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860400" y="370368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517320" y="3983040"/>
                <a:ext cx="2049480" cy="264600"/>
                <a:chOff x="517320" y="3983040"/>
                <a:chExt cx="2049480" cy="26460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517320" y="4017960"/>
                  <a:ext cx="231840" cy="228600"/>
                  <a:chOff x="517320" y="4017960"/>
                  <a:chExt cx="231840" cy="22860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517320" y="4059360"/>
                    <a:ext cx="23184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523800" y="42195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704880" y="42195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19200" y="40179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5" name=""/>
                <p:cNvSpPr/>
                <p:nvPr/>
              </p:nvSpPr>
              <p:spPr>
                <a:xfrm>
                  <a:off x="860040" y="41101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860040" y="398304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" name=""/>
              <p:cNvSpPr/>
              <p:nvPr/>
            </p:nvSpPr>
            <p:spPr>
              <a:xfrm>
                <a:off x="860760" y="353520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841320" y="3209760"/>
              <a:ext cx="199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7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otorized Rifle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360360" y="3348000"/>
              <a:ext cx="7920" cy="214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366840" y="4282920"/>
              <a:ext cx="2601720" cy="333720"/>
              <a:chOff x="366840" y="4282920"/>
              <a:chExt cx="2601720" cy="333720"/>
            </a:xfrm>
          </p:grpSpPr>
          <p:sp>
            <p:nvSpPr>
              <p:cNvPr id="701" name=""/>
              <p:cNvSpPr/>
              <p:nvPr/>
            </p:nvSpPr>
            <p:spPr>
              <a:xfrm flipV="1">
                <a:off x="366840" y="4536720"/>
                <a:ext cx="27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65080" y="4464000"/>
                <a:ext cx="2103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ME-0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otorized Rifle Squadr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080" y="428292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58640" y="4359240"/>
              <a:ext cx="347400" cy="322200"/>
              <a:chOff x="458640" y="4359240"/>
              <a:chExt cx="347400" cy="322200"/>
            </a:xfrm>
          </p:grpSpPr>
          <p:grpSp>
            <p:nvGrpSpPr>
              <p:cNvPr id="705" name=""/>
              <p:cNvGrpSpPr/>
              <p:nvPr/>
            </p:nvGrpSpPr>
            <p:grpSpPr>
              <a:xfrm>
                <a:off x="458640" y="4419360"/>
                <a:ext cx="347400" cy="236160"/>
                <a:chOff x="458640" y="4419360"/>
                <a:chExt cx="347400" cy="23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58640" y="4419360"/>
                  <a:ext cx="347400" cy="2361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462240" y="442296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58640" y="442296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" name=""/>
              <p:cNvSpPr/>
              <p:nvPr/>
            </p:nvSpPr>
            <p:spPr>
              <a:xfrm>
                <a:off x="490680" y="465444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1240" y="465120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46200" y="43592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185760" y="3154320"/>
              <a:ext cx="347400" cy="321840"/>
              <a:chOff x="185760" y="3154320"/>
              <a:chExt cx="347400" cy="321840"/>
            </a:xfrm>
          </p:grpSpPr>
          <p:grpSp>
            <p:nvGrpSpPr>
              <p:cNvPr id="713" name=""/>
              <p:cNvGrpSpPr/>
              <p:nvPr/>
            </p:nvGrpSpPr>
            <p:grpSpPr>
              <a:xfrm>
                <a:off x="185760" y="3205080"/>
                <a:ext cx="347400" cy="235800"/>
                <a:chOff x="185760" y="3205080"/>
                <a:chExt cx="347400" cy="2358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185760" y="3205080"/>
                  <a:ext cx="347400" cy="2358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V="1">
                  <a:off x="189360" y="3208320"/>
                  <a:ext cx="338760" cy="2307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185760" y="3208680"/>
                  <a:ext cx="345960" cy="225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7" name=""/>
              <p:cNvSpPr/>
              <p:nvPr/>
            </p:nvSpPr>
            <p:spPr>
              <a:xfrm>
                <a:off x="217440" y="3449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68360" y="344628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9" name=""/>
              <p:cNvGrpSpPr/>
              <p:nvPr/>
            </p:nvGrpSpPr>
            <p:grpSpPr>
              <a:xfrm>
                <a:off x="300240" y="3154320"/>
                <a:ext cx="131760" cy="64800"/>
                <a:chOff x="300240" y="3154320"/>
                <a:chExt cx="131760" cy="6480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367200" y="31557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1" name=""/>
                <p:cNvGrpSpPr/>
                <p:nvPr/>
              </p:nvGrpSpPr>
              <p:grpSpPr>
                <a:xfrm>
                  <a:off x="300240" y="3154320"/>
                  <a:ext cx="131760" cy="64800"/>
                  <a:chOff x="300240" y="3154320"/>
                  <a:chExt cx="131760" cy="6480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>
                    <a:off x="300240" y="315576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32000" y="31543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24" name=""/>
            <p:cNvGrpSpPr/>
            <p:nvPr/>
          </p:nvGrpSpPr>
          <p:grpSpPr>
            <a:xfrm>
              <a:off x="369720" y="4673520"/>
              <a:ext cx="2219400" cy="1179000"/>
              <a:chOff x="369720" y="4673520"/>
              <a:chExt cx="2219400" cy="1179000"/>
            </a:xfrm>
          </p:grpSpPr>
          <p:sp>
            <p:nvSpPr>
              <p:cNvPr id="725" name=""/>
              <p:cNvSpPr/>
              <p:nvPr/>
            </p:nvSpPr>
            <p:spPr>
              <a:xfrm>
                <a:off x="574560" y="4930560"/>
                <a:ext cx="4680" cy="758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6" name=""/>
              <p:cNvGrpSpPr/>
              <p:nvPr/>
            </p:nvGrpSpPr>
            <p:grpSpPr>
              <a:xfrm>
                <a:off x="539640" y="5603760"/>
                <a:ext cx="2049480" cy="248760"/>
                <a:chOff x="539640" y="5603760"/>
                <a:chExt cx="2049480" cy="248760"/>
              </a:xfrm>
            </p:grpSpPr>
            <p:grpSp>
              <p:nvGrpSpPr>
                <p:cNvPr id="727" name=""/>
                <p:cNvGrpSpPr/>
                <p:nvPr/>
              </p:nvGrpSpPr>
              <p:grpSpPr>
                <a:xfrm>
                  <a:off x="539640" y="5627520"/>
                  <a:ext cx="231480" cy="215640"/>
                  <a:chOff x="539640" y="5627520"/>
                  <a:chExt cx="231480" cy="215640"/>
                </a:xfrm>
              </p:grpSpPr>
              <p:sp>
                <p:nvSpPr>
                  <p:cNvPr id="728" name=""/>
                  <p:cNvSpPr/>
                  <p:nvPr/>
                </p:nvSpPr>
                <p:spPr>
                  <a:xfrm>
                    <a:off x="539640" y="565596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553680" y="5816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726840" y="58161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31" name=""/>
                  <p:cNvGrpSpPr/>
                  <p:nvPr/>
                </p:nvGrpSpPr>
                <p:grpSpPr>
                  <a:xfrm>
                    <a:off x="618840" y="5627520"/>
                    <a:ext cx="74160" cy="27000"/>
                    <a:chOff x="618840" y="5627520"/>
                    <a:chExt cx="74160" cy="27000"/>
                  </a:xfrm>
                </p:grpSpPr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618840" y="56275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666360" y="562752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734" name=""/>
                <p:cNvSpPr/>
                <p:nvPr/>
              </p:nvSpPr>
              <p:spPr>
                <a:xfrm>
                  <a:off x="882360" y="571500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882360" y="560376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" name=""/>
              <p:cNvSpPr/>
              <p:nvPr/>
            </p:nvSpPr>
            <p:spPr>
              <a:xfrm>
                <a:off x="871560" y="467352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7" name=""/>
              <p:cNvGrpSpPr/>
              <p:nvPr/>
            </p:nvGrpSpPr>
            <p:grpSpPr>
              <a:xfrm>
                <a:off x="369720" y="4795560"/>
                <a:ext cx="2208240" cy="206280"/>
                <a:chOff x="369720" y="4795560"/>
                <a:chExt cx="2208240" cy="20628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369720" y="4924440"/>
                  <a:ext cx="25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871560" y="4857480"/>
                  <a:ext cx="1706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4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dium Machine Gun  PO-18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40" name=""/>
                <p:cNvGrpSpPr/>
                <p:nvPr/>
              </p:nvGrpSpPr>
              <p:grpSpPr>
                <a:xfrm>
                  <a:off x="531720" y="4795560"/>
                  <a:ext cx="236520" cy="206280"/>
                  <a:chOff x="531720" y="4795560"/>
                  <a:chExt cx="236520" cy="206280"/>
                </a:xfrm>
              </p:grpSpPr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608040" y="4795560"/>
                    <a:ext cx="74160" cy="27000"/>
                    <a:chOff x="608040" y="4795560"/>
                    <a:chExt cx="74160" cy="2700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608040" y="479556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655560" y="47955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31720" y="4836600"/>
                    <a:ext cx="236520" cy="165240"/>
                    <a:chOff x="531720" y="4836600"/>
                    <a:chExt cx="236520" cy="16524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531720" y="4841640"/>
                      <a:ext cx="231480" cy="1573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flipV="1">
                      <a:off x="537840" y="4836600"/>
                      <a:ext cx="230400" cy="142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549000" y="4865400"/>
                      <a:ext cx="21924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531720" y="4848120"/>
                      <a:ext cx="50760" cy="14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49" name=""/>
              <p:cNvGrpSpPr/>
              <p:nvPr/>
            </p:nvGrpSpPr>
            <p:grpSpPr>
              <a:xfrm>
                <a:off x="372960" y="5079960"/>
                <a:ext cx="2208240" cy="218520"/>
                <a:chOff x="372960" y="5079960"/>
                <a:chExt cx="2208240" cy="2185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372960" y="5199120"/>
                  <a:ext cx="25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1" name=""/>
                <p:cNvGrpSpPr/>
                <p:nvPr/>
              </p:nvGrpSpPr>
              <p:grpSpPr>
                <a:xfrm>
                  <a:off x="531720" y="5079960"/>
                  <a:ext cx="2049480" cy="218520"/>
                  <a:chOff x="531720" y="5079960"/>
                  <a:chExt cx="2049480" cy="218520"/>
                </a:xfrm>
              </p:grpSpPr>
              <p:grpSp>
                <p:nvGrpSpPr>
                  <p:cNvPr id="752" name=""/>
                  <p:cNvGrpSpPr/>
                  <p:nvPr/>
                </p:nvGrpSpPr>
                <p:grpSpPr>
                  <a:xfrm>
                    <a:off x="531720" y="5079960"/>
                    <a:ext cx="231840" cy="191880"/>
                    <a:chOff x="531720" y="5079960"/>
                    <a:chExt cx="231840" cy="191880"/>
                  </a:xfrm>
                </p:grpSpPr>
                <p:grpSp>
                  <p:nvGrpSpPr>
                    <p:cNvPr id="753" name=""/>
                    <p:cNvGrpSpPr/>
                    <p:nvPr/>
                  </p:nvGrpSpPr>
                  <p:grpSpPr>
                    <a:xfrm>
                      <a:off x="531720" y="5114880"/>
                      <a:ext cx="231840" cy="156960"/>
                      <a:chOff x="531720" y="5114880"/>
                      <a:chExt cx="231840" cy="156960"/>
                    </a:xfrm>
                  </p:grpSpPr>
                  <p:sp>
                    <p:nvSpPr>
                      <p:cNvPr id="754" name=""/>
                      <p:cNvSpPr/>
                      <p:nvPr/>
                    </p:nvSpPr>
                    <p:spPr>
                      <a:xfrm>
                        <a:off x="531720" y="511488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5" name=""/>
                      <p:cNvSpPr/>
                      <p:nvPr/>
                    </p:nvSpPr>
                    <p:spPr>
                      <a:xfrm flipV="1">
                        <a:off x="531720" y="511812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6" name=""/>
                      <p:cNvSpPr/>
                      <p:nvPr/>
                    </p:nvSpPr>
                    <p:spPr>
                      <a:xfrm>
                        <a:off x="645480" y="511488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7" name=""/>
                    <p:cNvGrpSpPr/>
                    <p:nvPr/>
                  </p:nvGrpSpPr>
                  <p:grpSpPr>
                    <a:xfrm>
                      <a:off x="611280" y="5079960"/>
                      <a:ext cx="74160" cy="27000"/>
                      <a:chOff x="611280" y="5079960"/>
                      <a:chExt cx="74160" cy="27000"/>
                    </a:xfrm>
                  </p:grpSpPr>
                  <p:sp>
                    <p:nvSpPr>
                      <p:cNvPr id="758" name=""/>
                      <p:cNvSpPr/>
                      <p:nvPr/>
                    </p:nvSpPr>
                    <p:spPr>
                      <a:xfrm>
                        <a:off x="611280" y="507996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9" name=""/>
                      <p:cNvSpPr/>
                      <p:nvPr/>
                    </p:nvSpPr>
                    <p:spPr>
                      <a:xfrm>
                        <a:off x="658800" y="507996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60" name=""/>
                  <p:cNvSpPr/>
                  <p:nvPr/>
                </p:nvSpPr>
                <p:spPr>
                  <a:xfrm>
                    <a:off x="874440" y="516096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37mm Antitank Gun      PO-13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61" name=""/>
              <p:cNvGrpSpPr/>
              <p:nvPr/>
            </p:nvGrpSpPr>
            <p:grpSpPr>
              <a:xfrm>
                <a:off x="371520" y="5376600"/>
                <a:ext cx="2208240" cy="198720"/>
                <a:chOff x="371520" y="5376600"/>
                <a:chExt cx="2208240" cy="198720"/>
              </a:xfrm>
            </p:grpSpPr>
            <p:sp>
              <p:nvSpPr>
                <p:cNvPr id="762" name=""/>
                <p:cNvSpPr/>
                <p:nvPr/>
              </p:nvSpPr>
              <p:spPr>
                <a:xfrm>
                  <a:off x="873000" y="541008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81mm Mortar                PO-20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71520" y="5495760"/>
                  <a:ext cx="252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4" name=""/>
                <p:cNvGrpSpPr/>
                <p:nvPr/>
              </p:nvGrpSpPr>
              <p:grpSpPr>
                <a:xfrm>
                  <a:off x="530280" y="5376600"/>
                  <a:ext cx="239760" cy="198720"/>
                  <a:chOff x="530280" y="5376600"/>
                  <a:chExt cx="239760" cy="198720"/>
                </a:xfrm>
              </p:grpSpPr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609480" y="5376600"/>
                    <a:ext cx="74880" cy="27000"/>
                    <a:chOff x="609480" y="5376600"/>
                    <a:chExt cx="74880" cy="2700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609480" y="5376600"/>
                      <a:ext cx="288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657360" y="53766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68" name=""/>
                  <p:cNvGrpSpPr/>
                  <p:nvPr/>
                </p:nvGrpSpPr>
                <p:grpSpPr>
                  <a:xfrm>
                    <a:off x="530280" y="5418000"/>
                    <a:ext cx="239760" cy="157320"/>
                    <a:chOff x="530280" y="5418000"/>
                    <a:chExt cx="239760" cy="157320"/>
                  </a:xfrm>
                </p:grpSpPr>
                <p:sp>
                  <p:nvSpPr>
                    <p:cNvPr id="769" name=""/>
                    <p:cNvSpPr/>
                    <p:nvPr/>
                  </p:nvSpPr>
                  <p:spPr>
                    <a:xfrm>
                      <a:off x="530280" y="5418000"/>
                      <a:ext cx="239760" cy="1573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V="1">
                      <a:off x="614520" y="5533920"/>
                      <a:ext cx="6336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646200" y="5449680"/>
                      <a:ext cx="0" cy="842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772" name=""/>
          <p:cNvGrpSpPr/>
          <p:nvPr/>
        </p:nvGrpSpPr>
        <p:grpSpPr>
          <a:xfrm>
            <a:off x="5883120" y="851040"/>
            <a:ext cx="3119400" cy="2763360"/>
            <a:chOff x="5883120" y="851040"/>
            <a:chExt cx="3119400" cy="2763360"/>
          </a:xfrm>
        </p:grpSpPr>
        <p:grpSp>
          <p:nvGrpSpPr>
            <p:cNvPr id="773" name=""/>
            <p:cNvGrpSpPr/>
            <p:nvPr/>
          </p:nvGrpSpPr>
          <p:grpSpPr>
            <a:xfrm>
              <a:off x="6067440" y="1297080"/>
              <a:ext cx="2251080" cy="712440"/>
              <a:chOff x="6067440" y="1297080"/>
              <a:chExt cx="2251080" cy="712440"/>
            </a:xfrm>
          </p:grpSpPr>
          <p:sp>
            <p:nvSpPr>
              <p:cNvPr id="774" name=""/>
              <p:cNvSpPr/>
              <p:nvPr/>
            </p:nvSpPr>
            <p:spPr>
              <a:xfrm>
                <a:off x="6286320" y="1660680"/>
                <a:ext cx="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067440" y="1640160"/>
                <a:ext cx="20772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6215040" y="1465560"/>
                <a:ext cx="2103480" cy="282600"/>
                <a:chOff x="6215040" y="1465560"/>
                <a:chExt cx="2103480" cy="282600"/>
              </a:xfrm>
            </p:grpSpPr>
            <p:grpSp>
              <p:nvGrpSpPr>
                <p:cNvPr id="777" name=""/>
                <p:cNvGrpSpPr/>
                <p:nvPr/>
              </p:nvGrpSpPr>
              <p:grpSpPr>
                <a:xfrm>
                  <a:off x="6215040" y="1530720"/>
                  <a:ext cx="237960" cy="188640"/>
                  <a:chOff x="6215040" y="1530720"/>
                  <a:chExt cx="237960" cy="18864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6215040" y="156060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6319800" y="1530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0" name=""/>
                <p:cNvSpPr/>
                <p:nvPr/>
              </p:nvSpPr>
              <p:spPr>
                <a:xfrm>
                  <a:off x="6561000" y="160056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6561000" y="146556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6217920" y="1744920"/>
                <a:ext cx="2049480" cy="264600"/>
                <a:chOff x="6217920" y="1744920"/>
                <a:chExt cx="2049480" cy="264600"/>
              </a:xfrm>
            </p:grpSpPr>
            <p:grpSp>
              <p:nvGrpSpPr>
                <p:cNvPr id="783" name=""/>
                <p:cNvGrpSpPr/>
                <p:nvPr/>
              </p:nvGrpSpPr>
              <p:grpSpPr>
                <a:xfrm>
                  <a:off x="6217920" y="1779840"/>
                  <a:ext cx="231840" cy="228600"/>
                  <a:chOff x="6217920" y="1779840"/>
                  <a:chExt cx="231840" cy="228600"/>
                </a:xfrm>
              </p:grpSpPr>
              <p:sp>
                <p:nvSpPr>
                  <p:cNvPr id="784" name=""/>
                  <p:cNvSpPr/>
                  <p:nvPr/>
                </p:nvSpPr>
                <p:spPr>
                  <a:xfrm>
                    <a:off x="6217920" y="1821240"/>
                    <a:ext cx="23184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6224400" y="19814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6405480" y="19814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>
                    <a:off x="6319800" y="17798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8" name=""/>
                <p:cNvSpPr/>
                <p:nvPr/>
              </p:nvSpPr>
              <p:spPr>
                <a:xfrm>
                  <a:off x="6560640" y="187200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0640" y="174492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0" name=""/>
              <p:cNvSpPr/>
              <p:nvPr/>
            </p:nvSpPr>
            <p:spPr>
              <a:xfrm>
                <a:off x="6561360" y="129708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6541920" y="971640"/>
              <a:ext cx="1997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8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Motorized Recon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060960" y="1109880"/>
              <a:ext cx="7920" cy="214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6064200" y="2733840"/>
              <a:ext cx="2225520" cy="880560"/>
              <a:chOff x="6064200" y="2733840"/>
              <a:chExt cx="2225520" cy="880560"/>
            </a:xfrm>
          </p:grpSpPr>
          <p:sp>
            <p:nvSpPr>
              <p:cNvPr id="794" name=""/>
              <p:cNvSpPr/>
              <p:nvPr/>
            </p:nvSpPr>
            <p:spPr>
              <a:xfrm>
                <a:off x="6275160" y="2997360"/>
                <a:ext cx="5040" cy="48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5" name=""/>
              <p:cNvGrpSpPr/>
              <p:nvPr/>
            </p:nvGrpSpPr>
            <p:grpSpPr>
              <a:xfrm>
                <a:off x="6240240" y="3365640"/>
                <a:ext cx="2049480" cy="248760"/>
                <a:chOff x="6240240" y="3365640"/>
                <a:chExt cx="2049480" cy="248760"/>
              </a:xfrm>
            </p:grpSpPr>
            <p:grpSp>
              <p:nvGrpSpPr>
                <p:cNvPr id="796" name=""/>
                <p:cNvGrpSpPr/>
                <p:nvPr/>
              </p:nvGrpSpPr>
              <p:grpSpPr>
                <a:xfrm>
                  <a:off x="6240240" y="3389400"/>
                  <a:ext cx="231480" cy="215640"/>
                  <a:chOff x="6240240" y="3389400"/>
                  <a:chExt cx="231480" cy="21564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6240240" y="341784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6254280" y="35780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6427440" y="35780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00" name=""/>
                  <p:cNvGrpSpPr/>
                  <p:nvPr/>
                </p:nvGrpSpPr>
                <p:grpSpPr>
                  <a:xfrm>
                    <a:off x="6319440" y="3389400"/>
                    <a:ext cx="74160" cy="27000"/>
                    <a:chOff x="6319440" y="3389400"/>
                    <a:chExt cx="74160" cy="27000"/>
                  </a:xfrm>
                </p:grpSpPr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6319440" y="33894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6366960" y="338940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803" name=""/>
                <p:cNvSpPr/>
                <p:nvPr/>
              </p:nvSpPr>
              <p:spPr>
                <a:xfrm>
                  <a:off x="6582960" y="347688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   PO-0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6582960" y="336564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5" name=""/>
              <p:cNvSpPr/>
              <p:nvPr/>
            </p:nvSpPr>
            <p:spPr>
              <a:xfrm>
                <a:off x="6583320" y="2733840"/>
                <a:ext cx="857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TTACH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6" name=""/>
              <p:cNvGrpSpPr/>
              <p:nvPr/>
            </p:nvGrpSpPr>
            <p:grpSpPr>
              <a:xfrm>
                <a:off x="6070320" y="2843280"/>
                <a:ext cx="2208240" cy="205920"/>
                <a:chOff x="6070320" y="2843280"/>
                <a:chExt cx="2208240" cy="20592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6070320" y="2971800"/>
                  <a:ext cx="25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6572160" y="2904840"/>
                  <a:ext cx="170640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2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dium Machine Gun  PO-18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" name=""/>
                <p:cNvGrpSpPr/>
                <p:nvPr/>
              </p:nvGrpSpPr>
              <p:grpSpPr>
                <a:xfrm>
                  <a:off x="6232320" y="2843280"/>
                  <a:ext cx="236520" cy="205920"/>
                  <a:chOff x="6232320" y="2843280"/>
                  <a:chExt cx="236520" cy="205920"/>
                </a:xfrm>
              </p:grpSpPr>
              <p:grpSp>
                <p:nvGrpSpPr>
                  <p:cNvPr id="810" name=""/>
                  <p:cNvGrpSpPr/>
                  <p:nvPr/>
                </p:nvGrpSpPr>
                <p:grpSpPr>
                  <a:xfrm>
                    <a:off x="6308640" y="2843280"/>
                    <a:ext cx="74160" cy="26640"/>
                    <a:chOff x="6308640" y="2843280"/>
                    <a:chExt cx="74160" cy="26640"/>
                  </a:xfrm>
                </p:grpSpPr>
                <p:sp>
                  <p:nvSpPr>
                    <p:cNvPr id="811" name=""/>
                    <p:cNvSpPr/>
                    <p:nvPr/>
                  </p:nvSpPr>
                  <p:spPr>
                    <a:xfrm>
                      <a:off x="6308640" y="28432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6356160" y="28432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3" name=""/>
                  <p:cNvGrpSpPr/>
                  <p:nvPr/>
                </p:nvGrpSpPr>
                <p:grpSpPr>
                  <a:xfrm>
                    <a:off x="6232320" y="2883960"/>
                    <a:ext cx="236520" cy="165240"/>
                    <a:chOff x="6232320" y="2883960"/>
                    <a:chExt cx="236520" cy="165240"/>
                  </a:xfrm>
                </p:grpSpPr>
                <p:sp>
                  <p:nvSpPr>
                    <p:cNvPr id="814" name=""/>
                    <p:cNvSpPr/>
                    <p:nvPr/>
                  </p:nvSpPr>
                  <p:spPr>
                    <a:xfrm>
                      <a:off x="6232320" y="2889000"/>
                      <a:ext cx="231480" cy="1573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" name=""/>
                    <p:cNvSpPr/>
                    <p:nvPr/>
                  </p:nvSpPr>
                  <p:spPr>
                    <a:xfrm flipV="1">
                      <a:off x="6238440" y="2883960"/>
                      <a:ext cx="230400" cy="142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6249600" y="2912760"/>
                      <a:ext cx="219240" cy="136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6232320" y="2895480"/>
                      <a:ext cx="50760" cy="1458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cc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18" name=""/>
              <p:cNvGrpSpPr/>
              <p:nvPr/>
            </p:nvGrpSpPr>
            <p:grpSpPr>
              <a:xfrm>
                <a:off x="6064200" y="3127680"/>
                <a:ext cx="2208240" cy="218520"/>
                <a:chOff x="6064200" y="3127680"/>
                <a:chExt cx="2208240" cy="21852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6064200" y="3246840"/>
                  <a:ext cx="25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0" name=""/>
                <p:cNvGrpSpPr/>
                <p:nvPr/>
              </p:nvGrpSpPr>
              <p:grpSpPr>
                <a:xfrm>
                  <a:off x="6222960" y="3127680"/>
                  <a:ext cx="2049480" cy="218520"/>
                  <a:chOff x="6222960" y="3127680"/>
                  <a:chExt cx="2049480" cy="218520"/>
                </a:xfrm>
              </p:grpSpPr>
              <p:grpSp>
                <p:nvGrpSpPr>
                  <p:cNvPr id="821" name=""/>
                  <p:cNvGrpSpPr/>
                  <p:nvPr/>
                </p:nvGrpSpPr>
                <p:grpSpPr>
                  <a:xfrm>
                    <a:off x="6222960" y="3127680"/>
                    <a:ext cx="231840" cy="191880"/>
                    <a:chOff x="6222960" y="3127680"/>
                    <a:chExt cx="231840" cy="191880"/>
                  </a:xfrm>
                </p:grpSpPr>
                <p:grpSp>
                  <p:nvGrpSpPr>
                    <p:cNvPr id="822" name=""/>
                    <p:cNvGrpSpPr/>
                    <p:nvPr/>
                  </p:nvGrpSpPr>
                  <p:grpSpPr>
                    <a:xfrm>
                      <a:off x="6222960" y="3162600"/>
                      <a:ext cx="231840" cy="156960"/>
                      <a:chOff x="6222960" y="3162600"/>
                      <a:chExt cx="231840" cy="156960"/>
                    </a:xfrm>
                  </p:grpSpPr>
                  <p:sp>
                    <p:nvSpPr>
                      <p:cNvPr id="823" name=""/>
                      <p:cNvSpPr/>
                      <p:nvPr/>
                    </p:nvSpPr>
                    <p:spPr>
                      <a:xfrm>
                        <a:off x="6222960" y="316260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cc33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/>
                      <p:nvPr/>
                    </p:nvSpPr>
                    <p:spPr>
                      <a:xfrm flipV="1">
                        <a:off x="6222960" y="3165840"/>
                        <a:ext cx="113760" cy="15192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5" name=""/>
                      <p:cNvSpPr/>
                      <p:nvPr/>
                    </p:nvSpPr>
                    <p:spPr>
                      <a:xfrm>
                        <a:off x="6336720" y="3162600"/>
                        <a:ext cx="11376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6" name=""/>
                    <p:cNvGrpSpPr/>
                    <p:nvPr/>
                  </p:nvGrpSpPr>
                  <p:grpSpPr>
                    <a:xfrm>
                      <a:off x="6302520" y="3127680"/>
                      <a:ext cx="74160" cy="27000"/>
                      <a:chOff x="6302520" y="3127680"/>
                      <a:chExt cx="74160" cy="27000"/>
                    </a:xfrm>
                  </p:grpSpPr>
                  <p:sp>
                    <p:nvSpPr>
                      <p:cNvPr id="827" name=""/>
                      <p:cNvSpPr/>
                      <p:nvPr/>
                    </p:nvSpPr>
                    <p:spPr>
                      <a:xfrm>
                        <a:off x="6302520" y="3127680"/>
                        <a:ext cx="284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8" name=""/>
                      <p:cNvSpPr/>
                      <p:nvPr/>
                    </p:nvSpPr>
                    <p:spPr>
                      <a:xfrm>
                        <a:off x="6350040" y="31276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29" name=""/>
                  <p:cNvSpPr/>
                  <p:nvPr/>
                </p:nvSpPr>
                <p:spPr>
                  <a:xfrm>
                    <a:off x="6565680" y="3208680"/>
                    <a:ext cx="1706760" cy="13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56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x1 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37mm Antitank Gun      PO-13</a:t>
                    </a: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 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30" name=""/>
            <p:cNvGrpSpPr/>
            <p:nvPr/>
          </p:nvGrpSpPr>
          <p:grpSpPr>
            <a:xfrm>
              <a:off x="5883120" y="851040"/>
              <a:ext cx="364320" cy="284760"/>
              <a:chOff x="5883120" y="851040"/>
              <a:chExt cx="364320" cy="284760"/>
            </a:xfrm>
          </p:grpSpPr>
          <p:grpSp>
            <p:nvGrpSpPr>
              <p:cNvPr id="831" name=""/>
              <p:cNvGrpSpPr/>
              <p:nvPr/>
            </p:nvGrpSpPr>
            <p:grpSpPr>
              <a:xfrm>
                <a:off x="5883120" y="896400"/>
                <a:ext cx="364320" cy="239400"/>
                <a:chOff x="5883120" y="896400"/>
                <a:chExt cx="364320" cy="239400"/>
              </a:xfrm>
            </p:grpSpPr>
            <p:grpSp>
              <p:nvGrpSpPr>
                <p:cNvPr id="832" name=""/>
                <p:cNvGrpSpPr/>
                <p:nvPr/>
              </p:nvGrpSpPr>
              <p:grpSpPr>
                <a:xfrm>
                  <a:off x="5883120" y="896760"/>
                  <a:ext cx="364320" cy="239040"/>
                  <a:chOff x="5883120" y="896760"/>
                  <a:chExt cx="364320" cy="2390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5883120" y="896760"/>
                    <a:ext cx="364320" cy="2390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5950080" y="956520"/>
                    <a:ext cx="230400" cy="11412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" name=""/>
                <p:cNvSpPr/>
                <p:nvPr/>
              </p:nvSpPr>
              <p:spPr>
                <a:xfrm flipV="1">
                  <a:off x="5883120" y="896400"/>
                  <a:ext cx="359280" cy="2394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6027840" y="851040"/>
                <a:ext cx="75960" cy="63360"/>
                <a:chOff x="6027840" y="851040"/>
                <a:chExt cx="75960" cy="6336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6027840" y="851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103800" y="85104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39" name=""/>
            <p:cNvSpPr/>
            <p:nvPr/>
          </p:nvSpPr>
          <p:spPr>
            <a:xfrm>
              <a:off x="6583680" y="2044800"/>
              <a:ext cx="1294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NEUVER ELE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6067440" y="2140200"/>
              <a:ext cx="2935080" cy="241200"/>
              <a:chOff x="6067440" y="2140200"/>
              <a:chExt cx="2935080" cy="241200"/>
            </a:xfrm>
          </p:grpSpPr>
          <p:sp>
            <p:nvSpPr>
              <p:cNvPr id="841" name=""/>
              <p:cNvSpPr/>
              <p:nvPr/>
            </p:nvSpPr>
            <p:spPr>
              <a:xfrm flipV="1">
                <a:off x="6067440" y="2298960"/>
                <a:ext cx="2793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565680" y="2225880"/>
                <a:ext cx="243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ME-05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dependent Recon Tank Co.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3" name=""/>
              <p:cNvGrpSpPr/>
              <p:nvPr/>
            </p:nvGrpSpPr>
            <p:grpSpPr>
              <a:xfrm>
                <a:off x="6200640" y="2140200"/>
                <a:ext cx="291960" cy="241200"/>
                <a:chOff x="6200640" y="2140200"/>
                <a:chExt cx="291960" cy="241200"/>
              </a:xfrm>
            </p:grpSpPr>
            <p:grpSp>
              <p:nvGrpSpPr>
                <p:cNvPr id="844" name=""/>
                <p:cNvGrpSpPr/>
                <p:nvPr/>
              </p:nvGrpSpPr>
              <p:grpSpPr>
                <a:xfrm>
                  <a:off x="6200640" y="2190600"/>
                  <a:ext cx="291960" cy="190800"/>
                  <a:chOff x="6200640" y="2190600"/>
                  <a:chExt cx="291960" cy="190800"/>
                </a:xfrm>
              </p:grpSpPr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6200640" y="2190960"/>
                    <a:ext cx="291960" cy="190440"/>
                    <a:chOff x="6200640" y="2190960"/>
                    <a:chExt cx="291960" cy="190440"/>
                  </a:xfrm>
                </p:grpSpPr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6200640" y="2190960"/>
                      <a:ext cx="291960" cy="19044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6254280" y="2238480"/>
                      <a:ext cx="184320" cy="9072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48" name=""/>
                  <p:cNvSpPr/>
                  <p:nvPr/>
                </p:nvSpPr>
                <p:spPr>
                  <a:xfrm flipV="1">
                    <a:off x="6200640" y="219060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9" name=""/>
                <p:cNvSpPr/>
                <p:nvPr/>
              </p:nvSpPr>
              <p:spPr>
                <a:xfrm>
                  <a:off x="6346800" y="21402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0" name=""/>
            <p:cNvGrpSpPr/>
            <p:nvPr/>
          </p:nvGrpSpPr>
          <p:grpSpPr>
            <a:xfrm>
              <a:off x="6057720" y="2416320"/>
              <a:ext cx="2944800" cy="301320"/>
              <a:chOff x="6057720" y="2416320"/>
              <a:chExt cx="2944800" cy="301320"/>
            </a:xfrm>
          </p:grpSpPr>
          <p:sp>
            <p:nvSpPr>
              <p:cNvPr id="851" name=""/>
              <p:cNvSpPr/>
              <p:nvPr/>
            </p:nvSpPr>
            <p:spPr>
              <a:xfrm flipV="1">
                <a:off x="6057720" y="2574720"/>
                <a:ext cx="2793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556320" y="2511720"/>
                <a:ext cx="2446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ME-10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otorized Recon Squadr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3" name=""/>
              <p:cNvGrpSpPr/>
              <p:nvPr/>
            </p:nvGrpSpPr>
            <p:grpSpPr>
              <a:xfrm>
                <a:off x="6184800" y="2416320"/>
                <a:ext cx="284040" cy="301320"/>
                <a:chOff x="6184800" y="2416320"/>
                <a:chExt cx="284040" cy="3013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6337080" y="241632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5" name=""/>
                <p:cNvGrpSpPr/>
                <p:nvPr/>
              </p:nvGrpSpPr>
              <p:grpSpPr>
                <a:xfrm>
                  <a:off x="6184800" y="2484720"/>
                  <a:ext cx="284040" cy="232920"/>
                  <a:chOff x="6184800" y="2484720"/>
                  <a:chExt cx="284040" cy="232920"/>
                </a:xfrm>
              </p:grpSpPr>
              <p:sp>
                <p:nvSpPr>
                  <p:cNvPr id="856" name=""/>
                  <p:cNvSpPr/>
                  <p:nvPr/>
                </p:nvSpPr>
                <p:spPr>
                  <a:xfrm>
                    <a:off x="6184800" y="2484720"/>
                    <a:ext cx="284040" cy="1922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V="1">
                    <a:off x="6184800" y="2484720"/>
                    <a:ext cx="282240" cy="1908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6197400" y="2684160"/>
                    <a:ext cx="33480" cy="3348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6420600" y="2684160"/>
                    <a:ext cx="33120" cy="3348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60" name=""/>
          <p:cNvGrpSpPr/>
          <p:nvPr/>
        </p:nvGrpSpPr>
        <p:grpSpPr>
          <a:xfrm>
            <a:off x="6027840" y="4060800"/>
            <a:ext cx="2655720" cy="1244520"/>
            <a:chOff x="6027840" y="4060800"/>
            <a:chExt cx="2655720" cy="1244520"/>
          </a:xfrm>
        </p:grpSpPr>
        <p:sp>
          <p:nvSpPr>
            <p:cNvPr id="861" name=""/>
            <p:cNvSpPr/>
            <p:nvPr/>
          </p:nvSpPr>
          <p:spPr>
            <a:xfrm>
              <a:off x="6686640" y="4133880"/>
              <a:ext cx="1996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BATTLE GROUP BG-09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    Light Tank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6205680" y="4290840"/>
              <a:ext cx="7920" cy="94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6027840" y="4060800"/>
              <a:ext cx="364680" cy="285480"/>
              <a:chOff x="6027840" y="4060800"/>
              <a:chExt cx="364680" cy="285480"/>
            </a:xfrm>
          </p:grpSpPr>
          <p:grpSp>
            <p:nvGrpSpPr>
              <p:cNvPr id="864" name=""/>
              <p:cNvGrpSpPr/>
              <p:nvPr/>
            </p:nvGrpSpPr>
            <p:grpSpPr>
              <a:xfrm>
                <a:off x="6027840" y="4106880"/>
                <a:ext cx="364680" cy="239400"/>
                <a:chOff x="6027840" y="4106880"/>
                <a:chExt cx="364680" cy="2394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6027840" y="4106880"/>
                  <a:ext cx="364680" cy="2394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6094800" y="4167000"/>
                  <a:ext cx="230400" cy="11448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7" name=""/>
              <p:cNvGrpSpPr/>
              <p:nvPr/>
            </p:nvGrpSpPr>
            <p:grpSpPr>
              <a:xfrm>
                <a:off x="6172200" y="4060800"/>
                <a:ext cx="76320" cy="63360"/>
                <a:chOff x="6172200" y="4060800"/>
                <a:chExt cx="76320" cy="6336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6172200" y="4060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248520" y="406080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0" name=""/>
            <p:cNvGrpSpPr/>
            <p:nvPr/>
          </p:nvGrpSpPr>
          <p:grpSpPr>
            <a:xfrm>
              <a:off x="6211800" y="4968720"/>
              <a:ext cx="2471760" cy="336600"/>
              <a:chOff x="6211800" y="4968720"/>
              <a:chExt cx="2471760" cy="336600"/>
            </a:xfrm>
          </p:grpSpPr>
          <p:sp>
            <p:nvSpPr>
              <p:cNvPr id="871" name=""/>
              <p:cNvSpPr/>
              <p:nvPr/>
            </p:nvSpPr>
            <p:spPr>
              <a:xfrm>
                <a:off x="6728400" y="4968720"/>
                <a:ext cx="12945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ANEUVER ELEMEN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V="1">
                <a:off x="6211800" y="5222160"/>
                <a:ext cx="27972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710400" y="5114880"/>
                <a:ext cx="1973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ME-1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Light Tank Squadr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6345360" y="5063760"/>
                <a:ext cx="291960" cy="241560"/>
                <a:chOff x="6345360" y="5063760"/>
                <a:chExt cx="291960" cy="241560"/>
              </a:xfrm>
            </p:grpSpPr>
            <p:grpSp>
              <p:nvGrpSpPr>
                <p:cNvPr id="875" name=""/>
                <p:cNvGrpSpPr/>
                <p:nvPr/>
              </p:nvGrpSpPr>
              <p:grpSpPr>
                <a:xfrm>
                  <a:off x="6345360" y="5114880"/>
                  <a:ext cx="291960" cy="190440"/>
                  <a:chOff x="6345360" y="5114880"/>
                  <a:chExt cx="291960" cy="190440"/>
                </a:xfrm>
              </p:grpSpPr>
              <p:sp>
                <p:nvSpPr>
                  <p:cNvPr id="876" name=""/>
                  <p:cNvSpPr/>
                  <p:nvPr/>
                </p:nvSpPr>
                <p:spPr>
                  <a:xfrm>
                    <a:off x="6345360" y="5114880"/>
                    <a:ext cx="291960" cy="1904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6399000" y="5162400"/>
                    <a:ext cx="184320" cy="9072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7280" bIns="17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8" name=""/>
                <p:cNvSpPr/>
                <p:nvPr/>
              </p:nvSpPr>
              <p:spPr>
                <a:xfrm>
                  <a:off x="6491520" y="50637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9" name=""/>
            <p:cNvGrpSpPr/>
            <p:nvPr/>
          </p:nvGrpSpPr>
          <p:grpSpPr>
            <a:xfrm>
              <a:off x="6211800" y="4506840"/>
              <a:ext cx="2251080" cy="450720"/>
              <a:chOff x="6211800" y="4506840"/>
              <a:chExt cx="2251080" cy="450720"/>
            </a:xfrm>
          </p:grpSpPr>
          <p:sp>
            <p:nvSpPr>
              <p:cNvPr id="880" name=""/>
              <p:cNvSpPr/>
              <p:nvPr/>
            </p:nvSpPr>
            <p:spPr>
              <a:xfrm>
                <a:off x="6211800" y="4849560"/>
                <a:ext cx="208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705720" y="4809960"/>
                <a:ext cx="17571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7PTjw                      PO-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6705720" y="467496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706080" y="4506840"/>
                <a:ext cx="1523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EADQUARTERS ELEMEN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"/>
              <p:cNvGrpSpPr/>
              <p:nvPr/>
            </p:nvGrpSpPr>
            <p:grpSpPr>
              <a:xfrm>
                <a:off x="6364440" y="4740120"/>
                <a:ext cx="231840" cy="196920"/>
                <a:chOff x="6364440" y="4740120"/>
                <a:chExt cx="231840" cy="1969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6464520" y="47401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6" name=""/>
                <p:cNvGrpSpPr/>
                <p:nvPr/>
              </p:nvGrpSpPr>
              <p:grpSpPr>
                <a:xfrm>
                  <a:off x="6364440" y="4779720"/>
                  <a:ext cx="231840" cy="157320"/>
                  <a:chOff x="6364440" y="4779720"/>
                  <a:chExt cx="231840" cy="157320"/>
                </a:xfrm>
              </p:grpSpPr>
              <p:sp>
                <p:nvSpPr>
                  <p:cNvPr id="887" name=""/>
                  <p:cNvSpPr/>
                  <p:nvPr/>
                </p:nvSpPr>
                <p:spPr>
                  <a:xfrm>
                    <a:off x="6364440" y="4779720"/>
                    <a:ext cx="23184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6406920" y="4818960"/>
                    <a:ext cx="148680" cy="7488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712520" y="30240"/>
            <a:ext cx="5435640" cy="3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ME-01-&gt;ME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2360" y="4599000"/>
            <a:ext cx="152388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Maneuver Element-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valry Squadron (a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279360" y="425520"/>
            <a:ext cx="1992240" cy="1104480"/>
            <a:chOff x="279360" y="425520"/>
            <a:chExt cx="1992240" cy="1104480"/>
          </a:xfrm>
        </p:grpSpPr>
        <p:sp>
          <p:nvSpPr>
            <p:cNvPr id="892" name=""/>
            <p:cNvSpPr/>
            <p:nvPr/>
          </p:nvSpPr>
          <p:spPr>
            <a:xfrm>
              <a:off x="422280" y="636480"/>
              <a:ext cx="0" cy="822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27120" y="425520"/>
              <a:ext cx="1523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connaissance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4" name=""/>
            <p:cNvGrpSpPr/>
            <p:nvPr/>
          </p:nvGrpSpPr>
          <p:grpSpPr>
            <a:xfrm>
              <a:off x="279360" y="566640"/>
              <a:ext cx="284040" cy="257400"/>
              <a:chOff x="279360" y="566640"/>
              <a:chExt cx="284040" cy="257400"/>
            </a:xfrm>
          </p:grpSpPr>
          <p:sp>
            <p:nvSpPr>
              <p:cNvPr id="895" name=""/>
              <p:cNvSpPr/>
              <p:nvPr/>
            </p:nvSpPr>
            <p:spPr>
              <a:xfrm>
                <a:off x="422280" y="56664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79360" y="630360"/>
                <a:ext cx="284040" cy="1936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82600" y="632880"/>
                <a:ext cx="276120" cy="189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8" name=""/>
            <p:cNvGrpSpPr/>
            <p:nvPr/>
          </p:nvGrpSpPr>
          <p:grpSpPr>
            <a:xfrm>
              <a:off x="422280" y="826920"/>
              <a:ext cx="1849320" cy="188640"/>
              <a:chOff x="422280" y="826920"/>
              <a:chExt cx="1849320" cy="188640"/>
            </a:xfrm>
          </p:grpSpPr>
          <p:sp>
            <p:nvSpPr>
              <p:cNvPr id="899" name=""/>
              <p:cNvSpPr/>
              <p:nvPr/>
            </p:nvSpPr>
            <p:spPr>
              <a:xfrm>
                <a:off x="422280" y="93636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552600" y="826920"/>
                <a:ext cx="237960" cy="188640"/>
                <a:chOff x="552600" y="826920"/>
                <a:chExt cx="237960" cy="18864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552600" y="856800"/>
                  <a:ext cx="237960" cy="1587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57360" y="82692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"/>
              <p:cNvSpPr/>
              <p:nvPr/>
            </p:nvSpPr>
            <p:spPr>
              <a:xfrm>
                <a:off x="880920" y="853920"/>
                <a:ext cx="139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PO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422280" y="1338120"/>
              <a:ext cx="1849320" cy="191880"/>
              <a:chOff x="422280" y="1338120"/>
              <a:chExt cx="1849320" cy="191880"/>
            </a:xfrm>
          </p:grpSpPr>
          <p:sp>
            <p:nvSpPr>
              <p:cNvPr id="905" name=""/>
              <p:cNvSpPr/>
              <p:nvPr/>
            </p:nvSpPr>
            <p:spPr>
              <a:xfrm>
                <a:off x="422280" y="145872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552600" y="1338120"/>
                <a:ext cx="231480" cy="191880"/>
                <a:chOff x="552600" y="1338120"/>
                <a:chExt cx="231480" cy="191880"/>
              </a:xfrm>
            </p:grpSpPr>
            <p:grpSp>
              <p:nvGrpSpPr>
                <p:cNvPr id="907" name=""/>
                <p:cNvGrpSpPr/>
                <p:nvPr/>
              </p:nvGrpSpPr>
              <p:grpSpPr>
                <a:xfrm>
                  <a:off x="552600" y="1373040"/>
                  <a:ext cx="231480" cy="156960"/>
                  <a:chOff x="552600" y="1373040"/>
                  <a:chExt cx="231480" cy="15696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552600" y="1373040"/>
                    <a:ext cx="23148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 flipV="1">
                    <a:off x="552600" y="137628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66360" y="137304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1" name=""/>
                <p:cNvSpPr/>
                <p:nvPr/>
              </p:nvSpPr>
              <p:spPr>
                <a:xfrm>
                  <a:off x="655560" y="13381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2" name=""/>
              <p:cNvSpPr/>
              <p:nvPr/>
            </p:nvSpPr>
            <p:spPr>
              <a:xfrm>
                <a:off x="880920" y="1366560"/>
                <a:ext cx="139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titank Rifle     PO-1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"/>
            <p:cNvGrpSpPr/>
            <p:nvPr/>
          </p:nvGrpSpPr>
          <p:grpSpPr>
            <a:xfrm>
              <a:off x="419040" y="1071720"/>
              <a:ext cx="1852560" cy="188280"/>
              <a:chOff x="419040" y="1071720"/>
              <a:chExt cx="1852560" cy="188280"/>
            </a:xfrm>
          </p:grpSpPr>
          <p:sp>
            <p:nvSpPr>
              <p:cNvPr id="914" name=""/>
              <p:cNvSpPr/>
              <p:nvPr/>
            </p:nvSpPr>
            <p:spPr>
              <a:xfrm>
                <a:off x="419040" y="117792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880920" y="1095480"/>
                <a:ext cx="139068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4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fantry              PO-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6" name=""/>
              <p:cNvGrpSpPr/>
              <p:nvPr/>
            </p:nvGrpSpPr>
            <p:grpSpPr>
              <a:xfrm>
                <a:off x="552600" y="1071720"/>
                <a:ext cx="231480" cy="188280"/>
                <a:chOff x="552600" y="1071720"/>
                <a:chExt cx="231480" cy="188280"/>
              </a:xfrm>
            </p:grpSpPr>
            <p:grpSp>
              <p:nvGrpSpPr>
                <p:cNvPr id="917" name=""/>
                <p:cNvGrpSpPr/>
                <p:nvPr/>
              </p:nvGrpSpPr>
              <p:grpSpPr>
                <a:xfrm>
                  <a:off x="552600" y="1103400"/>
                  <a:ext cx="231480" cy="156600"/>
                  <a:chOff x="552600" y="1103400"/>
                  <a:chExt cx="231480" cy="15660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552600" y="1103400"/>
                    <a:ext cx="231480" cy="15660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 flipV="1">
                    <a:off x="554760" y="1105200"/>
                    <a:ext cx="225360" cy="15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552600" y="1105560"/>
                    <a:ext cx="230400" cy="149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631800" y="1071720"/>
                  <a:ext cx="74160" cy="26640"/>
                  <a:chOff x="631800" y="1071720"/>
                  <a:chExt cx="74160" cy="2664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631800" y="10717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679320" y="10717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924" name=""/>
            <p:cNvSpPr/>
            <p:nvPr/>
          </p:nvSpPr>
          <p:spPr>
            <a:xfrm>
              <a:off x="880920" y="754200"/>
              <a:ext cx="578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255600" y="1644480"/>
            <a:ext cx="1992240" cy="1323720"/>
            <a:chOff x="255600" y="1644480"/>
            <a:chExt cx="1992240" cy="1323720"/>
          </a:xfrm>
        </p:grpSpPr>
        <p:sp>
          <p:nvSpPr>
            <p:cNvPr id="926" name=""/>
            <p:cNvSpPr/>
            <p:nvPr/>
          </p:nvSpPr>
          <p:spPr>
            <a:xfrm>
              <a:off x="398520" y="1998720"/>
              <a:ext cx="1440" cy="90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3000" y="1644480"/>
              <a:ext cx="1524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ifle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"/>
            <p:cNvGrpSpPr/>
            <p:nvPr/>
          </p:nvGrpSpPr>
          <p:grpSpPr>
            <a:xfrm>
              <a:off x="255600" y="1785960"/>
              <a:ext cx="284040" cy="257040"/>
              <a:chOff x="255600" y="1785960"/>
              <a:chExt cx="284040" cy="257040"/>
            </a:xfrm>
          </p:grpSpPr>
          <p:sp>
            <p:nvSpPr>
              <p:cNvPr id="929" name=""/>
              <p:cNvSpPr/>
              <p:nvPr/>
            </p:nvSpPr>
            <p:spPr>
              <a:xfrm>
                <a:off x="398520" y="178596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255600" y="1849320"/>
                <a:ext cx="284040" cy="193680"/>
                <a:chOff x="255600" y="1849320"/>
                <a:chExt cx="284040" cy="19368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255600" y="1849320"/>
                  <a:ext cx="284040" cy="19368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258480" y="1852200"/>
                  <a:ext cx="276480" cy="189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55600" y="1852200"/>
                  <a:ext cx="282600" cy="18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4" name=""/>
            <p:cNvGrpSpPr/>
            <p:nvPr/>
          </p:nvGrpSpPr>
          <p:grpSpPr>
            <a:xfrm>
              <a:off x="398520" y="2046240"/>
              <a:ext cx="1849320" cy="188640"/>
              <a:chOff x="398520" y="2046240"/>
              <a:chExt cx="1849320" cy="188640"/>
            </a:xfrm>
          </p:grpSpPr>
          <p:sp>
            <p:nvSpPr>
              <p:cNvPr id="935" name=""/>
              <p:cNvSpPr/>
              <p:nvPr/>
            </p:nvSpPr>
            <p:spPr>
              <a:xfrm>
                <a:off x="398520" y="215568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"/>
              <p:cNvGrpSpPr/>
              <p:nvPr/>
            </p:nvGrpSpPr>
            <p:grpSpPr>
              <a:xfrm>
                <a:off x="528840" y="2046240"/>
                <a:ext cx="237960" cy="188640"/>
                <a:chOff x="528840" y="2046240"/>
                <a:chExt cx="237960" cy="1886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528840" y="2076120"/>
                  <a:ext cx="237960" cy="1587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33600" y="20462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9" name=""/>
              <p:cNvSpPr/>
              <p:nvPr/>
            </p:nvSpPr>
            <p:spPr>
              <a:xfrm>
                <a:off x="857160" y="2073240"/>
                <a:ext cx="139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PO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>
              <a:off x="398520" y="2646360"/>
              <a:ext cx="207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528480" y="2525760"/>
              <a:ext cx="231840" cy="191880"/>
              <a:chOff x="528480" y="2525760"/>
              <a:chExt cx="231840" cy="191880"/>
            </a:xfrm>
          </p:grpSpPr>
          <p:grpSp>
            <p:nvGrpSpPr>
              <p:cNvPr id="942" name=""/>
              <p:cNvGrpSpPr/>
              <p:nvPr/>
            </p:nvGrpSpPr>
            <p:grpSpPr>
              <a:xfrm>
                <a:off x="528480" y="2560680"/>
                <a:ext cx="231840" cy="156960"/>
                <a:chOff x="528480" y="2560680"/>
                <a:chExt cx="231840" cy="15696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528480" y="2560680"/>
                  <a:ext cx="231840" cy="1569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V="1">
                  <a:off x="528480" y="2563920"/>
                  <a:ext cx="113760" cy="151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42240" y="2560680"/>
                  <a:ext cx="113760" cy="153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6" name=""/>
              <p:cNvSpPr/>
              <p:nvPr/>
            </p:nvSpPr>
            <p:spPr>
              <a:xfrm>
                <a:off x="631800" y="252576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7" name=""/>
            <p:cNvSpPr/>
            <p:nvPr/>
          </p:nvSpPr>
          <p:spPr>
            <a:xfrm>
              <a:off x="857160" y="2554200"/>
              <a:ext cx="13906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tank Rifle     PO-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395280" y="2284200"/>
              <a:ext cx="1852560" cy="189000"/>
              <a:chOff x="395280" y="2284200"/>
              <a:chExt cx="1852560" cy="189000"/>
            </a:xfrm>
          </p:grpSpPr>
          <p:sp>
            <p:nvSpPr>
              <p:cNvPr id="949" name=""/>
              <p:cNvSpPr/>
              <p:nvPr/>
            </p:nvSpPr>
            <p:spPr>
              <a:xfrm>
                <a:off x="395280" y="239076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857160" y="2308320"/>
                <a:ext cx="139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fantry               PO-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528840" y="2284200"/>
                <a:ext cx="231480" cy="189000"/>
                <a:chOff x="528840" y="2284200"/>
                <a:chExt cx="231480" cy="189000"/>
              </a:xfrm>
            </p:grpSpPr>
            <p:grpSp>
              <p:nvGrpSpPr>
                <p:cNvPr id="952" name=""/>
                <p:cNvGrpSpPr/>
                <p:nvPr/>
              </p:nvGrpSpPr>
              <p:grpSpPr>
                <a:xfrm>
                  <a:off x="528840" y="2316240"/>
                  <a:ext cx="231480" cy="156960"/>
                  <a:chOff x="528840" y="2316240"/>
                  <a:chExt cx="231480" cy="15696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528840" y="2316240"/>
                    <a:ext cx="23148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 flipV="1">
                    <a:off x="531000" y="2318400"/>
                    <a:ext cx="2253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528840" y="2318400"/>
                    <a:ext cx="230400" cy="1497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6" name=""/>
                <p:cNvGrpSpPr/>
                <p:nvPr/>
              </p:nvGrpSpPr>
              <p:grpSpPr>
                <a:xfrm>
                  <a:off x="608040" y="2284200"/>
                  <a:ext cx="74160" cy="27000"/>
                  <a:chOff x="608040" y="2284200"/>
                  <a:chExt cx="74160" cy="2700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608040" y="228420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655560" y="228420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59" name=""/>
            <p:cNvGrpSpPr/>
            <p:nvPr/>
          </p:nvGrpSpPr>
          <p:grpSpPr>
            <a:xfrm>
              <a:off x="399960" y="2776320"/>
              <a:ext cx="1847880" cy="191880"/>
              <a:chOff x="399960" y="2776320"/>
              <a:chExt cx="1847880" cy="191880"/>
            </a:xfrm>
          </p:grpSpPr>
          <p:sp>
            <p:nvSpPr>
              <p:cNvPr id="960" name=""/>
              <p:cNvSpPr/>
              <p:nvPr/>
            </p:nvSpPr>
            <p:spPr>
              <a:xfrm>
                <a:off x="399960" y="289548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1" name=""/>
              <p:cNvGrpSpPr/>
              <p:nvPr/>
            </p:nvGrpSpPr>
            <p:grpSpPr>
              <a:xfrm>
                <a:off x="539640" y="2776320"/>
                <a:ext cx="239760" cy="191880"/>
                <a:chOff x="539640" y="2776320"/>
                <a:chExt cx="239760" cy="191880"/>
              </a:xfrm>
            </p:grpSpPr>
            <p:grpSp>
              <p:nvGrpSpPr>
                <p:cNvPr id="962" name=""/>
                <p:cNvGrpSpPr/>
                <p:nvPr/>
              </p:nvGrpSpPr>
              <p:grpSpPr>
                <a:xfrm>
                  <a:off x="539640" y="2811240"/>
                  <a:ext cx="239760" cy="156960"/>
                  <a:chOff x="539640" y="2811240"/>
                  <a:chExt cx="239760" cy="15696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539640" y="2811240"/>
                    <a:ext cx="23976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V="1">
                    <a:off x="623880" y="2926440"/>
                    <a:ext cx="633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655560" y="2842560"/>
                    <a:ext cx="0" cy="83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6" name=""/>
                <p:cNvGrpSpPr/>
                <p:nvPr/>
              </p:nvGrpSpPr>
              <p:grpSpPr>
                <a:xfrm>
                  <a:off x="612720" y="2776320"/>
                  <a:ext cx="74880" cy="27000"/>
                  <a:chOff x="612720" y="2776320"/>
                  <a:chExt cx="74880" cy="2700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612720" y="277632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660600" y="27763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9" name=""/>
              <p:cNvSpPr/>
              <p:nvPr/>
            </p:nvSpPr>
            <p:spPr>
              <a:xfrm>
                <a:off x="857160" y="2811240"/>
                <a:ext cx="139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6mm Mortar     PO-19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"/>
            <p:cNvSpPr/>
            <p:nvPr/>
          </p:nvSpPr>
          <p:spPr>
            <a:xfrm>
              <a:off x="857160" y="196200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255600" y="3090960"/>
            <a:ext cx="1992240" cy="1356480"/>
            <a:chOff x="255600" y="3090960"/>
            <a:chExt cx="1992240" cy="1356480"/>
          </a:xfrm>
        </p:grpSpPr>
        <p:sp>
          <p:nvSpPr>
            <p:cNvPr id="972" name=""/>
            <p:cNvSpPr/>
            <p:nvPr/>
          </p:nvSpPr>
          <p:spPr>
            <a:xfrm>
              <a:off x="398520" y="3444840"/>
              <a:ext cx="1440" cy="90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03360" y="3090960"/>
              <a:ext cx="1523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icycle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255600" y="3232080"/>
              <a:ext cx="284040" cy="256320"/>
              <a:chOff x="255600" y="3232080"/>
              <a:chExt cx="284040" cy="256320"/>
            </a:xfrm>
          </p:grpSpPr>
          <p:sp>
            <p:nvSpPr>
              <p:cNvPr id="975" name=""/>
              <p:cNvSpPr/>
              <p:nvPr/>
            </p:nvSpPr>
            <p:spPr>
              <a:xfrm>
                <a:off x="398520" y="3232080"/>
                <a:ext cx="0" cy="63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6" name=""/>
              <p:cNvGrpSpPr/>
              <p:nvPr/>
            </p:nvGrpSpPr>
            <p:grpSpPr>
              <a:xfrm>
                <a:off x="255600" y="3295080"/>
                <a:ext cx="284040" cy="193320"/>
                <a:chOff x="255600" y="3295080"/>
                <a:chExt cx="284040" cy="1933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255600" y="3295080"/>
                  <a:ext cx="284040" cy="193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258480" y="3297600"/>
                  <a:ext cx="276480" cy="189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255600" y="3297960"/>
                  <a:ext cx="282600" cy="184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80" name=""/>
            <p:cNvGrpSpPr/>
            <p:nvPr/>
          </p:nvGrpSpPr>
          <p:grpSpPr>
            <a:xfrm>
              <a:off x="398520" y="3492360"/>
              <a:ext cx="1849320" cy="188640"/>
              <a:chOff x="398520" y="3492360"/>
              <a:chExt cx="1849320" cy="188640"/>
            </a:xfrm>
          </p:grpSpPr>
          <p:sp>
            <p:nvSpPr>
              <p:cNvPr id="981" name=""/>
              <p:cNvSpPr/>
              <p:nvPr/>
            </p:nvSpPr>
            <p:spPr>
              <a:xfrm>
                <a:off x="398520" y="360144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528840" y="3492360"/>
                <a:ext cx="237960" cy="188640"/>
                <a:chOff x="528840" y="3492360"/>
                <a:chExt cx="237960" cy="18864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528840" y="3522240"/>
                  <a:ext cx="237960" cy="1587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33600" y="34923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5" name=""/>
              <p:cNvSpPr/>
              <p:nvPr/>
            </p:nvSpPr>
            <p:spPr>
              <a:xfrm>
                <a:off x="857160" y="3519000"/>
                <a:ext cx="139068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 PO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398520" y="4092480"/>
              <a:ext cx="2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7" name=""/>
            <p:cNvGrpSpPr/>
            <p:nvPr/>
          </p:nvGrpSpPr>
          <p:grpSpPr>
            <a:xfrm>
              <a:off x="528480" y="3971880"/>
              <a:ext cx="231840" cy="191160"/>
              <a:chOff x="528480" y="3971880"/>
              <a:chExt cx="231840" cy="191160"/>
            </a:xfrm>
          </p:grpSpPr>
          <p:grpSp>
            <p:nvGrpSpPr>
              <p:cNvPr id="988" name=""/>
              <p:cNvGrpSpPr/>
              <p:nvPr/>
            </p:nvGrpSpPr>
            <p:grpSpPr>
              <a:xfrm>
                <a:off x="528480" y="4006440"/>
                <a:ext cx="231840" cy="156600"/>
                <a:chOff x="528480" y="4006440"/>
                <a:chExt cx="231840" cy="1566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28480" y="4006440"/>
                  <a:ext cx="231840" cy="156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V="1">
                  <a:off x="528480" y="4009320"/>
                  <a:ext cx="113760" cy="151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42240" y="4006440"/>
                  <a:ext cx="113760" cy="153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2" name=""/>
              <p:cNvSpPr/>
              <p:nvPr/>
            </p:nvSpPr>
            <p:spPr>
              <a:xfrm>
                <a:off x="631800" y="3971880"/>
                <a:ext cx="2700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"/>
            <p:cNvSpPr/>
            <p:nvPr/>
          </p:nvSpPr>
          <p:spPr>
            <a:xfrm>
              <a:off x="857160" y="4000320"/>
              <a:ext cx="1390680" cy="1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2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ntitank Rifle     PO-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4" name=""/>
            <p:cNvGrpSpPr/>
            <p:nvPr/>
          </p:nvGrpSpPr>
          <p:grpSpPr>
            <a:xfrm>
              <a:off x="395280" y="3730320"/>
              <a:ext cx="1852560" cy="188280"/>
              <a:chOff x="395280" y="3730320"/>
              <a:chExt cx="1852560" cy="188280"/>
            </a:xfrm>
          </p:grpSpPr>
          <p:sp>
            <p:nvSpPr>
              <p:cNvPr id="995" name=""/>
              <p:cNvSpPr/>
              <p:nvPr/>
            </p:nvSpPr>
            <p:spPr>
              <a:xfrm>
                <a:off x="395280" y="383652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57160" y="3754080"/>
                <a:ext cx="139068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9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fantry               PO-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7" name=""/>
              <p:cNvGrpSpPr/>
              <p:nvPr/>
            </p:nvGrpSpPr>
            <p:grpSpPr>
              <a:xfrm>
                <a:off x="528840" y="3730320"/>
                <a:ext cx="231480" cy="188280"/>
                <a:chOff x="528840" y="3730320"/>
                <a:chExt cx="231480" cy="188280"/>
              </a:xfrm>
            </p:grpSpPr>
            <p:grpSp>
              <p:nvGrpSpPr>
                <p:cNvPr id="998" name=""/>
                <p:cNvGrpSpPr/>
                <p:nvPr/>
              </p:nvGrpSpPr>
              <p:grpSpPr>
                <a:xfrm>
                  <a:off x="528840" y="3762000"/>
                  <a:ext cx="231480" cy="156600"/>
                  <a:chOff x="528840" y="3762000"/>
                  <a:chExt cx="231480" cy="15660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>
                    <a:off x="528840" y="3762000"/>
                    <a:ext cx="231480" cy="15660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flipV="1">
                    <a:off x="531000" y="3763800"/>
                    <a:ext cx="225360" cy="15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528840" y="3764160"/>
                    <a:ext cx="230400" cy="1494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2" name=""/>
                <p:cNvGrpSpPr/>
                <p:nvPr/>
              </p:nvGrpSpPr>
              <p:grpSpPr>
                <a:xfrm>
                  <a:off x="608040" y="3730320"/>
                  <a:ext cx="74160" cy="26640"/>
                  <a:chOff x="608040" y="3730320"/>
                  <a:chExt cx="74160" cy="26640"/>
                </a:xfrm>
              </p:grpSpPr>
              <p:sp>
                <p:nvSpPr>
                  <p:cNvPr id="1003" name=""/>
                  <p:cNvSpPr/>
                  <p:nvPr/>
                </p:nvSpPr>
                <p:spPr>
                  <a:xfrm>
                    <a:off x="608040" y="37303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655560" y="37303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05" name=""/>
            <p:cNvGrpSpPr/>
            <p:nvPr/>
          </p:nvGrpSpPr>
          <p:grpSpPr>
            <a:xfrm>
              <a:off x="399960" y="4222440"/>
              <a:ext cx="1847880" cy="225000"/>
              <a:chOff x="399960" y="4222440"/>
              <a:chExt cx="1847880" cy="225000"/>
            </a:xfrm>
          </p:grpSpPr>
          <p:sp>
            <p:nvSpPr>
              <p:cNvPr id="1006" name=""/>
              <p:cNvSpPr/>
              <p:nvPr/>
            </p:nvSpPr>
            <p:spPr>
              <a:xfrm>
                <a:off x="399960" y="434124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57160" y="4257000"/>
                <a:ext cx="139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icycle             GN-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8" name=""/>
              <p:cNvGrpSpPr/>
              <p:nvPr/>
            </p:nvGrpSpPr>
            <p:grpSpPr>
              <a:xfrm>
                <a:off x="533520" y="4222440"/>
                <a:ext cx="231480" cy="225000"/>
                <a:chOff x="533520" y="4222440"/>
                <a:chExt cx="231480" cy="22500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612720" y="4222440"/>
                  <a:ext cx="74160" cy="26640"/>
                  <a:chOff x="612720" y="4222440"/>
                  <a:chExt cx="74160" cy="2664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612720" y="4222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660240" y="42224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533520" y="4257000"/>
                  <a:ext cx="231480" cy="190440"/>
                  <a:chOff x="533520" y="4257000"/>
                  <a:chExt cx="231480" cy="19044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533520" y="425700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634680" y="44204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15" name=""/>
            <p:cNvSpPr/>
            <p:nvPr/>
          </p:nvSpPr>
          <p:spPr>
            <a:xfrm>
              <a:off x="857160" y="342072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58760" y="4681440"/>
            <a:ext cx="1992240" cy="696960"/>
            <a:chOff x="158760" y="4681440"/>
            <a:chExt cx="1992240" cy="696960"/>
          </a:xfrm>
        </p:grpSpPr>
        <p:sp>
          <p:nvSpPr>
            <p:cNvPr id="1017" name=""/>
            <p:cNvSpPr/>
            <p:nvPr/>
          </p:nvSpPr>
          <p:spPr>
            <a:xfrm>
              <a:off x="301680" y="483048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"/>
            <p:cNvGrpSpPr/>
            <p:nvPr/>
          </p:nvGrpSpPr>
          <p:grpSpPr>
            <a:xfrm>
              <a:off x="158760" y="4681440"/>
              <a:ext cx="284040" cy="256680"/>
              <a:chOff x="158760" y="4681440"/>
              <a:chExt cx="284040" cy="256680"/>
            </a:xfrm>
          </p:grpSpPr>
          <p:sp>
            <p:nvSpPr>
              <p:cNvPr id="1019" name=""/>
              <p:cNvSpPr/>
              <p:nvPr/>
            </p:nvSpPr>
            <p:spPr>
              <a:xfrm>
                <a:off x="301320" y="46814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58760" y="4744800"/>
                <a:ext cx="284040" cy="19332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161640" y="4747680"/>
                <a:ext cx="275760" cy="188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301680" y="4954320"/>
              <a:ext cx="1848960" cy="192240"/>
              <a:chOff x="301680" y="4954320"/>
              <a:chExt cx="1848960" cy="192240"/>
            </a:xfrm>
          </p:grpSpPr>
          <p:sp>
            <p:nvSpPr>
              <p:cNvPr id="1023" name=""/>
              <p:cNvSpPr/>
              <p:nvPr/>
            </p:nvSpPr>
            <p:spPr>
              <a:xfrm>
                <a:off x="301680" y="506412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36400" y="4954320"/>
                <a:ext cx="2664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0320" y="4989240"/>
                <a:ext cx="139032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valry       PO-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433080" y="4981320"/>
                <a:ext cx="237960" cy="165240"/>
                <a:chOff x="433080" y="4981320"/>
                <a:chExt cx="237960" cy="16524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433080" y="4987800"/>
                  <a:ext cx="237960" cy="1587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 flipV="1">
                  <a:off x="440640" y="498132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9" name=""/>
            <p:cNvGrpSpPr/>
            <p:nvPr/>
          </p:nvGrpSpPr>
          <p:grpSpPr>
            <a:xfrm>
              <a:off x="298440" y="5189400"/>
              <a:ext cx="1852560" cy="189000"/>
              <a:chOff x="298440" y="5189400"/>
              <a:chExt cx="1852560" cy="189000"/>
            </a:xfrm>
          </p:grpSpPr>
          <p:sp>
            <p:nvSpPr>
              <p:cNvPr id="1030" name=""/>
              <p:cNvSpPr/>
              <p:nvPr/>
            </p:nvSpPr>
            <p:spPr>
              <a:xfrm>
                <a:off x="298440" y="529596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0680" y="5213520"/>
                <a:ext cx="13903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8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avalry       PO-2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32000" y="5221440"/>
                <a:ext cx="231840" cy="15696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433440" y="5224320"/>
                <a:ext cx="22716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4" name=""/>
              <p:cNvGrpSpPr/>
              <p:nvPr/>
            </p:nvGrpSpPr>
            <p:grpSpPr>
              <a:xfrm>
                <a:off x="511200" y="5189400"/>
                <a:ext cx="74880" cy="27000"/>
                <a:chOff x="511200" y="5189400"/>
                <a:chExt cx="74880" cy="2700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511200" y="51894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59080" y="51894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7" name=""/>
            <p:cNvSpPr/>
            <p:nvPr/>
          </p:nvSpPr>
          <p:spPr>
            <a:xfrm>
              <a:off x="744480" y="488160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271440" y="5442120"/>
            <a:ext cx="1740960" cy="862920"/>
            <a:chOff x="271440" y="5442120"/>
            <a:chExt cx="1740960" cy="862920"/>
          </a:xfrm>
        </p:grpSpPr>
        <p:grpSp>
          <p:nvGrpSpPr>
            <p:cNvPr id="1039" name=""/>
            <p:cNvGrpSpPr/>
            <p:nvPr/>
          </p:nvGrpSpPr>
          <p:grpSpPr>
            <a:xfrm>
              <a:off x="293400" y="5601960"/>
              <a:ext cx="1719000" cy="188640"/>
              <a:chOff x="293400" y="5601960"/>
              <a:chExt cx="1719000" cy="188640"/>
            </a:xfrm>
          </p:grpSpPr>
          <p:grpSp>
            <p:nvGrpSpPr>
              <p:cNvPr id="1040" name=""/>
              <p:cNvGrpSpPr/>
              <p:nvPr/>
            </p:nvGrpSpPr>
            <p:grpSpPr>
              <a:xfrm>
                <a:off x="293400" y="5601960"/>
                <a:ext cx="237960" cy="188640"/>
                <a:chOff x="293400" y="5601960"/>
                <a:chExt cx="237960" cy="188640"/>
              </a:xfrm>
            </p:grpSpPr>
            <p:sp>
              <p:nvSpPr>
                <p:cNvPr id="1041" name=""/>
                <p:cNvSpPr/>
                <p:nvPr/>
              </p:nvSpPr>
              <p:spPr>
                <a:xfrm>
                  <a:off x="293400" y="5631840"/>
                  <a:ext cx="237960" cy="1587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398160" y="56019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3" name=""/>
              <p:cNvSpPr/>
              <p:nvPr/>
            </p:nvSpPr>
            <p:spPr>
              <a:xfrm>
                <a:off x="622080" y="5628960"/>
                <a:ext cx="13903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mmander      PO-15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293400" y="6113160"/>
              <a:ext cx="1719000" cy="191880"/>
              <a:chOff x="293400" y="6113160"/>
              <a:chExt cx="1719000" cy="191880"/>
            </a:xfrm>
          </p:grpSpPr>
          <p:grpSp>
            <p:nvGrpSpPr>
              <p:cNvPr id="1045" name=""/>
              <p:cNvGrpSpPr/>
              <p:nvPr/>
            </p:nvGrpSpPr>
            <p:grpSpPr>
              <a:xfrm>
                <a:off x="293400" y="6113160"/>
                <a:ext cx="231840" cy="191880"/>
                <a:chOff x="293400" y="6113160"/>
                <a:chExt cx="231840" cy="191880"/>
              </a:xfrm>
            </p:grpSpPr>
            <p:grpSp>
              <p:nvGrpSpPr>
                <p:cNvPr id="1046" name=""/>
                <p:cNvGrpSpPr/>
                <p:nvPr/>
              </p:nvGrpSpPr>
              <p:grpSpPr>
                <a:xfrm>
                  <a:off x="293400" y="6148080"/>
                  <a:ext cx="231840" cy="156960"/>
                  <a:chOff x="293400" y="6148080"/>
                  <a:chExt cx="231840" cy="15696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293400" y="6148080"/>
                    <a:ext cx="23184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V="1">
                    <a:off x="293400" y="615132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407160" y="614808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50" name=""/>
                <p:cNvSpPr/>
                <p:nvPr/>
              </p:nvSpPr>
              <p:spPr>
                <a:xfrm>
                  <a:off x="396720" y="611316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622080" y="6141600"/>
                <a:ext cx="13903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titank Rifle     PO-1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2" name=""/>
            <p:cNvGrpSpPr/>
            <p:nvPr/>
          </p:nvGrpSpPr>
          <p:grpSpPr>
            <a:xfrm>
              <a:off x="293400" y="5846760"/>
              <a:ext cx="1719000" cy="187920"/>
              <a:chOff x="293400" y="5846760"/>
              <a:chExt cx="1719000" cy="187920"/>
            </a:xfrm>
          </p:grpSpPr>
          <p:sp>
            <p:nvSpPr>
              <p:cNvPr id="1053" name=""/>
              <p:cNvSpPr/>
              <p:nvPr/>
            </p:nvSpPr>
            <p:spPr>
              <a:xfrm>
                <a:off x="622080" y="5870160"/>
                <a:ext cx="139032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7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fantry              PO-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293400" y="5846760"/>
                <a:ext cx="231480" cy="187920"/>
                <a:chOff x="293400" y="5846760"/>
                <a:chExt cx="231480" cy="187920"/>
              </a:xfrm>
            </p:grpSpPr>
            <p:grpSp>
              <p:nvGrpSpPr>
                <p:cNvPr id="1055" name=""/>
                <p:cNvGrpSpPr/>
                <p:nvPr/>
              </p:nvGrpSpPr>
              <p:grpSpPr>
                <a:xfrm>
                  <a:off x="293400" y="5878440"/>
                  <a:ext cx="231480" cy="156240"/>
                  <a:chOff x="293400" y="5878440"/>
                  <a:chExt cx="231480" cy="15624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293400" y="5878440"/>
                    <a:ext cx="231480" cy="1562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V="1">
                    <a:off x="295560" y="5880600"/>
                    <a:ext cx="225360" cy="152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93400" y="5880600"/>
                    <a:ext cx="230400" cy="1490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9" name=""/>
                <p:cNvGrpSpPr/>
                <p:nvPr/>
              </p:nvGrpSpPr>
              <p:grpSpPr>
                <a:xfrm>
                  <a:off x="372600" y="5846760"/>
                  <a:ext cx="74160" cy="26640"/>
                  <a:chOff x="372600" y="5846760"/>
                  <a:chExt cx="74160" cy="2664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372600" y="5846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20120" y="584676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062" name=""/>
            <p:cNvSpPr/>
            <p:nvPr/>
          </p:nvSpPr>
          <p:spPr>
            <a:xfrm>
              <a:off x="271440" y="5442120"/>
              <a:ext cx="1269720" cy="9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may dismount as :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69680" y="553536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2424240" y="638640"/>
            <a:ext cx="2345760" cy="1611360"/>
            <a:chOff x="2424240" y="638640"/>
            <a:chExt cx="2345760" cy="1611360"/>
          </a:xfrm>
        </p:grpSpPr>
        <p:grpSp>
          <p:nvGrpSpPr>
            <p:cNvPr id="1065" name=""/>
            <p:cNvGrpSpPr/>
            <p:nvPr/>
          </p:nvGrpSpPr>
          <p:grpSpPr>
            <a:xfrm>
              <a:off x="2424240" y="638640"/>
              <a:ext cx="2345760" cy="863280"/>
              <a:chOff x="2424240" y="638640"/>
              <a:chExt cx="2345760" cy="863280"/>
            </a:xfrm>
          </p:grpSpPr>
          <p:sp>
            <p:nvSpPr>
              <p:cNvPr id="1066" name=""/>
              <p:cNvSpPr/>
              <p:nvPr/>
            </p:nvSpPr>
            <p:spPr>
              <a:xfrm>
                <a:off x="2571840" y="771480"/>
                <a:ext cx="0" cy="63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776680" y="638640"/>
                <a:ext cx="1989000" cy="37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Maneuver Element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Independent Reconnaissance Tank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2568600" y="1100160"/>
                <a:ext cx="2199960" cy="185760"/>
                <a:chOff x="2568600" y="1100160"/>
                <a:chExt cx="2199960" cy="18576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2568600" y="1202040"/>
                  <a:ext cx="207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2716200" y="1100160"/>
                  <a:ext cx="231840" cy="185760"/>
                  <a:chOff x="2716200" y="1100160"/>
                  <a:chExt cx="231840" cy="1857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>
                    <a:off x="2716200" y="1128960"/>
                    <a:ext cx="23184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2751120" y="1160640"/>
                    <a:ext cx="165240" cy="8244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2765520" y="1100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2816280" y="110016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2870280" y="1100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76" name=""/>
                <p:cNvSpPr/>
                <p:nvPr/>
              </p:nvSpPr>
              <p:spPr>
                <a:xfrm>
                  <a:off x="3025800" y="1123920"/>
                  <a:ext cx="174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K/TKS Scout Tank (a)  PO-0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2424240" y="642960"/>
                <a:ext cx="284040" cy="250920"/>
                <a:chOff x="2424240" y="642960"/>
                <a:chExt cx="284040" cy="25092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2573280" y="642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9" name=""/>
                <p:cNvGrpSpPr/>
                <p:nvPr/>
              </p:nvGrpSpPr>
              <p:grpSpPr>
                <a:xfrm>
                  <a:off x="2424240" y="700200"/>
                  <a:ext cx="284040" cy="193680"/>
                  <a:chOff x="2424240" y="700200"/>
                  <a:chExt cx="284040" cy="193680"/>
                </a:xfrm>
              </p:grpSpPr>
              <p:sp>
                <p:nvSpPr>
                  <p:cNvPr id="1080" name=""/>
                  <p:cNvSpPr/>
                  <p:nvPr/>
                </p:nvSpPr>
                <p:spPr>
                  <a:xfrm>
                    <a:off x="2424240" y="700200"/>
                    <a:ext cx="284040" cy="193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476080" y="748440"/>
                    <a:ext cx="182160" cy="9252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82" name=""/>
              <p:cNvSpPr/>
              <p:nvPr/>
            </p:nvSpPr>
            <p:spPr>
              <a:xfrm>
                <a:off x="3032280" y="103032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3" name=""/>
              <p:cNvGrpSpPr/>
              <p:nvPr/>
            </p:nvGrpSpPr>
            <p:grpSpPr>
              <a:xfrm>
                <a:off x="2570040" y="1316160"/>
                <a:ext cx="2199960" cy="185760"/>
                <a:chOff x="2570040" y="1316160"/>
                <a:chExt cx="2199960" cy="18576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2570040" y="1418040"/>
                  <a:ext cx="207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5" name=""/>
                <p:cNvGrpSpPr/>
                <p:nvPr/>
              </p:nvGrpSpPr>
              <p:grpSpPr>
                <a:xfrm>
                  <a:off x="2717640" y="1316160"/>
                  <a:ext cx="231840" cy="185760"/>
                  <a:chOff x="2717640" y="1316160"/>
                  <a:chExt cx="231840" cy="185760"/>
                </a:xfrm>
              </p:grpSpPr>
              <p:sp>
                <p:nvSpPr>
                  <p:cNvPr id="1086" name=""/>
                  <p:cNvSpPr/>
                  <p:nvPr/>
                </p:nvSpPr>
                <p:spPr>
                  <a:xfrm>
                    <a:off x="2717640" y="1344960"/>
                    <a:ext cx="23184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2752560" y="1376640"/>
                    <a:ext cx="165240" cy="8244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2766960" y="1316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817720" y="131616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2871720" y="1316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91" name=""/>
                <p:cNvSpPr/>
                <p:nvPr/>
              </p:nvSpPr>
              <p:spPr>
                <a:xfrm>
                  <a:off x="3027240" y="1339920"/>
                  <a:ext cx="174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K/TKS Scout Tank (b)  PO-0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92" name=""/>
            <p:cNvSpPr/>
            <p:nvPr/>
          </p:nvSpPr>
          <p:spPr>
            <a:xfrm>
              <a:off x="2424240" y="1577880"/>
              <a:ext cx="22446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med with 20mm in companies attached to the 10</a:t>
              </a:r>
              <a:r>
                <a:rPr b="0" lang="en-US" sz="8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th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and Warsaw Motorized Brigades, and the Wielkopolski and Pomorska Cavalry Brigades. Otherwise armed with a Machine Gun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ed with a Machine Gu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357280" y="2367000"/>
            <a:ext cx="2382120" cy="1197720"/>
            <a:chOff x="2357280" y="2367000"/>
            <a:chExt cx="2382120" cy="1197720"/>
          </a:xfrm>
        </p:grpSpPr>
        <p:sp>
          <p:nvSpPr>
            <p:cNvPr id="1094" name=""/>
            <p:cNvSpPr/>
            <p:nvPr/>
          </p:nvSpPr>
          <p:spPr>
            <a:xfrm>
              <a:off x="2709720" y="2367000"/>
              <a:ext cx="1989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Armored Car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357280" y="3257640"/>
              <a:ext cx="224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med with a 37mm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ed with a Machine Gu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6" name=""/>
            <p:cNvGrpSpPr/>
            <p:nvPr/>
          </p:nvGrpSpPr>
          <p:grpSpPr>
            <a:xfrm>
              <a:off x="2357280" y="2481480"/>
              <a:ext cx="2382120" cy="704880"/>
              <a:chOff x="2357280" y="2481480"/>
              <a:chExt cx="2382120" cy="704880"/>
            </a:xfrm>
          </p:grpSpPr>
          <p:sp>
            <p:nvSpPr>
              <p:cNvPr id="1097" name=""/>
              <p:cNvSpPr/>
              <p:nvPr/>
            </p:nvSpPr>
            <p:spPr>
              <a:xfrm>
                <a:off x="2504880" y="2689560"/>
                <a:ext cx="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2501640" y="288144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959920" y="2803680"/>
                <a:ext cx="1779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z. 34 Armored Car (a)  PO-07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2965320" y="271008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2503440" y="309744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961720" y="3019680"/>
                <a:ext cx="1747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z. 34 Armored Car (b) PO-07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2357280" y="2481480"/>
                <a:ext cx="291960" cy="253800"/>
                <a:chOff x="2357280" y="2481480"/>
                <a:chExt cx="291960" cy="25380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506320" y="24814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5" name=""/>
                <p:cNvGrpSpPr/>
                <p:nvPr/>
              </p:nvGrpSpPr>
              <p:grpSpPr>
                <a:xfrm>
                  <a:off x="2357280" y="2544480"/>
                  <a:ext cx="291960" cy="190800"/>
                  <a:chOff x="2357280" y="2544480"/>
                  <a:chExt cx="291960" cy="190800"/>
                </a:xfrm>
              </p:grpSpPr>
              <p:grpSp>
                <p:nvGrpSpPr>
                  <p:cNvPr id="1106" name=""/>
                  <p:cNvGrpSpPr/>
                  <p:nvPr/>
                </p:nvGrpSpPr>
                <p:grpSpPr>
                  <a:xfrm>
                    <a:off x="2357280" y="2544840"/>
                    <a:ext cx="291960" cy="190440"/>
                    <a:chOff x="2357280" y="2544840"/>
                    <a:chExt cx="291960" cy="190440"/>
                  </a:xfrm>
                </p:grpSpPr>
                <p:sp>
                  <p:nvSpPr>
                    <p:cNvPr id="1107" name=""/>
                    <p:cNvSpPr/>
                    <p:nvPr/>
                  </p:nvSpPr>
                  <p:spPr>
                    <a:xfrm>
                      <a:off x="2357280" y="2544840"/>
                      <a:ext cx="291960" cy="19044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>
                      <a:off x="2410920" y="2592360"/>
                      <a:ext cx="184320" cy="9072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7280" bIns="17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9" name=""/>
                  <p:cNvSpPr/>
                  <p:nvPr/>
                </p:nvSpPr>
                <p:spPr>
                  <a:xfrm flipV="1">
                    <a:off x="2357280" y="2544480"/>
                    <a:ext cx="287640" cy="190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0" name=""/>
              <p:cNvGrpSpPr/>
              <p:nvPr/>
            </p:nvGrpSpPr>
            <p:grpSpPr>
              <a:xfrm>
                <a:off x="2624040" y="2772000"/>
                <a:ext cx="239760" cy="194760"/>
                <a:chOff x="2624040" y="2772000"/>
                <a:chExt cx="239760" cy="194760"/>
              </a:xfrm>
            </p:grpSpPr>
            <p:grpSp>
              <p:nvGrpSpPr>
                <p:cNvPr id="1111" name=""/>
                <p:cNvGrpSpPr/>
                <p:nvPr/>
              </p:nvGrpSpPr>
              <p:grpSpPr>
                <a:xfrm>
                  <a:off x="2624040" y="2809800"/>
                  <a:ext cx="239760" cy="156960"/>
                  <a:chOff x="2624040" y="2809800"/>
                  <a:chExt cx="239760" cy="156960"/>
                </a:xfrm>
              </p:grpSpPr>
              <p:grpSp>
                <p:nvGrpSpPr>
                  <p:cNvPr id="1112" name=""/>
                  <p:cNvGrpSpPr/>
                  <p:nvPr/>
                </p:nvGrpSpPr>
                <p:grpSpPr>
                  <a:xfrm>
                    <a:off x="2624040" y="2809800"/>
                    <a:ext cx="239760" cy="156960"/>
                    <a:chOff x="2624040" y="2809800"/>
                    <a:chExt cx="239760" cy="156960"/>
                  </a:xfrm>
                </p:grpSpPr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2624040" y="2809800"/>
                      <a:ext cx="23976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2667960" y="2849040"/>
                      <a:ext cx="151560" cy="7488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15" name=""/>
                  <p:cNvSpPr/>
                  <p:nvPr/>
                </p:nvSpPr>
                <p:spPr>
                  <a:xfrm flipV="1">
                    <a:off x="2624040" y="2809800"/>
                    <a:ext cx="236160" cy="1569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6" name=""/>
                <p:cNvGrpSpPr/>
                <p:nvPr/>
              </p:nvGrpSpPr>
              <p:grpSpPr>
                <a:xfrm>
                  <a:off x="2706480" y="2772000"/>
                  <a:ext cx="74880" cy="26640"/>
                  <a:chOff x="2706480" y="2772000"/>
                  <a:chExt cx="74880" cy="2664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2706480" y="277200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2754360" y="2772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19" name=""/>
              <p:cNvGrpSpPr/>
              <p:nvPr/>
            </p:nvGrpSpPr>
            <p:grpSpPr>
              <a:xfrm>
                <a:off x="2616120" y="2990880"/>
                <a:ext cx="239760" cy="195480"/>
                <a:chOff x="2616120" y="2990880"/>
                <a:chExt cx="239760" cy="195480"/>
              </a:xfrm>
            </p:grpSpPr>
            <p:grpSp>
              <p:nvGrpSpPr>
                <p:cNvPr id="1120" name=""/>
                <p:cNvGrpSpPr/>
                <p:nvPr/>
              </p:nvGrpSpPr>
              <p:grpSpPr>
                <a:xfrm>
                  <a:off x="2616120" y="3028680"/>
                  <a:ext cx="239760" cy="157680"/>
                  <a:chOff x="2616120" y="3028680"/>
                  <a:chExt cx="239760" cy="157680"/>
                </a:xfrm>
              </p:grpSpPr>
              <p:grpSp>
                <p:nvGrpSpPr>
                  <p:cNvPr id="1121" name=""/>
                  <p:cNvGrpSpPr/>
                  <p:nvPr/>
                </p:nvGrpSpPr>
                <p:grpSpPr>
                  <a:xfrm>
                    <a:off x="2616120" y="3029040"/>
                    <a:ext cx="239760" cy="157320"/>
                    <a:chOff x="2616120" y="3029040"/>
                    <a:chExt cx="239760" cy="157320"/>
                  </a:xfrm>
                </p:grpSpPr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2616120" y="3029040"/>
                      <a:ext cx="239760" cy="15732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2660040" y="3068280"/>
                      <a:ext cx="151560" cy="74880"/>
                    </a:xfrm>
                    <a:prstGeom prst="ellipse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24" name=""/>
                  <p:cNvSpPr/>
                  <p:nvPr/>
                </p:nvSpPr>
                <p:spPr>
                  <a:xfrm flipV="1">
                    <a:off x="2616120" y="3028680"/>
                    <a:ext cx="236160" cy="157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2698560" y="2990880"/>
                  <a:ext cx="74880" cy="27000"/>
                  <a:chOff x="2698560" y="2990880"/>
                  <a:chExt cx="74880" cy="2700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2698560" y="299088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2746440" y="29908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28" name=""/>
          <p:cNvGrpSpPr/>
          <p:nvPr/>
        </p:nvGrpSpPr>
        <p:grpSpPr>
          <a:xfrm>
            <a:off x="2305080" y="5100480"/>
            <a:ext cx="2354040" cy="1062360"/>
            <a:chOff x="2305080" y="5100480"/>
            <a:chExt cx="2354040" cy="1062360"/>
          </a:xfrm>
        </p:grpSpPr>
        <p:sp>
          <p:nvSpPr>
            <p:cNvPr id="1129" name=""/>
            <p:cNvSpPr/>
            <p:nvPr/>
          </p:nvSpPr>
          <p:spPr>
            <a:xfrm>
              <a:off x="2454480" y="521496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452680" y="5454720"/>
              <a:ext cx="0" cy="622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657520" y="5100480"/>
              <a:ext cx="1989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0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ight Tank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49440" y="5614920"/>
              <a:ext cx="20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05560" y="5537160"/>
              <a:ext cx="1752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x1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ckers E type B Tank    PO-0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4" name=""/>
            <p:cNvGrpSpPr/>
            <p:nvPr/>
          </p:nvGrpSpPr>
          <p:grpSpPr>
            <a:xfrm>
              <a:off x="2305080" y="5288040"/>
              <a:ext cx="284040" cy="193680"/>
              <a:chOff x="2305080" y="5288040"/>
              <a:chExt cx="284040" cy="193680"/>
            </a:xfrm>
          </p:grpSpPr>
          <p:sp>
            <p:nvSpPr>
              <p:cNvPr id="1135" name=""/>
              <p:cNvSpPr/>
              <p:nvPr/>
            </p:nvSpPr>
            <p:spPr>
              <a:xfrm>
                <a:off x="2305080" y="5288040"/>
                <a:ext cx="284040" cy="1936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356920" y="5336280"/>
                <a:ext cx="182160" cy="92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7" name=""/>
            <p:cNvSpPr/>
            <p:nvPr/>
          </p:nvSpPr>
          <p:spPr>
            <a:xfrm>
              <a:off x="2913120" y="544356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451240" y="5730840"/>
              <a:ext cx="2207880" cy="184320"/>
              <a:chOff x="2451240" y="5730840"/>
              <a:chExt cx="2207880" cy="184320"/>
            </a:xfrm>
          </p:grpSpPr>
          <p:sp>
            <p:nvSpPr>
              <p:cNvPr id="1139" name=""/>
              <p:cNvSpPr/>
              <p:nvPr/>
            </p:nvSpPr>
            <p:spPr>
              <a:xfrm>
                <a:off x="2451240" y="583092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907000" y="5753160"/>
                <a:ext cx="1752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ickers E type B Tank    PO-0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41" name=""/>
              <p:cNvGrpSpPr/>
              <p:nvPr/>
            </p:nvGrpSpPr>
            <p:grpSpPr>
              <a:xfrm>
                <a:off x="2598840" y="5730840"/>
                <a:ext cx="231840" cy="184320"/>
                <a:chOff x="2598840" y="5730840"/>
                <a:chExt cx="231840" cy="184320"/>
              </a:xfrm>
            </p:grpSpPr>
            <p:sp>
              <p:nvSpPr>
                <p:cNvPr id="1142" name=""/>
                <p:cNvSpPr/>
                <p:nvPr/>
              </p:nvSpPr>
              <p:spPr>
                <a:xfrm>
                  <a:off x="2598840" y="5757840"/>
                  <a:ext cx="231840" cy="157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2633760" y="5789520"/>
                  <a:ext cx="165240" cy="828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4" name=""/>
                <p:cNvGrpSpPr/>
                <p:nvPr/>
              </p:nvGrpSpPr>
              <p:grpSpPr>
                <a:xfrm>
                  <a:off x="2675160" y="5730840"/>
                  <a:ext cx="74160" cy="27000"/>
                  <a:chOff x="2675160" y="5730840"/>
                  <a:chExt cx="74160" cy="2700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2675160" y="57308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2722680" y="573084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147" name=""/>
            <p:cNvGrpSpPr/>
            <p:nvPr/>
          </p:nvGrpSpPr>
          <p:grpSpPr>
            <a:xfrm>
              <a:off x="2603520" y="5497560"/>
              <a:ext cx="231840" cy="183600"/>
              <a:chOff x="2603520" y="5497560"/>
              <a:chExt cx="231840" cy="1836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603520" y="5524200"/>
                <a:ext cx="231840" cy="15696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638440" y="5555880"/>
                <a:ext cx="165240" cy="8244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0" name=""/>
              <p:cNvGrpSpPr/>
              <p:nvPr/>
            </p:nvGrpSpPr>
            <p:grpSpPr>
              <a:xfrm>
                <a:off x="2679840" y="5497560"/>
                <a:ext cx="74160" cy="26640"/>
                <a:chOff x="2679840" y="5497560"/>
                <a:chExt cx="74160" cy="26640"/>
              </a:xfrm>
            </p:grpSpPr>
            <p:sp>
              <p:nvSpPr>
                <p:cNvPr id="1151" name=""/>
                <p:cNvSpPr/>
                <p:nvPr/>
              </p:nvSpPr>
              <p:spPr>
                <a:xfrm>
                  <a:off x="2679840" y="549756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2727360" y="549756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53" name=""/>
            <p:cNvGrpSpPr/>
            <p:nvPr/>
          </p:nvGrpSpPr>
          <p:grpSpPr>
            <a:xfrm>
              <a:off x="2444760" y="5978520"/>
              <a:ext cx="2207880" cy="184320"/>
              <a:chOff x="2444760" y="5978520"/>
              <a:chExt cx="2207880" cy="184320"/>
            </a:xfrm>
          </p:grpSpPr>
          <p:sp>
            <p:nvSpPr>
              <p:cNvPr id="1154" name=""/>
              <p:cNvSpPr/>
              <p:nvPr/>
            </p:nvSpPr>
            <p:spPr>
              <a:xfrm>
                <a:off x="2444760" y="607860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00520" y="6000840"/>
                <a:ext cx="1752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Vickers E type A Tank    PO-0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2592360" y="5978520"/>
                <a:ext cx="231840" cy="184320"/>
                <a:chOff x="2592360" y="5978520"/>
                <a:chExt cx="231840" cy="18432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2592360" y="6005520"/>
                  <a:ext cx="231840" cy="157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627280" y="6037200"/>
                  <a:ext cx="165240" cy="8280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668680" y="5978520"/>
                  <a:ext cx="74160" cy="27000"/>
                  <a:chOff x="2668680" y="5978520"/>
                  <a:chExt cx="74160" cy="2700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668680" y="59785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16200" y="597852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162" name=""/>
          <p:cNvGrpSpPr/>
          <p:nvPr/>
        </p:nvGrpSpPr>
        <p:grpSpPr>
          <a:xfrm>
            <a:off x="2301840" y="3645000"/>
            <a:ext cx="2345760" cy="1012680"/>
            <a:chOff x="2301840" y="3645000"/>
            <a:chExt cx="2345760" cy="1012680"/>
          </a:xfrm>
        </p:grpSpPr>
        <p:grpSp>
          <p:nvGrpSpPr>
            <p:cNvPr id="1163" name=""/>
            <p:cNvGrpSpPr/>
            <p:nvPr/>
          </p:nvGrpSpPr>
          <p:grpSpPr>
            <a:xfrm>
              <a:off x="2301840" y="3645000"/>
              <a:ext cx="2345760" cy="814320"/>
              <a:chOff x="2301840" y="3645000"/>
              <a:chExt cx="2345760" cy="814320"/>
            </a:xfrm>
          </p:grpSpPr>
          <p:sp>
            <p:nvSpPr>
              <p:cNvPr id="1164" name=""/>
              <p:cNvSpPr/>
              <p:nvPr/>
            </p:nvSpPr>
            <p:spPr>
              <a:xfrm>
                <a:off x="2450880" y="375912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2449440" y="3967200"/>
                <a:ext cx="0" cy="41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653920" y="3645000"/>
                <a:ext cx="19890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Maneuver Element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Tankette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7" name=""/>
              <p:cNvGrpSpPr/>
              <p:nvPr/>
            </p:nvGrpSpPr>
            <p:grpSpPr>
              <a:xfrm>
                <a:off x="2446200" y="4057560"/>
                <a:ext cx="2199600" cy="185760"/>
                <a:chOff x="2446200" y="4057560"/>
                <a:chExt cx="2199600" cy="18576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2446200" y="4159440"/>
                  <a:ext cx="207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69" name=""/>
                <p:cNvGrpSpPr/>
                <p:nvPr/>
              </p:nvGrpSpPr>
              <p:grpSpPr>
                <a:xfrm>
                  <a:off x="2593440" y="4057560"/>
                  <a:ext cx="231480" cy="185760"/>
                  <a:chOff x="2593440" y="4057560"/>
                  <a:chExt cx="231480" cy="185760"/>
                </a:xfrm>
              </p:grpSpPr>
              <p:sp>
                <p:nvSpPr>
                  <p:cNvPr id="1170" name=""/>
                  <p:cNvSpPr/>
                  <p:nvPr/>
                </p:nvSpPr>
                <p:spPr>
                  <a:xfrm>
                    <a:off x="2593440" y="4086360"/>
                    <a:ext cx="23148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628000" y="4118040"/>
                    <a:ext cx="164880" cy="8244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642400" y="40575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693160" y="40575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747160" y="405756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2903040" y="4081320"/>
                  <a:ext cx="174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K/TKS Scout Tank (a)  PO-0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2301840" y="3832200"/>
                <a:ext cx="284040" cy="193680"/>
                <a:chOff x="2301840" y="3832200"/>
                <a:chExt cx="284040" cy="19368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2301840" y="3832200"/>
                  <a:ext cx="284040" cy="19368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2353680" y="3880440"/>
                  <a:ext cx="182160" cy="9252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9" name=""/>
              <p:cNvSpPr/>
              <p:nvPr/>
            </p:nvSpPr>
            <p:spPr>
              <a:xfrm>
                <a:off x="2909520" y="398772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0" name=""/>
              <p:cNvGrpSpPr/>
              <p:nvPr/>
            </p:nvGrpSpPr>
            <p:grpSpPr>
              <a:xfrm>
                <a:off x="2447640" y="4273560"/>
                <a:ext cx="2199960" cy="185760"/>
                <a:chOff x="2447640" y="4273560"/>
                <a:chExt cx="2199960" cy="18576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2447640" y="4375440"/>
                  <a:ext cx="207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2" name=""/>
                <p:cNvGrpSpPr/>
                <p:nvPr/>
              </p:nvGrpSpPr>
              <p:grpSpPr>
                <a:xfrm>
                  <a:off x="2595240" y="4273560"/>
                  <a:ext cx="231840" cy="185760"/>
                  <a:chOff x="2595240" y="4273560"/>
                  <a:chExt cx="231840" cy="185760"/>
                </a:xfrm>
              </p:grpSpPr>
              <p:sp>
                <p:nvSpPr>
                  <p:cNvPr id="1183" name=""/>
                  <p:cNvSpPr/>
                  <p:nvPr/>
                </p:nvSpPr>
                <p:spPr>
                  <a:xfrm>
                    <a:off x="2595240" y="4302360"/>
                    <a:ext cx="23184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630160" y="4334040"/>
                    <a:ext cx="165240" cy="82440"/>
                  </a:xfrm>
                  <a:prstGeom prst="ellipse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1880" bIns="118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644560" y="42735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695320" y="427356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749320" y="42735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8" name=""/>
                <p:cNvSpPr/>
                <p:nvPr/>
              </p:nvSpPr>
              <p:spPr>
                <a:xfrm>
                  <a:off x="2904840" y="4297320"/>
                  <a:ext cx="1742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3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TK/TKS Scout Tank (a)  PO-0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9" name=""/>
            <p:cNvSpPr/>
            <p:nvPr/>
          </p:nvSpPr>
          <p:spPr>
            <a:xfrm>
              <a:off x="2301840" y="4535640"/>
              <a:ext cx="2244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(a)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med with a Machine Gu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4962600" y="2808360"/>
            <a:ext cx="2536920" cy="1314360"/>
            <a:chOff x="4962600" y="2808360"/>
            <a:chExt cx="2536920" cy="1314360"/>
          </a:xfrm>
        </p:grpSpPr>
        <p:grpSp>
          <p:nvGrpSpPr>
            <p:cNvPr id="1191" name=""/>
            <p:cNvGrpSpPr/>
            <p:nvPr/>
          </p:nvGrpSpPr>
          <p:grpSpPr>
            <a:xfrm>
              <a:off x="4962600" y="2808360"/>
              <a:ext cx="2362320" cy="1233360"/>
              <a:chOff x="4962600" y="2808360"/>
              <a:chExt cx="2362320" cy="1233360"/>
            </a:xfrm>
          </p:grpSpPr>
          <p:sp>
            <p:nvSpPr>
              <p:cNvPr id="1192" name=""/>
              <p:cNvSpPr/>
              <p:nvPr/>
            </p:nvSpPr>
            <p:spPr>
              <a:xfrm>
                <a:off x="5276880" y="3382920"/>
                <a:ext cx="0" cy="65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108760" y="3059280"/>
                <a:ext cx="0" cy="73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313600" y="2808360"/>
                <a:ext cx="201132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Maneuver Element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Motorized Reconnaissance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108760" y="2949480"/>
                <a:ext cx="0" cy="63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6" name=""/>
              <p:cNvGrpSpPr/>
              <p:nvPr/>
            </p:nvGrpSpPr>
            <p:grpSpPr>
              <a:xfrm>
                <a:off x="5108760" y="3125880"/>
                <a:ext cx="2216160" cy="272520"/>
                <a:chOff x="5108760" y="3125880"/>
                <a:chExt cx="2216160" cy="2725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5108760" y="3319560"/>
                  <a:ext cx="207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8" name=""/>
                <p:cNvGrpSpPr/>
                <p:nvPr/>
              </p:nvGrpSpPr>
              <p:grpSpPr>
                <a:xfrm>
                  <a:off x="5238720" y="3209760"/>
                  <a:ext cx="237960" cy="188640"/>
                  <a:chOff x="5238720" y="3209760"/>
                  <a:chExt cx="237960" cy="18864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5238720" y="323964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5343480" y="3209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1" name=""/>
                <p:cNvSpPr/>
                <p:nvPr/>
              </p:nvSpPr>
              <p:spPr>
                <a:xfrm>
                  <a:off x="5567400" y="324972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567400" y="312588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5105520" y="3432240"/>
                <a:ext cx="2168640" cy="189000"/>
                <a:chOff x="5105520" y="3432240"/>
                <a:chExt cx="2168640" cy="1890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5105520" y="3538440"/>
                  <a:ext cx="208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568840" y="3456000"/>
                  <a:ext cx="1705320" cy="1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Infantry                      PO-1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6" name=""/>
                <p:cNvGrpSpPr/>
                <p:nvPr/>
              </p:nvGrpSpPr>
              <p:grpSpPr>
                <a:xfrm>
                  <a:off x="5238720" y="3432240"/>
                  <a:ext cx="231480" cy="189000"/>
                  <a:chOff x="5238720" y="3432240"/>
                  <a:chExt cx="231480" cy="189000"/>
                </a:xfrm>
              </p:grpSpPr>
              <p:grpSp>
                <p:nvGrpSpPr>
                  <p:cNvPr id="1207" name=""/>
                  <p:cNvGrpSpPr/>
                  <p:nvPr/>
                </p:nvGrpSpPr>
                <p:grpSpPr>
                  <a:xfrm>
                    <a:off x="5238720" y="3464280"/>
                    <a:ext cx="231480" cy="156960"/>
                    <a:chOff x="5238720" y="3464280"/>
                    <a:chExt cx="231480" cy="156960"/>
                  </a:xfrm>
                </p:grpSpPr>
                <p:sp>
                  <p:nvSpPr>
                    <p:cNvPr id="1208" name=""/>
                    <p:cNvSpPr/>
                    <p:nvPr/>
                  </p:nvSpPr>
                  <p:spPr>
                    <a:xfrm>
                      <a:off x="5238720" y="3464280"/>
                      <a:ext cx="23148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9" name=""/>
                    <p:cNvSpPr/>
                    <p:nvPr/>
                  </p:nvSpPr>
                  <p:spPr>
                    <a:xfrm flipV="1">
                      <a:off x="5240880" y="3466440"/>
                      <a:ext cx="225360" cy="1533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5238720" y="346644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11" name=""/>
                  <p:cNvGrpSpPr/>
                  <p:nvPr/>
                </p:nvGrpSpPr>
                <p:grpSpPr>
                  <a:xfrm>
                    <a:off x="5317920" y="3432240"/>
                    <a:ext cx="74160" cy="27000"/>
                    <a:chOff x="5317920" y="3432240"/>
                    <a:chExt cx="74160" cy="27000"/>
                  </a:xfrm>
                </p:grpSpPr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5317920" y="343224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5365440" y="343224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214" name=""/>
              <p:cNvGrpSpPr/>
              <p:nvPr/>
            </p:nvGrpSpPr>
            <p:grpSpPr>
              <a:xfrm>
                <a:off x="4962600" y="3017880"/>
                <a:ext cx="284040" cy="193320"/>
                <a:chOff x="4962600" y="3017880"/>
                <a:chExt cx="284040" cy="19332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4962600" y="3017880"/>
                  <a:ext cx="284040" cy="1933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 flipV="1">
                  <a:off x="4962600" y="3017880"/>
                  <a:ext cx="282240" cy="191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5118120" y="3156840"/>
                  <a:ext cx="91080" cy="32760"/>
                  <a:chOff x="5118120" y="3156840"/>
                  <a:chExt cx="91080" cy="32760"/>
                </a:xfrm>
              </p:grpSpPr>
              <p:sp>
                <p:nvSpPr>
                  <p:cNvPr id="1218" name=""/>
                  <p:cNvSpPr/>
                  <p:nvPr/>
                </p:nvSpPr>
                <p:spPr>
                  <a:xfrm>
                    <a:off x="5118120" y="3156840"/>
                    <a:ext cx="34920" cy="32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5176440" y="3156840"/>
                    <a:ext cx="32760" cy="32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20" name=""/>
            <p:cNvGrpSpPr/>
            <p:nvPr/>
          </p:nvGrpSpPr>
          <p:grpSpPr>
            <a:xfrm>
              <a:off x="5108760" y="3673440"/>
              <a:ext cx="2377800" cy="191880"/>
              <a:chOff x="5108760" y="3673440"/>
              <a:chExt cx="2377800" cy="191880"/>
            </a:xfrm>
          </p:grpSpPr>
          <p:sp>
            <p:nvSpPr>
              <p:cNvPr id="1221" name=""/>
              <p:cNvSpPr/>
              <p:nvPr/>
            </p:nvSpPr>
            <p:spPr>
              <a:xfrm>
                <a:off x="5108760" y="379404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5238720" y="3673440"/>
                <a:ext cx="231840" cy="191880"/>
                <a:chOff x="5238720" y="3673440"/>
                <a:chExt cx="231840" cy="191880"/>
              </a:xfrm>
            </p:grpSpPr>
            <p:grpSp>
              <p:nvGrpSpPr>
                <p:cNvPr id="1223" name=""/>
                <p:cNvGrpSpPr/>
                <p:nvPr/>
              </p:nvGrpSpPr>
              <p:grpSpPr>
                <a:xfrm>
                  <a:off x="5238720" y="3708360"/>
                  <a:ext cx="231840" cy="156960"/>
                  <a:chOff x="5238720" y="3708360"/>
                  <a:chExt cx="231840" cy="156960"/>
                </a:xfrm>
              </p:grpSpPr>
              <p:sp>
                <p:nvSpPr>
                  <p:cNvPr id="1224" name=""/>
                  <p:cNvSpPr/>
                  <p:nvPr/>
                </p:nvSpPr>
                <p:spPr>
                  <a:xfrm>
                    <a:off x="5238720" y="3708360"/>
                    <a:ext cx="23184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 flipV="1">
                    <a:off x="5238720" y="371160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352480" y="370836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7" name=""/>
                <p:cNvSpPr/>
                <p:nvPr/>
              </p:nvSpPr>
              <p:spPr>
                <a:xfrm>
                  <a:off x="5342040" y="36734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8" name=""/>
              <p:cNvSpPr/>
              <p:nvPr/>
            </p:nvSpPr>
            <p:spPr>
              <a:xfrm>
                <a:off x="5567400" y="3713040"/>
                <a:ext cx="19191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titank Rifle             PO-1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5247000" y="3870360"/>
              <a:ext cx="2252520" cy="252360"/>
              <a:chOff x="5247000" y="3870360"/>
              <a:chExt cx="2252520" cy="25236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5330880" y="3925800"/>
                <a:ext cx="74880" cy="27000"/>
                <a:chOff x="5330880" y="3925800"/>
                <a:chExt cx="74880" cy="2700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5330880" y="392580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378760" y="39258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5594400" y="3985920"/>
                <a:ext cx="190512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Motorcycles            PO-0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585040" y="3870360"/>
                <a:ext cx="5778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5" name=""/>
              <p:cNvGrpSpPr/>
              <p:nvPr/>
            </p:nvGrpSpPr>
            <p:grpSpPr>
              <a:xfrm>
                <a:off x="5247000" y="3965400"/>
                <a:ext cx="231480" cy="156960"/>
                <a:chOff x="5247000" y="3965400"/>
                <a:chExt cx="231480" cy="15696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5247000" y="3965400"/>
                  <a:ext cx="231480" cy="1569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 flipV="1">
                  <a:off x="5247000" y="3965400"/>
                  <a:ext cx="23004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38" name=""/>
                <p:cNvGrpSpPr/>
                <p:nvPr/>
              </p:nvGrpSpPr>
              <p:grpSpPr>
                <a:xfrm>
                  <a:off x="5373720" y="4078080"/>
                  <a:ext cx="74880" cy="27000"/>
                  <a:chOff x="5373720" y="4078080"/>
                  <a:chExt cx="74880" cy="27000"/>
                </a:xfrm>
              </p:grpSpPr>
              <p:sp>
                <p:nvSpPr>
                  <p:cNvPr id="1239" name=""/>
                  <p:cNvSpPr/>
                  <p:nvPr/>
                </p:nvSpPr>
                <p:spPr>
                  <a:xfrm>
                    <a:off x="5373720" y="407808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>
                    <a:off x="5421600" y="4078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41" name=""/>
          <p:cNvGrpSpPr/>
          <p:nvPr/>
        </p:nvGrpSpPr>
        <p:grpSpPr>
          <a:xfrm>
            <a:off x="4946760" y="4297320"/>
            <a:ext cx="2341080" cy="814320"/>
            <a:chOff x="4946760" y="4297320"/>
            <a:chExt cx="2341080" cy="814320"/>
          </a:xfrm>
        </p:grpSpPr>
        <p:sp>
          <p:nvSpPr>
            <p:cNvPr id="1242" name=""/>
            <p:cNvSpPr/>
            <p:nvPr/>
          </p:nvSpPr>
          <p:spPr>
            <a:xfrm>
              <a:off x="5095800" y="441144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94360" y="461952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298840" y="4297320"/>
              <a:ext cx="1989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Light Tank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5091120" y="4709880"/>
              <a:ext cx="1588320" cy="185760"/>
              <a:chOff x="5091120" y="4709880"/>
              <a:chExt cx="1588320" cy="18576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91120" y="4811760"/>
                <a:ext cx="207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5238360" y="4709880"/>
                <a:ext cx="231480" cy="185760"/>
                <a:chOff x="5238360" y="4709880"/>
                <a:chExt cx="231480" cy="18576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5238360" y="4738680"/>
                  <a:ext cx="231480" cy="1569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272920" y="4770360"/>
                  <a:ext cx="164880" cy="824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287320" y="4709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338080" y="4709880"/>
                  <a:ext cx="284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392080" y="470988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3" name=""/>
              <p:cNvSpPr/>
              <p:nvPr/>
            </p:nvSpPr>
            <p:spPr>
              <a:xfrm>
                <a:off x="5549400" y="4733640"/>
                <a:ext cx="1130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7TPjw Tank PO-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4946760" y="4484520"/>
              <a:ext cx="284040" cy="193680"/>
              <a:chOff x="4946760" y="4484520"/>
              <a:chExt cx="284040" cy="193680"/>
            </a:xfrm>
          </p:grpSpPr>
          <p:sp>
            <p:nvSpPr>
              <p:cNvPr id="1255" name=""/>
              <p:cNvSpPr/>
              <p:nvPr/>
            </p:nvSpPr>
            <p:spPr>
              <a:xfrm>
                <a:off x="4946760" y="4484520"/>
                <a:ext cx="284040" cy="19368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998600" y="4532760"/>
                <a:ext cx="182160" cy="9252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7" name=""/>
            <p:cNvSpPr/>
            <p:nvPr/>
          </p:nvSpPr>
          <p:spPr>
            <a:xfrm>
              <a:off x="5554440" y="4640040"/>
              <a:ext cx="577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8" name=""/>
            <p:cNvGrpSpPr/>
            <p:nvPr/>
          </p:nvGrpSpPr>
          <p:grpSpPr>
            <a:xfrm>
              <a:off x="5092560" y="4925880"/>
              <a:ext cx="1589040" cy="185760"/>
              <a:chOff x="5092560" y="4925880"/>
              <a:chExt cx="1589040" cy="185760"/>
            </a:xfrm>
          </p:grpSpPr>
          <p:sp>
            <p:nvSpPr>
              <p:cNvPr id="1259" name=""/>
              <p:cNvSpPr/>
              <p:nvPr/>
            </p:nvSpPr>
            <p:spPr>
              <a:xfrm>
                <a:off x="5092560" y="502776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0" name=""/>
              <p:cNvGrpSpPr/>
              <p:nvPr/>
            </p:nvGrpSpPr>
            <p:grpSpPr>
              <a:xfrm>
                <a:off x="5240160" y="4925880"/>
                <a:ext cx="231840" cy="185760"/>
                <a:chOff x="5240160" y="4925880"/>
                <a:chExt cx="231840" cy="18576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5240160" y="4954680"/>
                  <a:ext cx="231840" cy="15696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275080" y="4986360"/>
                  <a:ext cx="165240" cy="8244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289480" y="4925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340240" y="4925880"/>
                  <a:ext cx="288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394240" y="49258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6" name=""/>
              <p:cNvSpPr/>
              <p:nvPr/>
            </p:nvSpPr>
            <p:spPr>
              <a:xfrm>
                <a:off x="5551560" y="4949640"/>
                <a:ext cx="11300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5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7TPjw Tank PO-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7" name=""/>
          <p:cNvGrpSpPr/>
          <p:nvPr/>
        </p:nvGrpSpPr>
        <p:grpSpPr>
          <a:xfrm>
            <a:off x="4948200" y="5278320"/>
            <a:ext cx="2360520" cy="1297800"/>
            <a:chOff x="4948200" y="5278320"/>
            <a:chExt cx="2360520" cy="1297800"/>
          </a:xfrm>
        </p:grpSpPr>
        <p:grpSp>
          <p:nvGrpSpPr>
            <p:cNvPr id="1268" name=""/>
            <p:cNvGrpSpPr/>
            <p:nvPr/>
          </p:nvGrpSpPr>
          <p:grpSpPr>
            <a:xfrm>
              <a:off x="5092560" y="5551200"/>
              <a:ext cx="2216160" cy="585720"/>
              <a:chOff x="5092560" y="5551200"/>
              <a:chExt cx="2216160" cy="585720"/>
            </a:xfrm>
          </p:grpSpPr>
          <p:sp>
            <p:nvSpPr>
              <p:cNvPr id="1269" name=""/>
              <p:cNvSpPr/>
              <p:nvPr/>
            </p:nvSpPr>
            <p:spPr>
              <a:xfrm>
                <a:off x="5254200" y="5744520"/>
                <a:ext cx="0" cy="27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0" name=""/>
              <p:cNvGrpSpPr/>
              <p:nvPr/>
            </p:nvGrpSpPr>
            <p:grpSpPr>
              <a:xfrm>
                <a:off x="5092560" y="5551200"/>
                <a:ext cx="2216160" cy="272160"/>
                <a:chOff x="5092560" y="5551200"/>
                <a:chExt cx="2216160" cy="27216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5092560" y="5744520"/>
                  <a:ext cx="2077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2" name=""/>
                <p:cNvGrpSpPr/>
                <p:nvPr/>
              </p:nvGrpSpPr>
              <p:grpSpPr>
                <a:xfrm>
                  <a:off x="5222520" y="5634720"/>
                  <a:ext cx="237960" cy="188640"/>
                  <a:chOff x="5222520" y="5634720"/>
                  <a:chExt cx="237960" cy="188640"/>
                </a:xfrm>
              </p:grpSpPr>
              <p:sp>
                <p:nvSpPr>
                  <p:cNvPr id="1273" name=""/>
                  <p:cNvSpPr/>
                  <p:nvPr/>
                </p:nvSpPr>
                <p:spPr>
                  <a:xfrm>
                    <a:off x="5222520" y="566460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5327280" y="56347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5" name=""/>
                <p:cNvSpPr/>
                <p:nvPr/>
              </p:nvSpPr>
              <p:spPr>
                <a:xfrm>
                  <a:off x="5551200" y="5674680"/>
                  <a:ext cx="1757520" cy="14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551200" y="555120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7" name=""/>
              <p:cNvGrpSpPr/>
              <p:nvPr/>
            </p:nvGrpSpPr>
            <p:grpSpPr>
              <a:xfrm>
                <a:off x="5224320" y="5842800"/>
                <a:ext cx="2033640" cy="294120"/>
                <a:chOff x="5224320" y="5842800"/>
                <a:chExt cx="2033640" cy="294120"/>
              </a:xfrm>
            </p:grpSpPr>
            <p:grpSp>
              <p:nvGrpSpPr>
                <p:cNvPr id="1278" name=""/>
                <p:cNvGrpSpPr/>
                <p:nvPr/>
              </p:nvGrpSpPr>
              <p:grpSpPr>
                <a:xfrm>
                  <a:off x="5224320" y="5909040"/>
                  <a:ext cx="231480" cy="227880"/>
                  <a:chOff x="5224320" y="5909040"/>
                  <a:chExt cx="231480" cy="22788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5224320" y="5950080"/>
                    <a:ext cx="23148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5230440" y="61102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5411520" y="61102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5325840" y="59090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83" name=""/>
                <p:cNvSpPr/>
                <p:nvPr/>
              </p:nvSpPr>
              <p:spPr>
                <a:xfrm>
                  <a:off x="5551200" y="595368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552640" y="584280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5" name=""/>
            <p:cNvSpPr/>
            <p:nvPr/>
          </p:nvSpPr>
          <p:spPr>
            <a:xfrm>
              <a:off x="5097240" y="5392440"/>
              <a:ext cx="0" cy="63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095800" y="5600520"/>
              <a:ext cx="0" cy="914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300640" y="5278320"/>
              <a:ext cx="19890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dependent Light Tank Compan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8" name=""/>
            <p:cNvGrpSpPr/>
            <p:nvPr/>
          </p:nvGrpSpPr>
          <p:grpSpPr>
            <a:xfrm>
              <a:off x="4948200" y="5465520"/>
              <a:ext cx="284040" cy="193320"/>
              <a:chOff x="4948200" y="5465520"/>
              <a:chExt cx="284040" cy="193320"/>
            </a:xfrm>
          </p:grpSpPr>
          <p:sp>
            <p:nvSpPr>
              <p:cNvPr id="1289" name=""/>
              <p:cNvSpPr/>
              <p:nvPr/>
            </p:nvSpPr>
            <p:spPr>
              <a:xfrm>
                <a:off x="4948200" y="5465520"/>
                <a:ext cx="284040" cy="19332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000040" y="5513760"/>
                <a:ext cx="182160" cy="92160"/>
              </a:xfrm>
              <a:prstGeom prst="ellipse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5089320" y="6159240"/>
              <a:ext cx="1836720" cy="185040"/>
              <a:chOff x="5089320" y="6159240"/>
              <a:chExt cx="1836720" cy="185040"/>
            </a:xfrm>
          </p:grpSpPr>
          <p:sp>
            <p:nvSpPr>
              <p:cNvPr id="1292" name=""/>
              <p:cNvSpPr/>
              <p:nvPr/>
            </p:nvSpPr>
            <p:spPr>
              <a:xfrm>
                <a:off x="5089320" y="6260760"/>
                <a:ext cx="208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549040" y="6183000"/>
                <a:ext cx="1377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3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T-17 w/37mm    FR-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4" name=""/>
              <p:cNvGrpSpPr/>
              <p:nvPr/>
            </p:nvGrpSpPr>
            <p:grpSpPr>
              <a:xfrm>
                <a:off x="5236920" y="6159240"/>
                <a:ext cx="231840" cy="185040"/>
                <a:chOff x="5236920" y="6159240"/>
                <a:chExt cx="231840" cy="1850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5236920" y="6187680"/>
                  <a:ext cx="231840" cy="156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5271840" y="6219360"/>
                  <a:ext cx="165240" cy="8208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7" name=""/>
                <p:cNvGrpSpPr/>
                <p:nvPr/>
              </p:nvGrpSpPr>
              <p:grpSpPr>
                <a:xfrm>
                  <a:off x="5315040" y="6159240"/>
                  <a:ext cx="74160" cy="26640"/>
                  <a:chOff x="5315040" y="6159240"/>
                  <a:chExt cx="74160" cy="26640"/>
                </a:xfrm>
              </p:grpSpPr>
              <p:sp>
                <p:nvSpPr>
                  <p:cNvPr id="1298" name=""/>
                  <p:cNvSpPr/>
                  <p:nvPr/>
                </p:nvSpPr>
                <p:spPr>
                  <a:xfrm>
                    <a:off x="5315040" y="61592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5362560" y="615924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300" name=""/>
            <p:cNvGrpSpPr/>
            <p:nvPr/>
          </p:nvGrpSpPr>
          <p:grpSpPr>
            <a:xfrm>
              <a:off x="5091120" y="6391080"/>
              <a:ext cx="1829880" cy="185040"/>
              <a:chOff x="5091120" y="6391080"/>
              <a:chExt cx="1829880" cy="185040"/>
            </a:xfrm>
          </p:grpSpPr>
          <p:sp>
            <p:nvSpPr>
              <p:cNvPr id="1301" name=""/>
              <p:cNvSpPr/>
              <p:nvPr/>
            </p:nvSpPr>
            <p:spPr>
              <a:xfrm>
                <a:off x="5091120" y="650016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550120" y="6422400"/>
                <a:ext cx="13708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2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FT-17 w/MG        FR-0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3" name=""/>
              <p:cNvGrpSpPr/>
              <p:nvPr/>
            </p:nvGrpSpPr>
            <p:grpSpPr>
              <a:xfrm>
                <a:off x="5240160" y="6391080"/>
                <a:ext cx="231840" cy="185040"/>
                <a:chOff x="5240160" y="6391080"/>
                <a:chExt cx="231840" cy="18504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5240160" y="6419520"/>
                  <a:ext cx="231840" cy="156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5275080" y="6451200"/>
                  <a:ext cx="165240" cy="82080"/>
                </a:xfrm>
                <a:prstGeom prst="ellipse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520" bIns="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06" name=""/>
                <p:cNvGrpSpPr/>
                <p:nvPr/>
              </p:nvGrpSpPr>
              <p:grpSpPr>
                <a:xfrm>
                  <a:off x="5318280" y="6391080"/>
                  <a:ext cx="74160" cy="26640"/>
                  <a:chOff x="5318280" y="6391080"/>
                  <a:chExt cx="74160" cy="2664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>
                    <a:off x="5318280" y="6391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5365800" y="639108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9" name=""/>
          <p:cNvGrpSpPr/>
          <p:nvPr/>
        </p:nvGrpSpPr>
        <p:grpSpPr>
          <a:xfrm>
            <a:off x="5029200" y="471600"/>
            <a:ext cx="2520720" cy="2217960"/>
            <a:chOff x="5029200" y="471600"/>
            <a:chExt cx="2520720" cy="2217960"/>
          </a:xfrm>
        </p:grpSpPr>
        <p:sp>
          <p:nvSpPr>
            <p:cNvPr id="1310" name=""/>
            <p:cNvSpPr/>
            <p:nvPr/>
          </p:nvSpPr>
          <p:spPr>
            <a:xfrm>
              <a:off x="5172120" y="841320"/>
              <a:ext cx="0" cy="1462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76960" y="471600"/>
              <a:ext cx="15238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Maneuver Element-0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torized Rifle Squadr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5172120" y="789120"/>
              <a:ext cx="2216160" cy="587160"/>
              <a:chOff x="5172120" y="789120"/>
              <a:chExt cx="2216160" cy="587160"/>
            </a:xfrm>
          </p:grpSpPr>
          <p:sp>
            <p:nvSpPr>
              <p:cNvPr id="1313" name=""/>
              <p:cNvSpPr/>
              <p:nvPr/>
            </p:nvSpPr>
            <p:spPr>
              <a:xfrm>
                <a:off x="5333760" y="982800"/>
                <a:ext cx="0" cy="27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14" name=""/>
              <p:cNvGrpSpPr/>
              <p:nvPr/>
            </p:nvGrpSpPr>
            <p:grpSpPr>
              <a:xfrm>
                <a:off x="5172120" y="789120"/>
                <a:ext cx="2216160" cy="272520"/>
                <a:chOff x="5172120" y="789120"/>
                <a:chExt cx="2216160" cy="27252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72120" y="982800"/>
                  <a:ext cx="20772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16" name=""/>
                <p:cNvGrpSpPr/>
                <p:nvPr/>
              </p:nvGrpSpPr>
              <p:grpSpPr>
                <a:xfrm>
                  <a:off x="5302080" y="873000"/>
                  <a:ext cx="237960" cy="188640"/>
                  <a:chOff x="5302080" y="873000"/>
                  <a:chExt cx="237960" cy="188640"/>
                </a:xfrm>
              </p:grpSpPr>
              <p:sp>
                <p:nvSpPr>
                  <p:cNvPr id="1317" name=""/>
                  <p:cNvSpPr/>
                  <p:nvPr/>
                </p:nvSpPr>
                <p:spPr>
                  <a:xfrm>
                    <a:off x="5302080" y="902880"/>
                    <a:ext cx="237960" cy="1587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5406840" y="8730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9" name=""/>
                <p:cNvSpPr/>
                <p:nvPr/>
              </p:nvSpPr>
              <p:spPr>
                <a:xfrm>
                  <a:off x="5630760" y="912960"/>
                  <a:ext cx="1757520" cy="14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mmander              PO-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630760" y="789120"/>
                  <a:ext cx="57780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1" name=""/>
              <p:cNvGrpSpPr/>
              <p:nvPr/>
            </p:nvGrpSpPr>
            <p:grpSpPr>
              <a:xfrm>
                <a:off x="5303880" y="1081080"/>
                <a:ext cx="2033640" cy="295200"/>
                <a:chOff x="5303880" y="1081080"/>
                <a:chExt cx="2033640" cy="295200"/>
              </a:xfrm>
            </p:grpSpPr>
            <p:grpSp>
              <p:nvGrpSpPr>
                <p:cNvPr id="1322" name=""/>
                <p:cNvGrpSpPr/>
                <p:nvPr/>
              </p:nvGrpSpPr>
              <p:grpSpPr>
                <a:xfrm>
                  <a:off x="5303880" y="1147680"/>
                  <a:ext cx="231480" cy="228600"/>
                  <a:chOff x="5303880" y="1147680"/>
                  <a:chExt cx="231480" cy="22860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5303880" y="1189080"/>
                    <a:ext cx="231480" cy="1573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5310000" y="13492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5491080" y="13492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5405400" y="11476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7" name=""/>
                <p:cNvSpPr/>
                <p:nvPr/>
              </p:nvSpPr>
              <p:spPr>
                <a:xfrm>
                  <a:off x="5630760" y="1192320"/>
                  <a:ext cx="17067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F 508/518                PO-09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632200" y="108108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9" name=""/>
            <p:cNvGrpSpPr/>
            <p:nvPr/>
          </p:nvGrpSpPr>
          <p:grpSpPr>
            <a:xfrm>
              <a:off x="5168880" y="1413000"/>
              <a:ext cx="2381040" cy="1276560"/>
              <a:chOff x="5168880" y="1413000"/>
              <a:chExt cx="2381040" cy="1276560"/>
            </a:xfrm>
          </p:grpSpPr>
          <p:sp>
            <p:nvSpPr>
              <p:cNvPr id="1330" name=""/>
              <p:cNvSpPr/>
              <p:nvPr/>
            </p:nvSpPr>
            <p:spPr>
              <a:xfrm>
                <a:off x="5340240" y="1499760"/>
                <a:ext cx="0" cy="109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1" name=""/>
              <p:cNvGrpSpPr/>
              <p:nvPr/>
            </p:nvGrpSpPr>
            <p:grpSpPr>
              <a:xfrm>
                <a:off x="5172120" y="1915920"/>
                <a:ext cx="2377800" cy="191160"/>
                <a:chOff x="5172120" y="1915920"/>
                <a:chExt cx="2377800" cy="19116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172120" y="2036160"/>
                  <a:ext cx="207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5302080" y="1915920"/>
                  <a:ext cx="231840" cy="191160"/>
                  <a:chOff x="5302080" y="1915920"/>
                  <a:chExt cx="231840" cy="191160"/>
                </a:xfrm>
              </p:grpSpPr>
              <p:grpSp>
                <p:nvGrpSpPr>
                  <p:cNvPr id="1334" name=""/>
                  <p:cNvGrpSpPr/>
                  <p:nvPr/>
                </p:nvGrpSpPr>
                <p:grpSpPr>
                  <a:xfrm>
                    <a:off x="5302080" y="1950480"/>
                    <a:ext cx="231840" cy="156600"/>
                    <a:chOff x="5302080" y="1950480"/>
                    <a:chExt cx="231840" cy="156600"/>
                  </a:xfrm>
                </p:grpSpPr>
                <p:sp>
                  <p:nvSpPr>
                    <p:cNvPr id="1335" name=""/>
                    <p:cNvSpPr/>
                    <p:nvPr/>
                  </p:nvSpPr>
                  <p:spPr>
                    <a:xfrm>
                      <a:off x="5302080" y="1950480"/>
                      <a:ext cx="231840" cy="15660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flipV="1">
                      <a:off x="5302080" y="1953360"/>
                      <a:ext cx="113760" cy="1515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7" name=""/>
                    <p:cNvSpPr/>
                    <p:nvPr/>
                  </p:nvSpPr>
                  <p:spPr>
                    <a:xfrm>
                      <a:off x="5415840" y="1950480"/>
                      <a:ext cx="11376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8" name=""/>
                  <p:cNvSpPr/>
                  <p:nvPr/>
                </p:nvSpPr>
                <p:spPr>
                  <a:xfrm>
                    <a:off x="5405400" y="191592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9" name=""/>
                <p:cNvSpPr/>
                <p:nvPr/>
              </p:nvSpPr>
              <p:spPr>
                <a:xfrm>
                  <a:off x="5630760" y="1955160"/>
                  <a:ext cx="19191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ntitank Rifle             PO-17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5168880" y="1413000"/>
                <a:ext cx="2168640" cy="188280"/>
                <a:chOff x="5168880" y="1413000"/>
                <a:chExt cx="2168640" cy="18828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5168880" y="1518840"/>
                  <a:ext cx="208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5632200" y="1436400"/>
                  <a:ext cx="170532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9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Infantry                      PO-1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43" name=""/>
                <p:cNvGrpSpPr/>
                <p:nvPr/>
              </p:nvGrpSpPr>
              <p:grpSpPr>
                <a:xfrm>
                  <a:off x="5302080" y="1413000"/>
                  <a:ext cx="231480" cy="188280"/>
                  <a:chOff x="5302080" y="1413000"/>
                  <a:chExt cx="231480" cy="188280"/>
                </a:xfrm>
              </p:grpSpPr>
              <p:grpSp>
                <p:nvGrpSpPr>
                  <p:cNvPr id="1344" name=""/>
                  <p:cNvGrpSpPr/>
                  <p:nvPr/>
                </p:nvGrpSpPr>
                <p:grpSpPr>
                  <a:xfrm>
                    <a:off x="5302080" y="1444680"/>
                    <a:ext cx="231480" cy="156600"/>
                    <a:chOff x="5302080" y="1444680"/>
                    <a:chExt cx="231480" cy="156600"/>
                  </a:xfrm>
                </p:grpSpPr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5302080" y="1444680"/>
                      <a:ext cx="231480" cy="15660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 flipV="1">
                      <a:off x="5304240" y="1446480"/>
                      <a:ext cx="225360" cy="153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5302080" y="1446840"/>
                      <a:ext cx="230400" cy="149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5381280" y="1413000"/>
                    <a:ext cx="74160" cy="26640"/>
                    <a:chOff x="5381280" y="1413000"/>
                    <a:chExt cx="74160" cy="2664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5381280" y="141300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5428800" y="141300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351" name=""/>
              <p:cNvSpPr/>
              <p:nvPr/>
            </p:nvSpPr>
            <p:spPr>
              <a:xfrm>
                <a:off x="5172120" y="2293560"/>
                <a:ext cx="207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2" name=""/>
              <p:cNvGrpSpPr/>
              <p:nvPr/>
            </p:nvGrpSpPr>
            <p:grpSpPr>
              <a:xfrm>
                <a:off x="5311800" y="2174400"/>
                <a:ext cx="239760" cy="191880"/>
                <a:chOff x="5311800" y="2174400"/>
                <a:chExt cx="239760" cy="191880"/>
              </a:xfrm>
            </p:grpSpPr>
            <p:grpSp>
              <p:nvGrpSpPr>
                <p:cNvPr id="1353" name=""/>
                <p:cNvGrpSpPr/>
                <p:nvPr/>
              </p:nvGrpSpPr>
              <p:grpSpPr>
                <a:xfrm>
                  <a:off x="5311800" y="2209320"/>
                  <a:ext cx="239760" cy="156960"/>
                  <a:chOff x="5311800" y="2209320"/>
                  <a:chExt cx="239760" cy="156960"/>
                </a:xfrm>
              </p:grpSpPr>
              <p:sp>
                <p:nvSpPr>
                  <p:cNvPr id="1354" name=""/>
                  <p:cNvSpPr/>
                  <p:nvPr/>
                </p:nvSpPr>
                <p:spPr>
                  <a:xfrm>
                    <a:off x="5311800" y="2209320"/>
                    <a:ext cx="23976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5" name=""/>
                  <p:cNvSpPr/>
                  <p:nvPr/>
                </p:nvSpPr>
                <p:spPr>
                  <a:xfrm flipV="1">
                    <a:off x="5396040" y="2324520"/>
                    <a:ext cx="633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>
                    <a:off x="5427720" y="2240640"/>
                    <a:ext cx="0" cy="83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7" name=""/>
                <p:cNvGrpSpPr/>
                <p:nvPr/>
              </p:nvGrpSpPr>
              <p:grpSpPr>
                <a:xfrm>
                  <a:off x="5384880" y="2174400"/>
                  <a:ext cx="74880" cy="27000"/>
                  <a:chOff x="5384880" y="2174400"/>
                  <a:chExt cx="74880" cy="2700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5384880" y="2174400"/>
                    <a:ext cx="288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5432760" y="21744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60" name=""/>
              <p:cNvSpPr/>
              <p:nvPr/>
            </p:nvSpPr>
            <p:spPr>
              <a:xfrm>
                <a:off x="5629320" y="2209320"/>
                <a:ext cx="19047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x1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46mm Mortar            PO-2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1" name=""/>
              <p:cNvGrpSpPr/>
              <p:nvPr/>
            </p:nvGrpSpPr>
            <p:grpSpPr>
              <a:xfrm>
                <a:off x="5168880" y="1665000"/>
                <a:ext cx="2168640" cy="201960"/>
                <a:chOff x="5168880" y="1665000"/>
                <a:chExt cx="2168640" cy="20196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168880" y="1770840"/>
                  <a:ext cx="208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632560" y="1712160"/>
                  <a:ext cx="170496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1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edium Machine Gun  PO-18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4" name=""/>
                <p:cNvGrpSpPr/>
                <p:nvPr/>
              </p:nvGrpSpPr>
              <p:grpSpPr>
                <a:xfrm>
                  <a:off x="5381640" y="1665000"/>
                  <a:ext cx="74880" cy="26640"/>
                  <a:chOff x="5381640" y="1665000"/>
                  <a:chExt cx="74880" cy="26640"/>
                </a:xfrm>
              </p:grpSpPr>
              <p:sp>
                <p:nvSpPr>
                  <p:cNvPr id="1365" name=""/>
                  <p:cNvSpPr/>
                  <p:nvPr/>
                </p:nvSpPr>
                <p:spPr>
                  <a:xfrm>
                    <a:off x="5381640" y="1665000"/>
                    <a:ext cx="288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5429520" y="16650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67" name=""/>
                <p:cNvGrpSpPr/>
                <p:nvPr/>
              </p:nvGrpSpPr>
              <p:grpSpPr>
                <a:xfrm>
                  <a:off x="5295960" y="1702800"/>
                  <a:ext cx="236520" cy="164160"/>
                  <a:chOff x="5295960" y="1702800"/>
                  <a:chExt cx="236520" cy="16416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5295960" y="1707120"/>
                    <a:ext cx="231480" cy="1569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 flipV="1">
                    <a:off x="5302080" y="1702800"/>
                    <a:ext cx="230400" cy="1425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0" name=""/>
                  <p:cNvSpPr/>
                  <p:nvPr/>
                </p:nvSpPr>
                <p:spPr>
                  <a:xfrm>
                    <a:off x="5313240" y="1730880"/>
                    <a:ext cx="219240" cy="1360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5295960" y="1713600"/>
                    <a:ext cx="50760" cy="1454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cc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2" name=""/>
              <p:cNvGrpSpPr/>
              <p:nvPr/>
            </p:nvGrpSpPr>
            <p:grpSpPr>
              <a:xfrm>
                <a:off x="5295960" y="2419200"/>
                <a:ext cx="2251080" cy="270360"/>
                <a:chOff x="5295960" y="2419200"/>
                <a:chExt cx="2251080" cy="270360"/>
              </a:xfrm>
            </p:grpSpPr>
            <p:grpSp>
              <p:nvGrpSpPr>
                <p:cNvPr id="1373" name=""/>
                <p:cNvGrpSpPr/>
                <p:nvPr/>
              </p:nvGrpSpPr>
              <p:grpSpPr>
                <a:xfrm>
                  <a:off x="5295960" y="2474280"/>
                  <a:ext cx="239400" cy="215280"/>
                  <a:chOff x="5295960" y="2474280"/>
                  <a:chExt cx="239400" cy="215280"/>
                </a:xfrm>
              </p:grpSpPr>
              <p:grpSp>
                <p:nvGrpSpPr>
                  <p:cNvPr id="1374" name=""/>
                  <p:cNvGrpSpPr/>
                  <p:nvPr/>
                </p:nvGrpSpPr>
                <p:grpSpPr>
                  <a:xfrm>
                    <a:off x="5295960" y="2500920"/>
                    <a:ext cx="239400" cy="188640"/>
                    <a:chOff x="5295960" y="2500920"/>
                    <a:chExt cx="239400" cy="188640"/>
                  </a:xfrm>
                </p:grpSpPr>
                <p:sp>
                  <p:nvSpPr>
                    <p:cNvPr id="1375" name=""/>
                    <p:cNvSpPr/>
                    <p:nvPr/>
                  </p:nvSpPr>
                  <p:spPr>
                    <a:xfrm>
                      <a:off x="5295960" y="2500920"/>
                      <a:ext cx="239400" cy="156960"/>
                    </a:xfrm>
                    <a:prstGeom prst="rect">
                      <a:avLst/>
                    </a:prstGeom>
                    <a:solidFill>
                      <a:srgbClr val="cc3300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6" name=""/>
                    <p:cNvSpPr/>
                    <p:nvPr/>
                  </p:nvSpPr>
                  <p:spPr>
                    <a:xfrm>
                      <a:off x="5309640" y="266256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7" name=""/>
                    <p:cNvSpPr/>
                    <p:nvPr/>
                  </p:nvSpPr>
                  <p:spPr>
                    <a:xfrm>
                      <a:off x="5422320" y="26611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>
                      <a:off x="5498640" y="26611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9" name=""/>
                    <p:cNvSpPr/>
                    <p:nvPr/>
                  </p:nvSpPr>
                  <p:spPr>
                    <a:xfrm>
                      <a:off x="5443200" y="2661120"/>
                      <a:ext cx="61560" cy="2700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0" name=""/>
                  <p:cNvGrpSpPr/>
                  <p:nvPr/>
                </p:nvGrpSpPr>
                <p:grpSpPr>
                  <a:xfrm>
                    <a:off x="5378040" y="2474280"/>
                    <a:ext cx="74160" cy="26640"/>
                    <a:chOff x="5378040" y="2474280"/>
                    <a:chExt cx="74160" cy="26640"/>
                  </a:xfrm>
                </p:grpSpPr>
                <p:sp>
                  <p:nvSpPr>
                    <p:cNvPr id="1381" name=""/>
                    <p:cNvSpPr/>
                    <p:nvPr/>
                  </p:nvSpPr>
                  <p:spPr>
                    <a:xfrm>
                      <a:off x="5378040" y="24742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2" name=""/>
                    <p:cNvSpPr/>
                    <p:nvPr/>
                  </p:nvSpPr>
                  <p:spPr>
                    <a:xfrm>
                      <a:off x="5425560" y="24742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83" name=""/>
                <p:cNvSpPr/>
                <p:nvPr/>
              </p:nvSpPr>
              <p:spPr>
                <a:xfrm>
                  <a:off x="5641920" y="2534400"/>
                  <a:ext cx="190512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56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x6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wz. 34 Halftrack       PO-08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5632200" y="2419200"/>
                  <a:ext cx="57816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5" name=""/>
            <p:cNvGrpSpPr/>
            <p:nvPr/>
          </p:nvGrpSpPr>
          <p:grpSpPr>
            <a:xfrm>
              <a:off x="5029200" y="612720"/>
              <a:ext cx="284040" cy="298440"/>
              <a:chOff x="5029200" y="612720"/>
              <a:chExt cx="284040" cy="298440"/>
            </a:xfrm>
          </p:grpSpPr>
          <p:grpSp>
            <p:nvGrpSpPr>
              <p:cNvPr id="1386" name=""/>
              <p:cNvGrpSpPr/>
              <p:nvPr/>
            </p:nvGrpSpPr>
            <p:grpSpPr>
              <a:xfrm>
                <a:off x="5029200" y="612720"/>
                <a:ext cx="284040" cy="257040"/>
                <a:chOff x="5029200" y="612720"/>
                <a:chExt cx="284040" cy="25704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5172120" y="6127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5029200" y="676080"/>
                  <a:ext cx="284040" cy="193680"/>
                  <a:chOff x="5029200" y="676080"/>
                  <a:chExt cx="284040" cy="19368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>
                    <a:off x="5029200" y="676080"/>
                    <a:ext cx="284040" cy="193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V="1">
                    <a:off x="5032080" y="678960"/>
                    <a:ext cx="276480" cy="189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>
                    <a:off x="5029200" y="678960"/>
                    <a:ext cx="282600" cy="1846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92" name=""/>
              <p:cNvSpPr/>
              <p:nvPr/>
            </p:nvSpPr>
            <p:spPr>
              <a:xfrm>
                <a:off x="5062680" y="884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256360" y="884160"/>
                <a:ext cx="27000" cy="27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106200" y="37800"/>
            <a:ext cx="83520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 FS-01-&gt;FS-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222120" y="385560"/>
            <a:ext cx="2293920" cy="3097080"/>
            <a:chOff x="222120" y="385560"/>
            <a:chExt cx="2293920" cy="3097080"/>
          </a:xfrm>
        </p:grpSpPr>
        <p:grpSp>
          <p:nvGrpSpPr>
            <p:cNvPr id="1396" name=""/>
            <p:cNvGrpSpPr/>
            <p:nvPr/>
          </p:nvGrpSpPr>
          <p:grpSpPr>
            <a:xfrm>
              <a:off x="222120" y="385560"/>
              <a:ext cx="2293920" cy="2089080"/>
              <a:chOff x="222120" y="385560"/>
              <a:chExt cx="2293920" cy="2089080"/>
            </a:xfrm>
          </p:grpSpPr>
          <p:sp>
            <p:nvSpPr>
              <p:cNvPr id="1397" name=""/>
              <p:cNvSpPr/>
              <p:nvPr/>
            </p:nvSpPr>
            <p:spPr>
              <a:xfrm>
                <a:off x="367920" y="930240"/>
                <a:ext cx="0" cy="1425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237960" y="385560"/>
                <a:ext cx="1817640" cy="416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Fire Support Element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ght Artillery Battal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40960" y="122400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Direct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885600" y="1614600"/>
                <a:ext cx="609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3300"/>
                    </a:solidFill>
                    <a:latin typeface="Arial"/>
                  </a:rPr>
                  <a:t>and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1" name=""/>
              <p:cNvGrpSpPr/>
              <p:nvPr/>
            </p:nvGrpSpPr>
            <p:grpSpPr>
              <a:xfrm>
                <a:off x="222120" y="777960"/>
                <a:ext cx="291960" cy="253800"/>
                <a:chOff x="222120" y="777960"/>
                <a:chExt cx="291960" cy="25380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222120" y="841320"/>
                  <a:ext cx="291960" cy="19044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347400" y="914400"/>
                  <a:ext cx="34920" cy="334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4" name=""/>
                <p:cNvGrpSpPr/>
                <p:nvPr/>
              </p:nvGrpSpPr>
              <p:grpSpPr>
                <a:xfrm>
                  <a:off x="331560" y="777960"/>
                  <a:ext cx="76320" cy="63360"/>
                  <a:chOff x="331560" y="777960"/>
                  <a:chExt cx="76320" cy="6336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331560" y="777960"/>
                    <a:ext cx="0" cy="63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407880" y="777960"/>
                    <a:ext cx="0" cy="63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07" name=""/>
              <p:cNvSpPr/>
              <p:nvPr/>
            </p:nvSpPr>
            <p:spPr>
              <a:xfrm>
                <a:off x="853920" y="1049400"/>
                <a:ext cx="162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(a) PO-16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90400" y="1035000"/>
                <a:ext cx="231840" cy="15732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9" name=""/>
              <p:cNvGrpSpPr/>
              <p:nvPr/>
            </p:nvGrpSpPr>
            <p:grpSpPr>
              <a:xfrm>
                <a:off x="672840" y="986040"/>
                <a:ext cx="57240" cy="155520"/>
                <a:chOff x="672840" y="986040"/>
                <a:chExt cx="57240" cy="15552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88680" y="98604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72840" y="1085760"/>
                  <a:ext cx="5724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830160" y="92556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71160" y="111600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4" name=""/>
              <p:cNvGrpSpPr/>
              <p:nvPr/>
            </p:nvGrpSpPr>
            <p:grpSpPr>
              <a:xfrm>
                <a:off x="365040" y="2144880"/>
                <a:ext cx="2151000" cy="329760"/>
                <a:chOff x="365040" y="2144880"/>
                <a:chExt cx="2151000" cy="32976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365040" y="234792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900000" y="214488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rd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7" name=""/>
                <p:cNvGrpSpPr/>
                <p:nvPr/>
              </p:nvGrpSpPr>
              <p:grpSpPr>
                <a:xfrm>
                  <a:off x="561600" y="2212920"/>
                  <a:ext cx="276120" cy="228600"/>
                  <a:chOff x="561600" y="2212920"/>
                  <a:chExt cx="276120" cy="228600"/>
                </a:xfrm>
              </p:grpSpPr>
              <p:sp>
                <p:nvSpPr>
                  <p:cNvPr id="1418" name=""/>
                  <p:cNvSpPr/>
                  <p:nvPr/>
                </p:nvSpPr>
                <p:spPr>
                  <a:xfrm>
                    <a:off x="561600" y="2251080"/>
                    <a:ext cx="276120" cy="1904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>
                    <a:off x="680400" y="2324160"/>
                    <a:ext cx="3348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20" name=""/>
                  <p:cNvGrpSpPr/>
                  <p:nvPr/>
                </p:nvGrpSpPr>
                <p:grpSpPr>
                  <a:xfrm>
                    <a:off x="666360" y="2212920"/>
                    <a:ext cx="70920" cy="28080"/>
                    <a:chOff x="666360" y="2212920"/>
                    <a:chExt cx="70920" cy="28080"/>
                  </a:xfrm>
                </p:grpSpPr>
                <p:sp>
                  <p:nvSpPr>
                    <p:cNvPr id="1421" name=""/>
                    <p:cNvSpPr/>
                    <p:nvPr/>
                  </p:nvSpPr>
                  <p:spPr>
                    <a:xfrm>
                      <a:off x="666360" y="22129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2" name=""/>
                    <p:cNvSpPr/>
                    <p:nvPr/>
                  </p:nvSpPr>
                  <p:spPr>
                    <a:xfrm>
                      <a:off x="711720" y="2214360"/>
                      <a:ext cx="255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423" name=""/>
                <p:cNvSpPr/>
                <p:nvPr/>
              </p:nvSpPr>
              <p:spPr>
                <a:xfrm>
                  <a:off x="909360" y="2259000"/>
                  <a:ext cx="1444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Field Guns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4" name=""/>
              <p:cNvSpPr/>
              <p:nvPr/>
            </p:nvSpPr>
            <p:spPr>
              <a:xfrm>
                <a:off x="890280" y="1971720"/>
                <a:ext cx="609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cc3300"/>
                    </a:solidFill>
                    <a:latin typeface="Arial"/>
                  </a:rPr>
                  <a:t>and</a:t>
                </a:r>
                <a:r>
                  <a:rPr b="1" lang="en-US" sz="1000" spc="-1" strike="noStrike">
                    <a:solidFill>
                      <a:srgbClr val="cc33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5" name=""/>
              <p:cNvGrpSpPr/>
              <p:nvPr/>
            </p:nvGrpSpPr>
            <p:grpSpPr>
              <a:xfrm>
                <a:off x="371160" y="1755720"/>
                <a:ext cx="2119320" cy="330120"/>
                <a:chOff x="371160" y="1755720"/>
                <a:chExt cx="2119320" cy="33012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371160" y="196704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874440" y="175572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nd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884160" y="1870200"/>
                  <a:ext cx="14443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Field Guns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545760" y="1832040"/>
                  <a:ext cx="276120" cy="228600"/>
                  <a:chOff x="545760" y="1832040"/>
                  <a:chExt cx="276120" cy="22860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545760" y="1870200"/>
                    <a:ext cx="276120" cy="1904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664560" y="1943280"/>
                    <a:ext cx="3348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32" name=""/>
                  <p:cNvGrpSpPr/>
                  <p:nvPr/>
                </p:nvGrpSpPr>
                <p:grpSpPr>
                  <a:xfrm>
                    <a:off x="650520" y="1832040"/>
                    <a:ext cx="70920" cy="28080"/>
                    <a:chOff x="650520" y="1832040"/>
                    <a:chExt cx="70920" cy="28080"/>
                  </a:xfrm>
                </p:grpSpPr>
                <p:sp>
                  <p:nvSpPr>
                    <p:cNvPr id="1433" name=""/>
                    <p:cNvSpPr/>
                    <p:nvPr/>
                  </p:nvSpPr>
                  <p:spPr>
                    <a:xfrm>
                      <a:off x="650520" y="18320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4" name=""/>
                    <p:cNvSpPr/>
                    <p:nvPr/>
                  </p:nvSpPr>
                  <p:spPr>
                    <a:xfrm>
                      <a:off x="695880" y="1833480"/>
                      <a:ext cx="255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35" name=""/>
              <p:cNvGrpSpPr/>
              <p:nvPr/>
            </p:nvGrpSpPr>
            <p:grpSpPr>
              <a:xfrm>
                <a:off x="371160" y="1339920"/>
                <a:ext cx="2129040" cy="364680"/>
                <a:chOff x="371160" y="1339920"/>
                <a:chExt cx="2129040" cy="36468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884160" y="1339920"/>
                  <a:ext cx="16160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st Light Artillery Battery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884160" y="148896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75mm Field Guns (b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371160" y="156060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9" name=""/>
                <p:cNvGrpSpPr/>
                <p:nvPr/>
              </p:nvGrpSpPr>
              <p:grpSpPr>
                <a:xfrm>
                  <a:off x="553680" y="1424160"/>
                  <a:ext cx="276120" cy="228600"/>
                  <a:chOff x="553680" y="1424160"/>
                  <a:chExt cx="276120" cy="228600"/>
                </a:xfrm>
              </p:grpSpPr>
              <p:sp>
                <p:nvSpPr>
                  <p:cNvPr id="1440" name=""/>
                  <p:cNvSpPr/>
                  <p:nvPr/>
                </p:nvSpPr>
                <p:spPr>
                  <a:xfrm>
                    <a:off x="553680" y="1462320"/>
                    <a:ext cx="276120" cy="1904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72480" y="1535400"/>
                    <a:ext cx="3348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442" name=""/>
                  <p:cNvGrpSpPr/>
                  <p:nvPr/>
                </p:nvGrpSpPr>
                <p:grpSpPr>
                  <a:xfrm>
                    <a:off x="658440" y="1424160"/>
                    <a:ext cx="70920" cy="28080"/>
                    <a:chOff x="658440" y="1424160"/>
                    <a:chExt cx="70920" cy="28080"/>
                  </a:xfrm>
                </p:grpSpPr>
                <p:sp>
                  <p:nvSpPr>
                    <p:cNvPr id="1443" name=""/>
                    <p:cNvSpPr/>
                    <p:nvPr/>
                  </p:nvSpPr>
                  <p:spPr>
                    <a:xfrm>
                      <a:off x="658440" y="1424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4" name=""/>
                    <p:cNvSpPr/>
                    <p:nvPr/>
                  </p:nvSpPr>
                  <p:spPr>
                    <a:xfrm>
                      <a:off x="703800" y="1425600"/>
                      <a:ext cx="255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445" name=""/>
            <p:cNvSpPr/>
            <p:nvPr/>
          </p:nvSpPr>
          <p:spPr>
            <a:xfrm>
              <a:off x="239760" y="2520720"/>
              <a:ext cx="2019240" cy="9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Small template. Indirect Fire weapon rating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1 vs. V, 0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177840" y="3506400"/>
            <a:ext cx="2303280" cy="2192760"/>
            <a:chOff x="177840" y="3506400"/>
            <a:chExt cx="2303280" cy="2192760"/>
          </a:xfrm>
        </p:grpSpPr>
        <p:sp>
          <p:nvSpPr>
            <p:cNvPr id="1447" name=""/>
            <p:cNvSpPr/>
            <p:nvPr/>
          </p:nvSpPr>
          <p:spPr>
            <a:xfrm>
              <a:off x="177840" y="3506400"/>
              <a:ext cx="1817640" cy="41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Fire Support Element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Howitzer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8" name=""/>
            <p:cNvGrpSpPr/>
            <p:nvPr/>
          </p:nvGrpSpPr>
          <p:grpSpPr>
            <a:xfrm>
              <a:off x="225360" y="3914640"/>
              <a:ext cx="2255760" cy="823680"/>
              <a:chOff x="225360" y="3914640"/>
              <a:chExt cx="2255760" cy="823680"/>
            </a:xfrm>
          </p:grpSpPr>
          <p:sp>
            <p:nvSpPr>
              <p:cNvPr id="1449" name=""/>
              <p:cNvSpPr/>
              <p:nvPr/>
            </p:nvSpPr>
            <p:spPr>
              <a:xfrm>
                <a:off x="371520" y="4035600"/>
                <a:ext cx="0" cy="54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844560" y="436104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Direct Fire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57160" y="4186080"/>
                <a:ext cx="1623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(a) PO-16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93640" y="4172040"/>
                <a:ext cx="231840" cy="15696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676440" y="4122720"/>
                <a:ext cx="56880" cy="155520"/>
                <a:chOff x="676440" y="4122720"/>
                <a:chExt cx="56880" cy="15552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91920" y="412272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76440" y="4222440"/>
                  <a:ext cx="5688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6" name=""/>
              <p:cNvSpPr/>
              <p:nvPr/>
            </p:nvSpPr>
            <p:spPr>
              <a:xfrm>
                <a:off x="833400" y="406224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7" name=""/>
              <p:cNvGrpSpPr/>
              <p:nvPr/>
            </p:nvGrpSpPr>
            <p:grpSpPr>
              <a:xfrm>
                <a:off x="225360" y="3914640"/>
                <a:ext cx="370080" cy="338400"/>
                <a:chOff x="225360" y="3914640"/>
                <a:chExt cx="370080" cy="33840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225360" y="3978360"/>
                  <a:ext cx="292320" cy="19044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351000" y="4051440"/>
                  <a:ext cx="3492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371520" y="3914640"/>
                  <a:ext cx="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374760" y="425304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2" name=""/>
              <p:cNvSpPr/>
              <p:nvPr/>
            </p:nvSpPr>
            <p:spPr>
              <a:xfrm>
                <a:off x="871560" y="452268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00mmHowitzer 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74760" y="459432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4" name=""/>
              <p:cNvGrpSpPr/>
              <p:nvPr/>
            </p:nvGrpSpPr>
            <p:grpSpPr>
              <a:xfrm>
                <a:off x="557280" y="4457880"/>
                <a:ext cx="276120" cy="228600"/>
                <a:chOff x="557280" y="4457880"/>
                <a:chExt cx="276120" cy="22860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557280" y="4496040"/>
                  <a:ext cx="276120" cy="19044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76080" y="4569120"/>
                  <a:ext cx="3348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7" name=""/>
                <p:cNvGrpSpPr/>
                <p:nvPr/>
              </p:nvGrpSpPr>
              <p:grpSpPr>
                <a:xfrm>
                  <a:off x="662040" y="4457880"/>
                  <a:ext cx="70920" cy="28080"/>
                  <a:chOff x="662040" y="4457880"/>
                  <a:chExt cx="70920" cy="28080"/>
                </a:xfrm>
              </p:grpSpPr>
              <p:sp>
                <p:nvSpPr>
                  <p:cNvPr id="1468" name=""/>
                  <p:cNvSpPr/>
                  <p:nvPr/>
                </p:nvSpPr>
                <p:spPr>
                  <a:xfrm>
                    <a:off x="662040" y="4457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707400" y="4459320"/>
                    <a:ext cx="2556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70" name=""/>
            <p:cNvSpPr/>
            <p:nvPr/>
          </p:nvSpPr>
          <p:spPr>
            <a:xfrm>
              <a:off x="182520" y="4737240"/>
              <a:ext cx="2019240" cy="9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rge template. Indirect Fire weapon rating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 vs. V, 0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5383080" y="647280"/>
            <a:ext cx="1818000" cy="416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Arial"/>
              </a:rPr>
              <a:t>Fire Support Element-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rse Artillery Battery (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88120" y="1878120"/>
            <a:ext cx="21747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a) May deploy on-board a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x6 75mm Field Gun       PO-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x6 Horse-drawn Limber  FR-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b) The forward observer may be attached to any maneuver element. Use the German Call for Fire tab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c)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Small Template. Indirect Fire Ra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-1 vs. V, 0 vs. T, G, s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762520" y="1805040"/>
            <a:ext cx="61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2617920" y="574200"/>
            <a:ext cx="2303280" cy="2192760"/>
            <a:chOff x="2617920" y="574200"/>
            <a:chExt cx="2303280" cy="2192760"/>
          </a:xfrm>
        </p:grpSpPr>
        <p:sp>
          <p:nvSpPr>
            <p:cNvPr id="1475" name=""/>
            <p:cNvSpPr/>
            <p:nvPr/>
          </p:nvSpPr>
          <p:spPr>
            <a:xfrm>
              <a:off x="2811600" y="1103400"/>
              <a:ext cx="0" cy="5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17920" y="574200"/>
              <a:ext cx="1817640" cy="41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Fire Support Element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edium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284640" y="14288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65440" y="1046160"/>
              <a:ext cx="291960" cy="1904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790720" y="1119240"/>
              <a:ext cx="34920" cy="3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297240" y="1254240"/>
              <a:ext cx="162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 (a) PO-16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033720" y="1239840"/>
              <a:ext cx="231840" cy="1573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3116160" y="1190520"/>
              <a:ext cx="57240" cy="155520"/>
              <a:chOff x="3116160" y="1190520"/>
              <a:chExt cx="57240" cy="155520"/>
            </a:xfrm>
          </p:grpSpPr>
          <p:sp>
            <p:nvSpPr>
              <p:cNvPr id="1483" name=""/>
              <p:cNvSpPr/>
              <p:nvPr/>
            </p:nvSpPr>
            <p:spPr>
              <a:xfrm>
                <a:off x="3132000" y="11905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116160" y="1290240"/>
                <a:ext cx="572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3273480" y="113040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14480" y="13208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311640" y="159084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05mm Field Guns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814480" y="16621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2997360" y="1525680"/>
              <a:ext cx="276120" cy="228600"/>
              <a:chOff x="2997360" y="1525680"/>
              <a:chExt cx="276120" cy="228600"/>
            </a:xfrm>
          </p:grpSpPr>
          <p:sp>
            <p:nvSpPr>
              <p:cNvPr id="1490" name=""/>
              <p:cNvSpPr/>
              <p:nvPr/>
            </p:nvSpPr>
            <p:spPr>
              <a:xfrm>
                <a:off x="2997360" y="1563840"/>
                <a:ext cx="276120" cy="1904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116160" y="1636920"/>
                <a:ext cx="33480" cy="3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2" name=""/>
              <p:cNvGrpSpPr/>
              <p:nvPr/>
            </p:nvGrpSpPr>
            <p:grpSpPr>
              <a:xfrm>
                <a:off x="3102120" y="1525680"/>
                <a:ext cx="70920" cy="28080"/>
                <a:chOff x="3102120" y="1525680"/>
                <a:chExt cx="70920" cy="2808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3102120" y="15256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3147480" y="1527120"/>
                  <a:ext cx="2556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5" name=""/>
            <p:cNvSpPr/>
            <p:nvPr/>
          </p:nvSpPr>
          <p:spPr>
            <a:xfrm>
              <a:off x="2622600" y="1805040"/>
              <a:ext cx="2019240" cy="9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rge template. Indirect Fire weapon rating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 vs. V, 0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811600" y="98748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2500200" y="2766600"/>
            <a:ext cx="2303640" cy="2192760"/>
            <a:chOff x="2500200" y="2766600"/>
            <a:chExt cx="2303640" cy="2192760"/>
          </a:xfrm>
        </p:grpSpPr>
        <p:sp>
          <p:nvSpPr>
            <p:cNvPr id="1498" name=""/>
            <p:cNvSpPr/>
            <p:nvPr/>
          </p:nvSpPr>
          <p:spPr>
            <a:xfrm>
              <a:off x="2693880" y="3295800"/>
              <a:ext cx="0" cy="5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500200" y="2766600"/>
              <a:ext cx="1817640" cy="41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Fire Support Element-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Howitzer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166920" y="362124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548080" y="3238560"/>
              <a:ext cx="291960" cy="1904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673360" y="3311640"/>
              <a:ext cx="34920" cy="3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179880" y="3446640"/>
              <a:ext cx="162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 (a) PO-1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916360" y="3432240"/>
              <a:ext cx="231480" cy="1569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5" name=""/>
            <p:cNvGrpSpPr/>
            <p:nvPr/>
          </p:nvGrpSpPr>
          <p:grpSpPr>
            <a:xfrm>
              <a:off x="2998800" y="3382920"/>
              <a:ext cx="57240" cy="155520"/>
              <a:chOff x="2998800" y="3382920"/>
              <a:chExt cx="57240" cy="155520"/>
            </a:xfrm>
          </p:grpSpPr>
          <p:sp>
            <p:nvSpPr>
              <p:cNvPr id="1506" name=""/>
              <p:cNvSpPr/>
              <p:nvPr/>
            </p:nvSpPr>
            <p:spPr>
              <a:xfrm>
                <a:off x="3014640" y="338292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998800" y="3482640"/>
                <a:ext cx="572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8" name=""/>
            <p:cNvSpPr/>
            <p:nvPr/>
          </p:nvSpPr>
          <p:spPr>
            <a:xfrm>
              <a:off x="3156120" y="332280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697120" y="351324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193920" y="3782880"/>
              <a:ext cx="152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2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155mm Howitzers (b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697120" y="38545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2" name=""/>
            <p:cNvGrpSpPr/>
            <p:nvPr/>
          </p:nvGrpSpPr>
          <p:grpSpPr>
            <a:xfrm>
              <a:off x="2879640" y="3718080"/>
              <a:ext cx="276120" cy="228600"/>
              <a:chOff x="2879640" y="3718080"/>
              <a:chExt cx="276120" cy="228600"/>
            </a:xfrm>
          </p:grpSpPr>
          <p:sp>
            <p:nvSpPr>
              <p:cNvPr id="1513" name=""/>
              <p:cNvSpPr/>
              <p:nvPr/>
            </p:nvSpPr>
            <p:spPr>
              <a:xfrm>
                <a:off x="2879640" y="3756240"/>
                <a:ext cx="276120" cy="19044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998440" y="3829320"/>
                <a:ext cx="33480" cy="3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5" name=""/>
              <p:cNvGrpSpPr/>
              <p:nvPr/>
            </p:nvGrpSpPr>
            <p:grpSpPr>
              <a:xfrm>
                <a:off x="2984400" y="3718080"/>
                <a:ext cx="70920" cy="28080"/>
                <a:chOff x="2984400" y="3718080"/>
                <a:chExt cx="70920" cy="28080"/>
              </a:xfrm>
            </p:grpSpPr>
            <p:sp>
              <p:nvSpPr>
                <p:cNvPr id="1516" name=""/>
                <p:cNvSpPr/>
                <p:nvPr/>
              </p:nvSpPr>
              <p:spPr>
                <a:xfrm>
                  <a:off x="2984400" y="371808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3029760" y="3719520"/>
                  <a:ext cx="2556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8" name=""/>
            <p:cNvSpPr/>
            <p:nvPr/>
          </p:nvSpPr>
          <p:spPr>
            <a:xfrm>
              <a:off x="2505240" y="3997440"/>
              <a:ext cx="2019240" cy="961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rge template. Indirect Fire weapon rating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 vs. V, +1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697120" y="3178080"/>
              <a:ext cx="0" cy="63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5430960" y="1063800"/>
            <a:ext cx="2255760" cy="815400"/>
            <a:chOff x="5430960" y="1063800"/>
            <a:chExt cx="2255760" cy="815400"/>
          </a:xfrm>
        </p:grpSpPr>
        <p:sp>
          <p:nvSpPr>
            <p:cNvPr id="1521" name=""/>
            <p:cNvSpPr/>
            <p:nvPr/>
          </p:nvSpPr>
          <p:spPr>
            <a:xfrm>
              <a:off x="5576760" y="1176480"/>
              <a:ext cx="0" cy="5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062760" y="1327320"/>
              <a:ext cx="1623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x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Forward Observer (a) PO-16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799240" y="1312920"/>
              <a:ext cx="231840" cy="1569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5881680" y="1263600"/>
              <a:ext cx="57240" cy="155520"/>
              <a:chOff x="5881680" y="1263600"/>
              <a:chExt cx="57240" cy="155520"/>
            </a:xfrm>
          </p:grpSpPr>
          <p:sp>
            <p:nvSpPr>
              <p:cNvPr id="1525" name=""/>
              <p:cNvSpPr/>
              <p:nvPr/>
            </p:nvSpPr>
            <p:spPr>
              <a:xfrm>
                <a:off x="5897520" y="1263600"/>
                <a:ext cx="27000" cy="26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881680" y="1363320"/>
                <a:ext cx="57240" cy="558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7" name=""/>
            <p:cNvSpPr/>
            <p:nvPr/>
          </p:nvSpPr>
          <p:spPr>
            <a:xfrm>
              <a:off x="6039000" y="1203480"/>
              <a:ext cx="1523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n-Board Attach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5572080" y="1501920"/>
              <a:ext cx="2077920" cy="377280"/>
              <a:chOff x="5572080" y="1501920"/>
              <a:chExt cx="2077920" cy="377280"/>
            </a:xfrm>
          </p:grpSpPr>
          <p:sp>
            <p:nvSpPr>
              <p:cNvPr id="1529" name=""/>
              <p:cNvSpPr/>
              <p:nvPr/>
            </p:nvSpPr>
            <p:spPr>
              <a:xfrm>
                <a:off x="6049800" y="150192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Fire Direct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076800" y="166356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05mm Field Guns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31" name=""/>
              <p:cNvGrpSpPr/>
              <p:nvPr/>
            </p:nvGrpSpPr>
            <p:grpSpPr>
              <a:xfrm>
                <a:off x="5572080" y="1598760"/>
                <a:ext cx="466920" cy="228600"/>
                <a:chOff x="5572080" y="1598760"/>
                <a:chExt cx="466920" cy="228600"/>
              </a:xfrm>
            </p:grpSpPr>
            <p:sp>
              <p:nvSpPr>
                <p:cNvPr id="1532" name=""/>
                <p:cNvSpPr/>
                <p:nvPr/>
              </p:nvSpPr>
              <p:spPr>
                <a:xfrm>
                  <a:off x="5572080" y="172728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33" name=""/>
                <p:cNvGrpSpPr/>
                <p:nvPr/>
              </p:nvGrpSpPr>
              <p:grpSpPr>
                <a:xfrm>
                  <a:off x="5762520" y="1598760"/>
                  <a:ext cx="276120" cy="228600"/>
                  <a:chOff x="5762520" y="1598760"/>
                  <a:chExt cx="276120" cy="228600"/>
                </a:xfrm>
              </p:grpSpPr>
              <p:sp>
                <p:nvSpPr>
                  <p:cNvPr id="1534" name=""/>
                  <p:cNvSpPr/>
                  <p:nvPr/>
                </p:nvSpPr>
                <p:spPr>
                  <a:xfrm>
                    <a:off x="5762520" y="1636920"/>
                    <a:ext cx="276120" cy="19044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>
                    <a:off x="5881320" y="1710000"/>
                    <a:ext cx="33480" cy="33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867280" y="1598760"/>
                    <a:ext cx="70920" cy="28080"/>
                    <a:chOff x="5867280" y="1598760"/>
                    <a:chExt cx="70920" cy="2808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867280" y="15987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912640" y="1600200"/>
                      <a:ext cx="2556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539" name=""/>
                <p:cNvSpPr/>
                <p:nvPr/>
              </p:nvSpPr>
              <p:spPr>
                <a:xfrm flipV="1">
                  <a:off x="5762520" y="1636560"/>
                  <a:ext cx="276480" cy="1908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40" name=""/>
            <p:cNvSpPr/>
            <p:nvPr/>
          </p:nvSpPr>
          <p:spPr>
            <a:xfrm>
              <a:off x="5430960" y="1119240"/>
              <a:ext cx="291960" cy="1904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556240" y="1192320"/>
              <a:ext cx="34920" cy="3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580000" y="1393920"/>
              <a:ext cx="220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V="1">
              <a:off x="5442120" y="1110960"/>
              <a:ext cx="276120" cy="19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576760" y="1063800"/>
              <a:ext cx="0" cy="6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5168880" y="3592080"/>
            <a:ext cx="2303640" cy="2696400"/>
            <a:chOff x="5168880" y="3592080"/>
            <a:chExt cx="2303640" cy="2696400"/>
          </a:xfrm>
        </p:grpSpPr>
        <p:sp>
          <p:nvSpPr>
            <p:cNvPr id="1546" name=""/>
            <p:cNvSpPr/>
            <p:nvPr/>
          </p:nvSpPr>
          <p:spPr>
            <a:xfrm>
              <a:off x="5168880" y="3592080"/>
              <a:ext cx="1817640" cy="416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3300"/>
                  </a:solidFill>
                  <a:latin typeface="Arial"/>
                </a:rPr>
                <a:t>Fire Support Element-0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ery 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7" name=""/>
            <p:cNvGrpSpPr/>
            <p:nvPr/>
          </p:nvGrpSpPr>
          <p:grpSpPr>
            <a:xfrm>
              <a:off x="5365800" y="4446720"/>
              <a:ext cx="2070000" cy="377280"/>
              <a:chOff x="5365800" y="4446720"/>
              <a:chExt cx="2070000" cy="377280"/>
            </a:xfrm>
          </p:grpSpPr>
          <p:sp>
            <p:nvSpPr>
              <p:cNvPr id="1548" name=""/>
              <p:cNvSpPr/>
              <p:nvPr/>
            </p:nvSpPr>
            <p:spPr>
              <a:xfrm>
                <a:off x="5835600" y="4446720"/>
                <a:ext cx="1600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ff-Board Fire Direct Support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62600" y="460836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05mm Field Guns(b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365800" y="4680000"/>
                <a:ext cx="220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1" name=""/>
              <p:cNvGrpSpPr/>
              <p:nvPr/>
            </p:nvGrpSpPr>
            <p:grpSpPr>
              <a:xfrm>
                <a:off x="5548320" y="4543560"/>
                <a:ext cx="276120" cy="228600"/>
                <a:chOff x="5548320" y="4543560"/>
                <a:chExt cx="276120" cy="228600"/>
              </a:xfrm>
            </p:grpSpPr>
            <p:sp>
              <p:nvSpPr>
                <p:cNvPr id="1552" name=""/>
                <p:cNvSpPr/>
                <p:nvPr/>
              </p:nvSpPr>
              <p:spPr>
                <a:xfrm>
                  <a:off x="5548320" y="4581720"/>
                  <a:ext cx="276120" cy="19044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5667120" y="4654800"/>
                  <a:ext cx="3348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4" name=""/>
                <p:cNvGrpSpPr/>
                <p:nvPr/>
              </p:nvGrpSpPr>
              <p:grpSpPr>
                <a:xfrm>
                  <a:off x="5653080" y="4543560"/>
                  <a:ext cx="70920" cy="28080"/>
                  <a:chOff x="5653080" y="4543560"/>
                  <a:chExt cx="70920" cy="2808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>
                    <a:off x="5653080" y="4543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5698440" y="4545000"/>
                    <a:ext cx="2556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557" name=""/>
            <p:cNvSpPr/>
            <p:nvPr/>
          </p:nvSpPr>
          <p:spPr>
            <a:xfrm>
              <a:off x="5173560" y="4822920"/>
              <a:ext cx="2175120" cy="146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a) May deploy on-board a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2 75mm Field Gun   FR-2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nspo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2 wz. 34 Halftrack    PO-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b) The forward observer may be attached to any maneuver element. Use the German Call for Fire tab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(c)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mall Template. Indirect Fire Rat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 vs. V, 0 vs. T, G, 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5216400" y="4000680"/>
              <a:ext cx="2256120" cy="668160"/>
              <a:chOff x="5216400" y="4000680"/>
              <a:chExt cx="2256120" cy="668160"/>
            </a:xfrm>
          </p:grpSpPr>
          <p:sp>
            <p:nvSpPr>
              <p:cNvPr id="1559" name=""/>
              <p:cNvSpPr/>
              <p:nvPr/>
            </p:nvSpPr>
            <p:spPr>
              <a:xfrm>
                <a:off x="5362560" y="4121280"/>
                <a:ext cx="0" cy="54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48200" y="4272120"/>
                <a:ext cx="1624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Forward Observer (a) PO-16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584680" y="4257720"/>
                <a:ext cx="231840" cy="156960"/>
              </a:xfrm>
              <a:prstGeom prst="rect">
                <a:avLst/>
              </a:prstGeom>
              <a:solidFill>
                <a:srgbClr val="cc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2" name=""/>
              <p:cNvGrpSpPr/>
              <p:nvPr/>
            </p:nvGrpSpPr>
            <p:grpSpPr>
              <a:xfrm>
                <a:off x="5667480" y="4208400"/>
                <a:ext cx="56880" cy="155520"/>
                <a:chOff x="5667480" y="4208400"/>
                <a:chExt cx="56880" cy="155520"/>
              </a:xfrm>
            </p:grpSpPr>
            <p:sp>
              <p:nvSpPr>
                <p:cNvPr id="1563" name=""/>
                <p:cNvSpPr/>
                <p:nvPr/>
              </p:nvSpPr>
              <p:spPr>
                <a:xfrm>
                  <a:off x="5682960" y="4208400"/>
                  <a:ext cx="266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5667480" y="4308120"/>
                  <a:ext cx="56880" cy="558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5" name=""/>
              <p:cNvSpPr/>
              <p:nvPr/>
            </p:nvSpPr>
            <p:spPr>
              <a:xfrm>
                <a:off x="5824440" y="4148280"/>
                <a:ext cx="1524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5216400" y="4000680"/>
                <a:ext cx="370080" cy="338040"/>
                <a:chOff x="5216400" y="4000680"/>
                <a:chExt cx="370080" cy="33804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5216400" y="4064040"/>
                  <a:ext cx="292320" cy="19044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5342040" y="4137120"/>
                  <a:ext cx="34920" cy="331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365800" y="4338720"/>
                  <a:ext cx="2206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5365800" y="4000680"/>
                  <a:ext cx="0" cy="72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4:46:52Z</dcterms:created>
  <dc:creator>James Baker</dc:creator>
  <dc:description/>
  <dc:language>en-US</dc:language>
  <cp:lastModifiedBy>James Baker</cp:lastModifiedBy>
  <cp:lastPrinted>2002-07-20T15:01:59Z</cp:lastPrinted>
  <dcterms:modified xsi:type="dcterms:W3CDTF">2002-07-20T15:02:10Z</dcterms:modified>
  <cp:revision>87</cp:revision>
  <dc:subject/>
  <dc:title>PowerPoint Presentation</dc:title>
</cp:coreProperties>
</file>