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315200" cy="9637713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769-87AD-4FF9-B18C-064FCEF5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AAE-4856-4583-AC0A-B3B3F8D0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8E3-2822-4415-B8A9-7F4CA02A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541-A69F-4111-8BB7-05C577A6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5C5-18B6-41B3-9AD3-33D66D42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5F0-C13A-4AA3-8447-5EE632D4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7FD-92DA-4FD4-B8C3-6A215D6E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B2D-A084-4D92-B23A-5166E4A0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857160"/>
            <a:ext cx="6216480" cy="74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03D-A933-4C90-B8E8-78DAB4ED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E1E-FE0A-479F-AF53-0C3F0C88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42A-26AD-49BB-840A-F184E504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A34-4527-4DBD-A910-8D01955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80400"/>
            <a:ext cx="23176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EDA7-13F8-4BF0-833B-E0587957B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19440" y="4724280"/>
            <a:ext cx="0" cy="196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44792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25576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505320"/>
            <a:ext cx="2590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k VIC 15mm Light Tank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 8A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3340080"/>
            <a:ext cx="239760" cy="157320"/>
            <a:chOff x="533520" y="3340080"/>
            <a:chExt cx="239760" cy="157320"/>
          </a:xfrm>
        </p:grpSpPr>
        <p:sp>
          <p:nvSpPr>
            <p:cNvPr id="46" name=""/>
            <p:cNvSpPr/>
            <p:nvPr/>
          </p:nvSpPr>
          <p:spPr>
            <a:xfrm>
              <a:off x="533520" y="334008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7440" y="3379320"/>
              <a:ext cx="151560" cy="7488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09480" y="3506760"/>
            <a:ext cx="0" cy="2131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34340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73392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581280"/>
            <a:ext cx="0" cy="9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62120" y="4495320"/>
            <a:ext cx="1429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27672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moured Squad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4548240"/>
            <a:ext cx="25146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k VIB MG Light Tank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    8A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39880" y="2260440"/>
            <a:ext cx="114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54000" y="2260440"/>
            <a:ext cx="11448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159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            8A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363384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8A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971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71560" y="1488960"/>
            <a:ext cx="162000" cy="763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7680" y="2116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ATTACH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3657600"/>
            <a:ext cx="239760" cy="157320"/>
            <a:chOff x="914400" y="3657600"/>
            <a:chExt cx="239760" cy="157320"/>
          </a:xfrm>
        </p:grpSpPr>
        <p:sp>
          <p:nvSpPr>
            <p:cNvPr id="63" name=""/>
            <p:cNvSpPr/>
            <p:nvPr/>
          </p:nvSpPr>
          <p:spPr>
            <a:xfrm>
              <a:off x="914400" y="365760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58320" y="3696840"/>
              <a:ext cx="151560" cy="7488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219320" y="4808520"/>
            <a:ext cx="2895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Alternativ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10 Cruiser Tank                  8A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Vickers Mk VIB MG Light Tank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8A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841920"/>
            <a:ext cx="25146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Alternativ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13 Cruiser Tank                   8A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10 CS Cruiser Tank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      8A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4120" y="3273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82800" y="3592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7600" y="35892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949560"/>
            <a:ext cx="23976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58680" y="3989520"/>
            <a:ext cx="150840" cy="745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4262400"/>
            <a:ext cx="239760" cy="157320"/>
            <a:chOff x="914400" y="4262400"/>
            <a:chExt cx="239760" cy="157320"/>
          </a:xfrm>
        </p:grpSpPr>
        <p:sp>
          <p:nvSpPr>
            <p:cNvPr id="73" name=""/>
            <p:cNvSpPr/>
            <p:nvPr/>
          </p:nvSpPr>
          <p:spPr>
            <a:xfrm>
              <a:off x="914400" y="426240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58320" y="4301640"/>
              <a:ext cx="151560" cy="7488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14400" y="4572000"/>
            <a:ext cx="239760" cy="228600"/>
            <a:chOff x="914400" y="4572000"/>
            <a:chExt cx="239760" cy="228600"/>
          </a:xfrm>
        </p:grpSpPr>
        <p:grpSp>
          <p:nvGrpSpPr>
            <p:cNvPr id="76" name=""/>
            <p:cNvGrpSpPr/>
            <p:nvPr/>
          </p:nvGrpSpPr>
          <p:grpSpPr>
            <a:xfrm>
              <a:off x="1001880" y="4572000"/>
              <a:ext cx="74520" cy="28800"/>
              <a:chOff x="1001880" y="4572000"/>
              <a:chExt cx="74520" cy="28800"/>
            </a:xfrm>
          </p:grpSpPr>
          <p:sp>
            <p:nvSpPr>
              <p:cNvPr id="77" name=""/>
              <p:cNvSpPr/>
              <p:nvPr/>
            </p:nvSpPr>
            <p:spPr>
              <a:xfrm>
                <a:off x="1001880" y="45720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049400" y="4573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914400" y="4643640"/>
              <a:ext cx="239760" cy="156960"/>
              <a:chOff x="914400" y="4643640"/>
              <a:chExt cx="239760" cy="156960"/>
            </a:xfrm>
          </p:grpSpPr>
          <p:sp>
            <p:nvSpPr>
              <p:cNvPr id="80" name=""/>
              <p:cNvSpPr/>
              <p:nvPr/>
            </p:nvSpPr>
            <p:spPr>
              <a:xfrm>
                <a:off x="914400" y="4643640"/>
                <a:ext cx="239760" cy="15696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58320" y="4682880"/>
                <a:ext cx="151560" cy="74880"/>
              </a:xfrm>
              <a:prstGeom prst="ellipse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914400" y="4876920"/>
            <a:ext cx="239760" cy="228600"/>
            <a:chOff x="914400" y="4876920"/>
            <a:chExt cx="239760" cy="228600"/>
          </a:xfrm>
        </p:grpSpPr>
        <p:grpSp>
          <p:nvGrpSpPr>
            <p:cNvPr id="83" name=""/>
            <p:cNvGrpSpPr/>
            <p:nvPr/>
          </p:nvGrpSpPr>
          <p:grpSpPr>
            <a:xfrm>
              <a:off x="1001880" y="4876920"/>
              <a:ext cx="74520" cy="28800"/>
              <a:chOff x="1001880" y="4876920"/>
              <a:chExt cx="74520" cy="28800"/>
            </a:xfrm>
          </p:grpSpPr>
          <p:sp>
            <p:nvSpPr>
              <p:cNvPr id="84" name=""/>
              <p:cNvSpPr/>
              <p:nvPr/>
            </p:nvSpPr>
            <p:spPr>
              <a:xfrm>
                <a:off x="1001880" y="4876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49400" y="48787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914400" y="4948560"/>
              <a:ext cx="239760" cy="156960"/>
              <a:chOff x="914400" y="4948560"/>
              <a:chExt cx="239760" cy="156960"/>
            </a:xfrm>
          </p:grpSpPr>
          <p:sp>
            <p:nvSpPr>
              <p:cNvPr id="87" name=""/>
              <p:cNvSpPr/>
              <p:nvPr/>
            </p:nvSpPr>
            <p:spPr>
              <a:xfrm>
                <a:off x="914400" y="4948560"/>
                <a:ext cx="239760" cy="15696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58320" y="4987800"/>
                <a:ext cx="151560" cy="74880"/>
              </a:xfrm>
              <a:prstGeom prst="ellipse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914400" y="5181480"/>
            <a:ext cx="239760" cy="228600"/>
            <a:chOff x="914400" y="5181480"/>
            <a:chExt cx="239760" cy="228600"/>
          </a:xfrm>
        </p:grpSpPr>
        <p:grpSp>
          <p:nvGrpSpPr>
            <p:cNvPr id="90" name=""/>
            <p:cNvGrpSpPr/>
            <p:nvPr/>
          </p:nvGrpSpPr>
          <p:grpSpPr>
            <a:xfrm>
              <a:off x="1001880" y="5181480"/>
              <a:ext cx="74520" cy="28800"/>
              <a:chOff x="1001880" y="5181480"/>
              <a:chExt cx="74520" cy="28800"/>
            </a:xfrm>
          </p:grpSpPr>
          <p:sp>
            <p:nvSpPr>
              <p:cNvPr id="91" name=""/>
              <p:cNvSpPr/>
              <p:nvPr/>
            </p:nvSpPr>
            <p:spPr>
              <a:xfrm>
                <a:off x="1001880" y="5181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49400" y="5183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914400" y="5253120"/>
              <a:ext cx="239760" cy="156960"/>
              <a:chOff x="914400" y="5253120"/>
              <a:chExt cx="239760" cy="156960"/>
            </a:xfrm>
          </p:grpSpPr>
          <p:sp>
            <p:nvSpPr>
              <p:cNvPr id="94" name=""/>
              <p:cNvSpPr/>
              <p:nvPr/>
            </p:nvSpPr>
            <p:spPr>
              <a:xfrm>
                <a:off x="914400" y="5253120"/>
                <a:ext cx="239760" cy="15696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58320" y="5292360"/>
                <a:ext cx="151560" cy="74880"/>
              </a:xfrm>
              <a:prstGeom prst="ellipse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1001880" y="5486400"/>
            <a:ext cx="74520" cy="28080"/>
            <a:chOff x="1001880" y="5486400"/>
            <a:chExt cx="74520" cy="28080"/>
          </a:xfrm>
        </p:grpSpPr>
        <p:sp>
          <p:nvSpPr>
            <p:cNvPr id="97" name=""/>
            <p:cNvSpPr/>
            <p:nvPr/>
          </p:nvSpPr>
          <p:spPr>
            <a:xfrm>
              <a:off x="1001880" y="54864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49400" y="54878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14400" y="5557680"/>
            <a:ext cx="23976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0880" y="838080"/>
            <a:ext cx="533160" cy="361800"/>
            <a:chOff x="380880" y="838080"/>
            <a:chExt cx="533160" cy="361800"/>
          </a:xfrm>
        </p:grpSpPr>
        <p:sp>
          <p:nvSpPr>
            <p:cNvPr id="101" name=""/>
            <p:cNvSpPr/>
            <p:nvPr/>
          </p:nvSpPr>
          <p:spPr>
            <a:xfrm>
              <a:off x="380880" y="838080"/>
              <a:ext cx="533160" cy="36180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8800" y="928800"/>
              <a:ext cx="342000" cy="17280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990720" y="838080"/>
            <a:ext cx="2514600" cy="3070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moured Reg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376280"/>
            <a:ext cx="2819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Headquarters Element [Experienced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kers Mk VIB MG Light Tank 8A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8288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Armoured Squadron [Experienced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38080" y="1871640"/>
            <a:ext cx="239760" cy="157320"/>
            <a:chOff x="838080" y="1871640"/>
            <a:chExt cx="239760" cy="157320"/>
          </a:xfrm>
        </p:grpSpPr>
        <p:sp>
          <p:nvSpPr>
            <p:cNvPr id="107" name=""/>
            <p:cNvSpPr/>
            <p:nvPr/>
          </p:nvSpPr>
          <p:spPr>
            <a:xfrm>
              <a:off x="838080" y="187164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2000" y="1910880"/>
              <a:ext cx="151560" cy="7488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143000" y="22417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pdr Antitank Gun Portée          8A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203480"/>
            <a:ext cx="0" cy="76176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3623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573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52568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5160" y="18129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2720" y="766800"/>
            <a:ext cx="76320" cy="63360"/>
            <a:chOff x="612720" y="766800"/>
            <a:chExt cx="76320" cy="63360"/>
          </a:xfrm>
        </p:grpSpPr>
        <p:sp>
          <p:nvSpPr>
            <p:cNvPr id="116" name=""/>
            <p:cNvSpPr/>
            <p:nvPr/>
          </p:nvSpPr>
          <p:spPr>
            <a:xfrm>
              <a:off x="612720" y="766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9040" y="766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849240" y="24192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30320" y="24192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941480"/>
            <a:ext cx="0" cy="72540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201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61920" y="22035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46080" y="13953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23840" y="38941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2400" y="42069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62120" y="4572000"/>
            <a:ext cx="142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62120" y="5791320"/>
            <a:ext cx="142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2120" y="3580920"/>
            <a:ext cx="1429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4572000"/>
            <a:ext cx="0" cy="1219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33412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63868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02920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03848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23120" y="1959120"/>
          <a:ext cx="5608800" cy="37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3120" y="1959120"/>
                    <a:ext cx="560880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17680" y="5943600"/>
          <a:ext cx="3520800" cy="1371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7680" y="5943600"/>
                    <a:ext cx="352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267080" y="833400"/>
            <a:ext cx="2514600" cy="3070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tor Batta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1239840"/>
            <a:ext cx="2438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Headquarters Element [Experienced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       8A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         8A-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186840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Infantry Company [Experienced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724040"/>
            <a:ext cx="159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2722680"/>
            <a:ext cx="28191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mm Bofors Antitank Gun 8A-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                          8A-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7451640"/>
            <a:ext cx="23148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520" y="7496280"/>
            <a:ext cx="169560" cy="745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739152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moured Reconnaissance Squad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7620120"/>
            <a:ext cx="0" cy="4572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7800840"/>
            <a:ext cx="30024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8077320"/>
            <a:ext cx="30024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756432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5840" y="8013600"/>
            <a:ext cx="23976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50760" y="8053560"/>
            <a:ext cx="169920" cy="745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915840" y="8013240"/>
            <a:ext cx="23652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96840" y="7964640"/>
            <a:ext cx="74520" cy="28080"/>
            <a:chOff x="996840" y="7964640"/>
            <a:chExt cx="74520" cy="28080"/>
          </a:xfrm>
        </p:grpSpPr>
        <p:sp>
          <p:nvSpPr>
            <p:cNvPr id="155" name=""/>
            <p:cNvSpPr/>
            <p:nvPr/>
          </p:nvSpPr>
          <p:spPr>
            <a:xfrm>
              <a:off x="996840" y="796464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44360" y="79660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 flipV="1">
            <a:off x="533520" y="7451280"/>
            <a:ext cx="23652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4400" y="7672320"/>
            <a:ext cx="239760" cy="212760"/>
            <a:chOff x="914400" y="7672320"/>
            <a:chExt cx="239760" cy="212760"/>
          </a:xfrm>
        </p:grpSpPr>
        <p:sp>
          <p:nvSpPr>
            <p:cNvPr id="159" name=""/>
            <p:cNvSpPr/>
            <p:nvPr/>
          </p:nvSpPr>
          <p:spPr>
            <a:xfrm>
              <a:off x="1014120" y="76723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14400" y="7728120"/>
              <a:ext cx="23976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49320" y="7772400"/>
              <a:ext cx="169920" cy="745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914400" y="772812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143000" y="768816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ris CS9 Armoured Car   8A-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7972560"/>
            <a:ext cx="23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s-Royce Armoured Car 8A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784872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Rec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4120" y="7391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66688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58588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8680" y="25192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65080" y="2619360"/>
            <a:ext cx="169920" cy="745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38080" y="2575080"/>
            <a:ext cx="2365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351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moured Reconnaissance Squad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58680" y="5597640"/>
            <a:ext cx="150840" cy="745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5425920"/>
            <a:ext cx="2514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Alternativ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13 Cruiser Tank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             8A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2871720"/>
            <a:ext cx="0" cy="684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1195560"/>
            <a:ext cx="0" cy="10141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1887480"/>
            <a:ext cx="23976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627696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8A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658188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ut Carrier           8A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687060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antry/Recon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   8a-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719460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ut Carrier          8A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14800" y="188136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25960" y="1897200"/>
            <a:ext cx="2412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1523880"/>
            <a:ext cx="0" cy="684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44956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               8A-39  4 with Boys AT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91240" y="491796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           8A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508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330516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833400"/>
            <a:ext cx="533520" cy="3621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42244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pdr Antitank Gun Portée  8A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94120" y="24829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98108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14479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33960" y="1828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889440" y="762120"/>
            <a:ext cx="75960" cy="63360"/>
            <a:chOff x="3889440" y="762120"/>
            <a:chExt cx="75960" cy="63360"/>
          </a:xfrm>
        </p:grpSpPr>
        <p:sp>
          <p:nvSpPr>
            <p:cNvPr id="196" name=""/>
            <p:cNvSpPr/>
            <p:nvPr/>
          </p:nvSpPr>
          <p:spPr>
            <a:xfrm>
              <a:off x="3889440" y="762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65400" y="762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114800" y="271476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2209680"/>
            <a:ext cx="0" cy="57780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657600" y="8301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65520" y="8301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174456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MANEUVER ELE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29248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ATTACH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1360" y="1203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91040" y="1203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114800" y="2715840"/>
            <a:ext cx="114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29280" y="2709720"/>
            <a:ext cx="11412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83200" y="2362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294012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58436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25960" y="2585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07040" y="2585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241452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114800" y="2417400"/>
            <a:ext cx="114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29280" y="2417760"/>
            <a:ext cx="11412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9120" y="1752480"/>
            <a:ext cx="266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30640" y="17524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31161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30640" y="31161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35400" y="23623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70520" y="134784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14880" y="1327320"/>
            <a:ext cx="2700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3320" y="26668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83200" y="2666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94120" y="278748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385452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 inch Mortar        8A-45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4038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43240" y="3505320"/>
            <a:ext cx="0" cy="11430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373680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59320" y="421308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70480" y="4376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51200" y="43768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60760" y="4559400"/>
            <a:ext cx="231840" cy="16488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4240" y="5087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75320" y="5087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87760" y="3817800"/>
            <a:ext cx="0" cy="88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56200" y="464652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444920" y="3670200"/>
            <a:ext cx="231840" cy="157320"/>
            <a:chOff x="4444920" y="3670200"/>
            <a:chExt cx="231840" cy="157320"/>
          </a:xfrm>
        </p:grpSpPr>
        <p:sp>
          <p:nvSpPr>
            <p:cNvPr id="240" name=""/>
            <p:cNvSpPr/>
            <p:nvPr/>
          </p:nvSpPr>
          <p:spPr>
            <a:xfrm>
              <a:off x="4444920" y="367020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68680" y="3692520"/>
              <a:ext cx="184320" cy="11088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546440" y="36273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56160" y="4160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538520" y="4495680"/>
            <a:ext cx="74520" cy="28800"/>
            <a:chOff x="4538520" y="4495680"/>
            <a:chExt cx="74520" cy="28800"/>
          </a:xfrm>
        </p:grpSpPr>
        <p:sp>
          <p:nvSpPr>
            <p:cNvPr id="245" name=""/>
            <p:cNvSpPr/>
            <p:nvPr/>
          </p:nvSpPr>
          <p:spPr>
            <a:xfrm>
              <a:off x="4538520" y="44956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86040" y="4497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562640" y="4865760"/>
            <a:ext cx="74520" cy="28080"/>
            <a:chOff x="4562640" y="4865760"/>
            <a:chExt cx="74520" cy="28080"/>
          </a:xfrm>
        </p:grpSpPr>
        <p:sp>
          <p:nvSpPr>
            <p:cNvPr id="248" name=""/>
            <p:cNvSpPr/>
            <p:nvPr/>
          </p:nvSpPr>
          <p:spPr>
            <a:xfrm>
              <a:off x="4562640" y="48657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0160" y="48672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095720" y="335448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06960" y="32828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02200" y="335268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05440" y="334476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444920" y="3908520"/>
            <a:ext cx="239760" cy="156960"/>
            <a:chOff x="4444920" y="3908520"/>
            <a:chExt cx="239760" cy="156960"/>
          </a:xfrm>
        </p:grpSpPr>
        <p:sp>
          <p:nvSpPr>
            <p:cNvPr id="255" name=""/>
            <p:cNvSpPr/>
            <p:nvPr/>
          </p:nvSpPr>
          <p:spPr>
            <a:xfrm>
              <a:off x="4444920" y="3908520"/>
              <a:ext cx="23976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565520" y="3929760"/>
              <a:ext cx="2160" cy="101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29520" y="403344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 flipV="1">
            <a:off x="4454640" y="390204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51400" y="391320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67240" y="457200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464000" y="4564080"/>
            <a:ext cx="23040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519440" y="3857760"/>
            <a:ext cx="74520" cy="28080"/>
            <a:chOff x="4519440" y="3857760"/>
            <a:chExt cx="74520" cy="28080"/>
          </a:xfrm>
        </p:grpSpPr>
        <p:sp>
          <p:nvSpPr>
            <p:cNvPr id="263" name=""/>
            <p:cNvSpPr/>
            <p:nvPr/>
          </p:nvSpPr>
          <p:spPr>
            <a:xfrm>
              <a:off x="4519440" y="38577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66960" y="38592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495680" y="4070520"/>
            <a:ext cx="0" cy="14256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40320" y="7081920"/>
            <a:ext cx="0" cy="1332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7480" y="7207200"/>
            <a:ext cx="23976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43560" y="6477120"/>
            <a:ext cx="0" cy="1332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84520" y="6594480"/>
            <a:ext cx="23976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608004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1800" y="6124680"/>
            <a:ext cx="169920" cy="745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60087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out/Carrier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6248520"/>
            <a:ext cx="0" cy="7506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03680" y="6550200"/>
            <a:ext cx="2700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95760" y="62690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14760" y="7364520"/>
            <a:ext cx="20952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7480" y="6923160"/>
            <a:ext cx="23976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32400" y="6962760"/>
            <a:ext cx="169920" cy="745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497480" y="6923160"/>
            <a:ext cx="2365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5680" y="6923160"/>
            <a:ext cx="24156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32400" y="7246800"/>
            <a:ext cx="169920" cy="7488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638964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699912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616104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578480" y="6881760"/>
            <a:ext cx="74520" cy="28800"/>
            <a:chOff x="4578480" y="6881760"/>
            <a:chExt cx="74520" cy="28800"/>
          </a:xfrm>
        </p:grpSpPr>
        <p:sp>
          <p:nvSpPr>
            <p:cNvPr id="286" name=""/>
            <p:cNvSpPr/>
            <p:nvPr/>
          </p:nvSpPr>
          <p:spPr>
            <a:xfrm>
              <a:off x="4578480" y="68817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26000" y="6883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572000" y="7151760"/>
            <a:ext cx="74520" cy="28080"/>
            <a:chOff x="4572000" y="7151760"/>
            <a:chExt cx="74520" cy="28080"/>
          </a:xfrm>
        </p:grpSpPr>
        <p:sp>
          <p:nvSpPr>
            <p:cNvPr id="289" name=""/>
            <p:cNvSpPr/>
            <p:nvPr/>
          </p:nvSpPr>
          <p:spPr>
            <a:xfrm>
              <a:off x="4572000" y="71517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19520" y="71532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 flipV="1">
            <a:off x="4114800" y="6079680"/>
            <a:ext cx="23652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608472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495680" y="6313320"/>
            <a:ext cx="231840" cy="157320"/>
            <a:chOff x="4495680" y="6313320"/>
            <a:chExt cx="231840" cy="157320"/>
          </a:xfrm>
        </p:grpSpPr>
        <p:sp>
          <p:nvSpPr>
            <p:cNvPr id="294" name=""/>
            <p:cNvSpPr/>
            <p:nvPr/>
          </p:nvSpPr>
          <p:spPr>
            <a:xfrm>
              <a:off x="4495680" y="631332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19440" y="6335640"/>
              <a:ext cx="184320" cy="11088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724280" y="64771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70675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14760" y="6751800"/>
            <a:ext cx="20952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32400" y="6634080"/>
            <a:ext cx="169920" cy="745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497480" y="6594120"/>
            <a:ext cx="23652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6593040"/>
            <a:ext cx="24156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170240" y="6032520"/>
            <a:ext cx="118800" cy="28080"/>
            <a:chOff x="4170240" y="6032520"/>
            <a:chExt cx="118800" cy="28080"/>
          </a:xfrm>
        </p:grpSpPr>
        <p:sp>
          <p:nvSpPr>
            <p:cNvPr id="303" name=""/>
            <p:cNvSpPr/>
            <p:nvPr/>
          </p:nvSpPr>
          <p:spPr>
            <a:xfrm>
              <a:off x="4262040" y="60325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4170240" y="6032520"/>
              <a:ext cx="74520" cy="28080"/>
              <a:chOff x="4170240" y="6032520"/>
              <a:chExt cx="74520" cy="28080"/>
            </a:xfrm>
          </p:grpSpPr>
          <p:sp>
            <p:nvSpPr>
              <p:cNvPr id="305" name=""/>
              <p:cNvSpPr/>
              <p:nvPr/>
            </p:nvSpPr>
            <p:spPr>
              <a:xfrm>
                <a:off x="4170240" y="60325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17760" y="60339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7" name=""/>
          <p:cNvSpPr/>
          <p:nvPr/>
        </p:nvSpPr>
        <p:spPr>
          <a:xfrm flipV="1">
            <a:off x="4497480" y="7206840"/>
            <a:ext cx="23652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95680" y="7207200"/>
            <a:ext cx="24156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778824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pdr Royal Horse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91240" y="47815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2097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Scout/Carrier Platoon [EXP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114800" y="2101680"/>
            <a:ext cx="241200" cy="204840"/>
            <a:chOff x="4114800" y="2101680"/>
            <a:chExt cx="241200" cy="204840"/>
          </a:xfrm>
        </p:grpSpPr>
        <p:sp>
          <p:nvSpPr>
            <p:cNvPr id="313" name=""/>
            <p:cNvSpPr/>
            <p:nvPr/>
          </p:nvSpPr>
          <p:spPr>
            <a:xfrm>
              <a:off x="4114800" y="214920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4170240" y="2101680"/>
              <a:ext cx="118800" cy="28080"/>
              <a:chOff x="4170240" y="2101680"/>
              <a:chExt cx="118800" cy="28080"/>
            </a:xfrm>
          </p:grpSpPr>
          <p:sp>
            <p:nvSpPr>
              <p:cNvPr id="315" name=""/>
              <p:cNvSpPr/>
              <p:nvPr/>
            </p:nvSpPr>
            <p:spPr>
              <a:xfrm>
                <a:off x="4262040" y="2101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4170240" y="2101680"/>
                <a:ext cx="74520" cy="28080"/>
                <a:chOff x="4170240" y="2101680"/>
                <a:chExt cx="74520" cy="280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170240" y="21016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217760" y="21031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>
              <a:off x="4154400" y="2185920"/>
              <a:ext cx="150840" cy="745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14800" y="215100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114800" y="213840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894120" y="22255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8480" y="8691480"/>
            <a:ext cx="23976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784080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33920" y="8008920"/>
            <a:ext cx="0" cy="75888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818208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33920" y="876780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8109000"/>
            <a:ext cx="23976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8077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    8A-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867096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pdr Gun                8A-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855504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ff-board Direct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70280" y="77803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67080" y="83707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               8A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038480" y="8410680"/>
            <a:ext cx="231840" cy="190080"/>
            <a:chOff x="4038480" y="8410680"/>
            <a:chExt cx="231840" cy="190080"/>
          </a:xfrm>
        </p:grpSpPr>
        <p:sp>
          <p:nvSpPr>
            <p:cNvPr id="335" name=""/>
            <p:cNvSpPr/>
            <p:nvPr/>
          </p:nvSpPr>
          <p:spPr>
            <a:xfrm>
              <a:off x="4038480" y="8410680"/>
              <a:ext cx="23184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48920" y="8573400"/>
              <a:ext cx="27000" cy="2736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30720" y="8573400"/>
              <a:ext cx="27360" cy="2736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086360" y="826596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795348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125960" y="8631360"/>
            <a:ext cx="74520" cy="28080"/>
            <a:chOff x="4125960" y="8631360"/>
            <a:chExt cx="74520" cy="28080"/>
          </a:xfrm>
        </p:grpSpPr>
        <p:sp>
          <p:nvSpPr>
            <p:cNvPr id="341" name=""/>
            <p:cNvSpPr/>
            <p:nvPr/>
          </p:nvSpPr>
          <p:spPr>
            <a:xfrm>
              <a:off x="4125960" y="86313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73480" y="86328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4267080" y="825012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57680" y="79135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46480" y="87566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38560" y="83599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02120" y="808524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38560" y="8053560"/>
            <a:ext cx="2880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65520" y="73882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ay replace any or all with LMG; may replace one with Boys ATR, and/or 2 inch mortar when dismount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9000" y="228600"/>
            <a:ext cx="6460920" cy="380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tish Tables of Organization, “Operation Compass” - December 1940 p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83080" y="492444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974880"/>
            <a:ext cx="0" cy="23857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1295280"/>
            <a:ext cx="0" cy="684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24280" y="1716120"/>
            <a:ext cx="2067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                      8A-39      1 with Boys AT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34000" y="130644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76800" y="1103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604800"/>
            <a:ext cx="533520" cy="3621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27672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pdr Antitank Gun   8A-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39625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182880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914400" y="1682640"/>
            <a:ext cx="252360" cy="222120"/>
            <a:chOff x="914400" y="1682640"/>
            <a:chExt cx="252360" cy="222120"/>
          </a:xfrm>
        </p:grpSpPr>
        <p:sp>
          <p:nvSpPr>
            <p:cNvPr id="363" name=""/>
            <p:cNvSpPr/>
            <p:nvPr/>
          </p:nvSpPr>
          <p:spPr>
            <a:xfrm>
              <a:off x="914400" y="174132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914400" y="173520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25560" y="175104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33560" y="1682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9040" y="533520"/>
            <a:ext cx="75960" cy="63360"/>
            <a:chOff x="689040" y="533520"/>
            <a:chExt cx="75960" cy="63360"/>
          </a:xfrm>
        </p:grpSpPr>
        <p:sp>
          <p:nvSpPr>
            <p:cNvPr id="368" name=""/>
            <p:cNvSpPr/>
            <p:nvPr/>
          </p:nvSpPr>
          <p:spPr>
            <a:xfrm>
              <a:off x="689040" y="533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5000" y="533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685800" y="3384720"/>
            <a:ext cx="0" cy="57780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114300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49280" y="59364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59364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16002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MANEUVER ELE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220968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ATTACH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135576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70120" y="111924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14480" y="1098720"/>
            <a:ext cx="2700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720" y="337644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34000" y="2100240"/>
            <a:ext cx="20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 inch Mortar             8A-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76640" y="1311120"/>
            <a:ext cx="0" cy="9241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73400" y="1535040"/>
            <a:ext cx="30024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94160" y="1752480"/>
            <a:ext cx="231840" cy="16524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89240" y="2235240"/>
            <a:ext cx="30024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386240" y="1468440"/>
            <a:ext cx="231840" cy="157320"/>
            <a:chOff x="4386240" y="1468440"/>
            <a:chExt cx="231840" cy="157320"/>
          </a:xfrm>
        </p:grpSpPr>
        <p:sp>
          <p:nvSpPr>
            <p:cNvPr id="386" name=""/>
            <p:cNvSpPr/>
            <p:nvPr/>
          </p:nvSpPr>
          <p:spPr>
            <a:xfrm>
              <a:off x="4386240" y="146844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10000" y="1490760"/>
              <a:ext cx="184320" cy="11088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4487760" y="14256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471920" y="1697040"/>
            <a:ext cx="74520" cy="28080"/>
            <a:chOff x="4471920" y="1697040"/>
            <a:chExt cx="74520" cy="28080"/>
          </a:xfrm>
        </p:grpSpPr>
        <p:sp>
          <p:nvSpPr>
            <p:cNvPr id="390" name=""/>
            <p:cNvSpPr/>
            <p:nvPr/>
          </p:nvSpPr>
          <p:spPr>
            <a:xfrm>
              <a:off x="4471920" y="169704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19440" y="16984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029120" y="115236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40360" y="1081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35600" y="115092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038480" y="1143000"/>
            <a:ext cx="23040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402080" y="2151000"/>
            <a:ext cx="239760" cy="157320"/>
            <a:chOff x="4402080" y="2151000"/>
            <a:chExt cx="239760" cy="157320"/>
          </a:xfrm>
        </p:grpSpPr>
        <p:sp>
          <p:nvSpPr>
            <p:cNvPr id="397" name=""/>
            <p:cNvSpPr/>
            <p:nvPr/>
          </p:nvSpPr>
          <p:spPr>
            <a:xfrm>
              <a:off x="4402080" y="215100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522680" y="2172240"/>
              <a:ext cx="2160" cy="101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86680" y="227592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V="1">
            <a:off x="4411800" y="214488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08560" y="215568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00640" y="1765440"/>
            <a:ext cx="2412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397400" y="175752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476600" y="2100240"/>
            <a:ext cx="74520" cy="28080"/>
            <a:chOff x="4476600" y="2100240"/>
            <a:chExt cx="74520" cy="28080"/>
          </a:xfrm>
        </p:grpSpPr>
        <p:sp>
          <p:nvSpPr>
            <p:cNvPr id="405" name=""/>
            <p:cNvSpPr/>
            <p:nvPr/>
          </p:nvSpPr>
          <p:spPr>
            <a:xfrm>
              <a:off x="4476600" y="210024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24120" y="21016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038480" y="2743200"/>
            <a:ext cx="1981080" cy="1382760"/>
            <a:chOff x="4038480" y="2743200"/>
            <a:chExt cx="1981080" cy="1382760"/>
          </a:xfrm>
        </p:grpSpPr>
        <p:sp>
          <p:nvSpPr>
            <p:cNvPr id="408" name=""/>
            <p:cNvSpPr/>
            <p:nvPr/>
          </p:nvSpPr>
          <p:spPr>
            <a:xfrm>
              <a:off x="4464000" y="3816360"/>
              <a:ext cx="0" cy="13356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21160" y="394164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67240" y="3211560"/>
              <a:ext cx="0" cy="1332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08200" y="332892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38480" y="2814840"/>
              <a:ext cx="23184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65480" y="2859120"/>
              <a:ext cx="169920" cy="745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67080" y="274320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cout/Carrier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14800" y="2982960"/>
              <a:ext cx="0" cy="75096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27360" y="32846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9440" y="30034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38440" y="4098960"/>
              <a:ext cx="20952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21160" y="365760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56080" y="3697200"/>
              <a:ext cx="169920" cy="7488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4421160" y="3657240"/>
              <a:ext cx="2365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19360" y="3657600"/>
              <a:ext cx="2415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56080" y="3981600"/>
              <a:ext cx="169920" cy="745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800" y="3124080"/>
              <a:ext cx="299880" cy="18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14800" y="3733920"/>
              <a:ext cx="299880" cy="14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47960" y="2895480"/>
              <a:ext cx="990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4502160" y="3616200"/>
              <a:ext cx="74520" cy="28800"/>
              <a:chOff x="4502160" y="3616200"/>
              <a:chExt cx="74520" cy="28800"/>
            </a:xfrm>
          </p:grpSpPr>
          <p:sp>
            <p:nvSpPr>
              <p:cNvPr id="428" name=""/>
              <p:cNvSpPr/>
              <p:nvPr/>
            </p:nvSpPr>
            <p:spPr>
              <a:xfrm>
                <a:off x="4502160" y="3616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9680" y="3618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4495680" y="3886200"/>
              <a:ext cx="74520" cy="28800"/>
              <a:chOff x="4495680" y="3886200"/>
              <a:chExt cx="74520" cy="28800"/>
            </a:xfrm>
          </p:grpSpPr>
          <p:sp>
            <p:nvSpPr>
              <p:cNvPr id="431" name=""/>
              <p:cNvSpPr/>
              <p:nvPr/>
            </p:nvSpPr>
            <p:spPr>
              <a:xfrm>
                <a:off x="4495680" y="3886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43200" y="3888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V="1">
              <a:off x="4038480" y="281484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38480" y="281952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419360" y="3048120"/>
              <a:ext cx="231840" cy="156960"/>
              <a:chOff x="4419360" y="3048120"/>
              <a:chExt cx="231840" cy="156960"/>
            </a:xfrm>
          </p:grpSpPr>
          <p:sp>
            <p:nvSpPr>
              <p:cNvPr id="436" name=""/>
              <p:cNvSpPr/>
              <p:nvPr/>
            </p:nvSpPr>
            <p:spPr>
              <a:xfrm>
                <a:off x="4419360" y="3048120"/>
                <a:ext cx="231840" cy="15696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443120" y="3070080"/>
                <a:ext cx="184320" cy="11052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647960" y="320040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7960" y="380196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38440" y="3486240"/>
              <a:ext cx="20952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56080" y="3368880"/>
              <a:ext cx="169920" cy="745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4421160" y="3328560"/>
              <a:ext cx="2365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19360" y="3327480"/>
              <a:ext cx="2415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4093920" y="2766960"/>
              <a:ext cx="118800" cy="28080"/>
              <a:chOff x="4093920" y="2766960"/>
              <a:chExt cx="118800" cy="28080"/>
            </a:xfrm>
          </p:grpSpPr>
          <p:sp>
            <p:nvSpPr>
              <p:cNvPr id="445" name=""/>
              <p:cNvSpPr/>
              <p:nvPr/>
            </p:nvSpPr>
            <p:spPr>
              <a:xfrm>
                <a:off x="4185720" y="27669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4093920" y="2766960"/>
                <a:ext cx="74520" cy="28080"/>
                <a:chOff x="4093920" y="2766960"/>
                <a:chExt cx="74520" cy="280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4093920" y="27669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141440" y="27684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9" name=""/>
            <p:cNvSpPr/>
            <p:nvPr/>
          </p:nvSpPr>
          <p:spPr>
            <a:xfrm flipV="1">
              <a:off x="4421160" y="3941280"/>
              <a:ext cx="2365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360" y="3941640"/>
              <a:ext cx="2415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219320" y="38862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25pdr Royal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196524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Scout/Carrier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914400" y="1981080"/>
            <a:ext cx="241200" cy="204840"/>
            <a:chOff x="914400" y="1981080"/>
            <a:chExt cx="241200" cy="204840"/>
          </a:xfrm>
        </p:grpSpPr>
        <p:sp>
          <p:nvSpPr>
            <p:cNvPr id="454" name=""/>
            <p:cNvSpPr/>
            <p:nvPr/>
          </p:nvSpPr>
          <p:spPr>
            <a:xfrm>
              <a:off x="914400" y="202860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969840" y="1981080"/>
              <a:ext cx="118800" cy="28080"/>
              <a:chOff x="969840" y="1981080"/>
              <a:chExt cx="118800" cy="28080"/>
            </a:xfrm>
          </p:grpSpPr>
          <p:sp>
            <p:nvSpPr>
              <p:cNvPr id="456" name=""/>
              <p:cNvSpPr/>
              <p:nvPr/>
            </p:nvSpPr>
            <p:spPr>
              <a:xfrm>
                <a:off x="1061640" y="1981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969840" y="1981080"/>
                <a:ext cx="74520" cy="28080"/>
                <a:chOff x="969840" y="1981080"/>
                <a:chExt cx="74520" cy="280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969840" y="19810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017360" y="19825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0" name=""/>
            <p:cNvSpPr/>
            <p:nvPr/>
          </p:nvSpPr>
          <p:spPr>
            <a:xfrm>
              <a:off x="954000" y="2065320"/>
              <a:ext cx="150840" cy="745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14400" y="203040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914400" y="201780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693720" y="210168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609480"/>
            <a:ext cx="2514600" cy="3070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antry Batta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1022400"/>
            <a:ext cx="24382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          8A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            8A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19320" y="173664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35160" y="280836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rganic Fire Suppo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35160" y="2935440"/>
            <a:ext cx="21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 inch Mortar           8A-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914400" y="2887560"/>
            <a:ext cx="239760" cy="217440"/>
            <a:chOff x="914400" y="2887560"/>
            <a:chExt cx="239760" cy="217440"/>
          </a:xfrm>
        </p:grpSpPr>
        <p:sp>
          <p:nvSpPr>
            <p:cNvPr id="470" name=""/>
            <p:cNvSpPr/>
            <p:nvPr/>
          </p:nvSpPr>
          <p:spPr>
            <a:xfrm>
              <a:off x="914400" y="2948040"/>
              <a:ext cx="23976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038240" y="2979720"/>
              <a:ext cx="1440" cy="10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98640" y="307656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990720" y="2887560"/>
              <a:ext cx="74520" cy="28800"/>
              <a:chOff x="990720" y="2887560"/>
              <a:chExt cx="74520" cy="28800"/>
            </a:xfrm>
          </p:grpSpPr>
          <p:sp>
            <p:nvSpPr>
              <p:cNvPr id="474" name=""/>
              <p:cNvSpPr/>
              <p:nvPr/>
            </p:nvSpPr>
            <p:spPr>
              <a:xfrm>
                <a:off x="990720" y="28875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038240" y="2889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914400" y="2362320"/>
            <a:ext cx="236520" cy="212760"/>
            <a:chOff x="914400" y="2362320"/>
            <a:chExt cx="236520" cy="212760"/>
          </a:xfrm>
        </p:grpSpPr>
        <p:sp>
          <p:nvSpPr>
            <p:cNvPr id="477" name=""/>
            <p:cNvSpPr/>
            <p:nvPr/>
          </p:nvSpPr>
          <p:spPr>
            <a:xfrm>
              <a:off x="914400" y="2422440"/>
              <a:ext cx="231840" cy="15264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922320" y="2425680"/>
              <a:ext cx="2286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16200" y="2424240"/>
              <a:ext cx="2268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993960" y="2362320"/>
              <a:ext cx="74520" cy="28080"/>
              <a:chOff x="993960" y="2362320"/>
              <a:chExt cx="74520" cy="28080"/>
            </a:xfrm>
          </p:grpSpPr>
          <p:sp>
            <p:nvSpPr>
              <p:cNvPr id="481" name=""/>
              <p:cNvSpPr/>
              <p:nvPr/>
            </p:nvSpPr>
            <p:spPr>
              <a:xfrm>
                <a:off x="993960" y="23623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041480" y="23637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914400" y="2424240"/>
              <a:ext cx="55800" cy="150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219320" y="23623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kers MMG          8A-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84560" y="1835280"/>
            <a:ext cx="30024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24280" y="1447920"/>
            <a:ext cx="200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  8A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3933720"/>
            <a:ext cx="20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cout Carrier           8A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3613320"/>
            <a:ext cx="189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/Recon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  8A-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302436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 8A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33210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cout/Carrier           8A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4191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ay replace any or all with LMG; may replace one with Boys ATR, and/or 2 inch mortar when dismount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19320" y="350532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ght Truck              8A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914400" y="3249720"/>
            <a:ext cx="231840" cy="484200"/>
            <a:chOff x="914400" y="3249720"/>
            <a:chExt cx="231840" cy="484200"/>
          </a:xfrm>
        </p:grpSpPr>
        <p:sp>
          <p:nvSpPr>
            <p:cNvPr id="494" name=""/>
            <p:cNvSpPr/>
            <p:nvPr/>
          </p:nvSpPr>
          <p:spPr>
            <a:xfrm>
              <a:off x="969840" y="3462480"/>
              <a:ext cx="0" cy="680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14400" y="329724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914400" y="329364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28880" y="3292560"/>
              <a:ext cx="11412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14400" y="353844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90440" y="37069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30240" y="37069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42920" y="32497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82800" y="32497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50840" y="34956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0720" y="34956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219320" y="261936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ault Pioneers     8A-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19320" y="31240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DIVISIONAL ATTACH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37339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FIRE SUPPORT ELEMENT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14400" y="2606760"/>
            <a:ext cx="252360" cy="222120"/>
            <a:chOff x="914400" y="2606760"/>
            <a:chExt cx="252360" cy="222120"/>
          </a:xfrm>
        </p:grpSpPr>
        <p:grpSp>
          <p:nvGrpSpPr>
            <p:cNvPr id="509" name=""/>
            <p:cNvGrpSpPr/>
            <p:nvPr/>
          </p:nvGrpSpPr>
          <p:grpSpPr>
            <a:xfrm>
              <a:off x="914400" y="2606760"/>
              <a:ext cx="252360" cy="222120"/>
              <a:chOff x="914400" y="2606760"/>
              <a:chExt cx="252360" cy="222120"/>
            </a:xfrm>
          </p:grpSpPr>
          <p:sp>
            <p:nvSpPr>
              <p:cNvPr id="510" name=""/>
              <p:cNvSpPr/>
              <p:nvPr/>
            </p:nvSpPr>
            <p:spPr>
              <a:xfrm>
                <a:off x="914400" y="2665440"/>
                <a:ext cx="239760" cy="15732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914400" y="2659320"/>
                <a:ext cx="2365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25560" y="267516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033560" y="2606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961920" y="2719080"/>
              <a:ext cx="152280" cy="75960"/>
              <a:chOff x="961920" y="2719080"/>
              <a:chExt cx="152280" cy="75960"/>
            </a:xfrm>
          </p:grpSpPr>
          <p:sp>
            <p:nvSpPr>
              <p:cNvPr id="515" name=""/>
              <p:cNvSpPr/>
              <p:nvPr/>
            </p:nvSpPr>
            <p:spPr>
              <a:xfrm>
                <a:off x="961920" y="2719080"/>
                <a:ext cx="152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114200" y="2719080"/>
                <a:ext cx="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038240" y="2719080"/>
                <a:ext cx="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61920" y="2719080"/>
                <a:ext cx="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"/>
          <p:cNvSpPr/>
          <p:nvPr/>
        </p:nvSpPr>
        <p:spPr>
          <a:xfrm>
            <a:off x="911160" y="388152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23840" y="38210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11240" y="3954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24280" y="48769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  8A-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24280" y="533412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ff-board Direct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091040" y="464328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67360" y="4811760"/>
            <a:ext cx="0" cy="75888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54547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pdr Gun              8A-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03720" y="45831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24280" y="476892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4716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71920" y="5483160"/>
            <a:ext cx="23976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67360" y="497376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67360" y="555948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71920" y="4900680"/>
            <a:ext cx="23976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24280" y="5178600"/>
            <a:ext cx="18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              8A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71920" y="520236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53658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64160" y="53658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19440" y="505764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559400" y="5423040"/>
            <a:ext cx="74520" cy="28080"/>
            <a:chOff x="4559400" y="5423040"/>
            <a:chExt cx="74520" cy="28080"/>
          </a:xfrm>
        </p:grpSpPr>
        <p:sp>
          <p:nvSpPr>
            <p:cNvPr id="540" name=""/>
            <p:cNvSpPr/>
            <p:nvPr/>
          </p:nvSpPr>
          <p:spPr>
            <a:xfrm>
              <a:off x="4559400" y="542304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06920" y="54244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724280" y="505764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9920" y="5548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0" y="5151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35560" y="487692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0" y="48481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43400" y="45720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pdr Royal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249084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" y="274320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30193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98720" y="1523880"/>
            <a:ext cx="266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30240" y="1523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86200" y="7160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8080" y="7012080"/>
            <a:ext cx="0" cy="99036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762120" y="6845400"/>
            <a:ext cx="239760" cy="156960"/>
            <a:chOff x="762120" y="6845400"/>
            <a:chExt cx="239760" cy="156960"/>
          </a:xfrm>
        </p:grpSpPr>
        <p:sp>
          <p:nvSpPr>
            <p:cNvPr id="556" name=""/>
            <p:cNvSpPr/>
            <p:nvPr/>
          </p:nvSpPr>
          <p:spPr>
            <a:xfrm>
              <a:off x="762120" y="6845400"/>
              <a:ext cx="23976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06040" y="6884640"/>
              <a:ext cx="151560" cy="7488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838080" y="799452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731664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678168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Tan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7869240"/>
            <a:ext cx="246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tilda Mk II Infantry Tank      8A-0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6477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143000" y="7242120"/>
            <a:ext cx="239760" cy="157320"/>
            <a:chOff x="1143000" y="7242120"/>
            <a:chExt cx="239760" cy="157320"/>
          </a:xfrm>
        </p:grpSpPr>
        <p:sp>
          <p:nvSpPr>
            <p:cNvPr id="564" name=""/>
            <p:cNvSpPr/>
            <p:nvPr/>
          </p:nvSpPr>
          <p:spPr>
            <a:xfrm>
              <a:off x="1143000" y="724212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86920" y="7281360"/>
              <a:ext cx="151560" cy="7488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447920" y="7088040"/>
            <a:ext cx="2514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tilda Mk II Infantry Tank      8A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tilda Mk IICS Infantry Tank  8A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82720" y="6778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58920" y="71899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43000" y="7540560"/>
            <a:ext cx="23976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79360" y="7583400"/>
            <a:ext cx="150840" cy="7488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143000" y="7913520"/>
            <a:ext cx="239760" cy="157320"/>
            <a:chOff x="1143000" y="7913520"/>
            <a:chExt cx="239760" cy="157320"/>
          </a:xfrm>
        </p:grpSpPr>
        <p:sp>
          <p:nvSpPr>
            <p:cNvPr id="572" name=""/>
            <p:cNvSpPr/>
            <p:nvPr/>
          </p:nvSpPr>
          <p:spPr>
            <a:xfrm>
              <a:off x="1143000" y="791352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86920" y="7952760"/>
              <a:ext cx="151560" cy="7488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230480" y="7845480"/>
            <a:ext cx="74520" cy="28080"/>
            <a:chOff x="1230480" y="7845480"/>
            <a:chExt cx="74520" cy="28080"/>
          </a:xfrm>
        </p:grpSpPr>
        <p:sp>
          <p:nvSpPr>
            <p:cNvPr id="575" name=""/>
            <p:cNvSpPr/>
            <p:nvPr/>
          </p:nvSpPr>
          <p:spPr>
            <a:xfrm>
              <a:off x="1230480" y="784548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78000" y="784692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1252440" y="74739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38080" y="761508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09480" y="4767120"/>
            <a:ext cx="533160" cy="361800"/>
            <a:chOff x="609480" y="4767120"/>
            <a:chExt cx="533160" cy="361800"/>
          </a:xfrm>
        </p:grpSpPr>
        <p:sp>
          <p:nvSpPr>
            <p:cNvPr id="580" name=""/>
            <p:cNvSpPr/>
            <p:nvPr/>
          </p:nvSpPr>
          <p:spPr>
            <a:xfrm>
              <a:off x="609480" y="4767120"/>
              <a:ext cx="533160" cy="36180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7400" y="4857840"/>
              <a:ext cx="342000" cy="17280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1219320" y="4767120"/>
            <a:ext cx="2514600" cy="3070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antry Tank Reg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066680" y="6199200"/>
            <a:ext cx="239760" cy="157320"/>
            <a:chOff x="1066680" y="6199200"/>
            <a:chExt cx="239760" cy="157320"/>
          </a:xfrm>
        </p:grpSpPr>
        <p:sp>
          <p:nvSpPr>
            <p:cNvPr id="584" name=""/>
            <p:cNvSpPr/>
            <p:nvPr/>
          </p:nvSpPr>
          <p:spPr>
            <a:xfrm>
              <a:off x="1066680" y="619920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110600" y="6238440"/>
              <a:ext cx="151560" cy="7488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838080" y="5116680"/>
            <a:ext cx="0" cy="116028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8080" y="597204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54547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93760" y="6140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841320" y="4695840"/>
            <a:ext cx="76320" cy="63360"/>
            <a:chOff x="841320" y="4695840"/>
            <a:chExt cx="76320" cy="63360"/>
          </a:xfrm>
        </p:grpSpPr>
        <p:sp>
          <p:nvSpPr>
            <p:cNvPr id="591" name=""/>
            <p:cNvSpPr/>
            <p:nvPr/>
          </p:nvSpPr>
          <p:spPr>
            <a:xfrm>
              <a:off x="841320" y="46958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17640" y="46958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066680" y="5324400"/>
            <a:ext cx="231840" cy="209520"/>
            <a:chOff x="1066680" y="5324400"/>
            <a:chExt cx="231840" cy="209520"/>
          </a:xfrm>
        </p:grpSpPr>
        <p:sp>
          <p:nvSpPr>
            <p:cNvPr id="594" name=""/>
            <p:cNvSpPr/>
            <p:nvPr/>
          </p:nvSpPr>
          <p:spPr>
            <a:xfrm>
              <a:off x="1066680" y="537660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00160" y="5418000"/>
              <a:ext cx="162000" cy="763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74680" y="53244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1371600" y="6002280"/>
            <a:ext cx="159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71600" y="5342040"/>
            <a:ext cx="26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tilda Mk II Infantry Tank        8A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71600" y="583560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Vickers VIB Light Tank             8A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371600" y="5194440"/>
            <a:ext cx="159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HEADQUARTER 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066680" y="5586480"/>
            <a:ext cx="231840" cy="209520"/>
            <a:chOff x="1066680" y="5586480"/>
            <a:chExt cx="231840" cy="209520"/>
          </a:xfrm>
        </p:grpSpPr>
        <p:sp>
          <p:nvSpPr>
            <p:cNvPr id="602" name=""/>
            <p:cNvSpPr/>
            <p:nvPr/>
          </p:nvSpPr>
          <p:spPr>
            <a:xfrm>
              <a:off x="1066680" y="563868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00160" y="5680080"/>
              <a:ext cx="162000" cy="763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74680" y="5586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66680" y="5840280"/>
            <a:ext cx="231840" cy="209520"/>
            <a:chOff x="1066680" y="5840280"/>
            <a:chExt cx="231840" cy="209520"/>
          </a:xfrm>
        </p:grpSpPr>
        <p:sp>
          <p:nvSpPr>
            <p:cNvPr id="606" name=""/>
            <p:cNvSpPr/>
            <p:nvPr/>
          </p:nvSpPr>
          <p:spPr>
            <a:xfrm>
              <a:off x="1066680" y="589248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00160" y="5933880"/>
              <a:ext cx="162000" cy="763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74680" y="58402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371600" y="615636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 Tan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371600" y="5599080"/>
            <a:ext cx="248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tilda Mk IICS Infantry Tank   8A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8080" y="626904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8080" y="57229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74680" y="76320"/>
            <a:ext cx="676584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tish Tables of Organization, “Operation Compass” - December 1940 p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9:18:07Z</dcterms:created>
  <dc:creator>James Baker</dc:creator>
  <dc:description/>
  <dc:language>en-US</dc:language>
  <cp:lastModifiedBy>James Baker</cp:lastModifiedBy>
  <cp:lastPrinted>2003-06-22T19:05:49Z</cp:lastPrinted>
  <dcterms:modified xsi:type="dcterms:W3CDTF">2005-04-27T10:31:28Z</dcterms:modified>
  <cp:revision>45</cp:revision>
  <dc:subject/>
  <dc:title>PowerPoint Presentation</dc:title>
</cp:coreProperties>
</file>