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704-2355-4A10-83FE-A745A491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61C-47AE-49CD-8CDD-1AB80132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A3A-D392-4125-8DD2-3D6222EA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F94-FEE5-4040-BA84-557320B9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FBE-82DF-4E9E-BE6D-28A12E91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49B-74A3-479E-80A4-67992282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5C3-62D5-4680-8FF0-C9883CC5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4EF-A7E5-48AF-9AFC-A90D2416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1F4-A297-4BA9-9EF2-0C60FAA1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AD8-797A-4FBF-B062-9C95EBDF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CBD-848B-475C-A7DE-FE1E2FC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58B-3376-4861-8F61-F1A968D2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F5CA-61CF-4AD7-8763-37D854245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280" y="611280"/>
            <a:ext cx="29844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nfantry Battal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arri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6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rta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Mortars 3”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Truck 15 cwt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arrie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ortar 2”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Boys AT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ren L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Carri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ionee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Assault Pione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Lorry 3 t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4 Infantry Companies, each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ortar 2”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oys AT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an battalions would replace Carrier, 8A-16 with Wheeled Carrier, 8A-2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0"/>
            <a:ext cx="6264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monwealth and Axis for Operation Crusader, Nov 19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0280" y="395280"/>
            <a:ext cx="31291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tor Battal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arri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4 Carrier Platoon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Boys AT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Bren L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Carri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4 Machine Gun Platoon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Vickers MM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Truck 15 cwt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4 Anti-tank Gun Platoon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ATG 2pd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Portee 2 pd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4 Infantry Companies, each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ortar 3”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oys AT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Truck 15 cwt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British Motor Battalions would have had an integral Anti-tank Gun Platoon; many that did were under strength. Commonwealth Battalions had 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324000"/>
            <a:ext cx="5829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onwealth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715000"/>
            <a:ext cx="3024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ttachment to British Infantry Battalions only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nti-tank tro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4 2 pdr anti-tank gun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A-3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4 porte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A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ttachment to Indian Infantry Battalions only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nti-tank tro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3 37mm anti-tank gun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A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3 porte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A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6019920"/>
            <a:ext cx="30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ttachment to South African &amp; New Zealand Infantry Battalions only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nti-tank tro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3 2 pdr anti-tank gun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A-3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3 porte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A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1 18 pdr gun (prototype card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R-P2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1 15 cwt tuc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769608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XIII Corp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infantry was about 52% New Zealanders (experienced) with 32% Indian and 16% British (both trained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dian brigades had two Indian and one British battal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84640" y="971640"/>
            <a:ext cx="302400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42 RTR:-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Matilda Mk II command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noeuvre Elements (2), 42 R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3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Mk VIb command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Mk VIc command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1 Matilda Mk II C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8A-08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4 Matilda Mk II infantry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8A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302436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XIII Corps’ Infantry Tank Regiment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were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GB" sz="8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 Army Tank Brigade Head 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A13 Cruiser command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8  RTR:-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Valentine command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 (3), 8 R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x3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Matilda Mk II CS command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08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5 Valentine infantry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ead Quarters Element for 44 RTR:-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Matilda Mk II command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800"/>
            </a:b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oeuvre Elements (1), 44 R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x2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Mk VIb command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Mk VIc command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1 Matilda Mk II C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8A-08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x4 Matilda Mk II infantry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8A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1720" y="305928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TE!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were NO armoured car recce squadrons in XIII Cor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0280" y="4281480"/>
            <a:ext cx="2811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XX Corps contained 7th Armoured Divisi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ined)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visional Head Quarters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A9 Cruiser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4 Armoured Brigade Head Quarters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M3 Stuart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2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each Regt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3 Stuart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2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 for all three Regt: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8 Hussars, 3 RTR &amp; 5 R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3 Stuart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M3 Stuart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7 Armoured Brigade Head Quarters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A9 CS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A10 ta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4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7 Hussars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A10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4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 for 7 Hussars:-</a:t>
            </a:r>
            <a:br>
              <a:rPr sz="800"/>
            </a:b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st Squadron,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A10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5 A10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4</a:t>
            </a: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9160" y="4795920"/>
            <a:ext cx="29239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2nd Squadron,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A13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A13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5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3rd Squadron,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Crusader Mk 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2 RTR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A13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5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 for 2 RTR:-</a:t>
            </a:r>
            <a:br>
              <a:rPr sz="800"/>
            </a:b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A13 CS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A13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5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6 RTR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 for 6 RTR:-</a:t>
            </a:r>
            <a:br>
              <a:rPr sz="800"/>
            </a:b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CS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Crusader Mk 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80880"/>
            <a:ext cx="2984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0280" y="270000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 Crusaders were notorious for mechanical breakdowns and the early cruisers were worn out – this dramatically reduced the number of tanks available for combat each day, do not field them at establishment strength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9000" y="3205080"/>
            <a:ext cx="626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XX Corp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fantry was mainly South African (trained – good troops, but led into their first combat very cautiously by their commanders) plus about half a dozen British Motor Battalions with the armour (trained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ttachm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oured car recce companies in XXX Corps were 90% South African with Mk II Marmon-Herringtons (8A-20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was just one British recce unit, the 11 Hussars with Humber Mk II (8A-22), as part of 22 Armoured Briga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ad a command armoured car plus x6 armoured c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2080" y="254880"/>
            <a:ext cx="2923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22 Armoured Brigade Head Quarters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Crusader Mk 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each Regt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 for all three Regt: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3 County of London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4 City of London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2 Royal Gloucestershire Huss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CS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Crusader Mk 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3360" y="4643280"/>
            <a:ext cx="2984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rtillery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25pdr RA Field Regime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Field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orward Observer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Daimler Scout Car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7 as transpor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25 pdr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Morris C8 Quad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9 as towing vehic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batteries can be on-table in an anti-tank role, but only if the off table indirect fire support role is sacrificed to allow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0280" y="4859280"/>
            <a:ext cx="2984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4.5” RA Medium Regiment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Medium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orward Observ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Daimler Scout Car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7 as transpor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x 4.5” guns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using a large template @ 0/+1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ly available to organisations containing either South African or Indian infantry (not New Zealander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3360" y="179280"/>
            <a:ext cx="5829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xis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0280" y="611280"/>
            <a:ext cx="29844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talian Infantry Battal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iat 508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rta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Mortars 81mm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Truck Fiat AS 37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cout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Rifle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reda L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Assault Companies, each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Rifle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reda L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Breda M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65/17 Infantry gu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Truck Fiat AS 37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1 Reserve Company,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Rifle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reda L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Breda M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47/32 Anti-tank gu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Truck Fiat AS 37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13000" y="611280"/>
            <a:ext cx="29847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talian Bersaglieri Bt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iat 508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6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torcycle Scout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ersaglier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Motorcycle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nti-tank gun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47/32 Anti-tank gu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Prime mover TL 37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Rifle Companies, each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iat 508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20mm A/T rif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Breda M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8 Bersaglier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5 Truck Fiat AS 37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5796000"/>
            <a:ext cx="29844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edium Armoured Battal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13/40 Command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Medium Tank Companies, each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13/40  Comma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5 M13/40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05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November 1941, Ariete had 146 tanks in three battalions, all M13/40, The L3/35 tankettes were history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3360" y="5580000"/>
            <a:ext cx="298440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Attached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Anti-aircraft Battery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90mm Autocannon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Artillery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75mm Light Battalion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x3 Field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Forward Observer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Fiat 508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75/27 Gun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AS 37 truc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17 as towing vehic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100 mm Howitzer Battalion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x3 Field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Forward Observer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Fiat 508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100/17 Howitzer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V, 0TGsV Large Templat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04640" y="395280"/>
            <a:ext cx="29847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erman Panzer Grenadier Battalion:-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rta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8cm Medium Mortars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4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Opel Blitz Medium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un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7.5cm lelG18 L/12 gu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nti-tank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3.7cm Pak 36 Antitank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process of being replaced by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5.0cm Pak 3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ionee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Pionie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Motorized Companies,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7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Light Machine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1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Heavy Machine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6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SdKfz 251/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DAK-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first company only, the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Opel Blitz Medium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British 15 cwt truc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73360" y="395280"/>
            <a:ext cx="298476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erman Infantry Battalion:-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not for combat, these are x3 Motorcycle, for communication, so they can be ignored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rta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8cm Medium Mortars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4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Opel Blitz Medium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 3 Machine Gun Platoon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Heavy Machine Guns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Motorized Companies,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7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Light Machine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1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eavy Machine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5cm Mortar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6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Opel Blitz Medium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British 15 cwt truc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3360" y="6300720"/>
            <a:ext cx="626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y combination of the above trucks may be used as DAK was always notoriously short of transport and used many captured vehicles. After Gazala probably over 50% was ex British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ages meant that the Gun Platoons were not always pres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73360" y="4788000"/>
            <a:ext cx="2449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ttached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ioniere Company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7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9 Pionie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SdKfz251 halftrac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4640" y="7093080"/>
            <a:ext cx="280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rtillery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owitzer Batter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Field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orward Observ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10.5 cm lefFH 1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84640" y="7093080"/>
            <a:ext cx="280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vy Batter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Heavy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orward Observ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15 cm slG33 L/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73360" y="324000"/>
            <a:ext cx="298476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Panzer Battalion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PzBefWgIII command tan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PzIIF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02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800"/>
            </a:b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x2 Light Panzer Companies, each with:-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PzIIIG or IIIH Comma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03 or DAK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6 PzIIIG or PzIIIH mix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03 or DAK-04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PzIIF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x1 Medium Panzer Company, with:-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PzIVD or IVE Comma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07 or DAK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PzIVD or IVE mix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07 or DAK-08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PzIIF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nzer IV were scarce in the Desert and the quantity available rarely reached double figures in a battal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18 November 1941, 5th Panzer had 34 PzII, 58 PzIII &amp; 17 PzIV in two battalions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th Panzer had 38 PzII, 76 PzIII &amp; 21 PzIV in two battalions on the same date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Attachment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Panzerjager Coy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3 3.7cm Pak 36 Antitank Gun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3 Krupp Protze Light Truck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us/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3 5.0cm Pak 38 Antitank Gun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3 SdKfz10 halftrack,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us/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3 PzJag IB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8.8cm FlaK 36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SdKfz7 halftrack,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360" y="324000"/>
            <a:ext cx="2984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German Machine Gun Battalion:-</a:t>
            </a:r>
            <a:br>
              <a:rPr sz="800"/>
            </a:br>
            <a:br>
              <a:rPr sz="800"/>
            </a:b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2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Morta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3 8cm Medium Mortars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54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Opel Blitz Medium Truck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Anti-tank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3.7cm Pak 36 Antitank Gun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Krupp Protze Light Truck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process of being replaced by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5.0cm Pak 38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x3 Machine Gun Companies, with:-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47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Infantry with PzB 39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46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5cm Mortar,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5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5 Heavy Machine Gun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52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7 Krupp Protze Light Truck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3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4 Opel Blitz Medium Truck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AK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7 British 15 cwt truc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3360" y="471636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usual mixed combination of the above trucks may be used as DAK was always notoriously short of transport and used many captured vehicl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11:47:54Z</dcterms:created>
  <dc:creator>Richard Mark Davies</dc:creator>
  <dc:description/>
  <dc:language>en-US</dc:language>
  <cp:lastModifiedBy>James Baker</cp:lastModifiedBy>
  <dcterms:modified xsi:type="dcterms:W3CDTF">2007-11-15T01:05:13Z</dcterms:modified>
  <cp:revision>125</cp:revision>
  <dc:subject/>
  <dc:title>PowerPoint Presentation</dc:title>
</cp:coreProperties>
</file>