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BD1-9EEF-4E7D-8F11-DAA99D7C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4EF-BAF5-4E08-8CD9-0647D438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AEC-9664-44C5-B54E-702BBC66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1A8-BE11-4BB2-9F68-7335FD26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458-878D-4C24-BB2C-151DCCD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372-CA9E-4E33-98AC-6614CBF5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F2A-BED8-4219-A0DF-85B3B80B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214-B16D-4797-A7B2-50060F56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8F0-4178-4E98-BB47-FCCC98BE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556-FD55-4131-84D2-3D20F64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A7C-4EC3-49CA-BEDF-51026AE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7AA-2C5A-42F6-8571-9122A9E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8252-10C6-4BFC-A77B-FF971E4E2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280" y="611280"/>
            <a:ext cx="29844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nfantry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Mortars 3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Carrie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 o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Truck 15 cwt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rrie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ortar 2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n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ionee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Assault Pione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Lorry 3 t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nti-tank Gun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ATG 2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Portee 2 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Infantry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ortar 2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British battalions would have had an Anti-tank Gun Platoon; many that did were under strength. Commonwealth Battalions seem to have had 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n battalions would replace Carrier, 8A-16 with Wheeled Carrier, 8A-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0"/>
            <a:ext cx="6264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monwealth and Axis for Gazala, May 19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0280" y="395280"/>
            <a:ext cx="3129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tor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Carrier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Bren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Machine Gun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Vickers MM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Carri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Anti-tank Gun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ATG 2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ortee 2 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4 Infantry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ortar 3”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oys AT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Truck 15 cwt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Motor Battalions were in the process of exchanging their 2pdr ATG for 6pdrs, these were very much in the minority and training on the new guns was not complet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112 x 6pdrs were on strength by 26/05/42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000" y="6877080"/>
            <a:ext cx="302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III Corps’ Infantry Tank Regim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ere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44 &amp; 4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Valentine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Valentine infantry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44 &amp; 4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Valentine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atilda Mk II CS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Valentine infantry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73360" y="709308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42 &amp; 7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atilda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atilda Mk II infantry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, 42 &amp; 7 R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atilda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atilda Mk II CS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Matilda Mk II infantry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280" y="324000"/>
            <a:ext cx="582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onwealth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80880"/>
            <a:ext cx="2984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000" y="310680"/>
            <a:ext cx="63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were now armoured car recce squadrons in XIII Corps. All were South African with Mk II or Mk III Marmon-Herringt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800" y="612000"/>
            <a:ext cx="240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cce Squadr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k II or Mk III MH command A/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A-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Mk II or Mk III MH armoured ca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A-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560" y="1483560"/>
            <a:ext cx="2678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XX Corps contained 1st &amp; 7th Armoured Divis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st Armoured Division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Crusader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2nd Armoured Brigade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Crusader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each Regt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all three Re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9 Crusader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Squadr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Grant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5 Grant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87160" y="1769040"/>
            <a:ext cx="22809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22nd Armoured Brigade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Crusader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each Regt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all three Re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rusader Mk 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9 Crusader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Squadr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Grant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5 Grant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507636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 Crusaders were notorious for mechanical breakdowns – this dramatically reduced the number of tanks available for combat each day, do not field them at establishment strength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800" y="5515200"/>
            <a:ext cx="2280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7th Armoured Division Head Quarters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Stuart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Stuart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4th Armoured Brigade Head Quarters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Grant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Grant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Stuart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 for each Regt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Grant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Grant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 for all three Re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Squadrons,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Grant Mk 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5 Grant Mk 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1 Squadr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Stuart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9 Stuart Mk II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1920" y="5727600"/>
            <a:ext cx="3054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ured car recce companies in XXX Cor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re mainly equipped with Mk II or Mk III Marmon-Herrington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was just one squadron with Mk II Humb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cce Squadr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 Mk II or Mk III MH command A/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A-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Mk II or Mk III MH armoured ca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A-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r just the one Recce Squadr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umber Mk II command A/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A-22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Humber Mk II armoured ca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A-22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0280" y="0"/>
            <a:ext cx="6264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ganisations for Gazala, May 1942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0280" y="0"/>
            <a:ext cx="6264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ganisations for Gazala, May 1942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0280" y="395280"/>
            <a:ext cx="29844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rtillery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25pdr RA Field Regi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Daimler Scout Ca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7 as transpo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25 pdr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Morris C8 Quad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9 as towing vehic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1 Anti-tank Gun battery attached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8 ATG 2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8 Portee 2 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84360"/>
            <a:ext cx="2984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4.5” RA Medium Regiment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Medium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Daimler Scout Ca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17 as transpo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x 4.5” guns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using a large template @ 0/+1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batteries can be on-table in an anti-tank role, but only if the off table indirect fire support role is sacrificed to allow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-tank Gun batteries within the Armoured Divisions were in the process of exchanging their 2pdr ATG for 6pdrs, but training on the new guns was not comple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1 Anti-tank Gun battery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8 ATG 6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8 Portee 6 pd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3360" y="3419640"/>
            <a:ext cx="582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xis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3360" y="3851280"/>
            <a:ext cx="2984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talian Infantry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Mortars 81mm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cout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Rifle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da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Assault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Rifle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da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reda M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65/17 Infantry gu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1 Reserve Company,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Rifle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reda L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reda M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47/32 Anti-tank gu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7720" y="3851280"/>
            <a:ext cx="29844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talian Bersaglieri Bt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torcycle Scout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Bersaglier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Motorcycle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nti-tank gun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47/32 Anti-tank gu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Prime mover TL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Rifle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20mm A/T rif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Breda MMG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8 Bersaglier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5 Truck Fiat AS 37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tached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nti-aircraft Batter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th Italian crew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8.8cm FlaK 3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SdKfz7 halftrack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0280" y="0"/>
            <a:ext cx="6264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ganisations for Gazala, May 1942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0280" y="395280"/>
            <a:ext cx="29844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Medium Armoured Battalion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14/41 Command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3 Medium Tank Companies, each with:-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14/41 Comma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7 M14/4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05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January 1942, Ariete had 228 tanks in three battalions, nearly all M14/41, with a few M13/40 remaining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torio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d 90 M14/41 in two battal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tached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Semovente Battery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M13/40 Comma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4 Semovente 75/18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January 1942, Ariete had just 24 Semovente on strength in three batteri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rmoured Car Regiment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L6 Command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Light Tank Companies, each with:-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L6 Command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7 L6 Tank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280" y="5292720"/>
            <a:ext cx="29844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ttached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nti-aircraft Battery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90mm Autocannon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Artillery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75mm Light Battalion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75/27 Gun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AS 37 truck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7 as towing vehic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100 mm Howitzer Battalion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1 Fiat 508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x2 100/17 Howitzer,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V, 0TGsV Large Templat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04640" y="395280"/>
            <a:ext cx="2984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erman Panzer Grenadier Battal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8cm Medium Mortar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4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un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7.5cm lelG18 L/12 gu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nti-tank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5.0cm Pak 3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out 25% were still only equipped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3.7cm Pak 36 Antitank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ionee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ion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Motorized Companies,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Light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1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Heavy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6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SdKfz 251/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DAK-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first company only, the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British 15 cwt truc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280" y="0"/>
            <a:ext cx="6264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ganisations for Gazala, May 1942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73360" y="395280"/>
            <a:ext cx="298476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erman Schutzen Battalion:-</a:t>
            </a:r>
            <a:br>
              <a:rPr sz="800"/>
            </a:b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not for combat, these are x3 Motorcycle, for communication, so they can be ignored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rtar Platoon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8cm Medium Mortar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4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 3 Machine Gun Platoon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Heavy Machine Gun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Motorized Companies,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Light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1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eavy Machine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5cm Mortar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Infantry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6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Opel Blitz Medium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British 15 cwt truc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3360" y="6300720"/>
            <a:ext cx="6264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 combination of the above trucks may be used as DAK was always notoriously short of transport and used many captured vehicles. After Gazala probably over 50% was ex British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Panzer Grenadier Battalions dispensed with their Mortar Platoons and allocated the 8cm mortars (DAK-54) between the rifle compani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ages also meant that the Gun Platoons were not always pres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640" y="7164360"/>
            <a:ext cx="280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rtillery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owitzer Batter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3 Field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10.5 cm lefFH 1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3360" y="4788000"/>
            <a:ext cx="2449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tached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ioniere Company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Command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9 Pion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rried into action as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SdKfz251 halftrac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Krupp Protze Light Truck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84640" y="7093080"/>
            <a:ext cx="280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vy Batter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Heavy batteries each with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Forward Observer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Horsch 830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15 cm slG33 L/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0280" y="0"/>
            <a:ext cx="6264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ganisations for Gazala, May 1942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280" y="395280"/>
            <a:ext cx="2984400" cy="65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 Panzer Battal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ganisation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ead Quarters Element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PzBefWgIII command tan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zI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"/>
            </a:b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noeuvre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x2 Light Panzer Companies, each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PzIIIH Comma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6 PzIII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4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zI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Medium Panzer Company, with:-</a:t>
            </a: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Pz IVE Comma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z 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PzI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zer IV were scarce in the Desert and the quantity available rarely reached double figures in a battal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zer III Specials were even rarer, just 18 in total had been made available on 25 May 194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25 May 1942, 5th Panzer had 29 PzII, 107 PzIII (plus 15 x PzIII specials with 5cm L60 guns) &amp; 19 PzIV in two battalions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th Panzer had 29 PzII, 131 PzIII (plus just 3 x PzIII specials with 5cm L60 guns) &amp; 22 PzIV in two battalions on the same date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tachm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anzerjager Co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5.0cm Pak 38 Antitank Gun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SdKfz10 halftrack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 as towing vehic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s/or (605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attalion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3 PzJag I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Dia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nti-aircraft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8.8cm FlaK 3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SdKfz7 halftrack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29 as towing vehic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1:47:54Z</dcterms:created>
  <dc:creator>Richard Mark Davies</dc:creator>
  <dc:description/>
  <dc:language>en-US</dc:language>
  <cp:lastModifiedBy>Matthew Callcott</cp:lastModifiedBy>
  <dcterms:modified xsi:type="dcterms:W3CDTF">2007-09-10T18:26:33Z</dcterms:modified>
  <cp:revision>118</cp:revision>
  <dc:subject/>
  <dc:title>PowerPoint Presentation</dc:title>
</cp:coreProperties>
</file>