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3C64-85B6-4795-8EBD-8396BB811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7D7F-4AB5-4ACA-9F99-9E861362A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0D48-FF75-4F27-92E7-0BAD9B721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7EEE-A5B4-49C4-89BD-41C05FD92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E921-1166-40AD-98B8-C04B926AB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123F-2E0B-40E0-940D-0D45AEFBF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7C62-4758-4F5B-A0DB-2C388410F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AB96-A3A7-4D74-870D-3F6DFDF33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5D22-704E-4257-8FAB-9A11E9199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76A8-AD63-41C3-B590-72A694C8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9A63-73D3-4F14-8629-A4749D04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8B2F-18F5-46C6-B1B6-629DB638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9DD58-74B9-4FCC-8785-2670AC1F3F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5880" y="905040"/>
            <a:ext cx="0" cy="1050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81600" y="476280"/>
            <a:ext cx="0" cy="1170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781600" y="1405080"/>
            <a:ext cx="319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84840" y="1657440"/>
            <a:ext cx="318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440" y="1666800"/>
            <a:ext cx="318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3800" y="1128600"/>
            <a:ext cx="319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5600" y="450720"/>
            <a:ext cx="0" cy="1212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55640" y="306360"/>
            <a:ext cx="1657440" cy="152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EUVER ELEMENT-IT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2400" y="468360"/>
            <a:ext cx="188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Compagnia Fucilieri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(Infantry Co. ‘39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85920" y="258840"/>
            <a:ext cx="284040" cy="250920"/>
            <a:chOff x="385920" y="258840"/>
            <a:chExt cx="284040" cy="250920"/>
          </a:xfrm>
        </p:grpSpPr>
        <p:grpSp>
          <p:nvGrpSpPr>
            <p:cNvPr id="51" name=""/>
            <p:cNvGrpSpPr/>
            <p:nvPr/>
          </p:nvGrpSpPr>
          <p:grpSpPr>
            <a:xfrm>
              <a:off x="385920" y="316080"/>
              <a:ext cx="284040" cy="193680"/>
              <a:chOff x="385920" y="316080"/>
              <a:chExt cx="284040" cy="193680"/>
            </a:xfrm>
          </p:grpSpPr>
          <p:sp>
            <p:nvSpPr>
              <p:cNvPr id="52" name=""/>
              <p:cNvSpPr/>
              <p:nvPr/>
            </p:nvSpPr>
            <p:spPr>
              <a:xfrm>
                <a:off x="385920" y="316080"/>
                <a:ext cx="284040" cy="193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V="1">
                <a:off x="388800" y="318960"/>
                <a:ext cx="276480" cy="18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85920" y="318960"/>
                <a:ext cx="282600" cy="18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527040" y="25884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523800" y="669960"/>
            <a:ext cx="2244960" cy="270000"/>
            <a:chOff x="523800" y="669960"/>
            <a:chExt cx="2244960" cy="270000"/>
          </a:xfrm>
        </p:grpSpPr>
        <p:sp>
          <p:nvSpPr>
            <p:cNvPr id="57" name=""/>
            <p:cNvSpPr/>
            <p:nvPr/>
          </p:nvSpPr>
          <p:spPr>
            <a:xfrm>
              <a:off x="523800" y="858960"/>
              <a:ext cx="31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084320" y="808200"/>
              <a:ext cx="168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mmander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                IT-2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84320" y="669960"/>
              <a:ext cx="500040" cy="1220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752400" y="723960"/>
              <a:ext cx="238320" cy="216000"/>
              <a:chOff x="752400" y="723960"/>
              <a:chExt cx="238320" cy="216000"/>
            </a:xfrm>
          </p:grpSpPr>
          <p:sp>
            <p:nvSpPr>
              <p:cNvPr id="61" name=""/>
              <p:cNvSpPr/>
              <p:nvPr/>
            </p:nvSpPr>
            <p:spPr>
              <a:xfrm>
                <a:off x="752400" y="783000"/>
                <a:ext cx="238320" cy="1569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57160" y="72396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" name=""/>
          <p:cNvGrpSpPr/>
          <p:nvPr/>
        </p:nvGrpSpPr>
        <p:grpSpPr>
          <a:xfrm>
            <a:off x="752400" y="1008000"/>
            <a:ext cx="231480" cy="204840"/>
            <a:chOff x="752400" y="1008000"/>
            <a:chExt cx="231480" cy="204840"/>
          </a:xfrm>
        </p:grpSpPr>
        <p:grpSp>
          <p:nvGrpSpPr>
            <p:cNvPr id="64" name=""/>
            <p:cNvGrpSpPr/>
            <p:nvPr/>
          </p:nvGrpSpPr>
          <p:grpSpPr>
            <a:xfrm>
              <a:off x="752400" y="1055520"/>
              <a:ext cx="231480" cy="157320"/>
              <a:chOff x="752400" y="1055520"/>
              <a:chExt cx="231480" cy="157320"/>
            </a:xfrm>
          </p:grpSpPr>
          <p:sp>
            <p:nvSpPr>
              <p:cNvPr id="65" name=""/>
              <p:cNvSpPr/>
              <p:nvPr/>
            </p:nvSpPr>
            <p:spPr>
              <a:xfrm>
                <a:off x="752400" y="1055520"/>
                <a:ext cx="231480" cy="15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V="1">
                <a:off x="754560" y="1057320"/>
                <a:ext cx="225360" cy="15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52400" y="1057680"/>
                <a:ext cx="230400" cy="149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830160" y="1008000"/>
              <a:ext cx="74520" cy="28800"/>
              <a:chOff x="830160" y="1008000"/>
              <a:chExt cx="74520" cy="28800"/>
            </a:xfrm>
          </p:grpSpPr>
          <p:sp>
            <p:nvSpPr>
              <p:cNvPr id="69" name=""/>
              <p:cNvSpPr/>
              <p:nvPr/>
            </p:nvSpPr>
            <p:spPr>
              <a:xfrm>
                <a:off x="830160" y="100800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77680" y="100980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"/>
          <p:cNvSpPr/>
          <p:nvPr/>
        </p:nvSpPr>
        <p:spPr>
          <a:xfrm>
            <a:off x="1076400" y="1062000"/>
            <a:ext cx="1569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9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Fucilieri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733320" y="1552680"/>
            <a:ext cx="239400" cy="205920"/>
            <a:chOff x="733320" y="1552680"/>
            <a:chExt cx="239400" cy="205920"/>
          </a:xfrm>
        </p:grpSpPr>
        <p:grpSp>
          <p:nvGrpSpPr>
            <p:cNvPr id="73" name=""/>
            <p:cNvGrpSpPr/>
            <p:nvPr/>
          </p:nvGrpSpPr>
          <p:grpSpPr>
            <a:xfrm>
              <a:off x="815760" y="1552680"/>
              <a:ext cx="74520" cy="28080"/>
              <a:chOff x="815760" y="1552680"/>
              <a:chExt cx="74520" cy="28080"/>
            </a:xfrm>
          </p:grpSpPr>
          <p:sp>
            <p:nvSpPr>
              <p:cNvPr id="74" name=""/>
              <p:cNvSpPr/>
              <p:nvPr/>
            </p:nvSpPr>
            <p:spPr>
              <a:xfrm>
                <a:off x="815760" y="155268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63280" y="155412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" name=""/>
            <p:cNvGrpSpPr/>
            <p:nvPr/>
          </p:nvGrpSpPr>
          <p:grpSpPr>
            <a:xfrm>
              <a:off x="733320" y="1601640"/>
              <a:ext cx="239400" cy="156960"/>
              <a:chOff x="733320" y="1601640"/>
              <a:chExt cx="239400" cy="156960"/>
            </a:xfrm>
          </p:grpSpPr>
          <p:sp>
            <p:nvSpPr>
              <p:cNvPr id="77" name=""/>
              <p:cNvSpPr/>
              <p:nvPr/>
            </p:nvSpPr>
            <p:spPr>
              <a:xfrm>
                <a:off x="733320" y="1601640"/>
                <a:ext cx="239400" cy="1569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19000" y="1726920"/>
                <a:ext cx="6804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52120" y="1622160"/>
                <a:ext cx="0" cy="106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0" name=""/>
          <p:cNvSpPr/>
          <p:nvPr/>
        </p:nvSpPr>
        <p:spPr>
          <a:xfrm>
            <a:off x="1068480" y="1589040"/>
            <a:ext cx="1554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45mm Mortar                   IT-3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57640" y="438120"/>
            <a:ext cx="0" cy="1514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552840" y="1638360"/>
            <a:ext cx="9360" cy="600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52840" y="857160"/>
            <a:ext cx="0" cy="292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114720" y="318960"/>
            <a:ext cx="283680" cy="255240"/>
            <a:chOff x="3114720" y="318960"/>
            <a:chExt cx="283680" cy="255240"/>
          </a:xfrm>
        </p:grpSpPr>
        <p:grpSp>
          <p:nvGrpSpPr>
            <p:cNvPr id="85" name=""/>
            <p:cNvGrpSpPr/>
            <p:nvPr/>
          </p:nvGrpSpPr>
          <p:grpSpPr>
            <a:xfrm>
              <a:off x="3114720" y="380880"/>
              <a:ext cx="283680" cy="193320"/>
              <a:chOff x="3114720" y="380880"/>
              <a:chExt cx="283680" cy="193320"/>
            </a:xfrm>
          </p:grpSpPr>
          <p:sp>
            <p:nvSpPr>
              <p:cNvPr id="86" name=""/>
              <p:cNvSpPr/>
              <p:nvPr/>
            </p:nvSpPr>
            <p:spPr>
              <a:xfrm>
                <a:off x="3114720" y="380880"/>
                <a:ext cx="283680" cy="193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>
                <a:off x="3114720" y="380880"/>
                <a:ext cx="281880" cy="19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282120" y="517320"/>
                <a:ext cx="32760" cy="33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344400" y="517320"/>
                <a:ext cx="34560" cy="33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" name=""/>
            <p:cNvSpPr/>
            <p:nvPr/>
          </p:nvSpPr>
          <p:spPr>
            <a:xfrm>
              <a:off x="3255840" y="31896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3489120" y="334800"/>
            <a:ext cx="1657440" cy="152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EUVER ELEMENT-IT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86240" y="496800"/>
            <a:ext cx="188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Bersaglieri Motorcycle C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47920" y="849240"/>
            <a:ext cx="319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14920" y="798480"/>
            <a:ext cx="1684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Commande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IT-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5200" y="660240"/>
            <a:ext cx="500040" cy="122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3502080" y="714240"/>
            <a:ext cx="237960" cy="216000"/>
            <a:chOff x="3502080" y="714240"/>
            <a:chExt cx="237960" cy="216000"/>
          </a:xfrm>
        </p:grpSpPr>
        <p:sp>
          <p:nvSpPr>
            <p:cNvPr id="97" name=""/>
            <p:cNvSpPr/>
            <p:nvPr/>
          </p:nvSpPr>
          <p:spPr>
            <a:xfrm>
              <a:off x="3502080" y="773280"/>
              <a:ext cx="237960" cy="1569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606480" y="71424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3805200" y="1052640"/>
            <a:ext cx="1569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Motorcycle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-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505320" y="981000"/>
            <a:ext cx="231480" cy="199800"/>
            <a:chOff x="3505320" y="981000"/>
            <a:chExt cx="231480" cy="199800"/>
          </a:xfrm>
        </p:grpSpPr>
        <p:grpSp>
          <p:nvGrpSpPr>
            <p:cNvPr id="101" name=""/>
            <p:cNvGrpSpPr/>
            <p:nvPr/>
          </p:nvGrpSpPr>
          <p:grpSpPr>
            <a:xfrm>
              <a:off x="3505320" y="1023840"/>
              <a:ext cx="231480" cy="156960"/>
              <a:chOff x="3505320" y="1023840"/>
              <a:chExt cx="231480" cy="156960"/>
            </a:xfrm>
          </p:grpSpPr>
          <p:sp>
            <p:nvSpPr>
              <p:cNvPr id="102" name=""/>
              <p:cNvSpPr/>
              <p:nvPr/>
            </p:nvSpPr>
            <p:spPr>
              <a:xfrm>
                <a:off x="3505320" y="1023840"/>
                <a:ext cx="231480" cy="1569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641760" y="113508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692520" y="1135080"/>
                <a:ext cx="2808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3616200" y="98100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3805200" y="936720"/>
            <a:ext cx="500040" cy="122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57640" y="1386000"/>
            <a:ext cx="318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5200" y="1319040"/>
            <a:ext cx="1569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Auto Blinda 41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-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500280" y="1241280"/>
            <a:ext cx="239760" cy="242640"/>
            <a:chOff x="3500280" y="1241280"/>
            <a:chExt cx="239760" cy="242640"/>
          </a:xfrm>
        </p:grpSpPr>
        <p:grpSp>
          <p:nvGrpSpPr>
            <p:cNvPr id="110" name=""/>
            <p:cNvGrpSpPr/>
            <p:nvPr/>
          </p:nvGrpSpPr>
          <p:grpSpPr>
            <a:xfrm>
              <a:off x="3582720" y="1241280"/>
              <a:ext cx="74520" cy="28080"/>
              <a:chOff x="3582720" y="1241280"/>
              <a:chExt cx="74520" cy="28080"/>
            </a:xfrm>
          </p:grpSpPr>
          <p:sp>
            <p:nvSpPr>
              <p:cNvPr id="111" name=""/>
              <p:cNvSpPr/>
              <p:nvPr/>
            </p:nvSpPr>
            <p:spPr>
              <a:xfrm>
                <a:off x="3582720" y="124128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630240" y="124272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3500280" y="1285560"/>
              <a:ext cx="239760" cy="198360"/>
              <a:chOff x="3500280" y="1285560"/>
              <a:chExt cx="239760" cy="198360"/>
            </a:xfrm>
          </p:grpSpPr>
          <p:grpSp>
            <p:nvGrpSpPr>
              <p:cNvPr id="114" name=""/>
              <p:cNvGrpSpPr/>
              <p:nvPr/>
            </p:nvGrpSpPr>
            <p:grpSpPr>
              <a:xfrm>
                <a:off x="3500280" y="1285560"/>
                <a:ext cx="239760" cy="156960"/>
                <a:chOff x="3500280" y="1285560"/>
                <a:chExt cx="239760" cy="156960"/>
              </a:xfrm>
            </p:grpSpPr>
            <p:grpSp>
              <p:nvGrpSpPr>
                <p:cNvPr id="115" name=""/>
                <p:cNvGrpSpPr/>
                <p:nvPr/>
              </p:nvGrpSpPr>
              <p:grpSpPr>
                <a:xfrm>
                  <a:off x="3500280" y="1285560"/>
                  <a:ext cx="239760" cy="156960"/>
                  <a:chOff x="3500280" y="1285560"/>
                  <a:chExt cx="239760" cy="156960"/>
                </a:xfrm>
              </p:grpSpPr>
              <p:sp>
                <p:nvSpPr>
                  <p:cNvPr id="116" name=""/>
                  <p:cNvSpPr/>
                  <p:nvPr/>
                </p:nvSpPr>
                <p:spPr>
                  <a:xfrm>
                    <a:off x="3500280" y="1285560"/>
                    <a:ext cx="239760" cy="15696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3544200" y="1324800"/>
                    <a:ext cx="151560" cy="748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8" name=""/>
                <p:cNvSpPr/>
                <p:nvPr/>
              </p:nvSpPr>
              <p:spPr>
                <a:xfrm flipV="1">
                  <a:off x="3500280" y="1285560"/>
                  <a:ext cx="236160" cy="156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9" name=""/>
              <p:cNvSpPr/>
              <p:nvPr/>
            </p:nvSpPr>
            <p:spPr>
              <a:xfrm>
                <a:off x="3511440" y="145692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692520" y="145692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"/>
          <p:cNvSpPr/>
          <p:nvPr/>
        </p:nvSpPr>
        <p:spPr>
          <a:xfrm>
            <a:off x="3805200" y="1184400"/>
            <a:ext cx="318960" cy="122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57640" y="1662120"/>
            <a:ext cx="318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3505320" y="1541520"/>
            <a:ext cx="231480" cy="204840"/>
            <a:chOff x="3505320" y="1541520"/>
            <a:chExt cx="231480" cy="204840"/>
          </a:xfrm>
        </p:grpSpPr>
        <p:grpSp>
          <p:nvGrpSpPr>
            <p:cNvPr id="124" name=""/>
            <p:cNvGrpSpPr/>
            <p:nvPr/>
          </p:nvGrpSpPr>
          <p:grpSpPr>
            <a:xfrm>
              <a:off x="3505320" y="1589040"/>
              <a:ext cx="231480" cy="157320"/>
              <a:chOff x="3505320" y="1589040"/>
              <a:chExt cx="231480" cy="157320"/>
            </a:xfrm>
          </p:grpSpPr>
          <p:sp>
            <p:nvSpPr>
              <p:cNvPr id="125" name=""/>
              <p:cNvSpPr/>
              <p:nvPr/>
            </p:nvSpPr>
            <p:spPr>
              <a:xfrm>
                <a:off x="3505320" y="1589040"/>
                <a:ext cx="231480" cy="15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>
                <a:off x="3507480" y="1590840"/>
                <a:ext cx="225360" cy="15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505320" y="1591200"/>
                <a:ext cx="230400" cy="149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3583080" y="1541520"/>
              <a:ext cx="74520" cy="28800"/>
              <a:chOff x="3583080" y="1541520"/>
              <a:chExt cx="74520" cy="28800"/>
            </a:xfrm>
          </p:grpSpPr>
          <p:sp>
            <p:nvSpPr>
              <p:cNvPr id="129" name=""/>
              <p:cNvSpPr/>
              <p:nvPr/>
            </p:nvSpPr>
            <p:spPr>
              <a:xfrm>
                <a:off x="3583080" y="154152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30600" y="154332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1" name=""/>
          <p:cNvSpPr/>
          <p:nvPr/>
        </p:nvSpPr>
        <p:spPr>
          <a:xfrm>
            <a:off x="3805200" y="1595520"/>
            <a:ext cx="1569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Bersaglieri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(a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-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60880" y="1943280"/>
            <a:ext cx="318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3506760" y="1808280"/>
            <a:ext cx="228240" cy="215280"/>
            <a:chOff x="3506760" y="1808280"/>
            <a:chExt cx="228240" cy="215280"/>
          </a:xfrm>
        </p:grpSpPr>
        <p:grpSp>
          <p:nvGrpSpPr>
            <p:cNvPr id="134" name=""/>
            <p:cNvGrpSpPr/>
            <p:nvPr/>
          </p:nvGrpSpPr>
          <p:grpSpPr>
            <a:xfrm>
              <a:off x="3588480" y="1808280"/>
              <a:ext cx="65520" cy="28080"/>
              <a:chOff x="3588480" y="1808280"/>
              <a:chExt cx="65520" cy="28080"/>
            </a:xfrm>
          </p:grpSpPr>
          <p:sp>
            <p:nvSpPr>
              <p:cNvPr id="135" name=""/>
              <p:cNvSpPr/>
              <p:nvPr/>
            </p:nvSpPr>
            <p:spPr>
              <a:xfrm>
                <a:off x="3588480" y="1808280"/>
                <a:ext cx="248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30240" y="1809720"/>
                <a:ext cx="2376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3506760" y="1855440"/>
              <a:ext cx="228240" cy="168120"/>
              <a:chOff x="3506760" y="1855440"/>
              <a:chExt cx="228240" cy="168120"/>
            </a:xfrm>
          </p:grpSpPr>
          <p:sp>
            <p:nvSpPr>
              <p:cNvPr id="138" name=""/>
              <p:cNvSpPr/>
              <p:nvPr/>
            </p:nvSpPr>
            <p:spPr>
              <a:xfrm>
                <a:off x="3516480" y="1855440"/>
                <a:ext cx="218520" cy="1681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V="1">
                <a:off x="3526200" y="1869480"/>
                <a:ext cx="196200" cy="12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526200" y="1869480"/>
                <a:ext cx="203040" cy="13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506760" y="1864800"/>
                <a:ext cx="54720" cy="150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2" name=""/>
          <p:cNvSpPr/>
          <p:nvPr/>
        </p:nvSpPr>
        <p:spPr>
          <a:xfrm>
            <a:off x="3805200" y="1870200"/>
            <a:ext cx="1554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LMG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(b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-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505320" y="2097000"/>
            <a:ext cx="231480" cy="198360"/>
            <a:chOff x="3505320" y="2097000"/>
            <a:chExt cx="231480" cy="198360"/>
          </a:xfrm>
        </p:grpSpPr>
        <p:grpSp>
          <p:nvGrpSpPr>
            <p:cNvPr id="144" name=""/>
            <p:cNvGrpSpPr/>
            <p:nvPr/>
          </p:nvGrpSpPr>
          <p:grpSpPr>
            <a:xfrm>
              <a:off x="3584160" y="2097000"/>
              <a:ext cx="74520" cy="28800"/>
              <a:chOff x="3584160" y="2097000"/>
              <a:chExt cx="74520" cy="28800"/>
            </a:xfrm>
          </p:grpSpPr>
          <p:sp>
            <p:nvSpPr>
              <p:cNvPr id="145" name=""/>
              <p:cNvSpPr/>
              <p:nvPr/>
            </p:nvSpPr>
            <p:spPr>
              <a:xfrm>
                <a:off x="3584160" y="209700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631680" y="209880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3505320" y="2138400"/>
              <a:ext cx="231480" cy="156960"/>
              <a:chOff x="3505320" y="2138400"/>
              <a:chExt cx="231480" cy="156960"/>
            </a:xfrm>
          </p:grpSpPr>
          <p:sp>
            <p:nvSpPr>
              <p:cNvPr id="148" name=""/>
              <p:cNvSpPr/>
              <p:nvPr/>
            </p:nvSpPr>
            <p:spPr>
              <a:xfrm>
                <a:off x="3505320" y="2138400"/>
                <a:ext cx="231480" cy="1569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641760" y="224964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692520" y="2249640"/>
                <a:ext cx="2808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1" name=""/>
          <p:cNvSpPr/>
          <p:nvPr/>
        </p:nvSpPr>
        <p:spPr>
          <a:xfrm>
            <a:off x="3805200" y="2195640"/>
            <a:ext cx="1569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5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Motorcycle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-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5200" y="2079720"/>
            <a:ext cx="500040" cy="122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14920" y="1479600"/>
            <a:ext cx="318960" cy="122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5638680" y="357120"/>
            <a:ext cx="291600" cy="312480"/>
            <a:chOff x="5638680" y="357120"/>
            <a:chExt cx="291600" cy="312480"/>
          </a:xfrm>
        </p:grpSpPr>
        <p:sp>
          <p:nvSpPr>
            <p:cNvPr id="155" name=""/>
            <p:cNvSpPr/>
            <p:nvPr/>
          </p:nvSpPr>
          <p:spPr>
            <a:xfrm>
              <a:off x="5784480" y="35712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5638680" y="422280"/>
              <a:ext cx="291600" cy="247320"/>
              <a:chOff x="5638680" y="422280"/>
              <a:chExt cx="291600" cy="247320"/>
            </a:xfrm>
          </p:grpSpPr>
          <p:grpSp>
            <p:nvGrpSpPr>
              <p:cNvPr id="157" name=""/>
              <p:cNvGrpSpPr/>
              <p:nvPr/>
            </p:nvGrpSpPr>
            <p:grpSpPr>
              <a:xfrm>
                <a:off x="5638680" y="422280"/>
                <a:ext cx="291600" cy="197640"/>
                <a:chOff x="5638680" y="422280"/>
                <a:chExt cx="291600" cy="19764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5638680" y="422280"/>
                  <a:ext cx="291600" cy="1976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flipV="1">
                  <a:off x="5641560" y="425160"/>
                  <a:ext cx="284040" cy="192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38680" y="425160"/>
                  <a:ext cx="290160" cy="188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1" name=""/>
              <p:cNvSpPr/>
              <p:nvPr/>
            </p:nvSpPr>
            <p:spPr>
              <a:xfrm>
                <a:off x="5652720" y="635760"/>
                <a:ext cx="33840" cy="33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880600" y="635760"/>
                <a:ext cx="35640" cy="33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3" name=""/>
          <p:cNvSpPr/>
          <p:nvPr/>
        </p:nvSpPr>
        <p:spPr>
          <a:xfrm>
            <a:off x="6013440" y="382680"/>
            <a:ext cx="1657440" cy="152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EUVER ELEMENT-IT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10200" y="544680"/>
            <a:ext cx="188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Bersaglieri Infantry C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81600" y="896760"/>
            <a:ext cx="319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348240" y="846000"/>
            <a:ext cx="1684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Commande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IT-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38880" y="708120"/>
            <a:ext cx="500040" cy="122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059520" y="762120"/>
            <a:ext cx="237960" cy="215280"/>
            <a:chOff x="6059520" y="762120"/>
            <a:chExt cx="237960" cy="215280"/>
          </a:xfrm>
        </p:grpSpPr>
        <p:sp>
          <p:nvSpPr>
            <p:cNvPr id="169" name=""/>
            <p:cNvSpPr/>
            <p:nvPr/>
          </p:nvSpPr>
          <p:spPr>
            <a:xfrm>
              <a:off x="6059520" y="820800"/>
              <a:ext cx="237960" cy="156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163920" y="762120"/>
              <a:ext cx="2664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5781600" y="1157400"/>
            <a:ext cx="319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6062760" y="1036800"/>
            <a:ext cx="231480" cy="204120"/>
            <a:chOff x="6062760" y="1036800"/>
            <a:chExt cx="231480" cy="204120"/>
          </a:xfrm>
        </p:grpSpPr>
        <p:grpSp>
          <p:nvGrpSpPr>
            <p:cNvPr id="173" name=""/>
            <p:cNvGrpSpPr/>
            <p:nvPr/>
          </p:nvGrpSpPr>
          <p:grpSpPr>
            <a:xfrm>
              <a:off x="6062760" y="1083960"/>
              <a:ext cx="231480" cy="156960"/>
              <a:chOff x="6062760" y="1083960"/>
              <a:chExt cx="231480" cy="156960"/>
            </a:xfrm>
          </p:grpSpPr>
          <p:sp>
            <p:nvSpPr>
              <p:cNvPr id="174" name=""/>
              <p:cNvSpPr/>
              <p:nvPr/>
            </p:nvSpPr>
            <p:spPr>
              <a:xfrm>
                <a:off x="6062760" y="1083960"/>
                <a:ext cx="231480" cy="1569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V="1">
                <a:off x="6064920" y="1086120"/>
                <a:ext cx="225360" cy="15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062760" y="1086120"/>
                <a:ext cx="230400" cy="149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6140520" y="1036800"/>
              <a:ext cx="74520" cy="28080"/>
              <a:chOff x="6140520" y="1036800"/>
              <a:chExt cx="74520" cy="28080"/>
            </a:xfrm>
          </p:grpSpPr>
          <p:sp>
            <p:nvSpPr>
              <p:cNvPr id="178" name=""/>
              <p:cNvSpPr/>
              <p:nvPr/>
            </p:nvSpPr>
            <p:spPr>
              <a:xfrm>
                <a:off x="6140520" y="103680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188040" y="103824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0" name=""/>
          <p:cNvSpPr/>
          <p:nvPr/>
        </p:nvSpPr>
        <p:spPr>
          <a:xfrm>
            <a:off x="6357960" y="1090440"/>
            <a:ext cx="1569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Bersaglieri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-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064200" y="1287360"/>
            <a:ext cx="231840" cy="198360"/>
            <a:chOff x="6064200" y="1287360"/>
            <a:chExt cx="231840" cy="198360"/>
          </a:xfrm>
        </p:grpSpPr>
        <p:grpSp>
          <p:nvGrpSpPr>
            <p:cNvPr id="182" name=""/>
            <p:cNvGrpSpPr/>
            <p:nvPr/>
          </p:nvGrpSpPr>
          <p:grpSpPr>
            <a:xfrm>
              <a:off x="6064200" y="1328760"/>
              <a:ext cx="231840" cy="156960"/>
              <a:chOff x="6064200" y="1328760"/>
              <a:chExt cx="231840" cy="156960"/>
            </a:xfrm>
          </p:grpSpPr>
          <p:sp>
            <p:nvSpPr>
              <p:cNvPr id="183" name=""/>
              <p:cNvSpPr/>
              <p:nvPr/>
            </p:nvSpPr>
            <p:spPr>
              <a:xfrm>
                <a:off x="6064200" y="1328760"/>
                <a:ext cx="231840" cy="1569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6178320" y="1331640"/>
                <a:ext cx="1144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067440" y="1328760"/>
                <a:ext cx="114120" cy="15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6141960" y="1287360"/>
              <a:ext cx="74520" cy="28800"/>
              <a:chOff x="6141960" y="1287360"/>
              <a:chExt cx="74520" cy="28800"/>
            </a:xfrm>
          </p:grpSpPr>
          <p:sp>
            <p:nvSpPr>
              <p:cNvPr id="187" name=""/>
              <p:cNvSpPr/>
              <p:nvPr/>
            </p:nvSpPr>
            <p:spPr>
              <a:xfrm>
                <a:off x="6141960" y="128736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189480" y="128916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9" name=""/>
          <p:cNvGrpSpPr/>
          <p:nvPr/>
        </p:nvGrpSpPr>
        <p:grpSpPr>
          <a:xfrm>
            <a:off x="6064200" y="1801800"/>
            <a:ext cx="231840" cy="236520"/>
            <a:chOff x="6064200" y="1801800"/>
            <a:chExt cx="231840" cy="236520"/>
          </a:xfrm>
        </p:grpSpPr>
        <p:grpSp>
          <p:nvGrpSpPr>
            <p:cNvPr id="190" name=""/>
            <p:cNvGrpSpPr/>
            <p:nvPr/>
          </p:nvGrpSpPr>
          <p:grpSpPr>
            <a:xfrm>
              <a:off x="6064200" y="1847880"/>
              <a:ext cx="231840" cy="190440"/>
              <a:chOff x="6064200" y="1847880"/>
              <a:chExt cx="231840" cy="190440"/>
            </a:xfrm>
          </p:grpSpPr>
          <p:sp>
            <p:nvSpPr>
              <p:cNvPr id="191" name=""/>
              <p:cNvSpPr/>
              <p:nvPr/>
            </p:nvSpPr>
            <p:spPr>
              <a:xfrm>
                <a:off x="6064200" y="1847880"/>
                <a:ext cx="231840" cy="1569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075360" y="201132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256440" y="201132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6141960" y="1801800"/>
              <a:ext cx="74520" cy="28080"/>
              <a:chOff x="6141960" y="1801800"/>
              <a:chExt cx="74520" cy="28080"/>
            </a:xfrm>
          </p:grpSpPr>
          <p:sp>
            <p:nvSpPr>
              <p:cNvPr id="195" name=""/>
              <p:cNvSpPr/>
              <p:nvPr/>
            </p:nvSpPr>
            <p:spPr>
              <a:xfrm>
                <a:off x="6141960" y="180180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189480" y="180324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7" name=""/>
          <p:cNvSpPr/>
          <p:nvPr/>
        </p:nvSpPr>
        <p:spPr>
          <a:xfrm>
            <a:off x="6357960" y="1347840"/>
            <a:ext cx="1569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Solothurn ATR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-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6066000" y="1522440"/>
            <a:ext cx="228240" cy="216000"/>
            <a:chOff x="6066000" y="1522440"/>
            <a:chExt cx="228240" cy="216000"/>
          </a:xfrm>
        </p:grpSpPr>
        <p:grpSp>
          <p:nvGrpSpPr>
            <p:cNvPr id="199" name=""/>
            <p:cNvGrpSpPr/>
            <p:nvPr/>
          </p:nvGrpSpPr>
          <p:grpSpPr>
            <a:xfrm>
              <a:off x="6147720" y="1522440"/>
              <a:ext cx="65520" cy="28800"/>
              <a:chOff x="6147720" y="1522440"/>
              <a:chExt cx="65520" cy="28800"/>
            </a:xfrm>
          </p:grpSpPr>
          <p:sp>
            <p:nvSpPr>
              <p:cNvPr id="200" name=""/>
              <p:cNvSpPr/>
              <p:nvPr/>
            </p:nvSpPr>
            <p:spPr>
              <a:xfrm>
                <a:off x="6147720" y="1522440"/>
                <a:ext cx="248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189480" y="1524240"/>
                <a:ext cx="2376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6066000" y="1569960"/>
              <a:ext cx="228240" cy="168480"/>
              <a:chOff x="6066000" y="1569960"/>
              <a:chExt cx="228240" cy="168480"/>
            </a:xfrm>
          </p:grpSpPr>
          <p:sp>
            <p:nvSpPr>
              <p:cNvPr id="203" name=""/>
              <p:cNvSpPr/>
              <p:nvPr/>
            </p:nvSpPr>
            <p:spPr>
              <a:xfrm>
                <a:off x="6075720" y="1569960"/>
                <a:ext cx="218520" cy="168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V="1">
                <a:off x="6085440" y="1584000"/>
                <a:ext cx="196200" cy="128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085440" y="1584360"/>
                <a:ext cx="20304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066000" y="1579680"/>
                <a:ext cx="54720" cy="150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7" name=""/>
          <p:cNvSpPr/>
          <p:nvPr/>
        </p:nvSpPr>
        <p:spPr>
          <a:xfrm>
            <a:off x="6367320" y="1584360"/>
            <a:ext cx="1554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MMG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IT-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377040" y="1870200"/>
            <a:ext cx="1554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4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at AS 37                     IT-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367320" y="1746360"/>
            <a:ext cx="500040" cy="122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99960" y="1876320"/>
            <a:ext cx="2552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port, AA, and AT guns may be attach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277920" y="2400480"/>
            <a:ext cx="2411280" cy="1802160"/>
            <a:chOff x="277920" y="2400480"/>
            <a:chExt cx="2411280" cy="1802160"/>
          </a:xfrm>
        </p:grpSpPr>
        <p:sp>
          <p:nvSpPr>
            <p:cNvPr id="212" name=""/>
            <p:cNvSpPr/>
            <p:nvPr/>
          </p:nvSpPr>
          <p:spPr>
            <a:xfrm>
              <a:off x="752400" y="2933640"/>
              <a:ext cx="0" cy="776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38120" y="2523960"/>
              <a:ext cx="0" cy="9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1360" y="3448080"/>
              <a:ext cx="318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69600" y="2411280"/>
              <a:ext cx="1657440" cy="152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ANEUVER ELEMENT-IT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66720" y="2573280"/>
              <a:ext cx="1887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ersaglieri MG Platoon (a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38120" y="2925720"/>
              <a:ext cx="318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004760" y="2874960"/>
              <a:ext cx="168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mmander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              IT-2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995400" y="2736720"/>
              <a:ext cx="500040" cy="1220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716040" y="2790720"/>
              <a:ext cx="237960" cy="216000"/>
              <a:chOff x="716040" y="2790720"/>
              <a:chExt cx="237960" cy="216000"/>
            </a:xfrm>
          </p:grpSpPr>
          <p:sp>
            <p:nvSpPr>
              <p:cNvPr id="221" name=""/>
              <p:cNvSpPr/>
              <p:nvPr/>
            </p:nvSpPr>
            <p:spPr>
              <a:xfrm>
                <a:off x="716040" y="2849760"/>
                <a:ext cx="237960" cy="1569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20440" y="279072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438120" y="3186000"/>
              <a:ext cx="318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4" name=""/>
            <p:cNvGrpSpPr/>
            <p:nvPr/>
          </p:nvGrpSpPr>
          <p:grpSpPr>
            <a:xfrm>
              <a:off x="719280" y="3065400"/>
              <a:ext cx="231480" cy="204840"/>
              <a:chOff x="719280" y="3065400"/>
              <a:chExt cx="231480" cy="204840"/>
            </a:xfrm>
          </p:grpSpPr>
          <p:grpSp>
            <p:nvGrpSpPr>
              <p:cNvPr id="225" name=""/>
              <p:cNvGrpSpPr/>
              <p:nvPr/>
            </p:nvGrpSpPr>
            <p:grpSpPr>
              <a:xfrm>
                <a:off x="719280" y="3112920"/>
                <a:ext cx="231480" cy="157320"/>
                <a:chOff x="719280" y="3112920"/>
                <a:chExt cx="231480" cy="15732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719280" y="3112920"/>
                  <a:ext cx="231480" cy="15732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V="1">
                  <a:off x="721440" y="3114720"/>
                  <a:ext cx="225360" cy="15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19280" y="3115080"/>
                  <a:ext cx="230400" cy="149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" name=""/>
              <p:cNvGrpSpPr/>
              <p:nvPr/>
            </p:nvGrpSpPr>
            <p:grpSpPr>
              <a:xfrm>
                <a:off x="797040" y="3065400"/>
                <a:ext cx="74520" cy="28800"/>
                <a:chOff x="797040" y="3065400"/>
                <a:chExt cx="74520" cy="2880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797040" y="306540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844560" y="306720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2" name=""/>
            <p:cNvSpPr/>
            <p:nvPr/>
          </p:nvSpPr>
          <p:spPr>
            <a:xfrm>
              <a:off x="1014480" y="3119400"/>
              <a:ext cx="1569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ucilieri                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T-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720720" y="3583080"/>
              <a:ext cx="231840" cy="236520"/>
              <a:chOff x="720720" y="3583080"/>
              <a:chExt cx="231840" cy="23652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720720" y="3629160"/>
                <a:ext cx="231840" cy="190440"/>
                <a:chOff x="720720" y="3629160"/>
                <a:chExt cx="231840" cy="19044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720720" y="3629160"/>
                  <a:ext cx="231840" cy="15696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731880" y="379260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912960" y="379260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798480" y="3583080"/>
                <a:ext cx="74520" cy="28080"/>
                <a:chOff x="798480" y="3583080"/>
                <a:chExt cx="74520" cy="2808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798480" y="358308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846000" y="358452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1" name=""/>
            <p:cNvGrpSpPr/>
            <p:nvPr/>
          </p:nvGrpSpPr>
          <p:grpSpPr>
            <a:xfrm>
              <a:off x="722160" y="3313080"/>
              <a:ext cx="228240" cy="216000"/>
              <a:chOff x="722160" y="3313080"/>
              <a:chExt cx="228240" cy="21600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803880" y="3313080"/>
                <a:ext cx="65520" cy="28800"/>
                <a:chOff x="803880" y="3313080"/>
                <a:chExt cx="65520" cy="2880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803880" y="3313080"/>
                  <a:ext cx="248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845640" y="3314880"/>
                  <a:ext cx="2376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722160" y="3360600"/>
                <a:ext cx="228240" cy="168480"/>
                <a:chOff x="722160" y="3360600"/>
                <a:chExt cx="228240" cy="16848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731880" y="3360600"/>
                  <a:ext cx="218520" cy="16848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flipV="1">
                  <a:off x="741600" y="3374640"/>
                  <a:ext cx="196200" cy="12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741600" y="3375000"/>
                  <a:ext cx="203040" cy="139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722160" y="3370320"/>
                  <a:ext cx="54720" cy="1508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0" name=""/>
            <p:cNvSpPr/>
            <p:nvPr/>
          </p:nvSpPr>
          <p:spPr>
            <a:xfrm>
              <a:off x="1023840" y="3375000"/>
              <a:ext cx="1554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2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M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G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b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   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IT-3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033560" y="3651120"/>
              <a:ext cx="1554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2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at AS 37                    IT-1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23840" y="3527280"/>
              <a:ext cx="500040" cy="1220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277920" y="2400480"/>
              <a:ext cx="320400" cy="266040"/>
              <a:chOff x="277920" y="2400480"/>
              <a:chExt cx="320400" cy="266040"/>
            </a:xfrm>
          </p:grpSpPr>
          <p:grpSp>
            <p:nvGrpSpPr>
              <p:cNvPr id="254" name=""/>
              <p:cNvGrpSpPr/>
              <p:nvPr/>
            </p:nvGrpSpPr>
            <p:grpSpPr>
              <a:xfrm>
                <a:off x="371160" y="2400480"/>
                <a:ext cx="131040" cy="26640"/>
                <a:chOff x="371160" y="2400480"/>
                <a:chExt cx="131040" cy="2664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371160" y="2400480"/>
                  <a:ext cx="266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421560" y="2400480"/>
                  <a:ext cx="2808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475560" y="2400480"/>
                  <a:ext cx="266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277920" y="2448000"/>
                <a:ext cx="320400" cy="218520"/>
                <a:chOff x="277920" y="2448000"/>
                <a:chExt cx="320400" cy="21852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277920" y="2448000"/>
                  <a:ext cx="320400" cy="21852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 flipV="1">
                  <a:off x="285840" y="2448720"/>
                  <a:ext cx="299880" cy="20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290520" y="2458800"/>
                  <a:ext cx="299880" cy="188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279360" y="2454120"/>
                  <a:ext cx="81000" cy="2008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3" name=""/>
            <p:cNvSpPr/>
            <p:nvPr/>
          </p:nvSpPr>
          <p:spPr>
            <a:xfrm>
              <a:off x="361800" y="3895560"/>
              <a:ext cx="200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a) May attach MG to other ME individually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b) Or SCWN-I03 or IT-P0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527040" y="1405080"/>
            <a:ext cx="318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754200" y="1270080"/>
            <a:ext cx="228240" cy="216000"/>
            <a:chOff x="754200" y="1270080"/>
            <a:chExt cx="228240" cy="216000"/>
          </a:xfrm>
        </p:grpSpPr>
        <p:grpSp>
          <p:nvGrpSpPr>
            <p:cNvPr id="266" name=""/>
            <p:cNvGrpSpPr/>
            <p:nvPr/>
          </p:nvGrpSpPr>
          <p:grpSpPr>
            <a:xfrm>
              <a:off x="835920" y="1270080"/>
              <a:ext cx="65520" cy="28800"/>
              <a:chOff x="835920" y="1270080"/>
              <a:chExt cx="65520" cy="28800"/>
            </a:xfrm>
          </p:grpSpPr>
          <p:sp>
            <p:nvSpPr>
              <p:cNvPr id="267" name=""/>
              <p:cNvSpPr/>
              <p:nvPr/>
            </p:nvSpPr>
            <p:spPr>
              <a:xfrm>
                <a:off x="835920" y="1270080"/>
                <a:ext cx="248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877680" y="1271880"/>
                <a:ext cx="2376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754200" y="1317600"/>
              <a:ext cx="228240" cy="168480"/>
              <a:chOff x="754200" y="1317600"/>
              <a:chExt cx="228240" cy="168480"/>
            </a:xfrm>
          </p:grpSpPr>
          <p:sp>
            <p:nvSpPr>
              <p:cNvPr id="270" name=""/>
              <p:cNvSpPr/>
              <p:nvPr/>
            </p:nvSpPr>
            <p:spPr>
              <a:xfrm>
                <a:off x="763920" y="1317600"/>
                <a:ext cx="218520" cy="168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V="1">
                <a:off x="773640" y="1331640"/>
                <a:ext cx="196200" cy="128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73640" y="1332000"/>
                <a:ext cx="20304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54200" y="1327320"/>
                <a:ext cx="54720" cy="150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4" name=""/>
          <p:cNvSpPr/>
          <p:nvPr/>
        </p:nvSpPr>
        <p:spPr>
          <a:xfrm>
            <a:off x="1071720" y="1332000"/>
            <a:ext cx="1554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Fucile Mitragliatore LM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IT-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5648400" y="2386080"/>
            <a:ext cx="2441520" cy="2300040"/>
            <a:chOff x="5648400" y="2386080"/>
            <a:chExt cx="2441520" cy="2300040"/>
          </a:xfrm>
        </p:grpSpPr>
        <p:sp>
          <p:nvSpPr>
            <p:cNvPr id="276" name=""/>
            <p:cNvSpPr/>
            <p:nvPr/>
          </p:nvSpPr>
          <p:spPr>
            <a:xfrm>
              <a:off x="7016760" y="255276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114960" y="3409920"/>
              <a:ext cx="0" cy="960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791320" y="2629080"/>
              <a:ext cx="0" cy="1704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5648400" y="2386080"/>
              <a:ext cx="291600" cy="312480"/>
              <a:chOff x="5648400" y="2386080"/>
              <a:chExt cx="291600" cy="312480"/>
            </a:xfrm>
          </p:grpSpPr>
          <p:sp>
            <p:nvSpPr>
              <p:cNvPr id="280" name=""/>
              <p:cNvSpPr/>
              <p:nvPr/>
            </p:nvSpPr>
            <p:spPr>
              <a:xfrm>
                <a:off x="5794200" y="2386080"/>
                <a:ext cx="0" cy="63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1" name=""/>
              <p:cNvGrpSpPr/>
              <p:nvPr/>
            </p:nvGrpSpPr>
            <p:grpSpPr>
              <a:xfrm>
                <a:off x="5648400" y="2451240"/>
                <a:ext cx="291600" cy="247320"/>
                <a:chOff x="5648400" y="2451240"/>
                <a:chExt cx="291600" cy="247320"/>
              </a:xfrm>
            </p:grpSpPr>
            <p:grpSp>
              <p:nvGrpSpPr>
                <p:cNvPr id="282" name=""/>
                <p:cNvGrpSpPr/>
                <p:nvPr/>
              </p:nvGrpSpPr>
              <p:grpSpPr>
                <a:xfrm>
                  <a:off x="5648400" y="2451240"/>
                  <a:ext cx="291600" cy="197640"/>
                  <a:chOff x="5648400" y="2451240"/>
                  <a:chExt cx="291600" cy="197640"/>
                </a:xfrm>
              </p:grpSpPr>
              <p:sp>
                <p:nvSpPr>
                  <p:cNvPr id="283" name=""/>
                  <p:cNvSpPr/>
                  <p:nvPr/>
                </p:nvSpPr>
                <p:spPr>
                  <a:xfrm>
                    <a:off x="5648400" y="2451240"/>
                    <a:ext cx="291600" cy="19764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 flipV="1">
                    <a:off x="5651280" y="2454120"/>
                    <a:ext cx="284040" cy="192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5648400" y="2454120"/>
                    <a:ext cx="290160" cy="188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6" name=""/>
                <p:cNvSpPr/>
                <p:nvPr/>
              </p:nvSpPr>
              <p:spPr>
                <a:xfrm>
                  <a:off x="5662440" y="2664720"/>
                  <a:ext cx="33840" cy="338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890320" y="2664720"/>
                  <a:ext cx="35640" cy="338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8" name=""/>
            <p:cNvSpPr/>
            <p:nvPr/>
          </p:nvSpPr>
          <p:spPr>
            <a:xfrm>
              <a:off x="6022800" y="2411280"/>
              <a:ext cx="1657440" cy="152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ANEUVER ELEMENT-IT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19920" y="2573280"/>
              <a:ext cx="1887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otorized Infant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791320" y="3357720"/>
              <a:ext cx="318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6072120" y="3236760"/>
              <a:ext cx="231480" cy="204840"/>
              <a:chOff x="6072120" y="3236760"/>
              <a:chExt cx="231480" cy="204840"/>
            </a:xfrm>
          </p:grpSpPr>
          <p:grpSp>
            <p:nvGrpSpPr>
              <p:cNvPr id="292" name=""/>
              <p:cNvGrpSpPr/>
              <p:nvPr/>
            </p:nvGrpSpPr>
            <p:grpSpPr>
              <a:xfrm>
                <a:off x="6072120" y="3284280"/>
                <a:ext cx="231480" cy="157320"/>
                <a:chOff x="6072120" y="3284280"/>
                <a:chExt cx="231480" cy="15732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6072120" y="3284280"/>
                  <a:ext cx="231480" cy="15732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 flipV="1">
                  <a:off x="6074280" y="3286080"/>
                  <a:ext cx="225360" cy="15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072120" y="3286440"/>
                  <a:ext cx="230400" cy="149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6149880" y="3236760"/>
                <a:ext cx="74520" cy="28800"/>
                <a:chOff x="6149880" y="3236760"/>
                <a:chExt cx="74520" cy="2880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6149880" y="323676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197400" y="323856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9" name=""/>
            <p:cNvSpPr/>
            <p:nvPr/>
          </p:nvSpPr>
          <p:spPr>
            <a:xfrm>
              <a:off x="6367320" y="3290760"/>
              <a:ext cx="1570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9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ucilieri                   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T-2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6073920" y="4449600"/>
              <a:ext cx="231480" cy="236520"/>
              <a:chOff x="6073920" y="4449600"/>
              <a:chExt cx="231480" cy="236520"/>
            </a:xfrm>
          </p:grpSpPr>
          <p:grpSp>
            <p:nvGrpSpPr>
              <p:cNvPr id="301" name=""/>
              <p:cNvGrpSpPr/>
              <p:nvPr/>
            </p:nvGrpSpPr>
            <p:grpSpPr>
              <a:xfrm>
                <a:off x="6073920" y="4495680"/>
                <a:ext cx="231480" cy="190440"/>
                <a:chOff x="6073920" y="4495680"/>
                <a:chExt cx="231480" cy="19044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6073920" y="4495680"/>
                  <a:ext cx="231480" cy="15696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084720" y="465912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265800" y="4659120"/>
                  <a:ext cx="2808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6151320" y="4449600"/>
                <a:ext cx="73800" cy="28080"/>
                <a:chOff x="6151320" y="4449600"/>
                <a:chExt cx="73800" cy="2808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6151320" y="4449600"/>
                  <a:ext cx="2808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6198480" y="4451040"/>
                  <a:ext cx="266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8" name=""/>
            <p:cNvSpPr/>
            <p:nvPr/>
          </p:nvSpPr>
          <p:spPr>
            <a:xfrm>
              <a:off x="6386400" y="4537080"/>
              <a:ext cx="1554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8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at AS 37                     IT-1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377040" y="4413240"/>
              <a:ext cx="500040" cy="1220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5791320" y="2695680"/>
              <a:ext cx="2298600" cy="522000"/>
              <a:chOff x="5791320" y="2695680"/>
              <a:chExt cx="2298600" cy="522000"/>
            </a:xfrm>
          </p:grpSpPr>
          <p:sp>
            <p:nvSpPr>
              <p:cNvPr id="311" name=""/>
              <p:cNvSpPr/>
              <p:nvPr/>
            </p:nvSpPr>
            <p:spPr>
              <a:xfrm>
                <a:off x="5791320" y="2859120"/>
                <a:ext cx="318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105600" y="2867040"/>
                <a:ext cx="0" cy="237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3" name=""/>
              <p:cNvGrpSpPr/>
              <p:nvPr/>
            </p:nvGrpSpPr>
            <p:grpSpPr>
              <a:xfrm>
                <a:off x="6070680" y="2735280"/>
                <a:ext cx="237960" cy="207720"/>
                <a:chOff x="6070680" y="2735280"/>
                <a:chExt cx="237960" cy="2077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6070680" y="2786040"/>
                  <a:ext cx="237960" cy="15696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Q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6175080" y="273528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6" name=""/>
              <p:cNvSpPr/>
              <p:nvPr/>
            </p:nvSpPr>
            <p:spPr>
              <a:xfrm>
                <a:off x="6399360" y="2695680"/>
                <a:ext cx="484200" cy="1220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and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405480" y="2806560"/>
                <a:ext cx="1684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Commander                   IT-2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389640" y="3057480"/>
                <a:ext cx="1684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Fiat 508CM                    IT-1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391440" y="2925720"/>
                <a:ext cx="468000" cy="1220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ransport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0" name=""/>
              <p:cNvGrpSpPr/>
              <p:nvPr/>
            </p:nvGrpSpPr>
            <p:grpSpPr>
              <a:xfrm>
                <a:off x="6078600" y="2976480"/>
                <a:ext cx="231840" cy="241200"/>
                <a:chOff x="6078600" y="2976480"/>
                <a:chExt cx="231840" cy="241200"/>
              </a:xfrm>
            </p:grpSpPr>
            <p:grpSp>
              <p:nvGrpSpPr>
                <p:cNvPr id="321" name=""/>
                <p:cNvGrpSpPr/>
                <p:nvPr/>
              </p:nvGrpSpPr>
              <p:grpSpPr>
                <a:xfrm>
                  <a:off x="6157800" y="2976480"/>
                  <a:ext cx="74520" cy="28080"/>
                  <a:chOff x="6157800" y="2976480"/>
                  <a:chExt cx="74520" cy="28080"/>
                </a:xfrm>
              </p:grpSpPr>
              <p:sp>
                <p:nvSpPr>
                  <p:cNvPr id="322" name=""/>
                  <p:cNvSpPr/>
                  <p:nvPr/>
                </p:nvSpPr>
                <p:spPr>
                  <a:xfrm>
                    <a:off x="6157800" y="297648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>
                    <a:off x="6205320" y="297792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4" name=""/>
                <p:cNvGrpSpPr/>
                <p:nvPr/>
              </p:nvGrpSpPr>
              <p:grpSpPr>
                <a:xfrm>
                  <a:off x="6078600" y="3027240"/>
                  <a:ext cx="231840" cy="190440"/>
                  <a:chOff x="6078600" y="3027240"/>
                  <a:chExt cx="231840" cy="190440"/>
                </a:xfrm>
              </p:grpSpPr>
              <p:sp>
                <p:nvSpPr>
                  <p:cNvPr id="325" name=""/>
                  <p:cNvSpPr/>
                  <p:nvPr/>
                </p:nvSpPr>
                <p:spPr>
                  <a:xfrm>
                    <a:off x="6078600" y="3027240"/>
                    <a:ext cx="231840" cy="15696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>
                    <a:off x="6089760" y="319068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6270840" y="319068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28" name=""/>
            <p:cNvGrpSpPr/>
            <p:nvPr/>
          </p:nvGrpSpPr>
          <p:grpSpPr>
            <a:xfrm>
              <a:off x="5794200" y="3693960"/>
              <a:ext cx="2136960" cy="216000"/>
              <a:chOff x="5794200" y="3693960"/>
              <a:chExt cx="2136960" cy="216000"/>
            </a:xfrm>
          </p:grpSpPr>
          <p:sp>
            <p:nvSpPr>
              <p:cNvPr id="329" name=""/>
              <p:cNvSpPr/>
              <p:nvPr/>
            </p:nvSpPr>
            <p:spPr>
              <a:xfrm>
                <a:off x="5794200" y="3828960"/>
                <a:ext cx="319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0" name=""/>
              <p:cNvGrpSpPr/>
              <p:nvPr/>
            </p:nvGrpSpPr>
            <p:grpSpPr>
              <a:xfrm>
                <a:off x="6075360" y="3693960"/>
                <a:ext cx="228240" cy="216000"/>
                <a:chOff x="6075360" y="3693960"/>
                <a:chExt cx="228240" cy="216000"/>
              </a:xfrm>
            </p:grpSpPr>
            <p:grpSp>
              <p:nvGrpSpPr>
                <p:cNvPr id="331" name=""/>
                <p:cNvGrpSpPr/>
                <p:nvPr/>
              </p:nvGrpSpPr>
              <p:grpSpPr>
                <a:xfrm>
                  <a:off x="6157080" y="3693960"/>
                  <a:ext cx="65520" cy="28800"/>
                  <a:chOff x="6157080" y="3693960"/>
                  <a:chExt cx="65520" cy="28800"/>
                </a:xfrm>
              </p:grpSpPr>
              <p:sp>
                <p:nvSpPr>
                  <p:cNvPr id="332" name=""/>
                  <p:cNvSpPr/>
                  <p:nvPr/>
                </p:nvSpPr>
                <p:spPr>
                  <a:xfrm>
                    <a:off x="6157080" y="3693960"/>
                    <a:ext cx="248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6198840" y="3695760"/>
                    <a:ext cx="2376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4" name=""/>
                <p:cNvGrpSpPr/>
                <p:nvPr/>
              </p:nvGrpSpPr>
              <p:grpSpPr>
                <a:xfrm>
                  <a:off x="6075360" y="3741480"/>
                  <a:ext cx="228240" cy="168480"/>
                  <a:chOff x="6075360" y="3741480"/>
                  <a:chExt cx="228240" cy="168480"/>
                </a:xfrm>
              </p:grpSpPr>
              <p:sp>
                <p:nvSpPr>
                  <p:cNvPr id="335" name=""/>
                  <p:cNvSpPr/>
                  <p:nvPr/>
                </p:nvSpPr>
                <p:spPr>
                  <a:xfrm>
                    <a:off x="6085080" y="3741480"/>
                    <a:ext cx="218520" cy="16848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 flipV="1">
                    <a:off x="6094800" y="3755520"/>
                    <a:ext cx="196200" cy="128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6094800" y="3755880"/>
                    <a:ext cx="203040" cy="139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75360" y="3751200"/>
                    <a:ext cx="54720" cy="15084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39" name=""/>
              <p:cNvSpPr/>
              <p:nvPr/>
            </p:nvSpPr>
            <p:spPr>
              <a:xfrm>
                <a:off x="6377040" y="3755880"/>
                <a:ext cx="15541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MMG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(a)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                 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IT-3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5791320" y="3948120"/>
              <a:ext cx="2268360" cy="210600"/>
              <a:chOff x="5791320" y="3948120"/>
              <a:chExt cx="2268360" cy="210600"/>
            </a:xfrm>
          </p:grpSpPr>
          <p:sp>
            <p:nvSpPr>
              <p:cNvPr id="341" name=""/>
              <p:cNvSpPr/>
              <p:nvPr/>
            </p:nvSpPr>
            <p:spPr>
              <a:xfrm>
                <a:off x="5791320" y="4071600"/>
                <a:ext cx="318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2" name=""/>
              <p:cNvGrpSpPr/>
              <p:nvPr/>
            </p:nvGrpSpPr>
            <p:grpSpPr>
              <a:xfrm>
                <a:off x="6084720" y="3948120"/>
                <a:ext cx="231840" cy="210600"/>
                <a:chOff x="6084720" y="3948120"/>
                <a:chExt cx="231840" cy="210600"/>
              </a:xfrm>
            </p:grpSpPr>
            <p:grpSp>
              <p:nvGrpSpPr>
                <p:cNvPr id="343" name=""/>
                <p:cNvGrpSpPr/>
                <p:nvPr/>
              </p:nvGrpSpPr>
              <p:grpSpPr>
                <a:xfrm>
                  <a:off x="6084720" y="4001760"/>
                  <a:ext cx="231840" cy="156960"/>
                  <a:chOff x="6084720" y="4001760"/>
                  <a:chExt cx="231840" cy="156960"/>
                </a:xfrm>
              </p:grpSpPr>
              <p:sp>
                <p:nvSpPr>
                  <p:cNvPr id="344" name=""/>
                  <p:cNvSpPr/>
                  <p:nvPr/>
                </p:nvSpPr>
                <p:spPr>
                  <a:xfrm>
                    <a:off x="6084720" y="4001760"/>
                    <a:ext cx="231840" cy="15696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 flipV="1">
                    <a:off x="6084720" y="4004640"/>
                    <a:ext cx="11412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6198840" y="4001760"/>
                    <a:ext cx="114480" cy="153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6144840" y="4080960"/>
                    <a:ext cx="1144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8" name=""/>
                <p:cNvGrpSpPr/>
                <p:nvPr/>
              </p:nvGrpSpPr>
              <p:grpSpPr>
                <a:xfrm>
                  <a:off x="6163920" y="3948120"/>
                  <a:ext cx="74520" cy="28080"/>
                  <a:chOff x="6163920" y="3948120"/>
                  <a:chExt cx="74520" cy="28080"/>
                </a:xfrm>
              </p:grpSpPr>
              <p:sp>
                <p:nvSpPr>
                  <p:cNvPr id="349" name=""/>
                  <p:cNvSpPr/>
                  <p:nvPr/>
                </p:nvSpPr>
                <p:spPr>
                  <a:xfrm>
                    <a:off x="6163920" y="394812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6211440" y="394956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51" name=""/>
              <p:cNvSpPr/>
              <p:nvPr/>
            </p:nvSpPr>
            <p:spPr>
              <a:xfrm>
                <a:off x="6375240" y="4022640"/>
                <a:ext cx="1684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odel 35 Lt AA Gun      IT-2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2" name=""/>
            <p:cNvSpPr/>
            <p:nvPr/>
          </p:nvSpPr>
          <p:spPr>
            <a:xfrm>
              <a:off x="5789520" y="4330800"/>
              <a:ext cx="34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3" name=""/>
            <p:cNvGrpSpPr/>
            <p:nvPr/>
          </p:nvGrpSpPr>
          <p:grpSpPr>
            <a:xfrm>
              <a:off x="6072120" y="4211640"/>
              <a:ext cx="231480" cy="203040"/>
              <a:chOff x="6072120" y="4211640"/>
              <a:chExt cx="231480" cy="203040"/>
            </a:xfrm>
          </p:grpSpPr>
          <p:grpSp>
            <p:nvGrpSpPr>
              <p:cNvPr id="354" name=""/>
              <p:cNvGrpSpPr/>
              <p:nvPr/>
            </p:nvGrpSpPr>
            <p:grpSpPr>
              <a:xfrm>
                <a:off x="6151320" y="4211640"/>
                <a:ext cx="74520" cy="28080"/>
                <a:chOff x="6151320" y="4211640"/>
                <a:chExt cx="74520" cy="2808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6151320" y="421164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6198840" y="421308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6072120" y="4257720"/>
                <a:ext cx="231480" cy="156960"/>
                <a:chOff x="6072120" y="4257720"/>
                <a:chExt cx="231480" cy="15696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6072120" y="4257720"/>
                  <a:ext cx="231480" cy="15696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flipV="1">
                  <a:off x="6187680" y="4260600"/>
                  <a:ext cx="113760" cy="151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6072120" y="4257720"/>
                  <a:ext cx="113760" cy="15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6173280" y="432252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2" name=""/>
            <p:cNvSpPr/>
            <p:nvPr/>
          </p:nvSpPr>
          <p:spPr>
            <a:xfrm>
              <a:off x="6350040" y="4259160"/>
              <a:ext cx="168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2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Model 35 47mm AT        IT-2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784840" y="3586320"/>
              <a:ext cx="318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6078600" y="3451320"/>
              <a:ext cx="228240" cy="215280"/>
              <a:chOff x="6078600" y="3451320"/>
              <a:chExt cx="228240" cy="215280"/>
            </a:xfrm>
          </p:grpSpPr>
          <p:grpSp>
            <p:nvGrpSpPr>
              <p:cNvPr id="365" name=""/>
              <p:cNvGrpSpPr/>
              <p:nvPr/>
            </p:nvGrpSpPr>
            <p:grpSpPr>
              <a:xfrm>
                <a:off x="6160320" y="3451320"/>
                <a:ext cx="65520" cy="28080"/>
                <a:chOff x="6160320" y="3451320"/>
                <a:chExt cx="65520" cy="2808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6160320" y="3451320"/>
                  <a:ext cx="248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6202080" y="3452760"/>
                  <a:ext cx="2376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" name=""/>
              <p:cNvGrpSpPr/>
              <p:nvPr/>
            </p:nvGrpSpPr>
            <p:grpSpPr>
              <a:xfrm>
                <a:off x="6078600" y="3498480"/>
                <a:ext cx="228240" cy="168120"/>
                <a:chOff x="6078600" y="3498480"/>
                <a:chExt cx="228240" cy="16812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6088320" y="3498480"/>
                  <a:ext cx="218520" cy="16812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flipV="1">
                  <a:off x="6098040" y="3512520"/>
                  <a:ext cx="196200" cy="12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6098040" y="3512520"/>
                  <a:ext cx="203040" cy="139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6078600" y="3507840"/>
                  <a:ext cx="54720" cy="1504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73" name=""/>
            <p:cNvSpPr/>
            <p:nvPr/>
          </p:nvSpPr>
          <p:spPr>
            <a:xfrm>
              <a:off x="6386400" y="3522600"/>
              <a:ext cx="1554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3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ucile Mitragliatori (LMG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T-2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5724360" y="4743360"/>
            <a:ext cx="2000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) Or SCWN-I03 or IT-P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714840" y="2409840"/>
            <a:ext cx="107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 IT-P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 IT-P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163440" y="120600"/>
            <a:ext cx="2381040" cy="1908360"/>
            <a:chOff x="163440" y="120600"/>
            <a:chExt cx="2381040" cy="1908360"/>
          </a:xfrm>
        </p:grpSpPr>
        <p:sp>
          <p:nvSpPr>
            <p:cNvPr id="377" name=""/>
            <p:cNvSpPr/>
            <p:nvPr/>
          </p:nvSpPr>
          <p:spPr>
            <a:xfrm>
              <a:off x="571320" y="1355760"/>
              <a:ext cx="0" cy="260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04560" y="1349640"/>
              <a:ext cx="2667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03120" y="990720"/>
              <a:ext cx="318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3120" y="720720"/>
              <a:ext cx="318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04560" y="257400"/>
              <a:ext cx="0" cy="73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49240" y="669960"/>
              <a:ext cx="1684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/13-40 Tank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a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       IT-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49240" y="540000"/>
              <a:ext cx="484200" cy="1220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34600" y="168480"/>
              <a:ext cx="1657440" cy="152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ANEUVER ELEMENT-IT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31720" y="330480"/>
              <a:ext cx="1887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edium Tank Compan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920" y="586080"/>
              <a:ext cx="2700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614160" y="870120"/>
              <a:ext cx="74520" cy="28080"/>
              <a:chOff x="614160" y="870120"/>
              <a:chExt cx="74520" cy="28080"/>
            </a:xfrm>
          </p:grpSpPr>
          <p:sp>
            <p:nvSpPr>
              <p:cNvPr id="388" name=""/>
              <p:cNvSpPr/>
              <p:nvPr/>
            </p:nvSpPr>
            <p:spPr>
              <a:xfrm>
                <a:off x="614160" y="87012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61680" y="87156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" name=""/>
            <p:cNvSpPr/>
            <p:nvPr/>
          </p:nvSpPr>
          <p:spPr>
            <a:xfrm>
              <a:off x="849240" y="924120"/>
              <a:ext cx="1569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6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/13-40 Tank 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a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T-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536400" y="630360"/>
              <a:ext cx="231840" cy="157320"/>
              <a:chOff x="536400" y="630360"/>
              <a:chExt cx="231840" cy="157320"/>
            </a:xfrm>
          </p:grpSpPr>
          <p:sp>
            <p:nvSpPr>
              <p:cNvPr id="392" name=""/>
              <p:cNvSpPr/>
              <p:nvPr/>
            </p:nvSpPr>
            <p:spPr>
              <a:xfrm>
                <a:off x="536400" y="630360"/>
                <a:ext cx="231840" cy="15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78880" y="669600"/>
                <a:ext cx="148680" cy="748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163440" y="120600"/>
              <a:ext cx="284040" cy="262080"/>
              <a:chOff x="163440" y="120600"/>
              <a:chExt cx="284040" cy="262080"/>
            </a:xfrm>
          </p:grpSpPr>
          <p:sp>
            <p:nvSpPr>
              <p:cNvPr id="395" name=""/>
              <p:cNvSpPr/>
              <p:nvPr/>
            </p:nvSpPr>
            <p:spPr>
              <a:xfrm>
                <a:off x="306000" y="120600"/>
                <a:ext cx="0" cy="63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6" name=""/>
              <p:cNvGrpSpPr/>
              <p:nvPr/>
            </p:nvGrpSpPr>
            <p:grpSpPr>
              <a:xfrm>
                <a:off x="163440" y="189000"/>
                <a:ext cx="284040" cy="193680"/>
                <a:chOff x="163440" y="189000"/>
                <a:chExt cx="284040" cy="19368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163440" y="189000"/>
                  <a:ext cx="284040" cy="19368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215280" y="237240"/>
                  <a:ext cx="182160" cy="925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9" name=""/>
            <p:cNvGrpSpPr/>
            <p:nvPr/>
          </p:nvGrpSpPr>
          <p:grpSpPr>
            <a:xfrm>
              <a:off x="534600" y="912960"/>
              <a:ext cx="231840" cy="156960"/>
              <a:chOff x="534600" y="912960"/>
              <a:chExt cx="231840" cy="156960"/>
            </a:xfrm>
          </p:grpSpPr>
          <p:sp>
            <p:nvSpPr>
              <p:cNvPr id="400" name=""/>
              <p:cNvSpPr/>
              <p:nvPr/>
            </p:nvSpPr>
            <p:spPr>
              <a:xfrm>
                <a:off x="534600" y="912960"/>
                <a:ext cx="231840" cy="1569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77080" y="952200"/>
                <a:ext cx="148680" cy="748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2" name=""/>
            <p:cNvSpPr/>
            <p:nvPr/>
          </p:nvSpPr>
          <p:spPr>
            <a:xfrm>
              <a:off x="336240" y="1770120"/>
              <a:ext cx="220824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) May substitute IT-04 M/11-39, IT-06 M/14-41, or IT-P01 M/15-42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49240" y="1096920"/>
              <a:ext cx="582480" cy="1220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ttach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4" name=""/>
            <p:cNvGrpSpPr/>
            <p:nvPr/>
          </p:nvGrpSpPr>
          <p:grpSpPr>
            <a:xfrm>
              <a:off x="536400" y="1478160"/>
              <a:ext cx="231840" cy="236520"/>
              <a:chOff x="536400" y="1478160"/>
              <a:chExt cx="231840" cy="236520"/>
            </a:xfrm>
          </p:grpSpPr>
          <p:grpSp>
            <p:nvGrpSpPr>
              <p:cNvPr id="405" name=""/>
              <p:cNvGrpSpPr/>
              <p:nvPr/>
            </p:nvGrpSpPr>
            <p:grpSpPr>
              <a:xfrm>
                <a:off x="536400" y="1524240"/>
                <a:ext cx="231840" cy="190440"/>
                <a:chOff x="536400" y="1524240"/>
                <a:chExt cx="231840" cy="19044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536400" y="1524240"/>
                  <a:ext cx="231840" cy="15696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547560" y="168768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728640" y="168768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615960" y="1478160"/>
                <a:ext cx="74520" cy="28080"/>
                <a:chOff x="615960" y="1478160"/>
                <a:chExt cx="74520" cy="2808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615960" y="147816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663480" y="147960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2" name=""/>
            <p:cNvGrpSpPr/>
            <p:nvPr/>
          </p:nvGrpSpPr>
          <p:grpSpPr>
            <a:xfrm>
              <a:off x="526680" y="1220760"/>
              <a:ext cx="231840" cy="210960"/>
              <a:chOff x="526680" y="1220760"/>
              <a:chExt cx="231840" cy="210960"/>
            </a:xfrm>
          </p:grpSpPr>
          <p:grpSp>
            <p:nvGrpSpPr>
              <p:cNvPr id="413" name=""/>
              <p:cNvGrpSpPr/>
              <p:nvPr/>
            </p:nvGrpSpPr>
            <p:grpSpPr>
              <a:xfrm>
                <a:off x="526680" y="1274760"/>
                <a:ext cx="231840" cy="156960"/>
                <a:chOff x="526680" y="1274760"/>
                <a:chExt cx="231840" cy="15696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526680" y="1274760"/>
                  <a:ext cx="231840" cy="15696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 flipV="1">
                  <a:off x="526680" y="1277640"/>
                  <a:ext cx="11412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640800" y="1274760"/>
                  <a:ext cx="114480" cy="15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586800" y="1353960"/>
                  <a:ext cx="114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605880" y="1220760"/>
                <a:ext cx="74520" cy="28800"/>
                <a:chOff x="605880" y="1220760"/>
                <a:chExt cx="74520" cy="2880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605880" y="122076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653400" y="122256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1" name=""/>
            <p:cNvSpPr/>
            <p:nvPr/>
          </p:nvSpPr>
          <p:spPr>
            <a:xfrm>
              <a:off x="849240" y="1295640"/>
              <a:ext cx="1684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odel 35 Lt AA Gun     IT-2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49240" y="1548000"/>
              <a:ext cx="1684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Fiat AS 37                      IT-1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49240" y="1416240"/>
              <a:ext cx="582480" cy="1220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nsport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04560" y="968400"/>
              <a:ext cx="0" cy="3733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127080" y="2117880"/>
            <a:ext cx="2378160" cy="949320"/>
            <a:chOff x="127080" y="2117880"/>
            <a:chExt cx="2378160" cy="949320"/>
          </a:xfrm>
        </p:grpSpPr>
        <p:sp>
          <p:nvSpPr>
            <p:cNvPr id="426" name=""/>
            <p:cNvSpPr/>
            <p:nvPr/>
          </p:nvSpPr>
          <p:spPr>
            <a:xfrm>
              <a:off x="820800" y="2652840"/>
              <a:ext cx="168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arro Armato L6/40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T-0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7" name=""/>
            <p:cNvGrpSpPr/>
            <p:nvPr/>
          </p:nvGrpSpPr>
          <p:grpSpPr>
            <a:xfrm>
              <a:off x="127080" y="2117880"/>
              <a:ext cx="2255760" cy="949320"/>
              <a:chOff x="127080" y="2117880"/>
              <a:chExt cx="2255760" cy="949320"/>
            </a:xfrm>
          </p:grpSpPr>
          <p:sp>
            <p:nvSpPr>
              <p:cNvPr id="428" name=""/>
              <p:cNvSpPr/>
              <p:nvPr/>
            </p:nvSpPr>
            <p:spPr>
              <a:xfrm>
                <a:off x="266760" y="2987640"/>
                <a:ext cx="318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66760" y="2718000"/>
                <a:ext cx="318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68200" y="2254320"/>
                <a:ext cx="0" cy="731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812880" y="2536920"/>
                <a:ext cx="484200" cy="1220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98240" y="2165400"/>
                <a:ext cx="1657440" cy="1526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ANEUVER ELEMENT-IT09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95360" y="2327400"/>
                <a:ext cx="1887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rmored Cavalry Compan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01560" y="258300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5" name=""/>
              <p:cNvGrpSpPr/>
              <p:nvPr/>
            </p:nvGrpSpPr>
            <p:grpSpPr>
              <a:xfrm>
                <a:off x="577800" y="2867040"/>
                <a:ext cx="74520" cy="28080"/>
                <a:chOff x="577800" y="2867040"/>
                <a:chExt cx="74520" cy="2808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577800" y="286704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625320" y="286848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8" name=""/>
              <p:cNvSpPr/>
              <p:nvPr/>
            </p:nvSpPr>
            <p:spPr>
              <a:xfrm>
                <a:off x="812880" y="2921040"/>
                <a:ext cx="15699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9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Carro Armato L6/40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T-0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9" name=""/>
              <p:cNvGrpSpPr/>
              <p:nvPr/>
            </p:nvGrpSpPr>
            <p:grpSpPr>
              <a:xfrm>
                <a:off x="500040" y="2627280"/>
                <a:ext cx="231840" cy="157320"/>
                <a:chOff x="500040" y="2627280"/>
                <a:chExt cx="231840" cy="15732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500040" y="2627280"/>
                  <a:ext cx="231840" cy="15732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542520" y="2666520"/>
                  <a:ext cx="148680" cy="7488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2" name=""/>
              <p:cNvGrpSpPr/>
              <p:nvPr/>
            </p:nvGrpSpPr>
            <p:grpSpPr>
              <a:xfrm>
                <a:off x="498240" y="2909880"/>
                <a:ext cx="231840" cy="157320"/>
                <a:chOff x="498240" y="2909880"/>
                <a:chExt cx="231840" cy="15732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498240" y="2909880"/>
                  <a:ext cx="231840" cy="15732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540720" y="2949120"/>
                  <a:ext cx="148680" cy="7488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5" name=""/>
              <p:cNvGrpSpPr/>
              <p:nvPr/>
            </p:nvGrpSpPr>
            <p:grpSpPr>
              <a:xfrm>
                <a:off x="127080" y="2117880"/>
                <a:ext cx="284040" cy="261360"/>
                <a:chOff x="127080" y="2117880"/>
                <a:chExt cx="284040" cy="261360"/>
              </a:xfrm>
            </p:grpSpPr>
            <p:grpSp>
              <p:nvGrpSpPr>
                <p:cNvPr id="446" name=""/>
                <p:cNvGrpSpPr/>
                <p:nvPr/>
              </p:nvGrpSpPr>
              <p:grpSpPr>
                <a:xfrm>
                  <a:off x="127080" y="2117880"/>
                  <a:ext cx="284040" cy="261360"/>
                  <a:chOff x="127080" y="2117880"/>
                  <a:chExt cx="284040" cy="261360"/>
                </a:xfrm>
              </p:grpSpPr>
              <p:sp>
                <p:nvSpPr>
                  <p:cNvPr id="447" name=""/>
                  <p:cNvSpPr/>
                  <p:nvPr/>
                </p:nvSpPr>
                <p:spPr>
                  <a:xfrm>
                    <a:off x="269640" y="211788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48" name=""/>
                  <p:cNvGrpSpPr/>
                  <p:nvPr/>
                </p:nvGrpSpPr>
                <p:grpSpPr>
                  <a:xfrm>
                    <a:off x="127080" y="2185920"/>
                    <a:ext cx="284040" cy="193320"/>
                    <a:chOff x="127080" y="2185920"/>
                    <a:chExt cx="284040" cy="193320"/>
                  </a:xfrm>
                </p:grpSpPr>
                <p:sp>
                  <p:nvSpPr>
                    <p:cNvPr id="449" name=""/>
                    <p:cNvSpPr/>
                    <p:nvPr/>
                  </p:nvSpPr>
                  <p:spPr>
                    <a:xfrm>
                      <a:off x="127080" y="2185920"/>
                      <a:ext cx="284040" cy="193320"/>
                    </a:xfrm>
                    <a:prstGeom prst="rect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0" name=""/>
                    <p:cNvSpPr/>
                    <p:nvPr/>
                  </p:nvSpPr>
                  <p:spPr>
                    <a:xfrm>
                      <a:off x="178920" y="2234160"/>
                      <a:ext cx="182160" cy="9216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8720" bIns="18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51" name=""/>
                <p:cNvSpPr/>
                <p:nvPr/>
              </p:nvSpPr>
              <p:spPr>
                <a:xfrm flipH="1">
                  <a:off x="127080" y="2193840"/>
                  <a:ext cx="279360" cy="179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52" name=""/>
          <p:cNvSpPr/>
          <p:nvPr/>
        </p:nvSpPr>
        <p:spPr>
          <a:xfrm>
            <a:off x="5715000" y="1062000"/>
            <a:ext cx="318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715000" y="792000"/>
            <a:ext cx="318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716440" y="328680"/>
            <a:ext cx="0" cy="731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261120" y="741240"/>
            <a:ext cx="1684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Auto Blinda 40/41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-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261120" y="611280"/>
            <a:ext cx="484200" cy="122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946480" y="239760"/>
            <a:ext cx="1657440" cy="152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EUVER ELEMENT-IT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943600" y="401760"/>
            <a:ext cx="188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Armored Car Squadr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261120" y="995400"/>
            <a:ext cx="1569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6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Auto Blinda 40/41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-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5937120" y="657360"/>
            <a:ext cx="239760" cy="245160"/>
            <a:chOff x="5937120" y="657360"/>
            <a:chExt cx="239760" cy="245160"/>
          </a:xfrm>
        </p:grpSpPr>
        <p:sp>
          <p:nvSpPr>
            <p:cNvPr id="461" name=""/>
            <p:cNvSpPr/>
            <p:nvPr/>
          </p:nvSpPr>
          <p:spPr>
            <a:xfrm>
              <a:off x="6049800" y="657360"/>
              <a:ext cx="2700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2" name=""/>
            <p:cNvGrpSpPr/>
            <p:nvPr/>
          </p:nvGrpSpPr>
          <p:grpSpPr>
            <a:xfrm>
              <a:off x="5937120" y="704520"/>
              <a:ext cx="239760" cy="198000"/>
              <a:chOff x="5937120" y="704520"/>
              <a:chExt cx="239760" cy="198000"/>
            </a:xfrm>
          </p:grpSpPr>
          <p:grpSp>
            <p:nvGrpSpPr>
              <p:cNvPr id="463" name=""/>
              <p:cNvGrpSpPr/>
              <p:nvPr/>
            </p:nvGrpSpPr>
            <p:grpSpPr>
              <a:xfrm>
                <a:off x="5937120" y="704520"/>
                <a:ext cx="239760" cy="156960"/>
                <a:chOff x="5937120" y="704520"/>
                <a:chExt cx="239760" cy="156960"/>
              </a:xfrm>
            </p:grpSpPr>
            <p:grpSp>
              <p:nvGrpSpPr>
                <p:cNvPr id="464" name=""/>
                <p:cNvGrpSpPr/>
                <p:nvPr/>
              </p:nvGrpSpPr>
              <p:grpSpPr>
                <a:xfrm>
                  <a:off x="5937120" y="704880"/>
                  <a:ext cx="239760" cy="156600"/>
                  <a:chOff x="5937120" y="704880"/>
                  <a:chExt cx="239760" cy="156600"/>
                </a:xfrm>
              </p:grpSpPr>
              <p:sp>
                <p:nvSpPr>
                  <p:cNvPr id="465" name=""/>
                  <p:cNvSpPr/>
                  <p:nvPr/>
                </p:nvSpPr>
                <p:spPr>
                  <a:xfrm>
                    <a:off x="5937120" y="704880"/>
                    <a:ext cx="239760" cy="15660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5981040" y="744120"/>
                    <a:ext cx="151560" cy="7452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7" name=""/>
                <p:cNvSpPr/>
                <p:nvPr/>
              </p:nvSpPr>
              <p:spPr>
                <a:xfrm flipV="1">
                  <a:off x="5937120" y="704520"/>
                  <a:ext cx="236160" cy="156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8" name=""/>
              <p:cNvSpPr/>
              <p:nvPr/>
            </p:nvSpPr>
            <p:spPr>
              <a:xfrm>
                <a:off x="5948280" y="87588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129360" y="87588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0" name=""/>
          <p:cNvGrpSpPr/>
          <p:nvPr/>
        </p:nvGrpSpPr>
        <p:grpSpPr>
          <a:xfrm>
            <a:off x="5560920" y="192240"/>
            <a:ext cx="301320" cy="311760"/>
            <a:chOff x="5560920" y="192240"/>
            <a:chExt cx="301320" cy="311760"/>
          </a:xfrm>
        </p:grpSpPr>
        <p:sp>
          <p:nvSpPr>
            <p:cNvPr id="471" name=""/>
            <p:cNvSpPr/>
            <p:nvPr/>
          </p:nvSpPr>
          <p:spPr>
            <a:xfrm>
              <a:off x="5718240" y="19224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2" name=""/>
            <p:cNvGrpSpPr/>
            <p:nvPr/>
          </p:nvGrpSpPr>
          <p:grpSpPr>
            <a:xfrm>
              <a:off x="5560920" y="253800"/>
              <a:ext cx="301320" cy="250200"/>
              <a:chOff x="5560920" y="253800"/>
              <a:chExt cx="301320" cy="250200"/>
            </a:xfrm>
          </p:grpSpPr>
          <p:grpSp>
            <p:nvGrpSpPr>
              <p:cNvPr id="473" name=""/>
              <p:cNvGrpSpPr/>
              <p:nvPr/>
            </p:nvGrpSpPr>
            <p:grpSpPr>
              <a:xfrm>
                <a:off x="5560920" y="253800"/>
                <a:ext cx="301320" cy="198000"/>
                <a:chOff x="5560920" y="253800"/>
                <a:chExt cx="301320" cy="198000"/>
              </a:xfrm>
            </p:grpSpPr>
            <p:grpSp>
              <p:nvGrpSpPr>
                <p:cNvPr id="474" name=""/>
                <p:cNvGrpSpPr/>
                <p:nvPr/>
              </p:nvGrpSpPr>
              <p:grpSpPr>
                <a:xfrm>
                  <a:off x="5560920" y="253800"/>
                  <a:ext cx="301320" cy="198000"/>
                  <a:chOff x="5560920" y="253800"/>
                  <a:chExt cx="301320" cy="198000"/>
                </a:xfrm>
              </p:grpSpPr>
              <p:sp>
                <p:nvSpPr>
                  <p:cNvPr id="475" name=""/>
                  <p:cNvSpPr/>
                  <p:nvPr/>
                </p:nvSpPr>
                <p:spPr>
                  <a:xfrm>
                    <a:off x="5560920" y="253800"/>
                    <a:ext cx="301320" cy="19800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5616000" y="303120"/>
                    <a:ext cx="190440" cy="9432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160" bIns="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7" name=""/>
                <p:cNvSpPr/>
                <p:nvPr/>
              </p:nvSpPr>
              <p:spPr>
                <a:xfrm flipV="1">
                  <a:off x="5560920" y="253800"/>
                  <a:ext cx="296640" cy="19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8" name=""/>
              <p:cNvSpPr/>
              <p:nvPr/>
            </p:nvSpPr>
            <p:spPr>
              <a:xfrm>
                <a:off x="5574600" y="470160"/>
                <a:ext cx="33840" cy="33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802480" y="470160"/>
                <a:ext cx="35640" cy="33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0" name=""/>
          <p:cNvGrpSpPr/>
          <p:nvPr/>
        </p:nvGrpSpPr>
        <p:grpSpPr>
          <a:xfrm>
            <a:off x="5943600" y="917640"/>
            <a:ext cx="239760" cy="242640"/>
            <a:chOff x="5943600" y="917640"/>
            <a:chExt cx="239760" cy="242640"/>
          </a:xfrm>
        </p:grpSpPr>
        <p:grpSp>
          <p:nvGrpSpPr>
            <p:cNvPr id="481" name=""/>
            <p:cNvGrpSpPr/>
            <p:nvPr/>
          </p:nvGrpSpPr>
          <p:grpSpPr>
            <a:xfrm>
              <a:off x="6026040" y="917640"/>
              <a:ext cx="74520" cy="28080"/>
              <a:chOff x="6026040" y="917640"/>
              <a:chExt cx="74520" cy="28080"/>
            </a:xfrm>
          </p:grpSpPr>
          <p:sp>
            <p:nvSpPr>
              <p:cNvPr id="482" name=""/>
              <p:cNvSpPr/>
              <p:nvPr/>
            </p:nvSpPr>
            <p:spPr>
              <a:xfrm>
                <a:off x="6026040" y="91764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3560" y="91908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4" name=""/>
            <p:cNvGrpSpPr/>
            <p:nvPr/>
          </p:nvGrpSpPr>
          <p:grpSpPr>
            <a:xfrm>
              <a:off x="5943600" y="961920"/>
              <a:ext cx="239760" cy="198360"/>
              <a:chOff x="5943600" y="961920"/>
              <a:chExt cx="239760" cy="198360"/>
            </a:xfrm>
          </p:grpSpPr>
          <p:grpSp>
            <p:nvGrpSpPr>
              <p:cNvPr id="485" name=""/>
              <p:cNvGrpSpPr/>
              <p:nvPr/>
            </p:nvGrpSpPr>
            <p:grpSpPr>
              <a:xfrm>
                <a:off x="5943600" y="961920"/>
                <a:ext cx="239760" cy="156960"/>
                <a:chOff x="5943600" y="961920"/>
                <a:chExt cx="239760" cy="156960"/>
              </a:xfrm>
            </p:grpSpPr>
            <p:grpSp>
              <p:nvGrpSpPr>
                <p:cNvPr id="486" name=""/>
                <p:cNvGrpSpPr/>
                <p:nvPr/>
              </p:nvGrpSpPr>
              <p:grpSpPr>
                <a:xfrm>
                  <a:off x="5943600" y="961920"/>
                  <a:ext cx="239760" cy="156960"/>
                  <a:chOff x="5943600" y="961920"/>
                  <a:chExt cx="239760" cy="156960"/>
                </a:xfrm>
              </p:grpSpPr>
              <p:sp>
                <p:nvSpPr>
                  <p:cNvPr id="487" name=""/>
                  <p:cNvSpPr/>
                  <p:nvPr/>
                </p:nvSpPr>
                <p:spPr>
                  <a:xfrm>
                    <a:off x="5943600" y="961920"/>
                    <a:ext cx="239760" cy="15696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>
                    <a:off x="5987520" y="1001160"/>
                    <a:ext cx="151560" cy="748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9" name=""/>
                <p:cNvSpPr/>
                <p:nvPr/>
              </p:nvSpPr>
              <p:spPr>
                <a:xfrm flipV="1">
                  <a:off x="5943600" y="961920"/>
                  <a:ext cx="236160" cy="156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0" name=""/>
              <p:cNvSpPr/>
              <p:nvPr/>
            </p:nvSpPr>
            <p:spPr>
              <a:xfrm>
                <a:off x="5954760" y="113328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135840" y="113328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2" name=""/>
          <p:cNvGrpSpPr/>
          <p:nvPr/>
        </p:nvGrpSpPr>
        <p:grpSpPr>
          <a:xfrm>
            <a:off x="2673360" y="160200"/>
            <a:ext cx="2835360" cy="1641600"/>
            <a:chOff x="2673360" y="160200"/>
            <a:chExt cx="2835360" cy="1641600"/>
          </a:xfrm>
        </p:grpSpPr>
        <p:sp>
          <p:nvSpPr>
            <p:cNvPr id="493" name=""/>
            <p:cNvSpPr/>
            <p:nvPr/>
          </p:nvSpPr>
          <p:spPr>
            <a:xfrm>
              <a:off x="2814840" y="1388880"/>
              <a:ext cx="2667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813040" y="1030320"/>
              <a:ext cx="31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813040" y="760320"/>
              <a:ext cx="31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814840" y="297000"/>
              <a:ext cx="0" cy="73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359160" y="709560"/>
              <a:ext cx="168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arro Armato L/35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a)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 IT-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359160" y="579600"/>
              <a:ext cx="484200" cy="1220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044880" y="208080"/>
              <a:ext cx="1657440" cy="152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ANEUVER ELEMENT-IT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1640" y="369720"/>
              <a:ext cx="1887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ight Tank Compan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148200" y="62532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2" name=""/>
            <p:cNvGrpSpPr/>
            <p:nvPr/>
          </p:nvGrpSpPr>
          <p:grpSpPr>
            <a:xfrm>
              <a:off x="3124440" y="909720"/>
              <a:ext cx="74520" cy="28080"/>
              <a:chOff x="3124440" y="909720"/>
              <a:chExt cx="74520" cy="28080"/>
            </a:xfrm>
          </p:grpSpPr>
          <p:sp>
            <p:nvSpPr>
              <p:cNvPr id="503" name=""/>
              <p:cNvSpPr/>
              <p:nvPr/>
            </p:nvSpPr>
            <p:spPr>
              <a:xfrm>
                <a:off x="3124440" y="90972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171960" y="91116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5" name=""/>
            <p:cNvSpPr/>
            <p:nvPr/>
          </p:nvSpPr>
          <p:spPr>
            <a:xfrm>
              <a:off x="3359160" y="963720"/>
              <a:ext cx="1730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5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arro Armato L/35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a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I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-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6" name=""/>
            <p:cNvGrpSpPr/>
            <p:nvPr/>
          </p:nvGrpSpPr>
          <p:grpSpPr>
            <a:xfrm>
              <a:off x="3046680" y="669960"/>
              <a:ext cx="231480" cy="156960"/>
              <a:chOff x="3046680" y="669960"/>
              <a:chExt cx="231480" cy="156960"/>
            </a:xfrm>
          </p:grpSpPr>
          <p:sp>
            <p:nvSpPr>
              <p:cNvPr id="507" name=""/>
              <p:cNvSpPr/>
              <p:nvPr/>
            </p:nvSpPr>
            <p:spPr>
              <a:xfrm>
                <a:off x="3046680" y="669960"/>
                <a:ext cx="231480" cy="1569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089160" y="709200"/>
                <a:ext cx="148320" cy="748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9" name=""/>
            <p:cNvGrpSpPr/>
            <p:nvPr/>
          </p:nvGrpSpPr>
          <p:grpSpPr>
            <a:xfrm>
              <a:off x="2673360" y="160200"/>
              <a:ext cx="284040" cy="262080"/>
              <a:chOff x="2673360" y="160200"/>
              <a:chExt cx="284040" cy="262080"/>
            </a:xfrm>
          </p:grpSpPr>
          <p:sp>
            <p:nvSpPr>
              <p:cNvPr id="510" name=""/>
              <p:cNvSpPr/>
              <p:nvPr/>
            </p:nvSpPr>
            <p:spPr>
              <a:xfrm>
                <a:off x="2815920" y="160200"/>
                <a:ext cx="0" cy="63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1" name=""/>
              <p:cNvGrpSpPr/>
              <p:nvPr/>
            </p:nvGrpSpPr>
            <p:grpSpPr>
              <a:xfrm>
                <a:off x="2673360" y="228600"/>
                <a:ext cx="284040" cy="193680"/>
                <a:chOff x="2673360" y="228600"/>
                <a:chExt cx="284040" cy="193680"/>
              </a:xfrm>
            </p:grpSpPr>
            <p:sp>
              <p:nvSpPr>
                <p:cNvPr id="512" name=""/>
                <p:cNvSpPr/>
                <p:nvPr/>
              </p:nvSpPr>
              <p:spPr>
                <a:xfrm>
                  <a:off x="2673360" y="228600"/>
                  <a:ext cx="284040" cy="19368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2725200" y="276840"/>
                  <a:ext cx="182160" cy="925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14" name=""/>
            <p:cNvGrpSpPr/>
            <p:nvPr/>
          </p:nvGrpSpPr>
          <p:grpSpPr>
            <a:xfrm>
              <a:off x="3044880" y="952560"/>
              <a:ext cx="231840" cy="156960"/>
              <a:chOff x="3044880" y="952560"/>
              <a:chExt cx="231840" cy="156960"/>
            </a:xfrm>
          </p:grpSpPr>
          <p:sp>
            <p:nvSpPr>
              <p:cNvPr id="515" name=""/>
              <p:cNvSpPr/>
              <p:nvPr/>
            </p:nvSpPr>
            <p:spPr>
              <a:xfrm>
                <a:off x="3044880" y="952560"/>
                <a:ext cx="231840" cy="1569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087360" y="991800"/>
                <a:ext cx="148680" cy="748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7" name=""/>
            <p:cNvSpPr/>
            <p:nvPr/>
          </p:nvSpPr>
          <p:spPr>
            <a:xfrm>
              <a:off x="2786040" y="1542960"/>
              <a:ext cx="220824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) May substitute IT-03 Carro Armato L6/40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359160" y="1136520"/>
              <a:ext cx="582840" cy="1220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ttach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9" name=""/>
            <p:cNvGrpSpPr/>
            <p:nvPr/>
          </p:nvGrpSpPr>
          <p:grpSpPr>
            <a:xfrm>
              <a:off x="3116520" y="1260360"/>
              <a:ext cx="74520" cy="28800"/>
              <a:chOff x="3116520" y="1260360"/>
              <a:chExt cx="74520" cy="28800"/>
            </a:xfrm>
          </p:grpSpPr>
          <p:sp>
            <p:nvSpPr>
              <p:cNvPr id="520" name=""/>
              <p:cNvSpPr/>
              <p:nvPr/>
            </p:nvSpPr>
            <p:spPr>
              <a:xfrm>
                <a:off x="3116520" y="126036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3164040" y="126216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2" name=""/>
            <p:cNvSpPr/>
            <p:nvPr/>
          </p:nvSpPr>
          <p:spPr>
            <a:xfrm>
              <a:off x="3359160" y="1335240"/>
              <a:ext cx="2149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2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rro Armato L/33-33 Lanciafiamme IT-0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814840" y="1008000"/>
              <a:ext cx="0" cy="3729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4" name=""/>
            <p:cNvGrpSpPr/>
            <p:nvPr/>
          </p:nvGrpSpPr>
          <p:grpSpPr>
            <a:xfrm>
              <a:off x="3027600" y="1312920"/>
              <a:ext cx="239760" cy="156960"/>
              <a:chOff x="3027600" y="1312920"/>
              <a:chExt cx="239760" cy="156960"/>
            </a:xfrm>
          </p:grpSpPr>
          <p:sp>
            <p:nvSpPr>
              <p:cNvPr id="525" name=""/>
              <p:cNvSpPr/>
              <p:nvPr/>
            </p:nvSpPr>
            <p:spPr>
              <a:xfrm>
                <a:off x="3027600" y="1312920"/>
                <a:ext cx="239760" cy="1569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064320" y="1352520"/>
                <a:ext cx="169920" cy="745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3150000" y="1388880"/>
                <a:ext cx="0" cy="74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V="1">
                <a:off x="3150000" y="1320480"/>
                <a:ext cx="47520" cy="5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H="1" flipV="1">
                <a:off x="3110400" y="1320480"/>
                <a:ext cx="39600" cy="5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0" name=""/>
          <p:cNvGrpSpPr/>
          <p:nvPr/>
        </p:nvGrpSpPr>
        <p:grpSpPr>
          <a:xfrm>
            <a:off x="2657520" y="2138400"/>
            <a:ext cx="2376360" cy="900000"/>
            <a:chOff x="2657520" y="2138400"/>
            <a:chExt cx="2376360" cy="900000"/>
          </a:xfrm>
        </p:grpSpPr>
        <p:sp>
          <p:nvSpPr>
            <p:cNvPr id="531" name=""/>
            <p:cNvSpPr/>
            <p:nvPr/>
          </p:nvSpPr>
          <p:spPr>
            <a:xfrm>
              <a:off x="2803680" y="2981160"/>
              <a:ext cx="318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803680" y="2711520"/>
              <a:ext cx="318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805120" y="2247840"/>
              <a:ext cx="0" cy="73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349440" y="2660760"/>
              <a:ext cx="168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arro Commando M13/40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T-0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349440" y="2530440"/>
              <a:ext cx="484200" cy="1220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035160" y="2158920"/>
              <a:ext cx="1657440" cy="152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ANEUVER ELEMENT-IT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032280" y="2320920"/>
              <a:ext cx="1887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emoventi Battal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349440" y="2914560"/>
              <a:ext cx="1652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4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emoventi da 75/18 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T-0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138480" y="257652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0" name=""/>
            <p:cNvGrpSpPr/>
            <p:nvPr/>
          </p:nvGrpSpPr>
          <p:grpSpPr>
            <a:xfrm>
              <a:off x="3114720" y="2836800"/>
              <a:ext cx="74520" cy="28800"/>
              <a:chOff x="3114720" y="2836800"/>
              <a:chExt cx="74520" cy="28800"/>
            </a:xfrm>
          </p:grpSpPr>
          <p:sp>
            <p:nvSpPr>
              <p:cNvPr id="541" name=""/>
              <p:cNvSpPr/>
              <p:nvPr/>
            </p:nvSpPr>
            <p:spPr>
              <a:xfrm>
                <a:off x="3114720" y="283680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162240" y="283860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3030480" y="2881440"/>
              <a:ext cx="239760" cy="156960"/>
              <a:chOff x="3030480" y="2881440"/>
              <a:chExt cx="239760" cy="156960"/>
            </a:xfrm>
          </p:grpSpPr>
          <p:sp>
            <p:nvSpPr>
              <p:cNvPr id="544" name=""/>
              <p:cNvSpPr/>
              <p:nvPr/>
            </p:nvSpPr>
            <p:spPr>
              <a:xfrm>
                <a:off x="3030480" y="2881440"/>
                <a:ext cx="239760" cy="1569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3071880" y="2921040"/>
                <a:ext cx="154080" cy="741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3133800" y="294156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7" name=""/>
            <p:cNvGrpSpPr/>
            <p:nvPr/>
          </p:nvGrpSpPr>
          <p:grpSpPr>
            <a:xfrm>
              <a:off x="3035160" y="2631960"/>
              <a:ext cx="237960" cy="156960"/>
              <a:chOff x="3035160" y="2631960"/>
              <a:chExt cx="237960" cy="156960"/>
            </a:xfrm>
          </p:grpSpPr>
          <p:sp>
            <p:nvSpPr>
              <p:cNvPr id="548" name=""/>
              <p:cNvSpPr/>
              <p:nvPr/>
            </p:nvSpPr>
            <p:spPr>
              <a:xfrm>
                <a:off x="3035160" y="2631960"/>
                <a:ext cx="237960" cy="1569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3055680" y="2649240"/>
                <a:ext cx="196920" cy="1224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0" name=""/>
            <p:cNvGrpSpPr/>
            <p:nvPr/>
          </p:nvGrpSpPr>
          <p:grpSpPr>
            <a:xfrm>
              <a:off x="2657520" y="2138400"/>
              <a:ext cx="291600" cy="250200"/>
              <a:chOff x="2657520" y="2138400"/>
              <a:chExt cx="291600" cy="250200"/>
            </a:xfrm>
          </p:grpSpPr>
          <p:grpSp>
            <p:nvGrpSpPr>
              <p:cNvPr id="551" name=""/>
              <p:cNvGrpSpPr/>
              <p:nvPr/>
            </p:nvGrpSpPr>
            <p:grpSpPr>
              <a:xfrm>
                <a:off x="2657520" y="2198520"/>
                <a:ext cx="291600" cy="190080"/>
                <a:chOff x="2657520" y="2198520"/>
                <a:chExt cx="291600" cy="19008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2657520" y="2198520"/>
                  <a:ext cx="291600" cy="19008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2707920" y="2246760"/>
                  <a:ext cx="187560" cy="9000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2783160" y="2271600"/>
                  <a:ext cx="34560" cy="324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5" name=""/>
              <p:cNvGrpSpPr/>
              <p:nvPr/>
            </p:nvGrpSpPr>
            <p:grpSpPr>
              <a:xfrm>
                <a:off x="2765520" y="2138400"/>
                <a:ext cx="75960" cy="63360"/>
                <a:chOff x="2765520" y="2138400"/>
                <a:chExt cx="75960" cy="63360"/>
              </a:xfrm>
            </p:grpSpPr>
            <p:sp>
              <p:nvSpPr>
                <p:cNvPr id="556" name=""/>
                <p:cNvSpPr/>
                <p:nvPr/>
              </p:nvSpPr>
              <p:spPr>
                <a:xfrm>
                  <a:off x="2765520" y="213840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2841480" y="213840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"/>
          <p:cNvGrpSpPr/>
          <p:nvPr/>
        </p:nvGrpSpPr>
        <p:grpSpPr>
          <a:xfrm>
            <a:off x="2719440" y="217440"/>
            <a:ext cx="2380320" cy="1650240"/>
            <a:chOff x="2719440" y="217440"/>
            <a:chExt cx="2380320" cy="1650240"/>
          </a:xfrm>
        </p:grpSpPr>
        <p:sp>
          <p:nvSpPr>
            <p:cNvPr id="559" name=""/>
            <p:cNvSpPr/>
            <p:nvPr/>
          </p:nvSpPr>
          <p:spPr>
            <a:xfrm>
              <a:off x="2923920" y="387360"/>
              <a:ext cx="0" cy="82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185640" y="223920"/>
              <a:ext cx="1657440" cy="152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ANEUVER ELEMENT-IT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182760" y="385920"/>
              <a:ext cx="1887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eavy AA Compan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19440" y="1623960"/>
              <a:ext cx="2253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) May substitute Autocannoni Lancia 3RO      (IT-10) with no trans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2923920" y="1074600"/>
              <a:ext cx="2145600" cy="537840"/>
              <a:chOff x="2923920" y="1074600"/>
              <a:chExt cx="2145600" cy="537840"/>
            </a:xfrm>
          </p:grpSpPr>
          <p:sp>
            <p:nvSpPr>
              <p:cNvPr id="564" name=""/>
              <p:cNvSpPr/>
              <p:nvPr/>
            </p:nvSpPr>
            <p:spPr>
              <a:xfrm>
                <a:off x="2923920" y="1215720"/>
                <a:ext cx="250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3107880" y="1201680"/>
                <a:ext cx="0" cy="255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385440" y="1452240"/>
                <a:ext cx="1684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4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Fiat TL 37                      IT-19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363480" y="1296720"/>
                <a:ext cx="468000" cy="1220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ransport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8" name=""/>
              <p:cNvGrpSpPr/>
              <p:nvPr/>
            </p:nvGrpSpPr>
            <p:grpSpPr>
              <a:xfrm>
                <a:off x="3074400" y="1371240"/>
                <a:ext cx="231480" cy="241200"/>
                <a:chOff x="3074400" y="1371240"/>
                <a:chExt cx="231480" cy="241200"/>
              </a:xfrm>
            </p:grpSpPr>
            <p:grpSp>
              <p:nvGrpSpPr>
                <p:cNvPr id="569" name=""/>
                <p:cNvGrpSpPr/>
                <p:nvPr/>
              </p:nvGrpSpPr>
              <p:grpSpPr>
                <a:xfrm>
                  <a:off x="3153240" y="1371240"/>
                  <a:ext cx="74520" cy="28080"/>
                  <a:chOff x="3153240" y="1371240"/>
                  <a:chExt cx="74520" cy="28080"/>
                </a:xfrm>
              </p:grpSpPr>
              <p:sp>
                <p:nvSpPr>
                  <p:cNvPr id="570" name=""/>
                  <p:cNvSpPr/>
                  <p:nvPr/>
                </p:nvSpPr>
                <p:spPr>
                  <a:xfrm>
                    <a:off x="3153240" y="137124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>
                    <a:off x="3200760" y="137268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2" name=""/>
                <p:cNvGrpSpPr/>
                <p:nvPr/>
              </p:nvGrpSpPr>
              <p:grpSpPr>
                <a:xfrm>
                  <a:off x="3074400" y="1422000"/>
                  <a:ext cx="231480" cy="190440"/>
                  <a:chOff x="3074400" y="1422000"/>
                  <a:chExt cx="231480" cy="190440"/>
                </a:xfrm>
              </p:grpSpPr>
              <p:sp>
                <p:nvSpPr>
                  <p:cNvPr id="573" name=""/>
                  <p:cNvSpPr/>
                  <p:nvPr/>
                </p:nvSpPr>
                <p:spPr>
                  <a:xfrm>
                    <a:off x="3074400" y="1422000"/>
                    <a:ext cx="231480" cy="15696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>
                    <a:off x="3085200" y="1585440"/>
                    <a:ext cx="26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>
                    <a:off x="3266280" y="1585440"/>
                    <a:ext cx="2808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76" name=""/>
              <p:cNvGrpSpPr/>
              <p:nvPr/>
            </p:nvGrpSpPr>
            <p:grpSpPr>
              <a:xfrm>
                <a:off x="3087000" y="1074600"/>
                <a:ext cx="231480" cy="210600"/>
                <a:chOff x="3087000" y="1074600"/>
                <a:chExt cx="231480" cy="210600"/>
              </a:xfrm>
            </p:grpSpPr>
            <p:grpSp>
              <p:nvGrpSpPr>
                <p:cNvPr id="577" name=""/>
                <p:cNvGrpSpPr/>
                <p:nvPr/>
              </p:nvGrpSpPr>
              <p:grpSpPr>
                <a:xfrm>
                  <a:off x="3087000" y="1128240"/>
                  <a:ext cx="231480" cy="156960"/>
                  <a:chOff x="3087000" y="1128240"/>
                  <a:chExt cx="231480" cy="156960"/>
                </a:xfrm>
              </p:grpSpPr>
              <p:sp>
                <p:nvSpPr>
                  <p:cNvPr id="578" name=""/>
                  <p:cNvSpPr/>
                  <p:nvPr/>
                </p:nvSpPr>
                <p:spPr>
                  <a:xfrm>
                    <a:off x="3087000" y="1128240"/>
                    <a:ext cx="231480" cy="15696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 flipV="1">
                    <a:off x="3087000" y="1131120"/>
                    <a:ext cx="11376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>
                    <a:off x="3200760" y="1128240"/>
                    <a:ext cx="114120" cy="153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>
                    <a:off x="3146760" y="1207440"/>
                    <a:ext cx="114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82" name=""/>
                <p:cNvGrpSpPr/>
                <p:nvPr/>
              </p:nvGrpSpPr>
              <p:grpSpPr>
                <a:xfrm>
                  <a:off x="3165840" y="1074600"/>
                  <a:ext cx="74520" cy="28080"/>
                  <a:chOff x="3165840" y="1074600"/>
                  <a:chExt cx="74520" cy="28080"/>
                </a:xfrm>
              </p:grpSpPr>
              <p:sp>
                <p:nvSpPr>
                  <p:cNvPr id="583" name=""/>
                  <p:cNvSpPr/>
                  <p:nvPr/>
                </p:nvSpPr>
                <p:spPr>
                  <a:xfrm>
                    <a:off x="3165840" y="107460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>
                    <a:off x="3213360" y="107604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85" name=""/>
              <p:cNvSpPr/>
              <p:nvPr/>
            </p:nvSpPr>
            <p:spPr>
              <a:xfrm>
                <a:off x="3377520" y="1149120"/>
                <a:ext cx="1684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4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88mm AA 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(a)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              DAK-4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6" name=""/>
            <p:cNvGrpSpPr/>
            <p:nvPr/>
          </p:nvGrpSpPr>
          <p:grpSpPr>
            <a:xfrm>
              <a:off x="2798640" y="217440"/>
              <a:ext cx="283320" cy="253440"/>
              <a:chOff x="2798640" y="217440"/>
              <a:chExt cx="283320" cy="253440"/>
            </a:xfrm>
          </p:grpSpPr>
          <p:grpSp>
            <p:nvGrpSpPr>
              <p:cNvPr id="587" name=""/>
              <p:cNvGrpSpPr/>
              <p:nvPr/>
            </p:nvGrpSpPr>
            <p:grpSpPr>
              <a:xfrm>
                <a:off x="2798640" y="277560"/>
                <a:ext cx="283320" cy="193320"/>
                <a:chOff x="2798640" y="277560"/>
                <a:chExt cx="283320" cy="193320"/>
              </a:xfrm>
            </p:grpSpPr>
            <p:sp>
              <p:nvSpPr>
                <p:cNvPr id="588" name=""/>
                <p:cNvSpPr/>
                <p:nvPr/>
              </p:nvSpPr>
              <p:spPr>
                <a:xfrm>
                  <a:off x="2798640" y="277560"/>
                  <a:ext cx="283320" cy="19332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 flipV="1">
                  <a:off x="2798640" y="281160"/>
                  <a:ext cx="139320" cy="187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2937960" y="277560"/>
                  <a:ext cx="139680" cy="189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2872080" y="375120"/>
                  <a:ext cx="139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2" name=""/>
              <p:cNvSpPr/>
              <p:nvPr/>
            </p:nvSpPr>
            <p:spPr>
              <a:xfrm>
                <a:off x="2941200" y="21744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"/>
            <p:cNvGrpSpPr/>
            <p:nvPr/>
          </p:nvGrpSpPr>
          <p:grpSpPr>
            <a:xfrm>
              <a:off x="2923920" y="523800"/>
              <a:ext cx="2175840" cy="522360"/>
              <a:chOff x="2923920" y="523800"/>
              <a:chExt cx="2175840" cy="522360"/>
            </a:xfrm>
          </p:grpSpPr>
          <p:sp>
            <p:nvSpPr>
              <p:cNvPr id="594" name=""/>
              <p:cNvSpPr/>
              <p:nvPr/>
            </p:nvSpPr>
            <p:spPr>
              <a:xfrm>
                <a:off x="3115800" y="695520"/>
                <a:ext cx="0" cy="237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923920" y="693720"/>
                <a:ext cx="250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6" name=""/>
              <p:cNvGrpSpPr/>
              <p:nvPr/>
            </p:nvGrpSpPr>
            <p:grpSpPr>
              <a:xfrm>
                <a:off x="3080880" y="563400"/>
                <a:ext cx="237600" cy="207720"/>
                <a:chOff x="3080880" y="563400"/>
                <a:chExt cx="237600" cy="207720"/>
              </a:xfrm>
            </p:grpSpPr>
            <p:sp>
              <p:nvSpPr>
                <p:cNvPr id="597" name=""/>
                <p:cNvSpPr/>
                <p:nvPr/>
              </p:nvSpPr>
              <p:spPr>
                <a:xfrm>
                  <a:off x="3080880" y="614160"/>
                  <a:ext cx="237600" cy="15696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 anchorCtr="1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Q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3185280" y="56340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9" name=""/>
              <p:cNvSpPr/>
              <p:nvPr/>
            </p:nvSpPr>
            <p:spPr>
              <a:xfrm>
                <a:off x="3409560" y="523800"/>
                <a:ext cx="483840" cy="1220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and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3415680" y="635040"/>
                <a:ext cx="1684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Commander                   IT-2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399840" y="885960"/>
                <a:ext cx="1684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Fiat 508CM                     IT-1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401280" y="754200"/>
                <a:ext cx="468000" cy="1220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ransport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3" name=""/>
              <p:cNvGrpSpPr/>
              <p:nvPr/>
            </p:nvGrpSpPr>
            <p:grpSpPr>
              <a:xfrm>
                <a:off x="3088800" y="804960"/>
                <a:ext cx="231480" cy="241200"/>
                <a:chOff x="3088800" y="804960"/>
                <a:chExt cx="231480" cy="241200"/>
              </a:xfrm>
            </p:grpSpPr>
            <p:grpSp>
              <p:nvGrpSpPr>
                <p:cNvPr id="604" name=""/>
                <p:cNvGrpSpPr/>
                <p:nvPr/>
              </p:nvGrpSpPr>
              <p:grpSpPr>
                <a:xfrm>
                  <a:off x="3167640" y="804960"/>
                  <a:ext cx="74520" cy="28080"/>
                  <a:chOff x="3167640" y="804960"/>
                  <a:chExt cx="74520" cy="28080"/>
                </a:xfrm>
              </p:grpSpPr>
              <p:sp>
                <p:nvSpPr>
                  <p:cNvPr id="605" name=""/>
                  <p:cNvSpPr/>
                  <p:nvPr/>
                </p:nvSpPr>
                <p:spPr>
                  <a:xfrm>
                    <a:off x="3167640" y="80496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>
                    <a:off x="3215160" y="80640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7" name=""/>
                <p:cNvGrpSpPr/>
                <p:nvPr/>
              </p:nvGrpSpPr>
              <p:grpSpPr>
                <a:xfrm>
                  <a:off x="3088800" y="855720"/>
                  <a:ext cx="231480" cy="190440"/>
                  <a:chOff x="3088800" y="855720"/>
                  <a:chExt cx="231480" cy="190440"/>
                </a:xfrm>
              </p:grpSpPr>
              <p:sp>
                <p:nvSpPr>
                  <p:cNvPr id="608" name=""/>
                  <p:cNvSpPr/>
                  <p:nvPr/>
                </p:nvSpPr>
                <p:spPr>
                  <a:xfrm>
                    <a:off x="3088800" y="855720"/>
                    <a:ext cx="231480" cy="15696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>
                    <a:off x="3099600" y="1019160"/>
                    <a:ext cx="26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>
                    <a:off x="3280680" y="1019160"/>
                    <a:ext cx="2808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611" name=""/>
          <p:cNvSpPr/>
          <p:nvPr/>
        </p:nvSpPr>
        <p:spPr>
          <a:xfrm>
            <a:off x="385920" y="453960"/>
            <a:ext cx="0" cy="74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39720" y="227160"/>
            <a:ext cx="1657440" cy="152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EUVER ELEMENT-IT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36480" y="388800"/>
            <a:ext cx="188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Light AA Company (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73160" y="1706400"/>
            <a:ext cx="2253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) Individual Guns may be used as attachments to other maneuver element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378000" y="1062000"/>
            <a:ext cx="2145600" cy="537840"/>
            <a:chOff x="378000" y="1062000"/>
            <a:chExt cx="2145600" cy="537840"/>
          </a:xfrm>
        </p:grpSpPr>
        <p:sp>
          <p:nvSpPr>
            <p:cNvPr id="616" name=""/>
            <p:cNvSpPr/>
            <p:nvPr/>
          </p:nvSpPr>
          <p:spPr>
            <a:xfrm>
              <a:off x="378000" y="1203120"/>
              <a:ext cx="250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61600" y="1203120"/>
              <a:ext cx="0" cy="255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39520" y="1439640"/>
              <a:ext cx="1684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2-4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Fiat AS 37                  IT-1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17200" y="1284120"/>
              <a:ext cx="468000" cy="1220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nsport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0" name=""/>
            <p:cNvGrpSpPr/>
            <p:nvPr/>
          </p:nvGrpSpPr>
          <p:grpSpPr>
            <a:xfrm>
              <a:off x="528480" y="1358640"/>
              <a:ext cx="231120" cy="241200"/>
              <a:chOff x="528480" y="1358640"/>
              <a:chExt cx="231120" cy="241200"/>
            </a:xfrm>
          </p:grpSpPr>
          <p:grpSp>
            <p:nvGrpSpPr>
              <p:cNvPr id="621" name=""/>
              <p:cNvGrpSpPr/>
              <p:nvPr/>
            </p:nvGrpSpPr>
            <p:grpSpPr>
              <a:xfrm>
                <a:off x="607320" y="1358640"/>
                <a:ext cx="74520" cy="28080"/>
                <a:chOff x="607320" y="1358640"/>
                <a:chExt cx="74520" cy="28080"/>
              </a:xfrm>
            </p:grpSpPr>
            <p:sp>
              <p:nvSpPr>
                <p:cNvPr id="622" name=""/>
                <p:cNvSpPr/>
                <p:nvPr/>
              </p:nvSpPr>
              <p:spPr>
                <a:xfrm>
                  <a:off x="607320" y="135864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654840" y="136008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4" name=""/>
              <p:cNvGrpSpPr/>
              <p:nvPr/>
            </p:nvGrpSpPr>
            <p:grpSpPr>
              <a:xfrm>
                <a:off x="528480" y="1409400"/>
                <a:ext cx="231120" cy="190440"/>
                <a:chOff x="528480" y="1409400"/>
                <a:chExt cx="231120" cy="190440"/>
              </a:xfrm>
            </p:grpSpPr>
            <p:sp>
              <p:nvSpPr>
                <p:cNvPr id="625" name=""/>
                <p:cNvSpPr/>
                <p:nvPr/>
              </p:nvSpPr>
              <p:spPr>
                <a:xfrm>
                  <a:off x="528480" y="1409400"/>
                  <a:ext cx="231120" cy="15696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539280" y="157284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720000" y="1572840"/>
                  <a:ext cx="2808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28" name=""/>
            <p:cNvGrpSpPr/>
            <p:nvPr/>
          </p:nvGrpSpPr>
          <p:grpSpPr>
            <a:xfrm>
              <a:off x="541080" y="1062000"/>
              <a:ext cx="231480" cy="210600"/>
              <a:chOff x="541080" y="1062000"/>
              <a:chExt cx="231480" cy="210600"/>
            </a:xfrm>
          </p:grpSpPr>
          <p:grpSp>
            <p:nvGrpSpPr>
              <p:cNvPr id="629" name=""/>
              <p:cNvGrpSpPr/>
              <p:nvPr/>
            </p:nvGrpSpPr>
            <p:grpSpPr>
              <a:xfrm>
                <a:off x="541080" y="1115640"/>
                <a:ext cx="231480" cy="156960"/>
                <a:chOff x="541080" y="1115640"/>
                <a:chExt cx="231480" cy="15696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541080" y="1115640"/>
                  <a:ext cx="231480" cy="15696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flipV="1">
                  <a:off x="541080" y="1118520"/>
                  <a:ext cx="11376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654840" y="1115640"/>
                  <a:ext cx="114120" cy="15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600840" y="1194840"/>
                  <a:ext cx="114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4" name=""/>
              <p:cNvGrpSpPr/>
              <p:nvPr/>
            </p:nvGrpSpPr>
            <p:grpSpPr>
              <a:xfrm>
                <a:off x="619920" y="1062000"/>
                <a:ext cx="74520" cy="28080"/>
                <a:chOff x="619920" y="1062000"/>
                <a:chExt cx="74520" cy="28080"/>
              </a:xfrm>
            </p:grpSpPr>
            <p:sp>
              <p:nvSpPr>
                <p:cNvPr id="635" name=""/>
                <p:cNvSpPr/>
                <p:nvPr/>
              </p:nvSpPr>
              <p:spPr>
                <a:xfrm>
                  <a:off x="619920" y="106200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667440" y="106344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37" name=""/>
            <p:cNvSpPr/>
            <p:nvPr/>
          </p:nvSpPr>
          <p:spPr>
            <a:xfrm>
              <a:off x="831600" y="1136520"/>
              <a:ext cx="1684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2-4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odel 36 Lt AA Gun  IT-1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252360" y="220680"/>
            <a:ext cx="283680" cy="253440"/>
            <a:chOff x="252360" y="220680"/>
            <a:chExt cx="283680" cy="253440"/>
          </a:xfrm>
        </p:grpSpPr>
        <p:grpSp>
          <p:nvGrpSpPr>
            <p:cNvPr id="639" name=""/>
            <p:cNvGrpSpPr/>
            <p:nvPr/>
          </p:nvGrpSpPr>
          <p:grpSpPr>
            <a:xfrm>
              <a:off x="252360" y="280800"/>
              <a:ext cx="283680" cy="193320"/>
              <a:chOff x="252360" y="280800"/>
              <a:chExt cx="283680" cy="193320"/>
            </a:xfrm>
          </p:grpSpPr>
          <p:sp>
            <p:nvSpPr>
              <p:cNvPr id="640" name=""/>
              <p:cNvSpPr/>
              <p:nvPr/>
            </p:nvSpPr>
            <p:spPr>
              <a:xfrm>
                <a:off x="252360" y="280800"/>
                <a:ext cx="283680" cy="193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V="1">
                <a:off x="252360" y="284400"/>
                <a:ext cx="139680" cy="18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92040" y="280800"/>
                <a:ext cx="140040" cy="18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25800" y="378360"/>
                <a:ext cx="140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4" name=""/>
            <p:cNvSpPr/>
            <p:nvPr/>
          </p:nvSpPr>
          <p:spPr>
            <a:xfrm>
              <a:off x="395280" y="22068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5" name=""/>
          <p:cNvGrpSpPr/>
          <p:nvPr/>
        </p:nvGrpSpPr>
        <p:grpSpPr>
          <a:xfrm>
            <a:off x="387360" y="498600"/>
            <a:ext cx="2176560" cy="520920"/>
            <a:chOff x="387360" y="498600"/>
            <a:chExt cx="2176560" cy="520920"/>
          </a:xfrm>
        </p:grpSpPr>
        <p:sp>
          <p:nvSpPr>
            <p:cNvPr id="646" name=""/>
            <p:cNvSpPr/>
            <p:nvPr/>
          </p:nvSpPr>
          <p:spPr>
            <a:xfrm>
              <a:off x="579600" y="669960"/>
              <a:ext cx="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87360" y="668160"/>
              <a:ext cx="250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8" name=""/>
            <p:cNvGrpSpPr/>
            <p:nvPr/>
          </p:nvGrpSpPr>
          <p:grpSpPr>
            <a:xfrm>
              <a:off x="544680" y="537840"/>
              <a:ext cx="237960" cy="207720"/>
              <a:chOff x="544680" y="537840"/>
              <a:chExt cx="237960" cy="207720"/>
            </a:xfrm>
          </p:grpSpPr>
          <p:sp>
            <p:nvSpPr>
              <p:cNvPr id="649" name=""/>
              <p:cNvSpPr/>
              <p:nvPr/>
            </p:nvSpPr>
            <p:spPr>
              <a:xfrm>
                <a:off x="544680" y="588600"/>
                <a:ext cx="237960" cy="1569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49080" y="53784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1" name=""/>
            <p:cNvSpPr/>
            <p:nvPr/>
          </p:nvSpPr>
          <p:spPr>
            <a:xfrm>
              <a:off x="873360" y="498600"/>
              <a:ext cx="484200" cy="1220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79480" y="609480"/>
              <a:ext cx="168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Commander                   IT-2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63640" y="860400"/>
              <a:ext cx="168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Fiat 508CM                    IT-1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65080" y="728640"/>
              <a:ext cx="468360" cy="1220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nsport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5" name=""/>
            <p:cNvGrpSpPr/>
            <p:nvPr/>
          </p:nvGrpSpPr>
          <p:grpSpPr>
            <a:xfrm>
              <a:off x="552600" y="779400"/>
              <a:ext cx="231840" cy="240120"/>
              <a:chOff x="552600" y="779400"/>
              <a:chExt cx="231840" cy="240120"/>
            </a:xfrm>
          </p:grpSpPr>
          <p:grpSp>
            <p:nvGrpSpPr>
              <p:cNvPr id="656" name=""/>
              <p:cNvGrpSpPr/>
              <p:nvPr/>
            </p:nvGrpSpPr>
            <p:grpSpPr>
              <a:xfrm>
                <a:off x="631800" y="779400"/>
                <a:ext cx="74520" cy="27720"/>
                <a:chOff x="631800" y="779400"/>
                <a:chExt cx="74520" cy="27720"/>
              </a:xfrm>
            </p:grpSpPr>
            <p:sp>
              <p:nvSpPr>
                <p:cNvPr id="657" name=""/>
                <p:cNvSpPr/>
                <p:nvPr/>
              </p:nvSpPr>
              <p:spPr>
                <a:xfrm>
                  <a:off x="631800" y="779400"/>
                  <a:ext cx="28440" cy="26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679320" y="780840"/>
                  <a:ext cx="27000" cy="26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9" name=""/>
              <p:cNvGrpSpPr/>
              <p:nvPr/>
            </p:nvGrpSpPr>
            <p:grpSpPr>
              <a:xfrm>
                <a:off x="552600" y="829800"/>
                <a:ext cx="231840" cy="189720"/>
                <a:chOff x="552600" y="829800"/>
                <a:chExt cx="231840" cy="189720"/>
              </a:xfrm>
            </p:grpSpPr>
            <p:sp>
              <p:nvSpPr>
                <p:cNvPr id="660" name=""/>
                <p:cNvSpPr/>
                <p:nvPr/>
              </p:nvSpPr>
              <p:spPr>
                <a:xfrm>
                  <a:off x="552600" y="829800"/>
                  <a:ext cx="231840" cy="1566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563760" y="99288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744840" y="99288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63" name=""/>
          <p:cNvGrpSpPr/>
          <p:nvPr/>
        </p:nvGrpSpPr>
        <p:grpSpPr>
          <a:xfrm>
            <a:off x="5251320" y="263520"/>
            <a:ext cx="2390400" cy="2886840"/>
            <a:chOff x="5251320" y="263520"/>
            <a:chExt cx="2390400" cy="2886840"/>
          </a:xfrm>
        </p:grpSpPr>
        <p:sp>
          <p:nvSpPr>
            <p:cNvPr id="664" name=""/>
            <p:cNvSpPr/>
            <p:nvPr/>
          </p:nvSpPr>
          <p:spPr>
            <a:xfrm>
              <a:off x="5251320" y="1806480"/>
              <a:ext cx="2254320" cy="134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) Individual Guns may be used as attachments to other maneuver element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) May also use the M19 65mm Inf Gun (IT-21), or the CC 37/45 (SCWN-I02) which was an Italian copy of the 37mm German Pak 35/36 (DAK-36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) Where appropriate, substitute Pack animals (SCWG-P05) for the trucks. The commander will only have motorized transport if the guns d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456160" y="419040"/>
              <a:ext cx="0" cy="851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6" name=""/>
            <p:cNvGrpSpPr/>
            <p:nvPr/>
          </p:nvGrpSpPr>
          <p:grpSpPr>
            <a:xfrm>
              <a:off x="5318280" y="263520"/>
              <a:ext cx="283680" cy="240480"/>
              <a:chOff x="5318280" y="263520"/>
              <a:chExt cx="283680" cy="240480"/>
            </a:xfrm>
          </p:grpSpPr>
          <p:grpSp>
            <p:nvGrpSpPr>
              <p:cNvPr id="667" name=""/>
              <p:cNvGrpSpPr/>
              <p:nvPr/>
            </p:nvGrpSpPr>
            <p:grpSpPr>
              <a:xfrm>
                <a:off x="5394240" y="263520"/>
                <a:ext cx="131040" cy="26640"/>
                <a:chOff x="5394240" y="263520"/>
                <a:chExt cx="131040" cy="26640"/>
              </a:xfrm>
            </p:grpSpPr>
            <p:sp>
              <p:nvSpPr>
                <p:cNvPr id="668" name=""/>
                <p:cNvSpPr/>
                <p:nvPr/>
              </p:nvSpPr>
              <p:spPr>
                <a:xfrm>
                  <a:off x="5394240" y="263520"/>
                  <a:ext cx="266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5444640" y="263520"/>
                  <a:ext cx="2808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5498640" y="263520"/>
                  <a:ext cx="266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1" name=""/>
              <p:cNvGrpSpPr/>
              <p:nvPr/>
            </p:nvGrpSpPr>
            <p:grpSpPr>
              <a:xfrm>
                <a:off x="5318280" y="311040"/>
                <a:ext cx="283680" cy="192960"/>
                <a:chOff x="5318280" y="311040"/>
                <a:chExt cx="283680" cy="192960"/>
              </a:xfrm>
            </p:grpSpPr>
            <p:sp>
              <p:nvSpPr>
                <p:cNvPr id="672" name=""/>
                <p:cNvSpPr/>
                <p:nvPr/>
              </p:nvSpPr>
              <p:spPr>
                <a:xfrm>
                  <a:off x="5318280" y="311040"/>
                  <a:ext cx="283680" cy="19296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 flipV="1">
                  <a:off x="5460120" y="314640"/>
                  <a:ext cx="139680" cy="186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5318280" y="311040"/>
                  <a:ext cx="139680" cy="189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5442480" y="390960"/>
                  <a:ext cx="34920" cy="331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76" name=""/>
            <p:cNvGrpSpPr/>
            <p:nvPr/>
          </p:nvGrpSpPr>
          <p:grpSpPr>
            <a:xfrm>
              <a:off x="5456160" y="1144440"/>
              <a:ext cx="2121120" cy="515880"/>
              <a:chOff x="5456160" y="1144440"/>
              <a:chExt cx="2121120" cy="515880"/>
            </a:xfrm>
          </p:grpSpPr>
          <p:sp>
            <p:nvSpPr>
              <p:cNvPr id="677" name=""/>
              <p:cNvSpPr/>
              <p:nvPr/>
            </p:nvSpPr>
            <p:spPr>
              <a:xfrm>
                <a:off x="5456160" y="1263600"/>
                <a:ext cx="250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640480" y="1257120"/>
                <a:ext cx="0" cy="255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9" name=""/>
              <p:cNvGrpSpPr/>
              <p:nvPr/>
            </p:nvGrpSpPr>
            <p:grpSpPr>
              <a:xfrm>
                <a:off x="5614920" y="1144440"/>
                <a:ext cx="231480" cy="203040"/>
                <a:chOff x="5614920" y="1144440"/>
                <a:chExt cx="231480" cy="203040"/>
              </a:xfrm>
            </p:grpSpPr>
            <p:grpSp>
              <p:nvGrpSpPr>
                <p:cNvPr id="680" name=""/>
                <p:cNvGrpSpPr/>
                <p:nvPr/>
              </p:nvGrpSpPr>
              <p:grpSpPr>
                <a:xfrm>
                  <a:off x="5694120" y="1144440"/>
                  <a:ext cx="74520" cy="28080"/>
                  <a:chOff x="5694120" y="1144440"/>
                  <a:chExt cx="74520" cy="28080"/>
                </a:xfrm>
              </p:grpSpPr>
              <p:sp>
                <p:nvSpPr>
                  <p:cNvPr id="681" name=""/>
                  <p:cNvSpPr/>
                  <p:nvPr/>
                </p:nvSpPr>
                <p:spPr>
                  <a:xfrm>
                    <a:off x="5694120" y="114444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>
                    <a:off x="5741640" y="114588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83" name=""/>
                <p:cNvGrpSpPr/>
                <p:nvPr/>
              </p:nvGrpSpPr>
              <p:grpSpPr>
                <a:xfrm>
                  <a:off x="5614920" y="1190520"/>
                  <a:ext cx="231480" cy="156960"/>
                  <a:chOff x="5614920" y="1190520"/>
                  <a:chExt cx="231480" cy="156960"/>
                </a:xfrm>
              </p:grpSpPr>
              <p:sp>
                <p:nvSpPr>
                  <p:cNvPr id="684" name=""/>
                  <p:cNvSpPr/>
                  <p:nvPr/>
                </p:nvSpPr>
                <p:spPr>
                  <a:xfrm>
                    <a:off x="5614920" y="1190520"/>
                    <a:ext cx="231480" cy="15696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5" name=""/>
                  <p:cNvSpPr/>
                  <p:nvPr/>
                </p:nvSpPr>
                <p:spPr>
                  <a:xfrm flipV="1">
                    <a:off x="5730480" y="1193400"/>
                    <a:ext cx="113760" cy="151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6" name=""/>
                  <p:cNvSpPr/>
                  <p:nvPr/>
                </p:nvSpPr>
                <p:spPr>
                  <a:xfrm>
                    <a:off x="5614920" y="1190520"/>
                    <a:ext cx="113760" cy="153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7" name=""/>
                  <p:cNvSpPr/>
                  <p:nvPr/>
                </p:nvSpPr>
                <p:spPr>
                  <a:xfrm>
                    <a:off x="5716080" y="125532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88" name=""/>
              <p:cNvSpPr/>
              <p:nvPr/>
            </p:nvSpPr>
            <p:spPr>
              <a:xfrm>
                <a:off x="5870520" y="1500120"/>
                <a:ext cx="1684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3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Fiat AS 37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(c)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                 IT-1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848560" y="1344600"/>
                <a:ext cx="468000" cy="1220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ransport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0" name=""/>
              <p:cNvGrpSpPr/>
              <p:nvPr/>
            </p:nvGrpSpPr>
            <p:grpSpPr>
              <a:xfrm>
                <a:off x="5607000" y="1419120"/>
                <a:ext cx="231840" cy="241200"/>
                <a:chOff x="5607000" y="1419120"/>
                <a:chExt cx="231840" cy="241200"/>
              </a:xfrm>
            </p:grpSpPr>
            <p:grpSp>
              <p:nvGrpSpPr>
                <p:cNvPr id="691" name=""/>
                <p:cNvGrpSpPr/>
                <p:nvPr/>
              </p:nvGrpSpPr>
              <p:grpSpPr>
                <a:xfrm>
                  <a:off x="5686200" y="1419120"/>
                  <a:ext cx="74520" cy="28080"/>
                  <a:chOff x="5686200" y="1419120"/>
                  <a:chExt cx="74520" cy="28080"/>
                </a:xfrm>
              </p:grpSpPr>
              <p:sp>
                <p:nvSpPr>
                  <p:cNvPr id="692" name=""/>
                  <p:cNvSpPr/>
                  <p:nvPr/>
                </p:nvSpPr>
                <p:spPr>
                  <a:xfrm>
                    <a:off x="5686200" y="141912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>
                    <a:off x="5733720" y="142056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4" name=""/>
                <p:cNvGrpSpPr/>
                <p:nvPr/>
              </p:nvGrpSpPr>
              <p:grpSpPr>
                <a:xfrm>
                  <a:off x="5607000" y="1469880"/>
                  <a:ext cx="231840" cy="190440"/>
                  <a:chOff x="5607000" y="1469880"/>
                  <a:chExt cx="231840" cy="190440"/>
                </a:xfrm>
              </p:grpSpPr>
              <p:sp>
                <p:nvSpPr>
                  <p:cNvPr id="695" name=""/>
                  <p:cNvSpPr/>
                  <p:nvPr/>
                </p:nvSpPr>
                <p:spPr>
                  <a:xfrm>
                    <a:off x="5607000" y="1469880"/>
                    <a:ext cx="231840" cy="15696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5618160" y="163332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>
                    <a:off x="5799240" y="163332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98" name=""/>
              <p:cNvSpPr/>
              <p:nvPr/>
            </p:nvSpPr>
            <p:spPr>
              <a:xfrm>
                <a:off x="5892840" y="1201680"/>
                <a:ext cx="1684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2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Model 37 47mm AT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(b)  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T-2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9" name=""/>
            <p:cNvSpPr/>
            <p:nvPr/>
          </p:nvSpPr>
          <p:spPr>
            <a:xfrm>
              <a:off x="5717880" y="263520"/>
              <a:ext cx="1657440" cy="152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ANEUVER ELEMENT-IT1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715000" y="425520"/>
              <a:ext cx="1887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nti-tank Platoon (a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1" name=""/>
            <p:cNvGrpSpPr/>
            <p:nvPr/>
          </p:nvGrpSpPr>
          <p:grpSpPr>
            <a:xfrm>
              <a:off x="5465880" y="533520"/>
              <a:ext cx="2175840" cy="520920"/>
              <a:chOff x="5465880" y="533520"/>
              <a:chExt cx="2175840" cy="520920"/>
            </a:xfrm>
          </p:grpSpPr>
          <p:sp>
            <p:nvSpPr>
              <p:cNvPr id="702" name=""/>
              <p:cNvSpPr/>
              <p:nvPr/>
            </p:nvSpPr>
            <p:spPr>
              <a:xfrm>
                <a:off x="5657760" y="704880"/>
                <a:ext cx="0" cy="237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465880" y="703080"/>
                <a:ext cx="250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4" name=""/>
              <p:cNvGrpSpPr/>
              <p:nvPr/>
            </p:nvGrpSpPr>
            <p:grpSpPr>
              <a:xfrm>
                <a:off x="5622840" y="572760"/>
                <a:ext cx="237600" cy="207720"/>
                <a:chOff x="5622840" y="572760"/>
                <a:chExt cx="237600" cy="207720"/>
              </a:xfrm>
            </p:grpSpPr>
            <p:sp>
              <p:nvSpPr>
                <p:cNvPr id="705" name=""/>
                <p:cNvSpPr/>
                <p:nvPr/>
              </p:nvSpPr>
              <p:spPr>
                <a:xfrm>
                  <a:off x="5622840" y="623520"/>
                  <a:ext cx="237600" cy="15696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Q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5727240" y="57276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7" name=""/>
              <p:cNvSpPr/>
              <p:nvPr/>
            </p:nvSpPr>
            <p:spPr>
              <a:xfrm>
                <a:off x="5951520" y="533520"/>
                <a:ext cx="483840" cy="1220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and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5957640" y="644400"/>
                <a:ext cx="1684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Commander                   IT-2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5941800" y="895320"/>
                <a:ext cx="1684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Fiat 508CM                    IT-1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5943240" y="763560"/>
                <a:ext cx="468000" cy="1220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ransport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1" name=""/>
              <p:cNvGrpSpPr/>
              <p:nvPr/>
            </p:nvGrpSpPr>
            <p:grpSpPr>
              <a:xfrm>
                <a:off x="5630760" y="814320"/>
                <a:ext cx="231480" cy="240120"/>
                <a:chOff x="5630760" y="814320"/>
                <a:chExt cx="231480" cy="240120"/>
              </a:xfrm>
            </p:grpSpPr>
            <p:grpSp>
              <p:nvGrpSpPr>
                <p:cNvPr id="712" name=""/>
                <p:cNvGrpSpPr/>
                <p:nvPr/>
              </p:nvGrpSpPr>
              <p:grpSpPr>
                <a:xfrm>
                  <a:off x="5709600" y="814320"/>
                  <a:ext cx="74520" cy="27720"/>
                  <a:chOff x="5709600" y="814320"/>
                  <a:chExt cx="74520" cy="27720"/>
                </a:xfrm>
              </p:grpSpPr>
              <p:sp>
                <p:nvSpPr>
                  <p:cNvPr id="713" name=""/>
                  <p:cNvSpPr/>
                  <p:nvPr/>
                </p:nvSpPr>
                <p:spPr>
                  <a:xfrm>
                    <a:off x="5709600" y="814320"/>
                    <a:ext cx="28440" cy="26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4" name=""/>
                  <p:cNvSpPr/>
                  <p:nvPr/>
                </p:nvSpPr>
                <p:spPr>
                  <a:xfrm>
                    <a:off x="5757120" y="815760"/>
                    <a:ext cx="27000" cy="26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15" name=""/>
                <p:cNvGrpSpPr/>
                <p:nvPr/>
              </p:nvGrpSpPr>
              <p:grpSpPr>
                <a:xfrm>
                  <a:off x="5630760" y="864720"/>
                  <a:ext cx="231480" cy="189720"/>
                  <a:chOff x="5630760" y="864720"/>
                  <a:chExt cx="231480" cy="189720"/>
                </a:xfrm>
              </p:grpSpPr>
              <p:sp>
                <p:nvSpPr>
                  <p:cNvPr id="716" name=""/>
                  <p:cNvSpPr/>
                  <p:nvPr/>
                </p:nvSpPr>
                <p:spPr>
                  <a:xfrm>
                    <a:off x="5630760" y="864720"/>
                    <a:ext cx="231480" cy="15660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7" name=""/>
                  <p:cNvSpPr/>
                  <p:nvPr/>
                </p:nvSpPr>
                <p:spPr>
                  <a:xfrm>
                    <a:off x="5641560" y="1027800"/>
                    <a:ext cx="266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8" name=""/>
                  <p:cNvSpPr/>
                  <p:nvPr/>
                </p:nvSpPr>
                <p:spPr>
                  <a:xfrm>
                    <a:off x="5822640" y="1027800"/>
                    <a:ext cx="2808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719" name=""/>
          <p:cNvSpPr/>
          <p:nvPr/>
        </p:nvSpPr>
        <p:spPr>
          <a:xfrm>
            <a:off x="361800" y="2133720"/>
            <a:ext cx="0" cy="885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52440" y="3029040"/>
            <a:ext cx="32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227160" y="1995480"/>
            <a:ext cx="283680" cy="294840"/>
            <a:chOff x="227160" y="1995480"/>
            <a:chExt cx="283680" cy="294840"/>
          </a:xfrm>
        </p:grpSpPr>
        <p:sp>
          <p:nvSpPr>
            <p:cNvPr id="722" name=""/>
            <p:cNvSpPr/>
            <p:nvPr/>
          </p:nvSpPr>
          <p:spPr>
            <a:xfrm>
              <a:off x="370080" y="199548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3" name=""/>
            <p:cNvGrpSpPr/>
            <p:nvPr/>
          </p:nvGrpSpPr>
          <p:grpSpPr>
            <a:xfrm>
              <a:off x="227160" y="2057400"/>
              <a:ext cx="283680" cy="232920"/>
              <a:chOff x="227160" y="2057400"/>
              <a:chExt cx="283680" cy="232920"/>
            </a:xfrm>
          </p:grpSpPr>
          <p:sp>
            <p:nvSpPr>
              <p:cNvPr id="724" name=""/>
              <p:cNvSpPr/>
              <p:nvPr/>
            </p:nvSpPr>
            <p:spPr>
              <a:xfrm>
                <a:off x="227160" y="2057400"/>
                <a:ext cx="283680" cy="192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V="1">
                <a:off x="227160" y="2057400"/>
                <a:ext cx="281880" cy="19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240840" y="2257560"/>
                <a:ext cx="33120" cy="32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462240" y="2257560"/>
                <a:ext cx="35280" cy="32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8" name=""/>
          <p:cNvGrpSpPr/>
          <p:nvPr/>
        </p:nvGrpSpPr>
        <p:grpSpPr>
          <a:xfrm>
            <a:off x="571680" y="2897280"/>
            <a:ext cx="231480" cy="236160"/>
            <a:chOff x="571680" y="2897280"/>
            <a:chExt cx="231480" cy="236160"/>
          </a:xfrm>
        </p:grpSpPr>
        <p:grpSp>
          <p:nvGrpSpPr>
            <p:cNvPr id="729" name=""/>
            <p:cNvGrpSpPr/>
            <p:nvPr/>
          </p:nvGrpSpPr>
          <p:grpSpPr>
            <a:xfrm>
              <a:off x="650880" y="2897280"/>
              <a:ext cx="73800" cy="28800"/>
              <a:chOff x="650880" y="2897280"/>
              <a:chExt cx="73800" cy="28800"/>
            </a:xfrm>
          </p:grpSpPr>
          <p:sp>
            <p:nvSpPr>
              <p:cNvPr id="730" name=""/>
              <p:cNvSpPr/>
              <p:nvPr/>
            </p:nvSpPr>
            <p:spPr>
              <a:xfrm>
                <a:off x="650880" y="2897280"/>
                <a:ext cx="2808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698040" y="289908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2" name=""/>
            <p:cNvGrpSpPr/>
            <p:nvPr/>
          </p:nvGrpSpPr>
          <p:grpSpPr>
            <a:xfrm>
              <a:off x="571680" y="2943000"/>
              <a:ext cx="231480" cy="190440"/>
              <a:chOff x="571680" y="2943000"/>
              <a:chExt cx="231480" cy="190440"/>
            </a:xfrm>
          </p:grpSpPr>
          <p:sp>
            <p:nvSpPr>
              <p:cNvPr id="733" name=""/>
              <p:cNvSpPr/>
              <p:nvPr/>
            </p:nvSpPr>
            <p:spPr>
              <a:xfrm>
                <a:off x="571680" y="2943360"/>
                <a:ext cx="231480" cy="1569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V="1">
                <a:off x="571680" y="2943000"/>
                <a:ext cx="230040" cy="15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82840" y="310680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63560" y="3106800"/>
                <a:ext cx="288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37" name=""/>
          <p:cNvSpPr/>
          <p:nvPr/>
        </p:nvSpPr>
        <p:spPr>
          <a:xfrm>
            <a:off x="620640" y="1990800"/>
            <a:ext cx="1657440" cy="152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EUVER ELEMENT-IT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27120" y="2143080"/>
            <a:ext cx="188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Compagnie Arditi Camionettisti (a,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860040" y="2968560"/>
            <a:ext cx="1503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hariana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cd)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IT-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836640" y="2844720"/>
            <a:ext cx="294840" cy="122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90440" y="3267000"/>
            <a:ext cx="303840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) Literally "Jeep Scouting Company". These units had 24 vehicles in 3 platoons of 8 + a command element. Using a 1/2 vehicle ratio seems correct for recon element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) Using a truck represents the command and control elements of the company. You can substitute a Sahariana IT-12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) Use a mix of differently armed Sahariana (IT-12,13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) Sahariana crews may dismount as LMG recon units (IT-29)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e) The company can split into 3 independent maneuver element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98320" y="2476440"/>
            <a:ext cx="0" cy="238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49200" y="2475000"/>
            <a:ext cx="250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563400" y="2344680"/>
            <a:ext cx="238320" cy="207720"/>
            <a:chOff x="563400" y="2344680"/>
            <a:chExt cx="238320" cy="207720"/>
          </a:xfrm>
        </p:grpSpPr>
        <p:sp>
          <p:nvSpPr>
            <p:cNvPr id="745" name=""/>
            <p:cNvSpPr/>
            <p:nvPr/>
          </p:nvSpPr>
          <p:spPr>
            <a:xfrm>
              <a:off x="563400" y="2395440"/>
              <a:ext cx="238320" cy="1569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68160" y="234468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7" name=""/>
          <p:cNvSpPr/>
          <p:nvPr/>
        </p:nvSpPr>
        <p:spPr>
          <a:xfrm>
            <a:off x="892080" y="2305080"/>
            <a:ext cx="1208160" cy="122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/Rec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898560" y="2416320"/>
            <a:ext cx="1684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Commander                   IT-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882720" y="2666880"/>
            <a:ext cx="1684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TL37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IT-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884160" y="2535120"/>
            <a:ext cx="468360" cy="122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por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1" name=""/>
          <p:cNvGrpSpPr/>
          <p:nvPr/>
        </p:nvGrpSpPr>
        <p:grpSpPr>
          <a:xfrm>
            <a:off x="571680" y="2585880"/>
            <a:ext cx="231480" cy="241200"/>
            <a:chOff x="571680" y="2585880"/>
            <a:chExt cx="231480" cy="241200"/>
          </a:xfrm>
        </p:grpSpPr>
        <p:grpSp>
          <p:nvGrpSpPr>
            <p:cNvPr id="752" name=""/>
            <p:cNvGrpSpPr/>
            <p:nvPr/>
          </p:nvGrpSpPr>
          <p:grpSpPr>
            <a:xfrm>
              <a:off x="650520" y="2585880"/>
              <a:ext cx="74520" cy="28080"/>
              <a:chOff x="650520" y="2585880"/>
              <a:chExt cx="74520" cy="28080"/>
            </a:xfrm>
          </p:grpSpPr>
          <p:sp>
            <p:nvSpPr>
              <p:cNvPr id="753" name=""/>
              <p:cNvSpPr/>
              <p:nvPr/>
            </p:nvSpPr>
            <p:spPr>
              <a:xfrm>
                <a:off x="650520" y="258588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698040" y="258732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5" name=""/>
            <p:cNvGrpSpPr/>
            <p:nvPr/>
          </p:nvGrpSpPr>
          <p:grpSpPr>
            <a:xfrm>
              <a:off x="571680" y="2636640"/>
              <a:ext cx="231480" cy="190440"/>
              <a:chOff x="571680" y="2636640"/>
              <a:chExt cx="231480" cy="190440"/>
            </a:xfrm>
          </p:grpSpPr>
          <p:sp>
            <p:nvSpPr>
              <p:cNvPr id="756" name=""/>
              <p:cNvSpPr/>
              <p:nvPr/>
            </p:nvSpPr>
            <p:spPr>
              <a:xfrm>
                <a:off x="571680" y="2636640"/>
                <a:ext cx="231480" cy="1569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82480" y="280008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763560" y="2800080"/>
                <a:ext cx="2808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59" name=""/>
          <p:cNvGrpSpPr/>
          <p:nvPr/>
        </p:nvGrpSpPr>
        <p:grpSpPr>
          <a:xfrm>
            <a:off x="322200" y="4619520"/>
            <a:ext cx="2287800" cy="847440"/>
            <a:chOff x="322200" y="4619520"/>
            <a:chExt cx="2287800" cy="847440"/>
          </a:xfrm>
        </p:grpSpPr>
        <p:sp>
          <p:nvSpPr>
            <p:cNvPr id="760" name=""/>
            <p:cNvSpPr/>
            <p:nvPr/>
          </p:nvSpPr>
          <p:spPr>
            <a:xfrm>
              <a:off x="457200" y="4829040"/>
              <a:ext cx="0" cy="530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47840" y="5362560"/>
              <a:ext cx="32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2" name=""/>
            <p:cNvGrpSpPr/>
            <p:nvPr/>
          </p:nvGrpSpPr>
          <p:grpSpPr>
            <a:xfrm>
              <a:off x="666720" y="5230800"/>
              <a:ext cx="231480" cy="236160"/>
              <a:chOff x="666720" y="5230800"/>
              <a:chExt cx="231480" cy="236160"/>
            </a:xfrm>
          </p:grpSpPr>
          <p:grpSp>
            <p:nvGrpSpPr>
              <p:cNvPr id="763" name=""/>
              <p:cNvGrpSpPr/>
              <p:nvPr/>
            </p:nvGrpSpPr>
            <p:grpSpPr>
              <a:xfrm>
                <a:off x="746280" y="5230800"/>
                <a:ext cx="74520" cy="28800"/>
                <a:chOff x="746280" y="5230800"/>
                <a:chExt cx="74520" cy="28800"/>
              </a:xfrm>
            </p:grpSpPr>
            <p:sp>
              <p:nvSpPr>
                <p:cNvPr id="764" name=""/>
                <p:cNvSpPr/>
                <p:nvPr/>
              </p:nvSpPr>
              <p:spPr>
                <a:xfrm>
                  <a:off x="746280" y="523080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793800" y="523260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6" name=""/>
              <p:cNvGrpSpPr/>
              <p:nvPr/>
            </p:nvGrpSpPr>
            <p:grpSpPr>
              <a:xfrm>
                <a:off x="666720" y="5276520"/>
                <a:ext cx="231480" cy="190440"/>
                <a:chOff x="666720" y="5276520"/>
                <a:chExt cx="231480" cy="190440"/>
              </a:xfrm>
            </p:grpSpPr>
            <p:sp>
              <p:nvSpPr>
                <p:cNvPr id="767" name=""/>
                <p:cNvSpPr/>
                <p:nvPr/>
              </p:nvSpPr>
              <p:spPr>
                <a:xfrm>
                  <a:off x="666720" y="5276880"/>
                  <a:ext cx="231480" cy="15696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 flipV="1">
                  <a:off x="666720" y="5276520"/>
                  <a:ext cx="230040" cy="155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677880" y="544032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858600" y="5440320"/>
                  <a:ext cx="288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71" name=""/>
            <p:cNvSpPr/>
            <p:nvPr/>
          </p:nvSpPr>
          <p:spPr>
            <a:xfrm>
              <a:off x="715680" y="4619520"/>
              <a:ext cx="1727280" cy="152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ANEUVER ELEMENT-IT14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22160" y="4772160"/>
              <a:ext cx="1887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ahariana Recon Plato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980640" y="5302080"/>
              <a:ext cx="1094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3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hariana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(c)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T-1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979560" y="5178600"/>
              <a:ext cx="294840" cy="1220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c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979560" y="4933800"/>
              <a:ext cx="1208160" cy="1220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/Reco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6" name=""/>
            <p:cNvGrpSpPr/>
            <p:nvPr/>
          </p:nvGrpSpPr>
          <p:grpSpPr>
            <a:xfrm>
              <a:off x="322200" y="4638600"/>
              <a:ext cx="274320" cy="272880"/>
              <a:chOff x="322200" y="4638600"/>
              <a:chExt cx="274320" cy="272880"/>
            </a:xfrm>
          </p:grpSpPr>
          <p:grpSp>
            <p:nvGrpSpPr>
              <p:cNvPr id="777" name=""/>
              <p:cNvGrpSpPr/>
              <p:nvPr/>
            </p:nvGrpSpPr>
            <p:grpSpPr>
              <a:xfrm>
                <a:off x="322200" y="4686120"/>
                <a:ext cx="274320" cy="225360"/>
                <a:chOff x="322200" y="4686120"/>
                <a:chExt cx="274320" cy="225360"/>
              </a:xfrm>
            </p:grpSpPr>
            <p:sp>
              <p:nvSpPr>
                <p:cNvPr id="778" name=""/>
                <p:cNvSpPr/>
                <p:nvPr/>
              </p:nvSpPr>
              <p:spPr>
                <a:xfrm>
                  <a:off x="322200" y="4686120"/>
                  <a:ext cx="274320" cy="18576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 flipV="1">
                  <a:off x="322200" y="4686120"/>
                  <a:ext cx="272880" cy="183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335160" y="4879800"/>
                  <a:ext cx="31680" cy="316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549720" y="4879800"/>
                  <a:ext cx="33840" cy="316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2" name=""/>
              <p:cNvGrpSpPr/>
              <p:nvPr/>
            </p:nvGrpSpPr>
            <p:grpSpPr>
              <a:xfrm>
                <a:off x="393840" y="4638600"/>
                <a:ext cx="131760" cy="27000"/>
                <a:chOff x="393840" y="4638600"/>
                <a:chExt cx="131760" cy="27000"/>
              </a:xfrm>
            </p:grpSpPr>
            <p:sp>
              <p:nvSpPr>
                <p:cNvPr id="783" name=""/>
                <p:cNvSpPr/>
                <p:nvPr/>
              </p:nvSpPr>
              <p:spPr>
                <a:xfrm>
                  <a:off x="393840" y="463860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444600" y="463860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498600" y="463860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86" name=""/>
            <p:cNvSpPr/>
            <p:nvPr/>
          </p:nvSpPr>
          <p:spPr>
            <a:xfrm>
              <a:off x="466560" y="5114880"/>
              <a:ext cx="32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"/>
            <p:cNvGrpSpPr/>
            <p:nvPr/>
          </p:nvGrpSpPr>
          <p:grpSpPr>
            <a:xfrm>
              <a:off x="666720" y="4983120"/>
              <a:ext cx="231480" cy="236160"/>
              <a:chOff x="666720" y="4983120"/>
              <a:chExt cx="231480" cy="236160"/>
            </a:xfrm>
          </p:grpSpPr>
          <p:grpSp>
            <p:nvGrpSpPr>
              <p:cNvPr id="788" name=""/>
              <p:cNvGrpSpPr/>
              <p:nvPr/>
            </p:nvGrpSpPr>
            <p:grpSpPr>
              <a:xfrm>
                <a:off x="746280" y="4983120"/>
                <a:ext cx="74520" cy="28800"/>
                <a:chOff x="746280" y="4983120"/>
                <a:chExt cx="74520" cy="28800"/>
              </a:xfrm>
            </p:grpSpPr>
            <p:sp>
              <p:nvSpPr>
                <p:cNvPr id="789" name=""/>
                <p:cNvSpPr/>
                <p:nvPr/>
              </p:nvSpPr>
              <p:spPr>
                <a:xfrm>
                  <a:off x="746280" y="498312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793800" y="498492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1" name=""/>
              <p:cNvGrpSpPr/>
              <p:nvPr/>
            </p:nvGrpSpPr>
            <p:grpSpPr>
              <a:xfrm>
                <a:off x="666720" y="5028840"/>
                <a:ext cx="231480" cy="190440"/>
                <a:chOff x="666720" y="5028840"/>
                <a:chExt cx="231480" cy="190440"/>
              </a:xfrm>
            </p:grpSpPr>
            <p:sp>
              <p:nvSpPr>
                <p:cNvPr id="792" name=""/>
                <p:cNvSpPr/>
                <p:nvPr/>
              </p:nvSpPr>
              <p:spPr>
                <a:xfrm>
                  <a:off x="666720" y="5029200"/>
                  <a:ext cx="231480" cy="15696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 flipV="1">
                  <a:off x="666720" y="5028840"/>
                  <a:ext cx="230040" cy="155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677880" y="519264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858600" y="5192640"/>
                  <a:ext cx="288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96" name=""/>
            <p:cNvSpPr/>
            <p:nvPr/>
          </p:nvSpPr>
          <p:spPr>
            <a:xfrm>
              <a:off x="979560" y="5054760"/>
              <a:ext cx="1116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hariana         IT-1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/>
          <p:nvPr/>
        </p:nvSpPr>
        <p:spPr>
          <a:xfrm>
            <a:off x="419040" y="495360"/>
            <a:ext cx="0" cy="876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19040" y="1362240"/>
            <a:ext cx="362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19040" y="961920"/>
            <a:ext cx="34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0" name=""/>
          <p:cNvGrpSpPr/>
          <p:nvPr/>
        </p:nvGrpSpPr>
        <p:grpSpPr>
          <a:xfrm>
            <a:off x="233280" y="276120"/>
            <a:ext cx="365040" cy="308160"/>
            <a:chOff x="233280" y="276120"/>
            <a:chExt cx="365040" cy="308160"/>
          </a:xfrm>
        </p:grpSpPr>
        <p:grpSp>
          <p:nvGrpSpPr>
            <p:cNvPr id="801" name=""/>
            <p:cNvGrpSpPr/>
            <p:nvPr/>
          </p:nvGrpSpPr>
          <p:grpSpPr>
            <a:xfrm>
              <a:off x="349200" y="276120"/>
              <a:ext cx="131760" cy="63720"/>
              <a:chOff x="349200" y="276120"/>
              <a:chExt cx="131760" cy="63720"/>
            </a:xfrm>
          </p:grpSpPr>
          <p:sp>
            <p:nvSpPr>
              <p:cNvPr id="802" name=""/>
              <p:cNvSpPr/>
              <p:nvPr/>
            </p:nvSpPr>
            <p:spPr>
              <a:xfrm>
                <a:off x="415800" y="276120"/>
                <a:ext cx="0" cy="63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3" name=""/>
              <p:cNvGrpSpPr/>
              <p:nvPr/>
            </p:nvGrpSpPr>
            <p:grpSpPr>
              <a:xfrm>
                <a:off x="349200" y="276120"/>
                <a:ext cx="131760" cy="63720"/>
                <a:chOff x="349200" y="276120"/>
                <a:chExt cx="131760" cy="63720"/>
              </a:xfrm>
            </p:grpSpPr>
            <p:sp>
              <p:nvSpPr>
                <p:cNvPr id="804" name=""/>
                <p:cNvSpPr/>
                <p:nvPr/>
              </p:nvSpPr>
              <p:spPr>
                <a:xfrm>
                  <a:off x="349200" y="276120"/>
                  <a:ext cx="0" cy="637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480960" y="276120"/>
                  <a:ext cx="0" cy="637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06" name=""/>
            <p:cNvGrpSpPr/>
            <p:nvPr/>
          </p:nvGrpSpPr>
          <p:grpSpPr>
            <a:xfrm>
              <a:off x="233280" y="344520"/>
              <a:ext cx="365040" cy="239760"/>
              <a:chOff x="233280" y="344520"/>
              <a:chExt cx="365040" cy="239760"/>
            </a:xfrm>
          </p:grpSpPr>
          <p:sp>
            <p:nvSpPr>
              <p:cNvPr id="807" name=""/>
              <p:cNvSpPr/>
              <p:nvPr/>
            </p:nvSpPr>
            <p:spPr>
              <a:xfrm>
                <a:off x="233280" y="344520"/>
                <a:ext cx="365040" cy="2397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388800" y="436680"/>
                <a:ext cx="55440" cy="55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09" name=""/>
          <p:cNvSpPr/>
          <p:nvPr/>
        </p:nvSpPr>
        <p:spPr>
          <a:xfrm>
            <a:off x="723960" y="257040"/>
            <a:ext cx="20001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llery Regiment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antry, Semi Motorised Infantry, Blackshirts, Alpin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0" name=""/>
          <p:cNvGrpSpPr/>
          <p:nvPr/>
        </p:nvGrpSpPr>
        <p:grpSpPr>
          <a:xfrm>
            <a:off x="700200" y="1176480"/>
            <a:ext cx="365040" cy="293400"/>
            <a:chOff x="700200" y="1176480"/>
            <a:chExt cx="365040" cy="293400"/>
          </a:xfrm>
        </p:grpSpPr>
        <p:grpSp>
          <p:nvGrpSpPr>
            <p:cNvPr id="811" name=""/>
            <p:cNvGrpSpPr/>
            <p:nvPr/>
          </p:nvGrpSpPr>
          <p:grpSpPr>
            <a:xfrm>
              <a:off x="844920" y="1176480"/>
              <a:ext cx="75960" cy="63360"/>
              <a:chOff x="844920" y="1176480"/>
              <a:chExt cx="75960" cy="63360"/>
            </a:xfrm>
          </p:grpSpPr>
          <p:sp>
            <p:nvSpPr>
              <p:cNvPr id="812" name=""/>
              <p:cNvSpPr/>
              <p:nvPr/>
            </p:nvSpPr>
            <p:spPr>
              <a:xfrm>
                <a:off x="844920" y="117648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920880" y="117648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4" name=""/>
            <p:cNvGrpSpPr/>
            <p:nvPr/>
          </p:nvGrpSpPr>
          <p:grpSpPr>
            <a:xfrm>
              <a:off x="700200" y="1230480"/>
              <a:ext cx="365040" cy="239400"/>
              <a:chOff x="700200" y="1230480"/>
              <a:chExt cx="365040" cy="239400"/>
            </a:xfrm>
          </p:grpSpPr>
          <p:sp>
            <p:nvSpPr>
              <p:cNvPr id="815" name=""/>
              <p:cNvSpPr/>
              <p:nvPr/>
            </p:nvSpPr>
            <p:spPr>
              <a:xfrm>
                <a:off x="700200" y="1230480"/>
                <a:ext cx="365040" cy="2394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855720" y="1322280"/>
                <a:ext cx="55440" cy="55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17" name=""/>
          <p:cNvSpPr/>
          <p:nvPr/>
        </p:nvSpPr>
        <p:spPr>
          <a:xfrm>
            <a:off x="1152360" y="1279440"/>
            <a:ext cx="2381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 Medium Artillery Battalion FS-IT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690480" y="785880"/>
            <a:ext cx="365040" cy="293400"/>
            <a:chOff x="690480" y="785880"/>
            <a:chExt cx="365040" cy="293400"/>
          </a:xfrm>
        </p:grpSpPr>
        <p:grpSp>
          <p:nvGrpSpPr>
            <p:cNvPr id="819" name=""/>
            <p:cNvGrpSpPr/>
            <p:nvPr/>
          </p:nvGrpSpPr>
          <p:grpSpPr>
            <a:xfrm>
              <a:off x="835200" y="785880"/>
              <a:ext cx="75960" cy="63360"/>
              <a:chOff x="835200" y="785880"/>
              <a:chExt cx="75960" cy="63360"/>
            </a:xfrm>
          </p:grpSpPr>
          <p:sp>
            <p:nvSpPr>
              <p:cNvPr id="820" name=""/>
              <p:cNvSpPr/>
              <p:nvPr/>
            </p:nvSpPr>
            <p:spPr>
              <a:xfrm>
                <a:off x="835200" y="78588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911160" y="78588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2" name=""/>
            <p:cNvGrpSpPr/>
            <p:nvPr/>
          </p:nvGrpSpPr>
          <p:grpSpPr>
            <a:xfrm>
              <a:off x="690480" y="839880"/>
              <a:ext cx="365040" cy="239400"/>
              <a:chOff x="690480" y="839880"/>
              <a:chExt cx="365040" cy="239400"/>
            </a:xfrm>
          </p:grpSpPr>
          <p:sp>
            <p:nvSpPr>
              <p:cNvPr id="823" name=""/>
              <p:cNvSpPr/>
              <p:nvPr/>
            </p:nvSpPr>
            <p:spPr>
              <a:xfrm>
                <a:off x="690480" y="839880"/>
                <a:ext cx="365040" cy="2394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846000" y="931680"/>
                <a:ext cx="55440" cy="55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5" name=""/>
          <p:cNvSpPr/>
          <p:nvPr/>
        </p:nvSpPr>
        <p:spPr>
          <a:xfrm>
            <a:off x="1143000" y="895320"/>
            <a:ext cx="251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2 Light Artillery Battalion      FS-IT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6" name=""/>
          <p:cNvGrpSpPr/>
          <p:nvPr/>
        </p:nvGrpSpPr>
        <p:grpSpPr>
          <a:xfrm>
            <a:off x="252360" y="1633680"/>
            <a:ext cx="2795400" cy="1764720"/>
            <a:chOff x="252360" y="1633680"/>
            <a:chExt cx="2795400" cy="1764720"/>
          </a:xfrm>
        </p:grpSpPr>
        <p:sp>
          <p:nvSpPr>
            <p:cNvPr id="827" name=""/>
            <p:cNvSpPr/>
            <p:nvPr/>
          </p:nvSpPr>
          <p:spPr>
            <a:xfrm>
              <a:off x="438120" y="1809720"/>
              <a:ext cx="0" cy="1409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38120" y="3219480"/>
              <a:ext cx="399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38120" y="2895480"/>
              <a:ext cx="390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38120" y="243828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38120" y="2171520"/>
              <a:ext cx="371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38080" y="2438280"/>
              <a:ext cx="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838080" y="2666880"/>
              <a:ext cx="333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4" name=""/>
            <p:cNvGrpSpPr/>
            <p:nvPr/>
          </p:nvGrpSpPr>
          <p:grpSpPr>
            <a:xfrm>
              <a:off x="725400" y="2038320"/>
              <a:ext cx="231480" cy="204480"/>
              <a:chOff x="725400" y="2038320"/>
              <a:chExt cx="231480" cy="204480"/>
            </a:xfrm>
          </p:grpSpPr>
          <p:sp>
            <p:nvSpPr>
              <p:cNvPr id="835" name=""/>
              <p:cNvSpPr/>
              <p:nvPr/>
            </p:nvSpPr>
            <p:spPr>
              <a:xfrm>
                <a:off x="826920" y="203832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6" name=""/>
              <p:cNvGrpSpPr/>
              <p:nvPr/>
            </p:nvGrpSpPr>
            <p:grpSpPr>
              <a:xfrm>
                <a:off x="725400" y="2085840"/>
                <a:ext cx="231480" cy="156960"/>
                <a:chOff x="725400" y="2085840"/>
                <a:chExt cx="231480" cy="156960"/>
              </a:xfrm>
            </p:grpSpPr>
            <p:sp>
              <p:nvSpPr>
                <p:cNvPr id="837" name=""/>
                <p:cNvSpPr/>
                <p:nvPr/>
              </p:nvSpPr>
              <p:spPr>
                <a:xfrm>
                  <a:off x="725400" y="2085840"/>
                  <a:ext cx="231480" cy="156960"/>
                </a:xfrm>
                <a:prstGeom prst="rect">
                  <a:avLst/>
                </a:prstGeom>
                <a:solidFill>
                  <a:srgbClr val="ffff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807840" y="2136600"/>
                  <a:ext cx="57240" cy="55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39" name=""/>
            <p:cNvGrpSpPr/>
            <p:nvPr/>
          </p:nvGrpSpPr>
          <p:grpSpPr>
            <a:xfrm>
              <a:off x="1052280" y="2535120"/>
              <a:ext cx="239760" cy="204120"/>
              <a:chOff x="1052280" y="2535120"/>
              <a:chExt cx="239760" cy="204120"/>
            </a:xfrm>
          </p:grpSpPr>
          <p:grpSp>
            <p:nvGrpSpPr>
              <p:cNvPr id="840" name=""/>
              <p:cNvGrpSpPr/>
              <p:nvPr/>
            </p:nvGrpSpPr>
            <p:grpSpPr>
              <a:xfrm>
                <a:off x="1134720" y="2535120"/>
                <a:ext cx="74520" cy="28080"/>
                <a:chOff x="1134720" y="2535120"/>
                <a:chExt cx="74520" cy="28080"/>
              </a:xfrm>
            </p:grpSpPr>
            <p:sp>
              <p:nvSpPr>
                <p:cNvPr id="841" name=""/>
                <p:cNvSpPr/>
                <p:nvPr/>
              </p:nvSpPr>
              <p:spPr>
                <a:xfrm>
                  <a:off x="1134720" y="253512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1182240" y="253656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3" name=""/>
              <p:cNvGrpSpPr/>
              <p:nvPr/>
            </p:nvGrpSpPr>
            <p:grpSpPr>
              <a:xfrm>
                <a:off x="1052280" y="2582640"/>
                <a:ext cx="239760" cy="156600"/>
                <a:chOff x="1052280" y="2582640"/>
                <a:chExt cx="239760" cy="156600"/>
              </a:xfrm>
            </p:grpSpPr>
            <p:sp>
              <p:nvSpPr>
                <p:cNvPr id="844" name=""/>
                <p:cNvSpPr/>
                <p:nvPr/>
              </p:nvSpPr>
              <p:spPr>
                <a:xfrm>
                  <a:off x="1052280" y="2582640"/>
                  <a:ext cx="239760" cy="1566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1153800" y="2642400"/>
                  <a:ext cx="3636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6" name=""/>
            <p:cNvGrpSpPr/>
            <p:nvPr/>
          </p:nvGrpSpPr>
          <p:grpSpPr>
            <a:xfrm>
              <a:off x="695160" y="2280960"/>
              <a:ext cx="291960" cy="253440"/>
              <a:chOff x="695160" y="2280960"/>
              <a:chExt cx="291960" cy="253440"/>
            </a:xfrm>
          </p:grpSpPr>
          <p:sp>
            <p:nvSpPr>
              <p:cNvPr id="847" name=""/>
              <p:cNvSpPr/>
              <p:nvPr/>
            </p:nvSpPr>
            <p:spPr>
              <a:xfrm>
                <a:off x="841320" y="228096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8" name=""/>
              <p:cNvGrpSpPr/>
              <p:nvPr/>
            </p:nvGrpSpPr>
            <p:grpSpPr>
              <a:xfrm>
                <a:off x="695160" y="2344320"/>
                <a:ext cx="291960" cy="190080"/>
                <a:chOff x="695160" y="2344320"/>
                <a:chExt cx="291960" cy="190080"/>
              </a:xfrm>
            </p:grpSpPr>
            <p:sp>
              <p:nvSpPr>
                <p:cNvPr id="849" name=""/>
                <p:cNvSpPr/>
                <p:nvPr/>
              </p:nvSpPr>
              <p:spPr>
                <a:xfrm>
                  <a:off x="695160" y="2344320"/>
                  <a:ext cx="291960" cy="19008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814320" y="2410560"/>
                  <a:ext cx="55440" cy="554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51" name=""/>
            <p:cNvGrpSpPr/>
            <p:nvPr/>
          </p:nvGrpSpPr>
          <p:grpSpPr>
            <a:xfrm>
              <a:off x="252360" y="1633680"/>
              <a:ext cx="365040" cy="293400"/>
              <a:chOff x="252360" y="1633680"/>
              <a:chExt cx="365040" cy="293400"/>
            </a:xfrm>
          </p:grpSpPr>
          <p:grpSp>
            <p:nvGrpSpPr>
              <p:cNvPr id="852" name=""/>
              <p:cNvGrpSpPr/>
              <p:nvPr/>
            </p:nvGrpSpPr>
            <p:grpSpPr>
              <a:xfrm>
                <a:off x="397080" y="1633680"/>
                <a:ext cx="75960" cy="63360"/>
                <a:chOff x="397080" y="1633680"/>
                <a:chExt cx="75960" cy="63360"/>
              </a:xfrm>
            </p:grpSpPr>
            <p:sp>
              <p:nvSpPr>
                <p:cNvPr id="853" name=""/>
                <p:cNvSpPr/>
                <p:nvPr/>
              </p:nvSpPr>
              <p:spPr>
                <a:xfrm>
                  <a:off x="397080" y="163368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473040" y="163368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5" name=""/>
              <p:cNvGrpSpPr/>
              <p:nvPr/>
            </p:nvGrpSpPr>
            <p:grpSpPr>
              <a:xfrm>
                <a:off x="252360" y="1687680"/>
                <a:ext cx="365040" cy="239400"/>
                <a:chOff x="252360" y="1687680"/>
                <a:chExt cx="365040" cy="239400"/>
              </a:xfrm>
            </p:grpSpPr>
            <p:sp>
              <p:nvSpPr>
                <p:cNvPr id="856" name=""/>
                <p:cNvSpPr/>
                <p:nvPr/>
              </p:nvSpPr>
              <p:spPr>
                <a:xfrm>
                  <a:off x="252360" y="1687680"/>
                  <a:ext cx="365040" cy="2394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407880" y="1779480"/>
                  <a:ext cx="55440" cy="55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58" name=""/>
            <p:cNvSpPr/>
            <p:nvPr/>
          </p:nvSpPr>
          <p:spPr>
            <a:xfrm>
              <a:off x="704880" y="1724040"/>
              <a:ext cx="2342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ight Artillery Battalion       FS-IT01 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ff-board Direct Suppor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361880" y="2600280"/>
              <a:ext cx="1276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2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75mm Howitzers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133280" y="2095200"/>
              <a:ext cx="184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orward Observer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 IT-2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123920" y="2352600"/>
              <a:ext cx="1676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000" spc="-1" strike="noStrike" baseline="30000">
                  <a:solidFill>
                    <a:srgbClr val="000000"/>
                  </a:solidFill>
                  <a:latin typeface="Arial"/>
                </a:rPr>
                <a:t>st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Light Artillery Batte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2" name=""/>
            <p:cNvGrpSpPr/>
            <p:nvPr/>
          </p:nvGrpSpPr>
          <p:grpSpPr>
            <a:xfrm>
              <a:off x="695160" y="2738160"/>
              <a:ext cx="291960" cy="253440"/>
              <a:chOff x="695160" y="2738160"/>
              <a:chExt cx="291960" cy="253440"/>
            </a:xfrm>
          </p:grpSpPr>
          <p:sp>
            <p:nvSpPr>
              <p:cNvPr id="863" name=""/>
              <p:cNvSpPr/>
              <p:nvPr/>
            </p:nvSpPr>
            <p:spPr>
              <a:xfrm>
                <a:off x="841320" y="273816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4" name=""/>
              <p:cNvGrpSpPr/>
              <p:nvPr/>
            </p:nvGrpSpPr>
            <p:grpSpPr>
              <a:xfrm>
                <a:off x="695160" y="2801520"/>
                <a:ext cx="291960" cy="190080"/>
                <a:chOff x="695160" y="2801520"/>
                <a:chExt cx="291960" cy="190080"/>
              </a:xfrm>
            </p:grpSpPr>
            <p:sp>
              <p:nvSpPr>
                <p:cNvPr id="865" name=""/>
                <p:cNvSpPr/>
                <p:nvPr/>
              </p:nvSpPr>
              <p:spPr>
                <a:xfrm>
                  <a:off x="695160" y="2801520"/>
                  <a:ext cx="291960" cy="19008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814320" y="2867760"/>
                  <a:ext cx="55440" cy="554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67" name=""/>
            <p:cNvSpPr/>
            <p:nvPr/>
          </p:nvSpPr>
          <p:spPr>
            <a:xfrm>
              <a:off x="1133280" y="2809800"/>
              <a:ext cx="167652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000" spc="-1" strike="noStrike" baseline="30000">
                  <a:solidFill>
                    <a:srgbClr val="000000"/>
                  </a:solidFill>
                  <a:latin typeface="Arial"/>
                </a:rPr>
                <a:t>nd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Light Artillery Battery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same as 1</a:t>
              </a:r>
              <a:r>
                <a:rPr b="0" lang="en-US" sz="800" spc="-1" strike="noStrike" baseline="30000">
                  <a:solidFill>
                    <a:srgbClr val="000000"/>
                  </a:solidFill>
                  <a:latin typeface="Arial"/>
                </a:rPr>
                <a:t>st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8" name=""/>
            <p:cNvGrpSpPr/>
            <p:nvPr/>
          </p:nvGrpSpPr>
          <p:grpSpPr>
            <a:xfrm>
              <a:off x="695160" y="3062160"/>
              <a:ext cx="291960" cy="253080"/>
              <a:chOff x="695160" y="3062160"/>
              <a:chExt cx="291960" cy="253080"/>
            </a:xfrm>
          </p:grpSpPr>
          <p:sp>
            <p:nvSpPr>
              <p:cNvPr id="869" name=""/>
              <p:cNvSpPr/>
              <p:nvPr/>
            </p:nvSpPr>
            <p:spPr>
              <a:xfrm>
                <a:off x="841320" y="306216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0" name=""/>
              <p:cNvGrpSpPr/>
              <p:nvPr/>
            </p:nvGrpSpPr>
            <p:grpSpPr>
              <a:xfrm>
                <a:off x="695160" y="3125520"/>
                <a:ext cx="291960" cy="189720"/>
                <a:chOff x="695160" y="3125520"/>
                <a:chExt cx="291960" cy="189720"/>
              </a:xfrm>
            </p:grpSpPr>
            <p:sp>
              <p:nvSpPr>
                <p:cNvPr id="871" name=""/>
                <p:cNvSpPr/>
                <p:nvPr/>
              </p:nvSpPr>
              <p:spPr>
                <a:xfrm>
                  <a:off x="695160" y="3125520"/>
                  <a:ext cx="291960" cy="18972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814320" y="3191760"/>
                  <a:ext cx="55440" cy="554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73" name=""/>
            <p:cNvSpPr/>
            <p:nvPr/>
          </p:nvSpPr>
          <p:spPr>
            <a:xfrm>
              <a:off x="1133280" y="3124080"/>
              <a:ext cx="167652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000" spc="-1" strike="noStrike" baseline="30000">
                  <a:solidFill>
                    <a:srgbClr val="000000"/>
                  </a:solidFill>
                  <a:latin typeface="Arial"/>
                </a:rPr>
                <a:t>rd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Light Artillery Battery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same as 1</a:t>
              </a:r>
              <a:r>
                <a:rPr b="0" lang="en-US" sz="800" spc="-1" strike="noStrike" baseline="30000">
                  <a:solidFill>
                    <a:srgbClr val="000000"/>
                  </a:solidFill>
                  <a:latin typeface="Arial"/>
                </a:rPr>
                <a:t>st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4" name=""/>
          <p:cNvGrpSpPr/>
          <p:nvPr/>
        </p:nvGrpSpPr>
        <p:grpSpPr>
          <a:xfrm>
            <a:off x="223920" y="3433680"/>
            <a:ext cx="2795400" cy="1765080"/>
            <a:chOff x="223920" y="3433680"/>
            <a:chExt cx="2795400" cy="1765080"/>
          </a:xfrm>
        </p:grpSpPr>
        <p:sp>
          <p:nvSpPr>
            <p:cNvPr id="875" name=""/>
            <p:cNvSpPr/>
            <p:nvPr/>
          </p:nvSpPr>
          <p:spPr>
            <a:xfrm>
              <a:off x="409680" y="3610080"/>
              <a:ext cx="0" cy="1409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09680" y="5019840"/>
              <a:ext cx="399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09680" y="4695840"/>
              <a:ext cx="390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09680" y="423864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09680" y="3971880"/>
              <a:ext cx="371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809640" y="423864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809640" y="4467240"/>
              <a:ext cx="333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2" name=""/>
            <p:cNvGrpSpPr/>
            <p:nvPr/>
          </p:nvGrpSpPr>
          <p:grpSpPr>
            <a:xfrm>
              <a:off x="696960" y="3838680"/>
              <a:ext cx="231480" cy="204480"/>
              <a:chOff x="696960" y="3838680"/>
              <a:chExt cx="231480" cy="204480"/>
            </a:xfrm>
          </p:grpSpPr>
          <p:sp>
            <p:nvSpPr>
              <p:cNvPr id="883" name=""/>
              <p:cNvSpPr/>
              <p:nvPr/>
            </p:nvSpPr>
            <p:spPr>
              <a:xfrm>
                <a:off x="798480" y="383868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4" name=""/>
              <p:cNvGrpSpPr/>
              <p:nvPr/>
            </p:nvGrpSpPr>
            <p:grpSpPr>
              <a:xfrm>
                <a:off x="696960" y="3886200"/>
                <a:ext cx="231480" cy="156960"/>
                <a:chOff x="696960" y="3886200"/>
                <a:chExt cx="231480" cy="156960"/>
              </a:xfrm>
            </p:grpSpPr>
            <p:sp>
              <p:nvSpPr>
                <p:cNvPr id="885" name=""/>
                <p:cNvSpPr/>
                <p:nvPr/>
              </p:nvSpPr>
              <p:spPr>
                <a:xfrm>
                  <a:off x="696960" y="3886200"/>
                  <a:ext cx="231480" cy="156960"/>
                </a:xfrm>
                <a:prstGeom prst="rect">
                  <a:avLst/>
                </a:prstGeom>
                <a:solidFill>
                  <a:srgbClr val="ffff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779400" y="3936960"/>
                  <a:ext cx="57240" cy="55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87" name=""/>
            <p:cNvGrpSpPr/>
            <p:nvPr/>
          </p:nvGrpSpPr>
          <p:grpSpPr>
            <a:xfrm>
              <a:off x="1023840" y="4335480"/>
              <a:ext cx="239760" cy="204840"/>
              <a:chOff x="1023840" y="4335480"/>
              <a:chExt cx="239760" cy="204840"/>
            </a:xfrm>
          </p:grpSpPr>
          <p:grpSp>
            <p:nvGrpSpPr>
              <p:cNvPr id="888" name=""/>
              <p:cNvGrpSpPr/>
              <p:nvPr/>
            </p:nvGrpSpPr>
            <p:grpSpPr>
              <a:xfrm>
                <a:off x="1106280" y="4335480"/>
                <a:ext cx="74520" cy="28800"/>
                <a:chOff x="1106280" y="4335480"/>
                <a:chExt cx="74520" cy="28800"/>
              </a:xfrm>
            </p:grpSpPr>
            <p:sp>
              <p:nvSpPr>
                <p:cNvPr id="889" name=""/>
                <p:cNvSpPr/>
                <p:nvPr/>
              </p:nvSpPr>
              <p:spPr>
                <a:xfrm>
                  <a:off x="1106280" y="433548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1153800" y="433728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1" name=""/>
              <p:cNvGrpSpPr/>
              <p:nvPr/>
            </p:nvGrpSpPr>
            <p:grpSpPr>
              <a:xfrm>
                <a:off x="1023840" y="4383360"/>
                <a:ext cx="239760" cy="156960"/>
                <a:chOff x="1023840" y="4383360"/>
                <a:chExt cx="239760" cy="156960"/>
              </a:xfrm>
            </p:grpSpPr>
            <p:sp>
              <p:nvSpPr>
                <p:cNvPr id="892" name=""/>
                <p:cNvSpPr/>
                <p:nvPr/>
              </p:nvSpPr>
              <p:spPr>
                <a:xfrm>
                  <a:off x="1023840" y="4383360"/>
                  <a:ext cx="239760" cy="15696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1125360" y="444348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94" name=""/>
            <p:cNvGrpSpPr/>
            <p:nvPr/>
          </p:nvGrpSpPr>
          <p:grpSpPr>
            <a:xfrm>
              <a:off x="666720" y="4081320"/>
              <a:ext cx="291960" cy="254160"/>
              <a:chOff x="666720" y="4081320"/>
              <a:chExt cx="291960" cy="254160"/>
            </a:xfrm>
          </p:grpSpPr>
          <p:sp>
            <p:nvSpPr>
              <p:cNvPr id="895" name=""/>
              <p:cNvSpPr/>
              <p:nvPr/>
            </p:nvSpPr>
            <p:spPr>
              <a:xfrm>
                <a:off x="812880" y="4081320"/>
                <a:ext cx="0" cy="63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96" name=""/>
              <p:cNvGrpSpPr/>
              <p:nvPr/>
            </p:nvGrpSpPr>
            <p:grpSpPr>
              <a:xfrm>
                <a:off x="666720" y="4145040"/>
                <a:ext cx="291960" cy="190440"/>
                <a:chOff x="666720" y="4145040"/>
                <a:chExt cx="291960" cy="190440"/>
              </a:xfrm>
            </p:grpSpPr>
            <p:sp>
              <p:nvSpPr>
                <p:cNvPr id="897" name=""/>
                <p:cNvSpPr/>
                <p:nvPr/>
              </p:nvSpPr>
              <p:spPr>
                <a:xfrm>
                  <a:off x="666720" y="4145040"/>
                  <a:ext cx="291960" cy="1904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785880" y="4211640"/>
                  <a:ext cx="55440" cy="558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99" name=""/>
            <p:cNvGrpSpPr/>
            <p:nvPr/>
          </p:nvGrpSpPr>
          <p:grpSpPr>
            <a:xfrm>
              <a:off x="223920" y="3433680"/>
              <a:ext cx="365040" cy="293400"/>
              <a:chOff x="223920" y="3433680"/>
              <a:chExt cx="365040" cy="293400"/>
            </a:xfrm>
          </p:grpSpPr>
          <p:grpSp>
            <p:nvGrpSpPr>
              <p:cNvPr id="900" name=""/>
              <p:cNvGrpSpPr/>
              <p:nvPr/>
            </p:nvGrpSpPr>
            <p:grpSpPr>
              <a:xfrm>
                <a:off x="368640" y="3433680"/>
                <a:ext cx="75960" cy="63360"/>
                <a:chOff x="368640" y="3433680"/>
                <a:chExt cx="75960" cy="63360"/>
              </a:xfrm>
            </p:grpSpPr>
            <p:sp>
              <p:nvSpPr>
                <p:cNvPr id="901" name=""/>
                <p:cNvSpPr/>
                <p:nvPr/>
              </p:nvSpPr>
              <p:spPr>
                <a:xfrm>
                  <a:off x="368640" y="343368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444600" y="343368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3" name=""/>
              <p:cNvGrpSpPr/>
              <p:nvPr/>
            </p:nvGrpSpPr>
            <p:grpSpPr>
              <a:xfrm>
                <a:off x="223920" y="3487680"/>
                <a:ext cx="365040" cy="239400"/>
                <a:chOff x="223920" y="3487680"/>
                <a:chExt cx="365040" cy="239400"/>
              </a:xfrm>
            </p:grpSpPr>
            <p:sp>
              <p:nvSpPr>
                <p:cNvPr id="904" name=""/>
                <p:cNvSpPr/>
                <p:nvPr/>
              </p:nvSpPr>
              <p:spPr>
                <a:xfrm>
                  <a:off x="223920" y="3487680"/>
                  <a:ext cx="365040" cy="2394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379440" y="3579480"/>
                  <a:ext cx="55440" cy="55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06" name=""/>
            <p:cNvSpPr/>
            <p:nvPr/>
          </p:nvSpPr>
          <p:spPr>
            <a:xfrm>
              <a:off x="676440" y="3524400"/>
              <a:ext cx="2342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edium Artillery Battalion       FS-IT01 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ff-board General Suppor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333440" y="4400640"/>
              <a:ext cx="1276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2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5mm Howitzers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104840" y="3895560"/>
              <a:ext cx="184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orward Observer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 IT-2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095480" y="4152960"/>
              <a:ext cx="1676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000" spc="-1" strike="noStrike" baseline="30000">
                  <a:solidFill>
                    <a:srgbClr val="000000"/>
                  </a:solidFill>
                  <a:latin typeface="Arial"/>
                </a:rPr>
                <a:t>st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Medium Artillery Batte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0" name=""/>
            <p:cNvGrpSpPr/>
            <p:nvPr/>
          </p:nvGrpSpPr>
          <p:grpSpPr>
            <a:xfrm>
              <a:off x="666720" y="4538520"/>
              <a:ext cx="291960" cy="254160"/>
              <a:chOff x="666720" y="4538520"/>
              <a:chExt cx="291960" cy="254160"/>
            </a:xfrm>
          </p:grpSpPr>
          <p:sp>
            <p:nvSpPr>
              <p:cNvPr id="911" name=""/>
              <p:cNvSpPr/>
              <p:nvPr/>
            </p:nvSpPr>
            <p:spPr>
              <a:xfrm>
                <a:off x="812880" y="4538520"/>
                <a:ext cx="0" cy="63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12" name=""/>
              <p:cNvGrpSpPr/>
              <p:nvPr/>
            </p:nvGrpSpPr>
            <p:grpSpPr>
              <a:xfrm>
                <a:off x="666720" y="4602240"/>
                <a:ext cx="291960" cy="190440"/>
                <a:chOff x="666720" y="4602240"/>
                <a:chExt cx="291960" cy="190440"/>
              </a:xfrm>
            </p:grpSpPr>
            <p:sp>
              <p:nvSpPr>
                <p:cNvPr id="913" name=""/>
                <p:cNvSpPr/>
                <p:nvPr/>
              </p:nvSpPr>
              <p:spPr>
                <a:xfrm>
                  <a:off x="666720" y="4602240"/>
                  <a:ext cx="291960" cy="1904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785880" y="4668840"/>
                  <a:ext cx="55440" cy="558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15" name=""/>
            <p:cNvSpPr/>
            <p:nvPr/>
          </p:nvSpPr>
          <p:spPr>
            <a:xfrm>
              <a:off x="1104840" y="4610160"/>
              <a:ext cx="167652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000" spc="-1" strike="noStrike" baseline="30000">
                  <a:solidFill>
                    <a:srgbClr val="000000"/>
                  </a:solidFill>
                  <a:latin typeface="Arial"/>
                </a:rPr>
                <a:t>nd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Medium Artillery Battery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same as 1</a:t>
              </a:r>
              <a:r>
                <a:rPr b="0" lang="en-US" sz="800" spc="-1" strike="noStrike" baseline="30000">
                  <a:solidFill>
                    <a:srgbClr val="000000"/>
                  </a:solidFill>
                  <a:latin typeface="Arial"/>
                </a:rPr>
                <a:t>st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6" name=""/>
            <p:cNvGrpSpPr/>
            <p:nvPr/>
          </p:nvGrpSpPr>
          <p:grpSpPr>
            <a:xfrm>
              <a:off x="666720" y="4862520"/>
              <a:ext cx="291960" cy="253440"/>
              <a:chOff x="666720" y="4862520"/>
              <a:chExt cx="291960" cy="253440"/>
            </a:xfrm>
          </p:grpSpPr>
          <p:sp>
            <p:nvSpPr>
              <p:cNvPr id="917" name=""/>
              <p:cNvSpPr/>
              <p:nvPr/>
            </p:nvSpPr>
            <p:spPr>
              <a:xfrm>
                <a:off x="812880" y="48625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18" name=""/>
              <p:cNvGrpSpPr/>
              <p:nvPr/>
            </p:nvGrpSpPr>
            <p:grpSpPr>
              <a:xfrm>
                <a:off x="666720" y="4925880"/>
                <a:ext cx="291960" cy="190080"/>
                <a:chOff x="666720" y="4925880"/>
                <a:chExt cx="291960" cy="190080"/>
              </a:xfrm>
            </p:grpSpPr>
            <p:sp>
              <p:nvSpPr>
                <p:cNvPr id="919" name=""/>
                <p:cNvSpPr/>
                <p:nvPr/>
              </p:nvSpPr>
              <p:spPr>
                <a:xfrm>
                  <a:off x="666720" y="4925880"/>
                  <a:ext cx="291960" cy="19008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785880" y="4992120"/>
                  <a:ext cx="55440" cy="554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21" name=""/>
            <p:cNvSpPr/>
            <p:nvPr/>
          </p:nvSpPr>
          <p:spPr>
            <a:xfrm>
              <a:off x="1104840" y="4924440"/>
              <a:ext cx="167652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000" spc="-1" strike="noStrike" baseline="30000">
                  <a:solidFill>
                    <a:srgbClr val="000000"/>
                  </a:solidFill>
                  <a:latin typeface="Arial"/>
                </a:rPr>
                <a:t>rd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Medium Artillery Battery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same as 1</a:t>
              </a:r>
              <a:r>
                <a:rPr b="0" lang="en-US" sz="800" spc="-1" strike="noStrike" baseline="30000">
                  <a:solidFill>
                    <a:srgbClr val="000000"/>
                  </a:solidFill>
                  <a:latin typeface="Arial"/>
                </a:rPr>
                <a:t>st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2" name=""/>
          <p:cNvGrpSpPr/>
          <p:nvPr/>
        </p:nvGrpSpPr>
        <p:grpSpPr>
          <a:xfrm>
            <a:off x="3290760" y="1604880"/>
            <a:ext cx="2795400" cy="1765080"/>
            <a:chOff x="3290760" y="1604880"/>
            <a:chExt cx="2795400" cy="1765080"/>
          </a:xfrm>
        </p:grpSpPr>
        <p:sp>
          <p:nvSpPr>
            <p:cNvPr id="923" name=""/>
            <p:cNvSpPr/>
            <p:nvPr/>
          </p:nvSpPr>
          <p:spPr>
            <a:xfrm>
              <a:off x="3476520" y="1781280"/>
              <a:ext cx="0" cy="1409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476520" y="3191040"/>
              <a:ext cx="399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476520" y="2867040"/>
              <a:ext cx="390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476520" y="240984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476520" y="2143080"/>
              <a:ext cx="371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876480" y="240984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876480" y="2638440"/>
              <a:ext cx="333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0" name=""/>
            <p:cNvGrpSpPr/>
            <p:nvPr/>
          </p:nvGrpSpPr>
          <p:grpSpPr>
            <a:xfrm>
              <a:off x="3763800" y="2009880"/>
              <a:ext cx="231480" cy="204480"/>
              <a:chOff x="3763800" y="2009880"/>
              <a:chExt cx="231480" cy="204480"/>
            </a:xfrm>
          </p:grpSpPr>
          <p:sp>
            <p:nvSpPr>
              <p:cNvPr id="931" name=""/>
              <p:cNvSpPr/>
              <p:nvPr/>
            </p:nvSpPr>
            <p:spPr>
              <a:xfrm>
                <a:off x="3865320" y="200988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2" name=""/>
              <p:cNvGrpSpPr/>
              <p:nvPr/>
            </p:nvGrpSpPr>
            <p:grpSpPr>
              <a:xfrm>
                <a:off x="3763800" y="2057400"/>
                <a:ext cx="231480" cy="156960"/>
                <a:chOff x="3763800" y="2057400"/>
                <a:chExt cx="231480" cy="156960"/>
              </a:xfrm>
            </p:grpSpPr>
            <p:sp>
              <p:nvSpPr>
                <p:cNvPr id="933" name=""/>
                <p:cNvSpPr/>
                <p:nvPr/>
              </p:nvSpPr>
              <p:spPr>
                <a:xfrm>
                  <a:off x="3763800" y="2057400"/>
                  <a:ext cx="231480" cy="156960"/>
                </a:xfrm>
                <a:prstGeom prst="rect">
                  <a:avLst/>
                </a:prstGeom>
                <a:solidFill>
                  <a:srgbClr val="ffff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3846240" y="2108160"/>
                  <a:ext cx="57240" cy="55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35" name=""/>
            <p:cNvGrpSpPr/>
            <p:nvPr/>
          </p:nvGrpSpPr>
          <p:grpSpPr>
            <a:xfrm>
              <a:off x="4090680" y="2506680"/>
              <a:ext cx="239760" cy="204840"/>
              <a:chOff x="4090680" y="2506680"/>
              <a:chExt cx="239760" cy="204840"/>
            </a:xfrm>
          </p:grpSpPr>
          <p:grpSp>
            <p:nvGrpSpPr>
              <p:cNvPr id="936" name=""/>
              <p:cNvGrpSpPr/>
              <p:nvPr/>
            </p:nvGrpSpPr>
            <p:grpSpPr>
              <a:xfrm>
                <a:off x="4173120" y="2506680"/>
                <a:ext cx="74520" cy="28800"/>
                <a:chOff x="4173120" y="2506680"/>
                <a:chExt cx="74520" cy="28800"/>
              </a:xfrm>
            </p:grpSpPr>
            <p:sp>
              <p:nvSpPr>
                <p:cNvPr id="937" name=""/>
                <p:cNvSpPr/>
                <p:nvPr/>
              </p:nvSpPr>
              <p:spPr>
                <a:xfrm>
                  <a:off x="4173120" y="250668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4220640" y="250848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9" name=""/>
              <p:cNvGrpSpPr/>
              <p:nvPr/>
            </p:nvGrpSpPr>
            <p:grpSpPr>
              <a:xfrm>
                <a:off x="4090680" y="2554560"/>
                <a:ext cx="239760" cy="156960"/>
                <a:chOff x="4090680" y="2554560"/>
                <a:chExt cx="239760" cy="156960"/>
              </a:xfrm>
            </p:grpSpPr>
            <p:sp>
              <p:nvSpPr>
                <p:cNvPr id="940" name=""/>
                <p:cNvSpPr/>
                <p:nvPr/>
              </p:nvSpPr>
              <p:spPr>
                <a:xfrm>
                  <a:off x="4090680" y="2554560"/>
                  <a:ext cx="239760" cy="15696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4192200" y="261468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42" name=""/>
            <p:cNvGrpSpPr/>
            <p:nvPr/>
          </p:nvGrpSpPr>
          <p:grpSpPr>
            <a:xfrm>
              <a:off x="3733560" y="2252520"/>
              <a:ext cx="291960" cy="254160"/>
              <a:chOff x="3733560" y="2252520"/>
              <a:chExt cx="291960" cy="254160"/>
            </a:xfrm>
          </p:grpSpPr>
          <p:sp>
            <p:nvSpPr>
              <p:cNvPr id="943" name=""/>
              <p:cNvSpPr/>
              <p:nvPr/>
            </p:nvSpPr>
            <p:spPr>
              <a:xfrm>
                <a:off x="3879720" y="2252520"/>
                <a:ext cx="0" cy="63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4" name=""/>
              <p:cNvGrpSpPr/>
              <p:nvPr/>
            </p:nvGrpSpPr>
            <p:grpSpPr>
              <a:xfrm>
                <a:off x="3733560" y="2316240"/>
                <a:ext cx="291960" cy="190440"/>
                <a:chOff x="3733560" y="2316240"/>
                <a:chExt cx="291960" cy="190440"/>
              </a:xfrm>
            </p:grpSpPr>
            <p:sp>
              <p:nvSpPr>
                <p:cNvPr id="945" name=""/>
                <p:cNvSpPr/>
                <p:nvPr/>
              </p:nvSpPr>
              <p:spPr>
                <a:xfrm>
                  <a:off x="3733560" y="2316240"/>
                  <a:ext cx="291960" cy="1904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3852720" y="2382840"/>
                  <a:ext cx="55440" cy="558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47" name=""/>
            <p:cNvGrpSpPr/>
            <p:nvPr/>
          </p:nvGrpSpPr>
          <p:grpSpPr>
            <a:xfrm>
              <a:off x="3290760" y="1604880"/>
              <a:ext cx="365040" cy="293400"/>
              <a:chOff x="3290760" y="1604880"/>
              <a:chExt cx="365040" cy="293400"/>
            </a:xfrm>
          </p:grpSpPr>
          <p:grpSp>
            <p:nvGrpSpPr>
              <p:cNvPr id="948" name=""/>
              <p:cNvGrpSpPr/>
              <p:nvPr/>
            </p:nvGrpSpPr>
            <p:grpSpPr>
              <a:xfrm>
                <a:off x="3435480" y="1604880"/>
                <a:ext cx="75960" cy="63360"/>
                <a:chOff x="3435480" y="1604880"/>
                <a:chExt cx="75960" cy="63360"/>
              </a:xfrm>
            </p:grpSpPr>
            <p:sp>
              <p:nvSpPr>
                <p:cNvPr id="949" name=""/>
                <p:cNvSpPr/>
                <p:nvPr/>
              </p:nvSpPr>
              <p:spPr>
                <a:xfrm>
                  <a:off x="3435480" y="160488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3511440" y="160488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1" name=""/>
              <p:cNvGrpSpPr/>
              <p:nvPr/>
            </p:nvGrpSpPr>
            <p:grpSpPr>
              <a:xfrm>
                <a:off x="3290760" y="1658880"/>
                <a:ext cx="365040" cy="239400"/>
                <a:chOff x="3290760" y="1658880"/>
                <a:chExt cx="365040" cy="239400"/>
              </a:xfrm>
            </p:grpSpPr>
            <p:sp>
              <p:nvSpPr>
                <p:cNvPr id="952" name=""/>
                <p:cNvSpPr/>
                <p:nvPr/>
              </p:nvSpPr>
              <p:spPr>
                <a:xfrm>
                  <a:off x="3290760" y="1658880"/>
                  <a:ext cx="365040" cy="2394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3446280" y="1750680"/>
                  <a:ext cx="55440" cy="55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54" name=""/>
            <p:cNvSpPr/>
            <p:nvPr/>
          </p:nvSpPr>
          <p:spPr>
            <a:xfrm>
              <a:off x="3743280" y="1695600"/>
              <a:ext cx="2342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Heavy Artillery Battalion       FS-IT03 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ff-board General Suppor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400280" y="2571840"/>
              <a:ext cx="1276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2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49mm Howitzers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(d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171680" y="2066760"/>
              <a:ext cx="184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orward Observer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 IT-2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162320" y="2324160"/>
              <a:ext cx="1676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000" spc="-1" strike="noStrike" baseline="30000">
                  <a:solidFill>
                    <a:srgbClr val="000000"/>
                  </a:solidFill>
                  <a:latin typeface="Arial"/>
                </a:rPr>
                <a:t>st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Heavy Artillery Batte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8" name=""/>
            <p:cNvGrpSpPr/>
            <p:nvPr/>
          </p:nvGrpSpPr>
          <p:grpSpPr>
            <a:xfrm>
              <a:off x="3733560" y="2709720"/>
              <a:ext cx="291960" cy="254160"/>
              <a:chOff x="3733560" y="2709720"/>
              <a:chExt cx="291960" cy="254160"/>
            </a:xfrm>
          </p:grpSpPr>
          <p:sp>
            <p:nvSpPr>
              <p:cNvPr id="959" name=""/>
              <p:cNvSpPr/>
              <p:nvPr/>
            </p:nvSpPr>
            <p:spPr>
              <a:xfrm>
                <a:off x="3879720" y="2709720"/>
                <a:ext cx="0" cy="63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0" name=""/>
              <p:cNvGrpSpPr/>
              <p:nvPr/>
            </p:nvGrpSpPr>
            <p:grpSpPr>
              <a:xfrm>
                <a:off x="3733560" y="2773440"/>
                <a:ext cx="291960" cy="190440"/>
                <a:chOff x="3733560" y="2773440"/>
                <a:chExt cx="291960" cy="190440"/>
              </a:xfrm>
            </p:grpSpPr>
            <p:sp>
              <p:nvSpPr>
                <p:cNvPr id="961" name=""/>
                <p:cNvSpPr/>
                <p:nvPr/>
              </p:nvSpPr>
              <p:spPr>
                <a:xfrm>
                  <a:off x="3733560" y="2773440"/>
                  <a:ext cx="291960" cy="1904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3852720" y="2840040"/>
                  <a:ext cx="55440" cy="558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63" name=""/>
            <p:cNvSpPr/>
            <p:nvPr/>
          </p:nvSpPr>
          <p:spPr>
            <a:xfrm>
              <a:off x="4171680" y="2781360"/>
              <a:ext cx="167652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000" spc="-1" strike="noStrike" baseline="30000">
                  <a:solidFill>
                    <a:srgbClr val="000000"/>
                  </a:solidFill>
                  <a:latin typeface="Arial"/>
                </a:rPr>
                <a:t>nd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Heavy Artillery Battery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same as 1</a:t>
              </a:r>
              <a:r>
                <a:rPr b="0" lang="en-US" sz="800" spc="-1" strike="noStrike" baseline="30000">
                  <a:solidFill>
                    <a:srgbClr val="000000"/>
                  </a:solidFill>
                  <a:latin typeface="Arial"/>
                </a:rPr>
                <a:t>st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4" name=""/>
            <p:cNvGrpSpPr/>
            <p:nvPr/>
          </p:nvGrpSpPr>
          <p:grpSpPr>
            <a:xfrm>
              <a:off x="3733560" y="3033720"/>
              <a:ext cx="291960" cy="253440"/>
              <a:chOff x="3733560" y="3033720"/>
              <a:chExt cx="291960" cy="253440"/>
            </a:xfrm>
          </p:grpSpPr>
          <p:sp>
            <p:nvSpPr>
              <p:cNvPr id="965" name=""/>
              <p:cNvSpPr/>
              <p:nvPr/>
            </p:nvSpPr>
            <p:spPr>
              <a:xfrm>
                <a:off x="3879720" y="30337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6" name=""/>
              <p:cNvGrpSpPr/>
              <p:nvPr/>
            </p:nvGrpSpPr>
            <p:grpSpPr>
              <a:xfrm>
                <a:off x="3733560" y="3097080"/>
                <a:ext cx="291960" cy="190080"/>
                <a:chOff x="3733560" y="3097080"/>
                <a:chExt cx="291960" cy="190080"/>
              </a:xfrm>
            </p:grpSpPr>
            <p:sp>
              <p:nvSpPr>
                <p:cNvPr id="967" name=""/>
                <p:cNvSpPr/>
                <p:nvPr/>
              </p:nvSpPr>
              <p:spPr>
                <a:xfrm>
                  <a:off x="3733560" y="3097080"/>
                  <a:ext cx="291960" cy="19008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3852720" y="3163320"/>
                  <a:ext cx="55440" cy="554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69" name=""/>
            <p:cNvSpPr/>
            <p:nvPr/>
          </p:nvSpPr>
          <p:spPr>
            <a:xfrm>
              <a:off x="4171680" y="3095640"/>
              <a:ext cx="167652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000" spc="-1" strike="noStrike" baseline="30000">
                  <a:solidFill>
                    <a:srgbClr val="000000"/>
                  </a:solidFill>
                  <a:latin typeface="Arial"/>
                </a:rPr>
                <a:t>rd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Heavy Artillery Battery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same as 1</a:t>
              </a:r>
              <a:r>
                <a:rPr b="0" lang="en-US" sz="800" spc="-1" strike="noStrike" baseline="30000">
                  <a:solidFill>
                    <a:srgbClr val="000000"/>
                  </a:solidFill>
                  <a:latin typeface="Arial"/>
                </a:rPr>
                <a:t>st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0" name=""/>
          <p:cNvSpPr/>
          <p:nvPr/>
        </p:nvSpPr>
        <p:spPr>
          <a:xfrm>
            <a:off x="3533760" y="390600"/>
            <a:ext cx="0" cy="466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533760" y="857160"/>
            <a:ext cx="34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2" name=""/>
          <p:cNvGrpSpPr/>
          <p:nvPr/>
        </p:nvGrpSpPr>
        <p:grpSpPr>
          <a:xfrm>
            <a:off x="3348000" y="276120"/>
            <a:ext cx="365040" cy="308160"/>
            <a:chOff x="3348000" y="276120"/>
            <a:chExt cx="365040" cy="308160"/>
          </a:xfrm>
        </p:grpSpPr>
        <p:grpSp>
          <p:nvGrpSpPr>
            <p:cNvPr id="973" name=""/>
            <p:cNvGrpSpPr/>
            <p:nvPr/>
          </p:nvGrpSpPr>
          <p:grpSpPr>
            <a:xfrm>
              <a:off x="3463920" y="276120"/>
              <a:ext cx="131760" cy="63720"/>
              <a:chOff x="3463920" y="276120"/>
              <a:chExt cx="131760" cy="63720"/>
            </a:xfrm>
          </p:grpSpPr>
          <p:sp>
            <p:nvSpPr>
              <p:cNvPr id="974" name=""/>
              <p:cNvSpPr/>
              <p:nvPr/>
            </p:nvSpPr>
            <p:spPr>
              <a:xfrm>
                <a:off x="3530520" y="276120"/>
                <a:ext cx="0" cy="63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75" name=""/>
              <p:cNvGrpSpPr/>
              <p:nvPr/>
            </p:nvGrpSpPr>
            <p:grpSpPr>
              <a:xfrm>
                <a:off x="3463920" y="276120"/>
                <a:ext cx="131760" cy="63720"/>
                <a:chOff x="3463920" y="276120"/>
                <a:chExt cx="131760" cy="63720"/>
              </a:xfrm>
            </p:grpSpPr>
            <p:sp>
              <p:nvSpPr>
                <p:cNvPr id="976" name=""/>
                <p:cNvSpPr/>
                <p:nvPr/>
              </p:nvSpPr>
              <p:spPr>
                <a:xfrm>
                  <a:off x="3463920" y="276120"/>
                  <a:ext cx="0" cy="637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3595680" y="276120"/>
                  <a:ext cx="0" cy="637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78" name=""/>
            <p:cNvGrpSpPr/>
            <p:nvPr/>
          </p:nvGrpSpPr>
          <p:grpSpPr>
            <a:xfrm>
              <a:off x="3348000" y="344520"/>
              <a:ext cx="365040" cy="239760"/>
              <a:chOff x="3348000" y="344520"/>
              <a:chExt cx="365040" cy="239760"/>
            </a:xfrm>
          </p:grpSpPr>
          <p:sp>
            <p:nvSpPr>
              <p:cNvPr id="979" name=""/>
              <p:cNvSpPr/>
              <p:nvPr/>
            </p:nvSpPr>
            <p:spPr>
              <a:xfrm>
                <a:off x="3348000" y="344520"/>
                <a:ext cx="365040" cy="2397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3503520" y="436680"/>
                <a:ext cx="55440" cy="55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81" name=""/>
          <p:cNvSpPr/>
          <p:nvPr/>
        </p:nvSpPr>
        <p:spPr>
          <a:xfrm>
            <a:off x="3838680" y="257040"/>
            <a:ext cx="17143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llery Regimen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valry, Celere, Bersiglie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2" name=""/>
          <p:cNvGrpSpPr/>
          <p:nvPr/>
        </p:nvGrpSpPr>
        <p:grpSpPr>
          <a:xfrm>
            <a:off x="3805200" y="681120"/>
            <a:ext cx="365040" cy="293400"/>
            <a:chOff x="3805200" y="681120"/>
            <a:chExt cx="365040" cy="293400"/>
          </a:xfrm>
        </p:grpSpPr>
        <p:grpSp>
          <p:nvGrpSpPr>
            <p:cNvPr id="983" name=""/>
            <p:cNvGrpSpPr/>
            <p:nvPr/>
          </p:nvGrpSpPr>
          <p:grpSpPr>
            <a:xfrm>
              <a:off x="3949920" y="681120"/>
              <a:ext cx="75960" cy="63360"/>
              <a:chOff x="3949920" y="681120"/>
              <a:chExt cx="75960" cy="63360"/>
            </a:xfrm>
          </p:grpSpPr>
          <p:sp>
            <p:nvSpPr>
              <p:cNvPr id="984" name=""/>
              <p:cNvSpPr/>
              <p:nvPr/>
            </p:nvSpPr>
            <p:spPr>
              <a:xfrm>
                <a:off x="3949920" y="6811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4025880" y="6811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6" name=""/>
            <p:cNvGrpSpPr/>
            <p:nvPr/>
          </p:nvGrpSpPr>
          <p:grpSpPr>
            <a:xfrm>
              <a:off x="3805200" y="735120"/>
              <a:ext cx="365040" cy="239400"/>
              <a:chOff x="3805200" y="735120"/>
              <a:chExt cx="365040" cy="239400"/>
            </a:xfrm>
          </p:grpSpPr>
          <p:sp>
            <p:nvSpPr>
              <p:cNvPr id="987" name=""/>
              <p:cNvSpPr/>
              <p:nvPr/>
            </p:nvSpPr>
            <p:spPr>
              <a:xfrm>
                <a:off x="3805200" y="735120"/>
                <a:ext cx="365040" cy="2394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3960720" y="826920"/>
                <a:ext cx="55440" cy="55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89" name=""/>
          <p:cNvSpPr/>
          <p:nvPr/>
        </p:nvSpPr>
        <p:spPr>
          <a:xfrm>
            <a:off x="4257720" y="790560"/>
            <a:ext cx="251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3 Light Artillery Battalion  FS-IT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6253200" y="257040"/>
            <a:ext cx="2833560" cy="707760"/>
            <a:chOff x="6253200" y="257040"/>
            <a:chExt cx="2833560" cy="707760"/>
          </a:xfrm>
        </p:grpSpPr>
        <p:sp>
          <p:nvSpPr>
            <p:cNvPr id="991" name=""/>
            <p:cNvSpPr/>
            <p:nvPr/>
          </p:nvSpPr>
          <p:spPr>
            <a:xfrm>
              <a:off x="6438960" y="409680"/>
              <a:ext cx="0" cy="447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6438960" y="847800"/>
              <a:ext cx="34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3" name=""/>
            <p:cNvGrpSpPr/>
            <p:nvPr/>
          </p:nvGrpSpPr>
          <p:grpSpPr>
            <a:xfrm>
              <a:off x="6253200" y="276120"/>
              <a:ext cx="365040" cy="308160"/>
              <a:chOff x="6253200" y="276120"/>
              <a:chExt cx="365040" cy="308160"/>
            </a:xfrm>
          </p:grpSpPr>
          <p:grpSp>
            <p:nvGrpSpPr>
              <p:cNvPr id="994" name=""/>
              <p:cNvGrpSpPr/>
              <p:nvPr/>
            </p:nvGrpSpPr>
            <p:grpSpPr>
              <a:xfrm>
                <a:off x="6369120" y="276120"/>
                <a:ext cx="131760" cy="63720"/>
                <a:chOff x="6369120" y="276120"/>
                <a:chExt cx="131760" cy="63720"/>
              </a:xfrm>
            </p:grpSpPr>
            <p:sp>
              <p:nvSpPr>
                <p:cNvPr id="995" name=""/>
                <p:cNvSpPr/>
                <p:nvPr/>
              </p:nvSpPr>
              <p:spPr>
                <a:xfrm>
                  <a:off x="6435720" y="276120"/>
                  <a:ext cx="0" cy="637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96" name=""/>
                <p:cNvGrpSpPr/>
                <p:nvPr/>
              </p:nvGrpSpPr>
              <p:grpSpPr>
                <a:xfrm>
                  <a:off x="6369120" y="276120"/>
                  <a:ext cx="131760" cy="63720"/>
                  <a:chOff x="6369120" y="276120"/>
                  <a:chExt cx="131760" cy="63720"/>
                </a:xfrm>
              </p:grpSpPr>
              <p:sp>
                <p:nvSpPr>
                  <p:cNvPr id="997" name=""/>
                  <p:cNvSpPr/>
                  <p:nvPr/>
                </p:nvSpPr>
                <p:spPr>
                  <a:xfrm>
                    <a:off x="6369120" y="276120"/>
                    <a:ext cx="0" cy="6372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8" name=""/>
                  <p:cNvSpPr/>
                  <p:nvPr/>
                </p:nvSpPr>
                <p:spPr>
                  <a:xfrm>
                    <a:off x="6500880" y="276120"/>
                    <a:ext cx="0" cy="6372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99" name=""/>
              <p:cNvGrpSpPr/>
              <p:nvPr/>
            </p:nvGrpSpPr>
            <p:grpSpPr>
              <a:xfrm>
                <a:off x="6253200" y="344520"/>
                <a:ext cx="365040" cy="239760"/>
                <a:chOff x="6253200" y="344520"/>
                <a:chExt cx="365040" cy="239760"/>
              </a:xfrm>
            </p:grpSpPr>
            <p:sp>
              <p:nvSpPr>
                <p:cNvPr id="1000" name=""/>
                <p:cNvSpPr/>
                <p:nvPr/>
              </p:nvSpPr>
              <p:spPr>
                <a:xfrm>
                  <a:off x="6253200" y="344520"/>
                  <a:ext cx="365040" cy="23976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6408720" y="436680"/>
                  <a:ext cx="55440" cy="554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02" name=""/>
            <p:cNvSpPr/>
            <p:nvPr/>
          </p:nvSpPr>
          <p:spPr>
            <a:xfrm>
              <a:off x="6743880" y="257040"/>
              <a:ext cx="20001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rtillery Raggruppamento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rmy/Corps Asse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3" name=""/>
            <p:cNvGrpSpPr/>
            <p:nvPr/>
          </p:nvGrpSpPr>
          <p:grpSpPr>
            <a:xfrm>
              <a:off x="6710400" y="671400"/>
              <a:ext cx="365040" cy="293400"/>
              <a:chOff x="6710400" y="671400"/>
              <a:chExt cx="365040" cy="293400"/>
            </a:xfrm>
          </p:grpSpPr>
          <p:grpSp>
            <p:nvGrpSpPr>
              <p:cNvPr id="1004" name=""/>
              <p:cNvGrpSpPr/>
              <p:nvPr/>
            </p:nvGrpSpPr>
            <p:grpSpPr>
              <a:xfrm>
                <a:off x="6855120" y="671400"/>
                <a:ext cx="75960" cy="63360"/>
                <a:chOff x="6855120" y="671400"/>
                <a:chExt cx="75960" cy="63360"/>
              </a:xfrm>
            </p:grpSpPr>
            <p:sp>
              <p:nvSpPr>
                <p:cNvPr id="1005" name=""/>
                <p:cNvSpPr/>
                <p:nvPr/>
              </p:nvSpPr>
              <p:spPr>
                <a:xfrm>
                  <a:off x="6855120" y="67140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6931080" y="67140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7" name=""/>
              <p:cNvGrpSpPr/>
              <p:nvPr/>
            </p:nvGrpSpPr>
            <p:grpSpPr>
              <a:xfrm>
                <a:off x="6710400" y="725400"/>
                <a:ext cx="365040" cy="239400"/>
                <a:chOff x="6710400" y="725400"/>
                <a:chExt cx="365040" cy="239400"/>
              </a:xfrm>
            </p:grpSpPr>
            <p:sp>
              <p:nvSpPr>
                <p:cNvPr id="1008" name=""/>
                <p:cNvSpPr/>
                <p:nvPr/>
              </p:nvSpPr>
              <p:spPr>
                <a:xfrm>
                  <a:off x="6710400" y="725400"/>
                  <a:ext cx="365040" cy="2394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6865920" y="817200"/>
                  <a:ext cx="55440" cy="55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10" name=""/>
            <p:cNvSpPr/>
            <p:nvPr/>
          </p:nvSpPr>
          <p:spPr>
            <a:xfrm>
              <a:off x="7162920" y="771480"/>
              <a:ext cx="192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-5 Artillery Battalions (e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1" name=""/>
          <p:cNvSpPr/>
          <p:nvPr/>
        </p:nvSpPr>
        <p:spPr>
          <a:xfrm>
            <a:off x="3295800" y="3533760"/>
            <a:ext cx="5219640" cy="13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tach the FO to on-board maneuver elements or HQs. Give him a staff car as transport if appropriat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5mm  - Small template -1 vs V, 0 vs T,G,sV. This represents a variety of weapons, including the 75/18, 75/27 (IT-20), and 75/13 Mountain Gu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5mm - Large Template  -1 vs V, 0 vs T,G,sV. This represents a variety of weapons, including the 100/17, 105/28, and 105/11 Mountain gun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9mm – Large Template +1 vs V, +2 vs T,G,sV. This represents a variety of weapons, including the 149/13, 149/28, and 149/40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Army Artillery did not have a standard organization, using a variety of light, medium, and heavy battalion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"/>
          <p:cNvSpPr/>
          <p:nvPr/>
        </p:nvSpPr>
        <p:spPr>
          <a:xfrm>
            <a:off x="3947400" y="32004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5972040" y="2329920"/>
            <a:ext cx="115920" cy="155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6087960" y="2328840"/>
            <a:ext cx="123840" cy="155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5" name=""/>
          <p:cNvGrpSpPr/>
          <p:nvPr/>
        </p:nvGrpSpPr>
        <p:grpSpPr>
          <a:xfrm>
            <a:off x="1959120" y="2316240"/>
            <a:ext cx="231480" cy="156960"/>
            <a:chOff x="1959120" y="2316240"/>
            <a:chExt cx="231480" cy="156960"/>
          </a:xfrm>
        </p:grpSpPr>
        <p:sp>
          <p:nvSpPr>
            <p:cNvPr id="1016" name=""/>
            <p:cNvSpPr/>
            <p:nvPr/>
          </p:nvSpPr>
          <p:spPr>
            <a:xfrm>
              <a:off x="1959120" y="2316240"/>
              <a:ext cx="231480" cy="1569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001600" y="2355480"/>
              <a:ext cx="148320" cy="74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8" name=""/>
          <p:cNvGrpSpPr/>
          <p:nvPr/>
        </p:nvGrpSpPr>
        <p:grpSpPr>
          <a:xfrm>
            <a:off x="838080" y="3428640"/>
            <a:ext cx="239760" cy="157680"/>
            <a:chOff x="838080" y="3428640"/>
            <a:chExt cx="239760" cy="157680"/>
          </a:xfrm>
        </p:grpSpPr>
        <p:grpSp>
          <p:nvGrpSpPr>
            <p:cNvPr id="1019" name=""/>
            <p:cNvGrpSpPr/>
            <p:nvPr/>
          </p:nvGrpSpPr>
          <p:grpSpPr>
            <a:xfrm>
              <a:off x="838080" y="3429000"/>
              <a:ext cx="239760" cy="157320"/>
              <a:chOff x="838080" y="3429000"/>
              <a:chExt cx="239760" cy="157320"/>
            </a:xfrm>
          </p:grpSpPr>
          <p:sp>
            <p:nvSpPr>
              <p:cNvPr id="1020" name=""/>
              <p:cNvSpPr/>
              <p:nvPr/>
            </p:nvSpPr>
            <p:spPr>
              <a:xfrm>
                <a:off x="838080" y="3429000"/>
                <a:ext cx="239760" cy="15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882000" y="3468240"/>
                <a:ext cx="151560" cy="748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2" name=""/>
            <p:cNvSpPr/>
            <p:nvPr/>
          </p:nvSpPr>
          <p:spPr>
            <a:xfrm flipV="1">
              <a:off x="838080" y="3428640"/>
              <a:ext cx="23616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3" name=""/>
          <p:cNvGrpSpPr/>
          <p:nvPr/>
        </p:nvGrpSpPr>
        <p:grpSpPr>
          <a:xfrm>
            <a:off x="838080" y="4267080"/>
            <a:ext cx="241200" cy="157320"/>
            <a:chOff x="838080" y="4267080"/>
            <a:chExt cx="241200" cy="157320"/>
          </a:xfrm>
        </p:grpSpPr>
        <p:sp>
          <p:nvSpPr>
            <p:cNvPr id="1024" name=""/>
            <p:cNvSpPr/>
            <p:nvPr/>
          </p:nvSpPr>
          <p:spPr>
            <a:xfrm>
              <a:off x="839160" y="4267080"/>
              <a:ext cx="240120" cy="157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869040" y="4301640"/>
              <a:ext cx="172080" cy="74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V="1">
              <a:off x="838080" y="4267800"/>
              <a:ext cx="115920" cy="15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954000" y="4267080"/>
              <a:ext cx="124200" cy="15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8" name=""/>
          <p:cNvGrpSpPr/>
          <p:nvPr/>
        </p:nvGrpSpPr>
        <p:grpSpPr>
          <a:xfrm>
            <a:off x="838080" y="3809520"/>
            <a:ext cx="241560" cy="157680"/>
            <a:chOff x="838080" y="3809520"/>
            <a:chExt cx="241560" cy="157680"/>
          </a:xfrm>
        </p:grpSpPr>
        <p:sp>
          <p:nvSpPr>
            <p:cNvPr id="1029" name=""/>
            <p:cNvSpPr/>
            <p:nvPr/>
          </p:nvSpPr>
          <p:spPr>
            <a:xfrm>
              <a:off x="839160" y="3809880"/>
              <a:ext cx="240120" cy="157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875160" y="3848760"/>
              <a:ext cx="169560" cy="74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V="1">
              <a:off x="839160" y="3809520"/>
              <a:ext cx="237600" cy="15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38080" y="3809880"/>
              <a:ext cx="241560" cy="15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3" name=""/>
          <p:cNvGrpSpPr/>
          <p:nvPr/>
        </p:nvGrpSpPr>
        <p:grpSpPr>
          <a:xfrm>
            <a:off x="1447920" y="3048120"/>
            <a:ext cx="241200" cy="188640"/>
            <a:chOff x="1447920" y="3048120"/>
            <a:chExt cx="241200" cy="188640"/>
          </a:xfrm>
        </p:grpSpPr>
        <p:sp>
          <p:nvSpPr>
            <p:cNvPr id="1034" name=""/>
            <p:cNvSpPr/>
            <p:nvPr/>
          </p:nvSpPr>
          <p:spPr>
            <a:xfrm>
              <a:off x="1449360" y="3048120"/>
              <a:ext cx="239760" cy="1569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484280" y="3087720"/>
              <a:ext cx="169920" cy="745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V="1">
              <a:off x="1449360" y="3048120"/>
              <a:ext cx="236520" cy="1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447920" y="3048120"/>
              <a:ext cx="241200" cy="15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463760" y="320976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576440" y="320832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652760" y="320832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596960" y="3208320"/>
              <a:ext cx="61920" cy="27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2" name=""/>
          <p:cNvGrpSpPr/>
          <p:nvPr/>
        </p:nvGrpSpPr>
        <p:grpSpPr>
          <a:xfrm>
            <a:off x="1447920" y="3429000"/>
            <a:ext cx="239760" cy="189000"/>
            <a:chOff x="1447920" y="3429000"/>
            <a:chExt cx="239760" cy="189000"/>
          </a:xfrm>
        </p:grpSpPr>
        <p:sp>
          <p:nvSpPr>
            <p:cNvPr id="1043" name=""/>
            <p:cNvSpPr/>
            <p:nvPr/>
          </p:nvSpPr>
          <p:spPr>
            <a:xfrm>
              <a:off x="1447920" y="3429000"/>
              <a:ext cx="239760" cy="157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461960" y="359100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574640" y="358920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650960" y="358920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595520" y="3589200"/>
              <a:ext cx="61920" cy="27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1481040" y="3463920"/>
              <a:ext cx="165240" cy="84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1568520" y="3479760"/>
              <a:ext cx="0" cy="49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535040" y="3530520"/>
              <a:ext cx="684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1" name=""/>
          <p:cNvSpPr/>
          <p:nvPr/>
        </p:nvSpPr>
        <p:spPr>
          <a:xfrm>
            <a:off x="2108160" y="3005280"/>
            <a:ext cx="238320" cy="156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1447920" y="4267080"/>
            <a:ext cx="231480" cy="15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V="1">
            <a:off x="1447920" y="4267080"/>
            <a:ext cx="230040" cy="15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1459080" y="443088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1639800" y="443088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6" name=""/>
          <p:cNvGrpSpPr/>
          <p:nvPr/>
        </p:nvGrpSpPr>
        <p:grpSpPr>
          <a:xfrm>
            <a:off x="3081240" y="3591000"/>
            <a:ext cx="231840" cy="190440"/>
            <a:chOff x="3081240" y="3591000"/>
            <a:chExt cx="231840" cy="190440"/>
          </a:xfrm>
        </p:grpSpPr>
        <p:sp>
          <p:nvSpPr>
            <p:cNvPr id="1057" name=""/>
            <p:cNvSpPr/>
            <p:nvPr/>
          </p:nvSpPr>
          <p:spPr>
            <a:xfrm>
              <a:off x="3081240" y="3591000"/>
              <a:ext cx="231840" cy="1569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092400" y="375444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273480" y="375444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0" name=""/>
          <p:cNvGrpSpPr/>
          <p:nvPr/>
        </p:nvGrpSpPr>
        <p:grpSpPr>
          <a:xfrm>
            <a:off x="2133720" y="3809880"/>
            <a:ext cx="231480" cy="157320"/>
            <a:chOff x="2133720" y="3809880"/>
            <a:chExt cx="231480" cy="157320"/>
          </a:xfrm>
        </p:grpSpPr>
        <p:sp>
          <p:nvSpPr>
            <p:cNvPr id="1061" name=""/>
            <p:cNvSpPr/>
            <p:nvPr/>
          </p:nvSpPr>
          <p:spPr>
            <a:xfrm>
              <a:off x="2133720" y="3809880"/>
              <a:ext cx="231480" cy="157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205000" y="3857400"/>
              <a:ext cx="0" cy="50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246400" y="3859560"/>
              <a:ext cx="0" cy="475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286720" y="3861000"/>
              <a:ext cx="0" cy="46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199960" y="3859560"/>
              <a:ext cx="936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6" name=""/>
          <p:cNvGrpSpPr/>
          <p:nvPr/>
        </p:nvGrpSpPr>
        <p:grpSpPr>
          <a:xfrm>
            <a:off x="2100240" y="4194000"/>
            <a:ext cx="231840" cy="157320"/>
            <a:chOff x="2100240" y="4194000"/>
            <a:chExt cx="231840" cy="157320"/>
          </a:xfrm>
        </p:grpSpPr>
        <p:sp>
          <p:nvSpPr>
            <p:cNvPr id="1067" name=""/>
            <p:cNvSpPr/>
            <p:nvPr/>
          </p:nvSpPr>
          <p:spPr>
            <a:xfrm>
              <a:off x="2100240" y="4194000"/>
              <a:ext cx="231840" cy="157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 flipV="1">
              <a:off x="2102400" y="4195800"/>
              <a:ext cx="225720" cy="15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100240" y="4196160"/>
              <a:ext cx="230760" cy="14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0" name=""/>
          <p:cNvGrpSpPr/>
          <p:nvPr/>
        </p:nvGrpSpPr>
        <p:grpSpPr>
          <a:xfrm>
            <a:off x="838080" y="4648320"/>
            <a:ext cx="241560" cy="156960"/>
            <a:chOff x="838080" y="4648320"/>
            <a:chExt cx="241560" cy="156960"/>
          </a:xfrm>
        </p:grpSpPr>
        <p:sp>
          <p:nvSpPr>
            <p:cNvPr id="1071" name=""/>
            <p:cNvSpPr/>
            <p:nvPr/>
          </p:nvSpPr>
          <p:spPr>
            <a:xfrm>
              <a:off x="839160" y="4648320"/>
              <a:ext cx="240480" cy="1569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869040" y="4682520"/>
              <a:ext cx="172080" cy="745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V="1">
              <a:off x="838080" y="4648680"/>
              <a:ext cx="115920" cy="15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954000" y="4648320"/>
              <a:ext cx="12420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905040" y="4714920"/>
              <a:ext cx="9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6" name=""/>
          <p:cNvGrpSpPr/>
          <p:nvPr/>
        </p:nvGrpSpPr>
        <p:grpSpPr>
          <a:xfrm>
            <a:off x="838080" y="4952880"/>
            <a:ext cx="239760" cy="157320"/>
            <a:chOff x="838080" y="4952880"/>
            <a:chExt cx="239760" cy="157320"/>
          </a:xfrm>
        </p:grpSpPr>
        <p:sp>
          <p:nvSpPr>
            <p:cNvPr id="1077" name=""/>
            <p:cNvSpPr/>
            <p:nvPr/>
          </p:nvSpPr>
          <p:spPr>
            <a:xfrm>
              <a:off x="838080" y="4952880"/>
              <a:ext cx="239760" cy="157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879480" y="4992840"/>
              <a:ext cx="154080" cy="745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941400" y="501336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0" name=""/>
          <p:cNvGrpSpPr/>
          <p:nvPr/>
        </p:nvGrpSpPr>
        <p:grpSpPr>
          <a:xfrm>
            <a:off x="838080" y="5334120"/>
            <a:ext cx="239760" cy="156960"/>
            <a:chOff x="838080" y="5334120"/>
            <a:chExt cx="239760" cy="156960"/>
          </a:xfrm>
        </p:grpSpPr>
        <p:sp>
          <p:nvSpPr>
            <p:cNvPr id="1081" name=""/>
            <p:cNvSpPr/>
            <p:nvPr/>
          </p:nvSpPr>
          <p:spPr>
            <a:xfrm>
              <a:off x="838080" y="5334120"/>
              <a:ext cx="239760" cy="1569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V="1">
              <a:off x="838080" y="5335560"/>
              <a:ext cx="23832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838080" y="5337000"/>
              <a:ext cx="2383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942840" y="539748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5" name=""/>
          <p:cNvSpPr/>
          <p:nvPr/>
        </p:nvSpPr>
        <p:spPr>
          <a:xfrm>
            <a:off x="1523880" y="5257800"/>
            <a:ext cx="231840" cy="15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1535040" y="542124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1716120" y="542124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1557360" y="5299200"/>
            <a:ext cx="162000" cy="75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V="1">
            <a:off x="1525680" y="52574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0" name=""/>
          <p:cNvGrpSpPr/>
          <p:nvPr/>
        </p:nvGrpSpPr>
        <p:grpSpPr>
          <a:xfrm>
            <a:off x="2133720" y="5334120"/>
            <a:ext cx="231480" cy="156960"/>
            <a:chOff x="2133720" y="5334120"/>
            <a:chExt cx="231480" cy="156960"/>
          </a:xfrm>
        </p:grpSpPr>
        <p:sp>
          <p:nvSpPr>
            <p:cNvPr id="1091" name=""/>
            <p:cNvSpPr/>
            <p:nvPr/>
          </p:nvSpPr>
          <p:spPr>
            <a:xfrm>
              <a:off x="2133720" y="5334120"/>
              <a:ext cx="231480" cy="1569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216160" y="5384880"/>
              <a:ext cx="57240" cy="554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3" name=""/>
          <p:cNvGrpSpPr/>
          <p:nvPr/>
        </p:nvGrpSpPr>
        <p:grpSpPr>
          <a:xfrm>
            <a:off x="4168800" y="514440"/>
            <a:ext cx="131760" cy="27000"/>
            <a:chOff x="4168800" y="514440"/>
            <a:chExt cx="131760" cy="27000"/>
          </a:xfrm>
        </p:grpSpPr>
        <p:sp>
          <p:nvSpPr>
            <p:cNvPr id="1094" name=""/>
            <p:cNvSpPr/>
            <p:nvPr/>
          </p:nvSpPr>
          <p:spPr>
            <a:xfrm>
              <a:off x="4168800" y="51444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219560" y="51444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4273560" y="51444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7" name=""/>
          <p:cNvSpPr/>
          <p:nvPr/>
        </p:nvSpPr>
        <p:spPr>
          <a:xfrm>
            <a:off x="3673440" y="70956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3673440" y="51444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9" name=""/>
          <p:cNvGrpSpPr/>
          <p:nvPr/>
        </p:nvGrpSpPr>
        <p:grpSpPr>
          <a:xfrm>
            <a:off x="4976640" y="1133640"/>
            <a:ext cx="131760" cy="63360"/>
            <a:chOff x="4976640" y="1133640"/>
            <a:chExt cx="131760" cy="63360"/>
          </a:xfrm>
        </p:grpSpPr>
        <p:sp>
          <p:nvSpPr>
            <p:cNvPr id="1100" name=""/>
            <p:cNvSpPr/>
            <p:nvPr/>
          </p:nvSpPr>
          <p:spPr>
            <a:xfrm>
              <a:off x="5043240" y="113364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1" name=""/>
            <p:cNvGrpSpPr/>
            <p:nvPr/>
          </p:nvGrpSpPr>
          <p:grpSpPr>
            <a:xfrm>
              <a:off x="4976640" y="1133640"/>
              <a:ext cx="131760" cy="63360"/>
              <a:chOff x="4976640" y="1133640"/>
              <a:chExt cx="131760" cy="63360"/>
            </a:xfrm>
          </p:grpSpPr>
          <p:sp>
            <p:nvSpPr>
              <p:cNvPr id="1102" name=""/>
              <p:cNvSpPr/>
              <p:nvPr/>
            </p:nvSpPr>
            <p:spPr>
              <a:xfrm>
                <a:off x="4976640" y="113364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108400" y="113364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4" name=""/>
          <p:cNvGrpSpPr/>
          <p:nvPr/>
        </p:nvGrpSpPr>
        <p:grpSpPr>
          <a:xfrm>
            <a:off x="3860640" y="515880"/>
            <a:ext cx="74520" cy="28800"/>
            <a:chOff x="3860640" y="515880"/>
            <a:chExt cx="74520" cy="28800"/>
          </a:xfrm>
        </p:grpSpPr>
        <p:sp>
          <p:nvSpPr>
            <p:cNvPr id="1105" name=""/>
            <p:cNvSpPr/>
            <p:nvPr/>
          </p:nvSpPr>
          <p:spPr>
            <a:xfrm>
              <a:off x="3860640" y="51588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908160" y="51768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7" name=""/>
          <p:cNvGrpSpPr/>
          <p:nvPr/>
        </p:nvGrpSpPr>
        <p:grpSpPr>
          <a:xfrm>
            <a:off x="2517840" y="5799240"/>
            <a:ext cx="231840" cy="156960"/>
            <a:chOff x="2517840" y="5799240"/>
            <a:chExt cx="231840" cy="156960"/>
          </a:xfrm>
        </p:grpSpPr>
        <p:sp>
          <p:nvSpPr>
            <p:cNvPr id="1108" name=""/>
            <p:cNvSpPr/>
            <p:nvPr/>
          </p:nvSpPr>
          <p:spPr>
            <a:xfrm>
              <a:off x="2517840" y="5799240"/>
              <a:ext cx="231840" cy="1569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V="1">
              <a:off x="2517840" y="5802120"/>
              <a:ext cx="1141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631960" y="5799240"/>
              <a:ext cx="114480" cy="15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2577960" y="5878440"/>
              <a:ext cx="1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2" name=""/>
          <p:cNvGrpSpPr/>
          <p:nvPr/>
        </p:nvGrpSpPr>
        <p:grpSpPr>
          <a:xfrm>
            <a:off x="1547640" y="4649760"/>
            <a:ext cx="239760" cy="157320"/>
            <a:chOff x="1547640" y="4649760"/>
            <a:chExt cx="239760" cy="157320"/>
          </a:xfrm>
        </p:grpSpPr>
        <p:sp>
          <p:nvSpPr>
            <p:cNvPr id="1113" name=""/>
            <p:cNvSpPr/>
            <p:nvPr/>
          </p:nvSpPr>
          <p:spPr>
            <a:xfrm>
              <a:off x="1547640" y="4649760"/>
              <a:ext cx="239760" cy="157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650960" y="471024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5" name=""/>
          <p:cNvGrpSpPr/>
          <p:nvPr/>
        </p:nvGrpSpPr>
        <p:grpSpPr>
          <a:xfrm>
            <a:off x="3878280" y="709560"/>
            <a:ext cx="76320" cy="63720"/>
            <a:chOff x="3878280" y="709560"/>
            <a:chExt cx="76320" cy="63720"/>
          </a:xfrm>
        </p:grpSpPr>
        <p:sp>
          <p:nvSpPr>
            <p:cNvPr id="1116" name=""/>
            <p:cNvSpPr/>
            <p:nvPr/>
          </p:nvSpPr>
          <p:spPr>
            <a:xfrm>
              <a:off x="3878280" y="70956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954600" y="70956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8" name=""/>
          <p:cNvGrpSpPr/>
          <p:nvPr/>
        </p:nvGrpSpPr>
        <p:grpSpPr>
          <a:xfrm>
            <a:off x="4030560" y="861480"/>
            <a:ext cx="76320" cy="64080"/>
            <a:chOff x="4030560" y="861480"/>
            <a:chExt cx="76320" cy="64080"/>
          </a:xfrm>
        </p:grpSpPr>
        <p:sp>
          <p:nvSpPr>
            <p:cNvPr id="1119" name=""/>
            <p:cNvSpPr/>
            <p:nvPr/>
          </p:nvSpPr>
          <p:spPr>
            <a:xfrm>
              <a:off x="4030560" y="861840"/>
              <a:ext cx="7632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 flipV="1">
              <a:off x="4030560" y="861480"/>
              <a:ext cx="7632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1" name=""/>
          <p:cNvGrpSpPr/>
          <p:nvPr/>
        </p:nvGrpSpPr>
        <p:grpSpPr>
          <a:xfrm>
            <a:off x="3059280" y="3005280"/>
            <a:ext cx="239400" cy="156960"/>
            <a:chOff x="3059280" y="3005280"/>
            <a:chExt cx="239400" cy="156960"/>
          </a:xfrm>
        </p:grpSpPr>
        <p:sp>
          <p:nvSpPr>
            <p:cNvPr id="1122" name=""/>
            <p:cNvSpPr/>
            <p:nvPr/>
          </p:nvSpPr>
          <p:spPr>
            <a:xfrm>
              <a:off x="3059280" y="3005280"/>
              <a:ext cx="239400" cy="1569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144960" y="3130560"/>
              <a:ext cx="680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178080" y="3025800"/>
              <a:ext cx="0" cy="106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5" name=""/>
          <p:cNvGrpSpPr/>
          <p:nvPr/>
        </p:nvGrpSpPr>
        <p:grpSpPr>
          <a:xfrm>
            <a:off x="3095640" y="3262320"/>
            <a:ext cx="231840" cy="157320"/>
            <a:chOff x="3095640" y="3262320"/>
            <a:chExt cx="231840" cy="157320"/>
          </a:xfrm>
        </p:grpSpPr>
        <p:sp>
          <p:nvSpPr>
            <p:cNvPr id="1126" name=""/>
            <p:cNvSpPr/>
            <p:nvPr/>
          </p:nvSpPr>
          <p:spPr>
            <a:xfrm>
              <a:off x="3095640" y="3262320"/>
              <a:ext cx="231840" cy="157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 flipV="1">
              <a:off x="3211560" y="3265200"/>
              <a:ext cx="1141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095640" y="3262320"/>
              <a:ext cx="11412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197160" y="332748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0" name=""/>
          <p:cNvGrpSpPr/>
          <p:nvPr/>
        </p:nvGrpSpPr>
        <p:grpSpPr>
          <a:xfrm>
            <a:off x="3273480" y="4110120"/>
            <a:ext cx="231840" cy="156960"/>
            <a:chOff x="3273480" y="4110120"/>
            <a:chExt cx="231840" cy="156960"/>
          </a:xfrm>
        </p:grpSpPr>
        <p:sp>
          <p:nvSpPr>
            <p:cNvPr id="1131" name=""/>
            <p:cNvSpPr/>
            <p:nvPr/>
          </p:nvSpPr>
          <p:spPr>
            <a:xfrm>
              <a:off x="3273480" y="4110120"/>
              <a:ext cx="231840" cy="1569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V="1">
              <a:off x="3387600" y="4113000"/>
              <a:ext cx="1144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276720" y="4110120"/>
              <a:ext cx="11412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4" name=""/>
          <p:cNvGrpSpPr/>
          <p:nvPr/>
        </p:nvGrpSpPr>
        <p:grpSpPr>
          <a:xfrm>
            <a:off x="2133720" y="3341520"/>
            <a:ext cx="257040" cy="168480"/>
            <a:chOff x="2133720" y="3341520"/>
            <a:chExt cx="257040" cy="168480"/>
          </a:xfrm>
        </p:grpSpPr>
        <p:sp>
          <p:nvSpPr>
            <p:cNvPr id="1135" name=""/>
            <p:cNvSpPr/>
            <p:nvPr/>
          </p:nvSpPr>
          <p:spPr>
            <a:xfrm>
              <a:off x="2144880" y="3341520"/>
              <a:ext cx="245880" cy="168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V="1">
              <a:off x="2155680" y="3355560"/>
              <a:ext cx="220680" cy="12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155680" y="3355920"/>
              <a:ext cx="228600" cy="13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133720" y="3351240"/>
              <a:ext cx="61920" cy="150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9" name=""/>
          <p:cNvGrpSpPr/>
          <p:nvPr/>
        </p:nvGrpSpPr>
        <p:grpSpPr>
          <a:xfrm>
            <a:off x="2819520" y="5334120"/>
            <a:ext cx="231480" cy="198360"/>
            <a:chOff x="2819520" y="5334120"/>
            <a:chExt cx="231480" cy="198360"/>
          </a:xfrm>
        </p:grpSpPr>
        <p:grpSp>
          <p:nvGrpSpPr>
            <p:cNvPr id="1140" name=""/>
            <p:cNvGrpSpPr/>
            <p:nvPr/>
          </p:nvGrpSpPr>
          <p:grpSpPr>
            <a:xfrm>
              <a:off x="2819520" y="5334120"/>
              <a:ext cx="231480" cy="156960"/>
              <a:chOff x="2819520" y="5334120"/>
              <a:chExt cx="231480" cy="156960"/>
            </a:xfrm>
          </p:grpSpPr>
          <p:sp>
            <p:nvSpPr>
              <p:cNvPr id="1141" name=""/>
              <p:cNvSpPr/>
              <p:nvPr/>
            </p:nvSpPr>
            <p:spPr>
              <a:xfrm>
                <a:off x="2819520" y="5334120"/>
                <a:ext cx="231480" cy="1569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 flipV="1">
                <a:off x="2821680" y="5336280"/>
                <a:ext cx="225360" cy="15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2819520" y="5336280"/>
                <a:ext cx="230400" cy="149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4" name=""/>
            <p:cNvSpPr/>
            <p:nvPr/>
          </p:nvSpPr>
          <p:spPr>
            <a:xfrm>
              <a:off x="2830320" y="550548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011040" y="550548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6" name=""/>
          <p:cNvGrpSpPr/>
          <p:nvPr/>
        </p:nvGrpSpPr>
        <p:grpSpPr>
          <a:xfrm>
            <a:off x="838080" y="2743200"/>
            <a:ext cx="231840" cy="190440"/>
            <a:chOff x="838080" y="2743200"/>
            <a:chExt cx="231840" cy="190440"/>
          </a:xfrm>
        </p:grpSpPr>
        <p:sp>
          <p:nvSpPr>
            <p:cNvPr id="1147" name=""/>
            <p:cNvSpPr/>
            <p:nvPr/>
          </p:nvSpPr>
          <p:spPr>
            <a:xfrm>
              <a:off x="846000" y="290664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1027080" y="290664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9" name=""/>
            <p:cNvGrpSpPr/>
            <p:nvPr/>
          </p:nvGrpSpPr>
          <p:grpSpPr>
            <a:xfrm>
              <a:off x="838080" y="2743200"/>
              <a:ext cx="231840" cy="156960"/>
              <a:chOff x="838080" y="2743200"/>
              <a:chExt cx="231840" cy="156960"/>
            </a:xfrm>
          </p:grpSpPr>
          <p:sp>
            <p:nvSpPr>
              <p:cNvPr id="1150" name=""/>
              <p:cNvSpPr/>
              <p:nvPr/>
            </p:nvSpPr>
            <p:spPr>
              <a:xfrm>
                <a:off x="838080" y="2743200"/>
                <a:ext cx="231840" cy="1569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909360" y="2790360"/>
                <a:ext cx="0" cy="500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950760" y="2792880"/>
                <a:ext cx="0" cy="47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991440" y="2794320"/>
                <a:ext cx="0" cy="46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904680" y="2792880"/>
                <a:ext cx="936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5" name=""/>
          <p:cNvGrpSpPr/>
          <p:nvPr/>
        </p:nvGrpSpPr>
        <p:grpSpPr>
          <a:xfrm>
            <a:off x="2692440" y="4378320"/>
            <a:ext cx="231840" cy="157320"/>
            <a:chOff x="2692440" y="4378320"/>
            <a:chExt cx="231840" cy="157320"/>
          </a:xfrm>
        </p:grpSpPr>
        <p:sp>
          <p:nvSpPr>
            <p:cNvPr id="1156" name=""/>
            <p:cNvSpPr/>
            <p:nvPr/>
          </p:nvSpPr>
          <p:spPr>
            <a:xfrm>
              <a:off x="2692440" y="4378320"/>
              <a:ext cx="231840" cy="157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V="1">
              <a:off x="2693880" y="4381200"/>
              <a:ext cx="2271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2692440" y="4381560"/>
              <a:ext cx="23004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2784600" y="4478400"/>
              <a:ext cx="47520" cy="442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0" name=""/>
          <p:cNvGrpSpPr/>
          <p:nvPr/>
        </p:nvGrpSpPr>
        <p:grpSpPr>
          <a:xfrm>
            <a:off x="838080" y="2438280"/>
            <a:ext cx="231480" cy="157320"/>
            <a:chOff x="838080" y="2438280"/>
            <a:chExt cx="231480" cy="157320"/>
          </a:xfrm>
        </p:grpSpPr>
        <p:sp>
          <p:nvSpPr>
            <p:cNvPr id="1161" name=""/>
            <p:cNvSpPr/>
            <p:nvPr/>
          </p:nvSpPr>
          <p:spPr>
            <a:xfrm>
              <a:off x="838080" y="2438280"/>
              <a:ext cx="231480" cy="157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V="1">
              <a:off x="839520" y="2441160"/>
              <a:ext cx="2271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929880" y="2538360"/>
              <a:ext cx="47880" cy="442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4" name=""/>
          <p:cNvGrpSpPr/>
          <p:nvPr/>
        </p:nvGrpSpPr>
        <p:grpSpPr>
          <a:xfrm>
            <a:off x="2600280" y="4807080"/>
            <a:ext cx="231840" cy="156960"/>
            <a:chOff x="2600280" y="4807080"/>
            <a:chExt cx="231840" cy="156960"/>
          </a:xfrm>
        </p:grpSpPr>
        <p:sp>
          <p:nvSpPr>
            <p:cNvPr id="1165" name=""/>
            <p:cNvSpPr/>
            <p:nvPr/>
          </p:nvSpPr>
          <p:spPr>
            <a:xfrm>
              <a:off x="2600280" y="4807080"/>
              <a:ext cx="231840" cy="1569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V="1">
              <a:off x="2602080" y="4809960"/>
              <a:ext cx="2268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7" name=""/>
          <p:cNvGrpSpPr/>
          <p:nvPr/>
        </p:nvGrpSpPr>
        <p:grpSpPr>
          <a:xfrm>
            <a:off x="434880" y="2043000"/>
            <a:ext cx="239760" cy="156960"/>
            <a:chOff x="434880" y="2043000"/>
            <a:chExt cx="239760" cy="156960"/>
          </a:xfrm>
        </p:grpSpPr>
        <p:sp>
          <p:nvSpPr>
            <p:cNvPr id="1168" name=""/>
            <p:cNvSpPr/>
            <p:nvPr/>
          </p:nvSpPr>
          <p:spPr>
            <a:xfrm>
              <a:off x="434880" y="2043000"/>
              <a:ext cx="239760" cy="1569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71600" y="2082600"/>
              <a:ext cx="169920" cy="745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57280" y="2118960"/>
              <a:ext cx="0" cy="7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V="1">
              <a:off x="557280" y="2050560"/>
              <a:ext cx="4752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H="1" flipV="1">
              <a:off x="517680" y="2050560"/>
              <a:ext cx="3960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3" name=""/>
          <p:cNvGrpSpPr/>
          <p:nvPr/>
        </p:nvGrpSpPr>
        <p:grpSpPr>
          <a:xfrm>
            <a:off x="2846520" y="2265480"/>
            <a:ext cx="237960" cy="156960"/>
            <a:chOff x="2846520" y="2265480"/>
            <a:chExt cx="237960" cy="156960"/>
          </a:xfrm>
        </p:grpSpPr>
        <p:sp>
          <p:nvSpPr>
            <p:cNvPr id="1174" name=""/>
            <p:cNvSpPr/>
            <p:nvPr/>
          </p:nvSpPr>
          <p:spPr>
            <a:xfrm>
              <a:off x="2846520" y="2265480"/>
              <a:ext cx="237960" cy="1569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867040" y="2282760"/>
              <a:ext cx="196920" cy="122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6" name=""/>
          <p:cNvGrpSpPr/>
          <p:nvPr/>
        </p:nvGrpSpPr>
        <p:grpSpPr>
          <a:xfrm>
            <a:off x="4379760" y="4876920"/>
            <a:ext cx="231840" cy="156960"/>
            <a:chOff x="4379760" y="4876920"/>
            <a:chExt cx="231840" cy="156960"/>
          </a:xfrm>
        </p:grpSpPr>
        <p:sp>
          <p:nvSpPr>
            <p:cNvPr id="1177" name=""/>
            <p:cNvSpPr/>
            <p:nvPr/>
          </p:nvSpPr>
          <p:spPr>
            <a:xfrm>
              <a:off x="4379760" y="4876920"/>
              <a:ext cx="231840" cy="1569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V="1">
              <a:off x="4379760" y="4876920"/>
              <a:ext cx="23040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516560" y="498780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567320" y="498780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1" name=""/>
          <p:cNvSpPr/>
          <p:nvPr/>
        </p:nvSpPr>
        <p:spPr>
          <a:xfrm>
            <a:off x="4398840" y="5110200"/>
            <a:ext cx="231840" cy="156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535640" y="522144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4586400" y="522144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56:52Z</dcterms:created>
  <dc:creator>JXBake00</dc:creator>
  <dc:description/>
  <dc:language>en-US</dc:language>
  <cp:lastModifiedBy>Jim Baker</cp:lastModifiedBy>
  <cp:lastPrinted>2002-08-31T09:51:23Z</cp:lastPrinted>
  <dcterms:modified xsi:type="dcterms:W3CDTF">2005-02-10T14:20:10Z</dcterms:modified>
  <cp:revision>38</cp:revision>
  <dc:subject/>
  <dc:title>PowerPoint Presentation</dc:title>
</cp:coreProperties>
</file>