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315200" cy="963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14F-F656-4235-BDBE-8506A5E2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580464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D5F-C5F7-44AE-AF31-46626196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464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8EC-9F44-43FB-86E7-45B003C6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40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5344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40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5344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FFF-15E3-4026-BD18-5485A9D3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F9F-835D-421B-B170-049FD2C8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E92-E180-496C-B98C-4897E58F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315-8A2D-4231-B3D0-2C309929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15E-349E-4F50-9610-5D648809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857160"/>
            <a:ext cx="6216480" cy="74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4BD-43A4-406A-A908-A094F60C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CAC-CDC5-483B-BB7D-CDE7D05F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464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946-2B3F-488C-A553-4214F994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335-F3CA-4B5B-A23F-D83B0CF0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8780400"/>
            <a:ext cx="152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780400"/>
            <a:ext cx="23176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780400"/>
            <a:ext cx="152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C192-C738-47C1-A7B3-9F499A16E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14800" y="2149560"/>
            <a:ext cx="23184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04920"/>
            <a:ext cx="632484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lian Tables of Organization, “Operation Compass” - December 194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5241960"/>
            <a:ext cx="21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mm Breda 37 MMG     IT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48320" y="4251240"/>
            <a:ext cx="21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S 37 Light Truck         IT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363384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      IT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3640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323120" y="1959120"/>
          <a:ext cx="5608800" cy="37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3120" y="1959120"/>
                    <a:ext cx="560880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4267080" y="833400"/>
            <a:ext cx="2819520" cy="276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rsaglieri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Autotrasportat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tta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239840"/>
            <a:ext cx="2438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Headquarters Element [Experienced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er                         IT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at 508 CM                         IT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186840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Bersaglieri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722680"/>
            <a:ext cx="23144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mm Infantry Gun             IT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S 37 Light Truck               IT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4138560"/>
            <a:ext cx="0" cy="142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871720"/>
            <a:ext cx="0" cy="684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1195560"/>
            <a:ext cx="0" cy="10141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1887480"/>
            <a:ext cx="23976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391464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mm Solorthurn ATR  IT-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54100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rganic Fire Suppor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114800" y="188136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25960" y="1897200"/>
            <a:ext cx="2412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523880"/>
            <a:ext cx="0" cy="684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4572000"/>
            <a:ext cx="201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ersaglieri                     IT-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5851440"/>
            <a:ext cx="232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S 37 Light Truck          IT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3508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330516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rsaglieri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833400"/>
            <a:ext cx="533520" cy="362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2422440"/>
            <a:ext cx="22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7mm Antitank Gun            IT-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94120" y="24829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198108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4479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33960" y="1828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889440" y="762120"/>
            <a:ext cx="75960" cy="63360"/>
            <a:chOff x="3889440" y="762120"/>
            <a:chExt cx="75960" cy="63360"/>
          </a:xfrm>
        </p:grpSpPr>
        <p:sp>
          <p:nvSpPr>
            <p:cNvPr id="73" name=""/>
            <p:cNvSpPr/>
            <p:nvPr/>
          </p:nvSpPr>
          <p:spPr>
            <a:xfrm>
              <a:off x="3889440" y="762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65400" y="762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114800" y="2714760"/>
            <a:ext cx="23184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2209680"/>
            <a:ext cx="0" cy="57780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1371600"/>
            <a:ext cx="23184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657600" y="8301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65520" y="8301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174456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MANEUVER ELE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29248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ATTACH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81360" y="1203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91040" y="1203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83200" y="2362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2940120"/>
            <a:ext cx="23184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1584360"/>
            <a:ext cx="23184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25960" y="25858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07040" y="2585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2414520"/>
            <a:ext cx="23184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114800" y="2417400"/>
            <a:ext cx="114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29280" y="2417760"/>
            <a:ext cx="11412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99120" y="1752480"/>
            <a:ext cx="266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30640" y="17524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90840" y="31161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30640" y="31161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35400" y="23623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70520" y="134784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94120" y="278748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5546880"/>
            <a:ext cx="20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5mm Brixia Mortar       IT-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4114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57800" y="5273640"/>
            <a:ext cx="23184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365720" y="5276880"/>
            <a:ext cx="22860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437000" y="5213520"/>
            <a:ext cx="74520" cy="28080"/>
            <a:chOff x="4437000" y="5213520"/>
            <a:chExt cx="74520" cy="28080"/>
          </a:xfrm>
        </p:grpSpPr>
        <p:sp>
          <p:nvSpPr>
            <p:cNvPr id="104" name=""/>
            <p:cNvSpPr/>
            <p:nvPr/>
          </p:nvSpPr>
          <p:spPr>
            <a:xfrm>
              <a:off x="4437000" y="52135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84520" y="52149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357800" y="5275440"/>
            <a:ext cx="55440" cy="15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73640" y="5281560"/>
            <a:ext cx="22680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357800" y="3670200"/>
            <a:ext cx="231840" cy="157320"/>
            <a:chOff x="4357800" y="3670200"/>
            <a:chExt cx="231840" cy="157320"/>
          </a:xfrm>
        </p:grpSpPr>
        <p:sp>
          <p:nvSpPr>
            <p:cNvPr id="109" name=""/>
            <p:cNvSpPr/>
            <p:nvPr/>
          </p:nvSpPr>
          <p:spPr>
            <a:xfrm>
              <a:off x="4357800" y="3670200"/>
              <a:ext cx="23184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81560" y="3692520"/>
              <a:ext cx="184320" cy="110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467240" y="36273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67160" y="4280040"/>
            <a:ext cx="23184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78320" y="44434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59400" y="44434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59240" y="5878440"/>
            <a:ext cx="23184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70400" y="60418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51480" y="6041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95720" y="3354480"/>
            <a:ext cx="23184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06960" y="32828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02200" y="336060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05440" y="334476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59240" y="4633920"/>
            <a:ext cx="231840" cy="165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65720" y="464652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362480" y="463860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3833640"/>
            <a:ext cx="0" cy="142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03880" y="5433840"/>
            <a:ext cx="0" cy="142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808520"/>
            <a:ext cx="0" cy="142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5735520"/>
            <a:ext cx="0" cy="142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57150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09700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Motorcycle Scout Plato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114800" y="2138400"/>
            <a:ext cx="2365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94120" y="22255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046920"/>
            <a:ext cx="2133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/35 Light Tank                 IT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3520" y="5857920"/>
            <a:ext cx="239760" cy="156960"/>
            <a:chOff x="533520" y="5857920"/>
            <a:chExt cx="239760" cy="156960"/>
          </a:xfrm>
        </p:grpSpPr>
        <p:sp>
          <p:nvSpPr>
            <p:cNvPr id="135" name=""/>
            <p:cNvSpPr/>
            <p:nvPr/>
          </p:nvSpPr>
          <p:spPr>
            <a:xfrm>
              <a:off x="533520" y="5857920"/>
              <a:ext cx="23976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7440" y="5897160"/>
              <a:ext cx="151560" cy="748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09480" y="6024600"/>
            <a:ext cx="0" cy="8366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6861240"/>
            <a:ext cx="304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6251400"/>
            <a:ext cx="304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579420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ht Tank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76200" y="6796080"/>
            <a:ext cx="259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/33 Lanciafiamme           IT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6175440"/>
            <a:ext cx="239760" cy="156960"/>
            <a:chOff x="914400" y="6175440"/>
            <a:chExt cx="239760" cy="156960"/>
          </a:xfrm>
        </p:grpSpPr>
        <p:sp>
          <p:nvSpPr>
            <p:cNvPr id="143" name=""/>
            <p:cNvSpPr/>
            <p:nvPr/>
          </p:nvSpPr>
          <p:spPr>
            <a:xfrm>
              <a:off x="914400" y="6175440"/>
              <a:ext cx="23976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58320" y="6214680"/>
              <a:ext cx="151560" cy="748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219320" y="6496200"/>
            <a:ext cx="2133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/35 Light Tank                 IT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120" y="57913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6467400"/>
            <a:ext cx="23976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58680" y="6507000"/>
            <a:ext cx="150840" cy="748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06560" y="6411960"/>
            <a:ext cx="74520" cy="28080"/>
            <a:chOff x="1006560" y="6411960"/>
            <a:chExt cx="74520" cy="28080"/>
          </a:xfrm>
        </p:grpSpPr>
        <p:sp>
          <p:nvSpPr>
            <p:cNvPr id="150" name=""/>
            <p:cNvSpPr/>
            <p:nvPr/>
          </p:nvSpPr>
          <p:spPr>
            <a:xfrm>
              <a:off x="1006560" y="64119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4080" y="64134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09480" y="6556320"/>
            <a:ext cx="304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6780240"/>
            <a:ext cx="239760" cy="156960"/>
            <a:chOff x="914400" y="6780240"/>
            <a:chExt cx="239760" cy="156960"/>
          </a:xfrm>
        </p:grpSpPr>
        <p:sp>
          <p:nvSpPr>
            <p:cNvPr id="154" name=""/>
            <p:cNvSpPr/>
            <p:nvPr/>
          </p:nvSpPr>
          <p:spPr>
            <a:xfrm>
              <a:off x="914400" y="6780240"/>
              <a:ext cx="23976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51120" y="6819840"/>
              <a:ext cx="169920" cy="745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36800" y="6856200"/>
              <a:ext cx="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036800" y="6787800"/>
              <a:ext cx="475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997200" y="6787800"/>
              <a:ext cx="396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22400" y="61182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006560" y="6724800"/>
            <a:ext cx="74520" cy="28080"/>
            <a:chOff x="1006560" y="6724800"/>
            <a:chExt cx="74520" cy="28080"/>
          </a:xfrm>
        </p:grpSpPr>
        <p:sp>
          <p:nvSpPr>
            <p:cNvPr id="161" name=""/>
            <p:cNvSpPr/>
            <p:nvPr/>
          </p:nvSpPr>
          <p:spPr>
            <a:xfrm>
              <a:off x="1006560" y="672480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54080" y="67262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22360" y="7383600"/>
            <a:ext cx="23976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6640" y="7423200"/>
            <a:ext cx="150840" cy="7452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001880" y="7612200"/>
            <a:ext cx="74520" cy="28080"/>
            <a:chOff x="1001880" y="7612200"/>
            <a:chExt cx="74520" cy="28080"/>
          </a:xfrm>
        </p:grpSpPr>
        <p:sp>
          <p:nvSpPr>
            <p:cNvPr id="166" name=""/>
            <p:cNvSpPr/>
            <p:nvPr/>
          </p:nvSpPr>
          <p:spPr>
            <a:xfrm>
              <a:off x="1001880" y="761220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9400" y="76136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914400" y="7683480"/>
            <a:ext cx="23976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8680" y="7723080"/>
            <a:ext cx="150840" cy="7488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01880" y="7916760"/>
            <a:ext cx="74520" cy="28800"/>
            <a:chOff x="1001880" y="7916760"/>
            <a:chExt cx="74520" cy="28800"/>
          </a:xfrm>
        </p:grpSpPr>
        <p:sp>
          <p:nvSpPr>
            <p:cNvPr id="171" name=""/>
            <p:cNvSpPr/>
            <p:nvPr/>
          </p:nvSpPr>
          <p:spPr>
            <a:xfrm>
              <a:off x="1001880" y="79167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49400" y="79185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14400" y="7988400"/>
            <a:ext cx="239760" cy="156960"/>
            <a:chOff x="914400" y="7988400"/>
            <a:chExt cx="239760" cy="156960"/>
          </a:xfrm>
        </p:grpSpPr>
        <p:sp>
          <p:nvSpPr>
            <p:cNvPr id="174" name=""/>
            <p:cNvSpPr/>
            <p:nvPr/>
          </p:nvSpPr>
          <p:spPr>
            <a:xfrm>
              <a:off x="914400" y="7988400"/>
              <a:ext cx="23976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58320" y="8027640"/>
              <a:ext cx="151560" cy="748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09480" y="8069400"/>
            <a:ext cx="304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7764480"/>
            <a:ext cx="304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8013600"/>
            <a:ext cx="25146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11/39 Medium Tank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   IT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8280" y="73072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73072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um Tank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7553160"/>
            <a:ext cx="0" cy="5162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7556400"/>
            <a:ext cx="23619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11/39 Medium Tank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   IT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38080" y="4338720"/>
            <a:ext cx="231840" cy="156960"/>
            <a:chOff x="838080" y="4338720"/>
            <a:chExt cx="231840" cy="156960"/>
          </a:xfrm>
        </p:grpSpPr>
        <p:sp>
          <p:nvSpPr>
            <p:cNvPr id="184" name=""/>
            <p:cNvSpPr/>
            <p:nvPr/>
          </p:nvSpPr>
          <p:spPr>
            <a:xfrm>
              <a:off x="838080" y="4338720"/>
              <a:ext cx="23184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71560" y="4379760"/>
              <a:ext cx="162000" cy="763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80880" y="3048120"/>
            <a:ext cx="533160" cy="361440"/>
            <a:chOff x="380880" y="3048120"/>
            <a:chExt cx="533160" cy="361440"/>
          </a:xfrm>
        </p:grpSpPr>
        <p:sp>
          <p:nvSpPr>
            <p:cNvPr id="187" name=""/>
            <p:cNvSpPr/>
            <p:nvPr/>
          </p:nvSpPr>
          <p:spPr>
            <a:xfrm>
              <a:off x="380880" y="3048120"/>
              <a:ext cx="533160" cy="3614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8800" y="3138480"/>
              <a:ext cx="342000" cy="1724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990720" y="3048120"/>
            <a:ext cx="2514600" cy="307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 Tank Batta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3487680"/>
            <a:ext cx="2362320" cy="10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Headquarters Ele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er                      IT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at 508 CM                      IT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11/39 Medium Tank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IT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47847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Medium Tank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838080" y="4800600"/>
            <a:ext cx="239760" cy="157320"/>
            <a:chOff x="838080" y="4800600"/>
            <a:chExt cx="239760" cy="157320"/>
          </a:xfrm>
        </p:grpSpPr>
        <p:sp>
          <p:nvSpPr>
            <p:cNvPr id="193" name=""/>
            <p:cNvSpPr/>
            <p:nvPr/>
          </p:nvSpPr>
          <p:spPr>
            <a:xfrm>
              <a:off x="838080" y="4800600"/>
              <a:ext cx="239760" cy="157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82000" y="4839840"/>
              <a:ext cx="151560" cy="748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09480" y="3413160"/>
            <a:ext cx="0" cy="146376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4197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73536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12720" y="2976480"/>
            <a:ext cx="76320" cy="63360"/>
            <a:chOff x="612720" y="2976480"/>
            <a:chExt cx="76320" cy="63360"/>
          </a:xfrm>
        </p:grpSpPr>
        <p:sp>
          <p:nvSpPr>
            <p:cNvPr id="199" name=""/>
            <p:cNvSpPr/>
            <p:nvPr/>
          </p:nvSpPr>
          <p:spPr>
            <a:xfrm>
              <a:off x="612720" y="29764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9040" y="29764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838080" y="3968640"/>
            <a:ext cx="23184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9240" y="4132440"/>
            <a:ext cx="27000" cy="26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30320" y="4132440"/>
            <a:ext cx="28440" cy="26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46080" y="39146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4648320"/>
            <a:ext cx="159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58680" y="47293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657600"/>
            <a:ext cx="23184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3800" y="363204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080" y="36050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769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47880" y="42829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501336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Replace in III and V battalions with M13/40 IT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8210520"/>
            <a:ext cx="31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Replace in III and V battalions with M13/40 IT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271764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122720" y="270828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14880" y="27828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183200" y="2658960"/>
            <a:ext cx="88920" cy="27000"/>
            <a:chOff x="4183200" y="2658960"/>
            <a:chExt cx="88920" cy="27000"/>
          </a:xfrm>
        </p:grpSpPr>
        <p:sp>
          <p:nvSpPr>
            <p:cNvPr id="218" name=""/>
            <p:cNvSpPr/>
            <p:nvPr/>
          </p:nvSpPr>
          <p:spPr>
            <a:xfrm>
              <a:off x="4243320" y="26589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83200" y="2658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295880" y="22622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72040" y="2097000"/>
            <a:ext cx="118800" cy="28080"/>
            <a:chOff x="4172040" y="2097000"/>
            <a:chExt cx="118800" cy="28080"/>
          </a:xfrm>
        </p:grpSpPr>
        <p:sp>
          <p:nvSpPr>
            <p:cNvPr id="222" name=""/>
            <p:cNvSpPr/>
            <p:nvPr/>
          </p:nvSpPr>
          <p:spPr>
            <a:xfrm>
              <a:off x="4263840" y="20970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72040" y="2097000"/>
              <a:ext cx="74520" cy="28080"/>
              <a:chOff x="4172040" y="2097000"/>
              <a:chExt cx="74520" cy="28080"/>
            </a:xfrm>
          </p:grpSpPr>
          <p:sp>
            <p:nvSpPr>
              <p:cNvPr id="224" name=""/>
              <p:cNvSpPr/>
              <p:nvPr/>
            </p:nvSpPr>
            <p:spPr>
              <a:xfrm>
                <a:off x="4172040" y="20970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219560" y="20984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4246560" y="22622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14880" y="1327320"/>
            <a:ext cx="27000" cy="26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367160" y="3936960"/>
            <a:ext cx="231840" cy="198000"/>
            <a:chOff x="4367160" y="3936960"/>
            <a:chExt cx="231840" cy="198000"/>
          </a:xfrm>
        </p:grpSpPr>
        <p:grpSp>
          <p:nvGrpSpPr>
            <p:cNvPr id="229" name=""/>
            <p:cNvGrpSpPr/>
            <p:nvPr/>
          </p:nvGrpSpPr>
          <p:grpSpPr>
            <a:xfrm>
              <a:off x="4367160" y="3978000"/>
              <a:ext cx="231840" cy="156960"/>
              <a:chOff x="4367160" y="3978000"/>
              <a:chExt cx="231840" cy="156960"/>
            </a:xfrm>
          </p:grpSpPr>
          <p:sp>
            <p:nvSpPr>
              <p:cNvPr id="230" name=""/>
              <p:cNvSpPr/>
              <p:nvPr/>
            </p:nvSpPr>
            <p:spPr>
              <a:xfrm>
                <a:off x="4367160" y="3978000"/>
                <a:ext cx="231840" cy="15696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4481280" y="3980880"/>
                <a:ext cx="114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370400" y="3978000"/>
                <a:ext cx="11412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444920" y="3936960"/>
              <a:ext cx="74520" cy="28080"/>
              <a:chOff x="4444920" y="3936960"/>
              <a:chExt cx="74520" cy="28080"/>
            </a:xfrm>
          </p:grpSpPr>
          <p:sp>
            <p:nvSpPr>
              <p:cNvPr id="234" name=""/>
              <p:cNvSpPr/>
              <p:nvPr/>
            </p:nvSpPr>
            <p:spPr>
              <a:xfrm>
                <a:off x="4444920" y="3936960"/>
                <a:ext cx="28440" cy="2664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92440" y="3938400"/>
                <a:ext cx="27000" cy="2664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" name=""/>
          <p:cNvSpPr/>
          <p:nvPr/>
        </p:nvSpPr>
        <p:spPr>
          <a:xfrm>
            <a:off x="4724280" y="68389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IT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24280" y="71438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torcycle             IT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743256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MG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IT-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775656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torcycle            IT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40320" y="7643880"/>
            <a:ext cx="0" cy="1332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7480" y="7769160"/>
            <a:ext cx="23976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43560" y="7039080"/>
            <a:ext cx="0" cy="1332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84520" y="7156440"/>
            <a:ext cx="23976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6642000"/>
            <a:ext cx="23184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65707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torcycle Scout Plato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91120" y="6810480"/>
            <a:ext cx="0" cy="75096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03680" y="71121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95760" y="68310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7480" y="7485120"/>
            <a:ext cx="23976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497480" y="7485120"/>
            <a:ext cx="2365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6951600"/>
            <a:ext cx="29988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7561440"/>
            <a:ext cx="29988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672300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572000" y="7713720"/>
            <a:ext cx="74520" cy="28080"/>
            <a:chOff x="4572000" y="7713720"/>
            <a:chExt cx="74520" cy="28080"/>
          </a:xfrm>
        </p:grpSpPr>
        <p:sp>
          <p:nvSpPr>
            <p:cNvPr id="255" name=""/>
            <p:cNvSpPr/>
            <p:nvPr/>
          </p:nvSpPr>
          <p:spPr>
            <a:xfrm>
              <a:off x="4572000" y="77137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9520" y="77151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 flipV="1">
            <a:off x="4114800" y="6641640"/>
            <a:ext cx="23652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495680" y="6875640"/>
            <a:ext cx="231840" cy="156960"/>
            <a:chOff x="4495680" y="6875640"/>
            <a:chExt cx="231840" cy="156960"/>
          </a:xfrm>
        </p:grpSpPr>
        <p:sp>
          <p:nvSpPr>
            <p:cNvPr id="259" name=""/>
            <p:cNvSpPr/>
            <p:nvPr/>
          </p:nvSpPr>
          <p:spPr>
            <a:xfrm>
              <a:off x="4495680" y="6875640"/>
              <a:ext cx="23184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19440" y="6897600"/>
              <a:ext cx="184320" cy="110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724280" y="7039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24280" y="7629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170240" y="6586560"/>
            <a:ext cx="118800" cy="28080"/>
            <a:chOff x="4170240" y="6586560"/>
            <a:chExt cx="118800" cy="28080"/>
          </a:xfrm>
        </p:grpSpPr>
        <p:sp>
          <p:nvSpPr>
            <p:cNvPr id="264" name=""/>
            <p:cNvSpPr/>
            <p:nvPr/>
          </p:nvSpPr>
          <p:spPr>
            <a:xfrm>
              <a:off x="4262040" y="65865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4170240" y="6586560"/>
              <a:ext cx="74520" cy="28080"/>
              <a:chOff x="4170240" y="6586560"/>
              <a:chExt cx="74520" cy="28080"/>
            </a:xfrm>
          </p:grpSpPr>
          <p:sp>
            <p:nvSpPr>
              <p:cNvPr id="266" name=""/>
              <p:cNvSpPr/>
              <p:nvPr/>
            </p:nvSpPr>
            <p:spPr>
              <a:xfrm>
                <a:off x="4170240" y="65865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17760" y="65880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243320" y="6753240"/>
            <a:ext cx="74520" cy="28080"/>
            <a:chOff x="4243320" y="6753240"/>
            <a:chExt cx="74520" cy="28080"/>
          </a:xfrm>
        </p:grpSpPr>
        <p:sp>
          <p:nvSpPr>
            <p:cNvPr id="269" name=""/>
            <p:cNvSpPr/>
            <p:nvPr/>
          </p:nvSpPr>
          <p:spPr>
            <a:xfrm>
              <a:off x="4243320" y="675324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90840" y="67546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4600440" y="73278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03680" y="79455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7493040"/>
            <a:ext cx="55800" cy="150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11520" y="7493040"/>
            <a:ext cx="22716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578480" y="7443720"/>
            <a:ext cx="74520" cy="28800"/>
            <a:chOff x="4578480" y="7443720"/>
            <a:chExt cx="74520" cy="28800"/>
          </a:xfrm>
        </p:grpSpPr>
        <p:sp>
          <p:nvSpPr>
            <p:cNvPr id="276" name=""/>
            <p:cNvSpPr/>
            <p:nvPr/>
          </p:nvSpPr>
          <p:spPr>
            <a:xfrm>
              <a:off x="4578480" y="74437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26000" y="74455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4359240" y="4951440"/>
            <a:ext cx="23184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70400" y="5114880"/>
            <a:ext cx="27000" cy="270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51480" y="5114880"/>
            <a:ext cx="28440" cy="270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438800" y="4892760"/>
            <a:ext cx="74520" cy="28080"/>
            <a:chOff x="4438800" y="4892760"/>
            <a:chExt cx="74520" cy="28080"/>
          </a:xfrm>
        </p:grpSpPr>
        <p:sp>
          <p:nvSpPr>
            <p:cNvPr id="282" name=""/>
            <p:cNvSpPr/>
            <p:nvPr/>
          </p:nvSpPr>
          <p:spPr>
            <a:xfrm>
              <a:off x="4438800" y="48927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86320" y="48942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4648320" y="47242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4876920"/>
            <a:ext cx="21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S 37 Light Truck          IT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51055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51320" y="5575320"/>
            <a:ext cx="23976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467240" y="560700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35560" y="57038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427640" y="5514840"/>
            <a:ext cx="74520" cy="28800"/>
            <a:chOff x="4427640" y="5514840"/>
            <a:chExt cx="74520" cy="28800"/>
          </a:xfrm>
        </p:grpSpPr>
        <p:sp>
          <p:nvSpPr>
            <p:cNvPr id="291" name=""/>
            <p:cNvSpPr/>
            <p:nvPr/>
          </p:nvSpPr>
          <p:spPr>
            <a:xfrm>
              <a:off x="4427640" y="5514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75160" y="55166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4130640" y="3521160"/>
            <a:ext cx="0" cy="121896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30640" y="4748040"/>
            <a:ext cx="0" cy="88272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27400" y="56275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35320" y="536256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38560" y="374184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38560" y="472428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64000" y="42274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446720" y="5819760"/>
            <a:ext cx="74520" cy="28080"/>
            <a:chOff x="4446720" y="5819760"/>
            <a:chExt cx="74520" cy="28080"/>
          </a:xfrm>
        </p:grpSpPr>
        <p:sp>
          <p:nvSpPr>
            <p:cNvPr id="301" name=""/>
            <p:cNvSpPr/>
            <p:nvPr/>
          </p:nvSpPr>
          <p:spPr>
            <a:xfrm>
              <a:off x="4446720" y="58197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4240" y="58212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838080" y="2128680"/>
            <a:ext cx="231840" cy="156960"/>
            <a:chOff x="838080" y="2128680"/>
            <a:chExt cx="231840" cy="156960"/>
          </a:xfrm>
        </p:grpSpPr>
        <p:sp>
          <p:nvSpPr>
            <p:cNvPr id="304" name=""/>
            <p:cNvSpPr/>
            <p:nvPr/>
          </p:nvSpPr>
          <p:spPr>
            <a:xfrm>
              <a:off x="838080" y="2128680"/>
              <a:ext cx="23184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71560" y="2169720"/>
              <a:ext cx="162000" cy="763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80880" y="838080"/>
            <a:ext cx="533160" cy="361800"/>
            <a:chOff x="380880" y="838080"/>
            <a:chExt cx="533160" cy="361800"/>
          </a:xfrm>
        </p:grpSpPr>
        <p:sp>
          <p:nvSpPr>
            <p:cNvPr id="307" name=""/>
            <p:cNvSpPr/>
            <p:nvPr/>
          </p:nvSpPr>
          <p:spPr>
            <a:xfrm>
              <a:off x="380880" y="838080"/>
              <a:ext cx="533160" cy="3618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8800" y="928800"/>
              <a:ext cx="342000" cy="1728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990720" y="838080"/>
            <a:ext cx="2514600" cy="307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ght Tank Batta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1278000"/>
            <a:ext cx="1981080" cy="10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Headquarters Ele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er            IT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at 508 CM            IT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/35 MG Light Tank IT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25750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Light Tank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38080" y="2590920"/>
            <a:ext cx="239760" cy="156960"/>
            <a:chOff x="838080" y="2590920"/>
            <a:chExt cx="239760" cy="156960"/>
          </a:xfrm>
        </p:grpSpPr>
        <p:sp>
          <p:nvSpPr>
            <p:cNvPr id="313" name=""/>
            <p:cNvSpPr/>
            <p:nvPr/>
          </p:nvSpPr>
          <p:spPr>
            <a:xfrm>
              <a:off x="838080" y="2590920"/>
              <a:ext cx="239760" cy="156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2000" y="2630160"/>
              <a:ext cx="151560" cy="748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609480" y="1203480"/>
            <a:ext cx="0" cy="14634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220968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152568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12720" y="766800"/>
            <a:ext cx="76320" cy="63360"/>
            <a:chOff x="612720" y="766800"/>
            <a:chExt cx="76320" cy="63360"/>
          </a:xfrm>
        </p:grpSpPr>
        <p:sp>
          <p:nvSpPr>
            <p:cNvPr id="319" name=""/>
            <p:cNvSpPr/>
            <p:nvPr/>
          </p:nvSpPr>
          <p:spPr>
            <a:xfrm>
              <a:off x="612720" y="7668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9040" y="7668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38080" y="1758960"/>
            <a:ext cx="23184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9240" y="19224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30320" y="19224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46080" y="17049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2438280"/>
            <a:ext cx="159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58680" y="25192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1447920"/>
            <a:ext cx="23184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3800" y="142236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6080" y="13953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266688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47880" y="20732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90640" y="1616040"/>
            <a:ext cx="0" cy="142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90640" y="3827520"/>
            <a:ext cx="0" cy="142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437000" y="4570560"/>
            <a:ext cx="74520" cy="28080"/>
            <a:chOff x="4437000" y="4570560"/>
            <a:chExt cx="74520" cy="28080"/>
          </a:xfrm>
        </p:grpSpPr>
        <p:sp>
          <p:nvSpPr>
            <p:cNvPr id="335" name=""/>
            <p:cNvSpPr/>
            <p:nvPr/>
          </p:nvSpPr>
          <p:spPr>
            <a:xfrm>
              <a:off x="4437000" y="45705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84520" y="45720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974880"/>
            <a:ext cx="0" cy="18446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34000" y="2021040"/>
            <a:ext cx="21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reda M 30 LMG    IT-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1295280"/>
            <a:ext cx="0" cy="684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24280" y="1716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Rifle section            IT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34000" y="130644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76800" y="1103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604800"/>
            <a:ext cx="533520" cy="362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19320" y="3048120"/>
            <a:ext cx="199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7mm Antitank Gun     IT-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5053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82880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12193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1741320"/>
            <a:ext cx="23976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914400" y="173520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25560" y="175104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33560" y="16826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89040" y="533520"/>
            <a:ext cx="75960" cy="63360"/>
            <a:chOff x="689040" y="533520"/>
            <a:chExt cx="75960" cy="63360"/>
          </a:xfrm>
        </p:grpSpPr>
        <p:sp>
          <p:nvSpPr>
            <p:cNvPr id="353" name=""/>
            <p:cNvSpPr/>
            <p:nvPr/>
          </p:nvSpPr>
          <p:spPr>
            <a:xfrm>
              <a:off x="689040" y="533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5000" y="533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685800" y="2819520"/>
            <a:ext cx="0" cy="68580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14400" y="1143000"/>
            <a:ext cx="23184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49280" y="59364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" y="59364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19320" y="16002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MANEUVER ELE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19320" y="205740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ATTACH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1355760"/>
            <a:ext cx="23184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70120" y="111924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14480" y="1098720"/>
            <a:ext cx="27000" cy="26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3720" y="316080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34000" y="2309760"/>
            <a:ext cx="18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5mm Brixia Mortar IT-3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76640" y="1311120"/>
            <a:ext cx="0" cy="11430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02080" y="2049480"/>
            <a:ext cx="23184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479840" y="1989000"/>
            <a:ext cx="74520" cy="28800"/>
            <a:chOff x="4479840" y="1989000"/>
            <a:chExt cx="74520" cy="28800"/>
          </a:xfrm>
        </p:grpSpPr>
        <p:sp>
          <p:nvSpPr>
            <p:cNvPr id="369" name=""/>
            <p:cNvSpPr/>
            <p:nvPr/>
          </p:nvSpPr>
          <p:spPr>
            <a:xfrm>
              <a:off x="4479840" y="19890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27360" y="19908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073400" y="1535040"/>
            <a:ext cx="30024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94160" y="1752480"/>
            <a:ext cx="231840" cy="165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89240" y="2444760"/>
            <a:ext cx="30024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6240" y="1468440"/>
            <a:ext cx="23184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0000" y="1490760"/>
            <a:ext cx="184320" cy="1108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87760" y="14256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471920" y="1697040"/>
            <a:ext cx="74520" cy="28080"/>
            <a:chOff x="4471920" y="1697040"/>
            <a:chExt cx="74520" cy="28080"/>
          </a:xfrm>
        </p:grpSpPr>
        <p:sp>
          <p:nvSpPr>
            <p:cNvPr id="378" name=""/>
            <p:cNvSpPr/>
            <p:nvPr/>
          </p:nvSpPr>
          <p:spPr>
            <a:xfrm>
              <a:off x="4471920" y="169704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19440" y="16984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4029120" y="1152360"/>
            <a:ext cx="23184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1081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35600" y="115884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038480" y="1143000"/>
            <a:ext cx="23040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02080" y="2360520"/>
            <a:ext cx="23976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522320" y="238284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86320" y="248616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411800" y="235440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08560" y="236520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00640" y="1765440"/>
            <a:ext cx="2412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397400" y="175752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476600" y="2309760"/>
            <a:ext cx="74520" cy="28800"/>
            <a:chOff x="4476600" y="2309760"/>
            <a:chExt cx="74520" cy="28800"/>
          </a:xfrm>
        </p:grpSpPr>
        <p:sp>
          <p:nvSpPr>
            <p:cNvPr id="392" name=""/>
            <p:cNvSpPr/>
            <p:nvPr/>
          </p:nvSpPr>
          <p:spPr>
            <a:xfrm>
              <a:off x="4476600" y="23097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24120" y="23115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405320" y="205740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402080" y="2049480"/>
            <a:ext cx="23040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19320" y="341316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75mm Light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609480"/>
            <a:ext cx="2514600" cy="307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antry Batta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19320" y="1022400"/>
            <a:ext cx="19810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er                 IT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at 508 CM                 IT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19320" y="173664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35160" y="25146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rganic Fire Suppor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35160" y="2666880"/>
            <a:ext cx="216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5mm Brixia Mortar     IT-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2727360"/>
            <a:ext cx="23976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038240" y="275904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98640" y="285588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2666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38240" y="26686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2270160"/>
            <a:ext cx="23184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922320" y="2273400"/>
            <a:ext cx="22860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15840" y="2271600"/>
            <a:ext cx="22716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93600" y="2209680"/>
            <a:ext cx="74520" cy="28800"/>
            <a:chOff x="993600" y="2209680"/>
            <a:chExt cx="74520" cy="28800"/>
          </a:xfrm>
        </p:grpSpPr>
        <p:sp>
          <p:nvSpPr>
            <p:cNvPr id="411" name=""/>
            <p:cNvSpPr/>
            <p:nvPr/>
          </p:nvSpPr>
          <p:spPr>
            <a:xfrm>
              <a:off x="993600" y="22096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41120" y="2211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914400" y="2271600"/>
            <a:ext cx="55440" cy="150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2209680"/>
            <a:ext cx="215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mm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eda 37 MMG    IT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84560" y="1835280"/>
            <a:ext cx="30024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87800" y="2139840"/>
            <a:ext cx="29988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14479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 IT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4400" y="3095640"/>
            <a:ext cx="23184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914400" y="3092040"/>
            <a:ext cx="114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28880" y="3090960"/>
            <a:ext cx="11412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42920" y="30481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82800" y="30481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19320" y="2909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DIVISIONAL ATTACH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2767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FIRE SUPPORT ELEMENT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11160" y="3424320"/>
            <a:ext cx="23184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23840" y="33638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11240" y="34974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481644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 Ob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8320" y="527364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ff-board Direct Fire Sup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14720" y="4583160"/>
            <a:ext cx="23184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91040" y="4751280"/>
            <a:ext cx="0" cy="75888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48320" y="539424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mm Gun   -1V, 0 T,G,sV use IT-20 on 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27400" y="45226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48320" y="470844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n-board Attach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46562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95960" y="5423040"/>
            <a:ext cx="23940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091040" y="4913280"/>
            <a:ext cx="29988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91040" y="5499000"/>
            <a:ext cx="29988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95960" y="4840200"/>
            <a:ext cx="23940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8320" y="5118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at 508 CM                IT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395960" y="5141880"/>
            <a:ext cx="23148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06760" y="53053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87840" y="5305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43480" y="4997520"/>
            <a:ext cx="0" cy="1429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483080" y="5362560"/>
            <a:ext cx="74520" cy="28080"/>
            <a:chOff x="4483080" y="5362560"/>
            <a:chExt cx="74520" cy="28080"/>
          </a:xfrm>
        </p:grpSpPr>
        <p:sp>
          <p:nvSpPr>
            <p:cNvPr id="446" name=""/>
            <p:cNvSpPr/>
            <p:nvPr/>
          </p:nvSpPr>
          <p:spPr>
            <a:xfrm>
              <a:off x="4483080" y="53625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30600" y="53640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648320" y="499752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03600" y="54878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95680" y="50911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59240" y="481644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95680" y="47880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267080" y="451152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mm Light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23623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28195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98720" y="1523880"/>
            <a:ext cx="266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30240" y="15238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86200" y="7160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43360" y="3809880"/>
            <a:ext cx="21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reda M.30 LMG      IT-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34000" y="35053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Rifle section             IT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743360" y="309564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86160" y="28926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43360" y="4098960"/>
            <a:ext cx="19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5mm Brixia Mortar  IT-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86360" y="3100320"/>
            <a:ext cx="0" cy="11430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1800" y="3838680"/>
            <a:ext cx="23148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489560" y="3778200"/>
            <a:ext cx="74520" cy="28800"/>
            <a:chOff x="4489560" y="3778200"/>
            <a:chExt cx="74520" cy="28800"/>
          </a:xfrm>
        </p:grpSpPr>
        <p:sp>
          <p:nvSpPr>
            <p:cNvPr id="467" name=""/>
            <p:cNvSpPr/>
            <p:nvPr/>
          </p:nvSpPr>
          <p:spPr>
            <a:xfrm>
              <a:off x="4489560" y="37782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37080" y="37800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083120" y="3324240"/>
            <a:ext cx="29988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03880" y="3541680"/>
            <a:ext cx="231480" cy="165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98960" y="4233960"/>
            <a:ext cx="29988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395960" y="3257640"/>
            <a:ext cx="231480" cy="156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19720" y="3279600"/>
            <a:ext cx="183960" cy="11124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97480" y="32148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481640" y="3486240"/>
            <a:ext cx="74520" cy="28080"/>
            <a:chOff x="4481640" y="3486240"/>
            <a:chExt cx="74520" cy="28080"/>
          </a:xfrm>
        </p:grpSpPr>
        <p:sp>
          <p:nvSpPr>
            <p:cNvPr id="476" name=""/>
            <p:cNvSpPr/>
            <p:nvPr/>
          </p:nvSpPr>
          <p:spPr>
            <a:xfrm>
              <a:off x="4481640" y="348624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29160" y="34876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038480" y="2941560"/>
            <a:ext cx="23184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49720" y="28702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044960" y="294804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048200" y="293220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11800" y="4149720"/>
            <a:ext cx="239400" cy="15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532400" y="417204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95680" y="427500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421160" y="4142880"/>
            <a:ext cx="230040" cy="1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17920" y="4154400"/>
            <a:ext cx="24156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10000" y="355428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406760" y="3546360"/>
            <a:ext cx="23040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486320" y="4098960"/>
            <a:ext cx="74520" cy="28080"/>
            <a:chOff x="4486320" y="4098960"/>
            <a:chExt cx="74520" cy="28080"/>
          </a:xfrm>
        </p:grpSpPr>
        <p:sp>
          <p:nvSpPr>
            <p:cNvPr id="490" name=""/>
            <p:cNvSpPr/>
            <p:nvPr/>
          </p:nvSpPr>
          <p:spPr>
            <a:xfrm>
              <a:off x="4486320" y="40989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33840" y="41004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414680" y="3846600"/>
            <a:ext cx="24156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4411800" y="383868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094280" y="3624120"/>
            <a:ext cx="29988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97160" y="3929040"/>
            <a:ext cx="30024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34000" y="323676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 IT-2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72080" y="25902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9:18:07Z</dcterms:created>
  <dc:creator>James Baker</dc:creator>
  <dc:description/>
  <dc:language>en-US</dc:language>
  <cp:lastModifiedBy>Jim Baker</cp:lastModifiedBy>
  <cp:lastPrinted>2003-06-22T19:05:49Z</cp:lastPrinted>
  <dcterms:modified xsi:type="dcterms:W3CDTF">2005-02-10T17:25:30Z</dcterms:modified>
  <cp:revision>48</cp:revision>
  <dc:subject/>
  <dc:title>PowerPoint Presentation</dc:title>
</cp:coreProperties>
</file>