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15200" cy="963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31D-0282-4E70-9CBD-BEC29D38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580464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D4F-C402-40CD-8FE0-F80455F4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464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31D2-8B6F-41CE-8FF3-B7CF8CEC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140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5344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140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5344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BA04-3419-4F00-9634-6399C3B3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0C4-9478-47FC-9382-2B43DD14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5920-D2E7-4A7C-841F-BC24C9A2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B6E-BCFE-4E49-9387-E34171C6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99E8-B138-4937-B444-009CDFCD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857160"/>
            <a:ext cx="6216480" cy="74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5273-6487-4C2A-9C99-A78A9E8D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CAD-8959-40C0-BA33-AF17CE85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464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8DD-B1A7-4E6E-A4A6-8FAD073E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61E3-F7EE-4739-ACE3-46157C6E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000" y="8780400"/>
            <a:ext cx="1523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780400"/>
            <a:ext cx="23176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780400"/>
            <a:ext cx="1523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9E70-5E64-4DEC-AC56-72C927B3D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33920" y="4525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euver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75000" y="1852560"/>
            <a:ext cx="0" cy="684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1840" y="1162080"/>
            <a:ext cx="533160" cy="36180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03600" y="3452760"/>
            <a:ext cx="151632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pdr Antitank G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th Brigade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70440" y="2386080"/>
            <a:ext cx="22356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70440" y="1776240"/>
            <a:ext cx="22356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199040" y="2239920"/>
            <a:ext cx="252360" cy="222120"/>
            <a:chOff x="4199040" y="2239920"/>
            <a:chExt cx="252360" cy="222120"/>
          </a:xfrm>
        </p:grpSpPr>
        <p:sp>
          <p:nvSpPr>
            <p:cNvPr id="48" name=""/>
            <p:cNvSpPr/>
            <p:nvPr/>
          </p:nvSpPr>
          <p:spPr>
            <a:xfrm>
              <a:off x="4199040" y="2298600"/>
              <a:ext cx="23976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4199040" y="229248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210200" y="2308320"/>
              <a:ext cx="24120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18200" y="22399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973680" y="1090440"/>
            <a:ext cx="75960" cy="63360"/>
            <a:chOff x="3973680" y="1090440"/>
            <a:chExt cx="75960" cy="63360"/>
          </a:xfrm>
        </p:grpSpPr>
        <p:sp>
          <p:nvSpPr>
            <p:cNvPr id="53" name=""/>
            <p:cNvSpPr/>
            <p:nvPr/>
          </p:nvSpPr>
          <p:spPr>
            <a:xfrm>
              <a:off x="3973680" y="10904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49640" y="10904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199040" y="1700280"/>
            <a:ext cx="23184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733560" y="11509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41840" y="11509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3600" y="21574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MANEUVER ELEMENTS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9040" y="1913040"/>
            <a:ext cx="23184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4400" y="167652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99120" y="1655640"/>
            <a:ext cx="266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03600" y="252252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Scout/Carrier Plato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199040" y="2538360"/>
            <a:ext cx="241200" cy="204840"/>
            <a:chOff x="4199040" y="2538360"/>
            <a:chExt cx="241200" cy="204840"/>
          </a:xfrm>
        </p:grpSpPr>
        <p:sp>
          <p:nvSpPr>
            <p:cNvPr id="64" name=""/>
            <p:cNvSpPr/>
            <p:nvPr/>
          </p:nvSpPr>
          <p:spPr>
            <a:xfrm>
              <a:off x="4199040" y="2585880"/>
              <a:ext cx="23184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254480" y="2538360"/>
              <a:ext cx="118800" cy="28080"/>
              <a:chOff x="4254480" y="2538360"/>
              <a:chExt cx="118800" cy="28080"/>
            </a:xfrm>
          </p:grpSpPr>
          <p:sp>
            <p:nvSpPr>
              <p:cNvPr id="66" name=""/>
              <p:cNvSpPr/>
              <p:nvPr/>
            </p:nvSpPr>
            <p:spPr>
              <a:xfrm>
                <a:off x="4346280" y="25383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4254480" y="2538360"/>
                <a:ext cx="74520" cy="28080"/>
                <a:chOff x="4254480" y="2538360"/>
                <a:chExt cx="74520" cy="280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254480" y="25383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302000" y="25398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" name=""/>
            <p:cNvSpPr/>
            <p:nvPr/>
          </p:nvSpPr>
          <p:spPr>
            <a:xfrm>
              <a:off x="4238640" y="2622600"/>
              <a:ext cx="150840" cy="7452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99040" y="2587680"/>
              <a:ext cx="24120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199040" y="2575080"/>
              <a:ext cx="2365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978360" y="265896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51320" y="1166760"/>
            <a:ext cx="2514600" cy="30708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antry Batta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03600" y="1579680"/>
            <a:ext cx="24386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ight Tru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03600" y="22939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19440" y="2751120"/>
            <a:ext cx="134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Organic Fire Suppor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19440" y="288756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 inch Mor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199040" y="2843280"/>
            <a:ext cx="239760" cy="217440"/>
            <a:chOff x="4199040" y="2843280"/>
            <a:chExt cx="239760" cy="217440"/>
          </a:xfrm>
        </p:grpSpPr>
        <p:sp>
          <p:nvSpPr>
            <p:cNvPr id="80" name=""/>
            <p:cNvSpPr/>
            <p:nvPr/>
          </p:nvSpPr>
          <p:spPr>
            <a:xfrm>
              <a:off x="4199040" y="2903760"/>
              <a:ext cx="239760" cy="15696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4322880" y="2935440"/>
              <a:ext cx="1440" cy="100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83280" y="303228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275360" y="2843280"/>
              <a:ext cx="74520" cy="28800"/>
              <a:chOff x="4275360" y="2843280"/>
              <a:chExt cx="74520" cy="28800"/>
            </a:xfrm>
          </p:grpSpPr>
          <p:sp>
            <p:nvSpPr>
              <p:cNvPr id="84" name=""/>
              <p:cNvSpPr/>
              <p:nvPr/>
            </p:nvSpPr>
            <p:spPr>
              <a:xfrm>
                <a:off x="4275360" y="28432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322880" y="28450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4503600" y="3686040"/>
            <a:ext cx="11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ght Tru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199040" y="3402000"/>
            <a:ext cx="231840" cy="484200"/>
            <a:chOff x="4199040" y="3402000"/>
            <a:chExt cx="231840" cy="484200"/>
          </a:xfrm>
        </p:grpSpPr>
        <p:sp>
          <p:nvSpPr>
            <p:cNvPr id="88" name=""/>
            <p:cNvSpPr/>
            <p:nvPr/>
          </p:nvSpPr>
          <p:spPr>
            <a:xfrm>
              <a:off x="4254480" y="3614760"/>
              <a:ext cx="0" cy="6804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99040" y="3449520"/>
              <a:ext cx="23184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199040" y="3445920"/>
              <a:ext cx="114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13520" y="3444840"/>
              <a:ext cx="11412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99040" y="3690720"/>
              <a:ext cx="23184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75080" y="38592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14880" y="38592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27560" y="34020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67440" y="34020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35480" y="36478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75360" y="36478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503600" y="31845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sault Pione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3600" y="3071880"/>
            <a:ext cx="121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ATTACHMENTS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199040" y="3147840"/>
            <a:ext cx="252360" cy="222120"/>
            <a:chOff x="4199040" y="3147840"/>
            <a:chExt cx="252360" cy="222120"/>
          </a:xfrm>
        </p:grpSpPr>
        <p:grpSp>
          <p:nvGrpSpPr>
            <p:cNvPr id="102" name=""/>
            <p:cNvGrpSpPr/>
            <p:nvPr/>
          </p:nvGrpSpPr>
          <p:grpSpPr>
            <a:xfrm>
              <a:off x="4199040" y="3147840"/>
              <a:ext cx="252360" cy="222120"/>
              <a:chOff x="4199040" y="3147840"/>
              <a:chExt cx="252360" cy="222120"/>
            </a:xfrm>
          </p:grpSpPr>
          <p:sp>
            <p:nvSpPr>
              <p:cNvPr id="103" name=""/>
              <p:cNvSpPr/>
              <p:nvPr/>
            </p:nvSpPr>
            <p:spPr>
              <a:xfrm>
                <a:off x="4199040" y="3206520"/>
                <a:ext cx="239760" cy="15732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4199040" y="3200400"/>
                <a:ext cx="23652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210200" y="3216240"/>
                <a:ext cx="24120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18200" y="3147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246560" y="3260520"/>
              <a:ext cx="152280" cy="76320"/>
              <a:chOff x="4246560" y="3260520"/>
              <a:chExt cx="152280" cy="76320"/>
            </a:xfrm>
          </p:grpSpPr>
          <p:sp>
            <p:nvSpPr>
              <p:cNvPr id="108" name=""/>
              <p:cNvSpPr/>
              <p:nvPr/>
            </p:nvSpPr>
            <p:spPr>
              <a:xfrm>
                <a:off x="4246560" y="3260520"/>
                <a:ext cx="152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840" y="3260520"/>
                <a:ext cx="0" cy="76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322880" y="3260520"/>
                <a:ext cx="0" cy="76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46560" y="3260520"/>
                <a:ext cx="0" cy="76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3970440" y="2995560"/>
            <a:ext cx="22356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70440" y="3284640"/>
            <a:ext cx="22356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83000" y="20811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4880" y="20811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70440" y="3529080"/>
            <a:ext cx="22356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1531800"/>
            <a:ext cx="0" cy="20052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426960"/>
            <a:ext cx="6324480" cy="44928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stralian Tables of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 Sonnenblume” - March/April 194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508040"/>
            <a:ext cx="0" cy="123516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828800"/>
            <a:ext cx="0" cy="684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138320"/>
            <a:ext cx="533520" cy="36180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2643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pdr Antitank Gun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42900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36232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5248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2274840"/>
            <a:ext cx="23976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914400" y="2268000"/>
            <a:ext cx="236520" cy="15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5560" y="2284560"/>
            <a:ext cx="24120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17720" y="22161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89040" y="1066680"/>
            <a:ext cx="75960" cy="63360"/>
            <a:chOff x="689040" y="1066680"/>
            <a:chExt cx="75960" cy="63360"/>
          </a:xfrm>
        </p:grpSpPr>
        <p:sp>
          <p:nvSpPr>
            <p:cNvPr id="131" name=""/>
            <p:cNvSpPr/>
            <p:nvPr/>
          </p:nvSpPr>
          <p:spPr>
            <a:xfrm>
              <a:off x="689040" y="10666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5000" y="10666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85800" y="2759040"/>
            <a:ext cx="0" cy="1050840"/>
          </a:xfrm>
          <a:prstGeom prst="line">
            <a:avLst/>
          </a:prstGeom>
          <a:ln w="1584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676520"/>
            <a:ext cx="23184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49280" y="112716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12716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21337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BATTLE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889280"/>
            <a:ext cx="231840" cy="15696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165276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4480" y="16318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3313080"/>
            <a:ext cx="18288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18pdr, Battery A, 51s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Royal Artillery Regi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1143000"/>
            <a:ext cx="2514600" cy="30708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antry Brig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555920"/>
            <a:ext cx="24382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ight Tru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227016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Infantry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35160" y="277668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Organic Fire Suppor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28954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ght Tru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14400" y="2639880"/>
            <a:ext cx="231840" cy="484200"/>
            <a:chOff x="914400" y="2639880"/>
            <a:chExt cx="231840" cy="484200"/>
          </a:xfrm>
        </p:grpSpPr>
        <p:sp>
          <p:nvSpPr>
            <p:cNvPr id="148" name=""/>
            <p:cNvSpPr/>
            <p:nvPr/>
          </p:nvSpPr>
          <p:spPr>
            <a:xfrm>
              <a:off x="969840" y="2852640"/>
              <a:ext cx="0" cy="6804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14400" y="2687400"/>
              <a:ext cx="23184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914400" y="2683800"/>
              <a:ext cx="114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28880" y="2682720"/>
              <a:ext cx="11412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4400" y="2928600"/>
              <a:ext cx="231840" cy="1573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90440" y="30970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30240" y="30970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42920" y="26398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82800" y="26398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50840" y="28857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90720" y="28857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219320" y="25146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DIVISIONAL ATTACHMENTS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31240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FIRE SUPPORT ELEMENTS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11160" y="3287880"/>
            <a:ext cx="231840" cy="217440"/>
            <a:chOff x="911160" y="3287880"/>
            <a:chExt cx="231840" cy="217440"/>
          </a:xfrm>
        </p:grpSpPr>
        <p:sp>
          <p:nvSpPr>
            <p:cNvPr id="162" name=""/>
            <p:cNvSpPr/>
            <p:nvPr/>
          </p:nvSpPr>
          <p:spPr>
            <a:xfrm>
              <a:off x="911160" y="3348360"/>
              <a:ext cx="231840" cy="15696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23840" y="32878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11240" y="34214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098720" y="2057400"/>
            <a:ext cx="266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30240" y="205740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60504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66"/>
                </a:solidFill>
                <a:latin typeface="Arial"/>
              </a:rPr>
              <a:t>ALTERNA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14400" y="3668760"/>
            <a:ext cx="231840" cy="217440"/>
            <a:chOff x="914400" y="3668760"/>
            <a:chExt cx="231840" cy="217440"/>
          </a:xfrm>
        </p:grpSpPr>
        <p:sp>
          <p:nvSpPr>
            <p:cNvPr id="169" name=""/>
            <p:cNvSpPr/>
            <p:nvPr/>
          </p:nvSpPr>
          <p:spPr>
            <a:xfrm>
              <a:off x="914400" y="3729240"/>
              <a:ext cx="231840" cy="15696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27080" y="36687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14480" y="38023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85800" y="380988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3778200"/>
            <a:ext cx="167616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4.5”, Battery B, 51s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Royal Artillery Regi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53920" y="3305160"/>
            <a:ext cx="76320" cy="609480"/>
            <a:chOff x="853920" y="3305160"/>
            <a:chExt cx="76320" cy="609480"/>
          </a:xfrm>
        </p:grpSpPr>
        <p:sp>
          <p:nvSpPr>
            <p:cNvPr id="175" name=""/>
            <p:cNvSpPr/>
            <p:nvPr/>
          </p:nvSpPr>
          <p:spPr>
            <a:xfrm>
              <a:off x="853920" y="3305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53920" y="39146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3920" y="33051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80880" y="409896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replace w/37mm Bofors Antitank G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58760" y="22176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759040"/>
            <a:ext cx="223920" cy="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6600" y="16758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79640" y="16902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6600" y="184248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79640" y="184248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6600" y="289332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6600" y="265068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9640" y="290916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6600" y="411264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9640" y="342828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9640" y="367128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33520" y="4876920"/>
            <a:ext cx="3045240" cy="1250280"/>
            <a:chOff x="533520" y="4876920"/>
            <a:chExt cx="3045240" cy="1250280"/>
          </a:xfrm>
        </p:grpSpPr>
        <p:grpSp>
          <p:nvGrpSpPr>
            <p:cNvPr id="192" name=""/>
            <p:cNvGrpSpPr/>
            <p:nvPr/>
          </p:nvGrpSpPr>
          <p:grpSpPr>
            <a:xfrm>
              <a:off x="533520" y="4876920"/>
              <a:ext cx="2690640" cy="1250280"/>
              <a:chOff x="533520" y="4876920"/>
              <a:chExt cx="2690640" cy="1250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166760" y="518148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orward Ob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66760" y="5638680"/>
                <a:ext cx="20574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cc66"/>
                    </a:solidFill>
                    <a:latin typeface="Arial"/>
                  </a:rPr>
                  <a:t>Off-board Direct Fire Suppor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533520" y="4876920"/>
                <a:ext cx="2614680" cy="1250280"/>
                <a:chOff x="533520" y="4876920"/>
                <a:chExt cx="2614680" cy="12502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533520" y="4947840"/>
                  <a:ext cx="231840" cy="15696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09840" y="5116320"/>
                  <a:ext cx="0" cy="758520"/>
                </a:xfrm>
                <a:prstGeom prst="line">
                  <a:avLst/>
                </a:prstGeom>
                <a:ln w="158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166760" y="5759280"/>
                  <a:ext cx="1981440" cy="36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6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8pdr Gun  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-1V,0T,G,sV Sml Templat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46200" y="4887720"/>
                  <a:ext cx="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166760" y="5073480"/>
                  <a:ext cx="15242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cc66"/>
                      </a:solidFill>
                      <a:latin typeface="Arial"/>
                    </a:rPr>
                    <a:t>On-board Attach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33600" y="50209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914400" y="5787720"/>
                  <a:ext cx="239760" cy="15696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9840" y="5278320"/>
                  <a:ext cx="299880" cy="1080"/>
                </a:xfrm>
                <a:prstGeom prst="line">
                  <a:avLst/>
                </a:prstGeom>
                <a:ln w="158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09840" y="5864040"/>
                  <a:ext cx="299880" cy="1080"/>
                </a:xfrm>
                <a:prstGeom prst="line">
                  <a:avLst/>
                </a:prstGeom>
                <a:ln w="158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914400" y="5205240"/>
                  <a:ext cx="239760" cy="15660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166760" y="5483160"/>
                  <a:ext cx="1219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Light Truck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914400" y="5506920"/>
                  <a:ext cx="231840" cy="15660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925560" y="56703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106640" y="56703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961920" y="5362200"/>
                  <a:ext cx="0" cy="142560"/>
                </a:xfrm>
                <a:prstGeom prst="line">
                  <a:avLst/>
                </a:prstGeom>
                <a:ln w="158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" name=""/>
                <p:cNvGrpSpPr/>
                <p:nvPr/>
              </p:nvGrpSpPr>
              <p:grpSpPr>
                <a:xfrm>
                  <a:off x="1001880" y="5727600"/>
                  <a:ext cx="74520" cy="27720"/>
                  <a:chOff x="1001880" y="5727600"/>
                  <a:chExt cx="74520" cy="2772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1001880" y="5727600"/>
                    <a:ext cx="2844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1049400" y="572904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1166760" y="5362200"/>
                  <a:ext cx="15242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cc66"/>
                      </a:solidFill>
                      <a:latin typeface="Arial"/>
                    </a:rPr>
                    <a:t>Transpor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022400" y="58528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014480" y="54561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78040" y="5181480"/>
                  <a:ext cx="3808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F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014480" y="51526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85880" y="4876920"/>
                  <a:ext cx="2209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8pdr Royal Artillery Batter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3126600" y="517932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4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6600" y="548424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33520" y="6188040"/>
            <a:ext cx="3045240" cy="1435320"/>
            <a:chOff x="533520" y="6188040"/>
            <a:chExt cx="3045240" cy="1435320"/>
          </a:xfrm>
        </p:grpSpPr>
        <p:grpSp>
          <p:nvGrpSpPr>
            <p:cNvPr id="223" name=""/>
            <p:cNvGrpSpPr/>
            <p:nvPr/>
          </p:nvGrpSpPr>
          <p:grpSpPr>
            <a:xfrm>
              <a:off x="533520" y="6188040"/>
              <a:ext cx="2690640" cy="1435320"/>
              <a:chOff x="533520" y="6188040"/>
              <a:chExt cx="2690640" cy="1435320"/>
            </a:xfrm>
          </p:grpSpPr>
          <p:sp>
            <p:nvSpPr>
              <p:cNvPr id="224" name=""/>
              <p:cNvSpPr/>
              <p:nvPr/>
            </p:nvSpPr>
            <p:spPr>
              <a:xfrm>
                <a:off x="1166760" y="649260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orward Ob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166760" y="6949800"/>
                <a:ext cx="20574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cc66"/>
                    </a:solidFill>
                    <a:latin typeface="Arial"/>
                  </a:rPr>
                  <a:t>Off-board Direct Fire Suppor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533520" y="6188040"/>
                <a:ext cx="2614680" cy="1435320"/>
                <a:chOff x="533520" y="6188040"/>
                <a:chExt cx="2614680" cy="14353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6258960"/>
                  <a:ext cx="231840" cy="15696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09840" y="6427440"/>
                  <a:ext cx="0" cy="758520"/>
                </a:xfrm>
                <a:prstGeom prst="line">
                  <a:avLst/>
                </a:prstGeom>
                <a:ln w="158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166760" y="7070400"/>
                  <a:ext cx="1981440" cy="55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6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8pdr Gun   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-1V,0T,G,sV Sml Templat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46200" y="6198840"/>
                  <a:ext cx="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166760" y="6384600"/>
                  <a:ext cx="15242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cc66"/>
                      </a:solidFill>
                      <a:latin typeface="Arial"/>
                    </a:rPr>
                    <a:t>On-board Attach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33600" y="63320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914400" y="7098840"/>
                  <a:ext cx="239760" cy="15696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09840" y="6589440"/>
                  <a:ext cx="299880" cy="1080"/>
                </a:xfrm>
                <a:prstGeom prst="line">
                  <a:avLst/>
                </a:prstGeom>
                <a:ln w="158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09840" y="7175160"/>
                  <a:ext cx="299880" cy="1080"/>
                </a:xfrm>
                <a:prstGeom prst="line">
                  <a:avLst/>
                </a:prstGeom>
                <a:ln w="158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914400" y="6516360"/>
                  <a:ext cx="239760" cy="15660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166760" y="6794280"/>
                  <a:ext cx="1219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Light Truck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914400" y="6818040"/>
                  <a:ext cx="231840" cy="15660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925560" y="69814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106640" y="69814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961920" y="6673320"/>
                  <a:ext cx="0" cy="142560"/>
                </a:xfrm>
                <a:prstGeom prst="line">
                  <a:avLst/>
                </a:prstGeom>
                <a:ln w="158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2" name=""/>
                <p:cNvGrpSpPr/>
                <p:nvPr/>
              </p:nvGrpSpPr>
              <p:grpSpPr>
                <a:xfrm>
                  <a:off x="1001880" y="7038720"/>
                  <a:ext cx="74520" cy="27720"/>
                  <a:chOff x="1001880" y="7038720"/>
                  <a:chExt cx="74520" cy="2772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1001880" y="7038720"/>
                    <a:ext cx="2844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1049400" y="704016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>
                  <a:off x="1166760" y="6673320"/>
                  <a:ext cx="15242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cc66"/>
                      </a:solidFill>
                      <a:latin typeface="Arial"/>
                    </a:rPr>
                    <a:t>Transpor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022400" y="71640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014480" y="67672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878040" y="6492600"/>
                  <a:ext cx="3808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F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14480" y="64638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85880" y="6188040"/>
                  <a:ext cx="2209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4.5” Royal Artillery Batter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" name=""/>
            <p:cNvSpPr/>
            <p:nvPr/>
          </p:nvSpPr>
          <p:spPr>
            <a:xfrm>
              <a:off x="3126600" y="681120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26600" y="650664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4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479640" y="319968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48320" y="5511960"/>
            <a:ext cx="18288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fantry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w/Boys AT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57680" y="51022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Comm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00480" y="48988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57680" y="5810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 inch Mor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00680" y="5106960"/>
            <a:ext cx="0" cy="85572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97440" y="5330880"/>
            <a:ext cx="299880" cy="144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17840" y="5548320"/>
            <a:ext cx="231840" cy="16524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13280" y="5945040"/>
            <a:ext cx="299880" cy="18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309920" y="5264280"/>
            <a:ext cx="231840" cy="156960"/>
            <a:chOff x="4309920" y="5264280"/>
            <a:chExt cx="231840" cy="156960"/>
          </a:xfrm>
        </p:grpSpPr>
        <p:sp>
          <p:nvSpPr>
            <p:cNvPr id="263" name=""/>
            <p:cNvSpPr/>
            <p:nvPr/>
          </p:nvSpPr>
          <p:spPr>
            <a:xfrm>
              <a:off x="4309920" y="5264280"/>
              <a:ext cx="231840" cy="15696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33680" y="5286240"/>
              <a:ext cx="184320" cy="11052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4411800" y="52214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395960" y="5492880"/>
            <a:ext cx="74520" cy="28080"/>
            <a:chOff x="4395960" y="5492880"/>
            <a:chExt cx="74520" cy="28080"/>
          </a:xfrm>
        </p:grpSpPr>
        <p:sp>
          <p:nvSpPr>
            <p:cNvPr id="267" name=""/>
            <p:cNvSpPr/>
            <p:nvPr/>
          </p:nvSpPr>
          <p:spPr>
            <a:xfrm>
              <a:off x="4395960" y="549288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43480" y="549432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952800" y="4948200"/>
            <a:ext cx="231840" cy="157320"/>
          </a:xfrm>
          <a:prstGeom prst="rect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64040" y="48769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59280" y="4946760"/>
            <a:ext cx="24120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962520" y="4938840"/>
            <a:ext cx="2300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325760" y="5861160"/>
            <a:ext cx="239760" cy="156960"/>
            <a:chOff x="4325760" y="5861160"/>
            <a:chExt cx="239760" cy="156960"/>
          </a:xfrm>
        </p:grpSpPr>
        <p:sp>
          <p:nvSpPr>
            <p:cNvPr id="274" name=""/>
            <p:cNvSpPr/>
            <p:nvPr/>
          </p:nvSpPr>
          <p:spPr>
            <a:xfrm>
              <a:off x="4325760" y="5861160"/>
              <a:ext cx="239760" cy="15696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446360" y="5882400"/>
              <a:ext cx="2160" cy="101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10360" y="598608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 flipV="1">
            <a:off x="4335480" y="5854680"/>
            <a:ext cx="2300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32240" y="586584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24320" y="556092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321080" y="5553000"/>
            <a:ext cx="23040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400640" y="5810400"/>
            <a:ext cx="74520" cy="28080"/>
            <a:chOff x="4400640" y="5810400"/>
            <a:chExt cx="74520" cy="28080"/>
          </a:xfrm>
        </p:grpSpPr>
        <p:sp>
          <p:nvSpPr>
            <p:cNvPr id="282" name=""/>
            <p:cNvSpPr/>
            <p:nvPr/>
          </p:nvSpPr>
          <p:spPr>
            <a:xfrm>
              <a:off x="4400640" y="581040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48160" y="581184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4008600" y="5630760"/>
            <a:ext cx="299880" cy="1800"/>
          </a:xfrm>
          <a:prstGeom prst="line">
            <a:avLst/>
          </a:prstGeom>
          <a:ln w="158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48320" y="52434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9640" y="528264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79640" y="552564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79640" y="583992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A-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809880" y="6553080"/>
            <a:ext cx="3121920" cy="1874880"/>
            <a:chOff x="3809880" y="6553080"/>
            <a:chExt cx="3121920" cy="1874880"/>
          </a:xfrm>
        </p:grpSpPr>
        <p:grpSp>
          <p:nvGrpSpPr>
            <p:cNvPr id="290" name=""/>
            <p:cNvGrpSpPr/>
            <p:nvPr/>
          </p:nvGrpSpPr>
          <p:grpSpPr>
            <a:xfrm>
              <a:off x="3809880" y="6553080"/>
              <a:ext cx="2895480" cy="1874880"/>
              <a:chOff x="3809880" y="6553080"/>
              <a:chExt cx="2895480" cy="18748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3886200" y="6553080"/>
                <a:ext cx="1981080" cy="1382760"/>
                <a:chOff x="3886200" y="6553080"/>
                <a:chExt cx="1981080" cy="13827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311720" y="7626240"/>
                  <a:ext cx="0" cy="133560"/>
                </a:xfrm>
                <a:prstGeom prst="line">
                  <a:avLst/>
                </a:prstGeom>
                <a:ln w="158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268880" y="7751520"/>
                  <a:ext cx="239760" cy="15732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314960" y="7021440"/>
                  <a:ext cx="0" cy="133200"/>
                </a:xfrm>
                <a:prstGeom prst="line">
                  <a:avLst/>
                </a:prstGeom>
                <a:ln w="158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255920" y="7138800"/>
                  <a:ext cx="239760" cy="15732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886200" y="6624720"/>
                  <a:ext cx="231840" cy="15696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913200" y="6669000"/>
                  <a:ext cx="169920" cy="74520"/>
                </a:xfrm>
                <a:prstGeom prst="ellipse">
                  <a:avLst/>
                </a:prstGeom>
                <a:solidFill>
                  <a:srgbClr val="ffcc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114800" y="6553080"/>
                  <a:ext cx="1752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cout/Carrier Plato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62520" y="6792840"/>
                  <a:ext cx="0" cy="750960"/>
                </a:xfrm>
                <a:prstGeom prst="line">
                  <a:avLst/>
                </a:prstGeom>
                <a:ln w="158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375080" y="70945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367160" y="681336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286160" y="7908840"/>
                  <a:ext cx="20952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268880" y="7467480"/>
                  <a:ext cx="239760" cy="15732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303800" y="7507080"/>
                  <a:ext cx="169920" cy="74880"/>
                </a:xfrm>
                <a:prstGeom prst="ellipse">
                  <a:avLst/>
                </a:prstGeom>
                <a:solidFill>
                  <a:srgbClr val="ffcc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4268880" y="7467120"/>
                  <a:ext cx="23652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267080" y="7467480"/>
                  <a:ext cx="241560" cy="154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303800" y="7791480"/>
                  <a:ext cx="169920" cy="74520"/>
                </a:xfrm>
                <a:prstGeom prst="ellipse">
                  <a:avLst/>
                </a:prstGeom>
                <a:solidFill>
                  <a:srgbClr val="ffcc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962520" y="6933960"/>
                  <a:ext cx="299880" cy="1800"/>
                </a:xfrm>
                <a:prstGeom prst="line">
                  <a:avLst/>
                </a:prstGeom>
                <a:ln w="158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962520" y="7543800"/>
                  <a:ext cx="299880" cy="1440"/>
                </a:xfrm>
                <a:prstGeom prst="line">
                  <a:avLst/>
                </a:prstGeom>
                <a:ln w="158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495680" y="6705360"/>
                  <a:ext cx="9907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cc66"/>
                      </a:solidFill>
                      <a:latin typeface="Arial"/>
                    </a:rPr>
                    <a:t>Comman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1" name=""/>
                <p:cNvGrpSpPr/>
                <p:nvPr/>
              </p:nvGrpSpPr>
              <p:grpSpPr>
                <a:xfrm>
                  <a:off x="4349880" y="7426080"/>
                  <a:ext cx="74520" cy="28800"/>
                  <a:chOff x="4349880" y="7426080"/>
                  <a:chExt cx="74520" cy="2880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4349880" y="74260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4397400" y="74278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4343400" y="7696080"/>
                  <a:ext cx="74520" cy="28800"/>
                  <a:chOff x="4343400" y="7696080"/>
                  <a:chExt cx="74520" cy="288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4343400" y="76960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4390920" y="76978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7" name=""/>
                <p:cNvSpPr/>
                <p:nvPr/>
              </p:nvSpPr>
              <p:spPr>
                <a:xfrm flipV="1">
                  <a:off x="3886200" y="6624720"/>
                  <a:ext cx="2365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886200" y="6629400"/>
                  <a:ext cx="241200" cy="154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" name=""/>
                <p:cNvGrpSpPr/>
                <p:nvPr/>
              </p:nvGrpSpPr>
              <p:grpSpPr>
                <a:xfrm>
                  <a:off x="4267080" y="6858000"/>
                  <a:ext cx="231840" cy="156960"/>
                  <a:chOff x="4267080" y="6858000"/>
                  <a:chExt cx="231840" cy="15696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4267080" y="6858000"/>
                    <a:ext cx="231840" cy="156960"/>
                  </a:xfrm>
                  <a:prstGeom prst="rect">
                    <a:avLst/>
                  </a:prstGeom>
                  <a:solidFill>
                    <a:srgbClr val="ffcc66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4290840" y="6879960"/>
                    <a:ext cx="184320" cy="110520"/>
                  </a:xfrm>
                  <a:prstGeom prst="rect">
                    <a:avLst/>
                  </a:prstGeom>
                  <a:solidFill>
                    <a:srgbClr val="ffcc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2" name=""/>
                <p:cNvSpPr/>
                <p:nvPr/>
              </p:nvSpPr>
              <p:spPr>
                <a:xfrm>
                  <a:off x="4495680" y="7010280"/>
                  <a:ext cx="9144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cc66"/>
                      </a:solidFill>
                      <a:latin typeface="Arial"/>
                    </a:rPr>
                    <a:t>Transpor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495680" y="7611840"/>
                  <a:ext cx="9144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cc66"/>
                      </a:solidFill>
                      <a:latin typeface="Arial"/>
                    </a:rPr>
                    <a:t>Transpor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286160" y="7296120"/>
                  <a:ext cx="20952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303800" y="7178760"/>
                  <a:ext cx="169920" cy="74520"/>
                </a:xfrm>
                <a:prstGeom prst="ellipse">
                  <a:avLst/>
                </a:prstGeom>
                <a:solidFill>
                  <a:srgbClr val="ffcc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4268880" y="7138440"/>
                  <a:ext cx="23652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267080" y="7137360"/>
                  <a:ext cx="241560" cy="154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8" name=""/>
                <p:cNvGrpSpPr/>
                <p:nvPr/>
              </p:nvGrpSpPr>
              <p:grpSpPr>
                <a:xfrm>
                  <a:off x="3941640" y="6576840"/>
                  <a:ext cx="118800" cy="28080"/>
                  <a:chOff x="3941640" y="6576840"/>
                  <a:chExt cx="118800" cy="2808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4033440" y="65768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3941640" y="6576840"/>
                    <a:ext cx="74520" cy="28080"/>
                    <a:chOff x="3941640" y="6576840"/>
                    <a:chExt cx="74520" cy="2808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3941640" y="657684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3989160" y="657828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33" name=""/>
                <p:cNvSpPr/>
                <p:nvPr/>
              </p:nvSpPr>
              <p:spPr>
                <a:xfrm flipV="1">
                  <a:off x="4268880" y="7751160"/>
                  <a:ext cx="23652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267080" y="7751520"/>
                  <a:ext cx="241560" cy="154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3809880" y="6802200"/>
                <a:ext cx="2895480" cy="1625760"/>
                <a:chOff x="3809880" y="6802200"/>
                <a:chExt cx="2895480" cy="16257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4495680" y="7711920"/>
                  <a:ext cx="1523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4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Scout Carri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495680" y="7391160"/>
                  <a:ext cx="1523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4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Infantry/Recon (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495680" y="6802200"/>
                  <a:ext cx="1523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Command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95680" y="7099200"/>
                  <a:ext cx="1523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Scout/Carri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809880" y="7968960"/>
                  <a:ext cx="28954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May replace any or all with Bren LMG (8A-43); may replace one with inf/Boys ATR (8A-39), and/or 2 inch mortar (8A-45)  when dismounting.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1" name=""/>
            <p:cNvSpPr/>
            <p:nvPr/>
          </p:nvSpPr>
          <p:spPr>
            <a:xfrm>
              <a:off x="6479640" y="679536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79640" y="740484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79640" y="770976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79640" y="709992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A-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80880" y="45259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Support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9:18:07Z</dcterms:created>
  <dc:creator>James Baker</dc:creator>
  <dc:description/>
  <dc:language>en-US</dc:language>
  <cp:lastModifiedBy>James Baker</cp:lastModifiedBy>
  <cp:lastPrinted>2003-06-22T19:05:49Z</cp:lastPrinted>
  <dcterms:modified xsi:type="dcterms:W3CDTF">2005-02-12T12:00:09Z</dcterms:modified>
  <cp:revision>44</cp:revision>
  <dc:subject/>
  <dc:title>PowerPoint Presentation</dc:title>
</cp:coreProperties>
</file>