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315200" cy="9637713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775B-758E-4024-B3C8-F256E151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621648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5804640"/>
            <a:ext cx="621648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D7F4-4A33-4E74-9657-C55C9D29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464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580464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4640" y="580464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6885-7E68-4DBC-BC7E-9670AE327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51400" y="278460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53440" y="278460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580464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51400" y="580464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53440" y="580464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23E5-70E0-46D2-AD39-C657095D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2784600"/>
            <a:ext cx="6216480" cy="57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2142-4741-4DCF-9FD7-082BAE65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621648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D1FF-A8A4-4F3B-9AAC-A60F3640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303336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4640" y="2784600"/>
            <a:ext cx="303336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F908-D470-4DA7-B0C9-5F02C334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C007-9BE7-435F-9424-3495A6CB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857160"/>
            <a:ext cx="6216480" cy="74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FF0D-4566-4B2E-AA12-F67DB078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4640" y="2784600"/>
            <a:ext cx="303336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580464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D34F-81BC-4E2B-B97D-B480BC24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303336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464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4640" y="580464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C332-DB28-492E-A38E-55039005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464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5804640"/>
            <a:ext cx="621648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B88A-D149-4FAF-99B5-63DF74FF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2784600"/>
            <a:ext cx="621648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000" y="8780400"/>
            <a:ext cx="15238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98760" y="8780400"/>
            <a:ext cx="23176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41600" y="8780400"/>
            <a:ext cx="15238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5600-3DCA-44BF-9896-28ED086AD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04920"/>
            <a:ext cx="6324840" cy="418320"/>
          </a:xfrm>
          <a:prstGeom prst="rect">
            <a:avLst/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itish Tables of 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 Sonnenblume” - March/April 19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53520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euver Element 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323120" y="1959120"/>
          <a:ext cx="5608800" cy="378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23120" y="1959120"/>
                    <a:ext cx="5608800" cy="37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457200" y="6477120"/>
          <a:ext cx="3521160" cy="1371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6477120"/>
                    <a:ext cx="35211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533520" y="7540560"/>
            <a:ext cx="231480" cy="15732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0520" y="7585200"/>
            <a:ext cx="169560" cy="74520"/>
          </a:xfrm>
          <a:prstGeom prst="ellipse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7419960"/>
            <a:ext cx="259092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moured Reconnaissance Squad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ing’s Dragoon Gu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7709040"/>
            <a:ext cx="0" cy="45720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7889760"/>
            <a:ext cx="300240" cy="180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8166240"/>
            <a:ext cx="300240" cy="144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7653240"/>
            <a:ext cx="99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Comm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5840" y="8102520"/>
            <a:ext cx="239760" cy="15732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50760" y="8142120"/>
            <a:ext cx="169920" cy="74880"/>
          </a:xfrm>
          <a:prstGeom prst="ellipse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915840" y="8102160"/>
            <a:ext cx="236520" cy="1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96840" y="8053560"/>
            <a:ext cx="74520" cy="28080"/>
            <a:chOff x="996840" y="8053560"/>
            <a:chExt cx="74520" cy="28080"/>
          </a:xfrm>
        </p:grpSpPr>
        <p:sp>
          <p:nvSpPr>
            <p:cNvPr id="58" name=""/>
            <p:cNvSpPr/>
            <p:nvPr/>
          </p:nvSpPr>
          <p:spPr>
            <a:xfrm>
              <a:off x="996840" y="805356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44360" y="805500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 flipV="1">
            <a:off x="533520" y="7540200"/>
            <a:ext cx="236520" cy="1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914400" y="7761240"/>
            <a:ext cx="239760" cy="212760"/>
            <a:chOff x="914400" y="7761240"/>
            <a:chExt cx="239760" cy="212760"/>
          </a:xfrm>
        </p:grpSpPr>
        <p:sp>
          <p:nvSpPr>
            <p:cNvPr id="62" name=""/>
            <p:cNvSpPr/>
            <p:nvPr/>
          </p:nvSpPr>
          <p:spPr>
            <a:xfrm>
              <a:off x="1014120" y="776124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14400" y="7817040"/>
              <a:ext cx="239760" cy="15696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49320" y="7861320"/>
              <a:ext cx="169920" cy="74520"/>
            </a:xfrm>
            <a:prstGeom prst="ellipse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914400" y="7817040"/>
              <a:ext cx="23652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143000" y="7777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ris CS9 Armoured C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806148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4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mon-Herrington Mk II         8A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7937640"/>
            <a:ext cx="99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Rec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4120" y="74804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269892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Armoured Reconnaissance Squad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04920" y="919080"/>
            <a:ext cx="3275640" cy="2769120"/>
            <a:chOff x="304920" y="919080"/>
            <a:chExt cx="3275640" cy="2769120"/>
          </a:xfrm>
        </p:grpSpPr>
        <p:sp>
          <p:nvSpPr>
            <p:cNvPr id="72" name=""/>
            <p:cNvSpPr/>
            <p:nvPr/>
          </p:nvSpPr>
          <p:spPr>
            <a:xfrm>
              <a:off x="762120" y="1600200"/>
              <a:ext cx="231840" cy="15696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2408040"/>
              <a:ext cx="231840" cy="15732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763920" y="2412720"/>
              <a:ext cx="1141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78040" y="2412720"/>
              <a:ext cx="11448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95600" y="1641240"/>
              <a:ext cx="162000" cy="76320"/>
            </a:xfrm>
            <a:prstGeom prst="ellipse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71720" y="2268360"/>
              <a:ext cx="1214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cc66"/>
                  </a:solidFill>
                  <a:latin typeface="Arial"/>
                </a:rPr>
                <a:t>ATTACHMENTS</a:t>
              </a: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304920" y="990360"/>
              <a:ext cx="533160" cy="361800"/>
              <a:chOff x="304920" y="990360"/>
              <a:chExt cx="533160" cy="361800"/>
            </a:xfrm>
          </p:grpSpPr>
          <p:sp>
            <p:nvSpPr>
              <p:cNvPr id="79" name=""/>
              <p:cNvSpPr/>
              <p:nvPr/>
            </p:nvSpPr>
            <p:spPr>
              <a:xfrm>
                <a:off x="304920" y="990360"/>
                <a:ext cx="533160" cy="361800"/>
              </a:xfrm>
              <a:prstGeom prst="rect">
                <a:avLst/>
              </a:prstGeom>
              <a:solidFill>
                <a:srgbClr val="ffcc6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02840" y="1081080"/>
                <a:ext cx="342000" cy="172800"/>
              </a:xfrm>
              <a:prstGeom prst="ellipse">
                <a:avLst/>
              </a:prstGeom>
              <a:solidFill>
                <a:srgbClr val="ffcc6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914760" y="990360"/>
              <a:ext cx="2514600" cy="30708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moured Regi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067040" y="1476360"/>
              <a:ext cx="22860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66"/>
                  </a:solidFill>
                  <a:latin typeface="Arial"/>
                </a:rPr>
                <a:t>Headquarters Element [Trained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ickers Mk VIC Light Tank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67040" y="1981080"/>
              <a:ext cx="220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ffcc66"/>
                  </a:solidFill>
                  <a:latin typeface="Arial"/>
                </a:rPr>
                <a:t>Armoured Squadron [Trained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762120" y="2023920"/>
              <a:ext cx="239760" cy="157320"/>
              <a:chOff x="762120" y="2023920"/>
              <a:chExt cx="239760" cy="157320"/>
            </a:xfrm>
          </p:grpSpPr>
          <p:sp>
            <p:nvSpPr>
              <p:cNvPr id="85" name=""/>
              <p:cNvSpPr/>
              <p:nvPr/>
            </p:nvSpPr>
            <p:spPr>
              <a:xfrm>
                <a:off x="762120" y="2023920"/>
                <a:ext cx="239760" cy="157320"/>
              </a:xfrm>
              <a:prstGeom prst="rect">
                <a:avLst/>
              </a:prstGeom>
              <a:solidFill>
                <a:srgbClr val="ffcc6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06040" y="2063160"/>
                <a:ext cx="151560" cy="74880"/>
              </a:xfrm>
              <a:prstGeom prst="ellipse">
                <a:avLst/>
              </a:prstGeom>
              <a:solidFill>
                <a:srgbClr val="ffcc6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1067040" y="2394000"/>
              <a:ext cx="1981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pdr Antitank Gun Porté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3520" y="1355760"/>
              <a:ext cx="0" cy="76176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33520" y="2514600"/>
              <a:ext cx="223920" cy="0"/>
            </a:xfrm>
            <a:prstGeom prst="line">
              <a:avLst/>
            </a:prstGeom>
            <a:ln w="15840">
              <a:solidFill>
                <a:srgbClr val="ffcc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3520" y="2109600"/>
              <a:ext cx="223920" cy="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3520" y="1677960"/>
              <a:ext cx="223920" cy="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89200" y="19652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536760" y="919080"/>
              <a:ext cx="76320" cy="63360"/>
              <a:chOff x="536760" y="919080"/>
              <a:chExt cx="76320" cy="63360"/>
            </a:xfrm>
          </p:grpSpPr>
          <p:sp>
            <p:nvSpPr>
              <p:cNvPr id="94" name=""/>
              <p:cNvSpPr/>
              <p:nvPr/>
            </p:nvSpPr>
            <p:spPr>
              <a:xfrm>
                <a:off x="536760" y="9190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13080" y="9190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73280" y="25714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54360" y="25714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3520" y="2093760"/>
              <a:ext cx="0" cy="725400"/>
            </a:xfrm>
            <a:prstGeom prst="line">
              <a:avLst/>
            </a:prstGeom>
            <a:ln w="15840">
              <a:solidFill>
                <a:srgbClr val="ffcc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8440" y="23540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85960" y="23558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70120" y="15476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67040" y="1876320"/>
              <a:ext cx="1595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cc66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3520" y="2819160"/>
              <a:ext cx="223920" cy="0"/>
            </a:xfrm>
            <a:prstGeom prst="line">
              <a:avLst/>
            </a:prstGeom>
            <a:ln w="15840">
              <a:solidFill>
                <a:srgbClr val="ffcc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2120" y="2738160"/>
              <a:ext cx="231840" cy="15732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82720" y="267156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89120" y="2771640"/>
              <a:ext cx="169920" cy="74520"/>
            </a:xfrm>
            <a:prstGeom prst="ellipse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762120" y="2727360"/>
              <a:ext cx="23652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28400" y="1613880"/>
              <a:ext cx="45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A-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7560" y="2930400"/>
              <a:ext cx="2743200" cy="7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) 3rd Hussa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place in 5th RTR with A13 Cruiser Ta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 in 6th RTR A10 C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26960" y="2361600"/>
              <a:ext cx="45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A-3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25520" y="3290040"/>
              <a:ext cx="45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A-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26960" y="3099600"/>
              <a:ext cx="45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A-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57200" y="3881520"/>
            <a:ext cx="3200400" cy="2519280"/>
            <a:chOff x="457200" y="3881520"/>
            <a:chExt cx="3200400" cy="2519280"/>
          </a:xfrm>
        </p:grpSpPr>
        <p:grpSp>
          <p:nvGrpSpPr>
            <p:cNvPr id="114" name=""/>
            <p:cNvGrpSpPr/>
            <p:nvPr/>
          </p:nvGrpSpPr>
          <p:grpSpPr>
            <a:xfrm>
              <a:off x="457200" y="3881520"/>
              <a:ext cx="3200400" cy="2519280"/>
              <a:chOff x="457200" y="3881520"/>
              <a:chExt cx="3200400" cy="2519280"/>
            </a:xfrm>
          </p:grpSpPr>
          <p:sp>
            <p:nvSpPr>
              <p:cNvPr id="115" name=""/>
              <p:cNvSpPr/>
              <p:nvPr/>
            </p:nvSpPr>
            <p:spPr>
              <a:xfrm>
                <a:off x="1143000" y="4113360"/>
                <a:ext cx="2133360" cy="31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cc66"/>
                    </a:solidFill>
                    <a:latin typeface="Arial"/>
                  </a:rPr>
                  <a:t>Comman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Mk VIC 15mm Light Tank (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457200" y="3948120"/>
                <a:ext cx="239760" cy="157320"/>
                <a:chOff x="457200" y="3948120"/>
                <a:chExt cx="239760" cy="15732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457200" y="3948120"/>
                  <a:ext cx="239760" cy="157320"/>
                </a:xfrm>
                <a:prstGeom prst="rect">
                  <a:avLst/>
                </a:prstGeom>
                <a:solidFill>
                  <a:srgbClr val="ffcc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01120" y="3987360"/>
                  <a:ext cx="151560" cy="74880"/>
                </a:xfrm>
                <a:prstGeom prst="ellipse">
                  <a:avLst/>
                </a:prstGeom>
                <a:solidFill>
                  <a:srgbClr val="ffcc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" name=""/>
              <p:cNvSpPr/>
              <p:nvPr/>
            </p:nvSpPr>
            <p:spPr>
              <a:xfrm>
                <a:off x="533160" y="4114800"/>
                <a:ext cx="0" cy="2131920"/>
              </a:xfrm>
              <a:prstGeom prst="line">
                <a:avLst/>
              </a:prstGeom>
              <a:ln w="158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33160" y="4951440"/>
                <a:ext cx="304920" cy="0"/>
              </a:xfrm>
              <a:prstGeom prst="line">
                <a:avLst/>
              </a:prstGeom>
              <a:ln w="158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33160" y="4341960"/>
                <a:ext cx="304920" cy="0"/>
              </a:xfrm>
              <a:prstGeom prst="line">
                <a:avLst/>
              </a:prstGeom>
              <a:ln w="158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85800" y="4189320"/>
                <a:ext cx="0" cy="9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685800" y="5103360"/>
                <a:ext cx="142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61760" y="3884760"/>
                <a:ext cx="2438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moured Squadr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3000" y="5199120"/>
                <a:ext cx="190476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4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Mk VIB MG Light Tank (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838080" y="4265640"/>
                <a:ext cx="239760" cy="157320"/>
                <a:chOff x="838080" y="4265640"/>
                <a:chExt cx="239760" cy="15732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838080" y="4265640"/>
                  <a:ext cx="239760" cy="157320"/>
                </a:xfrm>
                <a:prstGeom prst="rect">
                  <a:avLst/>
                </a:prstGeom>
                <a:solidFill>
                  <a:srgbClr val="ffcc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82000" y="4304880"/>
                  <a:ext cx="151560" cy="74880"/>
                </a:xfrm>
                <a:prstGeom prst="ellipse">
                  <a:avLst/>
                </a:prstGeom>
                <a:solidFill>
                  <a:srgbClr val="ffcc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" name=""/>
              <p:cNvSpPr/>
              <p:nvPr/>
            </p:nvSpPr>
            <p:spPr>
              <a:xfrm>
                <a:off x="1143000" y="5416560"/>
                <a:ext cx="251460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cc66"/>
                    </a:solidFill>
                    <a:latin typeface="Arial"/>
                  </a:rPr>
                  <a:t>Alternative: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4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M13/40 Captured Tank  (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cc66"/>
                    </a:solidFill>
                    <a:latin typeface="Arial"/>
                  </a:rPr>
                  <a:t>Alternative: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6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M13/40 Captured Tank  (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143000" y="4449960"/>
                <a:ext cx="2438280" cy="60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cc66"/>
                    </a:solidFill>
                    <a:latin typeface="Arial"/>
                  </a:rPr>
                  <a:t>Alternative: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A13 Cruiser Tank (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1" lang="en-US" sz="900" spc="-1" strike="noStrike">
                    <a:solidFill>
                      <a:srgbClr val="ffcc66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cc66"/>
                    </a:solidFill>
                    <a:latin typeface="Arial"/>
                  </a:rPr>
                  <a:t>Alternative: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M13/40 Captured Tank  (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77800" y="38815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46080" y="42004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38080" y="4557600"/>
                <a:ext cx="239760" cy="157320"/>
              </a:xfrm>
              <a:prstGeom prst="rect">
                <a:avLst/>
              </a:prstGeom>
              <a:solidFill>
                <a:srgbClr val="ffcc6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82360" y="4597560"/>
                <a:ext cx="150840" cy="74520"/>
              </a:xfrm>
              <a:prstGeom prst="ellipse">
                <a:avLst/>
              </a:prstGeom>
              <a:solidFill>
                <a:srgbClr val="ffcc6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838080" y="4870440"/>
                <a:ext cx="239760" cy="157320"/>
                <a:chOff x="838080" y="4870440"/>
                <a:chExt cx="239760" cy="15732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838080" y="4870440"/>
                  <a:ext cx="239760" cy="157320"/>
                </a:xfrm>
                <a:prstGeom prst="rect">
                  <a:avLst/>
                </a:prstGeom>
                <a:solidFill>
                  <a:srgbClr val="ffcc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882000" y="4909680"/>
                  <a:ext cx="151560" cy="74880"/>
                </a:xfrm>
                <a:prstGeom prst="ellipse">
                  <a:avLst/>
                </a:prstGeom>
                <a:solidFill>
                  <a:srgbClr val="ffcc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838080" y="5180040"/>
                <a:ext cx="239760" cy="228600"/>
                <a:chOff x="838080" y="5180040"/>
                <a:chExt cx="239760" cy="228600"/>
              </a:xfrm>
            </p:grpSpPr>
            <p:grpSp>
              <p:nvGrpSpPr>
                <p:cNvPr id="139" name=""/>
                <p:cNvGrpSpPr/>
                <p:nvPr/>
              </p:nvGrpSpPr>
              <p:grpSpPr>
                <a:xfrm>
                  <a:off x="925560" y="5180040"/>
                  <a:ext cx="74520" cy="28800"/>
                  <a:chOff x="925560" y="5180040"/>
                  <a:chExt cx="74520" cy="2880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>
                    <a:off x="925560" y="518004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973080" y="518184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838080" y="5251680"/>
                  <a:ext cx="239760" cy="156960"/>
                  <a:chOff x="838080" y="5251680"/>
                  <a:chExt cx="239760" cy="15696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>
                    <a:off x="838080" y="5251680"/>
                    <a:ext cx="239760" cy="156960"/>
                  </a:xfrm>
                  <a:prstGeom prst="rect">
                    <a:avLst/>
                  </a:prstGeom>
                  <a:solidFill>
                    <a:srgbClr val="ffcc66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882000" y="5290920"/>
                    <a:ext cx="151560" cy="74880"/>
                  </a:xfrm>
                  <a:prstGeom prst="ellipse">
                    <a:avLst/>
                  </a:prstGeom>
                  <a:solidFill>
                    <a:srgbClr val="ffcc66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5" name=""/>
              <p:cNvGrpSpPr/>
              <p:nvPr/>
            </p:nvGrpSpPr>
            <p:grpSpPr>
              <a:xfrm>
                <a:off x="838080" y="5484960"/>
                <a:ext cx="239760" cy="228600"/>
                <a:chOff x="838080" y="5484960"/>
                <a:chExt cx="239760" cy="228600"/>
              </a:xfrm>
            </p:grpSpPr>
            <p:grpSp>
              <p:nvGrpSpPr>
                <p:cNvPr id="146" name=""/>
                <p:cNvGrpSpPr/>
                <p:nvPr/>
              </p:nvGrpSpPr>
              <p:grpSpPr>
                <a:xfrm>
                  <a:off x="925560" y="5484960"/>
                  <a:ext cx="74520" cy="28800"/>
                  <a:chOff x="925560" y="5484960"/>
                  <a:chExt cx="74520" cy="2880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925560" y="548496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973080" y="54867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838080" y="5556600"/>
                  <a:ext cx="239760" cy="156960"/>
                  <a:chOff x="838080" y="5556600"/>
                  <a:chExt cx="239760" cy="15696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838080" y="5556600"/>
                    <a:ext cx="239760" cy="156960"/>
                  </a:xfrm>
                  <a:prstGeom prst="rect">
                    <a:avLst/>
                  </a:prstGeom>
                  <a:solidFill>
                    <a:srgbClr val="ffcc66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882000" y="5595840"/>
                    <a:ext cx="151560" cy="74880"/>
                  </a:xfrm>
                  <a:prstGeom prst="ellipse">
                    <a:avLst/>
                  </a:prstGeom>
                  <a:solidFill>
                    <a:srgbClr val="ffcc66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2" name=""/>
              <p:cNvGrpSpPr/>
              <p:nvPr/>
            </p:nvGrpSpPr>
            <p:grpSpPr>
              <a:xfrm>
                <a:off x="838080" y="5789520"/>
                <a:ext cx="239760" cy="228600"/>
                <a:chOff x="838080" y="5789520"/>
                <a:chExt cx="239760" cy="22860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925560" y="5789520"/>
                  <a:ext cx="74520" cy="28800"/>
                  <a:chOff x="925560" y="5789520"/>
                  <a:chExt cx="74520" cy="2880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925560" y="578952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973080" y="57913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838080" y="5861160"/>
                  <a:ext cx="239760" cy="156960"/>
                  <a:chOff x="838080" y="5861160"/>
                  <a:chExt cx="239760" cy="15696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838080" y="5861160"/>
                    <a:ext cx="239760" cy="156960"/>
                  </a:xfrm>
                  <a:prstGeom prst="rect">
                    <a:avLst/>
                  </a:prstGeom>
                  <a:solidFill>
                    <a:srgbClr val="ffcc66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882000" y="5900400"/>
                    <a:ext cx="151560" cy="74880"/>
                  </a:xfrm>
                  <a:prstGeom prst="ellipse">
                    <a:avLst/>
                  </a:prstGeom>
                  <a:solidFill>
                    <a:srgbClr val="ffcc66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9" name=""/>
              <p:cNvGrpSpPr/>
              <p:nvPr/>
            </p:nvGrpSpPr>
            <p:grpSpPr>
              <a:xfrm>
                <a:off x="925560" y="6094440"/>
                <a:ext cx="74520" cy="28080"/>
                <a:chOff x="925560" y="6094440"/>
                <a:chExt cx="74520" cy="280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925560" y="60944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973080" y="60958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" name=""/>
              <p:cNvSpPr/>
              <p:nvPr/>
            </p:nvSpPr>
            <p:spPr>
              <a:xfrm>
                <a:off x="838080" y="6165720"/>
                <a:ext cx="239760" cy="157320"/>
              </a:xfrm>
              <a:prstGeom prst="rect">
                <a:avLst/>
              </a:prstGeom>
              <a:solidFill>
                <a:srgbClr val="ffcc6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947520" y="45021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46080" y="48150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685800" y="5180040"/>
                <a:ext cx="142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685800" y="6399360"/>
                <a:ext cx="142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685800" y="4188960"/>
                <a:ext cx="142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85800" y="5180040"/>
                <a:ext cx="0" cy="1219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33160" y="5942160"/>
                <a:ext cx="304920" cy="0"/>
              </a:xfrm>
              <a:prstGeom prst="line">
                <a:avLst/>
              </a:prstGeom>
              <a:ln w="158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33160" y="6246720"/>
                <a:ext cx="304920" cy="0"/>
              </a:xfrm>
              <a:prstGeom prst="line">
                <a:avLst/>
              </a:prstGeom>
              <a:ln w="158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33160" y="5637240"/>
                <a:ext cx="304920" cy="0"/>
              </a:xfrm>
              <a:prstGeom prst="line">
                <a:avLst/>
              </a:prstGeom>
              <a:ln w="158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33160" y="5332320"/>
                <a:ext cx="304920" cy="0"/>
              </a:xfrm>
              <a:prstGeom prst="line">
                <a:avLst/>
              </a:prstGeom>
              <a:ln w="158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33160" y="4646520"/>
                <a:ext cx="304920" cy="0"/>
              </a:xfrm>
              <a:prstGeom prst="line">
                <a:avLst/>
              </a:prstGeom>
              <a:ln w="158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143000" y="6033960"/>
                <a:ext cx="251460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cc66"/>
                    </a:solidFill>
                    <a:latin typeface="Arial"/>
                  </a:rPr>
                  <a:t>Alternative: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A13 Cruiser Tank (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82360" y="6205680"/>
                <a:ext cx="150840" cy="74520"/>
              </a:xfrm>
              <a:prstGeom prst="ellipse">
                <a:avLst/>
              </a:prstGeom>
              <a:solidFill>
                <a:srgbClr val="ffcc6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3126600" y="4203000"/>
              <a:ext cx="45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A-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26600" y="5193720"/>
              <a:ext cx="45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A-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26600" y="4493520"/>
              <a:ext cx="45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A-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26600" y="6170040"/>
              <a:ext cx="45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A-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125880" y="4852440"/>
              <a:ext cx="418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25880" y="5530320"/>
              <a:ext cx="418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25880" y="5826960"/>
              <a:ext cx="418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581280" y="914400"/>
            <a:ext cx="3429000" cy="2381040"/>
            <a:chOff x="3581280" y="914400"/>
            <a:chExt cx="3429000" cy="2381040"/>
          </a:xfrm>
        </p:grpSpPr>
        <p:sp>
          <p:nvSpPr>
            <p:cNvPr id="184" name=""/>
            <p:cNvSpPr/>
            <p:nvPr/>
          </p:nvSpPr>
          <p:spPr>
            <a:xfrm>
              <a:off x="4190760" y="985680"/>
              <a:ext cx="2819520" cy="30708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or Battalion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1st Tower Hamlet Rifles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43400" y="1392120"/>
              <a:ext cx="24382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66"/>
                  </a:solidFill>
                  <a:latin typeface="Arial"/>
                </a:rPr>
                <a:t>Headquarters Element [Trained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man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Light Tru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43400" y="2020680"/>
              <a:ext cx="251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ffcc66"/>
                  </a:solidFill>
                  <a:latin typeface="Arial"/>
                </a:rPr>
                <a:t>Infantry Company [Trained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43400" y="2874960"/>
              <a:ext cx="14475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 inch Mort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Universal Carri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14800" y="3024000"/>
              <a:ext cx="0" cy="6840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09880" y="1347840"/>
              <a:ext cx="0" cy="101412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38480" y="2039760"/>
              <a:ext cx="239760" cy="15732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038480" y="2033640"/>
              <a:ext cx="23652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49640" y="2049480"/>
              <a:ext cx="241200" cy="15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14800" y="1676160"/>
              <a:ext cx="0" cy="6840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81280" y="985680"/>
              <a:ext cx="533520" cy="36216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343400" y="2574720"/>
              <a:ext cx="228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pdr Antitank Gun Porté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17800" y="2635200"/>
              <a:ext cx="223920" cy="0"/>
            </a:xfrm>
            <a:prstGeom prst="line">
              <a:avLst/>
            </a:prstGeom>
            <a:ln w="15840">
              <a:solidFill>
                <a:srgbClr val="ffcc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09880" y="2133360"/>
              <a:ext cx="223920" cy="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09880" y="1600200"/>
              <a:ext cx="223920" cy="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57640" y="19810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3813120" y="914400"/>
              <a:ext cx="75960" cy="63360"/>
              <a:chOff x="3813120" y="914400"/>
              <a:chExt cx="75960" cy="63360"/>
            </a:xfrm>
          </p:grpSpPr>
          <p:sp>
            <p:nvSpPr>
              <p:cNvPr id="201" name=""/>
              <p:cNvSpPr/>
              <p:nvPr/>
            </p:nvSpPr>
            <p:spPr>
              <a:xfrm>
                <a:off x="3813120" y="9144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889080" y="9144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4038480" y="2867040"/>
              <a:ext cx="231840" cy="15696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9880" y="2361960"/>
              <a:ext cx="0" cy="577800"/>
            </a:xfrm>
            <a:prstGeom prst="line">
              <a:avLst/>
            </a:prstGeom>
            <a:ln w="15840">
              <a:solidFill>
                <a:srgbClr val="ffcc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38480" y="1523880"/>
              <a:ext cx="231840" cy="15732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3581280" y="982440"/>
              <a:ext cx="533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89200" y="982440"/>
              <a:ext cx="533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43400" y="1896840"/>
              <a:ext cx="1600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cc66"/>
                  </a:solidFill>
                  <a:latin typeface="Arial"/>
                </a:rPr>
                <a:t>MANEUVER ELEMENTS</a:t>
              </a: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3400" y="2444760"/>
              <a:ext cx="121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cc66"/>
                  </a:solidFill>
                  <a:latin typeface="Arial"/>
                </a:rPr>
                <a:t>ATTACHMENTS</a:t>
              </a: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135576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14720" y="135576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4038480" y="2868120"/>
              <a:ext cx="114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52960" y="2862000"/>
              <a:ext cx="11412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06880" y="25146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38480" y="3092400"/>
              <a:ext cx="231840" cy="15696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38480" y="1736640"/>
              <a:ext cx="231840" cy="15696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49640" y="27381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30720" y="27381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38480" y="2566800"/>
              <a:ext cx="231840" cy="15732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4038480" y="2569680"/>
              <a:ext cx="114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52960" y="2570040"/>
              <a:ext cx="11412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22800" y="190476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054320" y="19047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14520" y="32684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54320" y="32684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59080" y="251460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94200" y="1500120"/>
              <a:ext cx="380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38560" y="147960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67000" y="281916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06880" y="28191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17800" y="2939760"/>
              <a:ext cx="223920" cy="0"/>
            </a:xfrm>
            <a:prstGeom prst="line">
              <a:avLst/>
            </a:prstGeom>
            <a:ln w="15840">
              <a:solidFill>
                <a:srgbClr val="ffcc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43400" y="2249280"/>
              <a:ext cx="2133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r>
                <a:rPr b="1" lang="en-US" sz="1000" spc="-1" strike="noStrike">
                  <a:solidFill>
                    <a:srgbClr val="ffcc66"/>
                  </a:solidFill>
                  <a:latin typeface="Arial"/>
                </a:rPr>
                <a:t> Scout/Carrier Platoon [EXP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4038480" y="2253960"/>
              <a:ext cx="241200" cy="204840"/>
              <a:chOff x="4038480" y="2253960"/>
              <a:chExt cx="241200" cy="204840"/>
            </a:xfrm>
          </p:grpSpPr>
          <p:sp>
            <p:nvSpPr>
              <p:cNvPr id="234" name=""/>
              <p:cNvSpPr/>
              <p:nvPr/>
            </p:nvSpPr>
            <p:spPr>
              <a:xfrm>
                <a:off x="4038480" y="2301480"/>
                <a:ext cx="231840" cy="157320"/>
              </a:xfrm>
              <a:prstGeom prst="rect">
                <a:avLst/>
              </a:prstGeom>
              <a:solidFill>
                <a:srgbClr val="ffcc6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5" name=""/>
              <p:cNvGrpSpPr/>
              <p:nvPr/>
            </p:nvGrpSpPr>
            <p:grpSpPr>
              <a:xfrm>
                <a:off x="4093920" y="2253960"/>
                <a:ext cx="118800" cy="28080"/>
                <a:chOff x="4093920" y="2253960"/>
                <a:chExt cx="118800" cy="280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4185720" y="22539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7" name=""/>
                <p:cNvGrpSpPr/>
                <p:nvPr/>
              </p:nvGrpSpPr>
              <p:grpSpPr>
                <a:xfrm>
                  <a:off x="4093920" y="2253960"/>
                  <a:ext cx="74520" cy="28080"/>
                  <a:chOff x="4093920" y="2253960"/>
                  <a:chExt cx="74520" cy="2808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>
                    <a:off x="4093920" y="225396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4141440" y="22554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0" name=""/>
              <p:cNvSpPr/>
              <p:nvPr/>
            </p:nvSpPr>
            <p:spPr>
              <a:xfrm>
                <a:off x="4078080" y="2338200"/>
                <a:ext cx="150840" cy="74520"/>
              </a:xfrm>
              <a:prstGeom prst="ellipse">
                <a:avLst/>
              </a:prstGeom>
              <a:solidFill>
                <a:srgbClr val="ffcc6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038480" y="2303280"/>
                <a:ext cx="241200" cy="15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4038480" y="2290680"/>
                <a:ext cx="236520" cy="15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3817800" y="2377800"/>
              <a:ext cx="223920" cy="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555600" y="1529640"/>
              <a:ext cx="45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A-4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55600" y="3047400"/>
              <a:ext cx="45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A-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55600" y="1689840"/>
              <a:ext cx="45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A-2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5600" y="2894760"/>
              <a:ext cx="45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A-4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555600" y="2590200"/>
              <a:ext cx="45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A-2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4724280" y="5105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ckers M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24280" y="439596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Light Tru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387036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mma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43480" y="4970520"/>
            <a:ext cx="0" cy="14292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53341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Organic Fire Suppor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24280" y="474012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nfantry              4 with Boys-AT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24280" y="5775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Light Tru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24280" y="37450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Comm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67080" y="3541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724280" y="409104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 inch Mort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24280" y="547056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 inch Mort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724280" y="42750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Trans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67280" y="3741840"/>
            <a:ext cx="0" cy="114300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00640" y="5165640"/>
            <a:ext cx="231840" cy="15264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408560" y="5168880"/>
            <a:ext cx="22860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02080" y="5167440"/>
            <a:ext cx="22716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5470560"/>
            <a:ext cx="239400" cy="15696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4527720" y="5502240"/>
            <a:ext cx="144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87760" y="559908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479840" y="5410080"/>
            <a:ext cx="74520" cy="28800"/>
            <a:chOff x="4479840" y="5410080"/>
            <a:chExt cx="74520" cy="28800"/>
          </a:xfrm>
        </p:grpSpPr>
        <p:sp>
          <p:nvSpPr>
            <p:cNvPr id="269" name=""/>
            <p:cNvSpPr/>
            <p:nvPr/>
          </p:nvSpPr>
          <p:spPr>
            <a:xfrm>
              <a:off x="4479840" y="54100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27360" y="54118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4064040" y="3973680"/>
            <a:ext cx="299880" cy="144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83000" y="4449600"/>
            <a:ext cx="231840" cy="15732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94160" y="461340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5240" y="46134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84800" y="4795920"/>
            <a:ext cx="231480" cy="16488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16480" y="5781600"/>
            <a:ext cx="231840" cy="15732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27640" y="594504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08360" y="594504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11800" y="4054320"/>
            <a:ext cx="0" cy="8892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079880" y="4883040"/>
            <a:ext cx="299880" cy="180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368960" y="3906720"/>
            <a:ext cx="231480" cy="157320"/>
            <a:chOff x="4368960" y="3906720"/>
            <a:chExt cx="231480" cy="157320"/>
          </a:xfrm>
        </p:grpSpPr>
        <p:sp>
          <p:nvSpPr>
            <p:cNvPr id="282" name=""/>
            <p:cNvSpPr/>
            <p:nvPr/>
          </p:nvSpPr>
          <p:spPr>
            <a:xfrm>
              <a:off x="4368960" y="3906720"/>
              <a:ext cx="231480" cy="15732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92360" y="3929040"/>
              <a:ext cx="183960" cy="11088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4470480" y="38638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79840" y="439740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4462560" y="4732200"/>
            <a:ext cx="74520" cy="28800"/>
            <a:chOff x="4462560" y="4732200"/>
            <a:chExt cx="74520" cy="28800"/>
          </a:xfrm>
        </p:grpSpPr>
        <p:sp>
          <p:nvSpPr>
            <p:cNvPr id="287" name=""/>
            <p:cNvSpPr/>
            <p:nvPr/>
          </p:nvSpPr>
          <p:spPr>
            <a:xfrm>
              <a:off x="4462560" y="47322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10080" y="47340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4495680" y="5722920"/>
            <a:ext cx="74520" cy="28080"/>
            <a:chOff x="4495680" y="5722920"/>
            <a:chExt cx="74520" cy="28080"/>
          </a:xfrm>
        </p:grpSpPr>
        <p:sp>
          <p:nvSpPr>
            <p:cNvPr id="290" name=""/>
            <p:cNvSpPr/>
            <p:nvPr/>
          </p:nvSpPr>
          <p:spPr>
            <a:xfrm>
              <a:off x="4495680" y="572292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43200" y="572436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019400" y="3591000"/>
            <a:ext cx="231840" cy="15696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30640" y="351936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25880" y="3589200"/>
            <a:ext cx="24120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4029120" y="3581280"/>
            <a:ext cx="23004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368960" y="4145040"/>
            <a:ext cx="239400" cy="156960"/>
            <a:chOff x="4368960" y="4145040"/>
            <a:chExt cx="239400" cy="156960"/>
          </a:xfrm>
        </p:grpSpPr>
        <p:sp>
          <p:nvSpPr>
            <p:cNvPr id="297" name=""/>
            <p:cNvSpPr/>
            <p:nvPr/>
          </p:nvSpPr>
          <p:spPr>
            <a:xfrm>
              <a:off x="4368960" y="4145040"/>
              <a:ext cx="239400" cy="15696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4489200" y="4166280"/>
              <a:ext cx="2160" cy="101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453200" y="4269960"/>
              <a:ext cx="68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 flipV="1">
            <a:off x="4378320" y="4138560"/>
            <a:ext cx="23004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375080" y="4149720"/>
            <a:ext cx="24120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4479840" y="5105520"/>
            <a:ext cx="74520" cy="28080"/>
            <a:chOff x="4479840" y="5105520"/>
            <a:chExt cx="74520" cy="28080"/>
          </a:xfrm>
        </p:grpSpPr>
        <p:sp>
          <p:nvSpPr>
            <p:cNvPr id="303" name=""/>
            <p:cNvSpPr/>
            <p:nvPr/>
          </p:nvSpPr>
          <p:spPr>
            <a:xfrm>
              <a:off x="4479840" y="510552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27360" y="510696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4390920" y="4808520"/>
            <a:ext cx="24156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387680" y="4800600"/>
            <a:ext cx="23040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4443480" y="4094280"/>
            <a:ext cx="74520" cy="28080"/>
            <a:chOff x="4443480" y="4094280"/>
            <a:chExt cx="74520" cy="28080"/>
          </a:xfrm>
        </p:grpSpPr>
        <p:sp>
          <p:nvSpPr>
            <p:cNvPr id="308" name=""/>
            <p:cNvSpPr/>
            <p:nvPr/>
          </p:nvSpPr>
          <p:spPr>
            <a:xfrm>
              <a:off x="4443480" y="409428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91000" y="409572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4419720" y="4307040"/>
            <a:ext cx="0" cy="14256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56080" y="5326200"/>
            <a:ext cx="0" cy="14256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64000" y="5638680"/>
            <a:ext cx="0" cy="14292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00640" y="5167440"/>
            <a:ext cx="55440" cy="150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724280" y="56386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Trans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5600" y="389340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55600" y="442692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5600" y="412200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555600" y="474588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555600" y="511920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555600" y="550008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555600" y="579060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48320" y="67057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mma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48320" y="7010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out Carr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48320" y="729936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antry/Recon (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48320" y="7623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out Carr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64000" y="7510320"/>
            <a:ext cx="0" cy="13356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421160" y="7635960"/>
            <a:ext cx="239760" cy="15696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67240" y="6905520"/>
            <a:ext cx="0" cy="13356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08560" y="7023240"/>
            <a:ext cx="239760" cy="15696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38480" y="6508800"/>
            <a:ext cx="231840" cy="15696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065480" y="6553080"/>
            <a:ext cx="169920" cy="74880"/>
          </a:xfrm>
          <a:prstGeom prst="ellipse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267080" y="64371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cout/Carrier Plato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6676920"/>
            <a:ext cx="0" cy="75096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27720" y="6978600"/>
            <a:ext cx="266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19440" y="669780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38800" y="7792920"/>
            <a:ext cx="20952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21160" y="7351560"/>
            <a:ext cx="239760" cy="15732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56080" y="7391520"/>
            <a:ext cx="169920" cy="74520"/>
          </a:xfrm>
          <a:prstGeom prst="ellipse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4421160" y="7351200"/>
            <a:ext cx="236520" cy="1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419720" y="7351560"/>
            <a:ext cx="24120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56080" y="7675560"/>
            <a:ext cx="169920" cy="74520"/>
          </a:xfrm>
          <a:prstGeom prst="ellipse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14800" y="6818400"/>
            <a:ext cx="299880" cy="144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14800" y="7427880"/>
            <a:ext cx="299880" cy="180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648320" y="6589800"/>
            <a:ext cx="99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Comm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4502160" y="7310520"/>
            <a:ext cx="74520" cy="28080"/>
            <a:chOff x="4502160" y="7310520"/>
            <a:chExt cx="74520" cy="28080"/>
          </a:xfrm>
        </p:grpSpPr>
        <p:sp>
          <p:nvSpPr>
            <p:cNvPr id="346" name=""/>
            <p:cNvSpPr/>
            <p:nvPr/>
          </p:nvSpPr>
          <p:spPr>
            <a:xfrm>
              <a:off x="4502160" y="731052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49680" y="731196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4495680" y="7580160"/>
            <a:ext cx="74520" cy="28800"/>
            <a:chOff x="4495680" y="7580160"/>
            <a:chExt cx="74520" cy="28800"/>
          </a:xfrm>
        </p:grpSpPr>
        <p:sp>
          <p:nvSpPr>
            <p:cNvPr id="349" name=""/>
            <p:cNvSpPr/>
            <p:nvPr/>
          </p:nvSpPr>
          <p:spPr>
            <a:xfrm>
              <a:off x="4495680" y="75801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543200" y="75819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 flipV="1">
            <a:off x="4038480" y="6508800"/>
            <a:ext cx="23652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038480" y="6513480"/>
            <a:ext cx="24156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4419720" y="6742080"/>
            <a:ext cx="231480" cy="157320"/>
            <a:chOff x="4419720" y="6742080"/>
            <a:chExt cx="231480" cy="157320"/>
          </a:xfrm>
        </p:grpSpPr>
        <p:sp>
          <p:nvSpPr>
            <p:cNvPr id="354" name=""/>
            <p:cNvSpPr/>
            <p:nvPr/>
          </p:nvSpPr>
          <p:spPr>
            <a:xfrm>
              <a:off x="4419720" y="6742080"/>
              <a:ext cx="231480" cy="15732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443120" y="6764400"/>
              <a:ext cx="183960" cy="11088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4648320" y="69055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Trans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648320" y="74962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Trans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438800" y="7180200"/>
            <a:ext cx="20952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56080" y="7062840"/>
            <a:ext cx="169920" cy="74520"/>
          </a:xfrm>
          <a:prstGeom prst="ellipse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1160" y="7023240"/>
            <a:ext cx="23652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19720" y="7021440"/>
            <a:ext cx="24120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094280" y="6461280"/>
            <a:ext cx="118800" cy="28080"/>
            <a:chOff x="4094280" y="6461280"/>
            <a:chExt cx="118800" cy="28080"/>
          </a:xfrm>
        </p:grpSpPr>
        <p:sp>
          <p:nvSpPr>
            <p:cNvPr id="363" name=""/>
            <p:cNvSpPr/>
            <p:nvPr/>
          </p:nvSpPr>
          <p:spPr>
            <a:xfrm>
              <a:off x="4186080" y="64612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4094280" y="6461280"/>
              <a:ext cx="74520" cy="28080"/>
              <a:chOff x="4094280" y="6461280"/>
              <a:chExt cx="74520" cy="28080"/>
            </a:xfrm>
          </p:grpSpPr>
          <p:sp>
            <p:nvSpPr>
              <p:cNvPr id="365" name=""/>
              <p:cNvSpPr/>
              <p:nvPr/>
            </p:nvSpPr>
            <p:spPr>
              <a:xfrm>
                <a:off x="4094280" y="646128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141800" y="646272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7" name=""/>
          <p:cNvSpPr/>
          <p:nvPr/>
        </p:nvSpPr>
        <p:spPr>
          <a:xfrm flipV="1">
            <a:off x="4421160" y="7635960"/>
            <a:ext cx="23652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19720" y="7635960"/>
            <a:ext cx="24120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62520" y="78166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May replace any or all with LMG; may replace one with Inf/Boys ATR, and/or 2 inch mortar when dismount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555600" y="675252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55600" y="699552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55600" y="733680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77120" y="76366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048120" y="779076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A-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57200" y="503280"/>
            <a:ext cx="6324480" cy="418320"/>
          </a:xfrm>
          <a:prstGeom prst="rect">
            <a:avLst/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itish Tables of 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 Sonnenblume” - March/April 19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143000" y="5121360"/>
            <a:ext cx="25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pdr Royal Horse Artillery 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95280" y="6024600"/>
            <a:ext cx="239760" cy="15696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14400" y="5173560"/>
            <a:ext cx="231840" cy="15732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990720" y="5342040"/>
            <a:ext cx="0" cy="75888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514840"/>
            <a:ext cx="299880" cy="180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990720" y="6100920"/>
            <a:ext cx="299880" cy="144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95280" y="5442120"/>
            <a:ext cx="239760" cy="15696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523880" y="541008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ward Ob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23880" y="600408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4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pdr Gun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23880" y="588816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Off-board Direct Fire Sup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27080" y="51134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523880" y="570384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Daimler Scout C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95280" y="5743440"/>
            <a:ext cx="231840" cy="15732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306440" y="590724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87520" y="59072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343160" y="5599080"/>
            <a:ext cx="0" cy="14292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5286240"/>
            <a:ext cx="1524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On-board Attach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382760" y="5964120"/>
            <a:ext cx="74520" cy="28800"/>
            <a:chOff x="1382760" y="5964120"/>
            <a:chExt cx="74520" cy="28800"/>
          </a:xfrm>
        </p:grpSpPr>
        <p:sp>
          <p:nvSpPr>
            <p:cNvPr id="394" name=""/>
            <p:cNvSpPr/>
            <p:nvPr/>
          </p:nvSpPr>
          <p:spPr>
            <a:xfrm>
              <a:off x="1382760" y="596412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30280" y="59659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1014480" y="52466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403280" y="608976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95360" y="569268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58920" y="541800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395360" y="538632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31520" y="572868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542376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14400" y="1195560"/>
            <a:ext cx="2438280" cy="324720"/>
          </a:xfrm>
          <a:prstGeom prst="rect">
            <a:avLst/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valry Regi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3rd Indian Motor Brigad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066680" y="1601640"/>
            <a:ext cx="2438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Headquarters Element [Trained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Light Tru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066680" y="223056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Cavalry Squadron [Trained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3520" y="1557360"/>
            <a:ext cx="0" cy="110952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62120" y="2249640"/>
            <a:ext cx="239760" cy="15696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762120" y="2243160"/>
            <a:ext cx="23652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73280" y="2259000"/>
            <a:ext cx="24120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38080" y="1886040"/>
            <a:ext cx="0" cy="6804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4920" y="1195560"/>
            <a:ext cx="533160" cy="36180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066680" y="257508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pdr Antitank Gun Porté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3520" y="2343240"/>
            <a:ext cx="22356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1809720"/>
            <a:ext cx="22356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80920" y="21906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6400" y="11239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12720" y="11239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62120" y="1733400"/>
            <a:ext cx="231480" cy="15732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304560" y="11923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66680" y="210672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66"/>
                </a:solidFill>
                <a:latin typeface="Arial"/>
              </a:rPr>
              <a:t>MANEUVER ELEMENTS</a:t>
            </a: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066680" y="2452680"/>
            <a:ext cx="121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66"/>
                </a:solidFill>
                <a:latin typeface="Arial"/>
              </a:rPr>
              <a:t>ATTACHMENTS</a:t>
            </a: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8680" y="1565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38360" y="1565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0160" y="253836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62120" y="1946160"/>
            <a:ext cx="231480" cy="15732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73280" y="276228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54000" y="276228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62120" y="2590920"/>
            <a:ext cx="231480" cy="15696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762120" y="2593800"/>
            <a:ext cx="114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76240" y="2593800"/>
            <a:ext cx="11448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946080" y="211464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77960" y="211464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82720" y="25383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17480" y="170964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61840" y="168912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41440" y="2666880"/>
            <a:ext cx="22356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971800" y="17391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048120" y="189972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26600" y="259020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85800" y="11239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743040" y="3349800"/>
            <a:ext cx="2988360" cy="1528920"/>
            <a:chOff x="743040" y="3349800"/>
            <a:chExt cx="2988360" cy="1528920"/>
          </a:xfrm>
        </p:grpSpPr>
        <p:sp>
          <p:nvSpPr>
            <p:cNvPr id="442" name=""/>
            <p:cNvSpPr/>
            <p:nvPr/>
          </p:nvSpPr>
          <p:spPr>
            <a:xfrm>
              <a:off x="1447920" y="3700440"/>
              <a:ext cx="1981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150920" y="4210200"/>
              <a:ext cx="0" cy="14292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447920" y="4276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Infantry w/Boys AT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447920" y="397980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6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Infant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447920" y="4632480"/>
              <a:ext cx="121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5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Light Tru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447920" y="3575160"/>
              <a:ext cx="914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c66"/>
                  </a:solidFill>
                  <a:latin typeface="Arial"/>
                </a:rPr>
                <a:t>Comma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990720" y="337176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valry Squadr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77960" y="3579840"/>
              <a:ext cx="0" cy="23508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100160" y="4337280"/>
              <a:ext cx="231840" cy="15696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1177920" y="4276800"/>
              <a:ext cx="74520" cy="28080"/>
              <a:chOff x="1177920" y="4276800"/>
              <a:chExt cx="74520" cy="28080"/>
            </a:xfrm>
          </p:grpSpPr>
          <p:sp>
            <p:nvSpPr>
              <p:cNvPr id="452" name=""/>
              <p:cNvSpPr/>
              <p:nvPr/>
            </p:nvSpPr>
            <p:spPr>
              <a:xfrm>
                <a:off x="1177920" y="427680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225440" y="427824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4" name=""/>
            <p:cNvSpPr/>
            <p:nvPr/>
          </p:nvSpPr>
          <p:spPr>
            <a:xfrm>
              <a:off x="787680" y="3803760"/>
              <a:ext cx="299880" cy="144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092240" y="4035600"/>
              <a:ext cx="231840" cy="16488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092240" y="4646520"/>
              <a:ext cx="231840" cy="15732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03400" y="48103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84480" y="481032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1092240" y="3737160"/>
              <a:ext cx="231840" cy="156960"/>
              <a:chOff x="1092240" y="3737160"/>
              <a:chExt cx="231840" cy="156960"/>
            </a:xfrm>
          </p:grpSpPr>
          <p:sp>
            <p:nvSpPr>
              <p:cNvPr id="460" name=""/>
              <p:cNvSpPr/>
              <p:nvPr/>
            </p:nvSpPr>
            <p:spPr>
              <a:xfrm>
                <a:off x="1092240" y="3737160"/>
                <a:ext cx="231840" cy="156960"/>
              </a:xfrm>
              <a:prstGeom prst="rect">
                <a:avLst/>
              </a:prstGeom>
              <a:solidFill>
                <a:srgbClr val="ffcc6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116000" y="3759120"/>
                <a:ext cx="184320" cy="110520"/>
              </a:xfrm>
              <a:prstGeom prst="rect">
                <a:avLst/>
              </a:prstGeom>
              <a:solidFill>
                <a:srgbClr val="ffcc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1193760" y="369432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1171800" y="4581720"/>
              <a:ext cx="74520" cy="28080"/>
              <a:chOff x="1171800" y="4581720"/>
              <a:chExt cx="74520" cy="28080"/>
            </a:xfrm>
          </p:grpSpPr>
          <p:sp>
            <p:nvSpPr>
              <p:cNvPr id="464" name=""/>
              <p:cNvSpPr/>
              <p:nvPr/>
            </p:nvSpPr>
            <p:spPr>
              <a:xfrm>
                <a:off x="1171800" y="458172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219320" y="458316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743040" y="3421080"/>
              <a:ext cx="231840" cy="15732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54280" y="33498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49520" y="3419640"/>
              <a:ext cx="241200" cy="15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752760" y="3411720"/>
              <a:ext cx="23004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098720" y="4048200"/>
              <a:ext cx="24120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1095480" y="4040280"/>
              <a:ext cx="23004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103400" y="4345200"/>
              <a:ext cx="241200" cy="15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1100160" y="4337280"/>
              <a:ext cx="23040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148040" y="4503960"/>
              <a:ext cx="0" cy="14256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447920" y="4503960"/>
              <a:ext cx="914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c66"/>
                  </a:solidFill>
                  <a:latin typeface="Arial"/>
                </a:rPr>
                <a:t>Transpo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79240" y="3723840"/>
              <a:ext cx="45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A-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79240" y="3985560"/>
              <a:ext cx="45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A-3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79240" y="4290480"/>
              <a:ext cx="45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A-3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279240" y="4655520"/>
              <a:ext cx="45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A-2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1173240" y="3971880"/>
              <a:ext cx="74520" cy="28800"/>
              <a:chOff x="1173240" y="3971880"/>
              <a:chExt cx="74520" cy="28800"/>
            </a:xfrm>
          </p:grpSpPr>
          <p:sp>
            <p:nvSpPr>
              <p:cNvPr id="481" name=""/>
              <p:cNvSpPr/>
              <p:nvPr/>
            </p:nvSpPr>
            <p:spPr>
              <a:xfrm>
                <a:off x="1173240" y="39718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220760" y="39736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1143000" y="3890880"/>
              <a:ext cx="0" cy="14292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1066680" y="2803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66"/>
                </a:solidFill>
                <a:latin typeface="Arial"/>
              </a:rPr>
              <a:t>FIRE SUPPORT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2120" y="2955960"/>
            <a:ext cx="231480" cy="15696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74800" y="289548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61840" y="302904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066680" y="2948040"/>
            <a:ext cx="243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pdr Royal Horse Artillery 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3520" y="3048120"/>
            <a:ext cx="223560" cy="0"/>
          </a:xfrm>
          <a:prstGeom prst="line">
            <a:avLst/>
          </a:prstGeom>
          <a:ln cap="rnd" w="15840">
            <a:solidFill>
              <a:srgbClr val="ffcc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33520" y="2622600"/>
            <a:ext cx="0" cy="423720"/>
          </a:xfrm>
          <a:prstGeom prst="line">
            <a:avLst/>
          </a:prstGeom>
          <a:ln cap="rnd" w="15840">
            <a:solidFill>
              <a:srgbClr val="ffcc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4038480" y="3368520"/>
            <a:ext cx="2988360" cy="1528920"/>
            <a:chOff x="4038480" y="3368520"/>
            <a:chExt cx="2988360" cy="1528920"/>
          </a:xfrm>
        </p:grpSpPr>
        <p:sp>
          <p:nvSpPr>
            <p:cNvPr id="492" name=""/>
            <p:cNvSpPr/>
            <p:nvPr/>
          </p:nvSpPr>
          <p:spPr>
            <a:xfrm>
              <a:off x="4743360" y="37195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430880" y="4229280"/>
              <a:ext cx="0" cy="14256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743360" y="429588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Vickers MM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743360" y="399888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9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Infant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743360" y="4651200"/>
              <a:ext cx="121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6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Light Tru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743360" y="3594240"/>
              <a:ext cx="914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c66"/>
                  </a:solidFill>
                  <a:latin typeface="Arial"/>
                </a:rPr>
                <a:t>Comma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286160" y="3390840"/>
              <a:ext cx="211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ree French Infantry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073400" y="3598920"/>
              <a:ext cx="0" cy="23472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395960" y="4356000"/>
              <a:ext cx="231480" cy="15732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4473720" y="4295880"/>
              <a:ext cx="74520" cy="28080"/>
              <a:chOff x="4473720" y="4295880"/>
              <a:chExt cx="74520" cy="28080"/>
            </a:xfrm>
          </p:grpSpPr>
          <p:sp>
            <p:nvSpPr>
              <p:cNvPr id="502" name=""/>
              <p:cNvSpPr/>
              <p:nvPr/>
            </p:nvSpPr>
            <p:spPr>
              <a:xfrm>
                <a:off x="4473720" y="429588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521240" y="429732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4083120" y="3822840"/>
              <a:ext cx="299880" cy="144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387680" y="4054320"/>
              <a:ext cx="231840" cy="16524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387680" y="4665600"/>
              <a:ext cx="231840" cy="15732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398840" y="48290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579920" y="48290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4387680" y="3755880"/>
              <a:ext cx="231840" cy="157320"/>
              <a:chOff x="4387680" y="3755880"/>
              <a:chExt cx="231840" cy="157320"/>
            </a:xfrm>
          </p:grpSpPr>
          <p:sp>
            <p:nvSpPr>
              <p:cNvPr id="510" name=""/>
              <p:cNvSpPr/>
              <p:nvPr/>
            </p:nvSpPr>
            <p:spPr>
              <a:xfrm>
                <a:off x="4387680" y="3755880"/>
                <a:ext cx="231840" cy="157320"/>
              </a:xfrm>
              <a:prstGeom prst="rect">
                <a:avLst/>
              </a:prstGeom>
              <a:solidFill>
                <a:srgbClr val="ffcc6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411440" y="3778200"/>
                <a:ext cx="184320" cy="110880"/>
              </a:xfrm>
              <a:prstGeom prst="rect">
                <a:avLst/>
              </a:prstGeom>
              <a:solidFill>
                <a:srgbClr val="ffcc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4489560" y="37130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4467240" y="4600440"/>
              <a:ext cx="74520" cy="28800"/>
              <a:chOff x="4467240" y="4600440"/>
              <a:chExt cx="74520" cy="28800"/>
            </a:xfrm>
          </p:grpSpPr>
          <p:sp>
            <p:nvSpPr>
              <p:cNvPr id="514" name=""/>
              <p:cNvSpPr/>
              <p:nvPr/>
            </p:nvSpPr>
            <p:spPr>
              <a:xfrm>
                <a:off x="4467240" y="46004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514760" y="46022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>
              <a:off x="4038480" y="3440160"/>
              <a:ext cx="231840" cy="15696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149720" y="336852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44960" y="3438360"/>
              <a:ext cx="24120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4048200" y="3430080"/>
              <a:ext cx="230040" cy="15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394160" y="4067280"/>
              <a:ext cx="241200" cy="15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4390920" y="4059360"/>
              <a:ext cx="23040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398840" y="4363920"/>
              <a:ext cx="24156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4395960" y="4356000"/>
              <a:ext cx="23004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427640" y="4522680"/>
              <a:ext cx="0" cy="14292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743360" y="4522680"/>
              <a:ext cx="914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c66"/>
                  </a:solidFill>
                  <a:latin typeface="Arial"/>
                </a:rPr>
                <a:t>Transpo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574680" y="3742560"/>
              <a:ext cx="45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A-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574680" y="4004640"/>
              <a:ext cx="45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A-3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574680" y="4309560"/>
              <a:ext cx="45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A-4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574680" y="4674600"/>
              <a:ext cx="45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A-2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4468680" y="3990960"/>
              <a:ext cx="74520" cy="28080"/>
              <a:chOff x="4468680" y="3990960"/>
              <a:chExt cx="74520" cy="28080"/>
            </a:xfrm>
          </p:grpSpPr>
          <p:sp>
            <p:nvSpPr>
              <p:cNvPr id="531" name=""/>
              <p:cNvSpPr/>
              <p:nvPr/>
            </p:nvSpPr>
            <p:spPr>
              <a:xfrm>
                <a:off x="4468680" y="399096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516200" y="399240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4430880" y="3909960"/>
              <a:ext cx="0" cy="14292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4343400" y="1214280"/>
            <a:ext cx="2438280" cy="307080"/>
          </a:xfrm>
          <a:prstGeom prst="rect">
            <a:avLst/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e French Battal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495680" y="1620720"/>
            <a:ext cx="2438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Headquarters Element [Trained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Light Tru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495680" y="224964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Infantry Battalion [Trained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962520" y="1576440"/>
            <a:ext cx="0" cy="78588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191120" y="2268360"/>
            <a:ext cx="239760" cy="15732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4191120" y="2262240"/>
            <a:ext cx="23652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202280" y="2278080"/>
            <a:ext cx="24120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67080" y="1905120"/>
            <a:ext cx="0" cy="6804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733920" y="1214280"/>
            <a:ext cx="533160" cy="36216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495680" y="259380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pdr Antitank Gun Porté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962520" y="2362320"/>
            <a:ext cx="22356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62520" y="1828800"/>
            <a:ext cx="22356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309920" y="220968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965400" y="11430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041720" y="11430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91120" y="1752480"/>
            <a:ext cx="231480" cy="15732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3733560" y="121140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495680" y="2125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66"/>
                </a:solidFill>
                <a:latin typeface="Arial"/>
              </a:rPr>
              <a:t>MANEUVER ELEMENTS</a:t>
            </a: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95680" y="2471760"/>
            <a:ext cx="121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66"/>
                </a:solidFill>
                <a:latin typeface="Arial"/>
              </a:rPr>
              <a:t>ATTACHMENTS</a:t>
            </a: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757680" y="15843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67360" y="15843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259160" y="255744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191120" y="1965240"/>
            <a:ext cx="231480" cy="15732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202280" y="278136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383000" y="278136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191120" y="2610000"/>
            <a:ext cx="231480" cy="15696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4191120" y="2612880"/>
            <a:ext cx="114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05240" y="2612880"/>
            <a:ext cx="11448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375080" y="213372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206960" y="213372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311720" y="25574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146480" y="172872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290840" y="170820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324480" y="17582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324480" y="19188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479640" y="259020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495680" y="282240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66"/>
                </a:solidFill>
                <a:latin typeface="Arial"/>
              </a:rPr>
              <a:t>FIRE SUPPORT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91120" y="2975040"/>
            <a:ext cx="231480" cy="15696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303800" y="291456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290840" y="304812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495680" y="2967120"/>
            <a:ext cx="243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pdr Royal Horse Artillery 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962520" y="3048120"/>
            <a:ext cx="223560" cy="0"/>
          </a:xfrm>
          <a:prstGeom prst="line">
            <a:avLst/>
          </a:prstGeom>
          <a:ln cap="rnd" w="15840">
            <a:solidFill>
              <a:srgbClr val="ffcc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962520" y="2362320"/>
            <a:ext cx="0" cy="703080"/>
          </a:xfrm>
          <a:prstGeom prst="line">
            <a:avLst/>
          </a:prstGeom>
          <a:ln cap="rnd" w="15840">
            <a:solidFill>
              <a:srgbClr val="ffcc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733920" y="121140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962520" y="2690640"/>
            <a:ext cx="223560" cy="0"/>
          </a:xfrm>
          <a:prstGeom prst="line">
            <a:avLst/>
          </a:prstGeom>
          <a:ln cap="rnd" w="15840">
            <a:solidFill>
              <a:srgbClr val="ffcc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9T19:18:07Z</dcterms:created>
  <dc:creator>James Baker</dc:creator>
  <dc:description/>
  <dc:language>en-US</dc:language>
  <cp:lastModifiedBy>Jim Baker</cp:lastModifiedBy>
  <cp:lastPrinted>2003-06-22T19:05:49Z</cp:lastPrinted>
  <dcterms:modified xsi:type="dcterms:W3CDTF">2005-02-11T18:23:22Z</dcterms:modified>
  <cp:revision>45</cp:revision>
  <dc:subject/>
  <dc:title>PowerPoint Presentation</dc:title>
</cp:coreProperties>
</file>