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7315200" cy="96377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014DA-0875-4D71-9C79-C656A8CC7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9360" y="857160"/>
            <a:ext cx="6216480" cy="16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9360" y="2784600"/>
            <a:ext cx="6216480" cy="27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9360" y="5804640"/>
            <a:ext cx="6216480" cy="27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F28FA-F3DB-4D4A-A8D9-D20FE1AAE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9360" y="857160"/>
            <a:ext cx="6216480" cy="16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9360" y="2784600"/>
            <a:ext cx="3033360" cy="27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734640" y="2784600"/>
            <a:ext cx="3033360" cy="27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9360" y="5804640"/>
            <a:ext cx="3033360" cy="27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734640" y="5804640"/>
            <a:ext cx="3033360" cy="27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5697E-6F90-4F6D-A3CF-E02922B02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9360" y="857160"/>
            <a:ext cx="6216480" cy="16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9360" y="2784600"/>
            <a:ext cx="2001600" cy="27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51400" y="2784600"/>
            <a:ext cx="2001600" cy="27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753440" y="2784600"/>
            <a:ext cx="2001600" cy="27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9360" y="5804640"/>
            <a:ext cx="2001600" cy="27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51400" y="5804640"/>
            <a:ext cx="2001600" cy="27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753440" y="5804640"/>
            <a:ext cx="2001600" cy="27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3C279-4A7D-4094-B65C-2546DEAB0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9360" y="857160"/>
            <a:ext cx="6216480" cy="16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49360" y="2784600"/>
            <a:ext cx="6216480" cy="57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62DC0-60F9-4C24-981C-968235A20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9360" y="857160"/>
            <a:ext cx="6216480" cy="16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49360" y="2784600"/>
            <a:ext cx="6216480" cy="57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B7E8E-FC7C-40C6-B9D1-CDE197729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9360" y="857160"/>
            <a:ext cx="6216480" cy="16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9360" y="2784600"/>
            <a:ext cx="3033360" cy="57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734640" y="2784600"/>
            <a:ext cx="3033360" cy="57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C307E-1358-4B2F-8C62-A7AF69721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9360" y="857160"/>
            <a:ext cx="6216480" cy="16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D5D4F-B73C-406B-AA64-8A3C2D63C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49360" y="857160"/>
            <a:ext cx="6216480" cy="744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93159-6C97-411F-8E07-22D91BC9A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9360" y="857160"/>
            <a:ext cx="6216480" cy="16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49360" y="2784600"/>
            <a:ext cx="3033360" cy="27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734640" y="2784600"/>
            <a:ext cx="3033360" cy="57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9360" y="5804640"/>
            <a:ext cx="3033360" cy="27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730EB-E04F-4ADF-9517-80342A93F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9360" y="857160"/>
            <a:ext cx="6216480" cy="16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49360" y="2784600"/>
            <a:ext cx="3033360" cy="57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734640" y="2784600"/>
            <a:ext cx="3033360" cy="27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734640" y="5804640"/>
            <a:ext cx="3033360" cy="27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B2FE3-91B4-4245-953E-77DB9035D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9360" y="857160"/>
            <a:ext cx="6216480" cy="16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9360" y="2784600"/>
            <a:ext cx="3033360" cy="27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734640" y="2784600"/>
            <a:ext cx="3033360" cy="27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9360" y="5804640"/>
            <a:ext cx="6216480" cy="27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30D85-6666-4EBC-85E2-F31C1E30C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49360" y="857160"/>
            <a:ext cx="6216480" cy="16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49360" y="2784600"/>
            <a:ext cx="6216480" cy="57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49000" y="8780400"/>
            <a:ext cx="15238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498760" y="8780400"/>
            <a:ext cx="23176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241600" y="8780400"/>
            <a:ext cx="15238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AB1C0-0F55-45C8-9FD1-750C321365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3520" y="42973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neuver Element Detai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7323120" y="1959120"/>
          <a:ext cx="5608800" cy="3786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23120" y="1959120"/>
                    <a:ext cx="5608800" cy="37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" name=""/>
          <p:cNvSpPr/>
          <p:nvPr/>
        </p:nvSpPr>
        <p:spPr>
          <a:xfrm>
            <a:off x="380880" y="385920"/>
            <a:ext cx="6629400" cy="494640"/>
          </a:xfrm>
          <a:prstGeom prst="rect">
            <a:avLst/>
          </a:pr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rman Tables of Organiz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peration Sonnenblume” March/April 1941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380880" y="1023840"/>
            <a:ext cx="3435120" cy="3092760"/>
            <a:chOff x="380880" y="1023840"/>
            <a:chExt cx="3435120" cy="3092760"/>
          </a:xfrm>
        </p:grpSpPr>
        <p:sp>
          <p:nvSpPr>
            <p:cNvPr id="46" name=""/>
            <p:cNvSpPr/>
            <p:nvPr/>
          </p:nvSpPr>
          <p:spPr>
            <a:xfrm>
              <a:off x="838080" y="1623960"/>
              <a:ext cx="231840" cy="156960"/>
            </a:xfrm>
            <a:prstGeom prst="rect">
              <a:avLst/>
            </a:prstGeom>
            <a:solidFill>
              <a:srgbClr val="99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71560" y="1665000"/>
              <a:ext cx="162000" cy="76320"/>
            </a:xfrm>
            <a:prstGeom prst="ellipse">
              <a:avLst/>
            </a:prstGeom>
            <a:solidFill>
              <a:srgbClr val="99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143000" y="3206520"/>
              <a:ext cx="15955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99cc00"/>
                  </a:solidFill>
                  <a:latin typeface="Arial"/>
                </a:rPr>
                <a:t>DIVISIONAL ATTACHMENTS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380880" y="1095120"/>
              <a:ext cx="533160" cy="361800"/>
              <a:chOff x="380880" y="1095120"/>
              <a:chExt cx="533160" cy="361800"/>
            </a:xfrm>
          </p:grpSpPr>
          <p:sp>
            <p:nvSpPr>
              <p:cNvPr id="50" name=""/>
              <p:cNvSpPr/>
              <p:nvPr/>
            </p:nvSpPr>
            <p:spPr>
              <a:xfrm>
                <a:off x="380880" y="1095120"/>
                <a:ext cx="533160" cy="361800"/>
              </a:xfrm>
              <a:prstGeom prst="rect">
                <a:avLst/>
              </a:prstGeom>
              <a:solidFill>
                <a:srgbClr val="99cc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478800" y="1185840"/>
                <a:ext cx="342000" cy="172800"/>
              </a:xfrm>
              <a:prstGeom prst="ellipse">
                <a:avLst/>
              </a:prstGeom>
              <a:solidFill>
                <a:srgbClr val="99cc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2" name=""/>
            <p:cNvSpPr/>
            <p:nvPr/>
          </p:nvSpPr>
          <p:spPr>
            <a:xfrm>
              <a:off x="990720" y="1095120"/>
              <a:ext cx="2514600" cy="307080"/>
            </a:xfrm>
            <a:prstGeom prst="rect">
              <a:avLst/>
            </a:prstGeom>
            <a:solidFill>
              <a:srgbClr val="99cc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anzer Battal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143000" y="1520640"/>
              <a:ext cx="2438280" cy="24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99cc00"/>
                  </a:solidFill>
                  <a:latin typeface="Arial"/>
                </a:rPr>
                <a:t>Headquarters Element [Experienced]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143000" y="2719080"/>
              <a:ext cx="2209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x2</a:t>
              </a:r>
              <a:r>
                <a:rPr b="1" lang="en-US" sz="1000" spc="-1" strike="noStrike">
                  <a:solidFill>
                    <a:srgbClr val="99cc00"/>
                  </a:solidFill>
                  <a:latin typeface="Arial"/>
                </a:rPr>
                <a:t> Light Panzer Company [EXP]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143000" y="3870360"/>
              <a:ext cx="2133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x1</a:t>
              </a:r>
              <a:r>
                <a:rPr b="1" lang="en-US" sz="1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dKfz 10/4</a:t>
              </a:r>
              <a:r>
                <a:rPr b="1" lang="en-US" sz="1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P Antiaircraft Gu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480" y="1468440"/>
              <a:ext cx="0" cy="1616040"/>
            </a:xfrm>
            <a:prstGeom prst="line">
              <a:avLst/>
            </a:prstGeom>
            <a:ln w="158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09480" y="3457440"/>
              <a:ext cx="223920" cy="0"/>
            </a:xfrm>
            <a:prstGeom prst="line">
              <a:avLst/>
            </a:prstGeom>
            <a:ln w="15840">
              <a:solidFill>
                <a:srgbClr val="99cc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09480" y="2238120"/>
              <a:ext cx="223920" cy="0"/>
            </a:xfrm>
            <a:prstGeom prst="line">
              <a:avLst/>
            </a:prstGeom>
            <a:ln w="158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09480" y="1704960"/>
              <a:ext cx="223920" cy="0"/>
            </a:xfrm>
            <a:prstGeom prst="line">
              <a:avLst/>
            </a:prstGeom>
            <a:ln w="158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" name=""/>
            <p:cNvGrpSpPr/>
            <p:nvPr/>
          </p:nvGrpSpPr>
          <p:grpSpPr>
            <a:xfrm>
              <a:off x="838080" y="2952720"/>
              <a:ext cx="239760" cy="215280"/>
              <a:chOff x="838080" y="2952720"/>
              <a:chExt cx="239760" cy="215280"/>
            </a:xfrm>
          </p:grpSpPr>
          <p:grpSp>
            <p:nvGrpSpPr>
              <p:cNvPr id="61" name=""/>
              <p:cNvGrpSpPr/>
              <p:nvPr/>
            </p:nvGrpSpPr>
            <p:grpSpPr>
              <a:xfrm>
                <a:off x="838080" y="3011040"/>
                <a:ext cx="239760" cy="156960"/>
                <a:chOff x="838080" y="3011040"/>
                <a:chExt cx="239760" cy="156960"/>
              </a:xfrm>
            </p:grpSpPr>
            <p:sp>
              <p:nvSpPr>
                <p:cNvPr id="62" name=""/>
                <p:cNvSpPr/>
                <p:nvPr/>
              </p:nvSpPr>
              <p:spPr>
                <a:xfrm>
                  <a:off x="838080" y="3011040"/>
                  <a:ext cx="239760" cy="156960"/>
                </a:xfrm>
                <a:prstGeom prst="rect">
                  <a:avLst/>
                </a:prstGeom>
                <a:solidFill>
                  <a:srgbClr val="99cc00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82000" y="3050280"/>
                  <a:ext cx="151560" cy="74880"/>
                </a:xfrm>
                <a:prstGeom prst="ellipse">
                  <a:avLst/>
                </a:prstGeom>
                <a:solidFill>
                  <a:srgbClr val="99cc00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480" bIns="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4" name=""/>
              <p:cNvSpPr/>
              <p:nvPr/>
            </p:nvSpPr>
            <p:spPr>
              <a:xfrm>
                <a:off x="965160" y="2952720"/>
                <a:ext cx="0" cy="630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612720" y="1023840"/>
              <a:ext cx="76320" cy="63360"/>
              <a:chOff x="612720" y="1023840"/>
              <a:chExt cx="76320" cy="63360"/>
            </a:xfrm>
          </p:grpSpPr>
          <p:sp>
            <p:nvSpPr>
              <p:cNvPr id="66" name=""/>
              <p:cNvSpPr/>
              <p:nvPr/>
            </p:nvSpPr>
            <p:spPr>
              <a:xfrm>
                <a:off x="612720" y="1023840"/>
                <a:ext cx="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689040" y="1023840"/>
                <a:ext cx="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8" name=""/>
            <p:cNvSpPr/>
            <p:nvPr/>
          </p:nvSpPr>
          <p:spPr>
            <a:xfrm>
              <a:off x="609480" y="3076560"/>
              <a:ext cx="0" cy="914400"/>
            </a:xfrm>
            <a:prstGeom prst="line">
              <a:avLst/>
            </a:prstGeom>
            <a:ln w="15840">
              <a:solidFill>
                <a:srgbClr val="99cc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946080" y="1571400"/>
              <a:ext cx="2700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143000" y="2589120"/>
              <a:ext cx="15955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99cc00"/>
                  </a:solidFill>
                  <a:latin typeface="Arial"/>
                </a:rPr>
                <a:t>MANEUVER ELEMENT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09480" y="3738600"/>
              <a:ext cx="223920" cy="0"/>
            </a:xfrm>
            <a:prstGeom prst="line">
              <a:avLst/>
            </a:prstGeom>
            <a:ln w="15840">
              <a:solidFill>
                <a:srgbClr val="99cc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143000" y="3617640"/>
              <a:ext cx="2438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x1</a:t>
              </a:r>
              <a:r>
                <a:rPr b="1" lang="en-US" sz="1000" spc="-1" strike="noStrike">
                  <a:solidFill>
                    <a:srgbClr val="99cc00"/>
                  </a:solidFill>
                  <a:latin typeface="Arial"/>
                </a:rPr>
                <a:t> Armored Reconnaissance Plato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143000" y="2960640"/>
              <a:ext cx="2362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x1</a:t>
              </a:r>
              <a:r>
                <a:rPr b="1" lang="en-US" sz="1000" spc="-1" strike="noStrike">
                  <a:solidFill>
                    <a:srgbClr val="99cc00"/>
                  </a:solidFill>
                  <a:latin typeface="Arial"/>
                </a:rPr>
                <a:t> Medium Panzer Company [EXP]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270600" y="1627920"/>
              <a:ext cx="5374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AK-18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270600" y="2129760"/>
              <a:ext cx="5374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AK-0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270600" y="1870920"/>
              <a:ext cx="5374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AK-03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143000" y="1649160"/>
              <a:ext cx="2057400" cy="18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x1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zBefWg III Command Tan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143000" y="1857240"/>
              <a:ext cx="1981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x1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PzKpfw III G Medium Tan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43000" y="2109600"/>
              <a:ext cx="1981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x2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PzKpfw II A-C, F Light Tan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143000" y="2350800"/>
              <a:ext cx="182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x2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PzKpfw I A-B Light Tan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143000" y="3336840"/>
              <a:ext cx="2209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x1</a:t>
              </a:r>
              <a:r>
                <a:rPr b="1" lang="en-US" sz="1000" spc="-1" strike="noStrike">
                  <a:solidFill>
                    <a:srgbClr val="99cc00"/>
                  </a:solidFill>
                  <a:latin typeface="Arial"/>
                </a:rPr>
                <a:t> Panzerjäger Company [EXP]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838080" y="3609720"/>
              <a:ext cx="236520" cy="212760"/>
              <a:chOff x="838080" y="3609720"/>
              <a:chExt cx="236520" cy="212760"/>
            </a:xfrm>
          </p:grpSpPr>
          <p:sp>
            <p:nvSpPr>
              <p:cNvPr id="83" name=""/>
              <p:cNvSpPr/>
              <p:nvPr/>
            </p:nvSpPr>
            <p:spPr>
              <a:xfrm>
                <a:off x="838080" y="3665160"/>
                <a:ext cx="231840" cy="157320"/>
              </a:xfrm>
              <a:prstGeom prst="rect">
                <a:avLst/>
              </a:prstGeom>
              <a:solidFill>
                <a:srgbClr val="99cc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865080" y="3698640"/>
                <a:ext cx="169920" cy="74520"/>
              </a:xfrm>
              <a:prstGeom prst="ellipse">
                <a:avLst/>
              </a:prstGeom>
              <a:solidFill>
                <a:srgbClr val="99cc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V="1">
                <a:off x="838080" y="3654360"/>
                <a:ext cx="236520" cy="156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998640" y="3611520"/>
                <a:ext cx="27000" cy="26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887400" y="3609720"/>
                <a:ext cx="2700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942840" y="3609720"/>
                <a:ext cx="2880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>
              <a:off x="838080" y="3369960"/>
              <a:ext cx="231840" cy="157320"/>
            </a:xfrm>
            <a:prstGeom prst="rect">
              <a:avLst/>
            </a:prstGeom>
            <a:solidFill>
              <a:srgbClr val="99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66880" y="3417840"/>
              <a:ext cx="169920" cy="74520"/>
            </a:xfrm>
            <a:prstGeom prst="ellipse">
              <a:avLst/>
            </a:prstGeom>
            <a:solidFill>
              <a:srgbClr val="99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958680" y="3305160"/>
              <a:ext cx="0" cy="63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2" name=""/>
            <p:cNvGrpSpPr/>
            <p:nvPr/>
          </p:nvGrpSpPr>
          <p:grpSpPr>
            <a:xfrm>
              <a:off x="838080" y="2695320"/>
              <a:ext cx="239760" cy="216000"/>
              <a:chOff x="838080" y="2695320"/>
              <a:chExt cx="239760" cy="216000"/>
            </a:xfrm>
          </p:grpSpPr>
          <p:grpSp>
            <p:nvGrpSpPr>
              <p:cNvPr id="93" name=""/>
              <p:cNvGrpSpPr/>
              <p:nvPr/>
            </p:nvGrpSpPr>
            <p:grpSpPr>
              <a:xfrm>
                <a:off x="838080" y="2754000"/>
                <a:ext cx="239760" cy="157320"/>
                <a:chOff x="838080" y="2754000"/>
                <a:chExt cx="239760" cy="157320"/>
              </a:xfrm>
            </p:grpSpPr>
            <p:sp>
              <p:nvSpPr>
                <p:cNvPr id="94" name=""/>
                <p:cNvSpPr/>
                <p:nvPr/>
              </p:nvSpPr>
              <p:spPr>
                <a:xfrm>
                  <a:off x="838080" y="2754000"/>
                  <a:ext cx="239760" cy="157320"/>
                </a:xfrm>
                <a:prstGeom prst="rect">
                  <a:avLst/>
                </a:prstGeom>
                <a:solidFill>
                  <a:srgbClr val="99cc00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>
                  <a:off x="882000" y="2793240"/>
                  <a:ext cx="151560" cy="74880"/>
                </a:xfrm>
                <a:prstGeom prst="ellipse">
                  <a:avLst/>
                </a:prstGeom>
                <a:solidFill>
                  <a:srgbClr val="99cc00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480" bIns="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6" name=""/>
              <p:cNvSpPr/>
              <p:nvPr/>
            </p:nvSpPr>
            <p:spPr>
              <a:xfrm>
                <a:off x="965160" y="2695320"/>
                <a:ext cx="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" name=""/>
            <p:cNvGrpSpPr/>
            <p:nvPr/>
          </p:nvGrpSpPr>
          <p:grpSpPr>
            <a:xfrm>
              <a:off x="838080" y="1857240"/>
              <a:ext cx="239760" cy="209160"/>
              <a:chOff x="838080" y="1857240"/>
              <a:chExt cx="239760" cy="20916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838080" y="1909440"/>
                <a:ext cx="239760" cy="156960"/>
                <a:chOff x="838080" y="1909440"/>
                <a:chExt cx="239760" cy="15696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838080" y="1909440"/>
                  <a:ext cx="239760" cy="156960"/>
                </a:xfrm>
                <a:prstGeom prst="rect">
                  <a:avLst/>
                </a:prstGeom>
                <a:solidFill>
                  <a:srgbClr val="99cc00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882000" y="1948680"/>
                  <a:ext cx="151560" cy="74880"/>
                </a:xfrm>
                <a:prstGeom prst="ellipse">
                  <a:avLst/>
                </a:prstGeom>
                <a:solidFill>
                  <a:srgbClr val="99cc00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480" bIns="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1" name=""/>
              <p:cNvGrpSpPr/>
              <p:nvPr/>
            </p:nvGrpSpPr>
            <p:grpSpPr>
              <a:xfrm>
                <a:off x="922320" y="1857240"/>
                <a:ext cx="74520" cy="28080"/>
                <a:chOff x="922320" y="1857240"/>
                <a:chExt cx="74520" cy="28080"/>
              </a:xfrm>
            </p:grpSpPr>
            <p:sp>
              <p:nvSpPr>
                <p:cNvPr id="102" name=""/>
                <p:cNvSpPr/>
                <p:nvPr/>
              </p:nvSpPr>
              <p:spPr>
                <a:xfrm>
                  <a:off x="922320" y="1857240"/>
                  <a:ext cx="2844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969840" y="1858680"/>
                  <a:ext cx="2700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4" name=""/>
            <p:cNvGrpSpPr/>
            <p:nvPr/>
          </p:nvGrpSpPr>
          <p:grpSpPr>
            <a:xfrm>
              <a:off x="838080" y="2101680"/>
              <a:ext cx="239760" cy="209160"/>
              <a:chOff x="838080" y="2101680"/>
              <a:chExt cx="239760" cy="20916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838080" y="2153880"/>
                <a:ext cx="239760" cy="156960"/>
                <a:chOff x="838080" y="2153880"/>
                <a:chExt cx="239760" cy="15696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838080" y="2153880"/>
                  <a:ext cx="239760" cy="156960"/>
                </a:xfrm>
                <a:prstGeom prst="rect">
                  <a:avLst/>
                </a:prstGeom>
                <a:solidFill>
                  <a:srgbClr val="99cc00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882000" y="2193120"/>
                  <a:ext cx="151560" cy="74880"/>
                </a:xfrm>
                <a:prstGeom prst="ellipse">
                  <a:avLst/>
                </a:prstGeom>
                <a:solidFill>
                  <a:srgbClr val="99cc00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480" bIns="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" name=""/>
              <p:cNvGrpSpPr/>
              <p:nvPr/>
            </p:nvGrpSpPr>
            <p:grpSpPr>
              <a:xfrm>
                <a:off x="922320" y="2101680"/>
                <a:ext cx="74520" cy="28080"/>
                <a:chOff x="922320" y="2101680"/>
                <a:chExt cx="74520" cy="28080"/>
              </a:xfrm>
            </p:grpSpPr>
            <p:sp>
              <p:nvSpPr>
                <p:cNvPr id="109" name=""/>
                <p:cNvSpPr/>
                <p:nvPr/>
              </p:nvSpPr>
              <p:spPr>
                <a:xfrm>
                  <a:off x="922320" y="2101680"/>
                  <a:ext cx="2844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969840" y="2103120"/>
                  <a:ext cx="2700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1" name=""/>
            <p:cNvGrpSpPr/>
            <p:nvPr/>
          </p:nvGrpSpPr>
          <p:grpSpPr>
            <a:xfrm>
              <a:off x="838080" y="2346120"/>
              <a:ext cx="239760" cy="209160"/>
              <a:chOff x="838080" y="2346120"/>
              <a:chExt cx="239760" cy="209160"/>
            </a:xfrm>
          </p:grpSpPr>
          <p:grpSp>
            <p:nvGrpSpPr>
              <p:cNvPr id="112" name=""/>
              <p:cNvGrpSpPr/>
              <p:nvPr/>
            </p:nvGrpSpPr>
            <p:grpSpPr>
              <a:xfrm>
                <a:off x="838080" y="2398320"/>
                <a:ext cx="239760" cy="156960"/>
                <a:chOff x="838080" y="2398320"/>
                <a:chExt cx="239760" cy="156960"/>
              </a:xfrm>
            </p:grpSpPr>
            <p:sp>
              <p:nvSpPr>
                <p:cNvPr id="113" name=""/>
                <p:cNvSpPr/>
                <p:nvPr/>
              </p:nvSpPr>
              <p:spPr>
                <a:xfrm>
                  <a:off x="838080" y="2398320"/>
                  <a:ext cx="239760" cy="156960"/>
                </a:xfrm>
                <a:prstGeom prst="rect">
                  <a:avLst/>
                </a:prstGeom>
                <a:solidFill>
                  <a:srgbClr val="99cc00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2000" y="2437560"/>
                  <a:ext cx="151560" cy="74880"/>
                </a:xfrm>
                <a:prstGeom prst="ellipse">
                  <a:avLst/>
                </a:prstGeom>
                <a:solidFill>
                  <a:srgbClr val="99cc00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480" bIns="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5" name=""/>
              <p:cNvGrpSpPr/>
              <p:nvPr/>
            </p:nvGrpSpPr>
            <p:grpSpPr>
              <a:xfrm>
                <a:off x="922320" y="2346120"/>
                <a:ext cx="74520" cy="28080"/>
                <a:chOff x="922320" y="2346120"/>
                <a:chExt cx="74520" cy="28080"/>
              </a:xfrm>
            </p:grpSpPr>
            <p:sp>
              <p:nvSpPr>
                <p:cNvPr id="116" name=""/>
                <p:cNvSpPr/>
                <p:nvPr/>
              </p:nvSpPr>
              <p:spPr>
                <a:xfrm>
                  <a:off x="922320" y="2346120"/>
                  <a:ext cx="2844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969840" y="2347560"/>
                  <a:ext cx="2700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18" name=""/>
            <p:cNvSpPr/>
            <p:nvPr/>
          </p:nvSpPr>
          <p:spPr>
            <a:xfrm>
              <a:off x="609480" y="2466720"/>
              <a:ext cx="223920" cy="0"/>
            </a:xfrm>
            <a:prstGeom prst="line">
              <a:avLst/>
            </a:prstGeom>
            <a:ln w="158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09480" y="2840040"/>
              <a:ext cx="223920" cy="0"/>
            </a:xfrm>
            <a:prstGeom prst="line">
              <a:avLst/>
            </a:prstGeom>
            <a:ln w="158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09480" y="1985760"/>
              <a:ext cx="223920" cy="0"/>
            </a:xfrm>
            <a:prstGeom prst="line">
              <a:avLst/>
            </a:prstGeom>
            <a:ln w="158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09480" y="3089160"/>
              <a:ext cx="223920" cy="0"/>
            </a:xfrm>
            <a:prstGeom prst="line">
              <a:avLst/>
            </a:prstGeom>
            <a:ln w="158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3990960"/>
              <a:ext cx="223920" cy="0"/>
            </a:xfrm>
            <a:prstGeom prst="line">
              <a:avLst/>
            </a:prstGeom>
            <a:ln w="15840">
              <a:solidFill>
                <a:srgbClr val="99cc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838080" y="3909960"/>
              <a:ext cx="231840" cy="156960"/>
            </a:xfrm>
            <a:prstGeom prst="rect">
              <a:avLst/>
            </a:prstGeom>
            <a:solidFill>
              <a:srgbClr val="99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>
              <a:off x="838080" y="3914280"/>
              <a:ext cx="1144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952560" y="3913200"/>
              <a:ext cx="114120" cy="15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914400" y="397512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flipV="1">
              <a:off x="839880" y="3374640"/>
              <a:ext cx="1141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954000" y="3375000"/>
              <a:ext cx="114480" cy="15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838080" y="4066920"/>
              <a:ext cx="2700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0" name=""/>
            <p:cNvGrpSpPr/>
            <p:nvPr/>
          </p:nvGrpSpPr>
          <p:grpSpPr>
            <a:xfrm>
              <a:off x="939960" y="4066920"/>
              <a:ext cx="118800" cy="30240"/>
              <a:chOff x="939960" y="4066920"/>
              <a:chExt cx="118800" cy="30240"/>
            </a:xfrm>
          </p:grpSpPr>
          <p:sp>
            <p:nvSpPr>
              <p:cNvPr id="131" name=""/>
              <p:cNvSpPr/>
              <p:nvPr/>
            </p:nvSpPr>
            <p:spPr>
              <a:xfrm>
                <a:off x="939960" y="4066920"/>
                <a:ext cx="266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1031760" y="4070160"/>
                <a:ext cx="2700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963720" y="4086000"/>
                <a:ext cx="7596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278520" y="2372400"/>
              <a:ext cx="5374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AK-0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270600" y="3890160"/>
              <a:ext cx="5374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AK-2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762120" y="4622760"/>
            <a:ext cx="3045600" cy="1169280"/>
            <a:chOff x="762120" y="4622760"/>
            <a:chExt cx="3045600" cy="1169280"/>
          </a:xfrm>
        </p:grpSpPr>
        <p:sp>
          <p:nvSpPr>
            <p:cNvPr id="137" name=""/>
            <p:cNvSpPr/>
            <p:nvPr/>
          </p:nvSpPr>
          <p:spPr>
            <a:xfrm>
              <a:off x="1447560" y="4898880"/>
              <a:ext cx="190476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5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99cc00"/>
                  </a:solidFill>
                  <a:latin typeface="Arial"/>
                </a:rPr>
                <a:t>Comman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5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x1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PzKpfw III H Medium Tan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8" name=""/>
            <p:cNvGrpSpPr/>
            <p:nvPr/>
          </p:nvGrpSpPr>
          <p:grpSpPr>
            <a:xfrm>
              <a:off x="762120" y="4689360"/>
              <a:ext cx="239400" cy="157320"/>
              <a:chOff x="762120" y="4689360"/>
              <a:chExt cx="239400" cy="157320"/>
            </a:xfrm>
          </p:grpSpPr>
          <p:sp>
            <p:nvSpPr>
              <p:cNvPr id="139" name=""/>
              <p:cNvSpPr/>
              <p:nvPr/>
            </p:nvSpPr>
            <p:spPr>
              <a:xfrm>
                <a:off x="762120" y="4689360"/>
                <a:ext cx="239400" cy="157320"/>
              </a:xfrm>
              <a:prstGeom prst="rect">
                <a:avLst/>
              </a:prstGeom>
              <a:solidFill>
                <a:srgbClr val="99cc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806040" y="4728600"/>
                <a:ext cx="151200" cy="74880"/>
              </a:xfrm>
              <a:prstGeom prst="ellipse">
                <a:avLst/>
              </a:prstGeom>
              <a:solidFill>
                <a:srgbClr val="99cc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480" bIns="6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1" name=""/>
            <p:cNvSpPr/>
            <p:nvPr/>
          </p:nvSpPr>
          <p:spPr>
            <a:xfrm>
              <a:off x="838080" y="4856040"/>
              <a:ext cx="0" cy="836640"/>
            </a:xfrm>
            <a:prstGeom prst="line">
              <a:avLst/>
            </a:prstGeom>
            <a:ln w="158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838080" y="5692680"/>
              <a:ext cx="304560" cy="0"/>
            </a:xfrm>
            <a:prstGeom prst="line">
              <a:avLst/>
            </a:prstGeom>
            <a:ln w="158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38080" y="5083200"/>
              <a:ext cx="304560" cy="0"/>
            </a:xfrm>
            <a:prstGeom prst="line">
              <a:avLst/>
            </a:prstGeom>
            <a:ln w="158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066680" y="4626000"/>
              <a:ext cx="1904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Light Panzer Compan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5" name=""/>
            <p:cNvGrpSpPr/>
            <p:nvPr/>
          </p:nvGrpSpPr>
          <p:grpSpPr>
            <a:xfrm>
              <a:off x="1143000" y="5006880"/>
              <a:ext cx="239400" cy="157320"/>
              <a:chOff x="1143000" y="5006880"/>
              <a:chExt cx="239400" cy="157320"/>
            </a:xfrm>
          </p:grpSpPr>
          <p:sp>
            <p:nvSpPr>
              <p:cNvPr id="146" name=""/>
              <p:cNvSpPr/>
              <p:nvPr/>
            </p:nvSpPr>
            <p:spPr>
              <a:xfrm>
                <a:off x="1143000" y="5006880"/>
                <a:ext cx="239400" cy="157320"/>
              </a:xfrm>
              <a:prstGeom prst="rect">
                <a:avLst/>
              </a:prstGeom>
              <a:solidFill>
                <a:srgbClr val="99cc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1186920" y="5046120"/>
                <a:ext cx="151200" cy="74880"/>
              </a:xfrm>
              <a:prstGeom prst="ellipse">
                <a:avLst/>
              </a:prstGeom>
              <a:solidFill>
                <a:srgbClr val="99cc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480" bIns="6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8" name=""/>
            <p:cNvSpPr/>
            <p:nvPr/>
          </p:nvSpPr>
          <p:spPr>
            <a:xfrm>
              <a:off x="1447560" y="5311800"/>
              <a:ext cx="2133360" cy="48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5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x6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PzKpfw III G Medium Tan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5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5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x2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PzKpfw II A-C, F Lt. Tan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82360" y="4622760"/>
              <a:ext cx="0" cy="63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0" name=""/>
            <p:cNvGrpSpPr/>
            <p:nvPr/>
          </p:nvGrpSpPr>
          <p:grpSpPr>
            <a:xfrm>
              <a:off x="1218960" y="4927680"/>
              <a:ext cx="75600" cy="27000"/>
              <a:chOff x="1218960" y="4927680"/>
              <a:chExt cx="75600" cy="27000"/>
            </a:xfrm>
          </p:grpSpPr>
          <p:sp>
            <p:nvSpPr>
              <p:cNvPr id="151" name=""/>
              <p:cNvSpPr/>
              <p:nvPr/>
            </p:nvSpPr>
            <p:spPr>
              <a:xfrm>
                <a:off x="1218960" y="4927680"/>
                <a:ext cx="284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1267920" y="4927680"/>
                <a:ext cx="266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3" name=""/>
            <p:cNvSpPr/>
            <p:nvPr/>
          </p:nvSpPr>
          <p:spPr>
            <a:xfrm>
              <a:off x="1143000" y="5299200"/>
              <a:ext cx="239400" cy="156960"/>
            </a:xfrm>
            <a:prstGeom prst="rect">
              <a:avLst/>
            </a:prstGeom>
            <a:solidFill>
              <a:srgbClr val="99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187280" y="5338800"/>
              <a:ext cx="150480" cy="74520"/>
            </a:xfrm>
            <a:prstGeom prst="ellipse">
              <a:avLst/>
            </a:prstGeom>
            <a:solidFill>
              <a:srgbClr val="99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5" name=""/>
            <p:cNvGrpSpPr/>
            <p:nvPr/>
          </p:nvGrpSpPr>
          <p:grpSpPr>
            <a:xfrm>
              <a:off x="1143000" y="5611680"/>
              <a:ext cx="239400" cy="157320"/>
              <a:chOff x="1143000" y="5611680"/>
              <a:chExt cx="239400" cy="157320"/>
            </a:xfrm>
          </p:grpSpPr>
          <p:sp>
            <p:nvSpPr>
              <p:cNvPr id="156" name=""/>
              <p:cNvSpPr/>
              <p:nvPr/>
            </p:nvSpPr>
            <p:spPr>
              <a:xfrm>
                <a:off x="1143000" y="5611680"/>
                <a:ext cx="239400" cy="157320"/>
              </a:xfrm>
              <a:prstGeom prst="rect">
                <a:avLst/>
              </a:prstGeom>
              <a:solidFill>
                <a:srgbClr val="99cc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1186920" y="5650920"/>
                <a:ext cx="151200" cy="74880"/>
              </a:xfrm>
              <a:prstGeom prst="ellipse">
                <a:avLst/>
              </a:prstGeom>
              <a:solidFill>
                <a:srgbClr val="99cc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480" bIns="6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38080" y="5387760"/>
              <a:ext cx="304560" cy="0"/>
            </a:xfrm>
            <a:prstGeom prst="line">
              <a:avLst/>
            </a:prstGeom>
            <a:ln w="158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70240" y="5003280"/>
              <a:ext cx="5374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AK-0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0" name=""/>
            <p:cNvGrpSpPr/>
            <p:nvPr/>
          </p:nvGrpSpPr>
          <p:grpSpPr>
            <a:xfrm>
              <a:off x="1218960" y="5232240"/>
              <a:ext cx="75600" cy="27000"/>
              <a:chOff x="1218960" y="5232240"/>
              <a:chExt cx="75600" cy="27000"/>
            </a:xfrm>
          </p:grpSpPr>
          <p:sp>
            <p:nvSpPr>
              <p:cNvPr id="161" name=""/>
              <p:cNvSpPr/>
              <p:nvPr/>
            </p:nvSpPr>
            <p:spPr>
              <a:xfrm>
                <a:off x="1218960" y="5232240"/>
                <a:ext cx="284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1267920" y="5232240"/>
                <a:ext cx="266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1218960" y="5537160"/>
              <a:ext cx="75600" cy="27000"/>
              <a:chOff x="1218960" y="5537160"/>
              <a:chExt cx="75600" cy="27000"/>
            </a:xfrm>
          </p:grpSpPr>
          <p:sp>
            <p:nvSpPr>
              <p:cNvPr id="164" name=""/>
              <p:cNvSpPr/>
              <p:nvPr/>
            </p:nvSpPr>
            <p:spPr>
              <a:xfrm>
                <a:off x="1218960" y="5537160"/>
                <a:ext cx="284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1267920" y="5537160"/>
                <a:ext cx="266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3270240" y="5276160"/>
              <a:ext cx="5374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AK-03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270240" y="5576400"/>
              <a:ext cx="5374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AK-0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735120" y="6019920"/>
            <a:ext cx="3072960" cy="1467360"/>
            <a:chOff x="735120" y="6019920"/>
            <a:chExt cx="3072960" cy="1467360"/>
          </a:xfrm>
        </p:grpSpPr>
        <p:grpSp>
          <p:nvGrpSpPr>
            <p:cNvPr id="169" name=""/>
            <p:cNvGrpSpPr/>
            <p:nvPr/>
          </p:nvGrpSpPr>
          <p:grpSpPr>
            <a:xfrm>
              <a:off x="1127160" y="6992640"/>
              <a:ext cx="239760" cy="156960"/>
              <a:chOff x="1127160" y="6992640"/>
              <a:chExt cx="239760" cy="156960"/>
            </a:xfrm>
          </p:grpSpPr>
          <p:sp>
            <p:nvSpPr>
              <p:cNvPr id="170" name=""/>
              <p:cNvSpPr/>
              <p:nvPr/>
            </p:nvSpPr>
            <p:spPr>
              <a:xfrm>
                <a:off x="1127160" y="6992640"/>
                <a:ext cx="239760" cy="156960"/>
              </a:xfrm>
              <a:prstGeom prst="rect">
                <a:avLst/>
              </a:prstGeom>
              <a:solidFill>
                <a:srgbClr val="99cc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1171080" y="7031880"/>
                <a:ext cx="151560" cy="74880"/>
              </a:xfrm>
              <a:prstGeom prst="ellipse">
                <a:avLst/>
              </a:prstGeom>
              <a:solidFill>
                <a:srgbClr val="99cc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480" bIns="6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2" name=""/>
            <p:cNvSpPr/>
            <p:nvPr/>
          </p:nvSpPr>
          <p:spPr>
            <a:xfrm>
              <a:off x="1432080" y="6692760"/>
              <a:ext cx="2065320" cy="48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5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x3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PzKpfw IV E Medium Tan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5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5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x1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PzKpfw II A-C, F Light Tan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3" name=""/>
            <p:cNvGrpSpPr/>
            <p:nvPr/>
          </p:nvGrpSpPr>
          <p:grpSpPr>
            <a:xfrm>
              <a:off x="1214280" y="6314760"/>
              <a:ext cx="74520" cy="28080"/>
              <a:chOff x="1214280" y="6314760"/>
              <a:chExt cx="74520" cy="28080"/>
            </a:xfrm>
          </p:grpSpPr>
          <p:sp>
            <p:nvSpPr>
              <p:cNvPr id="174" name=""/>
              <p:cNvSpPr/>
              <p:nvPr/>
            </p:nvSpPr>
            <p:spPr>
              <a:xfrm>
                <a:off x="1214280" y="6314760"/>
                <a:ext cx="28440" cy="26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1261800" y="6316200"/>
                <a:ext cx="27000" cy="26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6" name=""/>
            <p:cNvGrpSpPr/>
            <p:nvPr/>
          </p:nvGrpSpPr>
          <p:grpSpPr>
            <a:xfrm>
              <a:off x="1127160" y="6383160"/>
              <a:ext cx="239760" cy="156600"/>
              <a:chOff x="1127160" y="6383160"/>
              <a:chExt cx="239760" cy="156600"/>
            </a:xfrm>
          </p:grpSpPr>
          <p:sp>
            <p:nvSpPr>
              <p:cNvPr id="177" name=""/>
              <p:cNvSpPr/>
              <p:nvPr/>
            </p:nvSpPr>
            <p:spPr>
              <a:xfrm>
                <a:off x="1127160" y="6383160"/>
                <a:ext cx="239760" cy="156600"/>
              </a:xfrm>
              <a:prstGeom prst="rect">
                <a:avLst/>
              </a:prstGeom>
              <a:solidFill>
                <a:srgbClr val="99cc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1171080" y="6422400"/>
                <a:ext cx="151560" cy="74520"/>
              </a:xfrm>
              <a:prstGeom prst="ellipse">
                <a:avLst/>
              </a:prstGeom>
              <a:solidFill>
                <a:srgbClr val="99cc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9" name=""/>
            <p:cNvGrpSpPr/>
            <p:nvPr/>
          </p:nvGrpSpPr>
          <p:grpSpPr>
            <a:xfrm>
              <a:off x="1214280" y="6619680"/>
              <a:ext cx="74520" cy="27720"/>
              <a:chOff x="1214280" y="6619680"/>
              <a:chExt cx="74520" cy="27720"/>
            </a:xfrm>
          </p:grpSpPr>
          <p:sp>
            <p:nvSpPr>
              <p:cNvPr id="180" name=""/>
              <p:cNvSpPr/>
              <p:nvPr/>
            </p:nvSpPr>
            <p:spPr>
              <a:xfrm>
                <a:off x="1214280" y="6619680"/>
                <a:ext cx="28440" cy="26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1261800" y="6621120"/>
                <a:ext cx="27000" cy="26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1127160" y="6688080"/>
              <a:ext cx="239760" cy="156600"/>
              <a:chOff x="1127160" y="6688080"/>
              <a:chExt cx="239760" cy="156600"/>
            </a:xfrm>
          </p:grpSpPr>
          <p:sp>
            <p:nvSpPr>
              <p:cNvPr id="183" name=""/>
              <p:cNvSpPr/>
              <p:nvPr/>
            </p:nvSpPr>
            <p:spPr>
              <a:xfrm>
                <a:off x="1127160" y="6688080"/>
                <a:ext cx="239760" cy="156600"/>
              </a:xfrm>
              <a:prstGeom prst="rect">
                <a:avLst/>
              </a:prstGeom>
              <a:solidFill>
                <a:srgbClr val="99cc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1171080" y="6727320"/>
                <a:ext cx="151560" cy="74520"/>
              </a:xfrm>
              <a:prstGeom prst="ellipse">
                <a:avLst/>
              </a:prstGeom>
              <a:solidFill>
                <a:srgbClr val="99cc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5" name=""/>
            <p:cNvGrpSpPr/>
            <p:nvPr/>
          </p:nvGrpSpPr>
          <p:grpSpPr>
            <a:xfrm>
              <a:off x="1214280" y="7229160"/>
              <a:ext cx="74520" cy="28080"/>
              <a:chOff x="1214280" y="7229160"/>
              <a:chExt cx="74520" cy="28080"/>
            </a:xfrm>
          </p:grpSpPr>
          <p:sp>
            <p:nvSpPr>
              <p:cNvPr id="186" name=""/>
              <p:cNvSpPr/>
              <p:nvPr/>
            </p:nvSpPr>
            <p:spPr>
              <a:xfrm>
                <a:off x="1214280" y="7229160"/>
                <a:ext cx="28440" cy="26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1261800" y="7230600"/>
                <a:ext cx="27000" cy="26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8" name=""/>
            <p:cNvSpPr/>
            <p:nvPr/>
          </p:nvSpPr>
          <p:spPr>
            <a:xfrm>
              <a:off x="1127160" y="7297560"/>
              <a:ext cx="239760" cy="156600"/>
            </a:xfrm>
            <a:prstGeom prst="rect">
              <a:avLst/>
            </a:prstGeom>
            <a:solidFill>
              <a:srgbClr val="99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22240" y="7073640"/>
              <a:ext cx="304920" cy="0"/>
            </a:xfrm>
            <a:prstGeom prst="line">
              <a:avLst/>
            </a:prstGeom>
            <a:ln w="158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822240" y="7378560"/>
              <a:ext cx="304920" cy="0"/>
            </a:xfrm>
            <a:prstGeom prst="line">
              <a:avLst/>
            </a:prstGeom>
            <a:ln w="158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22240" y="6768720"/>
              <a:ext cx="304920" cy="0"/>
            </a:xfrm>
            <a:prstGeom prst="line">
              <a:avLst/>
            </a:prstGeom>
            <a:ln w="158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22240" y="6464160"/>
              <a:ext cx="304920" cy="0"/>
            </a:xfrm>
            <a:prstGeom prst="line">
              <a:avLst/>
            </a:prstGeom>
            <a:ln w="158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432080" y="7302240"/>
              <a:ext cx="1836720" cy="18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x1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PzKpfw I A,B Light Tan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432080" y="6271920"/>
              <a:ext cx="213336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5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99cc00"/>
                  </a:solidFill>
                  <a:latin typeface="Arial"/>
                </a:rPr>
                <a:t>Comman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5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x1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PzKpfw IV E Medium Tan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050840" y="6038640"/>
              <a:ext cx="1905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Medium Panzer Compan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22240" y="6244920"/>
              <a:ext cx="0" cy="1141200"/>
            </a:xfrm>
            <a:prstGeom prst="line">
              <a:avLst/>
            </a:prstGeom>
            <a:ln w="158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7" name=""/>
            <p:cNvGrpSpPr/>
            <p:nvPr/>
          </p:nvGrpSpPr>
          <p:grpSpPr>
            <a:xfrm>
              <a:off x="735120" y="6019920"/>
              <a:ext cx="239760" cy="223200"/>
              <a:chOff x="735120" y="6019920"/>
              <a:chExt cx="239760" cy="22320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735120" y="6086520"/>
                <a:ext cx="239760" cy="156600"/>
                <a:chOff x="735120" y="6086520"/>
                <a:chExt cx="239760" cy="156600"/>
              </a:xfrm>
            </p:grpSpPr>
            <p:sp>
              <p:nvSpPr>
                <p:cNvPr id="199" name=""/>
                <p:cNvSpPr/>
                <p:nvPr/>
              </p:nvSpPr>
              <p:spPr>
                <a:xfrm>
                  <a:off x="735120" y="6086520"/>
                  <a:ext cx="239760" cy="156600"/>
                </a:xfrm>
                <a:prstGeom prst="rect">
                  <a:avLst/>
                </a:prstGeom>
                <a:solidFill>
                  <a:srgbClr val="99cc00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779040" y="6125760"/>
                  <a:ext cx="151560" cy="74520"/>
                </a:xfrm>
                <a:prstGeom prst="ellipse">
                  <a:avLst/>
                </a:prstGeom>
                <a:solidFill>
                  <a:srgbClr val="99cc00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120" bIns="6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1" name=""/>
              <p:cNvSpPr/>
              <p:nvPr/>
            </p:nvSpPr>
            <p:spPr>
              <a:xfrm>
                <a:off x="855720" y="6019920"/>
                <a:ext cx="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2" name=""/>
            <p:cNvSpPr/>
            <p:nvPr/>
          </p:nvSpPr>
          <p:spPr>
            <a:xfrm>
              <a:off x="1171440" y="7337160"/>
              <a:ext cx="150840" cy="74160"/>
            </a:xfrm>
            <a:prstGeom prst="ellipse">
              <a:avLst/>
            </a:prstGeom>
            <a:solidFill>
              <a:srgbClr val="99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3" name=""/>
            <p:cNvGrpSpPr/>
            <p:nvPr/>
          </p:nvGrpSpPr>
          <p:grpSpPr>
            <a:xfrm>
              <a:off x="1214280" y="6924600"/>
              <a:ext cx="74520" cy="27720"/>
              <a:chOff x="1214280" y="6924600"/>
              <a:chExt cx="74520" cy="27720"/>
            </a:xfrm>
          </p:grpSpPr>
          <p:sp>
            <p:nvSpPr>
              <p:cNvPr id="204" name=""/>
              <p:cNvSpPr/>
              <p:nvPr/>
            </p:nvSpPr>
            <p:spPr>
              <a:xfrm>
                <a:off x="1214280" y="6924600"/>
                <a:ext cx="28440" cy="26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261800" y="6926040"/>
                <a:ext cx="27000" cy="26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270600" y="6966720"/>
              <a:ext cx="5374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AK-0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270600" y="7271280"/>
              <a:ext cx="5374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AK-0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270600" y="6647400"/>
              <a:ext cx="5374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AK-08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270600" y="6381000"/>
              <a:ext cx="5374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AK-08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746280" y="7648560"/>
            <a:ext cx="3061800" cy="1116000"/>
            <a:chOff x="746280" y="7648560"/>
            <a:chExt cx="3061800" cy="1116000"/>
          </a:xfrm>
        </p:grpSpPr>
        <p:grpSp>
          <p:nvGrpSpPr>
            <p:cNvPr id="211" name=""/>
            <p:cNvGrpSpPr/>
            <p:nvPr/>
          </p:nvGrpSpPr>
          <p:grpSpPr>
            <a:xfrm>
              <a:off x="746280" y="7648560"/>
              <a:ext cx="2895480" cy="1116000"/>
              <a:chOff x="746280" y="7648560"/>
              <a:chExt cx="2895480" cy="1116000"/>
            </a:xfrm>
          </p:grpSpPr>
          <p:sp>
            <p:nvSpPr>
              <p:cNvPr id="212" name=""/>
              <p:cNvSpPr/>
              <p:nvPr/>
            </p:nvSpPr>
            <p:spPr>
              <a:xfrm>
                <a:off x="746280" y="7708680"/>
                <a:ext cx="231480" cy="157320"/>
              </a:xfrm>
              <a:prstGeom prst="rect">
                <a:avLst/>
              </a:prstGeom>
              <a:solidFill>
                <a:srgbClr val="99cc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773280" y="7753320"/>
                <a:ext cx="169560" cy="74520"/>
              </a:xfrm>
              <a:prstGeom prst="ellipse">
                <a:avLst/>
              </a:prstGeom>
              <a:solidFill>
                <a:srgbClr val="99cc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1050840" y="7648560"/>
                <a:ext cx="2590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Armored Reconnaissance Platoo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822240" y="7877160"/>
                <a:ext cx="0" cy="761760"/>
              </a:xfrm>
              <a:prstGeom prst="line">
                <a:avLst/>
              </a:prstGeom>
              <a:ln w="158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822240" y="8057880"/>
                <a:ext cx="300240" cy="1800"/>
              </a:xfrm>
              <a:prstGeom prst="line">
                <a:avLst/>
              </a:prstGeom>
              <a:ln w="158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822240" y="8366040"/>
                <a:ext cx="300240" cy="1440"/>
              </a:xfrm>
              <a:prstGeom prst="line">
                <a:avLst/>
              </a:prstGeom>
              <a:ln w="158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1355760" y="7821360"/>
                <a:ext cx="99072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99cc00"/>
                    </a:solidFill>
                    <a:latin typeface="Arial"/>
                  </a:rPr>
                  <a:t>Command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1128600" y="8286480"/>
                <a:ext cx="239760" cy="157320"/>
              </a:xfrm>
              <a:prstGeom prst="rect">
                <a:avLst/>
              </a:prstGeom>
              <a:solidFill>
                <a:srgbClr val="99cc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1163520" y="8326440"/>
                <a:ext cx="169920" cy="74520"/>
              </a:xfrm>
              <a:prstGeom prst="ellipse">
                <a:avLst/>
              </a:prstGeom>
              <a:solidFill>
                <a:srgbClr val="99cc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flipV="1">
                <a:off x="1128600" y="8286120"/>
                <a:ext cx="236520" cy="157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22" name=""/>
              <p:cNvGrpSpPr/>
              <p:nvPr/>
            </p:nvGrpSpPr>
            <p:grpSpPr>
              <a:xfrm>
                <a:off x="1209600" y="8229600"/>
                <a:ext cx="74520" cy="28080"/>
                <a:chOff x="1209600" y="8229600"/>
                <a:chExt cx="74520" cy="28080"/>
              </a:xfrm>
            </p:grpSpPr>
            <p:sp>
              <p:nvSpPr>
                <p:cNvPr id="223" name=""/>
                <p:cNvSpPr/>
                <p:nvPr/>
              </p:nvSpPr>
              <p:spPr>
                <a:xfrm>
                  <a:off x="1209600" y="8229600"/>
                  <a:ext cx="2844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1257120" y="8231040"/>
                  <a:ext cx="2700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5" name=""/>
              <p:cNvSpPr/>
              <p:nvPr/>
            </p:nvSpPr>
            <p:spPr>
              <a:xfrm flipV="1">
                <a:off x="746280" y="7708320"/>
                <a:ext cx="236520" cy="157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1227240" y="7929360"/>
                <a:ext cx="284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1127160" y="7985160"/>
                <a:ext cx="239760" cy="156960"/>
              </a:xfrm>
              <a:prstGeom prst="rect">
                <a:avLst/>
              </a:prstGeom>
              <a:solidFill>
                <a:srgbClr val="99cc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1162080" y="8029440"/>
                <a:ext cx="169920" cy="74520"/>
              </a:xfrm>
              <a:prstGeom prst="ellipse">
                <a:avLst/>
              </a:prstGeom>
              <a:solidFill>
                <a:srgbClr val="99cc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flipV="1">
                <a:off x="1127160" y="7985160"/>
                <a:ext cx="236520" cy="156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1355760" y="7945200"/>
                <a:ext cx="1752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x1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SdKfz 221 Armored Ca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1355760" y="8242200"/>
                <a:ext cx="1752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x2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SdKfz 222 Armored Ca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1355760" y="8113680"/>
                <a:ext cx="99072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99cc00"/>
                    </a:solidFill>
                    <a:latin typeface="Arial"/>
                  </a:rPr>
                  <a:t>Rec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866880" y="7648560"/>
                <a:ext cx="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1127160" y="8551800"/>
                <a:ext cx="239760" cy="156960"/>
              </a:xfrm>
              <a:prstGeom prst="rect">
                <a:avLst/>
              </a:prstGeom>
              <a:solidFill>
                <a:srgbClr val="99cc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1162080" y="8591400"/>
                <a:ext cx="169920" cy="74520"/>
              </a:xfrm>
              <a:prstGeom prst="ellipse">
                <a:avLst/>
              </a:prstGeom>
              <a:solidFill>
                <a:srgbClr val="99cc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flipV="1">
                <a:off x="1127160" y="8551800"/>
                <a:ext cx="236520" cy="156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827280" y="8626320"/>
                <a:ext cx="299880" cy="1440"/>
              </a:xfrm>
              <a:prstGeom prst="line">
                <a:avLst/>
              </a:prstGeom>
              <a:ln w="158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8" name=""/>
              <p:cNvGrpSpPr/>
              <p:nvPr/>
            </p:nvGrpSpPr>
            <p:grpSpPr>
              <a:xfrm>
                <a:off x="1211400" y="8502480"/>
                <a:ext cx="74520" cy="28080"/>
                <a:chOff x="1211400" y="8502480"/>
                <a:chExt cx="74520" cy="28080"/>
              </a:xfrm>
            </p:grpSpPr>
            <p:sp>
              <p:nvSpPr>
                <p:cNvPr id="239" name=""/>
                <p:cNvSpPr/>
                <p:nvPr/>
              </p:nvSpPr>
              <p:spPr>
                <a:xfrm>
                  <a:off x="1211400" y="8502480"/>
                  <a:ext cx="2844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1258920" y="8503920"/>
                  <a:ext cx="2700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1" name=""/>
              <p:cNvSpPr/>
              <p:nvPr/>
            </p:nvSpPr>
            <p:spPr>
              <a:xfrm>
                <a:off x="1355760" y="8518320"/>
                <a:ext cx="1752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x1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SdKfz 231 Armored Ca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2" name=""/>
            <p:cNvSpPr/>
            <p:nvPr/>
          </p:nvSpPr>
          <p:spPr>
            <a:xfrm>
              <a:off x="3270600" y="7959240"/>
              <a:ext cx="5374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AK-2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270600" y="8271720"/>
              <a:ext cx="5374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AK-2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270600" y="8532360"/>
              <a:ext cx="5374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AK-23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038480" y="7086600"/>
            <a:ext cx="3053880" cy="978840"/>
            <a:chOff x="4038480" y="7086600"/>
            <a:chExt cx="3053880" cy="978840"/>
          </a:xfrm>
        </p:grpSpPr>
        <p:sp>
          <p:nvSpPr>
            <p:cNvPr id="246" name=""/>
            <p:cNvSpPr/>
            <p:nvPr/>
          </p:nvSpPr>
          <p:spPr>
            <a:xfrm>
              <a:off x="4038480" y="7146720"/>
              <a:ext cx="231840" cy="157320"/>
            </a:xfrm>
            <a:prstGeom prst="rect">
              <a:avLst/>
            </a:prstGeom>
            <a:solidFill>
              <a:srgbClr val="99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065480" y="7191360"/>
              <a:ext cx="169920" cy="74520"/>
            </a:xfrm>
            <a:prstGeom prst="ellipse">
              <a:avLst/>
            </a:prstGeom>
            <a:solidFill>
              <a:srgbClr val="99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343400" y="7086600"/>
              <a:ext cx="1676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Panzerjäger Compan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114800" y="7315200"/>
              <a:ext cx="0" cy="457200"/>
            </a:xfrm>
            <a:prstGeom prst="line">
              <a:avLst/>
            </a:prstGeom>
            <a:ln w="158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114800" y="7495920"/>
              <a:ext cx="299880" cy="1800"/>
            </a:xfrm>
            <a:prstGeom prst="line">
              <a:avLst/>
            </a:prstGeom>
            <a:ln w="158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114800" y="7772400"/>
              <a:ext cx="299880" cy="1440"/>
            </a:xfrm>
            <a:prstGeom prst="line">
              <a:avLst/>
            </a:prstGeom>
            <a:ln w="158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648320" y="7259400"/>
              <a:ext cx="9903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99cc00"/>
                  </a:solidFill>
                  <a:latin typeface="Arial"/>
                </a:rPr>
                <a:t>Comman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421160" y="7708680"/>
              <a:ext cx="239760" cy="157320"/>
            </a:xfrm>
            <a:prstGeom prst="rect">
              <a:avLst/>
            </a:prstGeom>
            <a:solidFill>
              <a:srgbClr val="99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456080" y="7748640"/>
              <a:ext cx="169920" cy="74520"/>
            </a:xfrm>
            <a:prstGeom prst="ellipse">
              <a:avLst/>
            </a:prstGeom>
            <a:solidFill>
              <a:srgbClr val="99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 flipV="1">
              <a:off x="4421160" y="7708320"/>
              <a:ext cx="236520" cy="157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6" name=""/>
            <p:cNvGrpSpPr/>
            <p:nvPr/>
          </p:nvGrpSpPr>
          <p:grpSpPr>
            <a:xfrm>
              <a:off x="4502160" y="7659720"/>
              <a:ext cx="74520" cy="28080"/>
              <a:chOff x="4502160" y="7659720"/>
              <a:chExt cx="74520" cy="28080"/>
            </a:xfrm>
          </p:grpSpPr>
          <p:sp>
            <p:nvSpPr>
              <p:cNvPr id="257" name=""/>
              <p:cNvSpPr/>
              <p:nvPr/>
            </p:nvSpPr>
            <p:spPr>
              <a:xfrm>
                <a:off x="4502160" y="7659720"/>
                <a:ext cx="28440" cy="26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4549680" y="7661160"/>
                <a:ext cx="27000" cy="26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9" name=""/>
            <p:cNvSpPr/>
            <p:nvPr/>
          </p:nvSpPr>
          <p:spPr>
            <a:xfrm flipV="1">
              <a:off x="4038480" y="7146360"/>
              <a:ext cx="236520" cy="157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519440" y="7367400"/>
              <a:ext cx="2880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419720" y="7423200"/>
              <a:ext cx="239760" cy="156960"/>
            </a:xfrm>
            <a:prstGeom prst="rect">
              <a:avLst/>
            </a:prstGeom>
            <a:solidFill>
              <a:srgbClr val="99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454640" y="7467480"/>
              <a:ext cx="169920" cy="74520"/>
            </a:xfrm>
            <a:prstGeom prst="ellipse">
              <a:avLst/>
            </a:prstGeom>
            <a:solidFill>
              <a:srgbClr val="99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>
              <a:off x="4419720" y="7423200"/>
              <a:ext cx="236520" cy="156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648320" y="7383240"/>
              <a:ext cx="1981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x1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zKpfw I A-B Light Tan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648320" y="7740360"/>
              <a:ext cx="1981080" cy="32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5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x4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zJäg I B 4.7cm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5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P Antitank Gu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648320" y="7543800"/>
              <a:ext cx="9903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99cc00"/>
                  </a:solidFill>
                  <a:latin typeface="Arial"/>
                </a:rPr>
                <a:t>Reco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159080" y="7086600"/>
              <a:ext cx="0" cy="63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554880" y="7390800"/>
              <a:ext cx="5374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AK-0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6554880" y="7786080"/>
              <a:ext cx="5374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AK-1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3809520" y="990720"/>
            <a:ext cx="3282840" cy="2219400"/>
            <a:chOff x="3809520" y="990720"/>
            <a:chExt cx="3282840" cy="2219400"/>
          </a:xfrm>
        </p:grpSpPr>
        <p:grpSp>
          <p:nvGrpSpPr>
            <p:cNvPr id="271" name=""/>
            <p:cNvGrpSpPr/>
            <p:nvPr/>
          </p:nvGrpSpPr>
          <p:grpSpPr>
            <a:xfrm>
              <a:off x="4267080" y="2101680"/>
              <a:ext cx="236520" cy="219960"/>
              <a:chOff x="4267080" y="2101680"/>
              <a:chExt cx="236520" cy="219960"/>
            </a:xfrm>
          </p:grpSpPr>
          <p:sp>
            <p:nvSpPr>
              <p:cNvPr id="272" name=""/>
              <p:cNvSpPr/>
              <p:nvPr/>
            </p:nvSpPr>
            <p:spPr>
              <a:xfrm>
                <a:off x="4267080" y="2165040"/>
                <a:ext cx="231840" cy="156600"/>
              </a:xfrm>
              <a:prstGeom prst="rect">
                <a:avLst/>
              </a:prstGeom>
              <a:solidFill>
                <a:srgbClr val="99cc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4387680" y="2269800"/>
                <a:ext cx="27000" cy="26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4440240" y="2269800"/>
                <a:ext cx="28440" cy="26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flipV="1">
                <a:off x="4267080" y="2153520"/>
                <a:ext cx="236520" cy="156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4387680" y="2101680"/>
                <a:ext cx="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7" name=""/>
            <p:cNvSpPr/>
            <p:nvPr/>
          </p:nvSpPr>
          <p:spPr>
            <a:xfrm>
              <a:off x="4571640" y="2361960"/>
              <a:ext cx="9907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99cc00"/>
                  </a:solidFill>
                  <a:latin typeface="Arial"/>
                </a:rPr>
                <a:t>ATTACHMENTS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8" name=""/>
            <p:cNvGrpSpPr/>
            <p:nvPr/>
          </p:nvGrpSpPr>
          <p:grpSpPr>
            <a:xfrm>
              <a:off x="3809880" y="1062000"/>
              <a:ext cx="532800" cy="361080"/>
              <a:chOff x="3809880" y="1062000"/>
              <a:chExt cx="532800" cy="361080"/>
            </a:xfrm>
          </p:grpSpPr>
          <p:sp>
            <p:nvSpPr>
              <p:cNvPr id="279" name=""/>
              <p:cNvSpPr/>
              <p:nvPr/>
            </p:nvSpPr>
            <p:spPr>
              <a:xfrm>
                <a:off x="3809880" y="1062000"/>
                <a:ext cx="532800" cy="361080"/>
              </a:xfrm>
              <a:prstGeom prst="rect">
                <a:avLst/>
              </a:prstGeom>
              <a:solidFill>
                <a:srgbClr val="99cc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3907440" y="1152360"/>
                <a:ext cx="342000" cy="172440"/>
              </a:xfrm>
              <a:prstGeom prst="ellipse">
                <a:avLst/>
              </a:prstGeom>
              <a:solidFill>
                <a:srgbClr val="99cc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1" name=""/>
            <p:cNvSpPr/>
            <p:nvPr/>
          </p:nvSpPr>
          <p:spPr>
            <a:xfrm>
              <a:off x="4419360" y="1062000"/>
              <a:ext cx="2514600" cy="307080"/>
            </a:xfrm>
            <a:prstGeom prst="rect">
              <a:avLst/>
            </a:prstGeom>
            <a:solidFill>
              <a:srgbClr val="99cc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rmored Recon Battal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571640" y="1487520"/>
              <a:ext cx="2438640" cy="24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99cc00"/>
                  </a:solidFill>
                  <a:latin typeface="Arial"/>
                </a:rPr>
                <a:t>Headquarters Element [Veteran]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571640" y="1888920"/>
              <a:ext cx="2210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x1</a:t>
              </a:r>
              <a:r>
                <a:rPr b="1" lang="en-US" sz="1000" spc="-1" strike="noStrike">
                  <a:solidFill>
                    <a:srgbClr val="99cc00"/>
                  </a:solidFill>
                  <a:latin typeface="Arial"/>
                </a:rPr>
                <a:t> Armored Car Squadron [VET]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571640" y="2706480"/>
              <a:ext cx="1447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x1</a:t>
              </a:r>
              <a:r>
                <a:rPr b="1" lang="en-US" sz="1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7.5cm Infantry Gu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038480" y="1434960"/>
              <a:ext cx="0" cy="1383840"/>
            </a:xfrm>
            <a:prstGeom prst="line">
              <a:avLst/>
            </a:prstGeom>
            <a:ln w="158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038480" y="1671480"/>
              <a:ext cx="223560" cy="0"/>
            </a:xfrm>
            <a:prstGeom prst="line">
              <a:avLst/>
            </a:prstGeom>
            <a:ln w="158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7" name=""/>
            <p:cNvGrpSpPr/>
            <p:nvPr/>
          </p:nvGrpSpPr>
          <p:grpSpPr>
            <a:xfrm>
              <a:off x="4041360" y="990720"/>
              <a:ext cx="76320" cy="63360"/>
              <a:chOff x="4041360" y="990720"/>
              <a:chExt cx="76320" cy="63360"/>
            </a:xfrm>
          </p:grpSpPr>
          <p:sp>
            <p:nvSpPr>
              <p:cNvPr id="288" name=""/>
              <p:cNvSpPr/>
              <p:nvPr/>
            </p:nvSpPr>
            <p:spPr>
              <a:xfrm>
                <a:off x="4041360" y="990720"/>
                <a:ext cx="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4117680" y="990720"/>
                <a:ext cx="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0" name=""/>
            <p:cNvSpPr/>
            <p:nvPr/>
          </p:nvSpPr>
          <p:spPr>
            <a:xfrm>
              <a:off x="4571640" y="1766880"/>
              <a:ext cx="15955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99cc00"/>
                  </a:solidFill>
                  <a:latin typeface="Arial"/>
                </a:rPr>
                <a:t>MANEUVER ELEMENT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571640" y="2133360"/>
              <a:ext cx="2057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x1</a:t>
              </a:r>
              <a:r>
                <a:rPr b="1" lang="en-US" sz="1000" spc="-1" strike="noStrike">
                  <a:solidFill>
                    <a:srgbClr val="99cc00"/>
                  </a:solidFill>
                  <a:latin typeface="Arial"/>
                </a:rPr>
                <a:t> Motorcycle Squadron [VET]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554880" y="1594440"/>
              <a:ext cx="5374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AK-2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571640" y="1616040"/>
              <a:ext cx="2057400" cy="18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x1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dKfz 221 Armored Ca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4" name=""/>
            <p:cNvGrpSpPr/>
            <p:nvPr/>
          </p:nvGrpSpPr>
          <p:grpSpPr>
            <a:xfrm>
              <a:off x="4259160" y="1523880"/>
              <a:ext cx="236520" cy="212040"/>
              <a:chOff x="4259160" y="1523880"/>
              <a:chExt cx="236520" cy="212040"/>
            </a:xfrm>
          </p:grpSpPr>
          <p:sp>
            <p:nvSpPr>
              <p:cNvPr id="295" name=""/>
              <p:cNvSpPr/>
              <p:nvPr/>
            </p:nvSpPr>
            <p:spPr>
              <a:xfrm>
                <a:off x="4259160" y="1579320"/>
                <a:ext cx="231840" cy="156600"/>
              </a:xfrm>
              <a:prstGeom prst="rect">
                <a:avLst/>
              </a:prstGeom>
              <a:solidFill>
                <a:srgbClr val="99cc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4286160" y="1612440"/>
                <a:ext cx="169920" cy="74520"/>
              </a:xfrm>
              <a:prstGeom prst="ellipse">
                <a:avLst/>
              </a:prstGeom>
              <a:solidFill>
                <a:srgbClr val="99cc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V="1">
                <a:off x="4259160" y="1567800"/>
                <a:ext cx="236520" cy="156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363920" y="1523880"/>
                <a:ext cx="28800" cy="26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9" name=""/>
            <p:cNvSpPr/>
            <p:nvPr/>
          </p:nvSpPr>
          <p:spPr>
            <a:xfrm>
              <a:off x="4038480" y="2004840"/>
              <a:ext cx="223560" cy="0"/>
            </a:xfrm>
            <a:prstGeom prst="line">
              <a:avLst/>
            </a:prstGeom>
            <a:ln w="158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038480" y="2253960"/>
              <a:ext cx="223560" cy="0"/>
            </a:xfrm>
            <a:prstGeom prst="line">
              <a:avLst/>
            </a:prstGeom>
            <a:ln w="158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1" name=""/>
            <p:cNvGrpSpPr/>
            <p:nvPr/>
          </p:nvGrpSpPr>
          <p:grpSpPr>
            <a:xfrm>
              <a:off x="4267080" y="2514600"/>
              <a:ext cx="231480" cy="158040"/>
              <a:chOff x="4267080" y="2514600"/>
              <a:chExt cx="231480" cy="158040"/>
            </a:xfrm>
          </p:grpSpPr>
          <p:sp>
            <p:nvSpPr>
              <p:cNvPr id="302" name=""/>
              <p:cNvSpPr/>
              <p:nvPr/>
            </p:nvSpPr>
            <p:spPr>
              <a:xfrm>
                <a:off x="4267080" y="2514600"/>
                <a:ext cx="231480" cy="156600"/>
              </a:xfrm>
              <a:prstGeom prst="rect">
                <a:avLst/>
              </a:prstGeom>
              <a:solidFill>
                <a:srgbClr val="99cc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V="1">
                <a:off x="4268520" y="2518920"/>
                <a:ext cx="114480" cy="151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4383000" y="2518920"/>
                <a:ext cx="114120" cy="153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5" name=""/>
            <p:cNvSpPr/>
            <p:nvPr/>
          </p:nvSpPr>
          <p:spPr>
            <a:xfrm flipH="1">
              <a:off x="3809520" y="1058760"/>
              <a:ext cx="533160" cy="38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379760" y="1849320"/>
              <a:ext cx="0" cy="630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267080" y="1915920"/>
              <a:ext cx="231480" cy="156960"/>
            </a:xfrm>
            <a:prstGeom prst="rect">
              <a:avLst/>
            </a:prstGeom>
            <a:solidFill>
              <a:srgbClr val="99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571640" y="2482560"/>
              <a:ext cx="2133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x1</a:t>
              </a:r>
              <a:r>
                <a:rPr b="1" lang="en-US" sz="1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.7cm Pak 35/36 Antitank Gu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571640" y="2963880"/>
              <a:ext cx="990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x2</a:t>
              </a:r>
              <a:r>
                <a:rPr b="1" lang="en-US" sz="1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ight Truc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0" name=""/>
            <p:cNvGrpSpPr/>
            <p:nvPr/>
          </p:nvGrpSpPr>
          <p:grpSpPr>
            <a:xfrm>
              <a:off x="4267080" y="2992320"/>
              <a:ext cx="231480" cy="191520"/>
              <a:chOff x="4267080" y="2992320"/>
              <a:chExt cx="231480" cy="191520"/>
            </a:xfrm>
          </p:grpSpPr>
          <p:sp>
            <p:nvSpPr>
              <p:cNvPr id="311" name=""/>
              <p:cNvSpPr/>
              <p:nvPr/>
            </p:nvSpPr>
            <p:spPr>
              <a:xfrm>
                <a:off x="4267080" y="2992320"/>
                <a:ext cx="231480" cy="156960"/>
              </a:xfrm>
              <a:prstGeom prst="rect">
                <a:avLst/>
              </a:prstGeom>
              <a:solidFill>
                <a:srgbClr val="99cc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4267080" y="3157200"/>
                <a:ext cx="27000" cy="26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68680" y="3153960"/>
                <a:ext cx="27000" cy="26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4" name=""/>
            <p:cNvGrpSpPr/>
            <p:nvPr/>
          </p:nvGrpSpPr>
          <p:grpSpPr>
            <a:xfrm>
              <a:off x="4266720" y="2743200"/>
              <a:ext cx="231840" cy="156600"/>
              <a:chOff x="4266720" y="2743200"/>
              <a:chExt cx="231840" cy="156600"/>
            </a:xfrm>
          </p:grpSpPr>
          <p:sp>
            <p:nvSpPr>
              <p:cNvPr id="315" name=""/>
              <p:cNvSpPr/>
              <p:nvPr/>
            </p:nvSpPr>
            <p:spPr>
              <a:xfrm>
                <a:off x="4267080" y="2743200"/>
                <a:ext cx="231480" cy="156600"/>
              </a:xfrm>
              <a:prstGeom prst="rect">
                <a:avLst/>
              </a:prstGeom>
              <a:solidFill>
                <a:srgbClr val="99cc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flipH="1">
                <a:off x="4266720" y="2743200"/>
                <a:ext cx="228600" cy="151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4267080" y="2743200"/>
                <a:ext cx="228600" cy="151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4366800" y="2811240"/>
                <a:ext cx="27000" cy="26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4038480" y="2590560"/>
              <a:ext cx="223560" cy="0"/>
            </a:xfrm>
            <a:prstGeom prst="line">
              <a:avLst/>
            </a:prstGeom>
            <a:ln w="158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4038480" y="2819160"/>
              <a:ext cx="223560" cy="0"/>
            </a:xfrm>
            <a:prstGeom prst="line">
              <a:avLst/>
            </a:prstGeom>
            <a:ln w="158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4298760" y="2666880"/>
              <a:ext cx="0" cy="75960"/>
            </a:xfrm>
            <a:prstGeom prst="line">
              <a:avLst/>
            </a:prstGeom>
            <a:ln w="1908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4298760" y="2911320"/>
              <a:ext cx="0" cy="75960"/>
            </a:xfrm>
            <a:prstGeom prst="line">
              <a:avLst/>
            </a:prstGeom>
            <a:ln w="1908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6554880" y="2512080"/>
              <a:ext cx="5374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AK-36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554880" y="2742480"/>
              <a:ext cx="5374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AK-38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554880" y="2972520"/>
              <a:ext cx="5374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AK-33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294080" y="1949400"/>
              <a:ext cx="169560" cy="74160"/>
            </a:xfrm>
            <a:prstGeom prst="ellipse">
              <a:avLst/>
            </a:prstGeom>
            <a:solidFill>
              <a:srgbClr val="99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V="1">
              <a:off x="4267080" y="1912680"/>
              <a:ext cx="236520" cy="156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8" name=""/>
          <p:cNvGrpSpPr/>
          <p:nvPr/>
        </p:nvGrpSpPr>
        <p:grpSpPr>
          <a:xfrm>
            <a:off x="4030560" y="4937040"/>
            <a:ext cx="3053880" cy="1999080"/>
            <a:chOff x="4030560" y="4937040"/>
            <a:chExt cx="3053880" cy="1999080"/>
          </a:xfrm>
        </p:grpSpPr>
        <p:sp>
          <p:nvSpPr>
            <p:cNvPr id="329" name=""/>
            <p:cNvSpPr/>
            <p:nvPr/>
          </p:nvSpPr>
          <p:spPr>
            <a:xfrm>
              <a:off x="6539040" y="5560560"/>
              <a:ext cx="5374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AK-46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4735440" y="5877000"/>
              <a:ext cx="1523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x6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Light Machine Gu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725720" y="5572080"/>
              <a:ext cx="182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x3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Infantr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4735440" y="5162760"/>
              <a:ext cx="9144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99cc00"/>
                  </a:solidFill>
                  <a:latin typeface="Arial"/>
                </a:rPr>
                <a:t>Comman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4278240" y="4959360"/>
              <a:ext cx="1600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Motorcycle Squadr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4735440" y="6446880"/>
              <a:ext cx="1361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x1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5cm Light Morta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4079520" y="5175360"/>
              <a:ext cx="0" cy="1423800"/>
            </a:xfrm>
            <a:prstGeom prst="line">
              <a:avLst/>
            </a:prstGeom>
            <a:ln w="158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074840" y="5391360"/>
              <a:ext cx="300240" cy="1440"/>
            </a:xfrm>
            <a:prstGeom prst="line">
              <a:avLst/>
            </a:prstGeom>
            <a:ln w="158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4395600" y="5608800"/>
              <a:ext cx="231840" cy="164880"/>
            </a:xfrm>
            <a:prstGeom prst="rect">
              <a:avLst/>
            </a:prstGeom>
            <a:solidFill>
              <a:srgbClr val="99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090680" y="6300720"/>
              <a:ext cx="300240" cy="1800"/>
            </a:xfrm>
            <a:prstGeom prst="line">
              <a:avLst/>
            </a:prstGeom>
            <a:ln w="158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9" name=""/>
            <p:cNvGrpSpPr/>
            <p:nvPr/>
          </p:nvGrpSpPr>
          <p:grpSpPr>
            <a:xfrm>
              <a:off x="4387680" y="5324400"/>
              <a:ext cx="231840" cy="157320"/>
              <a:chOff x="4387680" y="5324400"/>
              <a:chExt cx="231840" cy="157320"/>
            </a:xfrm>
          </p:grpSpPr>
          <p:sp>
            <p:nvSpPr>
              <p:cNvPr id="340" name=""/>
              <p:cNvSpPr/>
              <p:nvPr/>
            </p:nvSpPr>
            <p:spPr>
              <a:xfrm>
                <a:off x="4387680" y="5324400"/>
                <a:ext cx="231840" cy="157320"/>
              </a:xfrm>
              <a:prstGeom prst="rect">
                <a:avLst/>
              </a:prstGeom>
              <a:solidFill>
                <a:srgbClr val="99cc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4411440" y="5346720"/>
                <a:ext cx="184320" cy="110880"/>
              </a:xfrm>
              <a:prstGeom prst="rect">
                <a:avLst/>
              </a:prstGeom>
              <a:solidFill>
                <a:srgbClr val="99cc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HQ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2" name=""/>
            <p:cNvSpPr/>
            <p:nvPr/>
          </p:nvSpPr>
          <p:spPr>
            <a:xfrm>
              <a:off x="4489200" y="5281560"/>
              <a:ext cx="2844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3" name=""/>
            <p:cNvGrpSpPr/>
            <p:nvPr/>
          </p:nvGrpSpPr>
          <p:grpSpPr>
            <a:xfrm>
              <a:off x="4473360" y="5553000"/>
              <a:ext cx="74520" cy="28800"/>
              <a:chOff x="4473360" y="5553000"/>
              <a:chExt cx="74520" cy="28800"/>
            </a:xfrm>
          </p:grpSpPr>
          <p:sp>
            <p:nvSpPr>
              <p:cNvPr id="344" name=""/>
              <p:cNvSpPr/>
              <p:nvPr/>
            </p:nvSpPr>
            <p:spPr>
              <a:xfrm>
                <a:off x="4473360" y="5553000"/>
                <a:ext cx="284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4520880" y="5554800"/>
                <a:ext cx="2700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6" name=""/>
            <p:cNvSpPr/>
            <p:nvPr/>
          </p:nvSpPr>
          <p:spPr>
            <a:xfrm>
              <a:off x="4030560" y="5008680"/>
              <a:ext cx="231480" cy="156960"/>
            </a:xfrm>
            <a:prstGeom prst="rect">
              <a:avLst/>
            </a:prstGeom>
            <a:solidFill>
              <a:srgbClr val="99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141440" y="4937040"/>
              <a:ext cx="0" cy="637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4036680" y="5006880"/>
              <a:ext cx="241560" cy="154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 flipV="1">
              <a:off x="4039920" y="4998960"/>
              <a:ext cx="230400" cy="155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4402080" y="5621400"/>
              <a:ext cx="241200" cy="154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V="1">
              <a:off x="4398840" y="5613480"/>
              <a:ext cx="230040" cy="155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2" name=""/>
            <p:cNvGrpSpPr/>
            <p:nvPr/>
          </p:nvGrpSpPr>
          <p:grpSpPr>
            <a:xfrm>
              <a:off x="4403520" y="6497640"/>
              <a:ext cx="239760" cy="157320"/>
              <a:chOff x="4403520" y="6497640"/>
              <a:chExt cx="239760" cy="157320"/>
            </a:xfrm>
          </p:grpSpPr>
          <p:sp>
            <p:nvSpPr>
              <p:cNvPr id="353" name=""/>
              <p:cNvSpPr/>
              <p:nvPr/>
            </p:nvSpPr>
            <p:spPr>
              <a:xfrm>
                <a:off x="4403520" y="6497640"/>
                <a:ext cx="239760" cy="157320"/>
              </a:xfrm>
              <a:prstGeom prst="rect">
                <a:avLst/>
              </a:prstGeom>
              <a:solidFill>
                <a:srgbClr val="99cc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 flipH="1">
                <a:off x="4524120" y="6518880"/>
                <a:ext cx="2160" cy="1011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4488120" y="6622560"/>
                <a:ext cx="6804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 flipV="1">
              <a:off x="4412880" y="6490800"/>
              <a:ext cx="230400" cy="155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4410000" y="6502320"/>
              <a:ext cx="241200" cy="154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8" name=""/>
            <p:cNvGrpSpPr/>
            <p:nvPr/>
          </p:nvGrpSpPr>
          <p:grpSpPr>
            <a:xfrm>
              <a:off x="4478040" y="6446880"/>
              <a:ext cx="74520" cy="28080"/>
              <a:chOff x="4478040" y="6446880"/>
              <a:chExt cx="74520" cy="28080"/>
            </a:xfrm>
          </p:grpSpPr>
          <p:sp>
            <p:nvSpPr>
              <p:cNvPr id="359" name=""/>
              <p:cNvSpPr/>
              <p:nvPr/>
            </p:nvSpPr>
            <p:spPr>
              <a:xfrm>
                <a:off x="4478040" y="6446880"/>
                <a:ext cx="28440" cy="26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4525560" y="6448320"/>
                <a:ext cx="27000" cy="26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1" name=""/>
            <p:cNvSpPr/>
            <p:nvPr/>
          </p:nvSpPr>
          <p:spPr>
            <a:xfrm>
              <a:off x="4404960" y="6202440"/>
              <a:ext cx="231840" cy="152280"/>
            </a:xfrm>
            <a:prstGeom prst="rect">
              <a:avLst/>
            </a:prstGeom>
            <a:solidFill>
              <a:srgbClr val="99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 flipV="1">
              <a:off x="4412880" y="6205680"/>
              <a:ext cx="228600" cy="14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406760" y="6203880"/>
              <a:ext cx="226800" cy="14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4" name=""/>
            <p:cNvGrpSpPr/>
            <p:nvPr/>
          </p:nvGrpSpPr>
          <p:grpSpPr>
            <a:xfrm>
              <a:off x="4484520" y="6141960"/>
              <a:ext cx="74520" cy="28800"/>
              <a:chOff x="4484520" y="6141960"/>
              <a:chExt cx="74520" cy="28800"/>
            </a:xfrm>
          </p:grpSpPr>
          <p:sp>
            <p:nvSpPr>
              <p:cNvPr id="365" name=""/>
              <p:cNvSpPr/>
              <p:nvPr/>
            </p:nvSpPr>
            <p:spPr>
              <a:xfrm>
                <a:off x="4484520" y="6141960"/>
                <a:ext cx="284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4532040" y="6143760"/>
                <a:ext cx="2700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7" name=""/>
            <p:cNvSpPr/>
            <p:nvPr/>
          </p:nvSpPr>
          <p:spPr>
            <a:xfrm>
              <a:off x="4404960" y="6203880"/>
              <a:ext cx="55800" cy="1508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086000" y="5691240"/>
              <a:ext cx="299880" cy="1440"/>
            </a:xfrm>
            <a:prstGeom prst="line">
              <a:avLst/>
            </a:prstGeom>
            <a:ln w="158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089240" y="5996160"/>
              <a:ext cx="299880" cy="1440"/>
            </a:xfrm>
            <a:prstGeom prst="line">
              <a:avLst/>
            </a:prstGeom>
            <a:ln w="158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725720" y="5303880"/>
              <a:ext cx="182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x1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Command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4725720" y="6141960"/>
              <a:ext cx="1523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x1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Heavy Machine Gu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404960" y="5905440"/>
              <a:ext cx="231840" cy="152640"/>
            </a:xfrm>
            <a:prstGeom prst="rect">
              <a:avLst/>
            </a:prstGeom>
            <a:solidFill>
              <a:srgbClr val="99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 flipV="1">
              <a:off x="4412880" y="5908680"/>
              <a:ext cx="228600" cy="14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4406760" y="5907240"/>
              <a:ext cx="226800" cy="14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5" name=""/>
            <p:cNvGrpSpPr/>
            <p:nvPr/>
          </p:nvGrpSpPr>
          <p:grpSpPr>
            <a:xfrm>
              <a:off x="4484520" y="5845320"/>
              <a:ext cx="74520" cy="28080"/>
              <a:chOff x="4484520" y="5845320"/>
              <a:chExt cx="74520" cy="28080"/>
            </a:xfrm>
          </p:grpSpPr>
          <p:sp>
            <p:nvSpPr>
              <p:cNvPr id="376" name=""/>
              <p:cNvSpPr/>
              <p:nvPr/>
            </p:nvSpPr>
            <p:spPr>
              <a:xfrm>
                <a:off x="4484520" y="5845320"/>
                <a:ext cx="28440" cy="26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4532040" y="5846760"/>
                <a:ext cx="27000" cy="26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8" name=""/>
            <p:cNvSpPr/>
            <p:nvPr/>
          </p:nvSpPr>
          <p:spPr>
            <a:xfrm>
              <a:off x="4404960" y="5907240"/>
              <a:ext cx="55800" cy="1508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089240" y="6588000"/>
              <a:ext cx="299880" cy="1800"/>
            </a:xfrm>
            <a:prstGeom prst="line">
              <a:avLst/>
            </a:prstGeom>
            <a:ln w="158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546960" y="5865120"/>
              <a:ext cx="5374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AK-5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6546960" y="6155640"/>
              <a:ext cx="5374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AK-5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6546960" y="6460560"/>
              <a:ext cx="5374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AK-53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6546960" y="5331960"/>
              <a:ext cx="5374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AK-47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411440" y="6737400"/>
              <a:ext cx="231840" cy="157320"/>
            </a:xfrm>
            <a:prstGeom prst="rect">
              <a:avLst/>
            </a:prstGeom>
            <a:solidFill>
              <a:srgbClr val="99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532040" y="6842160"/>
              <a:ext cx="2700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584600" y="6842160"/>
              <a:ext cx="2844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435200" y="6657840"/>
              <a:ext cx="0" cy="76320"/>
            </a:xfrm>
            <a:prstGeom prst="line">
              <a:avLst/>
            </a:prstGeom>
            <a:ln w="1908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4716360" y="6689880"/>
              <a:ext cx="1361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x12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Motorcycl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6546960" y="6689160"/>
              <a:ext cx="5374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AK-3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0" name=""/>
          <p:cNvGrpSpPr/>
          <p:nvPr/>
        </p:nvGrpSpPr>
        <p:grpSpPr>
          <a:xfrm>
            <a:off x="4022640" y="3686040"/>
            <a:ext cx="3061800" cy="1116000"/>
            <a:chOff x="4022640" y="3686040"/>
            <a:chExt cx="3061800" cy="1116000"/>
          </a:xfrm>
        </p:grpSpPr>
        <p:grpSp>
          <p:nvGrpSpPr>
            <p:cNvPr id="391" name=""/>
            <p:cNvGrpSpPr/>
            <p:nvPr/>
          </p:nvGrpSpPr>
          <p:grpSpPr>
            <a:xfrm>
              <a:off x="4022640" y="3686040"/>
              <a:ext cx="2895480" cy="1116000"/>
              <a:chOff x="4022640" y="3686040"/>
              <a:chExt cx="2895480" cy="1116000"/>
            </a:xfrm>
          </p:grpSpPr>
          <p:sp>
            <p:nvSpPr>
              <p:cNvPr id="392" name=""/>
              <p:cNvSpPr/>
              <p:nvPr/>
            </p:nvSpPr>
            <p:spPr>
              <a:xfrm>
                <a:off x="4022640" y="3746160"/>
                <a:ext cx="231480" cy="157320"/>
              </a:xfrm>
              <a:prstGeom prst="rect">
                <a:avLst/>
              </a:prstGeom>
              <a:solidFill>
                <a:srgbClr val="99cc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4049640" y="3790800"/>
                <a:ext cx="169560" cy="74520"/>
              </a:xfrm>
              <a:prstGeom prst="ellipse">
                <a:avLst/>
              </a:prstGeom>
              <a:solidFill>
                <a:srgbClr val="99cc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4327200" y="3686040"/>
                <a:ext cx="2590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Armored Reconnaissance Squadro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4098600" y="3914640"/>
                <a:ext cx="0" cy="761760"/>
              </a:xfrm>
              <a:prstGeom prst="line">
                <a:avLst/>
              </a:prstGeom>
              <a:ln w="158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4098600" y="4095360"/>
                <a:ext cx="300240" cy="1800"/>
              </a:xfrm>
              <a:prstGeom prst="line">
                <a:avLst/>
              </a:prstGeom>
              <a:ln w="158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4098600" y="4403520"/>
                <a:ext cx="300240" cy="1440"/>
              </a:xfrm>
              <a:prstGeom prst="line">
                <a:avLst/>
              </a:prstGeom>
              <a:ln w="158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4632120" y="3858840"/>
                <a:ext cx="99072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99cc00"/>
                    </a:solidFill>
                    <a:latin typeface="Arial"/>
                  </a:rPr>
                  <a:t>Command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4404960" y="4323960"/>
                <a:ext cx="239760" cy="157320"/>
              </a:xfrm>
              <a:prstGeom prst="rect">
                <a:avLst/>
              </a:prstGeom>
              <a:solidFill>
                <a:srgbClr val="99cc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4439880" y="4363920"/>
                <a:ext cx="169920" cy="74520"/>
              </a:xfrm>
              <a:prstGeom prst="ellipse">
                <a:avLst/>
              </a:prstGeom>
              <a:solidFill>
                <a:srgbClr val="99cc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 flipV="1">
                <a:off x="4404960" y="4323600"/>
                <a:ext cx="236520" cy="157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02" name=""/>
              <p:cNvGrpSpPr/>
              <p:nvPr/>
            </p:nvGrpSpPr>
            <p:grpSpPr>
              <a:xfrm>
                <a:off x="4485960" y="4267080"/>
                <a:ext cx="74520" cy="28080"/>
                <a:chOff x="4485960" y="4267080"/>
                <a:chExt cx="74520" cy="28080"/>
              </a:xfrm>
            </p:grpSpPr>
            <p:sp>
              <p:nvSpPr>
                <p:cNvPr id="403" name=""/>
                <p:cNvSpPr/>
                <p:nvPr/>
              </p:nvSpPr>
              <p:spPr>
                <a:xfrm>
                  <a:off x="4485960" y="4267080"/>
                  <a:ext cx="2844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>
                  <a:off x="4533480" y="4268520"/>
                  <a:ext cx="2700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05" name=""/>
              <p:cNvSpPr/>
              <p:nvPr/>
            </p:nvSpPr>
            <p:spPr>
              <a:xfrm flipV="1">
                <a:off x="4022640" y="3745800"/>
                <a:ext cx="236520" cy="157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4503600" y="3966840"/>
                <a:ext cx="284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4403520" y="4022640"/>
                <a:ext cx="239760" cy="156960"/>
              </a:xfrm>
              <a:prstGeom prst="rect">
                <a:avLst/>
              </a:prstGeom>
              <a:solidFill>
                <a:srgbClr val="99cc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4438440" y="4066920"/>
                <a:ext cx="169920" cy="74520"/>
              </a:xfrm>
              <a:prstGeom prst="ellipse">
                <a:avLst/>
              </a:prstGeom>
              <a:solidFill>
                <a:srgbClr val="99cc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 flipV="1">
                <a:off x="4403520" y="4022640"/>
                <a:ext cx="236520" cy="156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4632120" y="3982680"/>
                <a:ext cx="1752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x1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SdKfz 221 Armored Ca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4632120" y="4279680"/>
                <a:ext cx="1752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x6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SdKfz 222 Armored Ca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4632120" y="4151160"/>
                <a:ext cx="99072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99cc00"/>
                    </a:solidFill>
                    <a:latin typeface="Arial"/>
                  </a:rPr>
                  <a:t>Rec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4143240" y="3686040"/>
                <a:ext cx="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4403520" y="4589280"/>
                <a:ext cx="239760" cy="156960"/>
              </a:xfrm>
              <a:prstGeom prst="rect">
                <a:avLst/>
              </a:prstGeom>
              <a:solidFill>
                <a:srgbClr val="99cc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4438440" y="4628880"/>
                <a:ext cx="169920" cy="74520"/>
              </a:xfrm>
              <a:prstGeom prst="ellipse">
                <a:avLst/>
              </a:prstGeom>
              <a:solidFill>
                <a:srgbClr val="99cc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 flipV="1">
                <a:off x="4403520" y="4589280"/>
                <a:ext cx="236520" cy="156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4103640" y="4663800"/>
                <a:ext cx="299880" cy="1440"/>
              </a:xfrm>
              <a:prstGeom prst="line">
                <a:avLst/>
              </a:prstGeom>
              <a:ln w="158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18" name=""/>
              <p:cNvGrpSpPr/>
              <p:nvPr/>
            </p:nvGrpSpPr>
            <p:grpSpPr>
              <a:xfrm>
                <a:off x="4487760" y="4539960"/>
                <a:ext cx="74520" cy="28080"/>
                <a:chOff x="4487760" y="4539960"/>
                <a:chExt cx="74520" cy="28080"/>
              </a:xfrm>
            </p:grpSpPr>
            <p:sp>
              <p:nvSpPr>
                <p:cNvPr id="419" name=""/>
                <p:cNvSpPr/>
                <p:nvPr/>
              </p:nvSpPr>
              <p:spPr>
                <a:xfrm>
                  <a:off x="4487760" y="4539960"/>
                  <a:ext cx="2844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>
                  <a:off x="4535280" y="4541400"/>
                  <a:ext cx="2700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21" name=""/>
              <p:cNvSpPr/>
              <p:nvPr/>
            </p:nvSpPr>
            <p:spPr>
              <a:xfrm>
                <a:off x="4632120" y="4555800"/>
                <a:ext cx="1752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x2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SdKfz 231 Armored Ca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2" name=""/>
            <p:cNvSpPr/>
            <p:nvPr/>
          </p:nvSpPr>
          <p:spPr>
            <a:xfrm>
              <a:off x="6546960" y="3996720"/>
              <a:ext cx="5374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AK-2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6546960" y="4309200"/>
              <a:ext cx="5374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AK-2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6546960" y="4569840"/>
              <a:ext cx="5374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AK-23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5" name=""/>
          <p:cNvSpPr/>
          <p:nvPr/>
        </p:nvSpPr>
        <p:spPr>
          <a:xfrm>
            <a:off x="3886200" y="33829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neuver Element Detai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/>
          <p:nvPr/>
        </p:nvSpPr>
        <p:spPr>
          <a:xfrm>
            <a:off x="1058760" y="1198440"/>
            <a:ext cx="2743200" cy="307080"/>
          </a:xfrm>
          <a:prstGeom prst="rect">
            <a:avLst/>
          </a:pr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chine Gun Battalion (Mtz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211400" y="1604880"/>
            <a:ext cx="160020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9cc00"/>
                </a:solidFill>
                <a:latin typeface="Arial"/>
              </a:rPr>
              <a:t>Headquarters El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x1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x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Horsch Field Car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a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1211400" y="2233440"/>
            <a:ext cx="2057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x3</a:t>
            </a:r>
            <a:r>
              <a:rPr b="1" lang="en-US" sz="1000" spc="-1" strike="noStrike">
                <a:solidFill>
                  <a:srgbClr val="99cc00"/>
                </a:solidFill>
                <a:latin typeface="Arial"/>
              </a:rPr>
              <a:t> Machine Gun 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1211400" y="2795760"/>
            <a:ext cx="213336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x3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.7cm Pak 35/36 Antitank Gu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x3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Light Tru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982800" y="2932200"/>
            <a:ext cx="0" cy="68040"/>
          </a:xfrm>
          <a:prstGeom prst="line">
            <a:avLst/>
          </a:prstGeom>
          <a:ln w="158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677880" y="1560600"/>
            <a:ext cx="0" cy="1014480"/>
          </a:xfrm>
          <a:prstGeom prst="line">
            <a:avLst/>
          </a:prstGeom>
          <a:ln w="158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906480" y="2252520"/>
            <a:ext cx="239760" cy="157320"/>
          </a:xfrm>
          <a:prstGeom prst="rect">
            <a:avLst/>
          </a:prstGeom>
          <a:solidFill>
            <a:srgbClr val="99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80880" y="5257800"/>
            <a:ext cx="2895840" cy="32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b)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Replace in 8th MG BN with, as attachments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x3 Pionie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flipV="1">
            <a:off x="906480" y="2246400"/>
            <a:ext cx="236520" cy="155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917640" y="2262240"/>
            <a:ext cx="241200" cy="154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982800" y="1889280"/>
            <a:ext cx="0" cy="68040"/>
          </a:xfrm>
          <a:prstGeom prst="line">
            <a:avLst/>
          </a:prstGeom>
          <a:ln w="158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280" y="1198440"/>
            <a:ext cx="533520" cy="362160"/>
          </a:xfrm>
          <a:prstGeom prst="rect">
            <a:avLst/>
          </a:prstGeom>
          <a:solidFill>
            <a:srgbClr val="99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677880" y="2847960"/>
            <a:ext cx="223920" cy="0"/>
          </a:xfrm>
          <a:prstGeom prst="line">
            <a:avLst/>
          </a:prstGeom>
          <a:ln w="158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677880" y="2346480"/>
            <a:ext cx="223920" cy="0"/>
          </a:xfrm>
          <a:prstGeom prst="line">
            <a:avLst/>
          </a:prstGeom>
          <a:ln w="158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677880" y="1812960"/>
            <a:ext cx="223920" cy="0"/>
          </a:xfrm>
          <a:prstGeom prst="line">
            <a:avLst/>
          </a:prstGeom>
          <a:ln w="158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1025640" y="2193840"/>
            <a:ext cx="0" cy="637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2" name=""/>
          <p:cNvGrpSpPr/>
          <p:nvPr/>
        </p:nvGrpSpPr>
        <p:grpSpPr>
          <a:xfrm>
            <a:off x="681120" y="1127160"/>
            <a:ext cx="75960" cy="63360"/>
            <a:chOff x="681120" y="1127160"/>
            <a:chExt cx="75960" cy="63360"/>
          </a:xfrm>
        </p:grpSpPr>
        <p:sp>
          <p:nvSpPr>
            <p:cNvPr id="443" name=""/>
            <p:cNvSpPr/>
            <p:nvPr/>
          </p:nvSpPr>
          <p:spPr>
            <a:xfrm>
              <a:off x="681120" y="1127160"/>
              <a:ext cx="0" cy="63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57080" y="1127160"/>
              <a:ext cx="0" cy="63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5" name=""/>
          <p:cNvSpPr/>
          <p:nvPr/>
        </p:nvSpPr>
        <p:spPr>
          <a:xfrm>
            <a:off x="906480" y="2774880"/>
            <a:ext cx="231840" cy="157320"/>
          </a:xfrm>
          <a:prstGeom prst="rect">
            <a:avLst/>
          </a:prstGeom>
          <a:solidFill>
            <a:srgbClr val="99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677880" y="2535120"/>
            <a:ext cx="0" cy="914400"/>
          </a:xfrm>
          <a:prstGeom prst="line">
            <a:avLst/>
          </a:prstGeom>
          <a:ln w="158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906480" y="1736640"/>
            <a:ext cx="231840" cy="157320"/>
          </a:xfrm>
          <a:prstGeom prst="rect">
            <a:avLst/>
          </a:prstGeom>
          <a:solidFill>
            <a:srgbClr val="99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flipH="1">
            <a:off x="449280" y="1195560"/>
            <a:ext cx="5335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57200" y="1195560"/>
            <a:ext cx="5335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1211400" y="2109960"/>
            <a:ext cx="160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99cc00"/>
                </a:solidFill>
                <a:latin typeface="Arial"/>
              </a:rPr>
              <a:t>MANEUVER ELEMENT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211400" y="2657520"/>
            <a:ext cx="1214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99cc00"/>
                </a:solidFill>
                <a:latin typeface="Arial"/>
              </a:rPr>
              <a:t>ATTACHMENT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473040" y="15685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882720" y="156852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 flipV="1">
            <a:off x="906480" y="2776320"/>
            <a:ext cx="11412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1020600" y="2770200"/>
            <a:ext cx="114480" cy="154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906480" y="3000240"/>
            <a:ext cx="231840" cy="157320"/>
          </a:xfrm>
          <a:prstGeom prst="rect">
            <a:avLst/>
          </a:prstGeom>
          <a:solidFill>
            <a:srgbClr val="99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906480" y="1949400"/>
            <a:ext cx="231840" cy="157320"/>
          </a:xfrm>
          <a:prstGeom prst="rect">
            <a:avLst/>
          </a:prstGeom>
          <a:solidFill>
            <a:srgbClr val="99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1090440" y="2117880"/>
            <a:ext cx="2700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922320" y="2117880"/>
            <a:ext cx="2700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082520" y="3168720"/>
            <a:ext cx="2700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914400" y="3168720"/>
            <a:ext cx="2700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861840" y="1712880"/>
            <a:ext cx="381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Q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1006560" y="1692360"/>
            <a:ext cx="2700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035000" y="2727360"/>
            <a:ext cx="2880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974880" y="2727360"/>
            <a:ext cx="2844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77880" y="3452760"/>
            <a:ext cx="223920" cy="0"/>
          </a:xfrm>
          <a:prstGeom prst="line">
            <a:avLst/>
          </a:prstGeom>
          <a:ln w="158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1211400" y="2462040"/>
            <a:ext cx="182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x2</a:t>
            </a:r>
            <a:r>
              <a:rPr b="1" lang="en-US" sz="10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99cc00"/>
                </a:solidFill>
                <a:latin typeface="Arial"/>
              </a:rPr>
              <a:t>Pioniere Company</a:t>
            </a:r>
            <a:r>
              <a:rPr b="1" lang="en-US" sz="10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b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685800" y="2590920"/>
            <a:ext cx="223920" cy="0"/>
          </a:xfrm>
          <a:prstGeom prst="line">
            <a:avLst/>
          </a:prstGeom>
          <a:ln w="158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9" name=""/>
          <p:cNvGrpSpPr/>
          <p:nvPr/>
        </p:nvGrpSpPr>
        <p:grpSpPr>
          <a:xfrm>
            <a:off x="906480" y="3381480"/>
            <a:ext cx="239760" cy="156960"/>
            <a:chOff x="906480" y="3381480"/>
            <a:chExt cx="239760" cy="156960"/>
          </a:xfrm>
        </p:grpSpPr>
        <p:sp>
          <p:nvSpPr>
            <p:cNvPr id="470" name=""/>
            <p:cNvSpPr/>
            <p:nvPr/>
          </p:nvSpPr>
          <p:spPr>
            <a:xfrm>
              <a:off x="906480" y="3381480"/>
              <a:ext cx="239760" cy="156960"/>
            </a:xfrm>
            <a:prstGeom prst="rect">
              <a:avLst/>
            </a:prstGeom>
            <a:solidFill>
              <a:srgbClr val="99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 flipH="1">
              <a:off x="1027080" y="3402720"/>
              <a:ext cx="2160" cy="101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991080" y="3506400"/>
              <a:ext cx="6804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982800" y="3324240"/>
            <a:ext cx="74520" cy="28080"/>
            <a:chOff x="982800" y="3324240"/>
            <a:chExt cx="74520" cy="28080"/>
          </a:xfrm>
        </p:grpSpPr>
        <p:sp>
          <p:nvSpPr>
            <p:cNvPr id="474" name=""/>
            <p:cNvSpPr/>
            <p:nvPr/>
          </p:nvSpPr>
          <p:spPr>
            <a:xfrm>
              <a:off x="982800" y="3324240"/>
              <a:ext cx="28440" cy="26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360" bIns="-27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1030320" y="3325680"/>
              <a:ext cx="27000" cy="26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360" bIns="-27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6" name=""/>
          <p:cNvSpPr/>
          <p:nvPr/>
        </p:nvSpPr>
        <p:spPr>
          <a:xfrm>
            <a:off x="1211400" y="333684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x3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8cm Mort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1211400" y="3184560"/>
            <a:ext cx="1600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99cc00"/>
                </a:solidFill>
                <a:latin typeface="Arial"/>
              </a:rPr>
              <a:t>Organic Fire Support</a:t>
            </a:r>
            <a:r>
              <a:rPr b="1" lang="en-US" sz="9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8" name=""/>
          <p:cNvGrpSpPr/>
          <p:nvPr/>
        </p:nvGrpSpPr>
        <p:grpSpPr>
          <a:xfrm>
            <a:off x="906480" y="2444760"/>
            <a:ext cx="239760" cy="216000"/>
            <a:chOff x="906480" y="2444760"/>
            <a:chExt cx="239760" cy="216000"/>
          </a:xfrm>
        </p:grpSpPr>
        <p:sp>
          <p:nvSpPr>
            <p:cNvPr id="479" name=""/>
            <p:cNvSpPr/>
            <p:nvPr/>
          </p:nvSpPr>
          <p:spPr>
            <a:xfrm>
              <a:off x="906480" y="2503440"/>
              <a:ext cx="239760" cy="157320"/>
            </a:xfrm>
            <a:prstGeom prst="rect">
              <a:avLst/>
            </a:prstGeom>
            <a:solidFill>
              <a:srgbClr val="99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1025640" y="2444760"/>
              <a:ext cx="0" cy="63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954000" y="2557440"/>
              <a:ext cx="15264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1106640" y="2557440"/>
              <a:ext cx="0" cy="763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1030320" y="2557440"/>
              <a:ext cx="0" cy="763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954000" y="2557440"/>
              <a:ext cx="0" cy="763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5" name=""/>
          <p:cNvSpPr/>
          <p:nvPr/>
        </p:nvSpPr>
        <p:spPr>
          <a:xfrm>
            <a:off x="982800" y="3541680"/>
            <a:ext cx="0" cy="68400"/>
          </a:xfrm>
          <a:prstGeom prst="line">
            <a:avLst/>
          </a:prstGeom>
          <a:ln w="158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906480" y="3613320"/>
            <a:ext cx="231840" cy="156960"/>
          </a:xfrm>
          <a:prstGeom prst="rect">
            <a:avLst/>
          </a:prstGeom>
          <a:solidFill>
            <a:srgbClr val="99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914400" y="3786120"/>
            <a:ext cx="2700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1098720" y="3786120"/>
            <a:ext cx="2664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1211400" y="354960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x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Light Tru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380880" y="5029200"/>
            <a:ext cx="274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a)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May replace with Kubelwag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354480" y="5333400"/>
            <a:ext cx="537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AK-4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3338640" y="3350520"/>
            <a:ext cx="537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AK-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3338640" y="3565080"/>
            <a:ext cx="537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AK-3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3338640" y="1902960"/>
            <a:ext cx="537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AK-3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3346560" y="5042880"/>
            <a:ext cx="537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AK-3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3338640" y="2969640"/>
            <a:ext cx="537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AK-3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3338640" y="2802960"/>
            <a:ext cx="537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AK-3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3338640" y="1750320"/>
            <a:ext cx="537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AK-4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380880" y="385920"/>
            <a:ext cx="6629400" cy="494640"/>
          </a:xfrm>
          <a:prstGeom prst="rect">
            <a:avLst/>
          </a:pr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rman Tables of Organiz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peration Sonnenblume” March/April 1941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0" name=""/>
          <p:cNvGrpSpPr/>
          <p:nvPr/>
        </p:nvGrpSpPr>
        <p:grpSpPr>
          <a:xfrm>
            <a:off x="601560" y="5775480"/>
            <a:ext cx="3282480" cy="2611080"/>
            <a:chOff x="601560" y="5775480"/>
            <a:chExt cx="3282480" cy="2611080"/>
          </a:xfrm>
        </p:grpSpPr>
        <p:sp>
          <p:nvSpPr>
            <p:cNvPr id="501" name=""/>
            <p:cNvSpPr/>
            <p:nvPr/>
          </p:nvSpPr>
          <p:spPr>
            <a:xfrm>
              <a:off x="1382760" y="7299360"/>
              <a:ext cx="1809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x5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eavy Machine Gu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3346560" y="8166960"/>
              <a:ext cx="5374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AK-19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1058760" y="6561000"/>
              <a:ext cx="0" cy="142920"/>
            </a:xfrm>
            <a:prstGeom prst="line">
              <a:avLst/>
            </a:prstGeom>
            <a:ln w="158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1382760" y="6651720"/>
              <a:ext cx="1428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x1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Light Truck  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(a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1382760" y="6126120"/>
              <a:ext cx="1981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x1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Command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1382760" y="6996240"/>
              <a:ext cx="182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x1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Infantry with PzB 39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1382760" y="7650000"/>
              <a:ext cx="1218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x6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Light Truck  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(a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1382760" y="6000840"/>
              <a:ext cx="9144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99cc00"/>
                  </a:solidFill>
                  <a:latin typeface="Arial"/>
                </a:rPr>
                <a:t>Comman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925560" y="5797440"/>
              <a:ext cx="1600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Machine Gun Compan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1382760" y="6346800"/>
              <a:ext cx="1523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x1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5cm Morta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1382760" y="6531120"/>
              <a:ext cx="9144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99cc00"/>
                  </a:solidFill>
                  <a:latin typeface="Arial"/>
                </a:rPr>
                <a:t>Transpor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725400" y="5997600"/>
              <a:ext cx="0" cy="1143000"/>
            </a:xfrm>
            <a:prstGeom prst="line">
              <a:avLst/>
            </a:prstGeom>
            <a:ln w="158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042920" y="7359480"/>
              <a:ext cx="231840" cy="152640"/>
            </a:xfrm>
            <a:prstGeom prst="rect">
              <a:avLst/>
            </a:prstGeom>
            <a:solidFill>
              <a:srgbClr val="99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 flipV="1">
              <a:off x="1050840" y="7362720"/>
              <a:ext cx="228600" cy="14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1044360" y="7361280"/>
              <a:ext cx="227160" cy="14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722160" y="6229440"/>
              <a:ext cx="300240" cy="1440"/>
            </a:xfrm>
            <a:prstGeom prst="line">
              <a:avLst/>
            </a:prstGeom>
            <a:ln w="158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1025280" y="6705720"/>
              <a:ext cx="231840" cy="156960"/>
            </a:xfrm>
            <a:prstGeom prst="rect">
              <a:avLst/>
            </a:prstGeom>
            <a:solidFill>
              <a:srgbClr val="99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036440" y="6883560"/>
              <a:ext cx="2700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217520" y="6885000"/>
              <a:ext cx="2844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042920" y="7051680"/>
              <a:ext cx="231840" cy="165240"/>
            </a:xfrm>
            <a:prstGeom prst="rect">
              <a:avLst/>
            </a:prstGeom>
            <a:solidFill>
              <a:srgbClr val="99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1042920" y="7664400"/>
              <a:ext cx="231840" cy="157320"/>
            </a:xfrm>
            <a:prstGeom prst="rect">
              <a:avLst/>
            </a:prstGeom>
            <a:solidFill>
              <a:srgbClr val="99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054080" y="7835760"/>
              <a:ext cx="2700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1234800" y="7835760"/>
              <a:ext cx="2880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1069920" y="6310440"/>
              <a:ext cx="0" cy="88920"/>
            </a:xfrm>
            <a:prstGeom prst="line">
              <a:avLst/>
            </a:prstGeom>
            <a:ln w="158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38000" y="7139160"/>
              <a:ext cx="300240" cy="1440"/>
            </a:xfrm>
            <a:prstGeom prst="line">
              <a:avLst/>
            </a:prstGeom>
            <a:ln w="158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6" name=""/>
            <p:cNvGrpSpPr/>
            <p:nvPr/>
          </p:nvGrpSpPr>
          <p:grpSpPr>
            <a:xfrm>
              <a:off x="1027080" y="6162840"/>
              <a:ext cx="231840" cy="156960"/>
              <a:chOff x="1027080" y="6162840"/>
              <a:chExt cx="231840" cy="156960"/>
            </a:xfrm>
          </p:grpSpPr>
          <p:sp>
            <p:nvSpPr>
              <p:cNvPr id="527" name=""/>
              <p:cNvSpPr/>
              <p:nvPr/>
            </p:nvSpPr>
            <p:spPr>
              <a:xfrm>
                <a:off x="1027080" y="6162840"/>
                <a:ext cx="231840" cy="156960"/>
              </a:xfrm>
              <a:prstGeom prst="rect">
                <a:avLst/>
              </a:prstGeom>
              <a:solidFill>
                <a:srgbClr val="99cc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1050840" y="6184800"/>
                <a:ext cx="184320" cy="110520"/>
              </a:xfrm>
              <a:prstGeom prst="rect">
                <a:avLst/>
              </a:prstGeom>
              <a:solidFill>
                <a:srgbClr val="99cc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HQ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29" name=""/>
            <p:cNvSpPr/>
            <p:nvPr/>
          </p:nvSpPr>
          <p:spPr>
            <a:xfrm>
              <a:off x="1128600" y="6119640"/>
              <a:ext cx="2844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137960" y="6662880"/>
              <a:ext cx="2880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31" name=""/>
            <p:cNvGrpSpPr/>
            <p:nvPr/>
          </p:nvGrpSpPr>
          <p:grpSpPr>
            <a:xfrm>
              <a:off x="1120680" y="6988320"/>
              <a:ext cx="74520" cy="28080"/>
              <a:chOff x="1120680" y="6988320"/>
              <a:chExt cx="74520" cy="28080"/>
            </a:xfrm>
          </p:grpSpPr>
          <p:sp>
            <p:nvSpPr>
              <p:cNvPr id="532" name=""/>
              <p:cNvSpPr/>
              <p:nvPr/>
            </p:nvSpPr>
            <p:spPr>
              <a:xfrm>
                <a:off x="1120680" y="6988320"/>
                <a:ext cx="28440" cy="26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1168200" y="6989760"/>
                <a:ext cx="27000" cy="26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4" name=""/>
            <p:cNvGrpSpPr/>
            <p:nvPr/>
          </p:nvGrpSpPr>
          <p:grpSpPr>
            <a:xfrm>
              <a:off x="1122120" y="7604280"/>
              <a:ext cx="74520" cy="28080"/>
              <a:chOff x="1122120" y="7604280"/>
              <a:chExt cx="74520" cy="28080"/>
            </a:xfrm>
          </p:grpSpPr>
          <p:sp>
            <p:nvSpPr>
              <p:cNvPr id="535" name=""/>
              <p:cNvSpPr/>
              <p:nvPr/>
            </p:nvSpPr>
            <p:spPr>
              <a:xfrm>
                <a:off x="1122120" y="7604280"/>
                <a:ext cx="28440" cy="26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1169640" y="7605720"/>
                <a:ext cx="27000" cy="26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7" name=""/>
            <p:cNvSpPr/>
            <p:nvPr/>
          </p:nvSpPr>
          <p:spPr>
            <a:xfrm>
              <a:off x="677880" y="5846760"/>
              <a:ext cx="231480" cy="157320"/>
            </a:xfrm>
            <a:prstGeom prst="rect">
              <a:avLst/>
            </a:prstGeom>
            <a:solidFill>
              <a:srgbClr val="99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788760" y="5775480"/>
              <a:ext cx="0" cy="63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676080" y="5853240"/>
              <a:ext cx="241560" cy="15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 flipV="1">
              <a:off x="687240" y="5837400"/>
              <a:ext cx="230400" cy="155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1" name=""/>
            <p:cNvGrpSpPr/>
            <p:nvPr/>
          </p:nvGrpSpPr>
          <p:grpSpPr>
            <a:xfrm>
              <a:off x="1027080" y="6400800"/>
              <a:ext cx="239760" cy="157320"/>
              <a:chOff x="1027080" y="6400800"/>
              <a:chExt cx="239760" cy="157320"/>
            </a:xfrm>
          </p:grpSpPr>
          <p:sp>
            <p:nvSpPr>
              <p:cNvPr id="542" name=""/>
              <p:cNvSpPr/>
              <p:nvPr/>
            </p:nvSpPr>
            <p:spPr>
              <a:xfrm>
                <a:off x="1027080" y="6400800"/>
                <a:ext cx="239760" cy="157320"/>
              </a:xfrm>
              <a:prstGeom prst="rect">
                <a:avLst/>
              </a:prstGeom>
              <a:solidFill>
                <a:srgbClr val="99cc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 flipH="1">
                <a:off x="1147680" y="6422040"/>
                <a:ext cx="2160" cy="1011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1111680" y="6525720"/>
                <a:ext cx="6804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5" name=""/>
            <p:cNvSpPr/>
            <p:nvPr/>
          </p:nvSpPr>
          <p:spPr>
            <a:xfrm flipV="1">
              <a:off x="1036440" y="6393960"/>
              <a:ext cx="230400" cy="155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1033200" y="6405480"/>
              <a:ext cx="241560" cy="154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7" name=""/>
            <p:cNvGrpSpPr/>
            <p:nvPr/>
          </p:nvGrpSpPr>
          <p:grpSpPr>
            <a:xfrm>
              <a:off x="1122120" y="7300800"/>
              <a:ext cx="74520" cy="28800"/>
              <a:chOff x="1122120" y="7300800"/>
              <a:chExt cx="74520" cy="28800"/>
            </a:xfrm>
          </p:grpSpPr>
          <p:sp>
            <p:nvSpPr>
              <p:cNvPr id="548" name=""/>
              <p:cNvSpPr/>
              <p:nvPr/>
            </p:nvSpPr>
            <p:spPr>
              <a:xfrm>
                <a:off x="1122120" y="7300800"/>
                <a:ext cx="284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1169640" y="7302600"/>
                <a:ext cx="2700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0" name=""/>
            <p:cNvSpPr/>
            <p:nvPr/>
          </p:nvSpPr>
          <p:spPr>
            <a:xfrm>
              <a:off x="1049400" y="7064280"/>
              <a:ext cx="241200" cy="154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1046160" y="7056360"/>
              <a:ext cx="230040" cy="155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2" name=""/>
            <p:cNvGrpSpPr/>
            <p:nvPr/>
          </p:nvGrpSpPr>
          <p:grpSpPr>
            <a:xfrm>
              <a:off x="1101600" y="6356520"/>
              <a:ext cx="74520" cy="28080"/>
              <a:chOff x="1101600" y="6356520"/>
              <a:chExt cx="74520" cy="28080"/>
            </a:xfrm>
          </p:grpSpPr>
          <p:sp>
            <p:nvSpPr>
              <p:cNvPr id="553" name=""/>
              <p:cNvSpPr/>
              <p:nvPr/>
            </p:nvSpPr>
            <p:spPr>
              <a:xfrm>
                <a:off x="1101600" y="6356520"/>
                <a:ext cx="28440" cy="26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1149120" y="6357960"/>
                <a:ext cx="27000" cy="26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5" name=""/>
            <p:cNvSpPr/>
            <p:nvPr/>
          </p:nvSpPr>
          <p:spPr>
            <a:xfrm>
              <a:off x="1082520" y="7216920"/>
              <a:ext cx="0" cy="142560"/>
            </a:xfrm>
            <a:prstGeom prst="line">
              <a:avLst/>
            </a:prstGeom>
            <a:ln w="158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082520" y="7521480"/>
              <a:ext cx="0" cy="142920"/>
            </a:xfrm>
            <a:prstGeom prst="line">
              <a:avLst/>
            </a:prstGeom>
            <a:ln w="158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1042920" y="7361280"/>
              <a:ext cx="55440" cy="1508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1382760" y="7521480"/>
              <a:ext cx="9144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99cc00"/>
                  </a:solidFill>
                  <a:latin typeface="Arial"/>
                </a:rPr>
                <a:t>Transpor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601560" y="8061480"/>
              <a:ext cx="2514600" cy="32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5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(a)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May replace up to 4 in 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battalion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with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5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dKfz 251/1 Halftrac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3338640" y="7695720"/>
              <a:ext cx="5374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AK-33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3338640" y="6705000"/>
              <a:ext cx="5374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AK-33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3346560" y="6171480"/>
              <a:ext cx="5374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AK-47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3338640" y="6400080"/>
              <a:ext cx="5374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AK-53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3338640" y="7009920"/>
              <a:ext cx="5374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AK-46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3338640" y="7328880"/>
              <a:ext cx="5374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AK-5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6" name=""/>
          <p:cNvGrpSpPr/>
          <p:nvPr/>
        </p:nvGrpSpPr>
        <p:grpSpPr>
          <a:xfrm>
            <a:off x="4030560" y="3809880"/>
            <a:ext cx="3061800" cy="1620360"/>
            <a:chOff x="4030560" y="3809880"/>
            <a:chExt cx="3061800" cy="1620360"/>
          </a:xfrm>
        </p:grpSpPr>
        <p:sp>
          <p:nvSpPr>
            <p:cNvPr id="567" name=""/>
            <p:cNvSpPr/>
            <p:nvPr/>
          </p:nvSpPr>
          <p:spPr>
            <a:xfrm>
              <a:off x="6554880" y="5195160"/>
              <a:ext cx="5374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AK-19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4487760" y="4600440"/>
              <a:ext cx="0" cy="142920"/>
            </a:xfrm>
            <a:prstGeom prst="line">
              <a:avLst/>
            </a:prstGeom>
            <a:ln w="158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4811760" y="4708440"/>
              <a:ext cx="1428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x5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Light Truck  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(a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4811760" y="4160520"/>
              <a:ext cx="1981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x1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Command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4811760" y="4035240"/>
              <a:ext cx="9144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99cc00"/>
                  </a:solidFill>
                  <a:latin typeface="Arial"/>
                </a:rPr>
                <a:t>Comman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4354560" y="3832200"/>
              <a:ext cx="1600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Pioniere Compan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811760" y="4381200"/>
              <a:ext cx="1523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x9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Pionier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4811760" y="4586040"/>
              <a:ext cx="9144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99cc00"/>
                  </a:solidFill>
                  <a:latin typeface="Arial"/>
                </a:rPr>
                <a:t>Transpor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4151160" y="4263840"/>
              <a:ext cx="300240" cy="1440"/>
            </a:xfrm>
            <a:prstGeom prst="line">
              <a:avLst/>
            </a:prstGeom>
            <a:ln w="158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4454640" y="4744800"/>
              <a:ext cx="231840" cy="157320"/>
            </a:xfrm>
            <a:prstGeom prst="rect">
              <a:avLst/>
            </a:prstGeom>
            <a:solidFill>
              <a:srgbClr val="99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4465800" y="4917960"/>
              <a:ext cx="2700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4646520" y="4919400"/>
              <a:ext cx="2880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4481640" y="4349520"/>
              <a:ext cx="0" cy="88920"/>
            </a:xfrm>
            <a:prstGeom prst="line">
              <a:avLst/>
            </a:prstGeom>
            <a:ln w="158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0" name=""/>
            <p:cNvGrpSpPr/>
            <p:nvPr/>
          </p:nvGrpSpPr>
          <p:grpSpPr>
            <a:xfrm>
              <a:off x="4456080" y="4197240"/>
              <a:ext cx="231840" cy="156960"/>
              <a:chOff x="4456080" y="4197240"/>
              <a:chExt cx="231840" cy="156960"/>
            </a:xfrm>
          </p:grpSpPr>
          <p:sp>
            <p:nvSpPr>
              <p:cNvPr id="581" name=""/>
              <p:cNvSpPr/>
              <p:nvPr/>
            </p:nvSpPr>
            <p:spPr>
              <a:xfrm>
                <a:off x="4456080" y="4197240"/>
                <a:ext cx="231840" cy="156960"/>
              </a:xfrm>
              <a:prstGeom prst="rect">
                <a:avLst/>
              </a:prstGeom>
              <a:solidFill>
                <a:srgbClr val="99cc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4479840" y="4219200"/>
                <a:ext cx="184320" cy="110520"/>
              </a:xfrm>
              <a:prstGeom prst="rect">
                <a:avLst/>
              </a:prstGeom>
              <a:solidFill>
                <a:srgbClr val="99cc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HQ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3" name=""/>
            <p:cNvSpPr/>
            <p:nvPr/>
          </p:nvSpPr>
          <p:spPr>
            <a:xfrm>
              <a:off x="4557600" y="4154400"/>
              <a:ext cx="2880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4030560" y="5105160"/>
              <a:ext cx="2514600" cy="32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5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(a)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May replace up to 4 in 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battalion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with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5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dKfz 251/1 Halftrac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554880" y="4739400"/>
              <a:ext cx="5374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AK-33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554880" y="4206240"/>
              <a:ext cx="5374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AK-47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6554880" y="4434840"/>
              <a:ext cx="5374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AK-48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8" name=""/>
            <p:cNvGrpSpPr/>
            <p:nvPr/>
          </p:nvGrpSpPr>
          <p:grpSpPr>
            <a:xfrm>
              <a:off x="4038480" y="3809880"/>
              <a:ext cx="239760" cy="216000"/>
              <a:chOff x="4038480" y="3809880"/>
              <a:chExt cx="239760" cy="216000"/>
            </a:xfrm>
          </p:grpSpPr>
          <p:sp>
            <p:nvSpPr>
              <p:cNvPr id="589" name=""/>
              <p:cNvSpPr/>
              <p:nvPr/>
            </p:nvSpPr>
            <p:spPr>
              <a:xfrm>
                <a:off x="4038480" y="3868560"/>
                <a:ext cx="239760" cy="157320"/>
              </a:xfrm>
              <a:prstGeom prst="rect">
                <a:avLst/>
              </a:prstGeom>
              <a:solidFill>
                <a:srgbClr val="99cc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4157640" y="3809880"/>
                <a:ext cx="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4086000" y="3922560"/>
                <a:ext cx="15264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4238640" y="3922560"/>
                <a:ext cx="0" cy="763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4162320" y="3922560"/>
                <a:ext cx="0" cy="763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4086000" y="3922560"/>
                <a:ext cx="0" cy="763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5" name=""/>
            <p:cNvGrpSpPr/>
            <p:nvPr/>
          </p:nvGrpSpPr>
          <p:grpSpPr>
            <a:xfrm>
              <a:off x="4454640" y="4446360"/>
              <a:ext cx="241200" cy="163440"/>
              <a:chOff x="4454640" y="4446360"/>
              <a:chExt cx="241200" cy="163440"/>
            </a:xfrm>
          </p:grpSpPr>
          <p:sp>
            <p:nvSpPr>
              <p:cNvPr id="596" name=""/>
              <p:cNvSpPr/>
              <p:nvPr/>
            </p:nvSpPr>
            <p:spPr>
              <a:xfrm>
                <a:off x="4454640" y="4454280"/>
                <a:ext cx="241200" cy="154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flipV="1">
                <a:off x="4454640" y="4454280"/>
                <a:ext cx="230040" cy="155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4454640" y="4446360"/>
                <a:ext cx="239760" cy="157320"/>
              </a:xfrm>
              <a:prstGeom prst="rect">
                <a:avLst/>
              </a:prstGeom>
              <a:solidFill>
                <a:srgbClr val="99cc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4502160" y="4500360"/>
                <a:ext cx="15228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4654440" y="4500360"/>
                <a:ext cx="0" cy="763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4578480" y="4500360"/>
                <a:ext cx="0" cy="763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4502160" y="4500360"/>
                <a:ext cx="0" cy="763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3" name=""/>
            <p:cNvGrpSpPr/>
            <p:nvPr/>
          </p:nvGrpSpPr>
          <p:grpSpPr>
            <a:xfrm>
              <a:off x="4540320" y="4390920"/>
              <a:ext cx="74520" cy="28080"/>
              <a:chOff x="4540320" y="4390920"/>
              <a:chExt cx="74520" cy="28080"/>
            </a:xfrm>
          </p:grpSpPr>
          <p:sp>
            <p:nvSpPr>
              <p:cNvPr id="604" name=""/>
              <p:cNvSpPr/>
              <p:nvPr/>
            </p:nvSpPr>
            <p:spPr>
              <a:xfrm>
                <a:off x="4540320" y="4390920"/>
                <a:ext cx="28440" cy="26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4587840" y="4392360"/>
                <a:ext cx="27000" cy="26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6" name=""/>
            <p:cNvSpPr/>
            <p:nvPr/>
          </p:nvSpPr>
          <p:spPr>
            <a:xfrm flipV="1">
              <a:off x="4157640" y="4033440"/>
              <a:ext cx="0" cy="228600"/>
            </a:xfrm>
            <a:prstGeom prst="line">
              <a:avLst/>
            </a:prstGeom>
            <a:ln w="158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7" name=""/>
          <p:cNvGrpSpPr/>
          <p:nvPr/>
        </p:nvGrpSpPr>
        <p:grpSpPr>
          <a:xfrm>
            <a:off x="3962520" y="1676520"/>
            <a:ext cx="3129840" cy="1680840"/>
            <a:chOff x="3962520" y="1676520"/>
            <a:chExt cx="3129840" cy="1680840"/>
          </a:xfrm>
        </p:grpSpPr>
        <p:sp>
          <p:nvSpPr>
            <p:cNvPr id="608" name=""/>
            <p:cNvSpPr/>
            <p:nvPr/>
          </p:nvSpPr>
          <p:spPr>
            <a:xfrm>
              <a:off x="3962520" y="1736640"/>
              <a:ext cx="231480" cy="157320"/>
            </a:xfrm>
            <a:prstGeom prst="rect">
              <a:avLst/>
            </a:prstGeom>
            <a:solidFill>
              <a:srgbClr val="99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4267080" y="1676520"/>
              <a:ext cx="1676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Panzerjäger Compan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4038480" y="1905120"/>
              <a:ext cx="0" cy="761760"/>
            </a:xfrm>
            <a:prstGeom prst="line">
              <a:avLst/>
            </a:prstGeom>
            <a:ln w="158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4038480" y="2085840"/>
              <a:ext cx="299520" cy="1800"/>
            </a:xfrm>
            <a:prstGeom prst="line">
              <a:avLst/>
            </a:prstGeom>
            <a:ln w="158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4572000" y="1849320"/>
              <a:ext cx="9900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99cc00"/>
                  </a:solidFill>
                  <a:latin typeface="Arial"/>
                </a:rPr>
                <a:t>Comman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4443120" y="1957320"/>
              <a:ext cx="2844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4343400" y="2013120"/>
              <a:ext cx="239400" cy="156960"/>
            </a:xfrm>
            <a:prstGeom prst="rect">
              <a:avLst/>
            </a:prstGeom>
            <a:solidFill>
              <a:srgbClr val="99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4572000" y="1973160"/>
              <a:ext cx="1371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x1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mmand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4082760" y="1676520"/>
              <a:ext cx="0" cy="63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6546960" y="1994760"/>
              <a:ext cx="5374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AK-47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6554880" y="2895120"/>
              <a:ext cx="5374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AK-36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4572000" y="2527200"/>
              <a:ext cx="1828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x1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cm Pak 38 Antitank Gu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4572000" y="2879640"/>
              <a:ext cx="213300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x3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.7cm Pak 35/36 Antitank Gu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x4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Light Truc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4340160" y="2903400"/>
              <a:ext cx="231480" cy="157320"/>
            </a:xfrm>
            <a:prstGeom prst="rect">
              <a:avLst/>
            </a:prstGeom>
            <a:solidFill>
              <a:srgbClr val="99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 flipV="1">
              <a:off x="4340160" y="2904840"/>
              <a:ext cx="11376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4454280" y="2898720"/>
              <a:ext cx="114120" cy="154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4340160" y="3138480"/>
              <a:ext cx="231480" cy="157320"/>
            </a:xfrm>
            <a:prstGeom prst="rect">
              <a:avLst/>
            </a:prstGeom>
            <a:solidFill>
              <a:srgbClr val="99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4532040" y="3301920"/>
              <a:ext cx="2664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4348080" y="3301920"/>
              <a:ext cx="2664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7" name=""/>
            <p:cNvGrpSpPr/>
            <p:nvPr/>
          </p:nvGrpSpPr>
          <p:grpSpPr>
            <a:xfrm>
              <a:off x="4416480" y="2852640"/>
              <a:ext cx="79920" cy="27000"/>
              <a:chOff x="4416480" y="2852640"/>
              <a:chExt cx="79920" cy="27000"/>
            </a:xfrm>
          </p:grpSpPr>
          <p:sp>
            <p:nvSpPr>
              <p:cNvPr id="628" name=""/>
              <p:cNvSpPr/>
              <p:nvPr/>
            </p:nvSpPr>
            <p:spPr>
              <a:xfrm>
                <a:off x="4468320" y="2852640"/>
                <a:ext cx="2808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4416480" y="2852640"/>
                <a:ext cx="2808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0" name=""/>
            <p:cNvSpPr/>
            <p:nvPr/>
          </p:nvSpPr>
          <p:spPr>
            <a:xfrm>
              <a:off x="6546960" y="2545920"/>
              <a:ext cx="5374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AK-37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4343400" y="2593800"/>
              <a:ext cx="231120" cy="157320"/>
            </a:xfrm>
            <a:prstGeom prst="rect">
              <a:avLst/>
            </a:prstGeom>
            <a:solidFill>
              <a:srgbClr val="99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 flipV="1">
              <a:off x="4343400" y="2595240"/>
              <a:ext cx="11376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4457520" y="2589120"/>
              <a:ext cx="114120" cy="154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4464000" y="2546280"/>
              <a:ext cx="2808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4411440" y="2546280"/>
              <a:ext cx="2844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4572000" y="2217600"/>
              <a:ext cx="1371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x1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orsch Field Ca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4343400" y="2262240"/>
              <a:ext cx="239400" cy="156960"/>
            </a:xfrm>
            <a:prstGeom prst="rect">
              <a:avLst/>
            </a:prstGeom>
            <a:solidFill>
              <a:srgbClr val="99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4443120" y="2209680"/>
              <a:ext cx="2844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4354560" y="2424240"/>
              <a:ext cx="2808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4537080" y="2424240"/>
              <a:ext cx="2664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4375080" y="2759040"/>
              <a:ext cx="0" cy="144360"/>
            </a:xfrm>
            <a:prstGeom prst="line">
              <a:avLst/>
            </a:prstGeom>
            <a:ln w="158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4379760" y="3071880"/>
              <a:ext cx="0" cy="68040"/>
            </a:xfrm>
            <a:prstGeom prst="line">
              <a:avLst/>
            </a:prstGeom>
            <a:ln w="158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 flipV="1">
              <a:off x="3962520" y="1750680"/>
              <a:ext cx="1141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4076640" y="1744560"/>
              <a:ext cx="113760" cy="154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4375080" y="2185920"/>
              <a:ext cx="0" cy="68400"/>
            </a:xfrm>
            <a:prstGeom prst="line">
              <a:avLst/>
            </a:prstGeom>
            <a:ln w="158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6546960" y="2241000"/>
              <a:ext cx="5374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AK-3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6554880" y="3123720"/>
              <a:ext cx="5374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AK-33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4038480" y="2665440"/>
              <a:ext cx="299520" cy="1440"/>
            </a:xfrm>
            <a:prstGeom prst="line">
              <a:avLst/>
            </a:prstGeom>
            <a:ln w="158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9" name=""/>
          <p:cNvSpPr/>
          <p:nvPr/>
        </p:nvSpPr>
        <p:spPr>
          <a:xfrm>
            <a:off x="1219320" y="3787920"/>
            <a:ext cx="160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99cc00"/>
                </a:solidFill>
                <a:latin typeface="Arial"/>
              </a:rPr>
              <a:t>DIVISIONAL ATTACHMENT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914400" y="3957480"/>
            <a:ext cx="231840" cy="157320"/>
          </a:xfrm>
          <a:prstGeom prst="rect">
            <a:avLst/>
          </a:prstGeom>
          <a:solidFill>
            <a:srgbClr val="99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 flipV="1">
            <a:off x="914400" y="3958920"/>
            <a:ext cx="1144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1028880" y="3952800"/>
            <a:ext cx="114120" cy="154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035000" y="3882960"/>
            <a:ext cx="0" cy="637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1219320" y="3922560"/>
            <a:ext cx="182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x1</a:t>
            </a:r>
            <a:r>
              <a:rPr b="1" lang="en-US" sz="1000" spc="-1" strike="noStrike">
                <a:solidFill>
                  <a:srgbClr val="99cc00"/>
                </a:solidFill>
                <a:latin typeface="Arial"/>
              </a:rPr>
              <a:t> Panzerjäger 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1219320" y="4219560"/>
            <a:ext cx="175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x1</a:t>
            </a:r>
            <a:r>
              <a:rPr b="1" lang="en-US" sz="1000" spc="-1" strike="noStrike">
                <a:solidFill>
                  <a:srgbClr val="99cc00"/>
                </a:solidFill>
                <a:latin typeface="Arial"/>
              </a:rPr>
              <a:t> Light Artillery Batte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914400" y="4262400"/>
            <a:ext cx="231840" cy="157320"/>
          </a:xfrm>
          <a:prstGeom prst="rect">
            <a:avLst/>
          </a:prstGeom>
          <a:solidFill>
            <a:srgbClr val="99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1027080" y="4202280"/>
            <a:ext cx="0" cy="633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1014480" y="4335480"/>
            <a:ext cx="2844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914400" y="4567320"/>
            <a:ext cx="231840" cy="156960"/>
          </a:xfrm>
          <a:prstGeom prst="rect">
            <a:avLst/>
          </a:prstGeom>
          <a:solidFill>
            <a:srgbClr val="99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1219320" y="4524480"/>
            <a:ext cx="2133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x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8.8cm Flak 36 Antiaircraft Gu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 flipV="1">
            <a:off x="914400" y="4571640"/>
            <a:ext cx="1144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28880" y="4565520"/>
            <a:ext cx="114120" cy="154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961920" y="465624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914400" y="4795920"/>
            <a:ext cx="231840" cy="156960"/>
          </a:xfrm>
          <a:prstGeom prst="rect">
            <a:avLst/>
          </a:prstGeom>
          <a:solidFill>
            <a:srgbClr val="99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942840" y="4732200"/>
            <a:ext cx="0" cy="68400"/>
          </a:xfrm>
          <a:prstGeom prst="line">
            <a:avLst/>
          </a:prstGeom>
          <a:ln w="158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1098720" y="4962600"/>
            <a:ext cx="2664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922320" y="4962600"/>
            <a:ext cx="2700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1219320" y="4753080"/>
            <a:ext cx="19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x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dKfz 7 Heavy Prime Mo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3354480" y="4776120"/>
            <a:ext cx="537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AK-2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3354480" y="4547520"/>
            <a:ext cx="537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AK-4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685800" y="3429000"/>
            <a:ext cx="0" cy="1219320"/>
          </a:xfrm>
          <a:prstGeom prst="line">
            <a:avLst/>
          </a:prstGeom>
          <a:ln cap="rnd" w="15840">
            <a:solidFill>
              <a:srgbClr val="99cc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685800" y="4038480"/>
            <a:ext cx="223920" cy="0"/>
          </a:xfrm>
          <a:prstGeom prst="line">
            <a:avLst/>
          </a:prstGeom>
          <a:ln cap="rnd" w="15840">
            <a:solidFill>
              <a:srgbClr val="99cc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693720" y="4624560"/>
            <a:ext cx="223920" cy="0"/>
          </a:xfrm>
          <a:prstGeom prst="line">
            <a:avLst/>
          </a:prstGeom>
          <a:ln cap="rnd" w="15840">
            <a:solidFill>
              <a:srgbClr val="99cc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701640" y="4343400"/>
            <a:ext cx="223920" cy="0"/>
          </a:xfrm>
          <a:prstGeom prst="line">
            <a:avLst/>
          </a:prstGeom>
          <a:ln cap="rnd" w="15840">
            <a:solidFill>
              <a:srgbClr val="99cc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3886200" y="129528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neuver Element Detai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4467240" y="6391440"/>
            <a:ext cx="0" cy="142560"/>
          </a:xfrm>
          <a:prstGeom prst="line">
            <a:avLst/>
          </a:prstGeom>
          <a:ln w="158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4724280" y="6192720"/>
            <a:ext cx="144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x1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ward Obser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4724280" y="6710400"/>
            <a:ext cx="1905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99cc00"/>
                </a:solidFill>
                <a:latin typeface="Arial"/>
              </a:rPr>
              <a:t>Off-board Direct Fire Suppor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3995640" y="5872320"/>
            <a:ext cx="231840" cy="156960"/>
          </a:xfrm>
          <a:prstGeom prst="rect">
            <a:avLst/>
          </a:prstGeom>
          <a:solidFill>
            <a:srgbClr val="99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4114800" y="6043680"/>
            <a:ext cx="0" cy="911160"/>
          </a:xfrm>
          <a:prstGeom prst="line">
            <a:avLst/>
          </a:prstGeom>
          <a:ln w="158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724280" y="6842160"/>
            <a:ext cx="2362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x2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.5cm Light Field Howitzer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DAK-4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4108320" y="5811840"/>
            <a:ext cx="0" cy="633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4724280" y="6056280"/>
            <a:ext cx="1524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99cc00"/>
                </a:solidFill>
                <a:latin typeface="Arial"/>
              </a:rPr>
              <a:t>On-board Attach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4095720" y="5945040"/>
            <a:ext cx="2844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419720" y="6873840"/>
            <a:ext cx="239760" cy="157320"/>
          </a:xfrm>
          <a:prstGeom prst="rect">
            <a:avLst/>
          </a:prstGeom>
          <a:solidFill>
            <a:srgbClr val="99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4114800" y="6303960"/>
            <a:ext cx="299880" cy="1440"/>
          </a:xfrm>
          <a:prstGeom prst="line">
            <a:avLst/>
          </a:prstGeom>
          <a:ln w="158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14800" y="6953400"/>
            <a:ext cx="299880" cy="1440"/>
          </a:xfrm>
          <a:prstGeom prst="line">
            <a:avLst/>
          </a:prstGeom>
          <a:ln w="158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4419720" y="6234120"/>
            <a:ext cx="239760" cy="157320"/>
          </a:xfrm>
          <a:prstGeom prst="rect">
            <a:avLst/>
          </a:prstGeom>
          <a:solidFill>
            <a:srgbClr val="99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4724280" y="649764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x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Horsch Field C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4419720" y="6535800"/>
            <a:ext cx="231480" cy="156960"/>
          </a:xfrm>
          <a:prstGeom prst="rect">
            <a:avLst/>
          </a:prstGeom>
          <a:solidFill>
            <a:srgbClr val="99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4430880" y="6699240"/>
            <a:ext cx="2700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4611600" y="6699240"/>
            <a:ext cx="2880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3" name=""/>
          <p:cNvGrpSpPr/>
          <p:nvPr/>
        </p:nvGrpSpPr>
        <p:grpSpPr>
          <a:xfrm>
            <a:off x="4495680" y="6802560"/>
            <a:ext cx="74520" cy="28080"/>
            <a:chOff x="4495680" y="6802560"/>
            <a:chExt cx="74520" cy="28080"/>
          </a:xfrm>
        </p:grpSpPr>
        <p:sp>
          <p:nvSpPr>
            <p:cNvPr id="694" name=""/>
            <p:cNvSpPr/>
            <p:nvPr/>
          </p:nvSpPr>
          <p:spPr>
            <a:xfrm>
              <a:off x="4495680" y="6802560"/>
              <a:ext cx="28440" cy="26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360" bIns="-27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4543200" y="6804000"/>
              <a:ext cx="27000" cy="26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360" bIns="-27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6" name=""/>
          <p:cNvSpPr/>
          <p:nvPr/>
        </p:nvSpPr>
        <p:spPr>
          <a:xfrm>
            <a:off x="4724280" y="635328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99cc00"/>
                </a:solidFill>
                <a:latin typeface="Arial"/>
              </a:rPr>
              <a:t>Transpor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4527720" y="6935760"/>
            <a:ext cx="2844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4519440" y="6485040"/>
            <a:ext cx="2880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4387680" y="6207120"/>
            <a:ext cx="381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4519440" y="6181560"/>
            <a:ext cx="2880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4343400" y="5843520"/>
            <a:ext cx="1523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ght Artillery Batte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6554880" y="6185880"/>
            <a:ext cx="537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AK-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6554880" y="6490800"/>
            <a:ext cx="537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AK-3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9T19:18:07Z</dcterms:created>
  <dc:creator>James Baker</dc:creator>
  <dc:description/>
  <dc:language>en-US</dc:language>
  <cp:lastModifiedBy>James Baker</cp:lastModifiedBy>
  <cp:lastPrinted>2003-06-22T19:05:49Z</cp:lastPrinted>
  <dcterms:modified xsi:type="dcterms:W3CDTF">2005-02-12T12:09:50Z</dcterms:modified>
  <cp:revision>50</cp:revision>
  <dc:subject/>
  <dc:title>PowerPoint Presentation</dc:title>
</cp:coreProperties>
</file>