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315200" cy="963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88BD-3079-460C-8291-9F3442AB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580464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0C2-7262-4FB0-B907-D07C10B8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464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4B9-90A3-48A1-A58F-296D6ECD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140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5344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140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5344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00A-34F6-4862-B6D2-4DD1F5D0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349-1D3A-4EEE-B3D9-BFE2CC02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171-F565-4BB7-8421-E74DB051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428-4491-42CC-AD8A-79F6E6EF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B051-F0CD-4130-A9C2-445AA4BB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857160"/>
            <a:ext cx="6216480" cy="74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FD80-A68E-48B3-9775-A4615250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214-B3F3-475B-9F94-D7EE8185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464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127-C153-486E-B144-B9A182D5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19D-B9D2-4BB3-82CA-3B6083E4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000" y="8780400"/>
            <a:ext cx="1523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780400"/>
            <a:ext cx="23176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780400"/>
            <a:ext cx="1523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CA81-2AD8-4E05-8561-C5098E631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61880"/>
            <a:ext cx="6629400" cy="494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alian Tables of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 Sonnenblume” March/April 194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373392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euver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323120" y="1959120"/>
          <a:ext cx="5608800" cy="37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23120" y="1959120"/>
                    <a:ext cx="560880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" name=""/>
          <p:cNvGrpSpPr/>
          <p:nvPr/>
        </p:nvGrpSpPr>
        <p:grpSpPr>
          <a:xfrm>
            <a:off x="3962520" y="4146480"/>
            <a:ext cx="2971800" cy="1364040"/>
            <a:chOff x="3962520" y="4146480"/>
            <a:chExt cx="2971800" cy="1364040"/>
          </a:xfrm>
        </p:grpSpPr>
        <p:sp>
          <p:nvSpPr>
            <p:cNvPr id="46" name=""/>
            <p:cNvSpPr/>
            <p:nvPr/>
          </p:nvSpPr>
          <p:spPr>
            <a:xfrm>
              <a:off x="4648320" y="4401720"/>
              <a:ext cx="21333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Comm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3/35 Tanket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62520" y="4213080"/>
              <a:ext cx="239760" cy="156960"/>
              <a:chOff x="3962520" y="4213080"/>
              <a:chExt cx="239760" cy="156960"/>
            </a:xfrm>
          </p:grpSpPr>
          <p:sp>
            <p:nvSpPr>
              <p:cNvPr id="48" name=""/>
              <p:cNvSpPr/>
              <p:nvPr/>
            </p:nvSpPr>
            <p:spPr>
              <a:xfrm>
                <a:off x="3962520" y="4213080"/>
                <a:ext cx="23976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006440" y="4252320"/>
                <a:ext cx="151560" cy="748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4038480" y="4379760"/>
              <a:ext cx="0" cy="83664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38480" y="4606560"/>
              <a:ext cx="304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67080" y="4149360"/>
              <a:ext cx="152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ght Tank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48320" y="5124240"/>
              <a:ext cx="19810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3/35lf Flamethrower T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4343400" y="4530600"/>
              <a:ext cx="239760" cy="156960"/>
              <a:chOff x="4343400" y="4530600"/>
              <a:chExt cx="239760" cy="156960"/>
            </a:xfrm>
          </p:grpSpPr>
          <p:sp>
            <p:nvSpPr>
              <p:cNvPr id="55" name=""/>
              <p:cNvSpPr/>
              <p:nvPr/>
            </p:nvSpPr>
            <p:spPr>
              <a:xfrm>
                <a:off x="4343400" y="4530600"/>
                <a:ext cx="23976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87320" y="4569840"/>
                <a:ext cx="151560" cy="748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4648320" y="4835160"/>
              <a:ext cx="13716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3/35 Tanket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83120" y="41464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43400" y="4822560"/>
              <a:ext cx="23976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87680" y="4862160"/>
              <a:ext cx="150840" cy="748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4435560" y="4767120"/>
              <a:ext cx="74520" cy="28080"/>
              <a:chOff x="4435560" y="4767120"/>
              <a:chExt cx="74520" cy="28080"/>
            </a:xfrm>
          </p:grpSpPr>
          <p:sp>
            <p:nvSpPr>
              <p:cNvPr id="62" name=""/>
              <p:cNvSpPr/>
              <p:nvPr/>
            </p:nvSpPr>
            <p:spPr>
              <a:xfrm>
                <a:off x="4435560" y="47671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483080" y="47685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4038480" y="4911480"/>
              <a:ext cx="304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51400" y="44733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4038480" y="5079600"/>
              <a:ext cx="544680" cy="212400"/>
              <a:chOff x="4038480" y="5079600"/>
              <a:chExt cx="544680" cy="212400"/>
            </a:xfrm>
          </p:grpSpPr>
          <p:sp>
            <p:nvSpPr>
              <p:cNvPr id="67" name=""/>
              <p:cNvSpPr/>
              <p:nvPr/>
            </p:nvSpPr>
            <p:spPr>
              <a:xfrm>
                <a:off x="4038480" y="5216040"/>
                <a:ext cx="30492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343400" y="5135040"/>
                <a:ext cx="239760" cy="156960"/>
                <a:chOff x="4343400" y="5135040"/>
                <a:chExt cx="239760" cy="1569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343400" y="5135040"/>
                  <a:ext cx="239760" cy="15696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380120" y="5174640"/>
                  <a:ext cx="169920" cy="745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465800" y="5211000"/>
                  <a:ext cx="0" cy="7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flipV="1">
                  <a:off x="4465800" y="5142600"/>
                  <a:ext cx="47520" cy="5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 flipV="1">
                  <a:off x="4426200" y="5142600"/>
                  <a:ext cx="39600" cy="5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35560" y="5079600"/>
                <a:ext cx="74520" cy="28080"/>
                <a:chOff x="4435560" y="5079600"/>
                <a:chExt cx="74520" cy="280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35560" y="50796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483080" y="50810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" name=""/>
            <p:cNvSpPr/>
            <p:nvPr/>
          </p:nvSpPr>
          <p:spPr>
            <a:xfrm>
              <a:off x="6477120" y="453384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77120" y="482400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77120" y="514332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962520" y="6972480"/>
            <a:ext cx="2982960" cy="876600"/>
            <a:chOff x="3962520" y="6972480"/>
            <a:chExt cx="2982960" cy="876600"/>
          </a:xfrm>
        </p:grpSpPr>
        <p:grpSp>
          <p:nvGrpSpPr>
            <p:cNvPr id="81" name=""/>
            <p:cNvGrpSpPr/>
            <p:nvPr/>
          </p:nvGrpSpPr>
          <p:grpSpPr>
            <a:xfrm>
              <a:off x="3962520" y="6972480"/>
              <a:ext cx="2297160" cy="863640"/>
              <a:chOff x="3962520" y="6972480"/>
              <a:chExt cx="2297160" cy="863640"/>
            </a:xfrm>
          </p:grpSpPr>
          <p:sp>
            <p:nvSpPr>
              <p:cNvPr id="82" name=""/>
              <p:cNvSpPr/>
              <p:nvPr/>
            </p:nvSpPr>
            <p:spPr>
              <a:xfrm>
                <a:off x="3962520" y="7048800"/>
                <a:ext cx="23976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06800" y="7088400"/>
                <a:ext cx="150840" cy="74520"/>
              </a:xfrm>
              <a:prstGeom prst="ellipse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4442040" y="7277400"/>
                <a:ext cx="74520" cy="28080"/>
                <a:chOff x="4442040" y="7277400"/>
                <a:chExt cx="74520" cy="280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4442040" y="72774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489560" y="72788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>
                <a:off x="4354560" y="7348680"/>
                <a:ext cx="239760" cy="15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98840" y="7388280"/>
                <a:ext cx="150840" cy="74880"/>
              </a:xfrm>
              <a:prstGeom prst="ellipse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4442040" y="7581960"/>
                <a:ext cx="74520" cy="28800"/>
                <a:chOff x="4442040" y="7581960"/>
                <a:chExt cx="74520" cy="2880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4442040" y="75819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489560" y="7583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354560" y="7653600"/>
                <a:ext cx="239760" cy="156960"/>
                <a:chOff x="4354560" y="7653600"/>
                <a:chExt cx="239760" cy="1569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354560" y="7653600"/>
                  <a:ext cx="239760" cy="15696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398480" y="7692840"/>
                  <a:ext cx="151560" cy="7488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4049640" y="7734600"/>
                <a:ext cx="30492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049640" y="7429680"/>
                <a:ext cx="30492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59480" y="7666200"/>
                <a:ext cx="16002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4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M13/40 Medium Ta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078440" y="69724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278240" y="6972480"/>
                <a:ext cx="1676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edium Tank Compan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49640" y="7218360"/>
                <a:ext cx="0" cy="51624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59480" y="7224840"/>
                <a:ext cx="1600200" cy="31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cc66"/>
                    </a:solidFill>
                    <a:latin typeface="Arial"/>
                  </a:rPr>
                  <a:t>Comman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M13/40 Medium Ta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488280" y="765792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88280" y="735336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33520" y="6324480"/>
            <a:ext cx="3252240" cy="2438280"/>
            <a:chOff x="533520" y="6324480"/>
            <a:chExt cx="3252240" cy="2438280"/>
          </a:xfrm>
        </p:grpSpPr>
        <p:grpSp>
          <p:nvGrpSpPr>
            <p:cNvPr id="105" name=""/>
            <p:cNvGrpSpPr/>
            <p:nvPr/>
          </p:nvGrpSpPr>
          <p:grpSpPr>
            <a:xfrm>
              <a:off x="990360" y="7615080"/>
              <a:ext cx="231480" cy="156960"/>
              <a:chOff x="990360" y="7615080"/>
              <a:chExt cx="231480" cy="156960"/>
            </a:xfrm>
          </p:grpSpPr>
          <p:sp>
            <p:nvSpPr>
              <p:cNvPr id="106" name=""/>
              <p:cNvSpPr/>
              <p:nvPr/>
            </p:nvSpPr>
            <p:spPr>
              <a:xfrm>
                <a:off x="990360" y="7615080"/>
                <a:ext cx="23148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023480" y="7656120"/>
                <a:ext cx="161640" cy="763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33520" y="6396120"/>
              <a:ext cx="533160" cy="3618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1440" y="6486480"/>
              <a:ext cx="340920" cy="1731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42640" y="6396120"/>
              <a:ext cx="2514240" cy="30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dium Tank Battal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95280" y="6835680"/>
              <a:ext cx="19807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Headquarters Ele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Fiat 508 C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13/40 Medium T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95280" y="7904160"/>
              <a:ext cx="190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Medium Tank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990360" y="7920000"/>
              <a:ext cx="239400" cy="157320"/>
              <a:chOff x="990360" y="7920000"/>
              <a:chExt cx="239400" cy="15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990360" y="7920000"/>
                <a:ext cx="239400" cy="15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34280" y="7959240"/>
                <a:ext cx="151200" cy="748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761760" y="6761160"/>
              <a:ext cx="0" cy="123516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7691400"/>
              <a:ext cx="22356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1760" y="7083360"/>
              <a:ext cx="22356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765000" y="6324480"/>
              <a:ext cx="75600" cy="63360"/>
              <a:chOff x="765000" y="6324480"/>
              <a:chExt cx="75600" cy="63360"/>
            </a:xfrm>
          </p:grpSpPr>
          <p:sp>
            <p:nvSpPr>
              <p:cNvPr id="120" name=""/>
              <p:cNvSpPr/>
              <p:nvPr/>
            </p:nvSpPr>
            <p:spPr>
              <a:xfrm>
                <a:off x="765000" y="63244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40600" y="63244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990360" y="7316640"/>
              <a:ext cx="23148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01520" y="74804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82600" y="748044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98360" y="726264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95280" y="7781760"/>
              <a:ext cx="1594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66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10960" y="78436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0360" y="7005600"/>
              <a:ext cx="23148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46080" y="6980400"/>
              <a:ext cx="380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98360" y="69534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1760" y="7996320"/>
              <a:ext cx="22356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99800" y="75628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42920" y="7175520"/>
              <a:ext cx="0" cy="14292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76360" y="7005600"/>
              <a:ext cx="45684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76360" y="7318440"/>
              <a:ext cx="45684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6360" y="7615080"/>
              <a:ext cx="45684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987120" y="8277120"/>
              <a:ext cx="231480" cy="209520"/>
              <a:chOff x="987120" y="8277120"/>
              <a:chExt cx="231480" cy="209520"/>
            </a:xfrm>
          </p:grpSpPr>
          <p:sp>
            <p:nvSpPr>
              <p:cNvPr id="138" name=""/>
              <p:cNvSpPr/>
              <p:nvPr/>
            </p:nvSpPr>
            <p:spPr>
              <a:xfrm>
                <a:off x="1055160" y="827712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87120" y="8329320"/>
                <a:ext cx="231480" cy="15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987120" y="8332200"/>
                <a:ext cx="1141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101240" y="8332560"/>
                <a:ext cx="11376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07360" y="82771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018800" y="8497800"/>
              <a:ext cx="0" cy="684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90360" y="8567640"/>
              <a:ext cx="231480" cy="195120"/>
              <a:chOff x="990360" y="8567640"/>
              <a:chExt cx="231480" cy="195120"/>
            </a:xfrm>
          </p:grpSpPr>
          <p:sp>
            <p:nvSpPr>
              <p:cNvPr id="145" name=""/>
              <p:cNvSpPr/>
              <p:nvPr/>
            </p:nvSpPr>
            <p:spPr>
              <a:xfrm>
                <a:off x="990360" y="8567640"/>
                <a:ext cx="23148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66400" y="87357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05840" y="87357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1295280" y="8290080"/>
              <a:ext cx="167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7mm Antitank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95280" y="8534520"/>
              <a:ext cx="190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TL 37 Light Prime Mo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76280" y="8321760"/>
              <a:ext cx="60948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76360" y="8534520"/>
              <a:ext cx="45684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1760" y="8381880"/>
              <a:ext cx="234720" cy="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95280" y="8167680"/>
              <a:ext cx="1142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66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1760" y="8001000"/>
              <a:ext cx="0" cy="380880"/>
            </a:xfrm>
            <a:prstGeom prst="line">
              <a:avLst/>
            </a:prstGeom>
            <a:ln cap="rnd" w="15840">
              <a:solidFill>
                <a:srgbClr val="ffcc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57200" y="3581280"/>
            <a:ext cx="3152880" cy="2590560"/>
            <a:chOff x="457200" y="3581280"/>
            <a:chExt cx="3152880" cy="2590560"/>
          </a:xfrm>
        </p:grpSpPr>
        <p:grpSp>
          <p:nvGrpSpPr>
            <p:cNvPr id="156" name=""/>
            <p:cNvGrpSpPr/>
            <p:nvPr/>
          </p:nvGrpSpPr>
          <p:grpSpPr>
            <a:xfrm>
              <a:off x="457200" y="3581280"/>
              <a:ext cx="3124440" cy="1962360"/>
              <a:chOff x="457200" y="3581280"/>
              <a:chExt cx="3124440" cy="1962360"/>
            </a:xfrm>
          </p:grpSpPr>
          <p:sp>
            <p:nvSpPr>
              <p:cNvPr id="157" name=""/>
              <p:cNvSpPr/>
              <p:nvPr/>
            </p:nvSpPr>
            <p:spPr>
              <a:xfrm>
                <a:off x="966960" y="4338360"/>
                <a:ext cx="0" cy="14292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914400" y="4775040"/>
                <a:ext cx="231840" cy="156960"/>
                <a:chOff x="914400" y="4775040"/>
                <a:chExt cx="231840" cy="1569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914400" y="4775040"/>
                  <a:ext cx="231840" cy="15696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947880" y="4816080"/>
                  <a:ext cx="162000" cy="763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1067040" y="3652560"/>
                <a:ext cx="2514600" cy="3070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ight Tank Battal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19320" y="4086000"/>
                <a:ext cx="213372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cc66"/>
                    </a:solidFill>
                    <a:latin typeface="Arial"/>
                  </a:rPr>
                  <a:t>Headquarters Element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mmand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cc66"/>
                    </a:solidFill>
                    <a:latin typeface="Arial"/>
                  </a:rPr>
                  <a:t>Transpor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Fiat 508 C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3/35 Tanket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L3/35lf Flamethrower Ta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19320" y="529740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ffcc66"/>
                    </a:solidFill>
                    <a:latin typeface="Arial"/>
                  </a:rPr>
                  <a:t>Light Tank Compan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914400" y="5329080"/>
                <a:ext cx="239760" cy="157320"/>
                <a:chOff x="914400" y="5329080"/>
                <a:chExt cx="239760" cy="1573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914400" y="5329080"/>
                  <a:ext cx="239760" cy="15732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958320" y="5368320"/>
                  <a:ext cx="151560" cy="7488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685800" y="4017960"/>
                <a:ext cx="0" cy="138744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5800" y="4856040"/>
                <a:ext cx="22392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5800" y="4262400"/>
                <a:ext cx="22392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689040" y="3581280"/>
                <a:ext cx="76320" cy="63360"/>
                <a:chOff x="689040" y="3581280"/>
                <a:chExt cx="76320" cy="633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89040" y="35812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65360" y="35812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914400" y="4485960"/>
                <a:ext cx="231840" cy="15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25560" y="46512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106640" y="4651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22400" y="443052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219320" y="5176800"/>
                <a:ext cx="1595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cc66"/>
                    </a:solidFill>
                    <a:latin typeface="Arial"/>
                  </a:rPr>
                  <a:t>MANEUVER ELE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35000" y="525276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914400" y="4186080"/>
                <a:ext cx="231840" cy="15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70120" y="4154400"/>
                <a:ext cx="380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022400" y="4133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85800" y="5405400"/>
                <a:ext cx="22392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24200" y="47196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914400" y="5024160"/>
                <a:ext cx="239760" cy="156960"/>
                <a:chOff x="914400" y="5024160"/>
                <a:chExt cx="239760" cy="1569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914400" y="5024160"/>
                  <a:ext cx="239760" cy="15696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51120" y="5063760"/>
                  <a:ext cx="169920" cy="745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036800" y="5100120"/>
                  <a:ext cx="0" cy="7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1036800" y="5031720"/>
                  <a:ext cx="47520" cy="5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 flipV="1">
                  <a:off x="997200" y="5031720"/>
                  <a:ext cx="39600" cy="5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685800" y="5100480"/>
                <a:ext cx="22392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998640" y="4971960"/>
                <a:ext cx="74520" cy="28080"/>
                <a:chOff x="998640" y="4971960"/>
                <a:chExt cx="74520" cy="280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998640" y="49719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046160" y="49734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57200" y="3652560"/>
                <a:ext cx="533160" cy="361800"/>
                <a:chOff x="457200" y="3652560"/>
                <a:chExt cx="533160" cy="3618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57200" y="3652560"/>
                  <a:ext cx="533160" cy="36180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55120" y="3743280"/>
                  <a:ext cx="342000" cy="17280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3124440" y="4795560"/>
                <a:ext cx="457200" cy="19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T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124440" y="4224240"/>
                <a:ext cx="457200" cy="19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T-2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124440" y="5024160"/>
                <a:ext cx="457200" cy="19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T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24440" y="4520880"/>
                <a:ext cx="457200" cy="19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T-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911520" y="5686200"/>
              <a:ext cx="231480" cy="209520"/>
              <a:chOff x="911520" y="5686200"/>
              <a:chExt cx="231480" cy="209520"/>
            </a:xfrm>
          </p:grpSpPr>
          <p:sp>
            <p:nvSpPr>
              <p:cNvPr id="202" name=""/>
              <p:cNvSpPr/>
              <p:nvPr/>
            </p:nvSpPr>
            <p:spPr>
              <a:xfrm>
                <a:off x="979560" y="568620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911520" y="5738400"/>
                <a:ext cx="231480" cy="15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911520" y="5741280"/>
                <a:ext cx="1141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25640" y="5741640"/>
                <a:ext cx="11376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31760" y="5686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943200" y="5906880"/>
              <a:ext cx="0" cy="684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914400" y="5976720"/>
              <a:ext cx="231840" cy="195120"/>
              <a:chOff x="914400" y="5976720"/>
              <a:chExt cx="231840" cy="195120"/>
            </a:xfrm>
          </p:grpSpPr>
          <p:sp>
            <p:nvSpPr>
              <p:cNvPr id="209" name=""/>
              <p:cNvSpPr/>
              <p:nvPr/>
            </p:nvSpPr>
            <p:spPr>
              <a:xfrm>
                <a:off x="914400" y="5976720"/>
                <a:ext cx="23184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090800" y="61448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30240" y="61448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1219320" y="569916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7mm Antitank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943600"/>
              <a:ext cx="190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TL 37 Light Prime Mo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00600" y="5730840"/>
              <a:ext cx="60948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24440" y="594360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5800" y="5790960"/>
              <a:ext cx="235080" cy="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19320" y="5562360"/>
              <a:ext cx="1143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66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5800" y="5410080"/>
              <a:ext cx="0" cy="380880"/>
            </a:xfrm>
            <a:prstGeom prst="line">
              <a:avLst/>
            </a:prstGeom>
            <a:ln cap="rnd" w="15840">
              <a:solidFill>
                <a:srgbClr val="ffcc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809880" y="65530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euver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33520" y="1523880"/>
            <a:ext cx="3047760" cy="1794240"/>
            <a:chOff x="533520" y="1523880"/>
            <a:chExt cx="3047760" cy="1794240"/>
          </a:xfrm>
        </p:grpSpPr>
        <p:sp>
          <p:nvSpPr>
            <p:cNvPr id="221" name=""/>
            <p:cNvSpPr/>
            <p:nvPr/>
          </p:nvSpPr>
          <p:spPr>
            <a:xfrm>
              <a:off x="1143000" y="1622520"/>
              <a:ext cx="2438280" cy="30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2nd Armored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egi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87360" y="2165400"/>
              <a:ext cx="152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I Light Tank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520" y="1603440"/>
              <a:ext cx="533160" cy="3618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120" y="2583000"/>
              <a:ext cx="22356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120" y="2278080"/>
              <a:ext cx="22356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4200" y="2887560"/>
              <a:ext cx="22356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725400" y="1523880"/>
              <a:ext cx="149400" cy="63360"/>
              <a:chOff x="725400" y="1523880"/>
              <a:chExt cx="149400" cy="6336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725400" y="1523880"/>
                <a:ext cx="76320" cy="63360"/>
                <a:chOff x="725400" y="1523880"/>
                <a:chExt cx="76320" cy="633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25400" y="1523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1720" y="1523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798480" y="1523880"/>
                <a:ext cx="76320" cy="63360"/>
                <a:chOff x="798480" y="1523880"/>
                <a:chExt cx="76320" cy="633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98480" y="1523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74800" y="1523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>
              <a:off x="1287360" y="245916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II Light Tank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87360" y="2763720"/>
              <a:ext cx="175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III Light Tank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320" y="1684440"/>
              <a:ext cx="341640" cy="1728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982800" y="2201760"/>
              <a:ext cx="239400" cy="157320"/>
              <a:chOff x="982800" y="2201760"/>
              <a:chExt cx="239400" cy="157320"/>
            </a:xfrm>
          </p:grpSpPr>
          <p:sp>
            <p:nvSpPr>
              <p:cNvPr id="238" name=""/>
              <p:cNvSpPr/>
              <p:nvPr/>
            </p:nvSpPr>
            <p:spPr>
              <a:xfrm>
                <a:off x="982800" y="2201760"/>
                <a:ext cx="239400" cy="15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026720" y="2241000"/>
                <a:ext cx="151200" cy="748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982800" y="3116160"/>
              <a:ext cx="239400" cy="157320"/>
              <a:chOff x="982800" y="3116160"/>
              <a:chExt cx="239400" cy="157320"/>
            </a:xfrm>
          </p:grpSpPr>
          <p:sp>
            <p:nvSpPr>
              <p:cNvPr id="241" name=""/>
              <p:cNvSpPr/>
              <p:nvPr/>
            </p:nvSpPr>
            <p:spPr>
              <a:xfrm>
                <a:off x="982800" y="3116160"/>
                <a:ext cx="239400" cy="15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026720" y="3155400"/>
                <a:ext cx="151200" cy="748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1287360" y="307188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VII Medium Tank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200" y="3192480"/>
              <a:ext cx="22356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982800" y="2506680"/>
              <a:ext cx="239400" cy="157320"/>
              <a:chOff x="982800" y="2506680"/>
              <a:chExt cx="239400" cy="157320"/>
            </a:xfrm>
          </p:grpSpPr>
          <p:sp>
            <p:nvSpPr>
              <p:cNvPr id="246" name=""/>
              <p:cNvSpPr/>
              <p:nvPr/>
            </p:nvSpPr>
            <p:spPr>
              <a:xfrm>
                <a:off x="982800" y="2506680"/>
                <a:ext cx="239400" cy="15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26720" y="2545920"/>
                <a:ext cx="151200" cy="748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982800" y="2811600"/>
              <a:ext cx="239400" cy="156960"/>
              <a:chOff x="982800" y="2811600"/>
              <a:chExt cx="239400" cy="156960"/>
            </a:xfrm>
          </p:grpSpPr>
          <p:sp>
            <p:nvSpPr>
              <p:cNvPr id="249" name=""/>
              <p:cNvSpPr/>
              <p:nvPr/>
            </p:nvSpPr>
            <p:spPr>
              <a:xfrm>
                <a:off x="982800" y="2811600"/>
                <a:ext cx="23940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26720" y="2850840"/>
                <a:ext cx="151200" cy="748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754200" y="1973160"/>
              <a:ext cx="0" cy="121932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090440" y="2133720"/>
              <a:ext cx="31680" cy="63360"/>
              <a:chOff x="1090440" y="2133720"/>
              <a:chExt cx="31680" cy="63360"/>
            </a:xfrm>
          </p:grpSpPr>
          <p:sp>
            <p:nvSpPr>
              <p:cNvPr id="253" name=""/>
              <p:cNvSpPr/>
              <p:nvPr/>
            </p:nvSpPr>
            <p:spPr>
              <a:xfrm>
                <a:off x="1090440" y="2133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122120" y="2133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1087560" y="2435400"/>
              <a:ext cx="31680" cy="63360"/>
              <a:chOff x="1087560" y="2435400"/>
              <a:chExt cx="31680" cy="63360"/>
            </a:xfrm>
          </p:grpSpPr>
          <p:sp>
            <p:nvSpPr>
              <p:cNvPr id="256" name=""/>
              <p:cNvSpPr/>
              <p:nvPr/>
            </p:nvSpPr>
            <p:spPr>
              <a:xfrm>
                <a:off x="1087560" y="2435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119240" y="2435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087560" y="2743200"/>
              <a:ext cx="31680" cy="63360"/>
              <a:chOff x="1087560" y="2743200"/>
              <a:chExt cx="31680" cy="63360"/>
            </a:xfrm>
          </p:grpSpPr>
          <p:sp>
            <p:nvSpPr>
              <p:cNvPr id="259" name=""/>
              <p:cNvSpPr/>
              <p:nvPr/>
            </p:nvSpPr>
            <p:spPr>
              <a:xfrm>
                <a:off x="1087560" y="2743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119240" y="2743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087560" y="3044880"/>
              <a:ext cx="31680" cy="63360"/>
              <a:chOff x="1087560" y="3044880"/>
              <a:chExt cx="31680" cy="63360"/>
            </a:xfrm>
          </p:grpSpPr>
          <p:sp>
            <p:nvSpPr>
              <p:cNvPr id="262" name=""/>
              <p:cNvSpPr/>
              <p:nvPr/>
            </p:nvSpPr>
            <p:spPr>
              <a:xfrm>
                <a:off x="1087560" y="3044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119240" y="3044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380880" y="3200400"/>
            <a:ext cx="3429000" cy="2103120"/>
            <a:chOff x="380880" y="3200400"/>
            <a:chExt cx="3429000" cy="2103120"/>
          </a:xfrm>
        </p:grpSpPr>
        <p:sp>
          <p:nvSpPr>
            <p:cNvPr id="265" name=""/>
            <p:cNvSpPr/>
            <p:nvPr/>
          </p:nvSpPr>
          <p:spPr>
            <a:xfrm>
              <a:off x="838080" y="4587840"/>
              <a:ext cx="23184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90720" y="3271680"/>
              <a:ext cx="2743200" cy="2764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rsaglieri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otociclisti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ttal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43000" y="3678120"/>
              <a:ext cx="24382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Headquarters Element [Experienced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Fiat 508 C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43000" y="4307040"/>
              <a:ext cx="251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Bersaglieri Motorcycl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43000" y="5087880"/>
              <a:ext cx="190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TL 37 Light Prime Mo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14400" y="5021280"/>
              <a:ext cx="0" cy="684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9480" y="3633840"/>
              <a:ext cx="0" cy="101448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8080" y="4325760"/>
              <a:ext cx="23976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846000" y="431964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49240" y="4335480"/>
              <a:ext cx="24120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14400" y="3962520"/>
              <a:ext cx="0" cy="6804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0880" y="3271680"/>
              <a:ext cx="533520" cy="3621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43000" y="483696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7/32 Antitank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7400" y="492912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9480" y="441972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9480" y="388620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57240" y="42670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612720" y="3200400"/>
              <a:ext cx="76320" cy="63360"/>
              <a:chOff x="612720" y="3200400"/>
              <a:chExt cx="76320" cy="63360"/>
            </a:xfrm>
          </p:grpSpPr>
          <p:sp>
            <p:nvSpPr>
              <p:cNvPr id="283" name=""/>
              <p:cNvSpPr/>
              <p:nvPr/>
            </p:nvSpPr>
            <p:spPr>
              <a:xfrm>
                <a:off x="612720" y="3200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9040" y="3200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09480" y="4648320"/>
              <a:ext cx="0" cy="30456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8080" y="3809880"/>
              <a:ext cx="23184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80880" y="3260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8800" y="326880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43000" y="4183200"/>
              <a:ext cx="1600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66"/>
                  </a:solidFill>
                  <a:latin typeface="Arial"/>
                </a:rPr>
                <a:t>MANEUVER ELEMENTS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43000" y="4724280"/>
              <a:ext cx="121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66"/>
                  </a:solidFill>
                  <a:latin typeface="Arial"/>
                </a:rPr>
                <a:t>ATTACHMENTS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8080" y="4022640"/>
              <a:ext cx="23184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22400" y="41911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3920" y="41911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838080" y="5089680"/>
              <a:ext cx="231840" cy="195120"/>
              <a:chOff x="838080" y="5089680"/>
              <a:chExt cx="231840" cy="195120"/>
            </a:xfrm>
          </p:grpSpPr>
          <p:sp>
            <p:nvSpPr>
              <p:cNvPr id="295" name=""/>
              <p:cNvSpPr/>
              <p:nvPr/>
            </p:nvSpPr>
            <p:spPr>
              <a:xfrm>
                <a:off x="838080" y="5089680"/>
                <a:ext cx="23184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14480" y="5257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53920" y="5257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838080" y="4800600"/>
              <a:ext cx="231840" cy="209520"/>
              <a:chOff x="838080" y="4800600"/>
              <a:chExt cx="231840" cy="209520"/>
            </a:xfrm>
          </p:grpSpPr>
          <p:sp>
            <p:nvSpPr>
              <p:cNvPr id="299" name=""/>
              <p:cNvSpPr/>
              <p:nvPr/>
            </p:nvSpPr>
            <p:spPr>
              <a:xfrm>
                <a:off x="906480" y="48006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38080" y="4852800"/>
                <a:ext cx="231840" cy="15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838080" y="4855680"/>
                <a:ext cx="114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952560" y="4856040"/>
                <a:ext cx="11412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958680" y="48006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793800" y="3786120"/>
              <a:ext cx="380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43000" y="4535640"/>
              <a:ext cx="213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 Motorcycle Scout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838080" y="4576320"/>
              <a:ext cx="23652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7400" y="466416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19160" y="47005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895320" y="4535640"/>
              <a:ext cx="118800" cy="28080"/>
              <a:chOff x="895320" y="4535640"/>
              <a:chExt cx="118800" cy="28080"/>
            </a:xfrm>
          </p:grpSpPr>
          <p:sp>
            <p:nvSpPr>
              <p:cNvPr id="310" name=""/>
              <p:cNvSpPr/>
              <p:nvPr/>
            </p:nvSpPr>
            <p:spPr>
              <a:xfrm>
                <a:off x="987120" y="45356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895320" y="4535640"/>
                <a:ext cx="74520" cy="28080"/>
                <a:chOff x="895320" y="4535640"/>
                <a:chExt cx="74520" cy="280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895320" y="45356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942840" y="45370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" name=""/>
            <p:cNvSpPr/>
            <p:nvPr/>
          </p:nvSpPr>
          <p:spPr>
            <a:xfrm>
              <a:off x="969840" y="47005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38160" y="37656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6960" y="35449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3800" y="35449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2680" y="384804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52680" y="400068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52680" y="488484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52680" y="510552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80880" y="5594400"/>
            <a:ext cx="3436920" cy="2103120"/>
            <a:chOff x="380880" y="5594400"/>
            <a:chExt cx="3436920" cy="2103120"/>
          </a:xfrm>
        </p:grpSpPr>
        <p:sp>
          <p:nvSpPr>
            <p:cNvPr id="323" name=""/>
            <p:cNvSpPr/>
            <p:nvPr/>
          </p:nvSpPr>
          <p:spPr>
            <a:xfrm>
              <a:off x="846000" y="6981840"/>
              <a:ext cx="23184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98280" y="5665680"/>
              <a:ext cx="2743200" cy="2764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rsaglieri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otransportatio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50920" y="6072120"/>
              <a:ext cx="24382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Headquarters Element [Experienced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Fiat 508 C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150920" y="6701040"/>
              <a:ext cx="205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Bersaglieri Rifl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50920" y="7481880"/>
              <a:ext cx="175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TL 37 Light Prime Mo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22320" y="7415280"/>
              <a:ext cx="0" cy="684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7400" y="6027840"/>
              <a:ext cx="0" cy="101448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46000" y="6719760"/>
              <a:ext cx="23976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853920" y="671364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57160" y="6729480"/>
              <a:ext cx="24120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22320" y="6356520"/>
              <a:ext cx="0" cy="6804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8800" y="5665680"/>
              <a:ext cx="533520" cy="3621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50920" y="7230960"/>
              <a:ext cx="144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7/32 Antitank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5320" y="732312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7400" y="681372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7400" y="628020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65160" y="66610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620640" y="5594400"/>
              <a:ext cx="75960" cy="63360"/>
              <a:chOff x="620640" y="5594400"/>
              <a:chExt cx="75960" cy="63360"/>
            </a:xfrm>
          </p:grpSpPr>
          <p:sp>
            <p:nvSpPr>
              <p:cNvPr id="341" name=""/>
              <p:cNvSpPr/>
              <p:nvPr/>
            </p:nvSpPr>
            <p:spPr>
              <a:xfrm>
                <a:off x="620640" y="5594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6600" y="5594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17400" y="7042320"/>
              <a:ext cx="0" cy="30456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46000" y="6203880"/>
              <a:ext cx="23184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80880" y="56548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6720" y="566280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150920" y="6577200"/>
              <a:ext cx="1447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66"/>
                  </a:solidFill>
                  <a:latin typeface="Arial"/>
                </a:rPr>
                <a:t>MANEUVER ELEMENTS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50920" y="7118280"/>
              <a:ext cx="121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66"/>
                  </a:solidFill>
                  <a:latin typeface="Arial"/>
                </a:rPr>
                <a:t>ATTACHMENTS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14400" y="71946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6000" y="7483680"/>
              <a:ext cx="231840" cy="156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6000" y="6416640"/>
              <a:ext cx="23184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46000" y="7247160"/>
              <a:ext cx="231840" cy="156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846000" y="7250040"/>
              <a:ext cx="114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60480" y="7250040"/>
              <a:ext cx="11412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30320" y="65851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61840" y="65851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22040" y="76518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61840" y="76518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66600" y="71946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1720" y="6180120"/>
              <a:ext cx="380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50920" y="692964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 Motorcycle Scout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846000" y="6970320"/>
              <a:ext cx="23652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5320" y="705816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27080" y="70945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903240" y="6929640"/>
              <a:ext cx="118800" cy="28080"/>
              <a:chOff x="903240" y="6929640"/>
              <a:chExt cx="118800" cy="28080"/>
            </a:xfrm>
          </p:grpSpPr>
          <p:sp>
            <p:nvSpPr>
              <p:cNvPr id="366" name=""/>
              <p:cNvSpPr/>
              <p:nvPr/>
            </p:nvSpPr>
            <p:spPr>
              <a:xfrm>
                <a:off x="995040" y="69296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903240" y="6929640"/>
                <a:ext cx="74520" cy="28080"/>
                <a:chOff x="903240" y="6929640"/>
                <a:chExt cx="74520" cy="280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903240" y="69296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950760" y="69310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0" name=""/>
            <p:cNvSpPr/>
            <p:nvPr/>
          </p:nvSpPr>
          <p:spPr>
            <a:xfrm>
              <a:off x="977760" y="70945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46080" y="61596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6720" y="6035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0160" y="6035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60600" y="624204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60600" y="641052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60600" y="749952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60600" y="727092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114800" y="7543800"/>
            <a:ext cx="2971800" cy="1449720"/>
            <a:chOff x="4114800" y="7543800"/>
            <a:chExt cx="2971800" cy="1449720"/>
          </a:xfrm>
        </p:grpSpPr>
        <p:sp>
          <p:nvSpPr>
            <p:cNvPr id="379" name=""/>
            <p:cNvSpPr/>
            <p:nvPr/>
          </p:nvSpPr>
          <p:spPr>
            <a:xfrm>
              <a:off x="4724280" y="813420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torcyc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24280" y="84232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ersaglier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24280" y="87472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torcyc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781200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39960" y="8616960"/>
              <a:ext cx="0" cy="1332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43200" y="8012160"/>
              <a:ext cx="0" cy="1332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7615080"/>
              <a:ext cx="23148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43400" y="7543800"/>
              <a:ext cx="175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torcycle Scout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90760" y="7783560"/>
              <a:ext cx="0" cy="75096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95760" y="78040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7120" y="8458200"/>
              <a:ext cx="23976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497120" y="8457840"/>
              <a:ext cx="23652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90760" y="7924680"/>
              <a:ext cx="300240" cy="18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90760" y="8534520"/>
              <a:ext cx="300240" cy="144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24280" y="7696080"/>
              <a:ext cx="990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Comm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114800" y="7614720"/>
              <a:ext cx="23652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4495680" y="7848720"/>
              <a:ext cx="231840" cy="156960"/>
              <a:chOff x="4495680" y="7848720"/>
              <a:chExt cx="231840" cy="156960"/>
            </a:xfrm>
          </p:grpSpPr>
          <p:sp>
            <p:nvSpPr>
              <p:cNvPr id="396" name=""/>
              <p:cNvSpPr/>
              <p:nvPr/>
            </p:nvSpPr>
            <p:spPr>
              <a:xfrm>
                <a:off x="4495680" y="7848720"/>
                <a:ext cx="23184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519440" y="7870680"/>
                <a:ext cx="184320" cy="1105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4724280" y="801216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24280" y="860256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4243320" y="7726320"/>
              <a:ext cx="74520" cy="28080"/>
              <a:chOff x="4243320" y="7726320"/>
              <a:chExt cx="74520" cy="28080"/>
            </a:xfrm>
          </p:grpSpPr>
          <p:sp>
            <p:nvSpPr>
              <p:cNvPr id="401" name=""/>
              <p:cNvSpPr/>
              <p:nvPr/>
            </p:nvSpPr>
            <p:spPr>
              <a:xfrm>
                <a:off x="4243320" y="77263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290840" y="77277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4511520" y="8466120"/>
              <a:ext cx="22716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572000" y="8397720"/>
              <a:ext cx="74520" cy="28800"/>
              <a:chOff x="4572000" y="8397720"/>
              <a:chExt cx="74520" cy="28800"/>
            </a:xfrm>
          </p:grpSpPr>
          <p:sp>
            <p:nvSpPr>
              <p:cNvPr id="405" name=""/>
              <p:cNvSpPr/>
              <p:nvPr/>
            </p:nvSpPr>
            <p:spPr>
              <a:xfrm>
                <a:off x="4572000" y="83977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619520" y="8399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4216320" y="7543800"/>
              <a:ext cx="74520" cy="28080"/>
              <a:chOff x="4216320" y="7543800"/>
              <a:chExt cx="74520" cy="28080"/>
            </a:xfrm>
          </p:grpSpPr>
          <p:sp>
            <p:nvSpPr>
              <p:cNvPr id="408" name=""/>
              <p:cNvSpPr/>
              <p:nvPr/>
            </p:nvSpPr>
            <p:spPr>
              <a:xfrm>
                <a:off x="4216320" y="75438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3840" y="75452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4163760" y="7543800"/>
              <a:ext cx="74520" cy="28080"/>
              <a:chOff x="4163760" y="7543800"/>
              <a:chExt cx="74520" cy="28080"/>
            </a:xfrm>
          </p:grpSpPr>
          <p:sp>
            <p:nvSpPr>
              <p:cNvPr id="411" name=""/>
              <p:cNvSpPr/>
              <p:nvPr/>
            </p:nvSpPr>
            <p:spPr>
              <a:xfrm>
                <a:off x="4163760" y="75438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211280" y="75452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497120" y="8686800"/>
              <a:ext cx="239760" cy="212760"/>
              <a:chOff x="4497120" y="8686800"/>
              <a:chExt cx="239760" cy="21276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4572000" y="8686800"/>
                <a:ext cx="74520" cy="28080"/>
                <a:chOff x="4572000" y="8686800"/>
                <a:chExt cx="74520" cy="2808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4572000" y="86868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619520" y="86882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7" name=""/>
              <p:cNvSpPr/>
              <p:nvPr/>
            </p:nvSpPr>
            <p:spPr>
              <a:xfrm>
                <a:off x="4497120" y="8742240"/>
                <a:ext cx="239760" cy="15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87920" y="88549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635360" y="88549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484520" y="8093160"/>
              <a:ext cx="239760" cy="212760"/>
              <a:chOff x="4484520" y="8093160"/>
              <a:chExt cx="239760" cy="21276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4559400" y="8093160"/>
                <a:ext cx="74520" cy="28080"/>
                <a:chOff x="4559400" y="8093160"/>
                <a:chExt cx="74520" cy="280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4559400" y="80931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606920" y="80946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4" name=""/>
              <p:cNvSpPr/>
              <p:nvPr/>
            </p:nvSpPr>
            <p:spPr>
              <a:xfrm>
                <a:off x="4484520" y="8148600"/>
                <a:ext cx="239760" cy="15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675320" y="82612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622760" y="82612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6629400" y="819144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785664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847404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29400" y="879300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80880" y="385920"/>
            <a:ext cx="6629400" cy="494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alian Tables of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 Sonnenblume” March/April 194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33920" y="13716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euver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33920" y="437364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euver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809880" y="1676520"/>
            <a:ext cx="3313080" cy="2584440"/>
            <a:chOff x="3809880" y="1676520"/>
            <a:chExt cx="3313080" cy="2584440"/>
          </a:xfrm>
        </p:grpSpPr>
        <p:sp>
          <p:nvSpPr>
            <p:cNvPr id="435" name=""/>
            <p:cNvSpPr/>
            <p:nvPr/>
          </p:nvSpPr>
          <p:spPr>
            <a:xfrm>
              <a:off x="4127400" y="2227320"/>
              <a:ext cx="0" cy="7632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87680" y="2849760"/>
              <a:ext cx="144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8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otorcyc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87680" y="20275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35320" y="2468880"/>
              <a:ext cx="0" cy="7596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87680" y="2264040"/>
              <a:ext cx="213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20mm Solothurn Antitank Rif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87680" y="250848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6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Bersaglier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387680" y="3483360"/>
              <a:ext cx="152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AS 37 Light Tru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87680" y="190188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Comm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83120" y="1698840"/>
              <a:ext cx="2165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rsaglieri Motorcycl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87680" y="272124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4097160" y="2063880"/>
              <a:ext cx="231840" cy="157320"/>
              <a:chOff x="4097160" y="2063880"/>
              <a:chExt cx="231840" cy="157320"/>
            </a:xfrm>
          </p:grpSpPr>
          <p:sp>
            <p:nvSpPr>
              <p:cNvPr id="446" name=""/>
              <p:cNvSpPr/>
              <p:nvPr/>
            </p:nvSpPr>
            <p:spPr>
              <a:xfrm>
                <a:off x="4097160" y="2063880"/>
                <a:ext cx="231840" cy="15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120920" y="2086200"/>
                <a:ext cx="184320" cy="1108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4206960" y="20210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98960" y="3494160"/>
              <a:ext cx="23184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19600" y="19162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06800" y="19148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11680" y="1748160"/>
              <a:ext cx="231840" cy="156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30480" y="167652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09880" y="1754280"/>
              <a:ext cx="24156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3813120" y="1743480"/>
              <a:ext cx="2304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4098960" y="2552760"/>
              <a:ext cx="247680" cy="166680"/>
              <a:chOff x="4098960" y="2552760"/>
              <a:chExt cx="247680" cy="166680"/>
            </a:xfrm>
          </p:grpSpPr>
          <p:sp>
            <p:nvSpPr>
              <p:cNvPr id="457" name=""/>
              <p:cNvSpPr/>
              <p:nvPr/>
            </p:nvSpPr>
            <p:spPr>
              <a:xfrm>
                <a:off x="4098960" y="2552760"/>
                <a:ext cx="231840" cy="16524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105440" y="2565360"/>
                <a:ext cx="24120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4102200" y="2557440"/>
                <a:ext cx="23004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4135320" y="2729160"/>
              <a:ext cx="0" cy="14292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87680" y="334656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06880" y="2303640"/>
              <a:ext cx="23184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4221000" y="2306520"/>
              <a:ext cx="114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10120" y="2311560"/>
              <a:ext cx="11412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4184640" y="2257560"/>
              <a:ext cx="74520" cy="28800"/>
              <a:chOff x="4184640" y="2257560"/>
              <a:chExt cx="74520" cy="28800"/>
            </a:xfrm>
          </p:grpSpPr>
          <p:sp>
            <p:nvSpPr>
              <p:cNvPr id="466" name=""/>
              <p:cNvSpPr/>
              <p:nvPr/>
            </p:nvSpPr>
            <p:spPr>
              <a:xfrm>
                <a:off x="4184640" y="22575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232160" y="22593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4118040" y="36594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290840" y="36608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87680" y="3042000"/>
              <a:ext cx="1067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66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13240" y="3146760"/>
              <a:ext cx="206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eda Medium Machine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08320" y="3178440"/>
              <a:ext cx="243000" cy="152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116240" y="3181680"/>
              <a:ext cx="23976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4191120" y="3117960"/>
              <a:ext cx="78840" cy="28800"/>
              <a:chOff x="4191120" y="3117960"/>
              <a:chExt cx="78840" cy="28800"/>
            </a:xfrm>
          </p:grpSpPr>
          <p:sp>
            <p:nvSpPr>
              <p:cNvPr id="475" name=""/>
              <p:cNvSpPr/>
              <p:nvPr/>
            </p:nvSpPr>
            <p:spPr>
              <a:xfrm>
                <a:off x="4191120" y="3117960"/>
                <a:ext cx="298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241520" y="3119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108320" y="3179880"/>
              <a:ext cx="59040" cy="150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24160" y="3186360"/>
              <a:ext cx="23832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875040" y="3267360"/>
              <a:ext cx="235080" cy="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878280" y="213552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4178160" y="3438720"/>
              <a:ext cx="74520" cy="28080"/>
              <a:chOff x="4178160" y="3438720"/>
              <a:chExt cx="74520" cy="28080"/>
            </a:xfrm>
          </p:grpSpPr>
          <p:sp>
            <p:nvSpPr>
              <p:cNvPr id="482" name=""/>
              <p:cNvSpPr/>
              <p:nvPr/>
            </p:nvSpPr>
            <p:spPr>
              <a:xfrm>
                <a:off x="4178160" y="34387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225680" y="34401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4191120" y="2508480"/>
              <a:ext cx="74520" cy="28080"/>
              <a:chOff x="4191120" y="2508480"/>
              <a:chExt cx="74520" cy="28080"/>
            </a:xfrm>
          </p:grpSpPr>
          <p:sp>
            <p:nvSpPr>
              <p:cNvPr id="485" name=""/>
              <p:cNvSpPr/>
              <p:nvPr/>
            </p:nvSpPr>
            <p:spPr>
              <a:xfrm>
                <a:off x="4191120" y="25084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238640" y="25099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870360" y="1914840"/>
              <a:ext cx="0" cy="2286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35320" y="3340440"/>
              <a:ext cx="0" cy="14292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70360" y="2127600"/>
              <a:ext cx="15840" cy="1752480"/>
            </a:xfrm>
            <a:prstGeom prst="line">
              <a:avLst/>
            </a:prstGeom>
            <a:ln cap="rnd" w="15840">
              <a:solidFill>
                <a:srgbClr val="ffcc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4106880" y="2819520"/>
              <a:ext cx="228600" cy="212760"/>
              <a:chOff x="4106880" y="2819520"/>
              <a:chExt cx="228600" cy="21276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4178160" y="2819520"/>
                <a:ext cx="70560" cy="28080"/>
                <a:chOff x="4178160" y="2819520"/>
                <a:chExt cx="70560" cy="2808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4178160" y="28195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223160" y="2820960"/>
                  <a:ext cx="2556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4106880" y="2874960"/>
                <a:ext cx="228600" cy="15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288680" y="29876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238640" y="29876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6629400" y="205776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29400" y="230832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3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629400" y="255276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29400" y="289584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29400" y="319284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29400" y="352764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4111560" y="3775320"/>
              <a:ext cx="231840" cy="209520"/>
              <a:chOff x="4111560" y="3775320"/>
              <a:chExt cx="231840" cy="209520"/>
            </a:xfrm>
          </p:grpSpPr>
          <p:sp>
            <p:nvSpPr>
              <p:cNvPr id="504" name=""/>
              <p:cNvSpPr/>
              <p:nvPr/>
            </p:nvSpPr>
            <p:spPr>
              <a:xfrm>
                <a:off x="4179960" y="37753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111560" y="3827520"/>
                <a:ext cx="231840" cy="15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4111560" y="3830400"/>
                <a:ext cx="114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226040" y="3830760"/>
                <a:ext cx="11412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232160" y="377532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4143240" y="3996000"/>
              <a:ext cx="0" cy="684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4114800" y="4065840"/>
              <a:ext cx="231840" cy="195120"/>
              <a:chOff x="4114800" y="4065840"/>
              <a:chExt cx="231840" cy="195120"/>
            </a:xfrm>
          </p:grpSpPr>
          <p:sp>
            <p:nvSpPr>
              <p:cNvPr id="511" name=""/>
              <p:cNvSpPr/>
              <p:nvPr/>
            </p:nvSpPr>
            <p:spPr>
              <a:xfrm>
                <a:off x="4114800" y="4065840"/>
                <a:ext cx="23184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291200" y="42339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130640" y="42339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4419720" y="378792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7mm Antitank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419720" y="4032360"/>
              <a:ext cx="1904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TL 37 Light Prime Mo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87680" y="365148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13480" y="3819600"/>
              <a:ext cx="60948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629400" y="403236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3880080"/>
              <a:ext cx="235080" cy="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3809880" y="4730760"/>
            <a:ext cx="3313080" cy="2584440"/>
            <a:chOff x="3809880" y="4730760"/>
            <a:chExt cx="3313080" cy="2584440"/>
          </a:xfrm>
        </p:grpSpPr>
        <p:sp>
          <p:nvSpPr>
            <p:cNvPr id="521" name=""/>
            <p:cNvSpPr/>
            <p:nvPr/>
          </p:nvSpPr>
          <p:spPr>
            <a:xfrm>
              <a:off x="4127400" y="5281560"/>
              <a:ext cx="0" cy="7632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387680" y="5904000"/>
              <a:ext cx="144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AS 37 Light Tru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387680" y="50817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35320" y="5522760"/>
              <a:ext cx="0" cy="7632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87680" y="5318280"/>
              <a:ext cx="213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20mm Solothurn Antitank Rif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387680" y="556272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8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Bersaglier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87680" y="495612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Comm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83120" y="4753080"/>
              <a:ext cx="20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rsaglieri Rifl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7680" y="577548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4097160" y="5118120"/>
              <a:ext cx="231840" cy="157320"/>
              <a:chOff x="4097160" y="5118120"/>
              <a:chExt cx="231840" cy="157320"/>
            </a:xfrm>
          </p:grpSpPr>
          <p:sp>
            <p:nvSpPr>
              <p:cNvPr id="531" name=""/>
              <p:cNvSpPr/>
              <p:nvPr/>
            </p:nvSpPr>
            <p:spPr>
              <a:xfrm>
                <a:off x="4097160" y="5118120"/>
                <a:ext cx="231840" cy="15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120920" y="5140440"/>
                <a:ext cx="184320" cy="1108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4206960" y="50752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295880" y="60879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06880" y="60879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19600" y="49705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006800" y="49687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11680" y="4802040"/>
              <a:ext cx="23184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30480" y="47307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09880" y="4808520"/>
              <a:ext cx="24156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3813120" y="4797360"/>
              <a:ext cx="2304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4098960" y="5607000"/>
              <a:ext cx="247680" cy="166680"/>
              <a:chOff x="4098960" y="5607000"/>
              <a:chExt cx="247680" cy="166680"/>
            </a:xfrm>
          </p:grpSpPr>
          <p:sp>
            <p:nvSpPr>
              <p:cNvPr id="543" name=""/>
              <p:cNvSpPr/>
              <p:nvPr/>
            </p:nvSpPr>
            <p:spPr>
              <a:xfrm>
                <a:off x="4098960" y="5607000"/>
                <a:ext cx="231840" cy="16524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105440" y="5619600"/>
                <a:ext cx="24120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4102200" y="5611680"/>
                <a:ext cx="23004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4135320" y="5783400"/>
              <a:ext cx="0" cy="14256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06880" y="5357880"/>
              <a:ext cx="231840" cy="156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221000" y="5360760"/>
              <a:ext cx="114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10120" y="5365800"/>
              <a:ext cx="11412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4184640" y="5305320"/>
              <a:ext cx="74520" cy="28800"/>
              <a:chOff x="4184640" y="5305320"/>
              <a:chExt cx="74520" cy="28800"/>
            </a:xfrm>
          </p:grpSpPr>
          <p:sp>
            <p:nvSpPr>
              <p:cNvPr id="551" name=""/>
              <p:cNvSpPr/>
              <p:nvPr/>
            </p:nvSpPr>
            <p:spPr>
              <a:xfrm>
                <a:off x="4184640" y="53053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232160" y="53071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4098960" y="5919840"/>
              <a:ext cx="231840" cy="156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4178160" y="5867280"/>
              <a:ext cx="74520" cy="28800"/>
              <a:chOff x="4178160" y="5867280"/>
              <a:chExt cx="74520" cy="28800"/>
            </a:xfrm>
          </p:grpSpPr>
          <p:sp>
            <p:nvSpPr>
              <p:cNvPr id="555" name=""/>
              <p:cNvSpPr/>
              <p:nvPr/>
            </p:nvSpPr>
            <p:spPr>
              <a:xfrm>
                <a:off x="4178160" y="58672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225680" y="58690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4387680" y="6095880"/>
              <a:ext cx="1067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66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387680" y="6200640"/>
              <a:ext cx="2089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eda Medium Machine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97160" y="6232680"/>
              <a:ext cx="231840" cy="152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4105440" y="6235560"/>
              <a:ext cx="22860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4176720" y="6172200"/>
              <a:ext cx="74520" cy="28080"/>
              <a:chOff x="4176720" y="6172200"/>
              <a:chExt cx="74520" cy="28080"/>
            </a:xfrm>
          </p:grpSpPr>
          <p:sp>
            <p:nvSpPr>
              <p:cNvPr id="562" name=""/>
              <p:cNvSpPr/>
              <p:nvPr/>
            </p:nvSpPr>
            <p:spPr>
              <a:xfrm>
                <a:off x="4176720" y="61722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224240" y="61736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4097160" y="6234120"/>
              <a:ext cx="55800" cy="150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13360" y="6240600"/>
              <a:ext cx="22680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75040" y="632160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78280" y="518940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4191120" y="5562720"/>
              <a:ext cx="74520" cy="28080"/>
              <a:chOff x="4191120" y="5562720"/>
              <a:chExt cx="74520" cy="28080"/>
            </a:xfrm>
          </p:grpSpPr>
          <p:sp>
            <p:nvSpPr>
              <p:cNvPr id="569" name=""/>
              <p:cNvSpPr/>
              <p:nvPr/>
            </p:nvSpPr>
            <p:spPr>
              <a:xfrm>
                <a:off x="4191120" y="55627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238640" y="55641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3870360" y="4968720"/>
              <a:ext cx="0" cy="2286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35320" y="6394320"/>
              <a:ext cx="0" cy="14292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70360" y="5181480"/>
              <a:ext cx="15840" cy="1752840"/>
            </a:xfrm>
            <a:prstGeom prst="line">
              <a:avLst/>
            </a:prstGeom>
            <a:ln cap="rnd" w="15840">
              <a:solidFill>
                <a:srgbClr val="ffcc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29400" y="512748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29400" y="534024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3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29400" y="556884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29400" y="591192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4098960" y="6400800"/>
              <a:ext cx="2987640" cy="382680"/>
              <a:chOff x="4098960" y="6400800"/>
              <a:chExt cx="2987640" cy="382680"/>
            </a:xfrm>
          </p:grpSpPr>
          <p:sp>
            <p:nvSpPr>
              <p:cNvPr id="579" name=""/>
              <p:cNvSpPr/>
              <p:nvPr/>
            </p:nvSpPr>
            <p:spPr>
              <a:xfrm>
                <a:off x="4387680" y="6537240"/>
                <a:ext cx="1523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AS 37 Light Tru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098960" y="6548400"/>
                <a:ext cx="23148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387680" y="6400800"/>
                <a:ext cx="9144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cc66"/>
                    </a:solidFill>
                    <a:latin typeface="Arial"/>
                  </a:rPr>
                  <a:t>Transpor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117680" y="67132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290840" y="67150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4178160" y="6492600"/>
                <a:ext cx="74520" cy="28800"/>
                <a:chOff x="4178160" y="6492600"/>
                <a:chExt cx="74520" cy="2880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4178160" y="64926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225680" y="64944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7" name=""/>
              <p:cNvSpPr/>
              <p:nvPr/>
            </p:nvSpPr>
            <p:spPr>
              <a:xfrm>
                <a:off x="6629400" y="6559560"/>
                <a:ext cx="457200" cy="19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T-1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6629400" y="623880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4111560" y="6829560"/>
              <a:ext cx="231840" cy="209520"/>
              <a:chOff x="4111560" y="6829560"/>
              <a:chExt cx="231840" cy="209520"/>
            </a:xfrm>
          </p:grpSpPr>
          <p:sp>
            <p:nvSpPr>
              <p:cNvPr id="590" name=""/>
              <p:cNvSpPr/>
              <p:nvPr/>
            </p:nvSpPr>
            <p:spPr>
              <a:xfrm>
                <a:off x="4179960" y="68295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1560" y="6881760"/>
                <a:ext cx="231840" cy="15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4111560" y="6884640"/>
                <a:ext cx="114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226040" y="6885000"/>
                <a:ext cx="11412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232160" y="68295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4143240" y="7050240"/>
              <a:ext cx="0" cy="6804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4114800" y="7120080"/>
              <a:ext cx="231840" cy="195120"/>
              <a:chOff x="4114800" y="7120080"/>
              <a:chExt cx="231840" cy="195120"/>
            </a:xfrm>
          </p:grpSpPr>
          <p:sp>
            <p:nvSpPr>
              <p:cNvPr id="597" name=""/>
              <p:cNvSpPr/>
              <p:nvPr/>
            </p:nvSpPr>
            <p:spPr>
              <a:xfrm>
                <a:off x="4114800" y="7120080"/>
                <a:ext cx="23184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91200" y="72882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130640" y="72882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4419720" y="684216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7mm Antitank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419720" y="7086600"/>
              <a:ext cx="1904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TL 37 Light Prime Mo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13480" y="6873840"/>
              <a:ext cx="60948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29400" y="708660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86200" y="6934320"/>
              <a:ext cx="235080" cy="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09480" y="1219320"/>
            <a:ext cx="2819520" cy="1542240"/>
            <a:chOff x="609480" y="1219320"/>
            <a:chExt cx="2819520" cy="1542240"/>
          </a:xfrm>
        </p:grpSpPr>
        <p:sp>
          <p:nvSpPr>
            <p:cNvPr id="606" name=""/>
            <p:cNvSpPr/>
            <p:nvPr/>
          </p:nvSpPr>
          <p:spPr>
            <a:xfrm>
              <a:off x="1227240" y="1290600"/>
              <a:ext cx="2049480" cy="2764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th Bersaglieri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egi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71600" y="1828800"/>
              <a:ext cx="16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III Motociclisti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46000" y="1652400"/>
              <a:ext cx="0" cy="101412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7400" y="1290600"/>
              <a:ext cx="533520" cy="3614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6000" y="236196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46000" y="198108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609480" y="1279440"/>
              <a:ext cx="53352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5320" y="1287360"/>
              <a:ext cx="53352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38080" y="266688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5320" y="1660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58760" y="1660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809640" y="1219320"/>
              <a:ext cx="148680" cy="63360"/>
              <a:chOff x="809640" y="1219320"/>
              <a:chExt cx="148680" cy="6336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809640" y="1219320"/>
                <a:ext cx="75960" cy="63360"/>
                <a:chOff x="809640" y="1219320"/>
                <a:chExt cx="75960" cy="6336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809640" y="12193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885600" y="12193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882360" y="1219320"/>
                <a:ext cx="75960" cy="63360"/>
                <a:chOff x="882360" y="1219320"/>
                <a:chExt cx="75960" cy="633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882360" y="12193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958320" y="12193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4" name=""/>
            <p:cNvGrpSpPr/>
            <p:nvPr/>
          </p:nvGrpSpPr>
          <p:grpSpPr>
            <a:xfrm>
              <a:off x="1074600" y="1828800"/>
              <a:ext cx="252720" cy="246960"/>
              <a:chOff x="1074600" y="1828800"/>
              <a:chExt cx="252720" cy="246960"/>
            </a:xfrm>
          </p:grpSpPr>
          <p:sp>
            <p:nvSpPr>
              <p:cNvPr id="625" name=""/>
              <p:cNvSpPr/>
              <p:nvPr/>
            </p:nvSpPr>
            <p:spPr>
              <a:xfrm>
                <a:off x="1074600" y="1887120"/>
                <a:ext cx="239760" cy="15660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1082520" y="1880280"/>
                <a:ext cx="236520" cy="15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085760" y="1896480"/>
                <a:ext cx="24156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185840" y="182880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258920" y="20491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090440" y="20491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219320" y="182880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1066680" y="2514600"/>
              <a:ext cx="252000" cy="246960"/>
              <a:chOff x="1066680" y="2514600"/>
              <a:chExt cx="252000" cy="246960"/>
            </a:xfrm>
          </p:grpSpPr>
          <p:sp>
            <p:nvSpPr>
              <p:cNvPr id="633" name=""/>
              <p:cNvSpPr/>
              <p:nvPr/>
            </p:nvSpPr>
            <p:spPr>
              <a:xfrm>
                <a:off x="1066680" y="2572920"/>
                <a:ext cx="239400" cy="15660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1074240" y="2566080"/>
                <a:ext cx="236160" cy="15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077480" y="2582280"/>
                <a:ext cx="24120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77560" y="251460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250640" y="273492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082160" y="273492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211040" y="251460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1066680" y="2209680"/>
              <a:ext cx="252000" cy="246960"/>
              <a:chOff x="1066680" y="2209680"/>
              <a:chExt cx="252000" cy="246960"/>
            </a:xfrm>
          </p:grpSpPr>
          <p:sp>
            <p:nvSpPr>
              <p:cNvPr id="641" name=""/>
              <p:cNvSpPr/>
              <p:nvPr/>
            </p:nvSpPr>
            <p:spPr>
              <a:xfrm>
                <a:off x="1066680" y="2268000"/>
                <a:ext cx="239400" cy="15660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1074240" y="2261160"/>
                <a:ext cx="236160" cy="15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077480" y="2277360"/>
                <a:ext cx="24120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177560" y="220968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250640" y="243000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082160" y="243000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211040" y="220968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1371600" y="220968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V Autotransportatio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71600" y="2514600"/>
              <a:ext cx="205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XII Autotransportatio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809880" y="114300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euver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449280" y="974880"/>
            <a:ext cx="3284640" cy="3827520"/>
            <a:chOff x="449280" y="974880"/>
            <a:chExt cx="3284640" cy="3827520"/>
          </a:xfrm>
        </p:grpSpPr>
        <p:sp>
          <p:nvSpPr>
            <p:cNvPr id="652" name=""/>
            <p:cNvSpPr/>
            <p:nvPr/>
          </p:nvSpPr>
          <p:spPr>
            <a:xfrm>
              <a:off x="685800" y="1416240"/>
              <a:ext cx="0" cy="207324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90720" y="1736640"/>
              <a:ext cx="0" cy="684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7200" y="1046160"/>
              <a:ext cx="533520" cy="3621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19320" y="3068640"/>
              <a:ext cx="175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mm Antiaircraft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5800" y="402264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5800" y="166068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5800" y="227016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14400" y="2182680"/>
              <a:ext cx="23976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914400" y="217656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25560" y="2192400"/>
              <a:ext cx="24120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689040" y="974880"/>
              <a:ext cx="75960" cy="63360"/>
              <a:chOff x="689040" y="974880"/>
              <a:chExt cx="75960" cy="63360"/>
            </a:xfrm>
          </p:grpSpPr>
          <p:sp>
            <p:nvSpPr>
              <p:cNvPr id="663" name=""/>
              <p:cNvSpPr/>
              <p:nvPr/>
            </p:nvSpPr>
            <p:spPr>
              <a:xfrm>
                <a:off x="689040" y="974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65000" y="974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685800" y="3489480"/>
              <a:ext cx="0" cy="114300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14400" y="1584360"/>
              <a:ext cx="23184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449280" y="103500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57200" y="104292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19320" y="2013120"/>
              <a:ext cx="1600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66"/>
                  </a:solidFill>
                  <a:latin typeface="Arial"/>
                </a:rPr>
                <a:t>MANEUVER ELEMENTS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19320" y="2940120"/>
              <a:ext cx="121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66"/>
                  </a:solidFill>
                  <a:latin typeface="Arial"/>
                </a:rPr>
                <a:t>ATTACHMENTS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914400" y="1797120"/>
              <a:ext cx="231840" cy="156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70120" y="1560600"/>
              <a:ext cx="380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14480" y="154008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5800" y="432756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219320" y="394668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-2</a:t>
              </a: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 Light Artillery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66680" y="1050840"/>
              <a:ext cx="2514600" cy="30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antry Battal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219320" y="1463760"/>
              <a:ext cx="19810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66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Fiat 508 C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219320" y="2446200"/>
              <a:ext cx="175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Assault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219320" y="3260880"/>
              <a:ext cx="1600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Organic Fire Suppor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219320" y="3397320"/>
              <a:ext cx="181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81mm Mort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914400" y="3336840"/>
              <a:ext cx="239760" cy="217440"/>
              <a:chOff x="914400" y="3336840"/>
              <a:chExt cx="239760" cy="217440"/>
            </a:xfrm>
          </p:grpSpPr>
          <p:sp>
            <p:nvSpPr>
              <p:cNvPr id="682" name=""/>
              <p:cNvSpPr/>
              <p:nvPr/>
            </p:nvSpPr>
            <p:spPr>
              <a:xfrm>
                <a:off x="914400" y="3397320"/>
                <a:ext cx="23976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1038240" y="3429000"/>
                <a:ext cx="1440" cy="10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998640" y="3525840"/>
                <a:ext cx="680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990720" y="33368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038240" y="33386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914400" y="3103560"/>
              <a:ext cx="23184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914400" y="3100320"/>
              <a:ext cx="114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28880" y="3098880"/>
              <a:ext cx="11412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42920" y="30560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82800" y="30560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219320" y="3656160"/>
              <a:ext cx="1600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66"/>
                  </a:solidFill>
                  <a:latin typeface="Arial"/>
                </a:rPr>
                <a:t>DIVISIONAL ATTACHMENTS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219320" y="3808440"/>
              <a:ext cx="1600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66"/>
                  </a:solidFill>
                  <a:latin typeface="Arial"/>
                </a:rPr>
                <a:t>FIRE SUPPORT ELEMENT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911160" y="3881520"/>
              <a:ext cx="231840" cy="217440"/>
              <a:chOff x="911160" y="3881520"/>
              <a:chExt cx="231840" cy="217440"/>
            </a:xfrm>
          </p:grpSpPr>
          <p:sp>
            <p:nvSpPr>
              <p:cNvPr id="695" name=""/>
              <p:cNvSpPr/>
              <p:nvPr/>
            </p:nvSpPr>
            <p:spPr>
              <a:xfrm>
                <a:off x="911160" y="3942000"/>
                <a:ext cx="23184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023840" y="388152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011240" y="40150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685800" y="348948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85800" y="318456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98720" y="19652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930240" y="19652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00400" y="162252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19320" y="2735280"/>
              <a:ext cx="175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Reserv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219320" y="2138400"/>
              <a:ext cx="175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Scout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219320" y="4175280"/>
              <a:ext cx="251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0-2</a:t>
              </a: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 100mm Medium Howitzer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4403880"/>
              <a:ext cx="1904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cc66"/>
                  </a:solidFill>
                  <a:latin typeface="Arial"/>
                </a:rPr>
                <a:t>NON-DIVISIONAL ATTACHMENTS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4556160"/>
              <a:ext cx="251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0-1</a:t>
              </a:r>
              <a:r>
                <a:rPr b="1" lang="en-US" sz="1000" spc="-1" strike="noStrike">
                  <a:solidFill>
                    <a:srgbClr val="ffcc66"/>
                  </a:solidFill>
                  <a:latin typeface="Arial"/>
                </a:rPr>
                <a:t> 105mm Medium Howitzer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685800" y="2428920"/>
              <a:ext cx="480960" cy="221760"/>
              <a:chOff x="685800" y="2428920"/>
              <a:chExt cx="480960" cy="221760"/>
            </a:xfrm>
          </p:grpSpPr>
          <p:sp>
            <p:nvSpPr>
              <p:cNvPr id="709" name=""/>
              <p:cNvSpPr/>
              <p:nvPr/>
            </p:nvSpPr>
            <p:spPr>
              <a:xfrm>
                <a:off x="685800" y="2574720"/>
                <a:ext cx="22392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914400" y="2487240"/>
                <a:ext cx="23976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914400" y="2480760"/>
                <a:ext cx="236520" cy="15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925560" y="2496960"/>
                <a:ext cx="24120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033560" y="24289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685800" y="2727360"/>
              <a:ext cx="480960" cy="221760"/>
              <a:chOff x="685800" y="2727360"/>
              <a:chExt cx="480960" cy="221760"/>
            </a:xfrm>
          </p:grpSpPr>
          <p:sp>
            <p:nvSpPr>
              <p:cNvPr id="715" name=""/>
              <p:cNvSpPr/>
              <p:nvPr/>
            </p:nvSpPr>
            <p:spPr>
              <a:xfrm>
                <a:off x="685800" y="2873160"/>
                <a:ext cx="22392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914400" y="2785680"/>
                <a:ext cx="23976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914400" y="2779200"/>
                <a:ext cx="236520" cy="15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925560" y="2795400"/>
                <a:ext cx="24120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033560" y="27273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966960" y="2133720"/>
              <a:ext cx="118440" cy="28080"/>
              <a:chOff x="966960" y="2133720"/>
              <a:chExt cx="118440" cy="2808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966960" y="2133720"/>
                <a:ext cx="73800" cy="28080"/>
                <a:chOff x="966960" y="2133720"/>
                <a:chExt cx="73800" cy="2808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966960" y="213372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014120" y="213516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1010880" y="2133720"/>
                <a:ext cx="74520" cy="28080"/>
                <a:chOff x="1010880" y="2133720"/>
                <a:chExt cx="74520" cy="2808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1010880" y="21337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058400" y="21351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7" name=""/>
            <p:cNvSpPr/>
            <p:nvPr/>
          </p:nvSpPr>
          <p:spPr>
            <a:xfrm>
              <a:off x="990720" y="3160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914400" y="4175280"/>
              <a:ext cx="231840" cy="217440"/>
              <a:chOff x="914400" y="4175280"/>
              <a:chExt cx="231840" cy="217440"/>
            </a:xfrm>
          </p:grpSpPr>
          <p:sp>
            <p:nvSpPr>
              <p:cNvPr id="729" name=""/>
              <p:cNvSpPr/>
              <p:nvPr/>
            </p:nvSpPr>
            <p:spPr>
              <a:xfrm>
                <a:off x="914400" y="4235760"/>
                <a:ext cx="23184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027080" y="41752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014480" y="43088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914400" y="4491000"/>
              <a:ext cx="231840" cy="217440"/>
              <a:chOff x="914400" y="4491000"/>
              <a:chExt cx="231840" cy="217440"/>
            </a:xfrm>
          </p:grpSpPr>
          <p:sp>
            <p:nvSpPr>
              <p:cNvPr id="733" name=""/>
              <p:cNvSpPr/>
              <p:nvPr/>
            </p:nvSpPr>
            <p:spPr>
              <a:xfrm>
                <a:off x="914400" y="4551480"/>
                <a:ext cx="23184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027080" y="449100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014480" y="46245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685800" y="4632480"/>
              <a:ext cx="223920" cy="0"/>
            </a:xfrm>
            <a:prstGeom prst="line">
              <a:avLst/>
            </a:prstGeom>
            <a:ln w="1584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00400" y="177480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310824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200400" y="341316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3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319040" y="685800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 Ob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319040" y="7315200"/>
            <a:ext cx="20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ff-board Direct Fire Sup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6624720"/>
            <a:ext cx="23184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2120" y="6792840"/>
            <a:ext cx="0" cy="75888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319040" y="7435800"/>
            <a:ext cx="23385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/17 Medium Howitzer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1V, 0TGsv Lrg Temp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98480" y="65642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319040" y="6750000"/>
            <a:ext cx="15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n-board Attach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85880" y="66978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464600"/>
            <a:ext cx="23976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62120" y="6954840"/>
            <a:ext cx="29988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120" y="7540560"/>
            <a:ext cx="29988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066680" y="6881760"/>
            <a:ext cx="23976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19040" y="71596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at 508 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066680" y="7183440"/>
            <a:ext cx="23184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077840" y="73468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258920" y="7346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114560" y="7039080"/>
            <a:ext cx="0" cy="142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154160" y="7404120"/>
            <a:ext cx="74520" cy="28080"/>
            <a:chOff x="1154160" y="7404120"/>
            <a:chExt cx="74520" cy="28080"/>
          </a:xfrm>
        </p:grpSpPr>
        <p:sp>
          <p:nvSpPr>
            <p:cNvPr id="758" name=""/>
            <p:cNvSpPr/>
            <p:nvPr/>
          </p:nvSpPr>
          <p:spPr>
            <a:xfrm>
              <a:off x="1154160" y="74041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01680" y="740556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1319040" y="7039080"/>
            <a:ext cx="15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174680" y="75294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166760" y="71326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030320" y="68580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166760" y="682956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38160" y="655308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mm Medium Howitzer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00400" y="6880320"/>
            <a:ext cx="45720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200400" y="7184880"/>
            <a:ext cx="45720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295280" y="815328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 Ob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95280" y="8610480"/>
            <a:ext cx="20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ff-board Direct Fire Sup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62040" y="7920000"/>
            <a:ext cx="23184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38360" y="8088480"/>
            <a:ext cx="0" cy="7585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95280" y="8731080"/>
            <a:ext cx="1981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/28 Medium Howitzer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1V, 0TGsV Lrg Temp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74720" y="78598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295280" y="8045280"/>
            <a:ext cx="15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n-board Attach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62120" y="79930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042920" y="8759880"/>
            <a:ext cx="23976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38360" y="8250120"/>
            <a:ext cx="29988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8360" y="8836200"/>
            <a:ext cx="29988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042920" y="8177040"/>
            <a:ext cx="23976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295280" y="845496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at 508 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042920" y="8478720"/>
            <a:ext cx="23184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054080" y="8642520"/>
            <a:ext cx="27000" cy="26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235160" y="8642520"/>
            <a:ext cx="28440" cy="26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090440" y="8334360"/>
            <a:ext cx="0" cy="142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1130400" y="8699400"/>
            <a:ext cx="74520" cy="28800"/>
            <a:chOff x="1130400" y="8699400"/>
            <a:chExt cx="74520" cy="28800"/>
          </a:xfrm>
        </p:grpSpPr>
        <p:sp>
          <p:nvSpPr>
            <p:cNvPr id="786" name=""/>
            <p:cNvSpPr/>
            <p:nvPr/>
          </p:nvSpPr>
          <p:spPr>
            <a:xfrm>
              <a:off x="1130400" y="86994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77920" y="87012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1295280" y="8334360"/>
            <a:ext cx="15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50920" y="88250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143000" y="84279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006560" y="81532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81248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14400" y="784872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5mm Medium Howitzer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200400" y="8175600"/>
            <a:ext cx="45720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00400" y="8480520"/>
            <a:ext cx="45720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19040" y="557856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 Ob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19040" y="6035760"/>
            <a:ext cx="20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ff-board Direct Fire Sup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5345280"/>
            <a:ext cx="23184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62120" y="5513400"/>
            <a:ext cx="0" cy="75888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319040" y="6156360"/>
            <a:ext cx="241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/27 Light Gun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T-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98480" y="52848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319040" y="5470560"/>
            <a:ext cx="15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n-board Attach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85880" y="54180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066680" y="6184800"/>
            <a:ext cx="23976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2120" y="5675400"/>
            <a:ext cx="29988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62120" y="6261120"/>
            <a:ext cx="29988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66680" y="5602320"/>
            <a:ext cx="23976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319040" y="588024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at 508 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066680" y="5904000"/>
            <a:ext cx="23184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77840" y="60674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258920" y="60674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14560" y="5759280"/>
            <a:ext cx="0" cy="142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1154160" y="6124680"/>
            <a:ext cx="74520" cy="28080"/>
            <a:chOff x="1154160" y="6124680"/>
            <a:chExt cx="74520" cy="28080"/>
          </a:xfrm>
        </p:grpSpPr>
        <p:sp>
          <p:nvSpPr>
            <p:cNvPr id="814" name=""/>
            <p:cNvSpPr/>
            <p:nvPr/>
          </p:nvSpPr>
          <p:spPr>
            <a:xfrm>
              <a:off x="1154160" y="612468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201680" y="612612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319040" y="5759280"/>
            <a:ext cx="15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174680" y="624996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166760" y="58532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030320" y="557856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166760" y="554976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938160" y="527364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ght Artillery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200400" y="5600880"/>
            <a:ext cx="45720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200400" y="5905440"/>
            <a:ext cx="45720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886200" y="3048120"/>
            <a:ext cx="3124080" cy="2363760"/>
            <a:chOff x="3886200" y="3048120"/>
            <a:chExt cx="3124080" cy="2363760"/>
          </a:xfrm>
        </p:grpSpPr>
        <p:sp>
          <p:nvSpPr>
            <p:cNvPr id="825" name=""/>
            <p:cNvSpPr/>
            <p:nvPr/>
          </p:nvSpPr>
          <p:spPr>
            <a:xfrm>
              <a:off x="4022640" y="3286080"/>
              <a:ext cx="0" cy="147168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667400" y="3987720"/>
              <a:ext cx="188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Breda Light Machine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657680" y="3683160"/>
              <a:ext cx="120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6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Rifle Infan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67400" y="327348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Comm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210200" y="307008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ssault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667400" y="4581360"/>
              <a:ext cx="180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65mm Infantry Gun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014720" y="3502080"/>
              <a:ext cx="300240" cy="144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327560" y="3719520"/>
              <a:ext cx="231840" cy="165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022640" y="4411800"/>
              <a:ext cx="300240" cy="144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319640" y="3435480"/>
              <a:ext cx="231840" cy="156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343400" y="3457440"/>
              <a:ext cx="184320" cy="11124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21160" y="33926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4405320" y="3664080"/>
              <a:ext cx="74520" cy="28080"/>
              <a:chOff x="4405320" y="3664080"/>
              <a:chExt cx="74520" cy="28080"/>
            </a:xfrm>
          </p:grpSpPr>
          <p:sp>
            <p:nvSpPr>
              <p:cNvPr id="838" name=""/>
              <p:cNvSpPr/>
              <p:nvPr/>
            </p:nvSpPr>
            <p:spPr>
              <a:xfrm>
                <a:off x="4405320" y="36640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452840" y="36655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3962520" y="3119400"/>
              <a:ext cx="23148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073400" y="30481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968640" y="3125880"/>
              <a:ext cx="24156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3971880" y="3110040"/>
              <a:ext cx="2304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34040" y="3732120"/>
              <a:ext cx="24120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4330800" y="3724200"/>
              <a:ext cx="2300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017960" y="3801960"/>
              <a:ext cx="299880" cy="18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021200" y="4106880"/>
              <a:ext cx="299880" cy="144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57680" y="3422520"/>
              <a:ext cx="113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4343400" y="4597560"/>
              <a:ext cx="231840" cy="209520"/>
              <a:chOff x="4343400" y="4597560"/>
              <a:chExt cx="231840" cy="209520"/>
            </a:xfrm>
          </p:grpSpPr>
          <p:sp>
            <p:nvSpPr>
              <p:cNvPr id="850" name=""/>
              <p:cNvSpPr/>
              <p:nvPr/>
            </p:nvSpPr>
            <p:spPr>
              <a:xfrm>
                <a:off x="4411800" y="45975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343400" y="4649760"/>
                <a:ext cx="231840" cy="15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4343400" y="4652640"/>
                <a:ext cx="114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457880" y="4653000"/>
                <a:ext cx="11412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464000" y="45975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4648320" y="427680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Breda Medium Machine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4327560" y="3965400"/>
              <a:ext cx="252360" cy="219240"/>
              <a:chOff x="4327560" y="3965400"/>
              <a:chExt cx="252360" cy="219240"/>
            </a:xfrm>
          </p:grpSpPr>
          <p:sp>
            <p:nvSpPr>
              <p:cNvPr id="857" name=""/>
              <p:cNvSpPr/>
              <p:nvPr/>
            </p:nvSpPr>
            <p:spPr>
              <a:xfrm>
                <a:off x="4335480" y="4022640"/>
                <a:ext cx="23148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8" name=""/>
              <p:cNvGrpSpPr/>
              <p:nvPr/>
            </p:nvGrpSpPr>
            <p:grpSpPr>
              <a:xfrm>
                <a:off x="4413240" y="3965400"/>
                <a:ext cx="74520" cy="28080"/>
                <a:chOff x="4413240" y="3965400"/>
                <a:chExt cx="74520" cy="2808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4413240" y="39654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460760" y="39668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"/>
              <p:cNvSpPr/>
              <p:nvPr/>
            </p:nvSpPr>
            <p:spPr>
              <a:xfrm>
                <a:off x="4338360" y="4030560"/>
                <a:ext cx="24156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4335480" y="4022640"/>
                <a:ext cx="23004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327560" y="4025880"/>
                <a:ext cx="55440" cy="150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>
              <a:off x="4327560" y="4322880"/>
              <a:ext cx="231840" cy="156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5" name=""/>
            <p:cNvGrpSpPr/>
            <p:nvPr/>
          </p:nvGrpSpPr>
          <p:grpSpPr>
            <a:xfrm>
              <a:off x="4405320" y="4264200"/>
              <a:ext cx="74520" cy="28080"/>
              <a:chOff x="4405320" y="4264200"/>
              <a:chExt cx="74520" cy="28080"/>
            </a:xfrm>
          </p:grpSpPr>
          <p:sp>
            <p:nvSpPr>
              <p:cNvPr id="866" name=""/>
              <p:cNvSpPr/>
              <p:nvPr/>
            </p:nvSpPr>
            <p:spPr>
              <a:xfrm>
                <a:off x="4405320" y="42642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452840" y="42656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4330800" y="433080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4327560" y="4322880"/>
              <a:ext cx="2300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319640" y="4325760"/>
              <a:ext cx="55440" cy="150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035600" y="4748040"/>
              <a:ext cx="299880" cy="18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86200" y="5165640"/>
              <a:ext cx="251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ay replace with 47mm Antitank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553080" y="349236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372096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553080" y="402588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433080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553080" y="463536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53080" y="521964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363920" y="4816440"/>
              <a:ext cx="0" cy="14292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648320" y="4929120"/>
              <a:ext cx="15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AS 37 Light Tru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327560" y="4960800"/>
              <a:ext cx="23184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346640" y="51307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519440" y="51274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4406760" y="4900680"/>
              <a:ext cx="74520" cy="28080"/>
              <a:chOff x="4406760" y="4900680"/>
              <a:chExt cx="74520" cy="28080"/>
            </a:xfrm>
          </p:grpSpPr>
          <p:sp>
            <p:nvSpPr>
              <p:cNvPr id="885" name=""/>
              <p:cNvSpPr/>
              <p:nvPr/>
            </p:nvSpPr>
            <p:spPr>
              <a:xfrm>
                <a:off x="4406760" y="49006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454280" y="49021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6553080" y="493560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3962520" y="1619280"/>
            <a:ext cx="3047760" cy="1125720"/>
            <a:chOff x="3962520" y="1619280"/>
            <a:chExt cx="3047760" cy="1125720"/>
          </a:xfrm>
        </p:grpSpPr>
        <p:sp>
          <p:nvSpPr>
            <p:cNvPr id="889" name=""/>
            <p:cNvSpPr/>
            <p:nvPr/>
          </p:nvSpPr>
          <p:spPr>
            <a:xfrm>
              <a:off x="4572000" y="249876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eda Light Machine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72000" y="188748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962520" y="1690560"/>
              <a:ext cx="23148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191120" y="1619280"/>
              <a:ext cx="175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cout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038480" y="1859040"/>
              <a:ext cx="0" cy="75096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443480" y="18795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344840" y="2533680"/>
              <a:ext cx="239760" cy="156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4344840" y="2533680"/>
              <a:ext cx="2365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38480" y="2000160"/>
              <a:ext cx="300240" cy="18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038480" y="2610000"/>
              <a:ext cx="300240" cy="144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572000" y="1771560"/>
              <a:ext cx="990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Comm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4343400" y="1924200"/>
              <a:ext cx="231840" cy="156960"/>
              <a:chOff x="4343400" y="1924200"/>
              <a:chExt cx="231840" cy="156960"/>
            </a:xfrm>
          </p:grpSpPr>
          <p:sp>
            <p:nvSpPr>
              <p:cNvPr id="901" name=""/>
              <p:cNvSpPr/>
              <p:nvPr/>
            </p:nvSpPr>
            <p:spPr>
              <a:xfrm>
                <a:off x="4343400" y="1924200"/>
                <a:ext cx="23184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367160" y="1946160"/>
                <a:ext cx="184320" cy="1105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4343400" y="2541600"/>
              <a:ext cx="55440" cy="150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359240" y="2541600"/>
              <a:ext cx="22716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4419720" y="2473200"/>
              <a:ext cx="74520" cy="28800"/>
              <a:chOff x="4419720" y="2473200"/>
              <a:chExt cx="74520" cy="28800"/>
            </a:xfrm>
          </p:grpSpPr>
          <p:sp>
            <p:nvSpPr>
              <p:cNvPr id="906" name=""/>
              <p:cNvSpPr/>
              <p:nvPr/>
            </p:nvSpPr>
            <p:spPr>
              <a:xfrm>
                <a:off x="4419720" y="2473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467240" y="24750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4064040" y="1619280"/>
              <a:ext cx="74520" cy="28080"/>
              <a:chOff x="4064040" y="1619280"/>
              <a:chExt cx="74520" cy="28080"/>
            </a:xfrm>
          </p:grpSpPr>
          <p:sp>
            <p:nvSpPr>
              <p:cNvPr id="909" name=""/>
              <p:cNvSpPr/>
              <p:nvPr/>
            </p:nvSpPr>
            <p:spPr>
              <a:xfrm>
                <a:off x="4064040" y="16192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111560" y="16207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011480" y="1619280"/>
              <a:ext cx="74520" cy="28080"/>
              <a:chOff x="4011480" y="1619280"/>
              <a:chExt cx="74520" cy="28080"/>
            </a:xfrm>
          </p:grpSpPr>
          <p:sp>
            <p:nvSpPr>
              <p:cNvPr id="912" name=""/>
              <p:cNvSpPr/>
              <p:nvPr/>
            </p:nvSpPr>
            <p:spPr>
              <a:xfrm>
                <a:off x="4011480" y="16192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059000" y="16207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6553080" y="222876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553080" y="193212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553080" y="254952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4840" y="2214720"/>
              <a:ext cx="239760" cy="156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4344840" y="2214720"/>
              <a:ext cx="2365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359240" y="2222640"/>
              <a:ext cx="22716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4419720" y="2152800"/>
              <a:ext cx="74520" cy="28080"/>
              <a:chOff x="4419720" y="2152800"/>
              <a:chExt cx="74520" cy="28080"/>
            </a:xfrm>
          </p:grpSpPr>
          <p:sp>
            <p:nvSpPr>
              <p:cNvPr id="921" name=""/>
              <p:cNvSpPr/>
              <p:nvPr/>
            </p:nvSpPr>
            <p:spPr>
              <a:xfrm>
                <a:off x="4419720" y="21528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467240" y="21542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>
              <a:off x="4038480" y="2287440"/>
              <a:ext cx="300240" cy="18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72000" y="217656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Rifle Infan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3962520" y="1687680"/>
              <a:ext cx="2365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962520" y="1695600"/>
              <a:ext cx="22680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380880" y="309600"/>
            <a:ext cx="6629400" cy="494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alian Tables of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 Sonnenblume” March/April 194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57200" y="49528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Support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3946680" y="5715000"/>
            <a:ext cx="3063600" cy="2116440"/>
            <a:chOff x="3946680" y="5715000"/>
            <a:chExt cx="3063600" cy="2116440"/>
          </a:xfrm>
        </p:grpSpPr>
        <p:sp>
          <p:nvSpPr>
            <p:cNvPr id="930" name=""/>
            <p:cNvSpPr/>
            <p:nvPr/>
          </p:nvSpPr>
          <p:spPr>
            <a:xfrm>
              <a:off x="4363920" y="7472520"/>
              <a:ext cx="0" cy="14256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06800" y="5952960"/>
              <a:ext cx="0" cy="147168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651200" y="6654960"/>
              <a:ext cx="188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Breda Light Machine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641840" y="6350040"/>
              <a:ext cx="120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6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Rifle Infan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651200" y="594036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Comm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194000" y="573732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rv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651200" y="7248600"/>
              <a:ext cx="181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47mm Antitank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998880" y="6168960"/>
              <a:ext cx="300240" cy="18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311720" y="6386400"/>
              <a:ext cx="231840" cy="165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06800" y="7078680"/>
              <a:ext cx="300240" cy="144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03800" y="6102360"/>
              <a:ext cx="23184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27560" y="6124680"/>
              <a:ext cx="183960" cy="11088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405320" y="60595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4389480" y="6330960"/>
              <a:ext cx="74520" cy="28080"/>
              <a:chOff x="4389480" y="6330960"/>
              <a:chExt cx="74520" cy="28080"/>
            </a:xfrm>
          </p:grpSpPr>
          <p:sp>
            <p:nvSpPr>
              <p:cNvPr id="944" name=""/>
              <p:cNvSpPr/>
              <p:nvPr/>
            </p:nvSpPr>
            <p:spPr>
              <a:xfrm>
                <a:off x="4389480" y="63309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437000" y="63324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3946680" y="5786280"/>
              <a:ext cx="23148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952800" y="5792760"/>
              <a:ext cx="24120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3956040" y="5776920"/>
              <a:ext cx="2300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317840" y="6399360"/>
              <a:ext cx="24156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4314960" y="6391440"/>
              <a:ext cx="2300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02120" y="6469200"/>
              <a:ext cx="299880" cy="144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05360" y="6773760"/>
              <a:ext cx="299880" cy="180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641840" y="6089760"/>
              <a:ext cx="113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4327560" y="7264440"/>
              <a:ext cx="231840" cy="209520"/>
              <a:chOff x="4327560" y="7264440"/>
              <a:chExt cx="231840" cy="209520"/>
            </a:xfrm>
          </p:grpSpPr>
          <p:sp>
            <p:nvSpPr>
              <p:cNvPr id="955" name=""/>
              <p:cNvSpPr/>
              <p:nvPr/>
            </p:nvSpPr>
            <p:spPr>
              <a:xfrm>
                <a:off x="4395960" y="72644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327560" y="7316640"/>
                <a:ext cx="231840" cy="15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4327560" y="7319520"/>
                <a:ext cx="114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442040" y="7319880"/>
                <a:ext cx="11412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448160" y="726444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4632480" y="694368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Breda Medium Machine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4311720" y="6632640"/>
              <a:ext cx="252360" cy="218520"/>
              <a:chOff x="4311720" y="6632640"/>
              <a:chExt cx="252360" cy="218520"/>
            </a:xfrm>
          </p:grpSpPr>
          <p:sp>
            <p:nvSpPr>
              <p:cNvPr id="962" name=""/>
              <p:cNvSpPr/>
              <p:nvPr/>
            </p:nvSpPr>
            <p:spPr>
              <a:xfrm>
                <a:off x="4319640" y="6689520"/>
                <a:ext cx="231480" cy="15660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3" name=""/>
              <p:cNvGrpSpPr/>
              <p:nvPr/>
            </p:nvGrpSpPr>
            <p:grpSpPr>
              <a:xfrm>
                <a:off x="4397400" y="6632640"/>
                <a:ext cx="74520" cy="27720"/>
                <a:chOff x="4397400" y="6632640"/>
                <a:chExt cx="74520" cy="2772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4397400" y="6632640"/>
                  <a:ext cx="2844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4444920" y="6634080"/>
                  <a:ext cx="2700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6" name=""/>
              <p:cNvSpPr/>
              <p:nvPr/>
            </p:nvSpPr>
            <p:spPr>
              <a:xfrm>
                <a:off x="4322520" y="6697440"/>
                <a:ext cx="24156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4319640" y="6689160"/>
                <a:ext cx="230040" cy="15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11720" y="6692760"/>
                <a:ext cx="55440" cy="150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>
              <a:off x="4311720" y="6989760"/>
              <a:ext cx="23184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4389480" y="6931080"/>
              <a:ext cx="74520" cy="28080"/>
              <a:chOff x="4389480" y="6931080"/>
              <a:chExt cx="74520" cy="28080"/>
            </a:xfrm>
          </p:grpSpPr>
          <p:sp>
            <p:nvSpPr>
              <p:cNvPr id="971" name=""/>
              <p:cNvSpPr/>
              <p:nvPr/>
            </p:nvSpPr>
            <p:spPr>
              <a:xfrm>
                <a:off x="4389480" y="69310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437000" y="69325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4314960" y="6997680"/>
              <a:ext cx="24120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4311720" y="6989760"/>
              <a:ext cx="2300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303800" y="6993000"/>
              <a:ext cx="55440" cy="150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19400" y="7415280"/>
              <a:ext cx="300240" cy="144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553080" y="615960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553080" y="638820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553080" y="669276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553080" y="699768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553080" y="730260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648320" y="7585200"/>
              <a:ext cx="15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AS 37 Light Tru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27560" y="7616880"/>
              <a:ext cx="231840" cy="156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632480" y="743256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66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346640" y="77868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519440" y="77835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4406760" y="7556400"/>
              <a:ext cx="74520" cy="28800"/>
              <a:chOff x="4406760" y="7556400"/>
              <a:chExt cx="74520" cy="28800"/>
            </a:xfrm>
          </p:grpSpPr>
          <p:sp>
            <p:nvSpPr>
              <p:cNvPr id="988" name=""/>
              <p:cNvSpPr/>
              <p:nvPr/>
            </p:nvSpPr>
            <p:spPr>
              <a:xfrm>
                <a:off x="4406760" y="75564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454280" y="75582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>
              <a:off x="6553080" y="7591320"/>
              <a:ext cx="4572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59360" y="5715000"/>
              <a:ext cx="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9:18:07Z</dcterms:created>
  <dc:creator>James Baker</dc:creator>
  <dc:description/>
  <dc:language>en-US</dc:language>
  <cp:lastModifiedBy>James Baker</cp:lastModifiedBy>
  <cp:lastPrinted>2003-06-22T19:05:49Z</cp:lastPrinted>
  <dcterms:modified xsi:type="dcterms:W3CDTF">2005-02-12T11:52:39Z</dcterms:modified>
  <cp:revision>55</cp:revision>
  <dc:subject/>
  <dc:title>PowerPoint Presentation</dc:title>
</cp:coreProperties>
</file>