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600-A0B1-4DB6-B2D8-24F98028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C30-4B71-4449-9655-FE2A71C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C9D-5E76-42CA-B99F-937B5C8D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698-883A-4DFA-9CF2-D7862F4B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275-D4DD-429F-B356-97C8566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34C-65D9-4948-954B-AC6CE2F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DFA-1EEB-4F00-B6EF-A96FBAD8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942-C64D-4C62-9765-9896D137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883-3D58-4757-B4E2-2E397F5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9B8-8D1D-4F6E-8F98-BDE3A19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8F7-DA9F-4B27-B6BC-499B9DD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EE0-F681-4432-9465-81DEA8D1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1071-E668-4566-BB2C-A418617B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46280" y="-360"/>
            <a:ext cx="51055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G-BRB01,02 1941 Panzer Division Battlegroups 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9720" y="460224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8140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12794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2960" y="15080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2960" y="18478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0160"/>
            <a:ext cx="0" cy="99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96920" y="644400"/>
            <a:ext cx="347400" cy="301680"/>
            <a:chOff x="196920" y="644400"/>
            <a:chExt cx="347400" cy="301680"/>
          </a:xfrm>
        </p:grpSpPr>
        <p:grpSp>
          <p:nvGrpSpPr>
            <p:cNvPr id="49" name=""/>
            <p:cNvGrpSpPr/>
            <p:nvPr/>
          </p:nvGrpSpPr>
          <p:grpSpPr>
            <a:xfrm>
              <a:off x="304920" y="644400"/>
              <a:ext cx="131760" cy="64800"/>
              <a:chOff x="304920" y="644400"/>
              <a:chExt cx="131760" cy="64800"/>
            </a:xfrm>
          </p:grpSpPr>
          <p:sp>
            <p:nvSpPr>
              <p:cNvPr id="50" name=""/>
              <p:cNvSpPr/>
              <p:nvPr/>
            </p:nvSpPr>
            <p:spPr>
              <a:xfrm>
                <a:off x="371880" y="64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304920" y="644400"/>
                <a:ext cx="131760" cy="64800"/>
                <a:chOff x="304920" y="644400"/>
                <a:chExt cx="131760" cy="6480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04920" y="645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36680" y="644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" name=""/>
            <p:cNvGrpSpPr/>
            <p:nvPr/>
          </p:nvGrpSpPr>
          <p:grpSpPr>
            <a:xfrm>
              <a:off x="196920" y="709560"/>
              <a:ext cx="347400" cy="236520"/>
              <a:chOff x="196920" y="709560"/>
              <a:chExt cx="347400" cy="236520"/>
            </a:xfrm>
          </p:grpSpPr>
          <p:sp>
            <p:nvSpPr>
              <p:cNvPr id="55" name=""/>
              <p:cNvSpPr/>
              <p:nvPr/>
            </p:nvSpPr>
            <p:spPr>
              <a:xfrm>
                <a:off x="196920" y="709560"/>
                <a:ext cx="347400" cy="236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0280" y="768600"/>
                <a:ext cx="223920" cy="11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633240" y="725400"/>
            <a:ext cx="154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group-GEBRB01 Panzer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17400" y="1147680"/>
            <a:ext cx="238320" cy="206280"/>
            <a:chOff x="617400" y="1147680"/>
            <a:chExt cx="238320" cy="206280"/>
          </a:xfrm>
        </p:grpSpPr>
        <p:grpSp>
          <p:nvGrpSpPr>
            <p:cNvPr id="59" name=""/>
            <p:cNvGrpSpPr/>
            <p:nvPr/>
          </p:nvGrpSpPr>
          <p:grpSpPr>
            <a:xfrm>
              <a:off x="617400" y="1193760"/>
              <a:ext cx="238320" cy="160200"/>
              <a:chOff x="617400" y="1193760"/>
              <a:chExt cx="238320" cy="1602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17400" y="1193760"/>
                <a:ext cx="238320" cy="160200"/>
                <a:chOff x="617400" y="1193760"/>
                <a:chExt cx="238320" cy="1602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17400" y="1193760"/>
                  <a:ext cx="238320" cy="160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52320" y="1225080"/>
                  <a:ext cx="168840" cy="9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700560" y="1252800"/>
                <a:ext cx="72000" cy="42120"/>
                <a:chOff x="700560" y="1252800"/>
                <a:chExt cx="72000" cy="4212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700560" y="1252800"/>
                  <a:ext cx="20880" cy="38880"/>
                  <a:chOff x="700560" y="1252800"/>
                  <a:chExt cx="20880" cy="3888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700560" y="1252800"/>
                    <a:ext cx="20880" cy="38880"/>
                    <a:chOff x="700560" y="1252800"/>
                    <a:chExt cx="20880" cy="38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700560" y="1252800"/>
                      <a:ext cx="0" cy="38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721440" y="1252800"/>
                      <a:ext cx="0" cy="38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>
                    <a:off x="700560" y="1271880"/>
                    <a:ext cx="201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739800" y="1252800"/>
                  <a:ext cx="28800" cy="42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60320" y="1285200"/>
                  <a:ext cx="12240" cy="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723960" y="1147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2440" y="1398600"/>
            <a:ext cx="231480" cy="193680"/>
            <a:chOff x="622440" y="1398600"/>
            <a:chExt cx="231480" cy="193680"/>
          </a:xfrm>
        </p:grpSpPr>
        <p:grpSp>
          <p:nvGrpSpPr>
            <p:cNvPr id="73" name=""/>
            <p:cNvGrpSpPr/>
            <p:nvPr/>
          </p:nvGrpSpPr>
          <p:grpSpPr>
            <a:xfrm>
              <a:off x="622440" y="1435320"/>
              <a:ext cx="231480" cy="156960"/>
              <a:chOff x="622440" y="1435320"/>
              <a:chExt cx="231480" cy="156960"/>
            </a:xfrm>
          </p:grpSpPr>
          <p:sp>
            <p:nvSpPr>
              <p:cNvPr id="74" name=""/>
              <p:cNvSpPr/>
              <p:nvPr/>
            </p:nvSpPr>
            <p:spPr>
              <a:xfrm>
                <a:off x="622440" y="14353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64920" y="1474560"/>
                <a:ext cx="1483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95160" y="1398600"/>
              <a:ext cx="84960" cy="27000"/>
              <a:chOff x="695160" y="1398600"/>
              <a:chExt cx="84960" cy="27000"/>
            </a:xfrm>
          </p:grpSpPr>
          <p:sp>
            <p:nvSpPr>
              <p:cNvPr id="77" name=""/>
              <p:cNvSpPr/>
              <p:nvPr/>
            </p:nvSpPr>
            <p:spPr>
              <a:xfrm>
                <a:off x="695160" y="13986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52040" y="13986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975240" y="1246320"/>
            <a:ext cx="12978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zBefWg III           GE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4520" y="1474920"/>
            <a:ext cx="13053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zKpfw II               GE-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7760" y="1104840"/>
            <a:ext cx="4730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7760" y="100008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760" y="166356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63400" y="1666800"/>
            <a:ext cx="347400" cy="298440"/>
            <a:chOff x="563400" y="1666800"/>
            <a:chExt cx="347400" cy="298440"/>
          </a:xfrm>
        </p:grpSpPr>
        <p:grpSp>
          <p:nvGrpSpPr>
            <p:cNvPr id="85" name=""/>
            <p:cNvGrpSpPr/>
            <p:nvPr/>
          </p:nvGrpSpPr>
          <p:grpSpPr>
            <a:xfrm>
              <a:off x="563400" y="1728720"/>
              <a:ext cx="347400" cy="236520"/>
              <a:chOff x="563400" y="1728720"/>
              <a:chExt cx="347400" cy="236520"/>
            </a:xfrm>
          </p:grpSpPr>
          <p:sp>
            <p:nvSpPr>
              <p:cNvPr id="86" name=""/>
              <p:cNvSpPr/>
              <p:nvPr/>
            </p:nvSpPr>
            <p:spPr>
              <a:xfrm>
                <a:off x="563400" y="1728720"/>
                <a:ext cx="347400" cy="236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760" y="1787760"/>
                <a:ext cx="223920" cy="11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98400" y="1666800"/>
              <a:ext cx="76320" cy="63360"/>
              <a:chOff x="698400" y="1666800"/>
              <a:chExt cx="76320" cy="63360"/>
            </a:xfrm>
          </p:grpSpPr>
          <p:sp>
            <p:nvSpPr>
              <p:cNvPr id="89" name=""/>
              <p:cNvSpPr/>
              <p:nvPr/>
            </p:nvSpPr>
            <p:spPr>
              <a:xfrm>
                <a:off x="698400" y="166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74720" y="166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985680" y="1779480"/>
            <a:ext cx="2152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-3 (a) Panzer Battalion BG-GEBRB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15920" y="206064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57280" y="2125800"/>
            <a:ext cx="356760" cy="300600"/>
            <a:chOff x="557280" y="2125800"/>
            <a:chExt cx="356760" cy="300600"/>
          </a:xfrm>
        </p:grpSpPr>
        <p:grpSp>
          <p:nvGrpSpPr>
            <p:cNvPr id="94" name=""/>
            <p:cNvGrpSpPr/>
            <p:nvPr/>
          </p:nvGrpSpPr>
          <p:grpSpPr>
            <a:xfrm>
              <a:off x="696960" y="2125800"/>
              <a:ext cx="75960" cy="63360"/>
              <a:chOff x="696960" y="2125800"/>
              <a:chExt cx="75960" cy="63360"/>
            </a:xfrm>
          </p:grpSpPr>
          <p:sp>
            <p:nvSpPr>
              <p:cNvPr id="95" name=""/>
              <p:cNvSpPr/>
              <p:nvPr/>
            </p:nvSpPr>
            <p:spPr>
              <a:xfrm>
                <a:off x="696960" y="21258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72920" y="21258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57280" y="2189160"/>
              <a:ext cx="356760" cy="237240"/>
              <a:chOff x="557280" y="2189160"/>
              <a:chExt cx="356760" cy="237240"/>
            </a:xfrm>
          </p:grpSpPr>
          <p:sp>
            <p:nvSpPr>
              <p:cNvPr id="98" name=""/>
              <p:cNvSpPr/>
              <p:nvPr/>
            </p:nvSpPr>
            <p:spPr>
              <a:xfrm>
                <a:off x="557280" y="2189160"/>
                <a:ext cx="356760" cy="23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1000" y="228024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1009800" y="2282760"/>
            <a:ext cx="2261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Light Howitzer Battalion FS-GEBB01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Panzer Divisio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57280" y="2486160"/>
            <a:ext cx="356760" cy="300600"/>
            <a:chOff x="557280" y="2486160"/>
            <a:chExt cx="356760" cy="300600"/>
          </a:xfrm>
        </p:grpSpPr>
        <p:grpSp>
          <p:nvGrpSpPr>
            <p:cNvPr id="102" name=""/>
            <p:cNvGrpSpPr/>
            <p:nvPr/>
          </p:nvGrpSpPr>
          <p:grpSpPr>
            <a:xfrm>
              <a:off x="696960" y="2486160"/>
              <a:ext cx="75960" cy="63360"/>
              <a:chOff x="696960" y="2486160"/>
              <a:chExt cx="75960" cy="63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96960" y="248616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2920" y="248616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57280" y="2549520"/>
              <a:ext cx="356760" cy="237240"/>
              <a:chOff x="557280" y="2549520"/>
              <a:chExt cx="356760" cy="237240"/>
            </a:xfrm>
          </p:grpSpPr>
          <p:sp>
            <p:nvSpPr>
              <p:cNvPr id="106" name=""/>
              <p:cNvSpPr/>
              <p:nvPr/>
            </p:nvSpPr>
            <p:spPr>
              <a:xfrm>
                <a:off x="557280" y="2549520"/>
                <a:ext cx="356760" cy="23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1000" y="264060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1009800" y="2643120"/>
            <a:ext cx="2428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Heavy Howitzer Battalion FS-GEBRB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57280" y="2820960"/>
            <a:ext cx="356760" cy="301320"/>
            <a:chOff x="557280" y="2820960"/>
            <a:chExt cx="356760" cy="301320"/>
          </a:xfrm>
        </p:grpSpPr>
        <p:grpSp>
          <p:nvGrpSpPr>
            <p:cNvPr id="110" name=""/>
            <p:cNvGrpSpPr/>
            <p:nvPr/>
          </p:nvGrpSpPr>
          <p:grpSpPr>
            <a:xfrm>
              <a:off x="696960" y="2820960"/>
              <a:ext cx="75960" cy="63360"/>
              <a:chOff x="696960" y="2820960"/>
              <a:chExt cx="75960" cy="63360"/>
            </a:xfrm>
          </p:grpSpPr>
          <p:sp>
            <p:nvSpPr>
              <p:cNvPr id="111" name=""/>
              <p:cNvSpPr/>
              <p:nvPr/>
            </p:nvSpPr>
            <p:spPr>
              <a:xfrm>
                <a:off x="696960" y="282096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72920" y="282096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57280" y="2884680"/>
              <a:ext cx="356760" cy="237600"/>
              <a:chOff x="557280" y="2884680"/>
              <a:chExt cx="356760" cy="23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557280" y="288468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297576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1009800" y="2978280"/>
            <a:ext cx="2368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Mixed Howitzer Battalion FS-GEBRB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44720" y="2797200"/>
            <a:ext cx="6476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 (b,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4040" y="2492280"/>
            <a:ext cx="190440" cy="717480"/>
            <a:chOff x="284040" y="2492280"/>
            <a:chExt cx="190440" cy="717480"/>
          </a:xfrm>
        </p:grpSpPr>
        <p:sp>
          <p:nvSpPr>
            <p:cNvPr id="119" name=""/>
            <p:cNvSpPr/>
            <p:nvPr/>
          </p:nvSpPr>
          <p:spPr>
            <a:xfrm>
              <a:off x="284040" y="320976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84040" y="2492280"/>
              <a:ext cx="190440" cy="717480"/>
              <a:chOff x="284040" y="2492280"/>
              <a:chExt cx="190440" cy="717480"/>
            </a:xfrm>
          </p:grpSpPr>
          <p:sp>
            <p:nvSpPr>
              <p:cNvPr id="121" name=""/>
              <p:cNvSpPr/>
              <p:nvPr/>
            </p:nvSpPr>
            <p:spPr>
              <a:xfrm>
                <a:off x="284040" y="249228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4040" y="2492280"/>
                <a:ext cx="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72960" y="230040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2960" y="266688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2960" y="300996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280" y="5129280"/>
            <a:ext cx="38181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2 Panzer Battalion in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3 Panzer Battalion in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S-BRB02 in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 &amp;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S-BRG03 in 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&amp;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c) The basic structure of the Panzer Division contained 1 Panzer regiment and 2 motorized infantry regiments (BG-GEBRB03). The various Battalion subunits of these organizations could be cross-attached as needed. Note that the artillery support listed in BG-GEBRB03 are the same units listed here. Again, the support could be organized to fit the miss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2600" y="3252960"/>
            <a:ext cx="347040" cy="342360"/>
            <a:chOff x="552600" y="3252960"/>
            <a:chExt cx="347040" cy="342360"/>
          </a:xfrm>
        </p:grpSpPr>
        <p:grpSp>
          <p:nvGrpSpPr>
            <p:cNvPr id="128" name=""/>
            <p:cNvGrpSpPr/>
            <p:nvPr/>
          </p:nvGrpSpPr>
          <p:grpSpPr>
            <a:xfrm>
              <a:off x="687240" y="3252960"/>
              <a:ext cx="75960" cy="63360"/>
              <a:chOff x="687240" y="3252960"/>
              <a:chExt cx="75960" cy="63360"/>
            </a:xfrm>
          </p:grpSpPr>
          <p:sp>
            <p:nvSpPr>
              <p:cNvPr id="129" name=""/>
              <p:cNvSpPr/>
              <p:nvPr/>
            </p:nvSpPr>
            <p:spPr>
              <a:xfrm>
                <a:off x="687240" y="3252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3200" y="3252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52600" y="3316320"/>
              <a:ext cx="347040" cy="235800"/>
              <a:chOff x="552600" y="3316320"/>
              <a:chExt cx="347040" cy="235800"/>
            </a:xfrm>
          </p:grpSpPr>
          <p:sp>
            <p:nvSpPr>
              <p:cNvPr id="132" name=""/>
              <p:cNvSpPr/>
              <p:nvPr/>
            </p:nvSpPr>
            <p:spPr>
              <a:xfrm>
                <a:off x="552600" y="331632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55120" y="3320640"/>
                <a:ext cx="3394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600" y="3321000"/>
                <a:ext cx="344880" cy="223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85720" y="3568680"/>
              <a:ext cx="280080" cy="26640"/>
              <a:chOff x="585720" y="3568680"/>
              <a:chExt cx="280080" cy="26640"/>
            </a:xfrm>
          </p:grpSpPr>
          <p:sp>
            <p:nvSpPr>
              <p:cNvPr id="136" name=""/>
              <p:cNvSpPr/>
              <p:nvPr/>
            </p:nvSpPr>
            <p:spPr>
              <a:xfrm>
                <a:off x="585720" y="35686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9160" y="35686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1025640" y="3381480"/>
            <a:ext cx="2452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Motorized Infantry Battalion BG-GEBRB04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25640" y="3768840"/>
            <a:ext cx="30448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Kradschüzten (Motorcycle) Battalion BG-GEBRB05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90520" y="3270240"/>
            <a:ext cx="190440" cy="717480"/>
            <a:chOff x="290520" y="3270240"/>
            <a:chExt cx="190440" cy="717480"/>
          </a:xfrm>
        </p:grpSpPr>
        <p:sp>
          <p:nvSpPr>
            <p:cNvPr id="141" name=""/>
            <p:cNvSpPr/>
            <p:nvPr/>
          </p:nvSpPr>
          <p:spPr>
            <a:xfrm>
              <a:off x="290520" y="398772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90520" y="3270240"/>
              <a:ext cx="190440" cy="717480"/>
              <a:chOff x="290520" y="3270240"/>
              <a:chExt cx="190440" cy="717480"/>
            </a:xfrm>
          </p:grpSpPr>
          <p:sp>
            <p:nvSpPr>
              <p:cNvPr id="143" name=""/>
              <p:cNvSpPr/>
              <p:nvPr/>
            </p:nvSpPr>
            <p:spPr>
              <a:xfrm>
                <a:off x="290520" y="327024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0520" y="3270240"/>
                <a:ext cx="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1047600" y="3219480"/>
            <a:ext cx="17305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IONAL ATTACHMENTS (c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781280"/>
            <a:ext cx="0" cy="2781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4354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0052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3629160"/>
            <a:ext cx="6476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88960" y="4459320"/>
            <a:ext cx="239760" cy="188280"/>
            <a:chOff x="588960" y="4459320"/>
            <a:chExt cx="239760" cy="188280"/>
          </a:xfrm>
        </p:grpSpPr>
        <p:grpSp>
          <p:nvGrpSpPr>
            <p:cNvPr id="151" name=""/>
            <p:cNvGrpSpPr/>
            <p:nvPr/>
          </p:nvGrpSpPr>
          <p:grpSpPr>
            <a:xfrm>
              <a:off x="588960" y="4489560"/>
              <a:ext cx="239760" cy="158040"/>
              <a:chOff x="588960" y="4489560"/>
              <a:chExt cx="239760" cy="158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88960" y="4491000"/>
                <a:ext cx="23976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7640" y="4565520"/>
                <a:ext cx="11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88960" y="4490640"/>
                <a:ext cx="115920" cy="155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4880" y="4489560"/>
                <a:ext cx="12384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65280" y="4459320"/>
              <a:ext cx="85680" cy="27000"/>
              <a:chOff x="665280" y="4459320"/>
              <a:chExt cx="85680" cy="27000"/>
            </a:xfrm>
          </p:grpSpPr>
          <p:sp>
            <p:nvSpPr>
              <p:cNvPr id="157" name=""/>
              <p:cNvSpPr/>
              <p:nvPr/>
            </p:nvSpPr>
            <p:spPr>
              <a:xfrm>
                <a:off x="665280" y="4459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2520" y="4459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596880" y="4060800"/>
            <a:ext cx="239400" cy="220680"/>
            <a:chOff x="596880" y="4060800"/>
            <a:chExt cx="239400" cy="220680"/>
          </a:xfrm>
        </p:grpSpPr>
        <p:grpSp>
          <p:nvGrpSpPr>
            <p:cNvPr id="160" name=""/>
            <p:cNvGrpSpPr/>
            <p:nvPr/>
          </p:nvGrpSpPr>
          <p:grpSpPr>
            <a:xfrm>
              <a:off x="596880" y="4091040"/>
              <a:ext cx="239400" cy="190440"/>
              <a:chOff x="596880" y="4091040"/>
              <a:chExt cx="239400" cy="190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596880" y="4091040"/>
                <a:ext cx="239400" cy="158760"/>
                <a:chOff x="596880" y="4091040"/>
                <a:chExt cx="239400" cy="1587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96880" y="4092840"/>
                  <a:ext cx="23940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5200" y="416736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96880" y="4092840"/>
                  <a:ext cx="11556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440" y="4091040"/>
                  <a:ext cx="1234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604440" y="42544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120" y="42526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3440" y="42526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7640" y="4252680"/>
                <a:ext cx="6156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72840" y="4060800"/>
              <a:ext cx="85680" cy="27000"/>
              <a:chOff x="672840" y="4060800"/>
              <a:chExt cx="85680" cy="27000"/>
            </a:xfrm>
          </p:grpSpPr>
          <p:sp>
            <p:nvSpPr>
              <p:cNvPr id="171" name=""/>
              <p:cNvSpPr/>
              <p:nvPr/>
            </p:nvSpPr>
            <p:spPr>
              <a:xfrm>
                <a:off x="672840" y="4060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0080" y="4060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590400" y="4759200"/>
            <a:ext cx="231840" cy="223560"/>
            <a:chOff x="590400" y="4759200"/>
            <a:chExt cx="231840" cy="223560"/>
          </a:xfrm>
        </p:grpSpPr>
        <p:grpSp>
          <p:nvGrpSpPr>
            <p:cNvPr id="174" name=""/>
            <p:cNvGrpSpPr/>
            <p:nvPr/>
          </p:nvGrpSpPr>
          <p:grpSpPr>
            <a:xfrm>
              <a:off x="590400" y="4792680"/>
              <a:ext cx="231840" cy="190080"/>
              <a:chOff x="590400" y="4792680"/>
              <a:chExt cx="231840" cy="190080"/>
            </a:xfrm>
          </p:grpSpPr>
          <p:sp>
            <p:nvSpPr>
              <p:cNvPr id="175" name=""/>
              <p:cNvSpPr/>
              <p:nvPr/>
            </p:nvSpPr>
            <p:spPr>
              <a:xfrm>
                <a:off x="590400" y="47926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0840" y="49554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2640" y="495540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63480" y="4759200"/>
              <a:ext cx="85680" cy="27000"/>
              <a:chOff x="663480" y="4759200"/>
              <a:chExt cx="85680" cy="27000"/>
            </a:xfrm>
          </p:grpSpPr>
          <p:sp>
            <p:nvSpPr>
              <p:cNvPr id="179" name=""/>
              <p:cNvSpPr/>
              <p:nvPr/>
            </p:nvSpPr>
            <p:spPr>
              <a:xfrm>
                <a:off x="663480" y="4759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0720" y="4759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008000" y="4129200"/>
            <a:ext cx="1986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dKfz 7/2 SP Antiaircraft Gun  GE-P15 (1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06560" y="4352760"/>
            <a:ext cx="6476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08000" y="4502160"/>
            <a:ext cx="1909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20mm Flak Gun                       GE-43 (2 per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708440"/>
            <a:ext cx="4730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6120" y="4076640"/>
            <a:ext cx="190440" cy="1007640"/>
            <a:chOff x="276120" y="4076640"/>
            <a:chExt cx="190440" cy="1007640"/>
          </a:xfrm>
        </p:grpSpPr>
        <p:sp>
          <p:nvSpPr>
            <p:cNvPr id="186" name=""/>
            <p:cNvSpPr/>
            <p:nvPr/>
          </p:nvSpPr>
          <p:spPr>
            <a:xfrm>
              <a:off x="276120" y="508428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76120" y="4076640"/>
              <a:ext cx="190440" cy="1007280"/>
              <a:chOff x="276120" y="4076640"/>
              <a:chExt cx="190440" cy="100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276120" y="407664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6120" y="4076640"/>
                <a:ext cx="0" cy="100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380880" y="455436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15920" y="4867200"/>
            <a:ext cx="19098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Light Truck         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46560" y="245124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53040" y="275580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46560" y="310680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18050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8640" y="20797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41880" y="852480"/>
            <a:ext cx="0" cy="12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199040" y="682560"/>
            <a:ext cx="82440" cy="63360"/>
            <a:chOff x="4199040" y="682560"/>
            <a:chExt cx="82440" cy="63360"/>
          </a:xfrm>
        </p:grpSpPr>
        <p:sp>
          <p:nvSpPr>
            <p:cNvPr id="199" name=""/>
            <p:cNvSpPr/>
            <p:nvPr/>
          </p:nvSpPr>
          <p:spPr>
            <a:xfrm>
              <a:off x="4281480" y="68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9040" y="68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67280" y="746280"/>
            <a:ext cx="347400" cy="236520"/>
            <a:chOff x="4067280" y="746280"/>
            <a:chExt cx="347400" cy="236520"/>
          </a:xfrm>
        </p:grpSpPr>
        <p:sp>
          <p:nvSpPr>
            <p:cNvPr id="202" name=""/>
            <p:cNvSpPr/>
            <p:nvPr/>
          </p:nvSpPr>
          <p:spPr>
            <a:xfrm>
              <a:off x="4067280" y="746280"/>
              <a:ext cx="347400" cy="23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30640" y="805320"/>
              <a:ext cx="2239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59320" y="736560"/>
            <a:ext cx="151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group-GEBRB02 Panzer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0080" y="128736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40080" y="149220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484520" y="1139760"/>
            <a:ext cx="238320" cy="206280"/>
            <a:chOff x="4484520" y="1139760"/>
            <a:chExt cx="238320" cy="206280"/>
          </a:xfrm>
        </p:grpSpPr>
        <p:grpSp>
          <p:nvGrpSpPr>
            <p:cNvPr id="208" name=""/>
            <p:cNvGrpSpPr/>
            <p:nvPr/>
          </p:nvGrpSpPr>
          <p:grpSpPr>
            <a:xfrm>
              <a:off x="4484520" y="1185840"/>
              <a:ext cx="238320" cy="160200"/>
              <a:chOff x="4484520" y="1185840"/>
              <a:chExt cx="238320" cy="1602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484520" y="1185840"/>
                <a:ext cx="238320" cy="160200"/>
                <a:chOff x="4484520" y="1185840"/>
                <a:chExt cx="238320" cy="160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484520" y="1185840"/>
                  <a:ext cx="238320" cy="160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519440" y="1217160"/>
                  <a:ext cx="168840" cy="9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567680" y="1244880"/>
                <a:ext cx="72000" cy="42120"/>
                <a:chOff x="4567680" y="1244880"/>
                <a:chExt cx="72000" cy="4212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4567680" y="1244880"/>
                  <a:ext cx="20880" cy="38880"/>
                  <a:chOff x="4567680" y="1244880"/>
                  <a:chExt cx="20880" cy="3888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4567680" y="1244880"/>
                    <a:ext cx="20880" cy="38880"/>
                    <a:chOff x="4567680" y="1244880"/>
                    <a:chExt cx="20880" cy="388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567680" y="1244880"/>
                      <a:ext cx="0" cy="38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588560" y="1244880"/>
                      <a:ext cx="0" cy="38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>
                    <a:off x="4567680" y="1263960"/>
                    <a:ext cx="201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>
                  <a:off x="4606920" y="1244880"/>
                  <a:ext cx="28800" cy="42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627440" y="1277280"/>
                  <a:ext cx="12240" cy="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4591080" y="1139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489560" y="1390680"/>
            <a:ext cx="231840" cy="193680"/>
            <a:chOff x="4489560" y="1390680"/>
            <a:chExt cx="231840" cy="193680"/>
          </a:xfrm>
        </p:grpSpPr>
        <p:grpSp>
          <p:nvGrpSpPr>
            <p:cNvPr id="222" name=""/>
            <p:cNvGrpSpPr/>
            <p:nvPr/>
          </p:nvGrpSpPr>
          <p:grpSpPr>
            <a:xfrm>
              <a:off x="4489560" y="1427400"/>
              <a:ext cx="231840" cy="156960"/>
              <a:chOff x="4489560" y="1427400"/>
              <a:chExt cx="231840" cy="156960"/>
            </a:xfrm>
          </p:grpSpPr>
          <p:sp>
            <p:nvSpPr>
              <p:cNvPr id="223" name=""/>
              <p:cNvSpPr/>
              <p:nvPr/>
            </p:nvSpPr>
            <p:spPr>
              <a:xfrm>
                <a:off x="4489560" y="14274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32040" y="1466640"/>
                <a:ext cx="14868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562640" y="1390680"/>
              <a:ext cx="85680" cy="27000"/>
              <a:chOff x="4562640" y="1390680"/>
              <a:chExt cx="85680" cy="27000"/>
            </a:xfrm>
          </p:grpSpPr>
          <p:sp>
            <p:nvSpPr>
              <p:cNvPr id="226" name=""/>
              <p:cNvSpPr/>
              <p:nvPr/>
            </p:nvSpPr>
            <p:spPr>
              <a:xfrm>
                <a:off x="4562640" y="1390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19880" y="1390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4842360" y="1238400"/>
            <a:ext cx="12978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zBefWg III           GE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41640" y="1467000"/>
            <a:ext cx="13053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zKpfw II               GE-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1096920"/>
            <a:ext cx="473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44880" y="99216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68680" y="1641600"/>
            <a:ext cx="283680" cy="256680"/>
            <a:chOff x="4468680" y="1641600"/>
            <a:chExt cx="283680" cy="256680"/>
          </a:xfrm>
        </p:grpSpPr>
        <p:sp>
          <p:nvSpPr>
            <p:cNvPr id="233" name=""/>
            <p:cNvSpPr/>
            <p:nvPr/>
          </p:nvSpPr>
          <p:spPr>
            <a:xfrm>
              <a:off x="4611600" y="1641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468680" y="1704960"/>
              <a:ext cx="283680" cy="193320"/>
              <a:chOff x="4468680" y="1704960"/>
              <a:chExt cx="283680" cy="193320"/>
            </a:xfrm>
          </p:grpSpPr>
          <p:sp>
            <p:nvSpPr>
              <p:cNvPr id="235" name=""/>
              <p:cNvSpPr/>
              <p:nvPr/>
            </p:nvSpPr>
            <p:spPr>
              <a:xfrm>
                <a:off x="4468680" y="1704960"/>
                <a:ext cx="283680" cy="19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09360" y="1742040"/>
                <a:ext cx="201600" cy="11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4844880" y="1757520"/>
            <a:ext cx="223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-3 (a) Light Panzer Co.   ME-GEBRB0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44880" y="164952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468680" y="1913040"/>
            <a:ext cx="283680" cy="256680"/>
            <a:chOff x="4468680" y="1913040"/>
            <a:chExt cx="283680" cy="256680"/>
          </a:xfrm>
        </p:grpSpPr>
        <p:sp>
          <p:nvSpPr>
            <p:cNvPr id="240" name=""/>
            <p:cNvSpPr/>
            <p:nvPr/>
          </p:nvSpPr>
          <p:spPr>
            <a:xfrm>
              <a:off x="4611600" y="1913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468680" y="1976400"/>
              <a:ext cx="283680" cy="193320"/>
              <a:chOff x="4468680" y="1976400"/>
              <a:chExt cx="283680" cy="19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68680" y="1976400"/>
                <a:ext cx="283680" cy="19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09360" y="2013480"/>
                <a:ext cx="201600" cy="11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4844880" y="2028960"/>
            <a:ext cx="2376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Medium Panzer Co.  ME-GEBRB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02160" y="2330280"/>
            <a:ext cx="239400" cy="220680"/>
            <a:chOff x="4502160" y="2330280"/>
            <a:chExt cx="239400" cy="220680"/>
          </a:xfrm>
        </p:grpSpPr>
        <p:grpSp>
          <p:nvGrpSpPr>
            <p:cNvPr id="246" name=""/>
            <p:cNvGrpSpPr/>
            <p:nvPr/>
          </p:nvGrpSpPr>
          <p:grpSpPr>
            <a:xfrm>
              <a:off x="4502160" y="2360520"/>
              <a:ext cx="239400" cy="190440"/>
              <a:chOff x="4502160" y="2360520"/>
              <a:chExt cx="239400" cy="1904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4502160" y="2360520"/>
                <a:ext cx="239400" cy="158760"/>
                <a:chOff x="4502160" y="2360520"/>
                <a:chExt cx="239400" cy="1587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502160" y="2362320"/>
                  <a:ext cx="23940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560480" y="243684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4502160" y="2362320"/>
                  <a:ext cx="11556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17720" y="2360520"/>
                  <a:ext cx="1234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4509720" y="2523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22400" y="252216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98720" y="252216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2920" y="2522160"/>
                <a:ext cx="6156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78120" y="2330280"/>
              <a:ext cx="85680" cy="27000"/>
              <a:chOff x="4578120" y="2330280"/>
              <a:chExt cx="85680" cy="27000"/>
            </a:xfrm>
          </p:grpSpPr>
          <p:sp>
            <p:nvSpPr>
              <p:cNvPr id="257" name=""/>
              <p:cNvSpPr/>
              <p:nvPr/>
            </p:nvSpPr>
            <p:spPr>
              <a:xfrm>
                <a:off x="4578120" y="2330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35360" y="2330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4844880" y="2398680"/>
            <a:ext cx="1986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dKfz 10/4 SP Antiaircraft Gun  GE-19  (4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4880" y="2235240"/>
            <a:ext cx="15940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IONAL ATTACH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44880" y="2712960"/>
            <a:ext cx="1944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Mot. Pioniere Co.   ME-GEBRB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73720" y="2603520"/>
            <a:ext cx="288360" cy="290520"/>
            <a:chOff x="4473720" y="2603520"/>
            <a:chExt cx="288360" cy="290520"/>
          </a:xfrm>
        </p:grpSpPr>
        <p:sp>
          <p:nvSpPr>
            <p:cNvPr id="263" name=""/>
            <p:cNvSpPr/>
            <p:nvPr/>
          </p:nvSpPr>
          <p:spPr>
            <a:xfrm>
              <a:off x="4624560" y="260352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476960" y="2663640"/>
              <a:ext cx="27612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3720" y="2664000"/>
              <a:ext cx="282600" cy="18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4498920" y="2867040"/>
              <a:ext cx="233280" cy="27000"/>
              <a:chOff x="4498920" y="2867040"/>
              <a:chExt cx="233280" cy="27000"/>
            </a:xfrm>
          </p:grpSpPr>
          <p:sp>
            <p:nvSpPr>
              <p:cNvPr id="267" name=""/>
              <p:cNvSpPr/>
              <p:nvPr/>
            </p:nvSpPr>
            <p:spPr>
              <a:xfrm>
                <a:off x="4498920" y="2867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5200" y="2867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478400" y="2660760"/>
              <a:ext cx="283680" cy="193320"/>
              <a:chOff x="4478400" y="2660760"/>
              <a:chExt cx="283680" cy="193320"/>
            </a:xfrm>
          </p:grpSpPr>
          <p:sp>
            <p:nvSpPr>
              <p:cNvPr id="270" name=""/>
              <p:cNvSpPr/>
              <p:nvPr/>
            </p:nvSpPr>
            <p:spPr>
              <a:xfrm>
                <a:off x="4478400" y="2660760"/>
                <a:ext cx="283680" cy="19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4563720" y="2729160"/>
                <a:ext cx="112320" cy="56160"/>
                <a:chOff x="4563720" y="2729160"/>
                <a:chExt cx="112320" cy="561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563720" y="2729160"/>
                  <a:ext cx="0" cy="5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17360" y="2729160"/>
                  <a:ext cx="0" cy="5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76040" y="2729160"/>
                  <a:ext cx="0" cy="5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563720" y="2729160"/>
                  <a:ext cx="112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4092480" y="2552760"/>
            <a:ext cx="190440" cy="711000"/>
            <a:chOff x="4092480" y="2552760"/>
            <a:chExt cx="190440" cy="711000"/>
          </a:xfrm>
        </p:grpSpPr>
        <p:sp>
          <p:nvSpPr>
            <p:cNvPr id="277" name=""/>
            <p:cNvSpPr/>
            <p:nvPr/>
          </p:nvSpPr>
          <p:spPr>
            <a:xfrm>
              <a:off x="4092480" y="326376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092480" y="2552760"/>
              <a:ext cx="190440" cy="711000"/>
              <a:chOff x="4092480" y="2552760"/>
              <a:chExt cx="190440" cy="711000"/>
            </a:xfrm>
          </p:grpSpPr>
          <p:sp>
            <p:nvSpPr>
              <p:cNvPr id="279" name=""/>
              <p:cNvSpPr/>
              <p:nvPr/>
            </p:nvSpPr>
            <p:spPr>
              <a:xfrm>
                <a:off x="4092480" y="255276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92480" y="2552760"/>
                <a:ext cx="0" cy="71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4844880" y="3040200"/>
            <a:ext cx="2154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Arm. Pioniere Co.   ME-GEBRB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486320" y="2935440"/>
            <a:ext cx="291960" cy="252360"/>
            <a:chOff x="4486320" y="2935440"/>
            <a:chExt cx="291960" cy="252360"/>
          </a:xfrm>
        </p:grpSpPr>
        <p:sp>
          <p:nvSpPr>
            <p:cNvPr id="283" name=""/>
            <p:cNvSpPr/>
            <p:nvPr/>
          </p:nvSpPr>
          <p:spPr>
            <a:xfrm>
              <a:off x="4632120" y="2935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87760" y="2997360"/>
              <a:ext cx="290520" cy="19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487760" y="2997000"/>
              <a:ext cx="28728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86320" y="2997360"/>
              <a:ext cx="291960" cy="18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0600" y="3044880"/>
              <a:ext cx="20484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606920" y="3075120"/>
              <a:ext cx="55440" cy="27000"/>
              <a:chOff x="4606920" y="3075120"/>
              <a:chExt cx="55440" cy="27000"/>
            </a:xfrm>
          </p:grpSpPr>
          <p:sp>
            <p:nvSpPr>
              <p:cNvPr id="289" name=""/>
              <p:cNvSpPr/>
              <p:nvPr/>
            </p:nvSpPr>
            <p:spPr>
              <a:xfrm>
                <a:off x="4606920" y="30751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35360" y="30751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62360" y="307512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6920" y="3075120"/>
                <a:ext cx="5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4844880" y="2873520"/>
            <a:ext cx="6480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3320" y="2019240"/>
            <a:ext cx="0" cy="109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3343320"/>
            <a:ext cx="27352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 Most panzer battalions contain two light companies and one medium company. The battalions in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regiments had THREE light companies and one medium compan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 The 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had 2 Mot. Pioniere and 1 Arm. Pioniere compani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he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had 3 Mot. Pioniere companies and no Arm. Pioniere compan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50800" y="3625920"/>
            <a:ext cx="347400" cy="296280"/>
            <a:chOff x="550800" y="3625920"/>
            <a:chExt cx="347400" cy="296280"/>
          </a:xfrm>
        </p:grpSpPr>
        <p:grpSp>
          <p:nvGrpSpPr>
            <p:cNvPr id="297" name=""/>
            <p:cNvGrpSpPr/>
            <p:nvPr/>
          </p:nvGrpSpPr>
          <p:grpSpPr>
            <a:xfrm>
              <a:off x="687240" y="3625920"/>
              <a:ext cx="76320" cy="63360"/>
              <a:chOff x="687240" y="3625920"/>
              <a:chExt cx="76320" cy="63360"/>
            </a:xfrm>
          </p:grpSpPr>
          <p:sp>
            <p:nvSpPr>
              <p:cNvPr id="298" name=""/>
              <p:cNvSpPr/>
              <p:nvPr/>
            </p:nvSpPr>
            <p:spPr>
              <a:xfrm>
                <a:off x="687240" y="3625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3560" y="3625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50800" y="3686040"/>
              <a:ext cx="347400" cy="236160"/>
              <a:chOff x="550800" y="3686040"/>
              <a:chExt cx="347400" cy="236160"/>
            </a:xfrm>
          </p:grpSpPr>
          <p:sp>
            <p:nvSpPr>
              <p:cNvPr id="301" name=""/>
              <p:cNvSpPr/>
              <p:nvPr/>
            </p:nvSpPr>
            <p:spPr>
              <a:xfrm>
                <a:off x="550800" y="3686040"/>
                <a:ext cx="347400" cy="23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50800" y="3688200"/>
                <a:ext cx="34056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5640" y="385524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2240" y="385524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26960" y="368604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800" y="641520"/>
            <a:ext cx="0" cy="159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87200" y="105840"/>
            <a:ext cx="47070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G-BRB03,04 1941 Panzer Division Battlegroups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14200" y="442800"/>
            <a:ext cx="347040" cy="330480"/>
            <a:chOff x="214200" y="442800"/>
            <a:chExt cx="347040" cy="330480"/>
          </a:xfrm>
        </p:grpSpPr>
        <p:grpSp>
          <p:nvGrpSpPr>
            <p:cNvPr id="309" name=""/>
            <p:cNvGrpSpPr/>
            <p:nvPr/>
          </p:nvGrpSpPr>
          <p:grpSpPr>
            <a:xfrm>
              <a:off x="321840" y="442800"/>
              <a:ext cx="131760" cy="63720"/>
              <a:chOff x="321840" y="442800"/>
              <a:chExt cx="131760" cy="63720"/>
            </a:xfrm>
          </p:grpSpPr>
          <p:sp>
            <p:nvSpPr>
              <p:cNvPr id="310" name=""/>
              <p:cNvSpPr/>
              <p:nvPr/>
            </p:nvSpPr>
            <p:spPr>
              <a:xfrm>
                <a:off x="387000" y="4428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1840" y="4428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3600" y="4428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14200" y="498600"/>
              <a:ext cx="347040" cy="274680"/>
              <a:chOff x="214200" y="498600"/>
              <a:chExt cx="347040" cy="27468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214200" y="498600"/>
                <a:ext cx="347040" cy="236160"/>
                <a:chOff x="214200" y="498600"/>
                <a:chExt cx="347040" cy="2361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14200" y="498600"/>
                  <a:ext cx="34704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216720" y="503280"/>
                  <a:ext cx="339480" cy="228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14200" y="503280"/>
                  <a:ext cx="344880" cy="224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63160" y="746280"/>
                <a:ext cx="250560" cy="27000"/>
                <a:chOff x="263160" y="746280"/>
                <a:chExt cx="250560" cy="27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63160" y="7462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87080" y="746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1" name=""/>
          <p:cNvSpPr/>
          <p:nvPr/>
        </p:nvSpPr>
        <p:spPr>
          <a:xfrm>
            <a:off x="630360" y="430200"/>
            <a:ext cx="17143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group-GEBRB03 Motorized Infantry Regiment (Panzer Division)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21752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15960" y="1100160"/>
            <a:ext cx="233280" cy="205920"/>
            <a:chOff x="615960" y="1100160"/>
            <a:chExt cx="233280" cy="205920"/>
          </a:xfrm>
        </p:grpSpPr>
        <p:grpSp>
          <p:nvGrpSpPr>
            <p:cNvPr id="324" name=""/>
            <p:cNvGrpSpPr/>
            <p:nvPr/>
          </p:nvGrpSpPr>
          <p:grpSpPr>
            <a:xfrm>
              <a:off x="615960" y="1149120"/>
              <a:ext cx="233280" cy="156960"/>
              <a:chOff x="615960" y="1149120"/>
              <a:chExt cx="233280" cy="156960"/>
            </a:xfrm>
          </p:grpSpPr>
          <p:sp>
            <p:nvSpPr>
              <p:cNvPr id="325" name=""/>
              <p:cNvSpPr/>
              <p:nvPr/>
            </p:nvSpPr>
            <p:spPr>
              <a:xfrm>
                <a:off x="617400" y="11491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5960" y="1153800"/>
                <a:ext cx="21888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19280" y="11001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74880" y="1038240"/>
            <a:ext cx="470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73440" y="1168560"/>
            <a:ext cx="14014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GE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2320" y="1255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17400" y="1366920"/>
            <a:ext cx="231840" cy="228240"/>
            <a:chOff x="617400" y="1366920"/>
            <a:chExt cx="231840" cy="228240"/>
          </a:xfrm>
        </p:grpSpPr>
        <p:grpSp>
          <p:nvGrpSpPr>
            <p:cNvPr id="332" name=""/>
            <p:cNvGrpSpPr/>
            <p:nvPr/>
          </p:nvGrpSpPr>
          <p:grpSpPr>
            <a:xfrm>
              <a:off x="617400" y="1405080"/>
              <a:ext cx="231840" cy="190080"/>
              <a:chOff x="617400" y="1405080"/>
              <a:chExt cx="231840" cy="190080"/>
            </a:xfrm>
          </p:grpSpPr>
          <p:sp>
            <p:nvSpPr>
              <p:cNvPr id="333" name=""/>
              <p:cNvSpPr/>
              <p:nvPr/>
            </p:nvSpPr>
            <p:spPr>
              <a:xfrm>
                <a:off x="617400" y="14050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7840" y="15678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09640" y="156780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18920" y="1366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974880" y="131436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74880" y="1449360"/>
            <a:ext cx="14014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übelwagen              GE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933480"/>
            <a:ext cx="13784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8720" y="1690560"/>
            <a:ext cx="347400" cy="343080"/>
            <a:chOff x="558720" y="1690560"/>
            <a:chExt cx="347400" cy="343080"/>
          </a:xfrm>
        </p:grpSpPr>
        <p:grpSp>
          <p:nvGrpSpPr>
            <p:cNvPr id="341" name=""/>
            <p:cNvGrpSpPr/>
            <p:nvPr/>
          </p:nvGrpSpPr>
          <p:grpSpPr>
            <a:xfrm>
              <a:off x="693720" y="1690560"/>
              <a:ext cx="76320" cy="63360"/>
              <a:chOff x="693720" y="1690560"/>
              <a:chExt cx="76320" cy="63360"/>
            </a:xfrm>
          </p:grpSpPr>
          <p:sp>
            <p:nvSpPr>
              <p:cNvPr id="342" name=""/>
              <p:cNvSpPr/>
              <p:nvPr/>
            </p:nvSpPr>
            <p:spPr>
              <a:xfrm>
                <a:off x="693720" y="1690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0040" y="1690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58720" y="1754280"/>
              <a:ext cx="347400" cy="236160"/>
              <a:chOff x="558720" y="1754280"/>
              <a:chExt cx="347400" cy="236160"/>
            </a:xfrm>
          </p:grpSpPr>
          <p:sp>
            <p:nvSpPr>
              <p:cNvPr id="345" name=""/>
              <p:cNvSpPr/>
              <p:nvPr/>
            </p:nvSpPr>
            <p:spPr>
              <a:xfrm>
                <a:off x="558720" y="1754280"/>
                <a:ext cx="347400" cy="23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61240" y="1758960"/>
                <a:ext cx="339840" cy="228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8720" y="1758960"/>
                <a:ext cx="345240" cy="224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92200" y="2006640"/>
              <a:ext cx="280440" cy="27000"/>
              <a:chOff x="592200" y="2006640"/>
              <a:chExt cx="280440" cy="27000"/>
            </a:xfrm>
          </p:grpSpPr>
          <p:sp>
            <p:nvSpPr>
              <p:cNvPr id="349" name=""/>
              <p:cNvSpPr/>
              <p:nvPr/>
            </p:nvSpPr>
            <p:spPr>
              <a:xfrm>
                <a:off x="592200" y="2006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46000" y="2006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974880" y="1819440"/>
            <a:ext cx="2452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Motorized Infantry Battalion BG-GEBRB04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4880" y="2206800"/>
            <a:ext cx="3025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Kradschüzten (Motorcycle) Battalion BG-GEBRB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74880" y="168912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74880" y="241920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4040" y="2452680"/>
            <a:ext cx="356760" cy="301320"/>
            <a:chOff x="554040" y="2452680"/>
            <a:chExt cx="356760" cy="301320"/>
          </a:xfrm>
        </p:grpSpPr>
        <p:grpSp>
          <p:nvGrpSpPr>
            <p:cNvPr id="356" name=""/>
            <p:cNvGrpSpPr/>
            <p:nvPr/>
          </p:nvGrpSpPr>
          <p:grpSpPr>
            <a:xfrm>
              <a:off x="693720" y="2452680"/>
              <a:ext cx="75960" cy="63360"/>
              <a:chOff x="693720" y="2452680"/>
              <a:chExt cx="75960" cy="63360"/>
            </a:xfrm>
          </p:grpSpPr>
          <p:sp>
            <p:nvSpPr>
              <p:cNvPr id="357" name=""/>
              <p:cNvSpPr/>
              <p:nvPr/>
            </p:nvSpPr>
            <p:spPr>
              <a:xfrm>
                <a:off x="693720" y="245268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9680" y="245268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54040" y="2516400"/>
              <a:ext cx="356760" cy="237600"/>
              <a:chOff x="554040" y="2516400"/>
              <a:chExt cx="356760" cy="237600"/>
            </a:xfrm>
          </p:grpSpPr>
          <p:sp>
            <p:nvSpPr>
              <p:cNvPr id="360" name=""/>
              <p:cNvSpPr/>
              <p:nvPr/>
            </p:nvSpPr>
            <p:spPr>
              <a:xfrm>
                <a:off x="554040" y="251640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7760" y="260748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974880" y="2585880"/>
            <a:ext cx="24620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Light Howitzer Battalion FS-GEBRB01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Panzer Divisio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54040" y="2813040"/>
            <a:ext cx="356760" cy="301320"/>
            <a:chOff x="554040" y="2813040"/>
            <a:chExt cx="356760" cy="301320"/>
          </a:xfrm>
        </p:grpSpPr>
        <p:grpSp>
          <p:nvGrpSpPr>
            <p:cNvPr id="364" name=""/>
            <p:cNvGrpSpPr/>
            <p:nvPr/>
          </p:nvGrpSpPr>
          <p:grpSpPr>
            <a:xfrm>
              <a:off x="693720" y="2813040"/>
              <a:ext cx="75960" cy="63360"/>
              <a:chOff x="693720" y="2813040"/>
              <a:chExt cx="75960" cy="63360"/>
            </a:xfrm>
          </p:grpSpPr>
          <p:sp>
            <p:nvSpPr>
              <p:cNvPr id="365" name=""/>
              <p:cNvSpPr/>
              <p:nvPr/>
            </p:nvSpPr>
            <p:spPr>
              <a:xfrm>
                <a:off x="693720" y="28130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69680" y="28130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54040" y="2876760"/>
              <a:ext cx="356760" cy="237600"/>
              <a:chOff x="554040" y="2876760"/>
              <a:chExt cx="356760" cy="237600"/>
            </a:xfrm>
          </p:grpSpPr>
          <p:sp>
            <p:nvSpPr>
              <p:cNvPr id="368" name=""/>
              <p:cNvSpPr/>
              <p:nvPr/>
            </p:nvSpPr>
            <p:spPr>
              <a:xfrm>
                <a:off x="554040" y="287676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760" y="296784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974880" y="2970360"/>
            <a:ext cx="248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Heavy Howitzer Battalion FS-GEBRB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54040" y="3147840"/>
            <a:ext cx="356760" cy="301320"/>
            <a:chOff x="554040" y="3147840"/>
            <a:chExt cx="356760" cy="301320"/>
          </a:xfrm>
        </p:grpSpPr>
        <p:grpSp>
          <p:nvGrpSpPr>
            <p:cNvPr id="372" name=""/>
            <p:cNvGrpSpPr/>
            <p:nvPr/>
          </p:nvGrpSpPr>
          <p:grpSpPr>
            <a:xfrm>
              <a:off x="693720" y="3147840"/>
              <a:ext cx="75960" cy="63360"/>
              <a:chOff x="693720" y="3147840"/>
              <a:chExt cx="75960" cy="63360"/>
            </a:xfrm>
          </p:grpSpPr>
          <p:sp>
            <p:nvSpPr>
              <p:cNvPr id="373" name=""/>
              <p:cNvSpPr/>
              <p:nvPr/>
            </p:nvSpPr>
            <p:spPr>
              <a:xfrm>
                <a:off x="693720" y="31478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9680" y="31478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54040" y="3211560"/>
              <a:ext cx="356760" cy="237600"/>
              <a:chOff x="554040" y="3211560"/>
              <a:chExt cx="356760" cy="237600"/>
            </a:xfrm>
          </p:grpSpPr>
          <p:sp>
            <p:nvSpPr>
              <p:cNvPr id="376" name=""/>
              <p:cNvSpPr/>
              <p:nvPr/>
            </p:nvSpPr>
            <p:spPr>
              <a:xfrm>
                <a:off x="554040" y="321156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7760" y="330264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974880" y="3305160"/>
            <a:ext cx="2368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Mixed Howitzer Battalion FS-GEBRB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74880" y="3124080"/>
            <a:ext cx="17762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 (see notes to BG-BRB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4120" y="262728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4120" y="299412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4120" y="333684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99880" y="2786040"/>
            <a:ext cx="190440" cy="717480"/>
            <a:chOff x="299880" y="2786040"/>
            <a:chExt cx="190440" cy="717480"/>
          </a:xfrm>
        </p:grpSpPr>
        <p:sp>
          <p:nvSpPr>
            <p:cNvPr id="384" name=""/>
            <p:cNvSpPr/>
            <p:nvPr/>
          </p:nvSpPr>
          <p:spPr>
            <a:xfrm>
              <a:off x="299880" y="350352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99880" y="2786040"/>
              <a:ext cx="190440" cy="717480"/>
              <a:chOff x="299880" y="2786040"/>
              <a:chExt cx="190440" cy="717480"/>
            </a:xfrm>
          </p:grpSpPr>
          <p:sp>
            <p:nvSpPr>
              <p:cNvPr id="386" name=""/>
              <p:cNvSpPr/>
              <p:nvPr/>
            </p:nvSpPr>
            <p:spPr>
              <a:xfrm>
                <a:off x="299880" y="278604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9880" y="2786040"/>
                <a:ext cx="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384120" y="223056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2040" y="187164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3480" y="446256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4640" y="404172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2720" y="4319640"/>
            <a:ext cx="239760" cy="188280"/>
            <a:chOff x="612720" y="4319640"/>
            <a:chExt cx="239760" cy="188280"/>
          </a:xfrm>
        </p:grpSpPr>
        <p:grpSp>
          <p:nvGrpSpPr>
            <p:cNvPr id="393" name=""/>
            <p:cNvGrpSpPr/>
            <p:nvPr/>
          </p:nvGrpSpPr>
          <p:grpSpPr>
            <a:xfrm>
              <a:off x="612720" y="4349880"/>
              <a:ext cx="239760" cy="158040"/>
              <a:chOff x="612720" y="4349880"/>
              <a:chExt cx="239760" cy="158040"/>
            </a:xfrm>
          </p:grpSpPr>
          <p:sp>
            <p:nvSpPr>
              <p:cNvPr id="394" name=""/>
              <p:cNvSpPr/>
              <p:nvPr/>
            </p:nvSpPr>
            <p:spPr>
              <a:xfrm>
                <a:off x="612720" y="4351320"/>
                <a:ext cx="23976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1400" y="4425840"/>
                <a:ext cx="11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12720" y="4350960"/>
                <a:ext cx="115920" cy="155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8640" y="4349880"/>
                <a:ext cx="12384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89040" y="4319640"/>
              <a:ext cx="85680" cy="27000"/>
              <a:chOff x="689040" y="4319640"/>
              <a:chExt cx="85680" cy="27000"/>
            </a:xfrm>
          </p:grpSpPr>
          <p:sp>
            <p:nvSpPr>
              <p:cNvPr id="399" name=""/>
              <p:cNvSpPr/>
              <p:nvPr/>
            </p:nvSpPr>
            <p:spPr>
              <a:xfrm>
                <a:off x="689040" y="4319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6280" y="4319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620640" y="3921120"/>
            <a:ext cx="239400" cy="220680"/>
            <a:chOff x="620640" y="3921120"/>
            <a:chExt cx="239400" cy="220680"/>
          </a:xfrm>
        </p:grpSpPr>
        <p:grpSp>
          <p:nvGrpSpPr>
            <p:cNvPr id="402" name=""/>
            <p:cNvGrpSpPr/>
            <p:nvPr/>
          </p:nvGrpSpPr>
          <p:grpSpPr>
            <a:xfrm>
              <a:off x="620640" y="3951360"/>
              <a:ext cx="239400" cy="190440"/>
              <a:chOff x="620640" y="3951360"/>
              <a:chExt cx="239400" cy="19044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20640" y="3951360"/>
                <a:ext cx="239400" cy="158760"/>
                <a:chOff x="620640" y="3951360"/>
                <a:chExt cx="239400" cy="1587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20640" y="3953160"/>
                  <a:ext cx="23940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960" y="402768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620640" y="3953160"/>
                  <a:ext cx="11556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36200" y="3951360"/>
                  <a:ext cx="1234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628200" y="4114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40880" y="41130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17200" y="41130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1400" y="4113000"/>
                <a:ext cx="6156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96600" y="3921120"/>
              <a:ext cx="85680" cy="27000"/>
              <a:chOff x="696600" y="3921120"/>
              <a:chExt cx="85680" cy="27000"/>
            </a:xfrm>
          </p:grpSpPr>
          <p:sp>
            <p:nvSpPr>
              <p:cNvPr id="413" name=""/>
              <p:cNvSpPr/>
              <p:nvPr/>
            </p:nvSpPr>
            <p:spPr>
              <a:xfrm>
                <a:off x="696600" y="3921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3840" y="3921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614520" y="4619520"/>
            <a:ext cx="231480" cy="223560"/>
            <a:chOff x="614520" y="4619520"/>
            <a:chExt cx="231480" cy="223560"/>
          </a:xfrm>
        </p:grpSpPr>
        <p:grpSp>
          <p:nvGrpSpPr>
            <p:cNvPr id="416" name=""/>
            <p:cNvGrpSpPr/>
            <p:nvPr/>
          </p:nvGrpSpPr>
          <p:grpSpPr>
            <a:xfrm>
              <a:off x="614520" y="4653000"/>
              <a:ext cx="231480" cy="190080"/>
              <a:chOff x="614520" y="4653000"/>
              <a:chExt cx="231480" cy="190080"/>
            </a:xfrm>
          </p:grpSpPr>
          <p:sp>
            <p:nvSpPr>
              <p:cNvPr id="417" name=""/>
              <p:cNvSpPr/>
              <p:nvPr/>
            </p:nvSpPr>
            <p:spPr>
              <a:xfrm>
                <a:off x="614520" y="465300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4960" y="481572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6760" y="481572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87240" y="4619520"/>
              <a:ext cx="84960" cy="27000"/>
              <a:chOff x="687240" y="4619520"/>
              <a:chExt cx="84960" cy="27000"/>
            </a:xfrm>
          </p:grpSpPr>
          <p:sp>
            <p:nvSpPr>
              <p:cNvPr id="421" name=""/>
              <p:cNvSpPr/>
              <p:nvPr/>
            </p:nvSpPr>
            <p:spPr>
              <a:xfrm>
                <a:off x="687240" y="461952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4120" y="461952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1031760" y="3989520"/>
            <a:ext cx="1986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dKfz 7/2 SP Antiaircraft Gun  GE-P15 (1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30320" y="4213080"/>
            <a:ext cx="6476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31760" y="4362480"/>
            <a:ext cx="1909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20mm Flak Gun                        GE-43 (2 per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41480" y="4568760"/>
            <a:ext cx="4730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99880" y="3936960"/>
            <a:ext cx="190440" cy="1007640"/>
            <a:chOff x="299880" y="3936960"/>
            <a:chExt cx="190440" cy="1007640"/>
          </a:xfrm>
        </p:grpSpPr>
        <p:sp>
          <p:nvSpPr>
            <p:cNvPr id="428" name=""/>
            <p:cNvSpPr/>
            <p:nvPr/>
          </p:nvSpPr>
          <p:spPr>
            <a:xfrm>
              <a:off x="299880" y="4944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99880" y="3936960"/>
              <a:ext cx="190440" cy="1007280"/>
              <a:chOff x="299880" y="3936960"/>
              <a:chExt cx="190440" cy="1007280"/>
            </a:xfrm>
          </p:grpSpPr>
          <p:sp>
            <p:nvSpPr>
              <p:cNvPr id="430" name=""/>
              <p:cNvSpPr/>
              <p:nvPr/>
            </p:nvSpPr>
            <p:spPr>
              <a:xfrm>
                <a:off x="299880" y="393696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880" y="3936960"/>
                <a:ext cx="0" cy="100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404640" y="44146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39680" y="4727520"/>
            <a:ext cx="19098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Light Truck           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27120" y="3578400"/>
            <a:ext cx="239760" cy="193680"/>
            <a:chOff x="627120" y="3578400"/>
            <a:chExt cx="239760" cy="193680"/>
          </a:xfrm>
        </p:grpSpPr>
        <p:grpSp>
          <p:nvGrpSpPr>
            <p:cNvPr id="435" name=""/>
            <p:cNvGrpSpPr/>
            <p:nvPr/>
          </p:nvGrpSpPr>
          <p:grpSpPr>
            <a:xfrm>
              <a:off x="627120" y="3615120"/>
              <a:ext cx="239760" cy="156960"/>
              <a:chOff x="627120" y="3615120"/>
              <a:chExt cx="239760" cy="156960"/>
            </a:xfrm>
          </p:grpSpPr>
          <p:sp>
            <p:nvSpPr>
              <p:cNvPr id="436" name=""/>
              <p:cNvSpPr/>
              <p:nvPr/>
            </p:nvSpPr>
            <p:spPr>
              <a:xfrm>
                <a:off x="627120" y="361512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8520" y="3654720"/>
                <a:ext cx="15408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0440" y="3675240"/>
                <a:ext cx="28440" cy="2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03440" y="3578400"/>
              <a:ext cx="85680" cy="27000"/>
              <a:chOff x="703440" y="3578400"/>
              <a:chExt cx="85680" cy="27000"/>
            </a:xfrm>
          </p:grpSpPr>
          <p:sp>
            <p:nvSpPr>
              <p:cNvPr id="440" name=""/>
              <p:cNvSpPr/>
              <p:nvPr/>
            </p:nvSpPr>
            <p:spPr>
              <a:xfrm>
                <a:off x="703440" y="3578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0680" y="3578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996840" y="352440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79560" y="3641760"/>
            <a:ext cx="223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z I sIG 33 SP Gun                 GE-88                    (x6 in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800" y="2224080"/>
            <a:ext cx="0" cy="2187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39040" y="2347920"/>
            <a:ext cx="23684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 Replace one company with ME-BRB05, armored infantry company, per division in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. Replace with one company with ME-BRB05 per regiment in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10th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anzer Divisions. No replacement in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1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 (3 in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&amp;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6 in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Panzer Divisions) (None in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) (12 in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&amp; 1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6 in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1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Panzer Divisions)       (18 in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e in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)(12 in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87720" y="716040"/>
            <a:ext cx="0" cy="303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97320" y="319248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75000" y="3741840"/>
            <a:ext cx="0" cy="31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72120" y="2187720"/>
            <a:ext cx="0" cy="73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4480" y="3208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59160" y="495360"/>
            <a:ext cx="1714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group-GEBRB04 Motorized Infantry Battalion (Panz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814920" y="517680"/>
            <a:ext cx="347040" cy="342360"/>
            <a:chOff x="3814920" y="517680"/>
            <a:chExt cx="347040" cy="342360"/>
          </a:xfrm>
        </p:grpSpPr>
        <p:grpSp>
          <p:nvGrpSpPr>
            <p:cNvPr id="453" name=""/>
            <p:cNvGrpSpPr/>
            <p:nvPr/>
          </p:nvGrpSpPr>
          <p:grpSpPr>
            <a:xfrm>
              <a:off x="3949560" y="517680"/>
              <a:ext cx="75960" cy="63360"/>
              <a:chOff x="3949560" y="517680"/>
              <a:chExt cx="75960" cy="63360"/>
            </a:xfrm>
          </p:grpSpPr>
          <p:sp>
            <p:nvSpPr>
              <p:cNvPr id="454" name=""/>
              <p:cNvSpPr/>
              <p:nvPr/>
            </p:nvSpPr>
            <p:spPr>
              <a:xfrm>
                <a:off x="3949560" y="517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25520" y="517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814920" y="581040"/>
              <a:ext cx="347040" cy="235800"/>
              <a:chOff x="3814920" y="581040"/>
              <a:chExt cx="347040" cy="235800"/>
            </a:xfrm>
          </p:grpSpPr>
          <p:sp>
            <p:nvSpPr>
              <p:cNvPr id="457" name=""/>
              <p:cNvSpPr/>
              <p:nvPr/>
            </p:nvSpPr>
            <p:spPr>
              <a:xfrm>
                <a:off x="3814920" y="58104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3817440" y="585360"/>
                <a:ext cx="3394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14920" y="585720"/>
                <a:ext cx="344880" cy="223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48040" y="833400"/>
              <a:ext cx="280080" cy="26640"/>
              <a:chOff x="3848040" y="833400"/>
              <a:chExt cx="280080" cy="26640"/>
            </a:xfrm>
          </p:grpSpPr>
          <p:sp>
            <p:nvSpPr>
              <p:cNvPr id="461" name=""/>
              <p:cNvSpPr/>
              <p:nvPr/>
            </p:nvSpPr>
            <p:spPr>
              <a:xfrm>
                <a:off x="3848040" y="8334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101480" y="8334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3992400" y="116532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243320" y="1047600"/>
            <a:ext cx="233280" cy="206280"/>
            <a:chOff x="4243320" y="1047600"/>
            <a:chExt cx="233280" cy="206280"/>
          </a:xfrm>
        </p:grpSpPr>
        <p:grpSp>
          <p:nvGrpSpPr>
            <p:cNvPr id="465" name=""/>
            <p:cNvGrpSpPr/>
            <p:nvPr/>
          </p:nvGrpSpPr>
          <p:grpSpPr>
            <a:xfrm>
              <a:off x="4243320" y="1096920"/>
              <a:ext cx="233280" cy="156960"/>
              <a:chOff x="4243320" y="1096920"/>
              <a:chExt cx="233280" cy="156960"/>
            </a:xfrm>
          </p:grpSpPr>
          <p:sp>
            <p:nvSpPr>
              <p:cNvPr id="466" name=""/>
              <p:cNvSpPr/>
              <p:nvPr/>
            </p:nvSpPr>
            <p:spPr>
              <a:xfrm>
                <a:off x="4244760" y="10969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43320" y="1101600"/>
                <a:ext cx="21888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346640" y="1047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506840" y="985680"/>
            <a:ext cx="470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05040" y="1116000"/>
            <a:ext cx="14882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GE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95880" y="1203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243320" y="1314360"/>
            <a:ext cx="231840" cy="228240"/>
            <a:chOff x="4243320" y="1314360"/>
            <a:chExt cx="231840" cy="228240"/>
          </a:xfrm>
        </p:grpSpPr>
        <p:grpSp>
          <p:nvGrpSpPr>
            <p:cNvPr id="473" name=""/>
            <p:cNvGrpSpPr/>
            <p:nvPr/>
          </p:nvGrpSpPr>
          <p:grpSpPr>
            <a:xfrm>
              <a:off x="4243320" y="1352520"/>
              <a:ext cx="231840" cy="190080"/>
              <a:chOff x="4243320" y="1352520"/>
              <a:chExt cx="231840" cy="190080"/>
            </a:xfrm>
          </p:grpSpPr>
          <p:sp>
            <p:nvSpPr>
              <p:cNvPr id="474" name=""/>
              <p:cNvSpPr/>
              <p:nvPr/>
            </p:nvSpPr>
            <p:spPr>
              <a:xfrm>
                <a:off x="4243320" y="13525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53760" y="151524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35560" y="151524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344840" y="13143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506840" y="126216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06480" y="1397160"/>
            <a:ext cx="15170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übelwagen                  GE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03600" y="880920"/>
            <a:ext cx="13784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218120" y="1639800"/>
            <a:ext cx="284040" cy="290520"/>
            <a:chOff x="4218120" y="1639800"/>
            <a:chExt cx="284040" cy="290520"/>
          </a:xfrm>
        </p:grpSpPr>
        <p:sp>
          <p:nvSpPr>
            <p:cNvPr id="482" name=""/>
            <p:cNvSpPr/>
            <p:nvPr/>
          </p:nvSpPr>
          <p:spPr>
            <a:xfrm>
              <a:off x="4360680" y="1639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8120" y="1696680"/>
              <a:ext cx="28404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221000" y="1699560"/>
              <a:ext cx="27576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18120" y="1699920"/>
              <a:ext cx="282240" cy="18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243320" y="1903320"/>
              <a:ext cx="232560" cy="27000"/>
              <a:chOff x="4243320" y="1903320"/>
              <a:chExt cx="232560" cy="27000"/>
            </a:xfrm>
          </p:grpSpPr>
          <p:sp>
            <p:nvSpPr>
              <p:cNvPr id="487" name=""/>
              <p:cNvSpPr/>
              <p:nvPr/>
            </p:nvSpPr>
            <p:spPr>
              <a:xfrm>
                <a:off x="4243320" y="1903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49240" y="1903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4540320" y="1749600"/>
            <a:ext cx="220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 Mot. Infantry Co.   ME-GEBRB03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87720" y="26733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241880" y="2554200"/>
            <a:ext cx="236520" cy="199800"/>
            <a:chOff x="4241880" y="2554200"/>
            <a:chExt cx="236520" cy="199800"/>
          </a:xfrm>
        </p:grpSpPr>
        <p:grpSp>
          <p:nvGrpSpPr>
            <p:cNvPr id="492" name=""/>
            <p:cNvGrpSpPr/>
            <p:nvPr/>
          </p:nvGrpSpPr>
          <p:grpSpPr>
            <a:xfrm>
              <a:off x="4241880" y="2589120"/>
              <a:ext cx="236520" cy="164880"/>
              <a:chOff x="4241880" y="2589120"/>
              <a:chExt cx="236520" cy="164880"/>
            </a:xfrm>
          </p:grpSpPr>
          <p:sp>
            <p:nvSpPr>
              <p:cNvPr id="493" name=""/>
              <p:cNvSpPr/>
              <p:nvPr/>
            </p:nvSpPr>
            <p:spPr>
              <a:xfrm>
                <a:off x="4241880" y="25938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41880" y="259992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4248360" y="2589120"/>
                <a:ext cx="230040" cy="14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59520" y="2617560"/>
                <a:ext cx="21888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316400" y="2554200"/>
              <a:ext cx="85680" cy="27000"/>
              <a:chOff x="4316400" y="2554200"/>
              <a:chExt cx="85680" cy="27000"/>
            </a:xfrm>
          </p:grpSpPr>
          <p:sp>
            <p:nvSpPr>
              <p:cNvPr id="498" name=""/>
              <p:cNvSpPr/>
              <p:nvPr/>
            </p:nvSpPr>
            <p:spPr>
              <a:xfrm>
                <a:off x="4316400" y="2554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73640" y="2554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4519440" y="2622600"/>
            <a:ext cx="1535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eavy Machine Gun      GE-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81600" y="2424240"/>
            <a:ext cx="26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240080" y="2311560"/>
            <a:ext cx="239760" cy="206280"/>
            <a:chOff x="4240080" y="2311560"/>
            <a:chExt cx="239760" cy="206280"/>
          </a:xfrm>
        </p:grpSpPr>
        <p:grpSp>
          <p:nvGrpSpPr>
            <p:cNvPr id="503" name=""/>
            <p:cNvGrpSpPr/>
            <p:nvPr/>
          </p:nvGrpSpPr>
          <p:grpSpPr>
            <a:xfrm>
              <a:off x="4240080" y="2360520"/>
              <a:ext cx="239760" cy="157320"/>
              <a:chOff x="4240080" y="2360520"/>
              <a:chExt cx="239760" cy="157320"/>
            </a:xfrm>
          </p:grpSpPr>
          <p:sp>
            <p:nvSpPr>
              <p:cNvPr id="504" name=""/>
              <p:cNvSpPr/>
              <p:nvPr/>
            </p:nvSpPr>
            <p:spPr>
              <a:xfrm>
                <a:off x="4240080" y="23605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4324320" y="247644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56000" y="239220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316400" y="2311560"/>
              <a:ext cx="85680" cy="27000"/>
              <a:chOff x="4316400" y="2311560"/>
              <a:chExt cx="85680" cy="27000"/>
            </a:xfrm>
          </p:grpSpPr>
          <p:sp>
            <p:nvSpPr>
              <p:cNvPr id="508" name=""/>
              <p:cNvSpPr/>
              <p:nvPr/>
            </p:nvSpPr>
            <p:spPr>
              <a:xfrm>
                <a:off x="4316400" y="2311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373640" y="2311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4509000" y="2394000"/>
            <a:ext cx="15325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cm Mortar                    GE-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33840" y="276552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243320" y="2800440"/>
            <a:ext cx="231840" cy="229320"/>
            <a:chOff x="4243320" y="2800440"/>
            <a:chExt cx="231840" cy="229320"/>
          </a:xfrm>
        </p:grpSpPr>
        <p:grpSp>
          <p:nvGrpSpPr>
            <p:cNvPr id="513" name=""/>
            <p:cNvGrpSpPr/>
            <p:nvPr/>
          </p:nvGrpSpPr>
          <p:grpSpPr>
            <a:xfrm>
              <a:off x="4243320" y="2840040"/>
              <a:ext cx="231840" cy="189720"/>
              <a:chOff x="4243320" y="2840040"/>
              <a:chExt cx="231840" cy="189720"/>
            </a:xfrm>
          </p:grpSpPr>
          <p:sp>
            <p:nvSpPr>
              <p:cNvPr id="514" name=""/>
              <p:cNvSpPr/>
              <p:nvPr/>
            </p:nvSpPr>
            <p:spPr>
              <a:xfrm>
                <a:off x="4243320" y="2840040"/>
                <a:ext cx="23184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253760" y="30024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35560" y="300240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316400" y="2800440"/>
              <a:ext cx="85680" cy="26640"/>
              <a:chOff x="4316400" y="2800440"/>
              <a:chExt cx="85680" cy="26640"/>
            </a:xfrm>
          </p:grpSpPr>
          <p:sp>
            <p:nvSpPr>
              <p:cNvPr id="518" name=""/>
              <p:cNvSpPr/>
              <p:nvPr/>
            </p:nvSpPr>
            <p:spPr>
              <a:xfrm>
                <a:off x="4316400" y="28004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373640" y="28004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0" name=""/>
          <p:cNvSpPr/>
          <p:nvPr/>
        </p:nvSpPr>
        <p:spPr>
          <a:xfrm>
            <a:off x="4530240" y="2900520"/>
            <a:ext cx="1521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Truck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243320" y="3090960"/>
            <a:ext cx="231840" cy="190080"/>
            <a:chOff x="4243320" y="3090960"/>
            <a:chExt cx="231840" cy="190080"/>
          </a:xfrm>
        </p:grpSpPr>
        <p:grpSp>
          <p:nvGrpSpPr>
            <p:cNvPr id="522" name=""/>
            <p:cNvGrpSpPr/>
            <p:nvPr/>
          </p:nvGrpSpPr>
          <p:grpSpPr>
            <a:xfrm>
              <a:off x="4243320" y="3124080"/>
              <a:ext cx="231840" cy="156960"/>
              <a:chOff x="4243320" y="3124080"/>
              <a:chExt cx="231840" cy="15696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4243320" y="3124080"/>
                <a:ext cx="231840" cy="156960"/>
                <a:chOff x="4243320" y="3124080"/>
                <a:chExt cx="231840" cy="1569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243320" y="312408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245480" y="312624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43320" y="312624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4344840" y="3192480"/>
                <a:ext cx="28440" cy="2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316400" y="3090960"/>
              <a:ext cx="85680" cy="26640"/>
              <a:chOff x="4316400" y="3090960"/>
              <a:chExt cx="85680" cy="26640"/>
            </a:xfrm>
          </p:grpSpPr>
          <p:sp>
            <p:nvSpPr>
              <p:cNvPr id="529" name=""/>
              <p:cNvSpPr/>
              <p:nvPr/>
            </p:nvSpPr>
            <p:spPr>
              <a:xfrm>
                <a:off x="4316400" y="3090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73640" y="3090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4527000" y="1574640"/>
            <a:ext cx="11710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9520" y="2195640"/>
            <a:ext cx="25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43320" y="2066760"/>
            <a:ext cx="231840" cy="200160"/>
            <a:chOff x="4243320" y="2066760"/>
            <a:chExt cx="231840" cy="200160"/>
          </a:xfrm>
        </p:grpSpPr>
        <p:grpSp>
          <p:nvGrpSpPr>
            <p:cNvPr id="534" name=""/>
            <p:cNvGrpSpPr/>
            <p:nvPr/>
          </p:nvGrpSpPr>
          <p:grpSpPr>
            <a:xfrm>
              <a:off x="4243320" y="2109600"/>
              <a:ext cx="231840" cy="157320"/>
              <a:chOff x="4243320" y="2109600"/>
              <a:chExt cx="231840" cy="157320"/>
            </a:xfrm>
          </p:grpSpPr>
          <p:sp>
            <p:nvSpPr>
              <p:cNvPr id="535" name=""/>
              <p:cNvSpPr/>
              <p:nvPr/>
            </p:nvSpPr>
            <p:spPr>
              <a:xfrm>
                <a:off x="4243320" y="210960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4313160" y="2165400"/>
                <a:ext cx="91800" cy="45720"/>
                <a:chOff x="4313160" y="2165400"/>
                <a:chExt cx="91800" cy="45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313160" y="2165400"/>
                  <a:ext cx="0" cy="45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57080" y="2165400"/>
                  <a:ext cx="0" cy="45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4960" y="2165400"/>
                  <a:ext cx="0" cy="45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13160" y="2165400"/>
                  <a:ext cx="91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4311360" y="2066760"/>
              <a:ext cx="85680" cy="27000"/>
              <a:chOff x="4311360" y="2066760"/>
              <a:chExt cx="85680" cy="27000"/>
            </a:xfrm>
          </p:grpSpPr>
          <p:sp>
            <p:nvSpPr>
              <p:cNvPr id="542" name=""/>
              <p:cNvSpPr/>
              <p:nvPr/>
            </p:nvSpPr>
            <p:spPr>
              <a:xfrm>
                <a:off x="4311360" y="2066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8600" y="2066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4502880" y="2141640"/>
            <a:ext cx="1535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ioniere (1 Flame)         GE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14040" y="1994040"/>
            <a:ext cx="7765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32040" y="3154320"/>
            <a:ext cx="1604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5mm Inf. Gun              GE-3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41760" y="330660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243320" y="3341520"/>
            <a:ext cx="231840" cy="230040"/>
            <a:chOff x="4243320" y="3341520"/>
            <a:chExt cx="231840" cy="230040"/>
          </a:xfrm>
        </p:grpSpPr>
        <p:grpSp>
          <p:nvGrpSpPr>
            <p:cNvPr id="549" name=""/>
            <p:cNvGrpSpPr/>
            <p:nvPr/>
          </p:nvGrpSpPr>
          <p:grpSpPr>
            <a:xfrm>
              <a:off x="4243320" y="3381480"/>
              <a:ext cx="231840" cy="190080"/>
              <a:chOff x="4243320" y="3381480"/>
              <a:chExt cx="231840" cy="190080"/>
            </a:xfrm>
          </p:grpSpPr>
          <p:sp>
            <p:nvSpPr>
              <p:cNvPr id="550" name=""/>
              <p:cNvSpPr/>
              <p:nvPr/>
            </p:nvSpPr>
            <p:spPr>
              <a:xfrm>
                <a:off x="4243320" y="33814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53760" y="35442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35560" y="354420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4316400" y="3341520"/>
              <a:ext cx="85680" cy="27000"/>
              <a:chOff x="4316400" y="3341520"/>
              <a:chExt cx="85680" cy="27000"/>
            </a:xfrm>
          </p:grpSpPr>
          <p:sp>
            <p:nvSpPr>
              <p:cNvPr id="554" name=""/>
              <p:cNvSpPr/>
              <p:nvPr/>
            </p:nvSpPr>
            <p:spPr>
              <a:xfrm>
                <a:off x="4316400" y="3341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73640" y="3341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4538160" y="3441600"/>
            <a:ext cx="1521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Truck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84480" y="3749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51480" y="387504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243320" y="3629160"/>
            <a:ext cx="231840" cy="199800"/>
            <a:chOff x="4243320" y="3629160"/>
            <a:chExt cx="231840" cy="199800"/>
          </a:xfrm>
        </p:grpSpPr>
        <p:grpSp>
          <p:nvGrpSpPr>
            <p:cNvPr id="560" name=""/>
            <p:cNvGrpSpPr/>
            <p:nvPr/>
          </p:nvGrpSpPr>
          <p:grpSpPr>
            <a:xfrm>
              <a:off x="4243320" y="3672000"/>
              <a:ext cx="231840" cy="156960"/>
              <a:chOff x="4243320" y="3672000"/>
              <a:chExt cx="231840" cy="156960"/>
            </a:xfrm>
          </p:grpSpPr>
          <p:sp>
            <p:nvSpPr>
              <p:cNvPr id="561" name=""/>
              <p:cNvSpPr/>
              <p:nvPr/>
            </p:nvSpPr>
            <p:spPr>
              <a:xfrm>
                <a:off x="4243320" y="36720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361040" y="367488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243320" y="367200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316400" y="3629160"/>
              <a:ext cx="85680" cy="27000"/>
              <a:chOff x="4316400" y="3629160"/>
              <a:chExt cx="85680" cy="27000"/>
            </a:xfrm>
          </p:grpSpPr>
          <p:sp>
            <p:nvSpPr>
              <p:cNvPr id="565" name=""/>
              <p:cNvSpPr/>
              <p:nvPr/>
            </p:nvSpPr>
            <p:spPr>
              <a:xfrm>
                <a:off x="4316400" y="3629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73640" y="3629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4548960" y="3711600"/>
            <a:ext cx="1535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7mm AT Gun               GE-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49680" y="4010040"/>
            <a:ext cx="1526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Prime Mover         GE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240080" y="3897360"/>
            <a:ext cx="239760" cy="225360"/>
            <a:chOff x="4240080" y="3897360"/>
            <a:chExt cx="239760" cy="225360"/>
          </a:xfrm>
        </p:grpSpPr>
        <p:grpSp>
          <p:nvGrpSpPr>
            <p:cNvPr id="570" name=""/>
            <p:cNvGrpSpPr/>
            <p:nvPr/>
          </p:nvGrpSpPr>
          <p:grpSpPr>
            <a:xfrm>
              <a:off x="4240080" y="3933720"/>
              <a:ext cx="239760" cy="189000"/>
              <a:chOff x="4240080" y="3933720"/>
              <a:chExt cx="239760" cy="189000"/>
            </a:xfrm>
          </p:grpSpPr>
          <p:sp>
            <p:nvSpPr>
              <p:cNvPr id="571" name=""/>
              <p:cNvSpPr/>
              <p:nvPr/>
            </p:nvSpPr>
            <p:spPr>
              <a:xfrm>
                <a:off x="4240080" y="39337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54120" y="4095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366800" y="40942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43120" y="40942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87680" y="409428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316400" y="3897360"/>
              <a:ext cx="85680" cy="27000"/>
              <a:chOff x="4316400" y="3897360"/>
              <a:chExt cx="85680" cy="27000"/>
            </a:xfrm>
          </p:grpSpPr>
          <p:sp>
            <p:nvSpPr>
              <p:cNvPr id="577" name=""/>
              <p:cNvSpPr/>
              <p:nvPr/>
            </p:nvSpPr>
            <p:spPr>
              <a:xfrm>
                <a:off x="4316400" y="3897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73640" y="3897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3987720" y="179244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28440" y="4195800"/>
            <a:ext cx="1390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90960" y="440856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230720" y="4287960"/>
            <a:ext cx="239400" cy="220680"/>
            <a:chOff x="4230720" y="4287960"/>
            <a:chExt cx="239400" cy="220680"/>
          </a:xfrm>
        </p:grpSpPr>
        <p:grpSp>
          <p:nvGrpSpPr>
            <p:cNvPr id="583" name=""/>
            <p:cNvGrpSpPr/>
            <p:nvPr/>
          </p:nvGrpSpPr>
          <p:grpSpPr>
            <a:xfrm>
              <a:off x="4230720" y="4318200"/>
              <a:ext cx="239400" cy="190440"/>
              <a:chOff x="4230720" y="4318200"/>
              <a:chExt cx="239400" cy="19044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4230720" y="4318200"/>
                <a:ext cx="239400" cy="158760"/>
                <a:chOff x="4230720" y="4318200"/>
                <a:chExt cx="239400" cy="1587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230720" y="4320000"/>
                  <a:ext cx="23940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89040" y="439452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4230720" y="4320000"/>
                  <a:ext cx="11556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346280" y="4318200"/>
                  <a:ext cx="1234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4238280" y="4481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50960" y="447984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27280" y="447984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371480" y="4479840"/>
                <a:ext cx="6156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4306680" y="4287960"/>
              <a:ext cx="85680" cy="27000"/>
              <a:chOff x="4306680" y="4287960"/>
              <a:chExt cx="85680" cy="27000"/>
            </a:xfrm>
          </p:grpSpPr>
          <p:sp>
            <p:nvSpPr>
              <p:cNvPr id="594" name=""/>
              <p:cNvSpPr/>
              <p:nvPr/>
            </p:nvSpPr>
            <p:spPr>
              <a:xfrm>
                <a:off x="4306680" y="4287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63920" y="4287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6" name=""/>
          <p:cNvSpPr/>
          <p:nvPr/>
        </p:nvSpPr>
        <p:spPr>
          <a:xfrm>
            <a:off x="4541760" y="4356000"/>
            <a:ext cx="1986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dKfz 10/4 SP Antiaircraft Gun  GE-19  (4 per 1941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7080" y="467820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76560" y="4686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43560" y="481176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235400" y="4565520"/>
            <a:ext cx="231840" cy="199800"/>
            <a:chOff x="4235400" y="4565520"/>
            <a:chExt cx="231840" cy="199800"/>
          </a:xfrm>
        </p:grpSpPr>
        <p:grpSp>
          <p:nvGrpSpPr>
            <p:cNvPr id="601" name=""/>
            <p:cNvGrpSpPr/>
            <p:nvPr/>
          </p:nvGrpSpPr>
          <p:grpSpPr>
            <a:xfrm>
              <a:off x="4235400" y="4608360"/>
              <a:ext cx="231840" cy="156960"/>
              <a:chOff x="4235400" y="4608360"/>
              <a:chExt cx="231840" cy="156960"/>
            </a:xfrm>
          </p:grpSpPr>
          <p:sp>
            <p:nvSpPr>
              <p:cNvPr id="602" name=""/>
              <p:cNvSpPr/>
              <p:nvPr/>
            </p:nvSpPr>
            <p:spPr>
              <a:xfrm>
                <a:off x="4235400" y="460836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4353120" y="461124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35400" y="460836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308480" y="4565520"/>
              <a:ext cx="85680" cy="27000"/>
              <a:chOff x="4308480" y="4565520"/>
              <a:chExt cx="85680" cy="27000"/>
            </a:xfrm>
          </p:grpSpPr>
          <p:sp>
            <p:nvSpPr>
              <p:cNvPr id="606" name=""/>
              <p:cNvSpPr/>
              <p:nvPr/>
            </p:nvSpPr>
            <p:spPr>
              <a:xfrm>
                <a:off x="4308480" y="4565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65720" y="4565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4541400" y="4648320"/>
            <a:ext cx="16678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 AT Gun           GE-40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41760" y="4946760"/>
            <a:ext cx="1526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Prime Mover         GE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232160" y="4834080"/>
            <a:ext cx="239760" cy="225360"/>
            <a:chOff x="4232160" y="4834080"/>
            <a:chExt cx="239760" cy="225360"/>
          </a:xfrm>
        </p:grpSpPr>
        <p:grpSp>
          <p:nvGrpSpPr>
            <p:cNvPr id="611" name=""/>
            <p:cNvGrpSpPr/>
            <p:nvPr/>
          </p:nvGrpSpPr>
          <p:grpSpPr>
            <a:xfrm>
              <a:off x="4232160" y="4870440"/>
              <a:ext cx="239760" cy="189000"/>
              <a:chOff x="4232160" y="4870440"/>
              <a:chExt cx="239760" cy="189000"/>
            </a:xfrm>
          </p:grpSpPr>
          <p:sp>
            <p:nvSpPr>
              <p:cNvPr id="612" name=""/>
              <p:cNvSpPr/>
              <p:nvPr/>
            </p:nvSpPr>
            <p:spPr>
              <a:xfrm>
                <a:off x="4232160" y="487044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246200" y="5032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358880" y="50310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35200" y="50310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379760" y="503100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308480" y="4834080"/>
              <a:ext cx="85680" cy="27000"/>
              <a:chOff x="4308480" y="4834080"/>
              <a:chExt cx="85680" cy="27000"/>
            </a:xfrm>
          </p:grpSpPr>
          <p:sp>
            <p:nvSpPr>
              <p:cNvPr id="618" name=""/>
              <p:cNvSpPr/>
              <p:nvPr/>
            </p:nvSpPr>
            <p:spPr>
              <a:xfrm>
                <a:off x="4308480" y="4834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65720" y="4834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4275000" y="521964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84480" y="5227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51480" y="535320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243320" y="5106960"/>
            <a:ext cx="231840" cy="199800"/>
            <a:chOff x="4243320" y="5106960"/>
            <a:chExt cx="231840" cy="199800"/>
          </a:xfrm>
        </p:grpSpPr>
        <p:grpSp>
          <p:nvGrpSpPr>
            <p:cNvPr id="624" name=""/>
            <p:cNvGrpSpPr/>
            <p:nvPr/>
          </p:nvGrpSpPr>
          <p:grpSpPr>
            <a:xfrm>
              <a:off x="4243320" y="5149800"/>
              <a:ext cx="231840" cy="156960"/>
              <a:chOff x="4243320" y="5149800"/>
              <a:chExt cx="231840" cy="156960"/>
            </a:xfrm>
          </p:grpSpPr>
          <p:sp>
            <p:nvSpPr>
              <p:cNvPr id="625" name=""/>
              <p:cNvSpPr/>
              <p:nvPr/>
            </p:nvSpPr>
            <p:spPr>
              <a:xfrm>
                <a:off x="4243320" y="51498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4361040" y="515268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43320" y="514980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16400" y="5106960"/>
              <a:ext cx="85680" cy="27000"/>
              <a:chOff x="4316400" y="5106960"/>
              <a:chExt cx="85680" cy="270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16400" y="5106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73640" y="5106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1" name=""/>
          <p:cNvSpPr/>
          <p:nvPr/>
        </p:nvSpPr>
        <p:spPr>
          <a:xfrm>
            <a:off x="4549680" y="5189400"/>
            <a:ext cx="16740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7mm AT Gun           GE-98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49680" y="5487840"/>
            <a:ext cx="1526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Prime Mover         GE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240080" y="5375160"/>
            <a:ext cx="239760" cy="225360"/>
            <a:chOff x="4240080" y="5375160"/>
            <a:chExt cx="239760" cy="225360"/>
          </a:xfrm>
        </p:grpSpPr>
        <p:grpSp>
          <p:nvGrpSpPr>
            <p:cNvPr id="634" name=""/>
            <p:cNvGrpSpPr/>
            <p:nvPr/>
          </p:nvGrpSpPr>
          <p:grpSpPr>
            <a:xfrm>
              <a:off x="4240080" y="5411520"/>
              <a:ext cx="239760" cy="189000"/>
              <a:chOff x="4240080" y="5411520"/>
              <a:chExt cx="239760" cy="189000"/>
            </a:xfrm>
          </p:grpSpPr>
          <p:sp>
            <p:nvSpPr>
              <p:cNvPr id="635" name=""/>
              <p:cNvSpPr/>
              <p:nvPr/>
            </p:nvSpPr>
            <p:spPr>
              <a:xfrm>
                <a:off x="4240080" y="54115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54120" y="557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366800" y="5572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43120" y="5572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387680" y="557208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316400" y="5375160"/>
              <a:ext cx="85680" cy="27000"/>
              <a:chOff x="4316400" y="5375160"/>
              <a:chExt cx="85680" cy="27000"/>
            </a:xfrm>
          </p:grpSpPr>
          <p:sp>
            <p:nvSpPr>
              <p:cNvPr id="641" name=""/>
              <p:cNvSpPr/>
              <p:nvPr/>
            </p:nvSpPr>
            <p:spPr>
              <a:xfrm>
                <a:off x="4316400" y="5375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73640" y="5375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4290840" y="5807160"/>
            <a:ext cx="0" cy="312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58150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67320" y="594036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259160" y="5694480"/>
            <a:ext cx="231840" cy="199800"/>
            <a:chOff x="4259160" y="5694480"/>
            <a:chExt cx="231840" cy="199800"/>
          </a:xfrm>
        </p:grpSpPr>
        <p:grpSp>
          <p:nvGrpSpPr>
            <p:cNvPr id="647" name=""/>
            <p:cNvGrpSpPr/>
            <p:nvPr/>
          </p:nvGrpSpPr>
          <p:grpSpPr>
            <a:xfrm>
              <a:off x="4259160" y="5737320"/>
              <a:ext cx="231840" cy="156960"/>
              <a:chOff x="4259160" y="5737320"/>
              <a:chExt cx="231840" cy="156960"/>
            </a:xfrm>
          </p:grpSpPr>
          <p:sp>
            <p:nvSpPr>
              <p:cNvPr id="648" name=""/>
              <p:cNvSpPr/>
              <p:nvPr/>
            </p:nvSpPr>
            <p:spPr>
              <a:xfrm>
                <a:off x="4259160" y="57373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376880" y="574020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59160" y="573732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332240" y="5694480"/>
              <a:ext cx="85680" cy="27000"/>
              <a:chOff x="4332240" y="5694480"/>
              <a:chExt cx="85680" cy="27000"/>
            </a:xfrm>
          </p:grpSpPr>
          <p:sp>
            <p:nvSpPr>
              <p:cNvPr id="652" name=""/>
              <p:cNvSpPr/>
              <p:nvPr/>
            </p:nvSpPr>
            <p:spPr>
              <a:xfrm>
                <a:off x="4332240" y="5694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89480" y="5694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4" name=""/>
          <p:cNvSpPr/>
          <p:nvPr/>
        </p:nvSpPr>
        <p:spPr>
          <a:xfrm>
            <a:off x="4564800" y="5776920"/>
            <a:ext cx="1719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7mm AT Gun          GE-P1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(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65520" y="6075360"/>
            <a:ext cx="1526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Prime Mover         GE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255920" y="5962680"/>
            <a:ext cx="239760" cy="225360"/>
            <a:chOff x="4255920" y="5962680"/>
            <a:chExt cx="239760" cy="225360"/>
          </a:xfrm>
        </p:grpSpPr>
        <p:grpSp>
          <p:nvGrpSpPr>
            <p:cNvPr id="657" name=""/>
            <p:cNvGrpSpPr/>
            <p:nvPr/>
          </p:nvGrpSpPr>
          <p:grpSpPr>
            <a:xfrm>
              <a:off x="4255920" y="5999040"/>
              <a:ext cx="239760" cy="189000"/>
              <a:chOff x="4255920" y="5999040"/>
              <a:chExt cx="239760" cy="189000"/>
            </a:xfrm>
          </p:grpSpPr>
          <p:sp>
            <p:nvSpPr>
              <p:cNvPr id="658" name=""/>
              <p:cNvSpPr/>
              <p:nvPr/>
            </p:nvSpPr>
            <p:spPr>
              <a:xfrm>
                <a:off x="4255920" y="599904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69960" y="6161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82640" y="6159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58960" y="6159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403520" y="615960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332240" y="5962680"/>
              <a:ext cx="85680" cy="27000"/>
              <a:chOff x="4332240" y="5962680"/>
              <a:chExt cx="85680" cy="27000"/>
            </a:xfrm>
          </p:grpSpPr>
          <p:sp>
            <p:nvSpPr>
              <p:cNvPr id="664" name=""/>
              <p:cNvSpPr/>
              <p:nvPr/>
            </p:nvSpPr>
            <p:spPr>
              <a:xfrm>
                <a:off x="4332240" y="5962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89480" y="5962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" name=""/>
          <p:cNvSpPr/>
          <p:nvPr/>
        </p:nvSpPr>
        <p:spPr>
          <a:xfrm>
            <a:off x="3987720" y="3718080"/>
            <a:ext cx="0" cy="209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49360" y="2055960"/>
            <a:ext cx="347040" cy="296280"/>
            <a:chOff x="549360" y="2055960"/>
            <a:chExt cx="347040" cy="296280"/>
          </a:xfrm>
        </p:grpSpPr>
        <p:grpSp>
          <p:nvGrpSpPr>
            <p:cNvPr id="668" name=""/>
            <p:cNvGrpSpPr/>
            <p:nvPr/>
          </p:nvGrpSpPr>
          <p:grpSpPr>
            <a:xfrm>
              <a:off x="685440" y="2055960"/>
              <a:ext cx="75960" cy="63360"/>
              <a:chOff x="685440" y="2055960"/>
              <a:chExt cx="75960" cy="63360"/>
            </a:xfrm>
          </p:grpSpPr>
          <p:sp>
            <p:nvSpPr>
              <p:cNvPr id="669" name=""/>
              <p:cNvSpPr/>
              <p:nvPr/>
            </p:nvSpPr>
            <p:spPr>
              <a:xfrm>
                <a:off x="685440" y="2055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400" y="2055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49360" y="2116080"/>
              <a:ext cx="347040" cy="236160"/>
              <a:chOff x="549360" y="2116080"/>
              <a:chExt cx="347040" cy="2361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9360" y="2116080"/>
                <a:ext cx="347040" cy="23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49360" y="2118240"/>
                <a:ext cx="34020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4200" y="22852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20440" y="22852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6" name=""/>
          <p:cNvSpPr/>
          <p:nvPr/>
        </p:nvSpPr>
        <p:spPr>
          <a:xfrm>
            <a:off x="4535640" y="2287440"/>
            <a:ext cx="947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43560" y="3041640"/>
            <a:ext cx="947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565080" y="98280"/>
            <a:ext cx="222588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G-BRB05,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90440" y="403200"/>
            <a:ext cx="5097600" cy="5686560"/>
            <a:chOff x="190440" y="403200"/>
            <a:chExt cx="5097600" cy="5686560"/>
          </a:xfrm>
        </p:grpSpPr>
        <p:grpSp>
          <p:nvGrpSpPr>
            <p:cNvPr id="680" name=""/>
            <p:cNvGrpSpPr/>
            <p:nvPr/>
          </p:nvGrpSpPr>
          <p:grpSpPr>
            <a:xfrm>
              <a:off x="190440" y="403200"/>
              <a:ext cx="347400" cy="296280"/>
              <a:chOff x="190440" y="403200"/>
              <a:chExt cx="347400" cy="29628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26880" y="403200"/>
                <a:ext cx="76320" cy="63360"/>
                <a:chOff x="326880" y="403200"/>
                <a:chExt cx="76320" cy="633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26880" y="403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03200" y="403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190440" y="463320"/>
                <a:ext cx="347400" cy="236160"/>
                <a:chOff x="190440" y="463320"/>
                <a:chExt cx="347400" cy="2361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190440" y="463320"/>
                  <a:ext cx="34740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190440" y="465480"/>
                  <a:ext cx="340560" cy="22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5280" y="632520"/>
                  <a:ext cx="40320" cy="40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61880" y="632520"/>
                  <a:ext cx="40320" cy="40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9" name=""/>
            <p:cNvSpPr/>
            <p:nvPr/>
          </p:nvSpPr>
          <p:spPr>
            <a:xfrm>
              <a:off x="2919240" y="2249640"/>
              <a:ext cx="2368800" cy="15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) (3 in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4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9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0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2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3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4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6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7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&amp; 18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6 in 6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7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8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9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&amp; 20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Panzer Divisions) (None in 3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rd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) (12 in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4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9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0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3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4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6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7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&amp; 18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6 in 6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7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8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9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&amp; 20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Panzer Divisions)       (18 in 3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rd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None in 12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)(12 in 1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)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8280" y="617400"/>
              <a:ext cx="0" cy="30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7880" y="309420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5560" y="364320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2320" y="2089080"/>
              <a:ext cx="0" cy="73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040" y="3110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9720" y="468360"/>
              <a:ext cx="254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group-GEBRB05                Kradschüzten (Motorcycle)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2960" y="106668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623880" y="949320"/>
              <a:ext cx="233280" cy="205920"/>
              <a:chOff x="623880" y="949320"/>
              <a:chExt cx="233280" cy="20592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623880" y="998280"/>
                <a:ext cx="233280" cy="156960"/>
                <a:chOff x="623880" y="998280"/>
                <a:chExt cx="233280" cy="156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25320" y="99828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23880" y="1002960"/>
                  <a:ext cx="21888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727200" y="9493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887400" y="887400"/>
              <a:ext cx="470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5600" y="1017720"/>
              <a:ext cx="14882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6440" y="11048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23880" y="1216080"/>
              <a:ext cx="231840" cy="228240"/>
              <a:chOff x="623880" y="1216080"/>
              <a:chExt cx="231840" cy="22824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623880" y="1254240"/>
                <a:ext cx="231840" cy="190080"/>
                <a:chOff x="623880" y="1254240"/>
                <a:chExt cx="231840" cy="1900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23880" y="12542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34320" y="141696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16120" y="141696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725400" y="1216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887400" y="116352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87040" y="1298520"/>
              <a:ext cx="15170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übelwagen                  GE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84160" y="782640"/>
              <a:ext cx="1378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20880" y="1650960"/>
              <a:ext cx="19447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 Motorcycle Co.   ME-GEBRB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8280" y="2575080"/>
              <a:ext cx="2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22440" y="2455920"/>
              <a:ext cx="236520" cy="199800"/>
              <a:chOff x="622440" y="2455920"/>
              <a:chExt cx="236520" cy="19980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622440" y="2490840"/>
                <a:ext cx="236520" cy="164880"/>
                <a:chOff x="622440" y="2490840"/>
                <a:chExt cx="236520" cy="16488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22440" y="2495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22440" y="25016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628920" y="249084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40080" y="251928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96960" y="2455920"/>
                <a:ext cx="85680" cy="27000"/>
                <a:chOff x="696960" y="2455920"/>
                <a:chExt cx="85680" cy="270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96960" y="2455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54200" y="2455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"/>
            <p:cNvSpPr/>
            <p:nvPr/>
          </p:nvSpPr>
          <p:spPr>
            <a:xfrm>
              <a:off x="900000" y="2523960"/>
              <a:ext cx="1535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vy Machine Gun    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1800" y="232560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20640" y="2212920"/>
              <a:ext cx="239760" cy="206280"/>
              <a:chOff x="620640" y="2212920"/>
              <a:chExt cx="239760" cy="20628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620640" y="2261880"/>
                <a:ext cx="239760" cy="157320"/>
                <a:chOff x="620640" y="2261880"/>
                <a:chExt cx="239760" cy="1573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20640" y="226188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704880" y="237780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36560" y="229356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696960" y="2212920"/>
                <a:ext cx="85680" cy="27000"/>
                <a:chOff x="696960" y="2212920"/>
                <a:chExt cx="85680" cy="270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696960" y="2212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54200" y="2212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5" name=""/>
            <p:cNvSpPr/>
            <p:nvPr/>
          </p:nvSpPr>
          <p:spPr>
            <a:xfrm>
              <a:off x="889560" y="2295360"/>
              <a:ext cx="15325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cm Mortar                    GE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14400" y="26668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623880" y="2701800"/>
              <a:ext cx="231840" cy="230040"/>
              <a:chOff x="623880" y="2701800"/>
              <a:chExt cx="231840" cy="23004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623880" y="2741760"/>
                <a:ext cx="231840" cy="190080"/>
                <a:chOff x="623880" y="2741760"/>
                <a:chExt cx="231840" cy="190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23880" y="274176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34320" y="290448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16120" y="29044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96960" y="2701800"/>
                <a:ext cx="85680" cy="27000"/>
                <a:chOff x="696960" y="2701800"/>
                <a:chExt cx="85680" cy="270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696960" y="2701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54200" y="2701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5" name=""/>
            <p:cNvSpPr/>
            <p:nvPr/>
          </p:nvSpPr>
          <p:spPr>
            <a:xfrm>
              <a:off x="910800" y="2801880"/>
              <a:ext cx="1521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            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623880" y="2992320"/>
              <a:ext cx="231840" cy="190080"/>
              <a:chOff x="623880" y="2992320"/>
              <a:chExt cx="231840" cy="19008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623880" y="3025440"/>
                <a:ext cx="231840" cy="156960"/>
                <a:chOff x="623880" y="3025440"/>
                <a:chExt cx="231840" cy="15696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623880" y="3025440"/>
                  <a:ext cx="231840" cy="156960"/>
                  <a:chOff x="623880" y="3025440"/>
                  <a:chExt cx="231840" cy="15696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623880" y="302544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>
                    <a:off x="626040" y="302760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623880" y="30276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2" name=""/>
                <p:cNvSpPr/>
                <p:nvPr/>
              </p:nvSpPr>
              <p:spPr>
                <a:xfrm>
                  <a:off x="725400" y="3093840"/>
                  <a:ext cx="28440" cy="2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96960" y="2992320"/>
                <a:ext cx="85680" cy="26640"/>
                <a:chOff x="696960" y="2992320"/>
                <a:chExt cx="85680" cy="26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96960" y="2992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54200" y="2992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6" name=""/>
            <p:cNvSpPr/>
            <p:nvPr/>
          </p:nvSpPr>
          <p:spPr>
            <a:xfrm>
              <a:off x="907560" y="1476360"/>
              <a:ext cx="11710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720" y="209700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623880" y="1968480"/>
              <a:ext cx="231840" cy="200160"/>
              <a:chOff x="623880" y="1968480"/>
              <a:chExt cx="231840" cy="20016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623880" y="2011320"/>
                <a:ext cx="231840" cy="157320"/>
                <a:chOff x="623880" y="2011320"/>
                <a:chExt cx="231840" cy="15732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623880" y="201132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1" name=""/>
                <p:cNvGrpSpPr/>
                <p:nvPr/>
              </p:nvGrpSpPr>
              <p:grpSpPr>
                <a:xfrm>
                  <a:off x="693720" y="2067120"/>
                  <a:ext cx="91800" cy="45720"/>
                  <a:chOff x="693720" y="2067120"/>
                  <a:chExt cx="91800" cy="4572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693720" y="2067120"/>
                    <a:ext cx="0" cy="45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37640" y="2067120"/>
                    <a:ext cx="0" cy="45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785520" y="2067120"/>
                    <a:ext cx="0" cy="45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93720" y="206712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6" name=""/>
              <p:cNvGrpSpPr/>
              <p:nvPr/>
            </p:nvGrpSpPr>
            <p:grpSpPr>
              <a:xfrm>
                <a:off x="691920" y="1968480"/>
                <a:ext cx="85680" cy="27000"/>
                <a:chOff x="691920" y="1968480"/>
                <a:chExt cx="85680" cy="270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691920" y="1968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49160" y="1968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9" name=""/>
            <p:cNvSpPr/>
            <p:nvPr/>
          </p:nvSpPr>
          <p:spPr>
            <a:xfrm>
              <a:off x="883440" y="2043000"/>
              <a:ext cx="1535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oniere (1 Flame)         GE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94600" y="1895400"/>
              <a:ext cx="7765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12600" y="3056040"/>
              <a:ext cx="1604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5mm Inf. Gun              GE-38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2320" y="320832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623880" y="3243240"/>
              <a:ext cx="231840" cy="229320"/>
              <a:chOff x="623880" y="3243240"/>
              <a:chExt cx="231840" cy="22932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623880" y="3282840"/>
                <a:ext cx="231840" cy="189720"/>
                <a:chOff x="623880" y="3282840"/>
                <a:chExt cx="231840" cy="1897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623880" y="3282840"/>
                  <a:ext cx="23184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34320" y="34452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16120" y="34452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696960" y="3243240"/>
                <a:ext cx="85680" cy="26640"/>
                <a:chOff x="696960" y="3243240"/>
                <a:chExt cx="85680" cy="266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696960" y="3243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54200" y="3243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1" name=""/>
            <p:cNvSpPr/>
            <p:nvPr/>
          </p:nvSpPr>
          <p:spPr>
            <a:xfrm>
              <a:off x="918720" y="3343320"/>
              <a:ext cx="1521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            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5040" y="3651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32040" y="377676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23880" y="3530520"/>
              <a:ext cx="231840" cy="199800"/>
              <a:chOff x="623880" y="3530520"/>
              <a:chExt cx="231840" cy="19980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623880" y="3573360"/>
                <a:ext cx="231840" cy="156960"/>
                <a:chOff x="623880" y="3573360"/>
                <a:chExt cx="231840" cy="1569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623880" y="357336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741600" y="3576240"/>
                  <a:ext cx="11412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3880" y="357336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696960" y="3530520"/>
                <a:ext cx="85680" cy="27000"/>
                <a:chOff x="696960" y="3530520"/>
                <a:chExt cx="85680" cy="270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696960" y="3530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54200" y="3530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2" name=""/>
            <p:cNvSpPr/>
            <p:nvPr/>
          </p:nvSpPr>
          <p:spPr>
            <a:xfrm>
              <a:off x="929520" y="3613320"/>
              <a:ext cx="1535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7mm AT Gun               GE-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29880" y="3911760"/>
              <a:ext cx="1526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Prime Mover         GE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620640" y="3798720"/>
              <a:ext cx="239760" cy="225360"/>
              <a:chOff x="620640" y="3798720"/>
              <a:chExt cx="239760" cy="22536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620640" y="3835080"/>
                <a:ext cx="239760" cy="189000"/>
                <a:chOff x="620640" y="3835080"/>
                <a:chExt cx="239760" cy="1890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620640" y="383508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34680" y="3997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47360" y="399564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23680" y="399564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68240" y="399564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696960" y="3798720"/>
                <a:ext cx="85680" cy="27000"/>
                <a:chOff x="696960" y="3798720"/>
                <a:chExt cx="85680" cy="27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696960" y="3798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54200" y="3798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4" name=""/>
            <p:cNvSpPr/>
            <p:nvPr/>
          </p:nvSpPr>
          <p:spPr>
            <a:xfrm>
              <a:off x="368280" y="16938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09000" y="4097160"/>
              <a:ext cx="1390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1520" y="430992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611280" y="4189320"/>
              <a:ext cx="239400" cy="220680"/>
              <a:chOff x="611280" y="4189320"/>
              <a:chExt cx="239400" cy="22068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611280" y="4219560"/>
                <a:ext cx="239400" cy="190440"/>
                <a:chOff x="611280" y="4219560"/>
                <a:chExt cx="239400" cy="19044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611280" y="4219560"/>
                  <a:ext cx="239400" cy="158760"/>
                  <a:chOff x="611280" y="4219560"/>
                  <a:chExt cx="239400" cy="15876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611280" y="4221360"/>
                    <a:ext cx="23940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69600" y="4295880"/>
                    <a:ext cx="1188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611280" y="4221360"/>
                    <a:ext cx="11556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26840" y="4219560"/>
                    <a:ext cx="12348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4" name=""/>
                <p:cNvSpPr/>
                <p:nvPr/>
              </p:nvSpPr>
              <p:spPr>
                <a:xfrm>
                  <a:off x="618840" y="4383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31520" y="43812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07840" y="43812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52040" y="4381200"/>
                  <a:ext cx="6156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687240" y="4189320"/>
                <a:ext cx="85680" cy="27000"/>
                <a:chOff x="687240" y="4189320"/>
                <a:chExt cx="85680" cy="270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687240" y="4189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44480" y="4189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1" name=""/>
            <p:cNvSpPr/>
            <p:nvPr/>
          </p:nvSpPr>
          <p:spPr>
            <a:xfrm>
              <a:off x="922320" y="4257720"/>
              <a:ext cx="19861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10/4 SP Antiaircraft Gun  GE-19  (4 per 1941 Panz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7640" y="457992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7120" y="45878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23760" y="471312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615960" y="4467240"/>
              <a:ext cx="231840" cy="199800"/>
              <a:chOff x="615960" y="4467240"/>
              <a:chExt cx="231840" cy="199800"/>
            </a:xfrm>
          </p:grpSpPr>
          <p:grpSp>
            <p:nvGrpSpPr>
              <p:cNvPr id="826" name=""/>
              <p:cNvGrpSpPr/>
              <p:nvPr/>
            </p:nvGrpSpPr>
            <p:grpSpPr>
              <a:xfrm>
                <a:off x="615960" y="4510080"/>
                <a:ext cx="231840" cy="156960"/>
                <a:chOff x="615960" y="4510080"/>
                <a:chExt cx="231840" cy="1569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615960" y="451008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733680" y="4512960"/>
                  <a:ext cx="11412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15960" y="451008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689040" y="4467240"/>
                <a:ext cx="85680" cy="27000"/>
                <a:chOff x="689040" y="4467240"/>
                <a:chExt cx="85680" cy="270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689040" y="4467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46280" y="4467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3" name=""/>
            <p:cNvSpPr/>
            <p:nvPr/>
          </p:nvSpPr>
          <p:spPr>
            <a:xfrm>
              <a:off x="922680" y="4549680"/>
              <a:ext cx="16617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0-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m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 AT Gun           GE-40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21960" y="4848120"/>
              <a:ext cx="1526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Prime Mover         GE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12720" y="4735440"/>
              <a:ext cx="239760" cy="225360"/>
              <a:chOff x="612720" y="4735440"/>
              <a:chExt cx="239760" cy="22536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612720" y="4771800"/>
                <a:ext cx="239760" cy="189000"/>
                <a:chOff x="612720" y="4771800"/>
                <a:chExt cx="239760" cy="1890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612720" y="477180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26760" y="4933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39440" y="49323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15760" y="49323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60320" y="493236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689040" y="4735440"/>
                <a:ext cx="85680" cy="27000"/>
                <a:chOff x="689040" y="4735440"/>
                <a:chExt cx="85680" cy="270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689040" y="47354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46280" y="47354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5" name=""/>
            <p:cNvSpPr/>
            <p:nvPr/>
          </p:nvSpPr>
          <p:spPr>
            <a:xfrm>
              <a:off x="655560" y="512136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040" y="5129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32040" y="525456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623880" y="5008680"/>
              <a:ext cx="231840" cy="199800"/>
              <a:chOff x="623880" y="5008680"/>
              <a:chExt cx="231840" cy="1998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623880" y="5051520"/>
                <a:ext cx="231840" cy="156960"/>
                <a:chOff x="623880" y="5051520"/>
                <a:chExt cx="231840" cy="15696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623880" y="5051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741600" y="5054400"/>
                  <a:ext cx="11412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23880" y="505152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696960" y="5008680"/>
                <a:ext cx="85680" cy="27000"/>
                <a:chOff x="696960" y="5008680"/>
                <a:chExt cx="85680" cy="270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696960" y="5008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54200" y="5008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6" name=""/>
            <p:cNvSpPr/>
            <p:nvPr/>
          </p:nvSpPr>
          <p:spPr>
            <a:xfrm>
              <a:off x="929520" y="5091120"/>
              <a:ext cx="16801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0-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7mm AT Gun           GE-98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29880" y="5389560"/>
              <a:ext cx="1526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Prime Mover         GE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20640" y="5276880"/>
              <a:ext cx="239760" cy="225360"/>
              <a:chOff x="620640" y="5276880"/>
              <a:chExt cx="239760" cy="2253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620640" y="5313240"/>
                <a:ext cx="239760" cy="189000"/>
                <a:chOff x="620640" y="5313240"/>
                <a:chExt cx="239760" cy="189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20640" y="531324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34680" y="5475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47360" y="54738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23680" y="54738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68240" y="547380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696960" y="5276880"/>
                <a:ext cx="85680" cy="27000"/>
                <a:chOff x="696960" y="5276880"/>
                <a:chExt cx="85680" cy="270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696960" y="5276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54200" y="5276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8" name=""/>
            <p:cNvSpPr/>
            <p:nvPr/>
          </p:nvSpPr>
          <p:spPr>
            <a:xfrm>
              <a:off x="671400" y="570852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0880" y="5716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47880" y="58420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639720" y="5595840"/>
              <a:ext cx="231840" cy="199800"/>
              <a:chOff x="639720" y="5595840"/>
              <a:chExt cx="231840" cy="19980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639720" y="5638680"/>
                <a:ext cx="231840" cy="156960"/>
                <a:chOff x="639720" y="5638680"/>
                <a:chExt cx="231840" cy="15696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39720" y="563868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757440" y="5641560"/>
                  <a:ext cx="11412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39720" y="563868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712800" y="5595840"/>
                <a:ext cx="85680" cy="27000"/>
                <a:chOff x="712800" y="5595840"/>
                <a:chExt cx="85680" cy="2700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12800" y="5595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70040" y="5595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946080" y="5678640"/>
              <a:ext cx="17136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0-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7mm AT Gun          GE-P13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46080" y="5977080"/>
              <a:ext cx="1526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Prime Mover         GE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636480" y="5864400"/>
              <a:ext cx="239760" cy="225360"/>
              <a:chOff x="636480" y="5864400"/>
              <a:chExt cx="239760" cy="22536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636480" y="5900760"/>
                <a:ext cx="239760" cy="189000"/>
                <a:chOff x="636480" y="5900760"/>
                <a:chExt cx="239760" cy="18900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636480" y="590076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50520" y="6062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63200" y="606132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39520" y="606132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84080" y="606132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712800" y="5864400"/>
                <a:ext cx="85680" cy="27000"/>
                <a:chOff x="712800" y="5864400"/>
                <a:chExt cx="85680" cy="270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712800" y="5864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70040" y="5864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1" name=""/>
            <p:cNvSpPr/>
            <p:nvPr/>
          </p:nvSpPr>
          <p:spPr>
            <a:xfrm>
              <a:off x="368280" y="3619440"/>
              <a:ext cx="0" cy="209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600120" y="1538280"/>
              <a:ext cx="283680" cy="255240"/>
              <a:chOff x="600120" y="1538280"/>
              <a:chExt cx="283680" cy="255240"/>
            </a:xfrm>
          </p:grpSpPr>
          <p:sp>
            <p:nvSpPr>
              <p:cNvPr id="893" name=""/>
              <p:cNvSpPr/>
              <p:nvPr/>
            </p:nvSpPr>
            <p:spPr>
              <a:xfrm>
                <a:off x="743040" y="1538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600120" y="1600200"/>
                <a:ext cx="283680" cy="193320"/>
                <a:chOff x="600120" y="1600200"/>
                <a:chExt cx="283680" cy="19332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600120" y="160020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600120" y="1602360"/>
                  <a:ext cx="277920" cy="18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67520" y="1738800"/>
                  <a:ext cx="3276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21880" y="1738800"/>
                  <a:ext cx="3276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9" name=""/>
            <p:cNvSpPr/>
            <p:nvPr/>
          </p:nvSpPr>
          <p:spPr>
            <a:xfrm>
              <a:off x="916200" y="219708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08280" y="294336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218200" y="473040"/>
            <a:ext cx="3004920" cy="3664080"/>
            <a:chOff x="5218200" y="473040"/>
            <a:chExt cx="3004920" cy="3664080"/>
          </a:xfrm>
        </p:grpSpPr>
        <p:grpSp>
          <p:nvGrpSpPr>
            <p:cNvPr id="902" name=""/>
            <p:cNvGrpSpPr/>
            <p:nvPr/>
          </p:nvGrpSpPr>
          <p:grpSpPr>
            <a:xfrm>
              <a:off x="5218200" y="473040"/>
              <a:ext cx="3004920" cy="3263400"/>
              <a:chOff x="5218200" y="473040"/>
              <a:chExt cx="3004920" cy="326340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563400"/>
                <a:ext cx="0" cy="246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97480" y="1347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5218200" y="473040"/>
                <a:ext cx="364320" cy="291240"/>
                <a:chOff x="5218200" y="473040"/>
                <a:chExt cx="364320" cy="291240"/>
              </a:xfrm>
            </p:grpSpPr>
            <p:grpSp>
              <p:nvGrpSpPr>
                <p:cNvPr id="906" name=""/>
                <p:cNvGrpSpPr/>
                <p:nvPr/>
              </p:nvGrpSpPr>
              <p:grpSpPr>
                <a:xfrm>
                  <a:off x="5218200" y="525240"/>
                  <a:ext cx="364320" cy="239040"/>
                  <a:chOff x="5218200" y="525240"/>
                  <a:chExt cx="364320" cy="239040"/>
                </a:xfrm>
              </p:grpSpPr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5218200" y="525240"/>
                    <a:ext cx="364320" cy="238680"/>
                    <a:chOff x="5218200" y="525240"/>
                    <a:chExt cx="364320" cy="23868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5218200" y="525240"/>
                      <a:ext cx="364320" cy="2386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5285160" y="585000"/>
                      <a:ext cx="230400" cy="114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0" name=""/>
                  <p:cNvSpPr/>
                  <p:nvPr/>
                </p:nvSpPr>
                <p:spPr>
                  <a:xfrm flipV="1">
                    <a:off x="5218200" y="525240"/>
                    <a:ext cx="359280" cy="239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5362560" y="473040"/>
                  <a:ext cx="76320" cy="63360"/>
                  <a:chOff x="5362560" y="473040"/>
                  <a:chExt cx="76320" cy="6336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5362560" y="473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5438880" y="473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4" name=""/>
              <p:cNvSpPr/>
              <p:nvPr/>
            </p:nvSpPr>
            <p:spPr>
              <a:xfrm>
                <a:off x="5976720" y="1282680"/>
                <a:ext cx="1944720" cy="1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Arm. Car Co.       ME- GEBRB0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5603760" y="1185840"/>
                <a:ext cx="284040" cy="291600"/>
                <a:chOff x="5603760" y="1185840"/>
                <a:chExt cx="284040" cy="29160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749560" y="1185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7" name=""/>
                <p:cNvGrpSpPr/>
                <p:nvPr/>
              </p:nvGrpSpPr>
              <p:grpSpPr>
                <a:xfrm>
                  <a:off x="5603760" y="1244160"/>
                  <a:ext cx="284040" cy="233280"/>
                  <a:chOff x="5603760" y="1244160"/>
                  <a:chExt cx="284040" cy="23328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5603760" y="1244520"/>
                    <a:ext cx="284040" cy="19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616720" y="144396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839920" y="144396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644440" y="1295280"/>
                    <a:ext cx="198000" cy="9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V="1">
                    <a:off x="5606640" y="1244160"/>
                    <a:ext cx="279720" cy="186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3" name=""/>
              <p:cNvSpPr/>
              <p:nvPr/>
            </p:nvSpPr>
            <p:spPr>
              <a:xfrm>
                <a:off x="5398920" y="1020600"/>
                <a:ext cx="34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976720" y="865080"/>
                <a:ext cx="470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977080" y="995040"/>
                <a:ext cx="15645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dKfz 263 [8 Rad]     GE-93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5632560" y="896760"/>
                <a:ext cx="231480" cy="231480"/>
                <a:chOff x="5632560" y="896760"/>
                <a:chExt cx="231480" cy="231480"/>
              </a:xfrm>
            </p:grpSpPr>
            <p:grpSp>
              <p:nvGrpSpPr>
                <p:cNvPr id="927" name=""/>
                <p:cNvGrpSpPr/>
                <p:nvPr/>
              </p:nvGrpSpPr>
              <p:grpSpPr>
                <a:xfrm>
                  <a:off x="5632560" y="938160"/>
                  <a:ext cx="231480" cy="190080"/>
                  <a:chOff x="5632560" y="938160"/>
                  <a:chExt cx="231480" cy="19008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5632560" y="93816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643000" y="11008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824800" y="11008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665680" y="979560"/>
                    <a:ext cx="16128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5634720" y="938160"/>
                    <a:ext cx="22788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3" name=""/>
                <p:cNvSpPr/>
                <p:nvPr/>
              </p:nvSpPr>
              <p:spPr>
                <a:xfrm>
                  <a:off x="5735520" y="896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976720" y="1576080"/>
                <a:ext cx="1944720" cy="1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 Motorcycle Co.   ME-GEBRB0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398920" y="16347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"/>
              <p:cNvGrpSpPr/>
              <p:nvPr/>
            </p:nvGrpSpPr>
            <p:grpSpPr>
              <a:xfrm>
                <a:off x="5599080" y="1487160"/>
                <a:ext cx="283680" cy="255240"/>
                <a:chOff x="5599080" y="1487160"/>
                <a:chExt cx="283680" cy="2552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5742000" y="14871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8" name=""/>
                <p:cNvGrpSpPr/>
                <p:nvPr/>
              </p:nvGrpSpPr>
              <p:grpSpPr>
                <a:xfrm>
                  <a:off x="5599080" y="1549080"/>
                  <a:ext cx="283680" cy="193320"/>
                  <a:chOff x="5599080" y="1549080"/>
                  <a:chExt cx="283680" cy="1933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5599080" y="1549080"/>
                    <a:ext cx="28368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V="1">
                    <a:off x="5599080" y="1551240"/>
                    <a:ext cx="277920" cy="187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766480" y="1687680"/>
                    <a:ext cx="3276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5820840" y="1687680"/>
                    <a:ext cx="3276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3" name=""/>
              <p:cNvSpPr/>
              <p:nvPr/>
            </p:nvSpPr>
            <p:spPr>
              <a:xfrm>
                <a:off x="5973120" y="1152360"/>
                <a:ext cx="11710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678280" y="529920"/>
                <a:ext cx="254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ttlegroup-GEBRB06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Armored Reconnaissance Battal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974560" y="1787400"/>
                <a:ext cx="7765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699160" y="2463480"/>
                <a:ext cx="0" cy="31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676840" y="3012840"/>
                <a:ext cx="0" cy="31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86320" y="24793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5645160" y="2361960"/>
                <a:ext cx="231840" cy="190080"/>
                <a:chOff x="5645160" y="2361960"/>
                <a:chExt cx="231840" cy="19008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5645160" y="2395080"/>
                  <a:ext cx="231840" cy="156960"/>
                  <a:chOff x="5645160" y="2395080"/>
                  <a:chExt cx="231840" cy="156960"/>
                </a:xfrm>
              </p:grpSpPr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645160" y="2395080"/>
                    <a:ext cx="231840" cy="156960"/>
                    <a:chOff x="5645160" y="2395080"/>
                    <a:chExt cx="231840" cy="15696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5645160" y="239508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flipV="1">
                      <a:off x="5647320" y="2397240"/>
                      <a:ext cx="22572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5645160" y="239724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5" name=""/>
                  <p:cNvSpPr/>
                  <p:nvPr/>
                </p:nvSpPr>
                <p:spPr>
                  <a:xfrm>
                    <a:off x="5746680" y="246348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5718240" y="2361960"/>
                  <a:ext cx="85680" cy="26640"/>
                  <a:chOff x="5718240" y="2361960"/>
                  <a:chExt cx="85680" cy="2664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5718240" y="2361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775480" y="2361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59" name=""/>
              <p:cNvSpPr/>
              <p:nvPr/>
            </p:nvSpPr>
            <p:spPr>
              <a:xfrm>
                <a:off x="5392800" y="196848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" name=""/>
              <p:cNvGrpSpPr/>
              <p:nvPr/>
            </p:nvGrpSpPr>
            <p:grpSpPr>
              <a:xfrm>
                <a:off x="5622840" y="1831680"/>
                <a:ext cx="231840" cy="200160"/>
                <a:chOff x="5622840" y="1831680"/>
                <a:chExt cx="231840" cy="20016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5622840" y="1874520"/>
                  <a:ext cx="231840" cy="157320"/>
                  <a:chOff x="5622840" y="1874520"/>
                  <a:chExt cx="231840" cy="15732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5622840" y="1874520"/>
                    <a:ext cx="23184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692680" y="1930320"/>
                    <a:ext cx="91800" cy="45720"/>
                    <a:chOff x="5692680" y="1930320"/>
                    <a:chExt cx="91800" cy="457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5692680" y="1930320"/>
                      <a:ext cx="0" cy="45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5736600" y="1930320"/>
                      <a:ext cx="0" cy="45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5784480" y="1930320"/>
                      <a:ext cx="0" cy="45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5692680" y="1930320"/>
                      <a:ext cx="918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690880" y="1831680"/>
                  <a:ext cx="85680" cy="27000"/>
                  <a:chOff x="5690880" y="1831680"/>
                  <a:chExt cx="85680" cy="2700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5690880" y="1831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748120" y="1831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1" name=""/>
              <p:cNvSpPr/>
              <p:nvPr/>
            </p:nvSpPr>
            <p:spPr>
              <a:xfrm>
                <a:off x="5973480" y="1914480"/>
                <a:ext cx="1505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ioniere         GE-47        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74920" y="2425680"/>
                <a:ext cx="1604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75mm Inf. Gun              GE-38.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76720" y="257796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5645160" y="2612880"/>
                <a:ext cx="231840" cy="229320"/>
                <a:chOff x="5645160" y="2612880"/>
                <a:chExt cx="231840" cy="22932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5645160" y="2652480"/>
                  <a:ext cx="231840" cy="189720"/>
                  <a:chOff x="5645160" y="2652480"/>
                  <a:chExt cx="231840" cy="1897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645160" y="2652480"/>
                    <a:ext cx="23184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655600" y="281484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837400" y="281484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5718240" y="2612880"/>
                  <a:ext cx="85680" cy="26640"/>
                  <a:chOff x="5718240" y="2612880"/>
                  <a:chExt cx="85680" cy="266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5718240" y="2612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5775480" y="2612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82" name=""/>
              <p:cNvSpPr/>
              <p:nvPr/>
            </p:nvSpPr>
            <p:spPr>
              <a:xfrm>
                <a:off x="5394240" y="30207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976720" y="314640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4" name=""/>
              <p:cNvGrpSpPr/>
              <p:nvPr/>
            </p:nvGrpSpPr>
            <p:grpSpPr>
              <a:xfrm>
                <a:off x="5645160" y="2900160"/>
                <a:ext cx="231840" cy="199800"/>
                <a:chOff x="5645160" y="2900160"/>
                <a:chExt cx="231840" cy="199800"/>
              </a:xfrm>
            </p:grpSpPr>
            <p:grpSp>
              <p:nvGrpSpPr>
                <p:cNvPr id="985" name=""/>
                <p:cNvGrpSpPr/>
                <p:nvPr/>
              </p:nvGrpSpPr>
              <p:grpSpPr>
                <a:xfrm>
                  <a:off x="5645160" y="2943000"/>
                  <a:ext cx="231840" cy="156960"/>
                  <a:chOff x="5645160" y="2943000"/>
                  <a:chExt cx="231840" cy="15696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5645160" y="29430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V="1">
                    <a:off x="5762880" y="2945880"/>
                    <a:ext cx="114120" cy="152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5645160" y="2943000"/>
                    <a:ext cx="11448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5718240" y="2900160"/>
                  <a:ext cx="85680" cy="27000"/>
                  <a:chOff x="5718240" y="2900160"/>
                  <a:chExt cx="85680" cy="2700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5718240" y="2900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5775480" y="2900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2" name=""/>
              <p:cNvSpPr/>
              <p:nvPr/>
            </p:nvSpPr>
            <p:spPr>
              <a:xfrm>
                <a:off x="5977080" y="2312640"/>
                <a:ext cx="947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74200" y="2974680"/>
                <a:ext cx="153540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37mm AT Gun               GE-9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73120" y="3252600"/>
                <a:ext cx="15217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73120" y="2703240"/>
                <a:ext cx="15217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6" name=""/>
              <p:cNvGrpSpPr/>
              <p:nvPr/>
            </p:nvGrpSpPr>
            <p:grpSpPr>
              <a:xfrm>
                <a:off x="5646600" y="3144600"/>
                <a:ext cx="231840" cy="230040"/>
                <a:chOff x="5646600" y="3144600"/>
                <a:chExt cx="231840" cy="230040"/>
              </a:xfrm>
            </p:grpSpPr>
            <p:grpSp>
              <p:nvGrpSpPr>
                <p:cNvPr id="997" name=""/>
                <p:cNvGrpSpPr/>
                <p:nvPr/>
              </p:nvGrpSpPr>
              <p:grpSpPr>
                <a:xfrm>
                  <a:off x="5646600" y="3184560"/>
                  <a:ext cx="231840" cy="190080"/>
                  <a:chOff x="5646600" y="3184560"/>
                  <a:chExt cx="231840" cy="1900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5646600" y="31845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5657040" y="33472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5838840" y="33472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5719680" y="3144600"/>
                  <a:ext cx="85680" cy="27000"/>
                  <a:chOff x="5719680" y="3144600"/>
                  <a:chExt cx="85680" cy="2700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5719680" y="31446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5776920" y="31446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4" name=""/>
              <p:cNvSpPr/>
              <p:nvPr/>
            </p:nvSpPr>
            <p:spPr>
              <a:xfrm>
                <a:off x="5668920" y="1946160"/>
                <a:ext cx="0" cy="31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76720" y="207936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972040" y="2185920"/>
                <a:ext cx="16635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          GE-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5638680" y="2077920"/>
                <a:ext cx="231840" cy="229320"/>
                <a:chOff x="5638680" y="2077920"/>
                <a:chExt cx="231840" cy="229320"/>
              </a:xfrm>
            </p:grpSpPr>
            <p:grpSp>
              <p:nvGrpSpPr>
                <p:cNvPr id="1008" name=""/>
                <p:cNvGrpSpPr/>
                <p:nvPr/>
              </p:nvGrpSpPr>
              <p:grpSpPr>
                <a:xfrm>
                  <a:off x="5638680" y="2117520"/>
                  <a:ext cx="231840" cy="189720"/>
                  <a:chOff x="5638680" y="2117520"/>
                  <a:chExt cx="231840" cy="1897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5638680" y="2117520"/>
                    <a:ext cx="23184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5649120" y="22798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830920" y="22798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5711760" y="2077920"/>
                  <a:ext cx="85680" cy="26640"/>
                  <a:chOff x="5711760" y="2077920"/>
                  <a:chExt cx="85680" cy="2664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5711760" y="2077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769000" y="2077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5" name=""/>
              <p:cNvSpPr/>
              <p:nvPr/>
            </p:nvSpPr>
            <p:spPr>
              <a:xfrm>
                <a:off x="5972760" y="3412800"/>
                <a:ext cx="1390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VISIONAL 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429160" y="359388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7" name=""/>
              <p:cNvGrpSpPr/>
              <p:nvPr/>
            </p:nvGrpSpPr>
            <p:grpSpPr>
              <a:xfrm>
                <a:off x="5668920" y="3473280"/>
                <a:ext cx="239400" cy="220680"/>
                <a:chOff x="5668920" y="3473280"/>
                <a:chExt cx="239400" cy="22068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5668920" y="3503520"/>
                  <a:ext cx="239400" cy="190440"/>
                  <a:chOff x="5668920" y="3503520"/>
                  <a:chExt cx="239400" cy="190440"/>
                </a:xfrm>
              </p:grpSpPr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668920" y="3503520"/>
                    <a:ext cx="239400" cy="158760"/>
                    <a:chOff x="5668920" y="3503520"/>
                    <a:chExt cx="239400" cy="1587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5668920" y="3505320"/>
                      <a:ext cx="23940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5727240" y="3579840"/>
                      <a:ext cx="1188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flipV="1">
                      <a:off x="5668920" y="350532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5784480" y="3503520"/>
                      <a:ext cx="12348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5676480" y="36669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5789160" y="36651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865480" y="36651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809680" y="3665160"/>
                    <a:ext cx="6156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5744880" y="3473280"/>
                  <a:ext cx="85680" cy="27000"/>
                  <a:chOff x="5744880" y="3473280"/>
                  <a:chExt cx="85680" cy="2700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5744880" y="34732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802120" y="34732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31" name=""/>
              <p:cNvSpPr/>
              <p:nvPr/>
            </p:nvSpPr>
            <p:spPr>
              <a:xfrm>
                <a:off x="5976720" y="3541680"/>
                <a:ext cx="19861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dKfz 10/4 SP Antiaircraft Gun  GE-19  (4 per 1941 Panz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02160" y="3009600"/>
                <a:ext cx="0" cy="59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5440320" y="3771720"/>
              <a:ext cx="252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 Replace in 7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&amp; 20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anzer Divisions with French AMD Panhard 178, 25mm Arm. Car, FR-15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04640" y="-360"/>
            <a:ext cx="561348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G-BRB07,08,09 1941Motorized Rifle Division Battle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700440" y="495360"/>
            <a:ext cx="2660760" cy="2320560"/>
            <a:chOff x="3700440" y="495360"/>
            <a:chExt cx="2660760" cy="2320560"/>
          </a:xfrm>
        </p:grpSpPr>
        <p:sp>
          <p:nvSpPr>
            <p:cNvPr id="1036" name=""/>
            <p:cNvSpPr/>
            <p:nvPr/>
          </p:nvSpPr>
          <p:spPr>
            <a:xfrm>
              <a:off x="3873600" y="723960"/>
              <a:ext cx="0" cy="172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7640" y="2201760"/>
              <a:ext cx="0" cy="50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45040" y="495360"/>
              <a:ext cx="1714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group-GEBRB08 Motorized Infantry Battalion (Motor Rifle Divis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3700440" y="517680"/>
              <a:ext cx="347400" cy="342360"/>
              <a:chOff x="3700440" y="517680"/>
              <a:chExt cx="347400" cy="34236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3835440" y="517680"/>
                <a:ext cx="76320" cy="63360"/>
                <a:chOff x="3835440" y="517680"/>
                <a:chExt cx="76320" cy="6336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383544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91176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3700440" y="581040"/>
                <a:ext cx="347400" cy="235800"/>
                <a:chOff x="3700440" y="581040"/>
                <a:chExt cx="347400" cy="23580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3700440" y="581040"/>
                  <a:ext cx="347400" cy="23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V="1">
                  <a:off x="3702960" y="585360"/>
                  <a:ext cx="339840" cy="22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700440" y="585720"/>
                  <a:ext cx="345240" cy="223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3733920" y="833400"/>
                <a:ext cx="280440" cy="26640"/>
                <a:chOff x="3733920" y="833400"/>
                <a:chExt cx="280440" cy="266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3733920" y="8334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987720" y="8334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0" name=""/>
            <p:cNvSpPr/>
            <p:nvPr/>
          </p:nvSpPr>
          <p:spPr>
            <a:xfrm>
              <a:off x="3878280" y="116532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4129200" y="1047600"/>
              <a:ext cx="233280" cy="206280"/>
              <a:chOff x="4129200" y="1047600"/>
              <a:chExt cx="233280" cy="20628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4129200" y="1096920"/>
                <a:ext cx="233280" cy="156960"/>
                <a:chOff x="4129200" y="1096920"/>
                <a:chExt cx="233280" cy="15696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4130640" y="10969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129200" y="1101600"/>
                  <a:ext cx="21888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>
                <a:off x="4232520" y="1047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>
              <a:off x="4416480" y="985680"/>
              <a:ext cx="470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414680" y="1116000"/>
              <a:ext cx="14882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81400" y="12034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129200" y="1314360"/>
              <a:ext cx="231840" cy="228240"/>
              <a:chOff x="4129200" y="1314360"/>
              <a:chExt cx="231840" cy="22824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4129200" y="1352520"/>
                <a:ext cx="231840" cy="190080"/>
                <a:chOff x="4129200" y="1352520"/>
                <a:chExt cx="231840" cy="1900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4129200" y="1352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139640" y="151524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21440" y="15152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>
                <a:off x="4230720" y="1314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4416480" y="126216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16120" y="1397160"/>
              <a:ext cx="15170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übelwagen                  GE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413240" y="880920"/>
              <a:ext cx="1378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4103640" y="1639800"/>
              <a:ext cx="284040" cy="290520"/>
              <a:chOff x="4103640" y="1639800"/>
              <a:chExt cx="284040" cy="290520"/>
            </a:xfrm>
          </p:grpSpPr>
          <p:sp>
            <p:nvSpPr>
              <p:cNvPr id="1069" name=""/>
              <p:cNvSpPr/>
              <p:nvPr/>
            </p:nvSpPr>
            <p:spPr>
              <a:xfrm>
                <a:off x="4246200" y="1639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103640" y="1696680"/>
                <a:ext cx="284040" cy="19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4106520" y="1699560"/>
                <a:ext cx="27576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103640" y="1699920"/>
                <a:ext cx="28224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4128840" y="1903320"/>
                <a:ext cx="232560" cy="27000"/>
                <a:chOff x="4128840" y="1903320"/>
                <a:chExt cx="232560" cy="2700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4128840" y="1903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334760" y="1903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6" name=""/>
            <p:cNvSpPr/>
            <p:nvPr/>
          </p:nvSpPr>
          <p:spPr>
            <a:xfrm>
              <a:off x="4416480" y="1749600"/>
              <a:ext cx="19447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 Mot. Infantry Co.   ME-GEBRB0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873600" y="2459160"/>
              <a:ext cx="2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4127400" y="2340000"/>
              <a:ext cx="236520" cy="199800"/>
              <a:chOff x="4127400" y="2340000"/>
              <a:chExt cx="236520" cy="19980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4127400" y="2374920"/>
                <a:ext cx="236520" cy="164880"/>
                <a:chOff x="4127400" y="2374920"/>
                <a:chExt cx="236520" cy="1648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4127400" y="23796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127400" y="238572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4133880" y="237492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45040" y="240336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4201920" y="2340000"/>
                <a:ext cx="85680" cy="27000"/>
                <a:chOff x="4201920" y="2340000"/>
                <a:chExt cx="85680" cy="2700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201920" y="2340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259160" y="2340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7" name=""/>
            <p:cNvSpPr/>
            <p:nvPr/>
          </p:nvSpPr>
          <p:spPr>
            <a:xfrm>
              <a:off x="4416480" y="2408400"/>
              <a:ext cx="1535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vy Machine Gun    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67120" y="220968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4125960" y="2097000"/>
              <a:ext cx="239760" cy="206280"/>
              <a:chOff x="4125960" y="2097000"/>
              <a:chExt cx="239760" cy="20628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4125960" y="2145960"/>
                <a:ext cx="239760" cy="157320"/>
                <a:chOff x="4125960" y="2145960"/>
                <a:chExt cx="239760" cy="15732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4125960" y="214596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4210200" y="226188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241880" y="217764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4202280" y="2097000"/>
                <a:ext cx="85680" cy="27000"/>
                <a:chOff x="4202280" y="2097000"/>
                <a:chExt cx="85680" cy="270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4202280" y="2097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259520" y="2097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7" name=""/>
            <p:cNvSpPr/>
            <p:nvPr/>
          </p:nvSpPr>
          <p:spPr>
            <a:xfrm>
              <a:off x="4412160" y="2179800"/>
              <a:ext cx="15325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cm Mortar                    GE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16480" y="255096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4129200" y="2585880"/>
              <a:ext cx="231840" cy="230040"/>
              <a:chOff x="4129200" y="2585880"/>
              <a:chExt cx="231840" cy="23004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4129200" y="2625840"/>
                <a:ext cx="231840" cy="190080"/>
                <a:chOff x="4129200" y="2625840"/>
                <a:chExt cx="231840" cy="190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129200" y="26258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139640" y="278856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321440" y="278856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4202280" y="2585880"/>
                <a:ext cx="85680" cy="27000"/>
                <a:chOff x="4202280" y="2585880"/>
                <a:chExt cx="85680" cy="270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4202280" y="2585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259520" y="2585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7" name=""/>
            <p:cNvSpPr/>
            <p:nvPr/>
          </p:nvSpPr>
          <p:spPr>
            <a:xfrm>
              <a:off x="4412880" y="2685960"/>
              <a:ext cx="1521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            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12880" y="1574640"/>
              <a:ext cx="11710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13960" y="1962000"/>
              <a:ext cx="7765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73600" y="17924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416480" y="207324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639720" y="387504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800" y="355680"/>
            <a:ext cx="0" cy="269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14200" y="157320"/>
            <a:ext cx="347040" cy="329400"/>
            <a:chOff x="214200" y="157320"/>
            <a:chExt cx="347040" cy="329400"/>
          </a:xfrm>
        </p:grpSpPr>
        <p:grpSp>
          <p:nvGrpSpPr>
            <p:cNvPr id="1115" name=""/>
            <p:cNvGrpSpPr/>
            <p:nvPr/>
          </p:nvGrpSpPr>
          <p:grpSpPr>
            <a:xfrm>
              <a:off x="321840" y="157320"/>
              <a:ext cx="131760" cy="63360"/>
              <a:chOff x="321840" y="157320"/>
              <a:chExt cx="131760" cy="63360"/>
            </a:xfrm>
          </p:grpSpPr>
          <p:sp>
            <p:nvSpPr>
              <p:cNvPr id="1116" name=""/>
              <p:cNvSpPr/>
              <p:nvPr/>
            </p:nvSpPr>
            <p:spPr>
              <a:xfrm>
                <a:off x="387000" y="157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21840" y="157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53600" y="157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214200" y="212760"/>
              <a:ext cx="347040" cy="273960"/>
              <a:chOff x="214200" y="212760"/>
              <a:chExt cx="347040" cy="27396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214200" y="212760"/>
                <a:ext cx="347040" cy="235800"/>
                <a:chOff x="214200" y="212760"/>
                <a:chExt cx="347040" cy="23580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14200" y="212760"/>
                  <a:ext cx="347040" cy="23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216720" y="217080"/>
                  <a:ext cx="339480" cy="22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14200" y="217440"/>
                  <a:ext cx="344880" cy="223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63160" y="460080"/>
                <a:ext cx="250560" cy="26640"/>
                <a:chOff x="263160" y="460080"/>
                <a:chExt cx="250560" cy="266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63160" y="460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87080" y="4600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27" name=""/>
          <p:cNvSpPr/>
          <p:nvPr/>
        </p:nvSpPr>
        <p:spPr>
          <a:xfrm>
            <a:off x="630360" y="144360"/>
            <a:ext cx="171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group-GEBRB07 Motorized Infantry Regiment (Motorized Rifle Division)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Motorized Rifle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0880" y="93204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603360" y="814320"/>
            <a:ext cx="233280" cy="205920"/>
            <a:chOff x="603360" y="814320"/>
            <a:chExt cx="233280" cy="205920"/>
          </a:xfrm>
        </p:grpSpPr>
        <p:grpSp>
          <p:nvGrpSpPr>
            <p:cNvPr id="1130" name=""/>
            <p:cNvGrpSpPr/>
            <p:nvPr/>
          </p:nvGrpSpPr>
          <p:grpSpPr>
            <a:xfrm>
              <a:off x="603360" y="863280"/>
              <a:ext cx="233280" cy="156960"/>
              <a:chOff x="603360" y="863280"/>
              <a:chExt cx="233280" cy="156960"/>
            </a:xfrm>
          </p:grpSpPr>
          <p:sp>
            <p:nvSpPr>
              <p:cNvPr id="1131" name=""/>
              <p:cNvSpPr/>
              <p:nvPr/>
            </p:nvSpPr>
            <p:spPr>
              <a:xfrm>
                <a:off x="604800" y="8632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3360" y="867960"/>
                <a:ext cx="21888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06680" y="8143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998640" y="752400"/>
            <a:ext cx="470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97200" y="882720"/>
            <a:ext cx="14014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GE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1800" y="969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604800" y="1081080"/>
            <a:ext cx="231840" cy="228240"/>
            <a:chOff x="604800" y="1081080"/>
            <a:chExt cx="231840" cy="228240"/>
          </a:xfrm>
        </p:grpSpPr>
        <p:grpSp>
          <p:nvGrpSpPr>
            <p:cNvPr id="1138" name=""/>
            <p:cNvGrpSpPr/>
            <p:nvPr/>
          </p:nvGrpSpPr>
          <p:grpSpPr>
            <a:xfrm>
              <a:off x="604800" y="1119240"/>
              <a:ext cx="231840" cy="190080"/>
              <a:chOff x="604800" y="1119240"/>
              <a:chExt cx="231840" cy="19008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4800" y="111924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15240" y="128196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7040" y="12819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706320" y="1081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998640" y="102888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98640" y="1163520"/>
            <a:ext cx="14014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übelwagen              GE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95400" y="647640"/>
            <a:ext cx="13784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46120" y="1405080"/>
            <a:ext cx="347400" cy="342360"/>
            <a:chOff x="546120" y="1405080"/>
            <a:chExt cx="347400" cy="342360"/>
          </a:xfrm>
        </p:grpSpPr>
        <p:grpSp>
          <p:nvGrpSpPr>
            <p:cNvPr id="1147" name=""/>
            <p:cNvGrpSpPr/>
            <p:nvPr/>
          </p:nvGrpSpPr>
          <p:grpSpPr>
            <a:xfrm>
              <a:off x="681120" y="1405080"/>
              <a:ext cx="76320" cy="63360"/>
              <a:chOff x="681120" y="1405080"/>
              <a:chExt cx="76320" cy="63360"/>
            </a:xfrm>
          </p:grpSpPr>
          <p:sp>
            <p:nvSpPr>
              <p:cNvPr id="1148" name=""/>
              <p:cNvSpPr/>
              <p:nvPr/>
            </p:nvSpPr>
            <p:spPr>
              <a:xfrm>
                <a:off x="681120" y="1405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57440" y="1405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546120" y="1468440"/>
              <a:ext cx="347400" cy="235800"/>
              <a:chOff x="546120" y="1468440"/>
              <a:chExt cx="347400" cy="235800"/>
            </a:xfrm>
          </p:grpSpPr>
          <p:sp>
            <p:nvSpPr>
              <p:cNvPr id="1151" name=""/>
              <p:cNvSpPr/>
              <p:nvPr/>
            </p:nvSpPr>
            <p:spPr>
              <a:xfrm>
                <a:off x="546120" y="1468440"/>
                <a:ext cx="34740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548640" y="1472760"/>
                <a:ext cx="33984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46120" y="1473120"/>
                <a:ext cx="345240" cy="223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579600" y="1720800"/>
              <a:ext cx="280440" cy="26640"/>
              <a:chOff x="579600" y="1720800"/>
              <a:chExt cx="280440" cy="26640"/>
            </a:xfrm>
          </p:grpSpPr>
          <p:sp>
            <p:nvSpPr>
              <p:cNvPr id="1155" name=""/>
              <p:cNvSpPr/>
              <p:nvPr/>
            </p:nvSpPr>
            <p:spPr>
              <a:xfrm>
                <a:off x="579600" y="17208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33400" y="17208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7" name=""/>
          <p:cNvSpPr/>
          <p:nvPr/>
        </p:nvSpPr>
        <p:spPr>
          <a:xfrm>
            <a:off x="998640" y="1533600"/>
            <a:ext cx="2452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Motorized Infantry Battalion BG-GEBRB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98640" y="140328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98640" y="511956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541440" y="5110200"/>
            <a:ext cx="356760" cy="301320"/>
            <a:chOff x="541440" y="5110200"/>
            <a:chExt cx="356760" cy="301320"/>
          </a:xfrm>
        </p:grpSpPr>
        <p:grpSp>
          <p:nvGrpSpPr>
            <p:cNvPr id="1161" name=""/>
            <p:cNvGrpSpPr/>
            <p:nvPr/>
          </p:nvGrpSpPr>
          <p:grpSpPr>
            <a:xfrm>
              <a:off x="681120" y="5110200"/>
              <a:ext cx="75960" cy="63360"/>
              <a:chOff x="681120" y="5110200"/>
              <a:chExt cx="75960" cy="63360"/>
            </a:xfrm>
          </p:grpSpPr>
          <p:sp>
            <p:nvSpPr>
              <p:cNvPr id="1162" name=""/>
              <p:cNvSpPr/>
              <p:nvPr/>
            </p:nvSpPr>
            <p:spPr>
              <a:xfrm>
                <a:off x="681120" y="51102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57080" y="51102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41440" y="5173920"/>
              <a:ext cx="356760" cy="237600"/>
              <a:chOff x="541440" y="5173920"/>
              <a:chExt cx="356760" cy="237600"/>
            </a:xfrm>
          </p:grpSpPr>
          <p:sp>
            <p:nvSpPr>
              <p:cNvPr id="1165" name=""/>
              <p:cNvSpPr/>
              <p:nvPr/>
            </p:nvSpPr>
            <p:spPr>
              <a:xfrm>
                <a:off x="541440" y="517392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5160" y="526500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7" name=""/>
          <p:cNvSpPr/>
          <p:nvPr/>
        </p:nvSpPr>
        <p:spPr>
          <a:xfrm>
            <a:off x="998640" y="5249880"/>
            <a:ext cx="253836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Light Howitzer Battalion FS-GEBRB01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1 Motorized Infantry Divisio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41440" y="5462640"/>
            <a:ext cx="356760" cy="301320"/>
            <a:chOff x="541440" y="5462640"/>
            <a:chExt cx="356760" cy="301320"/>
          </a:xfrm>
        </p:grpSpPr>
        <p:grpSp>
          <p:nvGrpSpPr>
            <p:cNvPr id="1169" name=""/>
            <p:cNvGrpSpPr/>
            <p:nvPr/>
          </p:nvGrpSpPr>
          <p:grpSpPr>
            <a:xfrm>
              <a:off x="681120" y="5462640"/>
              <a:ext cx="75960" cy="63360"/>
              <a:chOff x="681120" y="5462640"/>
              <a:chExt cx="75960" cy="63360"/>
            </a:xfrm>
          </p:grpSpPr>
          <p:sp>
            <p:nvSpPr>
              <p:cNvPr id="1170" name=""/>
              <p:cNvSpPr/>
              <p:nvPr/>
            </p:nvSpPr>
            <p:spPr>
              <a:xfrm>
                <a:off x="681120" y="54626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7080" y="54626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41440" y="5526360"/>
              <a:ext cx="356760" cy="237600"/>
              <a:chOff x="541440" y="5526360"/>
              <a:chExt cx="356760" cy="237600"/>
            </a:xfrm>
          </p:grpSpPr>
          <p:sp>
            <p:nvSpPr>
              <p:cNvPr id="1173" name=""/>
              <p:cNvSpPr/>
              <p:nvPr/>
            </p:nvSpPr>
            <p:spPr>
              <a:xfrm>
                <a:off x="541440" y="552636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95160" y="561744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5" name=""/>
          <p:cNvSpPr/>
          <p:nvPr/>
        </p:nvSpPr>
        <p:spPr>
          <a:xfrm>
            <a:off x="973080" y="5611680"/>
            <a:ext cx="2482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Heavy Howitzer Battalion FS-GEBRB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541440" y="5797440"/>
            <a:ext cx="356760" cy="301320"/>
            <a:chOff x="541440" y="5797440"/>
            <a:chExt cx="356760" cy="301320"/>
          </a:xfrm>
        </p:grpSpPr>
        <p:grpSp>
          <p:nvGrpSpPr>
            <p:cNvPr id="1177" name=""/>
            <p:cNvGrpSpPr/>
            <p:nvPr/>
          </p:nvGrpSpPr>
          <p:grpSpPr>
            <a:xfrm>
              <a:off x="681120" y="5797440"/>
              <a:ext cx="75960" cy="63360"/>
              <a:chOff x="681120" y="5797440"/>
              <a:chExt cx="75960" cy="63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681120" y="57974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57080" y="579744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541440" y="5861160"/>
              <a:ext cx="356760" cy="237600"/>
              <a:chOff x="541440" y="5861160"/>
              <a:chExt cx="356760" cy="237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541440" y="5861160"/>
                <a:ext cx="356760" cy="237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95160" y="5952240"/>
                <a:ext cx="42120" cy="4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3" name=""/>
          <p:cNvSpPr/>
          <p:nvPr/>
        </p:nvSpPr>
        <p:spPr>
          <a:xfrm>
            <a:off x="998640" y="5946840"/>
            <a:ext cx="2368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0-1 Mixed Howitzer Battalion FS-GEBRB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98640" y="5765760"/>
            <a:ext cx="17762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0600" y="529128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2040" y="599436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76120" y="5467320"/>
            <a:ext cx="190440" cy="717480"/>
            <a:chOff x="276120" y="5467320"/>
            <a:chExt cx="190440" cy="717480"/>
          </a:xfrm>
        </p:grpSpPr>
        <p:sp>
          <p:nvSpPr>
            <p:cNvPr id="1188" name=""/>
            <p:cNvSpPr/>
            <p:nvPr/>
          </p:nvSpPr>
          <p:spPr>
            <a:xfrm>
              <a:off x="276120" y="61848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76120" y="5467320"/>
              <a:ext cx="190440" cy="717480"/>
              <a:chOff x="276120" y="5467320"/>
              <a:chExt cx="190440" cy="717480"/>
            </a:xfrm>
          </p:grpSpPr>
          <p:sp>
            <p:nvSpPr>
              <p:cNvPr id="1190" name=""/>
              <p:cNvSpPr/>
              <p:nvPr/>
            </p:nvSpPr>
            <p:spPr>
              <a:xfrm>
                <a:off x="276120" y="5467320"/>
                <a:ext cx="190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6120" y="5467320"/>
                <a:ext cx="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2" name=""/>
          <p:cNvSpPr/>
          <p:nvPr/>
        </p:nvSpPr>
        <p:spPr>
          <a:xfrm>
            <a:off x="392040" y="158580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1800" y="4476600"/>
            <a:ext cx="0" cy="43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600120" y="3822840"/>
            <a:ext cx="239760" cy="188280"/>
            <a:chOff x="600120" y="3822840"/>
            <a:chExt cx="239760" cy="188280"/>
          </a:xfrm>
        </p:grpSpPr>
        <p:grpSp>
          <p:nvGrpSpPr>
            <p:cNvPr id="1195" name=""/>
            <p:cNvGrpSpPr/>
            <p:nvPr/>
          </p:nvGrpSpPr>
          <p:grpSpPr>
            <a:xfrm>
              <a:off x="600120" y="3853080"/>
              <a:ext cx="239760" cy="158040"/>
              <a:chOff x="600120" y="3853080"/>
              <a:chExt cx="239760" cy="158040"/>
            </a:xfrm>
          </p:grpSpPr>
          <p:sp>
            <p:nvSpPr>
              <p:cNvPr id="1196" name=""/>
              <p:cNvSpPr/>
              <p:nvPr/>
            </p:nvSpPr>
            <p:spPr>
              <a:xfrm>
                <a:off x="600120" y="3854520"/>
                <a:ext cx="23976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58800" y="3929040"/>
                <a:ext cx="11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600120" y="3854160"/>
                <a:ext cx="115920" cy="155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6040" y="3853080"/>
                <a:ext cx="12384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676440" y="3822840"/>
              <a:ext cx="85680" cy="27000"/>
              <a:chOff x="676440" y="3822840"/>
              <a:chExt cx="85680" cy="27000"/>
            </a:xfrm>
          </p:grpSpPr>
          <p:sp>
            <p:nvSpPr>
              <p:cNvPr id="1201" name=""/>
              <p:cNvSpPr/>
              <p:nvPr/>
            </p:nvSpPr>
            <p:spPr>
              <a:xfrm>
                <a:off x="676440" y="3822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3680" y="3822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"/>
          <p:cNvGrpSpPr/>
          <p:nvPr/>
        </p:nvGrpSpPr>
        <p:grpSpPr>
          <a:xfrm>
            <a:off x="604800" y="4851360"/>
            <a:ext cx="231840" cy="223560"/>
            <a:chOff x="604800" y="4851360"/>
            <a:chExt cx="231840" cy="223560"/>
          </a:xfrm>
        </p:grpSpPr>
        <p:grpSp>
          <p:nvGrpSpPr>
            <p:cNvPr id="1204" name=""/>
            <p:cNvGrpSpPr/>
            <p:nvPr/>
          </p:nvGrpSpPr>
          <p:grpSpPr>
            <a:xfrm>
              <a:off x="604800" y="4884840"/>
              <a:ext cx="231840" cy="190080"/>
              <a:chOff x="604800" y="4884840"/>
              <a:chExt cx="231840" cy="190080"/>
            </a:xfrm>
          </p:grpSpPr>
          <p:sp>
            <p:nvSpPr>
              <p:cNvPr id="1205" name=""/>
              <p:cNvSpPr/>
              <p:nvPr/>
            </p:nvSpPr>
            <p:spPr>
              <a:xfrm>
                <a:off x="604800" y="488484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15240" y="504756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97040" y="50475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677880" y="4851360"/>
              <a:ext cx="85680" cy="27000"/>
              <a:chOff x="677880" y="4851360"/>
              <a:chExt cx="85680" cy="27000"/>
            </a:xfrm>
          </p:grpSpPr>
          <p:sp>
            <p:nvSpPr>
              <p:cNvPr id="1209" name=""/>
              <p:cNvSpPr/>
              <p:nvPr/>
            </p:nvSpPr>
            <p:spPr>
              <a:xfrm>
                <a:off x="677880" y="4851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5120" y="4851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998640" y="3897360"/>
            <a:ext cx="2122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20mm Flak Gun     GE-43                       (1 per 14th, 20th, 29th &amp; 60th divisions 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998640" y="4799160"/>
            <a:ext cx="4730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720" y="39178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998640" y="4919760"/>
            <a:ext cx="19098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ght Truck  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39720" y="194940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79440" y="196524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04800" y="1847880"/>
            <a:ext cx="231840" cy="190080"/>
            <a:chOff x="604800" y="1847880"/>
            <a:chExt cx="231840" cy="190080"/>
          </a:xfrm>
        </p:grpSpPr>
        <p:grpSp>
          <p:nvGrpSpPr>
            <p:cNvPr id="1218" name=""/>
            <p:cNvGrpSpPr/>
            <p:nvPr/>
          </p:nvGrpSpPr>
          <p:grpSpPr>
            <a:xfrm>
              <a:off x="604800" y="1881000"/>
              <a:ext cx="231840" cy="156960"/>
              <a:chOff x="604800" y="1881000"/>
              <a:chExt cx="231840" cy="15696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604800" y="1881000"/>
                <a:ext cx="231840" cy="156960"/>
                <a:chOff x="604800" y="1881000"/>
                <a:chExt cx="231840" cy="15696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604800" y="18810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606960" y="188316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04800" y="188316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706320" y="1949400"/>
                <a:ext cx="28440" cy="2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677880" y="1847880"/>
              <a:ext cx="85680" cy="26640"/>
              <a:chOff x="677880" y="1847880"/>
              <a:chExt cx="85680" cy="26640"/>
            </a:xfrm>
          </p:grpSpPr>
          <p:sp>
            <p:nvSpPr>
              <p:cNvPr id="1225" name=""/>
              <p:cNvSpPr/>
              <p:nvPr/>
            </p:nvSpPr>
            <p:spPr>
              <a:xfrm>
                <a:off x="677880" y="1847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35120" y="1847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>
            <a:off x="996840" y="1911240"/>
            <a:ext cx="1604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5mm Inf. Gun              GE-3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998640" y="206388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604800" y="2098800"/>
            <a:ext cx="231840" cy="229320"/>
            <a:chOff x="604800" y="2098800"/>
            <a:chExt cx="231840" cy="229320"/>
          </a:xfrm>
        </p:grpSpPr>
        <p:grpSp>
          <p:nvGrpSpPr>
            <p:cNvPr id="1230" name=""/>
            <p:cNvGrpSpPr/>
            <p:nvPr/>
          </p:nvGrpSpPr>
          <p:grpSpPr>
            <a:xfrm>
              <a:off x="604800" y="2138400"/>
              <a:ext cx="231840" cy="189720"/>
              <a:chOff x="604800" y="2138400"/>
              <a:chExt cx="231840" cy="189720"/>
            </a:xfrm>
          </p:grpSpPr>
          <p:sp>
            <p:nvSpPr>
              <p:cNvPr id="1231" name=""/>
              <p:cNvSpPr/>
              <p:nvPr/>
            </p:nvSpPr>
            <p:spPr>
              <a:xfrm>
                <a:off x="604800" y="2138400"/>
                <a:ext cx="23184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15240" y="230076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97040" y="23007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77880" y="2098800"/>
              <a:ext cx="85680" cy="26640"/>
              <a:chOff x="677880" y="2098800"/>
              <a:chExt cx="85680" cy="26640"/>
            </a:xfrm>
          </p:grpSpPr>
          <p:sp>
            <p:nvSpPr>
              <p:cNvPr id="1235" name=""/>
              <p:cNvSpPr/>
              <p:nvPr/>
            </p:nvSpPr>
            <p:spPr>
              <a:xfrm>
                <a:off x="677880" y="2098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35120" y="2098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95040" y="2198520"/>
            <a:ext cx="1521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Truck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79440" y="24670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8640" y="259236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604800" y="2346480"/>
            <a:ext cx="231840" cy="199800"/>
            <a:chOff x="604800" y="2346480"/>
            <a:chExt cx="231840" cy="199800"/>
          </a:xfrm>
        </p:grpSpPr>
        <p:grpSp>
          <p:nvGrpSpPr>
            <p:cNvPr id="1241" name=""/>
            <p:cNvGrpSpPr/>
            <p:nvPr/>
          </p:nvGrpSpPr>
          <p:grpSpPr>
            <a:xfrm>
              <a:off x="604800" y="2389320"/>
              <a:ext cx="231840" cy="156960"/>
              <a:chOff x="604800" y="2389320"/>
              <a:chExt cx="231840" cy="156960"/>
            </a:xfrm>
          </p:grpSpPr>
          <p:sp>
            <p:nvSpPr>
              <p:cNvPr id="1242" name=""/>
              <p:cNvSpPr/>
              <p:nvPr/>
            </p:nvSpPr>
            <p:spPr>
              <a:xfrm>
                <a:off x="604800" y="23893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V="1">
                <a:off x="722520" y="239220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04800" y="238932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677880" y="2346480"/>
              <a:ext cx="85680" cy="27000"/>
              <a:chOff x="677880" y="2346480"/>
              <a:chExt cx="85680" cy="2700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7880" y="2346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35120" y="2346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8" name=""/>
          <p:cNvSpPr/>
          <p:nvPr/>
        </p:nvSpPr>
        <p:spPr>
          <a:xfrm>
            <a:off x="996120" y="2428920"/>
            <a:ext cx="1535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7mm AT Gun               GE-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995040" y="2727360"/>
            <a:ext cx="1521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Truck                    GE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98640" y="1819440"/>
            <a:ext cx="947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98640" y="172260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9720" y="244800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9720" y="3025800"/>
            <a:ext cx="0" cy="23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8520" y="304164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604800" y="2913120"/>
            <a:ext cx="231840" cy="203040"/>
            <a:chOff x="604800" y="2913120"/>
            <a:chExt cx="231840" cy="203040"/>
          </a:xfrm>
        </p:grpSpPr>
        <p:grpSp>
          <p:nvGrpSpPr>
            <p:cNvPr id="1256" name=""/>
            <p:cNvGrpSpPr/>
            <p:nvPr/>
          </p:nvGrpSpPr>
          <p:grpSpPr>
            <a:xfrm>
              <a:off x="604800" y="2959200"/>
              <a:ext cx="231840" cy="156960"/>
              <a:chOff x="604800" y="2959200"/>
              <a:chExt cx="231840" cy="156960"/>
            </a:xfrm>
          </p:grpSpPr>
          <p:sp>
            <p:nvSpPr>
              <p:cNvPr id="1257" name=""/>
              <p:cNvSpPr/>
              <p:nvPr/>
            </p:nvSpPr>
            <p:spPr>
              <a:xfrm>
                <a:off x="604800" y="29592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606600" y="2962080"/>
                <a:ext cx="2268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04800" y="2962440"/>
                <a:ext cx="230400" cy="14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677880" y="2913120"/>
              <a:ext cx="85680" cy="27000"/>
              <a:chOff x="677880" y="2913120"/>
              <a:chExt cx="85680" cy="27000"/>
            </a:xfrm>
          </p:grpSpPr>
          <p:sp>
            <p:nvSpPr>
              <p:cNvPr id="1261" name=""/>
              <p:cNvSpPr/>
              <p:nvPr/>
            </p:nvSpPr>
            <p:spPr>
              <a:xfrm>
                <a:off x="677880" y="2913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5120" y="2913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3" name=""/>
          <p:cNvSpPr/>
          <p:nvPr/>
        </p:nvSpPr>
        <p:spPr>
          <a:xfrm>
            <a:off x="994320" y="2987640"/>
            <a:ext cx="15598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ry                           GE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998640" y="311472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93600" y="3249720"/>
            <a:ext cx="15688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orcycle                      GE-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604800" y="3149640"/>
            <a:ext cx="231480" cy="196560"/>
            <a:chOff x="604800" y="3149640"/>
            <a:chExt cx="231480" cy="196560"/>
          </a:xfrm>
        </p:grpSpPr>
        <p:grpSp>
          <p:nvGrpSpPr>
            <p:cNvPr id="1267" name=""/>
            <p:cNvGrpSpPr/>
            <p:nvPr/>
          </p:nvGrpSpPr>
          <p:grpSpPr>
            <a:xfrm>
              <a:off x="672840" y="3149640"/>
              <a:ext cx="85680" cy="27000"/>
              <a:chOff x="672840" y="3149640"/>
              <a:chExt cx="85680" cy="27000"/>
            </a:xfrm>
          </p:grpSpPr>
          <p:sp>
            <p:nvSpPr>
              <p:cNvPr id="1268" name=""/>
              <p:cNvSpPr/>
              <p:nvPr/>
            </p:nvSpPr>
            <p:spPr>
              <a:xfrm>
                <a:off x="672840" y="3149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0080" y="3149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04800" y="3189240"/>
              <a:ext cx="231480" cy="156960"/>
              <a:chOff x="604800" y="3189240"/>
              <a:chExt cx="231480" cy="156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04800" y="318924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604800" y="3190680"/>
                <a:ext cx="22680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1240" y="3301560"/>
                <a:ext cx="26640" cy="2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85520" y="3301560"/>
                <a:ext cx="26640" cy="2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5" name=""/>
          <p:cNvSpPr/>
          <p:nvPr/>
        </p:nvSpPr>
        <p:spPr>
          <a:xfrm>
            <a:off x="998640" y="3413160"/>
            <a:ext cx="14256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2040" y="564048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9760" y="6164280"/>
            <a:ext cx="23335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 Use Mixed Howitzer Battalion in3rd, 14th, 16th, 18th, 20th, and 60th Motorized Infantry Divi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800" y="2987640"/>
            <a:ext cx="0" cy="2995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9440" y="448164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604800" y="4361040"/>
            <a:ext cx="231840" cy="199800"/>
            <a:chOff x="604800" y="4361040"/>
            <a:chExt cx="231840" cy="199800"/>
          </a:xfrm>
        </p:grpSpPr>
        <p:grpSp>
          <p:nvGrpSpPr>
            <p:cNvPr id="1281" name=""/>
            <p:cNvGrpSpPr/>
            <p:nvPr/>
          </p:nvGrpSpPr>
          <p:grpSpPr>
            <a:xfrm>
              <a:off x="604800" y="4403880"/>
              <a:ext cx="231840" cy="156960"/>
              <a:chOff x="604800" y="4403880"/>
              <a:chExt cx="231840" cy="156960"/>
            </a:xfrm>
          </p:grpSpPr>
          <p:sp>
            <p:nvSpPr>
              <p:cNvPr id="1282" name=""/>
              <p:cNvSpPr/>
              <p:nvPr/>
            </p:nvSpPr>
            <p:spPr>
              <a:xfrm>
                <a:off x="604800" y="44038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722520" y="440676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04800" y="440388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77880" y="4361040"/>
              <a:ext cx="85680" cy="27000"/>
              <a:chOff x="677880" y="4361040"/>
              <a:chExt cx="85680" cy="27000"/>
            </a:xfrm>
          </p:grpSpPr>
          <p:sp>
            <p:nvSpPr>
              <p:cNvPr id="1286" name=""/>
              <p:cNvSpPr/>
              <p:nvPr/>
            </p:nvSpPr>
            <p:spPr>
              <a:xfrm>
                <a:off x="677880" y="4361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35120" y="4361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8" name=""/>
          <p:cNvSpPr/>
          <p:nvPr/>
        </p:nvSpPr>
        <p:spPr>
          <a:xfrm>
            <a:off x="998640" y="4443480"/>
            <a:ext cx="20732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7mm AT Gun               GE-98                (x9 in 3rd Motorized Infantry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84120" y="4729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604800" y="4608360"/>
            <a:ext cx="231840" cy="199800"/>
            <a:chOff x="604800" y="4608360"/>
            <a:chExt cx="231840" cy="199800"/>
          </a:xfrm>
        </p:grpSpPr>
        <p:grpSp>
          <p:nvGrpSpPr>
            <p:cNvPr id="1291" name=""/>
            <p:cNvGrpSpPr/>
            <p:nvPr/>
          </p:nvGrpSpPr>
          <p:grpSpPr>
            <a:xfrm>
              <a:off x="604800" y="4651200"/>
              <a:ext cx="231840" cy="156960"/>
              <a:chOff x="604800" y="4651200"/>
              <a:chExt cx="231840" cy="156960"/>
            </a:xfrm>
          </p:grpSpPr>
          <p:sp>
            <p:nvSpPr>
              <p:cNvPr id="1292" name=""/>
              <p:cNvSpPr/>
              <p:nvPr/>
            </p:nvSpPr>
            <p:spPr>
              <a:xfrm>
                <a:off x="604800" y="46512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722520" y="4654080"/>
                <a:ext cx="1141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04800" y="465120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677880" y="4608360"/>
              <a:ext cx="85680" cy="27000"/>
              <a:chOff x="677880" y="4608360"/>
              <a:chExt cx="85680" cy="27000"/>
            </a:xfrm>
          </p:grpSpPr>
          <p:sp>
            <p:nvSpPr>
              <p:cNvPr id="1296" name=""/>
              <p:cNvSpPr/>
              <p:nvPr/>
            </p:nvSpPr>
            <p:spPr>
              <a:xfrm>
                <a:off x="677880" y="4608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35120" y="4608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" name=""/>
          <p:cNvSpPr/>
          <p:nvPr/>
        </p:nvSpPr>
        <p:spPr>
          <a:xfrm>
            <a:off x="998640" y="4691160"/>
            <a:ext cx="20732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0mm AT Gun               GE-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8640" y="417024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996840" y="4265640"/>
            <a:ext cx="152640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Prime Mover         GE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600120" y="4097160"/>
            <a:ext cx="239760" cy="225360"/>
            <a:chOff x="600120" y="4097160"/>
            <a:chExt cx="239760" cy="225360"/>
          </a:xfrm>
        </p:grpSpPr>
        <p:grpSp>
          <p:nvGrpSpPr>
            <p:cNvPr id="1302" name=""/>
            <p:cNvGrpSpPr/>
            <p:nvPr/>
          </p:nvGrpSpPr>
          <p:grpSpPr>
            <a:xfrm>
              <a:off x="600120" y="4133520"/>
              <a:ext cx="239760" cy="189000"/>
              <a:chOff x="600120" y="4133520"/>
              <a:chExt cx="239760" cy="189000"/>
            </a:xfrm>
          </p:grpSpPr>
          <p:sp>
            <p:nvSpPr>
              <p:cNvPr id="1303" name=""/>
              <p:cNvSpPr/>
              <p:nvPr/>
            </p:nvSpPr>
            <p:spPr>
              <a:xfrm>
                <a:off x="600120" y="41335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14160" y="4295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26840" y="4294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03160" y="4294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7720" y="429408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676440" y="4097160"/>
              <a:ext cx="85680" cy="27000"/>
              <a:chOff x="676440" y="4097160"/>
              <a:chExt cx="85680" cy="27000"/>
            </a:xfrm>
          </p:grpSpPr>
          <p:sp>
            <p:nvSpPr>
              <p:cNvPr id="1309" name=""/>
              <p:cNvSpPr/>
              <p:nvPr/>
            </p:nvSpPr>
            <p:spPr>
              <a:xfrm>
                <a:off x="676440" y="4097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33680" y="4097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604800" y="2614680"/>
            <a:ext cx="231840" cy="229320"/>
            <a:chOff x="604800" y="2614680"/>
            <a:chExt cx="231840" cy="229320"/>
          </a:xfrm>
        </p:grpSpPr>
        <p:grpSp>
          <p:nvGrpSpPr>
            <p:cNvPr id="1312" name=""/>
            <p:cNvGrpSpPr/>
            <p:nvPr/>
          </p:nvGrpSpPr>
          <p:grpSpPr>
            <a:xfrm>
              <a:off x="604800" y="2654280"/>
              <a:ext cx="231840" cy="189720"/>
              <a:chOff x="604800" y="2654280"/>
              <a:chExt cx="231840" cy="189720"/>
            </a:xfrm>
          </p:grpSpPr>
          <p:sp>
            <p:nvSpPr>
              <p:cNvPr id="1313" name=""/>
              <p:cNvSpPr/>
              <p:nvPr/>
            </p:nvSpPr>
            <p:spPr>
              <a:xfrm>
                <a:off x="604800" y="2654280"/>
                <a:ext cx="23184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15240" y="281664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97040" y="281664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677880" y="2614680"/>
              <a:ext cx="85680" cy="26640"/>
              <a:chOff x="677880" y="2614680"/>
              <a:chExt cx="85680" cy="26640"/>
            </a:xfrm>
          </p:grpSpPr>
          <p:sp>
            <p:nvSpPr>
              <p:cNvPr id="1317" name=""/>
              <p:cNvSpPr/>
              <p:nvPr/>
            </p:nvSpPr>
            <p:spPr>
              <a:xfrm>
                <a:off x="677880" y="2614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35120" y="2614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"/>
          <p:cNvSpPr/>
          <p:nvPr/>
        </p:nvSpPr>
        <p:spPr>
          <a:xfrm>
            <a:off x="390600" y="36622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8640" y="3619440"/>
            <a:ext cx="1944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Mot. Pioniere Co.   ME-GEBRB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576360" y="3510000"/>
            <a:ext cx="288360" cy="290520"/>
            <a:chOff x="576360" y="3510000"/>
            <a:chExt cx="288360" cy="290520"/>
          </a:xfrm>
        </p:grpSpPr>
        <p:sp>
          <p:nvSpPr>
            <p:cNvPr id="1322" name=""/>
            <p:cNvSpPr/>
            <p:nvPr/>
          </p:nvSpPr>
          <p:spPr>
            <a:xfrm>
              <a:off x="727200" y="351000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579600" y="3570120"/>
              <a:ext cx="27612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6360" y="3570480"/>
              <a:ext cx="282600" cy="18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601560" y="3773520"/>
              <a:ext cx="233280" cy="27000"/>
              <a:chOff x="601560" y="3773520"/>
              <a:chExt cx="233280" cy="27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601560" y="377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07840" y="377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581040" y="3567240"/>
              <a:ext cx="283680" cy="193320"/>
              <a:chOff x="581040" y="3567240"/>
              <a:chExt cx="283680" cy="193320"/>
            </a:xfrm>
          </p:grpSpPr>
          <p:sp>
            <p:nvSpPr>
              <p:cNvPr id="1329" name=""/>
              <p:cNvSpPr/>
              <p:nvPr/>
            </p:nvSpPr>
            <p:spPr>
              <a:xfrm>
                <a:off x="581040" y="3567240"/>
                <a:ext cx="283680" cy="19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666360" y="3635640"/>
                <a:ext cx="112320" cy="56160"/>
                <a:chOff x="666360" y="3635640"/>
                <a:chExt cx="112320" cy="5616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666360" y="3635640"/>
                  <a:ext cx="0" cy="5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20000" y="3635640"/>
                  <a:ext cx="0" cy="5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78680" y="3635640"/>
                  <a:ext cx="0" cy="5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666360" y="3635640"/>
                  <a:ext cx="112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5" name=""/>
          <p:cNvGrpSpPr/>
          <p:nvPr/>
        </p:nvGrpSpPr>
        <p:grpSpPr>
          <a:xfrm>
            <a:off x="3716280" y="3094200"/>
            <a:ext cx="3004920" cy="2901240"/>
            <a:chOff x="3716280" y="3094200"/>
            <a:chExt cx="3004920" cy="2901240"/>
          </a:xfrm>
        </p:grpSpPr>
        <p:sp>
          <p:nvSpPr>
            <p:cNvPr id="1336" name=""/>
            <p:cNvSpPr/>
            <p:nvPr/>
          </p:nvSpPr>
          <p:spPr>
            <a:xfrm>
              <a:off x="3898800" y="3184920"/>
              <a:ext cx="0" cy="246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95560" y="3969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3716280" y="3094200"/>
              <a:ext cx="364320" cy="291600"/>
              <a:chOff x="3716280" y="3094200"/>
              <a:chExt cx="364320" cy="29160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3716280" y="3146400"/>
                <a:ext cx="364320" cy="239400"/>
                <a:chOff x="3716280" y="3146400"/>
                <a:chExt cx="364320" cy="239400"/>
              </a:xfrm>
            </p:grpSpPr>
            <p:grpSp>
              <p:nvGrpSpPr>
                <p:cNvPr id="1340" name=""/>
                <p:cNvGrpSpPr/>
                <p:nvPr/>
              </p:nvGrpSpPr>
              <p:grpSpPr>
                <a:xfrm>
                  <a:off x="3716280" y="3146760"/>
                  <a:ext cx="364320" cy="239040"/>
                  <a:chOff x="3716280" y="3146760"/>
                  <a:chExt cx="364320" cy="239040"/>
                </a:xfrm>
              </p:grpSpPr>
              <p:sp>
                <p:nvSpPr>
                  <p:cNvPr id="1341" name=""/>
                  <p:cNvSpPr/>
                  <p:nvPr/>
                </p:nvSpPr>
                <p:spPr>
                  <a:xfrm>
                    <a:off x="3716280" y="3146760"/>
                    <a:ext cx="364320" cy="23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3783240" y="3206520"/>
                    <a:ext cx="23040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3" name=""/>
                <p:cNvSpPr/>
                <p:nvPr/>
              </p:nvSpPr>
              <p:spPr>
                <a:xfrm flipV="1">
                  <a:off x="3716280" y="3146400"/>
                  <a:ext cx="359280" cy="23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3860640" y="3094200"/>
                <a:ext cx="76320" cy="63360"/>
                <a:chOff x="3860640" y="3094200"/>
                <a:chExt cx="76320" cy="633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3860640" y="3094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936960" y="3094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7" name=""/>
            <p:cNvSpPr/>
            <p:nvPr/>
          </p:nvSpPr>
          <p:spPr>
            <a:xfrm>
              <a:off x="4475160" y="3903840"/>
              <a:ext cx="19443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Arm. Car Co.       ME-GEBRB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4101840" y="3807000"/>
              <a:ext cx="284040" cy="291600"/>
              <a:chOff x="4101840" y="3807000"/>
              <a:chExt cx="284040" cy="291600"/>
            </a:xfrm>
          </p:grpSpPr>
          <p:sp>
            <p:nvSpPr>
              <p:cNvPr id="1349" name=""/>
              <p:cNvSpPr/>
              <p:nvPr/>
            </p:nvSpPr>
            <p:spPr>
              <a:xfrm>
                <a:off x="4247640" y="3807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0" name=""/>
              <p:cNvGrpSpPr/>
              <p:nvPr/>
            </p:nvGrpSpPr>
            <p:grpSpPr>
              <a:xfrm>
                <a:off x="4101840" y="3865320"/>
                <a:ext cx="284040" cy="233280"/>
                <a:chOff x="4101840" y="3865320"/>
                <a:chExt cx="284040" cy="23328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4101840" y="3865680"/>
                  <a:ext cx="284040" cy="19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114800" y="4065120"/>
                  <a:ext cx="3312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338000" y="4065120"/>
                  <a:ext cx="3312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142520" y="3916440"/>
                  <a:ext cx="198000" cy="91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V="1">
                  <a:off x="4104720" y="3865320"/>
                  <a:ext cx="279720" cy="18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6" name=""/>
            <p:cNvSpPr/>
            <p:nvPr/>
          </p:nvSpPr>
          <p:spPr>
            <a:xfrm>
              <a:off x="3897000" y="3642120"/>
              <a:ext cx="34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75160" y="3486600"/>
              <a:ext cx="7930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/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475520" y="3616560"/>
              <a:ext cx="14119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263 [8 Rad]     GE-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130640" y="3518280"/>
              <a:ext cx="231480" cy="231480"/>
              <a:chOff x="4130640" y="3518280"/>
              <a:chExt cx="231480" cy="23148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4130640" y="3559680"/>
                <a:ext cx="231480" cy="190080"/>
                <a:chOff x="4130640" y="3559680"/>
                <a:chExt cx="231480" cy="19008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130640" y="35596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141080" y="37224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322880" y="37224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163760" y="360108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4132800" y="355968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233600" y="3518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4475160" y="4197600"/>
              <a:ext cx="19443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 Motorcycle Co.   ME-GEBRB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97000" y="4256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4097160" y="4108680"/>
              <a:ext cx="283680" cy="255240"/>
              <a:chOff x="4097160" y="4108680"/>
              <a:chExt cx="283680" cy="255240"/>
            </a:xfrm>
          </p:grpSpPr>
          <p:sp>
            <p:nvSpPr>
              <p:cNvPr id="1370" name=""/>
              <p:cNvSpPr/>
              <p:nvPr/>
            </p:nvSpPr>
            <p:spPr>
              <a:xfrm>
                <a:off x="4240080" y="41086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1" name=""/>
              <p:cNvGrpSpPr/>
              <p:nvPr/>
            </p:nvGrpSpPr>
            <p:grpSpPr>
              <a:xfrm>
                <a:off x="4097160" y="4170600"/>
                <a:ext cx="283680" cy="193320"/>
                <a:chOff x="4097160" y="4170600"/>
                <a:chExt cx="283680" cy="19332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4097160" y="417060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4097160" y="4172760"/>
                  <a:ext cx="277920" cy="18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264560" y="4309200"/>
                  <a:ext cx="3276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318920" y="4309200"/>
                  <a:ext cx="3276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6" name=""/>
            <p:cNvSpPr/>
            <p:nvPr/>
          </p:nvSpPr>
          <p:spPr>
            <a:xfrm>
              <a:off x="4471560" y="3773880"/>
              <a:ext cx="11710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176360" y="3151440"/>
              <a:ext cx="254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group-GEBRB09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Reconnaissance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472640" y="4408920"/>
              <a:ext cx="7765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97240" y="508500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174920" y="563436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84400" y="51008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4143240" y="4983480"/>
              <a:ext cx="231840" cy="190080"/>
              <a:chOff x="4143240" y="4983480"/>
              <a:chExt cx="231840" cy="190080"/>
            </a:xfrm>
          </p:grpSpPr>
          <p:grpSp>
            <p:nvGrpSpPr>
              <p:cNvPr id="1383" name=""/>
              <p:cNvGrpSpPr/>
              <p:nvPr/>
            </p:nvGrpSpPr>
            <p:grpSpPr>
              <a:xfrm>
                <a:off x="4143240" y="5016600"/>
                <a:ext cx="231840" cy="156960"/>
                <a:chOff x="4143240" y="5016600"/>
                <a:chExt cx="231840" cy="15696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4143240" y="5016600"/>
                  <a:ext cx="231840" cy="156960"/>
                  <a:chOff x="4143240" y="5016600"/>
                  <a:chExt cx="231840" cy="15696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4143240" y="50166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V="1">
                    <a:off x="4145400" y="501876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4143240" y="501876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8" name=""/>
                <p:cNvSpPr/>
                <p:nvPr/>
              </p:nvSpPr>
              <p:spPr>
                <a:xfrm>
                  <a:off x="4244760" y="5085000"/>
                  <a:ext cx="28440" cy="2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216320" y="4983480"/>
                <a:ext cx="85680" cy="26640"/>
                <a:chOff x="4216320" y="4983480"/>
                <a:chExt cx="85680" cy="2664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216320" y="4983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73560" y="4983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2" name=""/>
            <p:cNvSpPr/>
            <p:nvPr/>
          </p:nvSpPr>
          <p:spPr>
            <a:xfrm>
              <a:off x="3890880" y="4589640"/>
              <a:ext cx="25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4120920" y="4453200"/>
              <a:ext cx="231840" cy="200160"/>
              <a:chOff x="4120920" y="4453200"/>
              <a:chExt cx="231840" cy="20016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4120920" y="4496040"/>
                <a:ext cx="231840" cy="157320"/>
                <a:chOff x="4120920" y="4496040"/>
                <a:chExt cx="231840" cy="15732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4120920" y="449604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6" name=""/>
                <p:cNvGrpSpPr/>
                <p:nvPr/>
              </p:nvGrpSpPr>
              <p:grpSpPr>
                <a:xfrm>
                  <a:off x="4190760" y="4551840"/>
                  <a:ext cx="91800" cy="45720"/>
                  <a:chOff x="4190760" y="4551840"/>
                  <a:chExt cx="91800" cy="4572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4190760" y="4551840"/>
                    <a:ext cx="0" cy="45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234680" y="4551840"/>
                    <a:ext cx="0" cy="45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282560" y="4551840"/>
                    <a:ext cx="0" cy="45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190760" y="4551840"/>
                    <a:ext cx="918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1" name=""/>
              <p:cNvGrpSpPr/>
              <p:nvPr/>
            </p:nvGrpSpPr>
            <p:grpSpPr>
              <a:xfrm>
                <a:off x="4188960" y="4453200"/>
                <a:ext cx="85680" cy="27000"/>
                <a:chOff x="4188960" y="4453200"/>
                <a:chExt cx="85680" cy="2700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4188960" y="4453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246200" y="4453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4" name=""/>
            <p:cNvSpPr/>
            <p:nvPr/>
          </p:nvSpPr>
          <p:spPr>
            <a:xfrm>
              <a:off x="4471920" y="4535640"/>
              <a:ext cx="1505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oniere         GE-47  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73360" y="5046840"/>
              <a:ext cx="1604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5mm Inf. Gun              GE-38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75160" y="51994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4143240" y="5234400"/>
              <a:ext cx="231840" cy="229320"/>
              <a:chOff x="4143240" y="5234400"/>
              <a:chExt cx="231840" cy="229320"/>
            </a:xfrm>
          </p:grpSpPr>
          <p:grpSp>
            <p:nvGrpSpPr>
              <p:cNvPr id="1408" name=""/>
              <p:cNvGrpSpPr/>
              <p:nvPr/>
            </p:nvGrpSpPr>
            <p:grpSpPr>
              <a:xfrm>
                <a:off x="4143240" y="5274000"/>
                <a:ext cx="231840" cy="189720"/>
                <a:chOff x="4143240" y="5274000"/>
                <a:chExt cx="231840" cy="1897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143240" y="5274000"/>
                  <a:ext cx="23184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153680" y="543636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35480" y="543636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4216320" y="5234400"/>
                <a:ext cx="85680" cy="26640"/>
                <a:chOff x="4216320" y="5234400"/>
                <a:chExt cx="85680" cy="2664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4216320" y="5234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4273560" y="5234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5" name=""/>
            <p:cNvSpPr/>
            <p:nvPr/>
          </p:nvSpPr>
          <p:spPr>
            <a:xfrm>
              <a:off x="3892320" y="5642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475160" y="576756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7" name=""/>
            <p:cNvGrpSpPr/>
            <p:nvPr/>
          </p:nvGrpSpPr>
          <p:grpSpPr>
            <a:xfrm>
              <a:off x="4143240" y="5521680"/>
              <a:ext cx="231840" cy="199800"/>
              <a:chOff x="4143240" y="5521680"/>
              <a:chExt cx="231840" cy="199800"/>
            </a:xfrm>
          </p:grpSpPr>
          <p:grpSp>
            <p:nvGrpSpPr>
              <p:cNvPr id="1418" name=""/>
              <p:cNvGrpSpPr/>
              <p:nvPr/>
            </p:nvGrpSpPr>
            <p:grpSpPr>
              <a:xfrm>
                <a:off x="4143240" y="5564520"/>
                <a:ext cx="231840" cy="156960"/>
                <a:chOff x="4143240" y="5564520"/>
                <a:chExt cx="231840" cy="15696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4143240" y="5564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V="1">
                  <a:off x="4260960" y="5567400"/>
                  <a:ext cx="11412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143240" y="556452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4216320" y="5521680"/>
                <a:ext cx="85680" cy="27000"/>
                <a:chOff x="4216320" y="5521680"/>
                <a:chExt cx="85680" cy="2700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4216320" y="5521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4273560" y="5521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5" name=""/>
            <p:cNvSpPr/>
            <p:nvPr/>
          </p:nvSpPr>
          <p:spPr>
            <a:xfrm>
              <a:off x="4475160" y="493416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72640" y="5596200"/>
              <a:ext cx="15354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7mm AT Gun               GE-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471560" y="5874120"/>
              <a:ext cx="1521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            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71560" y="5324760"/>
              <a:ext cx="1521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            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144680" y="5766120"/>
              <a:ext cx="231840" cy="229320"/>
              <a:chOff x="4144680" y="5766120"/>
              <a:chExt cx="231840" cy="229320"/>
            </a:xfrm>
          </p:grpSpPr>
          <p:grpSp>
            <p:nvGrpSpPr>
              <p:cNvPr id="1430" name=""/>
              <p:cNvGrpSpPr/>
              <p:nvPr/>
            </p:nvGrpSpPr>
            <p:grpSpPr>
              <a:xfrm>
                <a:off x="4144680" y="5805720"/>
                <a:ext cx="231840" cy="189720"/>
                <a:chOff x="4144680" y="5805720"/>
                <a:chExt cx="231840" cy="18972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4144680" y="5805720"/>
                  <a:ext cx="23184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155120" y="596808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336920" y="59680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217760" y="5766120"/>
                <a:ext cx="85680" cy="26640"/>
                <a:chOff x="4217760" y="5766120"/>
                <a:chExt cx="85680" cy="266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217760" y="5766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75000" y="5766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7" name=""/>
            <p:cNvSpPr/>
            <p:nvPr/>
          </p:nvSpPr>
          <p:spPr>
            <a:xfrm>
              <a:off x="4167000" y="456768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75160" y="47008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70480" y="4807080"/>
              <a:ext cx="1663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Truck                    GE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4136760" y="4699440"/>
              <a:ext cx="231840" cy="229320"/>
              <a:chOff x="4136760" y="4699440"/>
              <a:chExt cx="231840" cy="22932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4136760" y="4739040"/>
                <a:ext cx="231840" cy="189720"/>
                <a:chOff x="4136760" y="4739040"/>
                <a:chExt cx="231840" cy="18972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4136760" y="4739040"/>
                  <a:ext cx="23184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4147200" y="49014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329000" y="49014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4209840" y="4699440"/>
                <a:ext cx="85680" cy="26640"/>
                <a:chOff x="4209840" y="4699440"/>
                <a:chExt cx="85680" cy="2664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4209840" y="4699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4267080" y="4699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"/>
          <p:cNvGrpSpPr/>
          <p:nvPr/>
        </p:nvGrpSpPr>
        <p:grpSpPr>
          <a:xfrm>
            <a:off x="125280" y="404640"/>
            <a:ext cx="2497320" cy="1818000"/>
            <a:chOff x="125280" y="404640"/>
            <a:chExt cx="2497320" cy="1818000"/>
          </a:xfrm>
        </p:grpSpPr>
        <p:grpSp>
          <p:nvGrpSpPr>
            <p:cNvPr id="1449" name=""/>
            <p:cNvGrpSpPr/>
            <p:nvPr/>
          </p:nvGrpSpPr>
          <p:grpSpPr>
            <a:xfrm>
              <a:off x="125280" y="404640"/>
              <a:ext cx="2289240" cy="1058760"/>
              <a:chOff x="125280" y="404640"/>
              <a:chExt cx="2289240" cy="1058760"/>
            </a:xfrm>
          </p:grpSpPr>
          <p:sp>
            <p:nvSpPr>
              <p:cNvPr id="1450" name=""/>
              <p:cNvSpPr/>
              <p:nvPr/>
            </p:nvSpPr>
            <p:spPr>
              <a:xfrm>
                <a:off x="268200" y="550800"/>
                <a:ext cx="0" cy="83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125280" y="404640"/>
                <a:ext cx="283680" cy="256680"/>
                <a:chOff x="125280" y="404640"/>
                <a:chExt cx="283680" cy="2566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268200" y="404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3" name=""/>
                <p:cNvGrpSpPr/>
                <p:nvPr/>
              </p:nvGrpSpPr>
              <p:grpSpPr>
                <a:xfrm>
                  <a:off x="125280" y="468000"/>
                  <a:ext cx="283680" cy="193320"/>
                  <a:chOff x="125280" y="468000"/>
                  <a:chExt cx="283680" cy="19332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125280" y="468000"/>
                    <a:ext cx="28368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165960" y="505080"/>
                    <a:ext cx="201600" cy="11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56" name=""/>
              <p:cNvSpPr/>
              <p:nvPr/>
            </p:nvSpPr>
            <p:spPr>
              <a:xfrm>
                <a:off x="503280" y="457200"/>
                <a:ext cx="1731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 GEBRB01  Light Panzer Company (a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268200" y="682560"/>
                <a:ext cx="2146320" cy="237960"/>
                <a:chOff x="268200" y="682560"/>
                <a:chExt cx="2146320" cy="237960"/>
              </a:xfrm>
            </p:grpSpPr>
            <p:sp>
              <p:nvSpPr>
                <p:cNvPr id="1458" name=""/>
                <p:cNvSpPr/>
                <p:nvPr/>
              </p:nvSpPr>
              <p:spPr>
                <a:xfrm flipH="1">
                  <a:off x="268200" y="84780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9" name=""/>
                <p:cNvGrpSpPr/>
                <p:nvPr/>
              </p:nvGrpSpPr>
              <p:grpSpPr>
                <a:xfrm>
                  <a:off x="466560" y="706320"/>
                  <a:ext cx="231480" cy="214200"/>
                  <a:chOff x="466560" y="706320"/>
                  <a:chExt cx="231480" cy="21420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569520" y="706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1" name=""/>
                  <p:cNvGrpSpPr/>
                  <p:nvPr/>
                </p:nvGrpSpPr>
                <p:grpSpPr>
                  <a:xfrm>
                    <a:off x="466560" y="763560"/>
                    <a:ext cx="231480" cy="156960"/>
                    <a:chOff x="466560" y="763560"/>
                    <a:chExt cx="231480" cy="156960"/>
                  </a:xfrm>
                </p:grpSpPr>
                <p:sp>
                  <p:nvSpPr>
                    <p:cNvPr id="1462" name=""/>
                    <p:cNvSpPr/>
                    <p:nvPr/>
                  </p:nvSpPr>
                  <p:spPr>
                    <a:xfrm>
                      <a:off x="466560" y="76356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>
                      <a:off x="499680" y="793440"/>
                      <a:ext cx="165240" cy="95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240" bIns="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64" name=""/>
                <p:cNvSpPr/>
                <p:nvPr/>
              </p:nvSpPr>
              <p:spPr>
                <a:xfrm>
                  <a:off x="731520" y="682560"/>
                  <a:ext cx="64944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31520" y="811080"/>
                  <a:ext cx="168300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zKpfW III           GE-74,75,7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268200" y="1006200"/>
                <a:ext cx="2146320" cy="196560"/>
                <a:chOff x="268200" y="1006200"/>
                <a:chExt cx="2146320" cy="196560"/>
              </a:xfrm>
            </p:grpSpPr>
            <p:sp>
              <p:nvSpPr>
                <p:cNvPr id="1467" name=""/>
                <p:cNvSpPr/>
                <p:nvPr/>
              </p:nvSpPr>
              <p:spPr>
                <a:xfrm flipH="1">
                  <a:off x="268200" y="113004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8" name=""/>
                <p:cNvGrpSpPr/>
                <p:nvPr/>
              </p:nvGrpSpPr>
              <p:grpSpPr>
                <a:xfrm>
                  <a:off x="466560" y="1006200"/>
                  <a:ext cx="231840" cy="196560"/>
                  <a:chOff x="466560" y="1006200"/>
                  <a:chExt cx="231840" cy="196560"/>
                </a:xfrm>
              </p:grpSpPr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466560" y="1045800"/>
                    <a:ext cx="231840" cy="156960"/>
                    <a:chOff x="466560" y="1045800"/>
                    <a:chExt cx="231840" cy="156960"/>
                  </a:xfrm>
                </p:grpSpPr>
                <p:sp>
                  <p:nvSpPr>
                    <p:cNvPr id="1470" name=""/>
                    <p:cNvSpPr/>
                    <p:nvPr/>
                  </p:nvSpPr>
                  <p:spPr>
                    <a:xfrm>
                      <a:off x="466560" y="104580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500040" y="1075680"/>
                      <a:ext cx="164880" cy="94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2" name=""/>
                  <p:cNvGrpSpPr/>
                  <p:nvPr/>
                </p:nvGrpSpPr>
                <p:grpSpPr>
                  <a:xfrm>
                    <a:off x="537840" y="1006200"/>
                    <a:ext cx="85680" cy="27000"/>
                    <a:chOff x="537840" y="1006200"/>
                    <a:chExt cx="85680" cy="27000"/>
                  </a:xfrm>
                </p:grpSpPr>
                <p:sp>
                  <p:nvSpPr>
                    <p:cNvPr id="1473" name=""/>
                    <p:cNvSpPr/>
                    <p:nvPr/>
                  </p:nvSpPr>
                  <p:spPr>
                    <a:xfrm>
                      <a:off x="537840" y="10062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4" name=""/>
                    <p:cNvSpPr/>
                    <p:nvPr/>
                  </p:nvSpPr>
                  <p:spPr>
                    <a:xfrm>
                      <a:off x="595080" y="10062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5" name=""/>
                <p:cNvSpPr/>
                <p:nvPr/>
              </p:nvSpPr>
              <p:spPr>
                <a:xfrm>
                  <a:off x="731520" y="1085400"/>
                  <a:ext cx="168300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zKpfW II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GE-7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68200" y="1266840"/>
                <a:ext cx="2146320" cy="196560"/>
                <a:chOff x="268200" y="1266840"/>
                <a:chExt cx="2146320" cy="19656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68200" y="1380600"/>
                  <a:ext cx="266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8" name=""/>
                <p:cNvGrpSpPr/>
                <p:nvPr/>
              </p:nvGrpSpPr>
              <p:grpSpPr>
                <a:xfrm>
                  <a:off x="465120" y="1266840"/>
                  <a:ext cx="231480" cy="196560"/>
                  <a:chOff x="465120" y="1266840"/>
                  <a:chExt cx="231480" cy="196560"/>
                </a:xfrm>
              </p:grpSpPr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465120" y="1306440"/>
                    <a:ext cx="231480" cy="156960"/>
                    <a:chOff x="465120" y="1306440"/>
                    <a:chExt cx="231480" cy="15696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65120" y="130644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>
                      <a:off x="498240" y="1336320"/>
                      <a:ext cx="164520" cy="94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536040" y="1266840"/>
                    <a:ext cx="84960" cy="27000"/>
                    <a:chOff x="536040" y="1266840"/>
                    <a:chExt cx="84960" cy="2700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36040" y="126684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92920" y="126684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85" name=""/>
                <p:cNvSpPr/>
                <p:nvPr/>
              </p:nvSpPr>
              <p:spPr>
                <a:xfrm>
                  <a:off x="731520" y="1345680"/>
                  <a:ext cx="168300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zKpfW III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GE-74,75,7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6" name=""/>
            <p:cNvSpPr/>
            <p:nvPr/>
          </p:nvSpPr>
          <p:spPr>
            <a:xfrm>
              <a:off x="137880" y="1609560"/>
              <a:ext cx="2484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The official establishment. See the accompanying list for actual strengths and types in each Panzer unit in June 194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) Light plato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) Organized as 3 plato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133200" y="2325600"/>
            <a:ext cx="2497320" cy="1818000"/>
            <a:chOff x="133200" y="2325600"/>
            <a:chExt cx="2497320" cy="1818000"/>
          </a:xfrm>
        </p:grpSpPr>
        <p:grpSp>
          <p:nvGrpSpPr>
            <p:cNvPr id="1488" name=""/>
            <p:cNvGrpSpPr/>
            <p:nvPr/>
          </p:nvGrpSpPr>
          <p:grpSpPr>
            <a:xfrm>
              <a:off x="133200" y="2325600"/>
              <a:ext cx="2289240" cy="1058760"/>
              <a:chOff x="133200" y="2325600"/>
              <a:chExt cx="2289240" cy="1058760"/>
            </a:xfrm>
          </p:grpSpPr>
          <p:sp>
            <p:nvSpPr>
              <p:cNvPr id="1489" name=""/>
              <p:cNvSpPr/>
              <p:nvPr/>
            </p:nvSpPr>
            <p:spPr>
              <a:xfrm>
                <a:off x="276120" y="2471760"/>
                <a:ext cx="0" cy="83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0" name=""/>
              <p:cNvGrpSpPr/>
              <p:nvPr/>
            </p:nvGrpSpPr>
            <p:grpSpPr>
              <a:xfrm>
                <a:off x="133200" y="2325600"/>
                <a:ext cx="283680" cy="256680"/>
                <a:chOff x="133200" y="2325600"/>
                <a:chExt cx="283680" cy="2566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276120" y="2325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2" name=""/>
                <p:cNvGrpSpPr/>
                <p:nvPr/>
              </p:nvGrpSpPr>
              <p:grpSpPr>
                <a:xfrm>
                  <a:off x="133200" y="2388960"/>
                  <a:ext cx="283680" cy="193320"/>
                  <a:chOff x="133200" y="2388960"/>
                  <a:chExt cx="283680" cy="19332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>
                    <a:off x="133200" y="2388960"/>
                    <a:ext cx="28368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173880" y="2426040"/>
                    <a:ext cx="201600" cy="11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5" name=""/>
              <p:cNvSpPr/>
              <p:nvPr/>
            </p:nvSpPr>
            <p:spPr>
              <a:xfrm>
                <a:off x="511200" y="2378160"/>
                <a:ext cx="1731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 GEBRB02 Medium Panzer Company (a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6" name=""/>
              <p:cNvGrpSpPr/>
              <p:nvPr/>
            </p:nvGrpSpPr>
            <p:grpSpPr>
              <a:xfrm>
                <a:off x="276120" y="2603520"/>
                <a:ext cx="2146320" cy="237960"/>
                <a:chOff x="276120" y="2603520"/>
                <a:chExt cx="2146320" cy="237960"/>
              </a:xfrm>
            </p:grpSpPr>
            <p:sp>
              <p:nvSpPr>
                <p:cNvPr id="1497" name=""/>
                <p:cNvSpPr/>
                <p:nvPr/>
              </p:nvSpPr>
              <p:spPr>
                <a:xfrm flipH="1">
                  <a:off x="276120" y="276876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8" name=""/>
                <p:cNvGrpSpPr/>
                <p:nvPr/>
              </p:nvGrpSpPr>
              <p:grpSpPr>
                <a:xfrm>
                  <a:off x="474480" y="2627280"/>
                  <a:ext cx="231480" cy="214200"/>
                  <a:chOff x="474480" y="2627280"/>
                  <a:chExt cx="231480" cy="214200"/>
                </a:xfrm>
              </p:grpSpPr>
              <p:sp>
                <p:nvSpPr>
                  <p:cNvPr id="1499" name=""/>
                  <p:cNvSpPr/>
                  <p:nvPr/>
                </p:nvSpPr>
                <p:spPr>
                  <a:xfrm>
                    <a:off x="577440" y="2627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474480" y="2684520"/>
                    <a:ext cx="231480" cy="156960"/>
                    <a:chOff x="474480" y="2684520"/>
                    <a:chExt cx="231480" cy="15696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474480" y="268452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07600" y="2714400"/>
                      <a:ext cx="165240" cy="95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240" bIns="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03" name=""/>
                <p:cNvSpPr/>
                <p:nvPr/>
              </p:nvSpPr>
              <p:spPr>
                <a:xfrm>
                  <a:off x="739440" y="2603520"/>
                  <a:ext cx="64944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440" y="2732040"/>
                  <a:ext cx="168300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zKpfW IV           GE-78 or 7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276120" y="2927160"/>
                <a:ext cx="2146320" cy="196560"/>
                <a:chOff x="276120" y="2927160"/>
                <a:chExt cx="2146320" cy="196560"/>
              </a:xfrm>
            </p:grpSpPr>
            <p:sp>
              <p:nvSpPr>
                <p:cNvPr id="1506" name=""/>
                <p:cNvSpPr/>
                <p:nvPr/>
              </p:nvSpPr>
              <p:spPr>
                <a:xfrm flipH="1">
                  <a:off x="276120" y="305100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7" name=""/>
                <p:cNvGrpSpPr/>
                <p:nvPr/>
              </p:nvGrpSpPr>
              <p:grpSpPr>
                <a:xfrm>
                  <a:off x="474480" y="2927160"/>
                  <a:ext cx="231840" cy="196560"/>
                  <a:chOff x="474480" y="2927160"/>
                  <a:chExt cx="231840" cy="196560"/>
                </a:xfrm>
              </p:grpSpPr>
              <p:grpSp>
                <p:nvGrpSpPr>
                  <p:cNvPr id="1508" name=""/>
                  <p:cNvGrpSpPr/>
                  <p:nvPr/>
                </p:nvGrpSpPr>
                <p:grpSpPr>
                  <a:xfrm>
                    <a:off x="474480" y="2966760"/>
                    <a:ext cx="231840" cy="156960"/>
                    <a:chOff x="474480" y="2966760"/>
                    <a:chExt cx="231840" cy="156960"/>
                  </a:xfrm>
                </p:grpSpPr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474480" y="296676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07960" y="2996640"/>
                      <a:ext cx="164880" cy="94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545760" y="2927160"/>
                    <a:ext cx="85680" cy="27000"/>
                    <a:chOff x="545760" y="2927160"/>
                    <a:chExt cx="85680" cy="2700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545760" y="29271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603000" y="29271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4" name=""/>
                <p:cNvSpPr/>
                <p:nvPr/>
              </p:nvSpPr>
              <p:spPr>
                <a:xfrm>
                  <a:off x="739440" y="3006360"/>
                  <a:ext cx="168300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zKpfW II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GE-7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276120" y="3187800"/>
                <a:ext cx="2146320" cy="196560"/>
                <a:chOff x="276120" y="3187800"/>
                <a:chExt cx="2146320" cy="19656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276120" y="3301560"/>
                  <a:ext cx="266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473040" y="3187800"/>
                  <a:ext cx="231480" cy="196560"/>
                  <a:chOff x="473040" y="3187800"/>
                  <a:chExt cx="231480" cy="196560"/>
                </a:xfrm>
              </p:grpSpPr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473040" y="3227400"/>
                    <a:ext cx="231480" cy="156960"/>
                    <a:chOff x="473040" y="3227400"/>
                    <a:chExt cx="231480" cy="15696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473040" y="322740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6160" y="3257280"/>
                      <a:ext cx="164520" cy="94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3960" y="3187800"/>
                    <a:ext cx="84960" cy="27000"/>
                    <a:chOff x="543960" y="3187800"/>
                    <a:chExt cx="84960" cy="2700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3960" y="318780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600840" y="318780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24" name=""/>
                <p:cNvSpPr/>
                <p:nvPr/>
              </p:nvSpPr>
              <p:spPr>
                <a:xfrm>
                  <a:off x="739440" y="3266640"/>
                  <a:ext cx="1683000" cy="9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zKpfW IV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GE-78 or 7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5" name=""/>
            <p:cNvSpPr/>
            <p:nvPr/>
          </p:nvSpPr>
          <p:spPr>
            <a:xfrm>
              <a:off x="145800" y="3530520"/>
              <a:ext cx="2484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The official establishment. See the accompanying list for actual strengths and types in each Panzer unit in June 194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) The light plato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) Organized as 3 plato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2006280" y="-360"/>
            <a:ext cx="383364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41 Panzer Division Maneuve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2738520" y="4576680"/>
            <a:ext cx="2324160" cy="1402560"/>
            <a:chOff x="2738520" y="4576680"/>
            <a:chExt cx="2324160" cy="1402560"/>
          </a:xfrm>
        </p:grpSpPr>
        <p:sp>
          <p:nvSpPr>
            <p:cNvPr id="1528" name=""/>
            <p:cNvSpPr/>
            <p:nvPr/>
          </p:nvSpPr>
          <p:spPr>
            <a:xfrm>
              <a:off x="2881440" y="5625720"/>
              <a:ext cx="25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133800" y="5497200"/>
              <a:ext cx="85680" cy="26640"/>
              <a:chOff x="3133800" y="5497200"/>
              <a:chExt cx="85680" cy="26640"/>
            </a:xfrm>
          </p:grpSpPr>
          <p:sp>
            <p:nvSpPr>
              <p:cNvPr id="1530" name=""/>
              <p:cNvSpPr/>
              <p:nvPr/>
            </p:nvSpPr>
            <p:spPr>
              <a:xfrm>
                <a:off x="3133800" y="54972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91040" y="54972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2" name=""/>
            <p:cNvSpPr/>
            <p:nvPr/>
          </p:nvSpPr>
          <p:spPr>
            <a:xfrm>
              <a:off x="3117960" y="4633560"/>
              <a:ext cx="1944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euver Element GEBRB06   Motorized Pioniere Compan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2881440" y="4897080"/>
              <a:ext cx="1890360" cy="267120"/>
              <a:chOff x="2881440" y="4897080"/>
              <a:chExt cx="1890360" cy="267120"/>
            </a:xfrm>
          </p:grpSpPr>
          <p:sp>
            <p:nvSpPr>
              <p:cNvPr id="1534" name=""/>
              <p:cNvSpPr/>
              <p:nvPr/>
            </p:nvSpPr>
            <p:spPr>
              <a:xfrm>
                <a:off x="2881440" y="507600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3060360" y="4958640"/>
                <a:ext cx="233280" cy="205560"/>
                <a:chOff x="3060360" y="4958640"/>
                <a:chExt cx="233280" cy="205560"/>
              </a:xfrm>
            </p:grpSpPr>
            <p:grpSp>
              <p:nvGrpSpPr>
                <p:cNvPr id="1536" name=""/>
                <p:cNvGrpSpPr/>
                <p:nvPr/>
              </p:nvGrpSpPr>
              <p:grpSpPr>
                <a:xfrm>
                  <a:off x="3060360" y="5007600"/>
                  <a:ext cx="233280" cy="156600"/>
                  <a:chOff x="3060360" y="5007600"/>
                  <a:chExt cx="233280" cy="156600"/>
                </a:xfrm>
              </p:grpSpPr>
              <p:sp>
                <p:nvSpPr>
                  <p:cNvPr id="1537" name=""/>
                  <p:cNvSpPr/>
                  <p:nvPr/>
                </p:nvSpPr>
                <p:spPr>
                  <a:xfrm>
                    <a:off x="3061800" y="5007600"/>
                    <a:ext cx="23184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060360" y="5011920"/>
                    <a:ext cx="218880" cy="145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9" name=""/>
                <p:cNvSpPr/>
                <p:nvPr/>
              </p:nvSpPr>
              <p:spPr>
                <a:xfrm>
                  <a:off x="3163680" y="4958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0" name=""/>
              <p:cNvSpPr/>
              <p:nvPr/>
            </p:nvSpPr>
            <p:spPr>
              <a:xfrm>
                <a:off x="3371400" y="4897080"/>
                <a:ext cx="470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370320" y="502704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3060720" y="5114520"/>
              <a:ext cx="1712880" cy="339120"/>
              <a:chOff x="3060720" y="5114520"/>
              <a:chExt cx="1712880" cy="339120"/>
            </a:xfrm>
          </p:grpSpPr>
          <p:sp>
            <p:nvSpPr>
              <p:cNvPr id="1543" name=""/>
              <p:cNvSpPr/>
              <p:nvPr/>
            </p:nvSpPr>
            <p:spPr>
              <a:xfrm>
                <a:off x="3100680" y="51145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4" name=""/>
              <p:cNvGrpSpPr/>
              <p:nvPr/>
            </p:nvGrpSpPr>
            <p:grpSpPr>
              <a:xfrm>
                <a:off x="3060720" y="5225400"/>
                <a:ext cx="231840" cy="228240"/>
                <a:chOff x="3060720" y="5225400"/>
                <a:chExt cx="231840" cy="228240"/>
              </a:xfrm>
            </p:grpSpPr>
            <p:grpSp>
              <p:nvGrpSpPr>
                <p:cNvPr id="1545" name=""/>
                <p:cNvGrpSpPr/>
                <p:nvPr/>
              </p:nvGrpSpPr>
              <p:grpSpPr>
                <a:xfrm>
                  <a:off x="3060720" y="5263560"/>
                  <a:ext cx="231840" cy="190080"/>
                  <a:chOff x="3060720" y="5263560"/>
                  <a:chExt cx="231840" cy="19008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3060720" y="52635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3071160" y="54262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3252960" y="54262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3162240" y="52254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0" name=""/>
              <p:cNvSpPr/>
              <p:nvPr/>
            </p:nvSpPr>
            <p:spPr>
              <a:xfrm>
                <a:off x="3372120" y="517320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72120" y="530820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übelwagen              GE-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3371760" y="5571720"/>
              <a:ext cx="13860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oniere (3 flame)     GE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887560" y="4787640"/>
              <a:ext cx="0" cy="83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3063960" y="5540040"/>
              <a:ext cx="231840" cy="156960"/>
              <a:chOff x="3063960" y="5540040"/>
              <a:chExt cx="231840" cy="156960"/>
            </a:xfrm>
          </p:grpSpPr>
          <p:sp>
            <p:nvSpPr>
              <p:cNvPr id="1555" name=""/>
              <p:cNvSpPr/>
              <p:nvPr/>
            </p:nvSpPr>
            <p:spPr>
              <a:xfrm>
                <a:off x="3063960" y="554004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6" name=""/>
              <p:cNvGrpSpPr/>
              <p:nvPr/>
            </p:nvGrpSpPr>
            <p:grpSpPr>
              <a:xfrm>
                <a:off x="3133800" y="5595480"/>
                <a:ext cx="91800" cy="45360"/>
                <a:chOff x="3133800" y="5595480"/>
                <a:chExt cx="91800" cy="4536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3133800" y="559548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177720" y="559548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3225600" y="559548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3133800" y="5595480"/>
                  <a:ext cx="91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1" name=""/>
            <p:cNvGrpSpPr/>
            <p:nvPr/>
          </p:nvGrpSpPr>
          <p:grpSpPr>
            <a:xfrm>
              <a:off x="2738520" y="4576680"/>
              <a:ext cx="288360" cy="289800"/>
              <a:chOff x="2738520" y="4576680"/>
              <a:chExt cx="288360" cy="289800"/>
            </a:xfrm>
          </p:grpSpPr>
          <p:sp>
            <p:nvSpPr>
              <p:cNvPr id="1562" name=""/>
              <p:cNvSpPr/>
              <p:nvPr/>
            </p:nvSpPr>
            <p:spPr>
              <a:xfrm>
                <a:off x="2889360" y="457668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2741760" y="4636800"/>
                <a:ext cx="27612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738520" y="4636800"/>
                <a:ext cx="282600" cy="183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5" name=""/>
              <p:cNvGrpSpPr/>
              <p:nvPr/>
            </p:nvGrpSpPr>
            <p:grpSpPr>
              <a:xfrm>
                <a:off x="2763720" y="4839840"/>
                <a:ext cx="233280" cy="26640"/>
                <a:chOff x="2763720" y="4839840"/>
                <a:chExt cx="233280" cy="2664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2763720" y="4839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970000" y="4839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8" name=""/>
              <p:cNvGrpSpPr/>
              <p:nvPr/>
            </p:nvGrpSpPr>
            <p:grpSpPr>
              <a:xfrm>
                <a:off x="2743200" y="4633560"/>
                <a:ext cx="283680" cy="192960"/>
                <a:chOff x="2743200" y="4633560"/>
                <a:chExt cx="283680" cy="192960"/>
              </a:xfrm>
            </p:grpSpPr>
            <p:sp>
              <p:nvSpPr>
                <p:cNvPr id="1569" name=""/>
                <p:cNvSpPr/>
                <p:nvPr/>
              </p:nvSpPr>
              <p:spPr>
                <a:xfrm>
                  <a:off x="2743200" y="4633560"/>
                  <a:ext cx="283680" cy="192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0" name=""/>
                <p:cNvGrpSpPr/>
                <p:nvPr/>
              </p:nvGrpSpPr>
              <p:grpSpPr>
                <a:xfrm>
                  <a:off x="2828520" y="4701960"/>
                  <a:ext cx="112320" cy="56160"/>
                  <a:chOff x="2828520" y="4701960"/>
                  <a:chExt cx="112320" cy="561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2828520" y="4701960"/>
                    <a:ext cx="0" cy="56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2882160" y="4701960"/>
                    <a:ext cx="0" cy="56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2940840" y="4701960"/>
                    <a:ext cx="0" cy="56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2828520" y="4701960"/>
                    <a:ext cx="1123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5" name=""/>
            <p:cNvGrpSpPr/>
            <p:nvPr/>
          </p:nvGrpSpPr>
          <p:grpSpPr>
            <a:xfrm>
              <a:off x="3054240" y="5640120"/>
              <a:ext cx="1682640" cy="339120"/>
              <a:chOff x="3054240" y="5640120"/>
              <a:chExt cx="1682640" cy="339120"/>
            </a:xfrm>
          </p:grpSpPr>
          <p:sp>
            <p:nvSpPr>
              <p:cNvPr id="1576" name=""/>
              <p:cNvSpPr/>
              <p:nvPr/>
            </p:nvSpPr>
            <p:spPr>
              <a:xfrm>
                <a:off x="3094200" y="56401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7" name=""/>
              <p:cNvGrpSpPr/>
              <p:nvPr/>
            </p:nvGrpSpPr>
            <p:grpSpPr>
              <a:xfrm>
                <a:off x="3054240" y="5751000"/>
                <a:ext cx="231840" cy="228240"/>
                <a:chOff x="3054240" y="5751000"/>
                <a:chExt cx="231840" cy="228240"/>
              </a:xfrm>
            </p:grpSpPr>
            <p:grpSp>
              <p:nvGrpSpPr>
                <p:cNvPr id="1578" name=""/>
                <p:cNvGrpSpPr/>
                <p:nvPr/>
              </p:nvGrpSpPr>
              <p:grpSpPr>
                <a:xfrm>
                  <a:off x="3054240" y="5789160"/>
                  <a:ext cx="231840" cy="190080"/>
                  <a:chOff x="3054240" y="5789160"/>
                  <a:chExt cx="231840" cy="19008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>
                    <a:off x="3054240" y="57891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3064680" y="59518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3246480" y="59518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2" name=""/>
                <p:cNvSpPr/>
                <p:nvPr/>
              </p:nvSpPr>
              <p:spPr>
                <a:xfrm>
                  <a:off x="3155760" y="5751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3" name=""/>
              <p:cNvSpPr/>
              <p:nvPr/>
            </p:nvSpPr>
            <p:spPr>
              <a:xfrm>
                <a:off x="3365640" y="569880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362760" y="5833800"/>
                <a:ext cx="13741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GE-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4978440" y="368280"/>
            <a:ext cx="2317680" cy="1890360"/>
            <a:chOff x="4978440" y="368280"/>
            <a:chExt cx="2317680" cy="1890360"/>
          </a:xfrm>
        </p:grpSpPr>
        <p:grpSp>
          <p:nvGrpSpPr>
            <p:cNvPr id="1586" name=""/>
            <p:cNvGrpSpPr/>
            <p:nvPr/>
          </p:nvGrpSpPr>
          <p:grpSpPr>
            <a:xfrm>
              <a:off x="5298840" y="1332000"/>
              <a:ext cx="231840" cy="156960"/>
              <a:chOff x="5298840" y="1332000"/>
              <a:chExt cx="231840" cy="15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298840" y="133200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8" name=""/>
              <p:cNvGrpSpPr/>
              <p:nvPr/>
            </p:nvGrpSpPr>
            <p:grpSpPr>
              <a:xfrm>
                <a:off x="5368680" y="1387440"/>
                <a:ext cx="91800" cy="45360"/>
                <a:chOff x="5368680" y="1387440"/>
                <a:chExt cx="91800" cy="4536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5368680" y="138744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5412600" y="138744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5460480" y="138744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5368680" y="1387440"/>
                  <a:ext cx="91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3" name=""/>
            <p:cNvSpPr/>
            <p:nvPr/>
          </p:nvSpPr>
          <p:spPr>
            <a:xfrm>
              <a:off x="5343480" y="140184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114880" y="141768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5367240" y="1289160"/>
              <a:ext cx="85680" cy="27000"/>
              <a:chOff x="5367240" y="1289160"/>
              <a:chExt cx="85680" cy="27000"/>
            </a:xfrm>
          </p:grpSpPr>
          <p:sp>
            <p:nvSpPr>
              <p:cNvPr id="1596" name=""/>
              <p:cNvSpPr/>
              <p:nvPr/>
            </p:nvSpPr>
            <p:spPr>
              <a:xfrm>
                <a:off x="5367240" y="1289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424480" y="1289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5124240" y="368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51400" y="425520"/>
              <a:ext cx="1944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euver Element GEBRB07  Armored Pioniere Compan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5114880" y="689040"/>
              <a:ext cx="1890360" cy="267480"/>
              <a:chOff x="5114880" y="689040"/>
              <a:chExt cx="1890360" cy="267480"/>
            </a:xfrm>
          </p:grpSpPr>
          <p:sp>
            <p:nvSpPr>
              <p:cNvPr id="1601" name=""/>
              <p:cNvSpPr/>
              <p:nvPr/>
            </p:nvSpPr>
            <p:spPr>
              <a:xfrm>
                <a:off x="5114880" y="86832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2" name=""/>
              <p:cNvGrpSpPr/>
              <p:nvPr/>
            </p:nvGrpSpPr>
            <p:grpSpPr>
              <a:xfrm>
                <a:off x="5293800" y="750600"/>
                <a:ext cx="233280" cy="205920"/>
                <a:chOff x="5293800" y="750600"/>
                <a:chExt cx="233280" cy="205920"/>
              </a:xfrm>
            </p:grpSpPr>
            <p:grpSp>
              <p:nvGrpSpPr>
                <p:cNvPr id="1603" name=""/>
                <p:cNvGrpSpPr/>
                <p:nvPr/>
              </p:nvGrpSpPr>
              <p:grpSpPr>
                <a:xfrm>
                  <a:off x="5293800" y="799560"/>
                  <a:ext cx="233280" cy="156960"/>
                  <a:chOff x="5293800" y="799560"/>
                  <a:chExt cx="233280" cy="156960"/>
                </a:xfrm>
              </p:grpSpPr>
              <p:sp>
                <p:nvSpPr>
                  <p:cNvPr id="1604" name=""/>
                  <p:cNvSpPr/>
                  <p:nvPr/>
                </p:nvSpPr>
                <p:spPr>
                  <a:xfrm>
                    <a:off x="5295240" y="7995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5293800" y="804240"/>
                    <a:ext cx="21888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6" name=""/>
                <p:cNvSpPr/>
                <p:nvPr/>
              </p:nvSpPr>
              <p:spPr>
                <a:xfrm>
                  <a:off x="5397120" y="750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>
                <a:off x="5604840" y="689040"/>
                <a:ext cx="470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603760" y="81900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5333760" y="9064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605200" y="96516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603760" y="1100160"/>
              <a:ext cx="1384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1/10                      GE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603040" y="1363680"/>
              <a:ext cx="13892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oniere                    GE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605200" y="14968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603040" y="1631880"/>
              <a:ext cx="13860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1/1                        GE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21360" y="587520"/>
              <a:ext cx="0" cy="13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5295960" y="1531800"/>
              <a:ext cx="241200" cy="226800"/>
              <a:chOff x="5295960" y="1531800"/>
              <a:chExt cx="241200" cy="226800"/>
            </a:xfrm>
          </p:grpSpPr>
          <p:grpSp>
            <p:nvGrpSpPr>
              <p:cNvPr id="1617" name=""/>
              <p:cNvGrpSpPr/>
              <p:nvPr/>
            </p:nvGrpSpPr>
            <p:grpSpPr>
              <a:xfrm>
                <a:off x="5373720" y="1531800"/>
                <a:ext cx="85680" cy="27000"/>
                <a:chOff x="5373720" y="1531800"/>
                <a:chExt cx="85680" cy="2700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5373720" y="1531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430960" y="1531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5295960" y="1569240"/>
                <a:ext cx="241200" cy="189360"/>
                <a:chOff x="5295960" y="1569240"/>
                <a:chExt cx="241200" cy="18936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5297040" y="1569600"/>
                  <a:ext cx="240120" cy="158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5332680" y="1608840"/>
                  <a:ext cx="169920" cy="75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5297040" y="1569240"/>
                  <a:ext cx="237960" cy="156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295960" y="1569600"/>
                  <a:ext cx="241200" cy="154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311080" y="173124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424840" y="173016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501160" y="173016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445000" y="1730160"/>
                  <a:ext cx="61920" cy="27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9" name=""/>
            <p:cNvSpPr/>
            <p:nvPr/>
          </p:nvSpPr>
          <p:spPr>
            <a:xfrm>
              <a:off x="4979880" y="430200"/>
              <a:ext cx="290520" cy="19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4979880" y="429840"/>
              <a:ext cx="28728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978440" y="430200"/>
              <a:ext cx="291960" cy="18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022720" y="477720"/>
              <a:ext cx="20484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5303880" y="990720"/>
              <a:ext cx="239400" cy="232560"/>
              <a:chOff x="5303880" y="990720"/>
              <a:chExt cx="239400" cy="23256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5303880" y="1035000"/>
                <a:ext cx="239400" cy="188280"/>
                <a:chOff x="5303880" y="1035000"/>
                <a:chExt cx="239400" cy="18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5303880" y="1035000"/>
                  <a:ext cx="23940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338800" y="1074240"/>
                  <a:ext cx="1695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317920" y="1196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430600" y="11952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06920" y="11952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451480" y="1195200"/>
                  <a:ext cx="61920" cy="26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V="1">
                  <a:off x="5313240" y="1045440"/>
                  <a:ext cx="104760" cy="13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5418000" y="1047240"/>
                  <a:ext cx="109440" cy="1252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5410080" y="9907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5314680" y="1832040"/>
              <a:ext cx="231840" cy="156960"/>
              <a:chOff x="5314680" y="1832040"/>
              <a:chExt cx="231840" cy="156960"/>
            </a:xfrm>
          </p:grpSpPr>
          <p:sp>
            <p:nvSpPr>
              <p:cNvPr id="1645" name=""/>
              <p:cNvSpPr/>
              <p:nvPr/>
            </p:nvSpPr>
            <p:spPr>
              <a:xfrm>
                <a:off x="5314680" y="183204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5384520" y="1887480"/>
                <a:ext cx="91800" cy="45360"/>
                <a:chOff x="5384520" y="1887480"/>
                <a:chExt cx="91800" cy="4536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5384520" y="188748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428440" y="188748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476320" y="1887480"/>
                  <a:ext cx="0" cy="4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384520" y="1887480"/>
                  <a:ext cx="91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1" name=""/>
            <p:cNvSpPr/>
            <p:nvPr/>
          </p:nvSpPr>
          <p:spPr>
            <a:xfrm>
              <a:off x="5359320" y="190188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30720" y="191772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5383080" y="1789200"/>
              <a:ext cx="85680" cy="27000"/>
              <a:chOff x="5383080" y="1789200"/>
              <a:chExt cx="85680" cy="27000"/>
            </a:xfrm>
          </p:grpSpPr>
          <p:sp>
            <p:nvSpPr>
              <p:cNvPr id="1654" name=""/>
              <p:cNvSpPr/>
              <p:nvPr/>
            </p:nvSpPr>
            <p:spPr>
              <a:xfrm>
                <a:off x="5383080" y="1789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440320" y="1789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6" name=""/>
            <p:cNvSpPr/>
            <p:nvPr/>
          </p:nvSpPr>
          <p:spPr>
            <a:xfrm>
              <a:off x="5620680" y="1863720"/>
              <a:ext cx="13633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oniere (Flame)      GE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1400" y="199692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18880" y="2131920"/>
              <a:ext cx="13860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1/7                        GE-8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5311800" y="2031840"/>
              <a:ext cx="241200" cy="226800"/>
              <a:chOff x="5311800" y="2031840"/>
              <a:chExt cx="241200" cy="22680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5389560" y="2031840"/>
                <a:ext cx="85680" cy="27000"/>
                <a:chOff x="5389560" y="2031840"/>
                <a:chExt cx="85680" cy="2700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5389560" y="2031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446800" y="2031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3" name=""/>
              <p:cNvGrpSpPr/>
              <p:nvPr/>
            </p:nvGrpSpPr>
            <p:grpSpPr>
              <a:xfrm>
                <a:off x="5311800" y="2069280"/>
                <a:ext cx="241200" cy="189360"/>
                <a:chOff x="5311800" y="2069280"/>
                <a:chExt cx="241200" cy="1893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5312880" y="2069640"/>
                  <a:ext cx="240120" cy="158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348520" y="2108880"/>
                  <a:ext cx="169920" cy="75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5312880" y="2069280"/>
                  <a:ext cx="237960" cy="156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311800" y="2069640"/>
                  <a:ext cx="241200" cy="154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5326920" y="223128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440680" y="22302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517000" y="22302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460840" y="2230200"/>
                  <a:ext cx="61920" cy="27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2" name=""/>
            <p:cNvGrpSpPr/>
            <p:nvPr/>
          </p:nvGrpSpPr>
          <p:grpSpPr>
            <a:xfrm>
              <a:off x="5099040" y="507960"/>
              <a:ext cx="55440" cy="27000"/>
              <a:chOff x="5099040" y="507960"/>
              <a:chExt cx="55440" cy="27000"/>
            </a:xfrm>
          </p:grpSpPr>
          <p:sp>
            <p:nvSpPr>
              <p:cNvPr id="1673" name=""/>
              <p:cNvSpPr/>
              <p:nvPr/>
            </p:nvSpPr>
            <p:spPr>
              <a:xfrm>
                <a:off x="5099040" y="5079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127480" y="5079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154480" y="5079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099040" y="507960"/>
                <a:ext cx="5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7" name=""/>
          <p:cNvSpPr/>
          <p:nvPr/>
        </p:nvSpPr>
        <p:spPr>
          <a:xfrm>
            <a:off x="5518080" y="3570120"/>
            <a:ext cx="0" cy="23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289480" y="358632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5468760" y="3457440"/>
            <a:ext cx="231840" cy="203040"/>
            <a:chOff x="5468760" y="3457440"/>
            <a:chExt cx="231840" cy="203040"/>
          </a:xfrm>
        </p:grpSpPr>
        <p:grpSp>
          <p:nvGrpSpPr>
            <p:cNvPr id="1680" name=""/>
            <p:cNvGrpSpPr/>
            <p:nvPr/>
          </p:nvGrpSpPr>
          <p:grpSpPr>
            <a:xfrm>
              <a:off x="5468760" y="3503520"/>
              <a:ext cx="231840" cy="156960"/>
              <a:chOff x="5468760" y="3503520"/>
              <a:chExt cx="231840" cy="156960"/>
            </a:xfrm>
          </p:grpSpPr>
          <p:sp>
            <p:nvSpPr>
              <p:cNvPr id="1681" name=""/>
              <p:cNvSpPr/>
              <p:nvPr/>
            </p:nvSpPr>
            <p:spPr>
              <a:xfrm>
                <a:off x="5468760" y="35035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470560" y="3506400"/>
                <a:ext cx="2268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468760" y="3506760"/>
                <a:ext cx="230400" cy="14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5541840" y="3457440"/>
              <a:ext cx="85680" cy="27000"/>
              <a:chOff x="5541840" y="3457440"/>
              <a:chExt cx="85680" cy="27000"/>
            </a:xfrm>
          </p:grpSpPr>
          <p:sp>
            <p:nvSpPr>
              <p:cNvPr id="1685" name=""/>
              <p:cNvSpPr/>
              <p:nvPr/>
            </p:nvSpPr>
            <p:spPr>
              <a:xfrm>
                <a:off x="5541840" y="3457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99080" y="3457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7" name=""/>
          <p:cNvSpPr/>
          <p:nvPr/>
        </p:nvSpPr>
        <p:spPr>
          <a:xfrm>
            <a:off x="5526000" y="2895480"/>
            <a:ext cx="1944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euver Element GEBRB08  Armored Car Compan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 Rec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289480" y="333864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580000" y="3197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92760" y="3159000"/>
            <a:ext cx="470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780520" y="3289320"/>
            <a:ext cx="15645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dKfz 263 [8 Rad]     GE-93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776200" y="3532320"/>
            <a:ext cx="15159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b)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GE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780160" y="365904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5541840" y="3693960"/>
            <a:ext cx="85680" cy="27000"/>
            <a:chOff x="5541840" y="3693960"/>
            <a:chExt cx="85680" cy="27000"/>
          </a:xfrm>
        </p:grpSpPr>
        <p:sp>
          <p:nvSpPr>
            <p:cNvPr id="1695" name=""/>
            <p:cNvSpPr/>
            <p:nvPr/>
          </p:nvSpPr>
          <p:spPr>
            <a:xfrm>
              <a:off x="5541840" y="369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599080" y="369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5776200" y="3794040"/>
            <a:ext cx="1424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orcycle                 GE-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295960" y="3057480"/>
            <a:ext cx="0" cy="151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5478480" y="3232080"/>
            <a:ext cx="231840" cy="190080"/>
            <a:chOff x="5478480" y="3232080"/>
            <a:chExt cx="231840" cy="190080"/>
          </a:xfrm>
        </p:grpSpPr>
        <p:sp>
          <p:nvSpPr>
            <p:cNvPr id="1700" name=""/>
            <p:cNvSpPr/>
            <p:nvPr/>
          </p:nvSpPr>
          <p:spPr>
            <a:xfrm>
              <a:off x="5478480" y="323208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88920" y="339480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671080" y="339480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511600" y="3273480"/>
              <a:ext cx="1616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5480640" y="3232080"/>
              <a:ext cx="2282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5151600" y="2838600"/>
            <a:ext cx="284040" cy="291600"/>
            <a:chOff x="5151600" y="2838600"/>
            <a:chExt cx="284040" cy="291600"/>
          </a:xfrm>
        </p:grpSpPr>
        <p:sp>
          <p:nvSpPr>
            <p:cNvPr id="1706" name=""/>
            <p:cNvSpPr/>
            <p:nvPr/>
          </p:nvSpPr>
          <p:spPr>
            <a:xfrm>
              <a:off x="5297400" y="2838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5151600" y="2896920"/>
              <a:ext cx="284040" cy="233280"/>
              <a:chOff x="5151600" y="2896920"/>
              <a:chExt cx="284040" cy="233280"/>
            </a:xfrm>
          </p:grpSpPr>
          <p:sp>
            <p:nvSpPr>
              <p:cNvPr id="1708" name=""/>
              <p:cNvSpPr/>
              <p:nvPr/>
            </p:nvSpPr>
            <p:spPr>
              <a:xfrm>
                <a:off x="5151600" y="2897280"/>
                <a:ext cx="284040" cy="192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164560" y="3096720"/>
                <a:ext cx="3312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387760" y="3096720"/>
                <a:ext cx="3312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192280" y="2948040"/>
                <a:ext cx="198000" cy="9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5154480" y="2896920"/>
                <a:ext cx="279720" cy="18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3" name=""/>
          <p:cNvGrpSpPr/>
          <p:nvPr/>
        </p:nvGrpSpPr>
        <p:grpSpPr>
          <a:xfrm>
            <a:off x="5295960" y="3951360"/>
            <a:ext cx="2047320" cy="225000"/>
            <a:chOff x="5295960" y="3951360"/>
            <a:chExt cx="2047320" cy="225000"/>
          </a:xfrm>
        </p:grpSpPr>
        <p:sp>
          <p:nvSpPr>
            <p:cNvPr id="1714" name=""/>
            <p:cNvSpPr/>
            <p:nvPr/>
          </p:nvSpPr>
          <p:spPr>
            <a:xfrm>
              <a:off x="5295960" y="406872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778720" y="4011480"/>
              <a:ext cx="1564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231 [8 Rad]     GE-92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5484960" y="3951360"/>
              <a:ext cx="231480" cy="225000"/>
              <a:chOff x="5484960" y="3951360"/>
              <a:chExt cx="231480" cy="225000"/>
            </a:xfrm>
          </p:grpSpPr>
          <p:grpSp>
            <p:nvGrpSpPr>
              <p:cNvPr id="1717" name=""/>
              <p:cNvGrpSpPr/>
              <p:nvPr/>
            </p:nvGrpSpPr>
            <p:grpSpPr>
              <a:xfrm>
                <a:off x="5484960" y="3986280"/>
                <a:ext cx="231480" cy="190080"/>
                <a:chOff x="5484960" y="3986280"/>
                <a:chExt cx="231480" cy="19008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5484960" y="39862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495400" y="41490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677200" y="41490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518080" y="402768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V="1">
                  <a:off x="5487120" y="398628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5553000" y="3951360"/>
                <a:ext cx="85680" cy="27000"/>
                <a:chOff x="5553000" y="3951360"/>
                <a:chExt cx="85680" cy="2700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5553000" y="3951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5610240" y="3951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26" name=""/>
          <p:cNvGrpSpPr/>
          <p:nvPr/>
        </p:nvGrpSpPr>
        <p:grpSpPr>
          <a:xfrm>
            <a:off x="5295960" y="4195800"/>
            <a:ext cx="2086920" cy="225000"/>
            <a:chOff x="5295960" y="4195800"/>
            <a:chExt cx="2086920" cy="225000"/>
          </a:xfrm>
        </p:grpSpPr>
        <p:sp>
          <p:nvSpPr>
            <p:cNvPr id="1727" name=""/>
            <p:cNvSpPr/>
            <p:nvPr/>
          </p:nvSpPr>
          <p:spPr>
            <a:xfrm>
              <a:off x="5295960" y="43131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778720" y="4255920"/>
              <a:ext cx="1604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232 [8 Rad]     GE-P06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5484960" y="4195800"/>
              <a:ext cx="231480" cy="225000"/>
              <a:chOff x="5484960" y="4195800"/>
              <a:chExt cx="231480" cy="225000"/>
            </a:xfrm>
          </p:grpSpPr>
          <p:grpSp>
            <p:nvGrpSpPr>
              <p:cNvPr id="1730" name=""/>
              <p:cNvGrpSpPr/>
              <p:nvPr/>
            </p:nvGrpSpPr>
            <p:grpSpPr>
              <a:xfrm>
                <a:off x="5484960" y="4230720"/>
                <a:ext cx="231480" cy="190080"/>
                <a:chOff x="5484960" y="4230720"/>
                <a:chExt cx="231480" cy="19008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5484960" y="423072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5495400" y="43934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677200" y="43934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518080" y="427212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V="1">
                  <a:off x="5487120" y="423072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6" name=""/>
              <p:cNvGrpSpPr/>
              <p:nvPr/>
            </p:nvGrpSpPr>
            <p:grpSpPr>
              <a:xfrm>
                <a:off x="5553000" y="4195800"/>
                <a:ext cx="85680" cy="27000"/>
                <a:chOff x="5553000" y="4195800"/>
                <a:chExt cx="85680" cy="27000"/>
              </a:xfrm>
            </p:grpSpPr>
            <p:sp>
              <p:nvSpPr>
                <p:cNvPr id="1737" name=""/>
                <p:cNvSpPr/>
                <p:nvPr/>
              </p:nvSpPr>
              <p:spPr>
                <a:xfrm>
                  <a:off x="5553000" y="4195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5610240" y="4195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39" name=""/>
          <p:cNvGrpSpPr/>
          <p:nvPr/>
        </p:nvGrpSpPr>
        <p:grpSpPr>
          <a:xfrm>
            <a:off x="5295960" y="4465800"/>
            <a:ext cx="2063160" cy="225000"/>
            <a:chOff x="5295960" y="4465800"/>
            <a:chExt cx="2063160" cy="225000"/>
          </a:xfrm>
        </p:grpSpPr>
        <p:sp>
          <p:nvSpPr>
            <p:cNvPr id="1740" name=""/>
            <p:cNvSpPr/>
            <p:nvPr/>
          </p:nvSpPr>
          <p:spPr>
            <a:xfrm>
              <a:off x="5295960" y="45831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776200" y="4525920"/>
              <a:ext cx="15829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222                  GE-91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5484960" y="4465800"/>
              <a:ext cx="231480" cy="225000"/>
              <a:chOff x="5484960" y="4465800"/>
              <a:chExt cx="231480" cy="225000"/>
            </a:xfrm>
          </p:grpSpPr>
          <p:grpSp>
            <p:nvGrpSpPr>
              <p:cNvPr id="1743" name=""/>
              <p:cNvGrpSpPr/>
              <p:nvPr/>
            </p:nvGrpSpPr>
            <p:grpSpPr>
              <a:xfrm>
                <a:off x="5484960" y="4500720"/>
                <a:ext cx="231480" cy="190080"/>
                <a:chOff x="5484960" y="4500720"/>
                <a:chExt cx="231480" cy="19008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5484960" y="450072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495400" y="46634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677200" y="46634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518080" y="454212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5487120" y="450072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9" name=""/>
              <p:cNvGrpSpPr/>
              <p:nvPr/>
            </p:nvGrpSpPr>
            <p:grpSpPr>
              <a:xfrm>
                <a:off x="5553000" y="4465800"/>
                <a:ext cx="85680" cy="27000"/>
                <a:chOff x="5553000" y="4465800"/>
                <a:chExt cx="85680" cy="2700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5553000" y="4465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610240" y="4465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52" name=""/>
          <p:cNvSpPr/>
          <p:nvPr/>
        </p:nvSpPr>
        <p:spPr>
          <a:xfrm>
            <a:off x="5291280" y="4791240"/>
            <a:ext cx="22096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 Replace in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2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anzer Divisions with French AMD Panhard 178, 25mm Arm. Car,  FR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b) May replace with LMG GE-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2602080" y="339840"/>
            <a:ext cx="2307960" cy="1821600"/>
            <a:chOff x="2602080" y="339840"/>
            <a:chExt cx="2307960" cy="1821600"/>
          </a:xfrm>
        </p:grpSpPr>
        <p:sp>
          <p:nvSpPr>
            <p:cNvPr id="1754" name=""/>
            <p:cNvSpPr/>
            <p:nvPr/>
          </p:nvSpPr>
          <p:spPr>
            <a:xfrm>
              <a:off x="2957400" y="1071720"/>
              <a:ext cx="0" cy="10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28800" y="10875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2908440" y="958680"/>
              <a:ext cx="231480" cy="203040"/>
              <a:chOff x="2908440" y="958680"/>
              <a:chExt cx="231480" cy="203040"/>
            </a:xfrm>
          </p:grpSpPr>
          <p:grpSp>
            <p:nvGrpSpPr>
              <p:cNvPr id="1757" name=""/>
              <p:cNvGrpSpPr/>
              <p:nvPr/>
            </p:nvGrpSpPr>
            <p:grpSpPr>
              <a:xfrm>
                <a:off x="2908440" y="1004760"/>
                <a:ext cx="231480" cy="156960"/>
                <a:chOff x="2908440" y="1004760"/>
                <a:chExt cx="231480" cy="15696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2908440" y="100476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V="1">
                  <a:off x="2909880" y="1007640"/>
                  <a:ext cx="2264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908440" y="1008000"/>
                  <a:ext cx="230040" cy="149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2981160" y="958680"/>
                <a:ext cx="84960" cy="27000"/>
                <a:chOff x="2981160" y="958680"/>
                <a:chExt cx="84960" cy="2700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2981160" y="9586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038040" y="9586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4" name=""/>
            <p:cNvSpPr/>
            <p:nvPr/>
          </p:nvSpPr>
          <p:spPr>
            <a:xfrm flipV="1">
              <a:off x="2629080" y="399600"/>
              <a:ext cx="27612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25840" y="399960"/>
              <a:ext cx="282600" cy="18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965320" y="396720"/>
              <a:ext cx="1944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euver Element GEBRB04  Motorcycle Compan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2728800" y="660240"/>
              <a:ext cx="1890720" cy="268200"/>
              <a:chOff x="2728800" y="660240"/>
              <a:chExt cx="1890720" cy="268200"/>
            </a:xfrm>
          </p:grpSpPr>
          <p:sp>
            <p:nvSpPr>
              <p:cNvPr id="1768" name=""/>
              <p:cNvSpPr/>
              <p:nvPr/>
            </p:nvSpPr>
            <p:spPr>
              <a:xfrm>
                <a:off x="2728800" y="839880"/>
                <a:ext cx="2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2908080" y="722160"/>
                <a:ext cx="233280" cy="206280"/>
                <a:chOff x="2908080" y="722160"/>
                <a:chExt cx="233280" cy="206280"/>
              </a:xfrm>
            </p:grpSpPr>
            <p:grpSp>
              <p:nvGrpSpPr>
                <p:cNvPr id="1770" name=""/>
                <p:cNvGrpSpPr/>
                <p:nvPr/>
              </p:nvGrpSpPr>
              <p:grpSpPr>
                <a:xfrm>
                  <a:off x="2908080" y="771480"/>
                  <a:ext cx="233280" cy="156960"/>
                  <a:chOff x="2908080" y="771480"/>
                  <a:chExt cx="233280" cy="156960"/>
                </a:xfrm>
              </p:grpSpPr>
              <p:sp>
                <p:nvSpPr>
                  <p:cNvPr id="1771" name=""/>
                  <p:cNvSpPr/>
                  <p:nvPr/>
                </p:nvSpPr>
                <p:spPr>
                  <a:xfrm>
                    <a:off x="2909520" y="77148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2908080" y="776160"/>
                    <a:ext cx="21888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3011400" y="722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4" name=""/>
              <p:cNvSpPr/>
              <p:nvPr/>
            </p:nvSpPr>
            <p:spPr>
              <a:xfrm>
                <a:off x="3219480" y="660240"/>
                <a:ext cx="470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218040" y="79056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216960" y="1033560"/>
              <a:ext cx="1422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antry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GE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2735280" y="1211400"/>
              <a:ext cx="1904400" cy="199800"/>
              <a:chOff x="2735280" y="1211400"/>
              <a:chExt cx="1904400" cy="199800"/>
            </a:xfrm>
          </p:grpSpPr>
          <p:sp>
            <p:nvSpPr>
              <p:cNvPr id="1778" name=""/>
              <p:cNvSpPr/>
              <p:nvPr/>
            </p:nvSpPr>
            <p:spPr>
              <a:xfrm>
                <a:off x="2735280" y="1330200"/>
                <a:ext cx="26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9" name=""/>
              <p:cNvGrpSpPr/>
              <p:nvPr/>
            </p:nvGrpSpPr>
            <p:grpSpPr>
              <a:xfrm>
                <a:off x="2908080" y="1211400"/>
                <a:ext cx="236520" cy="199800"/>
                <a:chOff x="2908080" y="1211400"/>
                <a:chExt cx="236520" cy="199800"/>
              </a:xfrm>
            </p:grpSpPr>
            <p:grpSp>
              <p:nvGrpSpPr>
                <p:cNvPr id="1780" name=""/>
                <p:cNvGrpSpPr/>
                <p:nvPr/>
              </p:nvGrpSpPr>
              <p:grpSpPr>
                <a:xfrm>
                  <a:off x="2908080" y="1246320"/>
                  <a:ext cx="236520" cy="164880"/>
                  <a:chOff x="2908080" y="1246320"/>
                  <a:chExt cx="236520" cy="16488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2908080" y="12510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2908080" y="1257120"/>
                    <a:ext cx="50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2914560" y="1246320"/>
                    <a:ext cx="23004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2925720" y="1274760"/>
                    <a:ext cx="218880" cy="136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5" name=""/>
                <p:cNvGrpSpPr/>
                <p:nvPr/>
              </p:nvGrpSpPr>
              <p:grpSpPr>
                <a:xfrm>
                  <a:off x="2982600" y="1211400"/>
                  <a:ext cx="85680" cy="27000"/>
                  <a:chOff x="2982600" y="1211400"/>
                  <a:chExt cx="85680" cy="27000"/>
                </a:xfrm>
              </p:grpSpPr>
              <p:sp>
                <p:nvSpPr>
                  <p:cNvPr id="1786" name=""/>
                  <p:cNvSpPr/>
                  <p:nvPr/>
                </p:nvSpPr>
                <p:spPr>
                  <a:xfrm>
                    <a:off x="2982600" y="1211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3039840" y="1211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8" name=""/>
              <p:cNvSpPr/>
              <p:nvPr/>
            </p:nvSpPr>
            <p:spPr>
              <a:xfrm>
                <a:off x="3219840" y="1279440"/>
                <a:ext cx="141984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avy Machine Gun  GE-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2735280" y="1432080"/>
              <a:ext cx="1982880" cy="206280"/>
              <a:chOff x="2735280" y="1432080"/>
              <a:chExt cx="1982880" cy="206280"/>
            </a:xfrm>
          </p:grpSpPr>
          <p:sp>
            <p:nvSpPr>
              <p:cNvPr id="1790" name=""/>
              <p:cNvSpPr/>
              <p:nvPr/>
            </p:nvSpPr>
            <p:spPr>
              <a:xfrm>
                <a:off x="2735280" y="1544760"/>
                <a:ext cx="26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2908080" y="1432080"/>
                <a:ext cx="239760" cy="206280"/>
                <a:chOff x="2908080" y="1432080"/>
                <a:chExt cx="239760" cy="206280"/>
              </a:xfrm>
            </p:grpSpPr>
            <p:grpSp>
              <p:nvGrpSpPr>
                <p:cNvPr id="1792" name=""/>
                <p:cNvGrpSpPr/>
                <p:nvPr/>
              </p:nvGrpSpPr>
              <p:grpSpPr>
                <a:xfrm>
                  <a:off x="2908080" y="1481040"/>
                  <a:ext cx="239760" cy="157320"/>
                  <a:chOff x="2908080" y="1481040"/>
                  <a:chExt cx="239760" cy="157320"/>
                </a:xfrm>
              </p:grpSpPr>
              <p:sp>
                <p:nvSpPr>
                  <p:cNvPr id="1793" name=""/>
                  <p:cNvSpPr/>
                  <p:nvPr/>
                </p:nvSpPr>
                <p:spPr>
                  <a:xfrm>
                    <a:off x="2908080" y="148104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flipV="1">
                    <a:off x="2992320" y="1596960"/>
                    <a:ext cx="6336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3024000" y="1512720"/>
                    <a:ext cx="0" cy="842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6" name=""/>
                <p:cNvGrpSpPr/>
                <p:nvPr/>
              </p:nvGrpSpPr>
              <p:grpSpPr>
                <a:xfrm>
                  <a:off x="2984400" y="1432080"/>
                  <a:ext cx="85680" cy="27000"/>
                  <a:chOff x="2984400" y="1432080"/>
                  <a:chExt cx="85680" cy="2700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>
                    <a:off x="2984400" y="1432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3041640" y="1432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9" name=""/>
              <p:cNvSpPr/>
              <p:nvPr/>
            </p:nvSpPr>
            <p:spPr>
              <a:xfrm>
                <a:off x="3216240" y="1514520"/>
                <a:ext cx="15019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5cm Mortar                GE-10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2728800" y="1803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19480" y="19288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2" name=""/>
            <p:cNvGrpSpPr/>
            <p:nvPr/>
          </p:nvGrpSpPr>
          <p:grpSpPr>
            <a:xfrm>
              <a:off x="2908440" y="1682640"/>
              <a:ext cx="231480" cy="199800"/>
              <a:chOff x="2908440" y="1682640"/>
              <a:chExt cx="231480" cy="199800"/>
            </a:xfrm>
          </p:grpSpPr>
          <p:grpSp>
            <p:nvGrpSpPr>
              <p:cNvPr id="1803" name=""/>
              <p:cNvGrpSpPr/>
              <p:nvPr/>
            </p:nvGrpSpPr>
            <p:grpSpPr>
              <a:xfrm>
                <a:off x="2908440" y="1725480"/>
                <a:ext cx="231480" cy="156960"/>
                <a:chOff x="2908440" y="1725480"/>
                <a:chExt cx="231480" cy="15696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2908440" y="17254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V="1">
                  <a:off x="3025800" y="1728360"/>
                  <a:ext cx="11376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908440" y="1725480"/>
                  <a:ext cx="11412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2981160" y="1682640"/>
                <a:ext cx="84960" cy="27000"/>
                <a:chOff x="2981160" y="1682640"/>
                <a:chExt cx="84960" cy="2700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2981160" y="168264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038040" y="168264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0" name=""/>
            <p:cNvSpPr/>
            <p:nvPr/>
          </p:nvSpPr>
          <p:spPr>
            <a:xfrm>
              <a:off x="3219480" y="1765440"/>
              <a:ext cx="14623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zb 38/39 AT Rifle    GE-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16600" y="2063880"/>
              <a:ext cx="1393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torcycle              GE-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735280" y="558720"/>
              <a:ext cx="0" cy="12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3" name=""/>
            <p:cNvGrpSpPr/>
            <p:nvPr/>
          </p:nvGrpSpPr>
          <p:grpSpPr>
            <a:xfrm>
              <a:off x="2602080" y="339840"/>
              <a:ext cx="283680" cy="255240"/>
              <a:chOff x="2602080" y="339840"/>
              <a:chExt cx="283680" cy="255240"/>
            </a:xfrm>
          </p:grpSpPr>
          <p:sp>
            <p:nvSpPr>
              <p:cNvPr id="1814" name=""/>
              <p:cNvSpPr/>
              <p:nvPr/>
            </p:nvSpPr>
            <p:spPr>
              <a:xfrm>
                <a:off x="2745000" y="3398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5" name=""/>
              <p:cNvGrpSpPr/>
              <p:nvPr/>
            </p:nvGrpSpPr>
            <p:grpSpPr>
              <a:xfrm>
                <a:off x="2602080" y="401760"/>
                <a:ext cx="283680" cy="193320"/>
                <a:chOff x="2602080" y="401760"/>
                <a:chExt cx="283680" cy="19332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2602080" y="40176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>
                  <a:off x="2602080" y="403920"/>
                  <a:ext cx="277920" cy="18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2769480" y="540360"/>
                  <a:ext cx="3276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2823840" y="540360"/>
                  <a:ext cx="3276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0" name=""/>
            <p:cNvGrpSpPr/>
            <p:nvPr/>
          </p:nvGrpSpPr>
          <p:grpSpPr>
            <a:xfrm>
              <a:off x="2906640" y="1963800"/>
              <a:ext cx="231840" cy="193680"/>
              <a:chOff x="2906640" y="1963800"/>
              <a:chExt cx="231840" cy="193680"/>
            </a:xfrm>
          </p:grpSpPr>
          <p:grpSp>
            <p:nvGrpSpPr>
              <p:cNvPr id="1821" name=""/>
              <p:cNvGrpSpPr/>
              <p:nvPr/>
            </p:nvGrpSpPr>
            <p:grpSpPr>
              <a:xfrm>
                <a:off x="2981160" y="1963800"/>
                <a:ext cx="85680" cy="27000"/>
                <a:chOff x="2981160" y="1963800"/>
                <a:chExt cx="85680" cy="2700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2981160" y="1963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038400" y="1963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2906640" y="2000160"/>
                <a:ext cx="231840" cy="157320"/>
                <a:chOff x="2906640" y="2000160"/>
                <a:chExt cx="231840" cy="15732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2906640" y="200016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2906640" y="2001600"/>
                  <a:ext cx="2271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043440" y="2112840"/>
                  <a:ext cx="2700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087720" y="2112840"/>
                  <a:ext cx="2700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9" name=""/>
            <p:cNvSpPr/>
            <p:nvPr/>
          </p:nvSpPr>
          <p:spPr>
            <a:xfrm>
              <a:off x="3213360" y="139212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2606760" y="2313000"/>
            <a:ext cx="2317680" cy="2152440"/>
            <a:chOff x="2606760" y="2313000"/>
            <a:chExt cx="2317680" cy="2152440"/>
          </a:xfrm>
        </p:grpSpPr>
        <p:sp>
          <p:nvSpPr>
            <p:cNvPr id="1831" name=""/>
            <p:cNvSpPr/>
            <p:nvPr/>
          </p:nvSpPr>
          <p:spPr>
            <a:xfrm>
              <a:off x="2971800" y="3346200"/>
              <a:ext cx="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743200" y="336240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2922480" y="3233520"/>
              <a:ext cx="231840" cy="203040"/>
              <a:chOff x="2922480" y="3233520"/>
              <a:chExt cx="231840" cy="2030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2922480" y="3279600"/>
                <a:ext cx="231840" cy="156960"/>
                <a:chOff x="2922480" y="3279600"/>
                <a:chExt cx="231840" cy="15696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2922480" y="32796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V="1">
                  <a:off x="2924280" y="3282480"/>
                  <a:ext cx="22680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922480" y="3282840"/>
                  <a:ext cx="230400" cy="149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2995560" y="3233520"/>
                <a:ext cx="85680" cy="27000"/>
                <a:chOff x="2995560" y="3233520"/>
                <a:chExt cx="85680" cy="2700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2995560" y="3233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052800" y="3233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1" name=""/>
            <p:cNvSpPr/>
            <p:nvPr/>
          </p:nvSpPr>
          <p:spPr>
            <a:xfrm>
              <a:off x="2752560" y="23130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979720" y="2369880"/>
              <a:ext cx="1944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euver Element GEBRB05  Armored Infantry Compan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"/>
            <p:cNvGrpSpPr/>
            <p:nvPr/>
          </p:nvGrpSpPr>
          <p:grpSpPr>
            <a:xfrm>
              <a:off x="2743200" y="2633400"/>
              <a:ext cx="1890720" cy="268200"/>
              <a:chOff x="2743200" y="2633400"/>
              <a:chExt cx="1890720" cy="268200"/>
            </a:xfrm>
          </p:grpSpPr>
          <p:sp>
            <p:nvSpPr>
              <p:cNvPr id="1844" name=""/>
              <p:cNvSpPr/>
              <p:nvPr/>
            </p:nvSpPr>
            <p:spPr>
              <a:xfrm>
                <a:off x="2743200" y="2813040"/>
                <a:ext cx="2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5" name=""/>
              <p:cNvGrpSpPr/>
              <p:nvPr/>
            </p:nvGrpSpPr>
            <p:grpSpPr>
              <a:xfrm>
                <a:off x="2922480" y="2695320"/>
                <a:ext cx="233280" cy="206280"/>
                <a:chOff x="2922480" y="2695320"/>
                <a:chExt cx="233280" cy="206280"/>
              </a:xfrm>
            </p:grpSpPr>
            <p:grpSp>
              <p:nvGrpSpPr>
                <p:cNvPr id="1846" name=""/>
                <p:cNvGrpSpPr/>
                <p:nvPr/>
              </p:nvGrpSpPr>
              <p:grpSpPr>
                <a:xfrm>
                  <a:off x="2922480" y="2744640"/>
                  <a:ext cx="233280" cy="156960"/>
                  <a:chOff x="2922480" y="2744640"/>
                  <a:chExt cx="233280" cy="156960"/>
                </a:xfrm>
              </p:grpSpPr>
              <p:sp>
                <p:nvSpPr>
                  <p:cNvPr id="1847" name=""/>
                  <p:cNvSpPr/>
                  <p:nvPr/>
                </p:nvSpPr>
                <p:spPr>
                  <a:xfrm>
                    <a:off x="2923920" y="274464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2922480" y="2749320"/>
                    <a:ext cx="21888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9" name=""/>
                <p:cNvSpPr/>
                <p:nvPr/>
              </p:nvSpPr>
              <p:spPr>
                <a:xfrm>
                  <a:off x="3025800" y="26953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0" name=""/>
              <p:cNvSpPr/>
              <p:nvPr/>
            </p:nvSpPr>
            <p:spPr>
              <a:xfrm>
                <a:off x="3233880" y="2633400"/>
                <a:ext cx="470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32440" y="276372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>
              <a:off x="2962440" y="28512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33880" y="290988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32080" y="3044880"/>
              <a:ext cx="1384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1/10                      GE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30280" y="3308400"/>
              <a:ext cx="1415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antry                      GE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2749680" y="3486240"/>
              <a:ext cx="1904400" cy="199800"/>
              <a:chOff x="2749680" y="3486240"/>
              <a:chExt cx="1904400" cy="199800"/>
            </a:xfrm>
          </p:grpSpPr>
          <p:sp>
            <p:nvSpPr>
              <p:cNvPr id="1857" name=""/>
              <p:cNvSpPr/>
              <p:nvPr/>
            </p:nvSpPr>
            <p:spPr>
              <a:xfrm>
                <a:off x="2749680" y="3605040"/>
                <a:ext cx="26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8" name=""/>
              <p:cNvGrpSpPr/>
              <p:nvPr/>
            </p:nvGrpSpPr>
            <p:grpSpPr>
              <a:xfrm>
                <a:off x="2922480" y="3486240"/>
                <a:ext cx="236520" cy="199800"/>
                <a:chOff x="2922480" y="3486240"/>
                <a:chExt cx="236520" cy="199800"/>
              </a:xfrm>
            </p:grpSpPr>
            <p:grpSp>
              <p:nvGrpSpPr>
                <p:cNvPr id="1859" name=""/>
                <p:cNvGrpSpPr/>
                <p:nvPr/>
              </p:nvGrpSpPr>
              <p:grpSpPr>
                <a:xfrm>
                  <a:off x="2922480" y="3521160"/>
                  <a:ext cx="236520" cy="164880"/>
                  <a:chOff x="2922480" y="3521160"/>
                  <a:chExt cx="236520" cy="16488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2922480" y="352584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2922480" y="3531960"/>
                    <a:ext cx="50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 flipV="1">
                    <a:off x="2928960" y="3521160"/>
                    <a:ext cx="23004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2940120" y="3549600"/>
                    <a:ext cx="218880" cy="136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4" name=""/>
                <p:cNvGrpSpPr/>
                <p:nvPr/>
              </p:nvGrpSpPr>
              <p:grpSpPr>
                <a:xfrm>
                  <a:off x="2997000" y="3486240"/>
                  <a:ext cx="85680" cy="27000"/>
                  <a:chOff x="2997000" y="3486240"/>
                  <a:chExt cx="85680" cy="27000"/>
                </a:xfrm>
              </p:grpSpPr>
              <p:sp>
                <p:nvSpPr>
                  <p:cNvPr id="1865" name=""/>
                  <p:cNvSpPr/>
                  <p:nvPr/>
                </p:nvSpPr>
                <p:spPr>
                  <a:xfrm>
                    <a:off x="2997000" y="3486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3054240" y="3486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67" name=""/>
              <p:cNvSpPr/>
              <p:nvPr/>
            </p:nvSpPr>
            <p:spPr>
              <a:xfrm>
                <a:off x="3234240" y="3554280"/>
                <a:ext cx="141984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avy Machine Gun  GE-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2749680" y="3706560"/>
              <a:ext cx="1982880" cy="206280"/>
              <a:chOff x="2749680" y="3706560"/>
              <a:chExt cx="1982880" cy="206280"/>
            </a:xfrm>
          </p:grpSpPr>
          <p:sp>
            <p:nvSpPr>
              <p:cNvPr id="1869" name=""/>
              <p:cNvSpPr/>
              <p:nvPr/>
            </p:nvSpPr>
            <p:spPr>
              <a:xfrm>
                <a:off x="2749680" y="3819600"/>
                <a:ext cx="26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0" name=""/>
              <p:cNvGrpSpPr/>
              <p:nvPr/>
            </p:nvGrpSpPr>
            <p:grpSpPr>
              <a:xfrm>
                <a:off x="2922480" y="3706560"/>
                <a:ext cx="239760" cy="206280"/>
                <a:chOff x="2922480" y="3706560"/>
                <a:chExt cx="239760" cy="206280"/>
              </a:xfrm>
            </p:grpSpPr>
            <p:grpSp>
              <p:nvGrpSpPr>
                <p:cNvPr id="1871" name=""/>
                <p:cNvGrpSpPr/>
                <p:nvPr/>
              </p:nvGrpSpPr>
              <p:grpSpPr>
                <a:xfrm>
                  <a:off x="2922480" y="3755520"/>
                  <a:ext cx="239760" cy="157320"/>
                  <a:chOff x="2922480" y="3755520"/>
                  <a:chExt cx="239760" cy="157320"/>
                </a:xfrm>
              </p:grpSpPr>
              <p:sp>
                <p:nvSpPr>
                  <p:cNvPr id="1872" name=""/>
                  <p:cNvSpPr/>
                  <p:nvPr/>
                </p:nvSpPr>
                <p:spPr>
                  <a:xfrm>
                    <a:off x="2922480" y="375552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V="1">
                    <a:off x="3006720" y="3871440"/>
                    <a:ext cx="6336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3038400" y="3787200"/>
                    <a:ext cx="0" cy="842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5" name=""/>
                <p:cNvGrpSpPr/>
                <p:nvPr/>
              </p:nvGrpSpPr>
              <p:grpSpPr>
                <a:xfrm>
                  <a:off x="2998800" y="3706560"/>
                  <a:ext cx="85680" cy="27000"/>
                  <a:chOff x="2998800" y="3706560"/>
                  <a:chExt cx="85680" cy="2700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2998800" y="37065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3056040" y="37065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78" name=""/>
              <p:cNvSpPr/>
              <p:nvPr/>
            </p:nvSpPr>
            <p:spPr>
              <a:xfrm>
                <a:off x="3230640" y="3789360"/>
                <a:ext cx="15019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5cm Mortar                GE-10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9" name=""/>
            <p:cNvSpPr/>
            <p:nvPr/>
          </p:nvSpPr>
          <p:spPr>
            <a:xfrm>
              <a:off x="2743200" y="4070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233880" y="420372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2922480" y="3957480"/>
              <a:ext cx="231840" cy="199800"/>
              <a:chOff x="2922480" y="3957480"/>
              <a:chExt cx="231840" cy="199800"/>
            </a:xfrm>
          </p:grpSpPr>
          <p:grpSp>
            <p:nvGrpSpPr>
              <p:cNvPr id="1882" name=""/>
              <p:cNvGrpSpPr/>
              <p:nvPr/>
            </p:nvGrpSpPr>
            <p:grpSpPr>
              <a:xfrm>
                <a:off x="2922480" y="4000320"/>
                <a:ext cx="231840" cy="156960"/>
                <a:chOff x="2922480" y="4000320"/>
                <a:chExt cx="231840" cy="15696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2922480" y="40003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V="1">
                  <a:off x="3040200" y="4003200"/>
                  <a:ext cx="11412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922480" y="400032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2995560" y="3957480"/>
                <a:ext cx="85680" cy="27000"/>
                <a:chOff x="2995560" y="3957480"/>
                <a:chExt cx="85680" cy="2700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2995560" y="3957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052800" y="3957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9" name=""/>
            <p:cNvSpPr/>
            <p:nvPr/>
          </p:nvSpPr>
          <p:spPr>
            <a:xfrm>
              <a:off x="3233880" y="4040280"/>
              <a:ext cx="14623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zb 38/39 AT Rifle    GE-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231360" y="4338720"/>
              <a:ext cx="13860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1/1                        GE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9680" y="2516040"/>
              <a:ext cx="0" cy="156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2" name=""/>
            <p:cNvGrpSpPr/>
            <p:nvPr/>
          </p:nvGrpSpPr>
          <p:grpSpPr>
            <a:xfrm>
              <a:off x="2924280" y="4238640"/>
              <a:ext cx="241200" cy="226800"/>
              <a:chOff x="2924280" y="4238640"/>
              <a:chExt cx="241200" cy="226800"/>
            </a:xfrm>
          </p:grpSpPr>
          <p:grpSp>
            <p:nvGrpSpPr>
              <p:cNvPr id="1893" name=""/>
              <p:cNvGrpSpPr/>
              <p:nvPr/>
            </p:nvGrpSpPr>
            <p:grpSpPr>
              <a:xfrm>
                <a:off x="3002040" y="4238640"/>
                <a:ext cx="85680" cy="27000"/>
                <a:chOff x="3002040" y="4238640"/>
                <a:chExt cx="85680" cy="2700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002040" y="4238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059280" y="4238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2924280" y="4276080"/>
                <a:ext cx="241200" cy="189360"/>
                <a:chOff x="2924280" y="4276080"/>
                <a:chExt cx="241200" cy="189360"/>
              </a:xfrm>
            </p:grpSpPr>
            <p:sp>
              <p:nvSpPr>
                <p:cNvPr id="1897" name=""/>
                <p:cNvSpPr/>
                <p:nvPr/>
              </p:nvSpPr>
              <p:spPr>
                <a:xfrm>
                  <a:off x="2925360" y="4276440"/>
                  <a:ext cx="240120" cy="158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961000" y="4315680"/>
                  <a:ext cx="169920" cy="75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flipV="1">
                  <a:off x="2925360" y="4276080"/>
                  <a:ext cx="237960" cy="156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2924280" y="4276440"/>
                  <a:ext cx="241200" cy="154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2939400" y="443808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3053160" y="44370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3129480" y="44370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3073320" y="4437000"/>
                  <a:ext cx="61920" cy="27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5" name=""/>
            <p:cNvGrpSpPr/>
            <p:nvPr/>
          </p:nvGrpSpPr>
          <p:grpSpPr>
            <a:xfrm>
              <a:off x="2606760" y="2374920"/>
              <a:ext cx="291600" cy="190080"/>
              <a:chOff x="2606760" y="2374920"/>
              <a:chExt cx="291600" cy="190080"/>
            </a:xfrm>
          </p:grpSpPr>
          <p:sp>
            <p:nvSpPr>
              <p:cNvPr id="1906" name=""/>
              <p:cNvSpPr/>
              <p:nvPr/>
            </p:nvSpPr>
            <p:spPr>
              <a:xfrm>
                <a:off x="2608200" y="2374920"/>
                <a:ext cx="289800" cy="19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651040" y="2422800"/>
                <a:ext cx="20484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2608200" y="2374920"/>
                <a:ext cx="286560" cy="18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606760" y="2374920"/>
                <a:ext cx="291600" cy="18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2932200" y="2935080"/>
              <a:ext cx="239400" cy="233640"/>
              <a:chOff x="2932200" y="2935080"/>
              <a:chExt cx="239400" cy="233640"/>
            </a:xfrm>
          </p:grpSpPr>
          <p:grpSp>
            <p:nvGrpSpPr>
              <p:cNvPr id="1911" name=""/>
              <p:cNvGrpSpPr/>
              <p:nvPr/>
            </p:nvGrpSpPr>
            <p:grpSpPr>
              <a:xfrm>
                <a:off x="2932200" y="2979720"/>
                <a:ext cx="239400" cy="189000"/>
                <a:chOff x="2932200" y="2979720"/>
                <a:chExt cx="239400" cy="18900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2932200" y="2979720"/>
                  <a:ext cx="23940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967120" y="3019320"/>
                  <a:ext cx="16956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946240" y="3141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058920" y="31402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3135240" y="31402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079800" y="314028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flipV="1">
                  <a:off x="2941560" y="2990880"/>
                  <a:ext cx="104760" cy="131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046320" y="2992320"/>
                  <a:ext cx="109440" cy="1256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3038760" y="2935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1" name=""/>
            <p:cNvSpPr/>
            <p:nvPr/>
          </p:nvSpPr>
          <p:spPr>
            <a:xfrm>
              <a:off x="3227760" y="367344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125280" y="4224240"/>
            <a:ext cx="2324160" cy="2155320"/>
            <a:chOff x="125280" y="4224240"/>
            <a:chExt cx="2324160" cy="2155320"/>
          </a:xfrm>
        </p:grpSpPr>
        <p:sp>
          <p:nvSpPr>
            <p:cNvPr id="1923" name=""/>
            <p:cNvSpPr/>
            <p:nvPr/>
          </p:nvSpPr>
          <p:spPr>
            <a:xfrm>
              <a:off x="496800" y="5257800"/>
              <a:ext cx="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68200" y="527364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447840" y="5145120"/>
              <a:ext cx="231480" cy="203040"/>
              <a:chOff x="447840" y="5145120"/>
              <a:chExt cx="231480" cy="203040"/>
            </a:xfrm>
          </p:grpSpPr>
          <p:grpSp>
            <p:nvGrpSpPr>
              <p:cNvPr id="1926" name=""/>
              <p:cNvGrpSpPr/>
              <p:nvPr/>
            </p:nvGrpSpPr>
            <p:grpSpPr>
              <a:xfrm>
                <a:off x="447840" y="5191200"/>
                <a:ext cx="231480" cy="156960"/>
                <a:chOff x="447840" y="5191200"/>
                <a:chExt cx="231480" cy="156960"/>
              </a:xfrm>
            </p:grpSpPr>
            <p:sp>
              <p:nvSpPr>
                <p:cNvPr id="1927" name=""/>
                <p:cNvSpPr/>
                <p:nvPr/>
              </p:nvSpPr>
              <p:spPr>
                <a:xfrm>
                  <a:off x="447840" y="519120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V="1">
                  <a:off x="449280" y="5194080"/>
                  <a:ext cx="2264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47840" y="5194440"/>
                  <a:ext cx="230040" cy="149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520560" y="5145120"/>
                <a:ext cx="84960" cy="27000"/>
                <a:chOff x="520560" y="5145120"/>
                <a:chExt cx="84960" cy="2700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520560" y="51451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77440" y="51451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3" name=""/>
            <p:cNvGrpSpPr/>
            <p:nvPr/>
          </p:nvGrpSpPr>
          <p:grpSpPr>
            <a:xfrm>
              <a:off x="125280" y="4224240"/>
              <a:ext cx="284400" cy="290520"/>
              <a:chOff x="125280" y="4224240"/>
              <a:chExt cx="284400" cy="290520"/>
            </a:xfrm>
          </p:grpSpPr>
          <p:sp>
            <p:nvSpPr>
              <p:cNvPr id="1934" name=""/>
              <p:cNvSpPr/>
              <p:nvPr/>
            </p:nvSpPr>
            <p:spPr>
              <a:xfrm>
                <a:off x="268200" y="4224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25280" y="428112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V="1">
                <a:off x="128520" y="4284000"/>
                <a:ext cx="27612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25280" y="4284360"/>
                <a:ext cx="2826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8" name=""/>
              <p:cNvGrpSpPr/>
              <p:nvPr/>
            </p:nvGrpSpPr>
            <p:grpSpPr>
              <a:xfrm>
                <a:off x="150840" y="4487760"/>
                <a:ext cx="233280" cy="27000"/>
                <a:chOff x="150840" y="4487760"/>
                <a:chExt cx="233280" cy="2700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150840" y="4487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357120" y="4487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1" name=""/>
            <p:cNvSpPr/>
            <p:nvPr/>
          </p:nvSpPr>
          <p:spPr>
            <a:xfrm>
              <a:off x="504720" y="4281480"/>
              <a:ext cx="1944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euver Element GEBRB03   Motorized Infantry Compan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268200" y="4545000"/>
              <a:ext cx="1890720" cy="267480"/>
              <a:chOff x="268200" y="4545000"/>
              <a:chExt cx="1890720" cy="267480"/>
            </a:xfrm>
          </p:grpSpPr>
          <p:sp>
            <p:nvSpPr>
              <p:cNvPr id="1943" name=""/>
              <p:cNvSpPr/>
              <p:nvPr/>
            </p:nvSpPr>
            <p:spPr>
              <a:xfrm>
                <a:off x="268200" y="4724280"/>
                <a:ext cx="2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447480" y="4606560"/>
                <a:ext cx="233280" cy="205920"/>
                <a:chOff x="447480" y="4606560"/>
                <a:chExt cx="233280" cy="205920"/>
              </a:xfrm>
            </p:grpSpPr>
            <p:grpSp>
              <p:nvGrpSpPr>
                <p:cNvPr id="1945" name=""/>
                <p:cNvGrpSpPr/>
                <p:nvPr/>
              </p:nvGrpSpPr>
              <p:grpSpPr>
                <a:xfrm>
                  <a:off x="447480" y="4655520"/>
                  <a:ext cx="233280" cy="156960"/>
                  <a:chOff x="447480" y="4655520"/>
                  <a:chExt cx="233280" cy="156960"/>
                </a:xfrm>
              </p:grpSpPr>
              <p:sp>
                <p:nvSpPr>
                  <p:cNvPr id="1946" name=""/>
                  <p:cNvSpPr/>
                  <p:nvPr/>
                </p:nvSpPr>
                <p:spPr>
                  <a:xfrm>
                    <a:off x="448920" y="465552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447480" y="4660200"/>
                    <a:ext cx="21888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8" name=""/>
                <p:cNvSpPr/>
                <p:nvPr/>
              </p:nvSpPr>
              <p:spPr>
                <a:xfrm>
                  <a:off x="550800" y="4606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9" name=""/>
              <p:cNvSpPr/>
              <p:nvPr/>
            </p:nvSpPr>
            <p:spPr>
              <a:xfrm>
                <a:off x="758880" y="4545000"/>
                <a:ext cx="4701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7440" y="467496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447840" y="4762440"/>
              <a:ext cx="1712880" cy="339120"/>
              <a:chOff x="447840" y="4762440"/>
              <a:chExt cx="1712880" cy="339120"/>
            </a:xfrm>
          </p:grpSpPr>
          <p:sp>
            <p:nvSpPr>
              <p:cNvPr id="1952" name=""/>
              <p:cNvSpPr/>
              <p:nvPr/>
            </p:nvSpPr>
            <p:spPr>
              <a:xfrm>
                <a:off x="487800" y="47624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447840" y="4873320"/>
                <a:ext cx="231840" cy="228240"/>
                <a:chOff x="447840" y="4873320"/>
                <a:chExt cx="231840" cy="228240"/>
              </a:xfrm>
            </p:grpSpPr>
            <p:grpSp>
              <p:nvGrpSpPr>
                <p:cNvPr id="1954" name=""/>
                <p:cNvGrpSpPr/>
                <p:nvPr/>
              </p:nvGrpSpPr>
              <p:grpSpPr>
                <a:xfrm>
                  <a:off x="447840" y="4911480"/>
                  <a:ext cx="231840" cy="190080"/>
                  <a:chOff x="447840" y="4911480"/>
                  <a:chExt cx="231840" cy="190080"/>
                </a:xfrm>
              </p:grpSpPr>
              <p:sp>
                <p:nvSpPr>
                  <p:cNvPr id="1955" name=""/>
                  <p:cNvSpPr/>
                  <p:nvPr/>
                </p:nvSpPr>
                <p:spPr>
                  <a:xfrm>
                    <a:off x="447840" y="491148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458280" y="507420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640080" y="507420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8" name=""/>
                <p:cNvSpPr/>
                <p:nvPr/>
              </p:nvSpPr>
              <p:spPr>
                <a:xfrm>
                  <a:off x="549360" y="48733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9" name=""/>
              <p:cNvSpPr/>
              <p:nvPr/>
            </p:nvSpPr>
            <p:spPr>
              <a:xfrm>
                <a:off x="759240" y="482112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59240" y="4956120"/>
                <a:ext cx="1401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übelwagen              GE-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755280" y="5219640"/>
              <a:ext cx="1415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antry                      GE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2" name=""/>
            <p:cNvGrpSpPr/>
            <p:nvPr/>
          </p:nvGrpSpPr>
          <p:grpSpPr>
            <a:xfrm>
              <a:off x="274680" y="5397480"/>
              <a:ext cx="1904400" cy="199800"/>
              <a:chOff x="274680" y="5397480"/>
              <a:chExt cx="1904400" cy="199800"/>
            </a:xfrm>
          </p:grpSpPr>
          <p:sp>
            <p:nvSpPr>
              <p:cNvPr id="1963" name=""/>
              <p:cNvSpPr/>
              <p:nvPr/>
            </p:nvSpPr>
            <p:spPr>
              <a:xfrm>
                <a:off x="274680" y="5516280"/>
                <a:ext cx="26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4" name=""/>
              <p:cNvGrpSpPr/>
              <p:nvPr/>
            </p:nvGrpSpPr>
            <p:grpSpPr>
              <a:xfrm>
                <a:off x="447480" y="5397480"/>
                <a:ext cx="236520" cy="199800"/>
                <a:chOff x="447480" y="5397480"/>
                <a:chExt cx="236520" cy="199800"/>
              </a:xfrm>
            </p:grpSpPr>
            <p:grpSp>
              <p:nvGrpSpPr>
                <p:cNvPr id="1965" name=""/>
                <p:cNvGrpSpPr/>
                <p:nvPr/>
              </p:nvGrpSpPr>
              <p:grpSpPr>
                <a:xfrm>
                  <a:off x="447480" y="5432400"/>
                  <a:ext cx="236520" cy="164880"/>
                  <a:chOff x="447480" y="5432400"/>
                  <a:chExt cx="236520" cy="164880"/>
                </a:xfrm>
              </p:grpSpPr>
              <p:sp>
                <p:nvSpPr>
                  <p:cNvPr id="1966" name=""/>
                  <p:cNvSpPr/>
                  <p:nvPr/>
                </p:nvSpPr>
                <p:spPr>
                  <a:xfrm>
                    <a:off x="447480" y="543708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447480" y="5443200"/>
                    <a:ext cx="50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flipV="1">
                    <a:off x="453960" y="5432400"/>
                    <a:ext cx="23004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65120" y="5460840"/>
                    <a:ext cx="218880" cy="136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0" name=""/>
                <p:cNvGrpSpPr/>
                <p:nvPr/>
              </p:nvGrpSpPr>
              <p:grpSpPr>
                <a:xfrm>
                  <a:off x="522000" y="5397480"/>
                  <a:ext cx="85680" cy="27000"/>
                  <a:chOff x="522000" y="5397480"/>
                  <a:chExt cx="85680" cy="2700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>
                    <a:off x="522000" y="5397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579240" y="5397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3" name=""/>
              <p:cNvSpPr/>
              <p:nvPr/>
            </p:nvSpPr>
            <p:spPr>
              <a:xfrm>
                <a:off x="759240" y="5465520"/>
                <a:ext cx="141984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avy Machine Gun  GE-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274680" y="5618160"/>
              <a:ext cx="1982880" cy="206280"/>
              <a:chOff x="274680" y="5618160"/>
              <a:chExt cx="1982880" cy="206280"/>
            </a:xfrm>
          </p:grpSpPr>
          <p:sp>
            <p:nvSpPr>
              <p:cNvPr id="1975" name=""/>
              <p:cNvSpPr/>
              <p:nvPr/>
            </p:nvSpPr>
            <p:spPr>
              <a:xfrm>
                <a:off x="274680" y="5730840"/>
                <a:ext cx="26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6" name=""/>
              <p:cNvGrpSpPr/>
              <p:nvPr/>
            </p:nvGrpSpPr>
            <p:grpSpPr>
              <a:xfrm>
                <a:off x="447480" y="5618160"/>
                <a:ext cx="239760" cy="206280"/>
                <a:chOff x="447480" y="5618160"/>
                <a:chExt cx="239760" cy="206280"/>
              </a:xfrm>
            </p:grpSpPr>
            <p:grpSp>
              <p:nvGrpSpPr>
                <p:cNvPr id="1977" name=""/>
                <p:cNvGrpSpPr/>
                <p:nvPr/>
              </p:nvGrpSpPr>
              <p:grpSpPr>
                <a:xfrm>
                  <a:off x="447480" y="5667120"/>
                  <a:ext cx="239760" cy="157320"/>
                  <a:chOff x="447480" y="5667120"/>
                  <a:chExt cx="239760" cy="15732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>
                    <a:off x="447480" y="566712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V="1">
                    <a:off x="531720" y="5783040"/>
                    <a:ext cx="6336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563400" y="5698800"/>
                    <a:ext cx="0" cy="842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1" name=""/>
                <p:cNvGrpSpPr/>
                <p:nvPr/>
              </p:nvGrpSpPr>
              <p:grpSpPr>
                <a:xfrm>
                  <a:off x="523800" y="5618160"/>
                  <a:ext cx="85680" cy="27000"/>
                  <a:chOff x="523800" y="5618160"/>
                  <a:chExt cx="85680" cy="270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523800" y="5618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581040" y="5618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84" name=""/>
              <p:cNvSpPr/>
              <p:nvPr/>
            </p:nvSpPr>
            <p:spPr>
              <a:xfrm>
                <a:off x="755640" y="5700600"/>
                <a:ext cx="15019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5cm Mortar                GE-10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5" name=""/>
            <p:cNvGrpSpPr/>
            <p:nvPr/>
          </p:nvGrpSpPr>
          <p:grpSpPr>
            <a:xfrm>
              <a:off x="268200" y="5869080"/>
              <a:ext cx="1953000" cy="510480"/>
              <a:chOff x="268200" y="5869080"/>
              <a:chExt cx="1953000" cy="510480"/>
            </a:xfrm>
          </p:grpSpPr>
          <p:sp>
            <p:nvSpPr>
              <p:cNvPr id="1986" name=""/>
              <p:cNvSpPr/>
              <p:nvPr/>
            </p:nvSpPr>
            <p:spPr>
              <a:xfrm>
                <a:off x="268200" y="59896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58880" y="6115320"/>
                <a:ext cx="436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47480" y="5869080"/>
                <a:ext cx="231840" cy="199800"/>
                <a:chOff x="447480" y="5869080"/>
                <a:chExt cx="231840" cy="199800"/>
              </a:xfrm>
            </p:grpSpPr>
            <p:grpSp>
              <p:nvGrpSpPr>
                <p:cNvPr id="1989" name=""/>
                <p:cNvGrpSpPr/>
                <p:nvPr/>
              </p:nvGrpSpPr>
              <p:grpSpPr>
                <a:xfrm>
                  <a:off x="447480" y="5911920"/>
                  <a:ext cx="231840" cy="156960"/>
                  <a:chOff x="447480" y="5911920"/>
                  <a:chExt cx="231840" cy="15696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447480" y="591192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V="1">
                    <a:off x="565200" y="5914800"/>
                    <a:ext cx="114120" cy="152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47480" y="5911920"/>
                    <a:ext cx="11448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520560" y="5869080"/>
                  <a:ext cx="85680" cy="27000"/>
                  <a:chOff x="520560" y="5869080"/>
                  <a:chExt cx="85680" cy="270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520560" y="5869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577800" y="5869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6" name=""/>
              <p:cNvGrpSpPr/>
              <p:nvPr/>
            </p:nvGrpSpPr>
            <p:grpSpPr>
              <a:xfrm>
                <a:off x="447480" y="6150240"/>
                <a:ext cx="231840" cy="229320"/>
                <a:chOff x="447480" y="6150240"/>
                <a:chExt cx="231840" cy="229320"/>
              </a:xfrm>
            </p:grpSpPr>
            <p:grpSp>
              <p:nvGrpSpPr>
                <p:cNvPr id="1997" name=""/>
                <p:cNvGrpSpPr/>
                <p:nvPr/>
              </p:nvGrpSpPr>
              <p:grpSpPr>
                <a:xfrm>
                  <a:off x="447480" y="6189840"/>
                  <a:ext cx="231840" cy="189720"/>
                  <a:chOff x="447480" y="6189840"/>
                  <a:chExt cx="231840" cy="189720"/>
                </a:xfrm>
              </p:grpSpPr>
              <p:sp>
                <p:nvSpPr>
                  <p:cNvPr id="1998" name=""/>
                  <p:cNvSpPr/>
                  <p:nvPr/>
                </p:nvSpPr>
                <p:spPr>
                  <a:xfrm>
                    <a:off x="447480" y="6189840"/>
                    <a:ext cx="23184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457920" y="635220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639720" y="635220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"/>
                <p:cNvGrpSpPr/>
                <p:nvPr/>
              </p:nvGrpSpPr>
              <p:grpSpPr>
                <a:xfrm>
                  <a:off x="520560" y="6150240"/>
                  <a:ext cx="85680" cy="26640"/>
                  <a:chOff x="520560" y="6150240"/>
                  <a:chExt cx="85680" cy="2664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520560" y="6150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577800" y="6150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04" name=""/>
              <p:cNvSpPr/>
              <p:nvPr/>
            </p:nvSpPr>
            <p:spPr>
              <a:xfrm>
                <a:off x="758880" y="5951880"/>
                <a:ext cx="14623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zb 38/39 AT Rifle    GE-1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56000" y="6250320"/>
                <a:ext cx="14317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  GE-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6" name=""/>
            <p:cNvSpPr/>
            <p:nvPr/>
          </p:nvSpPr>
          <p:spPr>
            <a:xfrm>
              <a:off x="274680" y="4427640"/>
              <a:ext cx="0" cy="156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67160" y="5591160"/>
              <a:ext cx="947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8" name=""/>
          <p:cNvGrpSpPr/>
          <p:nvPr/>
        </p:nvGrpSpPr>
        <p:grpSpPr>
          <a:xfrm>
            <a:off x="5473800" y="3741840"/>
            <a:ext cx="231840" cy="156960"/>
            <a:chOff x="5473800" y="3741840"/>
            <a:chExt cx="231840" cy="156960"/>
          </a:xfrm>
        </p:grpSpPr>
        <p:sp>
          <p:nvSpPr>
            <p:cNvPr id="2009" name=""/>
            <p:cNvSpPr/>
            <p:nvPr/>
          </p:nvSpPr>
          <p:spPr>
            <a:xfrm>
              <a:off x="5473800" y="374184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V="1">
              <a:off x="5473800" y="3743280"/>
              <a:ext cx="22716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610600" y="3854160"/>
              <a:ext cx="2700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654880" y="3854160"/>
              <a:ext cx="2700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3" name=""/>
          <p:cNvSpPr/>
          <p:nvPr/>
        </p:nvSpPr>
        <p:spPr>
          <a:xfrm>
            <a:off x="2827440" y="2217600"/>
            <a:ext cx="18968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May replace up to 6 with LMG GE-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2179800" y="-360"/>
            <a:ext cx="48304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41Motorized Rifle Division Maneuve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49360" y="1706400"/>
            <a:ext cx="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20760" y="170496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500040" y="1576440"/>
            <a:ext cx="231840" cy="203040"/>
            <a:chOff x="500040" y="1576440"/>
            <a:chExt cx="231840" cy="203040"/>
          </a:xfrm>
        </p:grpSpPr>
        <p:grpSp>
          <p:nvGrpSpPr>
            <p:cNvPr id="2018" name=""/>
            <p:cNvGrpSpPr/>
            <p:nvPr/>
          </p:nvGrpSpPr>
          <p:grpSpPr>
            <a:xfrm>
              <a:off x="500040" y="1622520"/>
              <a:ext cx="231840" cy="156960"/>
              <a:chOff x="500040" y="1622520"/>
              <a:chExt cx="231840" cy="156960"/>
            </a:xfrm>
          </p:grpSpPr>
          <p:sp>
            <p:nvSpPr>
              <p:cNvPr id="2019" name=""/>
              <p:cNvSpPr/>
              <p:nvPr/>
            </p:nvSpPr>
            <p:spPr>
              <a:xfrm>
                <a:off x="500040" y="16225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01840" y="1625400"/>
                <a:ext cx="2268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00040" y="1625760"/>
                <a:ext cx="230400" cy="14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573120" y="1576440"/>
              <a:ext cx="85680" cy="27000"/>
              <a:chOff x="573120" y="1576440"/>
              <a:chExt cx="85680" cy="27000"/>
            </a:xfrm>
          </p:grpSpPr>
          <p:sp>
            <p:nvSpPr>
              <p:cNvPr id="2023" name=""/>
              <p:cNvSpPr/>
              <p:nvPr/>
            </p:nvSpPr>
            <p:spPr>
              <a:xfrm>
                <a:off x="573120" y="1576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30360" y="1576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5" name=""/>
          <p:cNvGrpSpPr/>
          <p:nvPr/>
        </p:nvGrpSpPr>
        <p:grpSpPr>
          <a:xfrm>
            <a:off x="177840" y="655560"/>
            <a:ext cx="284040" cy="290520"/>
            <a:chOff x="177840" y="655560"/>
            <a:chExt cx="284040" cy="290520"/>
          </a:xfrm>
        </p:grpSpPr>
        <p:sp>
          <p:nvSpPr>
            <p:cNvPr id="2026" name=""/>
            <p:cNvSpPr/>
            <p:nvPr/>
          </p:nvSpPr>
          <p:spPr>
            <a:xfrm>
              <a:off x="320400" y="655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77840" y="712440"/>
              <a:ext cx="28404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180720" y="715320"/>
              <a:ext cx="275760" cy="18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77840" y="715680"/>
              <a:ext cx="282240" cy="18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0" name=""/>
            <p:cNvGrpSpPr/>
            <p:nvPr/>
          </p:nvGrpSpPr>
          <p:grpSpPr>
            <a:xfrm>
              <a:off x="203040" y="919080"/>
              <a:ext cx="232560" cy="27000"/>
              <a:chOff x="203040" y="919080"/>
              <a:chExt cx="232560" cy="27000"/>
            </a:xfrm>
          </p:grpSpPr>
          <p:sp>
            <p:nvSpPr>
              <p:cNvPr id="2031" name=""/>
              <p:cNvSpPr/>
              <p:nvPr/>
            </p:nvSpPr>
            <p:spPr>
              <a:xfrm>
                <a:off x="203040" y="919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08960" y="919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3" name=""/>
          <p:cNvSpPr/>
          <p:nvPr/>
        </p:nvSpPr>
        <p:spPr>
          <a:xfrm>
            <a:off x="557280" y="712800"/>
            <a:ext cx="1944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euver Element GEBRB09   Motorized Infantry Compan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320760" y="976320"/>
            <a:ext cx="1890360" cy="267480"/>
            <a:chOff x="320760" y="976320"/>
            <a:chExt cx="1890360" cy="267480"/>
          </a:xfrm>
        </p:grpSpPr>
        <p:sp>
          <p:nvSpPr>
            <p:cNvPr id="2035" name=""/>
            <p:cNvSpPr/>
            <p:nvPr/>
          </p:nvSpPr>
          <p:spPr>
            <a:xfrm>
              <a:off x="320760" y="1155600"/>
              <a:ext cx="25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499680" y="1037880"/>
              <a:ext cx="233280" cy="205920"/>
              <a:chOff x="499680" y="1037880"/>
              <a:chExt cx="233280" cy="20592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499680" y="1086840"/>
                <a:ext cx="233280" cy="156960"/>
                <a:chOff x="499680" y="1086840"/>
                <a:chExt cx="233280" cy="15696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501120" y="10868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9680" y="1091520"/>
                  <a:ext cx="21888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0" name=""/>
              <p:cNvSpPr/>
              <p:nvPr/>
            </p:nvSpPr>
            <p:spPr>
              <a:xfrm>
                <a:off x="603000" y="1037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810720" y="976320"/>
              <a:ext cx="470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09640" y="1106280"/>
              <a:ext cx="14014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3" name=""/>
          <p:cNvGrpSpPr/>
          <p:nvPr/>
        </p:nvGrpSpPr>
        <p:grpSpPr>
          <a:xfrm>
            <a:off x="500040" y="1193760"/>
            <a:ext cx="1712880" cy="339120"/>
            <a:chOff x="500040" y="1193760"/>
            <a:chExt cx="1712880" cy="339120"/>
          </a:xfrm>
        </p:grpSpPr>
        <p:sp>
          <p:nvSpPr>
            <p:cNvPr id="2044" name=""/>
            <p:cNvSpPr/>
            <p:nvPr/>
          </p:nvSpPr>
          <p:spPr>
            <a:xfrm>
              <a:off x="540000" y="1193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500040" y="1304640"/>
              <a:ext cx="231840" cy="228240"/>
              <a:chOff x="500040" y="1304640"/>
              <a:chExt cx="231840" cy="228240"/>
            </a:xfrm>
          </p:grpSpPr>
          <p:grpSp>
            <p:nvGrpSpPr>
              <p:cNvPr id="2046" name=""/>
              <p:cNvGrpSpPr/>
              <p:nvPr/>
            </p:nvGrpSpPr>
            <p:grpSpPr>
              <a:xfrm>
                <a:off x="500040" y="1342800"/>
                <a:ext cx="231840" cy="190080"/>
                <a:chOff x="500040" y="1342800"/>
                <a:chExt cx="231840" cy="1900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00040" y="13428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0480" y="150552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92280" y="150552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0" name=""/>
              <p:cNvSpPr/>
              <p:nvPr/>
            </p:nvSpPr>
            <p:spPr>
              <a:xfrm>
                <a:off x="601560" y="1304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811440" y="1252440"/>
              <a:ext cx="436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11440" y="1387440"/>
              <a:ext cx="14014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übelwagen              GE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"/>
          <p:cNvSpPr/>
          <p:nvPr/>
        </p:nvSpPr>
        <p:spPr>
          <a:xfrm>
            <a:off x="807840" y="1650960"/>
            <a:ext cx="1415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ry                      GE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326880" y="2050920"/>
            <a:ext cx="1904400" cy="199800"/>
            <a:chOff x="326880" y="2050920"/>
            <a:chExt cx="1904400" cy="199800"/>
          </a:xfrm>
        </p:grpSpPr>
        <p:sp>
          <p:nvSpPr>
            <p:cNvPr id="2055" name=""/>
            <p:cNvSpPr/>
            <p:nvPr/>
          </p:nvSpPr>
          <p:spPr>
            <a:xfrm>
              <a:off x="326880" y="2169720"/>
              <a:ext cx="2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6" name=""/>
            <p:cNvGrpSpPr/>
            <p:nvPr/>
          </p:nvGrpSpPr>
          <p:grpSpPr>
            <a:xfrm>
              <a:off x="499680" y="2050920"/>
              <a:ext cx="236520" cy="199800"/>
              <a:chOff x="499680" y="2050920"/>
              <a:chExt cx="236520" cy="199800"/>
            </a:xfrm>
          </p:grpSpPr>
          <p:grpSp>
            <p:nvGrpSpPr>
              <p:cNvPr id="2057" name=""/>
              <p:cNvGrpSpPr/>
              <p:nvPr/>
            </p:nvGrpSpPr>
            <p:grpSpPr>
              <a:xfrm>
                <a:off x="499680" y="2085840"/>
                <a:ext cx="236520" cy="164880"/>
                <a:chOff x="499680" y="2085840"/>
                <a:chExt cx="236520" cy="16488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499680" y="2090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9680" y="20966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506160" y="208584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517320" y="211428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2" name=""/>
              <p:cNvGrpSpPr/>
              <p:nvPr/>
            </p:nvGrpSpPr>
            <p:grpSpPr>
              <a:xfrm>
                <a:off x="574200" y="2050920"/>
                <a:ext cx="85680" cy="27000"/>
                <a:chOff x="574200" y="2050920"/>
                <a:chExt cx="85680" cy="27000"/>
              </a:xfrm>
            </p:grpSpPr>
            <p:sp>
              <p:nvSpPr>
                <p:cNvPr id="2063" name=""/>
                <p:cNvSpPr/>
                <p:nvPr/>
              </p:nvSpPr>
              <p:spPr>
                <a:xfrm>
                  <a:off x="574200" y="2050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631440" y="2050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5" name=""/>
            <p:cNvSpPr/>
            <p:nvPr/>
          </p:nvSpPr>
          <p:spPr>
            <a:xfrm>
              <a:off x="811440" y="2118960"/>
              <a:ext cx="14198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vy Machine Gun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326880" y="2271600"/>
            <a:ext cx="1982880" cy="206280"/>
            <a:chOff x="326880" y="2271600"/>
            <a:chExt cx="1982880" cy="206280"/>
          </a:xfrm>
        </p:grpSpPr>
        <p:sp>
          <p:nvSpPr>
            <p:cNvPr id="2067" name=""/>
            <p:cNvSpPr/>
            <p:nvPr/>
          </p:nvSpPr>
          <p:spPr>
            <a:xfrm>
              <a:off x="326880" y="238464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499680" y="2271600"/>
              <a:ext cx="239760" cy="206280"/>
              <a:chOff x="499680" y="2271600"/>
              <a:chExt cx="239760" cy="206280"/>
            </a:xfrm>
          </p:grpSpPr>
          <p:grpSp>
            <p:nvGrpSpPr>
              <p:cNvPr id="2069" name=""/>
              <p:cNvGrpSpPr/>
              <p:nvPr/>
            </p:nvGrpSpPr>
            <p:grpSpPr>
              <a:xfrm>
                <a:off x="499680" y="2320560"/>
                <a:ext cx="239760" cy="157320"/>
                <a:chOff x="499680" y="2320560"/>
                <a:chExt cx="239760" cy="157320"/>
              </a:xfrm>
            </p:grpSpPr>
            <p:sp>
              <p:nvSpPr>
                <p:cNvPr id="2070" name=""/>
                <p:cNvSpPr/>
                <p:nvPr/>
              </p:nvSpPr>
              <p:spPr>
                <a:xfrm>
                  <a:off x="499680" y="232056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83920" y="243648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615600" y="235224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576000" y="2271600"/>
                <a:ext cx="85680" cy="27000"/>
                <a:chOff x="576000" y="2271600"/>
                <a:chExt cx="85680" cy="2700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576000" y="2271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633240" y="2271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6" name=""/>
            <p:cNvSpPr/>
            <p:nvPr/>
          </p:nvSpPr>
          <p:spPr>
            <a:xfrm>
              <a:off x="807840" y="2354400"/>
              <a:ext cx="15019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cm Mortar                GE-10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11080" y="250668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500040" y="2541600"/>
            <a:ext cx="231840" cy="229320"/>
            <a:chOff x="500040" y="2541600"/>
            <a:chExt cx="231840" cy="229320"/>
          </a:xfrm>
        </p:grpSpPr>
        <p:grpSp>
          <p:nvGrpSpPr>
            <p:cNvPr id="2079" name=""/>
            <p:cNvGrpSpPr/>
            <p:nvPr/>
          </p:nvGrpSpPr>
          <p:grpSpPr>
            <a:xfrm>
              <a:off x="500040" y="2581200"/>
              <a:ext cx="231840" cy="189720"/>
              <a:chOff x="500040" y="2581200"/>
              <a:chExt cx="231840" cy="189720"/>
            </a:xfrm>
          </p:grpSpPr>
          <p:sp>
            <p:nvSpPr>
              <p:cNvPr id="2080" name=""/>
              <p:cNvSpPr/>
              <p:nvPr/>
            </p:nvSpPr>
            <p:spPr>
              <a:xfrm>
                <a:off x="500040" y="2581200"/>
                <a:ext cx="231840" cy="156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10480" y="274356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2280" y="274356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573120" y="2541600"/>
              <a:ext cx="85680" cy="26640"/>
              <a:chOff x="573120" y="2541600"/>
              <a:chExt cx="85680" cy="26640"/>
            </a:xfrm>
          </p:grpSpPr>
          <p:sp>
            <p:nvSpPr>
              <p:cNvPr id="2084" name=""/>
              <p:cNvSpPr/>
              <p:nvPr/>
            </p:nvSpPr>
            <p:spPr>
              <a:xfrm>
                <a:off x="573120" y="25416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30360" y="25416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6" name=""/>
          <p:cNvSpPr/>
          <p:nvPr/>
        </p:nvSpPr>
        <p:spPr>
          <a:xfrm>
            <a:off x="808200" y="2641680"/>
            <a:ext cx="1431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Truck            GE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26880" y="811080"/>
            <a:ext cx="0" cy="157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965320" y="655560"/>
            <a:ext cx="1944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euver Element GEBRB11  Armored Car Compan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 Rec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28800" y="109872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019320" y="957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232080" y="919080"/>
            <a:ext cx="470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219840" y="1049400"/>
            <a:ext cx="14119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dKfz 263 [8 Rad]     GE-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735280" y="817560"/>
            <a:ext cx="0" cy="10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2917800" y="992160"/>
            <a:ext cx="231840" cy="190080"/>
            <a:chOff x="2917800" y="992160"/>
            <a:chExt cx="231840" cy="190080"/>
          </a:xfrm>
        </p:grpSpPr>
        <p:sp>
          <p:nvSpPr>
            <p:cNvPr id="2095" name=""/>
            <p:cNvSpPr/>
            <p:nvPr/>
          </p:nvSpPr>
          <p:spPr>
            <a:xfrm>
              <a:off x="2917800" y="99216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928240" y="115488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110400" y="115488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950920" y="1033560"/>
              <a:ext cx="1616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919960" y="992160"/>
              <a:ext cx="2282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2590920" y="598320"/>
            <a:ext cx="284040" cy="291600"/>
            <a:chOff x="2590920" y="598320"/>
            <a:chExt cx="284040" cy="291600"/>
          </a:xfrm>
        </p:grpSpPr>
        <p:sp>
          <p:nvSpPr>
            <p:cNvPr id="2101" name=""/>
            <p:cNvSpPr/>
            <p:nvPr/>
          </p:nvSpPr>
          <p:spPr>
            <a:xfrm>
              <a:off x="2736720" y="59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2590920" y="656640"/>
              <a:ext cx="284040" cy="233280"/>
              <a:chOff x="2590920" y="656640"/>
              <a:chExt cx="284040" cy="233280"/>
            </a:xfrm>
          </p:grpSpPr>
          <p:sp>
            <p:nvSpPr>
              <p:cNvPr id="2103" name=""/>
              <p:cNvSpPr/>
              <p:nvPr/>
            </p:nvSpPr>
            <p:spPr>
              <a:xfrm>
                <a:off x="2590920" y="657000"/>
                <a:ext cx="284040" cy="192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603880" y="856440"/>
                <a:ext cx="3312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27080" y="856440"/>
                <a:ext cx="3312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631600" y="707760"/>
                <a:ext cx="198000" cy="9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2593800" y="656640"/>
                <a:ext cx="279720" cy="18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8" name=""/>
          <p:cNvGrpSpPr/>
          <p:nvPr/>
        </p:nvGrpSpPr>
        <p:grpSpPr>
          <a:xfrm>
            <a:off x="2735280" y="1227240"/>
            <a:ext cx="1894680" cy="225000"/>
            <a:chOff x="2735280" y="1227240"/>
            <a:chExt cx="1894680" cy="225000"/>
          </a:xfrm>
        </p:grpSpPr>
        <p:sp>
          <p:nvSpPr>
            <p:cNvPr id="2109" name=""/>
            <p:cNvSpPr/>
            <p:nvPr/>
          </p:nvSpPr>
          <p:spPr>
            <a:xfrm>
              <a:off x="2735280" y="134460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218040" y="1287360"/>
              <a:ext cx="14119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231 [8 Rad]     GE-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2924280" y="1227240"/>
              <a:ext cx="231480" cy="225000"/>
              <a:chOff x="2924280" y="1227240"/>
              <a:chExt cx="231480" cy="225000"/>
            </a:xfrm>
          </p:grpSpPr>
          <p:grpSp>
            <p:nvGrpSpPr>
              <p:cNvPr id="2112" name=""/>
              <p:cNvGrpSpPr/>
              <p:nvPr/>
            </p:nvGrpSpPr>
            <p:grpSpPr>
              <a:xfrm>
                <a:off x="2924280" y="1262160"/>
                <a:ext cx="231480" cy="190080"/>
                <a:chOff x="2924280" y="1262160"/>
                <a:chExt cx="231480" cy="19008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2924280" y="126216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934720" y="14248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3116520" y="14248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957400" y="130356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2926440" y="126216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8" name=""/>
              <p:cNvGrpSpPr/>
              <p:nvPr/>
            </p:nvGrpSpPr>
            <p:grpSpPr>
              <a:xfrm>
                <a:off x="2992320" y="1227240"/>
                <a:ext cx="85680" cy="27000"/>
                <a:chOff x="2992320" y="1227240"/>
                <a:chExt cx="85680" cy="2700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2992320" y="1227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049560" y="1227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21" name=""/>
          <p:cNvGrpSpPr/>
          <p:nvPr/>
        </p:nvGrpSpPr>
        <p:grpSpPr>
          <a:xfrm>
            <a:off x="2735280" y="1477800"/>
            <a:ext cx="1910520" cy="225000"/>
            <a:chOff x="2735280" y="1477800"/>
            <a:chExt cx="1910520" cy="225000"/>
          </a:xfrm>
        </p:grpSpPr>
        <p:sp>
          <p:nvSpPr>
            <p:cNvPr id="2122" name=""/>
            <p:cNvSpPr/>
            <p:nvPr/>
          </p:nvSpPr>
          <p:spPr>
            <a:xfrm>
              <a:off x="2735280" y="15951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215520" y="1537920"/>
              <a:ext cx="14302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21                  GE-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2924280" y="1477800"/>
              <a:ext cx="231480" cy="225000"/>
              <a:chOff x="2924280" y="1477800"/>
              <a:chExt cx="231480" cy="225000"/>
            </a:xfrm>
          </p:grpSpPr>
          <p:grpSp>
            <p:nvGrpSpPr>
              <p:cNvPr id="2125" name=""/>
              <p:cNvGrpSpPr/>
              <p:nvPr/>
            </p:nvGrpSpPr>
            <p:grpSpPr>
              <a:xfrm>
                <a:off x="2924280" y="1512720"/>
                <a:ext cx="231480" cy="190080"/>
                <a:chOff x="2924280" y="1512720"/>
                <a:chExt cx="231480" cy="19008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2924280" y="151272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934720" y="16754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3116520" y="167544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957400" y="155412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V="1">
                  <a:off x="2926440" y="151272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1" name=""/>
              <p:cNvGrpSpPr/>
              <p:nvPr/>
            </p:nvGrpSpPr>
            <p:grpSpPr>
              <a:xfrm>
                <a:off x="2992320" y="1477800"/>
                <a:ext cx="85680" cy="27000"/>
                <a:chOff x="2992320" y="1477800"/>
                <a:chExt cx="85680" cy="27000"/>
              </a:xfrm>
            </p:grpSpPr>
            <p:sp>
              <p:nvSpPr>
                <p:cNvPr id="2132" name=""/>
                <p:cNvSpPr/>
                <p:nvPr/>
              </p:nvSpPr>
              <p:spPr>
                <a:xfrm>
                  <a:off x="2992320" y="1477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3049560" y="1477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34" name=""/>
          <p:cNvGrpSpPr/>
          <p:nvPr/>
        </p:nvGrpSpPr>
        <p:grpSpPr>
          <a:xfrm>
            <a:off x="2735280" y="1730520"/>
            <a:ext cx="1910520" cy="225000"/>
            <a:chOff x="2735280" y="1730520"/>
            <a:chExt cx="1910520" cy="225000"/>
          </a:xfrm>
        </p:grpSpPr>
        <p:sp>
          <p:nvSpPr>
            <p:cNvPr id="2135" name=""/>
            <p:cNvSpPr/>
            <p:nvPr/>
          </p:nvSpPr>
          <p:spPr>
            <a:xfrm>
              <a:off x="2735280" y="184788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215520" y="1790640"/>
              <a:ext cx="14302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dKfz 222                  GE-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7" name=""/>
            <p:cNvGrpSpPr/>
            <p:nvPr/>
          </p:nvGrpSpPr>
          <p:grpSpPr>
            <a:xfrm>
              <a:off x="2924280" y="1730520"/>
              <a:ext cx="231480" cy="225000"/>
              <a:chOff x="2924280" y="1730520"/>
              <a:chExt cx="231480" cy="225000"/>
            </a:xfrm>
          </p:grpSpPr>
          <p:grpSp>
            <p:nvGrpSpPr>
              <p:cNvPr id="2138" name=""/>
              <p:cNvGrpSpPr/>
              <p:nvPr/>
            </p:nvGrpSpPr>
            <p:grpSpPr>
              <a:xfrm>
                <a:off x="2924280" y="1765440"/>
                <a:ext cx="231480" cy="190080"/>
                <a:chOff x="2924280" y="1765440"/>
                <a:chExt cx="231480" cy="19008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2924280" y="176544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934720" y="192816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520" y="192816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957400" y="1806840"/>
                  <a:ext cx="16128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2926440" y="1765440"/>
                  <a:ext cx="22788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4" name=""/>
              <p:cNvGrpSpPr/>
              <p:nvPr/>
            </p:nvGrpSpPr>
            <p:grpSpPr>
              <a:xfrm>
                <a:off x="2992320" y="1730520"/>
                <a:ext cx="85680" cy="27000"/>
                <a:chOff x="2992320" y="1730520"/>
                <a:chExt cx="85680" cy="27000"/>
              </a:xfrm>
            </p:grpSpPr>
            <p:sp>
              <p:nvSpPr>
                <p:cNvPr id="2145" name=""/>
                <p:cNvSpPr/>
                <p:nvPr/>
              </p:nvSpPr>
              <p:spPr>
                <a:xfrm>
                  <a:off x="2992320" y="1730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049560" y="1730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7" name=""/>
          <p:cNvSpPr/>
          <p:nvPr/>
        </p:nvSpPr>
        <p:spPr>
          <a:xfrm>
            <a:off x="519120" y="3852720"/>
            <a:ext cx="0" cy="69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90520" y="386856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469800" y="3740040"/>
            <a:ext cx="231840" cy="203040"/>
            <a:chOff x="469800" y="3740040"/>
            <a:chExt cx="231840" cy="203040"/>
          </a:xfrm>
        </p:grpSpPr>
        <p:grpSp>
          <p:nvGrpSpPr>
            <p:cNvPr id="2150" name=""/>
            <p:cNvGrpSpPr/>
            <p:nvPr/>
          </p:nvGrpSpPr>
          <p:grpSpPr>
            <a:xfrm>
              <a:off x="469800" y="3786120"/>
              <a:ext cx="231840" cy="156960"/>
              <a:chOff x="469800" y="3786120"/>
              <a:chExt cx="231840" cy="156960"/>
            </a:xfrm>
          </p:grpSpPr>
          <p:sp>
            <p:nvSpPr>
              <p:cNvPr id="2151" name=""/>
              <p:cNvSpPr/>
              <p:nvPr/>
            </p:nvSpPr>
            <p:spPr>
              <a:xfrm>
                <a:off x="469800" y="37861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471600" y="3789000"/>
                <a:ext cx="2268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69800" y="3789360"/>
                <a:ext cx="230400" cy="14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542880" y="3740040"/>
              <a:ext cx="85680" cy="27000"/>
              <a:chOff x="542880" y="3740040"/>
              <a:chExt cx="85680" cy="27000"/>
            </a:xfrm>
          </p:grpSpPr>
          <p:sp>
            <p:nvSpPr>
              <p:cNvPr id="2155" name=""/>
              <p:cNvSpPr/>
              <p:nvPr/>
            </p:nvSpPr>
            <p:spPr>
              <a:xfrm>
                <a:off x="542880" y="3740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0120" y="3740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7" name=""/>
          <p:cNvSpPr/>
          <p:nvPr/>
        </p:nvSpPr>
        <p:spPr>
          <a:xfrm flipV="1">
            <a:off x="190440" y="3180960"/>
            <a:ext cx="276120" cy="18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87200" y="3181320"/>
            <a:ext cx="282600" cy="184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27040" y="3178080"/>
            <a:ext cx="1944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euver Element GEBRB10 Motorcycle Compan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290520" y="3441600"/>
            <a:ext cx="1890720" cy="268200"/>
            <a:chOff x="290520" y="3441600"/>
            <a:chExt cx="1890720" cy="268200"/>
          </a:xfrm>
        </p:grpSpPr>
        <p:sp>
          <p:nvSpPr>
            <p:cNvPr id="2161" name=""/>
            <p:cNvSpPr/>
            <p:nvPr/>
          </p:nvSpPr>
          <p:spPr>
            <a:xfrm>
              <a:off x="290520" y="362124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469800" y="3503520"/>
              <a:ext cx="233280" cy="206280"/>
              <a:chOff x="469800" y="3503520"/>
              <a:chExt cx="233280" cy="206280"/>
            </a:xfrm>
          </p:grpSpPr>
          <p:grpSp>
            <p:nvGrpSpPr>
              <p:cNvPr id="2163" name=""/>
              <p:cNvGrpSpPr/>
              <p:nvPr/>
            </p:nvGrpSpPr>
            <p:grpSpPr>
              <a:xfrm>
                <a:off x="469800" y="3552840"/>
                <a:ext cx="233280" cy="156960"/>
                <a:chOff x="469800" y="3552840"/>
                <a:chExt cx="233280" cy="15696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471240" y="35528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69800" y="3557520"/>
                  <a:ext cx="21888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6" name=""/>
              <p:cNvSpPr/>
              <p:nvPr/>
            </p:nvSpPr>
            <p:spPr>
              <a:xfrm>
                <a:off x="573120" y="350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7" name=""/>
            <p:cNvSpPr/>
            <p:nvPr/>
          </p:nvSpPr>
          <p:spPr>
            <a:xfrm>
              <a:off x="781200" y="3441600"/>
              <a:ext cx="4701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9760" y="3571920"/>
              <a:ext cx="14014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778680" y="3814920"/>
            <a:ext cx="1422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r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GE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297000" y="3992400"/>
            <a:ext cx="1904400" cy="199800"/>
            <a:chOff x="297000" y="3992400"/>
            <a:chExt cx="1904400" cy="199800"/>
          </a:xfrm>
        </p:grpSpPr>
        <p:sp>
          <p:nvSpPr>
            <p:cNvPr id="2171" name=""/>
            <p:cNvSpPr/>
            <p:nvPr/>
          </p:nvSpPr>
          <p:spPr>
            <a:xfrm>
              <a:off x="297000" y="4111200"/>
              <a:ext cx="2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469800" y="3992400"/>
              <a:ext cx="236520" cy="199800"/>
              <a:chOff x="469800" y="3992400"/>
              <a:chExt cx="236520" cy="19980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469800" y="4027320"/>
                <a:ext cx="236520" cy="164880"/>
                <a:chOff x="469800" y="4027320"/>
                <a:chExt cx="236520" cy="16488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469800" y="40320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69800" y="403812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V="1">
                  <a:off x="476280" y="402732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87440" y="405576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544320" y="3992400"/>
                <a:ext cx="85680" cy="27000"/>
                <a:chOff x="544320" y="3992400"/>
                <a:chExt cx="85680" cy="2700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544320" y="3992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01560" y="3992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1" name=""/>
            <p:cNvSpPr/>
            <p:nvPr/>
          </p:nvSpPr>
          <p:spPr>
            <a:xfrm>
              <a:off x="781560" y="4060440"/>
              <a:ext cx="14198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vy Machine Gun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297000" y="4213080"/>
            <a:ext cx="1982880" cy="206280"/>
            <a:chOff x="297000" y="4213080"/>
            <a:chExt cx="1982880" cy="206280"/>
          </a:xfrm>
        </p:grpSpPr>
        <p:sp>
          <p:nvSpPr>
            <p:cNvPr id="2183" name=""/>
            <p:cNvSpPr/>
            <p:nvPr/>
          </p:nvSpPr>
          <p:spPr>
            <a:xfrm>
              <a:off x="297000" y="432612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469800" y="4213080"/>
              <a:ext cx="239760" cy="206280"/>
              <a:chOff x="469800" y="4213080"/>
              <a:chExt cx="239760" cy="206280"/>
            </a:xfrm>
          </p:grpSpPr>
          <p:grpSp>
            <p:nvGrpSpPr>
              <p:cNvPr id="2185" name=""/>
              <p:cNvGrpSpPr/>
              <p:nvPr/>
            </p:nvGrpSpPr>
            <p:grpSpPr>
              <a:xfrm>
                <a:off x="469800" y="4262040"/>
                <a:ext cx="239760" cy="157320"/>
                <a:chOff x="469800" y="4262040"/>
                <a:chExt cx="239760" cy="157320"/>
              </a:xfrm>
            </p:grpSpPr>
            <p:sp>
              <p:nvSpPr>
                <p:cNvPr id="2186" name=""/>
                <p:cNvSpPr/>
                <p:nvPr/>
              </p:nvSpPr>
              <p:spPr>
                <a:xfrm>
                  <a:off x="469800" y="426204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V="1">
                  <a:off x="554040" y="437796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85720" y="429372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546120" y="4213080"/>
                <a:ext cx="85680" cy="27000"/>
                <a:chOff x="546120" y="4213080"/>
                <a:chExt cx="85680" cy="2700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546120" y="4213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603360" y="4213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2" name=""/>
            <p:cNvSpPr/>
            <p:nvPr/>
          </p:nvSpPr>
          <p:spPr>
            <a:xfrm>
              <a:off x="777960" y="4295880"/>
              <a:ext cx="15019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cm Mortar                GE-10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781200" y="4424400"/>
            <a:ext cx="43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78320" y="4559400"/>
            <a:ext cx="13935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orcycle              GE-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97000" y="3348000"/>
            <a:ext cx="0" cy="9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163440" y="3121200"/>
            <a:ext cx="283680" cy="254520"/>
            <a:chOff x="163440" y="3121200"/>
            <a:chExt cx="283680" cy="254520"/>
          </a:xfrm>
        </p:grpSpPr>
        <p:sp>
          <p:nvSpPr>
            <p:cNvPr id="2197" name=""/>
            <p:cNvSpPr/>
            <p:nvPr/>
          </p:nvSpPr>
          <p:spPr>
            <a:xfrm>
              <a:off x="306360" y="3121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163440" y="3182760"/>
              <a:ext cx="283680" cy="192960"/>
              <a:chOff x="163440" y="3182760"/>
              <a:chExt cx="283680" cy="192960"/>
            </a:xfrm>
          </p:grpSpPr>
          <p:sp>
            <p:nvSpPr>
              <p:cNvPr id="2199" name=""/>
              <p:cNvSpPr/>
              <p:nvPr/>
            </p:nvSpPr>
            <p:spPr>
              <a:xfrm>
                <a:off x="163440" y="3182760"/>
                <a:ext cx="283680" cy="19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163440" y="3184560"/>
                <a:ext cx="277920" cy="18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0840" y="3321000"/>
                <a:ext cx="32760" cy="3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85200" y="3321000"/>
                <a:ext cx="32760" cy="3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3" name=""/>
          <p:cNvGrpSpPr/>
          <p:nvPr/>
        </p:nvGrpSpPr>
        <p:grpSpPr>
          <a:xfrm>
            <a:off x="468360" y="4459320"/>
            <a:ext cx="231840" cy="193680"/>
            <a:chOff x="468360" y="4459320"/>
            <a:chExt cx="231840" cy="193680"/>
          </a:xfrm>
        </p:grpSpPr>
        <p:grpSp>
          <p:nvGrpSpPr>
            <p:cNvPr id="2204" name=""/>
            <p:cNvGrpSpPr/>
            <p:nvPr/>
          </p:nvGrpSpPr>
          <p:grpSpPr>
            <a:xfrm>
              <a:off x="542880" y="4459320"/>
              <a:ext cx="85680" cy="27000"/>
              <a:chOff x="542880" y="4459320"/>
              <a:chExt cx="85680" cy="27000"/>
            </a:xfrm>
          </p:grpSpPr>
          <p:sp>
            <p:nvSpPr>
              <p:cNvPr id="2205" name=""/>
              <p:cNvSpPr/>
              <p:nvPr/>
            </p:nvSpPr>
            <p:spPr>
              <a:xfrm>
                <a:off x="542880" y="4459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00120" y="4459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"/>
            <p:cNvGrpSpPr/>
            <p:nvPr/>
          </p:nvGrpSpPr>
          <p:grpSpPr>
            <a:xfrm>
              <a:off x="468360" y="4495680"/>
              <a:ext cx="231840" cy="157320"/>
              <a:chOff x="468360" y="4495680"/>
              <a:chExt cx="231840" cy="157320"/>
            </a:xfrm>
          </p:grpSpPr>
          <p:sp>
            <p:nvSpPr>
              <p:cNvPr id="2208" name=""/>
              <p:cNvSpPr/>
              <p:nvPr/>
            </p:nvSpPr>
            <p:spPr>
              <a:xfrm>
                <a:off x="468360" y="449568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468360" y="4497120"/>
                <a:ext cx="2271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05160" y="4608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9440" y="46083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2" name=""/>
          <p:cNvGrpSpPr/>
          <p:nvPr/>
        </p:nvGrpSpPr>
        <p:grpSpPr>
          <a:xfrm>
            <a:off x="328680" y="1814400"/>
            <a:ext cx="1865520" cy="199800"/>
            <a:chOff x="328680" y="1814400"/>
            <a:chExt cx="1865520" cy="199800"/>
          </a:xfrm>
        </p:grpSpPr>
        <p:sp>
          <p:nvSpPr>
            <p:cNvPr id="2213" name=""/>
            <p:cNvSpPr/>
            <p:nvPr/>
          </p:nvSpPr>
          <p:spPr>
            <a:xfrm>
              <a:off x="328680" y="1933200"/>
              <a:ext cx="2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4" name=""/>
            <p:cNvGrpSpPr/>
            <p:nvPr/>
          </p:nvGrpSpPr>
          <p:grpSpPr>
            <a:xfrm>
              <a:off x="501480" y="1814400"/>
              <a:ext cx="236520" cy="199800"/>
              <a:chOff x="501480" y="1814400"/>
              <a:chExt cx="236520" cy="19980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501480" y="1849320"/>
                <a:ext cx="236520" cy="164880"/>
                <a:chOff x="501480" y="1849320"/>
                <a:chExt cx="236520" cy="16488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501480" y="18540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01480" y="186012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V="1">
                  <a:off x="507960" y="184932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19120" y="187776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576000" y="1814400"/>
                <a:ext cx="85680" cy="27000"/>
                <a:chOff x="576000" y="1814400"/>
                <a:chExt cx="85680" cy="2700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576000" y="1814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33240" y="1814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3" name=""/>
            <p:cNvSpPr/>
            <p:nvPr/>
          </p:nvSpPr>
          <p:spPr>
            <a:xfrm>
              <a:off x="814320" y="1882440"/>
              <a:ext cx="13798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ght Machine Gun   GE-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820800" y="2236680"/>
            <a:ext cx="947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75080" y="4181400"/>
            <a:ext cx="9471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98360" y="4792680"/>
            <a:ext cx="24987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May replace up to 6 with LMG GE-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2072880" y="81000"/>
            <a:ext cx="398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Barbarossa Fir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190440" y="738360"/>
            <a:ext cx="2255760" cy="1758240"/>
            <a:chOff x="190440" y="738360"/>
            <a:chExt cx="2255760" cy="1758240"/>
          </a:xfrm>
        </p:grpSpPr>
        <p:sp>
          <p:nvSpPr>
            <p:cNvPr id="2229" name=""/>
            <p:cNvSpPr/>
            <p:nvPr/>
          </p:nvSpPr>
          <p:spPr>
            <a:xfrm>
              <a:off x="369720" y="95256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72960" y="129240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20640" y="800280"/>
              <a:ext cx="1739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re Support Element-GEBRB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ght Howitzer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22240" y="138420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ff-Board General Fire Suppo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22240" y="1743120"/>
              <a:ext cx="27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22240" y="153180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st Light Howitze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22240" y="1657440"/>
              <a:ext cx="152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05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72960" y="172080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22240" y="1244520"/>
              <a:ext cx="16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   GE-48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8" name=""/>
            <p:cNvGrpSpPr/>
            <p:nvPr/>
          </p:nvGrpSpPr>
          <p:grpSpPr>
            <a:xfrm>
              <a:off x="533520" y="1170000"/>
              <a:ext cx="231480" cy="205920"/>
              <a:chOff x="533520" y="1170000"/>
              <a:chExt cx="231480" cy="205920"/>
            </a:xfrm>
          </p:grpSpPr>
          <p:sp>
            <p:nvSpPr>
              <p:cNvPr id="2239" name=""/>
              <p:cNvSpPr/>
              <p:nvPr/>
            </p:nvSpPr>
            <p:spPr>
              <a:xfrm>
                <a:off x="631440" y="11700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"/>
              <p:cNvGrpSpPr/>
              <p:nvPr/>
            </p:nvGrpSpPr>
            <p:grpSpPr>
              <a:xfrm>
                <a:off x="533520" y="1218960"/>
                <a:ext cx="231480" cy="156960"/>
                <a:chOff x="533520" y="1218960"/>
                <a:chExt cx="231480" cy="156960"/>
              </a:xfrm>
            </p:grpSpPr>
            <p:sp>
              <p:nvSpPr>
                <p:cNvPr id="2241" name=""/>
                <p:cNvSpPr/>
                <p:nvPr/>
              </p:nvSpPr>
              <p:spPr>
                <a:xfrm>
                  <a:off x="533520" y="121896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615960" y="126972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3" name=""/>
            <p:cNvSpPr/>
            <p:nvPr/>
          </p:nvSpPr>
          <p:spPr>
            <a:xfrm>
              <a:off x="822240" y="1122480"/>
              <a:ext cx="152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4" name=""/>
            <p:cNvGrpSpPr/>
            <p:nvPr/>
          </p:nvGrpSpPr>
          <p:grpSpPr>
            <a:xfrm>
              <a:off x="520560" y="1601640"/>
              <a:ext cx="239760" cy="203400"/>
              <a:chOff x="520560" y="1601640"/>
              <a:chExt cx="239760" cy="203400"/>
            </a:xfrm>
          </p:grpSpPr>
          <p:grpSp>
            <p:nvGrpSpPr>
              <p:cNvPr id="2245" name=""/>
              <p:cNvGrpSpPr/>
              <p:nvPr/>
            </p:nvGrpSpPr>
            <p:grpSpPr>
              <a:xfrm>
                <a:off x="598320" y="1601640"/>
                <a:ext cx="85680" cy="27000"/>
                <a:chOff x="598320" y="1601640"/>
                <a:chExt cx="85680" cy="2700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598320" y="1601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655560" y="1601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8" name=""/>
              <p:cNvGrpSpPr/>
              <p:nvPr/>
            </p:nvGrpSpPr>
            <p:grpSpPr>
              <a:xfrm>
                <a:off x="520560" y="1647720"/>
                <a:ext cx="239760" cy="157320"/>
                <a:chOff x="520560" y="1647720"/>
                <a:chExt cx="239760" cy="15732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520560" y="164772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623880" y="170820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1" name=""/>
            <p:cNvGrpSpPr/>
            <p:nvPr/>
          </p:nvGrpSpPr>
          <p:grpSpPr>
            <a:xfrm>
              <a:off x="190440" y="738360"/>
              <a:ext cx="356760" cy="300600"/>
              <a:chOff x="190440" y="738360"/>
              <a:chExt cx="356760" cy="300600"/>
            </a:xfrm>
          </p:grpSpPr>
          <p:grpSp>
            <p:nvGrpSpPr>
              <p:cNvPr id="2252" name=""/>
              <p:cNvGrpSpPr/>
              <p:nvPr/>
            </p:nvGrpSpPr>
            <p:grpSpPr>
              <a:xfrm>
                <a:off x="330120" y="738360"/>
                <a:ext cx="75960" cy="63360"/>
                <a:chOff x="330120" y="738360"/>
                <a:chExt cx="75960" cy="63360"/>
              </a:xfrm>
            </p:grpSpPr>
            <p:sp>
              <p:nvSpPr>
                <p:cNvPr id="2253" name=""/>
                <p:cNvSpPr/>
                <p:nvPr/>
              </p:nvSpPr>
              <p:spPr>
                <a:xfrm>
                  <a:off x="330120" y="7383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406080" y="7383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5" name=""/>
              <p:cNvGrpSpPr/>
              <p:nvPr/>
            </p:nvGrpSpPr>
            <p:grpSpPr>
              <a:xfrm>
                <a:off x="190440" y="801720"/>
                <a:ext cx="356760" cy="237240"/>
                <a:chOff x="190440" y="801720"/>
                <a:chExt cx="356760" cy="2372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190440" y="801720"/>
                  <a:ext cx="356760" cy="237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344160" y="892800"/>
                  <a:ext cx="42120" cy="40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8" name=""/>
            <p:cNvSpPr/>
            <p:nvPr/>
          </p:nvSpPr>
          <p:spPr>
            <a:xfrm>
              <a:off x="824040" y="222408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rd Light Howitze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24040" y="234936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05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4760" y="241308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1" name=""/>
            <p:cNvGrpSpPr/>
            <p:nvPr/>
          </p:nvGrpSpPr>
          <p:grpSpPr>
            <a:xfrm>
              <a:off x="522360" y="2293920"/>
              <a:ext cx="239760" cy="202680"/>
              <a:chOff x="522360" y="2293920"/>
              <a:chExt cx="239760" cy="202680"/>
            </a:xfrm>
          </p:grpSpPr>
          <p:grpSp>
            <p:nvGrpSpPr>
              <p:cNvPr id="2262" name=""/>
              <p:cNvGrpSpPr/>
              <p:nvPr/>
            </p:nvGrpSpPr>
            <p:grpSpPr>
              <a:xfrm>
                <a:off x="600120" y="2293920"/>
                <a:ext cx="85680" cy="26640"/>
                <a:chOff x="600120" y="2293920"/>
                <a:chExt cx="85680" cy="2664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600120" y="22939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657360" y="22939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522360" y="2339640"/>
                <a:ext cx="239760" cy="156960"/>
                <a:chOff x="522360" y="2339640"/>
                <a:chExt cx="239760" cy="15696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522360" y="233964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625680" y="2399760"/>
                  <a:ext cx="28440" cy="2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8" name=""/>
            <p:cNvSpPr/>
            <p:nvPr/>
          </p:nvSpPr>
          <p:spPr>
            <a:xfrm>
              <a:off x="822240" y="2095560"/>
              <a:ext cx="27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22240" y="186840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nd Light Howitze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22240" y="1994040"/>
              <a:ext cx="152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05mm Field Guns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72960" y="205740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520560" y="1938240"/>
              <a:ext cx="239760" cy="203400"/>
              <a:chOff x="520560" y="1938240"/>
              <a:chExt cx="239760" cy="203400"/>
            </a:xfrm>
          </p:grpSpPr>
          <p:grpSp>
            <p:nvGrpSpPr>
              <p:cNvPr id="2273" name=""/>
              <p:cNvGrpSpPr/>
              <p:nvPr/>
            </p:nvGrpSpPr>
            <p:grpSpPr>
              <a:xfrm>
                <a:off x="598320" y="1938240"/>
                <a:ext cx="85680" cy="27000"/>
                <a:chOff x="598320" y="1938240"/>
                <a:chExt cx="85680" cy="2700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598320" y="1938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655560" y="1938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6" name=""/>
              <p:cNvGrpSpPr/>
              <p:nvPr/>
            </p:nvGrpSpPr>
            <p:grpSpPr>
              <a:xfrm>
                <a:off x="520560" y="1984320"/>
                <a:ext cx="239760" cy="157320"/>
                <a:chOff x="520560" y="1984320"/>
                <a:chExt cx="239760" cy="157320"/>
              </a:xfrm>
            </p:grpSpPr>
            <p:sp>
              <p:nvSpPr>
                <p:cNvPr id="2277" name=""/>
                <p:cNvSpPr/>
                <p:nvPr/>
              </p:nvSpPr>
              <p:spPr>
                <a:xfrm>
                  <a:off x="520560" y="198432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23880" y="204480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9" name=""/>
          <p:cNvGrpSpPr/>
          <p:nvPr/>
        </p:nvGrpSpPr>
        <p:grpSpPr>
          <a:xfrm>
            <a:off x="166680" y="2649600"/>
            <a:ext cx="2255760" cy="1758960"/>
            <a:chOff x="166680" y="2649600"/>
            <a:chExt cx="2255760" cy="1758960"/>
          </a:xfrm>
        </p:grpSpPr>
        <p:sp>
          <p:nvSpPr>
            <p:cNvPr id="2280" name=""/>
            <p:cNvSpPr/>
            <p:nvPr/>
          </p:nvSpPr>
          <p:spPr>
            <a:xfrm>
              <a:off x="345960" y="286380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49200" y="320364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6880" y="2711520"/>
              <a:ext cx="1739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re Support Element-GEBRB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vy Howitzer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98480" y="329580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ff-Board General Fire Suppo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98480" y="3654360"/>
              <a:ext cx="27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98480" y="344340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st Heavy Howitze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98480" y="356868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50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49200" y="36320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98480" y="3156120"/>
              <a:ext cx="16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   GE-48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9" name=""/>
            <p:cNvGrpSpPr/>
            <p:nvPr/>
          </p:nvGrpSpPr>
          <p:grpSpPr>
            <a:xfrm>
              <a:off x="509760" y="3081240"/>
              <a:ext cx="231480" cy="206280"/>
              <a:chOff x="509760" y="3081240"/>
              <a:chExt cx="231480" cy="206280"/>
            </a:xfrm>
          </p:grpSpPr>
          <p:sp>
            <p:nvSpPr>
              <p:cNvPr id="2290" name=""/>
              <p:cNvSpPr/>
              <p:nvPr/>
            </p:nvSpPr>
            <p:spPr>
              <a:xfrm>
                <a:off x="607680" y="3081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1" name=""/>
              <p:cNvGrpSpPr/>
              <p:nvPr/>
            </p:nvGrpSpPr>
            <p:grpSpPr>
              <a:xfrm>
                <a:off x="509760" y="3130560"/>
                <a:ext cx="231480" cy="156960"/>
                <a:chOff x="509760" y="3130560"/>
                <a:chExt cx="231480" cy="15696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509760" y="313056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92200" y="318132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4" name=""/>
            <p:cNvSpPr/>
            <p:nvPr/>
          </p:nvSpPr>
          <p:spPr>
            <a:xfrm>
              <a:off x="798480" y="303372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496800" y="3513240"/>
              <a:ext cx="239760" cy="202680"/>
              <a:chOff x="496800" y="3513240"/>
              <a:chExt cx="239760" cy="202680"/>
            </a:xfrm>
          </p:grpSpPr>
          <p:grpSp>
            <p:nvGrpSpPr>
              <p:cNvPr id="2296" name=""/>
              <p:cNvGrpSpPr/>
              <p:nvPr/>
            </p:nvGrpSpPr>
            <p:grpSpPr>
              <a:xfrm>
                <a:off x="574560" y="3513240"/>
                <a:ext cx="85680" cy="26640"/>
                <a:chOff x="574560" y="3513240"/>
                <a:chExt cx="85680" cy="26640"/>
              </a:xfrm>
            </p:grpSpPr>
            <p:sp>
              <p:nvSpPr>
                <p:cNvPr id="2297" name=""/>
                <p:cNvSpPr/>
                <p:nvPr/>
              </p:nvSpPr>
              <p:spPr>
                <a:xfrm>
                  <a:off x="574560" y="3513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31800" y="3513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9" name=""/>
              <p:cNvGrpSpPr/>
              <p:nvPr/>
            </p:nvGrpSpPr>
            <p:grpSpPr>
              <a:xfrm>
                <a:off x="496800" y="3558960"/>
                <a:ext cx="239760" cy="156960"/>
                <a:chOff x="496800" y="3558960"/>
                <a:chExt cx="239760" cy="15696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496800" y="355896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00120" y="3619080"/>
                  <a:ext cx="28440" cy="2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2" name=""/>
            <p:cNvGrpSpPr/>
            <p:nvPr/>
          </p:nvGrpSpPr>
          <p:grpSpPr>
            <a:xfrm>
              <a:off x="166680" y="2649600"/>
              <a:ext cx="356760" cy="301320"/>
              <a:chOff x="166680" y="2649600"/>
              <a:chExt cx="356760" cy="301320"/>
            </a:xfrm>
          </p:grpSpPr>
          <p:grpSp>
            <p:nvGrpSpPr>
              <p:cNvPr id="2303" name=""/>
              <p:cNvGrpSpPr/>
              <p:nvPr/>
            </p:nvGrpSpPr>
            <p:grpSpPr>
              <a:xfrm>
                <a:off x="306360" y="2649600"/>
                <a:ext cx="75960" cy="63360"/>
                <a:chOff x="306360" y="2649600"/>
                <a:chExt cx="75960" cy="6336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306360" y="26496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382320" y="26496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166680" y="2713320"/>
                <a:ext cx="356760" cy="237600"/>
                <a:chOff x="166680" y="2713320"/>
                <a:chExt cx="356760" cy="2376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166680" y="2713320"/>
                  <a:ext cx="356760" cy="237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320400" y="2804400"/>
                  <a:ext cx="42120" cy="40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9" name=""/>
            <p:cNvSpPr/>
            <p:nvPr/>
          </p:nvSpPr>
          <p:spPr>
            <a:xfrm>
              <a:off x="800280" y="413532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rd Heavy Howitze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0280" y="426096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50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51000" y="43243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498600" y="4205160"/>
              <a:ext cx="239760" cy="203400"/>
              <a:chOff x="498600" y="4205160"/>
              <a:chExt cx="239760" cy="203400"/>
            </a:xfrm>
          </p:grpSpPr>
          <p:grpSp>
            <p:nvGrpSpPr>
              <p:cNvPr id="2313" name=""/>
              <p:cNvGrpSpPr/>
              <p:nvPr/>
            </p:nvGrpSpPr>
            <p:grpSpPr>
              <a:xfrm>
                <a:off x="576360" y="4205160"/>
                <a:ext cx="85680" cy="27000"/>
                <a:chOff x="576360" y="4205160"/>
                <a:chExt cx="85680" cy="2700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576360" y="4205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633600" y="4205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6" name=""/>
              <p:cNvGrpSpPr/>
              <p:nvPr/>
            </p:nvGrpSpPr>
            <p:grpSpPr>
              <a:xfrm>
                <a:off x="498600" y="4251240"/>
                <a:ext cx="239760" cy="157320"/>
                <a:chOff x="498600" y="4251240"/>
                <a:chExt cx="239760" cy="15732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498600" y="425124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601920" y="431172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9" name=""/>
            <p:cNvSpPr/>
            <p:nvPr/>
          </p:nvSpPr>
          <p:spPr>
            <a:xfrm>
              <a:off x="798480" y="4006800"/>
              <a:ext cx="27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98480" y="378000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nd Heavy Howitze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98480" y="390528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50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9200" y="39686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3" name=""/>
            <p:cNvGrpSpPr/>
            <p:nvPr/>
          </p:nvGrpSpPr>
          <p:grpSpPr>
            <a:xfrm>
              <a:off x="496800" y="3849840"/>
              <a:ext cx="239760" cy="202680"/>
              <a:chOff x="496800" y="3849840"/>
              <a:chExt cx="239760" cy="202680"/>
            </a:xfrm>
          </p:grpSpPr>
          <p:grpSp>
            <p:nvGrpSpPr>
              <p:cNvPr id="2324" name=""/>
              <p:cNvGrpSpPr/>
              <p:nvPr/>
            </p:nvGrpSpPr>
            <p:grpSpPr>
              <a:xfrm>
                <a:off x="574560" y="3849840"/>
                <a:ext cx="85680" cy="26640"/>
                <a:chOff x="574560" y="3849840"/>
                <a:chExt cx="85680" cy="2664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574560" y="38498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631800" y="38498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7" name=""/>
              <p:cNvGrpSpPr/>
              <p:nvPr/>
            </p:nvGrpSpPr>
            <p:grpSpPr>
              <a:xfrm>
                <a:off x="496800" y="3895560"/>
                <a:ext cx="239760" cy="156960"/>
                <a:chOff x="496800" y="3895560"/>
                <a:chExt cx="239760" cy="156960"/>
              </a:xfrm>
            </p:grpSpPr>
            <p:sp>
              <p:nvSpPr>
                <p:cNvPr id="2328" name=""/>
                <p:cNvSpPr/>
                <p:nvPr/>
              </p:nvSpPr>
              <p:spPr>
                <a:xfrm>
                  <a:off x="496800" y="389556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600120" y="3955680"/>
                  <a:ext cx="28440" cy="2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30" name=""/>
          <p:cNvGrpSpPr/>
          <p:nvPr/>
        </p:nvGrpSpPr>
        <p:grpSpPr>
          <a:xfrm>
            <a:off x="2629080" y="712800"/>
            <a:ext cx="2255760" cy="1758240"/>
            <a:chOff x="2629080" y="712800"/>
            <a:chExt cx="2255760" cy="1758240"/>
          </a:xfrm>
        </p:grpSpPr>
        <p:sp>
          <p:nvSpPr>
            <p:cNvPr id="2331" name=""/>
            <p:cNvSpPr/>
            <p:nvPr/>
          </p:nvSpPr>
          <p:spPr>
            <a:xfrm>
              <a:off x="2808360" y="92700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11600" y="126684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059280" y="774720"/>
              <a:ext cx="1739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re Support Element-GEBRB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ixed Howitzer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260880" y="135864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ff-Board General Fire Suppo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260880" y="1717560"/>
              <a:ext cx="27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260880" y="150624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st Light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260880" y="1631880"/>
              <a:ext cx="152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05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811600" y="16952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260880" y="1218960"/>
              <a:ext cx="16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   GE-48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0" name=""/>
            <p:cNvGrpSpPr/>
            <p:nvPr/>
          </p:nvGrpSpPr>
          <p:grpSpPr>
            <a:xfrm>
              <a:off x="2972160" y="1144440"/>
              <a:ext cx="231480" cy="205920"/>
              <a:chOff x="2972160" y="1144440"/>
              <a:chExt cx="231480" cy="205920"/>
            </a:xfrm>
          </p:grpSpPr>
          <p:sp>
            <p:nvSpPr>
              <p:cNvPr id="2341" name=""/>
              <p:cNvSpPr/>
              <p:nvPr/>
            </p:nvSpPr>
            <p:spPr>
              <a:xfrm>
                <a:off x="3070080" y="11444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2" name=""/>
              <p:cNvGrpSpPr/>
              <p:nvPr/>
            </p:nvGrpSpPr>
            <p:grpSpPr>
              <a:xfrm>
                <a:off x="2972160" y="1193400"/>
                <a:ext cx="231480" cy="156960"/>
                <a:chOff x="2972160" y="1193400"/>
                <a:chExt cx="231480" cy="15696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2972160" y="119340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054600" y="124416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5" name=""/>
            <p:cNvSpPr/>
            <p:nvPr/>
          </p:nvSpPr>
          <p:spPr>
            <a:xfrm>
              <a:off x="3260880" y="1096920"/>
              <a:ext cx="152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2959200" y="1576080"/>
              <a:ext cx="239760" cy="203400"/>
              <a:chOff x="2959200" y="1576080"/>
              <a:chExt cx="239760" cy="203400"/>
            </a:xfrm>
          </p:grpSpPr>
          <p:grpSp>
            <p:nvGrpSpPr>
              <p:cNvPr id="2347" name=""/>
              <p:cNvGrpSpPr/>
              <p:nvPr/>
            </p:nvGrpSpPr>
            <p:grpSpPr>
              <a:xfrm>
                <a:off x="3036960" y="1576080"/>
                <a:ext cx="85680" cy="27000"/>
                <a:chOff x="3036960" y="1576080"/>
                <a:chExt cx="85680" cy="2700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3036960" y="1576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094200" y="1576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0" name=""/>
              <p:cNvGrpSpPr/>
              <p:nvPr/>
            </p:nvGrpSpPr>
            <p:grpSpPr>
              <a:xfrm>
                <a:off x="2959200" y="1622160"/>
                <a:ext cx="239760" cy="157320"/>
                <a:chOff x="2959200" y="1622160"/>
                <a:chExt cx="239760" cy="15732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2959200" y="162216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062520" y="168264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3" name=""/>
            <p:cNvGrpSpPr/>
            <p:nvPr/>
          </p:nvGrpSpPr>
          <p:grpSpPr>
            <a:xfrm>
              <a:off x="2629080" y="712800"/>
              <a:ext cx="356760" cy="300600"/>
              <a:chOff x="2629080" y="712800"/>
              <a:chExt cx="356760" cy="300600"/>
            </a:xfrm>
          </p:grpSpPr>
          <p:grpSp>
            <p:nvGrpSpPr>
              <p:cNvPr id="2354" name=""/>
              <p:cNvGrpSpPr/>
              <p:nvPr/>
            </p:nvGrpSpPr>
            <p:grpSpPr>
              <a:xfrm>
                <a:off x="2768760" y="712800"/>
                <a:ext cx="75960" cy="63360"/>
                <a:chOff x="2768760" y="712800"/>
                <a:chExt cx="75960" cy="63360"/>
              </a:xfrm>
            </p:grpSpPr>
            <p:sp>
              <p:nvSpPr>
                <p:cNvPr id="2355" name=""/>
                <p:cNvSpPr/>
                <p:nvPr/>
              </p:nvSpPr>
              <p:spPr>
                <a:xfrm>
                  <a:off x="2768760" y="7128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844720" y="7128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7" name=""/>
              <p:cNvGrpSpPr/>
              <p:nvPr/>
            </p:nvGrpSpPr>
            <p:grpSpPr>
              <a:xfrm>
                <a:off x="2629080" y="776160"/>
                <a:ext cx="356760" cy="237240"/>
                <a:chOff x="2629080" y="776160"/>
                <a:chExt cx="356760" cy="237240"/>
              </a:xfrm>
            </p:grpSpPr>
            <p:sp>
              <p:nvSpPr>
                <p:cNvPr id="2358" name=""/>
                <p:cNvSpPr/>
                <p:nvPr/>
              </p:nvSpPr>
              <p:spPr>
                <a:xfrm>
                  <a:off x="2629080" y="776160"/>
                  <a:ext cx="356760" cy="237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782800" y="867240"/>
                  <a:ext cx="42120" cy="40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0" name=""/>
            <p:cNvSpPr/>
            <p:nvPr/>
          </p:nvSpPr>
          <p:spPr>
            <a:xfrm>
              <a:off x="3262680" y="219852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rd Heavy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262680" y="232380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50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813400" y="23875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3" name=""/>
            <p:cNvGrpSpPr/>
            <p:nvPr/>
          </p:nvGrpSpPr>
          <p:grpSpPr>
            <a:xfrm>
              <a:off x="2961000" y="2268360"/>
              <a:ext cx="239760" cy="202680"/>
              <a:chOff x="2961000" y="2268360"/>
              <a:chExt cx="239760" cy="202680"/>
            </a:xfrm>
          </p:grpSpPr>
          <p:grpSp>
            <p:nvGrpSpPr>
              <p:cNvPr id="2364" name=""/>
              <p:cNvGrpSpPr/>
              <p:nvPr/>
            </p:nvGrpSpPr>
            <p:grpSpPr>
              <a:xfrm>
                <a:off x="3038760" y="2268360"/>
                <a:ext cx="85680" cy="26640"/>
                <a:chOff x="3038760" y="2268360"/>
                <a:chExt cx="85680" cy="2664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3038760" y="2268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096000" y="2268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2961000" y="2314080"/>
                <a:ext cx="239760" cy="156960"/>
                <a:chOff x="2961000" y="2314080"/>
                <a:chExt cx="239760" cy="15696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2961000" y="231408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64320" y="2374200"/>
                  <a:ext cx="28440" cy="2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0" name=""/>
            <p:cNvSpPr/>
            <p:nvPr/>
          </p:nvSpPr>
          <p:spPr>
            <a:xfrm>
              <a:off x="3260880" y="2070000"/>
              <a:ext cx="27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60880" y="1842840"/>
              <a:ext cx="161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nd Heavy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260880" y="1968480"/>
              <a:ext cx="152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50mm Field Gun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811600" y="20318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4" name=""/>
            <p:cNvGrpSpPr/>
            <p:nvPr/>
          </p:nvGrpSpPr>
          <p:grpSpPr>
            <a:xfrm>
              <a:off x="2959200" y="1912680"/>
              <a:ext cx="239760" cy="203400"/>
              <a:chOff x="2959200" y="1912680"/>
              <a:chExt cx="239760" cy="203400"/>
            </a:xfrm>
          </p:grpSpPr>
          <p:grpSp>
            <p:nvGrpSpPr>
              <p:cNvPr id="2375" name=""/>
              <p:cNvGrpSpPr/>
              <p:nvPr/>
            </p:nvGrpSpPr>
            <p:grpSpPr>
              <a:xfrm>
                <a:off x="3036960" y="1912680"/>
                <a:ext cx="85680" cy="27000"/>
                <a:chOff x="3036960" y="1912680"/>
                <a:chExt cx="85680" cy="27000"/>
              </a:xfrm>
            </p:grpSpPr>
            <p:sp>
              <p:nvSpPr>
                <p:cNvPr id="2376" name=""/>
                <p:cNvSpPr/>
                <p:nvPr/>
              </p:nvSpPr>
              <p:spPr>
                <a:xfrm>
                  <a:off x="3036960" y="1912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094200" y="1912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8" name=""/>
              <p:cNvGrpSpPr/>
              <p:nvPr/>
            </p:nvGrpSpPr>
            <p:grpSpPr>
              <a:xfrm>
                <a:off x="2959200" y="1958760"/>
                <a:ext cx="239760" cy="157320"/>
                <a:chOff x="2959200" y="1958760"/>
                <a:chExt cx="239760" cy="15732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2959200" y="195876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3062520" y="201924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1" name=""/>
          <p:cNvSpPr/>
          <p:nvPr/>
        </p:nvSpPr>
        <p:spPr>
          <a:xfrm>
            <a:off x="2625480" y="2581200"/>
            <a:ext cx="307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) May be attached to any on-board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) Indirect Fire Weapon Rating: -1 vs V,   0 vs T,G,sV, Lrg 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) Indirect Fire Weapon Rating:+1 vs V, +2 vs T,G,sV, Lrg 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dcterms:modified xsi:type="dcterms:W3CDTF">2008-01-21T11:56:32Z</dcterms:modified>
  <cp:revision>84</cp:revision>
  <dc:subject/>
  <dc:title>PowerPoint Presentation</dc:title>
</cp:coreProperties>
</file>