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1CF-7C68-46D1-9742-66DC54FC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F78-349C-4AA9-B5E1-154EDCE7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90B-094B-4F17-9235-CEA6C340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814-F05C-4DF4-99F8-F94E07F2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BD4-B0D2-4E25-876B-05F41DB9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034-4D68-4703-9935-9C438F61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B92D-19DA-4217-BCFA-90B8B0DD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2B3-28E1-4239-8934-5028C8C3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AF9-6EC3-4A4C-9EFE-E5F41968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C13-65CE-4398-A176-907AF404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DDC-20A5-48E5-A439-F8C6C51C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F3E-8298-4193-9989-B4B5F0EC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0CC1-B328-4606-8DC1-6F9DDFFB6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8560" y="225756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7480" y="675000"/>
            <a:ext cx="206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visional Volksgrenadier Fusilier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93640" y="1344600"/>
            <a:ext cx="231840" cy="192240"/>
            <a:chOff x="593640" y="1344600"/>
            <a:chExt cx="231840" cy="192240"/>
          </a:xfrm>
        </p:grpSpPr>
        <p:grpSp>
          <p:nvGrpSpPr>
            <p:cNvPr id="44" name=""/>
            <p:cNvGrpSpPr/>
            <p:nvPr/>
          </p:nvGrpSpPr>
          <p:grpSpPr>
            <a:xfrm>
              <a:off x="593640" y="1379520"/>
              <a:ext cx="231840" cy="157320"/>
              <a:chOff x="593640" y="1379520"/>
              <a:chExt cx="231840" cy="157320"/>
            </a:xfrm>
          </p:grpSpPr>
          <p:sp>
            <p:nvSpPr>
              <p:cNvPr id="45" name=""/>
              <p:cNvSpPr/>
              <p:nvPr/>
            </p:nvSpPr>
            <p:spPr>
              <a:xfrm>
                <a:off x="593640" y="1379520"/>
                <a:ext cx="23184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595800" y="1381320"/>
                <a:ext cx="225720" cy="15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3640" y="1381680"/>
                <a:ext cx="230760" cy="14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71400" y="1344600"/>
              <a:ext cx="74520" cy="28800"/>
              <a:chOff x="671400" y="1344600"/>
              <a:chExt cx="74520" cy="28800"/>
            </a:xfrm>
          </p:grpSpPr>
          <p:sp>
            <p:nvSpPr>
              <p:cNvPr id="49" name=""/>
              <p:cNvSpPr/>
              <p:nvPr/>
            </p:nvSpPr>
            <p:spPr>
              <a:xfrm>
                <a:off x="671400" y="13446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18920" y="13464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" name=""/>
          <p:cNvSpPr/>
          <p:nvPr/>
        </p:nvSpPr>
        <p:spPr>
          <a:xfrm>
            <a:off x="890280" y="1387440"/>
            <a:ext cx="179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44/Stg44                         GE-P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2760" y="1454040"/>
            <a:ext cx="14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3880" y="102384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90400" y="1095480"/>
            <a:ext cx="238320" cy="194760"/>
            <a:chOff x="590400" y="1095480"/>
            <a:chExt cx="238320" cy="194760"/>
          </a:xfrm>
        </p:grpSpPr>
        <p:sp>
          <p:nvSpPr>
            <p:cNvPr id="55" name=""/>
            <p:cNvSpPr/>
            <p:nvPr/>
          </p:nvSpPr>
          <p:spPr>
            <a:xfrm>
              <a:off x="590400" y="1131840"/>
              <a:ext cx="238320" cy="15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95160" y="109548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890280" y="1158840"/>
            <a:ext cx="1720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    GE-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2760" y="1201680"/>
            <a:ext cx="14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440" y="958680"/>
            <a:ext cx="0" cy="153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2760" y="1984320"/>
            <a:ext cx="18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2800" y="1916280"/>
            <a:ext cx="175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ght Machine Gun                GE-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90400" y="1860480"/>
            <a:ext cx="236520" cy="201600"/>
            <a:chOff x="590400" y="1860480"/>
            <a:chExt cx="236520" cy="201600"/>
          </a:xfrm>
        </p:grpSpPr>
        <p:grpSp>
          <p:nvGrpSpPr>
            <p:cNvPr id="63" name=""/>
            <p:cNvGrpSpPr/>
            <p:nvPr/>
          </p:nvGrpSpPr>
          <p:grpSpPr>
            <a:xfrm>
              <a:off x="668160" y="1860480"/>
              <a:ext cx="74520" cy="28800"/>
              <a:chOff x="668160" y="1860480"/>
              <a:chExt cx="74520" cy="28800"/>
            </a:xfrm>
          </p:grpSpPr>
          <p:sp>
            <p:nvSpPr>
              <p:cNvPr id="64" name=""/>
              <p:cNvSpPr/>
              <p:nvPr/>
            </p:nvSpPr>
            <p:spPr>
              <a:xfrm>
                <a:off x="668160" y="18604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15680" y="18622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90400" y="1897200"/>
              <a:ext cx="236520" cy="164880"/>
              <a:chOff x="590400" y="1897200"/>
              <a:chExt cx="236520" cy="164880"/>
            </a:xfrm>
          </p:grpSpPr>
          <p:sp>
            <p:nvSpPr>
              <p:cNvPr id="67" name=""/>
              <p:cNvSpPr/>
              <p:nvPr/>
            </p:nvSpPr>
            <p:spPr>
              <a:xfrm>
                <a:off x="590400" y="190188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90400" y="1908000"/>
                <a:ext cx="50760" cy="14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596880" y="1897200"/>
                <a:ext cx="230040" cy="142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8040" y="1925640"/>
                <a:ext cx="218880" cy="13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487440" y="7779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34800" y="826920"/>
            <a:ext cx="284400" cy="193680"/>
            <a:chOff x="334800" y="826920"/>
            <a:chExt cx="284400" cy="193680"/>
          </a:xfrm>
        </p:grpSpPr>
        <p:sp>
          <p:nvSpPr>
            <p:cNvPr id="73" name=""/>
            <p:cNvSpPr/>
            <p:nvPr/>
          </p:nvSpPr>
          <p:spPr>
            <a:xfrm>
              <a:off x="334800" y="826920"/>
              <a:ext cx="284400" cy="193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37680" y="829800"/>
              <a:ext cx="276840" cy="18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4800" y="829800"/>
              <a:ext cx="282960" cy="18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93640" y="1585800"/>
            <a:ext cx="231840" cy="192240"/>
            <a:chOff x="593640" y="1585800"/>
            <a:chExt cx="231840" cy="192240"/>
          </a:xfrm>
        </p:grpSpPr>
        <p:grpSp>
          <p:nvGrpSpPr>
            <p:cNvPr id="77" name=""/>
            <p:cNvGrpSpPr/>
            <p:nvPr/>
          </p:nvGrpSpPr>
          <p:grpSpPr>
            <a:xfrm>
              <a:off x="593640" y="1620720"/>
              <a:ext cx="231840" cy="157320"/>
              <a:chOff x="593640" y="1620720"/>
              <a:chExt cx="231840" cy="157320"/>
            </a:xfrm>
          </p:grpSpPr>
          <p:sp>
            <p:nvSpPr>
              <p:cNvPr id="78" name=""/>
              <p:cNvSpPr/>
              <p:nvPr/>
            </p:nvSpPr>
            <p:spPr>
              <a:xfrm>
                <a:off x="593640" y="1620720"/>
                <a:ext cx="23184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595800" y="1622520"/>
                <a:ext cx="225720" cy="15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93640" y="1622880"/>
                <a:ext cx="230760" cy="14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671400" y="1585800"/>
              <a:ext cx="74520" cy="28800"/>
              <a:chOff x="671400" y="1585800"/>
              <a:chExt cx="74520" cy="28800"/>
            </a:xfrm>
          </p:grpSpPr>
          <p:sp>
            <p:nvSpPr>
              <p:cNvPr id="82" name=""/>
              <p:cNvSpPr/>
              <p:nvPr/>
            </p:nvSpPr>
            <p:spPr>
              <a:xfrm>
                <a:off x="671400" y="15858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18920" y="15876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888120" y="1657440"/>
            <a:ext cx="173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antry                                 GE-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2760" y="1695600"/>
            <a:ext cx="14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7440" y="2260440"/>
            <a:ext cx="185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90400" y="2376360"/>
            <a:ext cx="239760" cy="195120"/>
            <a:chOff x="590400" y="2376360"/>
            <a:chExt cx="239760" cy="195120"/>
          </a:xfrm>
        </p:grpSpPr>
        <p:grpSp>
          <p:nvGrpSpPr>
            <p:cNvPr id="88" name=""/>
            <p:cNvGrpSpPr/>
            <p:nvPr/>
          </p:nvGrpSpPr>
          <p:grpSpPr>
            <a:xfrm>
              <a:off x="590400" y="2414520"/>
              <a:ext cx="239760" cy="156960"/>
              <a:chOff x="590400" y="2414520"/>
              <a:chExt cx="239760" cy="156960"/>
            </a:xfrm>
          </p:grpSpPr>
          <p:sp>
            <p:nvSpPr>
              <p:cNvPr id="89" name=""/>
              <p:cNvSpPr/>
              <p:nvPr/>
            </p:nvSpPr>
            <p:spPr>
              <a:xfrm>
                <a:off x="590400" y="2414520"/>
                <a:ext cx="239760" cy="1569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674640" y="2529720"/>
                <a:ext cx="6336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6320" y="2445840"/>
                <a:ext cx="0" cy="83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65280" y="2376360"/>
              <a:ext cx="74520" cy="28080"/>
              <a:chOff x="665280" y="2376360"/>
              <a:chExt cx="74520" cy="28080"/>
            </a:xfrm>
          </p:grpSpPr>
          <p:sp>
            <p:nvSpPr>
              <p:cNvPr id="93" name=""/>
              <p:cNvSpPr/>
              <p:nvPr/>
            </p:nvSpPr>
            <p:spPr>
              <a:xfrm>
                <a:off x="665280" y="23763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2800" y="23778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889200" y="2432160"/>
            <a:ext cx="1738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mm Mortar                        GE-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3880" y="2055960"/>
            <a:ext cx="94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c Fire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4160" y="2583000"/>
            <a:ext cx="43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70480" y="2701800"/>
            <a:ext cx="176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ght Truck (a)                       GE-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90400" y="2647800"/>
            <a:ext cx="231480" cy="226800"/>
            <a:chOff x="590400" y="2647800"/>
            <a:chExt cx="231480" cy="226800"/>
          </a:xfrm>
        </p:grpSpPr>
        <p:grpSp>
          <p:nvGrpSpPr>
            <p:cNvPr id="100" name=""/>
            <p:cNvGrpSpPr/>
            <p:nvPr/>
          </p:nvGrpSpPr>
          <p:grpSpPr>
            <a:xfrm>
              <a:off x="590400" y="2684520"/>
              <a:ext cx="231480" cy="190080"/>
              <a:chOff x="590400" y="2684520"/>
              <a:chExt cx="231480" cy="190080"/>
            </a:xfrm>
          </p:grpSpPr>
          <p:sp>
            <p:nvSpPr>
              <p:cNvPr id="101" name=""/>
              <p:cNvSpPr/>
              <p:nvPr/>
            </p:nvSpPr>
            <p:spPr>
              <a:xfrm>
                <a:off x="590400" y="2684520"/>
                <a:ext cx="23148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0840" y="284724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82640" y="284724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68160" y="2647800"/>
              <a:ext cx="74520" cy="28800"/>
              <a:chOff x="668160" y="2647800"/>
              <a:chExt cx="74520" cy="28800"/>
            </a:xfrm>
          </p:grpSpPr>
          <p:sp>
            <p:nvSpPr>
              <p:cNvPr id="105" name=""/>
              <p:cNvSpPr/>
              <p:nvPr/>
            </p:nvSpPr>
            <p:spPr>
              <a:xfrm>
                <a:off x="668160" y="26478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5680" y="26496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"/>
          <p:cNvSpPr/>
          <p:nvPr/>
        </p:nvSpPr>
        <p:spPr>
          <a:xfrm>
            <a:off x="894240" y="2203560"/>
            <a:ext cx="1727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mm leIG37 Infantry Gun   GE-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93640" y="2154240"/>
            <a:ext cx="231480" cy="187200"/>
            <a:chOff x="593640" y="2154240"/>
            <a:chExt cx="231480" cy="187200"/>
          </a:xfrm>
        </p:grpSpPr>
        <p:grpSp>
          <p:nvGrpSpPr>
            <p:cNvPr id="109" name=""/>
            <p:cNvGrpSpPr/>
            <p:nvPr/>
          </p:nvGrpSpPr>
          <p:grpSpPr>
            <a:xfrm>
              <a:off x="671400" y="2154240"/>
              <a:ext cx="74520" cy="28080"/>
              <a:chOff x="671400" y="2154240"/>
              <a:chExt cx="74520" cy="28080"/>
            </a:xfrm>
          </p:grpSpPr>
          <p:sp>
            <p:nvSpPr>
              <p:cNvPr id="110" name=""/>
              <p:cNvSpPr/>
              <p:nvPr/>
            </p:nvSpPr>
            <p:spPr>
              <a:xfrm>
                <a:off x="671400" y="21542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8920" y="21556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93640" y="2184480"/>
              <a:ext cx="231480" cy="156960"/>
              <a:chOff x="593640" y="2184480"/>
              <a:chExt cx="231480" cy="15696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593640" y="2184480"/>
                <a:ext cx="231480" cy="156960"/>
                <a:chOff x="593640" y="2184480"/>
                <a:chExt cx="231480" cy="1569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93640" y="218448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595800" y="2186640"/>
                  <a:ext cx="225360" cy="153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93640" y="2186640"/>
                  <a:ext cx="230400" cy="149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694800" y="2252880"/>
                <a:ext cx="28080" cy="2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477720" y="2489040"/>
            <a:ext cx="185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9680" y="2924280"/>
            <a:ext cx="329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) May substitute horse-drawn limber (SCWG-P04)  or, on defense, no 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3:01:37Z</dcterms:created>
  <dc:creator>James Baker</dc:creator>
  <dc:description/>
  <dc:language>en-US</dc:language>
  <cp:lastModifiedBy>James Baker</cp:lastModifiedBy>
  <dcterms:modified xsi:type="dcterms:W3CDTF">2008-08-26T13:32:52Z</dcterms:modified>
  <cp:revision>5</cp:revision>
  <dc:subject/>
  <dc:title>Slide 1</dc:title>
</cp:coreProperties>
</file>