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637713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9B5-2400-4DA8-B8BB-092BE366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00A-D100-428E-B8BF-8BDD531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06F-643A-4BB0-9D6E-C542960F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B8F-FF94-4002-B3E4-D291CE98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48D-47D4-4158-B6C1-06947B4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55F-0BDF-47B7-9C09-648485AA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118-B1ED-4C1D-B854-F302A47A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8C0-5943-4A1A-9BDE-695696F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14D-C68F-4969-8D9C-BE8201E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93B-B64E-4726-8EB4-58884A4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065-7536-47A5-B384-40FFA1A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A2F-050A-4F61-B5CF-9EB7202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F09-9B10-4A5E-BE1A-4800871D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724360"/>
            <a:ext cx="0" cy="53352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920"/>
            <a:ext cx="6324840" cy="28836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ek Tables of Organization, Infantry - October 194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323120" y="1959120"/>
          <a:ext cx="56088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3120" y="1959120"/>
                    <a:ext cx="5608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343400" y="6156360"/>
            <a:ext cx="239760" cy="15696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554800"/>
            <a:ext cx="231480" cy="15696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5722920"/>
            <a:ext cx="0" cy="525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5896080"/>
            <a:ext cx="30024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242040"/>
            <a:ext cx="30024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5823000"/>
            <a:ext cx="239760" cy="15696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7913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61358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mm Field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601992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99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75200" y="5494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6674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99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30880" y="6095880"/>
            <a:ext cx="74520" cy="28800"/>
            <a:chOff x="4430880" y="6095880"/>
            <a:chExt cx="74520" cy="28800"/>
          </a:xfrm>
        </p:grpSpPr>
        <p:sp>
          <p:nvSpPr>
            <p:cNvPr id="57" name=""/>
            <p:cNvSpPr/>
            <p:nvPr/>
          </p:nvSpPr>
          <p:spPr>
            <a:xfrm>
              <a:off x="4430880" y="6095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78400" y="6097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062240" y="56275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51400" y="6221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07040" y="57992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43480" y="5767560"/>
            <a:ext cx="2844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0880" y="789120"/>
            <a:ext cx="3276720" cy="3864240"/>
            <a:chOff x="380880" y="789120"/>
            <a:chExt cx="3276720" cy="3864240"/>
          </a:xfrm>
        </p:grpSpPr>
        <p:sp>
          <p:nvSpPr>
            <p:cNvPr id="64" name=""/>
            <p:cNvSpPr/>
            <p:nvPr/>
          </p:nvSpPr>
          <p:spPr>
            <a:xfrm>
              <a:off x="676440" y="3679920"/>
              <a:ext cx="23148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76080" y="367992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440" y="367992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6560" y="270684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6560" y="302112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89712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antry Regi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1233720"/>
              <a:ext cx="19047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HEADQUARTERS 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Comm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2934000"/>
              <a:ext cx="1676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mm Infantry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orse-drawn Limb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3105360"/>
              <a:ext cx="0" cy="6840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1254240"/>
              <a:ext cx="0" cy="177660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19320" y="263376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mm Mediu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" y="204012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7840" y="1506960"/>
              <a:ext cx="22356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954520"/>
              <a:ext cx="23184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480" y="1430640"/>
              <a:ext cx="231840" cy="15696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200" y="2573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3170520"/>
              <a:ext cx="231840" cy="15696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200" y="3018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2625840"/>
              <a:ext cx="23184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400" y="25736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1386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4320" y="28972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4200" y="2897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93640" y="821160"/>
              <a:ext cx="114120" cy="75960"/>
              <a:chOff x="593640" y="821160"/>
              <a:chExt cx="114120" cy="75960"/>
            </a:xfrm>
          </p:grpSpPr>
          <p:sp>
            <p:nvSpPr>
              <p:cNvPr id="88" name=""/>
              <p:cNvSpPr/>
              <p:nvPr/>
            </p:nvSpPr>
            <p:spPr>
              <a:xfrm>
                <a:off x="593640" y="821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47280" y="821160"/>
                <a:ext cx="324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04880" y="821160"/>
                <a:ext cx="288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80880" y="889200"/>
              <a:ext cx="541440" cy="380880"/>
              <a:chOff x="380880" y="889200"/>
              <a:chExt cx="54144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380880" y="892080"/>
                <a:ext cx="533520" cy="361800"/>
              </a:xfrm>
              <a:prstGeom prst="rect">
                <a:avLst/>
              </a:prstGeom>
              <a:solidFill>
                <a:srgbClr val="3399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8800" y="889200"/>
                <a:ext cx="5335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80880" y="889200"/>
                <a:ext cx="5335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77880" y="1887840"/>
              <a:ext cx="541440" cy="380880"/>
              <a:chOff x="677880" y="1887840"/>
              <a:chExt cx="541440" cy="380880"/>
            </a:xfrm>
          </p:grpSpPr>
          <p:sp>
            <p:nvSpPr>
              <p:cNvPr id="96" name=""/>
              <p:cNvSpPr/>
              <p:nvPr/>
            </p:nvSpPr>
            <p:spPr>
              <a:xfrm>
                <a:off x="677880" y="1890720"/>
                <a:ext cx="533520" cy="361800"/>
              </a:xfrm>
              <a:prstGeom prst="rect">
                <a:avLst/>
              </a:prstGeom>
              <a:solidFill>
                <a:srgbClr val="3399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800" y="1887840"/>
                <a:ext cx="5335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77880" y="1887840"/>
                <a:ext cx="5335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H="1">
              <a:off x="914040" y="1811520"/>
              <a:ext cx="324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990720" y="1811520"/>
              <a:ext cx="288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789120"/>
              <a:ext cx="243828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BATTLE GROUP - 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80" y="1406880"/>
              <a:ext cx="38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1811520"/>
              <a:ext cx="19047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BATTLE GROU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BG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2345040"/>
              <a:ext cx="243828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ATTACH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24000" y="249732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66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240" y="333576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160" y="333576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280" y="26593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274500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5440" y="295452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295452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3380040"/>
              <a:ext cx="243828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DIVISIONAL ATTACH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421812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065840"/>
              <a:ext cx="22953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66"/>
                  </a:solidFill>
                  <a:latin typeface="Arial"/>
                </a:rPr>
                <a:t>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or 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mm Field Gu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4480" y="40849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440" y="4137120"/>
              <a:ext cx="23148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7040" y="4084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4280" y="3851640"/>
              <a:ext cx="183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66"/>
                  </a:solidFill>
                  <a:latin typeface="Arial"/>
                </a:rPr>
                <a:t>Off-board Direct 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0560" y="41706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2400" y="4256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09600" y="4370760"/>
              <a:ext cx="22957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66"/>
                  </a:solidFill>
                  <a:latin typeface="Arial"/>
                </a:rPr>
                <a:t>FS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0 or 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5mm Howitzer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52304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4480" y="43898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" y="4442040"/>
              <a:ext cx="23148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7040" y="4389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560" y="44755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2400" y="4561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74688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25400" y="3629160"/>
              <a:ext cx="135000" cy="28440"/>
              <a:chOff x="725400" y="3629160"/>
              <a:chExt cx="135000" cy="284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400" y="3629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5400" y="3629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1600" y="3630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209600" y="3608640"/>
              <a:ext cx="19908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66"/>
                  </a:solidFill>
                  <a:latin typeface="Arial"/>
                </a:rPr>
                <a:t>ME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nnaissance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2999160"/>
              <a:ext cx="0" cy="1523880"/>
            </a:xfrm>
            <a:prstGeom prst="line">
              <a:avLst/>
            </a:prstGeom>
            <a:ln w="1908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504960" y="838080"/>
            <a:ext cx="3276720" cy="1970280"/>
            <a:chOff x="3504960" y="838080"/>
            <a:chExt cx="3276720" cy="1970280"/>
          </a:xfrm>
        </p:grpSpPr>
        <p:sp>
          <p:nvSpPr>
            <p:cNvPr id="136" name=""/>
            <p:cNvSpPr/>
            <p:nvPr/>
          </p:nvSpPr>
          <p:spPr>
            <a:xfrm>
              <a:off x="3591000" y="244944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9460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antry Batta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1282680"/>
              <a:ext cx="19051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HEADQUARTERS 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Comm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2362320"/>
              <a:ext cx="16765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vy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2533680"/>
              <a:ext cx="0" cy="6840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1322280"/>
              <a:ext cx="0" cy="11350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206208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71920" y="1555920"/>
              <a:ext cx="22392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2382840"/>
              <a:ext cx="23184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7920" y="1479600"/>
              <a:ext cx="231480" cy="15696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2598840"/>
              <a:ext cx="231840" cy="15696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1434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733920" y="870120"/>
              <a:ext cx="288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9520" y="870120"/>
              <a:ext cx="324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04960" y="938160"/>
              <a:ext cx="541080" cy="380880"/>
              <a:chOff x="3504960" y="938160"/>
              <a:chExt cx="541080" cy="380880"/>
            </a:xfrm>
          </p:grpSpPr>
          <p:sp>
            <p:nvSpPr>
              <p:cNvPr id="151" name=""/>
              <p:cNvSpPr/>
              <p:nvPr/>
            </p:nvSpPr>
            <p:spPr>
              <a:xfrm>
                <a:off x="3505320" y="941040"/>
                <a:ext cx="533160" cy="361800"/>
              </a:xfrm>
              <a:prstGeom prst="rect">
                <a:avLst/>
              </a:prstGeom>
              <a:solidFill>
                <a:srgbClr val="3399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12880" y="938160"/>
                <a:ext cx="5331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504960" y="938160"/>
                <a:ext cx="5331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3914280" y="1900080"/>
              <a:ext cx="324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838080"/>
              <a:ext cx="243828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BATTLE GROUP - 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3920" y="1455840"/>
              <a:ext cx="38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1784520"/>
              <a:ext cx="19051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MANEUVER 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ME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2254320"/>
              <a:ext cx="243828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66"/>
                  </a:solidFill>
                  <a:latin typeface="Arial"/>
                </a:rPr>
                <a:t>ATTACH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809520" y="23828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9880" y="23828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68560" y="23335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1120" y="2333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0520" y="1976400"/>
              <a:ext cx="23184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00160" y="197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0520" y="197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2732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8480" y="2732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743280" y="28083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971880" y="28083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25720" y="23828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19320" y="6156360"/>
            <a:ext cx="2133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fantry (4 with bomb gun)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810400"/>
            <a:ext cx="106668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99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7160" y="5475240"/>
            <a:ext cx="180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66"/>
                </a:solidFill>
                <a:latin typeface="Arial"/>
              </a:rPr>
              <a:t>MANEUVER ELEMENT -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6167520"/>
            <a:ext cx="231840" cy="16488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76440" y="5883120"/>
            <a:ext cx="231480" cy="157320"/>
            <a:chOff x="676440" y="5883120"/>
            <a:chExt cx="231480" cy="157320"/>
          </a:xfrm>
        </p:grpSpPr>
        <p:sp>
          <p:nvSpPr>
            <p:cNvPr id="176" name=""/>
            <p:cNvSpPr/>
            <p:nvPr/>
          </p:nvSpPr>
          <p:spPr>
            <a:xfrm>
              <a:off x="676440" y="5883120"/>
              <a:ext cx="231480" cy="1573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9840" y="5905440"/>
              <a:ext cx="183960" cy="1108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77960" y="5840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0960" y="6111720"/>
            <a:ext cx="74520" cy="28800"/>
            <a:chOff x="750960" y="6111720"/>
            <a:chExt cx="74520" cy="28800"/>
          </a:xfrm>
        </p:grpSpPr>
        <p:sp>
          <p:nvSpPr>
            <p:cNvPr id="180" name=""/>
            <p:cNvSpPr/>
            <p:nvPr/>
          </p:nvSpPr>
          <p:spPr>
            <a:xfrm>
              <a:off x="750960" y="6111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8480" y="6113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880" y="5567400"/>
            <a:ext cx="231840" cy="15696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120" y="550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20" y="5572080"/>
            <a:ext cx="22248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80880" y="556884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6720" y="617076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69960" y="617220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94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22392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6248520"/>
            <a:ext cx="22392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008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bel VB Grenade Launch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7013520"/>
            <a:ext cx="0" cy="84456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74358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(2 with bomb gun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7078680"/>
            <a:ext cx="1066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99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4880" y="6811920"/>
            <a:ext cx="1809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66"/>
                </a:solidFill>
                <a:latin typeface="Arial"/>
              </a:rPr>
              <a:t>MANEUVER ELEMENT -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nnaissance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3200" y="7446960"/>
            <a:ext cx="231840" cy="16524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6440" y="7162920"/>
            <a:ext cx="231480" cy="156960"/>
            <a:chOff x="676440" y="7162920"/>
            <a:chExt cx="231480" cy="156960"/>
          </a:xfrm>
        </p:grpSpPr>
        <p:sp>
          <p:nvSpPr>
            <p:cNvPr id="198" name=""/>
            <p:cNvSpPr/>
            <p:nvPr/>
          </p:nvSpPr>
          <p:spPr>
            <a:xfrm>
              <a:off x="676440" y="7162920"/>
              <a:ext cx="231480" cy="15696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9840" y="7184880"/>
              <a:ext cx="183960" cy="11052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77960" y="7120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50960" y="7391520"/>
            <a:ext cx="74520" cy="28080"/>
            <a:chOff x="750960" y="7391520"/>
            <a:chExt cx="74520" cy="28080"/>
          </a:xfrm>
        </p:grpSpPr>
        <p:sp>
          <p:nvSpPr>
            <p:cNvPr id="202" name=""/>
            <p:cNvSpPr/>
            <p:nvPr/>
          </p:nvSpPr>
          <p:spPr>
            <a:xfrm>
              <a:off x="750960" y="73915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8480" y="73929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80880" y="6846840"/>
            <a:ext cx="231840" cy="1573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120" y="6851520"/>
            <a:ext cx="22248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80880" y="684864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74502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9960" y="745164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7223040"/>
            <a:ext cx="22392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7527960"/>
            <a:ext cx="22392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798516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bel VB Grenade Launch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77565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0-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eavy Machine Gun (2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3200" y="7767720"/>
            <a:ext cx="231840" cy="16488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6720" y="777096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69960" y="777240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7848720"/>
            <a:ext cx="22392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2400" y="7715160"/>
            <a:ext cx="74520" cy="28800"/>
            <a:chOff x="752400" y="7715160"/>
            <a:chExt cx="74520" cy="28800"/>
          </a:xfrm>
        </p:grpSpPr>
        <p:sp>
          <p:nvSpPr>
            <p:cNvPr id="218" name=""/>
            <p:cNvSpPr/>
            <p:nvPr/>
          </p:nvSpPr>
          <p:spPr>
            <a:xfrm>
              <a:off x="752400" y="7715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9920" y="7716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95160" y="7772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38120" y="6800760"/>
            <a:ext cx="122040" cy="28800"/>
            <a:chOff x="438120" y="6800760"/>
            <a:chExt cx="122040" cy="28800"/>
          </a:xfrm>
        </p:grpSpPr>
        <p:grpSp>
          <p:nvGrpSpPr>
            <p:cNvPr id="222" name=""/>
            <p:cNvGrpSpPr/>
            <p:nvPr/>
          </p:nvGrpSpPr>
          <p:grpSpPr>
            <a:xfrm>
              <a:off x="438120" y="6800760"/>
              <a:ext cx="74520" cy="28800"/>
              <a:chOff x="438120" y="6800760"/>
              <a:chExt cx="74520" cy="28800"/>
            </a:xfrm>
          </p:grpSpPr>
          <p:sp>
            <p:nvSpPr>
              <p:cNvPr id="223" name=""/>
              <p:cNvSpPr/>
              <p:nvPr/>
            </p:nvSpPr>
            <p:spPr>
              <a:xfrm>
                <a:off x="438120" y="6800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5640" y="6802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85640" y="6800760"/>
              <a:ext cx="74520" cy="28800"/>
              <a:chOff x="485640" y="6800760"/>
              <a:chExt cx="74520" cy="28800"/>
            </a:xfrm>
          </p:grpSpPr>
          <p:sp>
            <p:nvSpPr>
              <p:cNvPr id="226" name=""/>
              <p:cNvSpPr/>
              <p:nvPr/>
            </p:nvSpPr>
            <p:spPr>
              <a:xfrm>
                <a:off x="485640" y="6800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160" y="6802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3733920" y="5029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Support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544032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66"/>
                </a:solidFill>
                <a:latin typeface="Arial"/>
              </a:rPr>
              <a:t>FIRE SUPPORT ELEMENT -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eld Gun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7421400"/>
            <a:ext cx="239760" cy="1573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6819840"/>
            <a:ext cx="231480" cy="1573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6988320"/>
            <a:ext cx="0" cy="5252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7161120"/>
            <a:ext cx="300240" cy="1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7507440"/>
            <a:ext cx="30024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7088040"/>
            <a:ext cx="239760" cy="1573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70563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400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mm Howit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75200" y="6759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693252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99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430880" y="7361280"/>
            <a:ext cx="74520" cy="28080"/>
            <a:chOff x="4430880" y="7361280"/>
            <a:chExt cx="74520" cy="28080"/>
          </a:xfrm>
        </p:grpSpPr>
        <p:sp>
          <p:nvSpPr>
            <p:cNvPr id="241" name=""/>
            <p:cNvSpPr/>
            <p:nvPr/>
          </p:nvSpPr>
          <p:spPr>
            <a:xfrm>
              <a:off x="4430880" y="73612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8400" y="73627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062240" y="68929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51400" y="7486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07040" y="70642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3480" y="7032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670572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66"/>
                </a:solidFill>
                <a:latin typeface="Arial"/>
              </a:rPr>
              <a:t>FIRE SUPPORT ELEMENT -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Howitze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ames Baker</cp:lastModifiedBy>
  <cp:lastPrinted>2003-06-22T19:05:49Z</cp:lastPrinted>
  <dcterms:modified xsi:type="dcterms:W3CDTF">2005-12-03T10:59:57Z</dcterms:modified>
  <cp:revision>43</cp:revision>
  <dc:subject/>
  <dc:title>PowerPoint Presentation</dc:title>
</cp:coreProperties>
</file>