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315200" cy="9637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8EDF-2A84-484F-9D8E-DC798A1C1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621648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5804640"/>
            <a:ext cx="621648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53AE-6B5A-4F47-94FE-ECC0F04E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34640" y="278460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580464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34640" y="580464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7608-C77D-4364-B4A4-0621351F4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20016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51400" y="2784600"/>
            <a:ext cx="20016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53440" y="2784600"/>
            <a:ext cx="20016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5804640"/>
            <a:ext cx="20016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51400" y="5804640"/>
            <a:ext cx="20016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53440" y="5804640"/>
            <a:ext cx="20016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45BB-DD72-4B85-93C8-338489F45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2784600"/>
            <a:ext cx="6216480" cy="57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CFF5-EAB4-49CC-A339-129D2FE5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621648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944C-F086-4966-BC82-4EBE600D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303336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34640" y="2784600"/>
            <a:ext cx="303336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7709-6567-4111-B8C0-5E01FB90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E85A-FA2B-469B-82DA-55F27C03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857160"/>
            <a:ext cx="6216480" cy="74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F711-84B3-41D1-BE9D-2350B0F8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34640" y="2784600"/>
            <a:ext cx="303336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580464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79D5-9EF2-4944-BCCD-A70CA0F9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303336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34640" y="278460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34640" y="580464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32AA-7AC6-4C5D-B82E-D032AF07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278460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34640" y="2784600"/>
            <a:ext cx="303336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5804640"/>
            <a:ext cx="621648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A137-44FA-46D9-834B-AFB13CF9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857160"/>
            <a:ext cx="6216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2784600"/>
            <a:ext cx="621648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000" y="8780400"/>
            <a:ext cx="15238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98760" y="8780400"/>
            <a:ext cx="23176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41600" y="8780400"/>
            <a:ext cx="15238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CC0C-7F72-4282-AED9-9564E5280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35812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80"/>
                </a:solidFill>
                <a:latin typeface="Arial"/>
              </a:rPr>
              <a:t>DIVISIONAL ATTACHME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812960"/>
            <a:ext cx="0" cy="184464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9560" y="7086600"/>
            <a:ext cx="212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Breda M 30 LMG    IT-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2133720"/>
            <a:ext cx="0" cy="6804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42880"/>
            <a:ext cx="533520" cy="3621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708440"/>
            <a:ext cx="223920" cy="0"/>
          </a:xfrm>
          <a:prstGeom prst="line">
            <a:avLst/>
          </a:prstGeom>
          <a:ln w="15840">
            <a:solidFill>
              <a:srgbClr val="0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666880"/>
            <a:ext cx="223920" cy="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057400"/>
            <a:ext cx="223920" cy="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66880" y="2550960"/>
            <a:ext cx="380880" cy="24948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857160" y="2552400"/>
            <a:ext cx="398520" cy="26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66880" y="2554200"/>
            <a:ext cx="38088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33560" y="24829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7360" y="13716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3320" y="13716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3657600"/>
            <a:ext cx="0" cy="1447920"/>
          </a:xfrm>
          <a:prstGeom prst="line">
            <a:avLst/>
          </a:prstGeom>
          <a:ln w="15840">
            <a:solidFill>
              <a:srgbClr val="0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981080"/>
            <a:ext cx="231840" cy="1573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49280" y="143208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43208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4382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80"/>
                </a:solidFill>
                <a:latin typeface="Arial"/>
              </a:rPr>
              <a:t>BATTLE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2819520"/>
            <a:ext cx="12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80"/>
                </a:solidFill>
                <a:latin typeface="Arial"/>
              </a:rPr>
              <a:t>ATTACHME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2193840"/>
            <a:ext cx="231840" cy="1573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0120" y="195732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14480" y="193680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" y="3855960"/>
            <a:ext cx="223920" cy="0"/>
          </a:xfrm>
          <a:prstGeom prst="line">
            <a:avLst/>
          </a:prstGeom>
          <a:ln w="15840">
            <a:solidFill>
              <a:srgbClr val="0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461628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80"/>
                </a:solidFill>
                <a:latin typeface="Arial"/>
              </a:rPr>
              <a:t>75mm Light Artillery Battal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447920"/>
            <a:ext cx="2286000" cy="3070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antry Regt. (2 per div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1860480"/>
            <a:ext cx="198108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80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er                 IT-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Fiat 508 CM                 IT-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257508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80"/>
                </a:solidFill>
                <a:latin typeface="Arial"/>
              </a:rPr>
              <a:t>Infantry Battal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35160" y="318456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Arial"/>
              </a:rPr>
              <a:t>Organic Fire Suppor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35160" y="3336840"/>
            <a:ext cx="216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81mm Medium Mortar  IT-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3397320"/>
            <a:ext cx="239760" cy="1569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038240" y="3429000"/>
            <a:ext cx="1440" cy="10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8640" y="352584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33526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38240" y="335268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3032280"/>
            <a:ext cx="231840" cy="15228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922320" y="3035160"/>
            <a:ext cx="22860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5840" y="3033720"/>
            <a:ext cx="22716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993600" y="2971800"/>
            <a:ext cx="74520" cy="28080"/>
            <a:chOff x="993600" y="2971800"/>
            <a:chExt cx="74520" cy="28080"/>
          </a:xfrm>
        </p:grpSpPr>
        <p:sp>
          <p:nvSpPr>
            <p:cNvPr id="80" name=""/>
            <p:cNvSpPr/>
            <p:nvPr/>
          </p:nvSpPr>
          <p:spPr>
            <a:xfrm>
              <a:off x="993600" y="297180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41120" y="297324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219320" y="2971800"/>
            <a:ext cx="215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5/17 Infantry Gun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IT-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3790800"/>
            <a:ext cx="231840" cy="1573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42920" y="374328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82800" y="37432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19320" y="447984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80"/>
                </a:solidFill>
                <a:latin typeface="Arial"/>
              </a:rPr>
              <a:t>FIRE SUPPORT ELEME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1160" y="4627440"/>
            <a:ext cx="231840" cy="1573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14480" y="45673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11240" y="47005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95760" y="527364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ward Observer      IT-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95760" y="5730840"/>
            <a:ext cx="20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Arial"/>
              </a:rPr>
              <a:t>Off-board Direct Fire Sup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5040360"/>
            <a:ext cx="231480" cy="1569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5208480"/>
            <a:ext cx="0" cy="75888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95760" y="5851440"/>
            <a:ext cx="218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6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5mm Gun   -1V, 0 T,G,sV Small Template-use IT-20 on 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65480" y="497988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95760" y="5165640"/>
            <a:ext cx="152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Arial"/>
              </a:rPr>
              <a:t>On-board Attach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62240" y="511344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43400" y="5880240"/>
            <a:ext cx="239760" cy="1569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5370480"/>
            <a:ext cx="300240" cy="180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38480" y="5956200"/>
            <a:ext cx="300240" cy="180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5297400"/>
            <a:ext cx="239760" cy="1573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95760" y="557532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Fiat 508 CM                IT-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5599080"/>
            <a:ext cx="231840" cy="1573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54560" y="576252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35640" y="57625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90920" y="5454720"/>
            <a:ext cx="0" cy="14292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430880" y="5819760"/>
            <a:ext cx="74520" cy="28080"/>
            <a:chOff x="4430880" y="5819760"/>
            <a:chExt cx="74520" cy="28080"/>
          </a:xfrm>
        </p:grpSpPr>
        <p:sp>
          <p:nvSpPr>
            <p:cNvPr id="108" name=""/>
            <p:cNvSpPr/>
            <p:nvPr/>
          </p:nvSpPr>
          <p:spPr>
            <a:xfrm>
              <a:off x="4430880" y="581976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478400" y="582120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595760" y="5454720"/>
            <a:ext cx="152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Arial"/>
              </a:rPr>
              <a:t>Trans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51400" y="59450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43480" y="55483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07040" y="527364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43480" y="524520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14880" y="496872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mm Light Artillery Battal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3124080"/>
            <a:ext cx="223920" cy="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3489480"/>
            <a:ext cx="223920" cy="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98720" y="2362320"/>
            <a:ext cx="266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30240" y="236232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678168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Rifle section            IT-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9560" y="637236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Arial"/>
              </a:rPr>
              <a:t>Comm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52360" y="616896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antry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09560" y="7375680"/>
            <a:ext cx="181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45mm Brixia Mortar IT-3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52560" y="6377040"/>
            <a:ext cx="0" cy="114300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78000" y="7115040"/>
            <a:ext cx="231840" cy="1573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355760" y="7054920"/>
            <a:ext cx="74520" cy="28080"/>
            <a:chOff x="1355760" y="7054920"/>
            <a:chExt cx="74520" cy="28080"/>
          </a:xfrm>
        </p:grpSpPr>
        <p:sp>
          <p:nvSpPr>
            <p:cNvPr id="127" name=""/>
            <p:cNvSpPr/>
            <p:nvPr/>
          </p:nvSpPr>
          <p:spPr>
            <a:xfrm>
              <a:off x="1355760" y="705492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03280" y="705636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49320" y="6600960"/>
            <a:ext cx="299880" cy="144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70080" y="6818400"/>
            <a:ext cx="231840" cy="16488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5160" y="7510320"/>
            <a:ext cx="300240" cy="180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62160" y="6534000"/>
            <a:ext cx="231840" cy="1573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85920" y="6556320"/>
            <a:ext cx="18396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63680" y="64911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347840" y="6762600"/>
            <a:ext cx="74520" cy="28800"/>
            <a:chOff x="1347840" y="6762600"/>
            <a:chExt cx="74520" cy="28800"/>
          </a:xfrm>
        </p:grpSpPr>
        <p:sp>
          <p:nvSpPr>
            <p:cNvPr id="136" name=""/>
            <p:cNvSpPr/>
            <p:nvPr/>
          </p:nvSpPr>
          <p:spPr>
            <a:xfrm>
              <a:off x="1347840" y="67626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395360" y="67644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905040" y="6218280"/>
            <a:ext cx="231480" cy="1569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15920" y="614664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1160" y="6224760"/>
            <a:ext cx="241200" cy="15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914400" y="6208200"/>
            <a:ext cx="230040" cy="15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78000" y="7426440"/>
            <a:ext cx="239760" cy="1569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398600" y="7448400"/>
            <a:ext cx="1440" cy="10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62240" y="755172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287360" y="7419960"/>
            <a:ext cx="23040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84120" y="7431120"/>
            <a:ext cx="24156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76200" y="6831000"/>
            <a:ext cx="24156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273320" y="6823080"/>
            <a:ext cx="23004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352520" y="7375680"/>
            <a:ext cx="74520" cy="28080"/>
            <a:chOff x="1352520" y="7375680"/>
            <a:chExt cx="74520" cy="28080"/>
          </a:xfrm>
        </p:grpSpPr>
        <p:sp>
          <p:nvSpPr>
            <p:cNvPr id="150" name=""/>
            <p:cNvSpPr/>
            <p:nvPr/>
          </p:nvSpPr>
          <p:spPr>
            <a:xfrm>
              <a:off x="1352520" y="737568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00040" y="737712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281240" y="7122960"/>
            <a:ext cx="24120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78000" y="7114680"/>
            <a:ext cx="230040" cy="15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0480" y="6900840"/>
            <a:ext cx="299880" cy="144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63720" y="7205760"/>
            <a:ext cx="299880" cy="144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651348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ommander             IT-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578160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euver Element Det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19320" y="3809880"/>
            <a:ext cx="25905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sault Engineers         IT-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flamethrow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95680" y="37242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80"/>
                </a:solidFill>
                <a:latin typeface="Arial"/>
              </a:rPr>
              <a:t>DIVISIONAL ATTACHME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2520" y="1812960"/>
            <a:ext cx="0" cy="184464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67080" y="2133720"/>
            <a:ext cx="0" cy="6804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1442880"/>
            <a:ext cx="533160" cy="3621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5105520"/>
            <a:ext cx="223920" cy="0"/>
          </a:xfrm>
          <a:prstGeom prst="line">
            <a:avLst/>
          </a:prstGeom>
          <a:ln w="15840">
            <a:solidFill>
              <a:srgbClr val="0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62520" y="2666880"/>
            <a:ext cx="223560" cy="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2057400"/>
            <a:ext cx="223560" cy="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2579760"/>
            <a:ext cx="239760" cy="1569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191120" y="2573280"/>
            <a:ext cx="23652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02280" y="2589120"/>
            <a:ext cx="24120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09920" y="25210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965400" y="1371600"/>
            <a:ext cx="76320" cy="63360"/>
            <a:chOff x="3965400" y="1371600"/>
            <a:chExt cx="76320" cy="63360"/>
          </a:xfrm>
        </p:grpSpPr>
        <p:sp>
          <p:nvSpPr>
            <p:cNvPr id="171" name=""/>
            <p:cNvSpPr/>
            <p:nvPr/>
          </p:nvSpPr>
          <p:spPr>
            <a:xfrm>
              <a:off x="3965400" y="13716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41720" y="13716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962520" y="3657600"/>
            <a:ext cx="0" cy="685800"/>
          </a:xfrm>
          <a:prstGeom prst="line">
            <a:avLst/>
          </a:prstGeom>
          <a:ln w="15840">
            <a:solidFill>
              <a:srgbClr val="0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1981080"/>
            <a:ext cx="231480" cy="1573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725640" y="143208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33920" y="143208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95680" y="24382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80"/>
                </a:solidFill>
                <a:latin typeface="Arial"/>
              </a:rPr>
              <a:t>MANEUVER ELEME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95680" y="2895480"/>
            <a:ext cx="121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80"/>
                </a:solidFill>
                <a:latin typeface="Arial"/>
              </a:rPr>
              <a:t>ATTACHMENTS</a:t>
            </a: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91120" y="2193840"/>
            <a:ext cx="231480" cy="1573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46480" y="195732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90840" y="193680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70440" y="4008600"/>
            <a:ext cx="223560" cy="0"/>
          </a:xfrm>
          <a:prstGeom prst="line">
            <a:avLst/>
          </a:prstGeom>
          <a:ln w="15840">
            <a:solidFill>
              <a:srgbClr val="0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19320" y="501336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80"/>
                </a:solidFill>
                <a:latin typeface="Arial"/>
              </a:rPr>
              <a:t>100mm Medium Howitzer 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1447920"/>
            <a:ext cx="2209680" cy="3070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antry Battal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495680" y="1860480"/>
            <a:ext cx="198144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80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er                 IT-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Fiat 508 CM                 IT-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95680" y="257508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80"/>
                </a:solidFill>
                <a:latin typeface="Arial"/>
              </a:rPr>
              <a:t>Infantry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11520" y="335268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Arial"/>
              </a:rPr>
              <a:t>Organic Fire Support</a:t>
            </a: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11520" y="3505320"/>
            <a:ext cx="216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45mm Brixia Mortar     IT-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91120" y="3565440"/>
            <a:ext cx="239760" cy="1573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314960" y="3597120"/>
            <a:ext cx="1440" cy="10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75000" y="369396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67080" y="350532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14960" y="350676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3108240"/>
            <a:ext cx="231480" cy="15264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199040" y="3111480"/>
            <a:ext cx="22860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2560" y="3110040"/>
            <a:ext cx="22716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270320" y="3048120"/>
            <a:ext cx="74520" cy="28080"/>
            <a:chOff x="4270320" y="3048120"/>
            <a:chExt cx="74520" cy="28080"/>
          </a:xfrm>
        </p:grpSpPr>
        <p:sp>
          <p:nvSpPr>
            <p:cNvPr id="198" name=""/>
            <p:cNvSpPr/>
            <p:nvPr/>
          </p:nvSpPr>
          <p:spPr>
            <a:xfrm>
              <a:off x="4270320" y="304812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317840" y="304956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191120" y="3110040"/>
            <a:ext cx="55440" cy="150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95680" y="3048120"/>
            <a:ext cx="21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mm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eda 37 MMG    IT-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91120" y="3933720"/>
            <a:ext cx="231480" cy="1573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191120" y="3930480"/>
            <a:ext cx="114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05240" y="3929040"/>
            <a:ext cx="11448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19640" y="388620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59160" y="388620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11160" y="5024520"/>
            <a:ext cx="231840" cy="1569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23840" y="496404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11240" y="509760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3200400"/>
            <a:ext cx="223560" cy="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2520" y="3657600"/>
            <a:ext cx="223560" cy="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75080" y="236232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06960" y="236232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95680" y="3933720"/>
            <a:ext cx="21337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7mm Antitank Gun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T-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4 per divis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06400" y="13716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81080" y="24829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19160" y="309564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71720" y="456552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91120" y="4267080"/>
            <a:ext cx="239760" cy="1573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314960" y="4295880"/>
            <a:ext cx="1440" cy="10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75000" y="439272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14960" y="428004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95680" y="425124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80"/>
                </a:solidFill>
                <a:latin typeface="Arial"/>
              </a:rPr>
              <a:t>81mm Medium Mortar 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62520" y="4343400"/>
            <a:ext cx="223560" cy="0"/>
          </a:xfrm>
          <a:prstGeom prst="line">
            <a:avLst/>
          </a:prstGeom>
          <a:ln w="15840">
            <a:solidFill>
              <a:srgbClr val="0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47689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2 per divis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19320" y="516564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 per divis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95760" y="672156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ward Observer      IT-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95760" y="7178760"/>
            <a:ext cx="20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Arial"/>
              </a:rPr>
              <a:t>Off-board General Fire Sup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62520" y="6488280"/>
            <a:ext cx="231480" cy="1569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6656400"/>
            <a:ext cx="0" cy="75888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95760" y="7299360"/>
            <a:ext cx="218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mm Howitzer   -1V, 0 T,G,sV Large Templ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75200" y="64278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95760" y="6613560"/>
            <a:ext cx="152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Arial"/>
              </a:rPr>
              <a:t>On-board Attach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062240" y="656100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43400" y="7327800"/>
            <a:ext cx="239760" cy="1573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38480" y="6818400"/>
            <a:ext cx="300240" cy="144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7404120"/>
            <a:ext cx="300240" cy="144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6745320"/>
            <a:ext cx="239760" cy="1569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95760" y="702324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Fiat 508 CM                IT-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43400" y="7047000"/>
            <a:ext cx="231840" cy="1569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54560" y="721044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35640" y="72104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90920" y="6902280"/>
            <a:ext cx="0" cy="14292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4430880" y="7267680"/>
            <a:ext cx="74520" cy="28080"/>
            <a:chOff x="4430880" y="7267680"/>
            <a:chExt cx="74520" cy="28080"/>
          </a:xfrm>
        </p:grpSpPr>
        <p:sp>
          <p:nvSpPr>
            <p:cNvPr id="245" name=""/>
            <p:cNvSpPr/>
            <p:nvPr/>
          </p:nvSpPr>
          <p:spPr>
            <a:xfrm>
              <a:off x="4430880" y="726768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478400" y="726912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4595760" y="6902280"/>
            <a:ext cx="152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Arial"/>
              </a:rPr>
              <a:t>Trans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51400" y="73929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43480" y="69962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07040" y="672156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43480" y="66927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14880" y="641664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mm Medium Howitzer 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95760" y="8169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ward Observer      IT-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95760" y="8626320"/>
            <a:ext cx="20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Arial"/>
              </a:rPr>
              <a:t>Off-board Direct Fire Sup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7935840"/>
            <a:ext cx="231480" cy="1573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038480" y="8104320"/>
            <a:ext cx="0" cy="75852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95760" y="8747280"/>
            <a:ext cx="210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1mm Mortar   -1V, 0 T,G,sV use IT-33 on 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75200" y="78757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95760" y="8061480"/>
            <a:ext cx="152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Arial"/>
              </a:rPr>
              <a:t>On-board Attach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62240" y="800892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343400" y="8775720"/>
            <a:ext cx="239760" cy="1573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8265960"/>
            <a:ext cx="300240" cy="180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480" y="8852040"/>
            <a:ext cx="300240" cy="144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43400" y="8193240"/>
            <a:ext cx="239760" cy="1569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95760" y="8470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Fiat 508 CM                IT-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8494560"/>
            <a:ext cx="231840" cy="1573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54560" y="865836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35640" y="865836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90920" y="8350200"/>
            <a:ext cx="0" cy="14292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430880" y="8715240"/>
            <a:ext cx="74520" cy="28800"/>
            <a:chOff x="4430880" y="8715240"/>
            <a:chExt cx="74520" cy="28800"/>
          </a:xfrm>
        </p:grpSpPr>
        <p:sp>
          <p:nvSpPr>
            <p:cNvPr id="271" name=""/>
            <p:cNvSpPr/>
            <p:nvPr/>
          </p:nvSpPr>
          <p:spPr>
            <a:xfrm>
              <a:off x="4430880" y="87152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78400" y="87170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595760" y="8350200"/>
            <a:ext cx="152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Arial"/>
              </a:rPr>
              <a:t>Trans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51400" y="88408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43480" y="844380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07040" y="816912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43480" y="81406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14880" y="786456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1mm Medium Mortar 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86200" y="467820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 Support Element Det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0880" y="228600"/>
            <a:ext cx="6629400" cy="58500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alian Tables of 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Army – Eastern Front 194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52560" y="38289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42840" y="382896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04840" y="382896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028880" y="382896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114800" y="49849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314960" y="41911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85800" y="4249800"/>
            <a:ext cx="223920" cy="0"/>
          </a:xfrm>
          <a:prstGeom prst="line">
            <a:avLst/>
          </a:prstGeom>
          <a:ln w="15840">
            <a:solidFill>
              <a:srgbClr val="0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06480" y="4175280"/>
            <a:ext cx="231840" cy="1569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906480" y="4171680"/>
            <a:ext cx="1141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20600" y="4170240"/>
            <a:ext cx="11448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35000" y="412740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74880" y="412740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11400" y="4175280"/>
            <a:ext cx="22939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5/39 Antitank Gun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GE-P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4 per divis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30320" y="44323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" y="800100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Units transported by Fiat TL37        IT-19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219320" y="357192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80"/>
                </a:solidFill>
                <a:latin typeface="Arial"/>
              </a:rPr>
              <a:t>DIVISIONAL ATTACHME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1812960"/>
            <a:ext cx="0" cy="184464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9560" y="6934320"/>
            <a:ext cx="212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8mm Breda 37 MMG    IT-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1442880"/>
            <a:ext cx="533520" cy="3621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4648320"/>
            <a:ext cx="223920" cy="0"/>
          </a:xfrm>
          <a:prstGeom prst="line">
            <a:avLst/>
          </a:prstGeom>
          <a:ln w="15840">
            <a:solidFill>
              <a:srgbClr val="0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514600"/>
            <a:ext cx="223920" cy="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" y="2057400"/>
            <a:ext cx="223920" cy="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66880" y="2398680"/>
            <a:ext cx="380880" cy="2491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857160" y="2400120"/>
            <a:ext cx="398520" cy="26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66880" y="2401920"/>
            <a:ext cx="38088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033560" y="233028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57360" y="13716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3320" y="13716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" y="3657600"/>
            <a:ext cx="0" cy="990720"/>
          </a:xfrm>
          <a:prstGeom prst="line">
            <a:avLst/>
          </a:prstGeom>
          <a:ln w="15840">
            <a:solidFill>
              <a:srgbClr val="0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14400" y="1981080"/>
            <a:ext cx="231840" cy="1573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449280" y="143208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143208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19320" y="22860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80"/>
                </a:solidFill>
                <a:latin typeface="Arial"/>
              </a:rPr>
              <a:t>BATTLE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19320" y="2819520"/>
            <a:ext cx="12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80"/>
                </a:solidFill>
                <a:latin typeface="Arial"/>
              </a:rPr>
              <a:t>ATTACHME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70120" y="195732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14480" y="193680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93720" y="3855960"/>
            <a:ext cx="223920" cy="0"/>
          </a:xfrm>
          <a:prstGeom prst="line">
            <a:avLst/>
          </a:prstGeom>
          <a:ln w="15840">
            <a:solidFill>
              <a:srgbClr val="0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219320" y="455616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0-1</a:t>
            </a: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80"/>
                </a:solidFill>
                <a:latin typeface="Arial"/>
              </a:rPr>
              <a:t>75mm Mountain Gun Battal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066680" y="1447920"/>
            <a:ext cx="2514600" cy="3070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pini Regiment (2 per div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219320" y="1860480"/>
            <a:ext cx="1981080" cy="3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80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er                 IT-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19320" y="242244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80"/>
                </a:solidFill>
                <a:latin typeface="Arial"/>
              </a:rPr>
              <a:t>Alpini Battal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35160" y="318456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Arial"/>
              </a:rPr>
              <a:t>Organic Fire Suppor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35160" y="3336840"/>
            <a:ext cx="216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81mm Medium Mortar  IT-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14400" y="3397320"/>
            <a:ext cx="239760" cy="1569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038240" y="3429000"/>
            <a:ext cx="1440" cy="10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98640" y="352584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90720" y="33526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38240" y="335268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3032280"/>
            <a:ext cx="231840" cy="15228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922320" y="3035160"/>
            <a:ext cx="22860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15840" y="3033720"/>
            <a:ext cx="22716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993600" y="2971800"/>
            <a:ext cx="74520" cy="28080"/>
            <a:chOff x="993600" y="2971800"/>
            <a:chExt cx="74520" cy="28080"/>
          </a:xfrm>
        </p:grpSpPr>
        <p:sp>
          <p:nvSpPr>
            <p:cNvPr id="333" name=""/>
            <p:cNvSpPr/>
            <p:nvPr/>
          </p:nvSpPr>
          <p:spPr>
            <a:xfrm>
              <a:off x="993600" y="297180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041120" y="297324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219320" y="297180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4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mm L/65 Light AA Gun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IT-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14400" y="3790800"/>
            <a:ext cx="231840" cy="1573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42920" y="374328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82800" y="37432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219320" y="441972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80"/>
                </a:solidFill>
                <a:latin typeface="Arial"/>
              </a:rPr>
              <a:t>FIRE SUPPORT ELEME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11160" y="4567320"/>
            <a:ext cx="231840" cy="1569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014480" y="450684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11240" y="464040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95760" y="5442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ward Observer      IT-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95760" y="5730840"/>
            <a:ext cx="20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Arial"/>
              </a:rPr>
              <a:t>Off-board General Fire Sup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962520" y="5208480"/>
            <a:ext cx="231480" cy="1573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038480" y="5376960"/>
            <a:ext cx="0" cy="58248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95760" y="5851440"/>
            <a:ext cx="2490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6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5/13 Mountain Gun   -1V, 0 T,G,sV Small Templ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056120" y="514836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95760" y="5334120"/>
            <a:ext cx="152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Arial"/>
              </a:rPr>
              <a:t>On-board Attach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062240" y="528156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343400" y="5880240"/>
            <a:ext cx="239760" cy="1569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038480" y="5538960"/>
            <a:ext cx="300240" cy="144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038480" y="5956200"/>
            <a:ext cx="300240" cy="180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43400" y="5465880"/>
            <a:ext cx="239760" cy="1569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4430880" y="5819760"/>
            <a:ext cx="74520" cy="28080"/>
            <a:chOff x="4430880" y="5819760"/>
            <a:chExt cx="74520" cy="28080"/>
          </a:xfrm>
        </p:grpSpPr>
        <p:sp>
          <p:nvSpPr>
            <p:cNvPr id="356" name=""/>
            <p:cNvSpPr/>
            <p:nvPr/>
          </p:nvSpPr>
          <p:spPr>
            <a:xfrm>
              <a:off x="4430880" y="581976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478400" y="582120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4451400" y="594504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307040" y="544212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443480" y="541332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214880" y="513720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mm Mountain Gun Battal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3124080"/>
            <a:ext cx="223920" cy="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3489480"/>
            <a:ext cx="223920" cy="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600200" y="662940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9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lpini section                IT-P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09560" y="62197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Arial"/>
              </a:rPr>
              <a:t>Comm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152360" y="601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pini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609560" y="7223040"/>
            <a:ext cx="204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45mm Brixia Mortar      IT-3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52560" y="6224760"/>
            <a:ext cx="0" cy="114300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278000" y="6962760"/>
            <a:ext cx="231840" cy="1573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1355760" y="6902280"/>
            <a:ext cx="74520" cy="28800"/>
            <a:chOff x="1355760" y="6902280"/>
            <a:chExt cx="74520" cy="28800"/>
          </a:xfrm>
        </p:grpSpPr>
        <p:sp>
          <p:nvSpPr>
            <p:cNvPr id="371" name=""/>
            <p:cNvSpPr/>
            <p:nvPr/>
          </p:nvSpPr>
          <p:spPr>
            <a:xfrm>
              <a:off x="1355760" y="69022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403280" y="69040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949320" y="6448320"/>
            <a:ext cx="299880" cy="180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70080" y="6665760"/>
            <a:ext cx="231840" cy="16524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965160" y="7358040"/>
            <a:ext cx="300240" cy="144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62160" y="6381720"/>
            <a:ext cx="231840" cy="1573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85920" y="6404040"/>
            <a:ext cx="18396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363680" y="63388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347840" y="6610320"/>
            <a:ext cx="74520" cy="28080"/>
            <a:chOff x="1347840" y="6610320"/>
            <a:chExt cx="74520" cy="28080"/>
          </a:xfrm>
        </p:grpSpPr>
        <p:sp>
          <p:nvSpPr>
            <p:cNvPr id="380" name=""/>
            <p:cNvSpPr/>
            <p:nvPr/>
          </p:nvSpPr>
          <p:spPr>
            <a:xfrm>
              <a:off x="1347840" y="661032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395360" y="661176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905040" y="6066000"/>
            <a:ext cx="231480" cy="1569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15920" y="599436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911160" y="6072120"/>
            <a:ext cx="24120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914400" y="6056280"/>
            <a:ext cx="23004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78000" y="7273800"/>
            <a:ext cx="239760" cy="1573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398600" y="7296120"/>
            <a:ext cx="1440" cy="10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62240" y="7399440"/>
            <a:ext cx="68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1287360" y="7267680"/>
            <a:ext cx="23040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284120" y="7278840"/>
            <a:ext cx="241560" cy="15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76200" y="6678720"/>
            <a:ext cx="241560" cy="15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1273320" y="6670800"/>
            <a:ext cx="23004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352520" y="7223040"/>
            <a:ext cx="74520" cy="28800"/>
            <a:chOff x="1352520" y="7223040"/>
            <a:chExt cx="74520" cy="28800"/>
          </a:xfrm>
        </p:grpSpPr>
        <p:sp>
          <p:nvSpPr>
            <p:cNvPr id="394" name=""/>
            <p:cNvSpPr/>
            <p:nvPr/>
          </p:nvSpPr>
          <p:spPr>
            <a:xfrm>
              <a:off x="1352520" y="72230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400040" y="72248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1281240" y="6970680"/>
            <a:ext cx="24120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1278000" y="6962760"/>
            <a:ext cx="23004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960480" y="6748560"/>
            <a:ext cx="299880" cy="144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63720" y="7053120"/>
            <a:ext cx="299880" cy="180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600200" y="63612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ommander                 IT-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2120" y="56293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euver Element Det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219320" y="3809880"/>
            <a:ext cx="25905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sault Engineers         IT-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flamethrow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32670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80"/>
                </a:solidFill>
                <a:latin typeface="Arial"/>
              </a:rPr>
              <a:t>ATTACHME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962520" y="1812960"/>
            <a:ext cx="0" cy="138744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733920" y="1442880"/>
            <a:ext cx="533160" cy="3621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962520" y="2666880"/>
            <a:ext cx="223560" cy="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962520" y="2057400"/>
            <a:ext cx="223560" cy="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91120" y="2579760"/>
            <a:ext cx="239760" cy="1569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191120" y="2573280"/>
            <a:ext cx="23652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02280" y="2589120"/>
            <a:ext cx="24120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309920" y="25210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3965400" y="1371600"/>
            <a:ext cx="76320" cy="63360"/>
            <a:chOff x="3965400" y="1371600"/>
            <a:chExt cx="76320" cy="63360"/>
          </a:xfrm>
        </p:grpSpPr>
        <p:sp>
          <p:nvSpPr>
            <p:cNvPr id="413" name=""/>
            <p:cNvSpPr/>
            <p:nvPr/>
          </p:nvSpPr>
          <p:spPr>
            <a:xfrm>
              <a:off x="3965400" y="13716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041720" y="13716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3962520" y="3200400"/>
            <a:ext cx="0" cy="762120"/>
          </a:xfrm>
          <a:prstGeom prst="line">
            <a:avLst/>
          </a:prstGeom>
          <a:ln w="15840">
            <a:solidFill>
              <a:srgbClr val="0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191120" y="1981080"/>
            <a:ext cx="231480" cy="1573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3725640" y="143208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33920" y="143208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95680" y="24382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80"/>
                </a:solidFill>
                <a:latin typeface="Arial"/>
              </a:rPr>
              <a:t>MANEUVER ELEME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146480" y="195732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290840" y="193680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70440" y="3551400"/>
            <a:ext cx="223560" cy="0"/>
          </a:xfrm>
          <a:prstGeom prst="line">
            <a:avLst/>
          </a:prstGeom>
          <a:ln w="15840">
            <a:solidFill>
              <a:srgbClr val="0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343400" y="1447920"/>
            <a:ext cx="2514600" cy="3070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pini Battal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495680" y="1860480"/>
            <a:ext cx="1981440" cy="3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80"/>
                </a:solidFill>
                <a:latin typeface="Arial"/>
              </a:rPr>
              <a:t>HEADQUARTERS E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er                 IT-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495680" y="257508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4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80"/>
                </a:solidFill>
                <a:latin typeface="Arial"/>
              </a:rPr>
              <a:t>Alpini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511520" y="289548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Arial"/>
              </a:rPr>
              <a:t>Organic Fire Support</a:t>
            </a:r>
            <a:r>
              <a:rPr b="1" lang="en-US" sz="9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11520" y="3048120"/>
            <a:ext cx="216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81mm Medium Mortar  IT-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91120" y="3108240"/>
            <a:ext cx="239760" cy="1573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4314960" y="3139920"/>
            <a:ext cx="1440" cy="100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275000" y="3236760"/>
            <a:ext cx="684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267080" y="304812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314960" y="304956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191120" y="3476520"/>
            <a:ext cx="231480" cy="1573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191120" y="3473280"/>
            <a:ext cx="114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305240" y="3471840"/>
            <a:ext cx="11448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319640" y="342900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259160" y="342900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962520" y="3200400"/>
            <a:ext cx="223560" cy="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95680" y="3505320"/>
            <a:ext cx="22860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-2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7mm Antitank Gun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IT-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4 per regime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06400" y="13716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081080" y="233028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019160" y="3095640"/>
            <a:ext cx="270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071720" y="45054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219320" y="470844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3 per divis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09880" y="477036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 Support Element Det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80880" y="228600"/>
            <a:ext cx="6629400" cy="58500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alian Tables of 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Army – Eastern Front 194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52560" y="38289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42840" y="382896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104840" y="382896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028880" y="382896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66720" y="1590840"/>
            <a:ext cx="114480" cy="218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019160" y="2514600"/>
            <a:ext cx="74520" cy="133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267080" y="2657520"/>
            <a:ext cx="76320" cy="76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933720" y="1590840"/>
            <a:ext cx="114480" cy="218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81000" y="6134040"/>
            <a:ext cx="76320" cy="856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352520" y="6743880"/>
            <a:ext cx="76320" cy="856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276200" y="6972480"/>
            <a:ext cx="55800" cy="150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95760" y="67374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ward Observer      IT-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595760" y="7026120"/>
            <a:ext cx="20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Arial"/>
              </a:rPr>
              <a:t>Off-board Direct Fire Sup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62520" y="6504120"/>
            <a:ext cx="231480" cy="1569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038480" y="6672240"/>
            <a:ext cx="0" cy="58248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95760" y="7147080"/>
            <a:ext cx="2490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5/13 Mountain Gun   -1V, 0 T,G,sV Small Template-use GE-38 on board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075200" y="643572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595760" y="6629400"/>
            <a:ext cx="152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Arial"/>
              </a:rPr>
              <a:t>On-board Attach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62240" y="657684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343400" y="7175520"/>
            <a:ext cx="239760" cy="1573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38480" y="6834240"/>
            <a:ext cx="300240" cy="144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38480" y="7251840"/>
            <a:ext cx="300240" cy="144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343400" y="6761160"/>
            <a:ext cx="239760" cy="1573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4430880" y="7115040"/>
            <a:ext cx="74520" cy="28800"/>
            <a:chOff x="4430880" y="7115040"/>
            <a:chExt cx="74520" cy="28800"/>
          </a:xfrm>
        </p:grpSpPr>
        <p:sp>
          <p:nvSpPr>
            <p:cNvPr id="471" name=""/>
            <p:cNvSpPr/>
            <p:nvPr/>
          </p:nvSpPr>
          <p:spPr>
            <a:xfrm>
              <a:off x="4430880" y="711504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478400" y="711684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4451400" y="724068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307040" y="673740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443480" y="670860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214880" y="643248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mm Mountain Gun Battal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105440" y="51436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962520" y="3962520"/>
            <a:ext cx="223560" cy="0"/>
          </a:xfrm>
          <a:prstGeom prst="line">
            <a:avLst/>
          </a:prstGeom>
          <a:ln w="15840">
            <a:solidFill>
              <a:srgbClr val="0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495680" y="3870360"/>
            <a:ext cx="221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8080"/>
                </a:solidFill>
                <a:latin typeface="Arial"/>
              </a:rPr>
              <a:t>75mm Mountain Gun 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187880" y="3881520"/>
            <a:ext cx="231840" cy="1569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319640" y="382104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287960" y="395460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495680" y="37432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80"/>
                </a:solidFill>
                <a:latin typeface="Arial"/>
              </a:rPr>
              <a:t>FIRE SUPPORT ELEME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5800" y="4237200"/>
            <a:ext cx="223920" cy="0"/>
          </a:xfrm>
          <a:prstGeom prst="line">
            <a:avLst/>
          </a:prstGeom>
          <a:ln w="15840">
            <a:solidFill>
              <a:srgbClr val="0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06480" y="4162320"/>
            <a:ext cx="231840" cy="1573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906480" y="4159080"/>
            <a:ext cx="114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020600" y="4157640"/>
            <a:ext cx="11448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035000" y="4114800"/>
            <a:ext cx="2880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974880" y="4114800"/>
            <a:ext cx="28440" cy="27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219320" y="4162320"/>
            <a:ext cx="24382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5/39</a:t>
            </a: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itank Gun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GE-P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4 per divis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38080" y="7848720"/>
            <a:ext cx="396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Units transported by Pack Mule (GN-02) or Fiat TL37 (IT-19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38080" y="806148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Units transported by Fiat TL37        IT-19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9T19:18:07Z</dcterms:created>
  <dc:creator>James Baker</dc:creator>
  <dc:description/>
  <dc:language>en-US</dc:language>
  <cp:lastModifiedBy>Mark.Hayes</cp:lastModifiedBy>
  <cp:lastPrinted>2003-06-22T19:05:49Z</cp:lastPrinted>
  <dcterms:modified xsi:type="dcterms:W3CDTF">2006-03-06T21:23:20Z</dcterms:modified>
  <cp:revision>60</cp:revision>
  <dc:subject/>
  <dc:title>PowerPoint Presentation</dc:title>
</cp:coreProperties>
</file>