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69F6C-A288-4F26-81D5-FECC4998D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3D4BC-DF9E-4E5A-9AFF-60C97007D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C1A8F-85E7-4AD1-A132-AC8452DC4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ACDB5-0472-4ABD-997C-18432FA3E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5CA39-16A2-44D1-B36B-40CBC00B4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2508D-5CD4-4D02-AA57-22FD9EF16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AECE3-D473-47DC-8B1D-925C92E48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8484C-644C-445C-B931-31CD2181F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1FF51-BC7E-4E57-9BF8-6E3CF6EB8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1CE0E-822B-4421-94BD-9098960DC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2B031-A0F0-4900-87FE-6FCA46EEA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6B56-1881-4450-99D5-5D1555AD7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E346-6D97-4B9A-9314-CDD5B17AC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579320" y="166680"/>
            <a:ext cx="364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Battalion Royal Australian Regiment (3 RAR) in Korea</a:t>
            </a:r>
            <a:endParaRPr b="0" lang="en-US" sz="1000" spc="-1" strike="noStrike">
              <a:solidFill>
                <a:srgbClr val="000000"/>
              </a:solidFill>
              <a:latin typeface="Times New Roman"/>
            </a:endParaRPr>
          </a:p>
        </p:txBody>
      </p:sp>
      <p:sp>
        <p:nvSpPr>
          <p:cNvPr id="43"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44"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838680" y="3429000"/>
            <a:ext cx="4565520" cy="1947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lthough initially equipped with British equipment, most of it ended up broken and discarded and was not actually used in battle.Thereafter they were principally transported by their feet, though they acquired lots of US trucks (and heaps of other equipment - including a crane!) on the way south during December 1950 and January 1951. It was stated that there were never enough trucks to transport more than one company at a time.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50" name=""/>
          <p:cNvGrpSpPr/>
          <p:nvPr/>
        </p:nvGrpSpPr>
        <p:grpSpPr>
          <a:xfrm>
            <a:off x="3586320" y="484200"/>
            <a:ext cx="3601440" cy="911160"/>
            <a:chOff x="3586320" y="484200"/>
            <a:chExt cx="3601440" cy="911160"/>
          </a:xfrm>
        </p:grpSpPr>
        <p:grpSp>
          <p:nvGrpSpPr>
            <p:cNvPr id="51" name=""/>
            <p:cNvGrpSpPr/>
            <p:nvPr/>
          </p:nvGrpSpPr>
          <p:grpSpPr>
            <a:xfrm>
              <a:off x="3729240" y="1152720"/>
              <a:ext cx="3423600" cy="242640"/>
              <a:chOff x="3729240" y="1152720"/>
              <a:chExt cx="3423600" cy="242640"/>
            </a:xfrm>
          </p:grpSpPr>
          <p:sp>
            <p:nvSpPr>
              <p:cNvPr id="52"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2 PIAT/Bazooka)      BR-49 or UN-02</a:t>
                </a:r>
                <a:endParaRPr b="0" lang="en-US" sz="800" spc="-1" strike="noStrike">
                  <a:solidFill>
                    <a:srgbClr val="000000"/>
                  </a:solidFill>
                  <a:latin typeface="Times New Roman"/>
                </a:endParaRPr>
              </a:p>
            </p:txBody>
          </p:sp>
          <p:grpSp>
            <p:nvGrpSpPr>
              <p:cNvPr id="54" name=""/>
              <p:cNvGrpSpPr/>
              <p:nvPr/>
            </p:nvGrpSpPr>
            <p:grpSpPr>
              <a:xfrm>
                <a:off x="4030560" y="1152720"/>
                <a:ext cx="231480" cy="203040"/>
                <a:chOff x="4030560" y="1152720"/>
                <a:chExt cx="231480" cy="203040"/>
              </a:xfrm>
            </p:grpSpPr>
            <p:grpSp>
              <p:nvGrpSpPr>
                <p:cNvPr id="55" name=""/>
                <p:cNvGrpSpPr/>
                <p:nvPr/>
              </p:nvGrpSpPr>
              <p:grpSpPr>
                <a:xfrm>
                  <a:off x="4030560" y="1198800"/>
                  <a:ext cx="231480" cy="156960"/>
                  <a:chOff x="4030560" y="1198800"/>
                  <a:chExt cx="231480" cy="156960"/>
                </a:xfrm>
              </p:grpSpPr>
              <p:sp>
                <p:nvSpPr>
                  <p:cNvPr id="56"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4107960" y="1152720"/>
                  <a:ext cx="73800" cy="27000"/>
                  <a:chOff x="4107960" y="1152720"/>
                  <a:chExt cx="73800" cy="27000"/>
                </a:xfrm>
              </p:grpSpPr>
              <p:sp>
                <p:nvSpPr>
                  <p:cNvPr id="60"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2" name=""/>
            <p:cNvGrpSpPr/>
            <p:nvPr/>
          </p:nvGrpSpPr>
          <p:grpSpPr>
            <a:xfrm>
              <a:off x="3729240" y="787320"/>
              <a:ext cx="3458520" cy="368280"/>
              <a:chOff x="3729240" y="787320"/>
              <a:chExt cx="3458520" cy="368280"/>
            </a:xfrm>
          </p:grpSpPr>
          <p:sp>
            <p:nvSpPr>
              <p:cNvPr id="63"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65"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66" name=""/>
              <p:cNvGrpSpPr/>
              <p:nvPr/>
            </p:nvGrpSpPr>
            <p:grpSpPr>
              <a:xfrm>
                <a:off x="4025880" y="844560"/>
                <a:ext cx="231480" cy="210960"/>
                <a:chOff x="4025880" y="844560"/>
                <a:chExt cx="231480" cy="210960"/>
              </a:xfrm>
            </p:grpSpPr>
            <p:grpSp>
              <p:nvGrpSpPr>
                <p:cNvPr id="67" name=""/>
                <p:cNvGrpSpPr/>
                <p:nvPr/>
              </p:nvGrpSpPr>
              <p:grpSpPr>
                <a:xfrm>
                  <a:off x="4025880" y="898560"/>
                  <a:ext cx="231480" cy="156960"/>
                  <a:chOff x="4025880" y="898560"/>
                  <a:chExt cx="231480" cy="156960"/>
                </a:xfrm>
              </p:grpSpPr>
              <p:sp>
                <p:nvSpPr>
                  <p:cNvPr id="68"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0"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73" name=""/>
            <p:cNvGrpSpPr/>
            <p:nvPr/>
          </p:nvGrpSpPr>
          <p:grpSpPr>
            <a:xfrm>
              <a:off x="3586320" y="484200"/>
              <a:ext cx="283680" cy="255240"/>
              <a:chOff x="3586320" y="484200"/>
              <a:chExt cx="283680" cy="255240"/>
            </a:xfrm>
          </p:grpSpPr>
          <p:sp>
            <p:nvSpPr>
              <p:cNvPr id="74"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5" name=""/>
              <p:cNvGrpSpPr/>
              <p:nvPr/>
            </p:nvGrpSpPr>
            <p:grpSpPr>
              <a:xfrm>
                <a:off x="3586320" y="546120"/>
                <a:ext cx="283680" cy="193320"/>
                <a:chOff x="3586320" y="546120"/>
                <a:chExt cx="283680" cy="193320"/>
              </a:xfrm>
            </p:grpSpPr>
            <p:sp>
              <p:nvSpPr>
                <p:cNvPr id="76"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9" name=""/>
          <p:cNvGrpSpPr/>
          <p:nvPr/>
        </p:nvGrpSpPr>
        <p:grpSpPr>
          <a:xfrm>
            <a:off x="1020600" y="1808280"/>
            <a:ext cx="2805120" cy="283680"/>
            <a:chOff x="1020600" y="1808280"/>
            <a:chExt cx="2805120" cy="283680"/>
          </a:xfrm>
        </p:grpSpPr>
        <p:sp>
          <p:nvSpPr>
            <p:cNvPr id="80"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279440" y="1836720"/>
              <a:ext cx="284040" cy="255240"/>
              <a:chOff x="1279440" y="1836720"/>
              <a:chExt cx="284040" cy="255240"/>
            </a:xfrm>
          </p:grpSpPr>
          <p:grpSp>
            <p:nvGrpSpPr>
              <p:cNvPr id="82" name=""/>
              <p:cNvGrpSpPr/>
              <p:nvPr/>
            </p:nvGrpSpPr>
            <p:grpSpPr>
              <a:xfrm>
                <a:off x="1279440" y="1898640"/>
                <a:ext cx="284040" cy="193320"/>
                <a:chOff x="1279440" y="1898640"/>
                <a:chExt cx="284040" cy="193320"/>
              </a:xfrm>
            </p:grpSpPr>
            <p:sp>
              <p:nvSpPr>
                <p:cNvPr id="83"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7"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88"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89"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90" name=""/>
          <p:cNvGrpSpPr/>
          <p:nvPr/>
        </p:nvGrpSpPr>
        <p:grpSpPr>
          <a:xfrm>
            <a:off x="1011240" y="627120"/>
            <a:ext cx="2550960" cy="1093680"/>
            <a:chOff x="1011240" y="627120"/>
            <a:chExt cx="2550960" cy="1093680"/>
          </a:xfrm>
        </p:grpSpPr>
        <p:sp>
          <p:nvSpPr>
            <p:cNvPr id="91"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012680" y="627120"/>
              <a:ext cx="2511720" cy="241200"/>
              <a:chOff x="1012680" y="627120"/>
              <a:chExt cx="2511720" cy="241200"/>
            </a:xfrm>
          </p:grpSpPr>
          <p:sp>
            <p:nvSpPr>
              <p:cNvPr id="93"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95"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96" name=""/>
              <p:cNvGrpSpPr/>
              <p:nvPr/>
            </p:nvGrpSpPr>
            <p:grpSpPr>
              <a:xfrm>
                <a:off x="1328760" y="641520"/>
                <a:ext cx="231840" cy="210960"/>
                <a:chOff x="1328760" y="641520"/>
                <a:chExt cx="231840" cy="210960"/>
              </a:xfrm>
            </p:grpSpPr>
            <p:grpSp>
              <p:nvGrpSpPr>
                <p:cNvPr id="97" name=""/>
                <p:cNvGrpSpPr/>
                <p:nvPr/>
              </p:nvGrpSpPr>
              <p:grpSpPr>
                <a:xfrm>
                  <a:off x="1328760" y="695520"/>
                  <a:ext cx="231840" cy="156960"/>
                  <a:chOff x="1328760" y="695520"/>
                  <a:chExt cx="231840" cy="156960"/>
                </a:xfrm>
              </p:grpSpPr>
              <p:sp>
                <p:nvSpPr>
                  <p:cNvPr id="98"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0"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1" name=""/>
            <p:cNvGrpSpPr/>
            <p:nvPr/>
          </p:nvGrpSpPr>
          <p:grpSpPr>
            <a:xfrm>
              <a:off x="1305000" y="1468440"/>
              <a:ext cx="2228760" cy="252360"/>
              <a:chOff x="1305000" y="1468440"/>
              <a:chExt cx="2228760" cy="252360"/>
            </a:xfrm>
          </p:grpSpPr>
          <p:sp>
            <p:nvSpPr>
              <p:cNvPr id="102"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103"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04" name=""/>
              <p:cNvGrpSpPr/>
              <p:nvPr/>
            </p:nvGrpSpPr>
            <p:grpSpPr>
              <a:xfrm>
                <a:off x="1305000" y="1482840"/>
                <a:ext cx="231840" cy="237960"/>
                <a:chOff x="1305000" y="1482840"/>
                <a:chExt cx="231840" cy="237960"/>
              </a:xfrm>
            </p:grpSpPr>
            <p:sp>
              <p:nvSpPr>
                <p:cNvPr id="105"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1305000" y="1530360"/>
                  <a:ext cx="231840" cy="190440"/>
                  <a:chOff x="1305000" y="1530360"/>
                  <a:chExt cx="231840" cy="190440"/>
                </a:xfrm>
              </p:grpSpPr>
              <p:sp>
                <p:nvSpPr>
                  <p:cNvPr id="107"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10" name=""/>
            <p:cNvGrpSpPr/>
            <p:nvPr/>
          </p:nvGrpSpPr>
          <p:grpSpPr>
            <a:xfrm>
              <a:off x="1011240" y="1220760"/>
              <a:ext cx="2550960" cy="198000"/>
              <a:chOff x="1011240" y="1220760"/>
              <a:chExt cx="2550960" cy="198000"/>
            </a:xfrm>
          </p:grpSpPr>
          <p:sp>
            <p:nvSpPr>
              <p:cNvPr id="111"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113" name=""/>
              <p:cNvGrpSpPr/>
              <p:nvPr/>
            </p:nvGrpSpPr>
            <p:grpSpPr>
              <a:xfrm>
                <a:off x="1305000" y="1220760"/>
                <a:ext cx="231840" cy="198000"/>
                <a:chOff x="1305000" y="1220760"/>
                <a:chExt cx="231840" cy="198000"/>
              </a:xfrm>
            </p:grpSpPr>
            <p:sp>
              <p:nvSpPr>
                <p:cNvPr id="114"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1305000" y="1261800"/>
                  <a:ext cx="231840" cy="156960"/>
                  <a:chOff x="1305000" y="1261800"/>
                  <a:chExt cx="231840" cy="156960"/>
                </a:xfrm>
              </p:grpSpPr>
              <p:sp>
                <p:nvSpPr>
                  <p:cNvPr id="116"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118" name=""/>
            <p:cNvGrpSpPr/>
            <p:nvPr/>
          </p:nvGrpSpPr>
          <p:grpSpPr>
            <a:xfrm>
              <a:off x="1011240" y="952560"/>
              <a:ext cx="2486160" cy="220320"/>
              <a:chOff x="1011240" y="952560"/>
              <a:chExt cx="2486160" cy="220320"/>
            </a:xfrm>
          </p:grpSpPr>
          <p:sp>
            <p:nvSpPr>
              <p:cNvPr id="119"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121" name=""/>
              <p:cNvGrpSpPr/>
              <p:nvPr/>
            </p:nvGrpSpPr>
            <p:grpSpPr>
              <a:xfrm>
                <a:off x="1322280" y="966960"/>
                <a:ext cx="231840" cy="203040"/>
                <a:chOff x="1322280" y="966960"/>
                <a:chExt cx="231840" cy="203040"/>
              </a:xfrm>
            </p:grpSpPr>
            <p:grpSp>
              <p:nvGrpSpPr>
                <p:cNvPr id="122" name=""/>
                <p:cNvGrpSpPr/>
                <p:nvPr/>
              </p:nvGrpSpPr>
              <p:grpSpPr>
                <a:xfrm>
                  <a:off x="1322280" y="1013040"/>
                  <a:ext cx="231840" cy="156960"/>
                  <a:chOff x="1322280" y="1013040"/>
                  <a:chExt cx="231840" cy="156960"/>
                </a:xfrm>
              </p:grpSpPr>
              <p:sp>
                <p:nvSpPr>
                  <p:cNvPr id="123"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400040" y="966960"/>
                  <a:ext cx="74160" cy="27000"/>
                  <a:chOff x="1400040" y="966960"/>
                  <a:chExt cx="74160" cy="27000"/>
                </a:xfrm>
              </p:grpSpPr>
              <p:sp>
                <p:nvSpPr>
                  <p:cNvPr id="127"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130" name=""/>
          <p:cNvGrpSpPr/>
          <p:nvPr/>
        </p:nvGrpSpPr>
        <p:grpSpPr>
          <a:xfrm>
            <a:off x="1004760" y="2309760"/>
            <a:ext cx="2872080" cy="546120"/>
            <a:chOff x="1004760" y="2309760"/>
            <a:chExt cx="2872080" cy="546120"/>
          </a:xfrm>
        </p:grpSpPr>
        <p:sp>
          <p:nvSpPr>
            <p:cNvPr id="131"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34"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35" name=""/>
            <p:cNvGrpSpPr/>
            <p:nvPr/>
          </p:nvGrpSpPr>
          <p:grpSpPr>
            <a:xfrm>
              <a:off x="1320840" y="2338560"/>
              <a:ext cx="231840" cy="210960"/>
              <a:chOff x="1320840" y="2338560"/>
              <a:chExt cx="231840" cy="210960"/>
            </a:xfrm>
          </p:grpSpPr>
          <p:grpSp>
            <p:nvGrpSpPr>
              <p:cNvPr id="136" name=""/>
              <p:cNvGrpSpPr/>
              <p:nvPr/>
            </p:nvGrpSpPr>
            <p:grpSpPr>
              <a:xfrm>
                <a:off x="1320840" y="2392560"/>
                <a:ext cx="231840" cy="156960"/>
                <a:chOff x="1320840" y="2392560"/>
                <a:chExt cx="231840" cy="156960"/>
              </a:xfrm>
            </p:grpSpPr>
            <p:sp>
              <p:nvSpPr>
                <p:cNvPr id="137"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39"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141"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42" name=""/>
            <p:cNvGrpSpPr/>
            <p:nvPr/>
          </p:nvGrpSpPr>
          <p:grpSpPr>
            <a:xfrm>
              <a:off x="1327320" y="2604960"/>
              <a:ext cx="231480" cy="237960"/>
              <a:chOff x="1327320" y="2604960"/>
              <a:chExt cx="231480" cy="237960"/>
            </a:xfrm>
          </p:grpSpPr>
          <p:sp>
            <p:nvSpPr>
              <p:cNvPr id="143"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1327320" y="2652480"/>
                <a:ext cx="231480" cy="190440"/>
                <a:chOff x="1327320" y="2652480"/>
                <a:chExt cx="231480" cy="190440"/>
              </a:xfrm>
            </p:grpSpPr>
            <p:sp>
              <p:nvSpPr>
                <p:cNvPr id="145"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8"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3 RAR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149" name=""/>
          <p:cNvGrpSpPr/>
          <p:nvPr/>
        </p:nvGrpSpPr>
        <p:grpSpPr>
          <a:xfrm>
            <a:off x="1020600" y="2897280"/>
            <a:ext cx="2907000" cy="557280"/>
            <a:chOff x="1020600" y="2897280"/>
            <a:chExt cx="2907000" cy="557280"/>
          </a:xfrm>
        </p:grpSpPr>
        <p:sp>
          <p:nvSpPr>
            <p:cNvPr id="150" name=""/>
            <p:cNvSpPr/>
            <p:nvPr/>
          </p:nvSpPr>
          <p:spPr>
            <a:xfrm>
              <a:off x="1406520" y="305424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89120" y="3327480"/>
              <a:ext cx="2065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MC 2 1/2 Ton Truck </a:t>
              </a:r>
              <a:r>
                <a:rPr b="1" lang="en-US" sz="800" spc="-1" strike="noStrike">
                  <a:solidFill>
                    <a:srgbClr val="000000"/>
                  </a:solidFill>
                  <a:latin typeface="Arial"/>
                </a:rPr>
                <a:t>(c)           </a:t>
              </a:r>
              <a:r>
                <a:rPr b="0" lang="en-US" sz="800" spc="-1" strike="noStrike">
                  <a:solidFill>
                    <a:srgbClr val="000000"/>
                  </a:solidFill>
                  <a:latin typeface="Arial"/>
                </a:rPr>
                <a:t>US-15</a:t>
              </a:r>
              <a:endParaRPr b="0" lang="en-US" sz="800" spc="-1" strike="noStrike">
                <a:solidFill>
                  <a:srgbClr val="000000"/>
                </a:solidFill>
                <a:latin typeface="Times New Roman"/>
              </a:endParaRPr>
            </a:p>
          </p:txBody>
        </p:sp>
        <p:sp>
          <p:nvSpPr>
            <p:cNvPr id="152" name=""/>
            <p:cNvSpPr/>
            <p:nvPr/>
          </p:nvSpPr>
          <p:spPr>
            <a:xfrm>
              <a:off x="1689120" y="31892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53" name=""/>
            <p:cNvGrpSpPr/>
            <p:nvPr/>
          </p:nvGrpSpPr>
          <p:grpSpPr>
            <a:xfrm>
              <a:off x="1365120" y="3218040"/>
              <a:ext cx="231480" cy="236520"/>
              <a:chOff x="1365120" y="3218040"/>
              <a:chExt cx="231480" cy="236520"/>
            </a:xfrm>
          </p:grpSpPr>
          <p:grpSp>
            <p:nvGrpSpPr>
              <p:cNvPr id="154" name=""/>
              <p:cNvGrpSpPr/>
              <p:nvPr/>
            </p:nvGrpSpPr>
            <p:grpSpPr>
              <a:xfrm>
                <a:off x="1365120" y="3264120"/>
                <a:ext cx="231480" cy="190440"/>
                <a:chOff x="1365120" y="3264120"/>
                <a:chExt cx="231480" cy="190440"/>
              </a:xfrm>
            </p:grpSpPr>
            <p:sp>
              <p:nvSpPr>
                <p:cNvPr id="155" name=""/>
                <p:cNvSpPr/>
                <p:nvPr/>
              </p:nvSpPr>
              <p:spPr>
                <a:xfrm>
                  <a:off x="1365120" y="3264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5920" y="342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56640" y="342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
              <p:cNvGrpSpPr/>
              <p:nvPr/>
            </p:nvGrpSpPr>
            <p:grpSpPr>
              <a:xfrm>
                <a:off x="1444320" y="3218040"/>
                <a:ext cx="74160" cy="27000"/>
                <a:chOff x="1444320" y="3218040"/>
                <a:chExt cx="74160" cy="27000"/>
              </a:xfrm>
            </p:grpSpPr>
            <p:sp>
              <p:nvSpPr>
                <p:cNvPr id="159" name=""/>
                <p:cNvSpPr/>
                <p:nvPr/>
              </p:nvSpPr>
              <p:spPr>
                <a:xfrm>
                  <a:off x="1444320" y="321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491840" y="321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 name=""/>
            <p:cNvSpPr/>
            <p:nvPr/>
          </p:nvSpPr>
          <p:spPr>
            <a:xfrm>
              <a:off x="1020600" y="3059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9120" y="3032280"/>
              <a:ext cx="223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6</a:t>
              </a:r>
              <a:r>
                <a:rPr b="0" lang="en-US" sz="800" spc="-1" strike="noStrike">
                  <a:solidFill>
                    <a:srgbClr val="000000"/>
                  </a:solidFill>
                  <a:latin typeface="Arial"/>
                </a:rPr>
                <a:t> Assault Pioneers (0-3 Flame)</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163" name=""/>
            <p:cNvGrpSpPr/>
            <p:nvPr/>
          </p:nvGrpSpPr>
          <p:grpSpPr>
            <a:xfrm>
              <a:off x="1357200" y="2914560"/>
              <a:ext cx="231840" cy="212400"/>
              <a:chOff x="1357200" y="2914560"/>
              <a:chExt cx="231840" cy="212400"/>
            </a:xfrm>
          </p:grpSpPr>
          <p:grpSp>
            <p:nvGrpSpPr>
              <p:cNvPr id="164" name=""/>
              <p:cNvGrpSpPr/>
              <p:nvPr/>
            </p:nvGrpSpPr>
            <p:grpSpPr>
              <a:xfrm>
                <a:off x="1440000" y="2914560"/>
                <a:ext cx="74160" cy="27000"/>
                <a:chOff x="1440000" y="2914560"/>
                <a:chExt cx="74160" cy="27000"/>
              </a:xfrm>
            </p:grpSpPr>
            <p:sp>
              <p:nvSpPr>
                <p:cNvPr id="165" name=""/>
                <p:cNvSpPr/>
                <p:nvPr/>
              </p:nvSpPr>
              <p:spPr>
                <a:xfrm>
                  <a:off x="144000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48752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 name=""/>
              <p:cNvGrpSpPr/>
              <p:nvPr/>
            </p:nvGrpSpPr>
            <p:grpSpPr>
              <a:xfrm>
                <a:off x="1357200" y="2970000"/>
                <a:ext cx="231840" cy="156960"/>
                <a:chOff x="1357200" y="2970000"/>
                <a:chExt cx="231840" cy="156960"/>
              </a:xfrm>
            </p:grpSpPr>
            <p:sp>
              <p:nvSpPr>
                <p:cNvPr id="168" name=""/>
                <p:cNvSpPr/>
                <p:nvPr/>
              </p:nvSpPr>
              <p:spPr>
                <a:xfrm>
                  <a:off x="1357200" y="2970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28480" y="3017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0" name=""/>
                <p:cNvSpPr/>
                <p:nvPr/>
              </p:nvSpPr>
              <p:spPr>
                <a:xfrm>
                  <a:off x="1469880" y="3019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1510560" y="30211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1423800" y="3019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 name=""/>
            <p:cNvSpPr/>
            <p:nvPr/>
          </p:nvSpPr>
          <p:spPr>
            <a:xfrm>
              <a:off x="1689120" y="2897280"/>
              <a:ext cx="164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SSAULT PIONEER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grpSp>
        <p:nvGrpSpPr>
          <p:cNvPr id="174" name=""/>
          <p:cNvGrpSpPr/>
          <p:nvPr/>
        </p:nvGrpSpPr>
        <p:grpSpPr>
          <a:xfrm>
            <a:off x="1017720" y="3473280"/>
            <a:ext cx="2700360" cy="544320"/>
            <a:chOff x="1017720" y="3473280"/>
            <a:chExt cx="2700360" cy="544320"/>
          </a:xfrm>
        </p:grpSpPr>
        <p:sp>
          <p:nvSpPr>
            <p:cNvPr id="175" name=""/>
            <p:cNvSpPr/>
            <p:nvPr/>
          </p:nvSpPr>
          <p:spPr>
            <a:xfrm>
              <a:off x="1403280" y="36133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89120" y="389556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177" name=""/>
            <p:cNvSpPr/>
            <p:nvPr/>
          </p:nvSpPr>
          <p:spPr>
            <a:xfrm>
              <a:off x="1689120" y="37101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78" name=""/>
            <p:cNvSpPr/>
            <p:nvPr/>
          </p:nvSpPr>
          <p:spPr>
            <a:xfrm>
              <a:off x="1017720" y="3618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1359000" y="3473280"/>
              <a:ext cx="231480" cy="212760"/>
              <a:chOff x="1359000" y="3473280"/>
              <a:chExt cx="231480" cy="212760"/>
            </a:xfrm>
          </p:grpSpPr>
          <p:grpSp>
            <p:nvGrpSpPr>
              <p:cNvPr id="180" name=""/>
              <p:cNvGrpSpPr/>
              <p:nvPr/>
            </p:nvGrpSpPr>
            <p:grpSpPr>
              <a:xfrm>
                <a:off x="1359000" y="3529080"/>
                <a:ext cx="231480" cy="156960"/>
                <a:chOff x="1359000" y="3529080"/>
                <a:chExt cx="231480" cy="156960"/>
              </a:xfrm>
            </p:grpSpPr>
            <p:sp>
              <p:nvSpPr>
                <p:cNvPr id="181" name=""/>
                <p:cNvSpPr/>
                <p:nvPr/>
              </p:nvSpPr>
              <p:spPr>
                <a:xfrm>
                  <a:off x="1359000" y="3529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1359000" y="3532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72760" y="35290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436760" y="3473280"/>
                <a:ext cx="74160" cy="27000"/>
                <a:chOff x="1436760" y="3473280"/>
                <a:chExt cx="74160" cy="27000"/>
              </a:xfrm>
            </p:grpSpPr>
            <p:sp>
              <p:nvSpPr>
                <p:cNvPr id="185" name=""/>
                <p:cNvSpPr/>
                <p:nvPr/>
              </p:nvSpPr>
              <p:spPr>
                <a:xfrm>
                  <a:off x="1436760" y="34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484280" y="347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 name=""/>
            <p:cNvSpPr/>
            <p:nvPr/>
          </p:nvSpPr>
          <p:spPr>
            <a:xfrm>
              <a:off x="1689120" y="361476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188" name=""/>
            <p:cNvSpPr/>
            <p:nvPr/>
          </p:nvSpPr>
          <p:spPr>
            <a:xfrm>
              <a:off x="1689120" y="349092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189" name=""/>
            <p:cNvGrpSpPr/>
            <p:nvPr/>
          </p:nvGrpSpPr>
          <p:grpSpPr>
            <a:xfrm>
              <a:off x="1374840" y="3770280"/>
              <a:ext cx="231480" cy="236520"/>
              <a:chOff x="1374840" y="3770280"/>
              <a:chExt cx="231480" cy="236520"/>
            </a:xfrm>
          </p:grpSpPr>
          <p:grpSp>
            <p:nvGrpSpPr>
              <p:cNvPr id="190" name=""/>
              <p:cNvGrpSpPr/>
              <p:nvPr/>
            </p:nvGrpSpPr>
            <p:grpSpPr>
              <a:xfrm>
                <a:off x="1374840" y="3816360"/>
                <a:ext cx="231480" cy="190440"/>
                <a:chOff x="1374840" y="3816360"/>
                <a:chExt cx="231480" cy="190440"/>
              </a:xfrm>
            </p:grpSpPr>
            <p:sp>
              <p:nvSpPr>
                <p:cNvPr id="191" name=""/>
                <p:cNvSpPr/>
                <p:nvPr/>
              </p:nvSpPr>
              <p:spPr>
                <a:xfrm>
                  <a:off x="1374840" y="38163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85640" y="397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66360" y="39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1454040" y="3770280"/>
                <a:ext cx="74160" cy="27000"/>
                <a:chOff x="1454040" y="3770280"/>
                <a:chExt cx="74160" cy="27000"/>
              </a:xfrm>
            </p:grpSpPr>
            <p:sp>
              <p:nvSpPr>
                <p:cNvPr id="195" name=""/>
                <p:cNvSpPr/>
                <p:nvPr/>
              </p:nvSpPr>
              <p:spPr>
                <a:xfrm>
                  <a:off x="1454040" y="377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501560" y="377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7" name=""/>
          <p:cNvGrpSpPr/>
          <p:nvPr/>
        </p:nvGrpSpPr>
        <p:grpSpPr>
          <a:xfrm>
            <a:off x="1014480" y="4052880"/>
            <a:ext cx="2814480" cy="525600"/>
            <a:chOff x="1014480" y="4052880"/>
            <a:chExt cx="2814480" cy="525600"/>
          </a:xfrm>
        </p:grpSpPr>
        <p:sp>
          <p:nvSpPr>
            <p:cNvPr id="198" name=""/>
            <p:cNvSpPr/>
            <p:nvPr/>
          </p:nvSpPr>
          <p:spPr>
            <a:xfrm>
              <a:off x="1014480" y="41734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89120" y="4175280"/>
              <a:ext cx="2120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200" name=""/>
            <p:cNvGrpSpPr/>
            <p:nvPr/>
          </p:nvGrpSpPr>
          <p:grpSpPr>
            <a:xfrm>
              <a:off x="1349280" y="4052880"/>
              <a:ext cx="231480" cy="202680"/>
              <a:chOff x="1349280" y="4052880"/>
              <a:chExt cx="231480" cy="202680"/>
            </a:xfrm>
          </p:grpSpPr>
          <p:grpSp>
            <p:nvGrpSpPr>
              <p:cNvPr id="201" name=""/>
              <p:cNvGrpSpPr/>
              <p:nvPr/>
            </p:nvGrpSpPr>
            <p:grpSpPr>
              <a:xfrm>
                <a:off x="1422000" y="4052880"/>
                <a:ext cx="74880" cy="26640"/>
                <a:chOff x="1422000" y="4052880"/>
                <a:chExt cx="74880" cy="26640"/>
              </a:xfrm>
            </p:grpSpPr>
            <p:sp>
              <p:nvSpPr>
                <p:cNvPr id="202" name=""/>
                <p:cNvSpPr/>
                <p:nvPr/>
              </p:nvSpPr>
              <p:spPr>
                <a:xfrm>
                  <a:off x="1422000" y="4052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469880" y="405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
              <p:cNvGrpSpPr/>
              <p:nvPr/>
            </p:nvGrpSpPr>
            <p:grpSpPr>
              <a:xfrm>
                <a:off x="1349280" y="4098600"/>
                <a:ext cx="231480" cy="156960"/>
                <a:chOff x="1349280" y="4098600"/>
                <a:chExt cx="231480" cy="156960"/>
              </a:xfrm>
            </p:grpSpPr>
            <p:sp>
              <p:nvSpPr>
                <p:cNvPr id="205" name=""/>
                <p:cNvSpPr/>
                <p:nvPr/>
              </p:nvSpPr>
              <p:spPr>
                <a:xfrm>
                  <a:off x="1349280" y="4098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49280" y="409860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349280" y="410148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350360" y="409860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 name=""/>
            <p:cNvSpPr/>
            <p:nvPr/>
          </p:nvSpPr>
          <p:spPr>
            <a:xfrm>
              <a:off x="1379520" y="41734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89120" y="4314960"/>
              <a:ext cx="596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1" name=""/>
            <p:cNvSpPr/>
            <p:nvPr/>
          </p:nvSpPr>
          <p:spPr>
            <a:xfrm>
              <a:off x="1689120" y="4410000"/>
              <a:ext cx="2139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12" name=""/>
            <p:cNvSpPr/>
            <p:nvPr/>
          </p:nvSpPr>
          <p:spPr>
            <a:xfrm>
              <a:off x="1689120" y="406224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213" name=""/>
            <p:cNvGrpSpPr/>
            <p:nvPr/>
          </p:nvGrpSpPr>
          <p:grpSpPr>
            <a:xfrm>
              <a:off x="1355760" y="4341960"/>
              <a:ext cx="231480" cy="236520"/>
              <a:chOff x="1355760" y="4341960"/>
              <a:chExt cx="231480" cy="236520"/>
            </a:xfrm>
          </p:grpSpPr>
          <p:grpSp>
            <p:nvGrpSpPr>
              <p:cNvPr id="214" name=""/>
              <p:cNvGrpSpPr/>
              <p:nvPr/>
            </p:nvGrpSpPr>
            <p:grpSpPr>
              <a:xfrm>
                <a:off x="1355760" y="4388040"/>
                <a:ext cx="231480" cy="190440"/>
                <a:chOff x="1355760" y="4388040"/>
                <a:chExt cx="231480" cy="190440"/>
              </a:xfrm>
            </p:grpSpPr>
            <p:sp>
              <p:nvSpPr>
                <p:cNvPr id="215" name=""/>
                <p:cNvSpPr/>
                <p:nvPr/>
              </p:nvSpPr>
              <p:spPr>
                <a:xfrm>
                  <a:off x="1355760" y="4388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66560" y="455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547280" y="455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1434960" y="4341960"/>
                <a:ext cx="74160" cy="27000"/>
                <a:chOff x="1434960" y="4341960"/>
                <a:chExt cx="74160" cy="27000"/>
              </a:xfrm>
            </p:grpSpPr>
            <p:sp>
              <p:nvSpPr>
                <p:cNvPr id="219" name=""/>
                <p:cNvSpPr/>
                <p:nvPr/>
              </p:nvSpPr>
              <p:spPr>
                <a:xfrm>
                  <a:off x="1434960" y="434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482480" y="434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1" name=""/>
          <p:cNvGrpSpPr/>
          <p:nvPr/>
        </p:nvGrpSpPr>
        <p:grpSpPr>
          <a:xfrm>
            <a:off x="1003320" y="4603680"/>
            <a:ext cx="2879640" cy="689040"/>
            <a:chOff x="1003320" y="4603680"/>
            <a:chExt cx="2879640" cy="689040"/>
          </a:xfrm>
        </p:grpSpPr>
        <p:sp>
          <p:nvSpPr>
            <p:cNvPr id="222"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24"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25"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227"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228" name=""/>
            <p:cNvGrpSpPr/>
            <p:nvPr/>
          </p:nvGrpSpPr>
          <p:grpSpPr>
            <a:xfrm>
              <a:off x="1353960" y="4767120"/>
              <a:ext cx="231840" cy="196560"/>
              <a:chOff x="1353960" y="4767120"/>
              <a:chExt cx="231840" cy="196560"/>
            </a:xfrm>
          </p:grpSpPr>
          <p:grpSp>
            <p:nvGrpSpPr>
              <p:cNvPr id="229" name=""/>
              <p:cNvGrpSpPr/>
              <p:nvPr/>
            </p:nvGrpSpPr>
            <p:grpSpPr>
              <a:xfrm>
                <a:off x="1425240" y="4767120"/>
                <a:ext cx="74160" cy="27000"/>
                <a:chOff x="1425240" y="4767120"/>
                <a:chExt cx="74160" cy="27000"/>
              </a:xfrm>
            </p:grpSpPr>
            <p:sp>
              <p:nvSpPr>
                <p:cNvPr id="230"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1353960" y="4806720"/>
                <a:ext cx="231840" cy="156960"/>
                <a:chOff x="1353960" y="4806720"/>
                <a:chExt cx="231840" cy="156960"/>
              </a:xfrm>
            </p:grpSpPr>
            <p:grpSp>
              <p:nvGrpSpPr>
                <p:cNvPr id="233" name=""/>
                <p:cNvGrpSpPr/>
                <p:nvPr/>
              </p:nvGrpSpPr>
              <p:grpSpPr>
                <a:xfrm>
                  <a:off x="1353960" y="4806720"/>
                  <a:ext cx="231840" cy="156960"/>
                  <a:chOff x="1353960" y="4806720"/>
                  <a:chExt cx="231840" cy="156960"/>
                </a:xfrm>
              </p:grpSpPr>
              <p:sp>
                <p:nvSpPr>
                  <p:cNvPr id="234"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36760" y="4835160"/>
                  <a:ext cx="68040" cy="102600"/>
                  <a:chOff x="1436760" y="4835160"/>
                  <a:chExt cx="68040" cy="102600"/>
                </a:xfrm>
              </p:grpSpPr>
              <p:sp>
                <p:nvSpPr>
                  <p:cNvPr id="238"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0"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241" name=""/>
            <p:cNvGrpSpPr/>
            <p:nvPr/>
          </p:nvGrpSpPr>
          <p:grpSpPr>
            <a:xfrm>
              <a:off x="1355760" y="5056200"/>
              <a:ext cx="231480" cy="236520"/>
              <a:chOff x="1355760" y="5056200"/>
              <a:chExt cx="231480" cy="236520"/>
            </a:xfrm>
          </p:grpSpPr>
          <p:grpSp>
            <p:nvGrpSpPr>
              <p:cNvPr id="242" name=""/>
              <p:cNvGrpSpPr/>
              <p:nvPr/>
            </p:nvGrpSpPr>
            <p:grpSpPr>
              <a:xfrm>
                <a:off x="1355760" y="5102280"/>
                <a:ext cx="231480" cy="190440"/>
                <a:chOff x="1355760" y="5102280"/>
                <a:chExt cx="231480" cy="190440"/>
              </a:xfrm>
            </p:grpSpPr>
            <p:sp>
              <p:nvSpPr>
                <p:cNvPr id="243"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
              <p:cNvGrpSpPr/>
              <p:nvPr/>
            </p:nvGrpSpPr>
            <p:grpSpPr>
              <a:xfrm>
                <a:off x="1434960" y="5056200"/>
                <a:ext cx="74160" cy="27000"/>
                <a:chOff x="1434960" y="5056200"/>
                <a:chExt cx="74160" cy="27000"/>
              </a:xfrm>
            </p:grpSpPr>
            <p:sp>
              <p:nvSpPr>
                <p:cNvPr id="247"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78240" y="166680"/>
            <a:ext cx="469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Battalion Princess Patricia's Canadian Light Infantry (2PPCLI) in Korea</a:t>
            </a:r>
            <a:endParaRPr b="0" lang="en-US" sz="1000" spc="-1" strike="noStrike">
              <a:solidFill>
                <a:srgbClr val="000000"/>
              </a:solidFill>
              <a:latin typeface="Times New Roman"/>
            </a:endParaRPr>
          </a:p>
        </p:txBody>
      </p:sp>
      <p:sp>
        <p:nvSpPr>
          <p:cNvPr id="251"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252"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38680" y="3429000"/>
            <a:ext cx="456552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27th BCB often acquired American equipment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258" name=""/>
          <p:cNvGrpSpPr/>
          <p:nvPr/>
        </p:nvGrpSpPr>
        <p:grpSpPr>
          <a:xfrm>
            <a:off x="3586320" y="484200"/>
            <a:ext cx="3601440" cy="911160"/>
            <a:chOff x="3586320" y="484200"/>
            <a:chExt cx="3601440" cy="911160"/>
          </a:xfrm>
        </p:grpSpPr>
        <p:grpSp>
          <p:nvGrpSpPr>
            <p:cNvPr id="259" name=""/>
            <p:cNvGrpSpPr/>
            <p:nvPr/>
          </p:nvGrpSpPr>
          <p:grpSpPr>
            <a:xfrm>
              <a:off x="3729240" y="1152720"/>
              <a:ext cx="3423600" cy="242640"/>
              <a:chOff x="3729240" y="1152720"/>
              <a:chExt cx="3423600" cy="242640"/>
            </a:xfrm>
          </p:grpSpPr>
          <p:sp>
            <p:nvSpPr>
              <p:cNvPr id="260"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3 Bazooka)    UN-02</a:t>
                </a:r>
                <a:endParaRPr b="0" lang="en-US" sz="800" spc="-1" strike="noStrike">
                  <a:solidFill>
                    <a:srgbClr val="000000"/>
                  </a:solidFill>
                  <a:latin typeface="Times New Roman"/>
                </a:endParaRPr>
              </a:p>
            </p:txBody>
          </p:sp>
          <p:grpSp>
            <p:nvGrpSpPr>
              <p:cNvPr id="262" name=""/>
              <p:cNvGrpSpPr/>
              <p:nvPr/>
            </p:nvGrpSpPr>
            <p:grpSpPr>
              <a:xfrm>
                <a:off x="4030560" y="1152720"/>
                <a:ext cx="231480" cy="203040"/>
                <a:chOff x="4030560" y="1152720"/>
                <a:chExt cx="231480" cy="203040"/>
              </a:xfrm>
            </p:grpSpPr>
            <p:grpSp>
              <p:nvGrpSpPr>
                <p:cNvPr id="263" name=""/>
                <p:cNvGrpSpPr/>
                <p:nvPr/>
              </p:nvGrpSpPr>
              <p:grpSpPr>
                <a:xfrm>
                  <a:off x="4030560" y="1198800"/>
                  <a:ext cx="231480" cy="156960"/>
                  <a:chOff x="4030560" y="1198800"/>
                  <a:chExt cx="231480" cy="156960"/>
                </a:xfrm>
              </p:grpSpPr>
              <p:sp>
                <p:nvSpPr>
                  <p:cNvPr id="264"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07960" y="1152720"/>
                  <a:ext cx="73800" cy="27000"/>
                  <a:chOff x="4107960" y="1152720"/>
                  <a:chExt cx="73800" cy="27000"/>
                </a:xfrm>
              </p:grpSpPr>
              <p:sp>
                <p:nvSpPr>
                  <p:cNvPr id="268"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0" name=""/>
            <p:cNvGrpSpPr/>
            <p:nvPr/>
          </p:nvGrpSpPr>
          <p:grpSpPr>
            <a:xfrm>
              <a:off x="3729240" y="787320"/>
              <a:ext cx="3458520" cy="368280"/>
              <a:chOff x="3729240" y="787320"/>
              <a:chExt cx="3458520" cy="368280"/>
            </a:xfrm>
          </p:grpSpPr>
          <p:sp>
            <p:nvSpPr>
              <p:cNvPr id="271"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273"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274" name=""/>
              <p:cNvGrpSpPr/>
              <p:nvPr/>
            </p:nvGrpSpPr>
            <p:grpSpPr>
              <a:xfrm>
                <a:off x="4025880" y="844560"/>
                <a:ext cx="231480" cy="210960"/>
                <a:chOff x="4025880" y="844560"/>
                <a:chExt cx="231480" cy="210960"/>
              </a:xfrm>
            </p:grpSpPr>
            <p:grpSp>
              <p:nvGrpSpPr>
                <p:cNvPr id="275" name=""/>
                <p:cNvGrpSpPr/>
                <p:nvPr/>
              </p:nvGrpSpPr>
              <p:grpSpPr>
                <a:xfrm>
                  <a:off x="4025880" y="898560"/>
                  <a:ext cx="231480" cy="156960"/>
                  <a:chOff x="4025880" y="898560"/>
                  <a:chExt cx="231480" cy="156960"/>
                </a:xfrm>
              </p:grpSpPr>
              <p:sp>
                <p:nvSpPr>
                  <p:cNvPr id="276"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78"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281" name=""/>
            <p:cNvGrpSpPr/>
            <p:nvPr/>
          </p:nvGrpSpPr>
          <p:grpSpPr>
            <a:xfrm>
              <a:off x="3586320" y="484200"/>
              <a:ext cx="283680" cy="255240"/>
              <a:chOff x="3586320" y="484200"/>
              <a:chExt cx="283680" cy="255240"/>
            </a:xfrm>
          </p:grpSpPr>
          <p:sp>
            <p:nvSpPr>
              <p:cNvPr id="282"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3" name=""/>
              <p:cNvGrpSpPr/>
              <p:nvPr/>
            </p:nvGrpSpPr>
            <p:grpSpPr>
              <a:xfrm>
                <a:off x="3586320" y="546120"/>
                <a:ext cx="283680" cy="193320"/>
                <a:chOff x="3586320" y="546120"/>
                <a:chExt cx="283680" cy="193320"/>
              </a:xfrm>
            </p:grpSpPr>
            <p:sp>
              <p:nvSpPr>
                <p:cNvPr id="284"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7" name=""/>
          <p:cNvGrpSpPr/>
          <p:nvPr/>
        </p:nvGrpSpPr>
        <p:grpSpPr>
          <a:xfrm>
            <a:off x="1020600" y="1808280"/>
            <a:ext cx="2805120" cy="283680"/>
            <a:chOff x="1020600" y="1808280"/>
            <a:chExt cx="2805120" cy="283680"/>
          </a:xfrm>
        </p:grpSpPr>
        <p:sp>
          <p:nvSpPr>
            <p:cNvPr id="288"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1279440" y="1836720"/>
              <a:ext cx="284040" cy="255240"/>
              <a:chOff x="1279440" y="1836720"/>
              <a:chExt cx="284040" cy="255240"/>
            </a:xfrm>
          </p:grpSpPr>
          <p:grpSp>
            <p:nvGrpSpPr>
              <p:cNvPr id="290" name=""/>
              <p:cNvGrpSpPr/>
              <p:nvPr/>
            </p:nvGrpSpPr>
            <p:grpSpPr>
              <a:xfrm>
                <a:off x="1279440" y="1898640"/>
                <a:ext cx="284040" cy="193320"/>
                <a:chOff x="1279440" y="1898640"/>
                <a:chExt cx="284040" cy="193320"/>
              </a:xfrm>
            </p:grpSpPr>
            <p:sp>
              <p:nvSpPr>
                <p:cNvPr id="291"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5"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296"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297"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298" name=""/>
          <p:cNvGrpSpPr/>
          <p:nvPr/>
        </p:nvGrpSpPr>
        <p:grpSpPr>
          <a:xfrm>
            <a:off x="1011240" y="627120"/>
            <a:ext cx="2550960" cy="1093680"/>
            <a:chOff x="1011240" y="627120"/>
            <a:chExt cx="2550960" cy="1093680"/>
          </a:xfrm>
        </p:grpSpPr>
        <p:sp>
          <p:nvSpPr>
            <p:cNvPr id="299"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012680" y="627120"/>
              <a:ext cx="2511720" cy="241200"/>
              <a:chOff x="1012680" y="627120"/>
              <a:chExt cx="2511720" cy="241200"/>
            </a:xfrm>
          </p:grpSpPr>
          <p:sp>
            <p:nvSpPr>
              <p:cNvPr id="301"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03"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04" name=""/>
              <p:cNvGrpSpPr/>
              <p:nvPr/>
            </p:nvGrpSpPr>
            <p:grpSpPr>
              <a:xfrm>
                <a:off x="1328760" y="641520"/>
                <a:ext cx="231840" cy="210960"/>
                <a:chOff x="1328760" y="641520"/>
                <a:chExt cx="231840" cy="210960"/>
              </a:xfrm>
            </p:grpSpPr>
            <p:grpSp>
              <p:nvGrpSpPr>
                <p:cNvPr id="305" name=""/>
                <p:cNvGrpSpPr/>
                <p:nvPr/>
              </p:nvGrpSpPr>
              <p:grpSpPr>
                <a:xfrm>
                  <a:off x="1328760" y="695520"/>
                  <a:ext cx="231840" cy="156960"/>
                  <a:chOff x="1328760" y="695520"/>
                  <a:chExt cx="231840" cy="156960"/>
                </a:xfrm>
              </p:grpSpPr>
              <p:sp>
                <p:nvSpPr>
                  <p:cNvPr id="306"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08"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9" name=""/>
            <p:cNvGrpSpPr/>
            <p:nvPr/>
          </p:nvGrpSpPr>
          <p:grpSpPr>
            <a:xfrm>
              <a:off x="1305000" y="1468440"/>
              <a:ext cx="2228760" cy="252360"/>
              <a:chOff x="1305000" y="1468440"/>
              <a:chExt cx="2228760" cy="252360"/>
            </a:xfrm>
          </p:grpSpPr>
          <p:sp>
            <p:nvSpPr>
              <p:cNvPr id="310"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311"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12" name=""/>
              <p:cNvGrpSpPr/>
              <p:nvPr/>
            </p:nvGrpSpPr>
            <p:grpSpPr>
              <a:xfrm>
                <a:off x="1305000" y="1482840"/>
                <a:ext cx="231840" cy="237960"/>
                <a:chOff x="1305000" y="1482840"/>
                <a:chExt cx="231840" cy="237960"/>
              </a:xfrm>
            </p:grpSpPr>
            <p:sp>
              <p:nvSpPr>
                <p:cNvPr id="313"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4" name=""/>
                <p:cNvGrpSpPr/>
                <p:nvPr/>
              </p:nvGrpSpPr>
              <p:grpSpPr>
                <a:xfrm>
                  <a:off x="1305000" y="1530360"/>
                  <a:ext cx="231840" cy="190440"/>
                  <a:chOff x="1305000" y="1530360"/>
                  <a:chExt cx="231840" cy="190440"/>
                </a:xfrm>
              </p:grpSpPr>
              <p:sp>
                <p:nvSpPr>
                  <p:cNvPr id="315"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8" name=""/>
            <p:cNvGrpSpPr/>
            <p:nvPr/>
          </p:nvGrpSpPr>
          <p:grpSpPr>
            <a:xfrm>
              <a:off x="1011240" y="1220760"/>
              <a:ext cx="2550960" cy="198000"/>
              <a:chOff x="1011240" y="1220760"/>
              <a:chExt cx="2550960" cy="198000"/>
            </a:xfrm>
          </p:grpSpPr>
          <p:sp>
            <p:nvSpPr>
              <p:cNvPr id="319"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321" name=""/>
              <p:cNvGrpSpPr/>
              <p:nvPr/>
            </p:nvGrpSpPr>
            <p:grpSpPr>
              <a:xfrm>
                <a:off x="1305000" y="1220760"/>
                <a:ext cx="231840" cy="198000"/>
                <a:chOff x="1305000" y="1220760"/>
                <a:chExt cx="231840" cy="198000"/>
              </a:xfrm>
            </p:grpSpPr>
            <p:sp>
              <p:nvSpPr>
                <p:cNvPr id="322"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
                <p:cNvGrpSpPr/>
                <p:nvPr/>
              </p:nvGrpSpPr>
              <p:grpSpPr>
                <a:xfrm>
                  <a:off x="1305000" y="1261800"/>
                  <a:ext cx="231840" cy="156960"/>
                  <a:chOff x="1305000" y="1261800"/>
                  <a:chExt cx="231840" cy="156960"/>
                </a:xfrm>
              </p:grpSpPr>
              <p:sp>
                <p:nvSpPr>
                  <p:cNvPr id="324"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5"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326" name=""/>
            <p:cNvGrpSpPr/>
            <p:nvPr/>
          </p:nvGrpSpPr>
          <p:grpSpPr>
            <a:xfrm>
              <a:off x="1011240" y="952560"/>
              <a:ext cx="2486160" cy="220320"/>
              <a:chOff x="1011240" y="952560"/>
              <a:chExt cx="2486160" cy="220320"/>
            </a:xfrm>
          </p:grpSpPr>
          <p:sp>
            <p:nvSpPr>
              <p:cNvPr id="327"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329" name=""/>
              <p:cNvGrpSpPr/>
              <p:nvPr/>
            </p:nvGrpSpPr>
            <p:grpSpPr>
              <a:xfrm>
                <a:off x="1322280" y="966960"/>
                <a:ext cx="231840" cy="203040"/>
                <a:chOff x="1322280" y="966960"/>
                <a:chExt cx="231840" cy="203040"/>
              </a:xfrm>
            </p:grpSpPr>
            <p:grpSp>
              <p:nvGrpSpPr>
                <p:cNvPr id="330" name=""/>
                <p:cNvGrpSpPr/>
                <p:nvPr/>
              </p:nvGrpSpPr>
              <p:grpSpPr>
                <a:xfrm>
                  <a:off x="1322280" y="1013040"/>
                  <a:ext cx="231840" cy="156960"/>
                  <a:chOff x="1322280" y="1013040"/>
                  <a:chExt cx="231840" cy="156960"/>
                </a:xfrm>
              </p:grpSpPr>
              <p:sp>
                <p:nvSpPr>
                  <p:cNvPr id="331"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400040" y="966960"/>
                  <a:ext cx="74160" cy="27000"/>
                  <a:chOff x="1400040" y="966960"/>
                  <a:chExt cx="74160" cy="27000"/>
                </a:xfrm>
              </p:grpSpPr>
              <p:sp>
                <p:nvSpPr>
                  <p:cNvPr id="335"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338" name=""/>
          <p:cNvGrpSpPr/>
          <p:nvPr/>
        </p:nvGrpSpPr>
        <p:grpSpPr>
          <a:xfrm>
            <a:off x="1004760" y="2309760"/>
            <a:ext cx="2872080" cy="546120"/>
            <a:chOff x="1004760" y="2309760"/>
            <a:chExt cx="2872080" cy="546120"/>
          </a:xfrm>
        </p:grpSpPr>
        <p:sp>
          <p:nvSpPr>
            <p:cNvPr id="339"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42"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43" name=""/>
            <p:cNvGrpSpPr/>
            <p:nvPr/>
          </p:nvGrpSpPr>
          <p:grpSpPr>
            <a:xfrm>
              <a:off x="1320840" y="2338560"/>
              <a:ext cx="231840" cy="210960"/>
              <a:chOff x="1320840" y="2338560"/>
              <a:chExt cx="231840" cy="210960"/>
            </a:xfrm>
          </p:grpSpPr>
          <p:grpSp>
            <p:nvGrpSpPr>
              <p:cNvPr id="344" name=""/>
              <p:cNvGrpSpPr/>
              <p:nvPr/>
            </p:nvGrpSpPr>
            <p:grpSpPr>
              <a:xfrm>
                <a:off x="1320840" y="2392560"/>
                <a:ext cx="231840" cy="156960"/>
                <a:chOff x="1320840" y="2392560"/>
                <a:chExt cx="231840" cy="156960"/>
              </a:xfrm>
            </p:grpSpPr>
            <p:sp>
              <p:nvSpPr>
                <p:cNvPr id="345"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47"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349"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50" name=""/>
            <p:cNvGrpSpPr/>
            <p:nvPr/>
          </p:nvGrpSpPr>
          <p:grpSpPr>
            <a:xfrm>
              <a:off x="1327320" y="2604960"/>
              <a:ext cx="231480" cy="237960"/>
              <a:chOff x="1327320" y="2604960"/>
              <a:chExt cx="231480" cy="237960"/>
            </a:xfrm>
          </p:grpSpPr>
          <p:sp>
            <p:nvSpPr>
              <p:cNvPr id="351"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1327320" y="2652480"/>
                <a:ext cx="231480" cy="190440"/>
                <a:chOff x="1327320" y="2652480"/>
                <a:chExt cx="231480" cy="190440"/>
              </a:xfrm>
            </p:grpSpPr>
            <p:sp>
              <p:nvSpPr>
                <p:cNvPr id="353"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6"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2PPCLI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357" name=""/>
          <p:cNvGrpSpPr/>
          <p:nvPr/>
        </p:nvGrpSpPr>
        <p:grpSpPr>
          <a:xfrm>
            <a:off x="1008000" y="2901960"/>
            <a:ext cx="2700360" cy="544320"/>
            <a:chOff x="1008000" y="2901960"/>
            <a:chExt cx="2700360" cy="544320"/>
          </a:xfrm>
        </p:grpSpPr>
        <p:sp>
          <p:nvSpPr>
            <p:cNvPr id="358" name=""/>
            <p:cNvSpPr/>
            <p:nvPr/>
          </p:nvSpPr>
          <p:spPr>
            <a:xfrm>
              <a:off x="1393560" y="304200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79400" y="332424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60" name=""/>
            <p:cNvSpPr/>
            <p:nvPr/>
          </p:nvSpPr>
          <p:spPr>
            <a:xfrm>
              <a:off x="1679400" y="31388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61" name=""/>
            <p:cNvSpPr/>
            <p:nvPr/>
          </p:nvSpPr>
          <p:spPr>
            <a:xfrm>
              <a:off x="1008000" y="3046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1349280" y="2901960"/>
              <a:ext cx="231480" cy="212760"/>
              <a:chOff x="1349280" y="2901960"/>
              <a:chExt cx="231480" cy="212760"/>
            </a:xfrm>
          </p:grpSpPr>
          <p:grpSp>
            <p:nvGrpSpPr>
              <p:cNvPr id="363" name=""/>
              <p:cNvGrpSpPr/>
              <p:nvPr/>
            </p:nvGrpSpPr>
            <p:grpSpPr>
              <a:xfrm>
                <a:off x="1349280" y="2957760"/>
                <a:ext cx="231480" cy="156960"/>
                <a:chOff x="1349280" y="2957760"/>
                <a:chExt cx="231480" cy="156960"/>
              </a:xfrm>
            </p:grpSpPr>
            <p:sp>
              <p:nvSpPr>
                <p:cNvPr id="364" name=""/>
                <p:cNvSpPr/>
                <p:nvPr/>
              </p:nvSpPr>
              <p:spPr>
                <a:xfrm>
                  <a:off x="1349280" y="2957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1349280" y="29610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63040" y="295776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1427040" y="2901960"/>
                <a:ext cx="74160" cy="27000"/>
                <a:chOff x="1427040" y="2901960"/>
                <a:chExt cx="74160" cy="27000"/>
              </a:xfrm>
            </p:grpSpPr>
            <p:sp>
              <p:nvSpPr>
                <p:cNvPr id="368" name=""/>
                <p:cNvSpPr/>
                <p:nvPr/>
              </p:nvSpPr>
              <p:spPr>
                <a:xfrm>
                  <a:off x="1427040" y="290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474560" y="290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0" name=""/>
            <p:cNvSpPr/>
            <p:nvPr/>
          </p:nvSpPr>
          <p:spPr>
            <a:xfrm>
              <a:off x="1679400" y="304344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371" name=""/>
            <p:cNvSpPr/>
            <p:nvPr/>
          </p:nvSpPr>
          <p:spPr>
            <a:xfrm>
              <a:off x="1679400" y="291960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72" name=""/>
            <p:cNvGrpSpPr/>
            <p:nvPr/>
          </p:nvGrpSpPr>
          <p:grpSpPr>
            <a:xfrm>
              <a:off x="1365120" y="3198960"/>
              <a:ext cx="231480" cy="236520"/>
              <a:chOff x="1365120" y="3198960"/>
              <a:chExt cx="231480" cy="236520"/>
            </a:xfrm>
          </p:grpSpPr>
          <p:grpSp>
            <p:nvGrpSpPr>
              <p:cNvPr id="373" name=""/>
              <p:cNvGrpSpPr/>
              <p:nvPr/>
            </p:nvGrpSpPr>
            <p:grpSpPr>
              <a:xfrm>
                <a:off x="1365120" y="3245040"/>
                <a:ext cx="231480" cy="190440"/>
                <a:chOff x="1365120" y="3245040"/>
                <a:chExt cx="231480" cy="190440"/>
              </a:xfrm>
            </p:grpSpPr>
            <p:sp>
              <p:nvSpPr>
                <p:cNvPr id="374" name=""/>
                <p:cNvSpPr/>
                <p:nvPr/>
              </p:nvSpPr>
              <p:spPr>
                <a:xfrm>
                  <a:off x="1365120" y="3245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5920" y="340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556640" y="340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1444320" y="3198960"/>
                <a:ext cx="74160" cy="27000"/>
                <a:chOff x="1444320" y="3198960"/>
                <a:chExt cx="74160" cy="27000"/>
              </a:xfrm>
            </p:grpSpPr>
            <p:sp>
              <p:nvSpPr>
                <p:cNvPr id="378" name=""/>
                <p:cNvSpPr/>
                <p:nvPr/>
              </p:nvSpPr>
              <p:spPr>
                <a:xfrm>
                  <a:off x="1444320" y="319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491840" y="319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80" name=""/>
          <p:cNvSpPr/>
          <p:nvPr/>
        </p:nvSpPr>
        <p:spPr>
          <a:xfrm>
            <a:off x="1004760" y="3726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79400" y="367992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0cal   MG                                  US-23</a:t>
            </a:r>
            <a:endParaRPr b="0" lang="en-US" sz="800" spc="-1" strike="noStrike">
              <a:solidFill>
                <a:srgbClr val="000000"/>
              </a:solidFill>
              <a:latin typeface="Times New Roman"/>
            </a:endParaRPr>
          </a:p>
        </p:txBody>
      </p:sp>
      <p:grpSp>
        <p:nvGrpSpPr>
          <p:cNvPr id="382" name=""/>
          <p:cNvGrpSpPr/>
          <p:nvPr/>
        </p:nvGrpSpPr>
        <p:grpSpPr>
          <a:xfrm>
            <a:off x="1339920" y="3605040"/>
            <a:ext cx="231480" cy="203400"/>
            <a:chOff x="1339920" y="3605040"/>
            <a:chExt cx="231480" cy="203400"/>
          </a:xfrm>
        </p:grpSpPr>
        <p:grpSp>
          <p:nvGrpSpPr>
            <p:cNvPr id="383" name=""/>
            <p:cNvGrpSpPr/>
            <p:nvPr/>
          </p:nvGrpSpPr>
          <p:grpSpPr>
            <a:xfrm>
              <a:off x="1412640" y="3605040"/>
              <a:ext cx="74880" cy="27000"/>
              <a:chOff x="1412640" y="3605040"/>
              <a:chExt cx="74880" cy="27000"/>
            </a:xfrm>
          </p:grpSpPr>
          <p:sp>
            <p:nvSpPr>
              <p:cNvPr id="384" name=""/>
              <p:cNvSpPr/>
              <p:nvPr/>
            </p:nvSpPr>
            <p:spPr>
              <a:xfrm>
                <a:off x="1412640" y="360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460520" y="36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1339920" y="3651120"/>
              <a:ext cx="231480" cy="157320"/>
              <a:chOff x="1339920" y="3651120"/>
              <a:chExt cx="231480" cy="157320"/>
            </a:xfrm>
          </p:grpSpPr>
          <p:sp>
            <p:nvSpPr>
              <p:cNvPr id="387" name=""/>
              <p:cNvSpPr/>
              <p:nvPr/>
            </p:nvSpPr>
            <p:spPr>
              <a:xfrm>
                <a:off x="1339920" y="3651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39920" y="36511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339920" y="36540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341000" y="36511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1360440" y="3735360"/>
            <a:ext cx="9720" cy="53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679400" y="4133880"/>
            <a:ext cx="59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93" name=""/>
          <p:cNvSpPr/>
          <p:nvPr/>
        </p:nvSpPr>
        <p:spPr>
          <a:xfrm>
            <a:off x="1679400" y="4229280"/>
            <a:ext cx="214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94" name=""/>
          <p:cNvSpPr/>
          <p:nvPr/>
        </p:nvSpPr>
        <p:spPr>
          <a:xfrm>
            <a:off x="1679400" y="355752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95" name=""/>
          <p:cNvGrpSpPr/>
          <p:nvPr/>
        </p:nvGrpSpPr>
        <p:grpSpPr>
          <a:xfrm>
            <a:off x="1346040" y="4160880"/>
            <a:ext cx="231480" cy="236520"/>
            <a:chOff x="1346040" y="4160880"/>
            <a:chExt cx="231480" cy="236520"/>
          </a:xfrm>
        </p:grpSpPr>
        <p:grpSp>
          <p:nvGrpSpPr>
            <p:cNvPr id="396" name=""/>
            <p:cNvGrpSpPr/>
            <p:nvPr/>
          </p:nvGrpSpPr>
          <p:grpSpPr>
            <a:xfrm>
              <a:off x="1346040" y="4206960"/>
              <a:ext cx="231480" cy="190440"/>
              <a:chOff x="1346040" y="4206960"/>
              <a:chExt cx="231480" cy="190440"/>
            </a:xfrm>
          </p:grpSpPr>
          <p:sp>
            <p:nvSpPr>
              <p:cNvPr id="397" name=""/>
              <p:cNvSpPr/>
              <p:nvPr/>
            </p:nvSpPr>
            <p:spPr>
              <a:xfrm>
                <a:off x="1346040" y="42069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56840" y="437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537560" y="437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1425240" y="4160880"/>
              <a:ext cx="74160" cy="27000"/>
              <a:chOff x="1425240" y="4160880"/>
              <a:chExt cx="74160" cy="27000"/>
            </a:xfrm>
          </p:grpSpPr>
          <p:sp>
            <p:nvSpPr>
              <p:cNvPr id="401" name=""/>
              <p:cNvSpPr/>
              <p:nvPr/>
            </p:nvSpPr>
            <p:spPr>
              <a:xfrm>
                <a:off x="1425240" y="416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472760" y="416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3" name=""/>
          <p:cNvGrpSpPr/>
          <p:nvPr/>
        </p:nvGrpSpPr>
        <p:grpSpPr>
          <a:xfrm>
            <a:off x="1003320" y="4603680"/>
            <a:ext cx="2879640" cy="689040"/>
            <a:chOff x="1003320" y="4603680"/>
            <a:chExt cx="2879640" cy="689040"/>
          </a:xfrm>
        </p:grpSpPr>
        <p:sp>
          <p:nvSpPr>
            <p:cNvPr id="404"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406"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407"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409"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81mm Mortar                               US-25</a:t>
              </a:r>
              <a:endParaRPr b="0" lang="en-US" sz="800" spc="-1" strike="noStrike">
                <a:solidFill>
                  <a:srgbClr val="000000"/>
                </a:solidFill>
                <a:latin typeface="Times New Roman"/>
              </a:endParaRPr>
            </a:p>
          </p:txBody>
        </p:sp>
        <p:grpSp>
          <p:nvGrpSpPr>
            <p:cNvPr id="410" name=""/>
            <p:cNvGrpSpPr/>
            <p:nvPr/>
          </p:nvGrpSpPr>
          <p:grpSpPr>
            <a:xfrm>
              <a:off x="1353960" y="4767120"/>
              <a:ext cx="231840" cy="196560"/>
              <a:chOff x="1353960" y="4767120"/>
              <a:chExt cx="231840" cy="196560"/>
            </a:xfrm>
          </p:grpSpPr>
          <p:grpSp>
            <p:nvGrpSpPr>
              <p:cNvPr id="411" name=""/>
              <p:cNvGrpSpPr/>
              <p:nvPr/>
            </p:nvGrpSpPr>
            <p:grpSpPr>
              <a:xfrm>
                <a:off x="1425240" y="4767120"/>
                <a:ext cx="74160" cy="27000"/>
                <a:chOff x="1425240" y="4767120"/>
                <a:chExt cx="74160" cy="27000"/>
              </a:xfrm>
            </p:grpSpPr>
            <p:sp>
              <p:nvSpPr>
                <p:cNvPr id="412"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
              <p:cNvGrpSpPr/>
              <p:nvPr/>
            </p:nvGrpSpPr>
            <p:grpSpPr>
              <a:xfrm>
                <a:off x="1353960" y="4806720"/>
                <a:ext cx="231840" cy="156960"/>
                <a:chOff x="1353960" y="4806720"/>
                <a:chExt cx="231840" cy="156960"/>
              </a:xfrm>
            </p:grpSpPr>
            <p:grpSp>
              <p:nvGrpSpPr>
                <p:cNvPr id="415" name=""/>
                <p:cNvGrpSpPr/>
                <p:nvPr/>
              </p:nvGrpSpPr>
              <p:grpSpPr>
                <a:xfrm>
                  <a:off x="1353960" y="4806720"/>
                  <a:ext cx="231840" cy="156960"/>
                  <a:chOff x="1353960" y="4806720"/>
                  <a:chExt cx="231840" cy="156960"/>
                </a:xfrm>
              </p:grpSpPr>
              <p:sp>
                <p:nvSpPr>
                  <p:cNvPr id="416"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436760" y="4835160"/>
                  <a:ext cx="68040" cy="102600"/>
                  <a:chOff x="1436760" y="4835160"/>
                  <a:chExt cx="68040" cy="102600"/>
                </a:xfrm>
              </p:grpSpPr>
              <p:sp>
                <p:nvSpPr>
                  <p:cNvPr id="420"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22"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423" name=""/>
            <p:cNvGrpSpPr/>
            <p:nvPr/>
          </p:nvGrpSpPr>
          <p:grpSpPr>
            <a:xfrm>
              <a:off x="1355760" y="5056200"/>
              <a:ext cx="231480" cy="236520"/>
              <a:chOff x="1355760" y="5056200"/>
              <a:chExt cx="231480" cy="236520"/>
            </a:xfrm>
          </p:grpSpPr>
          <p:grpSp>
            <p:nvGrpSpPr>
              <p:cNvPr id="424" name=""/>
              <p:cNvGrpSpPr/>
              <p:nvPr/>
            </p:nvGrpSpPr>
            <p:grpSpPr>
              <a:xfrm>
                <a:off x="1355760" y="5102280"/>
                <a:ext cx="231480" cy="190440"/>
                <a:chOff x="1355760" y="5102280"/>
                <a:chExt cx="231480" cy="190440"/>
              </a:xfrm>
            </p:grpSpPr>
            <p:sp>
              <p:nvSpPr>
                <p:cNvPr id="425"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1434960" y="5056200"/>
                <a:ext cx="74160" cy="27000"/>
                <a:chOff x="1434960" y="5056200"/>
                <a:chExt cx="74160" cy="27000"/>
              </a:xfrm>
            </p:grpSpPr>
            <p:sp>
              <p:nvSpPr>
                <p:cNvPr id="429"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1" name=""/>
          <p:cNvSpPr/>
          <p:nvPr/>
        </p:nvSpPr>
        <p:spPr>
          <a:xfrm>
            <a:off x="1004760" y="3992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79400" y="394668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cal   MG                                  US-34</a:t>
            </a:r>
            <a:endParaRPr b="0" lang="en-US" sz="800" spc="-1" strike="noStrike">
              <a:solidFill>
                <a:srgbClr val="000000"/>
              </a:solidFill>
              <a:latin typeface="Times New Roman"/>
            </a:endParaRPr>
          </a:p>
        </p:txBody>
      </p:sp>
      <p:grpSp>
        <p:nvGrpSpPr>
          <p:cNvPr id="433" name=""/>
          <p:cNvGrpSpPr/>
          <p:nvPr/>
        </p:nvGrpSpPr>
        <p:grpSpPr>
          <a:xfrm>
            <a:off x="1339920" y="3871800"/>
            <a:ext cx="231480" cy="203400"/>
            <a:chOff x="1339920" y="3871800"/>
            <a:chExt cx="231480" cy="203400"/>
          </a:xfrm>
        </p:grpSpPr>
        <p:grpSp>
          <p:nvGrpSpPr>
            <p:cNvPr id="434" name=""/>
            <p:cNvGrpSpPr/>
            <p:nvPr/>
          </p:nvGrpSpPr>
          <p:grpSpPr>
            <a:xfrm>
              <a:off x="1412640" y="3871800"/>
              <a:ext cx="74880" cy="27000"/>
              <a:chOff x="1412640" y="3871800"/>
              <a:chExt cx="74880" cy="27000"/>
            </a:xfrm>
          </p:grpSpPr>
          <p:sp>
            <p:nvSpPr>
              <p:cNvPr id="435" name=""/>
              <p:cNvSpPr/>
              <p:nvPr/>
            </p:nvSpPr>
            <p:spPr>
              <a:xfrm>
                <a:off x="1412640" y="38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60520" y="38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1339920" y="3917880"/>
              <a:ext cx="231480" cy="157320"/>
              <a:chOff x="1339920" y="3917880"/>
              <a:chExt cx="231480" cy="157320"/>
            </a:xfrm>
          </p:grpSpPr>
          <p:sp>
            <p:nvSpPr>
              <p:cNvPr id="438" name=""/>
              <p:cNvSpPr/>
              <p:nvPr/>
            </p:nvSpPr>
            <p:spPr>
              <a:xfrm>
                <a:off x="1339920" y="3917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39920" y="3917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1339920" y="3920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41000" y="3917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4:10:17Z</dcterms:created>
  <dc:creator>JXBake00</dc:creator>
  <dc:description/>
  <dc:language>en-US</dc:language>
  <cp:lastModifiedBy>James Baker</cp:lastModifiedBy>
  <cp:lastPrinted>2002-04-27T05:38:46Z</cp:lastPrinted>
  <dcterms:modified xsi:type="dcterms:W3CDTF">2008-02-29T14:23:39Z</dcterms:modified>
  <cp:revision>14</cp:revision>
  <dc:subject/>
  <dc:title>PowerPoint Presentation</dc:title>
</cp:coreProperties>
</file>