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7C7-A09F-4F88-ACED-279B5D7F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5C9-EECB-467C-A255-A95CAC5A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641-7666-4F1D-A955-133E087A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4CB-BEE4-4AFD-B67C-FB39E6AA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3C5-E744-4B1E-A741-0FD81CE4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775-D3ED-4E2E-90B1-C19227DD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5B2-94CD-4DAC-8DFC-EAAD513B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929-3C85-46D1-82D6-8F1D9E9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BCF-9ED7-494C-ABB0-BC34C14D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C6E-BCC0-46B0-B235-976EEF49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506-0B0F-40BF-886E-E16BA6C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849-91F0-4AA1-9299-1CB7DFA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98FA-6794-4186-9F29-569196851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zechoslovak Independent Armoured Brigade Group 1944-1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95280" y="457200"/>
            <a:ext cx="3860640" cy="8323200"/>
            <a:chOff x="1295280" y="457200"/>
            <a:chExt cx="3860640" cy="8323200"/>
          </a:xfrm>
        </p:grpSpPr>
        <p:sp>
          <p:nvSpPr>
            <p:cNvPr id="43" name=""/>
            <p:cNvSpPr/>
            <p:nvPr/>
          </p:nvSpPr>
          <p:spPr>
            <a:xfrm>
              <a:off x="1752480" y="6629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7920" y="838080"/>
              <a:ext cx="0" cy="647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1080" y="3124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81080" y="2514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8153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5120" y="2057400"/>
              <a:ext cx="231480" cy="156960"/>
              <a:chOff x="1905120" y="2057400"/>
              <a:chExt cx="231480" cy="156960"/>
            </a:xfrm>
          </p:grpSpPr>
          <p:sp>
            <p:nvSpPr>
              <p:cNvPr id="49" name=""/>
              <p:cNvSpPr/>
              <p:nvPr/>
            </p:nvSpPr>
            <p:spPr>
              <a:xfrm>
                <a:off x="1905120" y="205740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30320" y="2095560"/>
                <a:ext cx="185040" cy="936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79280" y="2117520"/>
                <a:ext cx="0" cy="5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20680" y="212076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062080" y="212076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74600" y="2120760"/>
                <a:ext cx="932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409760" y="609120"/>
              <a:ext cx="76320" cy="64080"/>
              <a:chOff x="1409760" y="609120"/>
              <a:chExt cx="76320" cy="64080"/>
            </a:xfrm>
          </p:grpSpPr>
          <p:sp>
            <p:nvSpPr>
              <p:cNvPr id="56" name=""/>
              <p:cNvSpPr/>
              <p:nvPr/>
            </p:nvSpPr>
            <p:spPr>
              <a:xfrm>
                <a:off x="1409760" y="609480"/>
                <a:ext cx="76320" cy="6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1409760" y="609120"/>
                <a:ext cx="76320" cy="6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295280" y="685800"/>
              <a:ext cx="304920" cy="206280"/>
              <a:chOff x="1295280" y="685800"/>
              <a:chExt cx="304920" cy="206280"/>
            </a:xfrm>
          </p:grpSpPr>
          <p:sp>
            <p:nvSpPr>
              <p:cNvPr id="59" name=""/>
              <p:cNvSpPr/>
              <p:nvPr/>
            </p:nvSpPr>
            <p:spPr>
              <a:xfrm>
                <a:off x="1295280" y="6858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1080" y="73728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600200" y="1066680"/>
              <a:ext cx="304560" cy="228240"/>
              <a:chOff x="1600200" y="1066680"/>
              <a:chExt cx="304560" cy="228240"/>
            </a:xfrm>
          </p:grpSpPr>
          <p:sp>
            <p:nvSpPr>
              <p:cNvPr id="62" name=""/>
              <p:cNvSpPr/>
              <p:nvPr/>
            </p:nvSpPr>
            <p:spPr>
              <a:xfrm>
                <a:off x="1600200" y="1066680"/>
                <a:ext cx="30456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31160" y="1099080"/>
                <a:ext cx="242280" cy="1609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752480" y="990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905120" y="1447920"/>
              <a:ext cx="231480" cy="156960"/>
              <a:chOff x="1905120" y="1447920"/>
              <a:chExt cx="231480" cy="156960"/>
            </a:xfrm>
          </p:grpSpPr>
          <p:sp>
            <p:nvSpPr>
              <p:cNvPr id="66" name=""/>
              <p:cNvSpPr/>
              <p:nvPr/>
            </p:nvSpPr>
            <p:spPr>
              <a:xfrm>
                <a:off x="1905120" y="14479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47600" y="1487160"/>
                <a:ext cx="14832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905120" y="1752480"/>
              <a:ext cx="231480" cy="157320"/>
              <a:chOff x="1905120" y="1752480"/>
              <a:chExt cx="231480" cy="157320"/>
            </a:xfrm>
          </p:grpSpPr>
          <p:sp>
            <p:nvSpPr>
              <p:cNvPr id="69" name=""/>
              <p:cNvSpPr/>
              <p:nvPr/>
            </p:nvSpPr>
            <p:spPr>
              <a:xfrm>
                <a:off x="1905120" y="175248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47600" y="1791720"/>
                <a:ext cx="14832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981080" y="1371600"/>
              <a:ext cx="74880" cy="27000"/>
              <a:chOff x="1981080" y="1371600"/>
              <a:chExt cx="74880" cy="27000"/>
            </a:xfrm>
          </p:grpSpPr>
          <p:sp>
            <p:nvSpPr>
              <p:cNvPr id="72" name=""/>
              <p:cNvSpPr/>
              <p:nvPr/>
            </p:nvSpPr>
            <p:spPr>
              <a:xfrm>
                <a:off x="1981080" y="13716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28960" y="13716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981080" y="1676520"/>
              <a:ext cx="74880" cy="27000"/>
              <a:chOff x="1981080" y="1676520"/>
              <a:chExt cx="74880" cy="27000"/>
            </a:xfrm>
          </p:grpSpPr>
          <p:sp>
            <p:nvSpPr>
              <p:cNvPr id="75" name=""/>
              <p:cNvSpPr/>
              <p:nvPr/>
            </p:nvSpPr>
            <p:spPr>
              <a:xfrm>
                <a:off x="1981080" y="167652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28960" y="167652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81080" y="1981080"/>
              <a:ext cx="74880" cy="27000"/>
              <a:chOff x="1981080" y="1981080"/>
              <a:chExt cx="74880" cy="27000"/>
            </a:xfrm>
          </p:grpSpPr>
          <p:sp>
            <p:nvSpPr>
              <p:cNvPr id="78" name=""/>
              <p:cNvSpPr/>
              <p:nvPr/>
            </p:nvSpPr>
            <p:spPr>
              <a:xfrm>
                <a:off x="1981080" y="198108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28960" y="198108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905120" y="2666880"/>
              <a:ext cx="231480" cy="157320"/>
              <a:chOff x="1905120" y="2666880"/>
              <a:chExt cx="231480" cy="157320"/>
            </a:xfrm>
          </p:grpSpPr>
          <p:sp>
            <p:nvSpPr>
              <p:cNvPr id="81" name=""/>
              <p:cNvSpPr/>
              <p:nvPr/>
            </p:nvSpPr>
            <p:spPr>
              <a:xfrm>
                <a:off x="1905120" y="266688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17720" y="2695680"/>
                <a:ext cx="199440" cy="1000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87560" y="2717640"/>
                <a:ext cx="5652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05120" y="3276720"/>
              <a:ext cx="231480" cy="156960"/>
              <a:chOff x="1905120" y="3276720"/>
              <a:chExt cx="231480" cy="156960"/>
            </a:xfrm>
          </p:grpSpPr>
          <p:sp>
            <p:nvSpPr>
              <p:cNvPr id="85" name=""/>
              <p:cNvSpPr/>
              <p:nvPr/>
            </p:nvSpPr>
            <p:spPr>
              <a:xfrm>
                <a:off x="1905120" y="32767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17720" y="3305160"/>
                <a:ext cx="199440" cy="997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3327120"/>
                <a:ext cx="5652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1905120" y="2362320"/>
              <a:ext cx="231480" cy="156960"/>
              <a:chOff x="1905120" y="2362320"/>
              <a:chExt cx="231480" cy="15696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23623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87200" y="2412720"/>
                <a:ext cx="56880" cy="55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905120" y="2971800"/>
              <a:ext cx="231480" cy="157320"/>
              <a:chOff x="1905120" y="2971800"/>
              <a:chExt cx="231480" cy="157320"/>
            </a:xfrm>
          </p:grpSpPr>
          <p:sp>
            <p:nvSpPr>
              <p:cNvPr id="92" name=""/>
              <p:cNvSpPr/>
              <p:nvPr/>
            </p:nvSpPr>
            <p:spPr>
              <a:xfrm>
                <a:off x="1905120" y="297180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87200" y="3022560"/>
                <a:ext cx="5688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981080" y="3200400"/>
              <a:ext cx="74880" cy="27000"/>
              <a:chOff x="1981080" y="3200400"/>
              <a:chExt cx="74880" cy="27000"/>
            </a:xfrm>
          </p:grpSpPr>
          <p:sp>
            <p:nvSpPr>
              <p:cNvPr id="95" name=""/>
              <p:cNvSpPr/>
              <p:nvPr/>
            </p:nvSpPr>
            <p:spPr>
              <a:xfrm>
                <a:off x="1981080" y="32004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28960" y="32004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81080" y="2590920"/>
              <a:ext cx="74880" cy="27000"/>
              <a:chOff x="1981080" y="2590920"/>
              <a:chExt cx="74880" cy="27000"/>
            </a:xfrm>
          </p:grpSpPr>
          <p:sp>
            <p:nvSpPr>
              <p:cNvPr id="98" name=""/>
              <p:cNvSpPr/>
              <p:nvPr/>
            </p:nvSpPr>
            <p:spPr>
              <a:xfrm>
                <a:off x="1981080" y="259092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28960" y="259092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981080" y="2895480"/>
              <a:ext cx="74880" cy="27000"/>
              <a:chOff x="1981080" y="2895480"/>
              <a:chExt cx="74880" cy="27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981080" y="289548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8960" y="289548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981080" y="2286000"/>
              <a:ext cx="74880" cy="27000"/>
              <a:chOff x="1981080" y="2286000"/>
              <a:chExt cx="74880" cy="27000"/>
            </a:xfrm>
          </p:grpSpPr>
          <p:sp>
            <p:nvSpPr>
              <p:cNvPr id="104" name=""/>
              <p:cNvSpPr/>
              <p:nvPr/>
            </p:nvSpPr>
            <p:spPr>
              <a:xfrm>
                <a:off x="1981080" y="22860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28960" y="22860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600200" y="3657600"/>
              <a:ext cx="304920" cy="206280"/>
              <a:chOff x="1600200" y="3657600"/>
              <a:chExt cx="304920" cy="2062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00200" y="36576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56000" y="370908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714680" y="3581280"/>
              <a:ext cx="75960" cy="63720"/>
              <a:chOff x="1714680" y="3581280"/>
              <a:chExt cx="75960" cy="63720"/>
            </a:xfrm>
          </p:grpSpPr>
          <p:sp>
            <p:nvSpPr>
              <p:cNvPr id="110" name=""/>
              <p:cNvSpPr/>
              <p:nvPr/>
            </p:nvSpPr>
            <p:spPr>
              <a:xfrm>
                <a:off x="1714680" y="3581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90640" y="3581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600200" y="4114800"/>
              <a:ext cx="304920" cy="206280"/>
              <a:chOff x="1600200" y="4114800"/>
              <a:chExt cx="304920" cy="206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600200" y="41148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56000" y="416628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714680" y="4038480"/>
              <a:ext cx="75960" cy="63720"/>
              <a:chOff x="1714680" y="4038480"/>
              <a:chExt cx="75960" cy="63720"/>
            </a:xfrm>
          </p:grpSpPr>
          <p:sp>
            <p:nvSpPr>
              <p:cNvPr id="116" name=""/>
              <p:cNvSpPr/>
              <p:nvPr/>
            </p:nvSpPr>
            <p:spPr>
              <a:xfrm>
                <a:off x="1714680" y="40384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90640" y="40384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600200" y="4572000"/>
              <a:ext cx="304920" cy="200160"/>
              <a:chOff x="1600200" y="4572000"/>
              <a:chExt cx="304920" cy="2001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600200" y="4572000"/>
                <a:ext cx="304920" cy="200160"/>
                <a:chOff x="1600200" y="4572000"/>
                <a:chExt cx="304920" cy="200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600200" y="4572000"/>
                  <a:ext cx="304920" cy="200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656000" y="4622040"/>
                  <a:ext cx="192600" cy="9540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V="1">
                <a:off x="1600200" y="4572000"/>
                <a:ext cx="3002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752480" y="4495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600200" y="5105520"/>
              <a:ext cx="304920" cy="206280"/>
              <a:chOff x="1600200" y="5105520"/>
              <a:chExt cx="304920" cy="206280"/>
            </a:xfrm>
          </p:grpSpPr>
          <p:sp>
            <p:nvSpPr>
              <p:cNvPr id="125" name=""/>
              <p:cNvSpPr/>
              <p:nvPr/>
            </p:nvSpPr>
            <p:spPr>
              <a:xfrm>
                <a:off x="1600200" y="51055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56000" y="515700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714680" y="5029200"/>
              <a:ext cx="75960" cy="63360"/>
              <a:chOff x="1714680" y="5029200"/>
              <a:chExt cx="75960" cy="63360"/>
            </a:xfrm>
          </p:grpSpPr>
          <p:sp>
            <p:nvSpPr>
              <p:cNvPr id="128" name=""/>
              <p:cNvSpPr/>
              <p:nvPr/>
            </p:nvSpPr>
            <p:spPr>
              <a:xfrm>
                <a:off x="1714680" y="5029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0640" y="5029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600200" y="6019920"/>
              <a:ext cx="304920" cy="206280"/>
              <a:chOff x="1600200" y="6019920"/>
              <a:chExt cx="304920" cy="206280"/>
            </a:xfrm>
          </p:grpSpPr>
          <p:sp>
            <p:nvSpPr>
              <p:cNvPr id="131" name=""/>
              <p:cNvSpPr/>
              <p:nvPr/>
            </p:nvSpPr>
            <p:spPr>
              <a:xfrm>
                <a:off x="1600200" y="60199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3800" y="6082200"/>
                <a:ext cx="0" cy="65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48520" y="6085440"/>
                <a:ext cx="0" cy="62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01800" y="6087240"/>
                <a:ext cx="0" cy="6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87680" y="6085440"/>
                <a:ext cx="123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752480" y="5943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00200" y="6477120"/>
              <a:ext cx="304920" cy="206280"/>
              <a:chOff x="1600200" y="6477120"/>
              <a:chExt cx="304920" cy="206280"/>
            </a:xfrm>
          </p:grpSpPr>
          <p:sp>
            <p:nvSpPr>
              <p:cNvPr id="138" name=""/>
              <p:cNvSpPr/>
              <p:nvPr/>
            </p:nvSpPr>
            <p:spPr>
              <a:xfrm>
                <a:off x="1600200" y="64771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600200" y="6481080"/>
                <a:ext cx="14976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49960" y="6477120"/>
                <a:ext cx="14976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752480" y="6400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600200" y="8534520"/>
              <a:ext cx="304560" cy="228240"/>
              <a:chOff x="1600200" y="8534520"/>
              <a:chExt cx="304560" cy="228240"/>
            </a:xfrm>
          </p:grpSpPr>
          <p:sp>
            <p:nvSpPr>
              <p:cNvPr id="143" name=""/>
              <p:cNvSpPr/>
              <p:nvPr/>
            </p:nvSpPr>
            <p:spPr>
              <a:xfrm>
                <a:off x="1600200" y="8534520"/>
                <a:ext cx="30456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31240" y="862200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600200" y="5562720"/>
              <a:ext cx="304920" cy="198360"/>
              <a:chOff x="1600200" y="5562720"/>
              <a:chExt cx="304920" cy="198360"/>
            </a:xfrm>
          </p:grpSpPr>
          <p:sp>
            <p:nvSpPr>
              <p:cNvPr id="146" name=""/>
              <p:cNvSpPr/>
              <p:nvPr/>
            </p:nvSpPr>
            <p:spPr>
              <a:xfrm>
                <a:off x="1601640" y="5562720"/>
                <a:ext cx="303120" cy="1983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47000" y="5612040"/>
                <a:ext cx="21420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1601640" y="5562720"/>
                <a:ext cx="2998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00200" y="5562720"/>
                <a:ext cx="30492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714680" y="5486400"/>
              <a:ext cx="75960" cy="63360"/>
              <a:chOff x="1714680" y="5486400"/>
              <a:chExt cx="75960" cy="63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714680" y="5486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90640" y="5486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714680" y="8458200"/>
              <a:ext cx="75960" cy="63360"/>
              <a:chOff x="1714680" y="8458200"/>
              <a:chExt cx="75960" cy="63360"/>
            </a:xfrm>
          </p:grpSpPr>
          <p:sp>
            <p:nvSpPr>
              <p:cNvPr id="154" name=""/>
              <p:cNvSpPr/>
              <p:nvPr/>
            </p:nvSpPr>
            <p:spPr>
              <a:xfrm>
                <a:off x="1714680" y="845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90640" y="845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447920" y="86104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47920" y="6553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6095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7920" y="5638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7920" y="51814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4648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92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37339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7920" y="1143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52480" y="1295280"/>
              <a:ext cx="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52480" y="1523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52480" y="1828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1337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2480" y="2438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52480" y="3048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88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8480" y="457200"/>
              <a:ext cx="3547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cc9900"/>
                  </a:solidFill>
                  <a:latin typeface="Arial"/>
                </a:rPr>
                <a:t>Battle Group CZ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Czechoslovak Independent Armoured Brigade 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eneral Alois Lisk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8000" y="990720"/>
              <a:ext cx="12002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Q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000" y="1295280"/>
              <a:ext cx="223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omwell IV 75mm Cruiser Tank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3000" y="1752480"/>
              <a:ext cx="223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omwell IV 75mm Cruiser Tank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6960" y="2057400"/>
              <a:ext cx="228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venanter Bridge Layer Tank        no c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1560" y="2209680"/>
              <a:ext cx="22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1200" y="2514600"/>
              <a:ext cx="22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erman OP Tank                            BR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1200" y="3124080"/>
              <a:ext cx="22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erman OP Tank                            BR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1200" y="2819520"/>
              <a:ext cx="227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Forward Air Contro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14120" y="3505320"/>
              <a:ext cx="156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Battle Group CZ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rmoured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17000" y="3962520"/>
              <a:ext cx="1592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Battle Group CZ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rmoured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840" y="449568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Reconnaissance Squadron 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6560" y="480060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Alterna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15200" y="4952880"/>
              <a:ext cx="1735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Battle Group CZ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rmoured Regiment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44197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480" y="5410080"/>
              <a:ext cx="207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cc9900"/>
                  </a:solidFill>
                  <a:latin typeface="Arial"/>
                </a:rPr>
                <a:t>Battle Group CZ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Motor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ieutenant Colonel J.Chvalkovsk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7640" y="594360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36240" y="67057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tank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05120" y="7620120"/>
              <a:ext cx="231480" cy="156960"/>
              <a:chOff x="1905120" y="7620120"/>
              <a:chExt cx="231480" cy="156960"/>
            </a:xfrm>
          </p:grpSpPr>
          <p:sp>
            <p:nvSpPr>
              <p:cNvPr id="192" name=""/>
              <p:cNvSpPr/>
              <p:nvPr/>
            </p:nvSpPr>
            <p:spPr>
              <a:xfrm>
                <a:off x="1905120" y="76201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905120" y="7623360"/>
                <a:ext cx="1137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18880" y="7620120"/>
                <a:ext cx="1137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905120" y="7238880"/>
              <a:ext cx="231480" cy="157320"/>
              <a:chOff x="1905120" y="7238880"/>
              <a:chExt cx="231480" cy="157320"/>
            </a:xfrm>
          </p:grpSpPr>
          <p:sp>
            <p:nvSpPr>
              <p:cNvPr id="196" name=""/>
              <p:cNvSpPr/>
              <p:nvPr/>
            </p:nvSpPr>
            <p:spPr>
              <a:xfrm>
                <a:off x="1905120" y="723888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1905120" y="724176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18880" y="723888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905120" y="6858000"/>
              <a:ext cx="231480" cy="157320"/>
              <a:chOff x="1905120" y="6858000"/>
              <a:chExt cx="231480" cy="157320"/>
            </a:xfrm>
          </p:grpSpPr>
          <p:sp>
            <p:nvSpPr>
              <p:cNvPr id="200" name=""/>
              <p:cNvSpPr/>
              <p:nvPr/>
            </p:nvSpPr>
            <p:spPr>
              <a:xfrm>
                <a:off x="1905120" y="685800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905120" y="686088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18880" y="685800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752480" y="73152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7696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6934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7315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6240" y="708660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tank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36960" y="7467480"/>
              <a:ext cx="228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tank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dded during siege of Dunkirk, Winter ’44/’4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73152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600200" y="8077320"/>
              <a:ext cx="241200" cy="156960"/>
              <a:chOff x="1600200" y="8077320"/>
              <a:chExt cx="241200" cy="156960"/>
            </a:xfrm>
          </p:grpSpPr>
          <p:sp>
            <p:nvSpPr>
              <p:cNvPr id="211" name=""/>
              <p:cNvSpPr/>
              <p:nvPr/>
            </p:nvSpPr>
            <p:spPr>
              <a:xfrm>
                <a:off x="1601640" y="807732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600200" y="8078760"/>
                <a:ext cx="1159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16120" y="8077320"/>
                <a:ext cx="12348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66800" y="8143920"/>
                <a:ext cx="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955880" y="6781680"/>
              <a:ext cx="131760" cy="27000"/>
              <a:chOff x="1955880" y="6781680"/>
              <a:chExt cx="131760" cy="27000"/>
            </a:xfrm>
          </p:grpSpPr>
          <p:sp>
            <p:nvSpPr>
              <p:cNvPr id="216" name=""/>
              <p:cNvSpPr/>
              <p:nvPr/>
            </p:nvSpPr>
            <p:spPr>
              <a:xfrm>
                <a:off x="1955880" y="6781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06640" y="6781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60640" y="6781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655640" y="8001000"/>
              <a:ext cx="131760" cy="27000"/>
              <a:chOff x="1655640" y="8001000"/>
              <a:chExt cx="131760" cy="27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655640" y="8001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06400" y="8001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60400" y="8001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955880" y="7162920"/>
              <a:ext cx="131760" cy="27000"/>
              <a:chOff x="1955880" y="7162920"/>
              <a:chExt cx="131760" cy="27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955880" y="7162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6640" y="7162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60640" y="7162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955880" y="7543800"/>
              <a:ext cx="131760" cy="27000"/>
              <a:chOff x="1955880" y="7543800"/>
              <a:chExt cx="131760" cy="27000"/>
            </a:xfrm>
          </p:grpSpPr>
          <p:sp>
            <p:nvSpPr>
              <p:cNvPr id="228" name=""/>
              <p:cNvSpPr/>
              <p:nvPr/>
            </p:nvSpPr>
            <p:spPr>
              <a:xfrm>
                <a:off x="1955880" y="7543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06640" y="7543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60640" y="7543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907280" y="6477120"/>
              <a:ext cx="96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tank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31320" y="79246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aircraft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7640" y="8381880"/>
              <a:ext cx="175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Fire Support Element CZ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eld Artille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14800" y="822960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 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rmoured Regiment was formed during the siege of Dunkirk, in the Winter of ’44/’45, using the men of the Armoured Recce Sqn as a cadre around which the new regiment could be form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981080" y="609480"/>
            <a:ext cx="3040200" cy="3766320"/>
            <a:chOff x="1981080" y="609480"/>
            <a:chExt cx="3040200" cy="3766320"/>
          </a:xfrm>
        </p:grpSpPr>
        <p:sp>
          <p:nvSpPr>
            <p:cNvPr id="236" name=""/>
            <p:cNvSpPr/>
            <p:nvPr/>
          </p:nvSpPr>
          <p:spPr>
            <a:xfrm>
              <a:off x="2362320" y="22096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838080"/>
              <a:ext cx="0" cy="33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981080" y="762120"/>
              <a:ext cx="304920" cy="206280"/>
              <a:chOff x="1981080" y="762120"/>
              <a:chExt cx="304920" cy="206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981080" y="7621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36880" y="81360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095560" y="685800"/>
              <a:ext cx="76320" cy="63360"/>
              <a:chOff x="2095560" y="685800"/>
              <a:chExt cx="76320" cy="63360"/>
            </a:xfrm>
          </p:grpSpPr>
          <p:sp>
            <p:nvSpPr>
              <p:cNvPr id="242" name=""/>
              <p:cNvSpPr/>
              <p:nvPr/>
            </p:nvSpPr>
            <p:spPr>
              <a:xfrm>
                <a:off x="2095560" y="685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71880" y="685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86000" y="1143000"/>
              <a:ext cx="231840" cy="157320"/>
              <a:chOff x="2286000" y="1143000"/>
              <a:chExt cx="231840" cy="157320"/>
            </a:xfrm>
          </p:grpSpPr>
          <p:sp>
            <p:nvSpPr>
              <p:cNvPr id="245" name=""/>
              <p:cNvSpPr/>
              <p:nvPr/>
            </p:nvSpPr>
            <p:spPr>
              <a:xfrm>
                <a:off x="2286000" y="11430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28480" y="118224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286000" y="1447920"/>
              <a:ext cx="231840" cy="156960"/>
              <a:chOff x="2286000" y="1447920"/>
              <a:chExt cx="231840" cy="156960"/>
            </a:xfrm>
          </p:grpSpPr>
          <p:sp>
            <p:nvSpPr>
              <p:cNvPr id="248" name=""/>
              <p:cNvSpPr/>
              <p:nvPr/>
            </p:nvSpPr>
            <p:spPr>
              <a:xfrm>
                <a:off x="2286000" y="14479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8480" y="148716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86000" y="1752480"/>
              <a:ext cx="231840" cy="157320"/>
              <a:chOff x="2286000" y="1752480"/>
              <a:chExt cx="231840" cy="15732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0" y="17524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28480" y="179172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286000" y="4114800"/>
              <a:ext cx="304920" cy="206280"/>
              <a:chOff x="2286000" y="4114800"/>
              <a:chExt cx="304920" cy="206280"/>
            </a:xfrm>
          </p:grpSpPr>
          <p:sp>
            <p:nvSpPr>
              <p:cNvPr id="254" name=""/>
              <p:cNvSpPr/>
              <p:nvPr/>
            </p:nvSpPr>
            <p:spPr>
              <a:xfrm>
                <a:off x="2286000" y="41148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41800" y="416628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286000" y="3200400"/>
              <a:ext cx="304920" cy="206280"/>
              <a:chOff x="2286000" y="3200400"/>
              <a:chExt cx="304920" cy="206280"/>
            </a:xfrm>
          </p:grpSpPr>
          <p:sp>
            <p:nvSpPr>
              <p:cNvPr id="257" name=""/>
              <p:cNvSpPr/>
              <p:nvPr/>
            </p:nvSpPr>
            <p:spPr>
              <a:xfrm>
                <a:off x="2286000" y="32004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41800" y="325188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286000" y="3657600"/>
              <a:ext cx="304920" cy="206280"/>
              <a:chOff x="2286000" y="3657600"/>
              <a:chExt cx="304920" cy="206280"/>
            </a:xfrm>
          </p:grpSpPr>
          <p:sp>
            <p:nvSpPr>
              <p:cNvPr id="260" name=""/>
              <p:cNvSpPr/>
              <p:nvPr/>
            </p:nvSpPr>
            <p:spPr>
              <a:xfrm>
                <a:off x="2286000" y="36576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41800" y="370908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438280" y="4038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38280" y="3124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38280" y="35812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286000" y="2743200"/>
              <a:ext cx="304920" cy="200160"/>
              <a:chOff x="2286000" y="2743200"/>
              <a:chExt cx="304920" cy="2001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2286000" y="2743200"/>
                <a:ext cx="304920" cy="200160"/>
                <a:chOff x="2286000" y="2743200"/>
                <a:chExt cx="304920" cy="200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286000" y="2743200"/>
                  <a:ext cx="304920" cy="200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1800" y="2793240"/>
                  <a:ext cx="192600" cy="9540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 flipV="1">
                <a:off x="2286000" y="2743200"/>
                <a:ext cx="3002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371680" y="2666880"/>
              <a:ext cx="131760" cy="27000"/>
              <a:chOff x="2371680" y="2666880"/>
              <a:chExt cx="131760" cy="27000"/>
            </a:xfrm>
          </p:grpSpPr>
          <p:sp>
            <p:nvSpPr>
              <p:cNvPr id="271" name=""/>
              <p:cNvSpPr/>
              <p:nvPr/>
            </p:nvSpPr>
            <p:spPr>
              <a:xfrm>
                <a:off x="2371680" y="2666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2440" y="2666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76440" y="2666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363760" y="1066680"/>
              <a:ext cx="74160" cy="27000"/>
              <a:chOff x="2363760" y="1066680"/>
              <a:chExt cx="74160" cy="27000"/>
            </a:xfrm>
          </p:grpSpPr>
          <p:sp>
            <p:nvSpPr>
              <p:cNvPr id="275" name=""/>
              <p:cNvSpPr/>
              <p:nvPr/>
            </p:nvSpPr>
            <p:spPr>
              <a:xfrm>
                <a:off x="2363760" y="10666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11280" y="10666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63760" y="1371600"/>
              <a:ext cx="74160" cy="27000"/>
              <a:chOff x="2363760" y="1371600"/>
              <a:chExt cx="74160" cy="27000"/>
            </a:xfrm>
          </p:grpSpPr>
          <p:sp>
            <p:nvSpPr>
              <p:cNvPr id="278" name=""/>
              <p:cNvSpPr/>
              <p:nvPr/>
            </p:nvSpPr>
            <p:spPr>
              <a:xfrm>
                <a:off x="2363760" y="13716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1280" y="13716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363760" y="1676520"/>
              <a:ext cx="74160" cy="27000"/>
              <a:chOff x="2363760" y="1676520"/>
              <a:chExt cx="74160" cy="27000"/>
            </a:xfrm>
          </p:grpSpPr>
          <p:sp>
            <p:nvSpPr>
              <p:cNvPr id="281" name=""/>
              <p:cNvSpPr/>
              <p:nvPr/>
            </p:nvSpPr>
            <p:spPr>
              <a:xfrm>
                <a:off x="2363760" y="16765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11280" y="16765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133720" y="1219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33720" y="1523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2286000" y="2057400"/>
              <a:ext cx="231840" cy="157320"/>
              <a:chOff x="2286000" y="2057400"/>
              <a:chExt cx="231840" cy="157320"/>
            </a:xfrm>
          </p:grpSpPr>
          <p:sp>
            <p:nvSpPr>
              <p:cNvPr id="286" name=""/>
              <p:cNvSpPr/>
              <p:nvPr/>
            </p:nvSpPr>
            <p:spPr>
              <a:xfrm>
                <a:off x="2286000" y="20574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68440" y="2108160"/>
                <a:ext cx="5724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286000" y="2362320"/>
              <a:ext cx="231840" cy="156960"/>
              <a:chOff x="2286000" y="2362320"/>
              <a:chExt cx="231840" cy="156960"/>
            </a:xfrm>
          </p:grpSpPr>
          <p:sp>
            <p:nvSpPr>
              <p:cNvPr id="289" name=""/>
              <p:cNvSpPr/>
              <p:nvPr/>
            </p:nvSpPr>
            <p:spPr>
              <a:xfrm>
                <a:off x="2286000" y="23623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98960" y="2390760"/>
                <a:ext cx="199800" cy="997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68800" y="2412720"/>
                <a:ext cx="5688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362320" y="1981080"/>
              <a:ext cx="74160" cy="27000"/>
              <a:chOff x="2362320" y="1981080"/>
              <a:chExt cx="74160" cy="27000"/>
            </a:xfrm>
          </p:grpSpPr>
          <p:sp>
            <p:nvSpPr>
              <p:cNvPr id="293" name=""/>
              <p:cNvSpPr/>
              <p:nvPr/>
            </p:nvSpPr>
            <p:spPr>
              <a:xfrm>
                <a:off x="2362320" y="19810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09840" y="19810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362320" y="2286000"/>
              <a:ext cx="74160" cy="27000"/>
              <a:chOff x="2362320" y="2286000"/>
              <a:chExt cx="74160" cy="27000"/>
            </a:xfrm>
          </p:grpSpPr>
          <p:sp>
            <p:nvSpPr>
              <p:cNvPr id="296" name=""/>
              <p:cNvSpPr/>
              <p:nvPr/>
            </p:nvSpPr>
            <p:spPr>
              <a:xfrm>
                <a:off x="2362320" y="22860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9840" y="22860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133720" y="1828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3720" y="21337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33720" y="2819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33720" y="32767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33720" y="37339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3372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04720" y="609480"/>
              <a:ext cx="195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Battle Group CZ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&amp; 2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rmoured Regi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2080" y="990720"/>
              <a:ext cx="24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omwell VII 75mm Cruiser Tank             BR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12080" y="1447920"/>
              <a:ext cx="24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omwell VII 75mm Cruiser Tank             BR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15320" y="1752480"/>
              <a:ext cx="246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erman Vc Firefly 17pdr Cruiser Tank   BR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0640" y="1905120"/>
              <a:ext cx="25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11720" y="2209680"/>
              <a:ext cx="25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romwell IV Cruiser (OP) Tank            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93440" y="26668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Recce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93440" y="31240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’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3440" y="35812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’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3440" y="40384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’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36766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rmoured Reg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81080" y="4572000"/>
            <a:ext cx="3031560" cy="3766320"/>
            <a:chOff x="1981080" y="4572000"/>
            <a:chExt cx="3031560" cy="3766320"/>
          </a:xfrm>
        </p:grpSpPr>
        <p:sp>
          <p:nvSpPr>
            <p:cNvPr id="316" name=""/>
            <p:cNvSpPr/>
            <p:nvPr/>
          </p:nvSpPr>
          <p:spPr>
            <a:xfrm>
              <a:off x="2362320" y="61722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3720" y="48006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981080" y="4724280"/>
              <a:ext cx="304920" cy="206640"/>
              <a:chOff x="1981080" y="4724280"/>
              <a:chExt cx="304920" cy="206640"/>
            </a:xfrm>
          </p:grpSpPr>
          <p:sp>
            <p:nvSpPr>
              <p:cNvPr id="319" name=""/>
              <p:cNvSpPr/>
              <p:nvPr/>
            </p:nvSpPr>
            <p:spPr>
              <a:xfrm>
                <a:off x="1981080" y="4724280"/>
                <a:ext cx="304920" cy="2066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36880" y="4775760"/>
                <a:ext cx="195480" cy="9864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095560" y="4648320"/>
              <a:ext cx="76320" cy="63360"/>
              <a:chOff x="2095560" y="4648320"/>
              <a:chExt cx="76320" cy="63360"/>
            </a:xfrm>
          </p:grpSpPr>
          <p:sp>
            <p:nvSpPr>
              <p:cNvPr id="322" name=""/>
              <p:cNvSpPr/>
              <p:nvPr/>
            </p:nvSpPr>
            <p:spPr>
              <a:xfrm>
                <a:off x="2095560" y="4648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71880" y="4648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286000" y="5105520"/>
              <a:ext cx="231840" cy="156960"/>
              <a:chOff x="2286000" y="5105520"/>
              <a:chExt cx="231840" cy="156960"/>
            </a:xfrm>
          </p:grpSpPr>
          <p:sp>
            <p:nvSpPr>
              <p:cNvPr id="325" name=""/>
              <p:cNvSpPr/>
              <p:nvPr/>
            </p:nvSpPr>
            <p:spPr>
              <a:xfrm>
                <a:off x="2286000" y="51055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28480" y="514476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286000" y="5410080"/>
              <a:ext cx="231840" cy="157320"/>
              <a:chOff x="2286000" y="5410080"/>
              <a:chExt cx="231840" cy="157320"/>
            </a:xfrm>
          </p:grpSpPr>
          <p:sp>
            <p:nvSpPr>
              <p:cNvPr id="328" name=""/>
              <p:cNvSpPr/>
              <p:nvPr/>
            </p:nvSpPr>
            <p:spPr>
              <a:xfrm>
                <a:off x="2286000" y="54100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28480" y="544932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0" y="5715000"/>
              <a:ext cx="231840" cy="157320"/>
              <a:chOff x="2286000" y="5715000"/>
              <a:chExt cx="231840" cy="157320"/>
            </a:xfrm>
          </p:grpSpPr>
          <p:sp>
            <p:nvSpPr>
              <p:cNvPr id="331" name=""/>
              <p:cNvSpPr/>
              <p:nvPr/>
            </p:nvSpPr>
            <p:spPr>
              <a:xfrm>
                <a:off x="2286000" y="57150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8480" y="575424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286000" y="8077320"/>
              <a:ext cx="304920" cy="206280"/>
              <a:chOff x="2286000" y="8077320"/>
              <a:chExt cx="304920" cy="206280"/>
            </a:xfrm>
          </p:grpSpPr>
          <p:sp>
            <p:nvSpPr>
              <p:cNvPr id="334" name=""/>
              <p:cNvSpPr/>
              <p:nvPr/>
            </p:nvSpPr>
            <p:spPr>
              <a:xfrm>
                <a:off x="2286000" y="80773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341800" y="812880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286000" y="7162920"/>
              <a:ext cx="304920" cy="206280"/>
              <a:chOff x="2286000" y="7162920"/>
              <a:chExt cx="304920" cy="206280"/>
            </a:xfrm>
          </p:grpSpPr>
          <p:sp>
            <p:nvSpPr>
              <p:cNvPr id="337" name=""/>
              <p:cNvSpPr/>
              <p:nvPr/>
            </p:nvSpPr>
            <p:spPr>
              <a:xfrm>
                <a:off x="2286000" y="71629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341800" y="721440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286000" y="7620120"/>
              <a:ext cx="304920" cy="206280"/>
              <a:chOff x="2286000" y="7620120"/>
              <a:chExt cx="304920" cy="206280"/>
            </a:xfrm>
          </p:grpSpPr>
          <p:sp>
            <p:nvSpPr>
              <p:cNvPr id="340" name=""/>
              <p:cNvSpPr/>
              <p:nvPr/>
            </p:nvSpPr>
            <p:spPr>
              <a:xfrm>
                <a:off x="2286000" y="762012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41800" y="767160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438280" y="80010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38280" y="7086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7543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286000" y="6705360"/>
              <a:ext cx="304920" cy="200160"/>
              <a:chOff x="2286000" y="6705360"/>
              <a:chExt cx="304920" cy="2001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286000" y="6705720"/>
                <a:ext cx="304920" cy="199800"/>
                <a:chOff x="2286000" y="6705720"/>
                <a:chExt cx="304920" cy="1998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286000" y="6705720"/>
                  <a:ext cx="304920" cy="199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41800" y="6755760"/>
                  <a:ext cx="192600" cy="9540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 flipV="1">
                <a:off x="2286000" y="6705360"/>
                <a:ext cx="30024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371680" y="6629400"/>
              <a:ext cx="131760" cy="27000"/>
              <a:chOff x="2371680" y="6629400"/>
              <a:chExt cx="131760" cy="27000"/>
            </a:xfrm>
          </p:grpSpPr>
          <p:sp>
            <p:nvSpPr>
              <p:cNvPr id="351" name=""/>
              <p:cNvSpPr/>
              <p:nvPr/>
            </p:nvSpPr>
            <p:spPr>
              <a:xfrm>
                <a:off x="2371680" y="6629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422440" y="6629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76440" y="6629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363760" y="5029200"/>
              <a:ext cx="74160" cy="27000"/>
              <a:chOff x="2363760" y="5029200"/>
              <a:chExt cx="74160" cy="27000"/>
            </a:xfrm>
          </p:grpSpPr>
          <p:sp>
            <p:nvSpPr>
              <p:cNvPr id="355" name=""/>
              <p:cNvSpPr/>
              <p:nvPr/>
            </p:nvSpPr>
            <p:spPr>
              <a:xfrm>
                <a:off x="2363760" y="50292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11280" y="50292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363760" y="5334120"/>
              <a:ext cx="74160" cy="27000"/>
              <a:chOff x="2363760" y="5334120"/>
              <a:chExt cx="74160" cy="27000"/>
            </a:xfrm>
          </p:grpSpPr>
          <p:sp>
            <p:nvSpPr>
              <p:cNvPr id="358" name=""/>
              <p:cNvSpPr/>
              <p:nvPr/>
            </p:nvSpPr>
            <p:spPr>
              <a:xfrm>
                <a:off x="2363760" y="53341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11280" y="53341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363760" y="5638680"/>
              <a:ext cx="74160" cy="27000"/>
              <a:chOff x="2363760" y="5638680"/>
              <a:chExt cx="74160" cy="27000"/>
            </a:xfrm>
          </p:grpSpPr>
          <p:sp>
            <p:nvSpPr>
              <p:cNvPr id="361" name=""/>
              <p:cNvSpPr/>
              <p:nvPr/>
            </p:nvSpPr>
            <p:spPr>
              <a:xfrm>
                <a:off x="2363760" y="56386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11280" y="56386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133720" y="51814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5486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286000" y="6019920"/>
              <a:ext cx="231840" cy="156960"/>
              <a:chOff x="2286000" y="6019920"/>
              <a:chExt cx="231840" cy="15696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60199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68440" y="6070320"/>
                <a:ext cx="57240" cy="55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286000" y="6324480"/>
              <a:ext cx="231840" cy="157320"/>
              <a:chOff x="2286000" y="6324480"/>
              <a:chExt cx="231840" cy="157320"/>
            </a:xfrm>
          </p:grpSpPr>
          <p:sp>
            <p:nvSpPr>
              <p:cNvPr id="369" name=""/>
              <p:cNvSpPr/>
              <p:nvPr/>
            </p:nvSpPr>
            <p:spPr>
              <a:xfrm>
                <a:off x="2286000" y="63244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98960" y="6353280"/>
                <a:ext cx="199800" cy="1000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68800" y="6375240"/>
                <a:ext cx="5688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362320" y="5943600"/>
              <a:ext cx="74160" cy="27000"/>
              <a:chOff x="2362320" y="5943600"/>
              <a:chExt cx="74160" cy="27000"/>
            </a:xfrm>
          </p:grpSpPr>
          <p:sp>
            <p:nvSpPr>
              <p:cNvPr id="373" name=""/>
              <p:cNvSpPr/>
              <p:nvPr/>
            </p:nvSpPr>
            <p:spPr>
              <a:xfrm>
                <a:off x="2362320" y="59436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409840" y="59436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362320" y="6248520"/>
              <a:ext cx="74160" cy="27000"/>
              <a:chOff x="2362320" y="6248520"/>
              <a:chExt cx="74160" cy="27000"/>
            </a:xfrm>
          </p:grpSpPr>
          <p:sp>
            <p:nvSpPr>
              <p:cNvPr id="376" name=""/>
              <p:cNvSpPr/>
              <p:nvPr/>
            </p:nvSpPr>
            <p:spPr>
              <a:xfrm>
                <a:off x="2362320" y="62485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09840" y="62485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133720" y="5791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33720" y="6095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3720" y="678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3720" y="7238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3720" y="7696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720" y="8153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96080" y="4572000"/>
              <a:ext cx="1576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Battle Group CZ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rmoured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2440" y="4952880"/>
              <a:ext cx="24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hurchill VI 75mm Infantry Tank              BR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2440" y="5410080"/>
              <a:ext cx="247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hurchill VI 75mm Infantry Tank              BR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5320" y="5715000"/>
              <a:ext cx="249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hurchill V 95mm Close Support Tank     BR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0640" y="5867280"/>
              <a:ext cx="25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10640" y="6172200"/>
              <a:ext cx="24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erman OP Tank                                    BR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3440" y="662940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Recce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3440" y="708660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’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3440" y="754380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’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93440" y="800100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’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3372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735200" y="685800"/>
            <a:ext cx="3259440" cy="7096320"/>
            <a:chOff x="1735200" y="685800"/>
            <a:chExt cx="3259440" cy="7096320"/>
          </a:xfrm>
        </p:grpSpPr>
        <p:sp>
          <p:nvSpPr>
            <p:cNvPr id="396" name=""/>
            <p:cNvSpPr/>
            <p:nvPr/>
          </p:nvSpPr>
          <p:spPr>
            <a:xfrm>
              <a:off x="2209680" y="6858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09680" y="6248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09680" y="56386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6000" y="4724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86000" y="4038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0" y="33526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09680" y="25909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09680" y="1981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1080" y="990720"/>
              <a:ext cx="0" cy="579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1371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133720" y="5486400"/>
              <a:ext cx="231480" cy="157320"/>
              <a:chOff x="2133720" y="5486400"/>
              <a:chExt cx="231480" cy="157320"/>
            </a:xfrm>
          </p:grpSpPr>
          <p:sp>
            <p:nvSpPr>
              <p:cNvPr id="407" name=""/>
              <p:cNvSpPr/>
              <p:nvPr/>
            </p:nvSpPr>
            <p:spPr>
              <a:xfrm>
                <a:off x="2133720" y="548640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133720" y="548928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7480" y="548640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1828800" y="837720"/>
              <a:ext cx="304920" cy="199080"/>
              <a:chOff x="1828800" y="837720"/>
              <a:chExt cx="304920" cy="199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830240" y="838080"/>
                <a:ext cx="303120" cy="1987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75600" y="887400"/>
                <a:ext cx="21420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830240" y="837720"/>
                <a:ext cx="2998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28800" y="838080"/>
                <a:ext cx="3049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1943280" y="762120"/>
              <a:ext cx="75960" cy="63360"/>
              <a:chOff x="1943280" y="762120"/>
              <a:chExt cx="75960" cy="63360"/>
            </a:xfrm>
          </p:grpSpPr>
          <p:sp>
            <p:nvSpPr>
              <p:cNvPr id="416" name=""/>
              <p:cNvSpPr/>
              <p:nvPr/>
            </p:nvSpPr>
            <p:spPr>
              <a:xfrm>
                <a:off x="1943280" y="762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019240" y="762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133720" y="1219320"/>
              <a:ext cx="231480" cy="156960"/>
              <a:chOff x="2133720" y="1219320"/>
              <a:chExt cx="231480" cy="156960"/>
            </a:xfrm>
          </p:grpSpPr>
          <p:sp>
            <p:nvSpPr>
              <p:cNvPr id="419" name=""/>
              <p:cNvSpPr/>
              <p:nvPr/>
            </p:nvSpPr>
            <p:spPr>
              <a:xfrm>
                <a:off x="2133720" y="12193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57120" y="1241280"/>
                <a:ext cx="18396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133720" y="1523880"/>
              <a:ext cx="231480" cy="190800"/>
              <a:chOff x="2133720" y="1523880"/>
              <a:chExt cx="231480" cy="190800"/>
            </a:xfrm>
          </p:grpSpPr>
          <p:sp>
            <p:nvSpPr>
              <p:cNvPr id="422" name=""/>
              <p:cNvSpPr/>
              <p:nvPr/>
            </p:nvSpPr>
            <p:spPr>
              <a:xfrm>
                <a:off x="2133720" y="152388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144880" y="1687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25600" y="1687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66840" y="1565280"/>
                <a:ext cx="162000" cy="763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135160" y="1523880"/>
                <a:ext cx="2286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2133720" y="3200400"/>
              <a:ext cx="304560" cy="198360"/>
              <a:chOff x="2133720" y="3200400"/>
              <a:chExt cx="304560" cy="198360"/>
            </a:xfrm>
          </p:grpSpPr>
          <p:sp>
            <p:nvSpPr>
              <p:cNvPr id="428" name=""/>
              <p:cNvSpPr/>
              <p:nvPr/>
            </p:nvSpPr>
            <p:spPr>
              <a:xfrm>
                <a:off x="2135160" y="3200400"/>
                <a:ext cx="302760" cy="1983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80520" y="3249720"/>
                <a:ext cx="21384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135160" y="3200400"/>
                <a:ext cx="29952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33720" y="3200400"/>
                <a:ext cx="30456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133720" y="1828800"/>
              <a:ext cx="241200" cy="156960"/>
              <a:chOff x="2133720" y="1828800"/>
              <a:chExt cx="241200" cy="156960"/>
            </a:xfrm>
          </p:grpSpPr>
          <p:sp>
            <p:nvSpPr>
              <p:cNvPr id="433" name=""/>
              <p:cNvSpPr/>
              <p:nvPr/>
            </p:nvSpPr>
            <p:spPr>
              <a:xfrm>
                <a:off x="2135160" y="182880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133720" y="1830240"/>
                <a:ext cx="1159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49640" y="1828800"/>
                <a:ext cx="12348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00320" y="1895400"/>
                <a:ext cx="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133720" y="2133720"/>
              <a:ext cx="231480" cy="193680"/>
              <a:chOff x="2133720" y="2133720"/>
              <a:chExt cx="231480" cy="19368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2197080" y="2300400"/>
                <a:ext cx="104040" cy="27000"/>
                <a:chOff x="2197080" y="2300400"/>
                <a:chExt cx="104040" cy="270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197080" y="23004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272680" y="2300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217240" y="2300400"/>
                  <a:ext cx="6156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133720" y="21337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133720" y="3886200"/>
              <a:ext cx="304560" cy="198360"/>
              <a:chOff x="2133720" y="3886200"/>
              <a:chExt cx="304560" cy="198360"/>
            </a:xfrm>
          </p:grpSpPr>
          <p:sp>
            <p:nvSpPr>
              <p:cNvPr id="444" name=""/>
              <p:cNvSpPr/>
              <p:nvPr/>
            </p:nvSpPr>
            <p:spPr>
              <a:xfrm>
                <a:off x="2135160" y="3886200"/>
                <a:ext cx="302760" cy="1983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80520" y="3935520"/>
                <a:ext cx="21384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2135160" y="3886200"/>
                <a:ext cx="29952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33720" y="3886200"/>
                <a:ext cx="30456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133720" y="4572000"/>
              <a:ext cx="304560" cy="198360"/>
              <a:chOff x="2133720" y="4572000"/>
              <a:chExt cx="304560" cy="198360"/>
            </a:xfrm>
          </p:grpSpPr>
          <p:sp>
            <p:nvSpPr>
              <p:cNvPr id="449" name=""/>
              <p:cNvSpPr/>
              <p:nvPr/>
            </p:nvSpPr>
            <p:spPr>
              <a:xfrm>
                <a:off x="2135160" y="4572000"/>
                <a:ext cx="302760" cy="1983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180520" y="4621320"/>
                <a:ext cx="21384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135160" y="4572000"/>
                <a:ext cx="29952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33720" y="4572000"/>
                <a:ext cx="30456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438280" y="3580920"/>
              <a:ext cx="239760" cy="157680"/>
              <a:chOff x="2438280" y="3580920"/>
              <a:chExt cx="239760" cy="15768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2438280" y="3581280"/>
                <a:ext cx="239760" cy="157320"/>
                <a:chOff x="2438280" y="3581280"/>
                <a:chExt cx="239760" cy="1573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438280" y="358128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482200" y="362052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 flipV="1">
                <a:off x="2438280" y="358092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438280" y="4266720"/>
              <a:ext cx="239760" cy="157680"/>
              <a:chOff x="2438280" y="4266720"/>
              <a:chExt cx="239760" cy="15768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2438280" y="4267080"/>
                <a:ext cx="239760" cy="157320"/>
                <a:chOff x="2438280" y="4267080"/>
                <a:chExt cx="239760" cy="1573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438280" y="426708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482200" y="430632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 flipV="1">
                <a:off x="2438280" y="426672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438280" y="4952520"/>
              <a:ext cx="239760" cy="157680"/>
              <a:chOff x="2438280" y="4952520"/>
              <a:chExt cx="239760" cy="1576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438280" y="4952880"/>
                <a:ext cx="239760" cy="157320"/>
                <a:chOff x="2438280" y="4952880"/>
                <a:chExt cx="239760" cy="1573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438280" y="495288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482200" y="499212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 flipV="1">
                <a:off x="2438280" y="495252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133720" y="5791320"/>
              <a:ext cx="231480" cy="193680"/>
              <a:chOff x="2133720" y="5791320"/>
              <a:chExt cx="231480" cy="19368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197080" y="5958000"/>
                <a:ext cx="104040" cy="27000"/>
                <a:chOff x="2197080" y="5958000"/>
                <a:chExt cx="104040" cy="270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2197080" y="59580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72680" y="5958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17240" y="5958000"/>
                  <a:ext cx="6156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2133720" y="57913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133720" y="6095880"/>
              <a:ext cx="231480" cy="157320"/>
              <a:chOff x="2133720" y="6095880"/>
              <a:chExt cx="231480" cy="157320"/>
            </a:xfrm>
          </p:grpSpPr>
          <p:sp>
            <p:nvSpPr>
              <p:cNvPr id="475" name=""/>
              <p:cNvSpPr/>
              <p:nvPr/>
            </p:nvSpPr>
            <p:spPr>
              <a:xfrm>
                <a:off x="2133720" y="609588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133720" y="6095880"/>
                <a:ext cx="5508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2133720" y="6098760"/>
                <a:ext cx="22824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134800" y="6095880"/>
                <a:ext cx="226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133720" y="7010280"/>
              <a:ext cx="241200" cy="187200"/>
              <a:chOff x="2133720" y="7010280"/>
              <a:chExt cx="241200" cy="187200"/>
            </a:xfrm>
          </p:grpSpPr>
          <p:sp>
            <p:nvSpPr>
              <p:cNvPr id="480" name=""/>
              <p:cNvSpPr/>
              <p:nvPr/>
            </p:nvSpPr>
            <p:spPr>
              <a:xfrm>
                <a:off x="2135520" y="7010280"/>
                <a:ext cx="23940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70440" y="7049880"/>
                <a:ext cx="169560" cy="745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2135520" y="701028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133720" y="701028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197440" y="7170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73400" y="71704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17960" y="717048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133720" y="6400800"/>
              <a:ext cx="241200" cy="187200"/>
              <a:chOff x="2133720" y="6400800"/>
              <a:chExt cx="241200" cy="187200"/>
            </a:xfrm>
          </p:grpSpPr>
          <p:sp>
            <p:nvSpPr>
              <p:cNvPr id="488" name=""/>
              <p:cNvSpPr/>
              <p:nvPr/>
            </p:nvSpPr>
            <p:spPr>
              <a:xfrm>
                <a:off x="2135520" y="6400800"/>
                <a:ext cx="23940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170440" y="6440400"/>
                <a:ext cx="169560" cy="745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2135520" y="640080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33720" y="640080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97440" y="6561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73400" y="65610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217960" y="656100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133720" y="6705720"/>
              <a:ext cx="239760" cy="156960"/>
              <a:chOff x="2133720" y="6705720"/>
              <a:chExt cx="239760" cy="156960"/>
            </a:xfrm>
          </p:grpSpPr>
          <p:sp>
            <p:nvSpPr>
              <p:cNvPr id="496" name=""/>
              <p:cNvSpPr/>
              <p:nvPr/>
            </p:nvSpPr>
            <p:spPr>
              <a:xfrm>
                <a:off x="2133720" y="670572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2254320" y="672696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218320" y="683064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2135160" y="685800"/>
              <a:ext cx="127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Battle Group CZ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8720" y="1143000"/>
              <a:ext cx="22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Headquar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0880" y="1447920"/>
              <a:ext cx="21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A1 White Scout Car                   BR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3040" y="1828800"/>
              <a:ext cx="263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lsten 20mm Antiaircraft Gun    website proto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58720" y="2057400"/>
              <a:ext cx="22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loyd Carrier                                   BR-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40800" y="31240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’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66520" y="35053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rrier Platoon, ‘A’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17120" y="38098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’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17120" y="44956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’ Company 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66520" y="41911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rrier Platoon, ‘B’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66520" y="4876920"/>
              <a:ext cx="175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rrier Platoon, ‘C’ Company 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61960" y="5257800"/>
              <a:ext cx="94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61240" y="5486400"/>
              <a:ext cx="218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pdr Antitank Gun                          BR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58720" y="5638680"/>
              <a:ext cx="217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loyd Carrier                                  BR-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57280" y="6705720"/>
              <a:ext cx="218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” Mortar                                        BR-5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55480" y="6095880"/>
              <a:ext cx="218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8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ickers MMG                                 BR-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9440" y="6248520"/>
              <a:ext cx="21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8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iversal Carrier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      BR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61240" y="6858000"/>
              <a:ext cx="218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iversal Carrier (no MG)              BR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86000" y="3124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6000" y="38098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86000" y="4495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492280" y="4876920"/>
              <a:ext cx="131760" cy="27000"/>
              <a:chOff x="2492280" y="4876920"/>
              <a:chExt cx="131760" cy="27000"/>
            </a:xfrm>
          </p:grpSpPr>
          <p:sp>
            <p:nvSpPr>
              <p:cNvPr id="521" name=""/>
              <p:cNvSpPr/>
              <p:nvPr/>
            </p:nvSpPr>
            <p:spPr>
              <a:xfrm>
                <a:off x="2492280" y="487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43040" y="4876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97040" y="487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492280" y="4191120"/>
              <a:ext cx="131760" cy="27000"/>
              <a:chOff x="2492280" y="4191120"/>
              <a:chExt cx="131760" cy="27000"/>
            </a:xfrm>
          </p:grpSpPr>
          <p:sp>
            <p:nvSpPr>
              <p:cNvPr id="525" name=""/>
              <p:cNvSpPr/>
              <p:nvPr/>
            </p:nvSpPr>
            <p:spPr>
              <a:xfrm>
                <a:off x="2492280" y="4191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43040" y="4191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97040" y="4191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492280" y="3505320"/>
              <a:ext cx="131760" cy="27000"/>
              <a:chOff x="2492280" y="3505320"/>
              <a:chExt cx="131760" cy="27000"/>
            </a:xfrm>
          </p:grpSpPr>
          <p:sp>
            <p:nvSpPr>
              <p:cNvPr id="529" name=""/>
              <p:cNvSpPr/>
              <p:nvPr/>
            </p:nvSpPr>
            <p:spPr>
              <a:xfrm>
                <a:off x="2492280" y="3505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43040" y="3505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97040" y="3505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209680" y="1143000"/>
              <a:ext cx="74880" cy="27000"/>
              <a:chOff x="2209680" y="1143000"/>
              <a:chExt cx="74880" cy="27000"/>
            </a:xfrm>
          </p:grpSpPr>
          <p:sp>
            <p:nvSpPr>
              <p:cNvPr id="533" name=""/>
              <p:cNvSpPr/>
              <p:nvPr/>
            </p:nvSpPr>
            <p:spPr>
              <a:xfrm>
                <a:off x="2209680" y="11430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57560" y="11430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209680" y="1447920"/>
              <a:ext cx="74880" cy="27000"/>
              <a:chOff x="2209680" y="1447920"/>
              <a:chExt cx="74880" cy="27000"/>
            </a:xfrm>
          </p:grpSpPr>
          <p:sp>
            <p:nvSpPr>
              <p:cNvPr id="536" name=""/>
              <p:cNvSpPr/>
              <p:nvPr/>
            </p:nvSpPr>
            <p:spPr>
              <a:xfrm>
                <a:off x="2209680" y="144792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57560" y="144792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209680" y="1752480"/>
              <a:ext cx="74880" cy="27000"/>
              <a:chOff x="2209680" y="1752480"/>
              <a:chExt cx="74880" cy="27000"/>
            </a:xfrm>
          </p:grpSpPr>
          <p:sp>
            <p:nvSpPr>
              <p:cNvPr id="539" name=""/>
              <p:cNvSpPr/>
              <p:nvPr/>
            </p:nvSpPr>
            <p:spPr>
              <a:xfrm>
                <a:off x="2209680" y="175248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57560" y="175248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2209680" y="2057400"/>
              <a:ext cx="74880" cy="27000"/>
              <a:chOff x="2209680" y="2057400"/>
              <a:chExt cx="74880" cy="27000"/>
            </a:xfrm>
          </p:grpSpPr>
          <p:sp>
            <p:nvSpPr>
              <p:cNvPr id="542" name=""/>
              <p:cNvSpPr/>
              <p:nvPr/>
            </p:nvSpPr>
            <p:spPr>
              <a:xfrm>
                <a:off x="2209680" y="20574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57560" y="20574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209680" y="5410080"/>
              <a:ext cx="74880" cy="27000"/>
              <a:chOff x="2209680" y="5410080"/>
              <a:chExt cx="74880" cy="27000"/>
            </a:xfrm>
          </p:grpSpPr>
          <p:sp>
            <p:nvSpPr>
              <p:cNvPr id="545" name=""/>
              <p:cNvSpPr/>
              <p:nvPr/>
            </p:nvSpPr>
            <p:spPr>
              <a:xfrm>
                <a:off x="2209680" y="541008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57560" y="541008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209680" y="5715000"/>
              <a:ext cx="74880" cy="27000"/>
              <a:chOff x="2209680" y="5715000"/>
              <a:chExt cx="74880" cy="27000"/>
            </a:xfrm>
          </p:grpSpPr>
          <p:sp>
            <p:nvSpPr>
              <p:cNvPr id="548" name=""/>
              <p:cNvSpPr/>
              <p:nvPr/>
            </p:nvSpPr>
            <p:spPr>
              <a:xfrm>
                <a:off x="2209680" y="57150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57560" y="57150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209680" y="6019920"/>
              <a:ext cx="74880" cy="27000"/>
              <a:chOff x="2209680" y="6019920"/>
              <a:chExt cx="74880" cy="27000"/>
            </a:xfrm>
          </p:grpSpPr>
          <p:sp>
            <p:nvSpPr>
              <p:cNvPr id="551" name=""/>
              <p:cNvSpPr/>
              <p:nvPr/>
            </p:nvSpPr>
            <p:spPr>
              <a:xfrm>
                <a:off x="2209680" y="601992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57560" y="601992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209680" y="6324480"/>
              <a:ext cx="74880" cy="27000"/>
              <a:chOff x="2209680" y="6324480"/>
              <a:chExt cx="74880" cy="27000"/>
            </a:xfrm>
          </p:grpSpPr>
          <p:sp>
            <p:nvSpPr>
              <p:cNvPr id="554" name=""/>
              <p:cNvSpPr/>
              <p:nvPr/>
            </p:nvSpPr>
            <p:spPr>
              <a:xfrm>
                <a:off x="2209680" y="632448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7560" y="632448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2209680" y="6629400"/>
              <a:ext cx="74880" cy="27000"/>
              <a:chOff x="2209680" y="6629400"/>
              <a:chExt cx="74880" cy="27000"/>
            </a:xfrm>
          </p:grpSpPr>
          <p:sp>
            <p:nvSpPr>
              <p:cNvPr id="557" name=""/>
              <p:cNvSpPr/>
              <p:nvPr/>
            </p:nvSpPr>
            <p:spPr>
              <a:xfrm>
                <a:off x="2209680" y="662940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57560" y="662940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209680" y="6934320"/>
              <a:ext cx="74880" cy="27000"/>
              <a:chOff x="2209680" y="6934320"/>
              <a:chExt cx="74880" cy="27000"/>
            </a:xfrm>
          </p:grpSpPr>
          <p:sp>
            <p:nvSpPr>
              <p:cNvPr id="560" name=""/>
              <p:cNvSpPr/>
              <p:nvPr/>
            </p:nvSpPr>
            <p:spPr>
              <a:xfrm>
                <a:off x="2209680" y="693432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57560" y="693432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1295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2133720" y="2438280"/>
              <a:ext cx="231480" cy="157320"/>
              <a:chOff x="2133720" y="2438280"/>
              <a:chExt cx="231480" cy="157320"/>
            </a:xfrm>
          </p:grpSpPr>
          <p:sp>
            <p:nvSpPr>
              <p:cNvPr id="564" name=""/>
              <p:cNvSpPr/>
              <p:nvPr/>
            </p:nvSpPr>
            <p:spPr>
              <a:xfrm>
                <a:off x="2133720" y="243828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15800" y="2489040"/>
                <a:ext cx="5688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133720" y="2743200"/>
              <a:ext cx="241200" cy="187200"/>
              <a:chOff x="2133720" y="2743200"/>
              <a:chExt cx="241200" cy="187200"/>
            </a:xfrm>
          </p:grpSpPr>
          <p:sp>
            <p:nvSpPr>
              <p:cNvPr id="567" name=""/>
              <p:cNvSpPr/>
              <p:nvPr/>
            </p:nvSpPr>
            <p:spPr>
              <a:xfrm>
                <a:off x="2135520" y="2743200"/>
                <a:ext cx="23940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70440" y="2782800"/>
                <a:ext cx="169560" cy="745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135520" y="274320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33720" y="274320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97440" y="2903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73400" y="29034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17960" y="290340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209680" y="2362320"/>
              <a:ext cx="74880" cy="27000"/>
              <a:chOff x="2209680" y="2362320"/>
              <a:chExt cx="74880" cy="27000"/>
            </a:xfrm>
          </p:grpSpPr>
          <p:sp>
            <p:nvSpPr>
              <p:cNvPr id="575" name=""/>
              <p:cNvSpPr/>
              <p:nvPr/>
            </p:nvSpPr>
            <p:spPr>
              <a:xfrm>
                <a:off x="2209680" y="236232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57560" y="236232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209680" y="2666880"/>
              <a:ext cx="74880" cy="27000"/>
              <a:chOff x="2209680" y="2666880"/>
              <a:chExt cx="74880" cy="27000"/>
            </a:xfrm>
          </p:grpSpPr>
          <p:sp>
            <p:nvSpPr>
              <p:cNvPr id="578" name=""/>
              <p:cNvSpPr/>
              <p:nvPr/>
            </p:nvSpPr>
            <p:spPr>
              <a:xfrm>
                <a:off x="2209680" y="2666880"/>
                <a:ext cx="288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57560" y="2666880"/>
                <a:ext cx="2700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2360520" y="2362320"/>
              <a:ext cx="22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60160" y="2666880"/>
              <a:ext cx="223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umber Scout Car                           BR-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1905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767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0" y="3657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0" y="4343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4648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86000" y="5029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81080" y="55627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080" y="6172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81080" y="6781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35200" y="7323120"/>
              <a:ext cx="284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a)  Added during siege of Dunkirk in Winter of ’44/’45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b)  May fire using MMG factors when MMGs are mounte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283860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noeuvr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04920" y="533520"/>
            <a:ext cx="3009600" cy="1327680"/>
            <a:chOff x="304920" y="533520"/>
            <a:chExt cx="3009600" cy="1327680"/>
          </a:xfrm>
        </p:grpSpPr>
        <p:sp>
          <p:nvSpPr>
            <p:cNvPr id="596" name=""/>
            <p:cNvSpPr/>
            <p:nvPr/>
          </p:nvSpPr>
          <p:spPr>
            <a:xfrm>
              <a:off x="457200" y="7621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04920" y="609480"/>
              <a:ext cx="304560" cy="200160"/>
              <a:chOff x="304920" y="609480"/>
              <a:chExt cx="304560" cy="20016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304920" y="609480"/>
                <a:ext cx="304560" cy="200160"/>
                <a:chOff x="304920" y="609480"/>
                <a:chExt cx="304560" cy="2001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04920" y="609480"/>
                  <a:ext cx="304560" cy="200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60720" y="659520"/>
                  <a:ext cx="192240" cy="9540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 flipV="1">
                <a:off x="304920" y="609480"/>
                <a:ext cx="2998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09480" y="990720"/>
              <a:ext cx="239760" cy="156960"/>
              <a:chOff x="609480" y="990720"/>
              <a:chExt cx="239760" cy="1569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09480" y="990720"/>
                <a:ext cx="239760" cy="156960"/>
                <a:chOff x="609480" y="990720"/>
                <a:chExt cx="239760" cy="1569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09480" y="990720"/>
                  <a:ext cx="23976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53400" y="102996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 flipV="1">
                <a:off x="609480" y="990720"/>
                <a:ext cx="236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09480" y="1294920"/>
              <a:ext cx="239760" cy="157680"/>
              <a:chOff x="609480" y="1294920"/>
              <a:chExt cx="239760" cy="15768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09480" y="1295280"/>
                <a:ext cx="239760" cy="157320"/>
                <a:chOff x="609480" y="1295280"/>
                <a:chExt cx="239760" cy="1573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09480" y="129528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3400" y="133452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609480" y="129492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12000" y="5335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Recce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5560" y="838080"/>
              <a:ext cx="24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Command/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tuart VI Light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    BR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5560" y="1143000"/>
              <a:ext cx="24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tuart VI Light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    BR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3520" y="1523880"/>
              <a:ext cx="230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May split between armoured squadrons as individu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90600" y="533520"/>
              <a:ext cx="131760" cy="27000"/>
              <a:chOff x="390600" y="533520"/>
              <a:chExt cx="131760" cy="27000"/>
            </a:xfrm>
          </p:grpSpPr>
          <p:sp>
            <p:nvSpPr>
              <p:cNvPr id="617" name=""/>
              <p:cNvSpPr/>
              <p:nvPr/>
            </p:nvSpPr>
            <p:spPr>
              <a:xfrm>
                <a:off x="390600" y="53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1360" y="533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95360" y="53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85800" y="914400"/>
              <a:ext cx="74160" cy="27000"/>
              <a:chOff x="685800" y="914400"/>
              <a:chExt cx="74160" cy="27000"/>
            </a:xfrm>
          </p:grpSpPr>
          <p:sp>
            <p:nvSpPr>
              <p:cNvPr id="621" name=""/>
              <p:cNvSpPr/>
              <p:nvPr/>
            </p:nvSpPr>
            <p:spPr>
              <a:xfrm>
                <a:off x="685800" y="914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3320" y="914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5800" y="1219320"/>
              <a:ext cx="74160" cy="27000"/>
              <a:chOff x="685800" y="1219320"/>
              <a:chExt cx="74160" cy="270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5800" y="1219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3320" y="1219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457200" y="1066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1371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04920" y="1905120"/>
            <a:ext cx="3025080" cy="1587240"/>
            <a:chOff x="304920" y="1905120"/>
            <a:chExt cx="3025080" cy="1587240"/>
          </a:xfrm>
        </p:grpSpPr>
        <p:sp>
          <p:nvSpPr>
            <p:cNvPr id="629" name=""/>
            <p:cNvSpPr/>
            <p:nvPr/>
          </p:nvSpPr>
          <p:spPr>
            <a:xfrm>
              <a:off x="457200" y="21337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04920" y="1981080"/>
              <a:ext cx="304560" cy="206640"/>
              <a:chOff x="304920" y="1981080"/>
              <a:chExt cx="304560" cy="206640"/>
            </a:xfrm>
          </p:grpSpPr>
          <p:sp>
            <p:nvSpPr>
              <p:cNvPr id="631" name=""/>
              <p:cNvSpPr/>
              <p:nvPr/>
            </p:nvSpPr>
            <p:spPr>
              <a:xfrm>
                <a:off x="304920" y="1981080"/>
                <a:ext cx="304560" cy="2066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60720" y="2032560"/>
                <a:ext cx="195480" cy="9864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609480" y="2362320"/>
              <a:ext cx="231840" cy="156960"/>
              <a:chOff x="609480" y="2362320"/>
              <a:chExt cx="231840" cy="156960"/>
            </a:xfrm>
          </p:grpSpPr>
          <p:sp>
            <p:nvSpPr>
              <p:cNvPr id="634" name=""/>
              <p:cNvSpPr/>
              <p:nvPr/>
            </p:nvSpPr>
            <p:spPr>
              <a:xfrm>
                <a:off x="609480" y="23623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1960" y="240156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9480" y="2666880"/>
              <a:ext cx="231840" cy="157320"/>
              <a:chOff x="609480" y="2666880"/>
              <a:chExt cx="231840" cy="157320"/>
            </a:xfrm>
          </p:grpSpPr>
          <p:sp>
            <p:nvSpPr>
              <p:cNvPr id="637" name=""/>
              <p:cNvSpPr/>
              <p:nvPr/>
            </p:nvSpPr>
            <p:spPr>
              <a:xfrm>
                <a:off x="609480" y="26668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1960" y="270612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09480" y="2971800"/>
              <a:ext cx="231840" cy="157320"/>
              <a:chOff x="609480" y="2971800"/>
              <a:chExt cx="231840" cy="157320"/>
            </a:xfrm>
          </p:grpSpPr>
          <p:sp>
            <p:nvSpPr>
              <p:cNvPr id="640" name=""/>
              <p:cNvSpPr/>
              <p:nvPr/>
            </p:nvSpPr>
            <p:spPr>
              <a:xfrm>
                <a:off x="609480" y="29718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51960" y="301104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685800" y="2286000"/>
              <a:ext cx="74160" cy="27000"/>
              <a:chOff x="685800" y="2286000"/>
              <a:chExt cx="74160" cy="27000"/>
            </a:xfrm>
          </p:grpSpPr>
          <p:sp>
            <p:nvSpPr>
              <p:cNvPr id="643" name=""/>
              <p:cNvSpPr/>
              <p:nvPr/>
            </p:nvSpPr>
            <p:spPr>
              <a:xfrm>
                <a:off x="685800" y="22860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3320" y="22860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85800" y="2590920"/>
              <a:ext cx="74160" cy="27000"/>
              <a:chOff x="685800" y="2590920"/>
              <a:chExt cx="74160" cy="27000"/>
            </a:xfrm>
          </p:grpSpPr>
          <p:sp>
            <p:nvSpPr>
              <p:cNvPr id="646" name=""/>
              <p:cNvSpPr/>
              <p:nvPr/>
            </p:nvSpPr>
            <p:spPr>
              <a:xfrm>
                <a:off x="685800" y="25909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33320" y="25909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685800" y="2895480"/>
              <a:ext cx="74160" cy="27000"/>
              <a:chOff x="685800" y="2895480"/>
              <a:chExt cx="74160" cy="27000"/>
            </a:xfrm>
          </p:grpSpPr>
          <p:sp>
            <p:nvSpPr>
              <p:cNvPr id="649" name=""/>
              <p:cNvSpPr/>
              <p:nvPr/>
            </p:nvSpPr>
            <p:spPr>
              <a:xfrm>
                <a:off x="685800" y="28954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3320" y="28954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57200" y="1905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8040" y="1905120"/>
              <a:ext cx="173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Squadron (Cromwel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5560" y="2209680"/>
              <a:ext cx="24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romwell VII 75mm Cruiser Tank             BR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800" y="2666880"/>
              <a:ext cx="24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omwell VIII 95mm Close Support Tank BR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560" y="2971800"/>
              <a:ext cx="24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romwell IV 75mm Cruiser Tank         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09480" y="3276720"/>
              <a:ext cx="231840" cy="156960"/>
              <a:chOff x="609480" y="3276720"/>
              <a:chExt cx="231840" cy="156960"/>
            </a:xfrm>
          </p:grpSpPr>
          <p:sp>
            <p:nvSpPr>
              <p:cNvPr id="657" name=""/>
              <p:cNvSpPr/>
              <p:nvPr/>
            </p:nvSpPr>
            <p:spPr>
              <a:xfrm>
                <a:off x="609480" y="3276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1960" y="331596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85800" y="3200400"/>
              <a:ext cx="74160" cy="27000"/>
              <a:chOff x="685800" y="3200400"/>
              <a:chExt cx="74160" cy="27000"/>
            </a:xfrm>
          </p:grpSpPr>
          <p:sp>
            <p:nvSpPr>
              <p:cNvPr id="660" name=""/>
              <p:cNvSpPr/>
              <p:nvPr/>
            </p:nvSpPr>
            <p:spPr>
              <a:xfrm>
                <a:off x="685800" y="3200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3320" y="3200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835560" y="3276720"/>
              <a:ext cx="24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romwell VII 75mm Cruiser Tank             BR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" y="2438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" y="2743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" y="3048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7200" y="3352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04920" y="3657600"/>
            <a:ext cx="3240360" cy="1587240"/>
            <a:chOff x="304920" y="3657600"/>
            <a:chExt cx="3240360" cy="1587240"/>
          </a:xfrm>
        </p:grpSpPr>
        <p:sp>
          <p:nvSpPr>
            <p:cNvPr id="668" name=""/>
            <p:cNvSpPr/>
            <p:nvPr/>
          </p:nvSpPr>
          <p:spPr>
            <a:xfrm>
              <a:off x="457200" y="38862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304920" y="3733920"/>
              <a:ext cx="304560" cy="206280"/>
              <a:chOff x="304920" y="3733920"/>
              <a:chExt cx="304560" cy="206280"/>
            </a:xfrm>
          </p:grpSpPr>
          <p:sp>
            <p:nvSpPr>
              <p:cNvPr id="670" name=""/>
              <p:cNvSpPr/>
              <p:nvPr/>
            </p:nvSpPr>
            <p:spPr>
              <a:xfrm>
                <a:off x="304920" y="3733920"/>
                <a:ext cx="30456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0720" y="3785400"/>
                <a:ext cx="195480" cy="982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609480" y="4114800"/>
              <a:ext cx="231840" cy="157320"/>
              <a:chOff x="609480" y="4114800"/>
              <a:chExt cx="231840" cy="157320"/>
            </a:xfrm>
          </p:grpSpPr>
          <p:sp>
            <p:nvSpPr>
              <p:cNvPr id="673" name=""/>
              <p:cNvSpPr/>
              <p:nvPr/>
            </p:nvSpPr>
            <p:spPr>
              <a:xfrm>
                <a:off x="609480" y="41148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51960" y="415404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09480" y="4419720"/>
              <a:ext cx="231840" cy="156960"/>
              <a:chOff x="609480" y="4419720"/>
              <a:chExt cx="231840" cy="156960"/>
            </a:xfrm>
          </p:grpSpPr>
          <p:sp>
            <p:nvSpPr>
              <p:cNvPr id="676" name=""/>
              <p:cNvSpPr/>
              <p:nvPr/>
            </p:nvSpPr>
            <p:spPr>
              <a:xfrm>
                <a:off x="609480" y="4419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1960" y="445896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09480" y="4724280"/>
              <a:ext cx="231840" cy="157320"/>
              <a:chOff x="609480" y="4724280"/>
              <a:chExt cx="231840" cy="157320"/>
            </a:xfrm>
          </p:grpSpPr>
          <p:sp>
            <p:nvSpPr>
              <p:cNvPr id="679" name=""/>
              <p:cNvSpPr/>
              <p:nvPr/>
            </p:nvSpPr>
            <p:spPr>
              <a:xfrm>
                <a:off x="609480" y="47242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1960" y="476352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685800" y="4038480"/>
              <a:ext cx="74160" cy="27000"/>
              <a:chOff x="685800" y="4038480"/>
              <a:chExt cx="74160" cy="27000"/>
            </a:xfrm>
          </p:grpSpPr>
          <p:sp>
            <p:nvSpPr>
              <p:cNvPr id="682" name=""/>
              <p:cNvSpPr/>
              <p:nvPr/>
            </p:nvSpPr>
            <p:spPr>
              <a:xfrm>
                <a:off x="685800" y="40384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33320" y="40384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85800" y="4343400"/>
              <a:ext cx="74160" cy="27000"/>
              <a:chOff x="685800" y="4343400"/>
              <a:chExt cx="74160" cy="27000"/>
            </a:xfrm>
          </p:grpSpPr>
          <p:sp>
            <p:nvSpPr>
              <p:cNvPr id="685" name=""/>
              <p:cNvSpPr/>
              <p:nvPr/>
            </p:nvSpPr>
            <p:spPr>
              <a:xfrm>
                <a:off x="685800" y="4343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3320" y="4343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85800" y="4648320"/>
              <a:ext cx="74160" cy="27000"/>
              <a:chOff x="685800" y="4648320"/>
              <a:chExt cx="74160" cy="27000"/>
            </a:xfrm>
          </p:grpSpPr>
          <p:sp>
            <p:nvSpPr>
              <p:cNvPr id="688" name=""/>
              <p:cNvSpPr/>
              <p:nvPr/>
            </p:nvSpPr>
            <p:spPr>
              <a:xfrm>
                <a:off x="685800" y="4648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3320" y="4648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57200" y="3657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7680" y="3657600"/>
              <a:ext cx="171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Squadron (Churchil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6280" y="3962520"/>
              <a:ext cx="24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urchill VI 75mm Infantry Tank              BR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38800" y="4419720"/>
              <a:ext cx="24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urchill V 95mm Close Support Tank    BR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6280" y="4724280"/>
              <a:ext cx="247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hurchill VI 75mm Infantry Tank              BR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609480" y="5029200"/>
              <a:ext cx="231840" cy="157320"/>
              <a:chOff x="609480" y="5029200"/>
              <a:chExt cx="231840" cy="157320"/>
            </a:xfrm>
          </p:grpSpPr>
          <p:sp>
            <p:nvSpPr>
              <p:cNvPr id="696" name=""/>
              <p:cNvSpPr/>
              <p:nvPr/>
            </p:nvSpPr>
            <p:spPr>
              <a:xfrm>
                <a:off x="609480" y="50292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51960" y="506844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685800" y="4952880"/>
              <a:ext cx="74160" cy="27000"/>
              <a:chOff x="685800" y="4952880"/>
              <a:chExt cx="74160" cy="27000"/>
            </a:xfrm>
          </p:grpSpPr>
          <p:sp>
            <p:nvSpPr>
              <p:cNvPr id="699" name=""/>
              <p:cNvSpPr/>
              <p:nvPr/>
            </p:nvSpPr>
            <p:spPr>
              <a:xfrm>
                <a:off x="685800" y="49528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3320" y="49528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839160" y="5029200"/>
              <a:ext cx="270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urchill III/IV 6pdr Infantry Tank   website proto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720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" y="4495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7200" y="4800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7200" y="5105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505320" y="533520"/>
            <a:ext cx="2891880" cy="2313000"/>
            <a:chOff x="3505320" y="533520"/>
            <a:chExt cx="2891880" cy="2313000"/>
          </a:xfrm>
        </p:grpSpPr>
        <p:sp>
          <p:nvSpPr>
            <p:cNvPr id="707" name=""/>
            <p:cNvSpPr/>
            <p:nvPr/>
          </p:nvSpPr>
          <p:spPr>
            <a:xfrm>
              <a:off x="3657600" y="7621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752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86200" y="1143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5972040" y="232992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87960" y="2328840"/>
              <a:ext cx="123840" cy="15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5972040" y="232992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87960" y="2328840"/>
              <a:ext cx="123840" cy="15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3505320" y="609120"/>
              <a:ext cx="304560" cy="199080"/>
              <a:chOff x="3505320" y="609120"/>
              <a:chExt cx="304560" cy="199080"/>
            </a:xfrm>
          </p:grpSpPr>
          <p:sp>
            <p:nvSpPr>
              <p:cNvPr id="715" name=""/>
              <p:cNvSpPr/>
              <p:nvPr/>
            </p:nvSpPr>
            <p:spPr>
              <a:xfrm>
                <a:off x="3506760" y="609480"/>
                <a:ext cx="302760" cy="1987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552120" y="658800"/>
                <a:ext cx="21384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506760" y="609120"/>
                <a:ext cx="29952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505320" y="609480"/>
                <a:ext cx="30456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3809880" y="990720"/>
              <a:ext cx="231840" cy="156960"/>
              <a:chOff x="3809880" y="990720"/>
              <a:chExt cx="231840" cy="156960"/>
            </a:xfrm>
          </p:grpSpPr>
          <p:sp>
            <p:nvSpPr>
              <p:cNvPr id="720" name=""/>
              <p:cNvSpPr/>
              <p:nvPr/>
            </p:nvSpPr>
            <p:spPr>
              <a:xfrm>
                <a:off x="3809880" y="990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33640" y="1012680"/>
                <a:ext cx="18432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3809880" y="1294920"/>
              <a:ext cx="239760" cy="191160"/>
              <a:chOff x="3809880" y="1294920"/>
              <a:chExt cx="239760" cy="19116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3809880" y="1294920"/>
                <a:ext cx="239760" cy="157680"/>
                <a:chOff x="3809880" y="1294920"/>
                <a:chExt cx="239760" cy="15768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809880" y="1295280"/>
                  <a:ext cx="239760" cy="157320"/>
                  <a:chOff x="3809880" y="1295280"/>
                  <a:chExt cx="239760" cy="1573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809880" y="1295280"/>
                    <a:ext cx="23976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853800" y="1334520"/>
                    <a:ext cx="15156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7" name=""/>
                <p:cNvSpPr/>
                <p:nvPr/>
              </p:nvSpPr>
              <p:spPr>
                <a:xfrm flipV="1">
                  <a:off x="3809880" y="1294920"/>
                  <a:ext cx="236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830760" y="1459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011480" y="1459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3809880" y="1600200"/>
              <a:ext cx="231840" cy="157320"/>
              <a:chOff x="3809880" y="1600200"/>
              <a:chExt cx="231840" cy="157320"/>
            </a:xfrm>
          </p:grpSpPr>
          <p:sp>
            <p:nvSpPr>
              <p:cNvPr id="731" name=""/>
              <p:cNvSpPr/>
              <p:nvPr/>
            </p:nvSpPr>
            <p:spPr>
              <a:xfrm>
                <a:off x="3809880" y="16002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3812040" y="1602000"/>
                <a:ext cx="22572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809880" y="1602360"/>
                <a:ext cx="23076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3809880" y="1905120"/>
              <a:ext cx="239760" cy="156960"/>
              <a:chOff x="3809880" y="1905120"/>
              <a:chExt cx="239760" cy="156960"/>
            </a:xfrm>
          </p:grpSpPr>
          <p:sp>
            <p:nvSpPr>
              <p:cNvPr id="735" name=""/>
              <p:cNvSpPr/>
              <p:nvPr/>
            </p:nvSpPr>
            <p:spPr>
              <a:xfrm>
                <a:off x="3809880" y="190512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930480" y="192636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94480" y="203004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3809880" y="2209320"/>
              <a:ext cx="241200" cy="189360"/>
              <a:chOff x="3809880" y="2209320"/>
              <a:chExt cx="241200" cy="189360"/>
            </a:xfrm>
          </p:grpSpPr>
          <p:sp>
            <p:nvSpPr>
              <p:cNvPr id="739" name=""/>
              <p:cNvSpPr/>
              <p:nvPr/>
            </p:nvSpPr>
            <p:spPr>
              <a:xfrm>
                <a:off x="3811320" y="2209680"/>
                <a:ext cx="23976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846240" y="2249280"/>
                <a:ext cx="16992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3811320" y="220932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09880" y="220968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825720" y="2371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38400" y="23698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14720" y="2369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59280" y="2369880"/>
                <a:ext cx="6156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3657600" y="533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3886200" y="914400"/>
              <a:ext cx="74160" cy="27000"/>
              <a:chOff x="3886200" y="914400"/>
              <a:chExt cx="74160" cy="27000"/>
            </a:xfrm>
          </p:grpSpPr>
          <p:sp>
            <p:nvSpPr>
              <p:cNvPr id="749" name=""/>
              <p:cNvSpPr/>
              <p:nvPr/>
            </p:nvSpPr>
            <p:spPr>
              <a:xfrm>
                <a:off x="3886200" y="914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933720" y="914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3886200" y="1219320"/>
              <a:ext cx="74160" cy="27000"/>
              <a:chOff x="3886200" y="1219320"/>
              <a:chExt cx="74160" cy="27000"/>
            </a:xfrm>
          </p:grpSpPr>
          <p:sp>
            <p:nvSpPr>
              <p:cNvPr id="752" name=""/>
              <p:cNvSpPr/>
              <p:nvPr/>
            </p:nvSpPr>
            <p:spPr>
              <a:xfrm>
                <a:off x="3886200" y="1219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33720" y="1219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3886200" y="1523880"/>
              <a:ext cx="74160" cy="27000"/>
              <a:chOff x="3886200" y="1523880"/>
              <a:chExt cx="74160" cy="27000"/>
            </a:xfrm>
          </p:grpSpPr>
          <p:sp>
            <p:nvSpPr>
              <p:cNvPr id="755" name=""/>
              <p:cNvSpPr/>
              <p:nvPr/>
            </p:nvSpPr>
            <p:spPr>
              <a:xfrm>
                <a:off x="3886200" y="15238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33720" y="15238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3886200" y="1828800"/>
              <a:ext cx="74160" cy="27000"/>
              <a:chOff x="3886200" y="1828800"/>
              <a:chExt cx="74160" cy="27000"/>
            </a:xfrm>
          </p:grpSpPr>
          <p:sp>
            <p:nvSpPr>
              <p:cNvPr id="758" name=""/>
              <p:cNvSpPr/>
              <p:nvPr/>
            </p:nvSpPr>
            <p:spPr>
              <a:xfrm>
                <a:off x="3886200" y="18288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33720" y="18288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886200" y="2133720"/>
              <a:ext cx="74160" cy="27000"/>
              <a:chOff x="3886200" y="2133720"/>
              <a:chExt cx="74160" cy="27000"/>
            </a:xfrm>
          </p:grpSpPr>
          <p:sp>
            <p:nvSpPr>
              <p:cNvPr id="761" name=""/>
              <p:cNvSpPr/>
              <p:nvPr/>
            </p:nvSpPr>
            <p:spPr>
              <a:xfrm>
                <a:off x="3886200" y="21337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33720" y="21337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3657600" y="1066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5760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57600" y="1981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809880" y="2514240"/>
              <a:ext cx="239760" cy="157680"/>
              <a:chOff x="3809880" y="2514240"/>
              <a:chExt cx="239760" cy="1576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809880" y="2514600"/>
                <a:ext cx="239760" cy="157320"/>
                <a:chOff x="3809880" y="2514600"/>
                <a:chExt cx="239760" cy="1573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809880" y="251460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853800" y="255384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 flipV="1">
                <a:off x="3809880" y="251424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657600" y="198108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7600" y="25909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863880" y="2438280"/>
              <a:ext cx="131760" cy="27000"/>
              <a:chOff x="3863880" y="2438280"/>
              <a:chExt cx="131760" cy="27000"/>
            </a:xfrm>
          </p:grpSpPr>
          <p:sp>
            <p:nvSpPr>
              <p:cNvPr id="774" name=""/>
              <p:cNvSpPr/>
              <p:nvPr/>
            </p:nvSpPr>
            <p:spPr>
              <a:xfrm>
                <a:off x="3863880" y="2438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914640" y="2438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968640" y="2438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3812400" y="5335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to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33800" y="83808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35960" y="1143000"/>
              <a:ext cx="23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A1 White Scout Car                        BR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34880" y="1600200"/>
              <a:ext cx="23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(2 with PIAT)                           BR-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32360" y="1905120"/>
              <a:ext cx="235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” Mortar                                              BR-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34160" y="2209680"/>
              <a:ext cx="236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5 Halftrack Carrier                             BR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41000" y="23623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rrier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3591000" y="2819520"/>
              <a:ext cx="131760" cy="27000"/>
              <a:chOff x="3591000" y="2819520"/>
              <a:chExt cx="131760" cy="27000"/>
            </a:xfrm>
          </p:grpSpPr>
          <p:sp>
            <p:nvSpPr>
              <p:cNvPr id="785" name=""/>
              <p:cNvSpPr/>
              <p:nvPr/>
            </p:nvSpPr>
            <p:spPr>
              <a:xfrm>
                <a:off x="3591000" y="2819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641760" y="2819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95760" y="2819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8" name=""/>
          <p:cNvGrpSpPr/>
          <p:nvPr/>
        </p:nvGrpSpPr>
        <p:grpSpPr>
          <a:xfrm>
            <a:off x="3505320" y="2819520"/>
            <a:ext cx="2914560" cy="1875960"/>
            <a:chOff x="3505320" y="2819520"/>
            <a:chExt cx="2914560" cy="1875960"/>
          </a:xfrm>
        </p:grpSpPr>
        <p:sp>
          <p:nvSpPr>
            <p:cNvPr id="789" name=""/>
            <p:cNvSpPr/>
            <p:nvPr/>
          </p:nvSpPr>
          <p:spPr>
            <a:xfrm>
              <a:off x="3886200" y="34290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57600" y="30481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505320" y="2895480"/>
              <a:ext cx="304560" cy="200160"/>
              <a:chOff x="3505320" y="2895480"/>
              <a:chExt cx="304560" cy="2001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3505320" y="2895480"/>
                <a:ext cx="304560" cy="200160"/>
                <a:chOff x="3505320" y="2895480"/>
                <a:chExt cx="304560" cy="2001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505320" y="2895480"/>
                  <a:ext cx="304560" cy="200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561120" y="2945520"/>
                  <a:ext cx="192240" cy="9540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3505320" y="2895480"/>
                <a:ext cx="2998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3809880" y="3276720"/>
              <a:ext cx="231840" cy="156960"/>
              <a:chOff x="3809880" y="3276720"/>
              <a:chExt cx="231840" cy="156960"/>
            </a:xfrm>
          </p:grpSpPr>
          <p:sp>
            <p:nvSpPr>
              <p:cNvPr id="797" name=""/>
              <p:cNvSpPr/>
              <p:nvPr/>
            </p:nvSpPr>
            <p:spPr>
              <a:xfrm>
                <a:off x="3809880" y="3276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33640" y="3298680"/>
                <a:ext cx="18432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3809880" y="3581280"/>
              <a:ext cx="231840" cy="157320"/>
              <a:chOff x="3809880" y="3581280"/>
              <a:chExt cx="231840" cy="157320"/>
            </a:xfrm>
          </p:grpSpPr>
          <p:sp>
            <p:nvSpPr>
              <p:cNvPr id="800" name=""/>
              <p:cNvSpPr/>
              <p:nvPr/>
            </p:nvSpPr>
            <p:spPr>
              <a:xfrm>
                <a:off x="3809880" y="35812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812040" y="3583080"/>
                <a:ext cx="22572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9880" y="3583440"/>
                <a:ext cx="23076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3809880" y="3886200"/>
              <a:ext cx="241200" cy="187200"/>
              <a:chOff x="3809880" y="3886200"/>
              <a:chExt cx="241200" cy="187200"/>
            </a:xfrm>
          </p:grpSpPr>
          <p:sp>
            <p:nvSpPr>
              <p:cNvPr id="804" name=""/>
              <p:cNvSpPr/>
              <p:nvPr/>
            </p:nvSpPr>
            <p:spPr>
              <a:xfrm>
                <a:off x="3811680" y="3886200"/>
                <a:ext cx="23940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846600" y="3925800"/>
                <a:ext cx="169560" cy="745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811680" y="388620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809880" y="388620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73600" y="4046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949560" y="40464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94120" y="404640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886200" y="3200400"/>
              <a:ext cx="74160" cy="27000"/>
              <a:chOff x="3886200" y="3200400"/>
              <a:chExt cx="74160" cy="27000"/>
            </a:xfrm>
          </p:grpSpPr>
          <p:sp>
            <p:nvSpPr>
              <p:cNvPr id="812" name=""/>
              <p:cNvSpPr/>
              <p:nvPr/>
            </p:nvSpPr>
            <p:spPr>
              <a:xfrm>
                <a:off x="3886200" y="3200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33720" y="3200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3886200" y="3505320"/>
              <a:ext cx="74160" cy="27000"/>
              <a:chOff x="3886200" y="3505320"/>
              <a:chExt cx="74160" cy="27000"/>
            </a:xfrm>
          </p:grpSpPr>
          <p:sp>
            <p:nvSpPr>
              <p:cNvPr id="815" name=""/>
              <p:cNvSpPr/>
              <p:nvPr/>
            </p:nvSpPr>
            <p:spPr>
              <a:xfrm>
                <a:off x="3886200" y="3505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933720" y="3505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886200" y="3809880"/>
              <a:ext cx="74160" cy="27000"/>
              <a:chOff x="3886200" y="3809880"/>
              <a:chExt cx="74160" cy="27000"/>
            </a:xfrm>
          </p:grpSpPr>
          <p:sp>
            <p:nvSpPr>
              <p:cNvPr id="818" name=""/>
              <p:cNvSpPr/>
              <p:nvPr/>
            </p:nvSpPr>
            <p:spPr>
              <a:xfrm>
                <a:off x="3886200" y="38098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933720" y="38098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3657600" y="3352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657600" y="3657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12400" y="28195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rrier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33800" y="3124080"/>
              <a:ext cx="23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Command/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35600" y="3429000"/>
              <a:ext cx="23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(2 with PIAT)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               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R-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37040" y="3733920"/>
              <a:ext cx="23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/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iversal Carrier (with MG)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4114800"/>
              <a:ext cx="275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 The infantry stands may dismount as Bren LMG stands (BR-53), in which case the Carriers may not fire using the MG factors.  Up to one infantry stand may alternatively dismount as a 2” Mortar stand (BR-55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3505320" y="7391520"/>
            <a:ext cx="2811960" cy="1562040"/>
            <a:chOff x="3505320" y="7391520"/>
            <a:chExt cx="2811960" cy="1562040"/>
          </a:xfrm>
        </p:grpSpPr>
        <p:sp>
          <p:nvSpPr>
            <p:cNvPr id="828" name=""/>
            <p:cNvSpPr/>
            <p:nvPr/>
          </p:nvSpPr>
          <p:spPr>
            <a:xfrm>
              <a:off x="3886200" y="8001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86200" y="8610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57600" y="76201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505320" y="7467480"/>
              <a:ext cx="304560" cy="206640"/>
              <a:chOff x="3505320" y="7467480"/>
              <a:chExt cx="304560" cy="206640"/>
            </a:xfrm>
          </p:grpSpPr>
          <p:sp>
            <p:nvSpPr>
              <p:cNvPr id="832" name=""/>
              <p:cNvSpPr/>
              <p:nvPr/>
            </p:nvSpPr>
            <p:spPr>
              <a:xfrm>
                <a:off x="3505320" y="7467480"/>
                <a:ext cx="304560" cy="2066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3505320" y="7471800"/>
                <a:ext cx="14976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55080" y="7467480"/>
                <a:ext cx="149760" cy="20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591000" y="7391520"/>
              <a:ext cx="131760" cy="27000"/>
              <a:chOff x="3591000" y="7391520"/>
              <a:chExt cx="131760" cy="27000"/>
            </a:xfrm>
          </p:grpSpPr>
          <p:sp>
            <p:nvSpPr>
              <p:cNvPr id="836" name=""/>
              <p:cNvSpPr/>
              <p:nvPr/>
            </p:nvSpPr>
            <p:spPr>
              <a:xfrm>
                <a:off x="3591000" y="7391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41760" y="7391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95760" y="7391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809880" y="7848720"/>
              <a:ext cx="231840" cy="156960"/>
              <a:chOff x="3809880" y="7848720"/>
              <a:chExt cx="231840" cy="156960"/>
            </a:xfrm>
          </p:grpSpPr>
          <p:sp>
            <p:nvSpPr>
              <p:cNvPr id="840" name=""/>
              <p:cNvSpPr/>
              <p:nvPr/>
            </p:nvSpPr>
            <p:spPr>
              <a:xfrm>
                <a:off x="3809880" y="7848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833640" y="7870680"/>
                <a:ext cx="18432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3809880" y="8153280"/>
              <a:ext cx="231840" cy="190440"/>
              <a:chOff x="3809880" y="8153280"/>
              <a:chExt cx="231840" cy="190440"/>
            </a:xfrm>
          </p:grpSpPr>
          <p:sp>
            <p:nvSpPr>
              <p:cNvPr id="843" name=""/>
              <p:cNvSpPr/>
              <p:nvPr/>
            </p:nvSpPr>
            <p:spPr>
              <a:xfrm>
                <a:off x="3809880" y="81532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821040" y="8316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001760" y="83167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3809880" y="8458200"/>
              <a:ext cx="231840" cy="157320"/>
              <a:chOff x="3809880" y="8458200"/>
              <a:chExt cx="231840" cy="15732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9880" y="84582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3809880" y="846108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23640" y="845820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809880" y="8763120"/>
              <a:ext cx="231840" cy="190440"/>
              <a:chOff x="3809880" y="8763120"/>
              <a:chExt cx="231840" cy="190440"/>
            </a:xfrm>
          </p:grpSpPr>
          <p:sp>
            <p:nvSpPr>
              <p:cNvPr id="851" name=""/>
              <p:cNvSpPr/>
              <p:nvPr/>
            </p:nvSpPr>
            <p:spPr>
              <a:xfrm>
                <a:off x="3809880" y="876312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821040" y="8926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001760" y="89265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3886200" y="7772400"/>
              <a:ext cx="74160" cy="27000"/>
              <a:chOff x="3886200" y="7772400"/>
              <a:chExt cx="74160" cy="27000"/>
            </a:xfrm>
          </p:grpSpPr>
          <p:sp>
            <p:nvSpPr>
              <p:cNvPr id="855" name=""/>
              <p:cNvSpPr/>
              <p:nvPr/>
            </p:nvSpPr>
            <p:spPr>
              <a:xfrm>
                <a:off x="3886200" y="7772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933720" y="7772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3886200" y="8077320"/>
              <a:ext cx="74160" cy="27000"/>
              <a:chOff x="3886200" y="8077320"/>
              <a:chExt cx="74160" cy="27000"/>
            </a:xfrm>
          </p:grpSpPr>
          <p:sp>
            <p:nvSpPr>
              <p:cNvPr id="858" name=""/>
              <p:cNvSpPr/>
              <p:nvPr/>
            </p:nvSpPr>
            <p:spPr>
              <a:xfrm>
                <a:off x="3886200" y="8077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933720" y="8077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3886200" y="8381880"/>
              <a:ext cx="74160" cy="27000"/>
              <a:chOff x="3886200" y="8381880"/>
              <a:chExt cx="74160" cy="27000"/>
            </a:xfrm>
          </p:grpSpPr>
          <p:sp>
            <p:nvSpPr>
              <p:cNvPr id="861" name=""/>
              <p:cNvSpPr/>
              <p:nvPr/>
            </p:nvSpPr>
            <p:spPr>
              <a:xfrm>
                <a:off x="3886200" y="83818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933720" y="83818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3886200" y="8686800"/>
              <a:ext cx="74160" cy="27000"/>
              <a:chOff x="3886200" y="8686800"/>
              <a:chExt cx="74160" cy="27000"/>
            </a:xfrm>
          </p:grpSpPr>
          <p:sp>
            <p:nvSpPr>
              <p:cNvPr id="864" name=""/>
              <p:cNvSpPr/>
              <p:nvPr/>
            </p:nvSpPr>
            <p:spPr>
              <a:xfrm>
                <a:off x="3886200" y="86868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933720" y="86868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3657600" y="7924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57600" y="8534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12400" y="73915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tank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34520" y="7696080"/>
              <a:ext cx="227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34880" y="8001000"/>
              <a:ext cx="22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eep (no MG)                                    BR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37760" y="8458200"/>
              <a:ext cx="22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pdr Antitank Gun                           BR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37760" y="861048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rris C8 Quad Field Tractor            BR-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04920" y="5410080"/>
            <a:ext cx="3029760" cy="2008440"/>
            <a:chOff x="304920" y="5410080"/>
            <a:chExt cx="3029760" cy="2008440"/>
          </a:xfrm>
        </p:grpSpPr>
        <p:sp>
          <p:nvSpPr>
            <p:cNvPr id="874" name=""/>
            <p:cNvSpPr/>
            <p:nvPr/>
          </p:nvSpPr>
          <p:spPr>
            <a:xfrm>
              <a:off x="457200" y="5638680"/>
              <a:ext cx="0" cy="152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304920" y="5486400"/>
              <a:ext cx="304560" cy="200160"/>
              <a:chOff x="304920" y="5486400"/>
              <a:chExt cx="304560" cy="20016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304920" y="5486400"/>
                <a:ext cx="304560" cy="200160"/>
                <a:chOff x="304920" y="5486400"/>
                <a:chExt cx="304560" cy="2001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04920" y="5486400"/>
                  <a:ext cx="304560" cy="200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60720" y="5536440"/>
                  <a:ext cx="192240" cy="9540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9" name=""/>
              <p:cNvSpPr/>
              <p:nvPr/>
            </p:nvSpPr>
            <p:spPr>
              <a:xfrm flipV="1">
                <a:off x="304920" y="5486400"/>
                <a:ext cx="2998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457200" y="5410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0200" y="541008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Recce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4480" y="5715000"/>
              <a:ext cx="25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Command/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tuart VI Light Tank                                  BR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7200" y="5943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200" y="62485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200" y="65530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" y="6858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7200" y="71629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390600" y="7391520"/>
              <a:ext cx="131760" cy="27000"/>
              <a:chOff x="390600" y="7391520"/>
              <a:chExt cx="131760" cy="27000"/>
            </a:xfrm>
          </p:grpSpPr>
          <p:sp>
            <p:nvSpPr>
              <p:cNvPr id="889" name=""/>
              <p:cNvSpPr/>
              <p:nvPr/>
            </p:nvSpPr>
            <p:spPr>
              <a:xfrm>
                <a:off x="390600" y="7391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360" y="7391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95360" y="7391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609480" y="5866920"/>
              <a:ext cx="239760" cy="157680"/>
              <a:chOff x="609480" y="5866920"/>
              <a:chExt cx="239760" cy="15768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609480" y="5867280"/>
                <a:ext cx="239760" cy="157320"/>
                <a:chOff x="609480" y="5867280"/>
                <a:chExt cx="239760" cy="15732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609480" y="586728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53400" y="590652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 flipV="1">
                <a:off x="609480" y="586692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609480" y="6171840"/>
              <a:ext cx="239760" cy="157680"/>
              <a:chOff x="609480" y="6171840"/>
              <a:chExt cx="239760" cy="15768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609480" y="6172200"/>
                <a:ext cx="239760" cy="157320"/>
                <a:chOff x="609480" y="6172200"/>
                <a:chExt cx="239760" cy="1573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609480" y="617220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53400" y="6211440"/>
                  <a:ext cx="15156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"/>
              <p:cNvSpPr/>
              <p:nvPr/>
            </p:nvSpPr>
            <p:spPr>
              <a:xfrm flipV="1">
                <a:off x="609480" y="617184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09480" y="7086600"/>
              <a:ext cx="231840" cy="157320"/>
              <a:chOff x="609480" y="7086600"/>
              <a:chExt cx="231840" cy="157320"/>
            </a:xfrm>
          </p:grpSpPr>
          <p:sp>
            <p:nvSpPr>
              <p:cNvPr id="903" name=""/>
              <p:cNvSpPr/>
              <p:nvPr/>
            </p:nvSpPr>
            <p:spPr>
              <a:xfrm>
                <a:off x="609480" y="70866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51960" y="712584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609480" y="6781680"/>
              <a:ext cx="231840" cy="157320"/>
              <a:chOff x="609480" y="6781680"/>
              <a:chExt cx="231840" cy="157320"/>
            </a:xfrm>
          </p:grpSpPr>
          <p:sp>
            <p:nvSpPr>
              <p:cNvPr id="906" name=""/>
              <p:cNvSpPr/>
              <p:nvPr/>
            </p:nvSpPr>
            <p:spPr>
              <a:xfrm>
                <a:off x="609480" y="67816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51960" y="6820920"/>
                <a:ext cx="14868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609480" y="6476760"/>
              <a:ext cx="231480" cy="190440"/>
              <a:chOff x="609480" y="6476760"/>
              <a:chExt cx="231480" cy="190440"/>
            </a:xfrm>
          </p:grpSpPr>
          <p:sp>
            <p:nvSpPr>
              <p:cNvPr id="909" name=""/>
              <p:cNvSpPr/>
              <p:nvPr/>
            </p:nvSpPr>
            <p:spPr>
              <a:xfrm>
                <a:off x="609480" y="64771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0640" y="66405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01360" y="6640560"/>
                <a:ext cx="288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42600" y="6518160"/>
                <a:ext cx="162000" cy="7596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610920" y="647676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685800" y="5791320"/>
              <a:ext cx="74160" cy="27000"/>
              <a:chOff x="685800" y="5791320"/>
              <a:chExt cx="74160" cy="27000"/>
            </a:xfrm>
          </p:grpSpPr>
          <p:sp>
            <p:nvSpPr>
              <p:cNvPr id="915" name=""/>
              <p:cNvSpPr/>
              <p:nvPr/>
            </p:nvSpPr>
            <p:spPr>
              <a:xfrm>
                <a:off x="685800" y="5791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3320" y="5791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85800" y="6095880"/>
              <a:ext cx="74160" cy="27000"/>
              <a:chOff x="685800" y="6095880"/>
              <a:chExt cx="74160" cy="27000"/>
            </a:xfrm>
          </p:grpSpPr>
          <p:sp>
            <p:nvSpPr>
              <p:cNvPr id="918" name=""/>
              <p:cNvSpPr/>
              <p:nvPr/>
            </p:nvSpPr>
            <p:spPr>
              <a:xfrm>
                <a:off x="685800" y="60958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3320" y="60958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685800" y="6400800"/>
              <a:ext cx="74160" cy="27000"/>
              <a:chOff x="685800" y="6400800"/>
              <a:chExt cx="74160" cy="27000"/>
            </a:xfrm>
          </p:grpSpPr>
          <p:sp>
            <p:nvSpPr>
              <p:cNvPr id="921" name=""/>
              <p:cNvSpPr/>
              <p:nvPr/>
            </p:nvSpPr>
            <p:spPr>
              <a:xfrm>
                <a:off x="685800" y="64008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33320" y="64008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85800" y="6705720"/>
              <a:ext cx="74160" cy="27000"/>
              <a:chOff x="685800" y="6705720"/>
              <a:chExt cx="74160" cy="27000"/>
            </a:xfrm>
          </p:grpSpPr>
          <p:sp>
            <p:nvSpPr>
              <p:cNvPr id="924" name=""/>
              <p:cNvSpPr/>
              <p:nvPr/>
            </p:nvSpPr>
            <p:spPr>
              <a:xfrm>
                <a:off x="685800" y="67057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33320" y="67057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685800" y="7010280"/>
              <a:ext cx="74160" cy="27000"/>
              <a:chOff x="685800" y="7010280"/>
              <a:chExt cx="74160" cy="27000"/>
            </a:xfrm>
          </p:grpSpPr>
          <p:sp>
            <p:nvSpPr>
              <p:cNvPr id="927" name=""/>
              <p:cNvSpPr/>
              <p:nvPr/>
            </p:nvSpPr>
            <p:spPr>
              <a:xfrm>
                <a:off x="685800" y="70102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33320" y="70102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834480" y="6019920"/>
              <a:ext cx="25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tuart VI Light Tank                                  BR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34120" y="632448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Humber Scout Car                                    BR-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5560" y="6629400"/>
              <a:ext cx="24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romwell IV 75mm Cruiser Tank         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38800" y="6934320"/>
              <a:ext cx="24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Rec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omwell V 95mm Close Support Tank    BR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04920" y="7391520"/>
            <a:ext cx="3035880" cy="1562040"/>
            <a:chOff x="304920" y="7391520"/>
            <a:chExt cx="3035880" cy="1562040"/>
          </a:xfrm>
        </p:grpSpPr>
        <p:sp>
          <p:nvSpPr>
            <p:cNvPr id="934" name=""/>
            <p:cNvSpPr/>
            <p:nvPr/>
          </p:nvSpPr>
          <p:spPr>
            <a:xfrm>
              <a:off x="685800" y="8610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5800" y="8001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7200" y="7924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609480" y="7848720"/>
              <a:ext cx="231840" cy="156960"/>
              <a:chOff x="609480" y="7848720"/>
              <a:chExt cx="231840" cy="156960"/>
            </a:xfrm>
          </p:grpSpPr>
          <p:sp>
            <p:nvSpPr>
              <p:cNvPr id="938" name=""/>
              <p:cNvSpPr/>
              <p:nvPr/>
            </p:nvSpPr>
            <p:spPr>
              <a:xfrm>
                <a:off x="609480" y="7848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33240" y="7870680"/>
                <a:ext cx="18432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609480" y="8763120"/>
              <a:ext cx="231840" cy="190440"/>
              <a:chOff x="609480" y="8763120"/>
              <a:chExt cx="231840" cy="190440"/>
            </a:xfrm>
          </p:grpSpPr>
          <p:sp>
            <p:nvSpPr>
              <p:cNvPr id="941" name=""/>
              <p:cNvSpPr/>
              <p:nvPr/>
            </p:nvSpPr>
            <p:spPr>
              <a:xfrm>
                <a:off x="609480" y="876312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0640" y="8926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1360" y="89265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609480" y="8458200"/>
              <a:ext cx="241200" cy="156960"/>
              <a:chOff x="609480" y="8458200"/>
              <a:chExt cx="241200" cy="156960"/>
            </a:xfrm>
          </p:grpSpPr>
          <p:sp>
            <p:nvSpPr>
              <p:cNvPr id="945" name=""/>
              <p:cNvSpPr/>
              <p:nvPr/>
            </p:nvSpPr>
            <p:spPr>
              <a:xfrm>
                <a:off x="610920" y="845820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609480" y="8459640"/>
                <a:ext cx="1159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25400" y="8458200"/>
                <a:ext cx="12348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76080" y="8524800"/>
                <a:ext cx="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685800" y="8686800"/>
              <a:ext cx="74160" cy="27000"/>
              <a:chOff x="685800" y="8686800"/>
              <a:chExt cx="74160" cy="27000"/>
            </a:xfrm>
          </p:grpSpPr>
          <p:sp>
            <p:nvSpPr>
              <p:cNvPr id="950" name=""/>
              <p:cNvSpPr/>
              <p:nvPr/>
            </p:nvSpPr>
            <p:spPr>
              <a:xfrm>
                <a:off x="685800" y="86868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3320" y="86868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304920" y="7467480"/>
              <a:ext cx="304200" cy="228240"/>
              <a:chOff x="304920" y="7467480"/>
              <a:chExt cx="304200" cy="228240"/>
            </a:xfrm>
          </p:grpSpPr>
          <p:sp>
            <p:nvSpPr>
              <p:cNvPr id="953" name=""/>
              <p:cNvSpPr/>
              <p:nvPr/>
            </p:nvSpPr>
            <p:spPr>
              <a:xfrm>
                <a:off x="306720" y="7467480"/>
                <a:ext cx="30240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304920" y="7469280"/>
                <a:ext cx="1461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51080" y="7467480"/>
                <a:ext cx="15552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88800" y="7564320"/>
                <a:ext cx="12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09480" y="8153280"/>
              <a:ext cx="231840" cy="190440"/>
              <a:chOff x="609480" y="8153280"/>
              <a:chExt cx="231840" cy="190440"/>
            </a:xfrm>
          </p:grpSpPr>
          <p:sp>
            <p:nvSpPr>
              <p:cNvPr id="958" name=""/>
              <p:cNvSpPr/>
              <p:nvPr/>
            </p:nvSpPr>
            <p:spPr>
              <a:xfrm>
                <a:off x="609480" y="81532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20640" y="8316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1360" y="83167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685800" y="8381880"/>
              <a:ext cx="74160" cy="27000"/>
              <a:chOff x="685800" y="8381880"/>
              <a:chExt cx="74160" cy="27000"/>
            </a:xfrm>
          </p:grpSpPr>
          <p:sp>
            <p:nvSpPr>
              <p:cNvPr id="962" name=""/>
              <p:cNvSpPr/>
              <p:nvPr/>
            </p:nvSpPr>
            <p:spPr>
              <a:xfrm>
                <a:off x="685800" y="83818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3320" y="83818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685800" y="8077320"/>
              <a:ext cx="74160" cy="27000"/>
              <a:chOff x="685800" y="8077320"/>
              <a:chExt cx="74160" cy="27000"/>
            </a:xfrm>
          </p:grpSpPr>
          <p:sp>
            <p:nvSpPr>
              <p:cNvPr id="965" name=""/>
              <p:cNvSpPr/>
              <p:nvPr/>
            </p:nvSpPr>
            <p:spPr>
              <a:xfrm>
                <a:off x="685800" y="80773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33320" y="80773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685800" y="7772400"/>
              <a:ext cx="74160" cy="27000"/>
              <a:chOff x="685800" y="7772400"/>
              <a:chExt cx="74160" cy="27000"/>
            </a:xfrm>
          </p:grpSpPr>
          <p:sp>
            <p:nvSpPr>
              <p:cNvPr id="968" name=""/>
              <p:cNvSpPr/>
              <p:nvPr/>
            </p:nvSpPr>
            <p:spPr>
              <a:xfrm>
                <a:off x="685800" y="7772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33320" y="7772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57200" y="769608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7200" y="8534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2000" y="739152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tiaircraft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2680" y="7696080"/>
              <a:ext cx="25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2680" y="8001000"/>
              <a:ext cx="25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eep (no MG)                                            BR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36280" y="8458200"/>
              <a:ext cx="247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fors 40mm Antiaircraft Gun                  BR-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0800" y="8694720"/>
              <a:ext cx="250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vrolet 30cwt 4x4 Truck                 use BR-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505320" y="4724280"/>
            <a:ext cx="2901240" cy="2623320"/>
            <a:chOff x="3505320" y="4724280"/>
            <a:chExt cx="2901240" cy="2623320"/>
          </a:xfrm>
        </p:grpSpPr>
        <p:sp>
          <p:nvSpPr>
            <p:cNvPr id="978" name=""/>
            <p:cNvSpPr/>
            <p:nvPr/>
          </p:nvSpPr>
          <p:spPr>
            <a:xfrm>
              <a:off x="3886200" y="6477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6200" y="59436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57600" y="495288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3505320" y="4800600"/>
              <a:ext cx="304560" cy="206280"/>
              <a:chOff x="3505320" y="4800600"/>
              <a:chExt cx="304560" cy="206280"/>
            </a:xfrm>
          </p:grpSpPr>
          <p:sp>
            <p:nvSpPr>
              <p:cNvPr id="982" name=""/>
              <p:cNvSpPr/>
              <p:nvPr/>
            </p:nvSpPr>
            <p:spPr>
              <a:xfrm>
                <a:off x="3505320" y="4800600"/>
                <a:ext cx="30456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98920" y="4862880"/>
                <a:ext cx="0" cy="65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653640" y="4866120"/>
                <a:ext cx="0" cy="62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706560" y="4867920"/>
                <a:ext cx="0" cy="6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592440" y="4866120"/>
                <a:ext cx="123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3657600" y="47242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809880" y="5181480"/>
              <a:ext cx="231840" cy="157320"/>
              <a:chOff x="3809880" y="5181480"/>
              <a:chExt cx="231840" cy="157320"/>
            </a:xfrm>
          </p:grpSpPr>
          <p:sp>
            <p:nvSpPr>
              <p:cNvPr id="989" name=""/>
              <p:cNvSpPr/>
              <p:nvPr/>
            </p:nvSpPr>
            <p:spPr>
              <a:xfrm>
                <a:off x="3809880" y="51814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833640" y="5203800"/>
                <a:ext cx="184320" cy="110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3886200" y="5105520"/>
              <a:ext cx="74160" cy="27000"/>
              <a:chOff x="3886200" y="5105520"/>
              <a:chExt cx="74160" cy="27000"/>
            </a:xfrm>
          </p:grpSpPr>
          <p:sp>
            <p:nvSpPr>
              <p:cNvPr id="992" name=""/>
              <p:cNvSpPr/>
              <p:nvPr/>
            </p:nvSpPr>
            <p:spPr>
              <a:xfrm>
                <a:off x="3886200" y="51055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933720" y="51055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3809880" y="5486400"/>
              <a:ext cx="231840" cy="190440"/>
              <a:chOff x="3809880" y="5486400"/>
              <a:chExt cx="231840" cy="190440"/>
            </a:xfrm>
          </p:grpSpPr>
          <p:sp>
            <p:nvSpPr>
              <p:cNvPr id="995" name=""/>
              <p:cNvSpPr/>
              <p:nvPr/>
            </p:nvSpPr>
            <p:spPr>
              <a:xfrm>
                <a:off x="3809880" y="54864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821040" y="5649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001760" y="56498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3809880" y="5791320"/>
              <a:ext cx="231840" cy="156960"/>
              <a:chOff x="3809880" y="5791320"/>
              <a:chExt cx="231840" cy="156960"/>
            </a:xfrm>
          </p:grpSpPr>
          <p:sp>
            <p:nvSpPr>
              <p:cNvPr id="999" name=""/>
              <p:cNvSpPr/>
              <p:nvPr/>
            </p:nvSpPr>
            <p:spPr>
              <a:xfrm>
                <a:off x="3809880" y="57913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881160" y="5838480"/>
                <a:ext cx="0" cy="5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922560" y="584100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963240" y="5842440"/>
                <a:ext cx="0" cy="4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876480" y="5841000"/>
                <a:ext cx="93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3809880" y="6400800"/>
              <a:ext cx="231840" cy="190440"/>
              <a:chOff x="3809880" y="6400800"/>
              <a:chExt cx="231840" cy="190440"/>
            </a:xfrm>
          </p:grpSpPr>
          <p:sp>
            <p:nvSpPr>
              <p:cNvPr id="1005" name=""/>
              <p:cNvSpPr/>
              <p:nvPr/>
            </p:nvSpPr>
            <p:spPr>
              <a:xfrm>
                <a:off x="3809880" y="64008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821040" y="6564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001760" y="65642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3809880" y="6095880"/>
              <a:ext cx="239760" cy="157320"/>
              <a:chOff x="3809880" y="6095880"/>
              <a:chExt cx="239760" cy="157320"/>
            </a:xfrm>
          </p:grpSpPr>
          <p:sp>
            <p:nvSpPr>
              <p:cNvPr id="1009" name=""/>
              <p:cNvSpPr/>
              <p:nvPr/>
            </p:nvSpPr>
            <p:spPr>
              <a:xfrm>
                <a:off x="3809880" y="6095880"/>
                <a:ext cx="23976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3930480" y="611712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894480" y="622080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3657600" y="5257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57600" y="5867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657600" y="617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86200" y="5334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12400" y="472428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oeuvre Element CZ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34160" y="502920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34520" y="5334120"/>
              <a:ext cx="230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Jeep (no MG)                                     BR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38840" y="5791320"/>
              <a:ext cx="236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ault Pioneers (1 PIAT, 2 Flame)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-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34160" y="6248520"/>
              <a:ext cx="229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-Ton Truck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           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32720" y="6095880"/>
              <a:ext cx="229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” Mortar                                            BR-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05320" y="7010280"/>
              <a:ext cx="28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 Increased during the Winter of ’44/’45 to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ssault Pioneers (1 PIAT, 3 Flame) and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-Ton Truck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809880" y="6705720"/>
              <a:ext cx="231840" cy="190440"/>
              <a:chOff x="3809880" y="6705720"/>
              <a:chExt cx="231840" cy="1904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809880" y="670572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821040" y="6869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001760" y="6869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886200" y="5410080"/>
              <a:ext cx="74160" cy="27000"/>
              <a:chOff x="3886200" y="5410080"/>
              <a:chExt cx="74160" cy="27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3886200" y="54100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933720" y="54100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3886200" y="5715000"/>
              <a:ext cx="74160" cy="27000"/>
              <a:chOff x="3886200" y="5715000"/>
              <a:chExt cx="74160" cy="27000"/>
            </a:xfrm>
          </p:grpSpPr>
          <p:sp>
            <p:nvSpPr>
              <p:cNvPr id="1031" name=""/>
              <p:cNvSpPr/>
              <p:nvPr/>
            </p:nvSpPr>
            <p:spPr>
              <a:xfrm>
                <a:off x="3886200" y="57150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933720" y="57150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3886200" y="6019920"/>
              <a:ext cx="74160" cy="27000"/>
              <a:chOff x="3886200" y="6019920"/>
              <a:chExt cx="74160" cy="27000"/>
            </a:xfrm>
          </p:grpSpPr>
          <p:sp>
            <p:nvSpPr>
              <p:cNvPr id="1034" name=""/>
              <p:cNvSpPr/>
              <p:nvPr/>
            </p:nvSpPr>
            <p:spPr>
              <a:xfrm>
                <a:off x="3886200" y="601992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933720" y="601992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3886200" y="6324480"/>
              <a:ext cx="74160" cy="27000"/>
              <a:chOff x="3886200" y="6324480"/>
              <a:chExt cx="74160" cy="27000"/>
            </a:xfrm>
          </p:grpSpPr>
          <p:sp>
            <p:nvSpPr>
              <p:cNvPr id="1037" name=""/>
              <p:cNvSpPr/>
              <p:nvPr/>
            </p:nvSpPr>
            <p:spPr>
              <a:xfrm>
                <a:off x="3886200" y="632448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933720" y="632448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3886200" y="6629400"/>
              <a:ext cx="74160" cy="27000"/>
              <a:chOff x="3886200" y="6629400"/>
              <a:chExt cx="74160" cy="27000"/>
            </a:xfrm>
          </p:grpSpPr>
          <p:sp>
            <p:nvSpPr>
              <p:cNvPr id="1040" name=""/>
              <p:cNvSpPr/>
              <p:nvPr/>
            </p:nvSpPr>
            <p:spPr>
              <a:xfrm>
                <a:off x="3886200" y="6629400"/>
                <a:ext cx="284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933720" y="6629400"/>
                <a:ext cx="26640" cy="270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4032720" y="6705720"/>
              <a:ext cx="229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cwt Truck                                       BR-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4210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 Artillery Reg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669960" y="609480"/>
            <a:ext cx="2454120" cy="2737080"/>
            <a:chOff x="669960" y="609480"/>
            <a:chExt cx="2454120" cy="2737080"/>
          </a:xfrm>
        </p:grpSpPr>
        <p:sp>
          <p:nvSpPr>
            <p:cNvPr id="1045" name=""/>
            <p:cNvSpPr/>
            <p:nvPr/>
          </p:nvSpPr>
          <p:spPr>
            <a:xfrm>
              <a:off x="1143000" y="11430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800280" y="685800"/>
              <a:ext cx="75960" cy="63360"/>
              <a:chOff x="800280" y="685800"/>
              <a:chExt cx="75960" cy="63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800280" y="685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76240" y="685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85800" y="762120"/>
              <a:ext cx="304560" cy="228240"/>
              <a:chOff x="685800" y="762120"/>
              <a:chExt cx="304560" cy="22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685800" y="762120"/>
                <a:ext cx="30456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16840" y="84960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990720" y="1219320"/>
              <a:ext cx="304200" cy="228240"/>
              <a:chOff x="990720" y="1219320"/>
              <a:chExt cx="304200" cy="228240"/>
            </a:xfrm>
          </p:grpSpPr>
          <p:sp>
            <p:nvSpPr>
              <p:cNvPr id="1053" name=""/>
              <p:cNvSpPr/>
              <p:nvPr/>
            </p:nvSpPr>
            <p:spPr>
              <a:xfrm>
                <a:off x="990720" y="1219320"/>
                <a:ext cx="30420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121760" y="130680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990720" y="1676520"/>
              <a:ext cx="304200" cy="228240"/>
              <a:chOff x="990720" y="1676520"/>
              <a:chExt cx="304200" cy="228240"/>
            </a:xfrm>
          </p:grpSpPr>
          <p:sp>
            <p:nvSpPr>
              <p:cNvPr id="1056" name=""/>
              <p:cNvSpPr/>
              <p:nvPr/>
            </p:nvSpPr>
            <p:spPr>
              <a:xfrm>
                <a:off x="990720" y="1676520"/>
                <a:ext cx="30420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121760" y="176400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990720" y="2133720"/>
              <a:ext cx="304200" cy="228240"/>
              <a:chOff x="990720" y="2133720"/>
              <a:chExt cx="304200" cy="228240"/>
            </a:xfrm>
          </p:grpSpPr>
          <p:sp>
            <p:nvSpPr>
              <p:cNvPr id="1059" name=""/>
              <p:cNvSpPr/>
              <p:nvPr/>
            </p:nvSpPr>
            <p:spPr>
              <a:xfrm>
                <a:off x="990720" y="2133720"/>
                <a:ext cx="30420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21760" y="222120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1143000" y="1600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43000" y="2057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38080" y="99072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38080" y="1295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38080" y="1752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38080" y="1752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2209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92880" y="609480"/>
              <a:ext cx="1935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9900"/>
                  </a:solidFill>
                  <a:latin typeface="Arial"/>
                </a:rPr>
                <a:t>Off-Table Fire Support 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eld Artillery Regiment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98520" y="1143000"/>
              <a:ext cx="110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’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pdr Field Gu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98520" y="1600200"/>
              <a:ext cx="110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’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pdr Field Gu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98520" y="2057400"/>
              <a:ext cx="110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’ Battery 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pdr Field Gu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9960" y="2522520"/>
              <a:ext cx="245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 Forward Observers were permanently attached to the Brigade Headquarters, the three Armoured Regiments and the Motor Battal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  ‘R’ Battery was formed during the siege of Dunkirk, in the Winter of ’44/’45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1:47:54Z</dcterms:created>
  <dc:creator>Richard Mark Davies</dc:creator>
  <dc:description/>
  <dc:language>en-US</dc:language>
  <cp:lastModifiedBy>James Baker</cp:lastModifiedBy>
  <dcterms:modified xsi:type="dcterms:W3CDTF">2001-11-06T21:58:47Z</dcterms:modified>
  <cp:revision>12</cp:revision>
  <dc:subject/>
  <dc:title>PowerPoint Presentation</dc:title>
</cp:coreProperties>
</file>