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7772400" cy="100584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F5F-88C6-4CB5-BEE3-A4A33CB8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590-90EB-4FB3-AD22-8BF55CE3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66C-1501-4204-9B36-0B06112D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12A-3146-4A39-8955-1A9DC3FD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03B-6DB9-4040-B800-85519EA1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10E-5887-4607-8FAA-CCD5C218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D1A5-101D-4A49-AFD4-C076449E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9797-E75E-4D18-94A3-22DF832C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8D3-37F7-46C3-9235-2FE9BA69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4F3C-A195-4030-836B-EDC0AD89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731-410C-4DAD-9BF9-B048D50E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4E0-06F8-4899-A236-85637DDB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1F10-B22E-4081-9A6E-C92F78BA3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20600" y="1060560"/>
            <a:ext cx="6607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 Armoured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861840" y="1050840"/>
            <a:ext cx="6091200" cy="5780160"/>
            <a:chOff x="861840" y="1050840"/>
            <a:chExt cx="6091200" cy="5780160"/>
          </a:xfrm>
        </p:grpSpPr>
        <p:sp>
          <p:nvSpPr>
            <p:cNvPr id="43" name=""/>
            <p:cNvSpPr/>
            <p:nvPr/>
          </p:nvSpPr>
          <p:spPr>
            <a:xfrm>
              <a:off x="1028520" y="3209760"/>
              <a:ext cx="52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37880" y="3733920"/>
              <a:ext cx="52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42960" y="3191040"/>
              <a:ext cx="0" cy="28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42960" y="3476520"/>
              <a:ext cx="447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52320" y="3762360"/>
              <a:ext cx="0" cy="28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52320" y="4048200"/>
              <a:ext cx="44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28520" y="1504800"/>
              <a:ext cx="52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28520" y="1895400"/>
              <a:ext cx="52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28520" y="2295360"/>
              <a:ext cx="52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28520" y="2752560"/>
              <a:ext cx="52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81120" y="4838760"/>
              <a:ext cx="0" cy="60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71400" y="5429160"/>
              <a:ext cx="43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71400" y="5095800"/>
              <a:ext cx="46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28520" y="1228680"/>
              <a:ext cx="0" cy="550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8800" y="6734160"/>
              <a:ext cx="61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28520" y="4381560"/>
              <a:ext cx="61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28520" y="4848120"/>
              <a:ext cx="61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18800" y="5753160"/>
              <a:ext cx="61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28520" y="6076800"/>
              <a:ext cx="61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28520" y="6381720"/>
              <a:ext cx="61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861840" y="1050840"/>
              <a:ext cx="347400" cy="302760"/>
              <a:chOff x="861840" y="1050840"/>
              <a:chExt cx="347400" cy="30276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861840" y="1117440"/>
                <a:ext cx="347400" cy="236160"/>
                <a:chOff x="861840" y="1117440"/>
                <a:chExt cx="347400" cy="2361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861840" y="1117440"/>
                  <a:ext cx="347400" cy="236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925560" y="1176480"/>
                  <a:ext cx="222840" cy="1126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944280" y="1050840"/>
                <a:ext cx="183960" cy="63360"/>
                <a:chOff x="944280" y="1050840"/>
                <a:chExt cx="183960" cy="63360"/>
              </a:xfrm>
            </p:grpSpPr>
            <p:grpSp>
              <p:nvGrpSpPr>
                <p:cNvPr id="68" name=""/>
                <p:cNvGrpSpPr/>
                <p:nvPr/>
              </p:nvGrpSpPr>
              <p:grpSpPr>
                <a:xfrm>
                  <a:off x="944280" y="1050840"/>
                  <a:ext cx="75960" cy="63360"/>
                  <a:chOff x="944280" y="1050840"/>
                  <a:chExt cx="75960" cy="633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>
                    <a:off x="944280" y="1050840"/>
                    <a:ext cx="75960" cy="63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flipV="1">
                    <a:off x="944280" y="1050840"/>
                    <a:ext cx="75960" cy="63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1052280" y="1050840"/>
                  <a:ext cx="75960" cy="63360"/>
                  <a:chOff x="1052280" y="1050840"/>
                  <a:chExt cx="75960" cy="6336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>
                    <a:off x="1052280" y="1050840"/>
                    <a:ext cx="75960" cy="63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flipV="1">
                    <a:off x="1052280" y="1050840"/>
                    <a:ext cx="75960" cy="63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4" name=""/>
            <p:cNvSpPr/>
            <p:nvPr/>
          </p:nvSpPr>
          <p:spPr>
            <a:xfrm>
              <a:off x="1936440" y="2714760"/>
              <a:ext cx="259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nd Armd Recce Bn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Welsh Guards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BG-06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t-Col JC Windsor-Lew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76320" y="3114720"/>
              <a:ext cx="235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r>
                <a:rPr b="1" lang="en-GB" sz="10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Field Regt RHA                        FS-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85680" y="3686040"/>
              <a:ext cx="233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3</a:t>
              </a:r>
              <a:r>
                <a:rPr b="1" lang="en-GB" sz="10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 Field Regt RA                       FS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0120" y="3987720"/>
              <a:ext cx="214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Self-Propelled Antiaircraft Tro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4520" y="3857760"/>
              <a:ext cx="1735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E-21 attached to 153</a:t>
              </a:r>
              <a:r>
                <a:rPr b="0" lang="en-US" sz="800" spc="-1" strike="noStrike" baseline="30000">
                  <a:solidFill>
                    <a:srgbClr val="cc9900"/>
                  </a:solidFill>
                  <a:latin typeface="Arial"/>
                </a:rPr>
                <a:t>rd</a:t>
              </a: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 F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877760" y="3897360"/>
              <a:ext cx="291240" cy="272880"/>
              <a:chOff x="1877760" y="3897360"/>
              <a:chExt cx="291240" cy="27288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877760" y="3936960"/>
                <a:ext cx="291240" cy="190080"/>
                <a:chOff x="1877760" y="3936960"/>
                <a:chExt cx="291240" cy="1900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879200" y="3936960"/>
                  <a:ext cx="289800" cy="1900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1877760" y="3938040"/>
                  <a:ext cx="140040" cy="18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2017800" y="3936960"/>
                  <a:ext cx="149400" cy="18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958040" y="4017600"/>
                  <a:ext cx="118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1904760" y="4133880"/>
                <a:ext cx="237600" cy="36360"/>
                <a:chOff x="1904760" y="4133880"/>
                <a:chExt cx="237600" cy="363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904760" y="4133880"/>
                  <a:ext cx="45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096280" y="4133880"/>
                  <a:ext cx="4608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1956960" y="3897360"/>
                <a:ext cx="131760" cy="27000"/>
                <a:chOff x="1956960" y="3897360"/>
                <a:chExt cx="131760" cy="270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1956960" y="38973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007720" y="38973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061720" y="38973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" name=""/>
            <p:cNvGrpSpPr/>
            <p:nvPr/>
          </p:nvGrpSpPr>
          <p:grpSpPr>
            <a:xfrm>
              <a:off x="1831680" y="3325680"/>
              <a:ext cx="291240" cy="233280"/>
              <a:chOff x="1831680" y="3325680"/>
              <a:chExt cx="291240" cy="2332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1831680" y="3368520"/>
                <a:ext cx="291240" cy="190440"/>
                <a:chOff x="1831680" y="3368520"/>
                <a:chExt cx="291240" cy="1904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833120" y="3368520"/>
                  <a:ext cx="289800" cy="19044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1831680" y="3369960"/>
                  <a:ext cx="140040" cy="18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971720" y="3368520"/>
                  <a:ext cx="149400" cy="18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911960" y="3449160"/>
                  <a:ext cx="118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912680" y="3325680"/>
                <a:ext cx="131760" cy="27000"/>
                <a:chOff x="1912680" y="3325680"/>
                <a:chExt cx="131760" cy="270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912680" y="33256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963440" y="33256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017440" y="33256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2079360" y="3400560"/>
              <a:ext cx="214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Towed Antiaircraft Tro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93760" y="3270240"/>
              <a:ext cx="1735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E-21 attached to 55</a:t>
              </a:r>
              <a:r>
                <a:rPr b="0" lang="en-US" sz="800" spc="-1" strike="noStrike" baseline="30000">
                  <a:solidFill>
                    <a:srgbClr val="cc9900"/>
                  </a:solidFill>
                  <a:latin typeface="Arial"/>
                </a:rPr>
                <a:t>th</a:t>
              </a: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 F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46040" y="4983120"/>
              <a:ext cx="238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Self-Propelled Antitank Troop   ME-09           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M10 Achilles BR-16)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866600" y="4935600"/>
              <a:ext cx="291600" cy="245520"/>
              <a:chOff x="1866600" y="4935600"/>
              <a:chExt cx="291600" cy="2455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947600" y="4935600"/>
                <a:ext cx="131760" cy="27000"/>
                <a:chOff x="1947600" y="4935600"/>
                <a:chExt cx="131760" cy="27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947600" y="49356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998360" y="49356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052360" y="49356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866600" y="4991040"/>
                <a:ext cx="291600" cy="190080"/>
                <a:chOff x="1866600" y="4991040"/>
                <a:chExt cx="291600" cy="1900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866600" y="4991040"/>
                  <a:ext cx="291600" cy="1900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03320" y="5033160"/>
                  <a:ext cx="208440" cy="9036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V="1">
                  <a:off x="1868040" y="4992120"/>
                  <a:ext cx="141120" cy="18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005920" y="4991040"/>
                  <a:ext cx="150480" cy="18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" name=""/>
            <p:cNvSpPr/>
            <p:nvPr/>
          </p:nvSpPr>
          <p:spPr>
            <a:xfrm>
              <a:off x="2212920" y="5326200"/>
              <a:ext cx="238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Towed Antitank Troop ME-10                    (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pdr BR-47 towed by  M5 BR-34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876320" y="5273640"/>
              <a:ext cx="284040" cy="239760"/>
              <a:chOff x="1876320" y="5273640"/>
              <a:chExt cx="284040" cy="23976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1952280" y="5273640"/>
                <a:ext cx="131760" cy="27000"/>
                <a:chOff x="1952280" y="5273640"/>
                <a:chExt cx="131760" cy="27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952280" y="52736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003040" y="52736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057040" y="52736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1876320" y="5319720"/>
                <a:ext cx="284040" cy="193680"/>
                <a:chOff x="1876320" y="5319720"/>
                <a:chExt cx="284040" cy="1936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876320" y="5319720"/>
                  <a:ext cx="284040" cy="1936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V="1">
                  <a:off x="1876320" y="5323680"/>
                  <a:ext cx="139680" cy="18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016000" y="5319720"/>
                  <a:ext cx="139680" cy="18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1438200" y="4689360"/>
              <a:ext cx="284040" cy="252360"/>
              <a:chOff x="1438200" y="4689360"/>
              <a:chExt cx="284040" cy="25236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541160" y="4689360"/>
                <a:ext cx="76320" cy="63360"/>
                <a:chOff x="1541160" y="4689360"/>
                <a:chExt cx="76320" cy="633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541160" y="46893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617480" y="46893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1438200" y="4748040"/>
                <a:ext cx="284040" cy="193680"/>
                <a:chOff x="1438200" y="4748040"/>
                <a:chExt cx="284040" cy="1936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438200" y="4748040"/>
                  <a:ext cx="284040" cy="1936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1438200" y="4752000"/>
                  <a:ext cx="139680" cy="18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77880" y="4748040"/>
                  <a:ext cx="139680" cy="18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1878120" y="4762440"/>
              <a:ext cx="247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en-GB" sz="10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Anti-tank Regiment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t-Col RC Hulber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1449000" y="5587920"/>
              <a:ext cx="284040" cy="271440"/>
              <a:chOff x="1449000" y="5587920"/>
              <a:chExt cx="284040" cy="271440"/>
            </a:xfrm>
          </p:grpSpPr>
          <p:sp>
            <p:nvSpPr>
              <p:cNvPr id="135" name=""/>
              <p:cNvSpPr/>
              <p:nvPr/>
            </p:nvSpPr>
            <p:spPr>
              <a:xfrm>
                <a:off x="1591560" y="55879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1449000" y="5665680"/>
                <a:ext cx="284040" cy="193680"/>
                <a:chOff x="1449000" y="5665680"/>
                <a:chExt cx="284040" cy="1936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449000" y="5665680"/>
                  <a:ext cx="284040" cy="1936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536480" y="5724000"/>
                  <a:ext cx="0" cy="615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587240" y="5727240"/>
                  <a:ext cx="0" cy="586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636920" y="5728680"/>
                  <a:ext cx="0" cy="572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530360" y="5727240"/>
                  <a:ext cx="1148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2" name=""/>
            <p:cNvSpPr/>
            <p:nvPr/>
          </p:nvSpPr>
          <p:spPr>
            <a:xfrm>
              <a:off x="1917360" y="5697360"/>
              <a:ext cx="238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4th Field Sqn RE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    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E-3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449000" y="5902200"/>
              <a:ext cx="284040" cy="271440"/>
              <a:chOff x="1449000" y="5902200"/>
              <a:chExt cx="284040" cy="271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591560" y="5902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449000" y="5979960"/>
                <a:ext cx="284040" cy="193680"/>
                <a:chOff x="1449000" y="5979960"/>
                <a:chExt cx="284040" cy="1936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449000" y="5979960"/>
                  <a:ext cx="284040" cy="1936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536480" y="6038280"/>
                  <a:ext cx="0" cy="615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587240" y="6041520"/>
                  <a:ext cx="0" cy="586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636920" y="6042960"/>
                  <a:ext cx="0" cy="572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530360" y="6041520"/>
                  <a:ext cx="1148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>
              <a:off x="1917360" y="5992920"/>
              <a:ext cx="238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15</a:t>
              </a:r>
              <a:r>
                <a:rPr b="0" lang="en-GB" sz="9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Field Sqn RE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E-3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458720" y="6207120"/>
              <a:ext cx="284040" cy="271440"/>
              <a:chOff x="1458720" y="6207120"/>
              <a:chExt cx="284040" cy="271440"/>
            </a:xfrm>
          </p:grpSpPr>
          <p:sp>
            <p:nvSpPr>
              <p:cNvPr id="153" name=""/>
              <p:cNvSpPr/>
              <p:nvPr/>
            </p:nvSpPr>
            <p:spPr>
              <a:xfrm>
                <a:off x="1601280" y="6207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1458720" y="6284880"/>
                <a:ext cx="284040" cy="193680"/>
                <a:chOff x="1458720" y="6284880"/>
                <a:chExt cx="284040" cy="1936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458720" y="6284880"/>
                  <a:ext cx="284040" cy="1936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546200" y="6343200"/>
                  <a:ext cx="0" cy="615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596960" y="6346440"/>
                  <a:ext cx="0" cy="586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646640" y="6347880"/>
                  <a:ext cx="0" cy="572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540080" y="6346440"/>
                  <a:ext cx="1148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" name=""/>
            <p:cNvSpPr/>
            <p:nvPr/>
          </p:nvSpPr>
          <p:spPr>
            <a:xfrm>
              <a:off x="1927080" y="6297480"/>
              <a:ext cx="238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48th Field park Sqn RE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E-3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1468080" y="6559560"/>
              <a:ext cx="284040" cy="271440"/>
              <a:chOff x="1468080" y="6559560"/>
              <a:chExt cx="284040" cy="271440"/>
            </a:xfrm>
          </p:grpSpPr>
          <p:sp>
            <p:nvSpPr>
              <p:cNvPr id="162" name=""/>
              <p:cNvSpPr/>
              <p:nvPr/>
            </p:nvSpPr>
            <p:spPr>
              <a:xfrm>
                <a:off x="1610640" y="65595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1468080" y="6637320"/>
                <a:ext cx="284040" cy="193680"/>
                <a:chOff x="1468080" y="6637320"/>
                <a:chExt cx="284040" cy="1936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468080" y="6637320"/>
                  <a:ext cx="284040" cy="1936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555560" y="6695640"/>
                  <a:ext cx="0" cy="615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606320" y="6698880"/>
                  <a:ext cx="0" cy="586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656000" y="6700320"/>
                  <a:ext cx="0" cy="572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549440" y="6698880"/>
                  <a:ext cx="1148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>
              <a:off x="1936440" y="6649920"/>
              <a:ext cx="238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1th Bridging Troop 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357200" y="1695240"/>
              <a:ext cx="347040" cy="312120"/>
              <a:chOff x="1357200" y="1695240"/>
              <a:chExt cx="347040" cy="3121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1491840" y="1695240"/>
                <a:ext cx="76320" cy="63360"/>
                <a:chOff x="1491840" y="1695240"/>
                <a:chExt cx="76320" cy="633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491840" y="1695600"/>
                  <a:ext cx="76320" cy="63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1491840" y="1695240"/>
                  <a:ext cx="76320" cy="63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1357200" y="1771560"/>
                <a:ext cx="347040" cy="235800"/>
                <a:chOff x="1357200" y="1771560"/>
                <a:chExt cx="347040" cy="2358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1357200" y="1771560"/>
                  <a:ext cx="347040" cy="23580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420920" y="1830600"/>
                  <a:ext cx="222840" cy="1126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336320" y="2088720"/>
              <a:ext cx="347760" cy="311400"/>
              <a:chOff x="1336320" y="2088720"/>
              <a:chExt cx="347760" cy="31140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1336320" y="2163600"/>
                <a:ext cx="347760" cy="236520"/>
                <a:chOff x="1336320" y="2163600"/>
                <a:chExt cx="347760" cy="2365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336320" y="2163600"/>
                  <a:ext cx="347760" cy="2365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1339560" y="2167920"/>
                  <a:ext cx="33984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336320" y="2168280"/>
                  <a:ext cx="3463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1471320" y="2088720"/>
                <a:ext cx="76320" cy="64080"/>
                <a:chOff x="1471320" y="2088720"/>
                <a:chExt cx="76320" cy="64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471320" y="2089080"/>
                  <a:ext cx="76320" cy="6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1471320" y="2088720"/>
                  <a:ext cx="76320" cy="6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5" name=""/>
            <p:cNvSpPr/>
            <p:nvPr/>
          </p:nvSpPr>
          <p:spPr>
            <a:xfrm>
              <a:off x="1897920" y="2246400"/>
              <a:ext cx="178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32</a:t>
              </a:r>
              <a:r>
                <a:rPr b="1" lang="en-GB" sz="1200" spc="-1" strike="noStrike" u="sng" baseline="30000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nd</a:t>
              </a:r>
              <a:r>
                <a:rPr b="1" lang="en-GB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 Guards Infantry B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59480" y="1839960"/>
              <a:ext cx="151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5</a:t>
              </a:r>
              <a:r>
                <a:rPr b="1" lang="en-GB" sz="1200" spc="-1" strike="noStrike" u="sng" baseline="30000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th</a:t>
              </a:r>
              <a:r>
                <a:rPr b="1" lang="en-GB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 Guards Armd B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1390320" y="3019320"/>
              <a:ext cx="304560" cy="295200"/>
              <a:chOff x="1390320" y="3019320"/>
              <a:chExt cx="304560" cy="2952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1504440" y="3019320"/>
                <a:ext cx="76320" cy="63720"/>
                <a:chOff x="1504440" y="3019320"/>
                <a:chExt cx="76320" cy="637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504440" y="30193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580760" y="30193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1390320" y="3086280"/>
                <a:ext cx="304560" cy="228240"/>
                <a:chOff x="1390320" y="3086280"/>
                <a:chExt cx="304560" cy="2282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390320" y="3086280"/>
                  <a:ext cx="304560" cy="22824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442160" y="3143880"/>
                  <a:ext cx="195840" cy="10836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521000" y="3173760"/>
                  <a:ext cx="36360" cy="39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1390320" y="3552840"/>
              <a:ext cx="304200" cy="294840"/>
              <a:chOff x="1390320" y="3552840"/>
              <a:chExt cx="304200" cy="29484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504440" y="3552840"/>
                <a:ext cx="76320" cy="63360"/>
                <a:chOff x="1504440" y="3552840"/>
                <a:chExt cx="76320" cy="633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504440" y="3552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580760" y="3552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390320" y="3619440"/>
                <a:ext cx="304200" cy="228240"/>
                <a:chOff x="1390320" y="3619440"/>
                <a:chExt cx="304200" cy="228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390320" y="3619440"/>
                  <a:ext cx="304200" cy="22824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521360" y="3706920"/>
                  <a:ext cx="36000" cy="39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" name=""/>
            <p:cNvGrpSpPr/>
            <p:nvPr/>
          </p:nvGrpSpPr>
          <p:grpSpPr>
            <a:xfrm>
              <a:off x="1334880" y="2584440"/>
              <a:ext cx="364320" cy="300960"/>
              <a:chOff x="1334880" y="2584440"/>
              <a:chExt cx="364320" cy="30096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1334880" y="2646000"/>
                <a:ext cx="364320" cy="239400"/>
                <a:chOff x="1334880" y="2646000"/>
                <a:chExt cx="364320" cy="239400"/>
              </a:xfrm>
            </p:grpSpPr>
            <p:grpSp>
              <p:nvGrpSpPr>
                <p:cNvPr id="204" name=""/>
                <p:cNvGrpSpPr/>
                <p:nvPr/>
              </p:nvGrpSpPr>
              <p:grpSpPr>
                <a:xfrm>
                  <a:off x="1334880" y="2646360"/>
                  <a:ext cx="364320" cy="239040"/>
                  <a:chOff x="1334880" y="2646360"/>
                  <a:chExt cx="364320" cy="2390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1334880" y="2646360"/>
                    <a:ext cx="364320" cy="23904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1401840" y="2706120"/>
                    <a:ext cx="230400" cy="114120"/>
                  </a:xfrm>
                  <a:prstGeom prst="ellips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 flipV="1">
                  <a:off x="1334880" y="2646000"/>
                  <a:ext cx="359280" cy="23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479240" y="2584440"/>
                <a:ext cx="75600" cy="63720"/>
                <a:chOff x="1479240" y="2584440"/>
                <a:chExt cx="75600" cy="63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479240" y="258444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554840" y="258444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1" name=""/>
            <p:cNvSpPr/>
            <p:nvPr/>
          </p:nvSpPr>
          <p:spPr>
            <a:xfrm>
              <a:off x="4914720" y="2295360"/>
              <a:ext cx="203832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ll organizations are based on the 21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Army Group ORBAT. Those with the suffix “G” (for example BG-07G) are specific variations that are enumerated below. Others are from the basic organiz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438200" y="4184640"/>
              <a:ext cx="304200" cy="291240"/>
              <a:chOff x="1438200" y="4184640"/>
              <a:chExt cx="304200" cy="29124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1438200" y="4248000"/>
                <a:ext cx="304200" cy="227880"/>
                <a:chOff x="1438200" y="4248000"/>
                <a:chExt cx="304200" cy="2278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438200" y="4248000"/>
                  <a:ext cx="304200" cy="2278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569240" y="4335120"/>
                  <a:ext cx="36000" cy="38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552320" y="4184640"/>
                <a:ext cx="75600" cy="63360"/>
                <a:chOff x="1552320" y="4184640"/>
                <a:chExt cx="75600" cy="633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552320" y="41846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627920" y="41846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1908000" y="4297680"/>
              <a:ext cx="259092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4</a:t>
              </a:r>
              <a:r>
                <a:rPr b="1" lang="en-GB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Medium Regt RA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FS-06 (SEP4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A Bty 4.5”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B Bty 5.5”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1382400" y="1311120"/>
              <a:ext cx="347040" cy="312480"/>
              <a:chOff x="1382400" y="1311120"/>
              <a:chExt cx="347040" cy="31248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1517040" y="1311120"/>
                <a:ext cx="76320" cy="63360"/>
                <a:chOff x="1517040" y="1311120"/>
                <a:chExt cx="76320" cy="633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517040" y="1311120"/>
                  <a:ext cx="7632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>
                  <a:off x="1517040" y="1311120"/>
                  <a:ext cx="7632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1382400" y="1387440"/>
                <a:ext cx="347040" cy="236160"/>
                <a:chOff x="1382400" y="1387440"/>
                <a:chExt cx="347040" cy="2361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382400" y="1387440"/>
                  <a:ext cx="347040" cy="236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446120" y="1446480"/>
                  <a:ext cx="222840" cy="1126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1882440" y="1424160"/>
              <a:ext cx="192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Irish Guards Battle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724280" y="4433760"/>
            <a:ext cx="2562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o.1 MG Coy Northumberland Fusiliers ME-2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92000" y="5730480"/>
            <a:ext cx="3341880" cy="1244880"/>
            <a:chOff x="792000" y="5730480"/>
            <a:chExt cx="3341880" cy="1244880"/>
          </a:xfrm>
        </p:grpSpPr>
        <p:sp>
          <p:nvSpPr>
            <p:cNvPr id="230" name=""/>
            <p:cNvSpPr/>
            <p:nvPr/>
          </p:nvSpPr>
          <p:spPr>
            <a:xfrm>
              <a:off x="971280" y="5933880"/>
              <a:ext cx="0" cy="94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71280" y="6876720"/>
              <a:ext cx="561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61920" y="6495840"/>
              <a:ext cx="561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1411200" y="6308640"/>
              <a:ext cx="347400" cy="295920"/>
              <a:chOff x="1411200" y="6308640"/>
              <a:chExt cx="347400" cy="2959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1411200" y="6368760"/>
                <a:ext cx="347400" cy="235800"/>
                <a:chOff x="1411200" y="6368760"/>
                <a:chExt cx="347400" cy="2358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411200" y="6368760"/>
                  <a:ext cx="347400" cy="23580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474920" y="6427800"/>
                  <a:ext cx="222840" cy="1126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1546200" y="6308640"/>
                <a:ext cx="75960" cy="63000"/>
                <a:chOff x="1546200" y="6308640"/>
                <a:chExt cx="75960" cy="630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546200" y="630864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622160" y="630864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0" name=""/>
            <p:cNvGrpSpPr/>
            <p:nvPr/>
          </p:nvGrpSpPr>
          <p:grpSpPr>
            <a:xfrm>
              <a:off x="1409400" y="6675120"/>
              <a:ext cx="347400" cy="300240"/>
              <a:chOff x="1409400" y="6675120"/>
              <a:chExt cx="347400" cy="300240"/>
            </a:xfrm>
          </p:grpSpPr>
          <p:sp>
            <p:nvSpPr>
              <p:cNvPr id="241" name=""/>
              <p:cNvSpPr/>
              <p:nvPr/>
            </p:nvSpPr>
            <p:spPr>
              <a:xfrm>
                <a:off x="1544400" y="667512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20360" y="667512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409400" y="6738840"/>
                <a:ext cx="347400" cy="2365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1412640" y="6743160"/>
                <a:ext cx="33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409400" y="6743520"/>
                <a:ext cx="345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1927080" y="6777000"/>
              <a:ext cx="2206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en-GB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rd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n Irish Guards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        BG-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60480" y="6424560"/>
              <a:ext cx="211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1" lang="en-GB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nd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rmd Bn Irish Guards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BG-07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792000" y="5730480"/>
              <a:ext cx="347040" cy="312120"/>
              <a:chOff x="792000" y="5730480"/>
              <a:chExt cx="347040" cy="31212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926640" y="5730480"/>
                <a:ext cx="76320" cy="63360"/>
                <a:chOff x="926640" y="5730480"/>
                <a:chExt cx="76320" cy="633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926640" y="5730840"/>
                  <a:ext cx="76320" cy="63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V="1">
                  <a:off x="926640" y="5730480"/>
                  <a:ext cx="76320" cy="63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792000" y="5806800"/>
                <a:ext cx="347040" cy="235800"/>
                <a:chOff x="792000" y="5806800"/>
                <a:chExt cx="347040" cy="2358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92000" y="5806800"/>
                  <a:ext cx="347040" cy="23580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55720" y="5865840"/>
                  <a:ext cx="222840" cy="1126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1415880" y="5848200"/>
              <a:ext cx="19256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Irish Guards Battlegroup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Lt-Col GAM Vandeleur)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63560" y="1787400"/>
            <a:ext cx="3509640" cy="3609720"/>
            <a:chOff x="763560" y="1787400"/>
            <a:chExt cx="3509640" cy="3609720"/>
          </a:xfrm>
        </p:grpSpPr>
        <p:sp>
          <p:nvSpPr>
            <p:cNvPr id="257" name=""/>
            <p:cNvSpPr/>
            <p:nvPr/>
          </p:nvSpPr>
          <p:spPr>
            <a:xfrm>
              <a:off x="942840" y="1981080"/>
              <a:ext cx="0" cy="329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33120" y="5276880"/>
              <a:ext cx="48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33120" y="4829040"/>
              <a:ext cx="48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42840" y="4352760"/>
              <a:ext cx="48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33120" y="3943440"/>
              <a:ext cx="48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763560" y="1787400"/>
              <a:ext cx="347040" cy="312480"/>
              <a:chOff x="763560" y="1787400"/>
              <a:chExt cx="347040" cy="31248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898200" y="1787400"/>
                <a:ext cx="76320" cy="63360"/>
                <a:chOff x="898200" y="1787400"/>
                <a:chExt cx="76320" cy="633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898200" y="1787400"/>
                  <a:ext cx="7632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898200" y="1787400"/>
                  <a:ext cx="7632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763560" y="1863720"/>
                <a:ext cx="347040" cy="236160"/>
                <a:chOff x="763560" y="1863720"/>
                <a:chExt cx="347040" cy="2361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763560" y="1863720"/>
                  <a:ext cx="347040" cy="236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27280" y="1922760"/>
                  <a:ext cx="222840" cy="1126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1106280" y="3765600"/>
              <a:ext cx="347400" cy="295920"/>
              <a:chOff x="1106280" y="3765600"/>
              <a:chExt cx="347400" cy="29592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1106280" y="3825720"/>
                <a:ext cx="347400" cy="235800"/>
                <a:chOff x="1106280" y="3825720"/>
                <a:chExt cx="347400" cy="2358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106280" y="3825720"/>
                  <a:ext cx="347400" cy="23580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170000" y="3884760"/>
                  <a:ext cx="222840" cy="1126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1241280" y="3765600"/>
                <a:ext cx="75960" cy="63000"/>
                <a:chOff x="1241280" y="3765600"/>
                <a:chExt cx="75960" cy="630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1241280" y="376560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317240" y="376560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106280" y="4172040"/>
              <a:ext cx="347400" cy="295920"/>
              <a:chOff x="1106280" y="4172040"/>
              <a:chExt cx="347400" cy="29592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1106280" y="4232160"/>
                <a:ext cx="347400" cy="235800"/>
                <a:chOff x="1106280" y="4232160"/>
                <a:chExt cx="347400" cy="23580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106280" y="4232160"/>
                  <a:ext cx="347400" cy="23580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170000" y="4291200"/>
                  <a:ext cx="222840" cy="1126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1241280" y="4172040"/>
                <a:ext cx="75960" cy="63000"/>
                <a:chOff x="1241280" y="4172040"/>
                <a:chExt cx="75960" cy="630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1241280" y="417204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317240" y="417204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1107720" y="5097600"/>
              <a:ext cx="347400" cy="299520"/>
              <a:chOff x="1107720" y="5097600"/>
              <a:chExt cx="347400" cy="299520"/>
            </a:xfrm>
          </p:grpSpPr>
          <p:sp>
            <p:nvSpPr>
              <p:cNvPr id="284" name=""/>
              <p:cNvSpPr/>
              <p:nvPr/>
            </p:nvSpPr>
            <p:spPr>
              <a:xfrm>
                <a:off x="1242720" y="50976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18680" y="50976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107720" y="5160960"/>
                <a:ext cx="347400" cy="2361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1110960" y="5165640"/>
                <a:ext cx="3394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107720" y="5165640"/>
                <a:ext cx="34596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539720" y="1850760"/>
              <a:ext cx="15667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5</a:t>
              </a:r>
              <a:r>
                <a:rPr b="1" lang="en-GB" sz="1200" spc="-1" strike="noStrike" u="sng" baseline="30000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th</a:t>
              </a:r>
              <a:r>
                <a:rPr b="1" lang="en-GB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 Guards Armd Bde 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Brigadier NW Gatki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93720" y="4272120"/>
              <a:ext cx="261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r>
                <a:rPr b="1" lang="en-GB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t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rmd Bn Coldstream Guards BG-07G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93720" y="3865680"/>
              <a:ext cx="2679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1" lang="en-GB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nd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rmd Bn Grenadier Guards  BG-07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93720" y="5199120"/>
              <a:ext cx="253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r>
                <a:rPr b="1" lang="en-GB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t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Motor Bn Grenadier Guards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BG-10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92280" y="3608280"/>
              <a:ext cx="829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BATTLE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933120" y="2198520"/>
              <a:ext cx="2957760" cy="1282680"/>
              <a:chOff x="933120" y="2198520"/>
              <a:chExt cx="2957760" cy="1282680"/>
            </a:xfrm>
          </p:grpSpPr>
          <p:sp>
            <p:nvSpPr>
              <p:cNvPr id="295" name=""/>
              <p:cNvSpPr/>
              <p:nvPr/>
            </p:nvSpPr>
            <p:spPr>
              <a:xfrm>
                <a:off x="933120" y="340020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42840" y="250488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942840" y="2809800"/>
                <a:ext cx="409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942840" y="3114720"/>
                <a:ext cx="390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1228680" y="2390760"/>
                <a:ext cx="231480" cy="195120"/>
                <a:chOff x="1228680" y="2390760"/>
                <a:chExt cx="231480" cy="19512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1228680" y="2428560"/>
                  <a:ext cx="231480" cy="157320"/>
                  <a:chOff x="1228680" y="2428560"/>
                  <a:chExt cx="231480" cy="15732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1228680" y="2428560"/>
                    <a:ext cx="231480" cy="15732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1271160" y="2467800"/>
                    <a:ext cx="148320" cy="74880"/>
                  </a:xfrm>
                  <a:prstGeom prst="ellips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1304640" y="2390760"/>
                  <a:ext cx="73800" cy="27000"/>
                  <a:chOff x="1304640" y="2390760"/>
                  <a:chExt cx="73800" cy="270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1304640" y="23907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351800" y="23907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6" name=""/>
              <p:cNvGrpSpPr/>
              <p:nvPr/>
            </p:nvGrpSpPr>
            <p:grpSpPr>
              <a:xfrm>
                <a:off x="1228680" y="2695680"/>
                <a:ext cx="231480" cy="194760"/>
                <a:chOff x="1228680" y="2695680"/>
                <a:chExt cx="231480" cy="194760"/>
              </a:xfrm>
            </p:grpSpPr>
            <p:grpSp>
              <p:nvGrpSpPr>
                <p:cNvPr id="307" name=""/>
                <p:cNvGrpSpPr/>
                <p:nvPr/>
              </p:nvGrpSpPr>
              <p:grpSpPr>
                <a:xfrm>
                  <a:off x="1228680" y="2733480"/>
                  <a:ext cx="231480" cy="156960"/>
                  <a:chOff x="1228680" y="2733480"/>
                  <a:chExt cx="231480" cy="1569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1228680" y="2733480"/>
                    <a:ext cx="23148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1271160" y="2772720"/>
                    <a:ext cx="148320" cy="74880"/>
                  </a:xfrm>
                  <a:prstGeom prst="ellips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1304640" y="2695680"/>
                  <a:ext cx="73800" cy="26640"/>
                  <a:chOff x="1304640" y="2695680"/>
                  <a:chExt cx="73800" cy="2664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1304640" y="26956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1351800" y="269568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" name=""/>
              <p:cNvGrpSpPr/>
              <p:nvPr/>
            </p:nvGrpSpPr>
            <p:grpSpPr>
              <a:xfrm>
                <a:off x="1228680" y="3267000"/>
                <a:ext cx="231480" cy="214200"/>
                <a:chOff x="1228680" y="3267000"/>
                <a:chExt cx="231480" cy="2142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1228680" y="3324240"/>
                  <a:ext cx="231480" cy="156960"/>
                  <a:chOff x="1228680" y="3324240"/>
                  <a:chExt cx="231480" cy="1569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1228680" y="3324240"/>
                    <a:ext cx="23148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1261800" y="3362040"/>
                    <a:ext cx="164880" cy="82080"/>
                  </a:xfrm>
                  <a:prstGeom prst="ellips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520" bIns="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1307880" y="3382560"/>
                    <a:ext cx="72720" cy="39600"/>
                    <a:chOff x="1307880" y="3382560"/>
                    <a:chExt cx="72720" cy="3960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1311480" y="3382560"/>
                      <a:ext cx="0" cy="3960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1343520" y="3384720"/>
                      <a:ext cx="0" cy="3708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1375920" y="3384720"/>
                      <a:ext cx="0" cy="3708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1307880" y="3384720"/>
                      <a:ext cx="7272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1304640" y="3267000"/>
                  <a:ext cx="73800" cy="27000"/>
                  <a:chOff x="1304640" y="3267000"/>
                  <a:chExt cx="73800" cy="2700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1304640" y="32670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1351800" y="326700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5" name=""/>
              <p:cNvSpPr/>
              <p:nvPr/>
            </p:nvSpPr>
            <p:spPr>
              <a:xfrm>
                <a:off x="1590480" y="2324160"/>
                <a:ext cx="2300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Sherman II/III/V 75mm Cruiser Tank        BR-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90480" y="2705040"/>
                <a:ext cx="2300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4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Sherman II/III/V 75mm Cruiser Tank</a:t>
                </a: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      BR-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89760" y="3314520"/>
                <a:ext cx="2297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Valentine Bridgelayer                               BR-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1228680" y="2990880"/>
                <a:ext cx="241200" cy="204840"/>
                <a:chOff x="1228680" y="2990880"/>
                <a:chExt cx="241200" cy="20484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1228680" y="3038400"/>
                  <a:ext cx="241200" cy="157320"/>
                  <a:chOff x="1228680" y="3038400"/>
                  <a:chExt cx="241200" cy="15732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1229760" y="3038400"/>
                    <a:ext cx="240120" cy="15732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1259640" y="3072960"/>
                    <a:ext cx="171720" cy="74880"/>
                  </a:xfrm>
                  <a:prstGeom prst="ellips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V="1">
                    <a:off x="1228680" y="3039480"/>
                    <a:ext cx="115560" cy="156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1344240" y="3038400"/>
                    <a:ext cx="123840" cy="155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1295280" y="3105000"/>
                    <a:ext cx="97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1304640" y="2990880"/>
                  <a:ext cx="74880" cy="27000"/>
                  <a:chOff x="1304640" y="2990880"/>
                  <a:chExt cx="74880" cy="270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1304640" y="2990880"/>
                    <a:ext cx="288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1352520" y="29908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8" name=""/>
              <p:cNvSpPr/>
              <p:nvPr/>
            </p:nvSpPr>
            <p:spPr>
              <a:xfrm>
                <a:off x="1589760" y="3066840"/>
                <a:ext cx="229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rusader AA Mk II/III 20mm AA Tank     </a:t>
                </a: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BR-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92280" y="2198520"/>
                <a:ext cx="85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HEADQUART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1114200" y="4629240"/>
              <a:ext cx="373320" cy="362520"/>
              <a:chOff x="1114200" y="4629240"/>
              <a:chExt cx="373320" cy="36252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1114200" y="4710960"/>
                <a:ext cx="373320" cy="280800"/>
                <a:chOff x="1114200" y="4710960"/>
                <a:chExt cx="373320" cy="280800"/>
              </a:xfrm>
            </p:grpSpPr>
            <p:grpSp>
              <p:nvGrpSpPr>
                <p:cNvPr id="342" name=""/>
                <p:cNvGrpSpPr/>
                <p:nvPr/>
              </p:nvGrpSpPr>
              <p:grpSpPr>
                <a:xfrm>
                  <a:off x="1114200" y="4710960"/>
                  <a:ext cx="373320" cy="231120"/>
                  <a:chOff x="1114200" y="4710960"/>
                  <a:chExt cx="373320" cy="231120"/>
                </a:xfrm>
              </p:grpSpPr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1114200" y="4710960"/>
                    <a:ext cx="373320" cy="230760"/>
                    <a:chOff x="1114200" y="4710960"/>
                    <a:chExt cx="373320" cy="23076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1114200" y="4710960"/>
                      <a:ext cx="373320" cy="23076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1182600" y="4768920"/>
                      <a:ext cx="235800" cy="110160"/>
                    </a:xfrm>
                    <a:prstGeom prst="ellipse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1680" bIns="31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6" name=""/>
                  <p:cNvSpPr/>
                  <p:nvPr/>
                </p:nvSpPr>
                <p:spPr>
                  <a:xfrm flipV="1">
                    <a:off x="1114200" y="4710960"/>
                    <a:ext cx="368280" cy="23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7" name=""/>
                <p:cNvSpPr/>
                <p:nvPr/>
              </p:nvSpPr>
              <p:spPr>
                <a:xfrm>
                  <a:off x="1146600" y="4952160"/>
                  <a:ext cx="42120" cy="39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428840" y="4952160"/>
                  <a:ext cx="44640" cy="39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1254240" y="4629240"/>
                <a:ext cx="93240" cy="77760"/>
                <a:chOff x="1254240" y="4629240"/>
                <a:chExt cx="93240" cy="777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1254240" y="4629240"/>
                  <a:ext cx="0" cy="777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347480" y="4629240"/>
                  <a:ext cx="0" cy="777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1584000" y="4757760"/>
              <a:ext cx="261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1" lang="en-GB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nd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Household Cavalry Regt       BG-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067280" y="1749240"/>
            <a:ext cx="3072960" cy="4326480"/>
            <a:chOff x="4067280" y="1749240"/>
            <a:chExt cx="3072960" cy="4326480"/>
          </a:xfrm>
        </p:grpSpPr>
        <p:sp>
          <p:nvSpPr>
            <p:cNvPr id="354" name=""/>
            <p:cNvSpPr/>
            <p:nvPr/>
          </p:nvSpPr>
          <p:spPr>
            <a:xfrm>
              <a:off x="4219560" y="4314960"/>
              <a:ext cx="29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09840" y="5952960"/>
              <a:ext cx="29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19560" y="4743360"/>
              <a:ext cx="29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09840" y="5143320"/>
              <a:ext cx="29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19560" y="5553000"/>
              <a:ext cx="29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4419360" y="4567320"/>
              <a:ext cx="347400" cy="299160"/>
              <a:chOff x="4419360" y="4567320"/>
              <a:chExt cx="347400" cy="299160"/>
            </a:xfrm>
          </p:grpSpPr>
          <p:sp>
            <p:nvSpPr>
              <p:cNvPr id="360" name=""/>
              <p:cNvSpPr/>
              <p:nvPr/>
            </p:nvSpPr>
            <p:spPr>
              <a:xfrm>
                <a:off x="4554360" y="45673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630320" y="45673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419360" y="4630680"/>
                <a:ext cx="347400" cy="23580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4422600" y="4635000"/>
                <a:ext cx="339480" cy="2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419360" y="4635360"/>
                <a:ext cx="34596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410000" y="4967280"/>
              <a:ext cx="347400" cy="299160"/>
              <a:chOff x="4410000" y="4967280"/>
              <a:chExt cx="347400" cy="299160"/>
            </a:xfrm>
          </p:grpSpPr>
          <p:sp>
            <p:nvSpPr>
              <p:cNvPr id="366" name=""/>
              <p:cNvSpPr/>
              <p:nvPr/>
            </p:nvSpPr>
            <p:spPr>
              <a:xfrm>
                <a:off x="4545000" y="49672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620960" y="49672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10000" y="5030640"/>
                <a:ext cx="347400" cy="23580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4413240" y="5034960"/>
                <a:ext cx="339480" cy="2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410000" y="5035320"/>
                <a:ext cx="34596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4676760" y="1749240"/>
              <a:ext cx="18903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32</a:t>
              </a:r>
              <a:r>
                <a:rPr b="1" lang="en-GB" sz="1200" spc="-1" strike="noStrike" u="sng" baseline="30000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nd</a:t>
              </a:r>
              <a:r>
                <a:rPr b="1" lang="en-GB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 Guards Infantry Bde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Brigadier GF Johnson)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11480" y="4668840"/>
              <a:ext cx="2228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r>
                <a:rPr b="1" lang="en-GB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n Coldstream Guards  BG-11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38400" y="5040360"/>
              <a:ext cx="2212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r>
                <a:rPr b="1" lang="en-GB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t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n Welsh Guards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         BG-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452840" y="5781600"/>
              <a:ext cx="304200" cy="294120"/>
              <a:chOff x="4452840" y="5781600"/>
              <a:chExt cx="304200" cy="294120"/>
            </a:xfrm>
          </p:grpSpPr>
          <p:sp>
            <p:nvSpPr>
              <p:cNvPr id="375" name=""/>
              <p:cNvSpPr/>
              <p:nvPr/>
            </p:nvSpPr>
            <p:spPr>
              <a:xfrm>
                <a:off x="4605120" y="57816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4452840" y="5848200"/>
                <a:ext cx="304200" cy="227520"/>
                <a:chOff x="4452840" y="5848200"/>
                <a:chExt cx="304200" cy="2275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452840" y="5848200"/>
                  <a:ext cx="304200" cy="2275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452840" y="5848200"/>
                  <a:ext cx="72720" cy="225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4452840" y="5852880"/>
                  <a:ext cx="299880" cy="21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454640" y="5848200"/>
                  <a:ext cx="298080" cy="22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4467240" y="4168800"/>
              <a:ext cx="304200" cy="246960"/>
              <a:chOff x="4467240" y="4168800"/>
              <a:chExt cx="304200" cy="24696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4552560" y="4168800"/>
                <a:ext cx="131040" cy="26640"/>
                <a:chOff x="4552560" y="4168800"/>
                <a:chExt cx="131040" cy="2664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4552560" y="416880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602960" y="416880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656960" y="416880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4467240" y="4215960"/>
                <a:ext cx="304200" cy="199800"/>
                <a:chOff x="4467240" y="4215960"/>
                <a:chExt cx="304200" cy="19980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4467240" y="4215960"/>
                  <a:ext cx="304200" cy="19980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>
                  <a:off x="4619880" y="4242960"/>
                  <a:ext cx="2880" cy="128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574520" y="4374720"/>
                  <a:ext cx="864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0" name=""/>
            <p:cNvSpPr/>
            <p:nvPr/>
          </p:nvSpPr>
          <p:spPr>
            <a:xfrm>
              <a:off x="4838400" y="4232160"/>
              <a:ext cx="227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x1 Mortar Platoon FSE-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24120" y="3781440"/>
              <a:ext cx="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14760" y="3171960"/>
              <a:ext cx="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24120" y="25621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19560" y="1866960"/>
              <a:ext cx="0" cy="408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4067280" y="1752120"/>
              <a:ext cx="304560" cy="282240"/>
              <a:chOff x="4067280" y="1752120"/>
              <a:chExt cx="304560" cy="28224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4067280" y="1828440"/>
                <a:ext cx="304560" cy="205920"/>
                <a:chOff x="4067280" y="1828440"/>
                <a:chExt cx="304560" cy="2059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4067280" y="1828440"/>
                  <a:ext cx="304560" cy="2059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4070160" y="1830960"/>
                  <a:ext cx="296640" cy="20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067280" y="1831320"/>
                  <a:ext cx="303120" cy="19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81400" y="1752120"/>
                <a:ext cx="76320" cy="63360"/>
                <a:chOff x="4181400" y="1752120"/>
                <a:chExt cx="76320" cy="63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181400" y="1752480"/>
                  <a:ext cx="76320" cy="63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4181400" y="1752120"/>
                  <a:ext cx="76320" cy="63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3" name=""/>
            <p:cNvGrpSpPr/>
            <p:nvPr/>
          </p:nvGrpSpPr>
          <p:grpSpPr>
            <a:xfrm>
              <a:off x="4485960" y="2352600"/>
              <a:ext cx="231480" cy="213480"/>
              <a:chOff x="4485960" y="2352600"/>
              <a:chExt cx="231480" cy="21348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4485960" y="2409120"/>
                <a:ext cx="231480" cy="156960"/>
                <a:chOff x="4485960" y="2409120"/>
                <a:chExt cx="231480" cy="15696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485960" y="2409120"/>
                  <a:ext cx="23148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509360" y="2431080"/>
                  <a:ext cx="183960" cy="110520"/>
                </a:xfrm>
                <a:prstGeom prst="rect">
                  <a:avLst/>
                </a:pr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4561920" y="2352600"/>
                <a:ext cx="73800" cy="26640"/>
                <a:chOff x="4561920" y="2352600"/>
                <a:chExt cx="73800" cy="266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561920" y="23526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609080" y="235260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0" name=""/>
            <p:cNvGrpSpPr/>
            <p:nvPr/>
          </p:nvGrpSpPr>
          <p:grpSpPr>
            <a:xfrm>
              <a:off x="4485960" y="2676600"/>
              <a:ext cx="239400" cy="227520"/>
              <a:chOff x="4485960" y="2676600"/>
              <a:chExt cx="239400" cy="22752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4485960" y="2714040"/>
                <a:ext cx="239400" cy="190080"/>
                <a:chOff x="4485960" y="2714040"/>
                <a:chExt cx="239400" cy="19008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4485960" y="2714040"/>
                  <a:ext cx="239400" cy="156960"/>
                  <a:chOff x="4485960" y="2714040"/>
                  <a:chExt cx="239400" cy="156960"/>
                </a:xfrm>
              </p:grpSpPr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4485960" y="2714400"/>
                    <a:ext cx="239400" cy="156600"/>
                    <a:chOff x="4485960" y="2714400"/>
                    <a:chExt cx="239400" cy="15660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4485960" y="2714400"/>
                      <a:ext cx="239400" cy="15660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4529880" y="2753640"/>
                      <a:ext cx="151200" cy="74520"/>
                    </a:xfrm>
                    <a:prstGeom prst="ellipse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6" name=""/>
                  <p:cNvSpPr/>
                  <p:nvPr/>
                </p:nvSpPr>
                <p:spPr>
                  <a:xfrm flipV="1">
                    <a:off x="4485960" y="2714040"/>
                    <a:ext cx="235800" cy="156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>
                  <a:off x="4506480" y="287748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687200" y="28774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4561920" y="2676600"/>
                <a:ext cx="73800" cy="26640"/>
                <a:chOff x="4561920" y="2676600"/>
                <a:chExt cx="73800" cy="266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4561920" y="26766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609080" y="267660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2" name=""/>
            <p:cNvGrpSpPr/>
            <p:nvPr/>
          </p:nvGrpSpPr>
          <p:grpSpPr>
            <a:xfrm>
              <a:off x="4485960" y="2962080"/>
              <a:ext cx="231480" cy="214200"/>
              <a:chOff x="4485960" y="2962080"/>
              <a:chExt cx="231480" cy="21420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4485960" y="3019320"/>
                <a:ext cx="231480" cy="156960"/>
                <a:chOff x="4485960" y="3019320"/>
                <a:chExt cx="231480" cy="1569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4485960" y="3019320"/>
                  <a:ext cx="23148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4488120" y="3021480"/>
                  <a:ext cx="22536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485960" y="3021480"/>
                  <a:ext cx="23040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4561920" y="2962080"/>
                <a:ext cx="73800" cy="27000"/>
                <a:chOff x="4561920" y="2962080"/>
                <a:chExt cx="73800" cy="2700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561920" y="29620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609080" y="29620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0" name=""/>
            <p:cNvGrpSpPr/>
            <p:nvPr/>
          </p:nvGrpSpPr>
          <p:grpSpPr>
            <a:xfrm>
              <a:off x="4485960" y="3267000"/>
              <a:ext cx="231480" cy="246960"/>
              <a:chOff x="4485960" y="3267000"/>
              <a:chExt cx="231480" cy="24696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4485960" y="3323520"/>
                <a:ext cx="231480" cy="190440"/>
                <a:chOff x="4485960" y="3323520"/>
                <a:chExt cx="231480" cy="1904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485960" y="3323520"/>
                  <a:ext cx="23148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496760" y="348696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677480" y="34869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561920" y="3267000"/>
                <a:ext cx="73800" cy="26640"/>
                <a:chOff x="4561920" y="3267000"/>
                <a:chExt cx="73800" cy="2664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4561920" y="32670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609080" y="326700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8" name=""/>
            <p:cNvGrpSpPr/>
            <p:nvPr/>
          </p:nvGrpSpPr>
          <p:grpSpPr>
            <a:xfrm>
              <a:off x="4485960" y="3629160"/>
              <a:ext cx="241200" cy="156600"/>
              <a:chOff x="4485960" y="3629160"/>
              <a:chExt cx="241200" cy="156600"/>
            </a:xfrm>
          </p:grpSpPr>
          <p:sp>
            <p:nvSpPr>
              <p:cNvPr id="439" name=""/>
              <p:cNvSpPr/>
              <p:nvPr/>
            </p:nvSpPr>
            <p:spPr>
              <a:xfrm>
                <a:off x="4487400" y="3629160"/>
                <a:ext cx="239760" cy="15660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4485960" y="3629880"/>
                <a:ext cx="115920" cy="15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601880" y="3629160"/>
                <a:ext cx="123480" cy="15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552560" y="3695400"/>
                <a:ext cx="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4485960" y="3933720"/>
              <a:ext cx="231480" cy="189720"/>
              <a:chOff x="4485960" y="3933720"/>
              <a:chExt cx="231480" cy="189720"/>
            </a:xfrm>
          </p:grpSpPr>
          <p:sp>
            <p:nvSpPr>
              <p:cNvPr id="444" name=""/>
              <p:cNvSpPr/>
              <p:nvPr/>
            </p:nvSpPr>
            <p:spPr>
              <a:xfrm>
                <a:off x="4485960" y="3933720"/>
                <a:ext cx="23148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96760" y="409680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677480" y="40968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4562280" y="3876480"/>
              <a:ext cx="73800" cy="26640"/>
              <a:chOff x="4562280" y="3876480"/>
              <a:chExt cx="73800" cy="26640"/>
            </a:xfrm>
          </p:grpSpPr>
          <p:sp>
            <p:nvSpPr>
              <p:cNvPr id="448" name=""/>
              <p:cNvSpPr/>
              <p:nvPr/>
            </p:nvSpPr>
            <p:spPr>
              <a:xfrm>
                <a:off x="4562280" y="38764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609440" y="387648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562280" y="3571920"/>
              <a:ext cx="73800" cy="26640"/>
              <a:chOff x="4562280" y="3571920"/>
              <a:chExt cx="73800" cy="26640"/>
            </a:xfrm>
          </p:grpSpPr>
          <p:sp>
            <p:nvSpPr>
              <p:cNvPr id="451" name=""/>
              <p:cNvSpPr/>
              <p:nvPr/>
            </p:nvSpPr>
            <p:spPr>
              <a:xfrm>
                <a:off x="4562280" y="35719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609440" y="357192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4228920" y="2486160"/>
              <a:ext cx="25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219560" y="3095640"/>
              <a:ext cx="266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09840" y="3705120"/>
              <a:ext cx="29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98520" y="2266920"/>
              <a:ext cx="21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er                                         BR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01760" y="2571840"/>
              <a:ext cx="213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Daimler Dingo Scout Car                    BR-3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99240" y="2952720"/>
              <a:ext cx="217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Infantry (1 with PIAT)                           BR-4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96720" y="3181320"/>
              <a:ext cx="216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15cwt Trucks                                       BR-4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04640" y="3657600"/>
              <a:ext cx="220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20mm Polsten or Hispano AA Gun     BR-P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96720" y="3848040"/>
              <a:ext cx="219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15cwt Truck                                          BR-4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56040" y="4429080"/>
              <a:ext cx="829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BATTLE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98520" y="2149560"/>
              <a:ext cx="851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HEADQUART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419360" y="5384880"/>
              <a:ext cx="304560" cy="281880"/>
              <a:chOff x="4419360" y="5384880"/>
              <a:chExt cx="304560" cy="28188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4419360" y="5460840"/>
                <a:ext cx="304560" cy="205920"/>
                <a:chOff x="4419360" y="5460840"/>
                <a:chExt cx="304560" cy="2059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4419360" y="5460840"/>
                  <a:ext cx="304560" cy="2059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4422240" y="5463360"/>
                  <a:ext cx="296640" cy="20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419360" y="5463720"/>
                  <a:ext cx="303120" cy="19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"/>
              <p:cNvSpPr/>
              <p:nvPr/>
            </p:nvSpPr>
            <p:spPr>
              <a:xfrm>
                <a:off x="4571640" y="5384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4867200" y="5497560"/>
              <a:ext cx="221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 company 4th Scots guards ME-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3943440" y="2781360"/>
            <a:ext cx="3608280" cy="1225440"/>
            <a:chOff x="3943440" y="2781360"/>
            <a:chExt cx="3608280" cy="1225440"/>
          </a:xfrm>
        </p:grpSpPr>
        <p:sp>
          <p:nvSpPr>
            <p:cNvPr id="472" name=""/>
            <p:cNvSpPr/>
            <p:nvPr/>
          </p:nvSpPr>
          <p:spPr>
            <a:xfrm>
              <a:off x="4098960" y="3011400"/>
              <a:ext cx="0" cy="87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86040" y="2781360"/>
              <a:ext cx="181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9900"/>
                  </a:solidFill>
                  <a:latin typeface="Arial"/>
                </a:rPr>
                <a:t>MANEUVER ELEMENT 05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81360" y="2935440"/>
              <a:ext cx="1735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rmoured Recce Troop 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3943440" y="2795760"/>
              <a:ext cx="291960" cy="236520"/>
              <a:chOff x="3943440" y="2795760"/>
              <a:chExt cx="291960" cy="23652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4022640" y="2795760"/>
                <a:ext cx="131040" cy="27000"/>
                <a:chOff x="4022640" y="2795760"/>
                <a:chExt cx="131040" cy="270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4022640" y="279576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073040" y="279576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127040" y="279576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3943440" y="2841480"/>
                <a:ext cx="291960" cy="190800"/>
                <a:chOff x="3943440" y="2841480"/>
                <a:chExt cx="291960" cy="190800"/>
              </a:xfrm>
            </p:grpSpPr>
            <p:grpSp>
              <p:nvGrpSpPr>
                <p:cNvPr id="481" name=""/>
                <p:cNvGrpSpPr/>
                <p:nvPr/>
              </p:nvGrpSpPr>
              <p:grpSpPr>
                <a:xfrm>
                  <a:off x="3943440" y="2841840"/>
                  <a:ext cx="291960" cy="190440"/>
                  <a:chOff x="3943440" y="2841840"/>
                  <a:chExt cx="291960" cy="19044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>
                    <a:off x="3943440" y="2841840"/>
                    <a:ext cx="291960" cy="19044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3997080" y="2889360"/>
                    <a:ext cx="184320" cy="90720"/>
                  </a:xfrm>
                  <a:prstGeom prst="ellips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4" name=""/>
                <p:cNvSpPr/>
                <p:nvPr/>
              </p:nvSpPr>
              <p:spPr>
                <a:xfrm flipV="1">
                  <a:off x="3943440" y="2841480"/>
                  <a:ext cx="2876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5" name=""/>
            <p:cNvGrpSpPr/>
            <p:nvPr/>
          </p:nvGrpSpPr>
          <p:grpSpPr>
            <a:xfrm>
              <a:off x="4089240" y="3070440"/>
              <a:ext cx="3459240" cy="367920"/>
              <a:chOff x="4089240" y="3070440"/>
              <a:chExt cx="3459240" cy="367920"/>
            </a:xfrm>
          </p:grpSpPr>
          <p:sp>
            <p:nvSpPr>
              <p:cNvPr id="486" name=""/>
              <p:cNvSpPr/>
              <p:nvPr/>
            </p:nvSpPr>
            <p:spPr>
              <a:xfrm>
                <a:off x="4089240" y="3251160"/>
                <a:ext cx="406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384440" y="3121200"/>
                <a:ext cx="239760" cy="203040"/>
                <a:chOff x="4384440" y="3121200"/>
                <a:chExt cx="239760" cy="203040"/>
              </a:xfrm>
            </p:grpSpPr>
            <p:grpSp>
              <p:nvGrpSpPr>
                <p:cNvPr id="488" name=""/>
                <p:cNvGrpSpPr/>
                <p:nvPr/>
              </p:nvGrpSpPr>
              <p:grpSpPr>
                <a:xfrm>
                  <a:off x="4384440" y="3167280"/>
                  <a:ext cx="239760" cy="156960"/>
                  <a:chOff x="4384440" y="3167280"/>
                  <a:chExt cx="239760" cy="156960"/>
                </a:xfrm>
              </p:grpSpPr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4384440" y="3167280"/>
                    <a:ext cx="239760" cy="156960"/>
                    <a:chOff x="4384440" y="3167280"/>
                    <a:chExt cx="239760" cy="15696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>
                      <a:off x="4384440" y="3167280"/>
                      <a:ext cx="239760" cy="15696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>
                      <a:off x="4428360" y="3206520"/>
                      <a:ext cx="151560" cy="74880"/>
                    </a:xfrm>
                    <a:prstGeom prst="ellipse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2" name=""/>
                  <p:cNvSpPr/>
                  <p:nvPr/>
                </p:nvSpPr>
                <p:spPr>
                  <a:xfrm flipV="1">
                    <a:off x="4384440" y="3167280"/>
                    <a:ext cx="236160" cy="156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4466880" y="3121200"/>
                  <a:ext cx="74160" cy="27000"/>
                  <a:chOff x="4466880" y="3121200"/>
                  <a:chExt cx="74160" cy="27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4466880" y="31212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4514400" y="312120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6" name=""/>
              <p:cNvSpPr/>
              <p:nvPr/>
            </p:nvSpPr>
            <p:spPr>
              <a:xfrm>
                <a:off x="4646520" y="3070440"/>
                <a:ext cx="185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cc9900"/>
                    </a:solidFill>
                    <a:latin typeface="Arial"/>
                  </a:rPr>
                  <a:t>Command/Rec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646520" y="3222720"/>
                <a:ext cx="2901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Stuart III/V/VI Light Tank               BR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4092480" y="359100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4387680" y="3460680"/>
              <a:ext cx="239760" cy="203040"/>
              <a:chOff x="4387680" y="3460680"/>
              <a:chExt cx="239760" cy="20304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4387680" y="3506760"/>
                <a:ext cx="239760" cy="156960"/>
                <a:chOff x="4387680" y="3506760"/>
                <a:chExt cx="239760" cy="156960"/>
              </a:xfrm>
            </p:grpSpPr>
            <p:grpSp>
              <p:nvGrpSpPr>
                <p:cNvPr id="501" name=""/>
                <p:cNvGrpSpPr/>
                <p:nvPr/>
              </p:nvGrpSpPr>
              <p:grpSpPr>
                <a:xfrm>
                  <a:off x="4387680" y="3506760"/>
                  <a:ext cx="239760" cy="156960"/>
                  <a:chOff x="4387680" y="3506760"/>
                  <a:chExt cx="239760" cy="15696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4387680" y="3506760"/>
                    <a:ext cx="23976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4431600" y="3546000"/>
                    <a:ext cx="151560" cy="74880"/>
                  </a:xfrm>
                  <a:prstGeom prst="ellips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4" name=""/>
                <p:cNvSpPr/>
                <p:nvPr/>
              </p:nvSpPr>
              <p:spPr>
                <a:xfrm flipV="1">
                  <a:off x="4387680" y="3506760"/>
                  <a:ext cx="23616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4470120" y="3460680"/>
                <a:ext cx="74160" cy="27000"/>
                <a:chOff x="4470120" y="3460680"/>
                <a:chExt cx="74160" cy="2700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4470120" y="34606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4517640" y="34606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8" name=""/>
            <p:cNvSpPr/>
            <p:nvPr/>
          </p:nvSpPr>
          <p:spPr>
            <a:xfrm>
              <a:off x="4649760" y="3343320"/>
              <a:ext cx="1854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Re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49760" y="3495600"/>
              <a:ext cx="290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Stuart III/V/VI Light Tank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)     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83120" y="3886200"/>
              <a:ext cx="40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640040" y="3791160"/>
              <a:ext cx="290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Humber S/C                                   BR-3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4389480" y="3748320"/>
              <a:ext cx="239760" cy="241920"/>
              <a:chOff x="4389480" y="3748320"/>
              <a:chExt cx="239760" cy="24192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4471920" y="3748320"/>
                <a:ext cx="74160" cy="26640"/>
                <a:chOff x="4471920" y="3748320"/>
                <a:chExt cx="74160" cy="266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471920" y="37483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519440" y="37483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4389480" y="3800160"/>
                <a:ext cx="239760" cy="190080"/>
                <a:chOff x="4389480" y="3800160"/>
                <a:chExt cx="239760" cy="190080"/>
              </a:xfrm>
            </p:grpSpPr>
            <p:grpSp>
              <p:nvGrpSpPr>
                <p:cNvPr id="517" name=""/>
                <p:cNvGrpSpPr/>
                <p:nvPr/>
              </p:nvGrpSpPr>
              <p:grpSpPr>
                <a:xfrm>
                  <a:off x="4389480" y="3800160"/>
                  <a:ext cx="239760" cy="156960"/>
                  <a:chOff x="4389480" y="3800160"/>
                  <a:chExt cx="239760" cy="156960"/>
                </a:xfrm>
              </p:grpSpPr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4389480" y="3800520"/>
                    <a:ext cx="239760" cy="156600"/>
                    <a:chOff x="4389480" y="3800520"/>
                    <a:chExt cx="239760" cy="15660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4389480" y="3800520"/>
                      <a:ext cx="239760" cy="15660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4433400" y="3839760"/>
                      <a:ext cx="151560" cy="74520"/>
                    </a:xfrm>
                    <a:prstGeom prst="ellipse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1" name=""/>
                  <p:cNvSpPr/>
                  <p:nvPr/>
                </p:nvSpPr>
                <p:spPr>
                  <a:xfrm flipV="1">
                    <a:off x="4389480" y="3800160"/>
                    <a:ext cx="236160" cy="156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2" name=""/>
                <p:cNvSpPr/>
                <p:nvPr/>
              </p:nvSpPr>
              <p:spPr>
                <a:xfrm>
                  <a:off x="4410360" y="39636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591080" y="3963600"/>
                  <a:ext cx="288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24" name=""/>
          <p:cNvGrpSpPr/>
          <p:nvPr/>
        </p:nvGrpSpPr>
        <p:grpSpPr>
          <a:xfrm>
            <a:off x="890640" y="1092240"/>
            <a:ext cx="3007440" cy="2174040"/>
            <a:chOff x="890640" y="1092240"/>
            <a:chExt cx="3007440" cy="2174040"/>
          </a:xfrm>
        </p:grpSpPr>
        <p:sp>
          <p:nvSpPr>
            <p:cNvPr id="525" name=""/>
            <p:cNvSpPr/>
            <p:nvPr/>
          </p:nvSpPr>
          <p:spPr>
            <a:xfrm>
              <a:off x="1069920" y="1322640"/>
              <a:ext cx="0" cy="177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890640" y="1092240"/>
              <a:ext cx="347040" cy="296640"/>
              <a:chOff x="890640" y="1092240"/>
              <a:chExt cx="347040" cy="296640"/>
            </a:xfrm>
          </p:grpSpPr>
          <p:grpSp>
            <p:nvGrpSpPr>
              <p:cNvPr id="527" name=""/>
              <p:cNvGrpSpPr/>
              <p:nvPr/>
            </p:nvGrpSpPr>
            <p:grpSpPr>
              <a:xfrm>
                <a:off x="890640" y="1152720"/>
                <a:ext cx="347040" cy="236160"/>
                <a:chOff x="890640" y="1152720"/>
                <a:chExt cx="347040" cy="23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890640" y="1152720"/>
                  <a:ext cx="347040" cy="236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954360" y="1211760"/>
                  <a:ext cx="222840" cy="1126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1025280" y="1092240"/>
                <a:ext cx="75960" cy="63360"/>
                <a:chOff x="1025280" y="1092240"/>
                <a:chExt cx="75960" cy="633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1025280" y="10922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101240" y="10922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3" name=""/>
            <p:cNvSpPr/>
            <p:nvPr/>
          </p:nvSpPr>
          <p:spPr>
            <a:xfrm>
              <a:off x="1635840" y="1108080"/>
              <a:ext cx="65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9900"/>
                  </a:solidFill>
                  <a:latin typeface="Arial"/>
                </a:rPr>
                <a:t>BG-07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634760" y="1303560"/>
              <a:ext cx="207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rmoured Regiment (Sherma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1058760" y="2406960"/>
              <a:ext cx="2688120" cy="859320"/>
              <a:chOff x="1058760" y="2406960"/>
              <a:chExt cx="2688120" cy="85932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1061640" y="2531880"/>
                <a:ext cx="2685240" cy="345600"/>
                <a:chOff x="1061640" y="2531880"/>
                <a:chExt cx="2685240" cy="345600"/>
              </a:xfrm>
            </p:grpSpPr>
            <p:grpSp>
              <p:nvGrpSpPr>
                <p:cNvPr id="537" name=""/>
                <p:cNvGrpSpPr/>
                <p:nvPr/>
              </p:nvGrpSpPr>
              <p:grpSpPr>
                <a:xfrm>
                  <a:off x="1061640" y="2531880"/>
                  <a:ext cx="2685240" cy="345600"/>
                  <a:chOff x="1061640" y="2531880"/>
                  <a:chExt cx="2685240" cy="34560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>
                    <a:off x="1061640" y="2727000"/>
                    <a:ext cx="320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1604160" y="2661840"/>
                    <a:ext cx="21427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3 Armoured Squadron               ME-01G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1618560" y="2531880"/>
                    <a:ext cx="17344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cc9900"/>
                        </a:solidFill>
                        <a:latin typeface="Arial"/>
                      </a:rPr>
                      <a:t>ME-G01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1355040" y="2566440"/>
                  <a:ext cx="283680" cy="264960"/>
                  <a:chOff x="1355040" y="2566440"/>
                  <a:chExt cx="283680" cy="26496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>
                    <a:off x="1496160" y="25664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1355040" y="2637720"/>
                    <a:ext cx="283680" cy="193680"/>
                    <a:chOff x="1355040" y="2637720"/>
                    <a:chExt cx="283680" cy="19368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1355040" y="2637720"/>
                      <a:ext cx="283680" cy="19368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1406880" y="2685960"/>
                      <a:ext cx="181800" cy="92520"/>
                    </a:xfrm>
                    <a:prstGeom prst="ellipse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080" bIns="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46" name=""/>
              <p:cNvGrpSpPr/>
              <p:nvPr/>
            </p:nvGrpSpPr>
            <p:grpSpPr>
              <a:xfrm>
                <a:off x="1058760" y="2921040"/>
                <a:ext cx="2685240" cy="345240"/>
                <a:chOff x="1058760" y="2921040"/>
                <a:chExt cx="2685240" cy="34524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058760" y="3115800"/>
                  <a:ext cx="320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601280" y="3050640"/>
                  <a:ext cx="21427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Armoured Recce Troop          ME-05G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615680" y="2921040"/>
                  <a:ext cx="17348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cc9900"/>
                      </a:solidFill>
                      <a:latin typeface="Arial"/>
                    </a:rPr>
                    <a:t>ME-05G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1347480" y="2972880"/>
                  <a:ext cx="291600" cy="237600"/>
                  <a:chOff x="1347480" y="2972880"/>
                  <a:chExt cx="291600" cy="237600"/>
                </a:xfrm>
              </p:grpSpPr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1426320" y="2972880"/>
                    <a:ext cx="131040" cy="26640"/>
                    <a:chOff x="1426320" y="2972880"/>
                    <a:chExt cx="131040" cy="2664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1426320" y="297288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1476720" y="297288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1530720" y="297288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1347480" y="3019680"/>
                    <a:ext cx="291600" cy="190800"/>
                    <a:chOff x="1347480" y="3019680"/>
                    <a:chExt cx="291600" cy="190800"/>
                  </a:xfrm>
                </p:grpSpPr>
                <p:grpSp>
                  <p:nvGrpSpPr>
                    <p:cNvPr id="556" name=""/>
                    <p:cNvGrpSpPr/>
                    <p:nvPr/>
                  </p:nvGrpSpPr>
                  <p:grpSpPr>
                    <a:xfrm>
                      <a:off x="1347480" y="3020040"/>
                      <a:ext cx="291600" cy="190440"/>
                      <a:chOff x="1347480" y="3020040"/>
                      <a:chExt cx="291600" cy="190440"/>
                    </a:xfrm>
                  </p:grpSpPr>
                  <p:sp>
                    <p:nvSpPr>
                      <p:cNvPr id="557" name=""/>
                      <p:cNvSpPr/>
                      <p:nvPr/>
                    </p:nvSpPr>
                    <p:spPr>
                      <a:xfrm>
                        <a:off x="1347480" y="3020040"/>
                        <a:ext cx="291600" cy="190440"/>
                      </a:xfrm>
                      <a:prstGeom prst="rect">
                        <a:avLst/>
                      </a:prstGeom>
                      <a:solidFill>
                        <a:srgbClr val="cc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8" name=""/>
                      <p:cNvSpPr/>
                      <p:nvPr/>
                    </p:nvSpPr>
                    <p:spPr>
                      <a:xfrm>
                        <a:off x="1401120" y="3067560"/>
                        <a:ext cx="184320" cy="90720"/>
                      </a:xfrm>
                      <a:prstGeom prst="ellipse">
                        <a:avLst/>
                      </a:prstGeom>
                      <a:solidFill>
                        <a:srgbClr val="cc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7280" bIns="17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59" name=""/>
                    <p:cNvSpPr/>
                    <p:nvPr/>
                  </p:nvSpPr>
                  <p:spPr>
                    <a:xfrm flipV="1">
                      <a:off x="1347480" y="3019680"/>
                      <a:ext cx="287280" cy="190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60" name=""/>
              <p:cNvSpPr/>
              <p:nvPr/>
            </p:nvSpPr>
            <p:spPr>
              <a:xfrm>
                <a:off x="1617120" y="2406960"/>
                <a:ext cx="173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cc9900"/>
                    </a:solidFill>
                    <a:latin typeface="Arial"/>
                  </a:rPr>
                  <a:t>MANEUVER ELE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1063440" y="1967040"/>
              <a:ext cx="2834640" cy="226800"/>
              <a:chOff x="1063440" y="1967040"/>
              <a:chExt cx="2834640" cy="22680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1063440" y="1978200"/>
                <a:ext cx="2834640" cy="215640"/>
                <a:chOff x="1063440" y="1978200"/>
                <a:chExt cx="2834640" cy="2156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1063440" y="2104920"/>
                  <a:ext cx="406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603080" y="1978200"/>
                  <a:ext cx="2295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Sherman Dozer                                BR-??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1401480" y="1967040"/>
                <a:ext cx="231120" cy="206280"/>
                <a:chOff x="1401480" y="1967040"/>
                <a:chExt cx="231120" cy="206280"/>
              </a:xfrm>
            </p:grpSpPr>
            <p:grpSp>
              <p:nvGrpSpPr>
                <p:cNvPr id="566" name=""/>
                <p:cNvGrpSpPr/>
                <p:nvPr/>
              </p:nvGrpSpPr>
              <p:grpSpPr>
                <a:xfrm>
                  <a:off x="1401480" y="2016360"/>
                  <a:ext cx="231120" cy="156960"/>
                  <a:chOff x="1401480" y="2016360"/>
                  <a:chExt cx="231120" cy="15696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>
                    <a:off x="1401480" y="2016360"/>
                    <a:ext cx="23112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1443600" y="2055600"/>
                    <a:ext cx="148320" cy="74880"/>
                  </a:xfrm>
                  <a:prstGeom prst="ellips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1478880" y="1967040"/>
                  <a:ext cx="73800" cy="27000"/>
                  <a:chOff x="1478880" y="1967040"/>
                  <a:chExt cx="73800" cy="2700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>
                    <a:off x="1478880" y="19670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1526040" y="196704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72" name=""/>
            <p:cNvGrpSpPr/>
            <p:nvPr/>
          </p:nvGrpSpPr>
          <p:grpSpPr>
            <a:xfrm>
              <a:off x="1060200" y="1616400"/>
              <a:ext cx="2834640" cy="318600"/>
              <a:chOff x="1060200" y="1616400"/>
              <a:chExt cx="2834640" cy="31860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1060200" y="1719360"/>
                <a:ext cx="2834640" cy="215640"/>
                <a:chOff x="1060200" y="1719360"/>
                <a:chExt cx="2834640" cy="21564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1060200" y="1845720"/>
                  <a:ext cx="406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599840" y="1719360"/>
                  <a:ext cx="2295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Sherman V 75mm Cruiser Tank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BR-0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1401480" y="1708200"/>
                <a:ext cx="231120" cy="202320"/>
                <a:chOff x="1401480" y="1708200"/>
                <a:chExt cx="231120" cy="20232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1504440" y="170820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8" name=""/>
                <p:cNvGrpSpPr/>
                <p:nvPr/>
              </p:nvGrpSpPr>
              <p:grpSpPr>
                <a:xfrm>
                  <a:off x="1401480" y="1753920"/>
                  <a:ext cx="231120" cy="156600"/>
                  <a:chOff x="1401480" y="1753920"/>
                  <a:chExt cx="231120" cy="15660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>
                    <a:off x="1401480" y="1753920"/>
                    <a:ext cx="231120" cy="15660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1443600" y="1793160"/>
                    <a:ext cx="148320" cy="74520"/>
                  </a:xfrm>
                  <a:prstGeom prst="ellips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81" name=""/>
              <p:cNvSpPr/>
              <p:nvPr/>
            </p:nvSpPr>
            <p:spPr>
              <a:xfrm>
                <a:off x="1631520" y="1616400"/>
                <a:ext cx="185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cc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1063440" y="2136960"/>
              <a:ext cx="2834640" cy="318960"/>
              <a:chOff x="1063440" y="2136960"/>
              <a:chExt cx="2834640" cy="318960"/>
            </a:xfrm>
          </p:grpSpPr>
          <p:grpSp>
            <p:nvGrpSpPr>
              <p:cNvPr id="583" name=""/>
              <p:cNvGrpSpPr/>
              <p:nvPr/>
            </p:nvGrpSpPr>
            <p:grpSpPr>
              <a:xfrm>
                <a:off x="1063440" y="2237040"/>
                <a:ext cx="2834640" cy="218880"/>
                <a:chOff x="1063440" y="2237040"/>
                <a:chExt cx="2834640" cy="218880"/>
              </a:xfrm>
            </p:grpSpPr>
            <p:grpSp>
              <p:nvGrpSpPr>
                <p:cNvPr id="584" name=""/>
                <p:cNvGrpSpPr/>
                <p:nvPr/>
              </p:nvGrpSpPr>
              <p:grpSpPr>
                <a:xfrm>
                  <a:off x="1063440" y="2240280"/>
                  <a:ext cx="2834640" cy="215640"/>
                  <a:chOff x="1063440" y="2240280"/>
                  <a:chExt cx="2834640" cy="21564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>
                    <a:off x="1063440" y="2367000"/>
                    <a:ext cx="406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1603080" y="2240280"/>
                    <a:ext cx="22950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Sherman or Ram OP Tank FSE02   BR-3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1401480" y="2237040"/>
                  <a:ext cx="231120" cy="203400"/>
                  <a:chOff x="1401480" y="2237040"/>
                  <a:chExt cx="231120" cy="203400"/>
                </a:xfrm>
              </p:grpSpPr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1401480" y="2283120"/>
                    <a:ext cx="231120" cy="157320"/>
                    <a:chOff x="1401480" y="2283120"/>
                    <a:chExt cx="231120" cy="157320"/>
                  </a:xfrm>
                </p:grpSpPr>
                <p:sp>
                  <p:nvSpPr>
                    <p:cNvPr id="589" name=""/>
                    <p:cNvSpPr/>
                    <p:nvPr/>
                  </p:nvSpPr>
                  <p:spPr>
                    <a:xfrm>
                      <a:off x="1401480" y="2283120"/>
                      <a:ext cx="231120" cy="15732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>
                      <a:off x="1443600" y="2322360"/>
                      <a:ext cx="148320" cy="74880"/>
                    </a:xfrm>
                    <a:prstGeom prst="ellipse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1" name=""/>
                  <p:cNvSpPr/>
                  <p:nvPr/>
                </p:nvSpPr>
                <p:spPr>
                  <a:xfrm>
                    <a:off x="1499400" y="2338920"/>
                    <a:ext cx="36360" cy="349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1504080" y="223704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93" name=""/>
              <p:cNvSpPr/>
              <p:nvPr/>
            </p:nvSpPr>
            <p:spPr>
              <a:xfrm>
                <a:off x="1612440" y="2136960"/>
                <a:ext cx="185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cc9900"/>
                    </a:solidFill>
                    <a:latin typeface="Arial"/>
                  </a:rPr>
                  <a:t>Fire Support 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1630080" y="1473480"/>
              <a:ext cx="1734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3944880" y="1197000"/>
            <a:ext cx="3601440" cy="1458000"/>
            <a:chOff x="3944880" y="1197000"/>
            <a:chExt cx="3601440" cy="1458000"/>
          </a:xfrm>
        </p:grpSpPr>
        <p:grpSp>
          <p:nvGrpSpPr>
            <p:cNvPr id="596" name=""/>
            <p:cNvGrpSpPr/>
            <p:nvPr/>
          </p:nvGrpSpPr>
          <p:grpSpPr>
            <a:xfrm>
              <a:off x="4086000" y="1537920"/>
              <a:ext cx="3459240" cy="367920"/>
              <a:chOff x="4086000" y="1537920"/>
              <a:chExt cx="3459240" cy="367920"/>
            </a:xfrm>
          </p:grpSpPr>
          <p:sp>
            <p:nvSpPr>
              <p:cNvPr id="597" name=""/>
              <p:cNvSpPr/>
              <p:nvPr/>
            </p:nvSpPr>
            <p:spPr>
              <a:xfrm>
                <a:off x="4086000" y="1718640"/>
                <a:ext cx="406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8" name=""/>
              <p:cNvGrpSpPr/>
              <p:nvPr/>
            </p:nvGrpSpPr>
            <p:grpSpPr>
              <a:xfrm>
                <a:off x="4329000" y="1593360"/>
                <a:ext cx="231840" cy="204120"/>
                <a:chOff x="4329000" y="1593360"/>
                <a:chExt cx="231840" cy="204120"/>
              </a:xfrm>
            </p:grpSpPr>
            <p:grpSp>
              <p:nvGrpSpPr>
                <p:cNvPr id="599" name=""/>
                <p:cNvGrpSpPr/>
                <p:nvPr/>
              </p:nvGrpSpPr>
              <p:grpSpPr>
                <a:xfrm>
                  <a:off x="4329000" y="1640520"/>
                  <a:ext cx="231840" cy="156960"/>
                  <a:chOff x="4329000" y="1640520"/>
                  <a:chExt cx="231840" cy="15696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>
                    <a:off x="4329000" y="1640520"/>
                    <a:ext cx="23184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4371480" y="1679760"/>
                    <a:ext cx="148680" cy="74880"/>
                  </a:xfrm>
                  <a:prstGeom prst="ellips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4408560" y="1593360"/>
                  <a:ext cx="74160" cy="26640"/>
                  <a:chOff x="4408560" y="1593360"/>
                  <a:chExt cx="74160" cy="266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4408560" y="15933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4456080" y="159336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05" name=""/>
              <p:cNvSpPr/>
              <p:nvPr/>
            </p:nvSpPr>
            <p:spPr>
              <a:xfrm>
                <a:off x="4643280" y="1537920"/>
                <a:ext cx="1854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cc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643280" y="1690200"/>
                <a:ext cx="2901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Sherman V 75mm Cruiser Tank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BR-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4086000" y="1873080"/>
              <a:ext cx="3459240" cy="252000"/>
              <a:chOff x="4086000" y="1873080"/>
              <a:chExt cx="3459240" cy="252000"/>
            </a:xfrm>
          </p:grpSpPr>
          <p:sp>
            <p:nvSpPr>
              <p:cNvPr id="608" name=""/>
              <p:cNvSpPr/>
              <p:nvPr/>
            </p:nvSpPr>
            <p:spPr>
              <a:xfrm>
                <a:off x="4086000" y="2004840"/>
                <a:ext cx="406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9" name=""/>
              <p:cNvGrpSpPr/>
              <p:nvPr/>
            </p:nvGrpSpPr>
            <p:grpSpPr>
              <a:xfrm>
                <a:off x="4340160" y="1873080"/>
                <a:ext cx="231840" cy="204120"/>
                <a:chOff x="4340160" y="1873080"/>
                <a:chExt cx="231840" cy="204120"/>
              </a:xfrm>
            </p:grpSpPr>
            <p:grpSp>
              <p:nvGrpSpPr>
                <p:cNvPr id="610" name=""/>
                <p:cNvGrpSpPr/>
                <p:nvPr/>
              </p:nvGrpSpPr>
              <p:grpSpPr>
                <a:xfrm>
                  <a:off x="4340160" y="1920240"/>
                  <a:ext cx="231840" cy="156960"/>
                  <a:chOff x="4340160" y="1920240"/>
                  <a:chExt cx="231840" cy="156960"/>
                </a:xfrm>
              </p:grpSpPr>
              <p:sp>
                <p:nvSpPr>
                  <p:cNvPr id="611" name=""/>
                  <p:cNvSpPr/>
                  <p:nvPr/>
                </p:nvSpPr>
                <p:spPr>
                  <a:xfrm>
                    <a:off x="4340160" y="1920240"/>
                    <a:ext cx="23184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4382640" y="1959480"/>
                    <a:ext cx="148680" cy="74880"/>
                  </a:xfrm>
                  <a:prstGeom prst="ellips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3" name=""/>
                <p:cNvGrpSpPr/>
                <p:nvPr/>
              </p:nvGrpSpPr>
              <p:grpSpPr>
                <a:xfrm>
                  <a:off x="4419720" y="1873080"/>
                  <a:ext cx="74160" cy="26640"/>
                  <a:chOff x="4419720" y="1873080"/>
                  <a:chExt cx="74160" cy="2664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>
                    <a:off x="4419720" y="18730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4467240" y="187308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16" name=""/>
              <p:cNvSpPr/>
              <p:nvPr/>
            </p:nvSpPr>
            <p:spPr>
              <a:xfrm>
                <a:off x="4643280" y="1909440"/>
                <a:ext cx="2901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6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Sherman V 75mm Cruiser Tank          BR-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4087800" y="2133360"/>
              <a:ext cx="3458520" cy="232920"/>
              <a:chOff x="4087800" y="2133360"/>
              <a:chExt cx="3458520" cy="232920"/>
            </a:xfrm>
          </p:grpSpPr>
          <p:sp>
            <p:nvSpPr>
              <p:cNvPr id="618" name=""/>
              <p:cNvSpPr/>
              <p:nvPr/>
            </p:nvSpPr>
            <p:spPr>
              <a:xfrm>
                <a:off x="4087800" y="2264760"/>
                <a:ext cx="406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9" name=""/>
              <p:cNvGrpSpPr/>
              <p:nvPr/>
            </p:nvGrpSpPr>
            <p:grpSpPr>
              <a:xfrm>
                <a:off x="4341600" y="2133360"/>
                <a:ext cx="231480" cy="204120"/>
                <a:chOff x="4341600" y="2133360"/>
                <a:chExt cx="231480" cy="204120"/>
              </a:xfrm>
            </p:grpSpPr>
            <p:grpSp>
              <p:nvGrpSpPr>
                <p:cNvPr id="620" name=""/>
                <p:cNvGrpSpPr/>
                <p:nvPr/>
              </p:nvGrpSpPr>
              <p:grpSpPr>
                <a:xfrm>
                  <a:off x="4341600" y="2180520"/>
                  <a:ext cx="231480" cy="156960"/>
                  <a:chOff x="4341600" y="2180520"/>
                  <a:chExt cx="231480" cy="15696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>
                    <a:off x="4341600" y="2180520"/>
                    <a:ext cx="23148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4384080" y="2219760"/>
                    <a:ext cx="148320" cy="74880"/>
                  </a:xfrm>
                  <a:prstGeom prst="ellips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4420800" y="2133360"/>
                  <a:ext cx="73800" cy="26640"/>
                  <a:chOff x="4420800" y="2133360"/>
                  <a:chExt cx="73800" cy="2664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4420800" y="21333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4467960" y="213336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26" name=""/>
              <p:cNvSpPr/>
              <p:nvPr/>
            </p:nvSpPr>
            <p:spPr>
              <a:xfrm>
                <a:off x="4644720" y="2150640"/>
                <a:ext cx="2901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Sherman ‘Firefly’ 17pdr Tank              BR-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4087800" y="258264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95720" y="1409400"/>
              <a:ext cx="0" cy="116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647960" y="1199880"/>
              <a:ext cx="182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9900"/>
                  </a:solidFill>
                  <a:latin typeface="Arial"/>
                </a:rPr>
                <a:t>MANEUVER ELEMENT-01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643280" y="1361880"/>
              <a:ext cx="200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rmoured (Sherman) Squadr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3944880" y="1197000"/>
              <a:ext cx="284040" cy="251640"/>
              <a:chOff x="3944880" y="1197000"/>
              <a:chExt cx="284040" cy="251640"/>
            </a:xfrm>
          </p:grpSpPr>
          <p:sp>
            <p:nvSpPr>
              <p:cNvPr id="632" name=""/>
              <p:cNvSpPr/>
              <p:nvPr/>
            </p:nvSpPr>
            <p:spPr>
              <a:xfrm>
                <a:off x="4097160" y="119700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3944880" y="1255320"/>
                <a:ext cx="284040" cy="193320"/>
                <a:chOff x="3944880" y="1255320"/>
                <a:chExt cx="284040" cy="19332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3944880" y="1255320"/>
                  <a:ext cx="284040" cy="193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996720" y="1303560"/>
                  <a:ext cx="182160" cy="9216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6" name=""/>
            <p:cNvSpPr/>
            <p:nvPr/>
          </p:nvSpPr>
          <p:spPr>
            <a:xfrm>
              <a:off x="4785480" y="2511360"/>
              <a:ext cx="207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SP AT Troop                                  ME-09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805280" y="2374560"/>
              <a:ext cx="1735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ATTACH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4300560" y="2400120"/>
              <a:ext cx="304200" cy="254880"/>
              <a:chOff x="4300560" y="2400120"/>
              <a:chExt cx="304200" cy="25488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4300560" y="2457000"/>
                <a:ext cx="304200" cy="198000"/>
                <a:chOff x="4300560" y="2457000"/>
                <a:chExt cx="304200" cy="19800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4302000" y="2457000"/>
                  <a:ext cx="302760" cy="19800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339800" y="2500200"/>
                  <a:ext cx="216720" cy="9432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V="1">
                  <a:off x="4300560" y="2458080"/>
                  <a:ext cx="146160" cy="19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446720" y="2457000"/>
                  <a:ext cx="156600" cy="19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4385880" y="2400120"/>
                <a:ext cx="131040" cy="26640"/>
                <a:chOff x="4385880" y="2400120"/>
                <a:chExt cx="131040" cy="2664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4385880" y="24001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436280" y="240012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4490280" y="24001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"/>
          <p:cNvGrpSpPr/>
          <p:nvPr/>
        </p:nvGrpSpPr>
        <p:grpSpPr>
          <a:xfrm>
            <a:off x="3894120" y="1241280"/>
            <a:ext cx="3622680" cy="1568160"/>
            <a:chOff x="3894120" y="1241280"/>
            <a:chExt cx="3622680" cy="1568160"/>
          </a:xfrm>
        </p:grpSpPr>
        <p:sp>
          <p:nvSpPr>
            <p:cNvPr id="649" name=""/>
            <p:cNvSpPr/>
            <p:nvPr/>
          </p:nvSpPr>
          <p:spPr>
            <a:xfrm>
              <a:off x="4029120" y="176364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4272120" y="1638000"/>
              <a:ext cx="231840" cy="204840"/>
              <a:chOff x="4272120" y="1638000"/>
              <a:chExt cx="231840" cy="204840"/>
            </a:xfrm>
          </p:grpSpPr>
          <p:grpSp>
            <p:nvGrpSpPr>
              <p:cNvPr id="651" name=""/>
              <p:cNvGrpSpPr/>
              <p:nvPr/>
            </p:nvGrpSpPr>
            <p:grpSpPr>
              <a:xfrm>
                <a:off x="4272120" y="1685520"/>
                <a:ext cx="231840" cy="157320"/>
                <a:chOff x="4272120" y="1685520"/>
                <a:chExt cx="231840" cy="15732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4272120" y="1685520"/>
                  <a:ext cx="23184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314600" y="1724760"/>
                  <a:ext cx="148680" cy="748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4351680" y="1638000"/>
                <a:ext cx="74160" cy="27000"/>
                <a:chOff x="4351680" y="1638000"/>
                <a:chExt cx="74160" cy="2700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4351680" y="1638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399200" y="16380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4614840" y="1582560"/>
              <a:ext cx="1854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Command/Re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14840" y="1730160"/>
              <a:ext cx="254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Cromwell IV 75mm Cruiser Tank         BR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29120" y="211608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4283280" y="1984320"/>
              <a:ext cx="231840" cy="204120"/>
              <a:chOff x="4283280" y="1984320"/>
              <a:chExt cx="231840" cy="204120"/>
            </a:xfrm>
          </p:grpSpPr>
          <p:grpSp>
            <p:nvGrpSpPr>
              <p:cNvPr id="661" name=""/>
              <p:cNvGrpSpPr/>
              <p:nvPr/>
            </p:nvGrpSpPr>
            <p:grpSpPr>
              <a:xfrm>
                <a:off x="4283280" y="2031480"/>
                <a:ext cx="231840" cy="156960"/>
                <a:chOff x="4283280" y="2031480"/>
                <a:chExt cx="231840" cy="15696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4283280" y="2031480"/>
                  <a:ext cx="23184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325760" y="2070720"/>
                  <a:ext cx="148680" cy="748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4362840" y="1984320"/>
                <a:ext cx="74160" cy="26640"/>
                <a:chOff x="4362840" y="1984320"/>
                <a:chExt cx="74160" cy="266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4362840" y="19843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410360" y="19843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7" name=""/>
            <p:cNvSpPr/>
            <p:nvPr/>
          </p:nvSpPr>
          <p:spPr>
            <a:xfrm>
              <a:off x="4614840" y="1935000"/>
              <a:ext cx="1854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Re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14840" y="2087280"/>
              <a:ext cx="2901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5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Cromwell IV 75mm Cruiser Tank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BR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040280" y="1387080"/>
              <a:ext cx="0" cy="133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3894120" y="1241280"/>
              <a:ext cx="292320" cy="252360"/>
              <a:chOff x="3894120" y="1241280"/>
              <a:chExt cx="292320" cy="252360"/>
            </a:xfrm>
          </p:grpSpPr>
          <p:sp>
            <p:nvSpPr>
              <p:cNvPr id="671" name=""/>
              <p:cNvSpPr/>
              <p:nvPr/>
            </p:nvSpPr>
            <p:spPr>
              <a:xfrm>
                <a:off x="4040280" y="12412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2" name=""/>
              <p:cNvGrpSpPr/>
              <p:nvPr/>
            </p:nvGrpSpPr>
            <p:grpSpPr>
              <a:xfrm>
                <a:off x="3894120" y="1302840"/>
                <a:ext cx="292320" cy="190800"/>
                <a:chOff x="3894120" y="1302840"/>
                <a:chExt cx="292320" cy="190800"/>
              </a:xfrm>
            </p:grpSpPr>
            <p:grpSp>
              <p:nvGrpSpPr>
                <p:cNvPr id="673" name=""/>
                <p:cNvGrpSpPr/>
                <p:nvPr/>
              </p:nvGrpSpPr>
              <p:grpSpPr>
                <a:xfrm>
                  <a:off x="3894120" y="1303200"/>
                  <a:ext cx="292320" cy="190440"/>
                  <a:chOff x="3894120" y="1303200"/>
                  <a:chExt cx="292320" cy="19044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>
                    <a:off x="3894120" y="1303200"/>
                    <a:ext cx="292320" cy="19044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3947760" y="1350720"/>
                    <a:ext cx="184680" cy="90720"/>
                  </a:xfrm>
                  <a:prstGeom prst="ellips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6" name=""/>
                <p:cNvSpPr/>
                <p:nvPr/>
              </p:nvSpPr>
              <p:spPr>
                <a:xfrm flipV="1">
                  <a:off x="3894120" y="1302840"/>
                  <a:ext cx="28800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7" name=""/>
            <p:cNvSpPr/>
            <p:nvPr/>
          </p:nvSpPr>
          <p:spPr>
            <a:xfrm>
              <a:off x="4291200" y="1368360"/>
              <a:ext cx="203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E-03G Armoured (Recce) Squadr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40280" y="245412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14840" y="2276280"/>
              <a:ext cx="1854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Re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4292640" y="2323800"/>
              <a:ext cx="239760" cy="206280"/>
              <a:chOff x="4292640" y="2323800"/>
              <a:chExt cx="239760" cy="20628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4372200" y="2323800"/>
                <a:ext cx="74160" cy="27000"/>
                <a:chOff x="4372200" y="2323800"/>
                <a:chExt cx="74160" cy="270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4372200" y="23238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419720" y="23238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4292640" y="2373120"/>
                <a:ext cx="239760" cy="156960"/>
                <a:chOff x="4292640" y="2373120"/>
                <a:chExt cx="239760" cy="15696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4292640" y="2373120"/>
                  <a:ext cx="23976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332240" y="2414160"/>
                  <a:ext cx="160560" cy="7416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V="1">
                  <a:off x="4292640" y="2374560"/>
                  <a:ext cx="23832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292640" y="2376000"/>
                  <a:ext cx="2383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394160" y="243324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0" name=""/>
            <p:cNvSpPr/>
            <p:nvPr/>
          </p:nvSpPr>
          <p:spPr>
            <a:xfrm>
              <a:off x="4614840" y="2438280"/>
              <a:ext cx="2901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Cromwell V 95mm Close Support Tank  BR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048200" y="271584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4302360" y="2584080"/>
              <a:ext cx="231840" cy="204840"/>
              <a:chOff x="4302360" y="2584080"/>
              <a:chExt cx="231840" cy="20484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4302360" y="2631600"/>
                <a:ext cx="231840" cy="157320"/>
                <a:chOff x="4302360" y="2631600"/>
                <a:chExt cx="231840" cy="1573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4302360" y="2631600"/>
                  <a:ext cx="23184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344840" y="2670840"/>
                  <a:ext cx="148680" cy="748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4381920" y="2584080"/>
                <a:ext cx="74160" cy="27000"/>
                <a:chOff x="4381920" y="2584080"/>
                <a:chExt cx="74160" cy="2700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4381920" y="25840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429440" y="25840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9" name=""/>
            <p:cNvSpPr/>
            <p:nvPr/>
          </p:nvSpPr>
          <p:spPr>
            <a:xfrm>
              <a:off x="4614840" y="2535120"/>
              <a:ext cx="1854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Re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14840" y="2687400"/>
              <a:ext cx="2901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Challenger 17pdr Cruiser Tank               BR-18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858960" y="1174680"/>
            <a:ext cx="3174840" cy="1712880"/>
            <a:chOff x="858960" y="1174680"/>
            <a:chExt cx="3174840" cy="1712880"/>
          </a:xfrm>
        </p:grpSpPr>
        <p:sp>
          <p:nvSpPr>
            <p:cNvPr id="702" name=""/>
            <p:cNvSpPr/>
            <p:nvPr/>
          </p:nvSpPr>
          <p:spPr>
            <a:xfrm>
              <a:off x="1030320" y="279216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38440" y="2527200"/>
              <a:ext cx="1735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30320" y="212076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38440" y="2041200"/>
              <a:ext cx="2295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Cromwell IV 75mm Cruiser Tank  BR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1368360" y="1982520"/>
              <a:ext cx="231480" cy="206280"/>
              <a:chOff x="1368360" y="1982520"/>
              <a:chExt cx="231480" cy="206280"/>
            </a:xfrm>
          </p:grpSpPr>
          <p:grpSp>
            <p:nvGrpSpPr>
              <p:cNvPr id="707" name=""/>
              <p:cNvGrpSpPr/>
              <p:nvPr/>
            </p:nvGrpSpPr>
            <p:grpSpPr>
              <a:xfrm>
                <a:off x="1368360" y="2031840"/>
                <a:ext cx="231480" cy="156960"/>
                <a:chOff x="1368360" y="2031840"/>
                <a:chExt cx="231480" cy="15696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1368360" y="2031840"/>
                  <a:ext cx="23148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410840" y="2071080"/>
                  <a:ext cx="148320" cy="748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1446120" y="1982520"/>
                <a:ext cx="74160" cy="27000"/>
                <a:chOff x="1446120" y="1982520"/>
                <a:chExt cx="74160" cy="2700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1446120" y="19825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493640" y="19825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3" name=""/>
            <p:cNvSpPr/>
            <p:nvPr/>
          </p:nvSpPr>
          <p:spPr>
            <a:xfrm>
              <a:off x="1027080" y="187128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738440" y="1792080"/>
              <a:ext cx="2295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Cromwell IV 75mm Cruiser Tank   BR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1368360" y="1733400"/>
              <a:ext cx="231840" cy="202680"/>
              <a:chOff x="1368360" y="1733400"/>
              <a:chExt cx="231840" cy="202680"/>
            </a:xfrm>
          </p:grpSpPr>
          <p:sp>
            <p:nvSpPr>
              <p:cNvPr id="716" name=""/>
              <p:cNvSpPr/>
              <p:nvPr/>
            </p:nvSpPr>
            <p:spPr>
              <a:xfrm>
                <a:off x="1471680" y="17334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1368360" y="1779120"/>
                <a:ext cx="231840" cy="156960"/>
                <a:chOff x="1368360" y="1779120"/>
                <a:chExt cx="231840" cy="15696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1368360" y="1779120"/>
                  <a:ext cx="23184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410840" y="1818360"/>
                  <a:ext cx="148680" cy="748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0" name=""/>
            <p:cNvSpPr/>
            <p:nvPr/>
          </p:nvSpPr>
          <p:spPr>
            <a:xfrm>
              <a:off x="1738440" y="1679400"/>
              <a:ext cx="758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30320" y="236340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38440" y="2312640"/>
              <a:ext cx="2295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Sherman OP Tank                        BR-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1368360" y="2233440"/>
              <a:ext cx="231840" cy="202680"/>
              <a:chOff x="1368360" y="2233440"/>
              <a:chExt cx="231840" cy="202680"/>
            </a:xfrm>
          </p:grpSpPr>
          <p:grpSp>
            <p:nvGrpSpPr>
              <p:cNvPr id="724" name=""/>
              <p:cNvGrpSpPr/>
              <p:nvPr/>
            </p:nvGrpSpPr>
            <p:grpSpPr>
              <a:xfrm>
                <a:off x="1368360" y="2279160"/>
                <a:ext cx="231840" cy="156960"/>
                <a:chOff x="1368360" y="2279160"/>
                <a:chExt cx="231840" cy="15696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1368360" y="2279160"/>
                  <a:ext cx="23184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410840" y="2318400"/>
                  <a:ext cx="148680" cy="7488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7" name=""/>
              <p:cNvSpPr/>
              <p:nvPr/>
            </p:nvSpPr>
            <p:spPr>
              <a:xfrm>
                <a:off x="1466640" y="2334960"/>
                <a:ext cx="36720" cy="34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471320" y="22334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1738440" y="2180880"/>
              <a:ext cx="185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Fire Support 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738440" y="1498320"/>
              <a:ext cx="1735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99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36800" y="1414080"/>
              <a:ext cx="0" cy="137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858960" y="1212480"/>
              <a:ext cx="364320" cy="300960"/>
              <a:chOff x="858960" y="1212480"/>
              <a:chExt cx="364320" cy="300960"/>
            </a:xfrm>
          </p:grpSpPr>
          <p:grpSp>
            <p:nvGrpSpPr>
              <p:cNvPr id="733" name=""/>
              <p:cNvGrpSpPr/>
              <p:nvPr/>
            </p:nvGrpSpPr>
            <p:grpSpPr>
              <a:xfrm>
                <a:off x="858960" y="1274040"/>
                <a:ext cx="364320" cy="239400"/>
                <a:chOff x="858960" y="1274040"/>
                <a:chExt cx="364320" cy="239400"/>
              </a:xfrm>
            </p:grpSpPr>
            <p:grpSp>
              <p:nvGrpSpPr>
                <p:cNvPr id="734" name=""/>
                <p:cNvGrpSpPr/>
                <p:nvPr/>
              </p:nvGrpSpPr>
              <p:grpSpPr>
                <a:xfrm>
                  <a:off x="858960" y="1274400"/>
                  <a:ext cx="364320" cy="239040"/>
                  <a:chOff x="858960" y="1274400"/>
                  <a:chExt cx="364320" cy="239040"/>
                </a:xfrm>
              </p:grpSpPr>
              <p:sp>
                <p:nvSpPr>
                  <p:cNvPr id="735" name=""/>
                  <p:cNvSpPr/>
                  <p:nvPr/>
                </p:nvSpPr>
                <p:spPr>
                  <a:xfrm>
                    <a:off x="858960" y="1274400"/>
                    <a:ext cx="364320" cy="23904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925920" y="1334160"/>
                    <a:ext cx="230400" cy="114120"/>
                  </a:xfrm>
                  <a:prstGeom prst="ellips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7" name=""/>
                <p:cNvSpPr/>
                <p:nvPr/>
              </p:nvSpPr>
              <p:spPr>
                <a:xfrm flipV="1">
                  <a:off x="858960" y="1274040"/>
                  <a:ext cx="359280" cy="23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1003320" y="1212480"/>
                <a:ext cx="75600" cy="63720"/>
                <a:chOff x="1003320" y="1212480"/>
                <a:chExt cx="75600" cy="6372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1003320" y="121248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078920" y="121248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1" name=""/>
            <p:cNvSpPr/>
            <p:nvPr/>
          </p:nvSpPr>
          <p:spPr>
            <a:xfrm>
              <a:off x="1333440" y="1344240"/>
              <a:ext cx="233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</a:t>
              </a:r>
              <a:r>
                <a:rPr b="1" lang="en-GB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rmoured Reconnaissance Btn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738440" y="2733480"/>
              <a:ext cx="203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Armoured (Recce) Squadron    ME-03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1341360" y="2635200"/>
              <a:ext cx="292320" cy="252360"/>
              <a:chOff x="1341360" y="2635200"/>
              <a:chExt cx="292320" cy="252360"/>
            </a:xfrm>
          </p:grpSpPr>
          <p:sp>
            <p:nvSpPr>
              <p:cNvPr id="744" name=""/>
              <p:cNvSpPr/>
              <p:nvPr/>
            </p:nvSpPr>
            <p:spPr>
              <a:xfrm>
                <a:off x="1487520" y="2635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" name=""/>
              <p:cNvGrpSpPr/>
              <p:nvPr/>
            </p:nvGrpSpPr>
            <p:grpSpPr>
              <a:xfrm>
                <a:off x="1341360" y="2696760"/>
                <a:ext cx="292320" cy="190800"/>
                <a:chOff x="1341360" y="2696760"/>
                <a:chExt cx="292320" cy="190800"/>
              </a:xfrm>
            </p:grpSpPr>
            <p:grpSp>
              <p:nvGrpSpPr>
                <p:cNvPr id="746" name=""/>
                <p:cNvGrpSpPr/>
                <p:nvPr/>
              </p:nvGrpSpPr>
              <p:grpSpPr>
                <a:xfrm>
                  <a:off x="1341360" y="2697120"/>
                  <a:ext cx="292320" cy="190440"/>
                  <a:chOff x="1341360" y="2697120"/>
                  <a:chExt cx="292320" cy="190440"/>
                </a:xfrm>
              </p:grpSpPr>
              <p:sp>
                <p:nvSpPr>
                  <p:cNvPr id="747" name=""/>
                  <p:cNvSpPr/>
                  <p:nvPr/>
                </p:nvSpPr>
                <p:spPr>
                  <a:xfrm>
                    <a:off x="1341360" y="2697120"/>
                    <a:ext cx="292320" cy="19044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1395000" y="2744640"/>
                    <a:ext cx="184680" cy="90720"/>
                  </a:xfrm>
                  <a:prstGeom prst="ellips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9" name=""/>
                <p:cNvSpPr/>
                <p:nvPr/>
              </p:nvSpPr>
              <p:spPr>
                <a:xfrm flipV="1">
                  <a:off x="1341360" y="2696760"/>
                  <a:ext cx="28800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0" name=""/>
            <p:cNvSpPr/>
            <p:nvPr/>
          </p:nvSpPr>
          <p:spPr>
            <a:xfrm>
              <a:off x="1655280" y="1174680"/>
              <a:ext cx="65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9900"/>
                  </a:solidFill>
                  <a:latin typeface="Arial"/>
                </a:rPr>
                <a:t>BG-06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905040" y="2971800"/>
            <a:ext cx="3027600" cy="2689560"/>
            <a:chOff x="905040" y="2971800"/>
            <a:chExt cx="3027600" cy="2689560"/>
          </a:xfrm>
        </p:grpSpPr>
        <p:sp>
          <p:nvSpPr>
            <p:cNvPr id="752" name=""/>
            <p:cNvSpPr/>
            <p:nvPr/>
          </p:nvSpPr>
          <p:spPr>
            <a:xfrm>
              <a:off x="1066680" y="4762440"/>
              <a:ext cx="304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47400" y="36576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056960" y="3286080"/>
              <a:ext cx="0" cy="204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905040" y="3124080"/>
              <a:ext cx="304560" cy="198360"/>
              <a:chOff x="905040" y="3124080"/>
              <a:chExt cx="304560" cy="198360"/>
            </a:xfrm>
          </p:grpSpPr>
          <p:sp>
            <p:nvSpPr>
              <p:cNvPr id="756" name=""/>
              <p:cNvSpPr/>
              <p:nvPr/>
            </p:nvSpPr>
            <p:spPr>
              <a:xfrm>
                <a:off x="906480" y="3124080"/>
                <a:ext cx="302760" cy="1983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951840" y="3173400"/>
                <a:ext cx="213840" cy="946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906480" y="3124080"/>
                <a:ext cx="29952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905040" y="3124080"/>
                <a:ext cx="30456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018800" y="3057480"/>
              <a:ext cx="75960" cy="63360"/>
              <a:chOff x="1018800" y="3057480"/>
              <a:chExt cx="75960" cy="63360"/>
            </a:xfrm>
          </p:grpSpPr>
          <p:sp>
            <p:nvSpPr>
              <p:cNvPr id="761" name=""/>
              <p:cNvSpPr/>
              <p:nvPr/>
            </p:nvSpPr>
            <p:spPr>
              <a:xfrm>
                <a:off x="1018800" y="30574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094760" y="30574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>
              <a:off x="1515960" y="2971800"/>
              <a:ext cx="1404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ATTLEGROUP-10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Motor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1209600" y="3505320"/>
              <a:ext cx="231120" cy="156960"/>
              <a:chOff x="1209600" y="3505320"/>
              <a:chExt cx="231120" cy="156960"/>
            </a:xfrm>
          </p:grpSpPr>
          <p:sp>
            <p:nvSpPr>
              <p:cNvPr id="765" name=""/>
              <p:cNvSpPr/>
              <p:nvPr/>
            </p:nvSpPr>
            <p:spPr>
              <a:xfrm>
                <a:off x="1209600" y="3505320"/>
                <a:ext cx="23112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233000" y="3527280"/>
                <a:ext cx="183600" cy="1105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1209600" y="3809520"/>
              <a:ext cx="240840" cy="189360"/>
              <a:chOff x="1209600" y="3809520"/>
              <a:chExt cx="240840" cy="189360"/>
            </a:xfrm>
          </p:grpSpPr>
          <p:sp>
            <p:nvSpPr>
              <p:cNvPr id="768" name=""/>
              <p:cNvSpPr/>
              <p:nvPr/>
            </p:nvSpPr>
            <p:spPr>
              <a:xfrm>
                <a:off x="1210680" y="3809880"/>
                <a:ext cx="23940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245600" y="3849480"/>
                <a:ext cx="169560" cy="7488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1210680" y="3809520"/>
                <a:ext cx="23616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209600" y="3809880"/>
                <a:ext cx="24084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225080" y="39718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337760" y="39700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414080" y="397008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358640" y="3970080"/>
                <a:ext cx="61200" cy="2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1512360" y="3352680"/>
              <a:ext cx="192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er                          BR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512720" y="3657600"/>
              <a:ext cx="190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White Scout Car                   BR-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30200" y="5202360"/>
              <a:ext cx="245556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ANEUVER ELEMENTS 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ATTACHMENTS as per 21</a:t>
              </a:r>
              <a:r>
                <a:rPr b="0" lang="en-GB" sz="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Army Orbat use M5 BR-34 for company 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056960" y="35812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1285560" y="3448080"/>
              <a:ext cx="73800" cy="27000"/>
              <a:chOff x="1285560" y="3448080"/>
              <a:chExt cx="73800" cy="27000"/>
            </a:xfrm>
          </p:grpSpPr>
          <p:sp>
            <p:nvSpPr>
              <p:cNvPr id="781" name=""/>
              <p:cNvSpPr/>
              <p:nvPr/>
            </p:nvSpPr>
            <p:spPr>
              <a:xfrm>
                <a:off x="1285560" y="34480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332720" y="34480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1285560" y="3762360"/>
              <a:ext cx="73800" cy="27000"/>
              <a:chOff x="1285560" y="3762360"/>
              <a:chExt cx="73800" cy="27000"/>
            </a:xfrm>
          </p:grpSpPr>
          <p:sp>
            <p:nvSpPr>
              <p:cNvPr id="784" name=""/>
              <p:cNvSpPr/>
              <p:nvPr/>
            </p:nvSpPr>
            <p:spPr>
              <a:xfrm>
                <a:off x="1285560" y="37623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332720" y="37623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1247400" y="424800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1218960" y="4143240"/>
              <a:ext cx="231480" cy="157320"/>
              <a:chOff x="1218960" y="4143240"/>
              <a:chExt cx="231480" cy="157320"/>
            </a:xfrm>
          </p:grpSpPr>
          <p:sp>
            <p:nvSpPr>
              <p:cNvPr id="788" name=""/>
              <p:cNvSpPr/>
              <p:nvPr/>
            </p:nvSpPr>
            <p:spPr>
              <a:xfrm>
                <a:off x="1218960" y="4143240"/>
                <a:ext cx="23148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01040" y="4194000"/>
                <a:ext cx="56880" cy="55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1218960" y="4400640"/>
              <a:ext cx="239400" cy="190080"/>
              <a:chOff x="1218960" y="4400640"/>
              <a:chExt cx="239400" cy="190080"/>
            </a:xfrm>
          </p:grpSpPr>
          <p:grpSp>
            <p:nvGrpSpPr>
              <p:cNvPr id="791" name=""/>
              <p:cNvGrpSpPr/>
              <p:nvPr/>
            </p:nvGrpSpPr>
            <p:grpSpPr>
              <a:xfrm>
                <a:off x="1218960" y="4400640"/>
                <a:ext cx="239400" cy="156960"/>
                <a:chOff x="1218960" y="4400640"/>
                <a:chExt cx="239400" cy="156960"/>
              </a:xfrm>
            </p:grpSpPr>
            <p:grpSp>
              <p:nvGrpSpPr>
                <p:cNvPr id="792" name=""/>
                <p:cNvGrpSpPr/>
                <p:nvPr/>
              </p:nvGrpSpPr>
              <p:grpSpPr>
                <a:xfrm>
                  <a:off x="1218960" y="4400640"/>
                  <a:ext cx="239400" cy="156960"/>
                  <a:chOff x="1218960" y="4400640"/>
                  <a:chExt cx="239400" cy="15696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1218960" y="4400640"/>
                    <a:ext cx="23940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1262880" y="4439880"/>
                    <a:ext cx="151200" cy="74880"/>
                  </a:xfrm>
                  <a:prstGeom prst="ellips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5" name=""/>
                <p:cNvSpPr/>
                <p:nvPr/>
              </p:nvSpPr>
              <p:spPr>
                <a:xfrm flipV="1">
                  <a:off x="1218960" y="4400640"/>
                  <a:ext cx="23580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6" name=""/>
              <p:cNvSpPr/>
              <p:nvPr/>
            </p:nvSpPr>
            <p:spPr>
              <a:xfrm>
                <a:off x="1239480" y="456408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420200" y="45640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1295280" y="4352760"/>
              <a:ext cx="73800" cy="27000"/>
              <a:chOff x="1295280" y="4352760"/>
              <a:chExt cx="73800" cy="27000"/>
            </a:xfrm>
          </p:grpSpPr>
          <p:sp>
            <p:nvSpPr>
              <p:cNvPr id="799" name=""/>
              <p:cNvSpPr/>
              <p:nvPr/>
            </p:nvSpPr>
            <p:spPr>
              <a:xfrm>
                <a:off x="1295280" y="4352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342440" y="43527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1295280" y="4067280"/>
              <a:ext cx="73800" cy="27000"/>
              <a:chOff x="1295280" y="4067280"/>
              <a:chExt cx="73800" cy="27000"/>
            </a:xfrm>
          </p:grpSpPr>
          <p:sp>
            <p:nvSpPr>
              <p:cNvPr id="802" name=""/>
              <p:cNvSpPr/>
              <p:nvPr/>
            </p:nvSpPr>
            <p:spPr>
              <a:xfrm>
                <a:off x="1295280" y="40672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342440" y="40672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1066680" y="4219560"/>
              <a:ext cx="151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20640" y="3990960"/>
              <a:ext cx="23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Forward Air Contro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Forward Observer                                 BR-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21360" y="4248000"/>
              <a:ext cx="238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5/M9/M14 Halftrack Carrier                BR-3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276200" y="48006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1238040" y="4686120"/>
              <a:ext cx="231480" cy="157320"/>
              <a:chOff x="1238040" y="4686120"/>
              <a:chExt cx="231480" cy="157320"/>
            </a:xfrm>
          </p:grpSpPr>
          <p:sp>
            <p:nvSpPr>
              <p:cNvPr id="809" name=""/>
              <p:cNvSpPr/>
              <p:nvPr/>
            </p:nvSpPr>
            <p:spPr>
              <a:xfrm>
                <a:off x="1238040" y="4686120"/>
                <a:ext cx="23148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320120" y="4736880"/>
                <a:ext cx="56880" cy="55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1238040" y="4952880"/>
              <a:ext cx="239400" cy="190080"/>
              <a:chOff x="1238040" y="4952880"/>
              <a:chExt cx="239400" cy="190080"/>
            </a:xfrm>
          </p:grpSpPr>
          <p:grpSp>
            <p:nvGrpSpPr>
              <p:cNvPr id="812" name=""/>
              <p:cNvGrpSpPr/>
              <p:nvPr/>
            </p:nvGrpSpPr>
            <p:grpSpPr>
              <a:xfrm>
                <a:off x="1238040" y="4952880"/>
                <a:ext cx="239400" cy="156960"/>
                <a:chOff x="1238040" y="4952880"/>
                <a:chExt cx="239400" cy="156960"/>
              </a:xfrm>
            </p:grpSpPr>
            <p:grpSp>
              <p:nvGrpSpPr>
                <p:cNvPr id="813" name=""/>
                <p:cNvGrpSpPr/>
                <p:nvPr/>
              </p:nvGrpSpPr>
              <p:grpSpPr>
                <a:xfrm>
                  <a:off x="1238040" y="4952880"/>
                  <a:ext cx="239400" cy="156960"/>
                  <a:chOff x="1238040" y="4952880"/>
                  <a:chExt cx="239400" cy="15696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>
                    <a:off x="1238040" y="4952880"/>
                    <a:ext cx="23940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1281960" y="4992120"/>
                    <a:ext cx="151200" cy="74880"/>
                  </a:xfrm>
                  <a:prstGeom prst="ellips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6" name=""/>
                <p:cNvSpPr/>
                <p:nvPr/>
              </p:nvSpPr>
              <p:spPr>
                <a:xfrm flipV="1">
                  <a:off x="1238040" y="4952880"/>
                  <a:ext cx="23580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1258560" y="511632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439280" y="51163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314360" y="4905360"/>
              <a:ext cx="73800" cy="27000"/>
              <a:chOff x="1314360" y="4905360"/>
              <a:chExt cx="73800" cy="27000"/>
            </a:xfrm>
          </p:grpSpPr>
          <p:sp>
            <p:nvSpPr>
              <p:cNvPr id="820" name=""/>
              <p:cNvSpPr/>
              <p:nvPr/>
            </p:nvSpPr>
            <p:spPr>
              <a:xfrm>
                <a:off x="1314360" y="49053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361520" y="49053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1314360" y="4638600"/>
              <a:ext cx="73800" cy="27000"/>
              <a:chOff x="1314360" y="4638600"/>
              <a:chExt cx="73800" cy="27000"/>
            </a:xfrm>
          </p:grpSpPr>
          <p:sp>
            <p:nvSpPr>
              <p:cNvPr id="823" name=""/>
              <p:cNvSpPr/>
              <p:nvPr/>
            </p:nvSpPr>
            <p:spPr>
              <a:xfrm>
                <a:off x="1314360" y="46386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361520" y="46386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539720" y="4533840"/>
              <a:ext cx="23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Forward Observer (FS-03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Forward Observer                                 BR-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535760" y="4800600"/>
              <a:ext cx="23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arrier                                                   BR-3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056960" y="5324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9T16:51:08Z</dcterms:created>
  <dc:creator>JBaker</dc:creator>
  <dc:description/>
  <dc:language>en-US</dc:language>
  <cp:lastModifiedBy>James Baker</cp:lastModifiedBy>
  <cp:lastPrinted>2001-08-09T21:46:33Z</cp:lastPrinted>
  <dcterms:modified xsi:type="dcterms:W3CDTF">2005-06-28T20:54:19Z</dcterms:modified>
  <cp:revision>127</cp:revision>
  <dc:subject/>
  <dc:title>PowerPoint Presentation</dc:title>
</cp:coreProperties>
</file>