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60C-B7B0-49E2-AC1D-B9817B04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22A-5D3C-47E3-B51A-73358AAE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66C-A963-47CD-A7C0-06496FC7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58A-4B73-4046-83DE-064A471B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49D-B0BF-424B-860F-5A6DA2C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DCB-D374-4153-B417-9DB811E0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737-E257-494D-B631-3E7CE8ED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81A-B8BF-4FC5-9BF7-1F35A72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933-8280-4749-90BF-FA4587D6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CF0-988C-4DD9-BD0A-2B4CB23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C6C-5950-495E-ADFC-B00D267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625-7ACF-46CE-978B-B75A43F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CDC-3B23-42BD-AC2C-ED67FE147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480" y="-360"/>
            <a:ext cx="660744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MAN Fallschirmjaegers BG-12,13,ME-24-ME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54160" y="5884920"/>
            <a:ext cx="2917800" cy="2392200"/>
            <a:chOff x="1154160" y="5884920"/>
            <a:chExt cx="2917800" cy="2392200"/>
          </a:xfrm>
        </p:grpSpPr>
        <p:grpSp>
          <p:nvGrpSpPr>
            <p:cNvPr id="43" name=""/>
            <p:cNvGrpSpPr/>
            <p:nvPr/>
          </p:nvGrpSpPr>
          <p:grpSpPr>
            <a:xfrm>
              <a:off x="1154160" y="5884920"/>
              <a:ext cx="2370240" cy="2295720"/>
              <a:chOff x="1154160" y="5884920"/>
              <a:chExt cx="2370240" cy="2295720"/>
            </a:xfrm>
          </p:grpSpPr>
          <p:sp>
            <p:nvSpPr>
              <p:cNvPr id="44" name=""/>
              <p:cNvSpPr/>
              <p:nvPr/>
            </p:nvSpPr>
            <p:spPr>
              <a:xfrm>
                <a:off x="1330200" y="6169320"/>
                <a:ext cx="0" cy="20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91720" y="588492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TTLE GROUP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789200" y="6080400"/>
                <a:ext cx="1735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allschirmjaeger Battal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154160" y="5934240"/>
                <a:ext cx="347040" cy="291240"/>
                <a:chOff x="1154160" y="5934240"/>
                <a:chExt cx="347040" cy="29124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154160" y="5989680"/>
                  <a:ext cx="347040" cy="235800"/>
                  <a:chOff x="1154160" y="5989680"/>
                  <a:chExt cx="347040" cy="235800"/>
                </a:xfrm>
              </p:grpSpPr>
              <p:grpSp>
                <p:nvGrpSpPr>
                  <p:cNvPr id="49" name=""/>
                  <p:cNvGrpSpPr/>
                  <p:nvPr/>
                </p:nvGrpSpPr>
                <p:grpSpPr>
                  <a:xfrm>
                    <a:off x="1154160" y="5989680"/>
                    <a:ext cx="347040" cy="235800"/>
                    <a:chOff x="1154160" y="5989680"/>
                    <a:chExt cx="347040" cy="235800"/>
                  </a:xfrm>
                </p:grpSpPr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1154160" y="5989680"/>
                      <a:ext cx="347040" cy="235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 flipV="1">
                      <a:off x="1157760" y="5992920"/>
                      <a:ext cx="338400" cy="230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1154160" y="5993280"/>
                      <a:ext cx="345600" cy="225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1270440" y="6166080"/>
                    <a:ext cx="113760" cy="56520"/>
                    <a:chOff x="1270440" y="6166080"/>
                    <a:chExt cx="113760" cy="5652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1270440" y="6166080"/>
                      <a:ext cx="54360" cy="543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1329840" y="6167880"/>
                      <a:ext cx="54360" cy="5472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" name=""/>
                <p:cNvGrpSpPr/>
                <p:nvPr/>
              </p:nvGrpSpPr>
              <p:grpSpPr>
                <a:xfrm>
                  <a:off x="1290600" y="5934240"/>
                  <a:ext cx="74880" cy="63360"/>
                  <a:chOff x="1290600" y="5934240"/>
                  <a:chExt cx="74880" cy="633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1290600" y="5934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365480" y="5934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" name=""/>
            <p:cNvGrpSpPr/>
            <p:nvPr/>
          </p:nvGrpSpPr>
          <p:grpSpPr>
            <a:xfrm>
              <a:off x="1320840" y="6824880"/>
              <a:ext cx="2619360" cy="515520"/>
              <a:chOff x="1320840" y="6824880"/>
              <a:chExt cx="2619360" cy="515520"/>
            </a:xfrm>
          </p:grpSpPr>
          <p:sp>
            <p:nvSpPr>
              <p:cNvPr id="60" name=""/>
              <p:cNvSpPr/>
              <p:nvPr/>
            </p:nvSpPr>
            <p:spPr>
              <a:xfrm>
                <a:off x="1808280" y="682488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20840" y="7182000"/>
                <a:ext cx="320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97120" y="7124760"/>
                <a:ext cx="214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Fallschirmjaeger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11520" y="699480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2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1523880" y="7029720"/>
                <a:ext cx="284040" cy="245160"/>
                <a:chOff x="1523880" y="7029720"/>
                <a:chExt cx="284040" cy="2451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1523880" y="7081920"/>
                  <a:ext cx="284040" cy="192960"/>
                  <a:chOff x="1523880" y="7081920"/>
                  <a:chExt cx="284040" cy="192960"/>
                </a:xfrm>
              </p:grpSpPr>
              <p:grpSp>
                <p:nvGrpSpPr>
                  <p:cNvPr id="66" name=""/>
                  <p:cNvGrpSpPr/>
                  <p:nvPr/>
                </p:nvGrpSpPr>
                <p:grpSpPr>
                  <a:xfrm>
                    <a:off x="1523880" y="7081920"/>
                    <a:ext cx="284040" cy="192960"/>
                    <a:chOff x="1523880" y="7081920"/>
                    <a:chExt cx="284040" cy="192960"/>
                  </a:xfrm>
                </p:grpSpPr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1523880" y="7081920"/>
                      <a:ext cx="284040" cy="192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V="1">
                      <a:off x="1526760" y="7084800"/>
                      <a:ext cx="27648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1523880" y="7084800"/>
                      <a:ext cx="282600" cy="183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" name=""/>
                  <p:cNvGrpSpPr/>
                  <p:nvPr/>
                </p:nvGrpSpPr>
                <p:grpSpPr>
                  <a:xfrm>
                    <a:off x="1618920" y="7226280"/>
                    <a:ext cx="92520" cy="46080"/>
                    <a:chOff x="1618920" y="7226280"/>
                    <a:chExt cx="92520" cy="46080"/>
                  </a:xfrm>
                </p:grpSpPr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618920" y="722628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1667160" y="722772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3" name=""/>
                <p:cNvSpPr/>
                <p:nvPr/>
              </p:nvSpPr>
              <p:spPr>
                <a:xfrm>
                  <a:off x="1665360" y="7029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"/>
            <p:cNvGrpSpPr/>
            <p:nvPr/>
          </p:nvGrpSpPr>
          <p:grpSpPr>
            <a:xfrm>
              <a:off x="1325520" y="6299280"/>
              <a:ext cx="2475000" cy="533160"/>
              <a:chOff x="1325520" y="6299280"/>
              <a:chExt cx="2475000" cy="533160"/>
            </a:xfrm>
          </p:grpSpPr>
          <p:sp>
            <p:nvSpPr>
              <p:cNvPr id="75" name=""/>
              <p:cNvSpPr/>
              <p:nvPr/>
            </p:nvSpPr>
            <p:spPr>
              <a:xfrm>
                <a:off x="1801800" y="6299280"/>
                <a:ext cx="1735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1325520" y="6458040"/>
                <a:ext cx="2475000" cy="374400"/>
                <a:chOff x="1325520" y="6458040"/>
                <a:chExt cx="2475000" cy="3744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325520" y="6672240"/>
                  <a:ext cx="330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800360" y="6458040"/>
                  <a:ext cx="1854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1563840" y="6546960"/>
                  <a:ext cx="236520" cy="209520"/>
                  <a:chOff x="1563840" y="6546960"/>
                  <a:chExt cx="236520" cy="20952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1563840" y="6597720"/>
                    <a:ext cx="236520" cy="158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670400" y="6546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1791000" y="6616800"/>
                  <a:ext cx="2009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1320840" y="7302600"/>
              <a:ext cx="2751120" cy="974520"/>
              <a:chOff x="1320840" y="7302600"/>
              <a:chExt cx="2751120" cy="9745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1327320" y="7407360"/>
                <a:ext cx="2720880" cy="237960"/>
                <a:chOff x="1327320" y="7407360"/>
                <a:chExt cx="2720880" cy="2379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327320" y="7542360"/>
                  <a:ext cx="320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1550880" y="7407360"/>
                  <a:ext cx="236520" cy="217080"/>
                  <a:chOff x="1550880" y="7407360"/>
                  <a:chExt cx="236520" cy="21708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1631880" y="7407360"/>
                    <a:ext cx="74520" cy="28080"/>
                    <a:chOff x="1631880" y="7407360"/>
                    <a:chExt cx="74520" cy="2808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1631880" y="74073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1679400" y="74088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" name=""/>
                  <p:cNvGrpSpPr/>
                  <p:nvPr/>
                </p:nvGrpSpPr>
                <p:grpSpPr>
                  <a:xfrm>
                    <a:off x="1550880" y="7459560"/>
                    <a:ext cx="236520" cy="164880"/>
                    <a:chOff x="1550880" y="7459560"/>
                    <a:chExt cx="236520" cy="16488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550880" y="746424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1550880" y="747036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V="1">
                      <a:off x="1557360" y="745956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1568520" y="748800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5" name=""/>
                <p:cNvSpPr/>
                <p:nvPr/>
              </p:nvSpPr>
              <p:spPr>
                <a:xfrm>
                  <a:off x="1752480" y="7429680"/>
                  <a:ext cx="2295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Heavy Machine Gun             GE-5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792440" y="730260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320840" y="7651800"/>
                <a:ext cx="2751120" cy="625320"/>
                <a:chOff x="1320840" y="7651800"/>
                <a:chExt cx="2751120" cy="6253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763640" y="7651800"/>
                  <a:ext cx="1735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1322280" y="7778880"/>
                  <a:ext cx="2749680" cy="215640"/>
                  <a:chOff x="1322280" y="7778880"/>
                  <a:chExt cx="2749680" cy="21564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1322280" y="7891560"/>
                    <a:ext cx="320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1549440" y="7790040"/>
                    <a:ext cx="239760" cy="190080"/>
                    <a:chOff x="1549440" y="7790040"/>
                    <a:chExt cx="239760" cy="190080"/>
                  </a:xfrm>
                </p:grpSpPr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1549440" y="7823160"/>
                      <a:ext cx="239760" cy="156960"/>
                      <a:chOff x="1549440" y="7823160"/>
                      <a:chExt cx="239760" cy="15696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549440" y="78231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1636920" y="7857720"/>
                        <a:ext cx="63360" cy="84960"/>
                        <a:chOff x="1636920" y="7857720"/>
                        <a:chExt cx="63360" cy="84960"/>
                      </a:xfrm>
                    </p:grpSpPr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 flipV="1">
                          <a:off x="1636920" y="7941240"/>
                          <a:ext cx="6336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1668240" y="7857720"/>
                          <a:ext cx="0" cy="83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720" bIns="36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632240" y="7790040"/>
                      <a:ext cx="74520" cy="28080"/>
                      <a:chOff x="1632240" y="7790040"/>
                      <a:chExt cx="74520" cy="2808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1632240" y="779004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1679760" y="77914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0" name=""/>
                  <p:cNvSpPr/>
                  <p:nvPr/>
                </p:nvSpPr>
                <p:spPr>
                  <a:xfrm>
                    <a:off x="1776600" y="7778880"/>
                    <a:ext cx="22953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80mm Mortar                       GE-5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1320840" y="8044200"/>
                  <a:ext cx="2749680" cy="232920"/>
                  <a:chOff x="1320840" y="8044200"/>
                  <a:chExt cx="2749680" cy="23292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1566720" y="8044200"/>
                    <a:ext cx="231840" cy="191520"/>
                    <a:chOff x="1566720" y="8044200"/>
                    <a:chExt cx="231840" cy="191520"/>
                  </a:xfrm>
                </p:grpSpPr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1566720" y="8078760"/>
                      <a:ext cx="231840" cy="156960"/>
                      <a:chOff x="1566720" y="8078760"/>
                      <a:chExt cx="231840" cy="156960"/>
                    </a:xfrm>
                  </p:grpSpPr>
                  <p:grpSp>
                    <p:nvGrpSpPr>
                      <p:cNvPr id="114" name=""/>
                      <p:cNvGrpSpPr/>
                      <p:nvPr/>
                    </p:nvGrpSpPr>
                    <p:grpSpPr>
                      <a:xfrm>
                        <a:off x="1566720" y="8078760"/>
                        <a:ext cx="231840" cy="156960"/>
                        <a:chOff x="1566720" y="8078760"/>
                        <a:chExt cx="231840" cy="156960"/>
                      </a:xfrm>
                    </p:grpSpPr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1566720" y="807876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V="1">
                          <a:off x="1568880" y="8080920"/>
                          <a:ext cx="22572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1566720" y="8080920"/>
                          <a:ext cx="230760" cy="149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1665000" y="8140320"/>
                        <a:ext cx="36720" cy="34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320" bIns="-22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1644480" y="8044200"/>
                      <a:ext cx="74520" cy="27720"/>
                      <a:chOff x="1644480" y="8044200"/>
                      <a:chExt cx="74520" cy="2772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1644480" y="8044200"/>
                        <a:ext cx="2844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692000" y="8045640"/>
                        <a:ext cx="270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1320840" y="8174160"/>
                    <a:ext cx="320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774800" y="8061480"/>
                    <a:ext cx="22957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75mm Infantry Gun             GE-38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4" name=""/>
          <p:cNvSpPr/>
          <p:nvPr/>
        </p:nvSpPr>
        <p:spPr>
          <a:xfrm>
            <a:off x="1327320" y="663480"/>
            <a:ext cx="0" cy="365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54160" y="471600"/>
            <a:ext cx="347040" cy="281520"/>
            <a:chOff x="1154160" y="471600"/>
            <a:chExt cx="347040" cy="281520"/>
          </a:xfrm>
        </p:grpSpPr>
        <p:grpSp>
          <p:nvGrpSpPr>
            <p:cNvPr id="126" name=""/>
            <p:cNvGrpSpPr/>
            <p:nvPr/>
          </p:nvGrpSpPr>
          <p:grpSpPr>
            <a:xfrm>
              <a:off x="1154160" y="517320"/>
              <a:ext cx="347040" cy="235800"/>
              <a:chOff x="1154160" y="517320"/>
              <a:chExt cx="347040" cy="2358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1154160" y="517320"/>
                <a:ext cx="347040" cy="235800"/>
                <a:chOff x="1154160" y="517320"/>
                <a:chExt cx="347040" cy="235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154160" y="517320"/>
                  <a:ext cx="347040" cy="23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1157760" y="520560"/>
                  <a:ext cx="338400" cy="230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54160" y="520920"/>
                  <a:ext cx="345600" cy="22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270440" y="693720"/>
                <a:ext cx="113760" cy="56520"/>
                <a:chOff x="1270440" y="693720"/>
                <a:chExt cx="113760" cy="56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70440" y="693720"/>
                  <a:ext cx="54360" cy="54360"/>
                </a:xfrm>
                <a:prstGeom prst="blockArc">
                  <a:avLst>
                    <a:gd name="adj1" fmla="val 10283035"/>
                    <a:gd name="adj2" fmla="val 516965"/>
                    <a:gd name="adj3" fmla="val 0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29840" y="695520"/>
                  <a:ext cx="54360" cy="54720"/>
                </a:xfrm>
                <a:prstGeom prst="blockArc">
                  <a:avLst>
                    <a:gd name="adj1" fmla="val 10283035"/>
                    <a:gd name="adj2" fmla="val 516965"/>
                    <a:gd name="adj3" fmla="val 0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262160" y="471600"/>
              <a:ext cx="131760" cy="64800"/>
              <a:chOff x="1262160" y="471600"/>
              <a:chExt cx="131760" cy="64800"/>
            </a:xfrm>
          </p:grpSpPr>
          <p:sp>
            <p:nvSpPr>
              <p:cNvPr id="135" name=""/>
              <p:cNvSpPr/>
              <p:nvPr/>
            </p:nvSpPr>
            <p:spPr>
              <a:xfrm>
                <a:off x="1329120" y="473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262160" y="471600"/>
                <a:ext cx="131760" cy="64800"/>
                <a:chOff x="1262160" y="471600"/>
                <a:chExt cx="131760" cy="64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262160" y="473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393920" y="471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"/>
          <p:cNvSpPr/>
          <p:nvPr/>
        </p:nvSpPr>
        <p:spPr>
          <a:xfrm>
            <a:off x="1801080" y="420840"/>
            <a:ext cx="136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LE GROUP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8560" y="615960"/>
            <a:ext cx="173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llschirmjaeger Regiment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1944-45 Fallschirmjaeg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20840" y="1128600"/>
            <a:ext cx="2475000" cy="768240"/>
            <a:chOff x="1320840" y="1128600"/>
            <a:chExt cx="2475000" cy="768240"/>
          </a:xfrm>
        </p:grpSpPr>
        <p:grpSp>
          <p:nvGrpSpPr>
            <p:cNvPr id="142" name=""/>
            <p:cNvGrpSpPr/>
            <p:nvPr/>
          </p:nvGrpSpPr>
          <p:grpSpPr>
            <a:xfrm>
              <a:off x="1320840" y="1273320"/>
              <a:ext cx="2475000" cy="374400"/>
              <a:chOff x="1320840" y="1273320"/>
              <a:chExt cx="2475000" cy="374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320840" y="1487520"/>
                <a:ext cx="330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95680" y="1273320"/>
                <a:ext cx="1854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559160" y="1362240"/>
                <a:ext cx="236520" cy="209520"/>
                <a:chOff x="1559160" y="1362240"/>
                <a:chExt cx="236520" cy="2095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559160" y="1413000"/>
                  <a:ext cx="236520" cy="1587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65720" y="1362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786320" y="1432080"/>
                <a:ext cx="2009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787760" y="1128600"/>
              <a:ext cx="173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559160" y="1487520"/>
              <a:ext cx="2090520" cy="409320"/>
              <a:chOff x="1559160" y="1487520"/>
              <a:chExt cx="2090520" cy="4093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559160" y="1657440"/>
                <a:ext cx="230040" cy="221760"/>
                <a:chOff x="1559160" y="1657440"/>
                <a:chExt cx="230040" cy="2217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559160" y="1689120"/>
                  <a:ext cx="230040" cy="190080"/>
                  <a:chOff x="1559160" y="1689120"/>
                  <a:chExt cx="230040" cy="1900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1559160" y="1689120"/>
                    <a:ext cx="2300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569240" y="185184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749960" y="185184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1660680" y="1657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1784520" y="1681200"/>
                <a:ext cx="1865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ubelwagen                   GE-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6960" y="148752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97120" y="1568520"/>
                <a:ext cx="843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1782720" y="2454120"/>
            <a:ext cx="116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32000" y="1919160"/>
            <a:ext cx="2353680" cy="492120"/>
            <a:chOff x="1332000" y="1919160"/>
            <a:chExt cx="2353680" cy="492120"/>
          </a:xfrm>
        </p:grpSpPr>
        <p:sp>
          <p:nvSpPr>
            <p:cNvPr id="162" name=""/>
            <p:cNvSpPr/>
            <p:nvPr/>
          </p:nvSpPr>
          <p:spPr>
            <a:xfrm>
              <a:off x="1787400" y="1919160"/>
              <a:ext cx="116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487160" y="2060640"/>
              <a:ext cx="346680" cy="291240"/>
              <a:chOff x="1487160" y="2060640"/>
              <a:chExt cx="346680" cy="291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487160" y="2116080"/>
                <a:ext cx="346680" cy="235800"/>
                <a:chOff x="1487160" y="2116080"/>
                <a:chExt cx="346680" cy="23580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1487160" y="2116080"/>
                  <a:ext cx="346680" cy="235800"/>
                  <a:chOff x="1487160" y="2116080"/>
                  <a:chExt cx="346680" cy="2358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1487160" y="2116080"/>
                    <a:ext cx="346680" cy="235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1490760" y="2119320"/>
                    <a:ext cx="338040" cy="230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487160" y="2119680"/>
                    <a:ext cx="345240" cy="225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03440" y="2292480"/>
                  <a:ext cx="113760" cy="56520"/>
                  <a:chOff x="1603440" y="2292480"/>
                  <a:chExt cx="113760" cy="565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603440" y="2292480"/>
                    <a:ext cx="54360" cy="5436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662840" y="2294280"/>
                    <a:ext cx="54360" cy="54720"/>
                  </a:xfrm>
                  <a:prstGeom prst="blockArc">
                    <a:avLst>
                      <a:gd name="adj1" fmla="val 10283035"/>
                      <a:gd name="adj2" fmla="val 516965"/>
                      <a:gd name="adj3" fmla="val 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1623240" y="2060640"/>
                <a:ext cx="74520" cy="63360"/>
                <a:chOff x="1623240" y="2060640"/>
                <a:chExt cx="74520" cy="63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623240" y="2060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697760" y="2060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1776240" y="2195640"/>
              <a:ext cx="1909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Fallschirmjaeger Battal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2000" y="2230560"/>
              <a:ext cx="25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2080" y="2075040"/>
              <a:ext cx="116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G-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20840" y="2550960"/>
            <a:ext cx="2212920" cy="349920"/>
            <a:chOff x="1320840" y="2550960"/>
            <a:chExt cx="2212920" cy="349920"/>
          </a:xfrm>
        </p:grpSpPr>
        <p:sp>
          <p:nvSpPr>
            <p:cNvPr id="179" name=""/>
            <p:cNvSpPr/>
            <p:nvPr/>
          </p:nvSpPr>
          <p:spPr>
            <a:xfrm>
              <a:off x="1320840" y="26636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541520" y="2550960"/>
              <a:ext cx="231480" cy="195120"/>
              <a:chOff x="1541520" y="2550960"/>
              <a:chExt cx="231480" cy="1951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541520" y="2589120"/>
                <a:ext cx="231480" cy="156960"/>
                <a:chOff x="1541520" y="2589120"/>
                <a:chExt cx="231480" cy="1569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541520" y="258912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1625400" y="2644560"/>
                  <a:ext cx="64800" cy="45720"/>
                  <a:chOff x="1625400" y="2644560"/>
                  <a:chExt cx="64800" cy="457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1625400" y="2644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56720" y="2644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690200" y="2644560"/>
                    <a:ext cx="0" cy="45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625400" y="2644560"/>
                    <a:ext cx="630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1619280" y="2550960"/>
                <a:ext cx="74520" cy="28080"/>
                <a:chOff x="1619280" y="2550960"/>
                <a:chExt cx="74520" cy="28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619280" y="2550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666800" y="2552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1760760" y="2563560"/>
              <a:ext cx="17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oniere                          GE-47 No Flamethrowers  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20840" y="3068640"/>
            <a:ext cx="2212920" cy="789120"/>
            <a:chOff x="1320840" y="3068640"/>
            <a:chExt cx="2212920" cy="789120"/>
          </a:xfrm>
        </p:grpSpPr>
        <p:grpSp>
          <p:nvGrpSpPr>
            <p:cNvPr id="193" name=""/>
            <p:cNvGrpSpPr/>
            <p:nvPr/>
          </p:nvGrpSpPr>
          <p:grpSpPr>
            <a:xfrm>
              <a:off x="1560600" y="3200400"/>
              <a:ext cx="1973160" cy="657360"/>
              <a:chOff x="1560600" y="3200400"/>
              <a:chExt cx="1973160" cy="6573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560600" y="3357720"/>
                <a:ext cx="240840" cy="229320"/>
                <a:chOff x="1560600" y="3357720"/>
                <a:chExt cx="240840" cy="22932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1560600" y="3398760"/>
                  <a:ext cx="240840" cy="188280"/>
                  <a:chOff x="1560600" y="3398760"/>
                  <a:chExt cx="240840" cy="1882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1560600" y="3398760"/>
                    <a:ext cx="240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574640" y="3560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688040" y="355896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764720" y="355896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708920" y="3558960"/>
                    <a:ext cx="62280" cy="266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1643040" y="3357720"/>
                  <a:ext cx="74520" cy="27720"/>
                  <a:chOff x="1643040" y="3357720"/>
                  <a:chExt cx="74520" cy="277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1643040" y="335772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690560" y="335916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4" name=""/>
              <p:cNvSpPr/>
              <p:nvPr/>
            </p:nvSpPr>
            <p:spPr>
              <a:xfrm>
                <a:off x="1760760" y="3398760"/>
                <a:ext cx="1773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11 Medium Prime Mover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GE-30        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04880" y="3200400"/>
                <a:ext cx="0" cy="27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320840" y="3068640"/>
              <a:ext cx="2203560" cy="356400"/>
              <a:chOff x="1320840" y="3068640"/>
              <a:chExt cx="2203560" cy="356400"/>
            </a:xfrm>
          </p:grpSpPr>
          <p:sp>
            <p:nvSpPr>
              <p:cNvPr id="207" name=""/>
              <p:cNvSpPr/>
              <p:nvPr/>
            </p:nvSpPr>
            <p:spPr>
              <a:xfrm>
                <a:off x="1320840" y="3200400"/>
                <a:ext cx="344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560600" y="3068640"/>
                <a:ext cx="231480" cy="204840"/>
                <a:chOff x="1560600" y="3068640"/>
                <a:chExt cx="231480" cy="2048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1560600" y="3116160"/>
                  <a:ext cx="231480" cy="157320"/>
                  <a:chOff x="1560600" y="3116160"/>
                  <a:chExt cx="231480" cy="157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1560600" y="3116160"/>
                    <a:ext cx="23148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V="1">
                    <a:off x="1560600" y="3119040"/>
                    <a:ext cx="11376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674360" y="3116160"/>
                    <a:ext cx="11376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1638360" y="3068640"/>
                  <a:ext cx="74520" cy="28080"/>
                  <a:chOff x="1638360" y="3068640"/>
                  <a:chExt cx="74520" cy="280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638360" y="30686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685880" y="3070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1751040" y="3087720"/>
                <a:ext cx="177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mm Pak40 AT Gun     GE-41        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1320840" y="3544920"/>
            <a:ext cx="2241000" cy="931680"/>
            <a:chOff x="1320840" y="3544920"/>
            <a:chExt cx="2241000" cy="931680"/>
          </a:xfrm>
        </p:grpSpPr>
        <p:grpSp>
          <p:nvGrpSpPr>
            <p:cNvPr id="218" name=""/>
            <p:cNvGrpSpPr/>
            <p:nvPr/>
          </p:nvGrpSpPr>
          <p:grpSpPr>
            <a:xfrm>
              <a:off x="1320840" y="4024440"/>
              <a:ext cx="2241000" cy="452160"/>
              <a:chOff x="1320840" y="4024440"/>
              <a:chExt cx="2241000" cy="452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523880" y="4194360"/>
                <a:ext cx="291240" cy="229680"/>
                <a:chOff x="1523880" y="4194360"/>
                <a:chExt cx="291240" cy="229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1523880" y="4233960"/>
                  <a:ext cx="291240" cy="190080"/>
                  <a:chOff x="1523880" y="4233960"/>
                  <a:chExt cx="291240" cy="1900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1523880" y="4233960"/>
                    <a:ext cx="29124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1630080" y="4276080"/>
                    <a:ext cx="76320" cy="102960"/>
                    <a:chOff x="1630080" y="4276080"/>
                    <a:chExt cx="76320" cy="1029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V="1">
                      <a:off x="1630080" y="4376880"/>
                      <a:ext cx="76320" cy="21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667880" y="4276080"/>
                      <a:ext cx="0" cy="100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1603080" y="4194360"/>
                  <a:ext cx="131040" cy="26640"/>
                  <a:chOff x="1603080" y="4194360"/>
                  <a:chExt cx="131040" cy="266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1603080" y="41943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653480" y="41943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707480" y="41943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1779480" y="4260960"/>
                <a:ext cx="178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Heavy Mortar Plato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93520" y="4024440"/>
                <a:ext cx="89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ternative:     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20840" y="4314960"/>
                <a:ext cx="26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320840" y="3544920"/>
              <a:ext cx="2241000" cy="490320"/>
              <a:chOff x="1320840" y="3544920"/>
              <a:chExt cx="2241000" cy="490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788840" y="3544920"/>
                <a:ext cx="1163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1320840" y="3692520"/>
                <a:ext cx="2241000" cy="342720"/>
                <a:chOff x="1320840" y="3692520"/>
                <a:chExt cx="2241000" cy="34272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1522080" y="3727440"/>
                  <a:ext cx="283680" cy="258480"/>
                  <a:chOff x="1522080" y="3727440"/>
                  <a:chExt cx="283680" cy="258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1663200" y="37274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1522080" y="3792600"/>
                    <a:ext cx="283680" cy="193320"/>
                    <a:chOff x="1522080" y="3792600"/>
                    <a:chExt cx="283680" cy="193320"/>
                  </a:xfrm>
                </p:grpSpPr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1522080" y="3792600"/>
                      <a:ext cx="283680" cy="193320"/>
                      <a:chOff x="1522080" y="3792600"/>
                      <a:chExt cx="283680" cy="19332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1522080" y="379260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flipV="1">
                        <a:off x="1524960" y="3795120"/>
                        <a:ext cx="276120" cy="189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1522080" y="3795480"/>
                        <a:ext cx="28224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642320" y="3868560"/>
                      <a:ext cx="44640" cy="4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200" bIns="-16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3" name=""/>
                <p:cNvSpPr/>
                <p:nvPr/>
              </p:nvSpPr>
              <p:spPr>
                <a:xfrm>
                  <a:off x="1779480" y="3819600"/>
                  <a:ext cx="1782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Leichtgeschutze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20840" y="3889440"/>
                  <a:ext cx="267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04680" y="3692520"/>
                  <a:ext cx="893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-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1393560" y="3727440"/>
              <a:ext cx="173880" cy="747720"/>
              <a:chOff x="1393560" y="3727440"/>
              <a:chExt cx="173880" cy="747720"/>
            </a:xfrm>
          </p:grpSpPr>
          <p:sp>
            <p:nvSpPr>
              <p:cNvPr id="247" name=""/>
              <p:cNvSpPr/>
              <p:nvPr/>
            </p:nvSpPr>
            <p:spPr>
              <a:xfrm>
                <a:off x="1393560" y="3727440"/>
                <a:ext cx="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93560" y="3727440"/>
                <a:ext cx="16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94640" y="447516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1320840" y="871560"/>
            <a:ext cx="5297400" cy="4614120"/>
            <a:chOff x="1320840" y="871560"/>
            <a:chExt cx="5297400" cy="4614120"/>
          </a:xfrm>
        </p:grpSpPr>
        <p:sp>
          <p:nvSpPr>
            <p:cNvPr id="251" name=""/>
            <p:cNvSpPr/>
            <p:nvPr/>
          </p:nvSpPr>
          <p:spPr>
            <a:xfrm>
              <a:off x="1320840" y="1089000"/>
              <a:ext cx="2724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25880" y="1089000"/>
              <a:ext cx="3240" cy="4151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87840" y="87156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025880" y="1004760"/>
              <a:ext cx="2297160" cy="489600"/>
              <a:chOff x="4025880" y="1004760"/>
              <a:chExt cx="2297160" cy="4896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283280" y="1081080"/>
                <a:ext cx="283680" cy="245160"/>
                <a:chOff x="4283280" y="1081080"/>
                <a:chExt cx="283680" cy="24516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4283280" y="1133280"/>
                  <a:ext cx="283680" cy="192960"/>
                  <a:chOff x="4283280" y="1133280"/>
                  <a:chExt cx="283680" cy="192960"/>
                </a:xfrm>
              </p:grpSpPr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4283280" y="1133280"/>
                    <a:ext cx="283680" cy="192960"/>
                    <a:chOff x="4283280" y="1133280"/>
                    <a:chExt cx="283680" cy="1929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283280" y="1133280"/>
                      <a:ext cx="283680" cy="192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V="1">
                      <a:off x="4286160" y="1136160"/>
                      <a:ext cx="27612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283280" y="1136160"/>
                      <a:ext cx="282240" cy="183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4378320" y="1277640"/>
                    <a:ext cx="92520" cy="46080"/>
                    <a:chOff x="4378320" y="1277640"/>
                    <a:chExt cx="92520" cy="460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378320" y="1277640"/>
                      <a:ext cx="44280" cy="442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426560" y="1279080"/>
                      <a:ext cx="44280" cy="4464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4" name=""/>
                <p:cNvSpPr/>
                <p:nvPr/>
              </p:nvSpPr>
              <p:spPr>
                <a:xfrm>
                  <a:off x="4424400" y="1081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4587840" y="1157040"/>
                <a:ext cx="173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Fallschirmjaeger Recon Co.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1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87840" y="100476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2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25880" y="123336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022640" y="1422360"/>
              <a:ext cx="2560680" cy="451440"/>
              <a:chOff x="4022640" y="1422360"/>
              <a:chExt cx="2560680" cy="451440"/>
            </a:xfrm>
          </p:grpSpPr>
          <p:sp>
            <p:nvSpPr>
              <p:cNvPr id="269" name=""/>
              <p:cNvSpPr/>
              <p:nvPr/>
            </p:nvSpPr>
            <p:spPr>
              <a:xfrm>
                <a:off x="4022640" y="160632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4287960" y="1444320"/>
                <a:ext cx="310320" cy="269280"/>
                <a:chOff x="4287960" y="1444320"/>
                <a:chExt cx="310320" cy="269280"/>
              </a:xfrm>
            </p:grpSpPr>
            <p:grpSp>
              <p:nvGrpSpPr>
                <p:cNvPr id="271" name=""/>
                <p:cNvGrpSpPr/>
                <p:nvPr/>
              </p:nvGrpSpPr>
              <p:grpSpPr>
                <a:xfrm>
                  <a:off x="4287960" y="1501920"/>
                  <a:ext cx="310320" cy="211680"/>
                  <a:chOff x="4287960" y="1501920"/>
                  <a:chExt cx="310320" cy="2116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4287960" y="1501920"/>
                    <a:ext cx="310320" cy="2116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4383360" y="1559160"/>
                    <a:ext cx="119160" cy="61560"/>
                    <a:chOff x="4383360" y="1559160"/>
                    <a:chExt cx="119160" cy="6156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393440" y="1559160"/>
                      <a:ext cx="0" cy="61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43840" y="1559160"/>
                      <a:ext cx="0" cy="61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493880" y="1559160"/>
                      <a:ext cx="0" cy="61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383360" y="1559160"/>
                      <a:ext cx="11916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390200" y="1644480"/>
                    <a:ext cx="101520" cy="51480"/>
                    <a:chOff x="4390200" y="1644480"/>
                    <a:chExt cx="101520" cy="514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390200" y="1644480"/>
                      <a:ext cx="48600" cy="489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443120" y="1646280"/>
                      <a:ext cx="48600" cy="496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1" name=""/>
                <p:cNvSpPr/>
                <p:nvPr/>
              </p:nvSpPr>
              <p:spPr>
                <a:xfrm>
                  <a:off x="4444200" y="1444320"/>
                  <a:ext cx="0" cy="69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4587840" y="1536480"/>
                <a:ext cx="199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Fallschirmjaeger Pioniere Co.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87840" y="142236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027680" y="3749760"/>
              <a:ext cx="2563560" cy="451440"/>
              <a:chOff x="4027680" y="3749760"/>
              <a:chExt cx="2563560" cy="451440"/>
            </a:xfrm>
          </p:grpSpPr>
          <p:sp>
            <p:nvSpPr>
              <p:cNvPr id="285" name=""/>
              <p:cNvSpPr/>
              <p:nvPr/>
            </p:nvSpPr>
            <p:spPr>
              <a:xfrm>
                <a:off x="4027680" y="396864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4313160" y="3824280"/>
                <a:ext cx="283680" cy="248400"/>
                <a:chOff x="4313160" y="3824280"/>
                <a:chExt cx="283680" cy="2484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4313160" y="3879720"/>
                  <a:ext cx="283680" cy="192960"/>
                  <a:chOff x="4313160" y="3879720"/>
                  <a:chExt cx="283680" cy="192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4313160" y="3879720"/>
                    <a:ext cx="283680" cy="192960"/>
                    <a:chOff x="4313160" y="3879720"/>
                    <a:chExt cx="283680" cy="192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313160" y="3879720"/>
                      <a:ext cx="283680" cy="192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V="1">
                      <a:off x="4316040" y="3882600"/>
                      <a:ext cx="27612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4313160" y="3882600"/>
                      <a:ext cx="282240" cy="183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4433400" y="3955680"/>
                    <a:ext cx="4464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4454280" y="3824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4613400" y="3863880"/>
                <a:ext cx="197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eichtgeschutze Battery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13400" y="374976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025880" y="1797120"/>
              <a:ext cx="2316240" cy="451440"/>
              <a:chOff x="4025880" y="1797120"/>
              <a:chExt cx="2316240" cy="451440"/>
            </a:xfrm>
          </p:grpSpPr>
          <p:sp>
            <p:nvSpPr>
              <p:cNvPr id="297" name=""/>
              <p:cNvSpPr/>
              <p:nvPr/>
            </p:nvSpPr>
            <p:spPr>
              <a:xfrm>
                <a:off x="4025880" y="197964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4297320" y="1844640"/>
                <a:ext cx="291600" cy="228600"/>
                <a:chOff x="4297320" y="1844640"/>
                <a:chExt cx="291600" cy="22860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4297320" y="1882800"/>
                  <a:ext cx="291600" cy="190440"/>
                  <a:chOff x="4297320" y="1882800"/>
                  <a:chExt cx="291600" cy="1904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4298760" y="188280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334760" y="192456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4297320" y="188424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437360" y="188280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4378320" y="1844640"/>
                  <a:ext cx="131760" cy="27000"/>
                  <a:chOff x="4378320" y="1844640"/>
                  <a:chExt cx="131760" cy="270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4378320" y="1844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429080" y="18446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483080" y="1844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4606920" y="1911240"/>
                <a:ext cx="173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t. ( SP)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6920" y="179712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027680" y="2176560"/>
              <a:ext cx="2555640" cy="451440"/>
              <a:chOff x="4027680" y="2176560"/>
              <a:chExt cx="2555640" cy="451440"/>
            </a:xfrm>
          </p:grpSpPr>
          <p:sp>
            <p:nvSpPr>
              <p:cNvPr id="311" name=""/>
              <p:cNvSpPr/>
              <p:nvPr/>
            </p:nvSpPr>
            <p:spPr>
              <a:xfrm>
                <a:off x="4027680" y="238104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4300560" y="2246040"/>
                <a:ext cx="284040" cy="230040"/>
                <a:chOff x="4300560" y="2246040"/>
                <a:chExt cx="284040" cy="2300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4300560" y="2282400"/>
                  <a:ext cx="284040" cy="193680"/>
                  <a:chOff x="4300560" y="2282400"/>
                  <a:chExt cx="284040" cy="1936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4300560" y="228240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V="1">
                    <a:off x="4300560" y="2286360"/>
                    <a:ext cx="13968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440240" y="2282400"/>
                    <a:ext cx="1396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4376880" y="2246040"/>
                  <a:ext cx="131760" cy="27000"/>
                  <a:chOff x="4376880" y="2246040"/>
                  <a:chExt cx="13176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4376880" y="22460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427640" y="2246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481640" y="22460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1" name=""/>
              <p:cNvSpPr/>
              <p:nvPr/>
            </p:nvSpPr>
            <p:spPr>
              <a:xfrm>
                <a:off x="4605480" y="2290680"/>
                <a:ext cx="197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t. (Towed)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05480" y="217656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029120" y="2565360"/>
              <a:ext cx="2581200" cy="451800"/>
              <a:chOff x="4029120" y="2565360"/>
              <a:chExt cx="2581200" cy="451800"/>
            </a:xfrm>
          </p:grpSpPr>
          <p:sp>
            <p:nvSpPr>
              <p:cNvPr id="324" name=""/>
              <p:cNvSpPr/>
              <p:nvPr/>
            </p:nvSpPr>
            <p:spPr>
              <a:xfrm>
                <a:off x="4029120" y="27972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4297320" y="2651040"/>
                <a:ext cx="291600" cy="236160"/>
                <a:chOff x="4297320" y="2651040"/>
                <a:chExt cx="291600" cy="2361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4376520" y="2651040"/>
                  <a:ext cx="131760" cy="27000"/>
                  <a:chOff x="4376520" y="2651040"/>
                  <a:chExt cx="131760" cy="270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4376520" y="26510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427280" y="2651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481280" y="26510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4297320" y="2693880"/>
                  <a:ext cx="291600" cy="193320"/>
                  <a:chOff x="4297320" y="2693880"/>
                  <a:chExt cx="291600" cy="1933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297320" y="269604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368600" y="278676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>
                    <a:off x="4297320" y="269604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438440" y="269388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>
                <a:off x="4632480" y="2679840"/>
                <a:ext cx="197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Flak Platoon (SP) (b)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32480" y="256536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022640" y="2940120"/>
              <a:ext cx="2595600" cy="451440"/>
              <a:chOff x="4022640" y="2940120"/>
              <a:chExt cx="2595600" cy="451440"/>
            </a:xfrm>
          </p:grpSpPr>
          <p:sp>
            <p:nvSpPr>
              <p:cNvPr id="338" name=""/>
              <p:cNvSpPr/>
              <p:nvPr/>
            </p:nvSpPr>
            <p:spPr>
              <a:xfrm>
                <a:off x="4022640" y="317340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4297320" y="3032280"/>
                <a:ext cx="291600" cy="236160"/>
                <a:chOff x="4297320" y="3032280"/>
                <a:chExt cx="291600" cy="23616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4376520" y="3032280"/>
                  <a:ext cx="131760" cy="27000"/>
                  <a:chOff x="4376520" y="3032280"/>
                  <a:chExt cx="131760" cy="270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376520" y="3032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427280" y="30322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481280" y="3032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4297320" y="3075120"/>
                  <a:ext cx="291600" cy="193320"/>
                  <a:chOff x="4297320" y="3075120"/>
                  <a:chExt cx="291600" cy="1933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4297320" y="307728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4368600" y="316800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4297320" y="307728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438440" y="307512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9" name=""/>
              <p:cNvSpPr/>
              <p:nvPr/>
            </p:nvSpPr>
            <p:spPr>
              <a:xfrm>
                <a:off x="4640400" y="3054240"/>
                <a:ext cx="197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Flak Platoon (Towed)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40400" y="29401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025880" y="3354480"/>
              <a:ext cx="2016360" cy="451440"/>
              <a:chOff x="4025880" y="3354480"/>
              <a:chExt cx="2016360" cy="451440"/>
            </a:xfrm>
          </p:grpSpPr>
          <p:sp>
            <p:nvSpPr>
              <p:cNvPr id="352" name=""/>
              <p:cNvSpPr/>
              <p:nvPr/>
            </p:nvSpPr>
            <p:spPr>
              <a:xfrm>
                <a:off x="4025880" y="356868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4297320" y="3414600"/>
                <a:ext cx="291960" cy="244080"/>
                <a:chOff x="4297320" y="3414600"/>
                <a:chExt cx="291960" cy="24408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297320" y="3465360"/>
                  <a:ext cx="291960" cy="193320"/>
                  <a:chOff x="4297320" y="3465360"/>
                  <a:chExt cx="291960" cy="1933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4297320" y="3467520"/>
                    <a:ext cx="29196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368600" y="3558240"/>
                    <a:ext cx="1450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4297320" y="346752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438440" y="3465360"/>
                    <a:ext cx="15084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4446720" y="3414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4616640" y="3468600"/>
                <a:ext cx="142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Flak Battery   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1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16640" y="33544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-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027680" y="4684680"/>
              <a:ext cx="2562120" cy="330120"/>
              <a:chOff x="4027680" y="4684680"/>
              <a:chExt cx="2562120" cy="330120"/>
            </a:xfrm>
          </p:grpSpPr>
          <p:sp>
            <p:nvSpPr>
              <p:cNvPr id="363" name=""/>
              <p:cNvSpPr/>
              <p:nvPr/>
            </p:nvSpPr>
            <p:spPr>
              <a:xfrm>
                <a:off x="4027680" y="489276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4297320" y="4751280"/>
                <a:ext cx="291960" cy="236160"/>
                <a:chOff x="4297320" y="4751280"/>
                <a:chExt cx="291960" cy="23616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297320" y="4797360"/>
                  <a:ext cx="291960" cy="190080"/>
                  <a:chOff x="4297320" y="4797360"/>
                  <a:chExt cx="291960" cy="1900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4297320" y="4797360"/>
                    <a:ext cx="29196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422960" y="487008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4405320" y="4751280"/>
                  <a:ext cx="74880" cy="63360"/>
                  <a:chOff x="4405320" y="4751280"/>
                  <a:chExt cx="74880" cy="633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405320" y="4751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480200" y="4751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1" name=""/>
              <p:cNvSpPr/>
              <p:nvPr/>
            </p:nvSpPr>
            <p:spPr>
              <a:xfrm>
                <a:off x="4611600" y="4799160"/>
                <a:ext cx="1978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2nd Light Artillery Battal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11600" y="46846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S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4025880" y="4138560"/>
              <a:ext cx="2573280" cy="451800"/>
              <a:chOff x="4025880" y="4138560"/>
              <a:chExt cx="2573280" cy="451800"/>
            </a:xfrm>
          </p:grpSpPr>
          <p:sp>
            <p:nvSpPr>
              <p:cNvPr id="374" name=""/>
              <p:cNvSpPr/>
              <p:nvPr/>
            </p:nvSpPr>
            <p:spPr>
              <a:xfrm>
                <a:off x="4025880" y="434988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4307040" y="4216320"/>
                <a:ext cx="291600" cy="236160"/>
                <a:chOff x="4307040" y="4216320"/>
                <a:chExt cx="291600" cy="23616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4307040" y="4262400"/>
                  <a:ext cx="291600" cy="190080"/>
                  <a:chOff x="4307040" y="4262400"/>
                  <a:chExt cx="291600" cy="1900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307040" y="426240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432680" y="43351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4452840" y="42163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4621320" y="4253040"/>
                <a:ext cx="197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ery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in 1st Light Artillery Battal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21320" y="413856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S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029120" y="5033880"/>
              <a:ext cx="2570040" cy="451800"/>
              <a:chOff x="4029120" y="5033880"/>
              <a:chExt cx="2570040" cy="451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029120" y="52387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4307040" y="5111640"/>
                <a:ext cx="291600" cy="229680"/>
                <a:chOff x="4307040" y="5111640"/>
                <a:chExt cx="291600" cy="22968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4307040" y="5151240"/>
                  <a:ext cx="291600" cy="190080"/>
                  <a:chOff x="4307040" y="5151240"/>
                  <a:chExt cx="291600" cy="19008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4307040" y="515124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413240" y="5193360"/>
                    <a:ext cx="76680" cy="102960"/>
                    <a:chOff x="4413240" y="5193360"/>
                    <a:chExt cx="76680" cy="1029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V="1">
                      <a:off x="4413240" y="5294160"/>
                      <a:ext cx="76680" cy="21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451400" y="5193360"/>
                      <a:ext cx="0" cy="100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4386240" y="5111640"/>
                  <a:ext cx="131040" cy="26640"/>
                  <a:chOff x="4386240" y="5111640"/>
                  <a:chExt cx="131040" cy="2664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4386240" y="51116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436640" y="511164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490640" y="51116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4" name=""/>
              <p:cNvSpPr/>
              <p:nvPr/>
            </p:nvSpPr>
            <p:spPr>
              <a:xfrm>
                <a:off x="4621320" y="5148360"/>
                <a:ext cx="1977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Mortar Platoon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21320" y="50338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>
            <a:off x="4614840" y="4537080"/>
            <a:ext cx="171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E SUPPORT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54160" y="4589640"/>
            <a:ext cx="26082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) SP Panzerjaeger platoons were equipped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g IIIG                                             GE-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)  The SP Light Flak Platoons were equipped wit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dKfz 7/2 37mm Flak H-Track          GE-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)  Panzershreck teams were available as attachments (1-2/FJ infantry company). The Hermann 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öring Division should have up to 2/infantry compan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4280" y="285840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zerschreck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GE-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11120" y="2952720"/>
            <a:ext cx="27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547640" y="2836800"/>
            <a:ext cx="231480" cy="193680"/>
            <a:chOff x="1547640" y="2836800"/>
            <a:chExt cx="231480" cy="193680"/>
          </a:xfrm>
        </p:grpSpPr>
        <p:grpSp>
          <p:nvGrpSpPr>
            <p:cNvPr id="401" name=""/>
            <p:cNvGrpSpPr/>
            <p:nvPr/>
          </p:nvGrpSpPr>
          <p:grpSpPr>
            <a:xfrm>
              <a:off x="1547640" y="2873520"/>
              <a:ext cx="231480" cy="156960"/>
              <a:chOff x="1547640" y="2873520"/>
              <a:chExt cx="231480" cy="156960"/>
            </a:xfrm>
          </p:grpSpPr>
          <p:sp>
            <p:nvSpPr>
              <p:cNvPr id="402" name=""/>
              <p:cNvSpPr/>
              <p:nvPr/>
            </p:nvSpPr>
            <p:spPr>
              <a:xfrm>
                <a:off x="1547640" y="2873520"/>
                <a:ext cx="23148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1547640" y="2876760"/>
                <a:ext cx="11376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61400" y="2873520"/>
                <a:ext cx="11376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626840" y="2836800"/>
              <a:ext cx="74520" cy="28800"/>
              <a:chOff x="1626840" y="2836800"/>
              <a:chExt cx="74520" cy="28800"/>
            </a:xfrm>
          </p:grpSpPr>
          <p:sp>
            <p:nvSpPr>
              <p:cNvPr id="406" name=""/>
              <p:cNvSpPr/>
              <p:nvPr/>
            </p:nvSpPr>
            <p:spPr>
              <a:xfrm>
                <a:off x="1626840" y="2836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674360" y="2838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64840" y="151920"/>
            <a:ext cx="6607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man Fallschirmjaeger ME-24-&gt;ME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90680" y="826920"/>
            <a:ext cx="2700360" cy="2328120"/>
            <a:chOff x="490680" y="826920"/>
            <a:chExt cx="2700360" cy="2328120"/>
          </a:xfrm>
        </p:grpSpPr>
        <p:sp>
          <p:nvSpPr>
            <p:cNvPr id="410" name=""/>
            <p:cNvSpPr/>
            <p:nvPr/>
          </p:nvSpPr>
          <p:spPr>
            <a:xfrm>
              <a:off x="490680" y="2511000"/>
              <a:ext cx="270036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 June '44 Equip all Fallschirmjaegers with Panzerfaus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 Fallschirmjaegers in the recon company receive the recon bonu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09760" y="826920"/>
              <a:ext cx="2632320" cy="1685520"/>
              <a:chOff x="509760" y="826920"/>
              <a:chExt cx="2632320" cy="16855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09760" y="826920"/>
                <a:ext cx="2367000" cy="1587240"/>
                <a:chOff x="509760" y="826920"/>
                <a:chExt cx="2367000" cy="15872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9440" y="952200"/>
                  <a:ext cx="0" cy="146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509760" y="863280"/>
                  <a:ext cx="284040" cy="245880"/>
                  <a:chOff x="509760" y="863280"/>
                  <a:chExt cx="284040" cy="24588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09760" y="915840"/>
                    <a:ext cx="284040" cy="193320"/>
                    <a:chOff x="509760" y="915840"/>
                    <a:chExt cx="284040" cy="19332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509760" y="915840"/>
                      <a:ext cx="284040" cy="193320"/>
                      <a:chOff x="509760" y="915840"/>
                      <a:chExt cx="284040" cy="1933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509760" y="915840"/>
                        <a:ext cx="284040" cy="1933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flipV="1">
                        <a:off x="512640" y="918360"/>
                        <a:ext cx="276480" cy="189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509760" y="918720"/>
                        <a:ext cx="282600" cy="1843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604800" y="1060560"/>
                      <a:ext cx="92520" cy="46080"/>
                      <a:chOff x="604800" y="1060560"/>
                      <a:chExt cx="92520" cy="46080"/>
                    </a:xfrm>
                  </p:grpSpPr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604800" y="1060560"/>
                        <a:ext cx="44280" cy="4428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" bIns="-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653040" y="1062000"/>
                        <a:ext cx="44280" cy="4464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" bIns="-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23" name=""/>
                  <p:cNvSpPr/>
                  <p:nvPr/>
                </p:nvSpPr>
                <p:spPr>
                  <a:xfrm>
                    <a:off x="651240" y="86328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1143720" y="826920"/>
                  <a:ext cx="1576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NEUVER ELEMENT-2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141560" y="1009440"/>
                  <a:ext cx="1735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allschirmjaeger Compan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43320" y="1215720"/>
                <a:ext cx="2474280" cy="374400"/>
                <a:chOff x="643320" y="1215720"/>
                <a:chExt cx="2474280" cy="3744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43320" y="1429920"/>
                  <a:ext cx="330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17800" y="1215720"/>
                  <a:ext cx="185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881280" y="1304640"/>
                  <a:ext cx="236160" cy="209520"/>
                  <a:chOff x="881280" y="1304640"/>
                  <a:chExt cx="236160" cy="2095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81280" y="1355400"/>
                    <a:ext cx="236160" cy="158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987480" y="13046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1108440" y="1374480"/>
                  <a:ext cx="2009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48000" y="1588680"/>
                <a:ext cx="2494080" cy="361080"/>
                <a:chOff x="648000" y="1588680"/>
                <a:chExt cx="2494080" cy="36108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895680" y="1588680"/>
                  <a:ext cx="231840" cy="198000"/>
                  <a:chOff x="895680" y="1588680"/>
                  <a:chExt cx="231840" cy="198000"/>
                </a:xfrm>
              </p:grpSpPr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895680" y="1629720"/>
                    <a:ext cx="231840" cy="156960"/>
                    <a:chOff x="895680" y="1629720"/>
                    <a:chExt cx="231840" cy="156960"/>
                  </a:xfrm>
                </p:grpSpPr>
                <p:grpSp>
                  <p:nvGrpSpPr>
                    <p:cNvPr id="436" name=""/>
                    <p:cNvGrpSpPr/>
                    <p:nvPr/>
                  </p:nvGrpSpPr>
                  <p:grpSpPr>
                    <a:xfrm>
                      <a:off x="895680" y="1629720"/>
                      <a:ext cx="231840" cy="156960"/>
                      <a:chOff x="895680" y="1629720"/>
                      <a:chExt cx="231840" cy="156960"/>
                    </a:xfrm>
                  </p:grpSpPr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895680" y="16297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 flipV="1">
                        <a:off x="897840" y="1631880"/>
                        <a:ext cx="22572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895680" y="1631880"/>
                        <a:ext cx="23076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973440" y="1747080"/>
                      <a:ext cx="75960" cy="38160"/>
                      <a:chOff x="973440" y="1747080"/>
                      <a:chExt cx="75960" cy="3816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973440" y="1747080"/>
                        <a:ext cx="36360" cy="3636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1013040" y="1748520"/>
                        <a:ext cx="36360" cy="36720"/>
                      </a:xfrm>
                      <a:prstGeom prst="blockArc">
                        <a:avLst>
                          <a:gd name="adj1" fmla="val 10283035"/>
                          <a:gd name="adj2" fmla="val 516965"/>
                          <a:gd name="adj3" fmla="val 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973440" y="1588680"/>
                    <a:ext cx="74520" cy="28080"/>
                    <a:chOff x="973440" y="1588680"/>
                    <a:chExt cx="74520" cy="280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973440" y="15886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1020960" y="15901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46" name=""/>
                <p:cNvSpPr/>
                <p:nvPr/>
              </p:nvSpPr>
              <p:spPr>
                <a:xfrm>
                  <a:off x="648000" y="1717200"/>
                  <a:ext cx="330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141920" y="1612440"/>
                  <a:ext cx="2000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Fallschirmjaeger            GE-67       (3 Panzerfaust)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49440" y="1949040"/>
                <a:ext cx="2455920" cy="226800"/>
                <a:chOff x="649440" y="1949040"/>
                <a:chExt cx="2455920" cy="2268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49440" y="2088720"/>
                  <a:ext cx="330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882720" y="1949040"/>
                  <a:ext cx="236520" cy="217080"/>
                  <a:chOff x="882720" y="1949040"/>
                  <a:chExt cx="236520" cy="2170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963720" y="1949040"/>
                    <a:ext cx="74520" cy="28080"/>
                    <a:chOff x="963720" y="1949040"/>
                    <a:chExt cx="74520" cy="280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963720" y="19490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1011240" y="19504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882720" y="2001240"/>
                    <a:ext cx="236520" cy="164880"/>
                    <a:chOff x="882720" y="2001240"/>
                    <a:chExt cx="236520" cy="16488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82720" y="200592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882720" y="201204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889200" y="200124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900360" y="202968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59" name=""/>
                <p:cNvSpPr/>
                <p:nvPr/>
              </p:nvSpPr>
              <p:spPr>
                <a:xfrm>
                  <a:off x="1104840" y="1960200"/>
                  <a:ext cx="200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Light Machine Gun         GE-4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57360" y="2157120"/>
                <a:ext cx="2475000" cy="355320"/>
                <a:chOff x="657360" y="2157120"/>
                <a:chExt cx="2475000" cy="35532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657360" y="2296800"/>
                  <a:ext cx="2475000" cy="215640"/>
                  <a:chOff x="657360" y="2296800"/>
                  <a:chExt cx="2475000" cy="21564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892440" y="2296800"/>
                    <a:ext cx="239400" cy="190080"/>
                    <a:chOff x="892440" y="2296800"/>
                    <a:chExt cx="239400" cy="190080"/>
                  </a:xfrm>
                </p:grpSpPr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892440" y="2329920"/>
                      <a:ext cx="239400" cy="156960"/>
                      <a:chOff x="892440" y="2329920"/>
                      <a:chExt cx="239400" cy="15696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892440" y="2329920"/>
                        <a:ext cx="23940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65" name=""/>
                      <p:cNvGrpSpPr/>
                      <p:nvPr/>
                    </p:nvGrpSpPr>
                    <p:grpSpPr>
                      <a:xfrm>
                        <a:off x="979560" y="2364480"/>
                        <a:ext cx="63000" cy="84960"/>
                        <a:chOff x="979560" y="2364480"/>
                        <a:chExt cx="63000" cy="84960"/>
                      </a:xfrm>
                    </p:grpSpPr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 flipV="1">
                          <a:off x="979560" y="2448000"/>
                          <a:ext cx="63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1010880" y="2364480"/>
                          <a:ext cx="0" cy="83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720" bIns="36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8" name=""/>
                    <p:cNvGrpSpPr/>
                    <p:nvPr/>
                  </p:nvGrpSpPr>
                  <p:grpSpPr>
                    <a:xfrm>
                      <a:off x="974880" y="2296800"/>
                      <a:ext cx="73800" cy="28080"/>
                      <a:chOff x="974880" y="2296800"/>
                      <a:chExt cx="73800" cy="28080"/>
                    </a:xfrm>
                  </p:grpSpPr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974880" y="229680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1022040" y="22982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57360" y="2410920"/>
                    <a:ext cx="330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131840" y="2296800"/>
                    <a:ext cx="2000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80mm Mortar                 GE-5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" name=""/>
                <p:cNvSpPr/>
                <p:nvPr/>
              </p:nvSpPr>
              <p:spPr>
                <a:xfrm>
                  <a:off x="1122480" y="2157120"/>
                  <a:ext cx="1735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4" name=""/>
          <p:cNvGrpSpPr/>
          <p:nvPr/>
        </p:nvGrpSpPr>
        <p:grpSpPr>
          <a:xfrm>
            <a:off x="490680" y="3673440"/>
            <a:ext cx="2691720" cy="1357200"/>
            <a:chOff x="490680" y="3673440"/>
            <a:chExt cx="2691720" cy="1357200"/>
          </a:xfrm>
        </p:grpSpPr>
        <p:grpSp>
          <p:nvGrpSpPr>
            <p:cNvPr id="475" name=""/>
            <p:cNvGrpSpPr/>
            <p:nvPr/>
          </p:nvGrpSpPr>
          <p:grpSpPr>
            <a:xfrm>
              <a:off x="634680" y="4005360"/>
              <a:ext cx="2474280" cy="374400"/>
              <a:chOff x="634680" y="4005360"/>
              <a:chExt cx="2474280" cy="374400"/>
            </a:xfrm>
          </p:grpSpPr>
          <p:sp>
            <p:nvSpPr>
              <p:cNvPr id="476" name=""/>
              <p:cNvSpPr/>
              <p:nvPr/>
            </p:nvSpPr>
            <p:spPr>
              <a:xfrm>
                <a:off x="634680" y="4219560"/>
                <a:ext cx="330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09160" y="4005360"/>
                <a:ext cx="185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872640" y="4094280"/>
                <a:ext cx="236160" cy="209520"/>
                <a:chOff x="872640" y="4094280"/>
                <a:chExt cx="236160" cy="2095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872640" y="4145040"/>
                  <a:ext cx="236160" cy="1587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978840" y="4094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1099800" y="4164120"/>
                <a:ext cx="2009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90680" y="3673440"/>
              <a:ext cx="2691720" cy="1260360"/>
              <a:chOff x="490680" y="3673440"/>
              <a:chExt cx="2691720" cy="126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1096920" y="3673440"/>
                <a:ext cx="1576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-2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95120" y="3855960"/>
                <a:ext cx="20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allschirmjaeger Pioniere Co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1160" y="3836880"/>
                <a:ext cx="0" cy="109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490680" y="3724200"/>
                <a:ext cx="309960" cy="269280"/>
                <a:chOff x="490680" y="3724200"/>
                <a:chExt cx="309960" cy="26928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490680" y="3781800"/>
                  <a:ext cx="309960" cy="211680"/>
                  <a:chOff x="490680" y="3781800"/>
                  <a:chExt cx="309960" cy="21168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490680" y="3781800"/>
                    <a:ext cx="309960" cy="2116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86080" y="3839040"/>
                    <a:ext cx="119160" cy="61560"/>
                    <a:chOff x="586080" y="3839040"/>
                    <a:chExt cx="119160" cy="6156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596160" y="3839040"/>
                      <a:ext cx="0" cy="61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646560" y="3839040"/>
                      <a:ext cx="0" cy="61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96600" y="3839040"/>
                      <a:ext cx="0" cy="6156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586080" y="3839040"/>
                      <a:ext cx="11916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92920" y="3924360"/>
                    <a:ext cx="101520" cy="51480"/>
                    <a:chOff x="592920" y="3924360"/>
                    <a:chExt cx="101520" cy="5148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592920" y="3924360"/>
                      <a:ext cx="48600" cy="4896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645840" y="3926160"/>
                      <a:ext cx="48600" cy="49680"/>
                    </a:xfrm>
                    <a:prstGeom prst="blockArc">
                      <a:avLst>
                        <a:gd name="adj1" fmla="val 10283035"/>
                        <a:gd name="adj2" fmla="val 516965"/>
                        <a:gd name="adj3" fmla="val 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97" name=""/>
                <p:cNvSpPr/>
                <p:nvPr/>
              </p:nvSpPr>
              <p:spPr>
                <a:xfrm>
                  <a:off x="646920" y="3724200"/>
                  <a:ext cx="0" cy="69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39720" y="4383000"/>
              <a:ext cx="2493000" cy="356400"/>
              <a:chOff x="639720" y="4383000"/>
              <a:chExt cx="2493000" cy="356400"/>
            </a:xfrm>
          </p:grpSpPr>
          <p:sp>
            <p:nvSpPr>
              <p:cNvPr id="499" name=""/>
              <p:cNvSpPr/>
              <p:nvPr/>
            </p:nvSpPr>
            <p:spPr>
              <a:xfrm>
                <a:off x="639720" y="4506840"/>
                <a:ext cx="32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32920" y="4402080"/>
                <a:ext cx="1999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Pioniere                         GE-47        (3 Flamethrowers)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882000" y="4383000"/>
                <a:ext cx="231480" cy="195120"/>
                <a:chOff x="882000" y="4383000"/>
                <a:chExt cx="231480" cy="19512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882000" y="4421160"/>
                  <a:ext cx="231480" cy="156960"/>
                  <a:chOff x="882000" y="4421160"/>
                  <a:chExt cx="231480" cy="15696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882000" y="442116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965880" y="4476600"/>
                    <a:ext cx="64800" cy="45720"/>
                    <a:chOff x="965880" y="4476600"/>
                    <a:chExt cx="64800" cy="457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965880" y="4476600"/>
                      <a:ext cx="0" cy="45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997200" y="4476600"/>
                      <a:ext cx="0" cy="45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1030680" y="4476600"/>
                      <a:ext cx="0" cy="457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965880" y="4476600"/>
                      <a:ext cx="6300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959760" y="4383000"/>
                  <a:ext cx="74520" cy="28080"/>
                  <a:chOff x="959760" y="4383000"/>
                  <a:chExt cx="74520" cy="2808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959760" y="4383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007280" y="4384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12" name=""/>
            <p:cNvGrpSpPr/>
            <p:nvPr/>
          </p:nvGrpSpPr>
          <p:grpSpPr>
            <a:xfrm>
              <a:off x="630000" y="4672080"/>
              <a:ext cx="2474280" cy="358560"/>
              <a:chOff x="630000" y="4672080"/>
              <a:chExt cx="2474280" cy="35856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630000" y="4815000"/>
                <a:ext cx="2474280" cy="215640"/>
                <a:chOff x="630000" y="4815000"/>
                <a:chExt cx="2474280" cy="2156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864720" y="4815000"/>
                  <a:ext cx="239040" cy="190080"/>
                  <a:chOff x="864720" y="4815000"/>
                  <a:chExt cx="239040" cy="19008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864720" y="4848120"/>
                    <a:ext cx="239040" cy="156960"/>
                    <a:chOff x="864720" y="4848120"/>
                    <a:chExt cx="239040" cy="15696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864720" y="4848120"/>
                      <a:ext cx="2390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951840" y="4882680"/>
                      <a:ext cx="63000" cy="84960"/>
                      <a:chOff x="951840" y="4882680"/>
                      <a:chExt cx="63000" cy="8496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 flipV="1">
                        <a:off x="951840" y="4966200"/>
                        <a:ext cx="63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983160" y="4882680"/>
                        <a:ext cx="0" cy="8352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947160" y="4815000"/>
                    <a:ext cx="73800" cy="28080"/>
                    <a:chOff x="947160" y="4815000"/>
                    <a:chExt cx="73800" cy="2808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947160" y="481500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994320" y="48164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23" name=""/>
                <p:cNvSpPr/>
                <p:nvPr/>
              </p:nvSpPr>
              <p:spPr>
                <a:xfrm>
                  <a:off x="630000" y="4929120"/>
                  <a:ext cx="32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104120" y="4815000"/>
                  <a:ext cx="200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80mm Mortar                 GE-5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1113840" y="4672080"/>
                <a:ext cx="173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3900600" y="826920"/>
            <a:ext cx="2700360" cy="1690200"/>
            <a:chOff x="3900600" y="826920"/>
            <a:chExt cx="2700360" cy="1690200"/>
          </a:xfrm>
        </p:grpSpPr>
        <p:grpSp>
          <p:nvGrpSpPr>
            <p:cNvPr id="527" name=""/>
            <p:cNvGrpSpPr/>
            <p:nvPr/>
          </p:nvGrpSpPr>
          <p:grpSpPr>
            <a:xfrm>
              <a:off x="3900600" y="826920"/>
              <a:ext cx="2700360" cy="1690200"/>
              <a:chOff x="3900600" y="826920"/>
              <a:chExt cx="2700360" cy="16902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924360" y="826920"/>
                <a:ext cx="2621160" cy="1047600"/>
                <a:chOff x="3924360" y="826920"/>
                <a:chExt cx="2621160" cy="104760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3924360" y="826920"/>
                  <a:ext cx="2347920" cy="955800"/>
                  <a:chOff x="3924360" y="826920"/>
                  <a:chExt cx="2347920" cy="95580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4067280" y="1055520"/>
                    <a:ext cx="0" cy="727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3924360" y="892080"/>
                    <a:ext cx="283680" cy="258480"/>
                    <a:chOff x="3924360" y="892080"/>
                    <a:chExt cx="283680" cy="25848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4065480" y="89208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3924360" y="957240"/>
                      <a:ext cx="283680" cy="193320"/>
                      <a:chOff x="3924360" y="957240"/>
                      <a:chExt cx="283680" cy="193320"/>
                    </a:xfrm>
                  </p:grpSpPr>
                  <p:grpSp>
                    <p:nvGrpSpPr>
                      <p:cNvPr id="534" name=""/>
                      <p:cNvGrpSpPr/>
                      <p:nvPr/>
                    </p:nvGrpSpPr>
                    <p:grpSpPr>
                      <a:xfrm>
                        <a:off x="3924360" y="957240"/>
                        <a:ext cx="283680" cy="193320"/>
                        <a:chOff x="3924360" y="957240"/>
                        <a:chExt cx="283680" cy="193320"/>
                      </a:xfrm>
                    </p:grpSpPr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3924360" y="957240"/>
                          <a:ext cx="283680" cy="1933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V="1">
                          <a:off x="3927240" y="959760"/>
                          <a:ext cx="276120" cy="18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>
                          <a:off x="3924360" y="960120"/>
                          <a:ext cx="282240" cy="18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4044600" y="1033200"/>
                        <a:ext cx="44640" cy="428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200" bIns="-16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4539240" y="826920"/>
                    <a:ext cx="15768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ANEUVER ELEMENT-2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537080" y="1009440"/>
                    <a:ext cx="17352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Leichtgeschutze Battery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a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4070520" y="1204920"/>
                  <a:ext cx="2475000" cy="374400"/>
                  <a:chOff x="4070520" y="1204920"/>
                  <a:chExt cx="2475000" cy="37440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4070520" y="1419120"/>
                    <a:ext cx="330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545360" y="1204920"/>
                    <a:ext cx="18543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4308840" y="1293840"/>
                    <a:ext cx="236520" cy="209520"/>
                    <a:chOff x="4308840" y="1293840"/>
                    <a:chExt cx="236520" cy="20952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4308840" y="1344600"/>
                      <a:ext cx="236520" cy="158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4415400" y="12938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7" name=""/>
                  <p:cNvSpPr/>
                  <p:nvPr/>
                </p:nvSpPr>
                <p:spPr>
                  <a:xfrm>
                    <a:off x="4536000" y="1363680"/>
                    <a:ext cx="2009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Commander                   GE-46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4070520" y="1650960"/>
                  <a:ext cx="2475000" cy="223560"/>
                  <a:chOff x="4070520" y="1650960"/>
                  <a:chExt cx="2475000" cy="223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4070520" y="1773000"/>
                    <a:ext cx="330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4319640" y="1650960"/>
                    <a:ext cx="231840" cy="191520"/>
                    <a:chOff x="4319640" y="1650960"/>
                    <a:chExt cx="231840" cy="191520"/>
                  </a:xfrm>
                </p:grpSpPr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4319640" y="1685520"/>
                      <a:ext cx="231840" cy="156960"/>
                      <a:chOff x="4319640" y="1685520"/>
                      <a:chExt cx="231840" cy="156960"/>
                    </a:xfrm>
                  </p:grpSpPr>
                  <p:grpSp>
                    <p:nvGrpSpPr>
                      <p:cNvPr id="552" name=""/>
                      <p:cNvGrpSpPr/>
                      <p:nvPr/>
                    </p:nvGrpSpPr>
                    <p:grpSpPr>
                      <a:xfrm>
                        <a:off x="4319640" y="1685520"/>
                        <a:ext cx="231840" cy="156960"/>
                        <a:chOff x="4319640" y="1685520"/>
                        <a:chExt cx="231840" cy="156960"/>
                      </a:xfrm>
                    </p:grpSpPr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>
                          <a:off x="4319640" y="1685520"/>
                          <a:ext cx="231840" cy="1569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V="1">
                          <a:off x="4321800" y="1687680"/>
                          <a:ext cx="225720" cy="153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>
                          <a:off x="4319640" y="1687680"/>
                          <a:ext cx="230760" cy="149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56" name=""/>
                      <p:cNvSpPr/>
                      <p:nvPr/>
                    </p:nvSpPr>
                    <p:spPr>
                      <a:xfrm>
                        <a:off x="4417920" y="1747080"/>
                        <a:ext cx="36720" cy="34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320" bIns="-22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4397400" y="1650960"/>
                      <a:ext cx="74520" cy="27720"/>
                      <a:chOff x="4397400" y="1650960"/>
                      <a:chExt cx="74520" cy="2772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4397400" y="1650960"/>
                        <a:ext cx="2844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4444920" y="1652400"/>
                        <a:ext cx="270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60" name=""/>
                  <p:cNvSpPr/>
                  <p:nvPr/>
                </p:nvSpPr>
                <p:spPr>
                  <a:xfrm>
                    <a:off x="4545000" y="1658880"/>
                    <a:ext cx="2000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105mm Recoilless Gun  GE-66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61" name=""/>
              <p:cNvSpPr/>
              <p:nvPr/>
            </p:nvSpPr>
            <p:spPr>
              <a:xfrm>
                <a:off x="3900600" y="1873080"/>
                <a:ext cx="2700360" cy="6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a) The two guns of the Leichtgeschutze battery may also operate as separate unit attachments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b) When operating as attachment to Regiment, use as direct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4527720" y="1522440"/>
              <a:ext cx="1735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dcterms:modified xsi:type="dcterms:W3CDTF">2002-12-11T23:27:27Z</dcterms:modified>
  <cp:revision>69</cp:revision>
  <dc:subject/>
  <dc:title>PowerPoint Presentation</dc:title>
</cp:coreProperties>
</file>