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7D6-2AFB-4698-B782-C32B8360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DD89-921E-4A5B-B41B-BD2F4568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07A-9C01-4013-B9B1-0E076188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9E2-72CE-4B47-8145-30A5DAB6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594-DDF3-4A8A-BD17-FE283673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84A9-7E5A-4C68-9B72-902F90D6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FCBA-40FC-482B-8212-CB8DD060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62D-B9D7-4E93-969B-8E970D61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5D6-4567-4DFC-9DDD-76EC150D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B527-B949-4BEC-8EA3-71F02850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2E5-2FF9-444F-B125-DCB835A7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23C-1B81-40E5-8C6E-E7ED0436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DACD-5472-431B-BAF5-83EDFE386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6040" y="417240"/>
            <a:ext cx="2727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Battle Group-</a:t>
            </a:r>
            <a:r>
              <a:rPr b="1" lang="en-GB" sz="1000" spc="-1" strike="noStrike">
                <a:solidFill>
                  <a:srgbClr val="99cc00"/>
                </a:solidFill>
                <a:latin typeface="Arial"/>
              </a:rPr>
              <a:t>02 (Schwere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vy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zer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93720" y="1028880"/>
            <a:ext cx="347040" cy="299160"/>
            <a:chOff x="693720" y="1028880"/>
            <a:chExt cx="347040" cy="299160"/>
          </a:xfrm>
        </p:grpSpPr>
        <p:grpSp>
          <p:nvGrpSpPr>
            <p:cNvPr id="43" name=""/>
            <p:cNvGrpSpPr/>
            <p:nvPr/>
          </p:nvGrpSpPr>
          <p:grpSpPr>
            <a:xfrm>
              <a:off x="693720" y="1092240"/>
              <a:ext cx="347040" cy="235800"/>
              <a:chOff x="693720" y="1092240"/>
              <a:chExt cx="347040" cy="235800"/>
            </a:xfrm>
          </p:grpSpPr>
          <p:sp>
            <p:nvSpPr>
              <p:cNvPr id="44" name=""/>
              <p:cNvSpPr/>
              <p:nvPr/>
            </p:nvSpPr>
            <p:spPr>
              <a:xfrm>
                <a:off x="693720" y="1092240"/>
                <a:ext cx="347040" cy="235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57440" y="1151280"/>
                <a:ext cx="222840" cy="112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830160" y="1028880"/>
              <a:ext cx="76320" cy="63360"/>
              <a:chOff x="830160" y="1028880"/>
              <a:chExt cx="76320" cy="63360"/>
            </a:xfrm>
          </p:grpSpPr>
          <p:sp>
            <p:nvSpPr>
              <p:cNvPr id="47" name=""/>
              <p:cNvSpPr/>
              <p:nvPr/>
            </p:nvSpPr>
            <p:spPr>
              <a:xfrm>
                <a:off x="830160" y="1028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906480" y="1028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"/>
          <p:cNvSpPr/>
          <p:nvPr/>
        </p:nvSpPr>
        <p:spPr>
          <a:xfrm>
            <a:off x="1106640" y="1230480"/>
            <a:ext cx="164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1840" y="1320840"/>
            <a:ext cx="0" cy="10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70120" y="1974960"/>
            <a:ext cx="2646360" cy="257040"/>
            <a:chOff x="870120" y="1974960"/>
            <a:chExt cx="2646360" cy="257040"/>
          </a:xfrm>
        </p:grpSpPr>
        <p:grpSp>
          <p:nvGrpSpPr>
            <p:cNvPr id="52" name=""/>
            <p:cNvGrpSpPr/>
            <p:nvPr/>
          </p:nvGrpSpPr>
          <p:grpSpPr>
            <a:xfrm>
              <a:off x="1081080" y="1974960"/>
              <a:ext cx="284040" cy="257040"/>
              <a:chOff x="1081080" y="1974960"/>
              <a:chExt cx="284040" cy="2570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1081080" y="2038320"/>
                <a:ext cx="284040" cy="193680"/>
                <a:chOff x="1081080" y="2038320"/>
                <a:chExt cx="284040" cy="1936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1081080" y="2038320"/>
                  <a:ext cx="284040" cy="193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132920" y="2086560"/>
                  <a:ext cx="182160" cy="92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" name=""/>
              <p:cNvSpPr/>
              <p:nvPr/>
            </p:nvSpPr>
            <p:spPr>
              <a:xfrm>
                <a:off x="1223640" y="1974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1360440" y="2009160"/>
              <a:ext cx="215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Heavy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nzer Company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70120" y="2128680"/>
              <a:ext cx="210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084320" y="1735200"/>
            <a:ext cx="164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065240" y="2478240"/>
            <a:ext cx="291960" cy="228240"/>
            <a:chOff x="1065240" y="2478240"/>
            <a:chExt cx="291960" cy="228240"/>
          </a:xfrm>
        </p:grpSpPr>
        <p:sp>
          <p:nvSpPr>
            <p:cNvPr id="61" name=""/>
            <p:cNvSpPr/>
            <p:nvPr/>
          </p:nvSpPr>
          <p:spPr>
            <a:xfrm>
              <a:off x="1211040" y="2478240"/>
              <a:ext cx="0" cy="5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065240" y="2540160"/>
              <a:ext cx="291960" cy="166320"/>
              <a:chOff x="1065240" y="2540160"/>
              <a:chExt cx="291960" cy="166320"/>
            </a:xfrm>
          </p:grpSpPr>
          <p:sp>
            <p:nvSpPr>
              <p:cNvPr id="63" name=""/>
              <p:cNvSpPr/>
              <p:nvPr/>
            </p:nvSpPr>
            <p:spPr>
              <a:xfrm>
                <a:off x="1066680" y="2540160"/>
                <a:ext cx="290160" cy="16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09880" y="2581560"/>
                <a:ext cx="204840" cy="79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1066680" y="2540160"/>
                <a:ext cx="287280" cy="164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065240" y="2540160"/>
                <a:ext cx="291960" cy="16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"/>
          <p:cNvSpPr/>
          <p:nvPr/>
        </p:nvSpPr>
        <p:spPr>
          <a:xfrm>
            <a:off x="1362240" y="2517120"/>
            <a:ext cx="253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Light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Compan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ME-</a:t>
            </a:r>
            <a:r>
              <a:rPr b="0" lang="en-GB" sz="800" spc="-1" strike="noStrike">
                <a:solidFill>
                  <a:srgbClr val="99cc00"/>
                </a:solidFill>
                <a:latin typeface="Arial"/>
              </a:rPr>
              <a:t>22 (Schwe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61840" y="2136600"/>
            <a:ext cx="0" cy="44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61840" y="2587680"/>
            <a:ext cx="22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870120" y="1354320"/>
            <a:ext cx="1746360" cy="585720"/>
            <a:chOff x="870120" y="1354320"/>
            <a:chExt cx="1746360" cy="585720"/>
          </a:xfrm>
        </p:grpSpPr>
        <p:sp>
          <p:nvSpPr>
            <p:cNvPr id="71" name=""/>
            <p:cNvSpPr/>
            <p:nvPr/>
          </p:nvSpPr>
          <p:spPr>
            <a:xfrm>
              <a:off x="1552680" y="1396080"/>
              <a:ext cx="65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38920" y="1354320"/>
              <a:ext cx="11775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zKpfw VI   GE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70120" y="1650960"/>
              <a:ext cx="25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124640" y="1530000"/>
              <a:ext cx="276840" cy="200880"/>
              <a:chOff x="1124640" y="1530000"/>
              <a:chExt cx="276840" cy="200880"/>
            </a:xfrm>
          </p:grpSpPr>
          <p:sp>
            <p:nvSpPr>
              <p:cNvPr id="75" name=""/>
              <p:cNvSpPr/>
              <p:nvPr/>
            </p:nvSpPr>
            <p:spPr>
              <a:xfrm>
                <a:off x="1253880" y="1530000"/>
                <a:ext cx="320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1124640" y="1574280"/>
                <a:ext cx="276840" cy="156600"/>
                <a:chOff x="1124640" y="1574280"/>
                <a:chExt cx="276840" cy="1566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1124640" y="1574280"/>
                  <a:ext cx="276840" cy="1566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141560" y="1597680"/>
                  <a:ext cx="240840" cy="102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217520" y="1615320"/>
                  <a:ext cx="9288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0" name=""/>
          <p:cNvSpPr/>
          <p:nvPr/>
        </p:nvSpPr>
        <p:spPr>
          <a:xfrm>
            <a:off x="5157720" y="499680"/>
            <a:ext cx="28702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22</a:t>
            </a:r>
            <a:r>
              <a:rPr b="1" lang="en-GB" sz="1000" spc="-1" strike="noStrike">
                <a:solidFill>
                  <a:srgbClr val="99cc00"/>
                </a:solidFill>
                <a:latin typeface="Arial"/>
              </a:rPr>
              <a:t> (Schwe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ght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408640" y="2975760"/>
            <a:ext cx="2616120" cy="215640"/>
            <a:chOff x="5408640" y="2975760"/>
            <a:chExt cx="2616120" cy="215640"/>
          </a:xfrm>
        </p:grpSpPr>
        <p:grpSp>
          <p:nvGrpSpPr>
            <p:cNvPr id="82" name=""/>
            <p:cNvGrpSpPr/>
            <p:nvPr/>
          </p:nvGrpSpPr>
          <p:grpSpPr>
            <a:xfrm>
              <a:off x="5507280" y="2975760"/>
              <a:ext cx="2517480" cy="215640"/>
              <a:chOff x="5507280" y="2975760"/>
              <a:chExt cx="2517480" cy="2156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5507280" y="2979720"/>
                <a:ext cx="231480" cy="191520"/>
                <a:chOff x="5507280" y="2979720"/>
                <a:chExt cx="231480" cy="191520"/>
              </a:xfrm>
            </p:grpSpPr>
            <p:grpSp>
              <p:nvGrpSpPr>
                <p:cNvPr id="84" name=""/>
                <p:cNvGrpSpPr/>
                <p:nvPr/>
              </p:nvGrpSpPr>
              <p:grpSpPr>
                <a:xfrm>
                  <a:off x="5507280" y="3014280"/>
                  <a:ext cx="231480" cy="156960"/>
                  <a:chOff x="5507280" y="3014280"/>
                  <a:chExt cx="231480" cy="156960"/>
                </a:xfrm>
              </p:grpSpPr>
              <p:sp>
                <p:nvSpPr>
                  <p:cNvPr id="85" name=""/>
                  <p:cNvSpPr/>
                  <p:nvPr/>
                </p:nvSpPr>
                <p:spPr>
                  <a:xfrm>
                    <a:off x="5507280" y="3014280"/>
                    <a:ext cx="23148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V="1">
                    <a:off x="5509440" y="3016440"/>
                    <a:ext cx="22536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5507280" y="3016440"/>
                    <a:ext cx="23040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5584680" y="2979720"/>
                  <a:ext cx="74520" cy="28080"/>
                  <a:chOff x="5584680" y="2979720"/>
                  <a:chExt cx="74520" cy="2808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5584680" y="29797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5632200" y="29811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1" name=""/>
              <p:cNvSpPr/>
              <p:nvPr/>
            </p:nvSpPr>
            <p:spPr>
              <a:xfrm>
                <a:off x="5798520" y="2975760"/>
                <a:ext cx="2226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Recce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fantry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 (x3 panzerfaust)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E-4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5408640" y="3089160"/>
              <a:ext cx="14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405400" y="1136520"/>
            <a:ext cx="0" cy="302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84680" y="3176640"/>
            <a:ext cx="64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526000" y="3301920"/>
            <a:ext cx="239760" cy="234720"/>
            <a:chOff x="5526000" y="3301920"/>
            <a:chExt cx="239760" cy="234720"/>
          </a:xfrm>
        </p:grpSpPr>
        <p:grpSp>
          <p:nvGrpSpPr>
            <p:cNvPr id="96" name=""/>
            <p:cNvGrpSpPr/>
            <p:nvPr/>
          </p:nvGrpSpPr>
          <p:grpSpPr>
            <a:xfrm>
              <a:off x="5526000" y="3348000"/>
              <a:ext cx="239760" cy="188640"/>
              <a:chOff x="5526000" y="3348000"/>
              <a:chExt cx="239760" cy="188640"/>
            </a:xfrm>
          </p:grpSpPr>
          <p:sp>
            <p:nvSpPr>
              <p:cNvPr id="97" name=""/>
              <p:cNvSpPr/>
              <p:nvPr/>
            </p:nvSpPr>
            <p:spPr>
              <a:xfrm>
                <a:off x="5526000" y="3348000"/>
                <a:ext cx="23976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560920" y="3387600"/>
                <a:ext cx="1699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5526000" y="3348000"/>
                <a:ext cx="236520" cy="15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40400" y="35096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653080" y="3508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29400" y="3508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673600" y="3508200"/>
                <a:ext cx="61920" cy="2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5613120" y="3301920"/>
              <a:ext cx="74520" cy="28080"/>
              <a:chOff x="5613120" y="3301920"/>
              <a:chExt cx="74520" cy="28080"/>
            </a:xfrm>
          </p:grpSpPr>
          <p:sp>
            <p:nvSpPr>
              <p:cNvPr id="105" name=""/>
              <p:cNvSpPr/>
              <p:nvPr/>
            </p:nvSpPr>
            <p:spPr>
              <a:xfrm>
                <a:off x="5613120" y="33019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60640" y="33033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"/>
          <p:cNvSpPr/>
          <p:nvPr/>
        </p:nvSpPr>
        <p:spPr>
          <a:xfrm>
            <a:off x="5821560" y="316980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13640" y="3345840"/>
            <a:ext cx="160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dKfz 250/1               GE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586480" y="3513240"/>
            <a:ext cx="1440" cy="20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05400" y="4159080"/>
            <a:ext cx="185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249880" y="893880"/>
            <a:ext cx="291960" cy="252360"/>
            <a:chOff x="5249880" y="893880"/>
            <a:chExt cx="291960" cy="252360"/>
          </a:xfrm>
        </p:grpSpPr>
        <p:sp>
          <p:nvSpPr>
            <p:cNvPr id="112" name=""/>
            <p:cNvSpPr/>
            <p:nvPr/>
          </p:nvSpPr>
          <p:spPr>
            <a:xfrm>
              <a:off x="5395680" y="8938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5249880" y="955440"/>
              <a:ext cx="291960" cy="190800"/>
              <a:chOff x="5249880" y="955440"/>
              <a:chExt cx="291960" cy="19080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5249880" y="955800"/>
                <a:ext cx="291960" cy="190440"/>
                <a:chOff x="5249880" y="955800"/>
                <a:chExt cx="291960" cy="1904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5249880" y="955800"/>
                  <a:ext cx="291960" cy="1904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303520" y="1003320"/>
                  <a:ext cx="184320" cy="90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 flipV="1">
                <a:off x="5249880" y="955440"/>
                <a:ext cx="287640" cy="190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5415120" y="4165560"/>
            <a:ext cx="14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529240" y="4051440"/>
            <a:ext cx="239400" cy="234000"/>
            <a:chOff x="5529240" y="4051440"/>
            <a:chExt cx="239400" cy="234000"/>
          </a:xfrm>
        </p:grpSpPr>
        <p:grpSp>
          <p:nvGrpSpPr>
            <p:cNvPr id="120" name=""/>
            <p:cNvGrpSpPr/>
            <p:nvPr/>
          </p:nvGrpSpPr>
          <p:grpSpPr>
            <a:xfrm>
              <a:off x="5529240" y="4095720"/>
              <a:ext cx="239400" cy="189720"/>
              <a:chOff x="5529240" y="4095720"/>
              <a:chExt cx="239400" cy="18972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5529240" y="4095720"/>
                <a:ext cx="239400" cy="158040"/>
                <a:chOff x="5529240" y="4095720"/>
                <a:chExt cx="239400" cy="1580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5529240" y="4097160"/>
                  <a:ext cx="239400" cy="1566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587560" y="4171680"/>
                  <a:ext cx="118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5529240" y="4096800"/>
                  <a:ext cx="115560" cy="155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644800" y="4095720"/>
                  <a:ext cx="123480" cy="15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5536800" y="425880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49480" y="4257000"/>
                <a:ext cx="2808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25800" y="4257000"/>
                <a:ext cx="2808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70000" y="4257000"/>
                <a:ext cx="61560" cy="26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624280" y="4051440"/>
              <a:ext cx="74520" cy="28080"/>
              <a:chOff x="5624280" y="4051440"/>
              <a:chExt cx="74520" cy="28080"/>
            </a:xfrm>
          </p:grpSpPr>
          <p:sp>
            <p:nvSpPr>
              <p:cNvPr id="131" name=""/>
              <p:cNvSpPr/>
              <p:nvPr/>
            </p:nvSpPr>
            <p:spPr>
              <a:xfrm>
                <a:off x="5624280" y="40514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71800" y="40528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5805360" y="4050720"/>
            <a:ext cx="32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dKfz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ua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mm Flak H-Trac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(web site prototype Ca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10400" y="1896480"/>
            <a:ext cx="164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oniere (1 w/Flame)   GE-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05400" y="2009880"/>
            <a:ext cx="16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508720" y="1930320"/>
            <a:ext cx="231840" cy="157320"/>
            <a:chOff x="5508720" y="1930320"/>
            <a:chExt cx="231840" cy="157320"/>
          </a:xfrm>
        </p:grpSpPr>
        <p:sp>
          <p:nvSpPr>
            <p:cNvPr id="137" name=""/>
            <p:cNvSpPr/>
            <p:nvPr/>
          </p:nvSpPr>
          <p:spPr>
            <a:xfrm>
              <a:off x="5508720" y="1930320"/>
              <a:ext cx="23184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5596200" y="1987560"/>
              <a:ext cx="55440" cy="27000"/>
              <a:chOff x="5596200" y="1987560"/>
              <a:chExt cx="55440" cy="27000"/>
            </a:xfrm>
          </p:grpSpPr>
          <p:sp>
            <p:nvSpPr>
              <p:cNvPr id="139" name=""/>
              <p:cNvSpPr/>
              <p:nvPr/>
            </p:nvSpPr>
            <p:spPr>
              <a:xfrm>
                <a:off x="5596200" y="198756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24640" y="198756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51640" y="1987560"/>
                <a:ext cx="0" cy="2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96200" y="1987560"/>
                <a:ext cx="55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5597640" y="2087640"/>
            <a:ext cx="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34520" y="204264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26240" y="2580840"/>
            <a:ext cx="20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pel Mault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(use SdKfz 11 ca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99080" y="2455920"/>
            <a:ext cx="0" cy="15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545080" y="2536920"/>
            <a:ext cx="239760" cy="233280"/>
            <a:chOff x="5545080" y="2536920"/>
            <a:chExt cx="239760" cy="233280"/>
          </a:xfrm>
        </p:grpSpPr>
        <p:grpSp>
          <p:nvGrpSpPr>
            <p:cNvPr id="148" name=""/>
            <p:cNvGrpSpPr/>
            <p:nvPr/>
          </p:nvGrpSpPr>
          <p:grpSpPr>
            <a:xfrm>
              <a:off x="5626080" y="2536920"/>
              <a:ext cx="74520" cy="28080"/>
              <a:chOff x="5626080" y="2536920"/>
              <a:chExt cx="74520" cy="28080"/>
            </a:xfrm>
          </p:grpSpPr>
          <p:sp>
            <p:nvSpPr>
              <p:cNvPr id="149" name=""/>
              <p:cNvSpPr/>
              <p:nvPr/>
            </p:nvSpPr>
            <p:spPr>
              <a:xfrm>
                <a:off x="5626080" y="25369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673600" y="25383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545080" y="2581200"/>
              <a:ext cx="239760" cy="189000"/>
              <a:chOff x="5545080" y="2581200"/>
              <a:chExt cx="239760" cy="189000"/>
            </a:xfrm>
          </p:grpSpPr>
          <p:sp>
            <p:nvSpPr>
              <p:cNvPr id="152" name=""/>
              <p:cNvSpPr/>
              <p:nvPr/>
            </p:nvSpPr>
            <p:spPr>
              <a:xfrm>
                <a:off x="5545080" y="2581200"/>
                <a:ext cx="23976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81800" y="2621160"/>
                <a:ext cx="1699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60920" y="27432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3960" y="2741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749920" y="27417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94480" y="2741760"/>
                <a:ext cx="61920" cy="2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5641920" y="2643120"/>
                <a:ext cx="55440" cy="27000"/>
                <a:chOff x="5641920" y="2643120"/>
                <a:chExt cx="55440" cy="27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641920" y="2643120"/>
                  <a:ext cx="0" cy="27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70360" y="2643120"/>
                  <a:ext cx="0" cy="27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97360" y="2643120"/>
                  <a:ext cx="0" cy="27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641920" y="2643120"/>
                  <a:ext cx="55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" name=""/>
          <p:cNvGrpSpPr/>
          <p:nvPr/>
        </p:nvGrpSpPr>
        <p:grpSpPr>
          <a:xfrm>
            <a:off x="5541840" y="3638520"/>
            <a:ext cx="231840" cy="228240"/>
            <a:chOff x="5541840" y="3638520"/>
            <a:chExt cx="231840" cy="228240"/>
          </a:xfrm>
        </p:grpSpPr>
        <p:grpSp>
          <p:nvGrpSpPr>
            <p:cNvPr id="164" name=""/>
            <p:cNvGrpSpPr/>
            <p:nvPr/>
          </p:nvGrpSpPr>
          <p:grpSpPr>
            <a:xfrm>
              <a:off x="5541840" y="3676680"/>
              <a:ext cx="231840" cy="190080"/>
              <a:chOff x="5541840" y="3676680"/>
              <a:chExt cx="231840" cy="19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5541840" y="367668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52280" y="383940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34080" y="383940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5643720" y="36385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996160" y="36068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33800" y="3677760"/>
            <a:ext cx="215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hwim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gen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(use kubelwagon ca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14840" y="1145520"/>
            <a:ext cx="1946160" cy="350640"/>
            <a:chOff x="5514840" y="1145520"/>
            <a:chExt cx="1946160" cy="350640"/>
          </a:xfrm>
        </p:grpSpPr>
        <p:sp>
          <p:nvSpPr>
            <p:cNvPr id="172" name=""/>
            <p:cNvSpPr/>
            <p:nvPr/>
          </p:nvSpPr>
          <p:spPr>
            <a:xfrm>
              <a:off x="5781960" y="1145520"/>
              <a:ext cx="65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5514840" y="1206360"/>
              <a:ext cx="238320" cy="194760"/>
              <a:chOff x="5514840" y="1206360"/>
              <a:chExt cx="238320" cy="194760"/>
            </a:xfrm>
          </p:grpSpPr>
          <p:sp>
            <p:nvSpPr>
              <p:cNvPr id="174" name=""/>
              <p:cNvSpPr/>
              <p:nvPr/>
            </p:nvSpPr>
            <p:spPr>
              <a:xfrm>
                <a:off x="5514840" y="1242720"/>
                <a:ext cx="238320" cy="158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19600" y="12063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5792760" y="1280520"/>
              <a:ext cx="1668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GE-4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415120" y="1312920"/>
            <a:ext cx="14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0920" y="1382760"/>
            <a:ext cx="0" cy="16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537160" y="1472400"/>
            <a:ext cx="1930320" cy="334800"/>
            <a:chOff x="5537160" y="1472400"/>
            <a:chExt cx="1930320" cy="334800"/>
          </a:xfrm>
        </p:grpSpPr>
        <p:grpSp>
          <p:nvGrpSpPr>
            <p:cNvPr id="180" name=""/>
            <p:cNvGrpSpPr/>
            <p:nvPr/>
          </p:nvGrpSpPr>
          <p:grpSpPr>
            <a:xfrm>
              <a:off x="5537160" y="1504800"/>
              <a:ext cx="231840" cy="228240"/>
              <a:chOff x="5537160" y="1504800"/>
              <a:chExt cx="231840" cy="22824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5537160" y="1542960"/>
                <a:ext cx="231840" cy="190080"/>
                <a:chOff x="5537160" y="1542960"/>
                <a:chExt cx="231840" cy="1900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5537160" y="154296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547600" y="170568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729400" y="170568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5639040" y="1504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5775840" y="147240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28040" y="1591560"/>
              <a:ext cx="1639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ubelwagen                GE-3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826600" y="2266200"/>
            <a:ext cx="163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dKfz 251/7                GE-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99080" y="2187720"/>
            <a:ext cx="0" cy="11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545080" y="2222640"/>
            <a:ext cx="239760" cy="233280"/>
            <a:chOff x="5545080" y="2222640"/>
            <a:chExt cx="239760" cy="233280"/>
          </a:xfrm>
        </p:grpSpPr>
        <p:grpSp>
          <p:nvGrpSpPr>
            <p:cNvPr id="191" name=""/>
            <p:cNvGrpSpPr/>
            <p:nvPr/>
          </p:nvGrpSpPr>
          <p:grpSpPr>
            <a:xfrm>
              <a:off x="5626080" y="2222640"/>
              <a:ext cx="74520" cy="28080"/>
              <a:chOff x="5626080" y="2222640"/>
              <a:chExt cx="74520" cy="28080"/>
            </a:xfrm>
          </p:grpSpPr>
          <p:sp>
            <p:nvSpPr>
              <p:cNvPr id="192" name=""/>
              <p:cNvSpPr/>
              <p:nvPr/>
            </p:nvSpPr>
            <p:spPr>
              <a:xfrm>
                <a:off x="5626080" y="22226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73600" y="22240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545080" y="2266920"/>
              <a:ext cx="239760" cy="189000"/>
              <a:chOff x="5545080" y="2266920"/>
              <a:chExt cx="239760" cy="189000"/>
            </a:xfrm>
          </p:grpSpPr>
          <p:sp>
            <p:nvSpPr>
              <p:cNvPr id="195" name=""/>
              <p:cNvSpPr/>
              <p:nvPr/>
            </p:nvSpPr>
            <p:spPr>
              <a:xfrm>
                <a:off x="5545080" y="2266920"/>
                <a:ext cx="23976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81800" y="2306880"/>
                <a:ext cx="1699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560920" y="2428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73960" y="24274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49920" y="24274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694480" y="2427480"/>
                <a:ext cx="61920" cy="2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5641920" y="2328840"/>
                <a:ext cx="55440" cy="27000"/>
                <a:chOff x="5641920" y="2328840"/>
                <a:chExt cx="55440" cy="270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641920" y="2328840"/>
                  <a:ext cx="0" cy="27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670360" y="2328840"/>
                  <a:ext cx="0" cy="27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97360" y="2328840"/>
                  <a:ext cx="0" cy="27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641920" y="2328840"/>
                  <a:ext cx="55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6" name=""/>
          <p:cNvSpPr/>
          <p:nvPr/>
        </p:nvSpPr>
        <p:spPr>
          <a:xfrm>
            <a:off x="285840" y="4581360"/>
            <a:ext cx="87249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(a) The Commander of the light company can be dumped and the individual elements used as attachments to the Panzer compani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(b) For a brief history of German heavy tank units see 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panzer-vi.fsnet.co.uk/units.htm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(c) The tanks in the panzer companies had a low rate of availability due to mechanical problems. They should usually be fielded with a total of 3 to 4 stands including the command tan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(d) Source: Villers-Bocage through the lens, D Taylor, Battle of Britain International Press 1999. And the generous help of R Mark Davies and others on the Battlefront discussion phoru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5760" y="4267080"/>
            <a:ext cx="217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4:46:52Z</dcterms:created>
  <dc:creator>James Baker</dc:creator>
  <dc:description/>
  <dc:language>en-US</dc:language>
  <cp:lastModifiedBy>perryn</cp:lastModifiedBy>
  <dcterms:modified xsi:type="dcterms:W3CDTF">2002-10-08T05:28:57Z</dcterms:modified>
  <cp:revision>80</cp:revision>
  <dc:subject/>
  <dc:title>PowerPoint Presentation</dc:title>
</cp:coreProperties>
</file>