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6EA-CA92-4DC3-9ED0-A34D88D4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117-6C65-45C4-A83F-5509E5CC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DDD-23D9-4921-89A5-6299EE65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38A-30C6-4874-9506-18A2F7B7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73B-20B9-415A-A306-C730F551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4DB-1BA7-42D1-9BC9-37DE10CF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B3D-1647-425A-B87B-92973E7F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C03-3046-4BD5-BFA5-0304D022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5A5-2ABE-4153-9AC5-84DA51F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9F8-5ED8-4E34-8ACA-4153092A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DED-A88E-4AA3-B84F-243D7F0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F90-0B74-4FEB-A507-82C2109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363B-DE1A-4D39-A4FF-3CBF0A20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" y="374328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3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was used to recover German documents and equipment ahead of advancing troops before they were looted or destroyed. The commander of this unit was Ian Fleming of James Bond f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2000" y="657360"/>
            <a:ext cx="2831040" cy="3018600"/>
            <a:chOff x="162000" y="657360"/>
            <a:chExt cx="2831040" cy="3018600"/>
          </a:xfrm>
        </p:grpSpPr>
        <p:sp>
          <p:nvSpPr>
            <p:cNvPr id="43" name=""/>
            <p:cNvSpPr/>
            <p:nvPr/>
          </p:nvSpPr>
          <p:spPr>
            <a:xfrm>
              <a:off x="314640" y="2266920"/>
              <a:ext cx="3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840" y="2266920"/>
              <a:ext cx="0" cy="130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0000" y="2536560"/>
              <a:ext cx="0" cy="20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14440" y="174312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5080" y="119052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4640" y="1704960"/>
              <a:ext cx="26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4640" y="11905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4640" y="885600"/>
              <a:ext cx="0" cy="137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62000" y="657360"/>
              <a:ext cx="304560" cy="273240"/>
              <a:chOff x="162000" y="657360"/>
              <a:chExt cx="304560" cy="27324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162000" y="704880"/>
                <a:ext cx="304560" cy="225720"/>
                <a:chOff x="162000" y="704880"/>
                <a:chExt cx="304560" cy="225720"/>
              </a:xfrm>
            </p:grpSpPr>
            <p:grpSp>
              <p:nvGrpSpPr>
                <p:cNvPr id="53" name=""/>
                <p:cNvGrpSpPr/>
                <p:nvPr/>
              </p:nvGrpSpPr>
              <p:grpSpPr>
                <a:xfrm>
                  <a:off x="162000" y="704880"/>
                  <a:ext cx="304560" cy="225720"/>
                  <a:chOff x="162000" y="704880"/>
                  <a:chExt cx="304560" cy="22572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162000" y="704880"/>
                    <a:ext cx="304560" cy="2257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flipV="1">
                    <a:off x="164880" y="707760"/>
                    <a:ext cx="296640" cy="22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162000" y="708120"/>
                    <a:ext cx="303120" cy="21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274320" y="741600"/>
                  <a:ext cx="74880" cy="161640"/>
                  <a:chOff x="274320" y="741600"/>
                  <a:chExt cx="74880" cy="16164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rot="10800000">
                    <a:off x="276480" y="836640"/>
                    <a:ext cx="72720" cy="522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312120" y="768960"/>
                    <a:ext cx="0" cy="13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74320" y="770760"/>
                    <a:ext cx="7308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305280" y="74160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" name=""/>
              <p:cNvSpPr/>
              <p:nvPr/>
            </p:nvSpPr>
            <p:spPr>
              <a:xfrm>
                <a:off x="314640" y="657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68440" y="106668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66920" y="1114200"/>
              <a:ext cx="231840" cy="156960"/>
              <a:chOff x="466920" y="1114200"/>
              <a:chExt cx="231840" cy="156960"/>
            </a:xfrm>
          </p:grpSpPr>
          <p:sp>
            <p:nvSpPr>
              <p:cNvPr id="65" name=""/>
              <p:cNvSpPr/>
              <p:nvPr/>
            </p:nvSpPr>
            <p:spPr>
              <a:xfrm>
                <a:off x="466920" y="111420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0680" y="1136160"/>
                <a:ext cx="184320" cy="110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76280" y="1590480"/>
              <a:ext cx="231840" cy="204120"/>
              <a:chOff x="476280" y="1590480"/>
              <a:chExt cx="231840" cy="20412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476280" y="1637640"/>
                <a:ext cx="231840" cy="156960"/>
                <a:chOff x="476280" y="1637640"/>
                <a:chExt cx="231840" cy="15696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476280" y="1637640"/>
                  <a:ext cx="231840" cy="156960"/>
                  <a:chOff x="476280" y="1637640"/>
                  <a:chExt cx="231840" cy="156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476280" y="163764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V="1">
                    <a:off x="478440" y="163980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476280" y="163980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561960" y="1662840"/>
                  <a:ext cx="57240" cy="111960"/>
                  <a:chOff x="561960" y="1662840"/>
                  <a:chExt cx="57240" cy="11196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 rot="10800000">
                    <a:off x="563760" y="1729080"/>
                    <a:ext cx="55440" cy="360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590760" y="1681560"/>
                    <a:ext cx="0" cy="932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561960" y="1683000"/>
                    <a:ext cx="558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85720" y="1662840"/>
                    <a:ext cx="9720" cy="9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"/>
              <p:cNvGrpSpPr/>
              <p:nvPr/>
            </p:nvGrpSpPr>
            <p:grpSpPr>
              <a:xfrm>
                <a:off x="554400" y="1590480"/>
                <a:ext cx="74160" cy="26640"/>
                <a:chOff x="554400" y="1590480"/>
                <a:chExt cx="74160" cy="266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54400" y="1590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01920" y="15904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793080" y="666720"/>
              <a:ext cx="1527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Comman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(Admiralty 30</a:t>
              </a:r>
              <a:r>
                <a:rPr b="1" lang="en-GB" sz="9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 Assault Uni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6600" y="990360"/>
              <a:ext cx="182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                BR-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9120" y="1657080"/>
              <a:ext cx="178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5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o Infantry                BR-5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90080" y="2581200"/>
              <a:ext cx="180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Jeep (MG)                               BR-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5160" y="1266840"/>
              <a:ext cx="181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Jeep (MG)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                 BR-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76280" y="1314360"/>
              <a:ext cx="231840" cy="236880"/>
              <a:chOff x="476280" y="1314360"/>
              <a:chExt cx="231840" cy="23688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76280" y="1361520"/>
                <a:ext cx="231840" cy="189720"/>
                <a:chOff x="476280" y="1361520"/>
                <a:chExt cx="231840" cy="1897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76280" y="136152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87440" y="15246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68160" y="152460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578160" y="13143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789120" y="1911240"/>
              <a:ext cx="186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C15TA Armoured Truck          CA-P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66920" y="1838160"/>
              <a:ext cx="241200" cy="224280"/>
              <a:chOff x="466920" y="1838160"/>
              <a:chExt cx="241200" cy="2242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66920" y="1875600"/>
                <a:ext cx="241200" cy="186840"/>
                <a:chOff x="466920" y="1875600"/>
                <a:chExt cx="241200" cy="1868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68360" y="1875960"/>
                  <a:ext cx="239760" cy="1566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03280" y="1915200"/>
                  <a:ext cx="169920" cy="74160"/>
                </a:xfrm>
                <a:prstGeom prst="ellips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468360" y="1875600"/>
                  <a:ext cx="236520" cy="15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6920" y="1875960"/>
                  <a:ext cx="24120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2760" y="20358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69960" y="203580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49360" y="1838160"/>
                <a:ext cx="73800" cy="26640"/>
                <a:chOff x="549360" y="1838160"/>
                <a:chExt cx="73800" cy="266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49360" y="18381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96520" y="18381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609840" y="3038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88640" y="2981160"/>
              <a:ext cx="19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orris LRC Mk II                      BR-P4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81200" y="2914560"/>
              <a:ext cx="239400" cy="236880"/>
              <a:chOff x="781200" y="2914560"/>
              <a:chExt cx="239400" cy="23688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781200" y="2961360"/>
                <a:ext cx="239400" cy="190080"/>
                <a:chOff x="781200" y="2961360"/>
                <a:chExt cx="239400" cy="19008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781200" y="2961360"/>
                  <a:ext cx="239400" cy="156960"/>
                  <a:chOff x="781200" y="2961360"/>
                  <a:chExt cx="239400" cy="156960"/>
                </a:xfrm>
              </p:grpSpPr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781200" y="2961720"/>
                    <a:ext cx="239400" cy="156600"/>
                    <a:chOff x="781200" y="2961720"/>
                    <a:chExt cx="239400" cy="15660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781200" y="2961720"/>
                      <a:ext cx="239400" cy="15660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825120" y="3000960"/>
                      <a:ext cx="151200" cy="74520"/>
                    </a:xfrm>
                    <a:prstGeom prst="ellipse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" name=""/>
                  <p:cNvSpPr/>
                  <p:nvPr/>
                </p:nvSpPr>
                <p:spPr>
                  <a:xfrm flipV="1">
                    <a:off x="781200" y="2961360"/>
                    <a:ext cx="235800" cy="15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801720" y="31248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982440" y="31248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857160" y="2914560"/>
                <a:ext cx="74880" cy="26640"/>
                <a:chOff x="857160" y="2914560"/>
                <a:chExt cx="74880" cy="266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57160" y="291456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05040" y="29145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772560" y="1523880"/>
              <a:ext cx="82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o Tro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800" y="2205000"/>
              <a:ext cx="1070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Recon Troop (all reco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840" y="2495520"/>
              <a:ext cx="26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95480" y="2448000"/>
              <a:ext cx="177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o Recon sect. use  BR-5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76520" y="2390760"/>
              <a:ext cx="231840" cy="194400"/>
              <a:chOff x="776520" y="2390760"/>
              <a:chExt cx="231840" cy="1944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776520" y="2428560"/>
                <a:ext cx="231840" cy="156600"/>
                <a:chOff x="776520" y="2428560"/>
                <a:chExt cx="231840" cy="15660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776520" y="2428560"/>
                  <a:ext cx="231840" cy="156600"/>
                  <a:chOff x="776520" y="2428560"/>
                  <a:chExt cx="231840" cy="1566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776520" y="2428560"/>
                    <a:ext cx="231840" cy="15660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V="1">
                    <a:off x="778680" y="2430360"/>
                    <a:ext cx="225720" cy="15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76520" y="2430720"/>
                    <a:ext cx="23076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862200" y="2453760"/>
                  <a:ext cx="57240" cy="111600"/>
                  <a:chOff x="862200" y="2453760"/>
                  <a:chExt cx="57240" cy="1116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rot="10800000">
                    <a:off x="864000" y="2519640"/>
                    <a:ext cx="55440" cy="360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91000" y="2472480"/>
                    <a:ext cx="0" cy="928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62200" y="2473920"/>
                    <a:ext cx="558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85960" y="2453760"/>
                    <a:ext cx="9720" cy="9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3" name=""/>
              <p:cNvSpPr/>
              <p:nvPr/>
            </p:nvSpPr>
            <p:spPr>
              <a:xfrm>
                <a:off x="878040" y="2390760"/>
                <a:ext cx="288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76520" y="2633400"/>
              <a:ext cx="231840" cy="233280"/>
              <a:chOff x="776520" y="2633400"/>
              <a:chExt cx="231840" cy="2332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76520" y="2676240"/>
                <a:ext cx="231840" cy="190440"/>
                <a:chOff x="776520" y="2676240"/>
                <a:chExt cx="231840" cy="1904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6520" y="2676240"/>
                  <a:ext cx="23184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7680" y="28396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68400" y="283968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878040" y="26334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19200" y="3305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3247920"/>
              <a:ext cx="1805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Humber                                   BR-3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800280" y="3181320"/>
              <a:ext cx="239400" cy="236880"/>
              <a:chOff x="800280" y="3181320"/>
              <a:chExt cx="239400" cy="23688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800280" y="3228120"/>
                <a:ext cx="239400" cy="190080"/>
                <a:chOff x="800280" y="3228120"/>
                <a:chExt cx="239400" cy="19008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800280" y="3228120"/>
                  <a:ext cx="239400" cy="156960"/>
                  <a:chOff x="800280" y="3228120"/>
                  <a:chExt cx="239400" cy="156960"/>
                </a:xfrm>
              </p:grpSpPr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800280" y="3228480"/>
                    <a:ext cx="239400" cy="156600"/>
                    <a:chOff x="800280" y="3228480"/>
                    <a:chExt cx="239400" cy="15660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800280" y="3228480"/>
                      <a:ext cx="239400" cy="15660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844200" y="3267720"/>
                      <a:ext cx="151200" cy="74520"/>
                    </a:xfrm>
                    <a:prstGeom prst="ellipse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" name=""/>
                  <p:cNvSpPr/>
                  <p:nvPr/>
                </p:nvSpPr>
                <p:spPr>
                  <a:xfrm flipV="1">
                    <a:off x="800280" y="3228120"/>
                    <a:ext cx="235800" cy="15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20800" y="33915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01520" y="33915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876240" y="3181320"/>
                <a:ext cx="74880" cy="26640"/>
                <a:chOff x="876240" y="3181320"/>
                <a:chExt cx="74880" cy="266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76240" y="318132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24120" y="31813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09840" y="35622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1760" y="3504960"/>
              <a:ext cx="179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taghound I                            BR-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810000" y="3438360"/>
              <a:ext cx="239400" cy="237600"/>
              <a:chOff x="810000" y="3438360"/>
              <a:chExt cx="239400" cy="23760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810000" y="3485880"/>
                <a:ext cx="239400" cy="190080"/>
                <a:chOff x="810000" y="3485880"/>
                <a:chExt cx="239400" cy="19008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810000" y="3485880"/>
                  <a:ext cx="239400" cy="156960"/>
                  <a:chOff x="810000" y="3485880"/>
                  <a:chExt cx="239400" cy="156960"/>
                </a:xfrm>
              </p:grpSpPr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810000" y="3485880"/>
                    <a:ext cx="239400" cy="156960"/>
                    <a:chOff x="810000" y="3485880"/>
                    <a:chExt cx="239400" cy="15696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810000" y="3485880"/>
                      <a:ext cx="239400" cy="15696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853920" y="3525120"/>
                      <a:ext cx="151200" cy="74880"/>
                    </a:xfrm>
                    <a:prstGeom prst="ellipse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" name=""/>
                  <p:cNvSpPr/>
                  <p:nvPr/>
                </p:nvSpPr>
                <p:spPr>
                  <a:xfrm flipV="1">
                    <a:off x="810000" y="3485880"/>
                    <a:ext cx="235800" cy="15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"/>
                <p:cNvSpPr/>
                <p:nvPr/>
              </p:nvSpPr>
              <p:spPr>
                <a:xfrm>
                  <a:off x="830520" y="36493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1240" y="3649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85960" y="3438360"/>
                <a:ext cx="74880" cy="27000"/>
                <a:chOff x="885960" y="3438360"/>
                <a:chExt cx="74880" cy="27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85960" y="343836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33840" y="3438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466920" y="2130480"/>
              <a:ext cx="274680" cy="230760"/>
              <a:chOff x="466920" y="2130480"/>
              <a:chExt cx="274680" cy="230760"/>
            </a:xfrm>
          </p:grpSpPr>
          <p:sp>
            <p:nvSpPr>
              <p:cNvPr id="169" name=""/>
              <p:cNvSpPr/>
              <p:nvPr/>
            </p:nvSpPr>
            <p:spPr>
              <a:xfrm>
                <a:off x="466920" y="2181600"/>
                <a:ext cx="274680" cy="1796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466920" y="2181240"/>
                <a:ext cx="270360" cy="1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543960" y="2130480"/>
                <a:ext cx="118080" cy="24120"/>
                <a:chOff x="543960" y="2130480"/>
                <a:chExt cx="118080" cy="24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43960" y="2130480"/>
                  <a:ext cx="24120" cy="24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89320" y="2130480"/>
                  <a:ext cx="25560" cy="24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7920" y="2130480"/>
                  <a:ext cx="24120" cy="24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o (Admiralty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ault U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95320" y="2670120"/>
            <a:ext cx="0" cy="20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5160" y="2390760"/>
            <a:ext cx="31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4880" y="838080"/>
            <a:ext cx="0" cy="180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61960" y="647640"/>
            <a:ext cx="304920" cy="293040"/>
            <a:chOff x="561960" y="647640"/>
            <a:chExt cx="304920" cy="293040"/>
          </a:xfrm>
        </p:grpSpPr>
        <p:grpSp>
          <p:nvGrpSpPr>
            <p:cNvPr id="180" name=""/>
            <p:cNvGrpSpPr/>
            <p:nvPr/>
          </p:nvGrpSpPr>
          <p:grpSpPr>
            <a:xfrm>
              <a:off x="561960" y="714240"/>
              <a:ext cx="304920" cy="226440"/>
              <a:chOff x="561960" y="714240"/>
              <a:chExt cx="304920" cy="2264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561960" y="714240"/>
                <a:ext cx="304920" cy="226440"/>
                <a:chOff x="561960" y="714240"/>
                <a:chExt cx="304920" cy="226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61960" y="714240"/>
                  <a:ext cx="304920" cy="2264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564840" y="717120"/>
                  <a:ext cx="29700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61960" y="717480"/>
                  <a:ext cx="30348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717480" y="7902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9960" y="7570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0" y="0"/>
                    </a:moveTo>
                    <a:lnTo>
                      <a:pt x="9" y="17"/>
                    </a:lnTo>
                    <a:lnTo>
                      <a:pt x="1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5800" y="855360"/>
                <a:ext cx="2376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5920" y="757080"/>
                <a:ext cx="14400" cy="98280"/>
              </a:xfrm>
              <a:custGeom>
                <a:avLst/>
                <a:gdLst/>
                <a:ahLst/>
                <a:rect l="l" t="t" r="r" b="b"/>
                <a:pathLst>
                  <a:path w="9" h="62">
                    <a:moveTo>
                      <a:pt x="9" y="0"/>
                    </a:moveTo>
                    <a:lnTo>
                      <a:pt x="1" y="15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717120" y="855360"/>
                <a:ext cx="284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4360" y="857160"/>
                <a:ext cx="66600" cy="33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" y="0"/>
                    </a:moveTo>
                    <a:lnTo>
                      <a:pt x="0" y="17"/>
                    </a:lnTo>
                    <a:lnTo>
                      <a:pt x="20" y="21"/>
                    </a:lnTo>
                    <a:lnTo>
                      <a:pt x="42" y="17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714600" y="6476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181160" y="561960"/>
            <a:ext cx="2071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AS-ME1 SAS Squadron Type 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all recon)                                                     1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SAS Bn, 3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SQ/2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SAS 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58680" y="11523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04880" y="1076400"/>
            <a:ext cx="1848960" cy="561600"/>
            <a:chOff x="704880" y="1076400"/>
            <a:chExt cx="1848960" cy="561600"/>
          </a:xfrm>
        </p:grpSpPr>
        <p:sp>
          <p:nvSpPr>
            <p:cNvPr id="195" name=""/>
            <p:cNvSpPr/>
            <p:nvPr/>
          </p:nvSpPr>
          <p:spPr>
            <a:xfrm>
              <a:off x="895320" y="127620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80" y="12762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857160" y="1199880"/>
              <a:ext cx="231840" cy="156960"/>
              <a:chOff x="857160" y="1199880"/>
              <a:chExt cx="231840" cy="156960"/>
            </a:xfrm>
          </p:grpSpPr>
          <p:sp>
            <p:nvSpPr>
              <p:cNvPr id="198" name=""/>
              <p:cNvSpPr/>
              <p:nvPr/>
            </p:nvSpPr>
            <p:spPr>
              <a:xfrm>
                <a:off x="857160" y="119988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80920" y="1221840"/>
                <a:ext cx="184320" cy="110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79720" y="1076400"/>
              <a:ext cx="136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BR-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78280" y="1352520"/>
              <a:ext cx="137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Jeep (MG)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  BR-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866520" y="1400040"/>
              <a:ext cx="231840" cy="237960"/>
              <a:chOff x="866520" y="1400040"/>
              <a:chExt cx="231840" cy="2379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866520" y="1447560"/>
                <a:ext cx="231840" cy="190440"/>
                <a:chOff x="866520" y="1447560"/>
                <a:chExt cx="231840" cy="1904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866520" y="1447560"/>
                  <a:ext cx="23184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77680" y="1611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058400" y="16110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968400" y="1400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181160" y="952560"/>
            <a:ext cx="72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n H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04880" y="1657440"/>
            <a:ext cx="1929960" cy="523440"/>
            <a:chOff x="704880" y="1657440"/>
            <a:chExt cx="1929960" cy="523440"/>
          </a:xfrm>
        </p:grpSpPr>
        <p:sp>
          <p:nvSpPr>
            <p:cNvPr id="210" name=""/>
            <p:cNvSpPr/>
            <p:nvPr/>
          </p:nvSpPr>
          <p:spPr>
            <a:xfrm>
              <a:off x="704880" y="17859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0640" y="183024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866520" y="1657440"/>
              <a:ext cx="238320" cy="225000"/>
              <a:chOff x="866520" y="1657440"/>
              <a:chExt cx="238320" cy="2250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947520" y="1657440"/>
                <a:ext cx="74880" cy="26640"/>
                <a:chOff x="947520" y="1657440"/>
                <a:chExt cx="74880" cy="26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947520" y="165744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995400" y="16574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866520" y="1704960"/>
                <a:ext cx="238320" cy="177480"/>
                <a:chOff x="866520" y="1704960"/>
                <a:chExt cx="238320" cy="17748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866520" y="1704960"/>
                  <a:ext cx="238320" cy="177480"/>
                  <a:chOff x="866520" y="1704960"/>
                  <a:chExt cx="238320" cy="1774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866520" y="1704960"/>
                    <a:ext cx="238320" cy="1774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V="1">
                    <a:off x="868680" y="1707480"/>
                    <a:ext cx="232200" cy="17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866520" y="1707480"/>
                    <a:ext cx="237240" cy="169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>
                  <a:off x="987840" y="1764360"/>
                  <a:ext cx="0" cy="8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950760" y="1738440"/>
                  <a:ext cx="12240" cy="7200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963000" y="1815120"/>
                  <a:ext cx="1836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010160" y="1738440"/>
                  <a:ext cx="11160" cy="766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987480" y="1815120"/>
                  <a:ext cx="2196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61920" y="1816560"/>
                  <a:ext cx="51840" cy="259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1187640" y="1904760"/>
              <a:ext cx="144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SAS Jeep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        BR-P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8000" y="1724040"/>
              <a:ext cx="1422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SAS Infantry            BR-P6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866520" y="1942920"/>
              <a:ext cx="231840" cy="237960"/>
              <a:chOff x="866520" y="1942920"/>
              <a:chExt cx="231840" cy="2379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866520" y="1990440"/>
                <a:ext cx="231840" cy="190440"/>
                <a:chOff x="866520" y="1990440"/>
                <a:chExt cx="231840" cy="1904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66520" y="1990440"/>
                  <a:ext cx="23184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77680" y="2153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058400" y="215388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945720" y="1942920"/>
                <a:ext cx="74880" cy="27000"/>
                <a:chOff x="945720" y="1942920"/>
                <a:chExt cx="74880" cy="270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945720" y="194292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93600" y="1942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838080" y="2216160"/>
            <a:ext cx="304920" cy="277200"/>
            <a:chOff x="838080" y="2216160"/>
            <a:chExt cx="304920" cy="277200"/>
          </a:xfrm>
        </p:grpSpPr>
        <p:grpSp>
          <p:nvGrpSpPr>
            <p:cNvPr id="238" name=""/>
            <p:cNvGrpSpPr/>
            <p:nvPr/>
          </p:nvGrpSpPr>
          <p:grpSpPr>
            <a:xfrm>
              <a:off x="838080" y="2266920"/>
              <a:ext cx="304920" cy="226440"/>
              <a:chOff x="838080" y="2266920"/>
              <a:chExt cx="304920" cy="2264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838080" y="2266920"/>
                <a:ext cx="304920" cy="226440"/>
                <a:chOff x="838080" y="2266920"/>
                <a:chExt cx="304920" cy="2264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838080" y="2266920"/>
                  <a:ext cx="304920" cy="2264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840960" y="2269800"/>
                  <a:ext cx="29700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38080" y="2270160"/>
                  <a:ext cx="30348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993600" y="23428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46080" y="230976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0" y="0"/>
                    </a:moveTo>
                    <a:lnTo>
                      <a:pt x="9" y="17"/>
                    </a:lnTo>
                    <a:lnTo>
                      <a:pt x="1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61920" y="2408040"/>
                <a:ext cx="2376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22040" y="2309760"/>
                <a:ext cx="14400" cy="98280"/>
              </a:xfrm>
              <a:custGeom>
                <a:avLst/>
                <a:gdLst/>
                <a:ahLst/>
                <a:rect l="l" t="t" r="r" b="b"/>
                <a:pathLst>
                  <a:path w="9" h="62">
                    <a:moveTo>
                      <a:pt x="9" y="0"/>
                    </a:moveTo>
                    <a:lnTo>
                      <a:pt x="1" y="15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993240" y="2408040"/>
                <a:ext cx="284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60480" y="2409840"/>
                <a:ext cx="66600" cy="33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" y="0"/>
                    </a:moveTo>
                    <a:lnTo>
                      <a:pt x="0" y="17"/>
                    </a:lnTo>
                    <a:lnTo>
                      <a:pt x="20" y="21"/>
                    </a:lnTo>
                    <a:lnTo>
                      <a:pt x="42" y="17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934920" y="2216160"/>
              <a:ext cx="117720" cy="23760"/>
              <a:chOff x="934920" y="2216160"/>
              <a:chExt cx="117720" cy="23760"/>
            </a:xfrm>
          </p:grpSpPr>
          <p:sp>
            <p:nvSpPr>
              <p:cNvPr id="250" name=""/>
              <p:cNvSpPr/>
              <p:nvPr/>
            </p:nvSpPr>
            <p:spPr>
              <a:xfrm>
                <a:off x="934920" y="2216160"/>
                <a:ext cx="2412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980280" y="2216160"/>
                <a:ext cx="2520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28520" y="2216160"/>
                <a:ext cx="2412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209600" y="2305080"/>
            <a:ext cx="129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SAS Troop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19000" y="3073320"/>
            <a:ext cx="2082600" cy="793440"/>
            <a:chOff x="819000" y="3073320"/>
            <a:chExt cx="2082600" cy="793440"/>
          </a:xfrm>
        </p:grpSpPr>
        <p:sp>
          <p:nvSpPr>
            <p:cNvPr id="255" name=""/>
            <p:cNvSpPr/>
            <p:nvPr/>
          </p:nvSpPr>
          <p:spPr>
            <a:xfrm>
              <a:off x="971640" y="3219480"/>
              <a:ext cx="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19000" y="3073320"/>
              <a:ext cx="304920" cy="277200"/>
              <a:chOff x="819000" y="3073320"/>
              <a:chExt cx="304920" cy="2772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819000" y="3124080"/>
                <a:ext cx="304920" cy="226440"/>
                <a:chOff x="819000" y="3124080"/>
                <a:chExt cx="304920" cy="22644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819000" y="3124080"/>
                  <a:ext cx="304920" cy="226440"/>
                  <a:chOff x="819000" y="3124080"/>
                  <a:chExt cx="304920" cy="2264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819000" y="3124080"/>
                    <a:ext cx="30492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821880" y="3126960"/>
                    <a:ext cx="29700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819000" y="3127320"/>
                    <a:ext cx="30348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974520" y="320004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927000" y="3166920"/>
                  <a:ext cx="1584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942840" y="3265200"/>
                  <a:ext cx="237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002960" y="3166920"/>
                  <a:ext cx="1440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974160" y="3265200"/>
                  <a:ext cx="2844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941400" y="3267000"/>
                  <a:ext cx="6660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912600" y="3073320"/>
                <a:ext cx="117000" cy="23760"/>
                <a:chOff x="912600" y="3073320"/>
                <a:chExt cx="117000" cy="237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912600" y="307332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57600" y="3073320"/>
                  <a:ext cx="2520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005840" y="307332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1209600" y="3171960"/>
              <a:ext cx="72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S Troop (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971640" y="3343320"/>
              <a:ext cx="1929960" cy="523440"/>
              <a:chOff x="971640" y="3343320"/>
              <a:chExt cx="1929960" cy="523440"/>
            </a:xfrm>
          </p:grpSpPr>
          <p:sp>
            <p:nvSpPr>
              <p:cNvPr id="274" name=""/>
              <p:cNvSpPr/>
              <p:nvPr/>
            </p:nvSpPr>
            <p:spPr>
              <a:xfrm>
                <a:off x="971640" y="34718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7400" y="351612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1133280" y="3343320"/>
                <a:ext cx="238320" cy="225000"/>
                <a:chOff x="1133280" y="3343320"/>
                <a:chExt cx="238320" cy="22500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1214280" y="3343320"/>
                  <a:ext cx="74880" cy="26640"/>
                  <a:chOff x="1214280" y="3343320"/>
                  <a:chExt cx="74880" cy="266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1214280" y="334332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262160" y="33433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1133280" y="3390840"/>
                  <a:ext cx="238320" cy="177480"/>
                  <a:chOff x="1133280" y="3390840"/>
                  <a:chExt cx="238320" cy="177480"/>
                </a:xfrm>
              </p:grpSpPr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1133280" y="3390840"/>
                    <a:ext cx="238320" cy="177480"/>
                    <a:chOff x="1133280" y="3390840"/>
                    <a:chExt cx="238320" cy="17748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133280" y="3390840"/>
                      <a:ext cx="238320" cy="1774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V="1">
                      <a:off x="1135440" y="3393360"/>
                      <a:ext cx="232200" cy="173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133280" y="3393360"/>
                      <a:ext cx="237240" cy="169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1254600" y="3450240"/>
                    <a:ext cx="0" cy="8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217520" y="3424320"/>
                    <a:ext cx="122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8">
                        <a:moveTo>
                          <a:pt x="0" y="0"/>
                        </a:moveTo>
                        <a:lnTo>
                          <a:pt x="9" y="17"/>
                        </a:lnTo>
                        <a:lnTo>
                          <a:pt x="10" y="58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229760" y="3501000"/>
                    <a:ext cx="18360" cy="1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276920" y="3424320"/>
                    <a:ext cx="1116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2">
                        <a:moveTo>
                          <a:pt x="9" y="0"/>
                        </a:moveTo>
                        <a:lnTo>
                          <a:pt x="1" y="15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1254240" y="3501000"/>
                    <a:ext cx="21960" cy="1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228680" y="3502440"/>
                    <a:ext cx="518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1">
                        <a:moveTo>
                          <a:pt x="4" y="0"/>
                        </a:moveTo>
                        <a:lnTo>
                          <a:pt x="0" y="17"/>
                        </a:lnTo>
                        <a:lnTo>
                          <a:pt x="20" y="21"/>
                        </a:lnTo>
                        <a:lnTo>
                          <a:pt x="42" y="17"/>
                        </a:lnTo>
                        <a:lnTo>
                          <a:pt x="40" y="0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1" name=""/>
              <p:cNvSpPr/>
              <p:nvPr/>
            </p:nvSpPr>
            <p:spPr>
              <a:xfrm>
                <a:off x="1454400" y="3590640"/>
                <a:ext cx="1447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SAS Jeep </a:t>
                </a: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        BR-P6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54760" y="3409920"/>
                <a:ext cx="1422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SAS Infantry            BR-P6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1133280" y="3628800"/>
                <a:ext cx="231840" cy="237960"/>
                <a:chOff x="1133280" y="3628800"/>
                <a:chExt cx="231840" cy="23796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1133280" y="3676320"/>
                  <a:ext cx="231840" cy="190440"/>
                  <a:chOff x="1133280" y="3676320"/>
                  <a:chExt cx="231840" cy="1904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1133280" y="3676320"/>
                    <a:ext cx="231840" cy="1573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1144440" y="3839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1325160" y="383976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1212480" y="3628800"/>
                  <a:ext cx="74880" cy="27000"/>
                  <a:chOff x="1212480" y="3628800"/>
                  <a:chExt cx="74880" cy="2700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1212480" y="362880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1260360" y="36288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1" name=""/>
          <p:cNvGrpSpPr/>
          <p:nvPr/>
        </p:nvGrpSpPr>
        <p:grpSpPr>
          <a:xfrm>
            <a:off x="695160" y="2467080"/>
            <a:ext cx="1901880" cy="491400"/>
            <a:chOff x="695160" y="2467080"/>
            <a:chExt cx="1901880" cy="491400"/>
          </a:xfrm>
        </p:grpSpPr>
        <p:grpSp>
          <p:nvGrpSpPr>
            <p:cNvPr id="302" name=""/>
            <p:cNvGrpSpPr/>
            <p:nvPr/>
          </p:nvGrpSpPr>
          <p:grpSpPr>
            <a:xfrm>
              <a:off x="847440" y="2524320"/>
              <a:ext cx="239760" cy="204840"/>
              <a:chOff x="847440" y="2524320"/>
              <a:chExt cx="239760" cy="20484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847440" y="2571840"/>
                <a:ext cx="239760" cy="157320"/>
                <a:chOff x="847440" y="2571840"/>
                <a:chExt cx="239760" cy="157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847440" y="257184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968040" y="259308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932040" y="269676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933480" y="2524320"/>
                <a:ext cx="74160" cy="27000"/>
                <a:chOff x="933480" y="2524320"/>
                <a:chExt cx="74160" cy="270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933480" y="2524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81000" y="25243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>
              <a:off x="1207800" y="2581560"/>
              <a:ext cx="1378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3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-inch Mortar            BR-5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160" y="26481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08160" y="2714760"/>
              <a:ext cx="138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Jeep (No MG)           BR-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09600" y="2467080"/>
              <a:ext cx="125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861840" y="2766960"/>
            <a:ext cx="231840" cy="233280"/>
            <a:chOff x="861840" y="2766960"/>
            <a:chExt cx="231840" cy="233280"/>
          </a:xfrm>
        </p:grpSpPr>
        <p:grpSp>
          <p:nvGrpSpPr>
            <p:cNvPr id="315" name=""/>
            <p:cNvGrpSpPr/>
            <p:nvPr/>
          </p:nvGrpSpPr>
          <p:grpSpPr>
            <a:xfrm>
              <a:off x="861840" y="2809800"/>
              <a:ext cx="231840" cy="190440"/>
              <a:chOff x="861840" y="2809800"/>
              <a:chExt cx="231840" cy="190440"/>
            </a:xfrm>
          </p:grpSpPr>
          <p:sp>
            <p:nvSpPr>
              <p:cNvPr id="316" name=""/>
              <p:cNvSpPr/>
              <p:nvPr/>
            </p:nvSpPr>
            <p:spPr>
              <a:xfrm>
                <a:off x="861840" y="28098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73000" y="29732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053720" y="29732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939600" y="2766960"/>
              <a:ext cx="74160" cy="27000"/>
              <a:chOff x="939600" y="2766960"/>
              <a:chExt cx="74160" cy="27000"/>
            </a:xfrm>
          </p:grpSpPr>
          <p:sp>
            <p:nvSpPr>
              <p:cNvPr id="320" name=""/>
              <p:cNvSpPr/>
              <p:nvPr/>
            </p:nvSpPr>
            <p:spPr>
              <a:xfrm>
                <a:off x="939600" y="2766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87120" y="2766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>
            <a:off x="3762360" y="2374920"/>
            <a:ext cx="0" cy="20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62200" y="2085840"/>
            <a:ext cx="31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71920" y="828720"/>
            <a:ext cx="0" cy="151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429000" y="638280"/>
            <a:ext cx="304920" cy="293040"/>
            <a:chOff x="3429000" y="638280"/>
            <a:chExt cx="304920" cy="293040"/>
          </a:xfrm>
        </p:grpSpPr>
        <p:grpSp>
          <p:nvGrpSpPr>
            <p:cNvPr id="326" name=""/>
            <p:cNvGrpSpPr/>
            <p:nvPr/>
          </p:nvGrpSpPr>
          <p:grpSpPr>
            <a:xfrm>
              <a:off x="3429000" y="704880"/>
              <a:ext cx="304920" cy="226440"/>
              <a:chOff x="3429000" y="704880"/>
              <a:chExt cx="304920" cy="2264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3429000" y="704880"/>
                <a:ext cx="304920" cy="226440"/>
                <a:chOff x="3429000" y="704880"/>
                <a:chExt cx="304920" cy="2264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429000" y="704880"/>
                  <a:ext cx="304920" cy="2264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3431880" y="707760"/>
                  <a:ext cx="29700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429000" y="708120"/>
                  <a:ext cx="30348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3584520" y="78084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37000" y="74772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0" y="0"/>
                    </a:moveTo>
                    <a:lnTo>
                      <a:pt x="9" y="17"/>
                    </a:lnTo>
                    <a:lnTo>
                      <a:pt x="1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52840" y="846000"/>
                <a:ext cx="2376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12960" y="747720"/>
                <a:ext cx="14400" cy="98280"/>
              </a:xfrm>
              <a:custGeom>
                <a:avLst/>
                <a:gdLst/>
                <a:ahLst/>
                <a:rect l="l" t="t" r="r" b="b"/>
                <a:pathLst>
                  <a:path w="9" h="62">
                    <a:moveTo>
                      <a:pt x="9" y="0"/>
                    </a:moveTo>
                    <a:lnTo>
                      <a:pt x="1" y="15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3584160" y="846000"/>
                <a:ext cx="284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51400" y="847800"/>
                <a:ext cx="66600" cy="33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" y="0"/>
                    </a:moveTo>
                    <a:lnTo>
                      <a:pt x="0" y="17"/>
                    </a:lnTo>
                    <a:lnTo>
                      <a:pt x="20" y="21"/>
                    </a:lnTo>
                    <a:lnTo>
                      <a:pt x="42" y="17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3581640" y="6382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019400" y="561960"/>
            <a:ext cx="21718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AS-BG2 SAS Squadron Type 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all recon)                                                        3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French SAS Btn (1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RC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62360" y="12668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71920" y="1266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724200" y="1143000"/>
            <a:ext cx="231840" cy="204840"/>
            <a:chOff x="3724200" y="1143000"/>
            <a:chExt cx="231840" cy="204840"/>
          </a:xfrm>
        </p:grpSpPr>
        <p:sp>
          <p:nvSpPr>
            <p:cNvPr id="342" name=""/>
            <p:cNvSpPr/>
            <p:nvPr/>
          </p:nvSpPr>
          <p:spPr>
            <a:xfrm>
              <a:off x="3825720" y="11430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724200" y="1190520"/>
              <a:ext cx="231840" cy="157320"/>
              <a:chOff x="3724200" y="1190520"/>
              <a:chExt cx="231840" cy="1573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24200" y="119052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47960" y="1212840"/>
                <a:ext cx="184320" cy="110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4047120" y="1066680"/>
            <a:ext cx="136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er             BR-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46760" y="1600200"/>
            <a:ext cx="136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Jeep (No MG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BR-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733920" y="1647720"/>
            <a:ext cx="231480" cy="237960"/>
            <a:chOff x="3733920" y="1647720"/>
            <a:chExt cx="231480" cy="237960"/>
          </a:xfrm>
        </p:grpSpPr>
        <p:grpSp>
          <p:nvGrpSpPr>
            <p:cNvPr id="349" name=""/>
            <p:cNvGrpSpPr/>
            <p:nvPr/>
          </p:nvGrpSpPr>
          <p:grpSpPr>
            <a:xfrm>
              <a:off x="3733920" y="1695240"/>
              <a:ext cx="231480" cy="190440"/>
              <a:chOff x="3733920" y="1695240"/>
              <a:chExt cx="231480" cy="190440"/>
            </a:xfrm>
          </p:grpSpPr>
          <p:sp>
            <p:nvSpPr>
              <p:cNvPr id="350" name=""/>
              <p:cNvSpPr/>
              <p:nvPr/>
            </p:nvSpPr>
            <p:spPr>
              <a:xfrm>
                <a:off x="3733920" y="169524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44720" y="18586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925440" y="1858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3835440" y="164772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048200" y="942840"/>
            <a:ext cx="72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n H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71920" y="1509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733920" y="1380960"/>
            <a:ext cx="237960" cy="225720"/>
            <a:chOff x="3733920" y="1380960"/>
            <a:chExt cx="237960" cy="225720"/>
          </a:xfrm>
        </p:grpSpPr>
        <p:grpSp>
          <p:nvGrpSpPr>
            <p:cNvPr id="357" name=""/>
            <p:cNvGrpSpPr/>
            <p:nvPr/>
          </p:nvGrpSpPr>
          <p:grpSpPr>
            <a:xfrm>
              <a:off x="3814560" y="1380960"/>
              <a:ext cx="74160" cy="27000"/>
              <a:chOff x="3814560" y="1380960"/>
              <a:chExt cx="74160" cy="27000"/>
            </a:xfrm>
          </p:grpSpPr>
          <p:sp>
            <p:nvSpPr>
              <p:cNvPr id="358" name=""/>
              <p:cNvSpPr/>
              <p:nvPr/>
            </p:nvSpPr>
            <p:spPr>
              <a:xfrm>
                <a:off x="3814560" y="1380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62080" y="1380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733920" y="1428840"/>
              <a:ext cx="237960" cy="177840"/>
              <a:chOff x="3733920" y="1428840"/>
              <a:chExt cx="237960" cy="17784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3733920" y="1428840"/>
                <a:ext cx="237960" cy="177840"/>
                <a:chOff x="3733920" y="1428840"/>
                <a:chExt cx="237960" cy="1778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733920" y="1428840"/>
                  <a:ext cx="237960" cy="1778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3736080" y="1431000"/>
                  <a:ext cx="231840" cy="17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733920" y="1431360"/>
                  <a:ext cx="2368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3855240" y="1488240"/>
                <a:ext cx="0" cy="8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18160" y="1462320"/>
                <a:ext cx="12240" cy="7200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0" y="0"/>
                    </a:moveTo>
                    <a:lnTo>
                      <a:pt x="9" y="17"/>
                    </a:lnTo>
                    <a:lnTo>
                      <a:pt x="1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30400" y="1539360"/>
                <a:ext cx="183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77200" y="1462320"/>
                <a:ext cx="11160" cy="77040"/>
              </a:xfrm>
              <a:custGeom>
                <a:avLst/>
                <a:gdLst/>
                <a:ahLst/>
                <a:rect l="l" t="t" r="r" b="b"/>
                <a:pathLst>
                  <a:path w="9" h="62">
                    <a:moveTo>
                      <a:pt x="9" y="0"/>
                    </a:moveTo>
                    <a:lnTo>
                      <a:pt x="1" y="15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3854880" y="1539360"/>
                <a:ext cx="219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29320" y="1540800"/>
                <a:ext cx="51840" cy="259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" y="0"/>
                    </a:moveTo>
                    <a:lnTo>
                      <a:pt x="0" y="17"/>
                    </a:lnTo>
                    <a:lnTo>
                      <a:pt x="20" y="21"/>
                    </a:lnTo>
                    <a:lnTo>
                      <a:pt x="42" y="17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4055040" y="1447920"/>
            <a:ext cx="142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S Infantry            BR-P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705120" y="1911240"/>
            <a:ext cx="304920" cy="277200"/>
            <a:chOff x="3705120" y="1911240"/>
            <a:chExt cx="304920" cy="277200"/>
          </a:xfrm>
        </p:grpSpPr>
        <p:grpSp>
          <p:nvGrpSpPr>
            <p:cNvPr id="373" name=""/>
            <p:cNvGrpSpPr/>
            <p:nvPr/>
          </p:nvGrpSpPr>
          <p:grpSpPr>
            <a:xfrm>
              <a:off x="3705120" y="1962000"/>
              <a:ext cx="304920" cy="226440"/>
              <a:chOff x="3705120" y="1962000"/>
              <a:chExt cx="304920" cy="22644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3705120" y="1962000"/>
                <a:ext cx="304920" cy="226440"/>
                <a:chOff x="3705120" y="1962000"/>
                <a:chExt cx="304920" cy="2264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705120" y="1962000"/>
                  <a:ext cx="304920" cy="2264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3708000" y="1964880"/>
                  <a:ext cx="29700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05120" y="1965240"/>
                  <a:ext cx="30348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3860640" y="20379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13120" y="200484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0" y="0"/>
                    </a:moveTo>
                    <a:lnTo>
                      <a:pt x="9" y="17"/>
                    </a:lnTo>
                    <a:lnTo>
                      <a:pt x="1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28960" y="2103120"/>
                <a:ext cx="2376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89080" y="2004840"/>
                <a:ext cx="14400" cy="98280"/>
              </a:xfrm>
              <a:custGeom>
                <a:avLst/>
                <a:gdLst/>
                <a:ahLst/>
                <a:rect l="l" t="t" r="r" b="b"/>
                <a:pathLst>
                  <a:path w="9" h="62">
                    <a:moveTo>
                      <a:pt x="9" y="0"/>
                    </a:moveTo>
                    <a:lnTo>
                      <a:pt x="1" y="15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3860280" y="2103120"/>
                <a:ext cx="284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27520" y="2104920"/>
                <a:ext cx="66600" cy="33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" y="0"/>
                    </a:moveTo>
                    <a:lnTo>
                      <a:pt x="0" y="17"/>
                    </a:lnTo>
                    <a:lnTo>
                      <a:pt x="20" y="21"/>
                    </a:lnTo>
                    <a:lnTo>
                      <a:pt x="42" y="17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3801960" y="1911240"/>
              <a:ext cx="117720" cy="23760"/>
              <a:chOff x="3801960" y="1911240"/>
              <a:chExt cx="117720" cy="23760"/>
            </a:xfrm>
          </p:grpSpPr>
          <p:sp>
            <p:nvSpPr>
              <p:cNvPr id="385" name=""/>
              <p:cNvSpPr/>
              <p:nvPr/>
            </p:nvSpPr>
            <p:spPr>
              <a:xfrm>
                <a:off x="3801960" y="1911240"/>
                <a:ext cx="2412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47320" y="1911240"/>
                <a:ext cx="2520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95560" y="1911240"/>
                <a:ext cx="2412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4076640" y="2000160"/>
            <a:ext cx="92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SAS Troop 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562200" y="2152800"/>
            <a:ext cx="1901880" cy="491400"/>
            <a:chOff x="3562200" y="2152800"/>
            <a:chExt cx="1901880" cy="491400"/>
          </a:xfrm>
        </p:grpSpPr>
        <p:grpSp>
          <p:nvGrpSpPr>
            <p:cNvPr id="390" name=""/>
            <p:cNvGrpSpPr/>
            <p:nvPr/>
          </p:nvGrpSpPr>
          <p:grpSpPr>
            <a:xfrm>
              <a:off x="3714480" y="2210040"/>
              <a:ext cx="239760" cy="204840"/>
              <a:chOff x="3714480" y="2210040"/>
              <a:chExt cx="239760" cy="20484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3714480" y="2257560"/>
                <a:ext cx="239760" cy="157320"/>
                <a:chOff x="3714480" y="2257560"/>
                <a:chExt cx="239760" cy="1573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714480" y="2257560"/>
                  <a:ext cx="23976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835080" y="227880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799080" y="238248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3800520" y="2210040"/>
                <a:ext cx="74160" cy="27000"/>
                <a:chOff x="3800520" y="2210040"/>
                <a:chExt cx="74160" cy="270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800520" y="22100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848040" y="22100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" name=""/>
            <p:cNvSpPr/>
            <p:nvPr/>
          </p:nvSpPr>
          <p:spPr>
            <a:xfrm>
              <a:off x="4074840" y="2267280"/>
              <a:ext cx="1378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 3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-inch Mortar            BR-5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62200" y="2333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75200" y="2400480"/>
              <a:ext cx="138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Jeep (No MG)           BR-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76640" y="2152800"/>
              <a:ext cx="125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728880" y="2452680"/>
            <a:ext cx="231840" cy="233280"/>
            <a:chOff x="3728880" y="2452680"/>
            <a:chExt cx="231840" cy="233280"/>
          </a:xfrm>
        </p:grpSpPr>
        <p:grpSp>
          <p:nvGrpSpPr>
            <p:cNvPr id="403" name=""/>
            <p:cNvGrpSpPr/>
            <p:nvPr/>
          </p:nvGrpSpPr>
          <p:grpSpPr>
            <a:xfrm>
              <a:off x="3728880" y="2495520"/>
              <a:ext cx="231840" cy="190440"/>
              <a:chOff x="3728880" y="2495520"/>
              <a:chExt cx="231840" cy="190440"/>
            </a:xfrm>
          </p:grpSpPr>
          <p:sp>
            <p:nvSpPr>
              <p:cNvPr id="404" name=""/>
              <p:cNvSpPr/>
              <p:nvPr/>
            </p:nvSpPr>
            <p:spPr>
              <a:xfrm>
                <a:off x="3728880" y="249552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40040" y="26589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20760" y="26589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806640" y="2452680"/>
              <a:ext cx="74160" cy="27000"/>
              <a:chOff x="3806640" y="2452680"/>
              <a:chExt cx="74160" cy="27000"/>
            </a:xfrm>
          </p:grpSpPr>
          <p:sp>
            <p:nvSpPr>
              <p:cNvPr id="408" name=""/>
              <p:cNvSpPr/>
              <p:nvPr/>
            </p:nvSpPr>
            <p:spPr>
              <a:xfrm>
                <a:off x="3806640" y="2452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54160" y="24526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3686040" y="2749680"/>
            <a:ext cx="1784520" cy="1307880"/>
            <a:chOff x="3686040" y="2749680"/>
            <a:chExt cx="1784520" cy="1307880"/>
          </a:xfrm>
        </p:grpSpPr>
        <p:sp>
          <p:nvSpPr>
            <p:cNvPr id="411" name=""/>
            <p:cNvSpPr/>
            <p:nvPr/>
          </p:nvSpPr>
          <p:spPr>
            <a:xfrm>
              <a:off x="4024440" y="3144960"/>
              <a:ext cx="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38680" y="2895480"/>
              <a:ext cx="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686040" y="2749680"/>
              <a:ext cx="304920" cy="277200"/>
              <a:chOff x="3686040" y="2749680"/>
              <a:chExt cx="304920" cy="27720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3686040" y="2800440"/>
                <a:ext cx="304920" cy="226440"/>
                <a:chOff x="3686040" y="2800440"/>
                <a:chExt cx="304920" cy="22644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3686040" y="2800440"/>
                  <a:ext cx="304920" cy="226440"/>
                  <a:chOff x="3686040" y="2800440"/>
                  <a:chExt cx="304920" cy="2264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686040" y="2800440"/>
                    <a:ext cx="30492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V="1">
                    <a:off x="3688920" y="2803320"/>
                    <a:ext cx="29700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686040" y="2803680"/>
                    <a:ext cx="30348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>
                  <a:off x="3841560" y="287640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794040" y="2843280"/>
                  <a:ext cx="1584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809880" y="2941560"/>
                  <a:ext cx="237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000" y="2843280"/>
                  <a:ext cx="1440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3841200" y="2941560"/>
                  <a:ext cx="2844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808440" y="2943360"/>
                  <a:ext cx="6660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3779640" y="2749680"/>
                <a:ext cx="117000" cy="23760"/>
                <a:chOff x="3779640" y="2749680"/>
                <a:chExt cx="117000" cy="237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779640" y="274968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824640" y="2749680"/>
                  <a:ext cx="2520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2880" y="274968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076640" y="2847960"/>
              <a:ext cx="72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S Troop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38680" y="31575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96600" y="3781440"/>
              <a:ext cx="108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Jeep (no MG)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R-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22160" y="3085920"/>
              <a:ext cx="1085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LMG               BR-5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3986280" y="3819600"/>
              <a:ext cx="231840" cy="237960"/>
              <a:chOff x="3986280" y="3819600"/>
              <a:chExt cx="231840" cy="23796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3986280" y="3867120"/>
                <a:ext cx="231840" cy="190440"/>
                <a:chOff x="3986280" y="3867120"/>
                <a:chExt cx="231840" cy="1904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986280" y="3867120"/>
                  <a:ext cx="23184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997440" y="4030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178160" y="403056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4065480" y="3819600"/>
                <a:ext cx="74880" cy="27000"/>
                <a:chOff x="4065480" y="3819600"/>
                <a:chExt cx="74880" cy="270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065480" y="38196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113360" y="3819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4303800" y="3343320"/>
              <a:ext cx="1166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LMG w/PIAT   BR-P6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84720" y="3610080"/>
              <a:ext cx="1172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LMG w/2”        BR-P6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986280" y="3038400"/>
              <a:ext cx="231480" cy="204840"/>
              <a:chOff x="3986280" y="3038400"/>
              <a:chExt cx="231480" cy="2048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4066920" y="3038400"/>
                <a:ext cx="74880" cy="27000"/>
                <a:chOff x="4066920" y="3038400"/>
                <a:chExt cx="74880" cy="270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066920" y="30384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114800" y="30384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3986280" y="3085920"/>
                <a:ext cx="231480" cy="157320"/>
                <a:chOff x="3986280" y="3085920"/>
                <a:chExt cx="231480" cy="157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3986280" y="3085920"/>
                  <a:ext cx="23148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986280" y="3085920"/>
                  <a:ext cx="55080" cy="155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3986280" y="3088800"/>
                  <a:ext cx="228240" cy="15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987360" y="3085920"/>
                  <a:ext cx="22680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3986280" y="3267000"/>
              <a:ext cx="231480" cy="204840"/>
              <a:chOff x="3986280" y="3267000"/>
              <a:chExt cx="231480" cy="20484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4066920" y="3267000"/>
                <a:ext cx="74880" cy="27000"/>
                <a:chOff x="4066920" y="3267000"/>
                <a:chExt cx="74880" cy="270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066920" y="32670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114800" y="3267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3986280" y="3314520"/>
                <a:ext cx="231480" cy="157320"/>
                <a:chOff x="3986280" y="3314520"/>
                <a:chExt cx="231480" cy="1573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986280" y="3314520"/>
                  <a:ext cx="23148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986280" y="3314520"/>
                  <a:ext cx="55080" cy="155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3986280" y="3317400"/>
                  <a:ext cx="228240" cy="15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987360" y="3314520"/>
                  <a:ext cx="22680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3986280" y="3524400"/>
              <a:ext cx="231480" cy="204120"/>
              <a:chOff x="3986280" y="3524400"/>
              <a:chExt cx="231480" cy="2041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066920" y="3524400"/>
                <a:ext cx="74880" cy="26640"/>
                <a:chOff x="4066920" y="3524400"/>
                <a:chExt cx="74880" cy="266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066920" y="352440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14800" y="3524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986280" y="3571560"/>
                <a:ext cx="231480" cy="156960"/>
                <a:chOff x="3986280" y="3571560"/>
                <a:chExt cx="231480" cy="1569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986280" y="3571560"/>
                  <a:ext cx="23148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986280" y="3571560"/>
                  <a:ext cx="55080" cy="155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3986280" y="3574440"/>
                  <a:ext cx="22824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987360" y="3571560"/>
                  <a:ext cx="2268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0" name=""/>
          <p:cNvGrpSpPr/>
          <p:nvPr/>
        </p:nvGrpSpPr>
        <p:grpSpPr>
          <a:xfrm>
            <a:off x="6010200" y="561960"/>
            <a:ext cx="2690640" cy="1895040"/>
            <a:chOff x="6010200" y="561960"/>
            <a:chExt cx="2690640" cy="1895040"/>
          </a:xfrm>
        </p:grpSpPr>
        <p:sp>
          <p:nvSpPr>
            <p:cNvPr id="471" name=""/>
            <p:cNvSpPr/>
            <p:nvPr/>
          </p:nvSpPr>
          <p:spPr>
            <a:xfrm>
              <a:off x="6343560" y="2126880"/>
              <a:ext cx="0" cy="20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43400" y="1847520"/>
              <a:ext cx="31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53120" y="847440"/>
              <a:ext cx="0" cy="12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010200" y="647640"/>
              <a:ext cx="304920" cy="292320"/>
              <a:chOff x="6010200" y="647640"/>
              <a:chExt cx="304920" cy="29232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6010200" y="713880"/>
                <a:ext cx="304920" cy="226080"/>
                <a:chOff x="6010200" y="713880"/>
                <a:chExt cx="304920" cy="226080"/>
              </a:xfrm>
            </p:grpSpPr>
            <p:grpSp>
              <p:nvGrpSpPr>
                <p:cNvPr id="476" name=""/>
                <p:cNvGrpSpPr/>
                <p:nvPr/>
              </p:nvGrpSpPr>
              <p:grpSpPr>
                <a:xfrm>
                  <a:off x="6010200" y="713880"/>
                  <a:ext cx="304920" cy="226080"/>
                  <a:chOff x="6010200" y="713880"/>
                  <a:chExt cx="304920" cy="22608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6010200" y="713880"/>
                    <a:ext cx="304920" cy="2260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V="1">
                    <a:off x="6013080" y="717120"/>
                    <a:ext cx="297000" cy="22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010200" y="717120"/>
                    <a:ext cx="303480" cy="21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" name=""/>
                <p:cNvSpPr/>
                <p:nvPr/>
              </p:nvSpPr>
              <p:spPr>
                <a:xfrm>
                  <a:off x="6165720" y="78948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118200" y="756360"/>
                  <a:ext cx="15840" cy="9180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134040" y="854640"/>
                  <a:ext cx="2376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194160" y="756360"/>
                  <a:ext cx="14400" cy="9792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6165360" y="854640"/>
                  <a:ext cx="2844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132600" y="856440"/>
                  <a:ext cx="66600" cy="3276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6162840" y="647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6629400" y="561960"/>
              <a:ext cx="207144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SAS-ME3 SAS Squadron Type 3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(all recon)                                                     4</a:t>
              </a:r>
              <a:r>
                <a:rPr b="0" lang="en-GB" sz="8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Belgian S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06920" y="115236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6153120" y="1076040"/>
              <a:ext cx="1891800" cy="561240"/>
              <a:chOff x="6153120" y="1076040"/>
              <a:chExt cx="1891800" cy="561240"/>
            </a:xfrm>
          </p:grpSpPr>
          <p:sp>
            <p:nvSpPr>
              <p:cNvPr id="490" name=""/>
              <p:cNvSpPr/>
              <p:nvPr/>
            </p:nvSpPr>
            <p:spPr>
              <a:xfrm>
                <a:off x="6343560" y="127584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53120" y="12758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6305400" y="1199520"/>
                <a:ext cx="231840" cy="156960"/>
                <a:chOff x="6305400" y="1199520"/>
                <a:chExt cx="231840" cy="1569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305400" y="119952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329160" y="1221480"/>
                  <a:ext cx="184320" cy="110520"/>
                </a:xfrm>
                <a:prstGeom prst="rect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6627960" y="1076040"/>
                <a:ext cx="1366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er             BR-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626520" y="1352160"/>
                <a:ext cx="1418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SAS Jeep </a:t>
                </a: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       BR-P6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6314760" y="1399320"/>
                <a:ext cx="231840" cy="237960"/>
                <a:chOff x="6314760" y="1399320"/>
                <a:chExt cx="231840" cy="23796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6314760" y="1446840"/>
                  <a:ext cx="231840" cy="190440"/>
                  <a:chOff x="6314760" y="1446840"/>
                  <a:chExt cx="231840" cy="19044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6314760" y="1446840"/>
                    <a:ext cx="231840" cy="1573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325920" y="16102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6506640" y="161028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6416640" y="1399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"/>
            <p:cNvSpPr/>
            <p:nvPr/>
          </p:nvSpPr>
          <p:spPr>
            <a:xfrm>
              <a:off x="6629400" y="952200"/>
              <a:ext cx="72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qn 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6286320" y="1672920"/>
              <a:ext cx="304920" cy="276840"/>
              <a:chOff x="6286320" y="1672920"/>
              <a:chExt cx="304920" cy="27684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6286320" y="1723320"/>
                <a:ext cx="304920" cy="226440"/>
                <a:chOff x="6286320" y="1723320"/>
                <a:chExt cx="304920" cy="22644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6286320" y="1723320"/>
                  <a:ext cx="304920" cy="226440"/>
                  <a:chOff x="6286320" y="1723320"/>
                  <a:chExt cx="304920" cy="2264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6286320" y="1723320"/>
                    <a:ext cx="30492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V="1">
                    <a:off x="6289200" y="1726200"/>
                    <a:ext cx="29700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6286320" y="1726560"/>
                    <a:ext cx="30348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0" name=""/>
                <p:cNvSpPr/>
                <p:nvPr/>
              </p:nvSpPr>
              <p:spPr>
                <a:xfrm>
                  <a:off x="6441840" y="1799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394320" y="1766160"/>
                  <a:ext cx="1584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0160" y="1864440"/>
                  <a:ext cx="237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70280" y="1766160"/>
                  <a:ext cx="1440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6441480" y="1864440"/>
                  <a:ext cx="2844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408720" y="1866240"/>
                  <a:ext cx="6660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383160" y="1672920"/>
                <a:ext cx="117720" cy="23400"/>
                <a:chOff x="6383160" y="1672920"/>
                <a:chExt cx="117720" cy="234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383160" y="1672920"/>
                  <a:ext cx="24120" cy="23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28520" y="1672920"/>
                  <a:ext cx="25200" cy="23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76760" y="1672920"/>
                  <a:ext cx="24120" cy="23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"/>
            <p:cNvSpPr/>
            <p:nvPr/>
          </p:nvSpPr>
          <p:spPr>
            <a:xfrm>
              <a:off x="6657840" y="1761840"/>
              <a:ext cx="129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5 SAS Troop (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6143400" y="1923840"/>
              <a:ext cx="1901880" cy="491040"/>
              <a:chOff x="6143400" y="1923840"/>
              <a:chExt cx="1901880" cy="49104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6295680" y="1980720"/>
                <a:ext cx="239760" cy="204120"/>
                <a:chOff x="6295680" y="1980720"/>
                <a:chExt cx="239760" cy="204120"/>
              </a:xfrm>
            </p:grpSpPr>
            <p:grpSp>
              <p:nvGrpSpPr>
                <p:cNvPr id="523" name=""/>
                <p:cNvGrpSpPr/>
                <p:nvPr/>
              </p:nvGrpSpPr>
              <p:grpSpPr>
                <a:xfrm>
                  <a:off x="6295680" y="2027880"/>
                  <a:ext cx="239760" cy="156960"/>
                  <a:chOff x="6295680" y="2027880"/>
                  <a:chExt cx="239760" cy="1569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6295680" y="2027880"/>
                    <a:ext cx="23976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6416280" y="2049120"/>
                    <a:ext cx="2160" cy="1011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6380280" y="215280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6381720" y="1980720"/>
                  <a:ext cx="74160" cy="26640"/>
                  <a:chOff x="6381720" y="1980720"/>
                  <a:chExt cx="74160" cy="266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6381720" y="19807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429240" y="19807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0" name=""/>
              <p:cNvSpPr/>
              <p:nvPr/>
            </p:nvSpPr>
            <p:spPr>
              <a:xfrm>
                <a:off x="6656040" y="2037960"/>
                <a:ext cx="1378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3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-inch Mortar            BR-5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43400" y="210456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56400" y="2171160"/>
                <a:ext cx="1388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Jeep (No MG)           BR-4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57840" y="1923840"/>
                <a:ext cx="1257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310080" y="2223720"/>
              <a:ext cx="231840" cy="233280"/>
              <a:chOff x="6310080" y="2223720"/>
              <a:chExt cx="231840" cy="23328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6310080" y="2266560"/>
                <a:ext cx="231840" cy="190440"/>
                <a:chOff x="6310080" y="2266560"/>
                <a:chExt cx="231840" cy="1904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310080" y="2266560"/>
                  <a:ext cx="23184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321240" y="24300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501960" y="24300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387840" y="2223720"/>
                <a:ext cx="74160" cy="27000"/>
                <a:chOff x="6387840" y="2223720"/>
                <a:chExt cx="74160" cy="2700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387840" y="2223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435360" y="22237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38280" y="8568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S Regiment Europe 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114800" y="6624720"/>
            <a:ext cx="74160" cy="27000"/>
            <a:chOff x="4114800" y="6624720"/>
            <a:chExt cx="74160" cy="27000"/>
          </a:xfrm>
        </p:grpSpPr>
        <p:sp>
          <p:nvSpPr>
            <p:cNvPr id="544" name=""/>
            <p:cNvSpPr/>
            <p:nvPr/>
          </p:nvSpPr>
          <p:spPr>
            <a:xfrm>
              <a:off x="4114800" y="6624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62320" y="66247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038480" y="6700680"/>
            <a:ext cx="231840" cy="157320"/>
            <a:chOff x="4038480" y="6700680"/>
            <a:chExt cx="231840" cy="157320"/>
          </a:xfrm>
        </p:grpSpPr>
        <p:sp>
          <p:nvSpPr>
            <p:cNvPr id="547" name=""/>
            <p:cNvSpPr/>
            <p:nvPr/>
          </p:nvSpPr>
          <p:spPr>
            <a:xfrm>
              <a:off x="4038480" y="6700680"/>
              <a:ext cx="231840" cy="157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38480" y="6700680"/>
              <a:ext cx="55440" cy="155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038480" y="6703560"/>
              <a:ext cx="2286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39920" y="6700680"/>
              <a:ext cx="2271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4335840" y="6624720"/>
            <a:ext cx="23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ickers MMG                                       BR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6777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62000" y="150840"/>
            <a:ext cx="4781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terranean Thea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543040" y="4857840"/>
            <a:ext cx="2623680" cy="1446480"/>
            <a:chOff x="2543040" y="4857840"/>
            <a:chExt cx="2623680" cy="1446480"/>
          </a:xfrm>
        </p:grpSpPr>
        <p:sp>
          <p:nvSpPr>
            <p:cNvPr id="555" name=""/>
            <p:cNvSpPr/>
            <p:nvPr/>
          </p:nvSpPr>
          <p:spPr>
            <a:xfrm>
              <a:off x="2695320" y="5076720"/>
              <a:ext cx="0" cy="87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54320" y="4991040"/>
              <a:ext cx="201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mmando Hvy Wpn Trp ME-C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695320" y="5209920"/>
              <a:ext cx="1908720" cy="251280"/>
              <a:chOff x="2695320" y="5209920"/>
              <a:chExt cx="1908720" cy="251280"/>
            </a:xfrm>
          </p:grpSpPr>
          <p:sp>
            <p:nvSpPr>
              <p:cNvPr id="558" name=""/>
              <p:cNvSpPr/>
              <p:nvPr/>
            </p:nvSpPr>
            <p:spPr>
              <a:xfrm>
                <a:off x="2695320" y="5380920"/>
                <a:ext cx="23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2847600" y="5257080"/>
                <a:ext cx="231840" cy="204120"/>
                <a:chOff x="2847600" y="5257080"/>
                <a:chExt cx="231840" cy="20412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2923920" y="5257080"/>
                  <a:ext cx="74160" cy="26640"/>
                  <a:chOff x="2923920" y="5257080"/>
                  <a:chExt cx="74160" cy="266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2923920" y="5257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971440" y="52570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2847600" y="5304240"/>
                  <a:ext cx="231840" cy="156960"/>
                  <a:chOff x="2847600" y="5304240"/>
                  <a:chExt cx="231840" cy="1569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2847600" y="5304240"/>
                    <a:ext cx="23184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871360" y="5326200"/>
                    <a:ext cx="184320" cy="11052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6" name=""/>
              <p:cNvSpPr/>
              <p:nvPr/>
            </p:nvSpPr>
            <p:spPr>
              <a:xfrm>
                <a:off x="3150720" y="5209920"/>
                <a:ext cx="1453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er                BR-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904840" y="5641920"/>
              <a:ext cx="0" cy="54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2695320" y="5781600"/>
              <a:ext cx="1901880" cy="491040"/>
              <a:chOff x="2695320" y="5781600"/>
              <a:chExt cx="1901880" cy="4910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2847600" y="5838480"/>
                <a:ext cx="239760" cy="204120"/>
                <a:chOff x="2847600" y="5838480"/>
                <a:chExt cx="239760" cy="20412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2847600" y="5885640"/>
                  <a:ext cx="239760" cy="156960"/>
                  <a:chOff x="2847600" y="5885640"/>
                  <a:chExt cx="239760" cy="1569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847600" y="5885640"/>
                    <a:ext cx="23976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968200" y="5906880"/>
                    <a:ext cx="2160" cy="1011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32200" y="601056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933640" y="5838480"/>
                  <a:ext cx="74160" cy="26640"/>
                  <a:chOff x="2933640" y="5838480"/>
                  <a:chExt cx="74160" cy="2664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2933640" y="58384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981160" y="58384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7" name=""/>
              <p:cNvSpPr/>
              <p:nvPr/>
            </p:nvSpPr>
            <p:spPr>
              <a:xfrm>
                <a:off x="3207960" y="5895720"/>
                <a:ext cx="1378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3-inch Mortar            BR-5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95320" y="59623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208320" y="6028920"/>
                <a:ext cx="1388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Jeep (No MG)           BR-4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09760" y="5781600"/>
                <a:ext cx="1257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842920" y="6072120"/>
              <a:ext cx="231840" cy="232200"/>
              <a:chOff x="2842920" y="6072120"/>
              <a:chExt cx="231840" cy="23220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2842920" y="6114600"/>
                <a:ext cx="231840" cy="189720"/>
                <a:chOff x="2842920" y="6114600"/>
                <a:chExt cx="231840" cy="1897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2842920" y="611460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854080" y="6277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34800" y="627768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2920680" y="6072120"/>
                <a:ext cx="74160" cy="26640"/>
                <a:chOff x="2920680" y="6072120"/>
                <a:chExt cx="74160" cy="26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920680" y="60721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68200" y="60721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9" name=""/>
            <p:cNvGrpSpPr/>
            <p:nvPr/>
          </p:nvGrpSpPr>
          <p:grpSpPr>
            <a:xfrm>
              <a:off x="2857320" y="5547960"/>
              <a:ext cx="231840" cy="194760"/>
              <a:chOff x="2857320" y="5547960"/>
              <a:chExt cx="231840" cy="194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2933640" y="5547960"/>
                <a:ext cx="74160" cy="26640"/>
                <a:chOff x="2933640" y="5547960"/>
                <a:chExt cx="74160" cy="266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2933640" y="55479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981160" y="55479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2857320" y="5585760"/>
                <a:ext cx="231840" cy="156960"/>
                <a:chOff x="2857320" y="5585760"/>
                <a:chExt cx="231840" cy="1569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857320" y="558576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857320" y="5585760"/>
                  <a:ext cx="55440" cy="155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>
                  <a:off x="2857320" y="5588640"/>
                  <a:ext cx="22860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868480" y="5591880"/>
                  <a:ext cx="21744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"/>
            <p:cNvSpPr/>
            <p:nvPr/>
          </p:nvSpPr>
          <p:spPr>
            <a:xfrm>
              <a:off x="3157200" y="5624280"/>
              <a:ext cx="1451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Vickers MMG              BR-5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05040" y="5662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543040" y="4857840"/>
              <a:ext cx="304200" cy="292320"/>
              <a:chOff x="2543040" y="4857840"/>
              <a:chExt cx="304200" cy="29232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2543040" y="4924440"/>
                <a:ext cx="304200" cy="225720"/>
                <a:chOff x="2543040" y="4924440"/>
                <a:chExt cx="304200" cy="22572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2543040" y="4924440"/>
                  <a:ext cx="304200" cy="225720"/>
                  <a:chOff x="2543040" y="4924440"/>
                  <a:chExt cx="304200" cy="22572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2543040" y="4924440"/>
                    <a:ext cx="304200" cy="2257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V="1">
                    <a:off x="2545920" y="4927320"/>
                    <a:ext cx="296280" cy="22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543040" y="4927680"/>
                    <a:ext cx="302760" cy="21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2655360" y="4961160"/>
                  <a:ext cx="74160" cy="161640"/>
                  <a:chOff x="2655360" y="4961160"/>
                  <a:chExt cx="74160" cy="1616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rot="10800000">
                    <a:off x="2657160" y="5056200"/>
                    <a:ext cx="72360" cy="522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692800" y="4988520"/>
                    <a:ext cx="0" cy="13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655360" y="4990320"/>
                    <a:ext cx="727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686320" y="496116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1" name=""/>
              <p:cNvSpPr/>
              <p:nvPr/>
            </p:nvSpPr>
            <p:spPr>
              <a:xfrm>
                <a:off x="2695320" y="4857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545920" y="4924440"/>
                <a:ext cx="55080" cy="221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3790800" y="542880"/>
            <a:ext cx="3505680" cy="1816200"/>
            <a:chOff x="3790800" y="542880"/>
            <a:chExt cx="3505680" cy="1816200"/>
          </a:xfrm>
        </p:grpSpPr>
        <p:sp>
          <p:nvSpPr>
            <p:cNvPr id="614" name=""/>
            <p:cNvSpPr/>
            <p:nvPr/>
          </p:nvSpPr>
          <p:spPr>
            <a:xfrm>
              <a:off x="3943080" y="742680"/>
              <a:ext cx="0" cy="151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52800" y="1847520"/>
              <a:ext cx="36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52800" y="2247480"/>
              <a:ext cx="36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3952800" y="799920"/>
              <a:ext cx="1910880" cy="779400"/>
              <a:chOff x="3952800" y="799920"/>
              <a:chExt cx="1910880" cy="779400"/>
            </a:xfrm>
          </p:grpSpPr>
          <p:sp>
            <p:nvSpPr>
              <p:cNvPr id="618" name=""/>
              <p:cNvSpPr/>
              <p:nvPr/>
            </p:nvSpPr>
            <p:spPr>
              <a:xfrm>
                <a:off x="4219200" y="936000"/>
                <a:ext cx="0" cy="53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952800" y="970920"/>
                <a:ext cx="23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952800" y="1208880"/>
                <a:ext cx="23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" name=""/>
              <p:cNvGrpSpPr/>
              <p:nvPr/>
            </p:nvGrpSpPr>
            <p:grpSpPr>
              <a:xfrm>
                <a:off x="4161960" y="847080"/>
                <a:ext cx="231480" cy="204120"/>
                <a:chOff x="4161960" y="847080"/>
                <a:chExt cx="231480" cy="204120"/>
              </a:xfrm>
            </p:grpSpPr>
            <p:grpSp>
              <p:nvGrpSpPr>
                <p:cNvPr id="622" name=""/>
                <p:cNvGrpSpPr/>
                <p:nvPr/>
              </p:nvGrpSpPr>
              <p:grpSpPr>
                <a:xfrm>
                  <a:off x="4237920" y="847080"/>
                  <a:ext cx="73800" cy="26640"/>
                  <a:chOff x="4237920" y="847080"/>
                  <a:chExt cx="73800" cy="2664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4237920" y="847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4285080" y="8470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4161960" y="894240"/>
                  <a:ext cx="231480" cy="156960"/>
                  <a:chOff x="4161960" y="894240"/>
                  <a:chExt cx="231480" cy="1569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4161960" y="894240"/>
                    <a:ext cx="23148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185360" y="916200"/>
                    <a:ext cx="183960" cy="11052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8" name=""/>
              <p:cNvSpPr/>
              <p:nvPr/>
            </p:nvSpPr>
            <p:spPr>
              <a:xfrm>
                <a:off x="4465080" y="799920"/>
                <a:ext cx="1395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er              BR-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4161960" y="1085400"/>
                <a:ext cx="231480" cy="204120"/>
                <a:chOff x="4161960" y="1085400"/>
                <a:chExt cx="231480" cy="204120"/>
              </a:xfrm>
            </p:grpSpPr>
            <p:grpSp>
              <p:nvGrpSpPr>
                <p:cNvPr id="630" name=""/>
                <p:cNvGrpSpPr/>
                <p:nvPr/>
              </p:nvGrpSpPr>
              <p:grpSpPr>
                <a:xfrm>
                  <a:off x="4161960" y="1132560"/>
                  <a:ext cx="231480" cy="156960"/>
                  <a:chOff x="4161960" y="1132560"/>
                  <a:chExt cx="231480" cy="15696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4161960" y="1132560"/>
                    <a:ext cx="23148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44040" y="1182960"/>
                    <a:ext cx="56880" cy="55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4237920" y="1085400"/>
                  <a:ext cx="73800" cy="26640"/>
                  <a:chOff x="4237920" y="1085400"/>
                  <a:chExt cx="73800" cy="266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4237920" y="10854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4285080" y="10854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6" name=""/>
              <p:cNvSpPr/>
              <p:nvPr/>
            </p:nvSpPr>
            <p:spPr>
              <a:xfrm>
                <a:off x="4466880" y="1161720"/>
                <a:ext cx="1392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FO Naval Support     BR-5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74800" y="1294560"/>
                <a:ext cx="1388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Jeep (No MG)           BR-4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4157280" y="1347120"/>
                <a:ext cx="231480" cy="232200"/>
                <a:chOff x="4157280" y="1347120"/>
                <a:chExt cx="231480" cy="23220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4157280" y="1389600"/>
                  <a:ext cx="231480" cy="189720"/>
                  <a:chOff x="4157280" y="1389600"/>
                  <a:chExt cx="231480" cy="18972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4157280" y="1389600"/>
                    <a:ext cx="231480" cy="1569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168080" y="15526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348800" y="1552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4234680" y="1347120"/>
                  <a:ext cx="73800" cy="26640"/>
                  <a:chOff x="4234680" y="1347120"/>
                  <a:chExt cx="73800" cy="2664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4234680" y="1347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281840" y="13471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6" name=""/>
            <p:cNvSpPr/>
            <p:nvPr/>
          </p:nvSpPr>
          <p:spPr>
            <a:xfrm>
              <a:off x="4447800" y="609480"/>
              <a:ext cx="119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BG-C01 Comman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3790800" y="542880"/>
              <a:ext cx="304200" cy="292320"/>
              <a:chOff x="3790800" y="542880"/>
              <a:chExt cx="304200" cy="29232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3790800" y="609480"/>
                <a:ext cx="304200" cy="225720"/>
                <a:chOff x="3790800" y="609480"/>
                <a:chExt cx="304200" cy="22572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3790800" y="609480"/>
                  <a:ext cx="304200" cy="225720"/>
                  <a:chOff x="3790800" y="609480"/>
                  <a:chExt cx="304200" cy="22572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90800" y="609480"/>
                    <a:ext cx="304200" cy="2257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V="1">
                    <a:off x="3793680" y="612360"/>
                    <a:ext cx="296280" cy="22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90800" y="612720"/>
                    <a:ext cx="302760" cy="21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3903120" y="646200"/>
                  <a:ext cx="74160" cy="161640"/>
                  <a:chOff x="3903120" y="646200"/>
                  <a:chExt cx="74160" cy="16164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10800000">
                    <a:off x="3904920" y="741240"/>
                    <a:ext cx="72360" cy="522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940560" y="673560"/>
                    <a:ext cx="0" cy="13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3903120" y="675360"/>
                    <a:ext cx="727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934080" y="64620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8" name=""/>
              <p:cNvGrpSpPr/>
              <p:nvPr/>
            </p:nvGrpSpPr>
            <p:grpSpPr>
              <a:xfrm>
                <a:off x="3914640" y="542880"/>
                <a:ext cx="57240" cy="63360"/>
                <a:chOff x="3914640" y="542880"/>
                <a:chExt cx="57240" cy="633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3914640" y="542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971880" y="542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1" name=""/>
            <p:cNvGrpSpPr/>
            <p:nvPr/>
          </p:nvGrpSpPr>
          <p:grpSpPr>
            <a:xfrm>
              <a:off x="4133520" y="1666800"/>
              <a:ext cx="304560" cy="291960"/>
              <a:chOff x="4133520" y="1666800"/>
              <a:chExt cx="304560" cy="29196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4133520" y="1733400"/>
                <a:ext cx="304560" cy="225360"/>
                <a:chOff x="4133520" y="1733400"/>
                <a:chExt cx="304560" cy="22536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4133520" y="1733400"/>
                  <a:ext cx="304560" cy="225360"/>
                  <a:chOff x="4133520" y="1733400"/>
                  <a:chExt cx="304560" cy="22536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133520" y="1733400"/>
                    <a:ext cx="304560" cy="22536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flipV="1">
                    <a:off x="4136400" y="1736640"/>
                    <a:ext cx="296640" cy="220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33520" y="1736640"/>
                    <a:ext cx="303120" cy="21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4245840" y="1769760"/>
                  <a:ext cx="74880" cy="160920"/>
                  <a:chOff x="4245840" y="1769760"/>
                  <a:chExt cx="74880" cy="16092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 rot="10800000">
                    <a:off x="4248000" y="1865160"/>
                    <a:ext cx="72720" cy="5184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283640" y="1796760"/>
                    <a:ext cx="0" cy="133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245840" y="1798920"/>
                    <a:ext cx="7308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276800" y="176976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2" name=""/>
              <p:cNvSpPr/>
              <p:nvPr/>
            </p:nvSpPr>
            <p:spPr>
              <a:xfrm>
                <a:off x="4285800" y="1666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143240" y="2066760"/>
              <a:ext cx="304200" cy="292320"/>
              <a:chOff x="4143240" y="2066760"/>
              <a:chExt cx="304200" cy="29232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4143240" y="2133360"/>
                <a:ext cx="304200" cy="225720"/>
                <a:chOff x="4143240" y="2133360"/>
                <a:chExt cx="304200" cy="225720"/>
              </a:xfrm>
            </p:grpSpPr>
            <p:grpSp>
              <p:nvGrpSpPr>
                <p:cNvPr id="675" name=""/>
                <p:cNvGrpSpPr/>
                <p:nvPr/>
              </p:nvGrpSpPr>
              <p:grpSpPr>
                <a:xfrm>
                  <a:off x="4143240" y="2133360"/>
                  <a:ext cx="304200" cy="225720"/>
                  <a:chOff x="4143240" y="2133360"/>
                  <a:chExt cx="304200" cy="22572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4143240" y="2133360"/>
                    <a:ext cx="304200" cy="2257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V="1">
                    <a:off x="4146120" y="2136240"/>
                    <a:ext cx="296280" cy="22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143240" y="2136600"/>
                    <a:ext cx="302760" cy="21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4255560" y="2170080"/>
                  <a:ext cx="74160" cy="161640"/>
                  <a:chOff x="4255560" y="2170080"/>
                  <a:chExt cx="74160" cy="1616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rot="10800000">
                    <a:off x="4257360" y="2265120"/>
                    <a:ext cx="72360" cy="522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4293000" y="2197440"/>
                    <a:ext cx="0" cy="13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255560" y="2199240"/>
                    <a:ext cx="727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4286520" y="217008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4" name=""/>
              <p:cNvSpPr/>
              <p:nvPr/>
            </p:nvSpPr>
            <p:spPr>
              <a:xfrm>
                <a:off x="4295520" y="2066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146120" y="2133360"/>
                <a:ext cx="55080" cy="221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4524840" y="1771560"/>
              <a:ext cx="176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x5 Commando Troop ME-C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25200" y="2161800"/>
              <a:ext cx="2771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x1 Commando Heavy Weapons Troop ME-C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267160" y="4819680"/>
            <a:ext cx="2073240" cy="1471680"/>
            <a:chOff x="5267160" y="4819680"/>
            <a:chExt cx="2073240" cy="1471680"/>
          </a:xfrm>
        </p:grpSpPr>
        <p:sp>
          <p:nvSpPr>
            <p:cNvPr id="689" name=""/>
            <p:cNvSpPr/>
            <p:nvPr/>
          </p:nvSpPr>
          <p:spPr>
            <a:xfrm>
              <a:off x="5419800" y="5029200"/>
              <a:ext cx="0" cy="119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5267160" y="4819680"/>
              <a:ext cx="304560" cy="293040"/>
              <a:chOff x="5267160" y="4819680"/>
              <a:chExt cx="304560" cy="29304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5267160" y="4886640"/>
                <a:ext cx="304560" cy="226080"/>
                <a:chOff x="5267160" y="4886640"/>
                <a:chExt cx="304560" cy="22608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5267160" y="4886640"/>
                  <a:ext cx="304560" cy="226080"/>
                  <a:chOff x="5267160" y="4886640"/>
                  <a:chExt cx="304560" cy="22608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5267160" y="4886640"/>
                    <a:ext cx="304560" cy="2260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V="1">
                    <a:off x="5270040" y="4889880"/>
                    <a:ext cx="296640" cy="22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267160" y="4889880"/>
                    <a:ext cx="303120" cy="21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5379480" y="4923360"/>
                  <a:ext cx="74880" cy="161640"/>
                  <a:chOff x="5379480" y="4923360"/>
                  <a:chExt cx="74880" cy="16164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 rot="10800000">
                    <a:off x="5381640" y="5018400"/>
                    <a:ext cx="72720" cy="522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417280" y="4950720"/>
                    <a:ext cx="0" cy="13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5379480" y="4952520"/>
                    <a:ext cx="7308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5410440" y="492336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1" name=""/>
              <p:cNvSpPr/>
              <p:nvPr/>
            </p:nvSpPr>
            <p:spPr>
              <a:xfrm>
                <a:off x="5419440" y="48196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5877720" y="4952880"/>
              <a:ext cx="1287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Raider Troop ME-C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19800" y="5172120"/>
              <a:ext cx="1908720" cy="252360"/>
              <a:chOff x="5419800" y="5172120"/>
              <a:chExt cx="1908720" cy="252360"/>
            </a:xfrm>
          </p:grpSpPr>
          <p:sp>
            <p:nvSpPr>
              <p:cNvPr id="704" name=""/>
              <p:cNvSpPr/>
              <p:nvPr/>
            </p:nvSpPr>
            <p:spPr>
              <a:xfrm>
                <a:off x="5419800" y="5343480"/>
                <a:ext cx="23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5572080" y="5219640"/>
                <a:ext cx="231840" cy="204840"/>
                <a:chOff x="5572080" y="5219640"/>
                <a:chExt cx="231840" cy="204840"/>
              </a:xfrm>
            </p:grpSpPr>
            <p:grpSp>
              <p:nvGrpSpPr>
                <p:cNvPr id="706" name=""/>
                <p:cNvGrpSpPr/>
                <p:nvPr/>
              </p:nvGrpSpPr>
              <p:grpSpPr>
                <a:xfrm>
                  <a:off x="5648400" y="5219640"/>
                  <a:ext cx="74160" cy="27000"/>
                  <a:chOff x="5648400" y="5219640"/>
                  <a:chExt cx="74160" cy="2700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5648400" y="52196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5695920" y="52196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5572080" y="5267160"/>
                  <a:ext cx="231840" cy="157320"/>
                  <a:chOff x="5572080" y="5267160"/>
                  <a:chExt cx="231840" cy="15732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5572080" y="5267160"/>
                    <a:ext cx="231840" cy="1573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5595840" y="5289480"/>
                    <a:ext cx="184320" cy="11088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2" name=""/>
              <p:cNvSpPr/>
              <p:nvPr/>
            </p:nvSpPr>
            <p:spPr>
              <a:xfrm>
                <a:off x="5875200" y="5172120"/>
                <a:ext cx="1453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er                BR-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581440" y="6086520"/>
              <a:ext cx="239760" cy="204840"/>
              <a:chOff x="5581440" y="6086520"/>
              <a:chExt cx="239760" cy="20484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5581440" y="6134400"/>
                <a:ext cx="239760" cy="156960"/>
                <a:chOff x="5581440" y="6134400"/>
                <a:chExt cx="239760" cy="15696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581440" y="6134400"/>
                  <a:ext cx="23976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H="1">
                  <a:off x="5702040" y="615564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625932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5657760" y="6086520"/>
                <a:ext cx="74160" cy="27000"/>
                <a:chOff x="5657760" y="6086520"/>
                <a:chExt cx="74160" cy="270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5657760" y="6086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705280" y="60865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1" name=""/>
            <p:cNvSpPr/>
            <p:nvPr/>
          </p:nvSpPr>
          <p:spPr>
            <a:xfrm>
              <a:off x="5884200" y="6153120"/>
              <a:ext cx="1407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-inch Mortar             BR-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10080" y="62103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572080" y="5524560"/>
              <a:ext cx="231840" cy="204840"/>
              <a:chOff x="5572080" y="5524560"/>
              <a:chExt cx="231840" cy="20484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5572080" y="5572080"/>
                <a:ext cx="231840" cy="157320"/>
                <a:chOff x="5572080" y="5572080"/>
                <a:chExt cx="231840" cy="157320"/>
              </a:xfrm>
            </p:grpSpPr>
            <p:grpSp>
              <p:nvGrpSpPr>
                <p:cNvPr id="725" name=""/>
                <p:cNvGrpSpPr/>
                <p:nvPr/>
              </p:nvGrpSpPr>
              <p:grpSpPr>
                <a:xfrm>
                  <a:off x="5572080" y="5572080"/>
                  <a:ext cx="231840" cy="157320"/>
                  <a:chOff x="5572080" y="5572080"/>
                  <a:chExt cx="231840" cy="15732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5572080" y="5572080"/>
                    <a:ext cx="231840" cy="1573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>
                    <a:off x="5574240" y="5573880"/>
                    <a:ext cx="225720" cy="153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5572080" y="557424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5657760" y="5597640"/>
                  <a:ext cx="57240" cy="112680"/>
                  <a:chOff x="5657760" y="5597640"/>
                  <a:chExt cx="57240" cy="11268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rot="10800000">
                    <a:off x="5659560" y="5663880"/>
                    <a:ext cx="55440" cy="3636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5686560" y="5616720"/>
                    <a:ext cx="0" cy="936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5657760" y="5618160"/>
                    <a:ext cx="558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681520" y="5597640"/>
                    <a:ext cx="9720" cy="9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"/>
              <p:cNvGrpSpPr/>
              <p:nvPr/>
            </p:nvGrpSpPr>
            <p:grpSpPr>
              <a:xfrm>
                <a:off x="5648400" y="5524560"/>
                <a:ext cx="74160" cy="27000"/>
                <a:chOff x="5648400" y="5524560"/>
                <a:chExt cx="74160" cy="2700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5648400" y="55245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695920" y="55245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7" name=""/>
            <p:cNvSpPr/>
            <p:nvPr/>
          </p:nvSpPr>
          <p:spPr>
            <a:xfrm>
              <a:off x="5886360" y="5591160"/>
              <a:ext cx="145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5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o Infantry    BR-58 (1 PIA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19800" y="5648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581440" y="5843520"/>
              <a:ext cx="231840" cy="194760"/>
              <a:chOff x="5581440" y="5843520"/>
              <a:chExt cx="231840" cy="19476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5657760" y="5843520"/>
                <a:ext cx="74160" cy="26640"/>
                <a:chOff x="5657760" y="5843520"/>
                <a:chExt cx="74160" cy="2664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5657760" y="5843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705280" y="58435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5581440" y="5881320"/>
                <a:ext cx="231840" cy="156960"/>
                <a:chOff x="5581440" y="5881320"/>
                <a:chExt cx="231840" cy="15696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5581440" y="588132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581440" y="5881320"/>
                  <a:ext cx="55440" cy="155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5581440" y="5884200"/>
                  <a:ext cx="22860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592600" y="5887440"/>
                  <a:ext cx="21744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8" name=""/>
            <p:cNvSpPr/>
            <p:nvPr/>
          </p:nvSpPr>
          <p:spPr>
            <a:xfrm>
              <a:off x="5881680" y="5919840"/>
              <a:ext cx="1433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5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LMG                           BR-5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29160" y="59580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124680" y="571680"/>
            <a:ext cx="2495520" cy="1159920"/>
            <a:chOff x="6124680" y="571680"/>
            <a:chExt cx="2495520" cy="1159920"/>
          </a:xfrm>
        </p:grpSpPr>
        <p:sp>
          <p:nvSpPr>
            <p:cNvPr id="751" name=""/>
            <p:cNvSpPr/>
            <p:nvPr/>
          </p:nvSpPr>
          <p:spPr>
            <a:xfrm>
              <a:off x="6276960" y="771480"/>
              <a:ext cx="0" cy="5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86680" y="1295280"/>
              <a:ext cx="36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86680" y="100008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6496200" y="876240"/>
              <a:ext cx="231480" cy="204840"/>
              <a:chOff x="6496200" y="876240"/>
              <a:chExt cx="231480" cy="20484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6572160" y="876240"/>
                <a:ext cx="73800" cy="27000"/>
                <a:chOff x="6572160" y="876240"/>
                <a:chExt cx="73800" cy="2700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6572160" y="876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619320" y="8762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6496200" y="923760"/>
                <a:ext cx="231480" cy="157320"/>
                <a:chOff x="6496200" y="923760"/>
                <a:chExt cx="231480" cy="1573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6496200" y="923760"/>
                  <a:ext cx="23148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519600" y="946080"/>
                  <a:ext cx="183960" cy="110880"/>
                </a:xfrm>
                <a:prstGeom prst="rect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1" name=""/>
            <p:cNvSpPr/>
            <p:nvPr/>
          </p:nvSpPr>
          <p:spPr>
            <a:xfrm>
              <a:off x="6799320" y="828720"/>
              <a:ext cx="139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er              BR-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1680" y="638280"/>
              <a:ext cx="18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BG-C03 Special Raider Sqn (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6124680" y="571680"/>
              <a:ext cx="304200" cy="292320"/>
              <a:chOff x="6124680" y="571680"/>
              <a:chExt cx="304200" cy="29232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124680" y="638280"/>
                <a:ext cx="304200" cy="225720"/>
                <a:chOff x="6124680" y="638280"/>
                <a:chExt cx="304200" cy="22572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6124680" y="638280"/>
                  <a:ext cx="304200" cy="225720"/>
                  <a:chOff x="6124680" y="638280"/>
                  <a:chExt cx="304200" cy="22572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6124680" y="638280"/>
                    <a:ext cx="304200" cy="2257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6127560" y="641160"/>
                    <a:ext cx="296280" cy="22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6124680" y="641520"/>
                    <a:ext cx="302760" cy="21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6237000" y="675000"/>
                  <a:ext cx="74160" cy="161640"/>
                  <a:chOff x="6237000" y="675000"/>
                  <a:chExt cx="74160" cy="16164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 rot="10800000">
                    <a:off x="6238800" y="770040"/>
                    <a:ext cx="72360" cy="522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6274440" y="702360"/>
                    <a:ext cx="0" cy="13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6237000" y="704160"/>
                    <a:ext cx="727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6267960" y="67500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"/>
              <p:cNvGrpSpPr/>
              <p:nvPr/>
            </p:nvGrpSpPr>
            <p:grpSpPr>
              <a:xfrm>
                <a:off x="6248520" y="571680"/>
                <a:ext cx="57240" cy="63360"/>
                <a:chOff x="6248520" y="571680"/>
                <a:chExt cx="57240" cy="63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6248520" y="571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305760" y="571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7" name=""/>
            <p:cNvGrpSpPr/>
            <p:nvPr/>
          </p:nvGrpSpPr>
          <p:grpSpPr>
            <a:xfrm>
              <a:off x="6467400" y="1114560"/>
              <a:ext cx="304560" cy="292320"/>
              <a:chOff x="6467400" y="1114560"/>
              <a:chExt cx="304560" cy="29232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6467400" y="1181160"/>
                <a:ext cx="304560" cy="225720"/>
                <a:chOff x="6467400" y="1181160"/>
                <a:chExt cx="304560" cy="22572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6467400" y="1181160"/>
                  <a:ext cx="304560" cy="225720"/>
                  <a:chOff x="6467400" y="1181160"/>
                  <a:chExt cx="304560" cy="22572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>
                    <a:off x="6467400" y="1181160"/>
                    <a:ext cx="304560" cy="2257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V="1">
                    <a:off x="6470280" y="1184040"/>
                    <a:ext cx="296640" cy="22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6467400" y="1184400"/>
                    <a:ext cx="303120" cy="21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6579720" y="1217880"/>
                  <a:ext cx="74880" cy="161640"/>
                  <a:chOff x="6579720" y="1217880"/>
                  <a:chExt cx="74880" cy="16164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10800000">
                    <a:off x="6581880" y="1312920"/>
                    <a:ext cx="72720" cy="522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617520" y="1245240"/>
                    <a:ext cx="0" cy="13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579720" y="1247040"/>
                    <a:ext cx="7308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610680" y="121788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8" name=""/>
              <p:cNvSpPr/>
              <p:nvPr/>
            </p:nvSpPr>
            <p:spPr>
              <a:xfrm>
                <a:off x="6619680" y="1114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6829920" y="1228680"/>
              <a:ext cx="146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x5 Raider Troop ME-C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38800" y="1609560"/>
              <a:ext cx="23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Transported in dinghies and cano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2280" y="4886280"/>
            <a:ext cx="2514600" cy="1398600"/>
            <a:chOff x="152280" y="4886280"/>
            <a:chExt cx="2514600" cy="1398600"/>
          </a:xfrm>
        </p:grpSpPr>
        <p:sp>
          <p:nvSpPr>
            <p:cNvPr id="792" name=""/>
            <p:cNvSpPr/>
            <p:nvPr/>
          </p:nvSpPr>
          <p:spPr>
            <a:xfrm>
              <a:off x="152280" y="6162840"/>
              <a:ext cx="251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Add 1 flamethrower/troop Feb-Aug ’45 +4CC vs 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152280" y="4886280"/>
              <a:ext cx="2202120" cy="1195560"/>
              <a:chOff x="152280" y="4886280"/>
              <a:chExt cx="2202120" cy="1195560"/>
            </a:xfrm>
          </p:grpSpPr>
          <p:sp>
            <p:nvSpPr>
              <p:cNvPr id="794" name=""/>
              <p:cNvSpPr/>
              <p:nvPr/>
            </p:nvSpPr>
            <p:spPr>
              <a:xfrm>
                <a:off x="304560" y="5086440"/>
                <a:ext cx="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480" y="5000760"/>
                <a:ext cx="1591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ommando Troop ME-C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304560" y="5219640"/>
                <a:ext cx="1908720" cy="252360"/>
                <a:chOff x="304560" y="5219640"/>
                <a:chExt cx="1908720" cy="25236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304560" y="5391000"/>
                  <a:ext cx="237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8" name=""/>
                <p:cNvGrpSpPr/>
                <p:nvPr/>
              </p:nvGrpSpPr>
              <p:grpSpPr>
                <a:xfrm>
                  <a:off x="456840" y="5267160"/>
                  <a:ext cx="231840" cy="204840"/>
                  <a:chOff x="456840" y="5267160"/>
                  <a:chExt cx="231840" cy="204840"/>
                </a:xfrm>
              </p:grpSpPr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33160" y="5267160"/>
                    <a:ext cx="74160" cy="27000"/>
                    <a:chOff x="533160" y="5267160"/>
                    <a:chExt cx="74160" cy="2700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533160" y="52671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580680" y="52671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456840" y="5314680"/>
                    <a:ext cx="231840" cy="157320"/>
                    <a:chOff x="456840" y="5314680"/>
                    <a:chExt cx="231840" cy="15732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456840" y="5314680"/>
                      <a:ext cx="231840" cy="15732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480600" y="5337000"/>
                      <a:ext cx="184320" cy="1108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05" name=""/>
                <p:cNvSpPr/>
                <p:nvPr/>
              </p:nvSpPr>
              <p:spPr>
                <a:xfrm>
                  <a:off x="759960" y="5219640"/>
                  <a:ext cx="1453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BR-50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04560" y="5877000"/>
                <a:ext cx="1881720" cy="204840"/>
                <a:chOff x="304560" y="5877000"/>
                <a:chExt cx="1881720" cy="204840"/>
              </a:xfrm>
            </p:grpSpPr>
            <p:grpSp>
              <p:nvGrpSpPr>
                <p:cNvPr id="807" name=""/>
                <p:cNvGrpSpPr/>
                <p:nvPr/>
              </p:nvGrpSpPr>
              <p:grpSpPr>
                <a:xfrm>
                  <a:off x="456840" y="5877000"/>
                  <a:ext cx="239760" cy="204840"/>
                  <a:chOff x="456840" y="5877000"/>
                  <a:chExt cx="239760" cy="204840"/>
                </a:xfrm>
              </p:grpSpPr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6840" y="5924880"/>
                    <a:ext cx="239760" cy="156960"/>
                    <a:chOff x="456840" y="5924880"/>
                    <a:chExt cx="239760" cy="15696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456840" y="5924880"/>
                      <a:ext cx="239760" cy="15696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>
                      <a:off x="577440" y="5946120"/>
                      <a:ext cx="2160" cy="1011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541440" y="6049800"/>
                      <a:ext cx="6804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533160" y="5877000"/>
                    <a:ext cx="74160" cy="27000"/>
                    <a:chOff x="533160" y="5877000"/>
                    <a:chExt cx="74160" cy="2700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533160" y="58770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580680" y="587700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15" name=""/>
                <p:cNvSpPr/>
                <p:nvPr/>
              </p:nvSpPr>
              <p:spPr>
                <a:xfrm>
                  <a:off x="749880" y="5943960"/>
                  <a:ext cx="14364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2-inch Mortar              BR-55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04560" y="600084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56840" y="5572080"/>
                <a:ext cx="231840" cy="204840"/>
                <a:chOff x="456840" y="5572080"/>
                <a:chExt cx="231840" cy="204840"/>
              </a:xfrm>
            </p:grpSpPr>
            <p:grpSp>
              <p:nvGrpSpPr>
                <p:cNvPr id="818" name=""/>
                <p:cNvGrpSpPr/>
                <p:nvPr/>
              </p:nvGrpSpPr>
              <p:grpSpPr>
                <a:xfrm>
                  <a:off x="456840" y="5619600"/>
                  <a:ext cx="231840" cy="157320"/>
                  <a:chOff x="456840" y="5619600"/>
                  <a:chExt cx="231840" cy="157320"/>
                </a:xfrm>
              </p:grpSpPr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456840" y="5619600"/>
                    <a:ext cx="231840" cy="157320"/>
                    <a:chOff x="456840" y="5619600"/>
                    <a:chExt cx="231840" cy="15732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456840" y="5619600"/>
                      <a:ext cx="231840" cy="15732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flipV="1">
                      <a:off x="459000" y="5621400"/>
                      <a:ext cx="225720" cy="15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456840" y="5621760"/>
                      <a:ext cx="230760" cy="149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542520" y="5645160"/>
                    <a:ext cx="57240" cy="112680"/>
                    <a:chOff x="542520" y="5645160"/>
                    <a:chExt cx="57240" cy="11268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10800000">
                      <a:off x="544320" y="5711400"/>
                      <a:ext cx="55440" cy="3636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571320" y="5664240"/>
                      <a:ext cx="0" cy="9360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542520" y="5665680"/>
                      <a:ext cx="5580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566280" y="5645160"/>
                      <a:ext cx="9720" cy="936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533160" y="5572080"/>
                  <a:ext cx="74160" cy="27000"/>
                  <a:chOff x="533160" y="5572080"/>
                  <a:chExt cx="74160" cy="270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533160" y="5572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80680" y="55720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1" name=""/>
              <p:cNvSpPr/>
              <p:nvPr/>
            </p:nvSpPr>
            <p:spPr>
              <a:xfrm>
                <a:off x="742680" y="5638680"/>
                <a:ext cx="1454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o Infantry    BR-58 (1 PIAT) </a:t>
                </a: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04560" y="56959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152280" y="4886280"/>
                <a:ext cx="304200" cy="293040"/>
                <a:chOff x="152280" y="4886280"/>
                <a:chExt cx="304200" cy="293040"/>
              </a:xfrm>
            </p:grpSpPr>
            <p:grpSp>
              <p:nvGrpSpPr>
                <p:cNvPr id="834" name=""/>
                <p:cNvGrpSpPr/>
                <p:nvPr/>
              </p:nvGrpSpPr>
              <p:grpSpPr>
                <a:xfrm>
                  <a:off x="152280" y="4953240"/>
                  <a:ext cx="304200" cy="226080"/>
                  <a:chOff x="152280" y="4953240"/>
                  <a:chExt cx="304200" cy="226080"/>
                </a:xfrm>
              </p:grpSpPr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152280" y="4953240"/>
                    <a:ext cx="304200" cy="226080"/>
                    <a:chOff x="152280" y="4953240"/>
                    <a:chExt cx="304200" cy="22608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152280" y="4953240"/>
                      <a:ext cx="304200" cy="2260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flipV="1">
                      <a:off x="155160" y="4956480"/>
                      <a:ext cx="296280" cy="22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152280" y="4956480"/>
                      <a:ext cx="302760" cy="21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264600" y="4989960"/>
                    <a:ext cx="74160" cy="161640"/>
                    <a:chOff x="264600" y="4989960"/>
                    <a:chExt cx="74160" cy="16164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rot="10800000">
                      <a:off x="266400" y="5085000"/>
                      <a:ext cx="72360" cy="5220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302040" y="5017320"/>
                      <a:ext cx="0" cy="1342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264600" y="5019120"/>
                      <a:ext cx="7272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295560" y="4989960"/>
                      <a:ext cx="12600" cy="133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44" name=""/>
                <p:cNvSpPr/>
                <p:nvPr/>
              </p:nvSpPr>
              <p:spPr>
                <a:xfrm>
                  <a:off x="304200" y="48862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45" name=""/>
          <p:cNvSpPr/>
          <p:nvPr/>
        </p:nvSpPr>
        <p:spPr>
          <a:xfrm>
            <a:off x="4124160" y="401940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143240" y="2876400"/>
            <a:ext cx="0" cy="85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933720" y="2933640"/>
            <a:ext cx="276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933720" y="3200400"/>
            <a:ext cx="276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933720" y="4038480"/>
            <a:ext cx="276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933720" y="3476520"/>
            <a:ext cx="276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33720" y="4286160"/>
            <a:ext cx="276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33720" y="2610000"/>
            <a:ext cx="0" cy="16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4087800" y="3905280"/>
            <a:ext cx="239760" cy="204840"/>
            <a:chOff x="4087800" y="3905280"/>
            <a:chExt cx="239760" cy="204840"/>
          </a:xfrm>
        </p:grpSpPr>
        <p:grpSp>
          <p:nvGrpSpPr>
            <p:cNvPr id="854" name=""/>
            <p:cNvGrpSpPr/>
            <p:nvPr/>
          </p:nvGrpSpPr>
          <p:grpSpPr>
            <a:xfrm>
              <a:off x="4087800" y="3952800"/>
              <a:ext cx="239760" cy="157320"/>
              <a:chOff x="4087800" y="3952800"/>
              <a:chExt cx="239760" cy="157320"/>
            </a:xfrm>
          </p:grpSpPr>
          <p:sp>
            <p:nvSpPr>
              <p:cNvPr id="855" name=""/>
              <p:cNvSpPr/>
              <p:nvPr/>
            </p:nvSpPr>
            <p:spPr>
              <a:xfrm>
                <a:off x="4087800" y="3952800"/>
                <a:ext cx="23976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4208400" y="397404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72400" y="407772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4173840" y="3905280"/>
              <a:ext cx="74160" cy="27000"/>
              <a:chOff x="4173840" y="3905280"/>
              <a:chExt cx="74160" cy="27000"/>
            </a:xfrm>
          </p:grpSpPr>
          <p:sp>
            <p:nvSpPr>
              <p:cNvPr id="859" name=""/>
              <p:cNvSpPr/>
              <p:nvPr/>
            </p:nvSpPr>
            <p:spPr>
              <a:xfrm>
                <a:off x="4173840" y="3905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221360" y="39052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1" name=""/>
          <p:cNvSpPr/>
          <p:nvPr/>
        </p:nvSpPr>
        <p:spPr>
          <a:xfrm>
            <a:off x="4456080" y="3981600"/>
            <a:ext cx="140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3-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h Mortar             BR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408200" y="3591000"/>
            <a:ext cx="144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Jeep (No MG)             BR-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457880" y="3848040"/>
            <a:ext cx="1257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091040" y="3614760"/>
            <a:ext cx="231840" cy="233280"/>
            <a:chOff x="4091040" y="3614760"/>
            <a:chExt cx="231840" cy="233280"/>
          </a:xfrm>
        </p:grpSpPr>
        <p:grpSp>
          <p:nvGrpSpPr>
            <p:cNvPr id="865" name=""/>
            <p:cNvGrpSpPr/>
            <p:nvPr/>
          </p:nvGrpSpPr>
          <p:grpSpPr>
            <a:xfrm>
              <a:off x="4091040" y="3657600"/>
              <a:ext cx="231840" cy="190440"/>
              <a:chOff x="4091040" y="3657600"/>
              <a:chExt cx="231840" cy="190440"/>
            </a:xfrm>
          </p:grpSpPr>
          <p:sp>
            <p:nvSpPr>
              <p:cNvPr id="866" name=""/>
              <p:cNvSpPr/>
              <p:nvPr/>
            </p:nvSpPr>
            <p:spPr>
              <a:xfrm>
                <a:off x="4091040" y="365760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02200" y="3821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82920" y="38210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4168800" y="3614760"/>
              <a:ext cx="74160" cy="27000"/>
              <a:chOff x="4168800" y="3614760"/>
              <a:chExt cx="74160" cy="27000"/>
            </a:xfrm>
          </p:grpSpPr>
          <p:sp>
            <p:nvSpPr>
              <p:cNvPr id="870" name=""/>
              <p:cNvSpPr/>
              <p:nvPr/>
            </p:nvSpPr>
            <p:spPr>
              <a:xfrm>
                <a:off x="4168800" y="3614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216320" y="36147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2" name=""/>
          <p:cNvGrpSpPr/>
          <p:nvPr/>
        </p:nvGrpSpPr>
        <p:grpSpPr>
          <a:xfrm>
            <a:off x="4091040" y="4167360"/>
            <a:ext cx="231840" cy="194760"/>
            <a:chOff x="4091040" y="4167360"/>
            <a:chExt cx="231840" cy="194760"/>
          </a:xfrm>
        </p:grpSpPr>
        <p:grpSp>
          <p:nvGrpSpPr>
            <p:cNvPr id="873" name=""/>
            <p:cNvGrpSpPr/>
            <p:nvPr/>
          </p:nvGrpSpPr>
          <p:grpSpPr>
            <a:xfrm>
              <a:off x="4167360" y="4167360"/>
              <a:ext cx="74160" cy="26640"/>
              <a:chOff x="4167360" y="4167360"/>
              <a:chExt cx="74160" cy="26640"/>
            </a:xfrm>
          </p:grpSpPr>
          <p:sp>
            <p:nvSpPr>
              <p:cNvPr id="874" name=""/>
              <p:cNvSpPr/>
              <p:nvPr/>
            </p:nvSpPr>
            <p:spPr>
              <a:xfrm>
                <a:off x="4167360" y="41673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214880" y="416736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4091040" y="4205160"/>
              <a:ext cx="231840" cy="156960"/>
              <a:chOff x="4091040" y="4205160"/>
              <a:chExt cx="231840" cy="156960"/>
            </a:xfrm>
          </p:grpSpPr>
          <p:sp>
            <p:nvSpPr>
              <p:cNvPr id="877" name=""/>
              <p:cNvSpPr/>
              <p:nvPr/>
            </p:nvSpPr>
            <p:spPr>
              <a:xfrm>
                <a:off x="4091040" y="420516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91040" y="4205160"/>
                <a:ext cx="55440" cy="155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4091040" y="4208040"/>
                <a:ext cx="22860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02200" y="4211280"/>
                <a:ext cx="21744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"/>
          <p:cNvSpPr/>
          <p:nvPr/>
        </p:nvSpPr>
        <p:spPr>
          <a:xfrm>
            <a:off x="4452840" y="4214880"/>
            <a:ext cx="1451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ickers MMG              BR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4091040" y="3076560"/>
            <a:ext cx="231840" cy="204840"/>
            <a:chOff x="4091040" y="3076560"/>
            <a:chExt cx="231840" cy="204840"/>
          </a:xfrm>
        </p:grpSpPr>
        <p:grpSp>
          <p:nvGrpSpPr>
            <p:cNvPr id="883" name=""/>
            <p:cNvGrpSpPr/>
            <p:nvPr/>
          </p:nvGrpSpPr>
          <p:grpSpPr>
            <a:xfrm>
              <a:off x="4091040" y="3124080"/>
              <a:ext cx="231840" cy="157320"/>
              <a:chOff x="4091040" y="3124080"/>
              <a:chExt cx="231840" cy="157320"/>
            </a:xfrm>
          </p:grpSpPr>
          <p:sp>
            <p:nvSpPr>
              <p:cNvPr id="884" name=""/>
              <p:cNvSpPr/>
              <p:nvPr/>
            </p:nvSpPr>
            <p:spPr>
              <a:xfrm>
                <a:off x="4091040" y="31240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4091040" y="3126960"/>
                <a:ext cx="1137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204800" y="3124080"/>
                <a:ext cx="1137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4167360" y="3076560"/>
              <a:ext cx="74160" cy="27000"/>
              <a:chOff x="4167360" y="3076560"/>
              <a:chExt cx="74160" cy="27000"/>
            </a:xfrm>
          </p:grpSpPr>
          <p:sp>
            <p:nvSpPr>
              <p:cNvPr id="888" name=""/>
              <p:cNvSpPr/>
              <p:nvPr/>
            </p:nvSpPr>
            <p:spPr>
              <a:xfrm>
                <a:off x="4167360" y="3076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214880" y="30765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0" name=""/>
          <p:cNvSpPr/>
          <p:nvPr/>
        </p:nvSpPr>
        <p:spPr>
          <a:xfrm>
            <a:off x="4403880" y="3143160"/>
            <a:ext cx="170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7/32 Italian Gun                  IT-2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389120" y="2771640"/>
            <a:ext cx="175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irect Fire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1A1 75mm Pack Howitzer  BR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092480" y="2819520"/>
            <a:ext cx="228600" cy="199440"/>
            <a:chOff x="4092480" y="2819520"/>
            <a:chExt cx="228600" cy="199440"/>
          </a:xfrm>
        </p:grpSpPr>
        <p:grpSp>
          <p:nvGrpSpPr>
            <p:cNvPr id="893" name=""/>
            <p:cNvGrpSpPr/>
            <p:nvPr/>
          </p:nvGrpSpPr>
          <p:grpSpPr>
            <a:xfrm>
              <a:off x="4168800" y="2819520"/>
              <a:ext cx="74160" cy="26640"/>
              <a:chOff x="4168800" y="2819520"/>
              <a:chExt cx="74160" cy="26640"/>
            </a:xfrm>
          </p:grpSpPr>
          <p:sp>
            <p:nvSpPr>
              <p:cNvPr id="894" name=""/>
              <p:cNvSpPr/>
              <p:nvPr/>
            </p:nvSpPr>
            <p:spPr>
              <a:xfrm>
                <a:off x="4168800" y="28195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216320" y="28195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4092480" y="2866680"/>
              <a:ext cx="228600" cy="152280"/>
              <a:chOff x="4092480" y="2866680"/>
              <a:chExt cx="228600" cy="152280"/>
            </a:xfrm>
          </p:grpSpPr>
          <p:sp>
            <p:nvSpPr>
              <p:cNvPr id="897" name=""/>
              <p:cNvSpPr/>
              <p:nvPr/>
            </p:nvSpPr>
            <p:spPr>
              <a:xfrm>
                <a:off x="4092480" y="2866680"/>
                <a:ext cx="228600" cy="152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190760" y="2925000"/>
                <a:ext cx="27000" cy="2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9" name=""/>
          <p:cNvGrpSpPr/>
          <p:nvPr/>
        </p:nvGrpSpPr>
        <p:grpSpPr>
          <a:xfrm>
            <a:off x="4095720" y="4429080"/>
            <a:ext cx="231840" cy="231840"/>
            <a:chOff x="4095720" y="4429080"/>
            <a:chExt cx="231840" cy="231840"/>
          </a:xfrm>
        </p:grpSpPr>
        <p:grpSp>
          <p:nvGrpSpPr>
            <p:cNvPr id="900" name=""/>
            <p:cNvGrpSpPr/>
            <p:nvPr/>
          </p:nvGrpSpPr>
          <p:grpSpPr>
            <a:xfrm>
              <a:off x="4163760" y="4429080"/>
              <a:ext cx="81000" cy="27000"/>
              <a:chOff x="4163760" y="4429080"/>
              <a:chExt cx="81000" cy="27000"/>
            </a:xfrm>
          </p:grpSpPr>
          <p:sp>
            <p:nvSpPr>
              <p:cNvPr id="901" name=""/>
              <p:cNvSpPr/>
              <p:nvPr/>
            </p:nvSpPr>
            <p:spPr>
              <a:xfrm>
                <a:off x="4163760" y="4429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216320" y="4429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095720" y="4467240"/>
              <a:ext cx="231840" cy="193680"/>
              <a:chOff x="4095720" y="4467240"/>
              <a:chExt cx="231840" cy="193680"/>
            </a:xfrm>
          </p:grpSpPr>
          <p:sp>
            <p:nvSpPr>
              <p:cNvPr id="904" name=""/>
              <p:cNvSpPr/>
              <p:nvPr/>
            </p:nvSpPr>
            <p:spPr>
              <a:xfrm>
                <a:off x="4095720" y="446724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4095720" y="4628520"/>
                <a:ext cx="208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16600" y="4628880"/>
                <a:ext cx="190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4284720" y="4628520"/>
                <a:ext cx="2052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05240" y="4628880"/>
                <a:ext cx="190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9" name=""/>
          <p:cNvSpPr/>
          <p:nvPr/>
        </p:nvSpPr>
        <p:spPr>
          <a:xfrm>
            <a:off x="4395600" y="4371840"/>
            <a:ext cx="160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ck Mules                 GN-02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086360" y="3343320"/>
            <a:ext cx="241200" cy="204480"/>
            <a:chOff x="4086360" y="3343320"/>
            <a:chExt cx="241200" cy="204480"/>
          </a:xfrm>
        </p:grpSpPr>
        <p:grpSp>
          <p:nvGrpSpPr>
            <p:cNvPr id="911" name=""/>
            <p:cNvGrpSpPr/>
            <p:nvPr/>
          </p:nvGrpSpPr>
          <p:grpSpPr>
            <a:xfrm>
              <a:off x="4086360" y="3390840"/>
              <a:ext cx="241200" cy="156960"/>
              <a:chOff x="4086360" y="3390840"/>
              <a:chExt cx="241200" cy="156960"/>
            </a:xfrm>
          </p:grpSpPr>
          <p:sp>
            <p:nvSpPr>
              <p:cNvPr id="912" name=""/>
              <p:cNvSpPr/>
              <p:nvPr/>
            </p:nvSpPr>
            <p:spPr>
              <a:xfrm>
                <a:off x="4087800" y="3390840"/>
                <a:ext cx="23976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086360" y="3392280"/>
                <a:ext cx="1159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202280" y="3390840"/>
                <a:ext cx="12348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152960" y="3457440"/>
                <a:ext cx="9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162320" y="3343320"/>
              <a:ext cx="74880" cy="27000"/>
              <a:chOff x="4162320" y="3343320"/>
              <a:chExt cx="74880" cy="27000"/>
            </a:xfrm>
          </p:grpSpPr>
          <p:sp>
            <p:nvSpPr>
              <p:cNvPr id="917" name=""/>
              <p:cNvSpPr/>
              <p:nvPr/>
            </p:nvSpPr>
            <p:spPr>
              <a:xfrm>
                <a:off x="4162320" y="33433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210200" y="3343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9" name=""/>
          <p:cNvSpPr/>
          <p:nvPr/>
        </p:nvSpPr>
        <p:spPr>
          <a:xfrm>
            <a:off x="4411080" y="3419640"/>
            <a:ext cx="22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0mm Bofors AA Gun Airborne Mount   14A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191120" y="2523960"/>
            <a:ext cx="212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aiding Support Sqn BG-C02 (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924360" y="4667400"/>
            <a:ext cx="2609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Use as attachments to other 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790800" y="2438280"/>
            <a:ext cx="304200" cy="292680"/>
            <a:chOff x="3790800" y="2438280"/>
            <a:chExt cx="304200" cy="292680"/>
          </a:xfrm>
        </p:grpSpPr>
        <p:grpSp>
          <p:nvGrpSpPr>
            <p:cNvPr id="923" name=""/>
            <p:cNvGrpSpPr/>
            <p:nvPr/>
          </p:nvGrpSpPr>
          <p:grpSpPr>
            <a:xfrm>
              <a:off x="3905280" y="2438280"/>
              <a:ext cx="75960" cy="63720"/>
              <a:chOff x="3905280" y="2438280"/>
              <a:chExt cx="75960" cy="63720"/>
            </a:xfrm>
          </p:grpSpPr>
          <p:sp>
            <p:nvSpPr>
              <p:cNvPr id="924" name=""/>
              <p:cNvSpPr/>
              <p:nvPr/>
            </p:nvSpPr>
            <p:spPr>
              <a:xfrm>
                <a:off x="3905280" y="2438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981240" y="24382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3790800" y="2504880"/>
              <a:ext cx="304200" cy="226080"/>
              <a:chOff x="3790800" y="2504880"/>
              <a:chExt cx="304200" cy="22608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3790800" y="2504880"/>
                <a:ext cx="304200" cy="226080"/>
                <a:chOff x="3790800" y="2504880"/>
                <a:chExt cx="304200" cy="226080"/>
              </a:xfrm>
            </p:grpSpPr>
            <p:grpSp>
              <p:nvGrpSpPr>
                <p:cNvPr id="928" name=""/>
                <p:cNvGrpSpPr/>
                <p:nvPr/>
              </p:nvGrpSpPr>
              <p:grpSpPr>
                <a:xfrm>
                  <a:off x="3790800" y="2504880"/>
                  <a:ext cx="304200" cy="226080"/>
                  <a:chOff x="3790800" y="2504880"/>
                  <a:chExt cx="304200" cy="22608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3790800" y="2504880"/>
                    <a:ext cx="304200" cy="22608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V="1">
                    <a:off x="3793680" y="2508120"/>
                    <a:ext cx="296280" cy="22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790800" y="2508120"/>
                    <a:ext cx="302760" cy="21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3903120" y="2541600"/>
                  <a:ext cx="74160" cy="161640"/>
                  <a:chOff x="3903120" y="2541600"/>
                  <a:chExt cx="74160" cy="16164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rot="10800000">
                    <a:off x="3904920" y="2636640"/>
                    <a:ext cx="72360" cy="522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3940560" y="2568960"/>
                    <a:ext cx="0" cy="13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3903120" y="2570760"/>
                    <a:ext cx="727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3934080" y="254160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7" name=""/>
              <p:cNvSpPr/>
              <p:nvPr/>
            </p:nvSpPr>
            <p:spPr>
              <a:xfrm>
                <a:off x="3793680" y="2504880"/>
                <a:ext cx="55800" cy="222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8" name=""/>
          <p:cNvGrpSpPr/>
          <p:nvPr/>
        </p:nvGrpSpPr>
        <p:grpSpPr>
          <a:xfrm>
            <a:off x="266760" y="609120"/>
            <a:ext cx="2809800" cy="4163040"/>
            <a:chOff x="266760" y="609120"/>
            <a:chExt cx="2809800" cy="4163040"/>
          </a:xfrm>
        </p:grpSpPr>
        <p:sp>
          <p:nvSpPr>
            <p:cNvPr id="939" name=""/>
            <p:cNvSpPr/>
            <p:nvPr/>
          </p:nvSpPr>
          <p:spPr>
            <a:xfrm>
              <a:off x="419040" y="762120"/>
              <a:ext cx="0" cy="36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266760" y="609120"/>
              <a:ext cx="304560" cy="303120"/>
              <a:chOff x="266760" y="609120"/>
              <a:chExt cx="304560" cy="3031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380880" y="609120"/>
                <a:ext cx="76320" cy="64080"/>
                <a:chOff x="380880" y="609120"/>
                <a:chExt cx="76320" cy="6408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380880" y="609480"/>
                  <a:ext cx="7632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380880" y="609120"/>
                  <a:ext cx="7632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266760" y="685800"/>
                <a:ext cx="304560" cy="226440"/>
                <a:chOff x="266760" y="685800"/>
                <a:chExt cx="304560" cy="226440"/>
              </a:xfrm>
            </p:grpSpPr>
            <p:grpSp>
              <p:nvGrpSpPr>
                <p:cNvPr id="945" name=""/>
                <p:cNvGrpSpPr/>
                <p:nvPr/>
              </p:nvGrpSpPr>
              <p:grpSpPr>
                <a:xfrm>
                  <a:off x="266760" y="685800"/>
                  <a:ext cx="304560" cy="226440"/>
                  <a:chOff x="266760" y="685800"/>
                  <a:chExt cx="304560" cy="22644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266760" y="685800"/>
                    <a:ext cx="30456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V="1">
                    <a:off x="269640" y="688680"/>
                    <a:ext cx="29664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60" y="689040"/>
                    <a:ext cx="30312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379080" y="722520"/>
                  <a:ext cx="74880" cy="162000"/>
                  <a:chOff x="379080" y="722520"/>
                  <a:chExt cx="74880" cy="16200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 rot="10800000">
                    <a:off x="381240" y="817920"/>
                    <a:ext cx="72720" cy="5220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16880" y="749880"/>
                    <a:ext cx="0" cy="134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379080" y="752040"/>
                    <a:ext cx="7308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10040" y="722520"/>
                    <a:ext cx="12600" cy="13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4" name=""/>
            <p:cNvGrpSpPr/>
            <p:nvPr/>
          </p:nvGrpSpPr>
          <p:grpSpPr>
            <a:xfrm>
              <a:off x="409680" y="1076400"/>
              <a:ext cx="2514600" cy="293040"/>
              <a:chOff x="409680" y="1076400"/>
              <a:chExt cx="2514600" cy="293040"/>
            </a:xfrm>
          </p:grpSpPr>
          <p:sp>
            <p:nvSpPr>
              <p:cNvPr id="955" name=""/>
              <p:cNvSpPr/>
              <p:nvPr/>
            </p:nvSpPr>
            <p:spPr>
              <a:xfrm>
                <a:off x="409680" y="125748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"/>
              <p:cNvGrpSpPr/>
              <p:nvPr/>
            </p:nvGrpSpPr>
            <p:grpSpPr>
              <a:xfrm>
                <a:off x="523800" y="1076400"/>
                <a:ext cx="304200" cy="293040"/>
                <a:chOff x="523800" y="1076400"/>
                <a:chExt cx="304200" cy="29304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523800" y="1143360"/>
                  <a:ext cx="304200" cy="226080"/>
                  <a:chOff x="523800" y="1143360"/>
                  <a:chExt cx="304200" cy="226080"/>
                </a:xfrm>
              </p:grpSpPr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523800" y="1143360"/>
                    <a:ext cx="304200" cy="226080"/>
                    <a:chOff x="523800" y="1143360"/>
                    <a:chExt cx="304200" cy="226080"/>
                  </a:xfrm>
                </p:grpSpPr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523800" y="1143360"/>
                      <a:ext cx="304200" cy="2260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flipV="1">
                      <a:off x="526680" y="1146600"/>
                      <a:ext cx="296280" cy="22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523800" y="1146600"/>
                      <a:ext cx="302760" cy="21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636120" y="1180080"/>
                    <a:ext cx="74160" cy="161640"/>
                    <a:chOff x="636120" y="1180080"/>
                    <a:chExt cx="74160" cy="16164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rot="10800000">
                      <a:off x="637920" y="1275120"/>
                      <a:ext cx="72360" cy="5220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673560" y="1207440"/>
                      <a:ext cx="0" cy="1342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636120" y="1209240"/>
                      <a:ext cx="7272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667080" y="1180080"/>
                      <a:ext cx="12600" cy="133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647640" y="1076400"/>
                  <a:ext cx="57240" cy="63720"/>
                  <a:chOff x="647640" y="1076400"/>
                  <a:chExt cx="57240" cy="6372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647640" y="10764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704880" y="10764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0" name=""/>
              <p:cNvSpPr/>
              <p:nvPr/>
            </p:nvSpPr>
            <p:spPr>
              <a:xfrm>
                <a:off x="905040" y="1190520"/>
                <a:ext cx="201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r>
                  <a:rPr b="1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nd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Army Commando BG-C01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62120" y="733320"/>
              <a:ext cx="178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Commando Brig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409680" y="1476360"/>
              <a:ext cx="2514600" cy="293040"/>
              <a:chOff x="409680" y="1476360"/>
              <a:chExt cx="2514600" cy="293040"/>
            </a:xfrm>
          </p:grpSpPr>
          <p:sp>
            <p:nvSpPr>
              <p:cNvPr id="973" name=""/>
              <p:cNvSpPr/>
              <p:nvPr/>
            </p:nvSpPr>
            <p:spPr>
              <a:xfrm>
                <a:off x="409680" y="165744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523800" y="1476360"/>
                <a:ext cx="304200" cy="293040"/>
                <a:chOff x="523800" y="1476360"/>
                <a:chExt cx="304200" cy="293040"/>
              </a:xfrm>
            </p:grpSpPr>
            <p:grpSp>
              <p:nvGrpSpPr>
                <p:cNvPr id="975" name=""/>
                <p:cNvGrpSpPr/>
                <p:nvPr/>
              </p:nvGrpSpPr>
              <p:grpSpPr>
                <a:xfrm>
                  <a:off x="523800" y="1543320"/>
                  <a:ext cx="304200" cy="226080"/>
                  <a:chOff x="523800" y="1543320"/>
                  <a:chExt cx="304200" cy="226080"/>
                </a:xfrm>
              </p:grpSpPr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523800" y="1543320"/>
                    <a:ext cx="304200" cy="226080"/>
                    <a:chOff x="523800" y="1543320"/>
                    <a:chExt cx="304200" cy="22608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523800" y="1543320"/>
                      <a:ext cx="304200" cy="2260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 flipV="1">
                      <a:off x="526680" y="1546560"/>
                      <a:ext cx="296280" cy="22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523800" y="1546560"/>
                      <a:ext cx="302760" cy="21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636120" y="1580040"/>
                    <a:ext cx="74160" cy="161640"/>
                    <a:chOff x="636120" y="1580040"/>
                    <a:chExt cx="74160" cy="16164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 rot="10800000">
                      <a:off x="637920" y="1675080"/>
                      <a:ext cx="72360" cy="5220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673560" y="1607400"/>
                      <a:ext cx="0" cy="1342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636120" y="1609200"/>
                      <a:ext cx="7272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667080" y="1580040"/>
                      <a:ext cx="12600" cy="133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647640" y="1476360"/>
                  <a:ext cx="57240" cy="63720"/>
                  <a:chOff x="647640" y="1476360"/>
                  <a:chExt cx="57240" cy="6372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647640" y="14763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704880" y="14763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8" name=""/>
              <p:cNvSpPr/>
              <p:nvPr/>
            </p:nvSpPr>
            <p:spPr>
              <a:xfrm>
                <a:off x="905040" y="1590840"/>
                <a:ext cx="201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9</a:t>
                </a:r>
                <a:r>
                  <a:rPr b="1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Army Commando BG-C01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419040" y="1876320"/>
              <a:ext cx="2505240" cy="293040"/>
              <a:chOff x="419040" y="1876320"/>
              <a:chExt cx="2505240" cy="293040"/>
            </a:xfrm>
          </p:grpSpPr>
          <p:sp>
            <p:nvSpPr>
              <p:cNvPr id="990" name=""/>
              <p:cNvSpPr/>
              <p:nvPr/>
            </p:nvSpPr>
            <p:spPr>
              <a:xfrm>
                <a:off x="419040" y="2057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523800" y="1876320"/>
                <a:ext cx="304200" cy="293040"/>
                <a:chOff x="523800" y="1876320"/>
                <a:chExt cx="304200" cy="293040"/>
              </a:xfrm>
            </p:grpSpPr>
            <p:grpSp>
              <p:nvGrpSpPr>
                <p:cNvPr id="992" name=""/>
                <p:cNvGrpSpPr/>
                <p:nvPr/>
              </p:nvGrpSpPr>
              <p:grpSpPr>
                <a:xfrm>
                  <a:off x="523800" y="1943280"/>
                  <a:ext cx="304200" cy="226080"/>
                  <a:chOff x="523800" y="1943280"/>
                  <a:chExt cx="304200" cy="226080"/>
                </a:xfrm>
              </p:grpSpPr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523800" y="1943280"/>
                    <a:ext cx="304200" cy="226080"/>
                    <a:chOff x="523800" y="1943280"/>
                    <a:chExt cx="304200" cy="22608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523800" y="1943280"/>
                      <a:ext cx="304200" cy="2260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V="1">
                      <a:off x="526680" y="1946520"/>
                      <a:ext cx="296280" cy="22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523800" y="1946520"/>
                      <a:ext cx="302760" cy="21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636120" y="1980000"/>
                    <a:ext cx="74160" cy="161640"/>
                    <a:chOff x="636120" y="1980000"/>
                    <a:chExt cx="74160" cy="16164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10800000">
                      <a:off x="637920" y="2075040"/>
                      <a:ext cx="72360" cy="5220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673560" y="2007360"/>
                      <a:ext cx="0" cy="1342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636120" y="2009160"/>
                      <a:ext cx="7272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667080" y="1980000"/>
                      <a:ext cx="12600" cy="133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647640" y="1876320"/>
                  <a:ext cx="57240" cy="63720"/>
                  <a:chOff x="647640" y="1876320"/>
                  <a:chExt cx="57240" cy="6372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647640" y="18763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704880" y="18763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05" name=""/>
              <p:cNvSpPr/>
              <p:nvPr/>
            </p:nvSpPr>
            <p:spPr>
              <a:xfrm>
                <a:off x="905040" y="1990800"/>
                <a:ext cx="201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40</a:t>
                </a:r>
                <a:r>
                  <a:rPr b="1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RM  Commando  BG-C01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409680" y="2286000"/>
              <a:ext cx="2514600" cy="293040"/>
              <a:chOff x="409680" y="2286000"/>
              <a:chExt cx="2514600" cy="293040"/>
            </a:xfrm>
          </p:grpSpPr>
          <p:sp>
            <p:nvSpPr>
              <p:cNvPr id="1007" name=""/>
              <p:cNvSpPr/>
              <p:nvPr/>
            </p:nvSpPr>
            <p:spPr>
              <a:xfrm>
                <a:off x="409680" y="247644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523800" y="2286000"/>
                <a:ext cx="304200" cy="293040"/>
                <a:chOff x="523800" y="2286000"/>
                <a:chExt cx="304200" cy="29304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523800" y="2352960"/>
                  <a:ext cx="304200" cy="226080"/>
                  <a:chOff x="523800" y="2352960"/>
                  <a:chExt cx="304200" cy="226080"/>
                </a:xfrm>
              </p:grpSpPr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523800" y="2352960"/>
                    <a:ext cx="304200" cy="226080"/>
                    <a:chOff x="523800" y="2352960"/>
                    <a:chExt cx="304200" cy="22608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523800" y="2352960"/>
                      <a:ext cx="304200" cy="2260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flipV="1">
                      <a:off x="526680" y="2356200"/>
                      <a:ext cx="296280" cy="22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523800" y="2356200"/>
                      <a:ext cx="302760" cy="21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636120" y="2389680"/>
                    <a:ext cx="74160" cy="161640"/>
                    <a:chOff x="636120" y="2389680"/>
                    <a:chExt cx="74160" cy="161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 rot="10800000">
                      <a:off x="637920" y="2484720"/>
                      <a:ext cx="72360" cy="5220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673560" y="2417040"/>
                      <a:ext cx="0" cy="1342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636120" y="2418840"/>
                      <a:ext cx="7272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667080" y="2389680"/>
                      <a:ext cx="12600" cy="133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647640" y="2286000"/>
                  <a:ext cx="57240" cy="63720"/>
                  <a:chOff x="647640" y="2286000"/>
                  <a:chExt cx="57240" cy="637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647640" y="22860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4880" y="22860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2" name=""/>
              <p:cNvSpPr/>
              <p:nvPr/>
            </p:nvSpPr>
            <p:spPr>
              <a:xfrm>
                <a:off x="905040" y="2400480"/>
                <a:ext cx="201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44</a:t>
                </a:r>
                <a:r>
                  <a:rPr b="1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RM Commando  BG-C01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419040" y="3152880"/>
              <a:ext cx="2657520" cy="293040"/>
              <a:chOff x="419040" y="3152880"/>
              <a:chExt cx="2657520" cy="293040"/>
            </a:xfrm>
          </p:grpSpPr>
          <p:sp>
            <p:nvSpPr>
              <p:cNvPr id="1024" name=""/>
              <p:cNvSpPr/>
              <p:nvPr/>
            </p:nvSpPr>
            <p:spPr>
              <a:xfrm>
                <a:off x="419040" y="33336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"/>
              <p:cNvGrpSpPr/>
              <p:nvPr/>
            </p:nvGrpSpPr>
            <p:grpSpPr>
              <a:xfrm>
                <a:off x="514440" y="3152880"/>
                <a:ext cx="304200" cy="293040"/>
                <a:chOff x="514440" y="3152880"/>
                <a:chExt cx="304200" cy="293040"/>
              </a:xfrm>
            </p:grpSpPr>
            <p:grpSp>
              <p:nvGrpSpPr>
                <p:cNvPr id="1026" name=""/>
                <p:cNvGrpSpPr/>
                <p:nvPr/>
              </p:nvGrpSpPr>
              <p:grpSpPr>
                <a:xfrm>
                  <a:off x="514440" y="3219840"/>
                  <a:ext cx="304200" cy="226080"/>
                  <a:chOff x="514440" y="3219840"/>
                  <a:chExt cx="304200" cy="226080"/>
                </a:xfrm>
              </p:grpSpPr>
              <p:grpSp>
                <p:nvGrpSpPr>
                  <p:cNvPr id="1027" name=""/>
                  <p:cNvGrpSpPr/>
                  <p:nvPr/>
                </p:nvGrpSpPr>
                <p:grpSpPr>
                  <a:xfrm>
                    <a:off x="514440" y="3219840"/>
                    <a:ext cx="304200" cy="226080"/>
                    <a:chOff x="514440" y="3219840"/>
                    <a:chExt cx="304200" cy="226080"/>
                  </a:xfrm>
                </p:grpSpPr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514440" y="3219840"/>
                      <a:ext cx="304200" cy="2260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 flipV="1">
                      <a:off x="517320" y="3223080"/>
                      <a:ext cx="296280" cy="22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514440" y="3223080"/>
                      <a:ext cx="302760" cy="21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626760" y="3256560"/>
                    <a:ext cx="74160" cy="161640"/>
                    <a:chOff x="626760" y="3256560"/>
                    <a:chExt cx="74160" cy="16164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rot="10800000">
                      <a:off x="628560" y="3351600"/>
                      <a:ext cx="72360" cy="5220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664200" y="3283920"/>
                      <a:ext cx="0" cy="1342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626760" y="3285720"/>
                      <a:ext cx="7272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657720" y="3256560"/>
                      <a:ext cx="12600" cy="133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638280" y="3152880"/>
                  <a:ext cx="57240" cy="63720"/>
                  <a:chOff x="638280" y="3152880"/>
                  <a:chExt cx="57240" cy="6372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38280" y="31528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95520" y="31528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9" name=""/>
              <p:cNvSpPr/>
              <p:nvPr/>
            </p:nvSpPr>
            <p:spPr>
              <a:xfrm>
                <a:off x="895320" y="3267000"/>
                <a:ext cx="218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pecial Raider Squadron BG-C03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419040" y="3571920"/>
              <a:ext cx="2657520" cy="581040"/>
              <a:chOff x="419040" y="3571920"/>
              <a:chExt cx="2657520" cy="581040"/>
            </a:xfrm>
          </p:grpSpPr>
          <p:sp>
            <p:nvSpPr>
              <p:cNvPr id="1041" name=""/>
              <p:cNvSpPr/>
              <p:nvPr/>
            </p:nvSpPr>
            <p:spPr>
              <a:xfrm>
                <a:off x="419040" y="37530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"/>
              <p:cNvGrpSpPr/>
              <p:nvPr/>
            </p:nvGrpSpPr>
            <p:grpSpPr>
              <a:xfrm>
                <a:off x="504720" y="3571920"/>
                <a:ext cx="304560" cy="293040"/>
                <a:chOff x="504720" y="3571920"/>
                <a:chExt cx="304560" cy="293040"/>
              </a:xfrm>
            </p:grpSpPr>
            <p:grpSp>
              <p:nvGrpSpPr>
                <p:cNvPr id="1043" name=""/>
                <p:cNvGrpSpPr/>
                <p:nvPr/>
              </p:nvGrpSpPr>
              <p:grpSpPr>
                <a:xfrm>
                  <a:off x="504720" y="3638880"/>
                  <a:ext cx="304560" cy="226080"/>
                  <a:chOff x="504720" y="3638880"/>
                  <a:chExt cx="304560" cy="226080"/>
                </a:xfrm>
              </p:grpSpPr>
              <p:grpSp>
                <p:nvGrpSpPr>
                  <p:cNvPr id="1044" name=""/>
                  <p:cNvGrpSpPr/>
                  <p:nvPr/>
                </p:nvGrpSpPr>
                <p:grpSpPr>
                  <a:xfrm>
                    <a:off x="504720" y="3638880"/>
                    <a:ext cx="304560" cy="226080"/>
                    <a:chOff x="504720" y="3638880"/>
                    <a:chExt cx="304560" cy="226080"/>
                  </a:xfrm>
                </p:grpSpPr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504720" y="3638880"/>
                      <a:ext cx="304560" cy="22608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 flipV="1">
                      <a:off x="507600" y="3642120"/>
                      <a:ext cx="296640" cy="22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504720" y="3642120"/>
                      <a:ext cx="303120" cy="21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617040" y="3675600"/>
                    <a:ext cx="74880" cy="161640"/>
                    <a:chOff x="617040" y="3675600"/>
                    <a:chExt cx="74880" cy="16164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 rot="10800000">
                      <a:off x="619200" y="3770640"/>
                      <a:ext cx="72720" cy="5220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654840" y="3702960"/>
                      <a:ext cx="0" cy="1342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617040" y="3704760"/>
                      <a:ext cx="7308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648000" y="3675600"/>
                      <a:ext cx="12600" cy="133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53" name=""/>
                <p:cNvSpPr/>
                <p:nvPr/>
              </p:nvSpPr>
              <p:spPr>
                <a:xfrm>
                  <a:off x="657000" y="35719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895320" y="3695760"/>
                <a:ext cx="2181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4</a:t>
                </a:r>
                <a:r>
                  <a:rPr b="1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Belgian troop                            10</a:t>
                </a:r>
                <a:r>
                  <a:rPr b="1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inter allied commando ME-C01                     From June 42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419040" y="4210200"/>
              <a:ext cx="2629080" cy="561960"/>
              <a:chOff x="419040" y="4210200"/>
              <a:chExt cx="2629080" cy="56196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9040" y="440064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7" name=""/>
              <p:cNvGrpSpPr/>
              <p:nvPr/>
            </p:nvGrpSpPr>
            <p:grpSpPr>
              <a:xfrm>
                <a:off x="504720" y="4210200"/>
                <a:ext cx="304560" cy="292320"/>
                <a:chOff x="504720" y="4210200"/>
                <a:chExt cx="304560" cy="292320"/>
              </a:xfrm>
            </p:grpSpPr>
            <p:grpSp>
              <p:nvGrpSpPr>
                <p:cNvPr id="1058" name=""/>
                <p:cNvGrpSpPr/>
                <p:nvPr/>
              </p:nvGrpSpPr>
              <p:grpSpPr>
                <a:xfrm>
                  <a:off x="504720" y="4276800"/>
                  <a:ext cx="304560" cy="225720"/>
                  <a:chOff x="504720" y="4276800"/>
                  <a:chExt cx="304560" cy="225720"/>
                </a:xfrm>
              </p:grpSpPr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504720" y="4276800"/>
                    <a:ext cx="304560" cy="225720"/>
                    <a:chOff x="504720" y="4276800"/>
                    <a:chExt cx="304560" cy="22572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504720" y="4276800"/>
                      <a:ext cx="304560" cy="225720"/>
                    </a:xfrm>
                    <a:prstGeom prst="rect">
                      <a:avLst/>
                    </a:pr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flipV="1">
                      <a:off x="507600" y="4279680"/>
                      <a:ext cx="296640" cy="220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504720" y="4280040"/>
                      <a:ext cx="303120" cy="215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617040" y="4313520"/>
                    <a:ext cx="74880" cy="161640"/>
                    <a:chOff x="617040" y="4313520"/>
                    <a:chExt cx="74880" cy="161640"/>
                  </a:xfrm>
                </p:grpSpPr>
                <p:sp>
                  <p:nvSpPr>
                    <p:cNvPr id="1064" name=""/>
                    <p:cNvSpPr/>
                    <p:nvPr/>
                  </p:nvSpPr>
                  <p:spPr>
                    <a:xfrm rot="10800000">
                      <a:off x="619200" y="4408560"/>
                      <a:ext cx="72720" cy="5220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654840" y="4340880"/>
                      <a:ext cx="0" cy="1342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617040" y="4342680"/>
                      <a:ext cx="7308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648000" y="4313520"/>
                      <a:ext cx="12600" cy="133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68" name=""/>
                <p:cNvSpPr/>
                <p:nvPr/>
              </p:nvSpPr>
              <p:spPr>
                <a:xfrm>
                  <a:off x="657000" y="4210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9" name=""/>
              <p:cNvSpPr/>
              <p:nvPr/>
            </p:nvSpPr>
            <p:spPr>
              <a:xfrm>
                <a:off x="905040" y="4314960"/>
                <a:ext cx="214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6</a:t>
                </a:r>
                <a:r>
                  <a:rPr b="1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Polish troop                             10</a:t>
                </a:r>
                <a:r>
                  <a:rPr b="1" lang="en-GB" sz="1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inter allied commando ME-C01                     From June 42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419040" y="2695680"/>
              <a:ext cx="2629080" cy="292680"/>
              <a:chOff x="419040" y="2695680"/>
              <a:chExt cx="2629080" cy="292680"/>
            </a:xfrm>
          </p:grpSpPr>
          <p:sp>
            <p:nvSpPr>
              <p:cNvPr id="1071" name=""/>
              <p:cNvSpPr/>
              <p:nvPr/>
            </p:nvSpPr>
            <p:spPr>
              <a:xfrm>
                <a:off x="419040" y="2876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923760" y="2781360"/>
                <a:ext cx="2124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aiding Support Sqn BG-C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3" name=""/>
              <p:cNvGrpSpPr/>
              <p:nvPr/>
            </p:nvGrpSpPr>
            <p:grpSpPr>
              <a:xfrm>
                <a:off x="523800" y="2695680"/>
                <a:ext cx="304200" cy="292680"/>
                <a:chOff x="523800" y="2695680"/>
                <a:chExt cx="304200" cy="292680"/>
              </a:xfrm>
            </p:grpSpPr>
            <p:grpSp>
              <p:nvGrpSpPr>
                <p:cNvPr id="1074" name=""/>
                <p:cNvGrpSpPr/>
                <p:nvPr/>
              </p:nvGrpSpPr>
              <p:grpSpPr>
                <a:xfrm>
                  <a:off x="638280" y="2695680"/>
                  <a:ext cx="75960" cy="63720"/>
                  <a:chOff x="638280" y="2695680"/>
                  <a:chExt cx="75960" cy="6372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638280" y="26956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714240" y="26956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523800" y="2762280"/>
                  <a:ext cx="304200" cy="226080"/>
                  <a:chOff x="523800" y="2762280"/>
                  <a:chExt cx="304200" cy="226080"/>
                </a:xfrm>
              </p:grpSpPr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523800" y="2762280"/>
                    <a:ext cx="304200" cy="226080"/>
                    <a:chOff x="523800" y="2762280"/>
                    <a:chExt cx="304200" cy="226080"/>
                  </a:xfrm>
                </p:grpSpPr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523800" y="2762280"/>
                      <a:ext cx="304200" cy="226080"/>
                      <a:chOff x="523800" y="2762280"/>
                      <a:chExt cx="304200" cy="226080"/>
                    </a:xfrm>
                  </p:grpSpPr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523800" y="2762280"/>
                        <a:ext cx="304200" cy="226080"/>
                      </a:xfrm>
                      <a:prstGeom prst="rect">
                        <a:avLst/>
                      </a:prstGeom>
                      <a:solidFill>
                        <a:srgbClr val="cc9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 flipV="1">
                        <a:off x="526680" y="2765520"/>
                        <a:ext cx="296280" cy="221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523800" y="2765520"/>
                        <a:ext cx="302760" cy="2156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3" name=""/>
                    <p:cNvGrpSpPr/>
                    <p:nvPr/>
                  </p:nvGrpSpPr>
                  <p:grpSpPr>
                    <a:xfrm>
                      <a:off x="636120" y="2799000"/>
                      <a:ext cx="74160" cy="161640"/>
                      <a:chOff x="636120" y="2799000"/>
                      <a:chExt cx="74160" cy="161640"/>
                    </a:xfrm>
                  </p:grpSpPr>
                  <p:sp>
                    <p:nvSpPr>
                      <p:cNvPr id="1084" name=""/>
                      <p:cNvSpPr/>
                      <p:nvPr/>
                    </p:nvSpPr>
                    <p:spPr>
                      <a:xfrm rot="10800000">
                        <a:off x="637920" y="2894040"/>
                        <a:ext cx="72360" cy="52200"/>
                      </a:xfrm>
                      <a:prstGeom prst="blockArc">
                        <a:avLst>
                          <a:gd name="adj1" fmla="val 10656843"/>
                          <a:gd name="adj2" fmla="val 143157"/>
                          <a:gd name="adj3" fmla="val 0"/>
                        </a:avLst>
                      </a:prstGeom>
                      <a:solidFill>
                        <a:srgbClr val="cc9900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5" name=""/>
                      <p:cNvSpPr/>
                      <p:nvPr/>
                    </p:nvSpPr>
                    <p:spPr>
                      <a:xfrm>
                        <a:off x="673560" y="2826360"/>
                        <a:ext cx="0" cy="1342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"/>
                      <p:cNvSpPr/>
                      <p:nvPr/>
                    </p:nvSpPr>
                    <p:spPr>
                      <a:xfrm>
                        <a:off x="636120" y="2828160"/>
                        <a:ext cx="7272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7" name=""/>
                      <p:cNvSpPr/>
                      <p:nvPr/>
                    </p:nvSpPr>
                    <p:spPr>
                      <a:xfrm>
                        <a:off x="667080" y="2799000"/>
                        <a:ext cx="12600" cy="1332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080" bIns="-37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88" name=""/>
                  <p:cNvSpPr/>
                  <p:nvPr/>
                </p:nvSpPr>
                <p:spPr>
                  <a:xfrm>
                    <a:off x="526680" y="2762280"/>
                    <a:ext cx="55800" cy="222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ian Partisan Division Jan-Apr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343080" y="2540160"/>
            <a:ext cx="2366280" cy="1555560"/>
            <a:chOff x="343080" y="2540160"/>
            <a:chExt cx="2366280" cy="1555560"/>
          </a:xfrm>
        </p:grpSpPr>
        <p:sp>
          <p:nvSpPr>
            <p:cNvPr id="1091" name=""/>
            <p:cNvSpPr/>
            <p:nvPr/>
          </p:nvSpPr>
          <p:spPr>
            <a:xfrm>
              <a:off x="730080" y="3454560"/>
              <a:ext cx="0" cy="57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04720" y="3711600"/>
              <a:ext cx="23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8240" y="320364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5360" y="2746440"/>
              <a:ext cx="0" cy="9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4720" y="2962440"/>
              <a:ext cx="23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"/>
            <p:cNvGrpSpPr/>
            <p:nvPr/>
          </p:nvGrpSpPr>
          <p:grpSpPr>
            <a:xfrm>
              <a:off x="707760" y="2838600"/>
              <a:ext cx="231480" cy="204840"/>
              <a:chOff x="707760" y="2838600"/>
              <a:chExt cx="231480" cy="204840"/>
            </a:xfrm>
          </p:grpSpPr>
          <p:grpSp>
            <p:nvGrpSpPr>
              <p:cNvPr id="1097" name=""/>
              <p:cNvGrpSpPr/>
              <p:nvPr/>
            </p:nvGrpSpPr>
            <p:grpSpPr>
              <a:xfrm>
                <a:off x="783720" y="2838600"/>
                <a:ext cx="73800" cy="27000"/>
                <a:chOff x="783720" y="2838600"/>
                <a:chExt cx="73800" cy="2700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783720" y="2838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830880" y="28386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707760" y="2886120"/>
                <a:ext cx="231480" cy="157320"/>
                <a:chOff x="707760" y="2886120"/>
                <a:chExt cx="231480" cy="1573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707760" y="288612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731160" y="2908440"/>
                  <a:ext cx="183960" cy="11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3" name=""/>
            <p:cNvSpPr/>
            <p:nvPr/>
          </p:nvSpPr>
          <p:spPr>
            <a:xfrm>
              <a:off x="1019160" y="2791080"/>
              <a:ext cx="152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rtisan Commander    GN-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00080" y="2600280"/>
              <a:ext cx="1709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TP-ME01 Russian Compa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343080" y="2540160"/>
              <a:ext cx="304560" cy="286920"/>
              <a:chOff x="343080" y="2540160"/>
              <a:chExt cx="304560" cy="28692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343080" y="2600280"/>
                <a:ext cx="304560" cy="226800"/>
                <a:chOff x="343080" y="2600280"/>
                <a:chExt cx="304560" cy="22680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343080" y="2600280"/>
                  <a:ext cx="304560" cy="226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V="1">
                  <a:off x="345960" y="2603520"/>
                  <a:ext cx="29664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43080" y="2603520"/>
                  <a:ext cx="303120" cy="2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"/>
              <p:cNvSpPr/>
              <p:nvPr/>
            </p:nvSpPr>
            <p:spPr>
              <a:xfrm>
                <a:off x="495360" y="2540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707760" y="3086280"/>
              <a:ext cx="231480" cy="199800"/>
              <a:chOff x="707760" y="3086280"/>
              <a:chExt cx="231480" cy="19980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707760" y="3129120"/>
                <a:ext cx="231480" cy="156960"/>
                <a:chOff x="707760" y="3129120"/>
                <a:chExt cx="231480" cy="1569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707760" y="3129120"/>
                  <a:ext cx="23148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709200" y="3132360"/>
                  <a:ext cx="22824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15320" y="3135240"/>
                  <a:ext cx="217440" cy="1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785160" y="3086280"/>
                <a:ext cx="74160" cy="27000"/>
                <a:chOff x="785160" y="3086280"/>
                <a:chExt cx="74160" cy="270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785160" y="30862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32680" y="30862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"/>
            <p:cNvSpPr/>
            <p:nvPr/>
          </p:nvSpPr>
          <p:spPr>
            <a:xfrm>
              <a:off x="1031040" y="3140280"/>
              <a:ext cx="1515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rtisan Infantry (Rifle) GN-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779400" y="3335400"/>
              <a:ext cx="73800" cy="27000"/>
              <a:chOff x="779400" y="3335400"/>
              <a:chExt cx="73800" cy="27000"/>
            </a:xfrm>
          </p:grpSpPr>
          <p:sp>
            <p:nvSpPr>
              <p:cNvPr id="1121" name=""/>
              <p:cNvSpPr/>
              <p:nvPr/>
            </p:nvSpPr>
            <p:spPr>
              <a:xfrm>
                <a:off x="779400" y="3335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26560" y="33354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707760" y="3373560"/>
              <a:ext cx="231480" cy="157320"/>
              <a:chOff x="707760" y="3373560"/>
              <a:chExt cx="231480" cy="157320"/>
            </a:xfrm>
          </p:grpSpPr>
          <p:sp>
            <p:nvSpPr>
              <p:cNvPr id="1124" name=""/>
              <p:cNvSpPr/>
              <p:nvPr/>
            </p:nvSpPr>
            <p:spPr>
              <a:xfrm>
                <a:off x="707760" y="3373560"/>
                <a:ext cx="23148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07760" y="3373560"/>
                <a:ext cx="55440" cy="155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707760" y="3376440"/>
                <a:ext cx="22824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18560" y="3380040"/>
                <a:ext cx="2170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1066320" y="3382920"/>
              <a:ext cx="1491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.50 cal HMG                 US-3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11200" y="3451320"/>
              <a:ext cx="23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707760" y="3591000"/>
              <a:ext cx="231480" cy="204840"/>
              <a:chOff x="707760" y="3591000"/>
              <a:chExt cx="231480" cy="20484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707760" y="3638520"/>
                <a:ext cx="231480" cy="157320"/>
                <a:chOff x="707760" y="3638520"/>
                <a:chExt cx="231480" cy="1573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707760" y="363852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707760" y="3641400"/>
                  <a:ext cx="1137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21520" y="3638520"/>
                  <a:ext cx="11376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783720" y="3591000"/>
                <a:ext cx="73800" cy="27000"/>
                <a:chOff x="783720" y="3591000"/>
                <a:chExt cx="73800" cy="27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783720" y="3591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830880" y="35910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8" name=""/>
            <p:cNvSpPr/>
            <p:nvPr/>
          </p:nvSpPr>
          <p:spPr>
            <a:xfrm>
              <a:off x="1030320" y="3657600"/>
              <a:ext cx="1476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47/32 Italian Gun          IT-22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707760" y="3864240"/>
              <a:ext cx="231480" cy="231480"/>
              <a:chOff x="707760" y="3864240"/>
              <a:chExt cx="231480" cy="231480"/>
            </a:xfrm>
          </p:grpSpPr>
          <p:grpSp>
            <p:nvGrpSpPr>
              <p:cNvPr id="1140" name=""/>
              <p:cNvGrpSpPr/>
              <p:nvPr/>
            </p:nvGrpSpPr>
            <p:grpSpPr>
              <a:xfrm>
                <a:off x="775440" y="3864240"/>
                <a:ext cx="80280" cy="27000"/>
                <a:chOff x="775440" y="3864240"/>
                <a:chExt cx="80280" cy="270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775440" y="386424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27640" y="386424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07760" y="3902040"/>
                <a:ext cx="231480" cy="193680"/>
                <a:chOff x="707760" y="3902040"/>
                <a:chExt cx="231480" cy="19368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07760" y="3902040"/>
                  <a:ext cx="23148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V="1">
                  <a:off x="707760" y="4063320"/>
                  <a:ext cx="205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728280" y="4063680"/>
                  <a:ext cx="18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V="1">
                  <a:off x="896400" y="4063320"/>
                  <a:ext cx="201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916920" y="4063680"/>
                  <a:ext cx="18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1000800" y="3807000"/>
              <a:ext cx="166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ck Mules                   GN-02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3152880" y="501480"/>
            <a:ext cx="2452680" cy="1892160"/>
            <a:chOff x="3152880" y="501480"/>
            <a:chExt cx="2452680" cy="1892160"/>
          </a:xfrm>
        </p:grpSpPr>
        <p:sp>
          <p:nvSpPr>
            <p:cNvPr id="1151" name=""/>
            <p:cNvSpPr/>
            <p:nvPr/>
          </p:nvSpPr>
          <p:spPr>
            <a:xfrm>
              <a:off x="3839040" y="1346040"/>
              <a:ext cx="149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3-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nch Mortar                BR-5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55240" y="1793880"/>
              <a:ext cx="175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1A1 75mm Pack Howitzer  BR-5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39880" y="1390680"/>
              <a:ext cx="0" cy="93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14520" y="167328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08040" y="116496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05160" y="707760"/>
              <a:ext cx="0" cy="96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314520" y="92376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3517920" y="799920"/>
              <a:ext cx="231120" cy="204840"/>
              <a:chOff x="3517920" y="799920"/>
              <a:chExt cx="231120" cy="204840"/>
            </a:xfrm>
          </p:grpSpPr>
          <p:grpSp>
            <p:nvGrpSpPr>
              <p:cNvPr id="1159" name=""/>
              <p:cNvGrpSpPr/>
              <p:nvPr/>
            </p:nvGrpSpPr>
            <p:grpSpPr>
              <a:xfrm>
                <a:off x="3593880" y="799920"/>
                <a:ext cx="73800" cy="27000"/>
                <a:chOff x="3593880" y="799920"/>
                <a:chExt cx="73800" cy="2700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3593880" y="799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3641040" y="7999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3517920" y="847440"/>
                <a:ext cx="231120" cy="157320"/>
                <a:chOff x="3517920" y="847440"/>
                <a:chExt cx="231120" cy="1573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517920" y="847440"/>
                  <a:ext cx="23112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541320" y="869760"/>
                  <a:ext cx="183600" cy="11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"/>
            <p:cNvSpPr/>
            <p:nvPr/>
          </p:nvSpPr>
          <p:spPr>
            <a:xfrm>
              <a:off x="3828960" y="752400"/>
              <a:ext cx="152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rtisan Commander    GN-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561960"/>
              <a:ext cx="158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TP-ME02 Italian Compa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3152880" y="501480"/>
              <a:ext cx="304560" cy="286920"/>
              <a:chOff x="3152880" y="501480"/>
              <a:chExt cx="304560" cy="28692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3152880" y="561600"/>
                <a:ext cx="304560" cy="226800"/>
                <a:chOff x="3152880" y="561600"/>
                <a:chExt cx="304560" cy="22680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3152880" y="561600"/>
                  <a:ext cx="304560" cy="226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3155760" y="564840"/>
                  <a:ext cx="29664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152880" y="564840"/>
                  <a:ext cx="303120" cy="2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2" name=""/>
              <p:cNvSpPr/>
              <p:nvPr/>
            </p:nvSpPr>
            <p:spPr>
              <a:xfrm>
                <a:off x="3305160" y="501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3517920" y="1047600"/>
              <a:ext cx="231120" cy="199800"/>
              <a:chOff x="3517920" y="1047600"/>
              <a:chExt cx="231120" cy="19980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3517920" y="1090440"/>
                <a:ext cx="231120" cy="156960"/>
                <a:chOff x="3517920" y="1090440"/>
                <a:chExt cx="231120" cy="15696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3517920" y="1090440"/>
                  <a:ext cx="23112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V="1">
                  <a:off x="3519360" y="1093680"/>
                  <a:ext cx="22788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525480" y="1096560"/>
                  <a:ext cx="217080" cy="1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3595320" y="1047600"/>
                <a:ext cx="74160" cy="27000"/>
                <a:chOff x="3595320" y="1047600"/>
                <a:chExt cx="74160" cy="2700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3595320" y="1047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642840" y="10476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1" name=""/>
            <p:cNvSpPr/>
            <p:nvPr/>
          </p:nvSpPr>
          <p:spPr>
            <a:xfrm>
              <a:off x="3840840" y="1101600"/>
              <a:ext cx="1515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rtisan Infantry (Rifle) GN-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321000" y="1412640"/>
              <a:ext cx="23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3517920" y="1552320"/>
              <a:ext cx="231120" cy="204840"/>
              <a:chOff x="3517920" y="1552320"/>
              <a:chExt cx="231120" cy="204840"/>
            </a:xfrm>
          </p:grpSpPr>
          <p:grpSp>
            <p:nvGrpSpPr>
              <p:cNvPr id="1184" name=""/>
              <p:cNvGrpSpPr/>
              <p:nvPr/>
            </p:nvGrpSpPr>
            <p:grpSpPr>
              <a:xfrm>
                <a:off x="3517920" y="1599840"/>
                <a:ext cx="231120" cy="157320"/>
                <a:chOff x="3517920" y="1599840"/>
                <a:chExt cx="231120" cy="1573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517920" y="1599840"/>
                  <a:ext cx="23112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V="1">
                  <a:off x="3517920" y="1602720"/>
                  <a:ext cx="1134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631320" y="1599840"/>
                  <a:ext cx="11340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3593880" y="1552320"/>
                <a:ext cx="73800" cy="27000"/>
                <a:chOff x="3593880" y="1552320"/>
                <a:chExt cx="73800" cy="2700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3593880" y="1552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641040" y="15523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1" name=""/>
            <p:cNvSpPr/>
            <p:nvPr/>
          </p:nvSpPr>
          <p:spPr>
            <a:xfrm>
              <a:off x="3840120" y="1619280"/>
              <a:ext cx="1476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47/32 Italian Gun          IT-22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3517920" y="2162160"/>
              <a:ext cx="231120" cy="231480"/>
              <a:chOff x="3517920" y="2162160"/>
              <a:chExt cx="231120" cy="23148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585600" y="2162160"/>
                <a:ext cx="80280" cy="27000"/>
                <a:chOff x="3585600" y="2162160"/>
                <a:chExt cx="80280" cy="270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585600" y="216216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637800" y="216216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3517920" y="2199960"/>
                <a:ext cx="231120" cy="193680"/>
                <a:chOff x="3517920" y="2199960"/>
                <a:chExt cx="231120" cy="19368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517920" y="2199960"/>
                  <a:ext cx="23112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V="1">
                  <a:off x="3517920" y="2361240"/>
                  <a:ext cx="205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538440" y="2361600"/>
                  <a:ext cx="18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V="1">
                  <a:off x="3706200" y="2361240"/>
                  <a:ext cx="201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26720" y="2361600"/>
                  <a:ext cx="18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"/>
            <p:cNvSpPr/>
            <p:nvPr/>
          </p:nvSpPr>
          <p:spPr>
            <a:xfrm>
              <a:off x="3810960" y="2104920"/>
              <a:ext cx="166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ck Mules                   GN-02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"/>
            <p:cNvGrpSpPr/>
            <p:nvPr/>
          </p:nvGrpSpPr>
          <p:grpSpPr>
            <a:xfrm>
              <a:off x="3516120" y="1288800"/>
              <a:ext cx="239400" cy="204840"/>
              <a:chOff x="3516120" y="1288800"/>
              <a:chExt cx="239400" cy="20484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3516120" y="1336320"/>
                <a:ext cx="239400" cy="157320"/>
                <a:chOff x="3516120" y="1336320"/>
                <a:chExt cx="239400" cy="1573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3516120" y="1336320"/>
                  <a:ext cx="23940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H="1">
                  <a:off x="3636360" y="135756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600360" y="146124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3601800" y="1288800"/>
                <a:ext cx="73800" cy="27000"/>
                <a:chOff x="3601800" y="1288800"/>
                <a:chExt cx="73800" cy="2700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3601800" y="1288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648960" y="12888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"/>
            <p:cNvSpPr/>
            <p:nvPr/>
          </p:nvSpPr>
          <p:spPr>
            <a:xfrm>
              <a:off x="3616200" y="18414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3514680" y="1888920"/>
              <a:ext cx="228240" cy="152280"/>
              <a:chOff x="3514680" y="1888920"/>
              <a:chExt cx="228240" cy="152280"/>
            </a:xfrm>
          </p:grpSpPr>
          <p:sp>
            <p:nvSpPr>
              <p:cNvPr id="1213" name=""/>
              <p:cNvSpPr/>
              <p:nvPr/>
            </p:nvSpPr>
            <p:spPr>
              <a:xfrm>
                <a:off x="3514680" y="1888920"/>
                <a:ext cx="228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612960" y="1947600"/>
                <a:ext cx="26640" cy="2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5" name=""/>
          <p:cNvSpPr/>
          <p:nvPr/>
        </p:nvSpPr>
        <p:spPr>
          <a:xfrm>
            <a:off x="3514680" y="3762360"/>
            <a:ext cx="27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514680" y="3495600"/>
            <a:ext cx="27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05120" y="377208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3679920" y="3662280"/>
            <a:ext cx="231840" cy="195480"/>
            <a:chOff x="3679920" y="3662280"/>
            <a:chExt cx="231840" cy="195480"/>
          </a:xfrm>
        </p:grpSpPr>
        <p:grpSp>
          <p:nvGrpSpPr>
            <p:cNvPr id="1219" name=""/>
            <p:cNvGrpSpPr/>
            <p:nvPr/>
          </p:nvGrpSpPr>
          <p:grpSpPr>
            <a:xfrm>
              <a:off x="3756240" y="3662280"/>
              <a:ext cx="74160" cy="27000"/>
              <a:chOff x="3756240" y="3662280"/>
              <a:chExt cx="74160" cy="27000"/>
            </a:xfrm>
          </p:grpSpPr>
          <p:sp>
            <p:nvSpPr>
              <p:cNvPr id="1220" name=""/>
              <p:cNvSpPr/>
              <p:nvPr/>
            </p:nvSpPr>
            <p:spPr>
              <a:xfrm>
                <a:off x="3756240" y="3662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803760" y="36622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3679920" y="3700440"/>
              <a:ext cx="231840" cy="157320"/>
              <a:chOff x="3679920" y="3700440"/>
              <a:chExt cx="231840" cy="157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679920" y="370044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79920" y="3700440"/>
                <a:ext cx="55440" cy="155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3679920" y="3703320"/>
                <a:ext cx="22860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691080" y="3706920"/>
                <a:ext cx="21744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>
            <a:off x="4052880" y="3710160"/>
            <a:ext cx="1422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ickers MMG             BR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3676680" y="4181400"/>
            <a:ext cx="231840" cy="231840"/>
            <a:chOff x="3676680" y="4181400"/>
            <a:chExt cx="231840" cy="231840"/>
          </a:xfrm>
        </p:grpSpPr>
        <p:grpSp>
          <p:nvGrpSpPr>
            <p:cNvPr id="1229" name=""/>
            <p:cNvGrpSpPr/>
            <p:nvPr/>
          </p:nvGrpSpPr>
          <p:grpSpPr>
            <a:xfrm>
              <a:off x="3744720" y="4181400"/>
              <a:ext cx="81000" cy="27000"/>
              <a:chOff x="3744720" y="4181400"/>
              <a:chExt cx="81000" cy="27000"/>
            </a:xfrm>
          </p:grpSpPr>
          <p:sp>
            <p:nvSpPr>
              <p:cNvPr id="1230" name=""/>
              <p:cNvSpPr/>
              <p:nvPr/>
            </p:nvSpPr>
            <p:spPr>
              <a:xfrm>
                <a:off x="3744720" y="4181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797280" y="4181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3676680" y="4219560"/>
              <a:ext cx="231840" cy="193680"/>
              <a:chOff x="3676680" y="4219560"/>
              <a:chExt cx="231840" cy="193680"/>
            </a:xfrm>
          </p:grpSpPr>
          <p:sp>
            <p:nvSpPr>
              <p:cNvPr id="1233" name=""/>
              <p:cNvSpPr/>
              <p:nvPr/>
            </p:nvSpPr>
            <p:spPr>
              <a:xfrm>
                <a:off x="3676680" y="4219560"/>
                <a:ext cx="231840" cy="156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3676680" y="4380840"/>
                <a:ext cx="208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697560" y="4381200"/>
                <a:ext cx="190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3865680" y="4380840"/>
                <a:ext cx="2052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86200" y="4381200"/>
                <a:ext cx="190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8" name=""/>
          <p:cNvSpPr/>
          <p:nvPr/>
        </p:nvSpPr>
        <p:spPr>
          <a:xfrm>
            <a:off x="3976560" y="4124160"/>
            <a:ext cx="163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ck Mules                  GN-02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514680" y="2695680"/>
            <a:ext cx="0" cy="1352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3362400" y="2495520"/>
            <a:ext cx="304560" cy="312120"/>
            <a:chOff x="3362400" y="2495520"/>
            <a:chExt cx="304560" cy="312120"/>
          </a:xfrm>
        </p:grpSpPr>
        <p:sp>
          <p:nvSpPr>
            <p:cNvPr id="1241" name=""/>
            <p:cNvSpPr/>
            <p:nvPr/>
          </p:nvSpPr>
          <p:spPr>
            <a:xfrm>
              <a:off x="3514320" y="2495520"/>
              <a:ext cx="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3362400" y="2581200"/>
              <a:ext cx="304560" cy="226440"/>
              <a:chOff x="3362400" y="2581200"/>
              <a:chExt cx="304560" cy="226440"/>
            </a:xfrm>
          </p:grpSpPr>
          <p:grpSp>
            <p:nvGrpSpPr>
              <p:cNvPr id="1243" name=""/>
              <p:cNvGrpSpPr/>
              <p:nvPr/>
            </p:nvGrpSpPr>
            <p:grpSpPr>
              <a:xfrm>
                <a:off x="3362400" y="2581200"/>
                <a:ext cx="304560" cy="226440"/>
                <a:chOff x="3362400" y="2581200"/>
                <a:chExt cx="304560" cy="22644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3362400" y="2581200"/>
                  <a:ext cx="304560" cy="22644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3365280" y="2584080"/>
                  <a:ext cx="29664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3362400" y="2584440"/>
                  <a:ext cx="30312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7" name=""/>
              <p:cNvSpPr/>
              <p:nvPr/>
            </p:nvSpPr>
            <p:spPr>
              <a:xfrm>
                <a:off x="3517560" y="26571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70040" y="2624040"/>
                <a:ext cx="15480" cy="9216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0" y="0"/>
                    </a:moveTo>
                    <a:lnTo>
                      <a:pt x="9" y="17"/>
                    </a:lnTo>
                    <a:lnTo>
                      <a:pt x="1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485880" y="2722320"/>
                <a:ext cx="234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546000" y="2624040"/>
                <a:ext cx="14040" cy="98280"/>
              </a:xfrm>
              <a:custGeom>
                <a:avLst/>
                <a:gdLst/>
                <a:ahLst/>
                <a:rect l="l" t="t" r="r" b="b"/>
                <a:pathLst>
                  <a:path w="9" h="62">
                    <a:moveTo>
                      <a:pt x="9" y="0"/>
                    </a:moveTo>
                    <a:lnTo>
                      <a:pt x="1" y="15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3517560" y="2722320"/>
                <a:ext cx="2808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484440" y="2724120"/>
                <a:ext cx="66240" cy="33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" y="0"/>
                    </a:moveTo>
                    <a:lnTo>
                      <a:pt x="0" y="17"/>
                    </a:lnTo>
                    <a:lnTo>
                      <a:pt x="20" y="21"/>
                    </a:lnTo>
                    <a:lnTo>
                      <a:pt x="42" y="17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"/>
          <p:cNvSpPr/>
          <p:nvPr/>
        </p:nvSpPr>
        <p:spPr>
          <a:xfrm>
            <a:off x="3753000" y="2629080"/>
            <a:ext cx="135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qn/ 2 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995640" y="3143160"/>
            <a:ext cx="146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MG                            BR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678120" y="3095640"/>
            <a:ext cx="231480" cy="204840"/>
            <a:chOff x="3678120" y="3095640"/>
            <a:chExt cx="231480" cy="204840"/>
          </a:xfrm>
        </p:grpSpPr>
        <p:grpSp>
          <p:nvGrpSpPr>
            <p:cNvPr id="1256" name=""/>
            <p:cNvGrpSpPr/>
            <p:nvPr/>
          </p:nvGrpSpPr>
          <p:grpSpPr>
            <a:xfrm>
              <a:off x="3758760" y="3095640"/>
              <a:ext cx="74880" cy="27000"/>
              <a:chOff x="3758760" y="3095640"/>
              <a:chExt cx="74880" cy="27000"/>
            </a:xfrm>
          </p:grpSpPr>
          <p:sp>
            <p:nvSpPr>
              <p:cNvPr id="1257" name=""/>
              <p:cNvSpPr/>
              <p:nvPr/>
            </p:nvSpPr>
            <p:spPr>
              <a:xfrm>
                <a:off x="3758760" y="30956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806640" y="3095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3678120" y="3143160"/>
              <a:ext cx="231480" cy="157320"/>
              <a:chOff x="3678120" y="3143160"/>
              <a:chExt cx="231480" cy="157320"/>
            </a:xfrm>
          </p:grpSpPr>
          <p:sp>
            <p:nvSpPr>
              <p:cNvPr id="1260" name=""/>
              <p:cNvSpPr/>
              <p:nvPr/>
            </p:nvSpPr>
            <p:spPr>
              <a:xfrm>
                <a:off x="3678120" y="3143160"/>
                <a:ext cx="23148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678120" y="3143160"/>
                <a:ext cx="55080" cy="155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3678120" y="3146040"/>
                <a:ext cx="22824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679200" y="3143160"/>
                <a:ext cx="2268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4" name=""/>
          <p:cNvGrpSpPr/>
          <p:nvPr/>
        </p:nvGrpSpPr>
        <p:grpSpPr>
          <a:xfrm>
            <a:off x="3676680" y="3362400"/>
            <a:ext cx="237960" cy="225000"/>
            <a:chOff x="3676680" y="3362400"/>
            <a:chExt cx="237960" cy="225000"/>
          </a:xfrm>
        </p:grpSpPr>
        <p:grpSp>
          <p:nvGrpSpPr>
            <p:cNvPr id="1265" name=""/>
            <p:cNvGrpSpPr/>
            <p:nvPr/>
          </p:nvGrpSpPr>
          <p:grpSpPr>
            <a:xfrm>
              <a:off x="3757320" y="3362400"/>
              <a:ext cx="74160" cy="26640"/>
              <a:chOff x="3757320" y="3362400"/>
              <a:chExt cx="74160" cy="26640"/>
            </a:xfrm>
          </p:grpSpPr>
          <p:sp>
            <p:nvSpPr>
              <p:cNvPr id="1266" name=""/>
              <p:cNvSpPr/>
              <p:nvPr/>
            </p:nvSpPr>
            <p:spPr>
              <a:xfrm>
                <a:off x="3757320" y="33624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804840" y="33624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3676680" y="3409920"/>
              <a:ext cx="237960" cy="177480"/>
              <a:chOff x="3676680" y="3409920"/>
              <a:chExt cx="237960" cy="177480"/>
            </a:xfrm>
          </p:grpSpPr>
          <p:grpSp>
            <p:nvGrpSpPr>
              <p:cNvPr id="1269" name=""/>
              <p:cNvGrpSpPr/>
              <p:nvPr/>
            </p:nvGrpSpPr>
            <p:grpSpPr>
              <a:xfrm>
                <a:off x="3676680" y="3409920"/>
                <a:ext cx="237960" cy="177480"/>
                <a:chOff x="3676680" y="3409920"/>
                <a:chExt cx="237960" cy="1774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676680" y="3409920"/>
                  <a:ext cx="237960" cy="1774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V="1">
                  <a:off x="3678840" y="3412440"/>
                  <a:ext cx="23184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676680" y="3412440"/>
                  <a:ext cx="236880" cy="16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3798000" y="34693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760920" y="3443400"/>
                <a:ext cx="12240" cy="7200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0" y="0"/>
                    </a:moveTo>
                    <a:lnTo>
                      <a:pt x="9" y="17"/>
                    </a:lnTo>
                    <a:lnTo>
                      <a:pt x="10" y="5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773160" y="3520080"/>
                <a:ext cx="183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819960" y="3443400"/>
                <a:ext cx="11160" cy="76680"/>
              </a:xfrm>
              <a:custGeom>
                <a:avLst/>
                <a:gdLst/>
                <a:ahLst/>
                <a:rect l="l" t="t" r="r" b="b"/>
                <a:pathLst>
                  <a:path w="9" h="62">
                    <a:moveTo>
                      <a:pt x="9" y="0"/>
                    </a:moveTo>
                    <a:lnTo>
                      <a:pt x="1" y="15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3797640" y="3520080"/>
                <a:ext cx="2196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772080" y="3521520"/>
                <a:ext cx="51840" cy="259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" y="0"/>
                    </a:moveTo>
                    <a:lnTo>
                      <a:pt x="0" y="17"/>
                    </a:lnTo>
                    <a:lnTo>
                      <a:pt x="20" y="21"/>
                    </a:lnTo>
                    <a:lnTo>
                      <a:pt x="42" y="17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"/>
          <p:cNvSpPr/>
          <p:nvPr/>
        </p:nvSpPr>
        <p:spPr>
          <a:xfrm>
            <a:off x="4010040" y="3429000"/>
            <a:ext cx="157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S Infantry               BR-P63 Bazoo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505320" y="4029120"/>
            <a:ext cx="27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3675240" y="3895560"/>
            <a:ext cx="239400" cy="204840"/>
            <a:chOff x="3675240" y="3895560"/>
            <a:chExt cx="239400" cy="204840"/>
          </a:xfrm>
        </p:grpSpPr>
        <p:grpSp>
          <p:nvGrpSpPr>
            <p:cNvPr id="1282" name=""/>
            <p:cNvGrpSpPr/>
            <p:nvPr/>
          </p:nvGrpSpPr>
          <p:grpSpPr>
            <a:xfrm>
              <a:off x="3675240" y="3943080"/>
              <a:ext cx="239400" cy="157320"/>
              <a:chOff x="3675240" y="3943080"/>
              <a:chExt cx="239400" cy="157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3675240" y="3943080"/>
                <a:ext cx="23940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3795480" y="396432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759480" y="406800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3760920" y="3895560"/>
              <a:ext cx="73800" cy="27000"/>
              <a:chOff x="3760920" y="3895560"/>
              <a:chExt cx="73800" cy="27000"/>
            </a:xfrm>
          </p:grpSpPr>
          <p:sp>
            <p:nvSpPr>
              <p:cNvPr id="1287" name=""/>
              <p:cNvSpPr/>
              <p:nvPr/>
            </p:nvSpPr>
            <p:spPr>
              <a:xfrm>
                <a:off x="3760920" y="38955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808080" y="38955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9" name=""/>
          <p:cNvSpPr/>
          <p:nvPr/>
        </p:nvSpPr>
        <p:spPr>
          <a:xfrm>
            <a:off x="4055760" y="3971880"/>
            <a:ext cx="140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3-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h Mortar             BR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057560" y="3838680"/>
            <a:ext cx="12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14680" y="29336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3679920" y="2809800"/>
            <a:ext cx="231840" cy="204840"/>
            <a:chOff x="3679920" y="2809800"/>
            <a:chExt cx="231840" cy="204840"/>
          </a:xfrm>
        </p:grpSpPr>
        <p:sp>
          <p:nvSpPr>
            <p:cNvPr id="1293" name=""/>
            <p:cNvSpPr/>
            <p:nvPr/>
          </p:nvSpPr>
          <p:spPr>
            <a:xfrm>
              <a:off x="3781440" y="28098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679920" y="2857320"/>
              <a:ext cx="231840" cy="157320"/>
              <a:chOff x="3679920" y="2857320"/>
              <a:chExt cx="231840" cy="157320"/>
            </a:xfrm>
          </p:grpSpPr>
          <p:sp>
            <p:nvSpPr>
              <p:cNvPr id="1295" name=""/>
              <p:cNvSpPr/>
              <p:nvPr/>
            </p:nvSpPr>
            <p:spPr>
              <a:xfrm>
                <a:off x="3679920" y="285732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703680" y="2879640"/>
                <a:ext cx="184320" cy="110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7" name=""/>
          <p:cNvSpPr/>
          <p:nvPr/>
        </p:nvSpPr>
        <p:spPr>
          <a:xfrm>
            <a:off x="4008240" y="2733840"/>
            <a:ext cx="145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er                BR-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505320" y="3219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76120" y="549360"/>
            <a:ext cx="2515680" cy="1791360"/>
            <a:chOff x="276120" y="549360"/>
            <a:chExt cx="2515680" cy="1791360"/>
          </a:xfrm>
        </p:grpSpPr>
        <p:sp>
          <p:nvSpPr>
            <p:cNvPr id="1300" name=""/>
            <p:cNvSpPr/>
            <p:nvPr/>
          </p:nvSpPr>
          <p:spPr>
            <a:xfrm>
              <a:off x="428760" y="104760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28760" y="13622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8760" y="1800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8760" y="2247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8760" y="704880"/>
              <a:ext cx="0" cy="15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76120" y="549360"/>
              <a:ext cx="304560" cy="276840"/>
              <a:chOff x="276120" y="549360"/>
              <a:chExt cx="304560" cy="27684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276120" y="599760"/>
                <a:ext cx="304560" cy="226440"/>
                <a:chOff x="276120" y="599760"/>
                <a:chExt cx="304560" cy="22644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276120" y="599760"/>
                  <a:ext cx="304560" cy="22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V="1">
                  <a:off x="279000" y="602640"/>
                  <a:ext cx="29664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76120" y="603000"/>
                  <a:ext cx="30312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390240" y="549360"/>
                <a:ext cx="76320" cy="63360"/>
                <a:chOff x="390240" y="549360"/>
                <a:chExt cx="76320" cy="6336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390240" y="549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66560" y="549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3" name=""/>
            <p:cNvSpPr/>
            <p:nvPr/>
          </p:nvSpPr>
          <p:spPr>
            <a:xfrm>
              <a:off x="1028880" y="1752480"/>
              <a:ext cx="158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TP-ME02 Italian Compa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4" name=""/>
            <p:cNvGrpSpPr/>
            <p:nvPr/>
          </p:nvGrpSpPr>
          <p:grpSpPr>
            <a:xfrm>
              <a:off x="641520" y="1635120"/>
              <a:ext cx="304560" cy="286920"/>
              <a:chOff x="641520" y="1635120"/>
              <a:chExt cx="304560" cy="286920"/>
            </a:xfrm>
          </p:grpSpPr>
          <p:grpSp>
            <p:nvGrpSpPr>
              <p:cNvPr id="1315" name=""/>
              <p:cNvGrpSpPr/>
              <p:nvPr/>
            </p:nvGrpSpPr>
            <p:grpSpPr>
              <a:xfrm>
                <a:off x="641520" y="1695240"/>
                <a:ext cx="304560" cy="226800"/>
                <a:chOff x="641520" y="1695240"/>
                <a:chExt cx="304560" cy="22680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641520" y="1695240"/>
                  <a:ext cx="304560" cy="226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V="1">
                  <a:off x="644400" y="1698480"/>
                  <a:ext cx="29664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41520" y="1698480"/>
                  <a:ext cx="303120" cy="2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9" name=""/>
              <p:cNvSpPr/>
              <p:nvPr/>
            </p:nvSpPr>
            <p:spPr>
              <a:xfrm>
                <a:off x="793800" y="1635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677880" y="923760"/>
              <a:ext cx="231840" cy="204840"/>
              <a:chOff x="677880" y="923760"/>
              <a:chExt cx="231840" cy="204840"/>
            </a:xfrm>
          </p:grpSpPr>
          <p:grpSp>
            <p:nvGrpSpPr>
              <p:cNvPr id="1321" name=""/>
              <p:cNvGrpSpPr/>
              <p:nvPr/>
            </p:nvGrpSpPr>
            <p:grpSpPr>
              <a:xfrm>
                <a:off x="754200" y="923760"/>
                <a:ext cx="74160" cy="27000"/>
                <a:chOff x="754200" y="923760"/>
                <a:chExt cx="74160" cy="2700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754200" y="923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801720" y="9237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677880" y="971280"/>
                <a:ext cx="231840" cy="157320"/>
                <a:chOff x="677880" y="971280"/>
                <a:chExt cx="231840" cy="15732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677880" y="97128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01640" y="993600"/>
                  <a:ext cx="184320" cy="11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7" name=""/>
            <p:cNvSpPr/>
            <p:nvPr/>
          </p:nvSpPr>
          <p:spPr>
            <a:xfrm>
              <a:off x="1028880" y="876240"/>
              <a:ext cx="152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rtisan Commander    GN-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41520" y="1187280"/>
              <a:ext cx="304560" cy="286920"/>
              <a:chOff x="641520" y="1187280"/>
              <a:chExt cx="304560" cy="286920"/>
            </a:xfrm>
          </p:grpSpPr>
          <p:grpSp>
            <p:nvGrpSpPr>
              <p:cNvPr id="1329" name=""/>
              <p:cNvGrpSpPr/>
              <p:nvPr/>
            </p:nvGrpSpPr>
            <p:grpSpPr>
              <a:xfrm>
                <a:off x="641520" y="1247400"/>
                <a:ext cx="304560" cy="226800"/>
                <a:chOff x="641520" y="1247400"/>
                <a:chExt cx="304560" cy="22680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641520" y="1247400"/>
                  <a:ext cx="304560" cy="226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V="1">
                  <a:off x="644400" y="1250640"/>
                  <a:ext cx="29664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641520" y="1250640"/>
                  <a:ext cx="303120" cy="2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>
                <a:off x="793800" y="1187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"/>
            <p:cNvSpPr/>
            <p:nvPr/>
          </p:nvSpPr>
          <p:spPr>
            <a:xfrm>
              <a:off x="1028880" y="1285920"/>
              <a:ext cx="1709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TP-ME01 Russian Compa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28880" y="2171880"/>
              <a:ext cx="135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Sqn/ 2 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641520" y="2028960"/>
              <a:ext cx="304560" cy="311760"/>
              <a:chOff x="641520" y="2028960"/>
              <a:chExt cx="304560" cy="311760"/>
            </a:xfrm>
          </p:grpSpPr>
          <p:sp>
            <p:nvSpPr>
              <p:cNvPr id="1337" name=""/>
              <p:cNvSpPr/>
              <p:nvPr/>
            </p:nvSpPr>
            <p:spPr>
              <a:xfrm>
                <a:off x="793440" y="2028960"/>
                <a:ext cx="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"/>
              <p:cNvGrpSpPr/>
              <p:nvPr/>
            </p:nvGrpSpPr>
            <p:grpSpPr>
              <a:xfrm>
                <a:off x="641520" y="2114280"/>
                <a:ext cx="304560" cy="226440"/>
                <a:chOff x="641520" y="2114280"/>
                <a:chExt cx="304560" cy="226440"/>
              </a:xfrm>
            </p:grpSpPr>
            <p:grpSp>
              <p:nvGrpSpPr>
                <p:cNvPr id="1339" name=""/>
                <p:cNvGrpSpPr/>
                <p:nvPr/>
              </p:nvGrpSpPr>
              <p:grpSpPr>
                <a:xfrm>
                  <a:off x="641520" y="2114280"/>
                  <a:ext cx="304560" cy="226440"/>
                  <a:chOff x="641520" y="2114280"/>
                  <a:chExt cx="304560" cy="22644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641520" y="2114280"/>
                    <a:ext cx="30456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V="1">
                    <a:off x="644400" y="2117160"/>
                    <a:ext cx="29664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641520" y="2117520"/>
                    <a:ext cx="30312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3" name=""/>
                <p:cNvSpPr/>
                <p:nvPr/>
              </p:nvSpPr>
              <p:spPr>
                <a:xfrm>
                  <a:off x="796680" y="219024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49160" y="2157120"/>
                  <a:ext cx="1548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65000" y="2255400"/>
                  <a:ext cx="2340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25120" y="2157120"/>
                  <a:ext cx="1404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>
                  <a:off x="796680" y="2255400"/>
                  <a:ext cx="2808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763560" y="2257200"/>
                  <a:ext cx="6624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9" name=""/>
            <p:cNvSpPr/>
            <p:nvPr/>
          </p:nvSpPr>
          <p:spPr>
            <a:xfrm>
              <a:off x="675720" y="657360"/>
              <a:ext cx="21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talian Partisan Division Jan-Apr 4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719280" y="106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43080" y="5724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ian Partisan Division April-May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28760" y="1047600"/>
            <a:ext cx="34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28760" y="2038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28760" y="247644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28760" y="685800"/>
            <a:ext cx="0" cy="221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276120" y="549360"/>
            <a:ext cx="304560" cy="276840"/>
            <a:chOff x="276120" y="549360"/>
            <a:chExt cx="304560" cy="276840"/>
          </a:xfrm>
        </p:grpSpPr>
        <p:grpSp>
          <p:nvGrpSpPr>
            <p:cNvPr id="1357" name=""/>
            <p:cNvGrpSpPr/>
            <p:nvPr/>
          </p:nvGrpSpPr>
          <p:grpSpPr>
            <a:xfrm>
              <a:off x="276120" y="599760"/>
              <a:ext cx="304560" cy="226440"/>
              <a:chOff x="276120" y="599760"/>
              <a:chExt cx="304560" cy="226440"/>
            </a:xfrm>
          </p:grpSpPr>
          <p:sp>
            <p:nvSpPr>
              <p:cNvPr id="1358" name=""/>
              <p:cNvSpPr/>
              <p:nvPr/>
            </p:nvSpPr>
            <p:spPr>
              <a:xfrm>
                <a:off x="276120" y="599760"/>
                <a:ext cx="304560" cy="2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279000" y="602640"/>
                <a:ext cx="29664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76120" y="603000"/>
                <a:ext cx="3031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390240" y="549360"/>
              <a:ext cx="76320" cy="63360"/>
              <a:chOff x="390240" y="549360"/>
              <a:chExt cx="76320" cy="63360"/>
            </a:xfrm>
          </p:grpSpPr>
          <p:sp>
            <p:nvSpPr>
              <p:cNvPr id="1362" name=""/>
              <p:cNvSpPr/>
              <p:nvPr/>
            </p:nvSpPr>
            <p:spPr>
              <a:xfrm>
                <a:off x="390240" y="549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6560" y="549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4" name=""/>
          <p:cNvSpPr/>
          <p:nvPr/>
        </p:nvSpPr>
        <p:spPr>
          <a:xfrm>
            <a:off x="1028880" y="2428920"/>
            <a:ext cx="16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TP-ME04 Italian Compan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641520" y="2311560"/>
            <a:ext cx="304560" cy="286920"/>
            <a:chOff x="641520" y="2311560"/>
            <a:chExt cx="304560" cy="286920"/>
          </a:xfrm>
        </p:grpSpPr>
        <p:grpSp>
          <p:nvGrpSpPr>
            <p:cNvPr id="1366" name=""/>
            <p:cNvGrpSpPr/>
            <p:nvPr/>
          </p:nvGrpSpPr>
          <p:grpSpPr>
            <a:xfrm>
              <a:off x="641520" y="2371680"/>
              <a:ext cx="304560" cy="226800"/>
              <a:chOff x="641520" y="2371680"/>
              <a:chExt cx="304560" cy="226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641520" y="2371680"/>
                <a:ext cx="304560" cy="22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644400" y="2374920"/>
                <a:ext cx="2966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41520" y="2374920"/>
                <a:ext cx="303120" cy="2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0" name=""/>
            <p:cNvSpPr/>
            <p:nvPr/>
          </p:nvSpPr>
          <p:spPr>
            <a:xfrm>
              <a:off x="793800" y="2311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677880" y="923760"/>
            <a:ext cx="231840" cy="204840"/>
            <a:chOff x="677880" y="923760"/>
            <a:chExt cx="231840" cy="204840"/>
          </a:xfrm>
        </p:grpSpPr>
        <p:grpSp>
          <p:nvGrpSpPr>
            <p:cNvPr id="1372" name=""/>
            <p:cNvGrpSpPr/>
            <p:nvPr/>
          </p:nvGrpSpPr>
          <p:grpSpPr>
            <a:xfrm>
              <a:off x="754200" y="923760"/>
              <a:ext cx="74160" cy="27000"/>
              <a:chOff x="754200" y="923760"/>
              <a:chExt cx="74160" cy="27000"/>
            </a:xfrm>
          </p:grpSpPr>
          <p:sp>
            <p:nvSpPr>
              <p:cNvPr id="1373" name=""/>
              <p:cNvSpPr/>
              <p:nvPr/>
            </p:nvSpPr>
            <p:spPr>
              <a:xfrm>
                <a:off x="754200" y="923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01720" y="9237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677880" y="971280"/>
              <a:ext cx="231840" cy="157320"/>
              <a:chOff x="677880" y="971280"/>
              <a:chExt cx="231840" cy="157320"/>
            </a:xfrm>
          </p:grpSpPr>
          <p:sp>
            <p:nvSpPr>
              <p:cNvPr id="1376" name=""/>
              <p:cNvSpPr/>
              <p:nvPr/>
            </p:nvSpPr>
            <p:spPr>
              <a:xfrm>
                <a:off x="677880" y="97128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01640" y="993600"/>
                <a:ext cx="184320" cy="11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8" name=""/>
          <p:cNvSpPr/>
          <p:nvPr/>
        </p:nvSpPr>
        <p:spPr>
          <a:xfrm>
            <a:off x="1028880" y="876240"/>
            <a:ext cx="15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tisan Commander    GN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41520" y="1863720"/>
            <a:ext cx="304560" cy="286920"/>
            <a:chOff x="641520" y="1863720"/>
            <a:chExt cx="304560" cy="286920"/>
          </a:xfrm>
        </p:grpSpPr>
        <p:grpSp>
          <p:nvGrpSpPr>
            <p:cNvPr id="1380" name=""/>
            <p:cNvGrpSpPr/>
            <p:nvPr/>
          </p:nvGrpSpPr>
          <p:grpSpPr>
            <a:xfrm>
              <a:off x="641520" y="1923840"/>
              <a:ext cx="304560" cy="226800"/>
              <a:chOff x="641520" y="1923840"/>
              <a:chExt cx="304560" cy="226800"/>
            </a:xfrm>
          </p:grpSpPr>
          <p:sp>
            <p:nvSpPr>
              <p:cNvPr id="1381" name=""/>
              <p:cNvSpPr/>
              <p:nvPr/>
            </p:nvSpPr>
            <p:spPr>
              <a:xfrm>
                <a:off x="641520" y="1923840"/>
                <a:ext cx="304560" cy="22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644400" y="1927080"/>
                <a:ext cx="2966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1520" y="1927080"/>
                <a:ext cx="303120" cy="2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793800" y="1863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"/>
          <p:cNvSpPr/>
          <p:nvPr/>
        </p:nvSpPr>
        <p:spPr>
          <a:xfrm>
            <a:off x="1028880" y="1962000"/>
            <a:ext cx="170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TP-ME03 Russia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75720" y="657360"/>
            <a:ext cx="21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alian Partisan Division Jan-Apr 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19040" y="29145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019160" y="2867040"/>
            <a:ext cx="16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TP-ME05 Italian Compan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631800" y="2749680"/>
            <a:ext cx="304920" cy="286920"/>
            <a:chOff x="631800" y="2749680"/>
            <a:chExt cx="304920" cy="286920"/>
          </a:xfrm>
        </p:grpSpPr>
        <p:grpSp>
          <p:nvGrpSpPr>
            <p:cNvPr id="1390" name=""/>
            <p:cNvGrpSpPr/>
            <p:nvPr/>
          </p:nvGrpSpPr>
          <p:grpSpPr>
            <a:xfrm>
              <a:off x="631800" y="2809800"/>
              <a:ext cx="304920" cy="226800"/>
              <a:chOff x="631800" y="2809800"/>
              <a:chExt cx="304920" cy="226800"/>
            </a:xfrm>
          </p:grpSpPr>
          <p:sp>
            <p:nvSpPr>
              <p:cNvPr id="1391" name=""/>
              <p:cNvSpPr/>
              <p:nvPr/>
            </p:nvSpPr>
            <p:spPr>
              <a:xfrm>
                <a:off x="631800" y="2809800"/>
                <a:ext cx="304920" cy="22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634680" y="2813040"/>
                <a:ext cx="29700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31800" y="2813040"/>
                <a:ext cx="303480" cy="2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4" name=""/>
            <p:cNvSpPr/>
            <p:nvPr/>
          </p:nvSpPr>
          <p:spPr>
            <a:xfrm>
              <a:off x="784440" y="2749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1015560" y="1390680"/>
            <a:ext cx="159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SAS Jeep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BR-P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409760"/>
            <a:ext cx="231840" cy="237960"/>
            <a:chOff x="685800" y="1409760"/>
            <a:chExt cx="231840" cy="237960"/>
          </a:xfrm>
        </p:grpSpPr>
        <p:grpSp>
          <p:nvGrpSpPr>
            <p:cNvPr id="1397" name=""/>
            <p:cNvGrpSpPr/>
            <p:nvPr/>
          </p:nvGrpSpPr>
          <p:grpSpPr>
            <a:xfrm>
              <a:off x="685800" y="1457280"/>
              <a:ext cx="231840" cy="190440"/>
              <a:chOff x="685800" y="1457280"/>
              <a:chExt cx="231840" cy="190440"/>
            </a:xfrm>
          </p:grpSpPr>
          <p:sp>
            <p:nvSpPr>
              <p:cNvPr id="1398" name=""/>
              <p:cNvSpPr/>
              <p:nvPr/>
            </p:nvSpPr>
            <p:spPr>
              <a:xfrm>
                <a:off x="685800" y="1457280"/>
                <a:ext cx="231840" cy="157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6960" y="1620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77680" y="16207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765000" y="1409760"/>
              <a:ext cx="74880" cy="27000"/>
              <a:chOff x="765000" y="1409760"/>
              <a:chExt cx="74880" cy="27000"/>
            </a:xfrm>
          </p:grpSpPr>
          <p:sp>
            <p:nvSpPr>
              <p:cNvPr id="1402" name=""/>
              <p:cNvSpPr/>
              <p:nvPr/>
            </p:nvSpPr>
            <p:spPr>
              <a:xfrm>
                <a:off x="765000" y="14097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12880" y="1409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4" name=""/>
          <p:cNvSpPr/>
          <p:nvPr/>
        </p:nvSpPr>
        <p:spPr>
          <a:xfrm>
            <a:off x="431640" y="1279440"/>
            <a:ext cx="266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679320" y="1162080"/>
            <a:ext cx="231840" cy="199800"/>
            <a:chOff x="679320" y="1162080"/>
            <a:chExt cx="231840" cy="199800"/>
          </a:xfrm>
        </p:grpSpPr>
        <p:grpSp>
          <p:nvGrpSpPr>
            <p:cNvPr id="1406" name=""/>
            <p:cNvGrpSpPr/>
            <p:nvPr/>
          </p:nvGrpSpPr>
          <p:grpSpPr>
            <a:xfrm>
              <a:off x="679320" y="1204920"/>
              <a:ext cx="231840" cy="156960"/>
              <a:chOff x="679320" y="1204920"/>
              <a:chExt cx="231840" cy="156960"/>
            </a:xfrm>
          </p:grpSpPr>
          <p:sp>
            <p:nvSpPr>
              <p:cNvPr id="1407" name=""/>
              <p:cNvSpPr/>
              <p:nvPr/>
            </p:nvSpPr>
            <p:spPr>
              <a:xfrm>
                <a:off x="679320" y="12049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81120" y="1208160"/>
                <a:ext cx="22860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7240" y="1211040"/>
                <a:ext cx="21780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757080" y="1162080"/>
              <a:ext cx="74880" cy="27000"/>
              <a:chOff x="757080" y="1162080"/>
              <a:chExt cx="74880" cy="27000"/>
            </a:xfrm>
          </p:grpSpPr>
          <p:sp>
            <p:nvSpPr>
              <p:cNvPr id="1411" name=""/>
              <p:cNvSpPr/>
              <p:nvPr/>
            </p:nvSpPr>
            <p:spPr>
              <a:xfrm>
                <a:off x="757080" y="1162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04960" y="1162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3" name=""/>
          <p:cNvSpPr/>
          <p:nvPr/>
        </p:nvSpPr>
        <p:spPr>
          <a:xfrm>
            <a:off x="1022040" y="1216080"/>
            <a:ext cx="1515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tisan Infantry (Rifle) GN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040040" y="1111320"/>
            <a:ext cx="29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687240" y="458784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41360" y="3860640"/>
            <a:ext cx="23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38120" y="3422520"/>
            <a:ext cx="0" cy="11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7840" y="3619440"/>
            <a:ext cx="23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647640" y="3495600"/>
            <a:ext cx="231840" cy="204840"/>
            <a:chOff x="647640" y="3495600"/>
            <a:chExt cx="231840" cy="204840"/>
          </a:xfrm>
        </p:grpSpPr>
        <p:grpSp>
          <p:nvGrpSpPr>
            <p:cNvPr id="1420" name=""/>
            <p:cNvGrpSpPr/>
            <p:nvPr/>
          </p:nvGrpSpPr>
          <p:grpSpPr>
            <a:xfrm>
              <a:off x="723960" y="3495600"/>
              <a:ext cx="74160" cy="27000"/>
              <a:chOff x="723960" y="3495600"/>
              <a:chExt cx="74160" cy="27000"/>
            </a:xfrm>
          </p:grpSpPr>
          <p:sp>
            <p:nvSpPr>
              <p:cNvPr id="1421" name=""/>
              <p:cNvSpPr/>
              <p:nvPr/>
            </p:nvSpPr>
            <p:spPr>
              <a:xfrm>
                <a:off x="723960" y="3495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71480" y="34956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647640" y="3543120"/>
              <a:ext cx="231840" cy="157320"/>
              <a:chOff x="647640" y="3543120"/>
              <a:chExt cx="231840" cy="157320"/>
            </a:xfrm>
          </p:grpSpPr>
          <p:sp>
            <p:nvSpPr>
              <p:cNvPr id="1424" name=""/>
              <p:cNvSpPr/>
              <p:nvPr/>
            </p:nvSpPr>
            <p:spPr>
              <a:xfrm>
                <a:off x="647640" y="354312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71400" y="3565440"/>
                <a:ext cx="184320" cy="11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6" name=""/>
          <p:cNvSpPr/>
          <p:nvPr/>
        </p:nvSpPr>
        <p:spPr>
          <a:xfrm>
            <a:off x="962280" y="3448080"/>
            <a:ext cx="15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tisan Commander    GN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43200" y="3257640"/>
            <a:ext cx="170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TP-ME03 Russia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285840" y="3197160"/>
            <a:ext cx="304560" cy="286920"/>
            <a:chOff x="285840" y="3197160"/>
            <a:chExt cx="304560" cy="286920"/>
          </a:xfrm>
        </p:grpSpPr>
        <p:grpSp>
          <p:nvGrpSpPr>
            <p:cNvPr id="1429" name=""/>
            <p:cNvGrpSpPr/>
            <p:nvPr/>
          </p:nvGrpSpPr>
          <p:grpSpPr>
            <a:xfrm>
              <a:off x="285840" y="3257280"/>
              <a:ext cx="304560" cy="226800"/>
              <a:chOff x="285840" y="3257280"/>
              <a:chExt cx="304560" cy="226800"/>
            </a:xfrm>
          </p:grpSpPr>
          <p:sp>
            <p:nvSpPr>
              <p:cNvPr id="1430" name=""/>
              <p:cNvSpPr/>
              <p:nvPr/>
            </p:nvSpPr>
            <p:spPr>
              <a:xfrm>
                <a:off x="285840" y="3257280"/>
                <a:ext cx="304560" cy="22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V="1">
                <a:off x="288720" y="3260520"/>
                <a:ext cx="2966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85840" y="3260520"/>
                <a:ext cx="303120" cy="2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438120" y="31971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47640" y="3743280"/>
            <a:ext cx="231840" cy="199800"/>
            <a:chOff x="647640" y="3743280"/>
            <a:chExt cx="231840" cy="199800"/>
          </a:xfrm>
        </p:grpSpPr>
        <p:grpSp>
          <p:nvGrpSpPr>
            <p:cNvPr id="1435" name=""/>
            <p:cNvGrpSpPr/>
            <p:nvPr/>
          </p:nvGrpSpPr>
          <p:grpSpPr>
            <a:xfrm>
              <a:off x="647640" y="3786120"/>
              <a:ext cx="231840" cy="156960"/>
              <a:chOff x="647640" y="3786120"/>
              <a:chExt cx="231840" cy="156960"/>
            </a:xfrm>
          </p:grpSpPr>
          <p:sp>
            <p:nvSpPr>
              <p:cNvPr id="1436" name=""/>
              <p:cNvSpPr/>
              <p:nvPr/>
            </p:nvSpPr>
            <p:spPr>
              <a:xfrm>
                <a:off x="647640" y="37861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649440" y="3789360"/>
                <a:ext cx="22860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55560" y="3792240"/>
                <a:ext cx="21780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725400" y="3743280"/>
              <a:ext cx="74880" cy="27000"/>
              <a:chOff x="725400" y="3743280"/>
              <a:chExt cx="74880" cy="27000"/>
            </a:xfrm>
          </p:grpSpPr>
          <p:sp>
            <p:nvSpPr>
              <p:cNvPr id="1440" name=""/>
              <p:cNvSpPr/>
              <p:nvPr/>
            </p:nvSpPr>
            <p:spPr>
              <a:xfrm>
                <a:off x="725400" y="37432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73280" y="3743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2" name=""/>
          <p:cNvSpPr/>
          <p:nvPr/>
        </p:nvSpPr>
        <p:spPr>
          <a:xfrm>
            <a:off x="974160" y="3797280"/>
            <a:ext cx="1515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tisan Infantry (Rifle) GN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647640" y="4468680"/>
            <a:ext cx="231840" cy="195480"/>
            <a:chOff x="647640" y="4468680"/>
            <a:chExt cx="231840" cy="195480"/>
          </a:xfrm>
        </p:grpSpPr>
        <p:grpSp>
          <p:nvGrpSpPr>
            <p:cNvPr id="1444" name=""/>
            <p:cNvGrpSpPr/>
            <p:nvPr/>
          </p:nvGrpSpPr>
          <p:grpSpPr>
            <a:xfrm>
              <a:off x="718920" y="4468680"/>
              <a:ext cx="74880" cy="27000"/>
              <a:chOff x="718920" y="4468680"/>
              <a:chExt cx="74880" cy="27000"/>
            </a:xfrm>
          </p:grpSpPr>
          <p:sp>
            <p:nvSpPr>
              <p:cNvPr id="1445" name=""/>
              <p:cNvSpPr/>
              <p:nvPr/>
            </p:nvSpPr>
            <p:spPr>
              <a:xfrm>
                <a:off x="718920" y="44686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6800" y="4468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647640" y="4506840"/>
              <a:ext cx="231840" cy="157320"/>
              <a:chOff x="647640" y="4506840"/>
              <a:chExt cx="231840" cy="157320"/>
            </a:xfrm>
          </p:grpSpPr>
          <p:sp>
            <p:nvSpPr>
              <p:cNvPr id="1448" name=""/>
              <p:cNvSpPr/>
              <p:nvPr/>
            </p:nvSpPr>
            <p:spPr>
              <a:xfrm>
                <a:off x="647640" y="450684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47640" y="4506840"/>
                <a:ext cx="55800" cy="155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647640" y="4509720"/>
                <a:ext cx="22860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58800" y="4513320"/>
                <a:ext cx="21744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2" name=""/>
          <p:cNvSpPr/>
          <p:nvPr/>
        </p:nvSpPr>
        <p:spPr>
          <a:xfrm>
            <a:off x="1009080" y="4516560"/>
            <a:ext cx="149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50 cal HMG                 US-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34880" y="4584600"/>
            <a:ext cx="23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647640" y="4997520"/>
            <a:ext cx="231840" cy="231480"/>
            <a:chOff x="647640" y="4997520"/>
            <a:chExt cx="231840" cy="231480"/>
          </a:xfrm>
        </p:grpSpPr>
        <p:grpSp>
          <p:nvGrpSpPr>
            <p:cNvPr id="1455" name=""/>
            <p:cNvGrpSpPr/>
            <p:nvPr/>
          </p:nvGrpSpPr>
          <p:grpSpPr>
            <a:xfrm>
              <a:off x="715680" y="4997520"/>
              <a:ext cx="81000" cy="27000"/>
              <a:chOff x="715680" y="4997520"/>
              <a:chExt cx="81000" cy="27000"/>
            </a:xfrm>
          </p:grpSpPr>
          <p:sp>
            <p:nvSpPr>
              <p:cNvPr id="1456" name=""/>
              <p:cNvSpPr/>
              <p:nvPr/>
            </p:nvSpPr>
            <p:spPr>
              <a:xfrm>
                <a:off x="715680" y="4997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68240" y="4997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647640" y="5035320"/>
              <a:ext cx="231840" cy="193680"/>
              <a:chOff x="647640" y="5035320"/>
              <a:chExt cx="231840" cy="193680"/>
            </a:xfrm>
          </p:grpSpPr>
          <p:sp>
            <p:nvSpPr>
              <p:cNvPr id="1459" name=""/>
              <p:cNvSpPr/>
              <p:nvPr/>
            </p:nvSpPr>
            <p:spPr>
              <a:xfrm>
                <a:off x="647640" y="50353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647640" y="5196600"/>
                <a:ext cx="208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68520" y="5196960"/>
                <a:ext cx="190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836640" y="5196600"/>
                <a:ext cx="2052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57160" y="5196960"/>
                <a:ext cx="190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4" name=""/>
          <p:cNvSpPr/>
          <p:nvPr/>
        </p:nvSpPr>
        <p:spPr>
          <a:xfrm>
            <a:off x="943920" y="4940280"/>
            <a:ext cx="166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ck Mules                   GN-02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979200" y="4680000"/>
            <a:ext cx="175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1A1 75mm Pack Howitzer  BR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649440" y="4727520"/>
            <a:ext cx="228600" cy="200160"/>
            <a:chOff x="649440" y="4727520"/>
            <a:chExt cx="228600" cy="200160"/>
          </a:xfrm>
        </p:grpSpPr>
        <p:sp>
          <p:nvSpPr>
            <p:cNvPr id="1467" name=""/>
            <p:cNvSpPr/>
            <p:nvPr/>
          </p:nvSpPr>
          <p:spPr>
            <a:xfrm>
              <a:off x="750960" y="4727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649440" y="4775400"/>
              <a:ext cx="228600" cy="152280"/>
              <a:chOff x="649440" y="4775400"/>
              <a:chExt cx="228600" cy="152280"/>
            </a:xfrm>
          </p:grpSpPr>
          <p:sp>
            <p:nvSpPr>
              <p:cNvPr id="1469" name=""/>
              <p:cNvSpPr/>
              <p:nvPr/>
            </p:nvSpPr>
            <p:spPr>
              <a:xfrm>
                <a:off x="649440" y="4775400"/>
                <a:ext cx="2286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48080" y="4834080"/>
                <a:ext cx="27000" cy="2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"/>
          <p:cNvSpPr/>
          <p:nvPr/>
        </p:nvSpPr>
        <p:spPr>
          <a:xfrm>
            <a:off x="966600" y="4029120"/>
            <a:ext cx="149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MG                             BR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647640" y="3981600"/>
            <a:ext cx="231840" cy="204480"/>
            <a:chOff x="647640" y="3981600"/>
            <a:chExt cx="231840" cy="204480"/>
          </a:xfrm>
        </p:grpSpPr>
        <p:grpSp>
          <p:nvGrpSpPr>
            <p:cNvPr id="1473" name=""/>
            <p:cNvGrpSpPr/>
            <p:nvPr/>
          </p:nvGrpSpPr>
          <p:grpSpPr>
            <a:xfrm>
              <a:off x="728640" y="3981600"/>
              <a:ext cx="74160" cy="27000"/>
              <a:chOff x="728640" y="3981600"/>
              <a:chExt cx="74160" cy="27000"/>
            </a:xfrm>
          </p:grpSpPr>
          <p:sp>
            <p:nvSpPr>
              <p:cNvPr id="1474" name=""/>
              <p:cNvSpPr/>
              <p:nvPr/>
            </p:nvSpPr>
            <p:spPr>
              <a:xfrm>
                <a:off x="728640" y="3981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76160" y="39816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6" name=""/>
            <p:cNvSpPr/>
            <p:nvPr/>
          </p:nvSpPr>
          <p:spPr>
            <a:xfrm>
              <a:off x="647640" y="4029120"/>
              <a:ext cx="23184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7640" y="4029120"/>
              <a:ext cx="55800" cy="155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647640" y="4032000"/>
              <a:ext cx="2286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9440" y="4029120"/>
              <a:ext cx="226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438120" y="4105440"/>
            <a:ext cx="266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974880" y="4194000"/>
            <a:ext cx="19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rganic Fire Support                              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60mm  Mortar               US-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34880" y="4356000"/>
            <a:ext cx="23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644400" y="4232160"/>
            <a:ext cx="239760" cy="204840"/>
            <a:chOff x="644400" y="4232160"/>
            <a:chExt cx="239760" cy="204840"/>
          </a:xfrm>
        </p:grpSpPr>
        <p:grpSp>
          <p:nvGrpSpPr>
            <p:cNvPr id="1484" name=""/>
            <p:cNvGrpSpPr/>
            <p:nvPr/>
          </p:nvGrpSpPr>
          <p:grpSpPr>
            <a:xfrm>
              <a:off x="644400" y="4279680"/>
              <a:ext cx="239760" cy="157320"/>
              <a:chOff x="644400" y="4279680"/>
              <a:chExt cx="239760" cy="157320"/>
            </a:xfrm>
          </p:grpSpPr>
          <p:sp>
            <p:nvSpPr>
              <p:cNvPr id="1485" name=""/>
              <p:cNvSpPr/>
              <p:nvPr/>
            </p:nvSpPr>
            <p:spPr>
              <a:xfrm>
                <a:off x="644400" y="4279680"/>
                <a:ext cx="2397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765000" y="430092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29000" y="440460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730440" y="4232160"/>
              <a:ext cx="74160" cy="27000"/>
              <a:chOff x="730440" y="4232160"/>
              <a:chExt cx="74160" cy="27000"/>
            </a:xfrm>
          </p:grpSpPr>
          <p:sp>
            <p:nvSpPr>
              <p:cNvPr id="1489" name=""/>
              <p:cNvSpPr/>
              <p:nvPr/>
            </p:nvSpPr>
            <p:spPr>
              <a:xfrm>
                <a:off x="730440" y="4232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77960" y="42321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1" name=""/>
          <p:cNvGrpSpPr/>
          <p:nvPr/>
        </p:nvGrpSpPr>
        <p:grpSpPr>
          <a:xfrm>
            <a:off x="3152880" y="501480"/>
            <a:ext cx="2692440" cy="2063520"/>
            <a:chOff x="3152880" y="501480"/>
            <a:chExt cx="2692440" cy="2063520"/>
          </a:xfrm>
        </p:grpSpPr>
        <p:sp>
          <p:nvSpPr>
            <p:cNvPr id="1492" name=""/>
            <p:cNvSpPr/>
            <p:nvPr/>
          </p:nvSpPr>
          <p:spPr>
            <a:xfrm>
              <a:off x="3841920" y="1832040"/>
              <a:ext cx="20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rganic Fire Support                               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inch Mortar                BR-5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540240" y="1924200"/>
              <a:ext cx="0" cy="58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308400" y="116532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05160" y="727200"/>
              <a:ext cx="0" cy="14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314880" y="92376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3502080" y="800280"/>
              <a:ext cx="231840" cy="204120"/>
              <a:chOff x="3502080" y="800280"/>
              <a:chExt cx="231840" cy="204120"/>
            </a:xfrm>
          </p:grpSpPr>
          <p:grpSp>
            <p:nvGrpSpPr>
              <p:cNvPr id="1498" name=""/>
              <p:cNvGrpSpPr/>
              <p:nvPr/>
            </p:nvGrpSpPr>
            <p:grpSpPr>
              <a:xfrm>
                <a:off x="3578400" y="800280"/>
                <a:ext cx="74160" cy="26640"/>
                <a:chOff x="3578400" y="800280"/>
                <a:chExt cx="74160" cy="2664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3578400" y="800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3625920" y="8002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3502080" y="847440"/>
                <a:ext cx="231840" cy="156960"/>
                <a:chOff x="3502080" y="847440"/>
                <a:chExt cx="231840" cy="15696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3502080" y="84744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3525840" y="869400"/>
                  <a:ext cx="184320" cy="110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4" name=""/>
            <p:cNvSpPr/>
            <p:nvPr/>
          </p:nvSpPr>
          <p:spPr>
            <a:xfrm>
              <a:off x="3829320" y="752400"/>
              <a:ext cx="152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rtisan Commander    GN-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809880" y="561960"/>
              <a:ext cx="168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TP-ME04 Italian Company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3152880" y="501480"/>
              <a:ext cx="304560" cy="286920"/>
              <a:chOff x="3152880" y="501480"/>
              <a:chExt cx="304560" cy="286920"/>
            </a:xfrm>
          </p:grpSpPr>
          <p:grpSp>
            <p:nvGrpSpPr>
              <p:cNvPr id="1507" name=""/>
              <p:cNvGrpSpPr/>
              <p:nvPr/>
            </p:nvGrpSpPr>
            <p:grpSpPr>
              <a:xfrm>
                <a:off x="3152880" y="561600"/>
                <a:ext cx="304560" cy="226800"/>
                <a:chOff x="3152880" y="561600"/>
                <a:chExt cx="304560" cy="226800"/>
              </a:xfrm>
            </p:grpSpPr>
            <p:sp>
              <p:nvSpPr>
                <p:cNvPr id="1508" name=""/>
                <p:cNvSpPr/>
                <p:nvPr/>
              </p:nvSpPr>
              <p:spPr>
                <a:xfrm>
                  <a:off x="3152880" y="561600"/>
                  <a:ext cx="304560" cy="226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V="1">
                  <a:off x="3155760" y="564840"/>
                  <a:ext cx="296640" cy="22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3152880" y="564840"/>
                  <a:ext cx="303120" cy="2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1" name=""/>
              <p:cNvSpPr/>
              <p:nvPr/>
            </p:nvSpPr>
            <p:spPr>
              <a:xfrm>
                <a:off x="3305160" y="501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3502080" y="1047600"/>
              <a:ext cx="231840" cy="199800"/>
              <a:chOff x="3502080" y="1047600"/>
              <a:chExt cx="231840" cy="199800"/>
            </a:xfrm>
          </p:grpSpPr>
          <p:grpSp>
            <p:nvGrpSpPr>
              <p:cNvPr id="1513" name=""/>
              <p:cNvGrpSpPr/>
              <p:nvPr/>
            </p:nvGrpSpPr>
            <p:grpSpPr>
              <a:xfrm>
                <a:off x="3502080" y="1090440"/>
                <a:ext cx="231840" cy="156960"/>
                <a:chOff x="3502080" y="1090440"/>
                <a:chExt cx="231840" cy="15696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3502080" y="109044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V="1">
                  <a:off x="3503880" y="1093680"/>
                  <a:ext cx="22860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3510000" y="1096560"/>
                  <a:ext cx="217800" cy="1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3579840" y="1047600"/>
                <a:ext cx="74880" cy="27000"/>
                <a:chOff x="3579840" y="1047600"/>
                <a:chExt cx="74880" cy="2700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3579840" y="10476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3627720" y="1047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0" name=""/>
            <p:cNvSpPr/>
            <p:nvPr/>
          </p:nvSpPr>
          <p:spPr>
            <a:xfrm>
              <a:off x="3841200" y="1101600"/>
              <a:ext cx="154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rtisan Infantry (SMG) GN-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01920" y="1946160"/>
              <a:ext cx="238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2" name=""/>
            <p:cNvGrpSpPr/>
            <p:nvPr/>
          </p:nvGrpSpPr>
          <p:grpSpPr>
            <a:xfrm>
              <a:off x="3502080" y="2333520"/>
              <a:ext cx="231840" cy="231480"/>
              <a:chOff x="3502080" y="2333520"/>
              <a:chExt cx="231840" cy="231480"/>
            </a:xfrm>
          </p:grpSpPr>
          <p:grpSp>
            <p:nvGrpSpPr>
              <p:cNvPr id="1523" name=""/>
              <p:cNvGrpSpPr/>
              <p:nvPr/>
            </p:nvGrpSpPr>
            <p:grpSpPr>
              <a:xfrm>
                <a:off x="3570120" y="2333520"/>
                <a:ext cx="81000" cy="27000"/>
                <a:chOff x="3570120" y="2333520"/>
                <a:chExt cx="81000" cy="2700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3570120" y="2333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3622680" y="2333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3502080" y="2371320"/>
                <a:ext cx="231840" cy="193680"/>
                <a:chOff x="3502080" y="2371320"/>
                <a:chExt cx="231840" cy="1936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3502080" y="237132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V="1">
                  <a:off x="3502080" y="2532600"/>
                  <a:ext cx="2088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522960" y="2532960"/>
                  <a:ext cx="1908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V="1">
                  <a:off x="3691080" y="2532600"/>
                  <a:ext cx="205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711600" y="2532960"/>
                  <a:ext cx="1908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2" name=""/>
            <p:cNvSpPr/>
            <p:nvPr/>
          </p:nvSpPr>
          <p:spPr>
            <a:xfrm>
              <a:off x="3810960" y="2276640"/>
              <a:ext cx="166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Pack Mules                   GN-02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3498840" y="1822320"/>
              <a:ext cx="239760" cy="204840"/>
              <a:chOff x="3498840" y="1822320"/>
              <a:chExt cx="239760" cy="204840"/>
            </a:xfrm>
          </p:grpSpPr>
          <p:grpSp>
            <p:nvGrpSpPr>
              <p:cNvPr id="1534" name=""/>
              <p:cNvGrpSpPr/>
              <p:nvPr/>
            </p:nvGrpSpPr>
            <p:grpSpPr>
              <a:xfrm>
                <a:off x="3498840" y="1869840"/>
                <a:ext cx="239760" cy="157320"/>
                <a:chOff x="3498840" y="1869840"/>
                <a:chExt cx="239760" cy="15732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3498840" y="1869840"/>
                  <a:ext cx="23976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H="1">
                  <a:off x="3619440" y="189108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3583440" y="199476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3584880" y="1822320"/>
                <a:ext cx="74160" cy="27000"/>
                <a:chOff x="3584880" y="1822320"/>
                <a:chExt cx="74160" cy="2700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3584880" y="1822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3632400" y="18223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1" name=""/>
            <p:cNvGrpSpPr/>
            <p:nvPr/>
          </p:nvGrpSpPr>
          <p:grpSpPr>
            <a:xfrm>
              <a:off x="3502080" y="2087640"/>
              <a:ext cx="231840" cy="194760"/>
              <a:chOff x="3502080" y="2087640"/>
              <a:chExt cx="231840" cy="194760"/>
            </a:xfrm>
          </p:grpSpPr>
          <p:grpSp>
            <p:nvGrpSpPr>
              <p:cNvPr id="1542" name=""/>
              <p:cNvGrpSpPr/>
              <p:nvPr/>
            </p:nvGrpSpPr>
            <p:grpSpPr>
              <a:xfrm>
                <a:off x="3573360" y="2087640"/>
                <a:ext cx="74880" cy="26640"/>
                <a:chOff x="3573360" y="2087640"/>
                <a:chExt cx="74880" cy="2664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3573360" y="208764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3621240" y="2087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3502080" y="2125440"/>
                <a:ext cx="231840" cy="156960"/>
                <a:chOff x="3502080" y="2125440"/>
                <a:chExt cx="231840" cy="15696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3502080" y="212544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3502080" y="2125440"/>
                  <a:ext cx="55800" cy="155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V="1">
                  <a:off x="3502080" y="2128320"/>
                  <a:ext cx="22860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3513240" y="2131560"/>
                  <a:ext cx="21744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0" name=""/>
            <p:cNvSpPr/>
            <p:nvPr/>
          </p:nvSpPr>
          <p:spPr>
            <a:xfrm>
              <a:off x="3855240" y="2144880"/>
              <a:ext cx="150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.Vickers MMG               BR-5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01920" y="2203560"/>
              <a:ext cx="238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43000" y="1352520"/>
              <a:ext cx="1491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LMG                             BR-5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"/>
            <p:cNvGrpSpPr/>
            <p:nvPr/>
          </p:nvGrpSpPr>
          <p:grpSpPr>
            <a:xfrm>
              <a:off x="3503520" y="1305000"/>
              <a:ext cx="231840" cy="204480"/>
              <a:chOff x="3503520" y="1305000"/>
              <a:chExt cx="231840" cy="204480"/>
            </a:xfrm>
          </p:grpSpPr>
          <p:grpSp>
            <p:nvGrpSpPr>
              <p:cNvPr id="1554" name=""/>
              <p:cNvGrpSpPr/>
              <p:nvPr/>
            </p:nvGrpSpPr>
            <p:grpSpPr>
              <a:xfrm>
                <a:off x="3584520" y="1305000"/>
                <a:ext cx="74160" cy="27000"/>
                <a:chOff x="3584520" y="1305000"/>
                <a:chExt cx="74160" cy="2700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584520" y="1305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3632040" y="13050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7" name=""/>
              <p:cNvSpPr/>
              <p:nvPr/>
            </p:nvSpPr>
            <p:spPr>
              <a:xfrm>
                <a:off x="3503520" y="13525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03520" y="1352520"/>
                <a:ext cx="55800" cy="155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3503520" y="1355400"/>
                <a:ext cx="22860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505320" y="1352520"/>
                <a:ext cx="226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3314880" y="1428840"/>
              <a:ext cx="26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51280" y="1546200"/>
              <a:ext cx="19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rganic Fire Support                              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60mm  Mortar               US-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311640" y="1708200"/>
              <a:ext cx="23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3498840" y="1584360"/>
              <a:ext cx="239760" cy="204840"/>
              <a:chOff x="3498840" y="1584360"/>
              <a:chExt cx="239760" cy="204840"/>
            </a:xfrm>
          </p:grpSpPr>
          <p:grpSp>
            <p:nvGrpSpPr>
              <p:cNvPr id="1565" name=""/>
              <p:cNvGrpSpPr/>
              <p:nvPr/>
            </p:nvGrpSpPr>
            <p:grpSpPr>
              <a:xfrm>
                <a:off x="3498840" y="1631880"/>
                <a:ext cx="239760" cy="157320"/>
                <a:chOff x="3498840" y="1631880"/>
                <a:chExt cx="239760" cy="15732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3498840" y="1631880"/>
                  <a:ext cx="23976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>
                  <a:off x="3619440" y="165312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3583440" y="175680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3584880" y="1584360"/>
                <a:ext cx="74160" cy="27000"/>
                <a:chOff x="3584880" y="1584360"/>
                <a:chExt cx="74160" cy="2700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3584880" y="15843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3632400" y="15843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2" name=""/>
          <p:cNvSpPr/>
          <p:nvPr/>
        </p:nvSpPr>
        <p:spPr>
          <a:xfrm>
            <a:off x="3889440" y="3841920"/>
            <a:ext cx="20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rganic Fire Support                               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h Mortar                BR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587760" y="42195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355920" y="3470400"/>
            <a:ext cx="23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352680" y="2994120"/>
            <a:ext cx="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362400" y="3228840"/>
            <a:ext cx="23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3549600" y="3105000"/>
            <a:ext cx="231840" cy="204840"/>
            <a:chOff x="3549600" y="3105000"/>
            <a:chExt cx="231840" cy="204840"/>
          </a:xfrm>
        </p:grpSpPr>
        <p:grpSp>
          <p:nvGrpSpPr>
            <p:cNvPr id="1578" name=""/>
            <p:cNvGrpSpPr/>
            <p:nvPr/>
          </p:nvGrpSpPr>
          <p:grpSpPr>
            <a:xfrm>
              <a:off x="3625920" y="3105000"/>
              <a:ext cx="74160" cy="27000"/>
              <a:chOff x="3625920" y="3105000"/>
              <a:chExt cx="74160" cy="27000"/>
            </a:xfrm>
          </p:grpSpPr>
          <p:sp>
            <p:nvSpPr>
              <p:cNvPr id="1579" name=""/>
              <p:cNvSpPr/>
              <p:nvPr/>
            </p:nvSpPr>
            <p:spPr>
              <a:xfrm>
                <a:off x="3625920" y="3105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3440" y="31050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3549600" y="3152520"/>
              <a:ext cx="231840" cy="157320"/>
              <a:chOff x="3549600" y="3152520"/>
              <a:chExt cx="231840" cy="157320"/>
            </a:xfrm>
          </p:grpSpPr>
          <p:sp>
            <p:nvSpPr>
              <p:cNvPr id="1582" name=""/>
              <p:cNvSpPr/>
              <p:nvPr/>
            </p:nvSpPr>
            <p:spPr>
              <a:xfrm>
                <a:off x="3549600" y="315252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573360" y="3174840"/>
                <a:ext cx="184320" cy="11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3876840" y="3057480"/>
            <a:ext cx="154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tisan Commander    GN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857760" y="2867040"/>
            <a:ext cx="16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TP-ME04 Italian Compan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3200400" y="2806560"/>
            <a:ext cx="304920" cy="286920"/>
            <a:chOff x="3200400" y="2806560"/>
            <a:chExt cx="304920" cy="286920"/>
          </a:xfrm>
        </p:grpSpPr>
        <p:grpSp>
          <p:nvGrpSpPr>
            <p:cNvPr id="1587" name=""/>
            <p:cNvGrpSpPr/>
            <p:nvPr/>
          </p:nvGrpSpPr>
          <p:grpSpPr>
            <a:xfrm>
              <a:off x="3200400" y="2866680"/>
              <a:ext cx="304920" cy="226800"/>
              <a:chOff x="3200400" y="2866680"/>
              <a:chExt cx="304920" cy="226800"/>
            </a:xfrm>
          </p:grpSpPr>
          <p:sp>
            <p:nvSpPr>
              <p:cNvPr id="1588" name=""/>
              <p:cNvSpPr/>
              <p:nvPr/>
            </p:nvSpPr>
            <p:spPr>
              <a:xfrm>
                <a:off x="3200400" y="2866680"/>
                <a:ext cx="304920" cy="22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3203280" y="2869920"/>
                <a:ext cx="29700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200400" y="2869920"/>
                <a:ext cx="303480" cy="2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3353040" y="2806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3549600" y="3352680"/>
            <a:ext cx="231840" cy="199800"/>
            <a:chOff x="3549600" y="3352680"/>
            <a:chExt cx="231840" cy="199800"/>
          </a:xfrm>
        </p:grpSpPr>
        <p:grpSp>
          <p:nvGrpSpPr>
            <p:cNvPr id="1593" name=""/>
            <p:cNvGrpSpPr/>
            <p:nvPr/>
          </p:nvGrpSpPr>
          <p:grpSpPr>
            <a:xfrm>
              <a:off x="3549600" y="3395520"/>
              <a:ext cx="231840" cy="156960"/>
              <a:chOff x="3549600" y="3395520"/>
              <a:chExt cx="231840" cy="156960"/>
            </a:xfrm>
          </p:grpSpPr>
          <p:sp>
            <p:nvSpPr>
              <p:cNvPr id="1594" name=""/>
              <p:cNvSpPr/>
              <p:nvPr/>
            </p:nvSpPr>
            <p:spPr>
              <a:xfrm>
                <a:off x="3549600" y="33955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551400" y="3398760"/>
                <a:ext cx="22860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557520" y="3401640"/>
                <a:ext cx="21780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3627360" y="3352680"/>
              <a:ext cx="74880" cy="27000"/>
              <a:chOff x="3627360" y="3352680"/>
              <a:chExt cx="74880" cy="27000"/>
            </a:xfrm>
          </p:grpSpPr>
          <p:sp>
            <p:nvSpPr>
              <p:cNvPr id="1598" name=""/>
              <p:cNvSpPr/>
              <p:nvPr/>
            </p:nvSpPr>
            <p:spPr>
              <a:xfrm>
                <a:off x="3627360" y="33526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75240" y="3352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0" name=""/>
          <p:cNvSpPr/>
          <p:nvPr/>
        </p:nvSpPr>
        <p:spPr>
          <a:xfrm>
            <a:off x="3889080" y="3406680"/>
            <a:ext cx="160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tisan Infantry (SMG) GN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349800" y="3956040"/>
            <a:ext cx="23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3549600" y="4343400"/>
            <a:ext cx="231840" cy="231480"/>
            <a:chOff x="3549600" y="4343400"/>
            <a:chExt cx="231840" cy="231480"/>
          </a:xfrm>
        </p:grpSpPr>
        <p:grpSp>
          <p:nvGrpSpPr>
            <p:cNvPr id="1603" name=""/>
            <p:cNvGrpSpPr/>
            <p:nvPr/>
          </p:nvGrpSpPr>
          <p:grpSpPr>
            <a:xfrm>
              <a:off x="3617640" y="4343400"/>
              <a:ext cx="81000" cy="27000"/>
              <a:chOff x="3617640" y="4343400"/>
              <a:chExt cx="81000" cy="27000"/>
            </a:xfrm>
          </p:grpSpPr>
          <p:sp>
            <p:nvSpPr>
              <p:cNvPr id="1604" name=""/>
              <p:cNvSpPr/>
              <p:nvPr/>
            </p:nvSpPr>
            <p:spPr>
              <a:xfrm>
                <a:off x="3617640" y="4343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670200" y="4343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3549600" y="4381200"/>
              <a:ext cx="231840" cy="193680"/>
              <a:chOff x="3549600" y="4381200"/>
              <a:chExt cx="231840" cy="193680"/>
            </a:xfrm>
          </p:grpSpPr>
          <p:sp>
            <p:nvSpPr>
              <p:cNvPr id="1607" name=""/>
              <p:cNvSpPr/>
              <p:nvPr/>
            </p:nvSpPr>
            <p:spPr>
              <a:xfrm>
                <a:off x="3549600" y="438120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3549600" y="4542480"/>
                <a:ext cx="208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70480" y="4542840"/>
                <a:ext cx="190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V="1">
                <a:off x="3738600" y="4542480"/>
                <a:ext cx="2052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759120" y="4542840"/>
                <a:ext cx="190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2" name=""/>
          <p:cNvSpPr/>
          <p:nvPr/>
        </p:nvSpPr>
        <p:spPr>
          <a:xfrm>
            <a:off x="3858840" y="4286160"/>
            <a:ext cx="166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ck Mules                   GN-02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3546360" y="3832200"/>
            <a:ext cx="239760" cy="204840"/>
            <a:chOff x="3546360" y="3832200"/>
            <a:chExt cx="239760" cy="204840"/>
          </a:xfrm>
        </p:grpSpPr>
        <p:grpSp>
          <p:nvGrpSpPr>
            <p:cNvPr id="1614" name=""/>
            <p:cNvGrpSpPr/>
            <p:nvPr/>
          </p:nvGrpSpPr>
          <p:grpSpPr>
            <a:xfrm>
              <a:off x="3546360" y="3879720"/>
              <a:ext cx="239760" cy="157320"/>
              <a:chOff x="3546360" y="3879720"/>
              <a:chExt cx="239760" cy="157320"/>
            </a:xfrm>
          </p:grpSpPr>
          <p:sp>
            <p:nvSpPr>
              <p:cNvPr id="1615" name=""/>
              <p:cNvSpPr/>
              <p:nvPr/>
            </p:nvSpPr>
            <p:spPr>
              <a:xfrm>
                <a:off x="3546360" y="3879720"/>
                <a:ext cx="2397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>
                <a:off x="3666960" y="390096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630960" y="400464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3632400" y="3832200"/>
              <a:ext cx="74160" cy="27000"/>
              <a:chOff x="3632400" y="3832200"/>
              <a:chExt cx="74160" cy="27000"/>
            </a:xfrm>
          </p:grpSpPr>
          <p:sp>
            <p:nvSpPr>
              <p:cNvPr id="1619" name=""/>
              <p:cNvSpPr/>
              <p:nvPr/>
            </p:nvSpPr>
            <p:spPr>
              <a:xfrm>
                <a:off x="3632400" y="3832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79920" y="38322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3549600" y="4097160"/>
            <a:ext cx="231840" cy="195480"/>
            <a:chOff x="3549600" y="4097160"/>
            <a:chExt cx="231840" cy="195480"/>
          </a:xfrm>
        </p:grpSpPr>
        <p:grpSp>
          <p:nvGrpSpPr>
            <p:cNvPr id="1622" name=""/>
            <p:cNvGrpSpPr/>
            <p:nvPr/>
          </p:nvGrpSpPr>
          <p:grpSpPr>
            <a:xfrm>
              <a:off x="3620880" y="4097160"/>
              <a:ext cx="74880" cy="27000"/>
              <a:chOff x="3620880" y="4097160"/>
              <a:chExt cx="74880" cy="270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620880" y="40971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668760" y="4097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549600" y="4135320"/>
              <a:ext cx="231840" cy="157320"/>
              <a:chOff x="3549600" y="4135320"/>
              <a:chExt cx="231840" cy="157320"/>
            </a:xfrm>
          </p:grpSpPr>
          <p:sp>
            <p:nvSpPr>
              <p:cNvPr id="1626" name=""/>
              <p:cNvSpPr/>
              <p:nvPr/>
            </p:nvSpPr>
            <p:spPr>
              <a:xfrm>
                <a:off x="3549600" y="413532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549600" y="4135320"/>
                <a:ext cx="55800" cy="155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>
                <a:off x="3549600" y="4138200"/>
                <a:ext cx="228600" cy="15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560760" y="4141800"/>
                <a:ext cx="21744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0" name=""/>
          <p:cNvSpPr/>
          <p:nvPr/>
        </p:nvSpPr>
        <p:spPr>
          <a:xfrm>
            <a:off x="3904920" y="4154400"/>
            <a:ext cx="147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.50cal MG                   BR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349800" y="4213080"/>
            <a:ext cx="23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898800" y="3556080"/>
            <a:ext cx="197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rganic Fire Support                              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2”  Mortar                     BR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359160" y="3718080"/>
            <a:ext cx="23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3546360" y="3594240"/>
            <a:ext cx="239760" cy="204120"/>
            <a:chOff x="3546360" y="3594240"/>
            <a:chExt cx="239760" cy="204120"/>
          </a:xfrm>
        </p:grpSpPr>
        <p:grpSp>
          <p:nvGrpSpPr>
            <p:cNvPr id="1635" name=""/>
            <p:cNvGrpSpPr/>
            <p:nvPr/>
          </p:nvGrpSpPr>
          <p:grpSpPr>
            <a:xfrm>
              <a:off x="3546360" y="3641400"/>
              <a:ext cx="239760" cy="156960"/>
              <a:chOff x="3546360" y="3641400"/>
              <a:chExt cx="239760" cy="156960"/>
            </a:xfrm>
          </p:grpSpPr>
          <p:sp>
            <p:nvSpPr>
              <p:cNvPr id="1636" name=""/>
              <p:cNvSpPr/>
              <p:nvPr/>
            </p:nvSpPr>
            <p:spPr>
              <a:xfrm>
                <a:off x="3546360" y="364140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H="1">
                <a:off x="3666960" y="366264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630960" y="376632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3632400" y="3594240"/>
              <a:ext cx="74160" cy="26640"/>
              <a:chOff x="3632400" y="3594240"/>
              <a:chExt cx="74160" cy="26640"/>
            </a:xfrm>
          </p:grpSpPr>
          <p:sp>
            <p:nvSpPr>
              <p:cNvPr id="1640" name=""/>
              <p:cNvSpPr/>
              <p:nvPr/>
            </p:nvSpPr>
            <p:spPr>
              <a:xfrm>
                <a:off x="3632400" y="35942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79920" y="35942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822960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AS Regiment (SEP-DEC4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2533680" y="673200"/>
            <a:ext cx="1933560" cy="1059840"/>
            <a:chOff x="2533680" y="673200"/>
            <a:chExt cx="1933560" cy="1059840"/>
          </a:xfrm>
        </p:grpSpPr>
        <p:sp>
          <p:nvSpPr>
            <p:cNvPr id="1644" name=""/>
            <p:cNvSpPr/>
            <p:nvPr/>
          </p:nvSpPr>
          <p:spPr>
            <a:xfrm>
              <a:off x="2871720" y="1068120"/>
              <a:ext cx="0" cy="57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5" name=""/>
            <p:cNvGrpSpPr/>
            <p:nvPr/>
          </p:nvGrpSpPr>
          <p:grpSpPr>
            <a:xfrm>
              <a:off x="2827440" y="1209600"/>
              <a:ext cx="239400" cy="203760"/>
              <a:chOff x="2827440" y="1209600"/>
              <a:chExt cx="239400" cy="203760"/>
            </a:xfrm>
          </p:grpSpPr>
          <p:grpSp>
            <p:nvGrpSpPr>
              <p:cNvPr id="1646" name=""/>
              <p:cNvGrpSpPr/>
              <p:nvPr/>
            </p:nvGrpSpPr>
            <p:grpSpPr>
              <a:xfrm>
                <a:off x="2827440" y="1256760"/>
                <a:ext cx="239400" cy="156600"/>
                <a:chOff x="2827440" y="1256760"/>
                <a:chExt cx="239400" cy="15660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2827440" y="1256760"/>
                  <a:ext cx="239400" cy="1566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>
                  <a:off x="2947680" y="1278000"/>
                  <a:ext cx="2160" cy="100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2911680" y="138132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2913120" y="1209600"/>
                <a:ext cx="73800" cy="26640"/>
                <a:chOff x="2913120" y="1209600"/>
                <a:chExt cx="73800" cy="26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2913120" y="12096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2960280" y="12096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3" name=""/>
            <p:cNvSpPr/>
            <p:nvPr/>
          </p:nvSpPr>
          <p:spPr>
            <a:xfrm>
              <a:off x="2685960" y="819000"/>
              <a:ext cx="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4" name=""/>
            <p:cNvGrpSpPr/>
            <p:nvPr/>
          </p:nvGrpSpPr>
          <p:grpSpPr>
            <a:xfrm>
              <a:off x="2533680" y="673200"/>
              <a:ext cx="304560" cy="277200"/>
              <a:chOff x="2533680" y="673200"/>
              <a:chExt cx="304560" cy="277200"/>
            </a:xfrm>
          </p:grpSpPr>
          <p:grpSp>
            <p:nvGrpSpPr>
              <p:cNvPr id="1655" name=""/>
              <p:cNvGrpSpPr/>
              <p:nvPr/>
            </p:nvGrpSpPr>
            <p:grpSpPr>
              <a:xfrm>
                <a:off x="2533680" y="723960"/>
                <a:ext cx="304560" cy="226440"/>
                <a:chOff x="2533680" y="723960"/>
                <a:chExt cx="304560" cy="226440"/>
              </a:xfrm>
            </p:grpSpPr>
            <p:grpSp>
              <p:nvGrpSpPr>
                <p:cNvPr id="1656" name=""/>
                <p:cNvGrpSpPr/>
                <p:nvPr/>
              </p:nvGrpSpPr>
              <p:grpSpPr>
                <a:xfrm>
                  <a:off x="2533680" y="723960"/>
                  <a:ext cx="304560" cy="226440"/>
                  <a:chOff x="2533680" y="723960"/>
                  <a:chExt cx="304560" cy="226440"/>
                </a:xfrm>
              </p:grpSpPr>
              <p:sp>
                <p:nvSpPr>
                  <p:cNvPr id="1657" name=""/>
                  <p:cNvSpPr/>
                  <p:nvPr/>
                </p:nvSpPr>
                <p:spPr>
                  <a:xfrm>
                    <a:off x="2533680" y="723960"/>
                    <a:ext cx="30456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V="1">
                    <a:off x="2536560" y="726840"/>
                    <a:ext cx="29664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2533680" y="727200"/>
                    <a:ext cx="30312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0" name=""/>
                <p:cNvSpPr/>
                <p:nvPr/>
              </p:nvSpPr>
              <p:spPr>
                <a:xfrm>
                  <a:off x="2688840" y="7999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641320" y="766800"/>
                  <a:ext cx="1548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2657160" y="865080"/>
                  <a:ext cx="2340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717280" y="766800"/>
                  <a:ext cx="1404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>
                  <a:off x="2688840" y="865080"/>
                  <a:ext cx="2808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655720" y="866880"/>
                  <a:ext cx="6624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6" name=""/>
              <p:cNvGrpSpPr/>
              <p:nvPr/>
            </p:nvGrpSpPr>
            <p:grpSpPr>
              <a:xfrm>
                <a:off x="2626920" y="673200"/>
                <a:ext cx="116640" cy="23760"/>
                <a:chOff x="2626920" y="673200"/>
                <a:chExt cx="116640" cy="23760"/>
              </a:xfrm>
            </p:grpSpPr>
            <p:sp>
              <p:nvSpPr>
                <p:cNvPr id="1667" name=""/>
                <p:cNvSpPr/>
                <p:nvPr/>
              </p:nvSpPr>
              <p:spPr>
                <a:xfrm>
                  <a:off x="2626920" y="67320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2671920" y="673200"/>
                  <a:ext cx="2520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719800" y="67320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0" name=""/>
            <p:cNvSpPr/>
            <p:nvPr/>
          </p:nvSpPr>
          <p:spPr>
            <a:xfrm>
              <a:off x="2924280" y="771480"/>
              <a:ext cx="154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SAS Troop (British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685960" y="10807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142800" y="1457280"/>
              <a:ext cx="112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SAS Jeep      BR-P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169440" y="1009440"/>
              <a:ext cx="1085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LMG               BR-5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2832120" y="1495080"/>
              <a:ext cx="231840" cy="237960"/>
              <a:chOff x="2832120" y="1495080"/>
              <a:chExt cx="231840" cy="237960"/>
            </a:xfrm>
          </p:grpSpPr>
          <p:grpSp>
            <p:nvGrpSpPr>
              <p:cNvPr id="1675" name=""/>
              <p:cNvGrpSpPr/>
              <p:nvPr/>
            </p:nvGrpSpPr>
            <p:grpSpPr>
              <a:xfrm>
                <a:off x="2832120" y="1542600"/>
                <a:ext cx="231840" cy="190440"/>
                <a:chOff x="2832120" y="1542600"/>
                <a:chExt cx="231840" cy="19044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832120" y="1542600"/>
                  <a:ext cx="23184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2843280" y="17060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024000" y="170604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9" name=""/>
              <p:cNvGrpSpPr/>
              <p:nvPr/>
            </p:nvGrpSpPr>
            <p:grpSpPr>
              <a:xfrm>
                <a:off x="2911320" y="1495080"/>
                <a:ext cx="74880" cy="27000"/>
                <a:chOff x="2911320" y="1495080"/>
                <a:chExt cx="74880" cy="27000"/>
              </a:xfrm>
            </p:grpSpPr>
            <p:sp>
              <p:nvSpPr>
                <p:cNvPr id="1680" name=""/>
                <p:cNvSpPr/>
                <p:nvPr/>
              </p:nvSpPr>
              <p:spPr>
                <a:xfrm>
                  <a:off x="2911320" y="149508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2959200" y="14950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2" name=""/>
            <p:cNvSpPr/>
            <p:nvPr/>
          </p:nvSpPr>
          <p:spPr>
            <a:xfrm>
              <a:off x="3161160" y="1257120"/>
              <a:ext cx="1075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” Mortar        BR-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2832120" y="961920"/>
              <a:ext cx="231480" cy="204120"/>
              <a:chOff x="2832120" y="961920"/>
              <a:chExt cx="231480" cy="204120"/>
            </a:xfrm>
          </p:grpSpPr>
          <p:grpSp>
            <p:nvGrpSpPr>
              <p:cNvPr id="1684" name=""/>
              <p:cNvGrpSpPr/>
              <p:nvPr/>
            </p:nvGrpSpPr>
            <p:grpSpPr>
              <a:xfrm>
                <a:off x="2912760" y="961920"/>
                <a:ext cx="74880" cy="26640"/>
                <a:chOff x="2912760" y="961920"/>
                <a:chExt cx="74880" cy="2664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2912760" y="96192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2960640" y="961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"/>
              <p:cNvGrpSpPr/>
              <p:nvPr/>
            </p:nvGrpSpPr>
            <p:grpSpPr>
              <a:xfrm>
                <a:off x="2832120" y="1009080"/>
                <a:ext cx="231480" cy="156960"/>
                <a:chOff x="2832120" y="1009080"/>
                <a:chExt cx="231480" cy="15696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2832120" y="1009080"/>
                  <a:ext cx="23148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832120" y="1009080"/>
                  <a:ext cx="55080" cy="155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2832120" y="1011960"/>
                  <a:ext cx="22824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833200" y="1009080"/>
                  <a:ext cx="2268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92" name=""/>
          <p:cNvGrpSpPr/>
          <p:nvPr/>
        </p:nvGrpSpPr>
        <p:grpSpPr>
          <a:xfrm>
            <a:off x="257040" y="533520"/>
            <a:ext cx="2691000" cy="1302480"/>
            <a:chOff x="257040" y="533520"/>
            <a:chExt cx="2691000" cy="1302480"/>
          </a:xfrm>
        </p:grpSpPr>
        <p:sp>
          <p:nvSpPr>
            <p:cNvPr id="1693" name=""/>
            <p:cNvSpPr/>
            <p:nvPr/>
          </p:nvSpPr>
          <p:spPr>
            <a:xfrm>
              <a:off x="399960" y="1733760"/>
              <a:ext cx="3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99960" y="733320"/>
              <a:ext cx="0" cy="100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257040" y="533520"/>
              <a:ext cx="304920" cy="293040"/>
              <a:chOff x="257040" y="533520"/>
              <a:chExt cx="304920" cy="293040"/>
            </a:xfrm>
          </p:grpSpPr>
          <p:grpSp>
            <p:nvGrpSpPr>
              <p:cNvPr id="1696" name=""/>
              <p:cNvGrpSpPr/>
              <p:nvPr/>
            </p:nvGrpSpPr>
            <p:grpSpPr>
              <a:xfrm>
                <a:off x="257040" y="600120"/>
                <a:ext cx="304920" cy="226440"/>
                <a:chOff x="257040" y="600120"/>
                <a:chExt cx="304920" cy="226440"/>
              </a:xfrm>
            </p:grpSpPr>
            <p:grpSp>
              <p:nvGrpSpPr>
                <p:cNvPr id="1697" name=""/>
                <p:cNvGrpSpPr/>
                <p:nvPr/>
              </p:nvGrpSpPr>
              <p:grpSpPr>
                <a:xfrm>
                  <a:off x="257040" y="600120"/>
                  <a:ext cx="304920" cy="226440"/>
                  <a:chOff x="257040" y="600120"/>
                  <a:chExt cx="304920" cy="226440"/>
                </a:xfrm>
              </p:grpSpPr>
              <p:sp>
                <p:nvSpPr>
                  <p:cNvPr id="1698" name=""/>
                  <p:cNvSpPr/>
                  <p:nvPr/>
                </p:nvSpPr>
                <p:spPr>
                  <a:xfrm>
                    <a:off x="257040" y="600120"/>
                    <a:ext cx="30492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 flipV="1">
                    <a:off x="259920" y="603000"/>
                    <a:ext cx="29700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257040" y="603360"/>
                    <a:ext cx="30348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1" name=""/>
                <p:cNvSpPr/>
                <p:nvPr/>
              </p:nvSpPr>
              <p:spPr>
                <a:xfrm>
                  <a:off x="412560" y="6760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65040" y="642960"/>
                  <a:ext cx="1584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80880" y="741240"/>
                  <a:ext cx="237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41000" y="642960"/>
                  <a:ext cx="1440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>
                  <a:off x="412200" y="741240"/>
                  <a:ext cx="2844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379440" y="743040"/>
                  <a:ext cx="6660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7" name=""/>
              <p:cNvSpPr/>
              <p:nvPr/>
            </p:nvSpPr>
            <p:spPr>
              <a:xfrm>
                <a:off x="409680" y="5335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8" name=""/>
            <p:cNvSpPr/>
            <p:nvPr/>
          </p:nvSpPr>
          <p:spPr>
            <a:xfrm>
              <a:off x="876240" y="581040"/>
              <a:ext cx="207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AS British Squadr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(all reco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54120" y="1038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0" name=""/>
            <p:cNvGrpSpPr/>
            <p:nvPr/>
          </p:nvGrpSpPr>
          <p:grpSpPr>
            <a:xfrm>
              <a:off x="399960" y="961920"/>
              <a:ext cx="1891800" cy="561600"/>
              <a:chOff x="399960" y="961920"/>
              <a:chExt cx="1891800" cy="561600"/>
            </a:xfrm>
          </p:grpSpPr>
          <p:sp>
            <p:nvSpPr>
              <p:cNvPr id="1711" name=""/>
              <p:cNvSpPr/>
              <p:nvPr/>
            </p:nvSpPr>
            <p:spPr>
              <a:xfrm>
                <a:off x="590400" y="116172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99960" y="11617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3" name=""/>
              <p:cNvGrpSpPr/>
              <p:nvPr/>
            </p:nvGrpSpPr>
            <p:grpSpPr>
              <a:xfrm>
                <a:off x="552240" y="1085400"/>
                <a:ext cx="231840" cy="156960"/>
                <a:chOff x="552240" y="1085400"/>
                <a:chExt cx="231840" cy="15696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552240" y="108540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576000" y="1107360"/>
                  <a:ext cx="184320" cy="110520"/>
                </a:xfrm>
                <a:prstGeom prst="rect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6" name=""/>
              <p:cNvSpPr/>
              <p:nvPr/>
            </p:nvSpPr>
            <p:spPr>
              <a:xfrm>
                <a:off x="874800" y="961920"/>
                <a:ext cx="1366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er             BR-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73360" y="1238040"/>
                <a:ext cx="1418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SAS Jeep </a:t>
                </a: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       BR-P6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561600" y="1285560"/>
                <a:ext cx="231840" cy="237960"/>
                <a:chOff x="561600" y="1285560"/>
                <a:chExt cx="231840" cy="237960"/>
              </a:xfrm>
            </p:grpSpPr>
            <p:grpSp>
              <p:nvGrpSpPr>
                <p:cNvPr id="1719" name=""/>
                <p:cNvGrpSpPr/>
                <p:nvPr/>
              </p:nvGrpSpPr>
              <p:grpSpPr>
                <a:xfrm>
                  <a:off x="561600" y="1333080"/>
                  <a:ext cx="231840" cy="190440"/>
                  <a:chOff x="561600" y="1333080"/>
                  <a:chExt cx="231840" cy="190440"/>
                </a:xfrm>
              </p:grpSpPr>
              <p:sp>
                <p:nvSpPr>
                  <p:cNvPr id="1720" name=""/>
                  <p:cNvSpPr/>
                  <p:nvPr/>
                </p:nvSpPr>
                <p:spPr>
                  <a:xfrm>
                    <a:off x="561600" y="1333080"/>
                    <a:ext cx="231840" cy="1573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572760" y="1496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753480" y="149652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3" name=""/>
                <p:cNvSpPr/>
                <p:nvPr/>
              </p:nvSpPr>
              <p:spPr>
                <a:xfrm>
                  <a:off x="663480" y="12855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24" name=""/>
            <p:cNvSpPr/>
            <p:nvPr/>
          </p:nvSpPr>
          <p:spPr>
            <a:xfrm>
              <a:off x="876240" y="838080"/>
              <a:ext cx="72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qn 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5" name=""/>
            <p:cNvGrpSpPr/>
            <p:nvPr/>
          </p:nvGrpSpPr>
          <p:grpSpPr>
            <a:xfrm>
              <a:off x="523800" y="1558800"/>
              <a:ext cx="304920" cy="277200"/>
              <a:chOff x="523800" y="1558800"/>
              <a:chExt cx="304920" cy="27720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523800" y="1609560"/>
                <a:ext cx="304920" cy="226440"/>
                <a:chOff x="523800" y="1609560"/>
                <a:chExt cx="304920" cy="226440"/>
              </a:xfrm>
            </p:grpSpPr>
            <p:grpSp>
              <p:nvGrpSpPr>
                <p:cNvPr id="1727" name=""/>
                <p:cNvGrpSpPr/>
                <p:nvPr/>
              </p:nvGrpSpPr>
              <p:grpSpPr>
                <a:xfrm>
                  <a:off x="523800" y="1609560"/>
                  <a:ext cx="304920" cy="226440"/>
                  <a:chOff x="523800" y="1609560"/>
                  <a:chExt cx="304920" cy="226440"/>
                </a:xfrm>
              </p:grpSpPr>
              <p:sp>
                <p:nvSpPr>
                  <p:cNvPr id="1728" name=""/>
                  <p:cNvSpPr/>
                  <p:nvPr/>
                </p:nvSpPr>
                <p:spPr>
                  <a:xfrm>
                    <a:off x="523800" y="1609560"/>
                    <a:ext cx="30492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V="1">
                    <a:off x="526680" y="1612440"/>
                    <a:ext cx="29700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523800" y="1612800"/>
                    <a:ext cx="30348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1" name=""/>
                <p:cNvSpPr/>
                <p:nvPr/>
              </p:nvSpPr>
              <p:spPr>
                <a:xfrm>
                  <a:off x="679320" y="16855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631800" y="1652400"/>
                  <a:ext cx="1584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647640" y="1750680"/>
                  <a:ext cx="237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707760" y="1652400"/>
                  <a:ext cx="1440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>
                  <a:off x="678960" y="1750680"/>
                  <a:ext cx="2844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646200" y="1752480"/>
                  <a:ext cx="6660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7" name=""/>
              <p:cNvGrpSpPr/>
              <p:nvPr/>
            </p:nvGrpSpPr>
            <p:grpSpPr>
              <a:xfrm>
                <a:off x="620640" y="1558800"/>
                <a:ext cx="117720" cy="23760"/>
                <a:chOff x="620640" y="1558800"/>
                <a:chExt cx="117720" cy="2376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620640" y="1558800"/>
                  <a:ext cx="2412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6000" y="1558800"/>
                  <a:ext cx="2520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14240" y="1558800"/>
                  <a:ext cx="2412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1" name=""/>
            <p:cNvSpPr/>
            <p:nvPr/>
          </p:nvSpPr>
          <p:spPr>
            <a:xfrm>
              <a:off x="914400" y="1647720"/>
              <a:ext cx="129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1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SAS Troop (British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276120" y="2076480"/>
            <a:ext cx="2690640" cy="1302120"/>
            <a:chOff x="276120" y="2076480"/>
            <a:chExt cx="2690640" cy="1302120"/>
          </a:xfrm>
        </p:grpSpPr>
        <p:sp>
          <p:nvSpPr>
            <p:cNvPr id="1743" name=""/>
            <p:cNvSpPr/>
            <p:nvPr/>
          </p:nvSpPr>
          <p:spPr>
            <a:xfrm>
              <a:off x="419040" y="3276360"/>
              <a:ext cx="3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9040" y="2276280"/>
              <a:ext cx="0" cy="99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"/>
            <p:cNvGrpSpPr/>
            <p:nvPr/>
          </p:nvGrpSpPr>
          <p:grpSpPr>
            <a:xfrm>
              <a:off x="276120" y="2076480"/>
              <a:ext cx="304560" cy="292680"/>
              <a:chOff x="276120" y="2076480"/>
              <a:chExt cx="304560" cy="292680"/>
            </a:xfrm>
          </p:grpSpPr>
          <p:grpSp>
            <p:nvGrpSpPr>
              <p:cNvPr id="1746" name=""/>
              <p:cNvGrpSpPr/>
              <p:nvPr/>
            </p:nvGrpSpPr>
            <p:grpSpPr>
              <a:xfrm>
                <a:off x="276120" y="2142720"/>
                <a:ext cx="304560" cy="226440"/>
                <a:chOff x="276120" y="2142720"/>
                <a:chExt cx="304560" cy="226440"/>
              </a:xfrm>
            </p:grpSpPr>
            <p:grpSp>
              <p:nvGrpSpPr>
                <p:cNvPr id="1747" name=""/>
                <p:cNvGrpSpPr/>
                <p:nvPr/>
              </p:nvGrpSpPr>
              <p:grpSpPr>
                <a:xfrm>
                  <a:off x="276120" y="2142720"/>
                  <a:ext cx="304560" cy="226440"/>
                  <a:chOff x="276120" y="2142720"/>
                  <a:chExt cx="304560" cy="226440"/>
                </a:xfrm>
              </p:grpSpPr>
              <p:sp>
                <p:nvSpPr>
                  <p:cNvPr id="1748" name=""/>
                  <p:cNvSpPr/>
                  <p:nvPr/>
                </p:nvSpPr>
                <p:spPr>
                  <a:xfrm>
                    <a:off x="276120" y="2142720"/>
                    <a:ext cx="30456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 flipV="1">
                    <a:off x="279000" y="2145600"/>
                    <a:ext cx="29664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276120" y="2145960"/>
                    <a:ext cx="30312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1" name=""/>
                <p:cNvSpPr/>
                <p:nvPr/>
              </p:nvSpPr>
              <p:spPr>
                <a:xfrm>
                  <a:off x="431280" y="22186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83760" y="2185560"/>
                  <a:ext cx="1548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99600" y="2283840"/>
                  <a:ext cx="2340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459720" y="2185560"/>
                  <a:ext cx="1404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>
                  <a:off x="431280" y="2283840"/>
                  <a:ext cx="2808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398160" y="2285640"/>
                  <a:ext cx="6624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7" name=""/>
              <p:cNvSpPr/>
              <p:nvPr/>
            </p:nvSpPr>
            <p:spPr>
              <a:xfrm>
                <a:off x="428400" y="2076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8" name=""/>
            <p:cNvSpPr/>
            <p:nvPr/>
          </p:nvSpPr>
          <p:spPr>
            <a:xfrm>
              <a:off x="894960" y="2124000"/>
              <a:ext cx="207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AS French Squadr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(all reco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72840" y="25812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0" name=""/>
            <p:cNvGrpSpPr/>
            <p:nvPr/>
          </p:nvGrpSpPr>
          <p:grpSpPr>
            <a:xfrm>
              <a:off x="419040" y="2504880"/>
              <a:ext cx="1891800" cy="561240"/>
              <a:chOff x="419040" y="2504880"/>
              <a:chExt cx="1891800" cy="561240"/>
            </a:xfrm>
          </p:grpSpPr>
          <p:sp>
            <p:nvSpPr>
              <p:cNvPr id="1761" name=""/>
              <p:cNvSpPr/>
              <p:nvPr/>
            </p:nvSpPr>
            <p:spPr>
              <a:xfrm>
                <a:off x="609480" y="270468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19040" y="27046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3" name=""/>
              <p:cNvGrpSpPr/>
              <p:nvPr/>
            </p:nvGrpSpPr>
            <p:grpSpPr>
              <a:xfrm>
                <a:off x="571320" y="2628360"/>
                <a:ext cx="231840" cy="156960"/>
                <a:chOff x="571320" y="2628360"/>
                <a:chExt cx="231840" cy="1569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571320" y="2628360"/>
                  <a:ext cx="23184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95080" y="2650320"/>
                  <a:ext cx="184320" cy="110520"/>
                </a:xfrm>
                <a:prstGeom prst="rect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6" name=""/>
              <p:cNvSpPr/>
              <p:nvPr/>
            </p:nvSpPr>
            <p:spPr>
              <a:xfrm>
                <a:off x="893880" y="2504880"/>
                <a:ext cx="1366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ommander             BR-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892440" y="2781000"/>
                <a:ext cx="1418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SAS Jeep </a:t>
                </a: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       BR-P6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8" name=""/>
              <p:cNvGrpSpPr/>
              <p:nvPr/>
            </p:nvGrpSpPr>
            <p:grpSpPr>
              <a:xfrm>
                <a:off x="580680" y="2828160"/>
                <a:ext cx="231840" cy="237960"/>
                <a:chOff x="580680" y="2828160"/>
                <a:chExt cx="231840" cy="237960"/>
              </a:xfrm>
            </p:grpSpPr>
            <p:grpSp>
              <p:nvGrpSpPr>
                <p:cNvPr id="1769" name=""/>
                <p:cNvGrpSpPr/>
                <p:nvPr/>
              </p:nvGrpSpPr>
              <p:grpSpPr>
                <a:xfrm>
                  <a:off x="580680" y="2875680"/>
                  <a:ext cx="231840" cy="190440"/>
                  <a:chOff x="580680" y="2875680"/>
                  <a:chExt cx="231840" cy="19044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580680" y="2875680"/>
                    <a:ext cx="231840" cy="15732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591840" y="30391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772560" y="303912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3" name=""/>
                <p:cNvSpPr/>
                <p:nvPr/>
              </p:nvSpPr>
              <p:spPr>
                <a:xfrm>
                  <a:off x="682560" y="2828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4" name=""/>
            <p:cNvSpPr/>
            <p:nvPr/>
          </p:nvSpPr>
          <p:spPr>
            <a:xfrm>
              <a:off x="894960" y="2381040"/>
              <a:ext cx="72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qn H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542880" y="3101760"/>
              <a:ext cx="304560" cy="276840"/>
              <a:chOff x="542880" y="3101760"/>
              <a:chExt cx="304560" cy="276840"/>
            </a:xfrm>
          </p:grpSpPr>
          <p:grpSp>
            <p:nvGrpSpPr>
              <p:cNvPr id="1776" name=""/>
              <p:cNvGrpSpPr/>
              <p:nvPr/>
            </p:nvGrpSpPr>
            <p:grpSpPr>
              <a:xfrm>
                <a:off x="542880" y="3152160"/>
                <a:ext cx="304560" cy="226440"/>
                <a:chOff x="542880" y="3152160"/>
                <a:chExt cx="304560" cy="226440"/>
              </a:xfrm>
            </p:grpSpPr>
            <p:grpSp>
              <p:nvGrpSpPr>
                <p:cNvPr id="1777" name=""/>
                <p:cNvGrpSpPr/>
                <p:nvPr/>
              </p:nvGrpSpPr>
              <p:grpSpPr>
                <a:xfrm>
                  <a:off x="542880" y="3152160"/>
                  <a:ext cx="304560" cy="226440"/>
                  <a:chOff x="542880" y="3152160"/>
                  <a:chExt cx="304560" cy="226440"/>
                </a:xfrm>
              </p:grpSpPr>
              <p:sp>
                <p:nvSpPr>
                  <p:cNvPr id="1778" name=""/>
                  <p:cNvSpPr/>
                  <p:nvPr/>
                </p:nvSpPr>
                <p:spPr>
                  <a:xfrm>
                    <a:off x="542880" y="3152160"/>
                    <a:ext cx="30456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 flipV="1">
                    <a:off x="545760" y="3155040"/>
                    <a:ext cx="29664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542880" y="3155400"/>
                    <a:ext cx="30312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1" name=""/>
                <p:cNvSpPr/>
                <p:nvPr/>
              </p:nvSpPr>
              <p:spPr>
                <a:xfrm>
                  <a:off x="698040" y="32281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50520" y="3195000"/>
                  <a:ext cx="1548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666360" y="3293280"/>
                  <a:ext cx="2340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26480" y="3195000"/>
                  <a:ext cx="1404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698040" y="3293280"/>
                  <a:ext cx="2808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664920" y="3295080"/>
                  <a:ext cx="6624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7" name=""/>
              <p:cNvGrpSpPr/>
              <p:nvPr/>
            </p:nvGrpSpPr>
            <p:grpSpPr>
              <a:xfrm>
                <a:off x="639360" y="3101760"/>
                <a:ext cx="117000" cy="23400"/>
                <a:chOff x="639360" y="3101760"/>
                <a:chExt cx="117000" cy="23400"/>
              </a:xfrm>
            </p:grpSpPr>
            <p:sp>
              <p:nvSpPr>
                <p:cNvPr id="1788" name=""/>
                <p:cNvSpPr/>
                <p:nvPr/>
              </p:nvSpPr>
              <p:spPr>
                <a:xfrm>
                  <a:off x="639360" y="3101760"/>
                  <a:ext cx="23760" cy="23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684360" y="3101760"/>
                  <a:ext cx="25200" cy="23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732600" y="3101760"/>
                  <a:ext cx="23760" cy="23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1" name=""/>
            <p:cNvSpPr/>
            <p:nvPr/>
          </p:nvSpPr>
          <p:spPr>
            <a:xfrm>
              <a:off x="933120" y="3190680"/>
              <a:ext cx="129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1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SAS Troop (French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2533680" y="2178000"/>
            <a:ext cx="1933560" cy="740880"/>
            <a:chOff x="2533680" y="2178000"/>
            <a:chExt cx="1933560" cy="740880"/>
          </a:xfrm>
        </p:grpSpPr>
        <p:sp>
          <p:nvSpPr>
            <p:cNvPr id="1793" name=""/>
            <p:cNvSpPr/>
            <p:nvPr/>
          </p:nvSpPr>
          <p:spPr>
            <a:xfrm>
              <a:off x="2886120" y="2581200"/>
              <a:ext cx="0" cy="2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4" name=""/>
            <p:cNvGrpSpPr/>
            <p:nvPr/>
          </p:nvGrpSpPr>
          <p:grpSpPr>
            <a:xfrm>
              <a:off x="2827440" y="2714760"/>
              <a:ext cx="239760" cy="204120"/>
              <a:chOff x="2827440" y="2714760"/>
              <a:chExt cx="239760" cy="204120"/>
            </a:xfrm>
          </p:grpSpPr>
          <p:grpSp>
            <p:nvGrpSpPr>
              <p:cNvPr id="1795" name=""/>
              <p:cNvGrpSpPr/>
              <p:nvPr/>
            </p:nvGrpSpPr>
            <p:grpSpPr>
              <a:xfrm>
                <a:off x="2827440" y="2761920"/>
                <a:ext cx="239760" cy="156960"/>
                <a:chOff x="2827440" y="2761920"/>
                <a:chExt cx="239760" cy="15696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2827440" y="2761920"/>
                  <a:ext cx="239760" cy="15696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2948040" y="2783160"/>
                  <a:ext cx="2160" cy="101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2912040" y="2886840"/>
                  <a:ext cx="6804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9" name=""/>
              <p:cNvGrpSpPr/>
              <p:nvPr/>
            </p:nvGrpSpPr>
            <p:grpSpPr>
              <a:xfrm>
                <a:off x="2913480" y="2714760"/>
                <a:ext cx="74160" cy="26640"/>
                <a:chOff x="2913480" y="2714760"/>
                <a:chExt cx="74160" cy="2664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2913480" y="27147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2961000" y="27147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2" name=""/>
            <p:cNvSpPr/>
            <p:nvPr/>
          </p:nvSpPr>
          <p:spPr>
            <a:xfrm>
              <a:off x="2685960" y="2324160"/>
              <a:ext cx="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3" name=""/>
            <p:cNvGrpSpPr/>
            <p:nvPr/>
          </p:nvGrpSpPr>
          <p:grpSpPr>
            <a:xfrm>
              <a:off x="2533680" y="2178000"/>
              <a:ext cx="304920" cy="277200"/>
              <a:chOff x="2533680" y="2178000"/>
              <a:chExt cx="304920" cy="277200"/>
            </a:xfrm>
          </p:grpSpPr>
          <p:grpSp>
            <p:nvGrpSpPr>
              <p:cNvPr id="1804" name=""/>
              <p:cNvGrpSpPr/>
              <p:nvPr/>
            </p:nvGrpSpPr>
            <p:grpSpPr>
              <a:xfrm>
                <a:off x="2533680" y="2228760"/>
                <a:ext cx="304920" cy="226440"/>
                <a:chOff x="2533680" y="2228760"/>
                <a:chExt cx="304920" cy="226440"/>
              </a:xfrm>
            </p:grpSpPr>
            <p:grpSp>
              <p:nvGrpSpPr>
                <p:cNvPr id="1805" name=""/>
                <p:cNvGrpSpPr/>
                <p:nvPr/>
              </p:nvGrpSpPr>
              <p:grpSpPr>
                <a:xfrm>
                  <a:off x="2533680" y="2228760"/>
                  <a:ext cx="304920" cy="226440"/>
                  <a:chOff x="2533680" y="2228760"/>
                  <a:chExt cx="304920" cy="226440"/>
                </a:xfrm>
              </p:grpSpPr>
              <p:sp>
                <p:nvSpPr>
                  <p:cNvPr id="1806" name=""/>
                  <p:cNvSpPr/>
                  <p:nvPr/>
                </p:nvSpPr>
                <p:spPr>
                  <a:xfrm>
                    <a:off x="2533680" y="2228760"/>
                    <a:ext cx="304920" cy="226440"/>
                  </a:xfrm>
                  <a:prstGeom prst="rect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 flipV="1">
                    <a:off x="2536560" y="2231640"/>
                    <a:ext cx="297000" cy="221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2533680" y="2232000"/>
                    <a:ext cx="30348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9" name=""/>
                <p:cNvSpPr/>
                <p:nvPr/>
              </p:nvSpPr>
              <p:spPr>
                <a:xfrm>
                  <a:off x="2689200" y="23047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2641680" y="2271600"/>
                  <a:ext cx="15840" cy="9216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0" y="0"/>
                      </a:moveTo>
                      <a:lnTo>
                        <a:pt x="9" y="17"/>
                      </a:lnTo>
                      <a:lnTo>
                        <a:pt x="10" y="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2657520" y="2369880"/>
                  <a:ext cx="2376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2717640" y="2271600"/>
                  <a:ext cx="14400" cy="98280"/>
                </a:xfrm>
                <a:custGeom>
                  <a:avLst/>
                  <a:gdLst/>
                  <a:ahLst/>
                  <a:rect l="l" t="t" r="r" b="b"/>
                  <a:pathLst>
                    <a:path w="9" h="62">
                      <a:moveTo>
                        <a:pt x="9" y="0"/>
                      </a:moveTo>
                      <a:lnTo>
                        <a:pt x="1" y="15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>
                  <a:off x="2688840" y="2369880"/>
                  <a:ext cx="2844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2656080" y="2371680"/>
                  <a:ext cx="6660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20" y="21"/>
                      </a:lnTo>
                      <a:lnTo>
                        <a:pt x="42" y="1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5" name=""/>
              <p:cNvGrpSpPr/>
              <p:nvPr/>
            </p:nvGrpSpPr>
            <p:grpSpPr>
              <a:xfrm>
                <a:off x="2627280" y="2178000"/>
                <a:ext cx="117000" cy="23760"/>
                <a:chOff x="2627280" y="2178000"/>
                <a:chExt cx="117000" cy="2376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2627280" y="217800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2672280" y="2178000"/>
                  <a:ext cx="2520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2720520" y="2178000"/>
                  <a:ext cx="237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9" name=""/>
            <p:cNvSpPr/>
            <p:nvPr/>
          </p:nvSpPr>
          <p:spPr>
            <a:xfrm>
              <a:off x="2924280" y="2276640"/>
              <a:ext cx="154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SAS Troop (French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685960" y="2585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169800" y="2514600"/>
              <a:ext cx="1085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LMG               BR-5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161160" y="2762280"/>
              <a:ext cx="1075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2” Mortar        BR-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2832120" y="2467080"/>
              <a:ext cx="231480" cy="204840"/>
              <a:chOff x="2832120" y="2467080"/>
              <a:chExt cx="231480" cy="204840"/>
            </a:xfrm>
          </p:grpSpPr>
          <p:grpSp>
            <p:nvGrpSpPr>
              <p:cNvPr id="1824" name=""/>
              <p:cNvGrpSpPr/>
              <p:nvPr/>
            </p:nvGrpSpPr>
            <p:grpSpPr>
              <a:xfrm>
                <a:off x="2912760" y="2467080"/>
                <a:ext cx="74880" cy="27000"/>
                <a:chOff x="2912760" y="2467080"/>
                <a:chExt cx="74880" cy="2700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2912760" y="246708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2960640" y="24670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2832120" y="2514600"/>
                <a:ext cx="231480" cy="157320"/>
                <a:chOff x="2832120" y="2514600"/>
                <a:chExt cx="231480" cy="15732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2832120" y="2514600"/>
                  <a:ext cx="231480" cy="1573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2832120" y="2514600"/>
                  <a:ext cx="55080" cy="155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V="1">
                  <a:off x="2832120" y="2517480"/>
                  <a:ext cx="228240" cy="15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2833200" y="2514600"/>
                  <a:ext cx="22680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2" name=""/>
          <p:cNvSpPr/>
          <p:nvPr/>
        </p:nvSpPr>
        <p:spPr>
          <a:xfrm>
            <a:off x="295200" y="3571920"/>
            <a:ext cx="415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aborne transport: 2x caiques, 1x Sch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9:48:13Z</dcterms:created>
  <dc:creator>James Baker</dc:creator>
  <dc:description/>
  <dc:language>en-US</dc:language>
  <cp:lastModifiedBy>James Baker</cp:lastModifiedBy>
  <dcterms:modified xsi:type="dcterms:W3CDTF">2005-09-13T09:24:08Z</dcterms:modified>
  <cp:revision>23</cp:revision>
  <dc:subject/>
  <dc:title>Slide 1</dc:title>
</cp:coreProperties>
</file>