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45A-5891-4BD1-B818-13185619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1E6-A874-424E-8B11-A255FF0D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DA0-E5D1-4E44-8D75-DA619F3F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846-FE49-438E-8474-84A37B12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A55-C2D5-4F71-A5F8-FC58D31D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770-743A-4C52-8445-AED48E9B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E7F-76E0-49CB-8E9E-E42DC38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48E-C23D-4A85-946A-CC367CF9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6AA-9C96-4838-A874-C47EF7A0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4AD-4355-4FD7-B759-0574E1C2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EF6-2C42-453D-8B42-5EFF8CF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9ED-86A4-48DA-9689-CE4B8AA0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E6E-C49D-4790-B74D-C5EA81761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240" y="0"/>
            <a:ext cx="66070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Airborne Organizations BG06-&gt;BG-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63960" y="1527120"/>
            <a:ext cx="17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24560" y="1978200"/>
            <a:ext cx="74520" cy="28080"/>
            <a:chOff x="4624560" y="1978200"/>
            <a:chExt cx="74520" cy="28080"/>
          </a:xfrm>
        </p:grpSpPr>
        <p:sp>
          <p:nvSpPr>
            <p:cNvPr id="44" name=""/>
            <p:cNvSpPr/>
            <p:nvPr/>
          </p:nvSpPr>
          <p:spPr>
            <a:xfrm>
              <a:off x="4624560" y="19782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2080" y="19796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267080" y="295200"/>
            <a:ext cx="2718000" cy="1907640"/>
            <a:chOff x="4267080" y="295200"/>
            <a:chExt cx="2718000" cy="1907640"/>
          </a:xfrm>
        </p:grpSpPr>
        <p:grpSp>
          <p:nvGrpSpPr>
            <p:cNvPr id="47" name=""/>
            <p:cNvGrpSpPr/>
            <p:nvPr/>
          </p:nvGrpSpPr>
          <p:grpSpPr>
            <a:xfrm>
              <a:off x="4267080" y="295200"/>
              <a:ext cx="2552760" cy="1801800"/>
              <a:chOff x="4267080" y="295200"/>
              <a:chExt cx="2552760" cy="1801800"/>
            </a:xfrm>
          </p:grpSpPr>
          <p:sp>
            <p:nvSpPr>
              <p:cNvPr id="48" name=""/>
              <p:cNvSpPr/>
              <p:nvPr/>
            </p:nvSpPr>
            <p:spPr>
              <a:xfrm>
                <a:off x="4324320" y="496800"/>
                <a:ext cx="0" cy="160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4267080" y="330120"/>
                <a:ext cx="346680" cy="294480"/>
                <a:chOff x="4267080" y="330120"/>
                <a:chExt cx="346680" cy="294480"/>
              </a:xfrm>
            </p:grpSpPr>
            <p:grpSp>
              <p:nvGrpSpPr>
                <p:cNvPr id="50" name=""/>
                <p:cNvGrpSpPr/>
                <p:nvPr/>
              </p:nvGrpSpPr>
              <p:grpSpPr>
                <a:xfrm>
                  <a:off x="4403520" y="330120"/>
                  <a:ext cx="76320" cy="63360"/>
                  <a:chOff x="4403520" y="330120"/>
                  <a:chExt cx="76320" cy="6336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4403520" y="330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4479840" y="330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4267080" y="388800"/>
                  <a:ext cx="346680" cy="235800"/>
                  <a:chOff x="4267080" y="388800"/>
                  <a:chExt cx="346680" cy="235800"/>
                </a:xfrm>
              </p:grpSpPr>
              <p:grpSp>
                <p:nvGrpSpPr>
                  <p:cNvPr id="54" name=""/>
                  <p:cNvGrpSpPr/>
                  <p:nvPr/>
                </p:nvGrpSpPr>
                <p:grpSpPr>
                  <a:xfrm>
                    <a:off x="4267080" y="388800"/>
                    <a:ext cx="346680" cy="235800"/>
                    <a:chOff x="4267080" y="388800"/>
                    <a:chExt cx="346680" cy="235800"/>
                  </a:xfrm>
                </p:grpSpPr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4267080" y="388800"/>
                      <a:ext cx="346680" cy="2358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 flipV="1">
                      <a:off x="4270680" y="392040"/>
                      <a:ext cx="338040" cy="23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4267080" y="392400"/>
                      <a:ext cx="345240" cy="225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" name=""/>
                  <p:cNvGrpSpPr/>
                  <p:nvPr/>
                </p:nvGrpSpPr>
                <p:grpSpPr>
                  <a:xfrm>
                    <a:off x="4383360" y="565200"/>
                    <a:ext cx="113760" cy="56520"/>
                    <a:chOff x="4383360" y="565200"/>
                    <a:chExt cx="113760" cy="56520"/>
                  </a:xfrm>
                </p:grpSpPr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4383360" y="565200"/>
                      <a:ext cx="54360" cy="54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4442760" y="567000"/>
                      <a:ext cx="54360" cy="54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1" name=""/>
              <p:cNvSpPr/>
              <p:nvPr/>
            </p:nvSpPr>
            <p:spPr>
              <a:xfrm>
                <a:off x="4844160" y="295200"/>
                <a:ext cx="1363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BATTLE GROUP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41640" y="468360"/>
                <a:ext cx="1978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arachute Infantry Battal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322880" y="1215720"/>
              <a:ext cx="2662200" cy="345600"/>
              <a:chOff x="4322880" y="1215720"/>
              <a:chExt cx="2662200" cy="345600"/>
            </a:xfrm>
          </p:grpSpPr>
          <p:sp>
            <p:nvSpPr>
              <p:cNvPr id="64" name=""/>
              <p:cNvSpPr/>
              <p:nvPr/>
            </p:nvSpPr>
            <p:spPr>
              <a:xfrm>
                <a:off x="4322880" y="1385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519440" y="1228320"/>
                <a:ext cx="283680" cy="263160"/>
                <a:chOff x="4519440" y="1228320"/>
                <a:chExt cx="283680" cy="26316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4519440" y="1298160"/>
                  <a:ext cx="283680" cy="193320"/>
                  <a:chOff x="4519440" y="1298160"/>
                  <a:chExt cx="283680" cy="193320"/>
                </a:xfrm>
              </p:grpSpPr>
              <p:grpSp>
                <p:nvGrpSpPr>
                  <p:cNvPr id="67" name=""/>
                  <p:cNvGrpSpPr/>
                  <p:nvPr/>
                </p:nvGrpSpPr>
                <p:grpSpPr>
                  <a:xfrm>
                    <a:off x="4519440" y="1298160"/>
                    <a:ext cx="283680" cy="193320"/>
                    <a:chOff x="4519440" y="1298160"/>
                    <a:chExt cx="283680" cy="193320"/>
                  </a:xfrm>
                </p:grpSpPr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4519440" y="1298160"/>
                      <a:ext cx="283680" cy="19332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 flipV="1">
                      <a:off x="4522320" y="1300680"/>
                      <a:ext cx="276120" cy="18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4519440" y="1301040"/>
                      <a:ext cx="28224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4614480" y="1442880"/>
                    <a:ext cx="92520" cy="46080"/>
                    <a:chOff x="4614480" y="1442880"/>
                    <a:chExt cx="92520" cy="4608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614480" y="1442880"/>
                      <a:ext cx="44280" cy="442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4662720" y="1444320"/>
                      <a:ext cx="44280" cy="4464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4" name=""/>
                <p:cNvSpPr/>
                <p:nvPr/>
              </p:nvSpPr>
              <p:spPr>
                <a:xfrm>
                  <a:off x="4662360" y="1228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4841640" y="1345680"/>
                <a:ext cx="214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Parachute Infantry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41640" y="121572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322880" y="679320"/>
              <a:ext cx="2381040" cy="507600"/>
              <a:chOff x="4322880" y="679320"/>
              <a:chExt cx="2381040" cy="507600"/>
            </a:xfrm>
          </p:grpSpPr>
          <p:sp>
            <p:nvSpPr>
              <p:cNvPr id="78" name=""/>
              <p:cNvSpPr/>
              <p:nvPr/>
            </p:nvSpPr>
            <p:spPr>
              <a:xfrm>
                <a:off x="4841640" y="67932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4322880" y="849240"/>
                <a:ext cx="2381040" cy="337680"/>
                <a:chOff x="4322880" y="849240"/>
                <a:chExt cx="2381040" cy="3376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322880" y="101916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4546440" y="895320"/>
                  <a:ext cx="231840" cy="207360"/>
                  <a:chOff x="4546440" y="895320"/>
                  <a:chExt cx="231840" cy="20736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4546440" y="945720"/>
                    <a:ext cx="231840" cy="156960"/>
                    <a:chOff x="4546440" y="945720"/>
                    <a:chExt cx="231840" cy="15696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46440" y="94572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4570200" y="967680"/>
                      <a:ext cx="184320" cy="11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4647960" y="895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4849920" y="849240"/>
                  <a:ext cx="1734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854600" y="971280"/>
                  <a:ext cx="1849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" name=""/>
            <p:cNvGrpSpPr/>
            <p:nvPr/>
          </p:nvGrpSpPr>
          <p:grpSpPr>
            <a:xfrm>
              <a:off x="4322880" y="1838160"/>
              <a:ext cx="2390760" cy="364680"/>
              <a:chOff x="4322880" y="1838160"/>
              <a:chExt cx="2390760" cy="364680"/>
            </a:xfrm>
          </p:grpSpPr>
          <p:sp>
            <p:nvSpPr>
              <p:cNvPr id="89" name=""/>
              <p:cNvSpPr/>
              <p:nvPr/>
            </p:nvSpPr>
            <p:spPr>
              <a:xfrm>
                <a:off x="4322880" y="2087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4541760" y="2019240"/>
                <a:ext cx="239760" cy="156960"/>
                <a:chOff x="4541760" y="2019240"/>
                <a:chExt cx="239760" cy="1569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541760" y="2019240"/>
                  <a:ext cx="23976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4627440" y="2041200"/>
                  <a:ext cx="68400" cy="109800"/>
                  <a:chOff x="4627440" y="2041200"/>
                  <a:chExt cx="68400" cy="1098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4660920" y="2041200"/>
                    <a:ext cx="0" cy="109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4627440" y="2144520"/>
                    <a:ext cx="6840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5" name=""/>
              <p:cNvSpPr/>
              <p:nvPr/>
            </p:nvSpPr>
            <p:spPr>
              <a:xfrm>
                <a:off x="4829040" y="1987200"/>
                <a:ext cx="1884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81mm Mortar                US-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827600" y="183816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322880" y="1645920"/>
              <a:ext cx="2406600" cy="228240"/>
              <a:chOff x="4322880" y="1645920"/>
              <a:chExt cx="2406600" cy="228240"/>
            </a:xfrm>
          </p:grpSpPr>
          <p:sp>
            <p:nvSpPr>
              <p:cNvPr id="98" name=""/>
              <p:cNvSpPr/>
              <p:nvPr/>
            </p:nvSpPr>
            <p:spPr>
              <a:xfrm>
                <a:off x="4322880" y="1766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844880" y="1658520"/>
                <a:ext cx="1884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Medium Machine Gun  US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4546440" y="1645920"/>
                <a:ext cx="231840" cy="205920"/>
                <a:chOff x="4546440" y="1645920"/>
                <a:chExt cx="231840" cy="20592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4546440" y="1694880"/>
                  <a:ext cx="231840" cy="156960"/>
                  <a:chOff x="4546440" y="1694880"/>
                  <a:chExt cx="231840" cy="1569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4546440" y="169488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546440" y="1694880"/>
                    <a:ext cx="55800" cy="15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V="1">
                    <a:off x="4546440" y="1696680"/>
                    <a:ext cx="228240" cy="151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548600" y="1694880"/>
                    <a:ext cx="225720" cy="15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4626000" y="1645920"/>
                  <a:ext cx="74520" cy="28080"/>
                  <a:chOff x="4626000" y="1645920"/>
                  <a:chExt cx="74520" cy="2808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4626000" y="1645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4673520" y="16473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9" name=""/>
          <p:cNvSpPr/>
          <p:nvPr/>
        </p:nvSpPr>
        <p:spPr>
          <a:xfrm>
            <a:off x="4940280" y="3584520"/>
            <a:ext cx="17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960" y="7985160"/>
            <a:ext cx="27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divisional ground unit attachments will not be available until the airborne forces have made contact with relieving forc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5000" y="1246320"/>
            <a:ext cx="2892600" cy="834480"/>
            <a:chOff x="765000" y="1246320"/>
            <a:chExt cx="2892600" cy="834480"/>
          </a:xfrm>
        </p:grpSpPr>
        <p:grpSp>
          <p:nvGrpSpPr>
            <p:cNvPr id="112" name=""/>
            <p:cNvGrpSpPr/>
            <p:nvPr/>
          </p:nvGrpSpPr>
          <p:grpSpPr>
            <a:xfrm>
              <a:off x="1100160" y="1682640"/>
              <a:ext cx="2557440" cy="398160"/>
              <a:chOff x="1100160" y="1682640"/>
              <a:chExt cx="255744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138320" y="1682640"/>
                <a:ext cx="0" cy="27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100160" y="1843200"/>
                <a:ext cx="231840" cy="236160"/>
                <a:chOff x="1100160" y="1843200"/>
                <a:chExt cx="231840" cy="23616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1100160" y="1888920"/>
                  <a:ext cx="231840" cy="190440"/>
                  <a:chOff x="1100160" y="1888920"/>
                  <a:chExt cx="231840" cy="1904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1100160" y="188892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111320" y="2052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292400" y="2052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1202040" y="18432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361880" y="1865160"/>
                <a:ext cx="2295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Jeep                                      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65000" y="169560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1880" y="1419120"/>
              <a:ext cx="1854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61880" y="1560600"/>
              <a:ext cx="229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                           US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61880" y="124632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100160" y="1562040"/>
              <a:ext cx="231840" cy="208080"/>
              <a:chOff x="1100160" y="1562040"/>
              <a:chExt cx="231840" cy="20808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100160" y="1612800"/>
                <a:ext cx="231840" cy="157320"/>
                <a:chOff x="1100160" y="1612800"/>
                <a:chExt cx="231840" cy="1573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100160" y="1612800"/>
                  <a:ext cx="23184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123920" y="1635120"/>
                  <a:ext cx="18432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1201680" y="1562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762120" y="58104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47560" y="289080"/>
            <a:ext cx="2836800" cy="985680"/>
            <a:chOff x="547560" y="289080"/>
            <a:chExt cx="2836800" cy="985680"/>
          </a:xfrm>
        </p:grpSpPr>
        <p:grpSp>
          <p:nvGrpSpPr>
            <p:cNvPr id="132" name=""/>
            <p:cNvGrpSpPr/>
            <p:nvPr/>
          </p:nvGrpSpPr>
          <p:grpSpPr>
            <a:xfrm>
              <a:off x="736560" y="289080"/>
              <a:ext cx="2595600" cy="485640"/>
              <a:chOff x="736560" y="289080"/>
              <a:chExt cx="2595600" cy="4856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36560" y="402840"/>
                <a:ext cx="346680" cy="299160"/>
                <a:chOff x="736560" y="402840"/>
                <a:chExt cx="346680" cy="29916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844560" y="402840"/>
                  <a:ext cx="131760" cy="64800"/>
                  <a:chOff x="844560" y="402840"/>
                  <a:chExt cx="131760" cy="648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909720" y="404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844560" y="404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976320" y="4028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36560" y="466200"/>
                  <a:ext cx="346680" cy="235800"/>
                  <a:chOff x="736560" y="466200"/>
                  <a:chExt cx="346680" cy="23580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736560" y="466200"/>
                    <a:ext cx="346680" cy="235800"/>
                    <a:chOff x="736560" y="466200"/>
                    <a:chExt cx="346680" cy="23580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36560" y="466200"/>
                      <a:ext cx="346680" cy="2358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V="1">
                      <a:off x="740160" y="469440"/>
                      <a:ext cx="338040" cy="23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736560" y="469800"/>
                      <a:ext cx="345240" cy="225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852840" y="642600"/>
                    <a:ext cx="113760" cy="56520"/>
                    <a:chOff x="852840" y="642600"/>
                    <a:chExt cx="113760" cy="5652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852840" y="642600"/>
                      <a:ext cx="54360" cy="54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912240" y="644400"/>
                      <a:ext cx="54360" cy="54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46" name=""/>
              <p:cNvSpPr/>
              <p:nvPr/>
            </p:nvSpPr>
            <p:spPr>
              <a:xfrm>
                <a:off x="1356480" y="289080"/>
                <a:ext cx="1363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BATTLE GROUP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353960" y="421920"/>
                <a:ext cx="197820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arachute Infantry Regiment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-3 per 1944-45 Airborne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36560" y="716040"/>
              <a:ext cx="2647800" cy="511560"/>
              <a:chOff x="736560" y="716040"/>
              <a:chExt cx="2647800" cy="51156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736560" y="888840"/>
                <a:ext cx="346680" cy="299160"/>
                <a:chOff x="736560" y="888840"/>
                <a:chExt cx="346680" cy="2991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844560" y="888840"/>
                  <a:ext cx="131760" cy="64800"/>
                  <a:chOff x="844560" y="888840"/>
                  <a:chExt cx="131760" cy="6480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909720" y="890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844560" y="890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976320" y="8888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36560" y="952200"/>
                  <a:ext cx="346680" cy="235800"/>
                  <a:chOff x="736560" y="952200"/>
                  <a:chExt cx="346680" cy="23580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736560" y="952200"/>
                    <a:ext cx="346680" cy="235800"/>
                    <a:chOff x="736560" y="952200"/>
                    <a:chExt cx="346680" cy="23580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736560" y="952200"/>
                      <a:ext cx="346680" cy="2358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flipV="1">
                      <a:off x="740160" y="955440"/>
                      <a:ext cx="338040" cy="23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36560" y="955800"/>
                      <a:ext cx="345240" cy="225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852840" y="1128600"/>
                    <a:ext cx="113760" cy="56520"/>
                    <a:chOff x="852840" y="1128600"/>
                    <a:chExt cx="113760" cy="5652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852840" y="1128600"/>
                      <a:ext cx="54360" cy="54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912240" y="1130400"/>
                      <a:ext cx="54360" cy="54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2" name=""/>
              <p:cNvSpPr/>
              <p:nvPr/>
            </p:nvSpPr>
            <p:spPr>
              <a:xfrm>
                <a:off x="1353960" y="874800"/>
                <a:ext cx="203040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der Infantry Regiment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1-2 per 1944-45 Airborne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53960" y="71604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Alternativ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47560" y="330120"/>
              <a:ext cx="131760" cy="944640"/>
              <a:chOff x="547560" y="330120"/>
              <a:chExt cx="131760" cy="944640"/>
            </a:xfrm>
          </p:grpSpPr>
          <p:sp>
            <p:nvSpPr>
              <p:cNvPr id="165" name=""/>
              <p:cNvSpPr/>
              <p:nvPr/>
            </p:nvSpPr>
            <p:spPr>
              <a:xfrm>
                <a:off x="547560" y="1274760"/>
                <a:ext cx="1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9360" y="338040"/>
                <a:ext cx="12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7560" y="330120"/>
                <a:ext cx="0" cy="9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1365120" y="3343320"/>
            <a:ext cx="17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0320" y="3510000"/>
            <a:ext cx="2346480" cy="467640"/>
            <a:chOff x="760320" y="3510000"/>
            <a:chExt cx="2346480" cy="467640"/>
          </a:xfrm>
        </p:grpSpPr>
        <p:sp>
          <p:nvSpPr>
            <p:cNvPr id="170" name=""/>
            <p:cNvSpPr/>
            <p:nvPr/>
          </p:nvSpPr>
          <p:spPr>
            <a:xfrm>
              <a:off x="760320" y="369720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7200" y="3640320"/>
              <a:ext cx="161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irborne Recon Platoon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1 p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71600" y="351000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same as ME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998640" y="3570480"/>
              <a:ext cx="283680" cy="236160"/>
              <a:chOff x="998640" y="3570480"/>
              <a:chExt cx="283680" cy="2361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998640" y="3613320"/>
                <a:ext cx="283680" cy="193320"/>
                <a:chOff x="998640" y="3613320"/>
                <a:chExt cx="283680" cy="193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998640" y="3613320"/>
                  <a:ext cx="283680" cy="193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998640" y="3613320"/>
                  <a:ext cx="281880" cy="19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1150200" y="3738240"/>
                  <a:ext cx="92520" cy="46080"/>
                  <a:chOff x="1150200" y="3738240"/>
                  <a:chExt cx="92520" cy="460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150200" y="3738240"/>
                    <a:ext cx="44280" cy="4428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198440" y="3739680"/>
                    <a:ext cx="44280" cy="4464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" name=""/>
              <p:cNvGrpSpPr/>
              <p:nvPr/>
            </p:nvGrpSpPr>
            <p:grpSpPr>
              <a:xfrm>
                <a:off x="1074600" y="3570480"/>
                <a:ext cx="131760" cy="27000"/>
                <a:chOff x="1074600" y="3570480"/>
                <a:chExt cx="131760" cy="27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074600" y="35704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25360" y="35704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79360" y="35704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" name=""/>
          <p:cNvGrpSpPr/>
          <p:nvPr/>
        </p:nvGrpSpPr>
        <p:grpSpPr>
          <a:xfrm>
            <a:off x="762120" y="3935520"/>
            <a:ext cx="2346120" cy="467280"/>
            <a:chOff x="762120" y="3935520"/>
            <a:chExt cx="2346120" cy="467280"/>
          </a:xfrm>
        </p:grpSpPr>
        <p:sp>
          <p:nvSpPr>
            <p:cNvPr id="185" name=""/>
            <p:cNvSpPr/>
            <p:nvPr/>
          </p:nvSpPr>
          <p:spPr>
            <a:xfrm>
              <a:off x="762120" y="4146480"/>
              <a:ext cx="406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59000" y="4065480"/>
              <a:ext cx="161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irborne Antitank Platoon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6 p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73040" y="393552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987480" y="3987720"/>
              <a:ext cx="283680" cy="244800"/>
              <a:chOff x="987480" y="3987720"/>
              <a:chExt cx="283680" cy="2448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987480" y="4039920"/>
                <a:ext cx="283680" cy="192600"/>
                <a:chOff x="987480" y="4039920"/>
                <a:chExt cx="283680" cy="19260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987480" y="4039920"/>
                  <a:ext cx="283680" cy="192600"/>
                  <a:chOff x="987480" y="4039920"/>
                  <a:chExt cx="283680" cy="1926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987480" y="4039920"/>
                    <a:ext cx="283680" cy="192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V="1">
                    <a:off x="987480" y="4043880"/>
                    <a:ext cx="139320" cy="18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126800" y="4039920"/>
                    <a:ext cx="139320" cy="1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082880" y="4176000"/>
                  <a:ext cx="92520" cy="46080"/>
                  <a:chOff x="1082880" y="4176000"/>
                  <a:chExt cx="92520" cy="460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082880" y="4176000"/>
                    <a:ext cx="44280" cy="4428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131120" y="4177440"/>
                    <a:ext cx="44280" cy="4464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1063440" y="3987720"/>
                <a:ext cx="131760" cy="26640"/>
                <a:chOff x="1063440" y="3987720"/>
                <a:chExt cx="131760" cy="266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063440" y="3987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114200" y="39877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68200" y="3987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"/>
          <p:cNvGrpSpPr/>
          <p:nvPr/>
        </p:nvGrpSpPr>
        <p:grpSpPr>
          <a:xfrm>
            <a:off x="760320" y="4365720"/>
            <a:ext cx="2513160" cy="467640"/>
            <a:chOff x="760320" y="4365720"/>
            <a:chExt cx="2513160" cy="467640"/>
          </a:xfrm>
        </p:grpSpPr>
        <p:sp>
          <p:nvSpPr>
            <p:cNvPr id="202" name=""/>
            <p:cNvSpPr/>
            <p:nvPr/>
          </p:nvSpPr>
          <p:spPr>
            <a:xfrm>
              <a:off x="760320" y="457668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57200" y="4496040"/>
              <a:ext cx="191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Airborne Antiaircraft Platoon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6 p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436572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981000" y="4415040"/>
              <a:ext cx="291600" cy="245160"/>
              <a:chOff x="981000" y="4415040"/>
              <a:chExt cx="291600" cy="24516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981000" y="4470480"/>
                <a:ext cx="291600" cy="189720"/>
                <a:chOff x="981000" y="4470480"/>
                <a:chExt cx="291600" cy="1897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983160" y="4470480"/>
                  <a:ext cx="289440" cy="189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080720" y="4608360"/>
                  <a:ext cx="91080" cy="45360"/>
                  <a:chOff x="1080720" y="4608360"/>
                  <a:chExt cx="91080" cy="453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080720" y="4608360"/>
                    <a:ext cx="43560" cy="4356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1128240" y="4609800"/>
                    <a:ext cx="43560" cy="4392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981000" y="4471920"/>
                  <a:ext cx="14004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121040" y="4470480"/>
                  <a:ext cx="14940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061640" y="4550760"/>
                  <a:ext cx="118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060200" y="4415040"/>
                <a:ext cx="131760" cy="26640"/>
                <a:chOff x="1060200" y="4415040"/>
                <a:chExt cx="131760" cy="266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060200" y="4415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110960" y="4415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164960" y="4415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758880" y="4794120"/>
            <a:ext cx="2390760" cy="467280"/>
            <a:chOff x="758880" y="4794120"/>
            <a:chExt cx="2390760" cy="467280"/>
          </a:xfrm>
        </p:grpSpPr>
        <p:sp>
          <p:nvSpPr>
            <p:cNvPr id="219" name=""/>
            <p:cNvSpPr/>
            <p:nvPr/>
          </p:nvSpPr>
          <p:spPr>
            <a:xfrm>
              <a:off x="758880" y="503712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55760" y="4924080"/>
              <a:ext cx="179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irborne Engineer Company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1 parachute, 2 glider p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70160" y="4794120"/>
              <a:ext cx="173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977760" y="4860720"/>
              <a:ext cx="284040" cy="261360"/>
              <a:chOff x="977760" y="4860720"/>
              <a:chExt cx="284040" cy="2613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977760" y="4928760"/>
                <a:ext cx="284040" cy="193320"/>
                <a:chOff x="977760" y="4928760"/>
                <a:chExt cx="284040" cy="1933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977760" y="4928760"/>
                  <a:ext cx="284040" cy="193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1061640" y="4968000"/>
                  <a:ext cx="114120" cy="61920"/>
                  <a:chOff x="1061640" y="4968000"/>
                  <a:chExt cx="114120" cy="6192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1067760" y="4968000"/>
                    <a:ext cx="0" cy="619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117800" y="4971240"/>
                    <a:ext cx="0" cy="583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168560" y="4971240"/>
                    <a:ext cx="0" cy="583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061640" y="4971240"/>
                    <a:ext cx="1141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1072800" y="5057640"/>
                  <a:ext cx="92520" cy="46080"/>
                  <a:chOff x="1072800" y="5057640"/>
                  <a:chExt cx="92520" cy="460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1072800" y="5057640"/>
                    <a:ext cx="44280" cy="4428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1121040" y="5059080"/>
                    <a:ext cx="44280" cy="4464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3" name=""/>
              <p:cNvSpPr/>
              <p:nvPr/>
            </p:nvSpPr>
            <p:spPr>
              <a:xfrm>
                <a:off x="1119240" y="4860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768240" y="5270400"/>
            <a:ext cx="2619360" cy="599400"/>
            <a:chOff x="768240" y="5270400"/>
            <a:chExt cx="2619360" cy="599400"/>
          </a:xfrm>
        </p:grpSpPr>
        <p:sp>
          <p:nvSpPr>
            <p:cNvPr id="235" name=""/>
            <p:cNvSpPr/>
            <p:nvPr/>
          </p:nvSpPr>
          <p:spPr>
            <a:xfrm>
              <a:off x="768240" y="561348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65120" y="5532480"/>
              <a:ext cx="202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irborne Field Artillery Battalion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1 parachute, 2 glider per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9520" y="540216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FS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80960" y="5270400"/>
              <a:ext cx="181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DIV. FIRE SUPPORT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996840" y="5445000"/>
              <a:ext cx="283680" cy="258120"/>
              <a:chOff x="996840" y="5445000"/>
              <a:chExt cx="283680" cy="2581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996840" y="5445000"/>
                <a:ext cx="283680" cy="258120"/>
                <a:chOff x="996840" y="5445000"/>
                <a:chExt cx="283680" cy="258120"/>
              </a:xfrm>
            </p:grpSpPr>
            <p:grpSp>
              <p:nvGrpSpPr>
                <p:cNvPr id="241" name=""/>
                <p:cNvGrpSpPr/>
                <p:nvPr/>
              </p:nvGrpSpPr>
              <p:grpSpPr>
                <a:xfrm>
                  <a:off x="1099800" y="5445000"/>
                  <a:ext cx="75960" cy="63360"/>
                  <a:chOff x="1099800" y="5445000"/>
                  <a:chExt cx="75960" cy="6336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1099800" y="54450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1175760" y="54450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996840" y="5509800"/>
                  <a:ext cx="283680" cy="193320"/>
                  <a:chOff x="996840" y="5509800"/>
                  <a:chExt cx="283680" cy="1933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996840" y="5509800"/>
                    <a:ext cx="283680" cy="19332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111320" y="5577840"/>
                    <a:ext cx="56160" cy="5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1101600" y="5655960"/>
                <a:ext cx="75960" cy="38160"/>
                <a:chOff x="1101600" y="5655960"/>
                <a:chExt cx="75960" cy="381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1101600" y="5655960"/>
                  <a:ext cx="36360" cy="36360"/>
                </a:xfrm>
                <a:prstGeom prst="blockArc">
                  <a:avLst>
                    <a:gd name="adj1" fmla="val 10283035"/>
                    <a:gd name="adj2" fmla="val 516965"/>
                    <a:gd name="adj3" fmla="val 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41200" y="5657400"/>
                  <a:ext cx="36360" cy="36720"/>
                </a:xfrm>
                <a:prstGeom prst="blockArc">
                  <a:avLst>
                    <a:gd name="adj1" fmla="val 10283035"/>
                    <a:gd name="adj2" fmla="val 516965"/>
                    <a:gd name="adj3" fmla="val 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0" name=""/>
          <p:cNvGrpSpPr/>
          <p:nvPr/>
        </p:nvGrpSpPr>
        <p:grpSpPr>
          <a:xfrm>
            <a:off x="765000" y="5896080"/>
            <a:ext cx="2724120" cy="1898280"/>
            <a:chOff x="765000" y="5896080"/>
            <a:chExt cx="2724120" cy="1898280"/>
          </a:xfrm>
        </p:grpSpPr>
        <p:sp>
          <p:nvSpPr>
            <p:cNvPr id="251" name=""/>
            <p:cNvSpPr/>
            <p:nvPr/>
          </p:nvSpPr>
          <p:spPr>
            <a:xfrm>
              <a:off x="1396800" y="5896080"/>
              <a:ext cx="209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NON-DIVISIONAL ATTACHMENT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66800" y="6059520"/>
              <a:ext cx="2460600" cy="467640"/>
              <a:chOff x="766800" y="6059520"/>
              <a:chExt cx="2460600" cy="467640"/>
            </a:xfrm>
          </p:grpSpPr>
          <p:sp>
            <p:nvSpPr>
              <p:cNvPr id="253" name=""/>
              <p:cNvSpPr/>
              <p:nvPr/>
            </p:nvSpPr>
            <p:spPr>
              <a:xfrm>
                <a:off x="1380960" y="6189840"/>
                <a:ext cx="184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edium Tank Company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From attached tank battal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95360" y="605952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6800" y="6273720"/>
                <a:ext cx="4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006560" y="6113520"/>
                <a:ext cx="284040" cy="264960"/>
                <a:chOff x="1006560" y="6113520"/>
                <a:chExt cx="284040" cy="26496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1006560" y="6184800"/>
                  <a:ext cx="284040" cy="193680"/>
                  <a:chOff x="1006560" y="6184800"/>
                  <a:chExt cx="284040" cy="1936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006560" y="6184800"/>
                    <a:ext cx="284040" cy="19368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058400" y="6233040"/>
                    <a:ext cx="182160" cy="925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" name=""/>
                <p:cNvSpPr/>
                <p:nvPr/>
              </p:nvSpPr>
              <p:spPr>
                <a:xfrm>
                  <a:off x="1149120" y="6113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776160" y="6483240"/>
              <a:ext cx="2460600" cy="589320"/>
              <a:chOff x="776160" y="6483240"/>
              <a:chExt cx="2460600" cy="589320"/>
            </a:xfrm>
          </p:grpSpPr>
          <p:sp>
            <p:nvSpPr>
              <p:cNvPr id="262" name=""/>
              <p:cNvSpPr/>
              <p:nvPr/>
            </p:nvSpPr>
            <p:spPr>
              <a:xfrm>
                <a:off x="1390680" y="6613560"/>
                <a:ext cx="1846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Tank Destroyer Company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From attached tank destroyer battal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04720" y="648324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6160" y="6697800"/>
                <a:ext cx="4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988920" y="6545160"/>
                <a:ext cx="291600" cy="255600"/>
                <a:chOff x="988920" y="6545160"/>
                <a:chExt cx="291600" cy="2556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988920" y="6609960"/>
                  <a:ext cx="291600" cy="190800"/>
                  <a:chOff x="988920" y="6609960"/>
                  <a:chExt cx="291600" cy="1908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990360" y="6609960"/>
                    <a:ext cx="290160" cy="1908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26360" y="6651720"/>
                    <a:ext cx="208080" cy="910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988920" y="6611040"/>
                    <a:ext cx="140040" cy="18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128960" y="6609960"/>
                    <a:ext cx="15012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134720" y="6545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779400" y="7037280"/>
              <a:ext cx="2436840" cy="345960"/>
              <a:chOff x="779400" y="7037280"/>
              <a:chExt cx="2436840" cy="345960"/>
            </a:xfrm>
          </p:grpSpPr>
          <p:sp>
            <p:nvSpPr>
              <p:cNvPr id="273" name=""/>
              <p:cNvSpPr/>
              <p:nvPr/>
            </p:nvSpPr>
            <p:spPr>
              <a:xfrm>
                <a:off x="1369800" y="7167600"/>
                <a:ext cx="184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edium Artillery Battal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84200" y="7037280"/>
                <a:ext cx="866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FS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9400" y="7203960"/>
                <a:ext cx="4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988920" y="7045200"/>
                <a:ext cx="283680" cy="258120"/>
                <a:chOff x="988920" y="7045200"/>
                <a:chExt cx="283680" cy="25812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1091880" y="7045200"/>
                  <a:ext cx="75960" cy="63360"/>
                  <a:chOff x="1091880" y="7045200"/>
                  <a:chExt cx="75960" cy="6336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1091880" y="70452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167840" y="70452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988920" y="7110000"/>
                  <a:ext cx="283680" cy="193320"/>
                  <a:chOff x="988920" y="7110000"/>
                  <a:chExt cx="283680" cy="1933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988920" y="7110000"/>
                    <a:ext cx="283680" cy="19332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103400" y="7178040"/>
                    <a:ext cx="56160" cy="5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765000" y="7448400"/>
              <a:ext cx="2436480" cy="345960"/>
              <a:chOff x="765000" y="7448400"/>
              <a:chExt cx="2436480" cy="34596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5400" y="7578720"/>
                <a:ext cx="184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Artillery Battal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69800" y="7448400"/>
                <a:ext cx="866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FS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5000" y="7615080"/>
                <a:ext cx="406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974520" y="7456320"/>
                <a:ext cx="283680" cy="258120"/>
                <a:chOff x="974520" y="7456320"/>
                <a:chExt cx="283680" cy="25812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1077480" y="7456320"/>
                  <a:ext cx="75960" cy="63360"/>
                  <a:chOff x="1077480" y="7456320"/>
                  <a:chExt cx="75960" cy="633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077480" y="7456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153440" y="7456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974520" y="7521120"/>
                  <a:ext cx="283680" cy="193320"/>
                  <a:chOff x="974520" y="7521120"/>
                  <a:chExt cx="283680" cy="1933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974520" y="7521120"/>
                    <a:ext cx="283680" cy="19332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1089000" y="7589160"/>
                    <a:ext cx="56160" cy="5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4" name=""/>
          <p:cNvSpPr/>
          <p:nvPr/>
        </p:nvSpPr>
        <p:spPr>
          <a:xfrm>
            <a:off x="762120" y="3079800"/>
            <a:ext cx="0" cy="45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52400" y="2144880"/>
            <a:ext cx="2745000" cy="1176480"/>
            <a:chOff x="752400" y="2144880"/>
            <a:chExt cx="2745000" cy="1176480"/>
          </a:xfrm>
        </p:grpSpPr>
        <p:grpSp>
          <p:nvGrpSpPr>
            <p:cNvPr id="296" name=""/>
            <p:cNvGrpSpPr/>
            <p:nvPr/>
          </p:nvGrpSpPr>
          <p:grpSpPr>
            <a:xfrm>
              <a:off x="752400" y="2282760"/>
              <a:ext cx="2745000" cy="467280"/>
              <a:chOff x="752400" y="2282760"/>
              <a:chExt cx="2745000" cy="467280"/>
            </a:xfrm>
          </p:grpSpPr>
          <p:sp>
            <p:nvSpPr>
              <p:cNvPr id="297" name=""/>
              <p:cNvSpPr/>
              <p:nvPr/>
            </p:nvSpPr>
            <p:spPr>
              <a:xfrm>
                <a:off x="752400" y="2517480"/>
                <a:ext cx="4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954000" y="2331720"/>
                <a:ext cx="346680" cy="293760"/>
                <a:chOff x="954000" y="2331720"/>
                <a:chExt cx="346680" cy="29376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1090440" y="2331720"/>
                  <a:ext cx="76320" cy="63000"/>
                  <a:chOff x="1090440" y="2331720"/>
                  <a:chExt cx="76320" cy="630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1090440" y="2331720"/>
                    <a:ext cx="0" cy="63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1166760" y="2331720"/>
                    <a:ext cx="0" cy="63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954000" y="2390040"/>
                  <a:ext cx="346680" cy="235440"/>
                  <a:chOff x="954000" y="2390040"/>
                  <a:chExt cx="346680" cy="23544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954000" y="2390040"/>
                    <a:ext cx="346680" cy="235440"/>
                    <a:chOff x="954000" y="2390040"/>
                    <a:chExt cx="346680" cy="23544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954000" y="2390040"/>
                      <a:ext cx="346680" cy="23544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957600" y="2393640"/>
                      <a:ext cx="338040" cy="23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954000" y="2393640"/>
                      <a:ext cx="345240" cy="22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1070280" y="2566440"/>
                    <a:ext cx="113760" cy="56520"/>
                    <a:chOff x="1070280" y="2566440"/>
                    <a:chExt cx="113760" cy="56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1070280" y="2566440"/>
                      <a:ext cx="54360" cy="54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129680" y="2568240"/>
                      <a:ext cx="54360" cy="54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10" name=""/>
              <p:cNvSpPr/>
              <p:nvPr/>
            </p:nvSpPr>
            <p:spPr>
              <a:xfrm>
                <a:off x="1353960" y="2412720"/>
                <a:ext cx="2143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Parachute Infantry Battalion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rachute Infantry Regiment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53960" y="228276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BG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361880" y="214488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61880" y="273204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lternativ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52400" y="2870280"/>
              <a:ext cx="2344680" cy="451080"/>
              <a:chOff x="752400" y="2870280"/>
              <a:chExt cx="2344680" cy="451080"/>
            </a:xfrm>
          </p:grpSpPr>
          <p:sp>
            <p:nvSpPr>
              <p:cNvPr id="315" name=""/>
              <p:cNvSpPr/>
              <p:nvPr/>
            </p:nvSpPr>
            <p:spPr>
              <a:xfrm>
                <a:off x="752400" y="3088800"/>
                <a:ext cx="4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961920" y="2903040"/>
                <a:ext cx="346680" cy="294480"/>
                <a:chOff x="961920" y="2903040"/>
                <a:chExt cx="346680" cy="29448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1098360" y="2903040"/>
                  <a:ext cx="76320" cy="63360"/>
                  <a:chOff x="1098360" y="2903040"/>
                  <a:chExt cx="76320" cy="633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1098360" y="2903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1174680" y="2903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961920" y="2961720"/>
                  <a:ext cx="346680" cy="235800"/>
                  <a:chOff x="961920" y="2961720"/>
                  <a:chExt cx="346680" cy="23580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961920" y="2961720"/>
                    <a:ext cx="346680" cy="235800"/>
                    <a:chOff x="961920" y="2961720"/>
                    <a:chExt cx="346680" cy="2358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961920" y="2961720"/>
                      <a:ext cx="346680" cy="2358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V="1">
                      <a:off x="965520" y="2964960"/>
                      <a:ext cx="338040" cy="23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961920" y="2965320"/>
                      <a:ext cx="345240" cy="225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1078200" y="3138120"/>
                    <a:ext cx="113760" cy="56520"/>
                    <a:chOff x="1078200" y="3138120"/>
                    <a:chExt cx="113760" cy="565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1078200" y="3138120"/>
                      <a:ext cx="54360" cy="54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1137600" y="3139920"/>
                      <a:ext cx="54360" cy="54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8" name=""/>
              <p:cNvSpPr/>
              <p:nvPr/>
            </p:nvSpPr>
            <p:spPr>
              <a:xfrm>
                <a:off x="1361880" y="2984040"/>
                <a:ext cx="165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Glider Infantry Battalion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Glider Infantry Regiment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61880" y="287028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BG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838080" y="2319480"/>
              <a:ext cx="131760" cy="943920"/>
              <a:chOff x="838080" y="2319480"/>
              <a:chExt cx="131760" cy="943920"/>
            </a:xfrm>
          </p:grpSpPr>
          <p:sp>
            <p:nvSpPr>
              <p:cNvPr id="331" name=""/>
              <p:cNvSpPr/>
              <p:nvPr/>
            </p:nvSpPr>
            <p:spPr>
              <a:xfrm>
                <a:off x="838080" y="2319480"/>
                <a:ext cx="0" cy="9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38080" y="3263400"/>
                <a:ext cx="1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39880" y="2334960"/>
                <a:ext cx="12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343400" y="2362320"/>
            <a:ext cx="2717640" cy="2528640"/>
            <a:chOff x="4343400" y="2362320"/>
            <a:chExt cx="2717640" cy="2528640"/>
          </a:xfrm>
        </p:grpSpPr>
        <p:grpSp>
          <p:nvGrpSpPr>
            <p:cNvPr id="335" name=""/>
            <p:cNvGrpSpPr/>
            <p:nvPr/>
          </p:nvGrpSpPr>
          <p:grpSpPr>
            <a:xfrm>
              <a:off x="4343400" y="2362320"/>
              <a:ext cx="2552760" cy="2406600"/>
              <a:chOff x="4343400" y="2362320"/>
              <a:chExt cx="2552760" cy="2406600"/>
            </a:xfrm>
          </p:grpSpPr>
          <p:sp>
            <p:nvSpPr>
              <p:cNvPr id="336" name=""/>
              <p:cNvSpPr/>
              <p:nvPr/>
            </p:nvSpPr>
            <p:spPr>
              <a:xfrm>
                <a:off x="4400640" y="2666880"/>
                <a:ext cx="0" cy="210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4343400" y="2397240"/>
                <a:ext cx="346680" cy="294480"/>
                <a:chOff x="4343400" y="2397240"/>
                <a:chExt cx="346680" cy="29448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4479840" y="2397240"/>
                  <a:ext cx="76320" cy="63360"/>
                  <a:chOff x="4479840" y="2397240"/>
                  <a:chExt cx="76320" cy="6336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4479840" y="2397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556160" y="2397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4343400" y="2455920"/>
                  <a:ext cx="346680" cy="235800"/>
                  <a:chOff x="4343400" y="2455920"/>
                  <a:chExt cx="346680" cy="23580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4343400" y="2455920"/>
                    <a:ext cx="346680" cy="235800"/>
                    <a:chOff x="4343400" y="2455920"/>
                    <a:chExt cx="346680" cy="23580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4343400" y="2455920"/>
                      <a:ext cx="346680" cy="2358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4347000" y="2459160"/>
                      <a:ext cx="338040" cy="23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4343400" y="2459520"/>
                      <a:ext cx="345240" cy="225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4459680" y="2632320"/>
                    <a:ext cx="113760" cy="56520"/>
                    <a:chOff x="4459680" y="2632320"/>
                    <a:chExt cx="113760" cy="565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4459680" y="2632320"/>
                      <a:ext cx="54360" cy="54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4519080" y="2634120"/>
                      <a:ext cx="54360" cy="54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49" name=""/>
              <p:cNvSpPr/>
              <p:nvPr/>
            </p:nvSpPr>
            <p:spPr>
              <a:xfrm>
                <a:off x="4920480" y="2362320"/>
                <a:ext cx="1363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BATTLE GROUP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17960" y="2535120"/>
                <a:ext cx="1978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der Infantry Battal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398840" y="3282840"/>
              <a:ext cx="2662200" cy="345600"/>
              <a:chOff x="4398840" y="3282840"/>
              <a:chExt cx="2662200" cy="345600"/>
            </a:xfrm>
          </p:grpSpPr>
          <p:sp>
            <p:nvSpPr>
              <p:cNvPr id="352" name=""/>
              <p:cNvSpPr/>
              <p:nvPr/>
            </p:nvSpPr>
            <p:spPr>
              <a:xfrm>
                <a:off x="4398840" y="3452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4595400" y="3295440"/>
                <a:ext cx="283680" cy="263160"/>
                <a:chOff x="4595400" y="3295440"/>
                <a:chExt cx="283680" cy="26316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595400" y="3365280"/>
                  <a:ext cx="283680" cy="193320"/>
                  <a:chOff x="4595400" y="3365280"/>
                  <a:chExt cx="283680" cy="19332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4595400" y="3365280"/>
                    <a:ext cx="283680" cy="193320"/>
                    <a:chOff x="4595400" y="3365280"/>
                    <a:chExt cx="283680" cy="193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4595400" y="3365280"/>
                      <a:ext cx="283680" cy="19332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V="1">
                      <a:off x="4598280" y="3367800"/>
                      <a:ext cx="276120" cy="18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4595400" y="3368160"/>
                      <a:ext cx="28224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690440" y="3510000"/>
                    <a:ext cx="92520" cy="46080"/>
                    <a:chOff x="4690440" y="3510000"/>
                    <a:chExt cx="92520" cy="460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690440" y="3510000"/>
                      <a:ext cx="44280" cy="442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738680" y="3511440"/>
                      <a:ext cx="44280" cy="4464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2" name=""/>
                <p:cNvSpPr/>
                <p:nvPr/>
              </p:nvSpPr>
              <p:spPr>
                <a:xfrm>
                  <a:off x="4738320" y="3295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4917600" y="3412800"/>
                <a:ext cx="214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Glider Infantry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17600" y="328284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398840" y="2746440"/>
              <a:ext cx="2381040" cy="507600"/>
              <a:chOff x="4398840" y="2746440"/>
              <a:chExt cx="2381040" cy="507600"/>
            </a:xfrm>
          </p:grpSpPr>
          <p:sp>
            <p:nvSpPr>
              <p:cNvPr id="366" name=""/>
              <p:cNvSpPr/>
              <p:nvPr/>
            </p:nvSpPr>
            <p:spPr>
              <a:xfrm>
                <a:off x="4917600" y="274644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4398840" y="2916360"/>
                <a:ext cx="2381040" cy="337680"/>
                <a:chOff x="4398840" y="2916360"/>
                <a:chExt cx="2381040" cy="337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398840" y="308628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4622400" y="2962440"/>
                  <a:ext cx="231840" cy="207360"/>
                  <a:chOff x="4622400" y="2962440"/>
                  <a:chExt cx="231840" cy="207360"/>
                </a:xfrm>
              </p:grpSpPr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4622400" y="3012840"/>
                    <a:ext cx="231840" cy="156960"/>
                    <a:chOff x="4622400" y="3012840"/>
                    <a:chExt cx="231840" cy="15696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622400" y="301284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646160" y="3034800"/>
                      <a:ext cx="184320" cy="11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3" name=""/>
                  <p:cNvSpPr/>
                  <p:nvPr/>
                </p:nvSpPr>
                <p:spPr>
                  <a:xfrm>
                    <a:off x="4723920" y="2962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4925880" y="2916360"/>
                  <a:ext cx="1734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930560" y="3038400"/>
                  <a:ext cx="1849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4398840" y="3713040"/>
              <a:ext cx="2406600" cy="228240"/>
              <a:chOff x="4398840" y="3713040"/>
              <a:chExt cx="2406600" cy="228240"/>
            </a:xfrm>
          </p:grpSpPr>
          <p:sp>
            <p:nvSpPr>
              <p:cNvPr id="377" name=""/>
              <p:cNvSpPr/>
              <p:nvPr/>
            </p:nvSpPr>
            <p:spPr>
              <a:xfrm>
                <a:off x="4398840" y="38336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920840" y="3725640"/>
                <a:ext cx="1884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Medium Machine Gun  US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4622400" y="3713040"/>
                <a:ext cx="231840" cy="205920"/>
                <a:chOff x="4622400" y="3713040"/>
                <a:chExt cx="231840" cy="20592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4622400" y="3762000"/>
                  <a:ext cx="231840" cy="156960"/>
                  <a:chOff x="4622400" y="3762000"/>
                  <a:chExt cx="231840" cy="15696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4622400" y="376200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622400" y="3762000"/>
                    <a:ext cx="55800" cy="15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V="1">
                    <a:off x="4622400" y="3763800"/>
                    <a:ext cx="228240" cy="151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624560" y="3762000"/>
                    <a:ext cx="225720" cy="15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4701960" y="3713040"/>
                  <a:ext cx="74520" cy="28080"/>
                  <a:chOff x="4701960" y="3713040"/>
                  <a:chExt cx="74520" cy="2808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4701960" y="3713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749480" y="3714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8" name=""/>
            <p:cNvGrpSpPr/>
            <p:nvPr/>
          </p:nvGrpSpPr>
          <p:grpSpPr>
            <a:xfrm>
              <a:off x="4398840" y="3994200"/>
              <a:ext cx="2406600" cy="504360"/>
              <a:chOff x="4398840" y="3994200"/>
              <a:chExt cx="2406600" cy="50436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4611600" y="4120920"/>
                <a:ext cx="2193840" cy="377640"/>
                <a:chOff x="4611600" y="4120920"/>
                <a:chExt cx="2193840" cy="3776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651200" y="4120920"/>
                  <a:ext cx="0" cy="2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" name=""/>
                <p:cNvGrpSpPr/>
                <p:nvPr/>
              </p:nvGrpSpPr>
              <p:grpSpPr>
                <a:xfrm>
                  <a:off x="4611600" y="4251240"/>
                  <a:ext cx="231840" cy="244440"/>
                  <a:chOff x="4611600" y="4251240"/>
                  <a:chExt cx="231840" cy="244440"/>
                </a:xfrm>
              </p:grpSpPr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611600" y="4305240"/>
                    <a:ext cx="231840" cy="190440"/>
                    <a:chOff x="4611600" y="4305240"/>
                    <a:chExt cx="231840" cy="19044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611600" y="430524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622760" y="44686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4803840" y="44686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4689360" y="4251240"/>
                    <a:ext cx="74520" cy="28080"/>
                    <a:chOff x="4689360" y="4251240"/>
                    <a:chExt cx="74520" cy="2808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4689360" y="42512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4736880" y="42526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99" name=""/>
                <p:cNvSpPr/>
                <p:nvPr/>
              </p:nvSpPr>
              <p:spPr>
                <a:xfrm>
                  <a:off x="4921200" y="4282920"/>
                  <a:ext cx="188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   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398840" y="3994200"/>
                <a:ext cx="2406600" cy="232920"/>
                <a:chOff x="4398840" y="3994200"/>
                <a:chExt cx="2406600" cy="2329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398840" y="4119480"/>
                  <a:ext cx="32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921200" y="4011480"/>
                  <a:ext cx="188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57mm Antitank Gun      US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4622760" y="3994200"/>
                  <a:ext cx="231840" cy="207360"/>
                  <a:chOff x="4622760" y="3994200"/>
                  <a:chExt cx="231840" cy="207360"/>
                </a:xfrm>
              </p:grpSpPr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622760" y="4044600"/>
                    <a:ext cx="231840" cy="156960"/>
                    <a:chOff x="4622760" y="4044600"/>
                    <a:chExt cx="231840" cy="156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622760" y="404460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V="1">
                      <a:off x="4622760" y="4047840"/>
                      <a:ext cx="11376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4736520" y="4044600"/>
                      <a:ext cx="113760" cy="15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4700520" y="3994200"/>
                    <a:ext cx="74520" cy="27720"/>
                    <a:chOff x="4700520" y="3994200"/>
                    <a:chExt cx="74520" cy="2772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4700520" y="399420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4748040" y="399564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11" name=""/>
            <p:cNvGrpSpPr/>
            <p:nvPr/>
          </p:nvGrpSpPr>
          <p:grpSpPr>
            <a:xfrm>
              <a:off x="4389480" y="4525920"/>
              <a:ext cx="2390760" cy="365040"/>
              <a:chOff x="4389480" y="4525920"/>
              <a:chExt cx="2390760" cy="365040"/>
            </a:xfrm>
          </p:grpSpPr>
          <p:sp>
            <p:nvSpPr>
              <p:cNvPr id="412" name=""/>
              <p:cNvSpPr/>
              <p:nvPr/>
            </p:nvSpPr>
            <p:spPr>
              <a:xfrm>
                <a:off x="4389480" y="4775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96000" y="4675320"/>
                <a:ext cx="188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81mm Mortar                US-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94200" y="452592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4608360" y="4656240"/>
                <a:ext cx="239760" cy="205920"/>
                <a:chOff x="4608360" y="4656240"/>
                <a:chExt cx="239760" cy="2059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4691160" y="4656240"/>
                  <a:ext cx="74520" cy="28080"/>
                  <a:chOff x="4691160" y="4656240"/>
                  <a:chExt cx="74520" cy="280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4691160" y="4656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38680" y="4657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4608360" y="4705200"/>
                  <a:ext cx="239760" cy="156960"/>
                  <a:chOff x="4608360" y="4705200"/>
                  <a:chExt cx="239760" cy="1569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4608360" y="4705200"/>
                    <a:ext cx="23976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4694040" y="4727160"/>
                    <a:ext cx="68400" cy="109800"/>
                    <a:chOff x="4694040" y="4727160"/>
                    <a:chExt cx="68400" cy="10980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4727520" y="4727160"/>
                      <a:ext cx="0" cy="1098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4694040" y="4830480"/>
                      <a:ext cx="6840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-360"/>
            <a:ext cx="66070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Airborne Organizations ME-25-&gt;ME-27, FS-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733920" y="434880"/>
            <a:ext cx="2950200" cy="4290840"/>
            <a:chOff x="3733920" y="434880"/>
            <a:chExt cx="2950200" cy="4290840"/>
          </a:xfrm>
        </p:grpSpPr>
        <p:sp>
          <p:nvSpPr>
            <p:cNvPr id="426" name=""/>
            <p:cNvSpPr/>
            <p:nvPr/>
          </p:nvSpPr>
          <p:spPr>
            <a:xfrm>
              <a:off x="3733920" y="2548080"/>
              <a:ext cx="270000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Forward Observer may be attached to any maneuver element or headquarters eleme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airborne artillery battalion may also operate as three separate off-board fire support elements as follow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3771720" y="434880"/>
              <a:ext cx="2912400" cy="2030400"/>
              <a:chOff x="3771720" y="434880"/>
              <a:chExt cx="2912400" cy="20304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3771720" y="434880"/>
                <a:ext cx="2912400" cy="1866960"/>
                <a:chOff x="3771720" y="434880"/>
                <a:chExt cx="2912400" cy="186696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3911040" y="658800"/>
                  <a:ext cx="2880" cy="164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3771720" y="490680"/>
                  <a:ext cx="283680" cy="258120"/>
                  <a:chOff x="3771720" y="490680"/>
                  <a:chExt cx="283680" cy="25812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3771720" y="490680"/>
                    <a:ext cx="283680" cy="258120"/>
                    <a:chOff x="3771720" y="490680"/>
                    <a:chExt cx="283680" cy="258120"/>
                  </a:xfrm>
                </p:grpSpPr>
                <p:grpSp>
                  <p:nvGrpSpPr>
                    <p:cNvPr id="432" name=""/>
                    <p:cNvGrpSpPr/>
                    <p:nvPr/>
                  </p:nvGrpSpPr>
                  <p:grpSpPr>
                    <a:xfrm>
                      <a:off x="3874680" y="490680"/>
                      <a:ext cx="75960" cy="63360"/>
                      <a:chOff x="3874680" y="490680"/>
                      <a:chExt cx="75960" cy="63360"/>
                    </a:xfrm>
                  </p:grpSpPr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3874680" y="4906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3950640" y="4906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3771720" y="555480"/>
                      <a:ext cx="283680" cy="193320"/>
                      <a:chOff x="3771720" y="555480"/>
                      <a:chExt cx="283680" cy="193320"/>
                    </a:xfrm>
                  </p:grpSpPr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3771720" y="555480"/>
                        <a:ext cx="283680" cy="193320"/>
                      </a:xfrm>
                      <a:prstGeom prst="rect">
                        <a:avLst/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3886200" y="623520"/>
                        <a:ext cx="56160" cy="565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840" bIns="-68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3876480" y="701640"/>
                    <a:ext cx="75960" cy="38160"/>
                    <a:chOff x="3876480" y="701640"/>
                    <a:chExt cx="75960" cy="3816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3876480" y="701640"/>
                      <a:ext cx="36360" cy="36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3916080" y="703080"/>
                      <a:ext cx="36360" cy="36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41" name=""/>
                <p:cNvSpPr/>
                <p:nvPr/>
              </p:nvSpPr>
              <p:spPr>
                <a:xfrm>
                  <a:off x="4512960" y="434880"/>
                  <a:ext cx="201240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99cc00"/>
                      </a:solidFill>
                      <a:latin typeface="Arial"/>
                    </a:rPr>
                    <a:t>Fire Support Element-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514400" y="585720"/>
                  <a:ext cx="21697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irborne Field Artillery Bn. (b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914280" y="803160"/>
                <a:ext cx="2669400" cy="352440"/>
                <a:chOff x="3914280" y="803160"/>
                <a:chExt cx="2669400" cy="3524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512600" y="939960"/>
                  <a:ext cx="2071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Forward Observer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US-21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914280" y="1009800"/>
                  <a:ext cx="382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12600" y="803160"/>
                  <a:ext cx="1523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4220280" y="893880"/>
                  <a:ext cx="231480" cy="195120"/>
                  <a:chOff x="4220280" y="893880"/>
                  <a:chExt cx="231480" cy="195120"/>
                </a:xfrm>
              </p:grpSpPr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220280" y="932040"/>
                    <a:ext cx="231480" cy="156960"/>
                    <a:chOff x="4220280" y="932040"/>
                    <a:chExt cx="231480" cy="15696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4220280" y="93204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4303080" y="981720"/>
                      <a:ext cx="55800" cy="558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1" name=""/>
                  <p:cNvSpPr/>
                  <p:nvPr/>
                </p:nvSpPr>
                <p:spPr>
                  <a:xfrm>
                    <a:off x="4322880" y="8938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3911040" y="1130400"/>
                <a:ext cx="2720160" cy="531360"/>
                <a:chOff x="3911040" y="1130400"/>
                <a:chExt cx="2720160" cy="5313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12600" y="1130400"/>
                  <a:ext cx="159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ff-Board Direct Fire Support</a:t>
                  </a:r>
                  <a:r>
                    <a:rPr b="1" lang="en-US" sz="1000" spc="-1" strike="noStrike">
                      <a:solidFill>
                        <a:srgbClr val="99cc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11040" y="1506600"/>
                  <a:ext cx="433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4213800" y="1380960"/>
                  <a:ext cx="231480" cy="208080"/>
                  <a:chOff x="4213800" y="1380960"/>
                  <a:chExt cx="231480" cy="20808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4291200" y="1380960"/>
                    <a:ext cx="73800" cy="28080"/>
                    <a:chOff x="4291200" y="1380960"/>
                    <a:chExt cx="73800" cy="2808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291200" y="138096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4338360" y="13824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4213800" y="1431720"/>
                    <a:ext cx="231480" cy="157320"/>
                    <a:chOff x="4213800" y="1431720"/>
                    <a:chExt cx="231480" cy="15732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4213800" y="1431720"/>
                      <a:ext cx="231480" cy="15732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307040" y="1474560"/>
                      <a:ext cx="4572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2" name=""/>
                    <p:cNvGrpSpPr/>
                    <p:nvPr/>
                  </p:nvGrpSpPr>
                  <p:grpSpPr>
                    <a:xfrm>
                      <a:off x="4291200" y="1538280"/>
                      <a:ext cx="75960" cy="38160"/>
                      <a:chOff x="4291200" y="1538280"/>
                      <a:chExt cx="75960" cy="38160"/>
                    </a:xfrm>
                  </p:grpSpPr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4291200" y="1538280"/>
                        <a:ext cx="36360" cy="3636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4330800" y="1539720"/>
                        <a:ext cx="36360" cy="3672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65" name=""/>
                <p:cNvSpPr/>
                <p:nvPr/>
              </p:nvSpPr>
              <p:spPr>
                <a:xfrm>
                  <a:off x="4512600" y="1446120"/>
                  <a:ext cx="2118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Pack Howitzer       US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512600" y="1319040"/>
                  <a:ext cx="192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Airborne Field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3911040" y="1717560"/>
                <a:ext cx="2720160" cy="342720"/>
                <a:chOff x="3911040" y="1717560"/>
                <a:chExt cx="2720160" cy="3427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911040" y="1905120"/>
                  <a:ext cx="433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4213800" y="1779480"/>
                  <a:ext cx="231480" cy="208080"/>
                  <a:chOff x="4213800" y="1779480"/>
                  <a:chExt cx="231480" cy="208080"/>
                </a:xfrm>
              </p:grpSpPr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4291200" y="1779480"/>
                    <a:ext cx="73800" cy="28080"/>
                    <a:chOff x="4291200" y="1779480"/>
                    <a:chExt cx="73800" cy="2808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291200" y="177948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338360" y="17809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4213800" y="1830240"/>
                    <a:ext cx="231480" cy="157320"/>
                    <a:chOff x="4213800" y="1830240"/>
                    <a:chExt cx="231480" cy="15732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4213800" y="1830240"/>
                      <a:ext cx="231480" cy="15732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307040" y="1873080"/>
                      <a:ext cx="4572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4291200" y="1936800"/>
                      <a:ext cx="75960" cy="38160"/>
                      <a:chOff x="4291200" y="1936800"/>
                      <a:chExt cx="75960" cy="38160"/>
                    </a:xfrm>
                  </p:grpSpPr>
                  <p:sp>
                    <p:nvSpPr>
                      <p:cNvPr id="477" name=""/>
                      <p:cNvSpPr/>
                      <p:nvPr/>
                    </p:nvSpPr>
                    <p:spPr>
                      <a:xfrm>
                        <a:off x="4291200" y="1936800"/>
                        <a:ext cx="36360" cy="3636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4330800" y="1938240"/>
                        <a:ext cx="36360" cy="3672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79" name=""/>
                <p:cNvSpPr/>
                <p:nvPr/>
              </p:nvSpPr>
              <p:spPr>
                <a:xfrm>
                  <a:off x="4512600" y="1844640"/>
                  <a:ext cx="2118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Pack Howitzer       US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12600" y="1717560"/>
                  <a:ext cx="192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nd Airborne Field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911040" y="2120760"/>
                <a:ext cx="2720160" cy="344520"/>
                <a:chOff x="3911040" y="2120760"/>
                <a:chExt cx="2720160" cy="3445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911040" y="2309760"/>
                  <a:ext cx="433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4213800" y="2184480"/>
                  <a:ext cx="231480" cy="207360"/>
                  <a:chOff x="4213800" y="2184480"/>
                  <a:chExt cx="231480" cy="207360"/>
                </a:xfrm>
              </p:grpSpPr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4291200" y="2184480"/>
                    <a:ext cx="73800" cy="27720"/>
                    <a:chOff x="4291200" y="2184480"/>
                    <a:chExt cx="73800" cy="277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4291200" y="2184480"/>
                      <a:ext cx="2808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4338360" y="2185920"/>
                      <a:ext cx="266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4213800" y="2234880"/>
                    <a:ext cx="231480" cy="156960"/>
                    <a:chOff x="4213800" y="2234880"/>
                    <a:chExt cx="231480" cy="15696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4213800" y="223488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4307040" y="227736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0" name=""/>
                    <p:cNvGrpSpPr/>
                    <p:nvPr/>
                  </p:nvGrpSpPr>
                  <p:grpSpPr>
                    <a:xfrm>
                      <a:off x="4291200" y="2341080"/>
                      <a:ext cx="75960" cy="37440"/>
                      <a:chOff x="4291200" y="2341080"/>
                      <a:chExt cx="75960" cy="37440"/>
                    </a:xfrm>
                  </p:grpSpPr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4291200" y="2341080"/>
                        <a:ext cx="36360" cy="3600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4330800" y="2342160"/>
                        <a:ext cx="36360" cy="3636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93" name=""/>
                <p:cNvSpPr/>
                <p:nvPr/>
              </p:nvSpPr>
              <p:spPr>
                <a:xfrm>
                  <a:off x="4512600" y="2249640"/>
                  <a:ext cx="2118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Pack Howitzer       US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512600" y="2120760"/>
                  <a:ext cx="192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rd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irborne Field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" name=""/>
            <p:cNvGrpSpPr/>
            <p:nvPr/>
          </p:nvGrpSpPr>
          <p:grpSpPr>
            <a:xfrm>
              <a:off x="3749400" y="3498840"/>
              <a:ext cx="2920320" cy="1226880"/>
              <a:chOff x="3749400" y="3498840"/>
              <a:chExt cx="2920320" cy="122688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3899880" y="3867120"/>
                <a:ext cx="2669760" cy="352080"/>
                <a:chOff x="3899880" y="3867120"/>
                <a:chExt cx="2669760" cy="3520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498200" y="4003560"/>
                  <a:ext cx="2071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Forward Observer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US-21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899880" y="4073400"/>
                  <a:ext cx="382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498200" y="3867120"/>
                  <a:ext cx="1523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4205880" y="3957480"/>
                  <a:ext cx="231480" cy="195120"/>
                  <a:chOff x="4205880" y="3957480"/>
                  <a:chExt cx="231480" cy="195120"/>
                </a:xfrm>
              </p:grpSpPr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4205880" y="3995640"/>
                    <a:ext cx="231480" cy="156960"/>
                    <a:chOff x="4205880" y="3995640"/>
                    <a:chExt cx="231480" cy="15696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4205880" y="399564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4288680" y="4045320"/>
                      <a:ext cx="55800" cy="558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4" name=""/>
                  <p:cNvSpPr/>
                  <p:nvPr/>
                </p:nvSpPr>
                <p:spPr>
                  <a:xfrm>
                    <a:off x="4308480" y="3957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3897000" y="4210200"/>
                <a:ext cx="2720160" cy="515520"/>
                <a:chOff x="3897000" y="4210200"/>
                <a:chExt cx="2720160" cy="5155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897000" y="4570560"/>
                  <a:ext cx="43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4199760" y="4444920"/>
                  <a:ext cx="231480" cy="208080"/>
                  <a:chOff x="4199760" y="4444920"/>
                  <a:chExt cx="231480" cy="208080"/>
                </a:xfrm>
              </p:grpSpPr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4277160" y="4444920"/>
                    <a:ext cx="73800" cy="28080"/>
                    <a:chOff x="4277160" y="4444920"/>
                    <a:chExt cx="73800" cy="2808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4277160" y="44449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4324320" y="44463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4199760" y="4495680"/>
                    <a:ext cx="231480" cy="157320"/>
                    <a:chOff x="4199760" y="4495680"/>
                    <a:chExt cx="231480" cy="15732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4199760" y="4495680"/>
                      <a:ext cx="231480" cy="15732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293000" y="4538520"/>
                      <a:ext cx="4572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4277160" y="4602240"/>
                      <a:ext cx="75960" cy="38160"/>
                      <a:chOff x="4277160" y="4602240"/>
                      <a:chExt cx="75960" cy="38160"/>
                    </a:xfrm>
                  </p:grpSpPr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4277160" y="4602240"/>
                        <a:ext cx="36360" cy="3636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4316760" y="4603680"/>
                        <a:ext cx="36360" cy="3672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7" name=""/>
                <p:cNvSpPr/>
                <p:nvPr/>
              </p:nvSpPr>
              <p:spPr>
                <a:xfrm>
                  <a:off x="4498200" y="4510080"/>
                  <a:ext cx="2118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Pack Howitzer       US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498200" y="4383000"/>
                  <a:ext cx="1920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irborne Field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496400" y="4210200"/>
                  <a:ext cx="159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ff-Board Direct Fire Support</a:t>
                  </a:r>
                  <a:r>
                    <a:rPr b="1" lang="en-US" sz="1000" spc="-1" strike="noStrike">
                      <a:solidFill>
                        <a:srgbClr val="99cc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749400" y="3498840"/>
                <a:ext cx="2920320" cy="1074600"/>
                <a:chOff x="3749400" y="3498840"/>
                <a:chExt cx="2920320" cy="1074600"/>
              </a:xfrm>
            </p:grpSpPr>
            <p:sp>
              <p:nvSpPr>
                <p:cNvPr id="521" name=""/>
                <p:cNvSpPr/>
                <p:nvPr/>
              </p:nvSpPr>
              <p:spPr>
                <a:xfrm flipH="1">
                  <a:off x="3896640" y="3659040"/>
                  <a:ext cx="252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498560" y="3498840"/>
                  <a:ext cx="201240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99cc00"/>
                      </a:solidFill>
                      <a:latin typeface="Arial"/>
                    </a:rPr>
                    <a:t>Fire Support Ele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500000" y="3649680"/>
                  <a:ext cx="21697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3 Airborne Field Artillery Batte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4" name=""/>
                <p:cNvGrpSpPr/>
                <p:nvPr/>
              </p:nvGrpSpPr>
              <p:grpSpPr>
                <a:xfrm>
                  <a:off x="3749400" y="3521160"/>
                  <a:ext cx="283680" cy="274320"/>
                  <a:chOff x="3749400" y="3521160"/>
                  <a:chExt cx="283680" cy="27432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3890520" y="35211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3749400" y="3602160"/>
                    <a:ext cx="283680" cy="193320"/>
                    <a:chOff x="3749400" y="3602160"/>
                    <a:chExt cx="283680" cy="193320"/>
                  </a:xfrm>
                </p:grpSpPr>
                <p:grpSp>
                  <p:nvGrpSpPr>
                    <p:cNvPr id="527" name=""/>
                    <p:cNvGrpSpPr/>
                    <p:nvPr/>
                  </p:nvGrpSpPr>
                  <p:grpSpPr>
                    <a:xfrm>
                      <a:off x="3749400" y="3602160"/>
                      <a:ext cx="283680" cy="193320"/>
                      <a:chOff x="3749400" y="3602160"/>
                      <a:chExt cx="283680" cy="193320"/>
                    </a:xfrm>
                  </p:grpSpPr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3749400" y="3602160"/>
                        <a:ext cx="283680" cy="193320"/>
                      </a:xfrm>
                      <a:prstGeom prst="rect">
                        <a:avLst/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3863880" y="3670200"/>
                        <a:ext cx="56160" cy="565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840" bIns="-68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0" name=""/>
                    <p:cNvGrpSpPr/>
                    <p:nvPr/>
                  </p:nvGrpSpPr>
                  <p:grpSpPr>
                    <a:xfrm>
                      <a:off x="3854160" y="3747960"/>
                      <a:ext cx="75960" cy="38160"/>
                      <a:chOff x="3854160" y="3747960"/>
                      <a:chExt cx="75960" cy="38160"/>
                    </a:xfrm>
                  </p:grpSpPr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3854160" y="3747960"/>
                        <a:ext cx="36360" cy="3636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3893760" y="3749400"/>
                        <a:ext cx="36360" cy="3672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533" name=""/>
          <p:cNvGrpSpPr/>
          <p:nvPr/>
        </p:nvGrpSpPr>
        <p:grpSpPr>
          <a:xfrm>
            <a:off x="258840" y="6773760"/>
            <a:ext cx="2923200" cy="1542600"/>
            <a:chOff x="258840" y="6773760"/>
            <a:chExt cx="2923200" cy="1542600"/>
          </a:xfrm>
        </p:grpSpPr>
        <p:grpSp>
          <p:nvGrpSpPr>
            <p:cNvPr id="534" name=""/>
            <p:cNvGrpSpPr/>
            <p:nvPr/>
          </p:nvGrpSpPr>
          <p:grpSpPr>
            <a:xfrm>
              <a:off x="409320" y="7812000"/>
              <a:ext cx="2405880" cy="504360"/>
              <a:chOff x="409320" y="7812000"/>
              <a:chExt cx="2405880" cy="50436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621720" y="7938720"/>
                <a:ext cx="2193120" cy="377640"/>
                <a:chOff x="621720" y="7938720"/>
                <a:chExt cx="2193120" cy="377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60960" y="7938720"/>
                  <a:ext cx="0" cy="2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21720" y="8069040"/>
                  <a:ext cx="231480" cy="244440"/>
                  <a:chOff x="621720" y="8069040"/>
                  <a:chExt cx="231480" cy="244440"/>
                </a:xfrm>
              </p:grpSpPr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621720" y="8123040"/>
                    <a:ext cx="231480" cy="190440"/>
                    <a:chOff x="621720" y="8123040"/>
                    <a:chExt cx="231480" cy="19044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621720" y="812304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632520" y="82864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813600" y="828648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699120" y="8069040"/>
                    <a:ext cx="73800" cy="28080"/>
                    <a:chOff x="699120" y="8069040"/>
                    <a:chExt cx="73800" cy="2808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699120" y="806904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46280" y="80704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5" name=""/>
                <p:cNvSpPr/>
                <p:nvPr/>
              </p:nvSpPr>
              <p:spPr>
                <a:xfrm>
                  <a:off x="930960" y="8100720"/>
                  <a:ext cx="188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   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409320" y="7812000"/>
                <a:ext cx="2405880" cy="232920"/>
                <a:chOff x="409320" y="7812000"/>
                <a:chExt cx="2405880" cy="2329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09320" y="7937280"/>
                  <a:ext cx="32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931320" y="7829280"/>
                  <a:ext cx="188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57mm Antitank Gun      US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632880" y="7812000"/>
                  <a:ext cx="231480" cy="207360"/>
                  <a:chOff x="632880" y="7812000"/>
                  <a:chExt cx="231480" cy="20736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632880" y="7862400"/>
                    <a:ext cx="231480" cy="156960"/>
                    <a:chOff x="632880" y="7862400"/>
                    <a:chExt cx="231480" cy="15696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632880" y="786240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V="1">
                      <a:off x="632880" y="7865640"/>
                      <a:ext cx="11376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46640" y="7862400"/>
                      <a:ext cx="113760" cy="15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710280" y="7812000"/>
                    <a:ext cx="74520" cy="27720"/>
                    <a:chOff x="710280" y="7812000"/>
                    <a:chExt cx="74520" cy="277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10280" y="781200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757800" y="781344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57" name=""/>
            <p:cNvGrpSpPr/>
            <p:nvPr/>
          </p:nvGrpSpPr>
          <p:grpSpPr>
            <a:xfrm>
              <a:off x="401400" y="7119720"/>
              <a:ext cx="2780640" cy="661680"/>
              <a:chOff x="401400" y="7119720"/>
              <a:chExt cx="2780640" cy="66168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624960" y="7383240"/>
                <a:ext cx="2556720" cy="398160"/>
                <a:chOff x="624960" y="7383240"/>
                <a:chExt cx="2556720" cy="39816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62760" y="7383240"/>
                  <a:ext cx="0" cy="279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624960" y="7543800"/>
                  <a:ext cx="231480" cy="236160"/>
                  <a:chOff x="624960" y="7543800"/>
                  <a:chExt cx="231480" cy="236160"/>
                </a:xfrm>
              </p:grpSpPr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624960" y="7589520"/>
                    <a:ext cx="231480" cy="190440"/>
                    <a:chOff x="624960" y="7589520"/>
                    <a:chExt cx="231480" cy="19044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624960" y="758952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635760" y="77529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816840" y="775296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5" name=""/>
                  <p:cNvSpPr/>
                  <p:nvPr/>
                </p:nvSpPr>
                <p:spPr>
                  <a:xfrm>
                    <a:off x="726480" y="75438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886320" y="7565760"/>
                  <a:ext cx="2295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     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401400" y="7396200"/>
                <a:ext cx="406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87040" y="7119720"/>
                <a:ext cx="185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87040" y="7261200"/>
                <a:ext cx="2295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    US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624960" y="7262640"/>
                <a:ext cx="231480" cy="208080"/>
                <a:chOff x="624960" y="7262640"/>
                <a:chExt cx="231480" cy="20808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624960" y="7313400"/>
                  <a:ext cx="231480" cy="157320"/>
                  <a:chOff x="624960" y="7313400"/>
                  <a:chExt cx="231480" cy="1573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624960" y="7313400"/>
                    <a:ext cx="231480" cy="15732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48360" y="7335720"/>
                    <a:ext cx="183960" cy="11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4" name=""/>
                <p:cNvSpPr/>
                <p:nvPr/>
              </p:nvSpPr>
              <p:spPr>
                <a:xfrm>
                  <a:off x="726120" y="72626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5" name=""/>
            <p:cNvGrpSpPr/>
            <p:nvPr/>
          </p:nvGrpSpPr>
          <p:grpSpPr>
            <a:xfrm>
              <a:off x="258840" y="6773760"/>
              <a:ext cx="2410920" cy="1168560"/>
              <a:chOff x="258840" y="6773760"/>
              <a:chExt cx="2410920" cy="1168560"/>
            </a:xfrm>
          </p:grpSpPr>
          <p:sp>
            <p:nvSpPr>
              <p:cNvPr id="576" name=""/>
              <p:cNvSpPr/>
              <p:nvPr/>
            </p:nvSpPr>
            <p:spPr>
              <a:xfrm>
                <a:off x="403200" y="6937200"/>
                <a:ext cx="1080" cy="10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14400" y="6773760"/>
                <a:ext cx="1576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9cc00"/>
                    </a:solidFill>
                    <a:latin typeface="Arial"/>
                  </a:rPr>
                  <a:t>MANEUVER ELEMENT-2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12600" y="6933960"/>
                <a:ext cx="1757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irborne Antitank Plato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258840" y="6818400"/>
                <a:ext cx="283680" cy="245160"/>
                <a:chOff x="258840" y="6818400"/>
                <a:chExt cx="283680" cy="24516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258840" y="6870600"/>
                  <a:ext cx="283680" cy="192960"/>
                  <a:chOff x="258840" y="6870600"/>
                  <a:chExt cx="283680" cy="192960"/>
                </a:xfrm>
              </p:grpSpPr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258840" y="6870600"/>
                    <a:ext cx="283680" cy="192960"/>
                    <a:chOff x="258840" y="6870600"/>
                    <a:chExt cx="283680" cy="19296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258840" y="6870600"/>
                      <a:ext cx="283680" cy="192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flipV="1">
                      <a:off x="258840" y="6874200"/>
                      <a:ext cx="139320" cy="186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398160" y="6870600"/>
                      <a:ext cx="139320" cy="18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354240" y="7007040"/>
                    <a:ext cx="92520" cy="46080"/>
                    <a:chOff x="354240" y="7007040"/>
                    <a:chExt cx="92520" cy="4608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354240" y="7007040"/>
                      <a:ext cx="44280" cy="442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402480" y="7008480"/>
                      <a:ext cx="44280" cy="4464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4800" y="6818400"/>
                  <a:ext cx="131760" cy="26640"/>
                  <a:chOff x="334800" y="6818400"/>
                  <a:chExt cx="131760" cy="26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4800" y="6818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85560" y="68184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39560" y="6818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92" name=""/>
          <p:cNvGrpSpPr/>
          <p:nvPr/>
        </p:nvGrpSpPr>
        <p:grpSpPr>
          <a:xfrm>
            <a:off x="438120" y="4788000"/>
            <a:ext cx="2381040" cy="337680"/>
            <a:chOff x="438120" y="4788000"/>
            <a:chExt cx="2381040" cy="337680"/>
          </a:xfrm>
        </p:grpSpPr>
        <p:sp>
          <p:nvSpPr>
            <p:cNvPr id="593" name=""/>
            <p:cNvSpPr/>
            <p:nvPr/>
          </p:nvSpPr>
          <p:spPr>
            <a:xfrm>
              <a:off x="438120" y="495792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661680" y="4834080"/>
              <a:ext cx="231840" cy="207360"/>
              <a:chOff x="661680" y="4834080"/>
              <a:chExt cx="231840" cy="207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661680" y="4884480"/>
                <a:ext cx="231840" cy="156960"/>
                <a:chOff x="661680" y="4884480"/>
                <a:chExt cx="231840" cy="1569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661680" y="488448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85440" y="4906440"/>
                  <a:ext cx="184320" cy="11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763200" y="4834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965160" y="4788000"/>
              <a:ext cx="173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69840" y="4910040"/>
              <a:ext cx="184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US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38120" y="5470560"/>
            <a:ext cx="2406600" cy="228240"/>
            <a:chOff x="438120" y="5470560"/>
            <a:chExt cx="2406600" cy="228240"/>
          </a:xfrm>
        </p:grpSpPr>
        <p:sp>
          <p:nvSpPr>
            <p:cNvPr id="602" name=""/>
            <p:cNvSpPr/>
            <p:nvPr/>
          </p:nvSpPr>
          <p:spPr>
            <a:xfrm>
              <a:off x="438120" y="559116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60480" y="5483160"/>
              <a:ext cx="188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Light Machine Gun      US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638280" y="5519520"/>
              <a:ext cx="231480" cy="157320"/>
              <a:chOff x="638280" y="5519520"/>
              <a:chExt cx="231480" cy="157320"/>
            </a:xfrm>
          </p:grpSpPr>
          <p:sp>
            <p:nvSpPr>
              <p:cNvPr id="605" name=""/>
              <p:cNvSpPr/>
              <p:nvPr/>
            </p:nvSpPr>
            <p:spPr>
              <a:xfrm>
                <a:off x="638280" y="5519520"/>
                <a:ext cx="23148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38280" y="5519520"/>
                <a:ext cx="55440" cy="155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638280" y="5521320"/>
                <a:ext cx="22788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40440" y="5519520"/>
                <a:ext cx="225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17480" y="5470560"/>
              <a:ext cx="74520" cy="28080"/>
              <a:chOff x="717480" y="5470560"/>
              <a:chExt cx="74520" cy="28080"/>
            </a:xfrm>
          </p:grpSpPr>
          <p:sp>
            <p:nvSpPr>
              <p:cNvPr id="610" name=""/>
              <p:cNvSpPr/>
              <p:nvPr/>
            </p:nvSpPr>
            <p:spPr>
              <a:xfrm>
                <a:off x="717480" y="5470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65000" y="54720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304920" y="4267080"/>
            <a:ext cx="2404800" cy="1660680"/>
            <a:chOff x="304920" y="4267080"/>
            <a:chExt cx="2404800" cy="1660680"/>
          </a:xfrm>
        </p:grpSpPr>
        <p:sp>
          <p:nvSpPr>
            <p:cNvPr id="613" name=""/>
            <p:cNvSpPr/>
            <p:nvPr/>
          </p:nvSpPr>
          <p:spPr>
            <a:xfrm>
              <a:off x="442800" y="4486320"/>
              <a:ext cx="0" cy="14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54720" y="4290840"/>
              <a:ext cx="1576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MANEUVER ELEMENT-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52560" y="4451400"/>
              <a:ext cx="1757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irborne Engineer Compan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04920" y="4267080"/>
              <a:ext cx="283680" cy="261360"/>
              <a:chOff x="304920" y="4267080"/>
              <a:chExt cx="283680" cy="26136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304920" y="4335120"/>
                <a:ext cx="283680" cy="193320"/>
                <a:chOff x="304920" y="4335120"/>
                <a:chExt cx="283680" cy="1933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04920" y="4335120"/>
                  <a:ext cx="283680" cy="193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9" name=""/>
                <p:cNvGrpSpPr/>
                <p:nvPr/>
              </p:nvGrpSpPr>
              <p:grpSpPr>
                <a:xfrm>
                  <a:off x="388440" y="4374360"/>
                  <a:ext cx="114120" cy="61920"/>
                  <a:chOff x="388440" y="4374360"/>
                  <a:chExt cx="114120" cy="6192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394560" y="4374360"/>
                    <a:ext cx="0" cy="619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44600" y="4377600"/>
                    <a:ext cx="0" cy="583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95360" y="4377600"/>
                    <a:ext cx="0" cy="583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88440" y="4377600"/>
                    <a:ext cx="1141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399960" y="4464000"/>
                  <a:ext cx="92520" cy="46080"/>
                  <a:chOff x="399960" y="4464000"/>
                  <a:chExt cx="92520" cy="4608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399960" y="4464000"/>
                    <a:ext cx="44280" cy="4428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448200" y="4465440"/>
                    <a:ext cx="44280" cy="4464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7" name=""/>
              <p:cNvSpPr/>
              <p:nvPr/>
            </p:nvSpPr>
            <p:spPr>
              <a:xfrm>
                <a:off x="446040" y="4267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438120" y="5153040"/>
            <a:ext cx="2536920" cy="354600"/>
            <a:chOff x="438120" y="5153040"/>
            <a:chExt cx="2536920" cy="354600"/>
          </a:xfrm>
        </p:grpSpPr>
        <p:sp>
          <p:nvSpPr>
            <p:cNvPr id="629" name=""/>
            <p:cNvSpPr/>
            <p:nvPr/>
          </p:nvSpPr>
          <p:spPr>
            <a:xfrm>
              <a:off x="438120" y="5278320"/>
              <a:ext cx="32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60480" y="5170320"/>
              <a:ext cx="201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Engineers                    US-20          (3 with bazooka, 3 with Flamethrower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647640" y="5153040"/>
              <a:ext cx="231840" cy="199440"/>
              <a:chOff x="647640" y="5153040"/>
              <a:chExt cx="231840" cy="19944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647640" y="5195520"/>
                <a:ext cx="231840" cy="156960"/>
                <a:chOff x="647640" y="5195520"/>
                <a:chExt cx="231840" cy="1569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47640" y="519552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4" name=""/>
                <p:cNvGrpSpPr/>
                <p:nvPr/>
              </p:nvGrpSpPr>
              <p:grpSpPr>
                <a:xfrm>
                  <a:off x="716040" y="5227200"/>
                  <a:ext cx="93600" cy="50400"/>
                  <a:chOff x="716040" y="5227200"/>
                  <a:chExt cx="93600" cy="5040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721080" y="5227200"/>
                    <a:ext cx="0" cy="504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762120" y="522972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803520" y="522972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16040" y="5229720"/>
                    <a:ext cx="9360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725400" y="5299920"/>
                  <a:ext cx="75960" cy="37440"/>
                  <a:chOff x="725400" y="5299920"/>
                  <a:chExt cx="75960" cy="3744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725400" y="5299920"/>
                    <a:ext cx="36360" cy="3600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65000" y="5301000"/>
                    <a:ext cx="36360" cy="3636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2" name=""/>
              <p:cNvGrpSpPr/>
              <p:nvPr/>
            </p:nvGrpSpPr>
            <p:grpSpPr>
              <a:xfrm>
                <a:off x="725400" y="5153040"/>
                <a:ext cx="74520" cy="28080"/>
                <a:chOff x="725400" y="5153040"/>
                <a:chExt cx="74520" cy="280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725400" y="5153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2920" y="51544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5" name=""/>
          <p:cNvGrpSpPr/>
          <p:nvPr/>
        </p:nvGrpSpPr>
        <p:grpSpPr>
          <a:xfrm>
            <a:off x="428760" y="5681520"/>
            <a:ext cx="2390760" cy="365040"/>
            <a:chOff x="428760" y="5681520"/>
            <a:chExt cx="2390760" cy="365040"/>
          </a:xfrm>
        </p:grpSpPr>
        <p:sp>
          <p:nvSpPr>
            <p:cNvPr id="646" name=""/>
            <p:cNvSpPr/>
            <p:nvPr/>
          </p:nvSpPr>
          <p:spPr>
            <a:xfrm>
              <a:off x="428760" y="593100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35280" y="5830920"/>
              <a:ext cx="188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60mm Mortar                US-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33480" y="568152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646200" y="5799240"/>
              <a:ext cx="239760" cy="205920"/>
              <a:chOff x="646200" y="5799240"/>
              <a:chExt cx="239760" cy="20592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729000" y="5799240"/>
                <a:ext cx="74520" cy="28080"/>
                <a:chOff x="729000" y="5799240"/>
                <a:chExt cx="74520" cy="280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729000" y="5799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76520" y="5800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646200" y="5848200"/>
                <a:ext cx="239760" cy="156960"/>
                <a:chOff x="646200" y="5848200"/>
                <a:chExt cx="239760" cy="1569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46200" y="5848200"/>
                  <a:ext cx="23976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731880" y="5870160"/>
                  <a:ext cx="68400" cy="109800"/>
                  <a:chOff x="731880" y="5870160"/>
                  <a:chExt cx="68400" cy="1098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765360" y="5870160"/>
                    <a:ext cx="0" cy="109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731880" y="5973480"/>
                    <a:ext cx="6840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58" name=""/>
          <p:cNvGrpSpPr/>
          <p:nvPr/>
        </p:nvGrpSpPr>
        <p:grpSpPr>
          <a:xfrm>
            <a:off x="304920" y="2286000"/>
            <a:ext cx="2544480" cy="1755360"/>
            <a:chOff x="304920" y="2286000"/>
            <a:chExt cx="2544480" cy="1755360"/>
          </a:xfrm>
        </p:grpSpPr>
        <p:grpSp>
          <p:nvGrpSpPr>
            <p:cNvPr id="659" name=""/>
            <p:cNvGrpSpPr/>
            <p:nvPr/>
          </p:nvGrpSpPr>
          <p:grpSpPr>
            <a:xfrm>
              <a:off x="304920" y="2286000"/>
              <a:ext cx="2256840" cy="1636200"/>
              <a:chOff x="304920" y="2286000"/>
              <a:chExt cx="2256840" cy="1636200"/>
            </a:xfrm>
          </p:grpSpPr>
          <p:sp>
            <p:nvSpPr>
              <p:cNvPr id="660" name=""/>
              <p:cNvSpPr/>
              <p:nvPr/>
            </p:nvSpPr>
            <p:spPr>
              <a:xfrm>
                <a:off x="447480" y="2481120"/>
                <a:ext cx="0" cy="144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304920" y="2315880"/>
                <a:ext cx="283320" cy="262440"/>
                <a:chOff x="304920" y="2315880"/>
                <a:chExt cx="283320" cy="26244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304920" y="2385360"/>
                  <a:ext cx="283320" cy="192960"/>
                  <a:chOff x="304920" y="2385360"/>
                  <a:chExt cx="283320" cy="192960"/>
                </a:xfrm>
              </p:grpSpPr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304920" y="2385360"/>
                    <a:ext cx="283320" cy="192960"/>
                    <a:chOff x="304920" y="2385360"/>
                    <a:chExt cx="283320" cy="19296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304920" y="2385360"/>
                      <a:ext cx="283320" cy="192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V="1">
                      <a:off x="307800" y="2388240"/>
                      <a:ext cx="275760" cy="18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304920" y="2388240"/>
                      <a:ext cx="281880" cy="18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99960" y="2529720"/>
                    <a:ext cx="92520" cy="46080"/>
                    <a:chOff x="399960" y="2529720"/>
                    <a:chExt cx="92520" cy="460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399960" y="2529720"/>
                      <a:ext cx="44280" cy="442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448200" y="2531160"/>
                      <a:ext cx="44280" cy="4464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70" name=""/>
                <p:cNvSpPr/>
                <p:nvPr/>
              </p:nvSpPr>
              <p:spPr>
                <a:xfrm>
                  <a:off x="447480" y="231588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" name=""/>
              <p:cNvSpPr/>
              <p:nvPr/>
            </p:nvSpPr>
            <p:spPr>
              <a:xfrm>
                <a:off x="958680" y="2286000"/>
                <a:ext cx="1576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9cc00"/>
                    </a:solidFill>
                    <a:latin typeface="Arial"/>
                  </a:rPr>
                  <a:t>MANEUVER ELEMENT-2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956880" y="2446200"/>
                <a:ext cx="1604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der Infantry Compan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42800" y="2782800"/>
              <a:ext cx="2381040" cy="337680"/>
              <a:chOff x="442800" y="2782800"/>
              <a:chExt cx="2381040" cy="337680"/>
            </a:xfrm>
          </p:grpSpPr>
          <p:sp>
            <p:nvSpPr>
              <p:cNvPr id="674" name=""/>
              <p:cNvSpPr/>
              <p:nvPr/>
            </p:nvSpPr>
            <p:spPr>
              <a:xfrm>
                <a:off x="442800" y="2952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666360" y="2828880"/>
                <a:ext cx="231840" cy="207360"/>
                <a:chOff x="666360" y="2828880"/>
                <a:chExt cx="231840" cy="20736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666360" y="2879280"/>
                  <a:ext cx="231840" cy="156960"/>
                  <a:chOff x="666360" y="2879280"/>
                  <a:chExt cx="231840" cy="15696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666360" y="287928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690120" y="2901240"/>
                    <a:ext cx="184320" cy="11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9" name=""/>
                <p:cNvSpPr/>
                <p:nvPr/>
              </p:nvSpPr>
              <p:spPr>
                <a:xfrm>
                  <a:off x="767880" y="2828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"/>
              <p:cNvSpPr/>
              <p:nvPr/>
            </p:nvSpPr>
            <p:spPr>
              <a:xfrm>
                <a:off x="969840" y="2782800"/>
                <a:ext cx="173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74520" y="2904840"/>
                <a:ext cx="184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US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442800" y="3465360"/>
              <a:ext cx="2406600" cy="228240"/>
              <a:chOff x="442800" y="3465360"/>
              <a:chExt cx="2406600" cy="228240"/>
            </a:xfrm>
          </p:grpSpPr>
          <p:sp>
            <p:nvSpPr>
              <p:cNvPr id="683" name=""/>
              <p:cNvSpPr/>
              <p:nvPr/>
            </p:nvSpPr>
            <p:spPr>
              <a:xfrm>
                <a:off x="442800" y="35859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965160" y="3477960"/>
                <a:ext cx="188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Light Machine Gun      US-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42960" y="3514320"/>
                <a:ext cx="231480" cy="157320"/>
                <a:chOff x="642960" y="3514320"/>
                <a:chExt cx="231480" cy="1573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42960" y="3514320"/>
                  <a:ext cx="23148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42960" y="3514320"/>
                  <a:ext cx="55440" cy="15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42960" y="3516120"/>
                  <a:ext cx="2278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5120" y="3514320"/>
                  <a:ext cx="2253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22160" y="3465360"/>
                <a:ext cx="74520" cy="28080"/>
                <a:chOff x="722160" y="3465360"/>
                <a:chExt cx="74520" cy="2808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722160" y="3465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69680" y="3466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"/>
            <p:cNvGrpSpPr/>
            <p:nvPr/>
          </p:nvGrpSpPr>
          <p:grpSpPr>
            <a:xfrm>
              <a:off x="442800" y="3147840"/>
              <a:ext cx="2406600" cy="354600"/>
              <a:chOff x="442800" y="3147840"/>
              <a:chExt cx="2406600" cy="354600"/>
            </a:xfrm>
          </p:grpSpPr>
          <p:sp>
            <p:nvSpPr>
              <p:cNvPr id="694" name=""/>
              <p:cNvSpPr/>
              <p:nvPr/>
            </p:nvSpPr>
            <p:spPr>
              <a:xfrm>
                <a:off x="442800" y="32731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964800" y="3165120"/>
                <a:ext cx="1884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Infantry                        US-18       (3 with bazook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666360" y="3147840"/>
                <a:ext cx="231840" cy="201600"/>
                <a:chOff x="666360" y="3147840"/>
                <a:chExt cx="231840" cy="201600"/>
              </a:xfrm>
            </p:grpSpPr>
            <p:grpSp>
              <p:nvGrpSpPr>
                <p:cNvPr id="697" name=""/>
                <p:cNvGrpSpPr/>
                <p:nvPr/>
              </p:nvGrpSpPr>
              <p:grpSpPr>
                <a:xfrm>
                  <a:off x="666360" y="3192480"/>
                  <a:ext cx="231840" cy="156960"/>
                  <a:chOff x="666360" y="3192480"/>
                  <a:chExt cx="231840" cy="15696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666360" y="319248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V="1">
                    <a:off x="668520" y="319464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66360" y="319464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745920" y="3147840"/>
                  <a:ext cx="74520" cy="28800"/>
                  <a:chOff x="745920" y="3147840"/>
                  <a:chExt cx="74520" cy="28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745920" y="31478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793440" y="3149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4" name=""/>
            <p:cNvGrpSpPr/>
            <p:nvPr/>
          </p:nvGrpSpPr>
          <p:grpSpPr>
            <a:xfrm>
              <a:off x="442800" y="3676680"/>
              <a:ext cx="2390760" cy="364680"/>
              <a:chOff x="442800" y="3676680"/>
              <a:chExt cx="2390760" cy="364680"/>
            </a:xfrm>
          </p:grpSpPr>
          <p:sp>
            <p:nvSpPr>
              <p:cNvPr id="705" name=""/>
              <p:cNvSpPr/>
              <p:nvPr/>
            </p:nvSpPr>
            <p:spPr>
              <a:xfrm>
                <a:off x="442800" y="392580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49320" y="3825720"/>
                <a:ext cx="188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60mm Mortar                US-2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947880" y="3676680"/>
                <a:ext cx="173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646200" y="3808440"/>
                <a:ext cx="239760" cy="205920"/>
                <a:chOff x="646200" y="3808440"/>
                <a:chExt cx="239760" cy="205920"/>
              </a:xfrm>
            </p:grpSpPr>
            <p:grpSp>
              <p:nvGrpSpPr>
                <p:cNvPr id="709" name=""/>
                <p:cNvGrpSpPr/>
                <p:nvPr/>
              </p:nvGrpSpPr>
              <p:grpSpPr>
                <a:xfrm>
                  <a:off x="729000" y="3808440"/>
                  <a:ext cx="74520" cy="28080"/>
                  <a:chOff x="729000" y="3808440"/>
                  <a:chExt cx="74520" cy="2808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729000" y="3808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76520" y="3809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646200" y="3857400"/>
                  <a:ext cx="239760" cy="156960"/>
                  <a:chOff x="646200" y="3857400"/>
                  <a:chExt cx="239760" cy="15696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646200" y="3857400"/>
                    <a:ext cx="23976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731880" y="3879360"/>
                    <a:ext cx="68400" cy="109800"/>
                    <a:chOff x="731880" y="3879360"/>
                    <a:chExt cx="68400" cy="10980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765360" y="3879360"/>
                      <a:ext cx="0" cy="1098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731880" y="3982680"/>
                      <a:ext cx="6840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717" name=""/>
          <p:cNvGrpSpPr/>
          <p:nvPr/>
        </p:nvGrpSpPr>
        <p:grpSpPr>
          <a:xfrm>
            <a:off x="304920" y="380880"/>
            <a:ext cx="2630520" cy="1755720"/>
            <a:chOff x="304920" y="380880"/>
            <a:chExt cx="2630520" cy="1755720"/>
          </a:xfrm>
        </p:grpSpPr>
        <p:grpSp>
          <p:nvGrpSpPr>
            <p:cNvPr id="718" name=""/>
            <p:cNvGrpSpPr/>
            <p:nvPr/>
          </p:nvGrpSpPr>
          <p:grpSpPr>
            <a:xfrm>
              <a:off x="304920" y="380880"/>
              <a:ext cx="2630520" cy="1636920"/>
              <a:chOff x="304920" y="380880"/>
              <a:chExt cx="2630520" cy="1636920"/>
            </a:xfrm>
          </p:grpSpPr>
          <p:sp>
            <p:nvSpPr>
              <p:cNvPr id="719" name=""/>
              <p:cNvSpPr/>
              <p:nvPr/>
            </p:nvSpPr>
            <p:spPr>
              <a:xfrm>
                <a:off x="447840" y="576360"/>
                <a:ext cx="0" cy="144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304920" y="411120"/>
                <a:ext cx="283680" cy="263160"/>
                <a:chOff x="304920" y="411120"/>
                <a:chExt cx="283680" cy="263160"/>
              </a:xfrm>
            </p:grpSpPr>
            <p:grpSp>
              <p:nvGrpSpPr>
                <p:cNvPr id="721" name=""/>
                <p:cNvGrpSpPr/>
                <p:nvPr/>
              </p:nvGrpSpPr>
              <p:grpSpPr>
                <a:xfrm>
                  <a:off x="304920" y="480960"/>
                  <a:ext cx="283680" cy="193320"/>
                  <a:chOff x="304920" y="480960"/>
                  <a:chExt cx="283680" cy="193320"/>
                </a:xfrm>
              </p:grpSpPr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304920" y="480960"/>
                    <a:ext cx="283680" cy="193320"/>
                    <a:chOff x="304920" y="480960"/>
                    <a:chExt cx="283680" cy="19332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304920" y="480960"/>
                      <a:ext cx="283680" cy="19332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 flipV="1">
                      <a:off x="307800" y="483480"/>
                      <a:ext cx="276120" cy="18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304920" y="483840"/>
                      <a:ext cx="28224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99960" y="625680"/>
                    <a:ext cx="92520" cy="46080"/>
                    <a:chOff x="399960" y="625680"/>
                    <a:chExt cx="92520" cy="460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399960" y="625680"/>
                      <a:ext cx="44280" cy="442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448200" y="627120"/>
                      <a:ext cx="44280" cy="4464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29" name=""/>
                <p:cNvSpPr/>
                <p:nvPr/>
              </p:nvSpPr>
              <p:spPr>
                <a:xfrm>
                  <a:off x="447840" y="411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"/>
              <p:cNvSpPr/>
              <p:nvPr/>
            </p:nvSpPr>
            <p:spPr>
              <a:xfrm>
                <a:off x="959400" y="380880"/>
                <a:ext cx="1576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9cc00"/>
                    </a:solidFill>
                    <a:latin typeface="Arial"/>
                  </a:rPr>
                  <a:t>MANEUVER ELEMENT-2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957240" y="541440"/>
                <a:ext cx="1978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arachute Infantry Compan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442800" y="878040"/>
              <a:ext cx="2381040" cy="337320"/>
              <a:chOff x="442800" y="878040"/>
              <a:chExt cx="2381040" cy="337320"/>
            </a:xfrm>
          </p:grpSpPr>
          <p:sp>
            <p:nvSpPr>
              <p:cNvPr id="733" name=""/>
              <p:cNvSpPr/>
              <p:nvPr/>
            </p:nvSpPr>
            <p:spPr>
              <a:xfrm>
                <a:off x="442800" y="10476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666360" y="923760"/>
                <a:ext cx="231840" cy="207000"/>
                <a:chOff x="666360" y="923760"/>
                <a:chExt cx="231840" cy="20700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666360" y="974160"/>
                  <a:ext cx="231840" cy="156600"/>
                  <a:chOff x="666360" y="974160"/>
                  <a:chExt cx="231840" cy="15660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666360" y="974160"/>
                    <a:ext cx="231840" cy="156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90120" y="996120"/>
                    <a:ext cx="184320" cy="11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>
                  <a:off x="767880" y="9237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>
                <a:off x="969840" y="878040"/>
                <a:ext cx="173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74520" y="999720"/>
                <a:ext cx="184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US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442800" y="1560600"/>
              <a:ext cx="2406600" cy="228240"/>
              <a:chOff x="442800" y="1560600"/>
              <a:chExt cx="2406600" cy="228240"/>
            </a:xfrm>
          </p:grpSpPr>
          <p:sp>
            <p:nvSpPr>
              <p:cNvPr id="742" name=""/>
              <p:cNvSpPr/>
              <p:nvPr/>
            </p:nvSpPr>
            <p:spPr>
              <a:xfrm>
                <a:off x="442800" y="1681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65160" y="1573200"/>
                <a:ext cx="188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Light  Machine Gun   US-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4" name=""/>
              <p:cNvGrpSpPr/>
              <p:nvPr/>
            </p:nvGrpSpPr>
            <p:grpSpPr>
              <a:xfrm>
                <a:off x="642960" y="1609560"/>
                <a:ext cx="231480" cy="157320"/>
                <a:chOff x="642960" y="1609560"/>
                <a:chExt cx="231480" cy="1573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42960" y="1609560"/>
                  <a:ext cx="23148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42960" y="1609560"/>
                  <a:ext cx="55440" cy="15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642960" y="1611360"/>
                  <a:ext cx="227880" cy="15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45120" y="1609560"/>
                  <a:ext cx="2253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722160" y="1560600"/>
                <a:ext cx="74520" cy="28080"/>
                <a:chOff x="722160" y="1560600"/>
                <a:chExt cx="74520" cy="28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22160" y="15606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69680" y="1562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2" name=""/>
            <p:cNvGrpSpPr/>
            <p:nvPr/>
          </p:nvGrpSpPr>
          <p:grpSpPr>
            <a:xfrm>
              <a:off x="442800" y="1243080"/>
              <a:ext cx="2406600" cy="354600"/>
              <a:chOff x="442800" y="1243080"/>
              <a:chExt cx="2406600" cy="354600"/>
            </a:xfrm>
          </p:grpSpPr>
          <p:sp>
            <p:nvSpPr>
              <p:cNvPr id="753" name=""/>
              <p:cNvSpPr/>
              <p:nvPr/>
            </p:nvSpPr>
            <p:spPr>
              <a:xfrm>
                <a:off x="442800" y="13683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965160" y="1260360"/>
                <a:ext cx="188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Parachute Infantry     US-33       (3 with bazook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647640" y="1243080"/>
                <a:ext cx="231840" cy="207360"/>
                <a:chOff x="647640" y="1243080"/>
                <a:chExt cx="231840" cy="207360"/>
              </a:xfrm>
            </p:grpSpPr>
            <p:grpSp>
              <p:nvGrpSpPr>
                <p:cNvPr id="756" name=""/>
                <p:cNvGrpSpPr/>
                <p:nvPr/>
              </p:nvGrpSpPr>
              <p:grpSpPr>
                <a:xfrm>
                  <a:off x="647640" y="1293480"/>
                  <a:ext cx="231840" cy="156960"/>
                  <a:chOff x="647640" y="1293480"/>
                  <a:chExt cx="231840" cy="156960"/>
                </a:xfrm>
              </p:grpSpPr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647640" y="1293480"/>
                    <a:ext cx="231840" cy="156960"/>
                    <a:chOff x="647640" y="1293480"/>
                    <a:chExt cx="231840" cy="156960"/>
                  </a:xfrm>
                </p:grpSpPr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647640" y="129348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 flipV="1">
                      <a:off x="649800" y="1295640"/>
                      <a:ext cx="225720" cy="15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647640" y="1295640"/>
                      <a:ext cx="230760" cy="149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725400" y="1410840"/>
                    <a:ext cx="75960" cy="38160"/>
                    <a:chOff x="725400" y="1410840"/>
                    <a:chExt cx="75960" cy="3816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725400" y="1410840"/>
                      <a:ext cx="36360" cy="36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765000" y="1412280"/>
                      <a:ext cx="36360" cy="36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725400" y="1243080"/>
                  <a:ext cx="74520" cy="28080"/>
                  <a:chOff x="725400" y="1243080"/>
                  <a:chExt cx="74520" cy="2808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725400" y="1243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772920" y="1244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67" name=""/>
            <p:cNvGrpSpPr/>
            <p:nvPr/>
          </p:nvGrpSpPr>
          <p:grpSpPr>
            <a:xfrm>
              <a:off x="442800" y="1771560"/>
              <a:ext cx="2390760" cy="365040"/>
              <a:chOff x="442800" y="1771560"/>
              <a:chExt cx="2390760" cy="365040"/>
            </a:xfrm>
          </p:grpSpPr>
          <p:sp>
            <p:nvSpPr>
              <p:cNvPr id="768" name=""/>
              <p:cNvSpPr/>
              <p:nvPr/>
            </p:nvSpPr>
            <p:spPr>
              <a:xfrm>
                <a:off x="442800" y="202104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49320" y="1920960"/>
                <a:ext cx="188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60mm Mortar             US-2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47880" y="1771560"/>
                <a:ext cx="173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636480" y="1874880"/>
                <a:ext cx="239760" cy="205920"/>
                <a:chOff x="636480" y="1874880"/>
                <a:chExt cx="239760" cy="20592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719280" y="1874880"/>
                  <a:ext cx="74520" cy="28080"/>
                  <a:chOff x="719280" y="1874880"/>
                  <a:chExt cx="74520" cy="280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719280" y="1874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766800" y="1876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636480" y="1923840"/>
                  <a:ext cx="239760" cy="156960"/>
                  <a:chOff x="636480" y="1923840"/>
                  <a:chExt cx="239760" cy="1569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636480" y="1923840"/>
                    <a:ext cx="23976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722160" y="1945800"/>
                    <a:ext cx="68400" cy="109800"/>
                    <a:chOff x="722160" y="1945800"/>
                    <a:chExt cx="68400" cy="10980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755640" y="1945800"/>
                      <a:ext cx="0" cy="1098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722160" y="2049120"/>
                      <a:ext cx="6840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780" name=""/>
          <p:cNvGrpSpPr/>
          <p:nvPr/>
        </p:nvGrpSpPr>
        <p:grpSpPr>
          <a:xfrm>
            <a:off x="3656160" y="5985000"/>
            <a:ext cx="2780640" cy="660960"/>
            <a:chOff x="3656160" y="5985000"/>
            <a:chExt cx="2780640" cy="660960"/>
          </a:xfrm>
        </p:grpSpPr>
        <p:grpSp>
          <p:nvGrpSpPr>
            <p:cNvPr id="781" name=""/>
            <p:cNvGrpSpPr/>
            <p:nvPr/>
          </p:nvGrpSpPr>
          <p:grpSpPr>
            <a:xfrm>
              <a:off x="3879720" y="6248160"/>
              <a:ext cx="2556720" cy="397800"/>
              <a:chOff x="3879720" y="6248160"/>
              <a:chExt cx="2556720" cy="397800"/>
            </a:xfrm>
          </p:grpSpPr>
          <p:sp>
            <p:nvSpPr>
              <p:cNvPr id="782" name=""/>
              <p:cNvSpPr/>
              <p:nvPr/>
            </p:nvSpPr>
            <p:spPr>
              <a:xfrm>
                <a:off x="3917520" y="6248160"/>
                <a:ext cx="0" cy="27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3879720" y="6408360"/>
                <a:ext cx="231480" cy="235800"/>
                <a:chOff x="3879720" y="6408360"/>
                <a:chExt cx="231480" cy="235800"/>
              </a:xfrm>
            </p:grpSpPr>
            <p:grpSp>
              <p:nvGrpSpPr>
                <p:cNvPr id="784" name=""/>
                <p:cNvGrpSpPr/>
                <p:nvPr/>
              </p:nvGrpSpPr>
              <p:grpSpPr>
                <a:xfrm>
                  <a:off x="3879720" y="6453720"/>
                  <a:ext cx="231480" cy="190440"/>
                  <a:chOff x="3879720" y="6453720"/>
                  <a:chExt cx="231480" cy="19044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3879720" y="6453720"/>
                    <a:ext cx="23148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890520" y="66171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4071600" y="66171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8" name=""/>
                <p:cNvSpPr/>
                <p:nvPr/>
              </p:nvSpPr>
              <p:spPr>
                <a:xfrm>
                  <a:off x="3981240" y="64083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4141080" y="6430320"/>
                <a:ext cx="2295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Jeep                              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656160" y="6261120"/>
              <a:ext cx="406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41800" y="5985000"/>
              <a:ext cx="185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41800" y="6126120"/>
              <a:ext cx="2295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                   US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3879720" y="6127560"/>
              <a:ext cx="231480" cy="207360"/>
              <a:chOff x="3879720" y="6127560"/>
              <a:chExt cx="231480" cy="20736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3879720" y="6177960"/>
                <a:ext cx="231480" cy="156960"/>
                <a:chOff x="3879720" y="6177960"/>
                <a:chExt cx="231480" cy="15696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3879720" y="6177960"/>
                  <a:ext cx="23148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903120" y="6199920"/>
                  <a:ext cx="183960" cy="11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3980880" y="612756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8" name=""/>
          <p:cNvGrpSpPr/>
          <p:nvPr/>
        </p:nvGrpSpPr>
        <p:grpSpPr>
          <a:xfrm>
            <a:off x="3876840" y="6804000"/>
            <a:ext cx="2193840" cy="377640"/>
            <a:chOff x="3876840" y="6804000"/>
            <a:chExt cx="2193840" cy="377640"/>
          </a:xfrm>
        </p:grpSpPr>
        <p:sp>
          <p:nvSpPr>
            <p:cNvPr id="799" name=""/>
            <p:cNvSpPr/>
            <p:nvPr/>
          </p:nvSpPr>
          <p:spPr>
            <a:xfrm>
              <a:off x="3916440" y="6804000"/>
              <a:ext cx="0" cy="2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3876840" y="6934320"/>
              <a:ext cx="231840" cy="244440"/>
              <a:chOff x="3876840" y="6934320"/>
              <a:chExt cx="231840" cy="24444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3876840" y="6988320"/>
                <a:ext cx="231840" cy="190440"/>
                <a:chOff x="3876840" y="6988320"/>
                <a:chExt cx="231840" cy="19044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3876840" y="698832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888000" y="7151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069080" y="7151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3954600" y="6934320"/>
                <a:ext cx="74520" cy="28080"/>
                <a:chOff x="3954600" y="6934320"/>
                <a:chExt cx="74520" cy="2808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3954600" y="6934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02120" y="69357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8" name=""/>
            <p:cNvSpPr/>
            <p:nvPr/>
          </p:nvSpPr>
          <p:spPr>
            <a:xfrm>
              <a:off x="4186440" y="6966000"/>
              <a:ext cx="188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/4 ton Truck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US-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3664080" y="680256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186080" y="6678720"/>
            <a:ext cx="186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7mm Antiaircraft Gun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c)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Website prototy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657600" y="5786280"/>
            <a:ext cx="144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69520" y="5622840"/>
            <a:ext cx="157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cc00"/>
                </a:solidFill>
                <a:latin typeface="Arial"/>
              </a:rPr>
              <a:t>MANEUVER ELEMENT-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67360" y="5783400"/>
            <a:ext cx="193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irborne Antiaircraft Platoon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511440" y="5661000"/>
            <a:ext cx="291600" cy="245880"/>
            <a:chOff x="3511440" y="5661000"/>
            <a:chExt cx="291600" cy="245880"/>
          </a:xfrm>
        </p:grpSpPr>
        <p:grpSp>
          <p:nvGrpSpPr>
            <p:cNvPr id="815" name=""/>
            <p:cNvGrpSpPr/>
            <p:nvPr/>
          </p:nvGrpSpPr>
          <p:grpSpPr>
            <a:xfrm>
              <a:off x="3511440" y="5716800"/>
              <a:ext cx="291600" cy="190080"/>
              <a:chOff x="3511440" y="5716800"/>
              <a:chExt cx="291600" cy="190080"/>
            </a:xfrm>
          </p:grpSpPr>
          <p:sp>
            <p:nvSpPr>
              <p:cNvPr id="816" name=""/>
              <p:cNvSpPr/>
              <p:nvPr/>
            </p:nvSpPr>
            <p:spPr>
              <a:xfrm>
                <a:off x="3513600" y="5716800"/>
                <a:ext cx="289440" cy="190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3611160" y="5855040"/>
                <a:ext cx="91080" cy="45360"/>
                <a:chOff x="3611160" y="5855040"/>
                <a:chExt cx="91080" cy="4536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3611160" y="5855040"/>
                  <a:ext cx="43560" cy="43560"/>
                </a:xfrm>
                <a:prstGeom prst="blockArc">
                  <a:avLst>
                    <a:gd name="adj1" fmla="val 10283035"/>
                    <a:gd name="adj2" fmla="val 516965"/>
                    <a:gd name="adj3" fmla="val 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658680" y="5856480"/>
                  <a:ext cx="43560" cy="43920"/>
                </a:xfrm>
                <a:prstGeom prst="blockArc">
                  <a:avLst>
                    <a:gd name="adj1" fmla="val 10283035"/>
                    <a:gd name="adj2" fmla="val 516965"/>
                    <a:gd name="adj3" fmla="val 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" name=""/>
              <p:cNvSpPr/>
              <p:nvPr/>
            </p:nvSpPr>
            <p:spPr>
              <a:xfrm flipV="1">
                <a:off x="3511440" y="5717880"/>
                <a:ext cx="140040" cy="18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51480" y="5716800"/>
                <a:ext cx="149400" cy="18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592080" y="5797440"/>
                <a:ext cx="1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3590640" y="5661000"/>
              <a:ext cx="131760" cy="27000"/>
              <a:chOff x="3590640" y="5661000"/>
              <a:chExt cx="131760" cy="27000"/>
            </a:xfrm>
          </p:grpSpPr>
          <p:sp>
            <p:nvSpPr>
              <p:cNvPr id="824" name=""/>
              <p:cNvSpPr/>
              <p:nvPr/>
            </p:nvSpPr>
            <p:spPr>
              <a:xfrm>
                <a:off x="3590640" y="5661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41400" y="5661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5400" y="5661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3668760" y="7254720"/>
            <a:ext cx="2406600" cy="228240"/>
            <a:chOff x="3668760" y="7254720"/>
            <a:chExt cx="2406600" cy="228240"/>
          </a:xfrm>
        </p:grpSpPr>
        <p:sp>
          <p:nvSpPr>
            <p:cNvPr id="828" name=""/>
            <p:cNvSpPr/>
            <p:nvPr/>
          </p:nvSpPr>
          <p:spPr>
            <a:xfrm>
              <a:off x="3668760" y="737532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191120" y="7267320"/>
              <a:ext cx="188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.50cal Hvy MG             US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868920" y="7303680"/>
              <a:ext cx="231480" cy="157320"/>
              <a:chOff x="3868920" y="7303680"/>
              <a:chExt cx="231480" cy="157320"/>
            </a:xfrm>
          </p:grpSpPr>
          <p:sp>
            <p:nvSpPr>
              <p:cNvPr id="831" name=""/>
              <p:cNvSpPr/>
              <p:nvPr/>
            </p:nvSpPr>
            <p:spPr>
              <a:xfrm>
                <a:off x="3868920" y="7303680"/>
                <a:ext cx="23148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68920" y="7303680"/>
                <a:ext cx="55440" cy="155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3868920" y="7305480"/>
                <a:ext cx="22788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871080" y="7303680"/>
                <a:ext cx="225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3948120" y="7254720"/>
              <a:ext cx="74520" cy="28080"/>
              <a:chOff x="3948120" y="7254720"/>
              <a:chExt cx="74520" cy="28080"/>
            </a:xfrm>
          </p:grpSpPr>
          <p:sp>
            <p:nvSpPr>
              <p:cNvPr id="836" name=""/>
              <p:cNvSpPr/>
              <p:nvPr/>
            </p:nvSpPr>
            <p:spPr>
              <a:xfrm>
                <a:off x="3948120" y="7254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995640" y="7256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3887640" y="6676920"/>
            <a:ext cx="231840" cy="208080"/>
            <a:chOff x="3887640" y="6676920"/>
            <a:chExt cx="231840" cy="208080"/>
          </a:xfrm>
        </p:grpSpPr>
        <p:grpSp>
          <p:nvGrpSpPr>
            <p:cNvPr id="839" name=""/>
            <p:cNvGrpSpPr/>
            <p:nvPr/>
          </p:nvGrpSpPr>
          <p:grpSpPr>
            <a:xfrm>
              <a:off x="3887640" y="6727680"/>
              <a:ext cx="231840" cy="157320"/>
              <a:chOff x="3887640" y="6727680"/>
              <a:chExt cx="231840" cy="157320"/>
            </a:xfrm>
          </p:grpSpPr>
          <p:sp>
            <p:nvSpPr>
              <p:cNvPr id="840" name=""/>
              <p:cNvSpPr/>
              <p:nvPr/>
            </p:nvSpPr>
            <p:spPr>
              <a:xfrm>
                <a:off x="3887640" y="6727680"/>
                <a:ext cx="23184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3887640" y="673056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001400" y="672768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3965400" y="6676920"/>
              <a:ext cx="74520" cy="28800"/>
              <a:chOff x="3965400" y="6676920"/>
              <a:chExt cx="74520" cy="28800"/>
            </a:xfrm>
          </p:grpSpPr>
          <p:sp>
            <p:nvSpPr>
              <p:cNvPr id="844" name=""/>
              <p:cNvSpPr/>
              <p:nvPr/>
            </p:nvSpPr>
            <p:spPr>
              <a:xfrm>
                <a:off x="3965400" y="6676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012920" y="6678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3944880" y="681048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260880" y="7559640"/>
            <a:ext cx="25603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The AA platoon was often used as attachments to other MEs in the organiz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) No card is available for the 37mm AA gun, but we have provided a prototype on the web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) The 37mm and transport are available only in glider-borne uni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13:10:57Z</dcterms:created>
  <dc:creator>JBaker</dc:creator>
  <dc:description/>
  <dc:language>en-US</dc:language>
  <cp:lastModifiedBy>James Baker</cp:lastModifiedBy>
  <cp:lastPrinted>2001-07-10T19:10:10Z</cp:lastPrinted>
  <dcterms:modified xsi:type="dcterms:W3CDTF">2001-12-01T14:11:58Z</dcterms:modified>
  <cp:revision>15</cp:revision>
  <dc:subject/>
  <dc:title>SYMBOLS</dc:title>
</cp:coreProperties>
</file>