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C90-C322-4778-B87A-120A26BA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DAB1-0AEC-45DF-AC43-943C5424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611-F542-4D68-82D5-05A6D285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E58-02FD-4D8D-8955-7EAF1635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18B-F813-480A-8CCE-E691969A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F092-99F3-4AD1-8855-66ABB8B6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A092-F5F4-4E1B-931D-CCB47DCB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145-78EE-42CF-ADC5-D033B779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3D5-5E1F-4E4E-95C4-04A569E6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706-ECFE-4CA2-BA65-41CBEB60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D8C6-0F97-4AEA-B580-70356C42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C5D5-0CF7-4E65-85F1-7C707E24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6DE9-20B7-4302-930E-3F905FE911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79000"/>
            <a:ext cx="5829120" cy="4827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gyptian Tables of Organization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mored Division –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120" y="1278000"/>
            <a:ext cx="0" cy="260820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0280" y="10494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4560" y="1106640"/>
            <a:ext cx="21456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160" y="1447920"/>
            <a:ext cx="3049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61840" y="1479600"/>
            <a:ext cx="241560" cy="16200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0" y="18288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0" y="1685880"/>
            <a:ext cx="1440" cy="1429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47760" y="17049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36520" y="17604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71440" y="180036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82800" y="13716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3400" y="254484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79480" y="260208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1120" y="34574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120" y="26589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7880" y="15238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5200" y="898560"/>
            <a:ext cx="152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cc00"/>
                </a:solidFill>
                <a:latin typeface="Arial"/>
              </a:rPr>
              <a:t>BATTLEGROUP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rmored Brigade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33640" y="133992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cccc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Brigade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65120" y="1609560"/>
            <a:ext cx="139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55A Main Battle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27320" y="230040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82960" y="248292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Tank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63240" y="3638520"/>
            <a:ext cx="95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5200" y="205416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79480" y="211140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35200" y="205380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3400" y="205416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28764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1120" y="3078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02400" y="199404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G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Mechanized Infantry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1120" y="3895560"/>
            <a:ext cx="0" cy="21243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5200" y="295416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79480" y="3011400"/>
            <a:ext cx="21420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91240" y="287820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Armored Reconnaissance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178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961920" y="1981080"/>
            <a:ext cx="56880" cy="63360"/>
            <a:chOff x="961920" y="1981080"/>
            <a:chExt cx="56880" cy="63360"/>
          </a:xfrm>
        </p:grpSpPr>
        <p:sp>
          <p:nvSpPr>
            <p:cNvPr id="77" name=""/>
            <p:cNvSpPr/>
            <p:nvPr/>
          </p:nvSpPr>
          <p:spPr>
            <a:xfrm>
              <a:off x="961920" y="19810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18800" y="19810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961920" y="2470320"/>
            <a:ext cx="56880" cy="63360"/>
            <a:chOff x="961920" y="2470320"/>
            <a:chExt cx="56880" cy="63360"/>
          </a:xfrm>
        </p:grpSpPr>
        <p:sp>
          <p:nvSpPr>
            <p:cNvPr id="80" name=""/>
            <p:cNvSpPr/>
            <p:nvPr/>
          </p:nvSpPr>
          <p:spPr>
            <a:xfrm>
              <a:off x="961920" y="24703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18800" y="24703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838080" y="295380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657600" y="6629400"/>
            <a:ext cx="2658960" cy="1534680"/>
            <a:chOff x="3657600" y="6629400"/>
            <a:chExt cx="2658960" cy="1534680"/>
          </a:xfrm>
        </p:grpSpPr>
        <p:sp>
          <p:nvSpPr>
            <p:cNvPr id="84" name=""/>
            <p:cNvSpPr/>
            <p:nvPr/>
          </p:nvSpPr>
          <p:spPr>
            <a:xfrm>
              <a:off x="3886200" y="798012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21120" y="802008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3967200" y="7924680"/>
              <a:ext cx="74880" cy="27000"/>
              <a:chOff x="3967200" y="7924680"/>
              <a:chExt cx="74880" cy="27000"/>
            </a:xfrm>
          </p:grpSpPr>
          <p:sp>
            <p:nvSpPr>
              <p:cNvPr id="87" name=""/>
              <p:cNvSpPr/>
              <p:nvPr/>
            </p:nvSpPr>
            <p:spPr>
              <a:xfrm>
                <a:off x="3967200" y="79246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015080" y="79246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3732480" y="807696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15520" y="7948440"/>
              <a:ext cx="1737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T-76B Light Amphibious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57600" y="673092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02240" y="6788160"/>
              <a:ext cx="21420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62520" y="6629400"/>
              <a:ext cx="235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cccc00"/>
                  </a:solidFill>
                  <a:latin typeface="Arial"/>
                </a:rPr>
                <a:t>MANUEVER ELEMENT-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Armored Reconnaissanc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967200" y="7111800"/>
              <a:ext cx="74880" cy="27000"/>
              <a:chOff x="3967200" y="7111800"/>
              <a:chExt cx="74880" cy="27000"/>
            </a:xfrm>
          </p:grpSpPr>
          <p:sp>
            <p:nvSpPr>
              <p:cNvPr id="95" name=""/>
              <p:cNvSpPr/>
              <p:nvPr/>
            </p:nvSpPr>
            <p:spPr>
              <a:xfrm>
                <a:off x="3967200" y="711180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015080" y="71118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3886200" y="717696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32480" y="724536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5880" y="7016760"/>
              <a:ext cx="88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99160" y="7176960"/>
              <a:ext cx="241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9840" y="7634160"/>
              <a:ext cx="1819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BRDM-2 Armored Recon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884760" y="7362720"/>
              <a:ext cx="241200" cy="212760"/>
              <a:chOff x="3884760" y="7362720"/>
              <a:chExt cx="241200" cy="212760"/>
            </a:xfrm>
          </p:grpSpPr>
          <p:sp>
            <p:nvSpPr>
              <p:cNvPr id="103" name=""/>
              <p:cNvSpPr/>
              <p:nvPr/>
            </p:nvSpPr>
            <p:spPr>
              <a:xfrm>
                <a:off x="3886200" y="7418520"/>
                <a:ext cx="239760" cy="15696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3967200" y="7362720"/>
                <a:ext cx="74880" cy="27000"/>
                <a:chOff x="3967200" y="7362720"/>
                <a:chExt cx="74880" cy="27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967200" y="736272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015080" y="73627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 flipV="1">
                <a:off x="3886200" y="7418520"/>
                <a:ext cx="23652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884760" y="7418520"/>
                <a:ext cx="24120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3891240" y="766116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26160" y="7700760"/>
              <a:ext cx="16956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891240" y="766116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962520" y="7605720"/>
              <a:ext cx="74160" cy="27000"/>
              <a:chOff x="3962520" y="7605720"/>
              <a:chExt cx="74160" cy="2700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520" y="76057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10040" y="76057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3908520" y="78246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79880" y="78231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14800" y="7386480"/>
              <a:ext cx="121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antry with RPG-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18240" y="7586640"/>
              <a:ext cx="0" cy="7596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18240" y="7348320"/>
              <a:ext cx="0" cy="763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32480" y="6972120"/>
              <a:ext cx="0" cy="110484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8440" y="66578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662640" y="6735240"/>
              <a:ext cx="29844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838080" y="33526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7160" y="3390840"/>
            <a:ext cx="257400" cy="13176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71080" y="32767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Armored Engineer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95320" y="342900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3240" y="34290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88920" y="34290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74600" y="34290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32767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93760" y="3962520"/>
            <a:ext cx="157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85800" y="4114800"/>
            <a:ext cx="2205360" cy="337320"/>
            <a:chOff x="685800" y="4114800"/>
            <a:chExt cx="2205360" cy="337320"/>
          </a:xfrm>
        </p:grpSpPr>
        <p:sp>
          <p:nvSpPr>
            <p:cNvPr id="133" name=""/>
            <p:cNvSpPr/>
            <p:nvPr/>
          </p:nvSpPr>
          <p:spPr>
            <a:xfrm>
              <a:off x="838080" y="419112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57160" y="4229280"/>
              <a:ext cx="257400" cy="13176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71080" y="4114800"/>
              <a:ext cx="172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E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Armored Engineer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95320" y="4267440"/>
              <a:ext cx="19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03240" y="426744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88920" y="426744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74600" y="426744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0720" y="411480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5800" y="43056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85800" y="46879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5200" y="45720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79480" y="462924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44956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987480" y="4610160"/>
            <a:ext cx="1440" cy="152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2560" y="477504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1160" y="4600440"/>
            <a:ext cx="152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0880" y="4600440"/>
            <a:ext cx="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4080" y="4600440"/>
            <a:ext cx="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8920" y="4511520"/>
            <a:ext cx="16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Antitank Missile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37908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6240" y="382572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71800" y="3757680"/>
            <a:ext cx="149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ZSU-23/4 Antiaircaft Gu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876240" y="3824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867120"/>
            <a:ext cx="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38242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6880" y="39495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38240" y="39560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95320" y="39704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8768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58849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7800" y="497988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9040" y="50958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985320" y="504972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49320" y="516096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73960" y="4875120"/>
            <a:ext cx="189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4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Battery (16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55436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85840" y="5330880"/>
            <a:ext cx="219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6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60008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85840" y="5789520"/>
            <a:ext cx="216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7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7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0864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49068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53388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58086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42840" y="5484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52560" y="596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09480" y="6248520"/>
            <a:ext cx="2032920" cy="966600"/>
            <a:chOff x="609480" y="6248520"/>
            <a:chExt cx="2032920" cy="966600"/>
          </a:xfrm>
        </p:grpSpPr>
        <p:sp>
          <p:nvSpPr>
            <p:cNvPr id="179" name=""/>
            <p:cNvSpPr/>
            <p:nvPr/>
          </p:nvSpPr>
          <p:spPr>
            <a:xfrm>
              <a:off x="685800" y="6620040"/>
              <a:ext cx="0" cy="47628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9880" y="673272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74800" y="677268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39960" y="66772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18000" y="6248520"/>
              <a:ext cx="172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cc00"/>
                  </a:solidFill>
                  <a:latin typeface="Arial"/>
                </a:rPr>
                <a:t>MANUEVER ELEMENT-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Tank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638208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4120" y="6439320"/>
              <a:ext cx="21420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" y="681372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5800" y="709956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8080" y="703764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73000" y="707724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909720" y="6982200"/>
              <a:ext cx="74160" cy="27000"/>
              <a:chOff x="909720" y="6982200"/>
              <a:chExt cx="74160" cy="27000"/>
            </a:xfrm>
          </p:grpSpPr>
          <p:sp>
            <p:nvSpPr>
              <p:cNvPr id="191" name=""/>
              <p:cNvSpPr/>
              <p:nvPr/>
            </p:nvSpPr>
            <p:spPr>
              <a:xfrm>
                <a:off x="909720" y="69822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957240" y="69822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144440" y="6629760"/>
              <a:ext cx="139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55A Main Battle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44440" y="6999480"/>
              <a:ext cx="139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55A Main Battle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733320" y="6309000"/>
              <a:ext cx="56880" cy="63360"/>
              <a:chOff x="733320" y="6309000"/>
              <a:chExt cx="56880" cy="63360"/>
            </a:xfrm>
          </p:grpSpPr>
          <p:sp>
            <p:nvSpPr>
              <p:cNvPr id="196" name=""/>
              <p:cNvSpPr/>
              <p:nvPr/>
            </p:nvSpPr>
            <p:spPr>
              <a:xfrm>
                <a:off x="733320" y="63090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90200" y="63090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647280" y="961920"/>
            <a:ext cx="76320" cy="75960"/>
            <a:chOff x="647280" y="961920"/>
            <a:chExt cx="76320" cy="75960"/>
          </a:xfrm>
        </p:grpSpPr>
        <p:sp>
          <p:nvSpPr>
            <p:cNvPr id="199" name=""/>
            <p:cNvSpPr/>
            <p:nvPr/>
          </p:nvSpPr>
          <p:spPr>
            <a:xfrm flipH="1">
              <a:off x="647280" y="9619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7640" y="9619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898800" y="422424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35520" y="425916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98800" y="275904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29040" y="282888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72880" y="898560"/>
            <a:ext cx="229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BATTLEGROUP-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Infantry Battalion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10288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708360" y="952560"/>
            <a:ext cx="57240" cy="63360"/>
            <a:chOff x="3708360" y="952560"/>
            <a:chExt cx="57240" cy="63360"/>
          </a:xfrm>
        </p:grpSpPr>
        <p:sp>
          <p:nvSpPr>
            <p:cNvPr id="208" name=""/>
            <p:cNvSpPr/>
            <p:nvPr/>
          </p:nvSpPr>
          <p:spPr>
            <a:xfrm>
              <a:off x="3708360" y="9525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65600" y="9525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36800" y="1276200"/>
            <a:ext cx="0" cy="19717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46520" y="28764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02120" y="14428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98800" y="31669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9440" y="1362240"/>
            <a:ext cx="30456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1120" y="1393920"/>
            <a:ext cx="241200" cy="16200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41720" y="17622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41720" y="1600200"/>
            <a:ext cx="1800" cy="1681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07040" y="16286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41720" y="12859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6800" y="143820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92920" y="126360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alion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25120" y="152388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308480" y="1893960"/>
            <a:ext cx="74160" cy="27000"/>
            <a:chOff x="4308480" y="1893960"/>
            <a:chExt cx="74160" cy="27000"/>
          </a:xfrm>
        </p:grpSpPr>
        <p:sp>
          <p:nvSpPr>
            <p:cNvPr id="224" name=""/>
            <p:cNvSpPr/>
            <p:nvPr/>
          </p:nvSpPr>
          <p:spPr>
            <a:xfrm>
              <a:off x="4308480" y="18939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56000" y="18939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202280" y="1681200"/>
            <a:ext cx="23940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14880" y="1681200"/>
            <a:ext cx="241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27480" y="184932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02360" y="219060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6800" y="254016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4192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89680" y="2343240"/>
            <a:ext cx="179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Mechanized Infantry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41720" y="23432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14600" y="2967120"/>
            <a:ext cx="95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00680" y="29113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94000" y="2647800"/>
            <a:ext cx="197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S-02 Organic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rmor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ortar Company (82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41720" y="26859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6800" y="324792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07680" y="3119400"/>
            <a:ext cx="15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lyutka (Sagger) ATG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6800" y="3238560"/>
            <a:ext cx="0" cy="105084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21080" y="3619440"/>
            <a:ext cx="157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2920" y="4167360"/>
            <a:ext cx="149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ZSU-23/4 Antiaircaft Gu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46520" y="43052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24200" y="400068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933720" y="425772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71880" y="4295880"/>
            <a:ext cx="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006440" y="319716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79800" y="330840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81600" y="31939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71880" y="31845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57560" y="31845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71880" y="32259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57560" y="32227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29040" y="247644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24120" y="1085760"/>
            <a:ext cx="21456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84520" y="102708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584520" y="102888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22240" y="183528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50PK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18120" y="194328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38640" y="21067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86240" y="21034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54480" y="198432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67080" y="212724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886200" y="241884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2428920"/>
            <a:ext cx="3045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38480" y="28386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95560" y="38797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41640" y="3936960"/>
            <a:ext cx="21456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03000" y="3772080"/>
            <a:ext cx="130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Assault Gun Batt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57560" y="38070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29120" y="39751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984480" y="3363840"/>
            <a:ext cx="74880" cy="27000"/>
            <a:chOff x="3984480" y="3363840"/>
            <a:chExt cx="74880" cy="27000"/>
          </a:xfrm>
        </p:grpSpPr>
        <p:sp>
          <p:nvSpPr>
            <p:cNvPr id="273" name=""/>
            <p:cNvSpPr/>
            <p:nvPr/>
          </p:nvSpPr>
          <p:spPr>
            <a:xfrm>
              <a:off x="3984480" y="33638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32360" y="33638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3922560" y="333864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03000" y="32828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50PK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03840" y="3413160"/>
            <a:ext cx="23940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24360" y="35766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71960" y="35733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40200" y="345456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52800" y="35971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19400" y="425772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33720" y="43927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81320" y="438948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44132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971880" y="3105000"/>
            <a:ext cx="74160" cy="27000"/>
            <a:chOff x="3971880" y="3105000"/>
            <a:chExt cx="74160" cy="27000"/>
          </a:xfrm>
        </p:grpSpPr>
        <p:sp>
          <p:nvSpPr>
            <p:cNvPr id="287" name=""/>
            <p:cNvSpPr/>
            <p:nvPr/>
          </p:nvSpPr>
          <p:spPr>
            <a:xfrm>
              <a:off x="3971880" y="31050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19400" y="31050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732120" y="5038560"/>
            <a:ext cx="1800" cy="7621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480060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33920" y="47242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86280" y="51339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51800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2120" y="524844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6560" y="4648320"/>
            <a:ext cx="201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MANUEVER ELEMENT-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20640" y="5029200"/>
            <a:ext cx="88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98800" y="5180040"/>
            <a:ext cx="2415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04080" y="570852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M-7 A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889440" y="5392800"/>
            <a:ext cx="241200" cy="212760"/>
            <a:chOff x="3889440" y="5392800"/>
            <a:chExt cx="241200" cy="212760"/>
          </a:xfrm>
        </p:grpSpPr>
        <p:sp>
          <p:nvSpPr>
            <p:cNvPr id="300" name=""/>
            <p:cNvSpPr/>
            <p:nvPr/>
          </p:nvSpPr>
          <p:spPr>
            <a:xfrm>
              <a:off x="3890880" y="544860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971880" y="5392800"/>
              <a:ext cx="74880" cy="27000"/>
              <a:chOff x="3971880" y="5392800"/>
              <a:chExt cx="74880" cy="27000"/>
            </a:xfrm>
          </p:grpSpPr>
          <p:sp>
            <p:nvSpPr>
              <p:cNvPr id="302" name=""/>
              <p:cNvSpPr/>
              <p:nvPr/>
            </p:nvSpPr>
            <p:spPr>
              <a:xfrm>
                <a:off x="3971880" y="539280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019760" y="53928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 flipV="1">
              <a:off x="3890880" y="544860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89440" y="5448600"/>
              <a:ext cx="24120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962520" y="5670720"/>
            <a:ext cx="74160" cy="26640"/>
            <a:chOff x="3962520" y="5670720"/>
            <a:chExt cx="74160" cy="26640"/>
          </a:xfrm>
        </p:grpSpPr>
        <p:sp>
          <p:nvSpPr>
            <p:cNvPr id="307" name=""/>
            <p:cNvSpPr/>
            <p:nvPr/>
          </p:nvSpPr>
          <p:spPr>
            <a:xfrm>
              <a:off x="3962520" y="567072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10040" y="5670720"/>
              <a:ext cx="266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4210560" y="5425920"/>
            <a:ext cx="81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9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antry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618660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Up to six with  RPG-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33920" y="55339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58024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24120" y="4853160"/>
            <a:ext cx="21456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1280" y="480060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581280" y="480024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84480" y="5935680"/>
            <a:ext cx="74880" cy="27000"/>
            <a:chOff x="3984480" y="5935680"/>
            <a:chExt cx="74880" cy="27000"/>
          </a:xfrm>
        </p:grpSpPr>
        <p:sp>
          <p:nvSpPr>
            <p:cNvPr id="317" name=""/>
            <p:cNvSpPr/>
            <p:nvPr/>
          </p:nvSpPr>
          <p:spPr>
            <a:xfrm>
              <a:off x="3984480" y="59356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32360" y="59356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922560" y="591012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03000" y="586728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50PK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03840" y="5985000"/>
            <a:ext cx="23940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24360" y="61484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71960" y="61452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40200" y="602604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0" y="616896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7391520"/>
            <a:ext cx="2236680" cy="931320"/>
            <a:chOff x="609480" y="7391520"/>
            <a:chExt cx="2236680" cy="931320"/>
          </a:xfrm>
        </p:grpSpPr>
        <p:sp>
          <p:nvSpPr>
            <p:cNvPr id="327" name=""/>
            <p:cNvSpPr/>
            <p:nvPr/>
          </p:nvSpPr>
          <p:spPr>
            <a:xfrm>
              <a:off x="609480" y="7524720"/>
              <a:ext cx="303480" cy="22824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4120" y="7581960"/>
              <a:ext cx="214200" cy="10908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5800" y="7762680"/>
              <a:ext cx="0" cy="46656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39880" y="787536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74800" y="7915320"/>
              <a:ext cx="169920" cy="7416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39960" y="781992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14400" y="7391520"/>
              <a:ext cx="193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cc00"/>
                  </a:solidFill>
                  <a:latin typeface="Arial"/>
                </a:rPr>
                <a:t>MANUEVER ELEMENT-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Antitank Missil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5800" y="792468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5800" y="82296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44440" y="77724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Recon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43000" y="8091360"/>
              <a:ext cx="1401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ATGM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0040" y="744840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762120" y="7562880"/>
              <a:ext cx="1440" cy="15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7200" y="772776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85800" y="7553160"/>
              <a:ext cx="152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5160" y="7553160"/>
              <a:ext cx="0" cy="15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28720" y="7553160"/>
              <a:ext cx="0" cy="15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38080" y="7876800"/>
              <a:ext cx="236520" cy="15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838080" y="8076960"/>
              <a:ext cx="239760" cy="245880"/>
              <a:chOff x="838080" y="8076960"/>
              <a:chExt cx="239760" cy="245880"/>
            </a:xfrm>
          </p:grpSpPr>
          <p:sp>
            <p:nvSpPr>
              <p:cNvPr id="346" name=""/>
              <p:cNvSpPr/>
              <p:nvPr/>
            </p:nvSpPr>
            <p:spPr>
              <a:xfrm>
                <a:off x="838080" y="8129160"/>
                <a:ext cx="239760" cy="15732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66520" y="8172000"/>
                <a:ext cx="169920" cy="74520"/>
              </a:xfrm>
              <a:prstGeom prst="ellipse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996840" y="81468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914400" y="8076960"/>
                <a:ext cx="74160" cy="27000"/>
                <a:chOff x="914400" y="8076960"/>
                <a:chExt cx="74160" cy="2700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914400" y="80769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961920" y="807696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 flipH="1">
                <a:off x="955080" y="8159400"/>
                <a:ext cx="1800" cy="10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919080" y="8270640"/>
                <a:ext cx="68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920520" y="8156160"/>
                <a:ext cx="68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911160" y="81468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038240" y="82958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47440" y="829584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923760" y="3733920"/>
            <a:ext cx="74880" cy="27000"/>
            <a:chOff x="923760" y="3733920"/>
            <a:chExt cx="74880" cy="27000"/>
          </a:xfrm>
        </p:grpSpPr>
        <p:sp>
          <p:nvSpPr>
            <p:cNvPr id="359" name=""/>
            <p:cNvSpPr/>
            <p:nvPr/>
          </p:nvSpPr>
          <p:spPr>
            <a:xfrm>
              <a:off x="923760" y="373392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71640" y="37339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983040" y="4173480"/>
            <a:ext cx="74160" cy="27000"/>
            <a:chOff x="3983040" y="4173480"/>
            <a:chExt cx="74160" cy="27000"/>
          </a:xfrm>
        </p:grpSpPr>
        <p:sp>
          <p:nvSpPr>
            <p:cNvPr id="362" name=""/>
            <p:cNvSpPr/>
            <p:nvPr/>
          </p:nvSpPr>
          <p:spPr>
            <a:xfrm>
              <a:off x="3983040" y="41734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30560" y="41734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886200" y="5724360"/>
            <a:ext cx="239760" cy="157320"/>
            <a:chOff x="3886200" y="5724360"/>
            <a:chExt cx="239760" cy="157320"/>
          </a:xfrm>
        </p:grpSpPr>
        <p:sp>
          <p:nvSpPr>
            <p:cNvPr id="365" name=""/>
            <p:cNvSpPr/>
            <p:nvPr/>
          </p:nvSpPr>
          <p:spPr>
            <a:xfrm>
              <a:off x="3886200" y="572436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00320" y="57769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68640" y="576720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24360" y="5852880"/>
              <a:ext cx="153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00320" y="5729040"/>
              <a:ext cx="76320" cy="7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924000" y="5729040"/>
              <a:ext cx="75960" cy="7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533520" y="279000"/>
            <a:ext cx="5829120" cy="4827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yptian Tables of Organiz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ependent Formations –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681120" y="1278000"/>
            <a:ext cx="0" cy="260820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530280" y="10494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574560" y="1106640"/>
            <a:ext cx="21456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830160" y="1447920"/>
            <a:ext cx="3049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861840" y="1479600"/>
            <a:ext cx="241560" cy="16200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982800" y="18288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982800" y="1685880"/>
            <a:ext cx="1440" cy="1429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1247760" y="17049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1136520" y="17604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1171440" y="180036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982800" y="13716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833400" y="254484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879480" y="260208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681120" y="34574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681120" y="26589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677880" y="15238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835200" y="898560"/>
            <a:ext cx="2318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cc00"/>
                </a:solidFill>
                <a:latin typeface="Arial"/>
              </a:rPr>
              <a:t>BATTLEGROUP-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dependent Armored Brigade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1133640" y="133992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alion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1365120" y="1609560"/>
            <a:ext cx="139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62A Main Battle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1327320" y="230040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1182960" y="248292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Tank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1263240" y="3638520"/>
            <a:ext cx="95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835200" y="205416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879480" y="211140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 flipV="1">
            <a:off x="835200" y="205380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833400" y="205416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990720" y="28764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681120" y="3078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1202400" y="199404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G-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Mechanized Infantry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835200" y="295416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879480" y="3011400"/>
            <a:ext cx="21420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1191240" y="287820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Armored Reconnaissance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685800" y="2178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9" name=""/>
          <p:cNvGrpSpPr/>
          <p:nvPr/>
        </p:nvGrpSpPr>
        <p:grpSpPr>
          <a:xfrm>
            <a:off x="961920" y="1981080"/>
            <a:ext cx="56880" cy="63360"/>
            <a:chOff x="961920" y="1981080"/>
            <a:chExt cx="56880" cy="63360"/>
          </a:xfrm>
        </p:grpSpPr>
        <p:sp>
          <p:nvSpPr>
            <p:cNvPr id="2870" name=""/>
            <p:cNvSpPr/>
            <p:nvPr/>
          </p:nvSpPr>
          <p:spPr>
            <a:xfrm>
              <a:off x="961920" y="19810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1018800" y="19810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2" name=""/>
          <p:cNvGrpSpPr/>
          <p:nvPr/>
        </p:nvGrpSpPr>
        <p:grpSpPr>
          <a:xfrm>
            <a:off x="961920" y="2470320"/>
            <a:ext cx="56880" cy="63360"/>
            <a:chOff x="961920" y="2470320"/>
            <a:chExt cx="56880" cy="63360"/>
          </a:xfrm>
        </p:grpSpPr>
        <p:sp>
          <p:nvSpPr>
            <p:cNvPr id="2873" name=""/>
            <p:cNvSpPr/>
            <p:nvPr/>
          </p:nvSpPr>
          <p:spPr>
            <a:xfrm>
              <a:off x="961920" y="24703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018800" y="24703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5" name=""/>
          <p:cNvSpPr/>
          <p:nvPr/>
        </p:nvSpPr>
        <p:spPr>
          <a:xfrm flipV="1">
            <a:off x="838080" y="295380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6" name=""/>
          <p:cNvGrpSpPr/>
          <p:nvPr/>
        </p:nvGrpSpPr>
        <p:grpSpPr>
          <a:xfrm>
            <a:off x="609480" y="5181480"/>
            <a:ext cx="2658960" cy="1534680"/>
            <a:chOff x="609480" y="5181480"/>
            <a:chExt cx="2658960" cy="1534680"/>
          </a:xfrm>
        </p:grpSpPr>
        <p:sp>
          <p:nvSpPr>
            <p:cNvPr id="2877" name=""/>
            <p:cNvSpPr/>
            <p:nvPr/>
          </p:nvSpPr>
          <p:spPr>
            <a:xfrm>
              <a:off x="838080" y="653220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873000" y="657216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9" name=""/>
            <p:cNvGrpSpPr/>
            <p:nvPr/>
          </p:nvGrpSpPr>
          <p:grpSpPr>
            <a:xfrm>
              <a:off x="919080" y="6476760"/>
              <a:ext cx="74880" cy="27000"/>
              <a:chOff x="919080" y="6476760"/>
              <a:chExt cx="74880" cy="27000"/>
            </a:xfrm>
          </p:grpSpPr>
          <p:sp>
            <p:nvSpPr>
              <p:cNvPr id="2880" name=""/>
              <p:cNvSpPr/>
              <p:nvPr/>
            </p:nvSpPr>
            <p:spPr>
              <a:xfrm>
                <a:off x="919080" y="64767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966960" y="64767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2" name=""/>
            <p:cNvSpPr/>
            <p:nvPr/>
          </p:nvSpPr>
          <p:spPr>
            <a:xfrm>
              <a:off x="684360" y="662904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1067400" y="6500520"/>
              <a:ext cx="1737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T-76B Light Amphibious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609480" y="528300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654120" y="5340240"/>
              <a:ext cx="21420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914400" y="5181480"/>
              <a:ext cx="235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cccc00"/>
                  </a:solidFill>
                  <a:latin typeface="Arial"/>
                </a:rPr>
                <a:t>MANUEVER ELEMENT-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Armored Reconnaissanc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7" name=""/>
            <p:cNvGrpSpPr/>
            <p:nvPr/>
          </p:nvGrpSpPr>
          <p:grpSpPr>
            <a:xfrm>
              <a:off x="919080" y="5663880"/>
              <a:ext cx="74880" cy="27000"/>
              <a:chOff x="919080" y="5663880"/>
              <a:chExt cx="74880" cy="27000"/>
            </a:xfrm>
          </p:grpSpPr>
          <p:sp>
            <p:nvSpPr>
              <p:cNvPr id="2888" name=""/>
              <p:cNvSpPr/>
              <p:nvPr/>
            </p:nvSpPr>
            <p:spPr>
              <a:xfrm>
                <a:off x="919080" y="56638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966960" y="56638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0" name=""/>
            <p:cNvSpPr/>
            <p:nvPr/>
          </p:nvSpPr>
          <p:spPr>
            <a:xfrm>
              <a:off x="838080" y="572904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84360" y="579744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1067760" y="5568840"/>
              <a:ext cx="88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51040" y="5729040"/>
              <a:ext cx="241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1071720" y="6186240"/>
              <a:ext cx="1819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BRDM-2 Armored Recon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5" name=""/>
            <p:cNvGrpSpPr/>
            <p:nvPr/>
          </p:nvGrpSpPr>
          <p:grpSpPr>
            <a:xfrm>
              <a:off x="836640" y="5914800"/>
              <a:ext cx="241200" cy="212760"/>
              <a:chOff x="836640" y="5914800"/>
              <a:chExt cx="241200" cy="212760"/>
            </a:xfrm>
          </p:grpSpPr>
          <p:sp>
            <p:nvSpPr>
              <p:cNvPr id="2896" name=""/>
              <p:cNvSpPr/>
              <p:nvPr/>
            </p:nvSpPr>
            <p:spPr>
              <a:xfrm>
                <a:off x="838080" y="5970600"/>
                <a:ext cx="239760" cy="15696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7" name=""/>
              <p:cNvGrpSpPr/>
              <p:nvPr/>
            </p:nvGrpSpPr>
            <p:grpSpPr>
              <a:xfrm>
                <a:off x="919080" y="5914800"/>
                <a:ext cx="74880" cy="27000"/>
                <a:chOff x="919080" y="5914800"/>
                <a:chExt cx="74880" cy="27000"/>
              </a:xfrm>
            </p:grpSpPr>
            <p:sp>
              <p:nvSpPr>
                <p:cNvPr id="2898" name=""/>
                <p:cNvSpPr/>
                <p:nvPr/>
              </p:nvSpPr>
              <p:spPr>
                <a:xfrm>
                  <a:off x="919080" y="591480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>
                  <a:off x="966960" y="59148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0" name=""/>
              <p:cNvSpPr/>
              <p:nvPr/>
            </p:nvSpPr>
            <p:spPr>
              <a:xfrm flipV="1">
                <a:off x="838080" y="5970600"/>
                <a:ext cx="23652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836640" y="5970600"/>
                <a:ext cx="24120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2" name=""/>
            <p:cNvSpPr/>
            <p:nvPr/>
          </p:nvSpPr>
          <p:spPr>
            <a:xfrm>
              <a:off x="843120" y="621324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878040" y="6252840"/>
              <a:ext cx="16956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V="1">
              <a:off x="843120" y="621324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5" name=""/>
            <p:cNvGrpSpPr/>
            <p:nvPr/>
          </p:nvGrpSpPr>
          <p:grpSpPr>
            <a:xfrm>
              <a:off x="914400" y="6157800"/>
              <a:ext cx="74160" cy="27000"/>
              <a:chOff x="914400" y="6157800"/>
              <a:chExt cx="74160" cy="27000"/>
            </a:xfrm>
          </p:grpSpPr>
          <p:sp>
            <p:nvSpPr>
              <p:cNvPr id="2906" name=""/>
              <p:cNvSpPr/>
              <p:nvPr/>
            </p:nvSpPr>
            <p:spPr>
              <a:xfrm>
                <a:off x="914400" y="61578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961920" y="61578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8" name=""/>
            <p:cNvSpPr/>
            <p:nvPr/>
          </p:nvSpPr>
          <p:spPr>
            <a:xfrm>
              <a:off x="860400" y="63766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1031760" y="63752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1066680" y="5938560"/>
              <a:ext cx="121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antry with RPG-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870120" y="6138720"/>
              <a:ext cx="0" cy="7596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870120" y="5900400"/>
              <a:ext cx="0" cy="763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684360" y="5524200"/>
              <a:ext cx="0" cy="110484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60320" y="52099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 flipV="1">
              <a:off x="614520" y="5287320"/>
              <a:ext cx="29844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6" name=""/>
          <p:cNvSpPr/>
          <p:nvPr/>
        </p:nvSpPr>
        <p:spPr>
          <a:xfrm>
            <a:off x="838080" y="33526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857160" y="3390840"/>
            <a:ext cx="257400" cy="13176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1171080" y="32767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Armored Engineer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895320" y="342900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903240" y="34290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988920" y="34290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1074600" y="34290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990720" y="32767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838080" y="37908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876240" y="382572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1171800" y="3757680"/>
            <a:ext cx="149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ZSU-23/4 Antiaircaft Gu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 flipH="1">
            <a:off x="876240" y="3824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914400" y="3867120"/>
            <a:ext cx="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971640" y="38242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866880" y="39495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1038240" y="39560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895320" y="39704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685800" y="38768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4" name=""/>
          <p:cNvGrpSpPr/>
          <p:nvPr/>
        </p:nvGrpSpPr>
        <p:grpSpPr>
          <a:xfrm>
            <a:off x="609480" y="4114800"/>
            <a:ext cx="2032920" cy="966600"/>
            <a:chOff x="609480" y="4114800"/>
            <a:chExt cx="2032920" cy="966600"/>
          </a:xfrm>
        </p:grpSpPr>
        <p:sp>
          <p:nvSpPr>
            <p:cNvPr id="2935" name=""/>
            <p:cNvSpPr/>
            <p:nvPr/>
          </p:nvSpPr>
          <p:spPr>
            <a:xfrm>
              <a:off x="685800" y="4486320"/>
              <a:ext cx="0" cy="47628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839880" y="459900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874800" y="463896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939960" y="45435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918000" y="4114800"/>
              <a:ext cx="172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cc00"/>
                  </a:solidFill>
                  <a:latin typeface="Arial"/>
                </a:rPr>
                <a:t>MANUEVER ELEMENT-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Tank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609480" y="424836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54120" y="4305600"/>
              <a:ext cx="21420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685800" y="46800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685800" y="496584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838080" y="490392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873000" y="494352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6" name=""/>
            <p:cNvGrpSpPr/>
            <p:nvPr/>
          </p:nvGrpSpPr>
          <p:grpSpPr>
            <a:xfrm>
              <a:off x="909720" y="4848480"/>
              <a:ext cx="74160" cy="27000"/>
              <a:chOff x="909720" y="4848480"/>
              <a:chExt cx="74160" cy="27000"/>
            </a:xfrm>
          </p:grpSpPr>
          <p:sp>
            <p:nvSpPr>
              <p:cNvPr id="2947" name=""/>
              <p:cNvSpPr/>
              <p:nvPr/>
            </p:nvSpPr>
            <p:spPr>
              <a:xfrm>
                <a:off x="909720" y="48484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957240" y="48484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9" name=""/>
            <p:cNvSpPr/>
            <p:nvPr/>
          </p:nvSpPr>
          <p:spPr>
            <a:xfrm>
              <a:off x="1144440" y="4496040"/>
              <a:ext cx="139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62A Main Battle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1144440" y="4865760"/>
              <a:ext cx="139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62A Main Battle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1" name=""/>
            <p:cNvGrpSpPr/>
            <p:nvPr/>
          </p:nvGrpSpPr>
          <p:grpSpPr>
            <a:xfrm>
              <a:off x="733320" y="4175280"/>
              <a:ext cx="56880" cy="63360"/>
              <a:chOff x="733320" y="4175280"/>
              <a:chExt cx="56880" cy="63360"/>
            </a:xfrm>
          </p:grpSpPr>
          <p:sp>
            <p:nvSpPr>
              <p:cNvPr id="2952" name=""/>
              <p:cNvSpPr/>
              <p:nvPr/>
            </p:nvSpPr>
            <p:spPr>
              <a:xfrm>
                <a:off x="733320" y="41752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790200" y="417528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4" name=""/>
          <p:cNvGrpSpPr/>
          <p:nvPr/>
        </p:nvGrpSpPr>
        <p:grpSpPr>
          <a:xfrm>
            <a:off x="647280" y="961920"/>
            <a:ext cx="76320" cy="75960"/>
            <a:chOff x="647280" y="961920"/>
            <a:chExt cx="76320" cy="75960"/>
          </a:xfrm>
        </p:grpSpPr>
        <p:sp>
          <p:nvSpPr>
            <p:cNvPr id="2955" name=""/>
            <p:cNvSpPr/>
            <p:nvPr/>
          </p:nvSpPr>
          <p:spPr>
            <a:xfrm flipH="1">
              <a:off x="647280" y="9619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647640" y="9619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7" name=""/>
          <p:cNvSpPr/>
          <p:nvPr/>
        </p:nvSpPr>
        <p:spPr>
          <a:xfrm>
            <a:off x="3898800" y="268920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3929040" y="275904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3872880" y="898560"/>
            <a:ext cx="229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BATTLEGROUP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Infantry Battalion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3581280" y="10288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1" name=""/>
          <p:cNvGrpSpPr/>
          <p:nvPr/>
        </p:nvGrpSpPr>
        <p:grpSpPr>
          <a:xfrm>
            <a:off x="3708360" y="952560"/>
            <a:ext cx="57240" cy="63360"/>
            <a:chOff x="3708360" y="952560"/>
            <a:chExt cx="57240" cy="63360"/>
          </a:xfrm>
        </p:grpSpPr>
        <p:sp>
          <p:nvSpPr>
            <p:cNvPr id="2962" name=""/>
            <p:cNvSpPr/>
            <p:nvPr/>
          </p:nvSpPr>
          <p:spPr>
            <a:xfrm>
              <a:off x="3708360" y="9525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3765600" y="9525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4" name=""/>
          <p:cNvSpPr/>
          <p:nvPr/>
        </p:nvSpPr>
        <p:spPr>
          <a:xfrm>
            <a:off x="3736800" y="1276200"/>
            <a:ext cx="0" cy="18478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3746520" y="28065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4002120" y="14428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3898800" y="30337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3889440" y="1362240"/>
            <a:ext cx="30456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3921120" y="1393920"/>
            <a:ext cx="241200" cy="16200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4041720" y="17622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4041720" y="1600200"/>
            <a:ext cx="1800" cy="1681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4307040" y="16286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4041720" y="12859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3736800" y="143820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4192920" y="126360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alion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4425120" y="152388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7" name=""/>
          <p:cNvGrpSpPr/>
          <p:nvPr/>
        </p:nvGrpSpPr>
        <p:grpSpPr>
          <a:xfrm>
            <a:off x="4308480" y="1893960"/>
            <a:ext cx="74160" cy="27000"/>
            <a:chOff x="4308480" y="1893960"/>
            <a:chExt cx="74160" cy="27000"/>
          </a:xfrm>
        </p:grpSpPr>
        <p:sp>
          <p:nvSpPr>
            <p:cNvPr id="2978" name=""/>
            <p:cNvSpPr/>
            <p:nvPr/>
          </p:nvSpPr>
          <p:spPr>
            <a:xfrm>
              <a:off x="4308480" y="18939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356000" y="18939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0" name=""/>
          <p:cNvSpPr/>
          <p:nvPr/>
        </p:nvSpPr>
        <p:spPr>
          <a:xfrm>
            <a:off x="4202280" y="1681200"/>
            <a:ext cx="23940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4214880" y="1681200"/>
            <a:ext cx="241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4227480" y="184932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4302360" y="214956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3736800" y="247032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3886200" y="234936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4189680" y="2273400"/>
            <a:ext cx="179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Mechanized Infantry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4041720" y="22734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4314600" y="2868480"/>
            <a:ext cx="95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4000680" y="284148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4194000" y="2577960"/>
            <a:ext cx="197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S-02 Organic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rmor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ortar Company (82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4041720" y="261612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3736800" y="311472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4207680" y="2986200"/>
            <a:ext cx="15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lyutka (Sagger) ATG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 flipH="1">
            <a:off x="4006440" y="306396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3979800" y="317484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3981600" y="30607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3971880" y="30510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4057560" y="30510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3971880" y="30924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4057560" y="30891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3929040" y="240660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3624120" y="1085760"/>
            <a:ext cx="21456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3584520" y="102708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 flipV="1">
            <a:off x="3584520" y="102888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4422240" y="183528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50PK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4218120" y="194328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4238640" y="21067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4386240" y="21034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4254480" y="198432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4257720" y="21240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 flipV="1">
            <a:off x="3886200" y="234900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3884760" y="2359080"/>
            <a:ext cx="3045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4038480" y="27687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4" name=""/>
          <p:cNvGrpSpPr/>
          <p:nvPr/>
        </p:nvGrpSpPr>
        <p:grpSpPr>
          <a:xfrm>
            <a:off x="3984480" y="3230640"/>
            <a:ext cx="74880" cy="27000"/>
            <a:chOff x="3984480" y="3230640"/>
            <a:chExt cx="74880" cy="27000"/>
          </a:xfrm>
        </p:grpSpPr>
        <p:sp>
          <p:nvSpPr>
            <p:cNvPr id="3015" name=""/>
            <p:cNvSpPr/>
            <p:nvPr/>
          </p:nvSpPr>
          <p:spPr>
            <a:xfrm>
              <a:off x="3984480" y="32306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032360" y="32306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7" name=""/>
          <p:cNvSpPr/>
          <p:nvPr/>
        </p:nvSpPr>
        <p:spPr>
          <a:xfrm>
            <a:off x="3922560" y="320508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4203000" y="31496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50PK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3903840" y="3279600"/>
            <a:ext cx="23940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3924360" y="34434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4071960" y="34401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3940200" y="332100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3952800" y="34639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4" name=""/>
          <p:cNvGrpSpPr/>
          <p:nvPr/>
        </p:nvGrpSpPr>
        <p:grpSpPr>
          <a:xfrm>
            <a:off x="3971880" y="2971800"/>
            <a:ext cx="74160" cy="27000"/>
            <a:chOff x="3971880" y="2971800"/>
            <a:chExt cx="74160" cy="27000"/>
          </a:xfrm>
        </p:grpSpPr>
        <p:sp>
          <p:nvSpPr>
            <p:cNvPr id="3025" name=""/>
            <p:cNvSpPr/>
            <p:nvPr/>
          </p:nvSpPr>
          <p:spPr>
            <a:xfrm>
              <a:off x="3971880" y="29718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019400" y="29718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7" name=""/>
          <p:cNvSpPr/>
          <p:nvPr/>
        </p:nvSpPr>
        <p:spPr>
          <a:xfrm>
            <a:off x="3732120" y="3905280"/>
            <a:ext cx="1800" cy="7621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3581280" y="366696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3733920" y="35910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3986280" y="4000680"/>
            <a:ext cx="28440" cy="26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3886200" y="40464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3732120" y="411480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3886560" y="3514680"/>
            <a:ext cx="201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MANUEVER ELEMENT-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4220640" y="3895560"/>
            <a:ext cx="88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3898800" y="4046400"/>
            <a:ext cx="2415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4204080" y="457524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M-7 A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7" name=""/>
          <p:cNvGrpSpPr/>
          <p:nvPr/>
        </p:nvGrpSpPr>
        <p:grpSpPr>
          <a:xfrm>
            <a:off x="3889440" y="4259160"/>
            <a:ext cx="241200" cy="212760"/>
            <a:chOff x="3889440" y="4259160"/>
            <a:chExt cx="241200" cy="212760"/>
          </a:xfrm>
        </p:grpSpPr>
        <p:sp>
          <p:nvSpPr>
            <p:cNvPr id="3038" name=""/>
            <p:cNvSpPr/>
            <p:nvPr/>
          </p:nvSpPr>
          <p:spPr>
            <a:xfrm>
              <a:off x="3890880" y="431496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9" name=""/>
            <p:cNvGrpSpPr/>
            <p:nvPr/>
          </p:nvGrpSpPr>
          <p:grpSpPr>
            <a:xfrm>
              <a:off x="3971880" y="4259160"/>
              <a:ext cx="74880" cy="27000"/>
              <a:chOff x="3971880" y="4259160"/>
              <a:chExt cx="74880" cy="27000"/>
            </a:xfrm>
          </p:grpSpPr>
          <p:sp>
            <p:nvSpPr>
              <p:cNvPr id="3040" name=""/>
              <p:cNvSpPr/>
              <p:nvPr/>
            </p:nvSpPr>
            <p:spPr>
              <a:xfrm>
                <a:off x="3971880" y="42591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019760" y="42591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2" name=""/>
            <p:cNvSpPr/>
            <p:nvPr/>
          </p:nvSpPr>
          <p:spPr>
            <a:xfrm flipV="1">
              <a:off x="3890880" y="431496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3889440" y="4314960"/>
              <a:ext cx="24120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4" name=""/>
          <p:cNvGrpSpPr/>
          <p:nvPr/>
        </p:nvGrpSpPr>
        <p:grpSpPr>
          <a:xfrm>
            <a:off x="3962520" y="4537080"/>
            <a:ext cx="74160" cy="27000"/>
            <a:chOff x="3962520" y="4537080"/>
            <a:chExt cx="74160" cy="27000"/>
          </a:xfrm>
        </p:grpSpPr>
        <p:sp>
          <p:nvSpPr>
            <p:cNvPr id="3045" name=""/>
            <p:cNvSpPr/>
            <p:nvPr/>
          </p:nvSpPr>
          <p:spPr>
            <a:xfrm>
              <a:off x="3962520" y="45370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4010040" y="45370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7" name=""/>
          <p:cNvSpPr/>
          <p:nvPr/>
        </p:nvSpPr>
        <p:spPr>
          <a:xfrm>
            <a:off x="4210560" y="4292640"/>
            <a:ext cx="81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9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antry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3581280" y="505296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Up to six with  RPG-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3733920" y="44006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3733920" y="46688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3624120" y="3719520"/>
            <a:ext cx="21456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3581280" y="366696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 flipV="1">
            <a:off x="3581280" y="366660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4" name=""/>
          <p:cNvGrpSpPr/>
          <p:nvPr/>
        </p:nvGrpSpPr>
        <p:grpSpPr>
          <a:xfrm>
            <a:off x="3984480" y="4802040"/>
            <a:ext cx="74880" cy="27000"/>
            <a:chOff x="3984480" y="4802040"/>
            <a:chExt cx="74880" cy="27000"/>
          </a:xfrm>
        </p:grpSpPr>
        <p:sp>
          <p:nvSpPr>
            <p:cNvPr id="3055" name=""/>
            <p:cNvSpPr/>
            <p:nvPr/>
          </p:nvSpPr>
          <p:spPr>
            <a:xfrm>
              <a:off x="3984480" y="48020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4032360" y="48020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7" name=""/>
          <p:cNvSpPr/>
          <p:nvPr/>
        </p:nvSpPr>
        <p:spPr>
          <a:xfrm>
            <a:off x="3922560" y="477684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4203000" y="473400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50PK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3903840" y="4851360"/>
            <a:ext cx="23940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3924360" y="50148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4071960" y="50115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3940200" y="489276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3952800" y="503568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4" name=""/>
          <p:cNvGrpSpPr/>
          <p:nvPr/>
        </p:nvGrpSpPr>
        <p:grpSpPr>
          <a:xfrm>
            <a:off x="923760" y="3733920"/>
            <a:ext cx="74880" cy="27000"/>
            <a:chOff x="923760" y="3733920"/>
            <a:chExt cx="74880" cy="27000"/>
          </a:xfrm>
        </p:grpSpPr>
        <p:sp>
          <p:nvSpPr>
            <p:cNvPr id="3065" name=""/>
            <p:cNvSpPr/>
            <p:nvPr/>
          </p:nvSpPr>
          <p:spPr>
            <a:xfrm>
              <a:off x="923760" y="373392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971640" y="37339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7" name=""/>
          <p:cNvSpPr/>
          <p:nvPr/>
        </p:nvSpPr>
        <p:spPr>
          <a:xfrm>
            <a:off x="684360" y="7172280"/>
            <a:ext cx="1440" cy="98100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533520" y="693432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685800" y="68580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938160" y="726768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838080" y="731376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684360" y="73818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842040" y="6781680"/>
            <a:ext cx="172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MANUEVER ELEMENT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ger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1172520" y="7188120"/>
            <a:ext cx="88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851040" y="7313760"/>
            <a:ext cx="24120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1155960" y="804852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M-7 A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7" name=""/>
          <p:cNvGrpSpPr/>
          <p:nvPr/>
        </p:nvGrpSpPr>
        <p:grpSpPr>
          <a:xfrm>
            <a:off x="841320" y="7526160"/>
            <a:ext cx="241200" cy="212760"/>
            <a:chOff x="841320" y="7526160"/>
            <a:chExt cx="241200" cy="212760"/>
          </a:xfrm>
        </p:grpSpPr>
        <p:sp>
          <p:nvSpPr>
            <p:cNvPr id="3078" name=""/>
            <p:cNvSpPr/>
            <p:nvPr/>
          </p:nvSpPr>
          <p:spPr>
            <a:xfrm>
              <a:off x="842760" y="758196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9" name=""/>
            <p:cNvGrpSpPr/>
            <p:nvPr/>
          </p:nvGrpSpPr>
          <p:grpSpPr>
            <a:xfrm>
              <a:off x="923760" y="7526160"/>
              <a:ext cx="74880" cy="27000"/>
              <a:chOff x="923760" y="7526160"/>
              <a:chExt cx="74880" cy="27000"/>
            </a:xfrm>
          </p:grpSpPr>
          <p:sp>
            <p:nvSpPr>
              <p:cNvPr id="3080" name=""/>
              <p:cNvSpPr/>
              <p:nvPr/>
            </p:nvSpPr>
            <p:spPr>
              <a:xfrm>
                <a:off x="923760" y="75261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971640" y="75261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2" name=""/>
            <p:cNvSpPr/>
            <p:nvPr/>
          </p:nvSpPr>
          <p:spPr>
            <a:xfrm flipV="1">
              <a:off x="842760" y="758196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841320" y="7581960"/>
              <a:ext cx="24120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4" name=""/>
          <p:cNvGrpSpPr/>
          <p:nvPr/>
        </p:nvGrpSpPr>
        <p:grpSpPr>
          <a:xfrm>
            <a:off x="914400" y="8029440"/>
            <a:ext cx="74160" cy="27000"/>
            <a:chOff x="914400" y="8029440"/>
            <a:chExt cx="74160" cy="27000"/>
          </a:xfrm>
        </p:grpSpPr>
        <p:sp>
          <p:nvSpPr>
            <p:cNvPr id="3085" name=""/>
            <p:cNvSpPr/>
            <p:nvPr/>
          </p:nvSpPr>
          <p:spPr>
            <a:xfrm>
              <a:off x="914400" y="80294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961920" y="80294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7" name=""/>
          <p:cNvSpPr/>
          <p:nvPr/>
        </p:nvSpPr>
        <p:spPr>
          <a:xfrm>
            <a:off x="1162800" y="755964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9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685800" y="76676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685800" y="81612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533520" y="6934320"/>
            <a:ext cx="30456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 flipV="1">
            <a:off x="533520" y="693432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2" name=""/>
          <p:cNvGrpSpPr/>
          <p:nvPr/>
        </p:nvGrpSpPr>
        <p:grpSpPr>
          <a:xfrm>
            <a:off x="936720" y="8294760"/>
            <a:ext cx="74160" cy="27000"/>
            <a:chOff x="936720" y="8294760"/>
            <a:chExt cx="74160" cy="27000"/>
          </a:xfrm>
        </p:grpSpPr>
        <p:sp>
          <p:nvSpPr>
            <p:cNvPr id="3093" name=""/>
            <p:cNvSpPr/>
            <p:nvPr/>
          </p:nvSpPr>
          <p:spPr>
            <a:xfrm>
              <a:off x="936720" y="82947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984240" y="82947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5" name=""/>
          <p:cNvSpPr/>
          <p:nvPr/>
        </p:nvSpPr>
        <p:spPr>
          <a:xfrm>
            <a:off x="874800" y="825984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1155600" y="82296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5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T-64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855720" y="834408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876240" y="85075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1023840" y="850428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892080" y="838512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905040" y="85280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847800" y="78343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685800" y="79153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1156320" y="7786800"/>
            <a:ext cx="15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lyutka (Sagger) ATG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 flipH="1">
            <a:off x="964800" y="786456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928800" y="797544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930240" y="786132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920880" y="78516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1006560" y="78516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920880" y="78930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1006560" y="78897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2" name=""/>
          <p:cNvGrpSpPr/>
          <p:nvPr/>
        </p:nvGrpSpPr>
        <p:grpSpPr>
          <a:xfrm>
            <a:off x="920880" y="7772400"/>
            <a:ext cx="74160" cy="27000"/>
            <a:chOff x="920880" y="7772400"/>
            <a:chExt cx="74160" cy="27000"/>
          </a:xfrm>
        </p:grpSpPr>
        <p:sp>
          <p:nvSpPr>
            <p:cNvPr id="3113" name=""/>
            <p:cNvSpPr/>
            <p:nvPr/>
          </p:nvSpPr>
          <p:spPr>
            <a:xfrm>
              <a:off x="920880" y="77724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968400" y="77724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5" name=""/>
          <p:cNvSpPr/>
          <p:nvPr/>
        </p:nvSpPr>
        <p:spPr>
          <a:xfrm>
            <a:off x="876240" y="748656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876240" y="774396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876240" y="800100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8" name=""/>
          <p:cNvGrpSpPr/>
          <p:nvPr/>
        </p:nvGrpSpPr>
        <p:grpSpPr>
          <a:xfrm>
            <a:off x="3581280" y="5257800"/>
            <a:ext cx="2591280" cy="1755720"/>
            <a:chOff x="3581280" y="5257800"/>
            <a:chExt cx="2591280" cy="1755720"/>
          </a:xfrm>
        </p:grpSpPr>
        <p:sp>
          <p:nvSpPr>
            <p:cNvPr id="3119" name=""/>
            <p:cNvSpPr/>
            <p:nvPr/>
          </p:nvSpPr>
          <p:spPr>
            <a:xfrm>
              <a:off x="3898800" y="678492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3929040" y="6854760"/>
              <a:ext cx="214200" cy="10980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3873960" y="5257800"/>
              <a:ext cx="135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cc00"/>
                  </a:solidFill>
                  <a:latin typeface="Arial"/>
                </a:rPr>
                <a:t>BATTLEGROUP-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MP Battalion 197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581280" y="541656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3" name=""/>
            <p:cNvGrpSpPr/>
            <p:nvPr/>
          </p:nvGrpSpPr>
          <p:grpSpPr>
            <a:xfrm>
              <a:off x="3708360" y="5340240"/>
              <a:ext cx="57240" cy="63360"/>
              <a:chOff x="3708360" y="5340240"/>
              <a:chExt cx="57240" cy="63360"/>
            </a:xfrm>
          </p:grpSpPr>
          <p:sp>
            <p:nvSpPr>
              <p:cNvPr id="3124" name=""/>
              <p:cNvSpPr/>
              <p:nvPr/>
            </p:nvSpPr>
            <p:spPr>
              <a:xfrm>
                <a:off x="3708360" y="5340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3765600" y="5340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6" name=""/>
            <p:cNvSpPr/>
            <p:nvPr/>
          </p:nvSpPr>
          <p:spPr>
            <a:xfrm>
              <a:off x="3736800" y="5664240"/>
              <a:ext cx="0" cy="123840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746520" y="690264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997440" y="57117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3736800" y="5826240"/>
              <a:ext cx="15264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4115880" y="5607000"/>
              <a:ext cx="91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1" name=""/>
            <p:cNvGrpSpPr/>
            <p:nvPr/>
          </p:nvGrpSpPr>
          <p:grpSpPr>
            <a:xfrm>
              <a:off x="3998880" y="5977080"/>
              <a:ext cx="74160" cy="27000"/>
              <a:chOff x="3998880" y="5977080"/>
              <a:chExt cx="74160" cy="27000"/>
            </a:xfrm>
          </p:grpSpPr>
          <p:sp>
            <p:nvSpPr>
              <p:cNvPr id="3132" name=""/>
              <p:cNvSpPr/>
              <p:nvPr/>
            </p:nvSpPr>
            <p:spPr>
              <a:xfrm>
                <a:off x="3998880" y="597708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4046400" y="597708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4" name=""/>
            <p:cNvSpPr/>
            <p:nvPr/>
          </p:nvSpPr>
          <p:spPr>
            <a:xfrm>
              <a:off x="3892680" y="576432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3905280" y="5764320"/>
              <a:ext cx="241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3917880" y="5932440"/>
              <a:ext cx="0" cy="763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4302360" y="6216840"/>
              <a:ext cx="1351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cccc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3736800" y="6566040"/>
              <a:ext cx="15264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3886200" y="644544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189680" y="6369120"/>
              <a:ext cx="179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-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Mechanized Infantry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041720" y="63691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000680" y="693756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194000" y="6674040"/>
              <a:ext cx="197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FS-02 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Armored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ortar Company (82mm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041720" y="671184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3929040" y="6502320"/>
              <a:ext cx="214200" cy="10980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3624120" y="5473800"/>
              <a:ext cx="21456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3584520" y="5415120"/>
              <a:ext cx="30492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3584520" y="5416200"/>
              <a:ext cx="29844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4111200" y="5918400"/>
              <a:ext cx="175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BMP-1 Infantry Combat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3908520" y="602604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3929040" y="61898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4076640" y="61866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3944880" y="606744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3957480" y="621036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3886200" y="6445440"/>
              <a:ext cx="29844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3884760" y="6454800"/>
              <a:ext cx="30456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4038480" y="68644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8" name=""/>
          <p:cNvSpPr/>
          <p:nvPr/>
        </p:nvSpPr>
        <p:spPr>
          <a:xfrm>
            <a:off x="3732120" y="7477200"/>
            <a:ext cx="1800" cy="6760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3581280" y="72388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3733920" y="71629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3986280" y="74962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3886200" y="754236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3732120" y="761040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3889800" y="7086600"/>
            <a:ext cx="172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MANUEVER ELEMENT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MP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4220640" y="7391520"/>
            <a:ext cx="88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3898800" y="7542360"/>
            <a:ext cx="2415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4204080" y="805968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M-7 A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8" name=""/>
          <p:cNvGrpSpPr/>
          <p:nvPr/>
        </p:nvGrpSpPr>
        <p:grpSpPr>
          <a:xfrm>
            <a:off x="3889440" y="7753320"/>
            <a:ext cx="241200" cy="212760"/>
            <a:chOff x="3889440" y="7753320"/>
            <a:chExt cx="241200" cy="212760"/>
          </a:xfrm>
        </p:grpSpPr>
        <p:sp>
          <p:nvSpPr>
            <p:cNvPr id="3169" name=""/>
            <p:cNvSpPr/>
            <p:nvPr/>
          </p:nvSpPr>
          <p:spPr>
            <a:xfrm>
              <a:off x="3890880" y="780912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0" name=""/>
            <p:cNvGrpSpPr/>
            <p:nvPr/>
          </p:nvGrpSpPr>
          <p:grpSpPr>
            <a:xfrm>
              <a:off x="3971880" y="7753320"/>
              <a:ext cx="74880" cy="27000"/>
              <a:chOff x="3971880" y="7753320"/>
              <a:chExt cx="74880" cy="27000"/>
            </a:xfrm>
          </p:grpSpPr>
          <p:sp>
            <p:nvSpPr>
              <p:cNvPr id="3171" name=""/>
              <p:cNvSpPr/>
              <p:nvPr/>
            </p:nvSpPr>
            <p:spPr>
              <a:xfrm>
                <a:off x="3971880" y="775332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4019760" y="77533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3" name=""/>
            <p:cNvSpPr/>
            <p:nvPr/>
          </p:nvSpPr>
          <p:spPr>
            <a:xfrm flipV="1">
              <a:off x="3890880" y="780912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3889440" y="7809120"/>
              <a:ext cx="24120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5" name=""/>
          <p:cNvGrpSpPr/>
          <p:nvPr/>
        </p:nvGrpSpPr>
        <p:grpSpPr>
          <a:xfrm>
            <a:off x="3962520" y="8020080"/>
            <a:ext cx="74160" cy="27000"/>
            <a:chOff x="3962520" y="8020080"/>
            <a:chExt cx="74160" cy="27000"/>
          </a:xfrm>
        </p:grpSpPr>
        <p:sp>
          <p:nvSpPr>
            <p:cNvPr id="3176" name=""/>
            <p:cNvSpPr/>
            <p:nvPr/>
          </p:nvSpPr>
          <p:spPr>
            <a:xfrm>
              <a:off x="3962520" y="80200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010040" y="80200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8" name=""/>
          <p:cNvSpPr/>
          <p:nvPr/>
        </p:nvSpPr>
        <p:spPr>
          <a:xfrm>
            <a:off x="4209840" y="778680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9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antry with RPG-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3733920" y="78948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3733920" y="81532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3624120" y="7291440"/>
            <a:ext cx="21456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3581280" y="723888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 flipV="1">
            <a:off x="3581280" y="723852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4" name=""/>
          <p:cNvGrpSpPr/>
          <p:nvPr/>
        </p:nvGrpSpPr>
        <p:grpSpPr>
          <a:xfrm>
            <a:off x="3984480" y="8267760"/>
            <a:ext cx="74880" cy="27000"/>
            <a:chOff x="3984480" y="8267760"/>
            <a:chExt cx="74880" cy="27000"/>
          </a:xfrm>
        </p:grpSpPr>
        <p:sp>
          <p:nvSpPr>
            <p:cNvPr id="3185" name=""/>
            <p:cNvSpPr/>
            <p:nvPr/>
          </p:nvSpPr>
          <p:spPr>
            <a:xfrm>
              <a:off x="3984480" y="82677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032360" y="82677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7" name=""/>
          <p:cNvSpPr/>
          <p:nvPr/>
        </p:nvSpPr>
        <p:spPr>
          <a:xfrm>
            <a:off x="3922560" y="825192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4201560" y="8247240"/>
            <a:ext cx="17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MP-1 Infantry Combat Vehi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3903840" y="8335800"/>
            <a:ext cx="23940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3924360" y="84996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4071960" y="84963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3940200" y="837720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3952800" y="85201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4" name=""/>
          <p:cNvGrpSpPr/>
          <p:nvPr/>
        </p:nvGrpSpPr>
        <p:grpSpPr>
          <a:xfrm>
            <a:off x="3875040" y="4595760"/>
            <a:ext cx="239760" cy="157320"/>
            <a:chOff x="3875040" y="4595760"/>
            <a:chExt cx="239760" cy="157320"/>
          </a:xfrm>
        </p:grpSpPr>
        <p:sp>
          <p:nvSpPr>
            <p:cNvPr id="3195" name=""/>
            <p:cNvSpPr/>
            <p:nvPr/>
          </p:nvSpPr>
          <p:spPr>
            <a:xfrm>
              <a:off x="3875040" y="459576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989160" y="46483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957480" y="463860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3913200" y="4724280"/>
              <a:ext cx="153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989160" y="4600440"/>
              <a:ext cx="76320" cy="7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 flipH="1">
              <a:off x="3912840" y="4600440"/>
              <a:ext cx="75960" cy="7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1" name=""/>
          <p:cNvGrpSpPr/>
          <p:nvPr/>
        </p:nvGrpSpPr>
        <p:grpSpPr>
          <a:xfrm>
            <a:off x="3886200" y="8077320"/>
            <a:ext cx="239760" cy="156960"/>
            <a:chOff x="3886200" y="8077320"/>
            <a:chExt cx="239760" cy="156960"/>
          </a:xfrm>
        </p:grpSpPr>
        <p:sp>
          <p:nvSpPr>
            <p:cNvPr id="3202" name=""/>
            <p:cNvSpPr/>
            <p:nvPr/>
          </p:nvSpPr>
          <p:spPr>
            <a:xfrm>
              <a:off x="3886200" y="807732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4000320" y="812952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968640" y="811980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924360" y="8205480"/>
              <a:ext cx="153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4000320" y="8081640"/>
              <a:ext cx="7632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 flipH="1">
              <a:off x="3924000" y="8081640"/>
              <a:ext cx="7596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8" name=""/>
          <p:cNvGrpSpPr/>
          <p:nvPr/>
        </p:nvGrpSpPr>
        <p:grpSpPr>
          <a:xfrm>
            <a:off x="838080" y="8086680"/>
            <a:ext cx="239760" cy="157320"/>
            <a:chOff x="838080" y="8086680"/>
            <a:chExt cx="239760" cy="157320"/>
          </a:xfrm>
        </p:grpSpPr>
        <p:sp>
          <p:nvSpPr>
            <p:cNvPr id="3209" name=""/>
            <p:cNvSpPr/>
            <p:nvPr/>
          </p:nvSpPr>
          <p:spPr>
            <a:xfrm>
              <a:off x="838080" y="808668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952200" y="81392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920520" y="812952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876240" y="8215200"/>
              <a:ext cx="153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952200" y="8091360"/>
              <a:ext cx="76320" cy="7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 flipH="1">
              <a:off x="875880" y="8091360"/>
              <a:ext cx="75960" cy="7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933720" y="351936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279360"/>
            <a:ext cx="5829120" cy="4827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gyptian Tables of Organization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mored Division –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98800" y="502452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35520" y="506880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98800" y="27208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29040" y="2790720"/>
            <a:ext cx="21420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8080" y="568800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47800" y="482112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1120" y="1201680"/>
            <a:ext cx="0" cy="260820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0280" y="97308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0160" y="1352520"/>
            <a:ext cx="3049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61840" y="1384200"/>
            <a:ext cx="241560" cy="16200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82800" y="17524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82800" y="1590840"/>
            <a:ext cx="1440" cy="1681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47760" y="16192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82800" y="12762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33400" y="26892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9480" y="274644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24004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6440" y="27939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7880" y="14288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4840" y="820800"/>
            <a:ext cx="221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BATTLEGROUP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Infantry Brigade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33640" y="120024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igade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366200" y="151452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50360" y="18446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50PK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17880" y="24526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40120" y="25812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Tank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193760" y="3871800"/>
            <a:ext cx="157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9040" y="49370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5200" y="224784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90480" y="380988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39040" y="217188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G-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Mechanized Infantry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3400" y="37288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953640" y="375120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17640" y="38545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915840" y="3676680"/>
            <a:ext cx="74880" cy="27000"/>
            <a:chOff x="915840" y="3676680"/>
            <a:chExt cx="74880" cy="27000"/>
          </a:xfrm>
        </p:grpSpPr>
        <p:sp>
          <p:nvSpPr>
            <p:cNvPr id="407" name=""/>
            <p:cNvSpPr/>
            <p:nvPr/>
          </p:nvSpPr>
          <p:spPr>
            <a:xfrm>
              <a:off x="915840" y="36766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63720" y="36766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681120" y="3689280"/>
            <a:ext cx="0" cy="213372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68920" y="3600360"/>
            <a:ext cx="19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3 Off-board Direct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Company (12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35200" y="30384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0480" y="296244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Armored Reconnaissance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36520" y="192096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57400" y="20844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211400" y="1865160"/>
            <a:ext cx="74160" cy="27000"/>
            <a:chOff x="1211400" y="1865160"/>
            <a:chExt cx="74160" cy="27000"/>
          </a:xfrm>
        </p:grpSpPr>
        <p:sp>
          <p:nvSpPr>
            <p:cNvPr id="416" name=""/>
            <p:cNvSpPr/>
            <p:nvPr/>
          </p:nvSpPr>
          <p:spPr>
            <a:xfrm>
              <a:off x="1211400" y="18651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8920" y="18651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1324080" y="20876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657600" y="5791320"/>
            <a:ext cx="2032920" cy="1068120"/>
            <a:chOff x="3657600" y="5791320"/>
            <a:chExt cx="2032920" cy="1068120"/>
          </a:xfrm>
        </p:grpSpPr>
        <p:sp>
          <p:nvSpPr>
            <p:cNvPr id="420" name=""/>
            <p:cNvSpPr/>
            <p:nvPr/>
          </p:nvSpPr>
          <p:spPr>
            <a:xfrm>
              <a:off x="3733920" y="6153120"/>
              <a:ext cx="0" cy="60948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87640" y="637704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22560" y="641664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87720" y="6321600"/>
              <a:ext cx="288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66120" y="5791320"/>
              <a:ext cx="172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cc00"/>
                  </a:solidFill>
                  <a:latin typeface="Arial"/>
                </a:rPr>
                <a:t>MANUEVER ELEMENT-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Tank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592452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701880" y="5981760"/>
              <a:ext cx="21456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3920" y="645804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33920" y="67626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86200" y="668196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21120" y="672156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3957480" y="6626160"/>
              <a:ext cx="74880" cy="27000"/>
              <a:chOff x="3957480" y="6626160"/>
              <a:chExt cx="74880" cy="27000"/>
            </a:xfrm>
          </p:grpSpPr>
          <p:sp>
            <p:nvSpPr>
              <p:cNvPr id="432" name=""/>
              <p:cNvSpPr/>
              <p:nvPr/>
            </p:nvSpPr>
            <p:spPr>
              <a:xfrm>
                <a:off x="3957480" y="66261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005360" y="66261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4192560" y="6273720"/>
              <a:ext cx="139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55A Main Battle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2560" y="6643800"/>
              <a:ext cx="139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55A Main Battle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3780000" y="5848200"/>
              <a:ext cx="56880" cy="63360"/>
              <a:chOff x="3780000" y="5848200"/>
              <a:chExt cx="56880" cy="63360"/>
            </a:xfrm>
          </p:grpSpPr>
          <p:sp>
            <p:nvSpPr>
              <p:cNvPr id="437" name=""/>
              <p:cNvSpPr/>
              <p:nvPr/>
            </p:nvSpPr>
            <p:spPr>
              <a:xfrm>
                <a:off x="3780000" y="5848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836880" y="5848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9" name=""/>
          <p:cNvSpPr/>
          <p:nvPr/>
        </p:nvSpPr>
        <p:spPr>
          <a:xfrm>
            <a:off x="1143000" y="16714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55600" y="1671480"/>
            <a:ext cx="2415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68560" y="183996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85320" y="489096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49320" y="500220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73960" y="4716360"/>
            <a:ext cx="189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4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Battery (16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53658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85840" y="5153040"/>
            <a:ext cx="216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6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" y="58039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85840" y="5592600"/>
            <a:ext cx="216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7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7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" y="31464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952560" y="2171880"/>
            <a:ext cx="57240" cy="63360"/>
            <a:chOff x="952560" y="2171880"/>
            <a:chExt cx="57240" cy="63360"/>
          </a:xfrm>
        </p:grpSpPr>
        <p:sp>
          <p:nvSpPr>
            <p:cNvPr id="451" name=""/>
            <p:cNvSpPr/>
            <p:nvPr/>
          </p:nvSpPr>
          <p:spPr>
            <a:xfrm>
              <a:off x="952560" y="21718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009800" y="21718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85800" y="4006800"/>
            <a:ext cx="2205360" cy="337320"/>
            <a:chOff x="685800" y="4006800"/>
            <a:chExt cx="2205360" cy="337320"/>
          </a:xfrm>
        </p:grpSpPr>
        <p:sp>
          <p:nvSpPr>
            <p:cNvPr id="454" name=""/>
            <p:cNvSpPr/>
            <p:nvPr/>
          </p:nvSpPr>
          <p:spPr>
            <a:xfrm>
              <a:off x="838080" y="408312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57160" y="4121280"/>
              <a:ext cx="257400" cy="13176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71080" y="4006800"/>
              <a:ext cx="172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E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Armored Engineer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95320" y="4159440"/>
              <a:ext cx="19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03240" y="415944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88920" y="415944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074600" y="415944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90720" y="400680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5800" y="41976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7280" y="885960"/>
            <a:ext cx="76320" cy="75960"/>
            <a:chOff x="647280" y="885960"/>
            <a:chExt cx="76320" cy="75960"/>
          </a:xfrm>
        </p:grpSpPr>
        <p:sp>
          <p:nvSpPr>
            <p:cNvPr id="464" name=""/>
            <p:cNvSpPr/>
            <p:nvPr/>
          </p:nvSpPr>
          <p:spPr>
            <a:xfrm flipH="1">
              <a:off x="647280" y="8859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7640" y="8859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872880" y="822240"/>
            <a:ext cx="229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BATTLEGROUP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Infantry Battalion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080" y="523080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90720" y="47480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90720" y="51609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990720" y="56116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42840" y="5307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52560" y="5764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581280" y="9907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708360" y="914400"/>
            <a:ext cx="57240" cy="63360"/>
            <a:chOff x="3708360" y="914400"/>
            <a:chExt cx="57240" cy="63360"/>
          </a:xfrm>
        </p:grpSpPr>
        <p:sp>
          <p:nvSpPr>
            <p:cNvPr id="475" name=""/>
            <p:cNvSpPr/>
            <p:nvPr/>
          </p:nvSpPr>
          <p:spPr>
            <a:xfrm>
              <a:off x="3708360" y="914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65600" y="914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736800" y="1238400"/>
            <a:ext cx="0" cy="241920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746520" y="28386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002120" y="14050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98800" y="312912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9440" y="1324080"/>
            <a:ext cx="30456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21120" y="1355760"/>
            <a:ext cx="241200" cy="16200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041720" y="17240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041720" y="1562040"/>
            <a:ext cx="1800" cy="1684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307040" y="15908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041720" y="12477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36800" y="140004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92920" y="117144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alion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425120" y="148608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4308480" y="1855800"/>
            <a:ext cx="74160" cy="27000"/>
            <a:chOff x="4308480" y="1855800"/>
            <a:chExt cx="74160" cy="27000"/>
          </a:xfrm>
        </p:grpSpPr>
        <p:sp>
          <p:nvSpPr>
            <p:cNvPr id="491" name=""/>
            <p:cNvSpPr/>
            <p:nvPr/>
          </p:nvSpPr>
          <p:spPr>
            <a:xfrm>
              <a:off x="4308480" y="18558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56000" y="18558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4202280" y="1643040"/>
            <a:ext cx="23940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14880" y="1643040"/>
            <a:ext cx="241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227480" y="181116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302360" y="215280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36800" y="250200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86200" y="23814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89680" y="2305080"/>
            <a:ext cx="179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Mechanized Infantry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41720" y="23050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14600" y="2928960"/>
            <a:ext cx="95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00680" y="28735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4000" y="2610000"/>
            <a:ext cx="197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S-02 Organic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rmor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ortar Company (82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041720" y="26478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736800" y="320976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207680" y="3081240"/>
            <a:ext cx="15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lyutka (Sagger) ATG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36800" y="3657600"/>
            <a:ext cx="0" cy="182880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21080" y="4052880"/>
            <a:ext cx="157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87640" y="536400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35360" y="54878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70320" y="5257800"/>
            <a:ext cx="215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5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Howitzer Battery (122mm M 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040280" y="52880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002120" y="5440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269240" y="5029200"/>
            <a:ext cx="149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ZSU-57/2 Antiaircaft Gu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46520" y="51800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933720" y="506736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71880" y="5105520"/>
            <a:ext cx="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4006440" y="315900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79800" y="327024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981600" y="31561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971880" y="31464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57560" y="31464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71880" y="31878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057560" y="31845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1680" y="102888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520" y="971640"/>
            <a:ext cx="3045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33520" y="97272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73240" y="196200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76240" y="231300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835200" y="224748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33400" y="224784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961920" y="2616120"/>
            <a:ext cx="57240" cy="63360"/>
            <a:chOff x="961920" y="2616120"/>
            <a:chExt cx="57240" cy="63360"/>
          </a:xfrm>
        </p:grpSpPr>
        <p:sp>
          <p:nvSpPr>
            <p:cNvPr id="533" name=""/>
            <p:cNvSpPr/>
            <p:nvPr/>
          </p:nvSpPr>
          <p:spPr>
            <a:xfrm>
              <a:off x="961920" y="26161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19160" y="26161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1000080" y="296532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76240" y="310356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838080" y="303696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29040" y="2438280"/>
            <a:ext cx="21420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624120" y="1047600"/>
            <a:ext cx="21456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584520" y="98892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3584520" y="99072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22240" y="17971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50PK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18120" y="190512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38640" y="20685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05320" y="20653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54480" y="194616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3886200" y="238140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84760" y="2390760"/>
            <a:ext cx="3045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038480" y="28004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3984480" y="3782880"/>
            <a:ext cx="74880" cy="27000"/>
            <a:chOff x="3984480" y="3782880"/>
            <a:chExt cx="74880" cy="27000"/>
          </a:xfrm>
        </p:grpSpPr>
        <p:sp>
          <p:nvSpPr>
            <p:cNvPr id="551" name=""/>
            <p:cNvSpPr/>
            <p:nvPr/>
          </p:nvSpPr>
          <p:spPr>
            <a:xfrm>
              <a:off x="3984480" y="37828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032360" y="37828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22560" y="330048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03000" y="37339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50PK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03840" y="3841920"/>
            <a:ext cx="23940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924360" y="40114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091040" y="40114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40200" y="388296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019400" y="506736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05280" y="49165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086360" y="51912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43440" y="5210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971880" y="3067200"/>
            <a:ext cx="74160" cy="27000"/>
            <a:chOff x="3971880" y="3067200"/>
            <a:chExt cx="74160" cy="27000"/>
          </a:xfrm>
        </p:grpSpPr>
        <p:sp>
          <p:nvSpPr>
            <p:cNvPr id="564" name=""/>
            <p:cNvSpPr/>
            <p:nvPr/>
          </p:nvSpPr>
          <p:spPr>
            <a:xfrm>
              <a:off x="3971880" y="30672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019400" y="30672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684360" y="6442200"/>
            <a:ext cx="1440" cy="7617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3520" y="620388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61279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38160" y="65372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8080" y="65833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84360" y="66517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38440" y="6051600"/>
            <a:ext cx="201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MANUEVER ELEMENT-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172520" y="6432480"/>
            <a:ext cx="88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51040" y="6583320"/>
            <a:ext cx="241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155960" y="711216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M-7 A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841320" y="6796080"/>
            <a:ext cx="241200" cy="212760"/>
            <a:chOff x="841320" y="6796080"/>
            <a:chExt cx="241200" cy="212760"/>
          </a:xfrm>
        </p:grpSpPr>
        <p:sp>
          <p:nvSpPr>
            <p:cNvPr id="577" name=""/>
            <p:cNvSpPr/>
            <p:nvPr/>
          </p:nvSpPr>
          <p:spPr>
            <a:xfrm>
              <a:off x="842760" y="685188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923760" y="6796080"/>
              <a:ext cx="74880" cy="27000"/>
              <a:chOff x="923760" y="6796080"/>
              <a:chExt cx="74880" cy="27000"/>
            </a:xfrm>
          </p:grpSpPr>
          <p:sp>
            <p:nvSpPr>
              <p:cNvPr id="579" name=""/>
              <p:cNvSpPr/>
              <p:nvPr/>
            </p:nvSpPr>
            <p:spPr>
              <a:xfrm>
                <a:off x="923760" y="67960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71640" y="67960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 flipV="1">
              <a:off x="842760" y="685188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41320" y="6851880"/>
              <a:ext cx="24120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914400" y="7074000"/>
            <a:ext cx="74160" cy="27000"/>
            <a:chOff x="914400" y="7074000"/>
            <a:chExt cx="74160" cy="27000"/>
          </a:xfrm>
        </p:grpSpPr>
        <p:sp>
          <p:nvSpPr>
            <p:cNvPr id="584" name=""/>
            <p:cNvSpPr/>
            <p:nvPr/>
          </p:nvSpPr>
          <p:spPr>
            <a:xfrm>
              <a:off x="914400" y="70740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961920" y="70740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1162440" y="6829560"/>
            <a:ext cx="81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9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antry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33520" y="758988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Up to six with  RPG-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5800" y="69372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" y="72057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6360" y="625644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6203880"/>
            <a:ext cx="3045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533520" y="620352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936720" y="7338960"/>
            <a:ext cx="74160" cy="27000"/>
            <a:chOff x="936720" y="7338960"/>
            <a:chExt cx="74160" cy="27000"/>
          </a:xfrm>
        </p:grpSpPr>
        <p:sp>
          <p:nvSpPr>
            <p:cNvPr id="594" name=""/>
            <p:cNvSpPr/>
            <p:nvPr/>
          </p:nvSpPr>
          <p:spPr>
            <a:xfrm>
              <a:off x="936720" y="73389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84240" y="73389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874800" y="731376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154880" y="72709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50PK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55720" y="738828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76240" y="75517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23840" y="754848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92080" y="742968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05040" y="75722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657600" y="6972480"/>
            <a:ext cx="2095560" cy="1792080"/>
            <a:chOff x="3657600" y="6972480"/>
            <a:chExt cx="2095560" cy="1792080"/>
          </a:xfrm>
        </p:grpSpPr>
        <p:sp>
          <p:nvSpPr>
            <p:cNvPr id="604" name=""/>
            <p:cNvSpPr/>
            <p:nvPr/>
          </p:nvSpPr>
          <p:spPr>
            <a:xfrm>
              <a:off x="3732120" y="8096400"/>
              <a:ext cx="15192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57600" y="707400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961440" y="6972480"/>
              <a:ext cx="1791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cc00"/>
                  </a:solidFill>
                  <a:latin typeface="Arial"/>
                </a:rPr>
                <a:t>MANUEVER ELEMENT-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connaissanc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000320" y="746460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85840" y="7520040"/>
              <a:ext cx="23940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32120" y="7588440"/>
              <a:ext cx="15192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115520" y="7359840"/>
              <a:ext cx="88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98800" y="7520040"/>
              <a:ext cx="2408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19120" y="8282160"/>
              <a:ext cx="1400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Recon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85840" y="8043840"/>
              <a:ext cx="23940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3966840" y="7988400"/>
              <a:ext cx="73800" cy="27000"/>
              <a:chOff x="3966840" y="7988400"/>
              <a:chExt cx="73800" cy="27000"/>
            </a:xfrm>
          </p:grpSpPr>
          <p:sp>
            <p:nvSpPr>
              <p:cNvPr id="615" name=""/>
              <p:cNvSpPr/>
              <p:nvPr/>
            </p:nvSpPr>
            <p:spPr>
              <a:xfrm>
                <a:off x="3966840" y="79884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014000" y="79884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 flipV="1">
              <a:off x="3885840" y="8043480"/>
              <a:ext cx="23616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84400" y="8043840"/>
              <a:ext cx="24084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90880" y="8286840"/>
              <a:ext cx="23904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3971520" y="8240760"/>
              <a:ext cx="74160" cy="27000"/>
              <a:chOff x="3971520" y="8240760"/>
              <a:chExt cx="74160" cy="27000"/>
            </a:xfrm>
          </p:grpSpPr>
          <p:sp>
            <p:nvSpPr>
              <p:cNvPr id="621" name=""/>
              <p:cNvSpPr/>
              <p:nvPr/>
            </p:nvSpPr>
            <p:spPr>
              <a:xfrm>
                <a:off x="3971520" y="82407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019040" y="82407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>
              <a:off x="3908160" y="845028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079520" y="84488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114440" y="8012160"/>
              <a:ext cx="121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antry with RPG-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917880" y="8212320"/>
              <a:ext cx="0" cy="763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732120" y="7315200"/>
              <a:ext cx="0" cy="13147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84400" y="7763040"/>
              <a:ext cx="23940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3965400" y="7716960"/>
              <a:ext cx="73800" cy="27000"/>
              <a:chOff x="3965400" y="7716960"/>
              <a:chExt cx="73800" cy="27000"/>
            </a:xfrm>
          </p:grpSpPr>
          <p:sp>
            <p:nvSpPr>
              <p:cNvPr id="630" name=""/>
              <p:cNvSpPr/>
              <p:nvPr/>
            </p:nvSpPr>
            <p:spPr>
              <a:xfrm>
                <a:off x="3965400" y="77169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012560" y="77169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3901680" y="79264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73400" y="792504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11400" y="7688520"/>
              <a:ext cx="0" cy="7596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114800" y="816300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14800" y="762012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809880" y="700092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705120" y="7139160"/>
              <a:ext cx="21384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3662280" y="7076880"/>
              <a:ext cx="29808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25800" y="8325000"/>
              <a:ext cx="16920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3885840" y="8286840"/>
              <a:ext cx="23616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115880" y="7758360"/>
              <a:ext cx="1400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Recon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24000" y="7801200"/>
              <a:ext cx="16956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3885840" y="7763040"/>
              <a:ext cx="23616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90880" y="8572680"/>
              <a:ext cx="23904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3971520" y="8526600"/>
              <a:ext cx="74160" cy="27000"/>
              <a:chOff x="3971520" y="8526600"/>
              <a:chExt cx="74160" cy="27000"/>
            </a:xfrm>
          </p:grpSpPr>
          <p:sp>
            <p:nvSpPr>
              <p:cNvPr id="647" name=""/>
              <p:cNvSpPr/>
              <p:nvPr/>
            </p:nvSpPr>
            <p:spPr>
              <a:xfrm>
                <a:off x="3971520" y="85266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019040" y="85266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9" name=""/>
            <p:cNvSpPr/>
            <p:nvPr/>
          </p:nvSpPr>
          <p:spPr>
            <a:xfrm>
              <a:off x="3925800" y="8610840"/>
              <a:ext cx="16920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3885840" y="8572680"/>
              <a:ext cx="23616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116960" y="8548920"/>
              <a:ext cx="1174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T-76B Light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33560" y="8629920"/>
              <a:ext cx="15192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609480" y="7831080"/>
            <a:ext cx="2236680" cy="931680"/>
            <a:chOff x="609480" y="7831080"/>
            <a:chExt cx="2236680" cy="931680"/>
          </a:xfrm>
        </p:grpSpPr>
        <p:sp>
          <p:nvSpPr>
            <p:cNvPr id="654" name=""/>
            <p:cNvSpPr/>
            <p:nvPr/>
          </p:nvSpPr>
          <p:spPr>
            <a:xfrm>
              <a:off x="609480" y="796464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4120" y="8021880"/>
              <a:ext cx="21420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5800" y="8202600"/>
              <a:ext cx="0" cy="4669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39880" y="831528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74800" y="835524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39960" y="82598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14400" y="7831080"/>
              <a:ext cx="193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cc00"/>
                  </a:solidFill>
                  <a:latin typeface="Arial"/>
                </a:rPr>
                <a:t>MANUEVER ELEMENT-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Antitank Missil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85800" y="83646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85800" y="866952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144440" y="821232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Recon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143000" y="8531280"/>
              <a:ext cx="1401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ATGM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70040" y="78883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62120" y="8002800"/>
              <a:ext cx="144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7200" y="816768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5800" y="7993080"/>
              <a:ext cx="152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95160" y="799308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28720" y="799308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838080" y="831708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838080" y="8516880"/>
              <a:ext cx="239760" cy="245880"/>
              <a:chOff x="838080" y="8516880"/>
              <a:chExt cx="239760" cy="245880"/>
            </a:xfrm>
          </p:grpSpPr>
          <p:sp>
            <p:nvSpPr>
              <p:cNvPr id="673" name=""/>
              <p:cNvSpPr/>
              <p:nvPr/>
            </p:nvSpPr>
            <p:spPr>
              <a:xfrm>
                <a:off x="838080" y="8569080"/>
                <a:ext cx="239760" cy="15732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66520" y="8611920"/>
                <a:ext cx="169920" cy="74520"/>
              </a:xfrm>
              <a:prstGeom prst="ellipse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996840" y="8586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914400" y="8516880"/>
                <a:ext cx="74160" cy="27000"/>
                <a:chOff x="914400" y="8516880"/>
                <a:chExt cx="74160" cy="2700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914400" y="85168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961920" y="85168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 flipH="1">
                <a:off x="955080" y="8599320"/>
                <a:ext cx="1800" cy="10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919080" y="8710560"/>
                <a:ext cx="68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20520" y="8596080"/>
                <a:ext cx="68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911160" y="8586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038240" y="87357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47440" y="87357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5" name=""/>
          <p:cNvSpPr/>
          <p:nvPr/>
        </p:nvSpPr>
        <p:spPr>
          <a:xfrm>
            <a:off x="685800" y="45482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5200" y="443232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79480" y="448956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990720" y="43560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987480" y="4470480"/>
            <a:ext cx="1440" cy="152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952560" y="463536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911160" y="4460760"/>
            <a:ext cx="152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920880" y="4460760"/>
            <a:ext cx="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054080" y="4460760"/>
            <a:ext cx="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168920" y="4371840"/>
            <a:ext cx="16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Antitank Missile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733920" y="34434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733920" y="3672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90760" y="3324240"/>
            <a:ext cx="161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-10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2mm Recoiless Rif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191120" y="3567240"/>
            <a:ext cx="166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-11  107mm Recoiless Rif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95560" y="336240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95560" y="359100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970440" y="3782880"/>
            <a:ext cx="74160" cy="27000"/>
            <a:chOff x="3970440" y="3782880"/>
            <a:chExt cx="74160" cy="27000"/>
          </a:xfrm>
        </p:grpSpPr>
        <p:sp>
          <p:nvSpPr>
            <p:cNvPr id="702" name=""/>
            <p:cNvSpPr/>
            <p:nvPr/>
          </p:nvSpPr>
          <p:spPr>
            <a:xfrm>
              <a:off x="3970440" y="37828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017960" y="37828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4092480" y="400860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27600" y="375768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978360" y="3675240"/>
            <a:ext cx="57240" cy="55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78360" y="3446640"/>
            <a:ext cx="57240" cy="55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06800" y="36180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006800" y="33894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889440" y="42433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89440" y="44910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268520" y="461628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ZIL-157 Medium Tru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474804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909960" y="51944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3973680" y="4971960"/>
            <a:ext cx="74160" cy="27000"/>
            <a:chOff x="3973680" y="4971960"/>
            <a:chExt cx="74160" cy="27000"/>
          </a:xfrm>
        </p:grpSpPr>
        <p:sp>
          <p:nvSpPr>
            <p:cNvPr id="716" name=""/>
            <p:cNvSpPr/>
            <p:nvPr/>
          </p:nvSpPr>
          <p:spPr>
            <a:xfrm>
              <a:off x="3973680" y="49719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021200" y="49719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4076640" y="4915080"/>
            <a:ext cx="28800" cy="26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0480" y="466740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272480" y="420516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-44 85mm Antitank Gu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71400" y="4433760"/>
            <a:ext cx="165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M-3 100mm Antitank Gu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736800" y="431964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736800" y="457200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876480" y="42465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90960" y="42465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3857400" y="44895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000680" y="44895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990960" y="45529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990960" y="430992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933720" y="441000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080" y="33814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57160" y="3419640"/>
            <a:ext cx="257400" cy="13176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1080" y="330516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Armored Engineer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95320" y="345744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903240" y="345744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988920" y="345744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074600" y="345744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990720" y="33051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5800" y="35053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838080" y="7143840"/>
            <a:ext cx="239760" cy="156960"/>
            <a:chOff x="838080" y="7143840"/>
            <a:chExt cx="239760" cy="156960"/>
          </a:xfrm>
        </p:grpSpPr>
        <p:sp>
          <p:nvSpPr>
            <p:cNvPr id="741" name=""/>
            <p:cNvSpPr/>
            <p:nvPr/>
          </p:nvSpPr>
          <p:spPr>
            <a:xfrm>
              <a:off x="838080" y="714384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52200" y="719604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20520" y="718632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76240" y="7272000"/>
              <a:ext cx="153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952200" y="7148160"/>
              <a:ext cx="7632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875880" y="7148160"/>
              <a:ext cx="7596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996840" y="54086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030320" y="546408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38080" y="1387440"/>
            <a:ext cx="0" cy="12556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028880" y="2732040"/>
            <a:ext cx="0" cy="1522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028880" y="2389320"/>
            <a:ext cx="0" cy="1522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019160" y="1741320"/>
            <a:ext cx="0" cy="15264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0880" y="304920"/>
            <a:ext cx="6096240" cy="60948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gyptian Tables of Organization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mored Division –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117144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4880" y="1209600"/>
            <a:ext cx="257040" cy="13176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024560" y="1069920"/>
            <a:ext cx="1724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cc00"/>
                </a:solidFill>
                <a:latin typeface="Arial"/>
              </a:rPr>
              <a:t>MANEUVER ELEMENT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rmored Engineer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43040" y="1247760"/>
            <a:ext cx="19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0960" y="124776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36640" y="124776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22320" y="124776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38080" y="10954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09880" y="657864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36400" y="2357280"/>
            <a:ext cx="19364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FIRE SUPPORT ELEMENT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Battery (16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156920" y="5099040"/>
            <a:ext cx="2021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FIRE SUPPORT ELEMENT-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156920" y="6458040"/>
            <a:ext cx="2021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FIRE SUPPORT ELEMENT-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7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09880" y="520236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3809880" y="2414520"/>
            <a:ext cx="303120" cy="301680"/>
            <a:chOff x="3809880" y="2414520"/>
            <a:chExt cx="303120" cy="301680"/>
          </a:xfrm>
        </p:grpSpPr>
        <p:sp>
          <p:nvSpPr>
            <p:cNvPr id="768" name=""/>
            <p:cNvSpPr/>
            <p:nvPr/>
          </p:nvSpPr>
          <p:spPr>
            <a:xfrm>
              <a:off x="3809880" y="248760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3947400" y="2557440"/>
              <a:ext cx="1800" cy="9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911400" y="266832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952800" y="24145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3962520" y="51325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962520" y="650232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914640" y="5278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924360" y="6654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809880" y="38275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91840" y="3695760"/>
            <a:ext cx="20156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FIRE SUPPORT ELEMENT-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Howitzer Battery (122mm M 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37512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924360" y="39038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85800" y="440388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16040" y="447372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87320" y="455616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984960" y="4267080"/>
            <a:ext cx="19364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cc00"/>
                </a:solidFill>
                <a:latin typeface="Arial"/>
              </a:rPr>
              <a:t>FIRE SUPPORT ELEMENT-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rmor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ortar Company (82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28720" y="43308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25480" y="44830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117320" y="1066680"/>
            <a:ext cx="19364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FIRE SUPPORT ELEMENT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Company (12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204920" y="28083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T-62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990720" y="28843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011240" y="30481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1065240" y="2819520"/>
            <a:ext cx="74160" cy="27000"/>
            <a:chOff x="1065240" y="2819520"/>
            <a:chExt cx="74160" cy="27000"/>
          </a:xfrm>
        </p:grpSpPr>
        <p:sp>
          <p:nvSpPr>
            <p:cNvPr id="791" name=""/>
            <p:cNvSpPr/>
            <p:nvPr/>
          </p:nvSpPr>
          <p:spPr>
            <a:xfrm>
              <a:off x="1065240" y="28195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112760" y="28195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1168560" y="30448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027080" y="292572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028880" y="30654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028880" y="2055960"/>
            <a:ext cx="0" cy="1522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809880" y="11653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948120" y="1235160"/>
            <a:ext cx="144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921120" y="133668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52800" y="10922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096920" y="15476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44560" y="16714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215360" y="144288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992160" y="16002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004760" y="1600200"/>
            <a:ext cx="2415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95400" y="18921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052640" y="1954080"/>
            <a:ext cx="1522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066680" y="1839960"/>
            <a:ext cx="74880" cy="27000"/>
            <a:chOff x="1066680" y="1839960"/>
            <a:chExt cx="74880" cy="27000"/>
          </a:xfrm>
        </p:grpSpPr>
        <p:sp>
          <p:nvSpPr>
            <p:cNvPr id="809" name=""/>
            <p:cNvSpPr/>
            <p:nvPr/>
          </p:nvSpPr>
          <p:spPr>
            <a:xfrm>
              <a:off x="1066680" y="18399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14560" y="18399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1057320" y="19591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90520" y="19591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123920" y="19620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946080" y="1999800"/>
            <a:ext cx="35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996840" y="22176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044720" y="2274840"/>
            <a:ext cx="1522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1073160" y="2166840"/>
            <a:ext cx="74160" cy="27000"/>
            <a:chOff x="1073160" y="2166840"/>
            <a:chExt cx="74160" cy="27000"/>
          </a:xfrm>
        </p:grpSpPr>
        <p:sp>
          <p:nvSpPr>
            <p:cNvPr id="818" name=""/>
            <p:cNvSpPr/>
            <p:nvPr/>
          </p:nvSpPr>
          <p:spPr>
            <a:xfrm>
              <a:off x="1073160" y="21668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120680" y="21668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054080" y="22845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187280" y="22845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20680" y="22780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946080" y="2323440"/>
            <a:ext cx="35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225440" y="186048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ault Engineers-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25440" y="219060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ault Engineers-B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995400" y="2560680"/>
            <a:ext cx="239760" cy="156960"/>
            <a:chOff x="995400" y="2560680"/>
            <a:chExt cx="239760" cy="156960"/>
          </a:xfrm>
        </p:grpSpPr>
        <p:sp>
          <p:nvSpPr>
            <p:cNvPr id="827" name=""/>
            <p:cNvSpPr/>
            <p:nvPr/>
          </p:nvSpPr>
          <p:spPr>
            <a:xfrm>
              <a:off x="995400" y="256068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109520" y="261288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77840" y="260316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033560" y="2688840"/>
              <a:ext cx="153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109520" y="2565000"/>
              <a:ext cx="7632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1033200" y="2565000"/>
              <a:ext cx="7596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1066680" y="2509920"/>
            <a:ext cx="74880" cy="27000"/>
            <a:chOff x="1066680" y="2509920"/>
            <a:chExt cx="74880" cy="27000"/>
          </a:xfrm>
        </p:grpSpPr>
        <p:sp>
          <p:nvSpPr>
            <p:cNvPr id="834" name=""/>
            <p:cNvSpPr/>
            <p:nvPr/>
          </p:nvSpPr>
          <p:spPr>
            <a:xfrm>
              <a:off x="1066680" y="250992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14560" y="25099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1225080" y="2536920"/>
            <a:ext cx="108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-7 Light SA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43120" y="19699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43120" y="23004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43120" y="26337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04880" y="33228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50960" y="3379680"/>
            <a:ext cx="21420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014840" y="3189240"/>
            <a:ext cx="1724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MANEUVER ELEMENT-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ssault Gun Batt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66880" y="32497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38080" y="34178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47800" y="3567240"/>
            <a:ext cx="0" cy="571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267920" y="3611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SU-100 Assault G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000080" y="37479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1074600" y="3697200"/>
            <a:ext cx="74880" cy="27000"/>
            <a:chOff x="1074600" y="3697200"/>
            <a:chExt cx="74880" cy="27000"/>
          </a:xfrm>
        </p:grpSpPr>
        <p:sp>
          <p:nvSpPr>
            <p:cNvPr id="849" name=""/>
            <p:cNvSpPr/>
            <p:nvPr/>
          </p:nvSpPr>
          <p:spPr>
            <a:xfrm>
              <a:off x="1074600" y="36972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122480" y="36972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1036800" y="3789360"/>
            <a:ext cx="16956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47800" y="38242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267920" y="3976560"/>
            <a:ext cx="125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SU-100 Assault G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000080" y="400536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1074600" y="3954600"/>
            <a:ext cx="74880" cy="27000"/>
            <a:chOff x="1074600" y="3954600"/>
            <a:chExt cx="74880" cy="27000"/>
          </a:xfrm>
        </p:grpSpPr>
        <p:sp>
          <p:nvSpPr>
            <p:cNvPr id="856" name=""/>
            <p:cNvSpPr/>
            <p:nvPr/>
          </p:nvSpPr>
          <p:spPr>
            <a:xfrm>
              <a:off x="1074600" y="39546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122480" y="39546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1036800" y="4046400"/>
            <a:ext cx="16956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47800" y="41194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38080" y="4648320"/>
            <a:ext cx="0" cy="8236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298160" y="4692600"/>
            <a:ext cx="114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96840" y="482904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076400" y="4778280"/>
            <a:ext cx="74160" cy="27000"/>
            <a:chOff x="1076400" y="4778280"/>
            <a:chExt cx="74160" cy="27000"/>
          </a:xfrm>
        </p:grpSpPr>
        <p:sp>
          <p:nvSpPr>
            <p:cNvPr id="864" name=""/>
            <p:cNvSpPr/>
            <p:nvPr/>
          </p:nvSpPr>
          <p:spPr>
            <a:xfrm>
              <a:off x="1076400" y="47782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123920" y="47782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844560" y="49053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96360" y="5380200"/>
            <a:ext cx="1411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T-62 SP 82mm Mor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1066680" y="5359320"/>
            <a:ext cx="74880" cy="27000"/>
            <a:chOff x="1066680" y="5359320"/>
            <a:chExt cx="74880" cy="27000"/>
          </a:xfrm>
        </p:grpSpPr>
        <p:sp>
          <p:nvSpPr>
            <p:cNvPr id="869" name=""/>
            <p:cNvSpPr/>
            <p:nvPr/>
          </p:nvSpPr>
          <p:spPr>
            <a:xfrm>
              <a:off x="1066680" y="535932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114560" y="53593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844560" y="5472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081080" y="551808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114560" y="54450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082520" y="493884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120680" y="48657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298520" y="50148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T-62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990720" y="50911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011240" y="52545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065240" y="5045040"/>
            <a:ext cx="74160" cy="27000"/>
            <a:chOff x="1065240" y="5045040"/>
            <a:chExt cx="74160" cy="27000"/>
          </a:xfrm>
        </p:grpSpPr>
        <p:sp>
          <p:nvSpPr>
            <p:cNvPr id="880" name=""/>
            <p:cNvSpPr/>
            <p:nvPr/>
          </p:nvSpPr>
          <p:spPr>
            <a:xfrm>
              <a:off x="1065240" y="50450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112760" y="50450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1168560" y="52513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027080" y="513252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028880" y="5272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62520" y="1405080"/>
            <a:ext cx="0" cy="571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382640" y="1449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14800" y="15858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4189320" y="1535040"/>
            <a:ext cx="74880" cy="27000"/>
            <a:chOff x="4189320" y="1535040"/>
            <a:chExt cx="74880" cy="27000"/>
          </a:xfrm>
        </p:grpSpPr>
        <p:sp>
          <p:nvSpPr>
            <p:cNvPr id="889" name=""/>
            <p:cNvSpPr/>
            <p:nvPr/>
          </p:nvSpPr>
          <p:spPr>
            <a:xfrm>
              <a:off x="4189320" y="15350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237200" y="15350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3962520" y="16621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381560" y="181440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20mm Mor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84320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4189320" y="1792440"/>
            <a:ext cx="74880" cy="27000"/>
            <a:chOff x="4189320" y="1792440"/>
            <a:chExt cx="74880" cy="27000"/>
          </a:xfrm>
        </p:grpSpPr>
        <p:sp>
          <p:nvSpPr>
            <p:cNvPr id="895" name=""/>
            <p:cNvSpPr/>
            <p:nvPr/>
          </p:nvSpPr>
          <p:spPr>
            <a:xfrm>
              <a:off x="4189320" y="17924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237200" y="17924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3962520" y="19573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99040" y="195264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237200" y="18795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200480" y="169560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238640" y="16225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962520" y="2728800"/>
            <a:ext cx="0" cy="5716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382640" y="27734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114800" y="29098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4189320" y="2859120"/>
            <a:ext cx="74880" cy="27000"/>
            <a:chOff x="4189320" y="2859120"/>
            <a:chExt cx="74880" cy="27000"/>
          </a:xfrm>
        </p:grpSpPr>
        <p:sp>
          <p:nvSpPr>
            <p:cNvPr id="906" name=""/>
            <p:cNvSpPr/>
            <p:nvPr/>
          </p:nvSpPr>
          <p:spPr>
            <a:xfrm>
              <a:off x="4189320" y="285912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37200" y="28591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3962520" y="29862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381560" y="313848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60mm Mor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114800" y="31669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4189320" y="3116160"/>
            <a:ext cx="74880" cy="27000"/>
            <a:chOff x="4189320" y="3116160"/>
            <a:chExt cx="74880" cy="27000"/>
          </a:xfrm>
        </p:grpSpPr>
        <p:sp>
          <p:nvSpPr>
            <p:cNvPr id="912" name=""/>
            <p:cNvSpPr/>
            <p:nvPr/>
          </p:nvSpPr>
          <p:spPr>
            <a:xfrm>
              <a:off x="4189320" y="31161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237200" y="31161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"/>
          <p:cNvSpPr/>
          <p:nvPr/>
        </p:nvSpPr>
        <p:spPr>
          <a:xfrm>
            <a:off x="3962520" y="32814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199040" y="32767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237200" y="32036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200480" y="301932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238640" y="29462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962520" y="4071960"/>
            <a:ext cx="0" cy="571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382640" y="41162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114800" y="42530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4189320" y="4202280"/>
            <a:ext cx="74880" cy="27000"/>
            <a:chOff x="4189320" y="4202280"/>
            <a:chExt cx="74880" cy="27000"/>
          </a:xfrm>
        </p:grpSpPr>
        <p:sp>
          <p:nvSpPr>
            <p:cNvPr id="923" name=""/>
            <p:cNvSpPr/>
            <p:nvPr/>
          </p:nvSpPr>
          <p:spPr>
            <a:xfrm>
              <a:off x="4189320" y="42022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237200" y="42022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962520" y="4329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381200" y="4510080"/>
            <a:ext cx="131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22mm M38 Howitz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114800" y="45385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4189320" y="4487760"/>
            <a:ext cx="74880" cy="27000"/>
            <a:chOff x="4189320" y="4487760"/>
            <a:chExt cx="74880" cy="27000"/>
          </a:xfrm>
        </p:grpSpPr>
        <p:sp>
          <p:nvSpPr>
            <p:cNvPr id="929" name=""/>
            <p:cNvSpPr/>
            <p:nvPr/>
          </p:nvSpPr>
          <p:spPr>
            <a:xfrm>
              <a:off x="4189320" y="44877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237200" y="44877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3962520" y="46339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219560" y="43099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219560" y="45957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62520" y="5443560"/>
            <a:ext cx="0" cy="571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382640" y="54878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114800" y="56246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189320" y="5573880"/>
            <a:ext cx="74880" cy="27000"/>
            <a:chOff x="4189320" y="5573880"/>
            <a:chExt cx="74880" cy="27000"/>
          </a:xfrm>
        </p:grpSpPr>
        <p:sp>
          <p:nvSpPr>
            <p:cNvPr id="938" name=""/>
            <p:cNvSpPr/>
            <p:nvPr/>
          </p:nvSpPr>
          <p:spPr>
            <a:xfrm>
              <a:off x="4189320" y="55738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237200" y="55738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3962520" y="57006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383000" y="5881680"/>
            <a:ext cx="134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22mm D30 Field G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114800" y="59101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4189320" y="5859360"/>
            <a:ext cx="74880" cy="27000"/>
            <a:chOff x="4189320" y="5859360"/>
            <a:chExt cx="74880" cy="27000"/>
          </a:xfrm>
        </p:grpSpPr>
        <p:sp>
          <p:nvSpPr>
            <p:cNvPr id="944" name=""/>
            <p:cNvSpPr/>
            <p:nvPr/>
          </p:nvSpPr>
          <p:spPr>
            <a:xfrm>
              <a:off x="4189320" y="58593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237200" y="58593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3962520" y="60055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219560" y="56815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219560" y="59673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962520" y="6824520"/>
            <a:ext cx="0" cy="5716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382640" y="68594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114800" y="69962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4189320" y="6945480"/>
            <a:ext cx="74880" cy="27000"/>
            <a:chOff x="4189320" y="6945480"/>
            <a:chExt cx="74880" cy="27000"/>
          </a:xfrm>
        </p:grpSpPr>
        <p:sp>
          <p:nvSpPr>
            <p:cNvPr id="953" name=""/>
            <p:cNvSpPr/>
            <p:nvPr/>
          </p:nvSpPr>
          <p:spPr>
            <a:xfrm>
              <a:off x="4189320" y="69454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237200" y="69454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>
            <a:off x="3962520" y="70722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83000" y="7253280"/>
            <a:ext cx="134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22mm D74 Field G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114800" y="72817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4189320" y="7230960"/>
            <a:ext cx="74880" cy="27000"/>
            <a:chOff x="4189320" y="7230960"/>
            <a:chExt cx="74880" cy="27000"/>
          </a:xfrm>
        </p:grpSpPr>
        <p:sp>
          <p:nvSpPr>
            <p:cNvPr id="959" name=""/>
            <p:cNvSpPr/>
            <p:nvPr/>
          </p:nvSpPr>
          <p:spPr>
            <a:xfrm>
              <a:off x="4189320" y="72309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237200" y="72309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3962520" y="73771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219560" y="70531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219560" y="73389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813120" y="202572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851280" y="335268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813120" y="472428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813120" y="609588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813120" y="751212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3933720" y="351936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33520" y="279360"/>
            <a:ext cx="5829120" cy="4827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yptian Tables of Organiz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chanized Division –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98800" y="502452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935520" y="506880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98800" y="27208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929040" y="2790720"/>
            <a:ext cx="21420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38080" y="568800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47800" y="478296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81120" y="1201680"/>
            <a:ext cx="0" cy="260820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0280" y="97308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830160" y="1371600"/>
            <a:ext cx="3049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861840" y="1403280"/>
            <a:ext cx="241560" cy="16200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82800" y="17715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982800" y="1609560"/>
            <a:ext cx="1440" cy="1684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247760" y="16383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982800" y="12952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33400" y="28512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879480" y="290844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" y="24382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76440" y="29559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77880" y="14479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34840" y="820800"/>
            <a:ext cx="221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BATTLEGROUP-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Infantry Brigade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133640" y="121932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igade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66200" y="153360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350360" y="1863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60PB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217880" y="25606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40120" y="27432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Tank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193760" y="3765600"/>
            <a:ext cx="157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89040" y="48988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835200" y="22860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0480" y="368928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139040" y="220968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G-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Mechanized Infantry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833400" y="35701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953640" y="359244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917640" y="369576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915840" y="3524400"/>
            <a:ext cx="74880" cy="27000"/>
            <a:chOff x="915840" y="3524400"/>
            <a:chExt cx="74880" cy="27000"/>
          </a:xfrm>
        </p:grpSpPr>
        <p:sp>
          <p:nvSpPr>
            <p:cNvPr id="1005" name=""/>
            <p:cNvSpPr/>
            <p:nvPr/>
          </p:nvSpPr>
          <p:spPr>
            <a:xfrm>
              <a:off x="915840" y="35244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63720" y="35244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681120" y="3689280"/>
            <a:ext cx="0" cy="213372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168920" y="3460680"/>
            <a:ext cx="19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3 Off-board Direct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Company (12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35200" y="32004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140480" y="312408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Armored Reconnaissance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136520" y="19400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157400" y="21034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1211400" y="1884240"/>
            <a:ext cx="74160" cy="27000"/>
            <a:chOff x="1211400" y="1884240"/>
            <a:chExt cx="74160" cy="27000"/>
          </a:xfrm>
        </p:grpSpPr>
        <p:sp>
          <p:nvSpPr>
            <p:cNvPr id="1014" name=""/>
            <p:cNvSpPr/>
            <p:nvPr/>
          </p:nvSpPr>
          <p:spPr>
            <a:xfrm>
              <a:off x="1211400" y="18842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258920" y="18842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1324080" y="21067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3657600" y="5791320"/>
            <a:ext cx="2032920" cy="1068120"/>
            <a:chOff x="3657600" y="5791320"/>
            <a:chExt cx="2032920" cy="1068120"/>
          </a:xfrm>
        </p:grpSpPr>
        <p:sp>
          <p:nvSpPr>
            <p:cNvPr id="1018" name=""/>
            <p:cNvSpPr/>
            <p:nvPr/>
          </p:nvSpPr>
          <p:spPr>
            <a:xfrm>
              <a:off x="3733920" y="6153120"/>
              <a:ext cx="0" cy="60948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887640" y="637704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922560" y="641664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987720" y="6321600"/>
              <a:ext cx="288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966120" y="5791320"/>
              <a:ext cx="172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cc00"/>
                  </a:solidFill>
                  <a:latin typeface="Arial"/>
                </a:rPr>
                <a:t>MANUEVER ELEMENT-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Tank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657600" y="592452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701880" y="5981760"/>
              <a:ext cx="21456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733920" y="645804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733920" y="67626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886200" y="668196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921120" y="672156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3957480" y="6626160"/>
              <a:ext cx="74880" cy="27000"/>
              <a:chOff x="3957480" y="6626160"/>
              <a:chExt cx="74880" cy="27000"/>
            </a:xfrm>
          </p:grpSpPr>
          <p:sp>
            <p:nvSpPr>
              <p:cNvPr id="1030" name=""/>
              <p:cNvSpPr/>
              <p:nvPr/>
            </p:nvSpPr>
            <p:spPr>
              <a:xfrm>
                <a:off x="3957480" y="66261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005360" y="66261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2" name=""/>
            <p:cNvSpPr/>
            <p:nvPr/>
          </p:nvSpPr>
          <p:spPr>
            <a:xfrm>
              <a:off x="4192560" y="6273720"/>
              <a:ext cx="139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55A Main Battle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192560" y="6643800"/>
              <a:ext cx="139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55A Main Battle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4" name=""/>
            <p:cNvGrpSpPr/>
            <p:nvPr/>
          </p:nvGrpSpPr>
          <p:grpSpPr>
            <a:xfrm>
              <a:off x="3780000" y="5848200"/>
              <a:ext cx="56880" cy="63360"/>
              <a:chOff x="3780000" y="5848200"/>
              <a:chExt cx="56880" cy="63360"/>
            </a:xfrm>
          </p:grpSpPr>
          <p:sp>
            <p:nvSpPr>
              <p:cNvPr id="1035" name=""/>
              <p:cNvSpPr/>
              <p:nvPr/>
            </p:nvSpPr>
            <p:spPr>
              <a:xfrm>
                <a:off x="3780000" y="5848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836880" y="5848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7" name=""/>
          <p:cNvSpPr/>
          <p:nvPr/>
        </p:nvSpPr>
        <p:spPr>
          <a:xfrm>
            <a:off x="1143000" y="16905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155600" y="1690560"/>
            <a:ext cx="2415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168560" y="185904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985320" y="4853160"/>
            <a:ext cx="1800" cy="99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949320" y="496404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173960" y="4678200"/>
            <a:ext cx="189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4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Battery (16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85800" y="53467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85840" y="5133960"/>
            <a:ext cx="216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6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58039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185840" y="5592600"/>
            <a:ext cx="216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7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7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33084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952560" y="2209680"/>
            <a:ext cx="57240" cy="63360"/>
            <a:chOff x="952560" y="2209680"/>
            <a:chExt cx="57240" cy="63360"/>
          </a:xfrm>
        </p:grpSpPr>
        <p:sp>
          <p:nvSpPr>
            <p:cNvPr id="1049" name=""/>
            <p:cNvSpPr/>
            <p:nvPr/>
          </p:nvSpPr>
          <p:spPr>
            <a:xfrm>
              <a:off x="952560" y="22096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009800" y="22096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685800" y="3917880"/>
            <a:ext cx="2205360" cy="337320"/>
            <a:chOff x="685800" y="3917880"/>
            <a:chExt cx="2205360" cy="337320"/>
          </a:xfrm>
        </p:grpSpPr>
        <p:sp>
          <p:nvSpPr>
            <p:cNvPr id="1052" name=""/>
            <p:cNvSpPr/>
            <p:nvPr/>
          </p:nvSpPr>
          <p:spPr>
            <a:xfrm>
              <a:off x="838080" y="399420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57160" y="4032360"/>
              <a:ext cx="257400" cy="13176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171080" y="3917880"/>
              <a:ext cx="172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E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Armored Engineer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95320" y="4070520"/>
              <a:ext cx="19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903240" y="407052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988920" y="407052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074600" y="407052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990720" y="39178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85800" y="410868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647280" y="885960"/>
            <a:ext cx="76320" cy="75960"/>
            <a:chOff x="647280" y="885960"/>
            <a:chExt cx="76320" cy="75960"/>
          </a:xfrm>
        </p:grpSpPr>
        <p:sp>
          <p:nvSpPr>
            <p:cNvPr id="1062" name=""/>
            <p:cNvSpPr/>
            <p:nvPr/>
          </p:nvSpPr>
          <p:spPr>
            <a:xfrm flipH="1">
              <a:off x="647280" y="8859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47640" y="8859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3872880" y="822240"/>
            <a:ext cx="229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BATTLEGROUP-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Infantry Battalion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838080" y="52117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990720" y="47102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90720" y="51418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990720" y="56116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942840" y="52880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52560" y="5764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581280" y="9907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3708360" y="914400"/>
            <a:ext cx="57240" cy="63360"/>
            <a:chOff x="3708360" y="914400"/>
            <a:chExt cx="57240" cy="63360"/>
          </a:xfrm>
        </p:grpSpPr>
        <p:sp>
          <p:nvSpPr>
            <p:cNvPr id="1073" name=""/>
            <p:cNvSpPr/>
            <p:nvPr/>
          </p:nvSpPr>
          <p:spPr>
            <a:xfrm>
              <a:off x="3708360" y="914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765600" y="914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>
            <a:off x="3736800" y="1238400"/>
            <a:ext cx="0" cy="241920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746520" y="28386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002120" y="14050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98800" y="312912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889440" y="1324080"/>
            <a:ext cx="30456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921120" y="1355760"/>
            <a:ext cx="241200" cy="16200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041720" y="17240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041720" y="1562040"/>
            <a:ext cx="1800" cy="1684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307040" y="15908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041720" y="12477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736800" y="140004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192920" y="117144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alion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25120" y="148608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4308480" y="1855800"/>
            <a:ext cx="74160" cy="27000"/>
            <a:chOff x="4308480" y="1855800"/>
            <a:chExt cx="74160" cy="27000"/>
          </a:xfrm>
        </p:grpSpPr>
        <p:sp>
          <p:nvSpPr>
            <p:cNvPr id="1089" name=""/>
            <p:cNvSpPr/>
            <p:nvPr/>
          </p:nvSpPr>
          <p:spPr>
            <a:xfrm>
              <a:off x="4308480" y="18558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356000" y="18558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4202280" y="1643040"/>
            <a:ext cx="23940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214880" y="1643040"/>
            <a:ext cx="241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227480" y="181116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302720" y="2152800"/>
            <a:ext cx="134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736800" y="250200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886200" y="23814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89680" y="2305080"/>
            <a:ext cx="179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Mechanized Infantry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041720" y="23050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314600" y="2928960"/>
            <a:ext cx="95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00680" y="28735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194000" y="2610000"/>
            <a:ext cx="197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S-02 Organic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rmor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ortar Company (82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041720" y="26478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736800" y="320976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207680" y="3081240"/>
            <a:ext cx="15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lyutka (Sagger) ATG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736800" y="3657600"/>
            <a:ext cx="0" cy="182880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321080" y="4052880"/>
            <a:ext cx="157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887640" y="536400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735360" y="54878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270320" y="5257800"/>
            <a:ext cx="215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5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Howitzer Battery (122mm M 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040280" y="52880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002120" y="5440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269240" y="5029200"/>
            <a:ext cx="149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ZSU-57/2 Antiaircaft Gu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46520" y="51800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3933720" y="506736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971880" y="5105520"/>
            <a:ext cx="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4006440" y="315900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979800" y="327024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981600" y="31561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71880" y="31464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057560" y="31464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971880" y="31878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057560" y="31845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71680" y="102888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33520" y="971640"/>
            <a:ext cx="3045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533520" y="97272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173240" y="198108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876240" y="235116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835200" y="228564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833400" y="228600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961920" y="2778120"/>
            <a:ext cx="57240" cy="63360"/>
            <a:chOff x="961920" y="2778120"/>
            <a:chExt cx="57240" cy="63360"/>
          </a:xfrm>
        </p:grpSpPr>
        <p:sp>
          <p:nvSpPr>
            <p:cNvPr id="1131" name=""/>
            <p:cNvSpPr/>
            <p:nvPr/>
          </p:nvSpPr>
          <p:spPr>
            <a:xfrm>
              <a:off x="961920" y="27781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019160" y="27781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1000080" y="312732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876240" y="326556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838080" y="319896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29040" y="2438280"/>
            <a:ext cx="21420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624120" y="1047600"/>
            <a:ext cx="21456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584520" y="98892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3584520" y="99072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22240" y="17971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60PB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218120" y="190512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238640" y="20685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405320" y="20653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254480" y="194616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3886200" y="238140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884760" y="2390760"/>
            <a:ext cx="3045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038480" y="28004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3984480" y="3782880"/>
            <a:ext cx="74880" cy="27000"/>
            <a:chOff x="3984480" y="3782880"/>
            <a:chExt cx="74880" cy="27000"/>
          </a:xfrm>
        </p:grpSpPr>
        <p:sp>
          <p:nvSpPr>
            <p:cNvPr id="1149" name=""/>
            <p:cNvSpPr/>
            <p:nvPr/>
          </p:nvSpPr>
          <p:spPr>
            <a:xfrm>
              <a:off x="3984480" y="37828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032360" y="37828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3922560" y="330048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203000" y="37339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60PB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903840" y="3841920"/>
            <a:ext cx="23940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924360" y="40114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091040" y="40114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940200" y="388296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19400" y="506736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05280" y="49165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086360" y="51912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943440" y="5210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3971880" y="3067200"/>
            <a:ext cx="74160" cy="27000"/>
            <a:chOff x="3971880" y="3067200"/>
            <a:chExt cx="74160" cy="27000"/>
          </a:xfrm>
        </p:grpSpPr>
        <p:sp>
          <p:nvSpPr>
            <p:cNvPr id="1162" name=""/>
            <p:cNvSpPr/>
            <p:nvPr/>
          </p:nvSpPr>
          <p:spPr>
            <a:xfrm>
              <a:off x="3971880" y="30672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19400" y="30672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684360" y="6442200"/>
            <a:ext cx="1440" cy="7617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3520" y="620388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85800" y="61279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938160" y="65372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38080" y="65833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84360" y="66517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838440" y="6051600"/>
            <a:ext cx="201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MANUEVER ELEMENT-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172520" y="6432480"/>
            <a:ext cx="88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851040" y="6583320"/>
            <a:ext cx="241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155960" y="711216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M-7 A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841320" y="6796080"/>
            <a:ext cx="241200" cy="212760"/>
            <a:chOff x="841320" y="6796080"/>
            <a:chExt cx="241200" cy="212760"/>
          </a:xfrm>
        </p:grpSpPr>
        <p:sp>
          <p:nvSpPr>
            <p:cNvPr id="1175" name=""/>
            <p:cNvSpPr/>
            <p:nvPr/>
          </p:nvSpPr>
          <p:spPr>
            <a:xfrm>
              <a:off x="842760" y="685188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6" name=""/>
            <p:cNvGrpSpPr/>
            <p:nvPr/>
          </p:nvGrpSpPr>
          <p:grpSpPr>
            <a:xfrm>
              <a:off x="923760" y="6796080"/>
              <a:ext cx="74880" cy="27000"/>
              <a:chOff x="923760" y="6796080"/>
              <a:chExt cx="74880" cy="27000"/>
            </a:xfrm>
          </p:grpSpPr>
          <p:sp>
            <p:nvSpPr>
              <p:cNvPr id="1177" name=""/>
              <p:cNvSpPr/>
              <p:nvPr/>
            </p:nvSpPr>
            <p:spPr>
              <a:xfrm>
                <a:off x="923760" y="67960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971640" y="67960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9" name=""/>
            <p:cNvSpPr/>
            <p:nvPr/>
          </p:nvSpPr>
          <p:spPr>
            <a:xfrm flipV="1">
              <a:off x="842760" y="685188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41320" y="6851880"/>
              <a:ext cx="24120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914400" y="7074000"/>
            <a:ext cx="74160" cy="27000"/>
            <a:chOff x="914400" y="7074000"/>
            <a:chExt cx="74160" cy="27000"/>
          </a:xfrm>
        </p:grpSpPr>
        <p:sp>
          <p:nvSpPr>
            <p:cNvPr id="1182" name=""/>
            <p:cNvSpPr/>
            <p:nvPr/>
          </p:nvSpPr>
          <p:spPr>
            <a:xfrm>
              <a:off x="914400" y="70740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961920" y="70740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1162440" y="6829560"/>
            <a:ext cx="81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9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antry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520" y="758988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Up to six with  RPG-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85800" y="69372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85800" y="72057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76360" y="625644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33520" y="6203880"/>
            <a:ext cx="3045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33520" y="620352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936720" y="7338960"/>
            <a:ext cx="74160" cy="27000"/>
            <a:chOff x="936720" y="7338960"/>
            <a:chExt cx="74160" cy="27000"/>
          </a:xfrm>
        </p:grpSpPr>
        <p:sp>
          <p:nvSpPr>
            <p:cNvPr id="1192" name=""/>
            <p:cNvSpPr/>
            <p:nvPr/>
          </p:nvSpPr>
          <p:spPr>
            <a:xfrm>
              <a:off x="936720" y="73389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984240" y="73389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4" name=""/>
          <p:cNvSpPr/>
          <p:nvPr/>
        </p:nvSpPr>
        <p:spPr>
          <a:xfrm>
            <a:off x="874800" y="731376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154880" y="72709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60PB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855720" y="738828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876240" y="75517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023840" y="754848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892080" y="742968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05040" y="75722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657600" y="6972480"/>
            <a:ext cx="2095560" cy="1792080"/>
            <a:chOff x="3657600" y="6972480"/>
            <a:chExt cx="2095560" cy="1792080"/>
          </a:xfrm>
        </p:grpSpPr>
        <p:sp>
          <p:nvSpPr>
            <p:cNvPr id="1202" name=""/>
            <p:cNvSpPr/>
            <p:nvPr/>
          </p:nvSpPr>
          <p:spPr>
            <a:xfrm>
              <a:off x="3732120" y="8096400"/>
              <a:ext cx="15192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657600" y="707400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961440" y="6972480"/>
              <a:ext cx="1791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cc00"/>
                  </a:solidFill>
                  <a:latin typeface="Arial"/>
                </a:rPr>
                <a:t>MANUEVER ELEMENT-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connaissanc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000320" y="746460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885840" y="7520040"/>
              <a:ext cx="23940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732120" y="7588440"/>
              <a:ext cx="15192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115520" y="7359840"/>
              <a:ext cx="88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98800" y="7520040"/>
              <a:ext cx="2408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119120" y="8282160"/>
              <a:ext cx="1400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Recon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885840" y="8043840"/>
              <a:ext cx="23940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" name=""/>
            <p:cNvGrpSpPr/>
            <p:nvPr/>
          </p:nvGrpSpPr>
          <p:grpSpPr>
            <a:xfrm>
              <a:off x="3966840" y="7988400"/>
              <a:ext cx="73800" cy="27000"/>
              <a:chOff x="3966840" y="7988400"/>
              <a:chExt cx="73800" cy="27000"/>
            </a:xfrm>
          </p:grpSpPr>
          <p:sp>
            <p:nvSpPr>
              <p:cNvPr id="1213" name=""/>
              <p:cNvSpPr/>
              <p:nvPr/>
            </p:nvSpPr>
            <p:spPr>
              <a:xfrm>
                <a:off x="3966840" y="79884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014000" y="79884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5" name=""/>
            <p:cNvSpPr/>
            <p:nvPr/>
          </p:nvSpPr>
          <p:spPr>
            <a:xfrm flipV="1">
              <a:off x="3885840" y="8043480"/>
              <a:ext cx="23616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84400" y="8043840"/>
              <a:ext cx="24084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890880" y="8286840"/>
              <a:ext cx="23904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8" name=""/>
            <p:cNvGrpSpPr/>
            <p:nvPr/>
          </p:nvGrpSpPr>
          <p:grpSpPr>
            <a:xfrm>
              <a:off x="3971520" y="8240760"/>
              <a:ext cx="74160" cy="27000"/>
              <a:chOff x="3971520" y="8240760"/>
              <a:chExt cx="74160" cy="27000"/>
            </a:xfrm>
          </p:grpSpPr>
          <p:sp>
            <p:nvSpPr>
              <p:cNvPr id="1219" name=""/>
              <p:cNvSpPr/>
              <p:nvPr/>
            </p:nvSpPr>
            <p:spPr>
              <a:xfrm>
                <a:off x="3971520" y="82407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019040" y="82407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1" name=""/>
            <p:cNvSpPr/>
            <p:nvPr/>
          </p:nvSpPr>
          <p:spPr>
            <a:xfrm>
              <a:off x="3908160" y="845028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079520" y="84488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114440" y="8012160"/>
              <a:ext cx="121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antry with RPG-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917880" y="8212320"/>
              <a:ext cx="0" cy="763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732120" y="7315200"/>
              <a:ext cx="0" cy="13147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884400" y="7763040"/>
              <a:ext cx="23940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3965400" y="7716960"/>
              <a:ext cx="73800" cy="27000"/>
              <a:chOff x="3965400" y="7716960"/>
              <a:chExt cx="73800" cy="27000"/>
            </a:xfrm>
          </p:grpSpPr>
          <p:sp>
            <p:nvSpPr>
              <p:cNvPr id="1228" name=""/>
              <p:cNvSpPr/>
              <p:nvPr/>
            </p:nvSpPr>
            <p:spPr>
              <a:xfrm>
                <a:off x="3965400" y="77169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012560" y="77169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0" name=""/>
            <p:cNvSpPr/>
            <p:nvPr/>
          </p:nvSpPr>
          <p:spPr>
            <a:xfrm>
              <a:off x="3901680" y="79264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073400" y="792504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911400" y="7688520"/>
              <a:ext cx="0" cy="7596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114800" y="816300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14800" y="762012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809880" y="700092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705120" y="7139160"/>
              <a:ext cx="21384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3662280" y="7076880"/>
              <a:ext cx="29808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925800" y="8325000"/>
              <a:ext cx="16920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3885840" y="8286840"/>
              <a:ext cx="23616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115880" y="7758360"/>
              <a:ext cx="1400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Recon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924000" y="7801200"/>
              <a:ext cx="16956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3885840" y="7763040"/>
              <a:ext cx="23616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890880" y="8572680"/>
              <a:ext cx="23904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4" name=""/>
            <p:cNvGrpSpPr/>
            <p:nvPr/>
          </p:nvGrpSpPr>
          <p:grpSpPr>
            <a:xfrm>
              <a:off x="3971520" y="8526600"/>
              <a:ext cx="74160" cy="27000"/>
              <a:chOff x="3971520" y="8526600"/>
              <a:chExt cx="74160" cy="27000"/>
            </a:xfrm>
          </p:grpSpPr>
          <p:sp>
            <p:nvSpPr>
              <p:cNvPr id="1245" name=""/>
              <p:cNvSpPr/>
              <p:nvPr/>
            </p:nvSpPr>
            <p:spPr>
              <a:xfrm>
                <a:off x="3971520" y="85266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019040" y="85266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7" name=""/>
            <p:cNvSpPr/>
            <p:nvPr/>
          </p:nvSpPr>
          <p:spPr>
            <a:xfrm>
              <a:off x="3925800" y="8610840"/>
              <a:ext cx="16920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3885840" y="8572680"/>
              <a:ext cx="23616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116960" y="8548920"/>
              <a:ext cx="1174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T-76B Light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733560" y="8629920"/>
              <a:ext cx="15192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609480" y="7831080"/>
            <a:ext cx="2236680" cy="931680"/>
            <a:chOff x="609480" y="7831080"/>
            <a:chExt cx="2236680" cy="931680"/>
          </a:xfrm>
        </p:grpSpPr>
        <p:sp>
          <p:nvSpPr>
            <p:cNvPr id="1252" name=""/>
            <p:cNvSpPr/>
            <p:nvPr/>
          </p:nvSpPr>
          <p:spPr>
            <a:xfrm>
              <a:off x="609480" y="796464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54120" y="8021880"/>
              <a:ext cx="21420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85800" y="8202600"/>
              <a:ext cx="0" cy="4669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39880" y="831528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74800" y="835524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939960" y="82598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914400" y="7831080"/>
              <a:ext cx="193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cc00"/>
                  </a:solidFill>
                  <a:latin typeface="Arial"/>
                </a:rPr>
                <a:t>MANUEVER ELEMENT-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Antitank Missil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85800" y="83646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85800" y="866952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144440" y="821232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Recon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143000" y="8531280"/>
              <a:ext cx="1401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ATGM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70040" y="78883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762120" y="8002800"/>
              <a:ext cx="144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27200" y="816768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85800" y="7993080"/>
              <a:ext cx="152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95160" y="799308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28720" y="799308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838080" y="831708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0" name=""/>
            <p:cNvGrpSpPr/>
            <p:nvPr/>
          </p:nvGrpSpPr>
          <p:grpSpPr>
            <a:xfrm>
              <a:off x="838080" y="8516880"/>
              <a:ext cx="239760" cy="245880"/>
              <a:chOff x="838080" y="8516880"/>
              <a:chExt cx="239760" cy="245880"/>
            </a:xfrm>
          </p:grpSpPr>
          <p:sp>
            <p:nvSpPr>
              <p:cNvPr id="1271" name=""/>
              <p:cNvSpPr/>
              <p:nvPr/>
            </p:nvSpPr>
            <p:spPr>
              <a:xfrm>
                <a:off x="838080" y="8569080"/>
                <a:ext cx="239760" cy="15732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866520" y="8611920"/>
                <a:ext cx="169920" cy="74520"/>
              </a:xfrm>
              <a:prstGeom prst="ellipse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996840" y="8586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914400" y="8516880"/>
                <a:ext cx="74160" cy="27000"/>
                <a:chOff x="914400" y="8516880"/>
                <a:chExt cx="74160" cy="2700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914400" y="85168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961920" y="85168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7" name=""/>
              <p:cNvSpPr/>
              <p:nvPr/>
            </p:nvSpPr>
            <p:spPr>
              <a:xfrm flipH="1">
                <a:off x="955080" y="8599320"/>
                <a:ext cx="1800" cy="10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919080" y="8710560"/>
                <a:ext cx="68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920520" y="8596080"/>
                <a:ext cx="68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911160" y="8586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038240" y="87357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847440" y="87357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3" name=""/>
          <p:cNvSpPr/>
          <p:nvPr/>
        </p:nvSpPr>
        <p:spPr>
          <a:xfrm>
            <a:off x="685800" y="4491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835200" y="437508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879480" y="443232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990720" y="42991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987480" y="4413240"/>
            <a:ext cx="1440" cy="152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952560" y="457848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911160" y="4403880"/>
            <a:ext cx="152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920880" y="4403880"/>
            <a:ext cx="0" cy="152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054080" y="4403880"/>
            <a:ext cx="0" cy="152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168920" y="4314960"/>
            <a:ext cx="16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Antitank Missile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733920" y="34434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33920" y="3672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190760" y="3324240"/>
            <a:ext cx="161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-10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2mm Recoiless Rif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191120" y="3567240"/>
            <a:ext cx="166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-11  107mm Recoiless Rif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895560" y="336240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895560" y="359100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3970440" y="3782880"/>
            <a:ext cx="74160" cy="27000"/>
            <a:chOff x="3970440" y="3782880"/>
            <a:chExt cx="74160" cy="27000"/>
          </a:xfrm>
        </p:grpSpPr>
        <p:sp>
          <p:nvSpPr>
            <p:cNvPr id="1300" name=""/>
            <p:cNvSpPr/>
            <p:nvPr/>
          </p:nvSpPr>
          <p:spPr>
            <a:xfrm>
              <a:off x="3970440" y="37828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017960" y="37828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4092480" y="400860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927600" y="375768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978360" y="3675240"/>
            <a:ext cx="57240" cy="55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978360" y="3446640"/>
            <a:ext cx="57240" cy="55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006800" y="36180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006800" y="33894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889440" y="42433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889440" y="44910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268520" y="461628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ZIL-157 Medium Tru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886200" y="474804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909960" y="51944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3" name=""/>
          <p:cNvGrpSpPr/>
          <p:nvPr/>
        </p:nvGrpSpPr>
        <p:grpSpPr>
          <a:xfrm>
            <a:off x="3973680" y="4971960"/>
            <a:ext cx="74160" cy="27000"/>
            <a:chOff x="3973680" y="4971960"/>
            <a:chExt cx="74160" cy="27000"/>
          </a:xfrm>
        </p:grpSpPr>
        <p:sp>
          <p:nvSpPr>
            <p:cNvPr id="1314" name=""/>
            <p:cNvSpPr/>
            <p:nvPr/>
          </p:nvSpPr>
          <p:spPr>
            <a:xfrm>
              <a:off x="3973680" y="49719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021200" y="49719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6" name=""/>
          <p:cNvSpPr/>
          <p:nvPr/>
        </p:nvSpPr>
        <p:spPr>
          <a:xfrm>
            <a:off x="4076640" y="4915080"/>
            <a:ext cx="28800" cy="26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30480" y="466740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272480" y="420516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-44 85mm Antitank Gu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271400" y="4433760"/>
            <a:ext cx="165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M-3 100mm Antitank Gu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36800" y="431964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736800" y="457200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3876480" y="42465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90960" y="42465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3857400" y="44895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000680" y="44895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990960" y="45529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990960" y="430992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933720" y="441000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838080" y="7143840"/>
            <a:ext cx="239760" cy="156960"/>
            <a:chOff x="838080" y="7143840"/>
            <a:chExt cx="239760" cy="156960"/>
          </a:xfrm>
        </p:grpSpPr>
        <p:sp>
          <p:nvSpPr>
            <p:cNvPr id="1330" name=""/>
            <p:cNvSpPr/>
            <p:nvPr/>
          </p:nvSpPr>
          <p:spPr>
            <a:xfrm>
              <a:off x="838080" y="714384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952200" y="719604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920520" y="718632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876240" y="7272000"/>
              <a:ext cx="153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952200" y="7148160"/>
              <a:ext cx="7632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H="1">
              <a:off x="875880" y="7148160"/>
              <a:ext cx="7596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533520" y="279000"/>
            <a:ext cx="5829120" cy="4827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yptian Tables of Organiz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chanized Division –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81120" y="1278000"/>
            <a:ext cx="0" cy="260820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30280" y="10494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74560" y="1106640"/>
            <a:ext cx="21456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30160" y="1447920"/>
            <a:ext cx="3049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861840" y="1479600"/>
            <a:ext cx="241560" cy="16200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982800" y="18288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982800" y="1685880"/>
            <a:ext cx="1440" cy="1429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247760" y="17049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136520" y="17604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171440" y="180036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982800" y="13716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833400" y="254484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879480" y="260208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81120" y="34574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81120" y="26589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77880" y="15238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835200" y="898560"/>
            <a:ext cx="152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cc00"/>
                </a:solidFill>
                <a:latin typeface="Arial"/>
              </a:rPr>
              <a:t>BATTLEGROUP-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rmored Brigade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33640" y="133992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alion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365120" y="1609560"/>
            <a:ext cx="139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55A Main Battle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327320" y="230040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182960" y="248292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IS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Tank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263240" y="3638520"/>
            <a:ext cx="94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835200" y="205416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879480" y="211140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835200" y="205380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33400" y="205416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990720" y="28764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1120" y="3078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202400" y="199404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G-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Mechanized Infantry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1120" y="3895560"/>
            <a:ext cx="0" cy="21243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835200" y="295416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879480" y="3011400"/>
            <a:ext cx="21420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191240" y="287820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IS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Armored Reconnaissance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5800" y="2178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961920" y="1981080"/>
            <a:ext cx="56880" cy="63360"/>
            <a:chOff x="961920" y="1981080"/>
            <a:chExt cx="56880" cy="63360"/>
          </a:xfrm>
        </p:grpSpPr>
        <p:sp>
          <p:nvSpPr>
            <p:cNvPr id="1372" name=""/>
            <p:cNvSpPr/>
            <p:nvPr/>
          </p:nvSpPr>
          <p:spPr>
            <a:xfrm>
              <a:off x="961920" y="19810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018800" y="19810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961920" y="2470320"/>
            <a:ext cx="56880" cy="63360"/>
            <a:chOff x="961920" y="2470320"/>
            <a:chExt cx="56880" cy="63360"/>
          </a:xfrm>
        </p:grpSpPr>
        <p:sp>
          <p:nvSpPr>
            <p:cNvPr id="1375" name=""/>
            <p:cNvSpPr/>
            <p:nvPr/>
          </p:nvSpPr>
          <p:spPr>
            <a:xfrm>
              <a:off x="961920" y="24703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018800" y="24703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 flipV="1">
            <a:off x="838080" y="295380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3657600" y="6629400"/>
            <a:ext cx="2658960" cy="1534680"/>
            <a:chOff x="3657600" y="6629400"/>
            <a:chExt cx="2658960" cy="1534680"/>
          </a:xfrm>
        </p:grpSpPr>
        <p:sp>
          <p:nvSpPr>
            <p:cNvPr id="1379" name=""/>
            <p:cNvSpPr/>
            <p:nvPr/>
          </p:nvSpPr>
          <p:spPr>
            <a:xfrm>
              <a:off x="3886200" y="798012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921120" y="802008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1" name=""/>
            <p:cNvGrpSpPr/>
            <p:nvPr/>
          </p:nvGrpSpPr>
          <p:grpSpPr>
            <a:xfrm>
              <a:off x="3967200" y="7924680"/>
              <a:ext cx="74880" cy="27000"/>
              <a:chOff x="3967200" y="7924680"/>
              <a:chExt cx="74880" cy="27000"/>
            </a:xfrm>
          </p:grpSpPr>
          <p:sp>
            <p:nvSpPr>
              <p:cNvPr id="1382" name=""/>
              <p:cNvSpPr/>
              <p:nvPr/>
            </p:nvSpPr>
            <p:spPr>
              <a:xfrm>
                <a:off x="3967200" y="792468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015080" y="79246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4" name=""/>
            <p:cNvSpPr/>
            <p:nvPr/>
          </p:nvSpPr>
          <p:spPr>
            <a:xfrm>
              <a:off x="3732480" y="807696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115520" y="7948440"/>
              <a:ext cx="1737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T-76B Light Amphibious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657600" y="673092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702240" y="6788160"/>
              <a:ext cx="21420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962520" y="6629400"/>
              <a:ext cx="235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cccc00"/>
                  </a:solidFill>
                  <a:latin typeface="Arial"/>
                </a:rPr>
                <a:t>MANUEVER ELEMENT-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Armored Reconnaissanc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9" name=""/>
            <p:cNvGrpSpPr/>
            <p:nvPr/>
          </p:nvGrpSpPr>
          <p:grpSpPr>
            <a:xfrm>
              <a:off x="3967200" y="7111800"/>
              <a:ext cx="74880" cy="27000"/>
              <a:chOff x="3967200" y="7111800"/>
              <a:chExt cx="74880" cy="27000"/>
            </a:xfrm>
          </p:grpSpPr>
          <p:sp>
            <p:nvSpPr>
              <p:cNvPr id="1390" name=""/>
              <p:cNvSpPr/>
              <p:nvPr/>
            </p:nvSpPr>
            <p:spPr>
              <a:xfrm>
                <a:off x="3967200" y="711180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015080" y="71118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2" name=""/>
            <p:cNvSpPr/>
            <p:nvPr/>
          </p:nvSpPr>
          <p:spPr>
            <a:xfrm>
              <a:off x="3886200" y="717696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732480" y="724536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115880" y="7016760"/>
              <a:ext cx="88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899160" y="7176960"/>
              <a:ext cx="241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119840" y="7634160"/>
              <a:ext cx="1819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BRDM-2 Armored Recon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7" name=""/>
            <p:cNvGrpSpPr/>
            <p:nvPr/>
          </p:nvGrpSpPr>
          <p:grpSpPr>
            <a:xfrm>
              <a:off x="3884760" y="7362720"/>
              <a:ext cx="241200" cy="212760"/>
              <a:chOff x="3884760" y="7362720"/>
              <a:chExt cx="241200" cy="212760"/>
            </a:xfrm>
          </p:grpSpPr>
          <p:sp>
            <p:nvSpPr>
              <p:cNvPr id="1398" name=""/>
              <p:cNvSpPr/>
              <p:nvPr/>
            </p:nvSpPr>
            <p:spPr>
              <a:xfrm>
                <a:off x="3886200" y="7418520"/>
                <a:ext cx="239760" cy="15696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9" name=""/>
              <p:cNvGrpSpPr/>
              <p:nvPr/>
            </p:nvGrpSpPr>
            <p:grpSpPr>
              <a:xfrm>
                <a:off x="3967200" y="7362720"/>
                <a:ext cx="74880" cy="27000"/>
                <a:chOff x="3967200" y="7362720"/>
                <a:chExt cx="74880" cy="2700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3967200" y="736272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015080" y="73627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2" name=""/>
              <p:cNvSpPr/>
              <p:nvPr/>
            </p:nvSpPr>
            <p:spPr>
              <a:xfrm flipV="1">
                <a:off x="3886200" y="7418520"/>
                <a:ext cx="23652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3884760" y="7418520"/>
                <a:ext cx="24120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4" name=""/>
            <p:cNvSpPr/>
            <p:nvPr/>
          </p:nvSpPr>
          <p:spPr>
            <a:xfrm>
              <a:off x="3891240" y="766116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926160" y="7700760"/>
              <a:ext cx="16956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3891240" y="766116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7" name=""/>
            <p:cNvGrpSpPr/>
            <p:nvPr/>
          </p:nvGrpSpPr>
          <p:grpSpPr>
            <a:xfrm>
              <a:off x="3962520" y="7605720"/>
              <a:ext cx="74160" cy="27000"/>
              <a:chOff x="3962520" y="7605720"/>
              <a:chExt cx="74160" cy="27000"/>
            </a:xfrm>
          </p:grpSpPr>
          <p:sp>
            <p:nvSpPr>
              <p:cNvPr id="1408" name=""/>
              <p:cNvSpPr/>
              <p:nvPr/>
            </p:nvSpPr>
            <p:spPr>
              <a:xfrm>
                <a:off x="3962520" y="76057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010040" y="76057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0" name=""/>
            <p:cNvSpPr/>
            <p:nvPr/>
          </p:nvSpPr>
          <p:spPr>
            <a:xfrm>
              <a:off x="3908520" y="78246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079880" y="78231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114800" y="7386480"/>
              <a:ext cx="121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antry with RPG-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918240" y="7586640"/>
              <a:ext cx="0" cy="7596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918240" y="7348320"/>
              <a:ext cx="0" cy="763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732480" y="6972120"/>
              <a:ext cx="0" cy="110484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08440" y="66578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3662640" y="6735240"/>
              <a:ext cx="29844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8" name=""/>
          <p:cNvSpPr/>
          <p:nvPr/>
        </p:nvSpPr>
        <p:spPr>
          <a:xfrm>
            <a:off x="838080" y="33526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857160" y="3390840"/>
            <a:ext cx="257400" cy="13176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171080" y="32767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IS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Armored Engineer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895320" y="342900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903240" y="34290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988920" y="34290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074600" y="34290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990720" y="32767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194120" y="3962520"/>
            <a:ext cx="155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685800" y="4114800"/>
            <a:ext cx="2205360" cy="337320"/>
            <a:chOff x="685800" y="4114800"/>
            <a:chExt cx="2205360" cy="337320"/>
          </a:xfrm>
        </p:grpSpPr>
        <p:sp>
          <p:nvSpPr>
            <p:cNvPr id="1428" name=""/>
            <p:cNvSpPr/>
            <p:nvPr/>
          </p:nvSpPr>
          <p:spPr>
            <a:xfrm>
              <a:off x="838080" y="419112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857160" y="4229280"/>
              <a:ext cx="257400" cy="13176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171080" y="4114800"/>
              <a:ext cx="172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E-IS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Armored Engineer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895320" y="4267440"/>
              <a:ext cx="19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903240" y="426744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988920" y="426744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074600" y="426744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990720" y="411480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43056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7" name=""/>
          <p:cNvSpPr/>
          <p:nvPr/>
        </p:nvSpPr>
        <p:spPr>
          <a:xfrm>
            <a:off x="685800" y="46879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835200" y="45720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879480" y="462924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990720" y="44956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987480" y="4610160"/>
            <a:ext cx="1440" cy="152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952560" y="477504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911160" y="4600440"/>
            <a:ext cx="152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920880" y="4600440"/>
            <a:ext cx="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054080" y="4600440"/>
            <a:ext cx="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168920" y="4511520"/>
            <a:ext cx="16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IS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Antitank Missile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38080" y="37908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876240" y="382572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171800" y="3757680"/>
            <a:ext cx="149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ZSU-23/4 Antiaircaft Gu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876240" y="3824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914400" y="3867120"/>
            <a:ext cx="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971640" y="38242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66880" y="39495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038240" y="39560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895320" y="39704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85800" y="38768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38080" y="58849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847800" y="497988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9040" y="50958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985320" y="504972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949320" y="516096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173600" y="4875120"/>
            <a:ext cx="179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Battery (16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55436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185840" y="5330880"/>
            <a:ext cx="216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85800" y="60008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185840" y="5789520"/>
            <a:ext cx="216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7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838080" y="540864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990720" y="49068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990720" y="53388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90720" y="58086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942840" y="5484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952560" y="596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609480" y="6248520"/>
            <a:ext cx="2032920" cy="966600"/>
            <a:chOff x="609480" y="6248520"/>
            <a:chExt cx="2032920" cy="966600"/>
          </a:xfrm>
        </p:grpSpPr>
        <p:sp>
          <p:nvSpPr>
            <p:cNvPr id="1474" name=""/>
            <p:cNvSpPr/>
            <p:nvPr/>
          </p:nvSpPr>
          <p:spPr>
            <a:xfrm>
              <a:off x="685800" y="6620040"/>
              <a:ext cx="0" cy="47628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839880" y="673272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874800" y="677268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939960" y="66772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918000" y="6248520"/>
              <a:ext cx="172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cc00"/>
                  </a:solidFill>
                  <a:latin typeface="Arial"/>
                </a:rPr>
                <a:t>MANUEVER ELEMENT-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Tank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09480" y="638208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54120" y="6439320"/>
              <a:ext cx="21420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85800" y="681372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85800" y="709956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38080" y="703764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73000" y="707724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5" name=""/>
            <p:cNvGrpSpPr/>
            <p:nvPr/>
          </p:nvGrpSpPr>
          <p:grpSpPr>
            <a:xfrm>
              <a:off x="909720" y="6982200"/>
              <a:ext cx="74160" cy="27000"/>
              <a:chOff x="909720" y="6982200"/>
              <a:chExt cx="74160" cy="27000"/>
            </a:xfrm>
          </p:grpSpPr>
          <p:sp>
            <p:nvSpPr>
              <p:cNvPr id="1486" name=""/>
              <p:cNvSpPr/>
              <p:nvPr/>
            </p:nvSpPr>
            <p:spPr>
              <a:xfrm>
                <a:off x="909720" y="69822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957240" y="69822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8" name=""/>
            <p:cNvSpPr/>
            <p:nvPr/>
          </p:nvSpPr>
          <p:spPr>
            <a:xfrm>
              <a:off x="1144440" y="6629760"/>
              <a:ext cx="139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55A Main Battle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144440" y="6999480"/>
              <a:ext cx="139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55A Main Battle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0" name=""/>
            <p:cNvGrpSpPr/>
            <p:nvPr/>
          </p:nvGrpSpPr>
          <p:grpSpPr>
            <a:xfrm>
              <a:off x="733320" y="6309000"/>
              <a:ext cx="56880" cy="63360"/>
              <a:chOff x="733320" y="6309000"/>
              <a:chExt cx="56880" cy="63360"/>
            </a:xfrm>
          </p:grpSpPr>
          <p:sp>
            <p:nvSpPr>
              <p:cNvPr id="1491" name=""/>
              <p:cNvSpPr/>
              <p:nvPr/>
            </p:nvSpPr>
            <p:spPr>
              <a:xfrm>
                <a:off x="733320" y="63090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90200" y="63090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3" name=""/>
          <p:cNvGrpSpPr/>
          <p:nvPr/>
        </p:nvGrpSpPr>
        <p:grpSpPr>
          <a:xfrm>
            <a:off x="647280" y="961920"/>
            <a:ext cx="76320" cy="75960"/>
            <a:chOff x="647280" y="961920"/>
            <a:chExt cx="76320" cy="75960"/>
          </a:xfrm>
        </p:grpSpPr>
        <p:sp>
          <p:nvSpPr>
            <p:cNvPr id="1494" name=""/>
            <p:cNvSpPr/>
            <p:nvPr/>
          </p:nvSpPr>
          <p:spPr>
            <a:xfrm flipH="1">
              <a:off x="647280" y="9619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47640" y="9619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>
            <a:off x="3898800" y="422424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935520" y="425916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898800" y="275904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929040" y="282888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872880" y="898560"/>
            <a:ext cx="229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BATTLEGROUP-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Infantry Battalion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581280" y="10288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3708360" y="952560"/>
            <a:ext cx="57240" cy="63360"/>
            <a:chOff x="3708360" y="952560"/>
            <a:chExt cx="57240" cy="63360"/>
          </a:xfrm>
        </p:grpSpPr>
        <p:sp>
          <p:nvSpPr>
            <p:cNvPr id="1503" name=""/>
            <p:cNvSpPr/>
            <p:nvPr/>
          </p:nvSpPr>
          <p:spPr>
            <a:xfrm>
              <a:off x="3708360" y="9525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765600" y="9525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5" name=""/>
          <p:cNvSpPr/>
          <p:nvPr/>
        </p:nvSpPr>
        <p:spPr>
          <a:xfrm>
            <a:off x="3736800" y="1276200"/>
            <a:ext cx="0" cy="19717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746520" y="28764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002120" y="14428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3898800" y="31669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889440" y="1362240"/>
            <a:ext cx="30456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3921120" y="1393920"/>
            <a:ext cx="241200" cy="16200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041720" y="17622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041720" y="1600200"/>
            <a:ext cx="1800" cy="1681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307040" y="16286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041720" y="12859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736800" y="143820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192920" y="126360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alion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425120" y="152388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4308480" y="1893960"/>
            <a:ext cx="74160" cy="27000"/>
            <a:chOff x="4308480" y="1893960"/>
            <a:chExt cx="74160" cy="27000"/>
          </a:xfrm>
        </p:grpSpPr>
        <p:sp>
          <p:nvSpPr>
            <p:cNvPr id="1519" name=""/>
            <p:cNvSpPr/>
            <p:nvPr/>
          </p:nvSpPr>
          <p:spPr>
            <a:xfrm>
              <a:off x="4308480" y="18939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356000" y="18939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1" name=""/>
          <p:cNvSpPr/>
          <p:nvPr/>
        </p:nvSpPr>
        <p:spPr>
          <a:xfrm>
            <a:off x="4202280" y="1681200"/>
            <a:ext cx="23940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214880" y="1681200"/>
            <a:ext cx="241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227480" y="184932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302360" y="219060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736800" y="254016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886200" y="24192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189680" y="2343240"/>
            <a:ext cx="179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Mechanized Infantry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041720" y="23432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314600" y="2967120"/>
            <a:ext cx="95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000680" y="29113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194000" y="2647800"/>
            <a:ext cx="197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ganic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rmor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ortar Company (82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041720" y="26859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736800" y="324792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207680" y="3119400"/>
            <a:ext cx="15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lyutka (Sagger) ATG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3736800" y="3238560"/>
            <a:ext cx="0" cy="105084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321080" y="3619440"/>
            <a:ext cx="157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92920" y="4167360"/>
            <a:ext cx="149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ZSU-23/4 Antiaircaft Gu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746520" y="43052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3724200" y="400068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>
            <a:off x="3933720" y="425772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971880" y="4295880"/>
            <a:ext cx="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H="1">
            <a:off x="4006440" y="319716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979800" y="330840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981600" y="31939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971880" y="31845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057560" y="31845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971880" y="32259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057560" y="32227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3929040" y="247644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624120" y="1085760"/>
            <a:ext cx="21456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584520" y="102708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3584520" y="102888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422240" y="183528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60PB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218120" y="194328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238640" y="21067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386240" y="21034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254480" y="198432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267080" y="212724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3886200" y="241884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884760" y="2428920"/>
            <a:ext cx="3045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038480" y="28386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895560" y="38797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941640" y="3936960"/>
            <a:ext cx="21456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203000" y="3772080"/>
            <a:ext cx="130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Assault Gun Batt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057560" y="38070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029120" y="39751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3984480" y="3363840"/>
            <a:ext cx="74880" cy="27000"/>
            <a:chOff x="3984480" y="3363840"/>
            <a:chExt cx="74880" cy="27000"/>
          </a:xfrm>
        </p:grpSpPr>
        <p:sp>
          <p:nvSpPr>
            <p:cNvPr id="1568" name=""/>
            <p:cNvSpPr/>
            <p:nvPr/>
          </p:nvSpPr>
          <p:spPr>
            <a:xfrm>
              <a:off x="3984480" y="33638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032360" y="33638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0" name=""/>
          <p:cNvSpPr/>
          <p:nvPr/>
        </p:nvSpPr>
        <p:spPr>
          <a:xfrm>
            <a:off x="3922560" y="333864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4203000" y="32828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60PB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903840" y="3413160"/>
            <a:ext cx="23940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924360" y="35766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071960" y="35733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940200" y="345456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952800" y="35971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019400" y="425772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933720" y="43927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081320" y="438948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962520" y="44132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1" name=""/>
          <p:cNvGrpSpPr/>
          <p:nvPr/>
        </p:nvGrpSpPr>
        <p:grpSpPr>
          <a:xfrm>
            <a:off x="3971880" y="3105000"/>
            <a:ext cx="74160" cy="27000"/>
            <a:chOff x="3971880" y="3105000"/>
            <a:chExt cx="74160" cy="27000"/>
          </a:xfrm>
        </p:grpSpPr>
        <p:sp>
          <p:nvSpPr>
            <p:cNvPr id="1582" name=""/>
            <p:cNvSpPr/>
            <p:nvPr/>
          </p:nvSpPr>
          <p:spPr>
            <a:xfrm>
              <a:off x="3971880" y="31050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019400" y="31050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4" name=""/>
          <p:cNvSpPr/>
          <p:nvPr/>
        </p:nvSpPr>
        <p:spPr>
          <a:xfrm>
            <a:off x="3732120" y="5038560"/>
            <a:ext cx="1800" cy="7621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581280" y="480060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733920" y="47242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986280" y="51339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886200" y="51800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732120" y="524844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886560" y="4648320"/>
            <a:ext cx="201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MANUEVER ELEMENT-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220640" y="5029200"/>
            <a:ext cx="88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898800" y="5180040"/>
            <a:ext cx="2415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204080" y="570852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M-7 A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4" name=""/>
          <p:cNvGrpSpPr/>
          <p:nvPr/>
        </p:nvGrpSpPr>
        <p:grpSpPr>
          <a:xfrm>
            <a:off x="3889440" y="5392800"/>
            <a:ext cx="241200" cy="212760"/>
            <a:chOff x="3889440" y="5392800"/>
            <a:chExt cx="241200" cy="212760"/>
          </a:xfrm>
        </p:grpSpPr>
        <p:sp>
          <p:nvSpPr>
            <p:cNvPr id="1595" name=""/>
            <p:cNvSpPr/>
            <p:nvPr/>
          </p:nvSpPr>
          <p:spPr>
            <a:xfrm>
              <a:off x="3890880" y="544860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6" name=""/>
            <p:cNvGrpSpPr/>
            <p:nvPr/>
          </p:nvGrpSpPr>
          <p:grpSpPr>
            <a:xfrm>
              <a:off x="3971880" y="5392800"/>
              <a:ext cx="74880" cy="27000"/>
              <a:chOff x="3971880" y="5392800"/>
              <a:chExt cx="74880" cy="27000"/>
            </a:xfrm>
          </p:grpSpPr>
          <p:sp>
            <p:nvSpPr>
              <p:cNvPr id="1597" name=""/>
              <p:cNvSpPr/>
              <p:nvPr/>
            </p:nvSpPr>
            <p:spPr>
              <a:xfrm>
                <a:off x="3971880" y="539280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019760" y="53928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9" name=""/>
            <p:cNvSpPr/>
            <p:nvPr/>
          </p:nvSpPr>
          <p:spPr>
            <a:xfrm flipV="1">
              <a:off x="3890880" y="544860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889440" y="5448600"/>
              <a:ext cx="24120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1" name=""/>
          <p:cNvGrpSpPr/>
          <p:nvPr/>
        </p:nvGrpSpPr>
        <p:grpSpPr>
          <a:xfrm>
            <a:off x="3962520" y="5670720"/>
            <a:ext cx="74160" cy="26640"/>
            <a:chOff x="3962520" y="5670720"/>
            <a:chExt cx="74160" cy="26640"/>
          </a:xfrm>
        </p:grpSpPr>
        <p:sp>
          <p:nvSpPr>
            <p:cNvPr id="1602" name=""/>
            <p:cNvSpPr/>
            <p:nvPr/>
          </p:nvSpPr>
          <p:spPr>
            <a:xfrm>
              <a:off x="3962520" y="567072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010040" y="5670720"/>
              <a:ext cx="266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4" name=""/>
          <p:cNvSpPr/>
          <p:nvPr/>
        </p:nvSpPr>
        <p:spPr>
          <a:xfrm>
            <a:off x="4210560" y="5425920"/>
            <a:ext cx="81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9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antry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581280" y="618660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Up to six with  RPG-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733920" y="55339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733920" y="58024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624120" y="4853160"/>
            <a:ext cx="21456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81280" y="480060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3581280" y="480024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3984480" y="5935680"/>
            <a:ext cx="74880" cy="27000"/>
            <a:chOff x="3984480" y="5935680"/>
            <a:chExt cx="74880" cy="27000"/>
          </a:xfrm>
        </p:grpSpPr>
        <p:sp>
          <p:nvSpPr>
            <p:cNvPr id="1612" name=""/>
            <p:cNvSpPr/>
            <p:nvPr/>
          </p:nvSpPr>
          <p:spPr>
            <a:xfrm>
              <a:off x="3984480" y="59356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032360" y="59356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3922560" y="590076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203000" y="586728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BTR-60PB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903840" y="5985000"/>
            <a:ext cx="23940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924360" y="61484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071960" y="61452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940200" y="602604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952800" y="616896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609480" y="7391520"/>
            <a:ext cx="2236680" cy="931320"/>
            <a:chOff x="609480" y="7391520"/>
            <a:chExt cx="2236680" cy="931320"/>
          </a:xfrm>
        </p:grpSpPr>
        <p:sp>
          <p:nvSpPr>
            <p:cNvPr id="1622" name=""/>
            <p:cNvSpPr/>
            <p:nvPr/>
          </p:nvSpPr>
          <p:spPr>
            <a:xfrm>
              <a:off x="609480" y="7524720"/>
              <a:ext cx="303480" cy="22824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54120" y="7581960"/>
              <a:ext cx="214200" cy="10908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85800" y="7762680"/>
              <a:ext cx="0" cy="46656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839880" y="787536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74800" y="7915320"/>
              <a:ext cx="169920" cy="7416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939960" y="781992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914400" y="7391520"/>
              <a:ext cx="193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cc00"/>
                  </a:solidFill>
                  <a:latin typeface="Arial"/>
                </a:rPr>
                <a:t>MANUEVER ELEMENT-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Antitank Missil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85800" y="792468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85800" y="82296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144440" y="77724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Recon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143000" y="8091360"/>
              <a:ext cx="1401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ATGM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70040" y="744840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762120" y="7562880"/>
              <a:ext cx="1440" cy="15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27200" y="772776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85800" y="7553160"/>
              <a:ext cx="152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95160" y="7553160"/>
              <a:ext cx="0" cy="15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28720" y="7553160"/>
              <a:ext cx="0" cy="15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838080" y="7876800"/>
              <a:ext cx="236520" cy="15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0" name=""/>
            <p:cNvGrpSpPr/>
            <p:nvPr/>
          </p:nvGrpSpPr>
          <p:grpSpPr>
            <a:xfrm>
              <a:off x="838080" y="8076960"/>
              <a:ext cx="239760" cy="245880"/>
              <a:chOff x="838080" y="8076960"/>
              <a:chExt cx="239760" cy="245880"/>
            </a:xfrm>
          </p:grpSpPr>
          <p:sp>
            <p:nvSpPr>
              <p:cNvPr id="1641" name=""/>
              <p:cNvSpPr/>
              <p:nvPr/>
            </p:nvSpPr>
            <p:spPr>
              <a:xfrm>
                <a:off x="838080" y="8129160"/>
                <a:ext cx="239760" cy="15732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866520" y="8172000"/>
                <a:ext cx="169920" cy="74520"/>
              </a:xfrm>
              <a:prstGeom prst="ellipse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996840" y="81468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4" name=""/>
              <p:cNvGrpSpPr/>
              <p:nvPr/>
            </p:nvGrpSpPr>
            <p:grpSpPr>
              <a:xfrm>
                <a:off x="914400" y="8076960"/>
                <a:ext cx="74160" cy="27000"/>
                <a:chOff x="914400" y="8076960"/>
                <a:chExt cx="74160" cy="27000"/>
              </a:xfrm>
            </p:grpSpPr>
            <p:sp>
              <p:nvSpPr>
                <p:cNvPr id="1645" name=""/>
                <p:cNvSpPr/>
                <p:nvPr/>
              </p:nvSpPr>
              <p:spPr>
                <a:xfrm>
                  <a:off x="914400" y="807696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961920" y="807696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7" name=""/>
              <p:cNvSpPr/>
              <p:nvPr/>
            </p:nvSpPr>
            <p:spPr>
              <a:xfrm flipH="1">
                <a:off x="955080" y="8159400"/>
                <a:ext cx="1800" cy="10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919080" y="8270640"/>
                <a:ext cx="68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920520" y="8156160"/>
                <a:ext cx="68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911160" y="81468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1038240" y="829584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847440" y="829584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3" name=""/>
          <p:cNvGrpSpPr/>
          <p:nvPr/>
        </p:nvGrpSpPr>
        <p:grpSpPr>
          <a:xfrm>
            <a:off x="3886200" y="5724360"/>
            <a:ext cx="239760" cy="157320"/>
            <a:chOff x="3886200" y="5724360"/>
            <a:chExt cx="239760" cy="157320"/>
          </a:xfrm>
        </p:grpSpPr>
        <p:sp>
          <p:nvSpPr>
            <p:cNvPr id="1654" name=""/>
            <p:cNvSpPr/>
            <p:nvPr/>
          </p:nvSpPr>
          <p:spPr>
            <a:xfrm>
              <a:off x="3886200" y="572436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000320" y="57769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968640" y="576720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924360" y="5852880"/>
              <a:ext cx="153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000320" y="5729040"/>
              <a:ext cx="76320" cy="7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>
              <a:off x="3924000" y="5729040"/>
              <a:ext cx="75960" cy="7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/>
          <p:nvPr/>
        </p:nvSpPr>
        <p:spPr>
          <a:xfrm>
            <a:off x="968400" y="539424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1001880" y="5450040"/>
            <a:ext cx="16956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809640" y="1384200"/>
            <a:ext cx="0" cy="12556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1000080" y="2728800"/>
            <a:ext cx="0" cy="15264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1000080" y="2386080"/>
            <a:ext cx="0" cy="1522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990720" y="1738440"/>
            <a:ext cx="0" cy="1522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80880" y="304920"/>
            <a:ext cx="6096240" cy="60948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yptian Tables of Organiz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chanized Division –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57360" y="116856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76440" y="1206360"/>
            <a:ext cx="257040" cy="13176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995760" y="1066680"/>
            <a:ext cx="1724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cc00"/>
                </a:solidFill>
                <a:latin typeface="Arial"/>
              </a:rPr>
              <a:t>MANEUVER ELEMENT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rmored Engineer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14240" y="124452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22160" y="124452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808200" y="124452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893880" y="124452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809640" y="10922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809880" y="657864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136400" y="2357280"/>
            <a:ext cx="19364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FIRE SUPPORT ELEMENT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Battery (16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156920" y="5099040"/>
            <a:ext cx="2021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FIRE SUPPORT ELEMENT-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156920" y="6458040"/>
            <a:ext cx="2021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FIRE SUPPORT ELEMENT-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7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809880" y="520236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3809880" y="2414520"/>
            <a:ext cx="303120" cy="301680"/>
            <a:chOff x="3809880" y="2414520"/>
            <a:chExt cx="303120" cy="301680"/>
          </a:xfrm>
        </p:grpSpPr>
        <p:sp>
          <p:nvSpPr>
            <p:cNvPr id="1681" name=""/>
            <p:cNvSpPr/>
            <p:nvPr/>
          </p:nvSpPr>
          <p:spPr>
            <a:xfrm>
              <a:off x="3809880" y="248760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3947400" y="2557440"/>
              <a:ext cx="1800" cy="9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911400" y="266832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952800" y="24145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5" name=""/>
          <p:cNvSpPr/>
          <p:nvPr/>
        </p:nvSpPr>
        <p:spPr>
          <a:xfrm>
            <a:off x="3962520" y="51325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962520" y="650232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914640" y="5278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924360" y="6654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809880" y="38275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191840" y="3695760"/>
            <a:ext cx="20156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FIRE SUPPORT ELEMENT-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Howitzer Battery (122mm M 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962520" y="37512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924360" y="39038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57360" y="438948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87240" y="4459320"/>
            <a:ext cx="21456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58880" y="454176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956520" y="4253040"/>
            <a:ext cx="19364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cc00"/>
                </a:solidFill>
                <a:latin typeface="Arial"/>
              </a:rPr>
              <a:t>FIRE SUPPORT ELEMENT-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rmor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ortar Company (82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800280" y="43164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97040" y="44686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117320" y="1066680"/>
            <a:ext cx="19364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FIRE SUPPORT ELEMENT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Company (12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1176120" y="28051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T-62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961920" y="28814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982800" y="30448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3" name=""/>
          <p:cNvGrpSpPr/>
          <p:nvPr/>
        </p:nvGrpSpPr>
        <p:grpSpPr>
          <a:xfrm>
            <a:off x="1036800" y="2816280"/>
            <a:ext cx="74160" cy="27000"/>
            <a:chOff x="1036800" y="2816280"/>
            <a:chExt cx="74160" cy="27000"/>
          </a:xfrm>
        </p:grpSpPr>
        <p:sp>
          <p:nvSpPr>
            <p:cNvPr id="1704" name=""/>
            <p:cNvSpPr/>
            <p:nvPr/>
          </p:nvSpPr>
          <p:spPr>
            <a:xfrm>
              <a:off x="1036800" y="28162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084320" y="28162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6" name=""/>
          <p:cNvSpPr/>
          <p:nvPr/>
        </p:nvSpPr>
        <p:spPr>
          <a:xfrm>
            <a:off x="1139760" y="30416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998640" y="292248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1000080" y="306216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000080" y="2052720"/>
            <a:ext cx="0" cy="1522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809880" y="11653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flipH="1">
            <a:off x="3948120" y="1235160"/>
            <a:ext cx="144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921120" y="133668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952800" y="10922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1068480" y="15447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816120" y="16686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1186920" y="144000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963720" y="15969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976320" y="1596960"/>
            <a:ext cx="241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966960" y="1889280"/>
            <a:ext cx="23940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023840" y="1951200"/>
            <a:ext cx="152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1" name=""/>
          <p:cNvGrpSpPr/>
          <p:nvPr/>
        </p:nvGrpSpPr>
        <p:grpSpPr>
          <a:xfrm>
            <a:off x="1038240" y="1836720"/>
            <a:ext cx="74160" cy="27000"/>
            <a:chOff x="1038240" y="1836720"/>
            <a:chExt cx="74160" cy="27000"/>
          </a:xfrm>
        </p:grpSpPr>
        <p:sp>
          <p:nvSpPr>
            <p:cNvPr id="1722" name=""/>
            <p:cNvSpPr/>
            <p:nvPr/>
          </p:nvSpPr>
          <p:spPr>
            <a:xfrm>
              <a:off x="1038240" y="18367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085760" y="18367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4" name=""/>
          <p:cNvSpPr/>
          <p:nvPr/>
        </p:nvSpPr>
        <p:spPr>
          <a:xfrm>
            <a:off x="1028880" y="19558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162080" y="19558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095480" y="19591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917640" y="1996560"/>
            <a:ext cx="35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968400" y="221472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015920" y="2271600"/>
            <a:ext cx="152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1044720" y="2163600"/>
            <a:ext cx="74160" cy="27000"/>
            <a:chOff x="1044720" y="2163600"/>
            <a:chExt cx="74160" cy="27000"/>
          </a:xfrm>
        </p:grpSpPr>
        <p:sp>
          <p:nvSpPr>
            <p:cNvPr id="1731" name=""/>
            <p:cNvSpPr/>
            <p:nvPr/>
          </p:nvSpPr>
          <p:spPr>
            <a:xfrm>
              <a:off x="1044720" y="21636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092240" y="21636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3" name=""/>
          <p:cNvSpPr/>
          <p:nvPr/>
        </p:nvSpPr>
        <p:spPr>
          <a:xfrm>
            <a:off x="1025640" y="22813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1158840" y="22813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092240" y="22748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917640" y="2320200"/>
            <a:ext cx="35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197000" y="185724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ault Engineers-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197000" y="218772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ault Engineers-B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9" name=""/>
          <p:cNvGrpSpPr/>
          <p:nvPr/>
        </p:nvGrpSpPr>
        <p:grpSpPr>
          <a:xfrm>
            <a:off x="966960" y="2557440"/>
            <a:ext cx="239400" cy="157320"/>
            <a:chOff x="966960" y="2557440"/>
            <a:chExt cx="239400" cy="157320"/>
          </a:xfrm>
        </p:grpSpPr>
        <p:sp>
          <p:nvSpPr>
            <p:cNvPr id="1740" name=""/>
            <p:cNvSpPr/>
            <p:nvPr/>
          </p:nvSpPr>
          <p:spPr>
            <a:xfrm>
              <a:off x="966960" y="2557440"/>
              <a:ext cx="23940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080720" y="26100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049040" y="260028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004760" y="2685960"/>
              <a:ext cx="153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080720" y="2562120"/>
              <a:ext cx="75960" cy="7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1004760" y="2562120"/>
              <a:ext cx="75600" cy="7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6" name=""/>
          <p:cNvGrpSpPr/>
          <p:nvPr/>
        </p:nvGrpSpPr>
        <p:grpSpPr>
          <a:xfrm>
            <a:off x="1038240" y="2506680"/>
            <a:ext cx="74160" cy="27000"/>
            <a:chOff x="1038240" y="2506680"/>
            <a:chExt cx="74160" cy="27000"/>
          </a:xfrm>
        </p:grpSpPr>
        <p:sp>
          <p:nvSpPr>
            <p:cNvPr id="1747" name=""/>
            <p:cNvSpPr/>
            <p:nvPr/>
          </p:nvSpPr>
          <p:spPr>
            <a:xfrm>
              <a:off x="1038240" y="25066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085760" y="25066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9" name=""/>
          <p:cNvSpPr/>
          <p:nvPr/>
        </p:nvSpPr>
        <p:spPr>
          <a:xfrm>
            <a:off x="1196640" y="2533680"/>
            <a:ext cx="108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-7 Light SA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814320" y="196704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814320" y="229716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14320" y="263052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76440" y="331956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722160" y="3376440"/>
            <a:ext cx="21456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986400" y="3186000"/>
            <a:ext cx="1724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MANEUVER ELEMENT-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ssault Gun Batt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838080" y="32464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09640" y="34146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819000" y="3564000"/>
            <a:ext cx="0" cy="571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239120" y="36082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SU-100 Assault G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971640" y="374508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1" name=""/>
          <p:cNvGrpSpPr/>
          <p:nvPr/>
        </p:nvGrpSpPr>
        <p:grpSpPr>
          <a:xfrm>
            <a:off x="1046160" y="3693960"/>
            <a:ext cx="74160" cy="27000"/>
            <a:chOff x="1046160" y="3693960"/>
            <a:chExt cx="74160" cy="27000"/>
          </a:xfrm>
        </p:grpSpPr>
        <p:sp>
          <p:nvSpPr>
            <p:cNvPr id="1762" name=""/>
            <p:cNvSpPr/>
            <p:nvPr/>
          </p:nvSpPr>
          <p:spPr>
            <a:xfrm>
              <a:off x="1046160" y="36939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093680" y="36939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4" name=""/>
          <p:cNvSpPr/>
          <p:nvPr/>
        </p:nvSpPr>
        <p:spPr>
          <a:xfrm>
            <a:off x="1008000" y="378612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819000" y="382104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1239120" y="3973680"/>
            <a:ext cx="125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SU-100 Assault G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971640" y="400212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1046160" y="3951360"/>
            <a:ext cx="74160" cy="27000"/>
            <a:chOff x="1046160" y="3951360"/>
            <a:chExt cx="74160" cy="27000"/>
          </a:xfrm>
        </p:grpSpPr>
        <p:sp>
          <p:nvSpPr>
            <p:cNvPr id="1769" name=""/>
            <p:cNvSpPr/>
            <p:nvPr/>
          </p:nvSpPr>
          <p:spPr>
            <a:xfrm>
              <a:off x="1046160" y="39513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093680" y="39513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1" name=""/>
          <p:cNvSpPr/>
          <p:nvPr/>
        </p:nvSpPr>
        <p:spPr>
          <a:xfrm>
            <a:off x="1008000" y="404352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819000" y="411624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809640" y="4633920"/>
            <a:ext cx="0" cy="82404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269360" y="4678200"/>
            <a:ext cx="114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968400" y="481500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6" name=""/>
          <p:cNvGrpSpPr/>
          <p:nvPr/>
        </p:nvGrpSpPr>
        <p:grpSpPr>
          <a:xfrm>
            <a:off x="1047600" y="4764240"/>
            <a:ext cx="74880" cy="27000"/>
            <a:chOff x="1047600" y="4764240"/>
            <a:chExt cx="74880" cy="27000"/>
          </a:xfrm>
        </p:grpSpPr>
        <p:sp>
          <p:nvSpPr>
            <p:cNvPr id="1777" name=""/>
            <p:cNvSpPr/>
            <p:nvPr/>
          </p:nvSpPr>
          <p:spPr>
            <a:xfrm>
              <a:off x="1047600" y="47642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095480" y="47642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9" name=""/>
          <p:cNvSpPr/>
          <p:nvPr/>
        </p:nvSpPr>
        <p:spPr>
          <a:xfrm>
            <a:off x="816120" y="48909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267920" y="5365800"/>
            <a:ext cx="1411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T-62 SP 82mm Mor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1" name=""/>
          <p:cNvGrpSpPr/>
          <p:nvPr/>
        </p:nvGrpSpPr>
        <p:grpSpPr>
          <a:xfrm>
            <a:off x="1038240" y="5345280"/>
            <a:ext cx="74160" cy="27000"/>
            <a:chOff x="1038240" y="5345280"/>
            <a:chExt cx="74160" cy="27000"/>
          </a:xfrm>
        </p:grpSpPr>
        <p:sp>
          <p:nvSpPr>
            <p:cNvPr id="1782" name=""/>
            <p:cNvSpPr/>
            <p:nvPr/>
          </p:nvSpPr>
          <p:spPr>
            <a:xfrm>
              <a:off x="1038240" y="53452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085760" y="53452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816120" y="54579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052640" y="550404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085760" y="54309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1054080" y="492444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1092240" y="48513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270080" y="50007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T-62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961920" y="50767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982800" y="52401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2" name=""/>
          <p:cNvGrpSpPr/>
          <p:nvPr/>
        </p:nvGrpSpPr>
        <p:grpSpPr>
          <a:xfrm>
            <a:off x="1036800" y="5030640"/>
            <a:ext cx="74160" cy="27000"/>
            <a:chOff x="1036800" y="5030640"/>
            <a:chExt cx="74160" cy="27000"/>
          </a:xfrm>
        </p:grpSpPr>
        <p:sp>
          <p:nvSpPr>
            <p:cNvPr id="1793" name=""/>
            <p:cNvSpPr/>
            <p:nvPr/>
          </p:nvSpPr>
          <p:spPr>
            <a:xfrm>
              <a:off x="1036800" y="50306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084320" y="50306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5" name=""/>
          <p:cNvSpPr/>
          <p:nvPr/>
        </p:nvSpPr>
        <p:spPr>
          <a:xfrm>
            <a:off x="1139760" y="523728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998640" y="511812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000080" y="52578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3962520" y="1405080"/>
            <a:ext cx="0" cy="571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4382640" y="1449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114800" y="15858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1" name=""/>
          <p:cNvGrpSpPr/>
          <p:nvPr/>
        </p:nvGrpSpPr>
        <p:grpSpPr>
          <a:xfrm>
            <a:off x="4189320" y="1535040"/>
            <a:ext cx="74880" cy="27000"/>
            <a:chOff x="4189320" y="1535040"/>
            <a:chExt cx="74880" cy="27000"/>
          </a:xfrm>
        </p:grpSpPr>
        <p:sp>
          <p:nvSpPr>
            <p:cNvPr id="1802" name=""/>
            <p:cNvSpPr/>
            <p:nvPr/>
          </p:nvSpPr>
          <p:spPr>
            <a:xfrm>
              <a:off x="4189320" y="15350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237200" y="15350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4" name=""/>
          <p:cNvSpPr/>
          <p:nvPr/>
        </p:nvSpPr>
        <p:spPr>
          <a:xfrm>
            <a:off x="3962520" y="16621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4381560" y="181440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20mm Mor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4114800" y="184320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7" name=""/>
          <p:cNvGrpSpPr/>
          <p:nvPr/>
        </p:nvGrpSpPr>
        <p:grpSpPr>
          <a:xfrm>
            <a:off x="4189320" y="1792440"/>
            <a:ext cx="74880" cy="27000"/>
            <a:chOff x="4189320" y="1792440"/>
            <a:chExt cx="74880" cy="27000"/>
          </a:xfrm>
        </p:grpSpPr>
        <p:sp>
          <p:nvSpPr>
            <p:cNvPr id="1808" name=""/>
            <p:cNvSpPr/>
            <p:nvPr/>
          </p:nvSpPr>
          <p:spPr>
            <a:xfrm>
              <a:off x="4189320" y="17924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237200" y="17924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0" name=""/>
          <p:cNvSpPr/>
          <p:nvPr/>
        </p:nvSpPr>
        <p:spPr>
          <a:xfrm>
            <a:off x="3962520" y="19573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199040" y="195264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237200" y="18795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4200480" y="169560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238640" y="16225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962520" y="2728800"/>
            <a:ext cx="0" cy="5716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4382640" y="27734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114800" y="29098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8" name=""/>
          <p:cNvGrpSpPr/>
          <p:nvPr/>
        </p:nvGrpSpPr>
        <p:grpSpPr>
          <a:xfrm>
            <a:off x="4189320" y="2859120"/>
            <a:ext cx="74880" cy="27000"/>
            <a:chOff x="4189320" y="2859120"/>
            <a:chExt cx="74880" cy="27000"/>
          </a:xfrm>
        </p:grpSpPr>
        <p:sp>
          <p:nvSpPr>
            <p:cNvPr id="1819" name=""/>
            <p:cNvSpPr/>
            <p:nvPr/>
          </p:nvSpPr>
          <p:spPr>
            <a:xfrm>
              <a:off x="4189320" y="285912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237200" y="28591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1" name=""/>
          <p:cNvSpPr/>
          <p:nvPr/>
        </p:nvSpPr>
        <p:spPr>
          <a:xfrm>
            <a:off x="3962520" y="29862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4381560" y="313848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60mm Mor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4114800" y="31669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4189320" y="3116160"/>
            <a:ext cx="74880" cy="27000"/>
            <a:chOff x="4189320" y="3116160"/>
            <a:chExt cx="74880" cy="27000"/>
          </a:xfrm>
        </p:grpSpPr>
        <p:sp>
          <p:nvSpPr>
            <p:cNvPr id="1825" name=""/>
            <p:cNvSpPr/>
            <p:nvPr/>
          </p:nvSpPr>
          <p:spPr>
            <a:xfrm>
              <a:off x="4189320" y="31161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237200" y="31161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7" name=""/>
          <p:cNvSpPr/>
          <p:nvPr/>
        </p:nvSpPr>
        <p:spPr>
          <a:xfrm>
            <a:off x="3962520" y="32814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199040" y="32767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237200" y="32036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200480" y="301932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238640" y="29462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4071960"/>
            <a:ext cx="0" cy="571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382640" y="41162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114800" y="42530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5" name=""/>
          <p:cNvGrpSpPr/>
          <p:nvPr/>
        </p:nvGrpSpPr>
        <p:grpSpPr>
          <a:xfrm>
            <a:off x="4189320" y="4202280"/>
            <a:ext cx="74880" cy="27000"/>
            <a:chOff x="4189320" y="4202280"/>
            <a:chExt cx="74880" cy="27000"/>
          </a:xfrm>
        </p:grpSpPr>
        <p:sp>
          <p:nvSpPr>
            <p:cNvPr id="1836" name=""/>
            <p:cNvSpPr/>
            <p:nvPr/>
          </p:nvSpPr>
          <p:spPr>
            <a:xfrm>
              <a:off x="4189320" y="42022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237200" y="42022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8" name=""/>
          <p:cNvSpPr/>
          <p:nvPr/>
        </p:nvSpPr>
        <p:spPr>
          <a:xfrm>
            <a:off x="3962520" y="4329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381200" y="4510080"/>
            <a:ext cx="131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22mm M38 Howitz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114800" y="45385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1" name=""/>
          <p:cNvGrpSpPr/>
          <p:nvPr/>
        </p:nvGrpSpPr>
        <p:grpSpPr>
          <a:xfrm>
            <a:off x="4189320" y="4487760"/>
            <a:ext cx="74880" cy="27000"/>
            <a:chOff x="4189320" y="4487760"/>
            <a:chExt cx="74880" cy="27000"/>
          </a:xfrm>
        </p:grpSpPr>
        <p:sp>
          <p:nvSpPr>
            <p:cNvPr id="1842" name=""/>
            <p:cNvSpPr/>
            <p:nvPr/>
          </p:nvSpPr>
          <p:spPr>
            <a:xfrm>
              <a:off x="4189320" y="44877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237200" y="44877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4" name=""/>
          <p:cNvSpPr/>
          <p:nvPr/>
        </p:nvSpPr>
        <p:spPr>
          <a:xfrm>
            <a:off x="3962520" y="46339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219560" y="43099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219560" y="45957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3962520" y="5443560"/>
            <a:ext cx="0" cy="571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382640" y="54878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114800" y="56246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0" name=""/>
          <p:cNvGrpSpPr/>
          <p:nvPr/>
        </p:nvGrpSpPr>
        <p:grpSpPr>
          <a:xfrm>
            <a:off x="4189320" y="5573880"/>
            <a:ext cx="74880" cy="27000"/>
            <a:chOff x="4189320" y="5573880"/>
            <a:chExt cx="74880" cy="27000"/>
          </a:xfrm>
        </p:grpSpPr>
        <p:sp>
          <p:nvSpPr>
            <p:cNvPr id="1851" name=""/>
            <p:cNvSpPr/>
            <p:nvPr/>
          </p:nvSpPr>
          <p:spPr>
            <a:xfrm>
              <a:off x="4189320" y="55738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237200" y="55738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3" name=""/>
          <p:cNvSpPr/>
          <p:nvPr/>
        </p:nvSpPr>
        <p:spPr>
          <a:xfrm>
            <a:off x="3962520" y="57006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383000" y="5881680"/>
            <a:ext cx="134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22mm D30 Field G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114800" y="59101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6" name=""/>
          <p:cNvGrpSpPr/>
          <p:nvPr/>
        </p:nvGrpSpPr>
        <p:grpSpPr>
          <a:xfrm>
            <a:off x="4189320" y="5859360"/>
            <a:ext cx="74880" cy="27000"/>
            <a:chOff x="4189320" y="5859360"/>
            <a:chExt cx="74880" cy="27000"/>
          </a:xfrm>
        </p:grpSpPr>
        <p:sp>
          <p:nvSpPr>
            <p:cNvPr id="1857" name=""/>
            <p:cNvSpPr/>
            <p:nvPr/>
          </p:nvSpPr>
          <p:spPr>
            <a:xfrm>
              <a:off x="4189320" y="58593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237200" y="58593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9" name=""/>
          <p:cNvSpPr/>
          <p:nvPr/>
        </p:nvSpPr>
        <p:spPr>
          <a:xfrm>
            <a:off x="3962520" y="60055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219560" y="56815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219560" y="59673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3962520" y="6824520"/>
            <a:ext cx="0" cy="5716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382640" y="68594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114800" y="69962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5" name=""/>
          <p:cNvGrpSpPr/>
          <p:nvPr/>
        </p:nvGrpSpPr>
        <p:grpSpPr>
          <a:xfrm>
            <a:off x="4189320" y="6945480"/>
            <a:ext cx="74880" cy="27000"/>
            <a:chOff x="4189320" y="6945480"/>
            <a:chExt cx="74880" cy="27000"/>
          </a:xfrm>
        </p:grpSpPr>
        <p:sp>
          <p:nvSpPr>
            <p:cNvPr id="1866" name=""/>
            <p:cNvSpPr/>
            <p:nvPr/>
          </p:nvSpPr>
          <p:spPr>
            <a:xfrm>
              <a:off x="4189320" y="69454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237200" y="69454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8" name=""/>
          <p:cNvSpPr/>
          <p:nvPr/>
        </p:nvSpPr>
        <p:spPr>
          <a:xfrm>
            <a:off x="3962520" y="70722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383000" y="7253280"/>
            <a:ext cx="134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22mm D74 Field G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114800" y="72817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1" name=""/>
          <p:cNvGrpSpPr/>
          <p:nvPr/>
        </p:nvGrpSpPr>
        <p:grpSpPr>
          <a:xfrm>
            <a:off x="4189320" y="7230960"/>
            <a:ext cx="74880" cy="27000"/>
            <a:chOff x="4189320" y="7230960"/>
            <a:chExt cx="74880" cy="27000"/>
          </a:xfrm>
        </p:grpSpPr>
        <p:sp>
          <p:nvSpPr>
            <p:cNvPr id="1872" name=""/>
            <p:cNvSpPr/>
            <p:nvPr/>
          </p:nvSpPr>
          <p:spPr>
            <a:xfrm>
              <a:off x="4189320" y="72309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237200" y="72309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4" name=""/>
          <p:cNvSpPr/>
          <p:nvPr/>
        </p:nvSpPr>
        <p:spPr>
          <a:xfrm>
            <a:off x="3962520" y="73771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219560" y="70531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219560" y="73389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813120" y="202572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851280" y="335268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3813120" y="472428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813120" y="609588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813120" y="751212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"/>
          <p:cNvSpPr/>
          <p:nvPr/>
        </p:nvSpPr>
        <p:spPr>
          <a:xfrm>
            <a:off x="838080" y="58849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847800" y="497988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533520" y="279000"/>
            <a:ext cx="5829120" cy="4827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yptian Tables of Organiz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antry Division –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81120" y="1201680"/>
            <a:ext cx="0" cy="260820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30280" y="97308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830160" y="1523880"/>
            <a:ext cx="3049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861840" y="1555920"/>
            <a:ext cx="241560" cy="16164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982800" y="19242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982800" y="1762200"/>
            <a:ext cx="1440" cy="1681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247760" y="17906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982800" y="14479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833400" y="29718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879480" y="302904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85800" y="25588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76440" y="30765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77880" y="16002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834840" y="820800"/>
            <a:ext cx="1467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BATTLEGROUP-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Brigade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133640" y="137160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igade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366200" y="168588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1350720" y="201600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AZ-69A Jee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1217880" y="26812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1140120" y="28638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Tank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1193760" y="3886200"/>
            <a:ext cx="157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835200" y="24066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flipV="1">
            <a:off x="835200" y="240624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833400" y="240660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690480" y="380988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139760" y="233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G-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Infantry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833400" y="369108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H="1">
            <a:off x="953640" y="371304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917640" y="381636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3" name=""/>
          <p:cNvGrpSpPr/>
          <p:nvPr/>
        </p:nvGrpSpPr>
        <p:grpSpPr>
          <a:xfrm>
            <a:off x="915840" y="3614760"/>
            <a:ext cx="74880" cy="27000"/>
            <a:chOff x="915840" y="3614760"/>
            <a:chExt cx="74880" cy="27000"/>
          </a:xfrm>
        </p:grpSpPr>
        <p:sp>
          <p:nvSpPr>
            <p:cNvPr id="1914" name=""/>
            <p:cNvSpPr/>
            <p:nvPr/>
          </p:nvSpPr>
          <p:spPr>
            <a:xfrm>
              <a:off x="915840" y="36147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963720" y="36147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>
            <a:off x="681120" y="3809880"/>
            <a:ext cx="0" cy="221004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1168920" y="3581280"/>
            <a:ext cx="19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3 Off-board Direct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Company (12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835200" y="33210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141200" y="3244680"/>
            <a:ext cx="16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Reconnaissance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136520" y="20923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147680" y="226548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2" name=""/>
          <p:cNvGrpSpPr/>
          <p:nvPr/>
        </p:nvGrpSpPr>
        <p:grpSpPr>
          <a:xfrm>
            <a:off x="1211400" y="2036880"/>
            <a:ext cx="74160" cy="27000"/>
            <a:chOff x="1211400" y="2036880"/>
            <a:chExt cx="74160" cy="27000"/>
          </a:xfrm>
        </p:grpSpPr>
        <p:sp>
          <p:nvSpPr>
            <p:cNvPr id="1923" name=""/>
            <p:cNvSpPr/>
            <p:nvPr/>
          </p:nvSpPr>
          <p:spPr>
            <a:xfrm>
              <a:off x="1211400" y="20368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258920" y="20368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5" name=""/>
          <p:cNvSpPr/>
          <p:nvPr/>
        </p:nvSpPr>
        <p:spPr>
          <a:xfrm>
            <a:off x="1333440" y="22622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33520" y="971640"/>
            <a:ext cx="3045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 flipV="1">
            <a:off x="533520" y="97272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 flipV="1">
            <a:off x="838080" y="331956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609480" y="6400800"/>
            <a:ext cx="2032920" cy="1067760"/>
            <a:chOff x="609480" y="6400800"/>
            <a:chExt cx="2032920" cy="1067760"/>
          </a:xfrm>
        </p:grpSpPr>
        <p:sp>
          <p:nvSpPr>
            <p:cNvPr id="1930" name=""/>
            <p:cNvSpPr/>
            <p:nvPr/>
          </p:nvSpPr>
          <p:spPr>
            <a:xfrm>
              <a:off x="685800" y="6762600"/>
              <a:ext cx="0" cy="6091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39880" y="6986520"/>
              <a:ext cx="239760" cy="156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874800" y="7026120"/>
              <a:ext cx="169920" cy="7416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939960" y="693072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918000" y="6400800"/>
              <a:ext cx="172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cc00"/>
                  </a:solidFill>
                  <a:latin typeface="Arial"/>
                </a:rPr>
                <a:t>MANUEVER ELEMENT-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Tank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09480" y="6534000"/>
              <a:ext cx="303480" cy="22824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54120" y="6591240"/>
              <a:ext cx="214200" cy="10908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85800" y="706716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85800" y="737208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838080" y="729108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73000" y="733068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1" name=""/>
            <p:cNvGrpSpPr/>
            <p:nvPr/>
          </p:nvGrpSpPr>
          <p:grpSpPr>
            <a:xfrm>
              <a:off x="909720" y="7235640"/>
              <a:ext cx="74160" cy="26640"/>
              <a:chOff x="909720" y="7235640"/>
              <a:chExt cx="74160" cy="26640"/>
            </a:xfrm>
          </p:grpSpPr>
          <p:sp>
            <p:nvSpPr>
              <p:cNvPr id="1942" name=""/>
              <p:cNvSpPr/>
              <p:nvPr/>
            </p:nvSpPr>
            <p:spPr>
              <a:xfrm>
                <a:off x="909720" y="72356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957240" y="723564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4" name=""/>
            <p:cNvSpPr/>
            <p:nvPr/>
          </p:nvSpPr>
          <p:spPr>
            <a:xfrm>
              <a:off x="1144440" y="6883200"/>
              <a:ext cx="139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55A Main Battle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144440" y="7252920"/>
              <a:ext cx="139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6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55A Main Battle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6" name=""/>
            <p:cNvGrpSpPr/>
            <p:nvPr/>
          </p:nvGrpSpPr>
          <p:grpSpPr>
            <a:xfrm>
              <a:off x="741240" y="6457680"/>
              <a:ext cx="57240" cy="63000"/>
              <a:chOff x="741240" y="6457680"/>
              <a:chExt cx="57240" cy="63000"/>
            </a:xfrm>
          </p:grpSpPr>
          <p:sp>
            <p:nvSpPr>
              <p:cNvPr id="1947" name=""/>
              <p:cNvSpPr/>
              <p:nvPr/>
            </p:nvSpPr>
            <p:spPr>
              <a:xfrm>
                <a:off x="741240" y="645768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98480" y="645768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9" name=""/>
          <p:cNvSpPr/>
          <p:nvPr/>
        </p:nvSpPr>
        <p:spPr>
          <a:xfrm>
            <a:off x="1143000" y="184320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155600" y="1843200"/>
            <a:ext cx="2415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168560" y="201132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985320" y="504972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949320" y="516096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1173960" y="4875120"/>
            <a:ext cx="189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4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Battery (16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85800" y="50878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1185840" y="5330880"/>
            <a:ext cx="216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6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85800" y="55450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1185840" y="5789520"/>
            <a:ext cx="216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7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7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838080" y="411480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1171800" y="4038480"/>
            <a:ext cx="126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Engineer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895320" y="419112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903240" y="419112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988920" y="419112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1074600" y="419112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685800" y="3429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6" name=""/>
          <p:cNvGrpSpPr/>
          <p:nvPr/>
        </p:nvGrpSpPr>
        <p:grpSpPr>
          <a:xfrm>
            <a:off x="952560" y="2330280"/>
            <a:ext cx="57240" cy="63360"/>
            <a:chOff x="952560" y="2330280"/>
            <a:chExt cx="57240" cy="63360"/>
          </a:xfrm>
        </p:grpSpPr>
        <p:sp>
          <p:nvSpPr>
            <p:cNvPr id="1967" name=""/>
            <p:cNvSpPr/>
            <p:nvPr/>
          </p:nvSpPr>
          <p:spPr>
            <a:xfrm>
              <a:off x="952560" y="23302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009800" y="23302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9" name=""/>
          <p:cNvSpPr/>
          <p:nvPr/>
        </p:nvSpPr>
        <p:spPr>
          <a:xfrm>
            <a:off x="990720" y="324792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990720" y="40384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85800" y="42292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647280" y="885960"/>
            <a:ext cx="76320" cy="75960"/>
            <a:chOff x="647280" y="885960"/>
            <a:chExt cx="76320" cy="75960"/>
          </a:xfrm>
        </p:grpSpPr>
        <p:sp>
          <p:nvSpPr>
            <p:cNvPr id="1973" name=""/>
            <p:cNvSpPr/>
            <p:nvPr/>
          </p:nvSpPr>
          <p:spPr>
            <a:xfrm flipH="1">
              <a:off x="647280" y="8859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47640" y="8859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3873240" y="822240"/>
            <a:ext cx="153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BATTLEGROUP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Battalion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38080" y="540864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990720" y="49068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990720" y="53388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990720" y="58086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942840" y="5484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952560" y="596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81280" y="9907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584520" y="98892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3584520" y="99072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5" name=""/>
          <p:cNvGrpSpPr/>
          <p:nvPr/>
        </p:nvGrpSpPr>
        <p:grpSpPr>
          <a:xfrm>
            <a:off x="3699000" y="914400"/>
            <a:ext cx="56880" cy="63360"/>
            <a:chOff x="3699000" y="914400"/>
            <a:chExt cx="56880" cy="63360"/>
          </a:xfrm>
        </p:grpSpPr>
        <p:sp>
          <p:nvSpPr>
            <p:cNvPr id="1986" name=""/>
            <p:cNvSpPr/>
            <p:nvPr/>
          </p:nvSpPr>
          <p:spPr>
            <a:xfrm>
              <a:off x="3699000" y="914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755880" y="914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8" name=""/>
          <p:cNvSpPr/>
          <p:nvPr/>
        </p:nvSpPr>
        <p:spPr>
          <a:xfrm>
            <a:off x="3736800" y="1228680"/>
            <a:ext cx="0" cy="244800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746520" y="28386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002120" y="14050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3898800" y="312912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889440" y="1324080"/>
            <a:ext cx="30456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921120" y="1355760"/>
            <a:ext cx="241200" cy="16200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4041720" y="17240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041720" y="1562040"/>
            <a:ext cx="1800" cy="1684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307040" y="15908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041720" y="12477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736800" y="140004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192920" y="117144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alion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425120" y="148608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4409640" y="181620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AZ-69A Jee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4195800" y="18921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4206960" y="20559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4" name=""/>
          <p:cNvGrpSpPr/>
          <p:nvPr/>
        </p:nvGrpSpPr>
        <p:grpSpPr>
          <a:xfrm>
            <a:off x="4270320" y="1836720"/>
            <a:ext cx="74160" cy="27000"/>
            <a:chOff x="4270320" y="1836720"/>
            <a:chExt cx="74160" cy="27000"/>
          </a:xfrm>
        </p:grpSpPr>
        <p:sp>
          <p:nvSpPr>
            <p:cNvPr id="2005" name=""/>
            <p:cNvSpPr/>
            <p:nvPr/>
          </p:nvSpPr>
          <p:spPr>
            <a:xfrm>
              <a:off x="4270320" y="18367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317840" y="18367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7" name=""/>
          <p:cNvSpPr/>
          <p:nvPr/>
        </p:nvSpPr>
        <p:spPr>
          <a:xfrm>
            <a:off x="4392720" y="20527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202280" y="1643040"/>
            <a:ext cx="23940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214880" y="1643040"/>
            <a:ext cx="241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4227480" y="181116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4302360" y="215280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736800" y="250200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3886200" y="23814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flipV="1">
            <a:off x="3886200" y="238140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3884760" y="2390760"/>
            <a:ext cx="3045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4190760" y="230508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Infantry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4041720" y="23050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4314600" y="2928960"/>
            <a:ext cx="95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898800" y="27208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 flipH="1">
            <a:off x="4037040" y="2790720"/>
            <a:ext cx="144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000680" y="289260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4194360" y="2610000"/>
            <a:ext cx="152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1 Organic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rtar Company (82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4041720" y="26478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736800" y="321948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736800" y="344808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736800" y="367668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4194000" y="3328920"/>
            <a:ext cx="161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-10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82mm Recoiless Rif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4194360" y="3571920"/>
            <a:ext cx="166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-11  107mm Recoiless Rif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207680" y="3081240"/>
            <a:ext cx="15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lyutka (Sagger) ATG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898800" y="33670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898800" y="35956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736800" y="3676680"/>
            <a:ext cx="0" cy="17938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321080" y="4071960"/>
            <a:ext cx="157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889440" y="45147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889440" y="42814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260600" y="376704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AZ-69A Jee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898800" y="38433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909960" y="400680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3973680" y="3787920"/>
            <a:ext cx="74160" cy="27000"/>
            <a:chOff x="3973680" y="3787920"/>
            <a:chExt cx="74160" cy="27000"/>
          </a:xfrm>
        </p:grpSpPr>
        <p:sp>
          <p:nvSpPr>
            <p:cNvPr id="2040" name=""/>
            <p:cNvSpPr/>
            <p:nvPr/>
          </p:nvSpPr>
          <p:spPr>
            <a:xfrm>
              <a:off x="3973680" y="37879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021200" y="37879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2" name=""/>
          <p:cNvSpPr/>
          <p:nvPr/>
        </p:nvSpPr>
        <p:spPr>
          <a:xfrm>
            <a:off x="4095720" y="40132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930480" y="376236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889440" y="47386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259160" y="491004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ZIL-157 Medium Tru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898800" y="49863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3909960" y="514980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8" name=""/>
          <p:cNvGrpSpPr/>
          <p:nvPr/>
        </p:nvGrpSpPr>
        <p:grpSpPr>
          <a:xfrm>
            <a:off x="3973680" y="4930920"/>
            <a:ext cx="74160" cy="27000"/>
            <a:chOff x="3973680" y="4930920"/>
            <a:chExt cx="74160" cy="27000"/>
          </a:xfrm>
        </p:grpSpPr>
        <p:sp>
          <p:nvSpPr>
            <p:cNvPr id="2049" name=""/>
            <p:cNvSpPr/>
            <p:nvPr/>
          </p:nvSpPr>
          <p:spPr>
            <a:xfrm>
              <a:off x="3973680" y="493092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021200" y="493092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1" name=""/>
          <p:cNvSpPr/>
          <p:nvPr/>
        </p:nvSpPr>
        <p:spPr>
          <a:xfrm>
            <a:off x="4095720" y="51562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930480" y="490536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887640" y="53467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735360" y="54705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4270320" y="5240160"/>
            <a:ext cx="215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5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Howitzer Battery (122mm M 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4040280" y="52704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4002120" y="54230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4272120" y="4233960"/>
            <a:ext cx="133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ZU-23 Antiaircaft Gu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272480" y="4462560"/>
            <a:ext cx="150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-44 85mm Antitank Gu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271400" y="4691160"/>
            <a:ext cx="165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M-3 100mm Antitank Gu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736800" y="436248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736800" y="459108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736800" y="481968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 flipH="1">
            <a:off x="3866760" y="4289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000680" y="42800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943440" y="4365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 flipH="1">
            <a:off x="3876480" y="45180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990960" y="45180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 flipH="1">
            <a:off x="3857400" y="47372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000680" y="47372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981600" y="3679920"/>
            <a:ext cx="56880" cy="55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981600" y="3451320"/>
            <a:ext cx="56880" cy="55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010040" y="36226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4010040" y="33940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 flipH="1">
            <a:off x="4006440" y="315900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979800" y="327024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981600" y="31561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971880" y="31464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4057560" y="31464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971880" y="31878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4057560" y="31845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581280" y="694836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Up to six with  RPG-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732120" y="6114960"/>
            <a:ext cx="1800" cy="75240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581280" y="58672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733920" y="57913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986280" y="61912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886200" y="623736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732120" y="630540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889800" y="5715000"/>
            <a:ext cx="172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MANUEVER ELEMENT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4220640" y="6086520"/>
            <a:ext cx="88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581280" y="586728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V="1">
            <a:off x="3581280" y="586692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898800" y="6237360"/>
            <a:ext cx="2415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204440" y="6784920"/>
            <a:ext cx="97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-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M-7 A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890880" y="654372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3971880" y="6488280"/>
            <a:ext cx="74160" cy="27000"/>
            <a:chOff x="3971880" y="6488280"/>
            <a:chExt cx="74160" cy="27000"/>
          </a:xfrm>
        </p:grpSpPr>
        <p:sp>
          <p:nvSpPr>
            <p:cNvPr id="2097" name=""/>
            <p:cNvSpPr/>
            <p:nvPr/>
          </p:nvSpPr>
          <p:spPr>
            <a:xfrm>
              <a:off x="3971880" y="64882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4019400" y="64882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9" name=""/>
          <p:cNvSpPr/>
          <p:nvPr/>
        </p:nvSpPr>
        <p:spPr>
          <a:xfrm flipV="1">
            <a:off x="3890880" y="6543720"/>
            <a:ext cx="2365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889440" y="654372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1" name=""/>
          <p:cNvGrpSpPr/>
          <p:nvPr/>
        </p:nvGrpSpPr>
        <p:grpSpPr>
          <a:xfrm>
            <a:off x="3962520" y="6746760"/>
            <a:ext cx="74160" cy="27000"/>
            <a:chOff x="3962520" y="6746760"/>
            <a:chExt cx="74160" cy="27000"/>
          </a:xfrm>
        </p:grpSpPr>
        <p:sp>
          <p:nvSpPr>
            <p:cNvPr id="2102" name=""/>
            <p:cNvSpPr/>
            <p:nvPr/>
          </p:nvSpPr>
          <p:spPr>
            <a:xfrm>
              <a:off x="3962520" y="67467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010040" y="674676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4" name=""/>
          <p:cNvSpPr/>
          <p:nvPr/>
        </p:nvSpPr>
        <p:spPr>
          <a:xfrm>
            <a:off x="4210560" y="6521400"/>
            <a:ext cx="81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9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antry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733920" y="66214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733920" y="68691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7" name=""/>
          <p:cNvGrpSpPr/>
          <p:nvPr/>
        </p:nvGrpSpPr>
        <p:grpSpPr>
          <a:xfrm>
            <a:off x="3657600" y="7182000"/>
            <a:ext cx="2095560" cy="1504800"/>
            <a:chOff x="3657600" y="7182000"/>
            <a:chExt cx="2095560" cy="1504800"/>
          </a:xfrm>
        </p:grpSpPr>
        <p:sp>
          <p:nvSpPr>
            <p:cNvPr id="2108" name=""/>
            <p:cNvSpPr/>
            <p:nvPr/>
          </p:nvSpPr>
          <p:spPr>
            <a:xfrm>
              <a:off x="3732120" y="8305920"/>
              <a:ext cx="15192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657600" y="728352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961440" y="7182000"/>
              <a:ext cx="1791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cc00"/>
                  </a:solidFill>
                  <a:latin typeface="Arial"/>
                </a:rPr>
                <a:t>MANUEVER ELEMENT-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connaissanc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1" name=""/>
            <p:cNvGrpSpPr/>
            <p:nvPr/>
          </p:nvGrpSpPr>
          <p:grpSpPr>
            <a:xfrm>
              <a:off x="3966840" y="7664400"/>
              <a:ext cx="73800" cy="27000"/>
              <a:chOff x="3966840" y="7664400"/>
              <a:chExt cx="73800" cy="27000"/>
            </a:xfrm>
          </p:grpSpPr>
          <p:sp>
            <p:nvSpPr>
              <p:cNvPr id="2112" name=""/>
              <p:cNvSpPr/>
              <p:nvPr/>
            </p:nvSpPr>
            <p:spPr>
              <a:xfrm>
                <a:off x="3966840" y="76644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4014000" y="76644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4" name=""/>
            <p:cNvSpPr/>
            <p:nvPr/>
          </p:nvSpPr>
          <p:spPr>
            <a:xfrm>
              <a:off x="3885840" y="7729560"/>
              <a:ext cx="23940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732120" y="7797960"/>
              <a:ext cx="15192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115520" y="7569360"/>
              <a:ext cx="88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3898800" y="7729560"/>
              <a:ext cx="2408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118760" y="8469360"/>
              <a:ext cx="1349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IL-157 Medium Truc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9" name=""/>
            <p:cNvGrpSpPr/>
            <p:nvPr/>
          </p:nvGrpSpPr>
          <p:grpSpPr>
            <a:xfrm>
              <a:off x="3884400" y="8197920"/>
              <a:ext cx="240840" cy="212760"/>
              <a:chOff x="3884400" y="8197920"/>
              <a:chExt cx="240840" cy="212760"/>
            </a:xfrm>
          </p:grpSpPr>
          <p:sp>
            <p:nvSpPr>
              <p:cNvPr id="2120" name=""/>
              <p:cNvSpPr/>
              <p:nvPr/>
            </p:nvSpPr>
            <p:spPr>
              <a:xfrm>
                <a:off x="3885480" y="8253720"/>
                <a:ext cx="239400" cy="15696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1" name=""/>
              <p:cNvGrpSpPr/>
              <p:nvPr/>
            </p:nvGrpSpPr>
            <p:grpSpPr>
              <a:xfrm>
                <a:off x="3966480" y="8197920"/>
                <a:ext cx="74160" cy="27000"/>
                <a:chOff x="3966480" y="8197920"/>
                <a:chExt cx="74160" cy="27000"/>
              </a:xfrm>
            </p:grpSpPr>
            <p:sp>
              <p:nvSpPr>
                <p:cNvPr id="2122" name=""/>
                <p:cNvSpPr/>
                <p:nvPr/>
              </p:nvSpPr>
              <p:spPr>
                <a:xfrm>
                  <a:off x="3966480" y="819792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4014000" y="81979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4" name=""/>
              <p:cNvSpPr/>
              <p:nvPr/>
            </p:nvSpPr>
            <p:spPr>
              <a:xfrm flipV="1">
                <a:off x="3885480" y="8253720"/>
                <a:ext cx="23616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884400" y="8253720"/>
                <a:ext cx="240840" cy="15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6" name=""/>
            <p:cNvSpPr/>
            <p:nvPr/>
          </p:nvSpPr>
          <p:spPr>
            <a:xfrm>
              <a:off x="3890880" y="8496360"/>
              <a:ext cx="23904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7" name=""/>
            <p:cNvGrpSpPr/>
            <p:nvPr/>
          </p:nvGrpSpPr>
          <p:grpSpPr>
            <a:xfrm>
              <a:off x="3962160" y="8440920"/>
              <a:ext cx="73800" cy="27000"/>
              <a:chOff x="3962160" y="8440920"/>
              <a:chExt cx="73800" cy="27000"/>
            </a:xfrm>
          </p:grpSpPr>
          <p:sp>
            <p:nvSpPr>
              <p:cNvPr id="2128" name=""/>
              <p:cNvSpPr/>
              <p:nvPr/>
            </p:nvSpPr>
            <p:spPr>
              <a:xfrm>
                <a:off x="3962160" y="84409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4009320" y="84409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0" name=""/>
            <p:cNvSpPr/>
            <p:nvPr/>
          </p:nvSpPr>
          <p:spPr>
            <a:xfrm>
              <a:off x="3908160" y="865980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079520" y="865836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114440" y="8221680"/>
              <a:ext cx="121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antry with RPG-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917880" y="8421840"/>
              <a:ext cx="0" cy="763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732120" y="7524720"/>
              <a:ext cx="0" cy="78120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V="1">
              <a:off x="3662280" y="7286400"/>
              <a:ext cx="29808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13720" y="7945560"/>
              <a:ext cx="102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AZ-69A Jeep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884400" y="7972560"/>
              <a:ext cx="23940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8" name=""/>
            <p:cNvGrpSpPr/>
            <p:nvPr/>
          </p:nvGrpSpPr>
          <p:grpSpPr>
            <a:xfrm>
              <a:off x="3955680" y="7917120"/>
              <a:ext cx="74160" cy="27000"/>
              <a:chOff x="3955680" y="7917120"/>
              <a:chExt cx="74160" cy="27000"/>
            </a:xfrm>
          </p:grpSpPr>
          <p:sp>
            <p:nvSpPr>
              <p:cNvPr id="2139" name=""/>
              <p:cNvSpPr/>
              <p:nvPr/>
            </p:nvSpPr>
            <p:spPr>
              <a:xfrm>
                <a:off x="3955680" y="79171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4003200" y="79171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1" name=""/>
            <p:cNvSpPr/>
            <p:nvPr/>
          </p:nvSpPr>
          <p:spPr>
            <a:xfrm>
              <a:off x="3901680" y="81360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073400" y="813456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911400" y="7898040"/>
              <a:ext cx="0" cy="7596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114800" y="835344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114800" y="782964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809880" y="721044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7" name=""/>
          <p:cNvGrpSpPr/>
          <p:nvPr/>
        </p:nvGrpSpPr>
        <p:grpSpPr>
          <a:xfrm>
            <a:off x="961920" y="2898720"/>
            <a:ext cx="57240" cy="63360"/>
            <a:chOff x="961920" y="2898720"/>
            <a:chExt cx="57240" cy="63360"/>
          </a:xfrm>
        </p:grpSpPr>
        <p:sp>
          <p:nvSpPr>
            <p:cNvPr id="2148" name=""/>
            <p:cNvSpPr/>
            <p:nvPr/>
          </p:nvSpPr>
          <p:spPr>
            <a:xfrm>
              <a:off x="961920" y="28987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019160" y="28987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609480" y="7696080"/>
            <a:ext cx="2236680" cy="931680"/>
            <a:chOff x="609480" y="7696080"/>
            <a:chExt cx="2236680" cy="931680"/>
          </a:xfrm>
        </p:grpSpPr>
        <p:sp>
          <p:nvSpPr>
            <p:cNvPr id="2151" name=""/>
            <p:cNvSpPr/>
            <p:nvPr/>
          </p:nvSpPr>
          <p:spPr>
            <a:xfrm>
              <a:off x="609480" y="782964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54120" y="7886880"/>
              <a:ext cx="21420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85800" y="8067600"/>
              <a:ext cx="0" cy="4669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39880" y="818028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74800" y="822024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939960" y="81248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914400" y="7696080"/>
              <a:ext cx="193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cc00"/>
                  </a:solidFill>
                  <a:latin typeface="Arial"/>
                </a:rPr>
                <a:t>MANUEVER ELEMENT-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Antitank Missil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5800" y="82296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5800" y="853452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144440" y="807732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Recon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143000" y="8396280"/>
              <a:ext cx="1401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ATGM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70040" y="77533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>
              <a:off x="762120" y="7867800"/>
              <a:ext cx="144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27200" y="803268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685800" y="7858080"/>
              <a:ext cx="152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95160" y="785808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828720" y="785808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838080" y="818208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9" name=""/>
            <p:cNvGrpSpPr/>
            <p:nvPr/>
          </p:nvGrpSpPr>
          <p:grpSpPr>
            <a:xfrm>
              <a:off x="838080" y="8381880"/>
              <a:ext cx="239760" cy="245880"/>
              <a:chOff x="838080" y="8381880"/>
              <a:chExt cx="239760" cy="245880"/>
            </a:xfrm>
          </p:grpSpPr>
          <p:sp>
            <p:nvSpPr>
              <p:cNvPr id="2170" name=""/>
              <p:cNvSpPr/>
              <p:nvPr/>
            </p:nvSpPr>
            <p:spPr>
              <a:xfrm>
                <a:off x="838080" y="8434080"/>
                <a:ext cx="239760" cy="15732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866520" y="8476920"/>
                <a:ext cx="169920" cy="74520"/>
              </a:xfrm>
              <a:prstGeom prst="ellipse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996840" y="8451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3" name=""/>
              <p:cNvGrpSpPr/>
              <p:nvPr/>
            </p:nvGrpSpPr>
            <p:grpSpPr>
              <a:xfrm>
                <a:off x="914400" y="8381880"/>
                <a:ext cx="74160" cy="27000"/>
                <a:chOff x="914400" y="8381880"/>
                <a:chExt cx="74160" cy="27000"/>
              </a:xfrm>
            </p:grpSpPr>
            <p:sp>
              <p:nvSpPr>
                <p:cNvPr id="2174" name=""/>
                <p:cNvSpPr/>
                <p:nvPr/>
              </p:nvSpPr>
              <p:spPr>
                <a:xfrm>
                  <a:off x="914400" y="83818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961920" y="83818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6" name=""/>
              <p:cNvSpPr/>
              <p:nvPr/>
            </p:nvSpPr>
            <p:spPr>
              <a:xfrm flipH="1">
                <a:off x="955080" y="8464320"/>
                <a:ext cx="1800" cy="10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919080" y="8575560"/>
                <a:ext cx="68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920520" y="8461080"/>
                <a:ext cx="68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911160" y="84517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1038240" y="86007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847440" y="86007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>
            <a:off x="685800" y="60199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3" name=""/>
          <p:cNvGrpSpPr/>
          <p:nvPr/>
        </p:nvGrpSpPr>
        <p:grpSpPr>
          <a:xfrm>
            <a:off x="689040" y="4448160"/>
            <a:ext cx="2088360" cy="353160"/>
            <a:chOff x="689040" y="4448160"/>
            <a:chExt cx="2088360" cy="353160"/>
          </a:xfrm>
        </p:grpSpPr>
        <p:sp>
          <p:nvSpPr>
            <p:cNvPr id="2184" name=""/>
            <p:cNvSpPr/>
            <p:nvPr/>
          </p:nvSpPr>
          <p:spPr>
            <a:xfrm>
              <a:off x="689040" y="46404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5" name=""/>
            <p:cNvGrpSpPr/>
            <p:nvPr/>
          </p:nvGrpSpPr>
          <p:grpSpPr>
            <a:xfrm>
              <a:off x="838080" y="4448160"/>
              <a:ext cx="303120" cy="304920"/>
              <a:chOff x="838080" y="4448160"/>
              <a:chExt cx="303120" cy="304920"/>
            </a:xfrm>
          </p:grpSpPr>
          <p:sp>
            <p:nvSpPr>
              <p:cNvPr id="2186" name=""/>
              <p:cNvSpPr/>
              <p:nvPr/>
            </p:nvSpPr>
            <p:spPr>
              <a:xfrm>
                <a:off x="838080" y="4524480"/>
                <a:ext cx="303120" cy="22860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882360" y="4581720"/>
                <a:ext cx="214200" cy="109440"/>
              </a:xfrm>
              <a:prstGeom prst="ellipse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998280" y="444816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H="1">
                <a:off x="990360" y="4562640"/>
                <a:ext cx="1440" cy="152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955440" y="4727520"/>
                <a:ext cx="68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914040" y="4552920"/>
                <a:ext cx="1526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923760" y="4552920"/>
                <a:ext cx="0" cy="152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1056960" y="4552920"/>
                <a:ext cx="0" cy="152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4" name=""/>
            <p:cNvSpPr/>
            <p:nvPr/>
          </p:nvSpPr>
          <p:spPr>
            <a:xfrm>
              <a:off x="1171800" y="4464000"/>
              <a:ext cx="160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-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Antitank Missile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5" name=""/>
          <p:cNvSpPr/>
          <p:nvPr/>
        </p:nvSpPr>
        <p:spPr>
          <a:xfrm>
            <a:off x="3990960" y="48006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3990960" y="45813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7" name=""/>
          <p:cNvGrpSpPr/>
          <p:nvPr/>
        </p:nvGrpSpPr>
        <p:grpSpPr>
          <a:xfrm>
            <a:off x="3886200" y="6800760"/>
            <a:ext cx="239760" cy="157320"/>
            <a:chOff x="3886200" y="6800760"/>
            <a:chExt cx="239760" cy="157320"/>
          </a:xfrm>
        </p:grpSpPr>
        <p:sp>
          <p:nvSpPr>
            <p:cNvPr id="2198" name=""/>
            <p:cNvSpPr/>
            <p:nvPr/>
          </p:nvSpPr>
          <p:spPr>
            <a:xfrm>
              <a:off x="3886200" y="680076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000320" y="68533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968640" y="684360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924360" y="6929280"/>
              <a:ext cx="153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000320" y="6805440"/>
              <a:ext cx="76320" cy="7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H="1">
              <a:off x="3924000" y="6805440"/>
              <a:ext cx="75960" cy="76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533520" y="279000"/>
            <a:ext cx="5829120" cy="4827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yptian Tables of Organiz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antry Division –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898800" y="41860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935520" y="422100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898800" y="272088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929040" y="2790720"/>
            <a:ext cx="21420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838080" y="580860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847800" y="490392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681120" y="1201680"/>
            <a:ext cx="0" cy="260820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530280" y="97308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830160" y="1523880"/>
            <a:ext cx="3049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861840" y="1555920"/>
            <a:ext cx="241560" cy="16164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982800" y="19242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982800" y="1762200"/>
            <a:ext cx="1440" cy="1681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1247760" y="17906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982800" y="14479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833400" y="29718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879480" y="302904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685800" y="25588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676440" y="30765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77880" y="16002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834840" y="820800"/>
            <a:ext cx="221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BATTLEGROUP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Infantry Brigade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1133640" y="137160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igade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1366200" y="168588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350720" y="2016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T-62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1217880" y="26812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1140120" y="28638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Tank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1193760" y="3886200"/>
            <a:ext cx="157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89040" y="50198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835200" y="24066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90480" y="380988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1139040" y="233028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G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Mechanized Infantry Battal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833400" y="369108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 flipH="1">
            <a:off x="953640" y="371304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917640" y="381636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8" name=""/>
          <p:cNvGrpSpPr/>
          <p:nvPr/>
        </p:nvGrpSpPr>
        <p:grpSpPr>
          <a:xfrm>
            <a:off x="915840" y="3614760"/>
            <a:ext cx="74880" cy="27000"/>
            <a:chOff x="915840" y="3614760"/>
            <a:chExt cx="74880" cy="27000"/>
          </a:xfrm>
        </p:grpSpPr>
        <p:sp>
          <p:nvSpPr>
            <p:cNvPr id="2239" name=""/>
            <p:cNvSpPr/>
            <p:nvPr/>
          </p:nvSpPr>
          <p:spPr>
            <a:xfrm>
              <a:off x="915840" y="36147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963720" y="36147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1" name=""/>
          <p:cNvSpPr/>
          <p:nvPr/>
        </p:nvSpPr>
        <p:spPr>
          <a:xfrm>
            <a:off x="681120" y="3809880"/>
            <a:ext cx="0" cy="213372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1168920" y="3581280"/>
            <a:ext cx="19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3 Off-board Direct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Company (12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35200" y="33210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1140480" y="324468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-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 Armored Reconnaissance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136520" y="20923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1157400" y="22557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7" name=""/>
          <p:cNvGrpSpPr/>
          <p:nvPr/>
        </p:nvGrpSpPr>
        <p:grpSpPr>
          <a:xfrm>
            <a:off x="1211400" y="2036880"/>
            <a:ext cx="74160" cy="27000"/>
            <a:chOff x="1211400" y="2036880"/>
            <a:chExt cx="74160" cy="27000"/>
          </a:xfrm>
        </p:grpSpPr>
        <p:sp>
          <p:nvSpPr>
            <p:cNvPr id="2248" name=""/>
            <p:cNvSpPr/>
            <p:nvPr/>
          </p:nvSpPr>
          <p:spPr>
            <a:xfrm>
              <a:off x="1211400" y="20368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258920" y="20368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0" name=""/>
          <p:cNvSpPr/>
          <p:nvPr/>
        </p:nvSpPr>
        <p:spPr>
          <a:xfrm>
            <a:off x="1314360" y="22622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1" name=""/>
          <p:cNvGrpSpPr/>
          <p:nvPr/>
        </p:nvGrpSpPr>
        <p:grpSpPr>
          <a:xfrm>
            <a:off x="609480" y="6248520"/>
            <a:ext cx="2032920" cy="1068120"/>
            <a:chOff x="609480" y="6248520"/>
            <a:chExt cx="2032920" cy="1068120"/>
          </a:xfrm>
        </p:grpSpPr>
        <p:sp>
          <p:nvSpPr>
            <p:cNvPr id="2252" name=""/>
            <p:cNvSpPr/>
            <p:nvPr/>
          </p:nvSpPr>
          <p:spPr>
            <a:xfrm>
              <a:off x="685800" y="6610320"/>
              <a:ext cx="0" cy="60948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839520" y="683424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874440" y="687384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939600" y="6778800"/>
              <a:ext cx="288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918000" y="6248520"/>
              <a:ext cx="172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cc00"/>
                  </a:solidFill>
                  <a:latin typeface="Arial"/>
                </a:rPr>
                <a:t>MANUEVER ELEMENT-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Tank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09480" y="638172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53760" y="6438960"/>
              <a:ext cx="21456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85800" y="691524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85800" y="72198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838080" y="713916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873000" y="717876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3" name=""/>
            <p:cNvGrpSpPr/>
            <p:nvPr/>
          </p:nvGrpSpPr>
          <p:grpSpPr>
            <a:xfrm>
              <a:off x="909360" y="7083360"/>
              <a:ext cx="74880" cy="27000"/>
              <a:chOff x="909360" y="7083360"/>
              <a:chExt cx="74880" cy="27000"/>
            </a:xfrm>
          </p:grpSpPr>
          <p:sp>
            <p:nvSpPr>
              <p:cNvPr id="2264" name=""/>
              <p:cNvSpPr/>
              <p:nvPr/>
            </p:nvSpPr>
            <p:spPr>
              <a:xfrm>
                <a:off x="909360" y="70833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957240" y="70833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6" name=""/>
            <p:cNvSpPr/>
            <p:nvPr/>
          </p:nvSpPr>
          <p:spPr>
            <a:xfrm>
              <a:off x="1144440" y="6730920"/>
              <a:ext cx="139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55A Main Battle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144440" y="7101000"/>
              <a:ext cx="139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-55A Main Battle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8" name=""/>
            <p:cNvGrpSpPr/>
            <p:nvPr/>
          </p:nvGrpSpPr>
          <p:grpSpPr>
            <a:xfrm>
              <a:off x="731880" y="6305400"/>
              <a:ext cx="56880" cy="63360"/>
              <a:chOff x="731880" y="6305400"/>
              <a:chExt cx="56880" cy="63360"/>
            </a:xfrm>
          </p:grpSpPr>
          <p:sp>
            <p:nvSpPr>
              <p:cNvPr id="2269" name=""/>
              <p:cNvSpPr/>
              <p:nvPr/>
            </p:nvSpPr>
            <p:spPr>
              <a:xfrm>
                <a:off x="731880" y="63054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88760" y="63054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71" name=""/>
          <p:cNvSpPr/>
          <p:nvPr/>
        </p:nvSpPr>
        <p:spPr>
          <a:xfrm>
            <a:off x="1143000" y="184320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1155600" y="1843200"/>
            <a:ext cx="2415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1168560" y="201132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 flipH="1">
            <a:off x="985320" y="4973760"/>
            <a:ext cx="1800" cy="99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949320" y="508464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1173960" y="4799160"/>
            <a:ext cx="189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4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Battery (16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85800" y="54673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1185840" y="5254560"/>
            <a:ext cx="216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6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85800" y="59245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1185840" y="5713560"/>
            <a:ext cx="216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7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7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685800" y="3429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2" name=""/>
          <p:cNvGrpSpPr/>
          <p:nvPr/>
        </p:nvGrpSpPr>
        <p:grpSpPr>
          <a:xfrm>
            <a:off x="952560" y="2330280"/>
            <a:ext cx="57240" cy="63360"/>
            <a:chOff x="952560" y="2330280"/>
            <a:chExt cx="57240" cy="63360"/>
          </a:xfrm>
        </p:grpSpPr>
        <p:sp>
          <p:nvSpPr>
            <p:cNvPr id="2283" name=""/>
            <p:cNvSpPr/>
            <p:nvPr/>
          </p:nvSpPr>
          <p:spPr>
            <a:xfrm>
              <a:off x="952560" y="23302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009800" y="23302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5" name=""/>
          <p:cNvGrpSpPr/>
          <p:nvPr/>
        </p:nvGrpSpPr>
        <p:grpSpPr>
          <a:xfrm>
            <a:off x="685800" y="4038480"/>
            <a:ext cx="2205360" cy="337320"/>
            <a:chOff x="685800" y="4038480"/>
            <a:chExt cx="2205360" cy="337320"/>
          </a:xfrm>
        </p:grpSpPr>
        <p:sp>
          <p:nvSpPr>
            <p:cNvPr id="2286" name=""/>
            <p:cNvSpPr/>
            <p:nvPr/>
          </p:nvSpPr>
          <p:spPr>
            <a:xfrm>
              <a:off x="838080" y="411480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57160" y="4152960"/>
              <a:ext cx="257400" cy="13176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171080" y="4038480"/>
              <a:ext cx="172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ME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1 Armored Engineer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895320" y="4191120"/>
              <a:ext cx="19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903240" y="419112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988920" y="419112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074600" y="419112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990720" y="40384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85800" y="422928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5" name=""/>
          <p:cNvGrpSpPr/>
          <p:nvPr/>
        </p:nvGrpSpPr>
        <p:grpSpPr>
          <a:xfrm>
            <a:off x="647280" y="885960"/>
            <a:ext cx="76320" cy="75960"/>
            <a:chOff x="647280" y="885960"/>
            <a:chExt cx="76320" cy="75960"/>
          </a:xfrm>
        </p:grpSpPr>
        <p:sp>
          <p:nvSpPr>
            <p:cNvPr id="2296" name=""/>
            <p:cNvSpPr/>
            <p:nvPr/>
          </p:nvSpPr>
          <p:spPr>
            <a:xfrm flipH="1">
              <a:off x="647280" y="8859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47640" y="8859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8" name=""/>
          <p:cNvSpPr/>
          <p:nvPr/>
        </p:nvSpPr>
        <p:spPr>
          <a:xfrm>
            <a:off x="3872880" y="822240"/>
            <a:ext cx="229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BATTLEGROUP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Infantry Battalion 19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838080" y="53323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990720" y="48308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990720" y="52624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990720" y="57326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942840" y="5408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952560" y="588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3581280" y="9907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6" name=""/>
          <p:cNvGrpSpPr/>
          <p:nvPr/>
        </p:nvGrpSpPr>
        <p:grpSpPr>
          <a:xfrm>
            <a:off x="3708360" y="914400"/>
            <a:ext cx="57240" cy="63360"/>
            <a:chOff x="3708360" y="914400"/>
            <a:chExt cx="57240" cy="63360"/>
          </a:xfrm>
        </p:grpSpPr>
        <p:sp>
          <p:nvSpPr>
            <p:cNvPr id="2307" name=""/>
            <p:cNvSpPr/>
            <p:nvPr/>
          </p:nvSpPr>
          <p:spPr>
            <a:xfrm>
              <a:off x="3708360" y="914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3765600" y="9144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9" name=""/>
          <p:cNvSpPr/>
          <p:nvPr/>
        </p:nvSpPr>
        <p:spPr>
          <a:xfrm>
            <a:off x="3736800" y="1238400"/>
            <a:ext cx="0" cy="19713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3746520" y="28386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4002120" y="14050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898800" y="312912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889440" y="1324080"/>
            <a:ext cx="30456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921120" y="1355760"/>
            <a:ext cx="241200" cy="16200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4041720" y="17240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041720" y="1562040"/>
            <a:ext cx="1800" cy="1684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307040" y="15908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041720" y="12477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736800" y="140004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192920" y="117144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talion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4425120" y="148608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2" name=""/>
          <p:cNvGrpSpPr/>
          <p:nvPr/>
        </p:nvGrpSpPr>
        <p:grpSpPr>
          <a:xfrm>
            <a:off x="4308480" y="1855800"/>
            <a:ext cx="74160" cy="27000"/>
            <a:chOff x="4308480" y="1855800"/>
            <a:chExt cx="74160" cy="27000"/>
          </a:xfrm>
        </p:grpSpPr>
        <p:sp>
          <p:nvSpPr>
            <p:cNvPr id="2323" name=""/>
            <p:cNvSpPr/>
            <p:nvPr/>
          </p:nvSpPr>
          <p:spPr>
            <a:xfrm>
              <a:off x="4308480" y="18558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356000" y="18558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5" name=""/>
          <p:cNvSpPr/>
          <p:nvPr/>
        </p:nvSpPr>
        <p:spPr>
          <a:xfrm>
            <a:off x="4202280" y="1643040"/>
            <a:ext cx="23940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4214880" y="1643040"/>
            <a:ext cx="241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227480" y="181116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4302360" y="215280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MANEUVER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736800" y="250200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886200" y="23814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189680" y="2305080"/>
            <a:ext cx="179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Mechanized Infantry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4041720" y="23050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4314600" y="2928960"/>
            <a:ext cx="94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4000680" y="28735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4194000" y="2610000"/>
            <a:ext cx="197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S-02 Organic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rmor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ortar Company (82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4041720" y="26478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3736800" y="320976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4207680" y="3081240"/>
            <a:ext cx="15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lyutka (Sagger) ATG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3736800" y="3200400"/>
            <a:ext cx="0" cy="144792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321080" y="3581280"/>
            <a:ext cx="157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cc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887640" y="45259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735360" y="46497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4270320" y="4419720"/>
            <a:ext cx="215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S-05 Off-board General Fir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Howitzer Battery (122mm M 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 per divis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4040280" y="44496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002120" y="4602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192920" y="4129200"/>
            <a:ext cx="149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ZSU-57/2 Antiaircaft Gu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3746520" y="42670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3724200" y="396252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H="1">
            <a:off x="3933720" y="421956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3971880" y="4257720"/>
            <a:ext cx="9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 flipH="1">
            <a:off x="4006440" y="315900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979800" y="327024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981600" y="31561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971880" y="31464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4057560" y="31464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971880" y="31878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4057560" y="31845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571680" y="102888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33520" y="971640"/>
            <a:ext cx="3045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 flipV="1">
            <a:off x="533520" y="97272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1173240" y="213372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876240" y="247176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835200" y="2406240"/>
            <a:ext cx="29844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833400" y="240660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5" name=""/>
          <p:cNvGrpSpPr/>
          <p:nvPr/>
        </p:nvGrpSpPr>
        <p:grpSpPr>
          <a:xfrm>
            <a:off x="961920" y="2898720"/>
            <a:ext cx="57240" cy="63360"/>
            <a:chOff x="961920" y="2898720"/>
            <a:chExt cx="57240" cy="63360"/>
          </a:xfrm>
        </p:grpSpPr>
        <p:sp>
          <p:nvSpPr>
            <p:cNvPr id="2366" name=""/>
            <p:cNvSpPr/>
            <p:nvPr/>
          </p:nvSpPr>
          <p:spPr>
            <a:xfrm>
              <a:off x="961920" y="28987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1019160" y="28987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8" name=""/>
          <p:cNvSpPr/>
          <p:nvPr/>
        </p:nvSpPr>
        <p:spPr>
          <a:xfrm>
            <a:off x="1000080" y="324792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876240" y="338616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 flipV="1">
            <a:off x="838080" y="331956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1171440" y="227664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929040" y="2438280"/>
            <a:ext cx="21420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3624120" y="1047600"/>
            <a:ext cx="21456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584520" y="988920"/>
            <a:ext cx="304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 flipV="1">
            <a:off x="3584520" y="99072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4422600" y="17971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T-62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218120" y="190512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4238640" y="20685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4386240" y="20653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4254480" y="194616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4267080" y="208908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 flipV="1">
            <a:off x="3886200" y="238140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3884760" y="2390760"/>
            <a:ext cx="30456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4038480" y="28004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3895560" y="38419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941640" y="3898800"/>
            <a:ext cx="21456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4203000" y="3733920"/>
            <a:ext cx="130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Assault Gun Batt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4057560" y="37688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4029120" y="39369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0" name=""/>
          <p:cNvGrpSpPr/>
          <p:nvPr/>
        </p:nvGrpSpPr>
        <p:grpSpPr>
          <a:xfrm>
            <a:off x="3984480" y="3325680"/>
            <a:ext cx="74880" cy="27000"/>
            <a:chOff x="3984480" y="3325680"/>
            <a:chExt cx="74880" cy="27000"/>
          </a:xfrm>
        </p:grpSpPr>
        <p:sp>
          <p:nvSpPr>
            <p:cNvPr id="2391" name=""/>
            <p:cNvSpPr/>
            <p:nvPr/>
          </p:nvSpPr>
          <p:spPr>
            <a:xfrm>
              <a:off x="3984480" y="33256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032360" y="33256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3" name=""/>
          <p:cNvSpPr/>
          <p:nvPr/>
        </p:nvSpPr>
        <p:spPr>
          <a:xfrm>
            <a:off x="3922560" y="3300480"/>
            <a:ext cx="0" cy="7596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4203720" y="324468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T-62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3903840" y="3375000"/>
            <a:ext cx="23940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924360" y="35384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4071960" y="35352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940200" y="341640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952800" y="35593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4019400" y="421956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3933720" y="435456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4081320" y="43513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3962520" y="4375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4" name=""/>
          <p:cNvGrpSpPr/>
          <p:nvPr/>
        </p:nvGrpSpPr>
        <p:grpSpPr>
          <a:xfrm>
            <a:off x="3971880" y="3067200"/>
            <a:ext cx="74160" cy="27000"/>
            <a:chOff x="3971880" y="3067200"/>
            <a:chExt cx="74160" cy="27000"/>
          </a:xfrm>
        </p:grpSpPr>
        <p:sp>
          <p:nvSpPr>
            <p:cNvPr id="2405" name=""/>
            <p:cNvSpPr/>
            <p:nvPr/>
          </p:nvSpPr>
          <p:spPr>
            <a:xfrm>
              <a:off x="3971880" y="30672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019400" y="30672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7" name=""/>
          <p:cNvSpPr/>
          <p:nvPr/>
        </p:nvSpPr>
        <p:spPr>
          <a:xfrm>
            <a:off x="3732120" y="5343480"/>
            <a:ext cx="1800" cy="7621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3581280" y="51055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3733920" y="50292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3986280" y="54388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3886200" y="548496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3732120" y="555300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3886560" y="4952880"/>
            <a:ext cx="201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MANUEVER ELEMENT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zed 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4220640" y="5334120"/>
            <a:ext cx="88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898800" y="5484960"/>
            <a:ext cx="2415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4204080" y="6013440"/>
            <a:ext cx="88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M-7 A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7" name=""/>
          <p:cNvGrpSpPr/>
          <p:nvPr/>
        </p:nvGrpSpPr>
        <p:grpSpPr>
          <a:xfrm>
            <a:off x="3889440" y="5697360"/>
            <a:ext cx="241200" cy="212760"/>
            <a:chOff x="3889440" y="5697360"/>
            <a:chExt cx="241200" cy="212760"/>
          </a:xfrm>
        </p:grpSpPr>
        <p:sp>
          <p:nvSpPr>
            <p:cNvPr id="2418" name=""/>
            <p:cNvSpPr/>
            <p:nvPr/>
          </p:nvSpPr>
          <p:spPr>
            <a:xfrm>
              <a:off x="3890880" y="575316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9" name=""/>
            <p:cNvGrpSpPr/>
            <p:nvPr/>
          </p:nvGrpSpPr>
          <p:grpSpPr>
            <a:xfrm>
              <a:off x="3971880" y="5697360"/>
              <a:ext cx="74880" cy="27000"/>
              <a:chOff x="3971880" y="5697360"/>
              <a:chExt cx="74880" cy="27000"/>
            </a:xfrm>
          </p:grpSpPr>
          <p:sp>
            <p:nvSpPr>
              <p:cNvPr id="2420" name=""/>
              <p:cNvSpPr/>
              <p:nvPr/>
            </p:nvSpPr>
            <p:spPr>
              <a:xfrm>
                <a:off x="3971880" y="56973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4019760" y="56973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2" name=""/>
            <p:cNvSpPr/>
            <p:nvPr/>
          </p:nvSpPr>
          <p:spPr>
            <a:xfrm flipV="1">
              <a:off x="3890880" y="575316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889440" y="5753160"/>
              <a:ext cx="24120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4" name=""/>
          <p:cNvGrpSpPr/>
          <p:nvPr/>
        </p:nvGrpSpPr>
        <p:grpSpPr>
          <a:xfrm>
            <a:off x="3962520" y="5975280"/>
            <a:ext cx="74160" cy="27000"/>
            <a:chOff x="3962520" y="5975280"/>
            <a:chExt cx="74160" cy="27000"/>
          </a:xfrm>
        </p:grpSpPr>
        <p:sp>
          <p:nvSpPr>
            <p:cNvPr id="2425" name=""/>
            <p:cNvSpPr/>
            <p:nvPr/>
          </p:nvSpPr>
          <p:spPr>
            <a:xfrm>
              <a:off x="3962520" y="59752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010040" y="59752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7" name=""/>
          <p:cNvSpPr/>
          <p:nvPr/>
        </p:nvSpPr>
        <p:spPr>
          <a:xfrm>
            <a:off x="4210560" y="5730840"/>
            <a:ext cx="81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9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antry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3581280" y="649116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Up to six with  RPG-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3733920" y="58388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733920" y="61070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3624120" y="5157720"/>
            <a:ext cx="21456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3581280" y="5105520"/>
            <a:ext cx="30492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 flipV="1">
            <a:off x="3581280" y="5105520"/>
            <a:ext cx="29844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4" name=""/>
          <p:cNvGrpSpPr/>
          <p:nvPr/>
        </p:nvGrpSpPr>
        <p:grpSpPr>
          <a:xfrm>
            <a:off x="3984480" y="6240600"/>
            <a:ext cx="74880" cy="27000"/>
            <a:chOff x="3984480" y="6240600"/>
            <a:chExt cx="74880" cy="27000"/>
          </a:xfrm>
        </p:grpSpPr>
        <p:sp>
          <p:nvSpPr>
            <p:cNvPr id="2435" name=""/>
            <p:cNvSpPr/>
            <p:nvPr/>
          </p:nvSpPr>
          <p:spPr>
            <a:xfrm>
              <a:off x="3984480" y="62406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032360" y="62406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7" name=""/>
          <p:cNvSpPr/>
          <p:nvPr/>
        </p:nvSpPr>
        <p:spPr>
          <a:xfrm>
            <a:off x="3922560" y="6215040"/>
            <a:ext cx="0" cy="76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203720" y="61722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T-62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3903840" y="6289560"/>
            <a:ext cx="23940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3924360" y="6453360"/>
            <a:ext cx="28440" cy="26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4071960" y="64501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3940200" y="633096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3952800" y="647388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4" name=""/>
          <p:cNvGrpSpPr/>
          <p:nvPr/>
        </p:nvGrpSpPr>
        <p:grpSpPr>
          <a:xfrm>
            <a:off x="3657600" y="6743880"/>
            <a:ext cx="2095560" cy="1792080"/>
            <a:chOff x="3657600" y="6743880"/>
            <a:chExt cx="2095560" cy="1792080"/>
          </a:xfrm>
        </p:grpSpPr>
        <p:sp>
          <p:nvSpPr>
            <p:cNvPr id="2445" name=""/>
            <p:cNvSpPr/>
            <p:nvPr/>
          </p:nvSpPr>
          <p:spPr>
            <a:xfrm>
              <a:off x="3732120" y="7867800"/>
              <a:ext cx="15192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657600" y="684540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961440" y="6743880"/>
              <a:ext cx="1791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cc00"/>
                  </a:solidFill>
                  <a:latin typeface="Arial"/>
                </a:rPr>
                <a:t>MANUEVER ELEMENT-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connaissanc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4000320" y="723600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885840" y="7291440"/>
              <a:ext cx="23940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732120" y="7359840"/>
              <a:ext cx="15192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115520" y="7131240"/>
              <a:ext cx="88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898800" y="7291440"/>
              <a:ext cx="2408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119120" y="8053560"/>
              <a:ext cx="1400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Recon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3885840" y="7815240"/>
              <a:ext cx="23940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5" name=""/>
            <p:cNvGrpSpPr/>
            <p:nvPr/>
          </p:nvGrpSpPr>
          <p:grpSpPr>
            <a:xfrm>
              <a:off x="3966840" y="7759800"/>
              <a:ext cx="73800" cy="27000"/>
              <a:chOff x="3966840" y="7759800"/>
              <a:chExt cx="73800" cy="27000"/>
            </a:xfrm>
          </p:grpSpPr>
          <p:sp>
            <p:nvSpPr>
              <p:cNvPr id="2456" name=""/>
              <p:cNvSpPr/>
              <p:nvPr/>
            </p:nvSpPr>
            <p:spPr>
              <a:xfrm>
                <a:off x="3966840" y="77598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4014000" y="77598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8" name=""/>
            <p:cNvSpPr/>
            <p:nvPr/>
          </p:nvSpPr>
          <p:spPr>
            <a:xfrm flipV="1">
              <a:off x="3885840" y="7814880"/>
              <a:ext cx="23616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884400" y="7815240"/>
              <a:ext cx="24084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3890880" y="8058240"/>
              <a:ext cx="23904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1" name=""/>
            <p:cNvGrpSpPr/>
            <p:nvPr/>
          </p:nvGrpSpPr>
          <p:grpSpPr>
            <a:xfrm>
              <a:off x="3971520" y="8012160"/>
              <a:ext cx="74160" cy="27000"/>
              <a:chOff x="3971520" y="8012160"/>
              <a:chExt cx="74160" cy="27000"/>
            </a:xfrm>
          </p:grpSpPr>
          <p:sp>
            <p:nvSpPr>
              <p:cNvPr id="2462" name=""/>
              <p:cNvSpPr/>
              <p:nvPr/>
            </p:nvSpPr>
            <p:spPr>
              <a:xfrm>
                <a:off x="3971520" y="80121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4019040" y="80121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4" name=""/>
            <p:cNvSpPr/>
            <p:nvPr/>
          </p:nvSpPr>
          <p:spPr>
            <a:xfrm>
              <a:off x="3908160" y="822168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079520" y="82202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4114440" y="7783560"/>
              <a:ext cx="1214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fantry with RPG-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3917880" y="7983720"/>
              <a:ext cx="0" cy="763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3732120" y="7086600"/>
              <a:ext cx="0" cy="13147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884400" y="7534440"/>
              <a:ext cx="23940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0" name=""/>
            <p:cNvGrpSpPr/>
            <p:nvPr/>
          </p:nvGrpSpPr>
          <p:grpSpPr>
            <a:xfrm>
              <a:off x="3965400" y="7488360"/>
              <a:ext cx="73800" cy="27000"/>
              <a:chOff x="3965400" y="7488360"/>
              <a:chExt cx="73800" cy="27000"/>
            </a:xfrm>
          </p:grpSpPr>
          <p:sp>
            <p:nvSpPr>
              <p:cNvPr id="2471" name=""/>
              <p:cNvSpPr/>
              <p:nvPr/>
            </p:nvSpPr>
            <p:spPr>
              <a:xfrm>
                <a:off x="3965400" y="74883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4012560" y="748836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3" name=""/>
            <p:cNvSpPr/>
            <p:nvPr/>
          </p:nvSpPr>
          <p:spPr>
            <a:xfrm>
              <a:off x="3901680" y="76978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073400" y="7696440"/>
              <a:ext cx="2808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3911400" y="7459920"/>
              <a:ext cx="0" cy="7596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114800" y="793440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114800" y="7391520"/>
              <a:ext cx="61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3809880" y="677232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3705120" y="6910560"/>
              <a:ext cx="21384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V="1">
              <a:off x="3662280" y="6848280"/>
              <a:ext cx="29808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925800" y="8096400"/>
              <a:ext cx="16920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 flipV="1">
              <a:off x="3885840" y="8058240"/>
              <a:ext cx="23616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4115880" y="7529760"/>
              <a:ext cx="1400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Recon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3924000" y="7572600"/>
              <a:ext cx="16956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V="1">
              <a:off x="3885840" y="7534440"/>
              <a:ext cx="23616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890880" y="8344080"/>
              <a:ext cx="23904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7" name=""/>
            <p:cNvGrpSpPr/>
            <p:nvPr/>
          </p:nvGrpSpPr>
          <p:grpSpPr>
            <a:xfrm>
              <a:off x="3971520" y="8298000"/>
              <a:ext cx="74160" cy="27000"/>
              <a:chOff x="3971520" y="8298000"/>
              <a:chExt cx="74160" cy="27000"/>
            </a:xfrm>
          </p:grpSpPr>
          <p:sp>
            <p:nvSpPr>
              <p:cNvPr id="2488" name=""/>
              <p:cNvSpPr/>
              <p:nvPr/>
            </p:nvSpPr>
            <p:spPr>
              <a:xfrm>
                <a:off x="3971520" y="829800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4019040" y="829800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0" name=""/>
            <p:cNvSpPr/>
            <p:nvPr/>
          </p:nvSpPr>
          <p:spPr>
            <a:xfrm>
              <a:off x="3925800" y="8382240"/>
              <a:ext cx="16920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flipV="1">
              <a:off x="3885840" y="8344080"/>
              <a:ext cx="23616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116960" y="8320320"/>
              <a:ext cx="1174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T-76B Light Ta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733560" y="8401320"/>
              <a:ext cx="15192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4" name=""/>
          <p:cNvGrpSpPr/>
          <p:nvPr/>
        </p:nvGrpSpPr>
        <p:grpSpPr>
          <a:xfrm>
            <a:off x="609480" y="7467480"/>
            <a:ext cx="2236680" cy="931680"/>
            <a:chOff x="609480" y="7467480"/>
            <a:chExt cx="2236680" cy="931680"/>
          </a:xfrm>
        </p:grpSpPr>
        <p:sp>
          <p:nvSpPr>
            <p:cNvPr id="2495" name=""/>
            <p:cNvSpPr/>
            <p:nvPr/>
          </p:nvSpPr>
          <p:spPr>
            <a:xfrm>
              <a:off x="609480" y="7601040"/>
              <a:ext cx="30348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54120" y="7658280"/>
              <a:ext cx="214200" cy="10944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85800" y="7839000"/>
              <a:ext cx="0" cy="46692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39880" y="7951680"/>
              <a:ext cx="239760" cy="15732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74800" y="7991640"/>
              <a:ext cx="169920" cy="7452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939960" y="78962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914400" y="7467480"/>
              <a:ext cx="193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cc00"/>
                  </a:solidFill>
                  <a:latin typeface="Arial"/>
                </a:rPr>
                <a:t>MANUEVER ELEMENT-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Antitank Missile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85800" y="800100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85800" y="8305920"/>
              <a:ext cx="152280" cy="0"/>
            </a:xfrm>
            <a:prstGeom prst="line">
              <a:avLst/>
            </a:prstGeom>
            <a:ln w="19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144440" y="784872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Recon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143000" y="8167680"/>
              <a:ext cx="1401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RDM-2 ATGM Vehi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70040" y="75247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H="1">
              <a:off x="762120" y="7639200"/>
              <a:ext cx="144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27200" y="7804080"/>
              <a:ext cx="68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85800" y="7629480"/>
              <a:ext cx="152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95160" y="762948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828720" y="7629480"/>
              <a:ext cx="0" cy="152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V="1">
              <a:off x="838080" y="7953480"/>
              <a:ext cx="23652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3" name=""/>
            <p:cNvGrpSpPr/>
            <p:nvPr/>
          </p:nvGrpSpPr>
          <p:grpSpPr>
            <a:xfrm>
              <a:off x="838080" y="8153280"/>
              <a:ext cx="239760" cy="245880"/>
              <a:chOff x="838080" y="8153280"/>
              <a:chExt cx="239760" cy="245880"/>
            </a:xfrm>
          </p:grpSpPr>
          <p:sp>
            <p:nvSpPr>
              <p:cNvPr id="2514" name=""/>
              <p:cNvSpPr/>
              <p:nvPr/>
            </p:nvSpPr>
            <p:spPr>
              <a:xfrm>
                <a:off x="838080" y="8205480"/>
                <a:ext cx="239760" cy="15732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866520" y="8248320"/>
                <a:ext cx="169920" cy="74520"/>
              </a:xfrm>
              <a:prstGeom prst="ellipse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996840" y="82231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7" name=""/>
              <p:cNvGrpSpPr/>
              <p:nvPr/>
            </p:nvGrpSpPr>
            <p:grpSpPr>
              <a:xfrm>
                <a:off x="914400" y="8153280"/>
                <a:ext cx="74160" cy="27000"/>
                <a:chOff x="914400" y="8153280"/>
                <a:chExt cx="74160" cy="27000"/>
              </a:xfrm>
            </p:grpSpPr>
            <p:sp>
              <p:nvSpPr>
                <p:cNvPr id="2518" name=""/>
                <p:cNvSpPr/>
                <p:nvPr/>
              </p:nvSpPr>
              <p:spPr>
                <a:xfrm>
                  <a:off x="914400" y="81532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961920" y="81532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0" name=""/>
              <p:cNvSpPr/>
              <p:nvPr/>
            </p:nvSpPr>
            <p:spPr>
              <a:xfrm flipH="1">
                <a:off x="955080" y="8235720"/>
                <a:ext cx="1800" cy="10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919080" y="8346960"/>
                <a:ext cx="68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920520" y="8232480"/>
                <a:ext cx="68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911160" y="82231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038240" y="837216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847440" y="837216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6" name=""/>
          <p:cNvSpPr/>
          <p:nvPr/>
        </p:nvSpPr>
        <p:spPr>
          <a:xfrm>
            <a:off x="685800" y="46116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835200" y="449568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879480" y="455292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990720" y="44197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 flipH="1">
            <a:off x="987480" y="4533840"/>
            <a:ext cx="144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952560" y="469908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911160" y="4524480"/>
            <a:ext cx="152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920880" y="4524480"/>
            <a:ext cx="0" cy="152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1054080" y="4524480"/>
            <a:ext cx="0" cy="152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1168920" y="4435560"/>
            <a:ext cx="16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-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Antitank Missile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6" name=""/>
          <p:cNvGrpSpPr/>
          <p:nvPr/>
        </p:nvGrpSpPr>
        <p:grpSpPr>
          <a:xfrm>
            <a:off x="3886200" y="6039000"/>
            <a:ext cx="239760" cy="156960"/>
            <a:chOff x="3886200" y="6039000"/>
            <a:chExt cx="239760" cy="156960"/>
          </a:xfrm>
        </p:grpSpPr>
        <p:sp>
          <p:nvSpPr>
            <p:cNvPr id="2537" name=""/>
            <p:cNvSpPr/>
            <p:nvPr/>
          </p:nvSpPr>
          <p:spPr>
            <a:xfrm>
              <a:off x="3886200" y="603900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4000320" y="609120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3968640" y="608148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3924360" y="6167160"/>
              <a:ext cx="153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4000320" y="6043320"/>
              <a:ext cx="7632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>
              <a:off x="3924000" y="6043320"/>
              <a:ext cx="7596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"/>
          <p:cNvSpPr/>
          <p:nvPr/>
        </p:nvSpPr>
        <p:spPr>
          <a:xfrm>
            <a:off x="996840" y="83948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1030320" y="845028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838080" y="3227400"/>
            <a:ext cx="0" cy="12556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1028880" y="4572000"/>
            <a:ext cx="0" cy="1522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1028880" y="4229280"/>
            <a:ext cx="0" cy="1522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1019160" y="3581280"/>
            <a:ext cx="0" cy="15264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80880" y="304920"/>
            <a:ext cx="6096240" cy="60948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yptian Tables of Organiz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antry Division –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685800" y="30114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704880" y="3049560"/>
            <a:ext cx="257040" cy="13176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024560" y="2909880"/>
            <a:ext cx="1724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cc00"/>
                </a:solidFill>
                <a:latin typeface="Arial"/>
              </a:rPr>
              <a:t>MANEUVER ELEMENT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rmored Engineer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743040" y="3087720"/>
            <a:ext cx="19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750960" y="308772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836640" y="308772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922320" y="308772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838080" y="29354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3809880" y="657864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36400" y="2357280"/>
            <a:ext cx="19364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FIRE SUPPORT ELEMENT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Battery (16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56920" y="5099040"/>
            <a:ext cx="2021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FIRE SUPPORT ELEMENT-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4156920" y="6458040"/>
            <a:ext cx="2021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FIRE SUPPORT ELEMENT-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Field Gun Battery (122mm D7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3809880" y="520236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3" name=""/>
          <p:cNvGrpSpPr/>
          <p:nvPr/>
        </p:nvGrpSpPr>
        <p:grpSpPr>
          <a:xfrm>
            <a:off x="3809880" y="2414520"/>
            <a:ext cx="303120" cy="301680"/>
            <a:chOff x="3809880" y="2414520"/>
            <a:chExt cx="303120" cy="301680"/>
          </a:xfrm>
        </p:grpSpPr>
        <p:sp>
          <p:nvSpPr>
            <p:cNvPr id="2564" name=""/>
            <p:cNvSpPr/>
            <p:nvPr/>
          </p:nvSpPr>
          <p:spPr>
            <a:xfrm>
              <a:off x="3809880" y="2487600"/>
              <a:ext cx="303120" cy="22860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>
              <a:off x="3947400" y="2557440"/>
              <a:ext cx="1800" cy="9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3911400" y="266832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3952800" y="24145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8" name=""/>
          <p:cNvSpPr/>
          <p:nvPr/>
        </p:nvSpPr>
        <p:spPr>
          <a:xfrm>
            <a:off x="3962520" y="51325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3962520" y="650232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3914640" y="5278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924360" y="6654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09880" y="38275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91840" y="3695760"/>
            <a:ext cx="20156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FIRE SUPPORT ELEMENT-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Howitzer Battery (122mm M 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3962520" y="37512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3924360" y="39038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685800" y="116856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1024560" y="1066680"/>
            <a:ext cx="1724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MANEUVER ELEMENT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gineer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743040" y="1244520"/>
            <a:ext cx="19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750960" y="124452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836640" y="124452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922320" y="124452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10922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685800" y="738972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16040" y="7459560"/>
            <a:ext cx="214200" cy="10980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787320" y="754236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984960" y="7253280"/>
            <a:ext cx="19364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cc00"/>
                </a:solidFill>
                <a:latin typeface="Arial"/>
              </a:rPr>
              <a:t>FIRE SUPPORT ELEMENT-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rmor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ortar Company (82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828720" y="73166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825480" y="74692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695160" y="630864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flipH="1">
            <a:off x="833040" y="6378480"/>
            <a:ext cx="180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97040" y="64897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994680" y="6172200"/>
            <a:ext cx="19364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FIRE SUPPORT ELEMENT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rtar Company (82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838080" y="62355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833400" y="1411200"/>
            <a:ext cx="0" cy="12556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1092240" y="15526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839880" y="16765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1210680" y="144792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4117320" y="1066680"/>
            <a:ext cx="19364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FIRE SUPPORT ELEMENT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vy Mortar Company (120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987480" y="16048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1000080" y="1604880"/>
            <a:ext cx="241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1204920" y="46483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T-62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990720" y="47242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1011240" y="48880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4" name=""/>
          <p:cNvGrpSpPr/>
          <p:nvPr/>
        </p:nvGrpSpPr>
        <p:grpSpPr>
          <a:xfrm>
            <a:off x="1065240" y="4659480"/>
            <a:ext cx="74160" cy="27000"/>
            <a:chOff x="1065240" y="4659480"/>
            <a:chExt cx="74160" cy="27000"/>
          </a:xfrm>
        </p:grpSpPr>
        <p:sp>
          <p:nvSpPr>
            <p:cNvPr id="2605" name=""/>
            <p:cNvSpPr/>
            <p:nvPr/>
          </p:nvSpPr>
          <p:spPr>
            <a:xfrm>
              <a:off x="1065240" y="46594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1112760" y="46594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7" name=""/>
          <p:cNvSpPr/>
          <p:nvPr/>
        </p:nvSpPr>
        <p:spPr>
          <a:xfrm>
            <a:off x="1168560" y="48848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1027080" y="4765680"/>
            <a:ext cx="16992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028880" y="490536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990720" y="187488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038240" y="1932120"/>
            <a:ext cx="1522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2" name=""/>
          <p:cNvGrpSpPr/>
          <p:nvPr/>
        </p:nvGrpSpPr>
        <p:grpSpPr>
          <a:xfrm>
            <a:off x="1066680" y="1828800"/>
            <a:ext cx="74880" cy="27000"/>
            <a:chOff x="1066680" y="1828800"/>
            <a:chExt cx="74880" cy="27000"/>
          </a:xfrm>
        </p:grpSpPr>
        <p:sp>
          <p:nvSpPr>
            <p:cNvPr id="2613" name=""/>
            <p:cNvSpPr/>
            <p:nvPr/>
          </p:nvSpPr>
          <p:spPr>
            <a:xfrm>
              <a:off x="1066680" y="18288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1114560" y="18288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5" name=""/>
          <p:cNvSpPr/>
          <p:nvPr/>
        </p:nvSpPr>
        <p:spPr>
          <a:xfrm>
            <a:off x="1047600" y="19414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181160" y="19414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1114560" y="19350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941400" y="1985400"/>
            <a:ext cx="35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992160" y="22320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1039680" y="2289240"/>
            <a:ext cx="152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1" name=""/>
          <p:cNvGrpSpPr/>
          <p:nvPr/>
        </p:nvGrpSpPr>
        <p:grpSpPr>
          <a:xfrm>
            <a:off x="1068480" y="2171880"/>
            <a:ext cx="74160" cy="26640"/>
            <a:chOff x="1068480" y="2171880"/>
            <a:chExt cx="74160" cy="26640"/>
          </a:xfrm>
        </p:grpSpPr>
        <p:sp>
          <p:nvSpPr>
            <p:cNvPr id="2622" name=""/>
            <p:cNvSpPr/>
            <p:nvPr/>
          </p:nvSpPr>
          <p:spPr>
            <a:xfrm>
              <a:off x="1068480" y="217188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1116000" y="2171880"/>
              <a:ext cx="266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4" name=""/>
          <p:cNvSpPr/>
          <p:nvPr/>
        </p:nvSpPr>
        <p:spPr>
          <a:xfrm>
            <a:off x="1049400" y="22986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1182600" y="22986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1116000" y="22924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941400" y="2347200"/>
            <a:ext cx="35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1028880" y="3895560"/>
            <a:ext cx="0" cy="15264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1220760" y="184320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ault Engineers-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1220760" y="220500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ault Engineers-B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1" name=""/>
          <p:cNvGrpSpPr/>
          <p:nvPr/>
        </p:nvGrpSpPr>
        <p:grpSpPr>
          <a:xfrm>
            <a:off x="990720" y="2543040"/>
            <a:ext cx="1309680" cy="242640"/>
            <a:chOff x="990720" y="2543040"/>
            <a:chExt cx="1309680" cy="242640"/>
          </a:xfrm>
        </p:grpSpPr>
        <p:grpSp>
          <p:nvGrpSpPr>
            <p:cNvPr id="2632" name=""/>
            <p:cNvGrpSpPr/>
            <p:nvPr/>
          </p:nvGrpSpPr>
          <p:grpSpPr>
            <a:xfrm>
              <a:off x="990720" y="2594160"/>
              <a:ext cx="239760" cy="156960"/>
              <a:chOff x="990720" y="2594160"/>
              <a:chExt cx="239760" cy="156960"/>
            </a:xfrm>
          </p:grpSpPr>
          <p:sp>
            <p:nvSpPr>
              <p:cNvPr id="2633" name=""/>
              <p:cNvSpPr/>
              <p:nvPr/>
            </p:nvSpPr>
            <p:spPr>
              <a:xfrm>
                <a:off x="990720" y="2594160"/>
                <a:ext cx="239760" cy="156960"/>
              </a:xfrm>
              <a:prstGeom prst="rect">
                <a:avLst/>
              </a:prstGeom>
              <a:solidFill>
                <a:srgbClr val="cc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1104840" y="264636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1073160" y="2636640"/>
                <a:ext cx="68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1028880" y="2722320"/>
                <a:ext cx="1537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1104840" y="259848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H="1">
                <a:off x="1028520" y="259848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9" name=""/>
            <p:cNvGrpSpPr/>
            <p:nvPr/>
          </p:nvGrpSpPr>
          <p:grpSpPr>
            <a:xfrm>
              <a:off x="1066680" y="2543040"/>
              <a:ext cx="74880" cy="27000"/>
              <a:chOff x="1066680" y="2543040"/>
              <a:chExt cx="74880" cy="27000"/>
            </a:xfrm>
          </p:grpSpPr>
          <p:sp>
            <p:nvSpPr>
              <p:cNvPr id="2640" name=""/>
              <p:cNvSpPr/>
              <p:nvPr/>
            </p:nvSpPr>
            <p:spPr>
              <a:xfrm>
                <a:off x="1066680" y="2543040"/>
                <a:ext cx="288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1114560" y="254304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2" name=""/>
            <p:cNvSpPr/>
            <p:nvPr/>
          </p:nvSpPr>
          <p:spPr>
            <a:xfrm>
              <a:off x="1220400" y="2570040"/>
              <a:ext cx="108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-7 Light SAM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3" name=""/>
          <p:cNvSpPr/>
          <p:nvPr/>
        </p:nvSpPr>
        <p:spPr>
          <a:xfrm>
            <a:off x="838080" y="195264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838080" y="231444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838080" y="2666880"/>
            <a:ext cx="15264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3809880" y="1165320"/>
            <a:ext cx="30348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 flipH="1">
            <a:off x="3948120" y="1235160"/>
            <a:ext cx="144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3921120" y="133668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3952800" y="10922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1096920" y="33876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844560" y="35114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1215360" y="328284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992160" y="344016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1004760" y="3440160"/>
            <a:ext cx="2415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995400" y="37321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1052640" y="3794040"/>
            <a:ext cx="1522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7" name=""/>
          <p:cNvGrpSpPr/>
          <p:nvPr/>
        </p:nvGrpSpPr>
        <p:grpSpPr>
          <a:xfrm>
            <a:off x="1066680" y="3679920"/>
            <a:ext cx="74880" cy="27000"/>
            <a:chOff x="1066680" y="3679920"/>
            <a:chExt cx="74880" cy="27000"/>
          </a:xfrm>
        </p:grpSpPr>
        <p:sp>
          <p:nvSpPr>
            <p:cNvPr id="2658" name=""/>
            <p:cNvSpPr/>
            <p:nvPr/>
          </p:nvSpPr>
          <p:spPr>
            <a:xfrm>
              <a:off x="1066680" y="367992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1114560" y="36799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0" name=""/>
          <p:cNvSpPr/>
          <p:nvPr/>
        </p:nvSpPr>
        <p:spPr>
          <a:xfrm>
            <a:off x="1057320" y="379872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1190520" y="379872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1123920" y="38019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946080" y="3839400"/>
            <a:ext cx="35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996840" y="405756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1044720" y="4114800"/>
            <a:ext cx="1522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6" name=""/>
          <p:cNvGrpSpPr/>
          <p:nvPr/>
        </p:nvGrpSpPr>
        <p:grpSpPr>
          <a:xfrm>
            <a:off x="1073160" y="4006800"/>
            <a:ext cx="74160" cy="27000"/>
            <a:chOff x="1073160" y="4006800"/>
            <a:chExt cx="74160" cy="27000"/>
          </a:xfrm>
        </p:grpSpPr>
        <p:sp>
          <p:nvSpPr>
            <p:cNvPr id="2667" name=""/>
            <p:cNvSpPr/>
            <p:nvPr/>
          </p:nvSpPr>
          <p:spPr>
            <a:xfrm>
              <a:off x="1073160" y="40068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120680" y="400680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9" name=""/>
          <p:cNvSpPr/>
          <p:nvPr/>
        </p:nvSpPr>
        <p:spPr>
          <a:xfrm>
            <a:off x="1054080" y="41241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1187280" y="41241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1120680" y="41180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946080" y="4163400"/>
            <a:ext cx="35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1225440" y="370044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ault Engineers-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1225440" y="4030560"/>
            <a:ext cx="127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ault Engineers-B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5" name=""/>
          <p:cNvGrpSpPr/>
          <p:nvPr/>
        </p:nvGrpSpPr>
        <p:grpSpPr>
          <a:xfrm>
            <a:off x="995400" y="4400640"/>
            <a:ext cx="239760" cy="156960"/>
            <a:chOff x="995400" y="4400640"/>
            <a:chExt cx="239760" cy="156960"/>
          </a:xfrm>
        </p:grpSpPr>
        <p:sp>
          <p:nvSpPr>
            <p:cNvPr id="2676" name=""/>
            <p:cNvSpPr/>
            <p:nvPr/>
          </p:nvSpPr>
          <p:spPr>
            <a:xfrm>
              <a:off x="995400" y="4400640"/>
              <a:ext cx="239760" cy="156960"/>
            </a:xfrm>
            <a:prstGeom prst="rect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1109520" y="445284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1077840" y="4443120"/>
              <a:ext cx="68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1033560" y="4528800"/>
              <a:ext cx="153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1109520" y="4404960"/>
              <a:ext cx="7632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H="1">
              <a:off x="1033200" y="4404960"/>
              <a:ext cx="75960" cy="7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2" name=""/>
          <p:cNvGrpSpPr/>
          <p:nvPr/>
        </p:nvGrpSpPr>
        <p:grpSpPr>
          <a:xfrm>
            <a:off x="1066680" y="4349880"/>
            <a:ext cx="74880" cy="27000"/>
            <a:chOff x="1066680" y="4349880"/>
            <a:chExt cx="74880" cy="27000"/>
          </a:xfrm>
        </p:grpSpPr>
        <p:sp>
          <p:nvSpPr>
            <p:cNvPr id="2683" name=""/>
            <p:cNvSpPr/>
            <p:nvPr/>
          </p:nvSpPr>
          <p:spPr>
            <a:xfrm>
              <a:off x="1066680" y="43498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1114560" y="43498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5" name=""/>
          <p:cNvSpPr/>
          <p:nvPr/>
        </p:nvSpPr>
        <p:spPr>
          <a:xfrm>
            <a:off x="1225080" y="4376880"/>
            <a:ext cx="108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-7 Light SA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843120" y="380988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843120" y="41403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843120" y="44737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704880" y="5162400"/>
            <a:ext cx="303120" cy="22860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750960" y="5219640"/>
            <a:ext cx="214200" cy="10944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1014840" y="5029200"/>
            <a:ext cx="1724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00"/>
                </a:solidFill>
                <a:latin typeface="Arial"/>
              </a:rPr>
              <a:t>MANEUVER ELEMENT-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ssault Gun Batt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866880" y="50896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838080" y="525780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847800" y="5407200"/>
            <a:ext cx="0" cy="571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1267920" y="54514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SU-100 Assault G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1000080" y="55879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7" name=""/>
          <p:cNvGrpSpPr/>
          <p:nvPr/>
        </p:nvGrpSpPr>
        <p:grpSpPr>
          <a:xfrm>
            <a:off x="1074600" y="5537160"/>
            <a:ext cx="74880" cy="27000"/>
            <a:chOff x="1074600" y="5537160"/>
            <a:chExt cx="74880" cy="27000"/>
          </a:xfrm>
        </p:grpSpPr>
        <p:sp>
          <p:nvSpPr>
            <p:cNvPr id="2698" name=""/>
            <p:cNvSpPr/>
            <p:nvPr/>
          </p:nvSpPr>
          <p:spPr>
            <a:xfrm>
              <a:off x="1074600" y="55371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1122480" y="55371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0" name=""/>
          <p:cNvSpPr/>
          <p:nvPr/>
        </p:nvSpPr>
        <p:spPr>
          <a:xfrm>
            <a:off x="1036800" y="5629320"/>
            <a:ext cx="169560" cy="7452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847800" y="56642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1267920" y="5816520"/>
            <a:ext cx="125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SU-100 Assault G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1000080" y="584532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4" name=""/>
          <p:cNvGrpSpPr/>
          <p:nvPr/>
        </p:nvGrpSpPr>
        <p:grpSpPr>
          <a:xfrm>
            <a:off x="1074600" y="5794200"/>
            <a:ext cx="74880" cy="27000"/>
            <a:chOff x="1074600" y="5794200"/>
            <a:chExt cx="74880" cy="27000"/>
          </a:xfrm>
        </p:grpSpPr>
        <p:sp>
          <p:nvSpPr>
            <p:cNvPr id="2705" name=""/>
            <p:cNvSpPr/>
            <p:nvPr/>
          </p:nvSpPr>
          <p:spPr>
            <a:xfrm>
              <a:off x="1074600" y="579420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122480" y="57942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7" name=""/>
          <p:cNvSpPr/>
          <p:nvPr/>
        </p:nvSpPr>
        <p:spPr>
          <a:xfrm>
            <a:off x="1036800" y="5886360"/>
            <a:ext cx="16956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847800" y="59594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847800" y="6548400"/>
            <a:ext cx="0" cy="5716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1267920" y="6593040"/>
            <a:ext cx="114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1000080" y="672948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2" name=""/>
          <p:cNvGrpSpPr/>
          <p:nvPr/>
        </p:nvGrpSpPr>
        <p:grpSpPr>
          <a:xfrm>
            <a:off x="1074600" y="6678720"/>
            <a:ext cx="74880" cy="27000"/>
            <a:chOff x="1074600" y="6678720"/>
            <a:chExt cx="74880" cy="27000"/>
          </a:xfrm>
        </p:grpSpPr>
        <p:sp>
          <p:nvSpPr>
            <p:cNvPr id="2713" name=""/>
            <p:cNvSpPr/>
            <p:nvPr/>
          </p:nvSpPr>
          <p:spPr>
            <a:xfrm>
              <a:off x="1074600" y="667872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122480" y="66787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5" name=""/>
          <p:cNvSpPr/>
          <p:nvPr/>
        </p:nvSpPr>
        <p:spPr>
          <a:xfrm>
            <a:off x="847800" y="680544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1266840" y="6958080"/>
            <a:ext cx="9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82mm Mor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1000080" y="69865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8" name=""/>
          <p:cNvGrpSpPr/>
          <p:nvPr/>
        </p:nvGrpSpPr>
        <p:grpSpPr>
          <a:xfrm>
            <a:off x="1074600" y="6935760"/>
            <a:ext cx="74880" cy="27000"/>
            <a:chOff x="1074600" y="6935760"/>
            <a:chExt cx="74880" cy="27000"/>
          </a:xfrm>
        </p:grpSpPr>
        <p:sp>
          <p:nvSpPr>
            <p:cNvPr id="2719" name=""/>
            <p:cNvSpPr/>
            <p:nvPr/>
          </p:nvSpPr>
          <p:spPr>
            <a:xfrm>
              <a:off x="1074600" y="69357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122480" y="69357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1" name=""/>
          <p:cNvSpPr/>
          <p:nvPr/>
        </p:nvSpPr>
        <p:spPr>
          <a:xfrm>
            <a:off x="847800" y="7101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1084320" y="709596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1122480" y="70232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1085760" y="683892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1123920" y="67658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838080" y="7634160"/>
            <a:ext cx="0" cy="82404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1298160" y="7678800"/>
            <a:ext cx="114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996840" y="781524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9" name=""/>
          <p:cNvGrpSpPr/>
          <p:nvPr/>
        </p:nvGrpSpPr>
        <p:grpSpPr>
          <a:xfrm>
            <a:off x="1076400" y="7764480"/>
            <a:ext cx="74160" cy="27000"/>
            <a:chOff x="1076400" y="7764480"/>
            <a:chExt cx="74160" cy="27000"/>
          </a:xfrm>
        </p:grpSpPr>
        <p:sp>
          <p:nvSpPr>
            <p:cNvPr id="2730" name=""/>
            <p:cNvSpPr/>
            <p:nvPr/>
          </p:nvSpPr>
          <p:spPr>
            <a:xfrm>
              <a:off x="1076400" y="77644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1123920" y="776448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2" name=""/>
          <p:cNvSpPr/>
          <p:nvPr/>
        </p:nvSpPr>
        <p:spPr>
          <a:xfrm>
            <a:off x="844560" y="789156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1296360" y="8366040"/>
            <a:ext cx="1411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T-62 SP 82mm Mor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4" name=""/>
          <p:cNvGrpSpPr/>
          <p:nvPr/>
        </p:nvGrpSpPr>
        <p:grpSpPr>
          <a:xfrm>
            <a:off x="1066680" y="8345520"/>
            <a:ext cx="74880" cy="27000"/>
            <a:chOff x="1066680" y="8345520"/>
            <a:chExt cx="74880" cy="27000"/>
          </a:xfrm>
        </p:grpSpPr>
        <p:sp>
          <p:nvSpPr>
            <p:cNvPr id="2735" name=""/>
            <p:cNvSpPr/>
            <p:nvPr/>
          </p:nvSpPr>
          <p:spPr>
            <a:xfrm>
              <a:off x="1066680" y="834552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1114560" y="83455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7" name=""/>
          <p:cNvSpPr/>
          <p:nvPr/>
        </p:nvSpPr>
        <p:spPr>
          <a:xfrm>
            <a:off x="844560" y="84582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1081080" y="850428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1114560" y="84312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1082520" y="792468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1120680" y="785160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1298520" y="8001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T-62 Armored Transpo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990720" y="807732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1011240" y="82407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5" name=""/>
          <p:cNvGrpSpPr/>
          <p:nvPr/>
        </p:nvGrpSpPr>
        <p:grpSpPr>
          <a:xfrm>
            <a:off x="1065240" y="8031240"/>
            <a:ext cx="74160" cy="27000"/>
            <a:chOff x="1065240" y="8031240"/>
            <a:chExt cx="74160" cy="27000"/>
          </a:xfrm>
        </p:grpSpPr>
        <p:sp>
          <p:nvSpPr>
            <p:cNvPr id="2746" name=""/>
            <p:cNvSpPr/>
            <p:nvPr/>
          </p:nvSpPr>
          <p:spPr>
            <a:xfrm>
              <a:off x="1065240" y="80312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1112760" y="8031240"/>
              <a:ext cx="266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8" name=""/>
          <p:cNvSpPr/>
          <p:nvPr/>
        </p:nvSpPr>
        <p:spPr>
          <a:xfrm>
            <a:off x="1168560" y="82375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1027080" y="8118360"/>
            <a:ext cx="169920" cy="74880"/>
          </a:xfrm>
          <a:prstGeom prst="ellipse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1028880" y="82580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3962520" y="1405080"/>
            <a:ext cx="0" cy="571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4382640" y="1449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4114800" y="158580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4" name=""/>
          <p:cNvGrpSpPr/>
          <p:nvPr/>
        </p:nvGrpSpPr>
        <p:grpSpPr>
          <a:xfrm>
            <a:off x="4189320" y="1535040"/>
            <a:ext cx="74880" cy="27000"/>
            <a:chOff x="4189320" y="1535040"/>
            <a:chExt cx="74880" cy="27000"/>
          </a:xfrm>
        </p:grpSpPr>
        <p:sp>
          <p:nvSpPr>
            <p:cNvPr id="2755" name=""/>
            <p:cNvSpPr/>
            <p:nvPr/>
          </p:nvSpPr>
          <p:spPr>
            <a:xfrm>
              <a:off x="4189320" y="15350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237200" y="15350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7" name=""/>
          <p:cNvSpPr/>
          <p:nvPr/>
        </p:nvSpPr>
        <p:spPr>
          <a:xfrm>
            <a:off x="3962520" y="16621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4381560" y="181440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20mm Mor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4114800" y="184320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0" name=""/>
          <p:cNvGrpSpPr/>
          <p:nvPr/>
        </p:nvGrpSpPr>
        <p:grpSpPr>
          <a:xfrm>
            <a:off x="4189320" y="1792440"/>
            <a:ext cx="74880" cy="27000"/>
            <a:chOff x="4189320" y="1792440"/>
            <a:chExt cx="74880" cy="27000"/>
          </a:xfrm>
        </p:grpSpPr>
        <p:sp>
          <p:nvSpPr>
            <p:cNvPr id="2761" name=""/>
            <p:cNvSpPr/>
            <p:nvPr/>
          </p:nvSpPr>
          <p:spPr>
            <a:xfrm>
              <a:off x="4189320" y="179244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237200" y="17924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3" name=""/>
          <p:cNvSpPr/>
          <p:nvPr/>
        </p:nvSpPr>
        <p:spPr>
          <a:xfrm>
            <a:off x="3962520" y="19573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4199040" y="195264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4237200" y="18795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4200480" y="169560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4238640" y="16225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3962520" y="2728800"/>
            <a:ext cx="0" cy="5716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4382640" y="27734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4114800" y="290988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1" name=""/>
          <p:cNvGrpSpPr/>
          <p:nvPr/>
        </p:nvGrpSpPr>
        <p:grpSpPr>
          <a:xfrm>
            <a:off x="4189320" y="2859120"/>
            <a:ext cx="74880" cy="27000"/>
            <a:chOff x="4189320" y="2859120"/>
            <a:chExt cx="74880" cy="27000"/>
          </a:xfrm>
        </p:grpSpPr>
        <p:sp>
          <p:nvSpPr>
            <p:cNvPr id="2772" name=""/>
            <p:cNvSpPr/>
            <p:nvPr/>
          </p:nvSpPr>
          <p:spPr>
            <a:xfrm>
              <a:off x="4189320" y="285912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237200" y="285912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4" name=""/>
          <p:cNvSpPr/>
          <p:nvPr/>
        </p:nvSpPr>
        <p:spPr>
          <a:xfrm>
            <a:off x="3962520" y="29862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4381560" y="3138480"/>
            <a:ext cx="98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60mm Mort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4114800" y="31669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7" name=""/>
          <p:cNvGrpSpPr/>
          <p:nvPr/>
        </p:nvGrpSpPr>
        <p:grpSpPr>
          <a:xfrm>
            <a:off x="4189320" y="3116160"/>
            <a:ext cx="74880" cy="27000"/>
            <a:chOff x="4189320" y="3116160"/>
            <a:chExt cx="74880" cy="27000"/>
          </a:xfrm>
        </p:grpSpPr>
        <p:sp>
          <p:nvSpPr>
            <p:cNvPr id="2778" name=""/>
            <p:cNvSpPr/>
            <p:nvPr/>
          </p:nvSpPr>
          <p:spPr>
            <a:xfrm>
              <a:off x="4189320" y="31161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237200" y="31161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0" name=""/>
          <p:cNvSpPr/>
          <p:nvPr/>
        </p:nvSpPr>
        <p:spPr>
          <a:xfrm>
            <a:off x="3962520" y="32814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4199040" y="32767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4237200" y="32036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4200480" y="301932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238640" y="29462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3962520" y="4071960"/>
            <a:ext cx="0" cy="571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4382640" y="41162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4114800" y="42530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8" name=""/>
          <p:cNvGrpSpPr/>
          <p:nvPr/>
        </p:nvGrpSpPr>
        <p:grpSpPr>
          <a:xfrm>
            <a:off x="4189320" y="4202280"/>
            <a:ext cx="74880" cy="27000"/>
            <a:chOff x="4189320" y="4202280"/>
            <a:chExt cx="74880" cy="27000"/>
          </a:xfrm>
        </p:grpSpPr>
        <p:sp>
          <p:nvSpPr>
            <p:cNvPr id="2789" name=""/>
            <p:cNvSpPr/>
            <p:nvPr/>
          </p:nvSpPr>
          <p:spPr>
            <a:xfrm>
              <a:off x="4189320" y="42022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237200" y="42022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1" name=""/>
          <p:cNvSpPr/>
          <p:nvPr/>
        </p:nvSpPr>
        <p:spPr>
          <a:xfrm>
            <a:off x="3962520" y="43290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4381200" y="4510080"/>
            <a:ext cx="131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22mm M38 Howitz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4114800" y="45385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4" name=""/>
          <p:cNvGrpSpPr/>
          <p:nvPr/>
        </p:nvGrpSpPr>
        <p:grpSpPr>
          <a:xfrm>
            <a:off x="4189320" y="4487760"/>
            <a:ext cx="74880" cy="27000"/>
            <a:chOff x="4189320" y="4487760"/>
            <a:chExt cx="74880" cy="27000"/>
          </a:xfrm>
        </p:grpSpPr>
        <p:sp>
          <p:nvSpPr>
            <p:cNvPr id="2795" name=""/>
            <p:cNvSpPr/>
            <p:nvPr/>
          </p:nvSpPr>
          <p:spPr>
            <a:xfrm>
              <a:off x="4189320" y="44877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237200" y="44877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7" name=""/>
          <p:cNvSpPr/>
          <p:nvPr/>
        </p:nvSpPr>
        <p:spPr>
          <a:xfrm>
            <a:off x="3962520" y="46339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4219560" y="43099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4219560" y="45957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962520" y="5443560"/>
            <a:ext cx="0" cy="57132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4382640" y="54878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4114800" y="56246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3" name=""/>
          <p:cNvGrpSpPr/>
          <p:nvPr/>
        </p:nvGrpSpPr>
        <p:grpSpPr>
          <a:xfrm>
            <a:off x="4189320" y="5573880"/>
            <a:ext cx="74880" cy="27000"/>
            <a:chOff x="4189320" y="5573880"/>
            <a:chExt cx="74880" cy="27000"/>
          </a:xfrm>
        </p:grpSpPr>
        <p:sp>
          <p:nvSpPr>
            <p:cNvPr id="2804" name=""/>
            <p:cNvSpPr/>
            <p:nvPr/>
          </p:nvSpPr>
          <p:spPr>
            <a:xfrm>
              <a:off x="4189320" y="55738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237200" y="55738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6" name=""/>
          <p:cNvSpPr/>
          <p:nvPr/>
        </p:nvSpPr>
        <p:spPr>
          <a:xfrm>
            <a:off x="3962520" y="57006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4383000" y="5881680"/>
            <a:ext cx="134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22mm D30 Field G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4114800" y="59101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9" name=""/>
          <p:cNvGrpSpPr/>
          <p:nvPr/>
        </p:nvGrpSpPr>
        <p:grpSpPr>
          <a:xfrm>
            <a:off x="4189320" y="5859360"/>
            <a:ext cx="74880" cy="27000"/>
            <a:chOff x="4189320" y="5859360"/>
            <a:chExt cx="74880" cy="27000"/>
          </a:xfrm>
        </p:grpSpPr>
        <p:sp>
          <p:nvSpPr>
            <p:cNvPr id="2810" name=""/>
            <p:cNvSpPr/>
            <p:nvPr/>
          </p:nvSpPr>
          <p:spPr>
            <a:xfrm>
              <a:off x="4189320" y="58593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237200" y="58593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2" name=""/>
          <p:cNvSpPr/>
          <p:nvPr/>
        </p:nvSpPr>
        <p:spPr>
          <a:xfrm>
            <a:off x="3962520" y="60055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4219560" y="56815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4219560" y="59673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3962520" y="6824520"/>
            <a:ext cx="0" cy="57168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4382640" y="68594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board Attach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ward Obser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4114800" y="6996240"/>
            <a:ext cx="239760" cy="1569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8" name=""/>
          <p:cNvGrpSpPr/>
          <p:nvPr/>
        </p:nvGrpSpPr>
        <p:grpSpPr>
          <a:xfrm>
            <a:off x="4189320" y="6945480"/>
            <a:ext cx="74880" cy="27000"/>
            <a:chOff x="4189320" y="6945480"/>
            <a:chExt cx="74880" cy="27000"/>
          </a:xfrm>
        </p:grpSpPr>
        <p:sp>
          <p:nvSpPr>
            <p:cNvPr id="2819" name=""/>
            <p:cNvSpPr/>
            <p:nvPr/>
          </p:nvSpPr>
          <p:spPr>
            <a:xfrm>
              <a:off x="4189320" y="694548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237200" y="69454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1" name=""/>
          <p:cNvSpPr/>
          <p:nvPr/>
        </p:nvSpPr>
        <p:spPr>
          <a:xfrm>
            <a:off x="3962520" y="707220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4383000" y="7253280"/>
            <a:ext cx="134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22mm D74 Field G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4114800" y="7281720"/>
            <a:ext cx="239760" cy="15732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4" name=""/>
          <p:cNvGrpSpPr/>
          <p:nvPr/>
        </p:nvGrpSpPr>
        <p:grpSpPr>
          <a:xfrm>
            <a:off x="4189320" y="7230960"/>
            <a:ext cx="74880" cy="27000"/>
            <a:chOff x="4189320" y="7230960"/>
            <a:chExt cx="74880" cy="27000"/>
          </a:xfrm>
        </p:grpSpPr>
        <p:sp>
          <p:nvSpPr>
            <p:cNvPr id="2825" name=""/>
            <p:cNvSpPr/>
            <p:nvPr/>
          </p:nvSpPr>
          <p:spPr>
            <a:xfrm>
              <a:off x="4189320" y="7230960"/>
              <a:ext cx="288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237200" y="72309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7" name=""/>
          <p:cNvSpPr/>
          <p:nvPr/>
        </p:nvSpPr>
        <p:spPr>
          <a:xfrm>
            <a:off x="3962520" y="7377120"/>
            <a:ext cx="152280" cy="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4219560" y="70531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4219560" y="73389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3813120" y="202572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3851280" y="335268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3813120" y="472428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3813120" y="609588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3813120" y="751212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The forward observer may be attached to 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euver el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9T11:47:54Z</dcterms:created>
  <dc:creator>Richard Mark Davies</dc:creator>
  <dc:description/>
  <dc:language>en-US</dc:language>
  <cp:lastModifiedBy>Deborah Sweaney</cp:lastModifiedBy>
  <dcterms:modified xsi:type="dcterms:W3CDTF">2004-08-04T00:14:34Z</dcterms:modified>
  <cp:revision>43</cp:revision>
  <dc:subject/>
  <dc:title>PowerPoint Presentation</dc:title>
</cp:coreProperties>
</file>