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C94-B31D-4E1B-8156-869D043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3F9-6D19-464A-8418-65FAD95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F00-B782-4698-82B2-0FD89E3F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B57-166D-4A3E-A384-E6A97BFB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C3C-BF24-4B53-A538-78C54E42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7D9-9271-4FB9-8289-35A1470A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B06-1CEC-4511-BD03-B210674B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C40-7776-4A57-B96A-AE03978B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B65-DB58-4505-B0D8-4FA5484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587-BF3F-4B32-87F3-AF9DF429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F28-6C35-490B-9202-9EF0C61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81D-4FC2-40B0-A8EE-1A07CEF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48A5-121C-430D-92A0-857F5B877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52280"/>
            <a:ext cx="640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’s Revolutionary Armed Forces of Grenad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6600" y="990720"/>
            <a:ext cx="23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 Revolutionary Army (PR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7560" y="1560600"/>
            <a:ext cx="1800" cy="1687320"/>
          </a:xfrm>
          <a:custGeom>
            <a:avLst/>
            <a:gdLst/>
            <a:ahLst/>
            <a:rect l="l" t="t" r="r" b="b"/>
            <a:pathLst>
              <a:path w="1" h="1063">
                <a:moveTo>
                  <a:pt x="1" y="0"/>
                </a:moveTo>
                <a:lnTo>
                  <a:pt x="0" y="10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2290680"/>
            <a:ext cx="2844720" cy="299520"/>
            <a:chOff x="533520" y="2290680"/>
            <a:chExt cx="2844720" cy="299520"/>
          </a:xfrm>
        </p:grpSpPr>
        <p:grpSp>
          <p:nvGrpSpPr>
            <p:cNvPr id="45" name=""/>
            <p:cNvGrpSpPr/>
            <p:nvPr/>
          </p:nvGrpSpPr>
          <p:grpSpPr>
            <a:xfrm>
              <a:off x="533520" y="2290680"/>
              <a:ext cx="582120" cy="299520"/>
              <a:chOff x="533520" y="2290680"/>
              <a:chExt cx="582120" cy="299520"/>
            </a:xfrm>
          </p:grpSpPr>
          <p:sp>
            <p:nvSpPr>
              <p:cNvPr id="46" name=""/>
              <p:cNvSpPr/>
              <p:nvPr/>
            </p:nvSpPr>
            <p:spPr>
              <a:xfrm>
                <a:off x="533520" y="24843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768600" y="2290680"/>
                <a:ext cx="347040" cy="299520"/>
                <a:chOff x="768600" y="2290680"/>
                <a:chExt cx="347040" cy="29952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768600" y="2354040"/>
                  <a:ext cx="347040" cy="236160"/>
                  <a:chOff x="768600" y="2354040"/>
                  <a:chExt cx="347040" cy="23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768600" y="235404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V="1">
                    <a:off x="772200" y="235764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768600" y="235764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912960" y="2290680"/>
                  <a:ext cx="75600" cy="63360"/>
                  <a:chOff x="912960" y="2290680"/>
                  <a:chExt cx="75600" cy="633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912960" y="2290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988560" y="22906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5" name=""/>
            <p:cNvSpPr/>
            <p:nvPr/>
          </p:nvSpPr>
          <p:spPr>
            <a:xfrm>
              <a:off x="1135080" y="232236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ermanent Battalion (BG-01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58720" y="1582560"/>
            <a:ext cx="2606760" cy="628200"/>
            <a:chOff x="558720" y="1582560"/>
            <a:chExt cx="2606760" cy="628200"/>
          </a:xfrm>
        </p:grpSpPr>
        <p:grpSp>
          <p:nvGrpSpPr>
            <p:cNvPr id="57" name=""/>
            <p:cNvGrpSpPr/>
            <p:nvPr/>
          </p:nvGrpSpPr>
          <p:grpSpPr>
            <a:xfrm>
              <a:off x="857160" y="1844280"/>
              <a:ext cx="1825560" cy="366480"/>
              <a:chOff x="857160" y="1844280"/>
              <a:chExt cx="1825560" cy="366480"/>
            </a:xfrm>
          </p:grpSpPr>
          <p:sp>
            <p:nvSpPr>
              <p:cNvPr id="58" name=""/>
              <p:cNvSpPr/>
              <p:nvPr/>
            </p:nvSpPr>
            <p:spPr>
              <a:xfrm>
                <a:off x="907920" y="1844280"/>
                <a:ext cx="0" cy="28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82520" y="1995120"/>
                <a:ext cx="1600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aff Ca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7160" y="1969560"/>
                <a:ext cx="231840" cy="223560"/>
                <a:chOff x="857160" y="1969560"/>
                <a:chExt cx="231840" cy="223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58680" y="19695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857160" y="2002680"/>
                  <a:ext cx="231840" cy="190440"/>
                  <a:chOff x="857160" y="2002680"/>
                  <a:chExt cx="231840" cy="19044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857160" y="2002680"/>
                    <a:ext cx="23184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68320" y="2166120"/>
                    <a:ext cx="2700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049400" y="2166120"/>
                    <a:ext cx="284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" name=""/>
              <p:cNvSpPr/>
              <p:nvPr/>
            </p:nvSpPr>
            <p:spPr>
              <a:xfrm>
                <a:off x="1130400" y="185076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58720" y="1582560"/>
              <a:ext cx="2606760" cy="360000"/>
              <a:chOff x="558720" y="1582560"/>
              <a:chExt cx="2606760" cy="360000"/>
            </a:xfrm>
          </p:grpSpPr>
          <p:sp>
            <p:nvSpPr>
              <p:cNvPr id="68" name=""/>
              <p:cNvSpPr/>
              <p:nvPr/>
            </p:nvSpPr>
            <p:spPr>
              <a:xfrm>
                <a:off x="1085760" y="1582560"/>
                <a:ext cx="838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6699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8720" y="18316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84320" y="17269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857160" y="1709280"/>
                <a:ext cx="238320" cy="190440"/>
                <a:chOff x="857160" y="1709280"/>
                <a:chExt cx="238320" cy="19044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857160" y="1742760"/>
                  <a:ext cx="23832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965160" y="17092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" name=""/>
          <p:cNvGrpSpPr/>
          <p:nvPr/>
        </p:nvGrpSpPr>
        <p:grpSpPr>
          <a:xfrm>
            <a:off x="546120" y="2743200"/>
            <a:ext cx="2644920" cy="263160"/>
            <a:chOff x="546120" y="2743200"/>
            <a:chExt cx="2644920" cy="263160"/>
          </a:xfrm>
        </p:grpSpPr>
        <p:sp>
          <p:nvSpPr>
            <p:cNvPr id="75" name=""/>
            <p:cNvSpPr/>
            <p:nvPr/>
          </p:nvSpPr>
          <p:spPr>
            <a:xfrm>
              <a:off x="546120" y="290844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811080" y="2806560"/>
              <a:ext cx="284400" cy="193680"/>
              <a:chOff x="811080" y="2806560"/>
              <a:chExt cx="284400" cy="193680"/>
            </a:xfrm>
          </p:grpSpPr>
          <p:sp>
            <p:nvSpPr>
              <p:cNvPr id="77" name=""/>
              <p:cNvSpPr/>
              <p:nvPr/>
            </p:nvSpPr>
            <p:spPr>
              <a:xfrm>
                <a:off x="811080" y="2806560"/>
                <a:ext cx="28440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813960" y="2809440"/>
                <a:ext cx="27684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080" y="2809440"/>
                <a:ext cx="28296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952560" y="27432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09520" y="279072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urity Company (ME-06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22360" y="1309680"/>
            <a:ext cx="75960" cy="63360"/>
            <a:chOff x="522360" y="1309680"/>
            <a:chExt cx="75960" cy="63360"/>
          </a:xfrm>
        </p:grpSpPr>
        <p:sp>
          <p:nvSpPr>
            <p:cNvPr id="83" name=""/>
            <p:cNvSpPr/>
            <p:nvPr/>
          </p:nvSpPr>
          <p:spPr>
            <a:xfrm>
              <a:off x="522360" y="1309680"/>
              <a:ext cx="759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22360" y="1309680"/>
              <a:ext cx="759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84120" y="1378080"/>
            <a:ext cx="347400" cy="236160"/>
            <a:chOff x="384120" y="1378080"/>
            <a:chExt cx="347400" cy="236160"/>
          </a:xfrm>
        </p:grpSpPr>
        <p:sp>
          <p:nvSpPr>
            <p:cNvPr id="86" name=""/>
            <p:cNvSpPr/>
            <p:nvPr/>
          </p:nvSpPr>
          <p:spPr>
            <a:xfrm>
              <a:off x="384120" y="1378080"/>
              <a:ext cx="347400" cy="2361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87720" y="1381680"/>
              <a:ext cx="338760" cy="231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4120" y="1381680"/>
              <a:ext cx="345960" cy="22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33520" y="323208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11940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aircraft Company (ZU-23AA) (ME-07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99072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 Revolutionary Militia (PR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14840" y="1581120"/>
            <a:ext cx="1440" cy="1400040"/>
          </a:xfrm>
          <a:custGeom>
            <a:avLst/>
            <a:gdLst/>
            <a:ahLst/>
            <a:rect l="l" t="t" r="r" b="b"/>
            <a:pathLst>
              <a:path w="1" h="882">
                <a:moveTo>
                  <a:pt x="0" y="0"/>
                </a:moveTo>
                <a:lnTo>
                  <a:pt x="0" y="8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01880" y="1600200"/>
            <a:ext cx="2844720" cy="299520"/>
            <a:chOff x="3701880" y="1600200"/>
            <a:chExt cx="2844720" cy="299520"/>
          </a:xfrm>
        </p:grpSpPr>
        <p:grpSp>
          <p:nvGrpSpPr>
            <p:cNvPr id="94" name=""/>
            <p:cNvGrpSpPr/>
            <p:nvPr/>
          </p:nvGrpSpPr>
          <p:grpSpPr>
            <a:xfrm>
              <a:off x="3701880" y="1600200"/>
              <a:ext cx="582120" cy="299520"/>
              <a:chOff x="3701880" y="1600200"/>
              <a:chExt cx="582120" cy="299520"/>
            </a:xfrm>
          </p:grpSpPr>
          <p:sp>
            <p:nvSpPr>
              <p:cNvPr id="95" name=""/>
              <p:cNvSpPr/>
              <p:nvPr/>
            </p:nvSpPr>
            <p:spPr>
              <a:xfrm>
                <a:off x="3701880" y="179388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6960" y="1600200"/>
                <a:ext cx="347040" cy="299520"/>
                <a:chOff x="3936960" y="1600200"/>
                <a:chExt cx="347040" cy="299520"/>
              </a:xfrm>
            </p:grpSpPr>
            <p:grpSp>
              <p:nvGrpSpPr>
                <p:cNvPr id="97" name=""/>
                <p:cNvGrpSpPr/>
                <p:nvPr/>
              </p:nvGrpSpPr>
              <p:grpSpPr>
                <a:xfrm>
                  <a:off x="3936960" y="1663560"/>
                  <a:ext cx="347040" cy="236160"/>
                  <a:chOff x="3936960" y="1663560"/>
                  <a:chExt cx="347040" cy="23616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936960" y="166356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flipV="1">
                    <a:off x="3940560" y="166716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936960" y="166716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4081320" y="1600200"/>
                  <a:ext cx="75600" cy="63360"/>
                  <a:chOff x="4081320" y="1600200"/>
                  <a:chExt cx="75600" cy="63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4081320" y="1600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156920" y="16002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4" name=""/>
            <p:cNvSpPr/>
            <p:nvPr/>
          </p:nvSpPr>
          <p:spPr>
            <a:xfrm>
              <a:off x="4303440" y="163188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1 Battalion (BG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01880" y="2576520"/>
            <a:ext cx="32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11720" y="2463840"/>
            <a:ext cx="2081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M Antiaircraft Company (ZU-23A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E-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0560" y="13860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08360" y="1986120"/>
            <a:ext cx="2844720" cy="299520"/>
            <a:chOff x="3708360" y="1986120"/>
            <a:chExt cx="2844720" cy="299520"/>
          </a:xfrm>
        </p:grpSpPr>
        <p:grpSp>
          <p:nvGrpSpPr>
            <p:cNvPr id="109" name=""/>
            <p:cNvGrpSpPr/>
            <p:nvPr/>
          </p:nvGrpSpPr>
          <p:grpSpPr>
            <a:xfrm>
              <a:off x="3708360" y="1986120"/>
              <a:ext cx="582120" cy="299520"/>
              <a:chOff x="3708360" y="1986120"/>
              <a:chExt cx="582120" cy="299520"/>
            </a:xfrm>
          </p:grpSpPr>
          <p:sp>
            <p:nvSpPr>
              <p:cNvPr id="110" name=""/>
              <p:cNvSpPr/>
              <p:nvPr/>
            </p:nvSpPr>
            <p:spPr>
              <a:xfrm>
                <a:off x="3708360" y="217980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3943440" y="1986120"/>
                <a:ext cx="347040" cy="299520"/>
                <a:chOff x="3943440" y="1986120"/>
                <a:chExt cx="347040" cy="29952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3943440" y="2049480"/>
                  <a:ext cx="347040" cy="236160"/>
                  <a:chOff x="3943440" y="2049480"/>
                  <a:chExt cx="347040" cy="2361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943440" y="204948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V="1">
                    <a:off x="3947040" y="205308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943440" y="205308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4087800" y="1986120"/>
                  <a:ext cx="75600" cy="63360"/>
                  <a:chOff x="4087800" y="1986120"/>
                  <a:chExt cx="75600" cy="6336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4087800" y="1986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63400" y="1986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9" name=""/>
            <p:cNvSpPr/>
            <p:nvPr/>
          </p:nvSpPr>
          <p:spPr>
            <a:xfrm>
              <a:off x="4309920" y="201780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2 Battalion (BG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733920" y="295596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5960" y="2844720"/>
            <a:ext cx="2081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M Antiaircraft Platoon (12.7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ME-1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3381480"/>
            <a:ext cx="1440" cy="561960"/>
          </a:xfrm>
          <a:custGeom>
            <a:avLst/>
            <a:gdLst/>
            <a:ahLst/>
            <a:rect l="l" t="t" r="r" b="b"/>
            <a:pathLst>
              <a:path w="1" h="354">
                <a:moveTo>
                  <a:pt x="0" y="0"/>
                </a:moveTo>
                <a:lnTo>
                  <a:pt x="0" y="3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18080" y="3398760"/>
            <a:ext cx="2844720" cy="299520"/>
            <a:chOff x="3718080" y="3398760"/>
            <a:chExt cx="2844720" cy="299520"/>
          </a:xfrm>
        </p:grpSpPr>
        <p:grpSp>
          <p:nvGrpSpPr>
            <p:cNvPr id="124" name=""/>
            <p:cNvGrpSpPr/>
            <p:nvPr/>
          </p:nvGrpSpPr>
          <p:grpSpPr>
            <a:xfrm>
              <a:off x="3718080" y="3398760"/>
              <a:ext cx="582120" cy="299520"/>
              <a:chOff x="3718080" y="3398760"/>
              <a:chExt cx="582120" cy="299520"/>
            </a:xfrm>
          </p:grpSpPr>
          <p:sp>
            <p:nvSpPr>
              <p:cNvPr id="125" name=""/>
              <p:cNvSpPr/>
              <p:nvPr/>
            </p:nvSpPr>
            <p:spPr>
              <a:xfrm>
                <a:off x="3718080" y="35924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953160" y="3398760"/>
                <a:ext cx="347040" cy="299520"/>
                <a:chOff x="3953160" y="3398760"/>
                <a:chExt cx="347040" cy="29952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953160" y="3462120"/>
                  <a:ext cx="347040" cy="236160"/>
                  <a:chOff x="3953160" y="3462120"/>
                  <a:chExt cx="347040" cy="2361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953160" y="346212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3956760" y="346572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953160" y="346572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4097520" y="3398760"/>
                  <a:ext cx="75600" cy="63360"/>
                  <a:chOff x="4097520" y="3398760"/>
                  <a:chExt cx="75600" cy="633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4097520" y="33987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173120" y="33987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4" name=""/>
            <p:cNvSpPr/>
            <p:nvPr/>
          </p:nvSpPr>
          <p:spPr>
            <a:xfrm>
              <a:off x="4319640" y="343044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21 Battalion (BG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06400" y="318456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94668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68640" y="3809880"/>
            <a:ext cx="2508480" cy="426240"/>
            <a:chOff x="3968640" y="3809880"/>
            <a:chExt cx="2508480" cy="426240"/>
          </a:xfrm>
        </p:grpSpPr>
        <p:grpSp>
          <p:nvGrpSpPr>
            <p:cNvPr id="138" name=""/>
            <p:cNvGrpSpPr/>
            <p:nvPr/>
          </p:nvGrpSpPr>
          <p:grpSpPr>
            <a:xfrm>
              <a:off x="3968640" y="3809880"/>
              <a:ext cx="320400" cy="258120"/>
              <a:chOff x="3968640" y="3809880"/>
              <a:chExt cx="320400" cy="2581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4064040" y="3809880"/>
                <a:ext cx="131760" cy="27000"/>
                <a:chOff x="4064040" y="3809880"/>
                <a:chExt cx="131760" cy="270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064040" y="3809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14800" y="3809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168800" y="3809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968640" y="3849480"/>
                <a:ext cx="320400" cy="218520"/>
                <a:chOff x="3968640" y="3849480"/>
                <a:chExt cx="320400" cy="2185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968640" y="3849480"/>
                  <a:ext cx="320400" cy="2185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83040" y="3868200"/>
                  <a:ext cx="298080" cy="18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3983040" y="3868200"/>
                  <a:ext cx="287280" cy="1670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6560" y="3868200"/>
                  <a:ext cx="68400" cy="181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66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4395960" y="383544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M Antiaircraft Platoon (12.7m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ME-14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718080" y="4359240"/>
            <a:ext cx="2844720" cy="299520"/>
            <a:chOff x="3718080" y="4359240"/>
            <a:chExt cx="2844720" cy="299520"/>
          </a:xfrm>
        </p:grpSpPr>
        <p:grpSp>
          <p:nvGrpSpPr>
            <p:cNvPr id="150" name=""/>
            <p:cNvGrpSpPr/>
            <p:nvPr/>
          </p:nvGrpSpPr>
          <p:grpSpPr>
            <a:xfrm>
              <a:off x="3718080" y="4359240"/>
              <a:ext cx="582120" cy="299520"/>
              <a:chOff x="3718080" y="4359240"/>
              <a:chExt cx="582120" cy="299520"/>
            </a:xfrm>
          </p:grpSpPr>
          <p:sp>
            <p:nvSpPr>
              <p:cNvPr id="151" name=""/>
              <p:cNvSpPr/>
              <p:nvPr/>
            </p:nvSpPr>
            <p:spPr>
              <a:xfrm>
                <a:off x="3718080" y="455292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3953160" y="4359240"/>
                <a:ext cx="347040" cy="299520"/>
                <a:chOff x="3953160" y="4359240"/>
                <a:chExt cx="347040" cy="29952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3953160" y="4422600"/>
                  <a:ext cx="347040" cy="236160"/>
                  <a:chOff x="3953160" y="4422600"/>
                  <a:chExt cx="347040" cy="23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3953160" y="442260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3956760" y="442620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953160" y="442620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4097520" y="4359240"/>
                  <a:ext cx="75600" cy="63360"/>
                  <a:chOff x="4097520" y="4359240"/>
                  <a:chExt cx="75600" cy="63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4097520" y="4359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173120" y="43592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0" name=""/>
            <p:cNvSpPr/>
            <p:nvPr/>
          </p:nvSpPr>
          <p:spPr>
            <a:xfrm>
              <a:off x="4319640" y="439092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31 Battalion (BG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506400" y="414504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314960"/>
            <a:ext cx="144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18080" y="5033880"/>
            <a:ext cx="2844720" cy="299520"/>
            <a:chOff x="3718080" y="5033880"/>
            <a:chExt cx="2844720" cy="299520"/>
          </a:xfrm>
        </p:grpSpPr>
        <p:grpSp>
          <p:nvGrpSpPr>
            <p:cNvPr id="164" name=""/>
            <p:cNvGrpSpPr/>
            <p:nvPr/>
          </p:nvGrpSpPr>
          <p:grpSpPr>
            <a:xfrm>
              <a:off x="3718080" y="5033880"/>
              <a:ext cx="582120" cy="299520"/>
              <a:chOff x="3718080" y="5033880"/>
              <a:chExt cx="582120" cy="299520"/>
            </a:xfrm>
          </p:grpSpPr>
          <p:sp>
            <p:nvSpPr>
              <p:cNvPr id="165" name=""/>
              <p:cNvSpPr/>
              <p:nvPr/>
            </p:nvSpPr>
            <p:spPr>
              <a:xfrm>
                <a:off x="3718080" y="522756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3953160" y="5033880"/>
                <a:ext cx="347040" cy="299520"/>
                <a:chOff x="3953160" y="5033880"/>
                <a:chExt cx="347040" cy="299520"/>
              </a:xfrm>
            </p:grpSpPr>
            <p:grpSp>
              <p:nvGrpSpPr>
                <p:cNvPr id="167" name=""/>
                <p:cNvGrpSpPr/>
                <p:nvPr/>
              </p:nvGrpSpPr>
              <p:grpSpPr>
                <a:xfrm>
                  <a:off x="3953160" y="5097240"/>
                  <a:ext cx="347040" cy="236160"/>
                  <a:chOff x="3953160" y="5097240"/>
                  <a:chExt cx="347040" cy="23616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3953160" y="5097240"/>
                    <a:ext cx="347040" cy="2361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>
                    <a:off x="3956760" y="510084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953160" y="510084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097520" y="5033880"/>
                  <a:ext cx="75600" cy="63360"/>
                  <a:chOff x="4097520" y="5033880"/>
                  <a:chExt cx="75600" cy="6336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4097520" y="5033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4173120" y="50338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4" name=""/>
            <p:cNvSpPr/>
            <p:nvPr/>
          </p:nvSpPr>
          <p:spPr>
            <a:xfrm>
              <a:off x="4319640" y="506556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41 Battalion (BG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506400" y="48196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gion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989600"/>
            <a:ext cx="1440" cy="257040"/>
          </a:xfrm>
          <a:custGeom>
            <a:avLst/>
            <a:gdLst/>
            <a:ahLst/>
            <a:rect l="l" t="t" r="r" b="b"/>
            <a:pathLst>
              <a:path w="1" h="162">
                <a:moveTo>
                  <a:pt x="0" y="0"/>
                </a:moveTo>
                <a:lnTo>
                  <a:pt x="0" y="1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99072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 Revolutionary Police (PR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341316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oples Revolutionary Coast Guard (PRC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02360" y="1447920"/>
            <a:ext cx="347400" cy="299520"/>
            <a:chOff x="6102360" y="1447920"/>
            <a:chExt cx="347400" cy="299520"/>
          </a:xfrm>
        </p:grpSpPr>
        <p:grpSp>
          <p:nvGrpSpPr>
            <p:cNvPr id="180" name=""/>
            <p:cNvGrpSpPr/>
            <p:nvPr/>
          </p:nvGrpSpPr>
          <p:grpSpPr>
            <a:xfrm>
              <a:off x="6102360" y="1511280"/>
              <a:ext cx="347400" cy="236160"/>
              <a:chOff x="6102360" y="1511280"/>
              <a:chExt cx="347400" cy="236160"/>
            </a:xfrm>
          </p:grpSpPr>
          <p:sp>
            <p:nvSpPr>
              <p:cNvPr id="181" name=""/>
              <p:cNvSpPr/>
              <p:nvPr/>
            </p:nvSpPr>
            <p:spPr>
              <a:xfrm>
                <a:off x="6102360" y="151128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105960" y="1514880"/>
                <a:ext cx="338760" cy="231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2360" y="1514880"/>
                <a:ext cx="345960" cy="22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247080" y="1447920"/>
              <a:ext cx="75960" cy="63360"/>
              <a:chOff x="6247080" y="1447920"/>
              <a:chExt cx="75960" cy="6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247080" y="144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23040" y="14479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469200" y="1538280"/>
            <a:ext cx="22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lice  Battalion (BG-04)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1741320"/>
            <a:ext cx="1440" cy="1211400"/>
          </a:xfrm>
          <a:custGeom>
            <a:avLst/>
            <a:gdLst/>
            <a:ahLst/>
            <a:rect l="l" t="t" r="r" b="b"/>
            <a:pathLst>
              <a:path w="1" h="763">
                <a:moveTo>
                  <a:pt x="1" y="0"/>
                </a:moveTo>
                <a:lnTo>
                  <a:pt x="0" y="7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246720" y="1871640"/>
            <a:ext cx="2644920" cy="263160"/>
            <a:chOff x="6246720" y="1871640"/>
            <a:chExt cx="2644920" cy="263160"/>
          </a:xfrm>
        </p:grpSpPr>
        <p:sp>
          <p:nvSpPr>
            <p:cNvPr id="190" name=""/>
            <p:cNvSpPr/>
            <p:nvPr/>
          </p:nvSpPr>
          <p:spPr>
            <a:xfrm>
              <a:off x="6246720" y="20368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511680" y="1935000"/>
              <a:ext cx="284400" cy="193680"/>
              <a:chOff x="6511680" y="1935000"/>
              <a:chExt cx="284400" cy="193680"/>
            </a:xfrm>
          </p:grpSpPr>
          <p:sp>
            <p:nvSpPr>
              <p:cNvPr id="192" name=""/>
              <p:cNvSpPr/>
              <p:nvPr/>
            </p:nvSpPr>
            <p:spPr>
              <a:xfrm>
                <a:off x="6511680" y="1935000"/>
                <a:ext cx="28440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514560" y="1937880"/>
                <a:ext cx="27684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11680" y="1937880"/>
                <a:ext cx="28296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53160" y="1871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10120" y="191916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lice Company (ME-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48520" y="2328840"/>
            <a:ext cx="2644200" cy="448200"/>
            <a:chOff x="6248520" y="2328840"/>
            <a:chExt cx="2644200" cy="448200"/>
          </a:xfrm>
        </p:grpSpPr>
        <p:sp>
          <p:nvSpPr>
            <p:cNvPr id="198" name=""/>
            <p:cNvSpPr/>
            <p:nvPr/>
          </p:nvSpPr>
          <p:spPr>
            <a:xfrm>
              <a:off x="6248520" y="24940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513120" y="2392200"/>
              <a:ext cx="284040" cy="193680"/>
              <a:chOff x="6513120" y="2392200"/>
              <a:chExt cx="284040" cy="193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513120" y="239220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6516000" y="239508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13120" y="239508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654600" y="23288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11560" y="237636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lice Company (ME-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248520" y="2786040"/>
            <a:ext cx="2644200" cy="448200"/>
            <a:chOff x="6248520" y="2786040"/>
            <a:chExt cx="2644200" cy="448200"/>
          </a:xfrm>
        </p:grpSpPr>
        <p:sp>
          <p:nvSpPr>
            <p:cNvPr id="206" name=""/>
            <p:cNvSpPr/>
            <p:nvPr/>
          </p:nvSpPr>
          <p:spPr>
            <a:xfrm>
              <a:off x="6248520" y="29512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6513120" y="2849400"/>
              <a:ext cx="284040" cy="193680"/>
              <a:chOff x="6513120" y="2849400"/>
              <a:chExt cx="284040" cy="193680"/>
            </a:xfrm>
          </p:grpSpPr>
          <p:sp>
            <p:nvSpPr>
              <p:cNvPr id="208" name=""/>
              <p:cNvSpPr/>
              <p:nvPr/>
            </p:nvSpPr>
            <p:spPr>
              <a:xfrm>
                <a:off x="6513120" y="284940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516000" y="285228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13120" y="285228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6654600" y="27860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11560" y="2833560"/>
              <a:ext cx="2081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lice Company (ME-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6698520" y="375768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 small armed patrol vessel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51040" y="3108240"/>
            <a:ext cx="291600" cy="244080"/>
            <a:chOff x="851040" y="3108240"/>
            <a:chExt cx="291600" cy="244080"/>
          </a:xfrm>
        </p:grpSpPr>
        <p:sp>
          <p:nvSpPr>
            <p:cNvPr id="215" name=""/>
            <p:cNvSpPr/>
            <p:nvPr/>
          </p:nvSpPr>
          <p:spPr>
            <a:xfrm>
              <a:off x="998280" y="31082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851040" y="3162240"/>
              <a:ext cx="291600" cy="190080"/>
              <a:chOff x="851040" y="3162240"/>
              <a:chExt cx="291600" cy="190080"/>
            </a:xfrm>
          </p:grpSpPr>
          <p:sp>
            <p:nvSpPr>
              <p:cNvPr id="217" name=""/>
              <p:cNvSpPr/>
              <p:nvPr/>
            </p:nvSpPr>
            <p:spPr>
              <a:xfrm>
                <a:off x="853200" y="3162240"/>
                <a:ext cx="28944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851040" y="3163320"/>
                <a:ext cx="14004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991080" y="3162240"/>
                <a:ext cx="14940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31680" y="324288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3962520" y="2438280"/>
            <a:ext cx="291600" cy="244080"/>
            <a:chOff x="3962520" y="2438280"/>
            <a:chExt cx="291600" cy="244080"/>
          </a:xfrm>
        </p:grpSpPr>
        <p:sp>
          <p:nvSpPr>
            <p:cNvPr id="222" name=""/>
            <p:cNvSpPr/>
            <p:nvPr/>
          </p:nvSpPr>
          <p:spPr>
            <a:xfrm>
              <a:off x="4109760" y="24382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962520" y="2492280"/>
              <a:ext cx="291600" cy="190080"/>
              <a:chOff x="3962520" y="2492280"/>
              <a:chExt cx="291600" cy="190080"/>
            </a:xfrm>
          </p:grpSpPr>
          <p:sp>
            <p:nvSpPr>
              <p:cNvPr id="224" name=""/>
              <p:cNvSpPr/>
              <p:nvPr/>
            </p:nvSpPr>
            <p:spPr>
              <a:xfrm>
                <a:off x="3964680" y="2492280"/>
                <a:ext cx="28944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962520" y="2493360"/>
                <a:ext cx="14004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102560" y="2492280"/>
                <a:ext cx="14940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043160" y="257292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3962520" y="2819520"/>
            <a:ext cx="291600" cy="228240"/>
            <a:chOff x="3962520" y="2819520"/>
            <a:chExt cx="291600" cy="228240"/>
          </a:xfrm>
        </p:grpSpPr>
        <p:grpSp>
          <p:nvGrpSpPr>
            <p:cNvPr id="229" name=""/>
            <p:cNvGrpSpPr/>
            <p:nvPr/>
          </p:nvGrpSpPr>
          <p:grpSpPr>
            <a:xfrm>
              <a:off x="3962520" y="2857320"/>
              <a:ext cx="291600" cy="190440"/>
              <a:chOff x="3962520" y="2857320"/>
              <a:chExt cx="291600" cy="190440"/>
            </a:xfrm>
          </p:grpSpPr>
          <p:sp>
            <p:nvSpPr>
              <p:cNvPr id="230" name=""/>
              <p:cNvSpPr/>
              <p:nvPr/>
            </p:nvSpPr>
            <p:spPr>
              <a:xfrm>
                <a:off x="3964680" y="2857320"/>
                <a:ext cx="28944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3962520" y="285876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02560" y="2857320"/>
                <a:ext cx="149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43160" y="293796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38840" y="2819520"/>
              <a:ext cx="131760" cy="26640"/>
              <a:chOff x="4038840" y="2819520"/>
              <a:chExt cx="131760" cy="26640"/>
            </a:xfrm>
          </p:grpSpPr>
          <p:sp>
            <p:nvSpPr>
              <p:cNvPr id="235" name=""/>
              <p:cNvSpPr/>
              <p:nvPr/>
            </p:nvSpPr>
            <p:spPr>
              <a:xfrm>
                <a:off x="4038840" y="2819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9600" y="2819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3600" y="2819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" name=""/>
          <p:cNvSpPr/>
          <p:nvPr/>
        </p:nvSpPr>
        <p:spPr>
          <a:xfrm>
            <a:off x="533520" y="4541760"/>
            <a:ext cx="35244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8240" y="4411800"/>
            <a:ext cx="347760" cy="23652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2960" y="4348080"/>
            <a:ext cx="75960" cy="63360"/>
            <a:chOff x="912960" y="4348080"/>
            <a:chExt cx="75960" cy="63360"/>
          </a:xfrm>
        </p:grpSpPr>
        <p:sp>
          <p:nvSpPr>
            <p:cNvPr id="241" name=""/>
            <p:cNvSpPr/>
            <p:nvPr/>
          </p:nvSpPr>
          <p:spPr>
            <a:xfrm>
              <a:off x="912960" y="4348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88920" y="43480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35080" y="4433760"/>
            <a:ext cx="22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uban Construction Battalion (BG-0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33520" y="32004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884160" y="4498920"/>
            <a:ext cx="115920" cy="61920"/>
            <a:chOff x="884160" y="4498920"/>
            <a:chExt cx="115920" cy="61920"/>
          </a:xfrm>
        </p:grpSpPr>
        <p:sp>
          <p:nvSpPr>
            <p:cNvPr id="246" name=""/>
            <p:cNvSpPr/>
            <p:nvPr/>
          </p:nvSpPr>
          <p:spPr>
            <a:xfrm>
              <a:off x="890280" y="4498920"/>
              <a:ext cx="0" cy="61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41400" y="4502160"/>
              <a:ext cx="0" cy="58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360" y="4503960"/>
              <a:ext cx="0" cy="568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4160" y="4502160"/>
              <a:ext cx="1159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248520" y="465624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 Historically the police and coast guard did not mobilize and oppose the US interventio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7560" y="1560600"/>
            <a:ext cx="1800" cy="2039760"/>
          </a:xfrm>
          <a:custGeom>
            <a:avLst/>
            <a:gdLst/>
            <a:ahLst/>
            <a:rect l="l" t="t" r="r" b="b"/>
            <a:pathLst>
              <a:path w="1" h="1285">
                <a:moveTo>
                  <a:pt x="1" y="0"/>
                </a:moveTo>
                <a:lnTo>
                  <a:pt x="0" y="128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0880" y="1300320"/>
            <a:ext cx="347400" cy="299520"/>
            <a:chOff x="380880" y="1300320"/>
            <a:chExt cx="347400" cy="299520"/>
          </a:xfrm>
        </p:grpSpPr>
        <p:grpSp>
          <p:nvGrpSpPr>
            <p:cNvPr id="253" name=""/>
            <p:cNvGrpSpPr/>
            <p:nvPr/>
          </p:nvGrpSpPr>
          <p:grpSpPr>
            <a:xfrm>
              <a:off x="380880" y="1363680"/>
              <a:ext cx="347400" cy="236160"/>
              <a:chOff x="380880" y="1363680"/>
              <a:chExt cx="347400" cy="236160"/>
            </a:xfrm>
          </p:grpSpPr>
          <p:sp>
            <p:nvSpPr>
              <p:cNvPr id="254" name=""/>
              <p:cNvSpPr/>
              <p:nvPr/>
            </p:nvSpPr>
            <p:spPr>
              <a:xfrm>
                <a:off x="380880" y="136368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384480" y="1367280"/>
                <a:ext cx="338760" cy="231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0880" y="1367280"/>
                <a:ext cx="345960" cy="22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25600" y="1300320"/>
              <a:ext cx="75960" cy="63360"/>
              <a:chOff x="525600" y="1300320"/>
              <a:chExt cx="75960" cy="63360"/>
            </a:xfrm>
          </p:grpSpPr>
          <p:sp>
            <p:nvSpPr>
              <p:cNvPr id="258" name=""/>
              <p:cNvSpPr/>
              <p:nvPr/>
            </p:nvSpPr>
            <p:spPr>
              <a:xfrm>
                <a:off x="525600" y="1300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1560" y="1300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747720" y="1332000"/>
            <a:ext cx="22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manent Battalion (PR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6120" y="2709720"/>
            <a:ext cx="2644920" cy="263160"/>
            <a:chOff x="546120" y="2709720"/>
            <a:chExt cx="2644920" cy="263160"/>
          </a:xfrm>
        </p:grpSpPr>
        <p:sp>
          <p:nvSpPr>
            <p:cNvPr id="262" name=""/>
            <p:cNvSpPr/>
            <p:nvPr/>
          </p:nvSpPr>
          <p:spPr>
            <a:xfrm>
              <a:off x="546120" y="287496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11080" y="2773080"/>
              <a:ext cx="284400" cy="193680"/>
              <a:chOff x="811080" y="2773080"/>
              <a:chExt cx="284400" cy="193680"/>
            </a:xfrm>
          </p:grpSpPr>
          <p:sp>
            <p:nvSpPr>
              <p:cNvPr id="264" name=""/>
              <p:cNvSpPr/>
              <p:nvPr/>
            </p:nvSpPr>
            <p:spPr>
              <a:xfrm>
                <a:off x="811080" y="2773080"/>
                <a:ext cx="28440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813960" y="2775960"/>
                <a:ext cx="27684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11080" y="2775960"/>
                <a:ext cx="28296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952560" y="270972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9520" y="275724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bile Company (ME-03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50800" y="2286000"/>
            <a:ext cx="2697120" cy="284040"/>
            <a:chOff x="550800" y="2286000"/>
            <a:chExt cx="2697120" cy="284040"/>
          </a:xfrm>
        </p:grpSpPr>
        <p:grpSp>
          <p:nvGrpSpPr>
            <p:cNvPr id="270" name=""/>
            <p:cNvGrpSpPr/>
            <p:nvPr/>
          </p:nvGrpSpPr>
          <p:grpSpPr>
            <a:xfrm>
              <a:off x="550800" y="2286000"/>
              <a:ext cx="2697120" cy="284040"/>
              <a:chOff x="550800" y="2286000"/>
              <a:chExt cx="2697120" cy="284040"/>
            </a:xfrm>
          </p:grpSpPr>
          <p:sp>
            <p:nvSpPr>
              <p:cNvPr id="271" name=""/>
              <p:cNvSpPr/>
              <p:nvPr/>
            </p:nvSpPr>
            <p:spPr>
              <a:xfrm>
                <a:off x="550800" y="2444760"/>
                <a:ext cx="381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790560" y="2286000"/>
                <a:ext cx="284040" cy="262080"/>
                <a:chOff x="790560" y="2286000"/>
                <a:chExt cx="284040" cy="2620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931680" y="22860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790560" y="2354400"/>
                  <a:ext cx="284040" cy="193680"/>
                  <a:chOff x="790560" y="2354400"/>
                  <a:chExt cx="284040" cy="1936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790560" y="2354400"/>
                    <a:ext cx="284040" cy="19368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42400" y="2402640"/>
                    <a:ext cx="182160" cy="9252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1166760" y="235440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otorized Company(ME-02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800280" y="2368440"/>
              <a:ext cx="269640" cy="169920"/>
            </a:xfrm>
            <a:custGeom>
              <a:avLst/>
              <a:gdLst/>
              <a:ahLst/>
              <a:rect l="l" t="t" r="r" b="b"/>
              <a:pathLst>
                <a:path w="170" h="107">
                  <a:moveTo>
                    <a:pt x="0" y="107"/>
                  </a:moveTo>
                  <a:lnTo>
                    <a:pt x="17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280" y="2359080"/>
              <a:ext cx="264960" cy="179280"/>
            </a:xfrm>
            <a:custGeom>
              <a:avLst/>
              <a:gdLst/>
              <a:ahLst/>
              <a:rect l="l" t="t" r="r" b="b"/>
              <a:pathLst>
                <a:path w="167" h="113">
                  <a:moveTo>
                    <a:pt x="167" y="11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3520" y="1905120"/>
            <a:ext cx="2681280" cy="242640"/>
            <a:chOff x="533520" y="1905120"/>
            <a:chExt cx="2681280" cy="242640"/>
          </a:xfrm>
        </p:grpSpPr>
        <p:grpSp>
          <p:nvGrpSpPr>
            <p:cNvPr id="281" name=""/>
            <p:cNvGrpSpPr/>
            <p:nvPr/>
          </p:nvGrpSpPr>
          <p:grpSpPr>
            <a:xfrm>
              <a:off x="533520" y="1905120"/>
              <a:ext cx="554040" cy="225000"/>
              <a:chOff x="533520" y="1905120"/>
              <a:chExt cx="554040" cy="225000"/>
            </a:xfrm>
          </p:grpSpPr>
          <p:sp>
            <p:nvSpPr>
              <p:cNvPr id="282" name=""/>
              <p:cNvSpPr/>
              <p:nvPr/>
            </p:nvSpPr>
            <p:spPr>
              <a:xfrm>
                <a:off x="533520" y="2021040"/>
                <a:ext cx="352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795600" y="1905120"/>
                <a:ext cx="291960" cy="225000"/>
                <a:chOff x="795600" y="1905120"/>
                <a:chExt cx="291960" cy="225000"/>
              </a:xfrm>
            </p:grpSpPr>
            <p:grpSp>
              <p:nvGrpSpPr>
                <p:cNvPr id="284" name=""/>
                <p:cNvGrpSpPr/>
                <p:nvPr/>
              </p:nvGrpSpPr>
              <p:grpSpPr>
                <a:xfrm>
                  <a:off x="795600" y="1939320"/>
                  <a:ext cx="291960" cy="190800"/>
                  <a:chOff x="795600" y="1939320"/>
                  <a:chExt cx="291960" cy="190800"/>
                </a:xfrm>
              </p:grpSpPr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95600" y="1939680"/>
                    <a:ext cx="291960" cy="190440"/>
                    <a:chOff x="795600" y="1939680"/>
                    <a:chExt cx="291960" cy="19044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95600" y="1939680"/>
                      <a:ext cx="291960" cy="19044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49240" y="1987200"/>
                      <a:ext cx="184320" cy="90720"/>
                    </a:xfrm>
                    <a:prstGeom prst="ellipse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8" name=""/>
                  <p:cNvSpPr/>
                  <p:nvPr/>
                </p:nvSpPr>
                <p:spPr>
                  <a:xfrm flipV="1">
                    <a:off x="795600" y="193932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874800" y="1905120"/>
                  <a:ext cx="131040" cy="26640"/>
                  <a:chOff x="874800" y="1905120"/>
                  <a:chExt cx="131040" cy="2664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874800" y="1905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925200" y="190512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979200" y="19051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3" name=""/>
            <p:cNvSpPr/>
            <p:nvPr/>
          </p:nvSpPr>
          <p:spPr>
            <a:xfrm>
              <a:off x="1133640" y="193212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ation Platoon (ME-01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533520" y="3230640"/>
            <a:ext cx="32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95560" y="311940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aircraft Platoon (ZU-23AA) (ME-4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616200"/>
            <a:ext cx="35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640" y="3543480"/>
            <a:ext cx="291960" cy="190440"/>
          </a:xfrm>
          <a:prstGeom prst="rect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85960" y="3568680"/>
            <a:ext cx="82440" cy="128520"/>
            <a:chOff x="885960" y="3568680"/>
            <a:chExt cx="82440" cy="128520"/>
          </a:xfrm>
        </p:grpSpPr>
        <p:sp>
          <p:nvSpPr>
            <p:cNvPr id="299" name=""/>
            <p:cNvSpPr/>
            <p:nvPr/>
          </p:nvSpPr>
          <p:spPr>
            <a:xfrm>
              <a:off x="885960" y="3695400"/>
              <a:ext cx="8244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3760" y="3568680"/>
              <a:ext cx="0" cy="128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22480" y="351936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r Platoon (ME-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58960" y="3497400"/>
            <a:ext cx="131760" cy="27000"/>
            <a:chOff x="858960" y="3497400"/>
            <a:chExt cx="131760" cy="27000"/>
          </a:xfrm>
        </p:grpSpPr>
        <p:sp>
          <p:nvSpPr>
            <p:cNvPr id="303" name=""/>
            <p:cNvSpPr/>
            <p:nvPr/>
          </p:nvSpPr>
          <p:spPr>
            <a:xfrm>
              <a:off x="858960" y="3497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09720" y="349740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63720" y="34974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230720" y="1646280"/>
            <a:ext cx="25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BRDM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294000" y="1219320"/>
            <a:ext cx="2584440" cy="559800"/>
            <a:chOff x="3294000" y="1219320"/>
            <a:chExt cx="2584440" cy="559800"/>
          </a:xfrm>
        </p:grpSpPr>
        <p:sp>
          <p:nvSpPr>
            <p:cNvPr id="308" name=""/>
            <p:cNvSpPr/>
            <p:nvPr/>
          </p:nvSpPr>
          <p:spPr>
            <a:xfrm>
              <a:off x="3440160" y="1457280"/>
              <a:ext cx="0" cy="2455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68760" y="126504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loration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439800" y="169380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59000" y="147456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Rec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792600" y="1571400"/>
              <a:ext cx="131760" cy="26640"/>
              <a:chOff x="3792600" y="1571400"/>
              <a:chExt cx="131760" cy="26640"/>
            </a:xfrm>
          </p:grpSpPr>
          <p:sp>
            <p:nvSpPr>
              <p:cNvPr id="313" name=""/>
              <p:cNvSpPr/>
              <p:nvPr/>
            </p:nvSpPr>
            <p:spPr>
              <a:xfrm>
                <a:off x="3792600" y="1571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843360" y="15714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97360" y="15714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741480" y="1622160"/>
              <a:ext cx="23184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74960" y="1663560"/>
              <a:ext cx="162000" cy="7596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743280" y="162180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94000" y="1257120"/>
              <a:ext cx="284040" cy="1918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35400" y="1307880"/>
              <a:ext cx="198360" cy="91800"/>
            </a:xfrm>
            <a:prstGeom prst="ellipse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297240" y="1257120"/>
              <a:ext cx="279360" cy="18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75000" y="12193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5760" y="121932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79760" y="12193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254400" y="2155680"/>
            <a:ext cx="2457360" cy="284040"/>
            <a:chOff x="3254400" y="2155680"/>
            <a:chExt cx="2457360" cy="284040"/>
          </a:xfrm>
        </p:grpSpPr>
        <p:grpSp>
          <p:nvGrpSpPr>
            <p:cNvPr id="326" name=""/>
            <p:cNvGrpSpPr/>
            <p:nvPr/>
          </p:nvGrpSpPr>
          <p:grpSpPr>
            <a:xfrm>
              <a:off x="3254400" y="2155680"/>
              <a:ext cx="284040" cy="262080"/>
              <a:chOff x="3254400" y="2155680"/>
              <a:chExt cx="284040" cy="26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3395520" y="21556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3254400" y="2224080"/>
                <a:ext cx="284040" cy="193680"/>
                <a:chOff x="3254400" y="2224080"/>
                <a:chExt cx="284040" cy="1936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254400" y="2224080"/>
                  <a:ext cx="284040" cy="19368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306240" y="2272320"/>
                  <a:ext cx="182160" cy="9252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3630600" y="22240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ized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63760" y="2238480"/>
              <a:ext cx="270000" cy="169920"/>
            </a:xfrm>
            <a:custGeom>
              <a:avLst/>
              <a:gdLst/>
              <a:ahLst/>
              <a:rect l="l" t="t" r="r" b="b"/>
              <a:pathLst>
                <a:path w="170" h="107">
                  <a:moveTo>
                    <a:pt x="0" y="107"/>
                  </a:moveTo>
                  <a:lnTo>
                    <a:pt x="17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63760" y="2228760"/>
              <a:ext cx="265320" cy="179640"/>
            </a:xfrm>
            <a:custGeom>
              <a:avLst/>
              <a:gdLst/>
              <a:ahLst/>
              <a:rect l="l" t="t" r="r" b="b"/>
              <a:pathLst>
                <a:path w="167" h="113">
                  <a:moveTo>
                    <a:pt x="167" y="11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784680" y="2743200"/>
            <a:ext cx="0" cy="2826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56040" y="289404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TR-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59280" y="275436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55880" y="4805280"/>
            <a:ext cx="0" cy="2826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689280" y="4948200"/>
            <a:ext cx="231840" cy="232560"/>
            <a:chOff x="3689280" y="4948200"/>
            <a:chExt cx="231840" cy="232560"/>
          </a:xfrm>
        </p:grpSpPr>
        <p:grpSp>
          <p:nvGrpSpPr>
            <p:cNvPr id="339" name=""/>
            <p:cNvGrpSpPr/>
            <p:nvPr/>
          </p:nvGrpSpPr>
          <p:grpSpPr>
            <a:xfrm>
              <a:off x="3689280" y="4991040"/>
              <a:ext cx="231840" cy="189720"/>
              <a:chOff x="3689280" y="4991040"/>
              <a:chExt cx="231840" cy="189720"/>
            </a:xfrm>
          </p:grpSpPr>
          <p:sp>
            <p:nvSpPr>
              <p:cNvPr id="340" name=""/>
              <p:cNvSpPr/>
              <p:nvPr/>
            </p:nvSpPr>
            <p:spPr>
              <a:xfrm>
                <a:off x="3689280" y="4991040"/>
                <a:ext cx="231840" cy="1566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0440" y="5154120"/>
                <a:ext cx="2700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881520" y="5154120"/>
                <a:ext cx="2844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3767040" y="4948200"/>
              <a:ext cx="74520" cy="28080"/>
              <a:chOff x="3767040" y="4948200"/>
              <a:chExt cx="74520" cy="28080"/>
            </a:xfrm>
          </p:grpSpPr>
          <p:sp>
            <p:nvSpPr>
              <p:cNvPr id="344" name=""/>
              <p:cNvSpPr/>
              <p:nvPr/>
            </p:nvSpPr>
            <p:spPr>
              <a:xfrm>
                <a:off x="3767040" y="49482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14560" y="49496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3949560" y="4965840"/>
            <a:ext cx="109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4320" y="48052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5760" y="4786200"/>
            <a:ext cx="352440" cy="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697200" y="4657680"/>
            <a:ext cx="231480" cy="205920"/>
            <a:chOff x="3697200" y="4657680"/>
            <a:chExt cx="231480" cy="205920"/>
          </a:xfrm>
        </p:grpSpPr>
        <p:grpSp>
          <p:nvGrpSpPr>
            <p:cNvPr id="350" name=""/>
            <p:cNvGrpSpPr/>
            <p:nvPr/>
          </p:nvGrpSpPr>
          <p:grpSpPr>
            <a:xfrm>
              <a:off x="3697200" y="4706640"/>
              <a:ext cx="231480" cy="156960"/>
              <a:chOff x="3697200" y="4706640"/>
              <a:chExt cx="231480" cy="15696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3697200" y="4706640"/>
                <a:ext cx="231480" cy="156960"/>
                <a:chOff x="3697200" y="4706640"/>
                <a:chExt cx="231480" cy="1569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697200" y="470664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3697200" y="4709520"/>
                  <a:ext cx="11412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811320" y="470664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3799080" y="47718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767040" y="4657680"/>
              <a:ext cx="74520" cy="28080"/>
              <a:chOff x="3767040" y="4657680"/>
              <a:chExt cx="74520" cy="28080"/>
            </a:xfrm>
          </p:grpSpPr>
          <p:sp>
            <p:nvSpPr>
              <p:cNvPr id="357" name=""/>
              <p:cNvSpPr/>
              <p:nvPr/>
            </p:nvSpPr>
            <p:spPr>
              <a:xfrm>
                <a:off x="3767040" y="46576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14560" y="46591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3967200" y="4662360"/>
            <a:ext cx="128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mm Recoilless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56040" y="318456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Infa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425760" y="329868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738600" y="3181320"/>
            <a:ext cx="231480" cy="205920"/>
            <a:chOff x="3738600" y="3181320"/>
            <a:chExt cx="231480" cy="205920"/>
          </a:xfrm>
        </p:grpSpPr>
        <p:grpSp>
          <p:nvGrpSpPr>
            <p:cNvPr id="363" name=""/>
            <p:cNvGrpSpPr/>
            <p:nvPr/>
          </p:nvGrpSpPr>
          <p:grpSpPr>
            <a:xfrm>
              <a:off x="3817800" y="3181320"/>
              <a:ext cx="74520" cy="28080"/>
              <a:chOff x="3817800" y="3181320"/>
              <a:chExt cx="74520" cy="28080"/>
            </a:xfrm>
          </p:grpSpPr>
          <p:sp>
            <p:nvSpPr>
              <p:cNvPr id="364" name=""/>
              <p:cNvSpPr/>
              <p:nvPr/>
            </p:nvSpPr>
            <p:spPr>
              <a:xfrm>
                <a:off x="3817800" y="31813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5320" y="3182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738600" y="3230280"/>
              <a:ext cx="231480" cy="156960"/>
              <a:chOff x="3738600" y="3230280"/>
              <a:chExt cx="231480" cy="156960"/>
            </a:xfrm>
          </p:grpSpPr>
          <p:sp>
            <p:nvSpPr>
              <p:cNvPr id="367" name=""/>
              <p:cNvSpPr/>
              <p:nvPr/>
            </p:nvSpPr>
            <p:spPr>
              <a:xfrm>
                <a:off x="3738600" y="3230280"/>
                <a:ext cx="23148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3740760" y="3232440"/>
                <a:ext cx="2253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38600" y="3232440"/>
                <a:ext cx="23040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3425760" y="2438280"/>
            <a:ext cx="1800" cy="2390760"/>
          </a:xfrm>
          <a:custGeom>
            <a:avLst/>
            <a:gdLst/>
            <a:ahLst/>
            <a:rect l="l" t="t" r="r" b="b"/>
            <a:pathLst>
              <a:path w="1" h="1506">
                <a:moveTo>
                  <a:pt x="0" y="0"/>
                </a:moveTo>
                <a:lnTo>
                  <a:pt x="0" y="1506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9280" y="259092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25760" y="2666880"/>
            <a:ext cx="300240" cy="180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4382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732120" y="2556000"/>
            <a:ext cx="237960" cy="212400"/>
            <a:chOff x="3732120" y="2556000"/>
            <a:chExt cx="237960" cy="212400"/>
          </a:xfrm>
        </p:grpSpPr>
        <p:grpSp>
          <p:nvGrpSpPr>
            <p:cNvPr id="375" name=""/>
            <p:cNvGrpSpPr/>
            <p:nvPr/>
          </p:nvGrpSpPr>
          <p:grpSpPr>
            <a:xfrm>
              <a:off x="3814560" y="2556000"/>
              <a:ext cx="74520" cy="28080"/>
              <a:chOff x="3814560" y="2556000"/>
              <a:chExt cx="74520" cy="28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814560" y="2556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62080" y="2557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3732120" y="2611440"/>
              <a:ext cx="23796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781440" y="3352680"/>
            <a:ext cx="0" cy="2826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6040" y="35035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TR-60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56040" y="336384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56040" y="380988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Infa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425760" y="392436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59120" y="3971880"/>
            <a:ext cx="23760" cy="577800"/>
          </a:xfrm>
          <a:custGeom>
            <a:avLst/>
            <a:gdLst/>
            <a:ahLst/>
            <a:rect l="l" t="t" r="r" b="b"/>
            <a:pathLst>
              <a:path w="15" h="364">
                <a:moveTo>
                  <a:pt x="0" y="0"/>
                </a:moveTo>
                <a:lnTo>
                  <a:pt x="15" y="364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56040" y="44179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730680" y="4392720"/>
            <a:ext cx="231840" cy="223200"/>
            <a:chOff x="3730680" y="4392720"/>
            <a:chExt cx="231840" cy="223200"/>
          </a:xfrm>
        </p:grpSpPr>
        <p:sp>
          <p:nvSpPr>
            <p:cNvPr id="387" name=""/>
            <p:cNvSpPr/>
            <p:nvPr/>
          </p:nvSpPr>
          <p:spPr>
            <a:xfrm>
              <a:off x="3832200" y="43927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730680" y="4425480"/>
              <a:ext cx="231840" cy="190440"/>
              <a:chOff x="3730680" y="4425480"/>
              <a:chExt cx="231840" cy="190440"/>
            </a:xfrm>
          </p:grpSpPr>
          <p:sp>
            <p:nvSpPr>
              <p:cNvPr id="389" name=""/>
              <p:cNvSpPr/>
              <p:nvPr/>
            </p:nvSpPr>
            <p:spPr>
              <a:xfrm>
                <a:off x="3730680" y="442548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741840" y="458892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922920" y="4588920"/>
                <a:ext cx="2844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3956040" y="427824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6040" y="403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730680" y="4038480"/>
            <a:ext cx="245880" cy="223560"/>
            <a:chOff x="3730680" y="4038480"/>
            <a:chExt cx="245880" cy="223560"/>
          </a:xfrm>
        </p:grpSpPr>
        <p:grpSp>
          <p:nvGrpSpPr>
            <p:cNvPr id="395" name=""/>
            <p:cNvGrpSpPr/>
            <p:nvPr/>
          </p:nvGrpSpPr>
          <p:grpSpPr>
            <a:xfrm>
              <a:off x="3816360" y="4038480"/>
              <a:ext cx="74520" cy="28080"/>
              <a:chOff x="3816360" y="4038480"/>
              <a:chExt cx="74520" cy="2808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6360" y="40384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63880" y="40399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730680" y="4093920"/>
              <a:ext cx="245880" cy="168120"/>
              <a:chOff x="3730680" y="4093920"/>
              <a:chExt cx="245880" cy="168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730680" y="4093920"/>
                <a:ext cx="245880" cy="1681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43280" y="4103280"/>
                <a:ext cx="61560" cy="1508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741480" y="4107960"/>
                <a:ext cx="220320" cy="128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41480" y="4108320"/>
                <a:ext cx="228240" cy="139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3738600" y="3807000"/>
            <a:ext cx="231480" cy="205920"/>
            <a:chOff x="3738600" y="3807000"/>
            <a:chExt cx="231480" cy="205920"/>
          </a:xfrm>
        </p:grpSpPr>
        <p:grpSp>
          <p:nvGrpSpPr>
            <p:cNvPr id="404" name=""/>
            <p:cNvGrpSpPr/>
            <p:nvPr/>
          </p:nvGrpSpPr>
          <p:grpSpPr>
            <a:xfrm>
              <a:off x="3817800" y="3807000"/>
              <a:ext cx="74520" cy="28080"/>
              <a:chOff x="3817800" y="3807000"/>
              <a:chExt cx="74520" cy="28080"/>
            </a:xfrm>
          </p:grpSpPr>
          <p:sp>
            <p:nvSpPr>
              <p:cNvPr id="405" name=""/>
              <p:cNvSpPr/>
              <p:nvPr/>
            </p:nvSpPr>
            <p:spPr>
              <a:xfrm>
                <a:off x="3817800" y="3807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65320" y="3808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738600" y="3855960"/>
              <a:ext cx="231480" cy="156960"/>
              <a:chOff x="3738600" y="3855960"/>
              <a:chExt cx="231480" cy="156960"/>
            </a:xfrm>
          </p:grpSpPr>
          <p:sp>
            <p:nvSpPr>
              <p:cNvPr id="408" name=""/>
              <p:cNvSpPr/>
              <p:nvPr/>
            </p:nvSpPr>
            <p:spPr>
              <a:xfrm>
                <a:off x="3738600" y="3855960"/>
                <a:ext cx="23148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740760" y="3858120"/>
                <a:ext cx="2253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38600" y="3858120"/>
                <a:ext cx="23040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5076720" y="1219320"/>
            <a:ext cx="2379240" cy="2132640"/>
            <a:chOff x="5076720" y="1219320"/>
            <a:chExt cx="2379240" cy="2132640"/>
          </a:xfrm>
        </p:grpSpPr>
        <p:grpSp>
          <p:nvGrpSpPr>
            <p:cNvPr id="412" name=""/>
            <p:cNvGrpSpPr/>
            <p:nvPr/>
          </p:nvGrpSpPr>
          <p:grpSpPr>
            <a:xfrm>
              <a:off x="5076720" y="1219320"/>
              <a:ext cx="2379240" cy="263160"/>
              <a:chOff x="5076720" y="1219320"/>
              <a:chExt cx="2379240" cy="26316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5076720" y="1282680"/>
                <a:ext cx="284040" cy="193320"/>
                <a:chOff x="5076720" y="1282680"/>
                <a:chExt cx="284040" cy="1933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076720" y="1282680"/>
                  <a:ext cx="28404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5079600" y="12852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076720" y="128556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5217840" y="1219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74800" y="126684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obile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5551200" y="1752480"/>
              <a:ext cx="0" cy="2822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22560" y="1903320"/>
              <a:ext cx="15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ght Tru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5500440" y="1877760"/>
              <a:ext cx="231480" cy="223200"/>
              <a:chOff x="5500440" y="1877760"/>
              <a:chExt cx="231480" cy="223200"/>
            </a:xfrm>
          </p:grpSpPr>
          <p:sp>
            <p:nvSpPr>
              <p:cNvPr id="422" name=""/>
              <p:cNvSpPr/>
              <p:nvPr/>
            </p:nvSpPr>
            <p:spPr>
              <a:xfrm>
                <a:off x="5601600" y="18777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5500440" y="1910520"/>
                <a:ext cx="231480" cy="190440"/>
                <a:chOff x="5500440" y="1910520"/>
                <a:chExt cx="231480" cy="1904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5500440" y="19105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511240" y="2073960"/>
                  <a:ext cx="266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692320" y="2073960"/>
                  <a:ext cx="2808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5725800" y="1763640"/>
              <a:ext cx="632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22560" y="219384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92280" y="23079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505120" y="2190600"/>
              <a:ext cx="231480" cy="205560"/>
              <a:chOff x="5505120" y="2190600"/>
              <a:chExt cx="231480" cy="20556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5584320" y="2190600"/>
                <a:ext cx="74520" cy="28080"/>
                <a:chOff x="5584320" y="2190600"/>
                <a:chExt cx="74520" cy="2808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584320" y="21906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631840" y="2192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505120" y="2239560"/>
                <a:ext cx="231480" cy="156600"/>
                <a:chOff x="5505120" y="2239560"/>
                <a:chExt cx="231480" cy="1566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505120" y="2239560"/>
                  <a:ext cx="23148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5507280" y="2241360"/>
                  <a:ext cx="225360" cy="15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05120" y="2241720"/>
                  <a:ext cx="230400" cy="14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" name=""/>
            <p:cNvSpPr/>
            <p:nvPr/>
          </p:nvSpPr>
          <p:spPr>
            <a:xfrm>
              <a:off x="5192280" y="1447560"/>
              <a:ext cx="1440" cy="1485720"/>
            </a:xfrm>
            <a:custGeom>
              <a:avLst/>
              <a:gdLst/>
              <a:ahLst/>
              <a:rect l="l" t="t" r="r" b="b"/>
              <a:pathLst>
                <a:path w="1" h="936">
                  <a:moveTo>
                    <a:pt x="0" y="0"/>
                  </a:moveTo>
                  <a:lnTo>
                    <a:pt x="0" y="936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25800" y="1600200"/>
              <a:ext cx="106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92280" y="167616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22560" y="144756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5498640" y="1565280"/>
              <a:ext cx="237960" cy="212400"/>
              <a:chOff x="5498640" y="1565280"/>
              <a:chExt cx="237960" cy="2124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5581080" y="1565280"/>
                <a:ext cx="74520" cy="28080"/>
                <a:chOff x="5581080" y="1565280"/>
                <a:chExt cx="74520" cy="280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5581080" y="15652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628600" y="15667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5498640" y="162072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5547960" y="2361960"/>
              <a:ext cx="0" cy="282240"/>
            </a:xfrm>
            <a:prstGeom prst="line">
              <a:avLst/>
            </a:prstGeom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22560" y="2512800"/>
              <a:ext cx="159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uc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97200" y="2487600"/>
              <a:ext cx="231480" cy="222480"/>
              <a:chOff x="5497200" y="2487600"/>
              <a:chExt cx="231480" cy="2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5598360" y="248760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5497200" y="2520360"/>
                <a:ext cx="231480" cy="189720"/>
                <a:chOff x="5497200" y="2520360"/>
                <a:chExt cx="231480" cy="1897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497200" y="2520360"/>
                  <a:ext cx="23148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508000" y="2683440"/>
                  <a:ext cx="2664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689080" y="2683440"/>
                  <a:ext cx="2808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5" name=""/>
            <p:cNvSpPr/>
            <p:nvPr/>
          </p:nvSpPr>
          <p:spPr>
            <a:xfrm>
              <a:off x="5722560" y="237312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92280" y="2933640"/>
              <a:ext cx="299880" cy="10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44720" y="2952720"/>
              <a:ext cx="4680" cy="301320"/>
            </a:xfrm>
            <a:custGeom>
              <a:avLst/>
              <a:gdLst/>
              <a:ahLst/>
              <a:rect l="l" t="t" r="r" b="b"/>
              <a:pathLst>
                <a:path w="3" h="190">
                  <a:moveTo>
                    <a:pt x="0" y="0"/>
                  </a:moveTo>
                  <a:lnTo>
                    <a:pt x="3" y="190"/>
                  </a:ln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22560" y="3122640"/>
              <a:ext cx="137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uc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5497200" y="3128760"/>
              <a:ext cx="231480" cy="223200"/>
              <a:chOff x="5497200" y="3128760"/>
              <a:chExt cx="231480" cy="223200"/>
            </a:xfrm>
          </p:grpSpPr>
          <p:sp>
            <p:nvSpPr>
              <p:cNvPr id="460" name=""/>
              <p:cNvSpPr/>
              <p:nvPr/>
            </p:nvSpPr>
            <p:spPr>
              <a:xfrm>
                <a:off x="5598360" y="3128760"/>
                <a:ext cx="266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5497200" y="3161520"/>
                <a:ext cx="231480" cy="190440"/>
                <a:chOff x="5497200" y="3161520"/>
                <a:chExt cx="231480" cy="1904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497200" y="31615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508000" y="3324960"/>
                  <a:ext cx="2664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689080" y="3324960"/>
                  <a:ext cx="28080" cy="2700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5" name=""/>
            <p:cNvSpPr/>
            <p:nvPr/>
          </p:nvSpPr>
          <p:spPr>
            <a:xfrm>
              <a:off x="5722560" y="2982960"/>
              <a:ext cx="63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99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22560" y="2774880"/>
              <a:ext cx="693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M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497200" y="2774880"/>
              <a:ext cx="245880" cy="223200"/>
              <a:chOff x="5497200" y="2774880"/>
              <a:chExt cx="245880" cy="2232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5582880" y="2774880"/>
                <a:ext cx="74520" cy="27720"/>
                <a:chOff x="5582880" y="2774880"/>
                <a:chExt cx="74520" cy="277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5582880" y="277488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630400" y="277632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497200" y="2829960"/>
                <a:ext cx="245880" cy="168120"/>
                <a:chOff x="5497200" y="2829960"/>
                <a:chExt cx="245880" cy="168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497200" y="2829960"/>
                  <a:ext cx="245880" cy="1681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509800" y="2839320"/>
                  <a:ext cx="61560" cy="150840"/>
                </a:xfrm>
                <a:prstGeom prst="rect">
                  <a:avLst/>
                </a:prstGeom>
                <a:solidFill>
                  <a:srgbClr val="66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V="1">
                  <a:off x="5508000" y="2844000"/>
                  <a:ext cx="220320" cy="128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508000" y="2844360"/>
                  <a:ext cx="228240" cy="13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6" name=""/>
          <p:cNvGrpSpPr/>
          <p:nvPr/>
        </p:nvGrpSpPr>
        <p:grpSpPr>
          <a:xfrm>
            <a:off x="3730320" y="2895480"/>
            <a:ext cx="232200" cy="190440"/>
            <a:chOff x="3730320" y="2895480"/>
            <a:chExt cx="232200" cy="190440"/>
          </a:xfrm>
        </p:grpSpPr>
        <p:grpSp>
          <p:nvGrpSpPr>
            <p:cNvPr id="477" name=""/>
            <p:cNvGrpSpPr/>
            <p:nvPr/>
          </p:nvGrpSpPr>
          <p:grpSpPr>
            <a:xfrm>
              <a:off x="3730680" y="2895480"/>
              <a:ext cx="231840" cy="190440"/>
              <a:chOff x="3730680" y="2895480"/>
              <a:chExt cx="231840" cy="190440"/>
            </a:xfrm>
          </p:grpSpPr>
          <p:sp>
            <p:nvSpPr>
              <p:cNvPr id="478" name=""/>
              <p:cNvSpPr/>
              <p:nvPr/>
            </p:nvSpPr>
            <p:spPr>
              <a:xfrm>
                <a:off x="3730680" y="2895480"/>
                <a:ext cx="23184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41120" y="305892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22920" y="3058920"/>
                <a:ext cx="2736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63800" y="2936880"/>
                <a:ext cx="161640" cy="752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3732840" y="2895480"/>
                <a:ext cx="22788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 flipH="1" flipV="1">
              <a:off x="3730320" y="2895480"/>
              <a:ext cx="22860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730320" y="3543120"/>
            <a:ext cx="232200" cy="190440"/>
            <a:chOff x="3730320" y="3543120"/>
            <a:chExt cx="232200" cy="190440"/>
          </a:xfrm>
        </p:grpSpPr>
        <p:grpSp>
          <p:nvGrpSpPr>
            <p:cNvPr id="485" name=""/>
            <p:cNvGrpSpPr/>
            <p:nvPr/>
          </p:nvGrpSpPr>
          <p:grpSpPr>
            <a:xfrm>
              <a:off x="3730680" y="3543120"/>
              <a:ext cx="231840" cy="190440"/>
              <a:chOff x="3730680" y="3543120"/>
              <a:chExt cx="231840" cy="190440"/>
            </a:xfrm>
          </p:grpSpPr>
          <p:sp>
            <p:nvSpPr>
              <p:cNvPr id="486" name=""/>
              <p:cNvSpPr/>
              <p:nvPr/>
            </p:nvSpPr>
            <p:spPr>
              <a:xfrm>
                <a:off x="3730680" y="354348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41120" y="370656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22920" y="3706560"/>
                <a:ext cx="2736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763800" y="3584880"/>
                <a:ext cx="161640" cy="7488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3732840" y="3543120"/>
                <a:ext cx="22788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H="1" flipV="1">
              <a:off x="3730320" y="3543120"/>
              <a:ext cx="2286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5694480" y="360684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aircraft Platoon (ZU-23A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3809880"/>
            <a:ext cx="0" cy="2462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181120" y="4046400"/>
            <a:ext cx="29844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35720" y="4113360"/>
            <a:ext cx="3240" cy="455400"/>
          </a:xfrm>
          <a:custGeom>
            <a:avLst/>
            <a:gdLst/>
            <a:ahLst/>
            <a:rect l="l" t="t" r="r" b="b"/>
            <a:pathLst>
              <a:path w="2" h="287">
                <a:moveTo>
                  <a:pt x="0" y="0"/>
                </a:moveTo>
                <a:lnTo>
                  <a:pt x="2" y="287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943600" y="4437000"/>
            <a:ext cx="129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486400" y="4443480"/>
            <a:ext cx="231840" cy="223560"/>
            <a:chOff x="5486400" y="4443480"/>
            <a:chExt cx="231840" cy="223560"/>
          </a:xfrm>
        </p:grpSpPr>
        <p:sp>
          <p:nvSpPr>
            <p:cNvPr id="498" name=""/>
            <p:cNvSpPr/>
            <p:nvPr/>
          </p:nvSpPr>
          <p:spPr>
            <a:xfrm>
              <a:off x="5587920" y="44434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486400" y="4476600"/>
              <a:ext cx="231840" cy="190440"/>
              <a:chOff x="5486400" y="4476600"/>
              <a:chExt cx="231840" cy="190440"/>
            </a:xfrm>
          </p:grpSpPr>
          <p:sp>
            <p:nvSpPr>
              <p:cNvPr id="500" name=""/>
              <p:cNvSpPr/>
              <p:nvPr/>
            </p:nvSpPr>
            <p:spPr>
              <a:xfrm>
                <a:off x="5486400" y="447660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97560" y="464004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678640" y="4640040"/>
                <a:ext cx="2844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5943600" y="429732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753240" y="1219320"/>
            <a:ext cx="3152160" cy="1380600"/>
            <a:chOff x="6753240" y="1219320"/>
            <a:chExt cx="3152160" cy="1380600"/>
          </a:xfrm>
        </p:grpSpPr>
        <p:sp>
          <p:nvSpPr>
            <p:cNvPr id="505" name=""/>
            <p:cNvSpPr/>
            <p:nvPr/>
          </p:nvSpPr>
          <p:spPr>
            <a:xfrm>
              <a:off x="6885000" y="1449360"/>
              <a:ext cx="0" cy="67932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6885000" y="1600200"/>
              <a:ext cx="3008160" cy="315360"/>
              <a:chOff x="6885000" y="1600200"/>
              <a:chExt cx="3008160" cy="315360"/>
            </a:xfrm>
          </p:grpSpPr>
          <p:sp>
            <p:nvSpPr>
              <p:cNvPr id="507" name=""/>
              <p:cNvSpPr/>
              <p:nvPr/>
            </p:nvSpPr>
            <p:spPr>
              <a:xfrm>
                <a:off x="6885000" y="1822320"/>
                <a:ext cx="18252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7031160" y="1699920"/>
                <a:ext cx="231480" cy="196560"/>
                <a:chOff x="7031160" y="1699920"/>
                <a:chExt cx="231480" cy="19656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7031160" y="1739520"/>
                  <a:ext cx="231480" cy="156960"/>
                  <a:chOff x="7031160" y="1739520"/>
                  <a:chExt cx="231480" cy="1569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7031160" y="173952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113600" y="179028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2" name=""/>
                <p:cNvSpPr/>
                <p:nvPr/>
              </p:nvSpPr>
              <p:spPr>
                <a:xfrm>
                  <a:off x="7134120" y="1699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7367760" y="160020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51560" y="1699920"/>
                <a:ext cx="254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889680" y="1905120"/>
              <a:ext cx="3003480" cy="327960"/>
              <a:chOff x="6889680" y="1905120"/>
              <a:chExt cx="3003480" cy="327960"/>
            </a:xfrm>
          </p:grpSpPr>
          <p:sp>
            <p:nvSpPr>
              <p:cNvPr id="516" name=""/>
              <p:cNvSpPr/>
              <p:nvPr/>
            </p:nvSpPr>
            <p:spPr>
              <a:xfrm>
                <a:off x="6889680" y="2128680"/>
                <a:ext cx="177840" cy="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026120" y="1990440"/>
                <a:ext cx="239760" cy="203040"/>
                <a:chOff x="7026120" y="1990440"/>
                <a:chExt cx="239760" cy="203040"/>
              </a:xfrm>
            </p:grpSpPr>
            <p:grpSp>
              <p:nvGrpSpPr>
                <p:cNvPr id="518" name=""/>
                <p:cNvGrpSpPr/>
                <p:nvPr/>
              </p:nvGrpSpPr>
              <p:grpSpPr>
                <a:xfrm>
                  <a:off x="7026120" y="2036160"/>
                  <a:ext cx="239760" cy="157320"/>
                  <a:chOff x="7026120" y="2036160"/>
                  <a:chExt cx="239760" cy="15732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7026120" y="2036160"/>
                    <a:ext cx="239760" cy="15732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110360" y="2161800"/>
                    <a:ext cx="6804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142040" y="2056680"/>
                    <a:ext cx="0" cy="10656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7110000" y="1990440"/>
                  <a:ext cx="74520" cy="28080"/>
                  <a:chOff x="7110000" y="1990440"/>
                  <a:chExt cx="74520" cy="280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>
                    <a:off x="7110000" y="1990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157520" y="1991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5" name=""/>
              <p:cNvSpPr/>
              <p:nvPr/>
            </p:nvSpPr>
            <p:spPr>
              <a:xfrm>
                <a:off x="7351560" y="2017440"/>
                <a:ext cx="2541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82mm Morta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67760" y="1905120"/>
                <a:ext cx="2049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On-board 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7026120" y="2209680"/>
              <a:ext cx="2879280" cy="390240"/>
              <a:chOff x="7026120" y="2209680"/>
              <a:chExt cx="2879280" cy="3902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7026120" y="2360520"/>
                <a:ext cx="231480" cy="236520"/>
                <a:chOff x="7026120" y="2360520"/>
                <a:chExt cx="231480" cy="23652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7026120" y="2406600"/>
                  <a:ext cx="231480" cy="190440"/>
                  <a:chOff x="7026120" y="2406600"/>
                  <a:chExt cx="231480" cy="19044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>
                    <a:off x="7026120" y="2406600"/>
                    <a:ext cx="231480" cy="15696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036920" y="2570040"/>
                    <a:ext cx="2664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7218000" y="2570040"/>
                    <a:ext cx="28080" cy="2700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"/>
                <p:cNvGrpSpPr/>
                <p:nvPr/>
              </p:nvGrpSpPr>
              <p:grpSpPr>
                <a:xfrm>
                  <a:off x="7103520" y="2360520"/>
                  <a:ext cx="73800" cy="28800"/>
                  <a:chOff x="7103520" y="2360520"/>
                  <a:chExt cx="73800" cy="2880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7103520" y="236052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7150680" y="23623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>
                <a:off x="7364160" y="2384280"/>
                <a:ext cx="2541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Medium Tru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0000" y="2271600"/>
                <a:ext cx="1388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99cc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63920" y="2209680"/>
                <a:ext cx="0" cy="276120"/>
              </a:xfrm>
              <a:prstGeom prst="line">
                <a:avLst/>
              </a:prstGeom>
              <a:ln w="19080">
                <a:solidFill>
                  <a:srgbClr val="66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753240" y="1265400"/>
              <a:ext cx="291960" cy="19044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856200" y="1290600"/>
              <a:ext cx="82440" cy="128520"/>
              <a:chOff x="6856200" y="1290600"/>
              <a:chExt cx="82440" cy="128520"/>
            </a:xfrm>
          </p:grpSpPr>
          <p:sp>
            <p:nvSpPr>
              <p:cNvPr id="541" name=""/>
              <p:cNvSpPr/>
              <p:nvPr/>
            </p:nvSpPr>
            <p:spPr>
              <a:xfrm>
                <a:off x="6856200" y="1417320"/>
                <a:ext cx="8244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94000" y="1290600"/>
                <a:ext cx="0" cy="1285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7092720" y="12412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rtar Plato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829200" y="1219320"/>
              <a:ext cx="131760" cy="27000"/>
              <a:chOff x="6829200" y="1219320"/>
              <a:chExt cx="131760" cy="27000"/>
            </a:xfrm>
          </p:grpSpPr>
          <p:sp>
            <p:nvSpPr>
              <p:cNvPr id="545" name=""/>
              <p:cNvSpPr/>
              <p:nvPr/>
            </p:nvSpPr>
            <p:spPr>
              <a:xfrm>
                <a:off x="6829200" y="1219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79960" y="1219320"/>
                <a:ext cx="284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933960" y="1219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8" name=""/>
          <p:cNvSpPr/>
          <p:nvPr/>
        </p:nvSpPr>
        <p:spPr>
          <a:xfrm>
            <a:off x="2971800" y="182880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38080" y="3162240"/>
            <a:ext cx="291960" cy="190080"/>
            <a:chOff x="838080" y="3162240"/>
            <a:chExt cx="291960" cy="190080"/>
          </a:xfrm>
        </p:grpSpPr>
        <p:sp>
          <p:nvSpPr>
            <p:cNvPr id="550" name=""/>
            <p:cNvSpPr/>
            <p:nvPr/>
          </p:nvSpPr>
          <p:spPr>
            <a:xfrm>
              <a:off x="840240" y="3162240"/>
              <a:ext cx="289800" cy="1900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838080" y="3163320"/>
              <a:ext cx="140040" cy="18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78120" y="3162240"/>
              <a:ext cx="149760" cy="18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19080" y="3242880"/>
              <a:ext cx="11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914400" y="3124080"/>
            <a:ext cx="131760" cy="27000"/>
            <a:chOff x="914400" y="3124080"/>
            <a:chExt cx="131760" cy="27000"/>
          </a:xfrm>
        </p:grpSpPr>
        <p:sp>
          <p:nvSpPr>
            <p:cNvPr id="555" name=""/>
            <p:cNvSpPr/>
            <p:nvPr/>
          </p:nvSpPr>
          <p:spPr>
            <a:xfrm>
              <a:off x="914400" y="312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65160" y="3124080"/>
              <a:ext cx="2844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19160" y="3124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029200" y="3581280"/>
            <a:ext cx="291600" cy="228240"/>
            <a:chOff x="5029200" y="3581280"/>
            <a:chExt cx="291600" cy="228240"/>
          </a:xfrm>
        </p:grpSpPr>
        <p:grpSp>
          <p:nvGrpSpPr>
            <p:cNvPr id="559" name=""/>
            <p:cNvGrpSpPr/>
            <p:nvPr/>
          </p:nvGrpSpPr>
          <p:grpSpPr>
            <a:xfrm>
              <a:off x="5029200" y="3619080"/>
              <a:ext cx="291600" cy="190440"/>
              <a:chOff x="5029200" y="3619080"/>
              <a:chExt cx="291600" cy="190440"/>
            </a:xfrm>
          </p:grpSpPr>
          <p:sp>
            <p:nvSpPr>
              <p:cNvPr id="560" name=""/>
              <p:cNvSpPr/>
              <p:nvPr/>
            </p:nvSpPr>
            <p:spPr>
              <a:xfrm>
                <a:off x="5031360" y="3619080"/>
                <a:ext cx="28944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029200" y="362052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69240" y="3619080"/>
                <a:ext cx="149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109840" y="369972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3581280"/>
              <a:ext cx="131760" cy="26640"/>
              <a:chOff x="5105520" y="3581280"/>
              <a:chExt cx="131760" cy="2664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3581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56280" y="3581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10280" y="3581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"/>
          <p:cNvSpPr/>
          <p:nvPr/>
        </p:nvSpPr>
        <p:spPr>
          <a:xfrm>
            <a:off x="5843520" y="3911760"/>
            <a:ext cx="2081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ntiaircraft Platoon (ZU-23A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ZU-23 Twin Barrel A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423040" y="3962520"/>
            <a:ext cx="291600" cy="228240"/>
            <a:chOff x="5423040" y="3962520"/>
            <a:chExt cx="291600" cy="228240"/>
          </a:xfrm>
        </p:grpSpPr>
        <p:grpSp>
          <p:nvGrpSpPr>
            <p:cNvPr id="570" name=""/>
            <p:cNvGrpSpPr/>
            <p:nvPr/>
          </p:nvGrpSpPr>
          <p:grpSpPr>
            <a:xfrm>
              <a:off x="5423040" y="4000320"/>
              <a:ext cx="291600" cy="190440"/>
              <a:chOff x="5423040" y="4000320"/>
              <a:chExt cx="291600" cy="190440"/>
            </a:xfrm>
          </p:grpSpPr>
          <p:sp>
            <p:nvSpPr>
              <p:cNvPr id="571" name=""/>
              <p:cNvSpPr/>
              <p:nvPr/>
            </p:nvSpPr>
            <p:spPr>
              <a:xfrm>
                <a:off x="5425200" y="4000320"/>
                <a:ext cx="28944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5423040" y="400176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63080" y="4000320"/>
                <a:ext cx="149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503680" y="408096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5499360" y="3962520"/>
              <a:ext cx="131760" cy="26640"/>
              <a:chOff x="5499360" y="3962520"/>
              <a:chExt cx="131760" cy="26640"/>
            </a:xfrm>
          </p:grpSpPr>
          <p:sp>
            <p:nvSpPr>
              <p:cNvPr id="576" name=""/>
              <p:cNvSpPr/>
              <p:nvPr/>
            </p:nvSpPr>
            <p:spPr>
              <a:xfrm>
                <a:off x="5499360" y="3962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550120" y="39625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04120" y="3962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3124080" y="898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1828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898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3352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89856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81280" y="5486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BTR-60 carries 3 troo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4920" y="9907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 - 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533520" y="3678120"/>
            <a:ext cx="1440" cy="1621080"/>
          </a:xfrm>
          <a:custGeom>
            <a:avLst/>
            <a:gdLst/>
            <a:ahLst/>
            <a:rect l="l" t="t" r="r" b="b"/>
            <a:pathLst>
              <a:path w="1" h="1021">
                <a:moveTo>
                  <a:pt x="0" y="0"/>
                </a:moveTo>
                <a:lnTo>
                  <a:pt x="0" y="10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546120" y="3989520"/>
            <a:ext cx="2644920" cy="262800"/>
            <a:chOff x="546120" y="3989520"/>
            <a:chExt cx="2644920" cy="262800"/>
          </a:xfrm>
        </p:grpSpPr>
        <p:sp>
          <p:nvSpPr>
            <p:cNvPr id="588" name=""/>
            <p:cNvSpPr/>
            <p:nvPr/>
          </p:nvSpPr>
          <p:spPr>
            <a:xfrm>
              <a:off x="546120" y="415440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811080" y="4052520"/>
              <a:ext cx="284400" cy="193320"/>
              <a:chOff x="811080" y="4052520"/>
              <a:chExt cx="284400" cy="193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11080" y="4052520"/>
                <a:ext cx="28440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813960" y="4055040"/>
                <a:ext cx="27684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11080" y="4055400"/>
                <a:ext cx="28296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952560" y="39895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09520" y="403668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osite  Infantry Company (ME-08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895480" y="3809880"/>
            <a:ext cx="609840" cy="1752840"/>
          </a:xfrm>
          <a:custGeom>
            <a:avLst/>
            <a:gdLst>
              <a:gd name="textAreaLeft" fmla="*/ 0 w 609840"/>
              <a:gd name="textAreaRight" fmla="*/ 220320 w 60984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33520" y="4327560"/>
            <a:ext cx="2644200" cy="263160"/>
            <a:chOff x="533520" y="4327560"/>
            <a:chExt cx="2644200" cy="263160"/>
          </a:xfrm>
        </p:grpSpPr>
        <p:sp>
          <p:nvSpPr>
            <p:cNvPr id="597" name=""/>
            <p:cNvSpPr/>
            <p:nvPr/>
          </p:nvSpPr>
          <p:spPr>
            <a:xfrm>
              <a:off x="533520" y="44928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98120" y="4390920"/>
              <a:ext cx="284040" cy="193680"/>
              <a:chOff x="798120" y="4390920"/>
              <a:chExt cx="284040" cy="193680"/>
            </a:xfrm>
          </p:grpSpPr>
          <p:sp>
            <p:nvSpPr>
              <p:cNvPr id="599" name=""/>
              <p:cNvSpPr/>
              <p:nvPr/>
            </p:nvSpPr>
            <p:spPr>
              <a:xfrm>
                <a:off x="798120" y="439092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801000" y="439380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98120" y="439380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939600" y="43275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96560" y="43750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osite  Infantry Company (ME-08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33520" y="4675320"/>
            <a:ext cx="2644200" cy="262800"/>
            <a:chOff x="533520" y="4675320"/>
            <a:chExt cx="2644200" cy="262800"/>
          </a:xfrm>
        </p:grpSpPr>
        <p:sp>
          <p:nvSpPr>
            <p:cNvPr id="605" name=""/>
            <p:cNvSpPr/>
            <p:nvPr/>
          </p:nvSpPr>
          <p:spPr>
            <a:xfrm>
              <a:off x="533520" y="48402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98120" y="4738320"/>
              <a:ext cx="284040" cy="193320"/>
              <a:chOff x="798120" y="4738320"/>
              <a:chExt cx="284040" cy="193320"/>
            </a:xfrm>
          </p:grpSpPr>
          <p:sp>
            <p:nvSpPr>
              <p:cNvPr id="607" name=""/>
              <p:cNvSpPr/>
              <p:nvPr/>
            </p:nvSpPr>
            <p:spPr>
              <a:xfrm>
                <a:off x="798120" y="4738320"/>
                <a:ext cx="28404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801000" y="4740840"/>
                <a:ext cx="27648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8120" y="4741200"/>
                <a:ext cx="2826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939600" y="46753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96560" y="47224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osite  Infantry Company (ME-08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33520" y="5132520"/>
            <a:ext cx="2644200" cy="262800"/>
            <a:chOff x="533520" y="5132520"/>
            <a:chExt cx="2644200" cy="262800"/>
          </a:xfrm>
        </p:grpSpPr>
        <p:sp>
          <p:nvSpPr>
            <p:cNvPr id="613" name=""/>
            <p:cNvSpPr/>
            <p:nvPr/>
          </p:nvSpPr>
          <p:spPr>
            <a:xfrm>
              <a:off x="533520" y="529740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798120" y="5195520"/>
              <a:ext cx="284040" cy="193320"/>
              <a:chOff x="798120" y="5195520"/>
              <a:chExt cx="284040" cy="193320"/>
            </a:xfrm>
          </p:grpSpPr>
          <p:sp>
            <p:nvSpPr>
              <p:cNvPr id="615" name=""/>
              <p:cNvSpPr/>
              <p:nvPr/>
            </p:nvSpPr>
            <p:spPr>
              <a:xfrm>
                <a:off x="798120" y="5195520"/>
                <a:ext cx="28404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801000" y="5198040"/>
                <a:ext cx="27648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98120" y="5198400"/>
                <a:ext cx="28260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939600" y="513252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96560" y="517968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Company (ME-09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151160" y="3552840"/>
            <a:ext cx="284400" cy="193680"/>
            <a:chOff x="4151160" y="3552840"/>
            <a:chExt cx="284400" cy="193680"/>
          </a:xfrm>
        </p:grpSpPr>
        <p:sp>
          <p:nvSpPr>
            <p:cNvPr id="621" name=""/>
            <p:cNvSpPr/>
            <p:nvPr/>
          </p:nvSpPr>
          <p:spPr>
            <a:xfrm>
              <a:off x="4151160" y="3552840"/>
              <a:ext cx="284400" cy="1936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154040" y="3555720"/>
              <a:ext cx="27684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51160" y="3555720"/>
              <a:ext cx="28296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292640" y="34894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95960" y="348948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mposite Infantry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70320" y="3732120"/>
            <a:ext cx="1800" cy="798480"/>
          </a:xfrm>
          <a:custGeom>
            <a:avLst/>
            <a:gdLst/>
            <a:ahLst/>
            <a:rect l="l" t="t" r="r" b="b"/>
            <a:pathLst>
              <a:path w="1" h="503">
                <a:moveTo>
                  <a:pt x="0" y="0"/>
                </a:moveTo>
                <a:lnTo>
                  <a:pt x="0" y="503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267080" y="4098960"/>
            <a:ext cx="2975040" cy="218520"/>
            <a:chOff x="4267080" y="4098960"/>
            <a:chExt cx="2975040" cy="218520"/>
          </a:xfrm>
        </p:grpSpPr>
        <p:sp>
          <p:nvSpPr>
            <p:cNvPr id="628" name=""/>
            <p:cNvSpPr/>
            <p:nvPr/>
          </p:nvSpPr>
          <p:spPr>
            <a:xfrm>
              <a:off x="4879800" y="4101840"/>
              <a:ext cx="236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67080" y="4216320"/>
              <a:ext cx="299880" cy="10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579920" y="4098960"/>
              <a:ext cx="231480" cy="205920"/>
              <a:chOff x="4579920" y="4098960"/>
              <a:chExt cx="231480" cy="20592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4659120" y="4098960"/>
                <a:ext cx="74520" cy="28080"/>
                <a:chOff x="4659120" y="4098960"/>
                <a:chExt cx="74520" cy="280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4659120" y="40989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706640" y="41004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4579920" y="4147920"/>
                <a:ext cx="231480" cy="156960"/>
                <a:chOff x="4579920" y="4147920"/>
                <a:chExt cx="231480" cy="156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4579920" y="41479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582080" y="415008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579920" y="41500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8" name=""/>
          <p:cNvGrpSpPr/>
          <p:nvPr/>
        </p:nvGrpSpPr>
        <p:grpSpPr>
          <a:xfrm>
            <a:off x="4270320" y="3645000"/>
            <a:ext cx="2819160" cy="367920"/>
            <a:chOff x="4270320" y="3645000"/>
            <a:chExt cx="2819160" cy="367920"/>
          </a:xfrm>
        </p:grpSpPr>
        <p:sp>
          <p:nvSpPr>
            <p:cNvPr id="639" name=""/>
            <p:cNvSpPr/>
            <p:nvPr/>
          </p:nvSpPr>
          <p:spPr>
            <a:xfrm>
              <a:off x="4879800" y="379728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70320" y="3873240"/>
              <a:ext cx="299880" cy="144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79800" y="364500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4576680" y="3762360"/>
              <a:ext cx="237960" cy="211680"/>
              <a:chOff x="4576680" y="3762360"/>
              <a:chExt cx="237960" cy="2116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4659120" y="3762360"/>
                <a:ext cx="74520" cy="27720"/>
                <a:chOff x="4659120" y="3762360"/>
                <a:chExt cx="74520" cy="277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659120" y="3762360"/>
                  <a:ext cx="2844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706640" y="3763800"/>
                  <a:ext cx="27000" cy="26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" name=""/>
              <p:cNvSpPr/>
              <p:nvPr/>
            </p:nvSpPr>
            <p:spPr>
              <a:xfrm>
                <a:off x="4576680" y="3817440"/>
                <a:ext cx="237960" cy="1566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" name=""/>
          <p:cNvGrpSpPr/>
          <p:nvPr/>
        </p:nvGrpSpPr>
        <p:grpSpPr>
          <a:xfrm>
            <a:off x="4278240" y="4406760"/>
            <a:ext cx="2811240" cy="223560"/>
            <a:chOff x="4278240" y="4406760"/>
            <a:chExt cx="2811240" cy="223560"/>
          </a:xfrm>
        </p:grpSpPr>
        <p:sp>
          <p:nvSpPr>
            <p:cNvPr id="648" name=""/>
            <p:cNvSpPr/>
            <p:nvPr/>
          </p:nvSpPr>
          <p:spPr>
            <a:xfrm>
              <a:off x="4879800" y="440676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M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78240" y="452880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573440" y="4406760"/>
              <a:ext cx="245880" cy="223560"/>
              <a:chOff x="4573440" y="4406760"/>
              <a:chExt cx="245880" cy="2235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4659120" y="4406760"/>
                <a:ext cx="74520" cy="28080"/>
                <a:chOff x="4659120" y="4406760"/>
                <a:chExt cx="74520" cy="280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659120" y="4406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706640" y="4408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573440" y="4462200"/>
                <a:ext cx="245880" cy="168120"/>
                <a:chOff x="4573440" y="4462200"/>
                <a:chExt cx="245880" cy="1681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573440" y="4462200"/>
                  <a:ext cx="245880" cy="1681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586040" y="4471560"/>
                  <a:ext cx="61560" cy="150840"/>
                </a:xfrm>
                <a:prstGeom prst="rect">
                  <a:avLst/>
                </a:prstGeom>
                <a:solidFill>
                  <a:srgbClr val="66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4584240" y="4476240"/>
                  <a:ext cx="220320" cy="128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584240" y="4476600"/>
                  <a:ext cx="228240" cy="13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9" name=""/>
          <p:cNvGrpSpPr/>
          <p:nvPr/>
        </p:nvGrpSpPr>
        <p:grpSpPr>
          <a:xfrm>
            <a:off x="6388200" y="3562200"/>
            <a:ext cx="284040" cy="193680"/>
            <a:chOff x="6388200" y="3562200"/>
            <a:chExt cx="284040" cy="193680"/>
          </a:xfrm>
        </p:grpSpPr>
        <p:sp>
          <p:nvSpPr>
            <p:cNvPr id="660" name=""/>
            <p:cNvSpPr/>
            <p:nvPr/>
          </p:nvSpPr>
          <p:spPr>
            <a:xfrm>
              <a:off x="6388200" y="3562200"/>
              <a:ext cx="284040" cy="1936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391080" y="3565080"/>
              <a:ext cx="27648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88200" y="3565080"/>
              <a:ext cx="28260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529320" y="349884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686640" y="354636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apons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681960" y="5094360"/>
            <a:ext cx="0" cy="2826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615000" y="5237280"/>
            <a:ext cx="231840" cy="232560"/>
            <a:chOff x="6615000" y="5237280"/>
            <a:chExt cx="231840" cy="232560"/>
          </a:xfrm>
        </p:grpSpPr>
        <p:grpSp>
          <p:nvGrpSpPr>
            <p:cNvPr id="667" name=""/>
            <p:cNvGrpSpPr/>
            <p:nvPr/>
          </p:nvGrpSpPr>
          <p:grpSpPr>
            <a:xfrm>
              <a:off x="6615000" y="5280120"/>
              <a:ext cx="231840" cy="189720"/>
              <a:chOff x="6615000" y="5280120"/>
              <a:chExt cx="231840" cy="189720"/>
            </a:xfrm>
          </p:grpSpPr>
          <p:sp>
            <p:nvSpPr>
              <p:cNvPr id="668" name=""/>
              <p:cNvSpPr/>
              <p:nvPr/>
            </p:nvSpPr>
            <p:spPr>
              <a:xfrm>
                <a:off x="6615000" y="5280120"/>
                <a:ext cx="231840" cy="15660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626160" y="5443200"/>
                <a:ext cx="2700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807240" y="5443200"/>
                <a:ext cx="28440" cy="2664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692760" y="5237280"/>
              <a:ext cx="74520" cy="28080"/>
              <a:chOff x="6692760" y="5237280"/>
              <a:chExt cx="74520" cy="2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6692760" y="5237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40280" y="5238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6875640" y="5254560"/>
            <a:ext cx="109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980400" y="509436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504120" y="5076720"/>
            <a:ext cx="199800" cy="3240"/>
          </a:xfrm>
          <a:custGeom>
            <a:avLst/>
            <a:gdLst/>
            <a:ahLst/>
            <a:rect l="l" t="t" r="r" b="b"/>
            <a:pathLst>
              <a:path w="126" h="2">
                <a:moveTo>
                  <a:pt x="0" y="2"/>
                </a:moveTo>
                <a:lnTo>
                  <a:pt x="126" y="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622920" y="4946760"/>
            <a:ext cx="231480" cy="205920"/>
            <a:chOff x="6622920" y="4946760"/>
            <a:chExt cx="231480" cy="205920"/>
          </a:xfrm>
        </p:grpSpPr>
        <p:grpSp>
          <p:nvGrpSpPr>
            <p:cNvPr id="678" name=""/>
            <p:cNvGrpSpPr/>
            <p:nvPr/>
          </p:nvGrpSpPr>
          <p:grpSpPr>
            <a:xfrm>
              <a:off x="6622920" y="4995720"/>
              <a:ext cx="231480" cy="156960"/>
              <a:chOff x="6622920" y="4995720"/>
              <a:chExt cx="231480" cy="15696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6622920" y="4995720"/>
                <a:ext cx="231480" cy="156960"/>
                <a:chOff x="6622920" y="4995720"/>
                <a:chExt cx="231480" cy="1569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6622920" y="49957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622920" y="4998600"/>
                  <a:ext cx="11412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737040" y="499572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6724800" y="506088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6692760" y="4946760"/>
              <a:ext cx="74520" cy="28080"/>
              <a:chOff x="6692760" y="4946760"/>
              <a:chExt cx="74520" cy="28080"/>
            </a:xfrm>
          </p:grpSpPr>
          <p:sp>
            <p:nvSpPr>
              <p:cNvPr id="685" name=""/>
              <p:cNvSpPr/>
              <p:nvPr/>
            </p:nvSpPr>
            <p:spPr>
              <a:xfrm>
                <a:off x="6692760" y="494676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40280" y="4948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"/>
          <p:cNvSpPr/>
          <p:nvPr/>
        </p:nvSpPr>
        <p:spPr>
          <a:xfrm>
            <a:off x="6892920" y="4951440"/>
            <a:ext cx="128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mm Recoilless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04120" y="3727440"/>
            <a:ext cx="1440" cy="1371600"/>
          </a:xfrm>
          <a:custGeom>
            <a:avLst/>
            <a:gdLst/>
            <a:ahLst/>
            <a:rect l="l" t="t" r="r" b="b"/>
            <a:pathLst>
              <a:path w="1" h="864">
                <a:moveTo>
                  <a:pt x="0" y="0"/>
                </a:moveTo>
                <a:lnTo>
                  <a:pt x="0" y="864"/>
                </a:lnTo>
              </a:path>
            </a:pathLst>
          </a:custGeom>
          <a:noFill/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80880" y="3413160"/>
            <a:ext cx="2610000" cy="300960"/>
            <a:chOff x="380880" y="3413160"/>
            <a:chExt cx="2610000" cy="300960"/>
          </a:xfrm>
        </p:grpSpPr>
        <p:sp>
          <p:nvSpPr>
            <p:cNvPr id="690" name=""/>
            <p:cNvSpPr/>
            <p:nvPr/>
          </p:nvSpPr>
          <p:spPr>
            <a:xfrm>
              <a:off x="380880" y="3476520"/>
              <a:ext cx="347760" cy="2361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525600" y="3413160"/>
              <a:ext cx="75960" cy="63360"/>
              <a:chOff x="525600" y="3413160"/>
              <a:chExt cx="75960" cy="63360"/>
            </a:xfrm>
          </p:grpSpPr>
          <p:sp>
            <p:nvSpPr>
              <p:cNvPr id="692" name=""/>
              <p:cNvSpPr/>
              <p:nvPr/>
            </p:nvSpPr>
            <p:spPr>
              <a:xfrm>
                <a:off x="525600" y="3413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1560" y="34131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47720" y="3498480"/>
              <a:ext cx="224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uban Construction Battal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496800" y="3563640"/>
              <a:ext cx="115920" cy="61560"/>
              <a:chOff x="496800" y="3563640"/>
              <a:chExt cx="115920" cy="61560"/>
            </a:xfrm>
          </p:grpSpPr>
          <p:sp>
            <p:nvSpPr>
              <p:cNvPr id="696" name=""/>
              <p:cNvSpPr/>
              <p:nvPr/>
            </p:nvSpPr>
            <p:spPr>
              <a:xfrm>
                <a:off x="502920" y="3563640"/>
                <a:ext cx="0" cy="6156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4040" y="3566520"/>
                <a:ext cx="0" cy="5832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03000" y="3568320"/>
                <a:ext cx="0" cy="5652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6800" y="3566520"/>
                <a:ext cx="1159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"/>
          <p:cNvGrpSpPr/>
          <p:nvPr/>
        </p:nvGrpSpPr>
        <p:grpSpPr>
          <a:xfrm>
            <a:off x="4722480" y="826920"/>
            <a:ext cx="3161160" cy="311040"/>
            <a:chOff x="4722480" y="826920"/>
            <a:chExt cx="3161160" cy="311040"/>
          </a:xfrm>
        </p:grpSpPr>
        <p:sp>
          <p:nvSpPr>
            <p:cNvPr id="701" name=""/>
            <p:cNvSpPr/>
            <p:nvPr/>
          </p:nvSpPr>
          <p:spPr>
            <a:xfrm>
              <a:off x="5332680" y="922320"/>
              <a:ext cx="255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4722480" y="104616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42040" y="82692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019840" y="911160"/>
              <a:ext cx="237960" cy="211320"/>
              <a:chOff x="5019840" y="911160"/>
              <a:chExt cx="237960" cy="211320"/>
            </a:xfrm>
          </p:grpSpPr>
          <p:sp>
            <p:nvSpPr>
              <p:cNvPr id="705" name=""/>
              <p:cNvSpPr/>
              <p:nvPr/>
            </p:nvSpPr>
            <p:spPr>
              <a:xfrm>
                <a:off x="5019840" y="965160"/>
                <a:ext cx="23796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24600" y="911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485640" y="530280"/>
            <a:ext cx="2379960" cy="263160"/>
            <a:chOff x="485640" y="530280"/>
            <a:chExt cx="2379960" cy="263160"/>
          </a:xfrm>
        </p:grpSpPr>
        <p:grpSp>
          <p:nvGrpSpPr>
            <p:cNvPr id="708" name=""/>
            <p:cNvGrpSpPr/>
            <p:nvPr/>
          </p:nvGrpSpPr>
          <p:grpSpPr>
            <a:xfrm>
              <a:off x="485640" y="593640"/>
              <a:ext cx="284400" cy="193320"/>
              <a:chOff x="485640" y="593640"/>
              <a:chExt cx="284400" cy="193320"/>
            </a:xfrm>
          </p:grpSpPr>
          <p:sp>
            <p:nvSpPr>
              <p:cNvPr id="709" name=""/>
              <p:cNvSpPr/>
              <p:nvPr/>
            </p:nvSpPr>
            <p:spPr>
              <a:xfrm>
                <a:off x="485640" y="593640"/>
                <a:ext cx="284400" cy="193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488520" y="596160"/>
                <a:ext cx="27684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5640" y="596520"/>
                <a:ext cx="282960" cy="184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2" name=""/>
            <p:cNvSpPr/>
            <p:nvPr/>
          </p:nvSpPr>
          <p:spPr>
            <a:xfrm>
              <a:off x="627120" y="5302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84080" y="57780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urity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960480" y="1063800"/>
            <a:ext cx="0" cy="28224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31840" y="121428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909720" y="1189080"/>
            <a:ext cx="231840" cy="223560"/>
            <a:chOff x="909720" y="1189080"/>
            <a:chExt cx="231840" cy="223560"/>
          </a:xfrm>
        </p:grpSpPr>
        <p:sp>
          <p:nvSpPr>
            <p:cNvPr id="717" name=""/>
            <p:cNvSpPr/>
            <p:nvPr/>
          </p:nvSpPr>
          <p:spPr>
            <a:xfrm>
              <a:off x="1011240" y="118908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" name=""/>
            <p:cNvGrpSpPr/>
            <p:nvPr/>
          </p:nvGrpSpPr>
          <p:grpSpPr>
            <a:xfrm>
              <a:off x="909720" y="1222200"/>
              <a:ext cx="231840" cy="190440"/>
              <a:chOff x="909720" y="1222200"/>
              <a:chExt cx="231840" cy="190440"/>
            </a:xfrm>
          </p:grpSpPr>
          <p:sp>
            <p:nvSpPr>
              <p:cNvPr id="719" name=""/>
              <p:cNvSpPr/>
              <p:nvPr/>
            </p:nvSpPr>
            <p:spPr>
              <a:xfrm>
                <a:off x="909720" y="122220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20880" y="138564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101960" y="1385640"/>
                <a:ext cx="2844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1135080" y="1074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31840" y="1504800"/>
            <a:ext cx="15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Infa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1560" y="161928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914400" y="1501920"/>
            <a:ext cx="231480" cy="205920"/>
            <a:chOff x="914400" y="1501920"/>
            <a:chExt cx="231480" cy="205920"/>
          </a:xfrm>
        </p:grpSpPr>
        <p:grpSp>
          <p:nvGrpSpPr>
            <p:cNvPr id="726" name=""/>
            <p:cNvGrpSpPr/>
            <p:nvPr/>
          </p:nvGrpSpPr>
          <p:grpSpPr>
            <a:xfrm>
              <a:off x="993600" y="1501920"/>
              <a:ext cx="74520" cy="28080"/>
              <a:chOff x="993600" y="1501920"/>
              <a:chExt cx="74520" cy="28080"/>
            </a:xfrm>
          </p:grpSpPr>
          <p:sp>
            <p:nvSpPr>
              <p:cNvPr id="727" name=""/>
              <p:cNvSpPr/>
              <p:nvPr/>
            </p:nvSpPr>
            <p:spPr>
              <a:xfrm>
                <a:off x="993600" y="150192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041120" y="15033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914400" y="1550880"/>
              <a:ext cx="231480" cy="156960"/>
              <a:chOff x="914400" y="1550880"/>
              <a:chExt cx="231480" cy="156960"/>
            </a:xfrm>
          </p:grpSpPr>
          <p:sp>
            <p:nvSpPr>
              <p:cNvPr id="730" name=""/>
              <p:cNvSpPr/>
              <p:nvPr/>
            </p:nvSpPr>
            <p:spPr>
              <a:xfrm>
                <a:off x="914400" y="1550880"/>
                <a:ext cx="23148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916560" y="1553040"/>
                <a:ext cx="225360" cy="15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14400" y="1553040"/>
                <a:ext cx="230400" cy="14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3" name=""/>
          <p:cNvSpPr/>
          <p:nvPr/>
        </p:nvSpPr>
        <p:spPr>
          <a:xfrm>
            <a:off x="600120" y="758880"/>
            <a:ext cx="1440" cy="857160"/>
          </a:xfrm>
          <a:custGeom>
            <a:avLst/>
            <a:gdLst/>
            <a:ahLst/>
            <a:rect l="l" t="t" r="r" b="b"/>
            <a:pathLst>
              <a:path w="1" h="540">
                <a:moveTo>
                  <a:pt x="1" y="0"/>
                </a:moveTo>
                <a:lnTo>
                  <a:pt x="0" y="540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35080" y="91116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mman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560" y="987480"/>
            <a:ext cx="300240" cy="144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31840" y="75888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00"/>
                </a:solidFill>
                <a:latin typeface="Arial"/>
              </a:rPr>
              <a:t>Comm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907920" y="876240"/>
            <a:ext cx="237960" cy="212400"/>
            <a:chOff x="907920" y="876240"/>
            <a:chExt cx="237960" cy="212400"/>
          </a:xfrm>
        </p:grpSpPr>
        <p:grpSp>
          <p:nvGrpSpPr>
            <p:cNvPr id="738" name=""/>
            <p:cNvGrpSpPr/>
            <p:nvPr/>
          </p:nvGrpSpPr>
          <p:grpSpPr>
            <a:xfrm>
              <a:off x="990360" y="876240"/>
              <a:ext cx="74520" cy="28080"/>
              <a:chOff x="990360" y="876240"/>
              <a:chExt cx="74520" cy="28080"/>
            </a:xfrm>
          </p:grpSpPr>
          <p:sp>
            <p:nvSpPr>
              <p:cNvPr id="739" name=""/>
              <p:cNvSpPr/>
              <p:nvPr/>
            </p:nvSpPr>
            <p:spPr>
              <a:xfrm>
                <a:off x="990360" y="8762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037880" y="8776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907920" y="931680"/>
              <a:ext cx="237960" cy="15696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H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957240" y="1673280"/>
            <a:ext cx="0" cy="282600"/>
          </a:xfrm>
          <a:prstGeom prst="line">
            <a:avLst/>
          </a:prstGeom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131840" y="182412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uck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906480" y="1798560"/>
            <a:ext cx="231840" cy="223560"/>
            <a:chOff x="906480" y="1798560"/>
            <a:chExt cx="231840" cy="223560"/>
          </a:xfrm>
        </p:grpSpPr>
        <p:sp>
          <p:nvSpPr>
            <p:cNvPr id="745" name=""/>
            <p:cNvSpPr/>
            <p:nvPr/>
          </p:nvSpPr>
          <p:spPr>
            <a:xfrm>
              <a:off x="1008000" y="179856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906480" y="1831680"/>
              <a:ext cx="231840" cy="190440"/>
              <a:chOff x="906480" y="1831680"/>
              <a:chExt cx="231840" cy="190440"/>
            </a:xfrm>
          </p:grpSpPr>
          <p:sp>
            <p:nvSpPr>
              <p:cNvPr id="747" name=""/>
              <p:cNvSpPr/>
              <p:nvPr/>
            </p:nvSpPr>
            <p:spPr>
              <a:xfrm>
                <a:off x="906480" y="1831680"/>
                <a:ext cx="23184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17640" y="1995120"/>
                <a:ext cx="2700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1098720" y="1995120"/>
                <a:ext cx="28440" cy="27000"/>
              </a:xfrm>
              <a:prstGeom prst="ellipse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0" name=""/>
          <p:cNvSpPr/>
          <p:nvPr/>
        </p:nvSpPr>
        <p:spPr>
          <a:xfrm>
            <a:off x="1131840" y="168444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9900"/>
                </a:solidFill>
                <a:latin typeface="Arial"/>
              </a:rPr>
              <a:t>Trans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1440" y="617400"/>
            <a:ext cx="22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iaircraft Company (ZU-23A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22840" y="809640"/>
            <a:ext cx="0" cy="4618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5014800" y="1335240"/>
            <a:ext cx="2868480" cy="342720"/>
            <a:chOff x="5014800" y="1335240"/>
            <a:chExt cx="2868480" cy="342720"/>
          </a:xfrm>
        </p:grpSpPr>
        <p:grpSp>
          <p:nvGrpSpPr>
            <p:cNvPr id="754" name=""/>
            <p:cNvGrpSpPr/>
            <p:nvPr/>
          </p:nvGrpSpPr>
          <p:grpSpPr>
            <a:xfrm>
              <a:off x="5014800" y="1343160"/>
              <a:ext cx="2868480" cy="334800"/>
              <a:chOff x="5014800" y="1343160"/>
              <a:chExt cx="2868480" cy="334800"/>
            </a:xfrm>
          </p:grpSpPr>
          <p:sp>
            <p:nvSpPr>
              <p:cNvPr id="755" name=""/>
              <p:cNvSpPr/>
              <p:nvPr/>
            </p:nvSpPr>
            <p:spPr>
              <a:xfrm>
                <a:off x="5205240" y="1343160"/>
                <a:ext cx="0" cy="169200"/>
              </a:xfrm>
              <a:prstGeom prst="line">
                <a:avLst/>
              </a:prstGeom>
              <a:ln w="158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014800" y="1442520"/>
                <a:ext cx="231480" cy="235440"/>
                <a:chOff x="5014800" y="1442520"/>
                <a:chExt cx="231480" cy="235440"/>
              </a:xfrm>
            </p:grpSpPr>
            <p:grpSp>
              <p:nvGrpSpPr>
                <p:cNvPr id="757" name=""/>
                <p:cNvGrpSpPr/>
                <p:nvPr/>
              </p:nvGrpSpPr>
              <p:grpSpPr>
                <a:xfrm>
                  <a:off x="5092560" y="1442520"/>
                  <a:ext cx="74520" cy="28080"/>
                  <a:chOff x="5092560" y="1442520"/>
                  <a:chExt cx="74520" cy="28080"/>
                </a:xfrm>
              </p:grpSpPr>
              <p:sp>
                <p:nvSpPr>
                  <p:cNvPr id="758" name=""/>
                  <p:cNvSpPr/>
                  <p:nvPr/>
                </p:nvSpPr>
                <p:spPr>
                  <a:xfrm>
                    <a:off x="5092560" y="14425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5140080" y="14439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5014800" y="1488240"/>
                  <a:ext cx="231480" cy="189720"/>
                  <a:chOff x="5014800" y="1488240"/>
                  <a:chExt cx="231480" cy="18972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5014800" y="1488240"/>
                    <a:ext cx="23148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025600" y="1651320"/>
                    <a:ext cx="2664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206680" y="1651320"/>
                    <a:ext cx="28080" cy="26640"/>
                  </a:xfrm>
                  <a:prstGeom prst="ellipse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4" name=""/>
              <p:cNvSpPr/>
              <p:nvPr/>
            </p:nvSpPr>
            <p:spPr>
              <a:xfrm>
                <a:off x="5341680" y="1428480"/>
                <a:ext cx="254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edium Tru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5316480" y="133524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4572000" y="609480"/>
            <a:ext cx="291600" cy="244080"/>
            <a:chOff x="4572000" y="609480"/>
            <a:chExt cx="291600" cy="244080"/>
          </a:xfrm>
        </p:grpSpPr>
        <p:sp>
          <p:nvSpPr>
            <p:cNvPr id="767" name=""/>
            <p:cNvSpPr/>
            <p:nvPr/>
          </p:nvSpPr>
          <p:spPr>
            <a:xfrm>
              <a:off x="4719240" y="609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572000" y="663480"/>
              <a:ext cx="291600" cy="190080"/>
              <a:chOff x="4572000" y="663480"/>
              <a:chExt cx="291600" cy="190080"/>
            </a:xfrm>
          </p:grpSpPr>
          <p:sp>
            <p:nvSpPr>
              <p:cNvPr id="769" name=""/>
              <p:cNvSpPr/>
              <p:nvPr/>
            </p:nvSpPr>
            <p:spPr>
              <a:xfrm>
                <a:off x="4574160" y="663480"/>
                <a:ext cx="28944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572000" y="664560"/>
                <a:ext cx="14004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12040" y="663480"/>
                <a:ext cx="14940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52640" y="74412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4727520" y="1101600"/>
            <a:ext cx="3155760" cy="276120"/>
            <a:chOff x="4727520" y="1101600"/>
            <a:chExt cx="3155760" cy="276120"/>
          </a:xfrm>
        </p:grpSpPr>
        <p:sp>
          <p:nvSpPr>
            <p:cNvPr id="774" name=""/>
            <p:cNvSpPr/>
            <p:nvPr/>
          </p:nvSpPr>
          <p:spPr>
            <a:xfrm>
              <a:off x="5205240" y="1101600"/>
              <a:ext cx="0" cy="16992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4727520" y="1273320"/>
              <a:ext cx="29520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41680" y="1162080"/>
              <a:ext cx="25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ZU-23 Twin Barrel AA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4995720" y="1170000"/>
              <a:ext cx="240840" cy="203040"/>
              <a:chOff x="4995720" y="1170000"/>
              <a:chExt cx="240840" cy="20304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5078160" y="1170000"/>
                <a:ext cx="74520" cy="28080"/>
                <a:chOff x="5078160" y="1170000"/>
                <a:chExt cx="74520" cy="2808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078160" y="11700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125680" y="1171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95720" y="1216080"/>
                <a:ext cx="240840" cy="156960"/>
                <a:chOff x="4995720" y="1216080"/>
                <a:chExt cx="240840" cy="1569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4997160" y="1216080"/>
                  <a:ext cx="23940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4995720" y="1217520"/>
                  <a:ext cx="11556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111280" y="1216080"/>
                  <a:ext cx="12348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062320" y="1282680"/>
                  <a:ext cx="97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6" name=""/>
          <p:cNvSpPr/>
          <p:nvPr/>
        </p:nvSpPr>
        <p:spPr>
          <a:xfrm>
            <a:off x="380880" y="3049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95680" y="384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516720" y="3809880"/>
            <a:ext cx="3008160" cy="315360"/>
            <a:chOff x="6516720" y="3809880"/>
            <a:chExt cx="3008160" cy="315360"/>
          </a:xfrm>
        </p:grpSpPr>
        <p:sp>
          <p:nvSpPr>
            <p:cNvPr id="789" name=""/>
            <p:cNvSpPr/>
            <p:nvPr/>
          </p:nvSpPr>
          <p:spPr>
            <a:xfrm>
              <a:off x="6516720" y="4032000"/>
              <a:ext cx="18252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6662880" y="3909600"/>
              <a:ext cx="231480" cy="196560"/>
              <a:chOff x="6662880" y="3909600"/>
              <a:chExt cx="231480" cy="19656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6662880" y="3949200"/>
                <a:ext cx="231480" cy="156960"/>
                <a:chOff x="6662880" y="3949200"/>
                <a:chExt cx="231480" cy="1569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6662880" y="394920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745320" y="399996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6765840" y="39096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6999480" y="380988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983280" y="3909600"/>
              <a:ext cx="25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521400" y="4114800"/>
            <a:ext cx="3003480" cy="327960"/>
            <a:chOff x="6521400" y="4114800"/>
            <a:chExt cx="3003480" cy="327960"/>
          </a:xfrm>
        </p:grpSpPr>
        <p:sp>
          <p:nvSpPr>
            <p:cNvPr id="798" name=""/>
            <p:cNvSpPr/>
            <p:nvPr/>
          </p:nvSpPr>
          <p:spPr>
            <a:xfrm>
              <a:off x="6521400" y="4338360"/>
              <a:ext cx="17784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6657840" y="4200120"/>
              <a:ext cx="239760" cy="203040"/>
              <a:chOff x="6657840" y="4200120"/>
              <a:chExt cx="239760" cy="20304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6657840" y="4245840"/>
                <a:ext cx="239760" cy="157320"/>
                <a:chOff x="6657840" y="4245840"/>
                <a:chExt cx="239760" cy="1573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6657840" y="4245840"/>
                  <a:ext cx="2397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6742080" y="4371480"/>
                  <a:ext cx="680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6773760" y="426636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6741720" y="4200120"/>
                <a:ext cx="74520" cy="28080"/>
                <a:chOff x="6741720" y="4200120"/>
                <a:chExt cx="74520" cy="2808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6741720" y="42001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789240" y="42015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7" name=""/>
            <p:cNvSpPr/>
            <p:nvPr/>
          </p:nvSpPr>
          <p:spPr>
            <a:xfrm>
              <a:off x="6983280" y="4227120"/>
              <a:ext cx="25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82mm Mor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99480" y="4114800"/>
              <a:ext cx="204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-board 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645240" y="4419720"/>
            <a:ext cx="2879280" cy="389880"/>
            <a:chOff x="6645240" y="4419720"/>
            <a:chExt cx="2879280" cy="389880"/>
          </a:xfrm>
        </p:grpSpPr>
        <p:grpSp>
          <p:nvGrpSpPr>
            <p:cNvPr id="810" name=""/>
            <p:cNvGrpSpPr/>
            <p:nvPr/>
          </p:nvGrpSpPr>
          <p:grpSpPr>
            <a:xfrm>
              <a:off x="6645240" y="4570200"/>
              <a:ext cx="231480" cy="235440"/>
              <a:chOff x="6645240" y="4570200"/>
              <a:chExt cx="231480" cy="2354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6645240" y="4615920"/>
                <a:ext cx="231480" cy="189720"/>
                <a:chOff x="6645240" y="4615920"/>
                <a:chExt cx="231480" cy="1897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6645240" y="4615920"/>
                  <a:ext cx="231480" cy="15660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656040" y="4779000"/>
                  <a:ext cx="2664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837120" y="4779000"/>
                  <a:ext cx="28080" cy="26640"/>
                </a:xfrm>
                <a:prstGeom prst="ellipse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6722640" y="4570200"/>
                <a:ext cx="73800" cy="28080"/>
                <a:chOff x="6722640" y="4570200"/>
                <a:chExt cx="73800" cy="2808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6722640" y="4570200"/>
                  <a:ext cx="2808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769800" y="457164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6983280" y="4593960"/>
              <a:ext cx="254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Medium Tru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9120" y="4481280"/>
              <a:ext cx="1388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Trans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3040" y="4419720"/>
              <a:ext cx="0" cy="27576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304920" y="3048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Battle Group - 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3048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3048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Arial"/>
              </a:rPr>
              <a:t>Maneuver Element- 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533520" y="1560600"/>
            <a:ext cx="1440" cy="1620720"/>
          </a:xfrm>
          <a:custGeom>
            <a:avLst/>
            <a:gdLst/>
            <a:ahLst/>
            <a:rect l="l" t="t" r="r" b="b"/>
            <a:pathLst>
              <a:path w="1" h="1021">
                <a:moveTo>
                  <a:pt x="0" y="0"/>
                </a:moveTo>
                <a:lnTo>
                  <a:pt x="0" y="10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80880" y="1300320"/>
            <a:ext cx="347400" cy="299520"/>
            <a:chOff x="380880" y="1300320"/>
            <a:chExt cx="347400" cy="299520"/>
          </a:xfrm>
        </p:grpSpPr>
        <p:grpSp>
          <p:nvGrpSpPr>
            <p:cNvPr id="826" name=""/>
            <p:cNvGrpSpPr/>
            <p:nvPr/>
          </p:nvGrpSpPr>
          <p:grpSpPr>
            <a:xfrm>
              <a:off x="380880" y="1363680"/>
              <a:ext cx="347400" cy="236160"/>
              <a:chOff x="380880" y="1363680"/>
              <a:chExt cx="347400" cy="236160"/>
            </a:xfrm>
          </p:grpSpPr>
          <p:sp>
            <p:nvSpPr>
              <p:cNvPr id="827" name=""/>
              <p:cNvSpPr/>
              <p:nvPr/>
            </p:nvSpPr>
            <p:spPr>
              <a:xfrm>
                <a:off x="380880" y="1363680"/>
                <a:ext cx="347400" cy="2361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384480" y="1367280"/>
                <a:ext cx="338760" cy="231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80880" y="1367280"/>
                <a:ext cx="345960" cy="225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525600" y="1300320"/>
              <a:ext cx="75960" cy="63360"/>
              <a:chOff x="525600" y="1300320"/>
              <a:chExt cx="75960" cy="63360"/>
            </a:xfrm>
          </p:grpSpPr>
          <p:sp>
            <p:nvSpPr>
              <p:cNvPr id="831" name=""/>
              <p:cNvSpPr/>
              <p:nvPr/>
            </p:nvSpPr>
            <p:spPr>
              <a:xfrm>
                <a:off x="525600" y="1300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560" y="130032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3" name=""/>
          <p:cNvSpPr/>
          <p:nvPr/>
        </p:nvSpPr>
        <p:spPr>
          <a:xfrm>
            <a:off x="747720" y="1332000"/>
            <a:ext cx="22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itia Battalion (same for 111, 112, 221, 331, 441 PRM Battalio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6120" y="1871640"/>
            <a:ext cx="2644920" cy="263160"/>
            <a:chOff x="546120" y="1871640"/>
            <a:chExt cx="2644920" cy="263160"/>
          </a:xfrm>
        </p:grpSpPr>
        <p:sp>
          <p:nvSpPr>
            <p:cNvPr id="835" name=""/>
            <p:cNvSpPr/>
            <p:nvPr/>
          </p:nvSpPr>
          <p:spPr>
            <a:xfrm>
              <a:off x="546120" y="20368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"/>
            <p:cNvGrpSpPr/>
            <p:nvPr/>
          </p:nvGrpSpPr>
          <p:grpSpPr>
            <a:xfrm>
              <a:off x="811080" y="1935000"/>
              <a:ext cx="284400" cy="193680"/>
              <a:chOff x="811080" y="1935000"/>
              <a:chExt cx="284400" cy="193680"/>
            </a:xfrm>
          </p:grpSpPr>
          <p:sp>
            <p:nvSpPr>
              <p:cNvPr id="837" name=""/>
              <p:cNvSpPr/>
              <p:nvPr/>
            </p:nvSpPr>
            <p:spPr>
              <a:xfrm>
                <a:off x="811080" y="1935000"/>
                <a:ext cx="28440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813960" y="1937880"/>
                <a:ext cx="27684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11080" y="1937880"/>
                <a:ext cx="28296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952560" y="1871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09520" y="1919160"/>
              <a:ext cx="2081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apid Mobilization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2438280" y="1676520"/>
            <a:ext cx="609840" cy="1752480"/>
          </a:xfrm>
          <a:custGeom>
            <a:avLst/>
            <a:gdLst>
              <a:gd name="textAreaLeft" fmla="*/ 0 w 609840"/>
              <a:gd name="textAreaRight" fmla="*/ 220320 w 609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533520" y="2209680"/>
            <a:ext cx="2644200" cy="263160"/>
            <a:chOff x="533520" y="2209680"/>
            <a:chExt cx="2644200" cy="263160"/>
          </a:xfrm>
        </p:grpSpPr>
        <p:sp>
          <p:nvSpPr>
            <p:cNvPr id="844" name=""/>
            <p:cNvSpPr/>
            <p:nvPr/>
          </p:nvSpPr>
          <p:spPr>
            <a:xfrm>
              <a:off x="533520" y="237492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798120" y="2273040"/>
              <a:ext cx="284040" cy="193680"/>
              <a:chOff x="798120" y="2273040"/>
              <a:chExt cx="284040" cy="193680"/>
            </a:xfrm>
          </p:grpSpPr>
          <p:sp>
            <p:nvSpPr>
              <p:cNvPr id="846" name=""/>
              <p:cNvSpPr/>
              <p:nvPr/>
            </p:nvSpPr>
            <p:spPr>
              <a:xfrm>
                <a:off x="798120" y="227304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801000" y="227592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98120" y="227592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939600" y="22096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96560" y="225720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litia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33520" y="2557440"/>
            <a:ext cx="2644200" cy="263160"/>
            <a:chOff x="533520" y="2557440"/>
            <a:chExt cx="2644200" cy="263160"/>
          </a:xfrm>
        </p:grpSpPr>
        <p:sp>
          <p:nvSpPr>
            <p:cNvPr id="852" name=""/>
            <p:cNvSpPr/>
            <p:nvPr/>
          </p:nvSpPr>
          <p:spPr>
            <a:xfrm>
              <a:off x="533520" y="27226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798120" y="2620800"/>
              <a:ext cx="284040" cy="193680"/>
              <a:chOff x="798120" y="2620800"/>
              <a:chExt cx="284040" cy="193680"/>
            </a:xfrm>
          </p:grpSpPr>
          <p:sp>
            <p:nvSpPr>
              <p:cNvPr id="854" name=""/>
              <p:cNvSpPr/>
              <p:nvPr/>
            </p:nvSpPr>
            <p:spPr>
              <a:xfrm>
                <a:off x="798120" y="262080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801000" y="262368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8120" y="262368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"/>
            <p:cNvSpPr/>
            <p:nvPr/>
          </p:nvSpPr>
          <p:spPr>
            <a:xfrm>
              <a:off x="939600" y="25574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096560" y="26049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ilitia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533520" y="3014640"/>
            <a:ext cx="2644200" cy="263160"/>
            <a:chOff x="533520" y="3014640"/>
            <a:chExt cx="2644200" cy="263160"/>
          </a:xfrm>
        </p:grpSpPr>
        <p:sp>
          <p:nvSpPr>
            <p:cNvPr id="860" name=""/>
            <p:cNvSpPr/>
            <p:nvPr/>
          </p:nvSpPr>
          <p:spPr>
            <a:xfrm>
              <a:off x="533520" y="3179880"/>
              <a:ext cx="352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798120" y="3078000"/>
              <a:ext cx="284040" cy="193680"/>
              <a:chOff x="798120" y="3078000"/>
              <a:chExt cx="284040" cy="193680"/>
            </a:xfrm>
          </p:grpSpPr>
          <p:sp>
            <p:nvSpPr>
              <p:cNvPr id="862" name=""/>
              <p:cNvSpPr/>
              <p:nvPr/>
            </p:nvSpPr>
            <p:spPr>
              <a:xfrm>
                <a:off x="798120" y="3078000"/>
                <a:ext cx="284040" cy="1936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801000" y="3080880"/>
                <a:ext cx="276480" cy="18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8120" y="3080880"/>
                <a:ext cx="282600" cy="184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>
              <a:off x="939600" y="301464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096560" y="3062160"/>
              <a:ext cx="2081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apons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4151160" y="1434960"/>
            <a:ext cx="284400" cy="193680"/>
            <a:chOff x="4151160" y="1434960"/>
            <a:chExt cx="284400" cy="193680"/>
          </a:xfrm>
        </p:grpSpPr>
        <p:sp>
          <p:nvSpPr>
            <p:cNvPr id="868" name=""/>
            <p:cNvSpPr/>
            <p:nvPr/>
          </p:nvSpPr>
          <p:spPr>
            <a:xfrm>
              <a:off x="4151160" y="1434960"/>
              <a:ext cx="284400" cy="1936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4154040" y="1437840"/>
              <a:ext cx="27684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51160" y="1437840"/>
              <a:ext cx="28296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4292640" y="137160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395960" y="137160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pid Mobilization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270320" y="1614600"/>
            <a:ext cx="1800" cy="798480"/>
          </a:xfrm>
          <a:custGeom>
            <a:avLst/>
            <a:gdLst/>
            <a:ahLst/>
            <a:rect l="l" t="t" r="r" b="b"/>
            <a:pathLst>
              <a:path w="1" h="503">
                <a:moveTo>
                  <a:pt x="0" y="0"/>
                </a:moveTo>
                <a:lnTo>
                  <a:pt x="0" y="503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4267080" y="1981080"/>
            <a:ext cx="2975040" cy="218520"/>
            <a:chOff x="4267080" y="1981080"/>
            <a:chExt cx="2975040" cy="218520"/>
          </a:xfrm>
        </p:grpSpPr>
        <p:sp>
          <p:nvSpPr>
            <p:cNvPr id="875" name=""/>
            <p:cNvSpPr/>
            <p:nvPr/>
          </p:nvSpPr>
          <p:spPr>
            <a:xfrm>
              <a:off x="4879800" y="1983960"/>
              <a:ext cx="236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267080" y="2098440"/>
              <a:ext cx="299880" cy="10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579920" y="1981080"/>
              <a:ext cx="231480" cy="205920"/>
              <a:chOff x="4579920" y="1981080"/>
              <a:chExt cx="231480" cy="205920"/>
            </a:xfrm>
          </p:grpSpPr>
          <p:grpSp>
            <p:nvGrpSpPr>
              <p:cNvPr id="878" name=""/>
              <p:cNvGrpSpPr/>
              <p:nvPr/>
            </p:nvGrpSpPr>
            <p:grpSpPr>
              <a:xfrm>
                <a:off x="4659120" y="1981080"/>
                <a:ext cx="74520" cy="28080"/>
                <a:chOff x="4659120" y="1981080"/>
                <a:chExt cx="74520" cy="28080"/>
              </a:xfrm>
            </p:grpSpPr>
            <p:sp>
              <p:nvSpPr>
                <p:cNvPr id="879" name=""/>
                <p:cNvSpPr/>
                <p:nvPr/>
              </p:nvSpPr>
              <p:spPr>
                <a:xfrm>
                  <a:off x="4659120" y="198108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706640" y="198252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4579920" y="2030040"/>
                <a:ext cx="231480" cy="156960"/>
                <a:chOff x="4579920" y="2030040"/>
                <a:chExt cx="231480" cy="15696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4579920" y="203004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4582080" y="203220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579920" y="203220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5" name=""/>
          <p:cNvGrpSpPr/>
          <p:nvPr/>
        </p:nvGrpSpPr>
        <p:grpSpPr>
          <a:xfrm>
            <a:off x="4270320" y="1527120"/>
            <a:ext cx="2819160" cy="368280"/>
            <a:chOff x="4270320" y="1527120"/>
            <a:chExt cx="2819160" cy="368280"/>
          </a:xfrm>
        </p:grpSpPr>
        <p:sp>
          <p:nvSpPr>
            <p:cNvPr id="886" name=""/>
            <p:cNvSpPr/>
            <p:nvPr/>
          </p:nvSpPr>
          <p:spPr>
            <a:xfrm>
              <a:off x="4879800" y="167976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70320" y="175572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79800" y="152712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4576680" y="1644840"/>
              <a:ext cx="237960" cy="212400"/>
              <a:chOff x="4576680" y="1644840"/>
              <a:chExt cx="237960" cy="212400"/>
            </a:xfrm>
          </p:grpSpPr>
          <p:grpSp>
            <p:nvGrpSpPr>
              <p:cNvPr id="890" name=""/>
              <p:cNvGrpSpPr/>
              <p:nvPr/>
            </p:nvGrpSpPr>
            <p:grpSpPr>
              <a:xfrm>
                <a:off x="4659120" y="1644840"/>
                <a:ext cx="74520" cy="28080"/>
                <a:chOff x="4659120" y="1644840"/>
                <a:chExt cx="74520" cy="2808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4659120" y="16448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706640" y="16462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3" name=""/>
              <p:cNvSpPr/>
              <p:nvPr/>
            </p:nvSpPr>
            <p:spPr>
              <a:xfrm>
                <a:off x="4576680" y="170028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4" name=""/>
          <p:cNvGrpSpPr/>
          <p:nvPr/>
        </p:nvGrpSpPr>
        <p:grpSpPr>
          <a:xfrm>
            <a:off x="4278240" y="2289240"/>
            <a:ext cx="2811240" cy="223560"/>
            <a:chOff x="4278240" y="2289240"/>
            <a:chExt cx="2811240" cy="223560"/>
          </a:xfrm>
        </p:grpSpPr>
        <p:sp>
          <p:nvSpPr>
            <p:cNvPr id="895" name=""/>
            <p:cNvSpPr/>
            <p:nvPr/>
          </p:nvSpPr>
          <p:spPr>
            <a:xfrm>
              <a:off x="4879800" y="228924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M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78240" y="241128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4573440" y="2289240"/>
              <a:ext cx="245880" cy="223560"/>
              <a:chOff x="4573440" y="2289240"/>
              <a:chExt cx="245880" cy="22356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4659120" y="2289240"/>
                <a:ext cx="74520" cy="28080"/>
                <a:chOff x="4659120" y="2289240"/>
                <a:chExt cx="74520" cy="280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4659120" y="22892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4706640" y="2290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4573440" y="2344680"/>
                <a:ext cx="245880" cy="168120"/>
                <a:chOff x="4573440" y="2344680"/>
                <a:chExt cx="245880" cy="168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4573440" y="2344680"/>
                  <a:ext cx="245880" cy="1681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586040" y="2354040"/>
                  <a:ext cx="61560" cy="150840"/>
                </a:xfrm>
                <a:prstGeom prst="rect">
                  <a:avLst/>
                </a:prstGeom>
                <a:solidFill>
                  <a:srgbClr val="66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V="1">
                  <a:off x="4584240" y="2358720"/>
                  <a:ext cx="220320" cy="128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584240" y="2359080"/>
                  <a:ext cx="228240" cy="139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6" name=""/>
          <p:cNvGrpSpPr/>
          <p:nvPr/>
        </p:nvGrpSpPr>
        <p:grpSpPr>
          <a:xfrm>
            <a:off x="4216320" y="2879640"/>
            <a:ext cx="284400" cy="193680"/>
            <a:chOff x="4216320" y="2879640"/>
            <a:chExt cx="284400" cy="193680"/>
          </a:xfrm>
        </p:grpSpPr>
        <p:sp>
          <p:nvSpPr>
            <p:cNvPr id="907" name=""/>
            <p:cNvSpPr/>
            <p:nvPr/>
          </p:nvSpPr>
          <p:spPr>
            <a:xfrm>
              <a:off x="4216320" y="2879640"/>
              <a:ext cx="284400" cy="1936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4219200" y="2882520"/>
              <a:ext cx="27684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16320" y="2882520"/>
              <a:ext cx="28296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4357800" y="2816280"/>
            <a:ext cx="0" cy="6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60760" y="281628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ilitia 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34040" y="3059280"/>
            <a:ext cx="1440" cy="484200"/>
          </a:xfrm>
          <a:custGeom>
            <a:avLst/>
            <a:gdLst/>
            <a:ahLst/>
            <a:rect l="l" t="t" r="r" b="b"/>
            <a:pathLst>
              <a:path w="1" h="305">
                <a:moveTo>
                  <a:pt x="1" y="0"/>
                </a:moveTo>
                <a:lnTo>
                  <a:pt x="0" y="305"/>
                </a:lnTo>
              </a:path>
            </a:pathLst>
          </a:custGeom>
          <a:noFill/>
          <a:ln w="158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4332240" y="3425760"/>
            <a:ext cx="2975040" cy="218520"/>
            <a:chOff x="4332240" y="3425760"/>
            <a:chExt cx="2975040" cy="218520"/>
          </a:xfrm>
        </p:grpSpPr>
        <p:sp>
          <p:nvSpPr>
            <p:cNvPr id="914" name=""/>
            <p:cNvSpPr/>
            <p:nvPr/>
          </p:nvSpPr>
          <p:spPr>
            <a:xfrm>
              <a:off x="4944960" y="3428640"/>
              <a:ext cx="236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9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Infan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32240" y="3543120"/>
              <a:ext cx="299880" cy="108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4645080" y="3425760"/>
              <a:ext cx="231480" cy="205920"/>
              <a:chOff x="4645080" y="3425760"/>
              <a:chExt cx="231480" cy="205920"/>
            </a:xfrm>
          </p:grpSpPr>
          <p:grpSp>
            <p:nvGrpSpPr>
              <p:cNvPr id="917" name=""/>
              <p:cNvGrpSpPr/>
              <p:nvPr/>
            </p:nvGrpSpPr>
            <p:grpSpPr>
              <a:xfrm>
                <a:off x="4724280" y="3425760"/>
                <a:ext cx="74520" cy="28080"/>
                <a:chOff x="4724280" y="3425760"/>
                <a:chExt cx="74520" cy="28080"/>
              </a:xfrm>
            </p:grpSpPr>
            <p:sp>
              <p:nvSpPr>
                <p:cNvPr id="918" name=""/>
                <p:cNvSpPr/>
                <p:nvPr/>
              </p:nvSpPr>
              <p:spPr>
                <a:xfrm>
                  <a:off x="4724280" y="34257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771800" y="3427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0" name=""/>
              <p:cNvGrpSpPr/>
              <p:nvPr/>
            </p:nvGrpSpPr>
            <p:grpSpPr>
              <a:xfrm>
                <a:off x="4645080" y="3474720"/>
                <a:ext cx="231480" cy="156960"/>
                <a:chOff x="4645080" y="3474720"/>
                <a:chExt cx="231480" cy="156960"/>
              </a:xfrm>
            </p:grpSpPr>
            <p:sp>
              <p:nvSpPr>
                <p:cNvPr id="921" name=""/>
                <p:cNvSpPr/>
                <p:nvPr/>
              </p:nvSpPr>
              <p:spPr>
                <a:xfrm>
                  <a:off x="4645080" y="34747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V="1">
                  <a:off x="4647240" y="3476880"/>
                  <a:ext cx="22536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645080" y="3476880"/>
                  <a:ext cx="230400" cy="149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24" name=""/>
          <p:cNvGrpSpPr/>
          <p:nvPr/>
        </p:nvGrpSpPr>
        <p:grpSpPr>
          <a:xfrm>
            <a:off x="4335480" y="2971800"/>
            <a:ext cx="2819160" cy="368280"/>
            <a:chOff x="4335480" y="2971800"/>
            <a:chExt cx="2819160" cy="368280"/>
          </a:xfrm>
        </p:grpSpPr>
        <p:sp>
          <p:nvSpPr>
            <p:cNvPr id="925" name=""/>
            <p:cNvSpPr/>
            <p:nvPr/>
          </p:nvSpPr>
          <p:spPr>
            <a:xfrm>
              <a:off x="4944960" y="3124440"/>
              <a:ext cx="2209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35480" y="3200400"/>
              <a:ext cx="299880" cy="180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44960" y="2971800"/>
              <a:ext cx="990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641840" y="3089520"/>
              <a:ext cx="237960" cy="212400"/>
              <a:chOff x="4641840" y="3089520"/>
              <a:chExt cx="237960" cy="2124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4724280" y="3089520"/>
                <a:ext cx="74520" cy="28080"/>
                <a:chOff x="4724280" y="3089520"/>
                <a:chExt cx="74520" cy="2808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4724280" y="308952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771800" y="30909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4641840" y="3144960"/>
                <a:ext cx="23796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3" name=""/>
          <p:cNvGrpSpPr/>
          <p:nvPr/>
        </p:nvGrpSpPr>
        <p:grpSpPr>
          <a:xfrm>
            <a:off x="6388200" y="1444680"/>
            <a:ext cx="284040" cy="193680"/>
            <a:chOff x="6388200" y="1444680"/>
            <a:chExt cx="284040" cy="193680"/>
          </a:xfrm>
        </p:grpSpPr>
        <p:sp>
          <p:nvSpPr>
            <p:cNvPr id="934" name=""/>
            <p:cNvSpPr/>
            <p:nvPr/>
          </p:nvSpPr>
          <p:spPr>
            <a:xfrm>
              <a:off x="6388200" y="1444680"/>
              <a:ext cx="284040" cy="193680"/>
            </a:xfrm>
            <a:prstGeom prst="rect">
              <a:avLst/>
            </a:pr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6391080" y="1447560"/>
              <a:ext cx="276480" cy="18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388200" y="1447560"/>
              <a:ext cx="282600" cy="18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529320" y="1380960"/>
            <a:ext cx="0" cy="6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686640" y="142884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apons Compa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04120" y="2568600"/>
            <a:ext cx="199800" cy="3240"/>
          </a:xfrm>
          <a:custGeom>
            <a:avLst/>
            <a:gdLst/>
            <a:ahLst/>
            <a:rect l="l" t="t" r="r" b="b"/>
            <a:pathLst>
              <a:path w="126" h="2">
                <a:moveTo>
                  <a:pt x="0" y="2"/>
                </a:moveTo>
                <a:lnTo>
                  <a:pt x="126" y="0"/>
                </a:lnTo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6622920" y="2438280"/>
            <a:ext cx="231480" cy="205920"/>
            <a:chOff x="6622920" y="2438280"/>
            <a:chExt cx="231480" cy="205920"/>
          </a:xfrm>
        </p:grpSpPr>
        <p:grpSp>
          <p:nvGrpSpPr>
            <p:cNvPr id="941" name=""/>
            <p:cNvGrpSpPr/>
            <p:nvPr/>
          </p:nvGrpSpPr>
          <p:grpSpPr>
            <a:xfrm>
              <a:off x="6622920" y="2487240"/>
              <a:ext cx="231480" cy="156960"/>
              <a:chOff x="6622920" y="2487240"/>
              <a:chExt cx="231480" cy="15696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6622920" y="2487240"/>
                <a:ext cx="231480" cy="156960"/>
                <a:chOff x="6622920" y="2487240"/>
                <a:chExt cx="231480" cy="156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6622920" y="248724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6622920" y="2490120"/>
                  <a:ext cx="11412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37040" y="2487240"/>
                  <a:ext cx="114480" cy="153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>
                <a:off x="6724800" y="2552400"/>
                <a:ext cx="28440" cy="2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6692760" y="2438280"/>
              <a:ext cx="74520" cy="28080"/>
              <a:chOff x="6692760" y="2438280"/>
              <a:chExt cx="74520" cy="28080"/>
            </a:xfrm>
          </p:grpSpPr>
          <p:sp>
            <p:nvSpPr>
              <p:cNvPr id="948" name=""/>
              <p:cNvSpPr/>
              <p:nvPr/>
            </p:nvSpPr>
            <p:spPr>
              <a:xfrm>
                <a:off x="6692760" y="2438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40280" y="2439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>
            <a:off x="6892920" y="2443320"/>
            <a:ext cx="128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5mm Recoilless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04120" y="1609560"/>
            <a:ext cx="1440" cy="952560"/>
          </a:xfrm>
          <a:custGeom>
            <a:avLst/>
            <a:gdLst/>
            <a:ahLst/>
            <a:rect l="l" t="t" r="r" b="b"/>
            <a:pathLst>
              <a:path w="1" h="600">
                <a:moveTo>
                  <a:pt x="0" y="0"/>
                </a:moveTo>
                <a:lnTo>
                  <a:pt x="1" y="600"/>
                </a:lnTo>
              </a:path>
            </a:pathLst>
          </a:custGeom>
          <a:noFill/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6504120" y="1760400"/>
            <a:ext cx="3008160" cy="315360"/>
            <a:chOff x="6504120" y="1760400"/>
            <a:chExt cx="3008160" cy="315360"/>
          </a:xfrm>
        </p:grpSpPr>
        <p:sp>
          <p:nvSpPr>
            <p:cNvPr id="953" name=""/>
            <p:cNvSpPr/>
            <p:nvPr/>
          </p:nvSpPr>
          <p:spPr>
            <a:xfrm>
              <a:off x="6504120" y="1982520"/>
              <a:ext cx="18252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6650280" y="1860120"/>
              <a:ext cx="231480" cy="196560"/>
              <a:chOff x="6650280" y="1860120"/>
              <a:chExt cx="231480" cy="1965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6650280" y="1899720"/>
                <a:ext cx="231480" cy="156960"/>
                <a:chOff x="6650280" y="1899720"/>
                <a:chExt cx="231480" cy="15696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650280" y="1899720"/>
                  <a:ext cx="231480" cy="15696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732720" y="195048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6753240" y="1860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6986880" y="176040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70680" y="1860120"/>
              <a:ext cx="25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508800" y="2065320"/>
            <a:ext cx="3003480" cy="327960"/>
            <a:chOff x="6508800" y="2065320"/>
            <a:chExt cx="3003480" cy="327960"/>
          </a:xfrm>
        </p:grpSpPr>
        <p:sp>
          <p:nvSpPr>
            <p:cNvPr id="962" name=""/>
            <p:cNvSpPr/>
            <p:nvPr/>
          </p:nvSpPr>
          <p:spPr>
            <a:xfrm>
              <a:off x="6508800" y="2288880"/>
              <a:ext cx="177840" cy="0"/>
            </a:xfrm>
            <a:prstGeom prst="line">
              <a:avLst/>
            </a:prstGeom>
            <a:ln w="1908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6645240" y="2150640"/>
              <a:ext cx="239760" cy="203040"/>
              <a:chOff x="6645240" y="2150640"/>
              <a:chExt cx="239760" cy="20304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6645240" y="2196360"/>
                <a:ext cx="239760" cy="157320"/>
                <a:chOff x="6645240" y="2196360"/>
                <a:chExt cx="239760" cy="15732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6645240" y="2196360"/>
                  <a:ext cx="239760" cy="157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729480" y="2322000"/>
                  <a:ext cx="68040" cy="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761160" y="2216880"/>
                  <a:ext cx="0" cy="10656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6729120" y="2150640"/>
                <a:ext cx="74520" cy="28080"/>
                <a:chOff x="6729120" y="2150640"/>
                <a:chExt cx="74520" cy="2808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6729120" y="215064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776640" y="2152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1" name=""/>
            <p:cNvSpPr/>
            <p:nvPr/>
          </p:nvSpPr>
          <p:spPr>
            <a:xfrm>
              <a:off x="6970680" y="2177640"/>
              <a:ext cx="254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82mm Mor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986880" y="2065320"/>
              <a:ext cx="2049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On-board Organic Fire Suppor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3" name=""/>
          <p:cNvSpPr/>
          <p:nvPr/>
        </p:nvSpPr>
        <p:spPr>
          <a:xfrm>
            <a:off x="820800" y="5316480"/>
            <a:ext cx="2081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aircraft Platoon (12.7m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39640" y="5519880"/>
            <a:ext cx="0" cy="2458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539280" y="5756400"/>
            <a:ext cx="29844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95560" y="5621400"/>
            <a:ext cx="2081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Antiaircraft Platoon (12.7mm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1 12.7mm  Quad A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60320" y="4046400"/>
            <a:ext cx="221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tiaircraft Company (ZU-23A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1720" y="4238640"/>
            <a:ext cx="0" cy="46188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380880" y="4038480"/>
            <a:ext cx="291960" cy="244080"/>
            <a:chOff x="380880" y="4038480"/>
            <a:chExt cx="291960" cy="244080"/>
          </a:xfrm>
        </p:grpSpPr>
        <p:sp>
          <p:nvSpPr>
            <p:cNvPr id="980" name=""/>
            <p:cNvSpPr/>
            <p:nvPr/>
          </p:nvSpPr>
          <p:spPr>
            <a:xfrm>
              <a:off x="528480" y="40384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380880" y="4092480"/>
              <a:ext cx="291960" cy="190080"/>
              <a:chOff x="380880" y="4092480"/>
              <a:chExt cx="291960" cy="190080"/>
            </a:xfrm>
          </p:grpSpPr>
          <p:sp>
            <p:nvSpPr>
              <p:cNvPr id="982" name=""/>
              <p:cNvSpPr/>
              <p:nvPr/>
            </p:nvSpPr>
            <p:spPr>
              <a:xfrm>
                <a:off x="383040" y="4092480"/>
                <a:ext cx="289800" cy="19008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380880" y="4093560"/>
                <a:ext cx="14004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20920" y="4092480"/>
                <a:ext cx="149760" cy="188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61880" y="4173120"/>
                <a:ext cx="11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"/>
          <p:cNvSpPr/>
          <p:nvPr/>
        </p:nvSpPr>
        <p:spPr>
          <a:xfrm flipH="1">
            <a:off x="536040" y="4702320"/>
            <a:ext cx="29556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150920" y="4591080"/>
            <a:ext cx="25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U-23 Twin Barrel A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804960" y="4599000"/>
            <a:ext cx="240840" cy="203040"/>
            <a:chOff x="804960" y="4599000"/>
            <a:chExt cx="240840" cy="203040"/>
          </a:xfrm>
        </p:grpSpPr>
        <p:grpSp>
          <p:nvGrpSpPr>
            <p:cNvPr id="989" name=""/>
            <p:cNvGrpSpPr/>
            <p:nvPr/>
          </p:nvGrpSpPr>
          <p:grpSpPr>
            <a:xfrm>
              <a:off x="887400" y="4599000"/>
              <a:ext cx="74520" cy="28080"/>
              <a:chOff x="887400" y="4599000"/>
              <a:chExt cx="74520" cy="28080"/>
            </a:xfrm>
          </p:grpSpPr>
          <p:sp>
            <p:nvSpPr>
              <p:cNvPr id="990" name=""/>
              <p:cNvSpPr/>
              <p:nvPr/>
            </p:nvSpPr>
            <p:spPr>
              <a:xfrm>
                <a:off x="887400" y="459900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934920" y="46004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804960" y="4645080"/>
              <a:ext cx="240840" cy="156960"/>
              <a:chOff x="804960" y="4645080"/>
              <a:chExt cx="240840" cy="156960"/>
            </a:xfrm>
          </p:grpSpPr>
          <p:sp>
            <p:nvSpPr>
              <p:cNvPr id="993" name=""/>
              <p:cNvSpPr/>
              <p:nvPr/>
            </p:nvSpPr>
            <p:spPr>
              <a:xfrm>
                <a:off x="806400" y="4645080"/>
                <a:ext cx="239400" cy="15696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04960" y="4646520"/>
                <a:ext cx="11556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920520" y="4645080"/>
                <a:ext cx="123480" cy="15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71560" y="4711680"/>
                <a:ext cx="97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7" name=""/>
          <p:cNvGrpSpPr/>
          <p:nvPr/>
        </p:nvGrpSpPr>
        <p:grpSpPr>
          <a:xfrm>
            <a:off x="531360" y="4255920"/>
            <a:ext cx="3161160" cy="311040"/>
            <a:chOff x="531360" y="4255920"/>
            <a:chExt cx="3161160" cy="311040"/>
          </a:xfrm>
        </p:grpSpPr>
        <p:sp>
          <p:nvSpPr>
            <p:cNvPr id="998" name=""/>
            <p:cNvSpPr/>
            <p:nvPr/>
          </p:nvSpPr>
          <p:spPr>
            <a:xfrm>
              <a:off x="1141560" y="4351320"/>
              <a:ext cx="255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Command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531360" y="4475160"/>
              <a:ext cx="298440" cy="0"/>
            </a:xfrm>
            <a:prstGeom prst="line">
              <a:avLst/>
            </a:prstGeom>
            <a:ln w="158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50920" y="425592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99cc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828720" y="4340160"/>
              <a:ext cx="237960" cy="211320"/>
              <a:chOff x="828720" y="4340160"/>
              <a:chExt cx="237960" cy="211320"/>
            </a:xfrm>
          </p:grpSpPr>
          <p:sp>
            <p:nvSpPr>
              <p:cNvPr id="1002" name=""/>
              <p:cNvSpPr/>
              <p:nvPr/>
            </p:nvSpPr>
            <p:spPr>
              <a:xfrm>
                <a:off x="828720" y="4394160"/>
                <a:ext cx="237960" cy="15732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H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33480" y="4340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"/>
          <p:cNvGrpSpPr/>
          <p:nvPr/>
        </p:nvGrpSpPr>
        <p:grpSpPr>
          <a:xfrm>
            <a:off x="380880" y="5291280"/>
            <a:ext cx="291600" cy="228240"/>
            <a:chOff x="380880" y="5291280"/>
            <a:chExt cx="291600" cy="228240"/>
          </a:xfrm>
        </p:grpSpPr>
        <p:grpSp>
          <p:nvGrpSpPr>
            <p:cNvPr id="1005" name=""/>
            <p:cNvGrpSpPr/>
            <p:nvPr/>
          </p:nvGrpSpPr>
          <p:grpSpPr>
            <a:xfrm>
              <a:off x="380880" y="5329080"/>
              <a:ext cx="291600" cy="190440"/>
              <a:chOff x="380880" y="5329080"/>
              <a:chExt cx="291600" cy="190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383040" y="5329080"/>
                <a:ext cx="28944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380880" y="533052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20920" y="5329080"/>
                <a:ext cx="149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61520" y="540972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457200" y="5291280"/>
              <a:ext cx="131760" cy="26640"/>
              <a:chOff x="457200" y="5291280"/>
              <a:chExt cx="131760" cy="26640"/>
            </a:xfrm>
          </p:grpSpPr>
          <p:sp>
            <p:nvSpPr>
              <p:cNvPr id="1011" name=""/>
              <p:cNvSpPr/>
              <p:nvPr/>
            </p:nvSpPr>
            <p:spPr>
              <a:xfrm>
                <a:off x="457200" y="5291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07960" y="529128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1960" y="5291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4" name=""/>
          <p:cNvGrpSpPr/>
          <p:nvPr/>
        </p:nvGrpSpPr>
        <p:grpSpPr>
          <a:xfrm>
            <a:off x="762120" y="5595840"/>
            <a:ext cx="291600" cy="228240"/>
            <a:chOff x="762120" y="5595840"/>
            <a:chExt cx="291600" cy="228240"/>
          </a:xfrm>
        </p:grpSpPr>
        <p:grpSp>
          <p:nvGrpSpPr>
            <p:cNvPr id="1015" name=""/>
            <p:cNvGrpSpPr/>
            <p:nvPr/>
          </p:nvGrpSpPr>
          <p:grpSpPr>
            <a:xfrm>
              <a:off x="762120" y="5633640"/>
              <a:ext cx="291600" cy="190440"/>
              <a:chOff x="762120" y="5633640"/>
              <a:chExt cx="291600" cy="190440"/>
            </a:xfrm>
          </p:grpSpPr>
          <p:sp>
            <p:nvSpPr>
              <p:cNvPr id="1016" name=""/>
              <p:cNvSpPr/>
              <p:nvPr/>
            </p:nvSpPr>
            <p:spPr>
              <a:xfrm>
                <a:off x="764280" y="5633640"/>
                <a:ext cx="289440" cy="190440"/>
              </a:xfrm>
              <a:prstGeom prst="rect">
                <a:avLst/>
              </a:pr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762120" y="5635080"/>
                <a:ext cx="14004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902160" y="5633640"/>
                <a:ext cx="14940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42760" y="5714280"/>
                <a:ext cx="11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838440" y="5595840"/>
              <a:ext cx="131760" cy="26640"/>
              <a:chOff x="838440" y="5595840"/>
              <a:chExt cx="131760" cy="26640"/>
            </a:xfrm>
          </p:grpSpPr>
          <p:sp>
            <p:nvSpPr>
              <p:cNvPr id="1021" name=""/>
              <p:cNvSpPr/>
              <p:nvPr/>
            </p:nvSpPr>
            <p:spPr>
              <a:xfrm>
                <a:off x="838440" y="55958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89200" y="5595840"/>
                <a:ext cx="2844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943200" y="55958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4" name=""/>
          <p:cNvGrpSpPr/>
          <p:nvPr/>
        </p:nvGrpSpPr>
        <p:grpSpPr>
          <a:xfrm>
            <a:off x="5105520" y="4648320"/>
            <a:ext cx="3089880" cy="828000"/>
            <a:chOff x="5105520" y="4648320"/>
            <a:chExt cx="3089880" cy="828000"/>
          </a:xfrm>
        </p:grpSpPr>
        <p:sp>
          <p:nvSpPr>
            <p:cNvPr id="1025" name=""/>
            <p:cNvSpPr/>
            <p:nvPr/>
          </p:nvSpPr>
          <p:spPr>
            <a:xfrm>
              <a:off x="5222880" y="4890960"/>
              <a:ext cx="1080" cy="483840"/>
            </a:xfrm>
            <a:custGeom>
              <a:avLst/>
              <a:gdLst/>
              <a:ahLst/>
              <a:rect l="l" t="t" r="r" b="b"/>
              <a:pathLst>
                <a:path w="1" h="305">
                  <a:moveTo>
                    <a:pt x="1" y="0"/>
                  </a:moveTo>
                  <a:lnTo>
                    <a:pt x="0" y="305"/>
                  </a:lnTo>
                </a:path>
              </a:pathLst>
            </a:custGeom>
            <a:noFill/>
            <a:ln w="158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5105520" y="4648320"/>
              <a:ext cx="3089880" cy="828000"/>
              <a:chOff x="5105520" y="4648320"/>
              <a:chExt cx="3089880" cy="82800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5105520" y="4711680"/>
                <a:ext cx="284040" cy="193320"/>
                <a:chOff x="5105520" y="4711680"/>
                <a:chExt cx="284040" cy="1933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105520" y="4711680"/>
                  <a:ext cx="284040" cy="193320"/>
                </a:xfrm>
                <a:prstGeom prst="rect">
                  <a:avLst/>
                </a:prstGeom>
                <a:solidFill>
                  <a:srgbClr val="66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5108400" y="47142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105520" y="471456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"/>
              <p:cNvSpPr/>
              <p:nvPr/>
            </p:nvSpPr>
            <p:spPr>
              <a:xfrm>
                <a:off x="5246640" y="4648320"/>
                <a:ext cx="0" cy="75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49600" y="4648320"/>
                <a:ext cx="2081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olice 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3" name=""/>
              <p:cNvGrpSpPr/>
              <p:nvPr/>
            </p:nvGrpSpPr>
            <p:grpSpPr>
              <a:xfrm>
                <a:off x="5221080" y="5257800"/>
                <a:ext cx="2974320" cy="218520"/>
                <a:chOff x="5221080" y="5257800"/>
                <a:chExt cx="2974320" cy="21852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5833440" y="5260680"/>
                  <a:ext cx="23619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6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Infant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221080" y="5374800"/>
                  <a:ext cx="299520" cy="108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6" name=""/>
                <p:cNvGrpSpPr/>
                <p:nvPr/>
              </p:nvGrpSpPr>
              <p:grpSpPr>
                <a:xfrm>
                  <a:off x="5533560" y="5257800"/>
                  <a:ext cx="231120" cy="205560"/>
                  <a:chOff x="5533560" y="5257800"/>
                  <a:chExt cx="231120" cy="205560"/>
                </a:xfrm>
              </p:grpSpPr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612400" y="5257800"/>
                    <a:ext cx="73800" cy="28080"/>
                    <a:chOff x="5612400" y="5257800"/>
                    <a:chExt cx="73800" cy="2808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5612400" y="525780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5659560" y="525924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5533560" y="5306760"/>
                    <a:ext cx="231120" cy="156600"/>
                    <a:chOff x="5533560" y="5306760"/>
                    <a:chExt cx="231120" cy="15660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5533560" y="5306760"/>
                      <a:ext cx="231120" cy="156600"/>
                    </a:xfrm>
                    <a:prstGeom prst="rect">
                      <a:avLst/>
                    </a:prstGeom>
                    <a:solidFill>
                      <a:srgbClr val="6699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5535720" y="5308560"/>
                      <a:ext cx="22500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5533560" y="5308920"/>
                      <a:ext cx="230040" cy="149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44" name=""/>
              <p:cNvGrpSpPr/>
              <p:nvPr/>
            </p:nvGrpSpPr>
            <p:grpSpPr>
              <a:xfrm>
                <a:off x="5224320" y="4803480"/>
                <a:ext cx="2819160" cy="367920"/>
                <a:chOff x="5224320" y="4803480"/>
                <a:chExt cx="2819160" cy="36792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833800" y="4955760"/>
                  <a:ext cx="2209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224320" y="5031720"/>
                  <a:ext cx="299880" cy="1440"/>
                </a:xfrm>
                <a:prstGeom prst="line">
                  <a:avLst/>
                </a:prstGeom>
                <a:ln w="158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833800" y="4803480"/>
                  <a:ext cx="9907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9cc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8" name=""/>
                <p:cNvGrpSpPr/>
                <p:nvPr/>
              </p:nvGrpSpPr>
              <p:grpSpPr>
                <a:xfrm>
                  <a:off x="5530680" y="4920840"/>
                  <a:ext cx="237960" cy="211680"/>
                  <a:chOff x="5530680" y="4920840"/>
                  <a:chExt cx="237960" cy="211680"/>
                </a:xfrm>
              </p:grpSpPr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5613120" y="4920840"/>
                    <a:ext cx="74520" cy="27720"/>
                    <a:chOff x="5613120" y="4920840"/>
                    <a:chExt cx="74520" cy="2772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>
                      <a:off x="5613120" y="492084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5660640" y="492228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2" name=""/>
                  <p:cNvSpPr/>
                  <p:nvPr/>
                </p:nvSpPr>
                <p:spPr>
                  <a:xfrm>
                    <a:off x="5530680" y="4975920"/>
                    <a:ext cx="237960" cy="156600"/>
                  </a:xfrm>
                  <a:prstGeom prst="rect">
                    <a:avLst/>
                  </a:prstGeom>
                  <a:solidFill>
                    <a:srgbClr val="66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53" name=""/>
          <p:cNvSpPr/>
          <p:nvPr/>
        </p:nvSpPr>
        <p:spPr>
          <a:xfrm>
            <a:off x="380880" y="105084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Battle Group - 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038480" y="105084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- 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324480" y="105084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-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8600" y="36576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-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" y="501336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-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029200" y="43434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99cc00"/>
                </a:solidFill>
                <a:latin typeface="Arial"/>
              </a:rPr>
              <a:t>Maneuver Element-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41760" y="5527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295280" y="6248520"/>
            <a:ext cx="655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storically only the Rapid Mobilization Companies and Weapons Companies in Regions 1 and 2 mobilized to oppose the 1983 US interventio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5:41:32Z</dcterms:created>
  <dc:creator>CAI</dc:creator>
  <dc:description/>
  <dc:language>en-US</dc:language>
  <cp:lastModifiedBy>James Baker</cp:lastModifiedBy>
  <cp:lastPrinted>2002-02-01T20:52:05Z</cp:lastPrinted>
  <dcterms:modified xsi:type="dcterms:W3CDTF">2002-02-01T22:03:58Z</dcterms:modified>
  <cp:revision>11</cp:revision>
  <dc:subject/>
  <dc:title>No Slide Title</dc:title>
</cp:coreProperties>
</file>