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64E-2A79-4737-8726-BE352718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CD2-080F-4650-859C-BEC15A93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057-AC47-4028-868F-BE173B4A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BF1-9F55-450B-A17D-A330F3F5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011-319B-4303-AB61-14BA0ED5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1D2-F8DE-46A4-AB2C-DC4D1269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EBA-0C02-46F8-BBDC-75B738D5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64E-7D7E-4CC9-B197-39D3FF6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E71-E627-4818-ABA9-4398239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EB3-B0ED-4BC0-8F93-B010148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33E-F0D9-456E-8EB6-08E01BA6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08A-318A-445B-8824-8A27713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62AF-F8D9-41CD-8271-E6FAB4CBB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78816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2d Marine Amphibious Unit (Battle Group 0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38680" y="25909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ribbean Peace Keeping Force (Battle Group 0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4120" y="2590920"/>
            <a:ext cx="347040" cy="302760"/>
            <a:chOff x="5334120" y="2590920"/>
            <a:chExt cx="347040" cy="302760"/>
          </a:xfrm>
        </p:grpSpPr>
        <p:grpSp>
          <p:nvGrpSpPr>
            <p:cNvPr id="44" name=""/>
            <p:cNvGrpSpPr/>
            <p:nvPr/>
          </p:nvGrpSpPr>
          <p:grpSpPr>
            <a:xfrm>
              <a:off x="5334120" y="2657520"/>
              <a:ext cx="347040" cy="236160"/>
              <a:chOff x="5334120" y="2657520"/>
              <a:chExt cx="347040" cy="236160"/>
            </a:xfrm>
          </p:grpSpPr>
          <p:sp>
            <p:nvSpPr>
              <p:cNvPr id="45" name=""/>
              <p:cNvSpPr/>
              <p:nvPr/>
            </p:nvSpPr>
            <p:spPr>
              <a:xfrm>
                <a:off x="5334120" y="265752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5337720" y="266112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334120" y="266112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5486400" y="2590920"/>
              <a:ext cx="76320" cy="63360"/>
              <a:chOff x="5486400" y="2590920"/>
              <a:chExt cx="76320" cy="63360"/>
            </a:xfrm>
          </p:grpSpPr>
          <p:sp>
            <p:nvSpPr>
              <p:cNvPr id="49" name=""/>
              <p:cNvSpPr/>
              <p:nvPr/>
            </p:nvSpPr>
            <p:spPr>
              <a:xfrm>
                <a:off x="5486400" y="2590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562720" y="2590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" name=""/>
          <p:cNvSpPr/>
          <p:nvPr/>
        </p:nvSpPr>
        <p:spPr>
          <a:xfrm>
            <a:off x="1127880" y="3666960"/>
            <a:ext cx="220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/75th Ranger Battalion (Battle Group 0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137040"/>
            <a:ext cx="347400" cy="291960"/>
            <a:chOff x="762120" y="3137040"/>
            <a:chExt cx="347400" cy="291960"/>
          </a:xfrm>
        </p:grpSpPr>
        <p:grpSp>
          <p:nvGrpSpPr>
            <p:cNvPr id="53" name=""/>
            <p:cNvGrpSpPr/>
            <p:nvPr/>
          </p:nvGrpSpPr>
          <p:grpSpPr>
            <a:xfrm>
              <a:off x="896760" y="3137040"/>
              <a:ext cx="76320" cy="63360"/>
              <a:chOff x="896760" y="3137040"/>
              <a:chExt cx="76320" cy="63360"/>
            </a:xfrm>
          </p:grpSpPr>
          <p:sp>
            <p:nvSpPr>
              <p:cNvPr id="54" name=""/>
              <p:cNvSpPr/>
              <p:nvPr/>
            </p:nvSpPr>
            <p:spPr>
              <a:xfrm>
                <a:off x="896760" y="3137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73080" y="3137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762120" y="3192480"/>
              <a:ext cx="34740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128240" y="3209760"/>
            <a:ext cx="229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al Operations Force (Battle Group 0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27880" y="4122720"/>
            <a:ext cx="220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/75th Ranger Battalion (Battle Group 03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576520"/>
            <a:ext cx="34776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9000" y="260496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oint Task Force 1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3583080"/>
            <a:ext cx="347040" cy="302760"/>
            <a:chOff x="762120" y="3583080"/>
            <a:chExt cx="347040" cy="302760"/>
          </a:xfrm>
        </p:grpSpPr>
        <p:grpSp>
          <p:nvGrpSpPr>
            <p:cNvPr id="62" name=""/>
            <p:cNvGrpSpPr/>
            <p:nvPr/>
          </p:nvGrpSpPr>
          <p:grpSpPr>
            <a:xfrm>
              <a:off x="762120" y="3649680"/>
              <a:ext cx="347040" cy="236160"/>
              <a:chOff x="762120" y="3649680"/>
              <a:chExt cx="347040" cy="236160"/>
            </a:xfrm>
          </p:grpSpPr>
          <p:sp>
            <p:nvSpPr>
              <p:cNvPr id="63" name=""/>
              <p:cNvSpPr/>
              <p:nvPr/>
            </p:nvSpPr>
            <p:spPr>
              <a:xfrm>
                <a:off x="762120" y="364968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765720" y="365328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2120" y="365328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914400" y="3583080"/>
              <a:ext cx="76320" cy="63360"/>
              <a:chOff x="914400" y="3583080"/>
              <a:chExt cx="76320" cy="63360"/>
            </a:xfrm>
          </p:grpSpPr>
          <p:sp>
            <p:nvSpPr>
              <p:cNvPr id="67" name=""/>
              <p:cNvSpPr/>
              <p:nvPr/>
            </p:nvSpPr>
            <p:spPr>
              <a:xfrm>
                <a:off x="914400" y="3583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3583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893880" y="3691080"/>
              <a:ext cx="85680" cy="152280"/>
              <a:chOff x="893880" y="3691080"/>
              <a:chExt cx="85680" cy="152280"/>
            </a:xfrm>
          </p:grpSpPr>
          <p:sp>
            <p:nvSpPr>
              <p:cNvPr id="70" name=""/>
              <p:cNvSpPr/>
              <p:nvPr/>
            </p:nvSpPr>
            <p:spPr>
              <a:xfrm>
                <a:off x="893880" y="369108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3880" y="373680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762120" y="4040280"/>
            <a:ext cx="347040" cy="302760"/>
            <a:chOff x="762120" y="4040280"/>
            <a:chExt cx="347040" cy="302760"/>
          </a:xfrm>
        </p:grpSpPr>
        <p:grpSp>
          <p:nvGrpSpPr>
            <p:cNvPr id="73" name=""/>
            <p:cNvGrpSpPr/>
            <p:nvPr/>
          </p:nvGrpSpPr>
          <p:grpSpPr>
            <a:xfrm>
              <a:off x="762120" y="4106880"/>
              <a:ext cx="347040" cy="236160"/>
              <a:chOff x="762120" y="4106880"/>
              <a:chExt cx="347040" cy="236160"/>
            </a:xfrm>
          </p:grpSpPr>
          <p:sp>
            <p:nvSpPr>
              <p:cNvPr id="74" name=""/>
              <p:cNvSpPr/>
              <p:nvPr/>
            </p:nvSpPr>
            <p:spPr>
              <a:xfrm>
                <a:off x="762120" y="410688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65720" y="411048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2120" y="411048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914400" y="4040280"/>
              <a:ext cx="76320" cy="63360"/>
              <a:chOff x="914400" y="4040280"/>
              <a:chExt cx="76320" cy="63360"/>
            </a:xfrm>
          </p:grpSpPr>
          <p:sp>
            <p:nvSpPr>
              <p:cNvPr id="78" name=""/>
              <p:cNvSpPr/>
              <p:nvPr/>
            </p:nvSpPr>
            <p:spPr>
              <a:xfrm>
                <a:off x="914400" y="4040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90720" y="4040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893880" y="4148280"/>
              <a:ext cx="85680" cy="152280"/>
              <a:chOff x="893880" y="4148280"/>
              <a:chExt cx="85680" cy="152280"/>
            </a:xfrm>
          </p:grpSpPr>
          <p:sp>
            <p:nvSpPr>
              <p:cNvPr id="81" name=""/>
              <p:cNvSpPr/>
              <p:nvPr/>
            </p:nvSpPr>
            <p:spPr>
              <a:xfrm>
                <a:off x="893880" y="414828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93880" y="419400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533520" y="2819520"/>
            <a:ext cx="1440" cy="2200320"/>
          </a:xfrm>
          <a:custGeom>
            <a:avLst/>
            <a:gdLst/>
            <a:ahLst/>
            <a:rect l="l" t="t" r="r" b="b"/>
            <a:pathLst>
              <a:path w="1" h="1386">
                <a:moveTo>
                  <a:pt x="0" y="0"/>
                </a:moveTo>
                <a:lnTo>
                  <a:pt x="0" y="1386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276720"/>
            <a:ext cx="2286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809880"/>
            <a:ext cx="2286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267080"/>
            <a:ext cx="2286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6720" y="4648320"/>
            <a:ext cx="1496880" cy="236520"/>
            <a:chOff x="3276720" y="4648320"/>
            <a:chExt cx="1496880" cy="236520"/>
          </a:xfrm>
        </p:grpSpPr>
        <p:sp>
          <p:nvSpPr>
            <p:cNvPr id="88" name=""/>
            <p:cNvSpPr/>
            <p:nvPr/>
          </p:nvSpPr>
          <p:spPr>
            <a:xfrm>
              <a:off x="3276720" y="4648320"/>
              <a:ext cx="34740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T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84160" y="4662360"/>
              <a:ext cx="118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oint Task Force 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018600" y="1447920"/>
            <a:ext cx="866520" cy="459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928880"/>
            <a:ext cx="2819520" cy="662040"/>
          </a:xfrm>
          <a:custGeom>
            <a:avLst/>
            <a:gdLst/>
            <a:ahLst/>
            <a:rect l="l" t="t" r="r" b="b"/>
            <a:pathLst>
              <a:path w="1776" h="417">
                <a:moveTo>
                  <a:pt x="0" y="417"/>
                </a:moveTo>
                <a:lnTo>
                  <a:pt x="0" y="225"/>
                </a:lnTo>
                <a:lnTo>
                  <a:pt x="1776" y="225"/>
                </a:lnTo>
                <a:lnTo>
                  <a:pt x="1776" y="0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286000"/>
            <a:ext cx="2057400" cy="2286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0" y="0"/>
                </a:moveTo>
                <a:lnTo>
                  <a:pt x="1296" y="0"/>
                </a:lnTo>
                <a:lnTo>
                  <a:pt x="1296" y="144"/>
                </a:lnTo>
              </a:path>
            </a:pathLst>
          </a:custGeom>
          <a:noFill/>
          <a:ln cap="rnd" w="1908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286000"/>
            <a:ext cx="0" cy="236232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43720" y="6483240"/>
            <a:ext cx="937800" cy="306000"/>
            <a:chOff x="1143720" y="6483240"/>
            <a:chExt cx="937800" cy="306000"/>
          </a:xfrm>
        </p:grpSpPr>
        <p:sp>
          <p:nvSpPr>
            <p:cNvPr id="95" name=""/>
            <p:cNvSpPr/>
            <p:nvPr/>
          </p:nvSpPr>
          <p:spPr>
            <a:xfrm>
              <a:off x="1658520" y="6537240"/>
              <a:ext cx="42300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A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43720" y="655956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374840" y="6483240"/>
              <a:ext cx="349200" cy="292320"/>
              <a:chOff x="1374840" y="6483240"/>
              <a:chExt cx="349200" cy="29232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374840" y="6483240"/>
                <a:ext cx="347400" cy="292320"/>
                <a:chOff x="1374840" y="6483240"/>
                <a:chExt cx="347400" cy="29232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1504800" y="6483240"/>
                  <a:ext cx="85680" cy="76320"/>
                  <a:chOff x="1504800" y="6483240"/>
                  <a:chExt cx="85680" cy="7632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1504800" y="6483240"/>
                    <a:ext cx="0" cy="76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547640" y="6483240"/>
                    <a:ext cx="1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8">
                        <a:moveTo>
                          <a:pt x="0" y="0"/>
                        </a:moveTo>
                        <a:lnTo>
                          <a:pt x="0" y="48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589040" y="6483240"/>
                    <a:ext cx="14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7">
                        <a:moveTo>
                          <a:pt x="0" y="0"/>
                        </a:moveTo>
                        <a:lnTo>
                          <a:pt x="0" y="47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1374840" y="6539040"/>
                  <a:ext cx="347400" cy="2365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1374840" y="6540480"/>
                <a:ext cx="349200" cy="233280"/>
                <a:chOff x="1374840" y="6540480"/>
                <a:chExt cx="349200" cy="2332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374840" y="6543720"/>
                  <a:ext cx="349200" cy="230040"/>
                </a:xfrm>
                <a:custGeom>
                  <a:avLst/>
                  <a:gdLst/>
                  <a:ahLst/>
                  <a:rect l="l" t="t" r="r" b="b"/>
                  <a:pathLst>
                    <a:path w="220" h="145">
                      <a:moveTo>
                        <a:pt x="0" y="145"/>
                      </a:moveTo>
                      <a:lnTo>
                        <a:pt x="22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379520" y="6540480"/>
                  <a:ext cx="339840" cy="233280"/>
                </a:xfrm>
                <a:custGeom>
                  <a:avLst/>
                  <a:gdLst/>
                  <a:ahLst/>
                  <a:rect l="l" t="t" r="r" b="b"/>
                  <a:pathLst>
                    <a:path w="214" h="147">
                      <a:moveTo>
                        <a:pt x="0" y="0"/>
                      </a:moveTo>
                      <a:lnTo>
                        <a:pt x="214" y="14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485720" y="6559560"/>
                <a:ext cx="125640" cy="176040"/>
                <a:chOff x="1485720" y="6559560"/>
                <a:chExt cx="125640" cy="1760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549440" y="6559560"/>
                  <a:ext cx="1440" cy="174600"/>
                </a:xfrm>
                <a:custGeom>
                  <a:avLst/>
                  <a:gdLst/>
                  <a:ahLst/>
                  <a:rect l="l" t="t" r="r" b="b"/>
                  <a:pathLst>
                    <a:path w="1" h="110">
                      <a:moveTo>
                        <a:pt x="0" y="0"/>
                      </a:moveTo>
                      <a:lnTo>
                        <a:pt x="1" y="1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485720" y="6585120"/>
                  <a:ext cx="12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485720" y="6716880"/>
                  <a:ext cx="123840" cy="18720"/>
                </a:xfrm>
                <a:custGeom>
                  <a:avLst/>
                  <a:gdLst/>
                  <a:ahLst/>
                  <a:rect l="l" t="t" r="r" b="b"/>
                  <a:pathLst>
                    <a:path w="78" h="12">
                      <a:moveTo>
                        <a:pt x="0" y="2"/>
                      </a:moveTo>
                      <a:cubicBezTo>
                        <a:pt x="7" y="3"/>
                        <a:pt x="28" y="12"/>
                        <a:pt x="41" y="12"/>
                      </a:cubicBezTo>
                      <a:cubicBezTo>
                        <a:pt x="54" y="12"/>
                        <a:pt x="70" y="3"/>
                        <a:pt x="78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1" name=""/>
          <p:cNvSpPr/>
          <p:nvPr/>
        </p:nvSpPr>
        <p:spPr>
          <a:xfrm>
            <a:off x="5049000" y="6537240"/>
            <a:ext cx="15080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82d ABN (-) (Battle Group 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68920" y="6330960"/>
            <a:ext cx="350640" cy="444240"/>
            <a:chOff x="4768920" y="6330960"/>
            <a:chExt cx="350640" cy="444240"/>
          </a:xfrm>
        </p:grpSpPr>
        <p:sp>
          <p:nvSpPr>
            <p:cNvPr id="113" name=""/>
            <p:cNvSpPr/>
            <p:nvPr/>
          </p:nvSpPr>
          <p:spPr>
            <a:xfrm>
              <a:off x="4768920" y="6538680"/>
              <a:ext cx="34740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770360" y="6540480"/>
              <a:ext cx="349200" cy="233280"/>
              <a:chOff x="4770360" y="6540480"/>
              <a:chExt cx="349200" cy="233280"/>
            </a:xfrm>
          </p:grpSpPr>
          <p:sp>
            <p:nvSpPr>
              <p:cNvPr id="115" name=""/>
              <p:cNvSpPr/>
              <p:nvPr/>
            </p:nvSpPr>
            <p:spPr>
              <a:xfrm>
                <a:off x="4770360" y="6543720"/>
                <a:ext cx="34920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75040" y="6540480"/>
                <a:ext cx="33984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896000" y="6711840"/>
              <a:ext cx="99720" cy="36360"/>
              <a:chOff x="4896000" y="6711840"/>
              <a:chExt cx="99720" cy="36360"/>
            </a:xfrm>
          </p:grpSpPr>
          <p:sp>
            <p:nvSpPr>
              <p:cNvPr id="118" name=""/>
              <p:cNvSpPr/>
              <p:nvPr/>
            </p:nvSpPr>
            <p:spPr>
              <a:xfrm>
                <a:off x="4896000" y="671184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945320" y="671184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778280" y="6330960"/>
              <a:ext cx="32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030280" y="6864480"/>
            <a:ext cx="1840320" cy="451800"/>
            <a:chOff x="5030280" y="6864480"/>
            <a:chExt cx="1840320" cy="451800"/>
          </a:xfrm>
        </p:grpSpPr>
        <p:sp>
          <p:nvSpPr>
            <p:cNvPr id="122" name=""/>
            <p:cNvSpPr/>
            <p:nvPr/>
          </p:nvSpPr>
          <p:spPr>
            <a:xfrm>
              <a:off x="5187600" y="7072200"/>
              <a:ext cx="347400" cy="236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189400" y="7073640"/>
              <a:ext cx="348840" cy="233280"/>
              <a:chOff x="5189400" y="7073640"/>
              <a:chExt cx="348840" cy="233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189400" y="7076880"/>
                <a:ext cx="34884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93720" y="7073640"/>
                <a:ext cx="33948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314680" y="7245360"/>
              <a:ext cx="99720" cy="36000"/>
              <a:chOff x="5314680" y="7245360"/>
              <a:chExt cx="99720" cy="36000"/>
            </a:xfrm>
          </p:grpSpPr>
          <p:sp>
            <p:nvSpPr>
              <p:cNvPr id="127" name=""/>
              <p:cNvSpPr/>
              <p:nvPr/>
            </p:nvSpPr>
            <p:spPr>
              <a:xfrm>
                <a:off x="5314680" y="7245360"/>
                <a:ext cx="50400" cy="3600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364000" y="7245360"/>
                <a:ext cx="50400" cy="3600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236920" y="686448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8920" y="7100640"/>
              <a:ext cx="1381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2d ABN (Battle Group 07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30280" y="709272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030280" y="7397640"/>
            <a:ext cx="1840320" cy="452160"/>
            <a:chOff x="5030280" y="7397640"/>
            <a:chExt cx="1840320" cy="452160"/>
          </a:xfrm>
        </p:grpSpPr>
        <p:sp>
          <p:nvSpPr>
            <p:cNvPr id="133" name=""/>
            <p:cNvSpPr/>
            <p:nvPr/>
          </p:nvSpPr>
          <p:spPr>
            <a:xfrm>
              <a:off x="5187600" y="7605720"/>
              <a:ext cx="34740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5189400" y="7607160"/>
              <a:ext cx="348840" cy="233280"/>
              <a:chOff x="5189400" y="7607160"/>
              <a:chExt cx="348840" cy="233280"/>
            </a:xfrm>
          </p:grpSpPr>
          <p:sp>
            <p:nvSpPr>
              <p:cNvPr id="135" name=""/>
              <p:cNvSpPr/>
              <p:nvPr/>
            </p:nvSpPr>
            <p:spPr>
              <a:xfrm>
                <a:off x="5189400" y="7610400"/>
                <a:ext cx="34884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93720" y="7607160"/>
                <a:ext cx="33948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314680" y="7778880"/>
              <a:ext cx="99720" cy="36360"/>
              <a:chOff x="5314680" y="7778880"/>
              <a:chExt cx="99720" cy="36360"/>
            </a:xfrm>
          </p:grpSpPr>
          <p:sp>
            <p:nvSpPr>
              <p:cNvPr id="138" name=""/>
              <p:cNvSpPr/>
              <p:nvPr/>
            </p:nvSpPr>
            <p:spPr>
              <a:xfrm>
                <a:off x="5314680" y="777888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5364000" y="777888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36920" y="739764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88920" y="7634160"/>
              <a:ext cx="1381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2d ABN (Battle Group 08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0280" y="76262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23880" y="5334120"/>
            <a:ext cx="3429000" cy="399960"/>
          </a:xfrm>
          <a:custGeom>
            <a:avLst/>
            <a:gdLst/>
            <a:ahLst/>
            <a:rect l="l" t="t" r="r" b="b"/>
            <a:pathLst>
              <a:path w="2160" h="252">
                <a:moveTo>
                  <a:pt x="0" y="240"/>
                </a:moveTo>
                <a:lnTo>
                  <a:pt x="0" y="0"/>
                </a:lnTo>
                <a:lnTo>
                  <a:pt x="2160" y="0"/>
                </a:lnTo>
                <a:lnTo>
                  <a:pt x="2160" y="25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4876920"/>
            <a:ext cx="1440" cy="2295360"/>
          </a:xfrm>
          <a:custGeom>
            <a:avLst/>
            <a:gdLst/>
            <a:ahLst/>
            <a:rect l="l" t="t" r="r" b="b"/>
            <a:pathLst>
              <a:path w="1" h="1446">
                <a:moveTo>
                  <a:pt x="0" y="0"/>
                </a:moveTo>
                <a:lnTo>
                  <a:pt x="0" y="1446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6788160"/>
            <a:ext cx="314280" cy="1270080"/>
          </a:xfrm>
          <a:custGeom>
            <a:avLst/>
            <a:gdLst/>
            <a:ahLst/>
            <a:rect l="l" t="t" r="r" b="b"/>
            <a:pathLst>
              <a:path w="198" h="800">
                <a:moveTo>
                  <a:pt x="0" y="0"/>
                </a:moveTo>
                <a:lnTo>
                  <a:pt x="0" y="800"/>
                </a:lnTo>
                <a:lnTo>
                  <a:pt x="198" y="794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7169040"/>
            <a:ext cx="30492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71600" y="5715000"/>
            <a:ext cx="1225080" cy="236520"/>
            <a:chOff x="1371600" y="5715000"/>
            <a:chExt cx="1225080" cy="236520"/>
          </a:xfrm>
        </p:grpSpPr>
        <p:sp>
          <p:nvSpPr>
            <p:cNvPr id="148" name=""/>
            <p:cNvSpPr/>
            <p:nvPr/>
          </p:nvSpPr>
          <p:spPr>
            <a:xfrm>
              <a:off x="1371600" y="5715000"/>
              <a:ext cx="34776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9760" y="5729040"/>
              <a:ext cx="91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sk Force 1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523880" y="5943600"/>
            <a:ext cx="0" cy="53352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791240" y="5715000"/>
            <a:ext cx="1225080" cy="236520"/>
            <a:chOff x="4791240" y="5715000"/>
            <a:chExt cx="1225080" cy="236520"/>
          </a:xfrm>
        </p:grpSpPr>
        <p:sp>
          <p:nvSpPr>
            <p:cNvPr id="152" name=""/>
            <p:cNvSpPr/>
            <p:nvPr/>
          </p:nvSpPr>
          <p:spPr>
            <a:xfrm>
              <a:off x="4791240" y="5715000"/>
              <a:ext cx="34776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9400" y="5729040"/>
              <a:ext cx="91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sk Force 1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943520" y="5943600"/>
            <a:ext cx="0" cy="53352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4720" y="7162920"/>
            <a:ext cx="505440" cy="21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G20-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739152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ttle Group 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228600"/>
            <a:ext cx="626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and Allied Forces for Operation Urgent F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asion of Grenada 19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2057400"/>
            <a:ext cx="3886200" cy="6629400"/>
          </a:xfrm>
          <a:custGeom>
            <a:avLst/>
            <a:gdLst/>
            <a:ahLst/>
            <a:rect l="l" t="t" r="r" b="b"/>
            <a:pathLst>
              <a:path w="2448" h="4176">
                <a:moveTo>
                  <a:pt x="9" y="2"/>
                </a:moveTo>
                <a:lnTo>
                  <a:pt x="0" y="4176"/>
                </a:lnTo>
                <a:lnTo>
                  <a:pt x="2448" y="4176"/>
                </a:lnTo>
                <a:lnTo>
                  <a:pt x="2448" y="1920"/>
                </a:lnTo>
                <a:lnTo>
                  <a:pt x="1776" y="1920"/>
                </a:lnTo>
                <a:lnTo>
                  <a:pt x="1776" y="1488"/>
                </a:lnTo>
                <a:lnTo>
                  <a:pt x="2160" y="1488"/>
                </a:lnTo>
                <a:lnTo>
                  <a:pt x="2160" y="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960" y="831708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itial Invasion F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971720"/>
            <a:ext cx="2214720" cy="6867360"/>
          </a:xfrm>
          <a:custGeom>
            <a:avLst/>
            <a:gdLst/>
            <a:ahLst/>
            <a:rect l="l" t="t" r="r" b="b"/>
            <a:pathLst>
              <a:path w="1395" h="4326">
                <a:moveTo>
                  <a:pt x="1392" y="3"/>
                </a:moveTo>
                <a:lnTo>
                  <a:pt x="161" y="6"/>
                </a:lnTo>
                <a:lnTo>
                  <a:pt x="161" y="2022"/>
                </a:lnTo>
                <a:lnTo>
                  <a:pt x="0" y="2022"/>
                </a:lnTo>
                <a:lnTo>
                  <a:pt x="0" y="4326"/>
                </a:lnTo>
                <a:lnTo>
                  <a:pt x="1392" y="4326"/>
                </a:lnTo>
                <a:lnTo>
                  <a:pt x="1395" y="0"/>
                </a:ln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83120" y="8534520"/>
            <a:ext cx="149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llow-on 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7772400"/>
            <a:ext cx="30492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199120" y="7924680"/>
            <a:ext cx="363600" cy="301680"/>
            <a:chOff x="5199120" y="7924680"/>
            <a:chExt cx="363600" cy="301680"/>
          </a:xfrm>
        </p:grpSpPr>
        <p:sp>
          <p:nvSpPr>
            <p:cNvPr id="164" name=""/>
            <p:cNvSpPr/>
            <p:nvPr/>
          </p:nvSpPr>
          <p:spPr>
            <a:xfrm>
              <a:off x="5199120" y="7988040"/>
              <a:ext cx="363600" cy="23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46720" y="7924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24480" y="7924680"/>
              <a:ext cx="1800" cy="633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1" y="0"/>
                  </a:moveTo>
                  <a:lnTo>
                    <a:pt x="0" y="4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267520" y="8037360"/>
              <a:ext cx="228600" cy="139680"/>
              <a:chOff x="5267520" y="8037360"/>
              <a:chExt cx="228600" cy="13968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267520" y="8037360"/>
                <a:ext cx="228600" cy="137880"/>
                <a:chOff x="5267520" y="8037360"/>
                <a:chExt cx="228600" cy="137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267520" y="8037360"/>
                  <a:ext cx="228600" cy="75960"/>
                </a:xfrm>
                <a:custGeom>
                  <a:avLst/>
                  <a:gdLst/>
                  <a:ahLst/>
                  <a:rect l="l" t="t" r="r" b="b"/>
                  <a:pathLst>
                    <a:path w="128" h="48">
                      <a:moveTo>
                        <a:pt x="16" y="0"/>
                      </a:moveTo>
                      <a:cubicBezTo>
                        <a:pt x="32" y="0"/>
                        <a:pt x="96" y="48"/>
                        <a:pt x="112" y="48"/>
                      </a:cubicBezTo>
                      <a:cubicBezTo>
                        <a:pt x="128" y="48"/>
                        <a:pt x="128" y="0"/>
                        <a:pt x="112" y="0"/>
                      </a:cubicBezTo>
                      <a:cubicBezTo>
                        <a:pt x="96" y="0"/>
                        <a:pt x="32" y="48"/>
                        <a:pt x="16" y="48"/>
                      </a:cubicBezTo>
                      <a:cubicBezTo>
                        <a:pt x="0" y="48"/>
                        <a:pt x="0" y="0"/>
                        <a:pt x="16" y="0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82000" y="8078400"/>
                  <a:ext cx="1440" cy="96840"/>
                </a:xfrm>
                <a:custGeom>
                  <a:avLst/>
                  <a:gdLst/>
                  <a:ahLst/>
                  <a:rect l="l" t="t" r="r" b="b"/>
                  <a:pathLst>
                    <a:path w="1" h="61">
                      <a:moveTo>
                        <a:pt x="0" y="0"/>
                      </a:moveTo>
                      <a:lnTo>
                        <a:pt x="0" y="6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5299200" y="8175240"/>
                <a:ext cx="163440" cy="1800"/>
              </a:xfrm>
              <a:custGeom>
                <a:avLst/>
                <a:gdLst/>
                <a:ahLst/>
                <a:rect l="l" t="t" r="r" b="b"/>
                <a:pathLst>
                  <a:path w="103" h="1">
                    <a:moveTo>
                      <a:pt x="0" y="0"/>
                    </a:moveTo>
                    <a:lnTo>
                      <a:pt x="10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5484600" y="800892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bat Aviation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(Battle Group 0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87760"/>
            <a:ext cx="34740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572000"/>
            <a:ext cx="2286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45100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th Special Operations Squadron  (ME -28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98880"/>
            <a:ext cx="34740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9212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F-160  (ME -29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5029200"/>
            <a:ext cx="2286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473040" y="612720"/>
            <a:ext cx="347400" cy="291960"/>
            <a:chOff x="473040" y="612720"/>
            <a:chExt cx="347400" cy="291960"/>
          </a:xfrm>
        </p:grpSpPr>
        <p:grpSp>
          <p:nvGrpSpPr>
            <p:cNvPr id="180" name=""/>
            <p:cNvGrpSpPr/>
            <p:nvPr/>
          </p:nvGrpSpPr>
          <p:grpSpPr>
            <a:xfrm>
              <a:off x="607680" y="612720"/>
              <a:ext cx="76320" cy="63360"/>
              <a:chOff x="607680" y="612720"/>
              <a:chExt cx="76320" cy="63360"/>
            </a:xfrm>
          </p:grpSpPr>
          <p:sp>
            <p:nvSpPr>
              <p:cNvPr id="181" name=""/>
              <p:cNvSpPr/>
              <p:nvPr/>
            </p:nvSpPr>
            <p:spPr>
              <a:xfrm>
                <a:off x="607680" y="612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4000" y="612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73040" y="668160"/>
              <a:ext cx="34740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5640" y="30492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al Operations Force (Battle Group 01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9720" y="1143000"/>
            <a:ext cx="24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troy the Beausejour Transmitting S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6760" y="1508040"/>
            <a:ext cx="180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e the Government Hou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143000"/>
            <a:ext cx="34740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990000"/>
            <a:ext cx="18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31840" y="115992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58840" y="115992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l Team 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515960"/>
            <a:ext cx="34740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1840" y="15328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58840" y="153288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l Team  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6160" y="9748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1897200"/>
            <a:ext cx="34740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31840" y="19137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8840" y="191376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ta Te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5320" y="188928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e the Richmond Hill Pris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7520" y="2368440"/>
            <a:ext cx="161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 Co. 1/75th Ranger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2120" y="2286000"/>
            <a:ext cx="347040" cy="302760"/>
            <a:chOff x="762120" y="2286000"/>
            <a:chExt cx="347040" cy="302760"/>
          </a:xfrm>
        </p:grpSpPr>
        <p:grpSp>
          <p:nvGrpSpPr>
            <p:cNvPr id="201" name=""/>
            <p:cNvGrpSpPr/>
            <p:nvPr/>
          </p:nvGrpSpPr>
          <p:grpSpPr>
            <a:xfrm>
              <a:off x="762120" y="2352600"/>
              <a:ext cx="347040" cy="236160"/>
              <a:chOff x="762120" y="2352600"/>
              <a:chExt cx="347040" cy="236160"/>
            </a:xfrm>
          </p:grpSpPr>
          <p:sp>
            <p:nvSpPr>
              <p:cNvPr id="202" name=""/>
              <p:cNvSpPr/>
              <p:nvPr/>
            </p:nvSpPr>
            <p:spPr>
              <a:xfrm>
                <a:off x="762120" y="235260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765720" y="235620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2120" y="235620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34920" y="22860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93880" y="2394000"/>
              <a:ext cx="85680" cy="152280"/>
              <a:chOff x="893880" y="2394000"/>
              <a:chExt cx="85680" cy="152280"/>
            </a:xfrm>
          </p:grpSpPr>
          <p:sp>
            <p:nvSpPr>
              <p:cNvPr id="207" name=""/>
              <p:cNvSpPr/>
              <p:nvPr/>
            </p:nvSpPr>
            <p:spPr>
              <a:xfrm>
                <a:off x="893880" y="239400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93880" y="243972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2668320" y="237744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78080" y="2362320"/>
            <a:ext cx="19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inforce Delta Tea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2880" y="914400"/>
            <a:ext cx="4680" cy="1562040"/>
          </a:xfrm>
          <a:custGeom>
            <a:avLst/>
            <a:gdLst/>
            <a:ahLst/>
            <a:rect l="l" t="t" r="r" b="b"/>
            <a:pathLst>
              <a:path w="3" h="984">
                <a:moveTo>
                  <a:pt x="3" y="0"/>
                </a:moveTo>
                <a:lnTo>
                  <a:pt x="0" y="984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47320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292400"/>
            <a:ext cx="228600" cy="288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7328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05416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6360" y="2971800"/>
            <a:ext cx="26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/75th Ranger Battalion (Battle Group 0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880" y="3276720"/>
            <a:ext cx="347040" cy="302760"/>
            <a:chOff x="380880" y="3276720"/>
            <a:chExt cx="347040" cy="302760"/>
          </a:xfrm>
        </p:grpSpPr>
        <p:grpSp>
          <p:nvGrpSpPr>
            <p:cNvPr id="218" name=""/>
            <p:cNvGrpSpPr/>
            <p:nvPr/>
          </p:nvGrpSpPr>
          <p:grpSpPr>
            <a:xfrm>
              <a:off x="380880" y="3343320"/>
              <a:ext cx="347040" cy="236160"/>
              <a:chOff x="380880" y="3343320"/>
              <a:chExt cx="347040" cy="236160"/>
            </a:xfrm>
          </p:grpSpPr>
          <p:sp>
            <p:nvSpPr>
              <p:cNvPr id="219" name=""/>
              <p:cNvSpPr/>
              <p:nvPr/>
            </p:nvSpPr>
            <p:spPr>
              <a:xfrm>
                <a:off x="380880" y="334332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384480" y="334692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0880" y="334692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33160" y="3276720"/>
              <a:ext cx="76320" cy="63360"/>
              <a:chOff x="533160" y="3276720"/>
              <a:chExt cx="76320" cy="63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33160" y="3276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480" y="3276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12640" y="3384720"/>
              <a:ext cx="85680" cy="152280"/>
              <a:chOff x="512640" y="3384720"/>
              <a:chExt cx="85680" cy="152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12640" y="338472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2640" y="343044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1127880" y="413532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052880"/>
            <a:ext cx="347040" cy="302760"/>
            <a:chOff x="762120" y="4052880"/>
            <a:chExt cx="347040" cy="302760"/>
          </a:xfrm>
        </p:grpSpPr>
        <p:grpSp>
          <p:nvGrpSpPr>
            <p:cNvPr id="230" name=""/>
            <p:cNvGrpSpPr/>
            <p:nvPr/>
          </p:nvGrpSpPr>
          <p:grpSpPr>
            <a:xfrm>
              <a:off x="762120" y="4119480"/>
              <a:ext cx="347040" cy="236160"/>
              <a:chOff x="762120" y="4119480"/>
              <a:chExt cx="347040" cy="236160"/>
            </a:xfrm>
          </p:grpSpPr>
          <p:sp>
            <p:nvSpPr>
              <p:cNvPr id="231" name=""/>
              <p:cNvSpPr/>
              <p:nvPr/>
            </p:nvSpPr>
            <p:spPr>
              <a:xfrm>
                <a:off x="762120" y="411948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765720" y="412308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2120" y="412308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934920" y="40528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893880" y="4160880"/>
              <a:ext cx="85680" cy="152280"/>
              <a:chOff x="893880" y="4160880"/>
              <a:chExt cx="85680" cy="152280"/>
            </a:xfrm>
          </p:grpSpPr>
          <p:sp>
            <p:nvSpPr>
              <p:cNvPr id="236" name=""/>
              <p:cNvSpPr/>
              <p:nvPr/>
            </p:nvSpPr>
            <p:spPr>
              <a:xfrm>
                <a:off x="893880" y="416088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93880" y="420660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533520" y="424008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27880" y="451800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62120" y="4435560"/>
            <a:ext cx="347040" cy="302760"/>
            <a:chOff x="762120" y="4435560"/>
            <a:chExt cx="347040" cy="302760"/>
          </a:xfrm>
        </p:grpSpPr>
        <p:grpSp>
          <p:nvGrpSpPr>
            <p:cNvPr id="241" name=""/>
            <p:cNvGrpSpPr/>
            <p:nvPr/>
          </p:nvGrpSpPr>
          <p:grpSpPr>
            <a:xfrm>
              <a:off x="762120" y="4502160"/>
              <a:ext cx="347040" cy="236160"/>
              <a:chOff x="762120" y="4502160"/>
              <a:chExt cx="347040" cy="236160"/>
            </a:xfrm>
          </p:grpSpPr>
          <p:sp>
            <p:nvSpPr>
              <p:cNvPr id="242" name=""/>
              <p:cNvSpPr/>
              <p:nvPr/>
            </p:nvSpPr>
            <p:spPr>
              <a:xfrm>
                <a:off x="762120" y="450216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65720" y="450576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2120" y="450576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934920" y="4435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893880" y="4543560"/>
              <a:ext cx="85680" cy="152280"/>
              <a:chOff x="893880" y="4543560"/>
              <a:chExt cx="85680" cy="152280"/>
            </a:xfrm>
          </p:grpSpPr>
          <p:sp>
            <p:nvSpPr>
              <p:cNvPr id="247" name=""/>
              <p:cNvSpPr/>
              <p:nvPr/>
            </p:nvSpPr>
            <p:spPr>
              <a:xfrm>
                <a:off x="893880" y="454356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93880" y="458928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533520" y="462276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5320" y="41284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5320" y="45093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28600" y="3741840"/>
            <a:ext cx="40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62120" y="3659040"/>
            <a:ext cx="347040" cy="302760"/>
            <a:chOff x="762120" y="3659040"/>
            <a:chExt cx="347040" cy="302760"/>
          </a:xfrm>
        </p:grpSpPr>
        <p:grpSp>
          <p:nvGrpSpPr>
            <p:cNvPr id="254" name=""/>
            <p:cNvGrpSpPr/>
            <p:nvPr/>
          </p:nvGrpSpPr>
          <p:grpSpPr>
            <a:xfrm>
              <a:off x="762120" y="3725640"/>
              <a:ext cx="347040" cy="236160"/>
              <a:chOff x="762120" y="3725640"/>
              <a:chExt cx="347040" cy="236160"/>
            </a:xfrm>
          </p:grpSpPr>
          <p:sp>
            <p:nvSpPr>
              <p:cNvPr id="255" name=""/>
              <p:cNvSpPr/>
              <p:nvPr/>
            </p:nvSpPr>
            <p:spPr>
              <a:xfrm>
                <a:off x="762120" y="372564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65720" y="372924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2120" y="372924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934920" y="36590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893880" y="3767040"/>
              <a:ext cx="85680" cy="152280"/>
              <a:chOff x="893880" y="3767040"/>
              <a:chExt cx="85680" cy="152280"/>
            </a:xfrm>
          </p:grpSpPr>
          <p:sp>
            <p:nvSpPr>
              <p:cNvPr id="260" name=""/>
              <p:cNvSpPr/>
              <p:nvPr/>
            </p:nvSpPr>
            <p:spPr>
              <a:xfrm>
                <a:off x="893880" y="376704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93880" y="381276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533520" y="384660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5320" y="373464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520" y="335268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e the Western end of Salines Runway and True Blue Medical Campu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3581280"/>
            <a:ext cx="1440" cy="1047960"/>
          </a:xfrm>
          <a:custGeom>
            <a:avLst/>
            <a:gdLst/>
            <a:ahLst/>
            <a:rect l="l" t="t" r="r" b="b"/>
            <a:pathLst>
              <a:path w="1" h="660">
                <a:moveTo>
                  <a:pt x="0" y="0"/>
                </a:moveTo>
                <a:lnTo>
                  <a:pt x="0" y="660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03480" y="3199680"/>
            <a:ext cx="18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2920" y="3124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6360" y="5014800"/>
            <a:ext cx="26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/75th Ranger Battalion (Battle Group 03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5319720"/>
            <a:ext cx="347040" cy="302760"/>
            <a:chOff x="380880" y="5319720"/>
            <a:chExt cx="347040" cy="302760"/>
          </a:xfrm>
        </p:grpSpPr>
        <p:grpSp>
          <p:nvGrpSpPr>
            <p:cNvPr id="270" name=""/>
            <p:cNvGrpSpPr/>
            <p:nvPr/>
          </p:nvGrpSpPr>
          <p:grpSpPr>
            <a:xfrm>
              <a:off x="380880" y="5386320"/>
              <a:ext cx="347040" cy="236160"/>
              <a:chOff x="380880" y="5386320"/>
              <a:chExt cx="347040" cy="236160"/>
            </a:xfrm>
          </p:grpSpPr>
          <p:sp>
            <p:nvSpPr>
              <p:cNvPr id="271" name=""/>
              <p:cNvSpPr/>
              <p:nvPr/>
            </p:nvSpPr>
            <p:spPr>
              <a:xfrm>
                <a:off x="380880" y="538632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384480" y="538992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0880" y="538992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33160" y="5319720"/>
              <a:ext cx="76320" cy="63360"/>
              <a:chOff x="533160" y="5319720"/>
              <a:chExt cx="76320" cy="63360"/>
            </a:xfrm>
          </p:grpSpPr>
          <p:sp>
            <p:nvSpPr>
              <p:cNvPr id="275" name=""/>
              <p:cNvSpPr/>
              <p:nvPr/>
            </p:nvSpPr>
            <p:spPr>
              <a:xfrm>
                <a:off x="533160" y="5319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9480" y="5319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12640" y="5427720"/>
              <a:ext cx="85680" cy="152280"/>
              <a:chOff x="512640" y="5427720"/>
              <a:chExt cx="85680" cy="152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12640" y="542772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2640" y="547344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1127880" y="617868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6095880"/>
            <a:ext cx="347040" cy="302760"/>
            <a:chOff x="762120" y="6095880"/>
            <a:chExt cx="347040" cy="302760"/>
          </a:xfrm>
        </p:grpSpPr>
        <p:grpSp>
          <p:nvGrpSpPr>
            <p:cNvPr id="282" name=""/>
            <p:cNvGrpSpPr/>
            <p:nvPr/>
          </p:nvGrpSpPr>
          <p:grpSpPr>
            <a:xfrm>
              <a:off x="762120" y="6162480"/>
              <a:ext cx="347040" cy="236160"/>
              <a:chOff x="762120" y="6162480"/>
              <a:chExt cx="347040" cy="236160"/>
            </a:xfrm>
          </p:grpSpPr>
          <p:sp>
            <p:nvSpPr>
              <p:cNvPr id="283" name=""/>
              <p:cNvSpPr/>
              <p:nvPr/>
            </p:nvSpPr>
            <p:spPr>
              <a:xfrm>
                <a:off x="762120" y="616248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765720" y="616608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2120" y="616608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934920" y="60958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893880" y="6203880"/>
              <a:ext cx="85680" cy="152280"/>
              <a:chOff x="893880" y="6203880"/>
              <a:chExt cx="85680" cy="152280"/>
            </a:xfrm>
          </p:grpSpPr>
          <p:sp>
            <p:nvSpPr>
              <p:cNvPr id="288" name=""/>
              <p:cNvSpPr/>
              <p:nvPr/>
            </p:nvSpPr>
            <p:spPr>
              <a:xfrm>
                <a:off x="893880" y="620388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93880" y="624960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533520" y="628344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7880" y="656100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62120" y="6478560"/>
            <a:ext cx="347040" cy="302760"/>
            <a:chOff x="762120" y="6478560"/>
            <a:chExt cx="347040" cy="302760"/>
          </a:xfrm>
        </p:grpSpPr>
        <p:grpSp>
          <p:nvGrpSpPr>
            <p:cNvPr id="293" name=""/>
            <p:cNvGrpSpPr/>
            <p:nvPr/>
          </p:nvGrpSpPr>
          <p:grpSpPr>
            <a:xfrm>
              <a:off x="762120" y="6545160"/>
              <a:ext cx="347040" cy="236160"/>
              <a:chOff x="762120" y="6545160"/>
              <a:chExt cx="347040" cy="236160"/>
            </a:xfrm>
          </p:grpSpPr>
          <p:sp>
            <p:nvSpPr>
              <p:cNvPr id="294" name=""/>
              <p:cNvSpPr/>
              <p:nvPr/>
            </p:nvSpPr>
            <p:spPr>
              <a:xfrm>
                <a:off x="762120" y="654516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765720" y="654876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120" y="654876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934920" y="6478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893880" y="6586560"/>
              <a:ext cx="85680" cy="152280"/>
              <a:chOff x="893880" y="6586560"/>
              <a:chExt cx="85680" cy="152280"/>
            </a:xfrm>
          </p:grpSpPr>
          <p:sp>
            <p:nvSpPr>
              <p:cNvPr id="299" name=""/>
              <p:cNvSpPr/>
              <p:nvPr/>
            </p:nvSpPr>
            <p:spPr>
              <a:xfrm>
                <a:off x="893880" y="658656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93880" y="663228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533520" y="666576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5320" y="61714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655272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28600" y="5784840"/>
            <a:ext cx="40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62120" y="5702400"/>
            <a:ext cx="347040" cy="302760"/>
            <a:chOff x="762120" y="5702400"/>
            <a:chExt cx="347040" cy="302760"/>
          </a:xfrm>
        </p:grpSpPr>
        <p:grpSp>
          <p:nvGrpSpPr>
            <p:cNvPr id="306" name=""/>
            <p:cNvGrpSpPr/>
            <p:nvPr/>
          </p:nvGrpSpPr>
          <p:grpSpPr>
            <a:xfrm>
              <a:off x="762120" y="5769000"/>
              <a:ext cx="347040" cy="236160"/>
              <a:chOff x="762120" y="5769000"/>
              <a:chExt cx="347040" cy="23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762120" y="576900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765720" y="577260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62120" y="577260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934920" y="5702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893880" y="5810400"/>
              <a:ext cx="85680" cy="152280"/>
              <a:chOff x="893880" y="5810400"/>
              <a:chExt cx="85680" cy="152280"/>
            </a:xfrm>
          </p:grpSpPr>
          <p:sp>
            <p:nvSpPr>
              <p:cNvPr id="312" name=""/>
              <p:cNvSpPr/>
              <p:nvPr/>
            </p:nvSpPr>
            <p:spPr>
              <a:xfrm>
                <a:off x="893880" y="581040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93880" y="585612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533520" y="588960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5320" y="57780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89480" y="5396040"/>
            <a:ext cx="38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e the Eastern end of Salines Runway and dominating high groun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5624640"/>
            <a:ext cx="1440" cy="1423800"/>
          </a:xfrm>
          <a:custGeom>
            <a:avLst/>
            <a:gdLst/>
            <a:ahLst/>
            <a:rect l="l" t="t" r="r" b="b"/>
            <a:pathLst>
              <a:path w="1" h="897">
                <a:moveTo>
                  <a:pt x="0" y="0"/>
                </a:moveTo>
                <a:lnTo>
                  <a:pt x="0" y="897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03480" y="5243040"/>
            <a:ext cx="18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2920" y="516744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27880" y="694224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 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62120" y="6859440"/>
            <a:ext cx="347040" cy="302760"/>
            <a:chOff x="762120" y="6859440"/>
            <a:chExt cx="347040" cy="302760"/>
          </a:xfrm>
        </p:grpSpPr>
        <p:grpSp>
          <p:nvGrpSpPr>
            <p:cNvPr id="322" name=""/>
            <p:cNvGrpSpPr/>
            <p:nvPr/>
          </p:nvGrpSpPr>
          <p:grpSpPr>
            <a:xfrm>
              <a:off x="762120" y="6926040"/>
              <a:ext cx="347040" cy="236160"/>
              <a:chOff x="762120" y="6926040"/>
              <a:chExt cx="347040" cy="236160"/>
            </a:xfrm>
          </p:grpSpPr>
          <p:sp>
            <p:nvSpPr>
              <p:cNvPr id="323" name=""/>
              <p:cNvSpPr/>
              <p:nvPr/>
            </p:nvSpPr>
            <p:spPr>
              <a:xfrm>
                <a:off x="762120" y="692604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65720" y="692964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2120" y="692964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934920" y="6859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893880" y="6967440"/>
              <a:ext cx="85680" cy="152280"/>
              <a:chOff x="893880" y="6967440"/>
              <a:chExt cx="8568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893880" y="696744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93880" y="701316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533520" y="7047000"/>
            <a:ext cx="228600" cy="3240"/>
          </a:xfrm>
          <a:custGeom>
            <a:avLst/>
            <a:gdLst/>
            <a:ahLst/>
            <a:rect l="l" t="t" r="r" b="b"/>
            <a:pathLst>
              <a:path w="144" h="2">
                <a:moveTo>
                  <a:pt x="0" y="0"/>
                </a:moveTo>
                <a:lnTo>
                  <a:pt x="144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5320" y="693504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0880" y="68508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d Marine Amphibious Unit (Battle Group 04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2118600"/>
            <a:ext cx="105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19320" y="243792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Landing Team  2/8 Marines (BG-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5560" y="2554200"/>
            <a:ext cx="185760" cy="3240"/>
          </a:xfrm>
          <a:custGeom>
            <a:avLst/>
            <a:gdLst/>
            <a:ahLst/>
            <a:rect l="l" t="t" r="r" b="b"/>
            <a:pathLst>
              <a:path w="117" h="2">
                <a:moveTo>
                  <a:pt x="0" y="0"/>
                </a:moveTo>
                <a:lnTo>
                  <a:pt x="117" y="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58800" y="1356840"/>
            <a:ext cx="1544760" cy="690120"/>
            <a:chOff x="658800" y="1356840"/>
            <a:chExt cx="1544760" cy="690120"/>
          </a:xfrm>
        </p:grpSpPr>
        <p:sp>
          <p:nvSpPr>
            <p:cNvPr id="337" name=""/>
            <p:cNvSpPr/>
            <p:nvPr/>
          </p:nvSpPr>
          <p:spPr>
            <a:xfrm>
              <a:off x="658800" y="1568160"/>
              <a:ext cx="288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942840" y="1356840"/>
              <a:ext cx="1260720" cy="690120"/>
              <a:chOff x="942840" y="1356840"/>
              <a:chExt cx="1260720" cy="69012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942840" y="1793880"/>
                <a:ext cx="231480" cy="235080"/>
                <a:chOff x="942840" y="1793880"/>
                <a:chExt cx="231480" cy="23508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942840" y="1838520"/>
                  <a:ext cx="231480" cy="190440"/>
                  <a:chOff x="942840" y="1838520"/>
                  <a:chExt cx="231480" cy="1904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942840" y="1838520"/>
                    <a:ext cx="23148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953640" y="20019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134720" y="20019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1044000" y="17938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947160" y="1443240"/>
                <a:ext cx="231480" cy="210600"/>
                <a:chOff x="947160" y="1443240"/>
                <a:chExt cx="231480" cy="21060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947160" y="1496880"/>
                  <a:ext cx="231480" cy="156960"/>
                  <a:chOff x="947160" y="1496880"/>
                  <a:chExt cx="231480" cy="15696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947160" y="1496880"/>
                    <a:ext cx="23148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972360" y="1518840"/>
                    <a:ext cx="183600" cy="11088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>
                  <a:off x="1048680" y="14432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233000" y="135684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33360" y="164412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73320" y="1491840"/>
                <a:ext cx="930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mman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75120" y="1831320"/>
                <a:ext cx="566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Jee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93240" y="1654200"/>
                <a:ext cx="0" cy="1778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>
            <a:off x="652320" y="1365120"/>
            <a:ext cx="1800" cy="2035440"/>
          </a:xfrm>
          <a:custGeom>
            <a:avLst/>
            <a:gdLst/>
            <a:ahLst/>
            <a:rect l="l" t="t" r="r" b="b"/>
            <a:pathLst>
              <a:path w="1" h="1282">
                <a:moveTo>
                  <a:pt x="0" y="0"/>
                </a:moveTo>
                <a:lnTo>
                  <a:pt x="0" y="128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97000" y="2818800"/>
            <a:ext cx="337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ine Medium Helicopter Squadron 261 (Reinforced) (BG-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8280" y="2922480"/>
            <a:ext cx="198360" cy="1800"/>
          </a:xfrm>
          <a:custGeom>
            <a:avLst/>
            <a:gdLst/>
            <a:ahLst/>
            <a:rect l="l" t="t" r="r" b="b"/>
            <a:pathLst>
              <a:path w="125" h="1">
                <a:moveTo>
                  <a:pt x="0" y="1"/>
                </a:moveTo>
                <a:lnTo>
                  <a:pt x="125" y="0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7000" y="3272760"/>
            <a:ext cx="154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ine Support Group 2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3240" y="3389400"/>
            <a:ext cx="20016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27160" y="5025240"/>
            <a:ext cx="18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440" y="662868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6120" y="4417920"/>
            <a:ext cx="4680" cy="4357800"/>
          </a:xfrm>
          <a:custGeom>
            <a:avLst/>
            <a:gdLst/>
            <a:ahLst/>
            <a:rect l="l" t="t" r="r" b="b"/>
            <a:pathLst>
              <a:path w="3" h="2745">
                <a:moveTo>
                  <a:pt x="3" y="0"/>
                </a:moveTo>
                <a:lnTo>
                  <a:pt x="0" y="2745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50800" y="532764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53920" y="51951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5195160"/>
            <a:ext cx="172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01720" y="5154480"/>
            <a:ext cx="284040" cy="255600"/>
            <a:chOff x="801720" y="5154480"/>
            <a:chExt cx="284040" cy="255600"/>
          </a:xfrm>
        </p:grpSpPr>
        <p:sp>
          <p:nvSpPr>
            <p:cNvPr id="367" name=""/>
            <p:cNvSpPr/>
            <p:nvPr/>
          </p:nvSpPr>
          <p:spPr>
            <a:xfrm>
              <a:off x="947880" y="5154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801720" y="5216400"/>
              <a:ext cx="284040" cy="193680"/>
              <a:chOff x="801720" y="5216400"/>
              <a:chExt cx="284040" cy="193680"/>
            </a:xfrm>
          </p:grpSpPr>
          <p:sp>
            <p:nvSpPr>
              <p:cNvPr id="369" name=""/>
              <p:cNvSpPr/>
              <p:nvPr/>
            </p:nvSpPr>
            <p:spPr>
              <a:xfrm>
                <a:off x="801720" y="521640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04600" y="521928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1720" y="521928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550800" y="4417200"/>
            <a:ext cx="1432440" cy="609480"/>
            <a:chOff x="550800" y="4417200"/>
            <a:chExt cx="1432440" cy="609480"/>
          </a:xfrm>
        </p:grpSpPr>
        <p:sp>
          <p:nvSpPr>
            <p:cNvPr id="373" name=""/>
            <p:cNvSpPr/>
            <p:nvPr/>
          </p:nvSpPr>
          <p:spPr>
            <a:xfrm>
              <a:off x="550800" y="4611600"/>
              <a:ext cx="289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838440" y="4417200"/>
              <a:ext cx="1144800" cy="609480"/>
              <a:chOff x="838440" y="4417200"/>
              <a:chExt cx="1144800" cy="60948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841320" y="4479840"/>
                <a:ext cx="231840" cy="210600"/>
                <a:chOff x="841320" y="4479840"/>
                <a:chExt cx="231840" cy="21060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841320" y="4533480"/>
                  <a:ext cx="231840" cy="156960"/>
                  <a:chOff x="841320" y="4533480"/>
                  <a:chExt cx="231840" cy="1569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841320" y="453348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66880" y="4555440"/>
                    <a:ext cx="183960" cy="11088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943200" y="4479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868320" y="4697280"/>
                <a:ext cx="0" cy="1029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059120" y="441720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101600" y="4552200"/>
                <a:ext cx="88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838440" y="4704480"/>
                <a:ext cx="837360" cy="322200"/>
                <a:chOff x="838440" y="4704480"/>
                <a:chExt cx="837360" cy="3222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059120" y="470448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101600" y="4811040"/>
                  <a:ext cx="54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838440" y="4752720"/>
                  <a:ext cx="231480" cy="249120"/>
                  <a:chOff x="838440" y="4752720"/>
                  <a:chExt cx="231480" cy="2491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943200" y="4752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838440" y="4811400"/>
                    <a:ext cx="231480" cy="190440"/>
                    <a:chOff x="838440" y="4811400"/>
                    <a:chExt cx="231480" cy="1904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838440" y="481140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849240" y="497484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1030320" y="497484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92" name=""/>
          <p:cNvSpPr/>
          <p:nvPr/>
        </p:nvSpPr>
        <p:spPr>
          <a:xfrm flipV="1">
            <a:off x="533520" y="5708160"/>
            <a:ext cx="25056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36640" y="55764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49400" y="557640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84080" y="5535720"/>
            <a:ext cx="284400" cy="255600"/>
            <a:chOff x="784080" y="5535720"/>
            <a:chExt cx="284400" cy="255600"/>
          </a:xfrm>
        </p:grpSpPr>
        <p:sp>
          <p:nvSpPr>
            <p:cNvPr id="396" name=""/>
            <p:cNvSpPr/>
            <p:nvPr/>
          </p:nvSpPr>
          <p:spPr>
            <a:xfrm>
              <a:off x="930240" y="5535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84080" y="5597640"/>
              <a:ext cx="284400" cy="193680"/>
              <a:chOff x="784080" y="5597640"/>
              <a:chExt cx="284400" cy="193680"/>
            </a:xfrm>
          </p:grpSpPr>
          <p:sp>
            <p:nvSpPr>
              <p:cNvPr id="398" name=""/>
              <p:cNvSpPr/>
              <p:nvPr/>
            </p:nvSpPr>
            <p:spPr>
              <a:xfrm>
                <a:off x="784080" y="5597640"/>
                <a:ext cx="28440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786960" y="5600520"/>
                <a:ext cx="27684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84080" y="5600520"/>
                <a:ext cx="28296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 flipV="1">
            <a:off x="533520" y="608976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36640" y="59572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49400" y="595728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84080" y="5916600"/>
            <a:ext cx="284400" cy="255600"/>
            <a:chOff x="784080" y="5916600"/>
            <a:chExt cx="284400" cy="255600"/>
          </a:xfrm>
        </p:grpSpPr>
        <p:sp>
          <p:nvSpPr>
            <p:cNvPr id="405" name=""/>
            <p:cNvSpPr/>
            <p:nvPr/>
          </p:nvSpPr>
          <p:spPr>
            <a:xfrm>
              <a:off x="930240" y="5916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784080" y="5978520"/>
              <a:ext cx="284400" cy="193680"/>
              <a:chOff x="784080" y="5978520"/>
              <a:chExt cx="284400" cy="193680"/>
            </a:xfrm>
          </p:grpSpPr>
          <p:sp>
            <p:nvSpPr>
              <p:cNvPr id="407" name=""/>
              <p:cNvSpPr/>
              <p:nvPr/>
            </p:nvSpPr>
            <p:spPr>
              <a:xfrm>
                <a:off x="784080" y="5978520"/>
                <a:ext cx="28440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786960" y="5981400"/>
                <a:ext cx="27684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84080" y="5981400"/>
                <a:ext cx="28296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-76320" y="3809160"/>
            <a:ext cx="28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alion Landing Team  2/8 Marines (BG-4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33520" y="647064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08160" y="63381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49400" y="633816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apons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84080" y="6297480"/>
            <a:ext cx="284400" cy="255600"/>
            <a:chOff x="784080" y="6297480"/>
            <a:chExt cx="284400" cy="255600"/>
          </a:xfrm>
        </p:grpSpPr>
        <p:sp>
          <p:nvSpPr>
            <p:cNvPr id="415" name=""/>
            <p:cNvSpPr/>
            <p:nvPr/>
          </p:nvSpPr>
          <p:spPr>
            <a:xfrm>
              <a:off x="930240" y="6297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784080" y="6359400"/>
              <a:ext cx="284400" cy="193680"/>
              <a:chOff x="784080" y="6359400"/>
              <a:chExt cx="284400" cy="193680"/>
            </a:xfrm>
          </p:grpSpPr>
          <p:sp>
            <p:nvSpPr>
              <p:cNvPr id="417" name=""/>
              <p:cNvSpPr/>
              <p:nvPr/>
            </p:nvSpPr>
            <p:spPr>
              <a:xfrm>
                <a:off x="784080" y="6359400"/>
                <a:ext cx="28440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786960" y="6362280"/>
                <a:ext cx="27684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84080" y="6362280"/>
                <a:ext cx="28296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0" name=""/>
          <p:cNvSpPr/>
          <p:nvPr/>
        </p:nvSpPr>
        <p:spPr>
          <a:xfrm>
            <a:off x="1066680" y="693432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 Battery 3/10 Artill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82640" y="6858000"/>
            <a:ext cx="283680" cy="256320"/>
            <a:chOff x="782640" y="6858000"/>
            <a:chExt cx="283680" cy="256320"/>
          </a:xfrm>
        </p:grpSpPr>
        <p:grpSp>
          <p:nvGrpSpPr>
            <p:cNvPr id="422" name=""/>
            <p:cNvGrpSpPr/>
            <p:nvPr/>
          </p:nvGrpSpPr>
          <p:grpSpPr>
            <a:xfrm>
              <a:off x="782640" y="6921360"/>
              <a:ext cx="283680" cy="192960"/>
              <a:chOff x="782640" y="6921360"/>
              <a:chExt cx="283680" cy="192960"/>
            </a:xfrm>
          </p:grpSpPr>
          <p:sp>
            <p:nvSpPr>
              <p:cNvPr id="423" name=""/>
              <p:cNvSpPr/>
              <p:nvPr/>
            </p:nvSpPr>
            <p:spPr>
              <a:xfrm>
                <a:off x="782640" y="692136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97120" y="698940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923760" y="6858000"/>
              <a:ext cx="0" cy="72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260440" y="69336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33520" y="700884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62120" y="7162920"/>
            <a:ext cx="284040" cy="239760"/>
            <a:chOff x="762120" y="7162920"/>
            <a:chExt cx="284040" cy="239760"/>
          </a:xfrm>
        </p:grpSpPr>
        <p:grpSp>
          <p:nvGrpSpPr>
            <p:cNvPr id="429" name=""/>
            <p:cNvGrpSpPr/>
            <p:nvPr/>
          </p:nvGrpSpPr>
          <p:grpSpPr>
            <a:xfrm>
              <a:off x="838440" y="7162920"/>
              <a:ext cx="131760" cy="27000"/>
              <a:chOff x="838440" y="7162920"/>
              <a:chExt cx="131760" cy="27000"/>
            </a:xfrm>
          </p:grpSpPr>
          <p:sp>
            <p:nvSpPr>
              <p:cNvPr id="430" name=""/>
              <p:cNvSpPr/>
              <p:nvPr/>
            </p:nvSpPr>
            <p:spPr>
              <a:xfrm>
                <a:off x="838440" y="7162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89200" y="7162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43200" y="7162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62120" y="7209000"/>
              <a:ext cx="284040" cy="193680"/>
              <a:chOff x="762120" y="7209000"/>
              <a:chExt cx="284040" cy="193680"/>
            </a:xfrm>
          </p:grpSpPr>
          <p:sp>
            <p:nvSpPr>
              <p:cNvPr id="434" name=""/>
              <p:cNvSpPr/>
              <p:nvPr/>
            </p:nvSpPr>
            <p:spPr>
              <a:xfrm>
                <a:off x="762120" y="720900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3960" y="7257240"/>
                <a:ext cx="182160" cy="925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 flipV="1">
            <a:off x="533520" y="731376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716292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d Plt, A Co 2d Tank B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60440" y="71622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33520" y="768348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753264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d Plt, D Co 2d Combat Engineer B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69920" y="75430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82640" y="7532640"/>
            <a:ext cx="284040" cy="239760"/>
            <a:chOff x="782640" y="7532640"/>
            <a:chExt cx="284040" cy="239760"/>
          </a:xfrm>
        </p:grpSpPr>
        <p:grpSp>
          <p:nvGrpSpPr>
            <p:cNvPr id="443" name=""/>
            <p:cNvGrpSpPr/>
            <p:nvPr/>
          </p:nvGrpSpPr>
          <p:grpSpPr>
            <a:xfrm>
              <a:off x="858960" y="7532640"/>
              <a:ext cx="131760" cy="27000"/>
              <a:chOff x="858960" y="7532640"/>
              <a:chExt cx="131760" cy="27000"/>
            </a:xfrm>
          </p:grpSpPr>
          <p:sp>
            <p:nvSpPr>
              <p:cNvPr id="444" name=""/>
              <p:cNvSpPr/>
              <p:nvPr/>
            </p:nvSpPr>
            <p:spPr>
              <a:xfrm>
                <a:off x="858960" y="7532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909720" y="7532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63720" y="7532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82640" y="757872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858960" y="7645320"/>
              <a:ext cx="123840" cy="50760"/>
              <a:chOff x="858960" y="7645320"/>
              <a:chExt cx="123840" cy="50760"/>
            </a:xfrm>
          </p:grpSpPr>
          <p:sp>
            <p:nvSpPr>
              <p:cNvPr id="449" name=""/>
              <p:cNvSpPr/>
              <p:nvPr/>
            </p:nvSpPr>
            <p:spPr>
              <a:xfrm>
                <a:off x="865440" y="7645320"/>
                <a:ext cx="0" cy="5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920880" y="764856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973440" y="764856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58960" y="7648560"/>
                <a:ext cx="123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092240" y="791352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th Plt, A Co 2d Assault Amphibian B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22560" y="792432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33520" y="8075160"/>
            <a:ext cx="25056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87320" y="7913520"/>
            <a:ext cx="284400" cy="239760"/>
            <a:chOff x="787320" y="7913520"/>
            <a:chExt cx="284400" cy="239760"/>
          </a:xfrm>
        </p:grpSpPr>
        <p:grpSp>
          <p:nvGrpSpPr>
            <p:cNvPr id="457" name=""/>
            <p:cNvGrpSpPr/>
            <p:nvPr/>
          </p:nvGrpSpPr>
          <p:grpSpPr>
            <a:xfrm>
              <a:off x="863640" y="7913520"/>
              <a:ext cx="131760" cy="27000"/>
              <a:chOff x="863640" y="7913520"/>
              <a:chExt cx="131760" cy="27000"/>
            </a:xfrm>
          </p:grpSpPr>
          <p:sp>
            <p:nvSpPr>
              <p:cNvPr id="458" name=""/>
              <p:cNvSpPr/>
              <p:nvPr/>
            </p:nvSpPr>
            <p:spPr>
              <a:xfrm>
                <a:off x="863640" y="791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14400" y="7913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68400" y="791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787320" y="7959600"/>
              <a:ext cx="28440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8080" y="8010360"/>
              <a:ext cx="184320" cy="93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9120" y="7966080"/>
              <a:ext cx="280800" cy="182520"/>
            </a:xfrm>
            <a:custGeom>
              <a:avLst/>
              <a:gdLst/>
              <a:ahLst/>
              <a:rect l="l" t="t" r="r" b="b"/>
              <a:pathLst>
                <a:path w="177" h="115">
                  <a:moveTo>
                    <a:pt x="0" y="115"/>
                  </a:moveTo>
                  <a:lnTo>
                    <a:pt x="17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9120" y="7961040"/>
              <a:ext cx="282600" cy="192240"/>
            </a:xfrm>
            <a:custGeom>
              <a:avLst/>
              <a:gdLst/>
              <a:ahLst/>
              <a:rect l="l" t="t" r="r" b="b"/>
              <a:pathLst>
                <a:path w="178" h="121">
                  <a:moveTo>
                    <a:pt x="0" y="0"/>
                  </a:moveTo>
                  <a:lnTo>
                    <a:pt x="178" y="1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092240" y="829476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st Plt, A Co 2d Recon B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12720" y="83052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3520" y="845676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863640" y="8294760"/>
            <a:ext cx="131760" cy="27000"/>
            <a:chOff x="863640" y="8294760"/>
            <a:chExt cx="131760" cy="27000"/>
          </a:xfrm>
        </p:grpSpPr>
        <p:sp>
          <p:nvSpPr>
            <p:cNvPr id="469" name=""/>
            <p:cNvSpPr/>
            <p:nvPr/>
          </p:nvSpPr>
          <p:spPr>
            <a:xfrm>
              <a:off x="863640" y="8294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8294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68400" y="8294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787320" y="8340840"/>
            <a:ext cx="28440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89120" y="8346960"/>
            <a:ext cx="280800" cy="182520"/>
          </a:xfrm>
          <a:custGeom>
            <a:avLst/>
            <a:gdLst/>
            <a:ahLst/>
            <a:rect l="l" t="t" r="r" b="b"/>
            <a:pathLst>
              <a:path w="177" h="115">
                <a:moveTo>
                  <a:pt x="0" y="115"/>
                </a:moveTo>
                <a:lnTo>
                  <a:pt x="1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62120" y="8610480"/>
            <a:ext cx="231480" cy="200160"/>
            <a:chOff x="762120" y="8610480"/>
            <a:chExt cx="231480" cy="200160"/>
          </a:xfrm>
        </p:grpSpPr>
        <p:grpSp>
          <p:nvGrpSpPr>
            <p:cNvPr id="475" name=""/>
            <p:cNvGrpSpPr/>
            <p:nvPr/>
          </p:nvGrpSpPr>
          <p:grpSpPr>
            <a:xfrm>
              <a:off x="762120" y="8653320"/>
              <a:ext cx="231480" cy="157320"/>
              <a:chOff x="762120" y="8653320"/>
              <a:chExt cx="231480" cy="157320"/>
            </a:xfrm>
          </p:grpSpPr>
          <p:sp>
            <p:nvSpPr>
              <p:cNvPr id="476" name=""/>
              <p:cNvSpPr/>
              <p:nvPr/>
            </p:nvSpPr>
            <p:spPr>
              <a:xfrm>
                <a:off x="762120" y="8653320"/>
                <a:ext cx="23148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62120" y="8656200"/>
                <a:ext cx="113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75880" y="8653320"/>
                <a:ext cx="1137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839520" y="8610480"/>
              <a:ext cx="73800" cy="28080"/>
              <a:chOff x="839520" y="8610480"/>
              <a:chExt cx="73800" cy="28080"/>
            </a:xfrm>
          </p:grpSpPr>
          <p:sp>
            <p:nvSpPr>
              <p:cNvPr id="480" name=""/>
              <p:cNvSpPr/>
              <p:nvPr/>
            </p:nvSpPr>
            <p:spPr>
              <a:xfrm>
                <a:off x="839520" y="861048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86680" y="86119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 flipV="1">
            <a:off x="533520" y="8760960"/>
            <a:ext cx="25056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92240" y="861372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st Section, 1st Plt, AT Co 2d Tank B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73240" y="86241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67880" y="3200400"/>
            <a:ext cx="423000" cy="301680"/>
            <a:chOff x="767880" y="3200400"/>
            <a:chExt cx="423000" cy="301680"/>
          </a:xfrm>
        </p:grpSpPr>
        <p:sp>
          <p:nvSpPr>
            <p:cNvPr id="486" name=""/>
            <p:cNvSpPr/>
            <p:nvPr/>
          </p:nvSpPr>
          <p:spPr>
            <a:xfrm>
              <a:off x="939960" y="3200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17720" y="3203640"/>
              <a:ext cx="1440" cy="6012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0" y="3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767880" y="3263760"/>
              <a:ext cx="423000" cy="238320"/>
              <a:chOff x="767880" y="3263760"/>
              <a:chExt cx="423000" cy="238320"/>
            </a:xfrm>
          </p:grpSpPr>
          <p:sp>
            <p:nvSpPr>
              <p:cNvPr id="489" name=""/>
              <p:cNvSpPr/>
              <p:nvPr/>
            </p:nvSpPr>
            <p:spPr>
              <a:xfrm>
                <a:off x="798480" y="3263760"/>
                <a:ext cx="363600" cy="238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7880" y="3290760"/>
                <a:ext cx="4230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971800" y="380916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ne Medium Helicopter Squadron 261 (Reinforced) (BG-4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0" y="4419720"/>
            <a:ext cx="1440" cy="2233440"/>
          </a:xfrm>
          <a:custGeom>
            <a:avLst/>
            <a:gdLst/>
            <a:ahLst/>
            <a:rect l="l" t="t" r="r" b="b"/>
            <a:pathLst>
              <a:path w="1" h="1407">
                <a:moveTo>
                  <a:pt x="0" y="0"/>
                </a:moveTo>
                <a:lnTo>
                  <a:pt x="0" y="1407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505320" y="4646160"/>
            <a:ext cx="25056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98880" y="457128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733920" y="4495680"/>
            <a:ext cx="284040" cy="255600"/>
            <a:chOff x="3733920" y="4495680"/>
            <a:chExt cx="284040" cy="255600"/>
          </a:xfrm>
        </p:grpSpPr>
        <p:sp>
          <p:nvSpPr>
            <p:cNvPr id="496" name=""/>
            <p:cNvSpPr/>
            <p:nvPr/>
          </p:nvSpPr>
          <p:spPr>
            <a:xfrm>
              <a:off x="3879720" y="44956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33920" y="455760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3770280" y="4602240"/>
              <a:ext cx="211320" cy="122040"/>
              <a:chOff x="3770280" y="4602240"/>
              <a:chExt cx="211320" cy="12204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3770280" y="4605480"/>
                <a:ext cx="206640" cy="109440"/>
                <a:chOff x="3770280" y="4605480"/>
                <a:chExt cx="206640" cy="109440"/>
              </a:xfrm>
            </p:grpSpPr>
            <p:sp>
              <p:nvSpPr>
                <p:cNvPr id="500" name=""/>
                <p:cNvSpPr/>
                <p:nvPr/>
              </p:nvSpPr>
              <p:spPr>
                <a:xfrm flipV="1">
                  <a:off x="3771000" y="460548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770280" y="460548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3770280" y="460224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979800" y="460548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"/>
          <p:cNvSpPr/>
          <p:nvPr/>
        </p:nvSpPr>
        <p:spPr>
          <a:xfrm>
            <a:off x="4649760" y="45712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05320" y="496584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98880" y="489060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733920" y="4815000"/>
            <a:ext cx="284040" cy="255600"/>
            <a:chOff x="3733920" y="4815000"/>
            <a:chExt cx="284040" cy="255600"/>
          </a:xfrm>
        </p:grpSpPr>
        <p:sp>
          <p:nvSpPr>
            <p:cNvPr id="508" name=""/>
            <p:cNvSpPr/>
            <p:nvPr/>
          </p:nvSpPr>
          <p:spPr>
            <a:xfrm>
              <a:off x="3879720" y="48150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33920" y="487692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3770280" y="4921560"/>
              <a:ext cx="211320" cy="122040"/>
              <a:chOff x="3770280" y="4921560"/>
              <a:chExt cx="211320" cy="12204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3770280" y="4924800"/>
                <a:ext cx="206640" cy="109440"/>
                <a:chOff x="3770280" y="4924800"/>
                <a:chExt cx="206640" cy="109440"/>
              </a:xfrm>
            </p:grpSpPr>
            <p:sp>
              <p:nvSpPr>
                <p:cNvPr id="512" name=""/>
                <p:cNvSpPr/>
                <p:nvPr/>
              </p:nvSpPr>
              <p:spPr>
                <a:xfrm flipV="1">
                  <a:off x="3771000" y="492480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770280" y="492480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3770280" y="492156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79800" y="492480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" name=""/>
          <p:cNvSpPr/>
          <p:nvPr/>
        </p:nvSpPr>
        <p:spPr>
          <a:xfrm>
            <a:off x="4649760" y="48906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505320" y="5270040"/>
            <a:ext cx="25056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98880" y="519516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733920" y="5119560"/>
            <a:ext cx="284040" cy="255600"/>
            <a:chOff x="3733920" y="5119560"/>
            <a:chExt cx="284040" cy="255600"/>
          </a:xfrm>
        </p:grpSpPr>
        <p:sp>
          <p:nvSpPr>
            <p:cNvPr id="520" name=""/>
            <p:cNvSpPr/>
            <p:nvPr/>
          </p:nvSpPr>
          <p:spPr>
            <a:xfrm>
              <a:off x="3879720" y="5119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33920" y="518148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3770280" y="5226120"/>
              <a:ext cx="211320" cy="122040"/>
              <a:chOff x="3770280" y="5226120"/>
              <a:chExt cx="211320" cy="12204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3770280" y="5229360"/>
                <a:ext cx="206640" cy="109440"/>
                <a:chOff x="3770280" y="5229360"/>
                <a:chExt cx="206640" cy="109440"/>
              </a:xfrm>
            </p:grpSpPr>
            <p:sp>
              <p:nvSpPr>
                <p:cNvPr id="524" name=""/>
                <p:cNvSpPr/>
                <p:nvPr/>
              </p:nvSpPr>
              <p:spPr>
                <a:xfrm flipV="1">
                  <a:off x="3771000" y="522936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770280" y="522936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"/>
              <p:cNvSpPr/>
              <p:nvPr/>
            </p:nvSpPr>
            <p:spPr>
              <a:xfrm>
                <a:off x="3770280" y="522612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79800" y="522936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4649760" y="51951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4960" y="548568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505320" y="588024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98880" y="5744880"/>
            <a:ext cx="17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tachment Marine Heavy Helicopter Squadron 3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733920" y="5791320"/>
            <a:ext cx="284040" cy="193680"/>
            <a:chOff x="3733920" y="5791320"/>
            <a:chExt cx="284040" cy="193680"/>
          </a:xfrm>
        </p:grpSpPr>
        <p:sp>
          <p:nvSpPr>
            <p:cNvPr id="533" name=""/>
            <p:cNvSpPr/>
            <p:nvPr/>
          </p:nvSpPr>
          <p:spPr>
            <a:xfrm>
              <a:off x="3733920" y="579132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770280" y="5835600"/>
              <a:ext cx="211320" cy="122040"/>
              <a:chOff x="3770280" y="5835600"/>
              <a:chExt cx="211320" cy="12204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3770280" y="5838840"/>
                <a:ext cx="206640" cy="109440"/>
                <a:chOff x="3770280" y="5838840"/>
                <a:chExt cx="206640" cy="109440"/>
              </a:xfrm>
            </p:grpSpPr>
            <p:sp>
              <p:nvSpPr>
                <p:cNvPr id="536" name=""/>
                <p:cNvSpPr/>
                <p:nvPr/>
              </p:nvSpPr>
              <p:spPr>
                <a:xfrm flipV="1">
                  <a:off x="3771000" y="583884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770280" y="583884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3770280" y="583560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79800" y="583884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5765760" y="58050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505320" y="627552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98880" y="6140160"/>
            <a:ext cx="17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tachment Marine Light Attack Helicopter Squadron 1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733920" y="6186600"/>
            <a:ext cx="284040" cy="193680"/>
            <a:chOff x="3733920" y="6186600"/>
            <a:chExt cx="284040" cy="193680"/>
          </a:xfrm>
        </p:grpSpPr>
        <p:sp>
          <p:nvSpPr>
            <p:cNvPr id="544" name=""/>
            <p:cNvSpPr/>
            <p:nvPr/>
          </p:nvSpPr>
          <p:spPr>
            <a:xfrm>
              <a:off x="3733920" y="618660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3770280" y="6230880"/>
              <a:ext cx="211320" cy="122040"/>
              <a:chOff x="3770280" y="6230880"/>
              <a:chExt cx="211320" cy="12204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3770280" y="6234120"/>
                <a:ext cx="206640" cy="109440"/>
                <a:chOff x="3770280" y="6234120"/>
                <a:chExt cx="206640" cy="109440"/>
              </a:xfrm>
            </p:grpSpPr>
            <p:sp>
              <p:nvSpPr>
                <p:cNvPr id="547" name=""/>
                <p:cNvSpPr/>
                <p:nvPr/>
              </p:nvSpPr>
              <p:spPr>
                <a:xfrm flipV="1">
                  <a:off x="3771000" y="623412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70280" y="623412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3770280" y="623088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979800" y="623412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5765760" y="62002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505320" y="6656400"/>
            <a:ext cx="2505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98880" y="6521040"/>
            <a:ext cx="17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tachment, Headquarters and Maintenance Squadron 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733920" y="6567480"/>
            <a:ext cx="284040" cy="193680"/>
            <a:chOff x="3733920" y="6567480"/>
            <a:chExt cx="284040" cy="193680"/>
          </a:xfrm>
        </p:grpSpPr>
        <p:sp>
          <p:nvSpPr>
            <p:cNvPr id="555" name=""/>
            <p:cNvSpPr/>
            <p:nvPr/>
          </p:nvSpPr>
          <p:spPr>
            <a:xfrm>
              <a:off x="3733920" y="656748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3770280" y="6611760"/>
              <a:ext cx="211320" cy="122040"/>
              <a:chOff x="3770280" y="6611760"/>
              <a:chExt cx="211320" cy="12204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3770280" y="6615000"/>
                <a:ext cx="206640" cy="109440"/>
                <a:chOff x="3770280" y="6615000"/>
                <a:chExt cx="206640" cy="109440"/>
              </a:xfrm>
            </p:grpSpPr>
            <p:sp>
              <p:nvSpPr>
                <p:cNvPr id="558" name=""/>
                <p:cNvSpPr/>
                <p:nvPr/>
              </p:nvSpPr>
              <p:spPr>
                <a:xfrm flipV="1">
                  <a:off x="3771000" y="661500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770280" y="661500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770280" y="661176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979800" y="661500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2" name=""/>
          <p:cNvSpPr/>
          <p:nvPr/>
        </p:nvSpPr>
        <p:spPr>
          <a:xfrm>
            <a:off x="5765760" y="65811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48400" y="1066680"/>
            <a:ext cx="937800" cy="306000"/>
            <a:chOff x="248400" y="1066680"/>
            <a:chExt cx="937800" cy="306000"/>
          </a:xfrm>
        </p:grpSpPr>
        <p:sp>
          <p:nvSpPr>
            <p:cNvPr id="564" name=""/>
            <p:cNvSpPr/>
            <p:nvPr/>
          </p:nvSpPr>
          <p:spPr>
            <a:xfrm>
              <a:off x="763200" y="1120680"/>
              <a:ext cx="42300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A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8400" y="114300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79520" y="1066680"/>
              <a:ext cx="349200" cy="292320"/>
              <a:chOff x="479520" y="1066680"/>
              <a:chExt cx="349200" cy="29232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479520" y="1066680"/>
                <a:ext cx="347400" cy="292320"/>
                <a:chOff x="479520" y="1066680"/>
                <a:chExt cx="347400" cy="292320"/>
              </a:xfrm>
            </p:grpSpPr>
            <p:grpSp>
              <p:nvGrpSpPr>
                <p:cNvPr id="568" name=""/>
                <p:cNvGrpSpPr/>
                <p:nvPr/>
              </p:nvGrpSpPr>
              <p:grpSpPr>
                <a:xfrm>
                  <a:off x="609480" y="1066680"/>
                  <a:ext cx="85680" cy="76320"/>
                  <a:chOff x="609480" y="1066680"/>
                  <a:chExt cx="85680" cy="7632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609480" y="1066680"/>
                    <a:ext cx="0" cy="76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652320" y="1066680"/>
                    <a:ext cx="1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8">
                        <a:moveTo>
                          <a:pt x="0" y="0"/>
                        </a:moveTo>
                        <a:lnTo>
                          <a:pt x="0" y="48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693720" y="1066680"/>
                    <a:ext cx="14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7">
                        <a:moveTo>
                          <a:pt x="0" y="0"/>
                        </a:moveTo>
                        <a:lnTo>
                          <a:pt x="0" y="47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2" name=""/>
                <p:cNvSpPr/>
                <p:nvPr/>
              </p:nvSpPr>
              <p:spPr>
                <a:xfrm>
                  <a:off x="479520" y="1122480"/>
                  <a:ext cx="347400" cy="2365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79520" y="1123920"/>
                <a:ext cx="349200" cy="233280"/>
                <a:chOff x="479520" y="1123920"/>
                <a:chExt cx="349200" cy="2332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79520" y="1127160"/>
                  <a:ext cx="349200" cy="230040"/>
                </a:xfrm>
                <a:custGeom>
                  <a:avLst/>
                  <a:gdLst/>
                  <a:ahLst/>
                  <a:rect l="l" t="t" r="r" b="b"/>
                  <a:pathLst>
                    <a:path w="220" h="145">
                      <a:moveTo>
                        <a:pt x="0" y="145"/>
                      </a:moveTo>
                      <a:lnTo>
                        <a:pt x="22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84200" y="1123920"/>
                  <a:ext cx="339840" cy="233280"/>
                </a:xfrm>
                <a:custGeom>
                  <a:avLst/>
                  <a:gdLst/>
                  <a:ahLst/>
                  <a:rect l="l" t="t" r="r" b="b"/>
                  <a:pathLst>
                    <a:path w="214" h="147">
                      <a:moveTo>
                        <a:pt x="0" y="0"/>
                      </a:moveTo>
                      <a:lnTo>
                        <a:pt x="214" y="14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590400" y="1143000"/>
                <a:ext cx="125640" cy="176040"/>
                <a:chOff x="590400" y="1143000"/>
                <a:chExt cx="125640" cy="1760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54120" y="1143000"/>
                  <a:ext cx="1440" cy="174600"/>
                </a:xfrm>
                <a:custGeom>
                  <a:avLst/>
                  <a:gdLst/>
                  <a:ahLst/>
                  <a:rect l="l" t="t" r="r" b="b"/>
                  <a:pathLst>
                    <a:path w="1" h="110">
                      <a:moveTo>
                        <a:pt x="0" y="0"/>
                      </a:moveTo>
                      <a:lnTo>
                        <a:pt x="1" y="1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90400" y="1168560"/>
                  <a:ext cx="12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90400" y="1300320"/>
                  <a:ext cx="123840" cy="18720"/>
                </a:xfrm>
                <a:custGeom>
                  <a:avLst/>
                  <a:gdLst/>
                  <a:ahLst/>
                  <a:rect l="l" t="t" r="r" b="b"/>
                  <a:pathLst>
                    <a:path w="78" h="12">
                      <a:moveTo>
                        <a:pt x="0" y="2"/>
                      </a:moveTo>
                      <a:cubicBezTo>
                        <a:pt x="7" y="3"/>
                        <a:pt x="28" y="12"/>
                        <a:pt x="41" y="12"/>
                      </a:cubicBezTo>
                      <a:cubicBezTo>
                        <a:pt x="54" y="12"/>
                        <a:pt x="70" y="3"/>
                        <a:pt x="78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0" name=""/>
          <p:cNvGrpSpPr/>
          <p:nvPr/>
        </p:nvGrpSpPr>
        <p:grpSpPr>
          <a:xfrm>
            <a:off x="846000" y="2365200"/>
            <a:ext cx="365400" cy="301680"/>
            <a:chOff x="846000" y="2365200"/>
            <a:chExt cx="365400" cy="301680"/>
          </a:xfrm>
        </p:grpSpPr>
        <p:sp>
          <p:nvSpPr>
            <p:cNvPr id="581" name=""/>
            <p:cNvSpPr/>
            <p:nvPr/>
          </p:nvSpPr>
          <p:spPr>
            <a:xfrm>
              <a:off x="847800" y="2428920"/>
              <a:ext cx="363600" cy="237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47800" y="2428560"/>
              <a:ext cx="36036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6000" y="2428920"/>
              <a:ext cx="3654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995400" y="2365200"/>
              <a:ext cx="76320" cy="63360"/>
              <a:chOff x="995400" y="2365200"/>
              <a:chExt cx="76320" cy="63360"/>
            </a:xfrm>
          </p:grpSpPr>
          <p:sp>
            <p:nvSpPr>
              <p:cNvPr id="585" name=""/>
              <p:cNvSpPr/>
              <p:nvPr/>
            </p:nvSpPr>
            <p:spPr>
              <a:xfrm>
                <a:off x="995400" y="2365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071720" y="2365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966960" y="2459160"/>
              <a:ext cx="125280" cy="176040"/>
              <a:chOff x="966960" y="2459160"/>
              <a:chExt cx="125280" cy="176040"/>
            </a:xfrm>
          </p:grpSpPr>
          <p:sp>
            <p:nvSpPr>
              <p:cNvPr id="588" name=""/>
              <p:cNvSpPr/>
              <p:nvPr/>
            </p:nvSpPr>
            <p:spPr>
              <a:xfrm>
                <a:off x="1030320" y="2459160"/>
                <a:ext cx="1080" cy="174600"/>
              </a:xfrm>
              <a:custGeom>
                <a:avLst/>
                <a:gdLst/>
                <a:ahLst/>
                <a:rect l="l" t="t" r="r" b="b"/>
                <a:pathLst>
                  <a:path w="1" h="110">
                    <a:moveTo>
                      <a:pt x="0" y="0"/>
                    </a:moveTo>
                    <a:lnTo>
                      <a:pt x="1" y="1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966960" y="2484720"/>
                <a:ext cx="12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966960" y="2616480"/>
                <a:ext cx="123480" cy="18720"/>
              </a:xfrm>
              <a:custGeom>
                <a:avLst/>
                <a:gdLst/>
                <a:ahLst/>
                <a:rect l="l" t="t" r="r" b="b"/>
                <a:pathLst>
                  <a:path w="78" h="12">
                    <a:moveTo>
                      <a:pt x="0" y="2"/>
                    </a:moveTo>
                    <a:cubicBezTo>
                      <a:pt x="7" y="3"/>
                      <a:pt x="28" y="12"/>
                      <a:pt x="41" y="12"/>
                    </a:cubicBezTo>
                    <a:cubicBezTo>
                      <a:pt x="54" y="12"/>
                      <a:pt x="70" y="3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1" name=""/>
          <p:cNvGrpSpPr/>
          <p:nvPr/>
        </p:nvGrpSpPr>
        <p:grpSpPr>
          <a:xfrm>
            <a:off x="833400" y="2746440"/>
            <a:ext cx="363600" cy="301680"/>
            <a:chOff x="833400" y="2746440"/>
            <a:chExt cx="363600" cy="301680"/>
          </a:xfrm>
        </p:grpSpPr>
        <p:sp>
          <p:nvSpPr>
            <p:cNvPr id="592" name=""/>
            <p:cNvSpPr/>
            <p:nvPr/>
          </p:nvSpPr>
          <p:spPr>
            <a:xfrm>
              <a:off x="833400" y="2809800"/>
              <a:ext cx="363600" cy="23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1000" y="2746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058760" y="2746440"/>
              <a:ext cx="1800" cy="633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1" y="0"/>
                  </a:moveTo>
                  <a:lnTo>
                    <a:pt x="0" y="4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901800" y="2859120"/>
              <a:ext cx="228600" cy="139680"/>
              <a:chOff x="901800" y="2859120"/>
              <a:chExt cx="228600" cy="13968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901800" y="2859120"/>
                <a:ext cx="228600" cy="137880"/>
                <a:chOff x="901800" y="2859120"/>
                <a:chExt cx="228600" cy="1378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901800" y="2859120"/>
                  <a:ext cx="228600" cy="75960"/>
                </a:xfrm>
                <a:custGeom>
                  <a:avLst/>
                  <a:gdLst/>
                  <a:ahLst/>
                  <a:rect l="l" t="t" r="r" b="b"/>
                  <a:pathLst>
                    <a:path w="128" h="48">
                      <a:moveTo>
                        <a:pt x="16" y="0"/>
                      </a:moveTo>
                      <a:cubicBezTo>
                        <a:pt x="32" y="0"/>
                        <a:pt x="96" y="48"/>
                        <a:pt x="112" y="48"/>
                      </a:cubicBezTo>
                      <a:cubicBezTo>
                        <a:pt x="128" y="48"/>
                        <a:pt x="128" y="0"/>
                        <a:pt x="112" y="0"/>
                      </a:cubicBezTo>
                      <a:cubicBezTo>
                        <a:pt x="96" y="0"/>
                        <a:pt x="32" y="48"/>
                        <a:pt x="16" y="48"/>
                      </a:cubicBezTo>
                      <a:cubicBezTo>
                        <a:pt x="0" y="48"/>
                        <a:pt x="0" y="0"/>
                        <a:pt x="16" y="0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16280" y="2900160"/>
                  <a:ext cx="1440" cy="96840"/>
                </a:xfrm>
                <a:custGeom>
                  <a:avLst/>
                  <a:gdLst/>
                  <a:ahLst/>
                  <a:rect l="l" t="t" r="r" b="b"/>
                  <a:pathLst>
                    <a:path w="1" h="61">
                      <a:moveTo>
                        <a:pt x="0" y="0"/>
                      </a:moveTo>
                      <a:lnTo>
                        <a:pt x="0" y="6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933480" y="2997000"/>
                <a:ext cx="163440" cy="1800"/>
              </a:xfrm>
              <a:custGeom>
                <a:avLst/>
                <a:gdLst/>
                <a:ahLst/>
                <a:rect l="l" t="t" r="r" b="b"/>
                <a:pathLst>
                  <a:path w="103" h="1">
                    <a:moveTo>
                      <a:pt x="0" y="0"/>
                    </a:moveTo>
                    <a:lnTo>
                      <a:pt x="10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0" name=""/>
          <p:cNvGrpSpPr/>
          <p:nvPr/>
        </p:nvGrpSpPr>
        <p:grpSpPr>
          <a:xfrm>
            <a:off x="380880" y="4114800"/>
            <a:ext cx="365400" cy="301680"/>
            <a:chOff x="380880" y="4114800"/>
            <a:chExt cx="365400" cy="301680"/>
          </a:xfrm>
        </p:grpSpPr>
        <p:sp>
          <p:nvSpPr>
            <p:cNvPr id="601" name=""/>
            <p:cNvSpPr/>
            <p:nvPr/>
          </p:nvSpPr>
          <p:spPr>
            <a:xfrm>
              <a:off x="382680" y="4178520"/>
              <a:ext cx="363600" cy="237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82680" y="4178160"/>
              <a:ext cx="36036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880" y="4178520"/>
              <a:ext cx="3654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530280" y="4114800"/>
              <a:ext cx="76320" cy="63360"/>
              <a:chOff x="530280" y="4114800"/>
              <a:chExt cx="76320" cy="63360"/>
            </a:xfrm>
          </p:grpSpPr>
          <p:sp>
            <p:nvSpPr>
              <p:cNvPr id="605" name=""/>
              <p:cNvSpPr/>
              <p:nvPr/>
            </p:nvSpPr>
            <p:spPr>
              <a:xfrm>
                <a:off x="530280" y="4114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06600" y="4114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501840" y="4208760"/>
              <a:ext cx="125280" cy="176040"/>
              <a:chOff x="501840" y="4208760"/>
              <a:chExt cx="125280" cy="176040"/>
            </a:xfrm>
          </p:grpSpPr>
          <p:sp>
            <p:nvSpPr>
              <p:cNvPr id="608" name=""/>
              <p:cNvSpPr/>
              <p:nvPr/>
            </p:nvSpPr>
            <p:spPr>
              <a:xfrm>
                <a:off x="565200" y="4208760"/>
                <a:ext cx="1080" cy="174600"/>
              </a:xfrm>
              <a:custGeom>
                <a:avLst/>
                <a:gdLst/>
                <a:ahLst/>
                <a:rect l="l" t="t" r="r" b="b"/>
                <a:pathLst>
                  <a:path w="1" h="110">
                    <a:moveTo>
                      <a:pt x="0" y="0"/>
                    </a:moveTo>
                    <a:lnTo>
                      <a:pt x="1" y="1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01840" y="4234320"/>
                <a:ext cx="12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1840" y="4366080"/>
                <a:ext cx="123480" cy="18720"/>
              </a:xfrm>
              <a:custGeom>
                <a:avLst/>
                <a:gdLst/>
                <a:ahLst/>
                <a:rect l="l" t="t" r="r" b="b"/>
                <a:pathLst>
                  <a:path w="78" h="12">
                    <a:moveTo>
                      <a:pt x="0" y="2"/>
                    </a:moveTo>
                    <a:cubicBezTo>
                      <a:pt x="7" y="3"/>
                      <a:pt x="28" y="12"/>
                      <a:pt x="41" y="12"/>
                    </a:cubicBezTo>
                    <a:cubicBezTo>
                      <a:pt x="54" y="12"/>
                      <a:pt x="70" y="3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3352680" y="4118040"/>
            <a:ext cx="363600" cy="301680"/>
            <a:chOff x="3352680" y="4118040"/>
            <a:chExt cx="363600" cy="301680"/>
          </a:xfrm>
        </p:grpSpPr>
        <p:sp>
          <p:nvSpPr>
            <p:cNvPr id="612" name=""/>
            <p:cNvSpPr/>
            <p:nvPr/>
          </p:nvSpPr>
          <p:spPr>
            <a:xfrm>
              <a:off x="3352680" y="4181400"/>
              <a:ext cx="363600" cy="23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00280" y="41180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78040" y="4118040"/>
              <a:ext cx="1800" cy="633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1" y="0"/>
                  </a:moveTo>
                  <a:lnTo>
                    <a:pt x="0" y="4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421080" y="4230720"/>
              <a:ext cx="228600" cy="139680"/>
              <a:chOff x="3421080" y="4230720"/>
              <a:chExt cx="228600" cy="1396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421080" y="4230720"/>
                <a:ext cx="228600" cy="137880"/>
                <a:chOff x="3421080" y="4230720"/>
                <a:chExt cx="228600" cy="1378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421080" y="4230720"/>
                  <a:ext cx="228600" cy="75960"/>
                </a:xfrm>
                <a:custGeom>
                  <a:avLst/>
                  <a:gdLst/>
                  <a:ahLst/>
                  <a:rect l="l" t="t" r="r" b="b"/>
                  <a:pathLst>
                    <a:path w="128" h="48">
                      <a:moveTo>
                        <a:pt x="16" y="0"/>
                      </a:moveTo>
                      <a:cubicBezTo>
                        <a:pt x="32" y="0"/>
                        <a:pt x="96" y="48"/>
                        <a:pt x="112" y="48"/>
                      </a:cubicBezTo>
                      <a:cubicBezTo>
                        <a:pt x="128" y="48"/>
                        <a:pt x="128" y="0"/>
                        <a:pt x="112" y="0"/>
                      </a:cubicBezTo>
                      <a:cubicBezTo>
                        <a:pt x="96" y="0"/>
                        <a:pt x="32" y="48"/>
                        <a:pt x="16" y="48"/>
                      </a:cubicBezTo>
                      <a:cubicBezTo>
                        <a:pt x="0" y="48"/>
                        <a:pt x="0" y="0"/>
                        <a:pt x="16" y="0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535560" y="4271760"/>
                  <a:ext cx="1440" cy="96840"/>
                </a:xfrm>
                <a:custGeom>
                  <a:avLst/>
                  <a:gdLst/>
                  <a:ahLst/>
                  <a:rect l="l" t="t" r="r" b="b"/>
                  <a:pathLst>
                    <a:path w="1" h="61">
                      <a:moveTo>
                        <a:pt x="0" y="0"/>
                      </a:moveTo>
                      <a:lnTo>
                        <a:pt x="0" y="6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3452760" y="4368600"/>
                <a:ext cx="163440" cy="1800"/>
              </a:xfrm>
              <a:custGeom>
                <a:avLst/>
                <a:gdLst/>
                <a:ahLst/>
                <a:rect l="l" t="t" r="r" b="b"/>
                <a:pathLst>
                  <a:path w="103" h="1">
                    <a:moveTo>
                      <a:pt x="0" y="0"/>
                    </a:moveTo>
                    <a:lnTo>
                      <a:pt x="10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3429000" y="71629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ibbean Peace Keeping Force (Battle Group 05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733920" y="7391520"/>
            <a:ext cx="347040" cy="302760"/>
            <a:chOff x="3733920" y="7391520"/>
            <a:chExt cx="347040" cy="302760"/>
          </a:xfrm>
        </p:grpSpPr>
        <p:grpSp>
          <p:nvGrpSpPr>
            <p:cNvPr id="622" name=""/>
            <p:cNvGrpSpPr/>
            <p:nvPr/>
          </p:nvGrpSpPr>
          <p:grpSpPr>
            <a:xfrm>
              <a:off x="3733920" y="7458120"/>
              <a:ext cx="347040" cy="236160"/>
              <a:chOff x="3733920" y="7458120"/>
              <a:chExt cx="347040" cy="236160"/>
            </a:xfrm>
          </p:grpSpPr>
          <p:sp>
            <p:nvSpPr>
              <p:cNvPr id="623" name=""/>
              <p:cNvSpPr/>
              <p:nvPr/>
            </p:nvSpPr>
            <p:spPr>
              <a:xfrm>
                <a:off x="3733920" y="745812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737520" y="746172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733920" y="746172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886200" y="7391520"/>
              <a:ext cx="76320" cy="63360"/>
              <a:chOff x="3886200" y="7391520"/>
              <a:chExt cx="76320" cy="63360"/>
            </a:xfrm>
          </p:grpSpPr>
          <p:sp>
            <p:nvSpPr>
              <p:cNvPr id="627" name=""/>
              <p:cNvSpPr/>
              <p:nvPr/>
            </p:nvSpPr>
            <p:spPr>
              <a:xfrm>
                <a:off x="3886200" y="7391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62520" y="7391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9" name=""/>
          <p:cNvSpPr/>
          <p:nvPr/>
        </p:nvSpPr>
        <p:spPr>
          <a:xfrm flipV="1">
            <a:off x="3863880" y="794556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16440" y="78336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3400" y="783360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maican Defense Fo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114800" y="7772400"/>
            <a:ext cx="284040" cy="255600"/>
            <a:chOff x="4114800" y="7772400"/>
            <a:chExt cx="284040" cy="255600"/>
          </a:xfrm>
        </p:grpSpPr>
        <p:sp>
          <p:nvSpPr>
            <p:cNvPr id="633" name=""/>
            <p:cNvSpPr/>
            <p:nvPr/>
          </p:nvSpPr>
          <p:spPr>
            <a:xfrm>
              <a:off x="4260960" y="77724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4114800" y="7834320"/>
              <a:ext cx="284040" cy="193680"/>
              <a:chOff x="4114800" y="7834320"/>
              <a:chExt cx="284040" cy="193680"/>
            </a:xfrm>
          </p:grpSpPr>
          <p:sp>
            <p:nvSpPr>
              <p:cNvPr id="635" name=""/>
              <p:cNvSpPr/>
              <p:nvPr/>
            </p:nvSpPr>
            <p:spPr>
              <a:xfrm>
                <a:off x="4114800" y="783432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4117680" y="783720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14800" y="783720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" name=""/>
          <p:cNvSpPr/>
          <p:nvPr/>
        </p:nvSpPr>
        <p:spPr>
          <a:xfrm flipV="1">
            <a:off x="3886200" y="8354520"/>
            <a:ext cx="25092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38760" y="82432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65720" y="818316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rbados Defense Force &amp; other Pol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137120" y="8182080"/>
            <a:ext cx="284040" cy="255600"/>
            <a:chOff x="4137120" y="8182080"/>
            <a:chExt cx="284040" cy="255600"/>
          </a:xfrm>
        </p:grpSpPr>
        <p:sp>
          <p:nvSpPr>
            <p:cNvPr id="642" name=""/>
            <p:cNvSpPr/>
            <p:nvPr/>
          </p:nvSpPr>
          <p:spPr>
            <a:xfrm>
              <a:off x="4283280" y="8182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4137120" y="8244000"/>
              <a:ext cx="284040" cy="193680"/>
              <a:chOff x="4137120" y="8244000"/>
              <a:chExt cx="284040" cy="193680"/>
            </a:xfrm>
          </p:grpSpPr>
          <p:sp>
            <p:nvSpPr>
              <p:cNvPr id="644" name=""/>
              <p:cNvSpPr/>
              <p:nvPr/>
            </p:nvSpPr>
            <p:spPr>
              <a:xfrm>
                <a:off x="4137120" y="824400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140000" y="824688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37120" y="824688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7" name=""/>
          <p:cNvSpPr/>
          <p:nvPr/>
        </p:nvSpPr>
        <p:spPr>
          <a:xfrm>
            <a:off x="3886200" y="7696080"/>
            <a:ext cx="0" cy="685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34760" y="99072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06560" y="1219320"/>
            <a:ext cx="20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e Pearls Airport and Grenvill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34960" y="729936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15880" y="7451640"/>
            <a:ext cx="278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order assume control of island from US For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893880" y="816120"/>
            <a:ext cx="7081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82d ABN (-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609480" y="609480"/>
            <a:ext cx="350640" cy="444240"/>
            <a:chOff x="609480" y="609480"/>
            <a:chExt cx="350640" cy="444240"/>
          </a:xfrm>
        </p:grpSpPr>
        <p:sp>
          <p:nvSpPr>
            <p:cNvPr id="654" name=""/>
            <p:cNvSpPr/>
            <p:nvPr/>
          </p:nvSpPr>
          <p:spPr>
            <a:xfrm>
              <a:off x="609480" y="817200"/>
              <a:ext cx="34740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610920" y="819000"/>
              <a:ext cx="349200" cy="233280"/>
              <a:chOff x="610920" y="819000"/>
              <a:chExt cx="349200" cy="233280"/>
            </a:xfrm>
          </p:grpSpPr>
          <p:sp>
            <p:nvSpPr>
              <p:cNvPr id="656" name=""/>
              <p:cNvSpPr/>
              <p:nvPr/>
            </p:nvSpPr>
            <p:spPr>
              <a:xfrm>
                <a:off x="610920" y="822240"/>
                <a:ext cx="34920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15600" y="819000"/>
                <a:ext cx="33984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736560" y="990360"/>
              <a:ext cx="99720" cy="36360"/>
              <a:chOff x="736560" y="990360"/>
              <a:chExt cx="99720" cy="36360"/>
            </a:xfrm>
          </p:grpSpPr>
          <p:sp>
            <p:nvSpPr>
              <p:cNvPr id="659" name=""/>
              <p:cNvSpPr/>
              <p:nvPr/>
            </p:nvSpPr>
            <p:spPr>
              <a:xfrm>
                <a:off x="736560" y="99036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785880" y="99036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618840" y="609480"/>
              <a:ext cx="32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906120" y="1600200"/>
            <a:ext cx="1840320" cy="451800"/>
            <a:chOff x="906120" y="1600200"/>
            <a:chExt cx="1840320" cy="451800"/>
          </a:xfrm>
        </p:grpSpPr>
        <p:sp>
          <p:nvSpPr>
            <p:cNvPr id="663" name=""/>
            <p:cNvSpPr/>
            <p:nvPr/>
          </p:nvSpPr>
          <p:spPr>
            <a:xfrm>
              <a:off x="1063440" y="1807920"/>
              <a:ext cx="347400" cy="236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1065240" y="1809360"/>
              <a:ext cx="348840" cy="233280"/>
              <a:chOff x="1065240" y="1809360"/>
              <a:chExt cx="348840" cy="233280"/>
            </a:xfrm>
          </p:grpSpPr>
          <p:sp>
            <p:nvSpPr>
              <p:cNvPr id="665" name=""/>
              <p:cNvSpPr/>
              <p:nvPr/>
            </p:nvSpPr>
            <p:spPr>
              <a:xfrm>
                <a:off x="1065240" y="1812600"/>
                <a:ext cx="34884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069560" y="1809360"/>
                <a:ext cx="33948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190520" y="1981080"/>
              <a:ext cx="99720" cy="36000"/>
              <a:chOff x="1190520" y="1981080"/>
              <a:chExt cx="99720" cy="36000"/>
            </a:xfrm>
          </p:grpSpPr>
          <p:sp>
            <p:nvSpPr>
              <p:cNvPr id="668" name=""/>
              <p:cNvSpPr/>
              <p:nvPr/>
            </p:nvSpPr>
            <p:spPr>
              <a:xfrm>
                <a:off x="1190520" y="1981080"/>
                <a:ext cx="50400" cy="3600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1239840" y="1981080"/>
                <a:ext cx="50400" cy="3600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1112760" y="160020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64760" y="1836360"/>
              <a:ext cx="1381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2d ABN (Battle Group 07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06120" y="18284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915480" y="2139840"/>
            <a:ext cx="1840320" cy="452160"/>
            <a:chOff x="915480" y="2139840"/>
            <a:chExt cx="1840320" cy="452160"/>
          </a:xfrm>
        </p:grpSpPr>
        <p:sp>
          <p:nvSpPr>
            <p:cNvPr id="674" name=""/>
            <p:cNvSpPr/>
            <p:nvPr/>
          </p:nvSpPr>
          <p:spPr>
            <a:xfrm>
              <a:off x="1072800" y="2347920"/>
              <a:ext cx="34740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1074600" y="2349360"/>
              <a:ext cx="348840" cy="233280"/>
              <a:chOff x="1074600" y="2349360"/>
              <a:chExt cx="348840" cy="233280"/>
            </a:xfrm>
          </p:grpSpPr>
          <p:sp>
            <p:nvSpPr>
              <p:cNvPr id="676" name=""/>
              <p:cNvSpPr/>
              <p:nvPr/>
            </p:nvSpPr>
            <p:spPr>
              <a:xfrm>
                <a:off x="1074600" y="2352600"/>
                <a:ext cx="34884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78920" y="2349360"/>
                <a:ext cx="33948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1199880" y="2521080"/>
              <a:ext cx="99720" cy="36360"/>
              <a:chOff x="1199880" y="2521080"/>
              <a:chExt cx="99720" cy="36360"/>
            </a:xfrm>
          </p:grpSpPr>
          <p:sp>
            <p:nvSpPr>
              <p:cNvPr id="679" name=""/>
              <p:cNvSpPr/>
              <p:nvPr/>
            </p:nvSpPr>
            <p:spPr>
              <a:xfrm>
                <a:off x="1199880" y="252108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1249200" y="252108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1122120" y="213984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74120" y="2376360"/>
              <a:ext cx="1381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2d ABN (Battle Group 08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15480" y="23684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85800" y="1911240"/>
            <a:ext cx="30492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685800" y="3882600"/>
            <a:ext cx="1544760" cy="690120"/>
            <a:chOff x="685800" y="3882600"/>
            <a:chExt cx="1544760" cy="690120"/>
          </a:xfrm>
        </p:grpSpPr>
        <p:sp>
          <p:nvSpPr>
            <p:cNvPr id="686" name=""/>
            <p:cNvSpPr/>
            <p:nvPr/>
          </p:nvSpPr>
          <p:spPr>
            <a:xfrm>
              <a:off x="685800" y="4093920"/>
              <a:ext cx="288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969840" y="3882600"/>
              <a:ext cx="1260720" cy="690120"/>
              <a:chOff x="969840" y="3882600"/>
              <a:chExt cx="1260720" cy="69012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969840" y="4319640"/>
                <a:ext cx="231480" cy="235080"/>
                <a:chOff x="969840" y="4319640"/>
                <a:chExt cx="231480" cy="23508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969840" y="4364280"/>
                  <a:ext cx="231480" cy="190440"/>
                  <a:chOff x="969840" y="4364280"/>
                  <a:chExt cx="231480" cy="19044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969840" y="4364280"/>
                    <a:ext cx="23148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980640" y="45277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1161720" y="452772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3" name=""/>
                <p:cNvSpPr/>
                <p:nvPr/>
              </p:nvSpPr>
              <p:spPr>
                <a:xfrm>
                  <a:off x="1071000" y="43196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974160" y="3969000"/>
                <a:ext cx="231480" cy="210600"/>
                <a:chOff x="974160" y="3969000"/>
                <a:chExt cx="231480" cy="21060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974160" y="4022640"/>
                  <a:ext cx="231480" cy="156960"/>
                  <a:chOff x="974160" y="4022640"/>
                  <a:chExt cx="231480" cy="1569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974160" y="4022640"/>
                    <a:ext cx="23148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999360" y="4044600"/>
                    <a:ext cx="183600" cy="11088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8" name=""/>
                <p:cNvSpPr/>
                <p:nvPr/>
              </p:nvSpPr>
              <p:spPr>
                <a:xfrm>
                  <a:off x="1075680" y="39690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9" name=""/>
              <p:cNvSpPr/>
              <p:nvPr/>
            </p:nvSpPr>
            <p:spPr>
              <a:xfrm>
                <a:off x="1260000" y="388260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260360" y="416988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00320" y="4017600"/>
                <a:ext cx="930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mman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02120" y="4357080"/>
                <a:ext cx="566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Jee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020240" y="4179960"/>
                <a:ext cx="0" cy="1778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685800" y="1066680"/>
            <a:ext cx="1440" cy="1828800"/>
          </a:xfrm>
          <a:custGeom>
            <a:avLst/>
            <a:gdLst/>
            <a:ahLst/>
            <a:rect l="l" t="t" r="r" b="b"/>
            <a:pathLst>
              <a:path w="1" h="1152">
                <a:moveTo>
                  <a:pt x="0" y="0"/>
                </a:moveTo>
                <a:lnTo>
                  <a:pt x="0" y="115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2438280"/>
            <a:ext cx="30492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9480" y="395280"/>
            <a:ext cx="25869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d Airborne Division  (Battle Group 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97800" y="3429000"/>
            <a:ext cx="1044360" cy="451800"/>
            <a:chOff x="397800" y="3429000"/>
            <a:chExt cx="1044360" cy="451800"/>
          </a:xfrm>
        </p:grpSpPr>
        <p:sp>
          <p:nvSpPr>
            <p:cNvPr id="708" name=""/>
            <p:cNvSpPr/>
            <p:nvPr/>
          </p:nvSpPr>
          <p:spPr>
            <a:xfrm>
              <a:off x="555480" y="3636720"/>
              <a:ext cx="347760" cy="236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557280" y="3638160"/>
              <a:ext cx="349200" cy="233280"/>
              <a:chOff x="557280" y="3638160"/>
              <a:chExt cx="349200" cy="233280"/>
            </a:xfrm>
          </p:grpSpPr>
          <p:sp>
            <p:nvSpPr>
              <p:cNvPr id="710" name=""/>
              <p:cNvSpPr/>
              <p:nvPr/>
            </p:nvSpPr>
            <p:spPr>
              <a:xfrm>
                <a:off x="557280" y="3641400"/>
                <a:ext cx="34920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61960" y="3638160"/>
                <a:ext cx="33984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82560" y="3809880"/>
              <a:ext cx="100080" cy="36000"/>
              <a:chOff x="682560" y="3809880"/>
              <a:chExt cx="100080" cy="36000"/>
            </a:xfrm>
          </p:grpSpPr>
          <p:sp>
            <p:nvSpPr>
              <p:cNvPr id="713" name=""/>
              <p:cNvSpPr/>
              <p:nvPr/>
            </p:nvSpPr>
            <p:spPr>
              <a:xfrm>
                <a:off x="682560" y="3809880"/>
                <a:ext cx="50400" cy="3600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732240" y="3809880"/>
                <a:ext cx="50400" cy="3600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604800" y="342900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60760" y="3665160"/>
              <a:ext cx="58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2d AB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7800" y="36572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800" y="3259080"/>
            <a:ext cx="32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d Brigade, 82d Airborne Division (Battle Group 0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685800" y="990000"/>
            <a:ext cx="1544760" cy="690120"/>
            <a:chOff x="685800" y="990000"/>
            <a:chExt cx="1544760" cy="690120"/>
          </a:xfrm>
        </p:grpSpPr>
        <p:sp>
          <p:nvSpPr>
            <p:cNvPr id="720" name=""/>
            <p:cNvSpPr/>
            <p:nvPr/>
          </p:nvSpPr>
          <p:spPr>
            <a:xfrm>
              <a:off x="685800" y="1201320"/>
              <a:ext cx="288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969840" y="990000"/>
              <a:ext cx="1260720" cy="690120"/>
              <a:chOff x="969840" y="990000"/>
              <a:chExt cx="1260720" cy="69012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969840" y="1427040"/>
                <a:ext cx="231480" cy="234000"/>
                <a:chOff x="969840" y="1427040"/>
                <a:chExt cx="231480" cy="234000"/>
              </a:xfrm>
            </p:grpSpPr>
            <p:grpSp>
              <p:nvGrpSpPr>
                <p:cNvPr id="723" name=""/>
                <p:cNvGrpSpPr/>
                <p:nvPr/>
              </p:nvGrpSpPr>
              <p:grpSpPr>
                <a:xfrm>
                  <a:off x="969840" y="1471320"/>
                  <a:ext cx="231480" cy="189720"/>
                  <a:chOff x="969840" y="1471320"/>
                  <a:chExt cx="231480" cy="18972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969840" y="1471320"/>
                    <a:ext cx="231480" cy="156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980640" y="16344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1161720" y="163440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7" name=""/>
                <p:cNvSpPr/>
                <p:nvPr/>
              </p:nvSpPr>
              <p:spPr>
                <a:xfrm>
                  <a:off x="1071000" y="14270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974160" y="1076400"/>
                <a:ext cx="231480" cy="210240"/>
                <a:chOff x="974160" y="1076400"/>
                <a:chExt cx="231480" cy="21024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974160" y="1130040"/>
                  <a:ext cx="231480" cy="156600"/>
                  <a:chOff x="974160" y="1130040"/>
                  <a:chExt cx="231480" cy="15660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974160" y="1130040"/>
                    <a:ext cx="231480" cy="156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999360" y="1152000"/>
                    <a:ext cx="183600" cy="11052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2" name=""/>
                <p:cNvSpPr/>
                <p:nvPr/>
              </p:nvSpPr>
              <p:spPr>
                <a:xfrm>
                  <a:off x="1075680" y="10764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1260000" y="99000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260360" y="127728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300320" y="1124640"/>
                <a:ext cx="930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mman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302120" y="1464480"/>
                <a:ext cx="566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Jee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020240" y="1287360"/>
                <a:ext cx="0" cy="1774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684360" y="3886200"/>
            <a:ext cx="1440" cy="3838680"/>
          </a:xfrm>
          <a:custGeom>
            <a:avLst/>
            <a:gdLst/>
            <a:ahLst/>
            <a:rect l="l" t="t" r="r" b="b"/>
            <a:pathLst>
              <a:path w="1" h="2418">
                <a:moveTo>
                  <a:pt x="0" y="0"/>
                </a:moveTo>
                <a:lnTo>
                  <a:pt x="1" y="2418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85800" y="4874760"/>
            <a:ext cx="25092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44520" y="472428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gineer Plato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11120" y="47350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960480" y="4724280"/>
            <a:ext cx="284040" cy="239760"/>
            <a:chOff x="960480" y="4724280"/>
            <a:chExt cx="284040" cy="239760"/>
          </a:xfrm>
        </p:grpSpPr>
        <p:grpSp>
          <p:nvGrpSpPr>
            <p:cNvPr id="743" name=""/>
            <p:cNvGrpSpPr/>
            <p:nvPr/>
          </p:nvGrpSpPr>
          <p:grpSpPr>
            <a:xfrm>
              <a:off x="1036800" y="4724280"/>
              <a:ext cx="131760" cy="27000"/>
              <a:chOff x="1036800" y="4724280"/>
              <a:chExt cx="131760" cy="27000"/>
            </a:xfrm>
          </p:grpSpPr>
          <p:sp>
            <p:nvSpPr>
              <p:cNvPr id="744" name=""/>
              <p:cNvSpPr/>
              <p:nvPr/>
            </p:nvSpPr>
            <p:spPr>
              <a:xfrm>
                <a:off x="1036800" y="4724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087560" y="4724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141560" y="4724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960480" y="477036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1036800" y="4836960"/>
              <a:ext cx="123840" cy="50760"/>
              <a:chOff x="1036800" y="4836960"/>
              <a:chExt cx="123840" cy="50760"/>
            </a:xfrm>
          </p:grpSpPr>
          <p:sp>
            <p:nvSpPr>
              <p:cNvPr id="749" name=""/>
              <p:cNvSpPr/>
              <p:nvPr/>
            </p:nvSpPr>
            <p:spPr>
              <a:xfrm>
                <a:off x="1043280" y="4836960"/>
                <a:ext cx="0" cy="5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098720" y="484020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51280" y="484020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36800" y="4840200"/>
                <a:ext cx="123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3" name=""/>
          <p:cNvSpPr/>
          <p:nvPr/>
        </p:nvSpPr>
        <p:spPr>
          <a:xfrm flipV="1">
            <a:off x="685800" y="524520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44520" y="509436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A Plato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11120" y="51048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960480" y="5094360"/>
            <a:ext cx="284040" cy="239760"/>
            <a:chOff x="960480" y="5094360"/>
            <a:chExt cx="284040" cy="239760"/>
          </a:xfrm>
        </p:grpSpPr>
        <p:grpSp>
          <p:nvGrpSpPr>
            <p:cNvPr id="757" name=""/>
            <p:cNvGrpSpPr/>
            <p:nvPr/>
          </p:nvGrpSpPr>
          <p:grpSpPr>
            <a:xfrm>
              <a:off x="1036800" y="5094360"/>
              <a:ext cx="131760" cy="27000"/>
              <a:chOff x="1036800" y="5094360"/>
              <a:chExt cx="131760" cy="27000"/>
            </a:xfrm>
          </p:grpSpPr>
          <p:sp>
            <p:nvSpPr>
              <p:cNvPr id="758" name=""/>
              <p:cNvSpPr/>
              <p:nvPr/>
            </p:nvSpPr>
            <p:spPr>
              <a:xfrm>
                <a:off x="1036800" y="5094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087560" y="5094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41560" y="5094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960480" y="514044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69840" y="51465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0" y="117"/>
                  </a:move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08080" y="5143680"/>
              <a:ext cx="130320" cy="18396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82" y="11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 flipV="1">
            <a:off x="685800" y="562608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44520" y="547524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itary Police  Plato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89040" y="54856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036800" y="5475240"/>
            <a:ext cx="131760" cy="27000"/>
            <a:chOff x="1036800" y="5475240"/>
            <a:chExt cx="131760" cy="27000"/>
          </a:xfrm>
        </p:grpSpPr>
        <p:sp>
          <p:nvSpPr>
            <p:cNvPr id="768" name=""/>
            <p:cNvSpPr/>
            <p:nvPr/>
          </p:nvSpPr>
          <p:spPr>
            <a:xfrm>
              <a:off x="1036800" y="5475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87560" y="5475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41560" y="5475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960480" y="552132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092240" y="5910120"/>
            <a:ext cx="34776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093680" y="5911920"/>
            <a:ext cx="349200" cy="233280"/>
            <a:chOff x="1093680" y="5911920"/>
            <a:chExt cx="349200" cy="233280"/>
          </a:xfrm>
        </p:grpSpPr>
        <p:sp>
          <p:nvSpPr>
            <p:cNvPr id="774" name=""/>
            <p:cNvSpPr/>
            <p:nvPr/>
          </p:nvSpPr>
          <p:spPr>
            <a:xfrm>
              <a:off x="1093680" y="5915160"/>
              <a:ext cx="349200" cy="23004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0" y="145"/>
                  </a:move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98360" y="5911920"/>
              <a:ext cx="339840" cy="233280"/>
            </a:xfrm>
            <a:custGeom>
              <a:avLst/>
              <a:gdLst/>
              <a:ahLst/>
              <a:rect l="l" t="t" r="r" b="b"/>
              <a:pathLst>
                <a:path w="214" h="147">
                  <a:moveTo>
                    <a:pt x="0" y="0"/>
                  </a:moveTo>
                  <a:lnTo>
                    <a:pt x="214" y="1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1219320" y="6083280"/>
            <a:ext cx="99720" cy="36360"/>
            <a:chOff x="1219320" y="6083280"/>
            <a:chExt cx="99720" cy="36360"/>
          </a:xfrm>
        </p:grpSpPr>
        <p:sp>
          <p:nvSpPr>
            <p:cNvPr id="777" name=""/>
            <p:cNvSpPr/>
            <p:nvPr/>
          </p:nvSpPr>
          <p:spPr>
            <a:xfrm>
              <a:off x="1219320" y="6083280"/>
              <a:ext cx="50400" cy="3636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2"/>
                  </a:moveTo>
                  <a:cubicBezTo>
                    <a:pt x="16" y="28"/>
                    <a:pt x="33" y="8"/>
                    <a:pt x="48" y="4"/>
                  </a:cubicBezTo>
                  <a:cubicBezTo>
                    <a:pt x="63" y="0"/>
                    <a:pt x="82" y="20"/>
                    <a:pt x="90" y="28"/>
                  </a:cubicBezTo>
                  <a:cubicBezTo>
                    <a:pt x="98" y="36"/>
                    <a:pt x="94" y="46"/>
                    <a:pt x="9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1268640" y="6083280"/>
              <a:ext cx="50400" cy="3636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2"/>
                  </a:moveTo>
                  <a:cubicBezTo>
                    <a:pt x="16" y="28"/>
                    <a:pt x="33" y="8"/>
                    <a:pt x="48" y="4"/>
                  </a:cubicBezTo>
                  <a:cubicBezTo>
                    <a:pt x="63" y="0"/>
                    <a:pt x="82" y="20"/>
                    <a:pt x="90" y="28"/>
                  </a:cubicBezTo>
                  <a:cubicBezTo>
                    <a:pt x="98" y="36"/>
                    <a:pt x="94" y="46"/>
                    <a:pt x="9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1141560" y="5715000"/>
            <a:ext cx="2692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92480" y="5938920"/>
            <a:ext cx="166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25th ABN BN  (Battle Group 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34560" y="59310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85800" y="6006600"/>
            <a:ext cx="25092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14560" y="6386400"/>
            <a:ext cx="34740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116000" y="6388200"/>
            <a:ext cx="349200" cy="233280"/>
            <a:chOff x="1116000" y="6388200"/>
            <a:chExt cx="349200" cy="233280"/>
          </a:xfrm>
        </p:grpSpPr>
        <p:sp>
          <p:nvSpPr>
            <p:cNvPr id="785" name=""/>
            <p:cNvSpPr/>
            <p:nvPr/>
          </p:nvSpPr>
          <p:spPr>
            <a:xfrm>
              <a:off x="1116000" y="6391440"/>
              <a:ext cx="349200" cy="23004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0" y="145"/>
                  </a:move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20680" y="6388200"/>
              <a:ext cx="339840" cy="233280"/>
            </a:xfrm>
            <a:custGeom>
              <a:avLst/>
              <a:gdLst/>
              <a:ahLst/>
              <a:rect l="l" t="t" r="r" b="b"/>
              <a:pathLst>
                <a:path w="214" h="147">
                  <a:moveTo>
                    <a:pt x="0" y="0"/>
                  </a:moveTo>
                  <a:lnTo>
                    <a:pt x="214" y="1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241280" y="6559560"/>
            <a:ext cx="100080" cy="36360"/>
            <a:chOff x="1241280" y="6559560"/>
            <a:chExt cx="100080" cy="36360"/>
          </a:xfrm>
        </p:grpSpPr>
        <p:sp>
          <p:nvSpPr>
            <p:cNvPr id="788" name=""/>
            <p:cNvSpPr/>
            <p:nvPr/>
          </p:nvSpPr>
          <p:spPr>
            <a:xfrm>
              <a:off x="1241280" y="6559560"/>
              <a:ext cx="50400" cy="3636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2"/>
                  </a:moveTo>
                  <a:cubicBezTo>
                    <a:pt x="16" y="28"/>
                    <a:pt x="33" y="8"/>
                    <a:pt x="48" y="4"/>
                  </a:cubicBezTo>
                  <a:cubicBezTo>
                    <a:pt x="63" y="0"/>
                    <a:pt x="82" y="20"/>
                    <a:pt x="90" y="28"/>
                  </a:cubicBezTo>
                  <a:cubicBezTo>
                    <a:pt x="98" y="36"/>
                    <a:pt x="94" y="46"/>
                    <a:pt x="9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290960" y="6559560"/>
              <a:ext cx="50400" cy="3636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2"/>
                  </a:moveTo>
                  <a:cubicBezTo>
                    <a:pt x="16" y="28"/>
                    <a:pt x="33" y="8"/>
                    <a:pt x="48" y="4"/>
                  </a:cubicBezTo>
                  <a:cubicBezTo>
                    <a:pt x="63" y="0"/>
                    <a:pt x="82" y="20"/>
                    <a:pt x="90" y="28"/>
                  </a:cubicBezTo>
                  <a:cubicBezTo>
                    <a:pt x="98" y="36"/>
                    <a:pt x="94" y="46"/>
                    <a:pt x="9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1163880" y="6191280"/>
            <a:ext cx="2692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414440" y="6415200"/>
            <a:ext cx="166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25th ABN BN  (Battle Group 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56880" y="6407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685800" y="6482880"/>
            <a:ext cx="25092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114560" y="6824520"/>
            <a:ext cx="34740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1116000" y="6826320"/>
            <a:ext cx="349200" cy="233280"/>
            <a:chOff x="1116000" y="6826320"/>
            <a:chExt cx="349200" cy="233280"/>
          </a:xfrm>
        </p:grpSpPr>
        <p:sp>
          <p:nvSpPr>
            <p:cNvPr id="796" name=""/>
            <p:cNvSpPr/>
            <p:nvPr/>
          </p:nvSpPr>
          <p:spPr>
            <a:xfrm>
              <a:off x="1116000" y="6829560"/>
              <a:ext cx="349200" cy="23004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0" y="145"/>
                  </a:move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20680" y="6826320"/>
              <a:ext cx="339840" cy="233280"/>
            </a:xfrm>
            <a:custGeom>
              <a:avLst/>
              <a:gdLst/>
              <a:ahLst/>
              <a:rect l="l" t="t" r="r" b="b"/>
              <a:pathLst>
                <a:path w="214" h="147">
                  <a:moveTo>
                    <a:pt x="0" y="0"/>
                  </a:moveTo>
                  <a:lnTo>
                    <a:pt x="214" y="1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1241280" y="6997680"/>
            <a:ext cx="100080" cy="36360"/>
            <a:chOff x="1241280" y="6997680"/>
            <a:chExt cx="100080" cy="36360"/>
          </a:xfrm>
        </p:grpSpPr>
        <p:sp>
          <p:nvSpPr>
            <p:cNvPr id="799" name=""/>
            <p:cNvSpPr/>
            <p:nvPr/>
          </p:nvSpPr>
          <p:spPr>
            <a:xfrm>
              <a:off x="1241280" y="6997680"/>
              <a:ext cx="50400" cy="3636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2"/>
                  </a:moveTo>
                  <a:cubicBezTo>
                    <a:pt x="16" y="28"/>
                    <a:pt x="33" y="8"/>
                    <a:pt x="48" y="4"/>
                  </a:cubicBezTo>
                  <a:cubicBezTo>
                    <a:pt x="63" y="0"/>
                    <a:pt x="82" y="20"/>
                    <a:pt x="90" y="28"/>
                  </a:cubicBezTo>
                  <a:cubicBezTo>
                    <a:pt x="98" y="36"/>
                    <a:pt x="94" y="46"/>
                    <a:pt x="9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1290960" y="6997680"/>
              <a:ext cx="50400" cy="3636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2"/>
                  </a:moveTo>
                  <a:cubicBezTo>
                    <a:pt x="16" y="28"/>
                    <a:pt x="33" y="8"/>
                    <a:pt x="48" y="4"/>
                  </a:cubicBezTo>
                  <a:cubicBezTo>
                    <a:pt x="63" y="0"/>
                    <a:pt x="82" y="20"/>
                    <a:pt x="90" y="28"/>
                  </a:cubicBezTo>
                  <a:cubicBezTo>
                    <a:pt x="98" y="36"/>
                    <a:pt x="94" y="46"/>
                    <a:pt x="9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163880" y="6629400"/>
            <a:ext cx="2692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414440" y="6853320"/>
            <a:ext cx="166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08th ABN BN  (Battle Group 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56880" y="68454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85800" y="6921000"/>
            <a:ext cx="25092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192320" y="7238880"/>
            <a:ext cx="283680" cy="257040"/>
            <a:chOff x="1192320" y="7238880"/>
            <a:chExt cx="283680" cy="257040"/>
          </a:xfrm>
        </p:grpSpPr>
        <p:grpSp>
          <p:nvGrpSpPr>
            <p:cNvPr id="806" name=""/>
            <p:cNvGrpSpPr/>
            <p:nvPr/>
          </p:nvGrpSpPr>
          <p:grpSpPr>
            <a:xfrm>
              <a:off x="1192320" y="7302600"/>
              <a:ext cx="283680" cy="193320"/>
              <a:chOff x="1192320" y="7302600"/>
              <a:chExt cx="283680" cy="193320"/>
            </a:xfrm>
          </p:grpSpPr>
          <p:sp>
            <p:nvSpPr>
              <p:cNvPr id="807" name=""/>
              <p:cNvSpPr/>
              <p:nvPr/>
            </p:nvSpPr>
            <p:spPr>
              <a:xfrm>
                <a:off x="1192320" y="7302600"/>
                <a:ext cx="283680" cy="193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306800" y="737064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1333440" y="723888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423080" y="732312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/325th ABN Artill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65160" y="731520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565360" y="73144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85800" y="739152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192320" y="7550280"/>
            <a:ext cx="283680" cy="256320"/>
            <a:chOff x="1192320" y="7550280"/>
            <a:chExt cx="283680" cy="256320"/>
          </a:xfrm>
        </p:grpSpPr>
        <p:grpSp>
          <p:nvGrpSpPr>
            <p:cNvPr id="815" name=""/>
            <p:cNvGrpSpPr/>
            <p:nvPr/>
          </p:nvGrpSpPr>
          <p:grpSpPr>
            <a:xfrm>
              <a:off x="1192320" y="7613640"/>
              <a:ext cx="283680" cy="192960"/>
              <a:chOff x="1192320" y="7613640"/>
              <a:chExt cx="283680" cy="192960"/>
            </a:xfrm>
          </p:grpSpPr>
          <p:sp>
            <p:nvSpPr>
              <p:cNvPr id="816" name=""/>
              <p:cNvSpPr/>
              <p:nvPr/>
            </p:nvSpPr>
            <p:spPr>
              <a:xfrm>
                <a:off x="1192320" y="761364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306800" y="768168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1333440" y="7550280"/>
              <a:ext cx="0" cy="72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1423080" y="763416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/325th ABN Artill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65160" y="76262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65360" y="76258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85800" y="770256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3430800" y="3276720"/>
            <a:ext cx="3427200" cy="4895640"/>
            <a:chOff x="3430800" y="3276720"/>
            <a:chExt cx="3427200" cy="4895640"/>
          </a:xfrm>
        </p:grpSpPr>
        <p:grpSp>
          <p:nvGrpSpPr>
            <p:cNvPr id="824" name=""/>
            <p:cNvGrpSpPr/>
            <p:nvPr/>
          </p:nvGrpSpPr>
          <p:grpSpPr>
            <a:xfrm>
              <a:off x="4114800" y="3900240"/>
              <a:ext cx="1544760" cy="690120"/>
              <a:chOff x="4114800" y="3900240"/>
              <a:chExt cx="1544760" cy="690120"/>
            </a:xfrm>
          </p:grpSpPr>
          <p:sp>
            <p:nvSpPr>
              <p:cNvPr id="825" name=""/>
              <p:cNvSpPr/>
              <p:nvPr/>
            </p:nvSpPr>
            <p:spPr>
              <a:xfrm>
                <a:off x="4114800" y="4111560"/>
                <a:ext cx="288720" cy="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4398840" y="3900240"/>
                <a:ext cx="1260720" cy="690120"/>
                <a:chOff x="4398840" y="3900240"/>
                <a:chExt cx="1260720" cy="69012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4398840" y="4337280"/>
                  <a:ext cx="231480" cy="235080"/>
                  <a:chOff x="4398840" y="4337280"/>
                  <a:chExt cx="231480" cy="235080"/>
                </a:xfrm>
              </p:grpSpPr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4398840" y="4381920"/>
                    <a:ext cx="231480" cy="190440"/>
                    <a:chOff x="4398840" y="4381920"/>
                    <a:chExt cx="231480" cy="19044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4398840" y="438192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4409640" y="45453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4590720" y="454536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2" name=""/>
                  <p:cNvSpPr/>
                  <p:nvPr/>
                </p:nvSpPr>
                <p:spPr>
                  <a:xfrm>
                    <a:off x="4500000" y="43372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4403160" y="3986640"/>
                  <a:ext cx="231480" cy="210600"/>
                  <a:chOff x="4403160" y="3986640"/>
                  <a:chExt cx="231480" cy="210600"/>
                </a:xfrm>
              </p:grpSpPr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4403160" y="4040280"/>
                    <a:ext cx="231480" cy="156960"/>
                    <a:chOff x="4403160" y="4040280"/>
                    <a:chExt cx="231480" cy="15696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4403160" y="404028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4428360" y="4062240"/>
                      <a:ext cx="183600" cy="11088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7" name=""/>
                  <p:cNvSpPr/>
                  <p:nvPr/>
                </p:nvSpPr>
                <p:spPr>
                  <a:xfrm>
                    <a:off x="4504680" y="39866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8" name=""/>
                <p:cNvSpPr/>
                <p:nvPr/>
              </p:nvSpPr>
              <p:spPr>
                <a:xfrm>
                  <a:off x="4689000" y="390024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689360" y="41875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729320" y="4035240"/>
                  <a:ext cx="93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731120" y="4374720"/>
                  <a:ext cx="56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Jeep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449240" y="4197600"/>
                  <a:ext cx="0" cy="17784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"/>
            <p:cNvGrpSpPr/>
            <p:nvPr/>
          </p:nvGrpSpPr>
          <p:grpSpPr>
            <a:xfrm>
              <a:off x="3826800" y="3446640"/>
              <a:ext cx="1044360" cy="451800"/>
              <a:chOff x="3826800" y="3446640"/>
              <a:chExt cx="1044360" cy="451800"/>
            </a:xfrm>
          </p:grpSpPr>
          <p:sp>
            <p:nvSpPr>
              <p:cNvPr id="844" name=""/>
              <p:cNvSpPr/>
              <p:nvPr/>
            </p:nvSpPr>
            <p:spPr>
              <a:xfrm>
                <a:off x="3984480" y="3654360"/>
                <a:ext cx="34776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3986280" y="3655800"/>
                <a:ext cx="349200" cy="233280"/>
                <a:chOff x="3986280" y="3655800"/>
                <a:chExt cx="349200" cy="2332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3986280" y="3659040"/>
                  <a:ext cx="349200" cy="230040"/>
                </a:xfrm>
                <a:custGeom>
                  <a:avLst/>
                  <a:gdLst/>
                  <a:ahLst/>
                  <a:rect l="l" t="t" r="r" b="b"/>
                  <a:pathLst>
                    <a:path w="220" h="145">
                      <a:moveTo>
                        <a:pt x="0" y="145"/>
                      </a:moveTo>
                      <a:lnTo>
                        <a:pt x="22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990960" y="3655800"/>
                  <a:ext cx="339840" cy="233280"/>
                </a:xfrm>
                <a:custGeom>
                  <a:avLst/>
                  <a:gdLst/>
                  <a:ahLst/>
                  <a:rect l="l" t="t" r="r" b="b"/>
                  <a:pathLst>
                    <a:path w="214" h="147">
                      <a:moveTo>
                        <a:pt x="0" y="0"/>
                      </a:moveTo>
                      <a:lnTo>
                        <a:pt x="214" y="14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4111560" y="3827520"/>
                <a:ext cx="100080" cy="36000"/>
                <a:chOff x="4111560" y="3827520"/>
                <a:chExt cx="100080" cy="3600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4111560" y="3827520"/>
                  <a:ext cx="50400" cy="36000"/>
                </a:xfrm>
                <a:custGeom>
                  <a:avLst/>
                  <a:gdLst/>
                  <a:ahLst/>
                  <a:rect l="l" t="t" r="r" b="b"/>
                  <a:pathLst>
                    <a:path w="98" h="52">
                      <a:moveTo>
                        <a:pt x="0" y="52"/>
                      </a:moveTo>
                      <a:cubicBezTo>
                        <a:pt x="16" y="28"/>
                        <a:pt x="33" y="8"/>
                        <a:pt x="48" y="4"/>
                      </a:cubicBezTo>
                      <a:cubicBezTo>
                        <a:pt x="63" y="0"/>
                        <a:pt x="82" y="20"/>
                        <a:pt x="90" y="28"/>
                      </a:cubicBezTo>
                      <a:cubicBezTo>
                        <a:pt x="98" y="36"/>
                        <a:pt x="94" y="46"/>
                        <a:pt x="95" y="5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4161240" y="3827520"/>
                  <a:ext cx="50400" cy="36000"/>
                </a:xfrm>
                <a:custGeom>
                  <a:avLst/>
                  <a:gdLst/>
                  <a:ahLst/>
                  <a:rect l="l" t="t" r="r" b="b"/>
                  <a:pathLst>
                    <a:path w="98" h="52">
                      <a:moveTo>
                        <a:pt x="0" y="52"/>
                      </a:moveTo>
                      <a:cubicBezTo>
                        <a:pt x="16" y="28"/>
                        <a:pt x="33" y="8"/>
                        <a:pt x="48" y="4"/>
                      </a:cubicBezTo>
                      <a:cubicBezTo>
                        <a:pt x="63" y="0"/>
                        <a:pt x="82" y="20"/>
                        <a:pt x="90" y="28"/>
                      </a:cubicBezTo>
                      <a:cubicBezTo>
                        <a:pt x="98" y="36"/>
                        <a:pt x="94" y="46"/>
                        <a:pt x="95" y="5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1" name=""/>
              <p:cNvSpPr/>
              <p:nvPr/>
            </p:nvSpPr>
            <p:spPr>
              <a:xfrm>
                <a:off x="4033800" y="3446640"/>
                <a:ext cx="253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289760" y="3682800"/>
                <a:ext cx="581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82d AB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826800" y="367488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3430800" y="3276720"/>
              <a:ext cx="32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d Brigade, 82d Airborne Division (Battle Group 08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13360" y="3903840"/>
              <a:ext cx="1440" cy="4124160"/>
            </a:xfrm>
            <a:custGeom>
              <a:avLst/>
              <a:gdLst/>
              <a:ahLst/>
              <a:rect l="l" t="t" r="r" b="b"/>
              <a:pathLst>
                <a:path w="1" h="2598">
                  <a:moveTo>
                    <a:pt x="0" y="0"/>
                  </a:moveTo>
                  <a:lnTo>
                    <a:pt x="1" y="2598"/>
                  </a:ln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4114800" y="4892400"/>
              <a:ext cx="250920" cy="180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73520" y="4741920"/>
              <a:ext cx="218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 Plato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640120" y="475272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E-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4389480" y="4741920"/>
              <a:ext cx="284040" cy="239760"/>
              <a:chOff x="4389480" y="4741920"/>
              <a:chExt cx="284040" cy="23976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4465800" y="4741920"/>
                <a:ext cx="131760" cy="27000"/>
                <a:chOff x="4465800" y="4741920"/>
                <a:chExt cx="131760" cy="270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465800" y="4741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516560" y="4741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570560" y="4741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"/>
              <p:cNvSpPr/>
              <p:nvPr/>
            </p:nvSpPr>
            <p:spPr>
              <a:xfrm>
                <a:off x="4389480" y="478800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4465800" y="4854600"/>
                <a:ext cx="123840" cy="50760"/>
                <a:chOff x="4465800" y="4854600"/>
                <a:chExt cx="123840" cy="507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4472280" y="4854600"/>
                  <a:ext cx="0" cy="50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527720" y="4857840"/>
                  <a:ext cx="0" cy="4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4580280" y="4857840"/>
                  <a:ext cx="0" cy="4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465800" y="4857840"/>
                  <a:ext cx="1238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0" name=""/>
            <p:cNvSpPr/>
            <p:nvPr/>
          </p:nvSpPr>
          <p:spPr>
            <a:xfrm flipV="1">
              <a:off x="4114800" y="5262840"/>
              <a:ext cx="250920" cy="14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73520" y="5112000"/>
              <a:ext cx="218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DA Plato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40120" y="512244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E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89480" y="5112000"/>
              <a:ext cx="284040" cy="239760"/>
              <a:chOff x="4389480" y="5112000"/>
              <a:chExt cx="284040" cy="23976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4465800" y="5112000"/>
                <a:ext cx="131760" cy="27000"/>
                <a:chOff x="4465800" y="5112000"/>
                <a:chExt cx="131760" cy="270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4465800" y="5112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516560" y="5112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70560" y="5112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4389480" y="515808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398840" y="5164200"/>
                <a:ext cx="130320" cy="185760"/>
              </a:xfrm>
              <a:custGeom>
                <a:avLst/>
                <a:gdLst/>
                <a:ahLst/>
                <a:rect l="l" t="t" r="r" b="b"/>
                <a:pathLst>
                  <a:path w="82" h="117">
                    <a:moveTo>
                      <a:pt x="0" y="117"/>
                    </a:moveTo>
                    <a:lnTo>
                      <a:pt x="8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537080" y="5161320"/>
                <a:ext cx="130320" cy="183960"/>
              </a:xfrm>
              <a:custGeom>
                <a:avLst/>
                <a:gdLst/>
                <a:ahLst/>
                <a:rect l="l" t="t" r="r" b="b"/>
                <a:pathLst>
                  <a:path w="82" h="116">
                    <a:moveTo>
                      <a:pt x="82" y="116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V="1">
              <a:off x="4114800" y="5643720"/>
              <a:ext cx="250920" cy="14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73520" y="5492880"/>
              <a:ext cx="218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litary Police  Plato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918040" y="550332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E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4465800" y="5492880"/>
              <a:ext cx="131760" cy="27000"/>
              <a:chOff x="4465800" y="5492880"/>
              <a:chExt cx="131760" cy="27000"/>
            </a:xfrm>
          </p:grpSpPr>
          <p:sp>
            <p:nvSpPr>
              <p:cNvPr id="885" name=""/>
              <p:cNvSpPr/>
              <p:nvPr/>
            </p:nvSpPr>
            <p:spPr>
              <a:xfrm>
                <a:off x="4465800" y="5492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16560" y="5492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570560" y="5492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4389480" y="553896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21240" y="5927760"/>
              <a:ext cx="34776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4522680" y="5929560"/>
              <a:ext cx="349200" cy="233280"/>
              <a:chOff x="4522680" y="5929560"/>
              <a:chExt cx="349200" cy="233280"/>
            </a:xfrm>
          </p:grpSpPr>
          <p:sp>
            <p:nvSpPr>
              <p:cNvPr id="891" name=""/>
              <p:cNvSpPr/>
              <p:nvPr/>
            </p:nvSpPr>
            <p:spPr>
              <a:xfrm>
                <a:off x="4522680" y="5932800"/>
                <a:ext cx="34920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27360" y="5929560"/>
                <a:ext cx="33984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4648320" y="6100920"/>
              <a:ext cx="99720" cy="36360"/>
              <a:chOff x="4648320" y="6100920"/>
              <a:chExt cx="99720" cy="36360"/>
            </a:xfrm>
          </p:grpSpPr>
          <p:sp>
            <p:nvSpPr>
              <p:cNvPr id="894" name=""/>
              <p:cNvSpPr/>
              <p:nvPr/>
            </p:nvSpPr>
            <p:spPr>
              <a:xfrm>
                <a:off x="4648320" y="610092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4697640" y="610092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4570560" y="5732640"/>
              <a:ext cx="26928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21480" y="5956560"/>
              <a:ext cx="166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05th ABN BN  (Battle Group 11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363560" y="59486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4114800" y="6024240"/>
              <a:ext cx="250920" cy="180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43560" y="6404040"/>
              <a:ext cx="34740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4545000" y="6405840"/>
              <a:ext cx="349200" cy="233280"/>
              <a:chOff x="4545000" y="6405840"/>
              <a:chExt cx="349200" cy="233280"/>
            </a:xfrm>
          </p:grpSpPr>
          <p:sp>
            <p:nvSpPr>
              <p:cNvPr id="902" name=""/>
              <p:cNvSpPr/>
              <p:nvPr/>
            </p:nvSpPr>
            <p:spPr>
              <a:xfrm>
                <a:off x="4545000" y="6409080"/>
                <a:ext cx="34920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549680" y="6405840"/>
                <a:ext cx="33984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670280" y="6577200"/>
              <a:ext cx="100080" cy="36360"/>
              <a:chOff x="4670280" y="6577200"/>
              <a:chExt cx="100080" cy="36360"/>
            </a:xfrm>
          </p:grpSpPr>
          <p:sp>
            <p:nvSpPr>
              <p:cNvPr id="905" name=""/>
              <p:cNvSpPr/>
              <p:nvPr/>
            </p:nvSpPr>
            <p:spPr>
              <a:xfrm>
                <a:off x="4670280" y="657720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4719960" y="657720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4592880" y="6208920"/>
              <a:ext cx="26928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43440" y="6432840"/>
              <a:ext cx="166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08th ABN BN  (Battle Group 11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85880" y="642492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114800" y="6500520"/>
              <a:ext cx="250920" cy="180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43560" y="6842160"/>
              <a:ext cx="347400" cy="23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4545000" y="6843960"/>
              <a:ext cx="349200" cy="233280"/>
              <a:chOff x="4545000" y="6843960"/>
              <a:chExt cx="349200" cy="233280"/>
            </a:xfrm>
          </p:grpSpPr>
          <p:sp>
            <p:nvSpPr>
              <p:cNvPr id="913" name=""/>
              <p:cNvSpPr/>
              <p:nvPr/>
            </p:nvSpPr>
            <p:spPr>
              <a:xfrm>
                <a:off x="4545000" y="6847200"/>
                <a:ext cx="349200" cy="230040"/>
              </a:xfrm>
              <a:custGeom>
                <a:avLst/>
                <a:gdLst/>
                <a:ahLst/>
                <a:rect l="l" t="t" r="r" b="b"/>
                <a:pathLst>
                  <a:path w="220" h="145">
                    <a:moveTo>
                      <a:pt x="0" y="145"/>
                    </a:moveTo>
                    <a:lnTo>
                      <a:pt x="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549680" y="6843960"/>
                <a:ext cx="339840" cy="233280"/>
              </a:xfrm>
              <a:custGeom>
                <a:avLst/>
                <a:gdLst/>
                <a:ahLst/>
                <a:rect l="l" t="t" r="r" b="b"/>
                <a:pathLst>
                  <a:path w="214" h="147">
                    <a:moveTo>
                      <a:pt x="0" y="0"/>
                    </a:moveTo>
                    <a:lnTo>
                      <a:pt x="214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4670280" y="7015320"/>
              <a:ext cx="100080" cy="36360"/>
              <a:chOff x="4670280" y="7015320"/>
              <a:chExt cx="100080" cy="36360"/>
            </a:xfrm>
          </p:grpSpPr>
          <p:sp>
            <p:nvSpPr>
              <p:cNvPr id="916" name=""/>
              <p:cNvSpPr/>
              <p:nvPr/>
            </p:nvSpPr>
            <p:spPr>
              <a:xfrm>
                <a:off x="4670280" y="701532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4719960" y="701532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52"/>
                    </a:moveTo>
                    <a:cubicBezTo>
                      <a:pt x="16" y="28"/>
                      <a:pt x="33" y="8"/>
                      <a:pt x="48" y="4"/>
                    </a:cubicBezTo>
                    <a:cubicBezTo>
                      <a:pt x="63" y="0"/>
                      <a:pt x="82" y="20"/>
                      <a:pt x="90" y="28"/>
                    </a:cubicBezTo>
                    <a:cubicBezTo>
                      <a:pt x="98" y="36"/>
                      <a:pt x="94" y="46"/>
                      <a:pt x="95" y="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4592880" y="6647040"/>
              <a:ext cx="26928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43440" y="6870960"/>
              <a:ext cx="166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05th ABN BN  (Battle Group 11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85880" y="68630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4114800" y="6938640"/>
              <a:ext cx="250920" cy="180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4621320" y="7256520"/>
              <a:ext cx="283680" cy="257040"/>
              <a:chOff x="4621320" y="7256520"/>
              <a:chExt cx="283680" cy="257040"/>
            </a:xfrm>
          </p:grpSpPr>
          <p:grpSp>
            <p:nvGrpSpPr>
              <p:cNvPr id="923" name=""/>
              <p:cNvGrpSpPr/>
              <p:nvPr/>
            </p:nvGrpSpPr>
            <p:grpSpPr>
              <a:xfrm>
                <a:off x="4621320" y="7320240"/>
                <a:ext cx="283680" cy="193320"/>
                <a:chOff x="4621320" y="7320240"/>
                <a:chExt cx="283680" cy="19332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4621320" y="7320240"/>
                  <a:ext cx="283680" cy="193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735800" y="7388280"/>
                  <a:ext cx="5616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6" name=""/>
              <p:cNvSpPr/>
              <p:nvPr/>
            </p:nvSpPr>
            <p:spPr>
              <a:xfrm>
                <a:off x="4762440" y="7256520"/>
                <a:ext cx="0" cy="73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4852080" y="7340760"/>
              <a:ext cx="1155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/319th ABN Artill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94160" y="73328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94360" y="733212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E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4114800" y="7409160"/>
              <a:ext cx="250920" cy="14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4621320" y="7567920"/>
              <a:ext cx="283680" cy="256320"/>
              <a:chOff x="4621320" y="7567920"/>
              <a:chExt cx="283680" cy="25632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4621320" y="7631280"/>
                <a:ext cx="283680" cy="192960"/>
                <a:chOff x="4621320" y="7631280"/>
                <a:chExt cx="283680" cy="19296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4621320" y="7631280"/>
                  <a:ext cx="283680" cy="192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735800" y="7699320"/>
                  <a:ext cx="5616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5" name=""/>
              <p:cNvSpPr/>
              <p:nvPr/>
            </p:nvSpPr>
            <p:spPr>
              <a:xfrm>
                <a:off x="4762440" y="7567920"/>
                <a:ext cx="0" cy="72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4852080" y="7651800"/>
              <a:ext cx="1155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/319th ABN Artill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94160" y="76438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994360" y="764352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E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114800" y="7720200"/>
              <a:ext cx="250920" cy="14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621320" y="7872480"/>
              <a:ext cx="283680" cy="257040"/>
              <a:chOff x="4621320" y="7872480"/>
              <a:chExt cx="283680" cy="25704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621320" y="7936200"/>
                <a:ext cx="283680" cy="193320"/>
                <a:chOff x="4621320" y="7936200"/>
                <a:chExt cx="283680" cy="19332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621320" y="7936200"/>
                  <a:ext cx="283680" cy="193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735800" y="8004240"/>
                  <a:ext cx="5616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4" name=""/>
              <p:cNvSpPr/>
              <p:nvPr/>
            </p:nvSpPr>
            <p:spPr>
              <a:xfrm>
                <a:off x="4762440" y="7872480"/>
                <a:ext cx="0" cy="73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4852080" y="7956720"/>
              <a:ext cx="1155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/320th ABN Artill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94160" y="79488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994360" y="794808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E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114800" y="8025120"/>
              <a:ext cx="250920" cy="14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1084320" y="2743200"/>
            <a:ext cx="363600" cy="301680"/>
            <a:chOff x="1084320" y="2743200"/>
            <a:chExt cx="363600" cy="301680"/>
          </a:xfrm>
        </p:grpSpPr>
        <p:sp>
          <p:nvSpPr>
            <p:cNvPr id="950" name=""/>
            <p:cNvSpPr/>
            <p:nvPr/>
          </p:nvSpPr>
          <p:spPr>
            <a:xfrm>
              <a:off x="1084320" y="2806560"/>
              <a:ext cx="363600" cy="23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31920" y="2743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309680" y="2743200"/>
              <a:ext cx="1800" cy="633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1" y="0"/>
                  </a:moveTo>
                  <a:lnTo>
                    <a:pt x="0" y="4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1152720" y="2855880"/>
              <a:ext cx="228600" cy="139680"/>
              <a:chOff x="1152720" y="2855880"/>
              <a:chExt cx="228600" cy="13968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1152720" y="2855880"/>
                <a:ext cx="228600" cy="137880"/>
                <a:chOff x="1152720" y="2855880"/>
                <a:chExt cx="228600" cy="13788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1152720" y="2855880"/>
                  <a:ext cx="228600" cy="75960"/>
                </a:xfrm>
                <a:custGeom>
                  <a:avLst/>
                  <a:gdLst/>
                  <a:ahLst/>
                  <a:rect l="l" t="t" r="r" b="b"/>
                  <a:pathLst>
                    <a:path w="128" h="48">
                      <a:moveTo>
                        <a:pt x="16" y="0"/>
                      </a:moveTo>
                      <a:cubicBezTo>
                        <a:pt x="32" y="0"/>
                        <a:pt x="96" y="48"/>
                        <a:pt x="112" y="48"/>
                      </a:cubicBezTo>
                      <a:cubicBezTo>
                        <a:pt x="128" y="48"/>
                        <a:pt x="128" y="0"/>
                        <a:pt x="112" y="0"/>
                      </a:cubicBezTo>
                      <a:cubicBezTo>
                        <a:pt x="96" y="0"/>
                        <a:pt x="32" y="48"/>
                        <a:pt x="16" y="48"/>
                      </a:cubicBezTo>
                      <a:cubicBezTo>
                        <a:pt x="0" y="48"/>
                        <a:pt x="0" y="0"/>
                        <a:pt x="16" y="0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267200" y="2896920"/>
                  <a:ext cx="1440" cy="96840"/>
                </a:xfrm>
                <a:custGeom>
                  <a:avLst/>
                  <a:gdLst/>
                  <a:ahLst/>
                  <a:rect l="l" t="t" r="r" b="b"/>
                  <a:pathLst>
                    <a:path w="1" h="61">
                      <a:moveTo>
                        <a:pt x="0" y="0"/>
                      </a:moveTo>
                      <a:lnTo>
                        <a:pt x="0" y="6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7" name=""/>
              <p:cNvSpPr/>
              <p:nvPr/>
            </p:nvSpPr>
            <p:spPr>
              <a:xfrm>
                <a:off x="1184400" y="2993760"/>
                <a:ext cx="163440" cy="1800"/>
              </a:xfrm>
              <a:custGeom>
                <a:avLst/>
                <a:gdLst/>
                <a:ahLst/>
                <a:rect l="l" t="t" r="r" b="b"/>
                <a:pathLst>
                  <a:path w="103" h="1">
                    <a:moveTo>
                      <a:pt x="0" y="0"/>
                    </a:moveTo>
                    <a:lnTo>
                      <a:pt x="10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8" name=""/>
          <p:cNvSpPr/>
          <p:nvPr/>
        </p:nvSpPr>
        <p:spPr>
          <a:xfrm>
            <a:off x="1353960" y="2827440"/>
            <a:ext cx="207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bat Aviation BN  (Battle Group 0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2895480"/>
            <a:ext cx="30492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1983600" y="4267080"/>
            <a:ext cx="28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borne Infantry Battalion (Battle Group 1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44840" y="4691160"/>
            <a:ext cx="34776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546280" y="4692600"/>
            <a:ext cx="349200" cy="233280"/>
            <a:chOff x="2546280" y="4692600"/>
            <a:chExt cx="349200" cy="233280"/>
          </a:xfrm>
        </p:grpSpPr>
        <p:sp>
          <p:nvSpPr>
            <p:cNvPr id="963" name=""/>
            <p:cNvSpPr/>
            <p:nvPr/>
          </p:nvSpPr>
          <p:spPr>
            <a:xfrm>
              <a:off x="2546280" y="4695840"/>
              <a:ext cx="349200" cy="23004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0" y="145"/>
                  </a:move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50960" y="4692600"/>
              <a:ext cx="339840" cy="233280"/>
            </a:xfrm>
            <a:custGeom>
              <a:avLst/>
              <a:gdLst/>
              <a:ahLst/>
              <a:rect l="l" t="t" r="r" b="b"/>
              <a:pathLst>
                <a:path w="214" h="147">
                  <a:moveTo>
                    <a:pt x="0" y="0"/>
                  </a:moveTo>
                  <a:lnTo>
                    <a:pt x="214" y="1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2671920" y="4863960"/>
            <a:ext cx="99720" cy="36720"/>
            <a:chOff x="2671920" y="4863960"/>
            <a:chExt cx="99720" cy="36720"/>
          </a:xfrm>
        </p:grpSpPr>
        <p:sp>
          <p:nvSpPr>
            <p:cNvPr id="966" name=""/>
            <p:cNvSpPr/>
            <p:nvPr/>
          </p:nvSpPr>
          <p:spPr>
            <a:xfrm>
              <a:off x="2671920" y="4863960"/>
              <a:ext cx="50400" cy="3672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2"/>
                  </a:moveTo>
                  <a:cubicBezTo>
                    <a:pt x="16" y="28"/>
                    <a:pt x="33" y="8"/>
                    <a:pt x="48" y="4"/>
                  </a:cubicBezTo>
                  <a:cubicBezTo>
                    <a:pt x="63" y="0"/>
                    <a:pt x="82" y="20"/>
                    <a:pt x="90" y="28"/>
                  </a:cubicBezTo>
                  <a:cubicBezTo>
                    <a:pt x="98" y="36"/>
                    <a:pt x="94" y="46"/>
                    <a:pt x="9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2721240" y="4863960"/>
              <a:ext cx="50400" cy="3672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2"/>
                  </a:moveTo>
                  <a:cubicBezTo>
                    <a:pt x="16" y="28"/>
                    <a:pt x="33" y="8"/>
                    <a:pt x="48" y="4"/>
                  </a:cubicBezTo>
                  <a:cubicBezTo>
                    <a:pt x="63" y="0"/>
                    <a:pt x="82" y="20"/>
                    <a:pt x="90" y="28"/>
                  </a:cubicBezTo>
                  <a:cubicBezTo>
                    <a:pt x="98" y="36"/>
                    <a:pt x="94" y="46"/>
                    <a:pt x="9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594160" y="4495680"/>
            <a:ext cx="2692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260880" y="5636520"/>
            <a:ext cx="18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2684520" y="593892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7640" y="580644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80644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935440" y="5765760"/>
            <a:ext cx="284040" cy="255600"/>
            <a:chOff x="2935440" y="5765760"/>
            <a:chExt cx="284040" cy="255600"/>
          </a:xfrm>
        </p:grpSpPr>
        <p:sp>
          <p:nvSpPr>
            <p:cNvPr id="974" name=""/>
            <p:cNvSpPr/>
            <p:nvPr/>
          </p:nvSpPr>
          <p:spPr>
            <a:xfrm>
              <a:off x="3081600" y="57657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2935440" y="5827680"/>
              <a:ext cx="284040" cy="193680"/>
              <a:chOff x="2935440" y="5827680"/>
              <a:chExt cx="284040" cy="193680"/>
            </a:xfrm>
          </p:grpSpPr>
          <p:sp>
            <p:nvSpPr>
              <p:cNvPr id="976" name=""/>
              <p:cNvSpPr/>
              <p:nvPr/>
            </p:nvSpPr>
            <p:spPr>
              <a:xfrm>
                <a:off x="2935440" y="582768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938320" y="583056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935440" y="583056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"/>
          <p:cNvGrpSpPr/>
          <p:nvPr/>
        </p:nvGrpSpPr>
        <p:grpSpPr>
          <a:xfrm>
            <a:off x="2684520" y="5028480"/>
            <a:ext cx="1431360" cy="609480"/>
            <a:chOff x="2684520" y="5028480"/>
            <a:chExt cx="1431360" cy="609480"/>
          </a:xfrm>
        </p:grpSpPr>
        <p:sp>
          <p:nvSpPr>
            <p:cNvPr id="980" name=""/>
            <p:cNvSpPr/>
            <p:nvPr/>
          </p:nvSpPr>
          <p:spPr>
            <a:xfrm>
              <a:off x="2684520" y="5222880"/>
              <a:ext cx="288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2971800" y="5028480"/>
              <a:ext cx="1144080" cy="609480"/>
              <a:chOff x="2971800" y="5028480"/>
              <a:chExt cx="1144080" cy="609480"/>
            </a:xfrm>
          </p:grpSpPr>
          <p:grpSp>
            <p:nvGrpSpPr>
              <p:cNvPr id="982" name=""/>
              <p:cNvGrpSpPr/>
              <p:nvPr/>
            </p:nvGrpSpPr>
            <p:grpSpPr>
              <a:xfrm>
                <a:off x="2974320" y="5091120"/>
                <a:ext cx="231480" cy="210600"/>
                <a:chOff x="2974320" y="5091120"/>
                <a:chExt cx="231480" cy="21060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2974320" y="5144760"/>
                  <a:ext cx="231480" cy="156960"/>
                  <a:chOff x="2974320" y="5144760"/>
                  <a:chExt cx="231480" cy="15696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2974320" y="5144760"/>
                    <a:ext cx="23148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2999520" y="5166720"/>
                    <a:ext cx="183600" cy="11088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75840" y="50911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3001320" y="5308560"/>
                <a:ext cx="0" cy="1029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192120" y="502848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234240" y="5163480"/>
                <a:ext cx="88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0" name=""/>
              <p:cNvGrpSpPr/>
              <p:nvPr/>
            </p:nvGrpSpPr>
            <p:grpSpPr>
              <a:xfrm>
                <a:off x="2971800" y="5315760"/>
                <a:ext cx="837000" cy="322200"/>
                <a:chOff x="2971800" y="5315760"/>
                <a:chExt cx="837000" cy="3222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3192120" y="531576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234600" y="5422320"/>
                  <a:ext cx="54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3" name=""/>
                <p:cNvGrpSpPr/>
                <p:nvPr/>
              </p:nvGrpSpPr>
              <p:grpSpPr>
                <a:xfrm>
                  <a:off x="2971800" y="5364000"/>
                  <a:ext cx="231120" cy="249120"/>
                  <a:chOff x="2971800" y="5364000"/>
                  <a:chExt cx="231120" cy="24912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>
                    <a:off x="3076200" y="53640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2971800" y="5422680"/>
                    <a:ext cx="231120" cy="190440"/>
                    <a:chOff x="2971800" y="5422680"/>
                    <a:chExt cx="231120" cy="190440"/>
                  </a:xfrm>
                </p:grpSpPr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2971800" y="5422680"/>
                      <a:ext cx="23112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2982600" y="558612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3163320" y="558612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99" name=""/>
          <p:cNvSpPr/>
          <p:nvPr/>
        </p:nvSpPr>
        <p:spPr>
          <a:xfrm flipV="1">
            <a:off x="2666880" y="6319440"/>
            <a:ext cx="25092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70000" y="618732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82760" y="6187320"/>
            <a:ext cx="172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917800" y="6146640"/>
            <a:ext cx="284040" cy="255600"/>
            <a:chOff x="2917800" y="6146640"/>
            <a:chExt cx="284040" cy="255600"/>
          </a:xfrm>
        </p:grpSpPr>
        <p:sp>
          <p:nvSpPr>
            <p:cNvPr id="1003" name=""/>
            <p:cNvSpPr/>
            <p:nvPr/>
          </p:nvSpPr>
          <p:spPr>
            <a:xfrm>
              <a:off x="3063600" y="6146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2917800" y="6208560"/>
              <a:ext cx="284040" cy="193680"/>
              <a:chOff x="2917800" y="6208560"/>
              <a:chExt cx="284040" cy="193680"/>
            </a:xfrm>
          </p:grpSpPr>
          <p:sp>
            <p:nvSpPr>
              <p:cNvPr id="1005" name=""/>
              <p:cNvSpPr/>
              <p:nvPr/>
            </p:nvSpPr>
            <p:spPr>
              <a:xfrm>
                <a:off x="2917800" y="620856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920680" y="621144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917800" y="621144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8" name=""/>
          <p:cNvSpPr/>
          <p:nvPr/>
        </p:nvSpPr>
        <p:spPr>
          <a:xfrm flipV="1">
            <a:off x="2666880" y="6700320"/>
            <a:ext cx="25092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70000" y="65685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182760" y="6568560"/>
            <a:ext cx="172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2917800" y="6527880"/>
            <a:ext cx="284040" cy="255600"/>
            <a:chOff x="2917800" y="6527880"/>
            <a:chExt cx="284040" cy="255600"/>
          </a:xfrm>
        </p:grpSpPr>
        <p:sp>
          <p:nvSpPr>
            <p:cNvPr id="1012" name=""/>
            <p:cNvSpPr/>
            <p:nvPr/>
          </p:nvSpPr>
          <p:spPr>
            <a:xfrm>
              <a:off x="3063600" y="65278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2917800" y="6589800"/>
              <a:ext cx="284040" cy="193680"/>
              <a:chOff x="2917800" y="6589800"/>
              <a:chExt cx="284040" cy="193680"/>
            </a:xfrm>
          </p:grpSpPr>
          <p:sp>
            <p:nvSpPr>
              <p:cNvPr id="1014" name=""/>
              <p:cNvSpPr/>
              <p:nvPr/>
            </p:nvSpPr>
            <p:spPr>
              <a:xfrm>
                <a:off x="2917800" y="658980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2920680" y="659268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17800" y="659268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7" name=""/>
          <p:cNvSpPr/>
          <p:nvPr/>
        </p:nvSpPr>
        <p:spPr>
          <a:xfrm flipV="1">
            <a:off x="2666880" y="708192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241520" y="694944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182760" y="6949440"/>
            <a:ext cx="172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ti-Tank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63960" y="69087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917800" y="697068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921040" y="6972480"/>
            <a:ext cx="141120" cy="191880"/>
          </a:xfrm>
          <a:custGeom>
            <a:avLst/>
            <a:gdLst/>
            <a:ahLst/>
            <a:rect l="l" t="t" r="r" b="b"/>
            <a:pathLst>
              <a:path w="89" h="121">
                <a:moveTo>
                  <a:pt x="0" y="121"/>
                </a:moveTo>
                <a:lnTo>
                  <a:pt x="8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62160" y="6967440"/>
            <a:ext cx="138240" cy="190440"/>
          </a:xfrm>
          <a:custGeom>
            <a:avLst/>
            <a:gdLst/>
            <a:ahLst/>
            <a:rect l="l" t="t" r="r" b="b"/>
            <a:pathLst>
              <a:path w="87" h="120">
                <a:moveTo>
                  <a:pt x="0" y="0"/>
                </a:moveTo>
                <a:lnTo>
                  <a:pt x="87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666880" y="4952880"/>
            <a:ext cx="0" cy="213372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362320" y="1066680"/>
            <a:ext cx="363240" cy="301680"/>
            <a:chOff x="2362320" y="1066680"/>
            <a:chExt cx="363240" cy="301680"/>
          </a:xfrm>
        </p:grpSpPr>
        <p:sp>
          <p:nvSpPr>
            <p:cNvPr id="1026" name=""/>
            <p:cNvSpPr/>
            <p:nvPr/>
          </p:nvSpPr>
          <p:spPr>
            <a:xfrm>
              <a:off x="2362320" y="1130040"/>
              <a:ext cx="363240" cy="23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09560" y="1066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87320" y="1066680"/>
              <a:ext cx="1440" cy="633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1" y="0"/>
                  </a:moveTo>
                  <a:lnTo>
                    <a:pt x="0" y="4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2430360" y="1179360"/>
              <a:ext cx="228240" cy="139680"/>
              <a:chOff x="2430360" y="1179360"/>
              <a:chExt cx="228240" cy="139680"/>
            </a:xfrm>
          </p:grpSpPr>
          <p:grpSp>
            <p:nvGrpSpPr>
              <p:cNvPr id="1030" name=""/>
              <p:cNvGrpSpPr/>
              <p:nvPr/>
            </p:nvGrpSpPr>
            <p:grpSpPr>
              <a:xfrm>
                <a:off x="2430360" y="1179360"/>
                <a:ext cx="228240" cy="137880"/>
                <a:chOff x="2430360" y="1179360"/>
                <a:chExt cx="228240" cy="13788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2430360" y="1179360"/>
                  <a:ext cx="228240" cy="75960"/>
                </a:xfrm>
                <a:custGeom>
                  <a:avLst/>
                  <a:gdLst/>
                  <a:ahLst/>
                  <a:rect l="l" t="t" r="r" b="b"/>
                  <a:pathLst>
                    <a:path w="128" h="48">
                      <a:moveTo>
                        <a:pt x="16" y="0"/>
                      </a:moveTo>
                      <a:cubicBezTo>
                        <a:pt x="32" y="0"/>
                        <a:pt x="96" y="48"/>
                        <a:pt x="112" y="48"/>
                      </a:cubicBezTo>
                      <a:cubicBezTo>
                        <a:pt x="128" y="48"/>
                        <a:pt x="128" y="0"/>
                        <a:pt x="112" y="0"/>
                      </a:cubicBezTo>
                      <a:cubicBezTo>
                        <a:pt x="96" y="0"/>
                        <a:pt x="32" y="48"/>
                        <a:pt x="16" y="48"/>
                      </a:cubicBezTo>
                      <a:cubicBezTo>
                        <a:pt x="0" y="48"/>
                        <a:pt x="0" y="0"/>
                        <a:pt x="16" y="0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2544480" y="1220400"/>
                  <a:ext cx="1080" cy="96840"/>
                </a:xfrm>
                <a:custGeom>
                  <a:avLst/>
                  <a:gdLst/>
                  <a:ahLst/>
                  <a:rect l="l" t="t" r="r" b="b"/>
                  <a:pathLst>
                    <a:path w="1" h="61">
                      <a:moveTo>
                        <a:pt x="0" y="0"/>
                      </a:moveTo>
                      <a:lnTo>
                        <a:pt x="0" y="6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3" name=""/>
              <p:cNvSpPr/>
              <p:nvPr/>
            </p:nvSpPr>
            <p:spPr>
              <a:xfrm>
                <a:off x="2461680" y="1317240"/>
                <a:ext cx="163080" cy="1800"/>
              </a:xfrm>
              <a:custGeom>
                <a:avLst/>
                <a:gdLst/>
                <a:ahLst/>
                <a:rect l="l" t="t" r="r" b="b"/>
                <a:pathLst>
                  <a:path w="103" h="1">
                    <a:moveTo>
                      <a:pt x="0" y="0"/>
                    </a:moveTo>
                    <a:lnTo>
                      <a:pt x="10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4" name=""/>
          <p:cNvSpPr/>
          <p:nvPr/>
        </p:nvSpPr>
        <p:spPr>
          <a:xfrm>
            <a:off x="2133720" y="76212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bat Aviation BN  (Battle Group 0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2514600" y="152244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008160" y="1447200"/>
            <a:ext cx="172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2743200" y="1371600"/>
            <a:ext cx="284040" cy="255600"/>
            <a:chOff x="2743200" y="1371600"/>
            <a:chExt cx="284040" cy="255600"/>
          </a:xfrm>
        </p:grpSpPr>
        <p:sp>
          <p:nvSpPr>
            <p:cNvPr id="1038" name=""/>
            <p:cNvSpPr/>
            <p:nvPr/>
          </p:nvSpPr>
          <p:spPr>
            <a:xfrm>
              <a:off x="2889000" y="13716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43200" y="143352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2779560" y="1478160"/>
              <a:ext cx="211320" cy="122040"/>
              <a:chOff x="2779560" y="1478160"/>
              <a:chExt cx="211320" cy="12204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2779560" y="1481400"/>
                <a:ext cx="206640" cy="109440"/>
                <a:chOff x="2779560" y="1481400"/>
                <a:chExt cx="206640" cy="109440"/>
              </a:xfrm>
            </p:grpSpPr>
            <p:sp>
              <p:nvSpPr>
                <p:cNvPr id="1042" name=""/>
                <p:cNvSpPr/>
                <p:nvPr/>
              </p:nvSpPr>
              <p:spPr>
                <a:xfrm flipV="1">
                  <a:off x="2780280" y="148140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779560" y="148140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2779560" y="147816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989080" y="148140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>
            <a:off x="3659040" y="14472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2514600" y="1841040"/>
            <a:ext cx="25092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008160" y="1766160"/>
            <a:ext cx="172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2743200" y="1690560"/>
            <a:ext cx="284040" cy="255600"/>
            <a:chOff x="2743200" y="1690560"/>
            <a:chExt cx="284040" cy="255600"/>
          </a:xfrm>
        </p:grpSpPr>
        <p:sp>
          <p:nvSpPr>
            <p:cNvPr id="1050" name=""/>
            <p:cNvSpPr/>
            <p:nvPr/>
          </p:nvSpPr>
          <p:spPr>
            <a:xfrm>
              <a:off x="2889000" y="1690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43200" y="175248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2779560" y="1797120"/>
              <a:ext cx="211320" cy="122040"/>
              <a:chOff x="2779560" y="1797120"/>
              <a:chExt cx="211320" cy="12204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2779560" y="1800360"/>
                <a:ext cx="206640" cy="109440"/>
                <a:chOff x="2779560" y="1800360"/>
                <a:chExt cx="206640" cy="109440"/>
              </a:xfrm>
            </p:grpSpPr>
            <p:sp>
              <p:nvSpPr>
                <p:cNvPr id="1054" name=""/>
                <p:cNvSpPr/>
                <p:nvPr/>
              </p:nvSpPr>
              <p:spPr>
                <a:xfrm flipV="1">
                  <a:off x="2780280" y="180036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2779560" y="180036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6" name=""/>
              <p:cNvSpPr/>
              <p:nvPr/>
            </p:nvSpPr>
            <p:spPr>
              <a:xfrm>
                <a:off x="2779560" y="179712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989080" y="180036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8" name=""/>
          <p:cNvSpPr/>
          <p:nvPr/>
        </p:nvSpPr>
        <p:spPr>
          <a:xfrm>
            <a:off x="3659040" y="17661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514600" y="1371600"/>
            <a:ext cx="0" cy="4572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395080" y="2590920"/>
            <a:ext cx="505440" cy="21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G20-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221200" y="2286000"/>
            <a:ext cx="23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S Independence (Battle Group 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2600280" y="297036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28880" y="288144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70000" y="29091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2600280" y="328932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28880" y="320040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600280" y="2819520"/>
            <a:ext cx="0" cy="4572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057480" y="2909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uder W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70000" y="32140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E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057480" y="32140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sair W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609480" y="457200"/>
            <a:ext cx="34776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990720" y="4420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l Tea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76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71560" y="830160"/>
            <a:ext cx="34776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85800" y="695160"/>
            <a:ext cx="209520" cy="276480"/>
          </a:xfrm>
          <a:custGeom>
            <a:avLst/>
            <a:gdLst/>
            <a:ahLst/>
            <a:rect l="l" t="t" r="r" b="b"/>
            <a:pathLst>
              <a:path w="132" h="174">
                <a:moveTo>
                  <a:pt x="0" y="0"/>
                </a:moveTo>
                <a:cubicBezTo>
                  <a:pt x="0" y="58"/>
                  <a:pt x="0" y="116"/>
                  <a:pt x="0" y="174"/>
                </a:cubicBezTo>
                <a:lnTo>
                  <a:pt x="132" y="168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1008000" y="762120"/>
            <a:ext cx="74520" cy="28080"/>
            <a:chOff x="1008000" y="762120"/>
            <a:chExt cx="74520" cy="28080"/>
          </a:xfrm>
        </p:grpSpPr>
        <p:sp>
          <p:nvSpPr>
            <p:cNvPr id="1077" name=""/>
            <p:cNvSpPr/>
            <p:nvPr/>
          </p:nvSpPr>
          <p:spPr>
            <a:xfrm>
              <a:off x="1008000" y="7621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55520" y="7635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1203480" y="82080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 Infa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11732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09480" y="1538280"/>
            <a:ext cx="34776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990720" y="152316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ta Tea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71560" y="1911240"/>
            <a:ext cx="34776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5800" y="1776240"/>
            <a:ext cx="209520" cy="276480"/>
          </a:xfrm>
          <a:custGeom>
            <a:avLst/>
            <a:gdLst/>
            <a:ahLst/>
            <a:rect l="l" t="t" r="r" b="b"/>
            <a:pathLst>
              <a:path w="132" h="174">
                <a:moveTo>
                  <a:pt x="0" y="0"/>
                </a:moveTo>
                <a:cubicBezTo>
                  <a:pt x="0" y="58"/>
                  <a:pt x="0" y="116"/>
                  <a:pt x="0" y="174"/>
                </a:cubicBezTo>
                <a:lnTo>
                  <a:pt x="132" y="168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1008000" y="1843200"/>
            <a:ext cx="74520" cy="28080"/>
            <a:chOff x="1008000" y="1843200"/>
            <a:chExt cx="74520" cy="28080"/>
          </a:xfrm>
        </p:grpSpPr>
        <p:sp>
          <p:nvSpPr>
            <p:cNvPr id="1086" name=""/>
            <p:cNvSpPr/>
            <p:nvPr/>
          </p:nvSpPr>
          <p:spPr>
            <a:xfrm>
              <a:off x="1008000" y="18432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55520" y="18446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1203480" y="190188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 Infa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74880" y="2674800"/>
            <a:ext cx="196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uced Strength  Rang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2592360"/>
            <a:ext cx="347040" cy="302760"/>
            <a:chOff x="609480" y="2592360"/>
            <a:chExt cx="347040" cy="302760"/>
          </a:xfrm>
        </p:grpSpPr>
        <p:grpSp>
          <p:nvGrpSpPr>
            <p:cNvPr id="1091" name=""/>
            <p:cNvGrpSpPr/>
            <p:nvPr/>
          </p:nvGrpSpPr>
          <p:grpSpPr>
            <a:xfrm>
              <a:off x="609480" y="2658960"/>
              <a:ext cx="347040" cy="236160"/>
              <a:chOff x="609480" y="2658960"/>
              <a:chExt cx="347040" cy="236160"/>
            </a:xfrm>
          </p:grpSpPr>
          <p:sp>
            <p:nvSpPr>
              <p:cNvPr id="1092" name=""/>
              <p:cNvSpPr/>
              <p:nvPr/>
            </p:nvSpPr>
            <p:spPr>
              <a:xfrm>
                <a:off x="609480" y="265896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613080" y="266256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09480" y="266256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>
              <a:off x="782280" y="25923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6" name=""/>
            <p:cNvGrpSpPr/>
            <p:nvPr/>
          </p:nvGrpSpPr>
          <p:grpSpPr>
            <a:xfrm>
              <a:off x="741240" y="2700360"/>
              <a:ext cx="85680" cy="152280"/>
              <a:chOff x="741240" y="2700360"/>
              <a:chExt cx="85680" cy="152280"/>
            </a:xfrm>
          </p:grpSpPr>
          <p:sp>
            <p:nvSpPr>
              <p:cNvPr id="1097" name=""/>
              <p:cNvSpPr/>
              <p:nvPr/>
            </p:nvSpPr>
            <p:spPr>
              <a:xfrm>
                <a:off x="741240" y="270036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41240" y="274608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9" name=""/>
          <p:cNvSpPr/>
          <p:nvPr/>
        </p:nvSpPr>
        <p:spPr>
          <a:xfrm>
            <a:off x="0" y="2239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68240" y="2933640"/>
            <a:ext cx="3240" cy="828720"/>
          </a:xfrm>
          <a:custGeom>
            <a:avLst/>
            <a:gdLst/>
            <a:ahLst/>
            <a:rect l="l" t="t" r="r" b="b"/>
            <a:pathLst>
              <a:path w="2" h="522">
                <a:moveTo>
                  <a:pt x="0" y="0"/>
                </a:moveTo>
                <a:lnTo>
                  <a:pt x="2" y="522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762120" y="3513240"/>
            <a:ext cx="2818800" cy="374760"/>
            <a:chOff x="762120" y="3513240"/>
            <a:chExt cx="2818800" cy="374760"/>
          </a:xfrm>
        </p:grpSpPr>
        <p:sp>
          <p:nvSpPr>
            <p:cNvPr id="1102" name=""/>
            <p:cNvSpPr/>
            <p:nvPr/>
          </p:nvSpPr>
          <p:spPr>
            <a:xfrm>
              <a:off x="762120" y="3756240"/>
              <a:ext cx="40608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39640" y="3513240"/>
              <a:ext cx="159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rganic Fire Support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80960" y="3641760"/>
              <a:ext cx="219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1066680" y="3632400"/>
              <a:ext cx="239400" cy="204840"/>
              <a:chOff x="1066680" y="3632400"/>
              <a:chExt cx="239400" cy="20484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1066680" y="3679920"/>
                <a:ext cx="239400" cy="157320"/>
                <a:chOff x="1066680" y="3679920"/>
                <a:chExt cx="239400" cy="1573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1066680" y="3679920"/>
                  <a:ext cx="23940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H="1">
                  <a:off x="1186920" y="370116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1150920" y="380484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1148760" y="3632400"/>
                <a:ext cx="74520" cy="28080"/>
                <a:chOff x="1148760" y="3632400"/>
                <a:chExt cx="74520" cy="2808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1148760" y="36324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196280" y="3633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13" name=""/>
          <p:cNvGrpSpPr/>
          <p:nvPr/>
        </p:nvGrpSpPr>
        <p:grpSpPr>
          <a:xfrm>
            <a:off x="762120" y="2819520"/>
            <a:ext cx="2818800" cy="398520"/>
            <a:chOff x="762120" y="2819520"/>
            <a:chExt cx="2818800" cy="398520"/>
          </a:xfrm>
        </p:grpSpPr>
        <p:sp>
          <p:nvSpPr>
            <p:cNvPr id="1114" name=""/>
            <p:cNvSpPr/>
            <p:nvPr/>
          </p:nvSpPr>
          <p:spPr>
            <a:xfrm>
              <a:off x="1066680" y="2971800"/>
              <a:ext cx="23112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762120" y="2819520"/>
              <a:ext cx="2818800" cy="398520"/>
              <a:chOff x="762120" y="2819520"/>
              <a:chExt cx="2818800" cy="398520"/>
            </a:xfrm>
          </p:grpSpPr>
          <p:sp>
            <p:nvSpPr>
              <p:cNvPr id="1116" name=""/>
              <p:cNvSpPr/>
              <p:nvPr/>
            </p:nvSpPr>
            <p:spPr>
              <a:xfrm>
                <a:off x="1371600" y="2971800"/>
                <a:ext cx="22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2120" y="3047760"/>
                <a:ext cx="29988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71600" y="2819520"/>
                <a:ext cx="990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9" name=""/>
              <p:cNvGrpSpPr/>
              <p:nvPr/>
            </p:nvGrpSpPr>
            <p:grpSpPr>
              <a:xfrm>
                <a:off x="1090440" y="2933640"/>
                <a:ext cx="183960" cy="170640"/>
                <a:chOff x="1090440" y="2933640"/>
                <a:chExt cx="183960" cy="17064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090440" y="2993400"/>
                  <a:ext cx="18396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169640" y="29336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22" name=""/>
          <p:cNvGrpSpPr/>
          <p:nvPr/>
        </p:nvGrpSpPr>
        <p:grpSpPr>
          <a:xfrm>
            <a:off x="762120" y="3276720"/>
            <a:ext cx="2974680" cy="246240"/>
            <a:chOff x="762120" y="3276720"/>
            <a:chExt cx="2974680" cy="246240"/>
          </a:xfrm>
        </p:grpSpPr>
        <p:sp>
          <p:nvSpPr>
            <p:cNvPr id="1123" name=""/>
            <p:cNvSpPr/>
            <p:nvPr/>
          </p:nvSpPr>
          <p:spPr>
            <a:xfrm>
              <a:off x="1374840" y="3276720"/>
              <a:ext cx="236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2120" y="339120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1069920" y="3283200"/>
              <a:ext cx="231840" cy="198360"/>
              <a:chOff x="1069920" y="3283200"/>
              <a:chExt cx="231840" cy="198360"/>
            </a:xfrm>
          </p:grpSpPr>
          <p:grpSp>
            <p:nvGrpSpPr>
              <p:cNvPr id="1126" name=""/>
              <p:cNvGrpSpPr/>
              <p:nvPr/>
            </p:nvGrpSpPr>
            <p:grpSpPr>
              <a:xfrm>
                <a:off x="1069920" y="3324600"/>
                <a:ext cx="231840" cy="156960"/>
                <a:chOff x="1069920" y="3324600"/>
                <a:chExt cx="231840" cy="15696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1069920" y="332460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1072080" y="332676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069920" y="332676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1147680" y="3283200"/>
                <a:ext cx="74520" cy="28080"/>
                <a:chOff x="1147680" y="3283200"/>
                <a:chExt cx="74520" cy="280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1147680" y="32832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195200" y="3284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3" name=""/>
          <p:cNvSpPr/>
          <p:nvPr/>
        </p:nvSpPr>
        <p:spPr>
          <a:xfrm>
            <a:off x="992880" y="4952880"/>
            <a:ext cx="22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and Headquarters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625320" y="4870440"/>
            <a:ext cx="347040" cy="302760"/>
            <a:chOff x="625320" y="4870440"/>
            <a:chExt cx="347040" cy="302760"/>
          </a:xfrm>
        </p:grpSpPr>
        <p:grpSp>
          <p:nvGrpSpPr>
            <p:cNvPr id="1135" name=""/>
            <p:cNvGrpSpPr/>
            <p:nvPr/>
          </p:nvGrpSpPr>
          <p:grpSpPr>
            <a:xfrm>
              <a:off x="625320" y="4937040"/>
              <a:ext cx="347040" cy="236160"/>
              <a:chOff x="625320" y="4937040"/>
              <a:chExt cx="347040" cy="236160"/>
            </a:xfrm>
          </p:grpSpPr>
          <p:sp>
            <p:nvSpPr>
              <p:cNvPr id="1136" name=""/>
              <p:cNvSpPr/>
              <p:nvPr/>
            </p:nvSpPr>
            <p:spPr>
              <a:xfrm>
                <a:off x="625320" y="493704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628920" y="494064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5320" y="494064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>
              <a:off x="798120" y="4870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757080" y="4978440"/>
              <a:ext cx="85680" cy="152280"/>
              <a:chOff x="757080" y="4978440"/>
              <a:chExt cx="85680" cy="152280"/>
            </a:xfrm>
          </p:grpSpPr>
          <p:sp>
            <p:nvSpPr>
              <p:cNvPr id="1141" name=""/>
              <p:cNvSpPr/>
              <p:nvPr/>
            </p:nvSpPr>
            <p:spPr>
              <a:xfrm>
                <a:off x="757080" y="497844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7080" y="502416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3" name=""/>
          <p:cNvSpPr/>
          <p:nvPr/>
        </p:nvSpPr>
        <p:spPr>
          <a:xfrm>
            <a:off x="0" y="43736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128600" y="5638680"/>
            <a:ext cx="0" cy="954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523880" y="571500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 with GPMG when mou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1066680" y="5700600"/>
            <a:ext cx="231840" cy="231120"/>
            <a:chOff x="1066680" y="5700600"/>
            <a:chExt cx="231840" cy="231120"/>
          </a:xfrm>
        </p:grpSpPr>
        <p:grpSp>
          <p:nvGrpSpPr>
            <p:cNvPr id="1147" name=""/>
            <p:cNvGrpSpPr/>
            <p:nvPr/>
          </p:nvGrpSpPr>
          <p:grpSpPr>
            <a:xfrm>
              <a:off x="1066680" y="5741280"/>
              <a:ext cx="231840" cy="190440"/>
              <a:chOff x="1066680" y="5741280"/>
              <a:chExt cx="231840" cy="190440"/>
            </a:xfrm>
          </p:grpSpPr>
          <p:sp>
            <p:nvSpPr>
              <p:cNvPr id="1148" name=""/>
              <p:cNvSpPr/>
              <p:nvPr/>
            </p:nvSpPr>
            <p:spPr>
              <a:xfrm>
                <a:off x="1066680" y="574164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1066680" y="5741280"/>
                <a:ext cx="23076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077120" y="590436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259280" y="590436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1147680" y="5700600"/>
              <a:ext cx="74520" cy="28080"/>
              <a:chOff x="1147680" y="5700600"/>
              <a:chExt cx="74520" cy="28080"/>
            </a:xfrm>
          </p:grpSpPr>
          <p:sp>
            <p:nvSpPr>
              <p:cNvPr id="1153" name=""/>
              <p:cNvSpPr/>
              <p:nvPr/>
            </p:nvSpPr>
            <p:spPr>
              <a:xfrm>
                <a:off x="1147680" y="57006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195200" y="57020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5" name=""/>
          <p:cNvSpPr/>
          <p:nvPr/>
        </p:nvSpPr>
        <p:spPr>
          <a:xfrm>
            <a:off x="1523880" y="548640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eneral Purpose Machine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295280" y="5334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62120" y="5562720"/>
            <a:ext cx="3045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1066680" y="5438880"/>
            <a:ext cx="231840" cy="199440"/>
            <a:chOff x="1066680" y="5438880"/>
            <a:chExt cx="231840" cy="199440"/>
          </a:xfrm>
        </p:grpSpPr>
        <p:grpSp>
          <p:nvGrpSpPr>
            <p:cNvPr id="1159" name=""/>
            <p:cNvGrpSpPr/>
            <p:nvPr/>
          </p:nvGrpSpPr>
          <p:grpSpPr>
            <a:xfrm>
              <a:off x="1066680" y="5486040"/>
              <a:ext cx="231840" cy="152280"/>
              <a:chOff x="1066680" y="5486040"/>
              <a:chExt cx="231840" cy="152280"/>
            </a:xfrm>
          </p:grpSpPr>
          <p:sp>
            <p:nvSpPr>
              <p:cNvPr id="1160" name=""/>
              <p:cNvSpPr/>
              <p:nvPr/>
            </p:nvSpPr>
            <p:spPr>
              <a:xfrm>
                <a:off x="1066680" y="5486040"/>
                <a:ext cx="231840" cy="152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066680" y="5486040"/>
                <a:ext cx="55800" cy="150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1066680" y="5487840"/>
                <a:ext cx="22824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068840" y="5486040"/>
                <a:ext cx="2257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1143000" y="5438880"/>
              <a:ext cx="74520" cy="27720"/>
              <a:chOff x="1143000" y="5438880"/>
              <a:chExt cx="74520" cy="27720"/>
            </a:xfrm>
          </p:grpSpPr>
          <p:sp>
            <p:nvSpPr>
              <p:cNvPr id="1165" name=""/>
              <p:cNvSpPr/>
              <p:nvPr/>
            </p:nvSpPr>
            <p:spPr>
              <a:xfrm>
                <a:off x="1143000" y="5438880"/>
                <a:ext cx="2844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190520" y="5440320"/>
                <a:ext cx="2700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7" name=""/>
          <p:cNvSpPr/>
          <p:nvPr/>
        </p:nvSpPr>
        <p:spPr>
          <a:xfrm flipH="1">
            <a:off x="1096560" y="6270480"/>
            <a:ext cx="1800" cy="619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371600" y="61088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mm Recoilless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66680" y="6066000"/>
            <a:ext cx="231840" cy="199440"/>
            <a:chOff x="1066680" y="6066000"/>
            <a:chExt cx="231840" cy="199440"/>
          </a:xfrm>
        </p:grpSpPr>
        <p:grpSp>
          <p:nvGrpSpPr>
            <p:cNvPr id="1170" name=""/>
            <p:cNvGrpSpPr/>
            <p:nvPr/>
          </p:nvGrpSpPr>
          <p:grpSpPr>
            <a:xfrm>
              <a:off x="1066680" y="6108480"/>
              <a:ext cx="231840" cy="156960"/>
              <a:chOff x="1066680" y="6108480"/>
              <a:chExt cx="231840" cy="156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1066680" y="610848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1066680" y="6111720"/>
                <a:ext cx="1137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180440" y="6108480"/>
                <a:ext cx="1137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1144440" y="6066000"/>
              <a:ext cx="74520" cy="27720"/>
              <a:chOff x="1144440" y="6066000"/>
              <a:chExt cx="74520" cy="27720"/>
            </a:xfrm>
          </p:grpSpPr>
          <p:sp>
            <p:nvSpPr>
              <p:cNvPr id="1175" name=""/>
              <p:cNvSpPr/>
              <p:nvPr/>
            </p:nvSpPr>
            <p:spPr>
              <a:xfrm>
                <a:off x="1144440" y="6066000"/>
                <a:ext cx="2844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191960" y="6067440"/>
                <a:ext cx="2700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7" name=""/>
          <p:cNvSpPr/>
          <p:nvPr/>
        </p:nvSpPr>
        <p:spPr>
          <a:xfrm>
            <a:off x="1523880" y="630864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1066680" y="6294600"/>
            <a:ext cx="231840" cy="231120"/>
            <a:chOff x="1066680" y="6294600"/>
            <a:chExt cx="231840" cy="231120"/>
          </a:xfrm>
        </p:grpSpPr>
        <p:grpSp>
          <p:nvGrpSpPr>
            <p:cNvPr id="1179" name=""/>
            <p:cNvGrpSpPr/>
            <p:nvPr/>
          </p:nvGrpSpPr>
          <p:grpSpPr>
            <a:xfrm>
              <a:off x="1066680" y="6335280"/>
              <a:ext cx="231840" cy="190440"/>
              <a:chOff x="1066680" y="6335280"/>
              <a:chExt cx="231840" cy="190440"/>
            </a:xfrm>
          </p:grpSpPr>
          <p:sp>
            <p:nvSpPr>
              <p:cNvPr id="1180" name=""/>
              <p:cNvSpPr/>
              <p:nvPr/>
            </p:nvSpPr>
            <p:spPr>
              <a:xfrm>
                <a:off x="1066680" y="633564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V="1">
                <a:off x="1066680" y="6335280"/>
                <a:ext cx="23076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077120" y="649836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59280" y="649836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1147680" y="6294600"/>
              <a:ext cx="74520" cy="28080"/>
              <a:chOff x="1147680" y="6294600"/>
              <a:chExt cx="74520" cy="28080"/>
            </a:xfrm>
          </p:grpSpPr>
          <p:sp>
            <p:nvSpPr>
              <p:cNvPr id="1185" name=""/>
              <p:cNvSpPr/>
              <p:nvPr/>
            </p:nvSpPr>
            <p:spPr>
              <a:xfrm>
                <a:off x="1147680" y="62946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95200" y="62960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>
            <a:off x="762120" y="6218280"/>
            <a:ext cx="3045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600200" y="5943600"/>
            <a:ext cx="28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Anti- Tank Squ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371600" y="664524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torcycle Recon Infa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066680" y="6678720"/>
            <a:ext cx="231840" cy="231120"/>
            <a:chOff x="1066680" y="6678720"/>
            <a:chExt cx="231840" cy="231120"/>
          </a:xfrm>
        </p:grpSpPr>
        <p:grpSp>
          <p:nvGrpSpPr>
            <p:cNvPr id="1191" name=""/>
            <p:cNvGrpSpPr/>
            <p:nvPr/>
          </p:nvGrpSpPr>
          <p:grpSpPr>
            <a:xfrm>
              <a:off x="1066680" y="6719400"/>
              <a:ext cx="231840" cy="190440"/>
              <a:chOff x="1066680" y="6719400"/>
              <a:chExt cx="231840" cy="190440"/>
            </a:xfrm>
          </p:grpSpPr>
          <p:sp>
            <p:nvSpPr>
              <p:cNvPr id="1192" name=""/>
              <p:cNvSpPr/>
              <p:nvPr/>
            </p:nvSpPr>
            <p:spPr>
              <a:xfrm>
                <a:off x="1066680" y="671976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V="1">
                <a:off x="1066680" y="6719400"/>
                <a:ext cx="23076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77120" y="688248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259280" y="688248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147680" y="6678720"/>
              <a:ext cx="74520" cy="28080"/>
              <a:chOff x="1147680" y="6678720"/>
              <a:chExt cx="74520" cy="28080"/>
            </a:xfrm>
          </p:grpSpPr>
          <p:sp>
            <p:nvSpPr>
              <p:cNvPr id="1197" name=""/>
              <p:cNvSpPr/>
              <p:nvPr/>
            </p:nvSpPr>
            <p:spPr>
              <a:xfrm>
                <a:off x="1147680" y="6678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195200" y="6680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9" name=""/>
          <p:cNvSpPr/>
          <p:nvPr/>
        </p:nvSpPr>
        <p:spPr>
          <a:xfrm>
            <a:off x="762120" y="6797520"/>
            <a:ext cx="3045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6477120"/>
            <a:ext cx="28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Recon Squ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62120" y="5181480"/>
            <a:ext cx="0" cy="167652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973440" y="7445520"/>
            <a:ext cx="171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ll Strength  Rang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09480" y="7362720"/>
            <a:ext cx="347040" cy="302760"/>
            <a:chOff x="609480" y="7362720"/>
            <a:chExt cx="347040" cy="302760"/>
          </a:xfrm>
        </p:grpSpPr>
        <p:grpSp>
          <p:nvGrpSpPr>
            <p:cNvPr id="1204" name=""/>
            <p:cNvGrpSpPr/>
            <p:nvPr/>
          </p:nvGrpSpPr>
          <p:grpSpPr>
            <a:xfrm>
              <a:off x="609480" y="7429320"/>
              <a:ext cx="347040" cy="236160"/>
              <a:chOff x="609480" y="7429320"/>
              <a:chExt cx="347040" cy="236160"/>
            </a:xfrm>
          </p:grpSpPr>
          <p:sp>
            <p:nvSpPr>
              <p:cNvPr id="1205" name=""/>
              <p:cNvSpPr/>
              <p:nvPr/>
            </p:nvSpPr>
            <p:spPr>
              <a:xfrm>
                <a:off x="609480" y="742932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613080" y="743292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9480" y="743292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782280" y="7362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741240" y="7470720"/>
              <a:ext cx="85680" cy="152280"/>
              <a:chOff x="741240" y="7470720"/>
              <a:chExt cx="85680" cy="152280"/>
            </a:xfrm>
          </p:grpSpPr>
          <p:sp>
            <p:nvSpPr>
              <p:cNvPr id="1210" name=""/>
              <p:cNvSpPr/>
              <p:nvPr/>
            </p:nvSpPr>
            <p:spPr>
              <a:xfrm>
                <a:off x="741240" y="7470720"/>
                <a:ext cx="83880" cy="759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41240" y="7516440"/>
                <a:ext cx="85680" cy="10656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0" y="0"/>
                    </a:moveTo>
                    <a:lnTo>
                      <a:pt x="246" y="0"/>
                    </a:lnTo>
                    <a:lnTo>
                      <a:pt x="126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2" name=""/>
          <p:cNvSpPr/>
          <p:nvPr/>
        </p:nvSpPr>
        <p:spPr>
          <a:xfrm>
            <a:off x="0" y="701028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68240" y="7704000"/>
            <a:ext cx="3240" cy="849600"/>
          </a:xfrm>
          <a:custGeom>
            <a:avLst/>
            <a:gdLst/>
            <a:ahLst/>
            <a:rect l="l" t="t" r="r" b="b"/>
            <a:pathLst>
              <a:path w="2" h="535">
                <a:moveTo>
                  <a:pt x="0" y="0"/>
                </a:moveTo>
                <a:lnTo>
                  <a:pt x="2" y="535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762120" y="8313840"/>
            <a:ext cx="2818800" cy="374760"/>
            <a:chOff x="762120" y="8313840"/>
            <a:chExt cx="2818800" cy="374760"/>
          </a:xfrm>
        </p:grpSpPr>
        <p:sp>
          <p:nvSpPr>
            <p:cNvPr id="1215" name=""/>
            <p:cNvSpPr/>
            <p:nvPr/>
          </p:nvSpPr>
          <p:spPr>
            <a:xfrm>
              <a:off x="762120" y="8556840"/>
              <a:ext cx="40608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439640" y="8313840"/>
              <a:ext cx="159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rganic Fire Support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380960" y="8442360"/>
              <a:ext cx="219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1066680" y="8433000"/>
              <a:ext cx="239400" cy="204840"/>
              <a:chOff x="1066680" y="8433000"/>
              <a:chExt cx="239400" cy="204840"/>
            </a:xfrm>
          </p:grpSpPr>
          <p:grpSp>
            <p:nvGrpSpPr>
              <p:cNvPr id="1219" name=""/>
              <p:cNvGrpSpPr/>
              <p:nvPr/>
            </p:nvGrpSpPr>
            <p:grpSpPr>
              <a:xfrm>
                <a:off x="1066680" y="8480520"/>
                <a:ext cx="239400" cy="157320"/>
                <a:chOff x="1066680" y="8480520"/>
                <a:chExt cx="239400" cy="15732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1066680" y="8480520"/>
                  <a:ext cx="23940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1186920" y="850176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150920" y="860544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148760" y="8433000"/>
                <a:ext cx="74520" cy="28080"/>
                <a:chOff x="1148760" y="8433000"/>
                <a:chExt cx="74520" cy="280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148760" y="84330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196280" y="84344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26" name=""/>
          <p:cNvGrpSpPr/>
          <p:nvPr/>
        </p:nvGrpSpPr>
        <p:grpSpPr>
          <a:xfrm>
            <a:off x="762120" y="7589880"/>
            <a:ext cx="2818800" cy="398520"/>
            <a:chOff x="762120" y="7589880"/>
            <a:chExt cx="2818800" cy="398520"/>
          </a:xfrm>
        </p:grpSpPr>
        <p:sp>
          <p:nvSpPr>
            <p:cNvPr id="1227" name=""/>
            <p:cNvSpPr/>
            <p:nvPr/>
          </p:nvSpPr>
          <p:spPr>
            <a:xfrm>
              <a:off x="1066680" y="7742160"/>
              <a:ext cx="23112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762120" y="7589880"/>
              <a:ext cx="2818800" cy="398520"/>
              <a:chOff x="762120" y="7589880"/>
              <a:chExt cx="2818800" cy="398520"/>
            </a:xfrm>
          </p:grpSpPr>
          <p:sp>
            <p:nvSpPr>
              <p:cNvPr id="1229" name=""/>
              <p:cNvSpPr/>
              <p:nvPr/>
            </p:nvSpPr>
            <p:spPr>
              <a:xfrm>
                <a:off x="1371600" y="7742160"/>
                <a:ext cx="22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62120" y="7818120"/>
                <a:ext cx="29988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371600" y="7589880"/>
                <a:ext cx="990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2" name=""/>
              <p:cNvGrpSpPr/>
              <p:nvPr/>
            </p:nvGrpSpPr>
            <p:grpSpPr>
              <a:xfrm>
                <a:off x="1090440" y="7704000"/>
                <a:ext cx="183960" cy="170640"/>
                <a:chOff x="1090440" y="7704000"/>
                <a:chExt cx="183960" cy="17064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1090440" y="7763760"/>
                  <a:ext cx="18396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169640" y="77040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35" name=""/>
          <p:cNvGrpSpPr/>
          <p:nvPr/>
        </p:nvGrpSpPr>
        <p:grpSpPr>
          <a:xfrm>
            <a:off x="762120" y="8047080"/>
            <a:ext cx="2974680" cy="246240"/>
            <a:chOff x="762120" y="8047080"/>
            <a:chExt cx="2974680" cy="246240"/>
          </a:xfrm>
        </p:grpSpPr>
        <p:sp>
          <p:nvSpPr>
            <p:cNvPr id="1236" name=""/>
            <p:cNvSpPr/>
            <p:nvPr/>
          </p:nvSpPr>
          <p:spPr>
            <a:xfrm>
              <a:off x="1374840" y="8047080"/>
              <a:ext cx="236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2120" y="816156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1069920" y="8053560"/>
              <a:ext cx="231840" cy="198360"/>
              <a:chOff x="1069920" y="8053560"/>
              <a:chExt cx="231840" cy="198360"/>
            </a:xfrm>
          </p:grpSpPr>
          <p:grpSp>
            <p:nvGrpSpPr>
              <p:cNvPr id="1239" name=""/>
              <p:cNvGrpSpPr/>
              <p:nvPr/>
            </p:nvGrpSpPr>
            <p:grpSpPr>
              <a:xfrm>
                <a:off x="1069920" y="8094960"/>
                <a:ext cx="231840" cy="156960"/>
                <a:chOff x="1069920" y="8094960"/>
                <a:chExt cx="231840" cy="15696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1069920" y="809496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V="1">
                  <a:off x="1072080" y="809712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1069920" y="809712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1147680" y="8053560"/>
                <a:ext cx="74520" cy="28080"/>
                <a:chOff x="1147680" y="8053560"/>
                <a:chExt cx="74520" cy="2808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1147680" y="80535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195200" y="80550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6" name=""/>
          <p:cNvSpPr/>
          <p:nvPr/>
        </p:nvSpPr>
        <p:spPr>
          <a:xfrm>
            <a:off x="4411800" y="3116160"/>
            <a:ext cx="282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ortar Platoon - Organic Fire Sup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419720" y="3649680"/>
            <a:ext cx="282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chinegun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419720" y="4319640"/>
            <a:ext cx="282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Anti- Tank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352680" y="76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038480" y="3808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ne Rifle Company (E, F &amp; G Compan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3809880" y="647640"/>
            <a:ext cx="5040" cy="11048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3809880" y="1523880"/>
            <a:ext cx="2819520" cy="374760"/>
            <a:chOff x="3809880" y="1523880"/>
            <a:chExt cx="2819520" cy="374760"/>
          </a:xfrm>
        </p:grpSpPr>
        <p:sp>
          <p:nvSpPr>
            <p:cNvPr id="1253" name=""/>
            <p:cNvSpPr/>
            <p:nvPr/>
          </p:nvSpPr>
          <p:spPr>
            <a:xfrm>
              <a:off x="3809880" y="1766880"/>
              <a:ext cx="4064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487760" y="152388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rganic Fire Support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29080" y="1652400"/>
              <a:ext cx="220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6" name=""/>
            <p:cNvGrpSpPr/>
            <p:nvPr/>
          </p:nvGrpSpPr>
          <p:grpSpPr>
            <a:xfrm>
              <a:off x="4114800" y="1643040"/>
              <a:ext cx="239760" cy="204840"/>
              <a:chOff x="4114800" y="1643040"/>
              <a:chExt cx="239760" cy="204840"/>
            </a:xfrm>
          </p:grpSpPr>
          <p:grpSp>
            <p:nvGrpSpPr>
              <p:cNvPr id="1257" name=""/>
              <p:cNvGrpSpPr/>
              <p:nvPr/>
            </p:nvGrpSpPr>
            <p:grpSpPr>
              <a:xfrm>
                <a:off x="4114800" y="1690560"/>
                <a:ext cx="239760" cy="157320"/>
                <a:chOff x="4114800" y="1690560"/>
                <a:chExt cx="239760" cy="15732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4114800" y="1690560"/>
                  <a:ext cx="23976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H="1">
                  <a:off x="4235400" y="171180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199400" y="181548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4197240" y="1643040"/>
                <a:ext cx="74520" cy="28080"/>
                <a:chOff x="4197240" y="1643040"/>
                <a:chExt cx="74520" cy="280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4197240" y="1643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244760" y="16444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64" name=""/>
          <p:cNvGrpSpPr/>
          <p:nvPr/>
        </p:nvGrpSpPr>
        <p:grpSpPr>
          <a:xfrm>
            <a:off x="3809880" y="533520"/>
            <a:ext cx="2819520" cy="398520"/>
            <a:chOff x="3809880" y="533520"/>
            <a:chExt cx="2819520" cy="398520"/>
          </a:xfrm>
        </p:grpSpPr>
        <p:sp>
          <p:nvSpPr>
            <p:cNvPr id="1265" name=""/>
            <p:cNvSpPr/>
            <p:nvPr/>
          </p:nvSpPr>
          <p:spPr>
            <a:xfrm>
              <a:off x="4114800" y="685800"/>
              <a:ext cx="23184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3809880" y="533520"/>
              <a:ext cx="2819520" cy="398520"/>
              <a:chOff x="3809880" y="533520"/>
              <a:chExt cx="2819520" cy="398520"/>
            </a:xfrm>
          </p:grpSpPr>
          <p:sp>
            <p:nvSpPr>
              <p:cNvPr id="1267" name=""/>
              <p:cNvSpPr/>
              <p:nvPr/>
            </p:nvSpPr>
            <p:spPr>
              <a:xfrm>
                <a:off x="4419720" y="685800"/>
                <a:ext cx="220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809880" y="76176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419720" y="533520"/>
                <a:ext cx="99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4138560" y="647640"/>
                <a:ext cx="184320" cy="170640"/>
                <a:chOff x="4138560" y="647640"/>
                <a:chExt cx="184320" cy="17064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4138560" y="707400"/>
                  <a:ext cx="18432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218120" y="647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3" name=""/>
          <p:cNvGrpSpPr/>
          <p:nvPr/>
        </p:nvGrpSpPr>
        <p:grpSpPr>
          <a:xfrm>
            <a:off x="3657600" y="385920"/>
            <a:ext cx="284040" cy="264600"/>
            <a:chOff x="3657600" y="385920"/>
            <a:chExt cx="284040" cy="264600"/>
          </a:xfrm>
        </p:grpSpPr>
        <p:sp>
          <p:nvSpPr>
            <p:cNvPr id="1274" name=""/>
            <p:cNvSpPr/>
            <p:nvPr/>
          </p:nvSpPr>
          <p:spPr>
            <a:xfrm>
              <a:off x="3798720" y="385920"/>
              <a:ext cx="180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5" name=""/>
            <p:cNvGrpSpPr/>
            <p:nvPr/>
          </p:nvGrpSpPr>
          <p:grpSpPr>
            <a:xfrm>
              <a:off x="3657600" y="457200"/>
              <a:ext cx="284040" cy="193320"/>
              <a:chOff x="3657600" y="457200"/>
              <a:chExt cx="284040" cy="193320"/>
            </a:xfrm>
          </p:grpSpPr>
          <p:sp>
            <p:nvSpPr>
              <p:cNvPr id="1276" name=""/>
              <p:cNvSpPr/>
              <p:nvPr/>
            </p:nvSpPr>
            <p:spPr>
              <a:xfrm>
                <a:off x="3657600" y="457200"/>
                <a:ext cx="284040" cy="193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3660480" y="459720"/>
                <a:ext cx="27648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657600" y="460080"/>
                <a:ext cx="28260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9" name=""/>
          <p:cNvGrpSpPr/>
          <p:nvPr/>
        </p:nvGrpSpPr>
        <p:grpSpPr>
          <a:xfrm>
            <a:off x="3817800" y="1295280"/>
            <a:ext cx="2811600" cy="246240"/>
            <a:chOff x="3817800" y="1295280"/>
            <a:chExt cx="2811600" cy="246240"/>
          </a:xfrm>
        </p:grpSpPr>
        <p:sp>
          <p:nvSpPr>
            <p:cNvPr id="1280" name=""/>
            <p:cNvSpPr/>
            <p:nvPr/>
          </p:nvSpPr>
          <p:spPr>
            <a:xfrm>
              <a:off x="4419720" y="129528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PM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17800" y="141768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4114800" y="1295280"/>
              <a:ext cx="231840" cy="198360"/>
              <a:chOff x="4114800" y="1295280"/>
              <a:chExt cx="231840" cy="19836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4114800" y="1341360"/>
                <a:ext cx="231840" cy="152280"/>
                <a:chOff x="4114800" y="1341360"/>
                <a:chExt cx="231840" cy="15228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4114800" y="1341360"/>
                  <a:ext cx="231840" cy="1522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4114800" y="1341360"/>
                  <a:ext cx="55800" cy="15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V="1">
                  <a:off x="4114800" y="1343160"/>
                  <a:ext cx="228240" cy="14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4116960" y="1341360"/>
                  <a:ext cx="225720" cy="14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192560" y="1295280"/>
                <a:ext cx="74520" cy="28080"/>
                <a:chOff x="4192560" y="1295280"/>
                <a:chExt cx="74520" cy="2808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192560" y="1295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240080" y="1296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91" name=""/>
          <p:cNvGrpSpPr/>
          <p:nvPr/>
        </p:nvGrpSpPr>
        <p:grpSpPr>
          <a:xfrm>
            <a:off x="3809880" y="990720"/>
            <a:ext cx="2974680" cy="246240"/>
            <a:chOff x="3809880" y="990720"/>
            <a:chExt cx="2974680" cy="246240"/>
          </a:xfrm>
        </p:grpSpPr>
        <p:sp>
          <p:nvSpPr>
            <p:cNvPr id="1292" name=""/>
            <p:cNvSpPr/>
            <p:nvPr/>
          </p:nvSpPr>
          <p:spPr>
            <a:xfrm>
              <a:off x="4422600" y="990720"/>
              <a:ext cx="236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09880" y="110520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4117680" y="997200"/>
              <a:ext cx="231840" cy="198360"/>
              <a:chOff x="4117680" y="997200"/>
              <a:chExt cx="231840" cy="1983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4117680" y="1038600"/>
                <a:ext cx="231840" cy="156960"/>
                <a:chOff x="4117680" y="1038600"/>
                <a:chExt cx="231840" cy="1569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4117680" y="103860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V="1">
                  <a:off x="4119840" y="104076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117680" y="104076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195440" y="997200"/>
                <a:ext cx="74520" cy="28080"/>
                <a:chOff x="4195440" y="997200"/>
                <a:chExt cx="74520" cy="2808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195440" y="9972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242960" y="998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2" name=""/>
          <p:cNvSpPr/>
          <p:nvPr/>
        </p:nvSpPr>
        <p:spPr>
          <a:xfrm>
            <a:off x="3352680" y="198108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38480" y="22860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ne Weapon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16360" y="2552760"/>
            <a:ext cx="3240" cy="2095560"/>
          </a:xfrm>
          <a:custGeom>
            <a:avLst/>
            <a:gdLst/>
            <a:ahLst/>
            <a:rect l="l" t="t" r="r" b="b"/>
            <a:pathLst>
              <a:path w="2" h="1320">
                <a:moveTo>
                  <a:pt x="0" y="0"/>
                </a:moveTo>
                <a:lnTo>
                  <a:pt x="2" y="1320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657600" y="2290680"/>
            <a:ext cx="284040" cy="265320"/>
            <a:chOff x="3657600" y="2290680"/>
            <a:chExt cx="284040" cy="265320"/>
          </a:xfrm>
        </p:grpSpPr>
        <p:sp>
          <p:nvSpPr>
            <p:cNvPr id="1306" name=""/>
            <p:cNvSpPr/>
            <p:nvPr/>
          </p:nvSpPr>
          <p:spPr>
            <a:xfrm>
              <a:off x="3798720" y="2290680"/>
              <a:ext cx="180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3657600" y="2362320"/>
              <a:ext cx="284040" cy="193680"/>
              <a:chOff x="3657600" y="2362320"/>
              <a:chExt cx="284040" cy="193680"/>
            </a:xfrm>
          </p:grpSpPr>
          <p:sp>
            <p:nvSpPr>
              <p:cNvPr id="1308" name=""/>
              <p:cNvSpPr/>
              <p:nvPr/>
            </p:nvSpPr>
            <p:spPr>
              <a:xfrm>
                <a:off x="3657600" y="236232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3660480" y="236520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657600" y="236520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>
            <a:off x="4419720" y="288756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809880" y="2735280"/>
            <a:ext cx="30024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145040" y="2817720"/>
            <a:ext cx="0" cy="684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343400" y="250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419720" y="265896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4114800" y="2625840"/>
            <a:ext cx="231840" cy="199800"/>
            <a:chOff x="4114800" y="2625840"/>
            <a:chExt cx="231840" cy="199800"/>
          </a:xfrm>
        </p:grpSpPr>
        <p:grpSp>
          <p:nvGrpSpPr>
            <p:cNvPr id="1317" name=""/>
            <p:cNvGrpSpPr/>
            <p:nvPr/>
          </p:nvGrpSpPr>
          <p:grpSpPr>
            <a:xfrm>
              <a:off x="4114800" y="2668680"/>
              <a:ext cx="231840" cy="156960"/>
              <a:chOff x="4114800" y="2668680"/>
              <a:chExt cx="231840" cy="156960"/>
            </a:xfrm>
          </p:grpSpPr>
          <p:sp>
            <p:nvSpPr>
              <p:cNvPr id="1318" name=""/>
              <p:cNvSpPr/>
              <p:nvPr/>
            </p:nvSpPr>
            <p:spPr>
              <a:xfrm>
                <a:off x="4114800" y="266868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38560" y="2690640"/>
                <a:ext cx="18432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4213440" y="2625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4114800" y="2840040"/>
            <a:ext cx="231840" cy="237240"/>
            <a:chOff x="4114800" y="2840040"/>
            <a:chExt cx="231840" cy="237240"/>
          </a:xfrm>
        </p:grpSpPr>
        <p:grpSp>
          <p:nvGrpSpPr>
            <p:cNvPr id="1322" name=""/>
            <p:cNvGrpSpPr/>
            <p:nvPr/>
          </p:nvGrpSpPr>
          <p:grpSpPr>
            <a:xfrm>
              <a:off x="4114800" y="2887200"/>
              <a:ext cx="231840" cy="190080"/>
              <a:chOff x="4114800" y="2887200"/>
              <a:chExt cx="231840" cy="190080"/>
            </a:xfrm>
          </p:grpSpPr>
          <p:sp>
            <p:nvSpPr>
              <p:cNvPr id="1323" name=""/>
              <p:cNvSpPr/>
              <p:nvPr/>
            </p:nvSpPr>
            <p:spPr>
              <a:xfrm>
                <a:off x="4114800" y="288720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125240" y="304992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307040" y="304992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>
              <a:off x="4213440" y="28400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3809880" y="3359160"/>
            <a:ext cx="40644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29080" y="3244680"/>
            <a:ext cx="22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mm 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4114800" y="3282840"/>
            <a:ext cx="239760" cy="157320"/>
            <a:chOff x="4114800" y="3282840"/>
            <a:chExt cx="239760" cy="157320"/>
          </a:xfrm>
        </p:grpSpPr>
        <p:sp>
          <p:nvSpPr>
            <p:cNvPr id="1330" name=""/>
            <p:cNvSpPr/>
            <p:nvPr/>
          </p:nvSpPr>
          <p:spPr>
            <a:xfrm>
              <a:off x="4114800" y="3282840"/>
              <a:ext cx="23976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4235400" y="3304080"/>
              <a:ext cx="216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199400" y="340776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4168800" y="3241800"/>
            <a:ext cx="131760" cy="27000"/>
            <a:chOff x="4168800" y="3241800"/>
            <a:chExt cx="131760" cy="27000"/>
          </a:xfrm>
        </p:grpSpPr>
        <p:sp>
          <p:nvSpPr>
            <p:cNvPr id="1334" name=""/>
            <p:cNvSpPr/>
            <p:nvPr/>
          </p:nvSpPr>
          <p:spPr>
            <a:xfrm>
              <a:off x="4168800" y="3241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219560" y="3241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273560" y="3241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4419720" y="34909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45040" y="3421080"/>
            <a:ext cx="0" cy="684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4114800" y="3490920"/>
            <a:ext cx="231840" cy="190080"/>
            <a:chOff x="4114800" y="3490920"/>
            <a:chExt cx="231840" cy="190080"/>
          </a:xfrm>
        </p:grpSpPr>
        <p:sp>
          <p:nvSpPr>
            <p:cNvPr id="1340" name=""/>
            <p:cNvSpPr/>
            <p:nvPr/>
          </p:nvSpPr>
          <p:spPr>
            <a:xfrm>
              <a:off x="4114800" y="3490920"/>
              <a:ext cx="23184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25240" y="365364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07040" y="3653640"/>
              <a:ext cx="2736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4419720" y="39225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M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4114800" y="3922560"/>
            <a:ext cx="231840" cy="152640"/>
            <a:chOff x="4114800" y="3922560"/>
            <a:chExt cx="231840" cy="152640"/>
          </a:xfrm>
        </p:grpSpPr>
        <p:sp>
          <p:nvSpPr>
            <p:cNvPr id="1345" name=""/>
            <p:cNvSpPr/>
            <p:nvPr/>
          </p:nvSpPr>
          <p:spPr>
            <a:xfrm>
              <a:off x="4114800" y="3922560"/>
              <a:ext cx="23184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14800" y="3922560"/>
              <a:ext cx="55800" cy="151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4114800" y="3924360"/>
              <a:ext cx="22824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16960" y="3922560"/>
              <a:ext cx="22572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3833640" y="3983040"/>
            <a:ext cx="27648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4164120" y="3878280"/>
            <a:ext cx="131760" cy="27000"/>
            <a:chOff x="4164120" y="3878280"/>
            <a:chExt cx="131760" cy="27000"/>
          </a:xfrm>
        </p:grpSpPr>
        <p:sp>
          <p:nvSpPr>
            <p:cNvPr id="1351" name=""/>
            <p:cNvSpPr/>
            <p:nvPr/>
          </p:nvSpPr>
          <p:spPr>
            <a:xfrm>
              <a:off x="4164120" y="3878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14880" y="3878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268880" y="3878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4419720" y="416736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46480" y="4064040"/>
            <a:ext cx="1800" cy="101520"/>
          </a:xfrm>
          <a:custGeom>
            <a:avLst/>
            <a:gdLst/>
            <a:ahLst/>
            <a:rect l="l" t="t" r="r" b="b"/>
            <a:pathLst>
              <a:path w="1" h="64">
                <a:moveTo>
                  <a:pt x="1" y="0"/>
                </a:moveTo>
                <a:lnTo>
                  <a:pt x="0" y="64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4114800" y="4167360"/>
            <a:ext cx="231840" cy="190080"/>
            <a:chOff x="4114800" y="4167360"/>
            <a:chExt cx="231840" cy="190080"/>
          </a:xfrm>
        </p:grpSpPr>
        <p:sp>
          <p:nvSpPr>
            <p:cNvPr id="1357" name=""/>
            <p:cNvSpPr/>
            <p:nvPr/>
          </p:nvSpPr>
          <p:spPr>
            <a:xfrm>
              <a:off x="4114800" y="4167360"/>
              <a:ext cx="23184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25240" y="433008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07040" y="4330080"/>
              <a:ext cx="2736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3809880" y="4664160"/>
            <a:ext cx="27648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118040" y="4749840"/>
            <a:ext cx="1440" cy="122040"/>
          </a:xfrm>
          <a:custGeom>
            <a:avLst/>
            <a:gdLst/>
            <a:ahLst/>
            <a:rect l="l" t="t" r="r" b="b"/>
            <a:pathLst>
              <a:path w="1" h="77">
                <a:moveTo>
                  <a:pt x="1" y="0"/>
                </a:moveTo>
                <a:lnTo>
                  <a:pt x="0" y="77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0960" y="4560120"/>
            <a:ext cx="103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ragon AT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308840" y="477612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349880" y="4868280"/>
            <a:ext cx="60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4087800" y="4883040"/>
            <a:ext cx="231840" cy="190440"/>
            <a:chOff x="4087800" y="4883040"/>
            <a:chExt cx="231840" cy="190440"/>
          </a:xfrm>
        </p:grpSpPr>
        <p:sp>
          <p:nvSpPr>
            <p:cNvPr id="1366" name=""/>
            <p:cNvSpPr/>
            <p:nvPr/>
          </p:nvSpPr>
          <p:spPr>
            <a:xfrm>
              <a:off x="4087800" y="4883040"/>
              <a:ext cx="23184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098960" y="5046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80040" y="5046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4087800" y="4594320"/>
            <a:ext cx="231840" cy="156960"/>
            <a:chOff x="4087800" y="4594320"/>
            <a:chExt cx="231840" cy="156960"/>
          </a:xfrm>
        </p:grpSpPr>
        <p:sp>
          <p:nvSpPr>
            <p:cNvPr id="1370" name=""/>
            <p:cNvSpPr/>
            <p:nvPr/>
          </p:nvSpPr>
          <p:spPr>
            <a:xfrm>
              <a:off x="4087800" y="4594320"/>
              <a:ext cx="23184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4087800" y="4597560"/>
              <a:ext cx="11376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01560" y="4594320"/>
              <a:ext cx="113760" cy="1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4138560" y="4564080"/>
            <a:ext cx="131760" cy="27000"/>
            <a:chOff x="4138560" y="4564080"/>
            <a:chExt cx="131760" cy="27000"/>
          </a:xfrm>
        </p:grpSpPr>
        <p:sp>
          <p:nvSpPr>
            <p:cNvPr id="1374" name=""/>
            <p:cNvSpPr/>
            <p:nvPr/>
          </p:nvSpPr>
          <p:spPr>
            <a:xfrm>
              <a:off x="4138560" y="4564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89320" y="4564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43320" y="4564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3941640" y="563868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 Battery 3/10 Artill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657600" y="5562720"/>
            <a:ext cx="283680" cy="256320"/>
            <a:chOff x="3657600" y="5562720"/>
            <a:chExt cx="283680" cy="256320"/>
          </a:xfrm>
        </p:grpSpPr>
        <p:grpSp>
          <p:nvGrpSpPr>
            <p:cNvPr id="1379" name=""/>
            <p:cNvGrpSpPr/>
            <p:nvPr/>
          </p:nvGrpSpPr>
          <p:grpSpPr>
            <a:xfrm>
              <a:off x="3657600" y="5626080"/>
              <a:ext cx="283680" cy="192960"/>
              <a:chOff x="3657600" y="5626080"/>
              <a:chExt cx="283680" cy="192960"/>
            </a:xfrm>
          </p:grpSpPr>
          <p:sp>
            <p:nvSpPr>
              <p:cNvPr id="1380" name=""/>
              <p:cNvSpPr/>
              <p:nvPr/>
            </p:nvSpPr>
            <p:spPr>
              <a:xfrm>
                <a:off x="3657600" y="562608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772080" y="569412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98720" y="5562720"/>
              <a:ext cx="0" cy="72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352680" y="52117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968640" y="7370640"/>
            <a:ext cx="303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 Battery 3/10 Artillery deployed as Infa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00520" y="7691400"/>
            <a:ext cx="0" cy="7873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657600" y="7380360"/>
            <a:ext cx="284040" cy="271440"/>
            <a:chOff x="3657600" y="7380360"/>
            <a:chExt cx="284040" cy="271440"/>
          </a:xfrm>
        </p:grpSpPr>
        <p:sp>
          <p:nvSpPr>
            <p:cNvPr id="1387" name=""/>
            <p:cNvSpPr/>
            <p:nvPr/>
          </p:nvSpPr>
          <p:spPr>
            <a:xfrm>
              <a:off x="3798720" y="7380360"/>
              <a:ext cx="180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3657600" y="7458120"/>
              <a:ext cx="284040" cy="193680"/>
              <a:chOff x="3657600" y="7458120"/>
              <a:chExt cx="284040" cy="193680"/>
            </a:xfrm>
          </p:grpSpPr>
          <p:sp>
            <p:nvSpPr>
              <p:cNvPr id="1389" name=""/>
              <p:cNvSpPr/>
              <p:nvPr/>
            </p:nvSpPr>
            <p:spPr>
              <a:xfrm>
                <a:off x="3657600" y="745812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660480" y="746100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657600" y="746100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2" name=""/>
          <p:cNvGrpSpPr/>
          <p:nvPr/>
        </p:nvGrpSpPr>
        <p:grpSpPr>
          <a:xfrm>
            <a:off x="3797280" y="8061480"/>
            <a:ext cx="2975040" cy="246240"/>
            <a:chOff x="3797280" y="8061480"/>
            <a:chExt cx="2975040" cy="246240"/>
          </a:xfrm>
        </p:grpSpPr>
        <p:sp>
          <p:nvSpPr>
            <p:cNvPr id="1393" name=""/>
            <p:cNvSpPr/>
            <p:nvPr/>
          </p:nvSpPr>
          <p:spPr>
            <a:xfrm>
              <a:off x="4410000" y="8061480"/>
              <a:ext cx="236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97280" y="817596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4105080" y="8067960"/>
              <a:ext cx="231840" cy="198360"/>
              <a:chOff x="4105080" y="8067960"/>
              <a:chExt cx="231840" cy="19836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4105080" y="8109000"/>
                <a:ext cx="231840" cy="157320"/>
                <a:chOff x="4105080" y="8109000"/>
                <a:chExt cx="231840" cy="1573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105080" y="8109000"/>
                  <a:ext cx="23184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V="1">
                  <a:off x="4107240" y="811080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105080" y="811116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182840" y="8067960"/>
                <a:ext cx="74520" cy="28080"/>
                <a:chOff x="4182840" y="8067960"/>
                <a:chExt cx="74520" cy="2808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182840" y="80679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230360" y="8069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03" name=""/>
          <p:cNvGrpSpPr/>
          <p:nvPr/>
        </p:nvGrpSpPr>
        <p:grpSpPr>
          <a:xfrm>
            <a:off x="3800520" y="7604280"/>
            <a:ext cx="2819160" cy="398520"/>
            <a:chOff x="3800520" y="7604280"/>
            <a:chExt cx="2819160" cy="398520"/>
          </a:xfrm>
        </p:grpSpPr>
        <p:sp>
          <p:nvSpPr>
            <p:cNvPr id="1404" name=""/>
            <p:cNvSpPr/>
            <p:nvPr/>
          </p:nvSpPr>
          <p:spPr>
            <a:xfrm>
              <a:off x="4410000" y="775656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800520" y="783288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0000" y="760428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4105080" y="7718760"/>
              <a:ext cx="231840" cy="195120"/>
              <a:chOff x="4105080" y="7718760"/>
              <a:chExt cx="231840" cy="195120"/>
            </a:xfrm>
          </p:grpSpPr>
          <p:sp>
            <p:nvSpPr>
              <p:cNvPr id="1408" name=""/>
              <p:cNvSpPr/>
              <p:nvPr/>
            </p:nvSpPr>
            <p:spPr>
              <a:xfrm>
                <a:off x="4105080" y="7756560"/>
                <a:ext cx="23184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129200" y="7778880"/>
                <a:ext cx="18396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211640" y="7718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1" name=""/>
          <p:cNvGrpSpPr/>
          <p:nvPr/>
        </p:nvGrpSpPr>
        <p:grpSpPr>
          <a:xfrm>
            <a:off x="3808440" y="8366040"/>
            <a:ext cx="2811240" cy="246240"/>
            <a:chOff x="3808440" y="8366040"/>
            <a:chExt cx="2811240" cy="246240"/>
          </a:xfrm>
        </p:grpSpPr>
        <p:sp>
          <p:nvSpPr>
            <p:cNvPr id="1412" name=""/>
            <p:cNvSpPr/>
            <p:nvPr/>
          </p:nvSpPr>
          <p:spPr>
            <a:xfrm>
              <a:off x="4410000" y="836604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PM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4105080" y="8366040"/>
              <a:ext cx="231840" cy="198360"/>
              <a:chOff x="4105080" y="8366040"/>
              <a:chExt cx="231840" cy="198360"/>
            </a:xfrm>
          </p:grpSpPr>
          <p:grpSp>
            <p:nvGrpSpPr>
              <p:cNvPr id="1414" name=""/>
              <p:cNvGrpSpPr/>
              <p:nvPr/>
            </p:nvGrpSpPr>
            <p:grpSpPr>
              <a:xfrm>
                <a:off x="4105080" y="8412120"/>
                <a:ext cx="231840" cy="152280"/>
                <a:chOff x="4105080" y="8412120"/>
                <a:chExt cx="231840" cy="15228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4105080" y="8412120"/>
                  <a:ext cx="231840" cy="1522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4105080" y="8412120"/>
                  <a:ext cx="55800" cy="15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V="1">
                  <a:off x="4105080" y="8413920"/>
                  <a:ext cx="228240" cy="14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4107240" y="8412120"/>
                  <a:ext cx="225720" cy="14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4182840" y="8366040"/>
                <a:ext cx="74520" cy="28080"/>
                <a:chOff x="4182840" y="8366040"/>
                <a:chExt cx="74520" cy="2808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4182840" y="8366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4230360" y="83674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2" name=""/>
            <p:cNvSpPr/>
            <p:nvPr/>
          </p:nvSpPr>
          <p:spPr>
            <a:xfrm>
              <a:off x="3808440" y="848808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3760920" y="5802480"/>
            <a:ext cx="2868480" cy="1362240"/>
            <a:chOff x="3760920" y="5802480"/>
            <a:chExt cx="2868480" cy="1362240"/>
          </a:xfrm>
        </p:grpSpPr>
        <p:sp>
          <p:nvSpPr>
            <p:cNvPr id="1424" name=""/>
            <p:cNvSpPr/>
            <p:nvPr/>
          </p:nvSpPr>
          <p:spPr>
            <a:xfrm>
              <a:off x="3760920" y="672768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370400" y="6456240"/>
              <a:ext cx="22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n or Off-Board Organic Fire Support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146480" y="6172200"/>
              <a:ext cx="1800" cy="10152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1" y="0"/>
                  </a:moveTo>
                  <a:lnTo>
                    <a:pt x="0" y="64"/>
                  </a:lnTo>
                </a:path>
              </a:pathLst>
            </a:custGeom>
            <a:noFill/>
            <a:ln w="15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46480" y="6815160"/>
              <a:ext cx="1800" cy="10152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1" y="0"/>
                  </a:moveTo>
                  <a:lnTo>
                    <a:pt x="0" y="64"/>
                  </a:lnTo>
                </a:path>
              </a:pathLst>
            </a:custGeom>
            <a:noFill/>
            <a:ln w="15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3760920" y="5802480"/>
              <a:ext cx="2868480" cy="1362240"/>
              <a:chOff x="3760920" y="5802480"/>
              <a:chExt cx="2868480" cy="1362240"/>
            </a:xfrm>
          </p:grpSpPr>
          <p:sp>
            <p:nvSpPr>
              <p:cNvPr id="1429" name=""/>
              <p:cNvSpPr/>
              <p:nvPr/>
            </p:nvSpPr>
            <p:spPr>
              <a:xfrm>
                <a:off x="3760920" y="5802480"/>
                <a:ext cx="1440" cy="912600"/>
              </a:xfrm>
              <a:custGeom>
                <a:avLst/>
                <a:gdLst/>
                <a:ahLst/>
                <a:rect l="l" t="t" r="r" b="b"/>
                <a:pathLst>
                  <a:path w="1" h="575">
                    <a:moveTo>
                      <a:pt x="0" y="0"/>
                    </a:moveTo>
                    <a:lnTo>
                      <a:pt x="1" y="575"/>
                    </a:lnTo>
                  </a:path>
                </a:pathLst>
              </a:custGeom>
              <a:noFill/>
              <a:ln w="158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0" name=""/>
              <p:cNvGrpSpPr/>
              <p:nvPr/>
            </p:nvGrpSpPr>
            <p:grpSpPr>
              <a:xfrm>
                <a:off x="3760920" y="5842080"/>
                <a:ext cx="2792160" cy="398520"/>
                <a:chOff x="3760920" y="5842080"/>
                <a:chExt cx="2792160" cy="39852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4370400" y="5994360"/>
                  <a:ext cx="21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3760920" y="6070320"/>
                  <a:ext cx="299880" cy="144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4370400" y="5842080"/>
                  <a:ext cx="152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4" name=""/>
                <p:cNvGrpSpPr/>
                <p:nvPr/>
              </p:nvGrpSpPr>
              <p:grpSpPr>
                <a:xfrm>
                  <a:off x="4067280" y="5956200"/>
                  <a:ext cx="231840" cy="194400"/>
                  <a:chOff x="4067280" y="5956200"/>
                  <a:chExt cx="231840" cy="194400"/>
                </a:xfrm>
              </p:grpSpPr>
              <p:grpSp>
                <p:nvGrpSpPr>
                  <p:cNvPr id="1435" name=""/>
                  <p:cNvGrpSpPr/>
                  <p:nvPr/>
                </p:nvGrpSpPr>
                <p:grpSpPr>
                  <a:xfrm>
                    <a:off x="4067280" y="5994000"/>
                    <a:ext cx="231840" cy="156600"/>
                    <a:chOff x="4067280" y="5994000"/>
                    <a:chExt cx="231840" cy="156600"/>
                  </a:xfrm>
                </p:grpSpPr>
                <p:sp>
                  <p:nvSpPr>
                    <p:cNvPr id="1436" name=""/>
                    <p:cNvSpPr/>
                    <p:nvPr/>
                  </p:nvSpPr>
                  <p:spPr>
                    <a:xfrm>
                      <a:off x="4067280" y="5994000"/>
                      <a:ext cx="231840" cy="1566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7" name=""/>
                    <p:cNvSpPr/>
                    <p:nvPr/>
                  </p:nvSpPr>
                  <p:spPr>
                    <a:xfrm>
                      <a:off x="4150080" y="6043680"/>
                      <a:ext cx="55800" cy="55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38" name=""/>
                  <p:cNvSpPr/>
                  <p:nvPr/>
                </p:nvSpPr>
                <p:spPr>
                  <a:xfrm>
                    <a:off x="4170240" y="59562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39" name=""/>
              <p:cNvSpPr/>
              <p:nvPr/>
            </p:nvSpPr>
            <p:spPr>
              <a:xfrm>
                <a:off x="4373640" y="6613560"/>
                <a:ext cx="2255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55mm (Towed) Howitz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0" name=""/>
              <p:cNvGrpSpPr/>
              <p:nvPr/>
            </p:nvGrpSpPr>
            <p:grpSpPr>
              <a:xfrm>
                <a:off x="4060800" y="6620040"/>
                <a:ext cx="231840" cy="209160"/>
                <a:chOff x="4060800" y="6620040"/>
                <a:chExt cx="231840" cy="209160"/>
              </a:xfrm>
            </p:grpSpPr>
            <p:grpSp>
              <p:nvGrpSpPr>
                <p:cNvPr id="1441" name=""/>
                <p:cNvGrpSpPr/>
                <p:nvPr/>
              </p:nvGrpSpPr>
              <p:grpSpPr>
                <a:xfrm>
                  <a:off x="4140360" y="6620040"/>
                  <a:ext cx="74520" cy="28080"/>
                  <a:chOff x="4140360" y="6620040"/>
                  <a:chExt cx="74520" cy="2808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4140360" y="6620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4187880" y="6621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4060800" y="6672240"/>
                  <a:ext cx="231840" cy="156960"/>
                  <a:chOff x="4060800" y="6672240"/>
                  <a:chExt cx="231840" cy="15696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4060800" y="667224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4154400" y="6727320"/>
                    <a:ext cx="460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47" name=""/>
              <p:cNvSpPr/>
              <p:nvPr/>
            </p:nvSpPr>
            <p:spPr>
              <a:xfrm>
                <a:off x="4419720" y="62755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Jee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8" name=""/>
              <p:cNvGrpSpPr/>
              <p:nvPr/>
            </p:nvGrpSpPr>
            <p:grpSpPr>
              <a:xfrm>
                <a:off x="4114800" y="6275520"/>
                <a:ext cx="231840" cy="190080"/>
                <a:chOff x="4114800" y="6275520"/>
                <a:chExt cx="231840" cy="19008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4114800" y="627552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4125240" y="64382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4307040" y="643824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2" name=""/>
              <p:cNvSpPr/>
              <p:nvPr/>
            </p:nvSpPr>
            <p:spPr>
              <a:xfrm>
                <a:off x="4419720" y="691848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edium Tru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3" name=""/>
              <p:cNvGrpSpPr/>
              <p:nvPr/>
            </p:nvGrpSpPr>
            <p:grpSpPr>
              <a:xfrm>
                <a:off x="4114800" y="6918480"/>
                <a:ext cx="231840" cy="190080"/>
                <a:chOff x="4114800" y="6918480"/>
                <a:chExt cx="231840" cy="19008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4114800" y="691848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4125240" y="70812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4307040" y="70812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7" name=""/>
          <p:cNvGrpSpPr/>
          <p:nvPr/>
        </p:nvGrpSpPr>
        <p:grpSpPr>
          <a:xfrm>
            <a:off x="304920" y="304920"/>
            <a:ext cx="284040" cy="239760"/>
            <a:chOff x="304920" y="304920"/>
            <a:chExt cx="284040" cy="239760"/>
          </a:xfrm>
        </p:grpSpPr>
        <p:grpSp>
          <p:nvGrpSpPr>
            <p:cNvPr id="1458" name=""/>
            <p:cNvGrpSpPr/>
            <p:nvPr/>
          </p:nvGrpSpPr>
          <p:grpSpPr>
            <a:xfrm>
              <a:off x="381240" y="304920"/>
              <a:ext cx="131760" cy="27000"/>
              <a:chOff x="381240" y="304920"/>
              <a:chExt cx="131760" cy="270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81240" y="304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32000" y="304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86000" y="304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304920" y="351000"/>
              <a:ext cx="284040" cy="193680"/>
              <a:chOff x="304920" y="351000"/>
              <a:chExt cx="284040" cy="193680"/>
            </a:xfrm>
          </p:grpSpPr>
          <p:sp>
            <p:nvSpPr>
              <p:cNvPr id="1463" name=""/>
              <p:cNvSpPr/>
              <p:nvPr/>
            </p:nvSpPr>
            <p:spPr>
              <a:xfrm>
                <a:off x="304920" y="35100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56760" y="399240"/>
                <a:ext cx="182160" cy="925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5" name=""/>
          <p:cNvSpPr/>
          <p:nvPr/>
        </p:nvSpPr>
        <p:spPr>
          <a:xfrm>
            <a:off x="609480" y="30492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d Plt, A Co 2d Tank B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0" y="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0880" y="585720"/>
            <a:ext cx="0" cy="33516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380520" y="457200"/>
            <a:ext cx="2581560" cy="370080"/>
            <a:chOff x="380520" y="457200"/>
            <a:chExt cx="2581560" cy="370080"/>
          </a:xfrm>
        </p:grpSpPr>
        <p:sp>
          <p:nvSpPr>
            <p:cNvPr id="1469" name=""/>
            <p:cNvSpPr/>
            <p:nvPr/>
          </p:nvSpPr>
          <p:spPr>
            <a:xfrm flipH="1">
              <a:off x="380520" y="695520"/>
              <a:ext cx="2984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0" name=""/>
            <p:cNvGrpSpPr/>
            <p:nvPr/>
          </p:nvGrpSpPr>
          <p:grpSpPr>
            <a:xfrm>
              <a:off x="685800" y="557280"/>
              <a:ext cx="231480" cy="216000"/>
              <a:chOff x="685800" y="557280"/>
              <a:chExt cx="231480" cy="216000"/>
            </a:xfrm>
          </p:grpSpPr>
          <p:grpSp>
            <p:nvGrpSpPr>
              <p:cNvPr id="1471" name=""/>
              <p:cNvGrpSpPr/>
              <p:nvPr/>
            </p:nvGrpSpPr>
            <p:grpSpPr>
              <a:xfrm>
                <a:off x="685800" y="615960"/>
                <a:ext cx="231480" cy="157320"/>
                <a:chOff x="685800" y="615960"/>
                <a:chExt cx="231480" cy="15732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685800" y="615960"/>
                  <a:ext cx="23148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28280" y="655200"/>
                  <a:ext cx="148320" cy="748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4" name=""/>
              <p:cNvGrpSpPr/>
              <p:nvPr/>
            </p:nvGrpSpPr>
            <p:grpSpPr>
              <a:xfrm>
                <a:off x="763560" y="557280"/>
                <a:ext cx="74520" cy="28080"/>
                <a:chOff x="763560" y="557280"/>
                <a:chExt cx="74520" cy="2808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763560" y="557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11080" y="558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7" name=""/>
            <p:cNvSpPr/>
            <p:nvPr/>
          </p:nvSpPr>
          <p:spPr>
            <a:xfrm>
              <a:off x="914400" y="45720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981000" y="58104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60A1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385560" y="800280"/>
            <a:ext cx="2585880" cy="255600"/>
            <a:chOff x="385560" y="800280"/>
            <a:chExt cx="2585880" cy="255600"/>
          </a:xfrm>
        </p:grpSpPr>
        <p:sp>
          <p:nvSpPr>
            <p:cNvPr id="1480" name=""/>
            <p:cNvSpPr/>
            <p:nvPr/>
          </p:nvSpPr>
          <p:spPr>
            <a:xfrm flipH="1">
              <a:off x="385560" y="922320"/>
              <a:ext cx="2948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685800" y="800280"/>
              <a:ext cx="231120" cy="201600"/>
              <a:chOff x="685800" y="800280"/>
              <a:chExt cx="231120" cy="201600"/>
            </a:xfrm>
          </p:grpSpPr>
          <p:grpSp>
            <p:nvGrpSpPr>
              <p:cNvPr id="1482" name=""/>
              <p:cNvGrpSpPr/>
              <p:nvPr/>
            </p:nvGrpSpPr>
            <p:grpSpPr>
              <a:xfrm>
                <a:off x="685800" y="844560"/>
                <a:ext cx="231120" cy="157320"/>
                <a:chOff x="685800" y="844560"/>
                <a:chExt cx="231120" cy="15732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685800" y="844560"/>
                  <a:ext cx="23112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727920" y="883800"/>
                  <a:ext cx="148320" cy="748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763200" y="800280"/>
                <a:ext cx="73800" cy="28080"/>
                <a:chOff x="763200" y="800280"/>
                <a:chExt cx="73800" cy="280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763200" y="80028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10360" y="8017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8" name=""/>
            <p:cNvSpPr/>
            <p:nvPr/>
          </p:nvSpPr>
          <p:spPr>
            <a:xfrm>
              <a:off x="990360" y="80964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60A1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436680" y="1371600"/>
            <a:ext cx="261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d Plt, D Co 2d Combat Engineer B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152280" y="1371600"/>
            <a:ext cx="284040" cy="239760"/>
            <a:chOff x="152280" y="1371600"/>
            <a:chExt cx="284040" cy="239760"/>
          </a:xfrm>
        </p:grpSpPr>
        <p:grpSp>
          <p:nvGrpSpPr>
            <p:cNvPr id="1491" name=""/>
            <p:cNvGrpSpPr/>
            <p:nvPr/>
          </p:nvGrpSpPr>
          <p:grpSpPr>
            <a:xfrm>
              <a:off x="228600" y="1371600"/>
              <a:ext cx="131760" cy="27000"/>
              <a:chOff x="228600" y="1371600"/>
              <a:chExt cx="131760" cy="27000"/>
            </a:xfrm>
          </p:grpSpPr>
          <p:sp>
            <p:nvSpPr>
              <p:cNvPr id="1492" name=""/>
              <p:cNvSpPr/>
              <p:nvPr/>
            </p:nvSpPr>
            <p:spPr>
              <a:xfrm>
                <a:off x="228600" y="1371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79360" y="1371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33360" y="1371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5" name=""/>
            <p:cNvSpPr/>
            <p:nvPr/>
          </p:nvSpPr>
          <p:spPr>
            <a:xfrm>
              <a:off x="152280" y="141768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6" name=""/>
            <p:cNvGrpSpPr/>
            <p:nvPr/>
          </p:nvGrpSpPr>
          <p:grpSpPr>
            <a:xfrm>
              <a:off x="228600" y="1484280"/>
              <a:ext cx="123840" cy="50760"/>
              <a:chOff x="228600" y="1484280"/>
              <a:chExt cx="123840" cy="507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35080" y="1484280"/>
                <a:ext cx="0" cy="5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90520" y="148752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43080" y="148752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28600" y="1487520"/>
                <a:ext cx="123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1" name=""/>
          <p:cNvSpPr/>
          <p:nvPr/>
        </p:nvSpPr>
        <p:spPr>
          <a:xfrm>
            <a:off x="0" y="1096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936720" y="20509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edium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82560" y="1905120"/>
            <a:ext cx="0" cy="1429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04920" y="1790640"/>
            <a:ext cx="29988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612720" y="1676520"/>
            <a:ext cx="231840" cy="199440"/>
            <a:chOff x="612720" y="1676520"/>
            <a:chExt cx="231840" cy="199440"/>
          </a:xfrm>
        </p:grpSpPr>
        <p:grpSp>
          <p:nvGrpSpPr>
            <p:cNvPr id="1506" name=""/>
            <p:cNvGrpSpPr/>
            <p:nvPr/>
          </p:nvGrpSpPr>
          <p:grpSpPr>
            <a:xfrm>
              <a:off x="612720" y="1719000"/>
              <a:ext cx="231840" cy="156960"/>
              <a:chOff x="612720" y="1719000"/>
              <a:chExt cx="231840" cy="156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12720" y="171900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84000" y="1766160"/>
                <a:ext cx="0" cy="50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25400" y="176868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66080" y="1770120"/>
                <a:ext cx="0" cy="46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79320" y="1768680"/>
                <a:ext cx="93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690480" y="1676520"/>
              <a:ext cx="74520" cy="27720"/>
              <a:chOff x="690480" y="1676520"/>
              <a:chExt cx="74520" cy="27720"/>
            </a:xfrm>
          </p:grpSpPr>
          <p:sp>
            <p:nvSpPr>
              <p:cNvPr id="1513" name=""/>
              <p:cNvSpPr/>
              <p:nvPr/>
            </p:nvSpPr>
            <p:spPr>
              <a:xfrm>
                <a:off x="690480" y="1676520"/>
                <a:ext cx="2844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38000" y="1677960"/>
                <a:ext cx="2700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5" name=""/>
          <p:cNvGrpSpPr/>
          <p:nvPr/>
        </p:nvGrpSpPr>
        <p:grpSpPr>
          <a:xfrm>
            <a:off x="631800" y="2011320"/>
            <a:ext cx="231840" cy="229680"/>
            <a:chOff x="631800" y="2011320"/>
            <a:chExt cx="231840" cy="229680"/>
          </a:xfrm>
        </p:grpSpPr>
        <p:grpSp>
          <p:nvGrpSpPr>
            <p:cNvPr id="1516" name=""/>
            <p:cNvGrpSpPr/>
            <p:nvPr/>
          </p:nvGrpSpPr>
          <p:grpSpPr>
            <a:xfrm>
              <a:off x="631800" y="2050920"/>
              <a:ext cx="231840" cy="190080"/>
              <a:chOff x="631800" y="2050920"/>
              <a:chExt cx="231840" cy="190080"/>
            </a:xfrm>
          </p:grpSpPr>
          <p:sp>
            <p:nvSpPr>
              <p:cNvPr id="1517" name=""/>
              <p:cNvSpPr/>
              <p:nvPr/>
            </p:nvSpPr>
            <p:spPr>
              <a:xfrm>
                <a:off x="631800" y="205092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42240" y="221364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24040" y="221364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711360" y="2011320"/>
              <a:ext cx="74520" cy="28080"/>
              <a:chOff x="711360" y="2011320"/>
              <a:chExt cx="74520" cy="28080"/>
            </a:xfrm>
          </p:grpSpPr>
          <p:sp>
            <p:nvSpPr>
              <p:cNvPr id="1521" name=""/>
              <p:cNvSpPr/>
              <p:nvPr/>
            </p:nvSpPr>
            <p:spPr>
              <a:xfrm>
                <a:off x="711360" y="20113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58880" y="20127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3" name=""/>
          <p:cNvSpPr/>
          <p:nvPr/>
        </p:nvSpPr>
        <p:spPr>
          <a:xfrm>
            <a:off x="304920" y="1600200"/>
            <a:ext cx="1440" cy="21276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8080" y="166068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bat Engine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82760" y="2960640"/>
            <a:ext cx="27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th Plt, A Co 2d Assault Amphibian BN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177840" y="2960640"/>
            <a:ext cx="284040" cy="239760"/>
            <a:chOff x="177840" y="2960640"/>
            <a:chExt cx="284040" cy="239760"/>
          </a:xfrm>
        </p:grpSpPr>
        <p:grpSp>
          <p:nvGrpSpPr>
            <p:cNvPr id="1527" name=""/>
            <p:cNvGrpSpPr/>
            <p:nvPr/>
          </p:nvGrpSpPr>
          <p:grpSpPr>
            <a:xfrm>
              <a:off x="253800" y="2960640"/>
              <a:ext cx="131040" cy="27000"/>
              <a:chOff x="253800" y="2960640"/>
              <a:chExt cx="131040" cy="27000"/>
            </a:xfrm>
          </p:grpSpPr>
          <p:sp>
            <p:nvSpPr>
              <p:cNvPr id="1528" name=""/>
              <p:cNvSpPr/>
              <p:nvPr/>
            </p:nvSpPr>
            <p:spPr>
              <a:xfrm>
                <a:off x="253800" y="29606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04200" y="296064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58200" y="29606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"/>
            <p:cNvSpPr/>
            <p:nvPr/>
          </p:nvSpPr>
          <p:spPr>
            <a:xfrm>
              <a:off x="177840" y="300672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28240" y="3057480"/>
              <a:ext cx="183960" cy="93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79280" y="3013200"/>
              <a:ext cx="280440" cy="182520"/>
            </a:xfrm>
            <a:custGeom>
              <a:avLst/>
              <a:gdLst/>
              <a:ahLst/>
              <a:rect l="l" t="t" r="r" b="b"/>
              <a:pathLst>
                <a:path w="177" h="115">
                  <a:moveTo>
                    <a:pt x="0" y="115"/>
                  </a:moveTo>
                  <a:lnTo>
                    <a:pt x="17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79280" y="3008160"/>
              <a:ext cx="282240" cy="192240"/>
            </a:xfrm>
            <a:custGeom>
              <a:avLst/>
              <a:gdLst/>
              <a:ahLst/>
              <a:rect l="l" t="t" r="r" b="b"/>
              <a:pathLst>
                <a:path w="178" h="121">
                  <a:moveTo>
                    <a:pt x="0" y="0"/>
                  </a:moveTo>
                  <a:lnTo>
                    <a:pt x="178" y="1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0" y="266688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304560" y="3213000"/>
            <a:ext cx="2581560" cy="370080"/>
            <a:chOff x="304560" y="3213000"/>
            <a:chExt cx="2581560" cy="370080"/>
          </a:xfrm>
        </p:grpSpPr>
        <p:grpSp>
          <p:nvGrpSpPr>
            <p:cNvPr id="1537" name=""/>
            <p:cNvGrpSpPr/>
            <p:nvPr/>
          </p:nvGrpSpPr>
          <p:grpSpPr>
            <a:xfrm>
              <a:off x="304560" y="3213000"/>
              <a:ext cx="2581560" cy="370080"/>
              <a:chOff x="304560" y="3213000"/>
              <a:chExt cx="2581560" cy="370080"/>
            </a:xfrm>
          </p:grpSpPr>
          <p:sp>
            <p:nvSpPr>
              <p:cNvPr id="1538" name=""/>
              <p:cNvSpPr/>
              <p:nvPr/>
            </p:nvSpPr>
            <p:spPr>
              <a:xfrm flipH="1">
                <a:off x="304560" y="345132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9" name=""/>
              <p:cNvGrpSpPr/>
              <p:nvPr/>
            </p:nvGrpSpPr>
            <p:grpSpPr>
              <a:xfrm>
                <a:off x="609840" y="3313080"/>
                <a:ext cx="231480" cy="216000"/>
                <a:chOff x="609840" y="3313080"/>
                <a:chExt cx="231480" cy="216000"/>
              </a:xfrm>
            </p:grpSpPr>
            <p:grpSp>
              <p:nvGrpSpPr>
                <p:cNvPr id="1540" name=""/>
                <p:cNvGrpSpPr/>
                <p:nvPr/>
              </p:nvGrpSpPr>
              <p:grpSpPr>
                <a:xfrm>
                  <a:off x="609840" y="3371760"/>
                  <a:ext cx="231480" cy="157320"/>
                  <a:chOff x="609840" y="3371760"/>
                  <a:chExt cx="231480" cy="15732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609840" y="3371760"/>
                    <a:ext cx="231480" cy="15732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52320" y="3411000"/>
                    <a:ext cx="148320" cy="748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3" name=""/>
                <p:cNvGrpSpPr/>
                <p:nvPr/>
              </p:nvGrpSpPr>
              <p:grpSpPr>
                <a:xfrm>
                  <a:off x="687600" y="3313080"/>
                  <a:ext cx="74520" cy="28080"/>
                  <a:chOff x="687600" y="3313080"/>
                  <a:chExt cx="74520" cy="2808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687600" y="3313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35120" y="3314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6" name=""/>
              <p:cNvSpPr/>
              <p:nvPr/>
            </p:nvSpPr>
            <p:spPr>
              <a:xfrm>
                <a:off x="838440" y="321300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905040" y="333684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LVTP-7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8" name=""/>
            <p:cNvSpPr/>
            <p:nvPr/>
          </p:nvSpPr>
          <p:spPr>
            <a:xfrm>
              <a:off x="612720" y="3369960"/>
              <a:ext cx="230400" cy="157320"/>
            </a:xfrm>
            <a:custGeom>
              <a:avLst/>
              <a:gdLst/>
              <a:ahLst/>
              <a:rect l="l" t="t" r="r" b="b"/>
              <a:pathLst>
                <a:path w="145" h="99">
                  <a:moveTo>
                    <a:pt x="0" y="99"/>
                  </a:moveTo>
                  <a:lnTo>
                    <a:pt x="1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2720" y="337644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142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307800" y="3200400"/>
            <a:ext cx="1800" cy="561960"/>
          </a:xfrm>
          <a:custGeom>
            <a:avLst/>
            <a:gdLst/>
            <a:ahLst/>
            <a:rect l="l" t="t" r="r" b="b"/>
            <a:pathLst>
              <a:path w="1" h="354">
                <a:moveTo>
                  <a:pt x="0" y="0"/>
                </a:moveTo>
                <a:lnTo>
                  <a:pt x="0" y="354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304560" y="3517920"/>
            <a:ext cx="2581560" cy="370080"/>
            <a:chOff x="304560" y="3517920"/>
            <a:chExt cx="2581560" cy="370080"/>
          </a:xfrm>
        </p:grpSpPr>
        <p:grpSp>
          <p:nvGrpSpPr>
            <p:cNvPr id="1552" name=""/>
            <p:cNvGrpSpPr/>
            <p:nvPr/>
          </p:nvGrpSpPr>
          <p:grpSpPr>
            <a:xfrm>
              <a:off x="304560" y="3517920"/>
              <a:ext cx="2581560" cy="370080"/>
              <a:chOff x="304560" y="3517920"/>
              <a:chExt cx="2581560" cy="370080"/>
            </a:xfrm>
          </p:grpSpPr>
          <p:sp>
            <p:nvSpPr>
              <p:cNvPr id="1553" name=""/>
              <p:cNvSpPr/>
              <p:nvPr/>
            </p:nvSpPr>
            <p:spPr>
              <a:xfrm flipH="1">
                <a:off x="304560" y="375624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4" name=""/>
              <p:cNvGrpSpPr/>
              <p:nvPr/>
            </p:nvGrpSpPr>
            <p:grpSpPr>
              <a:xfrm>
                <a:off x="609840" y="3618000"/>
                <a:ext cx="231480" cy="216000"/>
                <a:chOff x="609840" y="3618000"/>
                <a:chExt cx="231480" cy="216000"/>
              </a:xfrm>
            </p:grpSpPr>
            <p:grpSp>
              <p:nvGrpSpPr>
                <p:cNvPr id="1555" name=""/>
                <p:cNvGrpSpPr/>
                <p:nvPr/>
              </p:nvGrpSpPr>
              <p:grpSpPr>
                <a:xfrm>
                  <a:off x="609840" y="3676680"/>
                  <a:ext cx="231480" cy="157320"/>
                  <a:chOff x="609840" y="3676680"/>
                  <a:chExt cx="231480" cy="15732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609840" y="3676680"/>
                    <a:ext cx="231480" cy="15732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652320" y="3715920"/>
                    <a:ext cx="148320" cy="748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8" name=""/>
                <p:cNvGrpSpPr/>
                <p:nvPr/>
              </p:nvGrpSpPr>
              <p:grpSpPr>
                <a:xfrm>
                  <a:off x="687600" y="3618000"/>
                  <a:ext cx="74520" cy="28080"/>
                  <a:chOff x="687600" y="3618000"/>
                  <a:chExt cx="74520" cy="28080"/>
                </a:xfrm>
              </p:grpSpPr>
              <p:sp>
                <p:nvSpPr>
                  <p:cNvPr id="1559" name=""/>
                  <p:cNvSpPr/>
                  <p:nvPr/>
                </p:nvSpPr>
                <p:spPr>
                  <a:xfrm>
                    <a:off x="687600" y="3618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735120" y="3619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61" name=""/>
              <p:cNvSpPr/>
              <p:nvPr/>
            </p:nvSpPr>
            <p:spPr>
              <a:xfrm>
                <a:off x="838440" y="3517920"/>
                <a:ext cx="7617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905040" y="36417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LVTP-7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>
              <a:off x="612720" y="3674880"/>
              <a:ext cx="230400" cy="157320"/>
            </a:xfrm>
            <a:custGeom>
              <a:avLst/>
              <a:gdLst/>
              <a:ahLst/>
              <a:rect l="l" t="t" r="r" b="b"/>
              <a:pathLst>
                <a:path w="145" h="99">
                  <a:moveTo>
                    <a:pt x="0" y="99"/>
                  </a:moveTo>
                  <a:lnTo>
                    <a:pt x="1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12720" y="368136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142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5" name=""/>
          <p:cNvSpPr/>
          <p:nvPr/>
        </p:nvSpPr>
        <p:spPr>
          <a:xfrm>
            <a:off x="457200" y="426708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t Plt, A Co 2d Recon B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228600" y="4267080"/>
            <a:ext cx="131760" cy="27000"/>
            <a:chOff x="228600" y="4267080"/>
            <a:chExt cx="131760" cy="27000"/>
          </a:xfrm>
        </p:grpSpPr>
        <p:sp>
          <p:nvSpPr>
            <p:cNvPr id="1567" name=""/>
            <p:cNvSpPr/>
            <p:nvPr/>
          </p:nvSpPr>
          <p:spPr>
            <a:xfrm>
              <a:off x="228600" y="4267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79360" y="4267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3360" y="4267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152280" y="4313160"/>
            <a:ext cx="28440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54080" y="4319640"/>
            <a:ext cx="280800" cy="182520"/>
          </a:xfrm>
          <a:custGeom>
            <a:avLst/>
            <a:gdLst/>
            <a:ahLst/>
            <a:rect l="l" t="t" r="r" b="b"/>
            <a:pathLst>
              <a:path w="177" h="115">
                <a:moveTo>
                  <a:pt x="0" y="115"/>
                </a:moveTo>
                <a:lnTo>
                  <a:pt x="1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39625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28600" y="4495680"/>
            <a:ext cx="1440" cy="181080"/>
          </a:xfrm>
          <a:custGeom>
            <a:avLst/>
            <a:gdLst/>
            <a:ahLst/>
            <a:rect l="l" t="t" r="r" b="b"/>
            <a:pathLst>
              <a:path w="1" h="114">
                <a:moveTo>
                  <a:pt x="0" y="0"/>
                </a:moveTo>
                <a:lnTo>
                  <a:pt x="0" y="114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228600" y="4572000"/>
            <a:ext cx="2975040" cy="246240"/>
            <a:chOff x="228600" y="4572000"/>
            <a:chExt cx="2975040" cy="246240"/>
          </a:xfrm>
        </p:grpSpPr>
        <p:sp>
          <p:nvSpPr>
            <p:cNvPr id="1575" name=""/>
            <p:cNvSpPr/>
            <p:nvPr/>
          </p:nvSpPr>
          <p:spPr>
            <a:xfrm>
              <a:off x="841320" y="4572000"/>
              <a:ext cx="236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Recon Infan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600" y="468648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536400" y="4578480"/>
              <a:ext cx="231840" cy="198360"/>
              <a:chOff x="536400" y="4578480"/>
              <a:chExt cx="231840" cy="19836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536400" y="4619520"/>
                <a:ext cx="231840" cy="157320"/>
                <a:chOff x="536400" y="4619520"/>
                <a:chExt cx="231840" cy="15732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536400" y="4619520"/>
                  <a:ext cx="23184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V="1">
                  <a:off x="538560" y="462132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536400" y="462168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2" name=""/>
              <p:cNvGrpSpPr/>
              <p:nvPr/>
            </p:nvGrpSpPr>
            <p:grpSpPr>
              <a:xfrm>
                <a:off x="614160" y="4578480"/>
                <a:ext cx="74520" cy="28080"/>
                <a:chOff x="614160" y="4578480"/>
                <a:chExt cx="74520" cy="28080"/>
              </a:xfrm>
            </p:grpSpPr>
            <p:sp>
              <p:nvSpPr>
                <p:cNvPr id="1583" name=""/>
                <p:cNvSpPr/>
                <p:nvPr/>
              </p:nvSpPr>
              <p:spPr>
                <a:xfrm>
                  <a:off x="614160" y="4578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61680" y="4579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85" name=""/>
          <p:cNvGrpSpPr/>
          <p:nvPr/>
        </p:nvGrpSpPr>
        <p:grpSpPr>
          <a:xfrm>
            <a:off x="152280" y="5257800"/>
            <a:ext cx="231840" cy="200160"/>
            <a:chOff x="152280" y="5257800"/>
            <a:chExt cx="231840" cy="200160"/>
          </a:xfrm>
        </p:grpSpPr>
        <p:grpSp>
          <p:nvGrpSpPr>
            <p:cNvPr id="1586" name=""/>
            <p:cNvGrpSpPr/>
            <p:nvPr/>
          </p:nvGrpSpPr>
          <p:grpSpPr>
            <a:xfrm>
              <a:off x="152280" y="5300640"/>
              <a:ext cx="231840" cy="157320"/>
              <a:chOff x="152280" y="5300640"/>
              <a:chExt cx="231840" cy="157320"/>
            </a:xfrm>
          </p:grpSpPr>
          <p:sp>
            <p:nvSpPr>
              <p:cNvPr id="1587" name=""/>
              <p:cNvSpPr/>
              <p:nvPr/>
            </p:nvSpPr>
            <p:spPr>
              <a:xfrm>
                <a:off x="152280" y="5300640"/>
                <a:ext cx="23184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152280" y="5303520"/>
                <a:ext cx="113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66040" y="5300640"/>
                <a:ext cx="1137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230040" y="5257800"/>
              <a:ext cx="74520" cy="28080"/>
              <a:chOff x="230040" y="5257800"/>
              <a:chExt cx="74520" cy="28080"/>
            </a:xfrm>
          </p:grpSpPr>
          <p:sp>
            <p:nvSpPr>
              <p:cNvPr id="1591" name=""/>
              <p:cNvSpPr/>
              <p:nvPr/>
            </p:nvSpPr>
            <p:spPr>
              <a:xfrm>
                <a:off x="230040" y="5257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77560" y="5259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3" name=""/>
          <p:cNvSpPr/>
          <p:nvPr/>
        </p:nvSpPr>
        <p:spPr>
          <a:xfrm>
            <a:off x="482760" y="5261040"/>
            <a:ext cx="218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st Section, 1st Plt, AT Co 2d Tank B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0" y="495288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453960" y="5543640"/>
            <a:ext cx="231840" cy="199440"/>
            <a:chOff x="453960" y="5543640"/>
            <a:chExt cx="231840" cy="199440"/>
          </a:xfrm>
        </p:grpSpPr>
        <p:grpSp>
          <p:nvGrpSpPr>
            <p:cNvPr id="1596" name=""/>
            <p:cNvGrpSpPr/>
            <p:nvPr/>
          </p:nvGrpSpPr>
          <p:grpSpPr>
            <a:xfrm>
              <a:off x="453960" y="5586120"/>
              <a:ext cx="231840" cy="156960"/>
              <a:chOff x="453960" y="5586120"/>
              <a:chExt cx="231840" cy="156960"/>
            </a:xfrm>
          </p:grpSpPr>
          <p:sp>
            <p:nvSpPr>
              <p:cNvPr id="1597" name=""/>
              <p:cNvSpPr/>
              <p:nvPr/>
            </p:nvSpPr>
            <p:spPr>
              <a:xfrm>
                <a:off x="453960" y="558612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453960" y="5589360"/>
                <a:ext cx="1137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67720" y="5586120"/>
                <a:ext cx="1137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531720" y="5543640"/>
              <a:ext cx="74520" cy="27720"/>
              <a:chOff x="531720" y="5543640"/>
              <a:chExt cx="74520" cy="27720"/>
            </a:xfrm>
          </p:grpSpPr>
          <p:sp>
            <p:nvSpPr>
              <p:cNvPr id="1601" name=""/>
              <p:cNvSpPr/>
              <p:nvPr/>
            </p:nvSpPr>
            <p:spPr>
              <a:xfrm>
                <a:off x="531720" y="5543640"/>
                <a:ext cx="2844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240" y="5545080"/>
                <a:ext cx="2700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3" name=""/>
          <p:cNvSpPr/>
          <p:nvPr/>
        </p:nvSpPr>
        <p:spPr>
          <a:xfrm>
            <a:off x="228600" y="54864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72120" y="5526000"/>
            <a:ext cx="16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 with TOW AT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41280" y="6629400"/>
            <a:ext cx="1725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76320" y="6553080"/>
            <a:ext cx="284040" cy="255600"/>
            <a:chOff x="76320" y="6553080"/>
            <a:chExt cx="284040" cy="255600"/>
          </a:xfrm>
        </p:grpSpPr>
        <p:sp>
          <p:nvSpPr>
            <p:cNvPr id="1607" name=""/>
            <p:cNvSpPr/>
            <p:nvPr/>
          </p:nvSpPr>
          <p:spPr>
            <a:xfrm>
              <a:off x="222120" y="6553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6320" y="661500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9" name=""/>
            <p:cNvGrpSpPr/>
            <p:nvPr/>
          </p:nvGrpSpPr>
          <p:grpSpPr>
            <a:xfrm>
              <a:off x="112680" y="6659640"/>
              <a:ext cx="211320" cy="122040"/>
              <a:chOff x="112680" y="6659640"/>
              <a:chExt cx="211320" cy="122040"/>
            </a:xfrm>
          </p:grpSpPr>
          <p:grpSp>
            <p:nvGrpSpPr>
              <p:cNvPr id="1610" name=""/>
              <p:cNvGrpSpPr/>
              <p:nvPr/>
            </p:nvGrpSpPr>
            <p:grpSpPr>
              <a:xfrm>
                <a:off x="112680" y="6662880"/>
                <a:ext cx="206640" cy="109440"/>
                <a:chOff x="112680" y="6662880"/>
                <a:chExt cx="206640" cy="109440"/>
              </a:xfrm>
            </p:grpSpPr>
            <p:sp>
              <p:nvSpPr>
                <p:cNvPr id="1611" name=""/>
                <p:cNvSpPr/>
                <p:nvPr/>
              </p:nvSpPr>
              <p:spPr>
                <a:xfrm flipV="1">
                  <a:off x="113400" y="666288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112680" y="666288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3" name=""/>
              <p:cNvSpPr/>
              <p:nvPr/>
            </p:nvSpPr>
            <p:spPr>
              <a:xfrm>
                <a:off x="112680" y="665964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2200" y="666288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5" name=""/>
          <p:cNvSpPr/>
          <p:nvPr/>
        </p:nvSpPr>
        <p:spPr>
          <a:xfrm>
            <a:off x="0" y="62784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62160" y="6637320"/>
            <a:ext cx="273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um  Helicopter Company (A, B. &amp; C Compan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228600" y="6858000"/>
            <a:ext cx="1891800" cy="381240"/>
            <a:chOff x="228600" y="6858000"/>
            <a:chExt cx="1891800" cy="381240"/>
          </a:xfrm>
        </p:grpSpPr>
        <p:sp>
          <p:nvSpPr>
            <p:cNvPr id="1618" name=""/>
            <p:cNvSpPr/>
            <p:nvPr/>
          </p:nvSpPr>
          <p:spPr>
            <a:xfrm>
              <a:off x="228600" y="685800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0"/>
                  </a:moveTo>
                  <a:lnTo>
                    <a:pt x="0" y="144"/>
                  </a:lnTo>
                  <a:lnTo>
                    <a:pt x="144" y="144"/>
                  </a:ln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7200" y="699624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0" name=""/>
            <p:cNvGrpSpPr/>
            <p:nvPr/>
          </p:nvGrpSpPr>
          <p:grpSpPr>
            <a:xfrm>
              <a:off x="493560" y="7040520"/>
              <a:ext cx="211320" cy="122040"/>
              <a:chOff x="493560" y="7040520"/>
              <a:chExt cx="211320" cy="122040"/>
            </a:xfrm>
          </p:grpSpPr>
          <p:grpSp>
            <p:nvGrpSpPr>
              <p:cNvPr id="1621" name=""/>
              <p:cNvGrpSpPr/>
              <p:nvPr/>
            </p:nvGrpSpPr>
            <p:grpSpPr>
              <a:xfrm>
                <a:off x="493560" y="7043760"/>
                <a:ext cx="206640" cy="109440"/>
                <a:chOff x="493560" y="7043760"/>
                <a:chExt cx="206640" cy="109440"/>
              </a:xfrm>
            </p:grpSpPr>
            <p:sp>
              <p:nvSpPr>
                <p:cNvPr id="1622" name=""/>
                <p:cNvSpPr/>
                <p:nvPr/>
              </p:nvSpPr>
              <p:spPr>
                <a:xfrm flipV="1">
                  <a:off x="494280" y="704376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93560" y="704376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4" name=""/>
              <p:cNvSpPr/>
              <p:nvPr/>
            </p:nvSpPr>
            <p:spPr>
              <a:xfrm>
                <a:off x="493560" y="704052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03080" y="704376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533520" y="6934320"/>
              <a:ext cx="131760" cy="27000"/>
              <a:chOff x="533520" y="6934320"/>
              <a:chExt cx="131760" cy="27000"/>
            </a:xfrm>
          </p:grpSpPr>
          <p:sp>
            <p:nvSpPr>
              <p:cNvPr id="1627" name=""/>
              <p:cNvSpPr/>
              <p:nvPr/>
            </p:nvSpPr>
            <p:spPr>
              <a:xfrm>
                <a:off x="533520" y="6934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4280" y="6934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38280" y="6934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>
              <a:off x="748080" y="6993000"/>
              <a:ext cx="137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H-46 Sea Kn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1" name=""/>
          <p:cNvSpPr/>
          <p:nvPr/>
        </p:nvSpPr>
        <p:spPr>
          <a:xfrm>
            <a:off x="493560" y="8000280"/>
            <a:ext cx="232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chment Marine Heavy Helicopter Squadron 3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228600" y="8077320"/>
            <a:ext cx="284040" cy="193680"/>
            <a:chOff x="228600" y="8077320"/>
            <a:chExt cx="284040" cy="193680"/>
          </a:xfrm>
        </p:grpSpPr>
        <p:sp>
          <p:nvSpPr>
            <p:cNvPr id="1633" name=""/>
            <p:cNvSpPr/>
            <p:nvPr/>
          </p:nvSpPr>
          <p:spPr>
            <a:xfrm>
              <a:off x="228600" y="807732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4" name=""/>
            <p:cNvGrpSpPr/>
            <p:nvPr/>
          </p:nvGrpSpPr>
          <p:grpSpPr>
            <a:xfrm>
              <a:off x="264960" y="8121600"/>
              <a:ext cx="211320" cy="122040"/>
              <a:chOff x="264960" y="8121600"/>
              <a:chExt cx="211320" cy="12204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264960" y="8124840"/>
                <a:ext cx="206640" cy="109440"/>
                <a:chOff x="264960" y="8124840"/>
                <a:chExt cx="206640" cy="109440"/>
              </a:xfrm>
            </p:grpSpPr>
            <p:sp>
              <p:nvSpPr>
                <p:cNvPr id="1636" name=""/>
                <p:cNvSpPr/>
                <p:nvPr/>
              </p:nvSpPr>
              <p:spPr>
                <a:xfrm flipV="1">
                  <a:off x="265680" y="812484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264960" y="812484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>
                <a:off x="264960" y="812160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74480" y="812484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0" y="76820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04920" y="8443800"/>
            <a:ext cx="29988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04920" y="8253360"/>
            <a:ext cx="1440" cy="21276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609480" y="8367840"/>
            <a:ext cx="284040" cy="193680"/>
            <a:chOff x="609480" y="8367840"/>
            <a:chExt cx="284040" cy="193680"/>
          </a:xfrm>
        </p:grpSpPr>
        <p:sp>
          <p:nvSpPr>
            <p:cNvPr id="1644" name=""/>
            <p:cNvSpPr/>
            <p:nvPr/>
          </p:nvSpPr>
          <p:spPr>
            <a:xfrm>
              <a:off x="609480" y="836784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5" name=""/>
            <p:cNvGrpSpPr/>
            <p:nvPr/>
          </p:nvGrpSpPr>
          <p:grpSpPr>
            <a:xfrm>
              <a:off x="645840" y="8412120"/>
              <a:ext cx="211320" cy="122040"/>
              <a:chOff x="645840" y="8412120"/>
              <a:chExt cx="211320" cy="122040"/>
            </a:xfrm>
          </p:grpSpPr>
          <p:grpSp>
            <p:nvGrpSpPr>
              <p:cNvPr id="1646" name=""/>
              <p:cNvGrpSpPr/>
              <p:nvPr/>
            </p:nvGrpSpPr>
            <p:grpSpPr>
              <a:xfrm>
                <a:off x="645840" y="8415360"/>
                <a:ext cx="206640" cy="109440"/>
                <a:chOff x="645840" y="8415360"/>
                <a:chExt cx="206640" cy="109440"/>
              </a:xfrm>
            </p:grpSpPr>
            <p:sp>
              <p:nvSpPr>
                <p:cNvPr id="1647" name=""/>
                <p:cNvSpPr/>
                <p:nvPr/>
              </p:nvSpPr>
              <p:spPr>
                <a:xfrm flipV="1">
                  <a:off x="646560" y="841536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45840" y="841536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645840" y="841212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855360" y="841536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1" name=""/>
          <p:cNvSpPr/>
          <p:nvPr/>
        </p:nvSpPr>
        <p:spPr>
          <a:xfrm>
            <a:off x="913320" y="8352000"/>
            <a:ext cx="151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H-53D Sea Stal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998880" y="350280"/>
            <a:ext cx="247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chment Marine Light Attack Helicopter Squadron 1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733920" y="426960"/>
            <a:ext cx="284040" cy="193680"/>
            <a:chOff x="3733920" y="426960"/>
            <a:chExt cx="284040" cy="193680"/>
          </a:xfrm>
        </p:grpSpPr>
        <p:sp>
          <p:nvSpPr>
            <p:cNvPr id="1654" name=""/>
            <p:cNvSpPr/>
            <p:nvPr/>
          </p:nvSpPr>
          <p:spPr>
            <a:xfrm>
              <a:off x="3733920" y="42696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5" name=""/>
            <p:cNvGrpSpPr/>
            <p:nvPr/>
          </p:nvGrpSpPr>
          <p:grpSpPr>
            <a:xfrm>
              <a:off x="3770280" y="471240"/>
              <a:ext cx="211320" cy="122040"/>
              <a:chOff x="3770280" y="471240"/>
              <a:chExt cx="211320" cy="122040"/>
            </a:xfrm>
          </p:grpSpPr>
          <p:grpSp>
            <p:nvGrpSpPr>
              <p:cNvPr id="1656" name=""/>
              <p:cNvGrpSpPr/>
              <p:nvPr/>
            </p:nvGrpSpPr>
            <p:grpSpPr>
              <a:xfrm>
                <a:off x="3770280" y="474480"/>
                <a:ext cx="206640" cy="109440"/>
                <a:chOff x="3770280" y="474480"/>
                <a:chExt cx="206640" cy="109440"/>
              </a:xfrm>
            </p:grpSpPr>
            <p:sp>
              <p:nvSpPr>
                <p:cNvPr id="1657" name=""/>
                <p:cNvSpPr/>
                <p:nvPr/>
              </p:nvSpPr>
              <p:spPr>
                <a:xfrm flipV="1">
                  <a:off x="3771000" y="47448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770280" y="47448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9" name=""/>
              <p:cNvSpPr/>
              <p:nvPr/>
            </p:nvSpPr>
            <p:spPr>
              <a:xfrm>
                <a:off x="3770280" y="47124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979800" y="47448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1" name=""/>
          <p:cNvSpPr/>
          <p:nvPr/>
        </p:nvSpPr>
        <p:spPr>
          <a:xfrm>
            <a:off x="3809880" y="808200"/>
            <a:ext cx="30024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809880" y="617400"/>
            <a:ext cx="1800" cy="21276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4114800" y="731880"/>
            <a:ext cx="284040" cy="193680"/>
            <a:chOff x="4114800" y="731880"/>
            <a:chExt cx="284040" cy="193680"/>
          </a:xfrm>
        </p:grpSpPr>
        <p:sp>
          <p:nvSpPr>
            <p:cNvPr id="1664" name=""/>
            <p:cNvSpPr/>
            <p:nvPr/>
          </p:nvSpPr>
          <p:spPr>
            <a:xfrm>
              <a:off x="4114800" y="73188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4151160" y="776160"/>
              <a:ext cx="211320" cy="122040"/>
              <a:chOff x="4151160" y="776160"/>
              <a:chExt cx="211320" cy="122040"/>
            </a:xfrm>
          </p:grpSpPr>
          <p:grpSp>
            <p:nvGrpSpPr>
              <p:cNvPr id="1666" name=""/>
              <p:cNvGrpSpPr/>
              <p:nvPr/>
            </p:nvGrpSpPr>
            <p:grpSpPr>
              <a:xfrm>
                <a:off x="4151160" y="779400"/>
                <a:ext cx="206640" cy="109440"/>
                <a:chOff x="4151160" y="779400"/>
                <a:chExt cx="206640" cy="109440"/>
              </a:xfrm>
            </p:grpSpPr>
            <p:sp>
              <p:nvSpPr>
                <p:cNvPr id="1667" name=""/>
                <p:cNvSpPr/>
                <p:nvPr/>
              </p:nvSpPr>
              <p:spPr>
                <a:xfrm flipV="1">
                  <a:off x="4151880" y="77940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4151160" y="77940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9" name=""/>
              <p:cNvSpPr/>
              <p:nvPr/>
            </p:nvSpPr>
            <p:spPr>
              <a:xfrm>
                <a:off x="4151160" y="77616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360680" y="77940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1" name=""/>
          <p:cNvSpPr/>
          <p:nvPr/>
        </p:nvSpPr>
        <p:spPr>
          <a:xfrm>
            <a:off x="4416120" y="716040"/>
            <a:ext cx="152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H-1 Cobra Gun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429000" y="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998880" y="1645560"/>
            <a:ext cx="270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chment, Headquarters and Maintenance Squadron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3733920" y="1722600"/>
            <a:ext cx="284040" cy="193680"/>
            <a:chOff x="3733920" y="1722600"/>
            <a:chExt cx="284040" cy="193680"/>
          </a:xfrm>
        </p:grpSpPr>
        <p:sp>
          <p:nvSpPr>
            <p:cNvPr id="1675" name=""/>
            <p:cNvSpPr/>
            <p:nvPr/>
          </p:nvSpPr>
          <p:spPr>
            <a:xfrm>
              <a:off x="3733920" y="172260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3770280" y="1766880"/>
              <a:ext cx="211320" cy="122040"/>
              <a:chOff x="3770280" y="1766880"/>
              <a:chExt cx="211320" cy="122040"/>
            </a:xfrm>
          </p:grpSpPr>
          <p:grpSp>
            <p:nvGrpSpPr>
              <p:cNvPr id="1677" name=""/>
              <p:cNvGrpSpPr/>
              <p:nvPr/>
            </p:nvGrpSpPr>
            <p:grpSpPr>
              <a:xfrm>
                <a:off x="3770280" y="1770120"/>
                <a:ext cx="206640" cy="109440"/>
                <a:chOff x="3770280" y="1770120"/>
                <a:chExt cx="206640" cy="109440"/>
              </a:xfrm>
            </p:grpSpPr>
            <p:sp>
              <p:nvSpPr>
                <p:cNvPr id="1678" name=""/>
                <p:cNvSpPr/>
                <p:nvPr/>
              </p:nvSpPr>
              <p:spPr>
                <a:xfrm flipV="1">
                  <a:off x="3771000" y="177012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770280" y="177012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0" name=""/>
              <p:cNvSpPr/>
              <p:nvPr/>
            </p:nvSpPr>
            <p:spPr>
              <a:xfrm>
                <a:off x="3770280" y="176688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979800" y="177012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2" name=""/>
          <p:cNvSpPr/>
          <p:nvPr/>
        </p:nvSpPr>
        <p:spPr>
          <a:xfrm>
            <a:off x="3429000" y="1219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809880" y="2103480"/>
            <a:ext cx="30024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809880" y="1913040"/>
            <a:ext cx="1800" cy="21276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4114800" y="2027160"/>
            <a:ext cx="284040" cy="193680"/>
            <a:chOff x="4114800" y="2027160"/>
            <a:chExt cx="284040" cy="193680"/>
          </a:xfrm>
        </p:grpSpPr>
        <p:sp>
          <p:nvSpPr>
            <p:cNvPr id="1686" name=""/>
            <p:cNvSpPr/>
            <p:nvPr/>
          </p:nvSpPr>
          <p:spPr>
            <a:xfrm>
              <a:off x="4114800" y="202716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4151160" y="2071440"/>
              <a:ext cx="211320" cy="122040"/>
              <a:chOff x="4151160" y="2071440"/>
              <a:chExt cx="211320" cy="122040"/>
            </a:xfrm>
          </p:grpSpPr>
          <p:grpSp>
            <p:nvGrpSpPr>
              <p:cNvPr id="1688" name=""/>
              <p:cNvGrpSpPr/>
              <p:nvPr/>
            </p:nvGrpSpPr>
            <p:grpSpPr>
              <a:xfrm>
                <a:off x="4151160" y="2074680"/>
                <a:ext cx="206640" cy="109440"/>
                <a:chOff x="4151160" y="2074680"/>
                <a:chExt cx="206640" cy="109440"/>
              </a:xfrm>
            </p:grpSpPr>
            <p:sp>
              <p:nvSpPr>
                <p:cNvPr id="1689" name=""/>
                <p:cNvSpPr/>
                <p:nvPr/>
              </p:nvSpPr>
              <p:spPr>
                <a:xfrm flipV="1">
                  <a:off x="4151880" y="207468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4151160" y="207468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1" name=""/>
              <p:cNvSpPr/>
              <p:nvPr/>
            </p:nvSpPr>
            <p:spPr>
              <a:xfrm>
                <a:off x="4151160" y="207144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360680" y="207468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3" name=""/>
          <p:cNvSpPr/>
          <p:nvPr/>
        </p:nvSpPr>
        <p:spPr>
          <a:xfrm>
            <a:off x="4417920" y="2011320"/>
            <a:ext cx="23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H-1N Huey Command and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05320" y="2590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038480" y="30186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maican Defense Fo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3809880" y="2971800"/>
            <a:ext cx="284040" cy="255600"/>
            <a:chOff x="3809880" y="2971800"/>
            <a:chExt cx="284040" cy="255600"/>
          </a:xfrm>
        </p:grpSpPr>
        <p:sp>
          <p:nvSpPr>
            <p:cNvPr id="1697" name=""/>
            <p:cNvSpPr/>
            <p:nvPr/>
          </p:nvSpPr>
          <p:spPr>
            <a:xfrm>
              <a:off x="3956040" y="29718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8" name=""/>
            <p:cNvGrpSpPr/>
            <p:nvPr/>
          </p:nvGrpSpPr>
          <p:grpSpPr>
            <a:xfrm>
              <a:off x="3809880" y="3033720"/>
              <a:ext cx="284040" cy="193680"/>
              <a:chOff x="3809880" y="3033720"/>
              <a:chExt cx="284040" cy="193680"/>
            </a:xfrm>
          </p:grpSpPr>
          <p:sp>
            <p:nvSpPr>
              <p:cNvPr id="1699" name=""/>
              <p:cNvSpPr/>
              <p:nvPr/>
            </p:nvSpPr>
            <p:spPr>
              <a:xfrm>
                <a:off x="3809880" y="303372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3812760" y="303660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809880" y="303660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2" name=""/>
          <p:cNvSpPr/>
          <p:nvPr/>
        </p:nvSpPr>
        <p:spPr>
          <a:xfrm>
            <a:off x="4038480" y="454284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rbados Defense Force &amp; other Pol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3809880" y="4495680"/>
            <a:ext cx="284040" cy="255600"/>
            <a:chOff x="3809880" y="4495680"/>
            <a:chExt cx="284040" cy="255600"/>
          </a:xfrm>
        </p:grpSpPr>
        <p:sp>
          <p:nvSpPr>
            <p:cNvPr id="1704" name=""/>
            <p:cNvSpPr/>
            <p:nvPr/>
          </p:nvSpPr>
          <p:spPr>
            <a:xfrm>
              <a:off x="3956040" y="44956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3809880" y="4557600"/>
              <a:ext cx="284040" cy="193680"/>
              <a:chOff x="3809880" y="4557600"/>
              <a:chExt cx="284040" cy="193680"/>
            </a:xfrm>
          </p:grpSpPr>
          <p:sp>
            <p:nvSpPr>
              <p:cNvPr id="1706" name=""/>
              <p:cNvSpPr/>
              <p:nvPr/>
            </p:nvSpPr>
            <p:spPr>
              <a:xfrm>
                <a:off x="3809880" y="455760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3812760" y="456048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809880" y="456048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9" name=""/>
          <p:cNvGrpSpPr/>
          <p:nvPr/>
        </p:nvGrpSpPr>
        <p:grpSpPr>
          <a:xfrm>
            <a:off x="3886200" y="3260880"/>
            <a:ext cx="2819520" cy="398520"/>
            <a:chOff x="3886200" y="3260880"/>
            <a:chExt cx="2819520" cy="398520"/>
          </a:xfrm>
        </p:grpSpPr>
        <p:sp>
          <p:nvSpPr>
            <p:cNvPr id="1710" name=""/>
            <p:cNvSpPr/>
            <p:nvPr/>
          </p:nvSpPr>
          <p:spPr>
            <a:xfrm>
              <a:off x="4191120" y="3413160"/>
              <a:ext cx="23148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1" name=""/>
            <p:cNvGrpSpPr/>
            <p:nvPr/>
          </p:nvGrpSpPr>
          <p:grpSpPr>
            <a:xfrm>
              <a:off x="3886200" y="3260880"/>
              <a:ext cx="2819520" cy="398520"/>
              <a:chOff x="3886200" y="3260880"/>
              <a:chExt cx="2819520" cy="398520"/>
            </a:xfrm>
          </p:grpSpPr>
          <p:sp>
            <p:nvSpPr>
              <p:cNvPr id="1712" name=""/>
              <p:cNvSpPr/>
              <p:nvPr/>
            </p:nvSpPr>
            <p:spPr>
              <a:xfrm>
                <a:off x="4496040" y="3413160"/>
                <a:ext cx="220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886200" y="348912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496040" y="3260880"/>
                <a:ext cx="99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5" name=""/>
              <p:cNvGrpSpPr/>
              <p:nvPr/>
            </p:nvGrpSpPr>
            <p:grpSpPr>
              <a:xfrm>
                <a:off x="4214880" y="3375000"/>
                <a:ext cx="184320" cy="170640"/>
                <a:chOff x="4214880" y="3375000"/>
                <a:chExt cx="184320" cy="170640"/>
              </a:xfrm>
            </p:grpSpPr>
            <p:sp>
              <p:nvSpPr>
                <p:cNvPr id="1716" name=""/>
                <p:cNvSpPr/>
                <p:nvPr/>
              </p:nvSpPr>
              <p:spPr>
                <a:xfrm>
                  <a:off x="4214880" y="3434760"/>
                  <a:ext cx="18432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294440" y="33750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18" name=""/>
          <p:cNvGrpSpPr/>
          <p:nvPr/>
        </p:nvGrpSpPr>
        <p:grpSpPr>
          <a:xfrm>
            <a:off x="3886200" y="3718080"/>
            <a:ext cx="2974680" cy="246240"/>
            <a:chOff x="3886200" y="3718080"/>
            <a:chExt cx="2974680" cy="246240"/>
          </a:xfrm>
        </p:grpSpPr>
        <p:sp>
          <p:nvSpPr>
            <p:cNvPr id="1719" name=""/>
            <p:cNvSpPr/>
            <p:nvPr/>
          </p:nvSpPr>
          <p:spPr>
            <a:xfrm>
              <a:off x="4498920" y="3718080"/>
              <a:ext cx="236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886200" y="383256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1" name=""/>
            <p:cNvGrpSpPr/>
            <p:nvPr/>
          </p:nvGrpSpPr>
          <p:grpSpPr>
            <a:xfrm>
              <a:off x="4194000" y="3724560"/>
              <a:ext cx="231840" cy="198360"/>
              <a:chOff x="4194000" y="3724560"/>
              <a:chExt cx="231840" cy="198360"/>
            </a:xfrm>
          </p:grpSpPr>
          <p:grpSp>
            <p:nvGrpSpPr>
              <p:cNvPr id="1722" name=""/>
              <p:cNvGrpSpPr/>
              <p:nvPr/>
            </p:nvGrpSpPr>
            <p:grpSpPr>
              <a:xfrm>
                <a:off x="4194000" y="3765960"/>
                <a:ext cx="231840" cy="156960"/>
                <a:chOff x="4194000" y="3765960"/>
                <a:chExt cx="231840" cy="15696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4194000" y="376596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V="1">
                  <a:off x="4196160" y="376812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4194000" y="376812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6" name=""/>
              <p:cNvGrpSpPr/>
              <p:nvPr/>
            </p:nvGrpSpPr>
            <p:grpSpPr>
              <a:xfrm>
                <a:off x="4271760" y="3724560"/>
                <a:ext cx="74520" cy="28080"/>
                <a:chOff x="4271760" y="3724560"/>
                <a:chExt cx="74520" cy="2808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4271760" y="37245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4319280" y="37260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9" name=""/>
          <p:cNvSpPr/>
          <p:nvPr/>
        </p:nvSpPr>
        <p:spPr>
          <a:xfrm>
            <a:off x="3886200" y="3200400"/>
            <a:ext cx="0" cy="685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505320" y="41450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3882960" y="4784760"/>
            <a:ext cx="2819520" cy="398520"/>
            <a:chOff x="3882960" y="4784760"/>
            <a:chExt cx="2819520" cy="398520"/>
          </a:xfrm>
        </p:grpSpPr>
        <p:sp>
          <p:nvSpPr>
            <p:cNvPr id="1732" name=""/>
            <p:cNvSpPr/>
            <p:nvPr/>
          </p:nvSpPr>
          <p:spPr>
            <a:xfrm>
              <a:off x="4187880" y="4937040"/>
              <a:ext cx="23148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3882960" y="4784760"/>
              <a:ext cx="2819520" cy="398520"/>
              <a:chOff x="3882960" y="4784760"/>
              <a:chExt cx="2819520" cy="398520"/>
            </a:xfrm>
          </p:grpSpPr>
          <p:sp>
            <p:nvSpPr>
              <p:cNvPr id="1734" name=""/>
              <p:cNvSpPr/>
              <p:nvPr/>
            </p:nvSpPr>
            <p:spPr>
              <a:xfrm>
                <a:off x="4492800" y="4937040"/>
                <a:ext cx="220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882960" y="501300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492800" y="4784760"/>
                <a:ext cx="99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7" name=""/>
              <p:cNvGrpSpPr/>
              <p:nvPr/>
            </p:nvGrpSpPr>
            <p:grpSpPr>
              <a:xfrm>
                <a:off x="4211640" y="4898880"/>
                <a:ext cx="184320" cy="170640"/>
                <a:chOff x="4211640" y="4898880"/>
                <a:chExt cx="184320" cy="17064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4211640" y="4958640"/>
                  <a:ext cx="18432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291200" y="4898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40" name=""/>
          <p:cNvGrpSpPr/>
          <p:nvPr/>
        </p:nvGrpSpPr>
        <p:grpSpPr>
          <a:xfrm>
            <a:off x="3882960" y="5241960"/>
            <a:ext cx="2974680" cy="246240"/>
            <a:chOff x="3882960" y="5241960"/>
            <a:chExt cx="2974680" cy="246240"/>
          </a:xfrm>
        </p:grpSpPr>
        <p:sp>
          <p:nvSpPr>
            <p:cNvPr id="1741" name=""/>
            <p:cNvSpPr/>
            <p:nvPr/>
          </p:nvSpPr>
          <p:spPr>
            <a:xfrm>
              <a:off x="4495680" y="5241960"/>
              <a:ext cx="236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882960" y="535644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4190760" y="5248440"/>
              <a:ext cx="231840" cy="198360"/>
              <a:chOff x="4190760" y="5248440"/>
              <a:chExt cx="231840" cy="198360"/>
            </a:xfrm>
          </p:grpSpPr>
          <p:grpSp>
            <p:nvGrpSpPr>
              <p:cNvPr id="1744" name=""/>
              <p:cNvGrpSpPr/>
              <p:nvPr/>
            </p:nvGrpSpPr>
            <p:grpSpPr>
              <a:xfrm>
                <a:off x="4190760" y="5289840"/>
                <a:ext cx="231840" cy="156960"/>
                <a:chOff x="4190760" y="5289840"/>
                <a:chExt cx="231840" cy="156960"/>
              </a:xfrm>
            </p:grpSpPr>
            <p:sp>
              <p:nvSpPr>
                <p:cNvPr id="1745" name=""/>
                <p:cNvSpPr/>
                <p:nvPr/>
              </p:nvSpPr>
              <p:spPr>
                <a:xfrm>
                  <a:off x="4190760" y="528984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V="1">
                  <a:off x="4192920" y="529200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4190760" y="529200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"/>
              <p:cNvGrpSpPr/>
              <p:nvPr/>
            </p:nvGrpSpPr>
            <p:grpSpPr>
              <a:xfrm>
                <a:off x="4268520" y="5248440"/>
                <a:ext cx="74520" cy="28080"/>
                <a:chOff x="4268520" y="5248440"/>
                <a:chExt cx="74520" cy="2808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4268520" y="52484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4316040" y="5249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51" name=""/>
          <p:cNvSpPr/>
          <p:nvPr/>
        </p:nvSpPr>
        <p:spPr>
          <a:xfrm>
            <a:off x="3882960" y="4724280"/>
            <a:ext cx="0" cy="685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017960" y="579132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 Plato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3733920" y="5791320"/>
            <a:ext cx="284040" cy="239760"/>
            <a:chOff x="3733920" y="5791320"/>
            <a:chExt cx="284040" cy="239760"/>
          </a:xfrm>
        </p:grpSpPr>
        <p:grpSp>
          <p:nvGrpSpPr>
            <p:cNvPr id="1754" name=""/>
            <p:cNvGrpSpPr/>
            <p:nvPr/>
          </p:nvGrpSpPr>
          <p:grpSpPr>
            <a:xfrm>
              <a:off x="3810240" y="5791320"/>
              <a:ext cx="131760" cy="27000"/>
              <a:chOff x="3810240" y="5791320"/>
              <a:chExt cx="131760" cy="27000"/>
            </a:xfrm>
          </p:grpSpPr>
          <p:sp>
            <p:nvSpPr>
              <p:cNvPr id="1755" name=""/>
              <p:cNvSpPr/>
              <p:nvPr/>
            </p:nvSpPr>
            <p:spPr>
              <a:xfrm>
                <a:off x="3810240" y="5791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61000" y="5791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915000" y="5791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8" name=""/>
            <p:cNvSpPr/>
            <p:nvPr/>
          </p:nvSpPr>
          <p:spPr>
            <a:xfrm>
              <a:off x="3733920" y="583740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3810240" y="5904000"/>
              <a:ext cx="123840" cy="50760"/>
              <a:chOff x="3810240" y="5904000"/>
              <a:chExt cx="123840" cy="50760"/>
            </a:xfrm>
          </p:grpSpPr>
          <p:sp>
            <p:nvSpPr>
              <p:cNvPr id="1760" name=""/>
              <p:cNvSpPr/>
              <p:nvPr/>
            </p:nvSpPr>
            <p:spPr>
              <a:xfrm>
                <a:off x="3816720" y="5904000"/>
                <a:ext cx="0" cy="5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872160" y="590724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924720" y="590724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810240" y="5907240"/>
                <a:ext cx="123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4" name=""/>
          <p:cNvSpPr/>
          <p:nvPr/>
        </p:nvSpPr>
        <p:spPr>
          <a:xfrm>
            <a:off x="3505320" y="55166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809880" y="6226200"/>
            <a:ext cx="30024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4118040" y="6111720"/>
            <a:ext cx="231840" cy="200160"/>
            <a:chOff x="4118040" y="6111720"/>
            <a:chExt cx="231840" cy="200160"/>
          </a:xfrm>
        </p:grpSpPr>
        <p:grpSp>
          <p:nvGrpSpPr>
            <p:cNvPr id="1767" name=""/>
            <p:cNvGrpSpPr/>
            <p:nvPr/>
          </p:nvGrpSpPr>
          <p:grpSpPr>
            <a:xfrm>
              <a:off x="4118040" y="6154560"/>
              <a:ext cx="231840" cy="157320"/>
              <a:chOff x="4118040" y="6154560"/>
              <a:chExt cx="231840" cy="157320"/>
            </a:xfrm>
          </p:grpSpPr>
          <p:sp>
            <p:nvSpPr>
              <p:cNvPr id="1768" name=""/>
              <p:cNvSpPr/>
              <p:nvPr/>
            </p:nvSpPr>
            <p:spPr>
              <a:xfrm>
                <a:off x="4118040" y="6154560"/>
                <a:ext cx="23184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189320" y="6202080"/>
                <a:ext cx="0" cy="50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230720" y="620424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71400" y="6205680"/>
                <a:ext cx="0" cy="4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184640" y="6204240"/>
                <a:ext cx="93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3" name=""/>
            <p:cNvGrpSpPr/>
            <p:nvPr/>
          </p:nvGrpSpPr>
          <p:grpSpPr>
            <a:xfrm>
              <a:off x="4195800" y="6111720"/>
              <a:ext cx="74520" cy="28080"/>
              <a:chOff x="4195800" y="6111720"/>
              <a:chExt cx="74520" cy="28080"/>
            </a:xfrm>
          </p:grpSpPr>
          <p:sp>
            <p:nvSpPr>
              <p:cNvPr id="1774" name=""/>
              <p:cNvSpPr/>
              <p:nvPr/>
            </p:nvSpPr>
            <p:spPr>
              <a:xfrm>
                <a:off x="4195800" y="6111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43320" y="6113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6" name=""/>
          <p:cNvSpPr/>
          <p:nvPr/>
        </p:nvSpPr>
        <p:spPr>
          <a:xfrm>
            <a:off x="3809880" y="6035760"/>
            <a:ext cx="1800" cy="21276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343400" y="609588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bat Engine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505320" y="64310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017960" y="678168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lato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3733920" y="6781680"/>
            <a:ext cx="284040" cy="239760"/>
            <a:chOff x="3733920" y="6781680"/>
            <a:chExt cx="284040" cy="239760"/>
          </a:xfrm>
        </p:grpSpPr>
        <p:grpSp>
          <p:nvGrpSpPr>
            <p:cNvPr id="1781" name=""/>
            <p:cNvGrpSpPr/>
            <p:nvPr/>
          </p:nvGrpSpPr>
          <p:grpSpPr>
            <a:xfrm>
              <a:off x="3810240" y="6781680"/>
              <a:ext cx="131760" cy="27000"/>
              <a:chOff x="3810240" y="6781680"/>
              <a:chExt cx="131760" cy="27000"/>
            </a:xfrm>
          </p:grpSpPr>
          <p:sp>
            <p:nvSpPr>
              <p:cNvPr id="1782" name=""/>
              <p:cNvSpPr/>
              <p:nvPr/>
            </p:nvSpPr>
            <p:spPr>
              <a:xfrm>
                <a:off x="3810240" y="6781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861000" y="6781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915000" y="6781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5" name=""/>
            <p:cNvSpPr/>
            <p:nvPr/>
          </p:nvSpPr>
          <p:spPr>
            <a:xfrm>
              <a:off x="3733920" y="682776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43280" y="683388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0" y="117"/>
                  </a:move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881520" y="6831000"/>
              <a:ext cx="130320" cy="18396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82" y="11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>
            <a:off x="4398840" y="716292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Stinger Squad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18120" y="71629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268880" y="7162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14800" y="720900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124160" y="7215120"/>
            <a:ext cx="130320" cy="185760"/>
          </a:xfrm>
          <a:custGeom>
            <a:avLst/>
            <a:gdLst/>
            <a:ahLst/>
            <a:rect l="l" t="t" r="r" b="b"/>
            <a:pathLst>
              <a:path w="82" h="117">
                <a:moveTo>
                  <a:pt x="0" y="117"/>
                </a:moveTo>
                <a:lnTo>
                  <a:pt x="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262400" y="7211880"/>
            <a:ext cx="130320" cy="184320"/>
          </a:xfrm>
          <a:custGeom>
            <a:avLst/>
            <a:gdLst/>
            <a:ahLst/>
            <a:rect l="l" t="t" r="r" b="b"/>
            <a:pathLst>
              <a:path w="82" h="116">
                <a:moveTo>
                  <a:pt x="82" y="11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794040" y="7023240"/>
            <a:ext cx="324000" cy="285480"/>
          </a:xfrm>
          <a:custGeom>
            <a:avLst/>
            <a:gdLst/>
            <a:ahLst/>
            <a:rect l="l" t="t" r="r" b="b"/>
            <a:pathLst>
              <a:path w="204" h="180">
                <a:moveTo>
                  <a:pt x="0" y="0"/>
                </a:moveTo>
                <a:cubicBezTo>
                  <a:pt x="0" y="59"/>
                  <a:pt x="0" y="119"/>
                  <a:pt x="0" y="178"/>
                </a:cubicBezTo>
                <a:lnTo>
                  <a:pt x="204" y="180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094280" y="7924680"/>
            <a:ext cx="21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itary Police  Plato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886200" y="7924680"/>
            <a:ext cx="131760" cy="27000"/>
            <a:chOff x="3886200" y="7924680"/>
            <a:chExt cx="131760" cy="27000"/>
          </a:xfrm>
        </p:grpSpPr>
        <p:sp>
          <p:nvSpPr>
            <p:cNvPr id="1797" name=""/>
            <p:cNvSpPr/>
            <p:nvPr/>
          </p:nvSpPr>
          <p:spPr>
            <a:xfrm>
              <a:off x="3886200" y="7924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936960" y="7924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990960" y="7924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3809880" y="7970760"/>
            <a:ext cx="28440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505320" y="75740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4191120" y="8305920"/>
            <a:ext cx="284040" cy="228600"/>
            <a:chOff x="4191120" y="8305920"/>
            <a:chExt cx="284040" cy="228600"/>
          </a:xfrm>
        </p:grpSpPr>
        <p:grpSp>
          <p:nvGrpSpPr>
            <p:cNvPr id="1803" name=""/>
            <p:cNvGrpSpPr/>
            <p:nvPr/>
          </p:nvGrpSpPr>
          <p:grpSpPr>
            <a:xfrm>
              <a:off x="4292640" y="8305920"/>
              <a:ext cx="78840" cy="27000"/>
              <a:chOff x="4292640" y="8305920"/>
              <a:chExt cx="78840" cy="27000"/>
            </a:xfrm>
          </p:grpSpPr>
          <p:sp>
            <p:nvSpPr>
              <p:cNvPr id="1804" name=""/>
              <p:cNvSpPr/>
              <p:nvPr/>
            </p:nvSpPr>
            <p:spPr>
              <a:xfrm>
                <a:off x="4292640" y="83059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343040" y="8305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4191120" y="834084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3886200" y="8172360"/>
            <a:ext cx="324000" cy="285840"/>
          </a:xfrm>
          <a:custGeom>
            <a:avLst/>
            <a:gdLst/>
            <a:ahLst/>
            <a:rect l="l" t="t" r="r" b="b"/>
            <a:pathLst>
              <a:path w="204" h="180">
                <a:moveTo>
                  <a:pt x="0" y="0"/>
                </a:moveTo>
                <a:cubicBezTo>
                  <a:pt x="0" y="59"/>
                  <a:pt x="0" y="119"/>
                  <a:pt x="0" y="178"/>
                </a:cubicBezTo>
                <a:lnTo>
                  <a:pt x="204" y="180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419720" y="8305920"/>
            <a:ext cx="21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Military Police Squad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"/>
          <p:cNvGrpSpPr/>
          <p:nvPr/>
        </p:nvGrpSpPr>
        <p:grpSpPr>
          <a:xfrm>
            <a:off x="609480" y="380880"/>
            <a:ext cx="283680" cy="257040"/>
            <a:chOff x="609480" y="380880"/>
            <a:chExt cx="283680" cy="257040"/>
          </a:xfrm>
        </p:grpSpPr>
        <p:grpSp>
          <p:nvGrpSpPr>
            <p:cNvPr id="1810" name=""/>
            <p:cNvGrpSpPr/>
            <p:nvPr/>
          </p:nvGrpSpPr>
          <p:grpSpPr>
            <a:xfrm>
              <a:off x="609480" y="444600"/>
              <a:ext cx="283680" cy="193320"/>
              <a:chOff x="609480" y="444600"/>
              <a:chExt cx="283680" cy="193320"/>
            </a:xfrm>
          </p:grpSpPr>
          <p:sp>
            <p:nvSpPr>
              <p:cNvPr id="1811" name=""/>
              <p:cNvSpPr/>
              <p:nvPr/>
            </p:nvSpPr>
            <p:spPr>
              <a:xfrm>
                <a:off x="609480" y="444600"/>
                <a:ext cx="283680" cy="193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23960" y="51264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3" name=""/>
            <p:cNvSpPr/>
            <p:nvPr/>
          </p:nvSpPr>
          <p:spPr>
            <a:xfrm>
              <a:off x="750600" y="38088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4" name=""/>
          <p:cNvSpPr/>
          <p:nvPr/>
        </p:nvSpPr>
        <p:spPr>
          <a:xfrm>
            <a:off x="848880" y="441360"/>
            <a:ext cx="240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duced Strength Field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0" y="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685800" y="609480"/>
            <a:ext cx="2868480" cy="1362240"/>
            <a:chOff x="685800" y="609480"/>
            <a:chExt cx="2868480" cy="1362240"/>
          </a:xfrm>
        </p:grpSpPr>
        <p:sp>
          <p:nvSpPr>
            <p:cNvPr id="1817" name=""/>
            <p:cNvSpPr/>
            <p:nvPr/>
          </p:nvSpPr>
          <p:spPr>
            <a:xfrm>
              <a:off x="685800" y="153468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295280" y="1263240"/>
              <a:ext cx="22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n or Off-Board Organic Fire Support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071360" y="979200"/>
              <a:ext cx="1800" cy="10152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1" y="0"/>
                  </a:moveTo>
                  <a:lnTo>
                    <a:pt x="0" y="64"/>
                  </a:lnTo>
                </a:path>
              </a:pathLst>
            </a:custGeom>
            <a:noFill/>
            <a:ln w="15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71360" y="1622160"/>
              <a:ext cx="1800" cy="10152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1" y="0"/>
                  </a:moveTo>
                  <a:lnTo>
                    <a:pt x="0" y="64"/>
                  </a:lnTo>
                </a:path>
              </a:pathLst>
            </a:custGeom>
            <a:noFill/>
            <a:ln w="15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1" name=""/>
            <p:cNvGrpSpPr/>
            <p:nvPr/>
          </p:nvGrpSpPr>
          <p:grpSpPr>
            <a:xfrm>
              <a:off x="685800" y="609480"/>
              <a:ext cx="2868480" cy="1362240"/>
              <a:chOff x="685800" y="609480"/>
              <a:chExt cx="2868480" cy="1362240"/>
            </a:xfrm>
          </p:grpSpPr>
          <p:sp>
            <p:nvSpPr>
              <p:cNvPr id="1822" name=""/>
              <p:cNvSpPr/>
              <p:nvPr/>
            </p:nvSpPr>
            <p:spPr>
              <a:xfrm>
                <a:off x="685800" y="609480"/>
                <a:ext cx="1440" cy="912600"/>
              </a:xfrm>
              <a:custGeom>
                <a:avLst/>
                <a:gdLst/>
                <a:ahLst/>
                <a:rect l="l" t="t" r="r" b="b"/>
                <a:pathLst>
                  <a:path w="1" h="575">
                    <a:moveTo>
                      <a:pt x="0" y="0"/>
                    </a:moveTo>
                    <a:lnTo>
                      <a:pt x="1" y="575"/>
                    </a:lnTo>
                  </a:path>
                </a:pathLst>
              </a:custGeom>
              <a:noFill/>
              <a:ln w="158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3" name=""/>
              <p:cNvGrpSpPr/>
              <p:nvPr/>
            </p:nvGrpSpPr>
            <p:grpSpPr>
              <a:xfrm>
                <a:off x="685800" y="649080"/>
                <a:ext cx="2792160" cy="398520"/>
                <a:chOff x="685800" y="649080"/>
                <a:chExt cx="2792160" cy="39852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1295280" y="801360"/>
                  <a:ext cx="21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685800" y="877320"/>
                  <a:ext cx="299880" cy="144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295280" y="649080"/>
                  <a:ext cx="152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7" name=""/>
                <p:cNvGrpSpPr/>
                <p:nvPr/>
              </p:nvGrpSpPr>
              <p:grpSpPr>
                <a:xfrm>
                  <a:off x="992160" y="763200"/>
                  <a:ext cx="231840" cy="194400"/>
                  <a:chOff x="992160" y="763200"/>
                  <a:chExt cx="231840" cy="194400"/>
                </a:xfrm>
              </p:grpSpPr>
              <p:grpSp>
                <p:nvGrpSpPr>
                  <p:cNvPr id="1828" name=""/>
                  <p:cNvGrpSpPr/>
                  <p:nvPr/>
                </p:nvGrpSpPr>
                <p:grpSpPr>
                  <a:xfrm>
                    <a:off x="992160" y="801000"/>
                    <a:ext cx="231840" cy="156600"/>
                    <a:chOff x="992160" y="801000"/>
                    <a:chExt cx="231840" cy="156600"/>
                  </a:xfrm>
                </p:grpSpPr>
                <p:sp>
                  <p:nvSpPr>
                    <p:cNvPr id="1829" name=""/>
                    <p:cNvSpPr/>
                    <p:nvPr/>
                  </p:nvSpPr>
                  <p:spPr>
                    <a:xfrm>
                      <a:off x="992160" y="801000"/>
                      <a:ext cx="231840" cy="1566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0" name=""/>
                    <p:cNvSpPr/>
                    <p:nvPr/>
                  </p:nvSpPr>
                  <p:spPr>
                    <a:xfrm>
                      <a:off x="1074960" y="850680"/>
                      <a:ext cx="55800" cy="55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1" name=""/>
                  <p:cNvSpPr/>
                  <p:nvPr/>
                </p:nvSpPr>
                <p:spPr>
                  <a:xfrm>
                    <a:off x="1095120" y="7632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32" name=""/>
              <p:cNvSpPr/>
              <p:nvPr/>
            </p:nvSpPr>
            <p:spPr>
              <a:xfrm>
                <a:off x="1298520" y="1420560"/>
                <a:ext cx="2255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05mm (Towed) Howitz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3" name=""/>
              <p:cNvGrpSpPr/>
              <p:nvPr/>
            </p:nvGrpSpPr>
            <p:grpSpPr>
              <a:xfrm>
                <a:off x="985680" y="1427040"/>
                <a:ext cx="231840" cy="209160"/>
                <a:chOff x="985680" y="1427040"/>
                <a:chExt cx="231840" cy="209160"/>
              </a:xfrm>
            </p:grpSpPr>
            <p:grpSp>
              <p:nvGrpSpPr>
                <p:cNvPr id="1834" name=""/>
                <p:cNvGrpSpPr/>
                <p:nvPr/>
              </p:nvGrpSpPr>
              <p:grpSpPr>
                <a:xfrm>
                  <a:off x="1065240" y="1427040"/>
                  <a:ext cx="74520" cy="28080"/>
                  <a:chOff x="1065240" y="1427040"/>
                  <a:chExt cx="74520" cy="28080"/>
                </a:xfrm>
              </p:grpSpPr>
              <p:sp>
                <p:nvSpPr>
                  <p:cNvPr id="1835" name=""/>
                  <p:cNvSpPr/>
                  <p:nvPr/>
                </p:nvSpPr>
                <p:spPr>
                  <a:xfrm>
                    <a:off x="1065240" y="1427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1112760" y="1428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7" name=""/>
                <p:cNvGrpSpPr/>
                <p:nvPr/>
              </p:nvGrpSpPr>
              <p:grpSpPr>
                <a:xfrm>
                  <a:off x="985680" y="1479240"/>
                  <a:ext cx="231840" cy="156960"/>
                  <a:chOff x="985680" y="1479240"/>
                  <a:chExt cx="231840" cy="156960"/>
                </a:xfrm>
              </p:grpSpPr>
              <p:sp>
                <p:nvSpPr>
                  <p:cNvPr id="1838" name=""/>
                  <p:cNvSpPr/>
                  <p:nvPr/>
                </p:nvSpPr>
                <p:spPr>
                  <a:xfrm>
                    <a:off x="985680" y="147924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1079280" y="1534320"/>
                    <a:ext cx="460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40" name=""/>
              <p:cNvSpPr/>
              <p:nvPr/>
            </p:nvSpPr>
            <p:spPr>
              <a:xfrm>
                <a:off x="1344600" y="10825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Jee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1039680" y="1082520"/>
                <a:ext cx="231840" cy="190080"/>
                <a:chOff x="1039680" y="1082520"/>
                <a:chExt cx="231840" cy="19008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039680" y="108252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050120" y="12452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1920" y="124524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5" name=""/>
              <p:cNvSpPr/>
              <p:nvPr/>
            </p:nvSpPr>
            <p:spPr>
              <a:xfrm>
                <a:off x="1344600" y="172548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edium Tru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6" name=""/>
              <p:cNvGrpSpPr/>
              <p:nvPr/>
            </p:nvGrpSpPr>
            <p:grpSpPr>
              <a:xfrm>
                <a:off x="1039680" y="1725480"/>
                <a:ext cx="231840" cy="190080"/>
                <a:chOff x="1039680" y="1725480"/>
                <a:chExt cx="231840" cy="190080"/>
              </a:xfrm>
            </p:grpSpPr>
            <p:sp>
              <p:nvSpPr>
                <p:cNvPr id="1847" name=""/>
                <p:cNvSpPr/>
                <p:nvPr/>
              </p:nvSpPr>
              <p:spPr>
                <a:xfrm>
                  <a:off x="1039680" y="172548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050120" y="18882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231920" y="18882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50" name=""/>
          <p:cNvGrpSpPr/>
          <p:nvPr/>
        </p:nvGrpSpPr>
        <p:grpSpPr>
          <a:xfrm>
            <a:off x="609480" y="2373480"/>
            <a:ext cx="283680" cy="256320"/>
            <a:chOff x="609480" y="2373480"/>
            <a:chExt cx="283680" cy="256320"/>
          </a:xfrm>
        </p:grpSpPr>
        <p:grpSp>
          <p:nvGrpSpPr>
            <p:cNvPr id="1851" name=""/>
            <p:cNvGrpSpPr/>
            <p:nvPr/>
          </p:nvGrpSpPr>
          <p:grpSpPr>
            <a:xfrm>
              <a:off x="609480" y="2436840"/>
              <a:ext cx="283680" cy="192960"/>
              <a:chOff x="609480" y="2436840"/>
              <a:chExt cx="283680" cy="192960"/>
            </a:xfrm>
          </p:grpSpPr>
          <p:sp>
            <p:nvSpPr>
              <p:cNvPr id="1852" name=""/>
              <p:cNvSpPr/>
              <p:nvPr/>
            </p:nvSpPr>
            <p:spPr>
              <a:xfrm>
                <a:off x="609480" y="243684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3960" y="250488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>
              <a:off x="750600" y="2373480"/>
              <a:ext cx="0" cy="72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847800" y="2433600"/>
            <a:ext cx="140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eld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0" y="19922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685800" y="2602080"/>
            <a:ext cx="2868480" cy="1362240"/>
            <a:chOff x="685800" y="2602080"/>
            <a:chExt cx="2868480" cy="1362240"/>
          </a:xfrm>
        </p:grpSpPr>
        <p:sp>
          <p:nvSpPr>
            <p:cNvPr id="1858" name=""/>
            <p:cNvSpPr/>
            <p:nvPr/>
          </p:nvSpPr>
          <p:spPr>
            <a:xfrm>
              <a:off x="685800" y="352728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295280" y="3255840"/>
              <a:ext cx="22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n or Off-Board Organic Fire Support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071360" y="2971800"/>
              <a:ext cx="1800" cy="10152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1" y="0"/>
                  </a:moveTo>
                  <a:lnTo>
                    <a:pt x="0" y="64"/>
                  </a:lnTo>
                </a:path>
              </a:pathLst>
            </a:custGeom>
            <a:noFill/>
            <a:ln w="15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071360" y="3614760"/>
              <a:ext cx="1800" cy="10152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1" y="0"/>
                  </a:moveTo>
                  <a:lnTo>
                    <a:pt x="0" y="64"/>
                  </a:lnTo>
                </a:path>
              </a:pathLst>
            </a:custGeom>
            <a:noFill/>
            <a:ln w="15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2" name=""/>
            <p:cNvGrpSpPr/>
            <p:nvPr/>
          </p:nvGrpSpPr>
          <p:grpSpPr>
            <a:xfrm>
              <a:off x="685800" y="2602080"/>
              <a:ext cx="2868480" cy="1362240"/>
              <a:chOff x="685800" y="2602080"/>
              <a:chExt cx="2868480" cy="1362240"/>
            </a:xfrm>
          </p:grpSpPr>
          <p:sp>
            <p:nvSpPr>
              <p:cNvPr id="1863" name=""/>
              <p:cNvSpPr/>
              <p:nvPr/>
            </p:nvSpPr>
            <p:spPr>
              <a:xfrm>
                <a:off x="685800" y="2602080"/>
                <a:ext cx="1440" cy="912600"/>
              </a:xfrm>
              <a:custGeom>
                <a:avLst/>
                <a:gdLst/>
                <a:ahLst/>
                <a:rect l="l" t="t" r="r" b="b"/>
                <a:pathLst>
                  <a:path w="1" h="575">
                    <a:moveTo>
                      <a:pt x="0" y="0"/>
                    </a:moveTo>
                    <a:lnTo>
                      <a:pt x="1" y="575"/>
                    </a:lnTo>
                  </a:path>
                </a:pathLst>
              </a:custGeom>
              <a:noFill/>
              <a:ln w="158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4" name=""/>
              <p:cNvGrpSpPr/>
              <p:nvPr/>
            </p:nvGrpSpPr>
            <p:grpSpPr>
              <a:xfrm>
                <a:off x="685800" y="2641680"/>
                <a:ext cx="2792160" cy="398520"/>
                <a:chOff x="685800" y="2641680"/>
                <a:chExt cx="2792160" cy="3985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295280" y="2793960"/>
                  <a:ext cx="21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685800" y="2869920"/>
                  <a:ext cx="299880" cy="144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295280" y="2641680"/>
                  <a:ext cx="152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8" name=""/>
                <p:cNvGrpSpPr/>
                <p:nvPr/>
              </p:nvGrpSpPr>
              <p:grpSpPr>
                <a:xfrm>
                  <a:off x="992160" y="2755800"/>
                  <a:ext cx="231840" cy="194400"/>
                  <a:chOff x="992160" y="2755800"/>
                  <a:chExt cx="231840" cy="194400"/>
                </a:xfrm>
              </p:grpSpPr>
              <p:grpSp>
                <p:nvGrpSpPr>
                  <p:cNvPr id="1869" name=""/>
                  <p:cNvGrpSpPr/>
                  <p:nvPr/>
                </p:nvGrpSpPr>
                <p:grpSpPr>
                  <a:xfrm>
                    <a:off x="992160" y="2793600"/>
                    <a:ext cx="231840" cy="156600"/>
                    <a:chOff x="992160" y="2793600"/>
                    <a:chExt cx="231840" cy="156600"/>
                  </a:xfrm>
                </p:grpSpPr>
                <p:sp>
                  <p:nvSpPr>
                    <p:cNvPr id="1870" name=""/>
                    <p:cNvSpPr/>
                    <p:nvPr/>
                  </p:nvSpPr>
                  <p:spPr>
                    <a:xfrm>
                      <a:off x="992160" y="2793600"/>
                      <a:ext cx="231840" cy="1566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1074960" y="2843280"/>
                      <a:ext cx="55800" cy="55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2" name=""/>
                  <p:cNvSpPr/>
                  <p:nvPr/>
                </p:nvSpPr>
                <p:spPr>
                  <a:xfrm>
                    <a:off x="1095120" y="27558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73" name=""/>
              <p:cNvSpPr/>
              <p:nvPr/>
            </p:nvSpPr>
            <p:spPr>
              <a:xfrm>
                <a:off x="1298520" y="3413160"/>
                <a:ext cx="2255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05mm (Towed) Howitz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4" name=""/>
              <p:cNvGrpSpPr/>
              <p:nvPr/>
            </p:nvGrpSpPr>
            <p:grpSpPr>
              <a:xfrm>
                <a:off x="985680" y="3419640"/>
                <a:ext cx="231840" cy="209160"/>
                <a:chOff x="985680" y="3419640"/>
                <a:chExt cx="231840" cy="209160"/>
              </a:xfrm>
            </p:grpSpPr>
            <p:grpSp>
              <p:nvGrpSpPr>
                <p:cNvPr id="1875" name=""/>
                <p:cNvGrpSpPr/>
                <p:nvPr/>
              </p:nvGrpSpPr>
              <p:grpSpPr>
                <a:xfrm>
                  <a:off x="1065240" y="3419640"/>
                  <a:ext cx="74520" cy="28080"/>
                  <a:chOff x="1065240" y="3419640"/>
                  <a:chExt cx="74520" cy="28080"/>
                </a:xfrm>
              </p:grpSpPr>
              <p:sp>
                <p:nvSpPr>
                  <p:cNvPr id="1876" name=""/>
                  <p:cNvSpPr/>
                  <p:nvPr/>
                </p:nvSpPr>
                <p:spPr>
                  <a:xfrm>
                    <a:off x="1065240" y="34196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1112760" y="3421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8" name=""/>
                <p:cNvGrpSpPr/>
                <p:nvPr/>
              </p:nvGrpSpPr>
              <p:grpSpPr>
                <a:xfrm>
                  <a:off x="985680" y="3471840"/>
                  <a:ext cx="231840" cy="156960"/>
                  <a:chOff x="985680" y="3471840"/>
                  <a:chExt cx="231840" cy="156960"/>
                </a:xfrm>
              </p:grpSpPr>
              <p:sp>
                <p:nvSpPr>
                  <p:cNvPr id="1879" name=""/>
                  <p:cNvSpPr/>
                  <p:nvPr/>
                </p:nvSpPr>
                <p:spPr>
                  <a:xfrm>
                    <a:off x="985680" y="347184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1079280" y="3526920"/>
                    <a:ext cx="460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81" name=""/>
              <p:cNvSpPr/>
              <p:nvPr/>
            </p:nvSpPr>
            <p:spPr>
              <a:xfrm>
                <a:off x="1344600" y="30751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Jee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2" name=""/>
              <p:cNvGrpSpPr/>
              <p:nvPr/>
            </p:nvGrpSpPr>
            <p:grpSpPr>
              <a:xfrm>
                <a:off x="1039680" y="3075120"/>
                <a:ext cx="231840" cy="190080"/>
                <a:chOff x="1039680" y="3075120"/>
                <a:chExt cx="231840" cy="190080"/>
              </a:xfrm>
            </p:grpSpPr>
            <p:sp>
              <p:nvSpPr>
                <p:cNvPr id="1883" name=""/>
                <p:cNvSpPr/>
                <p:nvPr/>
              </p:nvSpPr>
              <p:spPr>
                <a:xfrm>
                  <a:off x="1039680" y="307512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050120" y="32378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31920" y="323784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6" name=""/>
              <p:cNvSpPr/>
              <p:nvPr/>
            </p:nvSpPr>
            <p:spPr>
              <a:xfrm>
                <a:off x="1344600" y="371808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edium Tru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7" name=""/>
              <p:cNvGrpSpPr/>
              <p:nvPr/>
            </p:nvGrpSpPr>
            <p:grpSpPr>
              <a:xfrm>
                <a:off x="1039680" y="3718080"/>
                <a:ext cx="231840" cy="190080"/>
                <a:chOff x="1039680" y="3718080"/>
                <a:chExt cx="231840" cy="190080"/>
              </a:xfrm>
            </p:grpSpPr>
            <p:sp>
              <p:nvSpPr>
                <p:cNvPr id="1888" name=""/>
                <p:cNvSpPr/>
                <p:nvPr/>
              </p:nvSpPr>
              <p:spPr>
                <a:xfrm>
                  <a:off x="1039680" y="371808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050120" y="38808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231920" y="38808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91" name=""/>
          <p:cNvSpPr/>
          <p:nvPr/>
        </p:nvSpPr>
        <p:spPr>
          <a:xfrm>
            <a:off x="722160" y="4571280"/>
            <a:ext cx="224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bat Aviati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457200" y="4495680"/>
            <a:ext cx="284040" cy="255600"/>
            <a:chOff x="457200" y="4495680"/>
            <a:chExt cx="284040" cy="255600"/>
          </a:xfrm>
        </p:grpSpPr>
        <p:sp>
          <p:nvSpPr>
            <p:cNvPr id="1893" name=""/>
            <p:cNvSpPr/>
            <p:nvPr/>
          </p:nvSpPr>
          <p:spPr>
            <a:xfrm>
              <a:off x="603000" y="44956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57200" y="455760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493560" y="4602240"/>
              <a:ext cx="211320" cy="122040"/>
              <a:chOff x="493560" y="4602240"/>
              <a:chExt cx="211320" cy="122040"/>
            </a:xfrm>
          </p:grpSpPr>
          <p:grpSp>
            <p:nvGrpSpPr>
              <p:cNvPr id="1896" name=""/>
              <p:cNvGrpSpPr/>
              <p:nvPr/>
            </p:nvGrpSpPr>
            <p:grpSpPr>
              <a:xfrm>
                <a:off x="493560" y="4605480"/>
                <a:ext cx="206640" cy="109440"/>
                <a:chOff x="493560" y="4605480"/>
                <a:chExt cx="206640" cy="109440"/>
              </a:xfrm>
            </p:grpSpPr>
            <p:sp>
              <p:nvSpPr>
                <p:cNvPr id="1897" name=""/>
                <p:cNvSpPr/>
                <p:nvPr/>
              </p:nvSpPr>
              <p:spPr>
                <a:xfrm flipV="1">
                  <a:off x="494280" y="4605480"/>
                  <a:ext cx="20412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93560" y="4605480"/>
                  <a:ext cx="2066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9" name=""/>
              <p:cNvSpPr/>
              <p:nvPr/>
            </p:nvSpPr>
            <p:spPr>
              <a:xfrm>
                <a:off x="493560" y="4602240"/>
                <a:ext cx="180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03080" y="460548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1" name=""/>
          <p:cNvSpPr/>
          <p:nvPr/>
        </p:nvSpPr>
        <p:spPr>
          <a:xfrm>
            <a:off x="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33520" y="4800600"/>
            <a:ext cx="1937160" cy="381240"/>
            <a:chOff x="533520" y="4800600"/>
            <a:chExt cx="1937160" cy="381240"/>
          </a:xfrm>
        </p:grpSpPr>
        <p:sp>
          <p:nvSpPr>
            <p:cNvPr id="1903" name=""/>
            <p:cNvSpPr/>
            <p:nvPr/>
          </p:nvSpPr>
          <p:spPr>
            <a:xfrm>
              <a:off x="533520" y="4800600"/>
              <a:ext cx="22824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0"/>
                  </a:moveTo>
                  <a:lnTo>
                    <a:pt x="0" y="144"/>
                  </a:lnTo>
                  <a:lnTo>
                    <a:pt x="144" y="144"/>
                  </a:ln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61760" y="4938840"/>
              <a:ext cx="28368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5" name=""/>
            <p:cNvGrpSpPr/>
            <p:nvPr/>
          </p:nvGrpSpPr>
          <p:grpSpPr>
            <a:xfrm>
              <a:off x="798120" y="4983120"/>
              <a:ext cx="210600" cy="122040"/>
              <a:chOff x="798120" y="4983120"/>
              <a:chExt cx="210600" cy="122040"/>
            </a:xfrm>
          </p:grpSpPr>
          <p:grpSp>
            <p:nvGrpSpPr>
              <p:cNvPr id="1906" name=""/>
              <p:cNvGrpSpPr/>
              <p:nvPr/>
            </p:nvGrpSpPr>
            <p:grpSpPr>
              <a:xfrm>
                <a:off x="798120" y="4986360"/>
                <a:ext cx="206280" cy="109440"/>
                <a:chOff x="798120" y="4986360"/>
                <a:chExt cx="206280" cy="109440"/>
              </a:xfrm>
            </p:grpSpPr>
            <p:sp>
              <p:nvSpPr>
                <p:cNvPr id="1907" name=""/>
                <p:cNvSpPr/>
                <p:nvPr/>
              </p:nvSpPr>
              <p:spPr>
                <a:xfrm flipV="1">
                  <a:off x="798840" y="4986360"/>
                  <a:ext cx="203760" cy="1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798120" y="4986360"/>
                  <a:ext cx="2062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9" name=""/>
              <p:cNvSpPr/>
              <p:nvPr/>
            </p:nvSpPr>
            <p:spPr>
              <a:xfrm>
                <a:off x="798120" y="4983120"/>
                <a:ext cx="1440" cy="122040"/>
              </a:xfrm>
              <a:custGeom>
                <a:avLst/>
                <a:gdLst/>
                <a:ahLst/>
                <a:rect l="l" t="t" r="r" b="b"/>
                <a:pathLst>
                  <a:path w="1" h="77">
                    <a:moveTo>
                      <a:pt x="0" y="0"/>
                    </a:moveTo>
                    <a:lnTo>
                      <a:pt x="0" y="7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007280" y="498636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0"/>
                    </a:move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38080" y="4876920"/>
              <a:ext cx="131040" cy="27000"/>
              <a:chOff x="838080" y="4876920"/>
              <a:chExt cx="131040" cy="27000"/>
            </a:xfrm>
          </p:grpSpPr>
          <p:sp>
            <p:nvSpPr>
              <p:cNvPr id="1912" name=""/>
              <p:cNvSpPr/>
              <p:nvPr/>
            </p:nvSpPr>
            <p:spPr>
              <a:xfrm>
                <a:off x="838080" y="48769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88480" y="487692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942480" y="48769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>
              <a:off x="1052640" y="493560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UH-60 Black Haw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457200" y="576252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62120" y="5776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uder W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0" y="5364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62120" y="617220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33520" y="59436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lnTo>
                  <a:pt x="0" y="192"/>
                </a:lnTo>
                <a:lnTo>
                  <a:pt x="144" y="19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052280" y="6154560"/>
            <a:ext cx="110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-6E Int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62120" y="647856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33520" y="624996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lnTo>
                  <a:pt x="0" y="192"/>
                </a:lnTo>
                <a:lnTo>
                  <a:pt x="144" y="19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052280" y="6461280"/>
            <a:ext cx="110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-6E Int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57200" y="721044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62120" y="7224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sair W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0" y="6811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62120" y="762012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33520" y="73915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lnTo>
                  <a:pt x="0" y="192"/>
                </a:lnTo>
                <a:lnTo>
                  <a:pt x="144" y="19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053360" y="7602480"/>
            <a:ext cx="108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-7D Cors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62120" y="792648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533520" y="769788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lnTo>
                  <a:pt x="0" y="192"/>
                </a:lnTo>
                <a:lnTo>
                  <a:pt x="144" y="19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53360" y="7908840"/>
            <a:ext cx="108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-7D Cors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962520" y="380880"/>
            <a:ext cx="34740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343400" y="4032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th Special Operations Squad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038480" y="1905120"/>
            <a:ext cx="347760" cy="23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419720" y="192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F-160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05320" y="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343400" y="83808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114800" y="6094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lnTo>
                  <a:pt x="0" y="192"/>
                </a:lnTo>
                <a:lnTo>
                  <a:pt x="144" y="19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633200" y="820800"/>
            <a:ext cx="185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C-130H Specter Gun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05320" y="14018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343400" y="236232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21337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lnTo>
                  <a:pt x="0" y="192"/>
                </a:lnTo>
                <a:lnTo>
                  <a:pt x="144" y="19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634280" y="2344680"/>
            <a:ext cx="148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H-60 Black Haw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343400" y="266868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114800" y="244008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lnTo>
                  <a:pt x="0" y="192"/>
                </a:lnTo>
                <a:lnTo>
                  <a:pt x="144" y="192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636080" y="2651040"/>
            <a:ext cx="12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H-6 Little Bi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62520" y="345852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borne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3697200" y="3432240"/>
            <a:ext cx="284040" cy="255600"/>
            <a:chOff x="3697200" y="3432240"/>
            <a:chExt cx="284040" cy="255600"/>
          </a:xfrm>
        </p:grpSpPr>
        <p:sp>
          <p:nvSpPr>
            <p:cNvPr id="1951" name=""/>
            <p:cNvSpPr/>
            <p:nvPr/>
          </p:nvSpPr>
          <p:spPr>
            <a:xfrm>
              <a:off x="3843360" y="34322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2" name=""/>
            <p:cNvGrpSpPr/>
            <p:nvPr/>
          </p:nvGrpSpPr>
          <p:grpSpPr>
            <a:xfrm>
              <a:off x="3697200" y="3494160"/>
              <a:ext cx="284040" cy="193680"/>
              <a:chOff x="3697200" y="3494160"/>
              <a:chExt cx="284040" cy="193680"/>
            </a:xfrm>
          </p:grpSpPr>
          <p:sp>
            <p:nvSpPr>
              <p:cNvPr id="1953" name=""/>
              <p:cNvSpPr/>
              <p:nvPr/>
            </p:nvSpPr>
            <p:spPr>
              <a:xfrm>
                <a:off x="3697200" y="349416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3700080" y="349704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697200" y="349704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6" name=""/>
          <p:cNvSpPr/>
          <p:nvPr/>
        </p:nvSpPr>
        <p:spPr>
          <a:xfrm>
            <a:off x="3505320" y="30481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809880" y="3703680"/>
            <a:ext cx="3240" cy="1219320"/>
          </a:xfrm>
          <a:custGeom>
            <a:avLst/>
            <a:gdLst/>
            <a:ahLst/>
            <a:rect l="l" t="t" r="r" b="b"/>
            <a:pathLst>
              <a:path w="2" h="768">
                <a:moveTo>
                  <a:pt x="2" y="0"/>
                </a:moveTo>
                <a:lnTo>
                  <a:pt x="0" y="768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8" name=""/>
          <p:cNvGrpSpPr/>
          <p:nvPr/>
        </p:nvGrpSpPr>
        <p:grpSpPr>
          <a:xfrm>
            <a:off x="3807000" y="4702320"/>
            <a:ext cx="2818800" cy="374760"/>
            <a:chOff x="3807000" y="4702320"/>
            <a:chExt cx="2818800" cy="374760"/>
          </a:xfrm>
        </p:grpSpPr>
        <p:sp>
          <p:nvSpPr>
            <p:cNvPr id="1959" name=""/>
            <p:cNvSpPr/>
            <p:nvPr/>
          </p:nvSpPr>
          <p:spPr>
            <a:xfrm>
              <a:off x="3807000" y="4945320"/>
              <a:ext cx="40608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484520" y="4702320"/>
              <a:ext cx="159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rganic Fire Support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425840" y="4830840"/>
              <a:ext cx="219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2" name=""/>
            <p:cNvGrpSpPr/>
            <p:nvPr/>
          </p:nvGrpSpPr>
          <p:grpSpPr>
            <a:xfrm>
              <a:off x="4111560" y="4821480"/>
              <a:ext cx="239400" cy="204840"/>
              <a:chOff x="4111560" y="4821480"/>
              <a:chExt cx="239400" cy="204840"/>
            </a:xfrm>
          </p:grpSpPr>
          <p:grpSp>
            <p:nvGrpSpPr>
              <p:cNvPr id="1963" name=""/>
              <p:cNvGrpSpPr/>
              <p:nvPr/>
            </p:nvGrpSpPr>
            <p:grpSpPr>
              <a:xfrm>
                <a:off x="4111560" y="4869000"/>
                <a:ext cx="239400" cy="157320"/>
                <a:chOff x="4111560" y="4869000"/>
                <a:chExt cx="239400" cy="15732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4111560" y="4869000"/>
                  <a:ext cx="23940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H="1">
                  <a:off x="4231800" y="489024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195800" y="499392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7" name=""/>
              <p:cNvGrpSpPr/>
              <p:nvPr/>
            </p:nvGrpSpPr>
            <p:grpSpPr>
              <a:xfrm>
                <a:off x="4193640" y="4821480"/>
                <a:ext cx="74520" cy="28080"/>
                <a:chOff x="4193640" y="4821480"/>
                <a:chExt cx="74520" cy="280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4193640" y="4821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241160" y="4822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70" name=""/>
          <p:cNvGrpSpPr/>
          <p:nvPr/>
        </p:nvGrpSpPr>
        <p:grpSpPr>
          <a:xfrm>
            <a:off x="3807000" y="3711600"/>
            <a:ext cx="2818800" cy="398520"/>
            <a:chOff x="3807000" y="3711600"/>
            <a:chExt cx="2818800" cy="398520"/>
          </a:xfrm>
        </p:grpSpPr>
        <p:sp>
          <p:nvSpPr>
            <p:cNvPr id="1971" name=""/>
            <p:cNvSpPr/>
            <p:nvPr/>
          </p:nvSpPr>
          <p:spPr>
            <a:xfrm>
              <a:off x="4111560" y="3863880"/>
              <a:ext cx="23148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2" name=""/>
            <p:cNvGrpSpPr/>
            <p:nvPr/>
          </p:nvGrpSpPr>
          <p:grpSpPr>
            <a:xfrm>
              <a:off x="3807000" y="3711600"/>
              <a:ext cx="2818800" cy="398520"/>
              <a:chOff x="3807000" y="3711600"/>
              <a:chExt cx="2818800" cy="398520"/>
            </a:xfrm>
          </p:grpSpPr>
          <p:sp>
            <p:nvSpPr>
              <p:cNvPr id="1973" name=""/>
              <p:cNvSpPr/>
              <p:nvPr/>
            </p:nvSpPr>
            <p:spPr>
              <a:xfrm>
                <a:off x="4416480" y="3863880"/>
                <a:ext cx="22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807000" y="3939840"/>
                <a:ext cx="29988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416480" y="3711600"/>
                <a:ext cx="99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6" name=""/>
              <p:cNvGrpSpPr/>
              <p:nvPr/>
            </p:nvGrpSpPr>
            <p:grpSpPr>
              <a:xfrm>
                <a:off x="4135320" y="3825720"/>
                <a:ext cx="183960" cy="170640"/>
                <a:chOff x="4135320" y="3825720"/>
                <a:chExt cx="183960" cy="17064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4135320" y="3885480"/>
                  <a:ext cx="18396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214520" y="38257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79" name=""/>
          <p:cNvSpPr/>
          <p:nvPr/>
        </p:nvSpPr>
        <p:spPr>
          <a:xfrm>
            <a:off x="4419720" y="419112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807000" y="4282920"/>
            <a:ext cx="29988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4114800" y="4175280"/>
            <a:ext cx="231840" cy="198360"/>
            <a:chOff x="4114800" y="4175280"/>
            <a:chExt cx="231840" cy="198360"/>
          </a:xfrm>
        </p:grpSpPr>
        <p:grpSp>
          <p:nvGrpSpPr>
            <p:cNvPr id="1982" name=""/>
            <p:cNvGrpSpPr/>
            <p:nvPr/>
          </p:nvGrpSpPr>
          <p:grpSpPr>
            <a:xfrm>
              <a:off x="4114800" y="4216680"/>
              <a:ext cx="231840" cy="156960"/>
              <a:chOff x="4114800" y="4216680"/>
              <a:chExt cx="231840" cy="1569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114800" y="421668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4116960" y="4218840"/>
                <a:ext cx="225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114800" y="4218840"/>
                <a:ext cx="23076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"/>
            <p:cNvGrpSpPr/>
            <p:nvPr/>
          </p:nvGrpSpPr>
          <p:grpSpPr>
            <a:xfrm>
              <a:off x="4192560" y="4175280"/>
              <a:ext cx="74520" cy="28080"/>
              <a:chOff x="4192560" y="4175280"/>
              <a:chExt cx="74520" cy="28080"/>
            </a:xfrm>
          </p:grpSpPr>
          <p:sp>
            <p:nvSpPr>
              <p:cNvPr id="1987" name=""/>
              <p:cNvSpPr/>
              <p:nvPr/>
            </p:nvSpPr>
            <p:spPr>
              <a:xfrm>
                <a:off x="4192560" y="4175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240080" y="4176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9" name=""/>
          <p:cNvSpPr/>
          <p:nvPr/>
        </p:nvSpPr>
        <p:spPr>
          <a:xfrm>
            <a:off x="4349880" y="4465080"/>
            <a:ext cx="117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ragon AT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4111560" y="4513320"/>
            <a:ext cx="231840" cy="156960"/>
            <a:chOff x="4111560" y="4513320"/>
            <a:chExt cx="231840" cy="156960"/>
          </a:xfrm>
        </p:grpSpPr>
        <p:sp>
          <p:nvSpPr>
            <p:cNvPr id="1991" name=""/>
            <p:cNvSpPr/>
            <p:nvPr/>
          </p:nvSpPr>
          <p:spPr>
            <a:xfrm>
              <a:off x="4111560" y="4513320"/>
              <a:ext cx="23184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4111560" y="4516560"/>
              <a:ext cx="11376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225320" y="4513320"/>
              <a:ext cx="113760" cy="1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4191120" y="4465800"/>
            <a:ext cx="74520" cy="28080"/>
            <a:chOff x="4191120" y="4465800"/>
            <a:chExt cx="74520" cy="28080"/>
          </a:xfrm>
        </p:grpSpPr>
        <p:sp>
          <p:nvSpPr>
            <p:cNvPr id="1995" name=""/>
            <p:cNvSpPr/>
            <p:nvPr/>
          </p:nvSpPr>
          <p:spPr>
            <a:xfrm>
              <a:off x="4191120" y="44658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238640" y="44672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7" name=""/>
          <p:cNvSpPr/>
          <p:nvPr/>
        </p:nvSpPr>
        <p:spPr>
          <a:xfrm>
            <a:off x="3809880" y="4616280"/>
            <a:ext cx="30024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505320" y="52117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998880" y="5637960"/>
            <a:ext cx="240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borne Anti-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3733920" y="5611680"/>
            <a:ext cx="284040" cy="255600"/>
            <a:chOff x="3733920" y="5611680"/>
            <a:chExt cx="284040" cy="255600"/>
          </a:xfrm>
        </p:grpSpPr>
        <p:sp>
          <p:nvSpPr>
            <p:cNvPr id="2001" name=""/>
            <p:cNvSpPr/>
            <p:nvPr/>
          </p:nvSpPr>
          <p:spPr>
            <a:xfrm>
              <a:off x="3879720" y="56116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733920" y="567360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736800" y="5680080"/>
              <a:ext cx="144720" cy="18720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0" y="118"/>
                  </a:move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733920" y="5675400"/>
              <a:ext cx="282600" cy="185760"/>
            </a:xfrm>
            <a:custGeom>
              <a:avLst/>
              <a:gdLst/>
              <a:ahLst/>
              <a:rect l="l" t="t" r="r" b="b"/>
              <a:pathLst>
                <a:path w="178" h="117">
                  <a:moveTo>
                    <a:pt x="0" y="1"/>
                  </a:moveTo>
                  <a:lnTo>
                    <a:pt x="90" y="0"/>
                  </a:lnTo>
                  <a:lnTo>
                    <a:pt x="178" y="1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5" name=""/>
          <p:cNvSpPr/>
          <p:nvPr/>
        </p:nvSpPr>
        <p:spPr>
          <a:xfrm>
            <a:off x="3962520" y="600552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965400" y="6012000"/>
            <a:ext cx="144720" cy="187200"/>
          </a:xfrm>
          <a:custGeom>
            <a:avLst/>
            <a:gdLst/>
            <a:ahLst/>
            <a:rect l="l" t="t" r="r" b="b"/>
            <a:pathLst>
              <a:path w="91" h="118">
                <a:moveTo>
                  <a:pt x="0" y="118"/>
                </a:moveTo>
                <a:lnTo>
                  <a:pt x="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962520" y="6006960"/>
            <a:ext cx="282600" cy="185760"/>
          </a:xfrm>
          <a:custGeom>
            <a:avLst/>
            <a:gdLst/>
            <a:ahLst/>
            <a:rect l="l" t="t" r="r" b="b"/>
            <a:pathLst>
              <a:path w="178" h="117">
                <a:moveTo>
                  <a:pt x="0" y="1"/>
                </a:moveTo>
                <a:lnTo>
                  <a:pt x="90" y="0"/>
                </a:lnTo>
                <a:lnTo>
                  <a:pt x="178" y="1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4038480" y="5943600"/>
            <a:ext cx="131760" cy="27000"/>
            <a:chOff x="4038480" y="5943600"/>
            <a:chExt cx="131760" cy="27000"/>
          </a:xfrm>
        </p:grpSpPr>
        <p:sp>
          <p:nvSpPr>
            <p:cNvPr id="2009" name=""/>
            <p:cNvSpPr/>
            <p:nvPr/>
          </p:nvSpPr>
          <p:spPr>
            <a:xfrm>
              <a:off x="4038480" y="5943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089240" y="5943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143240" y="5943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"/>
          <p:cNvSpPr/>
          <p:nvPr/>
        </p:nvSpPr>
        <p:spPr>
          <a:xfrm>
            <a:off x="3809880" y="5867280"/>
            <a:ext cx="15264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0" y="0"/>
                </a:moveTo>
                <a:lnTo>
                  <a:pt x="0" y="144"/>
                </a:lnTo>
                <a:lnTo>
                  <a:pt x="96" y="144"/>
                </a:ln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244040" y="5943600"/>
            <a:ext cx="16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 with TOW AT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962520" y="635940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965400" y="6365880"/>
            <a:ext cx="144720" cy="187200"/>
          </a:xfrm>
          <a:custGeom>
            <a:avLst/>
            <a:gdLst/>
            <a:ahLst/>
            <a:rect l="l" t="t" r="r" b="b"/>
            <a:pathLst>
              <a:path w="91" h="118">
                <a:moveTo>
                  <a:pt x="0" y="118"/>
                </a:moveTo>
                <a:lnTo>
                  <a:pt x="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962520" y="6361200"/>
            <a:ext cx="282600" cy="185760"/>
          </a:xfrm>
          <a:custGeom>
            <a:avLst/>
            <a:gdLst/>
            <a:ahLst/>
            <a:rect l="l" t="t" r="r" b="b"/>
            <a:pathLst>
              <a:path w="178" h="117">
                <a:moveTo>
                  <a:pt x="0" y="1"/>
                </a:moveTo>
                <a:lnTo>
                  <a:pt x="90" y="0"/>
                </a:lnTo>
                <a:lnTo>
                  <a:pt x="178" y="1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4038480" y="6297480"/>
            <a:ext cx="131760" cy="27000"/>
            <a:chOff x="4038480" y="6297480"/>
            <a:chExt cx="131760" cy="27000"/>
          </a:xfrm>
        </p:grpSpPr>
        <p:sp>
          <p:nvSpPr>
            <p:cNvPr id="2018" name=""/>
            <p:cNvSpPr/>
            <p:nvPr/>
          </p:nvSpPr>
          <p:spPr>
            <a:xfrm>
              <a:off x="4038480" y="6297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089240" y="6297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143240" y="6297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1" name=""/>
          <p:cNvSpPr/>
          <p:nvPr/>
        </p:nvSpPr>
        <p:spPr>
          <a:xfrm>
            <a:off x="3809880" y="6086520"/>
            <a:ext cx="152640" cy="363600"/>
          </a:xfrm>
          <a:custGeom>
            <a:avLst/>
            <a:gdLst/>
            <a:ahLst/>
            <a:rect l="l" t="t" r="r" b="b"/>
            <a:pathLst>
              <a:path w="96" h="229">
                <a:moveTo>
                  <a:pt x="0" y="0"/>
                </a:moveTo>
                <a:lnTo>
                  <a:pt x="0" y="229"/>
                </a:lnTo>
                <a:lnTo>
                  <a:pt x="96" y="229"/>
                </a:ln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244040" y="6297480"/>
            <a:ext cx="16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 with TOW AT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962520" y="6740640"/>
            <a:ext cx="284040" cy="193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965400" y="6746760"/>
            <a:ext cx="144720" cy="187560"/>
          </a:xfrm>
          <a:custGeom>
            <a:avLst/>
            <a:gdLst/>
            <a:ahLst/>
            <a:rect l="l" t="t" r="r" b="b"/>
            <a:pathLst>
              <a:path w="91" h="118">
                <a:moveTo>
                  <a:pt x="0" y="118"/>
                </a:moveTo>
                <a:lnTo>
                  <a:pt x="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962520" y="6742080"/>
            <a:ext cx="282600" cy="185760"/>
          </a:xfrm>
          <a:custGeom>
            <a:avLst/>
            <a:gdLst/>
            <a:ahLst/>
            <a:rect l="l" t="t" r="r" b="b"/>
            <a:pathLst>
              <a:path w="178" h="117">
                <a:moveTo>
                  <a:pt x="0" y="1"/>
                </a:moveTo>
                <a:lnTo>
                  <a:pt x="90" y="0"/>
                </a:lnTo>
                <a:lnTo>
                  <a:pt x="178" y="1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4038480" y="6678720"/>
            <a:ext cx="131760" cy="27000"/>
            <a:chOff x="4038480" y="6678720"/>
            <a:chExt cx="131760" cy="27000"/>
          </a:xfrm>
        </p:grpSpPr>
        <p:sp>
          <p:nvSpPr>
            <p:cNvPr id="2027" name=""/>
            <p:cNvSpPr/>
            <p:nvPr/>
          </p:nvSpPr>
          <p:spPr>
            <a:xfrm>
              <a:off x="4038480" y="66787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089240" y="6678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143240" y="66787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3809880" y="6448320"/>
            <a:ext cx="152640" cy="382680"/>
          </a:xfrm>
          <a:custGeom>
            <a:avLst/>
            <a:gdLst/>
            <a:ahLst/>
            <a:rect l="l" t="t" r="r" b="b"/>
            <a:pathLst>
              <a:path w="96" h="241">
                <a:moveTo>
                  <a:pt x="0" y="0"/>
                </a:moveTo>
                <a:lnTo>
                  <a:pt x="0" y="241"/>
                </a:lnTo>
                <a:lnTo>
                  <a:pt x="96" y="241"/>
                </a:ln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244040" y="6678720"/>
            <a:ext cx="16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 with TOW AT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20:21:17Z</dcterms:created>
  <dc:creator>CAI</dc:creator>
  <dc:description/>
  <dc:language>en-US</dc:language>
  <cp:lastModifiedBy>James Baker</cp:lastModifiedBy>
  <cp:lastPrinted>2002-02-05T21:07:59Z</cp:lastPrinted>
  <dcterms:modified xsi:type="dcterms:W3CDTF">2002-02-14T02:14:14Z</dcterms:modified>
  <cp:revision>26</cp:revision>
  <dc:subject/>
  <dc:title>No Slide Title</dc:title>
</cp:coreProperties>
</file>