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FD2-0353-4164-9731-C1ED0163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174-51F1-4C82-98C1-3C0675E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7E8-2DE3-4939-A180-278579A0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788-E603-421B-BDD0-531768F7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BD6-14A6-4E53-83CE-8515D616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C95-2B0F-4115-90F7-4E87D616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E86-2484-4675-A512-5E22C87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988-AE44-4D8D-8E60-AB23B95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79A-A67B-4B33-AA1F-7ACF5FC1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D8F-EDE9-4544-8B09-8339651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FD6-66E5-4512-9E9A-EAA54A7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953-8438-4D71-A6AB-2CD3E82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17AE-CDAC-4F40-B771-A1D4508C8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33012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raeli Battle Groups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0280" y="820800"/>
            <a:ext cx="2516040" cy="5348160"/>
            <a:chOff x="530280" y="820800"/>
            <a:chExt cx="2516040" cy="5348160"/>
          </a:xfrm>
        </p:grpSpPr>
        <p:sp>
          <p:nvSpPr>
            <p:cNvPr id="43" name=""/>
            <p:cNvSpPr/>
            <p:nvPr/>
          </p:nvSpPr>
          <p:spPr>
            <a:xfrm>
              <a:off x="1166760" y="2344680"/>
              <a:ext cx="0" cy="152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1120" y="1201680"/>
              <a:ext cx="0" cy="30481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0280" y="4979880"/>
              <a:ext cx="2514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replace ALL Sh’ot Medium Tanks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gdan Medium Tank (mostly 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sherman Medium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iran 5 Medium Tank (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attach from Armored Infantry Battal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fter first week of the w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0280" y="97308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4560" y="103032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42960" y="896760"/>
              <a:ext cx="76320" cy="63720"/>
              <a:chOff x="642960" y="896760"/>
              <a:chExt cx="76320" cy="63720"/>
            </a:xfrm>
          </p:grpSpPr>
          <p:sp>
            <p:nvSpPr>
              <p:cNvPr id="49" name=""/>
              <p:cNvSpPr/>
              <p:nvPr/>
            </p:nvSpPr>
            <p:spPr>
              <a:xfrm>
                <a:off x="642960" y="896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9280" y="896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830160" y="1574640"/>
              <a:ext cx="3049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2200" y="1606680"/>
              <a:ext cx="241200" cy="1616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8320" y="2192400"/>
              <a:ext cx="2318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27240" y="223848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82800" y="19558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82800" y="22683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82800" y="1812960"/>
              <a:ext cx="3240" cy="4651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211400" y="1822320"/>
              <a:ext cx="74160" cy="27000"/>
              <a:chOff x="1211400" y="1822320"/>
              <a:chExt cx="74160" cy="27000"/>
            </a:xfrm>
          </p:grpSpPr>
          <p:sp>
            <p:nvSpPr>
              <p:cNvPr id="59" name=""/>
              <p:cNvSpPr/>
              <p:nvPr/>
            </p:nvSpPr>
            <p:spPr>
              <a:xfrm>
                <a:off x="1211400" y="1822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58920" y="1822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136880" y="188748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1800" y="1927080"/>
              <a:ext cx="169560" cy="748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211400" y="1811160"/>
              <a:ext cx="74160" cy="27000"/>
              <a:chOff x="1211400" y="1811160"/>
              <a:chExt cx="74160" cy="27000"/>
            </a:xfrm>
          </p:grpSpPr>
          <p:sp>
            <p:nvSpPr>
              <p:cNvPr id="64" name=""/>
              <p:cNvSpPr/>
              <p:nvPr/>
            </p:nvSpPr>
            <p:spPr>
              <a:xfrm>
                <a:off x="1211400" y="1811160"/>
                <a:ext cx="28440" cy="2700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58920" y="1811160"/>
                <a:ext cx="26640" cy="2700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11400" y="2116080"/>
              <a:ext cx="74160" cy="27000"/>
              <a:chOff x="1211400" y="2116080"/>
              <a:chExt cx="74160" cy="27000"/>
            </a:xfrm>
          </p:grpSpPr>
          <p:sp>
            <p:nvSpPr>
              <p:cNvPr id="67" name=""/>
              <p:cNvSpPr/>
              <p:nvPr/>
            </p:nvSpPr>
            <p:spPr>
              <a:xfrm>
                <a:off x="1211400" y="2116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58920" y="2116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982800" y="1498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3400" y="310680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9480" y="316404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86040" y="3030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120" y="4249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1120" y="32209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7880" y="16509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820800"/>
              <a:ext cx="1600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TTLEGROUP IS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Battalion 197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6880" y="1422360"/>
              <a:ext cx="130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Battalion Headquar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5120" y="1727280"/>
              <a:ext cx="153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200" y="2168640"/>
              <a:ext cx="114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49280" y="2421000"/>
              <a:ext cx="16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3 Armored Observation Po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37240" y="287820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39760" y="30304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37960" y="3906720"/>
              <a:ext cx="94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1120" y="47070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5200" y="455436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9480" y="461160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35200" y="455400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400" y="4554360"/>
              <a:ext cx="304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86040" y="4478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1120" y="36878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37600" y="4478400"/>
              <a:ext cx="18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Infantry Company 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400" y="41734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953640" y="419580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7640" y="42991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916200" y="4097160"/>
              <a:ext cx="74160" cy="27000"/>
              <a:chOff x="916200" y="4097160"/>
              <a:chExt cx="74160" cy="27000"/>
            </a:xfrm>
          </p:grpSpPr>
          <p:sp>
            <p:nvSpPr>
              <p:cNvPr id="96" name=""/>
              <p:cNvSpPr/>
              <p:nvPr/>
            </p:nvSpPr>
            <p:spPr>
              <a:xfrm>
                <a:off x="916200" y="4097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63720" y="4097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81120" y="4249800"/>
              <a:ext cx="0" cy="45720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4160" y="402120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3 Self-propelled 120mm Mor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09720" y="3506760"/>
              <a:ext cx="121320" cy="27000"/>
              <a:chOff x="909720" y="3506760"/>
              <a:chExt cx="121320" cy="27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909720" y="3506760"/>
                <a:ext cx="73800" cy="27000"/>
                <a:chOff x="909720" y="3506760"/>
                <a:chExt cx="73800" cy="27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909720" y="3506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956880" y="3506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956880" y="3506760"/>
                <a:ext cx="74160" cy="27000"/>
                <a:chOff x="956880" y="3506760"/>
                <a:chExt cx="74160" cy="27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956880" y="3506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004400" y="3506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835200" y="35640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9480" y="362124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39760" y="348768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rmored Reconnaissance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3400" y="3564000"/>
              <a:ext cx="304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36880" y="24969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1800" y="253692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136880" y="2496600"/>
              <a:ext cx="23652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35080" y="249696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7680" y="2670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211400" y="2441520"/>
              <a:ext cx="74160" cy="27000"/>
              <a:chOff x="1211400" y="2441520"/>
              <a:chExt cx="74160" cy="27000"/>
            </a:xfrm>
          </p:grpSpPr>
          <p:sp>
            <p:nvSpPr>
              <p:cNvPr id="117" name=""/>
              <p:cNvSpPr/>
              <p:nvPr/>
            </p:nvSpPr>
            <p:spPr>
              <a:xfrm>
                <a:off x="1211400" y="244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58920" y="24415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62160" y="2668680"/>
              <a:ext cx="104760" cy="28440"/>
              <a:chOff x="1262160" y="2668680"/>
              <a:chExt cx="104760" cy="28440"/>
            </a:xfrm>
          </p:grpSpPr>
          <p:sp>
            <p:nvSpPr>
              <p:cNvPr id="120" name=""/>
              <p:cNvSpPr/>
              <p:nvPr/>
            </p:nvSpPr>
            <p:spPr>
              <a:xfrm>
                <a:off x="1262160" y="26701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38480" y="2668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81240" y="2687760"/>
                <a:ext cx="7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3276720" y="838080"/>
            <a:ext cx="2438280" cy="2138400"/>
            <a:chOff x="3276720" y="838080"/>
            <a:chExt cx="2438280" cy="2138400"/>
          </a:xfrm>
        </p:grpSpPr>
        <p:sp>
          <p:nvSpPr>
            <p:cNvPr id="124" name=""/>
            <p:cNvSpPr/>
            <p:nvPr/>
          </p:nvSpPr>
          <p:spPr>
            <a:xfrm>
              <a:off x="3429000" y="1199880"/>
              <a:ext cx="0" cy="609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3080" y="14238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000" y="1463400"/>
              <a:ext cx="169920" cy="748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83160" y="1368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0840" y="838080"/>
              <a:ext cx="1863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UEVER ELEMENT IS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x1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97128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97320" y="102852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3520" y="895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1504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18097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1280" y="17287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16200" y="17683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652920" y="1673280"/>
              <a:ext cx="74160" cy="26640"/>
              <a:chOff x="3652920" y="1673280"/>
              <a:chExt cx="74160" cy="26640"/>
            </a:xfrm>
          </p:grpSpPr>
          <p:sp>
            <p:nvSpPr>
              <p:cNvPr id="137" name=""/>
              <p:cNvSpPr/>
              <p:nvPr/>
            </p:nvSpPr>
            <p:spPr>
              <a:xfrm>
                <a:off x="3652920" y="1673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00440" y="16732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887640" y="1320840"/>
              <a:ext cx="15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7640" y="1690560"/>
              <a:ext cx="1505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2020680"/>
              <a:ext cx="24382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replace ALL Sh’ot Medium Tanks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gdan Medium Tank (mostly 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sherman Medium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iran 5 Medium Tank (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52680" y="3295800"/>
            <a:ext cx="2623680" cy="3110040"/>
            <a:chOff x="3352680" y="3295800"/>
            <a:chExt cx="2623680" cy="3110040"/>
          </a:xfrm>
        </p:grpSpPr>
        <p:sp>
          <p:nvSpPr>
            <p:cNvPr id="143" name=""/>
            <p:cNvSpPr/>
            <p:nvPr/>
          </p:nvSpPr>
          <p:spPr>
            <a:xfrm>
              <a:off x="3659040" y="46465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3960" y="46864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740040" y="4591080"/>
              <a:ext cx="74160" cy="27000"/>
              <a:chOff x="3740040" y="4591080"/>
              <a:chExt cx="74160" cy="27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740040" y="4591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87560" y="4591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504960" y="47433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560" y="4614840"/>
              <a:ext cx="151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04960" y="3340080"/>
              <a:ext cx="122400" cy="27000"/>
              <a:chOff x="3504960" y="3340080"/>
              <a:chExt cx="122400" cy="27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504960" y="3340080"/>
                <a:ext cx="74160" cy="27000"/>
                <a:chOff x="3504960" y="3340080"/>
                <a:chExt cx="74160" cy="27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04960" y="3340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52480" y="3340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552480" y="3340080"/>
                <a:ext cx="74880" cy="27000"/>
                <a:chOff x="3552480" y="3340080"/>
                <a:chExt cx="74880" cy="27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552480" y="33400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00360" y="3340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30440" y="33973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74720" y="345456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5360" y="3295800"/>
              <a:ext cx="224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UEVER ELEMENT IS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8640" y="3397320"/>
              <a:ext cx="304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740040" y="3778200"/>
              <a:ext cx="74160" cy="27000"/>
              <a:chOff x="3740040" y="3778200"/>
              <a:chExt cx="74160" cy="27000"/>
            </a:xfrm>
          </p:grpSpPr>
          <p:sp>
            <p:nvSpPr>
              <p:cNvPr id="162" name=""/>
              <p:cNvSpPr/>
              <p:nvPr/>
            </p:nvSpPr>
            <p:spPr>
              <a:xfrm>
                <a:off x="3740040" y="3778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87560" y="3778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659040" y="38433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4960" y="39117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8360" y="36831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1640" y="384336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2680" y="4300560"/>
              <a:ext cx="99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Zelda APC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62280" y="4024440"/>
              <a:ext cx="241200" cy="212760"/>
              <a:chOff x="3662280" y="4024440"/>
              <a:chExt cx="241200" cy="212760"/>
            </a:xfrm>
          </p:grpSpPr>
          <p:sp>
            <p:nvSpPr>
              <p:cNvPr id="170" name=""/>
              <p:cNvSpPr/>
              <p:nvPr/>
            </p:nvSpPr>
            <p:spPr>
              <a:xfrm>
                <a:off x="3663720" y="408024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3744720" y="4024440"/>
                <a:ext cx="74880" cy="27000"/>
                <a:chOff x="3744720" y="4024440"/>
                <a:chExt cx="74880" cy="27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744720" y="402444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792600" y="4024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 flipV="1">
                <a:off x="3663720" y="408024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62280" y="408024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662280" y="4262400"/>
              <a:ext cx="241200" cy="246240"/>
              <a:chOff x="3662280" y="4262400"/>
              <a:chExt cx="241200" cy="246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663720" y="431784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98640" y="435780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663720" y="4317480"/>
                <a:ext cx="23652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62280" y="431784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735360" y="4262400"/>
                <a:ext cx="74160" cy="27000"/>
                <a:chOff x="3735360" y="4262400"/>
                <a:chExt cx="74160" cy="27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735360" y="4262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82880" y="42624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681360" y="4481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52720" y="4479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09800" y="449892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891960" y="4057560"/>
              <a:ext cx="112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with LA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0720" y="42433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90720" y="400536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4960" y="363852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4954680"/>
              <a:ext cx="2514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In some battalions replace ALL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Halftrack A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replace Sh’ot Medium Tank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gdan Medium Tank (mostly 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sherman Medium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iran 5 Medium Tank (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 in Armored Infantry Battal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Jeep w/ 106mm Recoiless Rif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84360" y="6580080"/>
            <a:ext cx="1440" cy="1219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3514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800" y="640872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75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9080" y="6827760"/>
            <a:ext cx="74160" cy="27000"/>
            <a:chOff x="919080" y="6827760"/>
            <a:chExt cx="74160" cy="27000"/>
          </a:xfrm>
        </p:grpSpPr>
        <p:sp>
          <p:nvSpPr>
            <p:cNvPr id="197" name=""/>
            <p:cNvSpPr/>
            <p:nvPr/>
          </p:nvSpPr>
          <p:spPr>
            <a:xfrm>
              <a:off x="919080" y="6827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66600" y="6827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6892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6961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440" y="6199200"/>
            <a:ext cx="213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UEVER ELEMENT IS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rmored Infantry Company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7760" y="67327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799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7104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27000" y="7751880"/>
            <a:ext cx="76320" cy="85680"/>
            <a:chOff x="927000" y="7751880"/>
            <a:chExt cx="76320" cy="85680"/>
          </a:xfrm>
        </p:grpSpPr>
        <p:sp>
          <p:nvSpPr>
            <p:cNvPr id="206" name=""/>
            <p:cNvSpPr/>
            <p:nvPr/>
          </p:nvSpPr>
          <p:spPr>
            <a:xfrm>
              <a:off x="965160" y="77518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27000" y="783756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051200" y="7701120"/>
            <a:ext cx="175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3 Self-propelled 81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9240" y="78739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9080" y="7655040"/>
            <a:ext cx="74160" cy="27000"/>
            <a:chOff x="919080" y="7655040"/>
            <a:chExt cx="74160" cy="27000"/>
          </a:xfrm>
        </p:grpSpPr>
        <p:sp>
          <p:nvSpPr>
            <p:cNvPr id="211" name=""/>
            <p:cNvSpPr/>
            <p:nvPr/>
          </p:nvSpPr>
          <p:spPr>
            <a:xfrm>
              <a:off x="919080" y="7655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66600" y="76550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963720" y="7877160"/>
            <a:ext cx="104760" cy="28440"/>
            <a:chOff x="963720" y="7877160"/>
            <a:chExt cx="104760" cy="28440"/>
          </a:xfrm>
        </p:grpSpPr>
        <p:sp>
          <p:nvSpPr>
            <p:cNvPr id="214" name=""/>
            <p:cNvSpPr/>
            <p:nvPr/>
          </p:nvSpPr>
          <p:spPr>
            <a:xfrm>
              <a:off x="963720" y="7878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40040" y="7877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2800" y="7896240"/>
              <a:ext cx="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3520" y="635148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33520" y="63511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040" y="689292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71360" y="7350120"/>
            <a:ext cx="100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elda APC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41320" y="7074000"/>
            <a:ext cx="241200" cy="212760"/>
            <a:chOff x="841320" y="7074000"/>
            <a:chExt cx="241200" cy="212760"/>
          </a:xfrm>
        </p:grpSpPr>
        <p:sp>
          <p:nvSpPr>
            <p:cNvPr id="222" name=""/>
            <p:cNvSpPr/>
            <p:nvPr/>
          </p:nvSpPr>
          <p:spPr>
            <a:xfrm>
              <a:off x="842760" y="71298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923760" y="7074000"/>
              <a:ext cx="74880" cy="27000"/>
              <a:chOff x="923760" y="7074000"/>
              <a:chExt cx="74880" cy="2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923760" y="70740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71640" y="7074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842760" y="71298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1320" y="712980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43120" y="736776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8040" y="740736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43120" y="736776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1320" y="73677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14400" y="7311960"/>
            <a:ext cx="74160" cy="27000"/>
            <a:chOff x="914400" y="7311960"/>
            <a:chExt cx="74160" cy="27000"/>
          </a:xfrm>
        </p:grpSpPr>
        <p:sp>
          <p:nvSpPr>
            <p:cNvPr id="233" name=""/>
            <p:cNvSpPr/>
            <p:nvPr/>
          </p:nvSpPr>
          <p:spPr>
            <a:xfrm>
              <a:off x="914400" y="7311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61920" y="7311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860400" y="7531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1760" y="75294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755316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2440" y="710712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70120" y="72928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0120" y="705492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7951680"/>
            <a:ext cx="2361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four with  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In some battalions replace ALL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3 Halftrack A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533520" y="762120"/>
            <a:ext cx="2593440" cy="4496400"/>
            <a:chOff x="533520" y="762120"/>
            <a:chExt cx="2593440" cy="4496400"/>
          </a:xfrm>
        </p:grpSpPr>
        <p:sp>
          <p:nvSpPr>
            <p:cNvPr id="243" name=""/>
            <p:cNvSpPr/>
            <p:nvPr/>
          </p:nvSpPr>
          <p:spPr>
            <a:xfrm>
              <a:off x="1170000" y="2819160"/>
              <a:ext cx="0" cy="152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1143000"/>
              <a:ext cx="1440" cy="35046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914400"/>
              <a:ext cx="30312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7800" y="9712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46200" y="838080"/>
              <a:ext cx="75960" cy="63000"/>
              <a:chOff x="646200" y="838080"/>
              <a:chExt cx="75960" cy="6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646200" y="8380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2160" y="8380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833400" y="1515960"/>
              <a:ext cx="30492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5080" y="1547640"/>
              <a:ext cx="241560" cy="1616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1560" y="2666880"/>
              <a:ext cx="23148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30480" y="2712960"/>
              <a:ext cx="56880" cy="55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5680" y="189684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5680" y="274320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85680" y="1753920"/>
              <a:ext cx="5040" cy="988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220760" y="1763640"/>
              <a:ext cx="74160" cy="26640"/>
              <a:chOff x="1220760" y="1763640"/>
              <a:chExt cx="74160" cy="26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220760" y="1763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68280" y="17636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139760" y="182880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220760" y="2590560"/>
              <a:ext cx="74160" cy="26640"/>
              <a:chOff x="1220760" y="2590560"/>
              <a:chExt cx="74160" cy="26640"/>
            </a:xfrm>
          </p:grpSpPr>
          <p:sp>
            <p:nvSpPr>
              <p:cNvPr id="262" name=""/>
              <p:cNvSpPr/>
              <p:nvPr/>
            </p:nvSpPr>
            <p:spPr>
              <a:xfrm>
                <a:off x="1220760" y="2590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68280" y="25905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985680" y="1439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6640" y="3514680"/>
              <a:ext cx="30312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357192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8920" y="3438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46576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4360" y="3628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1120" y="15922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440" y="762120"/>
              <a:ext cx="210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TTLEGROUP IS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Infantry Battalion 197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0120" y="1363680"/>
              <a:ext cx="130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Battalion Headquar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69440" y="16682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69440" y="2643120"/>
              <a:ext cx="114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2520" y="2895480"/>
              <a:ext cx="16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3 Armored Observation Po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0480" y="328608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492120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1200" y="4314600"/>
              <a:ext cx="94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360" y="51148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496224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2720" y="501948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38080" y="3514320"/>
              <a:ext cx="29844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6640" y="3514680"/>
              <a:ext cx="3049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8920" y="488628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4360" y="40957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360" y="344808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Armored Infantry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6640" y="45813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957240" y="4603680"/>
              <a:ext cx="144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20880" y="470664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919080" y="4505040"/>
              <a:ext cx="74160" cy="26640"/>
              <a:chOff x="919080" y="4505040"/>
              <a:chExt cx="74160" cy="26640"/>
            </a:xfrm>
          </p:grpSpPr>
          <p:sp>
            <p:nvSpPr>
              <p:cNvPr id="291" name=""/>
              <p:cNvSpPr/>
              <p:nvPr/>
            </p:nvSpPr>
            <p:spPr>
              <a:xfrm>
                <a:off x="919080" y="45050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66600" y="45050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84360" y="4657680"/>
              <a:ext cx="0" cy="45684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7400" y="442908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3 Self-propelled 120mm Mor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912960" y="3914640"/>
              <a:ext cx="121320" cy="26640"/>
              <a:chOff x="912960" y="3914640"/>
              <a:chExt cx="121320" cy="266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912960" y="3914640"/>
                <a:ext cx="73800" cy="26640"/>
                <a:chOff x="912960" y="3914640"/>
                <a:chExt cx="73800" cy="26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912960" y="391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60120" y="39146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960120" y="3914640"/>
                <a:ext cx="74160" cy="26640"/>
                <a:chOff x="960120" y="3914640"/>
                <a:chExt cx="74160" cy="26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60120" y="391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07640" y="39146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838080" y="397188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82720" y="402912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3360" y="3895560"/>
              <a:ext cx="19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Reconnaissance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640" y="3971880"/>
              <a:ext cx="3049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39760" y="297180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74680" y="3011400"/>
              <a:ext cx="169920" cy="741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139760" y="2971440"/>
              <a:ext cx="23652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38320" y="2971800"/>
              <a:ext cx="24120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50920" y="31446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220760" y="2916000"/>
              <a:ext cx="74160" cy="26640"/>
              <a:chOff x="1220760" y="2916000"/>
              <a:chExt cx="74160" cy="26640"/>
            </a:xfrm>
          </p:grpSpPr>
          <p:sp>
            <p:nvSpPr>
              <p:cNvPr id="312" name=""/>
              <p:cNvSpPr/>
              <p:nvPr/>
            </p:nvSpPr>
            <p:spPr>
              <a:xfrm>
                <a:off x="1220760" y="2916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68280" y="29160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265400" y="3143160"/>
              <a:ext cx="104760" cy="27720"/>
              <a:chOff x="1265400" y="3143160"/>
              <a:chExt cx="104760" cy="27720"/>
            </a:xfrm>
          </p:grpSpPr>
          <p:sp>
            <p:nvSpPr>
              <p:cNvPr id="315" name=""/>
              <p:cNvSpPr/>
              <p:nvPr/>
            </p:nvSpPr>
            <p:spPr>
              <a:xfrm>
                <a:off x="1265400" y="3144240"/>
                <a:ext cx="288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41720" y="31431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84480" y="3161880"/>
                <a:ext cx="7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33520" y="914400"/>
              <a:ext cx="30456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33520" y="914040"/>
              <a:ext cx="29844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2360" y="1828800"/>
              <a:ext cx="24156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3760" y="2286000"/>
              <a:ext cx="99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Zelda APC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143000" y="2009520"/>
              <a:ext cx="241200" cy="212040"/>
              <a:chOff x="1143000" y="2009520"/>
              <a:chExt cx="241200" cy="2120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44440" y="2064960"/>
                <a:ext cx="239760" cy="15660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1225440" y="2009520"/>
                <a:ext cx="74880" cy="26640"/>
                <a:chOff x="1225440" y="2009520"/>
                <a:chExt cx="74880" cy="26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225440" y="200952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273320" y="2009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 flipV="1">
                <a:off x="1144440" y="206460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43000" y="2064960"/>
                <a:ext cx="24120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143000" y="2247840"/>
              <a:ext cx="241200" cy="245160"/>
              <a:chOff x="1143000" y="2247840"/>
              <a:chExt cx="241200" cy="245160"/>
            </a:xfrm>
          </p:grpSpPr>
          <p:sp>
            <p:nvSpPr>
              <p:cNvPr id="330" name=""/>
              <p:cNvSpPr/>
              <p:nvPr/>
            </p:nvSpPr>
            <p:spPr>
              <a:xfrm>
                <a:off x="1144440" y="2302920"/>
                <a:ext cx="239760" cy="15660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79360" y="2342880"/>
                <a:ext cx="169920" cy="7416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1144440" y="230256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43000" y="2302920"/>
                <a:ext cx="24120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1216080" y="2247840"/>
                <a:ext cx="74160" cy="26640"/>
                <a:chOff x="1216080" y="2247840"/>
                <a:chExt cx="74160" cy="266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216080" y="2247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263600" y="22478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162080" y="2466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3440" y="2464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90520" y="248364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372680" y="2043000"/>
              <a:ext cx="107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w/ LAW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71440" y="222876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71440" y="19904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33520" y="279360"/>
            <a:ext cx="5829120" cy="33012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raeli Battle Groups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276720" y="762120"/>
            <a:ext cx="2440800" cy="2338200"/>
            <a:chOff x="3276720" y="762120"/>
            <a:chExt cx="2440800" cy="2338200"/>
          </a:xfrm>
        </p:grpSpPr>
        <p:sp>
          <p:nvSpPr>
            <p:cNvPr id="345" name=""/>
            <p:cNvSpPr/>
            <p:nvPr/>
          </p:nvSpPr>
          <p:spPr>
            <a:xfrm>
              <a:off x="3427560" y="1143000"/>
              <a:ext cx="1440" cy="1219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76720" y="9144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21000" y="97164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29000" y="838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662280" y="1390680"/>
              <a:ext cx="74160" cy="27000"/>
              <a:chOff x="3662280" y="1390680"/>
              <a:chExt cx="74160" cy="270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2280" y="1390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09800" y="13906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581280" y="14558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7560" y="15238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640" y="762120"/>
              <a:ext cx="213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UEVER ELEMENT IS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Infantry Company 197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10960" y="129528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9000" y="23623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581280" y="2217600"/>
              <a:ext cx="1969920" cy="261720"/>
              <a:chOff x="3581280" y="2217600"/>
              <a:chExt cx="1969920" cy="261720"/>
            </a:xfrm>
          </p:grpSpPr>
          <p:sp>
            <p:nvSpPr>
              <p:cNvPr id="358" name=""/>
              <p:cNvSpPr/>
              <p:nvPr/>
            </p:nvSpPr>
            <p:spPr>
              <a:xfrm>
                <a:off x="3581280" y="227304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670200" y="2314440"/>
                <a:ext cx="76320" cy="85680"/>
                <a:chOff x="3670200" y="2314440"/>
                <a:chExt cx="76320" cy="856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708360" y="231444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70200" y="240012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3794400" y="2263680"/>
                <a:ext cx="1756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3 Self-propelled 81mm Morta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92440" y="2446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3662280" y="2217600"/>
                <a:ext cx="74160" cy="27000"/>
                <a:chOff x="3662280" y="2217600"/>
                <a:chExt cx="74160" cy="27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62280" y="2217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709800" y="22176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706920" y="2444760"/>
                <a:ext cx="104760" cy="28440"/>
                <a:chOff x="3706920" y="2444760"/>
                <a:chExt cx="104760" cy="284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06920" y="24462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783240" y="2444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726000" y="2463840"/>
                  <a:ext cx="7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3276720" y="914400"/>
              <a:ext cx="30456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76720" y="91404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4240" y="145584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4560" y="1913040"/>
              <a:ext cx="100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Zelda APC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584520" y="1636560"/>
              <a:ext cx="241200" cy="212760"/>
              <a:chOff x="3584520" y="1636560"/>
              <a:chExt cx="241200" cy="212760"/>
            </a:xfrm>
          </p:grpSpPr>
          <p:sp>
            <p:nvSpPr>
              <p:cNvPr id="376" name=""/>
              <p:cNvSpPr/>
              <p:nvPr/>
            </p:nvSpPr>
            <p:spPr>
              <a:xfrm>
                <a:off x="3585960" y="169236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3666960" y="1636560"/>
                <a:ext cx="74880" cy="27000"/>
                <a:chOff x="3666960" y="1636560"/>
                <a:chExt cx="74880" cy="27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666960" y="16365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714840" y="1636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 flipV="1">
                <a:off x="3585960" y="169236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84520" y="16923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584520" y="1874880"/>
              <a:ext cx="241200" cy="245520"/>
              <a:chOff x="3584520" y="1874880"/>
              <a:chExt cx="241200" cy="245520"/>
            </a:xfrm>
          </p:grpSpPr>
          <p:sp>
            <p:nvSpPr>
              <p:cNvPr id="383" name=""/>
              <p:cNvSpPr/>
              <p:nvPr/>
            </p:nvSpPr>
            <p:spPr>
              <a:xfrm>
                <a:off x="3585960" y="192996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20880" y="1969920"/>
                <a:ext cx="169920" cy="7416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585960" y="192996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84520" y="19299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657600" y="1874880"/>
                <a:ext cx="74160" cy="26640"/>
                <a:chOff x="3657600" y="1874880"/>
                <a:chExt cx="74160" cy="26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657600" y="1874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705120" y="18748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603600" y="2093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74960" y="2091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32040" y="211104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3815640" y="1670040"/>
              <a:ext cx="87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13320" y="185580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3320" y="16178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76720" y="2514600"/>
              <a:ext cx="23619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Up to four with  LA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In some battalions replace ALL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Halftrack A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520" y="5334120"/>
            <a:ext cx="2438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some battalions replace ALL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3 Halftrack A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ay attach from Armor after first week of w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76720" y="3276720"/>
            <a:ext cx="2623680" cy="3110040"/>
            <a:chOff x="3276720" y="3276720"/>
            <a:chExt cx="2623680" cy="3110040"/>
          </a:xfrm>
        </p:grpSpPr>
        <p:sp>
          <p:nvSpPr>
            <p:cNvPr id="399" name=""/>
            <p:cNvSpPr/>
            <p:nvPr/>
          </p:nvSpPr>
          <p:spPr>
            <a:xfrm>
              <a:off x="3583080" y="462744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18000" y="466740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664080" y="4572000"/>
              <a:ext cx="74160" cy="27000"/>
              <a:chOff x="3664080" y="4572000"/>
              <a:chExt cx="74160" cy="27000"/>
            </a:xfrm>
          </p:grpSpPr>
          <p:sp>
            <p:nvSpPr>
              <p:cNvPr id="402" name=""/>
              <p:cNvSpPr/>
              <p:nvPr/>
            </p:nvSpPr>
            <p:spPr>
              <a:xfrm>
                <a:off x="3664080" y="4572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1600" y="45720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3429000" y="47242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10600" y="4595760"/>
              <a:ext cx="151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429000" y="3321000"/>
              <a:ext cx="122400" cy="27000"/>
              <a:chOff x="3429000" y="3321000"/>
              <a:chExt cx="122400" cy="270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429000" y="3321000"/>
                <a:ext cx="74160" cy="27000"/>
                <a:chOff x="3429000" y="3321000"/>
                <a:chExt cx="74160" cy="27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429000" y="3321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76520" y="3321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3476520" y="3321000"/>
                <a:ext cx="74880" cy="27000"/>
                <a:chOff x="3476520" y="3321000"/>
                <a:chExt cx="74880" cy="27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476520" y="33210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524400" y="3321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3354480" y="337824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98760" y="343548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9400" y="3276720"/>
              <a:ext cx="224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UEVER ELEMENT IS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2680" y="3378240"/>
              <a:ext cx="304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664080" y="3759120"/>
              <a:ext cx="74160" cy="27000"/>
              <a:chOff x="3664080" y="3759120"/>
              <a:chExt cx="74160" cy="27000"/>
            </a:xfrm>
          </p:grpSpPr>
          <p:sp>
            <p:nvSpPr>
              <p:cNvPr id="418" name=""/>
              <p:cNvSpPr/>
              <p:nvPr/>
            </p:nvSpPr>
            <p:spPr>
              <a:xfrm>
                <a:off x="3664080" y="3759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11600" y="37591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83080" y="38242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38926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12400" y="366408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95680" y="382428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16720" y="4281480"/>
              <a:ext cx="99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Zelda APC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586320" y="4005360"/>
              <a:ext cx="241200" cy="212760"/>
              <a:chOff x="3586320" y="4005360"/>
              <a:chExt cx="241200" cy="212760"/>
            </a:xfrm>
          </p:grpSpPr>
          <p:sp>
            <p:nvSpPr>
              <p:cNvPr id="426" name=""/>
              <p:cNvSpPr/>
              <p:nvPr/>
            </p:nvSpPr>
            <p:spPr>
              <a:xfrm>
                <a:off x="3587760" y="406116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3668760" y="4005360"/>
                <a:ext cx="74880" cy="27000"/>
                <a:chOff x="3668760" y="4005360"/>
                <a:chExt cx="74880" cy="270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68760" y="40053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716640" y="4005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 flipV="1">
                <a:off x="3587760" y="406116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86320" y="40611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586320" y="4243320"/>
              <a:ext cx="241200" cy="246240"/>
              <a:chOff x="3586320" y="4243320"/>
              <a:chExt cx="241200" cy="246240"/>
            </a:xfrm>
          </p:grpSpPr>
          <p:sp>
            <p:nvSpPr>
              <p:cNvPr id="433" name=""/>
              <p:cNvSpPr/>
              <p:nvPr/>
            </p:nvSpPr>
            <p:spPr>
              <a:xfrm>
                <a:off x="3587760" y="429876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22680" y="433872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587760" y="4298400"/>
                <a:ext cx="23652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86320" y="429876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659400" y="4243320"/>
                <a:ext cx="74160" cy="27000"/>
                <a:chOff x="3659400" y="4243320"/>
                <a:chExt cx="74160" cy="270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659400" y="4243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706920" y="4243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3605400" y="4462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6760" y="446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33840" y="447984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816000" y="4038480"/>
              <a:ext cx="112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with LA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14760" y="422424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14760" y="398628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9000" y="361944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76720" y="4935600"/>
              <a:ext cx="2514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In some battalions replace ALL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Halftrack A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replace Sh’ot Medium Tank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gdan Medium Tank (mostly 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sherman Medium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iran 5 Medium Tank (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 in Armored Infantry Battal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Jeep w/ 106mm Recoiless Rif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3520" y="6095880"/>
            <a:ext cx="2438280" cy="2138400"/>
            <a:chOff x="533520" y="6095880"/>
            <a:chExt cx="2438280" cy="2138400"/>
          </a:xfrm>
        </p:grpSpPr>
        <p:sp>
          <p:nvSpPr>
            <p:cNvPr id="449" name=""/>
            <p:cNvSpPr/>
            <p:nvPr/>
          </p:nvSpPr>
          <p:spPr>
            <a:xfrm>
              <a:off x="685800" y="6457680"/>
              <a:ext cx="0" cy="609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9880" y="66816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800" y="6721200"/>
              <a:ext cx="169920" cy="748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39960" y="6626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7640" y="6095880"/>
              <a:ext cx="1863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UEVER ELEMENT IS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x1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9480" y="622908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4120" y="628632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0320" y="6153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5800" y="6762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" y="70675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8080" y="69865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3000" y="70261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909720" y="6931080"/>
              <a:ext cx="74160" cy="26640"/>
              <a:chOff x="909720" y="6931080"/>
              <a:chExt cx="74160" cy="26640"/>
            </a:xfrm>
          </p:grpSpPr>
          <p:sp>
            <p:nvSpPr>
              <p:cNvPr id="462" name=""/>
              <p:cNvSpPr/>
              <p:nvPr/>
            </p:nvSpPr>
            <p:spPr>
              <a:xfrm>
                <a:off x="909720" y="6931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57240" y="69310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144440" y="6578640"/>
              <a:ext cx="15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4440" y="6948360"/>
              <a:ext cx="1505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h’ot Main Battle Tank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520" y="7278480"/>
              <a:ext cx="24382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May replace ALL Sh’ot Medium Tanks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gdan Medium Tank (mostly 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sherman Medium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iran 5 Medium Tank (Sinai Fr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mark.hayes</cp:lastModifiedBy>
  <dcterms:modified xsi:type="dcterms:W3CDTF">2003-11-25T19:01:36Z</dcterms:modified>
  <cp:revision>16</cp:revision>
  <dc:subject/>
  <dc:title>PowerPoint Presentation</dc:title>
</cp:coreProperties>
</file>