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7EB-6A97-4C84-9D97-D0276077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2F2-2D6A-487A-906C-6E81B2A4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149-5862-4BDA-81C3-FAF98641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227-AD84-48FA-BD91-F6C34561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64A-E993-404C-A131-A1771303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2AE-73C5-43EA-9894-D8F81361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82A-BF57-486C-9A4D-0C790367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322-C527-4BD3-961B-D17A6929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1B1-2144-46C5-90E0-DB9D3F93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749-95E0-4F1C-ACD1-C2228E29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26C-6896-4272-BB4A-3A54042E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DD8-9EDE-4A4D-B83B-128AAC50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D576-D09F-4FD7-873F-2517C0CA5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5829120" cy="482760"/>
          </a:xfrm>
          <a:prstGeom prst="rect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rian Tables of Organization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mored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120" y="1278000"/>
            <a:ext cx="0" cy="2303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0280" y="1049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4560" y="110664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160" y="1346040"/>
            <a:ext cx="3049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1840" y="1378080"/>
            <a:ext cx="241560" cy="16164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0" y="17272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0" y="1584360"/>
            <a:ext cx="1440" cy="1429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47760" y="1603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36520" y="16588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71440" y="169848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82800" y="1270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3400" y="23162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79480" y="23734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1120" y="3152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120" y="24303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7880" y="14223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5200" y="89856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6600"/>
                </a:solidFill>
                <a:latin typeface="Arial"/>
              </a:rPr>
              <a:t>BATTLEGROUP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rmored Brigade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33640" y="12384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gade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6200" y="150804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62A (1970) Main Battle Tank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27320" y="213372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82960" y="22543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Tank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63240" y="329076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5200" y="19018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9480" y="195912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35200" y="190188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3400" y="190188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590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120" y="27925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02400" y="184140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echanized Infantry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76440" y="3505320"/>
            <a:ext cx="9360" cy="26668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5200" y="26686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79480" y="272556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91240" y="259236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Reconnaissanc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0257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61920" y="1828800"/>
            <a:ext cx="56880" cy="63360"/>
            <a:chOff x="961920" y="1828800"/>
            <a:chExt cx="56880" cy="63360"/>
          </a:xfrm>
        </p:grpSpPr>
        <p:sp>
          <p:nvSpPr>
            <p:cNvPr id="77" name=""/>
            <p:cNvSpPr/>
            <p:nvPr/>
          </p:nvSpPr>
          <p:spPr>
            <a:xfrm>
              <a:off x="961920" y="1828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8800" y="1828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961920" y="2241720"/>
            <a:ext cx="56880" cy="63360"/>
            <a:chOff x="961920" y="2241720"/>
            <a:chExt cx="56880" cy="63360"/>
          </a:xfrm>
        </p:grpSpPr>
        <p:sp>
          <p:nvSpPr>
            <p:cNvPr id="80" name=""/>
            <p:cNvSpPr/>
            <p:nvPr/>
          </p:nvSpPr>
          <p:spPr>
            <a:xfrm>
              <a:off x="961920" y="2241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18800" y="2241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838080" y="266868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657600" y="6010200"/>
            <a:ext cx="2658960" cy="1534680"/>
            <a:chOff x="3657600" y="6010200"/>
            <a:chExt cx="2658960" cy="1534680"/>
          </a:xfrm>
        </p:grpSpPr>
        <p:sp>
          <p:nvSpPr>
            <p:cNvPr id="84" name=""/>
            <p:cNvSpPr/>
            <p:nvPr/>
          </p:nvSpPr>
          <p:spPr>
            <a:xfrm>
              <a:off x="3886200" y="736092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21120" y="740088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967200" y="7305480"/>
              <a:ext cx="74880" cy="27000"/>
              <a:chOff x="3967200" y="7305480"/>
              <a:chExt cx="74880" cy="27000"/>
            </a:xfrm>
          </p:grpSpPr>
          <p:sp>
            <p:nvSpPr>
              <p:cNvPr id="87" name=""/>
              <p:cNvSpPr/>
              <p:nvPr/>
            </p:nvSpPr>
            <p:spPr>
              <a:xfrm>
                <a:off x="3967200" y="73054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15080" y="73054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3732480" y="74577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15520" y="7329240"/>
              <a:ext cx="1737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T-76B Light Amphibious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611172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02240" y="616896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62520" y="6010200"/>
              <a:ext cx="235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6600"/>
                  </a:solidFill>
                  <a:latin typeface="Arial"/>
                </a:rPr>
                <a:t>MANUEVER ELEMENT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rmored Reconnaissanc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967200" y="6492600"/>
              <a:ext cx="74880" cy="27000"/>
              <a:chOff x="3967200" y="6492600"/>
              <a:chExt cx="74880" cy="27000"/>
            </a:xfrm>
          </p:grpSpPr>
          <p:sp>
            <p:nvSpPr>
              <p:cNvPr id="95" name=""/>
              <p:cNvSpPr/>
              <p:nvPr/>
            </p:nvSpPr>
            <p:spPr>
              <a:xfrm>
                <a:off x="3967200" y="64926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15080" y="6492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3886200" y="655776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32480" y="66261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5880" y="639756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9160" y="6557760"/>
              <a:ext cx="241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9840" y="7014960"/>
              <a:ext cx="1819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BRDM-1 Armored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884760" y="6743520"/>
              <a:ext cx="241200" cy="212760"/>
              <a:chOff x="3884760" y="6743520"/>
              <a:chExt cx="241200" cy="212760"/>
            </a:xfrm>
          </p:grpSpPr>
          <p:sp>
            <p:nvSpPr>
              <p:cNvPr id="103" name=""/>
              <p:cNvSpPr/>
              <p:nvPr/>
            </p:nvSpPr>
            <p:spPr>
              <a:xfrm>
                <a:off x="3886200" y="6799320"/>
                <a:ext cx="239760" cy="15696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3967200" y="6743520"/>
                <a:ext cx="74880" cy="27000"/>
                <a:chOff x="3967200" y="6743520"/>
                <a:chExt cx="74880" cy="27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967200" y="674352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15080" y="67435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 flipV="1">
                <a:off x="3886200" y="6799320"/>
                <a:ext cx="2365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884760" y="679932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891240" y="70419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26160" y="7081560"/>
              <a:ext cx="16956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891240" y="704196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962520" y="6986520"/>
              <a:ext cx="74160" cy="27000"/>
              <a:chOff x="3962520" y="6986520"/>
              <a:chExt cx="74160" cy="2700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69865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10040" y="69865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3908520" y="72054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79880" y="72039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4800" y="676728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with RPG-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18240" y="696744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18240" y="672912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32480" y="6352920"/>
              <a:ext cx="0" cy="110484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8440" y="6038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662640" y="6116040"/>
              <a:ext cx="29844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838080" y="30481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7160" y="3086280"/>
            <a:ext cx="257400" cy="1317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71080" y="29718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5320" y="312408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3240" y="31240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31240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74600" y="31240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971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93760" y="359568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73600" y="3747960"/>
            <a:ext cx="146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T-54 Mine-clearing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9165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5200" y="48006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9480" y="48578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47242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987480" y="4838760"/>
            <a:ext cx="144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52560" y="50036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160" y="4829040"/>
            <a:ext cx="15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0880" y="4829040"/>
            <a:ext cx="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54080" y="4829040"/>
            <a:ext cx="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68920" y="474012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Antitank Missil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3987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76240" y="343368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71800" y="3429000"/>
            <a:ext cx="149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SU-23/4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876240" y="343224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475080"/>
            <a:ext cx="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343224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66880" y="35622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8240" y="3559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953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4941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60199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7800" y="51786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9040" y="52941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985320" y="5248440"/>
            <a:ext cx="1800" cy="85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49320" y="53402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73960" y="502920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4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16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7070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85840" y="5465880"/>
            <a:ext cx="219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6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135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85840" y="586584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7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55720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105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55022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5943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42840" y="56484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2560" y="6095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657600" y="4597560"/>
            <a:ext cx="2406960" cy="966600"/>
            <a:chOff x="3657600" y="4597560"/>
            <a:chExt cx="2406960" cy="966600"/>
          </a:xfrm>
        </p:grpSpPr>
        <p:sp>
          <p:nvSpPr>
            <p:cNvPr id="170" name=""/>
            <p:cNvSpPr/>
            <p:nvPr/>
          </p:nvSpPr>
          <p:spPr>
            <a:xfrm>
              <a:off x="3733920" y="4969080"/>
              <a:ext cx="0" cy="47628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8000" y="508176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22920" y="512172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88080" y="50263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6120" y="4597560"/>
              <a:ext cx="172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Arial"/>
                </a:rPr>
                <a:t>MANUEVER ELEMENT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57600" y="473112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02240" y="478836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51627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33920" y="54486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6200" y="538668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21120" y="542628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957840" y="5331240"/>
              <a:ext cx="74160" cy="27000"/>
              <a:chOff x="3957840" y="5331240"/>
              <a:chExt cx="74160" cy="27000"/>
            </a:xfrm>
          </p:grpSpPr>
          <p:sp>
            <p:nvSpPr>
              <p:cNvPr id="182" name=""/>
              <p:cNvSpPr/>
              <p:nvPr/>
            </p:nvSpPr>
            <p:spPr>
              <a:xfrm>
                <a:off x="3957840" y="53312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05360" y="53312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93640" y="4978800"/>
              <a:ext cx="187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62A (1970) Main Battle Tank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93640" y="5348520"/>
              <a:ext cx="187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62A (1970) Main Battle Tank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781440" y="4658040"/>
              <a:ext cx="56880" cy="63360"/>
              <a:chOff x="3781440" y="4658040"/>
              <a:chExt cx="56880" cy="633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81440" y="4658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38320" y="4658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647280" y="961920"/>
            <a:ext cx="76320" cy="75960"/>
            <a:chOff x="647280" y="961920"/>
            <a:chExt cx="76320" cy="75960"/>
          </a:xfrm>
        </p:grpSpPr>
        <p:sp>
          <p:nvSpPr>
            <p:cNvPr id="190" name=""/>
            <p:cNvSpPr/>
            <p:nvPr/>
          </p:nvSpPr>
          <p:spPr>
            <a:xfrm flipH="1">
              <a:off x="647280" y="961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7640" y="961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898800" y="27590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29040" y="28288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72880" y="89856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BATTLEGROUP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10288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708360" y="952560"/>
            <a:ext cx="57240" cy="63360"/>
            <a:chOff x="3708360" y="952560"/>
            <a:chExt cx="57240" cy="63360"/>
          </a:xfrm>
        </p:grpSpPr>
        <p:sp>
          <p:nvSpPr>
            <p:cNvPr id="197" name=""/>
            <p:cNvSpPr/>
            <p:nvPr/>
          </p:nvSpPr>
          <p:spPr>
            <a:xfrm>
              <a:off x="3708360" y="952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65600" y="952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736800" y="1276200"/>
            <a:ext cx="0" cy="19717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46520" y="2876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02120" y="1442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9440" y="1362240"/>
            <a:ext cx="30456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21120" y="1393920"/>
            <a:ext cx="24120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41720" y="1762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41720" y="1600200"/>
            <a:ext cx="1800" cy="168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07040" y="1628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41720" y="1285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6800" y="14382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2920" y="12636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25120" y="15238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299120" y="1884240"/>
            <a:ext cx="74160" cy="27000"/>
            <a:chOff x="4299120" y="1884240"/>
            <a:chExt cx="74160" cy="27000"/>
          </a:xfrm>
        </p:grpSpPr>
        <p:sp>
          <p:nvSpPr>
            <p:cNvPr id="212" name=""/>
            <p:cNvSpPr/>
            <p:nvPr/>
          </p:nvSpPr>
          <p:spPr>
            <a:xfrm>
              <a:off x="4299120" y="1884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6640" y="18842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202280" y="168120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14880" y="168120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27480" y="184932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02360" y="21906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6800" y="254016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24192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89680" y="2343240"/>
            <a:ext cx="179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41720" y="23432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4600" y="296712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00680" y="29113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4000" y="2647800"/>
            <a:ext cx="19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S-02 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41720" y="26859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6800" y="3238560"/>
            <a:ext cx="0" cy="79992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21080" y="361944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29040" y="24764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24120" y="1085760"/>
            <a:ext cx="21456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4520" y="102708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84520" y="102888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0800" y="183528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MP-1 Infantry Combat Vehicl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08400" y="19335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29280" y="2087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0640" y="20844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45120" y="1974960"/>
            <a:ext cx="16956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886200" y="241884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242892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38480" y="2838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657600" y="7678800"/>
            <a:ext cx="2236680" cy="931320"/>
            <a:chOff x="3657600" y="7678800"/>
            <a:chExt cx="2236680" cy="931320"/>
          </a:xfrm>
        </p:grpSpPr>
        <p:sp>
          <p:nvSpPr>
            <p:cNvPr id="241" name=""/>
            <p:cNvSpPr/>
            <p:nvPr/>
          </p:nvSpPr>
          <p:spPr>
            <a:xfrm>
              <a:off x="3657600" y="7812000"/>
              <a:ext cx="303480" cy="22824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02240" y="786888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33920" y="8049960"/>
              <a:ext cx="0" cy="46620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88000" y="816264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2920" y="820224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88080" y="81072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62520" y="7678800"/>
              <a:ext cx="193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Arial"/>
                </a:rPr>
                <a:t>MANUEVER ELEMENT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Antitank Missi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33920" y="82119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33920" y="85165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92560" y="80593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91120" y="8378640"/>
              <a:ext cx="140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ATGM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18160" y="773568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810240" y="7849800"/>
              <a:ext cx="144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75320" y="801504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33920" y="7840440"/>
              <a:ext cx="152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43280" y="7840440"/>
              <a:ext cx="0" cy="15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76840" y="7840440"/>
              <a:ext cx="0" cy="15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886200" y="8164080"/>
              <a:ext cx="236520" cy="1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86200" y="8416800"/>
              <a:ext cx="239760" cy="156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15000" y="8459640"/>
              <a:ext cx="169920" cy="741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44960" y="844380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962520" y="8364240"/>
              <a:ext cx="74160" cy="26640"/>
              <a:chOff x="3962520" y="8364240"/>
              <a:chExt cx="74160" cy="26640"/>
            </a:xfrm>
          </p:grpSpPr>
          <p:sp>
            <p:nvSpPr>
              <p:cNvPr id="263" name=""/>
              <p:cNvSpPr/>
              <p:nvPr/>
            </p:nvSpPr>
            <p:spPr>
              <a:xfrm>
                <a:off x="3962520" y="83642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10040" y="836424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 flipH="1">
              <a:off x="4003920" y="8446680"/>
              <a:ext cx="1440" cy="9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67200" y="854856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69000" y="844380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59280" y="844380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86360" y="858348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95920" y="858348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923760" y="3341520"/>
            <a:ext cx="74880" cy="27000"/>
            <a:chOff x="923760" y="3341520"/>
            <a:chExt cx="74880" cy="27000"/>
          </a:xfrm>
        </p:grpSpPr>
        <p:sp>
          <p:nvSpPr>
            <p:cNvPr id="272" name=""/>
            <p:cNvSpPr/>
            <p:nvPr/>
          </p:nvSpPr>
          <p:spPr>
            <a:xfrm>
              <a:off x="923760" y="33415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71640" y="33415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581280" y="5468760"/>
            <a:ext cx="2514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marL="457200" indent="-4572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Replace all in one armored brigade in e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ored division w/ T-55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3680" y="3976560"/>
            <a:ext cx="170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TU-120 Armored Bridge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838080" y="3733920"/>
            <a:ext cx="228600" cy="220680"/>
            <a:chOff x="838080" y="3733920"/>
            <a:chExt cx="228600" cy="220680"/>
          </a:xfrm>
        </p:grpSpPr>
        <p:sp>
          <p:nvSpPr>
            <p:cNvPr id="277" name=""/>
            <p:cNvSpPr/>
            <p:nvPr/>
          </p:nvSpPr>
          <p:spPr>
            <a:xfrm>
              <a:off x="838080" y="3781800"/>
              <a:ext cx="228600" cy="1728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57160" y="3819960"/>
              <a:ext cx="209520" cy="1076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6880" y="3848400"/>
              <a:ext cx="1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84160" y="38484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61920" y="38484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27080" y="38484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923760" y="3733920"/>
              <a:ext cx="74880" cy="27000"/>
              <a:chOff x="923760" y="3733920"/>
              <a:chExt cx="74880" cy="27000"/>
            </a:xfrm>
          </p:grpSpPr>
          <p:sp>
            <p:nvSpPr>
              <p:cNvPr id="284" name=""/>
              <p:cNvSpPr/>
              <p:nvPr/>
            </p:nvSpPr>
            <p:spPr>
              <a:xfrm>
                <a:off x="923760" y="37339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71640" y="3733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838080" y="3970440"/>
            <a:ext cx="228600" cy="220680"/>
            <a:chOff x="838080" y="3970440"/>
            <a:chExt cx="228600" cy="220680"/>
          </a:xfrm>
        </p:grpSpPr>
        <p:sp>
          <p:nvSpPr>
            <p:cNvPr id="287" name=""/>
            <p:cNvSpPr/>
            <p:nvPr/>
          </p:nvSpPr>
          <p:spPr>
            <a:xfrm>
              <a:off x="838080" y="4018320"/>
              <a:ext cx="228600" cy="1728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57160" y="4056480"/>
              <a:ext cx="209520" cy="1076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6880" y="4084920"/>
              <a:ext cx="1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84160" y="408492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61920" y="408492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27080" y="408492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923760" y="3970440"/>
              <a:ext cx="74880" cy="27000"/>
              <a:chOff x="923760" y="3970440"/>
              <a:chExt cx="74880" cy="27000"/>
            </a:xfrm>
          </p:grpSpPr>
          <p:sp>
            <p:nvSpPr>
              <p:cNvPr id="294" name=""/>
              <p:cNvSpPr/>
              <p:nvPr/>
            </p:nvSpPr>
            <p:spPr>
              <a:xfrm>
                <a:off x="923760" y="39704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971640" y="39704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"/>
          <p:cNvSpPr/>
          <p:nvPr/>
        </p:nvSpPr>
        <p:spPr>
          <a:xfrm>
            <a:off x="838080" y="42735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88720" y="441972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ZIL-157 Medium Tru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7800" y="45212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58960" y="46846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922320" y="4465800"/>
            <a:ext cx="74160" cy="27000"/>
            <a:chOff x="922320" y="4465800"/>
            <a:chExt cx="74160" cy="27000"/>
          </a:xfrm>
        </p:grpSpPr>
        <p:sp>
          <p:nvSpPr>
            <p:cNvPr id="301" name=""/>
            <p:cNvSpPr/>
            <p:nvPr/>
          </p:nvSpPr>
          <p:spPr>
            <a:xfrm>
              <a:off x="922320" y="44658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69840" y="44658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044720" y="46879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79480" y="444024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89440" y="422100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-44 85mm Antitank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4349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825120" y="4276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39960" y="4276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39960" y="43401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920880" y="4221000"/>
            <a:ext cx="74160" cy="27000"/>
            <a:chOff x="920880" y="4221000"/>
            <a:chExt cx="74160" cy="27000"/>
          </a:xfrm>
        </p:grpSpPr>
        <p:sp>
          <p:nvSpPr>
            <p:cNvPr id="311" name=""/>
            <p:cNvSpPr/>
            <p:nvPr/>
          </p:nvSpPr>
          <p:spPr>
            <a:xfrm>
              <a:off x="920880" y="42210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68400" y="42210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533520" y="6154560"/>
            <a:ext cx="2514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marL="457200" indent="-4572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Replace in one armored brigade in e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ored division w/ T-55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41148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38671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14640" y="30020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62320" y="30020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33920" y="3105000"/>
            <a:ext cx="2172960" cy="509040"/>
            <a:chOff x="3733920" y="3105000"/>
            <a:chExt cx="2172960" cy="509040"/>
          </a:xfrm>
        </p:grpSpPr>
        <p:grpSp>
          <p:nvGrpSpPr>
            <p:cNvPr id="319" name=""/>
            <p:cNvGrpSpPr/>
            <p:nvPr/>
          </p:nvGrpSpPr>
          <p:grpSpPr>
            <a:xfrm>
              <a:off x="3984480" y="3325680"/>
              <a:ext cx="74880" cy="27000"/>
              <a:chOff x="3984480" y="3325680"/>
              <a:chExt cx="74880" cy="27000"/>
            </a:xfrm>
          </p:grpSpPr>
          <p:sp>
            <p:nvSpPr>
              <p:cNvPr id="320" name=""/>
              <p:cNvSpPr/>
              <p:nvPr/>
            </p:nvSpPr>
            <p:spPr>
              <a:xfrm>
                <a:off x="3984480" y="33256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032360" y="3325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203720" y="3276720"/>
              <a:ext cx="170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BTR-152 Armored Transpor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03840" y="3384720"/>
              <a:ext cx="23940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24360" y="3554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91040" y="3554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40200" y="342576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33920" y="32241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0760" y="3105000"/>
              <a:ext cx="161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B-10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82mm Recoiless Rifl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95560" y="314316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3970440" y="3325680"/>
              <a:ext cx="74160" cy="27000"/>
              <a:chOff x="3970440" y="3325680"/>
              <a:chExt cx="74160" cy="27000"/>
            </a:xfrm>
          </p:grpSpPr>
          <p:sp>
            <p:nvSpPr>
              <p:cNvPr id="331" name=""/>
              <p:cNvSpPr/>
              <p:nvPr/>
            </p:nvSpPr>
            <p:spPr>
              <a:xfrm>
                <a:off x="3970440" y="33256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017960" y="33256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4092480" y="35514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27600" y="330984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78360" y="3218040"/>
              <a:ext cx="57240" cy="55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06800" y="31701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886200" y="38862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3920" y="40021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33960" y="3732120"/>
            <a:ext cx="212832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7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8098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0068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55920" y="2104920"/>
            <a:ext cx="15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81280" y="4218120"/>
            <a:ext cx="243864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Replace in one armored brigade in e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ored division with BTR-60P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33520" y="6634080"/>
            <a:ext cx="2532960" cy="2208960"/>
            <a:chOff x="533520" y="6634080"/>
            <a:chExt cx="2532960" cy="2208960"/>
          </a:xfrm>
        </p:grpSpPr>
        <p:sp>
          <p:nvSpPr>
            <p:cNvPr id="345" name=""/>
            <p:cNvSpPr/>
            <p:nvPr/>
          </p:nvSpPr>
          <p:spPr>
            <a:xfrm>
              <a:off x="838440" y="79185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46960" y="7870680"/>
              <a:ext cx="150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alyutka (Sagger) ATG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955440" y="7948440"/>
              <a:ext cx="1800" cy="10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19440" y="80503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20880" y="794556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1520" y="793584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97200" y="793584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11520" y="79675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97200" y="79740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914760" y="8115120"/>
              <a:ext cx="74160" cy="27000"/>
              <a:chOff x="914760" y="8115120"/>
              <a:chExt cx="74160" cy="27000"/>
            </a:xfrm>
          </p:grpSpPr>
          <p:sp>
            <p:nvSpPr>
              <p:cNvPr id="355" name=""/>
              <p:cNvSpPr/>
              <p:nvPr/>
            </p:nvSpPr>
            <p:spPr>
              <a:xfrm>
                <a:off x="914760" y="8115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962280" y="81151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911520" y="7866000"/>
              <a:ext cx="74160" cy="27000"/>
              <a:chOff x="911520" y="7866000"/>
              <a:chExt cx="74160" cy="27000"/>
            </a:xfrm>
          </p:grpSpPr>
          <p:sp>
            <p:nvSpPr>
              <p:cNvPr id="358" name=""/>
              <p:cNvSpPr/>
              <p:nvPr/>
            </p:nvSpPr>
            <p:spPr>
              <a:xfrm>
                <a:off x="911520" y="78660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959040" y="78660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84360" y="7027920"/>
              <a:ext cx="0" cy="24768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3520" y="678636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6160" y="6710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8520" y="71103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8440" y="716580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4360" y="7262640"/>
              <a:ext cx="15264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8800" y="6634080"/>
              <a:ext cx="201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Arial"/>
                </a:rPr>
                <a:t>MANUEVER ELEMENT-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chanized Infantry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72880" y="701496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51040" y="7165800"/>
              <a:ext cx="2415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56320" y="7647120"/>
              <a:ext cx="886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M-7 A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841680" y="7359480"/>
              <a:ext cx="241200" cy="212760"/>
              <a:chOff x="841680" y="7359480"/>
              <a:chExt cx="241200" cy="212760"/>
            </a:xfrm>
          </p:grpSpPr>
          <p:sp>
            <p:nvSpPr>
              <p:cNvPr id="371" name=""/>
              <p:cNvSpPr/>
              <p:nvPr/>
            </p:nvSpPr>
            <p:spPr>
              <a:xfrm>
                <a:off x="843120" y="7415280"/>
                <a:ext cx="239760" cy="15696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924120" y="7359480"/>
                <a:ext cx="74880" cy="27000"/>
                <a:chOff x="924120" y="7359480"/>
                <a:chExt cx="74880" cy="270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924120" y="735948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972000" y="73594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 flipV="1">
                <a:off x="843120" y="7415280"/>
                <a:ext cx="2365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41680" y="741528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14760" y="7618320"/>
              <a:ext cx="74160" cy="27000"/>
              <a:chOff x="914760" y="7618320"/>
              <a:chExt cx="74160" cy="27000"/>
            </a:xfrm>
          </p:grpSpPr>
          <p:sp>
            <p:nvSpPr>
              <p:cNvPr id="378" name=""/>
              <p:cNvSpPr/>
              <p:nvPr/>
            </p:nvSpPr>
            <p:spPr>
              <a:xfrm>
                <a:off x="914760" y="7618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962280" y="76183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1162800" y="7392960"/>
              <a:ext cx="81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6360" y="6838920"/>
              <a:ext cx="21456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520" y="6786360"/>
              <a:ext cx="30492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33520" y="6786000"/>
              <a:ext cx="29844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74800" y="809640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3080" y="8053200"/>
              <a:ext cx="19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BMP-1 Infantry Combat Vehicle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6360" y="817092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76600" y="83250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33560" y="83311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82720" y="8211960"/>
              <a:ext cx="169920" cy="7488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8440" y="767088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52920" y="77230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20880" y="77137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6600" y="7789680"/>
              <a:ext cx="154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52920" y="7675560"/>
              <a:ext cx="7596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876600" y="7675560"/>
              <a:ext cx="7632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6600" y="733248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6600" y="758988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6600" y="783756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95680" y="8346960"/>
              <a:ext cx="15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3520" y="8404200"/>
              <a:ext cx="24386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Up to six with RPG-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Replace all in one armored brigade in e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mored division with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BTR-60P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933720" y="324324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279360"/>
            <a:ext cx="5829120" cy="48276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rian Tables of Organization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mored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98800" y="27208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29040" y="279072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61898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47800" y="53229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1120" y="1201680"/>
            <a:ext cx="0" cy="2913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0280" y="9730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0160" y="1352520"/>
            <a:ext cx="3049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1840" y="1384200"/>
            <a:ext cx="24156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82800" y="17524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82800" y="1590840"/>
            <a:ext cx="1440" cy="168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47760" y="16192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82800" y="12762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3400" y="26892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79480" y="27464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24004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6440" y="2793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7880" y="1428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34840" y="820800"/>
            <a:ext cx="221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BATTLEGROU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rigade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33640" y="120024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gade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66200" y="15145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59720" y="18446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50PK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7880" y="24526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0120" y="2581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Tank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93760" y="420516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9040" y="5438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5200" y="22478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0480" y="414036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39040" y="217188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3400" y="40593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953640" y="408132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17640" y="41846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915840" y="4006800"/>
            <a:ext cx="74880" cy="27000"/>
            <a:chOff x="915840" y="4006800"/>
            <a:chExt cx="74880" cy="27000"/>
          </a:xfrm>
        </p:grpSpPr>
        <p:sp>
          <p:nvSpPr>
            <p:cNvPr id="435" name=""/>
            <p:cNvSpPr/>
            <p:nvPr/>
          </p:nvSpPr>
          <p:spPr>
            <a:xfrm>
              <a:off x="915840" y="40068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63720" y="4006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681120" y="4191120"/>
            <a:ext cx="0" cy="21333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68920" y="3930480"/>
            <a:ext cx="19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3 Off-board Direct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Company (12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5200" y="3038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0480" y="296244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Reconnaissanc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6240" y="19209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66760" y="20844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220760" y="1865160"/>
            <a:ext cx="74160" cy="27000"/>
            <a:chOff x="1220760" y="1865160"/>
            <a:chExt cx="74160" cy="27000"/>
          </a:xfrm>
        </p:grpSpPr>
        <p:sp>
          <p:nvSpPr>
            <p:cNvPr id="444" name=""/>
            <p:cNvSpPr/>
            <p:nvPr/>
          </p:nvSpPr>
          <p:spPr>
            <a:xfrm>
              <a:off x="1220760" y="1865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68280" y="18651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333440" y="20876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09480" y="6553080"/>
            <a:ext cx="2032920" cy="1068120"/>
            <a:chOff x="609480" y="6553080"/>
            <a:chExt cx="2032920" cy="1068120"/>
          </a:xfrm>
        </p:grpSpPr>
        <p:sp>
          <p:nvSpPr>
            <p:cNvPr id="448" name=""/>
            <p:cNvSpPr/>
            <p:nvPr/>
          </p:nvSpPr>
          <p:spPr>
            <a:xfrm>
              <a:off x="685800" y="6914880"/>
              <a:ext cx="0" cy="60948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9520" y="713880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74440" y="717840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39600" y="7083360"/>
              <a:ext cx="28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18000" y="6553080"/>
              <a:ext cx="172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Arial"/>
                </a:rPr>
                <a:t>MANUEVER ELEMENT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9480" y="668628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3760" y="6743520"/>
              <a:ext cx="21456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5800" y="72198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" y="75243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38080" y="744372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73000" y="748332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909360" y="7387920"/>
              <a:ext cx="74880" cy="27000"/>
              <a:chOff x="909360" y="7387920"/>
              <a:chExt cx="74880" cy="27000"/>
            </a:xfrm>
          </p:grpSpPr>
          <p:sp>
            <p:nvSpPr>
              <p:cNvPr id="460" name=""/>
              <p:cNvSpPr/>
              <p:nvPr/>
            </p:nvSpPr>
            <p:spPr>
              <a:xfrm>
                <a:off x="909360" y="73879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57240" y="7387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1144440" y="7035480"/>
              <a:ext cx="139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4440" y="7405560"/>
              <a:ext cx="139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731880" y="6609960"/>
              <a:ext cx="56880" cy="63360"/>
              <a:chOff x="731880" y="6609960"/>
              <a:chExt cx="56880" cy="63360"/>
            </a:xfrm>
          </p:grpSpPr>
          <p:sp>
            <p:nvSpPr>
              <p:cNvPr id="465" name=""/>
              <p:cNvSpPr/>
              <p:nvPr/>
            </p:nvSpPr>
            <p:spPr>
              <a:xfrm>
                <a:off x="731880" y="6609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88760" y="6609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7" name=""/>
          <p:cNvSpPr/>
          <p:nvPr/>
        </p:nvSpPr>
        <p:spPr>
          <a:xfrm>
            <a:off x="1143000" y="16714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55600" y="167148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77920" y="18399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985320" y="539280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49320" y="55040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73960" y="52182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8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24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58672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85840" y="565452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6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6305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85840" y="609444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7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3146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952560" y="2171880"/>
            <a:ext cx="57240" cy="63360"/>
            <a:chOff x="952560" y="2171880"/>
            <a:chExt cx="57240" cy="63360"/>
          </a:xfrm>
        </p:grpSpPr>
        <p:sp>
          <p:nvSpPr>
            <p:cNvPr id="479" name=""/>
            <p:cNvSpPr/>
            <p:nvPr/>
          </p:nvSpPr>
          <p:spPr>
            <a:xfrm>
              <a:off x="952560" y="21718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09800" y="21718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47280" y="885960"/>
            <a:ext cx="76320" cy="75960"/>
            <a:chOff x="647280" y="885960"/>
            <a:chExt cx="76320" cy="75960"/>
          </a:xfrm>
        </p:grpSpPr>
        <p:sp>
          <p:nvSpPr>
            <p:cNvPr id="482" name=""/>
            <p:cNvSpPr/>
            <p:nvPr/>
          </p:nvSpPr>
          <p:spPr>
            <a:xfrm flipH="1">
              <a:off x="64728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764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3872880" y="82224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BATTLEGROUP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8080" y="57326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2498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90720" y="56624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90720" y="6113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42840" y="5808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52560" y="6265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81280" y="990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708360" y="914400"/>
            <a:ext cx="57240" cy="63360"/>
            <a:chOff x="3708360" y="914400"/>
            <a:chExt cx="57240" cy="63360"/>
          </a:xfrm>
        </p:grpSpPr>
        <p:sp>
          <p:nvSpPr>
            <p:cNvPr id="493" name=""/>
            <p:cNvSpPr/>
            <p:nvPr/>
          </p:nvSpPr>
          <p:spPr>
            <a:xfrm>
              <a:off x="370836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6560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736800" y="1238400"/>
            <a:ext cx="0" cy="21906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46520" y="2838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02120" y="1405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9440" y="1324080"/>
            <a:ext cx="30456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21120" y="1355760"/>
            <a:ext cx="24120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1720" y="17240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041720" y="1562040"/>
            <a:ext cx="1800" cy="1684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7040" y="1590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041720" y="12477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36800" y="14000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2920" y="117144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25120" y="14860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308480" y="1855800"/>
            <a:ext cx="74160" cy="27000"/>
            <a:chOff x="4308480" y="1855800"/>
            <a:chExt cx="74160" cy="27000"/>
          </a:xfrm>
        </p:grpSpPr>
        <p:sp>
          <p:nvSpPr>
            <p:cNvPr id="508" name=""/>
            <p:cNvSpPr/>
            <p:nvPr/>
          </p:nvSpPr>
          <p:spPr>
            <a:xfrm>
              <a:off x="4308480" y="18558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56000" y="18558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202280" y="164304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14880" y="164304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27480" y="18111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02360" y="21528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736800" y="25020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86200" y="2381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89680" y="2305080"/>
            <a:ext cx="179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41720" y="2305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14600" y="290988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00680" y="28735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94000" y="2610000"/>
            <a:ext cx="19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S-02 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41720" y="2647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36800" y="3429000"/>
            <a:ext cx="0" cy="121932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21080" y="377676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7640" y="45244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5360" y="4648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270320" y="4417920"/>
            <a:ext cx="215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5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 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40280" y="44481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02120" y="4600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1680" y="10288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33520" y="97164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533520" y="97272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182600" y="196200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76240" y="231300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835200" y="224748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33400" y="224784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961920" y="2616120"/>
            <a:ext cx="57240" cy="63360"/>
            <a:chOff x="961920" y="2616120"/>
            <a:chExt cx="57240" cy="63360"/>
          </a:xfrm>
        </p:grpSpPr>
        <p:sp>
          <p:nvSpPr>
            <p:cNvPr id="537" name=""/>
            <p:cNvSpPr/>
            <p:nvPr/>
          </p:nvSpPr>
          <p:spPr>
            <a:xfrm>
              <a:off x="961920" y="2616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19160" y="2616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000080" y="29653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76240" y="310356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838080" y="303696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29040" y="243828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24120" y="1047600"/>
            <a:ext cx="21456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84520" y="98892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584520" y="9907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22240" y="17971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50PK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18120" y="19051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38640" y="20685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405320" y="2065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54480" y="194616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886200" y="238140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84760" y="239076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28004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984480" y="3506760"/>
            <a:ext cx="74880" cy="27000"/>
            <a:chOff x="3984480" y="3506760"/>
            <a:chExt cx="74880" cy="27000"/>
          </a:xfrm>
        </p:grpSpPr>
        <p:sp>
          <p:nvSpPr>
            <p:cNvPr id="555" name=""/>
            <p:cNvSpPr/>
            <p:nvPr/>
          </p:nvSpPr>
          <p:spPr>
            <a:xfrm>
              <a:off x="3984480" y="35067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2360" y="3506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4203000" y="3457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50PK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03840" y="356544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24360" y="3735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091040" y="3735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40200" y="360684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05280" y="43830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32120" y="82105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71978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61800" y="7118280"/>
            <a:ext cx="179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MANUEVER ELEMENT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onnaissance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00680" y="7588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86200" y="76438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32120" y="77119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5880" y="748332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98800" y="764388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9480" y="8396280"/>
            <a:ext cx="14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DM-1 Recon Vehi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86200" y="81583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3962520" y="8107200"/>
            <a:ext cx="74160" cy="27000"/>
            <a:chOff x="3962520" y="8107200"/>
            <a:chExt cx="74160" cy="27000"/>
          </a:xfrm>
        </p:grpSpPr>
        <p:sp>
          <p:nvSpPr>
            <p:cNvPr id="574" name=""/>
            <p:cNvSpPr/>
            <p:nvPr/>
          </p:nvSpPr>
          <p:spPr>
            <a:xfrm>
              <a:off x="3962520" y="81072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10040" y="81072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 flipV="1">
            <a:off x="3886200" y="815832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4760" y="8158320"/>
            <a:ext cx="2412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90880" y="84009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971880" y="8354880"/>
            <a:ext cx="74160" cy="27000"/>
            <a:chOff x="3971880" y="8354880"/>
            <a:chExt cx="74160" cy="27000"/>
          </a:xfrm>
        </p:grpSpPr>
        <p:sp>
          <p:nvSpPr>
            <p:cNvPr id="580" name=""/>
            <p:cNvSpPr/>
            <p:nvPr/>
          </p:nvSpPr>
          <p:spPr>
            <a:xfrm>
              <a:off x="3971880" y="8354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19400" y="83548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3908520" y="85644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79880" y="8562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812628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with RPG-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17880" y="832644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32120" y="7448400"/>
            <a:ext cx="0" cy="762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84760" y="788688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965400" y="7840800"/>
            <a:ext cx="74880" cy="27000"/>
            <a:chOff x="3965400" y="7840800"/>
            <a:chExt cx="74880" cy="27000"/>
          </a:xfrm>
        </p:grpSpPr>
        <p:sp>
          <p:nvSpPr>
            <p:cNvPr id="589" name=""/>
            <p:cNvSpPr/>
            <p:nvPr/>
          </p:nvSpPr>
          <p:spPr>
            <a:xfrm>
              <a:off x="3965400" y="78408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13280" y="7840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902040" y="8050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073400" y="80485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11760" y="781200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5160" y="827712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15160" y="774396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09880" y="71247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05120" y="7262640"/>
            <a:ext cx="21456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662280" y="720108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25800" y="84391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886200" y="840096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116240" y="7881840"/>
            <a:ext cx="14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DM-1 Recon Vehi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924360" y="792468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886200" y="788688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09480" y="7772400"/>
            <a:ext cx="2236680" cy="931680"/>
            <a:chOff x="609480" y="7772400"/>
            <a:chExt cx="2236680" cy="931680"/>
          </a:xfrm>
        </p:grpSpPr>
        <p:sp>
          <p:nvSpPr>
            <p:cNvPr id="605" name=""/>
            <p:cNvSpPr/>
            <p:nvPr/>
          </p:nvSpPr>
          <p:spPr>
            <a:xfrm>
              <a:off x="609480" y="790596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4120" y="796320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8143920"/>
              <a:ext cx="0" cy="4669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9880" y="825660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74800" y="829656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39960" y="8201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14400" y="7772400"/>
              <a:ext cx="193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Arial"/>
                </a:rPr>
                <a:t>MANUEVER ELEMENT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Antitank Missi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83059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5800" y="861084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4440" y="81536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43000" y="8472600"/>
              <a:ext cx="140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ATGM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70040" y="7829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762120" y="7944120"/>
              <a:ext cx="144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7200" y="810900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5800" y="7934400"/>
              <a:ext cx="152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5160" y="793440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28720" y="793440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838080" y="825840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838080" y="8458200"/>
              <a:ext cx="239760" cy="245880"/>
              <a:chOff x="838080" y="8458200"/>
              <a:chExt cx="239760" cy="245880"/>
            </a:xfrm>
          </p:grpSpPr>
          <p:sp>
            <p:nvSpPr>
              <p:cNvPr id="624" name=""/>
              <p:cNvSpPr/>
              <p:nvPr/>
            </p:nvSpPr>
            <p:spPr>
              <a:xfrm>
                <a:off x="838080" y="8510400"/>
                <a:ext cx="239760" cy="15732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66520" y="8553240"/>
                <a:ext cx="169920" cy="7452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996840" y="8528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914400" y="8458200"/>
                <a:ext cx="74160" cy="27000"/>
                <a:chOff x="914400" y="8458200"/>
                <a:chExt cx="74160" cy="270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914400" y="84582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961920" y="84582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 flipH="1">
                <a:off x="955080" y="8540640"/>
                <a:ext cx="1800" cy="10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19080" y="865188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920520" y="853740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1160" y="8528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038240" y="8677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47440" y="86770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6" name=""/>
          <p:cNvSpPr/>
          <p:nvPr/>
        </p:nvSpPr>
        <p:spPr>
          <a:xfrm>
            <a:off x="685800" y="50497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5200" y="49338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79480" y="49910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90720" y="48578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987480" y="4971960"/>
            <a:ext cx="14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52560" y="513720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1160" y="4962600"/>
            <a:ext cx="15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920880" y="4962600"/>
            <a:ext cx="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054080" y="4962600"/>
            <a:ext cx="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168920" y="487368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Antitank Missil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33920" y="3166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733920" y="33955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90760" y="3048120"/>
            <a:ext cx="161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0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2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91120" y="3290760"/>
            <a:ext cx="166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1  107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95560" y="30862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95560" y="33148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70440" y="3506760"/>
            <a:ext cx="74160" cy="27000"/>
            <a:chOff x="3970440" y="3506760"/>
            <a:chExt cx="74160" cy="27000"/>
          </a:xfrm>
        </p:grpSpPr>
        <p:sp>
          <p:nvSpPr>
            <p:cNvPr id="653" name=""/>
            <p:cNvSpPr/>
            <p:nvPr/>
          </p:nvSpPr>
          <p:spPr>
            <a:xfrm>
              <a:off x="3970440" y="35067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17960" y="35067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092480" y="37321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27600" y="348156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78360" y="3389400"/>
            <a:ext cx="5724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78360" y="3160800"/>
            <a:ext cx="5724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006800" y="33415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006800" y="31129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89440" y="39574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68520" y="408312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ZIL-157 Medium Tru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2148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38080" y="37101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74800" y="375444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08520" y="3714840"/>
            <a:ext cx="149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SU-23/4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873000" y="375300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1160" y="3790800"/>
            <a:ext cx="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58680" y="375300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25640" y="3876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82720" y="38955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68320" y="38797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912960" y="3657600"/>
            <a:ext cx="74160" cy="27000"/>
            <a:chOff x="912960" y="3657600"/>
            <a:chExt cx="74160" cy="27000"/>
          </a:xfrm>
        </p:grpSpPr>
        <p:sp>
          <p:nvSpPr>
            <p:cNvPr id="674" name=""/>
            <p:cNvSpPr/>
            <p:nvPr/>
          </p:nvSpPr>
          <p:spPr>
            <a:xfrm>
              <a:off x="912960" y="36576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60480" y="36576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4076640" y="43815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30480" y="413388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271400" y="3900600"/>
            <a:ext cx="165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M-3 100mm Antitank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736800" y="40384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857400" y="3956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000680" y="3956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90960" y="40194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38080" y="33814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57160" y="3419640"/>
            <a:ext cx="257400" cy="1317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71080" y="33051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95320" y="34574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03240" y="345744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988920" y="345744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74600" y="345744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90720" y="33051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3505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581280" y="4923000"/>
            <a:ext cx="2438640" cy="1936440"/>
            <a:chOff x="3581280" y="4923000"/>
            <a:chExt cx="2438640" cy="1936440"/>
          </a:xfrm>
        </p:grpSpPr>
        <p:sp>
          <p:nvSpPr>
            <p:cNvPr id="693" name=""/>
            <p:cNvSpPr/>
            <p:nvPr/>
          </p:nvSpPr>
          <p:spPr>
            <a:xfrm>
              <a:off x="3886200" y="6207120"/>
              <a:ext cx="239760" cy="156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94720" y="6159240"/>
              <a:ext cx="150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alyutka (Sagger) ATG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4003200" y="6237000"/>
              <a:ext cx="1800" cy="9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67200" y="633888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8640" y="62341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59280" y="622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44960" y="622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959280" y="6256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044960" y="626256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962520" y="6403680"/>
              <a:ext cx="74160" cy="26640"/>
              <a:chOff x="3962520" y="6403680"/>
              <a:chExt cx="74160" cy="26640"/>
            </a:xfrm>
          </p:grpSpPr>
          <p:sp>
            <p:nvSpPr>
              <p:cNvPr id="703" name=""/>
              <p:cNvSpPr/>
              <p:nvPr/>
            </p:nvSpPr>
            <p:spPr>
              <a:xfrm>
                <a:off x="3962520" y="64036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010040" y="640368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3959280" y="6154560"/>
              <a:ext cx="74160" cy="26640"/>
              <a:chOff x="3959280" y="6154560"/>
              <a:chExt cx="74160" cy="26640"/>
            </a:xfrm>
          </p:grpSpPr>
          <p:sp>
            <p:nvSpPr>
              <p:cNvPr id="706" name=""/>
              <p:cNvSpPr/>
              <p:nvPr/>
            </p:nvSpPr>
            <p:spPr>
              <a:xfrm>
                <a:off x="3959280" y="6154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006800" y="615456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3732120" y="5316480"/>
              <a:ext cx="0" cy="247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81280" y="5074920"/>
              <a:ext cx="303480" cy="22824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33920" y="499896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86280" y="53989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86200" y="54543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32120" y="5551200"/>
              <a:ext cx="15264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86560" y="4923000"/>
              <a:ext cx="201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Arial"/>
                </a:rPr>
                <a:t>MANUEVER ELEMENT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chanized Infantry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20640" y="530352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98800" y="5454360"/>
              <a:ext cx="24156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04080" y="5935680"/>
              <a:ext cx="886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M-7 A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3889440" y="5648040"/>
              <a:ext cx="241200" cy="212040"/>
              <a:chOff x="3889440" y="5648040"/>
              <a:chExt cx="241200" cy="212040"/>
            </a:xfrm>
          </p:grpSpPr>
          <p:sp>
            <p:nvSpPr>
              <p:cNvPr id="719" name=""/>
              <p:cNvSpPr/>
              <p:nvPr/>
            </p:nvSpPr>
            <p:spPr>
              <a:xfrm>
                <a:off x="3890880" y="5703480"/>
                <a:ext cx="239760" cy="15660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"/>
              <p:cNvGrpSpPr/>
              <p:nvPr/>
            </p:nvGrpSpPr>
            <p:grpSpPr>
              <a:xfrm>
                <a:off x="3971880" y="5648040"/>
                <a:ext cx="74880" cy="26640"/>
                <a:chOff x="3971880" y="5648040"/>
                <a:chExt cx="74880" cy="266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3971880" y="564804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019760" y="56480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3" name=""/>
              <p:cNvSpPr/>
              <p:nvPr/>
            </p:nvSpPr>
            <p:spPr>
              <a:xfrm flipV="1">
                <a:off x="3890880" y="5703120"/>
                <a:ext cx="23652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889440" y="5703480"/>
                <a:ext cx="24120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962520" y="5906880"/>
              <a:ext cx="74160" cy="26640"/>
              <a:chOff x="3962520" y="5906880"/>
              <a:chExt cx="74160" cy="26640"/>
            </a:xfrm>
          </p:grpSpPr>
          <p:sp>
            <p:nvSpPr>
              <p:cNvPr id="726" name=""/>
              <p:cNvSpPr/>
              <p:nvPr/>
            </p:nvSpPr>
            <p:spPr>
              <a:xfrm>
                <a:off x="3962520" y="59068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10040" y="590688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4210560" y="5681520"/>
              <a:ext cx="81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624120" y="5127480"/>
              <a:ext cx="214560" cy="10908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81280" y="5074920"/>
              <a:ext cx="30492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3581280" y="5074920"/>
              <a:ext cx="29844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22560" y="6384960"/>
              <a:ext cx="0" cy="7560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02640" y="63417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BTR-50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94120" y="6459480"/>
              <a:ext cx="239760" cy="156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24360" y="6613560"/>
              <a:ext cx="28440" cy="26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81320" y="6619680"/>
              <a:ext cx="28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30480" y="650052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86200" y="5959440"/>
              <a:ext cx="239760" cy="156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00680" y="6011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8640" y="600228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924360" y="6078240"/>
              <a:ext cx="154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000680" y="5964120"/>
              <a:ext cx="7596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924360" y="5964120"/>
              <a:ext cx="7632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24360" y="562104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24360" y="5878440"/>
              <a:ext cx="0" cy="7560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24360" y="6126120"/>
              <a:ext cx="0" cy="7560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943440" y="6635520"/>
              <a:ext cx="15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581280" y="6692760"/>
              <a:ext cx="24386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Up to six with RPG-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1173600" y="4357800"/>
            <a:ext cx="146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T-54 Mine-clearing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83680" y="4586400"/>
            <a:ext cx="170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TU-120 Armored Bridge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838080" y="4343400"/>
            <a:ext cx="228600" cy="220680"/>
            <a:chOff x="838080" y="4343400"/>
            <a:chExt cx="228600" cy="220680"/>
          </a:xfrm>
        </p:grpSpPr>
        <p:sp>
          <p:nvSpPr>
            <p:cNvPr id="752" name=""/>
            <p:cNvSpPr/>
            <p:nvPr/>
          </p:nvSpPr>
          <p:spPr>
            <a:xfrm>
              <a:off x="838080" y="4391280"/>
              <a:ext cx="228600" cy="1728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7160" y="4429440"/>
              <a:ext cx="209520" cy="1076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66880" y="4457880"/>
              <a:ext cx="1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84160" y="445788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961920" y="445788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027080" y="445788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923760" y="4343400"/>
              <a:ext cx="74880" cy="27000"/>
              <a:chOff x="923760" y="4343400"/>
              <a:chExt cx="74880" cy="27000"/>
            </a:xfrm>
          </p:grpSpPr>
          <p:sp>
            <p:nvSpPr>
              <p:cNvPr id="759" name=""/>
              <p:cNvSpPr/>
              <p:nvPr/>
            </p:nvSpPr>
            <p:spPr>
              <a:xfrm>
                <a:off x="923760" y="43434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971640" y="4343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1" name=""/>
          <p:cNvGrpSpPr/>
          <p:nvPr/>
        </p:nvGrpSpPr>
        <p:grpSpPr>
          <a:xfrm>
            <a:off x="838080" y="4579920"/>
            <a:ext cx="228600" cy="220680"/>
            <a:chOff x="838080" y="4579920"/>
            <a:chExt cx="228600" cy="220680"/>
          </a:xfrm>
        </p:grpSpPr>
        <p:sp>
          <p:nvSpPr>
            <p:cNvPr id="762" name=""/>
            <p:cNvSpPr/>
            <p:nvPr/>
          </p:nvSpPr>
          <p:spPr>
            <a:xfrm>
              <a:off x="838080" y="4627800"/>
              <a:ext cx="228600" cy="1728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57160" y="4665960"/>
              <a:ext cx="209520" cy="1076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66880" y="4694400"/>
              <a:ext cx="1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84160" y="46944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961920" y="46944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27080" y="46944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923760" y="4579920"/>
              <a:ext cx="74880" cy="27000"/>
              <a:chOff x="923760" y="4579920"/>
              <a:chExt cx="74880" cy="27000"/>
            </a:xfrm>
          </p:grpSpPr>
          <p:sp>
            <p:nvSpPr>
              <p:cNvPr id="769" name=""/>
              <p:cNvSpPr/>
              <p:nvPr/>
            </p:nvSpPr>
            <p:spPr>
              <a:xfrm>
                <a:off x="923760" y="45799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971640" y="4579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1" name=""/>
          <p:cNvSpPr/>
          <p:nvPr/>
        </p:nvSpPr>
        <p:spPr>
          <a:xfrm>
            <a:off x="685800" y="47242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4476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87280" y="21049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208584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952800" y="375300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996840" y="44179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0880" y="304920"/>
            <a:ext cx="6096240" cy="6094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rian Tables of Organization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mored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09880" y="391176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011960" y="644040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16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156920" y="2432160"/>
            <a:ext cx="2021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156920" y="3790800"/>
            <a:ext cx="2021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09880" y="25351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685800" y="6497640"/>
            <a:ext cx="303120" cy="301680"/>
            <a:chOff x="685800" y="6497640"/>
            <a:chExt cx="303120" cy="301680"/>
          </a:xfrm>
        </p:grpSpPr>
        <p:sp>
          <p:nvSpPr>
            <p:cNvPr id="785" name=""/>
            <p:cNvSpPr/>
            <p:nvPr/>
          </p:nvSpPr>
          <p:spPr>
            <a:xfrm>
              <a:off x="685800" y="657072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823320" y="6640560"/>
              <a:ext cx="1800" cy="9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7320" y="675144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28720" y="6497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3962520" y="24652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62520" y="38354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14640" y="2611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24360" y="39877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09880" y="11606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191840" y="1028880"/>
            <a:ext cx="20156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 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62520" y="10843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24360" y="1236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34131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16040" y="348300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87320" y="35654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984960" y="327672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6600"/>
                </a:solidFill>
                <a:latin typeface="Arial"/>
              </a:rPr>
              <a:t>FIRE SUPPORT ELEMENT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28720" y="3340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25480" y="34923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92880" y="507348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Company (12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5800" y="517212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24040" y="524196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97040" y="534348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28720" y="50990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38080" y="1387440"/>
            <a:ext cx="0" cy="1255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28880" y="273204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28880" y="238932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019160" y="1741320"/>
            <a:ext cx="0" cy="1526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85800" y="11714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04880" y="1209600"/>
            <a:ext cx="257040" cy="1317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024560" y="1069920"/>
            <a:ext cx="172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6600"/>
                </a:solidFill>
                <a:latin typeface="Arial"/>
              </a:rPr>
              <a:t>MANEUVER ELEMENT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43040" y="1247760"/>
            <a:ext cx="19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50960" y="124776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836640" y="124776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22320" y="124776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38080" y="1095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204200" y="2808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60PB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990720" y="28843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011240" y="30481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065240" y="2819520"/>
            <a:ext cx="74160" cy="27000"/>
            <a:chOff x="1065240" y="2819520"/>
            <a:chExt cx="74160" cy="27000"/>
          </a:xfrm>
        </p:grpSpPr>
        <p:sp>
          <p:nvSpPr>
            <p:cNvPr id="824" name=""/>
            <p:cNvSpPr/>
            <p:nvPr/>
          </p:nvSpPr>
          <p:spPr>
            <a:xfrm>
              <a:off x="1065240" y="28195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12760" y="28195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168560" y="3044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027080" y="29257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028880" y="205596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096920" y="1547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44560" y="16714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15360" y="14428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92160" y="16002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004760" y="160020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95400" y="18921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052640" y="1954080"/>
            <a:ext cx="152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1066680" y="1839960"/>
            <a:ext cx="74880" cy="27000"/>
            <a:chOff x="1066680" y="1839960"/>
            <a:chExt cx="74880" cy="27000"/>
          </a:xfrm>
        </p:grpSpPr>
        <p:sp>
          <p:nvSpPr>
            <p:cNvPr id="837" name=""/>
            <p:cNvSpPr/>
            <p:nvPr/>
          </p:nvSpPr>
          <p:spPr>
            <a:xfrm>
              <a:off x="1066680" y="18399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14560" y="1839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1057320" y="19591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90520" y="19591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123920" y="19620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46080" y="1999800"/>
            <a:ext cx="35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996840" y="22176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044720" y="2274840"/>
            <a:ext cx="152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1073160" y="2166840"/>
            <a:ext cx="74160" cy="27000"/>
            <a:chOff x="1073160" y="2166840"/>
            <a:chExt cx="74160" cy="27000"/>
          </a:xfrm>
        </p:grpSpPr>
        <p:sp>
          <p:nvSpPr>
            <p:cNvPr id="846" name=""/>
            <p:cNvSpPr/>
            <p:nvPr/>
          </p:nvSpPr>
          <p:spPr>
            <a:xfrm>
              <a:off x="1073160" y="2166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20680" y="21668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1054080" y="2284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87280" y="2284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120680" y="2278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6080" y="2323440"/>
            <a:ext cx="35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225440" y="186048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225440" y="219060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B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995400" y="2560680"/>
            <a:ext cx="239760" cy="156960"/>
            <a:chOff x="995400" y="2560680"/>
            <a:chExt cx="239760" cy="156960"/>
          </a:xfrm>
        </p:grpSpPr>
        <p:sp>
          <p:nvSpPr>
            <p:cNvPr id="855" name=""/>
            <p:cNvSpPr/>
            <p:nvPr/>
          </p:nvSpPr>
          <p:spPr>
            <a:xfrm>
              <a:off x="995400" y="256068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09520" y="261288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77840" y="260316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33560" y="2688840"/>
              <a:ext cx="153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09520" y="2565000"/>
              <a:ext cx="7632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1033200" y="2565000"/>
              <a:ext cx="7596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1066680" y="2509920"/>
            <a:ext cx="74880" cy="27000"/>
            <a:chOff x="1066680" y="2509920"/>
            <a:chExt cx="74880" cy="27000"/>
          </a:xfrm>
        </p:grpSpPr>
        <p:sp>
          <p:nvSpPr>
            <p:cNvPr id="862" name=""/>
            <p:cNvSpPr/>
            <p:nvPr/>
          </p:nvSpPr>
          <p:spPr>
            <a:xfrm>
              <a:off x="1066680" y="25099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114560" y="25099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225080" y="2536920"/>
            <a:ext cx="10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-7 Light SA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43120" y="1969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43120" y="2300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43120" y="26337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38080" y="3657600"/>
            <a:ext cx="0" cy="1066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298160" y="370188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96840" y="38386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076400" y="3787920"/>
            <a:ext cx="74160" cy="27000"/>
            <a:chOff x="1076400" y="3787920"/>
            <a:chExt cx="74160" cy="27000"/>
          </a:xfrm>
        </p:grpSpPr>
        <p:sp>
          <p:nvSpPr>
            <p:cNvPr id="872" name=""/>
            <p:cNvSpPr/>
            <p:nvPr/>
          </p:nvSpPr>
          <p:spPr>
            <a:xfrm>
              <a:off x="1076400" y="37879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123920" y="37879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844560" y="39146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296720" y="4389480"/>
            <a:ext cx="9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2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066680" y="4368960"/>
            <a:ext cx="74880" cy="27000"/>
            <a:chOff x="1066680" y="4368960"/>
            <a:chExt cx="74880" cy="27000"/>
          </a:xfrm>
        </p:grpSpPr>
        <p:sp>
          <p:nvSpPr>
            <p:cNvPr id="877" name=""/>
            <p:cNvSpPr/>
            <p:nvPr/>
          </p:nvSpPr>
          <p:spPr>
            <a:xfrm>
              <a:off x="1066680" y="43689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14560" y="4368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844560" y="44816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081080" y="452772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14560" y="44546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92240" y="393876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120680" y="38750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297080" y="402444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152I Armored Command P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90720" y="41004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011240" y="4264200"/>
            <a:ext cx="2844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074600" y="4044960"/>
            <a:ext cx="74880" cy="27000"/>
            <a:chOff x="1074600" y="4044960"/>
            <a:chExt cx="74880" cy="27000"/>
          </a:xfrm>
        </p:grpSpPr>
        <p:sp>
          <p:nvSpPr>
            <p:cNvPr id="888" name=""/>
            <p:cNvSpPr/>
            <p:nvPr/>
          </p:nvSpPr>
          <p:spPr>
            <a:xfrm>
              <a:off x="1074600" y="40449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122480" y="4044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1168560" y="4270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027080" y="414180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38080" y="541188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58560" y="5456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90720" y="55926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65240" y="5541840"/>
            <a:ext cx="74160" cy="27000"/>
            <a:chOff x="1065240" y="5541840"/>
            <a:chExt cx="74160" cy="27000"/>
          </a:xfrm>
        </p:grpSpPr>
        <p:sp>
          <p:nvSpPr>
            <p:cNvPr id="896" name=""/>
            <p:cNvSpPr/>
            <p:nvPr/>
          </p:nvSpPr>
          <p:spPr>
            <a:xfrm>
              <a:off x="1065240" y="5541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112760" y="55418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838080" y="56689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257480" y="582120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0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990720" y="58500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1065240" y="5799240"/>
            <a:ext cx="74160" cy="27000"/>
            <a:chOff x="1065240" y="5799240"/>
            <a:chExt cx="74160" cy="27000"/>
          </a:xfrm>
        </p:grpSpPr>
        <p:sp>
          <p:nvSpPr>
            <p:cNvPr id="902" name=""/>
            <p:cNvSpPr/>
            <p:nvPr/>
          </p:nvSpPr>
          <p:spPr>
            <a:xfrm>
              <a:off x="1065240" y="5799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112760" y="57992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838080" y="59641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74600" y="59594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112760" y="58863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076400" y="570240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114560" y="56293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38080" y="6811920"/>
            <a:ext cx="0" cy="571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58560" y="68565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90720" y="69930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065240" y="6942240"/>
            <a:ext cx="74160" cy="27000"/>
            <a:chOff x="1065240" y="6942240"/>
            <a:chExt cx="74160" cy="27000"/>
          </a:xfrm>
        </p:grpSpPr>
        <p:sp>
          <p:nvSpPr>
            <p:cNvPr id="913" name=""/>
            <p:cNvSpPr/>
            <p:nvPr/>
          </p:nvSpPr>
          <p:spPr>
            <a:xfrm>
              <a:off x="1065240" y="6942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12760" y="69422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838080" y="706896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257480" y="722160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60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990720" y="72500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1065240" y="7199280"/>
            <a:ext cx="74160" cy="27000"/>
            <a:chOff x="1065240" y="7199280"/>
            <a:chExt cx="74160" cy="27000"/>
          </a:xfrm>
        </p:grpSpPr>
        <p:sp>
          <p:nvSpPr>
            <p:cNvPr id="919" name=""/>
            <p:cNvSpPr/>
            <p:nvPr/>
          </p:nvSpPr>
          <p:spPr>
            <a:xfrm>
              <a:off x="1065240" y="7199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12760" y="71992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838080" y="73645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74600" y="735948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112760" y="72867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076400" y="71024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114560" y="70293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962520" y="140508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382640" y="1449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4800" y="15858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4189320" y="1535040"/>
            <a:ext cx="74880" cy="27000"/>
            <a:chOff x="4189320" y="1535040"/>
            <a:chExt cx="74880" cy="27000"/>
          </a:xfrm>
        </p:grpSpPr>
        <p:sp>
          <p:nvSpPr>
            <p:cNvPr id="930" name=""/>
            <p:cNvSpPr/>
            <p:nvPr/>
          </p:nvSpPr>
          <p:spPr>
            <a:xfrm>
              <a:off x="4189320" y="15350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37200" y="15350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3962520" y="16621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381200" y="1843200"/>
            <a:ext cx="131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M38 Howitz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114800" y="18716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4189320" y="1820880"/>
            <a:ext cx="74880" cy="27000"/>
            <a:chOff x="4189320" y="1820880"/>
            <a:chExt cx="74880" cy="27000"/>
          </a:xfrm>
        </p:grpSpPr>
        <p:sp>
          <p:nvSpPr>
            <p:cNvPr id="936" name=""/>
            <p:cNvSpPr/>
            <p:nvPr/>
          </p:nvSpPr>
          <p:spPr>
            <a:xfrm>
              <a:off x="4189320" y="18208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237200" y="18208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3962520" y="19670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219560" y="16430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219560" y="1928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277668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382640" y="28209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114800" y="29574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4189320" y="2906640"/>
            <a:ext cx="74880" cy="27000"/>
            <a:chOff x="4189320" y="2906640"/>
            <a:chExt cx="74880" cy="27000"/>
          </a:xfrm>
        </p:grpSpPr>
        <p:sp>
          <p:nvSpPr>
            <p:cNvPr id="945" name=""/>
            <p:cNvSpPr/>
            <p:nvPr/>
          </p:nvSpPr>
          <p:spPr>
            <a:xfrm>
              <a:off x="4189320" y="29066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37200" y="29066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3962520" y="30337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83000" y="3214800"/>
            <a:ext cx="134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D30 Field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14800" y="32432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4189320" y="3192480"/>
            <a:ext cx="74880" cy="27000"/>
            <a:chOff x="4189320" y="3192480"/>
            <a:chExt cx="74880" cy="27000"/>
          </a:xfrm>
        </p:grpSpPr>
        <p:sp>
          <p:nvSpPr>
            <p:cNvPr id="951" name=""/>
            <p:cNvSpPr/>
            <p:nvPr/>
          </p:nvSpPr>
          <p:spPr>
            <a:xfrm>
              <a:off x="4189320" y="31924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237200" y="3192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3962520" y="33386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219560" y="3014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219560" y="3300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962520" y="4157640"/>
            <a:ext cx="0" cy="571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382640" y="41925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14800" y="43290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189320" y="4278240"/>
            <a:ext cx="74880" cy="27000"/>
            <a:chOff x="4189320" y="4278240"/>
            <a:chExt cx="74880" cy="27000"/>
          </a:xfrm>
        </p:grpSpPr>
        <p:sp>
          <p:nvSpPr>
            <p:cNvPr id="960" name=""/>
            <p:cNvSpPr/>
            <p:nvPr/>
          </p:nvSpPr>
          <p:spPr>
            <a:xfrm>
              <a:off x="4189320" y="42782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237200" y="42782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3962520" y="4405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83000" y="4586400"/>
            <a:ext cx="134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D74 Field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46148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4189320" y="4564080"/>
            <a:ext cx="74880" cy="27000"/>
            <a:chOff x="4189320" y="4564080"/>
            <a:chExt cx="74880" cy="27000"/>
          </a:xfrm>
        </p:grpSpPr>
        <p:sp>
          <p:nvSpPr>
            <p:cNvPr id="966" name=""/>
            <p:cNvSpPr/>
            <p:nvPr/>
          </p:nvSpPr>
          <p:spPr>
            <a:xfrm>
              <a:off x="4189320" y="45640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237200" y="4564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3962520" y="47102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19560" y="43862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19560" y="4672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89040" y="603252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27200" y="743580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13120" y="205740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13120" y="342900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13120" y="484488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990720" y="46800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11240" y="48499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074600" y="4630680"/>
            <a:ext cx="74880" cy="27000"/>
            <a:chOff x="1074600" y="4630680"/>
            <a:chExt cx="74880" cy="27000"/>
          </a:xfrm>
        </p:grpSpPr>
        <p:sp>
          <p:nvSpPr>
            <p:cNvPr id="979" name=""/>
            <p:cNvSpPr/>
            <p:nvPr/>
          </p:nvSpPr>
          <p:spPr>
            <a:xfrm>
              <a:off x="1074600" y="46306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122480" y="4630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168560" y="48499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027080" y="472140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38080" y="47242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298520" y="454032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152V Armored Personnel Carr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028880" y="401004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028880" y="459108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36400" y="529740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24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3809880" y="5354640"/>
            <a:ext cx="303120" cy="301680"/>
            <a:chOff x="3809880" y="5354640"/>
            <a:chExt cx="303120" cy="301680"/>
          </a:xfrm>
        </p:grpSpPr>
        <p:sp>
          <p:nvSpPr>
            <p:cNvPr id="989" name=""/>
            <p:cNvSpPr/>
            <p:nvPr/>
          </p:nvSpPr>
          <p:spPr>
            <a:xfrm>
              <a:off x="3809880" y="542772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3947400" y="5497560"/>
              <a:ext cx="1800" cy="9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911400" y="560844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952800" y="5354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962520" y="5668920"/>
            <a:ext cx="0" cy="571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82640" y="57135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114800" y="58500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4189320" y="5799240"/>
            <a:ext cx="74880" cy="27000"/>
            <a:chOff x="4189320" y="5799240"/>
            <a:chExt cx="74880" cy="27000"/>
          </a:xfrm>
        </p:grpSpPr>
        <p:sp>
          <p:nvSpPr>
            <p:cNvPr id="997" name=""/>
            <p:cNvSpPr/>
            <p:nvPr/>
          </p:nvSpPr>
          <p:spPr>
            <a:xfrm>
              <a:off x="4189320" y="57992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37200" y="57992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3962520" y="5925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381560" y="607860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40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114800" y="61070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89320" y="6056280"/>
            <a:ext cx="74880" cy="27000"/>
            <a:chOff x="4189320" y="6056280"/>
            <a:chExt cx="74880" cy="27000"/>
          </a:xfrm>
        </p:grpSpPr>
        <p:sp>
          <p:nvSpPr>
            <p:cNvPr id="1003" name=""/>
            <p:cNvSpPr/>
            <p:nvPr/>
          </p:nvSpPr>
          <p:spPr>
            <a:xfrm>
              <a:off x="4189320" y="60562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37200" y="60562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3962520" y="62215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199040" y="621648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237200" y="61437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200480" y="59594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238640" y="58863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51280" y="629280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3886200" y="31100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933720" y="3152880"/>
            <a:ext cx="152640" cy="759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8080" y="59626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47800" y="51339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5829120" cy="48276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rian Tables of Organ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antry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1120" y="1201680"/>
            <a:ext cx="0" cy="2913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30280" y="9730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30160" y="1305000"/>
            <a:ext cx="3049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61840" y="1336680"/>
            <a:ext cx="24156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982800" y="1704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82800" y="1542960"/>
            <a:ext cx="1440" cy="1684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47760" y="1571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982800" y="12286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33400" y="269892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79480" y="275580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85800" y="2362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76440" y="28036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77880" y="1380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34840" y="820800"/>
            <a:ext cx="146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BATTLEGROUP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rigade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133640" y="115236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gade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366200" y="146700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350720" y="179712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AZ-69A Jee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217880" y="24382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140120" y="2590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Tank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193760" y="403848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35200" y="22096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835200" y="220932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33400" y="220968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90480" y="39448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139760" y="213372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33400" y="38433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953640" y="3865680"/>
            <a:ext cx="1800" cy="99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917640" y="39686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915840" y="3767040"/>
            <a:ext cx="74880" cy="27000"/>
            <a:chOff x="915840" y="3767040"/>
            <a:chExt cx="74880" cy="27000"/>
          </a:xfrm>
        </p:grpSpPr>
        <p:sp>
          <p:nvSpPr>
            <p:cNvPr id="1045" name=""/>
            <p:cNvSpPr/>
            <p:nvPr/>
          </p:nvSpPr>
          <p:spPr>
            <a:xfrm>
              <a:off x="915840" y="37670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963720" y="37670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673200" y="4114800"/>
            <a:ext cx="12600" cy="236232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168920" y="3733920"/>
            <a:ext cx="19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3 Off-board Direct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Company (12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35200" y="304812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141200" y="297180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Reconnaissanc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136520" y="18730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147680" y="20462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211400" y="1817640"/>
            <a:ext cx="74160" cy="27000"/>
            <a:chOff x="1211400" y="1817640"/>
            <a:chExt cx="74160" cy="27000"/>
          </a:xfrm>
        </p:grpSpPr>
        <p:sp>
          <p:nvSpPr>
            <p:cNvPr id="1054" name=""/>
            <p:cNvSpPr/>
            <p:nvPr/>
          </p:nvSpPr>
          <p:spPr>
            <a:xfrm>
              <a:off x="1211400" y="18176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58920" y="18176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1333440" y="20480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3520" y="97164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33520" y="97272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838080" y="304596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5800" y="7143840"/>
            <a:ext cx="0" cy="476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39880" y="72658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74800" y="730584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39960" y="7210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18000" y="6781680"/>
            <a:ext cx="172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MANUEVER ELEMENT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Tank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9152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54120" y="69724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85800" y="7346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7618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38080" y="75182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73000" y="755820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915840" y="7467480"/>
            <a:ext cx="74880" cy="27000"/>
            <a:chOff x="915840" y="7467480"/>
            <a:chExt cx="74880" cy="27000"/>
          </a:xfrm>
        </p:grpSpPr>
        <p:sp>
          <p:nvSpPr>
            <p:cNvPr id="1072" name=""/>
            <p:cNvSpPr/>
            <p:nvPr/>
          </p:nvSpPr>
          <p:spPr>
            <a:xfrm>
              <a:off x="915840" y="74674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963720" y="7467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144440" y="7162920"/>
            <a:ext cx="13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55A Main Battle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44440" y="7480440"/>
            <a:ext cx="139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55A Main Battle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41240" y="6838920"/>
            <a:ext cx="57240" cy="63360"/>
            <a:chOff x="741240" y="6838920"/>
            <a:chExt cx="57240" cy="63360"/>
          </a:xfrm>
        </p:grpSpPr>
        <p:sp>
          <p:nvSpPr>
            <p:cNvPr id="1077" name=""/>
            <p:cNvSpPr/>
            <p:nvPr/>
          </p:nvSpPr>
          <p:spPr>
            <a:xfrm>
              <a:off x="741240" y="68389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98480" y="68389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1143000" y="16239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155600" y="162396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168560" y="179244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985320" y="520380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949320" y="53150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173960" y="502920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4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16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85800" y="5241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185840" y="545796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6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85800" y="56721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185840" y="586728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7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85800" y="31561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952560" y="2133720"/>
            <a:ext cx="57240" cy="63360"/>
            <a:chOff x="952560" y="2133720"/>
            <a:chExt cx="57240" cy="63360"/>
          </a:xfrm>
        </p:grpSpPr>
        <p:sp>
          <p:nvSpPr>
            <p:cNvPr id="1091" name=""/>
            <p:cNvSpPr/>
            <p:nvPr/>
          </p:nvSpPr>
          <p:spPr>
            <a:xfrm>
              <a:off x="952560" y="2133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09800" y="2133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990720" y="29750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38080" y="341136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171800" y="3335400"/>
            <a:ext cx="126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95320" y="348768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03240" y="34876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88920" y="34876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74600" y="34876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990720" y="3335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647280" y="885960"/>
            <a:ext cx="76320" cy="75960"/>
            <a:chOff x="647280" y="885960"/>
            <a:chExt cx="76320" cy="75960"/>
          </a:xfrm>
        </p:grpSpPr>
        <p:sp>
          <p:nvSpPr>
            <p:cNvPr id="1102" name=""/>
            <p:cNvSpPr/>
            <p:nvPr/>
          </p:nvSpPr>
          <p:spPr>
            <a:xfrm flipH="1">
              <a:off x="64728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4764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873240" y="822240"/>
            <a:ext cx="153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BATTLEGROUP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38080" y="5535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90720" y="50608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990720" y="54658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990720" y="58863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942840" y="5611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52560" y="60390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581280" y="990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584520" y="98892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3584520" y="9907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3699000" y="914400"/>
            <a:ext cx="56880" cy="63360"/>
            <a:chOff x="3699000" y="914400"/>
            <a:chExt cx="56880" cy="63360"/>
          </a:xfrm>
        </p:grpSpPr>
        <p:sp>
          <p:nvSpPr>
            <p:cNvPr id="1115" name=""/>
            <p:cNvSpPr/>
            <p:nvPr/>
          </p:nvSpPr>
          <p:spPr>
            <a:xfrm>
              <a:off x="369900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5588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3736800" y="1228680"/>
            <a:ext cx="0" cy="2200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746520" y="2838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002120" y="1405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95560" y="62056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89440" y="1324080"/>
            <a:ext cx="30456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21120" y="1355760"/>
            <a:ext cx="24120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041720" y="17240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041720" y="1562040"/>
            <a:ext cx="1800" cy="1684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307040" y="1590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041720" y="12477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736800" y="14000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192920" y="117144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425120" y="14860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09640" y="181620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AZ-69A Jee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195800" y="18921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06960" y="2055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4270320" y="1836720"/>
            <a:ext cx="74160" cy="27000"/>
            <a:chOff x="4270320" y="1836720"/>
            <a:chExt cx="74160" cy="27000"/>
          </a:xfrm>
        </p:grpSpPr>
        <p:sp>
          <p:nvSpPr>
            <p:cNvPr id="1134" name=""/>
            <p:cNvSpPr/>
            <p:nvPr/>
          </p:nvSpPr>
          <p:spPr>
            <a:xfrm>
              <a:off x="4270320" y="18367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17840" y="18367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" name=""/>
          <p:cNvSpPr/>
          <p:nvPr/>
        </p:nvSpPr>
        <p:spPr>
          <a:xfrm>
            <a:off x="4392720" y="20574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202280" y="164304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214880" y="164304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227480" y="18111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302360" y="21528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736800" y="25020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86200" y="2381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3886200" y="238140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884760" y="239076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0760" y="230508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041720" y="2305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314600" y="292896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898800" y="27208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4037040" y="279072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000680" y="289260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194360" y="2610000"/>
            <a:ext cx="15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1 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041720" y="2647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36800" y="34290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736800" y="32004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94000" y="3328920"/>
            <a:ext cx="161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0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2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194360" y="3571920"/>
            <a:ext cx="166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1  107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204440" y="6176880"/>
            <a:ext cx="15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lyutka (Sagger) ATG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898800" y="33480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898800" y="35956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733920" y="3429000"/>
            <a:ext cx="0" cy="15238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321080" y="407196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94360" y="373392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152V Armored Personnel Carr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98800" y="38433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09960" y="40068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3973680" y="3787920"/>
            <a:ext cx="74160" cy="27000"/>
            <a:chOff x="3973680" y="3787920"/>
            <a:chExt cx="74160" cy="27000"/>
          </a:xfrm>
        </p:grpSpPr>
        <p:sp>
          <p:nvSpPr>
            <p:cNvPr id="1166" name=""/>
            <p:cNvSpPr/>
            <p:nvPr/>
          </p:nvSpPr>
          <p:spPr>
            <a:xfrm>
              <a:off x="3973680" y="37879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021200" y="37879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4095720" y="40132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30480" y="37623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92560" y="441468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ZIL-157 Medium Tru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898800" y="44910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09960" y="46544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095720" y="46562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930480" y="441000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887640" y="48290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735360" y="4952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194360" y="4722840"/>
            <a:ext cx="215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5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 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040280" y="4753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002120" y="490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192560" y="3062160"/>
            <a:ext cx="165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SU-23/4 SP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3863880" y="311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97440" y="31082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0200" y="3193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81600" y="3679920"/>
            <a:ext cx="5688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81600" y="3432240"/>
            <a:ext cx="5688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010040" y="36226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010040" y="33750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4013280" y="623556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976560" y="63468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978360" y="623268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968640" y="62229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054320" y="62229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968640" y="62643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054320" y="62611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581280" y="68724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Three with  RPG-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732120" y="5572080"/>
            <a:ext cx="0" cy="2095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581280" y="53341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733920" y="5257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986280" y="5657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86200" y="57038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732120" y="57722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889800" y="5181480"/>
            <a:ext cx="172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MANUEVER ELEMENT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220640" y="555300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581280" y="5334120"/>
            <a:ext cx="30492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581280" y="53341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898800" y="570384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204080" y="641520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-7 A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890880" y="59580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3971880" y="5902200"/>
            <a:ext cx="74160" cy="27000"/>
            <a:chOff x="3971880" y="5902200"/>
            <a:chExt cx="74160" cy="27000"/>
          </a:xfrm>
        </p:grpSpPr>
        <p:sp>
          <p:nvSpPr>
            <p:cNvPr id="1210" name=""/>
            <p:cNvSpPr/>
            <p:nvPr/>
          </p:nvSpPr>
          <p:spPr>
            <a:xfrm>
              <a:off x="3971880" y="59022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019400" y="59022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 flipV="1">
            <a:off x="3890880" y="595800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89440" y="5958000"/>
            <a:ext cx="2412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3962520" y="6408720"/>
            <a:ext cx="74160" cy="27000"/>
            <a:chOff x="3962520" y="6408720"/>
            <a:chExt cx="74160" cy="27000"/>
          </a:xfrm>
        </p:grpSpPr>
        <p:sp>
          <p:nvSpPr>
            <p:cNvPr id="1215" name=""/>
            <p:cNvSpPr/>
            <p:nvPr/>
          </p:nvSpPr>
          <p:spPr>
            <a:xfrm>
              <a:off x="3962520" y="64087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010040" y="64087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4210560" y="5924520"/>
            <a:ext cx="81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732120" y="84391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657600" y="718812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61800" y="7086600"/>
            <a:ext cx="179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MANUEVER ELEMENT-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onnaissance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3962520" y="7502400"/>
            <a:ext cx="74160" cy="27000"/>
            <a:chOff x="3962520" y="7502400"/>
            <a:chExt cx="74160" cy="27000"/>
          </a:xfrm>
        </p:grpSpPr>
        <p:sp>
          <p:nvSpPr>
            <p:cNvPr id="1222" name=""/>
            <p:cNvSpPr/>
            <p:nvPr/>
          </p:nvSpPr>
          <p:spPr>
            <a:xfrm>
              <a:off x="3962520" y="75024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010040" y="75024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3886200" y="75628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732120" y="76312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220640" y="740268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898800" y="756288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886200" y="83376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3971880" y="8283600"/>
            <a:ext cx="74160" cy="27000"/>
            <a:chOff x="3971880" y="8283600"/>
            <a:chExt cx="74160" cy="27000"/>
          </a:xfrm>
        </p:grpSpPr>
        <p:sp>
          <p:nvSpPr>
            <p:cNvPr id="1230" name=""/>
            <p:cNvSpPr/>
            <p:nvPr/>
          </p:nvSpPr>
          <p:spPr>
            <a:xfrm>
              <a:off x="3971880" y="82836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019400" y="82836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 flipV="1">
            <a:off x="3886200" y="833760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84760" y="833760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221000" y="8305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with RPG-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732120" y="7429680"/>
            <a:ext cx="0" cy="10094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3662280" y="719100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227480" y="8077320"/>
            <a:ext cx="143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Z-69A Jeep with M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887640" y="80614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3959280" y="8010360"/>
            <a:ext cx="74160" cy="27000"/>
            <a:chOff x="3959280" y="8010360"/>
            <a:chExt cx="74160" cy="27000"/>
          </a:xfrm>
        </p:grpSpPr>
        <p:sp>
          <p:nvSpPr>
            <p:cNvPr id="1240" name=""/>
            <p:cNvSpPr/>
            <p:nvPr/>
          </p:nvSpPr>
          <p:spPr>
            <a:xfrm>
              <a:off x="3959280" y="80103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006800" y="80103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3905280" y="8229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076640" y="82328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914640" y="798660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258080" y="79390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809880" y="71150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961920" y="2625840"/>
            <a:ext cx="57240" cy="63360"/>
            <a:chOff x="961920" y="2625840"/>
            <a:chExt cx="57240" cy="63360"/>
          </a:xfrm>
        </p:grpSpPr>
        <p:sp>
          <p:nvSpPr>
            <p:cNvPr id="1248" name=""/>
            <p:cNvSpPr/>
            <p:nvPr/>
          </p:nvSpPr>
          <p:spPr>
            <a:xfrm>
              <a:off x="961920" y="26258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019160" y="26258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609480" y="7772400"/>
            <a:ext cx="2236680" cy="931680"/>
            <a:chOff x="609480" y="7772400"/>
            <a:chExt cx="2236680" cy="931680"/>
          </a:xfrm>
        </p:grpSpPr>
        <p:sp>
          <p:nvSpPr>
            <p:cNvPr id="1251" name=""/>
            <p:cNvSpPr/>
            <p:nvPr/>
          </p:nvSpPr>
          <p:spPr>
            <a:xfrm>
              <a:off x="609480" y="790596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4120" y="796320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85800" y="8143920"/>
              <a:ext cx="0" cy="4669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39880" y="825660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74800" y="829656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39960" y="8201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914400" y="7772400"/>
              <a:ext cx="193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Arial"/>
                </a:rPr>
                <a:t>MANUEVER ELEMENT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Antitank Missi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5800" y="83059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85800" y="861084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144440" y="81536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143000" y="8472600"/>
              <a:ext cx="140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ATGM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70040" y="7829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762120" y="7944120"/>
              <a:ext cx="144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27200" y="810900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85800" y="7934400"/>
              <a:ext cx="152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95160" y="793440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28720" y="793440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838080" y="825840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838080" y="8458200"/>
              <a:ext cx="239760" cy="245880"/>
              <a:chOff x="838080" y="8458200"/>
              <a:chExt cx="239760" cy="245880"/>
            </a:xfrm>
          </p:grpSpPr>
          <p:sp>
            <p:nvSpPr>
              <p:cNvPr id="1270" name=""/>
              <p:cNvSpPr/>
              <p:nvPr/>
            </p:nvSpPr>
            <p:spPr>
              <a:xfrm>
                <a:off x="838080" y="8510400"/>
                <a:ext cx="239760" cy="15732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66520" y="8553240"/>
                <a:ext cx="169920" cy="7452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96840" y="8528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3" name=""/>
              <p:cNvGrpSpPr/>
              <p:nvPr/>
            </p:nvGrpSpPr>
            <p:grpSpPr>
              <a:xfrm>
                <a:off x="914400" y="8458200"/>
                <a:ext cx="74160" cy="27000"/>
                <a:chOff x="914400" y="8458200"/>
                <a:chExt cx="74160" cy="2700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914400" y="84582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961920" y="84582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6" name=""/>
              <p:cNvSpPr/>
              <p:nvPr/>
            </p:nvSpPr>
            <p:spPr>
              <a:xfrm flipH="1">
                <a:off x="955080" y="8540640"/>
                <a:ext cx="1800" cy="10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919080" y="865188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920520" y="853740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911160" y="8528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038240" y="8677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47440" y="86770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2" name=""/>
          <p:cNvSpPr/>
          <p:nvPr/>
        </p:nvSpPr>
        <p:spPr>
          <a:xfrm>
            <a:off x="685800" y="60976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682560" y="4676760"/>
            <a:ext cx="2088360" cy="353160"/>
            <a:chOff x="682560" y="4676760"/>
            <a:chExt cx="2088360" cy="353160"/>
          </a:xfrm>
        </p:grpSpPr>
        <p:sp>
          <p:nvSpPr>
            <p:cNvPr id="1284" name=""/>
            <p:cNvSpPr/>
            <p:nvPr/>
          </p:nvSpPr>
          <p:spPr>
            <a:xfrm>
              <a:off x="682560" y="48690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831600" y="4676760"/>
              <a:ext cx="303120" cy="304920"/>
              <a:chOff x="831600" y="4676760"/>
              <a:chExt cx="303120" cy="304920"/>
            </a:xfrm>
          </p:grpSpPr>
          <p:sp>
            <p:nvSpPr>
              <p:cNvPr id="1286" name=""/>
              <p:cNvSpPr/>
              <p:nvPr/>
            </p:nvSpPr>
            <p:spPr>
              <a:xfrm>
                <a:off x="831600" y="4753080"/>
                <a:ext cx="303120" cy="22860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75880" y="4810320"/>
                <a:ext cx="214200" cy="10944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91800" y="46767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983880" y="4791240"/>
                <a:ext cx="144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48960" y="495612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907560" y="4781520"/>
                <a:ext cx="1526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917280" y="4781520"/>
                <a:ext cx="0" cy="152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050480" y="4781520"/>
                <a:ext cx="0" cy="152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1165320" y="4692600"/>
              <a:ext cx="160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-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Antitank Missile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3886200" y="6462720"/>
            <a:ext cx="239760" cy="157320"/>
            <a:chOff x="3886200" y="6462720"/>
            <a:chExt cx="239760" cy="157320"/>
          </a:xfrm>
        </p:grpSpPr>
        <p:sp>
          <p:nvSpPr>
            <p:cNvPr id="1296" name=""/>
            <p:cNvSpPr/>
            <p:nvPr/>
          </p:nvSpPr>
          <p:spPr>
            <a:xfrm>
              <a:off x="3886200" y="646272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00320" y="6515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968640" y="650556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924360" y="6591240"/>
              <a:ext cx="153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00320" y="6467400"/>
              <a:ext cx="7632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3924000" y="6467400"/>
              <a:ext cx="7596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847800" y="63262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985320" y="639612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49320" y="64976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173960" y="632448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8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24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64436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990720" y="6248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91120" y="4219560"/>
            <a:ext cx="166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1  107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895560" y="42433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3962520" y="4191120"/>
            <a:ext cx="74160" cy="27000"/>
            <a:chOff x="3962520" y="4191120"/>
            <a:chExt cx="74160" cy="27000"/>
          </a:xfrm>
        </p:grpSpPr>
        <p:sp>
          <p:nvSpPr>
            <p:cNvPr id="1311" name=""/>
            <p:cNvSpPr/>
            <p:nvPr/>
          </p:nvSpPr>
          <p:spPr>
            <a:xfrm>
              <a:off x="3962520" y="41911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010040" y="41911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3" name=""/>
          <p:cNvSpPr/>
          <p:nvPr/>
        </p:nvSpPr>
        <p:spPr>
          <a:xfrm>
            <a:off x="3978360" y="4327560"/>
            <a:ext cx="5724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006800" y="42703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933720" y="351468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3973680" y="3543480"/>
            <a:ext cx="74160" cy="26640"/>
            <a:chOff x="3973680" y="3543480"/>
            <a:chExt cx="74160" cy="26640"/>
          </a:xfrm>
        </p:grpSpPr>
        <p:sp>
          <p:nvSpPr>
            <p:cNvPr id="1317" name=""/>
            <p:cNvSpPr/>
            <p:nvPr/>
          </p:nvSpPr>
          <p:spPr>
            <a:xfrm>
              <a:off x="3973680" y="354348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021200" y="3543480"/>
              <a:ext cx="26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971880" y="3295800"/>
            <a:ext cx="74160" cy="27000"/>
            <a:chOff x="3971880" y="3295800"/>
            <a:chExt cx="74160" cy="27000"/>
          </a:xfrm>
        </p:grpSpPr>
        <p:sp>
          <p:nvSpPr>
            <p:cNvPr id="1320" name=""/>
            <p:cNvSpPr/>
            <p:nvPr/>
          </p:nvSpPr>
          <p:spPr>
            <a:xfrm>
              <a:off x="3971880" y="32958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019400" y="32958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3981600" y="3057480"/>
            <a:ext cx="74160" cy="27000"/>
            <a:chOff x="3981600" y="3057480"/>
            <a:chExt cx="74160" cy="27000"/>
          </a:xfrm>
        </p:grpSpPr>
        <p:sp>
          <p:nvSpPr>
            <p:cNvPr id="1323" name=""/>
            <p:cNvSpPr/>
            <p:nvPr/>
          </p:nvSpPr>
          <p:spPr>
            <a:xfrm>
              <a:off x="3981600" y="3057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29120" y="30574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3971880" y="4449600"/>
            <a:ext cx="74160" cy="27000"/>
            <a:chOff x="3971880" y="4449600"/>
            <a:chExt cx="74160" cy="27000"/>
          </a:xfrm>
        </p:grpSpPr>
        <p:sp>
          <p:nvSpPr>
            <p:cNvPr id="1326" name=""/>
            <p:cNvSpPr/>
            <p:nvPr/>
          </p:nvSpPr>
          <p:spPr>
            <a:xfrm>
              <a:off x="3971880" y="44496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019400" y="44496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685800" y="35146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733920" y="4324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943440" y="3886200"/>
            <a:ext cx="152280" cy="763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202280" y="659772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152V Armored Personnel Carr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884760" y="671040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895560" y="68738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3959280" y="6654960"/>
            <a:ext cx="74160" cy="27000"/>
            <a:chOff x="3959280" y="6654960"/>
            <a:chExt cx="74160" cy="27000"/>
          </a:xfrm>
        </p:grpSpPr>
        <p:sp>
          <p:nvSpPr>
            <p:cNvPr id="1335" name=""/>
            <p:cNvSpPr/>
            <p:nvPr/>
          </p:nvSpPr>
          <p:spPr>
            <a:xfrm>
              <a:off x="3959280" y="6654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006800" y="6654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4081320" y="68803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916440" y="662940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929040" y="6753240"/>
            <a:ext cx="152280" cy="763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927600" y="587700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924360" y="612468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924360" y="638172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87640" y="78138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3968640" y="7764480"/>
            <a:ext cx="74880" cy="27000"/>
            <a:chOff x="3968640" y="7764480"/>
            <a:chExt cx="74880" cy="27000"/>
          </a:xfrm>
        </p:grpSpPr>
        <p:sp>
          <p:nvSpPr>
            <p:cNvPr id="1345" name=""/>
            <p:cNvSpPr/>
            <p:nvPr/>
          </p:nvSpPr>
          <p:spPr>
            <a:xfrm>
              <a:off x="3968640" y="77644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16520" y="7764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7" name=""/>
          <p:cNvSpPr/>
          <p:nvPr/>
        </p:nvSpPr>
        <p:spPr>
          <a:xfrm flipV="1">
            <a:off x="3887640" y="781380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886200" y="7813800"/>
            <a:ext cx="2412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210560" y="7772400"/>
            <a:ext cx="66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924360" y="77295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58080" y="844884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225320" y="8586720"/>
            <a:ext cx="137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IL-157 Medium Tru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886200" y="85852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3963960" y="8535960"/>
            <a:ext cx="74160" cy="27000"/>
            <a:chOff x="3963960" y="8535960"/>
            <a:chExt cx="74160" cy="27000"/>
          </a:xfrm>
        </p:grpSpPr>
        <p:sp>
          <p:nvSpPr>
            <p:cNvPr id="1355" name=""/>
            <p:cNvSpPr/>
            <p:nvPr/>
          </p:nvSpPr>
          <p:spPr>
            <a:xfrm>
              <a:off x="3963960" y="8535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11480" y="8535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3903840" y="87534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75200" y="8756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913200" y="851076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173600" y="4176720"/>
            <a:ext cx="146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T-54 Mine-clearing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183680" y="4405320"/>
            <a:ext cx="170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TU-120 Armored Bridge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838080" y="4162320"/>
            <a:ext cx="228600" cy="220680"/>
            <a:chOff x="838080" y="4162320"/>
            <a:chExt cx="228600" cy="220680"/>
          </a:xfrm>
        </p:grpSpPr>
        <p:sp>
          <p:nvSpPr>
            <p:cNvPr id="1363" name=""/>
            <p:cNvSpPr/>
            <p:nvPr/>
          </p:nvSpPr>
          <p:spPr>
            <a:xfrm>
              <a:off x="838080" y="4210200"/>
              <a:ext cx="228600" cy="1728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57160" y="4248360"/>
              <a:ext cx="209520" cy="1076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66880" y="4276800"/>
              <a:ext cx="1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84160" y="42768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961920" y="42768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027080" y="42768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923760" y="4162320"/>
              <a:ext cx="74880" cy="27000"/>
              <a:chOff x="923760" y="4162320"/>
              <a:chExt cx="74880" cy="27000"/>
            </a:xfrm>
          </p:grpSpPr>
          <p:sp>
            <p:nvSpPr>
              <p:cNvPr id="1370" name=""/>
              <p:cNvSpPr/>
              <p:nvPr/>
            </p:nvSpPr>
            <p:spPr>
              <a:xfrm>
                <a:off x="923760" y="41623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971640" y="4162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2" name=""/>
          <p:cNvGrpSpPr/>
          <p:nvPr/>
        </p:nvGrpSpPr>
        <p:grpSpPr>
          <a:xfrm>
            <a:off x="838080" y="4398840"/>
            <a:ext cx="228600" cy="220680"/>
            <a:chOff x="838080" y="4398840"/>
            <a:chExt cx="228600" cy="220680"/>
          </a:xfrm>
        </p:grpSpPr>
        <p:sp>
          <p:nvSpPr>
            <p:cNvPr id="1373" name=""/>
            <p:cNvSpPr/>
            <p:nvPr/>
          </p:nvSpPr>
          <p:spPr>
            <a:xfrm>
              <a:off x="838080" y="4446720"/>
              <a:ext cx="228600" cy="1728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57160" y="4484880"/>
              <a:ext cx="209520" cy="1076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66880" y="4513320"/>
              <a:ext cx="1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84160" y="451332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961920" y="451332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027080" y="451332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9" name=""/>
            <p:cNvGrpSpPr/>
            <p:nvPr/>
          </p:nvGrpSpPr>
          <p:grpSpPr>
            <a:xfrm>
              <a:off x="923760" y="4398840"/>
              <a:ext cx="74880" cy="27000"/>
              <a:chOff x="923760" y="4398840"/>
              <a:chExt cx="74880" cy="27000"/>
            </a:xfrm>
          </p:grpSpPr>
          <p:sp>
            <p:nvSpPr>
              <p:cNvPr id="1380" name=""/>
              <p:cNvSpPr/>
              <p:nvPr/>
            </p:nvSpPr>
            <p:spPr>
              <a:xfrm>
                <a:off x="923760" y="43988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971640" y="43988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2" name=""/>
          <p:cNvSpPr/>
          <p:nvPr/>
        </p:nvSpPr>
        <p:spPr>
          <a:xfrm>
            <a:off x="685800" y="45435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4295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5829120" cy="48276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rian Tables of Organ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antry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98800" y="27208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929040" y="279072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580860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81120" y="1201680"/>
            <a:ext cx="0" cy="26082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30280" y="9730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830160" y="1523880"/>
            <a:ext cx="3049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861840" y="1555920"/>
            <a:ext cx="241560" cy="16164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982800" y="1924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982800" y="1762200"/>
            <a:ext cx="1440" cy="168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47760" y="1790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982800" y="1447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833400" y="29718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79480" y="30290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2558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76440" y="30765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77880" y="1600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34840" y="820800"/>
            <a:ext cx="221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BATTLEGROUP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rigade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133640" y="13716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gade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366200" y="16858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350360" y="201600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60PB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217880" y="26812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140120" y="28638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Tank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217520" y="428148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35200" y="24066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139040" y="233028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1120" y="3809880"/>
            <a:ext cx="0" cy="213372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685800" y="4006800"/>
            <a:ext cx="2387160" cy="337320"/>
            <a:chOff x="685800" y="4006800"/>
            <a:chExt cx="2387160" cy="337320"/>
          </a:xfrm>
        </p:grpSpPr>
        <p:sp>
          <p:nvSpPr>
            <p:cNvPr id="1412" name=""/>
            <p:cNvSpPr/>
            <p:nvPr/>
          </p:nvSpPr>
          <p:spPr>
            <a:xfrm>
              <a:off x="685800" y="4235400"/>
              <a:ext cx="15264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28720" y="411660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948960" y="4138560"/>
              <a:ext cx="1800" cy="10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2960" y="424188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6" name=""/>
            <p:cNvGrpSpPr/>
            <p:nvPr/>
          </p:nvGrpSpPr>
          <p:grpSpPr>
            <a:xfrm>
              <a:off x="911160" y="4056120"/>
              <a:ext cx="74880" cy="27000"/>
              <a:chOff x="911160" y="4056120"/>
              <a:chExt cx="74880" cy="27000"/>
            </a:xfrm>
          </p:grpSpPr>
          <p:sp>
            <p:nvSpPr>
              <p:cNvPr id="1417" name=""/>
              <p:cNvSpPr/>
              <p:nvPr/>
            </p:nvSpPr>
            <p:spPr>
              <a:xfrm>
                <a:off x="911160" y="40561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959040" y="40561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>
              <a:off x="1164240" y="4006800"/>
              <a:ext cx="19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S-03 Off-board Direct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avy Mortar Company (120m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835200" y="33210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140480" y="324468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Reconnaissanc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136520" y="20923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157400" y="2255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1211400" y="2036880"/>
            <a:ext cx="74160" cy="27000"/>
            <a:chOff x="1211400" y="2036880"/>
            <a:chExt cx="74160" cy="27000"/>
          </a:xfrm>
        </p:grpSpPr>
        <p:sp>
          <p:nvSpPr>
            <p:cNvPr id="1425" name=""/>
            <p:cNvSpPr/>
            <p:nvPr/>
          </p:nvSpPr>
          <p:spPr>
            <a:xfrm>
              <a:off x="1211400" y="2036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258920" y="20368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7" name=""/>
          <p:cNvSpPr/>
          <p:nvPr/>
        </p:nvSpPr>
        <p:spPr>
          <a:xfrm>
            <a:off x="1314360" y="22622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609480" y="6248520"/>
            <a:ext cx="2032920" cy="1068120"/>
            <a:chOff x="609480" y="6248520"/>
            <a:chExt cx="2032920" cy="1068120"/>
          </a:xfrm>
        </p:grpSpPr>
        <p:sp>
          <p:nvSpPr>
            <p:cNvPr id="1429" name=""/>
            <p:cNvSpPr/>
            <p:nvPr/>
          </p:nvSpPr>
          <p:spPr>
            <a:xfrm>
              <a:off x="685800" y="6610320"/>
              <a:ext cx="0" cy="60948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39520" y="683424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74440" y="687384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939600" y="6778800"/>
              <a:ext cx="28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918000" y="6248520"/>
              <a:ext cx="172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Arial"/>
                </a:rPr>
                <a:t>MANUEVER ELEMENT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09480" y="638172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3760" y="6438960"/>
              <a:ext cx="21456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691524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72198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38080" y="71391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73000" y="717876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0" name=""/>
            <p:cNvGrpSpPr/>
            <p:nvPr/>
          </p:nvGrpSpPr>
          <p:grpSpPr>
            <a:xfrm>
              <a:off x="909360" y="7083360"/>
              <a:ext cx="74880" cy="27000"/>
              <a:chOff x="909360" y="7083360"/>
              <a:chExt cx="74880" cy="27000"/>
            </a:xfrm>
          </p:grpSpPr>
          <p:sp>
            <p:nvSpPr>
              <p:cNvPr id="1441" name=""/>
              <p:cNvSpPr/>
              <p:nvPr/>
            </p:nvSpPr>
            <p:spPr>
              <a:xfrm>
                <a:off x="909360" y="70833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957240" y="7083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3" name=""/>
            <p:cNvSpPr/>
            <p:nvPr/>
          </p:nvSpPr>
          <p:spPr>
            <a:xfrm>
              <a:off x="1144440" y="6730920"/>
              <a:ext cx="139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144440" y="7101000"/>
              <a:ext cx="139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5" name=""/>
            <p:cNvGrpSpPr/>
            <p:nvPr/>
          </p:nvGrpSpPr>
          <p:grpSpPr>
            <a:xfrm>
              <a:off x="731880" y="6305400"/>
              <a:ext cx="56880" cy="63360"/>
              <a:chOff x="731880" y="6305400"/>
              <a:chExt cx="56880" cy="63360"/>
            </a:xfrm>
          </p:grpSpPr>
          <p:sp>
            <p:nvSpPr>
              <p:cNvPr id="1446" name=""/>
              <p:cNvSpPr/>
              <p:nvPr/>
            </p:nvSpPr>
            <p:spPr>
              <a:xfrm>
                <a:off x="731880" y="6305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88760" y="6305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8" name=""/>
          <p:cNvSpPr/>
          <p:nvPr/>
        </p:nvSpPr>
        <p:spPr>
          <a:xfrm>
            <a:off x="1143000" y="18432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155600" y="1843200"/>
            <a:ext cx="2415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168560" y="201132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85800" y="55450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185840" y="525780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6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59245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185840" y="571356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7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85800" y="3429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952560" y="2330280"/>
            <a:ext cx="57240" cy="63360"/>
            <a:chOff x="952560" y="2330280"/>
            <a:chExt cx="57240" cy="63360"/>
          </a:xfrm>
        </p:grpSpPr>
        <p:sp>
          <p:nvSpPr>
            <p:cNvPr id="1457" name=""/>
            <p:cNvSpPr/>
            <p:nvPr/>
          </p:nvSpPr>
          <p:spPr>
            <a:xfrm>
              <a:off x="952560" y="2330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009800" y="2330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685800" y="3625920"/>
            <a:ext cx="2205360" cy="337320"/>
            <a:chOff x="685800" y="3625920"/>
            <a:chExt cx="2205360" cy="337320"/>
          </a:xfrm>
        </p:grpSpPr>
        <p:sp>
          <p:nvSpPr>
            <p:cNvPr id="1460" name=""/>
            <p:cNvSpPr/>
            <p:nvPr/>
          </p:nvSpPr>
          <p:spPr>
            <a:xfrm>
              <a:off x="838080" y="370224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7160" y="3740400"/>
              <a:ext cx="257400" cy="1317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171080" y="3625920"/>
              <a:ext cx="172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E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Armored Engineer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95320" y="3778560"/>
              <a:ext cx="1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03240" y="377856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988920" y="377856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074600" y="377856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90720" y="36259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85800" y="38167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647280" y="885960"/>
            <a:ext cx="76320" cy="75960"/>
            <a:chOff x="647280" y="885960"/>
            <a:chExt cx="76320" cy="75960"/>
          </a:xfrm>
        </p:grpSpPr>
        <p:sp>
          <p:nvSpPr>
            <p:cNvPr id="1470" name=""/>
            <p:cNvSpPr/>
            <p:nvPr/>
          </p:nvSpPr>
          <p:spPr>
            <a:xfrm flipH="1">
              <a:off x="64728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4764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3872880" y="82224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BATTLEGROUP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38080" y="54100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990720" y="53402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990720" y="57326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94284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952560" y="588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581280" y="990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3708360" y="914400"/>
            <a:ext cx="57240" cy="63360"/>
            <a:chOff x="3708360" y="914400"/>
            <a:chExt cx="57240" cy="63360"/>
          </a:xfrm>
        </p:grpSpPr>
        <p:sp>
          <p:nvSpPr>
            <p:cNvPr id="1480" name=""/>
            <p:cNvSpPr/>
            <p:nvPr/>
          </p:nvSpPr>
          <p:spPr>
            <a:xfrm>
              <a:off x="370836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76560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2" name=""/>
          <p:cNvSpPr/>
          <p:nvPr/>
        </p:nvSpPr>
        <p:spPr>
          <a:xfrm>
            <a:off x="3736800" y="1238400"/>
            <a:ext cx="0" cy="19713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746520" y="2838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002120" y="1405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89440" y="1324080"/>
            <a:ext cx="30456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921120" y="1355760"/>
            <a:ext cx="24120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041720" y="17240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041720" y="1562040"/>
            <a:ext cx="1800" cy="1684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307040" y="1590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041720" y="12477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736800" y="14000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192920" y="117144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425120" y="14860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4308480" y="1855800"/>
            <a:ext cx="74160" cy="27000"/>
            <a:chOff x="4308480" y="1855800"/>
            <a:chExt cx="74160" cy="27000"/>
          </a:xfrm>
        </p:grpSpPr>
        <p:sp>
          <p:nvSpPr>
            <p:cNvPr id="1495" name=""/>
            <p:cNvSpPr/>
            <p:nvPr/>
          </p:nvSpPr>
          <p:spPr>
            <a:xfrm>
              <a:off x="4308480" y="18558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56000" y="18558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4202280" y="164304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214880" y="164304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227480" y="18111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302360" y="21528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736800" y="25020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886200" y="2381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189680" y="2305080"/>
            <a:ext cx="179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041720" y="2305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314600" y="292896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000680" y="28735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194000" y="2610000"/>
            <a:ext cx="19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S-02 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041720" y="2647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736800" y="3200400"/>
            <a:ext cx="0" cy="144792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265280" y="400536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887640" y="44974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735360" y="4621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270320" y="4390920"/>
            <a:ext cx="215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5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 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040280" y="44211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002120" y="4573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71680" y="10288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33520" y="97164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33520" y="97272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173240" y="21337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876240" y="247176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835200" y="240624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33400" y="240660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961920" y="2898720"/>
            <a:ext cx="57240" cy="63360"/>
            <a:chOff x="961920" y="2898720"/>
            <a:chExt cx="57240" cy="63360"/>
          </a:xfrm>
        </p:grpSpPr>
        <p:sp>
          <p:nvSpPr>
            <p:cNvPr id="1524" name=""/>
            <p:cNvSpPr/>
            <p:nvPr/>
          </p:nvSpPr>
          <p:spPr>
            <a:xfrm>
              <a:off x="961920" y="2898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19160" y="2898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1000080" y="32479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876240" y="338616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838080" y="331956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171440" y="227664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929040" y="243828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624120" y="1047600"/>
            <a:ext cx="21456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584520" y="98892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3584520" y="9907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422240" y="17971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60PB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218120" y="19051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238640" y="20685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386240" y="2065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254480" y="194616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267080" y="20890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3886200" y="238140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884760" y="239076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038480" y="28004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3657600" y="6858000"/>
            <a:ext cx="2095560" cy="1792080"/>
            <a:chOff x="3657600" y="6858000"/>
            <a:chExt cx="2095560" cy="1792080"/>
          </a:xfrm>
        </p:grpSpPr>
        <p:sp>
          <p:nvSpPr>
            <p:cNvPr id="1544" name=""/>
            <p:cNvSpPr/>
            <p:nvPr/>
          </p:nvSpPr>
          <p:spPr>
            <a:xfrm>
              <a:off x="3732120" y="798192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657600" y="695952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961440" y="6858000"/>
              <a:ext cx="1791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Arial"/>
                </a:rPr>
                <a:t>MANUEVER ELEMENT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nnaissanc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000320" y="735012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885840" y="740556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32120" y="747396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115520" y="724536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898800" y="7405560"/>
              <a:ext cx="2408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119120" y="8167680"/>
              <a:ext cx="1400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1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85840" y="792936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3966840" y="7873920"/>
              <a:ext cx="73800" cy="27000"/>
              <a:chOff x="3966840" y="7873920"/>
              <a:chExt cx="73800" cy="27000"/>
            </a:xfrm>
          </p:grpSpPr>
          <p:sp>
            <p:nvSpPr>
              <p:cNvPr id="1555" name=""/>
              <p:cNvSpPr/>
              <p:nvPr/>
            </p:nvSpPr>
            <p:spPr>
              <a:xfrm>
                <a:off x="3966840" y="7873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014000" y="78739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7" name=""/>
            <p:cNvSpPr/>
            <p:nvPr/>
          </p:nvSpPr>
          <p:spPr>
            <a:xfrm flipV="1">
              <a:off x="3885840" y="7929000"/>
              <a:ext cx="23616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84400" y="7929360"/>
              <a:ext cx="24084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90880" y="8172360"/>
              <a:ext cx="23904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0" name=""/>
            <p:cNvGrpSpPr/>
            <p:nvPr/>
          </p:nvGrpSpPr>
          <p:grpSpPr>
            <a:xfrm>
              <a:off x="3971520" y="8126280"/>
              <a:ext cx="74160" cy="27000"/>
              <a:chOff x="3971520" y="8126280"/>
              <a:chExt cx="74160" cy="27000"/>
            </a:xfrm>
          </p:grpSpPr>
          <p:sp>
            <p:nvSpPr>
              <p:cNvPr id="1561" name=""/>
              <p:cNvSpPr/>
              <p:nvPr/>
            </p:nvSpPr>
            <p:spPr>
              <a:xfrm>
                <a:off x="3971520" y="8126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4019040" y="81262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3" name=""/>
            <p:cNvSpPr/>
            <p:nvPr/>
          </p:nvSpPr>
          <p:spPr>
            <a:xfrm>
              <a:off x="3908160" y="833580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079520" y="83343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440" y="789768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with RPG-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917880" y="809784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32120" y="7200720"/>
              <a:ext cx="0" cy="13147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884400" y="764856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9" name=""/>
            <p:cNvGrpSpPr/>
            <p:nvPr/>
          </p:nvGrpSpPr>
          <p:grpSpPr>
            <a:xfrm>
              <a:off x="3965400" y="7602480"/>
              <a:ext cx="73800" cy="27000"/>
              <a:chOff x="3965400" y="7602480"/>
              <a:chExt cx="73800" cy="27000"/>
            </a:xfrm>
          </p:grpSpPr>
          <p:sp>
            <p:nvSpPr>
              <p:cNvPr id="1570" name=""/>
              <p:cNvSpPr/>
              <p:nvPr/>
            </p:nvSpPr>
            <p:spPr>
              <a:xfrm>
                <a:off x="3965400" y="7602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012560" y="76024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2" name=""/>
            <p:cNvSpPr/>
            <p:nvPr/>
          </p:nvSpPr>
          <p:spPr>
            <a:xfrm>
              <a:off x="3901680" y="78120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073400" y="781056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911400" y="757404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114800" y="80485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114800" y="750564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809880" y="688644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705120" y="7024680"/>
              <a:ext cx="21384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V="1">
              <a:off x="3662280" y="6962400"/>
              <a:ext cx="29808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925800" y="8210520"/>
              <a:ext cx="16920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3885840" y="817236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115880" y="7643880"/>
              <a:ext cx="1400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1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924000" y="7686720"/>
              <a:ext cx="16956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3885840" y="764856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90880" y="8458200"/>
              <a:ext cx="23904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6" name=""/>
            <p:cNvGrpSpPr/>
            <p:nvPr/>
          </p:nvGrpSpPr>
          <p:grpSpPr>
            <a:xfrm>
              <a:off x="3971520" y="8412120"/>
              <a:ext cx="74160" cy="27000"/>
              <a:chOff x="3971520" y="8412120"/>
              <a:chExt cx="74160" cy="27000"/>
            </a:xfrm>
          </p:grpSpPr>
          <p:sp>
            <p:nvSpPr>
              <p:cNvPr id="1587" name=""/>
              <p:cNvSpPr/>
              <p:nvPr/>
            </p:nvSpPr>
            <p:spPr>
              <a:xfrm>
                <a:off x="3971520" y="8412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019040" y="84121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3925800" y="8496360"/>
              <a:ext cx="16920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3885840" y="845820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116960" y="8434440"/>
              <a:ext cx="117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T-76B Light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733560" y="851544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09480" y="76010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54120" y="76582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85800" y="7839000"/>
            <a:ext cx="0" cy="4669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39880" y="79516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74800" y="799164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939960" y="78962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914400" y="7467480"/>
            <a:ext cx="193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MANUEVER ELEMENT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Antitank Missile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85800" y="8001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5800" y="8305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144440" y="78487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DM-2 Recon Vehi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143000" y="8167680"/>
            <a:ext cx="140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DM-2 ATGM Vehi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70040" y="7524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762120" y="7639200"/>
            <a:ext cx="144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27200" y="780408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7629480"/>
            <a:ext cx="152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95160" y="7629480"/>
            <a:ext cx="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28720" y="7629480"/>
            <a:ext cx="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838080" y="795348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838080" y="8153280"/>
            <a:ext cx="239760" cy="245880"/>
            <a:chOff x="838080" y="8153280"/>
            <a:chExt cx="239760" cy="245880"/>
          </a:xfrm>
        </p:grpSpPr>
        <p:sp>
          <p:nvSpPr>
            <p:cNvPr id="1612" name=""/>
            <p:cNvSpPr/>
            <p:nvPr/>
          </p:nvSpPr>
          <p:spPr>
            <a:xfrm>
              <a:off x="838080" y="820548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66520" y="824832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996840" y="8223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5" name=""/>
            <p:cNvGrpSpPr/>
            <p:nvPr/>
          </p:nvGrpSpPr>
          <p:grpSpPr>
            <a:xfrm>
              <a:off x="914400" y="8153280"/>
              <a:ext cx="74160" cy="27000"/>
              <a:chOff x="914400" y="8153280"/>
              <a:chExt cx="74160" cy="27000"/>
            </a:xfrm>
          </p:grpSpPr>
          <p:sp>
            <p:nvSpPr>
              <p:cNvPr id="1616" name=""/>
              <p:cNvSpPr/>
              <p:nvPr/>
            </p:nvSpPr>
            <p:spPr>
              <a:xfrm>
                <a:off x="914400" y="81532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961920" y="81532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8" name=""/>
            <p:cNvSpPr/>
            <p:nvPr/>
          </p:nvSpPr>
          <p:spPr>
            <a:xfrm flipH="1">
              <a:off x="955080" y="8235720"/>
              <a:ext cx="1800" cy="10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919080" y="834696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920520" y="823248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911160" y="8223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038240" y="8372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47440" y="83721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685800" y="45831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835200" y="44672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879480" y="45244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990720" y="43909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987480" y="4505400"/>
            <a:ext cx="144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952560" y="467028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911160" y="4495680"/>
            <a:ext cx="15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920880" y="4495680"/>
            <a:ext cx="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054080" y="4495680"/>
            <a:ext cx="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169280" y="443556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Antitank Missil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173600" y="4776840"/>
            <a:ext cx="146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T-54 Mine-clearing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183680" y="5043600"/>
            <a:ext cx="170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TU-120 Armored Bridge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838080" y="4762440"/>
            <a:ext cx="228600" cy="220680"/>
            <a:chOff x="838080" y="4762440"/>
            <a:chExt cx="228600" cy="220680"/>
          </a:xfrm>
        </p:grpSpPr>
        <p:sp>
          <p:nvSpPr>
            <p:cNvPr id="1637" name=""/>
            <p:cNvSpPr/>
            <p:nvPr/>
          </p:nvSpPr>
          <p:spPr>
            <a:xfrm>
              <a:off x="838080" y="4810320"/>
              <a:ext cx="228600" cy="1728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57160" y="4848480"/>
              <a:ext cx="209520" cy="1076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66880" y="4876920"/>
              <a:ext cx="1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84160" y="487692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961920" y="487692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027080" y="487692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3" name=""/>
            <p:cNvGrpSpPr/>
            <p:nvPr/>
          </p:nvGrpSpPr>
          <p:grpSpPr>
            <a:xfrm>
              <a:off x="923760" y="4762440"/>
              <a:ext cx="74880" cy="27000"/>
              <a:chOff x="923760" y="4762440"/>
              <a:chExt cx="74880" cy="27000"/>
            </a:xfrm>
          </p:grpSpPr>
          <p:sp>
            <p:nvSpPr>
              <p:cNvPr id="1644" name=""/>
              <p:cNvSpPr/>
              <p:nvPr/>
            </p:nvSpPr>
            <p:spPr>
              <a:xfrm>
                <a:off x="923760" y="47624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971640" y="47624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6" name=""/>
          <p:cNvGrpSpPr/>
          <p:nvPr/>
        </p:nvGrpSpPr>
        <p:grpSpPr>
          <a:xfrm>
            <a:off x="838080" y="5037120"/>
            <a:ext cx="228600" cy="220680"/>
            <a:chOff x="838080" y="5037120"/>
            <a:chExt cx="228600" cy="220680"/>
          </a:xfrm>
        </p:grpSpPr>
        <p:sp>
          <p:nvSpPr>
            <p:cNvPr id="1647" name=""/>
            <p:cNvSpPr/>
            <p:nvPr/>
          </p:nvSpPr>
          <p:spPr>
            <a:xfrm>
              <a:off x="838080" y="5085000"/>
              <a:ext cx="228600" cy="1728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57160" y="5123160"/>
              <a:ext cx="209520" cy="1076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66880" y="5151600"/>
              <a:ext cx="1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84160" y="51516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961920" y="51516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027080" y="51516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3" name=""/>
            <p:cNvGrpSpPr/>
            <p:nvPr/>
          </p:nvGrpSpPr>
          <p:grpSpPr>
            <a:xfrm>
              <a:off x="923760" y="5037120"/>
              <a:ext cx="74880" cy="27000"/>
              <a:chOff x="923760" y="5037120"/>
              <a:chExt cx="74880" cy="27000"/>
            </a:xfrm>
          </p:grpSpPr>
          <p:sp>
            <p:nvSpPr>
              <p:cNvPr id="1654" name=""/>
              <p:cNvSpPr/>
              <p:nvPr/>
            </p:nvSpPr>
            <p:spPr>
              <a:xfrm>
                <a:off x="923760" y="50371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971640" y="50371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6" name=""/>
          <p:cNvSpPr/>
          <p:nvPr/>
        </p:nvSpPr>
        <p:spPr>
          <a:xfrm>
            <a:off x="685800" y="51814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85800" y="4896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82960" y="31100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930480" y="3152880"/>
            <a:ext cx="152640" cy="759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733920" y="3429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733920" y="3200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190760" y="3328920"/>
            <a:ext cx="161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0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2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191120" y="3571920"/>
            <a:ext cx="166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1  107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895560" y="33480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895560" y="35956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191120" y="373392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152V Armored Personnel Carr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895560" y="38433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906720" y="40068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3970440" y="3787920"/>
            <a:ext cx="74160" cy="27000"/>
            <a:chOff x="3970440" y="3787920"/>
            <a:chExt cx="74160" cy="27000"/>
          </a:xfrm>
        </p:grpSpPr>
        <p:sp>
          <p:nvSpPr>
            <p:cNvPr id="1670" name=""/>
            <p:cNvSpPr/>
            <p:nvPr/>
          </p:nvSpPr>
          <p:spPr>
            <a:xfrm>
              <a:off x="3970440" y="37879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017960" y="37879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2" name=""/>
          <p:cNvSpPr/>
          <p:nvPr/>
        </p:nvSpPr>
        <p:spPr>
          <a:xfrm>
            <a:off x="4092480" y="40132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927600" y="37623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89320" y="3062160"/>
            <a:ext cx="165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SU-23/4 SP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3860640" y="311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994200" y="31082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936960" y="3193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978360" y="3679920"/>
            <a:ext cx="5724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978360" y="3432240"/>
            <a:ext cx="5724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006800" y="36226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006800" y="33750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930480" y="351468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3970440" y="3543480"/>
            <a:ext cx="74160" cy="26640"/>
            <a:chOff x="3970440" y="3543480"/>
            <a:chExt cx="74160" cy="26640"/>
          </a:xfrm>
        </p:grpSpPr>
        <p:sp>
          <p:nvSpPr>
            <p:cNvPr id="1684" name=""/>
            <p:cNvSpPr/>
            <p:nvPr/>
          </p:nvSpPr>
          <p:spPr>
            <a:xfrm>
              <a:off x="3970440" y="354348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017960" y="3543480"/>
              <a:ext cx="26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3968640" y="3295800"/>
            <a:ext cx="74880" cy="27000"/>
            <a:chOff x="3968640" y="3295800"/>
            <a:chExt cx="74880" cy="27000"/>
          </a:xfrm>
        </p:grpSpPr>
        <p:sp>
          <p:nvSpPr>
            <p:cNvPr id="1687" name=""/>
            <p:cNvSpPr/>
            <p:nvPr/>
          </p:nvSpPr>
          <p:spPr>
            <a:xfrm>
              <a:off x="3968640" y="32958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016520" y="3295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3978360" y="3057480"/>
            <a:ext cx="74160" cy="27000"/>
            <a:chOff x="3978360" y="3057480"/>
            <a:chExt cx="74160" cy="27000"/>
          </a:xfrm>
        </p:grpSpPr>
        <p:sp>
          <p:nvSpPr>
            <p:cNvPr id="1690" name=""/>
            <p:cNvSpPr/>
            <p:nvPr/>
          </p:nvSpPr>
          <p:spPr>
            <a:xfrm>
              <a:off x="3978360" y="3057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025880" y="30574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3940200" y="3886200"/>
            <a:ext cx="152280" cy="763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191120" y="4129200"/>
            <a:ext cx="140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DM-2 ATGM Vehi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4" name=""/>
          <p:cNvGrpSpPr/>
          <p:nvPr/>
        </p:nvGrpSpPr>
        <p:grpSpPr>
          <a:xfrm>
            <a:off x="3886200" y="4114800"/>
            <a:ext cx="239760" cy="245880"/>
            <a:chOff x="3886200" y="4114800"/>
            <a:chExt cx="239760" cy="245880"/>
          </a:xfrm>
        </p:grpSpPr>
        <p:sp>
          <p:nvSpPr>
            <p:cNvPr id="1695" name=""/>
            <p:cNvSpPr/>
            <p:nvPr/>
          </p:nvSpPr>
          <p:spPr>
            <a:xfrm>
              <a:off x="3886200" y="416700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914640" y="420984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044960" y="4184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8" name=""/>
            <p:cNvGrpSpPr/>
            <p:nvPr/>
          </p:nvGrpSpPr>
          <p:grpSpPr>
            <a:xfrm>
              <a:off x="3962520" y="4114800"/>
              <a:ext cx="74160" cy="27000"/>
              <a:chOff x="3962520" y="4114800"/>
              <a:chExt cx="74160" cy="27000"/>
            </a:xfrm>
          </p:grpSpPr>
          <p:sp>
            <p:nvSpPr>
              <p:cNvPr id="1699" name=""/>
              <p:cNvSpPr/>
              <p:nvPr/>
            </p:nvSpPr>
            <p:spPr>
              <a:xfrm>
                <a:off x="3962520" y="4114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010040" y="41148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1" name=""/>
            <p:cNvSpPr/>
            <p:nvPr/>
          </p:nvSpPr>
          <p:spPr>
            <a:xfrm flipH="1">
              <a:off x="4003200" y="4197240"/>
              <a:ext cx="1800" cy="10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967200" y="430848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968640" y="419400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959280" y="4184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086360" y="43336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895560" y="43336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7" name=""/>
          <p:cNvSpPr/>
          <p:nvPr/>
        </p:nvSpPr>
        <p:spPr>
          <a:xfrm>
            <a:off x="3867120" y="61308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176000" y="6083280"/>
            <a:ext cx="15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lyutka (Sagger) ATG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3984120" y="616104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948120" y="626256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949560" y="61578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940200" y="6157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025880" y="6157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943440" y="61815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029120" y="6184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3943440" y="6337440"/>
            <a:ext cx="74160" cy="27000"/>
            <a:chOff x="3943440" y="6337440"/>
            <a:chExt cx="74160" cy="27000"/>
          </a:xfrm>
        </p:grpSpPr>
        <p:sp>
          <p:nvSpPr>
            <p:cNvPr id="1717" name=""/>
            <p:cNvSpPr/>
            <p:nvPr/>
          </p:nvSpPr>
          <p:spPr>
            <a:xfrm>
              <a:off x="3943440" y="63374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990960" y="63374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9" name=""/>
          <p:cNvGrpSpPr/>
          <p:nvPr/>
        </p:nvGrpSpPr>
        <p:grpSpPr>
          <a:xfrm>
            <a:off x="3940200" y="6078600"/>
            <a:ext cx="74160" cy="27000"/>
            <a:chOff x="3940200" y="6078600"/>
            <a:chExt cx="74160" cy="27000"/>
          </a:xfrm>
        </p:grpSpPr>
        <p:sp>
          <p:nvSpPr>
            <p:cNvPr id="1720" name=""/>
            <p:cNvSpPr/>
            <p:nvPr/>
          </p:nvSpPr>
          <p:spPr>
            <a:xfrm>
              <a:off x="3940200" y="60786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987720" y="60786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2" name=""/>
          <p:cNvSpPr/>
          <p:nvPr/>
        </p:nvSpPr>
        <p:spPr>
          <a:xfrm>
            <a:off x="3713040" y="5240160"/>
            <a:ext cx="0" cy="247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562200" y="499896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714840" y="49230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967200" y="5322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67120" y="53784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713040" y="54752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867480" y="4846680"/>
            <a:ext cx="201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MANUEVER ELEMENT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201560" y="522756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879720" y="537840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185000" y="585936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-7 A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3870360" y="5572080"/>
            <a:ext cx="241200" cy="212760"/>
            <a:chOff x="3870360" y="5572080"/>
            <a:chExt cx="241200" cy="212760"/>
          </a:xfrm>
        </p:grpSpPr>
        <p:sp>
          <p:nvSpPr>
            <p:cNvPr id="1733" name=""/>
            <p:cNvSpPr/>
            <p:nvPr/>
          </p:nvSpPr>
          <p:spPr>
            <a:xfrm>
              <a:off x="3871800" y="562788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4" name=""/>
            <p:cNvGrpSpPr/>
            <p:nvPr/>
          </p:nvGrpSpPr>
          <p:grpSpPr>
            <a:xfrm>
              <a:off x="3952800" y="5572080"/>
              <a:ext cx="74880" cy="27000"/>
              <a:chOff x="3952800" y="5572080"/>
              <a:chExt cx="74880" cy="27000"/>
            </a:xfrm>
          </p:grpSpPr>
          <p:sp>
            <p:nvSpPr>
              <p:cNvPr id="1735" name=""/>
              <p:cNvSpPr/>
              <p:nvPr/>
            </p:nvSpPr>
            <p:spPr>
              <a:xfrm>
                <a:off x="3952800" y="55720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000680" y="5572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 flipV="1">
              <a:off x="3871800" y="562788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870360" y="562788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9" name=""/>
          <p:cNvGrpSpPr/>
          <p:nvPr/>
        </p:nvGrpSpPr>
        <p:grpSpPr>
          <a:xfrm>
            <a:off x="3943440" y="5830920"/>
            <a:ext cx="74160" cy="27000"/>
            <a:chOff x="3943440" y="5830920"/>
            <a:chExt cx="74160" cy="27000"/>
          </a:xfrm>
        </p:grpSpPr>
        <p:sp>
          <p:nvSpPr>
            <p:cNvPr id="1740" name=""/>
            <p:cNvSpPr/>
            <p:nvPr/>
          </p:nvSpPr>
          <p:spPr>
            <a:xfrm>
              <a:off x="3943440" y="58309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990960" y="58309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2" name=""/>
          <p:cNvSpPr/>
          <p:nvPr/>
        </p:nvSpPr>
        <p:spPr>
          <a:xfrm>
            <a:off x="4191480" y="5605560"/>
            <a:ext cx="81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605040" y="505152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562200" y="499896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562200" y="499860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903840" y="630864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183920" y="626580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60PB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875040" y="63831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905280" y="6556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062240" y="65530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911760" y="6424560"/>
            <a:ext cx="16956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867120" y="58831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981600" y="59450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949560" y="593568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905280" y="6012000"/>
            <a:ext cx="154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81600" y="5888160"/>
            <a:ext cx="75960" cy="75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3905280" y="5888160"/>
            <a:ext cx="76320" cy="75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905280" y="554508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905280" y="580248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905280" y="604980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562200" y="6616800"/>
            <a:ext cx="2438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Up to six with RPG-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"/>
          <p:cNvSpPr/>
          <p:nvPr/>
        </p:nvSpPr>
        <p:spPr>
          <a:xfrm>
            <a:off x="838080" y="3137040"/>
            <a:ext cx="0" cy="1255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028880" y="448164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028880" y="413856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019160" y="349092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80880" y="304920"/>
            <a:ext cx="6096240" cy="6094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rian Tables of Organ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antry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85800" y="29210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04880" y="2959200"/>
            <a:ext cx="257040" cy="1317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1024560" y="2819520"/>
            <a:ext cx="172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6600"/>
                </a:solidFill>
                <a:latin typeface="Arial"/>
              </a:rPr>
              <a:t>MANEUVER ELEMENT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43040" y="2997360"/>
            <a:ext cx="19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0960" y="299736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836640" y="299736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922320" y="299736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838080" y="28447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792600" y="52833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118760" y="106200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16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139640" y="3803760"/>
            <a:ext cx="2021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139640" y="5162400"/>
            <a:ext cx="2021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792600" y="390672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3792600" y="1119240"/>
            <a:ext cx="303120" cy="301680"/>
            <a:chOff x="3792600" y="1119240"/>
            <a:chExt cx="303120" cy="301680"/>
          </a:xfrm>
        </p:grpSpPr>
        <p:sp>
          <p:nvSpPr>
            <p:cNvPr id="1781" name=""/>
            <p:cNvSpPr/>
            <p:nvPr/>
          </p:nvSpPr>
          <p:spPr>
            <a:xfrm>
              <a:off x="3792600" y="119232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3930120" y="1262160"/>
              <a:ext cx="1800" cy="9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894120" y="137304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935520" y="11192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5" name=""/>
          <p:cNvSpPr/>
          <p:nvPr/>
        </p:nvSpPr>
        <p:spPr>
          <a:xfrm>
            <a:off x="3944880" y="38368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44880" y="52070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897360" y="3983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906720" y="5359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92600" y="25322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174560" y="2400480"/>
            <a:ext cx="20156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 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944880" y="2455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906720" y="2608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85800" y="11685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024560" y="1066680"/>
            <a:ext cx="172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MANEUVER ELEMENT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43040" y="1244520"/>
            <a:ext cx="19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50960" y="124452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36640" y="124452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922320" y="124452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38080" y="10922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95160" y="501336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H="1">
            <a:off x="833040" y="508320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97040" y="51944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994680" y="487692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838080" y="49402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833400" y="1411200"/>
            <a:ext cx="0" cy="1255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092240" y="15526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839880" y="16765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210680" y="14479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992880" y="746748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Company (12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987480" y="16048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000080" y="160488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204920" y="4557600"/>
            <a:ext cx="17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152V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990720" y="46339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011240" y="4797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5" name=""/>
          <p:cNvGrpSpPr/>
          <p:nvPr/>
        </p:nvGrpSpPr>
        <p:grpSpPr>
          <a:xfrm>
            <a:off x="1065240" y="4568760"/>
            <a:ext cx="74160" cy="27000"/>
            <a:chOff x="1065240" y="4568760"/>
            <a:chExt cx="74160" cy="27000"/>
          </a:xfrm>
        </p:grpSpPr>
        <p:sp>
          <p:nvSpPr>
            <p:cNvPr id="1816" name=""/>
            <p:cNvSpPr/>
            <p:nvPr/>
          </p:nvSpPr>
          <p:spPr>
            <a:xfrm>
              <a:off x="1065240" y="45687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112760" y="45687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1168560" y="4803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027080" y="46753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990720" y="18748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038240" y="1932120"/>
            <a:ext cx="152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1066680" y="1828800"/>
            <a:ext cx="74880" cy="27000"/>
            <a:chOff x="1066680" y="1828800"/>
            <a:chExt cx="74880" cy="27000"/>
          </a:xfrm>
        </p:grpSpPr>
        <p:sp>
          <p:nvSpPr>
            <p:cNvPr id="1823" name=""/>
            <p:cNvSpPr/>
            <p:nvPr/>
          </p:nvSpPr>
          <p:spPr>
            <a:xfrm>
              <a:off x="1066680" y="18288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114560" y="1828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5" name=""/>
          <p:cNvSpPr/>
          <p:nvPr/>
        </p:nvSpPr>
        <p:spPr>
          <a:xfrm>
            <a:off x="1047600" y="1941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181160" y="1941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114560" y="19350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941400" y="1985400"/>
            <a:ext cx="35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992160" y="22320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1039680" y="2289240"/>
            <a:ext cx="15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1068480" y="2171880"/>
            <a:ext cx="74160" cy="26640"/>
            <a:chOff x="1068480" y="2171880"/>
            <a:chExt cx="74160" cy="26640"/>
          </a:xfrm>
        </p:grpSpPr>
        <p:sp>
          <p:nvSpPr>
            <p:cNvPr id="1832" name=""/>
            <p:cNvSpPr/>
            <p:nvPr/>
          </p:nvSpPr>
          <p:spPr>
            <a:xfrm>
              <a:off x="1068480" y="217188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16000" y="2171880"/>
              <a:ext cx="26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1049400" y="2298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182600" y="2298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116000" y="2292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941400" y="2347200"/>
            <a:ext cx="35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028880" y="380520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220760" y="184320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220760" y="220500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B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90720" y="25938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104840" y="26557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73160" y="264636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028880" y="2722680"/>
            <a:ext cx="153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104840" y="2608200"/>
            <a:ext cx="7632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1028520" y="2608200"/>
            <a:ext cx="7596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1066680" y="2543040"/>
            <a:ext cx="74880" cy="27000"/>
            <a:chOff x="1066680" y="2543040"/>
            <a:chExt cx="74880" cy="27000"/>
          </a:xfrm>
        </p:grpSpPr>
        <p:sp>
          <p:nvSpPr>
            <p:cNvPr id="1848" name=""/>
            <p:cNvSpPr/>
            <p:nvPr/>
          </p:nvSpPr>
          <p:spPr>
            <a:xfrm>
              <a:off x="1066680" y="25430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114560" y="25430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0" name=""/>
          <p:cNvSpPr/>
          <p:nvPr/>
        </p:nvSpPr>
        <p:spPr>
          <a:xfrm>
            <a:off x="1220400" y="2570040"/>
            <a:ext cx="10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-7 Light SA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38080" y="19526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838080" y="23144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38080" y="26668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85800" y="756612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824040" y="763596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97040" y="773748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28720" y="74930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096920" y="32972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844560" y="34210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215360" y="31924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992160" y="33498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004760" y="3349800"/>
            <a:ext cx="2415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995400" y="36417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052640" y="3703680"/>
            <a:ext cx="152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1066680" y="3589200"/>
            <a:ext cx="74880" cy="27000"/>
            <a:chOff x="1066680" y="3589200"/>
            <a:chExt cx="74880" cy="27000"/>
          </a:xfrm>
        </p:grpSpPr>
        <p:sp>
          <p:nvSpPr>
            <p:cNvPr id="1866" name=""/>
            <p:cNvSpPr/>
            <p:nvPr/>
          </p:nvSpPr>
          <p:spPr>
            <a:xfrm>
              <a:off x="1066680" y="35892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14560" y="35892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1057320" y="37083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1190520" y="37083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123920" y="3711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946080" y="3749040"/>
            <a:ext cx="35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996840" y="39672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044720" y="4024440"/>
            <a:ext cx="152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1073160" y="3916440"/>
            <a:ext cx="74160" cy="27000"/>
            <a:chOff x="1073160" y="3916440"/>
            <a:chExt cx="74160" cy="27000"/>
          </a:xfrm>
        </p:grpSpPr>
        <p:sp>
          <p:nvSpPr>
            <p:cNvPr id="1875" name=""/>
            <p:cNvSpPr/>
            <p:nvPr/>
          </p:nvSpPr>
          <p:spPr>
            <a:xfrm>
              <a:off x="1073160" y="39164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120680" y="39164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1054080" y="4033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187280" y="4033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120680" y="40273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946080" y="4073040"/>
            <a:ext cx="35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225440" y="361008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225440" y="394020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5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B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995400" y="43099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109520" y="43718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077840" y="436248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033560" y="4438800"/>
            <a:ext cx="153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109520" y="4324320"/>
            <a:ext cx="7632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1033200" y="4324320"/>
            <a:ext cx="7596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1066680" y="4259160"/>
            <a:ext cx="74880" cy="27000"/>
            <a:chOff x="1066680" y="4259160"/>
            <a:chExt cx="74880" cy="27000"/>
          </a:xfrm>
        </p:grpSpPr>
        <p:sp>
          <p:nvSpPr>
            <p:cNvPr id="1890" name=""/>
            <p:cNvSpPr/>
            <p:nvPr/>
          </p:nvSpPr>
          <p:spPr>
            <a:xfrm>
              <a:off x="1066680" y="42591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114560" y="42591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2" name=""/>
          <p:cNvSpPr/>
          <p:nvPr/>
        </p:nvSpPr>
        <p:spPr>
          <a:xfrm>
            <a:off x="1225080" y="4286160"/>
            <a:ext cx="10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-7 Light SA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843120" y="37195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843120" y="40496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843120" y="4383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847800" y="525312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267920" y="529740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000080" y="54338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1074600" y="5383080"/>
            <a:ext cx="74880" cy="27000"/>
            <a:chOff x="1074600" y="5383080"/>
            <a:chExt cx="74880" cy="27000"/>
          </a:xfrm>
        </p:grpSpPr>
        <p:sp>
          <p:nvSpPr>
            <p:cNvPr id="1900" name=""/>
            <p:cNvSpPr/>
            <p:nvPr/>
          </p:nvSpPr>
          <p:spPr>
            <a:xfrm>
              <a:off x="1074600" y="53830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122480" y="5383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847800" y="55101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266840" y="5662440"/>
            <a:ext cx="9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2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1000080" y="56912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5" name=""/>
          <p:cNvGrpSpPr/>
          <p:nvPr/>
        </p:nvGrpSpPr>
        <p:grpSpPr>
          <a:xfrm>
            <a:off x="1074600" y="5640480"/>
            <a:ext cx="74880" cy="27000"/>
            <a:chOff x="1074600" y="5640480"/>
            <a:chExt cx="74880" cy="27000"/>
          </a:xfrm>
        </p:grpSpPr>
        <p:sp>
          <p:nvSpPr>
            <p:cNvPr id="1906" name=""/>
            <p:cNvSpPr/>
            <p:nvPr/>
          </p:nvSpPr>
          <p:spPr>
            <a:xfrm>
              <a:off x="1074600" y="56404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122480" y="5640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8" name=""/>
          <p:cNvSpPr/>
          <p:nvPr/>
        </p:nvSpPr>
        <p:spPr>
          <a:xfrm>
            <a:off x="847800" y="58053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084320" y="580068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122480" y="5727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085760" y="55436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123920" y="5470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838080" y="780588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258560" y="7850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990720" y="79866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1065240" y="7935840"/>
            <a:ext cx="74160" cy="27000"/>
            <a:chOff x="1065240" y="7935840"/>
            <a:chExt cx="74160" cy="27000"/>
          </a:xfrm>
        </p:grpSpPr>
        <p:sp>
          <p:nvSpPr>
            <p:cNvPr id="1917" name=""/>
            <p:cNvSpPr/>
            <p:nvPr/>
          </p:nvSpPr>
          <p:spPr>
            <a:xfrm>
              <a:off x="1065240" y="7935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112760" y="79358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838080" y="80629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257480" y="821520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0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990720" y="82440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1065240" y="8193240"/>
            <a:ext cx="74160" cy="27000"/>
            <a:chOff x="1065240" y="8193240"/>
            <a:chExt cx="74160" cy="27000"/>
          </a:xfrm>
        </p:grpSpPr>
        <p:sp>
          <p:nvSpPr>
            <p:cNvPr id="1923" name=""/>
            <p:cNvSpPr/>
            <p:nvPr/>
          </p:nvSpPr>
          <p:spPr>
            <a:xfrm>
              <a:off x="1065240" y="8193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12760" y="81932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5" name=""/>
          <p:cNvSpPr/>
          <p:nvPr/>
        </p:nvSpPr>
        <p:spPr>
          <a:xfrm>
            <a:off x="838080" y="83581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074600" y="83534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112760" y="82803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076400" y="809640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114560" y="80233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944880" y="143352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365360" y="14778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097160" y="16146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172040" y="1563840"/>
            <a:ext cx="74160" cy="27000"/>
            <a:chOff x="4172040" y="1563840"/>
            <a:chExt cx="74160" cy="27000"/>
          </a:xfrm>
        </p:grpSpPr>
        <p:sp>
          <p:nvSpPr>
            <p:cNvPr id="1934" name=""/>
            <p:cNvSpPr/>
            <p:nvPr/>
          </p:nvSpPr>
          <p:spPr>
            <a:xfrm>
              <a:off x="4172040" y="1563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219560" y="15638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44880" y="16905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4364280" y="184320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60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097160" y="18716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4172040" y="1820880"/>
            <a:ext cx="74160" cy="27000"/>
            <a:chOff x="4172040" y="1820880"/>
            <a:chExt cx="74160" cy="27000"/>
          </a:xfrm>
        </p:grpSpPr>
        <p:sp>
          <p:nvSpPr>
            <p:cNvPr id="1940" name=""/>
            <p:cNvSpPr/>
            <p:nvPr/>
          </p:nvSpPr>
          <p:spPr>
            <a:xfrm>
              <a:off x="4172040" y="1820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219560" y="18208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2" name=""/>
          <p:cNvSpPr/>
          <p:nvPr/>
        </p:nvSpPr>
        <p:spPr>
          <a:xfrm>
            <a:off x="3944880" y="19861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181400" y="198108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219560" y="19080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183200" y="17240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221000" y="16509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944880" y="277668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365360" y="28209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097160" y="29574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4172040" y="2906640"/>
            <a:ext cx="74160" cy="27000"/>
            <a:chOff x="4172040" y="2906640"/>
            <a:chExt cx="74160" cy="27000"/>
          </a:xfrm>
        </p:grpSpPr>
        <p:sp>
          <p:nvSpPr>
            <p:cNvPr id="1951" name=""/>
            <p:cNvSpPr/>
            <p:nvPr/>
          </p:nvSpPr>
          <p:spPr>
            <a:xfrm>
              <a:off x="4172040" y="29066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219560" y="29066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3" name=""/>
          <p:cNvSpPr/>
          <p:nvPr/>
        </p:nvSpPr>
        <p:spPr>
          <a:xfrm>
            <a:off x="3944880" y="30337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363920" y="3214800"/>
            <a:ext cx="131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M38 Howitz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097160" y="32432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6" name=""/>
          <p:cNvGrpSpPr/>
          <p:nvPr/>
        </p:nvGrpSpPr>
        <p:grpSpPr>
          <a:xfrm>
            <a:off x="4172040" y="3192480"/>
            <a:ext cx="74160" cy="27000"/>
            <a:chOff x="4172040" y="3192480"/>
            <a:chExt cx="74160" cy="27000"/>
          </a:xfrm>
        </p:grpSpPr>
        <p:sp>
          <p:nvSpPr>
            <p:cNvPr id="1957" name=""/>
            <p:cNvSpPr/>
            <p:nvPr/>
          </p:nvSpPr>
          <p:spPr>
            <a:xfrm>
              <a:off x="4172040" y="3192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219560" y="31924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9" name=""/>
          <p:cNvSpPr/>
          <p:nvPr/>
        </p:nvSpPr>
        <p:spPr>
          <a:xfrm>
            <a:off x="3944880" y="33386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202280" y="3014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202280" y="3300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944880" y="414828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365360" y="41925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097160" y="43290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5" name=""/>
          <p:cNvGrpSpPr/>
          <p:nvPr/>
        </p:nvGrpSpPr>
        <p:grpSpPr>
          <a:xfrm>
            <a:off x="4172040" y="4278240"/>
            <a:ext cx="74160" cy="27000"/>
            <a:chOff x="4172040" y="4278240"/>
            <a:chExt cx="74160" cy="27000"/>
          </a:xfrm>
        </p:grpSpPr>
        <p:sp>
          <p:nvSpPr>
            <p:cNvPr id="1966" name=""/>
            <p:cNvSpPr/>
            <p:nvPr/>
          </p:nvSpPr>
          <p:spPr>
            <a:xfrm>
              <a:off x="4172040" y="4278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219560" y="42782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8" name=""/>
          <p:cNvSpPr/>
          <p:nvPr/>
        </p:nvSpPr>
        <p:spPr>
          <a:xfrm>
            <a:off x="3944880" y="4405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365360" y="4586400"/>
            <a:ext cx="134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D30 Field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097160" y="46148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1" name=""/>
          <p:cNvGrpSpPr/>
          <p:nvPr/>
        </p:nvGrpSpPr>
        <p:grpSpPr>
          <a:xfrm>
            <a:off x="4172040" y="4564080"/>
            <a:ext cx="74160" cy="27000"/>
            <a:chOff x="4172040" y="4564080"/>
            <a:chExt cx="74160" cy="27000"/>
          </a:xfrm>
        </p:grpSpPr>
        <p:sp>
          <p:nvSpPr>
            <p:cNvPr id="1972" name=""/>
            <p:cNvSpPr/>
            <p:nvPr/>
          </p:nvSpPr>
          <p:spPr>
            <a:xfrm>
              <a:off x="4172040" y="45640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219560" y="45640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3944880" y="47102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202280" y="43862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202280" y="4672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44880" y="5529240"/>
            <a:ext cx="0" cy="571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365360" y="5564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097160" y="57006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4172040" y="5649840"/>
            <a:ext cx="74160" cy="27000"/>
            <a:chOff x="4172040" y="5649840"/>
            <a:chExt cx="74160" cy="27000"/>
          </a:xfrm>
        </p:grpSpPr>
        <p:sp>
          <p:nvSpPr>
            <p:cNvPr id="1981" name=""/>
            <p:cNvSpPr/>
            <p:nvPr/>
          </p:nvSpPr>
          <p:spPr>
            <a:xfrm>
              <a:off x="4172040" y="5649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219560" y="56498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3" name=""/>
          <p:cNvSpPr/>
          <p:nvPr/>
        </p:nvSpPr>
        <p:spPr>
          <a:xfrm>
            <a:off x="3944880" y="5776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365360" y="5958000"/>
            <a:ext cx="134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D74 Field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097160" y="59864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6" name=""/>
          <p:cNvGrpSpPr/>
          <p:nvPr/>
        </p:nvGrpSpPr>
        <p:grpSpPr>
          <a:xfrm>
            <a:off x="4172040" y="5935680"/>
            <a:ext cx="74160" cy="27000"/>
            <a:chOff x="4172040" y="5935680"/>
            <a:chExt cx="74160" cy="27000"/>
          </a:xfrm>
        </p:grpSpPr>
        <p:sp>
          <p:nvSpPr>
            <p:cNvPr id="1987" name=""/>
            <p:cNvSpPr/>
            <p:nvPr/>
          </p:nvSpPr>
          <p:spPr>
            <a:xfrm>
              <a:off x="4172040" y="59356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219560" y="59356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9" name=""/>
          <p:cNvSpPr/>
          <p:nvPr/>
        </p:nvSpPr>
        <p:spPr>
          <a:xfrm>
            <a:off x="3944880" y="6081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202280" y="5757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202280" y="60436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689040" y="842652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834000" y="205740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795840" y="342900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795840" y="480060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795840" y="621648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996840" y="69357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85800" y="60800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16040" y="614988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87320" y="623268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984960" y="594360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6600"/>
                </a:solidFill>
                <a:latin typeface="Arial"/>
              </a:rPr>
              <a:t>FIRE SUPPORT ELEMENT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828720" y="60069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825480" y="6159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838080" y="6324480"/>
            <a:ext cx="0" cy="6858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298160" y="624852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996840" y="63849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7" name=""/>
          <p:cNvGrpSpPr/>
          <p:nvPr/>
        </p:nvGrpSpPr>
        <p:grpSpPr>
          <a:xfrm>
            <a:off x="1076400" y="6334200"/>
            <a:ext cx="74160" cy="27000"/>
            <a:chOff x="1076400" y="6334200"/>
            <a:chExt cx="74160" cy="27000"/>
          </a:xfrm>
        </p:grpSpPr>
        <p:sp>
          <p:nvSpPr>
            <p:cNvPr id="2008" name=""/>
            <p:cNvSpPr/>
            <p:nvPr/>
          </p:nvSpPr>
          <p:spPr>
            <a:xfrm>
              <a:off x="1076400" y="63342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123920" y="63342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844560" y="64612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96720" y="6907320"/>
            <a:ext cx="9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2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2" name=""/>
          <p:cNvGrpSpPr/>
          <p:nvPr/>
        </p:nvGrpSpPr>
        <p:grpSpPr>
          <a:xfrm>
            <a:off x="1066680" y="6886440"/>
            <a:ext cx="74880" cy="27000"/>
            <a:chOff x="1066680" y="6886440"/>
            <a:chExt cx="74880" cy="27000"/>
          </a:xfrm>
        </p:grpSpPr>
        <p:sp>
          <p:nvSpPr>
            <p:cNvPr id="2013" name=""/>
            <p:cNvSpPr/>
            <p:nvPr/>
          </p:nvSpPr>
          <p:spPr>
            <a:xfrm>
              <a:off x="1066680" y="68864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114560" y="6886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844560" y="69991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081080" y="70452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114560" y="6972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092240" y="64850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1120680" y="64213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297080" y="657072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152I Armored Command P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990720" y="66470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011240" y="6810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1074600" y="6591240"/>
            <a:ext cx="74880" cy="27000"/>
            <a:chOff x="1074600" y="6591240"/>
            <a:chExt cx="74880" cy="27000"/>
          </a:xfrm>
        </p:grpSpPr>
        <p:sp>
          <p:nvSpPr>
            <p:cNvPr id="2024" name=""/>
            <p:cNvSpPr/>
            <p:nvPr/>
          </p:nvSpPr>
          <p:spPr>
            <a:xfrm>
              <a:off x="1074600" y="65912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122480" y="65912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6" name=""/>
          <p:cNvSpPr/>
          <p:nvPr/>
        </p:nvSpPr>
        <p:spPr>
          <a:xfrm>
            <a:off x="1168560" y="68072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027080" y="668808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990720" y="72072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011240" y="7372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74600" y="7157880"/>
            <a:ext cx="74880" cy="27000"/>
            <a:chOff x="1074600" y="7157880"/>
            <a:chExt cx="74880" cy="27000"/>
          </a:xfrm>
        </p:grpSpPr>
        <p:sp>
          <p:nvSpPr>
            <p:cNvPr id="2031" name=""/>
            <p:cNvSpPr/>
            <p:nvPr/>
          </p:nvSpPr>
          <p:spPr>
            <a:xfrm>
              <a:off x="1074600" y="71578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122480" y="71578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1177920" y="7372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027080" y="724860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298520" y="708660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152V Armored Personnel Carr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1028880" y="655632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028880" y="711828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136400" y="659304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24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3809880" y="6649920"/>
            <a:ext cx="303120" cy="301680"/>
            <a:chOff x="3809880" y="6649920"/>
            <a:chExt cx="303120" cy="301680"/>
          </a:xfrm>
        </p:grpSpPr>
        <p:sp>
          <p:nvSpPr>
            <p:cNvPr id="2040" name=""/>
            <p:cNvSpPr/>
            <p:nvPr/>
          </p:nvSpPr>
          <p:spPr>
            <a:xfrm>
              <a:off x="3809880" y="672300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>
              <a:off x="3947400" y="6792840"/>
              <a:ext cx="1800" cy="9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11400" y="69037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952800" y="66499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4" name=""/>
          <p:cNvSpPr/>
          <p:nvPr/>
        </p:nvSpPr>
        <p:spPr>
          <a:xfrm>
            <a:off x="3962520" y="6964200"/>
            <a:ext cx="0" cy="571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382640" y="7008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114800" y="71452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4189320" y="7094520"/>
            <a:ext cx="74880" cy="27000"/>
            <a:chOff x="4189320" y="7094520"/>
            <a:chExt cx="74880" cy="27000"/>
          </a:xfrm>
        </p:grpSpPr>
        <p:sp>
          <p:nvSpPr>
            <p:cNvPr id="2048" name=""/>
            <p:cNvSpPr/>
            <p:nvPr/>
          </p:nvSpPr>
          <p:spPr>
            <a:xfrm>
              <a:off x="4189320" y="70945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237200" y="70945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3962520" y="7221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381560" y="737388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40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114800" y="74026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3" name=""/>
          <p:cNvGrpSpPr/>
          <p:nvPr/>
        </p:nvGrpSpPr>
        <p:grpSpPr>
          <a:xfrm>
            <a:off x="4189320" y="7351560"/>
            <a:ext cx="74880" cy="27000"/>
            <a:chOff x="4189320" y="7351560"/>
            <a:chExt cx="74880" cy="27000"/>
          </a:xfrm>
        </p:grpSpPr>
        <p:sp>
          <p:nvSpPr>
            <p:cNvPr id="2054" name=""/>
            <p:cNvSpPr/>
            <p:nvPr/>
          </p:nvSpPr>
          <p:spPr>
            <a:xfrm>
              <a:off x="4189320" y="73515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237200" y="7351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3962520" y="75168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199040" y="75121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237200" y="74390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200480" y="725472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238640" y="71820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851280" y="758808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5829120" cy="48276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rian Tables of Organ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pendent Formations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81120" y="1278000"/>
            <a:ext cx="0" cy="21510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30280" y="1049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74560" y="110664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830160" y="1447920"/>
            <a:ext cx="3049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861840" y="1479600"/>
            <a:ext cx="24156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982800" y="18288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982800" y="1685880"/>
            <a:ext cx="1440" cy="1429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247760" y="1704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136520" y="17604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171440" y="180036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982800" y="1371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833400" y="25448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879480" y="26020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1120" y="34383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681120" y="2658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77880" y="1523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835200" y="898560"/>
            <a:ext cx="231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6600"/>
                </a:solidFill>
                <a:latin typeface="Arial"/>
              </a:rPr>
              <a:t>BATTLEGROUP-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dependent Armored Brigade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133640" y="133992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365120" y="160956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62A Main Battle Tank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327320" y="23004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182960" y="2482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Tank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261080" y="3595680"/>
            <a:ext cx="17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DIVISIONAL ATTACHMENT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835200" y="20541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879480" y="211140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835200" y="205380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833400" y="205416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90720" y="28764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81120" y="3078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202400" y="199404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echanized Infantry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835200" y="29541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879480" y="301140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191240" y="28782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Reconnaissanc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85800" y="2178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961920" y="1981080"/>
            <a:ext cx="56880" cy="63360"/>
            <a:chOff x="961920" y="1981080"/>
            <a:chExt cx="56880" cy="63360"/>
          </a:xfrm>
        </p:grpSpPr>
        <p:sp>
          <p:nvSpPr>
            <p:cNvPr id="2097" name=""/>
            <p:cNvSpPr/>
            <p:nvPr/>
          </p:nvSpPr>
          <p:spPr>
            <a:xfrm>
              <a:off x="961920" y="1981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018800" y="1981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961920" y="2470320"/>
            <a:ext cx="56880" cy="63360"/>
            <a:chOff x="961920" y="2470320"/>
            <a:chExt cx="56880" cy="63360"/>
          </a:xfrm>
        </p:grpSpPr>
        <p:sp>
          <p:nvSpPr>
            <p:cNvPr id="2100" name=""/>
            <p:cNvSpPr/>
            <p:nvPr/>
          </p:nvSpPr>
          <p:spPr>
            <a:xfrm>
              <a:off x="961920" y="2470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018800" y="2470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2" name=""/>
          <p:cNvSpPr/>
          <p:nvPr/>
        </p:nvSpPr>
        <p:spPr>
          <a:xfrm flipV="1">
            <a:off x="838080" y="295380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838080" y="33526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857160" y="3390840"/>
            <a:ext cx="257400" cy="1317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171080" y="3276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895320" y="342900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903240" y="34290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988920" y="34290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074600" y="34290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990720" y="3276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1" name=""/>
          <p:cNvGrpSpPr/>
          <p:nvPr/>
        </p:nvGrpSpPr>
        <p:grpSpPr>
          <a:xfrm>
            <a:off x="533520" y="5511960"/>
            <a:ext cx="2140920" cy="966600"/>
            <a:chOff x="533520" y="5511960"/>
            <a:chExt cx="2140920" cy="966600"/>
          </a:xfrm>
        </p:grpSpPr>
        <p:sp>
          <p:nvSpPr>
            <p:cNvPr id="2112" name=""/>
            <p:cNvSpPr/>
            <p:nvPr/>
          </p:nvSpPr>
          <p:spPr>
            <a:xfrm>
              <a:off x="609840" y="5883480"/>
              <a:ext cx="0" cy="47628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63920" y="599616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98840" y="603612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64000" y="59407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42040" y="5511960"/>
              <a:ext cx="172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Arial"/>
                </a:rPr>
                <a:t>MANUEVER ELEMENT-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3520" y="564552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8160" y="570276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09840" y="60771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09840" y="63630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62120" y="630108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97040" y="634068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3" name=""/>
            <p:cNvGrpSpPr/>
            <p:nvPr/>
          </p:nvGrpSpPr>
          <p:grpSpPr>
            <a:xfrm>
              <a:off x="833760" y="6245640"/>
              <a:ext cx="74160" cy="27000"/>
              <a:chOff x="833760" y="6245640"/>
              <a:chExt cx="74160" cy="27000"/>
            </a:xfrm>
          </p:grpSpPr>
          <p:sp>
            <p:nvSpPr>
              <p:cNvPr id="2124" name=""/>
              <p:cNvSpPr/>
              <p:nvPr/>
            </p:nvSpPr>
            <p:spPr>
              <a:xfrm>
                <a:off x="833760" y="62456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881280" y="62456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6" name=""/>
            <p:cNvSpPr/>
            <p:nvPr/>
          </p:nvSpPr>
          <p:spPr>
            <a:xfrm>
              <a:off x="1068480" y="5893200"/>
              <a:ext cx="15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62A Main Battle Tank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068840" y="6262920"/>
              <a:ext cx="160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62A Main Battle Tank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8" name=""/>
            <p:cNvGrpSpPr/>
            <p:nvPr/>
          </p:nvGrpSpPr>
          <p:grpSpPr>
            <a:xfrm>
              <a:off x="657360" y="5572440"/>
              <a:ext cx="56880" cy="63360"/>
              <a:chOff x="657360" y="5572440"/>
              <a:chExt cx="56880" cy="63360"/>
            </a:xfrm>
          </p:grpSpPr>
          <p:sp>
            <p:nvSpPr>
              <p:cNvPr id="2129" name=""/>
              <p:cNvSpPr/>
              <p:nvPr/>
            </p:nvSpPr>
            <p:spPr>
              <a:xfrm>
                <a:off x="657360" y="5572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14240" y="5572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1" name=""/>
          <p:cNvGrpSpPr/>
          <p:nvPr/>
        </p:nvGrpSpPr>
        <p:grpSpPr>
          <a:xfrm>
            <a:off x="647280" y="961920"/>
            <a:ext cx="76320" cy="75960"/>
            <a:chOff x="647280" y="961920"/>
            <a:chExt cx="76320" cy="75960"/>
          </a:xfrm>
        </p:grpSpPr>
        <p:sp>
          <p:nvSpPr>
            <p:cNvPr id="2132" name=""/>
            <p:cNvSpPr/>
            <p:nvPr/>
          </p:nvSpPr>
          <p:spPr>
            <a:xfrm flipH="1">
              <a:off x="647280" y="961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47640" y="961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3898800" y="27208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929040" y="279072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872880" y="82224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BATTLEGROUP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581280" y="990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8" name=""/>
          <p:cNvGrpSpPr/>
          <p:nvPr/>
        </p:nvGrpSpPr>
        <p:grpSpPr>
          <a:xfrm>
            <a:off x="3708360" y="914400"/>
            <a:ext cx="57240" cy="63360"/>
            <a:chOff x="3708360" y="914400"/>
            <a:chExt cx="57240" cy="63360"/>
          </a:xfrm>
        </p:grpSpPr>
        <p:sp>
          <p:nvSpPr>
            <p:cNvPr id="2139" name=""/>
            <p:cNvSpPr/>
            <p:nvPr/>
          </p:nvSpPr>
          <p:spPr>
            <a:xfrm>
              <a:off x="370836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6560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3736800" y="1238400"/>
            <a:ext cx="0" cy="21906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746520" y="2838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02120" y="1405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889440" y="1324080"/>
            <a:ext cx="30456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921120" y="1355760"/>
            <a:ext cx="24120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041720" y="17240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041720" y="1562040"/>
            <a:ext cx="1800" cy="1684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4307040" y="1590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041720" y="12477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736800" y="14000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192920" y="117144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425120" y="14860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3" name=""/>
          <p:cNvGrpSpPr/>
          <p:nvPr/>
        </p:nvGrpSpPr>
        <p:grpSpPr>
          <a:xfrm>
            <a:off x="4308480" y="1855800"/>
            <a:ext cx="74160" cy="27000"/>
            <a:chOff x="4308480" y="1855800"/>
            <a:chExt cx="74160" cy="27000"/>
          </a:xfrm>
        </p:grpSpPr>
        <p:sp>
          <p:nvSpPr>
            <p:cNvPr id="2154" name=""/>
            <p:cNvSpPr/>
            <p:nvPr/>
          </p:nvSpPr>
          <p:spPr>
            <a:xfrm>
              <a:off x="4308480" y="18558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356000" y="18558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6" name=""/>
          <p:cNvSpPr/>
          <p:nvPr/>
        </p:nvSpPr>
        <p:spPr>
          <a:xfrm>
            <a:off x="4202280" y="164304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214880" y="164304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227480" y="18111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02360" y="21528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736800" y="25020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2381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189680" y="2305080"/>
            <a:ext cx="179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041720" y="2305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314600" y="292896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000680" y="28735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194000" y="2610000"/>
            <a:ext cx="19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S-02 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041720" y="2647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3929040" y="243828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624120" y="1047600"/>
            <a:ext cx="21456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584520" y="98892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V="1">
            <a:off x="3584520" y="9907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420800" y="179712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MP-1 Infantry Combat Vehicl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4218120" y="19051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4248000" y="20685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395960" y="2065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4254480" y="194616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276800" y="2089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V="1">
            <a:off x="3886200" y="238140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884760" y="239076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038480" y="28004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3657600" y="6781680"/>
            <a:ext cx="2095560" cy="1792080"/>
            <a:chOff x="3657600" y="6781680"/>
            <a:chExt cx="2095560" cy="1792080"/>
          </a:xfrm>
        </p:grpSpPr>
        <p:sp>
          <p:nvSpPr>
            <p:cNvPr id="2182" name=""/>
            <p:cNvSpPr/>
            <p:nvPr/>
          </p:nvSpPr>
          <p:spPr>
            <a:xfrm>
              <a:off x="3732120" y="790560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657600" y="688320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961440" y="6781680"/>
              <a:ext cx="1791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Arial"/>
                </a:rPr>
                <a:t>MANUEVER ELEMENT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nnaissanc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000320" y="727380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885840" y="732924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732120" y="739764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115520" y="716904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898800" y="7329240"/>
              <a:ext cx="2408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119120" y="8091360"/>
              <a:ext cx="1400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1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885840" y="785304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2" name=""/>
            <p:cNvGrpSpPr/>
            <p:nvPr/>
          </p:nvGrpSpPr>
          <p:grpSpPr>
            <a:xfrm>
              <a:off x="3966840" y="7797600"/>
              <a:ext cx="73800" cy="27000"/>
              <a:chOff x="3966840" y="7797600"/>
              <a:chExt cx="73800" cy="27000"/>
            </a:xfrm>
          </p:grpSpPr>
          <p:sp>
            <p:nvSpPr>
              <p:cNvPr id="2193" name=""/>
              <p:cNvSpPr/>
              <p:nvPr/>
            </p:nvSpPr>
            <p:spPr>
              <a:xfrm>
                <a:off x="3966840" y="77976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014000" y="77976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5" name=""/>
            <p:cNvSpPr/>
            <p:nvPr/>
          </p:nvSpPr>
          <p:spPr>
            <a:xfrm flipV="1">
              <a:off x="3885840" y="7852680"/>
              <a:ext cx="23616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884400" y="7853040"/>
              <a:ext cx="24084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890880" y="8096040"/>
              <a:ext cx="23904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8" name=""/>
            <p:cNvGrpSpPr/>
            <p:nvPr/>
          </p:nvGrpSpPr>
          <p:grpSpPr>
            <a:xfrm>
              <a:off x="3971520" y="8049960"/>
              <a:ext cx="74160" cy="27000"/>
              <a:chOff x="3971520" y="8049960"/>
              <a:chExt cx="74160" cy="27000"/>
            </a:xfrm>
          </p:grpSpPr>
          <p:sp>
            <p:nvSpPr>
              <p:cNvPr id="2199" name=""/>
              <p:cNvSpPr/>
              <p:nvPr/>
            </p:nvSpPr>
            <p:spPr>
              <a:xfrm>
                <a:off x="3971520" y="8049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019040" y="80499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1" name=""/>
            <p:cNvSpPr/>
            <p:nvPr/>
          </p:nvSpPr>
          <p:spPr>
            <a:xfrm>
              <a:off x="3908160" y="825948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079520" y="82580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114440" y="782136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with RPG-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917880" y="802152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732120" y="7124400"/>
              <a:ext cx="0" cy="13147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884400" y="757224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7" name=""/>
            <p:cNvGrpSpPr/>
            <p:nvPr/>
          </p:nvGrpSpPr>
          <p:grpSpPr>
            <a:xfrm>
              <a:off x="3965400" y="7526160"/>
              <a:ext cx="73800" cy="27000"/>
              <a:chOff x="3965400" y="7526160"/>
              <a:chExt cx="73800" cy="27000"/>
            </a:xfrm>
          </p:grpSpPr>
          <p:sp>
            <p:nvSpPr>
              <p:cNvPr id="2208" name=""/>
              <p:cNvSpPr/>
              <p:nvPr/>
            </p:nvSpPr>
            <p:spPr>
              <a:xfrm>
                <a:off x="3965400" y="7526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012560" y="75261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0" name=""/>
            <p:cNvSpPr/>
            <p:nvPr/>
          </p:nvSpPr>
          <p:spPr>
            <a:xfrm>
              <a:off x="3901680" y="77356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073400" y="773424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911400" y="749772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114800" y="797220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114800" y="74293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809880" y="68101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705120" y="6948360"/>
              <a:ext cx="21384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3662280" y="6886080"/>
              <a:ext cx="29808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925800" y="8134200"/>
              <a:ext cx="16920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3885840" y="809604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115880" y="7567560"/>
              <a:ext cx="1400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1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924000" y="7610400"/>
              <a:ext cx="16956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3885840" y="757224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890880" y="8381880"/>
              <a:ext cx="23904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4" name=""/>
            <p:cNvGrpSpPr/>
            <p:nvPr/>
          </p:nvGrpSpPr>
          <p:grpSpPr>
            <a:xfrm>
              <a:off x="3971520" y="8335800"/>
              <a:ext cx="74160" cy="27000"/>
              <a:chOff x="3971520" y="8335800"/>
              <a:chExt cx="74160" cy="27000"/>
            </a:xfrm>
          </p:grpSpPr>
          <p:sp>
            <p:nvSpPr>
              <p:cNvPr id="2225" name=""/>
              <p:cNvSpPr/>
              <p:nvPr/>
            </p:nvSpPr>
            <p:spPr>
              <a:xfrm>
                <a:off x="3971520" y="8335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019040" y="83358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7" name=""/>
            <p:cNvSpPr/>
            <p:nvPr/>
          </p:nvSpPr>
          <p:spPr>
            <a:xfrm>
              <a:off x="3925800" y="8420040"/>
              <a:ext cx="16920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3885840" y="838188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116960" y="8358120"/>
              <a:ext cx="117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T-76B Light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733560" y="843912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3882960" y="31100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930480" y="3152880"/>
            <a:ext cx="152640" cy="759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733920" y="3429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733920" y="3200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190760" y="3328920"/>
            <a:ext cx="161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0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2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895560" y="33480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191120" y="348624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152V Armored Personnel Carr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895560" y="35956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3906720" y="37591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0" name=""/>
          <p:cNvGrpSpPr/>
          <p:nvPr/>
        </p:nvGrpSpPr>
        <p:grpSpPr>
          <a:xfrm>
            <a:off x="3970440" y="3540240"/>
            <a:ext cx="74160" cy="27000"/>
            <a:chOff x="3970440" y="3540240"/>
            <a:chExt cx="74160" cy="27000"/>
          </a:xfrm>
        </p:grpSpPr>
        <p:sp>
          <p:nvSpPr>
            <p:cNvPr id="2241" name=""/>
            <p:cNvSpPr/>
            <p:nvPr/>
          </p:nvSpPr>
          <p:spPr>
            <a:xfrm>
              <a:off x="3970440" y="3540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017960" y="35402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4092480" y="37656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927600" y="351468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4189320" y="3062160"/>
            <a:ext cx="165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SU-23/4 SP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H="1">
            <a:off x="3860640" y="311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994200" y="31082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936960" y="3193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978360" y="3432240"/>
            <a:ext cx="5724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006800" y="33750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1" name=""/>
          <p:cNvGrpSpPr/>
          <p:nvPr/>
        </p:nvGrpSpPr>
        <p:grpSpPr>
          <a:xfrm>
            <a:off x="3968640" y="3295800"/>
            <a:ext cx="74880" cy="27000"/>
            <a:chOff x="3968640" y="3295800"/>
            <a:chExt cx="74880" cy="27000"/>
          </a:xfrm>
        </p:grpSpPr>
        <p:sp>
          <p:nvSpPr>
            <p:cNvPr id="2252" name=""/>
            <p:cNvSpPr/>
            <p:nvPr/>
          </p:nvSpPr>
          <p:spPr>
            <a:xfrm>
              <a:off x="3968640" y="32958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016520" y="3295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3978360" y="3057480"/>
            <a:ext cx="74160" cy="27000"/>
            <a:chOff x="3978360" y="3057480"/>
            <a:chExt cx="74160" cy="27000"/>
          </a:xfrm>
        </p:grpSpPr>
        <p:sp>
          <p:nvSpPr>
            <p:cNvPr id="2255" name=""/>
            <p:cNvSpPr/>
            <p:nvPr/>
          </p:nvSpPr>
          <p:spPr>
            <a:xfrm>
              <a:off x="3978360" y="3057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025880" y="30574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3940200" y="3638520"/>
            <a:ext cx="152280" cy="763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867120" y="55976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176000" y="5549760"/>
            <a:ext cx="15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lyutka (Sagger) ATG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 flipH="1">
            <a:off x="3984120" y="562752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948120" y="57294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49560" y="56246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940200" y="56246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025880" y="56246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943440" y="5648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029120" y="56516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7" name=""/>
          <p:cNvGrpSpPr/>
          <p:nvPr/>
        </p:nvGrpSpPr>
        <p:grpSpPr>
          <a:xfrm>
            <a:off x="3943440" y="5803920"/>
            <a:ext cx="74160" cy="27000"/>
            <a:chOff x="3943440" y="5803920"/>
            <a:chExt cx="74160" cy="27000"/>
          </a:xfrm>
        </p:grpSpPr>
        <p:sp>
          <p:nvSpPr>
            <p:cNvPr id="2268" name=""/>
            <p:cNvSpPr/>
            <p:nvPr/>
          </p:nvSpPr>
          <p:spPr>
            <a:xfrm>
              <a:off x="3943440" y="58039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990960" y="58039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0" name=""/>
          <p:cNvGrpSpPr/>
          <p:nvPr/>
        </p:nvGrpSpPr>
        <p:grpSpPr>
          <a:xfrm>
            <a:off x="3940200" y="5545080"/>
            <a:ext cx="74160" cy="27000"/>
            <a:chOff x="3940200" y="5545080"/>
            <a:chExt cx="74160" cy="27000"/>
          </a:xfrm>
        </p:grpSpPr>
        <p:sp>
          <p:nvSpPr>
            <p:cNvPr id="2271" name=""/>
            <p:cNvSpPr/>
            <p:nvPr/>
          </p:nvSpPr>
          <p:spPr>
            <a:xfrm>
              <a:off x="3940200" y="55450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987720" y="55450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3" name=""/>
          <p:cNvSpPr/>
          <p:nvPr/>
        </p:nvSpPr>
        <p:spPr>
          <a:xfrm>
            <a:off x="3713040" y="4707000"/>
            <a:ext cx="0" cy="247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562200" y="446580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714840" y="4389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967200" y="4789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867120" y="48448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3713040" y="49417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67480" y="4313160"/>
            <a:ext cx="201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MANUEVER ELEMENT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201560" y="469440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879720" y="484488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185000" y="532620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-7 A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3" name=""/>
          <p:cNvGrpSpPr/>
          <p:nvPr/>
        </p:nvGrpSpPr>
        <p:grpSpPr>
          <a:xfrm>
            <a:off x="3870360" y="5038560"/>
            <a:ext cx="241200" cy="212760"/>
            <a:chOff x="3870360" y="5038560"/>
            <a:chExt cx="241200" cy="212760"/>
          </a:xfrm>
        </p:grpSpPr>
        <p:sp>
          <p:nvSpPr>
            <p:cNvPr id="2284" name=""/>
            <p:cNvSpPr/>
            <p:nvPr/>
          </p:nvSpPr>
          <p:spPr>
            <a:xfrm>
              <a:off x="3871800" y="50943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5" name=""/>
            <p:cNvGrpSpPr/>
            <p:nvPr/>
          </p:nvGrpSpPr>
          <p:grpSpPr>
            <a:xfrm>
              <a:off x="3952800" y="5038560"/>
              <a:ext cx="74880" cy="27000"/>
              <a:chOff x="3952800" y="5038560"/>
              <a:chExt cx="74880" cy="27000"/>
            </a:xfrm>
          </p:grpSpPr>
          <p:sp>
            <p:nvSpPr>
              <p:cNvPr id="2286" name=""/>
              <p:cNvSpPr/>
              <p:nvPr/>
            </p:nvSpPr>
            <p:spPr>
              <a:xfrm>
                <a:off x="3952800" y="50385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000680" y="50385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 flipV="1">
              <a:off x="3871800" y="509436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870360" y="509436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943440" y="5297400"/>
            <a:ext cx="74160" cy="27000"/>
            <a:chOff x="3943440" y="5297400"/>
            <a:chExt cx="74160" cy="27000"/>
          </a:xfrm>
        </p:grpSpPr>
        <p:sp>
          <p:nvSpPr>
            <p:cNvPr id="2291" name=""/>
            <p:cNvSpPr/>
            <p:nvPr/>
          </p:nvSpPr>
          <p:spPr>
            <a:xfrm>
              <a:off x="3943440" y="52974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990960" y="52974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3" name=""/>
          <p:cNvSpPr/>
          <p:nvPr/>
        </p:nvSpPr>
        <p:spPr>
          <a:xfrm>
            <a:off x="4191480" y="5072040"/>
            <a:ext cx="81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3605040" y="451800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3562200" y="4465800"/>
            <a:ext cx="30492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3562200" y="446580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903840" y="577548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181760" y="5732640"/>
            <a:ext cx="19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MP-1 Infantry Combat Vehicl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875040" y="58500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905280" y="60228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062240" y="60199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3911760" y="5891040"/>
            <a:ext cx="16956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867120" y="53499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981600" y="54118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949560" y="540216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905280" y="5478480"/>
            <a:ext cx="154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3981600" y="5354640"/>
            <a:ext cx="7596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H="1">
            <a:off x="3905280" y="5354640"/>
            <a:ext cx="7632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905280" y="50115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905280" y="52689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3905280" y="551664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1173600" y="3747960"/>
            <a:ext cx="146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T-54 Mine-clearing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183680" y="4014720"/>
            <a:ext cx="170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TU-120 Armored Bridge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4" name=""/>
          <p:cNvGrpSpPr/>
          <p:nvPr/>
        </p:nvGrpSpPr>
        <p:grpSpPr>
          <a:xfrm>
            <a:off x="838080" y="3733920"/>
            <a:ext cx="228600" cy="220680"/>
            <a:chOff x="838080" y="3733920"/>
            <a:chExt cx="228600" cy="220680"/>
          </a:xfrm>
        </p:grpSpPr>
        <p:sp>
          <p:nvSpPr>
            <p:cNvPr id="2315" name=""/>
            <p:cNvSpPr/>
            <p:nvPr/>
          </p:nvSpPr>
          <p:spPr>
            <a:xfrm>
              <a:off x="838080" y="3781800"/>
              <a:ext cx="228600" cy="1728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57160" y="3819960"/>
              <a:ext cx="209520" cy="1076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66880" y="3848400"/>
              <a:ext cx="1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84160" y="38484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961920" y="38484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027080" y="384840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923760" y="3733920"/>
              <a:ext cx="74880" cy="27000"/>
              <a:chOff x="923760" y="3733920"/>
              <a:chExt cx="74880" cy="27000"/>
            </a:xfrm>
          </p:grpSpPr>
          <p:sp>
            <p:nvSpPr>
              <p:cNvPr id="2322" name=""/>
              <p:cNvSpPr/>
              <p:nvPr/>
            </p:nvSpPr>
            <p:spPr>
              <a:xfrm>
                <a:off x="923760" y="37339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971640" y="3733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4" name=""/>
          <p:cNvGrpSpPr/>
          <p:nvPr/>
        </p:nvGrpSpPr>
        <p:grpSpPr>
          <a:xfrm>
            <a:off x="838080" y="4008600"/>
            <a:ext cx="228600" cy="220680"/>
            <a:chOff x="838080" y="4008600"/>
            <a:chExt cx="228600" cy="220680"/>
          </a:xfrm>
        </p:grpSpPr>
        <p:sp>
          <p:nvSpPr>
            <p:cNvPr id="2325" name=""/>
            <p:cNvSpPr/>
            <p:nvPr/>
          </p:nvSpPr>
          <p:spPr>
            <a:xfrm>
              <a:off x="838080" y="4056480"/>
              <a:ext cx="228600" cy="1728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57160" y="4094640"/>
              <a:ext cx="209520" cy="1076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66880" y="4123080"/>
              <a:ext cx="1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84160" y="412308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961920" y="412308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027080" y="412308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923760" y="4008600"/>
              <a:ext cx="74880" cy="27000"/>
              <a:chOff x="923760" y="4008600"/>
              <a:chExt cx="74880" cy="27000"/>
            </a:xfrm>
          </p:grpSpPr>
          <p:sp>
            <p:nvSpPr>
              <p:cNvPr id="2332" name=""/>
              <p:cNvSpPr/>
              <p:nvPr/>
            </p:nvSpPr>
            <p:spPr>
              <a:xfrm>
                <a:off x="923760" y="40086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971640" y="4008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4" name=""/>
          <p:cNvSpPr/>
          <p:nvPr/>
        </p:nvSpPr>
        <p:spPr>
          <a:xfrm>
            <a:off x="685800" y="4152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685800" y="3886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33520" y="4705200"/>
            <a:ext cx="28954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T-62A 1972 for 47th, 51st, 70th, and 81st Indepen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 Brigades; T-55A for 78th, 88th, and 141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ependent Tank Brig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Divisional attachments are possible when brig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ttached to infantry or armored divi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838080" y="43718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85800" y="44956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220760" y="4265640"/>
            <a:ext cx="215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5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 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990720" y="42958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952560" y="4448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81120" y="3448080"/>
            <a:ext cx="0" cy="10666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581280" y="3867120"/>
            <a:ext cx="289584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BMP-1for 47th, 51st, 70th, and 81st Indepen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 Brigades; BTR-50PK for 78th, 88th, and 141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ependent Tank Brig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68240" y="79707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57200" y="71150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87440" y="718488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58720" y="726768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756360" y="697860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6600"/>
                </a:solidFill>
                <a:latin typeface="Arial"/>
              </a:rPr>
              <a:t>FIRE SUPPORT ELEMENT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0120" y="70423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96880" y="7194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09480" y="7359480"/>
            <a:ext cx="0" cy="6858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069560" y="728352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768240" y="74199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4" name=""/>
          <p:cNvGrpSpPr/>
          <p:nvPr/>
        </p:nvGrpSpPr>
        <p:grpSpPr>
          <a:xfrm>
            <a:off x="847800" y="7369200"/>
            <a:ext cx="74160" cy="27000"/>
            <a:chOff x="847800" y="7369200"/>
            <a:chExt cx="74160" cy="27000"/>
          </a:xfrm>
        </p:grpSpPr>
        <p:sp>
          <p:nvSpPr>
            <p:cNvPr id="2355" name=""/>
            <p:cNvSpPr/>
            <p:nvPr/>
          </p:nvSpPr>
          <p:spPr>
            <a:xfrm>
              <a:off x="847800" y="73692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95320" y="73692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7" name=""/>
          <p:cNvSpPr/>
          <p:nvPr/>
        </p:nvSpPr>
        <p:spPr>
          <a:xfrm>
            <a:off x="615960" y="74962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1068120" y="7942320"/>
            <a:ext cx="9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2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838080" y="7921800"/>
            <a:ext cx="74880" cy="26640"/>
            <a:chOff x="838080" y="7921800"/>
            <a:chExt cx="74880" cy="26640"/>
          </a:xfrm>
        </p:grpSpPr>
        <p:sp>
          <p:nvSpPr>
            <p:cNvPr id="2360" name=""/>
            <p:cNvSpPr/>
            <p:nvPr/>
          </p:nvSpPr>
          <p:spPr>
            <a:xfrm>
              <a:off x="838080" y="7921800"/>
              <a:ext cx="28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85960" y="79218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2" name=""/>
          <p:cNvSpPr/>
          <p:nvPr/>
        </p:nvSpPr>
        <p:spPr>
          <a:xfrm>
            <a:off x="615960" y="80344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852480" y="80802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885960" y="8007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863640" y="75200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892080" y="74563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068480" y="760572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152I Armored Command P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76820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782640" y="7845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0" name=""/>
          <p:cNvGrpSpPr/>
          <p:nvPr/>
        </p:nvGrpSpPr>
        <p:grpSpPr>
          <a:xfrm>
            <a:off x="846000" y="7626240"/>
            <a:ext cx="74880" cy="27000"/>
            <a:chOff x="846000" y="7626240"/>
            <a:chExt cx="74880" cy="27000"/>
          </a:xfrm>
        </p:grpSpPr>
        <p:sp>
          <p:nvSpPr>
            <p:cNvPr id="2371" name=""/>
            <p:cNvSpPr/>
            <p:nvPr/>
          </p:nvSpPr>
          <p:spPr>
            <a:xfrm>
              <a:off x="846000" y="76262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93880" y="76262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3" name=""/>
          <p:cNvSpPr/>
          <p:nvPr/>
        </p:nvSpPr>
        <p:spPr>
          <a:xfrm>
            <a:off x="939960" y="78422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98480" y="772308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762120" y="82422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782640" y="8407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7" name=""/>
          <p:cNvGrpSpPr/>
          <p:nvPr/>
        </p:nvGrpSpPr>
        <p:grpSpPr>
          <a:xfrm>
            <a:off x="846000" y="8193240"/>
            <a:ext cx="74880" cy="27000"/>
            <a:chOff x="846000" y="8193240"/>
            <a:chExt cx="74880" cy="27000"/>
          </a:xfrm>
        </p:grpSpPr>
        <p:sp>
          <p:nvSpPr>
            <p:cNvPr id="2378" name=""/>
            <p:cNvSpPr/>
            <p:nvPr/>
          </p:nvSpPr>
          <p:spPr>
            <a:xfrm>
              <a:off x="846000" y="81932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93880" y="81932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0" name=""/>
          <p:cNvSpPr/>
          <p:nvPr/>
        </p:nvSpPr>
        <p:spPr>
          <a:xfrm>
            <a:off x="949320" y="8407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98480" y="828360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1069920" y="812160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152V Armored Personnel Carr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800280" y="759132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800280" y="815328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533520" y="6553080"/>
            <a:ext cx="28954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T-62A 1972 for 47th, 51st, 70th, and 81st Indepen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 Brigades; T-55A for 78th, 88th, and 141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ependent Tank Brig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581280" y="6118200"/>
            <a:ext cx="2895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six with RPG-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BMP-1 1972 for 47th, 51st, 70th, and 81st Indepen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k Brigades;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TR-50PK for 78th, 88th, and 141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ependent Tank Brig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7" name=""/>
          <p:cNvGrpSpPr/>
          <p:nvPr/>
        </p:nvGrpSpPr>
        <p:grpSpPr>
          <a:xfrm>
            <a:off x="3657600" y="2895480"/>
            <a:ext cx="2132640" cy="1518480"/>
            <a:chOff x="3657600" y="2895480"/>
            <a:chExt cx="2132640" cy="1518480"/>
          </a:xfrm>
        </p:grpSpPr>
        <p:sp>
          <p:nvSpPr>
            <p:cNvPr id="2388" name=""/>
            <p:cNvSpPr/>
            <p:nvPr/>
          </p:nvSpPr>
          <p:spPr>
            <a:xfrm>
              <a:off x="3808440" y="3286080"/>
              <a:ext cx="0" cy="21924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657600" y="304812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3809880" y="2971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062240" y="33814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3962160" y="34275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808440" y="34956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966120" y="2895480"/>
              <a:ext cx="172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00"/>
                  </a:solidFill>
                  <a:latin typeface="Arial"/>
                </a:rPr>
                <a:t>MANUEVER ELEMENT-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mando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296600" y="330192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975120" y="3427560"/>
              <a:ext cx="2412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7" name=""/>
            <p:cNvGrpSpPr/>
            <p:nvPr/>
          </p:nvGrpSpPr>
          <p:grpSpPr>
            <a:xfrm>
              <a:off x="3965400" y="3639960"/>
              <a:ext cx="241200" cy="212760"/>
              <a:chOff x="3965400" y="3639960"/>
              <a:chExt cx="241200" cy="212760"/>
            </a:xfrm>
          </p:grpSpPr>
          <p:sp>
            <p:nvSpPr>
              <p:cNvPr id="2398" name=""/>
              <p:cNvSpPr/>
              <p:nvPr/>
            </p:nvSpPr>
            <p:spPr>
              <a:xfrm>
                <a:off x="3966840" y="3695760"/>
                <a:ext cx="239760" cy="15696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9" name=""/>
              <p:cNvGrpSpPr/>
              <p:nvPr/>
            </p:nvGrpSpPr>
            <p:grpSpPr>
              <a:xfrm>
                <a:off x="4047840" y="3639960"/>
                <a:ext cx="74880" cy="27000"/>
                <a:chOff x="4047840" y="3639960"/>
                <a:chExt cx="74880" cy="27000"/>
              </a:xfrm>
            </p:grpSpPr>
            <p:sp>
              <p:nvSpPr>
                <p:cNvPr id="2400" name=""/>
                <p:cNvSpPr/>
                <p:nvPr/>
              </p:nvSpPr>
              <p:spPr>
                <a:xfrm>
                  <a:off x="4047840" y="363996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4095720" y="36399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2" name=""/>
              <p:cNvSpPr/>
              <p:nvPr/>
            </p:nvSpPr>
            <p:spPr>
              <a:xfrm flipV="1">
                <a:off x="3966840" y="3695760"/>
                <a:ext cx="2365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3965400" y="369576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4" name=""/>
            <p:cNvSpPr/>
            <p:nvPr/>
          </p:nvSpPr>
          <p:spPr>
            <a:xfrm>
              <a:off x="4284720" y="3673440"/>
              <a:ext cx="74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8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657600" y="3048120"/>
              <a:ext cx="30456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V="1">
              <a:off x="3657600" y="3048120"/>
              <a:ext cx="29844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7" name=""/>
            <p:cNvGrpSpPr/>
            <p:nvPr/>
          </p:nvGrpSpPr>
          <p:grpSpPr>
            <a:xfrm>
              <a:off x="4060800" y="4141800"/>
              <a:ext cx="74160" cy="27000"/>
              <a:chOff x="4060800" y="4141800"/>
              <a:chExt cx="74160" cy="27000"/>
            </a:xfrm>
          </p:grpSpPr>
          <p:sp>
            <p:nvSpPr>
              <p:cNvPr id="2408" name=""/>
              <p:cNvSpPr/>
              <p:nvPr/>
            </p:nvSpPr>
            <p:spPr>
              <a:xfrm>
                <a:off x="4060800" y="4141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4108320" y="41418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0" name=""/>
            <p:cNvSpPr/>
            <p:nvPr/>
          </p:nvSpPr>
          <p:spPr>
            <a:xfrm>
              <a:off x="3998880" y="410688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278240" y="4076640"/>
              <a:ext cx="147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Mi-6 Transport Helicop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979800" y="419112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971880" y="394812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280400" y="3900600"/>
              <a:ext cx="150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alyutka (Sagger) ATG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4088880" y="3978360"/>
              <a:ext cx="1800" cy="100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052880" y="408924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054320" y="39751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044960" y="39654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130640" y="39654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044960" y="40068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130640" y="40035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2" name=""/>
            <p:cNvGrpSpPr/>
            <p:nvPr/>
          </p:nvGrpSpPr>
          <p:grpSpPr>
            <a:xfrm>
              <a:off x="4044960" y="3886200"/>
              <a:ext cx="74160" cy="27000"/>
              <a:chOff x="4044960" y="3886200"/>
              <a:chExt cx="74160" cy="27000"/>
            </a:xfrm>
          </p:grpSpPr>
          <p:sp>
            <p:nvSpPr>
              <p:cNvPr id="2423" name=""/>
              <p:cNvSpPr/>
              <p:nvPr/>
            </p:nvSpPr>
            <p:spPr>
              <a:xfrm>
                <a:off x="4044960" y="3886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092480" y="38862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5" name=""/>
            <p:cNvSpPr/>
            <p:nvPr/>
          </p:nvSpPr>
          <p:spPr>
            <a:xfrm>
              <a:off x="4000320" y="360036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000320" y="385776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019400" y="4238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095720" y="42386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3809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581280" y="10382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584520" y="1036800"/>
            <a:ext cx="30492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 flipV="1">
            <a:off x="3584520" y="103788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3" name=""/>
          <p:cNvGrpSpPr/>
          <p:nvPr/>
        </p:nvGrpSpPr>
        <p:grpSpPr>
          <a:xfrm>
            <a:off x="3699000" y="961920"/>
            <a:ext cx="56880" cy="63360"/>
            <a:chOff x="3699000" y="961920"/>
            <a:chExt cx="56880" cy="63360"/>
          </a:xfrm>
        </p:grpSpPr>
        <p:sp>
          <p:nvSpPr>
            <p:cNvPr id="2434" name=""/>
            <p:cNvSpPr/>
            <p:nvPr/>
          </p:nvSpPr>
          <p:spPr>
            <a:xfrm>
              <a:off x="3699000" y="9619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755880" y="9619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6" name=""/>
          <p:cNvSpPr/>
          <p:nvPr/>
        </p:nvSpPr>
        <p:spPr>
          <a:xfrm>
            <a:off x="3736800" y="1276200"/>
            <a:ext cx="0" cy="13147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002120" y="1452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889440" y="1371600"/>
            <a:ext cx="30456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921120" y="1403280"/>
            <a:ext cx="24120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041720" y="17715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041720" y="1609560"/>
            <a:ext cx="4680" cy="4478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4307040" y="1638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041720" y="12952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736800" y="14479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4192920" y="121932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425120" y="153360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4202280" y="169056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4214880" y="169056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302360" y="220032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3736800" y="257796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886200" y="242892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flipV="1">
            <a:off x="3886200" y="24289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3884760" y="243828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4189320" y="235260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Commando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4041720" y="2352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533520" y="228600"/>
            <a:ext cx="5829120" cy="533520"/>
          </a:xfrm>
          <a:prstGeom prst="rect">
            <a:avLst/>
          </a:prstGeom>
          <a:solidFill>
            <a:srgbClr val="00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rian Tables of Organ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pendent Formations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3873240" y="898560"/>
            <a:ext cx="17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BATTLEGROUP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ando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762120" y="10666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765000" y="106524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765000" y="1066320"/>
            <a:ext cx="29880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1" name=""/>
          <p:cNvGrpSpPr/>
          <p:nvPr/>
        </p:nvGrpSpPr>
        <p:grpSpPr>
          <a:xfrm>
            <a:off x="879480" y="990720"/>
            <a:ext cx="57240" cy="63360"/>
            <a:chOff x="879480" y="990720"/>
            <a:chExt cx="57240" cy="63360"/>
          </a:xfrm>
        </p:grpSpPr>
        <p:sp>
          <p:nvSpPr>
            <p:cNvPr id="2462" name=""/>
            <p:cNvSpPr/>
            <p:nvPr/>
          </p:nvSpPr>
          <p:spPr>
            <a:xfrm>
              <a:off x="879480" y="990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936720" y="990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917640" y="1305000"/>
            <a:ext cx="0" cy="16668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927000" y="25909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182600" y="14810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1069920" y="1400040"/>
            <a:ext cx="3049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101600" y="1432080"/>
            <a:ext cx="241560" cy="16164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222200" y="180036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222200" y="1638360"/>
            <a:ext cx="1800" cy="168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487520" y="16668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222200" y="1324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917640" y="14763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373400" y="124776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605960" y="156204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382760" y="17193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395360" y="171936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482840" y="190512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917640" y="2254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066680" y="2133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V="1">
            <a:off x="1066680" y="21337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065240" y="214308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371960" y="20574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Parachute Infantry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222200" y="2057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495080" y="268128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079640" y="24732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1217160" y="254304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181160" y="26449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375200" y="2362320"/>
            <a:ext cx="15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1 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222200" y="2400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917640" y="29336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374480" y="2833560"/>
            <a:ext cx="161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0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2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079640" y="285264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914400" y="3000240"/>
            <a:ext cx="0" cy="152424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502280" y="3048120"/>
            <a:ext cx="145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BRIGADE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162080" y="2936880"/>
            <a:ext cx="5724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1190520" y="28796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1152360" y="2800440"/>
            <a:ext cx="74880" cy="27000"/>
            <a:chOff x="1152360" y="2800440"/>
            <a:chExt cx="74880" cy="27000"/>
          </a:xfrm>
        </p:grpSpPr>
        <p:sp>
          <p:nvSpPr>
            <p:cNvPr id="2499" name=""/>
            <p:cNvSpPr/>
            <p:nvPr/>
          </p:nvSpPr>
          <p:spPr>
            <a:xfrm>
              <a:off x="1152360" y="28004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200240" y="2800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1" name=""/>
          <p:cNvSpPr/>
          <p:nvPr/>
        </p:nvSpPr>
        <p:spPr>
          <a:xfrm>
            <a:off x="914400" y="42386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068120" y="914400"/>
            <a:ext cx="2184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BATTLEGROUP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chute Infantry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063800" y="325296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369440" y="3205080"/>
            <a:ext cx="174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PU-1 14.5mm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flipH="1">
            <a:off x="1041120" y="32608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174680" y="3251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1117440" y="33368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8" name=""/>
          <p:cNvGrpSpPr/>
          <p:nvPr/>
        </p:nvGrpSpPr>
        <p:grpSpPr>
          <a:xfrm>
            <a:off x="1149480" y="3200400"/>
            <a:ext cx="74160" cy="27000"/>
            <a:chOff x="1149480" y="3200400"/>
            <a:chExt cx="74160" cy="27000"/>
          </a:xfrm>
        </p:grpSpPr>
        <p:sp>
          <p:nvSpPr>
            <p:cNvPr id="2509" name=""/>
            <p:cNvSpPr/>
            <p:nvPr/>
          </p:nvSpPr>
          <p:spPr>
            <a:xfrm>
              <a:off x="1149480" y="32004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197000" y="32004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1" name=""/>
          <p:cNvSpPr/>
          <p:nvPr/>
        </p:nvSpPr>
        <p:spPr>
          <a:xfrm>
            <a:off x="1374480" y="342900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AZ-69A Jee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1084320" y="35053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095480" y="3668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4" name=""/>
          <p:cNvGrpSpPr/>
          <p:nvPr/>
        </p:nvGrpSpPr>
        <p:grpSpPr>
          <a:xfrm>
            <a:off x="1158840" y="3449520"/>
            <a:ext cx="74160" cy="27000"/>
            <a:chOff x="1158840" y="3449520"/>
            <a:chExt cx="74160" cy="27000"/>
          </a:xfrm>
        </p:grpSpPr>
        <p:sp>
          <p:nvSpPr>
            <p:cNvPr id="2515" name=""/>
            <p:cNvSpPr/>
            <p:nvPr/>
          </p:nvSpPr>
          <p:spPr>
            <a:xfrm>
              <a:off x="1158840" y="34495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206360" y="34495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7" name=""/>
          <p:cNvSpPr/>
          <p:nvPr/>
        </p:nvSpPr>
        <p:spPr>
          <a:xfrm>
            <a:off x="1281240" y="36702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1116000" y="342432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355760" y="3767040"/>
            <a:ext cx="175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AZ-69A  Recon Jeep with M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076400" y="37972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087560" y="39607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2" name=""/>
          <p:cNvGrpSpPr/>
          <p:nvPr/>
        </p:nvGrpSpPr>
        <p:grpSpPr>
          <a:xfrm>
            <a:off x="1150920" y="3741840"/>
            <a:ext cx="74160" cy="27000"/>
            <a:chOff x="1150920" y="3741840"/>
            <a:chExt cx="74160" cy="27000"/>
          </a:xfrm>
        </p:grpSpPr>
        <p:sp>
          <p:nvSpPr>
            <p:cNvPr id="2523" name=""/>
            <p:cNvSpPr/>
            <p:nvPr/>
          </p:nvSpPr>
          <p:spPr>
            <a:xfrm>
              <a:off x="1150920" y="3741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198440" y="37418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5" name=""/>
          <p:cNvSpPr/>
          <p:nvPr/>
        </p:nvSpPr>
        <p:spPr>
          <a:xfrm>
            <a:off x="1273320" y="39625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082520" y="41432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130400" y="4200480"/>
            <a:ext cx="152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8" name=""/>
          <p:cNvGrpSpPr/>
          <p:nvPr/>
        </p:nvGrpSpPr>
        <p:grpSpPr>
          <a:xfrm>
            <a:off x="1158840" y="4083120"/>
            <a:ext cx="74160" cy="27000"/>
            <a:chOff x="1158840" y="4083120"/>
            <a:chExt cx="74160" cy="27000"/>
          </a:xfrm>
        </p:grpSpPr>
        <p:sp>
          <p:nvSpPr>
            <p:cNvPr id="2529" name=""/>
            <p:cNvSpPr/>
            <p:nvPr/>
          </p:nvSpPr>
          <p:spPr>
            <a:xfrm>
              <a:off x="1158840" y="40831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206360" y="40831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1" name=""/>
          <p:cNvSpPr/>
          <p:nvPr/>
        </p:nvSpPr>
        <p:spPr>
          <a:xfrm>
            <a:off x="1139760" y="42102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1273320" y="42102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1206360" y="4203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1041480" y="4258800"/>
            <a:ext cx="35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1311120" y="41162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B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1081080" y="45338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1195560" y="45957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1163520" y="45864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1119240" y="4662360"/>
            <a:ext cx="154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195560" y="4548240"/>
            <a:ext cx="7596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H="1">
            <a:off x="1119240" y="4548240"/>
            <a:ext cx="7632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2" name=""/>
          <p:cNvGrpSpPr/>
          <p:nvPr/>
        </p:nvGrpSpPr>
        <p:grpSpPr>
          <a:xfrm>
            <a:off x="1154160" y="4483080"/>
            <a:ext cx="74160" cy="27000"/>
            <a:chOff x="1154160" y="4483080"/>
            <a:chExt cx="74160" cy="27000"/>
          </a:xfrm>
        </p:grpSpPr>
        <p:sp>
          <p:nvSpPr>
            <p:cNvPr id="2543" name=""/>
            <p:cNvSpPr/>
            <p:nvPr/>
          </p:nvSpPr>
          <p:spPr>
            <a:xfrm>
              <a:off x="1154160" y="44830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201680" y="44830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5" name=""/>
          <p:cNvSpPr/>
          <p:nvPr/>
        </p:nvSpPr>
        <p:spPr>
          <a:xfrm>
            <a:off x="1310760" y="4510080"/>
            <a:ext cx="10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-7 Light SA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914400" y="3886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914400" y="4572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914400" y="33526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912960" y="5343480"/>
            <a:ext cx="0" cy="2192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762120" y="510552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914400" y="50292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166760" y="54388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066680" y="54849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912960" y="5553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067040" y="4952880"/>
            <a:ext cx="190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MANUEVER ELEMENT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chute 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1401120" y="535932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079640" y="5484960"/>
            <a:ext cx="2412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8" name=""/>
          <p:cNvGrpSpPr/>
          <p:nvPr/>
        </p:nvGrpSpPr>
        <p:grpSpPr>
          <a:xfrm>
            <a:off x="1069920" y="5697360"/>
            <a:ext cx="241200" cy="212760"/>
            <a:chOff x="1069920" y="5697360"/>
            <a:chExt cx="241200" cy="212760"/>
          </a:xfrm>
        </p:grpSpPr>
        <p:sp>
          <p:nvSpPr>
            <p:cNvPr id="2559" name=""/>
            <p:cNvSpPr/>
            <p:nvPr/>
          </p:nvSpPr>
          <p:spPr>
            <a:xfrm>
              <a:off x="1071360" y="57531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0" name=""/>
            <p:cNvGrpSpPr/>
            <p:nvPr/>
          </p:nvGrpSpPr>
          <p:grpSpPr>
            <a:xfrm>
              <a:off x="1152360" y="5697360"/>
              <a:ext cx="74880" cy="27000"/>
              <a:chOff x="1152360" y="5697360"/>
              <a:chExt cx="74880" cy="27000"/>
            </a:xfrm>
          </p:grpSpPr>
          <p:sp>
            <p:nvSpPr>
              <p:cNvPr id="2561" name=""/>
              <p:cNvSpPr/>
              <p:nvPr/>
            </p:nvSpPr>
            <p:spPr>
              <a:xfrm>
                <a:off x="1152360" y="56973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200240" y="5697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3" name=""/>
            <p:cNvSpPr/>
            <p:nvPr/>
          </p:nvSpPr>
          <p:spPr>
            <a:xfrm flipV="1">
              <a:off x="1071360" y="575316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069920" y="575316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5" name=""/>
          <p:cNvSpPr/>
          <p:nvPr/>
        </p:nvSpPr>
        <p:spPr>
          <a:xfrm>
            <a:off x="1389240" y="57308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762120" y="5105520"/>
            <a:ext cx="30456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 flipV="1">
            <a:off x="762120" y="51055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1165320" y="6199200"/>
            <a:ext cx="74160" cy="27000"/>
            <a:chOff x="1165320" y="6199200"/>
            <a:chExt cx="74160" cy="27000"/>
          </a:xfrm>
        </p:grpSpPr>
        <p:sp>
          <p:nvSpPr>
            <p:cNvPr id="2569" name=""/>
            <p:cNvSpPr/>
            <p:nvPr/>
          </p:nvSpPr>
          <p:spPr>
            <a:xfrm>
              <a:off x="1165320" y="61992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212840" y="61992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1" name=""/>
          <p:cNvSpPr/>
          <p:nvPr/>
        </p:nvSpPr>
        <p:spPr>
          <a:xfrm>
            <a:off x="1382760" y="61340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i-6 Transport Helicop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084320" y="62485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1104840" y="56577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123920" y="6296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200240" y="62960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104840" y="5924520"/>
            <a:ext cx="0" cy="30492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200480" y="19670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314960" y="20289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282920" y="20192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4238640" y="2095560"/>
            <a:ext cx="154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314960" y="1981080"/>
            <a:ext cx="7596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flipH="1">
            <a:off x="4238640" y="1981080"/>
            <a:ext cx="7632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3" name=""/>
          <p:cNvGrpSpPr/>
          <p:nvPr/>
        </p:nvGrpSpPr>
        <p:grpSpPr>
          <a:xfrm>
            <a:off x="4273560" y="1916280"/>
            <a:ext cx="74160" cy="27000"/>
            <a:chOff x="4273560" y="1916280"/>
            <a:chExt cx="74160" cy="27000"/>
          </a:xfrm>
        </p:grpSpPr>
        <p:sp>
          <p:nvSpPr>
            <p:cNvPr id="2584" name=""/>
            <p:cNvSpPr/>
            <p:nvPr/>
          </p:nvSpPr>
          <p:spPr>
            <a:xfrm>
              <a:off x="4273560" y="1916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321080" y="19162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6" name=""/>
          <p:cNvSpPr/>
          <p:nvPr/>
        </p:nvSpPr>
        <p:spPr>
          <a:xfrm>
            <a:off x="4430520" y="1943280"/>
            <a:ext cx="10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-7 Light SA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038480" y="20480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4029120" y="241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3733920" y="1028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762120" y="67564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 flipH="1">
            <a:off x="899640" y="682632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863640" y="69372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061280" y="662004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FIRE SUPPORT ELEMENT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905040" y="6683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914400" y="699624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1334520" y="704052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1066680" y="71769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8" name=""/>
          <p:cNvGrpSpPr/>
          <p:nvPr/>
        </p:nvGrpSpPr>
        <p:grpSpPr>
          <a:xfrm>
            <a:off x="1141560" y="7126200"/>
            <a:ext cx="74160" cy="27000"/>
            <a:chOff x="1141560" y="7126200"/>
            <a:chExt cx="74160" cy="27000"/>
          </a:xfrm>
        </p:grpSpPr>
        <p:sp>
          <p:nvSpPr>
            <p:cNvPr id="2599" name=""/>
            <p:cNvSpPr/>
            <p:nvPr/>
          </p:nvSpPr>
          <p:spPr>
            <a:xfrm>
              <a:off x="1141560" y="71262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189080" y="71262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1" name=""/>
          <p:cNvSpPr/>
          <p:nvPr/>
        </p:nvSpPr>
        <p:spPr>
          <a:xfrm>
            <a:off x="914400" y="72532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1333440" y="7405560"/>
            <a:ext cx="9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2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1066680" y="74343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4" name=""/>
          <p:cNvGrpSpPr/>
          <p:nvPr/>
        </p:nvGrpSpPr>
        <p:grpSpPr>
          <a:xfrm>
            <a:off x="1141560" y="7383600"/>
            <a:ext cx="74160" cy="27000"/>
            <a:chOff x="1141560" y="7383600"/>
            <a:chExt cx="74160" cy="27000"/>
          </a:xfrm>
        </p:grpSpPr>
        <p:sp>
          <p:nvSpPr>
            <p:cNvPr id="2605" name=""/>
            <p:cNvSpPr/>
            <p:nvPr/>
          </p:nvSpPr>
          <p:spPr>
            <a:xfrm>
              <a:off x="1141560" y="73836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189080" y="73836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7" name=""/>
          <p:cNvSpPr/>
          <p:nvPr/>
        </p:nvSpPr>
        <p:spPr>
          <a:xfrm>
            <a:off x="914400" y="75484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1150920" y="75438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189080" y="74707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152360" y="728676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190520" y="72136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1200240" y="3790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 flipH="1">
            <a:off x="1085400" y="3800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11:47:54Z</dcterms:created>
  <dc:creator>Richard Mark Davies</dc:creator>
  <dc:description/>
  <dc:language>en-US</dc:language>
  <cp:lastModifiedBy>Deborah Sweaney</cp:lastModifiedBy>
  <dcterms:modified xsi:type="dcterms:W3CDTF">2004-02-17T11:19:27Z</dcterms:modified>
  <cp:revision>55</cp:revision>
  <dc:subject/>
  <dc:title>PowerPoint Presentation</dc:title>
</cp:coreProperties>
</file>