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C9C3-B076-4082-BE15-6CF70D88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BEF2-79E3-42E3-8E3D-0676C185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F10-0521-4656-B411-30D415A6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CF96-71F3-41FD-AE2E-3DBD7DD3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C44-7CCA-4016-8A44-1423C82E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6F39-E247-4178-A446-D8DFA3FE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53FA-BED0-473D-B24D-1C76A346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7C92-D514-4465-BED6-0A5429AE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E8B-A5E6-4518-8ED8-96113253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23B2-8DB8-4CC2-BC9E-1CF1AF01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552-1914-4A8A-9937-BAC6324F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D3C4-0763-4144-AA96-ECFEAE28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6B40-3FDB-4B76-855B-A1DE606D0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and Indian Armour in Bu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685800"/>
          <a:ext cx="8686800" cy="5716440"/>
        </p:xfrm>
        <a:graphic>
          <a:graphicData uri="http://schemas.openxmlformats.org/drawingml/2006/table">
            <a:tbl>
              <a:tblPr/>
              <a:tblGrid>
                <a:gridCol w="1371600"/>
                <a:gridCol w="411120"/>
                <a:gridCol w="380880"/>
                <a:gridCol w="42732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</a:tblGrid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4</a:t>
                      </a:r>
                      <a:r>
                        <a:rPr b="1" lang="en-US" sz="10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th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</a:t>
                      </a:r>
                      <a:r>
                        <a:rPr b="1" lang="en-US" sz="1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55</a:t>
                      </a:r>
                      <a:r>
                        <a:rPr b="1" lang="en-US" sz="1000" spc="-1" strike="noStrike" baseline="30000">
                          <a:solidFill>
                            <a:srgbClr val="3333ff"/>
                          </a:solidFill>
                          <a:latin typeface="Arial"/>
                        </a:rPr>
                        <a:t>th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</a:t>
                      </a: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0</a:t>
                      </a:r>
                      <a:r>
                        <a:rPr b="1" lang="en-US" sz="1000" spc="-1" strike="noStrike" baseline="30000">
                          <a:solidFill>
                            <a:srgbClr val="008000"/>
                          </a:solidFill>
                          <a:latin typeface="Arial"/>
                        </a:rPr>
                        <a:t>th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riga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i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rabiniers (Dragoon Guard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1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 II (M3A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r>
                        <a:rPr b="0" i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rago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1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 II (M3A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</a:t>
                      </a:r>
                      <a:r>
                        <a:rPr b="0" i="1" lang="en-US" sz="1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C (Gordon Highlande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rman V (M4A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6</a:t>
                      </a:r>
                      <a:r>
                        <a:rPr b="0" i="1" lang="en-US" sz="1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C (Duke of Wellington’s Regt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 II (M3A1) and Grant II (M3A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</a:t>
                      </a:r>
                      <a:r>
                        <a:rPr b="0" i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AC (King’s Own Yorkshire Lt Inf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 II (M3A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r>
                        <a:rPr b="0" i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AC (York and Lancaster Regi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 II (M3A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i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ight Caval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1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art III (M3A1) – ‘C’ Squadron: Sikh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yn’s Horse (5</a:t>
                      </a:r>
                      <a:r>
                        <a:rPr b="0" i="1" lang="en-US" sz="1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E VII O Hors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rman V (M4A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Royal Deccan Horse (9</a:t>
                      </a:r>
                      <a:r>
                        <a:rPr b="0" i="1" lang="en-US" sz="1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ors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rman V (M4A4) – ‘A’ Squadron: Sikh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r>
                        <a:rPr b="0" i="1" lang="en-US" sz="1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ing George V’s Own Lanc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rman III (M4A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r>
                        <a:rPr b="0" i="1" lang="en-US" sz="1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aval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 gridSpan="1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art III (M3A1) – ‘B’ Squadron: Sikh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rman V (M4A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i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ing George V’s Own Light Caval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mler and Humber Armoured Cars – ‘C’ Squadron: Sikh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i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ince Albert Victor’s Own Caval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1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mler Armoured Ca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i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ight Caval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1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mler and Humber Armoured Ca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8:38:37Z</dcterms:created>
  <dc:creator>mark.hayes</dc:creator>
  <dc:description/>
  <dc:language>en-US</dc:language>
  <cp:lastModifiedBy>James Baker</cp:lastModifiedBy>
  <dcterms:modified xsi:type="dcterms:W3CDTF">2007-02-08T17:54:31Z</dcterms:modified>
  <cp:revision>9</cp:revision>
  <dc:subject/>
  <dc:title>Armour in Burma</dc:title>
</cp:coreProperties>
</file>