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A6F-8710-478F-A179-AEA165EB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F67-3A7F-41BD-A0F6-481DC94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5EE-C3A3-477F-8A02-BD141846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63F-D1FB-4311-BEE2-65E5E480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79F-12AE-49D0-9A6C-73BED481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042-84B6-413F-91AD-338A4238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789-5291-4677-A6BF-571B444A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421-515C-4215-B523-821879A0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7A7-B305-4059-9D4D-BE8A7E1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AA4-9D78-44D3-ABA4-5B86EBC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EB2-C00B-4735-8ED7-C3375D1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0A2-D06B-4C8B-8302-D183C74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B51-4BE9-47A2-BA23-8268BE42A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9880" y="44640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09880" y="2482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95912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797120"/>
            <a:ext cx="304560" cy="206280"/>
            <a:chOff x="1676520" y="1797120"/>
            <a:chExt cx="304560" cy="206280"/>
          </a:xfrm>
        </p:grpSpPr>
        <p:sp>
          <p:nvSpPr>
            <p:cNvPr id="45" name=""/>
            <p:cNvSpPr/>
            <p:nvPr/>
          </p:nvSpPr>
          <p:spPr>
            <a:xfrm>
              <a:off x="1676520" y="1797120"/>
              <a:ext cx="304560" cy="206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679400" y="1800000"/>
              <a:ext cx="29664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76520" y="1800000"/>
              <a:ext cx="30312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790640" y="1720440"/>
            <a:ext cx="76320" cy="64080"/>
            <a:chOff x="1790640" y="1720440"/>
            <a:chExt cx="76320" cy="64080"/>
          </a:xfrm>
        </p:grpSpPr>
        <p:sp>
          <p:nvSpPr>
            <p:cNvPr id="49" name=""/>
            <p:cNvSpPr/>
            <p:nvPr/>
          </p:nvSpPr>
          <p:spPr>
            <a:xfrm>
              <a:off x="1790640" y="1720800"/>
              <a:ext cx="7632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790640" y="1720440"/>
              <a:ext cx="7632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981080" y="2330280"/>
            <a:ext cx="231840" cy="157320"/>
            <a:chOff x="1981080" y="2330280"/>
            <a:chExt cx="231840" cy="157320"/>
          </a:xfrm>
        </p:grpSpPr>
        <p:sp>
          <p:nvSpPr>
            <p:cNvPr id="52" name=""/>
            <p:cNvSpPr/>
            <p:nvPr/>
          </p:nvSpPr>
          <p:spPr>
            <a:xfrm>
              <a:off x="1981080" y="2330280"/>
              <a:ext cx="23184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04840" y="2352600"/>
              <a:ext cx="184320" cy="110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981080" y="2635200"/>
            <a:ext cx="23976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1960" y="2808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82680" y="28083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057400" y="2282760"/>
            <a:ext cx="74160" cy="27000"/>
            <a:chOff x="2057400" y="2282760"/>
            <a:chExt cx="74160" cy="27000"/>
          </a:xfrm>
        </p:grpSpPr>
        <p:sp>
          <p:nvSpPr>
            <p:cNvPr id="58" name=""/>
            <p:cNvSpPr/>
            <p:nvPr/>
          </p:nvSpPr>
          <p:spPr>
            <a:xfrm>
              <a:off x="2057400" y="2282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2282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057400" y="2587680"/>
            <a:ext cx="74160" cy="27000"/>
            <a:chOff x="2057400" y="2587680"/>
            <a:chExt cx="74160" cy="27000"/>
          </a:xfrm>
        </p:grpSpPr>
        <p:sp>
          <p:nvSpPr>
            <p:cNvPr id="61" name=""/>
            <p:cNvSpPr/>
            <p:nvPr/>
          </p:nvSpPr>
          <p:spPr>
            <a:xfrm>
              <a:off x="2057400" y="2587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920" y="25876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81480" y="2940120"/>
            <a:ext cx="74880" cy="27000"/>
            <a:chOff x="5181480" y="2940120"/>
            <a:chExt cx="74880" cy="27000"/>
          </a:xfrm>
        </p:grpSpPr>
        <p:sp>
          <p:nvSpPr>
            <p:cNvPr id="64" name=""/>
            <p:cNvSpPr/>
            <p:nvPr/>
          </p:nvSpPr>
          <p:spPr>
            <a:xfrm>
              <a:off x="5181480" y="29401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29360" y="2940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981080" y="4311720"/>
            <a:ext cx="231840" cy="156960"/>
            <a:chOff x="1981080" y="4311720"/>
            <a:chExt cx="231840" cy="156960"/>
          </a:xfrm>
        </p:grpSpPr>
        <p:sp>
          <p:nvSpPr>
            <p:cNvPr id="67" name=""/>
            <p:cNvSpPr/>
            <p:nvPr/>
          </p:nvSpPr>
          <p:spPr>
            <a:xfrm>
              <a:off x="1981080" y="4311720"/>
              <a:ext cx="231840" cy="156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63520" y="4362120"/>
              <a:ext cx="57240" cy="55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981080" y="4616280"/>
            <a:ext cx="23976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01960" y="4789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82680" y="47894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057400" y="4568760"/>
            <a:ext cx="74160" cy="27000"/>
            <a:chOff x="2057400" y="4568760"/>
            <a:chExt cx="74160" cy="27000"/>
          </a:xfrm>
        </p:grpSpPr>
        <p:sp>
          <p:nvSpPr>
            <p:cNvPr id="73" name=""/>
            <p:cNvSpPr/>
            <p:nvPr/>
          </p:nvSpPr>
          <p:spPr>
            <a:xfrm>
              <a:off x="2057400" y="4568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04920" y="4568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57400" y="4264200"/>
            <a:ext cx="74160" cy="26640"/>
            <a:chOff x="2057400" y="4264200"/>
            <a:chExt cx="74160" cy="26640"/>
          </a:xfrm>
        </p:grpSpPr>
        <p:sp>
          <p:nvSpPr>
            <p:cNvPr id="76" name=""/>
            <p:cNvSpPr/>
            <p:nvPr/>
          </p:nvSpPr>
          <p:spPr>
            <a:xfrm>
              <a:off x="2057400" y="42642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4920" y="426420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1080" y="3487680"/>
            <a:ext cx="304920" cy="206280"/>
            <a:chOff x="1981080" y="3487680"/>
            <a:chExt cx="304920" cy="206280"/>
          </a:xfrm>
        </p:grpSpPr>
        <p:sp>
          <p:nvSpPr>
            <p:cNvPr id="79" name=""/>
            <p:cNvSpPr/>
            <p:nvPr/>
          </p:nvSpPr>
          <p:spPr>
            <a:xfrm>
              <a:off x="1981080" y="3487680"/>
              <a:ext cx="304920" cy="206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983960" y="3490560"/>
              <a:ext cx="29700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080" y="3490560"/>
              <a:ext cx="3034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95560" y="3411360"/>
            <a:ext cx="76320" cy="63720"/>
            <a:chOff x="2095560" y="3411360"/>
            <a:chExt cx="76320" cy="63720"/>
          </a:xfrm>
        </p:grpSpPr>
        <p:sp>
          <p:nvSpPr>
            <p:cNvPr id="83" name=""/>
            <p:cNvSpPr/>
            <p:nvPr/>
          </p:nvSpPr>
          <p:spPr>
            <a:xfrm>
              <a:off x="2095560" y="34113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71880" y="34113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8800" y="3564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406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387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5685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TTLEGROUP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antry Brigade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3 per Infantry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1320" y="217800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er                                         AU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8520" y="252720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ep (no MG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14A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720" y="3944880"/>
            <a:ext cx="23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sault Pioneer w/ Flamethrower       AU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3480" y="4203720"/>
            <a:ext cx="22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ward Air Contro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ward Observer                              AU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3120" y="450216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ep (no MG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14A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720" y="3259080"/>
            <a:ext cx="100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7800" y="3397320"/>
            <a:ext cx="13982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G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9212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rves as Guard Company for brigade headquart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2558880"/>
            <a:ext cx="304560" cy="20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99120" y="2620800"/>
            <a:ext cx="0" cy="6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4560" y="2624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07120" y="2625840"/>
            <a:ext cx="0" cy="6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2640" y="2624040"/>
            <a:ext cx="123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2482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105520" y="3625920"/>
            <a:ext cx="304200" cy="228240"/>
            <a:chOff x="5105520" y="3625920"/>
            <a:chExt cx="304200" cy="228240"/>
          </a:xfrm>
        </p:grpSpPr>
        <p:sp>
          <p:nvSpPr>
            <p:cNvPr id="104" name=""/>
            <p:cNvSpPr/>
            <p:nvPr/>
          </p:nvSpPr>
          <p:spPr>
            <a:xfrm>
              <a:off x="5105520" y="3625920"/>
              <a:ext cx="304200" cy="2282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36560" y="3713400"/>
              <a:ext cx="36000" cy="3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19640" y="3549600"/>
            <a:ext cx="76320" cy="63720"/>
            <a:chOff x="5219640" y="3549600"/>
            <a:chExt cx="76320" cy="63720"/>
          </a:xfrm>
        </p:grpSpPr>
        <p:sp>
          <p:nvSpPr>
            <p:cNvPr id="107" name=""/>
            <p:cNvSpPr/>
            <p:nvPr/>
          </p:nvSpPr>
          <p:spPr>
            <a:xfrm>
              <a:off x="5219640" y="35496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5960" y="35496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05520" y="3016080"/>
            <a:ext cx="304200" cy="228240"/>
            <a:chOff x="5105520" y="3016080"/>
            <a:chExt cx="304200" cy="228240"/>
          </a:xfrm>
        </p:grpSpPr>
        <p:sp>
          <p:nvSpPr>
            <p:cNvPr id="110" name=""/>
            <p:cNvSpPr/>
            <p:nvPr/>
          </p:nvSpPr>
          <p:spPr>
            <a:xfrm>
              <a:off x="5105520" y="3016080"/>
              <a:ext cx="304200" cy="2282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3016080"/>
              <a:ext cx="72720" cy="22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105520" y="3020760"/>
              <a:ext cx="29988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7320" y="3016080"/>
              <a:ext cx="29808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105520" y="4235400"/>
            <a:ext cx="304560" cy="206280"/>
            <a:chOff x="5105520" y="4235400"/>
            <a:chExt cx="304560" cy="206280"/>
          </a:xfrm>
        </p:grpSpPr>
        <p:sp>
          <p:nvSpPr>
            <p:cNvPr id="115" name=""/>
            <p:cNvSpPr/>
            <p:nvPr/>
          </p:nvSpPr>
          <p:spPr>
            <a:xfrm>
              <a:off x="5105520" y="4235400"/>
              <a:ext cx="304560" cy="206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61320" y="4286880"/>
              <a:ext cx="195480" cy="9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267160" y="41590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7760" y="2178000"/>
            <a:ext cx="155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1520" y="2406600"/>
            <a:ext cx="18403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1 Engineer Fiel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1880" y="2863800"/>
            <a:ext cx="16300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3 Machinegun Plato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880" y="3473280"/>
            <a:ext cx="17762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1 Field Artille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06480" y="3930480"/>
            <a:ext cx="236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RMOURED/TANK BRIGADE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2600" y="4083120"/>
            <a:ext cx="1933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p to x1 Armoured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3117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701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3092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2635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08640" y="3321000"/>
            <a:ext cx="151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41136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1780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1780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29360" y="2940120"/>
            <a:ext cx="74160" cy="27000"/>
            <a:chOff x="5229360" y="2940120"/>
            <a:chExt cx="74160" cy="27000"/>
          </a:xfrm>
        </p:grpSpPr>
        <p:sp>
          <p:nvSpPr>
            <p:cNvPr id="133" name=""/>
            <p:cNvSpPr/>
            <p:nvPr/>
          </p:nvSpPr>
          <p:spPr>
            <a:xfrm>
              <a:off x="5229360" y="29401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76880" y="29401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5640" y="379260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7440" y="2908440"/>
            <a:ext cx="162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1 Infantry Company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28800" y="3930480"/>
            <a:ext cx="393840" cy="204840"/>
            <a:chOff x="1828800" y="3930480"/>
            <a:chExt cx="393840" cy="204840"/>
          </a:xfrm>
        </p:grpSpPr>
        <p:sp>
          <p:nvSpPr>
            <p:cNvPr id="138" name=""/>
            <p:cNvSpPr/>
            <p:nvPr/>
          </p:nvSpPr>
          <p:spPr>
            <a:xfrm>
              <a:off x="1982880" y="3978000"/>
              <a:ext cx="23976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057400" y="3930480"/>
              <a:ext cx="74160" cy="27000"/>
              <a:chOff x="2057400" y="3930480"/>
              <a:chExt cx="74160" cy="27000"/>
            </a:xfrm>
          </p:grpSpPr>
          <p:sp>
            <p:nvSpPr>
              <p:cNvPr id="140" name=""/>
              <p:cNvSpPr/>
              <p:nvPr/>
            </p:nvSpPr>
            <p:spPr>
              <a:xfrm>
                <a:off x="2057400" y="3930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4920" y="39304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828800" y="405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4800" y="4035240"/>
              <a:ext cx="0" cy="66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00240" y="4038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52800" y="4039920"/>
              <a:ext cx="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38320" y="4038480"/>
              <a:ext cx="1238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828800" y="3092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81080" y="2981160"/>
            <a:ext cx="304920" cy="206640"/>
            <a:chOff x="1981080" y="2981160"/>
            <a:chExt cx="304920" cy="206640"/>
          </a:xfrm>
        </p:grpSpPr>
        <p:sp>
          <p:nvSpPr>
            <p:cNvPr id="149" name=""/>
            <p:cNvSpPr/>
            <p:nvPr/>
          </p:nvSpPr>
          <p:spPr>
            <a:xfrm>
              <a:off x="1981080" y="2981160"/>
              <a:ext cx="304920" cy="2066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983960" y="2983680"/>
              <a:ext cx="29700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2984040"/>
              <a:ext cx="30348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133720" y="2905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alian “Jungle” Division 1943 to 19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alian “Jungle” Division 1943 to 19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57240" y="5334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7240" y="2362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57240" y="4695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6101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23880" y="1676520"/>
            <a:ext cx="304920" cy="206280"/>
            <a:chOff x="1523880" y="1676520"/>
            <a:chExt cx="304920" cy="206280"/>
          </a:xfrm>
        </p:grpSpPr>
        <p:sp>
          <p:nvSpPr>
            <p:cNvPr id="162" name=""/>
            <p:cNvSpPr/>
            <p:nvPr/>
          </p:nvSpPr>
          <p:spPr>
            <a:xfrm>
              <a:off x="1523880" y="1676520"/>
              <a:ext cx="304920" cy="206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526760" y="1679400"/>
              <a:ext cx="29700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1679400"/>
              <a:ext cx="3034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38360" y="1600200"/>
            <a:ext cx="76320" cy="63360"/>
            <a:chOff x="1638360" y="1600200"/>
            <a:chExt cx="76320" cy="63360"/>
          </a:xfrm>
        </p:grpSpPr>
        <p:sp>
          <p:nvSpPr>
            <p:cNvPr id="166" name=""/>
            <p:cNvSpPr/>
            <p:nvPr/>
          </p:nvSpPr>
          <p:spPr>
            <a:xfrm>
              <a:off x="1638360" y="1600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4680" y="1600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828800" y="2971800"/>
            <a:ext cx="304920" cy="206280"/>
            <a:chOff x="1828800" y="2971800"/>
            <a:chExt cx="304920" cy="206280"/>
          </a:xfrm>
        </p:grpSpPr>
        <p:sp>
          <p:nvSpPr>
            <p:cNvPr id="169" name=""/>
            <p:cNvSpPr/>
            <p:nvPr/>
          </p:nvSpPr>
          <p:spPr>
            <a:xfrm>
              <a:off x="1828800" y="2971800"/>
              <a:ext cx="304920" cy="206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831680" y="2974680"/>
              <a:ext cx="29700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8800" y="2974680"/>
              <a:ext cx="3034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81080" y="28954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28800" y="2209680"/>
            <a:ext cx="231840" cy="157320"/>
            <a:chOff x="1828800" y="2209680"/>
            <a:chExt cx="231840" cy="157320"/>
          </a:xfrm>
        </p:grpSpPr>
        <p:sp>
          <p:nvSpPr>
            <p:cNvPr id="174" name=""/>
            <p:cNvSpPr/>
            <p:nvPr/>
          </p:nvSpPr>
          <p:spPr>
            <a:xfrm>
              <a:off x="1828800" y="2209680"/>
              <a:ext cx="23184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2560" y="2232000"/>
              <a:ext cx="184320" cy="110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5400" y="2162160"/>
            <a:ext cx="74160" cy="27000"/>
            <a:chOff x="1895400" y="2162160"/>
            <a:chExt cx="74160" cy="27000"/>
          </a:xfrm>
        </p:grpSpPr>
        <p:sp>
          <p:nvSpPr>
            <p:cNvPr id="177" name=""/>
            <p:cNvSpPr/>
            <p:nvPr/>
          </p:nvSpPr>
          <p:spPr>
            <a:xfrm>
              <a:off x="1895400" y="2162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42920" y="21621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914480" y="3792600"/>
            <a:ext cx="131760" cy="27000"/>
            <a:chOff x="1914480" y="3792600"/>
            <a:chExt cx="131760" cy="27000"/>
          </a:xfrm>
        </p:grpSpPr>
        <p:sp>
          <p:nvSpPr>
            <p:cNvPr id="180" name=""/>
            <p:cNvSpPr/>
            <p:nvPr/>
          </p:nvSpPr>
          <p:spPr>
            <a:xfrm>
              <a:off x="1914480" y="3792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65240" y="3792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19240" y="3792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828800" y="2514600"/>
            <a:ext cx="23184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9960" y="26877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21040" y="2687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2467080"/>
            <a:ext cx="74160" cy="27000"/>
            <a:chOff x="1905120" y="2467080"/>
            <a:chExt cx="74160" cy="27000"/>
          </a:xfrm>
        </p:grpSpPr>
        <p:sp>
          <p:nvSpPr>
            <p:cNvPr id="187" name=""/>
            <p:cNvSpPr/>
            <p:nvPr/>
          </p:nvSpPr>
          <p:spPr>
            <a:xfrm>
              <a:off x="1905120" y="2467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2640" y="24670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828800" y="4533840"/>
            <a:ext cx="231840" cy="157320"/>
            <a:chOff x="1828800" y="4533840"/>
            <a:chExt cx="231840" cy="157320"/>
          </a:xfrm>
        </p:grpSpPr>
        <p:sp>
          <p:nvSpPr>
            <p:cNvPr id="190" name=""/>
            <p:cNvSpPr/>
            <p:nvPr/>
          </p:nvSpPr>
          <p:spPr>
            <a:xfrm>
              <a:off x="1828800" y="4533840"/>
              <a:ext cx="23184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828800" y="4536720"/>
              <a:ext cx="113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42560" y="4533840"/>
              <a:ext cx="1137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905120" y="4486320"/>
            <a:ext cx="74160" cy="27000"/>
            <a:chOff x="1905120" y="4486320"/>
            <a:chExt cx="74160" cy="27000"/>
          </a:xfrm>
        </p:grpSpPr>
        <p:sp>
          <p:nvSpPr>
            <p:cNvPr id="194" name=""/>
            <p:cNvSpPr/>
            <p:nvPr/>
          </p:nvSpPr>
          <p:spPr>
            <a:xfrm>
              <a:off x="1905120" y="4486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52640" y="44863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05120" y="4791240"/>
            <a:ext cx="74160" cy="27000"/>
            <a:chOff x="1905120" y="4791240"/>
            <a:chExt cx="74160" cy="27000"/>
          </a:xfrm>
        </p:grpSpPr>
        <p:sp>
          <p:nvSpPr>
            <p:cNvPr id="197" name=""/>
            <p:cNvSpPr/>
            <p:nvPr/>
          </p:nvSpPr>
          <p:spPr>
            <a:xfrm>
              <a:off x="1905120" y="4791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52640" y="4791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05120" y="5124600"/>
            <a:ext cx="74160" cy="27000"/>
            <a:chOff x="1905120" y="5124600"/>
            <a:chExt cx="74160" cy="27000"/>
          </a:xfrm>
        </p:grpSpPr>
        <p:sp>
          <p:nvSpPr>
            <p:cNvPr id="200" name=""/>
            <p:cNvSpPr/>
            <p:nvPr/>
          </p:nvSpPr>
          <p:spPr>
            <a:xfrm>
              <a:off x="1905120" y="5124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52640" y="5124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905120" y="5429160"/>
            <a:ext cx="74160" cy="27000"/>
            <a:chOff x="1905120" y="5429160"/>
            <a:chExt cx="74160" cy="27000"/>
          </a:xfrm>
        </p:grpSpPr>
        <p:sp>
          <p:nvSpPr>
            <p:cNvPr id="203" name=""/>
            <p:cNvSpPr/>
            <p:nvPr/>
          </p:nvSpPr>
          <p:spPr>
            <a:xfrm>
              <a:off x="1905120" y="5429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2640" y="54291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800" y="5172120"/>
            <a:ext cx="239760" cy="156960"/>
            <a:chOff x="1828800" y="5172120"/>
            <a:chExt cx="239760" cy="156960"/>
          </a:xfrm>
        </p:grpSpPr>
        <p:sp>
          <p:nvSpPr>
            <p:cNvPr id="206" name=""/>
            <p:cNvSpPr/>
            <p:nvPr/>
          </p:nvSpPr>
          <p:spPr>
            <a:xfrm>
              <a:off x="1828800" y="5172120"/>
              <a:ext cx="239760" cy="156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49400" y="519336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3400" y="529704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828800" y="5477040"/>
            <a:ext cx="231840" cy="156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39960" y="56498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21040" y="5649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2895480"/>
            <a:ext cx="23184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029200" y="2847960"/>
            <a:ext cx="74160" cy="27000"/>
            <a:chOff x="5029200" y="2847960"/>
            <a:chExt cx="74160" cy="27000"/>
          </a:xfrm>
        </p:grpSpPr>
        <p:sp>
          <p:nvSpPr>
            <p:cNvPr id="214" name=""/>
            <p:cNvSpPr/>
            <p:nvPr/>
          </p:nvSpPr>
          <p:spPr>
            <a:xfrm>
              <a:off x="5029200" y="2847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76720" y="2847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952880" y="3200400"/>
            <a:ext cx="23184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64040" y="33735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45120" y="3373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029200" y="3152880"/>
            <a:ext cx="74160" cy="27000"/>
            <a:chOff x="5029200" y="3152880"/>
            <a:chExt cx="74160" cy="27000"/>
          </a:xfrm>
        </p:grpSpPr>
        <p:sp>
          <p:nvSpPr>
            <p:cNvPr id="220" name=""/>
            <p:cNvSpPr/>
            <p:nvPr/>
          </p:nvSpPr>
          <p:spPr>
            <a:xfrm>
              <a:off x="5029200" y="3152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6720" y="3152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828800" y="4281480"/>
            <a:ext cx="23184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0080" y="4329000"/>
            <a:ext cx="0" cy="5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41480" y="4332240"/>
            <a:ext cx="0" cy="47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2880" y="4332240"/>
            <a:ext cx="0" cy="47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95400" y="4332240"/>
            <a:ext cx="93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5120" y="4233960"/>
            <a:ext cx="74160" cy="27000"/>
            <a:chOff x="1905120" y="4233960"/>
            <a:chExt cx="74160" cy="27000"/>
          </a:xfrm>
        </p:grpSpPr>
        <p:sp>
          <p:nvSpPr>
            <p:cNvPr id="228" name=""/>
            <p:cNvSpPr/>
            <p:nvPr/>
          </p:nvSpPr>
          <p:spPr>
            <a:xfrm>
              <a:off x="1905120" y="423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52640" y="4233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129040" y="205740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er                                         AU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23623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ep (no MG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4A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2640" y="2666880"/>
            <a:ext cx="134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5160" y="2819520"/>
            <a:ext cx="14335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4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5160" y="3687840"/>
            <a:ext cx="1207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1 Scout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360" y="412920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2640" y="4533840"/>
            <a:ext cx="233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pdr Antitank Gun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AU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4686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ep (no MG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b)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4A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8680" y="4991040"/>
            <a:ext cx="23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3-inch Mortar                                       AU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5324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ep (no MG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14A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4800" y="4267080"/>
            <a:ext cx="23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sault Pioneers (1 Flamethrower)     AU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6360" y="2590920"/>
            <a:ext cx="155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720" y="2743200"/>
            <a:ext cx="23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5pdr Field Gun (c)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4A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5280" y="304812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ep (no MG) (d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14A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20574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2971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2286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048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9164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52484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357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30240" y="3840120"/>
            <a:ext cx="303480" cy="198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830240" y="3839760"/>
            <a:ext cx="3002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3840120"/>
            <a:ext cx="3049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3429000"/>
            <a:ext cx="3276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Represents Short 25pdr. May replace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75mm Pack Howitzer                                           AU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May replace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ck Mul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GN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14480" y="3381480"/>
            <a:ext cx="131760" cy="27000"/>
            <a:chOff x="1914480" y="3381480"/>
            <a:chExt cx="131760" cy="27000"/>
          </a:xfrm>
        </p:grpSpPr>
        <p:sp>
          <p:nvSpPr>
            <p:cNvPr id="256" name=""/>
            <p:cNvSpPr/>
            <p:nvPr/>
          </p:nvSpPr>
          <p:spPr>
            <a:xfrm>
              <a:off x="1914480" y="3381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65240" y="3381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19240" y="3381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135160" y="3276720"/>
            <a:ext cx="16513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1 Machine Gun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35053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828800" y="3429000"/>
            <a:ext cx="304560" cy="228240"/>
            <a:chOff x="1828800" y="3429000"/>
            <a:chExt cx="304560" cy="228240"/>
          </a:xfrm>
        </p:grpSpPr>
        <p:sp>
          <p:nvSpPr>
            <p:cNvPr id="262" name=""/>
            <p:cNvSpPr/>
            <p:nvPr/>
          </p:nvSpPr>
          <p:spPr>
            <a:xfrm>
              <a:off x="1828800" y="3429000"/>
              <a:ext cx="304560" cy="2282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28800" y="3429000"/>
              <a:ext cx="72720" cy="22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828800" y="3433680"/>
              <a:ext cx="3002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0600" y="3429000"/>
              <a:ext cx="29844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828800" y="4838760"/>
            <a:ext cx="231840" cy="156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9960" y="50115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1040" y="5011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152388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TTLE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57640" y="2965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0574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5715000"/>
            <a:ext cx="35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ten left out of organization, especially later in the wa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y replace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niversal Carrier (no MG)                                    14A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74720" y="5226120"/>
            <a:ext cx="2987280" cy="1023120"/>
            <a:chOff x="774720" y="5226120"/>
            <a:chExt cx="2987280" cy="1023120"/>
          </a:xfrm>
        </p:grpSpPr>
        <p:sp>
          <p:nvSpPr>
            <p:cNvPr id="274" name=""/>
            <p:cNvSpPr/>
            <p:nvPr/>
          </p:nvSpPr>
          <p:spPr>
            <a:xfrm>
              <a:off x="927000" y="58359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27000" y="6140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27000" y="554040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6160" y="5378760"/>
              <a:ext cx="303480" cy="198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76160" y="5378760"/>
              <a:ext cx="30024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4720" y="5378760"/>
              <a:ext cx="304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065240" y="6064560"/>
              <a:ext cx="231840" cy="156960"/>
              <a:chOff x="1065240" y="6064560"/>
              <a:chExt cx="231840" cy="156960"/>
            </a:xfrm>
          </p:grpSpPr>
          <p:sp>
            <p:nvSpPr>
              <p:cNvPr id="281" name=""/>
              <p:cNvSpPr/>
              <p:nvPr/>
            </p:nvSpPr>
            <p:spPr>
              <a:xfrm>
                <a:off x="1065240" y="606456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1067400" y="6066720"/>
                <a:ext cx="225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065240" y="6066720"/>
                <a:ext cx="23076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141560" y="5988240"/>
              <a:ext cx="74160" cy="27000"/>
              <a:chOff x="1141560" y="5988240"/>
              <a:chExt cx="74160" cy="27000"/>
            </a:xfrm>
          </p:grpSpPr>
          <p:sp>
            <p:nvSpPr>
              <p:cNvPr id="285" name=""/>
              <p:cNvSpPr/>
              <p:nvPr/>
            </p:nvSpPr>
            <p:spPr>
              <a:xfrm>
                <a:off x="1141560" y="5988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89080" y="5988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065240" y="5759640"/>
              <a:ext cx="231840" cy="157320"/>
              <a:chOff x="1065240" y="5759640"/>
              <a:chExt cx="231840" cy="157320"/>
            </a:xfrm>
          </p:grpSpPr>
          <p:sp>
            <p:nvSpPr>
              <p:cNvPr id="288" name=""/>
              <p:cNvSpPr/>
              <p:nvPr/>
            </p:nvSpPr>
            <p:spPr>
              <a:xfrm>
                <a:off x="1065240" y="575964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9000" y="5781960"/>
                <a:ext cx="184320" cy="110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141560" y="5683320"/>
              <a:ext cx="74160" cy="27000"/>
              <a:chOff x="1141560" y="5683320"/>
              <a:chExt cx="74160" cy="27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1560" y="5683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89080" y="5683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295640" y="5911920"/>
              <a:ext cx="244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cout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AU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89160" y="5607360"/>
              <a:ext cx="24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/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    AU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99240" y="5226120"/>
              <a:ext cx="170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EU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860400" y="5330880"/>
              <a:ext cx="131760" cy="27000"/>
              <a:chOff x="860400" y="5330880"/>
              <a:chExt cx="131760" cy="27000"/>
            </a:xfrm>
          </p:grpSpPr>
          <p:sp>
            <p:nvSpPr>
              <p:cNvPr id="297" name=""/>
              <p:cNvSpPr/>
              <p:nvPr/>
            </p:nvSpPr>
            <p:spPr>
              <a:xfrm>
                <a:off x="860400" y="5330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11160" y="5330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65160" y="5330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762120" y="1004760"/>
            <a:ext cx="3065040" cy="1587240"/>
            <a:chOff x="762120" y="1004760"/>
            <a:chExt cx="3065040" cy="1587240"/>
          </a:xfrm>
        </p:grpSpPr>
        <p:sp>
          <p:nvSpPr>
            <p:cNvPr id="301" name=""/>
            <p:cNvSpPr/>
            <p:nvPr/>
          </p:nvSpPr>
          <p:spPr>
            <a:xfrm>
              <a:off x="928800" y="2224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28800" y="16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28800" y="19191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8800" y="1309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76520" y="1157400"/>
              <a:ext cx="304920" cy="206280"/>
              <a:chOff x="776520" y="1157400"/>
              <a:chExt cx="304920" cy="206280"/>
            </a:xfrm>
          </p:grpSpPr>
          <p:sp>
            <p:nvSpPr>
              <p:cNvPr id="306" name=""/>
              <p:cNvSpPr/>
              <p:nvPr/>
            </p:nvSpPr>
            <p:spPr>
              <a:xfrm>
                <a:off x="776520" y="115740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79400" y="1160280"/>
                <a:ext cx="2970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76520" y="1160280"/>
                <a:ext cx="3034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928800" y="10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067040" y="1843200"/>
              <a:ext cx="231840" cy="156960"/>
              <a:chOff x="1067040" y="1843200"/>
              <a:chExt cx="231840" cy="156960"/>
            </a:xfrm>
          </p:grpSpPr>
          <p:sp>
            <p:nvSpPr>
              <p:cNvPr id="311" name=""/>
              <p:cNvSpPr/>
              <p:nvPr/>
            </p:nvSpPr>
            <p:spPr>
              <a:xfrm>
                <a:off x="1067040" y="184320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1069200" y="1845360"/>
                <a:ext cx="225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67040" y="1845360"/>
                <a:ext cx="23076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143360" y="1785960"/>
              <a:ext cx="74160" cy="27000"/>
              <a:chOff x="1143360" y="1785960"/>
              <a:chExt cx="74160" cy="27000"/>
            </a:xfrm>
          </p:grpSpPr>
          <p:sp>
            <p:nvSpPr>
              <p:cNvPr id="315" name=""/>
              <p:cNvSpPr/>
              <p:nvPr/>
            </p:nvSpPr>
            <p:spPr>
              <a:xfrm>
                <a:off x="1143360" y="1785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90880" y="1785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067040" y="1538280"/>
              <a:ext cx="231840" cy="157320"/>
              <a:chOff x="1067040" y="1538280"/>
              <a:chExt cx="231840" cy="157320"/>
            </a:xfrm>
          </p:grpSpPr>
          <p:sp>
            <p:nvSpPr>
              <p:cNvPr id="318" name=""/>
              <p:cNvSpPr/>
              <p:nvPr/>
            </p:nvSpPr>
            <p:spPr>
              <a:xfrm>
                <a:off x="1067040" y="15382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90800" y="1560600"/>
                <a:ext cx="184320" cy="110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067040" y="2147760"/>
              <a:ext cx="239760" cy="157320"/>
              <a:chOff x="1067040" y="2147760"/>
              <a:chExt cx="239760" cy="157320"/>
            </a:xfrm>
          </p:grpSpPr>
          <p:sp>
            <p:nvSpPr>
              <p:cNvPr id="321" name=""/>
              <p:cNvSpPr/>
              <p:nvPr/>
            </p:nvSpPr>
            <p:spPr>
              <a:xfrm>
                <a:off x="1067040" y="2147760"/>
                <a:ext cx="23976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87640" y="216900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51640" y="227268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143360" y="1481040"/>
              <a:ext cx="74160" cy="27000"/>
              <a:chOff x="1143360" y="1481040"/>
              <a:chExt cx="74160" cy="27000"/>
            </a:xfrm>
          </p:grpSpPr>
          <p:sp>
            <p:nvSpPr>
              <p:cNvPr id="325" name=""/>
              <p:cNvSpPr/>
              <p:nvPr/>
            </p:nvSpPr>
            <p:spPr>
              <a:xfrm>
                <a:off x="1143360" y="1481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90880" y="14810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143360" y="2090880"/>
              <a:ext cx="74160" cy="27000"/>
              <a:chOff x="1143360" y="2090880"/>
              <a:chExt cx="74160" cy="27000"/>
            </a:xfrm>
          </p:grpSpPr>
          <p:sp>
            <p:nvSpPr>
              <p:cNvPr id="328" name=""/>
              <p:cNvSpPr/>
              <p:nvPr/>
            </p:nvSpPr>
            <p:spPr>
              <a:xfrm>
                <a:off x="1143360" y="2090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90880" y="2090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01040" y="1004760"/>
              <a:ext cx="170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EU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90960" y="1386000"/>
              <a:ext cx="24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    AU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89880" y="1766880"/>
              <a:ext cx="246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fantry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AU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0600" y="2071800"/>
              <a:ext cx="245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-inch Mortar                                           AU-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120" y="2376360"/>
              <a:ext cx="30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up to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 with PI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74720" y="3900600"/>
            <a:ext cx="2838240" cy="976320"/>
            <a:chOff x="774720" y="3900600"/>
            <a:chExt cx="2838240" cy="976320"/>
          </a:xfrm>
        </p:grpSpPr>
        <p:sp>
          <p:nvSpPr>
            <p:cNvPr id="336" name=""/>
            <p:cNvSpPr/>
            <p:nvPr/>
          </p:nvSpPr>
          <p:spPr>
            <a:xfrm>
              <a:off x="927000" y="41864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74720" y="4034160"/>
              <a:ext cx="304200" cy="228240"/>
              <a:chOff x="774720" y="4034160"/>
              <a:chExt cx="304200" cy="228240"/>
            </a:xfrm>
          </p:grpSpPr>
          <p:sp>
            <p:nvSpPr>
              <p:cNvPr id="338" name=""/>
              <p:cNvSpPr/>
              <p:nvPr/>
            </p:nvSpPr>
            <p:spPr>
              <a:xfrm>
                <a:off x="774720" y="4034160"/>
                <a:ext cx="30420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4720" y="4034160"/>
                <a:ext cx="72720" cy="22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774720" y="4038840"/>
                <a:ext cx="299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76520" y="4034160"/>
                <a:ext cx="29808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065240" y="4415040"/>
              <a:ext cx="231480" cy="157320"/>
              <a:chOff x="1065240" y="4415040"/>
              <a:chExt cx="231480" cy="157320"/>
            </a:xfrm>
          </p:grpSpPr>
          <p:sp>
            <p:nvSpPr>
              <p:cNvPr id="343" name=""/>
              <p:cNvSpPr/>
              <p:nvPr/>
            </p:nvSpPr>
            <p:spPr>
              <a:xfrm>
                <a:off x="1065240" y="441504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65240" y="4415040"/>
                <a:ext cx="5508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065240" y="4417920"/>
                <a:ext cx="22824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66320" y="4415040"/>
                <a:ext cx="226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065240" y="4719960"/>
              <a:ext cx="231480" cy="156960"/>
              <a:chOff x="1065240" y="4719960"/>
              <a:chExt cx="231480" cy="156960"/>
            </a:xfrm>
          </p:grpSpPr>
          <p:sp>
            <p:nvSpPr>
              <p:cNvPr id="348" name=""/>
              <p:cNvSpPr/>
              <p:nvPr/>
            </p:nvSpPr>
            <p:spPr>
              <a:xfrm>
                <a:off x="1065240" y="4719960"/>
                <a:ext cx="23148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65240" y="4719960"/>
                <a:ext cx="55080" cy="155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065240" y="4722840"/>
                <a:ext cx="22824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066320" y="4719960"/>
                <a:ext cx="226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141200" y="4357800"/>
              <a:ext cx="74880" cy="27000"/>
              <a:chOff x="1141200" y="4357800"/>
              <a:chExt cx="74880" cy="27000"/>
            </a:xfrm>
          </p:grpSpPr>
          <p:sp>
            <p:nvSpPr>
              <p:cNvPr id="353" name=""/>
              <p:cNvSpPr/>
              <p:nvPr/>
            </p:nvSpPr>
            <p:spPr>
              <a:xfrm>
                <a:off x="1141200" y="43578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89080" y="4357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141200" y="4662720"/>
              <a:ext cx="74880" cy="27000"/>
              <a:chOff x="1141200" y="4662720"/>
              <a:chExt cx="74880" cy="27000"/>
            </a:xfrm>
          </p:grpSpPr>
          <p:sp>
            <p:nvSpPr>
              <p:cNvPr id="356" name=""/>
              <p:cNvSpPr/>
              <p:nvPr/>
            </p:nvSpPr>
            <p:spPr>
              <a:xfrm>
                <a:off x="1141200" y="46627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89080" y="4662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927000" y="47959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27000" y="44913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86280" y="426276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Vickers MMG                                      AU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86280" y="4643640"/>
              <a:ext cx="23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Vickers MMG                                      AU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860400" y="3976920"/>
              <a:ext cx="131760" cy="27000"/>
              <a:chOff x="860400" y="3976920"/>
              <a:chExt cx="131760" cy="27000"/>
            </a:xfrm>
          </p:grpSpPr>
          <p:sp>
            <p:nvSpPr>
              <p:cNvPr id="363" name=""/>
              <p:cNvSpPr/>
              <p:nvPr/>
            </p:nvSpPr>
            <p:spPr>
              <a:xfrm>
                <a:off x="860400" y="397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11160" y="3976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65160" y="397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0320" y="3900600"/>
              <a:ext cx="170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EUVER ELEMENT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Machine Gun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74720" y="2662200"/>
            <a:ext cx="2987280" cy="995400"/>
            <a:chOff x="774720" y="2662200"/>
            <a:chExt cx="2987280" cy="995400"/>
          </a:xfrm>
        </p:grpSpPr>
        <p:sp>
          <p:nvSpPr>
            <p:cNvPr id="368" name=""/>
            <p:cNvSpPr/>
            <p:nvPr/>
          </p:nvSpPr>
          <p:spPr>
            <a:xfrm>
              <a:off x="92736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27360" y="3576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27360" y="29764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74720" y="2814480"/>
              <a:ext cx="304920" cy="206280"/>
              <a:chOff x="774720" y="2814480"/>
              <a:chExt cx="304920" cy="206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74720" y="2814480"/>
                <a:ext cx="304920" cy="206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777600" y="2817360"/>
                <a:ext cx="2970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720" y="2817360"/>
                <a:ext cx="3034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927360" y="27381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5240" y="3500280"/>
              <a:ext cx="23184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141560" y="3452760"/>
              <a:ext cx="74160" cy="27000"/>
              <a:chOff x="1141560" y="3452760"/>
              <a:chExt cx="74160" cy="27000"/>
            </a:xfrm>
          </p:grpSpPr>
          <p:sp>
            <p:nvSpPr>
              <p:cNvPr id="378" name=""/>
              <p:cNvSpPr/>
              <p:nvPr/>
            </p:nvSpPr>
            <p:spPr>
              <a:xfrm>
                <a:off x="1141560" y="3452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89080" y="3452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065240" y="3195360"/>
              <a:ext cx="231840" cy="157320"/>
              <a:chOff x="1065240" y="3195360"/>
              <a:chExt cx="231840" cy="157320"/>
            </a:xfrm>
          </p:grpSpPr>
          <p:sp>
            <p:nvSpPr>
              <p:cNvPr id="381" name=""/>
              <p:cNvSpPr/>
              <p:nvPr/>
            </p:nvSpPr>
            <p:spPr>
              <a:xfrm>
                <a:off x="1065240" y="319536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89000" y="3217680"/>
                <a:ext cx="184320" cy="110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1141560" y="3147840"/>
              <a:ext cx="74160" cy="27000"/>
              <a:chOff x="1141560" y="3147840"/>
              <a:chExt cx="74160" cy="27000"/>
            </a:xfrm>
          </p:grpSpPr>
          <p:sp>
            <p:nvSpPr>
              <p:cNvPr id="384" name=""/>
              <p:cNvSpPr/>
              <p:nvPr/>
            </p:nvSpPr>
            <p:spPr>
              <a:xfrm>
                <a:off x="1141560" y="3147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89080" y="31478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299240" y="2662200"/>
              <a:ext cx="170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NEU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ngineer Field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89160" y="3043080"/>
              <a:ext cx="24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                AU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5640" y="3423960"/>
              <a:ext cx="24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ssault Pioneer (no flamethrower)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AU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38320" y="3566880"/>
              <a:ext cx="0" cy="50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9720" y="3570120"/>
              <a:ext cx="0" cy="4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0760" y="3570120"/>
              <a:ext cx="0" cy="4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33640" y="3570120"/>
              <a:ext cx="93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105520" y="1096920"/>
            <a:ext cx="304560" cy="206280"/>
            <a:chOff x="5105520" y="1096920"/>
            <a:chExt cx="304560" cy="206280"/>
          </a:xfrm>
        </p:grpSpPr>
        <p:sp>
          <p:nvSpPr>
            <p:cNvPr id="394" name=""/>
            <p:cNvSpPr/>
            <p:nvPr/>
          </p:nvSpPr>
          <p:spPr>
            <a:xfrm>
              <a:off x="5105520" y="1096920"/>
              <a:ext cx="304560" cy="206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61320" y="1148400"/>
              <a:ext cx="195480" cy="9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5257800" y="1020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77920" y="100476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EUVER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rmour Squadron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72200" y="22161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72200" y="1644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272200" y="1949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1873080"/>
            <a:ext cx="23184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6400" y="1816200"/>
            <a:ext cx="74160" cy="27000"/>
            <a:chOff x="5486400" y="1816200"/>
            <a:chExt cx="74160" cy="27000"/>
          </a:xfrm>
        </p:grpSpPr>
        <p:sp>
          <p:nvSpPr>
            <p:cNvPr id="403" name=""/>
            <p:cNvSpPr/>
            <p:nvPr/>
          </p:nvSpPr>
          <p:spPr>
            <a:xfrm>
              <a:off x="5486400" y="1816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33920" y="1816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410080" y="1568520"/>
            <a:ext cx="231840" cy="156960"/>
            <a:chOff x="5410080" y="1568520"/>
            <a:chExt cx="231840" cy="156960"/>
          </a:xfrm>
        </p:grpSpPr>
        <p:sp>
          <p:nvSpPr>
            <p:cNvPr id="406" name=""/>
            <p:cNvSpPr/>
            <p:nvPr/>
          </p:nvSpPr>
          <p:spPr>
            <a:xfrm>
              <a:off x="5410080" y="1568520"/>
              <a:ext cx="231840" cy="156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33840" y="1590480"/>
              <a:ext cx="184320" cy="1105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410080" y="2139840"/>
            <a:ext cx="239760" cy="157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86400" y="1511280"/>
            <a:ext cx="74160" cy="27000"/>
            <a:chOff x="5486400" y="1511280"/>
            <a:chExt cx="74160" cy="27000"/>
          </a:xfrm>
        </p:grpSpPr>
        <p:sp>
          <p:nvSpPr>
            <p:cNvPr id="410" name=""/>
            <p:cNvSpPr/>
            <p:nvPr/>
          </p:nvSpPr>
          <p:spPr>
            <a:xfrm>
              <a:off x="5486400" y="1511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33920" y="1511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486400" y="2082960"/>
            <a:ext cx="74160" cy="27000"/>
            <a:chOff x="5486400" y="2082960"/>
            <a:chExt cx="74160" cy="27000"/>
          </a:xfrm>
        </p:grpSpPr>
        <p:sp>
          <p:nvSpPr>
            <p:cNvPr id="413" name=""/>
            <p:cNvSpPr/>
            <p:nvPr/>
          </p:nvSpPr>
          <p:spPr>
            <a:xfrm>
              <a:off x="5486400" y="2082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33920" y="2082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632200" y="1415880"/>
            <a:ext cx="24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tilda II                                                 AU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32200" y="1797120"/>
            <a:ext cx="24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tilda II                                                 AU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32920" y="2063880"/>
            <a:ext cx="24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tilda IICS                                            AU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406600"/>
            <a:ext cx="30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In 1945 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Matilda Frog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AU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72200" y="13161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57960" y="2182680"/>
            <a:ext cx="15228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48240" y="1916280"/>
            <a:ext cx="15264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48240" y="1611360"/>
            <a:ext cx="15264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800600" y="3124080"/>
            <a:ext cx="3519000" cy="3186360"/>
            <a:chOff x="4800600" y="3124080"/>
            <a:chExt cx="3519000" cy="3186360"/>
          </a:xfrm>
        </p:grpSpPr>
        <p:sp>
          <p:nvSpPr>
            <p:cNvPr id="424" name=""/>
            <p:cNvSpPr/>
            <p:nvPr/>
          </p:nvSpPr>
          <p:spPr>
            <a:xfrm>
              <a:off x="5044680" y="44197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25760" y="38862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44680" y="358128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082840" y="4724280"/>
              <a:ext cx="75960" cy="63720"/>
              <a:chOff x="5082840" y="4724280"/>
              <a:chExt cx="75960" cy="63720"/>
            </a:xfrm>
          </p:grpSpPr>
          <p:sp>
            <p:nvSpPr>
              <p:cNvPr id="428" name=""/>
              <p:cNvSpPr/>
              <p:nvPr/>
            </p:nvSpPr>
            <p:spPr>
              <a:xfrm>
                <a:off x="5082840" y="4724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158800" y="4724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044680" y="3276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98760" y="4038480"/>
              <a:ext cx="23940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7320" y="42084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97120" y="4208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5197320" y="3733920"/>
              <a:ext cx="231120" cy="156960"/>
              <a:chOff x="5197320" y="3733920"/>
              <a:chExt cx="231120" cy="156960"/>
            </a:xfrm>
          </p:grpSpPr>
          <p:sp>
            <p:nvSpPr>
              <p:cNvPr id="435" name=""/>
              <p:cNvSpPr/>
              <p:nvPr/>
            </p:nvSpPr>
            <p:spPr>
              <a:xfrm>
                <a:off x="5197320" y="3733920"/>
                <a:ext cx="23112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79400" y="3784320"/>
                <a:ext cx="56880" cy="55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419440" y="3886200"/>
              <a:ext cx="28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Jeep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no MG)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                                           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14A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273280" y="3686040"/>
              <a:ext cx="74160" cy="27000"/>
              <a:chOff x="5273280" y="3686040"/>
              <a:chExt cx="74160" cy="27000"/>
            </a:xfrm>
          </p:grpSpPr>
          <p:sp>
            <p:nvSpPr>
              <p:cNvPr id="439" name=""/>
              <p:cNvSpPr/>
              <p:nvPr/>
            </p:nvSpPr>
            <p:spPr>
              <a:xfrm>
                <a:off x="5273280" y="3686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320800" y="36860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273280" y="3990960"/>
              <a:ext cx="74160" cy="27000"/>
              <a:chOff x="5273280" y="3990960"/>
              <a:chExt cx="74160" cy="27000"/>
            </a:xfrm>
          </p:grpSpPr>
          <p:sp>
            <p:nvSpPr>
              <p:cNvPr id="442" name=""/>
              <p:cNvSpPr/>
              <p:nvPr/>
            </p:nvSpPr>
            <p:spPr>
              <a:xfrm>
                <a:off x="5273280" y="3990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20800" y="3990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273280" y="4295880"/>
              <a:ext cx="74160" cy="27000"/>
              <a:chOff x="5273280" y="4295880"/>
              <a:chExt cx="74160" cy="27000"/>
            </a:xfrm>
          </p:grpSpPr>
          <p:sp>
            <p:nvSpPr>
              <p:cNvPr id="445" name=""/>
              <p:cNvSpPr/>
              <p:nvPr/>
            </p:nvSpPr>
            <p:spPr>
              <a:xfrm>
                <a:off x="5273280" y="4295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20800" y="4295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420520" y="3581280"/>
              <a:ext cx="27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n-Table FO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orward Observer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                  AU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25920" y="4191120"/>
              <a:ext cx="28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ff-Table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5pdr Field Gun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c)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14A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4680" y="44197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44680" y="3809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16120" y="5105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29160" y="3124080"/>
              <a:ext cx="1928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IRE SUPPORT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ield Artillery Battery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27000" y="4572000"/>
              <a:ext cx="17884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ff-Table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ield Artillery Regiment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1 per Infantry Brigade Grou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25920" y="5029200"/>
              <a:ext cx="28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2nd Field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5pdr Field Gun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c)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14A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44680" y="5257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00600" y="5486400"/>
              <a:ext cx="3290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a)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Each infantry battlegroup has two FOs directly attached to it for each battery. The battery may be called as Direct Fire Support by either FO, or alternatively by Infantry Battalion/Company Commanders.  Australian artillery may also fire by Troop (i.e. a half-battery of two guns).  Each FO may call for a single Field Artillery Troop as Organic Fire Suppor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4892400" y="3352680"/>
              <a:ext cx="304200" cy="228240"/>
              <a:chOff x="4892400" y="3352680"/>
              <a:chExt cx="304200" cy="228240"/>
            </a:xfrm>
          </p:grpSpPr>
          <p:sp>
            <p:nvSpPr>
              <p:cNvPr id="458" name=""/>
              <p:cNvSpPr/>
              <p:nvPr/>
            </p:nvSpPr>
            <p:spPr>
              <a:xfrm>
                <a:off x="4892400" y="3352680"/>
                <a:ext cx="30420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23440" y="344016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5197320" y="4343400"/>
              <a:ext cx="239400" cy="156960"/>
              <a:chOff x="5197320" y="4343400"/>
              <a:chExt cx="239400" cy="156960"/>
            </a:xfrm>
          </p:grpSpPr>
          <p:sp>
            <p:nvSpPr>
              <p:cNvPr id="461" name=""/>
              <p:cNvSpPr/>
              <p:nvPr/>
            </p:nvSpPr>
            <p:spPr>
              <a:xfrm>
                <a:off x="5197320" y="4343400"/>
                <a:ext cx="23940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300280" y="440352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197320" y="5181480"/>
              <a:ext cx="239400" cy="156960"/>
              <a:chOff x="5197320" y="5181480"/>
              <a:chExt cx="239400" cy="156960"/>
            </a:xfrm>
          </p:grpSpPr>
          <p:sp>
            <p:nvSpPr>
              <p:cNvPr id="464" name=""/>
              <p:cNvSpPr/>
              <p:nvPr/>
            </p:nvSpPr>
            <p:spPr>
              <a:xfrm>
                <a:off x="5197320" y="5181480"/>
                <a:ext cx="23940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00280" y="52416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968720" y="4800600"/>
              <a:ext cx="303840" cy="228240"/>
              <a:chOff x="4968720" y="4800600"/>
              <a:chExt cx="303840" cy="228240"/>
            </a:xfrm>
          </p:grpSpPr>
          <p:sp>
            <p:nvSpPr>
              <p:cNvPr id="467" name=""/>
              <p:cNvSpPr/>
              <p:nvPr/>
            </p:nvSpPr>
            <p:spPr>
              <a:xfrm>
                <a:off x="4968720" y="4800600"/>
                <a:ext cx="303840" cy="2282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9760" y="4888080"/>
                <a:ext cx="3600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>
            <a:off x="1828800" y="44136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alian “Jungle” Division 1943 to 19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20:49:29Z</dcterms:created>
  <dc:creator>Mark.Hayes</dc:creator>
  <dc:description/>
  <dc:language>en-US</dc:language>
  <cp:lastModifiedBy>James Baker</cp:lastModifiedBy>
  <dcterms:modified xsi:type="dcterms:W3CDTF">2005-04-08T00:03:37Z</dcterms:modified>
  <cp:revision>7</cp:revision>
  <dc:subject/>
  <dc:title>PowerPoint Presentation</dc:title>
</cp:coreProperties>
</file>