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0FF-1FFA-4301-A7B4-73DF46F2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1B4-0B97-4904-9ED3-217C6EE4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6A3-0B2F-4AC3-B269-6E6E00E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932-7ED6-4770-A708-5354ED0E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37D-5B5F-4B21-8C39-6A770DD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A2B-6987-4BF4-BC9D-EBCF8213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B23-7AA9-4C50-BC61-A18A3424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C4B-C147-4647-A109-E83E890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6DB-1F67-4492-9C5B-2F9B602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8E9-5F9B-4388-A96D-3D53CEA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152-F5C5-4938-8A59-9FEB1D4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A90-E638-41C3-AE7D-496ED34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E1D-78FA-4A6C-8FD1-2234E5B76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7320" y="79167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92240" y="111132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92240" y="138096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2240" y="421488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2240" y="457668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92240" y="489096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2240" y="522432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92240" y="558792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2240" y="382572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92240" y="344952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2240" y="29322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2240" y="249876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2240" y="214164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2240" y="172080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2240" y="662040"/>
            <a:ext cx="0" cy="492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200" y="1684440"/>
            <a:ext cx="22114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Mixed Brigade            BG-IWO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89200" y="105264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9200" y="92232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53960" y="993600"/>
            <a:ext cx="238320" cy="204840"/>
            <a:chOff x="1353960" y="993600"/>
            <a:chExt cx="238320" cy="204840"/>
          </a:xfrm>
        </p:grpSpPr>
        <p:sp>
          <p:nvSpPr>
            <p:cNvPr id="60" name=""/>
            <p:cNvSpPr/>
            <p:nvPr/>
          </p:nvSpPr>
          <p:spPr>
            <a:xfrm>
              <a:off x="1460520" y="993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53960" y="1041480"/>
              <a:ext cx="23832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76200" y="1517760"/>
            <a:ext cx="393480" cy="336240"/>
            <a:chOff x="1276200" y="1517760"/>
            <a:chExt cx="393480" cy="336240"/>
          </a:xfrm>
        </p:grpSpPr>
        <p:grpSp>
          <p:nvGrpSpPr>
            <p:cNvPr id="63" name=""/>
            <p:cNvGrpSpPr/>
            <p:nvPr/>
          </p:nvGrpSpPr>
          <p:grpSpPr>
            <a:xfrm>
              <a:off x="1298160" y="1617840"/>
              <a:ext cx="347400" cy="236160"/>
              <a:chOff x="1298160" y="1617840"/>
              <a:chExt cx="347400" cy="236160"/>
            </a:xfrm>
          </p:grpSpPr>
          <p:sp>
            <p:nvSpPr>
              <p:cNvPr id="64" name=""/>
              <p:cNvSpPr/>
              <p:nvPr/>
            </p:nvSpPr>
            <p:spPr>
              <a:xfrm>
                <a:off x="1298160" y="161784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301760" y="162144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98160" y="162144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76200" y="1517760"/>
              <a:ext cx="39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789200" y="2057400"/>
            <a:ext cx="2219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d. Infantry Regt    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00320" y="2324160"/>
            <a:ext cx="347040" cy="296280"/>
            <a:chOff x="1300320" y="2324160"/>
            <a:chExt cx="347040" cy="296280"/>
          </a:xfrm>
        </p:grpSpPr>
        <p:grpSp>
          <p:nvGrpSpPr>
            <p:cNvPr id="70" name=""/>
            <p:cNvGrpSpPr/>
            <p:nvPr/>
          </p:nvGrpSpPr>
          <p:grpSpPr>
            <a:xfrm>
              <a:off x="1439640" y="2324160"/>
              <a:ext cx="75960" cy="63360"/>
              <a:chOff x="1439640" y="2324160"/>
              <a:chExt cx="75960" cy="63360"/>
            </a:xfrm>
          </p:grpSpPr>
          <p:sp>
            <p:nvSpPr>
              <p:cNvPr id="71" name=""/>
              <p:cNvSpPr/>
              <p:nvPr/>
            </p:nvSpPr>
            <p:spPr>
              <a:xfrm>
                <a:off x="1439640" y="232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15600" y="232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00320" y="2384280"/>
              <a:ext cx="347040" cy="236160"/>
              <a:chOff x="1300320" y="2384280"/>
              <a:chExt cx="347040" cy="236160"/>
            </a:xfrm>
          </p:grpSpPr>
          <p:sp>
            <p:nvSpPr>
              <p:cNvPr id="74" name=""/>
              <p:cNvSpPr/>
              <p:nvPr/>
            </p:nvSpPr>
            <p:spPr>
              <a:xfrm>
                <a:off x="1300320" y="238428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303920" y="238788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00320" y="238788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300320" y="1965240"/>
            <a:ext cx="347040" cy="296640"/>
            <a:chOff x="1300320" y="1965240"/>
            <a:chExt cx="347040" cy="296640"/>
          </a:xfrm>
        </p:grpSpPr>
        <p:grpSp>
          <p:nvGrpSpPr>
            <p:cNvPr id="78" name=""/>
            <p:cNvGrpSpPr/>
            <p:nvPr/>
          </p:nvGrpSpPr>
          <p:grpSpPr>
            <a:xfrm>
              <a:off x="1300320" y="2025720"/>
              <a:ext cx="347040" cy="236160"/>
              <a:chOff x="1300320" y="2025720"/>
              <a:chExt cx="347040" cy="236160"/>
            </a:xfrm>
          </p:grpSpPr>
          <p:sp>
            <p:nvSpPr>
              <p:cNvPr id="79" name=""/>
              <p:cNvSpPr/>
              <p:nvPr/>
            </p:nvSpPr>
            <p:spPr>
              <a:xfrm>
                <a:off x="1300320" y="202572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303920" y="202932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00320" y="202932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392120" y="1965240"/>
              <a:ext cx="161280" cy="63360"/>
              <a:chOff x="1392120" y="1965240"/>
              <a:chExt cx="161280" cy="63360"/>
            </a:xfrm>
          </p:grpSpPr>
          <p:sp>
            <p:nvSpPr>
              <p:cNvPr id="83" name=""/>
              <p:cNvSpPr/>
              <p:nvPr/>
            </p:nvSpPr>
            <p:spPr>
              <a:xfrm>
                <a:off x="1392120" y="1965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72760" y="1965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53400" y="1965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789200" y="2932200"/>
            <a:ext cx="21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d. Tank Regt.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76200" y="2801880"/>
            <a:ext cx="393120" cy="331560"/>
            <a:chOff x="1276200" y="2801880"/>
            <a:chExt cx="393120" cy="331560"/>
          </a:xfrm>
        </p:grpSpPr>
        <p:grpSp>
          <p:nvGrpSpPr>
            <p:cNvPr id="88" name=""/>
            <p:cNvGrpSpPr/>
            <p:nvPr/>
          </p:nvGrpSpPr>
          <p:grpSpPr>
            <a:xfrm>
              <a:off x="1392120" y="2801880"/>
              <a:ext cx="162000" cy="63360"/>
              <a:chOff x="1392120" y="2801880"/>
              <a:chExt cx="162000" cy="63360"/>
            </a:xfrm>
          </p:grpSpPr>
          <p:sp>
            <p:nvSpPr>
              <p:cNvPr id="89" name=""/>
              <p:cNvSpPr/>
              <p:nvPr/>
            </p:nvSpPr>
            <p:spPr>
              <a:xfrm>
                <a:off x="1392120" y="2801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73120" y="2801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54120" y="2801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276200" y="2865600"/>
              <a:ext cx="393120" cy="267840"/>
              <a:chOff x="1276200" y="2865600"/>
              <a:chExt cx="393120" cy="267840"/>
            </a:xfrm>
          </p:grpSpPr>
          <p:sp>
            <p:nvSpPr>
              <p:cNvPr id="93" name=""/>
              <p:cNvSpPr/>
              <p:nvPr/>
            </p:nvSpPr>
            <p:spPr>
              <a:xfrm>
                <a:off x="1276200" y="2865600"/>
                <a:ext cx="393120" cy="26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48200" y="2932560"/>
                <a:ext cx="252360" cy="12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906480" y="539640"/>
            <a:ext cx="393840" cy="335880"/>
            <a:chOff x="906480" y="539640"/>
            <a:chExt cx="393840" cy="335880"/>
          </a:xfrm>
        </p:grpSpPr>
        <p:grpSp>
          <p:nvGrpSpPr>
            <p:cNvPr id="96" name=""/>
            <p:cNvGrpSpPr/>
            <p:nvPr/>
          </p:nvGrpSpPr>
          <p:grpSpPr>
            <a:xfrm>
              <a:off x="928800" y="639360"/>
              <a:ext cx="347400" cy="236160"/>
              <a:chOff x="928800" y="639360"/>
              <a:chExt cx="347400" cy="236160"/>
            </a:xfrm>
          </p:grpSpPr>
          <p:sp>
            <p:nvSpPr>
              <p:cNvPr id="97" name=""/>
              <p:cNvSpPr/>
              <p:nvPr/>
            </p:nvSpPr>
            <p:spPr>
              <a:xfrm>
                <a:off x="928800" y="63936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932400" y="64296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28800" y="64296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06480" y="539640"/>
              <a:ext cx="39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 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498320" y="623880"/>
            <a:ext cx="255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vision – Iwo Jima 1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89200" y="131760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57200" y="1263600"/>
            <a:ext cx="231840" cy="206280"/>
            <a:chOff x="1357200" y="1263600"/>
            <a:chExt cx="231840" cy="206280"/>
          </a:xfrm>
        </p:grpSpPr>
        <p:grpSp>
          <p:nvGrpSpPr>
            <p:cNvPr id="104" name=""/>
            <p:cNvGrpSpPr/>
            <p:nvPr/>
          </p:nvGrpSpPr>
          <p:grpSpPr>
            <a:xfrm>
              <a:off x="1439640" y="1263600"/>
              <a:ext cx="74520" cy="27000"/>
              <a:chOff x="1439640" y="1263600"/>
              <a:chExt cx="74520" cy="27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439640" y="1263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87520" y="1263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357200" y="1312920"/>
              <a:ext cx="231840" cy="156960"/>
              <a:chOff x="1357200" y="1312920"/>
              <a:chExt cx="231840" cy="156960"/>
            </a:xfrm>
          </p:grpSpPr>
          <p:sp>
            <p:nvSpPr>
              <p:cNvPr id="108" name=""/>
              <p:cNvSpPr/>
              <p:nvPr/>
            </p:nvSpPr>
            <p:spPr>
              <a:xfrm>
                <a:off x="1357200" y="13129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359360" y="1315080"/>
                <a:ext cx="22572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57200" y="131508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1804320" y="2413080"/>
            <a:ext cx="213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tn/17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d. Inf. Regt. BG-IWO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76200" y="3228840"/>
            <a:ext cx="393840" cy="320760"/>
            <a:chOff x="1276200" y="3228840"/>
            <a:chExt cx="393840" cy="320760"/>
          </a:xfrm>
        </p:grpSpPr>
        <p:sp>
          <p:nvSpPr>
            <p:cNvPr id="113" name=""/>
            <p:cNvSpPr/>
            <p:nvPr/>
          </p:nvSpPr>
          <p:spPr>
            <a:xfrm>
              <a:off x="1276200" y="3292560"/>
              <a:ext cx="39384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2880" y="3390840"/>
              <a:ext cx="60480" cy="60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392120" y="3228840"/>
              <a:ext cx="162000" cy="63360"/>
              <a:chOff x="1392120" y="3228840"/>
              <a:chExt cx="162000" cy="63360"/>
            </a:xfrm>
          </p:grpSpPr>
          <p:sp>
            <p:nvSpPr>
              <p:cNvPr id="116" name=""/>
              <p:cNvSpPr/>
              <p:nvPr/>
            </p:nvSpPr>
            <p:spPr>
              <a:xfrm>
                <a:off x="1392120" y="32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73120" y="32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54120" y="32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789200" y="3349800"/>
            <a:ext cx="22114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Hvy. Art Regt              FS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76200" y="3639960"/>
            <a:ext cx="393120" cy="320040"/>
            <a:chOff x="1276200" y="3639960"/>
            <a:chExt cx="393120" cy="320040"/>
          </a:xfrm>
        </p:grpSpPr>
        <p:grpSp>
          <p:nvGrpSpPr>
            <p:cNvPr id="121" name=""/>
            <p:cNvGrpSpPr/>
            <p:nvPr/>
          </p:nvGrpSpPr>
          <p:grpSpPr>
            <a:xfrm>
              <a:off x="1276200" y="3700080"/>
              <a:ext cx="393120" cy="259920"/>
              <a:chOff x="1276200" y="3700080"/>
              <a:chExt cx="393120" cy="259920"/>
            </a:xfrm>
          </p:grpSpPr>
          <p:sp>
            <p:nvSpPr>
              <p:cNvPr id="122" name=""/>
              <p:cNvSpPr/>
              <p:nvPr/>
            </p:nvSpPr>
            <p:spPr>
              <a:xfrm>
                <a:off x="1276200" y="3702960"/>
                <a:ext cx="39312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72320" y="3825000"/>
                <a:ext cx="195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1276200" y="3702600"/>
                <a:ext cx="190080" cy="254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66280" y="3700080"/>
                <a:ext cx="203040" cy="2552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392120" y="3639960"/>
              <a:ext cx="161640" cy="63360"/>
              <a:chOff x="1392120" y="3639960"/>
              <a:chExt cx="161640" cy="6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1392120" y="363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72760" y="363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53760" y="363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1789200" y="3768840"/>
            <a:ext cx="250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A Arty. Regt.        FS-IWO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89200" y="151920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89200" y="314784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9200" y="41734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5mm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44877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0mm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89200" y="480204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20mm Field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89200" y="51483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mm Rocket Laun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52520" y="4745160"/>
            <a:ext cx="239760" cy="209520"/>
            <a:chOff x="1352520" y="4745160"/>
            <a:chExt cx="239760" cy="209520"/>
          </a:xfrm>
        </p:grpSpPr>
        <p:grpSp>
          <p:nvGrpSpPr>
            <p:cNvPr id="138" name=""/>
            <p:cNvGrpSpPr/>
            <p:nvPr/>
          </p:nvGrpSpPr>
          <p:grpSpPr>
            <a:xfrm>
              <a:off x="1352520" y="4797360"/>
              <a:ext cx="239760" cy="157320"/>
              <a:chOff x="1352520" y="4797360"/>
              <a:chExt cx="239760" cy="15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1352520" y="479736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54040" y="4857840"/>
                <a:ext cx="3672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434960" y="4745160"/>
              <a:ext cx="76320" cy="27000"/>
              <a:chOff x="1434960" y="4745160"/>
              <a:chExt cx="76320" cy="27000"/>
            </a:xfrm>
          </p:grpSpPr>
          <p:sp>
            <p:nvSpPr>
              <p:cNvPr id="142" name=""/>
              <p:cNvSpPr/>
              <p:nvPr/>
            </p:nvSpPr>
            <p:spPr>
              <a:xfrm>
                <a:off x="1434960" y="4745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82840" y="4745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1352520" y="4443480"/>
            <a:ext cx="239760" cy="209520"/>
            <a:chOff x="1352520" y="4443480"/>
            <a:chExt cx="239760" cy="209520"/>
          </a:xfrm>
        </p:grpSpPr>
        <p:grpSp>
          <p:nvGrpSpPr>
            <p:cNvPr id="145" name=""/>
            <p:cNvGrpSpPr/>
            <p:nvPr/>
          </p:nvGrpSpPr>
          <p:grpSpPr>
            <a:xfrm>
              <a:off x="1352520" y="4495680"/>
              <a:ext cx="239760" cy="157320"/>
              <a:chOff x="1352520" y="4495680"/>
              <a:chExt cx="239760" cy="157320"/>
            </a:xfrm>
          </p:grpSpPr>
          <p:sp>
            <p:nvSpPr>
              <p:cNvPr id="146" name=""/>
              <p:cNvSpPr/>
              <p:nvPr/>
            </p:nvSpPr>
            <p:spPr>
              <a:xfrm>
                <a:off x="1352520" y="449568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54040" y="4556160"/>
                <a:ext cx="3672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434960" y="4443480"/>
              <a:ext cx="76320" cy="27000"/>
              <a:chOff x="1434960" y="4443480"/>
              <a:chExt cx="76320" cy="27000"/>
            </a:xfrm>
          </p:grpSpPr>
          <p:sp>
            <p:nvSpPr>
              <p:cNvPr id="149" name=""/>
              <p:cNvSpPr/>
              <p:nvPr/>
            </p:nvSpPr>
            <p:spPr>
              <a:xfrm>
                <a:off x="1434960" y="4443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82840" y="4443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352520" y="4091040"/>
            <a:ext cx="239760" cy="209520"/>
            <a:chOff x="1352520" y="4091040"/>
            <a:chExt cx="239760" cy="209520"/>
          </a:xfrm>
        </p:grpSpPr>
        <p:grpSp>
          <p:nvGrpSpPr>
            <p:cNvPr id="152" name=""/>
            <p:cNvGrpSpPr/>
            <p:nvPr/>
          </p:nvGrpSpPr>
          <p:grpSpPr>
            <a:xfrm>
              <a:off x="1352520" y="4143240"/>
              <a:ext cx="239760" cy="157320"/>
              <a:chOff x="1352520" y="4143240"/>
              <a:chExt cx="239760" cy="157320"/>
            </a:xfrm>
          </p:grpSpPr>
          <p:sp>
            <p:nvSpPr>
              <p:cNvPr id="153" name=""/>
              <p:cNvSpPr/>
              <p:nvPr/>
            </p:nvSpPr>
            <p:spPr>
              <a:xfrm>
                <a:off x="1352520" y="414324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54040" y="4203720"/>
                <a:ext cx="3672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434960" y="4091040"/>
              <a:ext cx="76320" cy="27000"/>
              <a:chOff x="1434960" y="4091040"/>
              <a:chExt cx="76320" cy="27000"/>
            </a:xfrm>
          </p:grpSpPr>
          <p:sp>
            <p:nvSpPr>
              <p:cNvPr id="156" name=""/>
              <p:cNvSpPr/>
              <p:nvPr/>
            </p:nvSpPr>
            <p:spPr>
              <a:xfrm>
                <a:off x="1434960" y="40910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82840" y="4091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353960" y="5089680"/>
            <a:ext cx="238320" cy="217440"/>
            <a:chOff x="1353960" y="5089680"/>
            <a:chExt cx="238320" cy="217440"/>
          </a:xfrm>
        </p:grpSpPr>
        <p:grpSp>
          <p:nvGrpSpPr>
            <p:cNvPr id="159" name=""/>
            <p:cNvGrpSpPr/>
            <p:nvPr/>
          </p:nvGrpSpPr>
          <p:grpSpPr>
            <a:xfrm>
              <a:off x="1353960" y="5145120"/>
              <a:ext cx="238320" cy="162000"/>
              <a:chOff x="1353960" y="5145120"/>
              <a:chExt cx="238320" cy="1620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53960" y="5145120"/>
                <a:ext cx="23832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90680" y="5176800"/>
                <a:ext cx="196920" cy="96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90680" y="5224320"/>
                <a:ext cx="77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06600" y="5154480"/>
                <a:ext cx="81000" cy="14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434960" y="5089680"/>
              <a:ext cx="76320" cy="27000"/>
              <a:chOff x="1434960" y="5089680"/>
              <a:chExt cx="76320" cy="27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434960" y="5089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82840" y="5089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1789200" y="54831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3mm Rocket Laun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53960" y="5452920"/>
            <a:ext cx="238320" cy="217440"/>
            <a:chOff x="1353960" y="5452920"/>
            <a:chExt cx="238320" cy="217440"/>
          </a:xfrm>
        </p:grpSpPr>
        <p:grpSp>
          <p:nvGrpSpPr>
            <p:cNvPr id="169" name=""/>
            <p:cNvGrpSpPr/>
            <p:nvPr/>
          </p:nvGrpSpPr>
          <p:grpSpPr>
            <a:xfrm>
              <a:off x="1353960" y="5508360"/>
              <a:ext cx="238320" cy="162000"/>
              <a:chOff x="1353960" y="5508360"/>
              <a:chExt cx="238320" cy="162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353960" y="5508360"/>
                <a:ext cx="23832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90680" y="5540040"/>
                <a:ext cx="196920" cy="96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90680" y="5587560"/>
                <a:ext cx="77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06600" y="5517720"/>
                <a:ext cx="81000" cy="14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434960" y="5452920"/>
              <a:ext cx="76320" cy="27000"/>
              <a:chOff x="1434960" y="5452920"/>
              <a:chExt cx="76320" cy="27000"/>
            </a:xfrm>
          </p:grpSpPr>
          <p:sp>
            <p:nvSpPr>
              <p:cNvPr id="175" name=""/>
              <p:cNvSpPr/>
              <p:nvPr/>
            </p:nvSpPr>
            <p:spPr>
              <a:xfrm>
                <a:off x="1434960" y="54529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82840" y="5452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1789200" y="4025880"/>
            <a:ext cx="2222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itional Artillery Ass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18000" y="4119480"/>
            <a:ext cx="32875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0mm, 155mm Gun Sml template +1 vs V, +2 vs T,G, s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0mm gun Lrg template 0 vs V, +1 vs T,G,s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0mm RL Small template +1 vs V, +2 vs T,G, sV Fire only once every 2 tur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3mm RL Lrg template 0 vs V, -1 vs T,G, sV. Fire only once every 2 tur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tures on the Taki site show that the big Japanese rocket launchers tended to be 1-shot affairs rather than massed launchers as the allies deployed. Their effect should be strong but smal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4560" y="123480"/>
            <a:ext cx="77724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ese 10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vision – Battle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65680" y="1057320"/>
            <a:ext cx="2836800" cy="1903320"/>
            <a:chOff x="4765680" y="1057320"/>
            <a:chExt cx="2836800" cy="1903320"/>
          </a:xfrm>
        </p:grpSpPr>
        <p:sp>
          <p:nvSpPr>
            <p:cNvPr id="181" name=""/>
            <p:cNvSpPr/>
            <p:nvPr/>
          </p:nvSpPr>
          <p:spPr>
            <a:xfrm>
              <a:off x="4940280" y="230652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3520" y="1969920"/>
              <a:ext cx="300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202360" y="1825560"/>
              <a:ext cx="284040" cy="249120"/>
              <a:chOff x="5202360" y="1825560"/>
              <a:chExt cx="284040" cy="249120"/>
            </a:xfrm>
          </p:grpSpPr>
          <p:sp>
            <p:nvSpPr>
              <p:cNvPr id="184" name=""/>
              <p:cNvSpPr/>
              <p:nvPr/>
            </p:nvSpPr>
            <p:spPr>
              <a:xfrm>
                <a:off x="5343840" y="1825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5202360" y="1881000"/>
                <a:ext cx="284040" cy="193680"/>
                <a:chOff x="5202360" y="1881000"/>
                <a:chExt cx="284040" cy="1936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202360" y="188100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5205240" y="188388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202360" y="188388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4942080" y="1328760"/>
              <a:ext cx="0" cy="156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3520" y="1616040"/>
              <a:ext cx="300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46640" y="1057320"/>
              <a:ext cx="2195640" cy="34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IWO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antry Battalion (Mixed Brigad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155268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2720" y="14223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1730520"/>
              <a:ext cx="157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62720" y="1906560"/>
              <a:ext cx="203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5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antry Company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ME-IWO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211284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22352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MG                        JA-2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253836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0mm Btn Gun         JA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4160" y="2617920"/>
              <a:ext cx="30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765680" y="1098360"/>
              <a:ext cx="347400" cy="299880"/>
              <a:chOff x="4765680" y="1098360"/>
              <a:chExt cx="347400" cy="2998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902120" y="1098360"/>
                <a:ext cx="76320" cy="63720"/>
                <a:chOff x="4902120" y="1098360"/>
                <a:chExt cx="76320" cy="637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902120" y="10983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978440" y="10983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765680" y="1162080"/>
                <a:ext cx="347400" cy="236160"/>
                <a:chOff x="4765680" y="1162080"/>
                <a:chExt cx="347400" cy="236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765680" y="1162080"/>
                  <a:ext cx="347400" cy="23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4769280" y="116568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765680" y="116568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5224680" y="1496880"/>
              <a:ext cx="237960" cy="204840"/>
              <a:chOff x="5224680" y="1496880"/>
              <a:chExt cx="237960" cy="204840"/>
            </a:xfrm>
          </p:grpSpPr>
          <p:sp>
            <p:nvSpPr>
              <p:cNvPr id="209" name=""/>
              <p:cNvSpPr/>
              <p:nvPr/>
            </p:nvSpPr>
            <p:spPr>
              <a:xfrm>
                <a:off x="5330880" y="1496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24680" y="154440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224680" y="2496960"/>
              <a:ext cx="239400" cy="206640"/>
              <a:chOff x="5224680" y="2496960"/>
              <a:chExt cx="239400" cy="2066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5224680" y="2546280"/>
                <a:ext cx="239400" cy="157320"/>
                <a:chOff x="5224680" y="2546280"/>
                <a:chExt cx="239400" cy="157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24680" y="2546280"/>
                  <a:ext cx="23940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5224680" y="2547720"/>
                  <a:ext cx="237960" cy="154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24680" y="2549520"/>
                  <a:ext cx="2379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26200" y="2606760"/>
                  <a:ext cx="36360" cy="363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308920" y="2496960"/>
                <a:ext cx="72360" cy="27000"/>
                <a:chOff x="5308920" y="2496960"/>
                <a:chExt cx="72360" cy="270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308920" y="2496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53200" y="24969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5221440" y="2190600"/>
              <a:ext cx="245880" cy="212760"/>
              <a:chOff x="5221440" y="2190600"/>
              <a:chExt cx="245880" cy="21276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5221440" y="2235240"/>
                <a:ext cx="245880" cy="168120"/>
                <a:chOff x="5221440" y="2235240"/>
                <a:chExt cx="245880" cy="16812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5221440" y="2235240"/>
                  <a:ext cx="245880" cy="168120"/>
                  <a:chOff x="5221440" y="2235240"/>
                  <a:chExt cx="245880" cy="1681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5221440" y="2235240"/>
                    <a:ext cx="245880" cy="16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5221440" y="2235240"/>
                    <a:ext cx="245880" cy="1648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5221440" y="2238120"/>
                  <a:ext cx="245880" cy="1648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5221440" y="2235240"/>
                <a:ext cx="61560" cy="1648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5308560" y="2190600"/>
                <a:ext cx="72360" cy="27000"/>
                <a:chOff x="5308560" y="2190600"/>
                <a:chExt cx="72360" cy="27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308560" y="2190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352840" y="219060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4950000" y="287820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62720" y="28033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81mm Mortar            JA-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224680" y="2739960"/>
              <a:ext cx="239760" cy="220680"/>
              <a:chOff x="5224680" y="2739960"/>
              <a:chExt cx="239760" cy="2206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224680" y="2803320"/>
                <a:ext cx="239760" cy="157320"/>
                <a:chOff x="5224680" y="2803320"/>
                <a:chExt cx="239760" cy="157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224680" y="280332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08920" y="292896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40600" y="282384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08920" y="2739960"/>
                <a:ext cx="72360" cy="27000"/>
                <a:chOff x="5308920" y="2739960"/>
                <a:chExt cx="72360" cy="27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308920" y="2739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353200" y="27399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5562720" y="2387520"/>
              <a:ext cx="157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946760" y="3344760"/>
            <a:ext cx="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43520" y="4143240"/>
            <a:ext cx="299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176800" y="3983040"/>
            <a:ext cx="283680" cy="250200"/>
            <a:chOff x="5176800" y="3983040"/>
            <a:chExt cx="283680" cy="250200"/>
          </a:xfrm>
        </p:grpSpPr>
        <p:sp>
          <p:nvSpPr>
            <p:cNvPr id="244" name=""/>
            <p:cNvSpPr/>
            <p:nvPr/>
          </p:nvSpPr>
          <p:spPr>
            <a:xfrm>
              <a:off x="5321160" y="398304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176800" y="4039920"/>
              <a:ext cx="283680" cy="193320"/>
              <a:chOff x="5176800" y="4039920"/>
              <a:chExt cx="283680" cy="193320"/>
            </a:xfrm>
          </p:grpSpPr>
          <p:sp>
            <p:nvSpPr>
              <p:cNvPr id="246" name=""/>
              <p:cNvSpPr/>
              <p:nvPr/>
            </p:nvSpPr>
            <p:spPr>
              <a:xfrm>
                <a:off x="5176800" y="4039920"/>
                <a:ext cx="28368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5262120" y="4104360"/>
                <a:ext cx="114120" cy="61920"/>
                <a:chOff x="5262120" y="4104360"/>
                <a:chExt cx="114120" cy="619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5262120" y="4104360"/>
                  <a:ext cx="113400" cy="61560"/>
                  <a:chOff x="5262120" y="4104360"/>
                  <a:chExt cx="113400" cy="6156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5262120" y="4104360"/>
                    <a:ext cx="113400" cy="61200"/>
                    <a:chOff x="5262120" y="4104360"/>
                    <a:chExt cx="113400" cy="6120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262120" y="4104360"/>
                      <a:ext cx="0" cy="61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262120" y="4104360"/>
                      <a:ext cx="11340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>
                    <a:off x="5319720" y="4104360"/>
                    <a:ext cx="0" cy="615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5376240" y="4104360"/>
                  <a:ext cx="0" cy="6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>
            <a:off x="4943520" y="3789360"/>
            <a:ext cx="299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72600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359568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903840"/>
            <a:ext cx="157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4079880"/>
            <a:ext cx="203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ineer Company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ME-IWO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24320" y="3670200"/>
            <a:ext cx="238320" cy="204840"/>
            <a:chOff x="5224320" y="3670200"/>
            <a:chExt cx="238320" cy="204840"/>
          </a:xfrm>
        </p:grpSpPr>
        <p:sp>
          <p:nvSpPr>
            <p:cNvPr id="260" name=""/>
            <p:cNvSpPr/>
            <p:nvPr/>
          </p:nvSpPr>
          <p:spPr>
            <a:xfrm>
              <a:off x="5330880" y="3670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24320" y="3717720"/>
              <a:ext cx="23832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349960" y="3218040"/>
            <a:ext cx="21952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IWO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er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772160" y="3192480"/>
            <a:ext cx="347040" cy="296640"/>
            <a:chOff x="4772160" y="3192480"/>
            <a:chExt cx="347040" cy="296640"/>
          </a:xfrm>
        </p:grpSpPr>
        <p:grpSp>
          <p:nvGrpSpPr>
            <p:cNvPr id="264" name=""/>
            <p:cNvGrpSpPr/>
            <p:nvPr/>
          </p:nvGrpSpPr>
          <p:grpSpPr>
            <a:xfrm>
              <a:off x="4772160" y="3252960"/>
              <a:ext cx="347040" cy="236160"/>
              <a:chOff x="4772160" y="3252960"/>
              <a:chExt cx="347040" cy="236160"/>
            </a:xfrm>
          </p:grpSpPr>
          <p:sp>
            <p:nvSpPr>
              <p:cNvPr id="265" name=""/>
              <p:cNvSpPr/>
              <p:nvPr/>
            </p:nvSpPr>
            <p:spPr>
              <a:xfrm>
                <a:off x="4772160" y="325296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4876560" y="3331800"/>
                <a:ext cx="139680" cy="75600"/>
                <a:chOff x="4876560" y="3331800"/>
                <a:chExt cx="139680" cy="756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876560" y="3331800"/>
                  <a:ext cx="138960" cy="75240"/>
                  <a:chOff x="4876560" y="3331800"/>
                  <a:chExt cx="138960" cy="7524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4876560" y="3331800"/>
                    <a:ext cx="138960" cy="74880"/>
                    <a:chOff x="4876560" y="3331800"/>
                    <a:chExt cx="138960" cy="7488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76560" y="3331800"/>
                      <a:ext cx="0" cy="7488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876560" y="3331800"/>
                      <a:ext cx="13896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4947120" y="3331800"/>
                    <a:ext cx="0" cy="752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5016240" y="3331800"/>
                  <a:ext cx="0" cy="756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906800" y="3192480"/>
              <a:ext cx="75960" cy="63360"/>
              <a:chOff x="4906800" y="3192480"/>
              <a:chExt cx="75960" cy="6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4906800" y="3192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82760" y="3192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372960" y="424656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2040" y="386568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81040" y="3697200"/>
            <a:ext cx="347400" cy="296640"/>
            <a:chOff x="581040" y="3697200"/>
            <a:chExt cx="347400" cy="296640"/>
          </a:xfrm>
        </p:grpSpPr>
        <p:grpSp>
          <p:nvGrpSpPr>
            <p:cNvPr id="279" name=""/>
            <p:cNvGrpSpPr/>
            <p:nvPr/>
          </p:nvGrpSpPr>
          <p:grpSpPr>
            <a:xfrm>
              <a:off x="581040" y="3757680"/>
              <a:ext cx="347400" cy="236160"/>
              <a:chOff x="581040" y="3757680"/>
              <a:chExt cx="347400" cy="236160"/>
            </a:xfrm>
          </p:grpSpPr>
          <p:sp>
            <p:nvSpPr>
              <p:cNvPr id="280" name=""/>
              <p:cNvSpPr/>
              <p:nvPr/>
            </p:nvSpPr>
            <p:spPr>
              <a:xfrm>
                <a:off x="581040" y="375768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685440" y="3836520"/>
                <a:ext cx="139680" cy="75600"/>
                <a:chOff x="685440" y="3836520"/>
                <a:chExt cx="139680" cy="7560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685440" y="3836520"/>
                  <a:ext cx="138960" cy="75240"/>
                  <a:chOff x="685440" y="3836520"/>
                  <a:chExt cx="138960" cy="7524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685440" y="3836520"/>
                    <a:ext cx="138960" cy="74880"/>
                    <a:chOff x="685440" y="3836520"/>
                    <a:chExt cx="138960" cy="74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85440" y="3836520"/>
                      <a:ext cx="0" cy="7488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85440" y="3836520"/>
                      <a:ext cx="13896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756000" y="3836520"/>
                    <a:ext cx="0" cy="752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825120" y="3836520"/>
                  <a:ext cx="0" cy="756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716040" y="3697200"/>
              <a:ext cx="76320" cy="63360"/>
              <a:chOff x="716040" y="3697200"/>
              <a:chExt cx="76320" cy="63360"/>
            </a:xfrm>
          </p:grpSpPr>
          <p:sp>
            <p:nvSpPr>
              <p:cNvPr id="289" name=""/>
              <p:cNvSpPr/>
              <p:nvPr/>
            </p:nvSpPr>
            <p:spPr>
              <a:xfrm>
                <a:off x="716040" y="3697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2360" y="3697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379440" y="1090440"/>
            <a:ext cx="0" cy="315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46196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01312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957240"/>
            <a:ext cx="192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IWO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Mixed Brig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35000" y="138420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5000" y="12542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35000" y="17985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79600" y="1841400"/>
            <a:ext cx="347040" cy="296280"/>
            <a:chOff x="579600" y="1841400"/>
            <a:chExt cx="347040" cy="296280"/>
          </a:xfrm>
        </p:grpSpPr>
        <p:grpSp>
          <p:nvGrpSpPr>
            <p:cNvPr id="299" name=""/>
            <p:cNvGrpSpPr/>
            <p:nvPr/>
          </p:nvGrpSpPr>
          <p:grpSpPr>
            <a:xfrm>
              <a:off x="718920" y="1841400"/>
              <a:ext cx="75960" cy="63360"/>
              <a:chOff x="718920" y="1841400"/>
              <a:chExt cx="75960" cy="63360"/>
            </a:xfrm>
          </p:grpSpPr>
          <p:sp>
            <p:nvSpPr>
              <p:cNvPr id="300" name=""/>
              <p:cNvSpPr/>
              <p:nvPr/>
            </p:nvSpPr>
            <p:spPr>
              <a:xfrm>
                <a:off x="718920" y="1841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4880" y="1841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79600" y="1901520"/>
              <a:ext cx="347040" cy="236160"/>
              <a:chOff x="579600" y="1901520"/>
              <a:chExt cx="347040" cy="236160"/>
            </a:xfrm>
          </p:grpSpPr>
          <p:sp>
            <p:nvSpPr>
              <p:cNvPr id="303" name=""/>
              <p:cNvSpPr/>
              <p:nvPr/>
            </p:nvSpPr>
            <p:spPr>
              <a:xfrm>
                <a:off x="579600" y="190152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83200" y="190512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9600" y="190512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33240" y="1344600"/>
            <a:ext cx="238320" cy="204840"/>
            <a:chOff x="633240" y="1344600"/>
            <a:chExt cx="238320" cy="204840"/>
          </a:xfrm>
        </p:grpSpPr>
        <p:sp>
          <p:nvSpPr>
            <p:cNvPr id="307" name=""/>
            <p:cNvSpPr/>
            <p:nvPr/>
          </p:nvSpPr>
          <p:spPr>
            <a:xfrm>
              <a:off x="739800" y="1344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3240" y="1392480"/>
              <a:ext cx="23832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035000" y="1957320"/>
            <a:ext cx="18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9th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235584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9600" y="2184480"/>
            <a:ext cx="347040" cy="296280"/>
            <a:chOff x="579600" y="2184480"/>
            <a:chExt cx="347040" cy="296280"/>
          </a:xfrm>
        </p:grpSpPr>
        <p:grpSp>
          <p:nvGrpSpPr>
            <p:cNvPr id="312" name=""/>
            <p:cNvGrpSpPr/>
            <p:nvPr/>
          </p:nvGrpSpPr>
          <p:grpSpPr>
            <a:xfrm>
              <a:off x="718920" y="2184480"/>
              <a:ext cx="75960" cy="63360"/>
              <a:chOff x="718920" y="2184480"/>
              <a:chExt cx="75960" cy="63360"/>
            </a:xfrm>
          </p:grpSpPr>
          <p:sp>
            <p:nvSpPr>
              <p:cNvPr id="313" name=""/>
              <p:cNvSpPr/>
              <p:nvPr/>
            </p:nvSpPr>
            <p:spPr>
              <a:xfrm>
                <a:off x="718920" y="218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4880" y="218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79600" y="2244600"/>
              <a:ext cx="347040" cy="236160"/>
              <a:chOff x="579600" y="2244600"/>
              <a:chExt cx="347040" cy="236160"/>
            </a:xfrm>
          </p:grpSpPr>
          <p:sp>
            <p:nvSpPr>
              <p:cNvPr id="316" name=""/>
              <p:cNvSpPr/>
              <p:nvPr/>
            </p:nvSpPr>
            <p:spPr>
              <a:xfrm>
                <a:off x="579600" y="224460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83200" y="224820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9600" y="224820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1035000" y="2300400"/>
            <a:ext cx="16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0th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1800" y="269892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79600" y="2527200"/>
            <a:ext cx="347040" cy="296280"/>
            <a:chOff x="579600" y="2527200"/>
            <a:chExt cx="347040" cy="296280"/>
          </a:xfrm>
        </p:grpSpPr>
        <p:grpSp>
          <p:nvGrpSpPr>
            <p:cNvPr id="322" name=""/>
            <p:cNvGrpSpPr/>
            <p:nvPr/>
          </p:nvGrpSpPr>
          <p:grpSpPr>
            <a:xfrm>
              <a:off x="718920" y="2527200"/>
              <a:ext cx="75960" cy="63360"/>
              <a:chOff x="718920" y="2527200"/>
              <a:chExt cx="75960" cy="63360"/>
            </a:xfrm>
          </p:grpSpPr>
          <p:sp>
            <p:nvSpPr>
              <p:cNvPr id="323" name=""/>
              <p:cNvSpPr/>
              <p:nvPr/>
            </p:nvSpPr>
            <p:spPr>
              <a:xfrm>
                <a:off x="718920" y="2527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4880" y="2527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79600" y="2587320"/>
              <a:ext cx="347040" cy="236160"/>
              <a:chOff x="579600" y="2587320"/>
              <a:chExt cx="347040" cy="236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600" y="258732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583200" y="259092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9600" y="259092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1035000" y="2646360"/>
            <a:ext cx="169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th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1560" y="4087800"/>
            <a:ext cx="292320" cy="252360"/>
            <a:chOff x="601560" y="4087800"/>
            <a:chExt cx="292320" cy="252360"/>
          </a:xfrm>
        </p:grpSpPr>
        <p:sp>
          <p:nvSpPr>
            <p:cNvPr id="331" name=""/>
            <p:cNvSpPr/>
            <p:nvPr/>
          </p:nvSpPr>
          <p:spPr>
            <a:xfrm>
              <a:off x="746280" y="4087800"/>
              <a:ext cx="144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1560" y="4149720"/>
              <a:ext cx="29232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01560" y="4151520"/>
              <a:ext cx="290520" cy="18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560" y="4152960"/>
              <a:ext cx="290520" cy="185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5400" y="4222800"/>
              <a:ext cx="44640" cy="4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60360" y="308916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79600" y="2917800"/>
            <a:ext cx="347040" cy="296280"/>
            <a:chOff x="579600" y="2917800"/>
            <a:chExt cx="347040" cy="296280"/>
          </a:xfrm>
        </p:grpSpPr>
        <p:grpSp>
          <p:nvGrpSpPr>
            <p:cNvPr id="338" name=""/>
            <p:cNvGrpSpPr/>
            <p:nvPr/>
          </p:nvGrpSpPr>
          <p:grpSpPr>
            <a:xfrm>
              <a:off x="718920" y="2917800"/>
              <a:ext cx="75960" cy="63360"/>
              <a:chOff x="718920" y="2917800"/>
              <a:chExt cx="75960" cy="63360"/>
            </a:xfrm>
          </p:grpSpPr>
          <p:sp>
            <p:nvSpPr>
              <p:cNvPr id="339" name=""/>
              <p:cNvSpPr/>
              <p:nvPr/>
            </p:nvSpPr>
            <p:spPr>
              <a:xfrm>
                <a:off x="718920" y="2917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94880" y="2917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9600" y="2977920"/>
              <a:ext cx="347040" cy="236160"/>
              <a:chOff x="579600" y="2977920"/>
              <a:chExt cx="347040" cy="23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579600" y="2977920"/>
                <a:ext cx="34704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83200" y="2981520"/>
                <a:ext cx="33840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600" y="2981520"/>
                <a:ext cx="34560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1035000" y="3033720"/>
            <a:ext cx="16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th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9440" y="347040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7800" y="3298680"/>
            <a:ext cx="347400" cy="296280"/>
            <a:chOff x="577800" y="3298680"/>
            <a:chExt cx="347400" cy="296280"/>
          </a:xfrm>
        </p:grpSpPr>
        <p:grpSp>
          <p:nvGrpSpPr>
            <p:cNvPr id="348" name=""/>
            <p:cNvGrpSpPr/>
            <p:nvPr/>
          </p:nvGrpSpPr>
          <p:grpSpPr>
            <a:xfrm>
              <a:off x="717480" y="3298680"/>
              <a:ext cx="76320" cy="63360"/>
              <a:chOff x="717480" y="3298680"/>
              <a:chExt cx="76320" cy="63360"/>
            </a:xfrm>
          </p:grpSpPr>
          <p:sp>
            <p:nvSpPr>
              <p:cNvPr id="349" name=""/>
              <p:cNvSpPr/>
              <p:nvPr/>
            </p:nvSpPr>
            <p:spPr>
              <a:xfrm>
                <a:off x="717480" y="3298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3800" y="3298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77800" y="3358800"/>
              <a:ext cx="347400" cy="236160"/>
              <a:chOff x="577800" y="3358800"/>
              <a:chExt cx="347400" cy="236160"/>
            </a:xfrm>
          </p:grpSpPr>
          <p:sp>
            <p:nvSpPr>
              <p:cNvPr id="352" name=""/>
              <p:cNvSpPr/>
              <p:nvPr/>
            </p:nvSpPr>
            <p:spPr>
              <a:xfrm>
                <a:off x="577800" y="335880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581400" y="336240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7800" y="336240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1035000" y="3414600"/>
            <a:ext cx="16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4th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36800" y="3817800"/>
            <a:ext cx="169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 Btn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24920" y="4199040"/>
            <a:ext cx="1553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Regt. Gun Co.  ME-IWO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35000" y="4040280"/>
            <a:ext cx="213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79280" y="939960"/>
            <a:ext cx="393480" cy="335520"/>
            <a:chOff x="179280" y="939960"/>
            <a:chExt cx="393480" cy="335520"/>
          </a:xfrm>
        </p:grpSpPr>
        <p:grpSp>
          <p:nvGrpSpPr>
            <p:cNvPr id="360" name=""/>
            <p:cNvGrpSpPr/>
            <p:nvPr/>
          </p:nvGrpSpPr>
          <p:grpSpPr>
            <a:xfrm>
              <a:off x="201240" y="1039680"/>
              <a:ext cx="347400" cy="235800"/>
              <a:chOff x="201240" y="1039680"/>
              <a:chExt cx="347400" cy="235800"/>
            </a:xfrm>
          </p:grpSpPr>
          <p:sp>
            <p:nvSpPr>
              <p:cNvPr id="361" name=""/>
              <p:cNvSpPr/>
              <p:nvPr/>
            </p:nvSpPr>
            <p:spPr>
              <a:xfrm>
                <a:off x="201240" y="1039680"/>
                <a:ext cx="347400" cy="23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04840" y="1042920"/>
                <a:ext cx="338760" cy="230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1240" y="1043280"/>
                <a:ext cx="345960" cy="225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79280" y="939960"/>
              <a:ext cx="39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950000" y="5302080"/>
            <a:ext cx="299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208480" y="5157720"/>
            <a:ext cx="284040" cy="249120"/>
            <a:chOff x="5208480" y="5157720"/>
            <a:chExt cx="284040" cy="249120"/>
          </a:xfrm>
        </p:grpSpPr>
        <p:sp>
          <p:nvSpPr>
            <p:cNvPr id="367" name=""/>
            <p:cNvSpPr/>
            <p:nvPr/>
          </p:nvSpPr>
          <p:spPr>
            <a:xfrm>
              <a:off x="5349960" y="5157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208480" y="5213160"/>
              <a:ext cx="284040" cy="193680"/>
              <a:chOff x="5208480" y="5213160"/>
              <a:chExt cx="284040" cy="19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8480" y="521316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211360" y="5216040"/>
                <a:ext cx="276480" cy="189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08480" y="5216040"/>
                <a:ext cx="282600" cy="184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4948200" y="4660920"/>
            <a:ext cx="0" cy="10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0000" y="4948200"/>
            <a:ext cx="299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3120" y="4389480"/>
            <a:ext cx="21952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IWO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8840" y="488484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8840" y="475452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8840" y="5062680"/>
            <a:ext cx="1578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8840" y="5238720"/>
            <a:ext cx="2040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antry Company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ME-IWO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772160" y="4430880"/>
            <a:ext cx="347040" cy="299160"/>
            <a:chOff x="4772160" y="4430880"/>
            <a:chExt cx="347040" cy="299160"/>
          </a:xfrm>
        </p:grpSpPr>
        <p:grpSp>
          <p:nvGrpSpPr>
            <p:cNvPr id="380" name=""/>
            <p:cNvGrpSpPr/>
            <p:nvPr/>
          </p:nvGrpSpPr>
          <p:grpSpPr>
            <a:xfrm>
              <a:off x="4908240" y="4430880"/>
              <a:ext cx="75960" cy="63360"/>
              <a:chOff x="4908240" y="4430880"/>
              <a:chExt cx="75960" cy="63360"/>
            </a:xfrm>
          </p:grpSpPr>
          <p:sp>
            <p:nvSpPr>
              <p:cNvPr id="381" name=""/>
              <p:cNvSpPr/>
              <p:nvPr/>
            </p:nvSpPr>
            <p:spPr>
              <a:xfrm>
                <a:off x="4908240" y="4430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84200" y="4430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772160" y="4494240"/>
              <a:ext cx="347040" cy="235800"/>
              <a:chOff x="4772160" y="4494240"/>
              <a:chExt cx="347040" cy="235800"/>
            </a:xfrm>
          </p:grpSpPr>
          <p:sp>
            <p:nvSpPr>
              <p:cNvPr id="384" name=""/>
              <p:cNvSpPr/>
              <p:nvPr/>
            </p:nvSpPr>
            <p:spPr>
              <a:xfrm>
                <a:off x="4772160" y="4494240"/>
                <a:ext cx="347040" cy="23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4775760" y="4497480"/>
                <a:ext cx="338400" cy="230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72160" y="4497840"/>
                <a:ext cx="345600" cy="225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5230800" y="4829040"/>
            <a:ext cx="237960" cy="204840"/>
            <a:chOff x="5230800" y="4829040"/>
            <a:chExt cx="237960" cy="204840"/>
          </a:xfrm>
        </p:grpSpPr>
        <p:sp>
          <p:nvSpPr>
            <p:cNvPr id="388" name=""/>
            <p:cNvSpPr/>
            <p:nvPr/>
          </p:nvSpPr>
          <p:spPr>
            <a:xfrm>
              <a:off x="5337000" y="48290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30800" y="487656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937040" y="567540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213520" y="5516640"/>
            <a:ext cx="291960" cy="252360"/>
            <a:chOff x="5213520" y="5516640"/>
            <a:chExt cx="291960" cy="252360"/>
          </a:xfrm>
        </p:grpSpPr>
        <p:sp>
          <p:nvSpPr>
            <p:cNvPr id="392" name=""/>
            <p:cNvSpPr/>
            <p:nvPr/>
          </p:nvSpPr>
          <p:spPr>
            <a:xfrm>
              <a:off x="5357880" y="5516640"/>
              <a:ext cx="108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13520" y="5578560"/>
              <a:ext cx="2919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213520" y="5580360"/>
              <a:ext cx="290160" cy="18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13520" y="5581800"/>
              <a:ext cx="290160" cy="185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37000" y="5651640"/>
              <a:ext cx="44280" cy="4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636880" y="5627520"/>
            <a:ext cx="1489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Btn. Gun Co.  ME-IWO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46600" y="54687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4640" y="630720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1760" y="4586400"/>
            <a:ext cx="0" cy="17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200" y="496728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552780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6320" y="4433760"/>
            <a:ext cx="22194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IWO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ndependent Infant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57320" y="488952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57320" y="475920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57320" y="53132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01560" y="5356080"/>
            <a:ext cx="347400" cy="296280"/>
            <a:chOff x="601560" y="5356080"/>
            <a:chExt cx="347400" cy="296280"/>
          </a:xfrm>
        </p:grpSpPr>
        <p:grpSp>
          <p:nvGrpSpPr>
            <p:cNvPr id="408" name=""/>
            <p:cNvGrpSpPr/>
            <p:nvPr/>
          </p:nvGrpSpPr>
          <p:grpSpPr>
            <a:xfrm>
              <a:off x="741240" y="5356080"/>
              <a:ext cx="76320" cy="63360"/>
              <a:chOff x="741240" y="5356080"/>
              <a:chExt cx="76320" cy="63360"/>
            </a:xfrm>
          </p:grpSpPr>
          <p:sp>
            <p:nvSpPr>
              <p:cNvPr id="409" name=""/>
              <p:cNvSpPr/>
              <p:nvPr/>
            </p:nvSpPr>
            <p:spPr>
              <a:xfrm>
                <a:off x="741240" y="5356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17560" y="5356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01560" y="5416200"/>
              <a:ext cx="347400" cy="236160"/>
              <a:chOff x="601560" y="5416200"/>
              <a:chExt cx="347400" cy="236160"/>
            </a:xfrm>
          </p:grpSpPr>
          <p:sp>
            <p:nvSpPr>
              <p:cNvPr id="412" name=""/>
              <p:cNvSpPr/>
              <p:nvPr/>
            </p:nvSpPr>
            <p:spPr>
              <a:xfrm>
                <a:off x="601560" y="541620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05160" y="541980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560" y="541980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655560" y="4849920"/>
            <a:ext cx="238320" cy="204840"/>
            <a:chOff x="655560" y="4849920"/>
            <a:chExt cx="238320" cy="204840"/>
          </a:xfrm>
        </p:grpSpPr>
        <p:sp>
          <p:nvSpPr>
            <p:cNvPr id="416" name=""/>
            <p:cNvSpPr/>
            <p:nvPr/>
          </p:nvSpPr>
          <p:spPr>
            <a:xfrm>
              <a:off x="762120" y="4849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5560" y="4897800"/>
              <a:ext cx="23832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57320" y="5472000"/>
            <a:ext cx="211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Infantry Battali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G-IWO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60148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54800" y="6221520"/>
            <a:ext cx="179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Field Gun Co.           FS-IWO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23920" y="4417920"/>
            <a:ext cx="347400" cy="296640"/>
            <a:chOff x="223920" y="4417920"/>
            <a:chExt cx="347400" cy="296640"/>
          </a:xfrm>
        </p:grpSpPr>
        <p:grpSp>
          <p:nvGrpSpPr>
            <p:cNvPr id="422" name=""/>
            <p:cNvGrpSpPr/>
            <p:nvPr/>
          </p:nvGrpSpPr>
          <p:grpSpPr>
            <a:xfrm>
              <a:off x="223920" y="4478400"/>
              <a:ext cx="347400" cy="236160"/>
              <a:chOff x="223920" y="4478400"/>
              <a:chExt cx="347400" cy="236160"/>
            </a:xfrm>
          </p:grpSpPr>
          <p:sp>
            <p:nvSpPr>
              <p:cNvPr id="423" name=""/>
              <p:cNvSpPr/>
              <p:nvPr/>
            </p:nvSpPr>
            <p:spPr>
              <a:xfrm>
                <a:off x="223920" y="447840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227520" y="448200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3920" y="448200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16080" y="4417920"/>
              <a:ext cx="161640" cy="63360"/>
              <a:chOff x="316080" y="4417920"/>
              <a:chExt cx="161640" cy="63360"/>
            </a:xfrm>
          </p:grpSpPr>
          <p:sp>
            <p:nvSpPr>
              <p:cNvPr id="427" name=""/>
              <p:cNvSpPr/>
              <p:nvPr/>
            </p:nvSpPr>
            <p:spPr>
              <a:xfrm>
                <a:off x="316080" y="441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6720" y="441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7720" y="441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401760" y="5918040"/>
            <a:ext cx="299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5040" y="5757840"/>
            <a:ext cx="283680" cy="250200"/>
            <a:chOff x="635040" y="5757840"/>
            <a:chExt cx="283680" cy="250200"/>
          </a:xfrm>
        </p:grpSpPr>
        <p:sp>
          <p:nvSpPr>
            <p:cNvPr id="432" name=""/>
            <p:cNvSpPr/>
            <p:nvPr/>
          </p:nvSpPr>
          <p:spPr>
            <a:xfrm>
              <a:off x="779400" y="575784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635040" y="5814720"/>
              <a:ext cx="283680" cy="193320"/>
              <a:chOff x="635040" y="5814720"/>
              <a:chExt cx="283680" cy="193320"/>
            </a:xfrm>
          </p:grpSpPr>
          <p:sp>
            <p:nvSpPr>
              <p:cNvPr id="434" name=""/>
              <p:cNvSpPr/>
              <p:nvPr/>
            </p:nvSpPr>
            <p:spPr>
              <a:xfrm>
                <a:off x="635040" y="5814720"/>
                <a:ext cx="28368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720360" y="5879160"/>
                <a:ext cx="114120" cy="61920"/>
                <a:chOff x="720360" y="5879160"/>
                <a:chExt cx="114120" cy="6192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720360" y="5879160"/>
                  <a:ext cx="113400" cy="61560"/>
                  <a:chOff x="720360" y="5879160"/>
                  <a:chExt cx="113400" cy="6156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720360" y="5879160"/>
                    <a:ext cx="113400" cy="61200"/>
                    <a:chOff x="720360" y="5879160"/>
                    <a:chExt cx="113400" cy="612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20360" y="5879160"/>
                      <a:ext cx="0" cy="61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720360" y="5879160"/>
                      <a:ext cx="11340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" name=""/>
                  <p:cNvSpPr/>
                  <p:nvPr/>
                </p:nvSpPr>
                <p:spPr>
                  <a:xfrm>
                    <a:off x="777960" y="5879160"/>
                    <a:ext cx="0" cy="615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1" name=""/>
                <p:cNvSpPr/>
                <p:nvPr/>
              </p:nvSpPr>
              <p:spPr>
                <a:xfrm>
                  <a:off x="834480" y="5879160"/>
                  <a:ext cx="0" cy="6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2" name=""/>
          <p:cNvSpPr/>
          <p:nvPr/>
        </p:nvSpPr>
        <p:spPr>
          <a:xfrm>
            <a:off x="1020600" y="5854680"/>
            <a:ext cx="2040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ineer Company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ME-IWO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39720" y="6132600"/>
            <a:ext cx="291960" cy="252000"/>
            <a:chOff x="639720" y="6132600"/>
            <a:chExt cx="291960" cy="252000"/>
          </a:xfrm>
        </p:grpSpPr>
        <p:sp>
          <p:nvSpPr>
            <p:cNvPr id="444" name=""/>
            <p:cNvSpPr/>
            <p:nvPr/>
          </p:nvSpPr>
          <p:spPr>
            <a:xfrm>
              <a:off x="784080" y="6132600"/>
              <a:ext cx="180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720" y="6194160"/>
              <a:ext cx="2919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3560" y="6267240"/>
              <a:ext cx="44280" cy="44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85920" y="16956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3800" y="16225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50880" y="1577880"/>
            <a:ext cx="231840" cy="206280"/>
            <a:chOff x="650880" y="1577880"/>
            <a:chExt cx="231840" cy="206280"/>
          </a:xfrm>
        </p:grpSpPr>
        <p:grpSp>
          <p:nvGrpSpPr>
            <p:cNvPr id="450" name=""/>
            <p:cNvGrpSpPr/>
            <p:nvPr/>
          </p:nvGrpSpPr>
          <p:grpSpPr>
            <a:xfrm>
              <a:off x="733320" y="1577880"/>
              <a:ext cx="74520" cy="27000"/>
              <a:chOff x="733320" y="1577880"/>
              <a:chExt cx="74520" cy="27000"/>
            </a:xfrm>
          </p:grpSpPr>
          <p:sp>
            <p:nvSpPr>
              <p:cNvPr id="451" name=""/>
              <p:cNvSpPr/>
              <p:nvPr/>
            </p:nvSpPr>
            <p:spPr>
              <a:xfrm>
                <a:off x="733320" y="15778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1200" y="15778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50880" y="1627200"/>
              <a:ext cx="231840" cy="156960"/>
              <a:chOff x="650880" y="1627200"/>
              <a:chExt cx="231840" cy="15696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880" y="162720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53040" y="1629360"/>
                <a:ext cx="22572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0880" y="162936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404640" y="520056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3800" y="51274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69960" y="5083200"/>
            <a:ext cx="231840" cy="206280"/>
            <a:chOff x="669960" y="5083200"/>
            <a:chExt cx="231840" cy="206280"/>
          </a:xfrm>
        </p:grpSpPr>
        <p:grpSp>
          <p:nvGrpSpPr>
            <p:cNvPr id="460" name=""/>
            <p:cNvGrpSpPr/>
            <p:nvPr/>
          </p:nvGrpSpPr>
          <p:grpSpPr>
            <a:xfrm>
              <a:off x="752400" y="5083200"/>
              <a:ext cx="74520" cy="27000"/>
              <a:chOff x="752400" y="5083200"/>
              <a:chExt cx="74520" cy="27000"/>
            </a:xfrm>
          </p:grpSpPr>
          <p:sp>
            <p:nvSpPr>
              <p:cNvPr id="461" name=""/>
              <p:cNvSpPr/>
              <p:nvPr/>
            </p:nvSpPr>
            <p:spPr>
              <a:xfrm>
                <a:off x="752400" y="50832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0280" y="5083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69960" y="5132520"/>
              <a:ext cx="231840" cy="156960"/>
              <a:chOff x="669960" y="5132520"/>
              <a:chExt cx="231840" cy="156960"/>
            </a:xfrm>
          </p:grpSpPr>
          <p:sp>
            <p:nvSpPr>
              <p:cNvPr id="464" name=""/>
              <p:cNvSpPr/>
              <p:nvPr/>
            </p:nvSpPr>
            <p:spPr>
              <a:xfrm>
                <a:off x="669960" y="51325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72120" y="5134680"/>
                <a:ext cx="22572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960" y="513468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ttlegroups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33440" y="1104840"/>
            <a:ext cx="2909880" cy="1866600"/>
            <a:chOff x="433440" y="1104840"/>
            <a:chExt cx="2909880" cy="1866600"/>
          </a:xfrm>
        </p:grpSpPr>
        <p:sp>
          <p:nvSpPr>
            <p:cNvPr id="469" name=""/>
            <p:cNvSpPr/>
            <p:nvPr/>
          </p:nvSpPr>
          <p:spPr>
            <a:xfrm>
              <a:off x="930240" y="1160640"/>
              <a:ext cx="2181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IWO06 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6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dependent Tank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360" y="2470320"/>
              <a:ext cx="299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360" y="2881440"/>
              <a:ext cx="299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0360" y="1235160"/>
              <a:ext cx="0" cy="16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0360" y="173052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33440" y="1104840"/>
              <a:ext cx="393120" cy="331560"/>
              <a:chOff x="433440" y="1104840"/>
              <a:chExt cx="393120" cy="33156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549360" y="1104840"/>
                <a:ext cx="162000" cy="63360"/>
                <a:chOff x="549360" y="1104840"/>
                <a:chExt cx="162000" cy="633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49360" y="1104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0360" y="1104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1360" y="1104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33440" y="1168560"/>
                <a:ext cx="393120" cy="267840"/>
                <a:chOff x="433440" y="1168560"/>
                <a:chExt cx="393120" cy="2678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33440" y="1168560"/>
                  <a:ext cx="393120" cy="267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05440" y="1235520"/>
                  <a:ext cx="252360" cy="127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933480" y="1598760"/>
              <a:ext cx="231840" cy="202680"/>
              <a:chOff x="933480" y="1598760"/>
              <a:chExt cx="231840" cy="202680"/>
            </a:xfrm>
          </p:grpSpPr>
          <p:sp>
            <p:nvSpPr>
              <p:cNvPr id="483" name=""/>
              <p:cNvSpPr/>
              <p:nvPr/>
            </p:nvSpPr>
            <p:spPr>
              <a:xfrm>
                <a:off x="1036800" y="1598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933480" y="1644480"/>
                <a:ext cx="231840" cy="156960"/>
                <a:chOff x="933480" y="1644480"/>
                <a:chExt cx="231840" cy="1569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933480" y="164448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975960" y="168372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7" name=""/>
            <p:cNvSpPr/>
            <p:nvPr/>
          </p:nvSpPr>
          <p:spPr>
            <a:xfrm>
              <a:off x="1249200" y="149400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49200" y="16416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0360" y="2041560"/>
              <a:ext cx="299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49200" y="1801800"/>
              <a:ext cx="1578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893880" y="1874880"/>
              <a:ext cx="284040" cy="257040"/>
              <a:chOff x="893880" y="1874880"/>
              <a:chExt cx="284040" cy="257040"/>
            </a:xfrm>
          </p:grpSpPr>
          <p:sp>
            <p:nvSpPr>
              <p:cNvPr id="492" name=""/>
              <p:cNvSpPr/>
              <p:nvPr/>
            </p:nvSpPr>
            <p:spPr>
              <a:xfrm>
                <a:off x="1036440" y="1874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893880" y="1938240"/>
                <a:ext cx="284040" cy="193680"/>
                <a:chOff x="893880" y="1938240"/>
                <a:chExt cx="284040" cy="1936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93880" y="193824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945720" y="198648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893880" y="2301840"/>
              <a:ext cx="284040" cy="258480"/>
              <a:chOff x="893880" y="2301840"/>
              <a:chExt cx="284040" cy="258480"/>
            </a:xfrm>
          </p:grpSpPr>
          <p:sp>
            <p:nvSpPr>
              <p:cNvPr id="497" name=""/>
              <p:cNvSpPr/>
              <p:nvPr/>
            </p:nvSpPr>
            <p:spPr>
              <a:xfrm>
                <a:off x="1035000" y="2301840"/>
                <a:ext cx="108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93880" y="236664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038240" y="2369520"/>
                <a:ext cx="139320" cy="189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93880" y="2366640"/>
                <a:ext cx="139320" cy="190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17360" y="2447640"/>
                <a:ext cx="36360" cy="31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245240" y="1987560"/>
              <a:ext cx="1576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nk Co.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   ME-IWO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45960" y="237960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  Co. (Lt)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ME-IWO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895320" y="2712960"/>
              <a:ext cx="284040" cy="258480"/>
              <a:chOff x="895320" y="2712960"/>
              <a:chExt cx="284040" cy="258480"/>
            </a:xfrm>
          </p:grpSpPr>
          <p:sp>
            <p:nvSpPr>
              <p:cNvPr id="505" name=""/>
              <p:cNvSpPr/>
              <p:nvPr/>
            </p:nvSpPr>
            <p:spPr>
              <a:xfrm>
                <a:off x="1036440" y="2712960"/>
                <a:ext cx="108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95320" y="277776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039680" y="2780640"/>
                <a:ext cx="139320" cy="189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95320" y="2777760"/>
                <a:ext cx="139320" cy="190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18800" y="2858760"/>
                <a:ext cx="36360" cy="31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246680" y="2790720"/>
              <a:ext cx="1605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  Co. (Med)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ME-IWO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8720" y="2710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ese 10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vision Maneuv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63520" y="1330200"/>
            <a:ext cx="2657520" cy="1346400"/>
            <a:chOff x="263520" y="1330200"/>
            <a:chExt cx="2657520" cy="1346400"/>
          </a:xfrm>
        </p:grpSpPr>
        <p:sp>
          <p:nvSpPr>
            <p:cNvPr id="513" name=""/>
            <p:cNvSpPr/>
            <p:nvPr/>
          </p:nvSpPr>
          <p:spPr>
            <a:xfrm>
              <a:off x="403200" y="23176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7880" y="1514520"/>
              <a:ext cx="0" cy="1074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22400" y="19987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9680" y="206208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31760" y="239688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22400" y="17604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19240" y="163008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719280" y="1944720"/>
              <a:ext cx="231480" cy="206280"/>
              <a:chOff x="719280" y="1944720"/>
              <a:chExt cx="231480" cy="20628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801360" y="1944720"/>
                <a:ext cx="73800" cy="28080"/>
                <a:chOff x="801360" y="1944720"/>
                <a:chExt cx="73800" cy="280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801360" y="194472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48520" y="19461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19280" y="1993680"/>
                <a:ext cx="231480" cy="157320"/>
                <a:chOff x="719280" y="1993680"/>
                <a:chExt cx="231480" cy="157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9280" y="199368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721440" y="1995480"/>
                  <a:ext cx="22536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9280" y="199584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>
              <a:off x="412560" y="179856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63520" y="1374840"/>
              <a:ext cx="284040" cy="258120"/>
              <a:chOff x="263520" y="1374840"/>
              <a:chExt cx="284040" cy="258120"/>
            </a:xfrm>
          </p:grpSpPr>
          <p:sp>
            <p:nvSpPr>
              <p:cNvPr id="530" name=""/>
              <p:cNvSpPr/>
              <p:nvPr/>
            </p:nvSpPr>
            <p:spPr>
              <a:xfrm>
                <a:off x="407520" y="137484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263520" y="1439640"/>
                <a:ext cx="284040" cy="193320"/>
                <a:chOff x="263520" y="1439640"/>
                <a:chExt cx="284040" cy="1933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3520" y="1439640"/>
                  <a:ext cx="28404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266400" y="144216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3520" y="144252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719280" y="1689120"/>
              <a:ext cx="237960" cy="199440"/>
              <a:chOff x="719280" y="1689120"/>
              <a:chExt cx="237960" cy="199440"/>
            </a:xfrm>
          </p:grpSpPr>
          <p:sp>
            <p:nvSpPr>
              <p:cNvPr id="536" name=""/>
              <p:cNvSpPr/>
              <p:nvPr/>
            </p:nvSpPr>
            <p:spPr>
              <a:xfrm>
                <a:off x="824040" y="1689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9280" y="173160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11120" y="25876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12800" y="2455920"/>
              <a:ext cx="239760" cy="193680"/>
              <a:chOff x="712800" y="2455920"/>
              <a:chExt cx="239760" cy="19368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712800" y="2492640"/>
                <a:ext cx="239760" cy="156960"/>
                <a:chOff x="712800" y="2492640"/>
                <a:chExt cx="239760" cy="1569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12800" y="249264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7040" y="261792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28720" y="251280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795240" y="2455920"/>
                <a:ext cx="74520" cy="28800"/>
                <a:chOff x="795240" y="2455920"/>
                <a:chExt cx="74520" cy="288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795240" y="2455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42760" y="2457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7" name=""/>
            <p:cNvSpPr/>
            <p:nvPr/>
          </p:nvSpPr>
          <p:spPr>
            <a:xfrm>
              <a:off x="1019160" y="252396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19280" y="2189160"/>
              <a:ext cx="237960" cy="212760"/>
              <a:chOff x="719280" y="2189160"/>
              <a:chExt cx="237960" cy="2127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719280" y="2238120"/>
                <a:ext cx="237960" cy="163800"/>
                <a:chOff x="719280" y="2238120"/>
                <a:chExt cx="237960" cy="16380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719280" y="2238120"/>
                  <a:ext cx="237960" cy="163800"/>
                  <a:chOff x="719280" y="2238120"/>
                  <a:chExt cx="237960" cy="1638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719280" y="2238120"/>
                    <a:ext cx="237960" cy="163800"/>
                    <a:chOff x="719280" y="2238120"/>
                    <a:chExt cx="237960" cy="163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19280" y="223848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V="1">
                      <a:off x="719280" y="223812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>
                    <a:off x="719280" y="224136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719280" y="223848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803160" y="2189160"/>
                <a:ext cx="74520" cy="28800"/>
                <a:chOff x="803160" y="2189160"/>
                <a:chExt cx="74520" cy="28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03160" y="2189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50680" y="2190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9" name=""/>
            <p:cNvSpPr/>
            <p:nvPr/>
          </p:nvSpPr>
          <p:spPr>
            <a:xfrm>
              <a:off x="1022400" y="224316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0720" y="1330200"/>
              <a:ext cx="220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WO01            Infantry Company 44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63520" y="2776680"/>
            <a:ext cx="2860200" cy="911520"/>
            <a:chOff x="263520" y="2776680"/>
            <a:chExt cx="2860200" cy="911520"/>
          </a:xfrm>
        </p:grpSpPr>
        <p:sp>
          <p:nvSpPr>
            <p:cNvPr id="562" name=""/>
            <p:cNvSpPr/>
            <p:nvPr/>
          </p:nvSpPr>
          <p:spPr>
            <a:xfrm>
              <a:off x="407880" y="3056040"/>
              <a:ext cx="0" cy="5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29960" y="353556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gineer (3 Flame)JA-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9320" y="3595680"/>
              <a:ext cx="342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29960" y="32306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4640" y="3260880"/>
              <a:ext cx="299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6800" y="30924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11000" y="3151080"/>
              <a:ext cx="237600" cy="200160"/>
              <a:chOff x="711000" y="3151080"/>
              <a:chExt cx="237600" cy="200160"/>
            </a:xfrm>
          </p:grpSpPr>
          <p:sp>
            <p:nvSpPr>
              <p:cNvPr id="569" name=""/>
              <p:cNvSpPr/>
              <p:nvPr/>
            </p:nvSpPr>
            <p:spPr>
              <a:xfrm>
                <a:off x="815400" y="3151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11000" y="3193920"/>
                <a:ext cx="23760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63520" y="2836800"/>
              <a:ext cx="283680" cy="250200"/>
              <a:chOff x="263520" y="2836800"/>
              <a:chExt cx="283680" cy="250200"/>
            </a:xfrm>
          </p:grpSpPr>
          <p:sp>
            <p:nvSpPr>
              <p:cNvPr id="572" name=""/>
              <p:cNvSpPr/>
              <p:nvPr/>
            </p:nvSpPr>
            <p:spPr>
              <a:xfrm>
                <a:off x="407880" y="2836800"/>
                <a:ext cx="108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63520" y="2893680"/>
                <a:ext cx="283680" cy="193320"/>
                <a:chOff x="263520" y="2893680"/>
                <a:chExt cx="283680" cy="1933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63520" y="2893680"/>
                  <a:ext cx="28368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348840" y="2958120"/>
                  <a:ext cx="114120" cy="61920"/>
                  <a:chOff x="348840" y="2958120"/>
                  <a:chExt cx="114120" cy="61920"/>
                </a:xfrm>
              </p:grpSpPr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348840" y="2958120"/>
                    <a:ext cx="113400" cy="61560"/>
                    <a:chOff x="348840" y="2958120"/>
                    <a:chExt cx="113400" cy="6156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348840" y="2958120"/>
                      <a:ext cx="113400" cy="61200"/>
                      <a:chOff x="348840" y="2958120"/>
                      <a:chExt cx="113400" cy="6120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348840" y="295812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348840" y="2958120"/>
                        <a:ext cx="11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06440" y="2958120"/>
                      <a:ext cx="0" cy="615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"/>
                  <p:cNvSpPr/>
                  <p:nvPr/>
                </p:nvSpPr>
                <p:spPr>
                  <a:xfrm>
                    <a:off x="462960" y="295812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82" name=""/>
            <p:cNvSpPr/>
            <p:nvPr/>
          </p:nvSpPr>
          <p:spPr>
            <a:xfrm>
              <a:off x="731520" y="2776680"/>
              <a:ext cx="206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WO02       Engineer Compan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14240" y="3487680"/>
              <a:ext cx="231120" cy="193680"/>
              <a:chOff x="714240" y="3487680"/>
              <a:chExt cx="231120" cy="19368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714240" y="3524400"/>
                <a:ext cx="231120" cy="156960"/>
                <a:chOff x="714240" y="3524400"/>
                <a:chExt cx="231120" cy="156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714240" y="3524400"/>
                  <a:ext cx="23112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6" name=""/>
                <p:cNvGrpSpPr/>
                <p:nvPr/>
              </p:nvGrpSpPr>
              <p:grpSpPr>
                <a:xfrm>
                  <a:off x="789840" y="3578400"/>
                  <a:ext cx="82440" cy="44280"/>
                  <a:chOff x="789840" y="3578400"/>
                  <a:chExt cx="82440" cy="44280"/>
                </a:xfrm>
              </p:grpSpPr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789840" y="3578400"/>
                    <a:ext cx="82440" cy="44280"/>
                    <a:chOff x="789840" y="3578400"/>
                    <a:chExt cx="82440" cy="44280"/>
                  </a:xfrm>
                </p:grpSpPr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789840" y="3578400"/>
                      <a:ext cx="82440" cy="44280"/>
                      <a:chOff x="789840" y="3578400"/>
                      <a:chExt cx="82440" cy="4428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789840" y="3578400"/>
                        <a:ext cx="0" cy="4428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789840" y="3578400"/>
                        <a:ext cx="82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831600" y="3578400"/>
                      <a:ext cx="0" cy="4428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2" name=""/>
                  <p:cNvSpPr/>
                  <p:nvPr/>
                </p:nvSpPr>
                <p:spPr>
                  <a:xfrm>
                    <a:off x="872280" y="3578400"/>
                    <a:ext cx="0" cy="442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793080" y="3487680"/>
                <a:ext cx="72360" cy="27000"/>
                <a:chOff x="793080" y="3487680"/>
                <a:chExt cx="72360" cy="270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93080" y="3487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37360" y="34876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6" name=""/>
          <p:cNvGrpSpPr/>
          <p:nvPr/>
        </p:nvGrpSpPr>
        <p:grpSpPr>
          <a:xfrm>
            <a:off x="263520" y="3795840"/>
            <a:ext cx="2860560" cy="1139760"/>
            <a:chOff x="263520" y="3795840"/>
            <a:chExt cx="2860560" cy="1139760"/>
          </a:xfrm>
        </p:grpSpPr>
        <p:sp>
          <p:nvSpPr>
            <p:cNvPr id="597" name=""/>
            <p:cNvSpPr/>
            <p:nvPr/>
          </p:nvSpPr>
          <p:spPr>
            <a:xfrm>
              <a:off x="401760" y="484344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7880" y="4027320"/>
              <a:ext cx="0" cy="80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30320" y="478296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5mm Regt. Gun     JA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30320" y="420840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4640" y="427032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27160" y="410220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23960" y="4160880"/>
              <a:ext cx="237960" cy="200160"/>
              <a:chOff x="723960" y="4160880"/>
              <a:chExt cx="237960" cy="200160"/>
            </a:xfrm>
          </p:grpSpPr>
          <p:sp>
            <p:nvSpPr>
              <p:cNvPr id="604" name=""/>
              <p:cNvSpPr/>
              <p:nvPr/>
            </p:nvSpPr>
            <p:spPr>
              <a:xfrm>
                <a:off x="828720" y="4160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23960" y="420372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723960" y="4718160"/>
              <a:ext cx="239760" cy="209160"/>
              <a:chOff x="723960" y="4718160"/>
              <a:chExt cx="239760" cy="20916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723960" y="4770360"/>
                <a:ext cx="239760" cy="156960"/>
                <a:chOff x="723960" y="4770360"/>
                <a:chExt cx="239760" cy="156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723960" y="477036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V="1">
                  <a:off x="723960" y="4771080"/>
                  <a:ext cx="2383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23960" y="4773240"/>
                  <a:ext cx="238320" cy="15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25840" y="4830480"/>
                  <a:ext cx="36360" cy="36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6760" y="4718160"/>
                <a:ext cx="74520" cy="28080"/>
                <a:chOff x="806760" y="4718160"/>
                <a:chExt cx="74520" cy="280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6760" y="4718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54280" y="4719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5" name=""/>
            <p:cNvGrpSpPr/>
            <p:nvPr/>
          </p:nvGrpSpPr>
          <p:grpSpPr>
            <a:xfrm>
              <a:off x="263520" y="3894120"/>
              <a:ext cx="291960" cy="252360"/>
              <a:chOff x="263520" y="3894120"/>
              <a:chExt cx="291960" cy="252360"/>
            </a:xfrm>
          </p:grpSpPr>
          <p:sp>
            <p:nvSpPr>
              <p:cNvPr id="616" name=""/>
              <p:cNvSpPr/>
              <p:nvPr/>
            </p:nvSpPr>
            <p:spPr>
              <a:xfrm>
                <a:off x="407880" y="3894120"/>
                <a:ext cx="108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3520" y="395604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63520" y="3957840"/>
                <a:ext cx="290160" cy="187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3520" y="3959280"/>
                <a:ext cx="290160" cy="185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7000" y="4029120"/>
                <a:ext cx="44280" cy="44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712800" y="3795840"/>
              <a:ext cx="1695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WO03          Regimental Gun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6440" y="456552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28640" y="4443480"/>
              <a:ext cx="231840" cy="199440"/>
              <a:chOff x="728640" y="4443480"/>
              <a:chExt cx="231840" cy="199440"/>
            </a:xfrm>
          </p:grpSpPr>
          <p:sp>
            <p:nvSpPr>
              <p:cNvPr id="624" name=""/>
              <p:cNvSpPr/>
              <p:nvPr/>
            </p:nvSpPr>
            <p:spPr>
              <a:xfrm>
                <a:off x="826920" y="44434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728640" y="4485960"/>
                <a:ext cx="231840" cy="156960"/>
                <a:chOff x="728640" y="4485960"/>
                <a:chExt cx="231840" cy="1569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28640" y="448596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20" y="4536360"/>
                  <a:ext cx="5688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8" name=""/>
            <p:cNvSpPr/>
            <p:nvPr/>
          </p:nvSpPr>
          <p:spPr>
            <a:xfrm>
              <a:off x="1031760" y="4495680"/>
              <a:ext cx="176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66760" y="4983120"/>
            <a:ext cx="2860200" cy="825840"/>
            <a:chOff x="266760" y="4983120"/>
            <a:chExt cx="2860200" cy="825840"/>
          </a:xfrm>
        </p:grpSpPr>
        <p:sp>
          <p:nvSpPr>
            <p:cNvPr id="630" name=""/>
            <p:cNvSpPr/>
            <p:nvPr/>
          </p:nvSpPr>
          <p:spPr>
            <a:xfrm>
              <a:off x="404640" y="571644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1120" y="5224320"/>
              <a:ext cx="0" cy="503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33200" y="565632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0mm Btn. Gun        JA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33200" y="53960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7880" y="5457960"/>
              <a:ext cx="299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0040" y="528948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26840" y="5348160"/>
              <a:ext cx="237960" cy="200160"/>
              <a:chOff x="726840" y="5348160"/>
              <a:chExt cx="237960" cy="2001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1600" y="53481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26840" y="539100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726840" y="5591160"/>
              <a:ext cx="239400" cy="209160"/>
              <a:chOff x="726840" y="5591160"/>
              <a:chExt cx="239400" cy="2091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726840" y="5643360"/>
                <a:ext cx="239400" cy="156960"/>
                <a:chOff x="726840" y="5643360"/>
                <a:chExt cx="239400" cy="1569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26840" y="5643360"/>
                  <a:ext cx="23940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726840" y="5644080"/>
                  <a:ext cx="23796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26840" y="5646240"/>
                  <a:ext cx="237960" cy="15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28360" y="5703480"/>
                  <a:ext cx="36000" cy="36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809280" y="5591160"/>
                <a:ext cx="73800" cy="28080"/>
                <a:chOff x="809280" y="5591160"/>
                <a:chExt cx="73800" cy="280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09280" y="559116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56440" y="55926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"/>
            <p:cNvGrpSpPr/>
            <p:nvPr/>
          </p:nvGrpSpPr>
          <p:grpSpPr>
            <a:xfrm>
              <a:off x="266760" y="5081760"/>
              <a:ext cx="291960" cy="252360"/>
              <a:chOff x="266760" y="5081760"/>
              <a:chExt cx="291960" cy="252360"/>
            </a:xfrm>
          </p:grpSpPr>
          <p:sp>
            <p:nvSpPr>
              <p:cNvPr id="649" name=""/>
              <p:cNvSpPr/>
              <p:nvPr/>
            </p:nvSpPr>
            <p:spPr>
              <a:xfrm>
                <a:off x="411120" y="5081760"/>
                <a:ext cx="108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6760" y="5143680"/>
                <a:ext cx="29196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266760" y="5145480"/>
                <a:ext cx="290160" cy="187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6760" y="5146920"/>
                <a:ext cx="290160" cy="185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0240" y="5216760"/>
                <a:ext cx="44280" cy="44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715680" y="4983120"/>
              <a:ext cx="1695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WO04          Battalion Gun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21040" y="2625840"/>
            <a:ext cx="2746440" cy="1209600"/>
            <a:chOff x="2921040" y="2625840"/>
            <a:chExt cx="2746440" cy="1209600"/>
          </a:xfrm>
        </p:grpSpPr>
        <p:sp>
          <p:nvSpPr>
            <p:cNvPr id="656" name=""/>
            <p:cNvSpPr/>
            <p:nvPr/>
          </p:nvSpPr>
          <p:spPr>
            <a:xfrm>
              <a:off x="3062160" y="276084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62160" y="37688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62160" y="3481560"/>
              <a:ext cx="38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62160" y="322920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2921040" y="2625840"/>
              <a:ext cx="284040" cy="257040"/>
              <a:chOff x="2921040" y="2625840"/>
              <a:chExt cx="284040" cy="257040"/>
            </a:xfrm>
          </p:grpSpPr>
          <p:sp>
            <p:nvSpPr>
              <p:cNvPr id="661" name=""/>
              <p:cNvSpPr/>
              <p:nvPr/>
            </p:nvSpPr>
            <p:spPr>
              <a:xfrm>
                <a:off x="3063600" y="262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2921040" y="2689200"/>
                <a:ext cx="284040" cy="193680"/>
                <a:chOff x="2921040" y="2689200"/>
                <a:chExt cx="284040" cy="1936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921040" y="268920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972880" y="273744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5" name=""/>
            <p:cNvSpPr/>
            <p:nvPr/>
          </p:nvSpPr>
          <p:spPr>
            <a:xfrm>
              <a:off x="3257640" y="2625840"/>
              <a:ext cx="2060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IWO05        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281400" y="3355920"/>
              <a:ext cx="231840" cy="204840"/>
              <a:chOff x="3281400" y="3355920"/>
              <a:chExt cx="231840" cy="20484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3281400" y="3403440"/>
                <a:ext cx="231840" cy="157320"/>
                <a:chOff x="3281400" y="3403440"/>
                <a:chExt cx="231840" cy="1573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281400" y="34034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323880" y="344268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359160" y="3355920"/>
                <a:ext cx="74160" cy="27000"/>
                <a:chOff x="3359160" y="3355920"/>
                <a:chExt cx="74160" cy="270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359160" y="3355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406680" y="33559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"/>
            <p:cNvGrpSpPr/>
            <p:nvPr/>
          </p:nvGrpSpPr>
          <p:grpSpPr>
            <a:xfrm>
              <a:off x="3278160" y="3097440"/>
              <a:ext cx="231840" cy="202680"/>
              <a:chOff x="3278160" y="3097440"/>
              <a:chExt cx="231840" cy="202680"/>
            </a:xfrm>
          </p:grpSpPr>
          <p:sp>
            <p:nvSpPr>
              <p:cNvPr id="674" name=""/>
              <p:cNvSpPr/>
              <p:nvPr/>
            </p:nvSpPr>
            <p:spPr>
              <a:xfrm>
                <a:off x="3381480" y="3097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3278160" y="3143160"/>
                <a:ext cx="231840" cy="156960"/>
                <a:chOff x="3278160" y="3143160"/>
                <a:chExt cx="231840" cy="1569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278160" y="314316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320640" y="318240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"/>
            <p:cNvGrpSpPr/>
            <p:nvPr/>
          </p:nvGrpSpPr>
          <p:grpSpPr>
            <a:xfrm>
              <a:off x="3281400" y="3630600"/>
              <a:ext cx="231840" cy="204840"/>
              <a:chOff x="3281400" y="3630600"/>
              <a:chExt cx="231840" cy="20484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3281400" y="3678120"/>
                <a:ext cx="231840" cy="157320"/>
                <a:chOff x="3281400" y="3678120"/>
                <a:chExt cx="231840" cy="1573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281400" y="367812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323880" y="371736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359160" y="3630600"/>
                <a:ext cx="74160" cy="27000"/>
                <a:chOff x="3359160" y="3630600"/>
                <a:chExt cx="74160" cy="270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359160" y="3630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06680" y="36306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5" name=""/>
            <p:cNvSpPr/>
            <p:nvPr/>
          </p:nvSpPr>
          <p:spPr>
            <a:xfrm>
              <a:off x="3556080" y="299268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73360" y="315936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66880" y="340668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       JA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56080" y="36734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59280" y="468648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65400" y="4146480"/>
            <a:ext cx="0" cy="54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87840" y="46069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7mm AT Gun       JA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70320" y="4576680"/>
            <a:ext cx="231840" cy="198360"/>
            <a:chOff x="3370320" y="4576680"/>
            <a:chExt cx="231840" cy="198360"/>
          </a:xfrm>
        </p:grpSpPr>
        <p:sp>
          <p:nvSpPr>
            <p:cNvPr id="693" name=""/>
            <p:cNvSpPr/>
            <p:nvPr/>
          </p:nvSpPr>
          <p:spPr>
            <a:xfrm>
              <a:off x="3370320" y="4618080"/>
              <a:ext cx="23184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488040" y="4620960"/>
              <a:ext cx="114120" cy="152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0320" y="4618080"/>
              <a:ext cx="114480" cy="153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72200" y="4682880"/>
              <a:ext cx="28440" cy="27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3454560" y="4576680"/>
              <a:ext cx="74520" cy="28080"/>
              <a:chOff x="3454560" y="4576680"/>
              <a:chExt cx="74520" cy="28080"/>
            </a:xfrm>
          </p:grpSpPr>
          <p:sp>
            <p:nvSpPr>
              <p:cNvPr id="698" name=""/>
              <p:cNvSpPr/>
              <p:nvPr/>
            </p:nvSpPr>
            <p:spPr>
              <a:xfrm>
                <a:off x="3454560" y="4576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502080" y="4578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"/>
          <p:cNvSpPr/>
          <p:nvPr/>
        </p:nvSpPr>
        <p:spPr>
          <a:xfrm>
            <a:off x="3687840" y="428940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62160" y="435132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84680" y="418320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368520" y="4241880"/>
            <a:ext cx="237960" cy="199440"/>
            <a:chOff x="3368520" y="4241880"/>
            <a:chExt cx="237960" cy="199440"/>
          </a:xfrm>
        </p:grpSpPr>
        <p:sp>
          <p:nvSpPr>
            <p:cNvPr id="704" name=""/>
            <p:cNvSpPr/>
            <p:nvPr/>
          </p:nvSpPr>
          <p:spPr>
            <a:xfrm>
              <a:off x="3473280" y="42418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68520" y="428436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921040" y="3975120"/>
            <a:ext cx="284040" cy="258480"/>
            <a:chOff x="2921040" y="3975120"/>
            <a:chExt cx="284040" cy="258480"/>
          </a:xfrm>
        </p:grpSpPr>
        <p:sp>
          <p:nvSpPr>
            <p:cNvPr id="707" name=""/>
            <p:cNvSpPr/>
            <p:nvPr/>
          </p:nvSpPr>
          <p:spPr>
            <a:xfrm>
              <a:off x="3062160" y="397512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21040" y="4039920"/>
              <a:ext cx="28404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065400" y="4042800"/>
              <a:ext cx="139320" cy="1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21040" y="4039920"/>
              <a:ext cx="139320" cy="190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44520" y="4120920"/>
              <a:ext cx="36360" cy="31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348000" y="387504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 IWO06            Antitank Gun Company (L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06800" y="58770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12920" y="5337000"/>
            <a:ext cx="0" cy="54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35360" y="5816520"/>
            <a:ext cx="209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ype 1 AT Gun       JA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417840" y="5767560"/>
            <a:ext cx="231840" cy="198360"/>
            <a:chOff x="3417840" y="5767560"/>
            <a:chExt cx="231840" cy="198360"/>
          </a:xfrm>
        </p:grpSpPr>
        <p:sp>
          <p:nvSpPr>
            <p:cNvPr id="717" name=""/>
            <p:cNvSpPr/>
            <p:nvPr/>
          </p:nvSpPr>
          <p:spPr>
            <a:xfrm>
              <a:off x="3417840" y="5808960"/>
              <a:ext cx="23184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535560" y="5811840"/>
              <a:ext cx="114120" cy="152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17840" y="5808960"/>
              <a:ext cx="114480" cy="153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19720" y="5873760"/>
              <a:ext cx="28440" cy="27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502080" y="5767560"/>
              <a:ext cx="74520" cy="28080"/>
              <a:chOff x="3502080" y="5767560"/>
              <a:chExt cx="74520" cy="28080"/>
            </a:xfrm>
          </p:grpSpPr>
          <p:sp>
            <p:nvSpPr>
              <p:cNvPr id="722" name=""/>
              <p:cNvSpPr/>
              <p:nvPr/>
            </p:nvSpPr>
            <p:spPr>
              <a:xfrm>
                <a:off x="3502080" y="5767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49600" y="5769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3735360" y="5479920"/>
            <a:ext cx="209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10040" y="554184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32200" y="537372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416400" y="5432400"/>
            <a:ext cx="237960" cy="200160"/>
            <a:chOff x="3416400" y="5432400"/>
            <a:chExt cx="237960" cy="200160"/>
          </a:xfrm>
        </p:grpSpPr>
        <p:sp>
          <p:nvSpPr>
            <p:cNvPr id="728" name=""/>
            <p:cNvSpPr/>
            <p:nvPr/>
          </p:nvSpPr>
          <p:spPr>
            <a:xfrm>
              <a:off x="3521160" y="5432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16400" y="547524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968560" y="5165640"/>
            <a:ext cx="284400" cy="258480"/>
            <a:chOff x="2968560" y="5165640"/>
            <a:chExt cx="284400" cy="258480"/>
          </a:xfrm>
        </p:grpSpPr>
        <p:sp>
          <p:nvSpPr>
            <p:cNvPr id="731" name=""/>
            <p:cNvSpPr/>
            <p:nvPr/>
          </p:nvSpPr>
          <p:spPr>
            <a:xfrm>
              <a:off x="3110040" y="5165640"/>
              <a:ext cx="144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8560" y="5230440"/>
              <a:ext cx="28440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113280" y="5233320"/>
              <a:ext cx="139680" cy="1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68560" y="5230440"/>
              <a:ext cx="139680" cy="190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92400" y="5311440"/>
              <a:ext cx="36720" cy="31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395520" y="5065560"/>
            <a:ext cx="192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 IWO07           Antitank Gun Company (M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85640" y="44748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tille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57040" y="885960"/>
            <a:ext cx="2860560" cy="1140120"/>
            <a:chOff x="257040" y="885960"/>
            <a:chExt cx="2860560" cy="1140120"/>
          </a:xfrm>
        </p:grpSpPr>
        <p:sp>
          <p:nvSpPr>
            <p:cNvPr id="739" name=""/>
            <p:cNvSpPr/>
            <p:nvPr/>
          </p:nvSpPr>
          <p:spPr>
            <a:xfrm>
              <a:off x="395280" y="193392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1400" y="1136880"/>
              <a:ext cx="0" cy="80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23840" y="18734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5mm Field Gun     JA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3840" y="129888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8160" y="136080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0680" y="119232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717480" y="1251000"/>
              <a:ext cx="237960" cy="200160"/>
              <a:chOff x="717480" y="1251000"/>
              <a:chExt cx="237960" cy="200160"/>
            </a:xfrm>
          </p:grpSpPr>
          <p:sp>
            <p:nvSpPr>
              <p:cNvPr id="746" name=""/>
              <p:cNvSpPr/>
              <p:nvPr/>
            </p:nvSpPr>
            <p:spPr>
              <a:xfrm>
                <a:off x="822240" y="1251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480" y="129384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717480" y="1808280"/>
              <a:ext cx="239760" cy="209520"/>
              <a:chOff x="717480" y="1808280"/>
              <a:chExt cx="239760" cy="209520"/>
            </a:xfrm>
          </p:grpSpPr>
          <p:sp>
            <p:nvSpPr>
              <p:cNvPr id="749" name=""/>
              <p:cNvSpPr/>
              <p:nvPr/>
            </p:nvSpPr>
            <p:spPr>
              <a:xfrm>
                <a:off x="717480" y="186084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19000" y="1920960"/>
                <a:ext cx="36360" cy="36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799920" y="1808280"/>
                <a:ext cx="74520" cy="28800"/>
                <a:chOff x="799920" y="1808280"/>
                <a:chExt cx="74520" cy="288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99920" y="1808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47440" y="1810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4" name=""/>
            <p:cNvGrpSpPr/>
            <p:nvPr/>
          </p:nvGrpSpPr>
          <p:grpSpPr>
            <a:xfrm>
              <a:off x="257040" y="984240"/>
              <a:ext cx="291960" cy="252720"/>
              <a:chOff x="257040" y="984240"/>
              <a:chExt cx="291960" cy="252720"/>
            </a:xfrm>
          </p:grpSpPr>
          <p:sp>
            <p:nvSpPr>
              <p:cNvPr id="755" name=""/>
              <p:cNvSpPr/>
              <p:nvPr/>
            </p:nvSpPr>
            <p:spPr>
              <a:xfrm>
                <a:off x="401400" y="98424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57040" y="1046160"/>
                <a:ext cx="291960" cy="19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0880" y="1119240"/>
                <a:ext cx="44280" cy="44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706320" y="885960"/>
              <a:ext cx="1847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Support Element-IWO01         Field Gun Company 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960" y="165600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722160" y="1533600"/>
              <a:ext cx="231840" cy="200160"/>
              <a:chOff x="722160" y="1533600"/>
              <a:chExt cx="231840" cy="200160"/>
            </a:xfrm>
          </p:grpSpPr>
          <p:sp>
            <p:nvSpPr>
              <p:cNvPr id="761" name=""/>
              <p:cNvSpPr/>
              <p:nvPr/>
            </p:nvSpPr>
            <p:spPr>
              <a:xfrm>
                <a:off x="820440" y="1533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722160" y="1576440"/>
                <a:ext cx="231840" cy="157320"/>
                <a:chOff x="722160" y="1576440"/>
                <a:chExt cx="231840" cy="15732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722160" y="15764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09640" y="1627200"/>
                  <a:ext cx="5688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"/>
            <p:cNvSpPr/>
            <p:nvPr/>
          </p:nvSpPr>
          <p:spPr>
            <a:xfrm>
              <a:off x="1025280" y="1586160"/>
              <a:ext cx="176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287880" y="885960"/>
            <a:ext cx="2925720" cy="1896840"/>
            <a:chOff x="3287880" y="885960"/>
            <a:chExt cx="2925720" cy="1896840"/>
          </a:xfrm>
        </p:grpSpPr>
        <p:sp>
          <p:nvSpPr>
            <p:cNvPr id="767" name=""/>
            <p:cNvSpPr/>
            <p:nvPr/>
          </p:nvSpPr>
          <p:spPr>
            <a:xfrm>
              <a:off x="4110120" y="19728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5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19840" y="231588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5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19840" y="263016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5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72200" y="2028600"/>
              <a:ext cx="3427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78320" y="1050840"/>
              <a:ext cx="0" cy="163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00760" y="129816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75440" y="1360440"/>
              <a:ext cx="2998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00760" y="11919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735720" y="1250640"/>
              <a:ext cx="237960" cy="199440"/>
              <a:chOff x="3735720" y="1250640"/>
              <a:chExt cx="237960" cy="199440"/>
            </a:xfrm>
          </p:grpSpPr>
          <p:sp>
            <p:nvSpPr>
              <p:cNvPr id="776" name=""/>
              <p:cNvSpPr/>
              <p:nvPr/>
            </p:nvSpPr>
            <p:spPr>
              <a:xfrm>
                <a:off x="3840480" y="1250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35720" y="129312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3783240" y="885960"/>
              <a:ext cx="1847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Support Element-IWO04         150mm Mortar Battalion (b,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76880" y="165564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738960" y="1533240"/>
              <a:ext cx="231480" cy="199440"/>
              <a:chOff x="3738960" y="1533240"/>
              <a:chExt cx="231480" cy="199440"/>
            </a:xfrm>
          </p:grpSpPr>
          <p:sp>
            <p:nvSpPr>
              <p:cNvPr id="781" name=""/>
              <p:cNvSpPr/>
              <p:nvPr/>
            </p:nvSpPr>
            <p:spPr>
              <a:xfrm>
                <a:off x="3836880" y="15332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3738960" y="1575720"/>
                <a:ext cx="231480" cy="156960"/>
                <a:chOff x="3738960" y="1575720"/>
                <a:chExt cx="231480" cy="1569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738960" y="1575720"/>
                  <a:ext cx="2314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826080" y="1626120"/>
                  <a:ext cx="5652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" name=""/>
            <p:cNvSpPr/>
            <p:nvPr/>
          </p:nvSpPr>
          <p:spPr>
            <a:xfrm>
              <a:off x="4100760" y="1585800"/>
              <a:ext cx="176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00760" y="1815840"/>
              <a:ext cx="122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50mm Morta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81560" y="2371680"/>
              <a:ext cx="343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10120" y="2178000"/>
              <a:ext cx="137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50mm Morta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1560" y="2685960"/>
              <a:ext cx="343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10120" y="2492280"/>
              <a:ext cx="1229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50mm Mortar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733920" y="2562120"/>
              <a:ext cx="239760" cy="202320"/>
              <a:chOff x="3733920" y="2562120"/>
              <a:chExt cx="239760" cy="20232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3733920" y="2607840"/>
                <a:ext cx="239760" cy="156600"/>
                <a:chOff x="3733920" y="2607840"/>
                <a:chExt cx="239760" cy="15660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733920" y="2607840"/>
                  <a:ext cx="239760" cy="156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18160" y="273276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849840" y="2628000"/>
                  <a:ext cx="0" cy="1058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3816720" y="2562120"/>
                <a:ext cx="74520" cy="26640"/>
                <a:chOff x="3816720" y="2562120"/>
                <a:chExt cx="74520" cy="266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3816720" y="2562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64240" y="2562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9" name=""/>
            <p:cNvGrpSpPr/>
            <p:nvPr/>
          </p:nvGrpSpPr>
          <p:grpSpPr>
            <a:xfrm>
              <a:off x="3733920" y="2242800"/>
              <a:ext cx="239760" cy="202680"/>
              <a:chOff x="3733920" y="2242800"/>
              <a:chExt cx="239760" cy="20268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3733920" y="2288520"/>
                <a:ext cx="239760" cy="156960"/>
                <a:chOff x="3733920" y="2288520"/>
                <a:chExt cx="239760" cy="1569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733920" y="228852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818160" y="241380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849840" y="230868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3816720" y="2242800"/>
                <a:ext cx="74520" cy="26640"/>
                <a:chOff x="3816720" y="2242800"/>
                <a:chExt cx="74520" cy="266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816720" y="2242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864240" y="2242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3733920" y="1927080"/>
              <a:ext cx="239760" cy="202320"/>
              <a:chOff x="3733920" y="1927080"/>
              <a:chExt cx="239760" cy="20232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3733920" y="1972800"/>
                <a:ext cx="239760" cy="156600"/>
                <a:chOff x="3733920" y="1972800"/>
                <a:chExt cx="239760" cy="1566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3733920" y="1972800"/>
                  <a:ext cx="239760" cy="156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818160" y="209772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849840" y="1992960"/>
                  <a:ext cx="0" cy="1058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16720" y="1927080"/>
                <a:ext cx="74520" cy="26640"/>
                <a:chOff x="3816720" y="1927080"/>
                <a:chExt cx="74520" cy="266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816720" y="19270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864240" y="1927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3287880" y="888840"/>
              <a:ext cx="393120" cy="313200"/>
              <a:chOff x="3287880" y="888840"/>
              <a:chExt cx="393120" cy="31320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3287880" y="942480"/>
                <a:ext cx="393120" cy="259560"/>
                <a:chOff x="3287880" y="942480"/>
                <a:chExt cx="393120" cy="25956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3287880" y="942480"/>
                  <a:ext cx="393120" cy="25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425760" y="1149840"/>
                  <a:ext cx="1112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477960" y="976320"/>
                  <a:ext cx="0" cy="1756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3434040" y="888840"/>
                <a:ext cx="99720" cy="63000"/>
                <a:chOff x="3434040" y="888840"/>
                <a:chExt cx="99720" cy="630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3434040" y="8888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33760" y="8888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3" name=""/>
          <p:cNvSpPr/>
          <p:nvPr/>
        </p:nvSpPr>
        <p:spPr>
          <a:xfrm>
            <a:off x="3478320" y="404028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84440" y="3081240"/>
            <a:ext cx="0" cy="1636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06880" y="39513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20mm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06880" y="32716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481560" y="333360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6880" y="31654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741840" y="3224160"/>
            <a:ext cx="237960" cy="200160"/>
            <a:chOff x="3741840" y="3224160"/>
            <a:chExt cx="237960" cy="200160"/>
          </a:xfrm>
        </p:grpSpPr>
        <p:sp>
          <p:nvSpPr>
            <p:cNvPr id="830" name=""/>
            <p:cNvSpPr/>
            <p:nvPr/>
          </p:nvSpPr>
          <p:spPr>
            <a:xfrm>
              <a:off x="3846600" y="322416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41840" y="326700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3789360" y="2859120"/>
            <a:ext cx="184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 Support Element-IWO05         320mm Mortar Battalion (b, 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83000" y="362916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745080" y="3506760"/>
            <a:ext cx="231480" cy="200160"/>
            <a:chOff x="3745080" y="3506760"/>
            <a:chExt cx="231480" cy="200160"/>
          </a:xfrm>
        </p:grpSpPr>
        <p:sp>
          <p:nvSpPr>
            <p:cNvPr id="835" name=""/>
            <p:cNvSpPr/>
            <p:nvPr/>
          </p:nvSpPr>
          <p:spPr>
            <a:xfrm>
              <a:off x="3843000" y="3506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3745080" y="3549600"/>
              <a:ext cx="231480" cy="157320"/>
              <a:chOff x="3745080" y="3549600"/>
              <a:chExt cx="231480" cy="157320"/>
            </a:xfrm>
          </p:grpSpPr>
          <p:sp>
            <p:nvSpPr>
              <p:cNvPr id="837" name=""/>
              <p:cNvSpPr/>
              <p:nvPr/>
            </p:nvSpPr>
            <p:spPr>
              <a:xfrm>
                <a:off x="3745080" y="3549600"/>
                <a:ext cx="23148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32200" y="3600360"/>
                <a:ext cx="5652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9" name=""/>
          <p:cNvSpPr/>
          <p:nvPr/>
        </p:nvSpPr>
        <p:spPr>
          <a:xfrm>
            <a:off x="4106880" y="3559320"/>
            <a:ext cx="176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 JA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06880" y="3827520"/>
            <a:ext cx="122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320mm Mortar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87680" y="440208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6240" y="4313160"/>
            <a:ext cx="209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20mm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6240" y="4199040"/>
            <a:ext cx="137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320mm Mortar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487680" y="471636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6240" y="4627440"/>
            <a:ext cx="209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20mm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6240" y="4513320"/>
            <a:ext cx="1229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320mm Mortar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740040" y="4592520"/>
            <a:ext cx="239760" cy="203400"/>
            <a:chOff x="3740040" y="4592520"/>
            <a:chExt cx="239760" cy="203400"/>
          </a:xfrm>
        </p:grpSpPr>
        <p:grpSp>
          <p:nvGrpSpPr>
            <p:cNvPr id="848" name=""/>
            <p:cNvGrpSpPr/>
            <p:nvPr/>
          </p:nvGrpSpPr>
          <p:grpSpPr>
            <a:xfrm>
              <a:off x="3740040" y="4638600"/>
              <a:ext cx="239760" cy="157320"/>
              <a:chOff x="3740040" y="4638600"/>
              <a:chExt cx="239760" cy="157320"/>
            </a:xfrm>
          </p:grpSpPr>
          <p:sp>
            <p:nvSpPr>
              <p:cNvPr id="849" name=""/>
              <p:cNvSpPr/>
              <p:nvPr/>
            </p:nvSpPr>
            <p:spPr>
              <a:xfrm>
                <a:off x="3740040" y="463860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24280" y="476424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855960" y="4659120"/>
                <a:ext cx="0" cy="106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822840" y="4592520"/>
              <a:ext cx="74520" cy="27000"/>
              <a:chOff x="3822840" y="4592520"/>
              <a:chExt cx="74520" cy="27000"/>
            </a:xfrm>
          </p:grpSpPr>
          <p:sp>
            <p:nvSpPr>
              <p:cNvPr id="853" name=""/>
              <p:cNvSpPr/>
              <p:nvPr/>
            </p:nvSpPr>
            <p:spPr>
              <a:xfrm>
                <a:off x="3822840" y="4592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870360" y="4592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3740040" y="4273560"/>
            <a:ext cx="239760" cy="202680"/>
            <a:chOff x="3740040" y="4273560"/>
            <a:chExt cx="239760" cy="202680"/>
          </a:xfrm>
        </p:grpSpPr>
        <p:grpSp>
          <p:nvGrpSpPr>
            <p:cNvPr id="856" name=""/>
            <p:cNvGrpSpPr/>
            <p:nvPr/>
          </p:nvGrpSpPr>
          <p:grpSpPr>
            <a:xfrm>
              <a:off x="3740040" y="4319280"/>
              <a:ext cx="239760" cy="156960"/>
              <a:chOff x="3740040" y="4319280"/>
              <a:chExt cx="239760" cy="156960"/>
            </a:xfrm>
          </p:grpSpPr>
          <p:sp>
            <p:nvSpPr>
              <p:cNvPr id="857" name=""/>
              <p:cNvSpPr/>
              <p:nvPr/>
            </p:nvSpPr>
            <p:spPr>
              <a:xfrm>
                <a:off x="3740040" y="431928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824280" y="444456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55960" y="4339440"/>
                <a:ext cx="0" cy="106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3822840" y="4273560"/>
              <a:ext cx="74520" cy="26640"/>
              <a:chOff x="3822840" y="4273560"/>
              <a:chExt cx="74520" cy="26640"/>
            </a:xfrm>
          </p:grpSpPr>
          <p:sp>
            <p:nvSpPr>
              <p:cNvPr id="861" name=""/>
              <p:cNvSpPr/>
              <p:nvPr/>
            </p:nvSpPr>
            <p:spPr>
              <a:xfrm>
                <a:off x="3822840" y="4273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870360" y="42735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3" name=""/>
          <p:cNvGrpSpPr/>
          <p:nvPr/>
        </p:nvGrpSpPr>
        <p:grpSpPr>
          <a:xfrm>
            <a:off x="3740040" y="3890880"/>
            <a:ext cx="239760" cy="203400"/>
            <a:chOff x="3740040" y="3890880"/>
            <a:chExt cx="239760" cy="203400"/>
          </a:xfrm>
        </p:grpSpPr>
        <p:grpSp>
          <p:nvGrpSpPr>
            <p:cNvPr id="864" name=""/>
            <p:cNvGrpSpPr/>
            <p:nvPr/>
          </p:nvGrpSpPr>
          <p:grpSpPr>
            <a:xfrm>
              <a:off x="3740040" y="3936960"/>
              <a:ext cx="239760" cy="157320"/>
              <a:chOff x="3740040" y="3936960"/>
              <a:chExt cx="239760" cy="157320"/>
            </a:xfrm>
          </p:grpSpPr>
          <p:sp>
            <p:nvSpPr>
              <p:cNvPr id="865" name=""/>
              <p:cNvSpPr/>
              <p:nvPr/>
            </p:nvSpPr>
            <p:spPr>
              <a:xfrm>
                <a:off x="3740040" y="393696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24280" y="406260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855960" y="3957480"/>
                <a:ext cx="0" cy="106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822840" y="3890880"/>
              <a:ext cx="74520" cy="27000"/>
              <a:chOff x="3822840" y="3890880"/>
              <a:chExt cx="74520" cy="27000"/>
            </a:xfrm>
          </p:grpSpPr>
          <p:sp>
            <p:nvSpPr>
              <p:cNvPr id="869" name=""/>
              <p:cNvSpPr/>
              <p:nvPr/>
            </p:nvSpPr>
            <p:spPr>
              <a:xfrm>
                <a:off x="3822840" y="3890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870360" y="3890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3294000" y="2862360"/>
            <a:ext cx="393120" cy="313920"/>
            <a:chOff x="3294000" y="2862360"/>
            <a:chExt cx="393120" cy="313920"/>
          </a:xfrm>
        </p:grpSpPr>
        <p:grpSp>
          <p:nvGrpSpPr>
            <p:cNvPr id="872" name=""/>
            <p:cNvGrpSpPr/>
            <p:nvPr/>
          </p:nvGrpSpPr>
          <p:grpSpPr>
            <a:xfrm>
              <a:off x="3294000" y="2916360"/>
              <a:ext cx="393120" cy="259920"/>
              <a:chOff x="3294000" y="2916360"/>
              <a:chExt cx="393120" cy="259920"/>
            </a:xfrm>
          </p:grpSpPr>
          <p:sp>
            <p:nvSpPr>
              <p:cNvPr id="873" name=""/>
              <p:cNvSpPr/>
              <p:nvPr/>
            </p:nvSpPr>
            <p:spPr>
              <a:xfrm>
                <a:off x="3294000" y="2916360"/>
                <a:ext cx="393120" cy="25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431880" y="3123720"/>
                <a:ext cx="1112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84080" y="2950200"/>
                <a:ext cx="0" cy="176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440160" y="2862360"/>
              <a:ext cx="99720" cy="63360"/>
              <a:chOff x="3440160" y="2862360"/>
              <a:chExt cx="99720" cy="63360"/>
            </a:xfrm>
          </p:grpSpPr>
          <p:sp>
            <p:nvSpPr>
              <p:cNvPr id="877" name=""/>
              <p:cNvSpPr/>
              <p:nvPr/>
            </p:nvSpPr>
            <p:spPr>
              <a:xfrm>
                <a:off x="3440160" y="2862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539880" y="2862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57040" y="4156200"/>
            <a:ext cx="2928960" cy="1941480"/>
            <a:chOff x="257040" y="4156200"/>
            <a:chExt cx="2928960" cy="1941480"/>
          </a:xfrm>
        </p:grpSpPr>
        <p:sp>
          <p:nvSpPr>
            <p:cNvPr id="880" name=""/>
            <p:cNvSpPr/>
            <p:nvPr/>
          </p:nvSpPr>
          <p:spPr>
            <a:xfrm>
              <a:off x="453960" y="533736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0080" y="4378680"/>
              <a:ext cx="0" cy="1636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82520" y="52484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20mm Field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82520" y="456912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6840" y="463104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82520" y="44625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776160" y="4521600"/>
              <a:ext cx="237960" cy="199440"/>
              <a:chOff x="776160" y="4521600"/>
              <a:chExt cx="237960" cy="199440"/>
            </a:xfrm>
          </p:grpSpPr>
          <p:sp>
            <p:nvSpPr>
              <p:cNvPr id="887" name=""/>
              <p:cNvSpPr/>
              <p:nvPr/>
            </p:nvSpPr>
            <p:spPr>
              <a:xfrm>
                <a:off x="880920" y="4521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6160" y="456408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776160" y="5212080"/>
              <a:ext cx="239760" cy="209520"/>
              <a:chOff x="776160" y="5212080"/>
              <a:chExt cx="239760" cy="209520"/>
            </a:xfrm>
          </p:grpSpPr>
          <p:sp>
            <p:nvSpPr>
              <p:cNvPr id="890" name=""/>
              <p:cNvSpPr/>
              <p:nvPr/>
            </p:nvSpPr>
            <p:spPr>
              <a:xfrm>
                <a:off x="776160" y="526464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7680" y="5324760"/>
                <a:ext cx="36360" cy="36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2" name=""/>
              <p:cNvGrpSpPr/>
              <p:nvPr/>
            </p:nvGrpSpPr>
            <p:grpSpPr>
              <a:xfrm>
                <a:off x="858600" y="5212080"/>
                <a:ext cx="74520" cy="28800"/>
                <a:chOff x="858600" y="5212080"/>
                <a:chExt cx="74520" cy="2880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858600" y="5212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906120" y="5213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>
              <a:off x="765000" y="4156200"/>
              <a:ext cx="1847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Support Element-IWO03        Heavy Artillery Battalion (b,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8640" y="492624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780840" y="4804200"/>
              <a:ext cx="231840" cy="199440"/>
              <a:chOff x="780840" y="4804200"/>
              <a:chExt cx="231840" cy="199440"/>
            </a:xfrm>
          </p:grpSpPr>
          <p:sp>
            <p:nvSpPr>
              <p:cNvPr id="898" name=""/>
              <p:cNvSpPr/>
              <p:nvPr/>
            </p:nvSpPr>
            <p:spPr>
              <a:xfrm>
                <a:off x="879120" y="4804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780840" y="4846680"/>
                <a:ext cx="231840" cy="156960"/>
                <a:chOff x="780840" y="4846680"/>
                <a:chExt cx="231840" cy="15696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780840" y="484668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68320" y="4897080"/>
                  <a:ext cx="5688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2" name=""/>
            <p:cNvSpPr/>
            <p:nvPr/>
          </p:nvSpPr>
          <p:spPr>
            <a:xfrm>
              <a:off x="1082520" y="4856400"/>
              <a:ext cx="176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57040" y="4165920"/>
              <a:ext cx="393480" cy="320760"/>
              <a:chOff x="257040" y="4165920"/>
              <a:chExt cx="393480" cy="320760"/>
            </a:xfrm>
          </p:grpSpPr>
          <p:sp>
            <p:nvSpPr>
              <p:cNvPr id="904" name=""/>
              <p:cNvSpPr/>
              <p:nvPr/>
            </p:nvSpPr>
            <p:spPr>
              <a:xfrm>
                <a:off x="257040" y="4229640"/>
                <a:ext cx="39348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23720" y="4327920"/>
                <a:ext cx="60120" cy="60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404640" y="4165920"/>
                <a:ext cx="100080" cy="63360"/>
                <a:chOff x="404640" y="4165920"/>
                <a:chExt cx="100080" cy="633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04640" y="416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04720" y="416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9" name=""/>
            <p:cNvSpPr/>
            <p:nvPr/>
          </p:nvSpPr>
          <p:spPr>
            <a:xfrm>
              <a:off x="1082520" y="5086440"/>
              <a:ext cx="122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Hvy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3320" y="569952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91880" y="56106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20mm Field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785520" y="5573880"/>
              <a:ext cx="239760" cy="209520"/>
              <a:chOff x="785520" y="5573880"/>
              <a:chExt cx="239760" cy="209520"/>
            </a:xfrm>
          </p:grpSpPr>
          <p:sp>
            <p:nvSpPr>
              <p:cNvPr id="913" name=""/>
              <p:cNvSpPr/>
              <p:nvPr/>
            </p:nvSpPr>
            <p:spPr>
              <a:xfrm>
                <a:off x="785520" y="562644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7040" y="5686560"/>
                <a:ext cx="36360" cy="36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867960" y="5573880"/>
                <a:ext cx="74520" cy="28800"/>
                <a:chOff x="867960" y="5573880"/>
                <a:chExt cx="74520" cy="288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867960" y="5573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915480" y="5575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8" name=""/>
            <p:cNvSpPr/>
            <p:nvPr/>
          </p:nvSpPr>
          <p:spPr>
            <a:xfrm>
              <a:off x="1091880" y="5448600"/>
              <a:ext cx="122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Hvy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3320" y="601380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91880" y="592488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20mm Field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785520" y="5888160"/>
              <a:ext cx="239760" cy="209520"/>
              <a:chOff x="785520" y="5888160"/>
              <a:chExt cx="239760" cy="209520"/>
            </a:xfrm>
          </p:grpSpPr>
          <p:sp>
            <p:nvSpPr>
              <p:cNvPr id="922" name=""/>
              <p:cNvSpPr/>
              <p:nvPr/>
            </p:nvSpPr>
            <p:spPr>
              <a:xfrm>
                <a:off x="785520" y="594072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7040" y="6000840"/>
                <a:ext cx="36360" cy="36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867960" y="5888160"/>
                <a:ext cx="74520" cy="28800"/>
                <a:chOff x="867960" y="5888160"/>
                <a:chExt cx="74520" cy="288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867960" y="5888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915480" y="5889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7" name=""/>
            <p:cNvSpPr/>
            <p:nvPr/>
          </p:nvSpPr>
          <p:spPr>
            <a:xfrm>
              <a:off x="1091880" y="5762880"/>
              <a:ext cx="122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Hvy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57040" y="2139840"/>
            <a:ext cx="2909880" cy="1983960"/>
            <a:chOff x="257040" y="2139840"/>
            <a:chExt cx="2909880" cy="1983960"/>
          </a:xfrm>
        </p:grpSpPr>
        <p:sp>
          <p:nvSpPr>
            <p:cNvPr id="929" name=""/>
            <p:cNvSpPr/>
            <p:nvPr/>
          </p:nvSpPr>
          <p:spPr>
            <a:xfrm>
              <a:off x="463680" y="2803680"/>
              <a:ext cx="299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3960" y="315900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3960" y="397368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4600" y="3581280"/>
              <a:ext cx="299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7200" y="2362320"/>
              <a:ext cx="0" cy="16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57040" y="2139840"/>
              <a:ext cx="393840" cy="320760"/>
              <a:chOff x="257040" y="2139840"/>
              <a:chExt cx="393840" cy="320760"/>
            </a:xfrm>
          </p:grpSpPr>
          <p:sp>
            <p:nvSpPr>
              <p:cNvPr id="935" name=""/>
              <p:cNvSpPr/>
              <p:nvPr/>
            </p:nvSpPr>
            <p:spPr>
              <a:xfrm>
                <a:off x="257040" y="2203560"/>
                <a:ext cx="3938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3720" y="2301840"/>
                <a:ext cx="60480" cy="60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72960" y="2139840"/>
                <a:ext cx="162000" cy="63360"/>
                <a:chOff x="372960" y="2139840"/>
                <a:chExt cx="162000" cy="6336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72960" y="213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53960" y="213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4960" y="213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1" name=""/>
            <p:cNvGrpSpPr/>
            <p:nvPr/>
          </p:nvGrpSpPr>
          <p:grpSpPr>
            <a:xfrm>
              <a:off x="595440" y="3387600"/>
              <a:ext cx="393120" cy="313920"/>
              <a:chOff x="595440" y="3387600"/>
              <a:chExt cx="393120" cy="3139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595440" y="3441600"/>
                <a:ext cx="393120" cy="259920"/>
                <a:chOff x="595440" y="3441600"/>
                <a:chExt cx="393120" cy="2599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595440" y="3441600"/>
                  <a:ext cx="393120" cy="259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33320" y="3648960"/>
                  <a:ext cx="1112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85520" y="3475440"/>
                  <a:ext cx="0" cy="1760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741600" y="3387600"/>
                <a:ext cx="99720" cy="63360"/>
                <a:chOff x="741600" y="3387600"/>
                <a:chExt cx="99720" cy="6336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741600" y="3387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41320" y="3387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9" name=""/>
            <p:cNvGrpSpPr/>
            <p:nvPr/>
          </p:nvGrpSpPr>
          <p:grpSpPr>
            <a:xfrm>
              <a:off x="596880" y="3809880"/>
              <a:ext cx="393120" cy="313920"/>
              <a:chOff x="596880" y="3809880"/>
              <a:chExt cx="393120" cy="31392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596880" y="3863880"/>
                <a:ext cx="393120" cy="259920"/>
                <a:chOff x="596880" y="3863880"/>
                <a:chExt cx="393120" cy="2599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596880" y="3863880"/>
                  <a:ext cx="393120" cy="259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34760" y="4071240"/>
                  <a:ext cx="1112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86960" y="3897720"/>
                  <a:ext cx="0" cy="1760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43040" y="3809880"/>
                <a:ext cx="99720" cy="63360"/>
                <a:chOff x="743040" y="3809880"/>
                <a:chExt cx="99720" cy="6336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3040" y="3809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42760" y="3809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7" name=""/>
            <p:cNvGrpSpPr/>
            <p:nvPr/>
          </p:nvGrpSpPr>
          <p:grpSpPr>
            <a:xfrm>
              <a:off x="600120" y="2979720"/>
              <a:ext cx="393480" cy="311040"/>
              <a:chOff x="600120" y="2979720"/>
              <a:chExt cx="393480" cy="31104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600120" y="2979720"/>
                <a:ext cx="393480" cy="311040"/>
                <a:chOff x="600120" y="2979720"/>
                <a:chExt cx="393480" cy="3110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600120" y="3033720"/>
                  <a:ext cx="393480" cy="257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0" name=""/>
                <p:cNvGrpSpPr/>
                <p:nvPr/>
              </p:nvGrpSpPr>
              <p:grpSpPr>
                <a:xfrm>
                  <a:off x="747720" y="2979720"/>
                  <a:ext cx="100080" cy="63360"/>
                  <a:chOff x="747720" y="2979720"/>
                  <a:chExt cx="100080" cy="6336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747720" y="29797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847800" y="29797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3" name=""/>
              <p:cNvSpPr/>
              <p:nvPr/>
            </p:nvSpPr>
            <p:spPr>
              <a:xfrm>
                <a:off x="766800" y="3132000"/>
                <a:ext cx="60120" cy="60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766800" y="2203560"/>
              <a:ext cx="192096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SUPPORT GROUP-IWO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Heavy Artillery Regiment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17440" y="272556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117440" y="259560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16040" y="2685960"/>
              <a:ext cx="237960" cy="204840"/>
              <a:chOff x="716040" y="2685960"/>
              <a:chExt cx="237960" cy="204840"/>
            </a:xfrm>
          </p:grpSpPr>
          <p:sp>
            <p:nvSpPr>
              <p:cNvPr id="968" name=""/>
              <p:cNvSpPr/>
              <p:nvPr/>
            </p:nvSpPr>
            <p:spPr>
              <a:xfrm>
                <a:off x="822240" y="2685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16040" y="273384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1270080" y="2913120"/>
              <a:ext cx="1896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e Support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2240" y="3116160"/>
              <a:ext cx="196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Hvy Arty Btn.           FS-IWO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092960" y="3489480"/>
              <a:ext cx="195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150mm Mortar Btn. FS-IWO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18160" y="3924360"/>
              <a:ext cx="195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320mm Mortar Btn. FS-IWO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3294000" y="4952880"/>
            <a:ext cx="32878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HA regiment off-board general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 and FO deploy on map. Both may act as FO for their battalion assets. FO may call in batteries outside immediate organiz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0mm gun Lrg template 0 vs V, +1 vs T,G,s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0mm Mortar Lrg template +1 vs V, +2 vs T,G, s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0mm Mortar Sml template +2 vs V, +3 vs T,G, sV. Fire only once every 2 tur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819840" y="1486080"/>
            <a:ext cx="189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Fire Suppo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5975280" y="703440"/>
            <a:ext cx="2734920" cy="1131120"/>
            <a:chOff x="5975280" y="703440"/>
            <a:chExt cx="2734920" cy="1131120"/>
          </a:xfrm>
        </p:grpSpPr>
        <p:sp>
          <p:nvSpPr>
            <p:cNvPr id="977" name=""/>
            <p:cNvSpPr/>
            <p:nvPr/>
          </p:nvSpPr>
          <p:spPr>
            <a:xfrm>
              <a:off x="6191280" y="1335240"/>
              <a:ext cx="299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81560" y="169092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84800" y="884520"/>
              <a:ext cx="0" cy="80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5975280" y="703440"/>
              <a:ext cx="393120" cy="320040"/>
              <a:chOff x="5975280" y="703440"/>
              <a:chExt cx="393120" cy="32004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5975280" y="763560"/>
                <a:ext cx="393120" cy="259920"/>
                <a:chOff x="5975280" y="763560"/>
                <a:chExt cx="393120" cy="25992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975280" y="766440"/>
                  <a:ext cx="393120" cy="257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071400" y="888480"/>
                  <a:ext cx="1951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5975280" y="766080"/>
                  <a:ext cx="190080" cy="254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165360" y="763560"/>
                  <a:ext cx="203040" cy="255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091200" y="703440"/>
                <a:ext cx="161640" cy="63360"/>
                <a:chOff x="6091200" y="703440"/>
                <a:chExt cx="161640" cy="6336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091200" y="703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171840" y="703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252840" y="703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0" name=""/>
            <p:cNvSpPr/>
            <p:nvPr/>
          </p:nvSpPr>
          <p:spPr>
            <a:xfrm>
              <a:off x="6494400" y="735120"/>
              <a:ext cx="192096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SUPPORT GROUP-IWO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A Artillery Regiment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45400" y="125748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45400" y="112716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6443640" y="1217880"/>
              <a:ext cx="238320" cy="204840"/>
              <a:chOff x="6443640" y="1217880"/>
              <a:chExt cx="238320" cy="204840"/>
            </a:xfrm>
          </p:grpSpPr>
          <p:sp>
            <p:nvSpPr>
              <p:cNvPr id="994" name=""/>
              <p:cNvSpPr/>
              <p:nvPr/>
            </p:nvSpPr>
            <p:spPr>
              <a:xfrm>
                <a:off x="6550200" y="1217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443640" y="1265760"/>
                <a:ext cx="23832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819840" y="1648080"/>
              <a:ext cx="189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 Hvy AA Btn.           FS-IWO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6388200" y="1521000"/>
              <a:ext cx="393120" cy="313560"/>
              <a:chOff x="6388200" y="1521000"/>
              <a:chExt cx="393120" cy="31356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6540480" y="1521000"/>
                <a:ext cx="99720" cy="63360"/>
                <a:chOff x="6540480" y="1521000"/>
                <a:chExt cx="99720" cy="6336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540480" y="1521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640200" y="1521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388200" y="1574640"/>
                <a:ext cx="393120" cy="259920"/>
                <a:chOff x="6388200" y="1574640"/>
                <a:chExt cx="393120" cy="25992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388200" y="1577520"/>
                  <a:ext cx="393120" cy="257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84320" y="1699560"/>
                  <a:ext cx="1951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6388200" y="1577160"/>
                  <a:ext cx="190080" cy="254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578280" y="1574640"/>
                  <a:ext cx="203040" cy="255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06" name=""/>
          <p:cNvSpPr/>
          <p:nvPr/>
        </p:nvSpPr>
        <p:spPr>
          <a:xfrm>
            <a:off x="6076800" y="316692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83280" y="2198520"/>
            <a:ext cx="0" cy="1636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84720" y="347976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87960" y="3832200"/>
            <a:ext cx="343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6353280" y="3036960"/>
            <a:ext cx="239760" cy="206280"/>
            <a:chOff x="6353280" y="3036960"/>
            <a:chExt cx="239760" cy="206280"/>
          </a:xfrm>
        </p:grpSpPr>
        <p:grpSp>
          <p:nvGrpSpPr>
            <p:cNvPr id="1011" name=""/>
            <p:cNvGrpSpPr/>
            <p:nvPr/>
          </p:nvGrpSpPr>
          <p:grpSpPr>
            <a:xfrm>
              <a:off x="6353280" y="3084480"/>
              <a:ext cx="239760" cy="158760"/>
              <a:chOff x="6353280" y="3084480"/>
              <a:chExt cx="239760" cy="158760"/>
            </a:xfrm>
          </p:grpSpPr>
          <p:sp>
            <p:nvSpPr>
              <p:cNvPr id="1012" name=""/>
              <p:cNvSpPr/>
              <p:nvPr/>
            </p:nvSpPr>
            <p:spPr>
              <a:xfrm>
                <a:off x="6353280" y="308628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411960" y="3160800"/>
                <a:ext cx="1191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6353280" y="3086280"/>
                <a:ext cx="115920" cy="155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69200" y="3084480"/>
                <a:ext cx="123840" cy="155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437520" y="3036960"/>
              <a:ext cx="74520" cy="27000"/>
              <a:chOff x="6437520" y="3036960"/>
              <a:chExt cx="74520" cy="27000"/>
            </a:xfrm>
          </p:grpSpPr>
          <p:sp>
            <p:nvSpPr>
              <p:cNvPr id="1017" name=""/>
              <p:cNvSpPr/>
              <p:nvPr/>
            </p:nvSpPr>
            <p:spPr>
              <a:xfrm>
                <a:off x="6437520" y="30369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485400" y="3036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5888160" y="2004840"/>
            <a:ext cx="393120" cy="314280"/>
            <a:chOff x="5888160" y="2004840"/>
            <a:chExt cx="393120" cy="314280"/>
          </a:xfrm>
        </p:grpSpPr>
        <p:grpSp>
          <p:nvGrpSpPr>
            <p:cNvPr id="1020" name=""/>
            <p:cNvGrpSpPr/>
            <p:nvPr/>
          </p:nvGrpSpPr>
          <p:grpSpPr>
            <a:xfrm>
              <a:off x="6040440" y="2004840"/>
              <a:ext cx="99720" cy="63360"/>
              <a:chOff x="6040440" y="2004840"/>
              <a:chExt cx="99720" cy="6336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40440" y="2004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140160" y="2004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5888160" y="2058840"/>
              <a:ext cx="393120" cy="260280"/>
              <a:chOff x="5888160" y="2058840"/>
              <a:chExt cx="393120" cy="260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5888160" y="2061720"/>
                <a:ext cx="393120" cy="2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84280" y="2183760"/>
                <a:ext cx="195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5888160" y="2061720"/>
                <a:ext cx="190080" cy="25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078240" y="2058840"/>
                <a:ext cx="203040" cy="255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705720" y="3100320"/>
            <a:ext cx="23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20mm Dual Purpose Gun JA-P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705720" y="24177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80040" y="247968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05720" y="231156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6340320" y="2370240"/>
            <a:ext cx="237960" cy="199440"/>
            <a:chOff x="6340320" y="2370240"/>
            <a:chExt cx="237960" cy="199440"/>
          </a:xfrm>
        </p:grpSpPr>
        <p:sp>
          <p:nvSpPr>
            <p:cNvPr id="1033" name=""/>
            <p:cNvSpPr/>
            <p:nvPr/>
          </p:nvSpPr>
          <p:spPr>
            <a:xfrm>
              <a:off x="6445080" y="23702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40320" y="241272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388200" y="2004840"/>
            <a:ext cx="184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 Support Element-IWO07         Heavy Anti-Aircraft Btn. 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1840" y="2774880"/>
            <a:ext cx="38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343560" y="2652840"/>
            <a:ext cx="231840" cy="199440"/>
            <a:chOff x="6343560" y="2652840"/>
            <a:chExt cx="231840" cy="199440"/>
          </a:xfrm>
        </p:grpSpPr>
        <p:sp>
          <p:nvSpPr>
            <p:cNvPr id="1038" name=""/>
            <p:cNvSpPr/>
            <p:nvPr/>
          </p:nvSpPr>
          <p:spPr>
            <a:xfrm>
              <a:off x="6441840" y="26528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6343560" y="2695320"/>
              <a:ext cx="231840" cy="156960"/>
              <a:chOff x="6343560" y="2695320"/>
              <a:chExt cx="231840" cy="156960"/>
            </a:xfrm>
          </p:grpSpPr>
          <p:sp>
            <p:nvSpPr>
              <p:cNvPr id="1040" name=""/>
              <p:cNvSpPr/>
              <p:nvPr/>
            </p:nvSpPr>
            <p:spPr>
              <a:xfrm>
                <a:off x="6343560" y="26953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431040" y="2745720"/>
                <a:ext cx="56880" cy="5544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2" name=""/>
          <p:cNvSpPr/>
          <p:nvPr/>
        </p:nvSpPr>
        <p:spPr>
          <a:xfrm>
            <a:off x="6705720" y="2705040"/>
            <a:ext cx="176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 JA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705720" y="2925720"/>
            <a:ext cx="122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Heavy AA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6361200" y="3349800"/>
            <a:ext cx="239760" cy="206280"/>
            <a:chOff x="6361200" y="3349800"/>
            <a:chExt cx="239760" cy="206280"/>
          </a:xfrm>
        </p:grpSpPr>
        <p:grpSp>
          <p:nvGrpSpPr>
            <p:cNvPr id="1045" name=""/>
            <p:cNvGrpSpPr/>
            <p:nvPr/>
          </p:nvGrpSpPr>
          <p:grpSpPr>
            <a:xfrm>
              <a:off x="6361200" y="3397320"/>
              <a:ext cx="239760" cy="158760"/>
              <a:chOff x="6361200" y="3397320"/>
              <a:chExt cx="239760" cy="158760"/>
            </a:xfrm>
          </p:grpSpPr>
          <p:sp>
            <p:nvSpPr>
              <p:cNvPr id="1046" name=""/>
              <p:cNvSpPr/>
              <p:nvPr/>
            </p:nvSpPr>
            <p:spPr>
              <a:xfrm>
                <a:off x="6361200" y="339912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419880" y="3473640"/>
                <a:ext cx="1191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6361200" y="3399120"/>
                <a:ext cx="115920" cy="155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477120" y="3397320"/>
                <a:ext cx="123840" cy="155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445440" y="3349800"/>
              <a:ext cx="74520" cy="27000"/>
              <a:chOff x="6445440" y="3349800"/>
              <a:chExt cx="74520" cy="27000"/>
            </a:xfrm>
          </p:grpSpPr>
          <p:sp>
            <p:nvSpPr>
              <p:cNvPr id="1051" name=""/>
              <p:cNvSpPr/>
              <p:nvPr/>
            </p:nvSpPr>
            <p:spPr>
              <a:xfrm>
                <a:off x="6445440" y="3349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93320" y="3349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6713640" y="3413160"/>
            <a:ext cx="23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20mm Dual Purpose Gun JA-P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713640" y="3286080"/>
            <a:ext cx="122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Heavy AA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6364440" y="3701880"/>
            <a:ext cx="239400" cy="206280"/>
            <a:chOff x="6364440" y="3701880"/>
            <a:chExt cx="239400" cy="206280"/>
          </a:xfrm>
        </p:grpSpPr>
        <p:grpSp>
          <p:nvGrpSpPr>
            <p:cNvPr id="1056" name=""/>
            <p:cNvGrpSpPr/>
            <p:nvPr/>
          </p:nvGrpSpPr>
          <p:grpSpPr>
            <a:xfrm>
              <a:off x="6364440" y="3749400"/>
              <a:ext cx="239400" cy="158760"/>
              <a:chOff x="6364440" y="3749400"/>
              <a:chExt cx="239400" cy="158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6364440" y="3751200"/>
                <a:ext cx="2394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22760" y="3825720"/>
                <a:ext cx="1188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6364440" y="3751200"/>
                <a:ext cx="115560" cy="155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80000" y="3749400"/>
                <a:ext cx="123480" cy="155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448320" y="3701880"/>
              <a:ext cx="73800" cy="27000"/>
              <a:chOff x="6448320" y="3701880"/>
              <a:chExt cx="73800" cy="27000"/>
            </a:xfrm>
          </p:grpSpPr>
          <p:sp>
            <p:nvSpPr>
              <p:cNvPr id="1062" name=""/>
              <p:cNvSpPr/>
              <p:nvPr/>
            </p:nvSpPr>
            <p:spPr>
              <a:xfrm>
                <a:off x="6448320" y="3701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495840" y="3701880"/>
                <a:ext cx="262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6716880" y="3765600"/>
            <a:ext cx="23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20mm Dual Purpose Gun JA-P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16880" y="3638520"/>
            <a:ext cx="122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Heavy AA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cp:lastPrinted>2002-11-16T10:45:55Z</cp:lastPrinted>
  <dcterms:modified xsi:type="dcterms:W3CDTF">2006-05-17T01:02:36Z</dcterms:modified>
  <cp:revision>150</cp:revision>
  <dc:subject/>
  <dc:title>PowerPoint Presentation</dc:title>
</cp:coreProperties>
</file>