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F3C-8C18-414F-8BBE-E6590ACF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559-64F6-4FC9-80FD-4B999B44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032-5B1D-466E-B1A0-E309157E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18C-1D9D-4ABB-A34F-709A0FB3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101-DE9D-4F19-A76E-4A8621D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9CF-D064-47FB-AE1D-24DBB586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974-FE8B-4638-B32E-48A5D41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59D-97CE-4F70-B99D-95753F1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AD3-7955-4A35-B5EB-FECF9C8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D1E-0525-48DE-A8CF-803EE26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346-1463-4172-86CC-BF17EEF1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B42-BC90-4E90-9D58-D75CE096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F547-D80B-4091-B84D-BBAC6C217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7972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iki/Kawaguchi Detachments-Guada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6040" y="915840"/>
            <a:ext cx="0" cy="143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840" y="144936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840" y="186696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7840" y="234000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0960" y="582480"/>
            <a:ext cx="1920960" cy="6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Guad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chiki Detac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chelon (Eli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uadalcanal, August 194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79440" y="735120"/>
            <a:ext cx="131760" cy="63360"/>
            <a:chOff x="379440" y="735120"/>
            <a:chExt cx="131760" cy="63360"/>
          </a:xfrm>
        </p:grpSpPr>
        <p:sp>
          <p:nvSpPr>
            <p:cNvPr id="48" name=""/>
            <p:cNvSpPr/>
            <p:nvPr/>
          </p:nvSpPr>
          <p:spPr>
            <a:xfrm>
              <a:off x="446040" y="735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79440" y="735120"/>
              <a:ext cx="131760" cy="63360"/>
              <a:chOff x="379440" y="735120"/>
              <a:chExt cx="131760" cy="63360"/>
            </a:xfrm>
          </p:grpSpPr>
          <p:sp>
            <p:nvSpPr>
              <p:cNvPr id="50" name=""/>
              <p:cNvSpPr/>
              <p:nvPr/>
            </p:nvSpPr>
            <p:spPr>
              <a:xfrm>
                <a:off x="379440" y="735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1200" y="735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1062000" y="137160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2000" y="12412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1960" y="13320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3680" y="165276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09640" y="1695600"/>
            <a:ext cx="76320" cy="63360"/>
            <a:chOff x="809640" y="1695600"/>
            <a:chExt cx="76320" cy="63360"/>
          </a:xfrm>
        </p:grpSpPr>
        <p:sp>
          <p:nvSpPr>
            <p:cNvPr id="57" name=""/>
            <p:cNvSpPr/>
            <p:nvPr/>
          </p:nvSpPr>
          <p:spPr>
            <a:xfrm>
              <a:off x="809640" y="1695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5960" y="1695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93680" y="1803240"/>
            <a:ext cx="2040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Battalion, 2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f. BG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1040" y="2189160"/>
            <a:ext cx="144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5760" y="2254320"/>
            <a:ext cx="194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Co/7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Eng  (Vet)     ME-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5760" y="210672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155412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19600" y="1393920"/>
            <a:ext cx="144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678120" y="1459080"/>
            <a:ext cx="284400" cy="193680"/>
            <a:chOff x="3678120" y="1459080"/>
            <a:chExt cx="284400" cy="193680"/>
          </a:xfrm>
        </p:grpSpPr>
        <p:sp>
          <p:nvSpPr>
            <p:cNvPr id="66" name=""/>
            <p:cNvSpPr/>
            <p:nvPr/>
          </p:nvSpPr>
          <p:spPr>
            <a:xfrm>
              <a:off x="3678120" y="1459080"/>
              <a:ext cx="28440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681000" y="1461960"/>
              <a:ext cx="276840" cy="189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78120" y="1461960"/>
              <a:ext cx="282960" cy="184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417840" y="896760"/>
            <a:ext cx="0" cy="128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120816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22760" y="635040"/>
            <a:ext cx="19209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Guad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ry Battalion (Guadaca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3800" y="113040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3800" y="10000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9640" y="1308240"/>
            <a:ext cx="157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9640" y="1484280"/>
            <a:ext cx="2040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X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antry Company(-)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ME-Guad01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49640" y="169056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676440"/>
            <a:ext cx="76320" cy="63360"/>
            <a:chOff x="3378240" y="676440"/>
            <a:chExt cx="76320" cy="63360"/>
          </a:xfrm>
        </p:grpSpPr>
        <p:sp>
          <p:nvSpPr>
            <p:cNvPr id="78" name=""/>
            <p:cNvSpPr/>
            <p:nvPr/>
          </p:nvSpPr>
          <p:spPr>
            <a:xfrm>
              <a:off x="3378240" y="676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54560" y="676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035600" y="181296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MG                      JA-2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87920" y="1757520"/>
            <a:ext cx="74520" cy="28080"/>
            <a:chOff x="3787920" y="1757520"/>
            <a:chExt cx="74520" cy="28080"/>
          </a:xfrm>
        </p:grpSpPr>
        <p:sp>
          <p:nvSpPr>
            <p:cNvPr id="82" name=""/>
            <p:cNvSpPr/>
            <p:nvPr/>
          </p:nvSpPr>
          <p:spPr>
            <a:xfrm>
              <a:off x="3787920" y="17575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35440" y="17589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701880" y="1812960"/>
            <a:ext cx="245880" cy="168120"/>
            <a:chOff x="3701880" y="1812960"/>
            <a:chExt cx="245880" cy="168120"/>
          </a:xfrm>
        </p:grpSpPr>
        <p:grpSp>
          <p:nvGrpSpPr>
            <p:cNvPr id="85" name=""/>
            <p:cNvGrpSpPr/>
            <p:nvPr/>
          </p:nvGrpSpPr>
          <p:grpSpPr>
            <a:xfrm>
              <a:off x="3701880" y="1812960"/>
              <a:ext cx="245880" cy="168120"/>
              <a:chOff x="3701880" y="1812960"/>
              <a:chExt cx="245880" cy="168120"/>
            </a:xfrm>
          </p:grpSpPr>
          <p:sp>
            <p:nvSpPr>
              <p:cNvPr id="86" name=""/>
              <p:cNvSpPr/>
              <p:nvPr/>
            </p:nvSpPr>
            <p:spPr>
              <a:xfrm>
                <a:off x="3701880" y="1812960"/>
                <a:ext cx="245880" cy="16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701880" y="1812960"/>
                <a:ext cx="245880" cy="16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701880" y="1815840"/>
              <a:ext cx="245880" cy="164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01880" y="1812960"/>
            <a:ext cx="61920" cy="165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6400" y="188424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4840" y="2104920"/>
            <a:ext cx="23976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714840" y="2106360"/>
            <a:ext cx="237960" cy="153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4840" y="2108160"/>
            <a:ext cx="23796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16360" y="2165400"/>
            <a:ext cx="36360" cy="3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797280" y="2055960"/>
            <a:ext cx="74520" cy="28080"/>
            <a:chOff x="3797280" y="2055960"/>
            <a:chExt cx="74520" cy="28080"/>
          </a:xfrm>
        </p:grpSpPr>
        <p:sp>
          <p:nvSpPr>
            <p:cNvPr id="96" name=""/>
            <p:cNvSpPr/>
            <p:nvPr/>
          </p:nvSpPr>
          <p:spPr>
            <a:xfrm>
              <a:off x="3797280" y="20559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4800" y="20574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000680" y="208764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0mm Btn Gun       JA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217656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680" y="2521080"/>
            <a:ext cx="61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2843280"/>
            <a:ext cx="0" cy="249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800" y="345924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6800" y="387684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6800" y="434988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280" y="2631960"/>
            <a:ext cx="213516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Guad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waguchi Detachment (Veter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uadalcanal, August 194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1320" y="338148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1320" y="3251160"/>
            <a:ext cx="99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4160" y="33415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9400" y="3392640"/>
            <a:ext cx="23832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6622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23960" y="3768840"/>
            <a:ext cx="347400" cy="236160"/>
            <a:chOff x="723960" y="3768840"/>
            <a:chExt cx="347400" cy="236160"/>
          </a:xfrm>
        </p:grpSpPr>
        <p:sp>
          <p:nvSpPr>
            <p:cNvPr id="112" name=""/>
            <p:cNvSpPr/>
            <p:nvPr/>
          </p:nvSpPr>
          <p:spPr>
            <a:xfrm>
              <a:off x="723960" y="3768840"/>
              <a:ext cx="347400" cy="23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27560" y="3772440"/>
              <a:ext cx="338760" cy="231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960" y="3772440"/>
              <a:ext cx="345960" cy="225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58960" y="3705120"/>
            <a:ext cx="75960" cy="63720"/>
            <a:chOff x="858960" y="3705120"/>
            <a:chExt cx="75960" cy="63720"/>
          </a:xfrm>
        </p:grpSpPr>
        <p:sp>
          <p:nvSpPr>
            <p:cNvPr id="116" name=""/>
            <p:cNvSpPr/>
            <p:nvPr/>
          </p:nvSpPr>
          <p:spPr>
            <a:xfrm>
              <a:off x="858960" y="37051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34920" y="37051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143000" y="3813120"/>
            <a:ext cx="203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5 Infantry Battalion BG-Guad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92080" y="4192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55640" y="4255920"/>
            <a:ext cx="283680" cy="193320"/>
            <a:chOff x="755640" y="4255920"/>
            <a:chExt cx="283680" cy="193320"/>
          </a:xfrm>
        </p:grpSpPr>
        <p:sp>
          <p:nvSpPr>
            <p:cNvPr id="121" name=""/>
            <p:cNvSpPr/>
            <p:nvPr/>
          </p:nvSpPr>
          <p:spPr>
            <a:xfrm>
              <a:off x="755640" y="4255920"/>
              <a:ext cx="283680" cy="19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840960" y="4320360"/>
              <a:ext cx="114120" cy="61920"/>
              <a:chOff x="840960" y="4320360"/>
              <a:chExt cx="114120" cy="619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840960" y="4320360"/>
                <a:ext cx="113400" cy="61560"/>
                <a:chOff x="840960" y="4320360"/>
                <a:chExt cx="113400" cy="6156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840960" y="4320360"/>
                  <a:ext cx="113400" cy="61200"/>
                  <a:chOff x="840960" y="4320360"/>
                  <a:chExt cx="113400" cy="612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840960" y="4320360"/>
                    <a:ext cx="0" cy="61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40960" y="4320360"/>
                    <a:ext cx="11340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898560" y="4320360"/>
                  <a:ext cx="0" cy="615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955080" y="4320360"/>
                <a:ext cx="0" cy="6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135080" y="4264200"/>
            <a:ext cx="194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3 Engineer Co.            ME-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5080" y="41162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0760" y="2803680"/>
            <a:ext cx="347040" cy="236160"/>
            <a:chOff x="320760" y="2803680"/>
            <a:chExt cx="347040" cy="236160"/>
          </a:xfrm>
        </p:grpSpPr>
        <p:sp>
          <p:nvSpPr>
            <p:cNvPr id="132" name=""/>
            <p:cNvSpPr/>
            <p:nvPr/>
          </p:nvSpPr>
          <p:spPr>
            <a:xfrm>
              <a:off x="320760" y="2803680"/>
              <a:ext cx="347040" cy="23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4360" y="2807280"/>
              <a:ext cx="338400" cy="231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760" y="2807280"/>
              <a:ext cx="345600" cy="225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55760" y="2739600"/>
            <a:ext cx="75960" cy="64080"/>
            <a:chOff x="455760" y="2739600"/>
            <a:chExt cx="75960" cy="64080"/>
          </a:xfrm>
        </p:grpSpPr>
        <p:sp>
          <p:nvSpPr>
            <p:cNvPr id="136" name=""/>
            <p:cNvSpPr/>
            <p:nvPr/>
          </p:nvSpPr>
          <p:spPr>
            <a:xfrm>
              <a:off x="455760" y="2739960"/>
              <a:ext cx="7596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55760" y="2739600"/>
              <a:ext cx="7596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96800" y="4654440"/>
            <a:ext cx="30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35080" y="4568760"/>
            <a:ext cx="194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 Antitank Co.             ME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360" y="494496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33640" y="4875120"/>
            <a:ext cx="194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 Regt. Gun Co.          ME-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82720" y="4799160"/>
            <a:ext cx="144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8360" y="4861080"/>
            <a:ext cx="29196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38360" y="4862520"/>
            <a:ext cx="290520" cy="18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8360" y="4863960"/>
            <a:ext cx="290520" cy="185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4933800"/>
            <a:ext cx="44640" cy="44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9160" y="4551480"/>
            <a:ext cx="284400" cy="1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93880" y="4554000"/>
            <a:ext cx="139680" cy="18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9160" y="4551480"/>
            <a:ext cx="139680" cy="190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3000" y="4632480"/>
            <a:ext cx="36720" cy="31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5065560"/>
            <a:ext cx="126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SUPPORT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3560" y="5329080"/>
            <a:ext cx="30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1560" y="5268960"/>
            <a:ext cx="194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 Field Gun Co.          FS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5245200"/>
            <a:ext cx="29196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0120" y="5327640"/>
            <a:ext cx="44280" cy="44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01800" y="4497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9720" y="51912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96960" y="2244600"/>
            <a:ext cx="283680" cy="193320"/>
            <a:chOff x="696960" y="2244600"/>
            <a:chExt cx="283680" cy="193320"/>
          </a:xfrm>
        </p:grpSpPr>
        <p:sp>
          <p:nvSpPr>
            <p:cNvPr id="159" name=""/>
            <p:cNvSpPr/>
            <p:nvPr/>
          </p:nvSpPr>
          <p:spPr>
            <a:xfrm>
              <a:off x="696960" y="2244600"/>
              <a:ext cx="283680" cy="19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82280" y="2309040"/>
              <a:ext cx="114120" cy="61920"/>
              <a:chOff x="782280" y="2309040"/>
              <a:chExt cx="114120" cy="619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782280" y="2309040"/>
                <a:ext cx="113400" cy="61560"/>
                <a:chOff x="782280" y="2309040"/>
                <a:chExt cx="113400" cy="6156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782280" y="2309040"/>
                  <a:ext cx="113400" cy="61200"/>
                  <a:chOff x="782280" y="2309040"/>
                  <a:chExt cx="113400" cy="61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82280" y="2309040"/>
                    <a:ext cx="0" cy="61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82280" y="2309040"/>
                    <a:ext cx="11340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839880" y="2309040"/>
                  <a:ext cx="0" cy="615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896400" y="2309040"/>
                <a:ext cx="0" cy="6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669960" y="1755720"/>
            <a:ext cx="347400" cy="236160"/>
            <a:chOff x="669960" y="1755720"/>
            <a:chExt cx="347400" cy="236160"/>
          </a:xfrm>
        </p:grpSpPr>
        <p:sp>
          <p:nvSpPr>
            <p:cNvPr id="168" name=""/>
            <p:cNvSpPr/>
            <p:nvPr/>
          </p:nvSpPr>
          <p:spPr>
            <a:xfrm>
              <a:off x="669960" y="1755720"/>
              <a:ext cx="347400" cy="23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73560" y="1759320"/>
              <a:ext cx="338760" cy="231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9960" y="1759320"/>
              <a:ext cx="345960" cy="225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25400" y="1379520"/>
            <a:ext cx="23832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1440" y="798480"/>
            <a:ext cx="347400" cy="236160"/>
            <a:chOff x="271440" y="798480"/>
            <a:chExt cx="347400" cy="236160"/>
          </a:xfrm>
        </p:grpSpPr>
        <p:sp>
          <p:nvSpPr>
            <p:cNvPr id="173" name=""/>
            <p:cNvSpPr/>
            <p:nvPr/>
          </p:nvSpPr>
          <p:spPr>
            <a:xfrm>
              <a:off x="271440" y="798480"/>
              <a:ext cx="347400" cy="23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75040" y="802080"/>
              <a:ext cx="338760" cy="231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1440" y="802080"/>
              <a:ext cx="345960" cy="225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41800" y="739800"/>
            <a:ext cx="347040" cy="236160"/>
            <a:chOff x="3241800" y="739800"/>
            <a:chExt cx="347040" cy="236160"/>
          </a:xfrm>
        </p:grpSpPr>
        <p:sp>
          <p:nvSpPr>
            <p:cNvPr id="177" name=""/>
            <p:cNvSpPr/>
            <p:nvPr/>
          </p:nvSpPr>
          <p:spPr>
            <a:xfrm>
              <a:off x="3241800" y="739800"/>
              <a:ext cx="347040" cy="23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45400" y="743400"/>
              <a:ext cx="338400" cy="231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1800" y="743400"/>
              <a:ext cx="345600" cy="225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784680" y="10746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78120" y="1122480"/>
            <a:ext cx="23832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78000" y="2602080"/>
            <a:ext cx="2644920" cy="1363320"/>
            <a:chOff x="3078000" y="2602080"/>
            <a:chExt cx="2644920" cy="1363320"/>
          </a:xfrm>
        </p:grpSpPr>
        <p:sp>
          <p:nvSpPr>
            <p:cNvPr id="183" name=""/>
            <p:cNvSpPr/>
            <p:nvPr/>
          </p:nvSpPr>
          <p:spPr>
            <a:xfrm>
              <a:off x="3450960" y="2602080"/>
              <a:ext cx="2271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Guad01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33760" y="2814480"/>
              <a:ext cx="126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(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2360" y="3025440"/>
              <a:ext cx="0" cy="857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36880" y="346968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24160" y="3533760"/>
              <a:ext cx="3427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6240" y="369396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36880" y="315252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27040" y="3190680"/>
              <a:ext cx="3002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33720" y="302256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533760" y="3416040"/>
              <a:ext cx="231480" cy="205560"/>
              <a:chOff x="3533760" y="3416040"/>
              <a:chExt cx="231480" cy="2055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3616200" y="3416040"/>
                <a:ext cx="73800" cy="28080"/>
                <a:chOff x="3616200" y="3416040"/>
                <a:chExt cx="73800" cy="28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616200" y="34160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663360" y="34174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33760" y="3465000"/>
                <a:ext cx="231480" cy="156600"/>
                <a:chOff x="3533760" y="3465000"/>
                <a:chExt cx="231480" cy="1566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533760" y="3465000"/>
                  <a:ext cx="231480" cy="156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3535920" y="3466800"/>
                  <a:ext cx="225360" cy="153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533760" y="3467160"/>
                  <a:ext cx="230400" cy="1494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3078000" y="2814480"/>
              <a:ext cx="284040" cy="258120"/>
              <a:chOff x="3078000" y="2814480"/>
              <a:chExt cx="284040" cy="258120"/>
            </a:xfrm>
          </p:grpSpPr>
          <p:sp>
            <p:nvSpPr>
              <p:cNvPr id="201" name=""/>
              <p:cNvSpPr/>
              <p:nvPr/>
            </p:nvSpPr>
            <p:spPr>
              <a:xfrm>
                <a:off x="3222360" y="2814480"/>
                <a:ext cx="144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3078000" y="2879280"/>
                <a:ext cx="284040" cy="193320"/>
                <a:chOff x="3078000" y="2879280"/>
                <a:chExt cx="284040" cy="1933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078000" y="2879280"/>
                  <a:ext cx="284040" cy="19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3080880" y="2881800"/>
                  <a:ext cx="276480" cy="189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078000" y="2882160"/>
                  <a:ext cx="282600" cy="1843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3533760" y="3081240"/>
              <a:ext cx="237960" cy="199080"/>
              <a:chOff x="3533760" y="3081240"/>
              <a:chExt cx="237960" cy="199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638160" y="30812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33760" y="3123720"/>
                <a:ext cx="237960" cy="15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225600" y="3876480"/>
              <a:ext cx="343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527280" y="3744720"/>
              <a:ext cx="239760" cy="192960"/>
              <a:chOff x="3527280" y="3744720"/>
              <a:chExt cx="239760" cy="19296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3527280" y="3780720"/>
                <a:ext cx="239760" cy="156960"/>
                <a:chOff x="3527280" y="3780720"/>
                <a:chExt cx="239760" cy="1569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527280" y="378072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11520" y="390600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643200" y="380088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609720" y="3744720"/>
                <a:ext cx="74520" cy="27720"/>
                <a:chOff x="3609720" y="3744720"/>
                <a:chExt cx="74520" cy="277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609720" y="374472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657240" y="374616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3833640" y="381276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panese Arm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1520" y="1708200"/>
            <a:ext cx="2745720" cy="1209600"/>
            <a:chOff x="641520" y="1708200"/>
            <a:chExt cx="2745720" cy="1209600"/>
          </a:xfrm>
        </p:grpSpPr>
        <p:sp>
          <p:nvSpPr>
            <p:cNvPr id="221" name=""/>
            <p:cNvSpPr/>
            <p:nvPr/>
          </p:nvSpPr>
          <p:spPr>
            <a:xfrm>
              <a:off x="782280" y="184320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2280" y="2851200"/>
              <a:ext cx="34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280" y="256392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2280" y="2311560"/>
              <a:ext cx="37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41520" y="1708200"/>
              <a:ext cx="283680" cy="257040"/>
              <a:chOff x="641520" y="1708200"/>
              <a:chExt cx="283680" cy="257040"/>
            </a:xfrm>
          </p:grpSpPr>
          <p:sp>
            <p:nvSpPr>
              <p:cNvPr id="226" name=""/>
              <p:cNvSpPr/>
              <p:nvPr/>
            </p:nvSpPr>
            <p:spPr>
              <a:xfrm>
                <a:off x="783720" y="170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41520" y="1771560"/>
                <a:ext cx="283680" cy="193680"/>
                <a:chOff x="641520" y="1771560"/>
                <a:chExt cx="283680" cy="1936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41520" y="1771560"/>
                  <a:ext cx="28368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3360" y="1819800"/>
                  <a:ext cx="18180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977760" y="1708200"/>
              <a:ext cx="2059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01         Infantry Div Tank Company, 39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001520" y="2438280"/>
              <a:ext cx="231480" cy="204840"/>
              <a:chOff x="1001520" y="2438280"/>
              <a:chExt cx="231480" cy="20484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1001520" y="2485800"/>
                <a:ext cx="231480" cy="157320"/>
                <a:chOff x="1001520" y="2485800"/>
                <a:chExt cx="231480" cy="1573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01520" y="248580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44000" y="252504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078920" y="2438280"/>
                <a:ext cx="73800" cy="27000"/>
                <a:chOff x="1078920" y="2438280"/>
                <a:chExt cx="73800" cy="270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078920" y="24382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26080" y="24382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" name=""/>
            <p:cNvGrpSpPr/>
            <p:nvPr/>
          </p:nvGrpSpPr>
          <p:grpSpPr>
            <a:xfrm>
              <a:off x="998280" y="2179800"/>
              <a:ext cx="231480" cy="202680"/>
              <a:chOff x="998280" y="2179800"/>
              <a:chExt cx="231480" cy="202680"/>
            </a:xfrm>
          </p:grpSpPr>
          <p:sp>
            <p:nvSpPr>
              <p:cNvPr id="239" name=""/>
              <p:cNvSpPr/>
              <p:nvPr/>
            </p:nvSpPr>
            <p:spPr>
              <a:xfrm>
                <a:off x="1101240" y="21798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998280" y="2225520"/>
                <a:ext cx="231480" cy="156960"/>
                <a:chOff x="998280" y="2225520"/>
                <a:chExt cx="231480" cy="1569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998280" y="2225520"/>
                  <a:ext cx="23148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040760" y="226476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1001520" y="2712960"/>
              <a:ext cx="231480" cy="204840"/>
              <a:chOff x="1001520" y="2712960"/>
              <a:chExt cx="231480" cy="20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1001520" y="2760480"/>
                <a:ext cx="231480" cy="157320"/>
                <a:chOff x="1001520" y="2760480"/>
                <a:chExt cx="231480" cy="157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001520" y="276048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44000" y="279972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078920" y="2712960"/>
                <a:ext cx="73800" cy="27000"/>
                <a:chOff x="1078920" y="2712960"/>
                <a:chExt cx="73800" cy="270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1078920" y="2712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26080" y="27129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276200" y="2075040"/>
              <a:ext cx="99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93480" y="224172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87000" y="248904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       JA-0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76200" y="2755800"/>
              <a:ext cx="20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0200" y="1028880"/>
            <a:ext cx="25686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ese Armor is organized so that one stand represents approximately 1 stand=3 actual vehicles. This does not always divide precisely into the platoon organization. Where a discrepancy exists, the 1:3 ratio took preced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520" y="3209760"/>
            <a:ext cx="2745720" cy="1209960"/>
            <a:chOff x="641520" y="3209760"/>
            <a:chExt cx="2745720" cy="1209960"/>
          </a:xfrm>
        </p:grpSpPr>
        <p:sp>
          <p:nvSpPr>
            <p:cNvPr id="256" name=""/>
            <p:cNvSpPr/>
            <p:nvPr/>
          </p:nvSpPr>
          <p:spPr>
            <a:xfrm>
              <a:off x="782640" y="334476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2640" y="4352760"/>
              <a:ext cx="34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2640" y="4065480"/>
              <a:ext cx="38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2640" y="3813120"/>
              <a:ext cx="37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41520" y="3209760"/>
              <a:ext cx="284040" cy="257040"/>
              <a:chOff x="641520" y="3209760"/>
              <a:chExt cx="284040" cy="257040"/>
            </a:xfrm>
          </p:grpSpPr>
          <p:sp>
            <p:nvSpPr>
              <p:cNvPr id="261" name=""/>
              <p:cNvSpPr/>
              <p:nvPr/>
            </p:nvSpPr>
            <p:spPr>
              <a:xfrm>
                <a:off x="784080" y="3209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41520" y="3273120"/>
                <a:ext cx="284040" cy="193680"/>
                <a:chOff x="641520" y="3273120"/>
                <a:chExt cx="284040" cy="1936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41520" y="327312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93360" y="3321360"/>
                  <a:ext cx="18216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977760" y="3209760"/>
              <a:ext cx="2284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04              Armored Div Tank Company, 39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01520" y="3940200"/>
              <a:ext cx="231480" cy="204840"/>
              <a:chOff x="1001520" y="3940200"/>
              <a:chExt cx="231480" cy="2048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1001520" y="3987720"/>
                <a:ext cx="231480" cy="157320"/>
                <a:chOff x="1001520" y="3987720"/>
                <a:chExt cx="231480" cy="157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01520" y="398772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044000" y="402696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078920" y="3940200"/>
                <a:ext cx="73800" cy="27000"/>
                <a:chOff x="1078920" y="3940200"/>
                <a:chExt cx="73800" cy="27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078920" y="3940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126080" y="39402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998280" y="3681360"/>
              <a:ext cx="231480" cy="203400"/>
              <a:chOff x="998280" y="3681360"/>
              <a:chExt cx="231480" cy="203400"/>
            </a:xfrm>
          </p:grpSpPr>
          <p:sp>
            <p:nvSpPr>
              <p:cNvPr id="274" name=""/>
              <p:cNvSpPr/>
              <p:nvPr/>
            </p:nvSpPr>
            <p:spPr>
              <a:xfrm>
                <a:off x="1101240" y="36813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998280" y="3727440"/>
                <a:ext cx="231480" cy="157320"/>
                <a:chOff x="998280" y="3727440"/>
                <a:chExt cx="231480" cy="1573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998280" y="372744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040760" y="376668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1001520" y="4214880"/>
              <a:ext cx="231480" cy="204840"/>
              <a:chOff x="1001520" y="4214880"/>
              <a:chExt cx="231480" cy="2048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001520" y="4262400"/>
                <a:ext cx="231480" cy="157320"/>
                <a:chOff x="1001520" y="4262400"/>
                <a:chExt cx="231480" cy="157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001520" y="426240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044000" y="430164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078920" y="4214880"/>
                <a:ext cx="73800" cy="27000"/>
                <a:chOff x="1078920" y="4214880"/>
                <a:chExt cx="73800" cy="27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078920" y="4214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126080" y="4214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1276200" y="357660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93840" y="3743280"/>
              <a:ext cx="20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87360" y="3990960"/>
              <a:ext cx="20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       JA-0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76200" y="4257720"/>
              <a:ext cx="20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68800" y="1708200"/>
            <a:ext cx="2746080" cy="934920"/>
            <a:chOff x="3268800" y="1708200"/>
            <a:chExt cx="2746080" cy="934920"/>
          </a:xfrm>
        </p:grpSpPr>
        <p:sp>
          <p:nvSpPr>
            <p:cNvPr id="290" name=""/>
            <p:cNvSpPr/>
            <p:nvPr/>
          </p:nvSpPr>
          <p:spPr>
            <a:xfrm>
              <a:off x="3409920" y="179532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09920" y="256392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920" y="231156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268800" y="1708200"/>
              <a:ext cx="284040" cy="257040"/>
              <a:chOff x="3268800" y="1708200"/>
              <a:chExt cx="284040" cy="257040"/>
            </a:xfrm>
          </p:grpSpPr>
          <p:sp>
            <p:nvSpPr>
              <p:cNvPr id="294" name=""/>
              <p:cNvSpPr/>
              <p:nvPr/>
            </p:nvSpPr>
            <p:spPr>
              <a:xfrm>
                <a:off x="3411360" y="170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3268800" y="1771560"/>
                <a:ext cx="284040" cy="193680"/>
                <a:chOff x="3268800" y="1771560"/>
                <a:chExt cx="284040" cy="1936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268800" y="177156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320640" y="1819800"/>
                  <a:ext cx="18216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3605040" y="1708200"/>
              <a:ext cx="22244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02              Infantry Div Lt. Tank Company, 39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629160" y="2438280"/>
              <a:ext cx="231480" cy="204840"/>
              <a:chOff x="3629160" y="2438280"/>
              <a:chExt cx="231480" cy="20484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3629160" y="2485800"/>
                <a:ext cx="231480" cy="157320"/>
                <a:chOff x="3629160" y="2485800"/>
                <a:chExt cx="231480" cy="157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629160" y="248580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671640" y="252504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706560" y="2438280"/>
                <a:ext cx="73800" cy="27000"/>
                <a:chOff x="3706560" y="2438280"/>
                <a:chExt cx="73800" cy="27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706560" y="24382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753720" y="24382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3625920" y="2179800"/>
              <a:ext cx="231840" cy="202680"/>
              <a:chOff x="3625920" y="2179800"/>
              <a:chExt cx="231840" cy="2026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29240" y="21798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3625920" y="2225520"/>
                <a:ext cx="231840" cy="156960"/>
                <a:chOff x="3625920" y="2225520"/>
                <a:chExt cx="231840" cy="156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625920" y="222552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668400" y="226476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3903840" y="207504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1120" y="224172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JA-0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14640" y="248904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JA-0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268800" y="3209760"/>
            <a:ext cx="2746080" cy="935280"/>
            <a:chOff x="3268800" y="3209760"/>
            <a:chExt cx="2746080" cy="935280"/>
          </a:xfrm>
        </p:grpSpPr>
        <p:sp>
          <p:nvSpPr>
            <p:cNvPr id="315" name=""/>
            <p:cNvSpPr/>
            <p:nvPr/>
          </p:nvSpPr>
          <p:spPr>
            <a:xfrm>
              <a:off x="3409920" y="329724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02000" y="405756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09920" y="381312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3268800" y="3209760"/>
              <a:ext cx="284040" cy="257040"/>
              <a:chOff x="3268800" y="3209760"/>
              <a:chExt cx="284040" cy="257040"/>
            </a:xfrm>
          </p:grpSpPr>
          <p:sp>
            <p:nvSpPr>
              <p:cNvPr id="319" name=""/>
              <p:cNvSpPr/>
              <p:nvPr/>
            </p:nvSpPr>
            <p:spPr>
              <a:xfrm>
                <a:off x="3411360" y="3209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3268800" y="3273120"/>
                <a:ext cx="284040" cy="193680"/>
                <a:chOff x="3268800" y="3273120"/>
                <a:chExt cx="284040" cy="1936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268800" y="327312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320640" y="3321360"/>
                  <a:ext cx="18216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3605040" y="3209760"/>
              <a:ext cx="24037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05                 Armored Div Lt. Tank Company, 39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629160" y="3940200"/>
              <a:ext cx="231480" cy="204840"/>
              <a:chOff x="3629160" y="3940200"/>
              <a:chExt cx="231480" cy="20484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3629160" y="3987720"/>
                <a:ext cx="231480" cy="157320"/>
                <a:chOff x="3629160" y="3987720"/>
                <a:chExt cx="231480" cy="157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629160" y="398772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71640" y="402696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706560" y="3940200"/>
                <a:ext cx="73800" cy="27000"/>
                <a:chOff x="3706560" y="3940200"/>
                <a:chExt cx="73800" cy="270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706560" y="3940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753720" y="39402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3625920" y="3681360"/>
              <a:ext cx="231840" cy="203400"/>
              <a:chOff x="3625920" y="3681360"/>
              <a:chExt cx="231840" cy="203400"/>
            </a:xfrm>
          </p:grpSpPr>
          <p:sp>
            <p:nvSpPr>
              <p:cNvPr id="332" name=""/>
              <p:cNvSpPr/>
              <p:nvPr/>
            </p:nvSpPr>
            <p:spPr>
              <a:xfrm>
                <a:off x="3729240" y="3681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3625920" y="3727440"/>
                <a:ext cx="231840" cy="157320"/>
                <a:chOff x="3625920" y="3727440"/>
                <a:chExt cx="231840" cy="1573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625920" y="372744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68400" y="376668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3903840" y="357660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21120" y="374328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JA-0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14640" y="399096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JA-0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1520" y="4572000"/>
            <a:ext cx="2746080" cy="1209600"/>
            <a:chOff x="641520" y="4572000"/>
            <a:chExt cx="2746080" cy="1209600"/>
          </a:xfrm>
        </p:grpSpPr>
        <p:sp>
          <p:nvSpPr>
            <p:cNvPr id="340" name=""/>
            <p:cNvSpPr/>
            <p:nvPr/>
          </p:nvSpPr>
          <p:spPr>
            <a:xfrm>
              <a:off x="782640" y="470700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2640" y="571500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2640" y="5427720"/>
              <a:ext cx="38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2640" y="5175360"/>
              <a:ext cx="37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41520" y="4572000"/>
              <a:ext cx="284040" cy="257040"/>
              <a:chOff x="641520" y="4572000"/>
              <a:chExt cx="284040" cy="257040"/>
            </a:xfrm>
          </p:grpSpPr>
          <p:sp>
            <p:nvSpPr>
              <p:cNvPr id="345" name=""/>
              <p:cNvSpPr/>
              <p:nvPr/>
            </p:nvSpPr>
            <p:spPr>
              <a:xfrm>
                <a:off x="784080" y="4572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641520" y="4635360"/>
                <a:ext cx="284040" cy="193680"/>
                <a:chOff x="641520" y="4635360"/>
                <a:chExt cx="284040" cy="1936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41520" y="463536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93360" y="4683600"/>
                  <a:ext cx="182160" cy="9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9" name=""/>
            <p:cNvSpPr/>
            <p:nvPr/>
          </p:nvSpPr>
          <p:spPr>
            <a:xfrm>
              <a:off x="977760" y="4572000"/>
              <a:ext cx="228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06             Independent Tank Company, 39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001880" y="5302080"/>
              <a:ext cx="231480" cy="204840"/>
              <a:chOff x="1001880" y="5302080"/>
              <a:chExt cx="231480" cy="20484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1001880" y="5349600"/>
                <a:ext cx="231480" cy="157320"/>
                <a:chOff x="1001880" y="5349600"/>
                <a:chExt cx="231480" cy="1573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001880" y="534960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044360" y="538884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079280" y="5302080"/>
                <a:ext cx="73800" cy="27000"/>
                <a:chOff x="1079280" y="5302080"/>
                <a:chExt cx="73800" cy="270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079280" y="5302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126440" y="53020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998640" y="5043600"/>
              <a:ext cx="231840" cy="202680"/>
              <a:chOff x="998640" y="5043600"/>
              <a:chExt cx="231840" cy="202680"/>
            </a:xfrm>
          </p:grpSpPr>
          <p:sp>
            <p:nvSpPr>
              <p:cNvPr id="358" name=""/>
              <p:cNvSpPr/>
              <p:nvPr/>
            </p:nvSpPr>
            <p:spPr>
              <a:xfrm>
                <a:off x="1101960" y="5043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998640" y="5089320"/>
                <a:ext cx="231840" cy="156960"/>
                <a:chOff x="998640" y="5089320"/>
                <a:chExt cx="231840" cy="1569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998640" y="508932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041120" y="5128560"/>
                  <a:ext cx="14868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1001880" y="5576760"/>
              <a:ext cx="231480" cy="204840"/>
              <a:chOff x="1001880" y="5576760"/>
              <a:chExt cx="231480" cy="2048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1001880" y="5624280"/>
                <a:ext cx="231480" cy="157320"/>
                <a:chOff x="1001880" y="5624280"/>
                <a:chExt cx="231480" cy="1573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001880" y="562428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044360" y="5663520"/>
                  <a:ext cx="148320" cy="74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079280" y="5576760"/>
                <a:ext cx="73800" cy="27000"/>
                <a:chOff x="1079280" y="5576760"/>
                <a:chExt cx="73800" cy="270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079280" y="5576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126440" y="5576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9" name=""/>
            <p:cNvSpPr/>
            <p:nvPr/>
          </p:nvSpPr>
          <p:spPr>
            <a:xfrm>
              <a:off x="1276200" y="493884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93840" y="510552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87360" y="535320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ank              JA-04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6200" y="561960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ank         JA-05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08800" y="228924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ank       JA-04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08800" y="253692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ank       JA-04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06960" y="179532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06960" y="2556000"/>
            <a:ext cx="38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06960" y="231156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865840" y="1708200"/>
            <a:ext cx="284040" cy="257040"/>
            <a:chOff x="5865840" y="1708200"/>
            <a:chExt cx="284040" cy="257040"/>
          </a:xfrm>
        </p:grpSpPr>
        <p:sp>
          <p:nvSpPr>
            <p:cNvPr id="379" name=""/>
            <p:cNvSpPr/>
            <p:nvPr/>
          </p:nvSpPr>
          <p:spPr>
            <a:xfrm>
              <a:off x="6008400" y="1708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865840" y="1771560"/>
              <a:ext cx="284040" cy="193680"/>
              <a:chOff x="5865840" y="1771560"/>
              <a:chExt cx="284040" cy="193680"/>
            </a:xfrm>
          </p:grpSpPr>
          <p:sp>
            <p:nvSpPr>
              <p:cNvPr id="381" name=""/>
              <p:cNvSpPr/>
              <p:nvPr/>
            </p:nvSpPr>
            <p:spPr>
              <a:xfrm>
                <a:off x="5865840" y="1771560"/>
                <a:ext cx="28404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17680" y="1819800"/>
                <a:ext cx="182160" cy="9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6202440" y="1708200"/>
            <a:ext cx="2035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03                 Recce Tankette Company, 39-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226200" y="2438280"/>
            <a:ext cx="231840" cy="204840"/>
            <a:chOff x="6226200" y="2438280"/>
            <a:chExt cx="231840" cy="204840"/>
          </a:xfrm>
        </p:grpSpPr>
        <p:grpSp>
          <p:nvGrpSpPr>
            <p:cNvPr id="385" name=""/>
            <p:cNvGrpSpPr/>
            <p:nvPr/>
          </p:nvGrpSpPr>
          <p:grpSpPr>
            <a:xfrm>
              <a:off x="6226200" y="2485800"/>
              <a:ext cx="231840" cy="157320"/>
              <a:chOff x="6226200" y="2485800"/>
              <a:chExt cx="231840" cy="1573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6200" y="248580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68680" y="2525040"/>
                <a:ext cx="14868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03960" y="2438280"/>
              <a:ext cx="74160" cy="27000"/>
              <a:chOff x="6303960" y="2438280"/>
              <a:chExt cx="74160" cy="27000"/>
            </a:xfrm>
          </p:grpSpPr>
          <p:sp>
            <p:nvSpPr>
              <p:cNvPr id="389" name=""/>
              <p:cNvSpPr/>
              <p:nvPr/>
            </p:nvSpPr>
            <p:spPr>
              <a:xfrm>
                <a:off x="6303960" y="2438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51480" y="2438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6222960" y="2179800"/>
            <a:ext cx="231840" cy="202680"/>
            <a:chOff x="6222960" y="2179800"/>
            <a:chExt cx="231840" cy="202680"/>
          </a:xfrm>
        </p:grpSpPr>
        <p:sp>
          <p:nvSpPr>
            <p:cNvPr id="392" name=""/>
            <p:cNvSpPr/>
            <p:nvPr/>
          </p:nvSpPr>
          <p:spPr>
            <a:xfrm>
              <a:off x="6326280" y="21798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222960" y="2225520"/>
              <a:ext cx="231840" cy="156960"/>
              <a:chOff x="6222960" y="2225520"/>
              <a:chExt cx="231840" cy="156960"/>
            </a:xfrm>
          </p:grpSpPr>
          <p:sp>
            <p:nvSpPr>
              <p:cNvPr id="394" name=""/>
              <p:cNvSpPr/>
              <p:nvPr/>
            </p:nvSpPr>
            <p:spPr>
              <a:xfrm>
                <a:off x="6222960" y="22255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65440" y="2264760"/>
                <a:ext cx="14868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"/>
          <p:cNvSpPr/>
          <p:nvPr/>
        </p:nvSpPr>
        <p:spPr>
          <a:xfrm>
            <a:off x="6508800" y="213840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/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49880" y="2738520"/>
            <a:ext cx="139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an Infantry Division’s Reconnaissance Regi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08800" y="2419200"/>
            <a:ext cx="809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29160" y="4419720"/>
            <a:ext cx="32511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 Tanks could be Type 89-Yi-Go JA-04, Type 97-Chi-Ha JA-05, Type 97-Shinoto Chi-Ha JA-06, or Type 1-Chi-He JA-P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 Tanks could be Type-94-Tankette JA-01, Type 97-Te-Ke JA-02, Type 98-Ha-Go JA-03, or Type 98-Ke-Ni JA-P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865840" y="1771560"/>
            <a:ext cx="284040" cy="193680"/>
          </a:xfrm>
          <a:prstGeom prst="line">
            <a:avLst/>
          </a:prstGeom>
          <a:ln w="6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93640" y="4611600"/>
            <a:ext cx="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panese Infantry Orga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-33480" y="-595440"/>
            <a:ext cx="74520" cy="28800"/>
            <a:chOff x="-33480" y="-595440"/>
            <a:chExt cx="74520" cy="28800"/>
          </a:xfrm>
        </p:grpSpPr>
        <p:sp>
          <p:nvSpPr>
            <p:cNvPr id="404" name=""/>
            <p:cNvSpPr/>
            <p:nvPr/>
          </p:nvSpPr>
          <p:spPr>
            <a:xfrm>
              <a:off x="-33480" y="-595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40" y="-593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3080" y="654120"/>
            <a:ext cx="2517840" cy="1119240"/>
            <a:chOff x="73080" y="654120"/>
            <a:chExt cx="2517840" cy="1119240"/>
          </a:xfrm>
        </p:grpSpPr>
        <p:sp>
          <p:nvSpPr>
            <p:cNvPr id="407" name=""/>
            <p:cNvSpPr/>
            <p:nvPr/>
          </p:nvSpPr>
          <p:spPr>
            <a:xfrm>
              <a:off x="528480" y="654120"/>
              <a:ext cx="2062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 07        Infantry Company Type A, B 39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7440" y="825480"/>
              <a:ext cx="0" cy="857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1960" y="13176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9240" y="138096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1320" y="150192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1960" y="107172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28800" y="94140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28480" y="1263600"/>
              <a:ext cx="231840" cy="206280"/>
              <a:chOff x="528480" y="1263600"/>
              <a:chExt cx="231840" cy="20628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610920" y="1263600"/>
                <a:ext cx="74520" cy="28080"/>
                <a:chOff x="610920" y="1263600"/>
                <a:chExt cx="74520" cy="28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10920" y="1263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58440" y="1265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528480" y="1312560"/>
                <a:ext cx="231840" cy="157320"/>
                <a:chOff x="528480" y="1312560"/>
                <a:chExt cx="231840" cy="1573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28480" y="131256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530640" y="131436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28480" y="131472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" name=""/>
            <p:cNvSpPr/>
            <p:nvPr/>
          </p:nvSpPr>
          <p:spPr>
            <a:xfrm>
              <a:off x="222120" y="110952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3080" y="685800"/>
              <a:ext cx="284040" cy="258840"/>
              <a:chOff x="73080" y="685800"/>
              <a:chExt cx="284040" cy="258840"/>
            </a:xfrm>
          </p:grpSpPr>
          <p:sp>
            <p:nvSpPr>
              <p:cNvPr id="424" name=""/>
              <p:cNvSpPr/>
              <p:nvPr/>
            </p:nvSpPr>
            <p:spPr>
              <a:xfrm>
                <a:off x="217080" y="685800"/>
                <a:ext cx="144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73080" y="750960"/>
                <a:ext cx="284040" cy="193680"/>
                <a:chOff x="73080" y="750960"/>
                <a:chExt cx="284040" cy="1936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3080" y="75096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75960" y="75384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3080" y="75384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"/>
            <p:cNvGrpSpPr/>
            <p:nvPr/>
          </p:nvGrpSpPr>
          <p:grpSpPr>
            <a:xfrm>
              <a:off x="528480" y="1000080"/>
              <a:ext cx="237960" cy="200160"/>
              <a:chOff x="528480" y="1000080"/>
              <a:chExt cx="237960" cy="200160"/>
            </a:xfrm>
          </p:grpSpPr>
          <p:sp>
            <p:nvSpPr>
              <p:cNvPr id="430" name=""/>
              <p:cNvSpPr/>
              <p:nvPr/>
            </p:nvSpPr>
            <p:spPr>
              <a:xfrm>
                <a:off x="633240" y="1000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28480" y="104292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20680" y="168444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22360" y="1552680"/>
              <a:ext cx="239760" cy="193680"/>
              <a:chOff x="522360" y="1552680"/>
              <a:chExt cx="239760" cy="19368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22360" y="1589400"/>
                <a:ext cx="239760" cy="156960"/>
                <a:chOff x="522360" y="1589400"/>
                <a:chExt cx="239760" cy="1569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22360" y="158940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06600" y="171468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38280" y="160956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04800" y="1552680"/>
                <a:ext cx="74520" cy="28800"/>
                <a:chOff x="604800" y="1552680"/>
                <a:chExt cx="74520" cy="288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4800" y="1552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2320" y="15544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828720" y="162072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76400" y="654120"/>
            <a:ext cx="2657520" cy="1346040"/>
            <a:chOff x="2876400" y="654120"/>
            <a:chExt cx="2657520" cy="1346040"/>
          </a:xfrm>
        </p:grpSpPr>
        <p:sp>
          <p:nvSpPr>
            <p:cNvPr id="443" name=""/>
            <p:cNvSpPr/>
            <p:nvPr/>
          </p:nvSpPr>
          <p:spPr>
            <a:xfrm>
              <a:off x="3016080" y="1641240"/>
              <a:ext cx="343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20760" y="838080"/>
              <a:ext cx="0" cy="107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5280" y="132192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22560" y="1385640"/>
              <a:ext cx="3427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4640" y="172044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35280" y="10836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2120" y="95364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332160" y="1268280"/>
              <a:ext cx="231480" cy="205560"/>
              <a:chOff x="3332160" y="1268280"/>
              <a:chExt cx="231480" cy="20556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3414240" y="1268280"/>
                <a:ext cx="73800" cy="27720"/>
                <a:chOff x="3414240" y="1268280"/>
                <a:chExt cx="73800" cy="277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414240" y="1268280"/>
                  <a:ext cx="2808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461400" y="1269720"/>
                  <a:ext cx="266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3332160" y="1316880"/>
                <a:ext cx="231480" cy="156960"/>
                <a:chOff x="3332160" y="1316880"/>
                <a:chExt cx="231480" cy="1569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332160" y="1316880"/>
                  <a:ext cx="23148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3334320" y="131904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332160" y="131904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8" name=""/>
            <p:cNvSpPr/>
            <p:nvPr/>
          </p:nvSpPr>
          <p:spPr>
            <a:xfrm>
              <a:off x="3025440" y="1122120"/>
              <a:ext cx="3002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876400" y="698400"/>
              <a:ext cx="284040" cy="257760"/>
              <a:chOff x="2876400" y="698400"/>
              <a:chExt cx="284040" cy="257760"/>
            </a:xfrm>
          </p:grpSpPr>
          <p:sp>
            <p:nvSpPr>
              <p:cNvPr id="460" name=""/>
              <p:cNvSpPr/>
              <p:nvPr/>
            </p:nvSpPr>
            <p:spPr>
              <a:xfrm>
                <a:off x="3020400" y="69840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2876400" y="763200"/>
                <a:ext cx="284040" cy="192960"/>
                <a:chOff x="2876400" y="763200"/>
                <a:chExt cx="284040" cy="1929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876400" y="763200"/>
                  <a:ext cx="284040" cy="19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2879280" y="766080"/>
                  <a:ext cx="276480" cy="188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876400" y="766080"/>
                  <a:ext cx="282600" cy="1839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3332160" y="1012680"/>
              <a:ext cx="237960" cy="199080"/>
              <a:chOff x="3332160" y="1012680"/>
              <a:chExt cx="237960" cy="199080"/>
            </a:xfrm>
          </p:grpSpPr>
          <p:sp>
            <p:nvSpPr>
              <p:cNvPr id="466" name=""/>
              <p:cNvSpPr/>
              <p:nvPr/>
            </p:nvSpPr>
            <p:spPr>
              <a:xfrm>
                <a:off x="3436920" y="1012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32160" y="1055160"/>
                <a:ext cx="237960" cy="15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3024000" y="1911240"/>
              <a:ext cx="343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325680" y="1779480"/>
              <a:ext cx="239760" cy="192960"/>
              <a:chOff x="3325680" y="1779480"/>
              <a:chExt cx="239760" cy="19296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3325680" y="1815840"/>
                <a:ext cx="239760" cy="156600"/>
                <a:chOff x="3325680" y="1815840"/>
                <a:chExt cx="239760" cy="1566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325680" y="1815840"/>
                  <a:ext cx="239760" cy="156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409920" y="194076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441600" y="1836000"/>
                  <a:ext cx="0" cy="1058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408120" y="1779480"/>
                <a:ext cx="74520" cy="28080"/>
                <a:chOff x="3408120" y="1779480"/>
                <a:chExt cx="74520" cy="280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08120" y="1779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455640" y="1780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3632040" y="184752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332160" y="1512720"/>
              <a:ext cx="237960" cy="212040"/>
              <a:chOff x="3332160" y="1512720"/>
              <a:chExt cx="237960" cy="21204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3332160" y="1561680"/>
                <a:ext cx="237960" cy="163080"/>
                <a:chOff x="3332160" y="1561680"/>
                <a:chExt cx="237960" cy="163080"/>
              </a:xfrm>
            </p:grpSpPr>
            <p:grpSp>
              <p:nvGrpSpPr>
                <p:cNvPr id="480" name=""/>
                <p:cNvGrpSpPr/>
                <p:nvPr/>
              </p:nvGrpSpPr>
              <p:grpSpPr>
                <a:xfrm>
                  <a:off x="3332160" y="1561680"/>
                  <a:ext cx="237960" cy="163080"/>
                  <a:chOff x="3332160" y="1561680"/>
                  <a:chExt cx="237960" cy="163080"/>
                </a:xfrm>
              </p:grpSpPr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3332160" y="1561680"/>
                    <a:ext cx="237960" cy="163080"/>
                    <a:chOff x="3332160" y="1561680"/>
                    <a:chExt cx="237960" cy="163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3332160" y="1561680"/>
                      <a:ext cx="237960" cy="163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3332160" y="1561680"/>
                      <a:ext cx="237960" cy="1598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4" name=""/>
                  <p:cNvSpPr/>
                  <p:nvPr/>
                </p:nvSpPr>
                <p:spPr>
                  <a:xfrm>
                    <a:off x="3332160" y="1564560"/>
                    <a:ext cx="237960" cy="15984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5" name=""/>
                <p:cNvSpPr/>
                <p:nvPr/>
              </p:nvSpPr>
              <p:spPr>
                <a:xfrm>
                  <a:off x="3332160" y="1561680"/>
                  <a:ext cx="59760" cy="15984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416040" y="1512720"/>
                <a:ext cx="74520" cy="28080"/>
                <a:chOff x="3416040" y="1512720"/>
                <a:chExt cx="74520" cy="280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416040" y="15127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463560" y="15141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" name=""/>
            <p:cNvSpPr/>
            <p:nvPr/>
          </p:nvSpPr>
          <p:spPr>
            <a:xfrm>
              <a:off x="3635280" y="156636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33600" y="654120"/>
              <a:ext cx="220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 08            Infantry Company Type A(alt) 43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1760" y="190008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6440" y="164772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21480" y="828720"/>
            <a:ext cx="0" cy="161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35640" y="131292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    JA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22920" y="137628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45360" y="1989000"/>
            <a:ext cx="16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35640" y="109044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32480" y="9604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032520" y="1258920"/>
            <a:ext cx="231840" cy="206280"/>
            <a:chOff x="6032520" y="1258920"/>
            <a:chExt cx="231840" cy="206280"/>
          </a:xfrm>
        </p:grpSpPr>
        <p:grpSp>
          <p:nvGrpSpPr>
            <p:cNvPr id="500" name=""/>
            <p:cNvGrpSpPr/>
            <p:nvPr/>
          </p:nvGrpSpPr>
          <p:grpSpPr>
            <a:xfrm>
              <a:off x="6114960" y="1258920"/>
              <a:ext cx="74520" cy="28080"/>
              <a:chOff x="6114960" y="1258920"/>
              <a:chExt cx="74520" cy="2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6114960" y="1258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62480" y="1260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032520" y="1307880"/>
              <a:ext cx="231840" cy="157320"/>
              <a:chOff x="6032520" y="1307880"/>
              <a:chExt cx="231840" cy="157320"/>
            </a:xfrm>
          </p:grpSpPr>
          <p:sp>
            <p:nvSpPr>
              <p:cNvPr id="504" name=""/>
              <p:cNvSpPr/>
              <p:nvPr/>
            </p:nvSpPr>
            <p:spPr>
              <a:xfrm>
                <a:off x="6032520" y="130788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034680" y="1309680"/>
                <a:ext cx="22572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32520" y="131004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>
            <a:off x="5726160" y="112860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576760" y="704880"/>
            <a:ext cx="284400" cy="258840"/>
            <a:chOff x="5576760" y="704880"/>
            <a:chExt cx="284400" cy="258840"/>
          </a:xfrm>
        </p:grpSpPr>
        <p:sp>
          <p:nvSpPr>
            <p:cNvPr id="509" name=""/>
            <p:cNvSpPr/>
            <p:nvPr/>
          </p:nvSpPr>
          <p:spPr>
            <a:xfrm>
              <a:off x="5721120" y="704880"/>
              <a:ext cx="180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576760" y="770040"/>
              <a:ext cx="284400" cy="193680"/>
              <a:chOff x="5576760" y="770040"/>
              <a:chExt cx="284400" cy="193680"/>
            </a:xfrm>
          </p:grpSpPr>
          <p:sp>
            <p:nvSpPr>
              <p:cNvPr id="511" name=""/>
              <p:cNvSpPr/>
              <p:nvPr/>
            </p:nvSpPr>
            <p:spPr>
              <a:xfrm>
                <a:off x="5576760" y="770040"/>
                <a:ext cx="28440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579640" y="772920"/>
                <a:ext cx="276840" cy="189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576760" y="772920"/>
                <a:ext cx="282960" cy="1846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6032520" y="1019160"/>
            <a:ext cx="237960" cy="200160"/>
            <a:chOff x="6032520" y="1019160"/>
            <a:chExt cx="237960" cy="200160"/>
          </a:xfrm>
        </p:grpSpPr>
        <p:sp>
          <p:nvSpPr>
            <p:cNvPr id="515" name=""/>
            <p:cNvSpPr/>
            <p:nvPr/>
          </p:nvSpPr>
          <p:spPr>
            <a:xfrm>
              <a:off x="6137280" y="1019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32520" y="106200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724360" y="215568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026040" y="2055960"/>
            <a:ext cx="239760" cy="193680"/>
            <a:chOff x="6026040" y="2055960"/>
            <a:chExt cx="239760" cy="193680"/>
          </a:xfrm>
        </p:grpSpPr>
        <p:grpSp>
          <p:nvGrpSpPr>
            <p:cNvPr id="519" name=""/>
            <p:cNvGrpSpPr/>
            <p:nvPr/>
          </p:nvGrpSpPr>
          <p:grpSpPr>
            <a:xfrm>
              <a:off x="6026040" y="2092680"/>
              <a:ext cx="239760" cy="156960"/>
              <a:chOff x="6026040" y="2092680"/>
              <a:chExt cx="239760" cy="156960"/>
            </a:xfrm>
          </p:grpSpPr>
          <p:sp>
            <p:nvSpPr>
              <p:cNvPr id="520" name=""/>
              <p:cNvSpPr/>
              <p:nvPr/>
            </p:nvSpPr>
            <p:spPr>
              <a:xfrm>
                <a:off x="6026040" y="209268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10280" y="2217960"/>
                <a:ext cx="680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41960" y="2112840"/>
                <a:ext cx="0" cy="106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108480" y="2055960"/>
              <a:ext cx="74520" cy="28800"/>
              <a:chOff x="6108480" y="2055960"/>
              <a:chExt cx="74520" cy="28800"/>
            </a:xfrm>
          </p:grpSpPr>
          <p:sp>
            <p:nvSpPr>
              <p:cNvPr id="524" name=""/>
              <p:cNvSpPr/>
              <p:nvPr/>
            </p:nvSpPr>
            <p:spPr>
              <a:xfrm>
                <a:off x="6108480" y="2055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156000" y="2057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6332400" y="2116080"/>
            <a:ext cx="17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enade Discharger JA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32520" y="1527120"/>
            <a:ext cx="237960" cy="204840"/>
            <a:chOff x="6032520" y="1527120"/>
            <a:chExt cx="237960" cy="204840"/>
          </a:xfrm>
        </p:grpSpPr>
        <p:grpSp>
          <p:nvGrpSpPr>
            <p:cNvPr id="528" name=""/>
            <p:cNvGrpSpPr/>
            <p:nvPr/>
          </p:nvGrpSpPr>
          <p:grpSpPr>
            <a:xfrm>
              <a:off x="6032520" y="1568160"/>
              <a:ext cx="237960" cy="163800"/>
              <a:chOff x="6032520" y="1568160"/>
              <a:chExt cx="237960" cy="16380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32520" y="1568160"/>
                <a:ext cx="237960" cy="163800"/>
                <a:chOff x="6032520" y="1568160"/>
                <a:chExt cx="237960" cy="16380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6032520" y="1568160"/>
                  <a:ext cx="237960" cy="163800"/>
                  <a:chOff x="6032520" y="1568160"/>
                  <a:chExt cx="237960" cy="16380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6032520" y="1568520"/>
                    <a:ext cx="237960" cy="163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V="1">
                    <a:off x="6032520" y="156816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6032520" y="1571400"/>
                  <a:ext cx="237960" cy="160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6032520" y="1568520"/>
                <a:ext cx="59760" cy="160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116760" y="1527120"/>
              <a:ext cx="74520" cy="28800"/>
              <a:chOff x="6116760" y="1527120"/>
              <a:chExt cx="74520" cy="28800"/>
            </a:xfrm>
          </p:grpSpPr>
          <p:sp>
            <p:nvSpPr>
              <p:cNvPr id="536" name=""/>
              <p:cNvSpPr/>
              <p:nvPr/>
            </p:nvSpPr>
            <p:spPr>
              <a:xfrm>
                <a:off x="6116760" y="1527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164280" y="1528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"/>
          <p:cNvSpPr/>
          <p:nvPr/>
        </p:nvSpPr>
        <p:spPr>
          <a:xfrm>
            <a:off x="6335640" y="157320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MG                         JA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26160" y="244332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035760" y="2303640"/>
            <a:ext cx="239760" cy="192960"/>
            <a:chOff x="6035760" y="2303640"/>
            <a:chExt cx="239760" cy="192960"/>
          </a:xfrm>
        </p:grpSpPr>
        <p:grpSp>
          <p:nvGrpSpPr>
            <p:cNvPr id="541" name=""/>
            <p:cNvGrpSpPr/>
            <p:nvPr/>
          </p:nvGrpSpPr>
          <p:grpSpPr>
            <a:xfrm>
              <a:off x="6035760" y="2340000"/>
              <a:ext cx="239760" cy="156600"/>
              <a:chOff x="6035760" y="2340000"/>
              <a:chExt cx="239760" cy="156600"/>
            </a:xfrm>
          </p:grpSpPr>
          <p:sp>
            <p:nvSpPr>
              <p:cNvPr id="542" name=""/>
              <p:cNvSpPr/>
              <p:nvPr/>
            </p:nvSpPr>
            <p:spPr>
              <a:xfrm>
                <a:off x="6035760" y="2340000"/>
                <a:ext cx="239760" cy="15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120000" y="2464920"/>
                <a:ext cx="680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151680" y="2360160"/>
                <a:ext cx="0" cy="105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118200" y="2303640"/>
              <a:ext cx="74520" cy="28080"/>
              <a:chOff x="6118200" y="2303640"/>
              <a:chExt cx="74520" cy="2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6118200" y="2303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165720" y="2305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>
            <a:off x="6350040" y="2340000"/>
            <a:ext cx="170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1mm Mortar            JA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031080" y="1785960"/>
            <a:ext cx="231480" cy="200160"/>
            <a:chOff x="6031080" y="1785960"/>
            <a:chExt cx="231480" cy="200160"/>
          </a:xfrm>
        </p:grpSpPr>
        <p:grpSp>
          <p:nvGrpSpPr>
            <p:cNvPr id="550" name=""/>
            <p:cNvGrpSpPr/>
            <p:nvPr/>
          </p:nvGrpSpPr>
          <p:grpSpPr>
            <a:xfrm>
              <a:off x="6031080" y="1828800"/>
              <a:ext cx="231480" cy="157320"/>
              <a:chOff x="6031080" y="1828800"/>
              <a:chExt cx="231480" cy="157320"/>
            </a:xfrm>
          </p:grpSpPr>
          <p:sp>
            <p:nvSpPr>
              <p:cNvPr id="551" name=""/>
              <p:cNvSpPr/>
              <p:nvPr/>
            </p:nvSpPr>
            <p:spPr>
              <a:xfrm>
                <a:off x="6031080" y="1828800"/>
                <a:ext cx="23148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148440" y="1832040"/>
                <a:ext cx="11376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31080" y="1828800"/>
                <a:ext cx="114120" cy="154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102360" y="1785960"/>
              <a:ext cx="74520" cy="28800"/>
              <a:chOff x="6102360" y="1785960"/>
              <a:chExt cx="74520" cy="28800"/>
            </a:xfrm>
          </p:grpSpPr>
          <p:sp>
            <p:nvSpPr>
              <p:cNvPr id="555" name=""/>
              <p:cNvSpPr/>
              <p:nvPr/>
            </p:nvSpPr>
            <p:spPr>
              <a:xfrm>
                <a:off x="6102360" y="1785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49880" y="1787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6337440" y="182088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R                         JA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73920" y="654120"/>
            <a:ext cx="184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 09  Amphibious Rifle Co. 43-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3080" y="2508120"/>
            <a:ext cx="2873160" cy="1511640"/>
            <a:chOff x="73080" y="2508120"/>
            <a:chExt cx="2873160" cy="1511640"/>
          </a:xfrm>
        </p:grpSpPr>
        <p:sp>
          <p:nvSpPr>
            <p:cNvPr id="560" name=""/>
            <p:cNvSpPr/>
            <p:nvPr/>
          </p:nvSpPr>
          <p:spPr>
            <a:xfrm>
              <a:off x="212760" y="365292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7440" y="2928960"/>
              <a:ext cx="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1960" y="3317760"/>
              <a:ext cx="183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9240" y="338148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1320" y="374004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1960" y="309564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8800" y="296532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528480" y="3263760"/>
              <a:ext cx="231840" cy="206280"/>
              <a:chOff x="528480" y="3263760"/>
              <a:chExt cx="231840" cy="20628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610920" y="3263760"/>
                <a:ext cx="74520" cy="28080"/>
                <a:chOff x="610920" y="3263760"/>
                <a:chExt cx="74520" cy="28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610920" y="3263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58440" y="3265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528480" y="3312720"/>
                <a:ext cx="231840" cy="157320"/>
                <a:chOff x="528480" y="3312720"/>
                <a:chExt cx="231840" cy="1573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528480" y="331272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V="1">
                  <a:off x="530640" y="331452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28480" y="33148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5" name=""/>
            <p:cNvSpPr/>
            <p:nvPr/>
          </p:nvSpPr>
          <p:spPr>
            <a:xfrm>
              <a:off x="222120" y="313380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73080" y="2709720"/>
              <a:ext cx="284040" cy="258840"/>
              <a:chOff x="73080" y="2709720"/>
              <a:chExt cx="284040" cy="258840"/>
            </a:xfrm>
          </p:grpSpPr>
          <p:sp>
            <p:nvSpPr>
              <p:cNvPr id="577" name=""/>
              <p:cNvSpPr/>
              <p:nvPr/>
            </p:nvSpPr>
            <p:spPr>
              <a:xfrm>
                <a:off x="217080" y="2709720"/>
                <a:ext cx="144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73080" y="2774880"/>
                <a:ext cx="284040" cy="193680"/>
                <a:chOff x="73080" y="2774880"/>
                <a:chExt cx="284040" cy="1936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3080" y="277488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>
                  <a:off x="75960" y="277776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3080" y="277776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528480" y="3024360"/>
              <a:ext cx="237960" cy="199440"/>
              <a:chOff x="528480" y="3024360"/>
              <a:chExt cx="237960" cy="199440"/>
            </a:xfrm>
          </p:grpSpPr>
          <p:sp>
            <p:nvSpPr>
              <p:cNvPr id="583" name=""/>
              <p:cNvSpPr/>
              <p:nvPr/>
            </p:nvSpPr>
            <p:spPr>
              <a:xfrm>
                <a:off x="633240" y="3024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28480" y="306684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20680" y="389880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22360" y="3798720"/>
              <a:ext cx="239760" cy="193680"/>
              <a:chOff x="522360" y="3798720"/>
              <a:chExt cx="239760" cy="1936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522360" y="3835440"/>
                <a:ext cx="239760" cy="156960"/>
                <a:chOff x="522360" y="3835440"/>
                <a:chExt cx="239760" cy="156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522360" y="383544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06600" y="396072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38280" y="385560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604800" y="3798720"/>
                <a:ext cx="74520" cy="28800"/>
                <a:chOff x="604800" y="3798720"/>
                <a:chExt cx="74520" cy="288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604800" y="37987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52320" y="3800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828720" y="386712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528480" y="3532320"/>
              <a:ext cx="237960" cy="204120"/>
              <a:chOff x="528480" y="3532320"/>
              <a:chExt cx="237960" cy="204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528480" y="3573360"/>
                <a:ext cx="237960" cy="163080"/>
                <a:chOff x="528480" y="3573360"/>
                <a:chExt cx="237960" cy="16308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528480" y="3573360"/>
                  <a:ext cx="237960" cy="163080"/>
                  <a:chOff x="528480" y="3573360"/>
                  <a:chExt cx="237960" cy="16308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28480" y="3573360"/>
                    <a:ext cx="237960" cy="163080"/>
                    <a:chOff x="528480" y="3573360"/>
                    <a:chExt cx="237960" cy="16308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528480" y="3573360"/>
                      <a:ext cx="237960" cy="163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V="1">
                      <a:off x="528480" y="3573360"/>
                      <a:ext cx="237960" cy="1598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528480" y="3576240"/>
                    <a:ext cx="237960" cy="15984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528480" y="3573360"/>
                  <a:ext cx="59760" cy="15984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612720" y="3532320"/>
                <a:ext cx="74520" cy="28080"/>
                <a:chOff x="612720" y="3532320"/>
                <a:chExt cx="74520" cy="28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12720" y="3532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60240" y="3533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6" name=""/>
            <p:cNvSpPr/>
            <p:nvPr/>
          </p:nvSpPr>
          <p:spPr>
            <a:xfrm>
              <a:off x="831960" y="35784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9880" y="250812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10                   Special Naval Landing Force (SNLF) Company. 39-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876400" y="2508120"/>
            <a:ext cx="2873520" cy="1511640"/>
            <a:chOff x="2876400" y="2508120"/>
            <a:chExt cx="2873520" cy="1511640"/>
          </a:xfrm>
        </p:grpSpPr>
        <p:sp>
          <p:nvSpPr>
            <p:cNvPr id="609" name=""/>
            <p:cNvSpPr/>
            <p:nvPr/>
          </p:nvSpPr>
          <p:spPr>
            <a:xfrm>
              <a:off x="3016080" y="365292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21120" y="2928960"/>
              <a:ext cx="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35280" y="3317760"/>
              <a:ext cx="183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22560" y="338148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45000" y="374004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35280" y="309564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32120" y="296532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332160" y="3263760"/>
              <a:ext cx="231840" cy="206280"/>
              <a:chOff x="3332160" y="3263760"/>
              <a:chExt cx="231840" cy="20628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3414600" y="3263760"/>
                <a:ext cx="74520" cy="28080"/>
                <a:chOff x="3414600" y="3263760"/>
                <a:chExt cx="74520" cy="280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414600" y="3263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462120" y="3265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332160" y="3312720"/>
                <a:ext cx="231840" cy="157320"/>
                <a:chOff x="3332160" y="3312720"/>
                <a:chExt cx="231840" cy="15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332160" y="331272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3334320" y="331452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332160" y="33148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4" name=""/>
            <p:cNvSpPr/>
            <p:nvPr/>
          </p:nvSpPr>
          <p:spPr>
            <a:xfrm>
              <a:off x="3025800" y="3133800"/>
              <a:ext cx="299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2876400" y="2709720"/>
              <a:ext cx="284400" cy="258840"/>
              <a:chOff x="2876400" y="2709720"/>
              <a:chExt cx="284400" cy="258840"/>
            </a:xfrm>
          </p:grpSpPr>
          <p:sp>
            <p:nvSpPr>
              <p:cNvPr id="626" name=""/>
              <p:cNvSpPr/>
              <p:nvPr/>
            </p:nvSpPr>
            <p:spPr>
              <a:xfrm>
                <a:off x="3020760" y="270972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2876400" y="2774880"/>
                <a:ext cx="284400" cy="193680"/>
                <a:chOff x="2876400" y="2774880"/>
                <a:chExt cx="284400" cy="19368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876400" y="2774880"/>
                  <a:ext cx="28440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2879280" y="2777760"/>
                  <a:ext cx="276840" cy="189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876400" y="2777760"/>
                  <a:ext cx="282960" cy="1846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1" name=""/>
            <p:cNvGrpSpPr/>
            <p:nvPr/>
          </p:nvGrpSpPr>
          <p:grpSpPr>
            <a:xfrm>
              <a:off x="3332160" y="3024360"/>
              <a:ext cx="237960" cy="199440"/>
              <a:chOff x="3332160" y="3024360"/>
              <a:chExt cx="237960" cy="1994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36920" y="3024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32160" y="306684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024360" y="390672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3325680" y="3807000"/>
              <a:ext cx="239760" cy="193680"/>
              <a:chOff x="3325680" y="3807000"/>
              <a:chExt cx="239760" cy="19368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3325680" y="3843720"/>
                <a:ext cx="239760" cy="156960"/>
                <a:chOff x="3325680" y="3843720"/>
                <a:chExt cx="239760" cy="1569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3325680" y="3843720"/>
                  <a:ext cx="2397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409920" y="396900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41600" y="386388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408120" y="3807000"/>
                <a:ext cx="74520" cy="28800"/>
                <a:chOff x="3408120" y="3807000"/>
                <a:chExt cx="74520" cy="2880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408120" y="3807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455640" y="3808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3" name=""/>
            <p:cNvSpPr/>
            <p:nvPr/>
          </p:nvSpPr>
          <p:spPr>
            <a:xfrm>
              <a:off x="3632040" y="3867120"/>
              <a:ext cx="17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3332160" y="3532320"/>
              <a:ext cx="237960" cy="204120"/>
              <a:chOff x="3332160" y="3532320"/>
              <a:chExt cx="237960" cy="20412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3332160" y="3573360"/>
                <a:ext cx="237960" cy="163080"/>
                <a:chOff x="3332160" y="3573360"/>
                <a:chExt cx="237960" cy="16308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3332160" y="3573360"/>
                  <a:ext cx="237960" cy="163080"/>
                  <a:chOff x="3332160" y="3573360"/>
                  <a:chExt cx="237960" cy="163080"/>
                </a:xfrm>
              </p:grpSpPr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3332160" y="3573360"/>
                    <a:ext cx="237960" cy="163080"/>
                    <a:chOff x="3332160" y="3573360"/>
                    <a:chExt cx="237960" cy="16308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332160" y="3573360"/>
                      <a:ext cx="237960" cy="163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V="1">
                      <a:off x="3332160" y="3573360"/>
                      <a:ext cx="237960" cy="1598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0" name=""/>
                  <p:cNvSpPr/>
                  <p:nvPr/>
                </p:nvSpPr>
                <p:spPr>
                  <a:xfrm>
                    <a:off x="3332160" y="3576240"/>
                    <a:ext cx="237960" cy="15984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3332160" y="3573360"/>
                  <a:ext cx="59760" cy="15984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3416400" y="3532320"/>
                <a:ext cx="74520" cy="28080"/>
                <a:chOff x="3416400" y="3532320"/>
                <a:chExt cx="74520" cy="2808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416400" y="3532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463920" y="3533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5" name=""/>
            <p:cNvSpPr/>
            <p:nvPr/>
          </p:nvSpPr>
          <p:spPr>
            <a:xfrm>
              <a:off x="3635280" y="357840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73560" y="250812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11                   Special Naval Landing Force (SNLF) Company. 43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973240" y="4527720"/>
            <a:ext cx="0" cy="54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95680" y="500688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ngineer (3 Flame)JA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75040" y="506736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95680" y="470232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0360" y="4732200"/>
            <a:ext cx="299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92520" y="45640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276720" y="4622760"/>
            <a:ext cx="237960" cy="200160"/>
            <a:chOff x="3276720" y="4622760"/>
            <a:chExt cx="237960" cy="200160"/>
          </a:xfrm>
        </p:grpSpPr>
        <p:sp>
          <p:nvSpPr>
            <p:cNvPr id="664" name=""/>
            <p:cNvSpPr/>
            <p:nvPr/>
          </p:nvSpPr>
          <p:spPr>
            <a:xfrm>
              <a:off x="3381480" y="4622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76720" y="466560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828880" y="4308480"/>
            <a:ext cx="283680" cy="250200"/>
            <a:chOff x="2828880" y="4308480"/>
            <a:chExt cx="283680" cy="250200"/>
          </a:xfrm>
        </p:grpSpPr>
        <p:sp>
          <p:nvSpPr>
            <p:cNvPr id="667" name=""/>
            <p:cNvSpPr/>
            <p:nvPr/>
          </p:nvSpPr>
          <p:spPr>
            <a:xfrm>
              <a:off x="2973240" y="4308480"/>
              <a:ext cx="10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2828880" y="4365360"/>
              <a:ext cx="283680" cy="193320"/>
              <a:chOff x="2828880" y="4365360"/>
              <a:chExt cx="283680" cy="193320"/>
            </a:xfrm>
          </p:grpSpPr>
          <p:sp>
            <p:nvSpPr>
              <p:cNvPr id="669" name=""/>
              <p:cNvSpPr/>
              <p:nvPr/>
            </p:nvSpPr>
            <p:spPr>
              <a:xfrm>
                <a:off x="2828880" y="4365360"/>
                <a:ext cx="283680" cy="19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2914200" y="4429800"/>
                <a:ext cx="114120" cy="61920"/>
                <a:chOff x="2914200" y="4429800"/>
                <a:chExt cx="114120" cy="6192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2914200" y="4429800"/>
                  <a:ext cx="113400" cy="61560"/>
                  <a:chOff x="2914200" y="4429800"/>
                  <a:chExt cx="113400" cy="6156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914200" y="4429800"/>
                    <a:ext cx="113400" cy="61200"/>
                    <a:chOff x="2914200" y="4429800"/>
                    <a:chExt cx="113400" cy="6120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2914200" y="4429800"/>
                      <a:ext cx="0" cy="61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914200" y="4429800"/>
                      <a:ext cx="113400" cy="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5" name=""/>
                  <p:cNvSpPr/>
                  <p:nvPr/>
                </p:nvSpPr>
                <p:spPr>
                  <a:xfrm>
                    <a:off x="2971800" y="4429800"/>
                    <a:ext cx="0" cy="615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6" name=""/>
                <p:cNvSpPr/>
                <p:nvPr/>
              </p:nvSpPr>
              <p:spPr>
                <a:xfrm>
                  <a:off x="3028320" y="4429800"/>
                  <a:ext cx="0" cy="61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77" name=""/>
          <p:cNvSpPr/>
          <p:nvPr/>
        </p:nvSpPr>
        <p:spPr>
          <a:xfrm>
            <a:off x="3297240" y="4248000"/>
            <a:ext cx="206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14       Engineer Company 39-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586480" y="2622600"/>
            <a:ext cx="2876400" cy="1578240"/>
            <a:chOff x="5586480" y="2622600"/>
            <a:chExt cx="2876400" cy="1578240"/>
          </a:xfrm>
        </p:grpSpPr>
        <p:sp>
          <p:nvSpPr>
            <p:cNvPr id="679" name=""/>
            <p:cNvSpPr/>
            <p:nvPr/>
          </p:nvSpPr>
          <p:spPr>
            <a:xfrm>
              <a:off x="5729400" y="386244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34080" y="2860560"/>
              <a:ext cx="0" cy="124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48240" y="3281400"/>
              <a:ext cx="183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troop Infantry     JA-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35520" y="3344760"/>
              <a:ext cx="343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48240" y="305928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45080" y="29289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127560" y="3227400"/>
              <a:ext cx="74520" cy="28080"/>
              <a:chOff x="6127560" y="3227400"/>
              <a:chExt cx="74520" cy="28080"/>
            </a:xfrm>
          </p:grpSpPr>
          <p:sp>
            <p:nvSpPr>
              <p:cNvPr id="686" name=""/>
              <p:cNvSpPr/>
              <p:nvPr/>
            </p:nvSpPr>
            <p:spPr>
              <a:xfrm>
                <a:off x="6127560" y="32274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175080" y="32288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5738760" y="309708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34080" y="2681280"/>
              <a:ext cx="144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045120" y="2987640"/>
              <a:ext cx="237960" cy="200160"/>
              <a:chOff x="6045120" y="2987640"/>
              <a:chExt cx="237960" cy="200160"/>
            </a:xfrm>
          </p:grpSpPr>
          <p:sp>
            <p:nvSpPr>
              <p:cNvPr id="691" name=""/>
              <p:cNvSpPr/>
              <p:nvPr/>
            </p:nvSpPr>
            <p:spPr>
              <a:xfrm>
                <a:off x="6149880" y="2987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045120" y="303048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6045120" y="3741840"/>
              <a:ext cx="237960" cy="204840"/>
              <a:chOff x="6045120" y="3741840"/>
              <a:chExt cx="237960" cy="2048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6045120" y="3782880"/>
                <a:ext cx="237960" cy="163800"/>
                <a:chOff x="6045120" y="3782880"/>
                <a:chExt cx="237960" cy="16380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6045120" y="3782880"/>
                  <a:ext cx="237960" cy="163800"/>
                  <a:chOff x="6045120" y="3782880"/>
                  <a:chExt cx="237960" cy="163800"/>
                </a:xfrm>
              </p:grpSpPr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6045120" y="3782880"/>
                    <a:ext cx="237960" cy="163800"/>
                    <a:chOff x="6045120" y="3782880"/>
                    <a:chExt cx="237960" cy="16380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6045120" y="3783240"/>
                      <a:ext cx="23796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flipV="1">
                      <a:off x="6045120" y="3782880"/>
                      <a:ext cx="23796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9" name=""/>
                  <p:cNvSpPr/>
                  <p:nvPr/>
                </p:nvSpPr>
                <p:spPr>
                  <a:xfrm>
                    <a:off x="6045120" y="378612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>
                  <a:off x="6045120" y="3783240"/>
                  <a:ext cx="5976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6129360" y="3741840"/>
                <a:ext cx="74520" cy="28800"/>
                <a:chOff x="6129360" y="3741840"/>
                <a:chExt cx="74520" cy="288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129360" y="3741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176880" y="3743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4" name=""/>
            <p:cNvSpPr/>
            <p:nvPr/>
          </p:nvSpPr>
          <p:spPr>
            <a:xfrm>
              <a:off x="6348240" y="378792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86520" y="2622600"/>
              <a:ext cx="237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12                   Parachute Rifle Company. 39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5586480" y="2743200"/>
              <a:ext cx="283680" cy="193320"/>
              <a:chOff x="5586480" y="2743200"/>
              <a:chExt cx="283680" cy="19332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5586480" y="2743200"/>
                <a:ext cx="283680" cy="193320"/>
                <a:chOff x="5586480" y="2743200"/>
                <a:chExt cx="283680" cy="1933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5586480" y="2743200"/>
                  <a:ext cx="283680" cy="19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V="1">
                  <a:off x="5589360" y="2745720"/>
                  <a:ext cx="276120" cy="189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586480" y="2746080"/>
                  <a:ext cx="282240" cy="1843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5689440" y="2885760"/>
                <a:ext cx="77040" cy="46800"/>
                <a:chOff x="5689440" y="2885760"/>
                <a:chExt cx="77040" cy="4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5689440" y="2885760"/>
                  <a:ext cx="37800" cy="4680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729040" y="2885760"/>
                  <a:ext cx="37440" cy="4680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4" name=""/>
            <p:cNvSpPr/>
            <p:nvPr/>
          </p:nvSpPr>
          <p:spPr>
            <a:xfrm>
              <a:off x="5727600" y="4108320"/>
              <a:ext cx="343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56160" y="4048200"/>
              <a:ext cx="20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ype 94  AT Gun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-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6039000" y="3998880"/>
              <a:ext cx="231480" cy="198360"/>
              <a:chOff x="6039000" y="3998880"/>
              <a:chExt cx="231480" cy="198360"/>
            </a:xfrm>
          </p:grpSpPr>
          <p:sp>
            <p:nvSpPr>
              <p:cNvPr id="717" name=""/>
              <p:cNvSpPr/>
              <p:nvPr/>
            </p:nvSpPr>
            <p:spPr>
              <a:xfrm>
                <a:off x="6039000" y="4040280"/>
                <a:ext cx="23148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6156360" y="4043160"/>
                <a:ext cx="11376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039000" y="4040280"/>
                <a:ext cx="11412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40520" y="4105080"/>
                <a:ext cx="28080" cy="27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6122880" y="3998880"/>
                <a:ext cx="73800" cy="28080"/>
                <a:chOff x="6122880" y="3998880"/>
                <a:chExt cx="73800" cy="280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122880" y="399888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170040" y="40003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4" name=""/>
            <p:cNvGrpSpPr/>
            <p:nvPr/>
          </p:nvGrpSpPr>
          <p:grpSpPr>
            <a:xfrm>
              <a:off x="6049800" y="3270240"/>
              <a:ext cx="231840" cy="157320"/>
              <a:chOff x="6049800" y="3270240"/>
              <a:chExt cx="231840" cy="15732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6049800" y="3270240"/>
                <a:ext cx="231840" cy="157320"/>
                <a:chOff x="6049800" y="3270240"/>
                <a:chExt cx="231840" cy="157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049800" y="327024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6051960" y="327204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049800" y="32724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134040" y="3386160"/>
                <a:ext cx="63000" cy="38160"/>
                <a:chOff x="6134040" y="3386160"/>
                <a:chExt cx="63000" cy="381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6134040" y="3386160"/>
                  <a:ext cx="30960" cy="3816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166440" y="3386160"/>
                  <a:ext cx="30600" cy="3816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5727600" y="359424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6046920" y="3479760"/>
              <a:ext cx="231480" cy="200160"/>
              <a:chOff x="6046920" y="3479760"/>
              <a:chExt cx="231480" cy="200160"/>
            </a:xfrm>
          </p:grpSpPr>
          <p:grpSp>
            <p:nvGrpSpPr>
              <p:cNvPr id="734" name=""/>
              <p:cNvGrpSpPr/>
              <p:nvPr/>
            </p:nvGrpSpPr>
            <p:grpSpPr>
              <a:xfrm>
                <a:off x="6046920" y="3522600"/>
                <a:ext cx="231480" cy="157320"/>
                <a:chOff x="6046920" y="3522600"/>
                <a:chExt cx="231480" cy="1573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6046920" y="352260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6164280" y="3525840"/>
                  <a:ext cx="113760" cy="152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046920" y="3522600"/>
                  <a:ext cx="114120" cy="1540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118200" y="3479760"/>
                <a:ext cx="74520" cy="28800"/>
                <a:chOff x="6118200" y="3479760"/>
                <a:chExt cx="74520" cy="28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118200" y="3479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165720" y="3481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1" name=""/>
            <p:cNvSpPr/>
            <p:nvPr/>
          </p:nvSpPr>
          <p:spPr>
            <a:xfrm>
              <a:off x="6353280" y="351468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ATR                         JA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50920" y="511020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5600" y="4354560"/>
            <a:ext cx="0" cy="9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70120" y="4775040"/>
            <a:ext cx="183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8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antry                      JA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7040" y="4838760"/>
            <a:ext cx="343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61840" y="453708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71560" y="44146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/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0280" y="459108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66640" y="4481640"/>
            <a:ext cx="237960" cy="199440"/>
            <a:chOff x="566640" y="4481640"/>
            <a:chExt cx="237960" cy="199440"/>
          </a:xfrm>
        </p:grpSpPr>
        <p:sp>
          <p:nvSpPr>
            <p:cNvPr id="750" name=""/>
            <p:cNvSpPr/>
            <p:nvPr/>
          </p:nvSpPr>
          <p:spPr>
            <a:xfrm>
              <a:off x="671400" y="44816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6640" y="452412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66640" y="4989600"/>
            <a:ext cx="237960" cy="204840"/>
            <a:chOff x="566640" y="4989600"/>
            <a:chExt cx="237960" cy="204840"/>
          </a:xfrm>
        </p:grpSpPr>
        <p:grpSp>
          <p:nvGrpSpPr>
            <p:cNvPr id="753" name=""/>
            <p:cNvGrpSpPr/>
            <p:nvPr/>
          </p:nvGrpSpPr>
          <p:grpSpPr>
            <a:xfrm>
              <a:off x="566640" y="5030640"/>
              <a:ext cx="237960" cy="163800"/>
              <a:chOff x="566640" y="5030640"/>
              <a:chExt cx="237960" cy="1638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566640" y="5030640"/>
                <a:ext cx="237960" cy="163800"/>
                <a:chOff x="566640" y="5030640"/>
                <a:chExt cx="237960" cy="16380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566640" y="5030640"/>
                  <a:ext cx="237960" cy="163800"/>
                  <a:chOff x="566640" y="5030640"/>
                  <a:chExt cx="237960" cy="16380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566640" y="5031000"/>
                    <a:ext cx="237960" cy="163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>
                    <a:off x="566640" y="503064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8" name=""/>
                <p:cNvSpPr/>
                <p:nvPr/>
              </p:nvSpPr>
              <p:spPr>
                <a:xfrm>
                  <a:off x="566640" y="5033880"/>
                  <a:ext cx="237960" cy="160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66640" y="5031000"/>
                <a:ext cx="59760" cy="160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50880" y="4989600"/>
              <a:ext cx="74520" cy="28800"/>
              <a:chOff x="650880" y="4989600"/>
              <a:chExt cx="74520" cy="28800"/>
            </a:xfrm>
          </p:grpSpPr>
          <p:sp>
            <p:nvSpPr>
              <p:cNvPr id="761" name=""/>
              <p:cNvSpPr/>
              <p:nvPr/>
            </p:nvSpPr>
            <p:spPr>
              <a:xfrm>
                <a:off x="650880" y="4989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8400" y="4991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"/>
          <p:cNvSpPr/>
          <p:nvPr/>
        </p:nvSpPr>
        <p:spPr>
          <a:xfrm>
            <a:off x="870120" y="503568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MG                         JA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08040" y="4116240"/>
            <a:ext cx="23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13                     Recce Motorized Company. 39-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9120" y="5356080"/>
            <a:ext cx="3430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78040" y="529596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ype 94  AT Gun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560520" y="5246640"/>
            <a:ext cx="231480" cy="198360"/>
            <a:chOff x="560520" y="5246640"/>
            <a:chExt cx="231480" cy="198360"/>
          </a:xfrm>
        </p:grpSpPr>
        <p:sp>
          <p:nvSpPr>
            <p:cNvPr id="768" name=""/>
            <p:cNvSpPr/>
            <p:nvPr/>
          </p:nvSpPr>
          <p:spPr>
            <a:xfrm>
              <a:off x="560520" y="5288040"/>
              <a:ext cx="23148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677880" y="5290920"/>
              <a:ext cx="113760" cy="152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0520" y="5288040"/>
              <a:ext cx="114120" cy="153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2040" y="5352840"/>
              <a:ext cx="28080" cy="27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644400" y="5246640"/>
              <a:ext cx="73800" cy="28080"/>
              <a:chOff x="644400" y="5246640"/>
              <a:chExt cx="73800" cy="28080"/>
            </a:xfrm>
          </p:grpSpPr>
          <p:sp>
            <p:nvSpPr>
              <p:cNvPr id="773" name=""/>
              <p:cNvSpPr/>
              <p:nvPr/>
            </p:nvSpPr>
            <p:spPr>
              <a:xfrm>
                <a:off x="644400" y="5246640"/>
                <a:ext cx="2808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1560" y="52480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5" name=""/>
          <p:cNvGrpSpPr/>
          <p:nvPr/>
        </p:nvGrpSpPr>
        <p:grpSpPr>
          <a:xfrm>
            <a:off x="573120" y="4718160"/>
            <a:ext cx="231840" cy="205920"/>
            <a:chOff x="573120" y="4718160"/>
            <a:chExt cx="231840" cy="205920"/>
          </a:xfrm>
        </p:grpSpPr>
        <p:grpSp>
          <p:nvGrpSpPr>
            <p:cNvPr id="776" name=""/>
            <p:cNvGrpSpPr/>
            <p:nvPr/>
          </p:nvGrpSpPr>
          <p:grpSpPr>
            <a:xfrm>
              <a:off x="655560" y="4718160"/>
              <a:ext cx="74520" cy="28080"/>
              <a:chOff x="655560" y="4718160"/>
              <a:chExt cx="74520" cy="28080"/>
            </a:xfrm>
          </p:grpSpPr>
          <p:sp>
            <p:nvSpPr>
              <p:cNvPr id="777" name=""/>
              <p:cNvSpPr/>
              <p:nvPr/>
            </p:nvSpPr>
            <p:spPr>
              <a:xfrm>
                <a:off x="655560" y="47181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03080" y="4719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73120" y="4767120"/>
              <a:ext cx="231840" cy="156960"/>
              <a:chOff x="573120" y="4767120"/>
              <a:chExt cx="231840" cy="156960"/>
            </a:xfrm>
          </p:grpSpPr>
          <p:sp>
            <p:nvSpPr>
              <p:cNvPr id="780" name=""/>
              <p:cNvSpPr/>
              <p:nvPr/>
            </p:nvSpPr>
            <p:spPr>
              <a:xfrm>
                <a:off x="573120" y="47671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575280" y="4769280"/>
                <a:ext cx="22572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73120" y="476928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566640" y="5518080"/>
            <a:ext cx="231840" cy="241200"/>
            <a:chOff x="566640" y="5518080"/>
            <a:chExt cx="231840" cy="241200"/>
          </a:xfrm>
        </p:grpSpPr>
        <p:grpSp>
          <p:nvGrpSpPr>
            <p:cNvPr id="784" name=""/>
            <p:cNvGrpSpPr/>
            <p:nvPr/>
          </p:nvGrpSpPr>
          <p:grpSpPr>
            <a:xfrm>
              <a:off x="566640" y="5565600"/>
              <a:ext cx="231840" cy="193680"/>
              <a:chOff x="566640" y="5565600"/>
              <a:chExt cx="231840" cy="193680"/>
            </a:xfrm>
          </p:grpSpPr>
          <p:sp>
            <p:nvSpPr>
              <p:cNvPr id="785" name=""/>
              <p:cNvSpPr/>
              <p:nvPr/>
            </p:nvSpPr>
            <p:spPr>
              <a:xfrm>
                <a:off x="566640" y="556560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7160" y="5732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39440" y="5732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840" y="5518080"/>
              <a:ext cx="74520" cy="28080"/>
              <a:chOff x="645840" y="5518080"/>
              <a:chExt cx="74520" cy="2808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840" y="5518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93360" y="5519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855720" y="5578560"/>
            <a:ext cx="223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t Truck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-09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87400" y="46814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68320" y="548172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4480" y="5897520"/>
            <a:ext cx="25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an Infantry Division’s Reconnaissance Reg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Or JA-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11240" y="4121280"/>
            <a:ext cx="284040" cy="306360"/>
            <a:chOff x="111240" y="4121280"/>
            <a:chExt cx="284040" cy="306360"/>
          </a:xfrm>
        </p:grpSpPr>
        <p:grpSp>
          <p:nvGrpSpPr>
            <p:cNvPr id="796" name=""/>
            <p:cNvGrpSpPr/>
            <p:nvPr/>
          </p:nvGrpSpPr>
          <p:grpSpPr>
            <a:xfrm>
              <a:off x="111240" y="4121280"/>
              <a:ext cx="284040" cy="258120"/>
              <a:chOff x="111240" y="4121280"/>
              <a:chExt cx="284040" cy="258120"/>
            </a:xfrm>
          </p:grpSpPr>
          <p:sp>
            <p:nvSpPr>
              <p:cNvPr id="797" name=""/>
              <p:cNvSpPr/>
              <p:nvPr/>
            </p:nvSpPr>
            <p:spPr>
              <a:xfrm>
                <a:off x="255240" y="412128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111240" y="4186080"/>
                <a:ext cx="284040" cy="193320"/>
                <a:chOff x="111240" y="4186080"/>
                <a:chExt cx="284040" cy="1933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111240" y="4186080"/>
                  <a:ext cx="284040" cy="19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114120" y="4188600"/>
                  <a:ext cx="276480" cy="189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11240" y="4188960"/>
                  <a:ext cx="282600" cy="1843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2" name=""/>
            <p:cNvSpPr/>
            <p:nvPr/>
          </p:nvSpPr>
          <p:spPr>
            <a:xfrm>
              <a:off x="123840" y="4400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5680" y="4400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279600" y="4954680"/>
            <a:ext cx="231840" cy="198360"/>
            <a:chOff x="3279600" y="4954680"/>
            <a:chExt cx="231840" cy="198360"/>
          </a:xfrm>
        </p:grpSpPr>
        <p:grpSp>
          <p:nvGrpSpPr>
            <p:cNvPr id="805" name=""/>
            <p:cNvGrpSpPr/>
            <p:nvPr/>
          </p:nvGrpSpPr>
          <p:grpSpPr>
            <a:xfrm>
              <a:off x="3357720" y="4954680"/>
              <a:ext cx="74520" cy="28080"/>
              <a:chOff x="3357720" y="4954680"/>
              <a:chExt cx="74520" cy="28080"/>
            </a:xfrm>
          </p:grpSpPr>
          <p:sp>
            <p:nvSpPr>
              <p:cNvPr id="806" name=""/>
              <p:cNvSpPr/>
              <p:nvPr/>
            </p:nvSpPr>
            <p:spPr>
              <a:xfrm>
                <a:off x="3357720" y="4954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405240" y="4956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3279600" y="4996080"/>
              <a:ext cx="23184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3355920" y="5050080"/>
              <a:ext cx="82440" cy="44280"/>
              <a:chOff x="3355920" y="5050080"/>
              <a:chExt cx="82440" cy="4428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3355920" y="5050080"/>
                <a:ext cx="82440" cy="44280"/>
                <a:chOff x="3355920" y="5050080"/>
                <a:chExt cx="82440" cy="4428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3355920" y="5050080"/>
                  <a:ext cx="82440" cy="44280"/>
                  <a:chOff x="3355920" y="5050080"/>
                  <a:chExt cx="82440" cy="4428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>
                    <a:off x="3355920" y="5050080"/>
                    <a:ext cx="0" cy="4428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355920" y="5050080"/>
                    <a:ext cx="8244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4" name=""/>
                <p:cNvSpPr/>
                <p:nvPr/>
              </p:nvSpPr>
              <p:spPr>
                <a:xfrm>
                  <a:off x="3397680" y="5050080"/>
                  <a:ext cx="0" cy="44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5" name=""/>
              <p:cNvSpPr/>
              <p:nvPr/>
            </p:nvSpPr>
            <p:spPr>
              <a:xfrm>
                <a:off x="3438360" y="5050080"/>
                <a:ext cx="0" cy="4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5208480" y="849240"/>
            <a:ext cx="0" cy="61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7640" y="687240"/>
            <a:ext cx="0" cy="6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61800" y="37800"/>
            <a:ext cx="777240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panese Cavalry and G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04920" y="1020600"/>
            <a:ext cx="342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1040" y="480960"/>
            <a:ext cx="0" cy="54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33480" y="96048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7mm AT Gun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615960" y="911160"/>
            <a:ext cx="231840" cy="198360"/>
            <a:chOff x="615960" y="911160"/>
            <a:chExt cx="231840" cy="198360"/>
          </a:xfrm>
        </p:grpSpPr>
        <p:sp>
          <p:nvSpPr>
            <p:cNvPr id="823" name=""/>
            <p:cNvSpPr/>
            <p:nvPr/>
          </p:nvSpPr>
          <p:spPr>
            <a:xfrm>
              <a:off x="615960" y="952560"/>
              <a:ext cx="23184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3680" y="955440"/>
              <a:ext cx="114120" cy="152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15960" y="952560"/>
              <a:ext cx="114480" cy="153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840" y="1017360"/>
              <a:ext cx="28440" cy="27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700200" y="911160"/>
              <a:ext cx="74520" cy="28080"/>
              <a:chOff x="700200" y="911160"/>
              <a:chExt cx="74520" cy="28080"/>
            </a:xfrm>
          </p:grpSpPr>
          <p:sp>
            <p:nvSpPr>
              <p:cNvPr id="828" name=""/>
              <p:cNvSpPr/>
              <p:nvPr/>
            </p:nvSpPr>
            <p:spPr>
              <a:xfrm>
                <a:off x="700200" y="9111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47720" y="912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933480" y="62388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07800" y="68580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30320" y="5176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614520" y="576360"/>
            <a:ext cx="237960" cy="199440"/>
            <a:chOff x="614520" y="576360"/>
            <a:chExt cx="237960" cy="199440"/>
          </a:xfrm>
        </p:grpSpPr>
        <p:sp>
          <p:nvSpPr>
            <p:cNvPr id="834" name=""/>
            <p:cNvSpPr/>
            <p:nvPr/>
          </p:nvSpPr>
          <p:spPr>
            <a:xfrm>
              <a:off x="719280" y="5763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14520" y="61884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166680" y="309600"/>
            <a:ext cx="284040" cy="258480"/>
            <a:chOff x="166680" y="309600"/>
            <a:chExt cx="284040" cy="258480"/>
          </a:xfrm>
        </p:grpSpPr>
        <p:sp>
          <p:nvSpPr>
            <p:cNvPr id="837" name=""/>
            <p:cNvSpPr/>
            <p:nvPr/>
          </p:nvSpPr>
          <p:spPr>
            <a:xfrm>
              <a:off x="307800" y="309600"/>
              <a:ext cx="10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6680" y="374400"/>
              <a:ext cx="28404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311040" y="377280"/>
              <a:ext cx="139320" cy="1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6680" y="374400"/>
              <a:ext cx="139320" cy="190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0160" y="455400"/>
              <a:ext cx="36360" cy="31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92160" y="1463760"/>
            <a:ext cx="284616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it the commander when used as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 37mm at Guadacanal. Otherwise may substitute JA-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could use staff car JA-P07 or ride in a tru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ttached to cavalry units, substitute horse-drawn limber JA-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jungle fighting, the guns might be manhandled (no transport) or use horse-drawn li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640" y="209520"/>
            <a:ext cx="1695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 15            Antitank Gu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61080" y="118440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67200" y="644400"/>
            <a:ext cx="0" cy="54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89640" y="112392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0mm Regt. Gun     JA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489640" y="787320"/>
            <a:ext cx="209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b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63960" y="849240"/>
            <a:ext cx="30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586480" y="681120"/>
            <a:ext cx="99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5170320" y="739800"/>
            <a:ext cx="237960" cy="200160"/>
            <a:chOff x="5170320" y="739800"/>
            <a:chExt cx="237960" cy="200160"/>
          </a:xfrm>
        </p:grpSpPr>
        <p:sp>
          <p:nvSpPr>
            <p:cNvPr id="851" name=""/>
            <p:cNvSpPr/>
            <p:nvPr/>
          </p:nvSpPr>
          <p:spPr>
            <a:xfrm>
              <a:off x="5275080" y="7398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70320" y="78264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648320" y="1619280"/>
            <a:ext cx="28461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it the commander when used as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may act as F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could use staff-car or ride in a 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ttached to cavalry units, substitute horse-drawn limber JA-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jungle fighting, the guns might be manhandled (no transport) or use horse-drawn li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172120" y="1058760"/>
            <a:ext cx="239760" cy="209160"/>
            <a:chOff x="5172120" y="1058760"/>
            <a:chExt cx="239760" cy="209160"/>
          </a:xfrm>
        </p:grpSpPr>
        <p:grpSp>
          <p:nvGrpSpPr>
            <p:cNvPr id="855" name=""/>
            <p:cNvGrpSpPr/>
            <p:nvPr/>
          </p:nvGrpSpPr>
          <p:grpSpPr>
            <a:xfrm>
              <a:off x="5172120" y="1110960"/>
              <a:ext cx="239760" cy="156960"/>
              <a:chOff x="5172120" y="1110960"/>
              <a:chExt cx="239760" cy="156960"/>
            </a:xfrm>
          </p:grpSpPr>
          <p:sp>
            <p:nvSpPr>
              <p:cNvPr id="856" name=""/>
              <p:cNvSpPr/>
              <p:nvPr/>
            </p:nvSpPr>
            <p:spPr>
              <a:xfrm>
                <a:off x="5172120" y="111096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5172120" y="1111680"/>
                <a:ext cx="23832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72120" y="1113840"/>
                <a:ext cx="238320" cy="15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274000" y="1171080"/>
                <a:ext cx="36360" cy="36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5254920" y="1058760"/>
              <a:ext cx="74520" cy="28080"/>
              <a:chOff x="5254920" y="1058760"/>
              <a:chExt cx="74520" cy="28080"/>
            </a:xfrm>
          </p:grpSpPr>
          <p:sp>
            <p:nvSpPr>
              <p:cNvPr id="861" name=""/>
              <p:cNvSpPr/>
              <p:nvPr/>
            </p:nvSpPr>
            <p:spPr>
              <a:xfrm>
                <a:off x="5254920" y="10587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302440" y="1060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3" name=""/>
          <p:cNvGrpSpPr/>
          <p:nvPr/>
        </p:nvGrpSpPr>
        <p:grpSpPr>
          <a:xfrm>
            <a:off x="4722840" y="473040"/>
            <a:ext cx="291960" cy="252360"/>
            <a:chOff x="4722840" y="473040"/>
            <a:chExt cx="291960" cy="252360"/>
          </a:xfrm>
        </p:grpSpPr>
        <p:sp>
          <p:nvSpPr>
            <p:cNvPr id="864" name=""/>
            <p:cNvSpPr/>
            <p:nvPr/>
          </p:nvSpPr>
          <p:spPr>
            <a:xfrm>
              <a:off x="4867200" y="473040"/>
              <a:ext cx="108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22840" y="534960"/>
              <a:ext cx="2919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4722840" y="536760"/>
              <a:ext cx="290160" cy="18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2840" y="538200"/>
              <a:ext cx="290160" cy="185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6320" y="608040"/>
              <a:ext cx="44280" cy="44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5172120" y="374760"/>
            <a:ext cx="169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 16            Regimental Gu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6720" y="3941640"/>
            <a:ext cx="0" cy="107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4000" y="439740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8680" y="3594240"/>
            <a:ext cx="0" cy="107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42840" y="407844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    JA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0120" y="4141800"/>
            <a:ext cx="343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52560" y="4476600"/>
            <a:ext cx="16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42840" y="384012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39680" y="371016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39720" y="4024440"/>
            <a:ext cx="231840" cy="206280"/>
            <a:chOff x="639720" y="4024440"/>
            <a:chExt cx="231840" cy="206280"/>
          </a:xfrm>
        </p:grpSpPr>
        <p:grpSp>
          <p:nvGrpSpPr>
            <p:cNvPr id="879" name=""/>
            <p:cNvGrpSpPr/>
            <p:nvPr/>
          </p:nvGrpSpPr>
          <p:grpSpPr>
            <a:xfrm>
              <a:off x="722160" y="4024440"/>
              <a:ext cx="74520" cy="28080"/>
              <a:chOff x="722160" y="4024440"/>
              <a:chExt cx="74520" cy="28080"/>
            </a:xfrm>
          </p:grpSpPr>
          <p:sp>
            <p:nvSpPr>
              <p:cNvPr id="880" name=""/>
              <p:cNvSpPr/>
              <p:nvPr/>
            </p:nvSpPr>
            <p:spPr>
              <a:xfrm>
                <a:off x="722160" y="40244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9680" y="40258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639720" y="4073400"/>
              <a:ext cx="231840" cy="157320"/>
              <a:chOff x="639720" y="4073400"/>
              <a:chExt cx="231840" cy="157320"/>
            </a:xfrm>
          </p:grpSpPr>
          <p:sp>
            <p:nvSpPr>
              <p:cNvPr id="883" name=""/>
              <p:cNvSpPr/>
              <p:nvPr/>
            </p:nvSpPr>
            <p:spPr>
              <a:xfrm>
                <a:off x="639720" y="407340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641880" y="4075200"/>
                <a:ext cx="22572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39720" y="407556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333360" y="3878280"/>
            <a:ext cx="299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84320" y="3454560"/>
            <a:ext cx="284040" cy="258120"/>
            <a:chOff x="184320" y="3454560"/>
            <a:chExt cx="284040" cy="258120"/>
          </a:xfrm>
        </p:grpSpPr>
        <p:sp>
          <p:nvSpPr>
            <p:cNvPr id="888" name=""/>
            <p:cNvSpPr/>
            <p:nvPr/>
          </p:nvSpPr>
          <p:spPr>
            <a:xfrm>
              <a:off x="328680" y="3454560"/>
              <a:ext cx="108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84320" y="3519360"/>
              <a:ext cx="284040" cy="19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187200" y="3522600"/>
              <a:ext cx="276120" cy="18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639720" y="3768840"/>
            <a:ext cx="237960" cy="199440"/>
            <a:chOff x="639720" y="3768840"/>
            <a:chExt cx="237960" cy="199440"/>
          </a:xfrm>
        </p:grpSpPr>
        <p:sp>
          <p:nvSpPr>
            <p:cNvPr id="892" name=""/>
            <p:cNvSpPr/>
            <p:nvPr/>
          </p:nvSpPr>
          <p:spPr>
            <a:xfrm>
              <a:off x="744480" y="37688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9720" y="381132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31920" y="4667400"/>
            <a:ext cx="342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633240" y="4535640"/>
            <a:ext cx="239760" cy="193680"/>
            <a:chOff x="633240" y="4535640"/>
            <a:chExt cx="239760" cy="193680"/>
          </a:xfrm>
        </p:grpSpPr>
        <p:grpSp>
          <p:nvGrpSpPr>
            <p:cNvPr id="896" name=""/>
            <p:cNvGrpSpPr/>
            <p:nvPr/>
          </p:nvGrpSpPr>
          <p:grpSpPr>
            <a:xfrm>
              <a:off x="633240" y="4572360"/>
              <a:ext cx="239760" cy="156960"/>
              <a:chOff x="633240" y="4572360"/>
              <a:chExt cx="239760" cy="156960"/>
            </a:xfrm>
          </p:grpSpPr>
          <p:sp>
            <p:nvSpPr>
              <p:cNvPr id="897" name=""/>
              <p:cNvSpPr/>
              <p:nvPr/>
            </p:nvSpPr>
            <p:spPr>
              <a:xfrm>
                <a:off x="633240" y="4572360"/>
                <a:ext cx="2397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17480" y="4697640"/>
                <a:ext cx="68040" cy="0"/>
              </a:xfrm>
              <a:prstGeom prst="line">
                <a:avLst/>
              </a:prstGeom>
              <a:ln w="158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49160" y="4592520"/>
                <a:ext cx="0" cy="106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715680" y="4535640"/>
              <a:ext cx="74520" cy="28800"/>
              <a:chOff x="715680" y="4535640"/>
              <a:chExt cx="74520" cy="28800"/>
            </a:xfrm>
          </p:grpSpPr>
          <p:sp>
            <p:nvSpPr>
              <p:cNvPr id="901" name=""/>
              <p:cNvSpPr/>
              <p:nvPr/>
            </p:nvSpPr>
            <p:spPr>
              <a:xfrm>
                <a:off x="715680" y="4535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3200" y="4537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"/>
          <p:cNvSpPr/>
          <p:nvPr/>
        </p:nvSpPr>
        <p:spPr>
          <a:xfrm>
            <a:off x="939960" y="4603680"/>
            <a:ext cx="170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enade Discharger JA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639720" y="4268880"/>
            <a:ext cx="237960" cy="212760"/>
            <a:chOff x="639720" y="4268880"/>
            <a:chExt cx="237960" cy="212760"/>
          </a:xfrm>
        </p:grpSpPr>
        <p:grpSp>
          <p:nvGrpSpPr>
            <p:cNvPr id="905" name=""/>
            <p:cNvGrpSpPr/>
            <p:nvPr/>
          </p:nvGrpSpPr>
          <p:grpSpPr>
            <a:xfrm>
              <a:off x="639720" y="4317840"/>
              <a:ext cx="237960" cy="163800"/>
              <a:chOff x="639720" y="4317840"/>
              <a:chExt cx="237960" cy="16380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639720" y="4317840"/>
                <a:ext cx="237960" cy="163800"/>
                <a:chOff x="639720" y="4317840"/>
                <a:chExt cx="237960" cy="16380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639720" y="4317840"/>
                  <a:ext cx="237960" cy="163800"/>
                  <a:chOff x="639720" y="4317840"/>
                  <a:chExt cx="237960" cy="1638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639720" y="4318200"/>
                    <a:ext cx="237960" cy="163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V="1">
                    <a:off x="639720" y="431784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0" name=""/>
                <p:cNvSpPr/>
                <p:nvPr/>
              </p:nvSpPr>
              <p:spPr>
                <a:xfrm>
                  <a:off x="639720" y="4321080"/>
                  <a:ext cx="237960" cy="160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639720" y="4318200"/>
                <a:ext cx="59760" cy="160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723600" y="4268880"/>
              <a:ext cx="74520" cy="28800"/>
              <a:chOff x="723600" y="4268880"/>
              <a:chExt cx="74520" cy="28800"/>
            </a:xfrm>
          </p:grpSpPr>
          <p:sp>
            <p:nvSpPr>
              <p:cNvPr id="913" name=""/>
              <p:cNvSpPr/>
              <p:nvPr/>
            </p:nvSpPr>
            <p:spPr>
              <a:xfrm>
                <a:off x="723600" y="42688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1120" y="4270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5" name=""/>
          <p:cNvSpPr/>
          <p:nvPr/>
        </p:nvSpPr>
        <p:spPr>
          <a:xfrm>
            <a:off x="942840" y="4322880"/>
            <a:ext cx="170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MG                         JA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1520" y="3409920"/>
            <a:ext cx="191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17            Rifle and Sabre Company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41400" y="4781520"/>
            <a:ext cx="16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17640" y="4908600"/>
            <a:ext cx="170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valry                 JA-P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6680" y="5234040"/>
            <a:ext cx="26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Essentially a mounted infantry company, Japanese cavalry units fought mounted primarily in Chin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620640" y="1195560"/>
            <a:ext cx="231840" cy="241200"/>
            <a:chOff x="620640" y="1195560"/>
            <a:chExt cx="231840" cy="241200"/>
          </a:xfrm>
        </p:grpSpPr>
        <p:grpSp>
          <p:nvGrpSpPr>
            <p:cNvPr id="921" name=""/>
            <p:cNvGrpSpPr/>
            <p:nvPr/>
          </p:nvGrpSpPr>
          <p:grpSpPr>
            <a:xfrm>
              <a:off x="620640" y="1243080"/>
              <a:ext cx="231840" cy="193680"/>
              <a:chOff x="620640" y="1243080"/>
              <a:chExt cx="231840" cy="193680"/>
            </a:xfrm>
          </p:grpSpPr>
          <p:sp>
            <p:nvSpPr>
              <p:cNvPr id="922" name=""/>
              <p:cNvSpPr/>
              <p:nvPr/>
            </p:nvSpPr>
            <p:spPr>
              <a:xfrm>
                <a:off x="620640" y="124308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41160" y="1409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3440" y="1409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699840" y="1195560"/>
              <a:ext cx="74520" cy="28080"/>
              <a:chOff x="699840" y="1195560"/>
              <a:chExt cx="74520" cy="28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99840" y="1195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7360" y="11970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909720" y="1255680"/>
            <a:ext cx="223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t Truck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-09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922320" y="11588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187960" y="1339920"/>
            <a:ext cx="231840" cy="241200"/>
            <a:chOff x="5187960" y="1339920"/>
            <a:chExt cx="231840" cy="241200"/>
          </a:xfrm>
        </p:grpSpPr>
        <p:grpSp>
          <p:nvGrpSpPr>
            <p:cNvPr id="931" name=""/>
            <p:cNvGrpSpPr/>
            <p:nvPr/>
          </p:nvGrpSpPr>
          <p:grpSpPr>
            <a:xfrm>
              <a:off x="5187960" y="1387440"/>
              <a:ext cx="231840" cy="193680"/>
              <a:chOff x="5187960" y="1387440"/>
              <a:chExt cx="231840" cy="193680"/>
            </a:xfrm>
          </p:grpSpPr>
          <p:sp>
            <p:nvSpPr>
              <p:cNvPr id="932" name=""/>
              <p:cNvSpPr/>
              <p:nvPr/>
            </p:nvSpPr>
            <p:spPr>
              <a:xfrm>
                <a:off x="5187960" y="138744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208480" y="1554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360760" y="1554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5267160" y="1339920"/>
              <a:ext cx="74520" cy="28080"/>
              <a:chOff x="5267160" y="1339920"/>
              <a:chExt cx="74520" cy="28080"/>
            </a:xfrm>
          </p:grpSpPr>
          <p:sp>
            <p:nvSpPr>
              <p:cNvPr id="936" name=""/>
              <p:cNvSpPr/>
              <p:nvPr/>
            </p:nvSpPr>
            <p:spPr>
              <a:xfrm>
                <a:off x="5267160" y="1339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314680" y="1341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8" name=""/>
          <p:cNvSpPr/>
          <p:nvPr/>
        </p:nvSpPr>
        <p:spPr>
          <a:xfrm>
            <a:off x="5492880" y="1400040"/>
            <a:ext cx="223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t Truck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-09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505480" y="130320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628560" y="4856040"/>
            <a:ext cx="231840" cy="204480"/>
            <a:chOff x="628560" y="4856040"/>
            <a:chExt cx="231840" cy="204480"/>
          </a:xfrm>
        </p:grpSpPr>
        <p:grpSp>
          <p:nvGrpSpPr>
            <p:cNvPr id="941" name=""/>
            <p:cNvGrpSpPr/>
            <p:nvPr/>
          </p:nvGrpSpPr>
          <p:grpSpPr>
            <a:xfrm>
              <a:off x="628560" y="4903560"/>
              <a:ext cx="231840" cy="156960"/>
              <a:chOff x="628560" y="4903560"/>
              <a:chExt cx="231840" cy="156960"/>
            </a:xfrm>
          </p:grpSpPr>
          <p:sp>
            <p:nvSpPr>
              <p:cNvPr id="942" name=""/>
              <p:cNvSpPr/>
              <p:nvPr/>
            </p:nvSpPr>
            <p:spPr>
              <a:xfrm>
                <a:off x="628560" y="490356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630360" y="4906440"/>
                <a:ext cx="226800" cy="15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698400" y="4856040"/>
              <a:ext cx="93240" cy="27000"/>
              <a:chOff x="698400" y="4856040"/>
              <a:chExt cx="93240" cy="27000"/>
            </a:xfrm>
          </p:grpSpPr>
          <p:sp>
            <p:nvSpPr>
              <p:cNvPr id="945" name=""/>
              <p:cNvSpPr/>
              <p:nvPr/>
            </p:nvSpPr>
            <p:spPr>
              <a:xfrm>
                <a:off x="698400" y="4856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0" y="4856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2978280" y="5234040"/>
            <a:ext cx="2317680" cy="1106640"/>
            <a:chOff x="2978280" y="5234040"/>
            <a:chExt cx="2317680" cy="1106640"/>
          </a:xfrm>
        </p:grpSpPr>
        <p:sp>
          <p:nvSpPr>
            <p:cNvPr id="948" name=""/>
            <p:cNvSpPr/>
            <p:nvPr/>
          </p:nvSpPr>
          <p:spPr>
            <a:xfrm>
              <a:off x="3141720" y="5406840"/>
              <a:ext cx="1440" cy="59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141720" y="5734080"/>
              <a:ext cx="268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141720" y="6000840"/>
              <a:ext cx="27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40080" y="5734080"/>
              <a:ext cx="1440" cy="51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062160" y="5246640"/>
              <a:ext cx="131760" cy="27000"/>
              <a:chOff x="3062160" y="5246640"/>
              <a:chExt cx="131760" cy="27000"/>
            </a:xfrm>
          </p:grpSpPr>
          <p:sp>
            <p:nvSpPr>
              <p:cNvPr id="953" name=""/>
              <p:cNvSpPr/>
              <p:nvPr/>
            </p:nvSpPr>
            <p:spPr>
              <a:xfrm>
                <a:off x="3062160" y="5246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12920" y="5246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166920" y="52466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978280" y="5295960"/>
              <a:ext cx="300600" cy="207000"/>
              <a:chOff x="2978280" y="5295960"/>
              <a:chExt cx="300600" cy="20700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2978280" y="5295960"/>
                <a:ext cx="300600" cy="207000"/>
                <a:chOff x="2978280" y="5295960"/>
                <a:chExt cx="300600" cy="20700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2978280" y="5295960"/>
                  <a:ext cx="30060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2978280" y="5295960"/>
                  <a:ext cx="300600" cy="2030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2978280" y="5295960"/>
                <a:ext cx="75960" cy="203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3295800" y="5864040"/>
              <a:ext cx="231480" cy="204840"/>
              <a:chOff x="3295800" y="5864040"/>
              <a:chExt cx="231480" cy="20484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3295800" y="5911560"/>
                <a:ext cx="231480" cy="157320"/>
                <a:chOff x="3295800" y="5911560"/>
                <a:chExt cx="231480" cy="1573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3295800" y="5911560"/>
                  <a:ext cx="23148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V="1">
                  <a:off x="3413160" y="5914800"/>
                  <a:ext cx="113760" cy="152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295800" y="5911560"/>
                  <a:ext cx="114120" cy="1540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363840" y="5864040"/>
                <a:ext cx="92880" cy="27000"/>
                <a:chOff x="3363840" y="5864040"/>
                <a:chExt cx="92880" cy="270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363840" y="58640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428280" y="58640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9" name=""/>
            <p:cNvGrpSpPr/>
            <p:nvPr/>
          </p:nvGrpSpPr>
          <p:grpSpPr>
            <a:xfrm>
              <a:off x="3279600" y="5607000"/>
              <a:ext cx="237960" cy="206280"/>
              <a:chOff x="3279600" y="5607000"/>
              <a:chExt cx="237960" cy="20628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3279600" y="5649480"/>
                <a:ext cx="237960" cy="163800"/>
                <a:chOff x="3279600" y="5649480"/>
                <a:chExt cx="237960" cy="163800"/>
              </a:xfrm>
            </p:grpSpPr>
            <p:grpSp>
              <p:nvGrpSpPr>
                <p:cNvPr id="971" name=""/>
                <p:cNvGrpSpPr/>
                <p:nvPr/>
              </p:nvGrpSpPr>
              <p:grpSpPr>
                <a:xfrm>
                  <a:off x="3279600" y="5649480"/>
                  <a:ext cx="237960" cy="163800"/>
                  <a:chOff x="3279600" y="5649480"/>
                  <a:chExt cx="237960" cy="163800"/>
                </a:xfrm>
              </p:grpSpPr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3279600" y="5649480"/>
                    <a:ext cx="237960" cy="163800"/>
                    <a:chOff x="3279600" y="5649480"/>
                    <a:chExt cx="237960" cy="16380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3279600" y="5649840"/>
                      <a:ext cx="23796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V="1">
                      <a:off x="3279600" y="5649480"/>
                      <a:ext cx="23796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75" name=""/>
                  <p:cNvSpPr/>
                  <p:nvPr/>
                </p:nvSpPr>
                <p:spPr>
                  <a:xfrm>
                    <a:off x="3279600" y="565272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6" name=""/>
                <p:cNvSpPr/>
                <p:nvPr/>
              </p:nvSpPr>
              <p:spPr>
                <a:xfrm>
                  <a:off x="3279600" y="5649840"/>
                  <a:ext cx="5976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3350880" y="5607000"/>
                <a:ext cx="93240" cy="27000"/>
                <a:chOff x="3350880" y="5607000"/>
                <a:chExt cx="93240" cy="2700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3350880" y="5607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415680" y="5607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0" name=""/>
            <p:cNvSpPr/>
            <p:nvPr/>
          </p:nvSpPr>
          <p:spPr>
            <a:xfrm>
              <a:off x="3613320" y="606096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89200" y="6188040"/>
              <a:ext cx="17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valry      JA-P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3300480" y="6135480"/>
              <a:ext cx="231840" cy="204480"/>
              <a:chOff x="3300480" y="6135480"/>
              <a:chExt cx="231840" cy="20448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3300480" y="6183000"/>
                <a:ext cx="231840" cy="156960"/>
                <a:chOff x="3300480" y="6183000"/>
                <a:chExt cx="231840" cy="15696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3300480" y="618300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3302280" y="6185880"/>
                  <a:ext cx="226800" cy="151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3370320" y="6135480"/>
                <a:ext cx="93240" cy="27000"/>
                <a:chOff x="3370320" y="6135480"/>
                <a:chExt cx="93240" cy="2700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370320" y="6135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435120" y="61354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9" name=""/>
            <p:cNvSpPr/>
            <p:nvPr/>
          </p:nvSpPr>
          <p:spPr>
            <a:xfrm>
              <a:off x="3429000" y="5234040"/>
              <a:ext cx="160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mon Attachment     Cavalry MG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78040" y="5661000"/>
              <a:ext cx="17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MG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9200" y="5908680"/>
              <a:ext cx="17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R           JA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590920" y="3317760"/>
            <a:ext cx="2512800" cy="1397520"/>
            <a:chOff x="2590920" y="3317760"/>
            <a:chExt cx="2512800" cy="1397520"/>
          </a:xfrm>
        </p:grpSpPr>
        <p:sp>
          <p:nvSpPr>
            <p:cNvPr id="993" name=""/>
            <p:cNvSpPr/>
            <p:nvPr/>
          </p:nvSpPr>
          <p:spPr>
            <a:xfrm>
              <a:off x="3346560" y="428940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73320" y="3778200"/>
              <a:ext cx="0" cy="85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35280" y="3502080"/>
              <a:ext cx="0" cy="85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49800" y="398628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736720" y="4049640"/>
              <a:ext cx="343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9160" y="416232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49800" y="374796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46640" y="361800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046320" y="3932280"/>
              <a:ext cx="231840" cy="206280"/>
              <a:chOff x="3046320" y="3932280"/>
              <a:chExt cx="231840" cy="20628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3128760" y="3932280"/>
                <a:ext cx="74520" cy="28080"/>
                <a:chOff x="3128760" y="3932280"/>
                <a:chExt cx="74520" cy="2808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3128760" y="3932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176280" y="3933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3046320" y="3981240"/>
                <a:ext cx="231840" cy="157320"/>
                <a:chOff x="3046320" y="3981240"/>
                <a:chExt cx="231840" cy="1573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3046320" y="398124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3048480" y="398304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046320" y="39834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9" name=""/>
            <p:cNvSpPr/>
            <p:nvPr/>
          </p:nvSpPr>
          <p:spPr>
            <a:xfrm>
              <a:off x="2739960" y="378612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2590920" y="3362400"/>
              <a:ext cx="284040" cy="258840"/>
              <a:chOff x="2590920" y="3362400"/>
              <a:chExt cx="284040" cy="258840"/>
            </a:xfrm>
          </p:grpSpPr>
          <p:sp>
            <p:nvSpPr>
              <p:cNvPr id="1011" name=""/>
              <p:cNvSpPr/>
              <p:nvPr/>
            </p:nvSpPr>
            <p:spPr>
              <a:xfrm>
                <a:off x="2735280" y="3362400"/>
                <a:ext cx="108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590920" y="3427560"/>
                <a:ext cx="28404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2593800" y="3430440"/>
                <a:ext cx="276120" cy="189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3046320" y="3676680"/>
              <a:ext cx="237960" cy="200160"/>
              <a:chOff x="3046320" y="3676680"/>
              <a:chExt cx="237960" cy="200160"/>
            </a:xfrm>
          </p:grpSpPr>
          <p:sp>
            <p:nvSpPr>
              <p:cNvPr id="1015" name=""/>
              <p:cNvSpPr/>
              <p:nvPr/>
            </p:nvSpPr>
            <p:spPr>
              <a:xfrm>
                <a:off x="3151080" y="3676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46320" y="371952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2738520" y="435276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3040200" y="4221000"/>
              <a:ext cx="239400" cy="193680"/>
              <a:chOff x="3040200" y="4221000"/>
              <a:chExt cx="239400" cy="19368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3040200" y="4257720"/>
                <a:ext cx="239400" cy="156960"/>
                <a:chOff x="3040200" y="4257720"/>
                <a:chExt cx="239400" cy="15696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040200" y="4257720"/>
                  <a:ext cx="23940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124080" y="4383000"/>
                  <a:ext cx="6768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155760" y="4277880"/>
                  <a:ext cx="0" cy="1062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3122280" y="4221000"/>
                <a:ext cx="74520" cy="28800"/>
                <a:chOff x="3122280" y="4221000"/>
                <a:chExt cx="74520" cy="288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122280" y="4221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169800" y="4222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6" name=""/>
            <p:cNvSpPr/>
            <p:nvPr/>
          </p:nvSpPr>
          <p:spPr>
            <a:xfrm>
              <a:off x="3048120" y="3317760"/>
              <a:ext cx="205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18              Rifle and Sabre Company (Mo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348000" y="443556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24240" y="456264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4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valry                 JA-P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3035160" y="4510080"/>
              <a:ext cx="231840" cy="204480"/>
              <a:chOff x="3035160" y="4510080"/>
              <a:chExt cx="231840" cy="204480"/>
            </a:xfrm>
          </p:grpSpPr>
          <p:grpSp>
            <p:nvGrpSpPr>
              <p:cNvPr id="1030" name=""/>
              <p:cNvGrpSpPr/>
              <p:nvPr/>
            </p:nvGrpSpPr>
            <p:grpSpPr>
              <a:xfrm>
                <a:off x="3035160" y="4557600"/>
                <a:ext cx="231840" cy="156960"/>
                <a:chOff x="3035160" y="4557600"/>
                <a:chExt cx="231840" cy="15696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3035160" y="455760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V="1">
                  <a:off x="3036960" y="4560480"/>
                  <a:ext cx="226800" cy="151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3105000" y="4510080"/>
                <a:ext cx="93240" cy="27000"/>
                <a:chOff x="3105000" y="4510080"/>
                <a:chExt cx="93240" cy="270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3105000" y="4510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169800" y="4510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36" name=""/>
          <p:cNvSpPr/>
          <p:nvPr/>
        </p:nvSpPr>
        <p:spPr>
          <a:xfrm>
            <a:off x="5797440" y="3833640"/>
            <a:ext cx="0" cy="64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64080" y="3584520"/>
            <a:ext cx="0" cy="520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073920" y="404172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JA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60840" y="4105440"/>
            <a:ext cx="343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73920" y="380376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JA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107040" y="367344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/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5770440" y="3987720"/>
            <a:ext cx="231840" cy="206280"/>
            <a:chOff x="5770440" y="3987720"/>
            <a:chExt cx="231840" cy="206280"/>
          </a:xfrm>
        </p:grpSpPr>
        <p:grpSp>
          <p:nvGrpSpPr>
            <p:cNvPr id="1043" name=""/>
            <p:cNvGrpSpPr/>
            <p:nvPr/>
          </p:nvGrpSpPr>
          <p:grpSpPr>
            <a:xfrm>
              <a:off x="5852880" y="3987720"/>
              <a:ext cx="74520" cy="28080"/>
              <a:chOff x="5852880" y="3987720"/>
              <a:chExt cx="74520" cy="28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5852880" y="3987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900400" y="3989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770440" y="4036680"/>
              <a:ext cx="231840" cy="157320"/>
              <a:chOff x="5770440" y="4036680"/>
              <a:chExt cx="231840" cy="157320"/>
            </a:xfrm>
          </p:grpSpPr>
          <p:sp>
            <p:nvSpPr>
              <p:cNvPr id="1047" name=""/>
              <p:cNvSpPr/>
              <p:nvPr/>
            </p:nvSpPr>
            <p:spPr>
              <a:xfrm>
                <a:off x="5770440" y="403668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5772600" y="4038480"/>
                <a:ext cx="22572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770440" y="403884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"/>
          <p:cNvSpPr/>
          <p:nvPr/>
        </p:nvSpPr>
        <p:spPr>
          <a:xfrm>
            <a:off x="5464080" y="3841920"/>
            <a:ext cx="300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5315040" y="3417840"/>
            <a:ext cx="284040" cy="258840"/>
            <a:chOff x="5315040" y="3417840"/>
            <a:chExt cx="284040" cy="258840"/>
          </a:xfrm>
        </p:grpSpPr>
        <p:sp>
          <p:nvSpPr>
            <p:cNvPr id="1052" name=""/>
            <p:cNvSpPr/>
            <p:nvPr/>
          </p:nvSpPr>
          <p:spPr>
            <a:xfrm>
              <a:off x="5459400" y="3417840"/>
              <a:ext cx="108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15040" y="3483000"/>
              <a:ext cx="28404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5317920" y="3485880"/>
              <a:ext cx="276120" cy="18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770440" y="3732120"/>
            <a:ext cx="237960" cy="200160"/>
            <a:chOff x="5770440" y="3732120"/>
            <a:chExt cx="237960" cy="200160"/>
          </a:xfrm>
        </p:grpSpPr>
        <p:sp>
          <p:nvSpPr>
            <p:cNvPr id="1056" name=""/>
            <p:cNvSpPr/>
            <p:nvPr/>
          </p:nvSpPr>
          <p:spPr>
            <a:xfrm>
              <a:off x="5875200" y="3732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70440" y="3774960"/>
              <a:ext cx="237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5772240" y="3373560"/>
            <a:ext cx="2055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18              Recce Cavalry Company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72120" y="4205160"/>
            <a:ext cx="16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48360" y="4332240"/>
            <a:ext cx="170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7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valry                 JA-P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5759280" y="4280040"/>
            <a:ext cx="231840" cy="204480"/>
            <a:chOff x="5759280" y="4280040"/>
            <a:chExt cx="231840" cy="204480"/>
          </a:xfrm>
        </p:grpSpPr>
        <p:grpSp>
          <p:nvGrpSpPr>
            <p:cNvPr id="1062" name=""/>
            <p:cNvGrpSpPr/>
            <p:nvPr/>
          </p:nvGrpSpPr>
          <p:grpSpPr>
            <a:xfrm>
              <a:off x="5759280" y="4327560"/>
              <a:ext cx="231840" cy="156960"/>
              <a:chOff x="5759280" y="4327560"/>
              <a:chExt cx="231840" cy="156960"/>
            </a:xfrm>
          </p:grpSpPr>
          <p:sp>
            <p:nvSpPr>
              <p:cNvPr id="1063" name=""/>
              <p:cNvSpPr/>
              <p:nvPr/>
            </p:nvSpPr>
            <p:spPr>
              <a:xfrm>
                <a:off x="5759280" y="432756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5761080" y="4330440"/>
                <a:ext cx="226800" cy="15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5829120" y="4280040"/>
              <a:ext cx="93240" cy="27000"/>
              <a:chOff x="5829120" y="4280040"/>
              <a:chExt cx="93240" cy="27000"/>
            </a:xfrm>
          </p:grpSpPr>
          <p:sp>
            <p:nvSpPr>
              <p:cNvPr id="1066" name=""/>
              <p:cNvSpPr/>
              <p:nvPr/>
            </p:nvSpPr>
            <p:spPr>
              <a:xfrm>
                <a:off x="5829120" y="4280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93920" y="42800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"/>
          <p:cNvSpPr/>
          <p:nvPr/>
        </p:nvSpPr>
        <p:spPr>
          <a:xfrm>
            <a:off x="5284800" y="4633920"/>
            <a:ext cx="2644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Part of an infantry division’s reconnaissance troops. While mounted in theory, these formations were often used dismounted on the Pacific Is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07040" y="39178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433320" y="0"/>
            <a:ext cx="2987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Arti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240" y="581040"/>
            <a:ext cx="3530520" cy="1805040"/>
            <a:chOff x="3240" y="581040"/>
            <a:chExt cx="3530520" cy="1805040"/>
          </a:xfrm>
        </p:grpSpPr>
        <p:sp>
          <p:nvSpPr>
            <p:cNvPr id="1072" name=""/>
            <p:cNvSpPr/>
            <p:nvPr/>
          </p:nvSpPr>
          <p:spPr>
            <a:xfrm>
              <a:off x="77760" y="581040"/>
              <a:ext cx="2017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re Support Element-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3680" y="98748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eld Gun Company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7680" y="168120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5400" y="1465200"/>
              <a:ext cx="20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9560" y="1569960"/>
              <a:ext cx="208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5mm Field Gun 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44440" y="1382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7200" y="1160640"/>
              <a:ext cx="133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1360" y="1260360"/>
              <a:ext cx="229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orward Observer           JA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40" y="1863720"/>
              <a:ext cx="35305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Forward Observer may be attached to any maneuver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direct Fire weapon rating: -1 vs V, 0 vs T,G,s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388800" y="1542960"/>
              <a:ext cx="239760" cy="208080"/>
              <a:chOff x="388800" y="1542960"/>
              <a:chExt cx="239760" cy="208080"/>
            </a:xfrm>
          </p:grpSpPr>
          <p:grpSp>
            <p:nvGrpSpPr>
              <p:cNvPr id="1082" name=""/>
              <p:cNvGrpSpPr/>
              <p:nvPr/>
            </p:nvGrpSpPr>
            <p:grpSpPr>
              <a:xfrm>
                <a:off x="471600" y="1542960"/>
                <a:ext cx="74520" cy="28800"/>
                <a:chOff x="471600" y="1542960"/>
                <a:chExt cx="74520" cy="2880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471600" y="1542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19120" y="1544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" name=""/>
              <p:cNvSpPr/>
              <p:nvPr/>
            </p:nvSpPr>
            <p:spPr>
              <a:xfrm>
                <a:off x="388800" y="1593720"/>
                <a:ext cx="2397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90680" y="1654200"/>
                <a:ext cx="36360" cy="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95280" y="1260360"/>
              <a:ext cx="231840" cy="200160"/>
              <a:chOff x="395280" y="1260360"/>
              <a:chExt cx="231840" cy="2001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93560" y="1260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95280" y="1303200"/>
                <a:ext cx="231840" cy="157320"/>
                <a:chOff x="395280" y="1303200"/>
                <a:chExt cx="231840" cy="15732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95280" y="130320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82760" y="1353960"/>
                  <a:ext cx="5688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2" name=""/>
            <p:cNvSpPr/>
            <p:nvPr/>
          </p:nvSpPr>
          <p:spPr>
            <a:xfrm>
              <a:off x="244440" y="1168560"/>
              <a:ext cx="0" cy="52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98280" y="949320"/>
              <a:ext cx="292320" cy="254160"/>
              <a:chOff x="98280" y="949320"/>
              <a:chExt cx="292320" cy="254160"/>
            </a:xfrm>
          </p:grpSpPr>
          <p:sp>
            <p:nvSpPr>
              <p:cNvPr id="1094" name=""/>
              <p:cNvSpPr/>
              <p:nvPr/>
            </p:nvSpPr>
            <p:spPr>
              <a:xfrm>
                <a:off x="244440" y="949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98280" y="1012680"/>
                <a:ext cx="292320" cy="19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22120" y="1085760"/>
                <a:ext cx="44640" cy="44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panese Airborne Troop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the article “Airborne Samurai-Reference notes for ASL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Steven C. Sw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1400" y="2367000"/>
            <a:ext cx="23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er Element-A01                  Airborne SNLF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27080" y="914400"/>
            <a:ext cx="2695320" cy="1369800"/>
            <a:chOff x="127080" y="914400"/>
            <a:chExt cx="2695320" cy="1369800"/>
          </a:xfrm>
        </p:grpSpPr>
        <p:sp>
          <p:nvSpPr>
            <p:cNvPr id="1100" name=""/>
            <p:cNvSpPr/>
            <p:nvPr/>
          </p:nvSpPr>
          <p:spPr>
            <a:xfrm>
              <a:off x="301680" y="1247760"/>
              <a:ext cx="0" cy="9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3120" y="178128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3120" y="219852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6600" y="914400"/>
              <a:ext cx="192060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A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irborne SNLF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iuchi and Fukumi Fo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Yokusuka 1 and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17640" y="170352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17640" y="157320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87240" y="1663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49320" y="198432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1040" y="171144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581040" y="2028960"/>
              <a:ext cx="283680" cy="255240"/>
              <a:chOff x="581040" y="2028960"/>
              <a:chExt cx="283680" cy="255240"/>
            </a:xfrm>
          </p:grpSpPr>
          <p:sp>
            <p:nvSpPr>
              <p:cNvPr id="1110" name=""/>
              <p:cNvSpPr/>
              <p:nvPr/>
            </p:nvSpPr>
            <p:spPr>
              <a:xfrm>
                <a:off x="728640" y="202896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1" name=""/>
              <p:cNvGrpSpPr/>
              <p:nvPr/>
            </p:nvGrpSpPr>
            <p:grpSpPr>
              <a:xfrm>
                <a:off x="581040" y="2090880"/>
                <a:ext cx="283680" cy="193320"/>
                <a:chOff x="581040" y="2090880"/>
                <a:chExt cx="283680" cy="193320"/>
              </a:xfrm>
            </p:grpSpPr>
            <p:grpSp>
              <p:nvGrpSpPr>
                <p:cNvPr id="1112" name=""/>
                <p:cNvGrpSpPr/>
                <p:nvPr/>
              </p:nvGrpSpPr>
              <p:grpSpPr>
                <a:xfrm>
                  <a:off x="581040" y="2090880"/>
                  <a:ext cx="283680" cy="193320"/>
                  <a:chOff x="581040" y="2090880"/>
                  <a:chExt cx="283680" cy="1933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581040" y="2090880"/>
                    <a:ext cx="283680" cy="1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V="1">
                    <a:off x="583920" y="2093400"/>
                    <a:ext cx="276120" cy="1890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581040" y="2093760"/>
                    <a:ext cx="282240" cy="1843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684000" y="2233440"/>
                  <a:ext cx="77040" cy="46800"/>
                  <a:chOff x="684000" y="2233440"/>
                  <a:chExt cx="77040" cy="4680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84000" y="2233440"/>
                    <a:ext cx="37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723600" y="2233440"/>
                    <a:ext cx="3744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19" name=""/>
            <p:cNvSpPr/>
            <p:nvPr/>
          </p:nvSpPr>
          <p:spPr>
            <a:xfrm>
              <a:off x="949320" y="2130120"/>
              <a:ext cx="187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irborne SNLF Co. ME-A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127080" y="1074600"/>
              <a:ext cx="347400" cy="291960"/>
              <a:chOff x="127080" y="1074600"/>
              <a:chExt cx="347400" cy="29196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262080" y="1074600"/>
                <a:ext cx="75960" cy="63720"/>
                <a:chOff x="262080" y="1074600"/>
                <a:chExt cx="75960" cy="6372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62080" y="10746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38040" y="10746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127080" y="1130400"/>
                <a:ext cx="347400" cy="236160"/>
                <a:chOff x="127080" y="1130400"/>
                <a:chExt cx="347400" cy="2361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127080" y="1130400"/>
                  <a:ext cx="347400" cy="23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V="1">
                  <a:off x="130680" y="113400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27080" y="113400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250920" y="1300320"/>
                <a:ext cx="96480" cy="58320"/>
                <a:chOff x="250920" y="1300320"/>
                <a:chExt cx="96480" cy="583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250920" y="1300320"/>
                  <a:ext cx="47160" cy="583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00600" y="1300320"/>
                  <a:ext cx="46800" cy="583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1" name=""/>
          <p:cNvGrpSpPr/>
          <p:nvPr/>
        </p:nvGrpSpPr>
        <p:grpSpPr>
          <a:xfrm>
            <a:off x="5407200" y="925560"/>
            <a:ext cx="2802960" cy="1759680"/>
            <a:chOff x="5407200" y="925560"/>
            <a:chExt cx="2802960" cy="1759680"/>
          </a:xfrm>
        </p:grpSpPr>
        <p:sp>
          <p:nvSpPr>
            <p:cNvPr id="1132" name=""/>
            <p:cNvSpPr/>
            <p:nvPr/>
          </p:nvSpPr>
          <p:spPr>
            <a:xfrm>
              <a:off x="6225840" y="1939320"/>
              <a:ext cx="198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irborne Raiding Co.      ME-A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581440" y="1153800"/>
              <a:ext cx="0" cy="14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886360" y="925560"/>
              <a:ext cx="192024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A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irborne Raiding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ishin Renta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5407200" y="993600"/>
              <a:ext cx="347040" cy="289440"/>
              <a:chOff x="5407200" y="993600"/>
              <a:chExt cx="347040" cy="28944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5514840" y="993600"/>
                <a:ext cx="131400" cy="63000"/>
                <a:chOff x="5514840" y="993600"/>
                <a:chExt cx="131400" cy="630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5581080" y="99360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8" name=""/>
                <p:cNvGrpSpPr/>
                <p:nvPr/>
              </p:nvGrpSpPr>
              <p:grpSpPr>
                <a:xfrm>
                  <a:off x="5514840" y="993600"/>
                  <a:ext cx="131400" cy="63000"/>
                  <a:chOff x="5514840" y="993600"/>
                  <a:chExt cx="131400" cy="6300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5514840" y="993600"/>
                    <a:ext cx="0" cy="63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646240" y="993600"/>
                    <a:ext cx="0" cy="63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1" name=""/>
              <p:cNvGrpSpPr/>
              <p:nvPr/>
            </p:nvGrpSpPr>
            <p:grpSpPr>
              <a:xfrm>
                <a:off x="5407200" y="1047240"/>
                <a:ext cx="347040" cy="235800"/>
                <a:chOff x="5407200" y="1047240"/>
                <a:chExt cx="347040" cy="23580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5407200" y="1047240"/>
                  <a:ext cx="347040" cy="23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5410800" y="1050480"/>
                  <a:ext cx="338400" cy="230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407200" y="1050840"/>
                  <a:ext cx="345600" cy="225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535360" y="1212120"/>
                <a:ext cx="96120" cy="58320"/>
                <a:chOff x="5535360" y="1212120"/>
                <a:chExt cx="96120" cy="5832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535360" y="1212120"/>
                  <a:ext cx="47160" cy="583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584680" y="1212120"/>
                  <a:ext cx="46800" cy="583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8" name=""/>
            <p:cNvSpPr/>
            <p:nvPr/>
          </p:nvSpPr>
          <p:spPr>
            <a:xfrm>
              <a:off x="5580000" y="1676160"/>
              <a:ext cx="299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580000" y="2008080"/>
              <a:ext cx="2995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94160" y="15984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194160" y="146844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64120" y="155880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225840" y="179388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57560" y="160632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5857560" y="1838160"/>
              <a:ext cx="283680" cy="254520"/>
              <a:chOff x="5857560" y="1838160"/>
              <a:chExt cx="283680" cy="254520"/>
            </a:xfrm>
          </p:grpSpPr>
          <p:sp>
            <p:nvSpPr>
              <p:cNvPr id="1156" name=""/>
              <p:cNvSpPr/>
              <p:nvPr/>
            </p:nvSpPr>
            <p:spPr>
              <a:xfrm>
                <a:off x="6005160" y="1838160"/>
                <a:ext cx="180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5857560" y="1899720"/>
                <a:ext cx="283680" cy="192960"/>
                <a:chOff x="5857560" y="1899720"/>
                <a:chExt cx="283680" cy="192960"/>
              </a:xfrm>
            </p:grpSpPr>
            <p:grpSp>
              <p:nvGrpSpPr>
                <p:cNvPr id="1158" name=""/>
                <p:cNvGrpSpPr/>
                <p:nvPr/>
              </p:nvGrpSpPr>
              <p:grpSpPr>
                <a:xfrm>
                  <a:off x="5857560" y="1899720"/>
                  <a:ext cx="283680" cy="192960"/>
                  <a:chOff x="5857560" y="1899720"/>
                  <a:chExt cx="283680" cy="1929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5857560" y="1899720"/>
                    <a:ext cx="283680" cy="19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V="1">
                    <a:off x="5860440" y="1902600"/>
                    <a:ext cx="276120" cy="18864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857560" y="1902600"/>
                    <a:ext cx="282240" cy="1839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5960520" y="2041920"/>
                  <a:ext cx="77040" cy="46800"/>
                  <a:chOff x="5960520" y="2041920"/>
                  <a:chExt cx="77040" cy="4680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5960520" y="2041920"/>
                    <a:ext cx="37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6000120" y="2041920"/>
                    <a:ext cx="3744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5" name=""/>
            <p:cNvSpPr/>
            <p:nvPr/>
          </p:nvSpPr>
          <p:spPr>
            <a:xfrm>
              <a:off x="5586120" y="2331720"/>
              <a:ext cx="39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86120" y="2600280"/>
              <a:ext cx="3967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5900400" y="2222280"/>
              <a:ext cx="239400" cy="205560"/>
              <a:chOff x="5900400" y="2222280"/>
              <a:chExt cx="239400" cy="205560"/>
            </a:xfrm>
          </p:grpSpPr>
          <p:sp>
            <p:nvSpPr>
              <p:cNvPr id="1168" name=""/>
              <p:cNvSpPr/>
              <p:nvPr/>
            </p:nvSpPr>
            <p:spPr>
              <a:xfrm>
                <a:off x="5900400" y="2271240"/>
                <a:ext cx="239400" cy="15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5900400" y="2272320"/>
                <a:ext cx="23760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00400" y="2274480"/>
                <a:ext cx="237600" cy="15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01560" y="2331360"/>
                <a:ext cx="36000" cy="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5982480" y="2222280"/>
                <a:ext cx="73800" cy="27720"/>
                <a:chOff x="5982480" y="2222280"/>
                <a:chExt cx="73800" cy="277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982480" y="2222280"/>
                  <a:ext cx="2808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029640" y="2223720"/>
                  <a:ext cx="266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5" name=""/>
            <p:cNvSpPr/>
            <p:nvPr/>
          </p:nvSpPr>
          <p:spPr>
            <a:xfrm>
              <a:off x="6224400" y="225396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0mm Btn Gun       JA-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5900400" y="2479680"/>
              <a:ext cx="239400" cy="205560"/>
              <a:chOff x="5900400" y="2479680"/>
              <a:chExt cx="239400" cy="205560"/>
            </a:xfrm>
          </p:grpSpPr>
          <p:sp>
            <p:nvSpPr>
              <p:cNvPr id="1177" name=""/>
              <p:cNvSpPr/>
              <p:nvPr/>
            </p:nvSpPr>
            <p:spPr>
              <a:xfrm>
                <a:off x="5900400" y="2528640"/>
                <a:ext cx="239400" cy="15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5900400" y="2530080"/>
                <a:ext cx="23796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900400" y="2531880"/>
                <a:ext cx="237960" cy="1515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001920" y="2588760"/>
                <a:ext cx="36360" cy="36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1" name=""/>
              <p:cNvGrpSpPr/>
              <p:nvPr/>
            </p:nvGrpSpPr>
            <p:grpSpPr>
              <a:xfrm>
                <a:off x="5982840" y="2479680"/>
                <a:ext cx="74520" cy="28080"/>
                <a:chOff x="5982840" y="2479680"/>
                <a:chExt cx="74520" cy="2808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5982840" y="24796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6030360" y="24811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4" name=""/>
            <p:cNvSpPr/>
            <p:nvPr/>
          </p:nvSpPr>
          <p:spPr>
            <a:xfrm>
              <a:off x="6243480" y="25110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ype 41 Mtn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44920" y="213660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171360" y="2428920"/>
            <a:ext cx="2595600" cy="1305000"/>
            <a:chOff x="171360" y="2428920"/>
            <a:chExt cx="2595600" cy="1305000"/>
          </a:xfrm>
        </p:grpSpPr>
        <p:sp>
          <p:nvSpPr>
            <p:cNvPr id="1187" name=""/>
            <p:cNvSpPr/>
            <p:nvPr/>
          </p:nvSpPr>
          <p:spPr>
            <a:xfrm>
              <a:off x="318960" y="2614680"/>
              <a:ext cx="0" cy="10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33480" y="3025800"/>
              <a:ext cx="183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troop Infantry  JA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0760" y="308916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33480" y="280368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30320" y="26733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712800" y="2971800"/>
              <a:ext cx="74520" cy="28080"/>
              <a:chOff x="712800" y="2971800"/>
              <a:chExt cx="74520" cy="28080"/>
            </a:xfrm>
          </p:grpSpPr>
          <p:sp>
            <p:nvSpPr>
              <p:cNvPr id="1193" name=""/>
              <p:cNvSpPr/>
              <p:nvPr/>
            </p:nvSpPr>
            <p:spPr>
              <a:xfrm>
                <a:off x="712800" y="2971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0320" y="2973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5" name=""/>
            <p:cNvSpPr/>
            <p:nvPr/>
          </p:nvSpPr>
          <p:spPr>
            <a:xfrm>
              <a:off x="324000" y="2841480"/>
              <a:ext cx="299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30360" y="2732040"/>
              <a:ext cx="237960" cy="200160"/>
              <a:chOff x="630360" y="2732040"/>
              <a:chExt cx="237960" cy="200160"/>
            </a:xfrm>
          </p:grpSpPr>
          <p:sp>
            <p:nvSpPr>
              <p:cNvPr id="1197" name=""/>
              <p:cNvSpPr/>
              <p:nvPr/>
            </p:nvSpPr>
            <p:spPr>
              <a:xfrm>
                <a:off x="735120" y="2732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0360" y="277488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171360" y="2428920"/>
              <a:ext cx="284040" cy="252000"/>
              <a:chOff x="171360" y="2428920"/>
              <a:chExt cx="284040" cy="252000"/>
            </a:xfrm>
          </p:grpSpPr>
          <p:sp>
            <p:nvSpPr>
              <p:cNvPr id="1200" name=""/>
              <p:cNvSpPr/>
              <p:nvPr/>
            </p:nvSpPr>
            <p:spPr>
              <a:xfrm>
                <a:off x="325440" y="242892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171360" y="2487600"/>
                <a:ext cx="284040" cy="193320"/>
                <a:chOff x="171360" y="2487600"/>
                <a:chExt cx="284040" cy="193320"/>
              </a:xfrm>
            </p:grpSpPr>
            <p:grpSp>
              <p:nvGrpSpPr>
                <p:cNvPr id="1202" name=""/>
                <p:cNvGrpSpPr/>
                <p:nvPr/>
              </p:nvGrpSpPr>
              <p:grpSpPr>
                <a:xfrm>
                  <a:off x="171360" y="2487600"/>
                  <a:ext cx="284040" cy="193320"/>
                  <a:chOff x="171360" y="2487600"/>
                  <a:chExt cx="284040" cy="19332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171360" y="2487600"/>
                    <a:ext cx="284040" cy="1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V="1">
                    <a:off x="174240" y="2490120"/>
                    <a:ext cx="276480" cy="1890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71360" y="2490480"/>
                    <a:ext cx="282600" cy="1843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6" name=""/>
                <p:cNvGrpSpPr/>
                <p:nvPr/>
              </p:nvGrpSpPr>
              <p:grpSpPr>
                <a:xfrm>
                  <a:off x="274320" y="2630160"/>
                  <a:ext cx="77040" cy="46800"/>
                  <a:chOff x="274320" y="2630160"/>
                  <a:chExt cx="77040" cy="4680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>
                    <a:off x="274320" y="2630160"/>
                    <a:ext cx="37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13920" y="2630160"/>
                    <a:ext cx="3744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09" name=""/>
            <p:cNvGrpSpPr/>
            <p:nvPr/>
          </p:nvGrpSpPr>
          <p:grpSpPr>
            <a:xfrm>
              <a:off x="635040" y="3014640"/>
              <a:ext cx="231840" cy="157320"/>
              <a:chOff x="635040" y="3014640"/>
              <a:chExt cx="231840" cy="157320"/>
            </a:xfrm>
          </p:grpSpPr>
          <p:grpSp>
            <p:nvGrpSpPr>
              <p:cNvPr id="1210" name=""/>
              <p:cNvGrpSpPr/>
              <p:nvPr/>
            </p:nvGrpSpPr>
            <p:grpSpPr>
              <a:xfrm>
                <a:off x="635040" y="3014640"/>
                <a:ext cx="231840" cy="157320"/>
                <a:chOff x="635040" y="3014640"/>
                <a:chExt cx="231840" cy="15732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635040" y="301464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V="1">
                  <a:off x="637200" y="301644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635040" y="30168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719280" y="3130560"/>
                <a:ext cx="63000" cy="38160"/>
                <a:chOff x="719280" y="3130560"/>
                <a:chExt cx="63000" cy="381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719280" y="3130560"/>
                  <a:ext cx="30960" cy="3816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751680" y="3130560"/>
                  <a:ext cx="30600" cy="3816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7" name=""/>
            <p:cNvSpPr/>
            <p:nvPr/>
          </p:nvSpPr>
          <p:spPr>
            <a:xfrm>
              <a:off x="939960" y="346248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8960" y="364500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27000" y="3581280"/>
              <a:ext cx="17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enade Discharger JA-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620640" y="3500280"/>
              <a:ext cx="239760" cy="206280"/>
              <a:chOff x="620640" y="3500280"/>
              <a:chExt cx="239760" cy="206280"/>
            </a:xfrm>
          </p:grpSpPr>
          <p:grpSp>
            <p:nvGrpSpPr>
              <p:cNvPr id="1221" name=""/>
              <p:cNvGrpSpPr/>
              <p:nvPr/>
            </p:nvGrpSpPr>
            <p:grpSpPr>
              <a:xfrm>
                <a:off x="620640" y="3549240"/>
                <a:ext cx="239760" cy="157320"/>
                <a:chOff x="620640" y="3549240"/>
                <a:chExt cx="239760" cy="15732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620640" y="354924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704880" y="367488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736560" y="356976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703080" y="3500280"/>
                <a:ext cx="74520" cy="28080"/>
                <a:chOff x="703080" y="3500280"/>
                <a:chExt cx="74520" cy="280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703080" y="3500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50600" y="3501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8" name=""/>
            <p:cNvSpPr/>
            <p:nvPr/>
          </p:nvSpPr>
          <p:spPr>
            <a:xfrm>
              <a:off x="314280" y="335916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9" name=""/>
            <p:cNvGrpSpPr/>
            <p:nvPr/>
          </p:nvGrpSpPr>
          <p:grpSpPr>
            <a:xfrm>
              <a:off x="630360" y="3238560"/>
              <a:ext cx="237960" cy="204840"/>
              <a:chOff x="630360" y="3238560"/>
              <a:chExt cx="237960" cy="20484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630360" y="3279600"/>
                <a:ext cx="237960" cy="163800"/>
                <a:chOff x="630360" y="3279600"/>
                <a:chExt cx="237960" cy="163800"/>
              </a:xfrm>
            </p:grpSpPr>
            <p:grpSp>
              <p:nvGrpSpPr>
                <p:cNvPr id="1231" name=""/>
                <p:cNvGrpSpPr/>
                <p:nvPr/>
              </p:nvGrpSpPr>
              <p:grpSpPr>
                <a:xfrm>
                  <a:off x="630360" y="3279600"/>
                  <a:ext cx="237960" cy="163800"/>
                  <a:chOff x="630360" y="3279600"/>
                  <a:chExt cx="237960" cy="163800"/>
                </a:xfrm>
              </p:grpSpPr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630360" y="3279600"/>
                    <a:ext cx="237960" cy="163800"/>
                    <a:chOff x="630360" y="3279600"/>
                    <a:chExt cx="237960" cy="16380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630360" y="3279960"/>
                      <a:ext cx="23796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 flipV="1">
                      <a:off x="630360" y="3279600"/>
                      <a:ext cx="23796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5" name=""/>
                  <p:cNvSpPr/>
                  <p:nvPr/>
                </p:nvSpPr>
                <p:spPr>
                  <a:xfrm>
                    <a:off x="630360" y="328284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6" name=""/>
                <p:cNvSpPr/>
                <p:nvPr/>
              </p:nvSpPr>
              <p:spPr>
                <a:xfrm>
                  <a:off x="630360" y="3279960"/>
                  <a:ext cx="5976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714600" y="3238560"/>
                <a:ext cx="74520" cy="28800"/>
                <a:chOff x="714600" y="3238560"/>
                <a:chExt cx="74520" cy="2880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714600" y="32385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762120" y="3240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0" name=""/>
            <p:cNvSpPr/>
            <p:nvPr/>
          </p:nvSpPr>
          <p:spPr>
            <a:xfrm>
              <a:off x="933480" y="328464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MG                        JA-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39680" y="3884760"/>
            <a:ext cx="2876400" cy="1300320"/>
            <a:chOff x="139680" y="3884760"/>
            <a:chExt cx="2876400" cy="1300320"/>
          </a:xfrm>
        </p:grpSpPr>
        <p:sp>
          <p:nvSpPr>
            <p:cNvPr id="1242" name=""/>
            <p:cNvSpPr/>
            <p:nvPr/>
          </p:nvSpPr>
          <p:spPr>
            <a:xfrm>
              <a:off x="639720" y="3884760"/>
              <a:ext cx="237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A02                    Airborne Raiding C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286920" y="4113360"/>
              <a:ext cx="1800" cy="9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01800" y="4524480"/>
              <a:ext cx="183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troop Infantry    JA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89080" y="458784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901800" y="43020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98640" y="417204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681120" y="4470480"/>
              <a:ext cx="74520" cy="28080"/>
              <a:chOff x="681120" y="4470480"/>
              <a:chExt cx="74520" cy="28080"/>
            </a:xfrm>
          </p:grpSpPr>
          <p:sp>
            <p:nvSpPr>
              <p:cNvPr id="1249" name=""/>
              <p:cNvSpPr/>
              <p:nvPr/>
            </p:nvSpPr>
            <p:spPr>
              <a:xfrm>
                <a:off x="681120" y="44704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28640" y="44719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291960" y="434016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598320" y="4230720"/>
              <a:ext cx="237960" cy="200160"/>
              <a:chOff x="598320" y="4230720"/>
              <a:chExt cx="237960" cy="200160"/>
            </a:xfrm>
          </p:grpSpPr>
          <p:sp>
            <p:nvSpPr>
              <p:cNvPr id="1253" name=""/>
              <p:cNvSpPr/>
              <p:nvPr/>
            </p:nvSpPr>
            <p:spPr>
              <a:xfrm>
                <a:off x="703080" y="4230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98320" y="427356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139680" y="3927600"/>
              <a:ext cx="283680" cy="252000"/>
              <a:chOff x="139680" y="3927600"/>
              <a:chExt cx="283680" cy="252000"/>
            </a:xfrm>
          </p:grpSpPr>
          <p:sp>
            <p:nvSpPr>
              <p:cNvPr id="1256" name=""/>
              <p:cNvSpPr/>
              <p:nvPr/>
            </p:nvSpPr>
            <p:spPr>
              <a:xfrm>
                <a:off x="293400" y="3927600"/>
                <a:ext cx="108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7" name=""/>
              <p:cNvGrpSpPr/>
              <p:nvPr/>
            </p:nvGrpSpPr>
            <p:grpSpPr>
              <a:xfrm>
                <a:off x="139680" y="3986280"/>
                <a:ext cx="283680" cy="193320"/>
                <a:chOff x="139680" y="3986280"/>
                <a:chExt cx="283680" cy="193320"/>
              </a:xfrm>
            </p:grpSpPr>
            <p:grpSp>
              <p:nvGrpSpPr>
                <p:cNvPr id="1258" name=""/>
                <p:cNvGrpSpPr/>
                <p:nvPr/>
              </p:nvGrpSpPr>
              <p:grpSpPr>
                <a:xfrm>
                  <a:off x="139680" y="3986280"/>
                  <a:ext cx="283680" cy="193320"/>
                  <a:chOff x="139680" y="3986280"/>
                  <a:chExt cx="283680" cy="19332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139680" y="3986280"/>
                    <a:ext cx="283680" cy="1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 flipV="1">
                    <a:off x="142560" y="3988800"/>
                    <a:ext cx="276120" cy="1890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39680" y="3989160"/>
                    <a:ext cx="282240" cy="1843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2" name=""/>
                <p:cNvGrpSpPr/>
                <p:nvPr/>
              </p:nvGrpSpPr>
              <p:grpSpPr>
                <a:xfrm>
                  <a:off x="242640" y="4128840"/>
                  <a:ext cx="77040" cy="46800"/>
                  <a:chOff x="242640" y="4128840"/>
                  <a:chExt cx="77040" cy="4680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242640" y="4128840"/>
                    <a:ext cx="37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282240" y="4128840"/>
                    <a:ext cx="3744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0">
                        <a:moveTo>
                          <a:pt x="0" y="30"/>
                        </a:moveTo>
                        <a:cubicBezTo>
                          <a:pt x="2" y="25"/>
                          <a:pt x="9" y="0"/>
                          <a:pt x="13" y="0"/>
                        </a:cubicBezTo>
                        <a:cubicBezTo>
                          <a:pt x="17" y="0"/>
                          <a:pt x="22" y="23"/>
                          <a:pt x="24" y="29"/>
                        </a:cubicBezTo>
                      </a:path>
                    </a:pathLst>
                  </a:custGeom>
                  <a:noFill/>
                  <a:ln w="32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65" name=""/>
            <p:cNvGrpSpPr/>
            <p:nvPr/>
          </p:nvGrpSpPr>
          <p:grpSpPr>
            <a:xfrm>
              <a:off x="603360" y="4513320"/>
              <a:ext cx="231840" cy="156960"/>
              <a:chOff x="603360" y="4513320"/>
              <a:chExt cx="231840" cy="1569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603360" y="4513320"/>
                <a:ext cx="231840" cy="156960"/>
                <a:chOff x="603360" y="4513320"/>
                <a:chExt cx="231840" cy="1569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03360" y="4513320"/>
                  <a:ext cx="23184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605520" y="451548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03360" y="45154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"/>
              <p:cNvGrpSpPr/>
              <p:nvPr/>
            </p:nvGrpSpPr>
            <p:grpSpPr>
              <a:xfrm>
                <a:off x="687600" y="4628880"/>
                <a:ext cx="63000" cy="37800"/>
                <a:chOff x="687600" y="4628880"/>
                <a:chExt cx="63000" cy="3780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687600" y="4628880"/>
                  <a:ext cx="30960" cy="3780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20000" y="4628880"/>
                  <a:ext cx="30600" cy="3780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30"/>
                      </a:moveTo>
                      <a:cubicBezTo>
                        <a:pt x="2" y="25"/>
                        <a:pt x="9" y="0"/>
                        <a:pt x="13" y="0"/>
                      </a:cubicBezTo>
                      <a:cubicBezTo>
                        <a:pt x="17" y="0"/>
                        <a:pt x="22" y="23"/>
                        <a:pt x="24" y="29"/>
                      </a:cubicBezTo>
                    </a:path>
                  </a:pathLst>
                </a:custGeom>
                <a:noFill/>
                <a:ln w="3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3" name=""/>
            <p:cNvSpPr/>
            <p:nvPr/>
          </p:nvSpPr>
          <p:spPr>
            <a:xfrm>
              <a:off x="907920" y="491328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87280" y="5095800"/>
              <a:ext cx="343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95320" y="5032440"/>
              <a:ext cx="17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588960" y="4951440"/>
              <a:ext cx="239760" cy="206280"/>
              <a:chOff x="588960" y="4951440"/>
              <a:chExt cx="239760" cy="206280"/>
            </a:xfrm>
          </p:grpSpPr>
          <p:grpSp>
            <p:nvGrpSpPr>
              <p:cNvPr id="1277" name=""/>
              <p:cNvGrpSpPr/>
              <p:nvPr/>
            </p:nvGrpSpPr>
            <p:grpSpPr>
              <a:xfrm>
                <a:off x="588960" y="5000400"/>
                <a:ext cx="239760" cy="157320"/>
                <a:chOff x="588960" y="5000400"/>
                <a:chExt cx="239760" cy="1573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88960" y="500040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73200" y="512604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04880" y="502092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671400" y="4951440"/>
                <a:ext cx="74520" cy="28080"/>
                <a:chOff x="671400" y="4951440"/>
                <a:chExt cx="74520" cy="280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671400" y="4951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18920" y="4952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4" name=""/>
            <p:cNvSpPr/>
            <p:nvPr/>
          </p:nvSpPr>
          <p:spPr>
            <a:xfrm>
              <a:off x="282600" y="482904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598320" y="4708440"/>
              <a:ext cx="237960" cy="204840"/>
              <a:chOff x="598320" y="4708440"/>
              <a:chExt cx="237960" cy="20484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598320" y="4749480"/>
                <a:ext cx="237960" cy="163800"/>
                <a:chOff x="598320" y="4749480"/>
                <a:chExt cx="237960" cy="163800"/>
              </a:xfrm>
            </p:grpSpPr>
            <p:grpSp>
              <p:nvGrpSpPr>
                <p:cNvPr id="1287" name=""/>
                <p:cNvGrpSpPr/>
                <p:nvPr/>
              </p:nvGrpSpPr>
              <p:grpSpPr>
                <a:xfrm>
                  <a:off x="598320" y="4749480"/>
                  <a:ext cx="237960" cy="163800"/>
                  <a:chOff x="598320" y="4749480"/>
                  <a:chExt cx="237960" cy="163800"/>
                </a:xfrm>
              </p:grpSpPr>
              <p:grpSp>
                <p:nvGrpSpPr>
                  <p:cNvPr id="1288" name=""/>
                  <p:cNvGrpSpPr/>
                  <p:nvPr/>
                </p:nvGrpSpPr>
                <p:grpSpPr>
                  <a:xfrm>
                    <a:off x="598320" y="4749480"/>
                    <a:ext cx="237960" cy="163800"/>
                    <a:chOff x="598320" y="4749480"/>
                    <a:chExt cx="237960" cy="163800"/>
                  </a:xfrm>
                </p:grpSpPr>
                <p:sp>
                  <p:nvSpPr>
                    <p:cNvPr id="1289" name=""/>
                    <p:cNvSpPr/>
                    <p:nvPr/>
                  </p:nvSpPr>
                  <p:spPr>
                    <a:xfrm>
                      <a:off x="598320" y="4749840"/>
                      <a:ext cx="23796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0" name=""/>
                    <p:cNvSpPr/>
                    <p:nvPr/>
                  </p:nvSpPr>
                  <p:spPr>
                    <a:xfrm flipV="1">
                      <a:off x="598320" y="4749480"/>
                      <a:ext cx="23796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91" name=""/>
                  <p:cNvSpPr/>
                  <p:nvPr/>
                </p:nvSpPr>
                <p:spPr>
                  <a:xfrm>
                    <a:off x="598320" y="475272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2" name=""/>
                <p:cNvSpPr/>
                <p:nvPr/>
              </p:nvSpPr>
              <p:spPr>
                <a:xfrm>
                  <a:off x="598320" y="4749840"/>
                  <a:ext cx="5976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682560" y="4708440"/>
                <a:ext cx="74520" cy="28800"/>
                <a:chOff x="682560" y="4708440"/>
                <a:chExt cx="74520" cy="2880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682560" y="47084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30080" y="4710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6" name=""/>
            <p:cNvSpPr/>
            <p:nvPr/>
          </p:nvSpPr>
          <p:spPr>
            <a:xfrm>
              <a:off x="901800" y="475452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MG                        JA-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30320" y="5237280"/>
            <a:ext cx="2876400" cy="1376280"/>
            <a:chOff x="130320" y="5237280"/>
            <a:chExt cx="2876400" cy="1376280"/>
          </a:xfrm>
        </p:grpSpPr>
        <p:sp>
          <p:nvSpPr>
            <p:cNvPr id="1298" name=""/>
            <p:cNvSpPr/>
            <p:nvPr/>
          </p:nvSpPr>
          <p:spPr>
            <a:xfrm flipH="1">
              <a:off x="277920" y="5484600"/>
              <a:ext cx="1440" cy="10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92080" y="5896080"/>
              <a:ext cx="183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(2 LMG)      JA-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9360" y="595944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92080" y="566424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988920" y="554364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671760" y="5842080"/>
              <a:ext cx="74520" cy="28080"/>
              <a:chOff x="671760" y="5842080"/>
              <a:chExt cx="74520" cy="280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71760" y="58420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19280" y="5843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282600" y="571176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588960" y="5602320"/>
              <a:ext cx="237960" cy="199440"/>
              <a:chOff x="588960" y="5602320"/>
              <a:chExt cx="237960" cy="199440"/>
            </a:xfrm>
          </p:grpSpPr>
          <p:sp>
            <p:nvSpPr>
              <p:cNvPr id="1308" name=""/>
              <p:cNvSpPr/>
              <p:nvPr/>
            </p:nvSpPr>
            <p:spPr>
              <a:xfrm>
                <a:off x="693720" y="56023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8960" y="564480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0" name=""/>
            <p:cNvSpPr/>
            <p:nvPr/>
          </p:nvSpPr>
          <p:spPr>
            <a:xfrm>
              <a:off x="630360" y="5237280"/>
              <a:ext cx="237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A03                    Glider Raiding C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130320" y="5299200"/>
              <a:ext cx="284040" cy="252360"/>
              <a:chOff x="130320" y="5299200"/>
              <a:chExt cx="284040" cy="252360"/>
            </a:xfrm>
          </p:grpSpPr>
          <p:sp>
            <p:nvSpPr>
              <p:cNvPr id="1312" name=""/>
              <p:cNvSpPr/>
              <p:nvPr/>
            </p:nvSpPr>
            <p:spPr>
              <a:xfrm>
                <a:off x="273240" y="5299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3" name=""/>
              <p:cNvGrpSpPr/>
              <p:nvPr/>
            </p:nvGrpSpPr>
            <p:grpSpPr>
              <a:xfrm>
                <a:off x="130320" y="5357880"/>
                <a:ext cx="284040" cy="193680"/>
                <a:chOff x="130320" y="5357880"/>
                <a:chExt cx="284040" cy="1936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130320" y="535788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133200" y="536076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30320" y="536076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7" name=""/>
            <p:cNvGrpSpPr/>
            <p:nvPr/>
          </p:nvGrpSpPr>
          <p:grpSpPr>
            <a:xfrm>
              <a:off x="593640" y="5884920"/>
              <a:ext cx="231840" cy="156960"/>
              <a:chOff x="593640" y="5884920"/>
              <a:chExt cx="231840" cy="156960"/>
            </a:xfrm>
          </p:grpSpPr>
          <p:sp>
            <p:nvSpPr>
              <p:cNvPr id="1318" name=""/>
              <p:cNvSpPr/>
              <p:nvPr/>
            </p:nvSpPr>
            <p:spPr>
              <a:xfrm>
                <a:off x="593640" y="588492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95800" y="5887080"/>
                <a:ext cx="225720" cy="153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93640" y="588708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898560" y="634212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77920" y="652464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85960" y="646092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79600" y="6380280"/>
              <a:ext cx="239760" cy="206280"/>
              <a:chOff x="579600" y="6380280"/>
              <a:chExt cx="239760" cy="20628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79600" y="6429240"/>
                <a:ext cx="239760" cy="157320"/>
                <a:chOff x="579600" y="6429240"/>
                <a:chExt cx="239760" cy="1573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579600" y="642924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63840" y="655488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95520" y="644976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662040" y="6380280"/>
                <a:ext cx="74520" cy="28080"/>
                <a:chOff x="662040" y="6380280"/>
                <a:chExt cx="74520" cy="280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662040" y="6380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709560" y="6381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2" name=""/>
            <p:cNvSpPr/>
            <p:nvPr/>
          </p:nvSpPr>
          <p:spPr>
            <a:xfrm>
              <a:off x="273240" y="624852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588960" y="6127560"/>
              <a:ext cx="237960" cy="204840"/>
              <a:chOff x="588960" y="6127560"/>
              <a:chExt cx="237960" cy="20484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588960" y="6168600"/>
                <a:ext cx="237960" cy="163800"/>
                <a:chOff x="588960" y="6168600"/>
                <a:chExt cx="237960" cy="163800"/>
              </a:xfrm>
            </p:grpSpPr>
            <p:grpSp>
              <p:nvGrpSpPr>
                <p:cNvPr id="1335" name=""/>
                <p:cNvGrpSpPr/>
                <p:nvPr/>
              </p:nvGrpSpPr>
              <p:grpSpPr>
                <a:xfrm>
                  <a:off x="588960" y="6168600"/>
                  <a:ext cx="237960" cy="163800"/>
                  <a:chOff x="588960" y="6168600"/>
                  <a:chExt cx="237960" cy="163800"/>
                </a:xfrm>
              </p:grpSpPr>
              <p:grpSp>
                <p:nvGrpSpPr>
                  <p:cNvPr id="1336" name=""/>
                  <p:cNvGrpSpPr/>
                  <p:nvPr/>
                </p:nvGrpSpPr>
                <p:grpSpPr>
                  <a:xfrm>
                    <a:off x="588960" y="6168600"/>
                    <a:ext cx="237960" cy="163800"/>
                    <a:chOff x="588960" y="6168600"/>
                    <a:chExt cx="237960" cy="163800"/>
                  </a:xfrm>
                </p:grpSpPr>
                <p:sp>
                  <p:nvSpPr>
                    <p:cNvPr id="1337" name=""/>
                    <p:cNvSpPr/>
                    <p:nvPr/>
                  </p:nvSpPr>
                  <p:spPr>
                    <a:xfrm>
                      <a:off x="588960" y="6168960"/>
                      <a:ext cx="23796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8" name=""/>
                    <p:cNvSpPr/>
                    <p:nvPr/>
                  </p:nvSpPr>
                  <p:spPr>
                    <a:xfrm flipV="1">
                      <a:off x="588960" y="6168600"/>
                      <a:ext cx="23796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9" name=""/>
                  <p:cNvSpPr/>
                  <p:nvPr/>
                </p:nvSpPr>
                <p:spPr>
                  <a:xfrm>
                    <a:off x="588960" y="617184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0" name=""/>
                <p:cNvSpPr/>
                <p:nvPr/>
              </p:nvSpPr>
              <p:spPr>
                <a:xfrm>
                  <a:off x="588960" y="6168960"/>
                  <a:ext cx="5976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673200" y="6127560"/>
                <a:ext cx="74520" cy="28800"/>
                <a:chOff x="673200" y="6127560"/>
                <a:chExt cx="74520" cy="28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673200" y="61275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720720" y="6129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4" name=""/>
            <p:cNvSpPr/>
            <p:nvPr/>
          </p:nvSpPr>
          <p:spPr>
            <a:xfrm>
              <a:off x="892080" y="617364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MG                        JA-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00160" y="5456160"/>
              <a:ext cx="1461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2662200" y="2746440"/>
            <a:ext cx="2873160" cy="1041480"/>
            <a:chOff x="2662200" y="2746440"/>
            <a:chExt cx="2873160" cy="1041480"/>
          </a:xfrm>
        </p:grpSpPr>
        <p:sp>
          <p:nvSpPr>
            <p:cNvPr id="1347" name=""/>
            <p:cNvSpPr/>
            <p:nvPr/>
          </p:nvSpPr>
          <p:spPr>
            <a:xfrm>
              <a:off x="3441600" y="338760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ngineer (2 Flame)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441600" y="3159000"/>
              <a:ext cx="209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09800" y="3025800"/>
              <a:ext cx="0" cy="67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01880" y="3460680"/>
              <a:ext cx="43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06560" y="3230640"/>
              <a:ext cx="299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528720" y="30621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3" name=""/>
            <p:cNvGrpSpPr/>
            <p:nvPr/>
          </p:nvGrpSpPr>
          <p:grpSpPr>
            <a:xfrm>
              <a:off x="3112920" y="3121200"/>
              <a:ext cx="237960" cy="199440"/>
              <a:chOff x="3112920" y="3121200"/>
              <a:chExt cx="237960" cy="199440"/>
            </a:xfrm>
          </p:grpSpPr>
          <p:sp>
            <p:nvSpPr>
              <p:cNvPr id="1354" name=""/>
              <p:cNvSpPr/>
              <p:nvPr/>
            </p:nvSpPr>
            <p:spPr>
              <a:xfrm>
                <a:off x="3217680" y="3121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112920" y="3163680"/>
                <a:ext cx="2379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6" name=""/>
            <p:cNvSpPr/>
            <p:nvPr/>
          </p:nvSpPr>
          <p:spPr>
            <a:xfrm>
              <a:off x="3133440" y="2746440"/>
              <a:ext cx="2062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A04         Glider Engineer Company 194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7" name=""/>
            <p:cNvGrpSpPr/>
            <p:nvPr/>
          </p:nvGrpSpPr>
          <p:grpSpPr>
            <a:xfrm>
              <a:off x="3120840" y="3351240"/>
              <a:ext cx="231840" cy="198360"/>
              <a:chOff x="3120840" y="3351240"/>
              <a:chExt cx="231840" cy="19836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3198960" y="3351240"/>
                <a:ext cx="74520" cy="28080"/>
                <a:chOff x="3198960" y="3351240"/>
                <a:chExt cx="74520" cy="280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3198960" y="3351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246480" y="3352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3120840" y="339264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2" name=""/>
              <p:cNvGrpSpPr/>
              <p:nvPr/>
            </p:nvGrpSpPr>
            <p:grpSpPr>
              <a:xfrm>
                <a:off x="3197160" y="3446640"/>
                <a:ext cx="82440" cy="44280"/>
                <a:chOff x="3197160" y="3446640"/>
                <a:chExt cx="82440" cy="44280"/>
              </a:xfrm>
            </p:grpSpPr>
            <p:grpSp>
              <p:nvGrpSpPr>
                <p:cNvPr id="1363" name=""/>
                <p:cNvGrpSpPr/>
                <p:nvPr/>
              </p:nvGrpSpPr>
              <p:grpSpPr>
                <a:xfrm>
                  <a:off x="3197160" y="3446640"/>
                  <a:ext cx="82440" cy="44280"/>
                  <a:chOff x="3197160" y="3446640"/>
                  <a:chExt cx="82440" cy="44280"/>
                </a:xfrm>
              </p:grpSpPr>
              <p:grpSp>
                <p:nvGrpSpPr>
                  <p:cNvPr id="1364" name=""/>
                  <p:cNvGrpSpPr/>
                  <p:nvPr/>
                </p:nvGrpSpPr>
                <p:grpSpPr>
                  <a:xfrm>
                    <a:off x="3197160" y="3446640"/>
                    <a:ext cx="82440" cy="44280"/>
                    <a:chOff x="3197160" y="3446640"/>
                    <a:chExt cx="82440" cy="44280"/>
                  </a:xfrm>
                </p:grpSpPr>
                <p:sp>
                  <p:nvSpPr>
                    <p:cNvPr id="1365" name=""/>
                    <p:cNvSpPr/>
                    <p:nvPr/>
                  </p:nvSpPr>
                  <p:spPr>
                    <a:xfrm>
                      <a:off x="3197160" y="3446640"/>
                      <a:ext cx="0" cy="4428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3197160" y="3446640"/>
                      <a:ext cx="82440" cy="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67" name=""/>
                  <p:cNvSpPr/>
                  <p:nvPr/>
                </p:nvSpPr>
                <p:spPr>
                  <a:xfrm>
                    <a:off x="3238920" y="3446640"/>
                    <a:ext cx="0" cy="4428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8" name=""/>
                <p:cNvSpPr/>
                <p:nvPr/>
              </p:nvSpPr>
              <p:spPr>
                <a:xfrm>
                  <a:off x="3279600" y="3446640"/>
                  <a:ext cx="0" cy="44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9" name=""/>
            <p:cNvSpPr/>
            <p:nvPr/>
          </p:nvSpPr>
          <p:spPr>
            <a:xfrm>
              <a:off x="2792160" y="370368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3108240" y="3583080"/>
              <a:ext cx="237960" cy="204840"/>
              <a:chOff x="3108240" y="3583080"/>
              <a:chExt cx="237960" cy="204840"/>
            </a:xfrm>
          </p:grpSpPr>
          <p:grpSp>
            <p:nvGrpSpPr>
              <p:cNvPr id="1371" name=""/>
              <p:cNvGrpSpPr/>
              <p:nvPr/>
            </p:nvGrpSpPr>
            <p:grpSpPr>
              <a:xfrm>
                <a:off x="3108240" y="3624120"/>
                <a:ext cx="237960" cy="163800"/>
                <a:chOff x="3108240" y="3624120"/>
                <a:chExt cx="237960" cy="163800"/>
              </a:xfrm>
            </p:grpSpPr>
            <p:grpSp>
              <p:nvGrpSpPr>
                <p:cNvPr id="1372" name=""/>
                <p:cNvGrpSpPr/>
                <p:nvPr/>
              </p:nvGrpSpPr>
              <p:grpSpPr>
                <a:xfrm>
                  <a:off x="3108240" y="3624120"/>
                  <a:ext cx="237960" cy="163800"/>
                  <a:chOff x="3108240" y="3624120"/>
                  <a:chExt cx="237960" cy="163800"/>
                </a:xfrm>
              </p:grpSpPr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3108240" y="3624120"/>
                    <a:ext cx="237960" cy="163800"/>
                    <a:chOff x="3108240" y="3624120"/>
                    <a:chExt cx="237960" cy="163800"/>
                  </a:xfrm>
                </p:grpSpPr>
                <p:sp>
                  <p:nvSpPr>
                    <p:cNvPr id="1374" name=""/>
                    <p:cNvSpPr/>
                    <p:nvPr/>
                  </p:nvSpPr>
                  <p:spPr>
                    <a:xfrm>
                      <a:off x="3108240" y="3624480"/>
                      <a:ext cx="23796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 flipV="1">
                      <a:off x="3108240" y="3624120"/>
                      <a:ext cx="23796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6" name=""/>
                  <p:cNvSpPr/>
                  <p:nvPr/>
                </p:nvSpPr>
                <p:spPr>
                  <a:xfrm>
                    <a:off x="3108240" y="3627360"/>
                    <a:ext cx="23796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7" name=""/>
                <p:cNvSpPr/>
                <p:nvPr/>
              </p:nvSpPr>
              <p:spPr>
                <a:xfrm>
                  <a:off x="3108240" y="3624480"/>
                  <a:ext cx="5976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3192480" y="3583080"/>
                <a:ext cx="74520" cy="28800"/>
                <a:chOff x="3192480" y="3583080"/>
                <a:chExt cx="74520" cy="2880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3192480" y="35830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240000" y="3584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1" name=""/>
            <p:cNvSpPr/>
            <p:nvPr/>
          </p:nvSpPr>
          <p:spPr>
            <a:xfrm>
              <a:off x="3411360" y="362916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MG                        JA-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2662200" y="2836800"/>
              <a:ext cx="283680" cy="250560"/>
              <a:chOff x="2662200" y="2836800"/>
              <a:chExt cx="283680" cy="250560"/>
            </a:xfrm>
          </p:grpSpPr>
          <p:sp>
            <p:nvSpPr>
              <p:cNvPr id="1383" name=""/>
              <p:cNvSpPr/>
              <p:nvPr/>
            </p:nvSpPr>
            <p:spPr>
              <a:xfrm>
                <a:off x="2806560" y="28368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4" name=""/>
              <p:cNvGrpSpPr/>
              <p:nvPr/>
            </p:nvGrpSpPr>
            <p:grpSpPr>
              <a:xfrm>
                <a:off x="2662200" y="2894040"/>
                <a:ext cx="283680" cy="193320"/>
                <a:chOff x="2662200" y="2894040"/>
                <a:chExt cx="283680" cy="1933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2662200" y="2894040"/>
                  <a:ext cx="283680" cy="19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6" name=""/>
                <p:cNvGrpSpPr/>
                <p:nvPr/>
              </p:nvGrpSpPr>
              <p:grpSpPr>
                <a:xfrm>
                  <a:off x="2747520" y="2958480"/>
                  <a:ext cx="114120" cy="61920"/>
                  <a:chOff x="2747520" y="2958480"/>
                  <a:chExt cx="114120" cy="61920"/>
                </a:xfrm>
              </p:grpSpPr>
              <p:grpSp>
                <p:nvGrpSpPr>
                  <p:cNvPr id="1387" name=""/>
                  <p:cNvGrpSpPr/>
                  <p:nvPr/>
                </p:nvGrpSpPr>
                <p:grpSpPr>
                  <a:xfrm>
                    <a:off x="2747520" y="2958480"/>
                    <a:ext cx="113400" cy="61560"/>
                    <a:chOff x="2747520" y="2958480"/>
                    <a:chExt cx="113400" cy="61560"/>
                  </a:xfrm>
                </p:grpSpPr>
                <p:grpSp>
                  <p:nvGrpSpPr>
                    <p:cNvPr id="1388" name=""/>
                    <p:cNvGrpSpPr/>
                    <p:nvPr/>
                  </p:nvGrpSpPr>
                  <p:grpSpPr>
                    <a:xfrm>
                      <a:off x="2747520" y="2958480"/>
                      <a:ext cx="113400" cy="61200"/>
                      <a:chOff x="2747520" y="2958480"/>
                      <a:chExt cx="113400" cy="61200"/>
                    </a:xfrm>
                  </p:grpSpPr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2747520" y="29584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2747520" y="2958480"/>
                        <a:ext cx="11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1" name=""/>
                    <p:cNvSpPr/>
                    <p:nvPr/>
                  </p:nvSpPr>
                  <p:spPr>
                    <a:xfrm>
                      <a:off x="2805120" y="2958480"/>
                      <a:ext cx="0" cy="615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2" name=""/>
                  <p:cNvSpPr/>
                  <p:nvPr/>
                </p:nvSpPr>
                <p:spPr>
                  <a:xfrm>
                    <a:off x="2861640" y="295848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3" name=""/>
          <p:cNvGrpSpPr/>
          <p:nvPr/>
        </p:nvGrpSpPr>
        <p:grpSpPr>
          <a:xfrm>
            <a:off x="5433840" y="2732040"/>
            <a:ext cx="2803680" cy="2049480"/>
            <a:chOff x="5433840" y="2732040"/>
            <a:chExt cx="2803680" cy="2049480"/>
          </a:xfrm>
        </p:grpSpPr>
        <p:sp>
          <p:nvSpPr>
            <p:cNvPr id="1394" name=""/>
            <p:cNvSpPr/>
            <p:nvPr/>
          </p:nvSpPr>
          <p:spPr>
            <a:xfrm>
              <a:off x="5607000" y="4697280"/>
              <a:ext cx="442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07000" y="4403880"/>
              <a:ext cx="442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608800" y="2973240"/>
              <a:ext cx="0" cy="17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13360" y="2732040"/>
              <a:ext cx="192096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A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lider Infant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akku Hohei Renta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607000" y="348300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607000" y="379584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21520" y="340524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221520" y="327492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Q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991120" y="3365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253200" y="362916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84920" y="3413160"/>
              <a:ext cx="23796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253200" y="3746160"/>
              <a:ext cx="198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lider Raiding Co.  ME-A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07000" y="409572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264360" y="4010040"/>
              <a:ext cx="1944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Glider Eng. Co.       ME-A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5894280" y="3943440"/>
              <a:ext cx="283680" cy="249840"/>
              <a:chOff x="5894280" y="3943440"/>
              <a:chExt cx="283680" cy="249840"/>
            </a:xfrm>
          </p:grpSpPr>
          <p:sp>
            <p:nvSpPr>
              <p:cNvPr id="1409" name=""/>
              <p:cNvSpPr/>
              <p:nvPr/>
            </p:nvSpPr>
            <p:spPr>
              <a:xfrm>
                <a:off x="6038640" y="3943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5894280" y="4000320"/>
                <a:ext cx="283680" cy="192960"/>
                <a:chOff x="5894280" y="4000320"/>
                <a:chExt cx="283680" cy="19296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5894280" y="4000320"/>
                  <a:ext cx="283680" cy="192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2" name=""/>
                <p:cNvGrpSpPr/>
                <p:nvPr/>
              </p:nvGrpSpPr>
              <p:grpSpPr>
                <a:xfrm>
                  <a:off x="5979600" y="4064760"/>
                  <a:ext cx="114120" cy="61920"/>
                  <a:chOff x="5979600" y="4064760"/>
                  <a:chExt cx="114120" cy="61920"/>
                </a:xfrm>
              </p:grpSpPr>
              <p:grpSp>
                <p:nvGrpSpPr>
                  <p:cNvPr id="1413" name=""/>
                  <p:cNvGrpSpPr/>
                  <p:nvPr/>
                </p:nvGrpSpPr>
                <p:grpSpPr>
                  <a:xfrm>
                    <a:off x="5979600" y="4064760"/>
                    <a:ext cx="113400" cy="61560"/>
                    <a:chOff x="5979600" y="4064760"/>
                    <a:chExt cx="113400" cy="61560"/>
                  </a:xfrm>
                </p:grpSpPr>
                <p:grpSp>
                  <p:nvGrpSpPr>
                    <p:cNvPr id="1414" name=""/>
                    <p:cNvGrpSpPr/>
                    <p:nvPr/>
                  </p:nvGrpSpPr>
                  <p:grpSpPr>
                    <a:xfrm>
                      <a:off x="5979600" y="4064760"/>
                      <a:ext cx="113400" cy="61200"/>
                      <a:chOff x="5979600" y="4064760"/>
                      <a:chExt cx="113400" cy="61200"/>
                    </a:xfrm>
                  </p:grpSpPr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5979600" y="40647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>
                        <a:off x="5979600" y="4064760"/>
                        <a:ext cx="11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37200" y="4064760"/>
                      <a:ext cx="0" cy="615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6093720" y="406476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19" name=""/>
            <p:cNvGrpSpPr/>
            <p:nvPr/>
          </p:nvGrpSpPr>
          <p:grpSpPr>
            <a:xfrm>
              <a:off x="5913360" y="4245120"/>
              <a:ext cx="284040" cy="239040"/>
              <a:chOff x="5913360" y="4245120"/>
              <a:chExt cx="284040" cy="239040"/>
            </a:xfrm>
          </p:grpSpPr>
          <p:sp>
            <p:nvSpPr>
              <p:cNvPr id="1420" name=""/>
              <p:cNvSpPr/>
              <p:nvPr/>
            </p:nvSpPr>
            <p:spPr>
              <a:xfrm>
                <a:off x="6054480" y="424512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913360" y="4290840"/>
                <a:ext cx="284040" cy="19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6057720" y="4294080"/>
                <a:ext cx="139680" cy="188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913360" y="4290840"/>
                <a:ext cx="139680" cy="190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037200" y="4371840"/>
                <a:ext cx="36360" cy="31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6283440" y="4325760"/>
              <a:ext cx="1944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Glider AT Co.         ME-A0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292800" y="4635360"/>
              <a:ext cx="1944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Glider Inf Gun Co. ME-A0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894280" y="3638520"/>
              <a:ext cx="284040" cy="252360"/>
              <a:chOff x="5894280" y="3638520"/>
              <a:chExt cx="284040" cy="252360"/>
            </a:xfrm>
          </p:grpSpPr>
          <p:sp>
            <p:nvSpPr>
              <p:cNvPr id="1428" name=""/>
              <p:cNvSpPr/>
              <p:nvPr/>
            </p:nvSpPr>
            <p:spPr>
              <a:xfrm>
                <a:off x="6037200" y="3638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9" name=""/>
              <p:cNvGrpSpPr/>
              <p:nvPr/>
            </p:nvGrpSpPr>
            <p:grpSpPr>
              <a:xfrm>
                <a:off x="5894280" y="3697200"/>
                <a:ext cx="284040" cy="193680"/>
                <a:chOff x="5894280" y="3697200"/>
                <a:chExt cx="284040" cy="19368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894280" y="3697200"/>
                  <a:ext cx="28404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V="1">
                  <a:off x="5897160" y="370008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894280" y="370008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3" name=""/>
            <p:cNvGrpSpPr/>
            <p:nvPr/>
          </p:nvGrpSpPr>
          <p:grpSpPr>
            <a:xfrm>
              <a:off x="5433840" y="2787480"/>
              <a:ext cx="347400" cy="290160"/>
              <a:chOff x="5433840" y="2787480"/>
              <a:chExt cx="347400" cy="29016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5541840" y="2787480"/>
                <a:ext cx="131760" cy="63720"/>
                <a:chOff x="5541840" y="2787480"/>
                <a:chExt cx="131760" cy="6372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5608440" y="27874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6" name=""/>
                <p:cNvGrpSpPr/>
                <p:nvPr/>
              </p:nvGrpSpPr>
              <p:grpSpPr>
                <a:xfrm>
                  <a:off x="5541840" y="2787480"/>
                  <a:ext cx="131760" cy="63720"/>
                  <a:chOff x="5541840" y="2787480"/>
                  <a:chExt cx="131760" cy="6372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5541840" y="27874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5673600" y="27874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5433840" y="2841480"/>
                <a:ext cx="347400" cy="236160"/>
                <a:chOff x="5433840" y="2841480"/>
                <a:chExt cx="347400" cy="23616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433840" y="2841480"/>
                  <a:ext cx="347400" cy="23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V="1">
                  <a:off x="5437440" y="284508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433840" y="284508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3" name=""/>
              <p:cNvSpPr/>
              <p:nvPr/>
            </p:nvSpPr>
            <p:spPr>
              <a:xfrm>
                <a:off x="5541840" y="2957400"/>
                <a:ext cx="1317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5972040" y="3786120"/>
              <a:ext cx="1317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5925960" y="4529160"/>
              <a:ext cx="291960" cy="252360"/>
              <a:chOff x="5925960" y="4529160"/>
              <a:chExt cx="291960" cy="252360"/>
            </a:xfrm>
          </p:grpSpPr>
          <p:grpSp>
            <p:nvGrpSpPr>
              <p:cNvPr id="1446" name=""/>
              <p:cNvGrpSpPr/>
              <p:nvPr/>
            </p:nvGrpSpPr>
            <p:grpSpPr>
              <a:xfrm>
                <a:off x="5925960" y="4529160"/>
                <a:ext cx="291960" cy="252360"/>
                <a:chOff x="5925960" y="4529160"/>
                <a:chExt cx="291960" cy="25236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6070320" y="4529160"/>
                  <a:ext cx="108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925960" y="4591080"/>
                  <a:ext cx="291960" cy="190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V="1">
                  <a:off x="5925960" y="4592880"/>
                  <a:ext cx="290160" cy="187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5925960" y="4594320"/>
                  <a:ext cx="290160" cy="185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049440" y="4664160"/>
                  <a:ext cx="44280" cy="44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2" name=""/>
              <p:cNvSpPr/>
              <p:nvPr/>
            </p:nvSpPr>
            <p:spPr>
              <a:xfrm>
                <a:off x="6006600" y="4692960"/>
                <a:ext cx="1317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5997600" y="4390920"/>
              <a:ext cx="1317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2662200" y="3859200"/>
            <a:ext cx="2586240" cy="1059120"/>
            <a:chOff x="2662200" y="3859200"/>
            <a:chExt cx="2586240" cy="1059120"/>
          </a:xfrm>
        </p:grpSpPr>
        <p:sp>
          <p:nvSpPr>
            <p:cNvPr id="1455" name=""/>
            <p:cNvSpPr/>
            <p:nvPr/>
          </p:nvSpPr>
          <p:spPr>
            <a:xfrm>
              <a:off x="2806560" y="4086360"/>
              <a:ext cx="0" cy="74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05120" y="458784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424320" y="4522680"/>
              <a:ext cx="173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47mm AT Gun         JA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8" name=""/>
            <p:cNvGrpSpPr/>
            <p:nvPr/>
          </p:nvGrpSpPr>
          <p:grpSpPr>
            <a:xfrm>
              <a:off x="3106800" y="4478400"/>
              <a:ext cx="231840" cy="198360"/>
              <a:chOff x="3106800" y="4478400"/>
              <a:chExt cx="231840" cy="198360"/>
            </a:xfrm>
          </p:grpSpPr>
          <p:sp>
            <p:nvSpPr>
              <p:cNvPr id="1459" name=""/>
              <p:cNvSpPr/>
              <p:nvPr/>
            </p:nvSpPr>
            <p:spPr>
              <a:xfrm>
                <a:off x="3106800" y="4519800"/>
                <a:ext cx="23184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3224520" y="4522680"/>
                <a:ext cx="1141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06800" y="4519800"/>
                <a:ext cx="11448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8680" y="4584600"/>
                <a:ext cx="28440" cy="27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3191040" y="4478400"/>
                <a:ext cx="74520" cy="28080"/>
                <a:chOff x="3191040" y="4478400"/>
                <a:chExt cx="74520" cy="2808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3191040" y="44784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3238560" y="4479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6" name=""/>
            <p:cNvSpPr/>
            <p:nvPr/>
          </p:nvSpPr>
          <p:spPr>
            <a:xfrm>
              <a:off x="3414600" y="4765680"/>
              <a:ext cx="183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(AT)             JA-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01880" y="4829040"/>
              <a:ext cx="343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3116160" y="4711680"/>
              <a:ext cx="231840" cy="200160"/>
              <a:chOff x="3116160" y="4711680"/>
              <a:chExt cx="231840" cy="200160"/>
            </a:xfrm>
          </p:grpSpPr>
          <p:grpSp>
            <p:nvGrpSpPr>
              <p:cNvPr id="1469" name=""/>
              <p:cNvGrpSpPr/>
              <p:nvPr/>
            </p:nvGrpSpPr>
            <p:grpSpPr>
              <a:xfrm>
                <a:off x="3193920" y="4711680"/>
                <a:ext cx="74520" cy="28800"/>
                <a:chOff x="3193920" y="4711680"/>
                <a:chExt cx="74520" cy="2880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3193920" y="4711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241440" y="47134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3116160" y="4754520"/>
                <a:ext cx="231840" cy="157320"/>
                <a:chOff x="3116160" y="4754520"/>
                <a:chExt cx="231840" cy="1573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3116160" y="475452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V="1">
                  <a:off x="3118320" y="475632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116160" y="47566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6" name=""/>
            <p:cNvGrpSpPr/>
            <p:nvPr/>
          </p:nvGrpSpPr>
          <p:grpSpPr>
            <a:xfrm>
              <a:off x="2662200" y="3933720"/>
              <a:ext cx="284040" cy="239760"/>
              <a:chOff x="2662200" y="3933720"/>
              <a:chExt cx="284040" cy="239760"/>
            </a:xfrm>
          </p:grpSpPr>
          <p:sp>
            <p:nvSpPr>
              <p:cNvPr id="1477" name=""/>
              <p:cNvSpPr/>
              <p:nvPr/>
            </p:nvSpPr>
            <p:spPr>
              <a:xfrm>
                <a:off x="2803320" y="3933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662200" y="3979800"/>
                <a:ext cx="28404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2806560" y="3982680"/>
                <a:ext cx="139680" cy="189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662200" y="3979800"/>
                <a:ext cx="139680" cy="190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786040" y="4060800"/>
                <a:ext cx="36360" cy="31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2" name=""/>
            <p:cNvSpPr/>
            <p:nvPr/>
          </p:nvSpPr>
          <p:spPr>
            <a:xfrm>
              <a:off x="3424320" y="427824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521160" y="415764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814480" y="435456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3092400" y="4235400"/>
              <a:ext cx="237960" cy="200160"/>
              <a:chOff x="3092400" y="4235400"/>
              <a:chExt cx="237960" cy="200160"/>
            </a:xfrm>
          </p:grpSpPr>
          <p:sp>
            <p:nvSpPr>
              <p:cNvPr id="1486" name=""/>
              <p:cNvSpPr/>
              <p:nvPr/>
            </p:nvSpPr>
            <p:spPr>
              <a:xfrm>
                <a:off x="3197160" y="4235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092400" y="427824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>
              <a:off x="3144960" y="3859200"/>
              <a:ext cx="1485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A05                   Glider AT C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739960" y="4076640"/>
              <a:ext cx="1317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662200" y="5021280"/>
            <a:ext cx="2589120" cy="1059120"/>
            <a:chOff x="2662200" y="5021280"/>
            <a:chExt cx="2589120" cy="1059120"/>
          </a:xfrm>
        </p:grpSpPr>
        <p:sp>
          <p:nvSpPr>
            <p:cNvPr id="1491" name=""/>
            <p:cNvSpPr/>
            <p:nvPr/>
          </p:nvSpPr>
          <p:spPr>
            <a:xfrm>
              <a:off x="2809800" y="5749920"/>
              <a:ext cx="397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3124080" y="5616720"/>
              <a:ext cx="239400" cy="205920"/>
              <a:chOff x="3124080" y="5616720"/>
              <a:chExt cx="239400" cy="205920"/>
            </a:xfrm>
          </p:grpSpPr>
          <p:sp>
            <p:nvSpPr>
              <p:cNvPr id="1493" name=""/>
              <p:cNvSpPr/>
              <p:nvPr/>
            </p:nvSpPr>
            <p:spPr>
              <a:xfrm>
                <a:off x="3124080" y="5665680"/>
                <a:ext cx="2394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3124080" y="5666760"/>
                <a:ext cx="23796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124080" y="5668920"/>
                <a:ext cx="237960" cy="15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225600" y="5726160"/>
                <a:ext cx="36360" cy="36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7" name=""/>
              <p:cNvGrpSpPr/>
              <p:nvPr/>
            </p:nvGrpSpPr>
            <p:grpSpPr>
              <a:xfrm>
                <a:off x="3206520" y="5616720"/>
                <a:ext cx="74520" cy="28080"/>
                <a:chOff x="3206520" y="5616720"/>
                <a:chExt cx="74520" cy="280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3206520" y="56167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3254040" y="56181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0" name=""/>
            <p:cNvSpPr/>
            <p:nvPr/>
          </p:nvSpPr>
          <p:spPr>
            <a:xfrm>
              <a:off x="3467160" y="564840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ype 41 Mtn Gun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809800" y="5248440"/>
              <a:ext cx="0" cy="74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417840" y="5927760"/>
              <a:ext cx="183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                    JA-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805120" y="599112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3119400" y="5873760"/>
              <a:ext cx="231840" cy="200160"/>
              <a:chOff x="3119400" y="5873760"/>
              <a:chExt cx="231840" cy="20016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3197160" y="5873760"/>
                <a:ext cx="74520" cy="28800"/>
                <a:chOff x="3197160" y="5873760"/>
                <a:chExt cx="74520" cy="2880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3197160" y="5873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3244680" y="5875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3119400" y="5916600"/>
                <a:ext cx="231840" cy="157320"/>
                <a:chOff x="3119400" y="5916600"/>
                <a:chExt cx="231840" cy="1573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119400" y="591660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V="1">
                  <a:off x="3121560" y="591840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3119400" y="591876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2" name=""/>
            <p:cNvSpPr/>
            <p:nvPr/>
          </p:nvSpPr>
          <p:spPr>
            <a:xfrm>
              <a:off x="3427560" y="5440320"/>
              <a:ext cx="170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24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24400" y="5319720"/>
              <a:ext cx="99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817720" y="551664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5" name=""/>
            <p:cNvGrpSpPr/>
            <p:nvPr/>
          </p:nvGrpSpPr>
          <p:grpSpPr>
            <a:xfrm>
              <a:off x="3095640" y="5397480"/>
              <a:ext cx="237960" cy="200160"/>
              <a:chOff x="3095640" y="5397480"/>
              <a:chExt cx="237960" cy="200160"/>
            </a:xfrm>
          </p:grpSpPr>
          <p:sp>
            <p:nvSpPr>
              <p:cNvPr id="1516" name=""/>
              <p:cNvSpPr/>
              <p:nvPr/>
            </p:nvSpPr>
            <p:spPr>
              <a:xfrm>
                <a:off x="3200400" y="5397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095640" y="5440320"/>
                <a:ext cx="23796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8" name=""/>
            <p:cNvSpPr/>
            <p:nvPr/>
          </p:nvSpPr>
          <p:spPr>
            <a:xfrm>
              <a:off x="3147840" y="5021280"/>
              <a:ext cx="1486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A06                   Glider Inf Gun C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2662200" y="5045040"/>
              <a:ext cx="291960" cy="252360"/>
              <a:chOff x="2662200" y="5045040"/>
              <a:chExt cx="291960" cy="252360"/>
            </a:xfrm>
          </p:grpSpPr>
          <p:grpSp>
            <p:nvGrpSpPr>
              <p:cNvPr id="1520" name=""/>
              <p:cNvGrpSpPr/>
              <p:nvPr/>
            </p:nvGrpSpPr>
            <p:grpSpPr>
              <a:xfrm>
                <a:off x="2662200" y="5045040"/>
                <a:ext cx="291960" cy="252360"/>
                <a:chOff x="2662200" y="5045040"/>
                <a:chExt cx="291960" cy="25236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806560" y="5045040"/>
                  <a:ext cx="108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662200" y="5106960"/>
                  <a:ext cx="291960" cy="190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V="1">
                  <a:off x="2662200" y="5108760"/>
                  <a:ext cx="290160" cy="187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2662200" y="5110200"/>
                  <a:ext cx="290160" cy="185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2785680" y="5180040"/>
                  <a:ext cx="44280" cy="44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6" name=""/>
              <p:cNvSpPr/>
              <p:nvPr/>
            </p:nvSpPr>
            <p:spPr>
              <a:xfrm>
                <a:off x="2742840" y="5208840"/>
                <a:ext cx="1317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7" name=""/>
          <p:cNvSpPr/>
          <p:nvPr/>
        </p:nvSpPr>
        <p:spPr>
          <a:xfrm>
            <a:off x="2822400" y="1090440"/>
            <a:ext cx="0" cy="149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127320" y="966960"/>
            <a:ext cx="192096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A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borne Raiding Brig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2647800" y="984240"/>
            <a:ext cx="347400" cy="236160"/>
            <a:chOff x="2647800" y="984240"/>
            <a:chExt cx="347400" cy="236160"/>
          </a:xfrm>
        </p:grpSpPr>
        <p:sp>
          <p:nvSpPr>
            <p:cNvPr id="1530" name=""/>
            <p:cNvSpPr/>
            <p:nvPr/>
          </p:nvSpPr>
          <p:spPr>
            <a:xfrm>
              <a:off x="2647800" y="984240"/>
              <a:ext cx="347400" cy="23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2651400" y="987840"/>
              <a:ext cx="338760" cy="231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647800" y="987840"/>
              <a:ext cx="345960" cy="225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76680" y="1149480"/>
            <a:ext cx="96480" cy="58320"/>
            <a:chOff x="2776680" y="1149480"/>
            <a:chExt cx="96480" cy="58320"/>
          </a:xfrm>
        </p:grpSpPr>
        <p:sp>
          <p:nvSpPr>
            <p:cNvPr id="1534" name=""/>
            <p:cNvSpPr/>
            <p:nvPr/>
          </p:nvSpPr>
          <p:spPr>
            <a:xfrm>
              <a:off x="2776680" y="1149480"/>
              <a:ext cx="47160" cy="583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30"/>
                  </a:moveTo>
                  <a:cubicBezTo>
                    <a:pt x="2" y="25"/>
                    <a:pt x="9" y="0"/>
                    <a:pt x="13" y="0"/>
                  </a:cubicBezTo>
                  <a:cubicBezTo>
                    <a:pt x="17" y="0"/>
                    <a:pt x="22" y="23"/>
                    <a:pt x="24" y="29"/>
                  </a:cubicBezTo>
                </a:path>
              </a:pathLst>
            </a:custGeom>
            <a:noFill/>
            <a:ln w="3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826360" y="1149480"/>
              <a:ext cx="46800" cy="583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30"/>
                  </a:moveTo>
                  <a:cubicBezTo>
                    <a:pt x="2" y="25"/>
                    <a:pt x="9" y="0"/>
                    <a:pt x="13" y="0"/>
                  </a:cubicBezTo>
                  <a:cubicBezTo>
                    <a:pt x="17" y="0"/>
                    <a:pt x="22" y="23"/>
                    <a:pt x="24" y="29"/>
                  </a:cubicBezTo>
                </a:path>
              </a:pathLst>
            </a:custGeom>
            <a:noFill/>
            <a:ln w="3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2820960" y="1612800"/>
            <a:ext cx="30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820960" y="2268360"/>
            <a:ext cx="300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435480" y="1535040"/>
            <a:ext cx="170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JA-2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435480" y="1405080"/>
            <a:ext cx="99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205080" y="1495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467160" y="2035080"/>
            <a:ext cx="9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098880" y="1542960"/>
            <a:ext cx="23796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827440" y="2573280"/>
            <a:ext cx="39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2786040" y="914400"/>
            <a:ext cx="76320" cy="63360"/>
            <a:chOff x="2786040" y="914400"/>
            <a:chExt cx="76320" cy="63360"/>
          </a:xfrm>
        </p:grpSpPr>
        <p:sp>
          <p:nvSpPr>
            <p:cNvPr id="1545" name=""/>
            <p:cNvSpPr/>
            <p:nvPr/>
          </p:nvSpPr>
          <p:spPr>
            <a:xfrm>
              <a:off x="2786040" y="914400"/>
              <a:ext cx="763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2786040" y="914400"/>
              <a:ext cx="763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057480" y="2085840"/>
            <a:ext cx="347400" cy="290160"/>
            <a:chOff x="3057480" y="2085840"/>
            <a:chExt cx="347400" cy="290160"/>
          </a:xfrm>
        </p:grpSpPr>
        <p:grpSp>
          <p:nvGrpSpPr>
            <p:cNvPr id="1548" name=""/>
            <p:cNvGrpSpPr/>
            <p:nvPr/>
          </p:nvGrpSpPr>
          <p:grpSpPr>
            <a:xfrm>
              <a:off x="3165480" y="2085840"/>
              <a:ext cx="131760" cy="63360"/>
              <a:chOff x="3165480" y="2085840"/>
              <a:chExt cx="131760" cy="63360"/>
            </a:xfrm>
          </p:grpSpPr>
          <p:sp>
            <p:nvSpPr>
              <p:cNvPr id="1549" name=""/>
              <p:cNvSpPr/>
              <p:nvPr/>
            </p:nvSpPr>
            <p:spPr>
              <a:xfrm>
                <a:off x="3232080" y="208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0" name=""/>
              <p:cNvGrpSpPr/>
              <p:nvPr/>
            </p:nvGrpSpPr>
            <p:grpSpPr>
              <a:xfrm>
                <a:off x="3165480" y="2085840"/>
                <a:ext cx="131760" cy="63360"/>
                <a:chOff x="3165480" y="2085840"/>
                <a:chExt cx="131760" cy="6336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3165480" y="2085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297240" y="2085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3" name=""/>
            <p:cNvGrpSpPr/>
            <p:nvPr/>
          </p:nvGrpSpPr>
          <p:grpSpPr>
            <a:xfrm>
              <a:off x="3057480" y="2139840"/>
              <a:ext cx="347400" cy="236160"/>
              <a:chOff x="3057480" y="2139840"/>
              <a:chExt cx="347400" cy="236160"/>
            </a:xfrm>
          </p:grpSpPr>
          <p:sp>
            <p:nvSpPr>
              <p:cNvPr id="1554" name=""/>
              <p:cNvSpPr/>
              <p:nvPr/>
            </p:nvSpPr>
            <p:spPr>
              <a:xfrm>
                <a:off x="3057480" y="213984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3061080" y="2143440"/>
                <a:ext cx="33876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57480" y="2143440"/>
                <a:ext cx="34596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3186000" y="2304720"/>
              <a:ext cx="96480" cy="58680"/>
              <a:chOff x="3186000" y="2304720"/>
              <a:chExt cx="96480" cy="58680"/>
            </a:xfrm>
          </p:grpSpPr>
          <p:sp>
            <p:nvSpPr>
              <p:cNvPr id="1558" name=""/>
              <p:cNvSpPr/>
              <p:nvPr/>
            </p:nvSpPr>
            <p:spPr>
              <a:xfrm>
                <a:off x="3186000" y="230472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30"/>
                    </a:moveTo>
                    <a:cubicBezTo>
                      <a:pt x="2" y="25"/>
                      <a:pt x="9" y="0"/>
                      <a:pt x="13" y="0"/>
                    </a:cubicBezTo>
                    <a:cubicBezTo>
                      <a:pt x="17" y="0"/>
                      <a:pt x="22" y="23"/>
                      <a:pt x="24" y="29"/>
                    </a:cubicBezTo>
                  </a:path>
                </a:pathLst>
              </a:custGeom>
              <a:noFill/>
              <a:ln w="3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235680" y="2304720"/>
                <a:ext cx="46800" cy="58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30"/>
                    </a:moveTo>
                    <a:cubicBezTo>
                      <a:pt x="2" y="25"/>
                      <a:pt x="9" y="0"/>
                      <a:pt x="13" y="0"/>
                    </a:cubicBezTo>
                    <a:cubicBezTo>
                      <a:pt x="17" y="0"/>
                      <a:pt x="22" y="23"/>
                      <a:pt x="24" y="29"/>
                    </a:cubicBezTo>
                  </a:path>
                </a:pathLst>
              </a:custGeom>
              <a:noFill/>
              <a:ln w="3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0" name=""/>
          <p:cNvGrpSpPr/>
          <p:nvPr/>
        </p:nvGrpSpPr>
        <p:grpSpPr>
          <a:xfrm>
            <a:off x="3052800" y="2414520"/>
            <a:ext cx="347400" cy="290160"/>
            <a:chOff x="3052800" y="2414520"/>
            <a:chExt cx="347400" cy="290160"/>
          </a:xfrm>
        </p:grpSpPr>
        <p:grpSp>
          <p:nvGrpSpPr>
            <p:cNvPr id="1561" name=""/>
            <p:cNvGrpSpPr/>
            <p:nvPr/>
          </p:nvGrpSpPr>
          <p:grpSpPr>
            <a:xfrm>
              <a:off x="3160800" y="2414520"/>
              <a:ext cx="131760" cy="63720"/>
              <a:chOff x="3160800" y="2414520"/>
              <a:chExt cx="131760" cy="63720"/>
            </a:xfrm>
          </p:grpSpPr>
          <p:sp>
            <p:nvSpPr>
              <p:cNvPr id="1562" name=""/>
              <p:cNvSpPr/>
              <p:nvPr/>
            </p:nvSpPr>
            <p:spPr>
              <a:xfrm>
                <a:off x="3227400" y="24145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3160800" y="2414520"/>
                <a:ext cx="131760" cy="63720"/>
                <a:chOff x="3160800" y="2414520"/>
                <a:chExt cx="131760" cy="637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3160800" y="24145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3292560" y="24145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6" name=""/>
            <p:cNvGrpSpPr/>
            <p:nvPr/>
          </p:nvGrpSpPr>
          <p:grpSpPr>
            <a:xfrm>
              <a:off x="3052800" y="2468520"/>
              <a:ext cx="347400" cy="236160"/>
              <a:chOff x="3052800" y="2468520"/>
              <a:chExt cx="347400" cy="236160"/>
            </a:xfrm>
          </p:grpSpPr>
          <p:sp>
            <p:nvSpPr>
              <p:cNvPr id="1567" name=""/>
              <p:cNvSpPr/>
              <p:nvPr/>
            </p:nvSpPr>
            <p:spPr>
              <a:xfrm>
                <a:off x="3052800" y="2468520"/>
                <a:ext cx="34740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3056400" y="2472120"/>
                <a:ext cx="338760" cy="231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52800" y="2472120"/>
                <a:ext cx="345960" cy="225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3160800" y="2584440"/>
              <a:ext cx="1317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3366360" y="2143080"/>
            <a:ext cx="20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irborne Raiding Regt. BG-A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39160" y="2457360"/>
            <a:ext cx="186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lider Inf. Regt.        BG-A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433680" y="1798560"/>
            <a:ext cx="183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antry                   JA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820960" y="1881360"/>
            <a:ext cx="343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3106800" y="1763640"/>
            <a:ext cx="231840" cy="200160"/>
            <a:chOff x="3106800" y="1763640"/>
            <a:chExt cx="231840" cy="200160"/>
          </a:xfrm>
        </p:grpSpPr>
        <p:grpSp>
          <p:nvGrpSpPr>
            <p:cNvPr id="1576" name=""/>
            <p:cNvGrpSpPr/>
            <p:nvPr/>
          </p:nvGrpSpPr>
          <p:grpSpPr>
            <a:xfrm>
              <a:off x="3184560" y="1763640"/>
              <a:ext cx="74520" cy="28800"/>
              <a:chOff x="3184560" y="1763640"/>
              <a:chExt cx="74520" cy="28800"/>
            </a:xfrm>
          </p:grpSpPr>
          <p:sp>
            <p:nvSpPr>
              <p:cNvPr id="1577" name=""/>
              <p:cNvSpPr/>
              <p:nvPr/>
            </p:nvSpPr>
            <p:spPr>
              <a:xfrm>
                <a:off x="3184560" y="1763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232080" y="1765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3106800" y="1806480"/>
              <a:ext cx="231840" cy="157320"/>
              <a:chOff x="3106800" y="1806480"/>
              <a:chExt cx="231840" cy="157320"/>
            </a:xfrm>
          </p:grpSpPr>
          <p:sp>
            <p:nvSpPr>
              <p:cNvPr id="1580" name=""/>
              <p:cNvSpPr/>
              <p:nvPr/>
            </p:nvSpPr>
            <p:spPr>
              <a:xfrm>
                <a:off x="3106800" y="1806480"/>
                <a:ext cx="23184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3108960" y="1808280"/>
                <a:ext cx="225720" cy="153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106800" y="1808640"/>
                <a:ext cx="230760" cy="14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23840" y="123480"/>
            <a:ext cx="777240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NLF (from Nigel Per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301680" y="771480"/>
            <a:ext cx="3335400" cy="3173760"/>
            <a:chOff x="301680" y="771480"/>
            <a:chExt cx="3335400" cy="3173760"/>
          </a:xfrm>
        </p:grpSpPr>
        <p:sp>
          <p:nvSpPr>
            <p:cNvPr id="1585" name=""/>
            <p:cNvSpPr/>
            <p:nvPr/>
          </p:nvSpPr>
          <p:spPr>
            <a:xfrm>
              <a:off x="803160" y="771480"/>
              <a:ext cx="2382840" cy="3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LE GROUP-SNLF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 Naval Landing Force (SNL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6" name=""/>
            <p:cNvGrpSpPr/>
            <p:nvPr/>
          </p:nvGrpSpPr>
          <p:grpSpPr>
            <a:xfrm>
              <a:off x="301680" y="1182600"/>
              <a:ext cx="3335400" cy="2762640"/>
              <a:chOff x="301680" y="1182600"/>
              <a:chExt cx="3335400" cy="2762640"/>
            </a:xfrm>
          </p:grpSpPr>
          <p:sp>
            <p:nvSpPr>
              <p:cNvPr id="1587" name=""/>
              <p:cNvSpPr/>
              <p:nvPr/>
            </p:nvSpPr>
            <p:spPr>
              <a:xfrm>
                <a:off x="1138320" y="3079440"/>
                <a:ext cx="2498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AMG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     JA-15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80960" y="1930320"/>
                <a:ext cx="314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80960" y="2334960"/>
                <a:ext cx="314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0960" y="2782800"/>
                <a:ext cx="30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114560" y="1844640"/>
                <a:ext cx="196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            JA-19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114560" y="1623960"/>
                <a:ext cx="990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782640" y="1790640"/>
                <a:ext cx="237960" cy="207720"/>
                <a:chOff x="782640" y="1790640"/>
                <a:chExt cx="237960" cy="2077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887400" y="1790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82640" y="1841400"/>
                  <a:ext cx="23796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33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6" name=""/>
              <p:cNvSpPr/>
              <p:nvPr/>
            </p:nvSpPr>
            <p:spPr>
              <a:xfrm>
                <a:off x="1146240" y="2063520"/>
                <a:ext cx="990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neuvre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146240" y="2242800"/>
                <a:ext cx="2388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X3 to X6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ecial Naval Landing Force (SNLF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pany. 39-42   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-SNLF01 (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138320" y="2732040"/>
                <a:ext cx="1944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Engineers.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A-2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138320" y="2565360"/>
                <a:ext cx="990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0960" y="3143160"/>
                <a:ext cx="30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0960" y="3414600"/>
                <a:ext cx="314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138320" y="3323880"/>
                <a:ext cx="2197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1 Regimental. Gun Co.            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E-SNLF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85960" y="325260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41240" y="3314520"/>
                <a:ext cx="292320" cy="19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741240" y="3315600"/>
                <a:ext cx="290520" cy="1875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41240" y="3317760"/>
                <a:ext cx="290520" cy="185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865080" y="3387600"/>
                <a:ext cx="44640" cy="44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727200" y="2153880"/>
                <a:ext cx="347040" cy="299880"/>
                <a:chOff x="727200" y="2153880"/>
                <a:chExt cx="347040" cy="29988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896760" y="21538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0" name=""/>
                <p:cNvGrpSpPr/>
                <p:nvPr/>
              </p:nvGrpSpPr>
              <p:grpSpPr>
                <a:xfrm>
                  <a:off x="727200" y="2217600"/>
                  <a:ext cx="347040" cy="236160"/>
                  <a:chOff x="727200" y="2217600"/>
                  <a:chExt cx="347040" cy="236160"/>
                </a:xfrm>
              </p:grpSpPr>
              <p:grpSp>
                <p:nvGrpSpPr>
                  <p:cNvPr id="1611" name=""/>
                  <p:cNvGrpSpPr/>
                  <p:nvPr/>
                </p:nvGrpSpPr>
                <p:grpSpPr>
                  <a:xfrm>
                    <a:off x="727200" y="2217600"/>
                    <a:ext cx="347040" cy="236160"/>
                    <a:chOff x="727200" y="2217600"/>
                    <a:chExt cx="347040" cy="236160"/>
                  </a:xfrm>
                </p:grpSpPr>
                <p:sp>
                  <p:nvSpPr>
                    <p:cNvPr id="1612" name=""/>
                    <p:cNvSpPr/>
                    <p:nvPr/>
                  </p:nvSpPr>
                  <p:spPr>
                    <a:xfrm>
                      <a:off x="727200" y="2217600"/>
                      <a:ext cx="347040" cy="23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3" name=""/>
                    <p:cNvSpPr/>
                    <p:nvPr/>
                  </p:nvSpPr>
                  <p:spPr>
                    <a:xfrm flipV="1">
                      <a:off x="730800" y="222120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4" name=""/>
                    <p:cNvSpPr/>
                    <p:nvPr/>
                  </p:nvSpPr>
                  <p:spPr>
                    <a:xfrm>
                      <a:off x="727200" y="222120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5" name=""/>
                  <p:cNvGrpSpPr/>
                  <p:nvPr/>
                </p:nvGrpSpPr>
                <p:grpSpPr>
                  <a:xfrm>
                    <a:off x="839880" y="2261880"/>
                    <a:ext cx="120600" cy="174600"/>
                    <a:chOff x="839880" y="2261880"/>
                    <a:chExt cx="120600" cy="174600"/>
                  </a:xfrm>
                </p:grpSpPr>
                <p:sp>
                  <p:nvSpPr>
                    <p:cNvPr id="1616" name=""/>
                    <p:cNvSpPr/>
                    <p:nvPr/>
                  </p:nvSpPr>
                  <p:spPr>
                    <a:xfrm rot="10800000">
                      <a:off x="843120" y="2364480"/>
                      <a:ext cx="117360" cy="57240"/>
                    </a:xfrm>
                    <a:prstGeom prst="blockArc">
                      <a:avLst>
                        <a:gd name="adj1" fmla="val 10656843"/>
                        <a:gd name="adj2" fmla="val 143157"/>
                        <a:gd name="adj3" fmla="val 0"/>
                      </a:avLst>
                    </a:prstGeom>
                    <a:solidFill>
                      <a:srgbClr val="cc9900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7" name=""/>
                    <p:cNvSpPr/>
                    <p:nvPr/>
                  </p:nvSpPr>
                  <p:spPr>
                    <a:xfrm>
                      <a:off x="900000" y="2291760"/>
                      <a:ext cx="0" cy="144720"/>
                    </a:xfrm>
                    <a:prstGeom prst="line">
                      <a:avLst/>
                    </a:prstGeom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8" name=""/>
                    <p:cNvSpPr/>
                    <p:nvPr/>
                  </p:nvSpPr>
                  <p:spPr>
                    <a:xfrm>
                      <a:off x="839880" y="2293560"/>
                      <a:ext cx="117360" cy="0"/>
                    </a:xfrm>
                    <a:prstGeom prst="line">
                      <a:avLst/>
                    </a:prstGeom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9" name=""/>
                    <p:cNvSpPr/>
                    <p:nvPr/>
                  </p:nvSpPr>
                  <p:spPr>
                    <a:xfrm>
                      <a:off x="890640" y="2261880"/>
                      <a:ext cx="19080" cy="1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20" name=""/>
              <p:cNvGrpSpPr/>
              <p:nvPr/>
            </p:nvGrpSpPr>
            <p:grpSpPr>
              <a:xfrm>
                <a:off x="758880" y="2660400"/>
                <a:ext cx="283680" cy="237960"/>
                <a:chOff x="758880" y="2660400"/>
                <a:chExt cx="283680" cy="237960"/>
              </a:xfrm>
            </p:grpSpPr>
            <p:grpSp>
              <p:nvGrpSpPr>
                <p:cNvPr id="1621" name=""/>
                <p:cNvGrpSpPr/>
                <p:nvPr/>
              </p:nvGrpSpPr>
              <p:grpSpPr>
                <a:xfrm>
                  <a:off x="758880" y="2705040"/>
                  <a:ext cx="283680" cy="193320"/>
                  <a:chOff x="758880" y="2705040"/>
                  <a:chExt cx="283680" cy="19332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758880" y="2705040"/>
                    <a:ext cx="283680" cy="1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3" name=""/>
                  <p:cNvGrpSpPr/>
                  <p:nvPr/>
                </p:nvGrpSpPr>
                <p:grpSpPr>
                  <a:xfrm>
                    <a:off x="844200" y="2769480"/>
                    <a:ext cx="114120" cy="61920"/>
                    <a:chOff x="844200" y="2769480"/>
                    <a:chExt cx="114120" cy="61920"/>
                  </a:xfrm>
                </p:grpSpPr>
                <p:grpSp>
                  <p:nvGrpSpPr>
                    <p:cNvPr id="1624" name=""/>
                    <p:cNvGrpSpPr/>
                    <p:nvPr/>
                  </p:nvGrpSpPr>
                  <p:grpSpPr>
                    <a:xfrm>
                      <a:off x="844200" y="2769480"/>
                      <a:ext cx="113400" cy="61560"/>
                      <a:chOff x="844200" y="2769480"/>
                      <a:chExt cx="113400" cy="61560"/>
                    </a:xfrm>
                  </p:grpSpPr>
                  <p:grpSp>
                    <p:nvGrpSpPr>
                      <p:cNvPr id="1625" name=""/>
                      <p:cNvGrpSpPr/>
                      <p:nvPr/>
                    </p:nvGrpSpPr>
                    <p:grpSpPr>
                      <a:xfrm>
                        <a:off x="844200" y="2769480"/>
                        <a:ext cx="113400" cy="61200"/>
                        <a:chOff x="844200" y="2769480"/>
                        <a:chExt cx="113400" cy="61200"/>
                      </a:xfrm>
                    </p:grpSpPr>
                    <p:sp>
                      <p:nvSpPr>
                        <p:cNvPr id="1626" name=""/>
                        <p:cNvSpPr/>
                        <p:nvPr/>
                      </p:nvSpPr>
                      <p:spPr>
                        <a:xfrm>
                          <a:off x="844200" y="2769480"/>
                          <a:ext cx="0" cy="61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0" bIns="14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27" name=""/>
                        <p:cNvSpPr/>
                        <p:nvPr/>
                      </p:nvSpPr>
                      <p:spPr>
                        <a:xfrm>
                          <a:off x="844200" y="2769480"/>
                          <a:ext cx="113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28" name=""/>
                      <p:cNvSpPr/>
                      <p:nvPr/>
                    </p:nvSpPr>
                    <p:spPr>
                      <a:xfrm>
                        <a:off x="901800" y="2769480"/>
                        <a:ext cx="0" cy="6156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958320" y="2769480"/>
                      <a:ext cx="0" cy="6192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861840" y="2660400"/>
                  <a:ext cx="74520" cy="28800"/>
                  <a:chOff x="861840" y="2660400"/>
                  <a:chExt cx="74520" cy="2880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861840" y="26604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909360" y="26622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3" name=""/>
              <p:cNvGrpSpPr/>
              <p:nvPr/>
            </p:nvGrpSpPr>
            <p:grpSpPr>
              <a:xfrm>
                <a:off x="781200" y="3009600"/>
                <a:ext cx="239400" cy="206640"/>
                <a:chOff x="781200" y="3009600"/>
                <a:chExt cx="239400" cy="206640"/>
              </a:xfrm>
            </p:grpSpPr>
            <p:grpSp>
              <p:nvGrpSpPr>
                <p:cNvPr id="1634" name=""/>
                <p:cNvGrpSpPr/>
                <p:nvPr/>
              </p:nvGrpSpPr>
              <p:grpSpPr>
                <a:xfrm>
                  <a:off x="781200" y="3057480"/>
                  <a:ext cx="239400" cy="158760"/>
                  <a:chOff x="781200" y="3057480"/>
                  <a:chExt cx="239400" cy="158760"/>
                </a:xfrm>
              </p:grpSpPr>
              <p:sp>
                <p:nvSpPr>
                  <p:cNvPr id="1635" name=""/>
                  <p:cNvSpPr/>
                  <p:nvPr/>
                </p:nvSpPr>
                <p:spPr>
                  <a:xfrm>
                    <a:off x="781200" y="3059280"/>
                    <a:ext cx="23940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839520" y="3133800"/>
                    <a:ext cx="11880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V="1">
                    <a:off x="781200" y="3059280"/>
                    <a:ext cx="115560" cy="1555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896760" y="3057480"/>
                    <a:ext cx="123480" cy="15588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865080" y="3009600"/>
                  <a:ext cx="74520" cy="28800"/>
                  <a:chOff x="865080" y="3009600"/>
                  <a:chExt cx="74520" cy="2880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865080" y="30096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912600" y="30114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42" name=""/>
              <p:cNvSpPr/>
              <p:nvPr/>
            </p:nvSpPr>
            <p:spPr>
              <a:xfrm>
                <a:off x="301680" y="3638160"/>
                <a:ext cx="28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Arial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uring 1943, ME-10 can be replaced with ME-SNLF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Arial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A-15 can be replaced with JA-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85640" y="1423800"/>
                <a:ext cx="0" cy="199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4" name=""/>
              <p:cNvGrpSpPr/>
              <p:nvPr/>
            </p:nvGrpSpPr>
            <p:grpSpPr>
              <a:xfrm>
                <a:off x="315720" y="1182600"/>
                <a:ext cx="345600" cy="306000"/>
                <a:chOff x="315720" y="1182600"/>
                <a:chExt cx="345600" cy="306000"/>
              </a:xfrm>
            </p:grpSpPr>
            <p:grpSp>
              <p:nvGrpSpPr>
                <p:cNvPr id="1645" name=""/>
                <p:cNvGrpSpPr/>
                <p:nvPr/>
              </p:nvGrpSpPr>
              <p:grpSpPr>
                <a:xfrm>
                  <a:off x="425160" y="1182600"/>
                  <a:ext cx="130320" cy="64800"/>
                  <a:chOff x="425160" y="1182600"/>
                  <a:chExt cx="130320" cy="6480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491040" y="1184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7" name=""/>
                  <p:cNvGrpSpPr/>
                  <p:nvPr/>
                </p:nvGrpSpPr>
                <p:grpSpPr>
                  <a:xfrm>
                    <a:off x="425160" y="1182600"/>
                    <a:ext cx="130320" cy="64800"/>
                    <a:chOff x="425160" y="1182600"/>
                    <a:chExt cx="130320" cy="64800"/>
                  </a:xfrm>
                </p:grpSpPr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425160" y="11840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555480" y="1182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50" name=""/>
                <p:cNvGrpSpPr/>
                <p:nvPr/>
              </p:nvGrpSpPr>
              <p:grpSpPr>
                <a:xfrm>
                  <a:off x="315720" y="1252440"/>
                  <a:ext cx="345600" cy="236160"/>
                  <a:chOff x="315720" y="1252440"/>
                  <a:chExt cx="345600" cy="23616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>
                    <a:off x="315720" y="1252440"/>
                    <a:ext cx="345600" cy="23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V="1">
                    <a:off x="319320" y="1256040"/>
                    <a:ext cx="336960" cy="23112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15720" y="1256040"/>
                    <a:ext cx="344160" cy="225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4" name=""/>
                <p:cNvSpPr/>
                <p:nvPr/>
              </p:nvSpPr>
              <p:spPr>
                <a:xfrm rot="10800000">
                  <a:off x="433080" y="1387440"/>
                  <a:ext cx="115920" cy="56880"/>
                </a:xfrm>
                <a:prstGeom prst="blockArc">
                  <a:avLst>
                    <a:gd name="adj1" fmla="val 10656843"/>
                    <a:gd name="adj2" fmla="val 143157"/>
                    <a:gd name="adj3" fmla="val 0"/>
                  </a:avLst>
                </a:prstGeom>
                <a:solidFill>
                  <a:srgbClr val="cc9900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488880" y="13143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429840" y="1315800"/>
                  <a:ext cx="11592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80960" y="1284120"/>
                  <a:ext cx="17280" cy="14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58" name=""/>
          <p:cNvSpPr/>
          <p:nvPr/>
        </p:nvSpPr>
        <p:spPr>
          <a:xfrm>
            <a:off x="4245120" y="67320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euvre Element-SNLF01                   Special Naval Landing Force (SNLF) Company. 39-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699000" y="771480"/>
            <a:ext cx="2592360" cy="1309680"/>
            <a:chOff x="3699000" y="771480"/>
            <a:chExt cx="2592360" cy="1309680"/>
          </a:xfrm>
        </p:grpSpPr>
        <p:sp>
          <p:nvSpPr>
            <p:cNvPr id="1660" name=""/>
            <p:cNvSpPr/>
            <p:nvPr/>
          </p:nvSpPr>
          <p:spPr>
            <a:xfrm>
              <a:off x="3838680" y="1714320"/>
              <a:ext cx="342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843360" y="990360"/>
              <a:ext cx="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457520" y="1379520"/>
              <a:ext cx="183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844800" y="144288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467240" y="1801800"/>
              <a:ext cx="160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457520" y="115704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54360" y="100152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4154400" y="1325520"/>
              <a:ext cx="231840" cy="206280"/>
              <a:chOff x="4154400" y="1325520"/>
              <a:chExt cx="231840" cy="20628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4233960" y="1325520"/>
                <a:ext cx="74520" cy="28080"/>
                <a:chOff x="4233960" y="1325520"/>
                <a:chExt cx="74520" cy="280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4233960" y="1325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4281480" y="1326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4154400" y="1374480"/>
                <a:ext cx="231840" cy="157320"/>
                <a:chOff x="4154400" y="1374480"/>
                <a:chExt cx="231840" cy="15732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4154400" y="137448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V="1">
                  <a:off x="4156560" y="137628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4154400" y="137664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5" name=""/>
            <p:cNvSpPr/>
            <p:nvPr/>
          </p:nvSpPr>
          <p:spPr>
            <a:xfrm>
              <a:off x="3848040" y="1195200"/>
              <a:ext cx="300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4154400" y="1085760"/>
              <a:ext cx="238320" cy="200160"/>
              <a:chOff x="4154400" y="1085760"/>
              <a:chExt cx="238320" cy="200160"/>
            </a:xfrm>
          </p:grpSpPr>
          <p:sp>
            <p:nvSpPr>
              <p:cNvPr id="1677" name=""/>
              <p:cNvSpPr/>
              <p:nvPr/>
            </p:nvSpPr>
            <p:spPr>
              <a:xfrm>
                <a:off x="4259160" y="1085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154400" y="1128600"/>
                <a:ext cx="23832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9" name=""/>
            <p:cNvSpPr/>
            <p:nvPr/>
          </p:nvSpPr>
          <p:spPr>
            <a:xfrm>
              <a:off x="3846600" y="196056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4148280" y="1860480"/>
              <a:ext cx="239400" cy="193680"/>
              <a:chOff x="4148280" y="1860480"/>
              <a:chExt cx="239400" cy="19368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4148280" y="1896840"/>
                <a:ext cx="239400" cy="157320"/>
                <a:chOff x="4148280" y="1896840"/>
                <a:chExt cx="239400" cy="15732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4148280" y="1896840"/>
                  <a:ext cx="23940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232160" y="2022480"/>
                  <a:ext cx="6768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263840" y="191736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5" name=""/>
              <p:cNvGrpSpPr/>
              <p:nvPr/>
            </p:nvGrpSpPr>
            <p:grpSpPr>
              <a:xfrm>
                <a:off x="4230720" y="1860480"/>
                <a:ext cx="74520" cy="28080"/>
                <a:chOff x="4230720" y="1860480"/>
                <a:chExt cx="74520" cy="28080"/>
              </a:xfrm>
            </p:grpSpPr>
            <p:sp>
              <p:nvSpPr>
                <p:cNvPr id="1686" name=""/>
                <p:cNvSpPr/>
                <p:nvPr/>
              </p:nvSpPr>
              <p:spPr>
                <a:xfrm>
                  <a:off x="4230720" y="1860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4278240" y="1861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8" name=""/>
            <p:cNvSpPr/>
            <p:nvPr/>
          </p:nvSpPr>
          <p:spPr>
            <a:xfrm>
              <a:off x="4454640" y="1928520"/>
              <a:ext cx="170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9" name=""/>
            <p:cNvGrpSpPr/>
            <p:nvPr/>
          </p:nvGrpSpPr>
          <p:grpSpPr>
            <a:xfrm>
              <a:off x="4154400" y="1593720"/>
              <a:ext cx="238320" cy="204840"/>
              <a:chOff x="4154400" y="1593720"/>
              <a:chExt cx="238320" cy="204840"/>
            </a:xfrm>
          </p:grpSpPr>
          <p:grpSp>
            <p:nvGrpSpPr>
              <p:cNvPr id="1690" name=""/>
              <p:cNvGrpSpPr/>
              <p:nvPr/>
            </p:nvGrpSpPr>
            <p:grpSpPr>
              <a:xfrm>
                <a:off x="4154400" y="1634760"/>
                <a:ext cx="238320" cy="163800"/>
                <a:chOff x="4154400" y="1634760"/>
                <a:chExt cx="238320" cy="163800"/>
              </a:xfrm>
            </p:grpSpPr>
            <p:grpSp>
              <p:nvGrpSpPr>
                <p:cNvPr id="1691" name=""/>
                <p:cNvGrpSpPr/>
                <p:nvPr/>
              </p:nvGrpSpPr>
              <p:grpSpPr>
                <a:xfrm>
                  <a:off x="4154400" y="1634760"/>
                  <a:ext cx="238320" cy="163800"/>
                  <a:chOff x="4154400" y="1634760"/>
                  <a:chExt cx="238320" cy="163800"/>
                </a:xfrm>
              </p:grpSpPr>
              <p:grpSp>
                <p:nvGrpSpPr>
                  <p:cNvPr id="1692" name=""/>
                  <p:cNvGrpSpPr/>
                  <p:nvPr/>
                </p:nvGrpSpPr>
                <p:grpSpPr>
                  <a:xfrm>
                    <a:off x="4154400" y="1634760"/>
                    <a:ext cx="238320" cy="163800"/>
                    <a:chOff x="4154400" y="1634760"/>
                    <a:chExt cx="238320" cy="163800"/>
                  </a:xfrm>
                </p:grpSpPr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4154400" y="1635120"/>
                      <a:ext cx="238320" cy="163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 flipV="1">
                      <a:off x="4154400" y="1634760"/>
                      <a:ext cx="238320" cy="1602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5" name=""/>
                  <p:cNvSpPr/>
                  <p:nvPr/>
                </p:nvSpPr>
                <p:spPr>
                  <a:xfrm>
                    <a:off x="4154400" y="1638000"/>
                    <a:ext cx="238320" cy="16020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6" name=""/>
                <p:cNvSpPr/>
                <p:nvPr/>
              </p:nvSpPr>
              <p:spPr>
                <a:xfrm>
                  <a:off x="4154400" y="1635120"/>
                  <a:ext cx="60480" cy="1602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4238640" y="1593720"/>
                <a:ext cx="74520" cy="28080"/>
                <a:chOff x="4238640" y="1593720"/>
                <a:chExt cx="74520" cy="28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4238640" y="15937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286160" y="15951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0" name=""/>
            <p:cNvSpPr/>
            <p:nvPr/>
          </p:nvSpPr>
          <p:spPr>
            <a:xfrm>
              <a:off x="4457520" y="1639800"/>
              <a:ext cx="170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3699000" y="771480"/>
              <a:ext cx="284040" cy="258840"/>
              <a:chOff x="3699000" y="771480"/>
              <a:chExt cx="284040" cy="258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3840120" y="771480"/>
                <a:ext cx="180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3699000" y="836640"/>
                <a:ext cx="284040" cy="193680"/>
                <a:chOff x="3699000" y="836640"/>
                <a:chExt cx="284040" cy="193680"/>
              </a:xfrm>
            </p:grpSpPr>
            <p:grpSp>
              <p:nvGrpSpPr>
                <p:cNvPr id="1704" name=""/>
                <p:cNvGrpSpPr/>
                <p:nvPr/>
              </p:nvGrpSpPr>
              <p:grpSpPr>
                <a:xfrm>
                  <a:off x="3699000" y="836640"/>
                  <a:ext cx="284040" cy="193680"/>
                  <a:chOff x="3699000" y="836640"/>
                  <a:chExt cx="284040" cy="193680"/>
                </a:xfrm>
              </p:grpSpPr>
              <p:sp>
                <p:nvSpPr>
                  <p:cNvPr id="1705" name=""/>
                  <p:cNvSpPr/>
                  <p:nvPr/>
                </p:nvSpPr>
                <p:spPr>
                  <a:xfrm>
                    <a:off x="3699000" y="836640"/>
                    <a:ext cx="28404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 flipV="1">
                    <a:off x="3701880" y="83952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699000" y="83952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8" name=""/>
                <p:cNvGrpSpPr/>
                <p:nvPr/>
              </p:nvGrpSpPr>
              <p:grpSpPr>
                <a:xfrm>
                  <a:off x="3778200" y="853920"/>
                  <a:ext cx="120600" cy="174600"/>
                  <a:chOff x="3778200" y="853920"/>
                  <a:chExt cx="120600" cy="174600"/>
                </a:xfrm>
              </p:grpSpPr>
              <p:sp>
                <p:nvSpPr>
                  <p:cNvPr id="1709" name=""/>
                  <p:cNvSpPr/>
                  <p:nvPr/>
                </p:nvSpPr>
                <p:spPr>
                  <a:xfrm rot="10800000">
                    <a:off x="3781440" y="956520"/>
                    <a:ext cx="117360" cy="5724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cc99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838320" y="883800"/>
                    <a:ext cx="0" cy="14472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778200" y="885600"/>
                    <a:ext cx="1173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828960" y="853920"/>
                    <a:ext cx="19080" cy="14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13" name=""/>
          <p:cNvGrpSpPr/>
          <p:nvPr/>
        </p:nvGrpSpPr>
        <p:grpSpPr>
          <a:xfrm>
            <a:off x="301680" y="4094280"/>
            <a:ext cx="2876400" cy="1638360"/>
            <a:chOff x="301680" y="4094280"/>
            <a:chExt cx="2876400" cy="1638360"/>
          </a:xfrm>
        </p:grpSpPr>
        <p:sp>
          <p:nvSpPr>
            <p:cNvPr id="1714" name=""/>
            <p:cNvSpPr/>
            <p:nvPr/>
          </p:nvSpPr>
          <p:spPr>
            <a:xfrm>
              <a:off x="441360" y="536580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6040" y="4648320"/>
              <a:ext cx="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62000" y="5030640"/>
              <a:ext cx="183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antry                     JA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47840" y="509436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71720" y="5452920"/>
              <a:ext cx="1601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62000" y="4808520"/>
              <a:ext cx="1704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JA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158840" y="4653000"/>
              <a:ext cx="9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757080" y="4983120"/>
              <a:ext cx="231840" cy="200160"/>
              <a:chOff x="757080" y="4983120"/>
              <a:chExt cx="231840" cy="200160"/>
            </a:xfrm>
          </p:grpSpPr>
          <p:grpSp>
            <p:nvGrpSpPr>
              <p:cNvPr id="1722" name=""/>
              <p:cNvGrpSpPr/>
              <p:nvPr/>
            </p:nvGrpSpPr>
            <p:grpSpPr>
              <a:xfrm>
                <a:off x="833400" y="4983120"/>
                <a:ext cx="74520" cy="28080"/>
                <a:chOff x="833400" y="4983120"/>
                <a:chExt cx="74520" cy="2808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833400" y="4983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880920" y="4984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757080" y="5025960"/>
                <a:ext cx="231840" cy="157320"/>
                <a:chOff x="757080" y="5025960"/>
                <a:chExt cx="231840" cy="15732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757080" y="5025960"/>
                  <a:ext cx="23184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V="1">
                  <a:off x="759240" y="502776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757080" y="502812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9" name=""/>
            <p:cNvSpPr/>
            <p:nvPr/>
          </p:nvSpPr>
          <p:spPr>
            <a:xfrm>
              <a:off x="450720" y="4846680"/>
              <a:ext cx="30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757080" y="4737240"/>
              <a:ext cx="238320" cy="199800"/>
              <a:chOff x="757080" y="4737240"/>
              <a:chExt cx="238320" cy="199800"/>
            </a:xfrm>
          </p:grpSpPr>
          <p:sp>
            <p:nvSpPr>
              <p:cNvPr id="1731" name=""/>
              <p:cNvSpPr/>
              <p:nvPr/>
            </p:nvSpPr>
            <p:spPr>
              <a:xfrm>
                <a:off x="861840" y="47372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7080" y="4780080"/>
                <a:ext cx="23832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3" name=""/>
            <p:cNvSpPr/>
            <p:nvPr/>
          </p:nvSpPr>
          <p:spPr>
            <a:xfrm>
              <a:off x="442800" y="5613480"/>
              <a:ext cx="34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4" name=""/>
            <p:cNvGrpSpPr/>
            <p:nvPr/>
          </p:nvGrpSpPr>
          <p:grpSpPr>
            <a:xfrm>
              <a:off x="750960" y="5519880"/>
              <a:ext cx="239760" cy="193680"/>
              <a:chOff x="750960" y="5519880"/>
              <a:chExt cx="239760" cy="193680"/>
            </a:xfrm>
          </p:grpSpPr>
          <p:grpSp>
            <p:nvGrpSpPr>
              <p:cNvPr id="1735" name=""/>
              <p:cNvGrpSpPr/>
              <p:nvPr/>
            </p:nvGrpSpPr>
            <p:grpSpPr>
              <a:xfrm>
                <a:off x="750960" y="5556240"/>
                <a:ext cx="239760" cy="157320"/>
                <a:chOff x="750960" y="5556240"/>
                <a:chExt cx="239760" cy="15732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750960" y="5556240"/>
                  <a:ext cx="239760" cy="157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835200" y="5681880"/>
                  <a:ext cx="68040" cy="0"/>
                </a:xfrm>
                <a:prstGeom prst="line">
                  <a:avLst/>
                </a:prstGeom>
                <a:ln w="158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66880" y="557676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9" name=""/>
              <p:cNvGrpSpPr/>
              <p:nvPr/>
            </p:nvGrpSpPr>
            <p:grpSpPr>
              <a:xfrm>
                <a:off x="833400" y="5519880"/>
                <a:ext cx="74520" cy="28080"/>
                <a:chOff x="833400" y="5519880"/>
                <a:chExt cx="74520" cy="2808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833400" y="55198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880920" y="55213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2" name=""/>
            <p:cNvSpPr/>
            <p:nvPr/>
          </p:nvSpPr>
          <p:spPr>
            <a:xfrm>
              <a:off x="1058760" y="5580000"/>
              <a:ext cx="170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Grenade Discharger JA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757080" y="5245200"/>
              <a:ext cx="238320" cy="204840"/>
              <a:chOff x="757080" y="5245200"/>
              <a:chExt cx="238320" cy="204840"/>
            </a:xfrm>
          </p:grpSpPr>
          <p:grpSp>
            <p:nvGrpSpPr>
              <p:cNvPr id="1744" name=""/>
              <p:cNvGrpSpPr/>
              <p:nvPr/>
            </p:nvGrpSpPr>
            <p:grpSpPr>
              <a:xfrm>
                <a:off x="757080" y="5286240"/>
                <a:ext cx="238320" cy="163800"/>
                <a:chOff x="757080" y="5286240"/>
                <a:chExt cx="238320" cy="163800"/>
              </a:xfrm>
            </p:grpSpPr>
            <p:grpSp>
              <p:nvGrpSpPr>
                <p:cNvPr id="1745" name=""/>
                <p:cNvGrpSpPr/>
                <p:nvPr/>
              </p:nvGrpSpPr>
              <p:grpSpPr>
                <a:xfrm>
                  <a:off x="757080" y="5286240"/>
                  <a:ext cx="238320" cy="163800"/>
                  <a:chOff x="757080" y="5286240"/>
                  <a:chExt cx="238320" cy="163800"/>
                </a:xfrm>
              </p:grpSpPr>
              <p:grpSp>
                <p:nvGrpSpPr>
                  <p:cNvPr id="1746" name=""/>
                  <p:cNvGrpSpPr/>
                  <p:nvPr/>
                </p:nvGrpSpPr>
                <p:grpSpPr>
                  <a:xfrm>
                    <a:off x="757080" y="5286240"/>
                    <a:ext cx="238320" cy="163800"/>
                    <a:chOff x="757080" y="5286240"/>
                    <a:chExt cx="238320" cy="163800"/>
                  </a:xfrm>
                </p:grpSpPr>
                <p:sp>
                  <p:nvSpPr>
                    <p:cNvPr id="1747" name=""/>
                    <p:cNvSpPr/>
                    <p:nvPr/>
                  </p:nvSpPr>
                  <p:spPr>
                    <a:xfrm>
                      <a:off x="757080" y="5286240"/>
                      <a:ext cx="238320" cy="163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8" name=""/>
                    <p:cNvSpPr/>
                    <p:nvPr/>
                  </p:nvSpPr>
                  <p:spPr>
                    <a:xfrm flipV="1">
                      <a:off x="757080" y="5286240"/>
                      <a:ext cx="238320" cy="1605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9" name=""/>
                  <p:cNvSpPr/>
                  <p:nvPr/>
                </p:nvSpPr>
                <p:spPr>
                  <a:xfrm>
                    <a:off x="757080" y="5289120"/>
                    <a:ext cx="238320" cy="1605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0" name=""/>
                <p:cNvSpPr/>
                <p:nvPr/>
              </p:nvSpPr>
              <p:spPr>
                <a:xfrm>
                  <a:off x="757080" y="5286240"/>
                  <a:ext cx="60480" cy="1605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841320" y="5245200"/>
                <a:ext cx="74520" cy="28440"/>
                <a:chOff x="841320" y="5245200"/>
                <a:chExt cx="74520" cy="28440"/>
              </a:xfrm>
            </p:grpSpPr>
            <p:sp>
              <p:nvSpPr>
                <p:cNvPr id="1752" name=""/>
                <p:cNvSpPr/>
                <p:nvPr/>
              </p:nvSpPr>
              <p:spPr>
                <a:xfrm>
                  <a:off x="841320" y="52452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888840" y="5246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4" name=""/>
            <p:cNvSpPr/>
            <p:nvPr/>
          </p:nvSpPr>
          <p:spPr>
            <a:xfrm>
              <a:off x="1062000" y="5291280"/>
              <a:ext cx="1704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                        JA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98480" y="4094280"/>
              <a:ext cx="2379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re Element-SNLF02                   Special Naval Landing Force (SNLF) Company. 43-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301680" y="4422600"/>
              <a:ext cx="284040" cy="258840"/>
              <a:chOff x="301680" y="4422600"/>
              <a:chExt cx="284040" cy="258840"/>
            </a:xfrm>
          </p:grpSpPr>
          <p:sp>
            <p:nvSpPr>
              <p:cNvPr id="1757" name=""/>
              <p:cNvSpPr/>
              <p:nvPr/>
            </p:nvSpPr>
            <p:spPr>
              <a:xfrm>
                <a:off x="439560" y="442260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8" name=""/>
              <p:cNvGrpSpPr/>
              <p:nvPr/>
            </p:nvGrpSpPr>
            <p:grpSpPr>
              <a:xfrm>
                <a:off x="301680" y="4487760"/>
                <a:ext cx="284040" cy="193680"/>
                <a:chOff x="301680" y="4487760"/>
                <a:chExt cx="284040" cy="193680"/>
              </a:xfrm>
            </p:grpSpPr>
            <p:grpSp>
              <p:nvGrpSpPr>
                <p:cNvPr id="1759" name=""/>
                <p:cNvGrpSpPr/>
                <p:nvPr/>
              </p:nvGrpSpPr>
              <p:grpSpPr>
                <a:xfrm>
                  <a:off x="301680" y="4487760"/>
                  <a:ext cx="284040" cy="193680"/>
                  <a:chOff x="301680" y="4487760"/>
                  <a:chExt cx="284040" cy="19368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>
                    <a:off x="301680" y="4487760"/>
                    <a:ext cx="28404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V="1">
                    <a:off x="304560" y="449064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301680" y="449064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382680" y="4500720"/>
                  <a:ext cx="120600" cy="174600"/>
                  <a:chOff x="382680" y="4500720"/>
                  <a:chExt cx="120600" cy="1746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 rot="10800000">
                    <a:off x="385920" y="4603320"/>
                    <a:ext cx="117360" cy="57240"/>
                  </a:xfrm>
                  <a:prstGeom prst="blockArc">
                    <a:avLst>
                      <a:gd name="adj1" fmla="val 10656843"/>
                      <a:gd name="adj2" fmla="val 143157"/>
                      <a:gd name="adj3" fmla="val 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442800" y="4530600"/>
                    <a:ext cx="0" cy="14472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82680" y="4532400"/>
                    <a:ext cx="1173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433440" y="4500720"/>
                    <a:ext cx="19080" cy="14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68" name=""/>
          <p:cNvGrpSpPr/>
          <p:nvPr/>
        </p:nvGrpSpPr>
        <p:grpSpPr>
          <a:xfrm>
            <a:off x="3660840" y="2611440"/>
            <a:ext cx="3767040" cy="2585520"/>
            <a:chOff x="3660840" y="2611440"/>
            <a:chExt cx="3767040" cy="2585520"/>
          </a:xfrm>
        </p:grpSpPr>
        <p:sp>
          <p:nvSpPr>
            <p:cNvPr id="1769" name=""/>
            <p:cNvSpPr/>
            <p:nvPr/>
          </p:nvSpPr>
          <p:spPr>
            <a:xfrm>
              <a:off x="4730760" y="3846600"/>
              <a:ext cx="269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Lt Truck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-09 (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27520" y="3551400"/>
              <a:ext cx="252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70mm Regt. Gun        JA-10 (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184640" y="2611440"/>
              <a:ext cx="20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euver Element- SNLF03           Regimental Gun Company (SNL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221360" y="362592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79720" y="3606840"/>
              <a:ext cx="588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660840" y="4218120"/>
              <a:ext cx="2970000" cy="9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mit the Commander when used as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Commander has no separate 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Commander may function as F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guns may be replaced with 75 mm mountain guns (JA-12), or late war with AT guns (JA-13 or JA-1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jungle fighting, the guns might be manhandled (no transport) or use horse-drawn limb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4184640" y="3471840"/>
              <a:ext cx="289080" cy="209520"/>
              <a:chOff x="4184640" y="3471840"/>
              <a:chExt cx="289080" cy="209520"/>
            </a:xfrm>
          </p:grpSpPr>
          <p:grpSp>
            <p:nvGrpSpPr>
              <p:cNvPr id="1776" name=""/>
              <p:cNvGrpSpPr/>
              <p:nvPr/>
            </p:nvGrpSpPr>
            <p:grpSpPr>
              <a:xfrm>
                <a:off x="4184640" y="3524400"/>
                <a:ext cx="289080" cy="156960"/>
                <a:chOff x="4184640" y="3524400"/>
                <a:chExt cx="289080" cy="15696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4184640" y="3524400"/>
                  <a:ext cx="289080" cy="156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>
                  <a:off x="4184640" y="3525840"/>
                  <a:ext cx="287280" cy="1540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184640" y="3527280"/>
                  <a:ext cx="287280" cy="1526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299120" y="3584520"/>
                  <a:ext cx="44280" cy="367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4267080" y="3471840"/>
                <a:ext cx="90360" cy="28080"/>
                <a:chOff x="4267080" y="3471840"/>
                <a:chExt cx="90360" cy="2808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4267080" y="3471840"/>
                  <a:ext cx="3456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24680" y="3473280"/>
                  <a:ext cx="3276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4" name=""/>
            <p:cNvGrpSpPr/>
            <p:nvPr/>
          </p:nvGrpSpPr>
          <p:grpSpPr>
            <a:xfrm>
              <a:off x="3697200" y="2876400"/>
              <a:ext cx="352440" cy="252720"/>
              <a:chOff x="3697200" y="2876400"/>
              <a:chExt cx="352440" cy="252720"/>
            </a:xfrm>
          </p:grpSpPr>
          <p:sp>
            <p:nvSpPr>
              <p:cNvPr id="1785" name=""/>
              <p:cNvSpPr/>
              <p:nvPr/>
            </p:nvSpPr>
            <p:spPr>
              <a:xfrm>
                <a:off x="3871800" y="287640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697200" y="2938320"/>
                <a:ext cx="352440" cy="190800"/>
                <a:chOff x="3697200" y="2938320"/>
                <a:chExt cx="352440" cy="19080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697200" y="2938320"/>
                  <a:ext cx="352440" cy="190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V="1">
                  <a:off x="3697200" y="2940120"/>
                  <a:ext cx="351000" cy="187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3697200" y="2941560"/>
                  <a:ext cx="351000" cy="185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3846600" y="3011400"/>
                  <a:ext cx="54000" cy="44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1" name=""/>
            <p:cNvGrpSpPr/>
            <p:nvPr/>
          </p:nvGrpSpPr>
          <p:grpSpPr>
            <a:xfrm>
              <a:off x="4200480" y="3772080"/>
              <a:ext cx="279360" cy="241200"/>
              <a:chOff x="4200480" y="3772080"/>
              <a:chExt cx="279360" cy="241200"/>
            </a:xfrm>
          </p:grpSpPr>
          <p:sp>
            <p:nvSpPr>
              <p:cNvPr id="1792" name=""/>
              <p:cNvSpPr/>
              <p:nvPr/>
            </p:nvSpPr>
            <p:spPr>
              <a:xfrm>
                <a:off x="4200480" y="3819600"/>
                <a:ext cx="27936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26040" y="3986280"/>
                <a:ext cx="316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408560" y="3986280"/>
                <a:ext cx="3312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4295880" y="3772080"/>
                <a:ext cx="89640" cy="28080"/>
                <a:chOff x="4295880" y="3772080"/>
                <a:chExt cx="89640" cy="2808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4295880" y="3772080"/>
                  <a:ext cx="342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4353120" y="3773520"/>
                  <a:ext cx="324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8" name=""/>
            <p:cNvSpPr/>
            <p:nvPr/>
          </p:nvSpPr>
          <p:spPr>
            <a:xfrm>
              <a:off x="4518000" y="3726000"/>
              <a:ext cx="119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81520" y="3301920"/>
              <a:ext cx="39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21240" y="3238560"/>
              <a:ext cx="206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                      JA-19 (ab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4189320" y="3184560"/>
              <a:ext cx="287280" cy="208080"/>
              <a:chOff x="4189320" y="3184560"/>
              <a:chExt cx="287280" cy="208080"/>
            </a:xfrm>
          </p:grpSpPr>
          <p:sp>
            <p:nvSpPr>
              <p:cNvPr id="1802" name=""/>
              <p:cNvSpPr/>
              <p:nvPr/>
            </p:nvSpPr>
            <p:spPr>
              <a:xfrm>
                <a:off x="4294080" y="3184560"/>
                <a:ext cx="428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189320" y="3235320"/>
                <a:ext cx="287280" cy="15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33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4" name=""/>
            <p:cNvSpPr/>
            <p:nvPr/>
          </p:nvSpPr>
          <p:spPr>
            <a:xfrm>
              <a:off x="3879720" y="3127320"/>
              <a:ext cx="0" cy="49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cp:lastPrinted>2002-11-16T10:45:55Z</cp:lastPrinted>
  <dcterms:modified xsi:type="dcterms:W3CDTF">2005-10-01T08:40:00Z</dcterms:modified>
  <cp:revision>128</cp:revision>
  <dc:subject/>
  <dc:title>PowerPoint Presentation</dc:title>
</cp:coreProperties>
</file>