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FC38-C279-4E12-8468-BCBA3D16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E438-D37A-4D05-AE97-E588EA93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15A5-DC39-45C7-B07F-218465FB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D506-94A4-4052-A651-7E31FE44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B581-4B6D-4C73-AD3F-3311D463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BB6-A5A1-46CB-B309-B7B63E15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5147-BABB-44D8-A49A-1C928917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B640-C937-4FF1-AD81-80C7EF67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F0AB-CC0B-4DCC-A99B-740B2D57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CA1E-38E7-4BCD-9BE4-8C67BFC9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D805-0CB5-4FBC-BF22-E7923A0A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533E-00D9-4BC7-9AE3-DD8CE500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7E89-1EAC-46F8-B6B2-8D47A5EC3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3920" y="1557360"/>
            <a:ext cx="3205080" cy="4968360"/>
            <a:chOff x="223920" y="1557360"/>
            <a:chExt cx="3205080" cy="4968360"/>
          </a:xfrm>
        </p:grpSpPr>
        <p:sp>
          <p:nvSpPr>
            <p:cNvPr id="42" name=""/>
            <p:cNvSpPr/>
            <p:nvPr/>
          </p:nvSpPr>
          <p:spPr>
            <a:xfrm>
              <a:off x="1046160" y="3919680"/>
              <a:ext cx="2077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ype 93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AMG                    JA-22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46160" y="3564000"/>
              <a:ext cx="223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Engineers (no flame)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JA-2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8800" y="2473560"/>
              <a:ext cx="314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88800" y="3184560"/>
              <a:ext cx="314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8800" y="3632400"/>
              <a:ext cx="3016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22400" y="2381040"/>
              <a:ext cx="2178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Commander                         JA-19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22400" y="2152800"/>
              <a:ext cx="9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Q EL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690480" y="2333880"/>
              <a:ext cx="237960" cy="207720"/>
              <a:chOff x="690480" y="2333880"/>
              <a:chExt cx="237960" cy="207720"/>
            </a:xfrm>
          </p:grpSpPr>
          <p:sp>
            <p:nvSpPr>
              <p:cNvPr id="50" name=""/>
              <p:cNvSpPr/>
              <p:nvPr/>
            </p:nvSpPr>
            <p:spPr>
              <a:xfrm>
                <a:off x="795240" y="23338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90480" y="2384640"/>
                <a:ext cx="23796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1092240" y="2913120"/>
              <a:ext cx="1765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54080" y="3098880"/>
              <a:ext cx="2374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2 to x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NLF Company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E-30  (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3348360"/>
              <a:ext cx="99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8800" y="3983040"/>
              <a:ext cx="3016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8800" y="4311720"/>
              <a:ext cx="314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46160" y="4240440"/>
              <a:ext cx="219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Regimental Gun Co.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E-10 (d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93800" y="4149720"/>
              <a:ext cx="144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9440" y="4211640"/>
              <a:ext cx="291960" cy="19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649440" y="4213440"/>
              <a:ext cx="290520" cy="187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9440" y="4214880"/>
              <a:ext cx="290520" cy="1857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73280" y="4284720"/>
              <a:ext cx="44280" cy="44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635040" y="3003840"/>
              <a:ext cx="347040" cy="299160"/>
              <a:chOff x="635040" y="3003840"/>
              <a:chExt cx="347040" cy="299160"/>
            </a:xfrm>
          </p:grpSpPr>
          <p:sp>
            <p:nvSpPr>
              <p:cNvPr id="64" name=""/>
              <p:cNvSpPr/>
              <p:nvPr/>
            </p:nvSpPr>
            <p:spPr>
              <a:xfrm>
                <a:off x="804600" y="30038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635040" y="3067200"/>
                <a:ext cx="347040" cy="235800"/>
                <a:chOff x="635040" y="3067200"/>
                <a:chExt cx="347040" cy="235800"/>
              </a:xfrm>
            </p:grpSpPr>
            <p:grpSp>
              <p:nvGrpSpPr>
                <p:cNvPr id="66" name=""/>
                <p:cNvGrpSpPr/>
                <p:nvPr/>
              </p:nvGrpSpPr>
              <p:grpSpPr>
                <a:xfrm>
                  <a:off x="635040" y="3067200"/>
                  <a:ext cx="347040" cy="235800"/>
                  <a:chOff x="635040" y="3067200"/>
                  <a:chExt cx="347040" cy="235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635040" y="3067200"/>
                    <a:ext cx="347040" cy="23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V="1">
                    <a:off x="638640" y="3070440"/>
                    <a:ext cx="338400" cy="2307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635040" y="3070800"/>
                    <a:ext cx="345600" cy="22500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" name=""/>
                <p:cNvGrpSpPr/>
                <p:nvPr/>
              </p:nvGrpSpPr>
              <p:grpSpPr>
                <a:xfrm>
                  <a:off x="747720" y="3111120"/>
                  <a:ext cx="120600" cy="173880"/>
                  <a:chOff x="747720" y="3111120"/>
                  <a:chExt cx="120600" cy="173880"/>
                </a:xfrm>
              </p:grpSpPr>
              <p:sp>
                <p:nvSpPr>
                  <p:cNvPr id="71" name=""/>
                  <p:cNvSpPr/>
                  <p:nvPr/>
                </p:nvSpPr>
                <p:spPr>
                  <a:xfrm rot="10800000">
                    <a:off x="750960" y="3213720"/>
                    <a:ext cx="117360" cy="56880"/>
                  </a:xfrm>
                  <a:prstGeom prst="blockArc">
                    <a:avLst>
                      <a:gd name="adj1" fmla="val 10656843"/>
                      <a:gd name="adj2" fmla="val 143157"/>
                      <a:gd name="adj3" fmla="val 0"/>
                    </a:avLst>
                  </a:prstGeom>
                  <a:solidFill>
                    <a:srgbClr val="cc9900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07840" y="3140640"/>
                    <a:ext cx="0" cy="14436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47720" y="3142440"/>
                    <a:ext cx="117360" cy="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98480" y="3111120"/>
                    <a:ext cx="19080" cy="13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5" name=""/>
            <p:cNvGrpSpPr/>
            <p:nvPr/>
          </p:nvGrpSpPr>
          <p:grpSpPr>
            <a:xfrm>
              <a:off x="666720" y="3510000"/>
              <a:ext cx="283680" cy="237960"/>
              <a:chOff x="666720" y="3510000"/>
              <a:chExt cx="283680" cy="23796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666720" y="3554640"/>
                <a:ext cx="283680" cy="193320"/>
                <a:chOff x="666720" y="3554640"/>
                <a:chExt cx="283680" cy="1933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66720" y="3554640"/>
                  <a:ext cx="283680" cy="193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" name=""/>
                <p:cNvGrpSpPr/>
                <p:nvPr/>
              </p:nvGrpSpPr>
              <p:grpSpPr>
                <a:xfrm>
                  <a:off x="752040" y="3619080"/>
                  <a:ext cx="114120" cy="61920"/>
                  <a:chOff x="752040" y="3619080"/>
                  <a:chExt cx="114120" cy="61920"/>
                </a:xfrm>
              </p:grpSpPr>
              <p:grpSp>
                <p:nvGrpSpPr>
                  <p:cNvPr id="79" name=""/>
                  <p:cNvGrpSpPr/>
                  <p:nvPr/>
                </p:nvGrpSpPr>
                <p:grpSpPr>
                  <a:xfrm>
                    <a:off x="752040" y="3619080"/>
                    <a:ext cx="113400" cy="61560"/>
                    <a:chOff x="752040" y="3619080"/>
                    <a:chExt cx="113400" cy="61560"/>
                  </a:xfrm>
                </p:grpSpPr>
                <p:grpSp>
                  <p:nvGrpSpPr>
                    <p:cNvPr id="80" name=""/>
                    <p:cNvGrpSpPr/>
                    <p:nvPr/>
                  </p:nvGrpSpPr>
                  <p:grpSpPr>
                    <a:xfrm>
                      <a:off x="752040" y="3619080"/>
                      <a:ext cx="113400" cy="61200"/>
                      <a:chOff x="752040" y="3619080"/>
                      <a:chExt cx="113400" cy="61200"/>
                    </a:xfrm>
                  </p:grpSpPr>
                  <p:sp>
                    <p:nvSpPr>
                      <p:cNvPr id="81" name=""/>
                      <p:cNvSpPr/>
                      <p:nvPr/>
                    </p:nvSpPr>
                    <p:spPr>
                      <a:xfrm>
                        <a:off x="752040" y="361908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752040" y="3619080"/>
                        <a:ext cx="113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809640" y="3619080"/>
                      <a:ext cx="0" cy="6156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4" name=""/>
                  <p:cNvSpPr/>
                  <p:nvPr/>
                </p:nvSpPr>
                <p:spPr>
                  <a:xfrm>
                    <a:off x="866160" y="3619080"/>
                    <a:ext cx="0" cy="6192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5" name=""/>
              <p:cNvGrpSpPr/>
              <p:nvPr/>
            </p:nvGrpSpPr>
            <p:grpSpPr>
              <a:xfrm>
                <a:off x="769680" y="3510000"/>
                <a:ext cx="73800" cy="28800"/>
                <a:chOff x="769680" y="3510000"/>
                <a:chExt cx="73800" cy="288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769680" y="351000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816840" y="351180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" name=""/>
            <p:cNvGrpSpPr/>
            <p:nvPr/>
          </p:nvGrpSpPr>
          <p:grpSpPr>
            <a:xfrm>
              <a:off x="689040" y="3849840"/>
              <a:ext cx="239400" cy="205560"/>
              <a:chOff x="689040" y="3849840"/>
              <a:chExt cx="239400" cy="20556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689040" y="3897360"/>
                <a:ext cx="239400" cy="158040"/>
                <a:chOff x="689040" y="3897360"/>
                <a:chExt cx="239400" cy="15804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89040" y="3898800"/>
                  <a:ext cx="239400" cy="156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47360" y="3973320"/>
                  <a:ext cx="11880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V="1">
                  <a:off x="689040" y="3898440"/>
                  <a:ext cx="115560" cy="1551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04600" y="3897360"/>
                  <a:ext cx="123480" cy="1555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772920" y="3849840"/>
                <a:ext cx="74520" cy="28080"/>
                <a:chOff x="772920" y="3849840"/>
                <a:chExt cx="74520" cy="280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772920" y="38498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820440" y="38512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" name=""/>
            <p:cNvSpPr/>
            <p:nvPr/>
          </p:nvSpPr>
          <p:spPr>
            <a:xfrm>
              <a:off x="271440" y="5206320"/>
              <a:ext cx="3067200" cy="13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is early war organisation (41-43)  is for SNLF in Offensive post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uring 1943, ME-08 can be replaced with ME-09. SNLF forces often included companies from several uni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A-22 can be replaced with JA-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gimental Guns can be replaced with 37mm AT guns   (JA-13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anks, although not a part of SNLF organisation were deployed in irregular numbers when required. Light Tanks can be replaced with tankette (JA-01 or JA-02)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80880" y="2038320"/>
              <a:ext cx="12960" cy="2643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223920" y="1797120"/>
              <a:ext cx="345600" cy="306000"/>
              <a:chOff x="223920" y="1797120"/>
              <a:chExt cx="345600" cy="3060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333360" y="1797120"/>
                <a:ext cx="130320" cy="64800"/>
                <a:chOff x="333360" y="1797120"/>
                <a:chExt cx="130320" cy="648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399240" y="17985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" name=""/>
                <p:cNvGrpSpPr/>
                <p:nvPr/>
              </p:nvGrpSpPr>
              <p:grpSpPr>
                <a:xfrm>
                  <a:off x="333360" y="1797120"/>
                  <a:ext cx="130320" cy="64800"/>
                  <a:chOff x="333360" y="1797120"/>
                  <a:chExt cx="130320" cy="6480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333360" y="17985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463680" y="17971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" name=""/>
              <p:cNvGrpSpPr/>
              <p:nvPr/>
            </p:nvGrpSpPr>
            <p:grpSpPr>
              <a:xfrm>
                <a:off x="223920" y="1866960"/>
                <a:ext cx="345600" cy="236160"/>
                <a:chOff x="223920" y="1866960"/>
                <a:chExt cx="345600" cy="2361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23920" y="1866960"/>
                  <a:ext cx="345600" cy="236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V="1">
                  <a:off x="227520" y="1870560"/>
                  <a:ext cx="336960" cy="2311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23920" y="1870560"/>
                  <a:ext cx="344160" cy="2253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 rot="10800000">
                <a:off x="341280" y="2001960"/>
                <a:ext cx="115920" cy="56880"/>
              </a:xfrm>
              <a:prstGeom prst="blockArc">
                <a:avLst>
                  <a:gd name="adj1" fmla="val 10656843"/>
                  <a:gd name="adj2" fmla="val 143157"/>
                  <a:gd name="adj3" fmla="val 0"/>
                </a:avLst>
              </a:prstGeom>
              <a:solidFill>
                <a:srgbClr val="cc99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97080" y="1928880"/>
                <a:ext cx="0" cy="14436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38040" y="1930320"/>
                <a:ext cx="1159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89160" y="1898640"/>
                <a:ext cx="17280" cy="1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671400" y="1557360"/>
              <a:ext cx="23004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TTLE GROUP-14 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ecial Naval Landing Force (SNL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0880" y="4668840"/>
              <a:ext cx="314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38240" y="4597560"/>
              <a:ext cx="219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Battalion Gun Co.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E-0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5880" y="4507200"/>
              <a:ext cx="144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1520" y="4569120"/>
              <a:ext cx="2919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41520" y="4570560"/>
              <a:ext cx="290520" cy="187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1520" y="4572000"/>
              <a:ext cx="290520" cy="1857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5000" y="4641840"/>
              <a:ext cx="44640" cy="44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30320" y="4969080"/>
              <a:ext cx="2093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p to 4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Light Tank               JA-03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e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8520" y="5029200"/>
              <a:ext cx="3888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631800" y="4911840"/>
              <a:ext cx="231840" cy="204840"/>
              <a:chOff x="631800" y="4911840"/>
              <a:chExt cx="231840" cy="20484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631800" y="4959360"/>
                <a:ext cx="231840" cy="157320"/>
                <a:chOff x="631800" y="4959360"/>
                <a:chExt cx="231840" cy="1573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31800" y="4959360"/>
                  <a:ext cx="23184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74280" y="4998600"/>
                  <a:ext cx="148680" cy="74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709560" y="4911840"/>
                <a:ext cx="74160" cy="27000"/>
                <a:chOff x="709560" y="4911840"/>
                <a:chExt cx="74160" cy="270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709560" y="49118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57080" y="491184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0" name=""/>
            <p:cNvSpPr/>
            <p:nvPr/>
          </p:nvSpPr>
          <p:spPr>
            <a:xfrm>
              <a:off x="390600" y="465948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380880" y="2548080"/>
              <a:ext cx="2617920" cy="323280"/>
              <a:chOff x="380880" y="2548080"/>
              <a:chExt cx="2617920" cy="323280"/>
            </a:xfrm>
          </p:grpSpPr>
          <p:sp>
            <p:nvSpPr>
              <p:cNvPr id="132" name=""/>
              <p:cNvSpPr/>
              <p:nvPr/>
            </p:nvSpPr>
            <p:spPr>
              <a:xfrm>
                <a:off x="993600" y="2698920"/>
                <a:ext cx="200520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Infantry                            JA-1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80880" y="2779920"/>
                <a:ext cx="343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690480" y="2657520"/>
                <a:ext cx="231840" cy="213840"/>
                <a:chOff x="690480" y="2657520"/>
                <a:chExt cx="231840" cy="213840"/>
              </a:xfrm>
            </p:grpSpPr>
            <p:grpSp>
              <p:nvGrpSpPr>
                <p:cNvPr id="135" name=""/>
                <p:cNvGrpSpPr/>
                <p:nvPr/>
              </p:nvGrpSpPr>
              <p:grpSpPr>
                <a:xfrm>
                  <a:off x="690480" y="2711520"/>
                  <a:ext cx="231840" cy="156960"/>
                  <a:chOff x="690480" y="2711520"/>
                  <a:chExt cx="231840" cy="15696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690480" y="2711520"/>
                    <a:ext cx="231840" cy="156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V="1">
                    <a:off x="692640" y="2713680"/>
                    <a:ext cx="225720" cy="1533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690480" y="2713680"/>
                    <a:ext cx="230760" cy="1497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68240" y="2719440"/>
                  <a:ext cx="75960" cy="151920"/>
                  <a:chOff x="768240" y="2719440"/>
                  <a:chExt cx="75960" cy="15192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10800000">
                    <a:off x="770040" y="2809080"/>
                    <a:ext cx="74160" cy="49680"/>
                  </a:xfrm>
                  <a:prstGeom prst="blockArc">
                    <a:avLst>
                      <a:gd name="adj1" fmla="val 10656843"/>
                      <a:gd name="adj2" fmla="val 143157"/>
                      <a:gd name="adj3" fmla="val 0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806040" y="2745360"/>
                    <a:ext cx="0" cy="12600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768240" y="2746800"/>
                    <a:ext cx="74160" cy="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800280" y="2719440"/>
                    <a:ext cx="11880" cy="1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160" bIns="-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769680" y="2657520"/>
                  <a:ext cx="74520" cy="28080"/>
                  <a:chOff x="769680" y="2657520"/>
                  <a:chExt cx="74520" cy="2808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>
                    <a:off x="769680" y="26575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817200" y="26589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7" name=""/>
              <p:cNvSpPr/>
              <p:nvPr/>
            </p:nvSpPr>
            <p:spPr>
              <a:xfrm>
                <a:off x="1093680" y="2548080"/>
                <a:ext cx="1765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c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" name=""/>
          <p:cNvSpPr/>
          <p:nvPr/>
        </p:nvSpPr>
        <p:spPr>
          <a:xfrm>
            <a:off x="1143000" y="398520"/>
            <a:ext cx="4495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Naval Landing Force Battle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405240" y="1557360"/>
            <a:ext cx="3219480" cy="5511240"/>
            <a:chOff x="3405240" y="1557360"/>
            <a:chExt cx="3219480" cy="5511240"/>
          </a:xfrm>
        </p:grpSpPr>
        <p:sp>
          <p:nvSpPr>
            <p:cNvPr id="150" name=""/>
            <p:cNvSpPr/>
            <p:nvPr/>
          </p:nvSpPr>
          <p:spPr>
            <a:xfrm>
              <a:off x="3583080" y="2097360"/>
              <a:ext cx="0" cy="301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3419640" y="1797120"/>
              <a:ext cx="345600" cy="306000"/>
              <a:chOff x="3419640" y="1797120"/>
              <a:chExt cx="345600" cy="30600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3529080" y="1797120"/>
                <a:ext cx="130320" cy="64800"/>
                <a:chOff x="3529080" y="1797120"/>
                <a:chExt cx="130320" cy="648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3594960" y="17985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" name=""/>
                <p:cNvGrpSpPr/>
                <p:nvPr/>
              </p:nvGrpSpPr>
              <p:grpSpPr>
                <a:xfrm>
                  <a:off x="3529080" y="1797120"/>
                  <a:ext cx="130320" cy="64800"/>
                  <a:chOff x="3529080" y="1797120"/>
                  <a:chExt cx="130320" cy="6480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3529080" y="17985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3659400" y="17971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7" name=""/>
              <p:cNvGrpSpPr/>
              <p:nvPr/>
            </p:nvGrpSpPr>
            <p:grpSpPr>
              <a:xfrm>
                <a:off x="3419640" y="1866960"/>
                <a:ext cx="345600" cy="236160"/>
                <a:chOff x="3419640" y="1866960"/>
                <a:chExt cx="345600" cy="2361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3419640" y="1866960"/>
                  <a:ext cx="345600" cy="236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3423240" y="1870560"/>
                  <a:ext cx="336960" cy="2311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419640" y="1870560"/>
                  <a:ext cx="344160" cy="2253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 rot="10800000">
                <a:off x="3537000" y="2001960"/>
                <a:ext cx="115920" cy="56880"/>
              </a:xfrm>
              <a:prstGeom prst="blockArc">
                <a:avLst>
                  <a:gd name="adj1" fmla="val 10656843"/>
                  <a:gd name="adj2" fmla="val 143157"/>
                  <a:gd name="adj3" fmla="val 0"/>
                </a:avLst>
              </a:prstGeom>
              <a:solidFill>
                <a:srgbClr val="cc99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592800" y="1928880"/>
                <a:ext cx="0" cy="14436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533760" y="1930320"/>
                <a:ext cx="1159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584880" y="1898640"/>
                <a:ext cx="17280" cy="1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3584520" y="2473560"/>
              <a:ext cx="314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84520" y="3200400"/>
              <a:ext cx="314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18120" y="2381040"/>
              <a:ext cx="2178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Commander                         JA-19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18120" y="2152800"/>
              <a:ext cx="99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Q EL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886200" y="2333880"/>
              <a:ext cx="237960" cy="207720"/>
              <a:chOff x="3886200" y="2333880"/>
              <a:chExt cx="237960" cy="207720"/>
            </a:xfrm>
          </p:grpSpPr>
          <p:sp>
            <p:nvSpPr>
              <p:cNvPr id="170" name=""/>
              <p:cNvSpPr/>
              <p:nvPr/>
            </p:nvSpPr>
            <p:spPr>
              <a:xfrm>
                <a:off x="3990960" y="23338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86200" y="2384640"/>
                <a:ext cx="23796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4287960" y="2928960"/>
              <a:ext cx="176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49800" y="3143520"/>
              <a:ext cx="2374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1 to x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NLF Company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E-31  (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99120" y="4098960"/>
              <a:ext cx="99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3830760" y="3019680"/>
              <a:ext cx="347040" cy="299160"/>
              <a:chOff x="3830760" y="3019680"/>
              <a:chExt cx="347040" cy="299160"/>
            </a:xfrm>
          </p:grpSpPr>
          <p:sp>
            <p:nvSpPr>
              <p:cNvPr id="176" name=""/>
              <p:cNvSpPr/>
              <p:nvPr/>
            </p:nvSpPr>
            <p:spPr>
              <a:xfrm>
                <a:off x="4000320" y="30196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3830760" y="3083040"/>
                <a:ext cx="347040" cy="235800"/>
                <a:chOff x="3830760" y="3083040"/>
                <a:chExt cx="347040" cy="23580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3830760" y="3083040"/>
                  <a:ext cx="347040" cy="235800"/>
                  <a:chOff x="3830760" y="3083040"/>
                  <a:chExt cx="347040" cy="23580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3830760" y="3083040"/>
                    <a:ext cx="347040" cy="23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V="1">
                    <a:off x="3834360" y="3086280"/>
                    <a:ext cx="338400" cy="2307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3830760" y="3086640"/>
                    <a:ext cx="345600" cy="22500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3943440" y="3126960"/>
                  <a:ext cx="120600" cy="173880"/>
                  <a:chOff x="3943440" y="3126960"/>
                  <a:chExt cx="120600" cy="17388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rot="10800000">
                    <a:off x="3946680" y="3229560"/>
                    <a:ext cx="117360" cy="56880"/>
                  </a:xfrm>
                  <a:prstGeom prst="blockArc">
                    <a:avLst>
                      <a:gd name="adj1" fmla="val 10656843"/>
                      <a:gd name="adj2" fmla="val 143157"/>
                      <a:gd name="adj3" fmla="val 0"/>
                    </a:avLst>
                  </a:prstGeom>
                  <a:solidFill>
                    <a:srgbClr val="cc9900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4003560" y="3156480"/>
                    <a:ext cx="0" cy="14436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3943440" y="3158280"/>
                    <a:ext cx="117360" cy="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3994200" y="3126960"/>
                    <a:ext cx="19080" cy="13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87" name=""/>
            <p:cNvSpPr/>
            <p:nvPr/>
          </p:nvSpPr>
          <p:spPr>
            <a:xfrm>
              <a:off x="3405240" y="6139800"/>
              <a:ext cx="30668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is late war organisation (43-45) is for SNLF in Defensive post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NLF forces often included companies from several uni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7mm AT guns can be replaced with 47mm ATG  (JA-14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ns often had no transport. They may use light trucks, or    horse-drawn limber JA-28. 37mm guns may also be       mule packed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67120" y="1557360"/>
              <a:ext cx="23004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TTLE GROUP-15 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ecial Naval Landing Force (SNL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3576600" y="3422880"/>
              <a:ext cx="3011400" cy="609480"/>
              <a:chOff x="3576600" y="3422880"/>
              <a:chExt cx="3011400" cy="609480"/>
            </a:xfrm>
          </p:grpSpPr>
          <p:sp>
            <p:nvSpPr>
              <p:cNvPr id="190" name=""/>
              <p:cNvSpPr/>
              <p:nvPr/>
            </p:nvSpPr>
            <p:spPr>
              <a:xfrm>
                <a:off x="3584520" y="3584520"/>
                <a:ext cx="314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241520" y="3513240"/>
                <a:ext cx="2346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Medium Coast Gun Co.     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ME-3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989160" y="3422880"/>
                <a:ext cx="180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844800" y="3484800"/>
                <a:ext cx="291960" cy="19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968640" y="3557520"/>
                <a:ext cx="44280" cy="446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576600" y="3942000"/>
                <a:ext cx="314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233600" y="3870360"/>
                <a:ext cx="2197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Light Coast Gun Co.           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ME-3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981240" y="3780000"/>
                <a:ext cx="180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836880" y="3841920"/>
                <a:ext cx="291960" cy="19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960720" y="3915000"/>
                <a:ext cx="44280" cy="44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3597120" y="4232520"/>
              <a:ext cx="2990880" cy="621360"/>
              <a:chOff x="3597120" y="4232520"/>
              <a:chExt cx="2990880" cy="621360"/>
            </a:xfrm>
          </p:grpSpPr>
          <p:sp>
            <p:nvSpPr>
              <p:cNvPr id="201" name=""/>
              <p:cNvSpPr/>
              <p:nvPr/>
            </p:nvSpPr>
            <p:spPr>
              <a:xfrm>
                <a:off x="3597120" y="4405320"/>
                <a:ext cx="30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254480" y="4319640"/>
                <a:ext cx="2333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ntiaircraft Gun Company  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ME-28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3865320" y="4232520"/>
                <a:ext cx="284040" cy="253080"/>
                <a:chOff x="3865320" y="4232520"/>
                <a:chExt cx="284040" cy="2530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008240" y="4232520"/>
                  <a:ext cx="0" cy="63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5" name=""/>
                <p:cNvGrpSpPr/>
                <p:nvPr/>
              </p:nvGrpSpPr>
              <p:grpSpPr>
                <a:xfrm>
                  <a:off x="3865320" y="4292640"/>
                  <a:ext cx="284040" cy="192960"/>
                  <a:chOff x="3865320" y="4292640"/>
                  <a:chExt cx="284040" cy="19296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3865320" y="4292640"/>
                    <a:ext cx="284040" cy="192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V="1">
                    <a:off x="3865320" y="4296600"/>
                    <a:ext cx="139680" cy="18720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4005000" y="4292640"/>
                    <a:ext cx="140040" cy="18900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938760" y="4389840"/>
                    <a:ext cx="140040" cy="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0" name=""/>
              <p:cNvSpPr/>
              <p:nvPr/>
            </p:nvSpPr>
            <p:spPr>
              <a:xfrm>
                <a:off x="3597120" y="4773600"/>
                <a:ext cx="30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254480" y="4687920"/>
                <a:ext cx="2333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ntiaircraft MG Company  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ME-3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865320" y="4600800"/>
                <a:ext cx="284040" cy="253080"/>
                <a:chOff x="3865320" y="4600800"/>
                <a:chExt cx="284040" cy="2530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4008240" y="4600800"/>
                  <a:ext cx="0" cy="63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4" name=""/>
                <p:cNvGrpSpPr/>
                <p:nvPr/>
              </p:nvGrpSpPr>
              <p:grpSpPr>
                <a:xfrm>
                  <a:off x="3865320" y="4660920"/>
                  <a:ext cx="284040" cy="192960"/>
                  <a:chOff x="3865320" y="4660920"/>
                  <a:chExt cx="284040" cy="19296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3865320" y="4660920"/>
                    <a:ext cx="284040" cy="192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V="1">
                    <a:off x="3865320" y="4664880"/>
                    <a:ext cx="139680" cy="18720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4005000" y="4660920"/>
                    <a:ext cx="140040" cy="18900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938760" y="4758120"/>
                    <a:ext cx="140040" cy="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9" name=""/>
            <p:cNvGrpSpPr/>
            <p:nvPr/>
          </p:nvGrpSpPr>
          <p:grpSpPr>
            <a:xfrm>
              <a:off x="3589200" y="2567160"/>
              <a:ext cx="2617920" cy="323280"/>
              <a:chOff x="3589200" y="2567160"/>
              <a:chExt cx="2617920" cy="323280"/>
            </a:xfrm>
          </p:grpSpPr>
          <p:sp>
            <p:nvSpPr>
              <p:cNvPr id="220" name=""/>
              <p:cNvSpPr/>
              <p:nvPr/>
            </p:nvSpPr>
            <p:spPr>
              <a:xfrm>
                <a:off x="4201920" y="2718000"/>
                <a:ext cx="200520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Infantry                            JA-1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589200" y="2799000"/>
                <a:ext cx="343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3898800" y="2676600"/>
                <a:ext cx="231840" cy="213840"/>
                <a:chOff x="3898800" y="2676600"/>
                <a:chExt cx="231840" cy="21384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898800" y="2730600"/>
                  <a:ext cx="231840" cy="156960"/>
                  <a:chOff x="3898800" y="2730600"/>
                  <a:chExt cx="231840" cy="15696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898800" y="2730600"/>
                    <a:ext cx="231840" cy="156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flipV="1">
                    <a:off x="3900960" y="2732760"/>
                    <a:ext cx="225720" cy="1533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898800" y="2732760"/>
                    <a:ext cx="230760" cy="1497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3976560" y="2738520"/>
                  <a:ext cx="75960" cy="151920"/>
                  <a:chOff x="3976560" y="2738520"/>
                  <a:chExt cx="75960" cy="15192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rot="10800000">
                    <a:off x="3978360" y="2828160"/>
                    <a:ext cx="74160" cy="49680"/>
                  </a:xfrm>
                  <a:prstGeom prst="blockArc">
                    <a:avLst>
                      <a:gd name="adj1" fmla="val 10656843"/>
                      <a:gd name="adj2" fmla="val 143157"/>
                      <a:gd name="adj3" fmla="val 0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4014360" y="2764440"/>
                    <a:ext cx="0" cy="12600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3976560" y="2765880"/>
                    <a:ext cx="74160" cy="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4008600" y="2738520"/>
                    <a:ext cx="11880" cy="1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160" bIns="-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3978000" y="2676600"/>
                  <a:ext cx="74520" cy="28080"/>
                  <a:chOff x="3978000" y="2676600"/>
                  <a:chExt cx="74520" cy="2808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3978000" y="26766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4025520" y="26780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5" name=""/>
              <p:cNvSpPr/>
              <p:nvPr/>
            </p:nvSpPr>
            <p:spPr>
              <a:xfrm>
                <a:off x="4302000" y="2567160"/>
                <a:ext cx="1765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c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4302000" y="5591160"/>
              <a:ext cx="9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78400" y="590400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99040" y="5761080"/>
              <a:ext cx="2084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Infantry Mortar Platoon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S-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878280" y="5774040"/>
              <a:ext cx="239760" cy="206280"/>
              <a:chOff x="3878280" y="5774040"/>
              <a:chExt cx="239760" cy="20628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8760" y="57754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986280" y="577404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878280" y="5823000"/>
                <a:ext cx="23976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3" name=""/>
              <p:cNvGrpSpPr/>
              <p:nvPr/>
            </p:nvGrpSpPr>
            <p:grpSpPr>
              <a:xfrm>
                <a:off x="3963960" y="5845320"/>
                <a:ext cx="68400" cy="106200"/>
                <a:chOff x="3963960" y="5845320"/>
                <a:chExt cx="68400" cy="1062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3963960" y="5949720"/>
                  <a:ext cx="68400" cy="0"/>
                </a:xfrm>
                <a:prstGeom prst="line">
                  <a:avLst/>
                </a:prstGeom>
                <a:ln w="158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996000" y="5845320"/>
                  <a:ext cx="0" cy="10620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6" name=""/>
              <p:cNvSpPr/>
              <p:nvPr/>
            </p:nvSpPr>
            <p:spPr>
              <a:xfrm>
                <a:off x="4035600" y="577404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3583080" y="5091120"/>
              <a:ext cx="0" cy="8114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51360" y="50961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83080" y="5106960"/>
              <a:ext cx="342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224240" y="5054400"/>
              <a:ext cx="2094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37mm AT Gun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(c)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JA-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3894120" y="4997520"/>
              <a:ext cx="231840" cy="198000"/>
              <a:chOff x="3894120" y="4997520"/>
              <a:chExt cx="231840" cy="198000"/>
            </a:xfrm>
          </p:grpSpPr>
          <p:sp>
            <p:nvSpPr>
              <p:cNvPr id="252" name=""/>
              <p:cNvSpPr/>
              <p:nvPr/>
            </p:nvSpPr>
            <p:spPr>
              <a:xfrm flipV="1">
                <a:off x="3894120" y="5037840"/>
                <a:ext cx="23184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011840" y="5041800"/>
                <a:ext cx="11412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3894120" y="5038560"/>
                <a:ext cx="114480" cy="1540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3996000" y="5103000"/>
                <a:ext cx="28440" cy="270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3978360" y="4997520"/>
                <a:ext cx="74520" cy="28080"/>
                <a:chOff x="3978360" y="4997520"/>
                <a:chExt cx="74520" cy="280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3978360" y="49975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025880" y="49989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9" name=""/>
            <p:cNvGrpSpPr/>
            <p:nvPr/>
          </p:nvGrpSpPr>
          <p:grpSpPr>
            <a:xfrm>
              <a:off x="3898800" y="5300640"/>
              <a:ext cx="231840" cy="241200"/>
              <a:chOff x="3898800" y="5300640"/>
              <a:chExt cx="231840" cy="24120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3898800" y="5348160"/>
                <a:ext cx="231840" cy="193680"/>
                <a:chOff x="3898800" y="5348160"/>
                <a:chExt cx="231840" cy="19368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3898800" y="5348160"/>
                  <a:ext cx="23184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919320" y="55148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071600" y="55148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3978000" y="5300640"/>
                <a:ext cx="74520" cy="28080"/>
                <a:chOff x="3978000" y="5300640"/>
                <a:chExt cx="74520" cy="280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978000" y="53006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025520" y="53020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7" name=""/>
            <p:cNvSpPr/>
            <p:nvPr/>
          </p:nvSpPr>
          <p:spPr>
            <a:xfrm>
              <a:off x="4232160" y="5368680"/>
              <a:ext cx="2239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Lt Truck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JA-09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00480" y="5222880"/>
              <a:ext cx="9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279360" y="3149640"/>
            <a:ext cx="2876400" cy="1668600"/>
            <a:chOff x="279360" y="3149640"/>
            <a:chExt cx="2876400" cy="1668600"/>
          </a:xfrm>
        </p:grpSpPr>
        <p:sp>
          <p:nvSpPr>
            <p:cNvPr id="270" name=""/>
            <p:cNvSpPr/>
            <p:nvPr/>
          </p:nvSpPr>
          <p:spPr>
            <a:xfrm>
              <a:off x="419040" y="4451400"/>
              <a:ext cx="34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3720" y="3736800"/>
              <a:ext cx="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39680" y="4116240"/>
              <a:ext cx="18352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9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antry                     JA-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5520" y="4179600"/>
              <a:ext cx="342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49400" y="4538520"/>
              <a:ext cx="160164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39680" y="3894120"/>
              <a:ext cx="17049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   JA-1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36520" y="3738600"/>
              <a:ext cx="99072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817560" y="4062240"/>
              <a:ext cx="74520" cy="28800"/>
              <a:chOff x="817560" y="4062240"/>
              <a:chExt cx="74520" cy="28800"/>
            </a:xfrm>
          </p:grpSpPr>
          <p:sp>
            <p:nvSpPr>
              <p:cNvPr id="278" name=""/>
              <p:cNvSpPr/>
              <p:nvPr/>
            </p:nvSpPr>
            <p:spPr>
              <a:xfrm>
                <a:off x="817560" y="40622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65080" y="40640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735120" y="4111560"/>
              <a:ext cx="231480" cy="156960"/>
              <a:chOff x="735120" y="4111560"/>
              <a:chExt cx="231480" cy="156960"/>
            </a:xfrm>
          </p:grpSpPr>
          <p:sp>
            <p:nvSpPr>
              <p:cNvPr id="281" name=""/>
              <p:cNvSpPr/>
              <p:nvPr/>
            </p:nvSpPr>
            <p:spPr>
              <a:xfrm>
                <a:off x="735120" y="4111560"/>
                <a:ext cx="23148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737280" y="4113720"/>
                <a:ext cx="225360" cy="153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35120" y="4113720"/>
                <a:ext cx="230400" cy="1497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428760" y="3932280"/>
              <a:ext cx="299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3720" y="3508200"/>
              <a:ext cx="180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279360" y="3573360"/>
              <a:ext cx="284040" cy="193680"/>
              <a:chOff x="279360" y="3573360"/>
              <a:chExt cx="284040" cy="193680"/>
            </a:xfrm>
          </p:grpSpPr>
          <p:sp>
            <p:nvSpPr>
              <p:cNvPr id="287" name=""/>
              <p:cNvSpPr/>
              <p:nvPr/>
            </p:nvSpPr>
            <p:spPr>
              <a:xfrm>
                <a:off x="279360" y="3573360"/>
                <a:ext cx="284040" cy="193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282240" y="3576240"/>
                <a:ext cx="276480" cy="189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79360" y="3576240"/>
                <a:ext cx="282600" cy="1846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839880" y="38224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5120" y="3865320"/>
              <a:ext cx="23796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6960" y="4705200"/>
              <a:ext cx="34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728640" y="4641840"/>
              <a:ext cx="239760" cy="156960"/>
              <a:chOff x="728640" y="4641840"/>
              <a:chExt cx="239760" cy="156960"/>
            </a:xfrm>
          </p:grpSpPr>
          <p:sp>
            <p:nvSpPr>
              <p:cNvPr id="294" name=""/>
              <p:cNvSpPr/>
              <p:nvPr/>
            </p:nvSpPr>
            <p:spPr>
              <a:xfrm>
                <a:off x="728640" y="4641840"/>
                <a:ext cx="23976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12880" y="4767120"/>
                <a:ext cx="68040" cy="0"/>
              </a:xfrm>
              <a:prstGeom prst="line">
                <a:avLst/>
              </a:prstGeom>
              <a:ln w="158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44560" y="4662000"/>
                <a:ext cx="0" cy="106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811080" y="4605120"/>
              <a:ext cx="74520" cy="28800"/>
              <a:chOff x="811080" y="4605120"/>
              <a:chExt cx="74520" cy="28800"/>
            </a:xfrm>
          </p:grpSpPr>
          <p:sp>
            <p:nvSpPr>
              <p:cNvPr id="298" name=""/>
              <p:cNvSpPr/>
              <p:nvPr/>
            </p:nvSpPr>
            <p:spPr>
              <a:xfrm>
                <a:off x="811080" y="46051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58600" y="46069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1036440" y="4665600"/>
              <a:ext cx="17082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Grenade Discharger JA-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735120" y="4371480"/>
              <a:ext cx="237960" cy="163800"/>
              <a:chOff x="735120" y="4371480"/>
              <a:chExt cx="237960" cy="16380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735120" y="4371480"/>
                <a:ext cx="237960" cy="163800"/>
                <a:chOff x="735120" y="4371480"/>
                <a:chExt cx="237960" cy="1638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735120" y="4371840"/>
                  <a:ext cx="237960" cy="16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V="1">
                  <a:off x="735120" y="4371480"/>
                  <a:ext cx="237960" cy="16020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735120" y="4374720"/>
                <a:ext cx="237960" cy="1602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735120" y="4371840"/>
              <a:ext cx="60120" cy="1602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19000" y="433044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66880" y="43322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39680" y="4376520"/>
              <a:ext cx="17049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4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HMG                         JA-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76160" y="3149640"/>
              <a:ext cx="237960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neuvre Element-31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ecial Naval Landing Force (SNLF) Company. 43-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360360" y="3585960"/>
              <a:ext cx="120600" cy="174600"/>
              <a:chOff x="360360" y="3585960"/>
              <a:chExt cx="120600" cy="174600"/>
            </a:xfrm>
          </p:grpSpPr>
          <p:sp>
            <p:nvSpPr>
              <p:cNvPr id="312" name=""/>
              <p:cNvSpPr/>
              <p:nvPr/>
            </p:nvSpPr>
            <p:spPr>
              <a:xfrm rot="10800000">
                <a:off x="363600" y="3688560"/>
                <a:ext cx="117360" cy="57240"/>
              </a:xfrm>
              <a:prstGeom prst="blockArc">
                <a:avLst>
                  <a:gd name="adj1" fmla="val 10656843"/>
                  <a:gd name="adj2" fmla="val 143157"/>
                  <a:gd name="adj3" fmla="val 0"/>
                </a:avLst>
              </a:prstGeom>
              <a:solidFill>
                <a:srgbClr val="ffffff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20480" y="3615840"/>
                <a:ext cx="0" cy="1447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60360" y="3617640"/>
                <a:ext cx="1173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11120" y="3585960"/>
                <a:ext cx="19080" cy="14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 rot="10800000">
              <a:off x="813960" y="4206240"/>
              <a:ext cx="74520" cy="49320"/>
            </a:xfrm>
            <a:prstGeom prst="blockArc">
              <a:avLst>
                <a:gd name="adj1" fmla="val 10656843"/>
                <a:gd name="adj2" fmla="val 143157"/>
                <a:gd name="adj3" fmla="val 0"/>
              </a:avLst>
            </a:prstGeom>
            <a:solidFill>
              <a:srgbClr val="ffffff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51040" y="4143240"/>
              <a:ext cx="0" cy="1252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12880" y="4143240"/>
              <a:ext cx="7452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44560" y="4116240"/>
              <a:ext cx="12600" cy="12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285840" y="1135080"/>
            <a:ext cx="2872800" cy="1657800"/>
            <a:chOff x="285840" y="1135080"/>
            <a:chExt cx="2872800" cy="1657800"/>
          </a:xfrm>
        </p:grpSpPr>
        <p:sp>
          <p:nvSpPr>
            <p:cNvPr id="321" name=""/>
            <p:cNvSpPr/>
            <p:nvPr/>
          </p:nvSpPr>
          <p:spPr>
            <a:xfrm>
              <a:off x="425160" y="2425680"/>
              <a:ext cx="342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9840" y="1702080"/>
              <a:ext cx="0" cy="968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044360" y="2090880"/>
              <a:ext cx="18331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Infantry                    JA-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1640" y="2154240"/>
              <a:ext cx="3423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53720" y="2513160"/>
              <a:ext cx="159984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44360" y="1868760"/>
              <a:ext cx="17028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    JA-1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41200" y="1712880"/>
              <a:ext cx="99036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823680" y="2036880"/>
              <a:ext cx="73800" cy="28080"/>
              <a:chOff x="823680" y="2036880"/>
              <a:chExt cx="73800" cy="28080"/>
            </a:xfrm>
          </p:grpSpPr>
          <p:sp>
            <p:nvSpPr>
              <p:cNvPr id="329" name=""/>
              <p:cNvSpPr/>
              <p:nvPr/>
            </p:nvSpPr>
            <p:spPr>
              <a:xfrm>
                <a:off x="823680" y="2036880"/>
                <a:ext cx="2808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70840" y="203832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741240" y="2086200"/>
              <a:ext cx="231120" cy="156960"/>
              <a:chOff x="741240" y="2086200"/>
              <a:chExt cx="231120" cy="156960"/>
            </a:xfrm>
          </p:grpSpPr>
          <p:sp>
            <p:nvSpPr>
              <p:cNvPr id="332" name=""/>
              <p:cNvSpPr/>
              <p:nvPr/>
            </p:nvSpPr>
            <p:spPr>
              <a:xfrm>
                <a:off x="741240" y="2086200"/>
                <a:ext cx="23112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743400" y="2088360"/>
                <a:ext cx="225000" cy="153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41240" y="2088360"/>
                <a:ext cx="230040" cy="1497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434880" y="1906560"/>
              <a:ext cx="299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9840" y="1482840"/>
              <a:ext cx="144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285840" y="1548000"/>
              <a:ext cx="283680" cy="193680"/>
              <a:chOff x="285840" y="1548000"/>
              <a:chExt cx="283680" cy="193680"/>
            </a:xfrm>
          </p:grpSpPr>
          <p:sp>
            <p:nvSpPr>
              <p:cNvPr id="338" name=""/>
              <p:cNvSpPr/>
              <p:nvPr/>
            </p:nvSpPr>
            <p:spPr>
              <a:xfrm>
                <a:off x="285840" y="1548000"/>
                <a:ext cx="283680" cy="193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288720" y="1550880"/>
                <a:ext cx="276120" cy="189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85840" y="1550880"/>
                <a:ext cx="282240" cy="1846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846000" y="179712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41240" y="1839960"/>
              <a:ext cx="23760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3080" y="2671920"/>
              <a:ext cx="342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734760" y="2608200"/>
              <a:ext cx="239400" cy="157320"/>
              <a:chOff x="734760" y="2608200"/>
              <a:chExt cx="239400" cy="157320"/>
            </a:xfrm>
          </p:grpSpPr>
          <p:sp>
            <p:nvSpPr>
              <p:cNvPr id="345" name=""/>
              <p:cNvSpPr/>
              <p:nvPr/>
            </p:nvSpPr>
            <p:spPr>
              <a:xfrm>
                <a:off x="734760" y="2608200"/>
                <a:ext cx="23940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18640" y="2733840"/>
                <a:ext cx="67680" cy="0"/>
              </a:xfrm>
              <a:prstGeom prst="line">
                <a:avLst/>
              </a:prstGeom>
              <a:ln w="158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50320" y="2628720"/>
                <a:ext cx="0" cy="1065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817200" y="2571840"/>
              <a:ext cx="74520" cy="28080"/>
              <a:chOff x="817200" y="2571840"/>
              <a:chExt cx="74520" cy="28080"/>
            </a:xfrm>
          </p:grpSpPr>
          <p:sp>
            <p:nvSpPr>
              <p:cNvPr id="349" name=""/>
              <p:cNvSpPr/>
              <p:nvPr/>
            </p:nvSpPr>
            <p:spPr>
              <a:xfrm>
                <a:off x="817200" y="25718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864720" y="25732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1041120" y="2640240"/>
              <a:ext cx="17060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4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Grenade Discharger JA-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741240" y="2346120"/>
              <a:ext cx="237600" cy="163800"/>
              <a:chOff x="741240" y="2346120"/>
              <a:chExt cx="237600" cy="16380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741240" y="2346120"/>
                <a:ext cx="237600" cy="163800"/>
                <a:chOff x="741240" y="2346120"/>
                <a:chExt cx="237600" cy="16380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741240" y="2346480"/>
                  <a:ext cx="237600" cy="16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V="1">
                  <a:off x="741240" y="2346120"/>
                  <a:ext cx="237600" cy="16020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741240" y="2349360"/>
                <a:ext cx="237600" cy="1602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741240" y="2346480"/>
              <a:ext cx="59760" cy="1602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825120" y="2305080"/>
              <a:ext cx="74520" cy="28800"/>
              <a:chOff x="825120" y="2305080"/>
              <a:chExt cx="74520" cy="28800"/>
            </a:xfrm>
          </p:grpSpPr>
          <p:sp>
            <p:nvSpPr>
              <p:cNvPr id="359" name=""/>
              <p:cNvSpPr/>
              <p:nvPr/>
            </p:nvSpPr>
            <p:spPr>
              <a:xfrm>
                <a:off x="825120" y="23050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72640" y="23068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044360" y="2351160"/>
              <a:ext cx="17028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HMG                         JA-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2280" y="1135080"/>
              <a:ext cx="237636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neuvre Element-30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ecial Naval Landing Force (SNLF) Company. 39-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364680" y="1565280"/>
              <a:ext cx="120600" cy="174600"/>
              <a:chOff x="364680" y="1565280"/>
              <a:chExt cx="120600" cy="174600"/>
            </a:xfrm>
          </p:grpSpPr>
          <p:sp>
            <p:nvSpPr>
              <p:cNvPr id="364" name=""/>
              <p:cNvSpPr/>
              <p:nvPr/>
            </p:nvSpPr>
            <p:spPr>
              <a:xfrm rot="10800000">
                <a:off x="367920" y="1667880"/>
                <a:ext cx="117360" cy="57240"/>
              </a:xfrm>
              <a:prstGeom prst="blockArc">
                <a:avLst>
                  <a:gd name="adj1" fmla="val 10656843"/>
                  <a:gd name="adj2" fmla="val 143157"/>
                  <a:gd name="adj3" fmla="val 0"/>
                </a:avLst>
              </a:prstGeom>
              <a:solidFill>
                <a:srgbClr val="ffffff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24800" y="1595160"/>
                <a:ext cx="0" cy="1447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64680" y="1596960"/>
                <a:ext cx="1173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15440" y="1565280"/>
                <a:ext cx="19080" cy="14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819000" y="2094120"/>
              <a:ext cx="75240" cy="151920"/>
              <a:chOff x="819000" y="2094120"/>
              <a:chExt cx="75240" cy="151920"/>
            </a:xfrm>
          </p:grpSpPr>
          <p:sp>
            <p:nvSpPr>
              <p:cNvPr id="369" name=""/>
              <p:cNvSpPr/>
              <p:nvPr/>
            </p:nvSpPr>
            <p:spPr>
              <a:xfrm rot="10800000">
                <a:off x="820800" y="2183760"/>
                <a:ext cx="73440" cy="49680"/>
              </a:xfrm>
              <a:prstGeom prst="blockArc">
                <a:avLst>
                  <a:gd name="adj1" fmla="val 10656843"/>
                  <a:gd name="adj2" fmla="val 143157"/>
                  <a:gd name="adj3" fmla="val 0"/>
                </a:avLst>
              </a:prstGeom>
              <a:solidFill>
                <a:srgbClr val="ffffff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56440" y="2120040"/>
                <a:ext cx="0" cy="1260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19000" y="2121480"/>
                <a:ext cx="7344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50680" y="2094120"/>
                <a:ext cx="11880" cy="12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3" name=""/>
          <p:cNvSpPr/>
          <p:nvPr/>
        </p:nvSpPr>
        <p:spPr>
          <a:xfrm>
            <a:off x="1143000" y="361800"/>
            <a:ext cx="4495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Naval Landing Force Maneuver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394080" y="1025640"/>
            <a:ext cx="3463920" cy="2171160"/>
            <a:chOff x="3394080" y="1025640"/>
            <a:chExt cx="3463920" cy="2171160"/>
          </a:xfrm>
        </p:grpSpPr>
        <p:sp>
          <p:nvSpPr>
            <p:cNvPr id="375" name=""/>
            <p:cNvSpPr/>
            <p:nvPr/>
          </p:nvSpPr>
          <p:spPr>
            <a:xfrm>
              <a:off x="3468600" y="1025640"/>
              <a:ext cx="2017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neuver  Element-3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394080" y="2603520"/>
              <a:ext cx="346392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0880" indent="-380880">
                <a:lnSpc>
                  <a:spcPct val="100000"/>
                </a:lnSpc>
                <a:spcBef>
                  <a:spcPts val="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e guns are deployed and fired as single element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100000"/>
                </a:lnSpc>
                <a:spcBef>
                  <a:spcPts val="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edestal mounted dual purpose naval guns, emplaced or in bunkers situated for coastal defence. Fires as Type 88 AA   Gun (JA-16)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854520" y="1431720"/>
              <a:ext cx="254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t. Coast Defence Gun Company   (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632040" y="238284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75280" y="2270160"/>
              <a:ext cx="246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8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80mm Naval Gun   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no ca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3854520" y="2244600"/>
              <a:ext cx="239760" cy="205560"/>
              <a:chOff x="3854520" y="2244600"/>
              <a:chExt cx="239760" cy="205560"/>
            </a:xfrm>
          </p:grpSpPr>
          <p:sp>
            <p:nvSpPr>
              <p:cNvPr id="381" name=""/>
              <p:cNvSpPr/>
              <p:nvPr/>
            </p:nvSpPr>
            <p:spPr>
              <a:xfrm>
                <a:off x="3937320" y="22460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984840" y="22446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54520" y="2293560"/>
                <a:ext cx="239760" cy="156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956400" y="2353680"/>
                <a:ext cx="36360" cy="360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3633840" y="1554120"/>
              <a:ext cx="0" cy="83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3489480" y="1393560"/>
              <a:ext cx="291960" cy="253440"/>
              <a:chOff x="3489480" y="1393560"/>
              <a:chExt cx="291960" cy="253440"/>
            </a:xfrm>
          </p:grpSpPr>
          <p:sp>
            <p:nvSpPr>
              <p:cNvPr id="387" name=""/>
              <p:cNvSpPr/>
              <p:nvPr/>
            </p:nvSpPr>
            <p:spPr>
              <a:xfrm>
                <a:off x="3635280" y="1393560"/>
                <a:ext cx="0" cy="63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489480" y="1456560"/>
                <a:ext cx="291960" cy="19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612960" y="1529640"/>
                <a:ext cx="44280" cy="44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4184640" y="1863360"/>
              <a:ext cx="245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                  JA-1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22680" y="1930320"/>
              <a:ext cx="3049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268880" y="1738080"/>
              <a:ext cx="99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3852720" y="1815840"/>
              <a:ext cx="237960" cy="199440"/>
              <a:chOff x="3852720" y="1815840"/>
              <a:chExt cx="237960" cy="199440"/>
            </a:xfrm>
          </p:grpSpPr>
          <p:sp>
            <p:nvSpPr>
              <p:cNvPr id="394" name=""/>
              <p:cNvSpPr/>
              <p:nvPr/>
            </p:nvSpPr>
            <p:spPr>
              <a:xfrm>
                <a:off x="3957480" y="181584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852720" y="1858320"/>
                <a:ext cx="23796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6" name=""/>
          <p:cNvGrpSpPr/>
          <p:nvPr/>
        </p:nvGrpSpPr>
        <p:grpSpPr>
          <a:xfrm>
            <a:off x="3394080" y="3243240"/>
            <a:ext cx="3463920" cy="2049480"/>
            <a:chOff x="3394080" y="3243240"/>
            <a:chExt cx="3463920" cy="2049480"/>
          </a:xfrm>
        </p:grpSpPr>
        <p:sp>
          <p:nvSpPr>
            <p:cNvPr id="397" name=""/>
            <p:cNvSpPr/>
            <p:nvPr/>
          </p:nvSpPr>
          <p:spPr>
            <a:xfrm>
              <a:off x="3468600" y="3243240"/>
              <a:ext cx="2017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neuver  Element-3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394080" y="4821120"/>
              <a:ext cx="346392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0880" indent="-380880">
                <a:lnSpc>
                  <a:spcPct val="100000"/>
                </a:lnSpc>
                <a:spcBef>
                  <a:spcPts val="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e guns are deployed and fired as single element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100000"/>
                </a:lnSpc>
                <a:spcBef>
                  <a:spcPts val="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edestal mounted dual purpose naval guns, emplaced or in bunkers situated for coastal defence. Fires as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3489480" y="3611520"/>
              <a:ext cx="3152520" cy="1122480"/>
              <a:chOff x="3489480" y="3611520"/>
              <a:chExt cx="3152520" cy="1122480"/>
            </a:xfrm>
          </p:grpSpPr>
          <p:sp>
            <p:nvSpPr>
              <p:cNvPr id="400" name=""/>
              <p:cNvSpPr/>
              <p:nvPr/>
            </p:nvSpPr>
            <p:spPr>
              <a:xfrm>
                <a:off x="3854520" y="3649680"/>
                <a:ext cx="2546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d. Coast Defence Gun Company   (a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632040" y="460044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75280" y="4487760"/>
                <a:ext cx="2466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120mm Naval Gun       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c)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no car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3" name=""/>
              <p:cNvGrpSpPr/>
              <p:nvPr/>
            </p:nvGrpSpPr>
            <p:grpSpPr>
              <a:xfrm>
                <a:off x="3854520" y="4462560"/>
                <a:ext cx="239760" cy="205920"/>
                <a:chOff x="3854520" y="4462560"/>
                <a:chExt cx="239760" cy="2059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3937320" y="44640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984840" y="44625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3854520" y="4511520"/>
                  <a:ext cx="23976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956400" y="4572000"/>
                  <a:ext cx="36360" cy="36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" name=""/>
              <p:cNvSpPr/>
              <p:nvPr/>
            </p:nvSpPr>
            <p:spPr>
              <a:xfrm>
                <a:off x="3633840" y="3771720"/>
                <a:ext cx="0" cy="838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3489480" y="3611520"/>
                <a:ext cx="291960" cy="254160"/>
                <a:chOff x="3489480" y="3611520"/>
                <a:chExt cx="291960" cy="25416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635280" y="36115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489480" y="3674880"/>
                  <a:ext cx="291960" cy="190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612960" y="3747960"/>
                  <a:ext cx="44280" cy="44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3" name=""/>
              <p:cNvSpPr/>
              <p:nvPr/>
            </p:nvSpPr>
            <p:spPr>
              <a:xfrm>
                <a:off x="4184640" y="4081320"/>
                <a:ext cx="2457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Commander                 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JA-19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622680" y="4148280"/>
                <a:ext cx="3049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268880" y="3956040"/>
                <a:ext cx="990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6" name=""/>
              <p:cNvGrpSpPr/>
              <p:nvPr/>
            </p:nvGrpSpPr>
            <p:grpSpPr>
              <a:xfrm>
                <a:off x="3852720" y="4033800"/>
                <a:ext cx="237960" cy="200160"/>
                <a:chOff x="3852720" y="4033800"/>
                <a:chExt cx="237960" cy="2001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3957480" y="40338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852720" y="4076640"/>
                  <a:ext cx="23796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3300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ff33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419" name=""/>
          <p:cNvGraphicFramePr/>
          <p:nvPr/>
        </p:nvGraphicFramePr>
        <p:xfrm>
          <a:off x="3878280" y="5448240"/>
          <a:ext cx="2503440" cy="507960"/>
        </p:xfrm>
        <a:graphic>
          <a:graphicData uri="http://schemas.openxmlformats.org/drawingml/2006/table">
            <a:tbl>
              <a:tblPr/>
              <a:tblGrid>
                <a:gridCol w="357480"/>
                <a:gridCol w="357120"/>
                <a:gridCol w="357120"/>
                <a:gridCol w="358560"/>
                <a:gridCol w="358920"/>
                <a:gridCol w="357120"/>
                <a:gridCol w="357120"/>
              </a:tblGrid>
              <a:tr h="141120">
                <a:tc>
                  <a:txBody>
                    <a:bodyPr lIns="36000" rIns="36000" tIns="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908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908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908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908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908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9080" bIns="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2240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22040">
                <a:tc gridSpan="3"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grpSp>
        <p:nvGrpSpPr>
          <p:cNvPr id="420" name=""/>
          <p:cNvGrpSpPr/>
          <p:nvPr/>
        </p:nvGrpSpPr>
        <p:grpSpPr>
          <a:xfrm>
            <a:off x="233280" y="5178600"/>
            <a:ext cx="3467160" cy="3134880"/>
            <a:chOff x="233280" y="5178600"/>
            <a:chExt cx="3467160" cy="3134880"/>
          </a:xfrm>
        </p:grpSpPr>
        <p:sp>
          <p:nvSpPr>
            <p:cNvPr id="421" name=""/>
            <p:cNvSpPr/>
            <p:nvPr/>
          </p:nvSpPr>
          <p:spPr>
            <a:xfrm>
              <a:off x="471600" y="6468840"/>
              <a:ext cx="304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74840" y="568620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47720" y="6473520"/>
              <a:ext cx="0" cy="7617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8160" y="5178600"/>
              <a:ext cx="2017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neuver  Element-3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33280" y="7464240"/>
              <a:ext cx="346716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0880" indent="-380880">
                <a:lnSpc>
                  <a:spcPct val="100000"/>
                </a:lnSpc>
                <a:spcBef>
                  <a:spcPts val="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apanese anti-aircraft units were used mainly for static base, airfield and coastal defence, relying on the Air-Force for air defence of mobile force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100000"/>
                </a:lnSpc>
                <a:spcBef>
                  <a:spcPts val="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-naval gun. Use JA-15 double mount as an alternativ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100000"/>
                </a:lnSpc>
                <a:spcBef>
                  <a:spcPts val="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ucks can be replaced by horse limbers, or more usually by   no transport at all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93720" y="5584680"/>
              <a:ext cx="264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ntiaircraft Machinegun Company   (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71600" y="68911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988920" y="6778440"/>
              <a:ext cx="246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40mm Type 91 AA Gun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b)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 ca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698400" y="7057800"/>
              <a:ext cx="2544840" cy="324000"/>
              <a:chOff x="698400" y="7057800"/>
              <a:chExt cx="2544840" cy="324000"/>
            </a:xfrm>
          </p:grpSpPr>
          <p:grpSp>
            <p:nvGrpSpPr>
              <p:cNvPr id="430" name=""/>
              <p:cNvGrpSpPr/>
              <p:nvPr/>
            </p:nvGrpSpPr>
            <p:grpSpPr>
              <a:xfrm>
                <a:off x="698400" y="7141680"/>
                <a:ext cx="231840" cy="240120"/>
                <a:chOff x="698400" y="7141680"/>
                <a:chExt cx="231840" cy="240120"/>
              </a:xfrm>
            </p:grpSpPr>
            <p:grpSp>
              <p:nvGrpSpPr>
                <p:cNvPr id="431" name=""/>
                <p:cNvGrpSpPr/>
                <p:nvPr/>
              </p:nvGrpSpPr>
              <p:grpSpPr>
                <a:xfrm>
                  <a:off x="698400" y="7188840"/>
                  <a:ext cx="231840" cy="192960"/>
                  <a:chOff x="698400" y="7188840"/>
                  <a:chExt cx="231840" cy="19296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>
                    <a:off x="698400" y="7188840"/>
                    <a:ext cx="231840" cy="156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718920" y="73551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871200" y="73551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5" name=""/>
                <p:cNvGrpSpPr/>
                <p:nvPr/>
              </p:nvGrpSpPr>
              <p:grpSpPr>
                <a:xfrm>
                  <a:off x="777600" y="7141680"/>
                  <a:ext cx="74520" cy="27720"/>
                  <a:chOff x="777600" y="7141680"/>
                  <a:chExt cx="74520" cy="2772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777600" y="7141680"/>
                    <a:ext cx="2844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825120" y="7143120"/>
                    <a:ext cx="2700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8" name=""/>
              <p:cNvSpPr/>
              <p:nvPr/>
            </p:nvSpPr>
            <p:spPr>
              <a:xfrm>
                <a:off x="1003320" y="7201800"/>
                <a:ext cx="223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4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Light Truck      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              (c)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JA-0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015920" y="7057800"/>
                <a:ext cx="990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1023840" y="6016320"/>
              <a:ext cx="245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           JA-1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4840" y="6083280"/>
              <a:ext cx="304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108080" y="5891040"/>
              <a:ext cx="9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692280" y="5968800"/>
              <a:ext cx="237960" cy="199440"/>
              <a:chOff x="692280" y="5968800"/>
              <a:chExt cx="237960" cy="199440"/>
            </a:xfrm>
          </p:grpSpPr>
          <p:sp>
            <p:nvSpPr>
              <p:cNvPr id="444" name=""/>
              <p:cNvSpPr/>
              <p:nvPr/>
            </p:nvSpPr>
            <p:spPr>
              <a:xfrm>
                <a:off x="797040" y="59688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92280" y="6011280"/>
                <a:ext cx="23796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328680" y="5505120"/>
              <a:ext cx="283680" cy="253080"/>
              <a:chOff x="328680" y="5505120"/>
              <a:chExt cx="283680" cy="253080"/>
            </a:xfrm>
          </p:grpSpPr>
          <p:sp>
            <p:nvSpPr>
              <p:cNvPr id="447" name=""/>
              <p:cNvSpPr/>
              <p:nvPr/>
            </p:nvSpPr>
            <p:spPr>
              <a:xfrm>
                <a:off x="471240" y="5505120"/>
                <a:ext cx="0" cy="6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"/>
              <p:cNvGrpSpPr/>
              <p:nvPr/>
            </p:nvGrpSpPr>
            <p:grpSpPr>
              <a:xfrm>
                <a:off x="328680" y="5565240"/>
                <a:ext cx="283680" cy="192960"/>
                <a:chOff x="328680" y="5565240"/>
                <a:chExt cx="283680" cy="19296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328680" y="5565240"/>
                  <a:ext cx="283680" cy="192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V="1">
                  <a:off x="328680" y="5569200"/>
                  <a:ext cx="139680" cy="18720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68360" y="5565240"/>
                  <a:ext cx="140040" cy="18900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402120" y="5662440"/>
                  <a:ext cx="140040" cy="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3" name=""/>
            <p:cNvGrpSpPr/>
            <p:nvPr/>
          </p:nvGrpSpPr>
          <p:grpSpPr>
            <a:xfrm>
              <a:off x="692280" y="6750000"/>
              <a:ext cx="231480" cy="210240"/>
              <a:chOff x="692280" y="6750000"/>
              <a:chExt cx="231480" cy="210240"/>
            </a:xfrm>
          </p:grpSpPr>
          <p:grpSp>
            <p:nvGrpSpPr>
              <p:cNvPr id="454" name=""/>
              <p:cNvGrpSpPr/>
              <p:nvPr/>
            </p:nvGrpSpPr>
            <p:grpSpPr>
              <a:xfrm>
                <a:off x="692280" y="6803640"/>
                <a:ext cx="231480" cy="156600"/>
                <a:chOff x="692280" y="6803640"/>
                <a:chExt cx="231480" cy="15660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692280" y="6803640"/>
                  <a:ext cx="231480" cy="15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V="1">
                  <a:off x="692280" y="6806520"/>
                  <a:ext cx="113760" cy="1519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806040" y="6803640"/>
                  <a:ext cx="114120" cy="15336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52040" y="6882480"/>
                  <a:ext cx="114120" cy="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771480" y="6750000"/>
                <a:ext cx="73800" cy="27720"/>
                <a:chOff x="771480" y="6750000"/>
                <a:chExt cx="73800" cy="2772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771480" y="6750000"/>
                  <a:ext cx="28080" cy="26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818640" y="6751440"/>
                  <a:ext cx="26640" cy="26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2" name=""/>
            <p:cNvSpPr/>
            <p:nvPr/>
          </p:nvSpPr>
          <p:spPr>
            <a:xfrm>
              <a:off x="1025640" y="6392520"/>
              <a:ext cx="2084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Heavy AA MMG               JA-22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777960" y="6337080"/>
              <a:ext cx="74520" cy="27720"/>
              <a:chOff x="777960" y="6337080"/>
              <a:chExt cx="74520" cy="27720"/>
            </a:xfrm>
          </p:grpSpPr>
          <p:sp>
            <p:nvSpPr>
              <p:cNvPr id="464" name=""/>
              <p:cNvSpPr/>
              <p:nvPr/>
            </p:nvSpPr>
            <p:spPr>
              <a:xfrm>
                <a:off x="777960" y="6337080"/>
                <a:ext cx="2844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25480" y="6338520"/>
                <a:ext cx="2700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692280" y="6392520"/>
              <a:ext cx="245880" cy="168120"/>
              <a:chOff x="692280" y="6392520"/>
              <a:chExt cx="245880" cy="16812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692280" y="6392520"/>
                <a:ext cx="245880" cy="168120"/>
                <a:chOff x="692280" y="6392520"/>
                <a:chExt cx="245880" cy="16812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692280" y="6392520"/>
                  <a:ext cx="245880" cy="168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V="1">
                  <a:off x="692280" y="6392520"/>
                  <a:ext cx="245880" cy="1648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0" name=""/>
              <p:cNvSpPr/>
              <p:nvPr/>
            </p:nvSpPr>
            <p:spPr>
              <a:xfrm>
                <a:off x="692280" y="6395400"/>
                <a:ext cx="245880" cy="1648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692280" y="6392520"/>
              <a:ext cx="61920" cy="164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3386160" y="6122880"/>
            <a:ext cx="3552840" cy="3595320"/>
            <a:chOff x="3386160" y="6122880"/>
            <a:chExt cx="3552840" cy="3595320"/>
          </a:xfrm>
        </p:grpSpPr>
        <p:grpSp>
          <p:nvGrpSpPr>
            <p:cNvPr id="473" name=""/>
            <p:cNvGrpSpPr/>
            <p:nvPr/>
          </p:nvGrpSpPr>
          <p:grpSpPr>
            <a:xfrm>
              <a:off x="3776760" y="7491240"/>
              <a:ext cx="2544840" cy="482760"/>
              <a:chOff x="3776760" y="7491240"/>
              <a:chExt cx="2544840" cy="482760"/>
            </a:xfrm>
          </p:grpSpPr>
          <p:sp>
            <p:nvSpPr>
              <p:cNvPr id="474" name=""/>
              <p:cNvSpPr/>
              <p:nvPr/>
            </p:nvSpPr>
            <p:spPr>
              <a:xfrm>
                <a:off x="3834000" y="749124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795840" y="7897680"/>
                <a:ext cx="0" cy="763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824640" y="7897680"/>
                <a:ext cx="0" cy="763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948120" y="7897680"/>
                <a:ext cx="0" cy="763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976920" y="7897680"/>
                <a:ext cx="0" cy="763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776760" y="7775280"/>
                <a:ext cx="23184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0" name=""/>
              <p:cNvGrpSpPr/>
              <p:nvPr/>
            </p:nvGrpSpPr>
            <p:grpSpPr>
              <a:xfrm>
                <a:off x="3856320" y="7727760"/>
                <a:ext cx="74520" cy="28080"/>
                <a:chOff x="3856320" y="7727760"/>
                <a:chExt cx="74520" cy="280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3856320" y="77277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903840" y="77292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4081680" y="7788240"/>
                <a:ext cx="223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Pack Mules                        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(d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094280" y="7643520"/>
                <a:ext cx="990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3461040" y="6122880"/>
              <a:ext cx="2017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re Support Element-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86160" y="8113680"/>
              <a:ext cx="3426120" cy="16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0880" indent="-380880">
                <a:lnSpc>
                  <a:spcPct val="100000"/>
                </a:lnSpc>
                <a:spcBef>
                  <a:spcPts val="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 independent mortar platoon may also be deployed as       an on-table eleme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100000"/>
                </a:lnSpc>
                <a:spcBef>
                  <a:spcPts val="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e Forward Observer may be attached to any maneuver eleme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100000"/>
                </a:lnSpc>
                <a:spcBef>
                  <a:spcPts val="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dividual mortars may be attached to any ME providing Organic fire support. May substitute JA-26 for JA-27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100000"/>
                </a:lnSpc>
                <a:spcBef>
                  <a:spcPts val="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apanese mortars were not provided with illumination rounds and only the 90mm mortars received worthwhile quantities of smoke round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100000"/>
                </a:lnSpc>
                <a:spcBef>
                  <a:spcPts val="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hile most mortar units were man packed, on-table units may also be mule packed, horse drawn (x2 JA-28) or carried in light trucks (x1 JA-09)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46600" y="6529320"/>
              <a:ext cx="309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dependent Infantry Mortar Platoon  (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08680" y="7142040"/>
              <a:ext cx="20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ff-board Direct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10120" y="6746760"/>
              <a:ext cx="133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n-board Attach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627720" y="6926040"/>
              <a:ext cx="3159000" cy="246240"/>
              <a:chOff x="3627720" y="6926040"/>
              <a:chExt cx="3159000" cy="246240"/>
            </a:xfrm>
          </p:grpSpPr>
          <p:sp>
            <p:nvSpPr>
              <p:cNvPr id="491" name=""/>
              <p:cNvSpPr/>
              <p:nvPr/>
            </p:nvSpPr>
            <p:spPr>
              <a:xfrm>
                <a:off x="3627720" y="7048440"/>
                <a:ext cx="182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094280" y="6926040"/>
                <a:ext cx="2692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Forward Observer              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b)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JA-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3" name=""/>
              <p:cNvGrpSpPr/>
              <p:nvPr/>
            </p:nvGrpSpPr>
            <p:grpSpPr>
              <a:xfrm>
                <a:off x="3778560" y="6926040"/>
                <a:ext cx="231480" cy="200160"/>
                <a:chOff x="3778560" y="6926040"/>
                <a:chExt cx="231480" cy="20016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3876480" y="692604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5" name=""/>
                <p:cNvGrpSpPr/>
                <p:nvPr/>
              </p:nvGrpSpPr>
              <p:grpSpPr>
                <a:xfrm>
                  <a:off x="3778560" y="6968880"/>
                  <a:ext cx="231480" cy="157320"/>
                  <a:chOff x="3778560" y="6968880"/>
                  <a:chExt cx="231480" cy="157320"/>
                </a:xfrm>
              </p:grpSpPr>
              <p:sp>
                <p:nvSpPr>
                  <p:cNvPr id="496" name=""/>
                  <p:cNvSpPr/>
                  <p:nvPr/>
                </p:nvSpPr>
                <p:spPr>
                  <a:xfrm>
                    <a:off x="3778560" y="6968880"/>
                    <a:ext cx="231480" cy="15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3865680" y="7019640"/>
                    <a:ext cx="56520" cy="558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3300"/>
                  </a:solidFill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98" name=""/>
            <p:cNvSpPr/>
            <p:nvPr/>
          </p:nvSpPr>
          <p:spPr>
            <a:xfrm>
              <a:off x="3625920" y="6651360"/>
              <a:ext cx="0" cy="83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3630600" y="7367400"/>
              <a:ext cx="3232440" cy="246240"/>
              <a:chOff x="3630600" y="7367400"/>
              <a:chExt cx="3232440" cy="246240"/>
            </a:xfrm>
          </p:grpSpPr>
          <p:sp>
            <p:nvSpPr>
              <p:cNvPr id="500" name=""/>
              <p:cNvSpPr/>
              <p:nvPr/>
            </p:nvSpPr>
            <p:spPr>
              <a:xfrm>
                <a:off x="3630600" y="7478640"/>
                <a:ext cx="177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092840" y="7367400"/>
                <a:ext cx="2770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81 mm Mortars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      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c)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JA-2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3772080" y="7383240"/>
                <a:ext cx="239760" cy="203400"/>
                <a:chOff x="3772080" y="7383240"/>
                <a:chExt cx="239760" cy="20340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3854520" y="73832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772080" y="7429320"/>
                  <a:ext cx="23976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857760" y="7451640"/>
                  <a:ext cx="68400" cy="106200"/>
                  <a:chOff x="3857760" y="7451640"/>
                  <a:chExt cx="68400" cy="10620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>
                    <a:off x="3857760" y="7556040"/>
                    <a:ext cx="68400" cy="0"/>
                  </a:xfrm>
                  <a:prstGeom prst="line">
                    <a:avLst/>
                  </a:prstGeom>
                  <a:ln w="158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3889800" y="745164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"/>
                <p:cNvSpPr/>
                <p:nvPr/>
              </p:nvSpPr>
              <p:spPr>
                <a:xfrm>
                  <a:off x="3903840" y="73832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9" name=""/>
            <p:cNvGrpSpPr/>
            <p:nvPr/>
          </p:nvGrpSpPr>
          <p:grpSpPr>
            <a:xfrm>
              <a:off x="3481560" y="6503760"/>
              <a:ext cx="291960" cy="241200"/>
              <a:chOff x="3481560" y="6503760"/>
              <a:chExt cx="291960" cy="241200"/>
            </a:xfrm>
          </p:grpSpPr>
          <p:sp>
            <p:nvSpPr>
              <p:cNvPr id="510" name=""/>
              <p:cNvSpPr/>
              <p:nvPr/>
            </p:nvSpPr>
            <p:spPr>
              <a:xfrm>
                <a:off x="3481560" y="6554520"/>
                <a:ext cx="291960" cy="19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1" name=""/>
              <p:cNvGrpSpPr/>
              <p:nvPr/>
            </p:nvGrpSpPr>
            <p:grpSpPr>
              <a:xfrm>
                <a:off x="3594240" y="6594480"/>
                <a:ext cx="68400" cy="106200"/>
                <a:chOff x="3594240" y="6594480"/>
                <a:chExt cx="68400" cy="10620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3594240" y="6698880"/>
                  <a:ext cx="68400" cy="0"/>
                </a:xfrm>
                <a:prstGeom prst="line">
                  <a:avLst/>
                </a:prstGeom>
                <a:ln w="158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626280" y="6594480"/>
                  <a:ext cx="0" cy="10620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3564000" y="6503760"/>
                <a:ext cx="131760" cy="27000"/>
                <a:chOff x="3564000" y="6503760"/>
                <a:chExt cx="131760" cy="2700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3564000" y="65037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614760" y="65037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668760" y="65037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03:32:03Z</dcterms:created>
  <dc:creator>Nigel Perry</dc:creator>
  <dc:description/>
  <dc:language>en-US</dc:language>
  <cp:lastModifiedBy> </cp:lastModifiedBy>
  <dcterms:modified xsi:type="dcterms:W3CDTF">2007-06-25T22:20:47Z</dcterms:modified>
  <cp:revision>130</cp:revision>
  <dc:subject>SNLF Organisation</dc:subject>
  <dc:title>SNLF Organisation 41-45</dc:title>
</cp:coreProperties>
</file>