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58C-183C-4A48-A4FD-6292A220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CB5-F19B-468B-AD36-34FB8A3A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DD0-2E44-429C-85E8-31F82E05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E40-4F96-4FF2-AAAA-27A5AF33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0DA-F74F-4141-A4ED-F2A165EC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D09-FEBB-49C4-B980-DAF8794B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3CB-C8D1-4C27-A1EF-0EF1B20F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739-CB79-4D14-A6EF-B0656D9B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F74-21DA-42D2-8D9D-586A73EE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A4B-B5CD-4FCC-85FA-D98A86A4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291-0248-4121-B0C5-68F5CCA8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52D-610C-4708-B7FF-7EFA7FA4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23C5-0AB4-4AC6-B4AE-C5C453027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1120" y="625320"/>
          <a:ext cx="8863200" cy="560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625320"/>
                    <a:ext cx="8863200" cy="56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 ME-01-&gt;ME-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96800" y="3809880"/>
            <a:ext cx="3429000" cy="1160640"/>
            <a:chOff x="496800" y="3809880"/>
            <a:chExt cx="3429000" cy="1160640"/>
          </a:xfrm>
        </p:grpSpPr>
        <p:sp>
          <p:nvSpPr>
            <p:cNvPr id="1061" name=""/>
            <p:cNvSpPr/>
            <p:nvPr/>
          </p:nvSpPr>
          <p:spPr>
            <a:xfrm>
              <a:off x="496800" y="3809880"/>
              <a:ext cx="3200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PIME- 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950760" y="4724280"/>
              <a:ext cx="2974680" cy="246240"/>
              <a:chOff x="950760" y="4724280"/>
              <a:chExt cx="2974680" cy="246240"/>
            </a:xfrm>
          </p:grpSpPr>
          <p:sp>
            <p:nvSpPr>
              <p:cNvPr id="1063" name=""/>
              <p:cNvSpPr/>
              <p:nvPr/>
            </p:nvSpPr>
            <p:spPr>
              <a:xfrm>
                <a:off x="1563480" y="4724280"/>
                <a:ext cx="236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9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fantry                           AU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950760" y="4838760"/>
                <a:ext cx="29988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5" name=""/>
              <p:cNvGrpSpPr/>
              <p:nvPr/>
            </p:nvGrpSpPr>
            <p:grpSpPr>
              <a:xfrm>
                <a:off x="1258560" y="4730760"/>
                <a:ext cx="231840" cy="198360"/>
                <a:chOff x="1258560" y="4730760"/>
                <a:chExt cx="231840" cy="198360"/>
              </a:xfrm>
            </p:grpSpPr>
            <p:grpSp>
              <p:nvGrpSpPr>
                <p:cNvPr id="1066" name=""/>
                <p:cNvGrpSpPr/>
                <p:nvPr/>
              </p:nvGrpSpPr>
              <p:grpSpPr>
                <a:xfrm>
                  <a:off x="1258560" y="4772160"/>
                  <a:ext cx="231840" cy="156960"/>
                  <a:chOff x="1258560" y="4772160"/>
                  <a:chExt cx="231840" cy="15696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1258560" y="477216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V="1">
                    <a:off x="1260720" y="477432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1258560" y="477432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0" name=""/>
                <p:cNvGrpSpPr/>
                <p:nvPr/>
              </p:nvGrpSpPr>
              <p:grpSpPr>
                <a:xfrm>
                  <a:off x="1336320" y="4730760"/>
                  <a:ext cx="74520" cy="28080"/>
                  <a:chOff x="1336320" y="4730760"/>
                  <a:chExt cx="74520" cy="2808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>
                    <a:off x="1336320" y="47307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1383840" y="47322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73" name=""/>
            <p:cNvSpPr/>
            <p:nvPr/>
          </p:nvSpPr>
          <p:spPr>
            <a:xfrm>
              <a:off x="1182600" y="4114800"/>
              <a:ext cx="27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 Res/PC Infantry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958680" y="4381560"/>
              <a:ext cx="3240" cy="4572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258920" y="4419720"/>
              <a:ext cx="23148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954000" y="4267080"/>
              <a:ext cx="2819520" cy="398880"/>
              <a:chOff x="954000" y="4267080"/>
              <a:chExt cx="2819520" cy="398880"/>
            </a:xfrm>
          </p:grpSpPr>
          <p:sp>
            <p:nvSpPr>
              <p:cNvPr id="1077" name=""/>
              <p:cNvSpPr/>
              <p:nvPr/>
            </p:nvSpPr>
            <p:spPr>
              <a:xfrm>
                <a:off x="1563840" y="4419720"/>
                <a:ext cx="220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         US-19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954000" y="4495680"/>
                <a:ext cx="300240" cy="180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563840" y="4267080"/>
                <a:ext cx="99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282680" y="4381560"/>
                <a:ext cx="184320" cy="171360"/>
                <a:chOff x="1282680" y="4381560"/>
                <a:chExt cx="184320" cy="17136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1282680" y="4441680"/>
                  <a:ext cx="184320" cy="11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362240" y="4381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"/>
            <p:cNvGrpSpPr/>
            <p:nvPr/>
          </p:nvGrpSpPr>
          <p:grpSpPr>
            <a:xfrm>
              <a:off x="801720" y="4119480"/>
              <a:ext cx="284040" cy="265320"/>
              <a:chOff x="801720" y="4119480"/>
              <a:chExt cx="284040" cy="265320"/>
            </a:xfrm>
          </p:grpSpPr>
          <p:sp>
            <p:nvSpPr>
              <p:cNvPr id="1084" name=""/>
              <p:cNvSpPr/>
              <p:nvPr/>
            </p:nvSpPr>
            <p:spPr>
              <a:xfrm>
                <a:off x="942840" y="4119480"/>
                <a:ext cx="180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5" name=""/>
              <p:cNvGrpSpPr/>
              <p:nvPr/>
            </p:nvGrpSpPr>
            <p:grpSpPr>
              <a:xfrm>
                <a:off x="801720" y="4191120"/>
                <a:ext cx="284040" cy="193680"/>
                <a:chOff x="801720" y="4191120"/>
                <a:chExt cx="284040" cy="19368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801720" y="4191120"/>
                  <a:ext cx="284040" cy="1936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804600" y="419400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801720" y="419400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89" name=""/>
          <p:cNvGrpSpPr/>
          <p:nvPr/>
        </p:nvGrpSpPr>
        <p:grpSpPr>
          <a:xfrm>
            <a:off x="571680" y="914400"/>
            <a:ext cx="3733200" cy="2685600"/>
            <a:chOff x="571680" y="914400"/>
            <a:chExt cx="3733200" cy="2685600"/>
          </a:xfrm>
        </p:grpSpPr>
        <p:sp>
          <p:nvSpPr>
            <p:cNvPr id="1090" name=""/>
            <p:cNvSpPr/>
            <p:nvPr/>
          </p:nvSpPr>
          <p:spPr>
            <a:xfrm>
              <a:off x="571680" y="914400"/>
              <a:ext cx="3200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PIME- 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1025280" y="1828800"/>
              <a:ext cx="2974680" cy="246240"/>
              <a:chOff x="1025280" y="1828800"/>
              <a:chExt cx="2974680" cy="246240"/>
            </a:xfrm>
          </p:grpSpPr>
          <p:sp>
            <p:nvSpPr>
              <p:cNvPr id="1092" name=""/>
              <p:cNvSpPr/>
              <p:nvPr/>
            </p:nvSpPr>
            <p:spPr>
              <a:xfrm>
                <a:off x="1638000" y="1828800"/>
                <a:ext cx="236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6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fantry                           US-4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025280" y="1943280"/>
                <a:ext cx="29988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1333080" y="1835280"/>
                <a:ext cx="231840" cy="198360"/>
                <a:chOff x="1333080" y="1835280"/>
                <a:chExt cx="231840" cy="198360"/>
              </a:xfrm>
            </p:grpSpPr>
            <p:grpSp>
              <p:nvGrpSpPr>
                <p:cNvPr id="1095" name=""/>
                <p:cNvGrpSpPr/>
                <p:nvPr/>
              </p:nvGrpSpPr>
              <p:grpSpPr>
                <a:xfrm>
                  <a:off x="1333080" y="1876680"/>
                  <a:ext cx="231840" cy="156960"/>
                  <a:chOff x="1333080" y="1876680"/>
                  <a:chExt cx="231840" cy="15696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>
                    <a:off x="1333080" y="187668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V="1">
                    <a:off x="1335240" y="1878840"/>
                    <a:ext cx="22572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1333080" y="1878840"/>
                    <a:ext cx="23076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9" name=""/>
                <p:cNvGrpSpPr/>
                <p:nvPr/>
              </p:nvGrpSpPr>
              <p:grpSpPr>
                <a:xfrm>
                  <a:off x="1410840" y="1835280"/>
                  <a:ext cx="74520" cy="28080"/>
                  <a:chOff x="1410840" y="1835280"/>
                  <a:chExt cx="74520" cy="28080"/>
                </a:xfrm>
              </p:grpSpPr>
              <p:sp>
                <p:nvSpPr>
                  <p:cNvPr id="1100" name=""/>
                  <p:cNvSpPr/>
                  <p:nvPr/>
                </p:nvSpPr>
                <p:spPr>
                  <a:xfrm>
                    <a:off x="1410840" y="18352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458360" y="18367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02" name=""/>
            <p:cNvSpPr/>
            <p:nvPr/>
          </p:nvSpPr>
          <p:spPr>
            <a:xfrm>
              <a:off x="1257120" y="1219320"/>
              <a:ext cx="190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/PS Infantry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33200" y="1486080"/>
              <a:ext cx="2880" cy="77148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33440" y="1523880"/>
              <a:ext cx="23112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1028520" y="1371600"/>
              <a:ext cx="2818800" cy="398520"/>
              <a:chOff x="1028520" y="1371600"/>
              <a:chExt cx="2818800" cy="398520"/>
            </a:xfrm>
          </p:grpSpPr>
          <p:sp>
            <p:nvSpPr>
              <p:cNvPr id="1106" name=""/>
              <p:cNvSpPr/>
              <p:nvPr/>
            </p:nvSpPr>
            <p:spPr>
              <a:xfrm>
                <a:off x="1638000" y="1523880"/>
                <a:ext cx="220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                US-19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028520" y="1599840"/>
                <a:ext cx="29988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638000" y="1371600"/>
                <a:ext cx="99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1356840" y="1485720"/>
                <a:ext cx="183960" cy="170640"/>
                <a:chOff x="1356840" y="1485720"/>
                <a:chExt cx="183960" cy="17064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1356840" y="1545480"/>
                  <a:ext cx="183960" cy="11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1436040" y="14857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2" name=""/>
            <p:cNvGrpSpPr/>
            <p:nvPr/>
          </p:nvGrpSpPr>
          <p:grpSpPr>
            <a:xfrm>
              <a:off x="876240" y="1224000"/>
              <a:ext cx="283680" cy="264600"/>
              <a:chOff x="876240" y="1224000"/>
              <a:chExt cx="283680" cy="264600"/>
            </a:xfrm>
          </p:grpSpPr>
          <p:sp>
            <p:nvSpPr>
              <p:cNvPr id="1113" name=""/>
              <p:cNvSpPr/>
              <p:nvPr/>
            </p:nvSpPr>
            <p:spPr>
              <a:xfrm>
                <a:off x="1017000" y="1224000"/>
                <a:ext cx="144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4" name=""/>
              <p:cNvGrpSpPr/>
              <p:nvPr/>
            </p:nvGrpSpPr>
            <p:grpSpPr>
              <a:xfrm>
                <a:off x="876240" y="1295280"/>
                <a:ext cx="283680" cy="193320"/>
                <a:chOff x="876240" y="1295280"/>
                <a:chExt cx="283680" cy="19332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876240" y="1295280"/>
                  <a:ext cx="283680" cy="193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V="1">
                  <a:off x="879120" y="1297800"/>
                  <a:ext cx="276120" cy="18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876240" y="1298160"/>
                  <a:ext cx="282240" cy="18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"/>
            <p:cNvGrpSpPr/>
            <p:nvPr/>
          </p:nvGrpSpPr>
          <p:grpSpPr>
            <a:xfrm>
              <a:off x="1036440" y="2133720"/>
              <a:ext cx="2810880" cy="246240"/>
              <a:chOff x="1036440" y="2133720"/>
              <a:chExt cx="2810880" cy="246240"/>
            </a:xfrm>
          </p:grpSpPr>
          <p:sp>
            <p:nvSpPr>
              <p:cNvPr id="1119" name=""/>
              <p:cNvSpPr/>
              <p:nvPr/>
            </p:nvSpPr>
            <p:spPr>
              <a:xfrm>
                <a:off x="1638000" y="2133720"/>
                <a:ext cx="220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AR                            USMC-2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036440" y="2256120"/>
                <a:ext cx="299880" cy="144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1" name=""/>
              <p:cNvGrpSpPr/>
              <p:nvPr/>
            </p:nvGrpSpPr>
            <p:grpSpPr>
              <a:xfrm>
                <a:off x="1333080" y="2133720"/>
                <a:ext cx="231480" cy="198360"/>
                <a:chOff x="1333080" y="2133720"/>
                <a:chExt cx="231480" cy="198360"/>
              </a:xfrm>
            </p:grpSpPr>
            <p:grpSp>
              <p:nvGrpSpPr>
                <p:cNvPr id="1122" name=""/>
                <p:cNvGrpSpPr/>
                <p:nvPr/>
              </p:nvGrpSpPr>
              <p:grpSpPr>
                <a:xfrm>
                  <a:off x="1333080" y="2179800"/>
                  <a:ext cx="231480" cy="152280"/>
                  <a:chOff x="1333080" y="2179800"/>
                  <a:chExt cx="231480" cy="15228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1333080" y="2179800"/>
                    <a:ext cx="231480" cy="15228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1333080" y="2179800"/>
                    <a:ext cx="55440" cy="1508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 flipV="1">
                    <a:off x="1333080" y="2181600"/>
                    <a:ext cx="227880" cy="14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1335240" y="2179800"/>
                    <a:ext cx="225360" cy="147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7" name=""/>
                <p:cNvGrpSpPr/>
                <p:nvPr/>
              </p:nvGrpSpPr>
              <p:grpSpPr>
                <a:xfrm>
                  <a:off x="1410480" y="2133720"/>
                  <a:ext cx="73800" cy="28080"/>
                  <a:chOff x="1410480" y="2133720"/>
                  <a:chExt cx="73800" cy="2808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>
                    <a:off x="1410480" y="213372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1457640" y="21351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30" name=""/>
            <p:cNvSpPr/>
            <p:nvPr/>
          </p:nvSpPr>
          <p:spPr>
            <a:xfrm>
              <a:off x="1155600" y="2590920"/>
              <a:ext cx="3149280" cy="10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ote 1: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All references suggest both the US and the PS Inf Regts were well understrength due to detachments to man the PA Reserve Division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ote 2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: US org infantry still had three squads of riflemen and one squad of 2 BARs per platoon. This was not officially changed until April 1942. Thus, this organisation reflects the separation of BARs from the rifle squad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4724280" y="106668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ME-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178600" y="1981080"/>
            <a:ext cx="2974680" cy="398520"/>
            <a:chOff x="5178600" y="1981080"/>
            <a:chExt cx="2974680" cy="398520"/>
          </a:xfrm>
        </p:grpSpPr>
        <p:sp>
          <p:nvSpPr>
            <p:cNvPr id="1133" name=""/>
            <p:cNvSpPr/>
            <p:nvPr/>
          </p:nvSpPr>
          <p:spPr>
            <a:xfrm>
              <a:off x="5791320" y="1981080"/>
              <a:ext cx="2361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MG (50 cal M2)            US-34           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178600" y="209556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5486400" y="1987560"/>
              <a:ext cx="231840" cy="198360"/>
              <a:chOff x="5486400" y="1987560"/>
              <a:chExt cx="231840" cy="198360"/>
            </a:xfrm>
          </p:grpSpPr>
          <p:grpSp>
            <p:nvGrpSpPr>
              <p:cNvPr id="1136" name=""/>
              <p:cNvGrpSpPr/>
              <p:nvPr/>
            </p:nvGrpSpPr>
            <p:grpSpPr>
              <a:xfrm>
                <a:off x="5486400" y="2028960"/>
                <a:ext cx="231840" cy="156960"/>
                <a:chOff x="5486400" y="2028960"/>
                <a:chExt cx="231840" cy="1569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5486400" y="202896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V="1">
                  <a:off x="5488560" y="203112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486400" y="203112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5564160" y="1987560"/>
                <a:ext cx="74520" cy="28080"/>
                <a:chOff x="5564160" y="1987560"/>
                <a:chExt cx="74520" cy="2808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5564160" y="19875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611680" y="19890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3" name=""/>
          <p:cNvSpPr/>
          <p:nvPr/>
        </p:nvSpPr>
        <p:spPr>
          <a:xfrm>
            <a:off x="5410080" y="13716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/PS Wpns C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86520" y="1638360"/>
            <a:ext cx="2880" cy="12110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486400" y="1676520"/>
            <a:ext cx="231840" cy="156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5181480" y="1523880"/>
            <a:ext cx="2819520" cy="398880"/>
            <a:chOff x="5181480" y="1523880"/>
            <a:chExt cx="2819520" cy="398880"/>
          </a:xfrm>
        </p:grpSpPr>
        <p:sp>
          <p:nvSpPr>
            <p:cNvPr id="1147" name=""/>
            <p:cNvSpPr/>
            <p:nvPr/>
          </p:nvSpPr>
          <p:spPr>
            <a:xfrm>
              <a:off x="5791320" y="167652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      US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181480" y="1752480"/>
              <a:ext cx="30024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791320" y="1523880"/>
              <a:ext cx="9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5510160" y="1638360"/>
              <a:ext cx="184320" cy="171360"/>
              <a:chOff x="5510160" y="1638360"/>
              <a:chExt cx="184320" cy="171360"/>
            </a:xfrm>
          </p:grpSpPr>
          <p:sp>
            <p:nvSpPr>
              <p:cNvPr id="1151" name=""/>
              <p:cNvSpPr/>
              <p:nvPr/>
            </p:nvSpPr>
            <p:spPr>
              <a:xfrm>
                <a:off x="5510160" y="1698480"/>
                <a:ext cx="18432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589720" y="1638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3" name=""/>
          <p:cNvGrpSpPr/>
          <p:nvPr/>
        </p:nvGrpSpPr>
        <p:grpSpPr>
          <a:xfrm>
            <a:off x="5029200" y="1376280"/>
            <a:ext cx="284040" cy="265320"/>
            <a:chOff x="5029200" y="1376280"/>
            <a:chExt cx="284040" cy="265320"/>
          </a:xfrm>
        </p:grpSpPr>
        <p:sp>
          <p:nvSpPr>
            <p:cNvPr id="1154" name=""/>
            <p:cNvSpPr/>
            <p:nvPr/>
          </p:nvSpPr>
          <p:spPr>
            <a:xfrm>
              <a:off x="5170320" y="1376280"/>
              <a:ext cx="180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5029200" y="1447920"/>
              <a:ext cx="284040" cy="193680"/>
              <a:chOff x="5029200" y="1447920"/>
              <a:chExt cx="284040" cy="193680"/>
            </a:xfrm>
          </p:grpSpPr>
          <p:sp>
            <p:nvSpPr>
              <p:cNvPr id="1156" name=""/>
              <p:cNvSpPr/>
              <p:nvPr/>
            </p:nvSpPr>
            <p:spPr>
              <a:xfrm>
                <a:off x="5029200" y="144792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5032080" y="145080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029200" y="145080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9" name=""/>
          <p:cNvGrpSpPr/>
          <p:nvPr/>
        </p:nvGrpSpPr>
        <p:grpSpPr>
          <a:xfrm>
            <a:off x="5189400" y="2286000"/>
            <a:ext cx="2811600" cy="246240"/>
            <a:chOff x="5189400" y="2286000"/>
            <a:chExt cx="2811600" cy="246240"/>
          </a:xfrm>
        </p:grpSpPr>
        <p:sp>
          <p:nvSpPr>
            <p:cNvPr id="1160" name=""/>
            <p:cNvSpPr/>
            <p:nvPr/>
          </p:nvSpPr>
          <p:spPr>
            <a:xfrm>
              <a:off x="5791320" y="228600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Gs                          US-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189400" y="2408400"/>
              <a:ext cx="30024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2" name=""/>
            <p:cNvGrpSpPr/>
            <p:nvPr/>
          </p:nvGrpSpPr>
          <p:grpSpPr>
            <a:xfrm>
              <a:off x="5486400" y="2286000"/>
              <a:ext cx="231840" cy="198360"/>
              <a:chOff x="5486400" y="2286000"/>
              <a:chExt cx="231840" cy="198360"/>
            </a:xfrm>
          </p:grpSpPr>
          <p:grpSp>
            <p:nvGrpSpPr>
              <p:cNvPr id="1163" name=""/>
              <p:cNvGrpSpPr/>
              <p:nvPr/>
            </p:nvGrpSpPr>
            <p:grpSpPr>
              <a:xfrm>
                <a:off x="5486400" y="2332080"/>
                <a:ext cx="231840" cy="152280"/>
                <a:chOff x="5486400" y="2332080"/>
                <a:chExt cx="231840" cy="1522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5486400" y="2332080"/>
                  <a:ext cx="231840" cy="1522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486400" y="2332080"/>
                  <a:ext cx="55800" cy="15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V="1">
                  <a:off x="5486400" y="2333880"/>
                  <a:ext cx="228240" cy="14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488560" y="2332080"/>
                  <a:ext cx="225720" cy="14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5564160" y="2286000"/>
                <a:ext cx="74520" cy="28080"/>
                <a:chOff x="5564160" y="2286000"/>
                <a:chExt cx="74520" cy="2808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5564160" y="22860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611680" y="22874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71" name=""/>
          <p:cNvSpPr/>
          <p:nvPr/>
        </p:nvSpPr>
        <p:spPr>
          <a:xfrm>
            <a:off x="4915080" y="380988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ME-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00880" y="41148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 Regtl Wpns C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80200" y="4381560"/>
            <a:ext cx="0" cy="125712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676840" y="4419720"/>
            <a:ext cx="231840" cy="156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5372280" y="4267080"/>
            <a:ext cx="2818800" cy="398880"/>
            <a:chOff x="5372280" y="4267080"/>
            <a:chExt cx="2818800" cy="398880"/>
          </a:xfrm>
        </p:grpSpPr>
        <p:sp>
          <p:nvSpPr>
            <p:cNvPr id="1176" name=""/>
            <p:cNvSpPr/>
            <p:nvPr/>
          </p:nvSpPr>
          <p:spPr>
            <a:xfrm>
              <a:off x="5981760" y="4419720"/>
              <a:ext cx="22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          US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72280" y="449568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81760" y="4267080"/>
              <a:ext cx="99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5700600" y="4381560"/>
              <a:ext cx="183960" cy="171360"/>
              <a:chOff x="5700600" y="4381560"/>
              <a:chExt cx="183960" cy="1713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700600" y="4441680"/>
                <a:ext cx="18396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779800" y="43815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2" name=""/>
          <p:cNvGrpSpPr/>
          <p:nvPr/>
        </p:nvGrpSpPr>
        <p:grpSpPr>
          <a:xfrm>
            <a:off x="5219640" y="4119480"/>
            <a:ext cx="284040" cy="265320"/>
            <a:chOff x="5219640" y="4119480"/>
            <a:chExt cx="284040" cy="265320"/>
          </a:xfrm>
        </p:grpSpPr>
        <p:sp>
          <p:nvSpPr>
            <p:cNvPr id="1183" name=""/>
            <p:cNvSpPr/>
            <p:nvPr/>
          </p:nvSpPr>
          <p:spPr>
            <a:xfrm>
              <a:off x="5360760" y="4119480"/>
              <a:ext cx="180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4" name=""/>
            <p:cNvGrpSpPr/>
            <p:nvPr/>
          </p:nvGrpSpPr>
          <p:grpSpPr>
            <a:xfrm>
              <a:off x="5219640" y="4191120"/>
              <a:ext cx="284040" cy="193680"/>
              <a:chOff x="5219640" y="4191120"/>
              <a:chExt cx="284040" cy="193680"/>
            </a:xfrm>
          </p:grpSpPr>
          <p:sp>
            <p:nvSpPr>
              <p:cNvPr id="1185" name=""/>
              <p:cNvSpPr/>
              <p:nvPr/>
            </p:nvSpPr>
            <p:spPr>
              <a:xfrm>
                <a:off x="5219640" y="419112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5222520" y="419400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219640" y="419400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8" name=""/>
          <p:cNvGrpSpPr/>
          <p:nvPr/>
        </p:nvGrpSpPr>
        <p:grpSpPr>
          <a:xfrm>
            <a:off x="5219640" y="2727360"/>
            <a:ext cx="2811600" cy="246240"/>
            <a:chOff x="5219640" y="2727360"/>
            <a:chExt cx="2811600" cy="246240"/>
          </a:xfrm>
        </p:grpSpPr>
        <p:sp>
          <p:nvSpPr>
            <p:cNvPr id="1189" name=""/>
            <p:cNvSpPr/>
            <p:nvPr/>
          </p:nvSpPr>
          <p:spPr>
            <a:xfrm>
              <a:off x="5821560" y="272736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mm Mortars             US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19640" y="2849760"/>
              <a:ext cx="30024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5516640" y="2727360"/>
              <a:ext cx="231840" cy="198360"/>
              <a:chOff x="5516640" y="2727360"/>
              <a:chExt cx="231840" cy="19836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5516640" y="2773440"/>
                <a:ext cx="231840" cy="152280"/>
                <a:chOff x="5516640" y="2773440"/>
                <a:chExt cx="231840" cy="15228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5516640" y="2773440"/>
                  <a:ext cx="231840" cy="1522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5516640" y="2773440"/>
                  <a:ext cx="55800" cy="15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V="1">
                  <a:off x="5516640" y="2775240"/>
                  <a:ext cx="228240" cy="14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5518800" y="2773440"/>
                  <a:ext cx="225720" cy="14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5594400" y="2727360"/>
                <a:ext cx="74520" cy="28080"/>
                <a:chOff x="5594400" y="2727360"/>
                <a:chExt cx="74520" cy="280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5594400" y="27273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641920" y="27288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00" name=""/>
          <p:cNvGrpSpPr/>
          <p:nvPr/>
        </p:nvGrpSpPr>
        <p:grpSpPr>
          <a:xfrm>
            <a:off x="5380200" y="4772160"/>
            <a:ext cx="2974680" cy="398520"/>
            <a:chOff x="5380200" y="4772160"/>
            <a:chExt cx="2974680" cy="398520"/>
          </a:xfrm>
        </p:grpSpPr>
        <p:sp>
          <p:nvSpPr>
            <p:cNvPr id="1201" name=""/>
            <p:cNvSpPr/>
            <p:nvPr/>
          </p:nvSpPr>
          <p:spPr>
            <a:xfrm>
              <a:off x="5992920" y="4772160"/>
              <a:ext cx="2361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HMG (50 cal M2)            US-34           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380200" y="488664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3" name=""/>
            <p:cNvGrpSpPr/>
            <p:nvPr/>
          </p:nvGrpSpPr>
          <p:grpSpPr>
            <a:xfrm>
              <a:off x="5688000" y="4778640"/>
              <a:ext cx="231840" cy="198360"/>
              <a:chOff x="5688000" y="4778640"/>
              <a:chExt cx="231840" cy="19836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5688000" y="4820040"/>
                <a:ext cx="231840" cy="156960"/>
                <a:chOff x="5688000" y="4820040"/>
                <a:chExt cx="231840" cy="15696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5688000" y="482004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V="1">
                  <a:off x="5690160" y="4822200"/>
                  <a:ext cx="22572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5688000" y="4822200"/>
                  <a:ext cx="230760" cy="14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5765760" y="4778640"/>
                <a:ext cx="74520" cy="28080"/>
                <a:chOff x="5765760" y="4778640"/>
                <a:chExt cx="74520" cy="2808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5765760" y="4778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5813280" y="4780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1" name=""/>
          <p:cNvGrpSpPr/>
          <p:nvPr/>
        </p:nvGrpSpPr>
        <p:grpSpPr>
          <a:xfrm>
            <a:off x="5410080" y="5153040"/>
            <a:ext cx="2811600" cy="246240"/>
            <a:chOff x="5410080" y="5153040"/>
            <a:chExt cx="2811600" cy="246240"/>
          </a:xfrm>
        </p:grpSpPr>
        <p:sp>
          <p:nvSpPr>
            <p:cNvPr id="1212" name=""/>
            <p:cNvSpPr/>
            <p:nvPr/>
          </p:nvSpPr>
          <p:spPr>
            <a:xfrm>
              <a:off x="6012000" y="515304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Gs                          US-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10080" y="5275440"/>
              <a:ext cx="30024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5707080" y="5153040"/>
              <a:ext cx="231840" cy="198360"/>
              <a:chOff x="5707080" y="5153040"/>
              <a:chExt cx="231840" cy="19836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5707080" y="5199120"/>
                <a:ext cx="231840" cy="152280"/>
                <a:chOff x="5707080" y="5199120"/>
                <a:chExt cx="231840" cy="15228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5707080" y="5199120"/>
                  <a:ext cx="231840" cy="1522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5707080" y="5199120"/>
                  <a:ext cx="55800" cy="15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 flipV="1">
                  <a:off x="5707080" y="5200920"/>
                  <a:ext cx="228240" cy="14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709240" y="5199120"/>
                  <a:ext cx="225720" cy="14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5784840" y="5153040"/>
                <a:ext cx="74520" cy="28080"/>
                <a:chOff x="5784840" y="5153040"/>
                <a:chExt cx="74520" cy="2808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5784840" y="51530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832360" y="51544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23" name=""/>
          <p:cNvGrpSpPr/>
          <p:nvPr/>
        </p:nvGrpSpPr>
        <p:grpSpPr>
          <a:xfrm>
            <a:off x="5410080" y="5516640"/>
            <a:ext cx="2811600" cy="246240"/>
            <a:chOff x="5410080" y="5516640"/>
            <a:chExt cx="2811600" cy="246240"/>
          </a:xfrm>
        </p:grpSpPr>
        <p:sp>
          <p:nvSpPr>
            <p:cNvPr id="1224" name=""/>
            <p:cNvSpPr/>
            <p:nvPr/>
          </p:nvSpPr>
          <p:spPr>
            <a:xfrm>
              <a:off x="6012000" y="551664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mm Mortar               US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10080" y="5639040"/>
              <a:ext cx="30024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5707080" y="5516640"/>
              <a:ext cx="231840" cy="198360"/>
              <a:chOff x="5707080" y="5516640"/>
              <a:chExt cx="231840" cy="19836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5707080" y="5562720"/>
                <a:ext cx="231840" cy="152280"/>
                <a:chOff x="5707080" y="5562720"/>
                <a:chExt cx="231840" cy="1522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5707080" y="5562720"/>
                  <a:ext cx="231840" cy="1522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5707080" y="5562720"/>
                  <a:ext cx="55800" cy="15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V="1">
                  <a:off x="5707080" y="5564520"/>
                  <a:ext cx="228240" cy="14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709240" y="5562720"/>
                  <a:ext cx="225720" cy="14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5784840" y="5516640"/>
                <a:ext cx="74520" cy="28080"/>
                <a:chOff x="5784840" y="5516640"/>
                <a:chExt cx="74520" cy="2808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5784840" y="5516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5832360" y="5518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 ME-07-&gt;PIME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344520" y="3935520"/>
            <a:ext cx="3352680" cy="2359080"/>
            <a:chOff x="344520" y="3935520"/>
            <a:chExt cx="3352680" cy="2359080"/>
          </a:xfrm>
        </p:grpSpPr>
        <p:sp>
          <p:nvSpPr>
            <p:cNvPr id="1237" name=""/>
            <p:cNvSpPr/>
            <p:nvPr/>
          </p:nvSpPr>
          <p:spPr>
            <a:xfrm>
              <a:off x="344520" y="3935520"/>
              <a:ext cx="3200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PIME- 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01720" y="439236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Tank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3120" y="4711680"/>
              <a:ext cx="0" cy="334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166760" y="4925880"/>
              <a:ext cx="237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6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3 Stuart Light Tank  USMC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582120" y="5048280"/>
              <a:ext cx="29556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862200" y="4925880"/>
              <a:ext cx="231480" cy="200880"/>
              <a:chOff x="862200" y="4925880"/>
              <a:chExt cx="231480" cy="200880"/>
            </a:xfrm>
          </p:grpSpPr>
          <p:grpSp>
            <p:nvGrpSpPr>
              <p:cNvPr id="1243" name=""/>
              <p:cNvGrpSpPr/>
              <p:nvPr/>
            </p:nvGrpSpPr>
            <p:grpSpPr>
              <a:xfrm>
                <a:off x="862200" y="4969800"/>
                <a:ext cx="231480" cy="156960"/>
                <a:chOff x="862200" y="4969800"/>
                <a:chExt cx="231480" cy="15696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862200" y="4969800"/>
                  <a:ext cx="23148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904680" y="5009040"/>
                  <a:ext cx="148320" cy="748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939960" y="4925880"/>
                <a:ext cx="74520" cy="27720"/>
                <a:chOff x="939960" y="4925880"/>
                <a:chExt cx="74520" cy="2772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939960" y="4925880"/>
                  <a:ext cx="284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987480" y="4927320"/>
                  <a:ext cx="2700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9" name=""/>
            <p:cNvSpPr/>
            <p:nvPr/>
          </p:nvSpPr>
          <p:spPr>
            <a:xfrm>
              <a:off x="1182600" y="4697280"/>
              <a:ext cx="236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3 Stuart Light Tank  USMC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572760" y="4821120"/>
              <a:ext cx="29844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878040" y="4682880"/>
              <a:ext cx="231480" cy="215280"/>
              <a:chOff x="878040" y="4682880"/>
              <a:chExt cx="231480" cy="215280"/>
            </a:xfrm>
          </p:grpSpPr>
          <p:grpSp>
            <p:nvGrpSpPr>
              <p:cNvPr id="1252" name=""/>
              <p:cNvGrpSpPr/>
              <p:nvPr/>
            </p:nvGrpSpPr>
            <p:grpSpPr>
              <a:xfrm>
                <a:off x="878040" y="4741200"/>
                <a:ext cx="231480" cy="156960"/>
                <a:chOff x="878040" y="4741200"/>
                <a:chExt cx="231480" cy="15696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878040" y="4741200"/>
                  <a:ext cx="23148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920520" y="4780440"/>
                  <a:ext cx="148320" cy="748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5" name=""/>
              <p:cNvGrpSpPr/>
              <p:nvPr/>
            </p:nvGrpSpPr>
            <p:grpSpPr>
              <a:xfrm>
                <a:off x="955800" y="4682880"/>
                <a:ext cx="74520" cy="28080"/>
                <a:chOff x="955800" y="4682880"/>
                <a:chExt cx="74520" cy="28080"/>
              </a:xfrm>
            </p:grpSpPr>
            <p:sp>
              <p:nvSpPr>
                <p:cNvPr id="1256" name=""/>
                <p:cNvSpPr/>
                <p:nvPr/>
              </p:nvSpPr>
              <p:spPr>
                <a:xfrm>
                  <a:off x="955800" y="46828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1003320" y="46843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8" name=""/>
            <p:cNvSpPr/>
            <p:nvPr/>
          </p:nvSpPr>
          <p:spPr>
            <a:xfrm>
              <a:off x="1192320" y="460188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420840" y="4468680"/>
              <a:ext cx="284040" cy="269280"/>
              <a:chOff x="420840" y="4468680"/>
              <a:chExt cx="284040" cy="269280"/>
            </a:xfrm>
          </p:grpSpPr>
          <p:grpSp>
            <p:nvGrpSpPr>
              <p:cNvPr id="1260" name=""/>
              <p:cNvGrpSpPr/>
              <p:nvPr/>
            </p:nvGrpSpPr>
            <p:grpSpPr>
              <a:xfrm>
                <a:off x="420840" y="4544640"/>
                <a:ext cx="284040" cy="193320"/>
                <a:chOff x="420840" y="4544640"/>
                <a:chExt cx="284040" cy="19332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420840" y="4544640"/>
                  <a:ext cx="284040" cy="193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72680" y="4592880"/>
                  <a:ext cx="182160" cy="921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3" name=""/>
              <p:cNvSpPr/>
              <p:nvPr/>
            </p:nvSpPr>
            <p:spPr>
              <a:xfrm>
                <a:off x="561960" y="446868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4" name=""/>
            <p:cNvSpPr/>
            <p:nvPr/>
          </p:nvSpPr>
          <p:spPr>
            <a:xfrm>
              <a:off x="573120" y="5084640"/>
              <a:ext cx="0" cy="1136160"/>
            </a:xfrm>
            <a:prstGeom prst="line">
              <a:avLst/>
            </a:prstGeom>
            <a:ln w="19080">
              <a:solidFill>
                <a:srgbClr val="0bc13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5" name=""/>
            <p:cNvGrpSpPr/>
            <p:nvPr/>
          </p:nvGrpSpPr>
          <p:grpSpPr>
            <a:xfrm>
              <a:off x="852480" y="5383080"/>
              <a:ext cx="231840" cy="156960"/>
              <a:chOff x="852480" y="5383080"/>
              <a:chExt cx="231840" cy="156960"/>
            </a:xfrm>
          </p:grpSpPr>
          <p:sp>
            <p:nvSpPr>
              <p:cNvPr id="1266" name=""/>
              <p:cNvSpPr/>
              <p:nvPr/>
            </p:nvSpPr>
            <p:spPr>
              <a:xfrm>
                <a:off x="852480" y="538308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854640" y="5385240"/>
                <a:ext cx="225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52480" y="5385240"/>
                <a:ext cx="23076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825480" y="6068880"/>
              <a:ext cx="231840" cy="156960"/>
              <a:chOff x="825480" y="6068880"/>
              <a:chExt cx="231840" cy="156960"/>
            </a:xfrm>
          </p:grpSpPr>
          <p:sp>
            <p:nvSpPr>
              <p:cNvPr id="1270" name=""/>
              <p:cNvSpPr/>
              <p:nvPr/>
            </p:nvSpPr>
            <p:spPr>
              <a:xfrm>
                <a:off x="825480" y="606888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919080" y="612396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1319400" y="5383080"/>
              <a:ext cx="23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Early US Inf               US-4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319400" y="5749920"/>
              <a:ext cx="23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Bren carrier               BR-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19400" y="5641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3120" y="5459400"/>
              <a:ext cx="270000" cy="0"/>
            </a:xfrm>
            <a:prstGeom prst="line">
              <a:avLst/>
            </a:prstGeom>
            <a:ln w="19080">
              <a:solidFill>
                <a:srgbClr val="0bc13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3120" y="6170400"/>
              <a:ext cx="270000" cy="0"/>
            </a:xfrm>
            <a:prstGeom prst="line">
              <a:avLst/>
            </a:prstGeom>
            <a:ln w="19080">
              <a:solidFill>
                <a:srgbClr val="0bc13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319400" y="6048360"/>
              <a:ext cx="23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3 75mm GMC         US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65160" y="5540400"/>
              <a:ext cx="0" cy="315360"/>
            </a:xfrm>
            <a:prstGeom prst="line">
              <a:avLst/>
            </a:prstGeom>
            <a:ln w="19080">
              <a:solidFill>
                <a:srgbClr val="0bc13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984240" y="5856120"/>
              <a:ext cx="208080" cy="0"/>
            </a:xfrm>
            <a:prstGeom prst="line">
              <a:avLst/>
            </a:prstGeom>
            <a:ln w="19080">
              <a:solidFill>
                <a:srgbClr val="0bc13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374760" y="2309760"/>
            <a:ext cx="2673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Note 1: Replace with US-19 Cmd when dismou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Note 2:; Replace with US-43 when dismou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Note 3; replace wit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MG (M1919A4) US-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277920" y="617400"/>
            <a:ext cx="3352680" cy="1694160"/>
            <a:chOff x="277920" y="617400"/>
            <a:chExt cx="3352680" cy="1694160"/>
          </a:xfrm>
        </p:grpSpPr>
        <p:sp>
          <p:nvSpPr>
            <p:cNvPr id="1282" name=""/>
            <p:cNvSpPr/>
            <p:nvPr/>
          </p:nvSpPr>
          <p:spPr>
            <a:xfrm>
              <a:off x="277920" y="617400"/>
              <a:ext cx="3200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PIME- 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35120" y="1074600"/>
              <a:ext cx="144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oop, 26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Cav (P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495000" y="1393920"/>
              <a:ext cx="11160" cy="74772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00160" y="1608120"/>
              <a:ext cx="237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avalry       FR-31 (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515880" y="1839960"/>
              <a:ext cx="29520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16000" y="1379520"/>
              <a:ext cx="236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md (mtd)   FR-31 (1)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506160" y="1503360"/>
              <a:ext cx="29844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9" name=""/>
            <p:cNvGrpSpPr/>
            <p:nvPr/>
          </p:nvGrpSpPr>
          <p:grpSpPr>
            <a:xfrm>
              <a:off x="888840" y="1365120"/>
              <a:ext cx="74520" cy="28800"/>
              <a:chOff x="888840" y="1365120"/>
              <a:chExt cx="74520" cy="28800"/>
            </a:xfrm>
          </p:grpSpPr>
          <p:sp>
            <p:nvSpPr>
              <p:cNvPr id="1290" name=""/>
              <p:cNvSpPr/>
              <p:nvPr/>
            </p:nvSpPr>
            <p:spPr>
              <a:xfrm>
                <a:off x="888840" y="1365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936360" y="13669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2" name=""/>
            <p:cNvSpPr/>
            <p:nvPr/>
          </p:nvSpPr>
          <p:spPr>
            <a:xfrm>
              <a:off x="1125360" y="128412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5360" y="11509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52440" y="2065320"/>
              <a:ext cx="237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avalry       FR-31 (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06520" y="2141640"/>
              <a:ext cx="269640" cy="0"/>
            </a:xfrm>
            <a:prstGeom prst="line">
              <a:avLst/>
            </a:prstGeom>
            <a:ln w="1908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374760" y="1235160"/>
              <a:ext cx="239760" cy="156960"/>
              <a:chOff x="374760" y="1235160"/>
              <a:chExt cx="239760" cy="156960"/>
            </a:xfrm>
          </p:grpSpPr>
          <p:sp>
            <p:nvSpPr>
              <p:cNvPr id="1297" name=""/>
              <p:cNvSpPr/>
              <p:nvPr/>
            </p:nvSpPr>
            <p:spPr>
              <a:xfrm>
                <a:off x="374760" y="1235160"/>
                <a:ext cx="23976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374760" y="123516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811080" y="1424160"/>
              <a:ext cx="239760" cy="156960"/>
              <a:chOff x="811080" y="1424160"/>
              <a:chExt cx="239760" cy="156960"/>
            </a:xfrm>
          </p:grpSpPr>
          <p:sp>
            <p:nvSpPr>
              <p:cNvPr id="1300" name=""/>
              <p:cNvSpPr/>
              <p:nvPr/>
            </p:nvSpPr>
            <p:spPr>
              <a:xfrm>
                <a:off x="811080" y="1424160"/>
                <a:ext cx="23976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811080" y="142416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811080" y="1728360"/>
              <a:ext cx="239760" cy="157680"/>
              <a:chOff x="811080" y="1728360"/>
              <a:chExt cx="239760" cy="157680"/>
            </a:xfrm>
          </p:grpSpPr>
          <p:sp>
            <p:nvSpPr>
              <p:cNvPr id="1303" name=""/>
              <p:cNvSpPr/>
              <p:nvPr/>
            </p:nvSpPr>
            <p:spPr>
              <a:xfrm>
                <a:off x="811080" y="1728720"/>
                <a:ext cx="23976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811080" y="1728360"/>
                <a:ext cx="23652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830160" y="2061720"/>
              <a:ext cx="239760" cy="157680"/>
              <a:chOff x="830160" y="2061720"/>
              <a:chExt cx="239760" cy="157680"/>
            </a:xfrm>
          </p:grpSpPr>
          <p:sp>
            <p:nvSpPr>
              <p:cNvPr id="1306" name=""/>
              <p:cNvSpPr/>
              <p:nvPr/>
            </p:nvSpPr>
            <p:spPr>
              <a:xfrm>
                <a:off x="830160" y="2062080"/>
                <a:ext cx="23976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V="1">
                <a:off x="830160" y="2061720"/>
                <a:ext cx="23652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1166760" y="185256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G Plato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4189320" y="735120"/>
            <a:ext cx="3353040" cy="3138120"/>
            <a:chOff x="4189320" y="735120"/>
            <a:chExt cx="3353040" cy="3138120"/>
          </a:xfrm>
        </p:grpSpPr>
        <p:sp>
          <p:nvSpPr>
            <p:cNvPr id="1310" name=""/>
            <p:cNvSpPr/>
            <p:nvPr/>
          </p:nvSpPr>
          <p:spPr>
            <a:xfrm>
              <a:off x="4189320" y="735120"/>
              <a:ext cx="3200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Arial"/>
                </a:rPr>
                <a:t>PIME- 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46520" y="1192320"/>
              <a:ext cx="27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vy Wpns Troop, 26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Cav (P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17920" y="1511280"/>
              <a:ext cx="0" cy="119232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7760" y="1496880"/>
              <a:ext cx="236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md (mtd)   FR-31 (1)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4417560" y="1620720"/>
              <a:ext cx="29844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4800600" y="1482840"/>
              <a:ext cx="74520" cy="28080"/>
              <a:chOff x="4800600" y="1482840"/>
              <a:chExt cx="74520" cy="28080"/>
            </a:xfrm>
          </p:grpSpPr>
          <p:sp>
            <p:nvSpPr>
              <p:cNvPr id="1316" name=""/>
              <p:cNvSpPr/>
              <p:nvPr/>
            </p:nvSpPr>
            <p:spPr>
              <a:xfrm>
                <a:off x="4800600" y="14828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848120" y="14842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5037120" y="14018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406760" y="12682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4286160" y="1352160"/>
              <a:ext cx="239760" cy="157680"/>
              <a:chOff x="4286160" y="1352160"/>
              <a:chExt cx="239760" cy="157680"/>
            </a:xfrm>
          </p:grpSpPr>
          <p:sp>
            <p:nvSpPr>
              <p:cNvPr id="1321" name=""/>
              <p:cNvSpPr/>
              <p:nvPr/>
            </p:nvSpPr>
            <p:spPr>
              <a:xfrm>
                <a:off x="4286160" y="1352520"/>
                <a:ext cx="23976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4286160" y="1352160"/>
                <a:ext cx="23652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4722840" y="1541520"/>
              <a:ext cx="239760" cy="156960"/>
              <a:chOff x="4722840" y="1541520"/>
              <a:chExt cx="239760" cy="156960"/>
            </a:xfrm>
          </p:grpSpPr>
          <p:sp>
            <p:nvSpPr>
              <p:cNvPr id="1324" name=""/>
              <p:cNvSpPr/>
              <p:nvPr/>
            </p:nvSpPr>
            <p:spPr>
              <a:xfrm>
                <a:off x="4722840" y="1541520"/>
                <a:ext cx="23976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4722840" y="1541520"/>
                <a:ext cx="23652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4286160" y="2219400"/>
              <a:ext cx="3256200" cy="1653840"/>
              <a:chOff x="4286160" y="2219400"/>
              <a:chExt cx="3256200" cy="1653840"/>
            </a:xfrm>
          </p:grpSpPr>
          <p:sp>
            <p:nvSpPr>
              <p:cNvPr id="1327" name=""/>
              <p:cNvSpPr/>
              <p:nvPr/>
            </p:nvSpPr>
            <p:spPr>
              <a:xfrm>
                <a:off x="5164200" y="2638080"/>
                <a:ext cx="2378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4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avalry       FR-31 (4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8" name=""/>
              <p:cNvGrpSpPr/>
              <p:nvPr/>
            </p:nvGrpSpPr>
            <p:grpSpPr>
              <a:xfrm>
                <a:off x="4286160" y="2219400"/>
                <a:ext cx="3103560" cy="1653840"/>
                <a:chOff x="4286160" y="2219400"/>
                <a:chExt cx="3103560" cy="165384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5011560" y="2219400"/>
                  <a:ext cx="2378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Cavalry       FR-31 (3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4427640" y="2412720"/>
                  <a:ext cx="295200" cy="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417920" y="2714400"/>
                  <a:ext cx="270000" cy="0"/>
                </a:xfrm>
                <a:prstGeom prst="line">
                  <a:avLst/>
                </a:prstGeom>
                <a:ln w="19080">
                  <a:solidFill>
                    <a:srgbClr val="0bc1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2" name=""/>
                <p:cNvGrpSpPr/>
                <p:nvPr/>
              </p:nvGrpSpPr>
              <p:grpSpPr>
                <a:xfrm>
                  <a:off x="4722840" y="2301480"/>
                  <a:ext cx="239760" cy="156960"/>
                  <a:chOff x="4722840" y="2301480"/>
                  <a:chExt cx="239760" cy="156960"/>
                </a:xfrm>
              </p:grpSpPr>
              <p:sp>
                <p:nvSpPr>
                  <p:cNvPr id="1333" name=""/>
                  <p:cNvSpPr/>
                  <p:nvPr/>
                </p:nvSpPr>
                <p:spPr>
                  <a:xfrm>
                    <a:off x="4722840" y="2301840"/>
                    <a:ext cx="239760" cy="156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flipV="1">
                    <a:off x="4722840" y="2301480"/>
                    <a:ext cx="236520" cy="15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5" name=""/>
                <p:cNvGrpSpPr/>
                <p:nvPr/>
              </p:nvGrpSpPr>
              <p:grpSpPr>
                <a:xfrm>
                  <a:off x="4741920" y="2634840"/>
                  <a:ext cx="239760" cy="156960"/>
                  <a:chOff x="4741920" y="2634840"/>
                  <a:chExt cx="239760" cy="15696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>
                    <a:off x="4741920" y="2635200"/>
                    <a:ext cx="239760" cy="15660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flipV="1">
                    <a:off x="4741920" y="2634840"/>
                    <a:ext cx="236520" cy="15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8" name=""/>
                <p:cNvSpPr/>
                <p:nvPr/>
              </p:nvSpPr>
              <p:spPr>
                <a:xfrm>
                  <a:off x="5078520" y="2489040"/>
                  <a:ext cx="761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MG Plato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286160" y="2917440"/>
                  <a:ext cx="3103560" cy="95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Note 1</a:t>
                  </a:r>
                  <a:r>
                    <a:rPr b="0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: Replace with US-19 Cmd when dismounted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Note 2:</a:t>
                  </a:r>
                  <a:r>
                    <a:rPr b="0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Replace with</a:t>
                  </a:r>
                  <a:r>
                    <a:rPr b="1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orward Observer  US-21 when dismounte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Note 3</a:t>
                  </a:r>
                  <a:r>
                    <a:rPr b="0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:Replace with 81mm Mortar US-25 when dismounted.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Note43:</a:t>
                  </a:r>
                  <a:r>
                    <a:rPr b="0" lang="en-AU" sz="800" spc="-1" strike="noStrike">
                      <a:solidFill>
                        <a:srgbClr val="000000"/>
                      </a:solidFill>
                      <a:latin typeface="Times New Roman"/>
                    </a:rPr>
                    <a:t> replace with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MG M2 .50cal US –34 when dismounte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0" name=""/>
            <p:cNvSpPr/>
            <p:nvPr/>
          </p:nvSpPr>
          <p:spPr>
            <a:xfrm>
              <a:off x="5078520" y="177804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Mortar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427640" y="206856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2" name=""/>
            <p:cNvGrpSpPr/>
            <p:nvPr/>
          </p:nvGrpSpPr>
          <p:grpSpPr>
            <a:xfrm>
              <a:off x="4734000" y="1954080"/>
              <a:ext cx="231840" cy="195120"/>
              <a:chOff x="4734000" y="1954080"/>
              <a:chExt cx="231840" cy="19512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4734000" y="1992240"/>
                <a:ext cx="231840" cy="156960"/>
                <a:chOff x="4734000" y="1992240"/>
                <a:chExt cx="231840" cy="15696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4734000" y="199224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4816800" y="2041920"/>
                  <a:ext cx="5580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>
                <a:off x="4836960" y="1954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7" name=""/>
            <p:cNvSpPr/>
            <p:nvPr/>
          </p:nvSpPr>
          <p:spPr>
            <a:xfrm>
              <a:off x="5078520" y="1940040"/>
              <a:ext cx="222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avalry       FR-31 (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8" name=""/>
          <p:cNvSpPr/>
          <p:nvPr/>
        </p:nvSpPr>
        <p:spPr>
          <a:xfrm>
            <a:off x="4341960" y="393552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ME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799160" y="43927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 Troop, 26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Cav (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70560" y="4711680"/>
            <a:ext cx="0" cy="6714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180040" y="46972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md (mtd)   FR-31 (1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4570200" y="4821120"/>
            <a:ext cx="29844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4952880" y="4683240"/>
            <a:ext cx="74520" cy="28080"/>
            <a:chOff x="4952880" y="4683240"/>
            <a:chExt cx="74520" cy="28080"/>
          </a:xfrm>
        </p:grpSpPr>
        <p:sp>
          <p:nvSpPr>
            <p:cNvPr id="1354" name=""/>
            <p:cNvSpPr/>
            <p:nvPr/>
          </p:nvSpPr>
          <p:spPr>
            <a:xfrm>
              <a:off x="4952880" y="468324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00400" y="468468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5189400" y="460224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559400" y="44686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4438800" y="4552560"/>
            <a:ext cx="239400" cy="157680"/>
            <a:chOff x="4438800" y="4552560"/>
            <a:chExt cx="239400" cy="157680"/>
          </a:xfrm>
        </p:grpSpPr>
        <p:sp>
          <p:nvSpPr>
            <p:cNvPr id="1359" name=""/>
            <p:cNvSpPr/>
            <p:nvPr/>
          </p:nvSpPr>
          <p:spPr>
            <a:xfrm>
              <a:off x="4438800" y="4552920"/>
              <a:ext cx="23940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4438800" y="4552560"/>
              <a:ext cx="23616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4875120" y="4741920"/>
            <a:ext cx="239760" cy="156960"/>
            <a:chOff x="4875120" y="4741920"/>
            <a:chExt cx="239760" cy="156960"/>
          </a:xfrm>
        </p:grpSpPr>
        <p:sp>
          <p:nvSpPr>
            <p:cNvPr id="1362" name=""/>
            <p:cNvSpPr/>
            <p:nvPr/>
          </p:nvSpPr>
          <p:spPr>
            <a:xfrm>
              <a:off x="4875120" y="4741920"/>
              <a:ext cx="23976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4875120" y="474192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5334120" y="5264280"/>
            <a:ext cx="23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avalry       FR-31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79920" y="5373720"/>
            <a:ext cx="270000" cy="0"/>
          </a:xfrm>
          <a:prstGeom prst="line">
            <a:avLst/>
          </a:prstGeom>
          <a:ln w="1908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4863960" y="5301720"/>
            <a:ext cx="239760" cy="157680"/>
            <a:chOff x="4863960" y="5301720"/>
            <a:chExt cx="239760" cy="157680"/>
          </a:xfrm>
        </p:grpSpPr>
        <p:sp>
          <p:nvSpPr>
            <p:cNvPr id="1367" name=""/>
            <p:cNvSpPr/>
            <p:nvPr/>
          </p:nvSpPr>
          <p:spPr>
            <a:xfrm>
              <a:off x="4863960" y="5302080"/>
              <a:ext cx="23976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4863960" y="5301720"/>
              <a:ext cx="2365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4438800" y="5592600"/>
            <a:ext cx="3103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Note 1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: Replace with US-19 Cmd when dismou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Note 2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: Replace with US-23 when dismoun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92200" y="6275520"/>
            <a:ext cx="267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Note: The use of the M3 75mm GMC on table was not usual as these normally acted as the IDF unit for the Lt Tk Co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 FS-01-&gt;-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58680" y="142560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ward Observer   US-2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951280" y="906480"/>
            <a:ext cx="2012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FS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332160" y="1217520"/>
            <a:ext cx="21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 PA Div Arty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094200" y="1457280"/>
            <a:ext cx="0" cy="144612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13040" y="1522440"/>
            <a:ext cx="218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ward Observer (1)       US-2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103560" y="1598760"/>
            <a:ext cx="29988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713040" y="137016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3362400" y="1484280"/>
            <a:ext cx="231840" cy="195120"/>
            <a:chOff x="3362400" y="1484280"/>
            <a:chExt cx="231840" cy="195120"/>
          </a:xfrm>
        </p:grpSpPr>
        <p:grpSp>
          <p:nvGrpSpPr>
            <p:cNvPr id="1380" name=""/>
            <p:cNvGrpSpPr/>
            <p:nvPr/>
          </p:nvGrpSpPr>
          <p:grpSpPr>
            <a:xfrm>
              <a:off x="3362400" y="1522440"/>
              <a:ext cx="231840" cy="156960"/>
              <a:chOff x="3362400" y="1522440"/>
              <a:chExt cx="231840" cy="156960"/>
            </a:xfrm>
          </p:grpSpPr>
          <p:sp>
            <p:nvSpPr>
              <p:cNvPr id="1381" name=""/>
              <p:cNvSpPr/>
              <p:nvPr/>
            </p:nvSpPr>
            <p:spPr>
              <a:xfrm>
                <a:off x="3362400" y="152244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445200" y="1572120"/>
                <a:ext cx="55800" cy="55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3" name=""/>
            <p:cNvSpPr/>
            <p:nvPr/>
          </p:nvSpPr>
          <p:spPr>
            <a:xfrm>
              <a:off x="3465360" y="14842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196920" y="773280"/>
            <a:ext cx="2012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FS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74760" y="1501920"/>
            <a:ext cx="29988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92200" y="11016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um Artillery Regt (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71520" y="1976400"/>
            <a:ext cx="28872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371160" y="1360440"/>
            <a:ext cx="3240" cy="145908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71520" y="2819520"/>
            <a:ext cx="29988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984240" y="127332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984240" y="158256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ff-Board Direct Fire Support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681120" y="1387440"/>
            <a:ext cx="231840" cy="195120"/>
            <a:chOff x="681120" y="1387440"/>
            <a:chExt cx="231840" cy="195120"/>
          </a:xfrm>
        </p:grpSpPr>
        <p:grpSp>
          <p:nvGrpSpPr>
            <p:cNvPr id="1393" name=""/>
            <p:cNvGrpSpPr/>
            <p:nvPr/>
          </p:nvGrpSpPr>
          <p:grpSpPr>
            <a:xfrm>
              <a:off x="681120" y="1425600"/>
              <a:ext cx="231840" cy="156960"/>
              <a:chOff x="681120" y="1425600"/>
              <a:chExt cx="231840" cy="156960"/>
            </a:xfrm>
          </p:grpSpPr>
          <p:sp>
            <p:nvSpPr>
              <p:cNvPr id="1394" name=""/>
              <p:cNvSpPr/>
              <p:nvPr/>
            </p:nvSpPr>
            <p:spPr>
              <a:xfrm>
                <a:off x="681120" y="142560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63920" y="1475280"/>
                <a:ext cx="55800" cy="55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6" name=""/>
            <p:cNvSpPr/>
            <p:nvPr/>
          </p:nvSpPr>
          <p:spPr>
            <a:xfrm>
              <a:off x="784080" y="1387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371520" y="2349360"/>
            <a:ext cx="29988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73080" y="18604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PIFS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027080" y="1733400"/>
            <a:ext cx="161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st Medium Artillery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969840" y="224172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PIFS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23840" y="2114640"/>
            <a:ext cx="161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Medium Artillery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984240" y="2727360"/>
            <a:ext cx="1523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PIFS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38240" y="2600280"/>
            <a:ext cx="161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rd Medium Artillery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235080" y="1116000"/>
            <a:ext cx="283680" cy="261720"/>
            <a:chOff x="235080" y="1116000"/>
            <a:chExt cx="283680" cy="261720"/>
          </a:xfrm>
        </p:grpSpPr>
        <p:grpSp>
          <p:nvGrpSpPr>
            <p:cNvPr id="1405" name=""/>
            <p:cNvGrpSpPr/>
            <p:nvPr/>
          </p:nvGrpSpPr>
          <p:grpSpPr>
            <a:xfrm>
              <a:off x="235080" y="1184400"/>
              <a:ext cx="283680" cy="193320"/>
              <a:chOff x="235080" y="1184400"/>
              <a:chExt cx="283680" cy="193320"/>
            </a:xfrm>
          </p:grpSpPr>
          <p:sp>
            <p:nvSpPr>
              <p:cNvPr id="1406" name=""/>
              <p:cNvSpPr/>
              <p:nvPr/>
            </p:nvSpPr>
            <p:spPr>
              <a:xfrm>
                <a:off x="235080" y="1184400"/>
                <a:ext cx="283680" cy="193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49560" y="125244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311040" y="1116000"/>
              <a:ext cx="131760" cy="64800"/>
              <a:chOff x="311040" y="1116000"/>
              <a:chExt cx="131760" cy="64800"/>
            </a:xfrm>
          </p:grpSpPr>
          <p:sp>
            <p:nvSpPr>
              <p:cNvPr id="1409" name=""/>
              <p:cNvSpPr/>
              <p:nvPr/>
            </p:nvSpPr>
            <p:spPr>
              <a:xfrm>
                <a:off x="378000" y="1117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0" name=""/>
              <p:cNvGrpSpPr/>
              <p:nvPr/>
            </p:nvGrpSpPr>
            <p:grpSpPr>
              <a:xfrm>
                <a:off x="311040" y="1116000"/>
                <a:ext cx="131760" cy="64800"/>
                <a:chOff x="311040" y="1116000"/>
                <a:chExt cx="131760" cy="6480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311040" y="1117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442800" y="11160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13" name=""/>
          <p:cNvSpPr/>
          <p:nvPr/>
        </p:nvSpPr>
        <p:spPr>
          <a:xfrm>
            <a:off x="568440" y="3487680"/>
            <a:ext cx="21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um Artillery Bn (F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949320" y="394956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ff-Board Direct Fire Support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949320" y="3792600"/>
            <a:ext cx="184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ward Observer   US-2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39840" y="3868560"/>
            <a:ext cx="29988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949320" y="363996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609480" y="3754440"/>
            <a:ext cx="231840" cy="194760"/>
            <a:chOff x="609480" y="3754440"/>
            <a:chExt cx="231840" cy="194760"/>
          </a:xfrm>
        </p:grpSpPr>
        <p:grpSp>
          <p:nvGrpSpPr>
            <p:cNvPr id="1419" name=""/>
            <p:cNvGrpSpPr/>
            <p:nvPr/>
          </p:nvGrpSpPr>
          <p:grpSpPr>
            <a:xfrm>
              <a:off x="609480" y="3792240"/>
              <a:ext cx="231840" cy="156960"/>
              <a:chOff x="609480" y="3792240"/>
              <a:chExt cx="231840" cy="156960"/>
            </a:xfrm>
          </p:grpSpPr>
          <p:sp>
            <p:nvSpPr>
              <p:cNvPr id="1420" name=""/>
              <p:cNvSpPr/>
              <p:nvPr/>
            </p:nvSpPr>
            <p:spPr>
              <a:xfrm>
                <a:off x="609480" y="379224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92280" y="3841920"/>
                <a:ext cx="55800" cy="55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2" name=""/>
            <p:cNvSpPr/>
            <p:nvPr/>
          </p:nvSpPr>
          <p:spPr>
            <a:xfrm>
              <a:off x="712440" y="37544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969840" y="44449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ff-Board General Fire Support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36600" y="3656160"/>
            <a:ext cx="0" cy="17730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39840" y="4906800"/>
            <a:ext cx="29664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969840" y="42577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55mm GPF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7120" y="4371840"/>
            <a:ext cx="30024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992160" y="410220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dium Artillery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58680" y="477036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55mm GPF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992160" y="4614840"/>
            <a:ext cx="159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dium  Artillery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49320" y="52754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155mm GPF G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982800" y="5119560"/>
            <a:ext cx="159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dium  Artillery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52440" y="5419800"/>
            <a:ext cx="30492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91960" y="3157560"/>
            <a:ext cx="2013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FS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91960" y="5632560"/>
            <a:ext cx="233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: 86</a:t>
            </a:r>
            <a:r>
              <a:rPr b="0" lang="en-AU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 FA (PS) commenced with only one Bn. After  the conversion of the CA 155mm GPF to Mdm Spt, they expanded to 2 Bns on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05400" y="550800"/>
            <a:ext cx="2013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FS-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045200" y="20732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75mm Gu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684840" y="89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/PS FA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465960" y="2219400"/>
            <a:ext cx="30780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6453360" y="1133640"/>
            <a:ext cx="2880" cy="190152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684840" y="1131840"/>
            <a:ext cx="188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ff-Board General Fire Support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448320" y="2554200"/>
            <a:ext cx="30024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078680" y="24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75mm Gu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116840" y="2336760"/>
            <a:ext cx="149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nd Fd Arty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116840" y="1917720"/>
            <a:ext cx="161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st Fd Arty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078680" y="2913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75mm Gu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107120" y="2801880"/>
            <a:ext cx="163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rd Fd Arty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446880" y="3043080"/>
            <a:ext cx="29988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6305400" y="936720"/>
            <a:ext cx="283680" cy="256320"/>
            <a:chOff x="6305400" y="936720"/>
            <a:chExt cx="283680" cy="256320"/>
          </a:xfrm>
        </p:grpSpPr>
        <p:grpSp>
          <p:nvGrpSpPr>
            <p:cNvPr id="1450" name=""/>
            <p:cNvGrpSpPr/>
            <p:nvPr/>
          </p:nvGrpSpPr>
          <p:grpSpPr>
            <a:xfrm>
              <a:off x="6305400" y="1000080"/>
              <a:ext cx="283680" cy="192960"/>
              <a:chOff x="6305400" y="1000080"/>
              <a:chExt cx="283680" cy="192960"/>
            </a:xfrm>
          </p:grpSpPr>
          <p:sp>
            <p:nvSpPr>
              <p:cNvPr id="1451" name=""/>
              <p:cNvSpPr/>
              <p:nvPr/>
            </p:nvSpPr>
            <p:spPr>
              <a:xfrm>
                <a:off x="6305400" y="1000080"/>
                <a:ext cx="283680" cy="192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419880" y="106812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6408360" y="936720"/>
              <a:ext cx="76320" cy="63360"/>
              <a:chOff x="6408360" y="936720"/>
              <a:chExt cx="76320" cy="63360"/>
            </a:xfrm>
          </p:grpSpPr>
          <p:sp>
            <p:nvSpPr>
              <p:cNvPr id="1454" name=""/>
              <p:cNvSpPr/>
              <p:nvPr/>
            </p:nvSpPr>
            <p:spPr>
              <a:xfrm>
                <a:off x="6408360" y="936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484680" y="936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6" name=""/>
          <p:cNvSpPr/>
          <p:nvPr/>
        </p:nvSpPr>
        <p:spPr>
          <a:xfrm>
            <a:off x="7059600" y="149868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ward Observer   US-2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726240" y="1521000"/>
            <a:ext cx="231840" cy="195120"/>
            <a:chOff x="6726240" y="1521000"/>
            <a:chExt cx="231840" cy="195120"/>
          </a:xfrm>
        </p:grpSpPr>
        <p:grpSp>
          <p:nvGrpSpPr>
            <p:cNvPr id="1458" name=""/>
            <p:cNvGrpSpPr/>
            <p:nvPr/>
          </p:nvGrpSpPr>
          <p:grpSpPr>
            <a:xfrm>
              <a:off x="6726240" y="1559160"/>
              <a:ext cx="231840" cy="156960"/>
              <a:chOff x="6726240" y="1559160"/>
              <a:chExt cx="231840" cy="156960"/>
            </a:xfrm>
          </p:grpSpPr>
          <p:sp>
            <p:nvSpPr>
              <p:cNvPr id="1459" name=""/>
              <p:cNvSpPr/>
              <p:nvPr/>
            </p:nvSpPr>
            <p:spPr>
              <a:xfrm>
                <a:off x="6726240" y="155916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809040" y="1608840"/>
                <a:ext cx="55800" cy="55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6829200" y="15210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6446880" y="1650960"/>
            <a:ext cx="32688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380280" y="3438360"/>
            <a:ext cx="2012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FS-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732720" y="377496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/PS FD Arty Re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6500520" y="4014720"/>
            <a:ext cx="3240" cy="130032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732720" y="4013280"/>
            <a:ext cx="18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ff-Board General Fire Support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515280" y="4807080"/>
            <a:ext cx="29988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116840" y="4748040"/>
            <a:ext cx="1523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PIFS- 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116840" y="4589640"/>
            <a:ext cx="198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Fd Arty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116840" y="4356000"/>
            <a:ext cx="1523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PIFS- 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504120" y="4432320"/>
            <a:ext cx="29988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116840" y="4210200"/>
            <a:ext cx="161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Fd Arty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116840" y="5221440"/>
            <a:ext cx="1523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PIFS - 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116840" y="5072040"/>
            <a:ext cx="1631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Fd Arty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504120" y="5315040"/>
            <a:ext cx="29988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6357960" y="3830760"/>
            <a:ext cx="283680" cy="193320"/>
            <a:chOff x="6357960" y="3830760"/>
            <a:chExt cx="283680" cy="193320"/>
          </a:xfrm>
        </p:grpSpPr>
        <p:sp>
          <p:nvSpPr>
            <p:cNvPr id="1477" name=""/>
            <p:cNvSpPr/>
            <p:nvPr/>
          </p:nvSpPr>
          <p:spPr>
            <a:xfrm>
              <a:off x="6357960" y="3830760"/>
              <a:ext cx="283680" cy="19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72440" y="3898800"/>
              <a:ext cx="5616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6424560" y="3774960"/>
            <a:ext cx="131760" cy="64800"/>
            <a:chOff x="6424560" y="3774960"/>
            <a:chExt cx="131760" cy="64800"/>
          </a:xfrm>
        </p:grpSpPr>
        <p:sp>
          <p:nvSpPr>
            <p:cNvPr id="1480" name=""/>
            <p:cNvSpPr/>
            <p:nvPr/>
          </p:nvSpPr>
          <p:spPr>
            <a:xfrm>
              <a:off x="6491520" y="3776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6424560" y="3774960"/>
              <a:ext cx="131760" cy="64800"/>
              <a:chOff x="6424560" y="3774960"/>
              <a:chExt cx="131760" cy="64800"/>
            </a:xfrm>
          </p:grpSpPr>
          <p:sp>
            <p:nvSpPr>
              <p:cNvPr id="1482" name=""/>
              <p:cNvSpPr/>
              <p:nvPr/>
            </p:nvSpPr>
            <p:spPr>
              <a:xfrm>
                <a:off x="6424560" y="3776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556320" y="3774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4" name=""/>
          <p:cNvSpPr/>
          <p:nvPr/>
        </p:nvSpPr>
        <p:spPr>
          <a:xfrm>
            <a:off x="3095640" y="1968480"/>
            <a:ext cx="28908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095640" y="2341440"/>
            <a:ext cx="29988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770280" y="1725480"/>
            <a:ext cx="16160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st Artillery B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75mm Guns (FR-2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713040" y="2195640"/>
            <a:ext cx="16160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Artillery B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75mm Guns (FR-2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086280" y="2916360"/>
            <a:ext cx="29988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781440" y="2738520"/>
            <a:ext cx="1933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rd Artillery B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2.95inch mtn hows (SCWN-P1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054240" y="3102120"/>
            <a:ext cx="23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Note 1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: Only 1 FO per Bn max. Most Bns did not even have this luxury and operated in self spotting mode.  See Arty No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871720" y="3527280"/>
            <a:ext cx="2013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FS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049560" y="4255920"/>
            <a:ext cx="30024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67000" y="38559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M Bn (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046320" y="4730760"/>
            <a:ext cx="28908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3045960" y="4114800"/>
            <a:ext cx="3240" cy="149868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056040" y="5602320"/>
            <a:ext cx="29988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9040" y="402732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659040" y="43369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Off-Board Direct Fire Support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9" name=""/>
          <p:cNvGrpSpPr/>
          <p:nvPr/>
        </p:nvGrpSpPr>
        <p:grpSpPr>
          <a:xfrm>
            <a:off x="3355920" y="4138560"/>
            <a:ext cx="231840" cy="198360"/>
            <a:chOff x="3355920" y="4138560"/>
            <a:chExt cx="231840" cy="198360"/>
          </a:xfrm>
        </p:grpSpPr>
        <p:grpSp>
          <p:nvGrpSpPr>
            <p:cNvPr id="1500" name=""/>
            <p:cNvGrpSpPr/>
            <p:nvPr/>
          </p:nvGrpSpPr>
          <p:grpSpPr>
            <a:xfrm>
              <a:off x="3355920" y="4179960"/>
              <a:ext cx="231840" cy="156960"/>
              <a:chOff x="3355920" y="4179960"/>
              <a:chExt cx="231840" cy="156960"/>
            </a:xfrm>
          </p:grpSpPr>
          <p:sp>
            <p:nvSpPr>
              <p:cNvPr id="1501" name=""/>
              <p:cNvSpPr/>
              <p:nvPr/>
            </p:nvSpPr>
            <p:spPr>
              <a:xfrm>
                <a:off x="3355920" y="417996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438720" y="4229640"/>
                <a:ext cx="55800" cy="55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3" name=""/>
            <p:cNvSpPr/>
            <p:nvPr/>
          </p:nvSpPr>
          <p:spPr>
            <a:xfrm>
              <a:off x="3459240" y="4138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3046320" y="5103720"/>
            <a:ext cx="30024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648240" y="461484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SPM  US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701880" y="4487760"/>
            <a:ext cx="161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st SPM  B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3335400" y="4673520"/>
            <a:ext cx="231840" cy="157320"/>
            <a:chOff x="3335400" y="4673520"/>
            <a:chExt cx="231840" cy="157320"/>
          </a:xfrm>
        </p:grpSpPr>
        <p:sp>
          <p:nvSpPr>
            <p:cNvPr id="1508" name=""/>
            <p:cNvSpPr/>
            <p:nvPr/>
          </p:nvSpPr>
          <p:spPr>
            <a:xfrm>
              <a:off x="3335400" y="4673520"/>
              <a:ext cx="23184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429000" y="472896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3699000" y="4869000"/>
            <a:ext cx="161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SPM B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3332160" y="5054760"/>
            <a:ext cx="231840" cy="156960"/>
            <a:chOff x="3332160" y="5054760"/>
            <a:chExt cx="231840" cy="156960"/>
          </a:xfrm>
        </p:grpSpPr>
        <p:sp>
          <p:nvSpPr>
            <p:cNvPr id="1512" name=""/>
            <p:cNvSpPr/>
            <p:nvPr/>
          </p:nvSpPr>
          <p:spPr>
            <a:xfrm>
              <a:off x="3332160" y="5054760"/>
              <a:ext cx="23184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425760" y="5109840"/>
              <a:ext cx="4608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4" name=""/>
          <p:cNvSpPr/>
          <p:nvPr/>
        </p:nvSpPr>
        <p:spPr>
          <a:xfrm>
            <a:off x="3713040" y="5432400"/>
            <a:ext cx="161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SPM B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3346560" y="5540400"/>
            <a:ext cx="231840" cy="156960"/>
            <a:chOff x="3346560" y="5540400"/>
            <a:chExt cx="231840" cy="156960"/>
          </a:xfrm>
        </p:grpSpPr>
        <p:sp>
          <p:nvSpPr>
            <p:cNvPr id="1516" name=""/>
            <p:cNvSpPr/>
            <p:nvPr/>
          </p:nvSpPr>
          <p:spPr>
            <a:xfrm>
              <a:off x="3346560" y="5540400"/>
              <a:ext cx="23184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440160" y="5595480"/>
              <a:ext cx="4608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3713040" y="4187880"/>
            <a:ext cx="20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ward Observer   US-2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459240" y="46036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446640" y="49863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454560" y="54720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735360" y="5014800"/>
            <a:ext cx="1523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SPM  US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659040" y="554040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SPM  US-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049560" y="5999040"/>
            <a:ext cx="233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: These may be deployed on table in support of the Ind Tk Bns. These acted as AT support.  See PIME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23960" y="4727520"/>
            <a:ext cx="0" cy="73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608040" y="4807080"/>
            <a:ext cx="231840" cy="156960"/>
            <a:chOff x="608040" y="4807080"/>
            <a:chExt cx="231840" cy="156960"/>
          </a:xfrm>
        </p:grpSpPr>
        <p:sp>
          <p:nvSpPr>
            <p:cNvPr id="1527" name=""/>
            <p:cNvSpPr/>
            <p:nvPr/>
          </p:nvSpPr>
          <p:spPr>
            <a:xfrm>
              <a:off x="608040" y="4807080"/>
              <a:ext cx="23184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01640" y="486252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362400" y="1803240"/>
            <a:ext cx="231840" cy="236520"/>
            <a:chOff x="3362400" y="1803240"/>
            <a:chExt cx="231840" cy="236520"/>
          </a:xfrm>
        </p:grpSpPr>
        <p:sp>
          <p:nvSpPr>
            <p:cNvPr id="1530" name=""/>
            <p:cNvSpPr/>
            <p:nvPr/>
          </p:nvSpPr>
          <p:spPr>
            <a:xfrm>
              <a:off x="3478320" y="1803240"/>
              <a:ext cx="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1" name=""/>
            <p:cNvGrpSpPr/>
            <p:nvPr/>
          </p:nvGrpSpPr>
          <p:grpSpPr>
            <a:xfrm>
              <a:off x="3362400" y="1882800"/>
              <a:ext cx="231840" cy="156960"/>
              <a:chOff x="3362400" y="1882800"/>
              <a:chExt cx="231840" cy="156960"/>
            </a:xfrm>
          </p:grpSpPr>
          <p:sp>
            <p:nvSpPr>
              <p:cNvPr id="1532" name=""/>
              <p:cNvSpPr/>
              <p:nvPr/>
            </p:nvSpPr>
            <p:spPr>
              <a:xfrm>
                <a:off x="3362400" y="188280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456000" y="193788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4" name=""/>
          <p:cNvGrpSpPr/>
          <p:nvPr/>
        </p:nvGrpSpPr>
        <p:grpSpPr>
          <a:xfrm>
            <a:off x="3362400" y="2765520"/>
            <a:ext cx="231840" cy="236520"/>
            <a:chOff x="3362400" y="2765520"/>
            <a:chExt cx="231840" cy="236520"/>
          </a:xfrm>
        </p:grpSpPr>
        <p:sp>
          <p:nvSpPr>
            <p:cNvPr id="1535" name=""/>
            <p:cNvSpPr/>
            <p:nvPr/>
          </p:nvSpPr>
          <p:spPr>
            <a:xfrm>
              <a:off x="3478320" y="2765520"/>
              <a:ext cx="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6" name=""/>
            <p:cNvGrpSpPr/>
            <p:nvPr/>
          </p:nvGrpSpPr>
          <p:grpSpPr>
            <a:xfrm>
              <a:off x="3362400" y="2845080"/>
              <a:ext cx="231840" cy="156960"/>
              <a:chOff x="3362400" y="2845080"/>
              <a:chExt cx="231840" cy="156960"/>
            </a:xfrm>
          </p:grpSpPr>
          <p:sp>
            <p:nvSpPr>
              <p:cNvPr id="1537" name=""/>
              <p:cNvSpPr/>
              <p:nvPr/>
            </p:nvSpPr>
            <p:spPr>
              <a:xfrm>
                <a:off x="3362400" y="284508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456000" y="290016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9" name=""/>
          <p:cNvGrpSpPr/>
          <p:nvPr/>
        </p:nvGrpSpPr>
        <p:grpSpPr>
          <a:xfrm>
            <a:off x="3362400" y="2193840"/>
            <a:ext cx="231840" cy="236520"/>
            <a:chOff x="3362400" y="2193840"/>
            <a:chExt cx="231840" cy="236520"/>
          </a:xfrm>
        </p:grpSpPr>
        <p:sp>
          <p:nvSpPr>
            <p:cNvPr id="1540" name=""/>
            <p:cNvSpPr/>
            <p:nvPr/>
          </p:nvSpPr>
          <p:spPr>
            <a:xfrm>
              <a:off x="3478320" y="2193840"/>
              <a:ext cx="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1" name=""/>
            <p:cNvGrpSpPr/>
            <p:nvPr/>
          </p:nvGrpSpPr>
          <p:grpSpPr>
            <a:xfrm>
              <a:off x="3362400" y="2273400"/>
              <a:ext cx="231840" cy="156960"/>
              <a:chOff x="3362400" y="2273400"/>
              <a:chExt cx="231840" cy="1569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362400" y="227340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456000" y="232848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6662880" y="4284720"/>
            <a:ext cx="283680" cy="256320"/>
            <a:chOff x="6662880" y="4284720"/>
            <a:chExt cx="283680" cy="256320"/>
          </a:xfrm>
        </p:grpSpPr>
        <p:grpSp>
          <p:nvGrpSpPr>
            <p:cNvPr id="1545" name=""/>
            <p:cNvGrpSpPr/>
            <p:nvPr/>
          </p:nvGrpSpPr>
          <p:grpSpPr>
            <a:xfrm>
              <a:off x="6662880" y="4348080"/>
              <a:ext cx="283680" cy="192960"/>
              <a:chOff x="6662880" y="4348080"/>
              <a:chExt cx="283680" cy="192960"/>
            </a:xfrm>
          </p:grpSpPr>
          <p:sp>
            <p:nvSpPr>
              <p:cNvPr id="1546" name=""/>
              <p:cNvSpPr/>
              <p:nvPr/>
            </p:nvSpPr>
            <p:spPr>
              <a:xfrm>
                <a:off x="6662880" y="4348080"/>
                <a:ext cx="283680" cy="192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777360" y="441612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6767640" y="4284720"/>
              <a:ext cx="76320" cy="63360"/>
              <a:chOff x="6767640" y="4284720"/>
              <a:chExt cx="76320" cy="63360"/>
            </a:xfrm>
          </p:grpSpPr>
          <p:sp>
            <p:nvSpPr>
              <p:cNvPr id="1549" name=""/>
              <p:cNvSpPr/>
              <p:nvPr/>
            </p:nvSpPr>
            <p:spPr>
              <a:xfrm>
                <a:off x="6767640" y="4284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843960" y="4284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1" name=""/>
          <p:cNvGrpSpPr/>
          <p:nvPr/>
        </p:nvGrpSpPr>
        <p:grpSpPr>
          <a:xfrm>
            <a:off x="2957400" y="1227240"/>
            <a:ext cx="283680" cy="256320"/>
            <a:chOff x="2957400" y="1227240"/>
            <a:chExt cx="283680" cy="256320"/>
          </a:xfrm>
        </p:grpSpPr>
        <p:grpSp>
          <p:nvGrpSpPr>
            <p:cNvPr id="1552" name=""/>
            <p:cNvGrpSpPr/>
            <p:nvPr/>
          </p:nvGrpSpPr>
          <p:grpSpPr>
            <a:xfrm>
              <a:off x="2957400" y="1290600"/>
              <a:ext cx="283680" cy="192960"/>
              <a:chOff x="2957400" y="1290600"/>
              <a:chExt cx="283680" cy="192960"/>
            </a:xfrm>
          </p:grpSpPr>
          <p:sp>
            <p:nvSpPr>
              <p:cNvPr id="1553" name=""/>
              <p:cNvSpPr/>
              <p:nvPr/>
            </p:nvSpPr>
            <p:spPr>
              <a:xfrm>
                <a:off x="2957400" y="1290600"/>
                <a:ext cx="283680" cy="192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071880" y="135864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3062160" y="1227240"/>
              <a:ext cx="76320" cy="63360"/>
              <a:chOff x="3062160" y="1227240"/>
              <a:chExt cx="76320" cy="63360"/>
            </a:xfrm>
          </p:grpSpPr>
          <p:sp>
            <p:nvSpPr>
              <p:cNvPr id="1556" name=""/>
              <p:cNvSpPr/>
              <p:nvPr/>
            </p:nvSpPr>
            <p:spPr>
              <a:xfrm>
                <a:off x="3062160" y="1227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138480" y="1227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8" name=""/>
          <p:cNvGrpSpPr/>
          <p:nvPr/>
        </p:nvGrpSpPr>
        <p:grpSpPr>
          <a:xfrm>
            <a:off x="623880" y="1817640"/>
            <a:ext cx="283680" cy="257040"/>
            <a:chOff x="623880" y="1817640"/>
            <a:chExt cx="283680" cy="257040"/>
          </a:xfrm>
        </p:grpSpPr>
        <p:grpSp>
          <p:nvGrpSpPr>
            <p:cNvPr id="1559" name=""/>
            <p:cNvGrpSpPr/>
            <p:nvPr/>
          </p:nvGrpSpPr>
          <p:grpSpPr>
            <a:xfrm>
              <a:off x="623880" y="1881360"/>
              <a:ext cx="283680" cy="193320"/>
              <a:chOff x="623880" y="1881360"/>
              <a:chExt cx="283680" cy="193320"/>
            </a:xfrm>
          </p:grpSpPr>
          <p:sp>
            <p:nvSpPr>
              <p:cNvPr id="1560" name=""/>
              <p:cNvSpPr/>
              <p:nvPr/>
            </p:nvSpPr>
            <p:spPr>
              <a:xfrm>
                <a:off x="623880" y="1881360"/>
                <a:ext cx="283680" cy="193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38360" y="194940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2" name=""/>
            <p:cNvGrpSpPr/>
            <p:nvPr/>
          </p:nvGrpSpPr>
          <p:grpSpPr>
            <a:xfrm>
              <a:off x="728640" y="1817640"/>
              <a:ext cx="76320" cy="63360"/>
              <a:chOff x="728640" y="1817640"/>
              <a:chExt cx="76320" cy="63360"/>
            </a:xfrm>
          </p:grpSpPr>
          <p:sp>
            <p:nvSpPr>
              <p:cNvPr id="1563" name=""/>
              <p:cNvSpPr/>
              <p:nvPr/>
            </p:nvSpPr>
            <p:spPr>
              <a:xfrm>
                <a:off x="728640" y="1817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804960" y="1817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5" name=""/>
          <p:cNvGrpSpPr/>
          <p:nvPr/>
        </p:nvGrpSpPr>
        <p:grpSpPr>
          <a:xfrm>
            <a:off x="620640" y="2176560"/>
            <a:ext cx="283680" cy="256320"/>
            <a:chOff x="620640" y="2176560"/>
            <a:chExt cx="283680" cy="256320"/>
          </a:xfrm>
        </p:grpSpPr>
        <p:grpSp>
          <p:nvGrpSpPr>
            <p:cNvPr id="1566" name=""/>
            <p:cNvGrpSpPr/>
            <p:nvPr/>
          </p:nvGrpSpPr>
          <p:grpSpPr>
            <a:xfrm>
              <a:off x="620640" y="2239920"/>
              <a:ext cx="283680" cy="192960"/>
              <a:chOff x="620640" y="2239920"/>
              <a:chExt cx="283680" cy="192960"/>
            </a:xfrm>
          </p:grpSpPr>
          <p:sp>
            <p:nvSpPr>
              <p:cNvPr id="1567" name=""/>
              <p:cNvSpPr/>
              <p:nvPr/>
            </p:nvSpPr>
            <p:spPr>
              <a:xfrm>
                <a:off x="620640" y="2239920"/>
                <a:ext cx="283680" cy="192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35120" y="230796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725400" y="2176560"/>
              <a:ext cx="76320" cy="63360"/>
              <a:chOff x="725400" y="2176560"/>
              <a:chExt cx="76320" cy="63360"/>
            </a:xfrm>
          </p:grpSpPr>
          <p:sp>
            <p:nvSpPr>
              <p:cNvPr id="1570" name=""/>
              <p:cNvSpPr/>
              <p:nvPr/>
            </p:nvSpPr>
            <p:spPr>
              <a:xfrm>
                <a:off x="725400" y="21765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801720" y="21765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2" name=""/>
          <p:cNvGrpSpPr/>
          <p:nvPr/>
        </p:nvGrpSpPr>
        <p:grpSpPr>
          <a:xfrm>
            <a:off x="611280" y="2665440"/>
            <a:ext cx="283680" cy="256320"/>
            <a:chOff x="611280" y="2665440"/>
            <a:chExt cx="283680" cy="256320"/>
          </a:xfrm>
        </p:grpSpPr>
        <p:grpSp>
          <p:nvGrpSpPr>
            <p:cNvPr id="1573" name=""/>
            <p:cNvGrpSpPr/>
            <p:nvPr/>
          </p:nvGrpSpPr>
          <p:grpSpPr>
            <a:xfrm>
              <a:off x="611280" y="2728800"/>
              <a:ext cx="283680" cy="192960"/>
              <a:chOff x="611280" y="2728800"/>
              <a:chExt cx="283680" cy="192960"/>
            </a:xfrm>
          </p:grpSpPr>
          <p:sp>
            <p:nvSpPr>
              <p:cNvPr id="1574" name=""/>
              <p:cNvSpPr/>
              <p:nvPr/>
            </p:nvSpPr>
            <p:spPr>
              <a:xfrm>
                <a:off x="611280" y="2728800"/>
                <a:ext cx="283680" cy="192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25760" y="279684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716040" y="2665440"/>
              <a:ext cx="76320" cy="63360"/>
              <a:chOff x="716040" y="2665440"/>
              <a:chExt cx="76320" cy="63360"/>
            </a:xfrm>
          </p:grpSpPr>
          <p:sp>
            <p:nvSpPr>
              <p:cNvPr id="1577" name=""/>
              <p:cNvSpPr/>
              <p:nvPr/>
            </p:nvSpPr>
            <p:spPr>
              <a:xfrm>
                <a:off x="716040" y="2665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92360" y="2665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9" name=""/>
          <p:cNvGrpSpPr/>
          <p:nvPr/>
        </p:nvGrpSpPr>
        <p:grpSpPr>
          <a:xfrm>
            <a:off x="2900520" y="3865680"/>
            <a:ext cx="283680" cy="256320"/>
            <a:chOff x="2900520" y="3865680"/>
            <a:chExt cx="283680" cy="256320"/>
          </a:xfrm>
        </p:grpSpPr>
        <p:grpSp>
          <p:nvGrpSpPr>
            <p:cNvPr id="1580" name=""/>
            <p:cNvGrpSpPr/>
            <p:nvPr/>
          </p:nvGrpSpPr>
          <p:grpSpPr>
            <a:xfrm>
              <a:off x="2900520" y="3929040"/>
              <a:ext cx="283680" cy="192960"/>
              <a:chOff x="2900520" y="3929040"/>
              <a:chExt cx="283680" cy="192960"/>
            </a:xfrm>
          </p:grpSpPr>
          <p:sp>
            <p:nvSpPr>
              <p:cNvPr id="1581" name=""/>
              <p:cNvSpPr/>
              <p:nvPr/>
            </p:nvSpPr>
            <p:spPr>
              <a:xfrm>
                <a:off x="2900520" y="3929040"/>
                <a:ext cx="283680" cy="192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015000" y="399708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3" name=""/>
            <p:cNvGrpSpPr/>
            <p:nvPr/>
          </p:nvGrpSpPr>
          <p:grpSpPr>
            <a:xfrm>
              <a:off x="3005280" y="3865680"/>
              <a:ext cx="76320" cy="63360"/>
              <a:chOff x="3005280" y="3865680"/>
              <a:chExt cx="76320" cy="63360"/>
            </a:xfrm>
          </p:grpSpPr>
          <p:sp>
            <p:nvSpPr>
              <p:cNvPr id="1584" name=""/>
              <p:cNvSpPr/>
              <p:nvPr/>
            </p:nvSpPr>
            <p:spPr>
              <a:xfrm>
                <a:off x="3005280" y="3865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081600" y="38656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6" name=""/>
          <p:cNvGrpSpPr/>
          <p:nvPr/>
        </p:nvGrpSpPr>
        <p:grpSpPr>
          <a:xfrm>
            <a:off x="195120" y="3484440"/>
            <a:ext cx="283680" cy="257040"/>
            <a:chOff x="195120" y="3484440"/>
            <a:chExt cx="283680" cy="257040"/>
          </a:xfrm>
        </p:grpSpPr>
        <p:grpSp>
          <p:nvGrpSpPr>
            <p:cNvPr id="1587" name=""/>
            <p:cNvGrpSpPr/>
            <p:nvPr/>
          </p:nvGrpSpPr>
          <p:grpSpPr>
            <a:xfrm>
              <a:off x="195120" y="3548160"/>
              <a:ext cx="283680" cy="193320"/>
              <a:chOff x="195120" y="3548160"/>
              <a:chExt cx="283680" cy="193320"/>
            </a:xfrm>
          </p:grpSpPr>
          <p:sp>
            <p:nvSpPr>
              <p:cNvPr id="1588" name=""/>
              <p:cNvSpPr/>
              <p:nvPr/>
            </p:nvSpPr>
            <p:spPr>
              <a:xfrm>
                <a:off x="195120" y="3548160"/>
                <a:ext cx="283680" cy="193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09600" y="361620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"/>
            <p:cNvGrpSpPr/>
            <p:nvPr/>
          </p:nvGrpSpPr>
          <p:grpSpPr>
            <a:xfrm>
              <a:off x="299880" y="3484440"/>
              <a:ext cx="76320" cy="63360"/>
              <a:chOff x="299880" y="3484440"/>
              <a:chExt cx="76320" cy="63360"/>
            </a:xfrm>
          </p:grpSpPr>
          <p:sp>
            <p:nvSpPr>
              <p:cNvPr id="1591" name=""/>
              <p:cNvSpPr/>
              <p:nvPr/>
            </p:nvSpPr>
            <p:spPr>
              <a:xfrm>
                <a:off x="299880" y="3484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76200" y="3484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3" name=""/>
          <p:cNvGrpSpPr/>
          <p:nvPr/>
        </p:nvGrpSpPr>
        <p:grpSpPr>
          <a:xfrm>
            <a:off x="609480" y="4203720"/>
            <a:ext cx="231840" cy="236520"/>
            <a:chOff x="609480" y="4203720"/>
            <a:chExt cx="231840" cy="236520"/>
          </a:xfrm>
        </p:grpSpPr>
        <p:sp>
          <p:nvSpPr>
            <p:cNvPr id="1594" name=""/>
            <p:cNvSpPr/>
            <p:nvPr/>
          </p:nvSpPr>
          <p:spPr>
            <a:xfrm>
              <a:off x="725400" y="4203720"/>
              <a:ext cx="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609480" y="4282920"/>
              <a:ext cx="231840" cy="157320"/>
              <a:chOff x="609480" y="4282920"/>
              <a:chExt cx="231840" cy="157320"/>
            </a:xfrm>
          </p:grpSpPr>
          <p:sp>
            <p:nvSpPr>
              <p:cNvPr id="1596" name=""/>
              <p:cNvSpPr/>
              <p:nvPr/>
            </p:nvSpPr>
            <p:spPr>
              <a:xfrm>
                <a:off x="609480" y="4282920"/>
                <a:ext cx="23184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3080" y="43383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8" name=""/>
          <p:cNvGrpSpPr/>
          <p:nvPr/>
        </p:nvGrpSpPr>
        <p:grpSpPr>
          <a:xfrm>
            <a:off x="608040" y="5241960"/>
            <a:ext cx="231840" cy="236520"/>
            <a:chOff x="608040" y="5241960"/>
            <a:chExt cx="231840" cy="236520"/>
          </a:xfrm>
        </p:grpSpPr>
        <p:sp>
          <p:nvSpPr>
            <p:cNvPr id="1599" name=""/>
            <p:cNvSpPr/>
            <p:nvPr/>
          </p:nvSpPr>
          <p:spPr>
            <a:xfrm>
              <a:off x="723960" y="5241960"/>
              <a:ext cx="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0" name=""/>
            <p:cNvGrpSpPr/>
            <p:nvPr/>
          </p:nvGrpSpPr>
          <p:grpSpPr>
            <a:xfrm>
              <a:off x="608040" y="5321160"/>
              <a:ext cx="231840" cy="157320"/>
              <a:chOff x="608040" y="5321160"/>
              <a:chExt cx="231840" cy="157320"/>
            </a:xfrm>
          </p:grpSpPr>
          <p:sp>
            <p:nvSpPr>
              <p:cNvPr id="1601" name=""/>
              <p:cNvSpPr/>
              <p:nvPr/>
            </p:nvSpPr>
            <p:spPr>
              <a:xfrm>
                <a:off x="608040" y="5321160"/>
                <a:ext cx="23184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1640" y="537660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3" name=""/>
          <p:cNvGrpSpPr/>
          <p:nvPr/>
        </p:nvGrpSpPr>
        <p:grpSpPr>
          <a:xfrm>
            <a:off x="6726240" y="2041560"/>
            <a:ext cx="231840" cy="236520"/>
            <a:chOff x="6726240" y="2041560"/>
            <a:chExt cx="231840" cy="236520"/>
          </a:xfrm>
        </p:grpSpPr>
        <p:sp>
          <p:nvSpPr>
            <p:cNvPr id="1604" name=""/>
            <p:cNvSpPr/>
            <p:nvPr/>
          </p:nvSpPr>
          <p:spPr>
            <a:xfrm>
              <a:off x="6842160" y="2041560"/>
              <a:ext cx="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5" name=""/>
            <p:cNvGrpSpPr/>
            <p:nvPr/>
          </p:nvGrpSpPr>
          <p:grpSpPr>
            <a:xfrm>
              <a:off x="6726240" y="2121120"/>
              <a:ext cx="231840" cy="156960"/>
              <a:chOff x="6726240" y="2121120"/>
              <a:chExt cx="231840" cy="156960"/>
            </a:xfrm>
          </p:grpSpPr>
          <p:sp>
            <p:nvSpPr>
              <p:cNvPr id="1606" name=""/>
              <p:cNvSpPr/>
              <p:nvPr/>
            </p:nvSpPr>
            <p:spPr>
              <a:xfrm>
                <a:off x="6726240" y="212112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819840" y="217620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8" name=""/>
          <p:cNvGrpSpPr/>
          <p:nvPr/>
        </p:nvGrpSpPr>
        <p:grpSpPr>
          <a:xfrm>
            <a:off x="6726240" y="2394000"/>
            <a:ext cx="231840" cy="236520"/>
            <a:chOff x="6726240" y="2394000"/>
            <a:chExt cx="231840" cy="236520"/>
          </a:xfrm>
        </p:grpSpPr>
        <p:sp>
          <p:nvSpPr>
            <p:cNvPr id="1609" name=""/>
            <p:cNvSpPr/>
            <p:nvPr/>
          </p:nvSpPr>
          <p:spPr>
            <a:xfrm>
              <a:off x="6842160" y="2394000"/>
              <a:ext cx="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0" name=""/>
            <p:cNvGrpSpPr/>
            <p:nvPr/>
          </p:nvGrpSpPr>
          <p:grpSpPr>
            <a:xfrm>
              <a:off x="6726240" y="2473560"/>
              <a:ext cx="231840" cy="156960"/>
              <a:chOff x="6726240" y="2473560"/>
              <a:chExt cx="231840" cy="156960"/>
            </a:xfrm>
          </p:grpSpPr>
          <p:sp>
            <p:nvSpPr>
              <p:cNvPr id="1611" name=""/>
              <p:cNvSpPr/>
              <p:nvPr/>
            </p:nvSpPr>
            <p:spPr>
              <a:xfrm>
                <a:off x="6726240" y="247356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819840" y="252864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3" name=""/>
          <p:cNvGrpSpPr/>
          <p:nvPr/>
        </p:nvGrpSpPr>
        <p:grpSpPr>
          <a:xfrm>
            <a:off x="6726240" y="2889360"/>
            <a:ext cx="231840" cy="236520"/>
            <a:chOff x="6726240" y="2889360"/>
            <a:chExt cx="231840" cy="236520"/>
          </a:xfrm>
        </p:grpSpPr>
        <p:sp>
          <p:nvSpPr>
            <p:cNvPr id="1614" name=""/>
            <p:cNvSpPr/>
            <p:nvPr/>
          </p:nvSpPr>
          <p:spPr>
            <a:xfrm>
              <a:off x="6842160" y="2889360"/>
              <a:ext cx="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5" name=""/>
            <p:cNvGrpSpPr/>
            <p:nvPr/>
          </p:nvGrpSpPr>
          <p:grpSpPr>
            <a:xfrm>
              <a:off x="6726240" y="2968920"/>
              <a:ext cx="231840" cy="156960"/>
              <a:chOff x="6726240" y="2968920"/>
              <a:chExt cx="231840" cy="156960"/>
            </a:xfrm>
          </p:grpSpPr>
          <p:sp>
            <p:nvSpPr>
              <p:cNvPr id="1616" name=""/>
              <p:cNvSpPr/>
              <p:nvPr/>
            </p:nvSpPr>
            <p:spPr>
              <a:xfrm>
                <a:off x="6726240" y="296892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819840" y="302400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8" name=""/>
          <p:cNvGrpSpPr/>
          <p:nvPr/>
        </p:nvGrpSpPr>
        <p:grpSpPr>
          <a:xfrm>
            <a:off x="6878520" y="3041640"/>
            <a:ext cx="231840" cy="236520"/>
            <a:chOff x="6878520" y="3041640"/>
            <a:chExt cx="231840" cy="236520"/>
          </a:xfrm>
        </p:grpSpPr>
        <p:sp>
          <p:nvSpPr>
            <p:cNvPr id="1619" name=""/>
            <p:cNvSpPr/>
            <p:nvPr/>
          </p:nvSpPr>
          <p:spPr>
            <a:xfrm>
              <a:off x="6994440" y="3041640"/>
              <a:ext cx="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0" name=""/>
            <p:cNvGrpSpPr/>
            <p:nvPr/>
          </p:nvGrpSpPr>
          <p:grpSpPr>
            <a:xfrm>
              <a:off x="6878520" y="3121200"/>
              <a:ext cx="231840" cy="156960"/>
              <a:chOff x="6878520" y="3121200"/>
              <a:chExt cx="231840" cy="156960"/>
            </a:xfrm>
          </p:grpSpPr>
          <p:sp>
            <p:nvSpPr>
              <p:cNvPr id="1621" name=""/>
              <p:cNvSpPr/>
              <p:nvPr/>
            </p:nvSpPr>
            <p:spPr>
              <a:xfrm>
                <a:off x="6878520" y="312120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972120" y="317628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3" name=""/>
          <p:cNvGrpSpPr/>
          <p:nvPr/>
        </p:nvGrpSpPr>
        <p:grpSpPr>
          <a:xfrm>
            <a:off x="6672240" y="4656240"/>
            <a:ext cx="283680" cy="256320"/>
            <a:chOff x="6672240" y="4656240"/>
            <a:chExt cx="283680" cy="256320"/>
          </a:xfrm>
        </p:grpSpPr>
        <p:grpSp>
          <p:nvGrpSpPr>
            <p:cNvPr id="1624" name=""/>
            <p:cNvGrpSpPr/>
            <p:nvPr/>
          </p:nvGrpSpPr>
          <p:grpSpPr>
            <a:xfrm>
              <a:off x="6672240" y="4719600"/>
              <a:ext cx="283680" cy="192960"/>
              <a:chOff x="6672240" y="4719600"/>
              <a:chExt cx="283680" cy="192960"/>
            </a:xfrm>
          </p:grpSpPr>
          <p:sp>
            <p:nvSpPr>
              <p:cNvPr id="1625" name=""/>
              <p:cNvSpPr/>
              <p:nvPr/>
            </p:nvSpPr>
            <p:spPr>
              <a:xfrm>
                <a:off x="6672240" y="4719600"/>
                <a:ext cx="283680" cy="192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786720" y="478764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6777000" y="4656240"/>
              <a:ext cx="76320" cy="63360"/>
              <a:chOff x="6777000" y="4656240"/>
              <a:chExt cx="76320" cy="63360"/>
            </a:xfrm>
          </p:grpSpPr>
          <p:sp>
            <p:nvSpPr>
              <p:cNvPr id="1628" name=""/>
              <p:cNvSpPr/>
              <p:nvPr/>
            </p:nvSpPr>
            <p:spPr>
              <a:xfrm>
                <a:off x="6777000" y="4656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853320" y="4656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0" name=""/>
          <p:cNvGrpSpPr/>
          <p:nvPr/>
        </p:nvGrpSpPr>
        <p:grpSpPr>
          <a:xfrm>
            <a:off x="6681960" y="5132520"/>
            <a:ext cx="283680" cy="256320"/>
            <a:chOff x="6681960" y="5132520"/>
            <a:chExt cx="283680" cy="256320"/>
          </a:xfrm>
        </p:grpSpPr>
        <p:grpSp>
          <p:nvGrpSpPr>
            <p:cNvPr id="1631" name=""/>
            <p:cNvGrpSpPr/>
            <p:nvPr/>
          </p:nvGrpSpPr>
          <p:grpSpPr>
            <a:xfrm>
              <a:off x="6681960" y="5195880"/>
              <a:ext cx="283680" cy="192960"/>
              <a:chOff x="6681960" y="5195880"/>
              <a:chExt cx="283680" cy="192960"/>
            </a:xfrm>
          </p:grpSpPr>
          <p:sp>
            <p:nvSpPr>
              <p:cNvPr id="1632" name=""/>
              <p:cNvSpPr/>
              <p:nvPr/>
            </p:nvSpPr>
            <p:spPr>
              <a:xfrm>
                <a:off x="6681960" y="5195880"/>
                <a:ext cx="283680" cy="192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796440" y="5263920"/>
                <a:ext cx="56160" cy="56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6786720" y="5132520"/>
              <a:ext cx="76320" cy="63360"/>
              <a:chOff x="6786720" y="5132520"/>
              <a:chExt cx="76320" cy="63360"/>
            </a:xfrm>
          </p:grpSpPr>
          <p:sp>
            <p:nvSpPr>
              <p:cNvPr id="1635" name=""/>
              <p:cNvSpPr/>
              <p:nvPr/>
            </p:nvSpPr>
            <p:spPr>
              <a:xfrm>
                <a:off x="6786720" y="5132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863040" y="5132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1120" y="465120"/>
          <a:ext cx="8863200" cy="59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465120"/>
                    <a:ext cx="8863200" cy="59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19200" y="1676520"/>
          <a:ext cx="6105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676520"/>
                    <a:ext cx="6105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828800" y="762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RTILLERY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838080"/>
            <a:ext cx="761760" cy="515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609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X X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057400"/>
            <a:ext cx="532800" cy="361440"/>
            <a:chOff x="990720" y="2057400"/>
            <a:chExt cx="532800" cy="361440"/>
          </a:xfrm>
        </p:grpSpPr>
        <p:sp>
          <p:nvSpPr>
            <p:cNvPr id="52" name=""/>
            <p:cNvSpPr/>
            <p:nvPr/>
          </p:nvSpPr>
          <p:spPr>
            <a:xfrm>
              <a:off x="990720" y="2057400"/>
              <a:ext cx="532800" cy="36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6120" y="2062440"/>
              <a:ext cx="51912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90720" y="2062800"/>
              <a:ext cx="53028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400040" y="2846520"/>
            <a:ext cx="384120" cy="259920"/>
            <a:chOff x="1400040" y="2846520"/>
            <a:chExt cx="384120" cy="259920"/>
          </a:xfrm>
        </p:grpSpPr>
        <p:sp>
          <p:nvSpPr>
            <p:cNvPr id="56" name=""/>
            <p:cNvSpPr/>
            <p:nvPr/>
          </p:nvSpPr>
          <p:spPr>
            <a:xfrm>
              <a:off x="1400040" y="2846520"/>
              <a:ext cx="384120" cy="259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404000" y="2850480"/>
              <a:ext cx="3744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00040" y="2850480"/>
              <a:ext cx="38232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29200" y="2057400"/>
            <a:ext cx="533160" cy="361440"/>
            <a:chOff x="5029200" y="2057400"/>
            <a:chExt cx="533160" cy="361440"/>
          </a:xfrm>
        </p:grpSpPr>
        <p:sp>
          <p:nvSpPr>
            <p:cNvPr id="60" name=""/>
            <p:cNvSpPr/>
            <p:nvPr/>
          </p:nvSpPr>
          <p:spPr>
            <a:xfrm>
              <a:off x="5029200" y="2057400"/>
              <a:ext cx="533160" cy="36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34600" y="2062440"/>
              <a:ext cx="51948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29200" y="2062800"/>
              <a:ext cx="53064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791320" y="3048120"/>
            <a:ext cx="532800" cy="361440"/>
            <a:chOff x="5791320" y="3048120"/>
            <a:chExt cx="532800" cy="361440"/>
          </a:xfrm>
        </p:grpSpPr>
        <p:sp>
          <p:nvSpPr>
            <p:cNvPr id="64" name=""/>
            <p:cNvSpPr/>
            <p:nvPr/>
          </p:nvSpPr>
          <p:spPr>
            <a:xfrm>
              <a:off x="5791320" y="3048120"/>
              <a:ext cx="532800" cy="36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796720" y="3053160"/>
              <a:ext cx="51912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91320" y="3053520"/>
              <a:ext cx="53028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679400" y="21034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 FO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21337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ILIPPINE FO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803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ILIPPIN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2971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ND  2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REG DIV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715000" y="2971800"/>
            <a:ext cx="533160" cy="361440"/>
            <a:chOff x="5715000" y="2971800"/>
            <a:chExt cx="533160" cy="361440"/>
          </a:xfrm>
        </p:grpSpPr>
        <p:sp>
          <p:nvSpPr>
            <p:cNvPr id="72" name=""/>
            <p:cNvSpPr/>
            <p:nvPr/>
          </p:nvSpPr>
          <p:spPr>
            <a:xfrm>
              <a:off x="5715000" y="2971800"/>
              <a:ext cx="533160" cy="36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720400" y="2976840"/>
              <a:ext cx="51948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977200"/>
              <a:ext cx="53064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715000" y="4191120"/>
            <a:ext cx="1295280" cy="1123920"/>
            <a:chOff x="5715000" y="4191120"/>
            <a:chExt cx="1295280" cy="1123920"/>
          </a:xfrm>
        </p:grpSpPr>
        <p:sp>
          <p:nvSpPr>
            <p:cNvPr id="76" name=""/>
            <p:cNvSpPr/>
            <p:nvPr/>
          </p:nvSpPr>
          <p:spPr>
            <a:xfrm>
              <a:off x="6477120" y="4953240"/>
              <a:ext cx="533160" cy="361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481800" y="4957920"/>
              <a:ext cx="52056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77120" y="4957920"/>
              <a:ext cx="53028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4876920"/>
              <a:ext cx="533520" cy="362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405480" y="4881600"/>
              <a:ext cx="52092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00800" y="4881960"/>
              <a:ext cx="53028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4480" y="4800960"/>
              <a:ext cx="533520" cy="361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329520" y="4805280"/>
              <a:ext cx="5205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24480" y="4805640"/>
              <a:ext cx="53028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48520" y="4724640"/>
              <a:ext cx="533160" cy="361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253200" y="4729320"/>
              <a:ext cx="52056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48520" y="4729320"/>
              <a:ext cx="53028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72200" y="4648320"/>
              <a:ext cx="533520" cy="362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176880" y="4653000"/>
              <a:ext cx="52092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72200" y="4653360"/>
              <a:ext cx="53028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95880" y="4572360"/>
              <a:ext cx="533520" cy="361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6100920" y="4576680"/>
              <a:ext cx="5205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5880" y="4577040"/>
              <a:ext cx="53028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9920" y="4496040"/>
              <a:ext cx="533160" cy="361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024600" y="4500720"/>
              <a:ext cx="52056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19920" y="4500720"/>
              <a:ext cx="53028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4419720"/>
              <a:ext cx="533520" cy="362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948280" y="4424400"/>
              <a:ext cx="52092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4424760"/>
              <a:ext cx="53028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4343760"/>
              <a:ext cx="533520" cy="361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872320" y="4348080"/>
              <a:ext cx="52056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67280" y="4348440"/>
              <a:ext cx="53028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4267440"/>
              <a:ext cx="533160" cy="361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796000" y="4272120"/>
              <a:ext cx="52056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1320" y="4272120"/>
              <a:ext cx="53028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4191120"/>
              <a:ext cx="533520" cy="362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719680" y="4195800"/>
              <a:ext cx="52092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15000" y="4196160"/>
              <a:ext cx="53028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781680" y="42670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10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RES DIVS (10DIV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2666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83400" y="2701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3962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8288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828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28680" y="2419200"/>
            <a:ext cx="0" cy="411480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257120" y="2941560"/>
            <a:ext cx="7596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2438280"/>
            <a:ext cx="0" cy="190512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34120" y="4343400"/>
            <a:ext cx="38088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34120" y="3124080"/>
            <a:ext cx="38088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600200"/>
            <a:ext cx="403848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600200"/>
            <a:ext cx="0" cy="609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1600200"/>
            <a:ext cx="0" cy="60948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14400" y="2209680"/>
            <a:ext cx="7632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581280" y="137124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952880" y="2209680"/>
            <a:ext cx="7632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92120" y="6400800"/>
            <a:ext cx="380880" cy="232920"/>
            <a:chOff x="1392120" y="6400800"/>
            <a:chExt cx="380880" cy="232920"/>
          </a:xfrm>
        </p:grpSpPr>
        <p:sp>
          <p:nvSpPr>
            <p:cNvPr id="127" name=""/>
            <p:cNvSpPr/>
            <p:nvPr/>
          </p:nvSpPr>
          <p:spPr>
            <a:xfrm>
              <a:off x="1392120" y="6400800"/>
              <a:ext cx="380880" cy="232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5840" y="6482880"/>
              <a:ext cx="75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523880" y="6324480"/>
            <a:ext cx="76320" cy="63360"/>
            <a:chOff x="1523880" y="6324480"/>
            <a:chExt cx="76320" cy="63360"/>
          </a:xfrm>
        </p:grpSpPr>
        <p:sp>
          <p:nvSpPr>
            <p:cNvPr id="130" name=""/>
            <p:cNvSpPr/>
            <p:nvPr/>
          </p:nvSpPr>
          <p:spPr>
            <a:xfrm>
              <a:off x="1523880" y="6324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00200" y="6324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219320" y="3581280"/>
            <a:ext cx="15228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12480" y="4008600"/>
            <a:ext cx="15228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228680" y="4486320"/>
            <a:ext cx="17928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228680" y="4943520"/>
            <a:ext cx="17928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228680" y="6064200"/>
            <a:ext cx="18432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6553080"/>
            <a:ext cx="18072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634536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FA (PS) (-)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TN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29718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c136"/>
                </a:solidFill>
                <a:latin typeface="Arial"/>
              </a:rPr>
              <a:t>PIBG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3165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c136"/>
                </a:solidFill>
                <a:latin typeface="Arial"/>
              </a:rPr>
              <a:t>PIBG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01080" y="47815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c136"/>
                </a:solidFill>
                <a:latin typeface="Arial"/>
              </a:rPr>
              <a:t>PIBG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65120" y="3218040"/>
            <a:ext cx="2673360" cy="609480"/>
            <a:chOff x="1365120" y="3218040"/>
            <a:chExt cx="2673360" cy="609480"/>
          </a:xfrm>
        </p:grpSpPr>
        <p:grpSp>
          <p:nvGrpSpPr>
            <p:cNvPr id="143" name=""/>
            <p:cNvGrpSpPr/>
            <p:nvPr/>
          </p:nvGrpSpPr>
          <p:grpSpPr>
            <a:xfrm>
              <a:off x="1365120" y="3428640"/>
              <a:ext cx="380880" cy="250200"/>
              <a:chOff x="1365120" y="3428640"/>
              <a:chExt cx="380880" cy="250200"/>
            </a:xfrm>
          </p:grpSpPr>
          <p:sp>
            <p:nvSpPr>
              <p:cNvPr id="144" name=""/>
              <p:cNvSpPr/>
              <p:nvPr/>
            </p:nvSpPr>
            <p:spPr>
              <a:xfrm>
                <a:off x="1365120" y="3428640"/>
                <a:ext cx="380880" cy="2502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34960" y="3491280"/>
                <a:ext cx="244440" cy="1195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1400040" y="321804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3428640"/>
              <a:ext cx="213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PROV AMD GROUP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(RA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35812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bc136"/>
                  </a:solidFill>
                  <a:latin typeface="Arial"/>
                </a:rPr>
                <a:t>PIBG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514520" y="4282920"/>
            <a:ext cx="131760" cy="64800"/>
            <a:chOff x="1514520" y="4282920"/>
            <a:chExt cx="131760" cy="64800"/>
          </a:xfrm>
        </p:grpSpPr>
        <p:sp>
          <p:nvSpPr>
            <p:cNvPr id="150" name=""/>
            <p:cNvSpPr/>
            <p:nvPr/>
          </p:nvSpPr>
          <p:spPr>
            <a:xfrm>
              <a:off x="1581480" y="42843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514520" y="4282920"/>
              <a:ext cx="131760" cy="64800"/>
              <a:chOff x="1514520" y="4282920"/>
              <a:chExt cx="131760" cy="64800"/>
            </a:xfrm>
          </p:grpSpPr>
          <p:sp>
            <p:nvSpPr>
              <p:cNvPr id="152" name=""/>
              <p:cNvSpPr/>
              <p:nvPr/>
            </p:nvSpPr>
            <p:spPr>
              <a:xfrm>
                <a:off x="1514520" y="4284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646280" y="4282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365120" y="3879720"/>
            <a:ext cx="380880" cy="228240"/>
            <a:chOff x="1365120" y="3879720"/>
            <a:chExt cx="380880" cy="228240"/>
          </a:xfrm>
        </p:grpSpPr>
        <p:sp>
          <p:nvSpPr>
            <p:cNvPr id="155" name=""/>
            <p:cNvSpPr/>
            <p:nvPr/>
          </p:nvSpPr>
          <p:spPr>
            <a:xfrm>
              <a:off x="1365120" y="3879720"/>
              <a:ext cx="380880" cy="228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365120" y="3879720"/>
              <a:ext cx="378360" cy="2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06600" y="3792600"/>
            <a:ext cx="131760" cy="64800"/>
            <a:chOff x="1506600" y="3792600"/>
            <a:chExt cx="131760" cy="64800"/>
          </a:xfrm>
        </p:grpSpPr>
        <p:sp>
          <p:nvSpPr>
            <p:cNvPr id="158" name=""/>
            <p:cNvSpPr/>
            <p:nvPr/>
          </p:nvSpPr>
          <p:spPr>
            <a:xfrm>
              <a:off x="1573560" y="37940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506600" y="3792600"/>
              <a:ext cx="131760" cy="64800"/>
              <a:chOff x="1506600" y="3792600"/>
              <a:chExt cx="131760" cy="64800"/>
            </a:xfrm>
          </p:grpSpPr>
          <p:sp>
            <p:nvSpPr>
              <p:cNvPr id="160" name=""/>
              <p:cNvSpPr/>
              <p:nvPr/>
            </p:nvSpPr>
            <p:spPr>
              <a:xfrm>
                <a:off x="1506600" y="3794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638360" y="37926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1895400" y="3855960"/>
            <a:ext cx="176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CAV (PS)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T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0320" y="4008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c136"/>
                </a:solidFill>
                <a:latin typeface="Arial"/>
              </a:rPr>
              <a:t>PIBG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00040" y="4359240"/>
            <a:ext cx="380880" cy="258480"/>
            <a:chOff x="1400040" y="4359240"/>
            <a:chExt cx="380880" cy="258480"/>
          </a:xfrm>
        </p:grpSpPr>
        <p:sp>
          <p:nvSpPr>
            <p:cNvPr id="165" name=""/>
            <p:cNvSpPr/>
            <p:nvPr/>
          </p:nvSpPr>
          <p:spPr>
            <a:xfrm>
              <a:off x="1400040" y="4359240"/>
              <a:ext cx="380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404000" y="4363200"/>
              <a:ext cx="371160" cy="2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00040" y="4363200"/>
              <a:ext cx="37908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905120" y="435456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MARINES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TN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45640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c136"/>
                </a:solidFill>
                <a:latin typeface="Arial"/>
              </a:rPr>
              <a:t>PIBG-14(under review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98600" y="4800600"/>
            <a:ext cx="495000" cy="258480"/>
            <a:chOff x="1398600" y="4800600"/>
            <a:chExt cx="495000" cy="258480"/>
          </a:xfrm>
        </p:grpSpPr>
        <p:sp>
          <p:nvSpPr>
            <p:cNvPr id="171" name=""/>
            <p:cNvSpPr/>
            <p:nvPr/>
          </p:nvSpPr>
          <p:spPr>
            <a:xfrm>
              <a:off x="1398600" y="4800600"/>
              <a:ext cx="49500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403640" y="4804560"/>
              <a:ext cx="482400" cy="2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98600" y="4804560"/>
              <a:ext cx="49284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523880" y="4724280"/>
            <a:ext cx="171000" cy="64800"/>
            <a:chOff x="1523880" y="4724280"/>
            <a:chExt cx="171000" cy="64800"/>
          </a:xfrm>
        </p:grpSpPr>
        <p:sp>
          <p:nvSpPr>
            <p:cNvPr id="175" name=""/>
            <p:cNvSpPr/>
            <p:nvPr/>
          </p:nvSpPr>
          <p:spPr>
            <a:xfrm>
              <a:off x="1611000" y="4725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523880" y="4724280"/>
              <a:ext cx="171000" cy="64800"/>
              <a:chOff x="1523880" y="4724280"/>
              <a:chExt cx="171000" cy="64800"/>
            </a:xfrm>
          </p:grpSpPr>
          <p:sp>
            <p:nvSpPr>
              <p:cNvPr id="177" name=""/>
              <p:cNvSpPr/>
              <p:nvPr/>
            </p:nvSpPr>
            <p:spPr>
              <a:xfrm>
                <a:off x="1523880" y="4725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94880" y="4724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1905120" y="480384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REGT (PS) (-)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TN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5027760"/>
            <a:ext cx="8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bc136"/>
                </a:solidFill>
                <a:latin typeface="Arial"/>
              </a:rPr>
              <a:t>PIBG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11200" y="5283360"/>
            <a:ext cx="2017800" cy="460440"/>
            <a:chOff x="1411200" y="5283360"/>
            <a:chExt cx="2017800" cy="460440"/>
          </a:xfrm>
        </p:grpSpPr>
        <p:grpSp>
          <p:nvGrpSpPr>
            <p:cNvPr id="182" name=""/>
            <p:cNvGrpSpPr/>
            <p:nvPr/>
          </p:nvGrpSpPr>
          <p:grpSpPr>
            <a:xfrm>
              <a:off x="1411200" y="5346720"/>
              <a:ext cx="380880" cy="232920"/>
              <a:chOff x="1411200" y="5346720"/>
              <a:chExt cx="380880" cy="232920"/>
            </a:xfrm>
          </p:grpSpPr>
          <p:sp>
            <p:nvSpPr>
              <p:cNvPr id="183" name=""/>
              <p:cNvSpPr/>
              <p:nvPr/>
            </p:nvSpPr>
            <p:spPr>
              <a:xfrm>
                <a:off x="1411200" y="5346720"/>
                <a:ext cx="380880" cy="232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64920" y="5428800"/>
                <a:ext cx="7560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1523880" y="5283360"/>
              <a:ext cx="131760" cy="64800"/>
              <a:chOff x="1523880" y="5283360"/>
              <a:chExt cx="131760" cy="64800"/>
            </a:xfrm>
          </p:grpSpPr>
          <p:sp>
            <p:nvSpPr>
              <p:cNvPr id="186" name=""/>
              <p:cNvSpPr/>
              <p:nvPr/>
            </p:nvSpPr>
            <p:spPr>
              <a:xfrm>
                <a:off x="1590840" y="5284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1523880" y="5283360"/>
                <a:ext cx="131760" cy="64800"/>
                <a:chOff x="1523880" y="5283360"/>
                <a:chExt cx="131760" cy="64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523880" y="52848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655640" y="52833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"/>
            <p:cNvSpPr/>
            <p:nvPr/>
          </p:nvSpPr>
          <p:spPr>
            <a:xfrm>
              <a:off x="1905120" y="529740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1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FA (PS)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(TN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09680" y="54975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bc136"/>
                  </a:solidFill>
                  <a:latin typeface="Arial"/>
                </a:rPr>
                <a:t>PIFS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209680" y="6553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c136"/>
                </a:solidFill>
                <a:latin typeface="Times New Roman"/>
              </a:rPr>
              <a:t>PIFS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11200" y="5850000"/>
            <a:ext cx="2017800" cy="460440"/>
            <a:chOff x="1411200" y="5850000"/>
            <a:chExt cx="2017800" cy="460440"/>
          </a:xfrm>
        </p:grpSpPr>
        <p:grpSp>
          <p:nvGrpSpPr>
            <p:cNvPr id="194" name=""/>
            <p:cNvGrpSpPr/>
            <p:nvPr/>
          </p:nvGrpSpPr>
          <p:grpSpPr>
            <a:xfrm>
              <a:off x="1411200" y="5913360"/>
              <a:ext cx="380880" cy="232920"/>
              <a:chOff x="1411200" y="5913360"/>
              <a:chExt cx="380880" cy="232920"/>
            </a:xfrm>
          </p:grpSpPr>
          <p:sp>
            <p:nvSpPr>
              <p:cNvPr id="195" name=""/>
              <p:cNvSpPr/>
              <p:nvPr/>
            </p:nvSpPr>
            <p:spPr>
              <a:xfrm>
                <a:off x="1411200" y="5913360"/>
                <a:ext cx="380880" cy="232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564920" y="5995440"/>
                <a:ext cx="7560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523880" y="5850000"/>
              <a:ext cx="131760" cy="64800"/>
              <a:chOff x="1523880" y="5850000"/>
              <a:chExt cx="131760" cy="64800"/>
            </a:xfrm>
          </p:grpSpPr>
          <p:sp>
            <p:nvSpPr>
              <p:cNvPr id="198" name=""/>
              <p:cNvSpPr/>
              <p:nvPr/>
            </p:nvSpPr>
            <p:spPr>
              <a:xfrm>
                <a:off x="1590840" y="5851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1523880" y="5850000"/>
                <a:ext cx="131760" cy="64800"/>
                <a:chOff x="1523880" y="5850000"/>
                <a:chExt cx="131760" cy="648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523880" y="5851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655640" y="58500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" name=""/>
            <p:cNvSpPr/>
            <p:nvPr/>
          </p:nvSpPr>
          <p:spPr>
            <a:xfrm>
              <a:off x="1905120" y="586404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0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FA (PS)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(TN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9680" y="60642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bc136"/>
                  </a:solidFill>
                  <a:latin typeface="Arial"/>
                </a:rPr>
                <a:t>PIFS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1257120" y="5497560"/>
            <a:ext cx="18396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4864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 BG-01-&gt;BG-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3240" y="212040"/>
            <a:ext cx="1312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PIBattle Group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ilippin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 ARMY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TN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6840" y="852480"/>
            <a:ext cx="2633400" cy="4717440"/>
            <a:chOff x="96840" y="852480"/>
            <a:chExt cx="2633400" cy="4717440"/>
          </a:xfrm>
        </p:grpSpPr>
        <p:sp>
          <p:nvSpPr>
            <p:cNvPr id="208" name=""/>
            <p:cNvSpPr/>
            <p:nvPr/>
          </p:nvSpPr>
          <p:spPr>
            <a:xfrm>
              <a:off x="817560" y="1951920"/>
              <a:ext cx="105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71560" y="2282040"/>
              <a:ext cx="57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BG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3400" y="2166120"/>
              <a:ext cx="171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US Inf Reg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7680" y="2286000"/>
              <a:ext cx="1983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57040" y="1190160"/>
              <a:ext cx="1834920" cy="690120"/>
              <a:chOff x="257040" y="1190160"/>
              <a:chExt cx="1834920" cy="690120"/>
            </a:xfrm>
          </p:grpSpPr>
          <p:sp>
            <p:nvSpPr>
              <p:cNvPr id="213" name=""/>
              <p:cNvSpPr/>
              <p:nvPr/>
            </p:nvSpPr>
            <p:spPr>
              <a:xfrm>
                <a:off x="257040" y="1401480"/>
                <a:ext cx="289080" cy="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541440" y="1190160"/>
                <a:ext cx="1550520" cy="690120"/>
                <a:chOff x="541440" y="1190160"/>
                <a:chExt cx="1550520" cy="69012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541440" y="1627200"/>
                  <a:ext cx="231840" cy="235080"/>
                  <a:chOff x="541440" y="1627200"/>
                  <a:chExt cx="231840" cy="235080"/>
                </a:xfrm>
              </p:grpSpPr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541440" y="1671840"/>
                    <a:ext cx="231840" cy="190440"/>
                    <a:chOff x="541440" y="1671840"/>
                    <a:chExt cx="231840" cy="19044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41440" y="167184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52600" y="18352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733680" y="18352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0" name=""/>
                  <p:cNvSpPr/>
                  <p:nvPr/>
                </p:nvSpPr>
                <p:spPr>
                  <a:xfrm>
                    <a:off x="642960" y="16272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546120" y="1276560"/>
                  <a:ext cx="231840" cy="210600"/>
                  <a:chOff x="546120" y="1276560"/>
                  <a:chExt cx="231840" cy="210600"/>
                </a:xfrm>
              </p:grpSpPr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546120" y="1330200"/>
                    <a:ext cx="231840" cy="156960"/>
                    <a:chOff x="546120" y="1330200"/>
                    <a:chExt cx="231840" cy="1569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46120" y="133020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571680" y="1352160"/>
                      <a:ext cx="183960" cy="11088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5" name=""/>
                  <p:cNvSpPr/>
                  <p:nvPr/>
                </p:nvSpPr>
                <p:spPr>
                  <a:xfrm>
                    <a:off x="648000" y="1276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832320" y="119016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32320" y="147744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74080" y="1325160"/>
                  <a:ext cx="1211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US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71920" y="1664640"/>
                  <a:ext cx="1220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Jeep            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2200" y="1487520"/>
                  <a:ext cx="0" cy="177840"/>
                </a:xfrm>
                <a:prstGeom prst="line">
                  <a:avLst/>
                </a:prstGeom>
                <a:ln w="190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817560" y="1951920"/>
              <a:ext cx="105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7040" y="1198440"/>
              <a:ext cx="6480" cy="404496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03040" y="852480"/>
              <a:ext cx="76320" cy="63360"/>
              <a:chOff x="203040" y="852480"/>
              <a:chExt cx="76320" cy="63360"/>
            </a:xfrm>
          </p:grpSpPr>
          <p:sp>
            <p:nvSpPr>
              <p:cNvPr id="234" name=""/>
              <p:cNvSpPr/>
              <p:nvPr/>
            </p:nvSpPr>
            <p:spPr>
              <a:xfrm>
                <a:off x="203040" y="852480"/>
                <a:ext cx="7632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03040" y="852480"/>
                <a:ext cx="7632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14280" y="852480"/>
              <a:ext cx="75960" cy="63360"/>
              <a:chOff x="314280" y="852480"/>
              <a:chExt cx="75960" cy="63360"/>
            </a:xfrm>
          </p:grpSpPr>
          <p:sp>
            <p:nvSpPr>
              <p:cNvPr id="237" name=""/>
              <p:cNvSpPr/>
              <p:nvPr/>
            </p:nvSpPr>
            <p:spPr>
              <a:xfrm>
                <a:off x="314280" y="852480"/>
                <a:ext cx="7596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314280" y="852480"/>
                <a:ext cx="7596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96840" y="984240"/>
              <a:ext cx="348840" cy="236160"/>
              <a:chOff x="96840" y="984240"/>
              <a:chExt cx="348840" cy="236160"/>
            </a:xfrm>
          </p:grpSpPr>
          <p:sp>
            <p:nvSpPr>
              <p:cNvPr id="240" name=""/>
              <p:cNvSpPr/>
              <p:nvPr/>
            </p:nvSpPr>
            <p:spPr>
              <a:xfrm>
                <a:off x="96840" y="984240"/>
                <a:ext cx="3488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100440" y="987840"/>
                <a:ext cx="3402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6840" y="987840"/>
                <a:ext cx="3474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46120" y="2112840"/>
              <a:ext cx="131760" cy="64800"/>
              <a:chOff x="546120" y="2112840"/>
              <a:chExt cx="131760" cy="64800"/>
            </a:xfrm>
          </p:grpSpPr>
          <p:sp>
            <p:nvSpPr>
              <p:cNvPr id="244" name=""/>
              <p:cNvSpPr/>
              <p:nvPr/>
            </p:nvSpPr>
            <p:spPr>
              <a:xfrm>
                <a:off x="613080" y="2114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546120" y="2112840"/>
                <a:ext cx="131760" cy="64800"/>
                <a:chOff x="546120" y="2112840"/>
                <a:chExt cx="131760" cy="648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46120" y="2114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77880" y="2112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455400" y="2174760"/>
              <a:ext cx="328320" cy="221760"/>
              <a:chOff x="455400" y="2174760"/>
              <a:chExt cx="328320" cy="221760"/>
            </a:xfrm>
          </p:grpSpPr>
          <p:sp>
            <p:nvSpPr>
              <p:cNvPr id="249" name=""/>
              <p:cNvSpPr/>
              <p:nvPr/>
            </p:nvSpPr>
            <p:spPr>
              <a:xfrm>
                <a:off x="455400" y="2174760"/>
                <a:ext cx="328320" cy="2217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58640" y="2177640"/>
                <a:ext cx="32004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5400" y="2178000"/>
                <a:ext cx="326880" cy="21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79360" y="2587680"/>
              <a:ext cx="2257200" cy="416520"/>
              <a:chOff x="279360" y="2587680"/>
              <a:chExt cx="2257200" cy="41652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279360" y="2587680"/>
                <a:ext cx="1224720" cy="416520"/>
                <a:chOff x="279360" y="2587680"/>
                <a:chExt cx="1224720" cy="4165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79360" y="2760840"/>
                  <a:ext cx="237600" cy="0"/>
                </a:xfrm>
                <a:prstGeom prst="line">
                  <a:avLst/>
                </a:prstGeom>
                <a:ln w="190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927000" y="2788560"/>
                  <a:ext cx="577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99cc00"/>
                      </a:solidFill>
                      <a:latin typeface="Arial"/>
                    </a:rPr>
                    <a:t>PIBG-0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570960" y="2587680"/>
                  <a:ext cx="131400" cy="64800"/>
                  <a:chOff x="570960" y="2587680"/>
                  <a:chExt cx="131400" cy="648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637560" y="2589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570960" y="2587680"/>
                    <a:ext cx="131400" cy="64800"/>
                    <a:chOff x="570960" y="2587680"/>
                    <a:chExt cx="131400" cy="6480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570960" y="25891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702360" y="25876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480600" y="2649600"/>
                  <a:ext cx="327960" cy="221760"/>
                  <a:chOff x="480600" y="2649600"/>
                  <a:chExt cx="327960" cy="22176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480600" y="2649600"/>
                    <a:ext cx="327960" cy="2217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83840" y="2652480"/>
                    <a:ext cx="319680" cy="21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80600" y="2652840"/>
                    <a:ext cx="326520" cy="211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5" name=""/>
              <p:cNvSpPr/>
              <p:nvPr/>
            </p:nvSpPr>
            <p:spPr>
              <a:xfrm>
                <a:off x="817560" y="2604240"/>
                <a:ext cx="1719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5th (PS) Inf Reg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279360" y="3240000"/>
              <a:ext cx="2379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27000" y="3268080"/>
              <a:ext cx="57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BG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571320" y="3066840"/>
              <a:ext cx="131760" cy="64800"/>
              <a:chOff x="571320" y="3066840"/>
              <a:chExt cx="131760" cy="64800"/>
            </a:xfrm>
          </p:grpSpPr>
          <p:sp>
            <p:nvSpPr>
              <p:cNvPr id="269" name=""/>
              <p:cNvSpPr/>
              <p:nvPr/>
            </p:nvSpPr>
            <p:spPr>
              <a:xfrm>
                <a:off x="638280" y="3068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571320" y="3066840"/>
                <a:ext cx="131760" cy="64800"/>
                <a:chOff x="571320" y="3066840"/>
                <a:chExt cx="131760" cy="648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71320" y="3068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03080" y="3066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480960" y="3128760"/>
              <a:ext cx="328320" cy="222120"/>
              <a:chOff x="480960" y="3128760"/>
              <a:chExt cx="328320" cy="222120"/>
            </a:xfrm>
          </p:grpSpPr>
          <p:sp>
            <p:nvSpPr>
              <p:cNvPr id="274" name=""/>
              <p:cNvSpPr/>
              <p:nvPr/>
            </p:nvSpPr>
            <p:spPr>
              <a:xfrm>
                <a:off x="480960" y="3128760"/>
                <a:ext cx="328320" cy="222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484200" y="3132000"/>
                <a:ext cx="32004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0960" y="3132000"/>
                <a:ext cx="326880" cy="21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817560" y="3083760"/>
              <a:ext cx="171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7th (PS) Inf Reg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500040" y="3716280"/>
              <a:ext cx="329760" cy="220320"/>
              <a:chOff x="500040" y="3716280"/>
              <a:chExt cx="329760" cy="220320"/>
            </a:xfrm>
          </p:grpSpPr>
          <p:sp>
            <p:nvSpPr>
              <p:cNvPr id="279" name=""/>
              <p:cNvSpPr/>
              <p:nvPr/>
            </p:nvSpPr>
            <p:spPr>
              <a:xfrm>
                <a:off x="500040" y="3716280"/>
                <a:ext cx="329760" cy="220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33240" y="3793680"/>
                <a:ext cx="6552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81040" y="3638520"/>
              <a:ext cx="131760" cy="64800"/>
              <a:chOff x="581040" y="3638520"/>
              <a:chExt cx="131760" cy="64800"/>
            </a:xfrm>
          </p:grpSpPr>
          <p:sp>
            <p:nvSpPr>
              <p:cNvPr id="282" name=""/>
              <p:cNvSpPr/>
              <p:nvPr/>
            </p:nvSpPr>
            <p:spPr>
              <a:xfrm>
                <a:off x="648000" y="3639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581040" y="3638520"/>
                <a:ext cx="131760" cy="64800"/>
                <a:chOff x="581040" y="3638520"/>
                <a:chExt cx="131760" cy="64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1040" y="3639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12800" y="3638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6" name=""/>
            <p:cNvSpPr/>
            <p:nvPr/>
          </p:nvSpPr>
          <p:spPr>
            <a:xfrm>
              <a:off x="271440" y="3814560"/>
              <a:ext cx="2379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11240" y="3702960"/>
              <a:ext cx="171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4th (PS) F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753840" y="4135320"/>
              <a:ext cx="231840" cy="157320"/>
              <a:chOff x="753840" y="4135320"/>
              <a:chExt cx="231840" cy="15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753840" y="4135320"/>
                <a:ext cx="23184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7440" y="419076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761760" y="4478400"/>
              <a:ext cx="231840" cy="156960"/>
              <a:chOff x="761760" y="4478400"/>
              <a:chExt cx="231840" cy="156960"/>
            </a:xfrm>
          </p:grpSpPr>
          <p:sp>
            <p:nvSpPr>
              <p:cNvPr id="292" name=""/>
              <p:cNvSpPr/>
              <p:nvPr/>
            </p:nvSpPr>
            <p:spPr>
              <a:xfrm>
                <a:off x="761760" y="447840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55360" y="453348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72920" y="4795920"/>
              <a:ext cx="231840" cy="156960"/>
              <a:chOff x="772920" y="4795920"/>
              <a:chExt cx="231840" cy="156960"/>
            </a:xfrm>
          </p:grpSpPr>
          <p:sp>
            <p:nvSpPr>
              <p:cNvPr id="295" name=""/>
              <p:cNvSpPr/>
              <p:nvPr/>
            </p:nvSpPr>
            <p:spPr>
              <a:xfrm>
                <a:off x="772920" y="479592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66520" y="485100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22000" y="5143320"/>
              <a:ext cx="295200" cy="220320"/>
              <a:chOff x="522000" y="5143320"/>
              <a:chExt cx="295200" cy="220320"/>
            </a:xfrm>
          </p:grpSpPr>
          <p:sp>
            <p:nvSpPr>
              <p:cNvPr id="298" name=""/>
              <p:cNvSpPr/>
              <p:nvPr/>
            </p:nvSpPr>
            <p:spPr>
              <a:xfrm>
                <a:off x="522000" y="5143320"/>
                <a:ext cx="295200" cy="220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41160" y="5220720"/>
                <a:ext cx="5868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647640" y="3941640"/>
              <a:ext cx="0" cy="933480"/>
            </a:xfrm>
            <a:prstGeom prst="line">
              <a:avLst/>
            </a:prstGeom>
            <a:ln w="1908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47280" y="4206960"/>
              <a:ext cx="106200" cy="0"/>
            </a:xfrm>
            <a:prstGeom prst="line">
              <a:avLst/>
            </a:prstGeom>
            <a:ln w="936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37920" y="4567320"/>
              <a:ext cx="123840" cy="0"/>
            </a:xfrm>
            <a:prstGeom prst="line">
              <a:avLst/>
            </a:prstGeom>
            <a:ln w="936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47280" y="4865760"/>
              <a:ext cx="136440" cy="0"/>
            </a:xfrm>
            <a:prstGeom prst="line">
              <a:avLst/>
            </a:prstGeom>
            <a:ln w="936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9000" y="5243400"/>
              <a:ext cx="261720" cy="0"/>
            </a:xfrm>
            <a:prstGeom prst="line">
              <a:avLst/>
            </a:prstGeom>
            <a:ln w="1908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63520" y="4032720"/>
              <a:ext cx="1150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/24th (PS) F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FS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04760" y="5169240"/>
              <a:ext cx="1150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/23th (PS) F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FS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63520" y="4461480"/>
              <a:ext cx="1150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/24th (PS) F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FS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63520" y="4777200"/>
              <a:ext cx="1150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/24th (PS) F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FS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346480" y="208440"/>
            <a:ext cx="19792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PIBattle Group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ular Divis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ilippine Ar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RAW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346480" y="932040"/>
            <a:ext cx="2455200" cy="4032000"/>
            <a:chOff x="2346480" y="932040"/>
            <a:chExt cx="2455200" cy="4032000"/>
          </a:xfrm>
        </p:grpSpPr>
        <p:sp>
          <p:nvSpPr>
            <p:cNvPr id="311" name=""/>
            <p:cNvSpPr/>
            <p:nvPr/>
          </p:nvSpPr>
          <p:spPr>
            <a:xfrm>
              <a:off x="3066840" y="2031480"/>
              <a:ext cx="105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1200" y="2361600"/>
              <a:ext cx="57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BG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82680" y="2245680"/>
              <a:ext cx="171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st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Reg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96960" y="2365560"/>
              <a:ext cx="1983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506680" y="1269720"/>
              <a:ext cx="1833840" cy="690120"/>
              <a:chOff x="2506680" y="1269720"/>
              <a:chExt cx="1833840" cy="690120"/>
            </a:xfrm>
          </p:grpSpPr>
          <p:sp>
            <p:nvSpPr>
              <p:cNvPr id="316" name=""/>
              <p:cNvSpPr/>
              <p:nvPr/>
            </p:nvSpPr>
            <p:spPr>
              <a:xfrm>
                <a:off x="2506680" y="1481040"/>
                <a:ext cx="288720" cy="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790720" y="1269720"/>
                <a:ext cx="1549800" cy="690120"/>
                <a:chOff x="2790720" y="1269720"/>
                <a:chExt cx="1549800" cy="69012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2790720" y="1706760"/>
                  <a:ext cx="231480" cy="235080"/>
                  <a:chOff x="2790720" y="1706760"/>
                  <a:chExt cx="231480" cy="235080"/>
                </a:xfrm>
              </p:grpSpPr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2790720" y="1751400"/>
                    <a:ext cx="231480" cy="190440"/>
                    <a:chOff x="2790720" y="1751400"/>
                    <a:chExt cx="231480" cy="1904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2790720" y="1751400"/>
                      <a:ext cx="23148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2801520" y="191484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2982600" y="191484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3" name=""/>
                  <p:cNvSpPr/>
                  <p:nvPr/>
                </p:nvSpPr>
                <p:spPr>
                  <a:xfrm>
                    <a:off x="2891880" y="17067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2795040" y="1356120"/>
                  <a:ext cx="231480" cy="210600"/>
                  <a:chOff x="2795040" y="1356120"/>
                  <a:chExt cx="231480" cy="21060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2795040" y="1409760"/>
                    <a:ext cx="231480" cy="156960"/>
                    <a:chOff x="2795040" y="1409760"/>
                    <a:chExt cx="231480" cy="1569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795040" y="1409760"/>
                      <a:ext cx="23148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2820240" y="1431720"/>
                      <a:ext cx="183600" cy="11088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2896560" y="13561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3080880" y="126972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081240" y="155700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122640" y="1404720"/>
                  <a:ext cx="1211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US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120480" y="1744200"/>
                  <a:ext cx="1220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Jeep            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841120" y="1567080"/>
                  <a:ext cx="0" cy="177840"/>
                </a:xfrm>
                <a:prstGeom prst="line">
                  <a:avLst/>
                </a:prstGeom>
                <a:ln w="190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" name=""/>
            <p:cNvSpPr/>
            <p:nvPr/>
          </p:nvSpPr>
          <p:spPr>
            <a:xfrm>
              <a:off x="3066840" y="2031480"/>
              <a:ext cx="105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06680" y="1303200"/>
              <a:ext cx="0" cy="202248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2452680" y="932040"/>
              <a:ext cx="75600" cy="63360"/>
              <a:chOff x="2452680" y="932040"/>
              <a:chExt cx="75600" cy="63360"/>
            </a:xfrm>
          </p:grpSpPr>
          <p:sp>
            <p:nvSpPr>
              <p:cNvPr id="337" name=""/>
              <p:cNvSpPr/>
              <p:nvPr/>
            </p:nvSpPr>
            <p:spPr>
              <a:xfrm>
                <a:off x="2452680" y="932040"/>
                <a:ext cx="7560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2452680" y="932040"/>
                <a:ext cx="7560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2563560" y="932040"/>
              <a:ext cx="75960" cy="63360"/>
              <a:chOff x="2563560" y="932040"/>
              <a:chExt cx="75960" cy="63360"/>
            </a:xfrm>
          </p:grpSpPr>
          <p:sp>
            <p:nvSpPr>
              <p:cNvPr id="340" name=""/>
              <p:cNvSpPr/>
              <p:nvPr/>
            </p:nvSpPr>
            <p:spPr>
              <a:xfrm>
                <a:off x="2563560" y="932040"/>
                <a:ext cx="7596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2563560" y="932040"/>
                <a:ext cx="7596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2346480" y="1063800"/>
              <a:ext cx="348840" cy="236160"/>
              <a:chOff x="2346480" y="1063800"/>
              <a:chExt cx="348840" cy="236160"/>
            </a:xfrm>
          </p:grpSpPr>
          <p:sp>
            <p:nvSpPr>
              <p:cNvPr id="343" name=""/>
              <p:cNvSpPr/>
              <p:nvPr/>
            </p:nvSpPr>
            <p:spPr>
              <a:xfrm>
                <a:off x="2346480" y="1063800"/>
                <a:ext cx="3488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2350080" y="1067400"/>
                <a:ext cx="3402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46480" y="1067400"/>
                <a:ext cx="3474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795400" y="2192400"/>
              <a:ext cx="131400" cy="64800"/>
              <a:chOff x="2795400" y="2192400"/>
              <a:chExt cx="131400" cy="64800"/>
            </a:xfrm>
          </p:grpSpPr>
          <p:sp>
            <p:nvSpPr>
              <p:cNvPr id="347" name=""/>
              <p:cNvSpPr/>
              <p:nvPr/>
            </p:nvSpPr>
            <p:spPr>
              <a:xfrm>
                <a:off x="2862000" y="2193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795400" y="2192400"/>
                <a:ext cx="131400" cy="64800"/>
                <a:chOff x="2795400" y="2192400"/>
                <a:chExt cx="131400" cy="648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795400" y="2193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26800" y="2192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2705040" y="2254320"/>
              <a:ext cx="327960" cy="221760"/>
              <a:chOff x="2705040" y="2254320"/>
              <a:chExt cx="327960" cy="221760"/>
            </a:xfrm>
          </p:grpSpPr>
          <p:sp>
            <p:nvSpPr>
              <p:cNvPr id="352" name=""/>
              <p:cNvSpPr/>
              <p:nvPr/>
            </p:nvSpPr>
            <p:spPr>
              <a:xfrm>
                <a:off x="2705040" y="2254320"/>
                <a:ext cx="327960" cy="2217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708280" y="2257200"/>
                <a:ext cx="31968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05040" y="2257560"/>
                <a:ext cx="326520" cy="21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2528640" y="2666880"/>
              <a:ext cx="2257200" cy="416520"/>
              <a:chOff x="2528640" y="2666880"/>
              <a:chExt cx="2257200" cy="41652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2528640" y="2666880"/>
                <a:ext cx="1224720" cy="416520"/>
                <a:chOff x="2528640" y="2666880"/>
                <a:chExt cx="1224720" cy="4165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528640" y="2840040"/>
                  <a:ext cx="237600" cy="0"/>
                </a:xfrm>
                <a:prstGeom prst="line">
                  <a:avLst/>
                </a:prstGeom>
                <a:ln w="190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176280" y="2867760"/>
                  <a:ext cx="577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99cc00"/>
                      </a:solidFill>
                      <a:latin typeface="Arial"/>
                    </a:rPr>
                    <a:t>PIBG-0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9" name=""/>
                <p:cNvGrpSpPr/>
                <p:nvPr/>
              </p:nvGrpSpPr>
              <p:grpSpPr>
                <a:xfrm>
                  <a:off x="2820240" y="2666880"/>
                  <a:ext cx="131400" cy="64800"/>
                  <a:chOff x="2820240" y="2666880"/>
                  <a:chExt cx="131400" cy="648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2886840" y="26683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2820240" y="2666880"/>
                    <a:ext cx="131400" cy="64800"/>
                    <a:chOff x="2820240" y="2666880"/>
                    <a:chExt cx="131400" cy="6480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2820240" y="26683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2951640" y="26668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729880" y="2728800"/>
                  <a:ext cx="327960" cy="221760"/>
                  <a:chOff x="2729880" y="2728800"/>
                  <a:chExt cx="327960" cy="22176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2729880" y="2728800"/>
                    <a:ext cx="327960" cy="2217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V="1">
                    <a:off x="2733120" y="2731680"/>
                    <a:ext cx="319680" cy="21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729880" y="2732040"/>
                    <a:ext cx="326520" cy="211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8" name=""/>
              <p:cNvSpPr/>
              <p:nvPr/>
            </p:nvSpPr>
            <p:spPr>
              <a:xfrm>
                <a:off x="3066840" y="2683440"/>
                <a:ext cx="1719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800" spc="-1" strike="noStrike" baseline="30000">
                    <a:solidFill>
                      <a:srgbClr val="000000"/>
                    </a:solidFill>
                    <a:latin typeface="Arial"/>
                  </a:rPr>
                  <a:t>nd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Reg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528640" y="3319560"/>
              <a:ext cx="2379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76640" y="3347280"/>
              <a:ext cx="57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BG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2820960" y="3146400"/>
              <a:ext cx="131400" cy="64800"/>
              <a:chOff x="2820960" y="3146400"/>
              <a:chExt cx="131400" cy="64800"/>
            </a:xfrm>
          </p:grpSpPr>
          <p:sp>
            <p:nvSpPr>
              <p:cNvPr id="372" name=""/>
              <p:cNvSpPr/>
              <p:nvPr/>
            </p:nvSpPr>
            <p:spPr>
              <a:xfrm>
                <a:off x="2887560" y="3147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2820960" y="3146400"/>
                <a:ext cx="131400" cy="64800"/>
                <a:chOff x="2820960" y="3146400"/>
                <a:chExt cx="131400" cy="648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2820960" y="3147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952360" y="31464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2730600" y="3208320"/>
              <a:ext cx="327600" cy="221760"/>
              <a:chOff x="2730600" y="3208320"/>
              <a:chExt cx="327600" cy="221760"/>
            </a:xfrm>
          </p:grpSpPr>
          <p:sp>
            <p:nvSpPr>
              <p:cNvPr id="377" name=""/>
              <p:cNvSpPr/>
              <p:nvPr/>
            </p:nvSpPr>
            <p:spPr>
              <a:xfrm>
                <a:off x="2730600" y="3208320"/>
                <a:ext cx="327600" cy="2217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2733840" y="3211200"/>
                <a:ext cx="31932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730600" y="3211560"/>
                <a:ext cx="326160" cy="21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3066840" y="3163320"/>
              <a:ext cx="171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rd  Reg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52680" y="4076640"/>
              <a:ext cx="234900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ote 1: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Reg Div, PA  had Reg Inf Regts, while 2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Div had PC Regts. There seems little difference between th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ote 2: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No Artillery was on the establishment. Some were attached once the divisions reached Bataa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5181480" y="349560"/>
            <a:ext cx="19796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10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PIBattle Grou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erve divisions 11-1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ilippine Army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RAW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967280" y="925560"/>
            <a:ext cx="2633760" cy="4897440"/>
            <a:chOff x="4967280" y="925560"/>
            <a:chExt cx="2633760" cy="4897440"/>
          </a:xfrm>
        </p:grpSpPr>
        <p:sp>
          <p:nvSpPr>
            <p:cNvPr id="384" name=""/>
            <p:cNvSpPr/>
            <p:nvPr/>
          </p:nvSpPr>
          <p:spPr>
            <a:xfrm>
              <a:off x="5688000" y="2025000"/>
              <a:ext cx="105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42360" y="2355120"/>
              <a:ext cx="57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BG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03840" y="2239200"/>
              <a:ext cx="171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 Res Inf Reg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18120" y="2359080"/>
              <a:ext cx="1983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127480" y="1263240"/>
              <a:ext cx="1834920" cy="690120"/>
              <a:chOff x="5127480" y="1263240"/>
              <a:chExt cx="1834920" cy="690120"/>
            </a:xfrm>
          </p:grpSpPr>
          <p:sp>
            <p:nvSpPr>
              <p:cNvPr id="389" name=""/>
              <p:cNvSpPr/>
              <p:nvPr/>
            </p:nvSpPr>
            <p:spPr>
              <a:xfrm>
                <a:off x="5127480" y="1474560"/>
                <a:ext cx="289080" cy="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5411880" y="1263240"/>
                <a:ext cx="1550520" cy="690120"/>
                <a:chOff x="5411880" y="1263240"/>
                <a:chExt cx="1550520" cy="69012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5411880" y="1700280"/>
                  <a:ext cx="231840" cy="235080"/>
                  <a:chOff x="5411880" y="1700280"/>
                  <a:chExt cx="231840" cy="235080"/>
                </a:xfrm>
              </p:grpSpPr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5411880" y="1744920"/>
                    <a:ext cx="231840" cy="190440"/>
                    <a:chOff x="5411880" y="1744920"/>
                    <a:chExt cx="231840" cy="19044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5411880" y="174492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5423040" y="19083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604120" y="19083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6" name=""/>
                  <p:cNvSpPr/>
                  <p:nvPr/>
                </p:nvSpPr>
                <p:spPr>
                  <a:xfrm>
                    <a:off x="5513400" y="17002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5416560" y="1349640"/>
                  <a:ext cx="231840" cy="210600"/>
                  <a:chOff x="5416560" y="1349640"/>
                  <a:chExt cx="231840" cy="21060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5416560" y="1403280"/>
                    <a:ext cx="231840" cy="156960"/>
                    <a:chOff x="5416560" y="1403280"/>
                    <a:chExt cx="231840" cy="156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5416560" y="140328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5442120" y="1425240"/>
                      <a:ext cx="183960" cy="11088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1" name=""/>
                  <p:cNvSpPr/>
                  <p:nvPr/>
                </p:nvSpPr>
                <p:spPr>
                  <a:xfrm>
                    <a:off x="5518440" y="13496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5702760" y="126324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702760" y="155052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4520" y="1398240"/>
                  <a:ext cx="1211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US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742360" y="1737720"/>
                  <a:ext cx="1220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Jeep            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462640" y="1560600"/>
                  <a:ext cx="0" cy="177840"/>
                </a:xfrm>
                <a:prstGeom prst="line">
                  <a:avLst/>
                </a:prstGeom>
                <a:ln w="190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7" name=""/>
            <p:cNvSpPr/>
            <p:nvPr/>
          </p:nvSpPr>
          <p:spPr>
            <a:xfrm>
              <a:off x="5688000" y="2025000"/>
              <a:ext cx="105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18120" y="1303200"/>
              <a:ext cx="9360" cy="25844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5073480" y="925560"/>
              <a:ext cx="76320" cy="63360"/>
              <a:chOff x="5073480" y="925560"/>
              <a:chExt cx="76320" cy="63360"/>
            </a:xfrm>
          </p:grpSpPr>
          <p:sp>
            <p:nvSpPr>
              <p:cNvPr id="410" name=""/>
              <p:cNvSpPr/>
              <p:nvPr/>
            </p:nvSpPr>
            <p:spPr>
              <a:xfrm>
                <a:off x="5073480" y="925560"/>
                <a:ext cx="7632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073480" y="925560"/>
                <a:ext cx="7632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5184720" y="925560"/>
              <a:ext cx="76320" cy="63360"/>
              <a:chOff x="5184720" y="925560"/>
              <a:chExt cx="76320" cy="63360"/>
            </a:xfrm>
          </p:grpSpPr>
          <p:sp>
            <p:nvSpPr>
              <p:cNvPr id="413" name=""/>
              <p:cNvSpPr/>
              <p:nvPr/>
            </p:nvSpPr>
            <p:spPr>
              <a:xfrm>
                <a:off x="5184720" y="925560"/>
                <a:ext cx="7632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5184720" y="925560"/>
                <a:ext cx="76320" cy="6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967280" y="1057320"/>
              <a:ext cx="348840" cy="236160"/>
              <a:chOff x="4967280" y="1057320"/>
              <a:chExt cx="348840" cy="236160"/>
            </a:xfrm>
          </p:grpSpPr>
          <p:sp>
            <p:nvSpPr>
              <p:cNvPr id="416" name=""/>
              <p:cNvSpPr/>
              <p:nvPr/>
            </p:nvSpPr>
            <p:spPr>
              <a:xfrm>
                <a:off x="4967280" y="1057320"/>
                <a:ext cx="3488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4970880" y="1060920"/>
                <a:ext cx="3402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67280" y="1060920"/>
                <a:ext cx="3474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5416560" y="2185920"/>
              <a:ext cx="131760" cy="64800"/>
              <a:chOff x="5416560" y="2185920"/>
              <a:chExt cx="131760" cy="64800"/>
            </a:xfrm>
          </p:grpSpPr>
          <p:sp>
            <p:nvSpPr>
              <p:cNvPr id="420" name=""/>
              <p:cNvSpPr/>
              <p:nvPr/>
            </p:nvSpPr>
            <p:spPr>
              <a:xfrm>
                <a:off x="5483520" y="2187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5416560" y="2185920"/>
                <a:ext cx="131760" cy="64800"/>
                <a:chOff x="5416560" y="2185920"/>
                <a:chExt cx="131760" cy="648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416560" y="21873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548320" y="21859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4" name=""/>
            <p:cNvGrpSpPr/>
            <p:nvPr/>
          </p:nvGrpSpPr>
          <p:grpSpPr>
            <a:xfrm>
              <a:off x="5326200" y="2247840"/>
              <a:ext cx="327960" cy="222120"/>
              <a:chOff x="5326200" y="2247840"/>
              <a:chExt cx="327960" cy="222120"/>
            </a:xfrm>
          </p:grpSpPr>
          <p:sp>
            <p:nvSpPr>
              <p:cNvPr id="425" name=""/>
              <p:cNvSpPr/>
              <p:nvPr/>
            </p:nvSpPr>
            <p:spPr>
              <a:xfrm>
                <a:off x="5326200" y="2247840"/>
                <a:ext cx="327960" cy="222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5329440" y="2251080"/>
                <a:ext cx="31968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326200" y="2251080"/>
                <a:ext cx="326520" cy="21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149800" y="2660760"/>
              <a:ext cx="2257200" cy="416520"/>
              <a:chOff x="5149800" y="2660760"/>
              <a:chExt cx="2257200" cy="41652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5149800" y="2660760"/>
                <a:ext cx="1224720" cy="416520"/>
                <a:chOff x="5149800" y="2660760"/>
                <a:chExt cx="1224720" cy="4165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5149800" y="2833920"/>
                  <a:ext cx="237600" cy="0"/>
                </a:xfrm>
                <a:prstGeom prst="line">
                  <a:avLst/>
                </a:prstGeom>
                <a:ln w="190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797440" y="2861640"/>
                  <a:ext cx="577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99cc00"/>
                      </a:solidFill>
                      <a:latin typeface="Arial"/>
                    </a:rPr>
                    <a:t>PIBG-0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5441400" y="2660760"/>
                  <a:ext cx="131400" cy="64800"/>
                  <a:chOff x="5441400" y="2660760"/>
                  <a:chExt cx="131400" cy="6480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5508000" y="26622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5441400" y="2660760"/>
                    <a:ext cx="131400" cy="64800"/>
                    <a:chOff x="5441400" y="2660760"/>
                    <a:chExt cx="131400" cy="6480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5441400" y="26622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5572800" y="26607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5351040" y="2722680"/>
                  <a:ext cx="327960" cy="221760"/>
                  <a:chOff x="5351040" y="2722680"/>
                  <a:chExt cx="327960" cy="2217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5351040" y="2722680"/>
                    <a:ext cx="327960" cy="2217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V="1">
                    <a:off x="5354280" y="2725560"/>
                    <a:ext cx="319680" cy="21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351040" y="2725920"/>
                    <a:ext cx="326520" cy="211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1" name=""/>
              <p:cNvSpPr/>
              <p:nvPr/>
            </p:nvSpPr>
            <p:spPr>
              <a:xfrm>
                <a:off x="5688000" y="2677320"/>
                <a:ext cx="1719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A Res Inf Reg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5149800" y="3313080"/>
              <a:ext cx="2383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7800" y="3341160"/>
              <a:ext cx="57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BG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442120" y="3139920"/>
              <a:ext cx="131760" cy="64800"/>
              <a:chOff x="5442120" y="3139920"/>
              <a:chExt cx="131760" cy="64800"/>
            </a:xfrm>
          </p:grpSpPr>
          <p:sp>
            <p:nvSpPr>
              <p:cNvPr id="445" name=""/>
              <p:cNvSpPr/>
              <p:nvPr/>
            </p:nvSpPr>
            <p:spPr>
              <a:xfrm>
                <a:off x="5509080" y="31413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5442120" y="3139920"/>
                <a:ext cx="131760" cy="64800"/>
                <a:chOff x="5442120" y="3139920"/>
                <a:chExt cx="131760" cy="648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442120" y="31413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573880" y="31399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9" name=""/>
            <p:cNvGrpSpPr/>
            <p:nvPr/>
          </p:nvGrpSpPr>
          <p:grpSpPr>
            <a:xfrm>
              <a:off x="5351400" y="3201840"/>
              <a:ext cx="328320" cy="222120"/>
              <a:chOff x="5351400" y="3201840"/>
              <a:chExt cx="328320" cy="222120"/>
            </a:xfrm>
          </p:grpSpPr>
          <p:sp>
            <p:nvSpPr>
              <p:cNvPr id="450" name=""/>
              <p:cNvSpPr/>
              <p:nvPr/>
            </p:nvSpPr>
            <p:spPr>
              <a:xfrm>
                <a:off x="5351400" y="3201840"/>
                <a:ext cx="328320" cy="222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5354640" y="3205080"/>
                <a:ext cx="32004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351400" y="3205080"/>
                <a:ext cx="326880" cy="21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688000" y="3156840"/>
              <a:ext cx="171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 Res Inf Reg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5370480" y="3789360"/>
              <a:ext cx="329760" cy="220320"/>
              <a:chOff x="5370480" y="3789360"/>
              <a:chExt cx="329760" cy="220320"/>
            </a:xfrm>
          </p:grpSpPr>
          <p:sp>
            <p:nvSpPr>
              <p:cNvPr id="455" name=""/>
              <p:cNvSpPr/>
              <p:nvPr/>
            </p:nvSpPr>
            <p:spPr>
              <a:xfrm>
                <a:off x="5370480" y="3789360"/>
                <a:ext cx="329760" cy="220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03680" y="3866760"/>
                <a:ext cx="6552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451480" y="3711600"/>
              <a:ext cx="131760" cy="64800"/>
              <a:chOff x="5451480" y="3711600"/>
              <a:chExt cx="131760" cy="64800"/>
            </a:xfrm>
          </p:grpSpPr>
          <p:sp>
            <p:nvSpPr>
              <p:cNvPr id="458" name=""/>
              <p:cNvSpPr/>
              <p:nvPr/>
            </p:nvSpPr>
            <p:spPr>
              <a:xfrm>
                <a:off x="5518440" y="37130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5451480" y="3711600"/>
                <a:ext cx="131760" cy="64800"/>
                <a:chOff x="5451480" y="3711600"/>
                <a:chExt cx="131760" cy="6480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451480" y="37130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583240" y="3711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2" name=""/>
            <p:cNvSpPr/>
            <p:nvPr/>
          </p:nvSpPr>
          <p:spPr>
            <a:xfrm>
              <a:off x="5141880" y="3887640"/>
              <a:ext cx="2383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81680" y="3776040"/>
              <a:ext cx="171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v Artillery Reg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624640" y="4208400"/>
              <a:ext cx="231480" cy="157320"/>
              <a:chOff x="5624640" y="4208400"/>
              <a:chExt cx="231480" cy="157320"/>
            </a:xfrm>
          </p:grpSpPr>
          <p:sp>
            <p:nvSpPr>
              <p:cNvPr id="465" name=""/>
              <p:cNvSpPr/>
              <p:nvPr/>
            </p:nvSpPr>
            <p:spPr>
              <a:xfrm>
                <a:off x="5624640" y="4208400"/>
                <a:ext cx="23148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17880" y="426384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632560" y="4551480"/>
              <a:ext cx="231840" cy="156960"/>
              <a:chOff x="5632560" y="4551480"/>
              <a:chExt cx="231840" cy="156960"/>
            </a:xfrm>
          </p:grpSpPr>
          <p:sp>
            <p:nvSpPr>
              <p:cNvPr id="468" name=""/>
              <p:cNvSpPr/>
              <p:nvPr/>
            </p:nvSpPr>
            <p:spPr>
              <a:xfrm>
                <a:off x="5632560" y="4551480"/>
                <a:ext cx="23184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726160" y="460656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5643720" y="4869000"/>
              <a:ext cx="231480" cy="156960"/>
              <a:chOff x="5643720" y="4869000"/>
              <a:chExt cx="231480" cy="156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643720" y="4869000"/>
                <a:ext cx="23148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736960" y="492408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5518080" y="4014720"/>
              <a:ext cx="0" cy="933480"/>
            </a:xfrm>
            <a:prstGeom prst="line">
              <a:avLst/>
            </a:prstGeom>
            <a:ln w="1908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518080" y="4280040"/>
              <a:ext cx="106560" cy="0"/>
            </a:xfrm>
            <a:prstGeom prst="line">
              <a:avLst/>
            </a:prstGeom>
            <a:ln w="936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508720" y="4640400"/>
              <a:ext cx="123840" cy="0"/>
            </a:xfrm>
            <a:prstGeom prst="line">
              <a:avLst/>
            </a:prstGeom>
            <a:ln w="936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517720" y="4938840"/>
              <a:ext cx="136440" cy="0"/>
            </a:xfrm>
            <a:prstGeom prst="line">
              <a:avLst/>
            </a:prstGeom>
            <a:ln w="936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33960" y="4105800"/>
              <a:ext cx="1150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Bn, Div A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FS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33960" y="4534560"/>
              <a:ext cx="1150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Bn, Div A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FS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33960" y="4850280"/>
              <a:ext cx="1150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8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Bn, Div A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FS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84720" y="5364000"/>
              <a:ext cx="222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Not all  PA Res Divs had the full complement of artillery. See Initial notes for artillery strengths of each Divisio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5257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  BG-04-&gt;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87480" y="677880"/>
            <a:ext cx="347040" cy="306000"/>
            <a:chOff x="87480" y="677880"/>
            <a:chExt cx="347040" cy="306000"/>
          </a:xfrm>
        </p:grpSpPr>
        <p:grpSp>
          <p:nvGrpSpPr>
            <p:cNvPr id="483" name=""/>
            <p:cNvGrpSpPr/>
            <p:nvPr/>
          </p:nvGrpSpPr>
          <p:grpSpPr>
            <a:xfrm>
              <a:off x="87480" y="747720"/>
              <a:ext cx="347040" cy="236160"/>
              <a:chOff x="87480" y="747720"/>
              <a:chExt cx="347040" cy="236160"/>
            </a:xfrm>
          </p:grpSpPr>
          <p:sp>
            <p:nvSpPr>
              <p:cNvPr id="484" name=""/>
              <p:cNvSpPr/>
              <p:nvPr/>
            </p:nvSpPr>
            <p:spPr>
              <a:xfrm>
                <a:off x="87480" y="74772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91080" y="75132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7480" y="75132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95120" y="677880"/>
              <a:ext cx="131760" cy="63360"/>
              <a:chOff x="195120" y="677880"/>
              <a:chExt cx="131760" cy="63360"/>
            </a:xfrm>
          </p:grpSpPr>
          <p:sp>
            <p:nvSpPr>
              <p:cNvPr id="488" name=""/>
              <p:cNvSpPr/>
              <p:nvPr/>
            </p:nvSpPr>
            <p:spPr>
              <a:xfrm>
                <a:off x="262080" y="677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5120" y="677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26880" y="6778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136440" y="186480"/>
            <a:ext cx="2627280" cy="2466000"/>
            <a:chOff x="136440" y="186480"/>
            <a:chExt cx="2627280" cy="2466000"/>
          </a:xfrm>
        </p:grpSpPr>
        <p:sp>
          <p:nvSpPr>
            <p:cNvPr id="492" name=""/>
            <p:cNvSpPr/>
            <p:nvPr/>
          </p:nvSpPr>
          <p:spPr>
            <a:xfrm>
              <a:off x="136440" y="186480"/>
              <a:ext cx="2367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PIBG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/PS Infantry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4960" y="990720"/>
              <a:ext cx="14400" cy="13856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35000" y="1927080"/>
              <a:ext cx="94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US/PS Inf B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8200" y="1960560"/>
              <a:ext cx="19836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79360" y="982080"/>
              <a:ext cx="1834920" cy="690120"/>
              <a:chOff x="279360" y="982080"/>
              <a:chExt cx="1834920" cy="690120"/>
            </a:xfrm>
          </p:grpSpPr>
          <p:sp>
            <p:nvSpPr>
              <p:cNvPr id="497" name=""/>
              <p:cNvSpPr/>
              <p:nvPr/>
            </p:nvSpPr>
            <p:spPr>
              <a:xfrm>
                <a:off x="279360" y="1193400"/>
                <a:ext cx="289080" cy="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563760" y="982080"/>
                <a:ext cx="1550520" cy="690120"/>
                <a:chOff x="563760" y="982080"/>
                <a:chExt cx="1550520" cy="69012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563760" y="1419120"/>
                  <a:ext cx="231840" cy="234000"/>
                  <a:chOff x="563760" y="1419120"/>
                  <a:chExt cx="231840" cy="234000"/>
                </a:xfrm>
              </p:grpSpPr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563760" y="1463400"/>
                    <a:ext cx="231840" cy="189720"/>
                    <a:chOff x="563760" y="1463400"/>
                    <a:chExt cx="231840" cy="18972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563760" y="1463400"/>
                      <a:ext cx="231840" cy="15660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574920" y="16264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756000" y="16264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4" name=""/>
                  <p:cNvSpPr/>
                  <p:nvPr/>
                </p:nvSpPr>
                <p:spPr>
                  <a:xfrm>
                    <a:off x="665280" y="14191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68440" y="1068480"/>
                  <a:ext cx="231840" cy="210240"/>
                  <a:chOff x="568440" y="1068480"/>
                  <a:chExt cx="231840" cy="21024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568440" y="1122120"/>
                    <a:ext cx="231840" cy="156600"/>
                    <a:chOff x="568440" y="1122120"/>
                    <a:chExt cx="231840" cy="15660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568440" y="1122120"/>
                      <a:ext cx="231840" cy="15660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594000" y="1144080"/>
                      <a:ext cx="183960" cy="11052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9" name=""/>
                  <p:cNvSpPr/>
                  <p:nvPr/>
                </p:nvSpPr>
                <p:spPr>
                  <a:xfrm>
                    <a:off x="670320" y="1068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0" name=""/>
                <p:cNvSpPr/>
                <p:nvPr/>
              </p:nvSpPr>
              <p:spPr>
                <a:xfrm>
                  <a:off x="854640" y="98208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54640" y="126936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96400" y="1116720"/>
                  <a:ext cx="1211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US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94240" y="1456560"/>
                  <a:ext cx="1220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Jeep            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14520" y="1279440"/>
                  <a:ext cx="0" cy="177480"/>
                </a:xfrm>
                <a:prstGeom prst="line">
                  <a:avLst/>
                </a:prstGeom>
                <a:ln w="190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5" name=""/>
            <p:cNvSpPr/>
            <p:nvPr/>
          </p:nvSpPr>
          <p:spPr>
            <a:xfrm>
              <a:off x="946080" y="1712160"/>
              <a:ext cx="105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484200" y="1793880"/>
              <a:ext cx="347040" cy="302400"/>
              <a:chOff x="484200" y="1793880"/>
              <a:chExt cx="347040" cy="3024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618840" y="1793880"/>
                <a:ext cx="76320" cy="63360"/>
                <a:chOff x="618840" y="1793880"/>
                <a:chExt cx="76320" cy="633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618840" y="1793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95160" y="17938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484200" y="1860480"/>
                <a:ext cx="347040" cy="235800"/>
                <a:chOff x="484200" y="1860480"/>
                <a:chExt cx="347040" cy="2358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84200" y="1860480"/>
                  <a:ext cx="347040" cy="23580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V="1">
                  <a:off x="487800" y="1863720"/>
                  <a:ext cx="338400" cy="23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84200" y="1864080"/>
                  <a:ext cx="345600" cy="22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4" name=""/>
            <p:cNvSpPr/>
            <p:nvPr/>
          </p:nvSpPr>
          <p:spPr>
            <a:xfrm>
              <a:off x="1017720" y="2049480"/>
              <a:ext cx="488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BG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85960" y="2264760"/>
              <a:ext cx="1877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gt’l ATG Co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9360" y="2376360"/>
              <a:ext cx="2383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35000" y="2530440"/>
              <a:ext cx="488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ME-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544680" y="2230560"/>
              <a:ext cx="295200" cy="271440"/>
              <a:chOff x="544680" y="2230560"/>
              <a:chExt cx="295200" cy="271440"/>
            </a:xfrm>
          </p:grpSpPr>
          <p:sp>
            <p:nvSpPr>
              <p:cNvPr id="529" name=""/>
              <p:cNvSpPr/>
              <p:nvPr/>
            </p:nvSpPr>
            <p:spPr>
              <a:xfrm>
                <a:off x="677880" y="22305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544680" y="2301840"/>
                <a:ext cx="295200" cy="200160"/>
                <a:chOff x="544680" y="2301840"/>
                <a:chExt cx="295200" cy="200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544680" y="2301840"/>
                  <a:ext cx="295200" cy="2001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544680" y="2306160"/>
                  <a:ext cx="14508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9760" y="2301840"/>
                  <a:ext cx="14508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34" name=""/>
          <p:cNvGrpSpPr/>
          <p:nvPr/>
        </p:nvGrpSpPr>
        <p:grpSpPr>
          <a:xfrm>
            <a:off x="136440" y="2686680"/>
            <a:ext cx="3260160" cy="2400480"/>
            <a:chOff x="136440" y="2686680"/>
            <a:chExt cx="3260160" cy="2400480"/>
          </a:xfrm>
        </p:grpSpPr>
        <p:sp>
          <p:nvSpPr>
            <p:cNvPr id="535" name=""/>
            <p:cNvSpPr/>
            <p:nvPr/>
          </p:nvSpPr>
          <p:spPr>
            <a:xfrm>
              <a:off x="1251000" y="4653000"/>
              <a:ext cx="2761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58800" y="4757760"/>
              <a:ext cx="0" cy="10332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91000" y="4549320"/>
              <a:ext cx="160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37mm Antitank Gun   US-4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49600" y="476496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88120" y="4871520"/>
              <a:ext cx="1608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Light Truck                 US-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1528920" y="4832280"/>
              <a:ext cx="231480" cy="230040"/>
              <a:chOff x="1528920" y="4832280"/>
              <a:chExt cx="231480" cy="23004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1601640" y="4832280"/>
                <a:ext cx="73800" cy="28080"/>
                <a:chOff x="1601640" y="4832280"/>
                <a:chExt cx="73800" cy="280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1601640" y="483228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648800" y="48337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1528920" y="4871880"/>
                <a:ext cx="231480" cy="190440"/>
                <a:chOff x="1528920" y="4871880"/>
                <a:chExt cx="231480" cy="19044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1528920" y="4871880"/>
                  <a:ext cx="23148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539720" y="50353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720800" y="503532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1527120" y="4532400"/>
              <a:ext cx="231840" cy="207360"/>
              <a:chOff x="1527120" y="4532400"/>
              <a:chExt cx="231840" cy="2073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1527120" y="4582800"/>
                <a:ext cx="231840" cy="156960"/>
                <a:chOff x="1527120" y="4582800"/>
                <a:chExt cx="231840" cy="15696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1527120" y="4582800"/>
                  <a:ext cx="231840" cy="156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1527120" y="4586040"/>
                  <a:ext cx="11376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640880" y="4582800"/>
                  <a:ext cx="113760" cy="15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1601640" y="4532400"/>
                <a:ext cx="74520" cy="27720"/>
                <a:chOff x="1601640" y="4532400"/>
                <a:chExt cx="74520" cy="27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1601640" y="4532400"/>
                  <a:ext cx="284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649160" y="4533840"/>
                  <a:ext cx="2700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6" name=""/>
            <p:cNvSpPr/>
            <p:nvPr/>
          </p:nvSpPr>
          <p:spPr>
            <a:xfrm>
              <a:off x="401760" y="3475080"/>
              <a:ext cx="44280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839880" y="3263400"/>
              <a:ext cx="1550520" cy="690120"/>
              <a:chOff x="839880" y="3263400"/>
              <a:chExt cx="1550520" cy="69012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839880" y="3700440"/>
                <a:ext cx="231840" cy="235080"/>
                <a:chOff x="839880" y="3700440"/>
                <a:chExt cx="231840" cy="235080"/>
              </a:xfrm>
            </p:grpSpPr>
            <p:grpSp>
              <p:nvGrpSpPr>
                <p:cNvPr id="559" name=""/>
                <p:cNvGrpSpPr/>
                <p:nvPr/>
              </p:nvGrpSpPr>
              <p:grpSpPr>
                <a:xfrm>
                  <a:off x="839880" y="3745080"/>
                  <a:ext cx="231840" cy="190440"/>
                  <a:chOff x="839880" y="3745080"/>
                  <a:chExt cx="231840" cy="19044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>
                    <a:off x="839880" y="374508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851040" y="3908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032120" y="39085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941400" y="3700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844560" y="3349800"/>
                <a:ext cx="231840" cy="210600"/>
                <a:chOff x="844560" y="3349800"/>
                <a:chExt cx="231840" cy="21060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844560" y="3403440"/>
                  <a:ext cx="231840" cy="156960"/>
                  <a:chOff x="844560" y="3403440"/>
                  <a:chExt cx="231840" cy="15696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844560" y="340344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870120" y="3425400"/>
                    <a:ext cx="183960" cy="110880"/>
                  </a:xfrm>
                  <a:prstGeom prst="rect">
                    <a:avLst/>
                  </a:prstGeom>
                  <a:solidFill>
                    <a:srgbClr val="99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8" name=""/>
                <p:cNvSpPr/>
                <p:nvPr/>
              </p:nvSpPr>
              <p:spPr>
                <a:xfrm>
                  <a:off x="946440" y="33498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9" name=""/>
              <p:cNvSpPr/>
              <p:nvPr/>
            </p:nvSpPr>
            <p:spPr>
              <a:xfrm>
                <a:off x="1130760" y="326340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130760" y="355068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172520" y="3398400"/>
                <a:ext cx="1211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US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170360" y="3737880"/>
                <a:ext cx="1220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Jeep             US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90640" y="3560760"/>
                <a:ext cx="0" cy="1778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36440" y="2686680"/>
              <a:ext cx="2124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PIME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/PS Regt’l ATG Co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268200" y="3089160"/>
              <a:ext cx="295200" cy="271440"/>
              <a:chOff x="268200" y="3089160"/>
              <a:chExt cx="295200" cy="271440"/>
            </a:xfrm>
          </p:grpSpPr>
          <p:sp>
            <p:nvSpPr>
              <p:cNvPr id="576" name=""/>
              <p:cNvSpPr/>
              <p:nvPr/>
            </p:nvSpPr>
            <p:spPr>
              <a:xfrm>
                <a:off x="401400" y="3089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7" name=""/>
              <p:cNvGrpSpPr/>
              <p:nvPr/>
            </p:nvGrpSpPr>
            <p:grpSpPr>
              <a:xfrm>
                <a:off x="268200" y="3160440"/>
                <a:ext cx="295200" cy="200160"/>
                <a:chOff x="268200" y="3160440"/>
                <a:chExt cx="295200" cy="2001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268200" y="3160440"/>
                  <a:ext cx="295200" cy="2001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V="1">
                  <a:off x="268200" y="3164760"/>
                  <a:ext cx="14508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13280" y="3160440"/>
                  <a:ext cx="14508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1" name=""/>
            <p:cNvGrpSpPr/>
            <p:nvPr/>
          </p:nvGrpSpPr>
          <p:grpSpPr>
            <a:xfrm>
              <a:off x="665280" y="4191120"/>
              <a:ext cx="352080" cy="239400"/>
              <a:chOff x="665280" y="4191120"/>
              <a:chExt cx="352080" cy="239400"/>
            </a:xfrm>
          </p:grpSpPr>
          <p:sp>
            <p:nvSpPr>
              <p:cNvPr id="582" name=""/>
              <p:cNvSpPr/>
              <p:nvPr/>
            </p:nvSpPr>
            <p:spPr>
              <a:xfrm>
                <a:off x="665280" y="4191120"/>
                <a:ext cx="352080" cy="2394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665280" y="4195800"/>
                <a:ext cx="173160" cy="23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38440" y="4191120"/>
                <a:ext cx="173160" cy="23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762120" y="4114800"/>
              <a:ext cx="131760" cy="27000"/>
              <a:chOff x="762120" y="4114800"/>
              <a:chExt cx="131760" cy="27000"/>
            </a:xfrm>
          </p:grpSpPr>
          <p:sp>
            <p:nvSpPr>
              <p:cNvPr id="586" name=""/>
              <p:cNvSpPr/>
              <p:nvPr/>
            </p:nvSpPr>
            <p:spPr>
              <a:xfrm>
                <a:off x="762120" y="4114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12880" y="4114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66880" y="4114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411120" y="3352680"/>
              <a:ext cx="0" cy="990720"/>
            </a:xfrm>
            <a:prstGeom prst="line">
              <a:avLst/>
            </a:prstGeom>
            <a:ln w="1908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99520" y="4210920"/>
              <a:ext cx="936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ATG PL e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1760" y="4343400"/>
              <a:ext cx="288720" cy="0"/>
            </a:xfrm>
            <a:prstGeom prst="line">
              <a:avLst/>
            </a:prstGeom>
            <a:ln w="1908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850680" y="4653000"/>
              <a:ext cx="399960" cy="0"/>
            </a:xfrm>
            <a:prstGeom prst="line">
              <a:avLst/>
            </a:prstGeom>
            <a:ln w="1908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51040" y="4430880"/>
              <a:ext cx="1440" cy="222120"/>
            </a:xfrm>
            <a:prstGeom prst="line">
              <a:avLst/>
            </a:prstGeom>
            <a:ln w="19080">
              <a:solidFill>
                <a:srgbClr val="0bc1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273560" y="888120"/>
            <a:ext cx="2471760" cy="2324880"/>
            <a:chOff x="4273560" y="888120"/>
            <a:chExt cx="2471760" cy="2324880"/>
          </a:xfrm>
        </p:grpSpPr>
        <p:sp>
          <p:nvSpPr>
            <p:cNvPr id="595" name=""/>
            <p:cNvSpPr/>
            <p:nvPr/>
          </p:nvSpPr>
          <p:spPr>
            <a:xfrm>
              <a:off x="4370400" y="888120"/>
              <a:ext cx="2124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PIBG-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/PS Infantry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18040" y="2339280"/>
              <a:ext cx="135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43480" y="1731960"/>
              <a:ext cx="0" cy="135720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32440" y="2997360"/>
              <a:ext cx="98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Wpns Co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4727520" y="3029040"/>
              <a:ext cx="231840" cy="152280"/>
              <a:chOff x="4727520" y="3029040"/>
              <a:chExt cx="231840" cy="152280"/>
            </a:xfrm>
          </p:grpSpPr>
          <p:sp>
            <p:nvSpPr>
              <p:cNvPr id="600" name=""/>
              <p:cNvSpPr/>
              <p:nvPr/>
            </p:nvSpPr>
            <p:spPr>
              <a:xfrm>
                <a:off x="4727520" y="3029040"/>
                <a:ext cx="231840" cy="1522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727520" y="3029040"/>
                <a:ext cx="55800" cy="150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4727520" y="3030840"/>
                <a:ext cx="228240" cy="1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29680" y="3029040"/>
                <a:ext cx="2257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4446720" y="3089160"/>
              <a:ext cx="2761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4408560" y="1428840"/>
              <a:ext cx="75960" cy="63360"/>
              <a:chOff x="4408560" y="1428840"/>
              <a:chExt cx="75960" cy="63360"/>
            </a:xfrm>
          </p:grpSpPr>
          <p:sp>
            <p:nvSpPr>
              <p:cNvPr id="606" name=""/>
              <p:cNvSpPr/>
              <p:nvPr/>
            </p:nvSpPr>
            <p:spPr>
              <a:xfrm>
                <a:off x="4408560" y="1428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484520" y="1428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273560" y="1495440"/>
              <a:ext cx="347400" cy="236160"/>
              <a:chOff x="4273560" y="1495440"/>
              <a:chExt cx="347400" cy="236160"/>
            </a:xfrm>
          </p:grpSpPr>
          <p:sp>
            <p:nvSpPr>
              <p:cNvPr id="609" name=""/>
              <p:cNvSpPr/>
              <p:nvPr/>
            </p:nvSpPr>
            <p:spPr>
              <a:xfrm>
                <a:off x="4273560" y="1495440"/>
                <a:ext cx="34740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4277160" y="1499040"/>
                <a:ext cx="33876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273560" y="1499040"/>
                <a:ext cx="34596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 flipV="1">
              <a:off x="4443480" y="2641680"/>
              <a:ext cx="250920" cy="14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73040" y="2458440"/>
              <a:ext cx="57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ME-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19840" y="2574360"/>
              <a:ext cx="17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Infantry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4694400" y="2468520"/>
              <a:ext cx="284040" cy="255600"/>
              <a:chOff x="4694400" y="2468520"/>
              <a:chExt cx="284040" cy="255600"/>
            </a:xfrm>
          </p:grpSpPr>
          <p:sp>
            <p:nvSpPr>
              <p:cNvPr id="616" name=""/>
              <p:cNvSpPr/>
              <p:nvPr/>
            </p:nvSpPr>
            <p:spPr>
              <a:xfrm>
                <a:off x="4840200" y="24685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4694400" y="2530440"/>
                <a:ext cx="284040" cy="193680"/>
                <a:chOff x="4694400" y="2530440"/>
                <a:chExt cx="284040" cy="1936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694400" y="2530440"/>
                  <a:ext cx="284040" cy="1936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4697280" y="253332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694400" y="253332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1" name=""/>
            <p:cNvGrpSpPr/>
            <p:nvPr/>
          </p:nvGrpSpPr>
          <p:grpSpPr>
            <a:xfrm>
              <a:off x="4443480" y="1731240"/>
              <a:ext cx="2159280" cy="609480"/>
              <a:chOff x="4443480" y="1731240"/>
              <a:chExt cx="2159280" cy="609480"/>
            </a:xfrm>
          </p:grpSpPr>
          <p:sp>
            <p:nvSpPr>
              <p:cNvPr id="622" name=""/>
              <p:cNvSpPr/>
              <p:nvPr/>
            </p:nvSpPr>
            <p:spPr>
              <a:xfrm>
                <a:off x="4443480" y="1925640"/>
                <a:ext cx="289080" cy="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4731120" y="1731240"/>
                <a:ext cx="1871640" cy="609480"/>
                <a:chOff x="4731120" y="1731240"/>
                <a:chExt cx="1871640" cy="609480"/>
              </a:xfrm>
            </p:grpSpPr>
            <p:grpSp>
              <p:nvGrpSpPr>
                <p:cNvPr id="624" name=""/>
                <p:cNvGrpSpPr/>
                <p:nvPr/>
              </p:nvGrpSpPr>
              <p:grpSpPr>
                <a:xfrm>
                  <a:off x="4734000" y="1793880"/>
                  <a:ext cx="231840" cy="210600"/>
                  <a:chOff x="4734000" y="1793880"/>
                  <a:chExt cx="231840" cy="210600"/>
                </a:xfrm>
              </p:grpSpPr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4734000" y="1847520"/>
                    <a:ext cx="231840" cy="156960"/>
                    <a:chOff x="4734000" y="1847520"/>
                    <a:chExt cx="231840" cy="15696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4734000" y="184752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4759560" y="1869480"/>
                      <a:ext cx="183960" cy="11088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8" name=""/>
                  <p:cNvSpPr/>
                  <p:nvPr/>
                </p:nvSpPr>
                <p:spPr>
                  <a:xfrm>
                    <a:off x="4835880" y="1793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9" name=""/>
                <p:cNvSpPr/>
                <p:nvPr/>
              </p:nvSpPr>
              <p:spPr>
                <a:xfrm>
                  <a:off x="4761000" y="2011320"/>
                  <a:ext cx="0" cy="102960"/>
                </a:xfrm>
                <a:prstGeom prst="line">
                  <a:avLst/>
                </a:prstGeom>
                <a:ln w="190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951800" y="173124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991760" y="1866240"/>
                  <a:ext cx="1604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         US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2" name=""/>
                <p:cNvGrpSpPr/>
                <p:nvPr/>
              </p:nvGrpSpPr>
              <p:grpSpPr>
                <a:xfrm>
                  <a:off x="4731120" y="2018520"/>
                  <a:ext cx="1871640" cy="322200"/>
                  <a:chOff x="4731120" y="2018520"/>
                  <a:chExt cx="1871640" cy="32220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>
                    <a:off x="4951800" y="2018520"/>
                    <a:ext cx="6166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99cc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4989600" y="2125080"/>
                    <a:ext cx="1613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Jeep                           US-1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4731120" y="2066760"/>
                    <a:ext cx="231480" cy="249120"/>
                    <a:chOff x="4731120" y="2066760"/>
                    <a:chExt cx="231480" cy="2491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4835880" y="20667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37" name=""/>
                    <p:cNvGrpSpPr/>
                    <p:nvPr/>
                  </p:nvGrpSpPr>
                  <p:grpSpPr>
                    <a:xfrm>
                      <a:off x="4731120" y="2125440"/>
                      <a:ext cx="231480" cy="190440"/>
                      <a:chOff x="4731120" y="2125440"/>
                      <a:chExt cx="231480" cy="190440"/>
                    </a:xfrm>
                  </p:grpSpPr>
                  <p:sp>
                    <p:nvSpPr>
                      <p:cNvPr id="638" name=""/>
                      <p:cNvSpPr/>
                      <p:nvPr/>
                    </p:nvSpPr>
                    <p:spPr>
                      <a:xfrm>
                        <a:off x="4731120" y="212544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9" name=""/>
                      <p:cNvSpPr/>
                      <p:nvPr/>
                    </p:nvSpPr>
                    <p:spPr>
                      <a:xfrm>
                        <a:off x="4741920" y="22888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0" name=""/>
                      <p:cNvSpPr/>
                      <p:nvPr/>
                    </p:nvSpPr>
                    <p:spPr>
                      <a:xfrm>
                        <a:off x="4923000" y="228888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641" name=""/>
            <p:cNvSpPr/>
            <p:nvPr/>
          </p:nvSpPr>
          <p:spPr>
            <a:xfrm>
              <a:off x="4851360" y="29624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20920" y="2855160"/>
              <a:ext cx="57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ME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BG 06-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92040" y="378360"/>
            <a:ext cx="2643120" cy="2466360"/>
            <a:chOff x="392040" y="378360"/>
            <a:chExt cx="2643120" cy="2466360"/>
          </a:xfrm>
        </p:grpSpPr>
        <p:sp>
          <p:nvSpPr>
            <p:cNvPr id="645" name=""/>
            <p:cNvSpPr/>
            <p:nvPr/>
          </p:nvSpPr>
          <p:spPr>
            <a:xfrm>
              <a:off x="407880" y="378360"/>
              <a:ext cx="2367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PIBG-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 Reg Infantry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6400" y="1182600"/>
              <a:ext cx="14400" cy="138600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06440" y="2119320"/>
              <a:ext cx="94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PA Reg Inf B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9640" y="2152800"/>
              <a:ext cx="198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550800" y="1174320"/>
              <a:ext cx="1834920" cy="690120"/>
              <a:chOff x="550800" y="1174320"/>
              <a:chExt cx="1834920" cy="690120"/>
            </a:xfrm>
          </p:grpSpPr>
          <p:sp>
            <p:nvSpPr>
              <p:cNvPr id="650" name=""/>
              <p:cNvSpPr/>
              <p:nvPr/>
            </p:nvSpPr>
            <p:spPr>
              <a:xfrm>
                <a:off x="550800" y="1385640"/>
                <a:ext cx="289080" cy="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835200" y="1174320"/>
                <a:ext cx="1550520" cy="690120"/>
                <a:chOff x="835200" y="1174320"/>
                <a:chExt cx="1550520" cy="690120"/>
              </a:xfrm>
            </p:grpSpPr>
            <p:grpSp>
              <p:nvGrpSpPr>
                <p:cNvPr id="652" name=""/>
                <p:cNvGrpSpPr/>
                <p:nvPr/>
              </p:nvGrpSpPr>
              <p:grpSpPr>
                <a:xfrm>
                  <a:off x="835200" y="1611360"/>
                  <a:ext cx="231840" cy="235080"/>
                  <a:chOff x="835200" y="1611360"/>
                  <a:chExt cx="231840" cy="235080"/>
                </a:xfrm>
              </p:grpSpPr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835200" y="1656000"/>
                    <a:ext cx="231840" cy="190440"/>
                    <a:chOff x="835200" y="1656000"/>
                    <a:chExt cx="231840" cy="19044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835200" y="165600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846360" y="181944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1027440" y="18194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7" name=""/>
                  <p:cNvSpPr/>
                  <p:nvPr/>
                </p:nvSpPr>
                <p:spPr>
                  <a:xfrm>
                    <a:off x="936720" y="16113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839880" y="1260720"/>
                  <a:ext cx="231840" cy="210600"/>
                  <a:chOff x="839880" y="1260720"/>
                  <a:chExt cx="231840" cy="210600"/>
                </a:xfrm>
              </p:grpSpPr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839880" y="1314360"/>
                    <a:ext cx="231840" cy="156960"/>
                    <a:chOff x="839880" y="1314360"/>
                    <a:chExt cx="231840" cy="15696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839880" y="131436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865440" y="1336320"/>
                      <a:ext cx="183960" cy="11088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2" name=""/>
                  <p:cNvSpPr/>
                  <p:nvPr/>
                </p:nvSpPr>
                <p:spPr>
                  <a:xfrm>
                    <a:off x="941760" y="12607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3" name=""/>
                <p:cNvSpPr/>
                <p:nvPr/>
              </p:nvSpPr>
              <p:spPr>
                <a:xfrm>
                  <a:off x="1126080" y="117432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126080" y="146160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167840" y="1309320"/>
                  <a:ext cx="1211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US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65680" y="1648800"/>
                  <a:ext cx="1220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Jeep            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85960" y="1471680"/>
                  <a:ext cx="0" cy="177840"/>
                </a:xfrm>
                <a:prstGeom prst="line">
                  <a:avLst/>
                </a:prstGeom>
                <a:ln w="190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8" name=""/>
            <p:cNvSpPr/>
            <p:nvPr/>
          </p:nvSpPr>
          <p:spPr>
            <a:xfrm>
              <a:off x="1217520" y="1904400"/>
              <a:ext cx="105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BATTLE GROU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755640" y="1986120"/>
              <a:ext cx="347040" cy="302400"/>
              <a:chOff x="755640" y="1986120"/>
              <a:chExt cx="347040" cy="302400"/>
            </a:xfrm>
          </p:grpSpPr>
          <p:grpSp>
            <p:nvGrpSpPr>
              <p:cNvPr id="670" name=""/>
              <p:cNvGrpSpPr/>
              <p:nvPr/>
            </p:nvGrpSpPr>
            <p:grpSpPr>
              <a:xfrm>
                <a:off x="890280" y="1986120"/>
                <a:ext cx="76320" cy="63360"/>
                <a:chOff x="890280" y="1986120"/>
                <a:chExt cx="76320" cy="6336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890280" y="1986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966600" y="19861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55640" y="2052720"/>
                <a:ext cx="347040" cy="235800"/>
                <a:chOff x="755640" y="2052720"/>
                <a:chExt cx="347040" cy="23580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55640" y="2052720"/>
                  <a:ext cx="347040" cy="23580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759240" y="2055960"/>
                  <a:ext cx="338400" cy="23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755640" y="2056320"/>
                  <a:ext cx="345600" cy="22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7" name=""/>
            <p:cNvSpPr/>
            <p:nvPr/>
          </p:nvSpPr>
          <p:spPr>
            <a:xfrm>
              <a:off x="1289160" y="2241720"/>
              <a:ext cx="488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BG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57400" y="2457000"/>
              <a:ext cx="1877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gt’l Wpns Co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0800" y="2568600"/>
              <a:ext cx="2383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06440" y="2722680"/>
              <a:ext cx="488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ME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49320" y="24224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92040" y="890640"/>
              <a:ext cx="347040" cy="306000"/>
              <a:chOff x="392040" y="890640"/>
              <a:chExt cx="347040" cy="30600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392040" y="960480"/>
                <a:ext cx="347040" cy="236160"/>
                <a:chOff x="392040" y="960480"/>
                <a:chExt cx="347040" cy="23616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92040" y="960480"/>
                  <a:ext cx="347040" cy="2361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395640" y="964080"/>
                  <a:ext cx="33840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92040" y="964080"/>
                  <a:ext cx="34560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99680" y="890640"/>
                <a:ext cx="131760" cy="63360"/>
                <a:chOff x="499680" y="890640"/>
                <a:chExt cx="131760" cy="6336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566640" y="8906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99680" y="8906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31440" y="8906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1" name=""/>
            <p:cNvGrpSpPr/>
            <p:nvPr/>
          </p:nvGrpSpPr>
          <p:grpSpPr>
            <a:xfrm>
              <a:off x="784080" y="2509920"/>
              <a:ext cx="327960" cy="207000"/>
              <a:chOff x="784080" y="2509920"/>
              <a:chExt cx="327960" cy="207000"/>
            </a:xfrm>
          </p:grpSpPr>
          <p:grpSp>
            <p:nvGrpSpPr>
              <p:cNvPr id="692" name=""/>
              <p:cNvGrpSpPr/>
              <p:nvPr/>
            </p:nvGrpSpPr>
            <p:grpSpPr>
              <a:xfrm>
                <a:off x="784080" y="2509920"/>
                <a:ext cx="327960" cy="207000"/>
                <a:chOff x="784080" y="2509920"/>
                <a:chExt cx="327960" cy="2070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784080" y="2509920"/>
                  <a:ext cx="327960" cy="20700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84080" y="2509920"/>
                  <a:ext cx="78840" cy="204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V="1">
                  <a:off x="784080" y="2513520"/>
                  <a:ext cx="323280" cy="19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786600" y="2513880"/>
                <a:ext cx="321120" cy="18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7" name=""/>
          <p:cNvSpPr/>
          <p:nvPr/>
        </p:nvSpPr>
        <p:spPr>
          <a:xfrm>
            <a:off x="5060880" y="478440"/>
            <a:ext cx="2367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PIBG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 PA  Infantry Regi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189400" y="1282680"/>
            <a:ext cx="14400" cy="13860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959440" y="2219400"/>
            <a:ext cx="94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Res PA Inf B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92640" y="2252520"/>
            <a:ext cx="19836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203800" y="1274400"/>
            <a:ext cx="1834920" cy="690120"/>
            <a:chOff x="5203800" y="1274400"/>
            <a:chExt cx="1834920" cy="690120"/>
          </a:xfrm>
        </p:grpSpPr>
        <p:sp>
          <p:nvSpPr>
            <p:cNvPr id="702" name=""/>
            <p:cNvSpPr/>
            <p:nvPr/>
          </p:nvSpPr>
          <p:spPr>
            <a:xfrm>
              <a:off x="5203800" y="1485720"/>
              <a:ext cx="289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488200" y="1274400"/>
              <a:ext cx="1550520" cy="690120"/>
              <a:chOff x="5488200" y="1274400"/>
              <a:chExt cx="1550520" cy="69012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5488200" y="1711440"/>
                <a:ext cx="231840" cy="235080"/>
                <a:chOff x="5488200" y="1711440"/>
                <a:chExt cx="231840" cy="23508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5488200" y="1756080"/>
                  <a:ext cx="231840" cy="190440"/>
                  <a:chOff x="5488200" y="1756080"/>
                  <a:chExt cx="231840" cy="19044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5488200" y="175608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5499360" y="1919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5680440" y="19195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9" name=""/>
                <p:cNvSpPr/>
                <p:nvPr/>
              </p:nvSpPr>
              <p:spPr>
                <a:xfrm>
                  <a:off x="5589720" y="17114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5492880" y="1360800"/>
                <a:ext cx="231840" cy="210600"/>
                <a:chOff x="5492880" y="1360800"/>
                <a:chExt cx="231840" cy="210600"/>
              </a:xfrm>
            </p:grpSpPr>
            <p:grpSp>
              <p:nvGrpSpPr>
                <p:cNvPr id="711" name=""/>
                <p:cNvGrpSpPr/>
                <p:nvPr/>
              </p:nvGrpSpPr>
              <p:grpSpPr>
                <a:xfrm>
                  <a:off x="5492880" y="1414440"/>
                  <a:ext cx="231840" cy="156960"/>
                  <a:chOff x="5492880" y="1414440"/>
                  <a:chExt cx="231840" cy="15696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>
                    <a:off x="5492880" y="141444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518440" y="1436400"/>
                    <a:ext cx="183960" cy="110880"/>
                  </a:xfrm>
                  <a:prstGeom prst="rect">
                    <a:avLst/>
                  </a:prstGeom>
                  <a:solidFill>
                    <a:srgbClr val="99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4" name=""/>
                <p:cNvSpPr/>
                <p:nvPr/>
              </p:nvSpPr>
              <p:spPr>
                <a:xfrm>
                  <a:off x="5594760" y="13608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5779080" y="127440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79080" y="156168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20840" y="1409400"/>
                <a:ext cx="1211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US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18680" y="1748880"/>
                <a:ext cx="1220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Jeep             US-1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538960" y="1571760"/>
                <a:ext cx="0" cy="1778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0" name=""/>
          <p:cNvSpPr/>
          <p:nvPr/>
        </p:nvSpPr>
        <p:spPr>
          <a:xfrm>
            <a:off x="5870520" y="2004480"/>
            <a:ext cx="105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5408640" y="2085840"/>
            <a:ext cx="347040" cy="303120"/>
            <a:chOff x="5408640" y="2085840"/>
            <a:chExt cx="347040" cy="303120"/>
          </a:xfrm>
        </p:grpSpPr>
        <p:grpSp>
          <p:nvGrpSpPr>
            <p:cNvPr id="722" name=""/>
            <p:cNvGrpSpPr/>
            <p:nvPr/>
          </p:nvGrpSpPr>
          <p:grpSpPr>
            <a:xfrm>
              <a:off x="5543280" y="2085840"/>
              <a:ext cx="76320" cy="63360"/>
              <a:chOff x="5543280" y="2085840"/>
              <a:chExt cx="76320" cy="63360"/>
            </a:xfrm>
          </p:grpSpPr>
          <p:sp>
            <p:nvSpPr>
              <p:cNvPr id="723" name=""/>
              <p:cNvSpPr/>
              <p:nvPr/>
            </p:nvSpPr>
            <p:spPr>
              <a:xfrm>
                <a:off x="5543280" y="2085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19600" y="20858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408640" y="2152800"/>
              <a:ext cx="347040" cy="236160"/>
              <a:chOff x="5408640" y="2152800"/>
              <a:chExt cx="347040" cy="236160"/>
            </a:xfrm>
          </p:grpSpPr>
          <p:sp>
            <p:nvSpPr>
              <p:cNvPr id="726" name=""/>
              <p:cNvSpPr/>
              <p:nvPr/>
            </p:nvSpPr>
            <p:spPr>
              <a:xfrm>
                <a:off x="5408640" y="215280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412240" y="215640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408640" y="215640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9" name=""/>
          <p:cNvSpPr/>
          <p:nvPr/>
        </p:nvSpPr>
        <p:spPr>
          <a:xfrm>
            <a:off x="5942160" y="2341440"/>
            <a:ext cx="488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PIBG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5045040" y="990720"/>
            <a:ext cx="347040" cy="306000"/>
            <a:chOff x="5045040" y="990720"/>
            <a:chExt cx="347040" cy="306000"/>
          </a:xfrm>
        </p:grpSpPr>
        <p:grpSp>
          <p:nvGrpSpPr>
            <p:cNvPr id="731" name=""/>
            <p:cNvGrpSpPr/>
            <p:nvPr/>
          </p:nvGrpSpPr>
          <p:grpSpPr>
            <a:xfrm>
              <a:off x="5045040" y="1060560"/>
              <a:ext cx="347040" cy="236160"/>
              <a:chOff x="5045040" y="1060560"/>
              <a:chExt cx="347040" cy="236160"/>
            </a:xfrm>
          </p:grpSpPr>
          <p:sp>
            <p:nvSpPr>
              <p:cNvPr id="732" name=""/>
              <p:cNvSpPr/>
              <p:nvPr/>
            </p:nvSpPr>
            <p:spPr>
              <a:xfrm>
                <a:off x="5045040" y="1060560"/>
                <a:ext cx="34704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48640" y="1064160"/>
                <a:ext cx="33840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045040" y="1064160"/>
                <a:ext cx="34560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5152680" y="990720"/>
              <a:ext cx="131760" cy="63360"/>
              <a:chOff x="5152680" y="990720"/>
              <a:chExt cx="131760" cy="63360"/>
            </a:xfrm>
          </p:grpSpPr>
          <p:sp>
            <p:nvSpPr>
              <p:cNvPr id="736" name=""/>
              <p:cNvSpPr/>
              <p:nvPr/>
            </p:nvSpPr>
            <p:spPr>
              <a:xfrm>
                <a:off x="5219640" y="990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52680" y="990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284440" y="990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9" name=""/>
          <p:cNvGrpSpPr/>
          <p:nvPr/>
        </p:nvGrpSpPr>
        <p:grpSpPr>
          <a:xfrm>
            <a:off x="5203800" y="2522520"/>
            <a:ext cx="2484360" cy="421920"/>
            <a:chOff x="5203800" y="2522520"/>
            <a:chExt cx="2484360" cy="421920"/>
          </a:xfrm>
        </p:grpSpPr>
        <p:sp>
          <p:nvSpPr>
            <p:cNvPr id="740" name=""/>
            <p:cNvSpPr/>
            <p:nvPr/>
          </p:nvSpPr>
          <p:spPr>
            <a:xfrm>
              <a:off x="5810400" y="2556720"/>
              <a:ext cx="1877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gt’l Wpns Co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03800" y="2668680"/>
              <a:ext cx="2383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959440" y="2822400"/>
              <a:ext cx="488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ME-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602320" y="2522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5437080" y="2610000"/>
              <a:ext cx="327960" cy="207000"/>
              <a:chOff x="5437080" y="2610000"/>
              <a:chExt cx="327960" cy="20700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5437080" y="2610000"/>
                <a:ext cx="327960" cy="207000"/>
                <a:chOff x="5437080" y="2610000"/>
                <a:chExt cx="327960" cy="2070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437080" y="2610000"/>
                  <a:ext cx="327960" cy="20700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437080" y="2610000"/>
                  <a:ext cx="78840" cy="204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V="1">
                  <a:off x="5437080" y="2613600"/>
                  <a:ext cx="323280" cy="19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" name=""/>
              <p:cNvSpPr/>
              <p:nvPr/>
            </p:nvSpPr>
            <p:spPr>
              <a:xfrm>
                <a:off x="5439600" y="2613960"/>
                <a:ext cx="321120" cy="18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0" name=""/>
          <p:cNvGrpSpPr/>
          <p:nvPr/>
        </p:nvGrpSpPr>
        <p:grpSpPr>
          <a:xfrm>
            <a:off x="303120" y="2994840"/>
            <a:ext cx="2471760" cy="1901880"/>
            <a:chOff x="303120" y="2994840"/>
            <a:chExt cx="2471760" cy="1901880"/>
          </a:xfrm>
        </p:grpSpPr>
        <p:sp>
          <p:nvSpPr>
            <p:cNvPr id="751" name=""/>
            <p:cNvSpPr/>
            <p:nvPr/>
          </p:nvSpPr>
          <p:spPr>
            <a:xfrm>
              <a:off x="399960" y="2994840"/>
              <a:ext cx="2124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PIBG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 Reg  Infantry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047960" y="4446000"/>
              <a:ext cx="135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73040" y="3830760"/>
              <a:ext cx="0" cy="91908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38120" y="3535200"/>
              <a:ext cx="76320" cy="63360"/>
              <a:chOff x="438120" y="3535200"/>
              <a:chExt cx="76320" cy="63360"/>
            </a:xfrm>
          </p:grpSpPr>
          <p:sp>
            <p:nvSpPr>
              <p:cNvPr id="755" name=""/>
              <p:cNvSpPr/>
              <p:nvPr/>
            </p:nvSpPr>
            <p:spPr>
              <a:xfrm>
                <a:off x="438120" y="3535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4440" y="3535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303120" y="3602160"/>
              <a:ext cx="347400" cy="236160"/>
              <a:chOff x="303120" y="3602160"/>
              <a:chExt cx="347400" cy="236160"/>
            </a:xfrm>
          </p:grpSpPr>
          <p:sp>
            <p:nvSpPr>
              <p:cNvPr id="758" name=""/>
              <p:cNvSpPr/>
              <p:nvPr/>
            </p:nvSpPr>
            <p:spPr>
              <a:xfrm>
                <a:off x="303120" y="3602160"/>
                <a:ext cx="347400" cy="2361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306720" y="3605760"/>
                <a:ext cx="33876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120" y="3605760"/>
                <a:ext cx="34596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 flipV="1">
              <a:off x="473040" y="4747680"/>
              <a:ext cx="250920" cy="180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02960" y="4565160"/>
              <a:ext cx="57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ME-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49400" y="4681080"/>
              <a:ext cx="17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PA Inf Company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723960" y="4575240"/>
              <a:ext cx="284040" cy="255600"/>
              <a:chOff x="723960" y="4575240"/>
              <a:chExt cx="284040" cy="255600"/>
            </a:xfrm>
          </p:grpSpPr>
          <p:sp>
            <p:nvSpPr>
              <p:cNvPr id="765" name=""/>
              <p:cNvSpPr/>
              <p:nvPr/>
            </p:nvSpPr>
            <p:spPr>
              <a:xfrm>
                <a:off x="869760" y="4575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6" name=""/>
              <p:cNvGrpSpPr/>
              <p:nvPr/>
            </p:nvGrpSpPr>
            <p:grpSpPr>
              <a:xfrm>
                <a:off x="723960" y="4637160"/>
                <a:ext cx="284040" cy="193680"/>
                <a:chOff x="723960" y="4637160"/>
                <a:chExt cx="284040" cy="19368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723960" y="4637160"/>
                  <a:ext cx="284040" cy="1936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V="1">
                  <a:off x="726840" y="464004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723960" y="464004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0" name=""/>
            <p:cNvGrpSpPr/>
            <p:nvPr/>
          </p:nvGrpSpPr>
          <p:grpSpPr>
            <a:xfrm>
              <a:off x="473040" y="3837960"/>
              <a:ext cx="2159280" cy="609480"/>
              <a:chOff x="473040" y="3837960"/>
              <a:chExt cx="2159280" cy="609480"/>
            </a:xfrm>
          </p:grpSpPr>
          <p:sp>
            <p:nvSpPr>
              <p:cNvPr id="771" name=""/>
              <p:cNvSpPr/>
              <p:nvPr/>
            </p:nvSpPr>
            <p:spPr>
              <a:xfrm>
                <a:off x="473040" y="4032360"/>
                <a:ext cx="289080" cy="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760680" y="3837960"/>
                <a:ext cx="1871640" cy="609480"/>
                <a:chOff x="760680" y="3837960"/>
                <a:chExt cx="1871640" cy="609480"/>
              </a:xfrm>
            </p:grpSpPr>
            <p:grpSp>
              <p:nvGrpSpPr>
                <p:cNvPr id="773" name=""/>
                <p:cNvGrpSpPr/>
                <p:nvPr/>
              </p:nvGrpSpPr>
              <p:grpSpPr>
                <a:xfrm>
                  <a:off x="763560" y="3900600"/>
                  <a:ext cx="231840" cy="210600"/>
                  <a:chOff x="763560" y="3900600"/>
                  <a:chExt cx="231840" cy="210600"/>
                </a:xfrm>
              </p:grpSpPr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763560" y="3954240"/>
                    <a:ext cx="231840" cy="156960"/>
                    <a:chOff x="763560" y="3954240"/>
                    <a:chExt cx="231840" cy="15696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763560" y="3954240"/>
                      <a:ext cx="23184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789120" y="3976200"/>
                      <a:ext cx="183960" cy="11088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77" name=""/>
                  <p:cNvSpPr/>
                  <p:nvPr/>
                </p:nvSpPr>
                <p:spPr>
                  <a:xfrm>
                    <a:off x="865440" y="39006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8" name=""/>
                <p:cNvSpPr/>
                <p:nvPr/>
              </p:nvSpPr>
              <p:spPr>
                <a:xfrm>
                  <a:off x="790560" y="4118040"/>
                  <a:ext cx="0" cy="102960"/>
                </a:xfrm>
                <a:prstGeom prst="line">
                  <a:avLst/>
                </a:prstGeom>
                <a:ln w="190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981360" y="383796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021320" y="3972960"/>
                  <a:ext cx="1604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         US-19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1" name=""/>
                <p:cNvGrpSpPr/>
                <p:nvPr/>
              </p:nvGrpSpPr>
              <p:grpSpPr>
                <a:xfrm>
                  <a:off x="760680" y="4125240"/>
                  <a:ext cx="1871640" cy="322200"/>
                  <a:chOff x="760680" y="4125240"/>
                  <a:chExt cx="1871640" cy="32220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981360" y="4125240"/>
                    <a:ext cx="6166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99cc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019160" y="4231800"/>
                    <a:ext cx="16131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Jeep                           US-1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4" name=""/>
                  <p:cNvGrpSpPr/>
                  <p:nvPr/>
                </p:nvGrpSpPr>
                <p:grpSpPr>
                  <a:xfrm>
                    <a:off x="760680" y="4173480"/>
                    <a:ext cx="231480" cy="249120"/>
                    <a:chOff x="760680" y="4173480"/>
                    <a:chExt cx="231480" cy="249120"/>
                  </a:xfrm>
                </p:grpSpPr>
                <p:sp>
                  <p:nvSpPr>
                    <p:cNvPr id="785" name=""/>
                    <p:cNvSpPr/>
                    <p:nvPr/>
                  </p:nvSpPr>
                  <p:spPr>
                    <a:xfrm>
                      <a:off x="865440" y="41734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86" name=""/>
                    <p:cNvGrpSpPr/>
                    <p:nvPr/>
                  </p:nvGrpSpPr>
                  <p:grpSpPr>
                    <a:xfrm>
                      <a:off x="760680" y="4232160"/>
                      <a:ext cx="231480" cy="190440"/>
                      <a:chOff x="760680" y="4232160"/>
                      <a:chExt cx="231480" cy="190440"/>
                    </a:xfrm>
                  </p:grpSpPr>
                  <p:sp>
                    <p:nvSpPr>
                      <p:cNvPr id="787" name=""/>
                      <p:cNvSpPr/>
                      <p:nvPr/>
                    </p:nvSpPr>
                    <p:spPr>
                      <a:xfrm>
                        <a:off x="760680" y="423216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99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8" name=""/>
                      <p:cNvSpPr/>
                      <p:nvPr/>
                    </p:nvSpPr>
                    <p:spPr>
                      <a:xfrm>
                        <a:off x="771480" y="439560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>
                        <a:off x="952560" y="439560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790" name=""/>
          <p:cNvSpPr/>
          <p:nvPr/>
        </p:nvSpPr>
        <p:spPr>
          <a:xfrm>
            <a:off x="5052960" y="3174120"/>
            <a:ext cx="212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PIBG-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 PA Infant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00960" y="46252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126040" y="4010040"/>
            <a:ext cx="0" cy="139392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5091120" y="3714840"/>
            <a:ext cx="76320" cy="63360"/>
            <a:chOff x="5091120" y="3714840"/>
            <a:chExt cx="76320" cy="63360"/>
          </a:xfrm>
        </p:grpSpPr>
        <p:sp>
          <p:nvSpPr>
            <p:cNvPr id="794" name=""/>
            <p:cNvSpPr/>
            <p:nvPr/>
          </p:nvSpPr>
          <p:spPr>
            <a:xfrm>
              <a:off x="5091120" y="3714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167440" y="3714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4956120" y="3781440"/>
            <a:ext cx="347400" cy="236160"/>
            <a:chOff x="4956120" y="3781440"/>
            <a:chExt cx="347400" cy="236160"/>
          </a:xfrm>
        </p:grpSpPr>
        <p:sp>
          <p:nvSpPr>
            <p:cNvPr id="797" name=""/>
            <p:cNvSpPr/>
            <p:nvPr/>
          </p:nvSpPr>
          <p:spPr>
            <a:xfrm>
              <a:off x="4956120" y="3781440"/>
              <a:ext cx="347400" cy="236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4959720" y="3785040"/>
              <a:ext cx="33876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56120" y="3785040"/>
              <a:ext cx="34596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 flipV="1">
            <a:off x="5126040" y="4927680"/>
            <a:ext cx="25092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55600" y="4744440"/>
            <a:ext cx="57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PIME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702400" y="4860360"/>
            <a:ext cx="172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PA Inf Compan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376960" y="4754520"/>
            <a:ext cx="284040" cy="255600"/>
            <a:chOff x="5376960" y="4754520"/>
            <a:chExt cx="284040" cy="255600"/>
          </a:xfrm>
        </p:grpSpPr>
        <p:sp>
          <p:nvSpPr>
            <p:cNvPr id="804" name=""/>
            <p:cNvSpPr/>
            <p:nvPr/>
          </p:nvSpPr>
          <p:spPr>
            <a:xfrm>
              <a:off x="5522760" y="4754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5376960" y="4816440"/>
              <a:ext cx="284040" cy="193680"/>
              <a:chOff x="5376960" y="4816440"/>
              <a:chExt cx="284040" cy="193680"/>
            </a:xfrm>
          </p:grpSpPr>
          <p:sp>
            <p:nvSpPr>
              <p:cNvPr id="806" name=""/>
              <p:cNvSpPr/>
              <p:nvPr/>
            </p:nvSpPr>
            <p:spPr>
              <a:xfrm>
                <a:off x="5376960" y="481644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5379840" y="4819320"/>
                <a:ext cx="27648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376960" y="4819320"/>
                <a:ext cx="28260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5126040" y="4017240"/>
            <a:ext cx="2159280" cy="609480"/>
            <a:chOff x="5126040" y="4017240"/>
            <a:chExt cx="2159280" cy="609480"/>
          </a:xfrm>
        </p:grpSpPr>
        <p:sp>
          <p:nvSpPr>
            <p:cNvPr id="810" name=""/>
            <p:cNvSpPr/>
            <p:nvPr/>
          </p:nvSpPr>
          <p:spPr>
            <a:xfrm>
              <a:off x="5126040" y="4211640"/>
              <a:ext cx="289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413680" y="4017240"/>
              <a:ext cx="1871640" cy="609480"/>
              <a:chOff x="5413680" y="4017240"/>
              <a:chExt cx="1871640" cy="60948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5416560" y="4079880"/>
                <a:ext cx="231840" cy="210600"/>
                <a:chOff x="5416560" y="4079880"/>
                <a:chExt cx="231840" cy="210600"/>
              </a:xfrm>
            </p:grpSpPr>
            <p:grpSp>
              <p:nvGrpSpPr>
                <p:cNvPr id="813" name=""/>
                <p:cNvGrpSpPr/>
                <p:nvPr/>
              </p:nvGrpSpPr>
              <p:grpSpPr>
                <a:xfrm>
                  <a:off x="5416560" y="4133520"/>
                  <a:ext cx="231840" cy="156960"/>
                  <a:chOff x="5416560" y="4133520"/>
                  <a:chExt cx="231840" cy="15696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>
                    <a:off x="5416560" y="413352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5442120" y="4155480"/>
                    <a:ext cx="183960" cy="110880"/>
                  </a:xfrm>
                  <a:prstGeom prst="rect">
                    <a:avLst/>
                  </a:prstGeom>
                  <a:solidFill>
                    <a:srgbClr val="99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6" name=""/>
                <p:cNvSpPr/>
                <p:nvPr/>
              </p:nvSpPr>
              <p:spPr>
                <a:xfrm>
                  <a:off x="5518440" y="40798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5443560" y="4297320"/>
                <a:ext cx="0" cy="1029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634360" y="401724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674320" y="4152240"/>
                <a:ext cx="1604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              US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5413680" y="4304520"/>
                <a:ext cx="1871640" cy="322200"/>
                <a:chOff x="5413680" y="4304520"/>
                <a:chExt cx="1871640" cy="32220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634360" y="430452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672160" y="4411080"/>
                  <a:ext cx="1613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Jeep                           US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3" name=""/>
                <p:cNvGrpSpPr/>
                <p:nvPr/>
              </p:nvGrpSpPr>
              <p:grpSpPr>
                <a:xfrm>
                  <a:off x="5413680" y="4352760"/>
                  <a:ext cx="231480" cy="249120"/>
                  <a:chOff x="5413680" y="4352760"/>
                  <a:chExt cx="231480" cy="24912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>
                    <a:off x="5518440" y="43527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5" name=""/>
                  <p:cNvGrpSpPr/>
                  <p:nvPr/>
                </p:nvGrpSpPr>
                <p:grpSpPr>
                  <a:xfrm>
                    <a:off x="5413680" y="4411440"/>
                    <a:ext cx="231480" cy="190440"/>
                    <a:chOff x="5413680" y="4411440"/>
                    <a:chExt cx="231480" cy="190440"/>
                  </a:xfrm>
                </p:grpSpPr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5413680" y="4411440"/>
                      <a:ext cx="231480" cy="156960"/>
                    </a:xfrm>
                    <a:prstGeom prst="rect">
                      <a:avLst/>
                    </a:prstGeom>
                    <a:solidFill>
                      <a:srgbClr val="99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5424480" y="457488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5605560" y="457488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829" name=""/>
          <p:cNvSpPr/>
          <p:nvPr/>
        </p:nvSpPr>
        <p:spPr>
          <a:xfrm>
            <a:off x="5732640" y="5199480"/>
            <a:ext cx="1877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n LMG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2 BA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MC-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126040" y="5403960"/>
            <a:ext cx="23796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5359320" y="5345280"/>
            <a:ext cx="327960" cy="207000"/>
            <a:chOff x="5359320" y="5345280"/>
            <a:chExt cx="327960" cy="207000"/>
          </a:xfrm>
        </p:grpSpPr>
        <p:grpSp>
          <p:nvGrpSpPr>
            <p:cNvPr id="832" name=""/>
            <p:cNvGrpSpPr/>
            <p:nvPr/>
          </p:nvGrpSpPr>
          <p:grpSpPr>
            <a:xfrm>
              <a:off x="5359320" y="5345280"/>
              <a:ext cx="327960" cy="207000"/>
              <a:chOff x="5359320" y="5345280"/>
              <a:chExt cx="327960" cy="207000"/>
            </a:xfrm>
          </p:grpSpPr>
          <p:sp>
            <p:nvSpPr>
              <p:cNvPr id="833" name=""/>
              <p:cNvSpPr/>
              <p:nvPr/>
            </p:nvSpPr>
            <p:spPr>
              <a:xfrm>
                <a:off x="5359320" y="5345280"/>
                <a:ext cx="327960" cy="2070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59320" y="5345280"/>
                <a:ext cx="78840" cy="204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5359320" y="5348880"/>
                <a:ext cx="323280" cy="19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5361840" y="5349240"/>
              <a:ext cx="321120" cy="18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739960" y="228240"/>
            <a:ext cx="3054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BG-10&gt;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688000" y="2025000"/>
            <a:ext cx="105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703840" y="2239200"/>
            <a:ext cx="171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nk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118120" y="2359080"/>
            <a:ext cx="19836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5127480" y="1263240"/>
            <a:ext cx="2237760" cy="690120"/>
            <a:chOff x="5127480" y="1263240"/>
            <a:chExt cx="2237760" cy="690120"/>
          </a:xfrm>
        </p:grpSpPr>
        <p:sp>
          <p:nvSpPr>
            <p:cNvPr id="842" name=""/>
            <p:cNvSpPr/>
            <p:nvPr/>
          </p:nvSpPr>
          <p:spPr>
            <a:xfrm>
              <a:off x="5127480" y="1474560"/>
              <a:ext cx="289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5411880" y="1263240"/>
              <a:ext cx="1953360" cy="690120"/>
              <a:chOff x="5411880" y="1263240"/>
              <a:chExt cx="1953360" cy="69012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5411880" y="1700280"/>
                <a:ext cx="231840" cy="235080"/>
                <a:chOff x="5411880" y="1700280"/>
                <a:chExt cx="231840" cy="235080"/>
              </a:xfrm>
            </p:grpSpPr>
            <p:grpSp>
              <p:nvGrpSpPr>
                <p:cNvPr id="845" name=""/>
                <p:cNvGrpSpPr/>
                <p:nvPr/>
              </p:nvGrpSpPr>
              <p:grpSpPr>
                <a:xfrm>
                  <a:off x="5411880" y="1744920"/>
                  <a:ext cx="231840" cy="190440"/>
                  <a:chOff x="5411880" y="1744920"/>
                  <a:chExt cx="231840" cy="19044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>
                    <a:off x="5411880" y="174492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5423040" y="19083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604120" y="19083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9" name=""/>
                <p:cNvSpPr/>
                <p:nvPr/>
              </p:nvSpPr>
              <p:spPr>
                <a:xfrm>
                  <a:off x="5513400" y="17002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5416560" y="1349640"/>
                <a:ext cx="231840" cy="210600"/>
                <a:chOff x="5416560" y="1349640"/>
                <a:chExt cx="231840" cy="210600"/>
              </a:xfrm>
            </p:grpSpPr>
            <p:grpSp>
              <p:nvGrpSpPr>
                <p:cNvPr id="851" name=""/>
                <p:cNvGrpSpPr/>
                <p:nvPr/>
              </p:nvGrpSpPr>
              <p:grpSpPr>
                <a:xfrm>
                  <a:off x="5416560" y="1403280"/>
                  <a:ext cx="231840" cy="156960"/>
                  <a:chOff x="5416560" y="1403280"/>
                  <a:chExt cx="231840" cy="15696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>
                    <a:off x="5416560" y="1403280"/>
                    <a:ext cx="231840" cy="156960"/>
                  </a:xfrm>
                  <a:prstGeom prst="rect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5442120" y="1425240"/>
                    <a:ext cx="183960" cy="110880"/>
                  </a:xfrm>
                  <a:prstGeom prst="rect">
                    <a:avLst/>
                  </a:prstGeom>
                  <a:solidFill>
                    <a:srgbClr val="99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4" name=""/>
                <p:cNvSpPr/>
                <p:nvPr/>
              </p:nvSpPr>
              <p:spPr>
                <a:xfrm>
                  <a:off x="5518440" y="13496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>
                <a:off x="5702760" y="1263240"/>
                <a:ext cx="650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702760" y="1550520"/>
                <a:ext cx="61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744520" y="1398240"/>
                <a:ext cx="1211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US-1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741280" y="1737720"/>
                <a:ext cx="1623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Scout Car M3             US-3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462640" y="1560600"/>
                <a:ext cx="0" cy="1778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0" name=""/>
          <p:cNvSpPr/>
          <p:nvPr/>
        </p:nvSpPr>
        <p:spPr>
          <a:xfrm>
            <a:off x="5688000" y="2025000"/>
            <a:ext cx="105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118120" y="1303200"/>
            <a:ext cx="9360" cy="2584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5089680" y="925560"/>
            <a:ext cx="75960" cy="63360"/>
            <a:chOff x="5089680" y="925560"/>
            <a:chExt cx="75960" cy="63360"/>
          </a:xfrm>
        </p:grpSpPr>
        <p:sp>
          <p:nvSpPr>
            <p:cNvPr id="863" name=""/>
            <p:cNvSpPr/>
            <p:nvPr/>
          </p:nvSpPr>
          <p:spPr>
            <a:xfrm>
              <a:off x="5089680" y="925560"/>
              <a:ext cx="7596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5089680" y="925560"/>
              <a:ext cx="7596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5370480" y="3789360"/>
            <a:ext cx="329760" cy="220320"/>
            <a:chOff x="5370480" y="3789360"/>
            <a:chExt cx="329760" cy="220320"/>
          </a:xfrm>
        </p:grpSpPr>
        <p:sp>
          <p:nvSpPr>
            <p:cNvPr id="866" name=""/>
            <p:cNvSpPr/>
            <p:nvPr/>
          </p:nvSpPr>
          <p:spPr>
            <a:xfrm>
              <a:off x="5370480" y="3789360"/>
              <a:ext cx="329760" cy="220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03680" y="3866760"/>
              <a:ext cx="6552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451480" y="3711600"/>
            <a:ext cx="131760" cy="64800"/>
            <a:chOff x="5451480" y="3711600"/>
            <a:chExt cx="131760" cy="64800"/>
          </a:xfrm>
        </p:grpSpPr>
        <p:sp>
          <p:nvSpPr>
            <p:cNvPr id="869" name=""/>
            <p:cNvSpPr/>
            <p:nvPr/>
          </p:nvSpPr>
          <p:spPr>
            <a:xfrm>
              <a:off x="5451480" y="37130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83240" y="3711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41880" y="3887640"/>
            <a:ext cx="23832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881680" y="3776040"/>
            <a:ext cx="171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v SPM Artillery Reg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5624640" y="4208400"/>
            <a:ext cx="231480" cy="157320"/>
            <a:chOff x="5624640" y="4208400"/>
            <a:chExt cx="231480" cy="157320"/>
          </a:xfrm>
        </p:grpSpPr>
        <p:sp>
          <p:nvSpPr>
            <p:cNvPr id="874" name=""/>
            <p:cNvSpPr/>
            <p:nvPr/>
          </p:nvSpPr>
          <p:spPr>
            <a:xfrm>
              <a:off x="5624640" y="4208400"/>
              <a:ext cx="23148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17880" y="4263840"/>
              <a:ext cx="4572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632560" y="4551480"/>
            <a:ext cx="231840" cy="156960"/>
            <a:chOff x="5632560" y="4551480"/>
            <a:chExt cx="231840" cy="156960"/>
          </a:xfrm>
        </p:grpSpPr>
        <p:sp>
          <p:nvSpPr>
            <p:cNvPr id="877" name=""/>
            <p:cNvSpPr/>
            <p:nvPr/>
          </p:nvSpPr>
          <p:spPr>
            <a:xfrm>
              <a:off x="5632560" y="4551480"/>
              <a:ext cx="23184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26160" y="4606560"/>
              <a:ext cx="4608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643720" y="4869000"/>
            <a:ext cx="231480" cy="156960"/>
            <a:chOff x="5643720" y="4869000"/>
            <a:chExt cx="231480" cy="156960"/>
          </a:xfrm>
        </p:grpSpPr>
        <p:sp>
          <p:nvSpPr>
            <p:cNvPr id="880" name=""/>
            <p:cNvSpPr/>
            <p:nvPr/>
          </p:nvSpPr>
          <p:spPr>
            <a:xfrm>
              <a:off x="5643720" y="4869000"/>
              <a:ext cx="23148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6960" y="4924080"/>
              <a:ext cx="4572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5518080" y="4014720"/>
            <a:ext cx="0" cy="933480"/>
          </a:xfrm>
          <a:prstGeom prst="line">
            <a:avLst/>
          </a:prstGeom>
          <a:ln w="1908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5518080" y="4280040"/>
            <a:ext cx="10656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5508720" y="4640400"/>
            <a:ext cx="12384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517720" y="4938840"/>
            <a:ext cx="136440" cy="0"/>
          </a:xfrm>
          <a:prstGeom prst="line">
            <a:avLst/>
          </a:prstGeom>
          <a:ln w="936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33960" y="4105800"/>
            <a:ext cx="1150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bc136"/>
                </a:solidFill>
                <a:latin typeface="Arial"/>
              </a:rPr>
              <a:t>PIFS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033960" y="4534560"/>
            <a:ext cx="1150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bc136"/>
                </a:solidFill>
                <a:latin typeface="Arial"/>
              </a:rPr>
              <a:t>PIFS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33960" y="4850280"/>
            <a:ext cx="1150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bc136"/>
                </a:solidFill>
                <a:latin typeface="Arial"/>
              </a:rPr>
              <a:t>PIFS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184720" y="5364000"/>
            <a:ext cx="22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Two Bns were on North Luzon and the third was attached to South Luzon For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4975200" y="1104840"/>
            <a:ext cx="284040" cy="193680"/>
            <a:chOff x="4975200" y="1104840"/>
            <a:chExt cx="284040" cy="193680"/>
          </a:xfrm>
        </p:grpSpPr>
        <p:sp>
          <p:nvSpPr>
            <p:cNvPr id="891" name=""/>
            <p:cNvSpPr/>
            <p:nvPr/>
          </p:nvSpPr>
          <p:spPr>
            <a:xfrm>
              <a:off x="4975200" y="1104840"/>
              <a:ext cx="28404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7040" y="1153080"/>
              <a:ext cx="182160" cy="92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203040" y="322596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BG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60240" y="36831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nk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050840" y="5126040"/>
            <a:ext cx="23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ight Tank Compan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736560" y="5222880"/>
            <a:ext cx="231840" cy="146160"/>
            <a:chOff x="736560" y="5222880"/>
            <a:chExt cx="231840" cy="146160"/>
          </a:xfrm>
        </p:grpSpPr>
        <p:sp>
          <p:nvSpPr>
            <p:cNvPr id="897" name=""/>
            <p:cNvSpPr/>
            <p:nvPr/>
          </p:nvSpPr>
          <p:spPr>
            <a:xfrm>
              <a:off x="736560" y="5222880"/>
              <a:ext cx="231840" cy="146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9040" y="5259240"/>
              <a:ext cx="14868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 flipH="1">
            <a:off x="420840" y="5397480"/>
            <a:ext cx="10800" cy="374760"/>
          </a:xfrm>
          <a:prstGeom prst="line">
            <a:avLst/>
          </a:prstGeom>
          <a:ln w="19080">
            <a:solidFill>
              <a:srgbClr val="0bc13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711360" y="5695920"/>
            <a:ext cx="231480" cy="157320"/>
            <a:chOff x="711360" y="5695920"/>
            <a:chExt cx="231480" cy="157320"/>
          </a:xfrm>
        </p:grpSpPr>
        <p:sp>
          <p:nvSpPr>
            <p:cNvPr id="901" name=""/>
            <p:cNvSpPr/>
            <p:nvPr/>
          </p:nvSpPr>
          <p:spPr>
            <a:xfrm>
              <a:off x="711360" y="5695920"/>
              <a:ext cx="23148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13520" y="5697720"/>
              <a:ext cx="22536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1360" y="5698080"/>
              <a:ext cx="230400" cy="14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1177920" y="5695920"/>
            <a:ext cx="23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arly US Inf               US-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77920" y="6062760"/>
            <a:ext cx="23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ren carrier               BR-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177920" y="595476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31640" y="5772240"/>
            <a:ext cx="270000" cy="0"/>
          </a:xfrm>
          <a:prstGeom prst="line">
            <a:avLst/>
          </a:prstGeom>
          <a:ln w="19080">
            <a:solidFill>
              <a:srgbClr val="0bc13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24040" y="5853240"/>
            <a:ext cx="0" cy="315720"/>
          </a:xfrm>
          <a:prstGeom prst="line">
            <a:avLst/>
          </a:prstGeom>
          <a:ln w="19080">
            <a:solidFill>
              <a:srgbClr val="0bc13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43120" y="6168960"/>
            <a:ext cx="207720" cy="0"/>
          </a:xfrm>
          <a:prstGeom prst="line">
            <a:avLst/>
          </a:prstGeom>
          <a:ln w="19080">
            <a:solidFill>
              <a:srgbClr val="0bc13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47800" y="5159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50840" y="440856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Jeep                      US-1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974880" y="4027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441360" y="4146480"/>
            <a:ext cx="2590560" cy="279720"/>
            <a:chOff x="441360" y="4146480"/>
            <a:chExt cx="2590560" cy="279720"/>
          </a:xfrm>
        </p:grpSpPr>
        <p:sp>
          <p:nvSpPr>
            <p:cNvPr id="914" name=""/>
            <p:cNvSpPr/>
            <p:nvPr/>
          </p:nvSpPr>
          <p:spPr>
            <a:xfrm>
              <a:off x="441360" y="425592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50840" y="417996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US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745920" y="4146480"/>
              <a:ext cx="231840" cy="200160"/>
              <a:chOff x="745920" y="4146480"/>
              <a:chExt cx="231840" cy="200160"/>
            </a:xfrm>
          </p:grpSpPr>
          <p:grpSp>
            <p:nvGrpSpPr>
              <p:cNvPr id="917" name=""/>
              <p:cNvGrpSpPr/>
              <p:nvPr/>
            </p:nvGrpSpPr>
            <p:grpSpPr>
              <a:xfrm>
                <a:off x="745920" y="4189320"/>
                <a:ext cx="231840" cy="157320"/>
                <a:chOff x="745920" y="4189320"/>
                <a:chExt cx="231840" cy="1573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745920" y="4189320"/>
                  <a:ext cx="23184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69680" y="4211640"/>
                  <a:ext cx="184320" cy="11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0" name=""/>
              <p:cNvSpPr/>
              <p:nvPr/>
            </p:nvSpPr>
            <p:spPr>
              <a:xfrm>
                <a:off x="844560" y="41464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"/>
          <p:cNvGrpSpPr/>
          <p:nvPr/>
        </p:nvGrpSpPr>
        <p:grpSpPr>
          <a:xfrm>
            <a:off x="746280" y="4338720"/>
            <a:ext cx="231480" cy="259920"/>
            <a:chOff x="746280" y="4338720"/>
            <a:chExt cx="231480" cy="259920"/>
          </a:xfrm>
        </p:grpSpPr>
        <p:sp>
          <p:nvSpPr>
            <p:cNvPr id="922" name=""/>
            <p:cNvSpPr/>
            <p:nvPr/>
          </p:nvSpPr>
          <p:spPr>
            <a:xfrm>
              <a:off x="776160" y="4338720"/>
              <a:ext cx="0" cy="680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746280" y="4408560"/>
              <a:ext cx="231480" cy="190080"/>
              <a:chOff x="746280" y="4408560"/>
              <a:chExt cx="231480" cy="190080"/>
            </a:xfrm>
          </p:grpSpPr>
          <p:sp>
            <p:nvSpPr>
              <p:cNvPr id="924" name=""/>
              <p:cNvSpPr/>
              <p:nvPr/>
            </p:nvSpPr>
            <p:spPr>
              <a:xfrm>
                <a:off x="746280" y="4408560"/>
                <a:ext cx="231480" cy="1569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56720" y="4571280"/>
                <a:ext cx="2700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938520" y="4571280"/>
                <a:ext cx="273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844560" y="43606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420840" y="4029120"/>
            <a:ext cx="0" cy="1293840"/>
          </a:xfrm>
          <a:prstGeom prst="line">
            <a:avLst/>
          </a:prstGeom>
          <a:ln w="1908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31640" y="5322960"/>
            <a:ext cx="316080" cy="0"/>
          </a:xfrm>
          <a:prstGeom prst="line">
            <a:avLst/>
          </a:prstGeom>
          <a:ln w="1908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117440" y="532296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PIME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279360" y="3759120"/>
            <a:ext cx="284040" cy="269640"/>
            <a:chOff x="279360" y="3759120"/>
            <a:chExt cx="284040" cy="269640"/>
          </a:xfrm>
        </p:grpSpPr>
        <p:grpSp>
          <p:nvGrpSpPr>
            <p:cNvPr id="932" name=""/>
            <p:cNvGrpSpPr/>
            <p:nvPr/>
          </p:nvGrpSpPr>
          <p:grpSpPr>
            <a:xfrm>
              <a:off x="279360" y="3835080"/>
              <a:ext cx="284040" cy="193680"/>
              <a:chOff x="279360" y="3835080"/>
              <a:chExt cx="284040" cy="193680"/>
            </a:xfrm>
          </p:grpSpPr>
          <p:sp>
            <p:nvSpPr>
              <p:cNvPr id="933" name=""/>
              <p:cNvSpPr/>
              <p:nvPr/>
            </p:nvSpPr>
            <p:spPr>
              <a:xfrm>
                <a:off x="279360" y="3835080"/>
                <a:ext cx="284040" cy="1936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31200" y="3883320"/>
                <a:ext cx="182160" cy="925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420480" y="3759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2160" y="3759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5319720" y="2184480"/>
            <a:ext cx="999720" cy="386280"/>
            <a:chOff x="5319720" y="2184480"/>
            <a:chExt cx="999720" cy="386280"/>
          </a:xfrm>
        </p:grpSpPr>
        <p:sp>
          <p:nvSpPr>
            <p:cNvPr id="938" name=""/>
            <p:cNvSpPr/>
            <p:nvPr/>
          </p:nvSpPr>
          <p:spPr>
            <a:xfrm>
              <a:off x="5742360" y="2355120"/>
              <a:ext cx="57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BG-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5319720" y="2184480"/>
              <a:ext cx="284040" cy="269640"/>
              <a:chOff x="5319720" y="2184480"/>
              <a:chExt cx="284040" cy="26964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5319720" y="2260440"/>
                <a:ext cx="284040" cy="193680"/>
                <a:chOff x="5319720" y="2260440"/>
                <a:chExt cx="284040" cy="19368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5319720" y="2260440"/>
                  <a:ext cx="284040" cy="1936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371560" y="2308680"/>
                  <a:ext cx="182160" cy="925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"/>
              <p:cNvSpPr/>
              <p:nvPr/>
            </p:nvSpPr>
            <p:spPr>
              <a:xfrm>
                <a:off x="5460840" y="2184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492520" y="21844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5" name=""/>
          <p:cNvGrpSpPr/>
          <p:nvPr/>
        </p:nvGrpSpPr>
        <p:grpSpPr>
          <a:xfrm>
            <a:off x="5319720" y="2606760"/>
            <a:ext cx="999720" cy="386280"/>
            <a:chOff x="5319720" y="2606760"/>
            <a:chExt cx="999720" cy="386280"/>
          </a:xfrm>
        </p:grpSpPr>
        <p:sp>
          <p:nvSpPr>
            <p:cNvPr id="946" name=""/>
            <p:cNvSpPr/>
            <p:nvPr/>
          </p:nvSpPr>
          <p:spPr>
            <a:xfrm>
              <a:off x="5742360" y="2777400"/>
              <a:ext cx="57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Arial"/>
                </a:rPr>
                <a:t>PIBG-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5319720" y="2606760"/>
              <a:ext cx="284040" cy="269640"/>
              <a:chOff x="5319720" y="2606760"/>
              <a:chExt cx="284040" cy="269640"/>
            </a:xfrm>
          </p:grpSpPr>
          <p:grpSp>
            <p:nvGrpSpPr>
              <p:cNvPr id="948" name=""/>
              <p:cNvGrpSpPr/>
              <p:nvPr/>
            </p:nvGrpSpPr>
            <p:grpSpPr>
              <a:xfrm>
                <a:off x="5319720" y="2682720"/>
                <a:ext cx="284040" cy="193680"/>
                <a:chOff x="5319720" y="2682720"/>
                <a:chExt cx="284040" cy="19368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5319720" y="2682720"/>
                  <a:ext cx="284040" cy="1936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371560" y="2730960"/>
                  <a:ext cx="182160" cy="925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1" name=""/>
              <p:cNvSpPr/>
              <p:nvPr/>
            </p:nvSpPr>
            <p:spPr>
              <a:xfrm>
                <a:off x="5460840" y="2606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492520" y="26067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3" name=""/>
          <p:cNvSpPr/>
          <p:nvPr/>
        </p:nvSpPr>
        <p:spPr>
          <a:xfrm>
            <a:off x="5149800" y="2824200"/>
            <a:ext cx="19836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726160" y="2606040"/>
            <a:ext cx="171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nk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7080" y="49068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BG-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84280" y="76500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Cav (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984240" y="1808280"/>
            <a:ext cx="23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av Sd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669960" y="1905120"/>
            <a:ext cx="231840" cy="145800"/>
            <a:chOff x="669960" y="1905120"/>
            <a:chExt cx="231840" cy="145800"/>
          </a:xfrm>
        </p:grpSpPr>
        <p:sp>
          <p:nvSpPr>
            <p:cNvPr id="959" name=""/>
            <p:cNvSpPr/>
            <p:nvPr/>
          </p:nvSpPr>
          <p:spPr>
            <a:xfrm>
              <a:off x="669960" y="1905120"/>
              <a:ext cx="231840" cy="145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12440" y="1941480"/>
              <a:ext cx="148680" cy="69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 flipH="1">
            <a:off x="330120" y="2001960"/>
            <a:ext cx="14400" cy="990360"/>
          </a:xfrm>
          <a:prstGeom prst="line">
            <a:avLst/>
          </a:prstGeom>
          <a:ln w="1908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050840" y="2533680"/>
            <a:ext cx="23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vy Wpns 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33560" y="269064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PIME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8000" y="2698920"/>
            <a:ext cx="269640" cy="0"/>
          </a:xfrm>
          <a:prstGeom prst="line">
            <a:avLst/>
          </a:prstGeom>
          <a:ln w="1908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3360" y="2992320"/>
            <a:ext cx="270000" cy="0"/>
          </a:xfrm>
          <a:prstGeom prst="line">
            <a:avLst/>
          </a:prstGeom>
          <a:ln w="1908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81200" y="18414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974880" y="149076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av FR-31 when mou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98560" y="1109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365040" y="1228680"/>
            <a:ext cx="2590560" cy="279720"/>
            <a:chOff x="365040" y="1228680"/>
            <a:chExt cx="2590560" cy="279720"/>
          </a:xfrm>
        </p:grpSpPr>
        <p:sp>
          <p:nvSpPr>
            <p:cNvPr id="970" name=""/>
            <p:cNvSpPr/>
            <p:nvPr/>
          </p:nvSpPr>
          <p:spPr>
            <a:xfrm>
              <a:off x="365040" y="133812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74520" y="126216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Commander          US-1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669600" y="1228680"/>
              <a:ext cx="231840" cy="200160"/>
              <a:chOff x="669600" y="1228680"/>
              <a:chExt cx="231840" cy="20016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669600" y="1271520"/>
                <a:ext cx="231840" cy="157320"/>
                <a:chOff x="669600" y="1271520"/>
                <a:chExt cx="231840" cy="15732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669600" y="1271520"/>
                  <a:ext cx="231840" cy="1573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93360" y="1293840"/>
                  <a:ext cx="184320" cy="11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6" name=""/>
              <p:cNvSpPr/>
              <p:nvPr/>
            </p:nvSpPr>
            <p:spPr>
              <a:xfrm>
                <a:off x="768240" y="1228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7" name=""/>
          <p:cNvSpPr/>
          <p:nvPr/>
        </p:nvSpPr>
        <p:spPr>
          <a:xfrm>
            <a:off x="700200" y="1420920"/>
            <a:ext cx="0" cy="680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68240" y="1442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44520" y="1111320"/>
            <a:ext cx="0" cy="893520"/>
          </a:xfrm>
          <a:prstGeom prst="line">
            <a:avLst/>
          </a:prstGeom>
          <a:ln w="1908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65040" y="2004840"/>
            <a:ext cx="316080" cy="0"/>
          </a:xfrm>
          <a:prstGeom prst="line">
            <a:avLst/>
          </a:prstGeom>
          <a:ln w="1908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50840" y="200484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PIBG-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223920" y="929880"/>
            <a:ext cx="239760" cy="157680"/>
            <a:chOff x="223920" y="929880"/>
            <a:chExt cx="239760" cy="157680"/>
          </a:xfrm>
        </p:grpSpPr>
        <p:sp>
          <p:nvSpPr>
            <p:cNvPr id="983" name=""/>
            <p:cNvSpPr/>
            <p:nvPr/>
          </p:nvSpPr>
          <p:spPr>
            <a:xfrm>
              <a:off x="223920" y="930240"/>
              <a:ext cx="23976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223920" y="929880"/>
              <a:ext cx="2365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601560" y="1506600"/>
            <a:ext cx="239760" cy="156960"/>
            <a:chOff x="601560" y="1506600"/>
            <a:chExt cx="239760" cy="156960"/>
          </a:xfrm>
        </p:grpSpPr>
        <p:sp>
          <p:nvSpPr>
            <p:cNvPr id="986" name=""/>
            <p:cNvSpPr/>
            <p:nvPr/>
          </p:nvSpPr>
          <p:spPr>
            <a:xfrm>
              <a:off x="601560" y="1506600"/>
              <a:ext cx="239760" cy="15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601560" y="1506600"/>
              <a:ext cx="2365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58800" y="2598840"/>
            <a:ext cx="239760" cy="166680"/>
            <a:chOff x="658800" y="2598840"/>
            <a:chExt cx="239760" cy="166680"/>
          </a:xfrm>
        </p:grpSpPr>
        <p:grpSp>
          <p:nvGrpSpPr>
            <p:cNvPr id="989" name=""/>
            <p:cNvGrpSpPr/>
            <p:nvPr/>
          </p:nvGrpSpPr>
          <p:grpSpPr>
            <a:xfrm>
              <a:off x="658800" y="2608200"/>
              <a:ext cx="239760" cy="157320"/>
              <a:chOff x="658800" y="2608200"/>
              <a:chExt cx="239760" cy="157320"/>
            </a:xfrm>
          </p:grpSpPr>
          <p:sp>
            <p:nvSpPr>
              <p:cNvPr id="990" name=""/>
              <p:cNvSpPr/>
              <p:nvPr/>
            </p:nvSpPr>
            <p:spPr>
              <a:xfrm>
                <a:off x="658800" y="2608200"/>
                <a:ext cx="239760" cy="157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779400" y="2629440"/>
                <a:ext cx="2160" cy="10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43400" y="2733120"/>
                <a:ext cx="680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 flipH="1">
              <a:off x="658800" y="2598840"/>
              <a:ext cx="23976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92200" y="2901960"/>
            <a:ext cx="231840" cy="157320"/>
            <a:chOff x="592200" y="2901960"/>
            <a:chExt cx="231840" cy="157320"/>
          </a:xfrm>
        </p:grpSpPr>
        <p:sp>
          <p:nvSpPr>
            <p:cNvPr id="995" name=""/>
            <p:cNvSpPr/>
            <p:nvPr/>
          </p:nvSpPr>
          <p:spPr>
            <a:xfrm>
              <a:off x="592200" y="2901960"/>
              <a:ext cx="23184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92200" y="2901960"/>
              <a:ext cx="55800" cy="155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592200" y="2904840"/>
              <a:ext cx="2286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1042920" y="2860560"/>
            <a:ext cx="23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  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033560" y="31050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PIME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31640" y="4857840"/>
            <a:ext cx="316080" cy="0"/>
          </a:xfrm>
          <a:prstGeom prst="line">
            <a:avLst/>
          </a:prstGeom>
          <a:ln w="19080">
            <a:solidFill>
              <a:srgbClr val="0bc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757080" y="4773240"/>
            <a:ext cx="247680" cy="189360"/>
            <a:chOff x="757080" y="4773240"/>
            <a:chExt cx="247680" cy="189360"/>
          </a:xfrm>
        </p:grpSpPr>
        <p:sp>
          <p:nvSpPr>
            <p:cNvPr id="1002" name=""/>
            <p:cNvSpPr/>
            <p:nvPr/>
          </p:nvSpPr>
          <p:spPr>
            <a:xfrm>
              <a:off x="757080" y="4773600"/>
              <a:ext cx="23976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1480" y="4935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84160" y="4934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60480" y="4934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04680" y="4934160"/>
              <a:ext cx="6192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98480" y="4808520"/>
              <a:ext cx="16524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68240" y="4773240"/>
              <a:ext cx="23652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1060560" y="4606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Recon P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117440" y="47815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alftrack              US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21400" y="65088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BG-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330120" y="2052720"/>
            <a:ext cx="2949120" cy="451080"/>
            <a:chOff x="330120" y="2052720"/>
            <a:chExt cx="2949120" cy="451080"/>
          </a:xfrm>
        </p:grpSpPr>
        <p:sp>
          <p:nvSpPr>
            <p:cNvPr id="1013" name=""/>
            <p:cNvSpPr/>
            <p:nvPr/>
          </p:nvSpPr>
          <p:spPr>
            <a:xfrm>
              <a:off x="939600" y="2257560"/>
              <a:ext cx="233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 2 M2 Scout Cars – use    US-3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0120" y="2378160"/>
              <a:ext cx="29520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34680" y="2284560"/>
              <a:ext cx="231480" cy="15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5840" y="24480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26920" y="244800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8160" y="2325960"/>
              <a:ext cx="161280" cy="75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636120" y="2284560"/>
              <a:ext cx="228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12440" y="223848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59960" y="22402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75880" y="2052720"/>
              <a:ext cx="159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Rec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33240" y="159840"/>
            <a:ext cx="77724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BG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5920" y="1585800"/>
            <a:ext cx="3200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IBG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25320" y="2197080"/>
            <a:ext cx="0" cy="77472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53920" y="198756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n, 26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Cav (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008000" y="2521080"/>
            <a:ext cx="0" cy="950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311120" y="259704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av when mounted FR-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30240" y="2624040"/>
            <a:ext cx="290520" cy="15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930240" y="2624040"/>
            <a:ext cx="28908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1031760" y="2583000"/>
            <a:ext cx="93240" cy="28080"/>
            <a:chOff x="1031760" y="2583000"/>
            <a:chExt cx="93240" cy="28080"/>
          </a:xfrm>
        </p:grpSpPr>
        <p:sp>
          <p:nvSpPr>
            <p:cNvPr id="1032" name=""/>
            <p:cNvSpPr/>
            <p:nvPr/>
          </p:nvSpPr>
          <p:spPr>
            <a:xfrm>
              <a:off x="1031760" y="2583000"/>
              <a:ext cx="35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091160" y="2584440"/>
              <a:ext cx="338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1398600" y="23652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md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US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190520" y="22129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57360" y="2441520"/>
            <a:ext cx="3045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961920" y="2317680"/>
            <a:ext cx="231840" cy="200160"/>
            <a:chOff x="961920" y="2317680"/>
            <a:chExt cx="231840" cy="200160"/>
          </a:xfrm>
        </p:grpSpPr>
        <p:grpSp>
          <p:nvGrpSpPr>
            <p:cNvPr id="1038" name=""/>
            <p:cNvGrpSpPr/>
            <p:nvPr/>
          </p:nvGrpSpPr>
          <p:grpSpPr>
            <a:xfrm>
              <a:off x="961920" y="2365200"/>
              <a:ext cx="231840" cy="152640"/>
              <a:chOff x="961920" y="2365200"/>
              <a:chExt cx="231840" cy="152640"/>
            </a:xfrm>
          </p:grpSpPr>
          <p:sp>
            <p:nvSpPr>
              <p:cNvPr id="1039" name=""/>
              <p:cNvSpPr/>
              <p:nvPr/>
            </p:nvSpPr>
            <p:spPr>
              <a:xfrm>
                <a:off x="961920" y="2365200"/>
                <a:ext cx="231840" cy="1526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961920" y="2365200"/>
                <a:ext cx="55800" cy="151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961920" y="2367000"/>
                <a:ext cx="228240" cy="1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964080" y="2365200"/>
                <a:ext cx="225720" cy="14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038240" y="2317680"/>
              <a:ext cx="74520" cy="28080"/>
              <a:chOff x="1038240" y="2317680"/>
              <a:chExt cx="74520" cy="280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038240" y="23176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85760" y="23191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6" name=""/>
          <p:cNvGrpSpPr/>
          <p:nvPr/>
        </p:nvGrpSpPr>
        <p:grpSpPr>
          <a:xfrm>
            <a:off x="479520" y="2008080"/>
            <a:ext cx="291960" cy="190440"/>
            <a:chOff x="479520" y="2008080"/>
            <a:chExt cx="291960" cy="190440"/>
          </a:xfrm>
        </p:grpSpPr>
        <p:sp>
          <p:nvSpPr>
            <p:cNvPr id="1047" name=""/>
            <p:cNvSpPr/>
            <p:nvPr/>
          </p:nvSpPr>
          <p:spPr>
            <a:xfrm>
              <a:off x="479520" y="2008080"/>
              <a:ext cx="291960" cy="19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3160" y="2055600"/>
              <a:ext cx="184320" cy="90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"/>
          <p:cNvSpPr/>
          <p:nvPr/>
        </p:nvSpPr>
        <p:spPr>
          <a:xfrm flipV="1">
            <a:off x="479520" y="2007720"/>
            <a:ext cx="2872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093680" y="27781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930240" y="2868480"/>
            <a:ext cx="291960" cy="190800"/>
            <a:chOff x="930240" y="2868480"/>
            <a:chExt cx="291960" cy="190800"/>
          </a:xfrm>
        </p:grpSpPr>
        <p:sp>
          <p:nvSpPr>
            <p:cNvPr id="1052" name=""/>
            <p:cNvSpPr/>
            <p:nvPr/>
          </p:nvSpPr>
          <p:spPr>
            <a:xfrm>
              <a:off x="930240" y="2868480"/>
              <a:ext cx="291960" cy="190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83880" y="2916000"/>
              <a:ext cx="184320" cy="91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 flipV="1">
            <a:off x="930240" y="2868480"/>
            <a:ext cx="28728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4800" y="2971800"/>
            <a:ext cx="29520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398600" y="2841480"/>
            <a:ext cx="234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 3 Cavalry tro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9b31"/>
                </a:solidFill>
                <a:latin typeface="Arial"/>
              </a:rPr>
              <a:t>PIME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81040" y="1944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57360" y="1944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13:03:30Z</dcterms:created>
  <dc:creator>JBaker</dc:creator>
  <dc:description/>
  <dc:language>en-US</dc:language>
  <cp:lastModifiedBy>James Baker</cp:lastModifiedBy>
  <dcterms:modified xsi:type="dcterms:W3CDTF">2008-03-21T14:05:59Z</dcterms:modified>
  <cp:revision>43</cp:revision>
  <dc:subject/>
  <dc:title>US Symbols</dc:title>
</cp:coreProperties>
</file>