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D1F4-7E65-46CA-B2F6-F0D5C7721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C0AA-2243-45FD-9599-168492F6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7F68-C77A-4F60-A6ED-AED23F280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F039-74B7-4DD5-819B-D3964722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8E22-7972-4E9F-B32C-DF41009C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9A5C-1721-4CE4-B086-7B45E248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800F-DA47-4C3B-9C67-34F5104E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DD97-EEC7-414B-A0B2-51DA1A96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F625-305C-4305-BA26-BB511D46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D136-DCB1-4334-B321-CCDECBE1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6743-2A96-4963-B4D6-A7CDC668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9BC0-0A0A-4CA9-93FC-6942ADCE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617C-8755-4189-A012-2E4B2A39F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5972040" y="2329920"/>
            <a:ext cx="115920" cy="15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87960" y="2328840"/>
            <a:ext cx="123840" cy="15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838080" y="3048120"/>
            <a:ext cx="231840" cy="156960"/>
            <a:chOff x="838080" y="3048120"/>
            <a:chExt cx="231840" cy="156960"/>
          </a:xfrm>
        </p:grpSpPr>
        <p:sp>
          <p:nvSpPr>
            <p:cNvPr id="44" name=""/>
            <p:cNvSpPr/>
            <p:nvPr/>
          </p:nvSpPr>
          <p:spPr>
            <a:xfrm>
              <a:off x="838080" y="3048120"/>
              <a:ext cx="231840" cy="156960"/>
            </a:xfrm>
            <a:prstGeom prst="rect">
              <a:avLst/>
            </a:prstGeom>
            <a:solidFill>
              <a:srgbClr val="cc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80560" y="3087360"/>
              <a:ext cx="148680" cy="7488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838080" y="3428640"/>
            <a:ext cx="239760" cy="157680"/>
            <a:chOff x="838080" y="3428640"/>
            <a:chExt cx="239760" cy="157680"/>
          </a:xfrm>
        </p:grpSpPr>
        <p:grpSp>
          <p:nvGrpSpPr>
            <p:cNvPr id="47" name=""/>
            <p:cNvGrpSpPr/>
            <p:nvPr/>
          </p:nvGrpSpPr>
          <p:grpSpPr>
            <a:xfrm>
              <a:off x="838080" y="3429000"/>
              <a:ext cx="239760" cy="157320"/>
              <a:chOff x="838080" y="3429000"/>
              <a:chExt cx="239760" cy="157320"/>
            </a:xfrm>
          </p:grpSpPr>
          <p:sp>
            <p:nvSpPr>
              <p:cNvPr id="48" name=""/>
              <p:cNvSpPr/>
              <p:nvPr/>
            </p:nvSpPr>
            <p:spPr>
              <a:xfrm>
                <a:off x="838080" y="3429000"/>
                <a:ext cx="239760" cy="157320"/>
              </a:xfrm>
              <a:prstGeom prst="rect">
                <a:avLst/>
              </a:prstGeom>
              <a:solidFill>
                <a:srgbClr val="cc33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2000" y="3468240"/>
                <a:ext cx="151560" cy="7488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 flipV="1">
              <a:off x="838080" y="3428640"/>
              <a:ext cx="236160" cy="157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838080" y="4267080"/>
            <a:ext cx="241200" cy="157320"/>
            <a:chOff x="838080" y="4267080"/>
            <a:chExt cx="241200" cy="157320"/>
          </a:xfrm>
        </p:grpSpPr>
        <p:sp>
          <p:nvSpPr>
            <p:cNvPr id="52" name=""/>
            <p:cNvSpPr/>
            <p:nvPr/>
          </p:nvSpPr>
          <p:spPr>
            <a:xfrm>
              <a:off x="839160" y="4267080"/>
              <a:ext cx="240120" cy="157320"/>
            </a:xfrm>
            <a:prstGeom prst="rect">
              <a:avLst/>
            </a:prstGeom>
            <a:solidFill>
              <a:srgbClr val="cc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69040" y="4301640"/>
              <a:ext cx="172080" cy="7488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38080" y="4267800"/>
              <a:ext cx="115920" cy="155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54000" y="4267080"/>
              <a:ext cx="124200" cy="156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838080" y="3809520"/>
            <a:ext cx="241560" cy="157680"/>
            <a:chOff x="838080" y="3809520"/>
            <a:chExt cx="241560" cy="157680"/>
          </a:xfrm>
        </p:grpSpPr>
        <p:sp>
          <p:nvSpPr>
            <p:cNvPr id="57" name=""/>
            <p:cNvSpPr/>
            <p:nvPr/>
          </p:nvSpPr>
          <p:spPr>
            <a:xfrm>
              <a:off x="839160" y="3809880"/>
              <a:ext cx="240120" cy="157320"/>
            </a:xfrm>
            <a:prstGeom prst="rect">
              <a:avLst/>
            </a:prstGeom>
            <a:solidFill>
              <a:srgbClr val="cc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75160" y="3848760"/>
              <a:ext cx="169560" cy="7488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839160" y="3809520"/>
              <a:ext cx="237600" cy="155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38080" y="3809880"/>
              <a:ext cx="241560" cy="153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447920" y="3048120"/>
            <a:ext cx="241200" cy="188640"/>
            <a:chOff x="1447920" y="3048120"/>
            <a:chExt cx="241200" cy="188640"/>
          </a:xfrm>
        </p:grpSpPr>
        <p:sp>
          <p:nvSpPr>
            <p:cNvPr id="62" name=""/>
            <p:cNvSpPr/>
            <p:nvPr/>
          </p:nvSpPr>
          <p:spPr>
            <a:xfrm>
              <a:off x="1449360" y="3048120"/>
              <a:ext cx="239760" cy="156960"/>
            </a:xfrm>
            <a:prstGeom prst="rect">
              <a:avLst/>
            </a:prstGeom>
            <a:solidFill>
              <a:srgbClr val="cc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84280" y="3087720"/>
              <a:ext cx="169920" cy="7452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449360" y="3048120"/>
              <a:ext cx="236520" cy="156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47920" y="3048120"/>
              <a:ext cx="241200" cy="153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63760" y="3209760"/>
              <a:ext cx="27000" cy="2700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576440" y="3208320"/>
              <a:ext cx="28440" cy="2700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52760" y="3208320"/>
              <a:ext cx="28440" cy="2700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96960" y="3208320"/>
              <a:ext cx="61920" cy="27000"/>
            </a:xfrm>
            <a:prstGeom prst="rect">
              <a:avLst/>
            </a:prstGeom>
            <a:solidFill>
              <a:srgbClr val="cc3399"/>
            </a:solidFill>
            <a:ln w="936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447920" y="3429000"/>
            <a:ext cx="239760" cy="189000"/>
            <a:chOff x="1447920" y="3429000"/>
            <a:chExt cx="239760" cy="189000"/>
          </a:xfrm>
        </p:grpSpPr>
        <p:sp>
          <p:nvSpPr>
            <p:cNvPr id="71" name=""/>
            <p:cNvSpPr/>
            <p:nvPr/>
          </p:nvSpPr>
          <p:spPr>
            <a:xfrm>
              <a:off x="1447920" y="3429000"/>
              <a:ext cx="239760" cy="157320"/>
            </a:xfrm>
            <a:prstGeom prst="rect">
              <a:avLst/>
            </a:prstGeom>
            <a:solidFill>
              <a:srgbClr val="cc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61960" y="3591000"/>
              <a:ext cx="27000" cy="2700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74640" y="3589200"/>
              <a:ext cx="28800" cy="2700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50960" y="3589200"/>
              <a:ext cx="28440" cy="2700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95520" y="3589200"/>
              <a:ext cx="61920" cy="27000"/>
            </a:xfrm>
            <a:prstGeom prst="rect">
              <a:avLst/>
            </a:prstGeom>
            <a:solidFill>
              <a:srgbClr val="cc3399"/>
            </a:solidFill>
            <a:ln w="936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81040" y="3463920"/>
              <a:ext cx="165240" cy="8424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68520" y="3479760"/>
              <a:ext cx="0" cy="493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535040" y="3530520"/>
              <a:ext cx="68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108160" y="3005280"/>
            <a:ext cx="238320" cy="156960"/>
          </a:xfrm>
          <a:prstGeom prst="rect">
            <a:avLst/>
          </a:prstGeom>
          <a:solidFill>
            <a:srgbClr val="cc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47920" y="4267080"/>
            <a:ext cx="231480" cy="190440"/>
            <a:chOff x="1447920" y="4267080"/>
            <a:chExt cx="231480" cy="190440"/>
          </a:xfrm>
        </p:grpSpPr>
        <p:sp>
          <p:nvSpPr>
            <p:cNvPr id="81" name=""/>
            <p:cNvSpPr/>
            <p:nvPr/>
          </p:nvSpPr>
          <p:spPr>
            <a:xfrm>
              <a:off x="1447920" y="4267080"/>
              <a:ext cx="231480" cy="157320"/>
            </a:xfrm>
            <a:prstGeom prst="rect">
              <a:avLst/>
            </a:prstGeom>
            <a:solidFill>
              <a:srgbClr val="cc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1447920" y="4267080"/>
              <a:ext cx="230400" cy="156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58360" y="4430160"/>
              <a:ext cx="27000" cy="2736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40160" y="4430160"/>
              <a:ext cx="27000" cy="2736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081240" y="3591000"/>
            <a:ext cx="231840" cy="190440"/>
            <a:chOff x="3081240" y="3591000"/>
            <a:chExt cx="231840" cy="190440"/>
          </a:xfrm>
        </p:grpSpPr>
        <p:sp>
          <p:nvSpPr>
            <p:cNvPr id="86" name=""/>
            <p:cNvSpPr/>
            <p:nvPr/>
          </p:nvSpPr>
          <p:spPr>
            <a:xfrm>
              <a:off x="3081240" y="3591000"/>
              <a:ext cx="231840" cy="156960"/>
            </a:xfrm>
            <a:prstGeom prst="rect">
              <a:avLst/>
            </a:prstGeom>
            <a:solidFill>
              <a:srgbClr val="cc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092400" y="3754440"/>
              <a:ext cx="27000" cy="2700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73480" y="3754440"/>
              <a:ext cx="28440" cy="2700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2133720" y="3809880"/>
            <a:ext cx="231480" cy="157320"/>
            <a:chOff x="2133720" y="3809880"/>
            <a:chExt cx="231480" cy="157320"/>
          </a:xfrm>
        </p:grpSpPr>
        <p:sp>
          <p:nvSpPr>
            <p:cNvPr id="90" name=""/>
            <p:cNvSpPr/>
            <p:nvPr/>
          </p:nvSpPr>
          <p:spPr>
            <a:xfrm>
              <a:off x="2133720" y="3809880"/>
              <a:ext cx="231480" cy="157320"/>
            </a:xfrm>
            <a:prstGeom prst="rect">
              <a:avLst/>
            </a:prstGeom>
            <a:solidFill>
              <a:srgbClr val="cc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05000" y="3857400"/>
              <a:ext cx="0" cy="500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400" y="3859560"/>
              <a:ext cx="0" cy="47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86720" y="3861000"/>
              <a:ext cx="0" cy="46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99960" y="3859560"/>
              <a:ext cx="936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100240" y="4194000"/>
            <a:ext cx="231840" cy="157320"/>
            <a:chOff x="2100240" y="4194000"/>
            <a:chExt cx="231840" cy="157320"/>
          </a:xfrm>
        </p:grpSpPr>
        <p:sp>
          <p:nvSpPr>
            <p:cNvPr id="96" name=""/>
            <p:cNvSpPr/>
            <p:nvPr/>
          </p:nvSpPr>
          <p:spPr>
            <a:xfrm>
              <a:off x="2100240" y="4194000"/>
              <a:ext cx="231840" cy="157320"/>
            </a:xfrm>
            <a:prstGeom prst="rect">
              <a:avLst/>
            </a:prstGeom>
            <a:solidFill>
              <a:srgbClr val="cc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2102400" y="4195800"/>
              <a:ext cx="225720" cy="153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00240" y="4196160"/>
              <a:ext cx="230760" cy="149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838080" y="4648320"/>
            <a:ext cx="241560" cy="156960"/>
            <a:chOff x="838080" y="4648320"/>
            <a:chExt cx="241560" cy="156960"/>
          </a:xfrm>
        </p:grpSpPr>
        <p:sp>
          <p:nvSpPr>
            <p:cNvPr id="100" name=""/>
            <p:cNvSpPr/>
            <p:nvPr/>
          </p:nvSpPr>
          <p:spPr>
            <a:xfrm>
              <a:off x="839160" y="4648320"/>
              <a:ext cx="240480" cy="156960"/>
            </a:xfrm>
            <a:prstGeom prst="rect">
              <a:avLst/>
            </a:prstGeom>
            <a:solidFill>
              <a:srgbClr val="cc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9040" y="4682520"/>
              <a:ext cx="172080" cy="7452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838080" y="4648680"/>
              <a:ext cx="115920" cy="155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54000" y="4648320"/>
              <a:ext cx="124200" cy="155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05040" y="4714920"/>
              <a:ext cx="97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838080" y="4952880"/>
            <a:ext cx="239760" cy="157320"/>
            <a:chOff x="838080" y="4952880"/>
            <a:chExt cx="239760" cy="157320"/>
          </a:xfrm>
        </p:grpSpPr>
        <p:sp>
          <p:nvSpPr>
            <p:cNvPr id="106" name=""/>
            <p:cNvSpPr/>
            <p:nvPr/>
          </p:nvSpPr>
          <p:spPr>
            <a:xfrm>
              <a:off x="838080" y="4952880"/>
              <a:ext cx="239760" cy="157320"/>
            </a:xfrm>
            <a:prstGeom prst="rect">
              <a:avLst/>
            </a:prstGeom>
            <a:solidFill>
              <a:srgbClr val="cc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79480" y="4992840"/>
              <a:ext cx="154080" cy="7452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41400" y="5013360"/>
              <a:ext cx="28440" cy="2700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838080" y="5334120"/>
            <a:ext cx="239760" cy="156960"/>
            <a:chOff x="838080" y="5334120"/>
            <a:chExt cx="239760" cy="156960"/>
          </a:xfrm>
        </p:grpSpPr>
        <p:sp>
          <p:nvSpPr>
            <p:cNvPr id="110" name=""/>
            <p:cNvSpPr/>
            <p:nvPr/>
          </p:nvSpPr>
          <p:spPr>
            <a:xfrm>
              <a:off x="838080" y="5334120"/>
              <a:ext cx="239760" cy="156960"/>
            </a:xfrm>
            <a:prstGeom prst="rect">
              <a:avLst/>
            </a:prstGeom>
            <a:solidFill>
              <a:srgbClr val="cc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838080" y="5335560"/>
              <a:ext cx="238320" cy="154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8080" y="5337000"/>
              <a:ext cx="23832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42840" y="5397480"/>
              <a:ext cx="27000" cy="2700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523880" y="5257440"/>
            <a:ext cx="231840" cy="190440"/>
            <a:chOff x="1523880" y="5257440"/>
            <a:chExt cx="231840" cy="190440"/>
          </a:xfrm>
        </p:grpSpPr>
        <p:sp>
          <p:nvSpPr>
            <p:cNvPr id="115" name=""/>
            <p:cNvSpPr/>
            <p:nvPr/>
          </p:nvSpPr>
          <p:spPr>
            <a:xfrm>
              <a:off x="1523880" y="5257800"/>
              <a:ext cx="231840" cy="156960"/>
            </a:xfrm>
            <a:prstGeom prst="rect">
              <a:avLst/>
            </a:prstGeom>
            <a:solidFill>
              <a:srgbClr val="cc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34320" y="5420880"/>
              <a:ext cx="27000" cy="2700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16120" y="5420880"/>
              <a:ext cx="27360" cy="2700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57000" y="5299200"/>
              <a:ext cx="161640" cy="7488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526040" y="5257440"/>
              <a:ext cx="2278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133720" y="5334120"/>
            <a:ext cx="231480" cy="156960"/>
            <a:chOff x="2133720" y="5334120"/>
            <a:chExt cx="231480" cy="156960"/>
          </a:xfrm>
        </p:grpSpPr>
        <p:sp>
          <p:nvSpPr>
            <p:cNvPr id="121" name=""/>
            <p:cNvSpPr/>
            <p:nvPr/>
          </p:nvSpPr>
          <p:spPr>
            <a:xfrm>
              <a:off x="2133720" y="5334120"/>
              <a:ext cx="231480" cy="156960"/>
            </a:xfrm>
            <a:prstGeom prst="rect">
              <a:avLst/>
            </a:prstGeom>
            <a:solidFill>
              <a:srgbClr val="cc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16160" y="5384880"/>
              <a:ext cx="57240" cy="55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168800" y="514440"/>
            <a:ext cx="131760" cy="27000"/>
            <a:chOff x="4168800" y="514440"/>
            <a:chExt cx="131760" cy="27000"/>
          </a:xfrm>
        </p:grpSpPr>
        <p:sp>
          <p:nvSpPr>
            <p:cNvPr id="124" name=""/>
            <p:cNvSpPr/>
            <p:nvPr/>
          </p:nvSpPr>
          <p:spPr>
            <a:xfrm>
              <a:off x="4168800" y="5144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219560" y="5144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73560" y="5144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673440" y="70956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73440" y="51444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976640" y="1133640"/>
            <a:ext cx="131760" cy="63360"/>
            <a:chOff x="4976640" y="1133640"/>
            <a:chExt cx="131760" cy="63360"/>
          </a:xfrm>
        </p:grpSpPr>
        <p:sp>
          <p:nvSpPr>
            <p:cNvPr id="130" name=""/>
            <p:cNvSpPr/>
            <p:nvPr/>
          </p:nvSpPr>
          <p:spPr>
            <a:xfrm>
              <a:off x="5043240" y="11336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4976640" y="1133640"/>
              <a:ext cx="131760" cy="63360"/>
              <a:chOff x="4976640" y="1133640"/>
              <a:chExt cx="131760" cy="63360"/>
            </a:xfrm>
          </p:grpSpPr>
          <p:sp>
            <p:nvSpPr>
              <p:cNvPr id="132" name=""/>
              <p:cNvSpPr/>
              <p:nvPr/>
            </p:nvSpPr>
            <p:spPr>
              <a:xfrm>
                <a:off x="4976640" y="11336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108400" y="11336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" name=""/>
          <p:cNvGrpSpPr/>
          <p:nvPr/>
        </p:nvGrpSpPr>
        <p:grpSpPr>
          <a:xfrm>
            <a:off x="3860640" y="515880"/>
            <a:ext cx="74520" cy="28800"/>
            <a:chOff x="3860640" y="515880"/>
            <a:chExt cx="74520" cy="28800"/>
          </a:xfrm>
        </p:grpSpPr>
        <p:sp>
          <p:nvSpPr>
            <p:cNvPr id="135" name=""/>
            <p:cNvSpPr/>
            <p:nvPr/>
          </p:nvSpPr>
          <p:spPr>
            <a:xfrm>
              <a:off x="3860640" y="5158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08160" y="5176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9040" y="163440"/>
            <a:ext cx="7772400" cy="1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517840" y="5799240"/>
            <a:ext cx="231840" cy="156960"/>
            <a:chOff x="2517840" y="5799240"/>
            <a:chExt cx="231840" cy="156960"/>
          </a:xfrm>
        </p:grpSpPr>
        <p:sp>
          <p:nvSpPr>
            <p:cNvPr id="139" name=""/>
            <p:cNvSpPr/>
            <p:nvPr/>
          </p:nvSpPr>
          <p:spPr>
            <a:xfrm>
              <a:off x="2517840" y="5799240"/>
              <a:ext cx="231840" cy="156960"/>
            </a:xfrm>
            <a:prstGeom prst="rect">
              <a:avLst/>
            </a:prstGeom>
            <a:solidFill>
              <a:srgbClr val="cc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2517840" y="5802120"/>
              <a:ext cx="11412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1960" y="5799240"/>
              <a:ext cx="114480" cy="153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77960" y="5878440"/>
              <a:ext cx="114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547640" y="4649760"/>
            <a:ext cx="239760" cy="157320"/>
            <a:chOff x="1547640" y="4649760"/>
            <a:chExt cx="239760" cy="157320"/>
          </a:xfrm>
        </p:grpSpPr>
        <p:sp>
          <p:nvSpPr>
            <p:cNvPr id="144" name=""/>
            <p:cNvSpPr/>
            <p:nvPr/>
          </p:nvSpPr>
          <p:spPr>
            <a:xfrm>
              <a:off x="1547640" y="4649760"/>
              <a:ext cx="239760" cy="157320"/>
            </a:xfrm>
            <a:prstGeom prst="rect">
              <a:avLst/>
            </a:prstGeom>
            <a:solidFill>
              <a:srgbClr val="cc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50960" y="4710240"/>
              <a:ext cx="28440" cy="27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878280" y="709560"/>
            <a:ext cx="76320" cy="63720"/>
            <a:chOff x="3878280" y="709560"/>
            <a:chExt cx="76320" cy="63720"/>
          </a:xfrm>
        </p:grpSpPr>
        <p:sp>
          <p:nvSpPr>
            <p:cNvPr id="147" name=""/>
            <p:cNvSpPr/>
            <p:nvPr/>
          </p:nvSpPr>
          <p:spPr>
            <a:xfrm>
              <a:off x="3878280" y="70956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54600" y="70956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030560" y="861480"/>
            <a:ext cx="76320" cy="64080"/>
            <a:chOff x="4030560" y="861480"/>
            <a:chExt cx="76320" cy="64080"/>
          </a:xfrm>
        </p:grpSpPr>
        <p:sp>
          <p:nvSpPr>
            <p:cNvPr id="150" name=""/>
            <p:cNvSpPr/>
            <p:nvPr/>
          </p:nvSpPr>
          <p:spPr>
            <a:xfrm>
              <a:off x="4030560" y="861840"/>
              <a:ext cx="7632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030560" y="861480"/>
              <a:ext cx="7632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059280" y="3005280"/>
            <a:ext cx="239400" cy="156960"/>
            <a:chOff x="3059280" y="3005280"/>
            <a:chExt cx="239400" cy="156960"/>
          </a:xfrm>
        </p:grpSpPr>
        <p:sp>
          <p:nvSpPr>
            <p:cNvPr id="153" name=""/>
            <p:cNvSpPr/>
            <p:nvPr/>
          </p:nvSpPr>
          <p:spPr>
            <a:xfrm>
              <a:off x="3059280" y="3005280"/>
              <a:ext cx="239400" cy="156960"/>
            </a:xfrm>
            <a:prstGeom prst="rect">
              <a:avLst/>
            </a:prstGeom>
            <a:solidFill>
              <a:srgbClr val="cc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43160" y="3130560"/>
              <a:ext cx="676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74840" y="3025440"/>
              <a:ext cx="0" cy="1062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095640" y="3262320"/>
            <a:ext cx="231480" cy="157320"/>
            <a:chOff x="3095640" y="3262320"/>
            <a:chExt cx="231480" cy="157320"/>
          </a:xfrm>
        </p:grpSpPr>
        <p:grpSp>
          <p:nvGrpSpPr>
            <p:cNvPr id="157" name=""/>
            <p:cNvGrpSpPr/>
            <p:nvPr/>
          </p:nvGrpSpPr>
          <p:grpSpPr>
            <a:xfrm>
              <a:off x="3095640" y="3262320"/>
              <a:ext cx="231480" cy="157320"/>
              <a:chOff x="3095640" y="3262320"/>
              <a:chExt cx="231480" cy="157320"/>
            </a:xfrm>
          </p:grpSpPr>
          <p:sp>
            <p:nvSpPr>
              <p:cNvPr id="158" name=""/>
              <p:cNvSpPr/>
              <p:nvPr/>
            </p:nvSpPr>
            <p:spPr>
              <a:xfrm>
                <a:off x="3095640" y="3262320"/>
                <a:ext cx="231480" cy="157320"/>
              </a:xfrm>
              <a:prstGeom prst="rect">
                <a:avLst/>
              </a:prstGeom>
              <a:solidFill>
                <a:srgbClr val="cc33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3095640" y="3265200"/>
                <a:ext cx="11412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209760" y="3262320"/>
                <a:ext cx="114480" cy="154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197160" y="3327480"/>
              <a:ext cx="28800" cy="27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273480" y="4110120"/>
            <a:ext cx="231480" cy="156960"/>
            <a:chOff x="3273480" y="4110120"/>
            <a:chExt cx="231480" cy="156960"/>
          </a:xfrm>
        </p:grpSpPr>
        <p:sp>
          <p:nvSpPr>
            <p:cNvPr id="163" name=""/>
            <p:cNvSpPr/>
            <p:nvPr/>
          </p:nvSpPr>
          <p:spPr>
            <a:xfrm>
              <a:off x="3273480" y="4110120"/>
              <a:ext cx="231480" cy="156960"/>
            </a:xfrm>
            <a:prstGeom prst="rect">
              <a:avLst/>
            </a:prstGeom>
            <a:solidFill>
              <a:srgbClr val="cc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3273480" y="4113000"/>
              <a:ext cx="114120" cy="151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87600" y="4110120"/>
              <a:ext cx="114480" cy="153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144880" y="3341520"/>
            <a:ext cx="245880" cy="168480"/>
            <a:chOff x="2144880" y="3341520"/>
            <a:chExt cx="245880" cy="168480"/>
          </a:xfrm>
        </p:grpSpPr>
        <p:sp>
          <p:nvSpPr>
            <p:cNvPr id="167" name=""/>
            <p:cNvSpPr/>
            <p:nvPr/>
          </p:nvSpPr>
          <p:spPr>
            <a:xfrm>
              <a:off x="2144880" y="3341520"/>
              <a:ext cx="245880" cy="168480"/>
            </a:xfrm>
            <a:prstGeom prst="rect">
              <a:avLst/>
            </a:prstGeom>
            <a:solidFill>
              <a:srgbClr val="cc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155680" y="3355560"/>
              <a:ext cx="220680" cy="128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55680" y="3355920"/>
              <a:ext cx="228600" cy="139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54240" y="3351240"/>
              <a:ext cx="61920" cy="15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761080" y="5280120"/>
            <a:ext cx="231480" cy="198000"/>
            <a:chOff x="5761080" y="5280120"/>
            <a:chExt cx="231480" cy="198000"/>
          </a:xfrm>
        </p:grpSpPr>
        <p:grpSp>
          <p:nvGrpSpPr>
            <p:cNvPr id="172" name=""/>
            <p:cNvGrpSpPr/>
            <p:nvPr/>
          </p:nvGrpSpPr>
          <p:grpSpPr>
            <a:xfrm>
              <a:off x="5761080" y="5280120"/>
              <a:ext cx="231480" cy="156960"/>
              <a:chOff x="5761080" y="5280120"/>
              <a:chExt cx="231480" cy="156960"/>
            </a:xfrm>
          </p:grpSpPr>
          <p:sp>
            <p:nvSpPr>
              <p:cNvPr id="173" name=""/>
              <p:cNvSpPr/>
              <p:nvPr/>
            </p:nvSpPr>
            <p:spPr>
              <a:xfrm>
                <a:off x="5761080" y="5280120"/>
                <a:ext cx="231480" cy="156960"/>
              </a:xfrm>
              <a:prstGeom prst="rect">
                <a:avLst/>
              </a:prstGeom>
              <a:solidFill>
                <a:srgbClr val="cc33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5763240" y="5282280"/>
                <a:ext cx="225360" cy="153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761080" y="5282280"/>
                <a:ext cx="230400" cy="14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5771880" y="5451480"/>
              <a:ext cx="27000" cy="2664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960" y="5451480"/>
              <a:ext cx="28800" cy="2664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7505640" y="3730680"/>
            <a:ext cx="231840" cy="190440"/>
            <a:chOff x="7505640" y="3730680"/>
            <a:chExt cx="231840" cy="190440"/>
          </a:xfrm>
        </p:grpSpPr>
        <p:sp>
          <p:nvSpPr>
            <p:cNvPr id="179" name=""/>
            <p:cNvSpPr/>
            <p:nvPr/>
          </p:nvSpPr>
          <p:spPr>
            <a:xfrm>
              <a:off x="7513560" y="3894120"/>
              <a:ext cx="27000" cy="2700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94640" y="3894120"/>
              <a:ext cx="28440" cy="2700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7505640" y="3730680"/>
              <a:ext cx="231840" cy="156960"/>
              <a:chOff x="7505640" y="3730680"/>
              <a:chExt cx="231840" cy="156960"/>
            </a:xfrm>
          </p:grpSpPr>
          <p:sp>
            <p:nvSpPr>
              <p:cNvPr id="182" name=""/>
              <p:cNvSpPr/>
              <p:nvPr/>
            </p:nvSpPr>
            <p:spPr>
              <a:xfrm>
                <a:off x="7505640" y="3730680"/>
                <a:ext cx="231840" cy="156960"/>
              </a:xfrm>
              <a:prstGeom prst="rect">
                <a:avLst/>
              </a:prstGeom>
              <a:solidFill>
                <a:srgbClr val="cc33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576920" y="3777840"/>
                <a:ext cx="0" cy="5004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618320" y="3780360"/>
                <a:ext cx="0" cy="4752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659000" y="3781800"/>
                <a:ext cx="0" cy="4608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572240" y="3780360"/>
                <a:ext cx="93600" cy="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2692440" y="4378320"/>
            <a:ext cx="231840" cy="157320"/>
            <a:chOff x="2692440" y="4378320"/>
            <a:chExt cx="231840" cy="157320"/>
          </a:xfrm>
        </p:grpSpPr>
        <p:grpSp>
          <p:nvGrpSpPr>
            <p:cNvPr id="188" name=""/>
            <p:cNvGrpSpPr/>
            <p:nvPr/>
          </p:nvGrpSpPr>
          <p:grpSpPr>
            <a:xfrm>
              <a:off x="2692440" y="4378320"/>
              <a:ext cx="231840" cy="157320"/>
              <a:chOff x="2692440" y="4378320"/>
              <a:chExt cx="231840" cy="157320"/>
            </a:xfrm>
          </p:grpSpPr>
          <p:sp>
            <p:nvSpPr>
              <p:cNvPr id="189" name=""/>
              <p:cNvSpPr/>
              <p:nvPr/>
            </p:nvSpPr>
            <p:spPr>
              <a:xfrm>
                <a:off x="2692440" y="4378320"/>
                <a:ext cx="231840" cy="157320"/>
              </a:xfrm>
              <a:prstGeom prst="rect">
                <a:avLst/>
              </a:prstGeom>
              <a:solidFill>
                <a:srgbClr val="cc33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2694600" y="4380120"/>
                <a:ext cx="225720" cy="153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692440" y="4380480"/>
                <a:ext cx="230760" cy="14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2784600" y="4478400"/>
              <a:ext cx="47520" cy="44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7147080" y="1589040"/>
            <a:ext cx="231480" cy="157320"/>
            <a:chOff x="7147080" y="1589040"/>
            <a:chExt cx="231480" cy="157320"/>
          </a:xfrm>
        </p:grpSpPr>
        <p:sp>
          <p:nvSpPr>
            <p:cNvPr id="194" name=""/>
            <p:cNvSpPr/>
            <p:nvPr/>
          </p:nvSpPr>
          <p:spPr>
            <a:xfrm>
              <a:off x="7147080" y="1589040"/>
              <a:ext cx="231480" cy="157320"/>
            </a:xfrm>
            <a:prstGeom prst="rect">
              <a:avLst/>
            </a:prstGeom>
            <a:solidFill>
              <a:srgbClr val="cc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7148520" y="1591920"/>
              <a:ext cx="22716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238880" y="1689120"/>
              <a:ext cx="47880" cy="44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600280" y="4807080"/>
            <a:ext cx="231840" cy="156960"/>
            <a:chOff x="2600280" y="4807080"/>
            <a:chExt cx="231840" cy="156960"/>
          </a:xfrm>
        </p:grpSpPr>
        <p:sp>
          <p:nvSpPr>
            <p:cNvPr id="198" name=""/>
            <p:cNvSpPr/>
            <p:nvPr/>
          </p:nvSpPr>
          <p:spPr>
            <a:xfrm>
              <a:off x="2600280" y="4807080"/>
              <a:ext cx="231840" cy="156960"/>
            </a:xfrm>
            <a:prstGeom prst="rect">
              <a:avLst/>
            </a:prstGeom>
            <a:solidFill>
              <a:srgbClr val="cc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602080" y="4809960"/>
              <a:ext cx="22680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61760" y="0"/>
            <a:ext cx="35974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 BG-01-&gt;BG-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4200" y="488880"/>
            <a:ext cx="1716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Battle Group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mored Regi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79360" y="987480"/>
            <a:ext cx="3009960" cy="3155040"/>
            <a:chOff x="279360" y="987480"/>
            <a:chExt cx="3009960" cy="3155040"/>
          </a:xfrm>
        </p:grpSpPr>
        <p:sp>
          <p:nvSpPr>
            <p:cNvPr id="203" name=""/>
            <p:cNvSpPr/>
            <p:nvPr/>
          </p:nvSpPr>
          <p:spPr>
            <a:xfrm>
              <a:off x="447480" y="1212840"/>
              <a:ext cx="3240" cy="263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79360" y="987480"/>
              <a:ext cx="347400" cy="290160"/>
              <a:chOff x="279360" y="987480"/>
              <a:chExt cx="347400" cy="2901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279360" y="1041480"/>
                <a:ext cx="347400" cy="236160"/>
                <a:chOff x="279360" y="1041480"/>
                <a:chExt cx="347400" cy="2361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79360" y="1041480"/>
                  <a:ext cx="347400" cy="236160"/>
                </a:xfrm>
                <a:prstGeom prst="rect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43080" y="1100520"/>
                  <a:ext cx="222840" cy="112680"/>
                </a:xfrm>
                <a:prstGeom prst="ellipse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387360" y="987480"/>
                <a:ext cx="131760" cy="63360"/>
                <a:chOff x="387360" y="987480"/>
                <a:chExt cx="131760" cy="6336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453960" y="9874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0" name=""/>
                <p:cNvGrpSpPr/>
                <p:nvPr/>
              </p:nvGrpSpPr>
              <p:grpSpPr>
                <a:xfrm>
                  <a:off x="387360" y="987480"/>
                  <a:ext cx="131760" cy="63360"/>
                  <a:chOff x="387360" y="987480"/>
                  <a:chExt cx="131760" cy="6336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387360" y="9874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519120" y="9874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13" name=""/>
            <p:cNvGrpSpPr/>
            <p:nvPr/>
          </p:nvGrpSpPr>
          <p:grpSpPr>
            <a:xfrm>
              <a:off x="458640" y="2190960"/>
              <a:ext cx="2830680" cy="463320"/>
              <a:chOff x="458640" y="2190960"/>
              <a:chExt cx="2830680" cy="463320"/>
            </a:xfrm>
          </p:grpSpPr>
          <p:sp>
            <p:nvSpPr>
              <p:cNvPr id="214" name=""/>
              <p:cNvSpPr/>
              <p:nvPr/>
            </p:nvSpPr>
            <p:spPr>
              <a:xfrm>
                <a:off x="750960" y="2190960"/>
                <a:ext cx="1753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BATTLE GROUP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458640" y="2354400"/>
                <a:ext cx="2830680" cy="299880"/>
                <a:chOff x="458640" y="2354400"/>
                <a:chExt cx="2830680" cy="2998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458640" y="253692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08160" y="242928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2 Medium Tank Battalion  </a:t>
                  </a:r>
                  <a:r>
                    <a:rPr b="1" lang="en-US" sz="800" spc="-1" strike="noStrike">
                      <a:solidFill>
                        <a:srgbClr val="669900"/>
                      </a:solidFill>
                      <a:latin typeface="Arial"/>
                    </a:rPr>
                    <a:t>BG-0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8" name=""/>
                <p:cNvGrpSpPr/>
                <p:nvPr/>
              </p:nvGrpSpPr>
              <p:grpSpPr>
                <a:xfrm>
                  <a:off x="812880" y="2354400"/>
                  <a:ext cx="347040" cy="299880"/>
                  <a:chOff x="812880" y="2354400"/>
                  <a:chExt cx="347040" cy="299880"/>
                </a:xfrm>
              </p:grpSpPr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947520" y="2354400"/>
                    <a:ext cx="76320" cy="63720"/>
                    <a:chOff x="947520" y="2354400"/>
                    <a:chExt cx="76320" cy="63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947520" y="2354400"/>
                      <a:ext cx="0" cy="6372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920" bIns="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1023840" y="2354400"/>
                      <a:ext cx="0" cy="6372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920" bIns="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812880" y="2418120"/>
                    <a:ext cx="347040" cy="236160"/>
                    <a:chOff x="812880" y="2418120"/>
                    <a:chExt cx="347040" cy="23616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812880" y="2418120"/>
                      <a:ext cx="347040" cy="23616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876600" y="2477160"/>
                      <a:ext cx="222840" cy="112680"/>
                    </a:xfrm>
                    <a:prstGeom prst="ellipse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25" name=""/>
            <p:cNvGrpSpPr/>
            <p:nvPr/>
          </p:nvGrpSpPr>
          <p:grpSpPr>
            <a:xfrm>
              <a:off x="449280" y="1325880"/>
              <a:ext cx="2619360" cy="786600"/>
              <a:chOff x="449280" y="1325880"/>
              <a:chExt cx="2619360" cy="786600"/>
            </a:xfrm>
          </p:grpSpPr>
          <p:sp>
            <p:nvSpPr>
              <p:cNvPr id="226" name=""/>
              <p:cNvSpPr/>
              <p:nvPr/>
            </p:nvSpPr>
            <p:spPr>
              <a:xfrm>
                <a:off x="750960" y="1325880"/>
                <a:ext cx="1753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HEADQUARTERS EL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7400" y="1471680"/>
                <a:ext cx="838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8" name=""/>
              <p:cNvGrpSpPr/>
              <p:nvPr/>
            </p:nvGrpSpPr>
            <p:grpSpPr>
              <a:xfrm>
                <a:off x="449280" y="1621080"/>
                <a:ext cx="2619360" cy="227880"/>
                <a:chOff x="449280" y="1621080"/>
                <a:chExt cx="2619360" cy="22788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449280" y="174492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0" name=""/>
                <p:cNvGrpSpPr/>
                <p:nvPr/>
              </p:nvGrpSpPr>
              <p:grpSpPr>
                <a:xfrm>
                  <a:off x="784080" y="1621080"/>
                  <a:ext cx="2284560" cy="227880"/>
                  <a:chOff x="784080" y="1621080"/>
                  <a:chExt cx="2284560" cy="22788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>
                    <a:off x="987480" y="1633320"/>
                    <a:ext cx="208116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 3.7cm Medium Tank     RO-02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2" name=""/>
                  <p:cNvGrpSpPr/>
                  <p:nvPr/>
                </p:nvGrpSpPr>
                <p:grpSpPr>
                  <a:xfrm>
                    <a:off x="784080" y="1621080"/>
                    <a:ext cx="231840" cy="205560"/>
                    <a:chOff x="784080" y="1621080"/>
                    <a:chExt cx="231840" cy="205560"/>
                  </a:xfrm>
                </p:grpSpPr>
                <p:grpSp>
                  <p:nvGrpSpPr>
                    <p:cNvPr id="233" name=""/>
                    <p:cNvGrpSpPr/>
                    <p:nvPr/>
                  </p:nvGrpSpPr>
                  <p:grpSpPr>
                    <a:xfrm>
                      <a:off x="784080" y="1670040"/>
                      <a:ext cx="231840" cy="156600"/>
                      <a:chOff x="784080" y="1670040"/>
                      <a:chExt cx="231840" cy="156600"/>
                    </a:xfrm>
                  </p:grpSpPr>
                  <p:sp>
                    <p:nvSpPr>
                      <p:cNvPr id="234" name=""/>
                      <p:cNvSpPr/>
                      <p:nvPr/>
                    </p:nvSpPr>
                    <p:spPr>
                      <a:xfrm>
                        <a:off x="784080" y="1670040"/>
                        <a:ext cx="231840" cy="156600"/>
                      </a:xfrm>
                      <a:prstGeom prst="rect">
                        <a:avLst/>
                      </a:prstGeom>
                      <a:solidFill>
                        <a:srgbClr val="cc33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5" name=""/>
                      <p:cNvSpPr/>
                      <p:nvPr/>
                    </p:nvSpPr>
                    <p:spPr>
                      <a:xfrm>
                        <a:off x="826560" y="1709280"/>
                        <a:ext cx="148680" cy="74520"/>
                      </a:xfrm>
                      <a:prstGeom prst="ellipse">
                        <a:avLst/>
                      </a:prstGeom>
                      <a:solidFill>
                        <a:srgbClr val="cc33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120" bIns="6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6" name=""/>
                    <p:cNvGrpSpPr/>
                    <p:nvPr/>
                  </p:nvGrpSpPr>
                  <p:grpSpPr>
                    <a:xfrm>
                      <a:off x="863280" y="1621080"/>
                      <a:ext cx="74520" cy="28080"/>
                      <a:chOff x="863280" y="1621080"/>
                      <a:chExt cx="74520" cy="28080"/>
                    </a:xfrm>
                  </p:grpSpPr>
                  <p:sp>
                    <p:nvSpPr>
                      <p:cNvPr id="237" name=""/>
                      <p:cNvSpPr/>
                      <p:nvPr/>
                    </p:nvSpPr>
                    <p:spPr>
                      <a:xfrm>
                        <a:off x="863280" y="1621080"/>
                        <a:ext cx="284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" name=""/>
                      <p:cNvSpPr/>
                      <p:nvPr/>
                    </p:nvSpPr>
                    <p:spPr>
                      <a:xfrm>
                        <a:off x="910800" y="1622520"/>
                        <a:ext cx="2700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239" name=""/>
              <p:cNvGrpSpPr/>
              <p:nvPr/>
            </p:nvGrpSpPr>
            <p:grpSpPr>
              <a:xfrm>
                <a:off x="455400" y="1895760"/>
                <a:ext cx="2613240" cy="216720"/>
                <a:chOff x="455400" y="1895760"/>
                <a:chExt cx="2613240" cy="21672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455400" y="202752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1" name=""/>
                <p:cNvGrpSpPr/>
                <p:nvPr/>
              </p:nvGrpSpPr>
              <p:grpSpPr>
                <a:xfrm>
                  <a:off x="784080" y="1895760"/>
                  <a:ext cx="2284560" cy="216720"/>
                  <a:chOff x="784080" y="1895760"/>
                  <a:chExt cx="2284560" cy="216720"/>
                </a:xfrm>
              </p:grpSpPr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784080" y="1895760"/>
                    <a:ext cx="231840" cy="205560"/>
                    <a:chOff x="784080" y="1895760"/>
                    <a:chExt cx="231840" cy="205560"/>
                  </a:xfrm>
                </p:grpSpPr>
                <p:grpSp>
                  <p:nvGrpSpPr>
                    <p:cNvPr id="243" name=""/>
                    <p:cNvGrpSpPr/>
                    <p:nvPr/>
                  </p:nvGrpSpPr>
                  <p:grpSpPr>
                    <a:xfrm>
                      <a:off x="784080" y="1944720"/>
                      <a:ext cx="231840" cy="156600"/>
                      <a:chOff x="784080" y="1944720"/>
                      <a:chExt cx="231840" cy="156600"/>
                    </a:xfrm>
                  </p:grpSpPr>
                  <p:sp>
                    <p:nvSpPr>
                      <p:cNvPr id="244" name=""/>
                      <p:cNvSpPr/>
                      <p:nvPr/>
                    </p:nvSpPr>
                    <p:spPr>
                      <a:xfrm>
                        <a:off x="784080" y="1944720"/>
                        <a:ext cx="231840" cy="156600"/>
                      </a:xfrm>
                      <a:prstGeom prst="rect">
                        <a:avLst/>
                      </a:prstGeom>
                      <a:solidFill>
                        <a:srgbClr val="cc33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" name=""/>
                      <p:cNvSpPr/>
                      <p:nvPr/>
                    </p:nvSpPr>
                    <p:spPr>
                      <a:xfrm>
                        <a:off x="826560" y="1983960"/>
                        <a:ext cx="148680" cy="74520"/>
                      </a:xfrm>
                      <a:prstGeom prst="ellipse">
                        <a:avLst/>
                      </a:prstGeom>
                      <a:solidFill>
                        <a:srgbClr val="cc33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120" bIns="6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6" name=""/>
                    <p:cNvGrpSpPr/>
                    <p:nvPr/>
                  </p:nvGrpSpPr>
                  <p:grpSpPr>
                    <a:xfrm>
                      <a:off x="863280" y="1895760"/>
                      <a:ext cx="74520" cy="28080"/>
                      <a:chOff x="863280" y="1895760"/>
                      <a:chExt cx="74520" cy="28080"/>
                    </a:xfrm>
                  </p:grpSpPr>
                  <p:sp>
                    <p:nvSpPr>
                      <p:cNvPr id="247" name=""/>
                      <p:cNvSpPr/>
                      <p:nvPr/>
                    </p:nvSpPr>
                    <p:spPr>
                      <a:xfrm>
                        <a:off x="863280" y="1895760"/>
                        <a:ext cx="284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8" name=""/>
                      <p:cNvSpPr/>
                      <p:nvPr/>
                    </p:nvSpPr>
                    <p:spPr>
                      <a:xfrm>
                        <a:off x="910800" y="1897200"/>
                        <a:ext cx="2700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49" name=""/>
                  <p:cNvSpPr/>
                  <p:nvPr/>
                </p:nvSpPr>
                <p:spPr>
                  <a:xfrm>
                    <a:off x="987480" y="1896840"/>
                    <a:ext cx="208116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 3.7cm Medium Tank     RO-02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50" name=""/>
            <p:cNvGrpSpPr/>
            <p:nvPr/>
          </p:nvGrpSpPr>
          <p:grpSpPr>
            <a:xfrm>
              <a:off x="441360" y="2733840"/>
              <a:ext cx="2847960" cy="1408680"/>
              <a:chOff x="441360" y="2733840"/>
              <a:chExt cx="2847960" cy="1408680"/>
            </a:xfrm>
          </p:grpSpPr>
          <p:sp>
            <p:nvSpPr>
              <p:cNvPr id="251" name=""/>
              <p:cNvSpPr/>
              <p:nvPr/>
            </p:nvSpPr>
            <p:spPr>
              <a:xfrm>
                <a:off x="769680" y="2733840"/>
                <a:ext cx="1754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FIRE SUPPORT EL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50720" y="3006720"/>
                <a:ext cx="2627280" cy="443520"/>
                <a:chOff x="450720" y="3006720"/>
                <a:chExt cx="2627280" cy="44352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1130400" y="3049560"/>
                  <a:ext cx="194760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Light Artillery Battalion       </a:t>
                  </a:r>
                  <a:r>
                    <a:rPr b="1" lang="en-US" sz="800" spc="-1" strike="noStrike">
                      <a:solidFill>
                        <a:srgbClr val="669900"/>
                      </a:solidFill>
                      <a:latin typeface="Arial"/>
                    </a:rPr>
                    <a:t>FS-0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2 per Division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50720" y="315432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5" name=""/>
                <p:cNvGrpSpPr/>
                <p:nvPr/>
              </p:nvGrpSpPr>
              <p:grpSpPr>
                <a:xfrm>
                  <a:off x="806400" y="3006720"/>
                  <a:ext cx="291600" cy="247320"/>
                  <a:chOff x="806400" y="3006720"/>
                  <a:chExt cx="291600" cy="247320"/>
                </a:xfrm>
              </p:grpSpPr>
              <p:grpSp>
                <p:nvGrpSpPr>
                  <p:cNvPr id="256" name=""/>
                  <p:cNvGrpSpPr/>
                  <p:nvPr/>
                </p:nvGrpSpPr>
                <p:grpSpPr>
                  <a:xfrm>
                    <a:off x="806400" y="3063960"/>
                    <a:ext cx="291600" cy="190080"/>
                    <a:chOff x="806400" y="3063960"/>
                    <a:chExt cx="291600" cy="190080"/>
                  </a:xfrm>
                </p:grpSpPr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806400" y="3063960"/>
                      <a:ext cx="291600" cy="19008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932040" y="3137040"/>
                      <a:ext cx="34560" cy="32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9" name=""/>
                  <p:cNvGrpSpPr/>
                  <p:nvPr/>
                </p:nvGrpSpPr>
                <p:grpSpPr>
                  <a:xfrm>
                    <a:off x="914400" y="3006720"/>
                    <a:ext cx="76320" cy="63720"/>
                    <a:chOff x="914400" y="3006720"/>
                    <a:chExt cx="76320" cy="63720"/>
                  </a:xfrm>
                </p:grpSpPr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914400" y="3006720"/>
                      <a:ext cx="0" cy="6372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920" bIns="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990720" y="3006720"/>
                      <a:ext cx="0" cy="6372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920" bIns="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62" name=""/>
              <p:cNvSpPr/>
              <p:nvPr/>
            </p:nvSpPr>
            <p:spPr>
              <a:xfrm>
                <a:off x="863640" y="3448080"/>
                <a:ext cx="803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O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3" name=""/>
              <p:cNvGrpSpPr/>
              <p:nvPr/>
            </p:nvGrpSpPr>
            <p:grpSpPr>
              <a:xfrm>
                <a:off x="441360" y="3699000"/>
                <a:ext cx="2847960" cy="443520"/>
                <a:chOff x="441360" y="3699000"/>
                <a:chExt cx="2847960" cy="44352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1120680" y="3741840"/>
                  <a:ext cx="216864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Medium Howitzer Battalion    </a:t>
                  </a:r>
                  <a:r>
                    <a:rPr b="1" lang="en-US" sz="800" spc="-1" strike="noStrike">
                      <a:solidFill>
                        <a:srgbClr val="669900"/>
                      </a:solidFill>
                      <a:latin typeface="Arial"/>
                    </a:rPr>
                    <a:t>FS-0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1 per Division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441360" y="384660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797040" y="3699000"/>
                  <a:ext cx="291600" cy="247320"/>
                  <a:chOff x="797040" y="3699000"/>
                  <a:chExt cx="291600" cy="247320"/>
                </a:xfrm>
              </p:grpSpPr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97040" y="3756240"/>
                    <a:ext cx="291600" cy="190080"/>
                    <a:chOff x="797040" y="3756240"/>
                    <a:chExt cx="291600" cy="19008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97040" y="3756240"/>
                      <a:ext cx="291600" cy="19008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922680" y="3829320"/>
                      <a:ext cx="34560" cy="32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0" name=""/>
                  <p:cNvGrpSpPr/>
                  <p:nvPr/>
                </p:nvGrpSpPr>
                <p:grpSpPr>
                  <a:xfrm>
                    <a:off x="905040" y="3699000"/>
                    <a:ext cx="76320" cy="63720"/>
                    <a:chOff x="905040" y="3699000"/>
                    <a:chExt cx="76320" cy="63720"/>
                  </a:xfrm>
                </p:grpSpPr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905040" y="3699000"/>
                      <a:ext cx="0" cy="6372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920" bIns="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981360" y="3699000"/>
                      <a:ext cx="0" cy="6372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920" bIns="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73" name=""/>
              <p:cNvSpPr/>
              <p:nvPr/>
            </p:nvSpPr>
            <p:spPr>
              <a:xfrm>
                <a:off x="627120" y="2948040"/>
                <a:ext cx="0" cy="11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27120" y="2948040"/>
                <a:ext cx="10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27120" y="4083120"/>
                <a:ext cx="10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6" name=""/>
          <p:cNvSpPr/>
          <p:nvPr/>
        </p:nvSpPr>
        <p:spPr>
          <a:xfrm>
            <a:off x="237960" y="4222800"/>
            <a:ext cx="1668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Battle Group-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dium Tank Battal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4440" y="4965840"/>
            <a:ext cx="0" cy="132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345960" y="4740120"/>
            <a:ext cx="347400" cy="290160"/>
            <a:chOff x="345960" y="4740120"/>
            <a:chExt cx="347400" cy="290160"/>
          </a:xfrm>
        </p:grpSpPr>
        <p:grpSp>
          <p:nvGrpSpPr>
            <p:cNvPr id="279" name=""/>
            <p:cNvGrpSpPr/>
            <p:nvPr/>
          </p:nvGrpSpPr>
          <p:grpSpPr>
            <a:xfrm>
              <a:off x="345960" y="4794120"/>
              <a:ext cx="347400" cy="236160"/>
              <a:chOff x="345960" y="4794120"/>
              <a:chExt cx="347400" cy="236160"/>
            </a:xfrm>
          </p:grpSpPr>
          <p:sp>
            <p:nvSpPr>
              <p:cNvPr id="280" name=""/>
              <p:cNvSpPr/>
              <p:nvPr/>
            </p:nvSpPr>
            <p:spPr>
              <a:xfrm>
                <a:off x="345960" y="4794120"/>
                <a:ext cx="347400" cy="236160"/>
              </a:xfrm>
              <a:prstGeom prst="rect">
                <a:avLst/>
              </a:prstGeom>
              <a:solidFill>
                <a:srgbClr val="cc33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9680" y="4853160"/>
                <a:ext cx="222840" cy="11268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53960" y="4740120"/>
              <a:ext cx="131760" cy="63360"/>
              <a:chOff x="453960" y="4740120"/>
              <a:chExt cx="131760" cy="63360"/>
            </a:xfrm>
          </p:grpSpPr>
          <p:sp>
            <p:nvSpPr>
              <p:cNvPr id="283" name=""/>
              <p:cNvSpPr/>
              <p:nvPr/>
            </p:nvSpPr>
            <p:spPr>
              <a:xfrm>
                <a:off x="520560" y="47401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4" name=""/>
              <p:cNvGrpSpPr/>
              <p:nvPr/>
            </p:nvGrpSpPr>
            <p:grpSpPr>
              <a:xfrm>
                <a:off x="453960" y="4740120"/>
                <a:ext cx="131760" cy="63360"/>
                <a:chOff x="453960" y="4740120"/>
                <a:chExt cx="131760" cy="633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453960" y="47401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585720" y="47401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87" name=""/>
          <p:cNvGrpSpPr/>
          <p:nvPr/>
        </p:nvGrpSpPr>
        <p:grpSpPr>
          <a:xfrm>
            <a:off x="525600" y="5943600"/>
            <a:ext cx="2820960" cy="464760"/>
            <a:chOff x="525600" y="5943600"/>
            <a:chExt cx="2820960" cy="464760"/>
          </a:xfrm>
        </p:grpSpPr>
        <p:sp>
          <p:nvSpPr>
            <p:cNvPr id="288" name=""/>
            <p:cNvSpPr/>
            <p:nvPr/>
          </p:nvSpPr>
          <p:spPr>
            <a:xfrm>
              <a:off x="817560" y="5943600"/>
              <a:ext cx="175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525600" y="6107040"/>
              <a:ext cx="2820960" cy="301320"/>
              <a:chOff x="525600" y="6107040"/>
              <a:chExt cx="2820960" cy="301320"/>
            </a:xfrm>
          </p:grpSpPr>
          <p:sp>
            <p:nvSpPr>
              <p:cNvPr id="290" name=""/>
              <p:cNvSpPr/>
              <p:nvPr/>
            </p:nvSpPr>
            <p:spPr>
              <a:xfrm>
                <a:off x="1265400" y="619272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4 Medium Tank Company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0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25600" y="628956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2" name=""/>
              <p:cNvGrpSpPr/>
              <p:nvPr/>
            </p:nvGrpSpPr>
            <p:grpSpPr>
              <a:xfrm>
                <a:off x="879480" y="6107040"/>
                <a:ext cx="347040" cy="299880"/>
                <a:chOff x="879480" y="6107040"/>
                <a:chExt cx="347040" cy="299880"/>
              </a:xfrm>
            </p:grpSpPr>
            <p:grpSp>
              <p:nvGrpSpPr>
                <p:cNvPr id="293" name=""/>
                <p:cNvGrpSpPr/>
                <p:nvPr/>
              </p:nvGrpSpPr>
              <p:grpSpPr>
                <a:xfrm>
                  <a:off x="1014120" y="6107040"/>
                  <a:ext cx="76320" cy="63720"/>
                  <a:chOff x="1014120" y="6107040"/>
                  <a:chExt cx="76320" cy="6372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>
                    <a:off x="1014120" y="610704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1090440" y="610704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879480" y="6170760"/>
                  <a:ext cx="347040" cy="236160"/>
                  <a:chOff x="879480" y="6170760"/>
                  <a:chExt cx="347040" cy="23616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>
                    <a:off x="879480" y="6170760"/>
                    <a:ext cx="347040" cy="23616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943200" y="6229800"/>
                    <a:ext cx="222840" cy="11268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99" name=""/>
          <p:cNvSpPr/>
          <p:nvPr/>
        </p:nvSpPr>
        <p:spPr>
          <a:xfrm>
            <a:off x="3598920" y="601560"/>
            <a:ext cx="2824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Battle Group-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torized Infantry Regi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07960" y="5030640"/>
            <a:ext cx="2619360" cy="786600"/>
            <a:chOff x="507960" y="5030640"/>
            <a:chExt cx="2619360" cy="786600"/>
          </a:xfrm>
        </p:grpSpPr>
        <p:sp>
          <p:nvSpPr>
            <p:cNvPr id="301" name=""/>
            <p:cNvSpPr/>
            <p:nvPr/>
          </p:nvSpPr>
          <p:spPr>
            <a:xfrm>
              <a:off x="809640" y="5030640"/>
              <a:ext cx="1753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HEADQUARTERS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46080" y="5176440"/>
              <a:ext cx="838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507960" y="5325840"/>
              <a:ext cx="2619360" cy="227880"/>
              <a:chOff x="507960" y="5325840"/>
              <a:chExt cx="2619360" cy="227880"/>
            </a:xfrm>
          </p:grpSpPr>
          <p:sp>
            <p:nvSpPr>
              <p:cNvPr id="304" name=""/>
              <p:cNvSpPr/>
              <p:nvPr/>
            </p:nvSpPr>
            <p:spPr>
              <a:xfrm>
                <a:off x="507960" y="544968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5" name=""/>
              <p:cNvGrpSpPr/>
              <p:nvPr/>
            </p:nvGrpSpPr>
            <p:grpSpPr>
              <a:xfrm>
                <a:off x="842760" y="5325840"/>
                <a:ext cx="2284560" cy="227880"/>
                <a:chOff x="842760" y="5325840"/>
                <a:chExt cx="2284560" cy="2278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1046160" y="533808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3.7cm Medium Tank     RO-0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7" name=""/>
                <p:cNvGrpSpPr/>
                <p:nvPr/>
              </p:nvGrpSpPr>
              <p:grpSpPr>
                <a:xfrm>
                  <a:off x="842760" y="5325840"/>
                  <a:ext cx="231840" cy="205560"/>
                  <a:chOff x="842760" y="5325840"/>
                  <a:chExt cx="231840" cy="205560"/>
                </a:xfrm>
              </p:grpSpPr>
              <p:grpSp>
                <p:nvGrpSpPr>
                  <p:cNvPr id="308" name=""/>
                  <p:cNvGrpSpPr/>
                  <p:nvPr/>
                </p:nvGrpSpPr>
                <p:grpSpPr>
                  <a:xfrm>
                    <a:off x="842760" y="5374800"/>
                    <a:ext cx="231840" cy="156600"/>
                    <a:chOff x="842760" y="5374800"/>
                    <a:chExt cx="231840" cy="156600"/>
                  </a:xfrm>
                </p:grpSpPr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842760" y="5374800"/>
                      <a:ext cx="231840" cy="15660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885240" y="5414040"/>
                      <a:ext cx="148680" cy="74520"/>
                    </a:xfrm>
                    <a:prstGeom prst="ellipse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120" bIns="6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1" name=""/>
                  <p:cNvGrpSpPr/>
                  <p:nvPr/>
                </p:nvGrpSpPr>
                <p:grpSpPr>
                  <a:xfrm>
                    <a:off x="921960" y="5325840"/>
                    <a:ext cx="74520" cy="28080"/>
                    <a:chOff x="921960" y="5325840"/>
                    <a:chExt cx="74520" cy="28080"/>
                  </a:xfrm>
                </p:grpSpPr>
                <p:sp>
                  <p:nvSpPr>
                    <p:cNvPr id="312" name=""/>
                    <p:cNvSpPr/>
                    <p:nvPr/>
                  </p:nvSpPr>
                  <p:spPr>
                    <a:xfrm>
                      <a:off x="921960" y="532584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969480" y="532728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314" name=""/>
            <p:cNvGrpSpPr/>
            <p:nvPr/>
          </p:nvGrpSpPr>
          <p:grpSpPr>
            <a:xfrm>
              <a:off x="514080" y="5600520"/>
              <a:ext cx="2613240" cy="216720"/>
              <a:chOff x="514080" y="5600520"/>
              <a:chExt cx="2613240" cy="216720"/>
            </a:xfrm>
          </p:grpSpPr>
          <p:sp>
            <p:nvSpPr>
              <p:cNvPr id="315" name=""/>
              <p:cNvSpPr/>
              <p:nvPr/>
            </p:nvSpPr>
            <p:spPr>
              <a:xfrm>
                <a:off x="514080" y="573228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6" name=""/>
              <p:cNvGrpSpPr/>
              <p:nvPr/>
            </p:nvGrpSpPr>
            <p:grpSpPr>
              <a:xfrm>
                <a:off x="842760" y="5600520"/>
                <a:ext cx="2284560" cy="216720"/>
                <a:chOff x="842760" y="5600520"/>
                <a:chExt cx="2284560" cy="216720"/>
              </a:xfrm>
            </p:grpSpPr>
            <p:grpSp>
              <p:nvGrpSpPr>
                <p:cNvPr id="317" name=""/>
                <p:cNvGrpSpPr/>
                <p:nvPr/>
              </p:nvGrpSpPr>
              <p:grpSpPr>
                <a:xfrm>
                  <a:off x="842760" y="5600520"/>
                  <a:ext cx="231840" cy="205560"/>
                  <a:chOff x="842760" y="5600520"/>
                  <a:chExt cx="231840" cy="205560"/>
                </a:xfrm>
              </p:grpSpPr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842760" y="5649480"/>
                    <a:ext cx="231840" cy="156600"/>
                    <a:chOff x="842760" y="5649480"/>
                    <a:chExt cx="231840" cy="15660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842760" y="5649480"/>
                      <a:ext cx="231840" cy="15660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885240" y="5688720"/>
                      <a:ext cx="148680" cy="74520"/>
                    </a:xfrm>
                    <a:prstGeom prst="ellipse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120" bIns="6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921960" y="5600520"/>
                    <a:ext cx="74520" cy="28080"/>
                    <a:chOff x="921960" y="5600520"/>
                    <a:chExt cx="74520" cy="2808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921960" y="560052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969480" y="560196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24" name=""/>
                <p:cNvSpPr/>
                <p:nvPr/>
              </p:nvSpPr>
              <p:spPr>
                <a:xfrm>
                  <a:off x="1046160" y="560160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3.7cm Medium Tank     RO-0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25" name=""/>
          <p:cNvGrpSpPr/>
          <p:nvPr/>
        </p:nvGrpSpPr>
        <p:grpSpPr>
          <a:xfrm>
            <a:off x="3598920" y="1074600"/>
            <a:ext cx="3430080" cy="3902760"/>
            <a:chOff x="3598920" y="1074600"/>
            <a:chExt cx="3430080" cy="3902760"/>
          </a:xfrm>
        </p:grpSpPr>
        <p:sp>
          <p:nvSpPr>
            <p:cNvPr id="326" name=""/>
            <p:cNvSpPr/>
            <p:nvPr/>
          </p:nvSpPr>
          <p:spPr>
            <a:xfrm>
              <a:off x="3770280" y="1401840"/>
              <a:ext cx="3240" cy="327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765600" y="3568680"/>
              <a:ext cx="2847960" cy="1408680"/>
              <a:chOff x="3765600" y="3568680"/>
              <a:chExt cx="2847960" cy="1408680"/>
            </a:xfrm>
          </p:grpSpPr>
          <p:sp>
            <p:nvSpPr>
              <p:cNvPr id="328" name=""/>
              <p:cNvSpPr/>
              <p:nvPr/>
            </p:nvSpPr>
            <p:spPr>
              <a:xfrm>
                <a:off x="4516200" y="4319640"/>
                <a:ext cx="803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O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093920" y="3568680"/>
                <a:ext cx="1753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FIRE SUPPORT EL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0" name=""/>
              <p:cNvGrpSpPr/>
              <p:nvPr/>
            </p:nvGrpSpPr>
            <p:grpSpPr>
              <a:xfrm>
                <a:off x="3774960" y="3841920"/>
                <a:ext cx="2626560" cy="443520"/>
                <a:chOff x="3774960" y="3841920"/>
                <a:chExt cx="2626560" cy="4435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4454280" y="3884760"/>
                  <a:ext cx="194724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Light Artillery Battalion       </a:t>
                  </a:r>
                  <a:r>
                    <a:rPr b="1" lang="en-US" sz="800" spc="-1" strike="noStrike">
                      <a:solidFill>
                        <a:srgbClr val="669900"/>
                      </a:solidFill>
                      <a:latin typeface="Arial"/>
                    </a:rPr>
                    <a:t>FS-0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2 per Division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3774960" y="3989520"/>
                  <a:ext cx="352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3" name=""/>
                <p:cNvGrpSpPr/>
                <p:nvPr/>
              </p:nvGrpSpPr>
              <p:grpSpPr>
                <a:xfrm>
                  <a:off x="4130280" y="3841920"/>
                  <a:ext cx="291240" cy="247320"/>
                  <a:chOff x="4130280" y="3841920"/>
                  <a:chExt cx="291240" cy="247320"/>
                </a:xfrm>
              </p:grpSpPr>
              <p:grpSp>
                <p:nvGrpSpPr>
                  <p:cNvPr id="334" name=""/>
                  <p:cNvGrpSpPr/>
                  <p:nvPr/>
                </p:nvGrpSpPr>
                <p:grpSpPr>
                  <a:xfrm>
                    <a:off x="4130280" y="3899160"/>
                    <a:ext cx="291240" cy="190080"/>
                    <a:chOff x="4130280" y="3899160"/>
                    <a:chExt cx="291240" cy="190080"/>
                  </a:xfrm>
                </p:grpSpPr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4130280" y="3899160"/>
                      <a:ext cx="291240" cy="19008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4255560" y="3972240"/>
                      <a:ext cx="34560" cy="32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4237920" y="3841920"/>
                    <a:ext cx="75960" cy="63720"/>
                    <a:chOff x="4237920" y="3841920"/>
                    <a:chExt cx="75960" cy="637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4237920" y="3841920"/>
                      <a:ext cx="0" cy="6372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920" bIns="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4313880" y="3841920"/>
                      <a:ext cx="0" cy="6372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920" bIns="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40" name=""/>
              <p:cNvGrpSpPr/>
              <p:nvPr/>
            </p:nvGrpSpPr>
            <p:grpSpPr>
              <a:xfrm>
                <a:off x="3765600" y="4533840"/>
                <a:ext cx="2847960" cy="443520"/>
                <a:chOff x="3765600" y="4533840"/>
                <a:chExt cx="2847960" cy="44352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4444920" y="4576680"/>
                  <a:ext cx="216864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Medium Howitzer Battalion    </a:t>
                  </a:r>
                  <a:r>
                    <a:rPr b="1" lang="en-US" sz="800" spc="-1" strike="noStrike">
                      <a:solidFill>
                        <a:srgbClr val="669900"/>
                      </a:solidFill>
                      <a:latin typeface="Arial"/>
                    </a:rPr>
                    <a:t>FS-0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1 per Division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765600" y="468144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3" name=""/>
                <p:cNvGrpSpPr/>
                <p:nvPr/>
              </p:nvGrpSpPr>
              <p:grpSpPr>
                <a:xfrm>
                  <a:off x="4121280" y="4533840"/>
                  <a:ext cx="291600" cy="247320"/>
                  <a:chOff x="4121280" y="4533840"/>
                  <a:chExt cx="291600" cy="247320"/>
                </a:xfrm>
              </p:grpSpPr>
              <p:grpSp>
                <p:nvGrpSpPr>
                  <p:cNvPr id="344" name=""/>
                  <p:cNvGrpSpPr/>
                  <p:nvPr/>
                </p:nvGrpSpPr>
                <p:grpSpPr>
                  <a:xfrm>
                    <a:off x="4121280" y="4591080"/>
                    <a:ext cx="291600" cy="190080"/>
                    <a:chOff x="4121280" y="4591080"/>
                    <a:chExt cx="291600" cy="190080"/>
                  </a:xfrm>
                </p:grpSpPr>
                <p:sp>
                  <p:nvSpPr>
                    <p:cNvPr id="345" name=""/>
                    <p:cNvSpPr/>
                    <p:nvPr/>
                  </p:nvSpPr>
                  <p:spPr>
                    <a:xfrm>
                      <a:off x="4121280" y="4591080"/>
                      <a:ext cx="291600" cy="19008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>
                      <a:off x="4246920" y="4664160"/>
                      <a:ext cx="34560" cy="32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7" name=""/>
                  <p:cNvGrpSpPr/>
                  <p:nvPr/>
                </p:nvGrpSpPr>
                <p:grpSpPr>
                  <a:xfrm>
                    <a:off x="4229280" y="4533840"/>
                    <a:ext cx="76320" cy="63720"/>
                    <a:chOff x="4229280" y="4533840"/>
                    <a:chExt cx="76320" cy="63720"/>
                  </a:xfrm>
                </p:grpSpPr>
                <p:sp>
                  <p:nvSpPr>
                    <p:cNvPr id="348" name=""/>
                    <p:cNvSpPr/>
                    <p:nvPr/>
                  </p:nvSpPr>
                  <p:spPr>
                    <a:xfrm>
                      <a:off x="4229280" y="4533840"/>
                      <a:ext cx="0" cy="6372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920" bIns="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>
                      <a:off x="4305600" y="4533840"/>
                      <a:ext cx="0" cy="6372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920" bIns="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50" name=""/>
              <p:cNvSpPr/>
              <p:nvPr/>
            </p:nvSpPr>
            <p:spPr>
              <a:xfrm>
                <a:off x="3951000" y="3783240"/>
                <a:ext cx="0" cy="11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951000" y="3783240"/>
                <a:ext cx="10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951000" y="4917960"/>
                <a:ext cx="10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3598920" y="1074600"/>
              <a:ext cx="347040" cy="372240"/>
              <a:chOff x="3598920" y="1074600"/>
              <a:chExt cx="347040" cy="372240"/>
            </a:xfrm>
          </p:grpSpPr>
          <p:grpSp>
            <p:nvGrpSpPr>
              <p:cNvPr id="354" name=""/>
              <p:cNvGrpSpPr/>
              <p:nvPr/>
            </p:nvGrpSpPr>
            <p:grpSpPr>
              <a:xfrm>
                <a:off x="3706920" y="1074600"/>
                <a:ext cx="131760" cy="63720"/>
                <a:chOff x="3706920" y="1074600"/>
                <a:chExt cx="131760" cy="637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3773520" y="107460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6" name=""/>
                <p:cNvGrpSpPr/>
                <p:nvPr/>
              </p:nvGrpSpPr>
              <p:grpSpPr>
                <a:xfrm>
                  <a:off x="3706920" y="1074600"/>
                  <a:ext cx="131760" cy="63720"/>
                  <a:chOff x="3706920" y="1074600"/>
                  <a:chExt cx="131760" cy="6372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3706920" y="107460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3838680" y="107460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9" name=""/>
              <p:cNvGrpSpPr/>
              <p:nvPr/>
            </p:nvGrpSpPr>
            <p:grpSpPr>
              <a:xfrm>
                <a:off x="3598920" y="1150920"/>
                <a:ext cx="347040" cy="295920"/>
                <a:chOff x="3598920" y="1150920"/>
                <a:chExt cx="347040" cy="295920"/>
              </a:xfrm>
            </p:grpSpPr>
            <p:grpSp>
              <p:nvGrpSpPr>
                <p:cNvPr id="360" name=""/>
                <p:cNvGrpSpPr/>
                <p:nvPr/>
              </p:nvGrpSpPr>
              <p:grpSpPr>
                <a:xfrm>
                  <a:off x="3598920" y="1150920"/>
                  <a:ext cx="347040" cy="234000"/>
                  <a:chOff x="3598920" y="1150920"/>
                  <a:chExt cx="347040" cy="23400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>
                    <a:off x="3598920" y="1150920"/>
                    <a:ext cx="347040" cy="23400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flipV="1">
                    <a:off x="3602520" y="1154520"/>
                    <a:ext cx="338400" cy="2289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3598920" y="1154520"/>
                    <a:ext cx="345600" cy="2232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4" name=""/>
                <p:cNvSpPr/>
                <p:nvPr/>
              </p:nvSpPr>
              <p:spPr>
                <a:xfrm>
                  <a:off x="3615120" y="1406880"/>
                  <a:ext cx="40320" cy="39960"/>
                </a:xfrm>
                <a:prstGeom prst="ellipse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886920" y="1406880"/>
                  <a:ext cx="43200" cy="39960"/>
                </a:xfrm>
                <a:prstGeom prst="ellipse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6" name=""/>
            <p:cNvGrpSpPr/>
            <p:nvPr/>
          </p:nvGrpSpPr>
          <p:grpSpPr>
            <a:xfrm>
              <a:off x="3773520" y="1293840"/>
              <a:ext cx="2623680" cy="1107360"/>
              <a:chOff x="3773520" y="1293840"/>
              <a:chExt cx="2623680" cy="1107360"/>
            </a:xfrm>
          </p:grpSpPr>
          <p:sp>
            <p:nvSpPr>
              <p:cNvPr id="367" name=""/>
              <p:cNvSpPr/>
              <p:nvPr/>
            </p:nvSpPr>
            <p:spPr>
              <a:xfrm>
                <a:off x="4001760" y="1293840"/>
                <a:ext cx="1753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HEADQUARTERS EL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308480" y="1455840"/>
                <a:ext cx="837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116240" y="1760760"/>
                <a:ext cx="0" cy="48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0" name=""/>
              <p:cNvGrpSpPr/>
              <p:nvPr/>
            </p:nvGrpSpPr>
            <p:grpSpPr>
              <a:xfrm>
                <a:off x="3773520" y="1617840"/>
                <a:ext cx="2623680" cy="230040"/>
                <a:chOff x="3773520" y="1617840"/>
                <a:chExt cx="2623680" cy="23004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3773520" y="1729080"/>
                  <a:ext cx="352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316400" y="1632240"/>
                  <a:ext cx="20808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Commander      RO-1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3" name=""/>
                <p:cNvGrpSpPr/>
                <p:nvPr/>
              </p:nvGrpSpPr>
              <p:grpSpPr>
                <a:xfrm>
                  <a:off x="4070160" y="1617840"/>
                  <a:ext cx="237960" cy="200160"/>
                  <a:chOff x="4070160" y="1617840"/>
                  <a:chExt cx="237960" cy="20016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>
                    <a:off x="4070160" y="1660680"/>
                    <a:ext cx="237960" cy="15732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4176360" y="161784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6" name=""/>
              <p:cNvGrpSpPr/>
              <p:nvPr/>
            </p:nvGrpSpPr>
            <p:grpSpPr>
              <a:xfrm>
                <a:off x="3776400" y="1868760"/>
                <a:ext cx="2620080" cy="215640"/>
                <a:chOff x="3776400" y="1868760"/>
                <a:chExt cx="2620080" cy="21564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3776400" y="1992600"/>
                  <a:ext cx="352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8" name=""/>
                <p:cNvGrpSpPr/>
                <p:nvPr/>
              </p:nvGrpSpPr>
              <p:grpSpPr>
                <a:xfrm>
                  <a:off x="4068360" y="1868760"/>
                  <a:ext cx="2328120" cy="215640"/>
                  <a:chOff x="4068360" y="1868760"/>
                  <a:chExt cx="2328120" cy="215640"/>
                </a:xfrm>
              </p:grpSpPr>
              <p:grpSp>
                <p:nvGrpSpPr>
                  <p:cNvPr id="379" name=""/>
                  <p:cNvGrpSpPr/>
                  <p:nvPr/>
                </p:nvGrpSpPr>
                <p:grpSpPr>
                  <a:xfrm>
                    <a:off x="4068360" y="1868760"/>
                    <a:ext cx="231480" cy="198360"/>
                    <a:chOff x="4068360" y="1868760"/>
                    <a:chExt cx="231480" cy="198360"/>
                  </a:xfrm>
                </p:grpSpPr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4145760" y="1868760"/>
                      <a:ext cx="73800" cy="28080"/>
                      <a:chOff x="4145760" y="1868760"/>
                      <a:chExt cx="73800" cy="2808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4145760" y="1868760"/>
                        <a:ext cx="2808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4192920" y="1870200"/>
                        <a:ext cx="266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3" name=""/>
                    <p:cNvGrpSpPr/>
                    <p:nvPr/>
                  </p:nvGrpSpPr>
                  <p:grpSpPr>
                    <a:xfrm>
                      <a:off x="4068360" y="1909800"/>
                      <a:ext cx="231480" cy="157320"/>
                      <a:chOff x="4068360" y="1909800"/>
                      <a:chExt cx="231480" cy="157320"/>
                    </a:xfrm>
                  </p:grpSpPr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4068360" y="1909800"/>
                        <a:ext cx="231480" cy="157320"/>
                      </a:xfrm>
                      <a:prstGeom prst="rect">
                        <a:avLst/>
                      </a:prstGeom>
                      <a:solidFill>
                        <a:srgbClr val="cc33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 flipV="1">
                        <a:off x="4070520" y="1911600"/>
                        <a:ext cx="225360" cy="15372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4068360" y="1911960"/>
                        <a:ext cx="230400" cy="1497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87" name=""/>
                  <p:cNvSpPr/>
                  <p:nvPr/>
                </p:nvSpPr>
                <p:spPr>
                  <a:xfrm>
                    <a:off x="4315680" y="1868760"/>
                    <a:ext cx="208080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 Infantry              RO-13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8" name=""/>
              <p:cNvGrpSpPr/>
              <p:nvPr/>
            </p:nvGrpSpPr>
            <p:grpSpPr>
              <a:xfrm>
                <a:off x="4066920" y="2167200"/>
                <a:ext cx="2315520" cy="234000"/>
                <a:chOff x="4066920" y="2167200"/>
                <a:chExt cx="2315520" cy="23400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4301640" y="2179440"/>
                  <a:ext cx="20808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Light Truck         GE-3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0" name=""/>
                <p:cNvGrpSpPr/>
                <p:nvPr/>
              </p:nvGrpSpPr>
              <p:grpSpPr>
                <a:xfrm>
                  <a:off x="4066920" y="2167200"/>
                  <a:ext cx="231480" cy="234000"/>
                  <a:chOff x="4066920" y="2167200"/>
                  <a:chExt cx="231480" cy="234000"/>
                </a:xfrm>
              </p:grpSpPr>
              <p:grpSp>
                <p:nvGrpSpPr>
                  <p:cNvPr id="391" name=""/>
                  <p:cNvGrpSpPr/>
                  <p:nvPr/>
                </p:nvGrpSpPr>
                <p:grpSpPr>
                  <a:xfrm>
                    <a:off x="4066920" y="2211480"/>
                    <a:ext cx="231480" cy="189720"/>
                    <a:chOff x="4066920" y="2211480"/>
                    <a:chExt cx="231480" cy="189720"/>
                  </a:xfrm>
                </p:grpSpPr>
                <p:sp>
                  <p:nvSpPr>
                    <p:cNvPr id="392" name=""/>
                    <p:cNvSpPr/>
                    <p:nvPr/>
                  </p:nvSpPr>
                  <p:spPr>
                    <a:xfrm>
                      <a:off x="4066920" y="2211480"/>
                      <a:ext cx="231480" cy="15660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077720" y="2374560"/>
                      <a:ext cx="26640" cy="26640"/>
                    </a:xfrm>
                    <a:prstGeom prst="ellipse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258800" y="2374560"/>
                      <a:ext cx="28080" cy="26640"/>
                    </a:xfrm>
                    <a:prstGeom prst="ellipse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4144320" y="2167200"/>
                    <a:ext cx="74520" cy="27720"/>
                    <a:chOff x="4144320" y="2167200"/>
                    <a:chExt cx="74520" cy="2772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4144320" y="2167200"/>
                      <a:ext cx="2844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4191840" y="2168640"/>
                      <a:ext cx="2700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98" name=""/>
              <p:cNvSpPr/>
              <p:nvPr/>
            </p:nvSpPr>
            <p:spPr>
              <a:xfrm>
                <a:off x="4365360" y="2043360"/>
                <a:ext cx="838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3765600" y="2468520"/>
              <a:ext cx="3263400" cy="529200"/>
              <a:chOff x="3765600" y="2468520"/>
              <a:chExt cx="3263400" cy="529200"/>
            </a:xfrm>
          </p:grpSpPr>
          <p:sp>
            <p:nvSpPr>
              <p:cNvPr id="400" name=""/>
              <p:cNvSpPr/>
              <p:nvPr/>
            </p:nvSpPr>
            <p:spPr>
              <a:xfrm>
                <a:off x="3944880" y="2468520"/>
                <a:ext cx="1753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BATTLE GROUP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765600" y="2825640"/>
                <a:ext cx="352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432320" y="2714400"/>
                <a:ext cx="259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Motorized Infantry Battalion                   </a:t>
                </a:r>
                <a:r>
                  <a:rPr b="1" lang="en-US" sz="800" spc="-1" strike="noStrike">
                    <a:solidFill>
                      <a:srgbClr val="669900"/>
                    </a:solidFill>
                    <a:latin typeface="Arial"/>
                  </a:rPr>
                  <a:t>BG-0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3" name=""/>
              <p:cNvGrpSpPr/>
              <p:nvPr/>
            </p:nvGrpSpPr>
            <p:grpSpPr>
              <a:xfrm>
                <a:off x="4105080" y="2643120"/>
                <a:ext cx="346680" cy="354600"/>
                <a:chOff x="4105080" y="2643120"/>
                <a:chExt cx="346680" cy="354600"/>
              </a:xfrm>
            </p:grpSpPr>
            <p:grpSp>
              <p:nvGrpSpPr>
                <p:cNvPr id="404" name=""/>
                <p:cNvGrpSpPr/>
                <p:nvPr/>
              </p:nvGrpSpPr>
              <p:grpSpPr>
                <a:xfrm>
                  <a:off x="4241160" y="2643120"/>
                  <a:ext cx="75960" cy="63360"/>
                  <a:chOff x="4241160" y="2643120"/>
                  <a:chExt cx="75960" cy="6336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>
                    <a:off x="4241160" y="26431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4317120" y="26431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4105080" y="2701800"/>
                  <a:ext cx="346680" cy="295920"/>
                  <a:chOff x="4105080" y="2701800"/>
                  <a:chExt cx="346680" cy="295920"/>
                </a:xfrm>
              </p:grpSpPr>
              <p:grpSp>
                <p:nvGrpSpPr>
                  <p:cNvPr id="408" name=""/>
                  <p:cNvGrpSpPr/>
                  <p:nvPr/>
                </p:nvGrpSpPr>
                <p:grpSpPr>
                  <a:xfrm>
                    <a:off x="4105080" y="2701800"/>
                    <a:ext cx="346680" cy="234000"/>
                    <a:chOff x="4105080" y="2701800"/>
                    <a:chExt cx="346680" cy="234000"/>
                  </a:xfrm>
                </p:grpSpPr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4105080" y="2701800"/>
                      <a:ext cx="346680" cy="23400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0" name=""/>
                    <p:cNvSpPr/>
                    <p:nvPr/>
                  </p:nvSpPr>
                  <p:spPr>
                    <a:xfrm flipV="1">
                      <a:off x="4108680" y="2705400"/>
                      <a:ext cx="338040" cy="2289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4105080" y="2705400"/>
                      <a:ext cx="345240" cy="2232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12" name=""/>
                  <p:cNvSpPr/>
                  <p:nvPr/>
                </p:nvSpPr>
                <p:spPr>
                  <a:xfrm>
                    <a:off x="4121280" y="2957760"/>
                    <a:ext cx="40320" cy="3996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4392720" y="2957760"/>
                    <a:ext cx="43200" cy="3996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14" name=""/>
            <p:cNvGrpSpPr/>
            <p:nvPr/>
          </p:nvGrpSpPr>
          <p:grpSpPr>
            <a:xfrm>
              <a:off x="3765600" y="3054240"/>
              <a:ext cx="3263400" cy="488160"/>
              <a:chOff x="3765600" y="3054240"/>
              <a:chExt cx="3263400" cy="488160"/>
            </a:xfrm>
          </p:grpSpPr>
          <p:sp>
            <p:nvSpPr>
              <p:cNvPr id="415" name=""/>
              <p:cNvSpPr/>
              <p:nvPr/>
            </p:nvSpPr>
            <p:spPr>
              <a:xfrm>
                <a:off x="3922560" y="3054240"/>
                <a:ext cx="1753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ANEUVER ELE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6" name=""/>
              <p:cNvGrpSpPr/>
              <p:nvPr/>
            </p:nvGrpSpPr>
            <p:grpSpPr>
              <a:xfrm>
                <a:off x="3765600" y="3247920"/>
                <a:ext cx="3263400" cy="294480"/>
                <a:chOff x="3765600" y="3247920"/>
                <a:chExt cx="3263400" cy="29448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3765600" y="3404880"/>
                  <a:ext cx="352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8" name=""/>
                <p:cNvGrpSpPr/>
                <p:nvPr/>
              </p:nvGrpSpPr>
              <p:grpSpPr>
                <a:xfrm>
                  <a:off x="4084560" y="3247920"/>
                  <a:ext cx="283320" cy="294480"/>
                  <a:chOff x="4084560" y="3247920"/>
                  <a:chExt cx="283320" cy="294480"/>
                </a:xfrm>
              </p:grpSpPr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4084560" y="3309840"/>
                    <a:ext cx="283320" cy="232560"/>
                    <a:chOff x="4084560" y="3309840"/>
                    <a:chExt cx="283320" cy="23256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4093920" y="3509640"/>
                      <a:ext cx="32760" cy="32760"/>
                    </a:xfrm>
                    <a:prstGeom prst="ellipse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400" bIns="-23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4315680" y="3509640"/>
                      <a:ext cx="34560" cy="32760"/>
                    </a:xfrm>
                    <a:prstGeom prst="ellipse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400" bIns="-23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22" name=""/>
                    <p:cNvGrpSpPr/>
                    <p:nvPr/>
                  </p:nvGrpSpPr>
                  <p:grpSpPr>
                    <a:xfrm>
                      <a:off x="4084560" y="3309840"/>
                      <a:ext cx="283320" cy="191880"/>
                      <a:chOff x="4084560" y="3309840"/>
                      <a:chExt cx="283320" cy="191880"/>
                    </a:xfrm>
                  </p:grpSpPr>
                  <p:sp>
                    <p:nvSpPr>
                      <p:cNvPr id="423" name=""/>
                      <p:cNvSpPr/>
                      <p:nvPr/>
                    </p:nvSpPr>
                    <p:spPr>
                      <a:xfrm>
                        <a:off x="4084560" y="3309840"/>
                        <a:ext cx="283320" cy="191880"/>
                      </a:xfrm>
                      <a:prstGeom prst="rect">
                        <a:avLst/>
                      </a:prstGeom>
                      <a:solidFill>
                        <a:srgbClr val="cc33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4" name=""/>
                      <p:cNvSpPr/>
                      <p:nvPr/>
                    </p:nvSpPr>
                    <p:spPr>
                      <a:xfrm>
                        <a:off x="4171680" y="3367800"/>
                        <a:ext cx="0" cy="61200"/>
                      </a:xfrm>
                      <a:prstGeom prst="line">
                        <a:avLst/>
                      </a:prstGeom>
                      <a:ln w="1584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5" name=""/>
                      <p:cNvSpPr/>
                      <p:nvPr/>
                    </p:nvSpPr>
                    <p:spPr>
                      <a:xfrm>
                        <a:off x="4222440" y="3370680"/>
                        <a:ext cx="0" cy="58320"/>
                      </a:xfrm>
                      <a:prstGeom prst="line">
                        <a:avLst/>
                      </a:prstGeom>
                      <a:ln w="1584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520" bIns="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6" name=""/>
                      <p:cNvSpPr/>
                      <p:nvPr/>
                    </p:nvSpPr>
                    <p:spPr>
                      <a:xfrm>
                        <a:off x="4271760" y="3372480"/>
                        <a:ext cx="0" cy="56520"/>
                      </a:xfrm>
                      <a:prstGeom prst="line">
                        <a:avLst/>
                      </a:prstGeom>
                      <a:ln w="1584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720" bIns="9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7" name=""/>
                      <p:cNvSpPr/>
                      <p:nvPr/>
                    </p:nvSpPr>
                    <p:spPr>
                      <a:xfrm>
                        <a:off x="4165920" y="3370680"/>
                        <a:ext cx="114480" cy="0"/>
                      </a:xfrm>
                      <a:prstGeom prst="line">
                        <a:avLst/>
                      </a:prstGeom>
                      <a:ln w="1584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28" name=""/>
                  <p:cNvSpPr/>
                  <p:nvPr/>
                </p:nvSpPr>
                <p:spPr>
                  <a:xfrm>
                    <a:off x="4225680" y="32479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9" name=""/>
                <p:cNvSpPr/>
                <p:nvPr/>
              </p:nvSpPr>
              <p:spPr>
                <a:xfrm>
                  <a:off x="4329000" y="3287520"/>
                  <a:ext cx="2700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Motorized Combat Engineer Company      </a:t>
                  </a: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ME-0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199960" y="166680"/>
            <a:ext cx="4753080" cy="2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 BG-04-&gt;BG-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4520" y="519120"/>
            <a:ext cx="186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Battle Group-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torized Infantry Battal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50720" y="2354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17640" y="1023840"/>
            <a:ext cx="3125160" cy="3743280"/>
            <a:chOff x="17640" y="1023840"/>
            <a:chExt cx="3125160" cy="3743280"/>
          </a:xfrm>
        </p:grpSpPr>
        <p:grpSp>
          <p:nvGrpSpPr>
            <p:cNvPr id="434" name=""/>
            <p:cNvGrpSpPr/>
            <p:nvPr/>
          </p:nvGrpSpPr>
          <p:grpSpPr>
            <a:xfrm>
              <a:off x="200160" y="2195640"/>
              <a:ext cx="2942640" cy="507600"/>
              <a:chOff x="200160" y="2195640"/>
              <a:chExt cx="2942640" cy="507600"/>
            </a:xfrm>
          </p:grpSpPr>
          <p:sp>
            <p:nvSpPr>
              <p:cNvPr id="435" name=""/>
              <p:cNvSpPr/>
              <p:nvPr/>
            </p:nvSpPr>
            <p:spPr>
              <a:xfrm>
                <a:off x="357120" y="2195640"/>
                <a:ext cx="1753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ANEUVER ELE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00160" y="2546280"/>
                <a:ext cx="352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63200" y="2428920"/>
                <a:ext cx="2379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Motorized Infantry Company    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0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8" name=""/>
              <p:cNvGrpSpPr/>
              <p:nvPr/>
            </p:nvGrpSpPr>
            <p:grpSpPr>
              <a:xfrm>
                <a:off x="506160" y="2389320"/>
                <a:ext cx="291240" cy="313920"/>
                <a:chOff x="506160" y="2389320"/>
                <a:chExt cx="291240" cy="3139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651960" y="23893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0" name=""/>
                <p:cNvGrpSpPr/>
                <p:nvPr/>
              </p:nvGrpSpPr>
              <p:grpSpPr>
                <a:xfrm>
                  <a:off x="506160" y="2452680"/>
                  <a:ext cx="291240" cy="250560"/>
                  <a:chOff x="506160" y="2452680"/>
                  <a:chExt cx="291240" cy="250560"/>
                </a:xfrm>
              </p:grpSpPr>
              <p:grpSp>
                <p:nvGrpSpPr>
                  <p:cNvPr id="441" name=""/>
                  <p:cNvGrpSpPr/>
                  <p:nvPr/>
                </p:nvGrpSpPr>
                <p:grpSpPr>
                  <a:xfrm>
                    <a:off x="506160" y="2452680"/>
                    <a:ext cx="291240" cy="198360"/>
                    <a:chOff x="506160" y="2452680"/>
                    <a:chExt cx="291240" cy="198360"/>
                  </a:xfrm>
                </p:grpSpPr>
                <p:sp>
                  <p:nvSpPr>
                    <p:cNvPr id="442" name=""/>
                    <p:cNvSpPr/>
                    <p:nvPr/>
                  </p:nvSpPr>
                  <p:spPr>
                    <a:xfrm>
                      <a:off x="506160" y="2452680"/>
                      <a:ext cx="291240" cy="19836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 flipV="1">
                      <a:off x="509040" y="2455560"/>
                      <a:ext cx="283680" cy="1936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>
                      <a:off x="506160" y="2455560"/>
                      <a:ext cx="289800" cy="189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45" name=""/>
                  <p:cNvSpPr/>
                  <p:nvPr/>
                </p:nvSpPr>
                <p:spPr>
                  <a:xfrm>
                    <a:off x="519480" y="2669400"/>
                    <a:ext cx="33840" cy="3384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747720" y="2669400"/>
                    <a:ext cx="36000" cy="3384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47" name=""/>
            <p:cNvSpPr/>
            <p:nvPr/>
          </p:nvSpPr>
          <p:spPr>
            <a:xfrm>
              <a:off x="196920" y="1325520"/>
              <a:ext cx="3240" cy="121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193680" y="1222200"/>
              <a:ext cx="2623680" cy="885600"/>
              <a:chOff x="193680" y="1222200"/>
              <a:chExt cx="2623680" cy="885600"/>
            </a:xfrm>
          </p:grpSpPr>
          <p:sp>
            <p:nvSpPr>
              <p:cNvPr id="449" name=""/>
              <p:cNvSpPr/>
              <p:nvPr/>
            </p:nvSpPr>
            <p:spPr>
              <a:xfrm>
                <a:off x="422280" y="1222200"/>
                <a:ext cx="1754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HEADQUARTERS EL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28640" y="1383840"/>
                <a:ext cx="838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528120" y="1688760"/>
                <a:ext cx="8280" cy="21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193680" y="1545840"/>
                <a:ext cx="2623680" cy="230040"/>
                <a:chOff x="193680" y="1545840"/>
                <a:chExt cx="2623680" cy="23004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193680" y="1657080"/>
                  <a:ext cx="352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736560" y="1560240"/>
                  <a:ext cx="20808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Commander      RO-1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5" name=""/>
                <p:cNvGrpSpPr/>
                <p:nvPr/>
              </p:nvGrpSpPr>
              <p:grpSpPr>
                <a:xfrm>
                  <a:off x="490320" y="1545840"/>
                  <a:ext cx="237960" cy="200160"/>
                  <a:chOff x="490320" y="1545840"/>
                  <a:chExt cx="237960" cy="20016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>
                    <a:off x="490320" y="1588680"/>
                    <a:ext cx="237960" cy="15732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596520" y="154584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8" name=""/>
              <p:cNvGrpSpPr/>
              <p:nvPr/>
            </p:nvGrpSpPr>
            <p:grpSpPr>
              <a:xfrm>
                <a:off x="487440" y="1872720"/>
                <a:ext cx="2316240" cy="235080"/>
                <a:chOff x="487440" y="1872720"/>
                <a:chExt cx="2316240" cy="23508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722520" y="188532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Kubelwagen      GE-3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0" name=""/>
                <p:cNvGrpSpPr/>
                <p:nvPr/>
              </p:nvGrpSpPr>
              <p:grpSpPr>
                <a:xfrm>
                  <a:off x="487440" y="1872720"/>
                  <a:ext cx="231840" cy="235080"/>
                  <a:chOff x="487440" y="1872720"/>
                  <a:chExt cx="231840" cy="235080"/>
                </a:xfrm>
              </p:grpSpPr>
              <p:grpSp>
                <p:nvGrpSpPr>
                  <p:cNvPr id="461" name=""/>
                  <p:cNvGrpSpPr/>
                  <p:nvPr/>
                </p:nvGrpSpPr>
                <p:grpSpPr>
                  <a:xfrm>
                    <a:off x="487440" y="1917360"/>
                    <a:ext cx="231840" cy="190440"/>
                    <a:chOff x="487440" y="1917360"/>
                    <a:chExt cx="231840" cy="190440"/>
                  </a:xfrm>
                </p:grpSpPr>
                <p:sp>
                  <p:nvSpPr>
                    <p:cNvPr id="462" name=""/>
                    <p:cNvSpPr/>
                    <p:nvPr/>
                  </p:nvSpPr>
                  <p:spPr>
                    <a:xfrm>
                      <a:off x="487440" y="1917360"/>
                      <a:ext cx="231840" cy="15696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498600" y="2080800"/>
                      <a:ext cx="27000" cy="27000"/>
                    </a:xfrm>
                    <a:prstGeom prst="ellipse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679680" y="2080800"/>
                      <a:ext cx="28440" cy="27000"/>
                    </a:xfrm>
                    <a:prstGeom prst="ellipse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5" name=""/>
                  <p:cNvGrpSpPr/>
                  <p:nvPr/>
                </p:nvGrpSpPr>
                <p:grpSpPr>
                  <a:xfrm>
                    <a:off x="565200" y="1872720"/>
                    <a:ext cx="74520" cy="28080"/>
                    <a:chOff x="565200" y="1872720"/>
                    <a:chExt cx="74520" cy="28080"/>
                  </a:xfrm>
                </p:grpSpPr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565200" y="187272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612720" y="187416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468" name=""/>
              <p:cNvSpPr/>
              <p:nvPr/>
            </p:nvSpPr>
            <p:spPr>
              <a:xfrm>
                <a:off x="728640" y="1711080"/>
                <a:ext cx="838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17640" y="1023840"/>
              <a:ext cx="346680" cy="354600"/>
              <a:chOff x="17640" y="1023840"/>
              <a:chExt cx="346680" cy="354600"/>
            </a:xfrm>
          </p:grpSpPr>
          <p:grpSp>
            <p:nvGrpSpPr>
              <p:cNvPr id="470" name=""/>
              <p:cNvGrpSpPr/>
              <p:nvPr/>
            </p:nvGrpSpPr>
            <p:grpSpPr>
              <a:xfrm>
                <a:off x="153720" y="1023840"/>
                <a:ext cx="75960" cy="63360"/>
                <a:chOff x="153720" y="1023840"/>
                <a:chExt cx="75960" cy="6336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153720" y="10238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29680" y="10238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17640" y="1082520"/>
                <a:ext cx="346680" cy="295920"/>
                <a:chOff x="17640" y="1082520"/>
                <a:chExt cx="346680" cy="295920"/>
              </a:xfrm>
            </p:grpSpPr>
            <p:grpSp>
              <p:nvGrpSpPr>
                <p:cNvPr id="474" name=""/>
                <p:cNvGrpSpPr/>
                <p:nvPr/>
              </p:nvGrpSpPr>
              <p:grpSpPr>
                <a:xfrm>
                  <a:off x="17640" y="1082520"/>
                  <a:ext cx="346680" cy="234000"/>
                  <a:chOff x="17640" y="1082520"/>
                  <a:chExt cx="346680" cy="234000"/>
                </a:xfrm>
              </p:grpSpPr>
              <p:sp>
                <p:nvSpPr>
                  <p:cNvPr id="475" name=""/>
                  <p:cNvSpPr/>
                  <p:nvPr/>
                </p:nvSpPr>
                <p:spPr>
                  <a:xfrm>
                    <a:off x="17640" y="1082520"/>
                    <a:ext cx="346680" cy="23400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flipV="1">
                    <a:off x="21240" y="1086120"/>
                    <a:ext cx="338040" cy="2289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17640" y="1086120"/>
                    <a:ext cx="345240" cy="2232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8" name=""/>
                <p:cNvSpPr/>
                <p:nvPr/>
              </p:nvSpPr>
              <p:spPr>
                <a:xfrm>
                  <a:off x="33840" y="1338480"/>
                  <a:ext cx="40320" cy="39960"/>
                </a:xfrm>
                <a:prstGeom prst="ellipse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305280" y="1338480"/>
                  <a:ext cx="43200" cy="39960"/>
                </a:xfrm>
                <a:prstGeom prst="ellipse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0" name=""/>
            <p:cNvGrpSpPr/>
            <p:nvPr/>
          </p:nvGrpSpPr>
          <p:grpSpPr>
            <a:xfrm>
              <a:off x="193320" y="2544840"/>
              <a:ext cx="2914560" cy="2222280"/>
              <a:chOff x="193320" y="2544840"/>
              <a:chExt cx="2914560" cy="2222280"/>
            </a:xfrm>
          </p:grpSpPr>
          <p:grpSp>
            <p:nvGrpSpPr>
              <p:cNvPr id="481" name=""/>
              <p:cNvGrpSpPr/>
              <p:nvPr/>
            </p:nvGrpSpPr>
            <p:grpSpPr>
              <a:xfrm>
                <a:off x="219240" y="3578400"/>
                <a:ext cx="2621880" cy="534960"/>
                <a:chOff x="219240" y="3578400"/>
                <a:chExt cx="2621880" cy="53496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1299960" y="3732480"/>
                  <a:ext cx="14378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8 per division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549000" y="3726000"/>
                  <a:ext cx="0" cy="282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742680" y="388656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ght Truck                              GE-3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96680" y="3726000"/>
                  <a:ext cx="633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219240" y="3706920"/>
                  <a:ext cx="352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760320" y="3597480"/>
                  <a:ext cx="20808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47mm AT Gun                        RO-1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8" name=""/>
                <p:cNvGrpSpPr/>
                <p:nvPr/>
              </p:nvGrpSpPr>
              <p:grpSpPr>
                <a:xfrm>
                  <a:off x="479160" y="3868920"/>
                  <a:ext cx="231480" cy="244440"/>
                  <a:chOff x="479160" y="3868920"/>
                  <a:chExt cx="231480" cy="244440"/>
                </a:xfrm>
              </p:grpSpPr>
              <p:grpSp>
                <p:nvGrpSpPr>
                  <p:cNvPr id="489" name=""/>
                  <p:cNvGrpSpPr/>
                  <p:nvPr/>
                </p:nvGrpSpPr>
                <p:grpSpPr>
                  <a:xfrm>
                    <a:off x="559800" y="3868920"/>
                    <a:ext cx="74520" cy="28080"/>
                    <a:chOff x="559800" y="3868920"/>
                    <a:chExt cx="74520" cy="28080"/>
                  </a:xfrm>
                </p:grpSpPr>
                <p:sp>
                  <p:nvSpPr>
                    <p:cNvPr id="490" name=""/>
                    <p:cNvSpPr/>
                    <p:nvPr/>
                  </p:nvSpPr>
                  <p:spPr>
                    <a:xfrm>
                      <a:off x="559800" y="386892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>
                      <a:off x="607320" y="387036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2" name=""/>
                  <p:cNvGrpSpPr/>
                  <p:nvPr/>
                </p:nvGrpSpPr>
                <p:grpSpPr>
                  <a:xfrm>
                    <a:off x="479160" y="3922920"/>
                    <a:ext cx="231480" cy="190440"/>
                    <a:chOff x="479160" y="3922920"/>
                    <a:chExt cx="231480" cy="190440"/>
                  </a:xfrm>
                </p:grpSpPr>
                <p:sp>
                  <p:nvSpPr>
                    <p:cNvPr id="493" name=""/>
                    <p:cNvSpPr/>
                    <p:nvPr/>
                  </p:nvSpPr>
                  <p:spPr>
                    <a:xfrm>
                      <a:off x="479160" y="3922920"/>
                      <a:ext cx="231480" cy="15696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>
                      <a:off x="489960" y="4086360"/>
                      <a:ext cx="26640" cy="27000"/>
                    </a:xfrm>
                    <a:prstGeom prst="ellipse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5" name=""/>
                    <p:cNvSpPr/>
                    <p:nvPr/>
                  </p:nvSpPr>
                  <p:spPr>
                    <a:xfrm>
                      <a:off x="671040" y="4086360"/>
                      <a:ext cx="28080" cy="27000"/>
                    </a:xfrm>
                    <a:prstGeom prst="ellipse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479160" y="3578400"/>
                  <a:ext cx="231480" cy="207720"/>
                  <a:chOff x="479160" y="3578400"/>
                  <a:chExt cx="231480" cy="207720"/>
                </a:xfrm>
              </p:grpSpPr>
              <p:grpSp>
                <p:nvGrpSpPr>
                  <p:cNvPr id="497" name=""/>
                  <p:cNvGrpSpPr/>
                  <p:nvPr/>
                </p:nvGrpSpPr>
                <p:grpSpPr>
                  <a:xfrm>
                    <a:off x="559800" y="3578400"/>
                    <a:ext cx="74520" cy="28080"/>
                    <a:chOff x="559800" y="3578400"/>
                    <a:chExt cx="74520" cy="28080"/>
                  </a:xfrm>
                </p:grpSpPr>
                <p:sp>
                  <p:nvSpPr>
                    <p:cNvPr id="498" name=""/>
                    <p:cNvSpPr/>
                    <p:nvPr/>
                  </p:nvSpPr>
                  <p:spPr>
                    <a:xfrm>
                      <a:off x="559800" y="357840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" name=""/>
                    <p:cNvSpPr/>
                    <p:nvPr/>
                  </p:nvSpPr>
                  <p:spPr>
                    <a:xfrm>
                      <a:off x="607320" y="357984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0" name=""/>
                  <p:cNvGrpSpPr/>
                  <p:nvPr/>
                </p:nvGrpSpPr>
                <p:grpSpPr>
                  <a:xfrm>
                    <a:off x="479160" y="3629160"/>
                    <a:ext cx="231480" cy="156960"/>
                    <a:chOff x="479160" y="3629160"/>
                    <a:chExt cx="231480" cy="156960"/>
                  </a:xfrm>
                </p:grpSpPr>
                <p:grpSp>
                  <p:nvGrpSpPr>
                    <p:cNvPr id="501" name=""/>
                    <p:cNvGrpSpPr/>
                    <p:nvPr/>
                  </p:nvGrpSpPr>
                  <p:grpSpPr>
                    <a:xfrm>
                      <a:off x="479160" y="3629160"/>
                      <a:ext cx="231480" cy="156960"/>
                      <a:chOff x="479160" y="3629160"/>
                      <a:chExt cx="231480" cy="156960"/>
                    </a:xfrm>
                  </p:grpSpPr>
                  <p:sp>
                    <p:nvSpPr>
                      <p:cNvPr id="502" name=""/>
                      <p:cNvSpPr/>
                      <p:nvPr/>
                    </p:nvSpPr>
                    <p:spPr>
                      <a:xfrm>
                        <a:off x="479160" y="3629160"/>
                        <a:ext cx="231480" cy="156960"/>
                      </a:xfrm>
                      <a:prstGeom prst="rect">
                        <a:avLst/>
                      </a:prstGeom>
                      <a:solidFill>
                        <a:srgbClr val="cc33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3" name=""/>
                      <p:cNvSpPr/>
                      <p:nvPr/>
                    </p:nvSpPr>
                    <p:spPr>
                      <a:xfrm flipV="1">
                        <a:off x="479160" y="3632040"/>
                        <a:ext cx="11412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4" name=""/>
                      <p:cNvSpPr/>
                      <p:nvPr/>
                    </p:nvSpPr>
                    <p:spPr>
                      <a:xfrm>
                        <a:off x="593280" y="3629160"/>
                        <a:ext cx="114480" cy="15372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05" name=""/>
                    <p:cNvSpPr/>
                    <p:nvPr/>
                  </p:nvSpPr>
                  <p:spPr>
                    <a:xfrm>
                      <a:off x="580320" y="3693960"/>
                      <a:ext cx="28440" cy="26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06" name=""/>
              <p:cNvGrpSpPr/>
              <p:nvPr/>
            </p:nvGrpSpPr>
            <p:grpSpPr>
              <a:xfrm>
                <a:off x="219240" y="4232160"/>
                <a:ext cx="2888640" cy="534960"/>
                <a:chOff x="219240" y="4232160"/>
                <a:chExt cx="2888640" cy="5349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549000" y="4379760"/>
                  <a:ext cx="0" cy="282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742680" y="4540320"/>
                  <a:ext cx="22968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ght Truck                             GE-3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796680" y="4379760"/>
                  <a:ext cx="633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19240" y="4361040"/>
                  <a:ext cx="352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60320" y="4251240"/>
                  <a:ext cx="23475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0mm FLAK Antiaircraft Gun GE-4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2" name=""/>
                <p:cNvGrpSpPr/>
                <p:nvPr/>
              </p:nvGrpSpPr>
              <p:grpSpPr>
                <a:xfrm>
                  <a:off x="479160" y="4522680"/>
                  <a:ext cx="231480" cy="244440"/>
                  <a:chOff x="479160" y="4522680"/>
                  <a:chExt cx="231480" cy="244440"/>
                </a:xfrm>
              </p:grpSpPr>
              <p:grpSp>
                <p:nvGrpSpPr>
                  <p:cNvPr id="513" name=""/>
                  <p:cNvGrpSpPr/>
                  <p:nvPr/>
                </p:nvGrpSpPr>
                <p:grpSpPr>
                  <a:xfrm>
                    <a:off x="559800" y="4522680"/>
                    <a:ext cx="74520" cy="28080"/>
                    <a:chOff x="559800" y="4522680"/>
                    <a:chExt cx="74520" cy="28080"/>
                  </a:xfrm>
                </p:grpSpPr>
                <p:sp>
                  <p:nvSpPr>
                    <p:cNvPr id="514" name=""/>
                    <p:cNvSpPr/>
                    <p:nvPr/>
                  </p:nvSpPr>
                  <p:spPr>
                    <a:xfrm>
                      <a:off x="559800" y="452268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>
                      <a:off x="607320" y="452412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6" name=""/>
                  <p:cNvGrpSpPr/>
                  <p:nvPr/>
                </p:nvGrpSpPr>
                <p:grpSpPr>
                  <a:xfrm>
                    <a:off x="479160" y="4576680"/>
                    <a:ext cx="231480" cy="190440"/>
                    <a:chOff x="479160" y="4576680"/>
                    <a:chExt cx="231480" cy="190440"/>
                  </a:xfrm>
                </p:grpSpPr>
                <p:sp>
                  <p:nvSpPr>
                    <p:cNvPr id="517" name=""/>
                    <p:cNvSpPr/>
                    <p:nvPr/>
                  </p:nvSpPr>
                  <p:spPr>
                    <a:xfrm>
                      <a:off x="479160" y="4576680"/>
                      <a:ext cx="231480" cy="15696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489960" y="4740120"/>
                      <a:ext cx="26640" cy="27000"/>
                    </a:xfrm>
                    <a:prstGeom prst="ellipse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671040" y="4740120"/>
                      <a:ext cx="28080" cy="27000"/>
                    </a:xfrm>
                    <a:prstGeom prst="ellipse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469800" y="4232160"/>
                  <a:ext cx="231120" cy="203040"/>
                  <a:chOff x="469800" y="4232160"/>
                  <a:chExt cx="231120" cy="203040"/>
                </a:xfrm>
              </p:grpSpPr>
              <p:grpSp>
                <p:nvGrpSpPr>
                  <p:cNvPr id="521" name=""/>
                  <p:cNvGrpSpPr/>
                  <p:nvPr/>
                </p:nvGrpSpPr>
                <p:grpSpPr>
                  <a:xfrm>
                    <a:off x="548640" y="4232160"/>
                    <a:ext cx="73800" cy="28800"/>
                    <a:chOff x="548640" y="4232160"/>
                    <a:chExt cx="73800" cy="28800"/>
                  </a:xfrm>
                </p:grpSpPr>
                <p:sp>
                  <p:nvSpPr>
                    <p:cNvPr id="522" name=""/>
                    <p:cNvSpPr/>
                    <p:nvPr/>
                  </p:nvSpPr>
                  <p:spPr>
                    <a:xfrm>
                      <a:off x="548640" y="4232160"/>
                      <a:ext cx="2808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595800" y="4233960"/>
                      <a:ext cx="266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4" name=""/>
                  <p:cNvGrpSpPr/>
                  <p:nvPr/>
                </p:nvGrpSpPr>
                <p:grpSpPr>
                  <a:xfrm>
                    <a:off x="469800" y="4278240"/>
                    <a:ext cx="231120" cy="156960"/>
                    <a:chOff x="469800" y="4278240"/>
                    <a:chExt cx="231120" cy="156960"/>
                  </a:xfrm>
                </p:grpSpPr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469800" y="4278240"/>
                      <a:ext cx="231120" cy="15696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 flipV="1">
                      <a:off x="469800" y="4281120"/>
                      <a:ext cx="113760" cy="1522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83560" y="4278240"/>
                      <a:ext cx="114120" cy="1537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29560" y="435744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529" name=""/>
              <p:cNvSpPr/>
              <p:nvPr/>
            </p:nvSpPr>
            <p:spPr>
              <a:xfrm>
                <a:off x="422280" y="2727360"/>
                <a:ext cx="1754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ATTACH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0" name=""/>
              <p:cNvGrpSpPr/>
              <p:nvPr/>
            </p:nvGrpSpPr>
            <p:grpSpPr>
              <a:xfrm>
                <a:off x="219240" y="2892600"/>
                <a:ext cx="2621880" cy="555120"/>
                <a:chOff x="219240" y="2892600"/>
                <a:chExt cx="2621880" cy="555120"/>
              </a:xfrm>
            </p:grpSpPr>
            <p:grpSp>
              <p:nvGrpSpPr>
                <p:cNvPr id="531" name=""/>
                <p:cNvGrpSpPr/>
                <p:nvPr/>
              </p:nvGrpSpPr>
              <p:grpSpPr>
                <a:xfrm>
                  <a:off x="219240" y="2892600"/>
                  <a:ext cx="2621880" cy="534960"/>
                  <a:chOff x="219240" y="2892600"/>
                  <a:chExt cx="2621880" cy="534960"/>
                </a:xfrm>
              </p:grpSpPr>
              <p:sp>
                <p:nvSpPr>
                  <p:cNvPr id="532" name=""/>
                  <p:cNvSpPr/>
                  <p:nvPr/>
                </p:nvSpPr>
                <p:spPr>
                  <a:xfrm>
                    <a:off x="549000" y="3040200"/>
                    <a:ext cx="0" cy="2826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796680" y="3040200"/>
                    <a:ext cx="63324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9900"/>
                        </a:solidFill>
                        <a:latin typeface="Arial"/>
                      </a:rPr>
                      <a:t>Transpor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219240" y="3021120"/>
                    <a:ext cx="3520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760320" y="2911680"/>
                    <a:ext cx="208080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4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Heavy Machine Gun               RO-17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36" name=""/>
                  <p:cNvGrpSpPr/>
                  <p:nvPr/>
                </p:nvGrpSpPr>
                <p:grpSpPr>
                  <a:xfrm>
                    <a:off x="479160" y="3183120"/>
                    <a:ext cx="231480" cy="244440"/>
                    <a:chOff x="479160" y="3183120"/>
                    <a:chExt cx="231480" cy="244440"/>
                  </a:xfrm>
                </p:grpSpPr>
                <p:grpSp>
                  <p:nvGrpSpPr>
                    <p:cNvPr id="537" name=""/>
                    <p:cNvGrpSpPr/>
                    <p:nvPr/>
                  </p:nvGrpSpPr>
                  <p:grpSpPr>
                    <a:xfrm>
                      <a:off x="559800" y="3183120"/>
                      <a:ext cx="73800" cy="28080"/>
                      <a:chOff x="559800" y="3183120"/>
                      <a:chExt cx="73800" cy="28080"/>
                    </a:xfrm>
                  </p:grpSpPr>
                  <p:sp>
                    <p:nvSpPr>
                      <p:cNvPr id="538" name=""/>
                      <p:cNvSpPr/>
                      <p:nvPr/>
                    </p:nvSpPr>
                    <p:spPr>
                      <a:xfrm>
                        <a:off x="559800" y="3183120"/>
                        <a:ext cx="2808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9" name=""/>
                      <p:cNvSpPr/>
                      <p:nvPr/>
                    </p:nvSpPr>
                    <p:spPr>
                      <a:xfrm>
                        <a:off x="606960" y="3184560"/>
                        <a:ext cx="266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40" name=""/>
                    <p:cNvGrpSpPr/>
                    <p:nvPr/>
                  </p:nvGrpSpPr>
                  <p:grpSpPr>
                    <a:xfrm>
                      <a:off x="479160" y="3237120"/>
                      <a:ext cx="231480" cy="190440"/>
                      <a:chOff x="479160" y="3237120"/>
                      <a:chExt cx="231480" cy="190440"/>
                    </a:xfrm>
                  </p:grpSpPr>
                  <p:sp>
                    <p:nvSpPr>
                      <p:cNvPr id="541" name=""/>
                      <p:cNvSpPr/>
                      <p:nvPr/>
                    </p:nvSpPr>
                    <p:spPr>
                      <a:xfrm>
                        <a:off x="479160" y="3237120"/>
                        <a:ext cx="231480" cy="156960"/>
                      </a:xfrm>
                      <a:prstGeom prst="rect">
                        <a:avLst/>
                      </a:prstGeom>
                      <a:solidFill>
                        <a:srgbClr val="cc33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2" name=""/>
                      <p:cNvSpPr/>
                      <p:nvPr/>
                    </p:nvSpPr>
                    <p:spPr>
                      <a:xfrm>
                        <a:off x="489960" y="3400560"/>
                        <a:ext cx="26640" cy="27000"/>
                      </a:xfrm>
                      <a:prstGeom prst="ellipse">
                        <a:avLst/>
                      </a:prstGeom>
                      <a:solidFill>
                        <a:srgbClr val="cc33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3" name=""/>
                      <p:cNvSpPr/>
                      <p:nvPr/>
                    </p:nvSpPr>
                    <p:spPr>
                      <a:xfrm>
                        <a:off x="671040" y="3400560"/>
                        <a:ext cx="28080" cy="27000"/>
                      </a:xfrm>
                      <a:prstGeom prst="ellipse">
                        <a:avLst/>
                      </a:prstGeom>
                      <a:solidFill>
                        <a:srgbClr val="cc33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544" name=""/>
                  <p:cNvGrpSpPr/>
                  <p:nvPr/>
                </p:nvGrpSpPr>
                <p:grpSpPr>
                  <a:xfrm>
                    <a:off x="468000" y="2892600"/>
                    <a:ext cx="245880" cy="204840"/>
                    <a:chOff x="468000" y="2892600"/>
                    <a:chExt cx="245880" cy="204840"/>
                  </a:xfrm>
                </p:grpSpPr>
                <p:grpSp>
                  <p:nvGrpSpPr>
                    <p:cNvPr id="545" name=""/>
                    <p:cNvGrpSpPr/>
                    <p:nvPr/>
                  </p:nvGrpSpPr>
                  <p:grpSpPr>
                    <a:xfrm>
                      <a:off x="559800" y="2892600"/>
                      <a:ext cx="73800" cy="28080"/>
                      <a:chOff x="559800" y="2892600"/>
                      <a:chExt cx="73800" cy="28080"/>
                    </a:xfrm>
                  </p:grpSpPr>
                  <p:sp>
                    <p:nvSpPr>
                      <p:cNvPr id="546" name=""/>
                      <p:cNvSpPr/>
                      <p:nvPr/>
                    </p:nvSpPr>
                    <p:spPr>
                      <a:xfrm>
                        <a:off x="559800" y="2892600"/>
                        <a:ext cx="2808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7" name=""/>
                      <p:cNvSpPr/>
                      <p:nvPr/>
                    </p:nvSpPr>
                    <p:spPr>
                      <a:xfrm>
                        <a:off x="606960" y="2894040"/>
                        <a:ext cx="266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48" name=""/>
                    <p:cNvGrpSpPr/>
                    <p:nvPr/>
                  </p:nvGrpSpPr>
                  <p:grpSpPr>
                    <a:xfrm>
                      <a:off x="468000" y="2928960"/>
                      <a:ext cx="245880" cy="168480"/>
                      <a:chOff x="468000" y="2928960"/>
                      <a:chExt cx="245880" cy="168480"/>
                    </a:xfrm>
                  </p:grpSpPr>
                  <p:sp>
                    <p:nvSpPr>
                      <p:cNvPr id="549" name=""/>
                      <p:cNvSpPr/>
                      <p:nvPr/>
                    </p:nvSpPr>
                    <p:spPr>
                      <a:xfrm>
                        <a:off x="468000" y="2928960"/>
                        <a:ext cx="245880" cy="168480"/>
                      </a:xfrm>
                      <a:prstGeom prst="rect">
                        <a:avLst/>
                      </a:prstGeom>
                      <a:solidFill>
                        <a:srgbClr val="cc33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0" name=""/>
                      <p:cNvSpPr/>
                      <p:nvPr/>
                    </p:nvSpPr>
                    <p:spPr>
                      <a:xfrm flipV="1">
                        <a:off x="478800" y="2943000"/>
                        <a:ext cx="220680" cy="12852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1" name=""/>
                      <p:cNvSpPr/>
                      <p:nvPr/>
                    </p:nvSpPr>
                    <p:spPr>
                      <a:xfrm>
                        <a:off x="478800" y="2943360"/>
                        <a:ext cx="228600" cy="13968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2" name=""/>
                      <p:cNvSpPr/>
                      <p:nvPr/>
                    </p:nvSpPr>
                    <p:spPr>
                      <a:xfrm>
                        <a:off x="477360" y="2938680"/>
                        <a:ext cx="61920" cy="1508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cc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53" name=""/>
                <p:cNvSpPr/>
                <p:nvPr/>
              </p:nvSpPr>
              <p:spPr>
                <a:xfrm>
                  <a:off x="723960" y="323208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2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ght Truck                              GE-3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4" name=""/>
              <p:cNvSpPr/>
              <p:nvPr/>
            </p:nvSpPr>
            <p:spPr>
              <a:xfrm flipH="1">
                <a:off x="193320" y="2544840"/>
                <a:ext cx="3240" cy="181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5" name=""/>
          <p:cNvSpPr/>
          <p:nvPr/>
        </p:nvSpPr>
        <p:spPr>
          <a:xfrm>
            <a:off x="2738520" y="561960"/>
            <a:ext cx="252396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Battle Group-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torized Reconnaissance Battal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 per Armored Divis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2738520" y="1278000"/>
            <a:ext cx="3132000" cy="2971800"/>
            <a:chOff x="2738520" y="1278000"/>
            <a:chExt cx="3132000" cy="2971800"/>
          </a:xfrm>
        </p:grpSpPr>
        <p:sp>
          <p:nvSpPr>
            <p:cNvPr id="557" name=""/>
            <p:cNvSpPr/>
            <p:nvPr/>
          </p:nvSpPr>
          <p:spPr>
            <a:xfrm>
              <a:off x="3098880" y="2943360"/>
              <a:ext cx="175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924280" y="1579680"/>
              <a:ext cx="3240" cy="121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100320" y="2082960"/>
              <a:ext cx="175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2930400" y="3714840"/>
              <a:ext cx="2622600" cy="534960"/>
              <a:chOff x="2930400" y="3714840"/>
              <a:chExt cx="2622600" cy="534960"/>
            </a:xfrm>
          </p:grpSpPr>
          <p:sp>
            <p:nvSpPr>
              <p:cNvPr id="561" name=""/>
              <p:cNvSpPr/>
              <p:nvPr/>
            </p:nvSpPr>
            <p:spPr>
              <a:xfrm>
                <a:off x="3260880" y="3862440"/>
                <a:ext cx="0" cy="28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454560" y="402264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ght Truck                            GE-3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508560" y="38624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930400" y="384336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471840" y="373392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7mm AT Gun                      RO-1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6" name=""/>
              <p:cNvGrpSpPr/>
              <p:nvPr/>
            </p:nvGrpSpPr>
            <p:grpSpPr>
              <a:xfrm>
                <a:off x="3191040" y="4005360"/>
                <a:ext cx="231480" cy="244440"/>
                <a:chOff x="3191040" y="4005360"/>
                <a:chExt cx="231480" cy="244440"/>
              </a:xfrm>
            </p:grpSpPr>
            <p:grpSp>
              <p:nvGrpSpPr>
                <p:cNvPr id="567" name=""/>
                <p:cNvGrpSpPr/>
                <p:nvPr/>
              </p:nvGrpSpPr>
              <p:grpSpPr>
                <a:xfrm>
                  <a:off x="3271680" y="4005360"/>
                  <a:ext cx="74520" cy="28080"/>
                  <a:chOff x="3271680" y="4005360"/>
                  <a:chExt cx="74520" cy="2808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>
                    <a:off x="3271680" y="400536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3319200" y="40068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3191040" y="4059360"/>
                  <a:ext cx="231480" cy="190440"/>
                  <a:chOff x="3191040" y="4059360"/>
                  <a:chExt cx="231480" cy="19044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>
                    <a:off x="3191040" y="4059360"/>
                    <a:ext cx="231480" cy="15696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3201840" y="4222800"/>
                    <a:ext cx="26640" cy="2700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3382920" y="4222800"/>
                    <a:ext cx="28080" cy="2700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4" name=""/>
              <p:cNvGrpSpPr/>
              <p:nvPr/>
            </p:nvGrpSpPr>
            <p:grpSpPr>
              <a:xfrm>
                <a:off x="3191040" y="3714840"/>
                <a:ext cx="231480" cy="207720"/>
                <a:chOff x="3191040" y="3714840"/>
                <a:chExt cx="231480" cy="207720"/>
              </a:xfrm>
            </p:grpSpPr>
            <p:grpSp>
              <p:nvGrpSpPr>
                <p:cNvPr id="575" name=""/>
                <p:cNvGrpSpPr/>
                <p:nvPr/>
              </p:nvGrpSpPr>
              <p:grpSpPr>
                <a:xfrm>
                  <a:off x="3271680" y="3714840"/>
                  <a:ext cx="74520" cy="28080"/>
                  <a:chOff x="3271680" y="3714840"/>
                  <a:chExt cx="74520" cy="28080"/>
                </a:xfrm>
              </p:grpSpPr>
              <p:sp>
                <p:nvSpPr>
                  <p:cNvPr id="576" name=""/>
                  <p:cNvSpPr/>
                  <p:nvPr/>
                </p:nvSpPr>
                <p:spPr>
                  <a:xfrm>
                    <a:off x="3271680" y="37148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3319200" y="37162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8" name=""/>
                <p:cNvGrpSpPr/>
                <p:nvPr/>
              </p:nvGrpSpPr>
              <p:grpSpPr>
                <a:xfrm>
                  <a:off x="3191040" y="3765600"/>
                  <a:ext cx="231480" cy="156960"/>
                  <a:chOff x="3191040" y="3765600"/>
                  <a:chExt cx="231480" cy="156960"/>
                </a:xfrm>
              </p:grpSpPr>
              <p:grpSp>
                <p:nvGrpSpPr>
                  <p:cNvPr id="579" name=""/>
                  <p:cNvGrpSpPr/>
                  <p:nvPr/>
                </p:nvGrpSpPr>
                <p:grpSpPr>
                  <a:xfrm>
                    <a:off x="3191040" y="3765600"/>
                    <a:ext cx="231480" cy="156960"/>
                    <a:chOff x="3191040" y="3765600"/>
                    <a:chExt cx="231480" cy="156960"/>
                  </a:xfrm>
                </p:grpSpPr>
                <p:sp>
                  <p:nvSpPr>
                    <p:cNvPr id="580" name=""/>
                    <p:cNvSpPr/>
                    <p:nvPr/>
                  </p:nvSpPr>
                  <p:spPr>
                    <a:xfrm>
                      <a:off x="3191040" y="3765600"/>
                      <a:ext cx="231480" cy="15696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1" name=""/>
                    <p:cNvSpPr/>
                    <p:nvPr/>
                  </p:nvSpPr>
                  <p:spPr>
                    <a:xfrm flipV="1">
                      <a:off x="3191040" y="3768480"/>
                      <a:ext cx="114120" cy="1519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>
                      <a:off x="3305160" y="3765600"/>
                      <a:ext cx="114480" cy="1537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83" name=""/>
                  <p:cNvSpPr/>
                  <p:nvPr/>
                </p:nvSpPr>
                <p:spPr>
                  <a:xfrm>
                    <a:off x="3292200" y="3830400"/>
                    <a:ext cx="28440" cy="26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84" name=""/>
            <p:cNvSpPr/>
            <p:nvPr/>
          </p:nvSpPr>
          <p:spPr>
            <a:xfrm>
              <a:off x="2932200" y="2822400"/>
              <a:ext cx="0" cy="10051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2738520" y="1278000"/>
              <a:ext cx="364320" cy="300960"/>
              <a:chOff x="2738520" y="1278000"/>
              <a:chExt cx="364320" cy="300960"/>
            </a:xfrm>
          </p:grpSpPr>
          <p:grpSp>
            <p:nvGrpSpPr>
              <p:cNvPr id="586" name=""/>
              <p:cNvGrpSpPr/>
              <p:nvPr/>
            </p:nvGrpSpPr>
            <p:grpSpPr>
              <a:xfrm>
                <a:off x="2882880" y="1278000"/>
                <a:ext cx="76320" cy="63720"/>
                <a:chOff x="2882880" y="1278000"/>
                <a:chExt cx="76320" cy="6372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2882880" y="127800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2959200" y="127800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2738520" y="1339560"/>
                <a:ext cx="364320" cy="239400"/>
                <a:chOff x="2738520" y="1339560"/>
                <a:chExt cx="364320" cy="239400"/>
              </a:xfrm>
            </p:grpSpPr>
            <p:grpSp>
              <p:nvGrpSpPr>
                <p:cNvPr id="590" name=""/>
                <p:cNvGrpSpPr/>
                <p:nvPr/>
              </p:nvGrpSpPr>
              <p:grpSpPr>
                <a:xfrm>
                  <a:off x="2738520" y="1339920"/>
                  <a:ext cx="364320" cy="239040"/>
                  <a:chOff x="2738520" y="1339920"/>
                  <a:chExt cx="364320" cy="23904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>
                    <a:off x="2738520" y="1339920"/>
                    <a:ext cx="364320" cy="23904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2805480" y="1399680"/>
                    <a:ext cx="230400" cy="11412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3" name=""/>
                <p:cNvSpPr/>
                <p:nvPr/>
              </p:nvSpPr>
              <p:spPr>
                <a:xfrm flipV="1">
                  <a:off x="2738520" y="1339560"/>
                  <a:ext cx="359280" cy="2394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4" name=""/>
            <p:cNvGrpSpPr/>
            <p:nvPr/>
          </p:nvGrpSpPr>
          <p:grpSpPr>
            <a:xfrm>
              <a:off x="2921040" y="1476360"/>
              <a:ext cx="2624040" cy="553680"/>
              <a:chOff x="2921040" y="1476360"/>
              <a:chExt cx="2624040" cy="553680"/>
            </a:xfrm>
          </p:grpSpPr>
          <p:sp>
            <p:nvSpPr>
              <p:cNvPr id="595" name=""/>
              <p:cNvSpPr/>
              <p:nvPr/>
            </p:nvSpPr>
            <p:spPr>
              <a:xfrm>
                <a:off x="3149640" y="1476360"/>
                <a:ext cx="1754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HEADQUARTERS EL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456000" y="1638000"/>
                <a:ext cx="838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7" name=""/>
              <p:cNvGrpSpPr/>
              <p:nvPr/>
            </p:nvGrpSpPr>
            <p:grpSpPr>
              <a:xfrm>
                <a:off x="2921040" y="1800000"/>
                <a:ext cx="2624040" cy="230040"/>
                <a:chOff x="2921040" y="1800000"/>
                <a:chExt cx="2624040" cy="23004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2921040" y="191124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463920" y="181440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OAvz 30 Armored Car      RO-07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0" name=""/>
                <p:cNvGrpSpPr/>
                <p:nvPr/>
              </p:nvGrpSpPr>
              <p:grpSpPr>
                <a:xfrm>
                  <a:off x="3219480" y="1800000"/>
                  <a:ext cx="239760" cy="193680"/>
                  <a:chOff x="3219480" y="1800000"/>
                  <a:chExt cx="239760" cy="193680"/>
                </a:xfrm>
              </p:grpSpPr>
              <p:sp>
                <p:nvSpPr>
                  <p:cNvPr id="601" name=""/>
                  <p:cNvSpPr/>
                  <p:nvPr/>
                </p:nvSpPr>
                <p:spPr>
                  <a:xfrm>
                    <a:off x="3324240" y="180000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02" name=""/>
                  <p:cNvGrpSpPr/>
                  <p:nvPr/>
                </p:nvGrpSpPr>
                <p:grpSpPr>
                  <a:xfrm>
                    <a:off x="3219480" y="1836720"/>
                    <a:ext cx="239760" cy="156960"/>
                    <a:chOff x="3219480" y="1836720"/>
                    <a:chExt cx="239760" cy="156960"/>
                  </a:xfrm>
                </p:grpSpPr>
                <p:grpSp>
                  <p:nvGrpSpPr>
                    <p:cNvPr id="603" name=""/>
                    <p:cNvGrpSpPr/>
                    <p:nvPr/>
                  </p:nvGrpSpPr>
                  <p:grpSpPr>
                    <a:xfrm>
                      <a:off x="3219480" y="1836720"/>
                      <a:ext cx="239760" cy="156960"/>
                      <a:chOff x="3219480" y="1836720"/>
                      <a:chExt cx="239760" cy="156960"/>
                    </a:xfrm>
                  </p:grpSpPr>
                  <p:sp>
                    <p:nvSpPr>
                      <p:cNvPr id="604" name=""/>
                      <p:cNvSpPr/>
                      <p:nvPr/>
                    </p:nvSpPr>
                    <p:spPr>
                      <a:xfrm>
                        <a:off x="3219480" y="1836720"/>
                        <a:ext cx="239760" cy="156960"/>
                      </a:xfrm>
                      <a:prstGeom prst="rect">
                        <a:avLst/>
                      </a:prstGeom>
                      <a:solidFill>
                        <a:srgbClr val="cc33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5" name=""/>
                      <p:cNvSpPr/>
                      <p:nvPr/>
                    </p:nvSpPr>
                    <p:spPr>
                      <a:xfrm>
                        <a:off x="3263400" y="1875960"/>
                        <a:ext cx="151560" cy="74880"/>
                      </a:xfrm>
                      <a:prstGeom prst="ellipse">
                        <a:avLst/>
                      </a:prstGeom>
                      <a:solidFill>
                        <a:srgbClr val="cc33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480" bIns="6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06" name=""/>
                    <p:cNvSpPr/>
                    <p:nvPr/>
                  </p:nvSpPr>
                  <p:spPr>
                    <a:xfrm flipV="1">
                      <a:off x="3219480" y="1836720"/>
                      <a:ext cx="236160" cy="1569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607" name=""/>
            <p:cNvGrpSpPr/>
            <p:nvPr/>
          </p:nvGrpSpPr>
          <p:grpSpPr>
            <a:xfrm>
              <a:off x="2927520" y="2293920"/>
              <a:ext cx="2943000" cy="307440"/>
              <a:chOff x="2927520" y="2293920"/>
              <a:chExt cx="2943000" cy="307440"/>
            </a:xfrm>
          </p:grpSpPr>
          <p:sp>
            <p:nvSpPr>
              <p:cNvPr id="608" name=""/>
              <p:cNvSpPr/>
              <p:nvPr/>
            </p:nvSpPr>
            <p:spPr>
              <a:xfrm>
                <a:off x="2927520" y="2466720"/>
                <a:ext cx="352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490920" y="2349360"/>
                <a:ext cx="2379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Motorcycle Company                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0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0" name=""/>
              <p:cNvGrpSpPr/>
              <p:nvPr/>
            </p:nvGrpSpPr>
            <p:grpSpPr>
              <a:xfrm>
                <a:off x="3244680" y="2293920"/>
                <a:ext cx="284400" cy="307440"/>
                <a:chOff x="3244680" y="2293920"/>
                <a:chExt cx="284400" cy="30744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3386160" y="22939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2" name=""/>
                <p:cNvGrpSpPr/>
                <p:nvPr/>
              </p:nvGrpSpPr>
              <p:grpSpPr>
                <a:xfrm>
                  <a:off x="3244680" y="2368440"/>
                  <a:ext cx="284400" cy="232920"/>
                  <a:chOff x="3244680" y="2368440"/>
                  <a:chExt cx="284400" cy="2329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>
                    <a:off x="3244680" y="2368440"/>
                    <a:ext cx="284400" cy="19224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flipV="1">
                    <a:off x="3244680" y="2368440"/>
                    <a:ext cx="282960" cy="1908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3257640" y="2567880"/>
                    <a:ext cx="33120" cy="3348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3480840" y="2567880"/>
                    <a:ext cx="33120" cy="3348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17" name=""/>
            <p:cNvGrpSpPr/>
            <p:nvPr/>
          </p:nvGrpSpPr>
          <p:grpSpPr>
            <a:xfrm>
              <a:off x="2919240" y="2641680"/>
              <a:ext cx="2943000" cy="271080"/>
              <a:chOff x="2919240" y="2641680"/>
              <a:chExt cx="2943000" cy="271080"/>
            </a:xfrm>
          </p:grpSpPr>
          <p:sp>
            <p:nvSpPr>
              <p:cNvPr id="618" name=""/>
              <p:cNvSpPr/>
              <p:nvPr/>
            </p:nvSpPr>
            <p:spPr>
              <a:xfrm>
                <a:off x="2919240" y="2814480"/>
                <a:ext cx="352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482640" y="2697120"/>
                <a:ext cx="2379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Light Armored Car Company    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0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0" name=""/>
              <p:cNvGrpSpPr/>
              <p:nvPr/>
            </p:nvGrpSpPr>
            <p:grpSpPr>
              <a:xfrm>
                <a:off x="3225600" y="2641680"/>
                <a:ext cx="291960" cy="266400"/>
                <a:chOff x="3225600" y="2641680"/>
                <a:chExt cx="291960" cy="26640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3377880" y="26416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2" name=""/>
                <p:cNvGrpSpPr/>
                <p:nvPr/>
              </p:nvGrpSpPr>
              <p:grpSpPr>
                <a:xfrm>
                  <a:off x="3225600" y="2717280"/>
                  <a:ext cx="291960" cy="190800"/>
                  <a:chOff x="3225600" y="2717280"/>
                  <a:chExt cx="291960" cy="190800"/>
                </a:xfrm>
              </p:grpSpPr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3225600" y="2717640"/>
                    <a:ext cx="291960" cy="190440"/>
                    <a:chOff x="3225600" y="2717640"/>
                    <a:chExt cx="291960" cy="19044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3225600" y="2717640"/>
                      <a:ext cx="291960" cy="19044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>
                      <a:off x="3279240" y="2765160"/>
                      <a:ext cx="184320" cy="90720"/>
                    </a:xfrm>
                    <a:prstGeom prst="ellipse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6" name=""/>
                  <p:cNvSpPr/>
                  <p:nvPr/>
                </p:nvSpPr>
                <p:spPr>
                  <a:xfrm flipV="1">
                    <a:off x="3225600" y="2717280"/>
                    <a:ext cx="287640" cy="1904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27" name=""/>
            <p:cNvGrpSpPr/>
            <p:nvPr/>
          </p:nvGrpSpPr>
          <p:grpSpPr>
            <a:xfrm>
              <a:off x="2938320" y="3159000"/>
              <a:ext cx="2622600" cy="534960"/>
              <a:chOff x="2938320" y="3159000"/>
              <a:chExt cx="2622600" cy="534960"/>
            </a:xfrm>
          </p:grpSpPr>
          <p:sp>
            <p:nvSpPr>
              <p:cNvPr id="628" name=""/>
              <p:cNvSpPr/>
              <p:nvPr/>
            </p:nvSpPr>
            <p:spPr>
              <a:xfrm>
                <a:off x="3448080" y="3466800"/>
                <a:ext cx="2063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dium Truck                        GE-3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268800" y="3306600"/>
                <a:ext cx="0" cy="28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516480" y="330660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1" name=""/>
              <p:cNvGrpSpPr/>
              <p:nvPr/>
            </p:nvGrpSpPr>
            <p:grpSpPr>
              <a:xfrm>
                <a:off x="3198960" y="3449520"/>
                <a:ext cx="231480" cy="244440"/>
                <a:chOff x="3198960" y="3449520"/>
                <a:chExt cx="231480" cy="244440"/>
              </a:xfrm>
            </p:grpSpPr>
            <p:grpSp>
              <p:nvGrpSpPr>
                <p:cNvPr id="632" name=""/>
                <p:cNvGrpSpPr/>
                <p:nvPr/>
              </p:nvGrpSpPr>
              <p:grpSpPr>
                <a:xfrm>
                  <a:off x="3279600" y="3449520"/>
                  <a:ext cx="73800" cy="28080"/>
                  <a:chOff x="3279600" y="3449520"/>
                  <a:chExt cx="73800" cy="28080"/>
                </a:xfrm>
              </p:grpSpPr>
              <p:sp>
                <p:nvSpPr>
                  <p:cNvPr id="633" name=""/>
                  <p:cNvSpPr/>
                  <p:nvPr/>
                </p:nvSpPr>
                <p:spPr>
                  <a:xfrm>
                    <a:off x="3279600" y="3449520"/>
                    <a:ext cx="2808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3326760" y="345096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5" name=""/>
                <p:cNvGrpSpPr/>
                <p:nvPr/>
              </p:nvGrpSpPr>
              <p:grpSpPr>
                <a:xfrm>
                  <a:off x="3198960" y="3503520"/>
                  <a:ext cx="231480" cy="190440"/>
                  <a:chOff x="3198960" y="3503520"/>
                  <a:chExt cx="231480" cy="190440"/>
                </a:xfrm>
              </p:grpSpPr>
              <p:sp>
                <p:nvSpPr>
                  <p:cNvPr id="636" name=""/>
                  <p:cNvSpPr/>
                  <p:nvPr/>
                </p:nvSpPr>
                <p:spPr>
                  <a:xfrm>
                    <a:off x="3198960" y="3503520"/>
                    <a:ext cx="231480" cy="15696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3209760" y="3666960"/>
                    <a:ext cx="26640" cy="2700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3390840" y="3666960"/>
                    <a:ext cx="28080" cy="2700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39" name=""/>
              <p:cNvGrpSpPr/>
              <p:nvPr/>
            </p:nvGrpSpPr>
            <p:grpSpPr>
              <a:xfrm>
                <a:off x="2938320" y="3159000"/>
                <a:ext cx="2622600" cy="234720"/>
                <a:chOff x="2938320" y="3159000"/>
                <a:chExt cx="2622600" cy="23472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2938320" y="328752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3479760" y="317808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3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bat Engineers                RO-1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2" name=""/>
                <p:cNvGrpSpPr/>
                <p:nvPr/>
              </p:nvGrpSpPr>
              <p:grpSpPr>
                <a:xfrm>
                  <a:off x="3279960" y="3159000"/>
                  <a:ext cx="74520" cy="28080"/>
                  <a:chOff x="3279960" y="3159000"/>
                  <a:chExt cx="74520" cy="28080"/>
                </a:xfrm>
              </p:grpSpPr>
              <p:sp>
                <p:nvSpPr>
                  <p:cNvPr id="643" name=""/>
                  <p:cNvSpPr/>
                  <p:nvPr/>
                </p:nvSpPr>
                <p:spPr>
                  <a:xfrm>
                    <a:off x="3279960" y="315900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3327480" y="31604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3200400" y="3200400"/>
                  <a:ext cx="231840" cy="156960"/>
                  <a:chOff x="3200400" y="3200400"/>
                  <a:chExt cx="231840" cy="15696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>
                    <a:off x="3200400" y="3200400"/>
                    <a:ext cx="231840" cy="15696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3271680" y="3247560"/>
                    <a:ext cx="0" cy="5004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3313080" y="3250080"/>
                    <a:ext cx="0" cy="4752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3353760" y="3251520"/>
                    <a:ext cx="0" cy="4608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3267000" y="3250080"/>
                    <a:ext cx="9360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651" name=""/>
          <p:cNvSpPr/>
          <p:nvPr/>
        </p:nvSpPr>
        <p:spPr>
          <a:xfrm>
            <a:off x="5611680" y="519120"/>
            <a:ext cx="252432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Battle Group-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torcycle Battal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 per Armored Divis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5611680" y="1222200"/>
            <a:ext cx="2812680" cy="2236320"/>
            <a:chOff x="5611680" y="1222200"/>
            <a:chExt cx="2812680" cy="2236320"/>
          </a:xfrm>
        </p:grpSpPr>
        <p:sp>
          <p:nvSpPr>
            <p:cNvPr id="653" name=""/>
            <p:cNvSpPr/>
            <p:nvPr/>
          </p:nvSpPr>
          <p:spPr>
            <a:xfrm>
              <a:off x="5964120" y="2657520"/>
              <a:ext cx="175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89520" y="1565280"/>
              <a:ext cx="3240" cy="121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797440" y="2808360"/>
              <a:ext cx="0" cy="2239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5792760" y="2068560"/>
              <a:ext cx="2570040" cy="524520"/>
              <a:chOff x="5792760" y="2068560"/>
              <a:chExt cx="2570040" cy="524520"/>
            </a:xfrm>
          </p:grpSpPr>
          <p:sp>
            <p:nvSpPr>
              <p:cNvPr id="657" name=""/>
              <p:cNvSpPr/>
              <p:nvPr/>
            </p:nvSpPr>
            <p:spPr>
              <a:xfrm>
                <a:off x="5965920" y="2068560"/>
                <a:ext cx="1753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ANEUVER ELE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792760" y="2452680"/>
                <a:ext cx="301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330960" y="2357280"/>
                <a:ext cx="2031840" cy="215640"/>
              </a:xfrm>
              <a:prstGeom prst="rect">
                <a:avLst/>
              </a:prstGeom>
              <a:noFill/>
              <a:ln w="93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Motorcycle Company      </a:t>
                </a:r>
                <a:r>
                  <a:rPr b="1" lang="en-US" sz="800" spc="-1" strike="noStrike">
                    <a:solidFill>
                      <a:srgbClr val="669900"/>
                    </a:solidFill>
                    <a:latin typeface="Arial"/>
                  </a:rPr>
                  <a:t>ME-0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0" name=""/>
              <p:cNvGrpSpPr/>
              <p:nvPr/>
            </p:nvGrpSpPr>
            <p:grpSpPr>
              <a:xfrm>
                <a:off x="6084720" y="2301840"/>
                <a:ext cx="243000" cy="291240"/>
                <a:chOff x="6084720" y="2301840"/>
                <a:chExt cx="243000" cy="29124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6205320" y="23018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2" name=""/>
                <p:cNvGrpSpPr/>
                <p:nvPr/>
              </p:nvGrpSpPr>
              <p:grpSpPr>
                <a:xfrm>
                  <a:off x="6084720" y="2360160"/>
                  <a:ext cx="243000" cy="232920"/>
                  <a:chOff x="6084720" y="2360160"/>
                  <a:chExt cx="243000" cy="232920"/>
                </a:xfrm>
              </p:grpSpPr>
              <p:sp>
                <p:nvSpPr>
                  <p:cNvPr id="663" name=""/>
                  <p:cNvSpPr/>
                  <p:nvPr/>
                </p:nvSpPr>
                <p:spPr>
                  <a:xfrm>
                    <a:off x="6084720" y="2360520"/>
                    <a:ext cx="243000" cy="19188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 flipV="1">
                    <a:off x="6084720" y="2360160"/>
                    <a:ext cx="241920" cy="1904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6095880" y="2559600"/>
                    <a:ext cx="28440" cy="3348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6286680" y="2559600"/>
                    <a:ext cx="28440" cy="3348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67" name=""/>
            <p:cNvGrpSpPr/>
            <p:nvPr/>
          </p:nvGrpSpPr>
          <p:grpSpPr>
            <a:xfrm>
              <a:off x="5611680" y="1263600"/>
              <a:ext cx="347400" cy="340920"/>
              <a:chOff x="5611680" y="1263600"/>
              <a:chExt cx="347400" cy="340920"/>
            </a:xfrm>
          </p:grpSpPr>
          <p:grpSp>
            <p:nvGrpSpPr>
              <p:cNvPr id="668" name=""/>
              <p:cNvGrpSpPr/>
              <p:nvPr/>
            </p:nvGrpSpPr>
            <p:grpSpPr>
              <a:xfrm>
                <a:off x="5748480" y="1263600"/>
                <a:ext cx="75960" cy="63720"/>
                <a:chOff x="5748480" y="1263600"/>
                <a:chExt cx="75960" cy="63720"/>
              </a:xfrm>
            </p:grpSpPr>
            <p:sp>
              <p:nvSpPr>
                <p:cNvPr id="669" name=""/>
                <p:cNvSpPr/>
                <p:nvPr/>
              </p:nvSpPr>
              <p:spPr>
                <a:xfrm>
                  <a:off x="5748480" y="126360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824440" y="126360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5611680" y="1318680"/>
                <a:ext cx="347400" cy="285840"/>
                <a:chOff x="5611680" y="1318680"/>
                <a:chExt cx="347400" cy="28584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5611680" y="1319040"/>
                  <a:ext cx="347400" cy="235440"/>
                </a:xfrm>
                <a:prstGeom prst="rect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 flipV="1">
                  <a:off x="5611680" y="1318680"/>
                  <a:ext cx="345960" cy="233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627520" y="1563480"/>
                  <a:ext cx="40680" cy="41040"/>
                </a:xfrm>
                <a:prstGeom prst="ellipse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5900760" y="1563480"/>
                  <a:ext cx="40680" cy="41040"/>
                </a:xfrm>
                <a:prstGeom prst="ellipse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6" name=""/>
            <p:cNvGrpSpPr/>
            <p:nvPr/>
          </p:nvGrpSpPr>
          <p:grpSpPr>
            <a:xfrm>
              <a:off x="5800680" y="1222200"/>
              <a:ext cx="2623680" cy="885600"/>
              <a:chOff x="5800680" y="1222200"/>
              <a:chExt cx="2623680" cy="885600"/>
            </a:xfrm>
          </p:grpSpPr>
          <p:sp>
            <p:nvSpPr>
              <p:cNvPr id="677" name=""/>
              <p:cNvSpPr/>
              <p:nvPr/>
            </p:nvSpPr>
            <p:spPr>
              <a:xfrm>
                <a:off x="6029280" y="1222200"/>
                <a:ext cx="1754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HEADQUARTERS EL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335640" y="1383840"/>
                <a:ext cx="838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6135120" y="1688760"/>
                <a:ext cx="8280" cy="21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0" name=""/>
              <p:cNvGrpSpPr/>
              <p:nvPr/>
            </p:nvGrpSpPr>
            <p:grpSpPr>
              <a:xfrm>
                <a:off x="5800680" y="1545840"/>
                <a:ext cx="2623680" cy="230040"/>
                <a:chOff x="5800680" y="1545840"/>
                <a:chExt cx="2623680" cy="23004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5800680" y="1657080"/>
                  <a:ext cx="352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6343560" y="1560240"/>
                  <a:ext cx="20808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Commander      RO-1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3" name=""/>
                <p:cNvGrpSpPr/>
                <p:nvPr/>
              </p:nvGrpSpPr>
              <p:grpSpPr>
                <a:xfrm>
                  <a:off x="6097320" y="1545840"/>
                  <a:ext cx="237960" cy="200160"/>
                  <a:chOff x="6097320" y="1545840"/>
                  <a:chExt cx="237960" cy="200160"/>
                </a:xfrm>
              </p:grpSpPr>
              <p:sp>
                <p:nvSpPr>
                  <p:cNvPr id="684" name=""/>
                  <p:cNvSpPr/>
                  <p:nvPr/>
                </p:nvSpPr>
                <p:spPr>
                  <a:xfrm>
                    <a:off x="6097320" y="1588680"/>
                    <a:ext cx="237960" cy="15732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6203520" y="154584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86" name=""/>
              <p:cNvGrpSpPr/>
              <p:nvPr/>
            </p:nvGrpSpPr>
            <p:grpSpPr>
              <a:xfrm>
                <a:off x="6094440" y="1872720"/>
                <a:ext cx="2316240" cy="235080"/>
                <a:chOff x="6094440" y="1872720"/>
                <a:chExt cx="2316240" cy="23508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6329520" y="188532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Motorcycle        RO-08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8" name=""/>
                <p:cNvGrpSpPr/>
                <p:nvPr/>
              </p:nvGrpSpPr>
              <p:grpSpPr>
                <a:xfrm>
                  <a:off x="6094440" y="1872720"/>
                  <a:ext cx="231840" cy="235080"/>
                  <a:chOff x="6094440" y="1872720"/>
                  <a:chExt cx="231840" cy="235080"/>
                </a:xfrm>
              </p:grpSpPr>
              <p:grpSp>
                <p:nvGrpSpPr>
                  <p:cNvPr id="689" name=""/>
                  <p:cNvGrpSpPr/>
                  <p:nvPr/>
                </p:nvGrpSpPr>
                <p:grpSpPr>
                  <a:xfrm>
                    <a:off x="6094440" y="1917360"/>
                    <a:ext cx="231840" cy="190440"/>
                    <a:chOff x="6094440" y="1917360"/>
                    <a:chExt cx="231840" cy="190440"/>
                  </a:xfrm>
                </p:grpSpPr>
                <p:sp>
                  <p:nvSpPr>
                    <p:cNvPr id="690" name=""/>
                    <p:cNvSpPr/>
                    <p:nvPr/>
                  </p:nvSpPr>
                  <p:spPr>
                    <a:xfrm>
                      <a:off x="6094440" y="1917360"/>
                      <a:ext cx="231840" cy="15696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1" name=""/>
                    <p:cNvSpPr/>
                    <p:nvPr/>
                  </p:nvSpPr>
                  <p:spPr>
                    <a:xfrm>
                      <a:off x="6105600" y="2080800"/>
                      <a:ext cx="27000" cy="27000"/>
                    </a:xfrm>
                    <a:prstGeom prst="ellipse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>
                      <a:off x="6286680" y="2080800"/>
                      <a:ext cx="28440" cy="27000"/>
                    </a:xfrm>
                    <a:prstGeom prst="ellipse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3" name=""/>
                  <p:cNvGrpSpPr/>
                  <p:nvPr/>
                </p:nvGrpSpPr>
                <p:grpSpPr>
                  <a:xfrm>
                    <a:off x="6172200" y="1872720"/>
                    <a:ext cx="74520" cy="28080"/>
                    <a:chOff x="6172200" y="1872720"/>
                    <a:chExt cx="74520" cy="28080"/>
                  </a:xfrm>
                </p:grpSpPr>
                <p:sp>
                  <p:nvSpPr>
                    <p:cNvPr id="694" name=""/>
                    <p:cNvSpPr/>
                    <p:nvPr/>
                  </p:nvSpPr>
                  <p:spPr>
                    <a:xfrm>
                      <a:off x="6172200" y="187272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5" name=""/>
                    <p:cNvSpPr/>
                    <p:nvPr/>
                  </p:nvSpPr>
                  <p:spPr>
                    <a:xfrm>
                      <a:off x="6219720" y="187416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696" name=""/>
              <p:cNvSpPr/>
              <p:nvPr/>
            </p:nvSpPr>
            <p:spPr>
              <a:xfrm>
                <a:off x="6335640" y="1711080"/>
                <a:ext cx="838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5802480" y="2903400"/>
              <a:ext cx="2621880" cy="555120"/>
              <a:chOff x="5802480" y="2903400"/>
              <a:chExt cx="2621880" cy="555120"/>
            </a:xfrm>
          </p:grpSpPr>
          <p:grpSp>
            <p:nvGrpSpPr>
              <p:cNvPr id="698" name=""/>
              <p:cNvGrpSpPr/>
              <p:nvPr/>
            </p:nvGrpSpPr>
            <p:grpSpPr>
              <a:xfrm>
                <a:off x="5802480" y="2903400"/>
                <a:ext cx="2621880" cy="534960"/>
                <a:chOff x="5802480" y="2903400"/>
                <a:chExt cx="2621880" cy="53496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6132240" y="3051000"/>
                  <a:ext cx="0" cy="282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6379920" y="3051000"/>
                  <a:ext cx="633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802480" y="3031920"/>
                  <a:ext cx="352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6343560" y="2922480"/>
                  <a:ext cx="20808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6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eavy Machine Gun          RO-17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3" name=""/>
                <p:cNvGrpSpPr/>
                <p:nvPr/>
              </p:nvGrpSpPr>
              <p:grpSpPr>
                <a:xfrm>
                  <a:off x="6062400" y="3193920"/>
                  <a:ext cx="231480" cy="244440"/>
                  <a:chOff x="6062400" y="3193920"/>
                  <a:chExt cx="231480" cy="244440"/>
                </a:xfrm>
              </p:grpSpPr>
              <p:grpSp>
                <p:nvGrpSpPr>
                  <p:cNvPr id="704" name=""/>
                  <p:cNvGrpSpPr/>
                  <p:nvPr/>
                </p:nvGrpSpPr>
                <p:grpSpPr>
                  <a:xfrm>
                    <a:off x="6143040" y="3193920"/>
                    <a:ext cx="73800" cy="28080"/>
                    <a:chOff x="6143040" y="3193920"/>
                    <a:chExt cx="73800" cy="28080"/>
                  </a:xfrm>
                </p:grpSpPr>
                <p:sp>
                  <p:nvSpPr>
                    <p:cNvPr id="705" name=""/>
                    <p:cNvSpPr/>
                    <p:nvPr/>
                  </p:nvSpPr>
                  <p:spPr>
                    <a:xfrm>
                      <a:off x="6143040" y="3193920"/>
                      <a:ext cx="2808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6" name=""/>
                    <p:cNvSpPr/>
                    <p:nvPr/>
                  </p:nvSpPr>
                  <p:spPr>
                    <a:xfrm>
                      <a:off x="6190200" y="319536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7" name=""/>
                  <p:cNvGrpSpPr/>
                  <p:nvPr/>
                </p:nvGrpSpPr>
                <p:grpSpPr>
                  <a:xfrm>
                    <a:off x="6062400" y="3247920"/>
                    <a:ext cx="231480" cy="190440"/>
                    <a:chOff x="6062400" y="3247920"/>
                    <a:chExt cx="231480" cy="190440"/>
                  </a:xfrm>
                </p:grpSpPr>
                <p:sp>
                  <p:nvSpPr>
                    <p:cNvPr id="708" name=""/>
                    <p:cNvSpPr/>
                    <p:nvPr/>
                  </p:nvSpPr>
                  <p:spPr>
                    <a:xfrm>
                      <a:off x="6062400" y="3247920"/>
                      <a:ext cx="231480" cy="15696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9" name=""/>
                    <p:cNvSpPr/>
                    <p:nvPr/>
                  </p:nvSpPr>
                  <p:spPr>
                    <a:xfrm>
                      <a:off x="6073200" y="3411360"/>
                      <a:ext cx="26640" cy="27000"/>
                    </a:xfrm>
                    <a:prstGeom prst="ellipse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>
                      <a:off x="6254280" y="3411360"/>
                      <a:ext cx="28080" cy="27000"/>
                    </a:xfrm>
                    <a:prstGeom prst="ellipse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11" name=""/>
                <p:cNvGrpSpPr/>
                <p:nvPr/>
              </p:nvGrpSpPr>
              <p:grpSpPr>
                <a:xfrm>
                  <a:off x="6051240" y="2903400"/>
                  <a:ext cx="245880" cy="204840"/>
                  <a:chOff x="6051240" y="2903400"/>
                  <a:chExt cx="245880" cy="204840"/>
                </a:xfrm>
              </p:grpSpPr>
              <p:grpSp>
                <p:nvGrpSpPr>
                  <p:cNvPr id="712" name=""/>
                  <p:cNvGrpSpPr/>
                  <p:nvPr/>
                </p:nvGrpSpPr>
                <p:grpSpPr>
                  <a:xfrm>
                    <a:off x="6143040" y="2903400"/>
                    <a:ext cx="73800" cy="28080"/>
                    <a:chOff x="6143040" y="2903400"/>
                    <a:chExt cx="73800" cy="28080"/>
                  </a:xfrm>
                </p:grpSpPr>
                <p:sp>
                  <p:nvSpPr>
                    <p:cNvPr id="713" name=""/>
                    <p:cNvSpPr/>
                    <p:nvPr/>
                  </p:nvSpPr>
                  <p:spPr>
                    <a:xfrm>
                      <a:off x="6143040" y="2903400"/>
                      <a:ext cx="2808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>
                      <a:off x="6190200" y="290484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5" name=""/>
                  <p:cNvGrpSpPr/>
                  <p:nvPr/>
                </p:nvGrpSpPr>
                <p:grpSpPr>
                  <a:xfrm>
                    <a:off x="6051240" y="2939760"/>
                    <a:ext cx="245880" cy="168480"/>
                    <a:chOff x="6051240" y="2939760"/>
                    <a:chExt cx="245880" cy="168480"/>
                  </a:xfrm>
                </p:grpSpPr>
                <p:sp>
                  <p:nvSpPr>
                    <p:cNvPr id="716" name=""/>
                    <p:cNvSpPr/>
                    <p:nvPr/>
                  </p:nvSpPr>
                  <p:spPr>
                    <a:xfrm>
                      <a:off x="6051240" y="2939760"/>
                      <a:ext cx="245880" cy="16848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7" name=""/>
                    <p:cNvSpPr/>
                    <p:nvPr/>
                  </p:nvSpPr>
                  <p:spPr>
                    <a:xfrm flipV="1">
                      <a:off x="6062040" y="2953800"/>
                      <a:ext cx="220680" cy="1285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8" name=""/>
                    <p:cNvSpPr/>
                    <p:nvPr/>
                  </p:nvSpPr>
                  <p:spPr>
                    <a:xfrm>
                      <a:off x="6062040" y="2954160"/>
                      <a:ext cx="228600" cy="1396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>
                      <a:off x="6060600" y="2949480"/>
                      <a:ext cx="61920" cy="150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cc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720" name=""/>
              <p:cNvSpPr/>
              <p:nvPr/>
            </p:nvSpPr>
            <p:spPr>
              <a:xfrm>
                <a:off x="6307200" y="324288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6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otorcycle                          RO-0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325600" y="0"/>
            <a:ext cx="41976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 BG-07-&gt;BG-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36600" y="495360"/>
            <a:ext cx="180000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Battle Group-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ain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 per Mountain Brigad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347760" y="2790720"/>
            <a:ext cx="2847960" cy="1408680"/>
            <a:chOff x="347760" y="2790720"/>
            <a:chExt cx="2847960" cy="1408680"/>
          </a:xfrm>
        </p:grpSpPr>
        <p:sp>
          <p:nvSpPr>
            <p:cNvPr id="724" name=""/>
            <p:cNvSpPr/>
            <p:nvPr/>
          </p:nvSpPr>
          <p:spPr>
            <a:xfrm>
              <a:off x="1098360" y="3541680"/>
              <a:ext cx="803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6080" y="2790720"/>
              <a:ext cx="1753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FIRE SUPPORT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6" name=""/>
            <p:cNvGrpSpPr/>
            <p:nvPr/>
          </p:nvGrpSpPr>
          <p:grpSpPr>
            <a:xfrm>
              <a:off x="357120" y="3063960"/>
              <a:ext cx="2626560" cy="443520"/>
              <a:chOff x="357120" y="3063960"/>
              <a:chExt cx="2626560" cy="443520"/>
            </a:xfrm>
          </p:grpSpPr>
          <p:sp>
            <p:nvSpPr>
              <p:cNvPr id="727" name=""/>
              <p:cNvSpPr/>
              <p:nvPr/>
            </p:nvSpPr>
            <p:spPr>
              <a:xfrm>
                <a:off x="1036440" y="3106800"/>
                <a:ext cx="194724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Light Artillery Battery        </a:t>
                </a:r>
                <a:r>
                  <a:rPr b="1" lang="en-US" sz="800" spc="-1" strike="noStrike">
                    <a:solidFill>
                      <a:srgbClr val="669900"/>
                    </a:solidFill>
                    <a:latin typeface="Arial"/>
                  </a:rPr>
                  <a:t>FS-0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3 per Brigade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57120" y="3211560"/>
                <a:ext cx="352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9" name=""/>
              <p:cNvGrpSpPr/>
              <p:nvPr/>
            </p:nvGrpSpPr>
            <p:grpSpPr>
              <a:xfrm>
                <a:off x="712440" y="3063960"/>
                <a:ext cx="291240" cy="247320"/>
                <a:chOff x="712440" y="3063960"/>
                <a:chExt cx="291240" cy="247320"/>
              </a:xfrm>
            </p:grpSpPr>
            <p:grpSp>
              <p:nvGrpSpPr>
                <p:cNvPr id="730" name=""/>
                <p:cNvGrpSpPr/>
                <p:nvPr/>
              </p:nvGrpSpPr>
              <p:grpSpPr>
                <a:xfrm>
                  <a:off x="712440" y="3121200"/>
                  <a:ext cx="291240" cy="190080"/>
                  <a:chOff x="712440" y="3121200"/>
                  <a:chExt cx="291240" cy="190080"/>
                </a:xfrm>
              </p:grpSpPr>
              <p:sp>
                <p:nvSpPr>
                  <p:cNvPr id="731" name=""/>
                  <p:cNvSpPr/>
                  <p:nvPr/>
                </p:nvSpPr>
                <p:spPr>
                  <a:xfrm>
                    <a:off x="712440" y="3121200"/>
                    <a:ext cx="291240" cy="19008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837720" y="3194280"/>
                    <a:ext cx="34560" cy="32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3" name=""/>
                <p:cNvGrpSpPr/>
                <p:nvPr/>
              </p:nvGrpSpPr>
              <p:grpSpPr>
                <a:xfrm>
                  <a:off x="820080" y="3063960"/>
                  <a:ext cx="75960" cy="63720"/>
                  <a:chOff x="820080" y="3063960"/>
                  <a:chExt cx="75960" cy="63720"/>
                </a:xfrm>
              </p:grpSpPr>
              <p:sp>
                <p:nvSpPr>
                  <p:cNvPr id="734" name=""/>
                  <p:cNvSpPr/>
                  <p:nvPr/>
                </p:nvSpPr>
                <p:spPr>
                  <a:xfrm>
                    <a:off x="820080" y="306396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896040" y="306396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36" name=""/>
            <p:cNvGrpSpPr/>
            <p:nvPr/>
          </p:nvGrpSpPr>
          <p:grpSpPr>
            <a:xfrm>
              <a:off x="347760" y="3755880"/>
              <a:ext cx="2847960" cy="443520"/>
              <a:chOff x="347760" y="3755880"/>
              <a:chExt cx="2847960" cy="443520"/>
            </a:xfrm>
          </p:grpSpPr>
          <p:sp>
            <p:nvSpPr>
              <p:cNvPr id="737" name=""/>
              <p:cNvSpPr/>
              <p:nvPr/>
            </p:nvSpPr>
            <p:spPr>
              <a:xfrm>
                <a:off x="1027080" y="3798720"/>
                <a:ext cx="216864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Medium Howitzer Battery   </a:t>
                </a:r>
                <a:r>
                  <a:rPr b="1" lang="en-US" sz="800" spc="-1" strike="noStrike">
                    <a:solidFill>
                      <a:srgbClr val="669900"/>
                    </a:solidFill>
                    <a:latin typeface="Arial"/>
                  </a:rPr>
                  <a:t>FS-03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2 per Brigade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47760" y="390348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9" name=""/>
              <p:cNvGrpSpPr/>
              <p:nvPr/>
            </p:nvGrpSpPr>
            <p:grpSpPr>
              <a:xfrm>
                <a:off x="703440" y="3755880"/>
                <a:ext cx="291600" cy="247320"/>
                <a:chOff x="703440" y="3755880"/>
                <a:chExt cx="291600" cy="247320"/>
              </a:xfrm>
            </p:grpSpPr>
            <p:grpSp>
              <p:nvGrpSpPr>
                <p:cNvPr id="740" name=""/>
                <p:cNvGrpSpPr/>
                <p:nvPr/>
              </p:nvGrpSpPr>
              <p:grpSpPr>
                <a:xfrm>
                  <a:off x="703440" y="3813120"/>
                  <a:ext cx="291600" cy="190080"/>
                  <a:chOff x="703440" y="3813120"/>
                  <a:chExt cx="291600" cy="190080"/>
                </a:xfrm>
              </p:grpSpPr>
              <p:sp>
                <p:nvSpPr>
                  <p:cNvPr id="741" name=""/>
                  <p:cNvSpPr/>
                  <p:nvPr/>
                </p:nvSpPr>
                <p:spPr>
                  <a:xfrm>
                    <a:off x="703440" y="3813120"/>
                    <a:ext cx="291600" cy="19008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829080" y="3886200"/>
                    <a:ext cx="34560" cy="32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3" name=""/>
                <p:cNvGrpSpPr/>
                <p:nvPr/>
              </p:nvGrpSpPr>
              <p:grpSpPr>
                <a:xfrm>
                  <a:off x="811440" y="3755880"/>
                  <a:ext cx="76320" cy="63720"/>
                  <a:chOff x="811440" y="3755880"/>
                  <a:chExt cx="76320" cy="63720"/>
                </a:xfrm>
              </p:grpSpPr>
              <p:sp>
                <p:nvSpPr>
                  <p:cNvPr id="744" name=""/>
                  <p:cNvSpPr/>
                  <p:nvPr/>
                </p:nvSpPr>
                <p:spPr>
                  <a:xfrm>
                    <a:off x="811440" y="375588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887760" y="375588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746" name=""/>
            <p:cNvSpPr/>
            <p:nvPr/>
          </p:nvSpPr>
          <p:spPr>
            <a:xfrm>
              <a:off x="533160" y="3005280"/>
              <a:ext cx="0" cy="11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33160" y="3005280"/>
              <a:ext cx="10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33160" y="4140000"/>
              <a:ext cx="10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351000" y="2235240"/>
            <a:ext cx="2844360" cy="470880"/>
            <a:chOff x="351000" y="2235240"/>
            <a:chExt cx="2844360" cy="470880"/>
          </a:xfrm>
        </p:grpSpPr>
        <p:sp>
          <p:nvSpPr>
            <p:cNvPr id="750" name=""/>
            <p:cNvSpPr/>
            <p:nvPr/>
          </p:nvSpPr>
          <p:spPr>
            <a:xfrm>
              <a:off x="530280" y="2235240"/>
              <a:ext cx="1753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BATTLE GROU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51000" y="2592360"/>
              <a:ext cx="352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017360" y="2481120"/>
              <a:ext cx="2178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 Mountain Infantry Battalion     </a:t>
              </a:r>
              <a:r>
                <a:rPr b="1" lang="en-US" sz="800" spc="-1" strike="noStrike">
                  <a:solidFill>
                    <a:srgbClr val="669900"/>
                  </a:solidFill>
                  <a:latin typeface="Arial"/>
                </a:rPr>
                <a:t>BG-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3" name=""/>
            <p:cNvGrpSpPr/>
            <p:nvPr/>
          </p:nvGrpSpPr>
          <p:grpSpPr>
            <a:xfrm>
              <a:off x="687240" y="2413080"/>
              <a:ext cx="346680" cy="293040"/>
              <a:chOff x="687240" y="2413080"/>
              <a:chExt cx="346680" cy="293040"/>
            </a:xfrm>
          </p:grpSpPr>
          <p:grpSp>
            <p:nvGrpSpPr>
              <p:cNvPr id="754" name=""/>
              <p:cNvGrpSpPr/>
              <p:nvPr/>
            </p:nvGrpSpPr>
            <p:grpSpPr>
              <a:xfrm>
                <a:off x="818640" y="2413080"/>
                <a:ext cx="75960" cy="63360"/>
                <a:chOff x="818640" y="2413080"/>
                <a:chExt cx="75960" cy="6336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818640" y="24130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894600" y="24130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687240" y="2470320"/>
                <a:ext cx="346680" cy="235800"/>
                <a:chOff x="687240" y="2470320"/>
                <a:chExt cx="346680" cy="235800"/>
              </a:xfrm>
            </p:grpSpPr>
            <p:grpSp>
              <p:nvGrpSpPr>
                <p:cNvPr id="758" name=""/>
                <p:cNvGrpSpPr/>
                <p:nvPr/>
              </p:nvGrpSpPr>
              <p:grpSpPr>
                <a:xfrm>
                  <a:off x="687240" y="2470320"/>
                  <a:ext cx="346680" cy="235800"/>
                  <a:chOff x="687240" y="2470320"/>
                  <a:chExt cx="346680" cy="235800"/>
                </a:xfrm>
              </p:grpSpPr>
              <p:sp>
                <p:nvSpPr>
                  <p:cNvPr id="759" name=""/>
                  <p:cNvSpPr/>
                  <p:nvPr/>
                </p:nvSpPr>
                <p:spPr>
                  <a:xfrm>
                    <a:off x="687240" y="2470320"/>
                    <a:ext cx="346680" cy="23580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 flipV="1">
                    <a:off x="690840" y="2473560"/>
                    <a:ext cx="338040" cy="230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687240" y="2473920"/>
                    <a:ext cx="345240" cy="225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2" name=""/>
                <p:cNvSpPr/>
                <p:nvPr/>
              </p:nvSpPr>
              <p:spPr>
                <a:xfrm>
                  <a:off x="825120" y="2620440"/>
                  <a:ext cx="70920" cy="66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63" name=""/>
          <p:cNvGrpSpPr/>
          <p:nvPr/>
        </p:nvGrpSpPr>
        <p:grpSpPr>
          <a:xfrm>
            <a:off x="173160" y="1138320"/>
            <a:ext cx="2801880" cy="2765520"/>
            <a:chOff x="173160" y="1138320"/>
            <a:chExt cx="2801880" cy="2765520"/>
          </a:xfrm>
        </p:grpSpPr>
        <p:sp>
          <p:nvSpPr>
            <p:cNvPr id="764" name=""/>
            <p:cNvSpPr/>
            <p:nvPr/>
          </p:nvSpPr>
          <p:spPr>
            <a:xfrm>
              <a:off x="347760" y="1465200"/>
              <a:ext cx="0" cy="243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79600" y="1357200"/>
              <a:ext cx="1753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HEADQUARTERS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85960" y="1519200"/>
              <a:ext cx="838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7" name=""/>
            <p:cNvGrpSpPr/>
            <p:nvPr/>
          </p:nvGrpSpPr>
          <p:grpSpPr>
            <a:xfrm>
              <a:off x="351000" y="1681200"/>
              <a:ext cx="2623680" cy="230040"/>
              <a:chOff x="351000" y="1681200"/>
              <a:chExt cx="2623680" cy="230040"/>
            </a:xfrm>
          </p:grpSpPr>
          <p:sp>
            <p:nvSpPr>
              <p:cNvPr id="768" name=""/>
              <p:cNvSpPr/>
              <p:nvPr/>
            </p:nvSpPr>
            <p:spPr>
              <a:xfrm>
                <a:off x="351000" y="1792440"/>
                <a:ext cx="352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893880" y="1695600"/>
                <a:ext cx="2080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Commander      RO-1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0" name=""/>
              <p:cNvGrpSpPr/>
              <p:nvPr/>
            </p:nvGrpSpPr>
            <p:grpSpPr>
              <a:xfrm>
                <a:off x="647640" y="1681200"/>
                <a:ext cx="237960" cy="200160"/>
                <a:chOff x="647640" y="1681200"/>
                <a:chExt cx="237960" cy="200160"/>
              </a:xfrm>
            </p:grpSpPr>
            <p:sp>
              <p:nvSpPr>
                <p:cNvPr id="771" name=""/>
                <p:cNvSpPr/>
                <p:nvPr/>
              </p:nvSpPr>
              <p:spPr>
                <a:xfrm>
                  <a:off x="647640" y="1724040"/>
                  <a:ext cx="237960" cy="157320"/>
                </a:xfrm>
                <a:prstGeom prst="rect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753840" y="16812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3" name=""/>
            <p:cNvGrpSpPr/>
            <p:nvPr/>
          </p:nvGrpSpPr>
          <p:grpSpPr>
            <a:xfrm>
              <a:off x="353880" y="1932120"/>
              <a:ext cx="2621160" cy="215640"/>
              <a:chOff x="353880" y="1932120"/>
              <a:chExt cx="2621160" cy="215640"/>
            </a:xfrm>
          </p:grpSpPr>
          <p:sp>
            <p:nvSpPr>
              <p:cNvPr id="774" name=""/>
              <p:cNvSpPr/>
              <p:nvPr/>
            </p:nvSpPr>
            <p:spPr>
              <a:xfrm>
                <a:off x="353880" y="205596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5" name=""/>
              <p:cNvGrpSpPr/>
              <p:nvPr/>
            </p:nvGrpSpPr>
            <p:grpSpPr>
              <a:xfrm>
                <a:off x="646200" y="1932120"/>
                <a:ext cx="2328840" cy="215640"/>
                <a:chOff x="646200" y="1932120"/>
                <a:chExt cx="2328840" cy="215640"/>
              </a:xfrm>
            </p:grpSpPr>
            <p:grpSp>
              <p:nvGrpSpPr>
                <p:cNvPr id="776" name=""/>
                <p:cNvGrpSpPr/>
                <p:nvPr/>
              </p:nvGrpSpPr>
              <p:grpSpPr>
                <a:xfrm>
                  <a:off x="646200" y="1932120"/>
                  <a:ext cx="231840" cy="198360"/>
                  <a:chOff x="646200" y="1932120"/>
                  <a:chExt cx="231840" cy="198360"/>
                </a:xfrm>
              </p:grpSpPr>
              <p:grpSp>
                <p:nvGrpSpPr>
                  <p:cNvPr id="777" name=""/>
                  <p:cNvGrpSpPr/>
                  <p:nvPr/>
                </p:nvGrpSpPr>
                <p:grpSpPr>
                  <a:xfrm>
                    <a:off x="723960" y="1932120"/>
                    <a:ext cx="74520" cy="28080"/>
                    <a:chOff x="723960" y="1932120"/>
                    <a:chExt cx="74520" cy="28080"/>
                  </a:xfrm>
                </p:grpSpPr>
                <p:sp>
                  <p:nvSpPr>
                    <p:cNvPr id="778" name=""/>
                    <p:cNvSpPr/>
                    <p:nvPr/>
                  </p:nvSpPr>
                  <p:spPr>
                    <a:xfrm>
                      <a:off x="723960" y="193212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9" name=""/>
                    <p:cNvSpPr/>
                    <p:nvPr/>
                  </p:nvSpPr>
                  <p:spPr>
                    <a:xfrm>
                      <a:off x="771480" y="193356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80" name=""/>
                  <p:cNvGrpSpPr/>
                  <p:nvPr/>
                </p:nvGrpSpPr>
                <p:grpSpPr>
                  <a:xfrm>
                    <a:off x="646200" y="1973160"/>
                    <a:ext cx="231840" cy="157320"/>
                    <a:chOff x="646200" y="1973160"/>
                    <a:chExt cx="231840" cy="157320"/>
                  </a:xfrm>
                </p:grpSpPr>
                <p:sp>
                  <p:nvSpPr>
                    <p:cNvPr id="781" name=""/>
                    <p:cNvSpPr/>
                    <p:nvPr/>
                  </p:nvSpPr>
                  <p:spPr>
                    <a:xfrm>
                      <a:off x="646200" y="1973160"/>
                      <a:ext cx="231840" cy="15732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2" name=""/>
                    <p:cNvSpPr/>
                    <p:nvPr/>
                  </p:nvSpPr>
                  <p:spPr>
                    <a:xfrm flipV="1">
                      <a:off x="648360" y="1974960"/>
                      <a:ext cx="225720" cy="1537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3" name=""/>
                    <p:cNvSpPr/>
                    <p:nvPr/>
                  </p:nvSpPr>
                  <p:spPr>
                    <a:xfrm>
                      <a:off x="646200" y="1975320"/>
                      <a:ext cx="230760" cy="149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784" name=""/>
                <p:cNvSpPr/>
                <p:nvPr/>
              </p:nvSpPr>
              <p:spPr>
                <a:xfrm>
                  <a:off x="893880" y="193212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Infantry              RO-1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5" name=""/>
            <p:cNvGrpSpPr/>
            <p:nvPr/>
          </p:nvGrpSpPr>
          <p:grpSpPr>
            <a:xfrm>
              <a:off x="173160" y="1138320"/>
              <a:ext cx="346680" cy="302400"/>
              <a:chOff x="173160" y="1138320"/>
              <a:chExt cx="346680" cy="302400"/>
            </a:xfrm>
          </p:grpSpPr>
          <p:grpSp>
            <p:nvGrpSpPr>
              <p:cNvPr id="786" name=""/>
              <p:cNvGrpSpPr/>
              <p:nvPr/>
            </p:nvGrpSpPr>
            <p:grpSpPr>
              <a:xfrm>
                <a:off x="284040" y="1138320"/>
                <a:ext cx="131400" cy="63360"/>
                <a:chOff x="284040" y="1138320"/>
                <a:chExt cx="131400" cy="63360"/>
              </a:xfrm>
            </p:grpSpPr>
            <p:sp>
              <p:nvSpPr>
                <p:cNvPr id="787" name=""/>
                <p:cNvSpPr/>
                <p:nvPr/>
              </p:nvSpPr>
              <p:spPr>
                <a:xfrm>
                  <a:off x="350280" y="11383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8" name=""/>
                <p:cNvGrpSpPr/>
                <p:nvPr/>
              </p:nvGrpSpPr>
              <p:grpSpPr>
                <a:xfrm>
                  <a:off x="284040" y="1138320"/>
                  <a:ext cx="131400" cy="63360"/>
                  <a:chOff x="284040" y="1138320"/>
                  <a:chExt cx="131400" cy="63360"/>
                </a:xfrm>
              </p:grpSpPr>
              <p:sp>
                <p:nvSpPr>
                  <p:cNvPr id="789" name=""/>
                  <p:cNvSpPr/>
                  <p:nvPr/>
                </p:nvSpPr>
                <p:spPr>
                  <a:xfrm>
                    <a:off x="284040" y="11383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415440" y="11383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91" name=""/>
              <p:cNvGrpSpPr/>
              <p:nvPr/>
            </p:nvGrpSpPr>
            <p:grpSpPr>
              <a:xfrm>
                <a:off x="173160" y="1204920"/>
                <a:ext cx="346680" cy="235800"/>
                <a:chOff x="173160" y="1204920"/>
                <a:chExt cx="346680" cy="235800"/>
              </a:xfrm>
            </p:grpSpPr>
            <p:grpSp>
              <p:nvGrpSpPr>
                <p:cNvPr id="792" name=""/>
                <p:cNvGrpSpPr/>
                <p:nvPr/>
              </p:nvGrpSpPr>
              <p:grpSpPr>
                <a:xfrm>
                  <a:off x="173160" y="1204920"/>
                  <a:ext cx="346680" cy="235800"/>
                  <a:chOff x="173160" y="1204920"/>
                  <a:chExt cx="346680" cy="235800"/>
                </a:xfrm>
              </p:grpSpPr>
              <p:sp>
                <p:nvSpPr>
                  <p:cNvPr id="793" name=""/>
                  <p:cNvSpPr/>
                  <p:nvPr/>
                </p:nvSpPr>
                <p:spPr>
                  <a:xfrm>
                    <a:off x="173160" y="1204920"/>
                    <a:ext cx="346680" cy="23580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 flipV="1">
                    <a:off x="176760" y="1208160"/>
                    <a:ext cx="338040" cy="230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173160" y="1208520"/>
                    <a:ext cx="345240" cy="225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6" name=""/>
                <p:cNvSpPr/>
                <p:nvPr/>
              </p:nvSpPr>
              <p:spPr>
                <a:xfrm>
                  <a:off x="311040" y="1355040"/>
                  <a:ext cx="70920" cy="66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97" name=""/>
          <p:cNvGrpSpPr/>
          <p:nvPr/>
        </p:nvGrpSpPr>
        <p:grpSpPr>
          <a:xfrm>
            <a:off x="343080" y="3886200"/>
            <a:ext cx="2852640" cy="1253880"/>
            <a:chOff x="343080" y="3886200"/>
            <a:chExt cx="2852640" cy="1253880"/>
          </a:xfrm>
        </p:grpSpPr>
        <p:sp>
          <p:nvSpPr>
            <p:cNvPr id="798" name=""/>
            <p:cNvSpPr/>
            <p:nvPr/>
          </p:nvSpPr>
          <p:spPr>
            <a:xfrm>
              <a:off x="351000" y="3886200"/>
              <a:ext cx="0" cy="11732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9" name=""/>
            <p:cNvGrpSpPr/>
            <p:nvPr/>
          </p:nvGrpSpPr>
          <p:grpSpPr>
            <a:xfrm>
              <a:off x="639720" y="4491000"/>
              <a:ext cx="2344680" cy="387360"/>
              <a:chOff x="639720" y="4491000"/>
              <a:chExt cx="2344680" cy="387360"/>
            </a:xfrm>
          </p:grpSpPr>
          <p:sp>
            <p:nvSpPr>
              <p:cNvPr id="800" name=""/>
              <p:cNvSpPr/>
              <p:nvPr/>
            </p:nvSpPr>
            <p:spPr>
              <a:xfrm>
                <a:off x="709560" y="4491000"/>
                <a:ext cx="0" cy="28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903240" y="465156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ght Truck                              GE-3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957240" y="449100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3" name=""/>
              <p:cNvGrpSpPr/>
              <p:nvPr/>
            </p:nvGrpSpPr>
            <p:grpSpPr>
              <a:xfrm>
                <a:off x="639720" y="4633920"/>
                <a:ext cx="231480" cy="244440"/>
                <a:chOff x="639720" y="4633920"/>
                <a:chExt cx="231480" cy="244440"/>
              </a:xfrm>
            </p:grpSpPr>
            <p:grpSp>
              <p:nvGrpSpPr>
                <p:cNvPr id="804" name=""/>
                <p:cNvGrpSpPr/>
                <p:nvPr/>
              </p:nvGrpSpPr>
              <p:grpSpPr>
                <a:xfrm>
                  <a:off x="720360" y="4633920"/>
                  <a:ext cx="74520" cy="28080"/>
                  <a:chOff x="720360" y="4633920"/>
                  <a:chExt cx="74520" cy="28080"/>
                </a:xfrm>
              </p:grpSpPr>
              <p:sp>
                <p:nvSpPr>
                  <p:cNvPr id="805" name=""/>
                  <p:cNvSpPr/>
                  <p:nvPr/>
                </p:nvSpPr>
                <p:spPr>
                  <a:xfrm>
                    <a:off x="720360" y="463392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767880" y="463536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7" name=""/>
                <p:cNvGrpSpPr/>
                <p:nvPr/>
              </p:nvGrpSpPr>
              <p:grpSpPr>
                <a:xfrm>
                  <a:off x="639720" y="4687920"/>
                  <a:ext cx="231480" cy="190440"/>
                  <a:chOff x="639720" y="4687920"/>
                  <a:chExt cx="231480" cy="190440"/>
                </a:xfrm>
              </p:grpSpPr>
              <p:sp>
                <p:nvSpPr>
                  <p:cNvPr id="808" name=""/>
                  <p:cNvSpPr/>
                  <p:nvPr/>
                </p:nvSpPr>
                <p:spPr>
                  <a:xfrm>
                    <a:off x="639720" y="4687920"/>
                    <a:ext cx="231480" cy="15696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650520" y="4851360"/>
                    <a:ext cx="26640" cy="2700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>
                    <a:off x="831600" y="4851360"/>
                    <a:ext cx="28080" cy="2700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11" name=""/>
            <p:cNvGrpSpPr/>
            <p:nvPr/>
          </p:nvGrpSpPr>
          <p:grpSpPr>
            <a:xfrm>
              <a:off x="379440" y="4343400"/>
              <a:ext cx="2622600" cy="234720"/>
              <a:chOff x="379440" y="4343400"/>
              <a:chExt cx="2622600" cy="234720"/>
            </a:xfrm>
          </p:grpSpPr>
          <p:sp>
            <p:nvSpPr>
              <p:cNvPr id="812" name=""/>
              <p:cNvSpPr/>
              <p:nvPr/>
            </p:nvSpPr>
            <p:spPr>
              <a:xfrm>
                <a:off x="379440" y="447192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920520" y="4362480"/>
                <a:ext cx="2081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7mm AT Gun                        RO-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4" name=""/>
              <p:cNvGrpSpPr/>
              <p:nvPr/>
            </p:nvGrpSpPr>
            <p:grpSpPr>
              <a:xfrm>
                <a:off x="639720" y="4343400"/>
                <a:ext cx="231480" cy="207720"/>
                <a:chOff x="639720" y="4343400"/>
                <a:chExt cx="231480" cy="207720"/>
              </a:xfrm>
            </p:grpSpPr>
            <p:grpSp>
              <p:nvGrpSpPr>
                <p:cNvPr id="815" name=""/>
                <p:cNvGrpSpPr/>
                <p:nvPr/>
              </p:nvGrpSpPr>
              <p:grpSpPr>
                <a:xfrm>
                  <a:off x="720360" y="4343400"/>
                  <a:ext cx="74520" cy="28080"/>
                  <a:chOff x="720360" y="4343400"/>
                  <a:chExt cx="74520" cy="28080"/>
                </a:xfrm>
              </p:grpSpPr>
              <p:sp>
                <p:nvSpPr>
                  <p:cNvPr id="816" name=""/>
                  <p:cNvSpPr/>
                  <p:nvPr/>
                </p:nvSpPr>
                <p:spPr>
                  <a:xfrm>
                    <a:off x="720360" y="434340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767880" y="43448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8" name=""/>
                <p:cNvGrpSpPr/>
                <p:nvPr/>
              </p:nvGrpSpPr>
              <p:grpSpPr>
                <a:xfrm>
                  <a:off x="639720" y="4394160"/>
                  <a:ext cx="231480" cy="156960"/>
                  <a:chOff x="639720" y="4394160"/>
                  <a:chExt cx="231480" cy="156960"/>
                </a:xfrm>
              </p:grpSpPr>
              <p:grpSp>
                <p:nvGrpSpPr>
                  <p:cNvPr id="819" name=""/>
                  <p:cNvGrpSpPr/>
                  <p:nvPr/>
                </p:nvGrpSpPr>
                <p:grpSpPr>
                  <a:xfrm>
                    <a:off x="639720" y="4394160"/>
                    <a:ext cx="231480" cy="156960"/>
                    <a:chOff x="639720" y="4394160"/>
                    <a:chExt cx="231480" cy="156960"/>
                  </a:xfrm>
                </p:grpSpPr>
                <p:sp>
                  <p:nvSpPr>
                    <p:cNvPr id="820" name=""/>
                    <p:cNvSpPr/>
                    <p:nvPr/>
                  </p:nvSpPr>
                  <p:spPr>
                    <a:xfrm>
                      <a:off x="639720" y="4394160"/>
                      <a:ext cx="231480" cy="15696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1" name=""/>
                    <p:cNvSpPr/>
                    <p:nvPr/>
                  </p:nvSpPr>
                  <p:spPr>
                    <a:xfrm flipV="1">
                      <a:off x="639720" y="4397040"/>
                      <a:ext cx="114120" cy="1519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>
                      <a:off x="753840" y="4394160"/>
                      <a:ext cx="114480" cy="1537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23" name=""/>
                  <p:cNvSpPr/>
                  <p:nvPr/>
                </p:nvSpPr>
                <p:spPr>
                  <a:xfrm>
                    <a:off x="740880" y="4458960"/>
                    <a:ext cx="28440" cy="26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824" name=""/>
            <p:cNvSpPr/>
            <p:nvPr/>
          </p:nvSpPr>
          <p:spPr>
            <a:xfrm>
              <a:off x="415800" y="4129200"/>
              <a:ext cx="175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343080" y="4908600"/>
              <a:ext cx="2852640" cy="231480"/>
              <a:chOff x="343080" y="4908600"/>
              <a:chExt cx="2852640" cy="231480"/>
            </a:xfrm>
          </p:grpSpPr>
          <p:sp>
            <p:nvSpPr>
              <p:cNvPr id="826" name=""/>
              <p:cNvSpPr/>
              <p:nvPr/>
            </p:nvSpPr>
            <p:spPr>
              <a:xfrm>
                <a:off x="343080" y="5022720"/>
                <a:ext cx="352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7" name=""/>
              <p:cNvGrpSpPr/>
              <p:nvPr/>
            </p:nvGrpSpPr>
            <p:grpSpPr>
              <a:xfrm>
                <a:off x="614520" y="4908600"/>
                <a:ext cx="245880" cy="204840"/>
                <a:chOff x="614520" y="4908600"/>
                <a:chExt cx="245880" cy="204840"/>
              </a:xfrm>
            </p:grpSpPr>
            <p:grpSp>
              <p:nvGrpSpPr>
                <p:cNvPr id="828" name=""/>
                <p:cNvGrpSpPr/>
                <p:nvPr/>
              </p:nvGrpSpPr>
              <p:grpSpPr>
                <a:xfrm>
                  <a:off x="614520" y="4945320"/>
                  <a:ext cx="245880" cy="168120"/>
                  <a:chOff x="614520" y="4945320"/>
                  <a:chExt cx="245880" cy="168120"/>
                </a:xfrm>
              </p:grpSpPr>
              <p:sp>
                <p:nvSpPr>
                  <p:cNvPr id="829" name=""/>
                  <p:cNvSpPr/>
                  <p:nvPr/>
                </p:nvSpPr>
                <p:spPr>
                  <a:xfrm>
                    <a:off x="614520" y="4945320"/>
                    <a:ext cx="245880" cy="16812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 flipV="1">
                    <a:off x="625320" y="4959360"/>
                    <a:ext cx="220680" cy="1281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625320" y="4959360"/>
                    <a:ext cx="228600" cy="1393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623880" y="4954680"/>
                    <a:ext cx="61920" cy="1504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cc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3" name=""/>
                <p:cNvGrpSpPr/>
                <p:nvPr/>
              </p:nvGrpSpPr>
              <p:grpSpPr>
                <a:xfrm>
                  <a:off x="706320" y="4908600"/>
                  <a:ext cx="74520" cy="28800"/>
                  <a:chOff x="706320" y="4908600"/>
                  <a:chExt cx="74520" cy="28800"/>
                </a:xfrm>
              </p:grpSpPr>
              <p:sp>
                <p:nvSpPr>
                  <p:cNvPr id="834" name=""/>
                  <p:cNvSpPr/>
                  <p:nvPr/>
                </p:nvSpPr>
                <p:spPr>
                  <a:xfrm>
                    <a:off x="706320" y="490860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753840" y="491040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36" name=""/>
              <p:cNvSpPr/>
              <p:nvPr/>
            </p:nvSpPr>
            <p:spPr>
              <a:xfrm>
                <a:off x="909720" y="4924440"/>
                <a:ext cx="2286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ntiaircraft Machine Gun         RO-2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7" name=""/>
          <p:cNvSpPr/>
          <p:nvPr/>
        </p:nvSpPr>
        <p:spPr>
          <a:xfrm>
            <a:off x="2649600" y="495360"/>
            <a:ext cx="1923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Battle Group-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ain Infantry Battal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2965320" y="981000"/>
            <a:ext cx="3286080" cy="2525400"/>
            <a:chOff x="2965320" y="981000"/>
            <a:chExt cx="3286080" cy="2525400"/>
          </a:xfrm>
        </p:grpSpPr>
        <p:sp>
          <p:nvSpPr>
            <p:cNvPr id="839" name=""/>
            <p:cNvSpPr/>
            <p:nvPr/>
          </p:nvSpPr>
          <p:spPr>
            <a:xfrm>
              <a:off x="3719520" y="1316160"/>
              <a:ext cx="838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367080" y="1766880"/>
              <a:ext cx="175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130560" y="1189080"/>
              <a:ext cx="6480" cy="130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"/>
            <p:cNvGrpSpPr/>
            <p:nvPr/>
          </p:nvGrpSpPr>
          <p:grpSpPr>
            <a:xfrm>
              <a:off x="2965320" y="981000"/>
              <a:ext cx="347040" cy="293040"/>
              <a:chOff x="2965320" y="981000"/>
              <a:chExt cx="347040" cy="293040"/>
            </a:xfrm>
          </p:grpSpPr>
          <p:grpSp>
            <p:nvGrpSpPr>
              <p:cNvPr id="843" name=""/>
              <p:cNvGrpSpPr/>
              <p:nvPr/>
            </p:nvGrpSpPr>
            <p:grpSpPr>
              <a:xfrm>
                <a:off x="3097080" y="981000"/>
                <a:ext cx="76320" cy="63360"/>
                <a:chOff x="3097080" y="981000"/>
                <a:chExt cx="76320" cy="6336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3097080" y="9810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3173400" y="9810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6" name=""/>
              <p:cNvGrpSpPr/>
              <p:nvPr/>
            </p:nvGrpSpPr>
            <p:grpSpPr>
              <a:xfrm>
                <a:off x="2965320" y="1038240"/>
                <a:ext cx="347040" cy="235800"/>
                <a:chOff x="2965320" y="1038240"/>
                <a:chExt cx="347040" cy="235800"/>
              </a:xfrm>
            </p:grpSpPr>
            <p:grpSp>
              <p:nvGrpSpPr>
                <p:cNvPr id="847" name=""/>
                <p:cNvGrpSpPr/>
                <p:nvPr/>
              </p:nvGrpSpPr>
              <p:grpSpPr>
                <a:xfrm>
                  <a:off x="2965320" y="1038240"/>
                  <a:ext cx="347040" cy="235800"/>
                  <a:chOff x="2965320" y="1038240"/>
                  <a:chExt cx="347040" cy="235800"/>
                </a:xfrm>
              </p:grpSpPr>
              <p:sp>
                <p:nvSpPr>
                  <p:cNvPr id="848" name=""/>
                  <p:cNvSpPr/>
                  <p:nvPr/>
                </p:nvSpPr>
                <p:spPr>
                  <a:xfrm>
                    <a:off x="2965320" y="1038240"/>
                    <a:ext cx="347040" cy="23580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 flipV="1">
                    <a:off x="2968920" y="1041480"/>
                    <a:ext cx="338400" cy="230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2965320" y="1041840"/>
                    <a:ext cx="345600" cy="225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1" name=""/>
                <p:cNvSpPr/>
                <p:nvPr/>
              </p:nvSpPr>
              <p:spPr>
                <a:xfrm>
                  <a:off x="3103200" y="1188360"/>
                  <a:ext cx="70920" cy="66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52" name=""/>
            <p:cNvSpPr/>
            <p:nvPr/>
          </p:nvSpPr>
          <p:spPr>
            <a:xfrm>
              <a:off x="3376440" y="1166760"/>
              <a:ext cx="175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HEADQUARTERS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3" name=""/>
            <p:cNvGrpSpPr/>
            <p:nvPr/>
          </p:nvGrpSpPr>
          <p:grpSpPr>
            <a:xfrm>
              <a:off x="3147840" y="1490760"/>
              <a:ext cx="2624400" cy="230040"/>
              <a:chOff x="3147840" y="1490760"/>
              <a:chExt cx="2624400" cy="230040"/>
            </a:xfrm>
          </p:grpSpPr>
          <p:sp>
            <p:nvSpPr>
              <p:cNvPr id="854" name=""/>
              <p:cNvSpPr/>
              <p:nvPr/>
            </p:nvSpPr>
            <p:spPr>
              <a:xfrm>
                <a:off x="3147840" y="160200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691080" y="150516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Commander      RO-1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6" name=""/>
              <p:cNvGrpSpPr/>
              <p:nvPr/>
            </p:nvGrpSpPr>
            <p:grpSpPr>
              <a:xfrm>
                <a:off x="3444840" y="1490760"/>
                <a:ext cx="237960" cy="200160"/>
                <a:chOff x="3444840" y="1490760"/>
                <a:chExt cx="237960" cy="20016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3444840" y="1533600"/>
                  <a:ext cx="237960" cy="157320"/>
                </a:xfrm>
                <a:prstGeom prst="rect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3551040" y="14907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59" name=""/>
            <p:cNvSpPr/>
            <p:nvPr/>
          </p:nvSpPr>
          <p:spPr>
            <a:xfrm>
              <a:off x="3330720" y="2606760"/>
              <a:ext cx="1753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3130560" y="2475000"/>
              <a:ext cx="7920" cy="9079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1" name=""/>
            <p:cNvGrpSpPr/>
            <p:nvPr/>
          </p:nvGrpSpPr>
          <p:grpSpPr>
            <a:xfrm>
              <a:off x="3139920" y="1959120"/>
              <a:ext cx="3103560" cy="274320"/>
              <a:chOff x="3139920" y="1959120"/>
              <a:chExt cx="3103560" cy="274320"/>
            </a:xfrm>
          </p:grpSpPr>
          <p:sp>
            <p:nvSpPr>
              <p:cNvPr id="862" name=""/>
              <p:cNvSpPr/>
              <p:nvPr/>
            </p:nvSpPr>
            <p:spPr>
              <a:xfrm>
                <a:off x="3139920" y="212868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806640" y="2017800"/>
                <a:ext cx="2436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Infantry Company                              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0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4" name=""/>
              <p:cNvGrpSpPr/>
              <p:nvPr/>
            </p:nvGrpSpPr>
            <p:grpSpPr>
              <a:xfrm>
                <a:off x="3433680" y="1959120"/>
                <a:ext cx="284040" cy="266400"/>
                <a:chOff x="3433680" y="1959120"/>
                <a:chExt cx="284040" cy="266400"/>
              </a:xfrm>
            </p:grpSpPr>
            <p:sp>
              <p:nvSpPr>
                <p:cNvPr id="865" name=""/>
                <p:cNvSpPr/>
                <p:nvPr/>
              </p:nvSpPr>
              <p:spPr>
                <a:xfrm>
                  <a:off x="3579840" y="19591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6" name=""/>
                <p:cNvGrpSpPr/>
                <p:nvPr/>
              </p:nvGrpSpPr>
              <p:grpSpPr>
                <a:xfrm>
                  <a:off x="3433680" y="2031840"/>
                  <a:ext cx="284040" cy="193680"/>
                  <a:chOff x="3433680" y="2031840"/>
                  <a:chExt cx="284040" cy="193680"/>
                </a:xfrm>
              </p:grpSpPr>
              <p:sp>
                <p:nvSpPr>
                  <p:cNvPr id="867" name=""/>
                  <p:cNvSpPr/>
                  <p:nvPr/>
                </p:nvSpPr>
                <p:spPr>
                  <a:xfrm>
                    <a:off x="3433680" y="2031840"/>
                    <a:ext cx="284040" cy="19368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flipV="1">
                    <a:off x="3436560" y="2034720"/>
                    <a:ext cx="276480" cy="189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3433680" y="2034720"/>
                    <a:ext cx="282600" cy="1846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70" name=""/>
            <p:cNvGrpSpPr/>
            <p:nvPr/>
          </p:nvGrpSpPr>
          <p:grpSpPr>
            <a:xfrm>
              <a:off x="3138480" y="2316240"/>
              <a:ext cx="3112920" cy="259920"/>
              <a:chOff x="3138480" y="2316240"/>
              <a:chExt cx="3112920" cy="259920"/>
            </a:xfrm>
          </p:grpSpPr>
          <p:sp>
            <p:nvSpPr>
              <p:cNvPr id="871" name=""/>
              <p:cNvSpPr/>
              <p:nvPr/>
            </p:nvSpPr>
            <p:spPr>
              <a:xfrm>
                <a:off x="3138480" y="246996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2" name=""/>
              <p:cNvGrpSpPr/>
              <p:nvPr/>
            </p:nvGrpSpPr>
            <p:grpSpPr>
              <a:xfrm>
                <a:off x="3433680" y="2316240"/>
                <a:ext cx="283680" cy="258120"/>
                <a:chOff x="3433680" y="2316240"/>
                <a:chExt cx="283680" cy="258120"/>
              </a:xfrm>
            </p:grpSpPr>
            <p:grpSp>
              <p:nvGrpSpPr>
                <p:cNvPr id="873" name=""/>
                <p:cNvGrpSpPr/>
                <p:nvPr/>
              </p:nvGrpSpPr>
              <p:grpSpPr>
                <a:xfrm>
                  <a:off x="3433680" y="2381040"/>
                  <a:ext cx="283680" cy="193320"/>
                  <a:chOff x="3433680" y="2381040"/>
                  <a:chExt cx="283680" cy="193320"/>
                </a:xfrm>
              </p:grpSpPr>
              <p:sp>
                <p:nvSpPr>
                  <p:cNvPr id="874" name=""/>
                  <p:cNvSpPr/>
                  <p:nvPr/>
                </p:nvSpPr>
                <p:spPr>
                  <a:xfrm>
                    <a:off x="3433680" y="2381040"/>
                    <a:ext cx="283680" cy="19332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 flipV="1">
                    <a:off x="3435120" y="2385000"/>
                    <a:ext cx="278640" cy="1872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3546000" y="2504160"/>
                    <a:ext cx="58680" cy="543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7" name=""/>
                <p:cNvSpPr/>
                <p:nvPr/>
              </p:nvSpPr>
              <p:spPr>
                <a:xfrm>
                  <a:off x="3576600" y="23162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8" name=""/>
              <p:cNvSpPr/>
              <p:nvPr/>
            </p:nvSpPr>
            <p:spPr>
              <a:xfrm>
                <a:off x="3814560" y="2360520"/>
                <a:ext cx="2436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Mountain Reconnaissance Company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0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9" name=""/>
            <p:cNvGrpSpPr/>
            <p:nvPr/>
          </p:nvGrpSpPr>
          <p:grpSpPr>
            <a:xfrm>
              <a:off x="3144960" y="2773440"/>
              <a:ext cx="2336760" cy="234720"/>
              <a:chOff x="3144960" y="2773440"/>
              <a:chExt cx="2336760" cy="234720"/>
            </a:xfrm>
          </p:grpSpPr>
          <p:sp>
            <p:nvSpPr>
              <p:cNvPr id="880" name=""/>
              <p:cNvSpPr/>
              <p:nvPr/>
            </p:nvSpPr>
            <p:spPr>
              <a:xfrm>
                <a:off x="3144960" y="2901960"/>
                <a:ext cx="369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86040" y="2792520"/>
                <a:ext cx="1795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4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eavy Machine Gun      RO-1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2" name=""/>
              <p:cNvGrpSpPr/>
              <p:nvPr/>
            </p:nvGrpSpPr>
            <p:grpSpPr>
              <a:xfrm>
                <a:off x="3403440" y="2773440"/>
                <a:ext cx="245880" cy="216000"/>
                <a:chOff x="3403440" y="2773440"/>
                <a:chExt cx="245880" cy="216000"/>
              </a:xfrm>
            </p:grpSpPr>
            <p:grpSp>
              <p:nvGrpSpPr>
                <p:cNvPr id="883" name=""/>
                <p:cNvGrpSpPr/>
                <p:nvPr/>
              </p:nvGrpSpPr>
              <p:grpSpPr>
                <a:xfrm>
                  <a:off x="3485880" y="2773440"/>
                  <a:ext cx="74520" cy="28800"/>
                  <a:chOff x="3485880" y="2773440"/>
                  <a:chExt cx="74520" cy="28800"/>
                </a:xfrm>
              </p:grpSpPr>
              <p:sp>
                <p:nvSpPr>
                  <p:cNvPr id="884" name=""/>
                  <p:cNvSpPr/>
                  <p:nvPr/>
                </p:nvSpPr>
                <p:spPr>
                  <a:xfrm>
                    <a:off x="3485880" y="277344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3533400" y="277524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6" name=""/>
                <p:cNvGrpSpPr/>
                <p:nvPr/>
              </p:nvGrpSpPr>
              <p:grpSpPr>
                <a:xfrm>
                  <a:off x="3403440" y="2820960"/>
                  <a:ext cx="245880" cy="168480"/>
                  <a:chOff x="3403440" y="2820960"/>
                  <a:chExt cx="245880" cy="168480"/>
                </a:xfrm>
              </p:grpSpPr>
              <p:sp>
                <p:nvSpPr>
                  <p:cNvPr id="887" name=""/>
                  <p:cNvSpPr/>
                  <p:nvPr/>
                </p:nvSpPr>
                <p:spPr>
                  <a:xfrm>
                    <a:off x="3403440" y="2820960"/>
                    <a:ext cx="245880" cy="16848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 flipV="1">
                    <a:off x="3414240" y="2835000"/>
                    <a:ext cx="220680" cy="128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3414240" y="2835360"/>
                    <a:ext cx="228600" cy="1396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3412800" y="2830680"/>
                    <a:ext cx="61920" cy="15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cc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91" name=""/>
            <p:cNvGrpSpPr/>
            <p:nvPr/>
          </p:nvGrpSpPr>
          <p:grpSpPr>
            <a:xfrm>
              <a:off x="3144960" y="3062160"/>
              <a:ext cx="2647800" cy="444240"/>
              <a:chOff x="3144960" y="3062160"/>
              <a:chExt cx="2647800" cy="444240"/>
            </a:xfrm>
          </p:grpSpPr>
          <p:sp>
            <p:nvSpPr>
              <p:cNvPr id="892" name=""/>
              <p:cNvSpPr/>
              <p:nvPr/>
            </p:nvSpPr>
            <p:spPr>
              <a:xfrm>
                <a:off x="3144960" y="338940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711600" y="329076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1mm Mortar                 RO-1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386160" y="3062160"/>
                <a:ext cx="1257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Organic Fire Sup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5" name=""/>
              <p:cNvGrpSpPr/>
              <p:nvPr/>
            </p:nvGrpSpPr>
            <p:grpSpPr>
              <a:xfrm>
                <a:off x="3433680" y="3274920"/>
                <a:ext cx="239760" cy="192240"/>
                <a:chOff x="3433680" y="3274920"/>
                <a:chExt cx="239760" cy="192240"/>
              </a:xfrm>
            </p:grpSpPr>
            <p:grpSp>
              <p:nvGrpSpPr>
                <p:cNvPr id="896" name=""/>
                <p:cNvGrpSpPr/>
                <p:nvPr/>
              </p:nvGrpSpPr>
              <p:grpSpPr>
                <a:xfrm>
                  <a:off x="3508560" y="3274920"/>
                  <a:ext cx="74520" cy="28080"/>
                  <a:chOff x="3508560" y="3274920"/>
                  <a:chExt cx="74520" cy="28080"/>
                </a:xfrm>
              </p:grpSpPr>
              <p:sp>
                <p:nvSpPr>
                  <p:cNvPr id="897" name=""/>
                  <p:cNvSpPr/>
                  <p:nvPr/>
                </p:nvSpPr>
                <p:spPr>
                  <a:xfrm>
                    <a:off x="3508560" y="327492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3556080" y="327636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9" name=""/>
                <p:cNvGrpSpPr/>
                <p:nvPr/>
              </p:nvGrpSpPr>
              <p:grpSpPr>
                <a:xfrm>
                  <a:off x="3433680" y="3309840"/>
                  <a:ext cx="239760" cy="157320"/>
                  <a:chOff x="3433680" y="3309840"/>
                  <a:chExt cx="239760" cy="157320"/>
                </a:xfrm>
              </p:grpSpPr>
              <p:sp>
                <p:nvSpPr>
                  <p:cNvPr id="900" name=""/>
                  <p:cNvSpPr/>
                  <p:nvPr/>
                </p:nvSpPr>
                <p:spPr>
                  <a:xfrm>
                    <a:off x="3433680" y="3309840"/>
                    <a:ext cx="239760" cy="15732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3517920" y="3435480"/>
                    <a:ext cx="6804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3549600" y="3330360"/>
                    <a:ext cx="0" cy="10656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41440" y="-36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 BG-09-&gt;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282600" y="2428920"/>
            <a:ext cx="3263760" cy="354960"/>
            <a:chOff x="282600" y="2428920"/>
            <a:chExt cx="3263760" cy="354960"/>
          </a:xfrm>
        </p:grpSpPr>
        <p:sp>
          <p:nvSpPr>
            <p:cNvPr id="905" name=""/>
            <p:cNvSpPr/>
            <p:nvPr/>
          </p:nvSpPr>
          <p:spPr>
            <a:xfrm>
              <a:off x="282600" y="261180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49320" y="2500560"/>
              <a:ext cx="2597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 Motor Infantry Battalion (Cavalry)  </a:t>
              </a:r>
              <a:r>
                <a:rPr b="1" lang="en-US" sz="800" spc="-1" strike="noStrike">
                  <a:solidFill>
                    <a:srgbClr val="669900"/>
                  </a:solidFill>
                  <a:latin typeface="Arial"/>
                </a:rPr>
                <a:t>BG-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7" name=""/>
            <p:cNvGrpSpPr/>
            <p:nvPr/>
          </p:nvGrpSpPr>
          <p:grpSpPr>
            <a:xfrm>
              <a:off x="622440" y="2428920"/>
              <a:ext cx="346680" cy="354960"/>
              <a:chOff x="622440" y="2428920"/>
              <a:chExt cx="346680" cy="354960"/>
            </a:xfrm>
          </p:grpSpPr>
          <p:grpSp>
            <p:nvGrpSpPr>
              <p:cNvPr id="908" name=""/>
              <p:cNvGrpSpPr/>
              <p:nvPr/>
            </p:nvGrpSpPr>
            <p:grpSpPr>
              <a:xfrm>
                <a:off x="758880" y="2428920"/>
                <a:ext cx="76320" cy="63720"/>
                <a:chOff x="758880" y="2428920"/>
                <a:chExt cx="76320" cy="63720"/>
              </a:xfrm>
            </p:grpSpPr>
            <p:sp>
              <p:nvSpPr>
                <p:cNvPr id="909" name=""/>
                <p:cNvSpPr/>
                <p:nvPr/>
              </p:nvSpPr>
              <p:spPr>
                <a:xfrm>
                  <a:off x="758880" y="242892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835200" y="242892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1" name=""/>
              <p:cNvGrpSpPr/>
              <p:nvPr/>
            </p:nvGrpSpPr>
            <p:grpSpPr>
              <a:xfrm>
                <a:off x="622440" y="2487960"/>
                <a:ext cx="346680" cy="295920"/>
                <a:chOff x="622440" y="2487960"/>
                <a:chExt cx="346680" cy="295920"/>
              </a:xfrm>
            </p:grpSpPr>
            <p:grpSp>
              <p:nvGrpSpPr>
                <p:cNvPr id="912" name=""/>
                <p:cNvGrpSpPr/>
                <p:nvPr/>
              </p:nvGrpSpPr>
              <p:grpSpPr>
                <a:xfrm>
                  <a:off x="622440" y="2487960"/>
                  <a:ext cx="346680" cy="234000"/>
                  <a:chOff x="622440" y="2487960"/>
                  <a:chExt cx="346680" cy="234000"/>
                </a:xfrm>
              </p:grpSpPr>
              <p:sp>
                <p:nvSpPr>
                  <p:cNvPr id="913" name=""/>
                  <p:cNvSpPr/>
                  <p:nvPr/>
                </p:nvSpPr>
                <p:spPr>
                  <a:xfrm>
                    <a:off x="622440" y="2487960"/>
                    <a:ext cx="346680" cy="23400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 flipV="1">
                    <a:off x="626040" y="2491560"/>
                    <a:ext cx="338040" cy="2289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622440" y="2491560"/>
                    <a:ext cx="345240" cy="2232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6" name=""/>
                <p:cNvSpPr/>
                <p:nvPr/>
              </p:nvSpPr>
              <p:spPr>
                <a:xfrm>
                  <a:off x="638640" y="2743920"/>
                  <a:ext cx="40320" cy="39960"/>
                </a:xfrm>
                <a:prstGeom prst="ellipse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910080" y="2743920"/>
                  <a:ext cx="43200" cy="39960"/>
                </a:xfrm>
                <a:prstGeom prst="ellipse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18" name=""/>
          <p:cNvGrpSpPr/>
          <p:nvPr/>
        </p:nvGrpSpPr>
        <p:grpSpPr>
          <a:xfrm>
            <a:off x="291960" y="2795760"/>
            <a:ext cx="3052800" cy="300600"/>
            <a:chOff x="291960" y="2795760"/>
            <a:chExt cx="3052800" cy="300600"/>
          </a:xfrm>
        </p:grpSpPr>
        <p:sp>
          <p:nvSpPr>
            <p:cNvPr id="919" name=""/>
            <p:cNvSpPr/>
            <p:nvPr/>
          </p:nvSpPr>
          <p:spPr>
            <a:xfrm>
              <a:off x="291960" y="297792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974520" y="2867040"/>
              <a:ext cx="2370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Cavalry Battalions                          </a:t>
              </a:r>
              <a:r>
                <a:rPr b="1" lang="en-US" sz="800" spc="-1" strike="noStrike">
                  <a:solidFill>
                    <a:srgbClr val="669900"/>
                  </a:solidFill>
                  <a:latin typeface="Arial"/>
                </a:rPr>
                <a:t>BG-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636480" y="2795760"/>
              <a:ext cx="347400" cy="300600"/>
              <a:chOff x="636480" y="2795760"/>
              <a:chExt cx="347400" cy="300600"/>
            </a:xfrm>
          </p:grpSpPr>
          <p:grpSp>
            <p:nvGrpSpPr>
              <p:cNvPr id="922" name=""/>
              <p:cNvGrpSpPr/>
              <p:nvPr/>
            </p:nvGrpSpPr>
            <p:grpSpPr>
              <a:xfrm>
                <a:off x="636480" y="2860560"/>
                <a:ext cx="347400" cy="235800"/>
                <a:chOff x="636480" y="2860560"/>
                <a:chExt cx="347400" cy="23580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636480" y="2860560"/>
                  <a:ext cx="347400" cy="235800"/>
                </a:xfrm>
                <a:prstGeom prst="rect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 flipV="1">
                  <a:off x="639000" y="2864520"/>
                  <a:ext cx="339840" cy="229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768240" y="2795760"/>
                <a:ext cx="76320" cy="63360"/>
                <a:chOff x="768240" y="2795760"/>
                <a:chExt cx="76320" cy="6336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768240" y="27957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844560" y="27957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28" name=""/>
          <p:cNvGrpSpPr/>
          <p:nvPr/>
        </p:nvGrpSpPr>
        <p:grpSpPr>
          <a:xfrm>
            <a:off x="68400" y="741240"/>
            <a:ext cx="2838240" cy="3447720"/>
            <a:chOff x="68400" y="741240"/>
            <a:chExt cx="2838240" cy="3447720"/>
          </a:xfrm>
        </p:grpSpPr>
        <p:sp>
          <p:nvSpPr>
            <p:cNvPr id="929" name=""/>
            <p:cNvSpPr/>
            <p:nvPr/>
          </p:nvSpPr>
          <p:spPr>
            <a:xfrm>
              <a:off x="68400" y="741240"/>
              <a:ext cx="12366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9900"/>
                  </a:solidFill>
                  <a:latin typeface="Arial"/>
                </a:rPr>
                <a:t>Battle Group-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valry Briga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61880" y="2254320"/>
              <a:ext cx="175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BATTLE GROU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274320" y="1514520"/>
              <a:ext cx="4680" cy="2563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2" name=""/>
            <p:cNvGrpSpPr/>
            <p:nvPr/>
          </p:nvGrpSpPr>
          <p:grpSpPr>
            <a:xfrm>
              <a:off x="279360" y="3657600"/>
              <a:ext cx="2627280" cy="531360"/>
              <a:chOff x="279360" y="3657600"/>
              <a:chExt cx="2627280" cy="531360"/>
            </a:xfrm>
          </p:grpSpPr>
          <p:sp>
            <p:nvSpPr>
              <p:cNvPr id="933" name=""/>
              <p:cNvSpPr/>
              <p:nvPr/>
            </p:nvSpPr>
            <p:spPr>
              <a:xfrm>
                <a:off x="598320" y="3657600"/>
                <a:ext cx="1754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FIRE SUPPORT ELE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4" name=""/>
              <p:cNvGrpSpPr/>
              <p:nvPr/>
            </p:nvGrpSpPr>
            <p:grpSpPr>
              <a:xfrm>
                <a:off x="279360" y="3930480"/>
                <a:ext cx="2627280" cy="258480"/>
                <a:chOff x="279360" y="3930480"/>
                <a:chExt cx="2627280" cy="25848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959040" y="3973320"/>
                  <a:ext cx="19476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-4 Light Artillery Battery       </a:t>
                  </a:r>
                  <a:r>
                    <a:rPr b="1" lang="en-US" sz="800" spc="-1" strike="noStrike">
                      <a:solidFill>
                        <a:srgbClr val="669900"/>
                      </a:solidFill>
                      <a:latin typeface="Arial"/>
                    </a:rPr>
                    <a:t>FS-0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279360" y="407808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37" name=""/>
                <p:cNvGrpSpPr/>
                <p:nvPr/>
              </p:nvGrpSpPr>
              <p:grpSpPr>
                <a:xfrm>
                  <a:off x="635040" y="3930480"/>
                  <a:ext cx="291600" cy="247320"/>
                  <a:chOff x="635040" y="3930480"/>
                  <a:chExt cx="291600" cy="247320"/>
                </a:xfrm>
              </p:grpSpPr>
              <p:grpSp>
                <p:nvGrpSpPr>
                  <p:cNvPr id="938" name=""/>
                  <p:cNvGrpSpPr/>
                  <p:nvPr/>
                </p:nvGrpSpPr>
                <p:grpSpPr>
                  <a:xfrm>
                    <a:off x="635040" y="3987720"/>
                    <a:ext cx="291600" cy="190080"/>
                    <a:chOff x="635040" y="3987720"/>
                    <a:chExt cx="291600" cy="190080"/>
                  </a:xfrm>
                </p:grpSpPr>
                <p:sp>
                  <p:nvSpPr>
                    <p:cNvPr id="939" name=""/>
                    <p:cNvSpPr/>
                    <p:nvPr/>
                  </p:nvSpPr>
                  <p:spPr>
                    <a:xfrm>
                      <a:off x="635040" y="3987720"/>
                      <a:ext cx="291600" cy="19008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0" name=""/>
                    <p:cNvSpPr/>
                    <p:nvPr/>
                  </p:nvSpPr>
                  <p:spPr>
                    <a:xfrm>
                      <a:off x="760680" y="4060800"/>
                      <a:ext cx="34560" cy="32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41" name=""/>
                  <p:cNvGrpSpPr/>
                  <p:nvPr/>
                </p:nvGrpSpPr>
                <p:grpSpPr>
                  <a:xfrm>
                    <a:off x="743040" y="3930480"/>
                    <a:ext cx="76320" cy="63720"/>
                    <a:chOff x="743040" y="3930480"/>
                    <a:chExt cx="76320" cy="63720"/>
                  </a:xfrm>
                </p:grpSpPr>
                <p:sp>
                  <p:nvSpPr>
                    <p:cNvPr id="942" name=""/>
                    <p:cNvSpPr/>
                    <p:nvPr/>
                  </p:nvSpPr>
                  <p:spPr>
                    <a:xfrm>
                      <a:off x="743040" y="3930480"/>
                      <a:ext cx="0" cy="6372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920" bIns="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3" name=""/>
                    <p:cNvSpPr/>
                    <p:nvPr/>
                  </p:nvSpPr>
                  <p:spPr>
                    <a:xfrm>
                      <a:off x="819360" y="3930480"/>
                      <a:ext cx="0" cy="6372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920" bIns="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944" name=""/>
            <p:cNvGrpSpPr/>
            <p:nvPr/>
          </p:nvGrpSpPr>
          <p:grpSpPr>
            <a:xfrm>
              <a:off x="282600" y="1406520"/>
              <a:ext cx="2623680" cy="833400"/>
              <a:chOff x="282600" y="1406520"/>
              <a:chExt cx="2623680" cy="83340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579600" y="1868400"/>
                <a:ext cx="2315520" cy="371520"/>
                <a:chOff x="579600" y="1868400"/>
                <a:chExt cx="2315520" cy="37152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617400" y="1868400"/>
                  <a:ext cx="0" cy="297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47" name=""/>
                <p:cNvGrpSpPr/>
                <p:nvPr/>
              </p:nvGrpSpPr>
              <p:grpSpPr>
                <a:xfrm>
                  <a:off x="579600" y="2004840"/>
                  <a:ext cx="2315520" cy="235080"/>
                  <a:chOff x="579600" y="2004840"/>
                  <a:chExt cx="2315520" cy="235080"/>
                </a:xfrm>
              </p:grpSpPr>
              <p:sp>
                <p:nvSpPr>
                  <p:cNvPr id="948" name=""/>
                  <p:cNvSpPr/>
                  <p:nvPr/>
                </p:nvSpPr>
                <p:spPr>
                  <a:xfrm>
                    <a:off x="814320" y="2017440"/>
                    <a:ext cx="208080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 Kubelwagen      GE-34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49" name=""/>
                  <p:cNvGrpSpPr/>
                  <p:nvPr/>
                </p:nvGrpSpPr>
                <p:grpSpPr>
                  <a:xfrm>
                    <a:off x="579600" y="2004840"/>
                    <a:ext cx="231480" cy="235080"/>
                    <a:chOff x="579600" y="2004840"/>
                    <a:chExt cx="231480" cy="235080"/>
                  </a:xfrm>
                </p:grpSpPr>
                <p:grpSp>
                  <p:nvGrpSpPr>
                    <p:cNvPr id="950" name=""/>
                    <p:cNvGrpSpPr/>
                    <p:nvPr/>
                  </p:nvGrpSpPr>
                  <p:grpSpPr>
                    <a:xfrm>
                      <a:off x="579600" y="2049480"/>
                      <a:ext cx="231480" cy="190440"/>
                      <a:chOff x="579600" y="2049480"/>
                      <a:chExt cx="231480" cy="190440"/>
                    </a:xfrm>
                  </p:grpSpPr>
                  <p:sp>
                    <p:nvSpPr>
                      <p:cNvPr id="951" name=""/>
                      <p:cNvSpPr/>
                      <p:nvPr/>
                    </p:nvSpPr>
                    <p:spPr>
                      <a:xfrm>
                        <a:off x="579600" y="2049480"/>
                        <a:ext cx="231480" cy="156960"/>
                      </a:xfrm>
                      <a:prstGeom prst="rect">
                        <a:avLst/>
                      </a:prstGeom>
                      <a:solidFill>
                        <a:srgbClr val="cc33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2" name=""/>
                      <p:cNvSpPr/>
                      <p:nvPr/>
                    </p:nvSpPr>
                    <p:spPr>
                      <a:xfrm>
                        <a:off x="590400" y="2212920"/>
                        <a:ext cx="26640" cy="27000"/>
                      </a:xfrm>
                      <a:prstGeom prst="ellipse">
                        <a:avLst/>
                      </a:prstGeom>
                      <a:solidFill>
                        <a:srgbClr val="cc33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3" name=""/>
                      <p:cNvSpPr/>
                      <p:nvPr/>
                    </p:nvSpPr>
                    <p:spPr>
                      <a:xfrm>
                        <a:off x="771480" y="2212920"/>
                        <a:ext cx="28080" cy="27000"/>
                      </a:xfrm>
                      <a:prstGeom prst="ellipse">
                        <a:avLst/>
                      </a:prstGeom>
                      <a:solidFill>
                        <a:srgbClr val="cc33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54" name=""/>
                    <p:cNvGrpSpPr/>
                    <p:nvPr/>
                  </p:nvGrpSpPr>
                  <p:grpSpPr>
                    <a:xfrm>
                      <a:off x="657000" y="2004840"/>
                      <a:ext cx="74520" cy="28080"/>
                      <a:chOff x="657000" y="2004840"/>
                      <a:chExt cx="74520" cy="28080"/>
                    </a:xfrm>
                  </p:grpSpPr>
                  <p:sp>
                    <p:nvSpPr>
                      <p:cNvPr id="955" name=""/>
                      <p:cNvSpPr/>
                      <p:nvPr/>
                    </p:nvSpPr>
                    <p:spPr>
                      <a:xfrm>
                        <a:off x="657000" y="2004840"/>
                        <a:ext cx="284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6" name=""/>
                      <p:cNvSpPr/>
                      <p:nvPr/>
                    </p:nvSpPr>
                    <p:spPr>
                      <a:xfrm>
                        <a:off x="704520" y="2006280"/>
                        <a:ext cx="2700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957" name=""/>
                <p:cNvSpPr/>
                <p:nvPr/>
              </p:nvSpPr>
              <p:spPr>
                <a:xfrm>
                  <a:off x="838080" y="1873080"/>
                  <a:ext cx="8384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8" name=""/>
              <p:cNvSpPr/>
              <p:nvPr/>
            </p:nvSpPr>
            <p:spPr>
              <a:xfrm>
                <a:off x="511200" y="1406520"/>
                <a:ext cx="1754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HEADQUARTERS EL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817560" y="1568520"/>
                <a:ext cx="838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0" name=""/>
              <p:cNvGrpSpPr/>
              <p:nvPr/>
            </p:nvGrpSpPr>
            <p:grpSpPr>
              <a:xfrm>
                <a:off x="282600" y="1730520"/>
                <a:ext cx="2623680" cy="230040"/>
                <a:chOff x="282600" y="1730520"/>
                <a:chExt cx="2623680" cy="23004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282600" y="1841760"/>
                  <a:ext cx="352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825480" y="1744920"/>
                  <a:ext cx="20808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Commander      RO-1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63" name=""/>
                <p:cNvGrpSpPr/>
                <p:nvPr/>
              </p:nvGrpSpPr>
              <p:grpSpPr>
                <a:xfrm>
                  <a:off x="579240" y="1730520"/>
                  <a:ext cx="237960" cy="200160"/>
                  <a:chOff x="579240" y="1730520"/>
                  <a:chExt cx="237960" cy="200160"/>
                </a:xfrm>
              </p:grpSpPr>
              <p:sp>
                <p:nvSpPr>
                  <p:cNvPr id="964" name=""/>
                  <p:cNvSpPr/>
                  <p:nvPr/>
                </p:nvSpPr>
                <p:spPr>
                  <a:xfrm>
                    <a:off x="579240" y="1773360"/>
                    <a:ext cx="237960" cy="15732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685440" y="17305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66" name=""/>
            <p:cNvGrpSpPr/>
            <p:nvPr/>
          </p:nvGrpSpPr>
          <p:grpSpPr>
            <a:xfrm>
              <a:off x="108000" y="1213920"/>
              <a:ext cx="347400" cy="295560"/>
              <a:chOff x="108000" y="1213920"/>
              <a:chExt cx="347400" cy="295560"/>
            </a:xfrm>
          </p:grpSpPr>
          <p:grpSp>
            <p:nvGrpSpPr>
              <p:cNvPr id="967" name=""/>
              <p:cNvGrpSpPr/>
              <p:nvPr/>
            </p:nvGrpSpPr>
            <p:grpSpPr>
              <a:xfrm>
                <a:off x="108000" y="1273320"/>
                <a:ext cx="347400" cy="236160"/>
                <a:chOff x="108000" y="1273320"/>
                <a:chExt cx="347400" cy="236160"/>
              </a:xfrm>
            </p:grpSpPr>
            <p:sp>
              <p:nvSpPr>
                <p:cNvPr id="968" name=""/>
                <p:cNvSpPr/>
                <p:nvPr/>
              </p:nvSpPr>
              <p:spPr>
                <a:xfrm>
                  <a:off x="108000" y="1273320"/>
                  <a:ext cx="347400" cy="236160"/>
                </a:xfrm>
                <a:prstGeom prst="rect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 flipV="1">
                  <a:off x="110520" y="1277640"/>
                  <a:ext cx="339840" cy="229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0" name=""/>
              <p:cNvGrpSpPr/>
              <p:nvPr/>
            </p:nvGrpSpPr>
            <p:grpSpPr>
              <a:xfrm>
                <a:off x="243000" y="1213920"/>
                <a:ext cx="75960" cy="64080"/>
                <a:chOff x="243000" y="1213920"/>
                <a:chExt cx="75960" cy="64080"/>
              </a:xfrm>
            </p:grpSpPr>
            <p:sp>
              <p:nvSpPr>
                <p:cNvPr id="971" name=""/>
                <p:cNvSpPr/>
                <p:nvPr/>
              </p:nvSpPr>
              <p:spPr>
                <a:xfrm>
                  <a:off x="243000" y="1214280"/>
                  <a:ext cx="75960" cy="63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 flipV="1">
                  <a:off x="243000" y="1213920"/>
                  <a:ext cx="75960" cy="63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73" name=""/>
            <p:cNvGrpSpPr/>
            <p:nvPr/>
          </p:nvGrpSpPr>
          <p:grpSpPr>
            <a:xfrm>
              <a:off x="279360" y="3176640"/>
              <a:ext cx="2474640" cy="450000"/>
              <a:chOff x="279360" y="3176640"/>
              <a:chExt cx="2474640" cy="450000"/>
            </a:xfrm>
          </p:grpSpPr>
          <p:sp>
            <p:nvSpPr>
              <p:cNvPr id="974" name=""/>
              <p:cNvSpPr/>
              <p:nvPr/>
            </p:nvSpPr>
            <p:spPr>
              <a:xfrm>
                <a:off x="436320" y="3176640"/>
                <a:ext cx="1754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ANEUVER ELE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279360" y="3527280"/>
                <a:ext cx="352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842760" y="3409560"/>
                <a:ext cx="1911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Light Tank Company    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0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7" name=""/>
              <p:cNvGrpSpPr/>
              <p:nvPr/>
            </p:nvGrpSpPr>
            <p:grpSpPr>
              <a:xfrm>
                <a:off x="599760" y="3369960"/>
                <a:ext cx="284400" cy="256680"/>
                <a:chOff x="599760" y="3369960"/>
                <a:chExt cx="284400" cy="25668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739440" y="33699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79" name=""/>
                <p:cNvGrpSpPr/>
                <p:nvPr/>
              </p:nvGrpSpPr>
              <p:grpSpPr>
                <a:xfrm>
                  <a:off x="599760" y="3433320"/>
                  <a:ext cx="284400" cy="193320"/>
                  <a:chOff x="599760" y="3433320"/>
                  <a:chExt cx="284400" cy="19332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>
                    <a:off x="599760" y="3433320"/>
                    <a:ext cx="284400" cy="19332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651960" y="3481560"/>
                    <a:ext cx="182520" cy="9216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982" name=""/>
          <p:cNvGrpSpPr/>
          <p:nvPr/>
        </p:nvGrpSpPr>
        <p:grpSpPr>
          <a:xfrm>
            <a:off x="3303720" y="2530440"/>
            <a:ext cx="2942640" cy="507600"/>
            <a:chOff x="3303720" y="2530440"/>
            <a:chExt cx="2942640" cy="507600"/>
          </a:xfrm>
        </p:grpSpPr>
        <p:sp>
          <p:nvSpPr>
            <p:cNvPr id="983" name=""/>
            <p:cNvSpPr/>
            <p:nvPr/>
          </p:nvSpPr>
          <p:spPr>
            <a:xfrm>
              <a:off x="3460680" y="2530440"/>
              <a:ext cx="1753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303720" y="2881080"/>
              <a:ext cx="352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866760" y="2763720"/>
              <a:ext cx="2379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4 Motorized Infantry Company      </a:t>
              </a: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ME-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6" name=""/>
            <p:cNvGrpSpPr/>
            <p:nvPr/>
          </p:nvGrpSpPr>
          <p:grpSpPr>
            <a:xfrm>
              <a:off x="3609720" y="2724120"/>
              <a:ext cx="291240" cy="313920"/>
              <a:chOff x="3609720" y="2724120"/>
              <a:chExt cx="291240" cy="313920"/>
            </a:xfrm>
          </p:grpSpPr>
          <p:sp>
            <p:nvSpPr>
              <p:cNvPr id="987" name=""/>
              <p:cNvSpPr/>
              <p:nvPr/>
            </p:nvSpPr>
            <p:spPr>
              <a:xfrm>
                <a:off x="3755520" y="27241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8" name=""/>
              <p:cNvGrpSpPr/>
              <p:nvPr/>
            </p:nvGrpSpPr>
            <p:grpSpPr>
              <a:xfrm>
                <a:off x="3609720" y="2787480"/>
                <a:ext cx="291240" cy="250560"/>
                <a:chOff x="3609720" y="2787480"/>
                <a:chExt cx="291240" cy="250560"/>
              </a:xfrm>
            </p:grpSpPr>
            <p:grpSp>
              <p:nvGrpSpPr>
                <p:cNvPr id="989" name=""/>
                <p:cNvGrpSpPr/>
                <p:nvPr/>
              </p:nvGrpSpPr>
              <p:grpSpPr>
                <a:xfrm>
                  <a:off x="3609720" y="2787480"/>
                  <a:ext cx="291240" cy="198360"/>
                  <a:chOff x="3609720" y="2787480"/>
                  <a:chExt cx="291240" cy="198360"/>
                </a:xfrm>
              </p:grpSpPr>
              <p:sp>
                <p:nvSpPr>
                  <p:cNvPr id="990" name=""/>
                  <p:cNvSpPr/>
                  <p:nvPr/>
                </p:nvSpPr>
                <p:spPr>
                  <a:xfrm>
                    <a:off x="3609720" y="2787480"/>
                    <a:ext cx="291240" cy="19836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 flipV="1">
                    <a:off x="3612600" y="2790360"/>
                    <a:ext cx="283680" cy="1936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3609720" y="2790360"/>
                    <a:ext cx="289800" cy="189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93" name=""/>
                <p:cNvSpPr/>
                <p:nvPr/>
              </p:nvSpPr>
              <p:spPr>
                <a:xfrm>
                  <a:off x="3623040" y="3004200"/>
                  <a:ext cx="33840" cy="33840"/>
                </a:xfrm>
                <a:prstGeom prst="ellipse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3851280" y="3004200"/>
                  <a:ext cx="36000" cy="33840"/>
                </a:xfrm>
                <a:prstGeom prst="ellipse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95" name=""/>
          <p:cNvGrpSpPr/>
          <p:nvPr/>
        </p:nvGrpSpPr>
        <p:grpSpPr>
          <a:xfrm>
            <a:off x="3065400" y="716040"/>
            <a:ext cx="2868840" cy="3178080"/>
            <a:chOff x="3065400" y="716040"/>
            <a:chExt cx="2868840" cy="3178080"/>
          </a:xfrm>
        </p:grpSpPr>
        <p:sp>
          <p:nvSpPr>
            <p:cNvPr id="996" name=""/>
            <p:cNvSpPr/>
            <p:nvPr/>
          </p:nvSpPr>
          <p:spPr>
            <a:xfrm>
              <a:off x="3065400" y="716040"/>
              <a:ext cx="192420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9900"/>
                  </a:solidFill>
                  <a:latin typeface="Arial"/>
                </a:rPr>
                <a:t>Battle Group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tor Infantry Battalion (Cavalr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306600" y="1658880"/>
              <a:ext cx="3240" cy="121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8" name=""/>
            <p:cNvGrpSpPr/>
            <p:nvPr/>
          </p:nvGrpSpPr>
          <p:grpSpPr>
            <a:xfrm>
              <a:off x="3303720" y="1555920"/>
              <a:ext cx="2623680" cy="884880"/>
              <a:chOff x="3303720" y="1555920"/>
              <a:chExt cx="2623680" cy="884880"/>
            </a:xfrm>
          </p:grpSpPr>
          <p:grpSp>
            <p:nvGrpSpPr>
              <p:cNvPr id="999" name=""/>
              <p:cNvGrpSpPr/>
              <p:nvPr/>
            </p:nvGrpSpPr>
            <p:grpSpPr>
              <a:xfrm>
                <a:off x="3597120" y="2004840"/>
                <a:ext cx="2316240" cy="435960"/>
                <a:chOff x="3597120" y="2004840"/>
                <a:chExt cx="2316240" cy="43596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3635280" y="2004840"/>
                  <a:ext cx="1800" cy="316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01" name=""/>
                <p:cNvGrpSpPr/>
                <p:nvPr/>
              </p:nvGrpSpPr>
              <p:grpSpPr>
                <a:xfrm>
                  <a:off x="3597120" y="2206800"/>
                  <a:ext cx="2316240" cy="234000"/>
                  <a:chOff x="3597120" y="2206800"/>
                  <a:chExt cx="2316240" cy="234000"/>
                </a:xfrm>
              </p:grpSpPr>
              <p:sp>
                <p:nvSpPr>
                  <p:cNvPr id="1002" name=""/>
                  <p:cNvSpPr/>
                  <p:nvPr/>
                </p:nvSpPr>
                <p:spPr>
                  <a:xfrm>
                    <a:off x="3832200" y="2219040"/>
                    <a:ext cx="208116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 Kubelwagen      GE-34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03" name=""/>
                  <p:cNvGrpSpPr/>
                  <p:nvPr/>
                </p:nvGrpSpPr>
                <p:grpSpPr>
                  <a:xfrm>
                    <a:off x="3597120" y="2206800"/>
                    <a:ext cx="231840" cy="234000"/>
                    <a:chOff x="3597120" y="2206800"/>
                    <a:chExt cx="231840" cy="234000"/>
                  </a:xfrm>
                </p:grpSpPr>
                <p:grpSp>
                  <p:nvGrpSpPr>
                    <p:cNvPr id="1004" name=""/>
                    <p:cNvGrpSpPr/>
                    <p:nvPr/>
                  </p:nvGrpSpPr>
                  <p:grpSpPr>
                    <a:xfrm>
                      <a:off x="3597120" y="2251080"/>
                      <a:ext cx="231840" cy="189720"/>
                      <a:chOff x="3597120" y="2251080"/>
                      <a:chExt cx="231840" cy="189720"/>
                    </a:xfrm>
                  </p:grpSpPr>
                  <p:sp>
                    <p:nvSpPr>
                      <p:cNvPr id="1005" name=""/>
                      <p:cNvSpPr/>
                      <p:nvPr/>
                    </p:nvSpPr>
                    <p:spPr>
                      <a:xfrm>
                        <a:off x="3597120" y="2251080"/>
                        <a:ext cx="231840" cy="156600"/>
                      </a:xfrm>
                      <a:prstGeom prst="rect">
                        <a:avLst/>
                      </a:prstGeom>
                      <a:solidFill>
                        <a:srgbClr val="cc33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6" name=""/>
                      <p:cNvSpPr/>
                      <p:nvPr/>
                    </p:nvSpPr>
                    <p:spPr>
                      <a:xfrm>
                        <a:off x="3608280" y="2414160"/>
                        <a:ext cx="27000" cy="26640"/>
                      </a:xfrm>
                      <a:prstGeom prst="ellipse">
                        <a:avLst/>
                      </a:prstGeom>
                      <a:solidFill>
                        <a:srgbClr val="cc33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7" name=""/>
                      <p:cNvSpPr/>
                      <p:nvPr/>
                    </p:nvSpPr>
                    <p:spPr>
                      <a:xfrm>
                        <a:off x="3789360" y="2414160"/>
                        <a:ext cx="28440" cy="26640"/>
                      </a:xfrm>
                      <a:prstGeom prst="ellipse">
                        <a:avLst/>
                      </a:prstGeom>
                      <a:solidFill>
                        <a:srgbClr val="cc33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08" name=""/>
                    <p:cNvGrpSpPr/>
                    <p:nvPr/>
                  </p:nvGrpSpPr>
                  <p:grpSpPr>
                    <a:xfrm>
                      <a:off x="3674880" y="2206800"/>
                      <a:ext cx="74520" cy="27720"/>
                      <a:chOff x="3674880" y="2206800"/>
                      <a:chExt cx="74520" cy="27720"/>
                    </a:xfrm>
                  </p:grpSpPr>
                  <p:sp>
                    <p:nvSpPr>
                      <p:cNvPr id="1009" name=""/>
                      <p:cNvSpPr/>
                      <p:nvPr/>
                    </p:nvSpPr>
                    <p:spPr>
                      <a:xfrm>
                        <a:off x="3674880" y="2206800"/>
                        <a:ext cx="28440" cy="262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0" name=""/>
                      <p:cNvSpPr/>
                      <p:nvPr/>
                    </p:nvSpPr>
                    <p:spPr>
                      <a:xfrm>
                        <a:off x="3722400" y="2208240"/>
                        <a:ext cx="27000" cy="262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011" name=""/>
                <p:cNvSpPr/>
                <p:nvPr/>
              </p:nvSpPr>
              <p:spPr>
                <a:xfrm>
                  <a:off x="3838680" y="2044800"/>
                  <a:ext cx="8380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2" name=""/>
              <p:cNvSpPr/>
              <p:nvPr/>
            </p:nvSpPr>
            <p:spPr>
              <a:xfrm>
                <a:off x="3532320" y="1555920"/>
                <a:ext cx="1753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HEADQUARTERS EL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838680" y="1717560"/>
                <a:ext cx="838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4" name=""/>
              <p:cNvGrpSpPr/>
              <p:nvPr/>
            </p:nvGrpSpPr>
            <p:grpSpPr>
              <a:xfrm>
                <a:off x="3303720" y="1879560"/>
                <a:ext cx="2623680" cy="230040"/>
                <a:chOff x="3303720" y="1879560"/>
                <a:chExt cx="2623680" cy="23004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3303720" y="1990800"/>
                  <a:ext cx="352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3846600" y="1893960"/>
                  <a:ext cx="20808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Commander      RO-1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7" name=""/>
                <p:cNvGrpSpPr/>
                <p:nvPr/>
              </p:nvGrpSpPr>
              <p:grpSpPr>
                <a:xfrm>
                  <a:off x="3600360" y="1879560"/>
                  <a:ext cx="237960" cy="200160"/>
                  <a:chOff x="3600360" y="1879560"/>
                  <a:chExt cx="237960" cy="200160"/>
                </a:xfrm>
              </p:grpSpPr>
              <p:sp>
                <p:nvSpPr>
                  <p:cNvPr id="1018" name=""/>
                  <p:cNvSpPr/>
                  <p:nvPr/>
                </p:nvSpPr>
                <p:spPr>
                  <a:xfrm>
                    <a:off x="3600360" y="1922400"/>
                    <a:ext cx="237960" cy="15732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3706560" y="18795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20" name=""/>
            <p:cNvGrpSpPr/>
            <p:nvPr/>
          </p:nvGrpSpPr>
          <p:grpSpPr>
            <a:xfrm>
              <a:off x="3127320" y="1357200"/>
              <a:ext cx="347040" cy="354600"/>
              <a:chOff x="3127320" y="1357200"/>
              <a:chExt cx="347040" cy="354600"/>
            </a:xfrm>
          </p:grpSpPr>
          <p:grpSp>
            <p:nvGrpSpPr>
              <p:cNvPr id="1021" name=""/>
              <p:cNvGrpSpPr/>
              <p:nvPr/>
            </p:nvGrpSpPr>
            <p:grpSpPr>
              <a:xfrm>
                <a:off x="3263760" y="1357200"/>
                <a:ext cx="76320" cy="63360"/>
                <a:chOff x="3263760" y="1357200"/>
                <a:chExt cx="76320" cy="63360"/>
              </a:xfrm>
            </p:grpSpPr>
            <p:sp>
              <p:nvSpPr>
                <p:cNvPr id="1022" name=""/>
                <p:cNvSpPr/>
                <p:nvPr/>
              </p:nvSpPr>
              <p:spPr>
                <a:xfrm>
                  <a:off x="3263760" y="13572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3340080" y="13572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4" name=""/>
              <p:cNvGrpSpPr/>
              <p:nvPr/>
            </p:nvGrpSpPr>
            <p:grpSpPr>
              <a:xfrm>
                <a:off x="3127320" y="1415880"/>
                <a:ext cx="347040" cy="295920"/>
                <a:chOff x="3127320" y="1415880"/>
                <a:chExt cx="347040" cy="295920"/>
              </a:xfrm>
            </p:grpSpPr>
            <p:grpSp>
              <p:nvGrpSpPr>
                <p:cNvPr id="1025" name=""/>
                <p:cNvGrpSpPr/>
                <p:nvPr/>
              </p:nvGrpSpPr>
              <p:grpSpPr>
                <a:xfrm>
                  <a:off x="3127320" y="1415880"/>
                  <a:ext cx="347040" cy="234000"/>
                  <a:chOff x="3127320" y="1415880"/>
                  <a:chExt cx="347040" cy="234000"/>
                </a:xfrm>
              </p:grpSpPr>
              <p:sp>
                <p:nvSpPr>
                  <p:cNvPr id="1026" name=""/>
                  <p:cNvSpPr/>
                  <p:nvPr/>
                </p:nvSpPr>
                <p:spPr>
                  <a:xfrm>
                    <a:off x="3127320" y="1415880"/>
                    <a:ext cx="347040" cy="23400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 flipV="1">
                    <a:off x="3130920" y="1419480"/>
                    <a:ext cx="338400" cy="2289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3127320" y="1419480"/>
                    <a:ext cx="345600" cy="2232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29" name=""/>
                <p:cNvSpPr/>
                <p:nvPr/>
              </p:nvSpPr>
              <p:spPr>
                <a:xfrm>
                  <a:off x="3143520" y="1671840"/>
                  <a:ext cx="40320" cy="39960"/>
                </a:xfrm>
                <a:prstGeom prst="ellipse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3415320" y="1671840"/>
                  <a:ext cx="43200" cy="39960"/>
                </a:xfrm>
                <a:prstGeom prst="ellipse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1" name=""/>
            <p:cNvGrpSpPr/>
            <p:nvPr/>
          </p:nvGrpSpPr>
          <p:grpSpPr>
            <a:xfrm>
              <a:off x="3311640" y="3359160"/>
              <a:ext cx="2622600" cy="534960"/>
              <a:chOff x="3311640" y="3359160"/>
              <a:chExt cx="2622600" cy="534960"/>
            </a:xfrm>
          </p:grpSpPr>
          <p:sp>
            <p:nvSpPr>
              <p:cNvPr id="1032" name=""/>
              <p:cNvSpPr/>
              <p:nvPr/>
            </p:nvSpPr>
            <p:spPr>
              <a:xfrm>
                <a:off x="3641760" y="3506760"/>
                <a:ext cx="0" cy="28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835440" y="366732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ght Truck                              GE-3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889440" y="350676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311640" y="348768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852720" y="3378240"/>
                <a:ext cx="2081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7mm AT Gun                        RO-1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7" name=""/>
              <p:cNvGrpSpPr/>
              <p:nvPr/>
            </p:nvGrpSpPr>
            <p:grpSpPr>
              <a:xfrm>
                <a:off x="3571920" y="3649680"/>
                <a:ext cx="231480" cy="244440"/>
                <a:chOff x="3571920" y="3649680"/>
                <a:chExt cx="231480" cy="244440"/>
              </a:xfrm>
            </p:grpSpPr>
            <p:grpSp>
              <p:nvGrpSpPr>
                <p:cNvPr id="1038" name=""/>
                <p:cNvGrpSpPr/>
                <p:nvPr/>
              </p:nvGrpSpPr>
              <p:grpSpPr>
                <a:xfrm>
                  <a:off x="3652560" y="3649680"/>
                  <a:ext cx="74520" cy="28080"/>
                  <a:chOff x="3652560" y="3649680"/>
                  <a:chExt cx="74520" cy="28080"/>
                </a:xfrm>
              </p:grpSpPr>
              <p:sp>
                <p:nvSpPr>
                  <p:cNvPr id="1039" name=""/>
                  <p:cNvSpPr/>
                  <p:nvPr/>
                </p:nvSpPr>
                <p:spPr>
                  <a:xfrm>
                    <a:off x="3652560" y="364968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3700080" y="36511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1" name=""/>
                <p:cNvGrpSpPr/>
                <p:nvPr/>
              </p:nvGrpSpPr>
              <p:grpSpPr>
                <a:xfrm>
                  <a:off x="3571920" y="3703680"/>
                  <a:ext cx="231480" cy="190440"/>
                  <a:chOff x="3571920" y="3703680"/>
                  <a:chExt cx="231480" cy="190440"/>
                </a:xfrm>
              </p:grpSpPr>
              <p:sp>
                <p:nvSpPr>
                  <p:cNvPr id="1042" name=""/>
                  <p:cNvSpPr/>
                  <p:nvPr/>
                </p:nvSpPr>
                <p:spPr>
                  <a:xfrm>
                    <a:off x="3571920" y="3703680"/>
                    <a:ext cx="231480" cy="15696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3582720" y="3867120"/>
                    <a:ext cx="26640" cy="2700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3763800" y="3867120"/>
                    <a:ext cx="28080" cy="2700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45" name=""/>
              <p:cNvGrpSpPr/>
              <p:nvPr/>
            </p:nvGrpSpPr>
            <p:grpSpPr>
              <a:xfrm>
                <a:off x="3571920" y="3359160"/>
                <a:ext cx="231480" cy="207720"/>
                <a:chOff x="3571920" y="3359160"/>
                <a:chExt cx="231480" cy="207720"/>
              </a:xfrm>
            </p:grpSpPr>
            <p:grpSp>
              <p:nvGrpSpPr>
                <p:cNvPr id="1046" name=""/>
                <p:cNvGrpSpPr/>
                <p:nvPr/>
              </p:nvGrpSpPr>
              <p:grpSpPr>
                <a:xfrm>
                  <a:off x="3652560" y="3359160"/>
                  <a:ext cx="74520" cy="28080"/>
                  <a:chOff x="3652560" y="3359160"/>
                  <a:chExt cx="74520" cy="28080"/>
                </a:xfrm>
              </p:grpSpPr>
              <p:sp>
                <p:nvSpPr>
                  <p:cNvPr id="1047" name=""/>
                  <p:cNvSpPr/>
                  <p:nvPr/>
                </p:nvSpPr>
                <p:spPr>
                  <a:xfrm>
                    <a:off x="3652560" y="335916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3700080" y="33606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9" name=""/>
                <p:cNvGrpSpPr/>
                <p:nvPr/>
              </p:nvGrpSpPr>
              <p:grpSpPr>
                <a:xfrm>
                  <a:off x="3571920" y="3409920"/>
                  <a:ext cx="231480" cy="156960"/>
                  <a:chOff x="3571920" y="3409920"/>
                  <a:chExt cx="231480" cy="156960"/>
                </a:xfrm>
              </p:grpSpPr>
              <p:grpSp>
                <p:nvGrpSpPr>
                  <p:cNvPr id="1050" name=""/>
                  <p:cNvGrpSpPr/>
                  <p:nvPr/>
                </p:nvGrpSpPr>
                <p:grpSpPr>
                  <a:xfrm>
                    <a:off x="3571920" y="3409920"/>
                    <a:ext cx="231480" cy="156960"/>
                    <a:chOff x="3571920" y="3409920"/>
                    <a:chExt cx="231480" cy="156960"/>
                  </a:xfrm>
                </p:grpSpPr>
                <p:sp>
                  <p:nvSpPr>
                    <p:cNvPr id="1051" name=""/>
                    <p:cNvSpPr/>
                    <p:nvPr/>
                  </p:nvSpPr>
                  <p:spPr>
                    <a:xfrm>
                      <a:off x="3571920" y="3409920"/>
                      <a:ext cx="231480" cy="15696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2" name=""/>
                    <p:cNvSpPr/>
                    <p:nvPr/>
                  </p:nvSpPr>
                  <p:spPr>
                    <a:xfrm flipV="1">
                      <a:off x="3571920" y="3412800"/>
                      <a:ext cx="114120" cy="1519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3" name=""/>
                    <p:cNvSpPr/>
                    <p:nvPr/>
                  </p:nvSpPr>
                  <p:spPr>
                    <a:xfrm>
                      <a:off x="3686040" y="3409920"/>
                      <a:ext cx="114480" cy="1537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4" name=""/>
                  <p:cNvSpPr/>
                  <p:nvPr/>
                </p:nvSpPr>
                <p:spPr>
                  <a:xfrm>
                    <a:off x="3673080" y="3474720"/>
                    <a:ext cx="28440" cy="26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055" name=""/>
            <p:cNvSpPr/>
            <p:nvPr/>
          </p:nvSpPr>
          <p:spPr>
            <a:xfrm>
              <a:off x="3532320" y="3060720"/>
              <a:ext cx="1753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306600" y="2878200"/>
              <a:ext cx="3240" cy="608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7" name=""/>
          <p:cNvGrpSpPr/>
          <p:nvPr/>
        </p:nvGrpSpPr>
        <p:grpSpPr>
          <a:xfrm>
            <a:off x="6105600" y="1442880"/>
            <a:ext cx="2623680" cy="879480"/>
            <a:chOff x="6105600" y="1442880"/>
            <a:chExt cx="2623680" cy="879480"/>
          </a:xfrm>
        </p:grpSpPr>
        <p:grpSp>
          <p:nvGrpSpPr>
            <p:cNvPr id="1058" name=""/>
            <p:cNvGrpSpPr/>
            <p:nvPr/>
          </p:nvGrpSpPr>
          <p:grpSpPr>
            <a:xfrm>
              <a:off x="6396120" y="1922400"/>
              <a:ext cx="1841400" cy="399960"/>
              <a:chOff x="6396120" y="1922400"/>
              <a:chExt cx="1841400" cy="399960"/>
            </a:xfrm>
          </p:grpSpPr>
          <p:sp>
            <p:nvSpPr>
              <p:cNvPr id="1059" name=""/>
              <p:cNvSpPr/>
              <p:nvPr/>
            </p:nvSpPr>
            <p:spPr>
              <a:xfrm>
                <a:off x="6634080" y="2106720"/>
                <a:ext cx="1603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Cavalry             RO-2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640560" y="1932120"/>
                <a:ext cx="838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6458040" y="1922400"/>
                <a:ext cx="0" cy="30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2" name=""/>
              <p:cNvGrpSpPr/>
              <p:nvPr/>
            </p:nvGrpSpPr>
            <p:grpSpPr>
              <a:xfrm>
                <a:off x="6396120" y="2125800"/>
                <a:ext cx="231840" cy="156960"/>
                <a:chOff x="6396120" y="2125800"/>
                <a:chExt cx="231840" cy="15696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6396120" y="2125800"/>
                  <a:ext cx="231840" cy="156960"/>
                </a:xfrm>
                <a:prstGeom prst="rect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 flipV="1">
                  <a:off x="6397920" y="2128680"/>
                  <a:ext cx="226800" cy="152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65" name=""/>
            <p:cNvSpPr/>
            <p:nvPr/>
          </p:nvSpPr>
          <p:spPr>
            <a:xfrm>
              <a:off x="6334200" y="1442880"/>
              <a:ext cx="175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HEADQUARTERS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640560" y="1604880"/>
              <a:ext cx="838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7" name=""/>
            <p:cNvGrpSpPr/>
            <p:nvPr/>
          </p:nvGrpSpPr>
          <p:grpSpPr>
            <a:xfrm>
              <a:off x="6105600" y="1766880"/>
              <a:ext cx="2623680" cy="230040"/>
              <a:chOff x="6105600" y="1766880"/>
              <a:chExt cx="2623680" cy="230040"/>
            </a:xfrm>
          </p:grpSpPr>
          <p:sp>
            <p:nvSpPr>
              <p:cNvPr id="1068" name=""/>
              <p:cNvSpPr/>
              <p:nvPr/>
            </p:nvSpPr>
            <p:spPr>
              <a:xfrm>
                <a:off x="6105600" y="1878120"/>
                <a:ext cx="352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648480" y="1781280"/>
                <a:ext cx="2080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Commander      RO-1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0" name=""/>
              <p:cNvGrpSpPr/>
              <p:nvPr/>
            </p:nvGrpSpPr>
            <p:grpSpPr>
              <a:xfrm>
                <a:off x="6402240" y="1766880"/>
                <a:ext cx="237960" cy="200160"/>
                <a:chOff x="6402240" y="1766880"/>
                <a:chExt cx="237960" cy="20016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6402240" y="1809720"/>
                  <a:ext cx="237960" cy="157320"/>
                </a:xfrm>
                <a:prstGeom prst="rect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6508440" y="176688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73" name=""/>
          <p:cNvGrpSpPr/>
          <p:nvPr/>
        </p:nvGrpSpPr>
        <p:grpSpPr>
          <a:xfrm>
            <a:off x="6119640" y="3346560"/>
            <a:ext cx="2649240" cy="444240"/>
            <a:chOff x="6119640" y="3346560"/>
            <a:chExt cx="2649240" cy="444240"/>
          </a:xfrm>
        </p:grpSpPr>
        <p:sp>
          <p:nvSpPr>
            <p:cNvPr id="1074" name=""/>
            <p:cNvSpPr/>
            <p:nvPr/>
          </p:nvSpPr>
          <p:spPr>
            <a:xfrm>
              <a:off x="6119640" y="367380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686640" y="3575160"/>
              <a:ext cx="208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mm Mortar                 RO-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360840" y="3346560"/>
              <a:ext cx="1257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Organic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7" name=""/>
            <p:cNvGrpSpPr/>
            <p:nvPr/>
          </p:nvGrpSpPr>
          <p:grpSpPr>
            <a:xfrm>
              <a:off x="6408360" y="3559320"/>
              <a:ext cx="239760" cy="192240"/>
              <a:chOff x="6408360" y="3559320"/>
              <a:chExt cx="239760" cy="192240"/>
            </a:xfrm>
          </p:grpSpPr>
          <p:grpSp>
            <p:nvGrpSpPr>
              <p:cNvPr id="1078" name=""/>
              <p:cNvGrpSpPr/>
              <p:nvPr/>
            </p:nvGrpSpPr>
            <p:grpSpPr>
              <a:xfrm>
                <a:off x="6483240" y="3559320"/>
                <a:ext cx="74520" cy="28080"/>
                <a:chOff x="6483240" y="3559320"/>
                <a:chExt cx="74520" cy="28080"/>
              </a:xfrm>
            </p:grpSpPr>
            <p:sp>
              <p:nvSpPr>
                <p:cNvPr id="1079" name=""/>
                <p:cNvSpPr/>
                <p:nvPr/>
              </p:nvSpPr>
              <p:spPr>
                <a:xfrm>
                  <a:off x="6483240" y="355932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6530760" y="356076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1" name=""/>
              <p:cNvGrpSpPr/>
              <p:nvPr/>
            </p:nvGrpSpPr>
            <p:grpSpPr>
              <a:xfrm>
                <a:off x="6408360" y="3594240"/>
                <a:ext cx="239760" cy="157320"/>
                <a:chOff x="6408360" y="3594240"/>
                <a:chExt cx="239760" cy="157320"/>
              </a:xfrm>
            </p:grpSpPr>
            <p:sp>
              <p:nvSpPr>
                <p:cNvPr id="1082" name=""/>
                <p:cNvSpPr/>
                <p:nvPr/>
              </p:nvSpPr>
              <p:spPr>
                <a:xfrm>
                  <a:off x="6408360" y="3594240"/>
                  <a:ext cx="239760" cy="157320"/>
                </a:xfrm>
                <a:prstGeom prst="rect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6492600" y="3719880"/>
                  <a:ext cx="68040" cy="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6524280" y="3614760"/>
                  <a:ext cx="0" cy="1065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85" name=""/>
          <p:cNvGrpSpPr/>
          <p:nvPr/>
        </p:nvGrpSpPr>
        <p:grpSpPr>
          <a:xfrm>
            <a:off x="5934240" y="1235160"/>
            <a:ext cx="2559960" cy="2431800"/>
            <a:chOff x="5934240" y="1235160"/>
            <a:chExt cx="2559960" cy="2431800"/>
          </a:xfrm>
        </p:grpSpPr>
        <p:grpSp>
          <p:nvGrpSpPr>
            <p:cNvPr id="1086" name=""/>
            <p:cNvGrpSpPr/>
            <p:nvPr/>
          </p:nvGrpSpPr>
          <p:grpSpPr>
            <a:xfrm>
              <a:off x="5934240" y="1235160"/>
              <a:ext cx="347040" cy="301320"/>
              <a:chOff x="5934240" y="1235160"/>
              <a:chExt cx="347040" cy="301320"/>
            </a:xfrm>
          </p:grpSpPr>
          <p:grpSp>
            <p:nvGrpSpPr>
              <p:cNvPr id="1087" name=""/>
              <p:cNvGrpSpPr/>
              <p:nvPr/>
            </p:nvGrpSpPr>
            <p:grpSpPr>
              <a:xfrm>
                <a:off x="5934240" y="1300320"/>
                <a:ext cx="347040" cy="236160"/>
                <a:chOff x="5934240" y="1300320"/>
                <a:chExt cx="347040" cy="236160"/>
              </a:xfrm>
            </p:grpSpPr>
            <p:sp>
              <p:nvSpPr>
                <p:cNvPr id="1088" name=""/>
                <p:cNvSpPr/>
                <p:nvPr/>
              </p:nvSpPr>
              <p:spPr>
                <a:xfrm>
                  <a:off x="5934240" y="1300320"/>
                  <a:ext cx="347040" cy="236160"/>
                </a:xfrm>
                <a:prstGeom prst="rect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 flipV="1">
                  <a:off x="5936760" y="1304640"/>
                  <a:ext cx="339480" cy="229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0" name=""/>
              <p:cNvGrpSpPr/>
              <p:nvPr/>
            </p:nvGrpSpPr>
            <p:grpSpPr>
              <a:xfrm>
                <a:off x="6065640" y="1235160"/>
                <a:ext cx="75960" cy="63720"/>
                <a:chOff x="6065640" y="1235160"/>
                <a:chExt cx="75960" cy="63720"/>
              </a:xfrm>
            </p:grpSpPr>
            <p:sp>
              <p:nvSpPr>
                <p:cNvPr id="1091" name=""/>
                <p:cNvSpPr/>
                <p:nvPr/>
              </p:nvSpPr>
              <p:spPr>
                <a:xfrm>
                  <a:off x="6065640" y="123516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6141600" y="123516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93" name=""/>
            <p:cNvSpPr/>
            <p:nvPr/>
          </p:nvSpPr>
          <p:spPr>
            <a:xfrm flipH="1">
              <a:off x="6105240" y="1546200"/>
              <a:ext cx="3240" cy="1401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4" name=""/>
            <p:cNvGrpSpPr/>
            <p:nvPr/>
          </p:nvGrpSpPr>
          <p:grpSpPr>
            <a:xfrm>
              <a:off x="6477120" y="2093760"/>
              <a:ext cx="74520" cy="28800"/>
              <a:chOff x="6477120" y="2093760"/>
              <a:chExt cx="74520" cy="28800"/>
            </a:xfrm>
          </p:grpSpPr>
          <p:sp>
            <p:nvSpPr>
              <p:cNvPr id="1095" name=""/>
              <p:cNvSpPr/>
              <p:nvPr/>
            </p:nvSpPr>
            <p:spPr>
              <a:xfrm>
                <a:off x="6477120" y="20937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524640" y="20955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7" name=""/>
            <p:cNvSpPr/>
            <p:nvPr/>
          </p:nvSpPr>
          <p:spPr>
            <a:xfrm>
              <a:off x="6262560" y="2401920"/>
              <a:ext cx="175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348240" y="2948040"/>
              <a:ext cx="1756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105600" y="2763720"/>
              <a:ext cx="0" cy="9032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0" name=""/>
            <p:cNvGrpSpPr/>
            <p:nvPr/>
          </p:nvGrpSpPr>
          <p:grpSpPr>
            <a:xfrm>
              <a:off x="6156360" y="3112920"/>
              <a:ext cx="2337840" cy="234720"/>
              <a:chOff x="6156360" y="3112920"/>
              <a:chExt cx="2337840" cy="234720"/>
            </a:xfrm>
          </p:grpSpPr>
          <p:sp>
            <p:nvSpPr>
              <p:cNvPr id="1101" name=""/>
              <p:cNvSpPr/>
              <p:nvPr/>
            </p:nvSpPr>
            <p:spPr>
              <a:xfrm>
                <a:off x="6156360" y="3241440"/>
                <a:ext cx="369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697440" y="3132000"/>
                <a:ext cx="1796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eavy Machine Gun      RO-1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3" name=""/>
              <p:cNvGrpSpPr/>
              <p:nvPr/>
            </p:nvGrpSpPr>
            <p:grpSpPr>
              <a:xfrm>
                <a:off x="6414840" y="3112920"/>
                <a:ext cx="245880" cy="216000"/>
                <a:chOff x="6414840" y="3112920"/>
                <a:chExt cx="245880" cy="216000"/>
              </a:xfrm>
            </p:grpSpPr>
            <p:grpSp>
              <p:nvGrpSpPr>
                <p:cNvPr id="1104" name=""/>
                <p:cNvGrpSpPr/>
                <p:nvPr/>
              </p:nvGrpSpPr>
              <p:grpSpPr>
                <a:xfrm>
                  <a:off x="6497280" y="3112920"/>
                  <a:ext cx="74520" cy="28800"/>
                  <a:chOff x="6497280" y="3112920"/>
                  <a:chExt cx="74520" cy="28800"/>
                </a:xfrm>
              </p:grpSpPr>
              <p:sp>
                <p:nvSpPr>
                  <p:cNvPr id="1105" name=""/>
                  <p:cNvSpPr/>
                  <p:nvPr/>
                </p:nvSpPr>
                <p:spPr>
                  <a:xfrm>
                    <a:off x="6497280" y="311292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6544800" y="31147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7" name=""/>
                <p:cNvGrpSpPr/>
                <p:nvPr/>
              </p:nvGrpSpPr>
              <p:grpSpPr>
                <a:xfrm>
                  <a:off x="6414840" y="3160440"/>
                  <a:ext cx="245880" cy="168480"/>
                  <a:chOff x="6414840" y="3160440"/>
                  <a:chExt cx="245880" cy="168480"/>
                </a:xfrm>
              </p:grpSpPr>
              <p:sp>
                <p:nvSpPr>
                  <p:cNvPr id="1108" name=""/>
                  <p:cNvSpPr/>
                  <p:nvPr/>
                </p:nvSpPr>
                <p:spPr>
                  <a:xfrm>
                    <a:off x="6414840" y="3160440"/>
                    <a:ext cx="245880" cy="16848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 flipV="1">
                    <a:off x="6425640" y="3174480"/>
                    <a:ext cx="220680" cy="128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6425640" y="3174840"/>
                    <a:ext cx="228600" cy="1396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6424200" y="3170160"/>
                    <a:ext cx="61920" cy="15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cc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12" name=""/>
            <p:cNvGrpSpPr/>
            <p:nvPr/>
          </p:nvGrpSpPr>
          <p:grpSpPr>
            <a:xfrm>
              <a:off x="6105600" y="2595600"/>
              <a:ext cx="2372760" cy="256680"/>
              <a:chOff x="6105600" y="2595600"/>
              <a:chExt cx="2372760" cy="256680"/>
            </a:xfrm>
          </p:grpSpPr>
          <p:sp>
            <p:nvSpPr>
              <p:cNvPr id="1113" name=""/>
              <p:cNvSpPr/>
              <p:nvPr/>
            </p:nvSpPr>
            <p:spPr>
              <a:xfrm>
                <a:off x="6105600" y="2752560"/>
                <a:ext cx="352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669000" y="2635200"/>
                <a:ext cx="1809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4 Cavalry Company      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0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5" name=""/>
              <p:cNvGrpSpPr/>
              <p:nvPr/>
            </p:nvGrpSpPr>
            <p:grpSpPr>
              <a:xfrm>
                <a:off x="6416640" y="2595600"/>
                <a:ext cx="283320" cy="256680"/>
                <a:chOff x="6416640" y="2595600"/>
                <a:chExt cx="283320" cy="25668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6557400" y="25956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7" name=""/>
                <p:cNvGrpSpPr/>
                <p:nvPr/>
              </p:nvGrpSpPr>
              <p:grpSpPr>
                <a:xfrm>
                  <a:off x="6416640" y="2658960"/>
                  <a:ext cx="283320" cy="193320"/>
                  <a:chOff x="6416640" y="2658960"/>
                  <a:chExt cx="283320" cy="193320"/>
                </a:xfrm>
              </p:grpSpPr>
              <p:sp>
                <p:nvSpPr>
                  <p:cNvPr id="1118" name=""/>
                  <p:cNvSpPr/>
                  <p:nvPr/>
                </p:nvSpPr>
                <p:spPr>
                  <a:xfrm>
                    <a:off x="6416640" y="2658960"/>
                    <a:ext cx="283320" cy="19332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 flipV="1">
                    <a:off x="6418800" y="2662200"/>
                    <a:ext cx="277200" cy="1879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120" name=""/>
          <p:cNvSpPr/>
          <p:nvPr/>
        </p:nvSpPr>
        <p:spPr>
          <a:xfrm>
            <a:off x="5686560" y="741240"/>
            <a:ext cx="1923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Battle Group-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valry Battalion (Cavalr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 BG-12-&gt;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571680" y="407880"/>
            <a:ext cx="5679720" cy="6276960"/>
            <a:chOff x="571680" y="407880"/>
            <a:chExt cx="5679720" cy="6276960"/>
          </a:xfrm>
        </p:grpSpPr>
        <p:sp>
          <p:nvSpPr>
            <p:cNvPr id="1123" name=""/>
            <p:cNvSpPr/>
            <p:nvPr/>
          </p:nvSpPr>
          <p:spPr>
            <a:xfrm>
              <a:off x="571680" y="407880"/>
              <a:ext cx="15476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9900"/>
                  </a:solidFill>
                  <a:latin typeface="Arial"/>
                </a:rPr>
                <a:t>Battle Group-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antry Regi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4" name=""/>
            <p:cNvGrpSpPr/>
            <p:nvPr/>
          </p:nvGrpSpPr>
          <p:grpSpPr>
            <a:xfrm>
              <a:off x="741240" y="6240600"/>
              <a:ext cx="2647800" cy="444240"/>
              <a:chOff x="741240" y="6240600"/>
              <a:chExt cx="2647800" cy="444240"/>
            </a:xfrm>
          </p:grpSpPr>
          <p:sp>
            <p:nvSpPr>
              <p:cNvPr id="1125" name=""/>
              <p:cNvSpPr/>
              <p:nvPr/>
            </p:nvSpPr>
            <p:spPr>
              <a:xfrm>
                <a:off x="741240" y="656784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1307880" y="646920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1mm Mortar                      RO-1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982440" y="6240600"/>
                <a:ext cx="1257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Organic Fire Sup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8" name=""/>
              <p:cNvGrpSpPr/>
              <p:nvPr/>
            </p:nvGrpSpPr>
            <p:grpSpPr>
              <a:xfrm>
                <a:off x="1029960" y="6453360"/>
                <a:ext cx="239760" cy="192240"/>
                <a:chOff x="1029960" y="6453360"/>
                <a:chExt cx="239760" cy="192240"/>
              </a:xfrm>
            </p:grpSpPr>
            <p:grpSp>
              <p:nvGrpSpPr>
                <p:cNvPr id="1129" name=""/>
                <p:cNvGrpSpPr/>
                <p:nvPr/>
              </p:nvGrpSpPr>
              <p:grpSpPr>
                <a:xfrm>
                  <a:off x="1104840" y="6453360"/>
                  <a:ext cx="74520" cy="28080"/>
                  <a:chOff x="1104840" y="6453360"/>
                  <a:chExt cx="74520" cy="28080"/>
                </a:xfrm>
              </p:grpSpPr>
              <p:sp>
                <p:nvSpPr>
                  <p:cNvPr id="1130" name=""/>
                  <p:cNvSpPr/>
                  <p:nvPr/>
                </p:nvSpPr>
                <p:spPr>
                  <a:xfrm>
                    <a:off x="1104840" y="645336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1152360" y="64548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2" name=""/>
                <p:cNvGrpSpPr/>
                <p:nvPr/>
              </p:nvGrpSpPr>
              <p:grpSpPr>
                <a:xfrm>
                  <a:off x="1029960" y="6488280"/>
                  <a:ext cx="239760" cy="157320"/>
                  <a:chOff x="1029960" y="6488280"/>
                  <a:chExt cx="239760" cy="157320"/>
                </a:xfrm>
              </p:grpSpPr>
              <p:sp>
                <p:nvSpPr>
                  <p:cNvPr id="1133" name=""/>
                  <p:cNvSpPr/>
                  <p:nvPr/>
                </p:nvSpPr>
                <p:spPr>
                  <a:xfrm>
                    <a:off x="1029960" y="6488280"/>
                    <a:ext cx="239760" cy="15732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1114200" y="6613920"/>
                    <a:ext cx="6804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1145880" y="6508800"/>
                    <a:ext cx="0" cy="10656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36" name=""/>
            <p:cNvSpPr/>
            <p:nvPr/>
          </p:nvSpPr>
          <p:spPr>
            <a:xfrm flipH="1">
              <a:off x="742680" y="4487760"/>
              <a:ext cx="3240" cy="2079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7" name=""/>
            <p:cNvGrpSpPr/>
            <p:nvPr/>
          </p:nvGrpSpPr>
          <p:grpSpPr>
            <a:xfrm>
              <a:off x="746280" y="1978200"/>
              <a:ext cx="3263400" cy="528840"/>
              <a:chOff x="746280" y="1978200"/>
              <a:chExt cx="3263400" cy="528840"/>
            </a:xfrm>
          </p:grpSpPr>
          <p:sp>
            <p:nvSpPr>
              <p:cNvPr id="1138" name=""/>
              <p:cNvSpPr/>
              <p:nvPr/>
            </p:nvSpPr>
            <p:spPr>
              <a:xfrm>
                <a:off x="925560" y="1978200"/>
                <a:ext cx="1753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BATTLE GROUP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46280" y="2334960"/>
                <a:ext cx="352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1413000" y="2223720"/>
                <a:ext cx="259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Infantry Battalion   </a:t>
                </a:r>
                <a:r>
                  <a:rPr b="1" lang="en-US" sz="800" spc="-1" strike="noStrike">
                    <a:solidFill>
                      <a:srgbClr val="669900"/>
                    </a:solidFill>
                    <a:latin typeface="Arial"/>
                  </a:rPr>
                  <a:t>BG-1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1" name=""/>
              <p:cNvGrpSpPr/>
              <p:nvPr/>
            </p:nvGrpSpPr>
            <p:grpSpPr>
              <a:xfrm>
                <a:off x="1085760" y="2152440"/>
                <a:ext cx="346680" cy="354600"/>
                <a:chOff x="1085760" y="2152440"/>
                <a:chExt cx="346680" cy="354600"/>
              </a:xfrm>
            </p:grpSpPr>
            <p:grpSp>
              <p:nvGrpSpPr>
                <p:cNvPr id="1142" name=""/>
                <p:cNvGrpSpPr/>
                <p:nvPr/>
              </p:nvGrpSpPr>
              <p:grpSpPr>
                <a:xfrm>
                  <a:off x="1221840" y="2152440"/>
                  <a:ext cx="75960" cy="63360"/>
                  <a:chOff x="1221840" y="2152440"/>
                  <a:chExt cx="75960" cy="63360"/>
                </a:xfrm>
              </p:grpSpPr>
              <p:sp>
                <p:nvSpPr>
                  <p:cNvPr id="1143" name=""/>
                  <p:cNvSpPr/>
                  <p:nvPr/>
                </p:nvSpPr>
                <p:spPr>
                  <a:xfrm>
                    <a:off x="1221840" y="21524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1297800" y="21524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5" name=""/>
                <p:cNvGrpSpPr/>
                <p:nvPr/>
              </p:nvGrpSpPr>
              <p:grpSpPr>
                <a:xfrm>
                  <a:off x="1085760" y="2211120"/>
                  <a:ext cx="346680" cy="295920"/>
                  <a:chOff x="1085760" y="2211120"/>
                  <a:chExt cx="346680" cy="295920"/>
                </a:xfrm>
              </p:grpSpPr>
              <p:grpSp>
                <p:nvGrpSpPr>
                  <p:cNvPr id="1146" name=""/>
                  <p:cNvGrpSpPr/>
                  <p:nvPr/>
                </p:nvGrpSpPr>
                <p:grpSpPr>
                  <a:xfrm>
                    <a:off x="1085760" y="2211120"/>
                    <a:ext cx="346680" cy="234000"/>
                    <a:chOff x="1085760" y="2211120"/>
                    <a:chExt cx="346680" cy="234000"/>
                  </a:xfrm>
                </p:grpSpPr>
                <p:sp>
                  <p:nvSpPr>
                    <p:cNvPr id="1147" name=""/>
                    <p:cNvSpPr/>
                    <p:nvPr/>
                  </p:nvSpPr>
                  <p:spPr>
                    <a:xfrm>
                      <a:off x="1085760" y="2211120"/>
                      <a:ext cx="346680" cy="23400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8" name=""/>
                    <p:cNvSpPr/>
                    <p:nvPr/>
                  </p:nvSpPr>
                  <p:spPr>
                    <a:xfrm flipV="1">
                      <a:off x="1089360" y="2214720"/>
                      <a:ext cx="338040" cy="2289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9" name=""/>
                    <p:cNvSpPr/>
                    <p:nvPr/>
                  </p:nvSpPr>
                  <p:spPr>
                    <a:xfrm>
                      <a:off x="1085760" y="2214720"/>
                      <a:ext cx="345240" cy="2232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50" name=""/>
                  <p:cNvSpPr/>
                  <p:nvPr/>
                </p:nvSpPr>
                <p:spPr>
                  <a:xfrm>
                    <a:off x="1101960" y="2467080"/>
                    <a:ext cx="40320" cy="3996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1373400" y="2467080"/>
                    <a:ext cx="43200" cy="3996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52" name=""/>
            <p:cNvGrpSpPr/>
            <p:nvPr/>
          </p:nvGrpSpPr>
          <p:grpSpPr>
            <a:xfrm>
              <a:off x="743040" y="2706840"/>
              <a:ext cx="3103560" cy="274320"/>
              <a:chOff x="743040" y="2706840"/>
              <a:chExt cx="3103560" cy="274320"/>
            </a:xfrm>
          </p:grpSpPr>
          <p:sp>
            <p:nvSpPr>
              <p:cNvPr id="1153" name=""/>
              <p:cNvSpPr/>
              <p:nvPr/>
            </p:nvSpPr>
            <p:spPr>
              <a:xfrm>
                <a:off x="743040" y="287640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1409760" y="2765520"/>
                <a:ext cx="2436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Infantry Company                 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0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5" name=""/>
              <p:cNvGrpSpPr/>
              <p:nvPr/>
            </p:nvGrpSpPr>
            <p:grpSpPr>
              <a:xfrm>
                <a:off x="1036800" y="2706840"/>
                <a:ext cx="284040" cy="266400"/>
                <a:chOff x="1036800" y="2706840"/>
                <a:chExt cx="284040" cy="26640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1182960" y="27068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7" name=""/>
                <p:cNvGrpSpPr/>
                <p:nvPr/>
              </p:nvGrpSpPr>
              <p:grpSpPr>
                <a:xfrm>
                  <a:off x="1036800" y="2779560"/>
                  <a:ext cx="284040" cy="193680"/>
                  <a:chOff x="1036800" y="2779560"/>
                  <a:chExt cx="284040" cy="193680"/>
                </a:xfrm>
              </p:grpSpPr>
              <p:sp>
                <p:nvSpPr>
                  <p:cNvPr id="1158" name=""/>
                  <p:cNvSpPr/>
                  <p:nvPr/>
                </p:nvSpPr>
                <p:spPr>
                  <a:xfrm>
                    <a:off x="1036800" y="2779560"/>
                    <a:ext cx="284040" cy="19368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 flipV="1">
                    <a:off x="1039680" y="2782440"/>
                    <a:ext cx="276480" cy="189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1036800" y="2782440"/>
                    <a:ext cx="282600" cy="1846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61" name=""/>
            <p:cNvSpPr/>
            <p:nvPr/>
          </p:nvSpPr>
          <p:spPr>
            <a:xfrm>
              <a:off x="905040" y="2508120"/>
              <a:ext cx="1753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909720" y="4692600"/>
              <a:ext cx="175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43040" y="1208160"/>
              <a:ext cx="3240" cy="327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4" name=""/>
            <p:cNvGrpSpPr/>
            <p:nvPr/>
          </p:nvGrpSpPr>
          <p:grpSpPr>
            <a:xfrm>
              <a:off x="747720" y="3298680"/>
              <a:ext cx="2847960" cy="1408680"/>
              <a:chOff x="747720" y="3298680"/>
              <a:chExt cx="2847960" cy="1408680"/>
            </a:xfrm>
          </p:grpSpPr>
          <p:sp>
            <p:nvSpPr>
              <p:cNvPr id="1165" name=""/>
              <p:cNvSpPr/>
              <p:nvPr/>
            </p:nvSpPr>
            <p:spPr>
              <a:xfrm>
                <a:off x="1498320" y="4049640"/>
                <a:ext cx="803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O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076040" y="3298680"/>
                <a:ext cx="1753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FIRE SUPPORT EL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7" name=""/>
              <p:cNvGrpSpPr/>
              <p:nvPr/>
            </p:nvGrpSpPr>
            <p:grpSpPr>
              <a:xfrm>
                <a:off x="757080" y="3571920"/>
                <a:ext cx="2626560" cy="443520"/>
                <a:chOff x="757080" y="3571920"/>
                <a:chExt cx="2626560" cy="44352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1436400" y="3614760"/>
                  <a:ext cx="194724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Light Artillery Battalion       </a:t>
                  </a:r>
                  <a:r>
                    <a:rPr b="1" lang="en-US" sz="800" spc="-1" strike="noStrike">
                      <a:solidFill>
                        <a:srgbClr val="669900"/>
                      </a:solidFill>
                      <a:latin typeface="Arial"/>
                    </a:rPr>
                    <a:t>FS-0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2 per Division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757080" y="3719520"/>
                  <a:ext cx="352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0" name=""/>
                <p:cNvGrpSpPr/>
                <p:nvPr/>
              </p:nvGrpSpPr>
              <p:grpSpPr>
                <a:xfrm>
                  <a:off x="1112400" y="3571920"/>
                  <a:ext cx="291240" cy="247320"/>
                  <a:chOff x="1112400" y="3571920"/>
                  <a:chExt cx="291240" cy="247320"/>
                </a:xfrm>
              </p:grpSpPr>
              <p:grpSp>
                <p:nvGrpSpPr>
                  <p:cNvPr id="1171" name=""/>
                  <p:cNvGrpSpPr/>
                  <p:nvPr/>
                </p:nvGrpSpPr>
                <p:grpSpPr>
                  <a:xfrm>
                    <a:off x="1112400" y="3629160"/>
                    <a:ext cx="291240" cy="190080"/>
                    <a:chOff x="1112400" y="3629160"/>
                    <a:chExt cx="291240" cy="190080"/>
                  </a:xfrm>
                </p:grpSpPr>
                <p:sp>
                  <p:nvSpPr>
                    <p:cNvPr id="1172" name=""/>
                    <p:cNvSpPr/>
                    <p:nvPr/>
                  </p:nvSpPr>
                  <p:spPr>
                    <a:xfrm>
                      <a:off x="1112400" y="3629160"/>
                      <a:ext cx="291240" cy="19008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3" name=""/>
                    <p:cNvSpPr/>
                    <p:nvPr/>
                  </p:nvSpPr>
                  <p:spPr>
                    <a:xfrm>
                      <a:off x="1237680" y="3702240"/>
                      <a:ext cx="34560" cy="32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74" name=""/>
                  <p:cNvGrpSpPr/>
                  <p:nvPr/>
                </p:nvGrpSpPr>
                <p:grpSpPr>
                  <a:xfrm>
                    <a:off x="1220040" y="3571920"/>
                    <a:ext cx="75960" cy="63720"/>
                    <a:chOff x="1220040" y="3571920"/>
                    <a:chExt cx="75960" cy="63720"/>
                  </a:xfrm>
                </p:grpSpPr>
                <p:sp>
                  <p:nvSpPr>
                    <p:cNvPr id="1175" name=""/>
                    <p:cNvSpPr/>
                    <p:nvPr/>
                  </p:nvSpPr>
                  <p:spPr>
                    <a:xfrm>
                      <a:off x="1220040" y="3571920"/>
                      <a:ext cx="0" cy="6372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920" bIns="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6" name=""/>
                    <p:cNvSpPr/>
                    <p:nvPr/>
                  </p:nvSpPr>
                  <p:spPr>
                    <a:xfrm>
                      <a:off x="1296000" y="3571920"/>
                      <a:ext cx="0" cy="6372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920" bIns="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177" name=""/>
              <p:cNvGrpSpPr/>
              <p:nvPr/>
            </p:nvGrpSpPr>
            <p:grpSpPr>
              <a:xfrm>
                <a:off x="747720" y="4263840"/>
                <a:ext cx="2847960" cy="443520"/>
                <a:chOff x="747720" y="4263840"/>
                <a:chExt cx="2847960" cy="443520"/>
              </a:xfrm>
            </p:grpSpPr>
            <p:sp>
              <p:nvSpPr>
                <p:cNvPr id="1178" name=""/>
                <p:cNvSpPr/>
                <p:nvPr/>
              </p:nvSpPr>
              <p:spPr>
                <a:xfrm>
                  <a:off x="1427040" y="4306680"/>
                  <a:ext cx="216864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Medium Howitzer Battalion    </a:t>
                  </a:r>
                  <a:r>
                    <a:rPr b="1" lang="en-US" sz="800" spc="-1" strike="noStrike">
                      <a:solidFill>
                        <a:srgbClr val="669900"/>
                      </a:solidFill>
                      <a:latin typeface="Arial"/>
                    </a:rPr>
                    <a:t>FS-0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1 per Division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747720" y="441144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0" name=""/>
                <p:cNvGrpSpPr/>
                <p:nvPr/>
              </p:nvGrpSpPr>
              <p:grpSpPr>
                <a:xfrm>
                  <a:off x="1103400" y="4263840"/>
                  <a:ext cx="291600" cy="247320"/>
                  <a:chOff x="1103400" y="4263840"/>
                  <a:chExt cx="291600" cy="247320"/>
                </a:xfrm>
              </p:grpSpPr>
              <p:grpSp>
                <p:nvGrpSpPr>
                  <p:cNvPr id="1181" name=""/>
                  <p:cNvGrpSpPr/>
                  <p:nvPr/>
                </p:nvGrpSpPr>
                <p:grpSpPr>
                  <a:xfrm>
                    <a:off x="1103400" y="4321080"/>
                    <a:ext cx="291600" cy="190080"/>
                    <a:chOff x="1103400" y="4321080"/>
                    <a:chExt cx="291600" cy="190080"/>
                  </a:xfrm>
                </p:grpSpPr>
                <p:sp>
                  <p:nvSpPr>
                    <p:cNvPr id="1182" name=""/>
                    <p:cNvSpPr/>
                    <p:nvPr/>
                  </p:nvSpPr>
                  <p:spPr>
                    <a:xfrm>
                      <a:off x="1103400" y="4321080"/>
                      <a:ext cx="291600" cy="19008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3" name=""/>
                    <p:cNvSpPr/>
                    <p:nvPr/>
                  </p:nvSpPr>
                  <p:spPr>
                    <a:xfrm>
                      <a:off x="1229040" y="4394160"/>
                      <a:ext cx="34560" cy="32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84" name=""/>
                  <p:cNvGrpSpPr/>
                  <p:nvPr/>
                </p:nvGrpSpPr>
                <p:grpSpPr>
                  <a:xfrm>
                    <a:off x="1211400" y="4263840"/>
                    <a:ext cx="76320" cy="63720"/>
                    <a:chOff x="1211400" y="4263840"/>
                    <a:chExt cx="76320" cy="63720"/>
                  </a:xfrm>
                </p:grpSpPr>
                <p:sp>
                  <p:nvSpPr>
                    <p:cNvPr id="1185" name=""/>
                    <p:cNvSpPr/>
                    <p:nvPr/>
                  </p:nvSpPr>
                  <p:spPr>
                    <a:xfrm>
                      <a:off x="1211400" y="4263840"/>
                      <a:ext cx="0" cy="6372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920" bIns="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6" name=""/>
                    <p:cNvSpPr/>
                    <p:nvPr/>
                  </p:nvSpPr>
                  <p:spPr>
                    <a:xfrm>
                      <a:off x="1287720" y="4263840"/>
                      <a:ext cx="0" cy="6372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920" bIns="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187" name=""/>
              <p:cNvSpPr/>
              <p:nvPr/>
            </p:nvSpPr>
            <p:spPr>
              <a:xfrm>
                <a:off x="933120" y="3513240"/>
                <a:ext cx="0" cy="11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933120" y="3513240"/>
                <a:ext cx="10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933120" y="4647960"/>
                <a:ext cx="10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0" name=""/>
            <p:cNvGrpSpPr/>
            <p:nvPr/>
          </p:nvGrpSpPr>
          <p:grpSpPr>
            <a:xfrm>
              <a:off x="571680" y="896760"/>
              <a:ext cx="347040" cy="295200"/>
              <a:chOff x="571680" y="896760"/>
              <a:chExt cx="347040" cy="295200"/>
            </a:xfrm>
          </p:grpSpPr>
          <p:grpSp>
            <p:nvGrpSpPr>
              <p:cNvPr id="1191" name=""/>
              <p:cNvGrpSpPr/>
              <p:nvPr/>
            </p:nvGrpSpPr>
            <p:grpSpPr>
              <a:xfrm>
                <a:off x="679320" y="896760"/>
                <a:ext cx="131760" cy="63720"/>
                <a:chOff x="679320" y="896760"/>
                <a:chExt cx="131760" cy="63720"/>
              </a:xfrm>
            </p:grpSpPr>
            <p:sp>
              <p:nvSpPr>
                <p:cNvPr id="1192" name=""/>
                <p:cNvSpPr/>
                <p:nvPr/>
              </p:nvSpPr>
              <p:spPr>
                <a:xfrm>
                  <a:off x="745920" y="89676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93" name=""/>
                <p:cNvGrpSpPr/>
                <p:nvPr/>
              </p:nvGrpSpPr>
              <p:grpSpPr>
                <a:xfrm>
                  <a:off x="679320" y="896760"/>
                  <a:ext cx="131760" cy="63720"/>
                  <a:chOff x="679320" y="896760"/>
                  <a:chExt cx="131760" cy="63720"/>
                </a:xfrm>
              </p:grpSpPr>
              <p:sp>
                <p:nvSpPr>
                  <p:cNvPr id="1194" name=""/>
                  <p:cNvSpPr/>
                  <p:nvPr/>
                </p:nvSpPr>
                <p:spPr>
                  <a:xfrm>
                    <a:off x="679320" y="89676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811080" y="89676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96" name=""/>
              <p:cNvGrpSpPr/>
              <p:nvPr/>
            </p:nvGrpSpPr>
            <p:grpSpPr>
              <a:xfrm>
                <a:off x="571680" y="957240"/>
                <a:ext cx="347040" cy="234720"/>
                <a:chOff x="571680" y="957240"/>
                <a:chExt cx="347040" cy="234720"/>
              </a:xfrm>
            </p:grpSpPr>
            <p:sp>
              <p:nvSpPr>
                <p:cNvPr id="1197" name=""/>
                <p:cNvSpPr/>
                <p:nvPr/>
              </p:nvSpPr>
              <p:spPr>
                <a:xfrm>
                  <a:off x="571680" y="957240"/>
                  <a:ext cx="347040" cy="234720"/>
                </a:xfrm>
                <a:prstGeom prst="rect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 flipV="1">
                  <a:off x="575280" y="960840"/>
                  <a:ext cx="338400" cy="229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571680" y="960840"/>
                  <a:ext cx="345600" cy="223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0" name=""/>
            <p:cNvGrpSpPr/>
            <p:nvPr/>
          </p:nvGrpSpPr>
          <p:grpSpPr>
            <a:xfrm>
              <a:off x="746280" y="1100160"/>
              <a:ext cx="2623680" cy="866880"/>
              <a:chOff x="746280" y="1100160"/>
              <a:chExt cx="2623680" cy="866880"/>
            </a:xfrm>
          </p:grpSpPr>
          <p:sp>
            <p:nvSpPr>
              <p:cNvPr id="1201" name=""/>
              <p:cNvSpPr/>
              <p:nvPr/>
            </p:nvSpPr>
            <p:spPr>
              <a:xfrm>
                <a:off x="974880" y="1100160"/>
                <a:ext cx="1753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HEADQUARTERS EL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281240" y="1262160"/>
                <a:ext cx="838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H="1">
                <a:off x="1081080" y="1566720"/>
                <a:ext cx="7920" cy="28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4" name=""/>
              <p:cNvGrpSpPr/>
              <p:nvPr/>
            </p:nvGrpSpPr>
            <p:grpSpPr>
              <a:xfrm>
                <a:off x="746280" y="1424160"/>
                <a:ext cx="2623680" cy="230040"/>
                <a:chOff x="746280" y="1424160"/>
                <a:chExt cx="2623680" cy="230040"/>
              </a:xfrm>
            </p:grpSpPr>
            <p:sp>
              <p:nvSpPr>
                <p:cNvPr id="1205" name=""/>
                <p:cNvSpPr/>
                <p:nvPr/>
              </p:nvSpPr>
              <p:spPr>
                <a:xfrm>
                  <a:off x="746280" y="1535400"/>
                  <a:ext cx="352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1289160" y="1438560"/>
                  <a:ext cx="20808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Commander      RO-1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07" name=""/>
                <p:cNvGrpSpPr/>
                <p:nvPr/>
              </p:nvGrpSpPr>
              <p:grpSpPr>
                <a:xfrm>
                  <a:off x="1042920" y="1424160"/>
                  <a:ext cx="237960" cy="200160"/>
                  <a:chOff x="1042920" y="1424160"/>
                  <a:chExt cx="237960" cy="200160"/>
                </a:xfrm>
              </p:grpSpPr>
              <p:sp>
                <p:nvSpPr>
                  <p:cNvPr id="1208" name=""/>
                  <p:cNvSpPr/>
                  <p:nvPr/>
                </p:nvSpPr>
                <p:spPr>
                  <a:xfrm>
                    <a:off x="1042920" y="1467000"/>
                    <a:ext cx="237960" cy="15732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1149120" y="14241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10" name=""/>
              <p:cNvGrpSpPr/>
              <p:nvPr/>
            </p:nvGrpSpPr>
            <p:grpSpPr>
              <a:xfrm>
                <a:off x="1050840" y="1731960"/>
                <a:ext cx="2316240" cy="235080"/>
                <a:chOff x="1050840" y="1731960"/>
                <a:chExt cx="2316240" cy="235080"/>
              </a:xfrm>
            </p:grpSpPr>
            <p:sp>
              <p:nvSpPr>
                <p:cNvPr id="1211" name=""/>
                <p:cNvSpPr/>
                <p:nvPr/>
              </p:nvSpPr>
              <p:spPr>
                <a:xfrm>
                  <a:off x="1285920" y="174456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Kubelwagen      GE-3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2" name=""/>
                <p:cNvGrpSpPr/>
                <p:nvPr/>
              </p:nvGrpSpPr>
              <p:grpSpPr>
                <a:xfrm>
                  <a:off x="1050840" y="1731960"/>
                  <a:ext cx="231840" cy="235080"/>
                  <a:chOff x="1050840" y="1731960"/>
                  <a:chExt cx="231840" cy="235080"/>
                </a:xfrm>
              </p:grpSpPr>
              <p:grpSp>
                <p:nvGrpSpPr>
                  <p:cNvPr id="1213" name=""/>
                  <p:cNvGrpSpPr/>
                  <p:nvPr/>
                </p:nvGrpSpPr>
                <p:grpSpPr>
                  <a:xfrm>
                    <a:off x="1050840" y="1776600"/>
                    <a:ext cx="231840" cy="190440"/>
                    <a:chOff x="1050840" y="1776600"/>
                    <a:chExt cx="231840" cy="190440"/>
                  </a:xfrm>
                </p:grpSpPr>
                <p:sp>
                  <p:nvSpPr>
                    <p:cNvPr id="1214" name=""/>
                    <p:cNvSpPr/>
                    <p:nvPr/>
                  </p:nvSpPr>
                  <p:spPr>
                    <a:xfrm>
                      <a:off x="1050840" y="1776600"/>
                      <a:ext cx="231840" cy="15696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5" name=""/>
                    <p:cNvSpPr/>
                    <p:nvPr/>
                  </p:nvSpPr>
                  <p:spPr>
                    <a:xfrm>
                      <a:off x="1062000" y="1940040"/>
                      <a:ext cx="27000" cy="27000"/>
                    </a:xfrm>
                    <a:prstGeom prst="ellipse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6" name=""/>
                    <p:cNvSpPr/>
                    <p:nvPr/>
                  </p:nvSpPr>
                  <p:spPr>
                    <a:xfrm>
                      <a:off x="1243080" y="1940040"/>
                      <a:ext cx="28440" cy="27000"/>
                    </a:xfrm>
                    <a:prstGeom prst="ellipse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17" name=""/>
                  <p:cNvGrpSpPr/>
                  <p:nvPr/>
                </p:nvGrpSpPr>
                <p:grpSpPr>
                  <a:xfrm>
                    <a:off x="1128600" y="1731960"/>
                    <a:ext cx="74520" cy="28080"/>
                    <a:chOff x="1128600" y="1731960"/>
                    <a:chExt cx="74520" cy="28080"/>
                  </a:xfrm>
                </p:grpSpPr>
                <p:sp>
                  <p:nvSpPr>
                    <p:cNvPr id="1218" name=""/>
                    <p:cNvSpPr/>
                    <p:nvPr/>
                  </p:nvSpPr>
                  <p:spPr>
                    <a:xfrm>
                      <a:off x="1128600" y="173196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9" name=""/>
                    <p:cNvSpPr/>
                    <p:nvPr/>
                  </p:nvSpPr>
                  <p:spPr>
                    <a:xfrm>
                      <a:off x="1176120" y="173340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220" name=""/>
              <p:cNvSpPr/>
              <p:nvPr/>
            </p:nvSpPr>
            <p:spPr>
              <a:xfrm>
                <a:off x="1349280" y="1608120"/>
                <a:ext cx="838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1" name=""/>
            <p:cNvGrpSpPr/>
            <p:nvPr/>
          </p:nvGrpSpPr>
          <p:grpSpPr>
            <a:xfrm>
              <a:off x="743040" y="3046320"/>
              <a:ext cx="2843280" cy="256680"/>
              <a:chOff x="743040" y="3046320"/>
              <a:chExt cx="2843280" cy="256680"/>
            </a:xfrm>
          </p:grpSpPr>
          <p:sp>
            <p:nvSpPr>
              <p:cNvPr id="1222" name=""/>
              <p:cNvSpPr/>
              <p:nvPr/>
            </p:nvSpPr>
            <p:spPr>
              <a:xfrm>
                <a:off x="743040" y="320364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306440" y="3086280"/>
                <a:ext cx="2279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Cavalry Company (Recon)     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0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4" name=""/>
              <p:cNvGrpSpPr/>
              <p:nvPr/>
            </p:nvGrpSpPr>
            <p:grpSpPr>
              <a:xfrm>
                <a:off x="1054080" y="3046320"/>
                <a:ext cx="283680" cy="256680"/>
                <a:chOff x="1054080" y="3046320"/>
                <a:chExt cx="283680" cy="256680"/>
              </a:xfrm>
            </p:grpSpPr>
            <p:sp>
              <p:nvSpPr>
                <p:cNvPr id="1225" name=""/>
                <p:cNvSpPr/>
                <p:nvPr/>
              </p:nvSpPr>
              <p:spPr>
                <a:xfrm>
                  <a:off x="1195200" y="30463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6" name=""/>
                <p:cNvGrpSpPr/>
                <p:nvPr/>
              </p:nvGrpSpPr>
              <p:grpSpPr>
                <a:xfrm>
                  <a:off x="1054080" y="3109680"/>
                  <a:ext cx="283680" cy="193320"/>
                  <a:chOff x="1054080" y="3109680"/>
                  <a:chExt cx="283680" cy="193320"/>
                </a:xfrm>
              </p:grpSpPr>
              <p:sp>
                <p:nvSpPr>
                  <p:cNvPr id="1227" name=""/>
                  <p:cNvSpPr/>
                  <p:nvPr/>
                </p:nvSpPr>
                <p:spPr>
                  <a:xfrm>
                    <a:off x="1054080" y="3109680"/>
                    <a:ext cx="283680" cy="19332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 flipV="1">
                    <a:off x="1056240" y="3112920"/>
                    <a:ext cx="277560" cy="1879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29" name=""/>
            <p:cNvGrpSpPr/>
            <p:nvPr/>
          </p:nvGrpSpPr>
          <p:grpSpPr>
            <a:xfrm>
              <a:off x="741240" y="5183280"/>
              <a:ext cx="2622600" cy="534960"/>
              <a:chOff x="741240" y="5183280"/>
              <a:chExt cx="2622600" cy="534960"/>
            </a:xfrm>
          </p:grpSpPr>
          <p:sp>
            <p:nvSpPr>
              <p:cNvPr id="1230" name=""/>
              <p:cNvSpPr/>
              <p:nvPr/>
            </p:nvSpPr>
            <p:spPr>
              <a:xfrm>
                <a:off x="1071720" y="5330880"/>
                <a:ext cx="0" cy="28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1265400" y="549108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orse Transport                   GE-3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1319400" y="533088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741240" y="531180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282680" y="520236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7mm AT Gun                      RO-1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5" name=""/>
              <p:cNvGrpSpPr/>
              <p:nvPr/>
            </p:nvGrpSpPr>
            <p:grpSpPr>
              <a:xfrm>
                <a:off x="1001880" y="5473800"/>
                <a:ext cx="231480" cy="244440"/>
                <a:chOff x="1001880" y="5473800"/>
                <a:chExt cx="231480" cy="244440"/>
              </a:xfrm>
            </p:grpSpPr>
            <p:grpSp>
              <p:nvGrpSpPr>
                <p:cNvPr id="1236" name=""/>
                <p:cNvGrpSpPr/>
                <p:nvPr/>
              </p:nvGrpSpPr>
              <p:grpSpPr>
                <a:xfrm>
                  <a:off x="1082520" y="5473800"/>
                  <a:ext cx="74520" cy="28080"/>
                  <a:chOff x="1082520" y="5473800"/>
                  <a:chExt cx="74520" cy="28080"/>
                </a:xfrm>
              </p:grpSpPr>
              <p:sp>
                <p:nvSpPr>
                  <p:cNvPr id="1237" name=""/>
                  <p:cNvSpPr/>
                  <p:nvPr/>
                </p:nvSpPr>
                <p:spPr>
                  <a:xfrm>
                    <a:off x="1082520" y="547380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1130040" y="54752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9" name=""/>
                <p:cNvGrpSpPr/>
                <p:nvPr/>
              </p:nvGrpSpPr>
              <p:grpSpPr>
                <a:xfrm>
                  <a:off x="1001880" y="5527800"/>
                  <a:ext cx="231480" cy="190440"/>
                  <a:chOff x="1001880" y="5527800"/>
                  <a:chExt cx="231480" cy="190440"/>
                </a:xfrm>
              </p:grpSpPr>
              <p:sp>
                <p:nvSpPr>
                  <p:cNvPr id="1240" name=""/>
                  <p:cNvSpPr/>
                  <p:nvPr/>
                </p:nvSpPr>
                <p:spPr>
                  <a:xfrm>
                    <a:off x="1001880" y="5527800"/>
                    <a:ext cx="231480" cy="15696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1012680" y="5691240"/>
                    <a:ext cx="26640" cy="2700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1193760" y="5691240"/>
                    <a:ext cx="28080" cy="2700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43" name=""/>
              <p:cNvGrpSpPr/>
              <p:nvPr/>
            </p:nvGrpSpPr>
            <p:grpSpPr>
              <a:xfrm>
                <a:off x="1001880" y="5183280"/>
                <a:ext cx="231480" cy="207720"/>
                <a:chOff x="1001880" y="5183280"/>
                <a:chExt cx="231480" cy="207720"/>
              </a:xfrm>
            </p:grpSpPr>
            <p:grpSp>
              <p:nvGrpSpPr>
                <p:cNvPr id="1244" name=""/>
                <p:cNvGrpSpPr/>
                <p:nvPr/>
              </p:nvGrpSpPr>
              <p:grpSpPr>
                <a:xfrm>
                  <a:off x="1082520" y="5183280"/>
                  <a:ext cx="74520" cy="28080"/>
                  <a:chOff x="1082520" y="5183280"/>
                  <a:chExt cx="74520" cy="28080"/>
                </a:xfrm>
              </p:grpSpPr>
              <p:sp>
                <p:nvSpPr>
                  <p:cNvPr id="1245" name=""/>
                  <p:cNvSpPr/>
                  <p:nvPr/>
                </p:nvSpPr>
                <p:spPr>
                  <a:xfrm>
                    <a:off x="1082520" y="518328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1130040" y="51847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7" name=""/>
                <p:cNvGrpSpPr/>
                <p:nvPr/>
              </p:nvGrpSpPr>
              <p:grpSpPr>
                <a:xfrm>
                  <a:off x="1001880" y="5234040"/>
                  <a:ext cx="231480" cy="156960"/>
                  <a:chOff x="1001880" y="5234040"/>
                  <a:chExt cx="231480" cy="156960"/>
                </a:xfrm>
              </p:grpSpPr>
              <p:grpSp>
                <p:nvGrpSpPr>
                  <p:cNvPr id="1248" name=""/>
                  <p:cNvGrpSpPr/>
                  <p:nvPr/>
                </p:nvGrpSpPr>
                <p:grpSpPr>
                  <a:xfrm>
                    <a:off x="1001880" y="5234040"/>
                    <a:ext cx="231480" cy="156960"/>
                    <a:chOff x="1001880" y="5234040"/>
                    <a:chExt cx="231480" cy="156960"/>
                  </a:xfrm>
                </p:grpSpPr>
                <p:sp>
                  <p:nvSpPr>
                    <p:cNvPr id="1249" name=""/>
                    <p:cNvSpPr/>
                    <p:nvPr/>
                  </p:nvSpPr>
                  <p:spPr>
                    <a:xfrm>
                      <a:off x="1001880" y="5234040"/>
                      <a:ext cx="231480" cy="15696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0" name=""/>
                    <p:cNvSpPr/>
                    <p:nvPr/>
                  </p:nvSpPr>
                  <p:spPr>
                    <a:xfrm flipV="1">
                      <a:off x="1001880" y="5236920"/>
                      <a:ext cx="114120" cy="1519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1" name=""/>
                    <p:cNvSpPr/>
                    <p:nvPr/>
                  </p:nvSpPr>
                  <p:spPr>
                    <a:xfrm>
                      <a:off x="1116000" y="5234040"/>
                      <a:ext cx="114480" cy="1537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52" name=""/>
                  <p:cNvSpPr/>
                  <p:nvPr/>
                </p:nvSpPr>
                <p:spPr>
                  <a:xfrm>
                    <a:off x="1103040" y="5298840"/>
                    <a:ext cx="28440" cy="26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53" name=""/>
            <p:cNvGrpSpPr/>
            <p:nvPr/>
          </p:nvGrpSpPr>
          <p:grpSpPr>
            <a:xfrm>
              <a:off x="741240" y="4951440"/>
              <a:ext cx="2622600" cy="234720"/>
              <a:chOff x="741240" y="4951440"/>
              <a:chExt cx="2622600" cy="234720"/>
            </a:xfrm>
          </p:grpSpPr>
          <p:sp>
            <p:nvSpPr>
              <p:cNvPr id="1254" name=""/>
              <p:cNvSpPr/>
              <p:nvPr/>
            </p:nvSpPr>
            <p:spPr>
              <a:xfrm>
                <a:off x="741240" y="507996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1282680" y="497052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bat Engineers                RO-1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6" name=""/>
              <p:cNvGrpSpPr/>
              <p:nvPr/>
            </p:nvGrpSpPr>
            <p:grpSpPr>
              <a:xfrm>
                <a:off x="1082880" y="4951440"/>
                <a:ext cx="74520" cy="28080"/>
                <a:chOff x="1082880" y="4951440"/>
                <a:chExt cx="74520" cy="28080"/>
              </a:xfrm>
            </p:grpSpPr>
            <p:sp>
              <p:nvSpPr>
                <p:cNvPr id="1257" name=""/>
                <p:cNvSpPr/>
                <p:nvPr/>
              </p:nvSpPr>
              <p:spPr>
                <a:xfrm>
                  <a:off x="1082880" y="49514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1130400" y="49528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9" name=""/>
              <p:cNvGrpSpPr/>
              <p:nvPr/>
            </p:nvGrpSpPr>
            <p:grpSpPr>
              <a:xfrm>
                <a:off x="1003320" y="4992840"/>
                <a:ext cx="231840" cy="156960"/>
                <a:chOff x="1003320" y="4992840"/>
                <a:chExt cx="231840" cy="156960"/>
              </a:xfrm>
            </p:grpSpPr>
            <p:sp>
              <p:nvSpPr>
                <p:cNvPr id="1260" name=""/>
                <p:cNvSpPr/>
                <p:nvPr/>
              </p:nvSpPr>
              <p:spPr>
                <a:xfrm>
                  <a:off x="1003320" y="4992840"/>
                  <a:ext cx="231840" cy="156960"/>
                </a:xfrm>
                <a:prstGeom prst="rect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1074600" y="5040000"/>
                  <a:ext cx="0" cy="5004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1116000" y="5042520"/>
                  <a:ext cx="0" cy="4752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1156680" y="5043960"/>
                  <a:ext cx="0" cy="4608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1069920" y="5042520"/>
                  <a:ext cx="93600" cy="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5" name=""/>
            <p:cNvGrpSpPr/>
            <p:nvPr/>
          </p:nvGrpSpPr>
          <p:grpSpPr>
            <a:xfrm>
              <a:off x="741240" y="5754600"/>
              <a:ext cx="2622600" cy="534960"/>
              <a:chOff x="741240" y="5754600"/>
              <a:chExt cx="2622600" cy="534960"/>
            </a:xfrm>
          </p:grpSpPr>
          <p:sp>
            <p:nvSpPr>
              <p:cNvPr id="1266" name=""/>
              <p:cNvSpPr/>
              <p:nvPr/>
            </p:nvSpPr>
            <p:spPr>
              <a:xfrm>
                <a:off x="1071720" y="5902200"/>
                <a:ext cx="0" cy="28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1265400" y="606240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orse Transport                   GE-3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1319400" y="590220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41240" y="588312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1282680" y="577368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7mm AT Gun                      RO-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1" name=""/>
              <p:cNvGrpSpPr/>
              <p:nvPr/>
            </p:nvGrpSpPr>
            <p:grpSpPr>
              <a:xfrm>
                <a:off x="1001880" y="6045120"/>
                <a:ext cx="231480" cy="244440"/>
                <a:chOff x="1001880" y="6045120"/>
                <a:chExt cx="231480" cy="244440"/>
              </a:xfrm>
            </p:grpSpPr>
            <p:grpSp>
              <p:nvGrpSpPr>
                <p:cNvPr id="1272" name=""/>
                <p:cNvGrpSpPr/>
                <p:nvPr/>
              </p:nvGrpSpPr>
              <p:grpSpPr>
                <a:xfrm>
                  <a:off x="1082520" y="6045120"/>
                  <a:ext cx="74520" cy="28080"/>
                  <a:chOff x="1082520" y="6045120"/>
                  <a:chExt cx="74520" cy="28080"/>
                </a:xfrm>
              </p:grpSpPr>
              <p:sp>
                <p:nvSpPr>
                  <p:cNvPr id="1273" name=""/>
                  <p:cNvSpPr/>
                  <p:nvPr/>
                </p:nvSpPr>
                <p:spPr>
                  <a:xfrm>
                    <a:off x="1082520" y="604512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>
                    <a:off x="1130040" y="604656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5" name=""/>
                <p:cNvGrpSpPr/>
                <p:nvPr/>
              </p:nvGrpSpPr>
              <p:grpSpPr>
                <a:xfrm>
                  <a:off x="1001880" y="6099120"/>
                  <a:ext cx="231480" cy="190440"/>
                  <a:chOff x="1001880" y="6099120"/>
                  <a:chExt cx="231480" cy="190440"/>
                </a:xfrm>
              </p:grpSpPr>
              <p:sp>
                <p:nvSpPr>
                  <p:cNvPr id="1276" name=""/>
                  <p:cNvSpPr/>
                  <p:nvPr/>
                </p:nvSpPr>
                <p:spPr>
                  <a:xfrm>
                    <a:off x="1001880" y="6099120"/>
                    <a:ext cx="231480" cy="15696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" name=""/>
                  <p:cNvSpPr/>
                  <p:nvPr/>
                </p:nvSpPr>
                <p:spPr>
                  <a:xfrm>
                    <a:off x="1012680" y="6262560"/>
                    <a:ext cx="26640" cy="2700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>
                    <a:off x="1193760" y="6262560"/>
                    <a:ext cx="28080" cy="2700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79" name=""/>
              <p:cNvGrpSpPr/>
              <p:nvPr/>
            </p:nvGrpSpPr>
            <p:grpSpPr>
              <a:xfrm>
                <a:off x="1001880" y="5754600"/>
                <a:ext cx="231480" cy="207720"/>
                <a:chOff x="1001880" y="5754600"/>
                <a:chExt cx="231480" cy="207720"/>
              </a:xfrm>
            </p:grpSpPr>
            <p:grpSp>
              <p:nvGrpSpPr>
                <p:cNvPr id="1280" name=""/>
                <p:cNvGrpSpPr/>
                <p:nvPr/>
              </p:nvGrpSpPr>
              <p:grpSpPr>
                <a:xfrm>
                  <a:off x="1082520" y="5754600"/>
                  <a:ext cx="74520" cy="28080"/>
                  <a:chOff x="1082520" y="5754600"/>
                  <a:chExt cx="74520" cy="28080"/>
                </a:xfrm>
              </p:grpSpPr>
              <p:sp>
                <p:nvSpPr>
                  <p:cNvPr id="1281" name=""/>
                  <p:cNvSpPr/>
                  <p:nvPr/>
                </p:nvSpPr>
                <p:spPr>
                  <a:xfrm>
                    <a:off x="1082520" y="575460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" name=""/>
                  <p:cNvSpPr/>
                  <p:nvPr/>
                </p:nvSpPr>
                <p:spPr>
                  <a:xfrm>
                    <a:off x="1130040" y="57560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83" name=""/>
                <p:cNvGrpSpPr/>
                <p:nvPr/>
              </p:nvGrpSpPr>
              <p:grpSpPr>
                <a:xfrm>
                  <a:off x="1001880" y="5805360"/>
                  <a:ext cx="231480" cy="156960"/>
                  <a:chOff x="1001880" y="5805360"/>
                  <a:chExt cx="231480" cy="156960"/>
                </a:xfrm>
              </p:grpSpPr>
              <p:grpSp>
                <p:nvGrpSpPr>
                  <p:cNvPr id="1284" name=""/>
                  <p:cNvGrpSpPr/>
                  <p:nvPr/>
                </p:nvGrpSpPr>
                <p:grpSpPr>
                  <a:xfrm>
                    <a:off x="1001880" y="5805360"/>
                    <a:ext cx="231480" cy="156960"/>
                    <a:chOff x="1001880" y="5805360"/>
                    <a:chExt cx="231480" cy="156960"/>
                  </a:xfrm>
                </p:grpSpPr>
                <p:sp>
                  <p:nvSpPr>
                    <p:cNvPr id="1285" name=""/>
                    <p:cNvSpPr/>
                    <p:nvPr/>
                  </p:nvSpPr>
                  <p:spPr>
                    <a:xfrm>
                      <a:off x="1001880" y="5805360"/>
                      <a:ext cx="231480" cy="15696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6" name=""/>
                    <p:cNvSpPr/>
                    <p:nvPr/>
                  </p:nvSpPr>
                  <p:spPr>
                    <a:xfrm flipV="1">
                      <a:off x="1001880" y="5808240"/>
                      <a:ext cx="114120" cy="1519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7" name=""/>
                    <p:cNvSpPr/>
                    <p:nvPr/>
                  </p:nvSpPr>
                  <p:spPr>
                    <a:xfrm>
                      <a:off x="1116000" y="5805360"/>
                      <a:ext cx="114480" cy="1537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88" name=""/>
                  <p:cNvSpPr/>
                  <p:nvPr/>
                </p:nvSpPr>
                <p:spPr>
                  <a:xfrm>
                    <a:off x="1103040" y="5870160"/>
                    <a:ext cx="28440" cy="26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89" name=""/>
            <p:cNvGrpSpPr/>
            <p:nvPr/>
          </p:nvGrpSpPr>
          <p:grpSpPr>
            <a:xfrm>
              <a:off x="925560" y="1100160"/>
              <a:ext cx="5325840" cy="2362680"/>
              <a:chOff x="925560" y="1100160"/>
              <a:chExt cx="5325840" cy="2362680"/>
            </a:xfrm>
          </p:grpSpPr>
          <p:sp>
            <p:nvSpPr>
              <p:cNvPr id="1290" name=""/>
              <p:cNvSpPr/>
              <p:nvPr/>
            </p:nvSpPr>
            <p:spPr>
              <a:xfrm>
                <a:off x="925560" y="1100160"/>
                <a:ext cx="246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3403440" y="1703520"/>
                <a:ext cx="301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3941640" y="1608120"/>
                <a:ext cx="2309760" cy="4006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Motorized Recon Company      </a:t>
                </a:r>
                <a:r>
                  <a:rPr b="1" lang="en-US" sz="800" spc="-1" strike="noStrike">
                    <a:solidFill>
                      <a:srgbClr val="669900"/>
                    </a:solidFill>
                    <a:latin typeface="Arial"/>
                  </a:rPr>
                  <a:t>ME-0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1 per division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3" name=""/>
              <p:cNvGrpSpPr/>
              <p:nvPr/>
            </p:nvGrpSpPr>
            <p:grpSpPr>
              <a:xfrm>
                <a:off x="3672000" y="2438280"/>
                <a:ext cx="2344680" cy="513000"/>
                <a:chOff x="3672000" y="2438280"/>
                <a:chExt cx="2344680" cy="513000"/>
              </a:xfrm>
            </p:grpSpPr>
            <p:sp>
              <p:nvSpPr>
                <p:cNvPr id="1294" name=""/>
                <p:cNvSpPr/>
                <p:nvPr/>
              </p:nvSpPr>
              <p:spPr>
                <a:xfrm>
                  <a:off x="3710160" y="2438280"/>
                  <a:ext cx="0" cy="379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3935520" y="272412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2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ght Truck                            GE-3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3989520" y="2603520"/>
                  <a:ext cx="633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7" name=""/>
                <p:cNvGrpSpPr/>
                <p:nvPr/>
              </p:nvGrpSpPr>
              <p:grpSpPr>
                <a:xfrm>
                  <a:off x="3672000" y="2706840"/>
                  <a:ext cx="231480" cy="244440"/>
                  <a:chOff x="3672000" y="2706840"/>
                  <a:chExt cx="231480" cy="244440"/>
                </a:xfrm>
              </p:grpSpPr>
              <p:grpSp>
                <p:nvGrpSpPr>
                  <p:cNvPr id="1298" name=""/>
                  <p:cNvGrpSpPr/>
                  <p:nvPr/>
                </p:nvGrpSpPr>
                <p:grpSpPr>
                  <a:xfrm>
                    <a:off x="3752640" y="2706840"/>
                    <a:ext cx="74520" cy="28080"/>
                    <a:chOff x="3752640" y="2706840"/>
                    <a:chExt cx="74520" cy="28080"/>
                  </a:xfrm>
                </p:grpSpPr>
                <p:sp>
                  <p:nvSpPr>
                    <p:cNvPr id="1299" name=""/>
                    <p:cNvSpPr/>
                    <p:nvPr/>
                  </p:nvSpPr>
                  <p:spPr>
                    <a:xfrm>
                      <a:off x="3752640" y="270684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0" name=""/>
                    <p:cNvSpPr/>
                    <p:nvPr/>
                  </p:nvSpPr>
                  <p:spPr>
                    <a:xfrm>
                      <a:off x="3800160" y="270828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01" name=""/>
                  <p:cNvGrpSpPr/>
                  <p:nvPr/>
                </p:nvGrpSpPr>
                <p:grpSpPr>
                  <a:xfrm>
                    <a:off x="3672000" y="2760840"/>
                    <a:ext cx="231480" cy="190440"/>
                    <a:chOff x="3672000" y="2760840"/>
                    <a:chExt cx="231480" cy="190440"/>
                  </a:xfrm>
                </p:grpSpPr>
                <p:sp>
                  <p:nvSpPr>
                    <p:cNvPr id="1302" name=""/>
                    <p:cNvSpPr/>
                    <p:nvPr/>
                  </p:nvSpPr>
                  <p:spPr>
                    <a:xfrm>
                      <a:off x="3672000" y="2760840"/>
                      <a:ext cx="231480" cy="15696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3" name=""/>
                    <p:cNvSpPr/>
                    <p:nvPr/>
                  </p:nvSpPr>
                  <p:spPr>
                    <a:xfrm>
                      <a:off x="3682800" y="2924280"/>
                      <a:ext cx="26640" cy="27000"/>
                    </a:xfrm>
                    <a:prstGeom prst="ellipse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4" name=""/>
                    <p:cNvSpPr/>
                    <p:nvPr/>
                  </p:nvSpPr>
                  <p:spPr>
                    <a:xfrm>
                      <a:off x="3863880" y="2924280"/>
                      <a:ext cx="28080" cy="27000"/>
                    </a:xfrm>
                    <a:prstGeom prst="ellipse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305" name=""/>
              <p:cNvGrpSpPr/>
              <p:nvPr/>
            </p:nvGrpSpPr>
            <p:grpSpPr>
              <a:xfrm>
                <a:off x="3411360" y="2257560"/>
                <a:ext cx="2622600" cy="419760"/>
                <a:chOff x="3411360" y="2257560"/>
                <a:chExt cx="2622600" cy="419760"/>
              </a:xfrm>
            </p:grpSpPr>
            <p:sp>
              <p:nvSpPr>
                <p:cNvPr id="1306" name=""/>
                <p:cNvSpPr/>
                <p:nvPr/>
              </p:nvSpPr>
              <p:spPr>
                <a:xfrm>
                  <a:off x="3411360" y="238608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3952800" y="2276640"/>
                  <a:ext cx="208116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47mm AT Gun                      RO-1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2 per division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08" name=""/>
                <p:cNvGrpSpPr/>
                <p:nvPr/>
              </p:nvGrpSpPr>
              <p:grpSpPr>
                <a:xfrm>
                  <a:off x="3672000" y="2257560"/>
                  <a:ext cx="231480" cy="207720"/>
                  <a:chOff x="3672000" y="2257560"/>
                  <a:chExt cx="231480" cy="207720"/>
                </a:xfrm>
              </p:grpSpPr>
              <p:grpSp>
                <p:nvGrpSpPr>
                  <p:cNvPr id="1309" name=""/>
                  <p:cNvGrpSpPr/>
                  <p:nvPr/>
                </p:nvGrpSpPr>
                <p:grpSpPr>
                  <a:xfrm>
                    <a:off x="3752640" y="2257560"/>
                    <a:ext cx="74520" cy="28080"/>
                    <a:chOff x="3752640" y="2257560"/>
                    <a:chExt cx="74520" cy="28080"/>
                  </a:xfrm>
                </p:grpSpPr>
                <p:sp>
                  <p:nvSpPr>
                    <p:cNvPr id="1310" name=""/>
                    <p:cNvSpPr/>
                    <p:nvPr/>
                  </p:nvSpPr>
                  <p:spPr>
                    <a:xfrm>
                      <a:off x="3752640" y="225756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1" name=""/>
                    <p:cNvSpPr/>
                    <p:nvPr/>
                  </p:nvSpPr>
                  <p:spPr>
                    <a:xfrm>
                      <a:off x="3800160" y="225900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12" name=""/>
                  <p:cNvGrpSpPr/>
                  <p:nvPr/>
                </p:nvGrpSpPr>
                <p:grpSpPr>
                  <a:xfrm>
                    <a:off x="3672000" y="2308320"/>
                    <a:ext cx="231480" cy="156960"/>
                    <a:chOff x="3672000" y="2308320"/>
                    <a:chExt cx="231480" cy="156960"/>
                  </a:xfrm>
                </p:grpSpPr>
                <p:grpSp>
                  <p:nvGrpSpPr>
                    <p:cNvPr id="1313" name=""/>
                    <p:cNvGrpSpPr/>
                    <p:nvPr/>
                  </p:nvGrpSpPr>
                  <p:grpSpPr>
                    <a:xfrm>
                      <a:off x="3672000" y="2308320"/>
                      <a:ext cx="231480" cy="156960"/>
                      <a:chOff x="3672000" y="2308320"/>
                      <a:chExt cx="231480" cy="156960"/>
                    </a:xfrm>
                  </p:grpSpPr>
                  <p:sp>
                    <p:nvSpPr>
                      <p:cNvPr id="1314" name=""/>
                      <p:cNvSpPr/>
                      <p:nvPr/>
                    </p:nvSpPr>
                    <p:spPr>
                      <a:xfrm>
                        <a:off x="3672000" y="2308320"/>
                        <a:ext cx="231480" cy="156960"/>
                      </a:xfrm>
                      <a:prstGeom prst="rect">
                        <a:avLst/>
                      </a:prstGeom>
                      <a:solidFill>
                        <a:srgbClr val="cc33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5" name=""/>
                      <p:cNvSpPr/>
                      <p:nvPr/>
                    </p:nvSpPr>
                    <p:spPr>
                      <a:xfrm flipV="1">
                        <a:off x="3672000" y="2311200"/>
                        <a:ext cx="11412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6" name=""/>
                      <p:cNvSpPr/>
                      <p:nvPr/>
                    </p:nvSpPr>
                    <p:spPr>
                      <a:xfrm>
                        <a:off x="3786120" y="2308320"/>
                        <a:ext cx="114480" cy="15372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17" name=""/>
                    <p:cNvSpPr/>
                    <p:nvPr/>
                  </p:nvSpPr>
                  <p:spPr>
                    <a:xfrm>
                      <a:off x="3773160" y="2373120"/>
                      <a:ext cx="28440" cy="26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318" name=""/>
              <p:cNvGrpSpPr/>
              <p:nvPr/>
            </p:nvGrpSpPr>
            <p:grpSpPr>
              <a:xfrm>
                <a:off x="3395520" y="1100160"/>
                <a:ext cx="2771640" cy="2362680"/>
                <a:chOff x="3395520" y="1100160"/>
                <a:chExt cx="2771640" cy="2362680"/>
              </a:xfrm>
            </p:grpSpPr>
            <p:sp>
              <p:nvSpPr>
                <p:cNvPr id="1319" name=""/>
                <p:cNvSpPr/>
                <p:nvPr/>
              </p:nvSpPr>
              <p:spPr>
                <a:xfrm>
                  <a:off x="3403440" y="1100160"/>
                  <a:ext cx="7920" cy="2060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3586320" y="1236600"/>
                  <a:ext cx="1753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DIVISIONAL ATTACHMENT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1" name=""/>
                <p:cNvGrpSpPr/>
                <p:nvPr/>
              </p:nvGrpSpPr>
              <p:grpSpPr>
                <a:xfrm>
                  <a:off x="3695760" y="1552680"/>
                  <a:ext cx="243000" cy="291240"/>
                  <a:chOff x="3695760" y="1552680"/>
                  <a:chExt cx="243000" cy="291240"/>
                </a:xfrm>
              </p:grpSpPr>
              <p:sp>
                <p:nvSpPr>
                  <p:cNvPr id="1322" name=""/>
                  <p:cNvSpPr/>
                  <p:nvPr/>
                </p:nvSpPr>
                <p:spPr>
                  <a:xfrm>
                    <a:off x="3816360" y="15526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23" name=""/>
                  <p:cNvGrpSpPr/>
                  <p:nvPr/>
                </p:nvGrpSpPr>
                <p:grpSpPr>
                  <a:xfrm>
                    <a:off x="3695760" y="1611000"/>
                    <a:ext cx="243000" cy="232920"/>
                    <a:chOff x="3695760" y="1611000"/>
                    <a:chExt cx="243000" cy="232920"/>
                  </a:xfrm>
                </p:grpSpPr>
                <p:sp>
                  <p:nvSpPr>
                    <p:cNvPr id="1324" name=""/>
                    <p:cNvSpPr/>
                    <p:nvPr/>
                  </p:nvSpPr>
                  <p:spPr>
                    <a:xfrm>
                      <a:off x="3695760" y="1611360"/>
                      <a:ext cx="243000" cy="19188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5" name=""/>
                    <p:cNvSpPr/>
                    <p:nvPr/>
                  </p:nvSpPr>
                  <p:spPr>
                    <a:xfrm flipV="1">
                      <a:off x="3695760" y="1611000"/>
                      <a:ext cx="241920" cy="1904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6" name=""/>
                    <p:cNvSpPr/>
                    <p:nvPr/>
                  </p:nvSpPr>
                  <p:spPr>
                    <a:xfrm>
                      <a:off x="3706920" y="1810440"/>
                      <a:ext cx="28440" cy="33480"/>
                    </a:xfrm>
                    <a:prstGeom prst="ellipse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7" name=""/>
                    <p:cNvSpPr/>
                    <p:nvPr/>
                  </p:nvSpPr>
                  <p:spPr>
                    <a:xfrm>
                      <a:off x="3897720" y="1810440"/>
                      <a:ext cx="28440" cy="33480"/>
                    </a:xfrm>
                    <a:prstGeom prst="ellipse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328" name=""/>
                <p:cNvGrpSpPr/>
                <p:nvPr/>
              </p:nvGrpSpPr>
              <p:grpSpPr>
                <a:xfrm>
                  <a:off x="3395520" y="1936800"/>
                  <a:ext cx="2771640" cy="255240"/>
                  <a:chOff x="3395520" y="1936800"/>
                  <a:chExt cx="2771640" cy="255240"/>
                </a:xfrm>
              </p:grpSpPr>
              <p:sp>
                <p:nvSpPr>
                  <p:cNvPr id="1329" name=""/>
                  <p:cNvSpPr/>
                  <p:nvPr/>
                </p:nvSpPr>
                <p:spPr>
                  <a:xfrm>
                    <a:off x="3395520" y="2093760"/>
                    <a:ext cx="3524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30" name=""/>
                  <p:cNvGrpSpPr/>
                  <p:nvPr/>
                </p:nvGrpSpPr>
                <p:grpSpPr>
                  <a:xfrm>
                    <a:off x="3690720" y="1936800"/>
                    <a:ext cx="284040" cy="253440"/>
                    <a:chOff x="3690720" y="1936800"/>
                    <a:chExt cx="284040" cy="253440"/>
                  </a:xfrm>
                </p:grpSpPr>
                <p:grpSp>
                  <p:nvGrpSpPr>
                    <p:cNvPr id="1331" name=""/>
                    <p:cNvGrpSpPr/>
                    <p:nvPr/>
                  </p:nvGrpSpPr>
                  <p:grpSpPr>
                    <a:xfrm>
                      <a:off x="3690720" y="1998360"/>
                      <a:ext cx="284040" cy="191880"/>
                      <a:chOff x="3690720" y="1998360"/>
                      <a:chExt cx="284040" cy="191880"/>
                    </a:xfrm>
                  </p:grpSpPr>
                  <p:sp>
                    <p:nvSpPr>
                      <p:cNvPr id="1332" name=""/>
                      <p:cNvSpPr/>
                      <p:nvPr/>
                    </p:nvSpPr>
                    <p:spPr>
                      <a:xfrm>
                        <a:off x="3690720" y="1998360"/>
                        <a:ext cx="284040" cy="191880"/>
                      </a:xfrm>
                      <a:prstGeom prst="rect">
                        <a:avLst/>
                      </a:prstGeom>
                      <a:solidFill>
                        <a:srgbClr val="cc33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3" name=""/>
                      <p:cNvSpPr/>
                      <p:nvPr/>
                    </p:nvSpPr>
                    <p:spPr>
                      <a:xfrm>
                        <a:off x="3778200" y="2056320"/>
                        <a:ext cx="0" cy="61200"/>
                      </a:xfrm>
                      <a:prstGeom prst="line">
                        <a:avLst/>
                      </a:prstGeom>
                      <a:ln w="1584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4" name=""/>
                      <p:cNvSpPr/>
                      <p:nvPr/>
                    </p:nvSpPr>
                    <p:spPr>
                      <a:xfrm>
                        <a:off x="3828960" y="2059200"/>
                        <a:ext cx="0" cy="58320"/>
                      </a:xfrm>
                      <a:prstGeom prst="line">
                        <a:avLst/>
                      </a:prstGeom>
                      <a:ln w="1584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520" bIns="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5" name=""/>
                      <p:cNvSpPr/>
                      <p:nvPr/>
                    </p:nvSpPr>
                    <p:spPr>
                      <a:xfrm>
                        <a:off x="3878640" y="2061000"/>
                        <a:ext cx="0" cy="56520"/>
                      </a:xfrm>
                      <a:prstGeom prst="line">
                        <a:avLst/>
                      </a:prstGeom>
                      <a:ln w="1584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720" bIns="9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6" name=""/>
                      <p:cNvSpPr/>
                      <p:nvPr/>
                    </p:nvSpPr>
                    <p:spPr>
                      <a:xfrm>
                        <a:off x="3772080" y="2059200"/>
                        <a:ext cx="114840" cy="0"/>
                      </a:xfrm>
                      <a:prstGeom prst="line">
                        <a:avLst/>
                      </a:prstGeom>
                      <a:ln w="1584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37" name=""/>
                    <p:cNvSpPr/>
                    <p:nvPr/>
                  </p:nvSpPr>
                  <p:spPr>
                    <a:xfrm>
                      <a:off x="3831840" y="193680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38" name=""/>
                  <p:cNvSpPr/>
                  <p:nvPr/>
                </p:nvSpPr>
                <p:spPr>
                  <a:xfrm>
                    <a:off x="3935160" y="1976400"/>
                    <a:ext cx="223200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 Combat Engineer Company      </a:t>
                    </a:r>
                    <a:r>
                      <a:rPr b="0" lang="en-US" sz="800" spc="-1" strike="noStrike">
                        <a:solidFill>
                          <a:srgbClr val="669900"/>
                        </a:solidFill>
                        <a:latin typeface="Arial"/>
                      </a:rPr>
                      <a:t>ME-05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9" name=""/>
                <p:cNvGrpSpPr/>
                <p:nvPr/>
              </p:nvGrpSpPr>
              <p:grpSpPr>
                <a:xfrm>
                  <a:off x="3416400" y="3046320"/>
                  <a:ext cx="2647440" cy="416520"/>
                  <a:chOff x="3416400" y="3046320"/>
                  <a:chExt cx="2647440" cy="416520"/>
                </a:xfrm>
              </p:grpSpPr>
              <p:sp>
                <p:nvSpPr>
                  <p:cNvPr id="1340" name=""/>
                  <p:cNvSpPr/>
                  <p:nvPr/>
                </p:nvSpPr>
                <p:spPr>
                  <a:xfrm>
                    <a:off x="3416400" y="3160440"/>
                    <a:ext cx="3520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41" name=""/>
                  <p:cNvGrpSpPr/>
                  <p:nvPr/>
                </p:nvGrpSpPr>
                <p:grpSpPr>
                  <a:xfrm>
                    <a:off x="3687480" y="3046320"/>
                    <a:ext cx="245880" cy="204840"/>
                    <a:chOff x="3687480" y="3046320"/>
                    <a:chExt cx="245880" cy="204840"/>
                  </a:xfrm>
                </p:grpSpPr>
                <p:grpSp>
                  <p:nvGrpSpPr>
                    <p:cNvPr id="1342" name=""/>
                    <p:cNvGrpSpPr/>
                    <p:nvPr/>
                  </p:nvGrpSpPr>
                  <p:grpSpPr>
                    <a:xfrm>
                      <a:off x="3687480" y="3083040"/>
                      <a:ext cx="245880" cy="168120"/>
                      <a:chOff x="3687480" y="3083040"/>
                      <a:chExt cx="245880" cy="168120"/>
                    </a:xfrm>
                  </p:grpSpPr>
                  <p:sp>
                    <p:nvSpPr>
                      <p:cNvPr id="1343" name=""/>
                      <p:cNvSpPr/>
                      <p:nvPr/>
                    </p:nvSpPr>
                    <p:spPr>
                      <a:xfrm>
                        <a:off x="3687480" y="3083040"/>
                        <a:ext cx="245880" cy="168120"/>
                      </a:xfrm>
                      <a:prstGeom prst="rect">
                        <a:avLst/>
                      </a:prstGeom>
                      <a:solidFill>
                        <a:srgbClr val="cc33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4" name=""/>
                      <p:cNvSpPr/>
                      <p:nvPr/>
                    </p:nvSpPr>
                    <p:spPr>
                      <a:xfrm flipV="1">
                        <a:off x="3698280" y="3097080"/>
                        <a:ext cx="220680" cy="1281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5" name=""/>
                      <p:cNvSpPr/>
                      <p:nvPr/>
                    </p:nvSpPr>
                    <p:spPr>
                      <a:xfrm>
                        <a:off x="3698280" y="3097080"/>
                        <a:ext cx="228600" cy="13932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6" name=""/>
                      <p:cNvSpPr/>
                      <p:nvPr/>
                    </p:nvSpPr>
                    <p:spPr>
                      <a:xfrm>
                        <a:off x="3696840" y="3092400"/>
                        <a:ext cx="61920" cy="1504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cc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47" name=""/>
                    <p:cNvGrpSpPr/>
                    <p:nvPr/>
                  </p:nvGrpSpPr>
                  <p:grpSpPr>
                    <a:xfrm>
                      <a:off x="3779280" y="3046320"/>
                      <a:ext cx="74520" cy="28800"/>
                      <a:chOff x="3779280" y="3046320"/>
                      <a:chExt cx="74520" cy="28800"/>
                    </a:xfrm>
                  </p:grpSpPr>
                  <p:sp>
                    <p:nvSpPr>
                      <p:cNvPr id="1348" name=""/>
                      <p:cNvSpPr/>
                      <p:nvPr/>
                    </p:nvSpPr>
                    <p:spPr>
                      <a:xfrm>
                        <a:off x="3779280" y="304632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9" name=""/>
                      <p:cNvSpPr/>
                      <p:nvPr/>
                    </p:nvSpPr>
                    <p:spPr>
                      <a:xfrm>
                        <a:off x="3826800" y="3048120"/>
                        <a:ext cx="2700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350" name=""/>
                  <p:cNvSpPr/>
                  <p:nvPr/>
                </p:nvSpPr>
                <p:spPr>
                  <a:xfrm>
                    <a:off x="3983040" y="3062160"/>
                    <a:ext cx="2080800" cy="40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Antiaircraft Machine Gun     RO-22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(4 per division)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51" name=""/>
          <p:cNvGrpSpPr/>
          <p:nvPr/>
        </p:nvGrpSpPr>
        <p:grpSpPr>
          <a:xfrm>
            <a:off x="6377040" y="1700280"/>
            <a:ext cx="2623680" cy="230040"/>
            <a:chOff x="6377040" y="1700280"/>
            <a:chExt cx="2623680" cy="230040"/>
          </a:xfrm>
        </p:grpSpPr>
        <p:sp>
          <p:nvSpPr>
            <p:cNvPr id="1352" name=""/>
            <p:cNvSpPr/>
            <p:nvPr/>
          </p:nvSpPr>
          <p:spPr>
            <a:xfrm>
              <a:off x="6377040" y="1811520"/>
              <a:ext cx="352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919920" y="1714680"/>
              <a:ext cx="208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Commander      RO-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4" name=""/>
            <p:cNvGrpSpPr/>
            <p:nvPr/>
          </p:nvGrpSpPr>
          <p:grpSpPr>
            <a:xfrm>
              <a:off x="6673680" y="1700280"/>
              <a:ext cx="237960" cy="200160"/>
              <a:chOff x="6673680" y="1700280"/>
              <a:chExt cx="237960" cy="200160"/>
            </a:xfrm>
          </p:grpSpPr>
          <p:sp>
            <p:nvSpPr>
              <p:cNvPr id="1355" name=""/>
              <p:cNvSpPr/>
              <p:nvPr/>
            </p:nvSpPr>
            <p:spPr>
              <a:xfrm>
                <a:off x="6673680" y="1743120"/>
                <a:ext cx="237960" cy="157320"/>
              </a:xfrm>
              <a:prstGeom prst="rect">
                <a:avLst/>
              </a:prstGeom>
              <a:solidFill>
                <a:srgbClr val="cc33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779880" y="17002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57" name=""/>
          <p:cNvGrpSpPr/>
          <p:nvPr/>
        </p:nvGrpSpPr>
        <p:grpSpPr>
          <a:xfrm>
            <a:off x="6369120" y="1976400"/>
            <a:ext cx="2488680" cy="466200"/>
            <a:chOff x="6369120" y="1976400"/>
            <a:chExt cx="2488680" cy="466200"/>
          </a:xfrm>
        </p:grpSpPr>
        <p:sp>
          <p:nvSpPr>
            <p:cNvPr id="1358" name=""/>
            <p:cNvSpPr/>
            <p:nvPr/>
          </p:nvSpPr>
          <p:spPr>
            <a:xfrm>
              <a:off x="6595920" y="1976400"/>
              <a:ext cx="1753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369120" y="2338200"/>
              <a:ext cx="352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035480" y="2226960"/>
              <a:ext cx="1822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Infantry Company    </a:t>
              </a: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ME-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1" name=""/>
            <p:cNvGrpSpPr/>
            <p:nvPr/>
          </p:nvGrpSpPr>
          <p:grpSpPr>
            <a:xfrm>
              <a:off x="6662520" y="2168280"/>
              <a:ext cx="283680" cy="266400"/>
              <a:chOff x="6662520" y="2168280"/>
              <a:chExt cx="283680" cy="266400"/>
            </a:xfrm>
          </p:grpSpPr>
          <p:sp>
            <p:nvSpPr>
              <p:cNvPr id="1362" name=""/>
              <p:cNvSpPr/>
              <p:nvPr/>
            </p:nvSpPr>
            <p:spPr>
              <a:xfrm>
                <a:off x="6808320" y="21682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3" name=""/>
              <p:cNvGrpSpPr/>
              <p:nvPr/>
            </p:nvGrpSpPr>
            <p:grpSpPr>
              <a:xfrm>
                <a:off x="6662520" y="2241000"/>
                <a:ext cx="283680" cy="193680"/>
                <a:chOff x="6662520" y="2241000"/>
                <a:chExt cx="283680" cy="193680"/>
              </a:xfrm>
            </p:grpSpPr>
            <p:sp>
              <p:nvSpPr>
                <p:cNvPr id="1364" name=""/>
                <p:cNvSpPr/>
                <p:nvPr/>
              </p:nvSpPr>
              <p:spPr>
                <a:xfrm>
                  <a:off x="6662520" y="2241000"/>
                  <a:ext cx="283680" cy="193680"/>
                </a:xfrm>
                <a:prstGeom prst="rect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 flipV="1">
                  <a:off x="6665400" y="2243880"/>
                  <a:ext cx="276120" cy="189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6662520" y="2243880"/>
                  <a:ext cx="282240" cy="184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67" name=""/>
          <p:cNvGrpSpPr/>
          <p:nvPr/>
        </p:nvGrpSpPr>
        <p:grpSpPr>
          <a:xfrm>
            <a:off x="6188040" y="1190520"/>
            <a:ext cx="2509920" cy="1895040"/>
            <a:chOff x="6188040" y="1190520"/>
            <a:chExt cx="2509920" cy="1895040"/>
          </a:xfrm>
        </p:grpSpPr>
        <p:sp>
          <p:nvSpPr>
            <p:cNvPr id="1368" name=""/>
            <p:cNvSpPr/>
            <p:nvPr/>
          </p:nvSpPr>
          <p:spPr>
            <a:xfrm>
              <a:off x="6370560" y="1504800"/>
              <a:ext cx="6480" cy="120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9" name=""/>
            <p:cNvGrpSpPr/>
            <p:nvPr/>
          </p:nvGrpSpPr>
          <p:grpSpPr>
            <a:xfrm>
              <a:off x="6605640" y="1376280"/>
              <a:ext cx="1754280" cy="364680"/>
              <a:chOff x="6605640" y="1376280"/>
              <a:chExt cx="1754280" cy="364680"/>
            </a:xfrm>
          </p:grpSpPr>
          <p:sp>
            <p:nvSpPr>
              <p:cNvPr id="1370" name=""/>
              <p:cNvSpPr/>
              <p:nvPr/>
            </p:nvSpPr>
            <p:spPr>
              <a:xfrm>
                <a:off x="6948720" y="1525320"/>
                <a:ext cx="838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605640" y="1376280"/>
                <a:ext cx="1754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HEADQUARTERS EL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2" name=""/>
            <p:cNvGrpSpPr/>
            <p:nvPr/>
          </p:nvGrpSpPr>
          <p:grpSpPr>
            <a:xfrm>
              <a:off x="6188040" y="1190520"/>
              <a:ext cx="347040" cy="290160"/>
              <a:chOff x="6188040" y="1190520"/>
              <a:chExt cx="347040" cy="290160"/>
            </a:xfrm>
          </p:grpSpPr>
          <p:grpSp>
            <p:nvGrpSpPr>
              <p:cNvPr id="1373" name=""/>
              <p:cNvGrpSpPr/>
              <p:nvPr/>
            </p:nvGrpSpPr>
            <p:grpSpPr>
              <a:xfrm>
                <a:off x="6325920" y="1190520"/>
                <a:ext cx="76320" cy="63360"/>
                <a:chOff x="6325920" y="1190520"/>
                <a:chExt cx="76320" cy="63360"/>
              </a:xfrm>
            </p:grpSpPr>
            <p:sp>
              <p:nvSpPr>
                <p:cNvPr id="1374" name=""/>
                <p:cNvSpPr/>
                <p:nvPr/>
              </p:nvSpPr>
              <p:spPr>
                <a:xfrm>
                  <a:off x="6325920" y="11905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6402240" y="11905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6" name=""/>
              <p:cNvGrpSpPr/>
              <p:nvPr/>
            </p:nvGrpSpPr>
            <p:grpSpPr>
              <a:xfrm>
                <a:off x="6188040" y="1245960"/>
                <a:ext cx="347040" cy="234720"/>
                <a:chOff x="6188040" y="1245960"/>
                <a:chExt cx="347040" cy="23472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6188040" y="1245960"/>
                  <a:ext cx="347040" cy="234720"/>
                </a:xfrm>
                <a:prstGeom prst="rect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 flipV="1">
                  <a:off x="6191640" y="1249560"/>
                  <a:ext cx="338400" cy="229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6188040" y="1249560"/>
                  <a:ext cx="345600" cy="223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0" name=""/>
            <p:cNvGrpSpPr/>
            <p:nvPr/>
          </p:nvGrpSpPr>
          <p:grpSpPr>
            <a:xfrm>
              <a:off x="6361200" y="2662200"/>
              <a:ext cx="2336760" cy="423360"/>
              <a:chOff x="6361200" y="2662200"/>
              <a:chExt cx="2336760" cy="423360"/>
            </a:xfrm>
          </p:grpSpPr>
          <p:sp>
            <p:nvSpPr>
              <p:cNvPr id="1381" name=""/>
              <p:cNvSpPr/>
              <p:nvPr/>
            </p:nvSpPr>
            <p:spPr>
              <a:xfrm>
                <a:off x="6546960" y="2684160"/>
                <a:ext cx="1754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ATTACH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2" name=""/>
              <p:cNvGrpSpPr/>
              <p:nvPr/>
            </p:nvGrpSpPr>
            <p:grpSpPr>
              <a:xfrm>
                <a:off x="6361200" y="2850840"/>
                <a:ext cx="2336760" cy="234720"/>
                <a:chOff x="6361200" y="2850840"/>
                <a:chExt cx="2336760" cy="234720"/>
              </a:xfrm>
            </p:grpSpPr>
            <p:sp>
              <p:nvSpPr>
                <p:cNvPr id="1383" name=""/>
                <p:cNvSpPr/>
                <p:nvPr/>
              </p:nvSpPr>
              <p:spPr>
                <a:xfrm>
                  <a:off x="6361200" y="2979360"/>
                  <a:ext cx="369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6902280" y="2869920"/>
                  <a:ext cx="1795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4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eavy Machine Gun      RO-17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85" name=""/>
                <p:cNvGrpSpPr/>
                <p:nvPr/>
              </p:nvGrpSpPr>
              <p:grpSpPr>
                <a:xfrm>
                  <a:off x="6619680" y="2850840"/>
                  <a:ext cx="245880" cy="216000"/>
                  <a:chOff x="6619680" y="2850840"/>
                  <a:chExt cx="245880" cy="216000"/>
                </a:xfrm>
              </p:grpSpPr>
              <p:grpSp>
                <p:nvGrpSpPr>
                  <p:cNvPr id="1386" name=""/>
                  <p:cNvGrpSpPr/>
                  <p:nvPr/>
                </p:nvGrpSpPr>
                <p:grpSpPr>
                  <a:xfrm>
                    <a:off x="6702120" y="2850840"/>
                    <a:ext cx="74520" cy="28800"/>
                    <a:chOff x="6702120" y="2850840"/>
                    <a:chExt cx="74520" cy="28800"/>
                  </a:xfrm>
                </p:grpSpPr>
                <p:sp>
                  <p:nvSpPr>
                    <p:cNvPr id="1387" name=""/>
                    <p:cNvSpPr/>
                    <p:nvPr/>
                  </p:nvSpPr>
                  <p:spPr>
                    <a:xfrm>
                      <a:off x="6702120" y="285084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8" name=""/>
                    <p:cNvSpPr/>
                    <p:nvPr/>
                  </p:nvSpPr>
                  <p:spPr>
                    <a:xfrm>
                      <a:off x="6749640" y="285264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9" name=""/>
                  <p:cNvGrpSpPr/>
                  <p:nvPr/>
                </p:nvGrpSpPr>
                <p:grpSpPr>
                  <a:xfrm>
                    <a:off x="6619680" y="2898360"/>
                    <a:ext cx="245880" cy="168480"/>
                    <a:chOff x="6619680" y="2898360"/>
                    <a:chExt cx="245880" cy="168480"/>
                  </a:xfrm>
                </p:grpSpPr>
                <p:sp>
                  <p:nvSpPr>
                    <p:cNvPr id="1390" name=""/>
                    <p:cNvSpPr/>
                    <p:nvPr/>
                  </p:nvSpPr>
                  <p:spPr>
                    <a:xfrm>
                      <a:off x="6619680" y="2898360"/>
                      <a:ext cx="245880" cy="16848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1" name=""/>
                    <p:cNvSpPr/>
                    <p:nvPr/>
                  </p:nvSpPr>
                  <p:spPr>
                    <a:xfrm flipV="1">
                      <a:off x="6630480" y="2912400"/>
                      <a:ext cx="220680" cy="1285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2" name=""/>
                    <p:cNvSpPr/>
                    <p:nvPr/>
                  </p:nvSpPr>
                  <p:spPr>
                    <a:xfrm>
                      <a:off x="6630480" y="2912760"/>
                      <a:ext cx="228600" cy="1396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3" name=""/>
                    <p:cNvSpPr/>
                    <p:nvPr/>
                  </p:nvSpPr>
                  <p:spPr>
                    <a:xfrm>
                      <a:off x="6629040" y="2908080"/>
                      <a:ext cx="61920" cy="150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cc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394" name=""/>
              <p:cNvSpPr/>
              <p:nvPr/>
            </p:nvSpPr>
            <p:spPr>
              <a:xfrm flipH="1">
                <a:off x="6370560" y="2662200"/>
                <a:ext cx="3240" cy="307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5" name=""/>
          <p:cNvSpPr/>
          <p:nvPr/>
        </p:nvSpPr>
        <p:spPr>
          <a:xfrm>
            <a:off x="6172200" y="487440"/>
            <a:ext cx="1547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Battle Group-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Battal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990720" y="52560"/>
            <a:ext cx="7772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 ME-01-&gt;ME-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7" name=""/>
          <p:cNvGrpSpPr/>
          <p:nvPr/>
        </p:nvGrpSpPr>
        <p:grpSpPr>
          <a:xfrm>
            <a:off x="4124160" y="2084400"/>
            <a:ext cx="3200400" cy="1244880"/>
            <a:chOff x="4124160" y="2084400"/>
            <a:chExt cx="3200400" cy="1244880"/>
          </a:xfrm>
        </p:grpSpPr>
        <p:sp>
          <p:nvSpPr>
            <p:cNvPr id="1398" name=""/>
            <p:cNvSpPr/>
            <p:nvPr/>
          </p:nvSpPr>
          <p:spPr>
            <a:xfrm>
              <a:off x="4124160" y="2084400"/>
              <a:ext cx="32004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cc00"/>
                  </a:solidFill>
                  <a:latin typeface="Arial"/>
                </a:rPr>
                <a:t>Maneuver Element- 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9" name=""/>
            <p:cNvGrpSpPr/>
            <p:nvPr/>
          </p:nvGrpSpPr>
          <p:grpSpPr>
            <a:xfrm>
              <a:off x="4206960" y="2411640"/>
              <a:ext cx="3117600" cy="917640"/>
              <a:chOff x="4206960" y="2411640"/>
              <a:chExt cx="3117600" cy="917640"/>
            </a:xfrm>
          </p:grpSpPr>
          <p:sp>
            <p:nvSpPr>
              <p:cNvPr id="1400" name=""/>
              <p:cNvSpPr/>
              <p:nvPr/>
            </p:nvSpPr>
            <p:spPr>
              <a:xfrm>
                <a:off x="4352760" y="2660760"/>
                <a:ext cx="0" cy="53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1" name=""/>
              <p:cNvGrpSpPr/>
              <p:nvPr/>
            </p:nvGrpSpPr>
            <p:grpSpPr>
              <a:xfrm>
                <a:off x="4206960" y="2432160"/>
                <a:ext cx="291960" cy="256680"/>
                <a:chOff x="4206960" y="2432160"/>
                <a:chExt cx="291960" cy="256680"/>
              </a:xfrm>
            </p:grpSpPr>
            <p:grpSp>
              <p:nvGrpSpPr>
                <p:cNvPr id="1402" name=""/>
                <p:cNvGrpSpPr/>
                <p:nvPr/>
              </p:nvGrpSpPr>
              <p:grpSpPr>
                <a:xfrm>
                  <a:off x="4206960" y="2498040"/>
                  <a:ext cx="291960" cy="190800"/>
                  <a:chOff x="4206960" y="2498040"/>
                  <a:chExt cx="291960" cy="190800"/>
                </a:xfrm>
              </p:grpSpPr>
              <p:grpSp>
                <p:nvGrpSpPr>
                  <p:cNvPr id="1403" name=""/>
                  <p:cNvGrpSpPr/>
                  <p:nvPr/>
                </p:nvGrpSpPr>
                <p:grpSpPr>
                  <a:xfrm>
                    <a:off x="4206960" y="2498400"/>
                    <a:ext cx="291960" cy="190440"/>
                    <a:chOff x="4206960" y="2498400"/>
                    <a:chExt cx="291960" cy="190440"/>
                  </a:xfrm>
                </p:grpSpPr>
                <p:sp>
                  <p:nvSpPr>
                    <p:cNvPr id="1404" name=""/>
                    <p:cNvSpPr/>
                    <p:nvPr/>
                  </p:nvSpPr>
                  <p:spPr>
                    <a:xfrm>
                      <a:off x="4206960" y="2498400"/>
                      <a:ext cx="291960" cy="19044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5" name=""/>
                    <p:cNvSpPr/>
                    <p:nvPr/>
                  </p:nvSpPr>
                  <p:spPr>
                    <a:xfrm>
                      <a:off x="4260600" y="2545920"/>
                      <a:ext cx="184320" cy="90720"/>
                    </a:xfrm>
                    <a:prstGeom prst="ellipse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06" name=""/>
                  <p:cNvSpPr/>
                  <p:nvPr/>
                </p:nvSpPr>
                <p:spPr>
                  <a:xfrm flipV="1">
                    <a:off x="4206960" y="2498040"/>
                    <a:ext cx="287640" cy="1904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7" name=""/>
                <p:cNvSpPr/>
                <p:nvPr/>
              </p:nvSpPr>
              <p:spPr>
                <a:xfrm>
                  <a:off x="4353120" y="24321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8" name=""/>
              <p:cNvSpPr/>
              <p:nvPr/>
            </p:nvSpPr>
            <p:spPr>
              <a:xfrm>
                <a:off x="4581360" y="2411640"/>
                <a:ext cx="22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Light Armored Car Compan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9" name=""/>
              <p:cNvGrpSpPr/>
              <p:nvPr/>
            </p:nvGrpSpPr>
            <p:grpSpPr>
              <a:xfrm>
                <a:off x="4352760" y="2563920"/>
                <a:ext cx="2971800" cy="398520"/>
                <a:chOff x="4352760" y="2563920"/>
                <a:chExt cx="2971800" cy="398520"/>
              </a:xfrm>
            </p:grpSpPr>
            <p:grpSp>
              <p:nvGrpSpPr>
                <p:cNvPr id="1410" name=""/>
                <p:cNvGrpSpPr/>
                <p:nvPr/>
              </p:nvGrpSpPr>
              <p:grpSpPr>
                <a:xfrm>
                  <a:off x="4640400" y="2692440"/>
                  <a:ext cx="239400" cy="212760"/>
                  <a:chOff x="4640400" y="2692440"/>
                  <a:chExt cx="239400" cy="212760"/>
                </a:xfrm>
              </p:grpSpPr>
              <p:grpSp>
                <p:nvGrpSpPr>
                  <p:cNvPr id="1411" name=""/>
                  <p:cNvGrpSpPr/>
                  <p:nvPr/>
                </p:nvGrpSpPr>
                <p:grpSpPr>
                  <a:xfrm>
                    <a:off x="4640400" y="2748240"/>
                    <a:ext cx="239400" cy="156960"/>
                    <a:chOff x="4640400" y="2748240"/>
                    <a:chExt cx="239400" cy="156960"/>
                  </a:xfrm>
                </p:grpSpPr>
                <p:grpSp>
                  <p:nvGrpSpPr>
                    <p:cNvPr id="1412" name=""/>
                    <p:cNvGrpSpPr/>
                    <p:nvPr/>
                  </p:nvGrpSpPr>
                  <p:grpSpPr>
                    <a:xfrm>
                      <a:off x="4640400" y="2748240"/>
                      <a:ext cx="239400" cy="156960"/>
                      <a:chOff x="4640400" y="2748240"/>
                      <a:chExt cx="239400" cy="156960"/>
                    </a:xfrm>
                  </p:grpSpPr>
                  <p:sp>
                    <p:nvSpPr>
                      <p:cNvPr id="1413" name=""/>
                      <p:cNvSpPr/>
                      <p:nvPr/>
                    </p:nvSpPr>
                    <p:spPr>
                      <a:xfrm>
                        <a:off x="4640400" y="2748240"/>
                        <a:ext cx="239400" cy="156960"/>
                      </a:xfrm>
                      <a:prstGeom prst="rect">
                        <a:avLst/>
                      </a:prstGeom>
                      <a:solidFill>
                        <a:srgbClr val="cc33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4" name=""/>
                      <p:cNvSpPr/>
                      <p:nvPr/>
                    </p:nvSpPr>
                    <p:spPr>
                      <a:xfrm>
                        <a:off x="4684320" y="2787480"/>
                        <a:ext cx="151200" cy="74880"/>
                      </a:xfrm>
                      <a:prstGeom prst="ellipse">
                        <a:avLst/>
                      </a:prstGeom>
                      <a:solidFill>
                        <a:srgbClr val="cc33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480" bIns="6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415" name=""/>
                    <p:cNvSpPr/>
                    <p:nvPr/>
                  </p:nvSpPr>
                  <p:spPr>
                    <a:xfrm flipV="1">
                      <a:off x="4640400" y="2748240"/>
                      <a:ext cx="235800" cy="1569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16" name=""/>
                  <p:cNvSpPr/>
                  <p:nvPr/>
                </p:nvSpPr>
                <p:spPr>
                  <a:xfrm>
                    <a:off x="4746600" y="269244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17" name=""/>
                <p:cNvSpPr/>
                <p:nvPr/>
              </p:nvSpPr>
              <p:spPr>
                <a:xfrm>
                  <a:off x="4352760" y="2832120"/>
                  <a:ext cx="32076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4962600" y="2716200"/>
                  <a:ext cx="2361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OAvz 30 Armored Car   RO-07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4962600" y="2563920"/>
                  <a:ext cx="10587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0" name=""/>
              <p:cNvGrpSpPr/>
              <p:nvPr/>
            </p:nvGrpSpPr>
            <p:grpSpPr>
              <a:xfrm>
                <a:off x="4346640" y="3075120"/>
                <a:ext cx="2971800" cy="254160"/>
                <a:chOff x="4346640" y="3075120"/>
                <a:chExt cx="2971800" cy="254160"/>
              </a:xfrm>
            </p:grpSpPr>
            <p:grpSp>
              <p:nvGrpSpPr>
                <p:cNvPr id="1421" name=""/>
                <p:cNvGrpSpPr/>
                <p:nvPr/>
              </p:nvGrpSpPr>
              <p:grpSpPr>
                <a:xfrm>
                  <a:off x="4645080" y="3075120"/>
                  <a:ext cx="239760" cy="202680"/>
                  <a:chOff x="4645080" y="3075120"/>
                  <a:chExt cx="239760" cy="202680"/>
                </a:xfrm>
              </p:grpSpPr>
              <p:grpSp>
                <p:nvGrpSpPr>
                  <p:cNvPr id="1422" name=""/>
                  <p:cNvGrpSpPr/>
                  <p:nvPr/>
                </p:nvGrpSpPr>
                <p:grpSpPr>
                  <a:xfrm>
                    <a:off x="4645080" y="3120840"/>
                    <a:ext cx="239760" cy="156960"/>
                    <a:chOff x="4645080" y="3120840"/>
                    <a:chExt cx="239760" cy="156960"/>
                  </a:xfrm>
                </p:grpSpPr>
                <p:grpSp>
                  <p:nvGrpSpPr>
                    <p:cNvPr id="1423" name=""/>
                    <p:cNvGrpSpPr/>
                    <p:nvPr/>
                  </p:nvGrpSpPr>
                  <p:grpSpPr>
                    <a:xfrm>
                      <a:off x="4645080" y="3120840"/>
                      <a:ext cx="239760" cy="156960"/>
                      <a:chOff x="4645080" y="3120840"/>
                      <a:chExt cx="239760" cy="156960"/>
                    </a:xfrm>
                  </p:grpSpPr>
                  <p:sp>
                    <p:nvSpPr>
                      <p:cNvPr id="1424" name=""/>
                      <p:cNvSpPr/>
                      <p:nvPr/>
                    </p:nvSpPr>
                    <p:spPr>
                      <a:xfrm>
                        <a:off x="4645080" y="3120840"/>
                        <a:ext cx="239760" cy="156960"/>
                      </a:xfrm>
                      <a:prstGeom prst="rect">
                        <a:avLst/>
                      </a:prstGeom>
                      <a:solidFill>
                        <a:srgbClr val="cc33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5" name=""/>
                      <p:cNvSpPr/>
                      <p:nvPr/>
                    </p:nvSpPr>
                    <p:spPr>
                      <a:xfrm>
                        <a:off x="4689000" y="3160080"/>
                        <a:ext cx="151560" cy="74880"/>
                      </a:xfrm>
                      <a:prstGeom prst="ellipse">
                        <a:avLst/>
                      </a:prstGeom>
                      <a:solidFill>
                        <a:srgbClr val="cc33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480" bIns="6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426" name=""/>
                    <p:cNvSpPr/>
                    <p:nvPr/>
                  </p:nvSpPr>
                  <p:spPr>
                    <a:xfrm flipV="1">
                      <a:off x="4645080" y="3120840"/>
                      <a:ext cx="236160" cy="1569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27" name=""/>
                  <p:cNvGrpSpPr/>
                  <p:nvPr/>
                </p:nvGrpSpPr>
                <p:grpSpPr>
                  <a:xfrm>
                    <a:off x="4727520" y="3075120"/>
                    <a:ext cx="74520" cy="28080"/>
                    <a:chOff x="4727520" y="3075120"/>
                    <a:chExt cx="74520" cy="28080"/>
                  </a:xfrm>
                </p:grpSpPr>
                <p:sp>
                  <p:nvSpPr>
                    <p:cNvPr id="1428" name=""/>
                    <p:cNvSpPr/>
                    <p:nvPr/>
                  </p:nvSpPr>
                  <p:spPr>
                    <a:xfrm>
                      <a:off x="4727520" y="307512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9" name=""/>
                    <p:cNvSpPr/>
                    <p:nvPr/>
                  </p:nvSpPr>
                  <p:spPr>
                    <a:xfrm>
                      <a:off x="4775040" y="307656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430" name=""/>
                <p:cNvSpPr/>
                <p:nvPr/>
              </p:nvSpPr>
              <p:spPr>
                <a:xfrm>
                  <a:off x="4346640" y="3198960"/>
                  <a:ext cx="32076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4956120" y="3083040"/>
                  <a:ext cx="2362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4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Avz 30 Armored Car   RO-07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32" name=""/>
          <p:cNvGrpSpPr/>
          <p:nvPr/>
        </p:nvGrpSpPr>
        <p:grpSpPr>
          <a:xfrm>
            <a:off x="428760" y="544680"/>
            <a:ext cx="3200400" cy="1244520"/>
            <a:chOff x="428760" y="544680"/>
            <a:chExt cx="3200400" cy="1244520"/>
          </a:xfrm>
        </p:grpSpPr>
        <p:grpSp>
          <p:nvGrpSpPr>
            <p:cNvPr id="1433" name=""/>
            <p:cNvGrpSpPr/>
            <p:nvPr/>
          </p:nvGrpSpPr>
          <p:grpSpPr>
            <a:xfrm>
              <a:off x="650880" y="1542960"/>
              <a:ext cx="2971800" cy="246240"/>
              <a:chOff x="650880" y="1542960"/>
              <a:chExt cx="2971800" cy="246240"/>
            </a:xfrm>
          </p:grpSpPr>
          <p:sp>
            <p:nvSpPr>
              <p:cNvPr id="1434" name=""/>
              <p:cNvSpPr/>
              <p:nvPr/>
            </p:nvSpPr>
            <p:spPr>
              <a:xfrm>
                <a:off x="650880" y="1658880"/>
                <a:ext cx="3207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5" name=""/>
              <p:cNvGrpSpPr/>
              <p:nvPr/>
            </p:nvGrpSpPr>
            <p:grpSpPr>
              <a:xfrm>
                <a:off x="944640" y="1542960"/>
                <a:ext cx="247320" cy="203040"/>
                <a:chOff x="944640" y="1542960"/>
                <a:chExt cx="247320" cy="203040"/>
              </a:xfrm>
            </p:grpSpPr>
            <p:grpSp>
              <p:nvGrpSpPr>
                <p:cNvPr id="1436" name=""/>
                <p:cNvGrpSpPr/>
                <p:nvPr/>
              </p:nvGrpSpPr>
              <p:grpSpPr>
                <a:xfrm>
                  <a:off x="944640" y="1589040"/>
                  <a:ext cx="247320" cy="156960"/>
                  <a:chOff x="944640" y="1589040"/>
                  <a:chExt cx="247320" cy="156960"/>
                </a:xfrm>
              </p:grpSpPr>
              <p:sp>
                <p:nvSpPr>
                  <p:cNvPr id="1437" name=""/>
                  <p:cNvSpPr/>
                  <p:nvPr/>
                </p:nvSpPr>
                <p:spPr>
                  <a:xfrm>
                    <a:off x="944640" y="1589040"/>
                    <a:ext cx="247320" cy="15696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8" name=""/>
                  <p:cNvSpPr/>
                  <p:nvPr/>
                </p:nvSpPr>
                <p:spPr>
                  <a:xfrm>
                    <a:off x="990000" y="1628280"/>
                    <a:ext cx="158760" cy="7488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39" name=""/>
                <p:cNvGrpSpPr/>
                <p:nvPr/>
              </p:nvGrpSpPr>
              <p:grpSpPr>
                <a:xfrm>
                  <a:off x="1027440" y="1542960"/>
                  <a:ext cx="79560" cy="28080"/>
                  <a:chOff x="1027440" y="1542960"/>
                  <a:chExt cx="79560" cy="28080"/>
                </a:xfrm>
              </p:grpSpPr>
              <p:sp>
                <p:nvSpPr>
                  <p:cNvPr id="1440" name=""/>
                  <p:cNvSpPr/>
                  <p:nvPr/>
                </p:nvSpPr>
                <p:spPr>
                  <a:xfrm>
                    <a:off x="1027440" y="1542960"/>
                    <a:ext cx="302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1" name=""/>
                  <p:cNvSpPr/>
                  <p:nvPr/>
                </p:nvSpPr>
                <p:spPr>
                  <a:xfrm>
                    <a:off x="1078200" y="1544400"/>
                    <a:ext cx="288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42" name=""/>
              <p:cNvSpPr/>
              <p:nvPr/>
            </p:nvSpPr>
            <p:spPr>
              <a:xfrm>
                <a:off x="1260360" y="1542960"/>
                <a:ext cx="2362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6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R2 3.7cm Medium Tank   RO-0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3" name=""/>
            <p:cNvGrpSpPr/>
            <p:nvPr/>
          </p:nvGrpSpPr>
          <p:grpSpPr>
            <a:xfrm>
              <a:off x="428760" y="544680"/>
              <a:ext cx="3200400" cy="1116000"/>
              <a:chOff x="428760" y="544680"/>
              <a:chExt cx="3200400" cy="1116000"/>
            </a:xfrm>
          </p:grpSpPr>
          <p:sp>
            <p:nvSpPr>
              <p:cNvPr id="1444" name=""/>
              <p:cNvSpPr/>
              <p:nvPr/>
            </p:nvSpPr>
            <p:spPr>
              <a:xfrm>
                <a:off x="428760" y="544680"/>
                <a:ext cx="320040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cc00"/>
                    </a:solidFill>
                    <a:latin typeface="Arial"/>
                  </a:rPr>
                  <a:t>Maneuver Element- 0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5" name=""/>
              <p:cNvGrpSpPr/>
              <p:nvPr/>
            </p:nvGrpSpPr>
            <p:grpSpPr>
              <a:xfrm>
                <a:off x="511200" y="871560"/>
                <a:ext cx="2279520" cy="789120"/>
                <a:chOff x="511200" y="871560"/>
                <a:chExt cx="2279520" cy="789120"/>
              </a:xfrm>
            </p:grpSpPr>
            <p:grpSp>
              <p:nvGrpSpPr>
                <p:cNvPr id="1446" name=""/>
                <p:cNvGrpSpPr/>
                <p:nvPr/>
              </p:nvGrpSpPr>
              <p:grpSpPr>
                <a:xfrm>
                  <a:off x="511200" y="871560"/>
                  <a:ext cx="284040" cy="249120"/>
                  <a:chOff x="511200" y="871560"/>
                  <a:chExt cx="284040" cy="249120"/>
                </a:xfrm>
              </p:grpSpPr>
              <p:grpSp>
                <p:nvGrpSpPr>
                  <p:cNvPr id="1447" name=""/>
                  <p:cNvGrpSpPr/>
                  <p:nvPr/>
                </p:nvGrpSpPr>
                <p:grpSpPr>
                  <a:xfrm>
                    <a:off x="511200" y="927000"/>
                    <a:ext cx="284040" cy="193680"/>
                    <a:chOff x="511200" y="927000"/>
                    <a:chExt cx="284040" cy="193680"/>
                  </a:xfrm>
                </p:grpSpPr>
                <p:sp>
                  <p:nvSpPr>
                    <p:cNvPr id="1448" name=""/>
                    <p:cNvSpPr/>
                    <p:nvPr/>
                  </p:nvSpPr>
                  <p:spPr>
                    <a:xfrm>
                      <a:off x="511200" y="927000"/>
                      <a:ext cx="284040" cy="19368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9" name=""/>
                    <p:cNvSpPr/>
                    <p:nvPr/>
                  </p:nvSpPr>
                  <p:spPr>
                    <a:xfrm>
                      <a:off x="563040" y="975240"/>
                      <a:ext cx="182160" cy="92520"/>
                    </a:xfrm>
                    <a:prstGeom prst="ellipse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9080" bIns="19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50" name=""/>
                  <p:cNvSpPr/>
                  <p:nvPr/>
                </p:nvSpPr>
                <p:spPr>
                  <a:xfrm>
                    <a:off x="652320" y="87156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51" name=""/>
                <p:cNvSpPr/>
                <p:nvPr/>
              </p:nvSpPr>
              <p:spPr>
                <a:xfrm>
                  <a:off x="885960" y="871560"/>
                  <a:ext cx="1904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Medium Tank Compan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657360" y="1120680"/>
                  <a:ext cx="0" cy="540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53" name=""/>
            <p:cNvGrpSpPr/>
            <p:nvPr/>
          </p:nvGrpSpPr>
          <p:grpSpPr>
            <a:xfrm>
              <a:off x="657360" y="1023840"/>
              <a:ext cx="2971800" cy="398880"/>
              <a:chOff x="657360" y="1023840"/>
              <a:chExt cx="2971800" cy="398880"/>
            </a:xfrm>
          </p:grpSpPr>
          <p:sp>
            <p:nvSpPr>
              <p:cNvPr id="1454" name=""/>
              <p:cNvSpPr/>
              <p:nvPr/>
            </p:nvSpPr>
            <p:spPr>
              <a:xfrm>
                <a:off x="657360" y="1292400"/>
                <a:ext cx="320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1266840" y="1176480"/>
                <a:ext cx="2362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R2 3.7cm Medium Tank   RO-0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1266840" y="1023840"/>
                <a:ext cx="1058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7" name=""/>
              <p:cNvGrpSpPr/>
              <p:nvPr/>
            </p:nvGrpSpPr>
            <p:grpSpPr>
              <a:xfrm>
                <a:off x="950760" y="1179360"/>
                <a:ext cx="247680" cy="200160"/>
                <a:chOff x="950760" y="1179360"/>
                <a:chExt cx="247680" cy="200160"/>
              </a:xfrm>
            </p:grpSpPr>
            <p:grpSp>
              <p:nvGrpSpPr>
                <p:cNvPr id="1458" name=""/>
                <p:cNvGrpSpPr/>
                <p:nvPr/>
              </p:nvGrpSpPr>
              <p:grpSpPr>
                <a:xfrm>
                  <a:off x="950760" y="1222200"/>
                  <a:ext cx="247680" cy="157320"/>
                  <a:chOff x="950760" y="1222200"/>
                  <a:chExt cx="247680" cy="157320"/>
                </a:xfrm>
              </p:grpSpPr>
              <p:sp>
                <p:nvSpPr>
                  <p:cNvPr id="1459" name=""/>
                  <p:cNvSpPr/>
                  <p:nvPr/>
                </p:nvSpPr>
                <p:spPr>
                  <a:xfrm>
                    <a:off x="950760" y="1222200"/>
                    <a:ext cx="247680" cy="15732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0" name=""/>
                  <p:cNvSpPr/>
                  <p:nvPr/>
                </p:nvSpPr>
                <p:spPr>
                  <a:xfrm>
                    <a:off x="996120" y="1261440"/>
                    <a:ext cx="158760" cy="7488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1" name=""/>
                <p:cNvSpPr/>
                <p:nvPr/>
              </p:nvSpPr>
              <p:spPr>
                <a:xfrm>
                  <a:off x="1060560" y="11793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62" name=""/>
          <p:cNvGrpSpPr/>
          <p:nvPr/>
        </p:nvGrpSpPr>
        <p:grpSpPr>
          <a:xfrm>
            <a:off x="4124160" y="471600"/>
            <a:ext cx="3200400" cy="1555920"/>
            <a:chOff x="4124160" y="471600"/>
            <a:chExt cx="3200400" cy="1555920"/>
          </a:xfrm>
        </p:grpSpPr>
        <p:sp>
          <p:nvSpPr>
            <p:cNvPr id="1463" name=""/>
            <p:cNvSpPr/>
            <p:nvPr/>
          </p:nvSpPr>
          <p:spPr>
            <a:xfrm>
              <a:off x="4124160" y="471600"/>
              <a:ext cx="32004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cc00"/>
                  </a:solidFill>
                  <a:latin typeface="Arial"/>
                </a:rPr>
                <a:t>Maneuver Element- 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529160" y="77940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torcycle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>
              <a:off x="4339800" y="1038240"/>
              <a:ext cx="12600" cy="857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6" name=""/>
            <p:cNvGrpSpPr/>
            <p:nvPr/>
          </p:nvGrpSpPr>
          <p:grpSpPr>
            <a:xfrm>
              <a:off x="4349880" y="1405080"/>
              <a:ext cx="2706480" cy="249120"/>
              <a:chOff x="4349880" y="1405080"/>
              <a:chExt cx="2706480" cy="249120"/>
            </a:xfrm>
          </p:grpSpPr>
          <p:sp>
            <p:nvSpPr>
              <p:cNvPr id="1467" name=""/>
              <p:cNvSpPr/>
              <p:nvPr/>
            </p:nvSpPr>
            <p:spPr>
              <a:xfrm>
                <a:off x="4962600" y="1407960"/>
                <a:ext cx="2093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9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Infantry             RO-1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4349880" y="1522440"/>
                <a:ext cx="3427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9" name=""/>
              <p:cNvGrpSpPr/>
              <p:nvPr/>
            </p:nvGrpSpPr>
            <p:grpSpPr>
              <a:xfrm>
                <a:off x="4662360" y="1405080"/>
                <a:ext cx="231480" cy="205920"/>
                <a:chOff x="4662360" y="1405080"/>
                <a:chExt cx="231480" cy="205920"/>
              </a:xfrm>
            </p:grpSpPr>
            <p:grpSp>
              <p:nvGrpSpPr>
                <p:cNvPr id="1470" name=""/>
                <p:cNvGrpSpPr/>
                <p:nvPr/>
              </p:nvGrpSpPr>
              <p:grpSpPr>
                <a:xfrm>
                  <a:off x="4741560" y="1405080"/>
                  <a:ext cx="74520" cy="28080"/>
                  <a:chOff x="4741560" y="1405080"/>
                  <a:chExt cx="74520" cy="28080"/>
                </a:xfrm>
              </p:grpSpPr>
              <p:sp>
                <p:nvSpPr>
                  <p:cNvPr id="1471" name=""/>
                  <p:cNvSpPr/>
                  <p:nvPr/>
                </p:nvSpPr>
                <p:spPr>
                  <a:xfrm>
                    <a:off x="4741560" y="140508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4789080" y="14065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3" name=""/>
                <p:cNvGrpSpPr/>
                <p:nvPr/>
              </p:nvGrpSpPr>
              <p:grpSpPr>
                <a:xfrm>
                  <a:off x="4662360" y="1454040"/>
                  <a:ext cx="231480" cy="156960"/>
                  <a:chOff x="4662360" y="1454040"/>
                  <a:chExt cx="231480" cy="156960"/>
                </a:xfrm>
              </p:grpSpPr>
              <p:sp>
                <p:nvSpPr>
                  <p:cNvPr id="1474" name=""/>
                  <p:cNvSpPr/>
                  <p:nvPr/>
                </p:nvSpPr>
                <p:spPr>
                  <a:xfrm>
                    <a:off x="4662360" y="1454040"/>
                    <a:ext cx="231480" cy="15696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5" name=""/>
                  <p:cNvSpPr/>
                  <p:nvPr/>
                </p:nvSpPr>
                <p:spPr>
                  <a:xfrm flipV="1">
                    <a:off x="4664520" y="1456200"/>
                    <a:ext cx="225360" cy="153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>
                    <a:off x="4662360" y="1456200"/>
                    <a:ext cx="230400" cy="149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477" name=""/>
            <p:cNvGrpSpPr/>
            <p:nvPr/>
          </p:nvGrpSpPr>
          <p:grpSpPr>
            <a:xfrm>
              <a:off x="4349880" y="1652760"/>
              <a:ext cx="2819160" cy="374760"/>
              <a:chOff x="4349880" y="1652760"/>
              <a:chExt cx="2819160" cy="374760"/>
            </a:xfrm>
          </p:grpSpPr>
          <p:sp>
            <p:nvSpPr>
              <p:cNvPr id="1478" name=""/>
              <p:cNvSpPr/>
              <p:nvPr/>
            </p:nvSpPr>
            <p:spPr>
              <a:xfrm>
                <a:off x="4349880" y="1895400"/>
                <a:ext cx="29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5027760" y="1652760"/>
                <a:ext cx="1600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4968720" y="1781280"/>
                <a:ext cx="220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0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otorcycle     RO-0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1" name=""/>
              <p:cNvGrpSpPr/>
              <p:nvPr/>
            </p:nvGrpSpPr>
            <p:grpSpPr>
              <a:xfrm>
                <a:off x="4657680" y="1771560"/>
                <a:ext cx="231840" cy="237960"/>
                <a:chOff x="4657680" y="1771560"/>
                <a:chExt cx="231840" cy="237960"/>
              </a:xfrm>
            </p:grpSpPr>
            <p:grpSp>
              <p:nvGrpSpPr>
                <p:cNvPr id="1482" name=""/>
                <p:cNvGrpSpPr/>
                <p:nvPr/>
              </p:nvGrpSpPr>
              <p:grpSpPr>
                <a:xfrm>
                  <a:off x="4730760" y="1771560"/>
                  <a:ext cx="74520" cy="28800"/>
                  <a:chOff x="4730760" y="1771560"/>
                  <a:chExt cx="74520" cy="28800"/>
                </a:xfrm>
              </p:grpSpPr>
              <p:sp>
                <p:nvSpPr>
                  <p:cNvPr id="1483" name=""/>
                  <p:cNvSpPr/>
                  <p:nvPr/>
                </p:nvSpPr>
                <p:spPr>
                  <a:xfrm>
                    <a:off x="4730760" y="177156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4" name=""/>
                  <p:cNvSpPr/>
                  <p:nvPr/>
                </p:nvSpPr>
                <p:spPr>
                  <a:xfrm>
                    <a:off x="4778280" y="17733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5" name=""/>
                <p:cNvGrpSpPr/>
                <p:nvPr/>
              </p:nvGrpSpPr>
              <p:grpSpPr>
                <a:xfrm>
                  <a:off x="4657680" y="1819080"/>
                  <a:ext cx="231840" cy="190440"/>
                  <a:chOff x="4657680" y="1819080"/>
                  <a:chExt cx="231840" cy="190440"/>
                </a:xfrm>
              </p:grpSpPr>
              <p:sp>
                <p:nvSpPr>
                  <p:cNvPr id="1486" name=""/>
                  <p:cNvSpPr/>
                  <p:nvPr/>
                </p:nvSpPr>
                <p:spPr>
                  <a:xfrm>
                    <a:off x="4657680" y="1819440"/>
                    <a:ext cx="231840" cy="15696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 flipV="1">
                    <a:off x="4657680" y="1819080"/>
                    <a:ext cx="230760" cy="1558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8" name=""/>
                  <p:cNvSpPr/>
                  <p:nvPr/>
                </p:nvSpPr>
                <p:spPr>
                  <a:xfrm>
                    <a:off x="4668120" y="1982160"/>
                    <a:ext cx="27000" cy="2736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9" name=""/>
                  <p:cNvSpPr/>
                  <p:nvPr/>
                </p:nvSpPr>
                <p:spPr>
                  <a:xfrm>
                    <a:off x="4850280" y="1982160"/>
                    <a:ext cx="27000" cy="2736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490" name=""/>
            <p:cNvGrpSpPr/>
            <p:nvPr/>
          </p:nvGrpSpPr>
          <p:grpSpPr>
            <a:xfrm>
              <a:off x="4206960" y="803160"/>
              <a:ext cx="284040" cy="291960"/>
              <a:chOff x="4206960" y="803160"/>
              <a:chExt cx="284040" cy="291960"/>
            </a:xfrm>
          </p:grpSpPr>
          <p:sp>
            <p:nvSpPr>
              <p:cNvPr id="1491" name=""/>
              <p:cNvSpPr/>
              <p:nvPr/>
            </p:nvSpPr>
            <p:spPr>
              <a:xfrm>
                <a:off x="4348080" y="803160"/>
                <a:ext cx="180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2" name=""/>
              <p:cNvGrpSpPr/>
              <p:nvPr/>
            </p:nvGrpSpPr>
            <p:grpSpPr>
              <a:xfrm>
                <a:off x="4206960" y="861480"/>
                <a:ext cx="284040" cy="233640"/>
                <a:chOff x="4206960" y="861480"/>
                <a:chExt cx="284040" cy="233640"/>
              </a:xfrm>
            </p:grpSpPr>
            <p:sp>
              <p:nvSpPr>
                <p:cNvPr id="1493" name=""/>
                <p:cNvSpPr/>
                <p:nvPr/>
              </p:nvSpPr>
              <p:spPr>
                <a:xfrm>
                  <a:off x="4206960" y="861840"/>
                  <a:ext cx="284040" cy="192600"/>
                </a:xfrm>
                <a:prstGeom prst="rect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 flipV="1">
                  <a:off x="4206960" y="861480"/>
                  <a:ext cx="282600" cy="1911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4219920" y="1061640"/>
                  <a:ext cx="33120" cy="33480"/>
                </a:xfrm>
                <a:prstGeom prst="ellipse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4443120" y="1061640"/>
                  <a:ext cx="33120" cy="33480"/>
                </a:xfrm>
                <a:prstGeom prst="ellipse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97" name=""/>
            <p:cNvGrpSpPr/>
            <p:nvPr/>
          </p:nvGrpSpPr>
          <p:grpSpPr>
            <a:xfrm>
              <a:off x="4352760" y="950760"/>
              <a:ext cx="2703600" cy="398880"/>
              <a:chOff x="4352760" y="950760"/>
              <a:chExt cx="2703600" cy="398880"/>
            </a:xfrm>
          </p:grpSpPr>
          <p:sp>
            <p:nvSpPr>
              <p:cNvPr id="1498" name=""/>
              <p:cNvSpPr/>
              <p:nvPr/>
            </p:nvSpPr>
            <p:spPr>
              <a:xfrm>
                <a:off x="4962600" y="1103400"/>
                <a:ext cx="2093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Commander     RO-12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4352760" y="1179360"/>
                <a:ext cx="30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962600" y="950760"/>
                <a:ext cx="99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1" name=""/>
              <p:cNvGrpSpPr/>
              <p:nvPr/>
            </p:nvGrpSpPr>
            <p:grpSpPr>
              <a:xfrm>
                <a:off x="4659480" y="1069920"/>
                <a:ext cx="237960" cy="195480"/>
                <a:chOff x="4659480" y="1069920"/>
                <a:chExt cx="237960" cy="195480"/>
              </a:xfrm>
            </p:grpSpPr>
            <p:sp>
              <p:nvSpPr>
                <p:cNvPr id="1502" name=""/>
                <p:cNvSpPr/>
                <p:nvPr/>
              </p:nvSpPr>
              <p:spPr>
                <a:xfrm>
                  <a:off x="4659480" y="1108080"/>
                  <a:ext cx="237960" cy="157320"/>
                </a:xfrm>
                <a:prstGeom prst="rect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4764240" y="106992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04" name=""/>
          <p:cNvSpPr/>
          <p:nvPr/>
        </p:nvSpPr>
        <p:spPr>
          <a:xfrm>
            <a:off x="455760" y="4559400"/>
            <a:ext cx="367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nuary 1942 or later, may substitute 1-3 infantry with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511920" y="3622680"/>
            <a:ext cx="3458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a motorized Infantry company add the following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6" name=""/>
          <p:cNvGrpSpPr/>
          <p:nvPr/>
        </p:nvGrpSpPr>
        <p:grpSpPr>
          <a:xfrm>
            <a:off x="885960" y="3930480"/>
            <a:ext cx="2315520" cy="235080"/>
            <a:chOff x="885960" y="3930480"/>
            <a:chExt cx="2315520" cy="235080"/>
          </a:xfrm>
        </p:grpSpPr>
        <p:sp>
          <p:nvSpPr>
            <p:cNvPr id="1507" name=""/>
            <p:cNvSpPr/>
            <p:nvPr/>
          </p:nvSpPr>
          <p:spPr>
            <a:xfrm>
              <a:off x="1120680" y="3943080"/>
              <a:ext cx="208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Kubelwagen      GE-3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8" name=""/>
            <p:cNvGrpSpPr/>
            <p:nvPr/>
          </p:nvGrpSpPr>
          <p:grpSpPr>
            <a:xfrm>
              <a:off x="885960" y="3930480"/>
              <a:ext cx="231480" cy="235080"/>
              <a:chOff x="885960" y="3930480"/>
              <a:chExt cx="231480" cy="235080"/>
            </a:xfrm>
          </p:grpSpPr>
          <p:grpSp>
            <p:nvGrpSpPr>
              <p:cNvPr id="1509" name=""/>
              <p:cNvGrpSpPr/>
              <p:nvPr/>
            </p:nvGrpSpPr>
            <p:grpSpPr>
              <a:xfrm>
                <a:off x="885960" y="3975120"/>
                <a:ext cx="231480" cy="190440"/>
                <a:chOff x="885960" y="3975120"/>
                <a:chExt cx="231480" cy="190440"/>
              </a:xfrm>
            </p:grpSpPr>
            <p:sp>
              <p:nvSpPr>
                <p:cNvPr id="1510" name=""/>
                <p:cNvSpPr/>
                <p:nvPr/>
              </p:nvSpPr>
              <p:spPr>
                <a:xfrm>
                  <a:off x="885960" y="3975120"/>
                  <a:ext cx="231480" cy="156960"/>
                </a:xfrm>
                <a:prstGeom prst="rect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896760" y="4138560"/>
                  <a:ext cx="26640" cy="27000"/>
                </a:xfrm>
                <a:prstGeom prst="ellipse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1077840" y="4138560"/>
                  <a:ext cx="28080" cy="27000"/>
                </a:xfrm>
                <a:prstGeom prst="ellipse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3" name=""/>
              <p:cNvGrpSpPr/>
              <p:nvPr/>
            </p:nvGrpSpPr>
            <p:grpSpPr>
              <a:xfrm>
                <a:off x="963360" y="3930480"/>
                <a:ext cx="74520" cy="28080"/>
                <a:chOff x="963360" y="3930480"/>
                <a:chExt cx="74520" cy="28080"/>
              </a:xfrm>
            </p:grpSpPr>
            <p:sp>
              <p:nvSpPr>
                <p:cNvPr id="1514" name=""/>
                <p:cNvSpPr/>
                <p:nvPr/>
              </p:nvSpPr>
              <p:spPr>
                <a:xfrm>
                  <a:off x="963360" y="393048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1010880" y="39319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6" name=""/>
          <p:cNvSpPr/>
          <p:nvPr/>
        </p:nvSpPr>
        <p:spPr>
          <a:xfrm>
            <a:off x="1149480" y="3760920"/>
            <a:ext cx="150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Commander’s 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7" name=""/>
          <p:cNvGrpSpPr/>
          <p:nvPr/>
        </p:nvGrpSpPr>
        <p:grpSpPr>
          <a:xfrm>
            <a:off x="885960" y="4268880"/>
            <a:ext cx="2315520" cy="234000"/>
            <a:chOff x="885960" y="4268880"/>
            <a:chExt cx="2315520" cy="234000"/>
          </a:xfrm>
        </p:grpSpPr>
        <p:sp>
          <p:nvSpPr>
            <p:cNvPr id="1518" name=""/>
            <p:cNvSpPr/>
            <p:nvPr/>
          </p:nvSpPr>
          <p:spPr>
            <a:xfrm>
              <a:off x="1120680" y="4281120"/>
              <a:ext cx="208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5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Light Truck        GE-3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9" name=""/>
            <p:cNvGrpSpPr/>
            <p:nvPr/>
          </p:nvGrpSpPr>
          <p:grpSpPr>
            <a:xfrm>
              <a:off x="885960" y="4268880"/>
              <a:ext cx="231480" cy="234000"/>
              <a:chOff x="885960" y="4268880"/>
              <a:chExt cx="231480" cy="234000"/>
            </a:xfrm>
          </p:grpSpPr>
          <p:grpSp>
            <p:nvGrpSpPr>
              <p:cNvPr id="1520" name=""/>
              <p:cNvGrpSpPr/>
              <p:nvPr/>
            </p:nvGrpSpPr>
            <p:grpSpPr>
              <a:xfrm>
                <a:off x="885960" y="4313160"/>
                <a:ext cx="231480" cy="189720"/>
                <a:chOff x="885960" y="4313160"/>
                <a:chExt cx="231480" cy="189720"/>
              </a:xfrm>
            </p:grpSpPr>
            <p:sp>
              <p:nvSpPr>
                <p:cNvPr id="1521" name=""/>
                <p:cNvSpPr/>
                <p:nvPr/>
              </p:nvSpPr>
              <p:spPr>
                <a:xfrm>
                  <a:off x="885960" y="4313160"/>
                  <a:ext cx="231480" cy="156600"/>
                </a:xfrm>
                <a:prstGeom prst="rect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896760" y="4476240"/>
                  <a:ext cx="26640" cy="26640"/>
                </a:xfrm>
                <a:prstGeom prst="ellipse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1077840" y="4476240"/>
                  <a:ext cx="28080" cy="26640"/>
                </a:xfrm>
                <a:prstGeom prst="ellipse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4" name=""/>
              <p:cNvGrpSpPr/>
              <p:nvPr/>
            </p:nvGrpSpPr>
            <p:grpSpPr>
              <a:xfrm>
                <a:off x="963360" y="4268880"/>
                <a:ext cx="74520" cy="27720"/>
                <a:chOff x="963360" y="4268880"/>
                <a:chExt cx="74520" cy="27720"/>
              </a:xfrm>
            </p:grpSpPr>
            <p:sp>
              <p:nvSpPr>
                <p:cNvPr id="1525" name=""/>
                <p:cNvSpPr/>
                <p:nvPr/>
              </p:nvSpPr>
              <p:spPr>
                <a:xfrm>
                  <a:off x="963360" y="4268880"/>
                  <a:ext cx="28440" cy="26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1010880" y="4270320"/>
                  <a:ext cx="27000" cy="26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27" name=""/>
          <p:cNvSpPr/>
          <p:nvPr/>
        </p:nvSpPr>
        <p:spPr>
          <a:xfrm>
            <a:off x="1149480" y="4098960"/>
            <a:ext cx="150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Troop 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1149480" y="4807080"/>
            <a:ext cx="271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-3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antry with Tank Hunters      RO-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9" name=""/>
          <p:cNvGrpSpPr/>
          <p:nvPr/>
        </p:nvGrpSpPr>
        <p:grpSpPr>
          <a:xfrm>
            <a:off x="849240" y="4803840"/>
            <a:ext cx="231480" cy="205920"/>
            <a:chOff x="849240" y="4803840"/>
            <a:chExt cx="231480" cy="205920"/>
          </a:xfrm>
        </p:grpSpPr>
        <p:grpSp>
          <p:nvGrpSpPr>
            <p:cNvPr id="1530" name=""/>
            <p:cNvGrpSpPr/>
            <p:nvPr/>
          </p:nvGrpSpPr>
          <p:grpSpPr>
            <a:xfrm>
              <a:off x="928440" y="4803840"/>
              <a:ext cx="74520" cy="28080"/>
              <a:chOff x="928440" y="4803840"/>
              <a:chExt cx="74520" cy="28080"/>
            </a:xfrm>
          </p:grpSpPr>
          <p:sp>
            <p:nvSpPr>
              <p:cNvPr id="1531" name=""/>
              <p:cNvSpPr/>
              <p:nvPr/>
            </p:nvSpPr>
            <p:spPr>
              <a:xfrm>
                <a:off x="928440" y="480384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975960" y="480528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3" name=""/>
            <p:cNvGrpSpPr/>
            <p:nvPr/>
          </p:nvGrpSpPr>
          <p:grpSpPr>
            <a:xfrm>
              <a:off x="849240" y="4852800"/>
              <a:ext cx="231480" cy="156960"/>
              <a:chOff x="849240" y="4852800"/>
              <a:chExt cx="231480" cy="156960"/>
            </a:xfrm>
          </p:grpSpPr>
          <p:sp>
            <p:nvSpPr>
              <p:cNvPr id="1534" name=""/>
              <p:cNvSpPr/>
              <p:nvPr/>
            </p:nvSpPr>
            <p:spPr>
              <a:xfrm>
                <a:off x="849240" y="4852800"/>
                <a:ext cx="231480" cy="156960"/>
              </a:xfrm>
              <a:prstGeom prst="rect">
                <a:avLst/>
              </a:prstGeom>
              <a:solidFill>
                <a:srgbClr val="cc33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flipV="1">
                <a:off x="851400" y="4854960"/>
                <a:ext cx="225360" cy="153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849240" y="4854960"/>
                <a:ext cx="230400" cy="14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7" name=""/>
          <p:cNvSpPr/>
          <p:nvPr/>
        </p:nvSpPr>
        <p:spPr>
          <a:xfrm>
            <a:off x="429840" y="5051520"/>
            <a:ext cx="156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 add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8" name=""/>
          <p:cNvGrpSpPr/>
          <p:nvPr/>
        </p:nvGrpSpPr>
        <p:grpSpPr>
          <a:xfrm>
            <a:off x="817560" y="5311800"/>
            <a:ext cx="241200" cy="200160"/>
            <a:chOff x="817560" y="5311800"/>
            <a:chExt cx="241200" cy="200160"/>
          </a:xfrm>
        </p:grpSpPr>
        <p:grpSp>
          <p:nvGrpSpPr>
            <p:cNvPr id="1539" name=""/>
            <p:cNvGrpSpPr/>
            <p:nvPr/>
          </p:nvGrpSpPr>
          <p:grpSpPr>
            <a:xfrm>
              <a:off x="817560" y="5354640"/>
              <a:ext cx="241200" cy="157320"/>
              <a:chOff x="817560" y="5354640"/>
              <a:chExt cx="241200" cy="157320"/>
            </a:xfrm>
          </p:grpSpPr>
          <p:sp>
            <p:nvSpPr>
              <p:cNvPr id="1540" name=""/>
              <p:cNvSpPr/>
              <p:nvPr/>
            </p:nvSpPr>
            <p:spPr>
              <a:xfrm>
                <a:off x="819360" y="5354640"/>
                <a:ext cx="239400" cy="157320"/>
              </a:xfrm>
              <a:prstGeom prst="rect">
                <a:avLst/>
              </a:prstGeom>
              <a:solidFill>
                <a:srgbClr val="cc33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flipV="1">
                <a:off x="817560" y="5356440"/>
                <a:ext cx="115920" cy="15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933480" y="5354640"/>
                <a:ext cx="123840" cy="15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3" name=""/>
            <p:cNvSpPr/>
            <p:nvPr/>
          </p:nvSpPr>
          <p:spPr>
            <a:xfrm>
              <a:off x="923760" y="53118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4" name=""/>
          <p:cNvSpPr/>
          <p:nvPr/>
        </p:nvSpPr>
        <p:spPr>
          <a:xfrm>
            <a:off x="1117440" y="5303880"/>
            <a:ext cx="274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-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ank Hunters                           RU-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5" name=""/>
          <p:cNvGrpSpPr/>
          <p:nvPr/>
        </p:nvGrpSpPr>
        <p:grpSpPr>
          <a:xfrm>
            <a:off x="4164120" y="3562200"/>
            <a:ext cx="3044880" cy="1706400"/>
            <a:chOff x="4164120" y="3562200"/>
            <a:chExt cx="3044880" cy="1706400"/>
          </a:xfrm>
        </p:grpSpPr>
        <p:sp>
          <p:nvSpPr>
            <p:cNvPr id="1546" name=""/>
            <p:cNvSpPr/>
            <p:nvPr/>
          </p:nvSpPr>
          <p:spPr>
            <a:xfrm>
              <a:off x="4164120" y="3562200"/>
              <a:ext cx="1857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cc00"/>
                  </a:solidFill>
                  <a:latin typeface="Arial"/>
                </a:rPr>
                <a:t>Maneuver Element- 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621320" y="3889440"/>
              <a:ext cx="190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mbat Engineer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H="1">
              <a:off x="4389120" y="4129200"/>
              <a:ext cx="3240" cy="1008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9" name=""/>
            <p:cNvGrpSpPr/>
            <p:nvPr/>
          </p:nvGrpSpPr>
          <p:grpSpPr>
            <a:xfrm>
              <a:off x="4389480" y="4894200"/>
              <a:ext cx="2819520" cy="374400"/>
              <a:chOff x="4389480" y="4894200"/>
              <a:chExt cx="2819520" cy="374400"/>
            </a:xfrm>
          </p:grpSpPr>
          <p:sp>
            <p:nvSpPr>
              <p:cNvPr id="1550" name=""/>
              <p:cNvSpPr/>
              <p:nvPr/>
            </p:nvSpPr>
            <p:spPr>
              <a:xfrm>
                <a:off x="4389480" y="5136840"/>
                <a:ext cx="2998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067360" y="4894200"/>
                <a:ext cx="1600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008680" y="5022360"/>
                <a:ext cx="220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5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ight Truck              GE-3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3" name=""/>
              <p:cNvGrpSpPr/>
              <p:nvPr/>
            </p:nvGrpSpPr>
            <p:grpSpPr>
              <a:xfrm>
                <a:off x="4689360" y="5013000"/>
                <a:ext cx="231840" cy="241920"/>
                <a:chOff x="4689360" y="5013000"/>
                <a:chExt cx="231840" cy="241920"/>
              </a:xfrm>
            </p:grpSpPr>
            <p:grpSp>
              <p:nvGrpSpPr>
                <p:cNvPr id="1554" name=""/>
                <p:cNvGrpSpPr/>
                <p:nvPr/>
              </p:nvGrpSpPr>
              <p:grpSpPr>
                <a:xfrm>
                  <a:off x="4770360" y="5013000"/>
                  <a:ext cx="74520" cy="27720"/>
                  <a:chOff x="4770360" y="5013000"/>
                  <a:chExt cx="74520" cy="27720"/>
                </a:xfrm>
              </p:grpSpPr>
              <p:sp>
                <p:nvSpPr>
                  <p:cNvPr id="1555" name=""/>
                  <p:cNvSpPr/>
                  <p:nvPr/>
                </p:nvSpPr>
                <p:spPr>
                  <a:xfrm>
                    <a:off x="4770360" y="5013000"/>
                    <a:ext cx="2844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6" name=""/>
                  <p:cNvSpPr/>
                  <p:nvPr/>
                </p:nvSpPr>
                <p:spPr>
                  <a:xfrm>
                    <a:off x="4817880" y="5014440"/>
                    <a:ext cx="2700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57" name=""/>
                <p:cNvGrpSpPr/>
                <p:nvPr/>
              </p:nvGrpSpPr>
              <p:grpSpPr>
                <a:xfrm>
                  <a:off x="4689360" y="5065200"/>
                  <a:ext cx="231840" cy="189720"/>
                  <a:chOff x="4689360" y="5065200"/>
                  <a:chExt cx="231840" cy="189720"/>
                </a:xfrm>
              </p:grpSpPr>
              <p:sp>
                <p:nvSpPr>
                  <p:cNvPr id="1558" name=""/>
                  <p:cNvSpPr/>
                  <p:nvPr/>
                </p:nvSpPr>
                <p:spPr>
                  <a:xfrm>
                    <a:off x="4689360" y="5065200"/>
                    <a:ext cx="231840" cy="15660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>
                    <a:off x="4700520" y="5228280"/>
                    <a:ext cx="27000" cy="2664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0" name=""/>
                  <p:cNvSpPr/>
                  <p:nvPr/>
                </p:nvSpPr>
                <p:spPr>
                  <a:xfrm>
                    <a:off x="4881600" y="5228280"/>
                    <a:ext cx="28440" cy="2664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561" name=""/>
            <p:cNvGrpSpPr/>
            <p:nvPr/>
          </p:nvGrpSpPr>
          <p:grpSpPr>
            <a:xfrm>
              <a:off x="4389480" y="4495680"/>
              <a:ext cx="2706480" cy="480960"/>
              <a:chOff x="4389480" y="4495680"/>
              <a:chExt cx="2706480" cy="480960"/>
            </a:xfrm>
          </p:grpSpPr>
          <p:sp>
            <p:nvSpPr>
              <p:cNvPr id="1562" name=""/>
              <p:cNvSpPr/>
              <p:nvPr/>
            </p:nvSpPr>
            <p:spPr>
              <a:xfrm>
                <a:off x="5002200" y="4498920"/>
                <a:ext cx="2093760" cy="47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9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Combat Engineers  RO-1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3 with flamethrowers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4389480" y="4613400"/>
                <a:ext cx="3427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4" name=""/>
              <p:cNvGrpSpPr/>
              <p:nvPr/>
            </p:nvGrpSpPr>
            <p:grpSpPr>
              <a:xfrm>
                <a:off x="4700520" y="4495680"/>
                <a:ext cx="231840" cy="196920"/>
                <a:chOff x="4700520" y="4495680"/>
                <a:chExt cx="231840" cy="196920"/>
              </a:xfrm>
            </p:grpSpPr>
            <p:grpSp>
              <p:nvGrpSpPr>
                <p:cNvPr id="1565" name=""/>
                <p:cNvGrpSpPr/>
                <p:nvPr/>
              </p:nvGrpSpPr>
              <p:grpSpPr>
                <a:xfrm>
                  <a:off x="4781520" y="4495680"/>
                  <a:ext cx="74520" cy="28800"/>
                  <a:chOff x="4781520" y="4495680"/>
                  <a:chExt cx="74520" cy="28800"/>
                </a:xfrm>
              </p:grpSpPr>
              <p:sp>
                <p:nvSpPr>
                  <p:cNvPr id="1566" name=""/>
                  <p:cNvSpPr/>
                  <p:nvPr/>
                </p:nvSpPr>
                <p:spPr>
                  <a:xfrm>
                    <a:off x="4781520" y="449568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7" name=""/>
                  <p:cNvSpPr/>
                  <p:nvPr/>
                </p:nvSpPr>
                <p:spPr>
                  <a:xfrm>
                    <a:off x="4829040" y="449748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8" name=""/>
                <p:cNvGrpSpPr/>
                <p:nvPr/>
              </p:nvGrpSpPr>
              <p:grpSpPr>
                <a:xfrm>
                  <a:off x="4700520" y="4535640"/>
                  <a:ext cx="231840" cy="156960"/>
                  <a:chOff x="4700520" y="4535640"/>
                  <a:chExt cx="231840" cy="156960"/>
                </a:xfrm>
              </p:grpSpPr>
              <p:sp>
                <p:nvSpPr>
                  <p:cNvPr id="1569" name=""/>
                  <p:cNvSpPr/>
                  <p:nvPr/>
                </p:nvSpPr>
                <p:spPr>
                  <a:xfrm>
                    <a:off x="4700520" y="4535640"/>
                    <a:ext cx="231840" cy="15696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>
                    <a:off x="4771800" y="4582800"/>
                    <a:ext cx="0" cy="5004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>
                    <a:off x="4813200" y="4585320"/>
                    <a:ext cx="0" cy="4752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2" name=""/>
                  <p:cNvSpPr/>
                  <p:nvPr/>
                </p:nvSpPr>
                <p:spPr>
                  <a:xfrm>
                    <a:off x="4853880" y="4586760"/>
                    <a:ext cx="0" cy="4608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3" name=""/>
                  <p:cNvSpPr/>
                  <p:nvPr/>
                </p:nvSpPr>
                <p:spPr>
                  <a:xfrm>
                    <a:off x="4767120" y="4585320"/>
                    <a:ext cx="9360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574" name=""/>
            <p:cNvGrpSpPr/>
            <p:nvPr/>
          </p:nvGrpSpPr>
          <p:grpSpPr>
            <a:xfrm>
              <a:off x="4392720" y="4041720"/>
              <a:ext cx="2703240" cy="398520"/>
              <a:chOff x="4392720" y="4041720"/>
              <a:chExt cx="2703240" cy="398520"/>
            </a:xfrm>
          </p:grpSpPr>
          <p:sp>
            <p:nvSpPr>
              <p:cNvPr id="1575" name=""/>
              <p:cNvSpPr/>
              <p:nvPr/>
            </p:nvSpPr>
            <p:spPr>
              <a:xfrm>
                <a:off x="5002200" y="4194000"/>
                <a:ext cx="2093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Commander           RO-12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4392720" y="4270320"/>
                <a:ext cx="29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5002200" y="4041720"/>
                <a:ext cx="990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78" name=""/>
              <p:cNvGrpSpPr/>
              <p:nvPr/>
            </p:nvGrpSpPr>
            <p:grpSpPr>
              <a:xfrm>
                <a:off x="4699080" y="4165560"/>
                <a:ext cx="237960" cy="206280"/>
                <a:chOff x="4699080" y="4165560"/>
                <a:chExt cx="237960" cy="206280"/>
              </a:xfrm>
            </p:grpSpPr>
            <p:sp>
              <p:nvSpPr>
                <p:cNvPr id="1579" name=""/>
                <p:cNvSpPr/>
                <p:nvPr/>
              </p:nvSpPr>
              <p:spPr>
                <a:xfrm>
                  <a:off x="4699080" y="4214880"/>
                  <a:ext cx="237960" cy="156960"/>
                </a:xfrm>
                <a:prstGeom prst="rect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4802040" y="41655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81" name=""/>
            <p:cNvGrpSpPr/>
            <p:nvPr/>
          </p:nvGrpSpPr>
          <p:grpSpPr>
            <a:xfrm>
              <a:off x="4245120" y="3894120"/>
              <a:ext cx="284040" cy="247680"/>
              <a:chOff x="4245120" y="3894120"/>
              <a:chExt cx="284040" cy="247680"/>
            </a:xfrm>
          </p:grpSpPr>
          <p:sp>
            <p:nvSpPr>
              <p:cNvPr id="1582" name=""/>
              <p:cNvSpPr/>
              <p:nvPr/>
            </p:nvSpPr>
            <p:spPr>
              <a:xfrm>
                <a:off x="4387680" y="3894120"/>
                <a:ext cx="180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3" name=""/>
              <p:cNvGrpSpPr/>
              <p:nvPr/>
            </p:nvGrpSpPr>
            <p:grpSpPr>
              <a:xfrm>
                <a:off x="4245120" y="3948120"/>
                <a:ext cx="284040" cy="193680"/>
                <a:chOff x="4245120" y="3948120"/>
                <a:chExt cx="284040" cy="193680"/>
              </a:xfrm>
            </p:grpSpPr>
            <p:sp>
              <p:nvSpPr>
                <p:cNvPr id="1584" name=""/>
                <p:cNvSpPr/>
                <p:nvPr/>
              </p:nvSpPr>
              <p:spPr>
                <a:xfrm>
                  <a:off x="4245120" y="3948120"/>
                  <a:ext cx="284040" cy="193680"/>
                </a:xfrm>
                <a:prstGeom prst="rect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4332600" y="4006440"/>
                  <a:ext cx="0" cy="6156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4383360" y="4009680"/>
                  <a:ext cx="0" cy="5868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4433040" y="4011120"/>
                  <a:ext cx="0" cy="5724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4326480" y="4009680"/>
                  <a:ext cx="114840" cy="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89" name=""/>
          <p:cNvGrpSpPr/>
          <p:nvPr/>
        </p:nvGrpSpPr>
        <p:grpSpPr>
          <a:xfrm>
            <a:off x="428760" y="1946160"/>
            <a:ext cx="3200400" cy="1555920"/>
            <a:chOff x="428760" y="1946160"/>
            <a:chExt cx="3200400" cy="1555920"/>
          </a:xfrm>
        </p:grpSpPr>
        <p:sp>
          <p:nvSpPr>
            <p:cNvPr id="1590" name=""/>
            <p:cNvSpPr/>
            <p:nvPr/>
          </p:nvSpPr>
          <p:spPr>
            <a:xfrm>
              <a:off x="428760" y="1946160"/>
              <a:ext cx="32004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cc00"/>
                  </a:solidFill>
                  <a:latin typeface="Arial"/>
                </a:rPr>
                <a:t>Maneuver Element- 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85960" y="2273400"/>
              <a:ext cx="190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antry Company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H="1">
              <a:off x="644400" y="2495520"/>
              <a:ext cx="6480" cy="874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266840" y="2882880"/>
              <a:ext cx="209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9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Infantry (b)                    RO-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54120" y="2997360"/>
              <a:ext cx="342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5" name=""/>
            <p:cNvGrpSpPr/>
            <p:nvPr/>
          </p:nvGrpSpPr>
          <p:grpSpPr>
            <a:xfrm>
              <a:off x="966960" y="2879640"/>
              <a:ext cx="231480" cy="206640"/>
              <a:chOff x="966960" y="2879640"/>
              <a:chExt cx="231480" cy="206640"/>
            </a:xfrm>
          </p:grpSpPr>
          <p:grpSp>
            <p:nvGrpSpPr>
              <p:cNvPr id="1596" name=""/>
              <p:cNvGrpSpPr/>
              <p:nvPr/>
            </p:nvGrpSpPr>
            <p:grpSpPr>
              <a:xfrm>
                <a:off x="1046160" y="2879640"/>
                <a:ext cx="74520" cy="28800"/>
                <a:chOff x="1046160" y="2879640"/>
                <a:chExt cx="74520" cy="28800"/>
              </a:xfrm>
            </p:grpSpPr>
            <p:sp>
              <p:nvSpPr>
                <p:cNvPr id="1597" name=""/>
                <p:cNvSpPr/>
                <p:nvPr/>
              </p:nvSpPr>
              <p:spPr>
                <a:xfrm>
                  <a:off x="1046160" y="287964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1093680" y="28814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9" name=""/>
              <p:cNvGrpSpPr/>
              <p:nvPr/>
            </p:nvGrpSpPr>
            <p:grpSpPr>
              <a:xfrm>
                <a:off x="966960" y="2928960"/>
                <a:ext cx="231480" cy="157320"/>
                <a:chOff x="966960" y="2928960"/>
                <a:chExt cx="231480" cy="157320"/>
              </a:xfrm>
            </p:grpSpPr>
            <p:sp>
              <p:nvSpPr>
                <p:cNvPr id="1600" name=""/>
                <p:cNvSpPr/>
                <p:nvPr/>
              </p:nvSpPr>
              <p:spPr>
                <a:xfrm>
                  <a:off x="966960" y="2928960"/>
                  <a:ext cx="231480" cy="157320"/>
                </a:xfrm>
                <a:prstGeom prst="rect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 flipV="1">
                  <a:off x="969120" y="2930760"/>
                  <a:ext cx="225360" cy="153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966960" y="2931120"/>
                  <a:ext cx="230400" cy="1497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03" name=""/>
            <p:cNvGrpSpPr/>
            <p:nvPr/>
          </p:nvGrpSpPr>
          <p:grpSpPr>
            <a:xfrm>
              <a:off x="654120" y="3127320"/>
              <a:ext cx="2819160" cy="374760"/>
              <a:chOff x="654120" y="3127320"/>
              <a:chExt cx="2819160" cy="374760"/>
            </a:xfrm>
          </p:grpSpPr>
          <p:sp>
            <p:nvSpPr>
              <p:cNvPr id="1604" name=""/>
              <p:cNvSpPr/>
              <p:nvPr/>
            </p:nvSpPr>
            <p:spPr>
              <a:xfrm>
                <a:off x="654120" y="3369960"/>
                <a:ext cx="29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1332000" y="3127320"/>
                <a:ext cx="1600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Organic Fire Support</a:t>
                </a:r>
                <a:r>
                  <a:rPr b="1" lang="en-US" sz="1000" spc="-1" strike="noStrike">
                    <a:solidFill>
                      <a:srgbClr val="99cc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1272960" y="3255840"/>
                <a:ext cx="220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0mm Mortar               RO-1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7" name=""/>
              <p:cNvGrpSpPr/>
              <p:nvPr/>
            </p:nvGrpSpPr>
            <p:grpSpPr>
              <a:xfrm>
                <a:off x="952560" y="3246120"/>
                <a:ext cx="239760" cy="217800"/>
                <a:chOff x="952560" y="3246120"/>
                <a:chExt cx="239760" cy="217800"/>
              </a:xfrm>
            </p:grpSpPr>
            <p:grpSp>
              <p:nvGrpSpPr>
                <p:cNvPr id="1608" name=""/>
                <p:cNvGrpSpPr/>
                <p:nvPr/>
              </p:nvGrpSpPr>
              <p:grpSpPr>
                <a:xfrm>
                  <a:off x="1035000" y="3246120"/>
                  <a:ext cx="74520" cy="28800"/>
                  <a:chOff x="1035000" y="3246120"/>
                  <a:chExt cx="74520" cy="28800"/>
                </a:xfrm>
              </p:grpSpPr>
              <p:sp>
                <p:nvSpPr>
                  <p:cNvPr id="1609" name=""/>
                  <p:cNvSpPr/>
                  <p:nvPr/>
                </p:nvSpPr>
                <p:spPr>
                  <a:xfrm>
                    <a:off x="1035000" y="324612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0" name=""/>
                  <p:cNvSpPr/>
                  <p:nvPr/>
                </p:nvSpPr>
                <p:spPr>
                  <a:xfrm>
                    <a:off x="1082520" y="32479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1" name=""/>
                <p:cNvGrpSpPr/>
                <p:nvPr/>
              </p:nvGrpSpPr>
              <p:grpSpPr>
                <a:xfrm>
                  <a:off x="952560" y="3306600"/>
                  <a:ext cx="239760" cy="157320"/>
                  <a:chOff x="952560" y="3306600"/>
                  <a:chExt cx="239760" cy="157320"/>
                </a:xfrm>
              </p:grpSpPr>
              <p:sp>
                <p:nvSpPr>
                  <p:cNvPr id="1612" name=""/>
                  <p:cNvSpPr/>
                  <p:nvPr/>
                </p:nvSpPr>
                <p:spPr>
                  <a:xfrm>
                    <a:off x="952560" y="3306600"/>
                    <a:ext cx="239760" cy="15732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3" name=""/>
                  <p:cNvSpPr/>
                  <p:nvPr/>
                </p:nvSpPr>
                <p:spPr>
                  <a:xfrm>
                    <a:off x="1036800" y="3432240"/>
                    <a:ext cx="6804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4" name=""/>
                  <p:cNvSpPr/>
                  <p:nvPr/>
                </p:nvSpPr>
                <p:spPr>
                  <a:xfrm>
                    <a:off x="1068480" y="3327120"/>
                    <a:ext cx="0" cy="10656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615" name=""/>
            <p:cNvGrpSpPr/>
            <p:nvPr/>
          </p:nvGrpSpPr>
          <p:grpSpPr>
            <a:xfrm>
              <a:off x="657360" y="2425680"/>
              <a:ext cx="2703240" cy="398520"/>
              <a:chOff x="657360" y="2425680"/>
              <a:chExt cx="2703240" cy="398520"/>
            </a:xfrm>
          </p:grpSpPr>
          <p:sp>
            <p:nvSpPr>
              <p:cNvPr id="1616" name=""/>
              <p:cNvSpPr/>
              <p:nvPr/>
            </p:nvSpPr>
            <p:spPr>
              <a:xfrm>
                <a:off x="1266840" y="2577960"/>
                <a:ext cx="2093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Commander                  RO-12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657360" y="2654280"/>
                <a:ext cx="29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1266840" y="2425680"/>
                <a:ext cx="990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9" name=""/>
              <p:cNvGrpSpPr/>
              <p:nvPr/>
            </p:nvGrpSpPr>
            <p:grpSpPr>
              <a:xfrm>
                <a:off x="963720" y="2549520"/>
                <a:ext cx="237960" cy="206280"/>
                <a:chOff x="963720" y="2549520"/>
                <a:chExt cx="237960" cy="206280"/>
              </a:xfrm>
            </p:grpSpPr>
            <p:sp>
              <p:nvSpPr>
                <p:cNvPr id="1620" name=""/>
                <p:cNvSpPr/>
                <p:nvPr/>
              </p:nvSpPr>
              <p:spPr>
                <a:xfrm>
                  <a:off x="963720" y="2598840"/>
                  <a:ext cx="237960" cy="156960"/>
                </a:xfrm>
                <a:prstGeom prst="rect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1060560" y="254952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22" name=""/>
            <p:cNvGrpSpPr/>
            <p:nvPr/>
          </p:nvGrpSpPr>
          <p:grpSpPr>
            <a:xfrm>
              <a:off x="501480" y="2300400"/>
              <a:ext cx="284400" cy="241200"/>
              <a:chOff x="501480" y="2300400"/>
              <a:chExt cx="284400" cy="241200"/>
            </a:xfrm>
          </p:grpSpPr>
          <p:grpSp>
            <p:nvGrpSpPr>
              <p:cNvPr id="1623" name=""/>
              <p:cNvGrpSpPr/>
              <p:nvPr/>
            </p:nvGrpSpPr>
            <p:grpSpPr>
              <a:xfrm>
                <a:off x="501480" y="2347920"/>
                <a:ext cx="284400" cy="193680"/>
                <a:chOff x="501480" y="2347920"/>
                <a:chExt cx="284400" cy="193680"/>
              </a:xfrm>
            </p:grpSpPr>
            <p:sp>
              <p:nvSpPr>
                <p:cNvPr id="1624" name=""/>
                <p:cNvSpPr/>
                <p:nvPr/>
              </p:nvSpPr>
              <p:spPr>
                <a:xfrm>
                  <a:off x="501480" y="2347920"/>
                  <a:ext cx="284400" cy="193680"/>
                </a:xfrm>
                <a:prstGeom prst="rect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 flipV="1">
                  <a:off x="504360" y="2350800"/>
                  <a:ext cx="276840" cy="189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501480" y="2350800"/>
                  <a:ext cx="282960" cy="184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7" name=""/>
              <p:cNvSpPr/>
              <p:nvPr/>
            </p:nvSpPr>
            <p:spPr>
              <a:xfrm>
                <a:off x="644400" y="23004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 ME-06-&gt;ME-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9" name=""/>
          <p:cNvGrpSpPr/>
          <p:nvPr/>
        </p:nvGrpSpPr>
        <p:grpSpPr>
          <a:xfrm>
            <a:off x="208080" y="549360"/>
            <a:ext cx="3200400" cy="1555920"/>
            <a:chOff x="208080" y="549360"/>
            <a:chExt cx="3200400" cy="1555920"/>
          </a:xfrm>
        </p:grpSpPr>
        <p:sp>
          <p:nvSpPr>
            <p:cNvPr id="1630" name=""/>
            <p:cNvSpPr/>
            <p:nvPr/>
          </p:nvSpPr>
          <p:spPr>
            <a:xfrm>
              <a:off x="208080" y="549360"/>
              <a:ext cx="32004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cc00"/>
                  </a:solidFill>
                  <a:latin typeface="Arial"/>
                </a:rPr>
                <a:t>Maneuver Element- 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12720" y="857160"/>
              <a:ext cx="2795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untain Reconnaissance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H="1">
              <a:off x="423720" y="1116000"/>
              <a:ext cx="12960" cy="857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3" name=""/>
            <p:cNvGrpSpPr/>
            <p:nvPr/>
          </p:nvGrpSpPr>
          <p:grpSpPr>
            <a:xfrm>
              <a:off x="433440" y="1482840"/>
              <a:ext cx="2706480" cy="249120"/>
              <a:chOff x="433440" y="1482840"/>
              <a:chExt cx="2706480" cy="249120"/>
            </a:xfrm>
          </p:grpSpPr>
          <p:sp>
            <p:nvSpPr>
              <p:cNvPr id="1634" name=""/>
              <p:cNvSpPr/>
              <p:nvPr/>
            </p:nvSpPr>
            <p:spPr>
              <a:xfrm>
                <a:off x="1046160" y="1485720"/>
                <a:ext cx="2093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6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Infantry             RO-1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433440" y="1600200"/>
                <a:ext cx="3427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6" name=""/>
              <p:cNvGrpSpPr/>
              <p:nvPr/>
            </p:nvGrpSpPr>
            <p:grpSpPr>
              <a:xfrm>
                <a:off x="745920" y="1482840"/>
                <a:ext cx="231480" cy="205920"/>
                <a:chOff x="745920" y="1482840"/>
                <a:chExt cx="231480" cy="205920"/>
              </a:xfrm>
            </p:grpSpPr>
            <p:grpSp>
              <p:nvGrpSpPr>
                <p:cNvPr id="1637" name=""/>
                <p:cNvGrpSpPr/>
                <p:nvPr/>
              </p:nvGrpSpPr>
              <p:grpSpPr>
                <a:xfrm>
                  <a:off x="825120" y="1482840"/>
                  <a:ext cx="74520" cy="28080"/>
                  <a:chOff x="825120" y="1482840"/>
                  <a:chExt cx="74520" cy="28080"/>
                </a:xfrm>
              </p:grpSpPr>
              <p:sp>
                <p:nvSpPr>
                  <p:cNvPr id="1638" name=""/>
                  <p:cNvSpPr/>
                  <p:nvPr/>
                </p:nvSpPr>
                <p:spPr>
                  <a:xfrm>
                    <a:off x="825120" y="14828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9" name=""/>
                  <p:cNvSpPr/>
                  <p:nvPr/>
                </p:nvSpPr>
                <p:spPr>
                  <a:xfrm>
                    <a:off x="872640" y="14842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40" name=""/>
                <p:cNvGrpSpPr/>
                <p:nvPr/>
              </p:nvGrpSpPr>
              <p:grpSpPr>
                <a:xfrm>
                  <a:off x="745920" y="1531800"/>
                  <a:ext cx="231480" cy="156960"/>
                  <a:chOff x="745920" y="1531800"/>
                  <a:chExt cx="231480" cy="156960"/>
                </a:xfrm>
              </p:grpSpPr>
              <p:sp>
                <p:nvSpPr>
                  <p:cNvPr id="1641" name=""/>
                  <p:cNvSpPr/>
                  <p:nvPr/>
                </p:nvSpPr>
                <p:spPr>
                  <a:xfrm>
                    <a:off x="745920" y="1531800"/>
                    <a:ext cx="231480" cy="15696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2" name=""/>
                  <p:cNvSpPr/>
                  <p:nvPr/>
                </p:nvSpPr>
                <p:spPr>
                  <a:xfrm flipV="1">
                    <a:off x="748080" y="1533960"/>
                    <a:ext cx="225360" cy="153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3" name=""/>
                  <p:cNvSpPr/>
                  <p:nvPr/>
                </p:nvSpPr>
                <p:spPr>
                  <a:xfrm>
                    <a:off x="745920" y="1533960"/>
                    <a:ext cx="230400" cy="149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644" name=""/>
            <p:cNvGrpSpPr/>
            <p:nvPr/>
          </p:nvGrpSpPr>
          <p:grpSpPr>
            <a:xfrm>
              <a:off x="433440" y="1730520"/>
              <a:ext cx="2819520" cy="374760"/>
              <a:chOff x="433440" y="1730520"/>
              <a:chExt cx="2819520" cy="374760"/>
            </a:xfrm>
          </p:grpSpPr>
          <p:sp>
            <p:nvSpPr>
              <p:cNvPr id="1645" name=""/>
              <p:cNvSpPr/>
              <p:nvPr/>
            </p:nvSpPr>
            <p:spPr>
              <a:xfrm>
                <a:off x="433440" y="1973160"/>
                <a:ext cx="29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1111320" y="1730520"/>
                <a:ext cx="1600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1052640" y="1859040"/>
                <a:ext cx="220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7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valry            RO-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8" name=""/>
              <p:cNvGrpSpPr/>
              <p:nvPr/>
            </p:nvGrpSpPr>
            <p:grpSpPr>
              <a:xfrm>
                <a:off x="741240" y="1849320"/>
                <a:ext cx="231840" cy="204840"/>
                <a:chOff x="741240" y="1849320"/>
                <a:chExt cx="231840" cy="204840"/>
              </a:xfrm>
            </p:grpSpPr>
            <p:grpSp>
              <p:nvGrpSpPr>
                <p:cNvPr id="1649" name=""/>
                <p:cNvGrpSpPr/>
                <p:nvPr/>
              </p:nvGrpSpPr>
              <p:grpSpPr>
                <a:xfrm>
                  <a:off x="814320" y="1849320"/>
                  <a:ext cx="74520" cy="28800"/>
                  <a:chOff x="814320" y="1849320"/>
                  <a:chExt cx="74520" cy="28800"/>
                </a:xfrm>
              </p:grpSpPr>
              <p:sp>
                <p:nvSpPr>
                  <p:cNvPr id="1650" name=""/>
                  <p:cNvSpPr/>
                  <p:nvPr/>
                </p:nvSpPr>
                <p:spPr>
                  <a:xfrm>
                    <a:off x="814320" y="184932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1" name=""/>
                  <p:cNvSpPr/>
                  <p:nvPr/>
                </p:nvSpPr>
                <p:spPr>
                  <a:xfrm>
                    <a:off x="861840" y="18511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52" name=""/>
                <p:cNvSpPr/>
                <p:nvPr/>
              </p:nvSpPr>
              <p:spPr>
                <a:xfrm>
                  <a:off x="741240" y="1897200"/>
                  <a:ext cx="231840" cy="156960"/>
                </a:xfrm>
                <a:prstGeom prst="rect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 flipV="1">
                  <a:off x="741240" y="1897200"/>
                  <a:ext cx="230400" cy="155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4" name=""/>
            <p:cNvGrpSpPr/>
            <p:nvPr/>
          </p:nvGrpSpPr>
          <p:grpSpPr>
            <a:xfrm>
              <a:off x="436680" y="1028880"/>
              <a:ext cx="2702880" cy="398520"/>
              <a:chOff x="436680" y="1028880"/>
              <a:chExt cx="2702880" cy="398520"/>
            </a:xfrm>
          </p:grpSpPr>
          <p:sp>
            <p:nvSpPr>
              <p:cNvPr id="1655" name=""/>
              <p:cNvSpPr/>
              <p:nvPr/>
            </p:nvSpPr>
            <p:spPr>
              <a:xfrm>
                <a:off x="1046160" y="1181160"/>
                <a:ext cx="209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Commander     RO-12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436680" y="1257120"/>
                <a:ext cx="29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1046160" y="1028880"/>
                <a:ext cx="990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8" name=""/>
              <p:cNvGrpSpPr/>
              <p:nvPr/>
            </p:nvGrpSpPr>
            <p:grpSpPr>
              <a:xfrm>
                <a:off x="743040" y="1147680"/>
                <a:ext cx="237600" cy="194760"/>
                <a:chOff x="743040" y="1147680"/>
                <a:chExt cx="237600" cy="194760"/>
              </a:xfrm>
            </p:grpSpPr>
            <p:sp>
              <p:nvSpPr>
                <p:cNvPr id="1659" name=""/>
                <p:cNvSpPr/>
                <p:nvPr/>
              </p:nvSpPr>
              <p:spPr>
                <a:xfrm>
                  <a:off x="743040" y="1185480"/>
                  <a:ext cx="237600" cy="156960"/>
                </a:xfrm>
                <a:prstGeom prst="rect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847440" y="114768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61" name=""/>
            <p:cNvGrpSpPr/>
            <p:nvPr/>
          </p:nvGrpSpPr>
          <p:grpSpPr>
            <a:xfrm>
              <a:off x="295200" y="880920"/>
              <a:ext cx="282240" cy="255240"/>
              <a:chOff x="295200" y="880920"/>
              <a:chExt cx="282240" cy="255240"/>
            </a:xfrm>
          </p:grpSpPr>
          <p:sp>
            <p:nvSpPr>
              <p:cNvPr id="1662" name=""/>
              <p:cNvSpPr/>
              <p:nvPr/>
            </p:nvSpPr>
            <p:spPr>
              <a:xfrm>
                <a:off x="431640" y="880920"/>
                <a:ext cx="180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3" name=""/>
              <p:cNvGrpSpPr/>
              <p:nvPr/>
            </p:nvGrpSpPr>
            <p:grpSpPr>
              <a:xfrm>
                <a:off x="295200" y="944640"/>
                <a:ext cx="282240" cy="191520"/>
                <a:chOff x="295200" y="944640"/>
                <a:chExt cx="282240" cy="191520"/>
              </a:xfrm>
            </p:grpSpPr>
            <p:sp>
              <p:nvSpPr>
                <p:cNvPr id="1664" name=""/>
                <p:cNvSpPr/>
                <p:nvPr/>
              </p:nvSpPr>
              <p:spPr>
                <a:xfrm>
                  <a:off x="295200" y="944640"/>
                  <a:ext cx="282240" cy="191520"/>
                </a:xfrm>
                <a:prstGeom prst="rect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 flipV="1">
                  <a:off x="296640" y="947880"/>
                  <a:ext cx="277200" cy="1854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407160" y="1066320"/>
                  <a:ext cx="58320" cy="53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67" name=""/>
          <p:cNvGrpSpPr/>
          <p:nvPr/>
        </p:nvGrpSpPr>
        <p:grpSpPr>
          <a:xfrm>
            <a:off x="295200" y="2281320"/>
            <a:ext cx="3203640" cy="2502720"/>
            <a:chOff x="295200" y="2281320"/>
            <a:chExt cx="3203640" cy="2502720"/>
          </a:xfrm>
        </p:grpSpPr>
        <p:sp>
          <p:nvSpPr>
            <p:cNvPr id="1668" name=""/>
            <p:cNvSpPr/>
            <p:nvPr/>
          </p:nvSpPr>
          <p:spPr>
            <a:xfrm>
              <a:off x="295200" y="2281320"/>
              <a:ext cx="32004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cc00"/>
                  </a:solidFill>
                  <a:latin typeface="Arial"/>
                </a:rPr>
                <a:t>Maneuver Element- 0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9" name=""/>
            <p:cNvGrpSpPr/>
            <p:nvPr/>
          </p:nvGrpSpPr>
          <p:grpSpPr>
            <a:xfrm>
              <a:off x="378000" y="2608200"/>
              <a:ext cx="284040" cy="249120"/>
              <a:chOff x="378000" y="2608200"/>
              <a:chExt cx="284040" cy="249120"/>
            </a:xfrm>
          </p:grpSpPr>
          <p:grpSp>
            <p:nvGrpSpPr>
              <p:cNvPr id="1670" name=""/>
              <p:cNvGrpSpPr/>
              <p:nvPr/>
            </p:nvGrpSpPr>
            <p:grpSpPr>
              <a:xfrm>
                <a:off x="378000" y="2663640"/>
                <a:ext cx="284040" cy="193680"/>
                <a:chOff x="378000" y="2663640"/>
                <a:chExt cx="284040" cy="193680"/>
              </a:xfrm>
            </p:grpSpPr>
            <p:sp>
              <p:nvSpPr>
                <p:cNvPr id="1671" name=""/>
                <p:cNvSpPr/>
                <p:nvPr/>
              </p:nvSpPr>
              <p:spPr>
                <a:xfrm>
                  <a:off x="378000" y="2663640"/>
                  <a:ext cx="284040" cy="193680"/>
                </a:xfrm>
                <a:prstGeom prst="rect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429840" y="2711880"/>
                  <a:ext cx="182160" cy="92520"/>
                </a:xfrm>
                <a:prstGeom prst="ellipse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3" name=""/>
              <p:cNvSpPr/>
              <p:nvPr/>
            </p:nvSpPr>
            <p:spPr>
              <a:xfrm>
                <a:off x="519120" y="26082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4" name=""/>
            <p:cNvSpPr/>
            <p:nvPr/>
          </p:nvSpPr>
          <p:spPr>
            <a:xfrm>
              <a:off x="752400" y="260820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ight Tank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H="1">
              <a:off x="518760" y="2857680"/>
              <a:ext cx="4680" cy="153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6" name=""/>
            <p:cNvGrpSpPr/>
            <p:nvPr/>
          </p:nvGrpSpPr>
          <p:grpSpPr>
            <a:xfrm>
              <a:off x="520560" y="3249720"/>
              <a:ext cx="2971800" cy="246240"/>
              <a:chOff x="520560" y="3249720"/>
              <a:chExt cx="2971800" cy="246240"/>
            </a:xfrm>
          </p:grpSpPr>
          <p:sp>
            <p:nvSpPr>
              <p:cNvPr id="1677" name=""/>
              <p:cNvSpPr/>
              <p:nvPr/>
            </p:nvSpPr>
            <p:spPr>
              <a:xfrm>
                <a:off x="520560" y="3365640"/>
                <a:ext cx="3207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8" name=""/>
              <p:cNvGrpSpPr/>
              <p:nvPr/>
            </p:nvGrpSpPr>
            <p:grpSpPr>
              <a:xfrm>
                <a:off x="814320" y="3249720"/>
                <a:ext cx="247320" cy="203040"/>
                <a:chOff x="814320" y="3249720"/>
                <a:chExt cx="247320" cy="203040"/>
              </a:xfrm>
            </p:grpSpPr>
            <p:grpSp>
              <p:nvGrpSpPr>
                <p:cNvPr id="1679" name=""/>
                <p:cNvGrpSpPr/>
                <p:nvPr/>
              </p:nvGrpSpPr>
              <p:grpSpPr>
                <a:xfrm>
                  <a:off x="814320" y="3295800"/>
                  <a:ext cx="247320" cy="156960"/>
                  <a:chOff x="814320" y="3295800"/>
                  <a:chExt cx="247320" cy="156960"/>
                </a:xfrm>
              </p:grpSpPr>
              <p:sp>
                <p:nvSpPr>
                  <p:cNvPr id="1680" name=""/>
                  <p:cNvSpPr/>
                  <p:nvPr/>
                </p:nvSpPr>
                <p:spPr>
                  <a:xfrm>
                    <a:off x="814320" y="3295800"/>
                    <a:ext cx="247320" cy="15696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>
                    <a:off x="859680" y="3335040"/>
                    <a:ext cx="158760" cy="7488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82" name=""/>
                <p:cNvGrpSpPr/>
                <p:nvPr/>
              </p:nvGrpSpPr>
              <p:grpSpPr>
                <a:xfrm>
                  <a:off x="897120" y="3249720"/>
                  <a:ext cx="79560" cy="28080"/>
                  <a:chOff x="897120" y="3249720"/>
                  <a:chExt cx="79560" cy="28080"/>
                </a:xfrm>
              </p:grpSpPr>
              <p:sp>
                <p:nvSpPr>
                  <p:cNvPr id="1683" name=""/>
                  <p:cNvSpPr/>
                  <p:nvPr/>
                </p:nvSpPr>
                <p:spPr>
                  <a:xfrm>
                    <a:off x="897120" y="3249720"/>
                    <a:ext cx="302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4" name=""/>
                  <p:cNvSpPr/>
                  <p:nvPr/>
                </p:nvSpPr>
                <p:spPr>
                  <a:xfrm>
                    <a:off x="947880" y="3251160"/>
                    <a:ext cx="288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85" name=""/>
              <p:cNvSpPr/>
              <p:nvPr/>
            </p:nvSpPr>
            <p:spPr>
              <a:xfrm>
                <a:off x="1130040" y="3249720"/>
                <a:ext cx="2362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R1 Light Tank            RO-0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6" name=""/>
            <p:cNvGrpSpPr/>
            <p:nvPr/>
          </p:nvGrpSpPr>
          <p:grpSpPr>
            <a:xfrm>
              <a:off x="527040" y="2730600"/>
              <a:ext cx="2971800" cy="398520"/>
              <a:chOff x="527040" y="2730600"/>
              <a:chExt cx="2971800" cy="398520"/>
            </a:xfrm>
          </p:grpSpPr>
          <p:sp>
            <p:nvSpPr>
              <p:cNvPr id="1687" name=""/>
              <p:cNvSpPr/>
              <p:nvPr/>
            </p:nvSpPr>
            <p:spPr>
              <a:xfrm>
                <a:off x="527040" y="2998800"/>
                <a:ext cx="320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1136520" y="2882880"/>
                <a:ext cx="2362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R1 Light Tank            RO-0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1136520" y="2730600"/>
                <a:ext cx="1058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0" name=""/>
              <p:cNvGrpSpPr/>
              <p:nvPr/>
            </p:nvGrpSpPr>
            <p:grpSpPr>
              <a:xfrm>
                <a:off x="820440" y="2885760"/>
                <a:ext cx="247680" cy="199440"/>
                <a:chOff x="820440" y="2885760"/>
                <a:chExt cx="247680" cy="199440"/>
              </a:xfrm>
            </p:grpSpPr>
            <p:grpSp>
              <p:nvGrpSpPr>
                <p:cNvPr id="1691" name=""/>
                <p:cNvGrpSpPr/>
                <p:nvPr/>
              </p:nvGrpSpPr>
              <p:grpSpPr>
                <a:xfrm>
                  <a:off x="820440" y="2928240"/>
                  <a:ext cx="247680" cy="156960"/>
                  <a:chOff x="820440" y="2928240"/>
                  <a:chExt cx="247680" cy="156960"/>
                </a:xfrm>
              </p:grpSpPr>
              <p:sp>
                <p:nvSpPr>
                  <p:cNvPr id="1692" name=""/>
                  <p:cNvSpPr/>
                  <p:nvPr/>
                </p:nvSpPr>
                <p:spPr>
                  <a:xfrm>
                    <a:off x="820440" y="2928240"/>
                    <a:ext cx="247680" cy="15696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3" name=""/>
                  <p:cNvSpPr/>
                  <p:nvPr/>
                </p:nvSpPr>
                <p:spPr>
                  <a:xfrm>
                    <a:off x="865800" y="2967480"/>
                    <a:ext cx="158760" cy="7488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94" name=""/>
                <p:cNvSpPr/>
                <p:nvPr/>
              </p:nvSpPr>
              <p:spPr>
                <a:xfrm>
                  <a:off x="930240" y="288576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95" name=""/>
            <p:cNvGrpSpPr/>
            <p:nvPr/>
          </p:nvGrpSpPr>
          <p:grpSpPr>
            <a:xfrm>
              <a:off x="519120" y="4245120"/>
              <a:ext cx="2622600" cy="538920"/>
              <a:chOff x="519120" y="4245120"/>
              <a:chExt cx="2622600" cy="538920"/>
            </a:xfrm>
          </p:grpSpPr>
          <p:sp>
            <p:nvSpPr>
              <p:cNvPr id="1696" name=""/>
              <p:cNvSpPr/>
              <p:nvPr/>
            </p:nvSpPr>
            <p:spPr>
              <a:xfrm>
                <a:off x="849600" y="4392720"/>
                <a:ext cx="0" cy="28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1043280" y="4552920"/>
                <a:ext cx="20811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ight Truck                       GE-3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1096920" y="4392720"/>
                <a:ext cx="633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19120" y="437364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060560" y="4264200"/>
                <a:ext cx="20811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37mm AT Gun                 RO-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1" name=""/>
              <p:cNvGrpSpPr/>
              <p:nvPr/>
            </p:nvGrpSpPr>
            <p:grpSpPr>
              <a:xfrm>
                <a:off x="779760" y="4535640"/>
                <a:ext cx="231480" cy="244440"/>
                <a:chOff x="779760" y="4535640"/>
                <a:chExt cx="231480" cy="244440"/>
              </a:xfrm>
            </p:grpSpPr>
            <p:grpSp>
              <p:nvGrpSpPr>
                <p:cNvPr id="1702" name=""/>
                <p:cNvGrpSpPr/>
                <p:nvPr/>
              </p:nvGrpSpPr>
              <p:grpSpPr>
                <a:xfrm>
                  <a:off x="860400" y="4535640"/>
                  <a:ext cx="74520" cy="28080"/>
                  <a:chOff x="860400" y="4535640"/>
                  <a:chExt cx="74520" cy="28080"/>
                </a:xfrm>
              </p:grpSpPr>
              <p:sp>
                <p:nvSpPr>
                  <p:cNvPr id="1703" name=""/>
                  <p:cNvSpPr/>
                  <p:nvPr/>
                </p:nvSpPr>
                <p:spPr>
                  <a:xfrm>
                    <a:off x="860400" y="45356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4" name=""/>
                  <p:cNvSpPr/>
                  <p:nvPr/>
                </p:nvSpPr>
                <p:spPr>
                  <a:xfrm>
                    <a:off x="907920" y="45370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05" name=""/>
                <p:cNvGrpSpPr/>
                <p:nvPr/>
              </p:nvGrpSpPr>
              <p:grpSpPr>
                <a:xfrm>
                  <a:off x="779760" y="4589640"/>
                  <a:ext cx="231480" cy="190440"/>
                  <a:chOff x="779760" y="4589640"/>
                  <a:chExt cx="231480" cy="190440"/>
                </a:xfrm>
              </p:grpSpPr>
              <p:sp>
                <p:nvSpPr>
                  <p:cNvPr id="1706" name=""/>
                  <p:cNvSpPr/>
                  <p:nvPr/>
                </p:nvSpPr>
                <p:spPr>
                  <a:xfrm>
                    <a:off x="779760" y="4589640"/>
                    <a:ext cx="231480" cy="15696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7" name=""/>
                  <p:cNvSpPr/>
                  <p:nvPr/>
                </p:nvSpPr>
                <p:spPr>
                  <a:xfrm>
                    <a:off x="790560" y="4753080"/>
                    <a:ext cx="26640" cy="2700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8" name=""/>
                  <p:cNvSpPr/>
                  <p:nvPr/>
                </p:nvSpPr>
                <p:spPr>
                  <a:xfrm>
                    <a:off x="971640" y="4753080"/>
                    <a:ext cx="28080" cy="2700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09" name=""/>
              <p:cNvGrpSpPr/>
              <p:nvPr/>
            </p:nvGrpSpPr>
            <p:grpSpPr>
              <a:xfrm>
                <a:off x="779760" y="4245120"/>
                <a:ext cx="231480" cy="207720"/>
                <a:chOff x="779760" y="4245120"/>
                <a:chExt cx="231480" cy="207720"/>
              </a:xfrm>
            </p:grpSpPr>
            <p:grpSp>
              <p:nvGrpSpPr>
                <p:cNvPr id="1710" name=""/>
                <p:cNvGrpSpPr/>
                <p:nvPr/>
              </p:nvGrpSpPr>
              <p:grpSpPr>
                <a:xfrm>
                  <a:off x="860400" y="4245120"/>
                  <a:ext cx="74520" cy="28080"/>
                  <a:chOff x="860400" y="4245120"/>
                  <a:chExt cx="74520" cy="28080"/>
                </a:xfrm>
              </p:grpSpPr>
              <p:sp>
                <p:nvSpPr>
                  <p:cNvPr id="1711" name=""/>
                  <p:cNvSpPr/>
                  <p:nvPr/>
                </p:nvSpPr>
                <p:spPr>
                  <a:xfrm>
                    <a:off x="860400" y="424512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2" name=""/>
                  <p:cNvSpPr/>
                  <p:nvPr/>
                </p:nvSpPr>
                <p:spPr>
                  <a:xfrm>
                    <a:off x="907920" y="424656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3" name=""/>
                <p:cNvGrpSpPr/>
                <p:nvPr/>
              </p:nvGrpSpPr>
              <p:grpSpPr>
                <a:xfrm>
                  <a:off x="779760" y="4295880"/>
                  <a:ext cx="231480" cy="156960"/>
                  <a:chOff x="779760" y="4295880"/>
                  <a:chExt cx="231480" cy="156960"/>
                </a:xfrm>
              </p:grpSpPr>
              <p:grpSp>
                <p:nvGrpSpPr>
                  <p:cNvPr id="1714" name=""/>
                  <p:cNvGrpSpPr/>
                  <p:nvPr/>
                </p:nvGrpSpPr>
                <p:grpSpPr>
                  <a:xfrm>
                    <a:off x="779760" y="4295880"/>
                    <a:ext cx="231480" cy="156960"/>
                    <a:chOff x="779760" y="4295880"/>
                    <a:chExt cx="231480" cy="156960"/>
                  </a:xfrm>
                </p:grpSpPr>
                <p:sp>
                  <p:nvSpPr>
                    <p:cNvPr id="1715" name=""/>
                    <p:cNvSpPr/>
                    <p:nvPr/>
                  </p:nvSpPr>
                  <p:spPr>
                    <a:xfrm>
                      <a:off x="779760" y="4295880"/>
                      <a:ext cx="231480" cy="15696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6" name=""/>
                    <p:cNvSpPr/>
                    <p:nvPr/>
                  </p:nvSpPr>
                  <p:spPr>
                    <a:xfrm flipV="1">
                      <a:off x="779760" y="4298760"/>
                      <a:ext cx="114120" cy="1519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7" name=""/>
                    <p:cNvSpPr/>
                    <p:nvPr/>
                  </p:nvSpPr>
                  <p:spPr>
                    <a:xfrm>
                      <a:off x="893880" y="4295880"/>
                      <a:ext cx="114480" cy="1537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18" name=""/>
                  <p:cNvSpPr/>
                  <p:nvPr/>
                </p:nvSpPr>
                <p:spPr>
                  <a:xfrm>
                    <a:off x="880920" y="4360680"/>
                    <a:ext cx="28440" cy="26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19" name=""/>
            <p:cNvGrpSpPr/>
            <p:nvPr/>
          </p:nvGrpSpPr>
          <p:grpSpPr>
            <a:xfrm>
              <a:off x="523800" y="3568680"/>
              <a:ext cx="2706480" cy="249120"/>
              <a:chOff x="523800" y="3568680"/>
              <a:chExt cx="2706480" cy="249120"/>
            </a:xfrm>
          </p:grpSpPr>
          <p:sp>
            <p:nvSpPr>
              <p:cNvPr id="1720" name=""/>
              <p:cNvSpPr/>
              <p:nvPr/>
            </p:nvSpPr>
            <p:spPr>
              <a:xfrm>
                <a:off x="1136520" y="3571560"/>
                <a:ext cx="2093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6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Infantry                      RO-1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523800" y="3686040"/>
                <a:ext cx="3427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22" name=""/>
              <p:cNvGrpSpPr/>
              <p:nvPr/>
            </p:nvGrpSpPr>
            <p:grpSpPr>
              <a:xfrm>
                <a:off x="836280" y="3568680"/>
                <a:ext cx="231480" cy="205920"/>
                <a:chOff x="836280" y="3568680"/>
                <a:chExt cx="231480" cy="205920"/>
              </a:xfrm>
            </p:grpSpPr>
            <p:grpSp>
              <p:nvGrpSpPr>
                <p:cNvPr id="1723" name=""/>
                <p:cNvGrpSpPr/>
                <p:nvPr/>
              </p:nvGrpSpPr>
              <p:grpSpPr>
                <a:xfrm>
                  <a:off x="915480" y="3568680"/>
                  <a:ext cx="74520" cy="28080"/>
                  <a:chOff x="915480" y="3568680"/>
                  <a:chExt cx="74520" cy="28080"/>
                </a:xfrm>
              </p:grpSpPr>
              <p:sp>
                <p:nvSpPr>
                  <p:cNvPr id="1724" name=""/>
                  <p:cNvSpPr/>
                  <p:nvPr/>
                </p:nvSpPr>
                <p:spPr>
                  <a:xfrm>
                    <a:off x="915480" y="356868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5" name=""/>
                  <p:cNvSpPr/>
                  <p:nvPr/>
                </p:nvSpPr>
                <p:spPr>
                  <a:xfrm>
                    <a:off x="963000" y="35701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6" name=""/>
                <p:cNvGrpSpPr/>
                <p:nvPr/>
              </p:nvGrpSpPr>
              <p:grpSpPr>
                <a:xfrm>
                  <a:off x="836280" y="3617640"/>
                  <a:ext cx="231480" cy="156960"/>
                  <a:chOff x="836280" y="3617640"/>
                  <a:chExt cx="231480" cy="156960"/>
                </a:xfrm>
              </p:grpSpPr>
              <p:sp>
                <p:nvSpPr>
                  <p:cNvPr id="1727" name=""/>
                  <p:cNvSpPr/>
                  <p:nvPr/>
                </p:nvSpPr>
                <p:spPr>
                  <a:xfrm>
                    <a:off x="836280" y="3617640"/>
                    <a:ext cx="231480" cy="15696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8" name=""/>
                  <p:cNvSpPr/>
                  <p:nvPr/>
                </p:nvSpPr>
                <p:spPr>
                  <a:xfrm flipV="1">
                    <a:off x="838440" y="3619800"/>
                    <a:ext cx="225360" cy="153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9" name=""/>
                  <p:cNvSpPr/>
                  <p:nvPr/>
                </p:nvSpPr>
                <p:spPr>
                  <a:xfrm>
                    <a:off x="836280" y="3619800"/>
                    <a:ext cx="230400" cy="149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30" name=""/>
            <p:cNvGrpSpPr/>
            <p:nvPr/>
          </p:nvGrpSpPr>
          <p:grpSpPr>
            <a:xfrm>
              <a:off x="523800" y="3816360"/>
              <a:ext cx="2819160" cy="374760"/>
              <a:chOff x="523800" y="3816360"/>
              <a:chExt cx="2819160" cy="374760"/>
            </a:xfrm>
          </p:grpSpPr>
          <p:sp>
            <p:nvSpPr>
              <p:cNvPr id="1731" name=""/>
              <p:cNvSpPr/>
              <p:nvPr/>
            </p:nvSpPr>
            <p:spPr>
              <a:xfrm>
                <a:off x="523800" y="4059000"/>
                <a:ext cx="29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1201680" y="3816360"/>
                <a:ext cx="1600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1142640" y="3944880"/>
                <a:ext cx="220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6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otorcycle                RO-0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4" name=""/>
              <p:cNvGrpSpPr/>
              <p:nvPr/>
            </p:nvGrpSpPr>
            <p:grpSpPr>
              <a:xfrm>
                <a:off x="831600" y="3935160"/>
                <a:ext cx="231840" cy="237960"/>
                <a:chOff x="831600" y="3935160"/>
                <a:chExt cx="231840" cy="237960"/>
              </a:xfrm>
            </p:grpSpPr>
            <p:grpSp>
              <p:nvGrpSpPr>
                <p:cNvPr id="1735" name=""/>
                <p:cNvGrpSpPr/>
                <p:nvPr/>
              </p:nvGrpSpPr>
              <p:grpSpPr>
                <a:xfrm>
                  <a:off x="904680" y="3935160"/>
                  <a:ext cx="74520" cy="28800"/>
                  <a:chOff x="904680" y="3935160"/>
                  <a:chExt cx="74520" cy="28800"/>
                </a:xfrm>
              </p:grpSpPr>
              <p:sp>
                <p:nvSpPr>
                  <p:cNvPr id="1736" name=""/>
                  <p:cNvSpPr/>
                  <p:nvPr/>
                </p:nvSpPr>
                <p:spPr>
                  <a:xfrm>
                    <a:off x="904680" y="393516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7" name=""/>
                  <p:cNvSpPr/>
                  <p:nvPr/>
                </p:nvSpPr>
                <p:spPr>
                  <a:xfrm>
                    <a:off x="952200" y="39369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8" name=""/>
                <p:cNvGrpSpPr/>
                <p:nvPr/>
              </p:nvGrpSpPr>
              <p:grpSpPr>
                <a:xfrm>
                  <a:off x="831600" y="3982680"/>
                  <a:ext cx="231840" cy="190440"/>
                  <a:chOff x="831600" y="3982680"/>
                  <a:chExt cx="231840" cy="190440"/>
                </a:xfrm>
              </p:grpSpPr>
              <p:sp>
                <p:nvSpPr>
                  <p:cNvPr id="1739" name=""/>
                  <p:cNvSpPr/>
                  <p:nvPr/>
                </p:nvSpPr>
                <p:spPr>
                  <a:xfrm>
                    <a:off x="831600" y="3983040"/>
                    <a:ext cx="231840" cy="15696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0" name=""/>
                  <p:cNvSpPr/>
                  <p:nvPr/>
                </p:nvSpPr>
                <p:spPr>
                  <a:xfrm flipV="1">
                    <a:off x="831600" y="3982680"/>
                    <a:ext cx="230760" cy="1558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1" name=""/>
                  <p:cNvSpPr/>
                  <p:nvPr/>
                </p:nvSpPr>
                <p:spPr>
                  <a:xfrm>
                    <a:off x="842040" y="4145760"/>
                    <a:ext cx="27000" cy="2736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2" name=""/>
                  <p:cNvSpPr/>
                  <p:nvPr/>
                </p:nvSpPr>
                <p:spPr>
                  <a:xfrm>
                    <a:off x="1024200" y="4145760"/>
                    <a:ext cx="27000" cy="2736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743" name=""/>
          <p:cNvGrpSpPr/>
          <p:nvPr/>
        </p:nvGrpSpPr>
        <p:grpSpPr>
          <a:xfrm>
            <a:off x="291960" y="4962600"/>
            <a:ext cx="3200400" cy="1555920"/>
            <a:chOff x="291960" y="4962600"/>
            <a:chExt cx="3200400" cy="1555920"/>
          </a:xfrm>
        </p:grpSpPr>
        <p:sp>
          <p:nvSpPr>
            <p:cNvPr id="1744" name=""/>
            <p:cNvSpPr/>
            <p:nvPr/>
          </p:nvSpPr>
          <p:spPr>
            <a:xfrm>
              <a:off x="291960" y="4962600"/>
              <a:ext cx="32004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cc00"/>
                  </a:solidFill>
                  <a:latin typeface="Arial"/>
                </a:rPr>
                <a:t>Maneuver Element- 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96960" y="5270400"/>
              <a:ext cx="2795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valry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 flipH="1">
              <a:off x="507600" y="5529240"/>
              <a:ext cx="12600" cy="857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7" name=""/>
            <p:cNvGrpSpPr/>
            <p:nvPr/>
          </p:nvGrpSpPr>
          <p:grpSpPr>
            <a:xfrm>
              <a:off x="517680" y="5896080"/>
              <a:ext cx="2706480" cy="249120"/>
              <a:chOff x="517680" y="5896080"/>
              <a:chExt cx="2706480" cy="249120"/>
            </a:xfrm>
          </p:grpSpPr>
          <p:sp>
            <p:nvSpPr>
              <p:cNvPr id="1748" name=""/>
              <p:cNvSpPr/>
              <p:nvPr/>
            </p:nvSpPr>
            <p:spPr>
              <a:xfrm>
                <a:off x="1130400" y="5898960"/>
                <a:ext cx="2093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9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Infantry             RO-1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517680" y="6013440"/>
                <a:ext cx="3427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0" name=""/>
              <p:cNvGrpSpPr/>
              <p:nvPr/>
            </p:nvGrpSpPr>
            <p:grpSpPr>
              <a:xfrm>
                <a:off x="830160" y="5896080"/>
                <a:ext cx="231480" cy="205920"/>
                <a:chOff x="830160" y="5896080"/>
                <a:chExt cx="231480" cy="205920"/>
              </a:xfrm>
            </p:grpSpPr>
            <p:grpSp>
              <p:nvGrpSpPr>
                <p:cNvPr id="1751" name=""/>
                <p:cNvGrpSpPr/>
                <p:nvPr/>
              </p:nvGrpSpPr>
              <p:grpSpPr>
                <a:xfrm>
                  <a:off x="909360" y="5896080"/>
                  <a:ext cx="74520" cy="28080"/>
                  <a:chOff x="909360" y="5896080"/>
                  <a:chExt cx="74520" cy="28080"/>
                </a:xfrm>
              </p:grpSpPr>
              <p:sp>
                <p:nvSpPr>
                  <p:cNvPr id="1752" name=""/>
                  <p:cNvSpPr/>
                  <p:nvPr/>
                </p:nvSpPr>
                <p:spPr>
                  <a:xfrm>
                    <a:off x="909360" y="589608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3" name=""/>
                  <p:cNvSpPr/>
                  <p:nvPr/>
                </p:nvSpPr>
                <p:spPr>
                  <a:xfrm>
                    <a:off x="956880" y="58975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4" name=""/>
                <p:cNvGrpSpPr/>
                <p:nvPr/>
              </p:nvGrpSpPr>
              <p:grpSpPr>
                <a:xfrm>
                  <a:off x="830160" y="5945040"/>
                  <a:ext cx="231480" cy="156960"/>
                  <a:chOff x="830160" y="5945040"/>
                  <a:chExt cx="231480" cy="156960"/>
                </a:xfrm>
              </p:grpSpPr>
              <p:sp>
                <p:nvSpPr>
                  <p:cNvPr id="1755" name=""/>
                  <p:cNvSpPr/>
                  <p:nvPr/>
                </p:nvSpPr>
                <p:spPr>
                  <a:xfrm>
                    <a:off x="830160" y="5945040"/>
                    <a:ext cx="231480" cy="15696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6" name=""/>
                  <p:cNvSpPr/>
                  <p:nvPr/>
                </p:nvSpPr>
                <p:spPr>
                  <a:xfrm flipV="1">
                    <a:off x="832320" y="5947200"/>
                    <a:ext cx="225360" cy="153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7" name=""/>
                  <p:cNvSpPr/>
                  <p:nvPr/>
                </p:nvSpPr>
                <p:spPr>
                  <a:xfrm>
                    <a:off x="830160" y="5947200"/>
                    <a:ext cx="230400" cy="149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58" name=""/>
            <p:cNvGrpSpPr/>
            <p:nvPr/>
          </p:nvGrpSpPr>
          <p:grpSpPr>
            <a:xfrm>
              <a:off x="517680" y="6143760"/>
              <a:ext cx="2818800" cy="374760"/>
              <a:chOff x="517680" y="6143760"/>
              <a:chExt cx="2818800" cy="374760"/>
            </a:xfrm>
          </p:grpSpPr>
          <p:sp>
            <p:nvSpPr>
              <p:cNvPr id="1759" name=""/>
              <p:cNvSpPr/>
              <p:nvPr/>
            </p:nvSpPr>
            <p:spPr>
              <a:xfrm>
                <a:off x="517680" y="6386400"/>
                <a:ext cx="2995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1195200" y="6143760"/>
                <a:ext cx="1599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1136520" y="6272280"/>
                <a:ext cx="2199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0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valry          RO-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62" name=""/>
              <p:cNvGrpSpPr/>
              <p:nvPr/>
            </p:nvGrpSpPr>
            <p:grpSpPr>
              <a:xfrm>
                <a:off x="825120" y="6262560"/>
                <a:ext cx="231480" cy="204840"/>
                <a:chOff x="825120" y="6262560"/>
                <a:chExt cx="231480" cy="204840"/>
              </a:xfrm>
            </p:grpSpPr>
            <p:grpSp>
              <p:nvGrpSpPr>
                <p:cNvPr id="1763" name=""/>
                <p:cNvGrpSpPr/>
                <p:nvPr/>
              </p:nvGrpSpPr>
              <p:grpSpPr>
                <a:xfrm>
                  <a:off x="897840" y="6262560"/>
                  <a:ext cx="73800" cy="28800"/>
                  <a:chOff x="897840" y="6262560"/>
                  <a:chExt cx="73800" cy="28800"/>
                </a:xfrm>
              </p:grpSpPr>
              <p:sp>
                <p:nvSpPr>
                  <p:cNvPr id="1764" name=""/>
                  <p:cNvSpPr/>
                  <p:nvPr/>
                </p:nvSpPr>
                <p:spPr>
                  <a:xfrm>
                    <a:off x="897840" y="626256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>
                    <a:off x="945000" y="626436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66" name=""/>
                <p:cNvSpPr/>
                <p:nvPr/>
              </p:nvSpPr>
              <p:spPr>
                <a:xfrm>
                  <a:off x="825120" y="6310440"/>
                  <a:ext cx="231480" cy="156960"/>
                </a:xfrm>
                <a:prstGeom prst="rect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 flipV="1">
                  <a:off x="825120" y="6310440"/>
                  <a:ext cx="230040" cy="155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68" name=""/>
            <p:cNvGrpSpPr/>
            <p:nvPr/>
          </p:nvGrpSpPr>
          <p:grpSpPr>
            <a:xfrm>
              <a:off x="520560" y="5442120"/>
              <a:ext cx="2703600" cy="398520"/>
              <a:chOff x="520560" y="5442120"/>
              <a:chExt cx="2703600" cy="398520"/>
            </a:xfrm>
          </p:grpSpPr>
          <p:sp>
            <p:nvSpPr>
              <p:cNvPr id="1769" name=""/>
              <p:cNvSpPr/>
              <p:nvPr/>
            </p:nvSpPr>
            <p:spPr>
              <a:xfrm>
                <a:off x="1130400" y="5594400"/>
                <a:ext cx="2093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Commander     RO-12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520560" y="5670360"/>
                <a:ext cx="30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1130400" y="5442120"/>
                <a:ext cx="99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2" name=""/>
              <p:cNvGrpSpPr/>
              <p:nvPr/>
            </p:nvGrpSpPr>
            <p:grpSpPr>
              <a:xfrm>
                <a:off x="827280" y="5560920"/>
                <a:ext cx="237960" cy="194760"/>
                <a:chOff x="827280" y="5560920"/>
                <a:chExt cx="237960" cy="194760"/>
              </a:xfrm>
            </p:grpSpPr>
            <p:sp>
              <p:nvSpPr>
                <p:cNvPr id="1773" name=""/>
                <p:cNvSpPr/>
                <p:nvPr/>
              </p:nvSpPr>
              <p:spPr>
                <a:xfrm>
                  <a:off x="827280" y="5598720"/>
                  <a:ext cx="237960" cy="156960"/>
                </a:xfrm>
                <a:prstGeom prst="rect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>
                  <a:off x="932040" y="55609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75" name=""/>
            <p:cNvGrpSpPr/>
            <p:nvPr/>
          </p:nvGrpSpPr>
          <p:grpSpPr>
            <a:xfrm>
              <a:off x="379440" y="5294160"/>
              <a:ext cx="282600" cy="255600"/>
              <a:chOff x="379440" y="5294160"/>
              <a:chExt cx="282600" cy="255600"/>
            </a:xfrm>
          </p:grpSpPr>
          <p:sp>
            <p:nvSpPr>
              <p:cNvPr id="1776" name=""/>
              <p:cNvSpPr/>
              <p:nvPr/>
            </p:nvSpPr>
            <p:spPr>
              <a:xfrm>
                <a:off x="515880" y="5294160"/>
                <a:ext cx="180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79440" y="5357880"/>
                <a:ext cx="282600" cy="191880"/>
              </a:xfrm>
              <a:prstGeom prst="rect">
                <a:avLst/>
              </a:prstGeom>
              <a:solidFill>
                <a:srgbClr val="cc33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flipV="1">
                <a:off x="380880" y="5361120"/>
                <a:ext cx="277920" cy="18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9" name=""/>
          <p:cNvGrpSpPr/>
          <p:nvPr/>
        </p:nvGrpSpPr>
        <p:grpSpPr>
          <a:xfrm>
            <a:off x="4124160" y="471600"/>
            <a:ext cx="3044880" cy="2032200"/>
            <a:chOff x="4124160" y="471600"/>
            <a:chExt cx="3044880" cy="2032200"/>
          </a:xfrm>
        </p:grpSpPr>
        <p:sp>
          <p:nvSpPr>
            <p:cNvPr id="1780" name=""/>
            <p:cNvSpPr/>
            <p:nvPr/>
          </p:nvSpPr>
          <p:spPr>
            <a:xfrm>
              <a:off x="4124160" y="471600"/>
              <a:ext cx="1963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cc00"/>
                  </a:solidFill>
                  <a:latin typeface="Arial"/>
                </a:rPr>
                <a:t>Maneuver Element- 0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529160" y="779400"/>
              <a:ext cx="252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torized Reconnaissance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H="1">
              <a:off x="4347720" y="1038240"/>
              <a:ext cx="4680" cy="1333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3" name=""/>
            <p:cNvGrpSpPr/>
            <p:nvPr/>
          </p:nvGrpSpPr>
          <p:grpSpPr>
            <a:xfrm>
              <a:off x="4349880" y="1333440"/>
              <a:ext cx="2706480" cy="249120"/>
              <a:chOff x="4349880" y="1333440"/>
              <a:chExt cx="2706480" cy="249120"/>
            </a:xfrm>
          </p:grpSpPr>
          <p:sp>
            <p:nvSpPr>
              <p:cNvPr id="1784" name=""/>
              <p:cNvSpPr/>
              <p:nvPr/>
            </p:nvSpPr>
            <p:spPr>
              <a:xfrm>
                <a:off x="4962600" y="1336320"/>
                <a:ext cx="2093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9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Infantry             RO-1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4349880" y="1450800"/>
                <a:ext cx="3427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6" name=""/>
              <p:cNvGrpSpPr/>
              <p:nvPr/>
            </p:nvGrpSpPr>
            <p:grpSpPr>
              <a:xfrm>
                <a:off x="4662360" y="1333440"/>
                <a:ext cx="231480" cy="205920"/>
                <a:chOff x="4662360" y="1333440"/>
                <a:chExt cx="231480" cy="205920"/>
              </a:xfrm>
            </p:grpSpPr>
            <p:grpSp>
              <p:nvGrpSpPr>
                <p:cNvPr id="1787" name=""/>
                <p:cNvGrpSpPr/>
                <p:nvPr/>
              </p:nvGrpSpPr>
              <p:grpSpPr>
                <a:xfrm>
                  <a:off x="4741560" y="1333440"/>
                  <a:ext cx="74520" cy="28080"/>
                  <a:chOff x="4741560" y="1333440"/>
                  <a:chExt cx="74520" cy="28080"/>
                </a:xfrm>
              </p:grpSpPr>
              <p:sp>
                <p:nvSpPr>
                  <p:cNvPr id="1788" name=""/>
                  <p:cNvSpPr/>
                  <p:nvPr/>
                </p:nvSpPr>
                <p:spPr>
                  <a:xfrm>
                    <a:off x="4741560" y="13334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>
                    <a:off x="4789080" y="13348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90" name=""/>
                <p:cNvGrpSpPr/>
                <p:nvPr/>
              </p:nvGrpSpPr>
              <p:grpSpPr>
                <a:xfrm>
                  <a:off x="4662360" y="1382400"/>
                  <a:ext cx="231480" cy="156960"/>
                  <a:chOff x="4662360" y="1382400"/>
                  <a:chExt cx="231480" cy="156960"/>
                </a:xfrm>
              </p:grpSpPr>
              <p:sp>
                <p:nvSpPr>
                  <p:cNvPr id="1791" name=""/>
                  <p:cNvSpPr/>
                  <p:nvPr/>
                </p:nvSpPr>
                <p:spPr>
                  <a:xfrm>
                    <a:off x="4662360" y="1382400"/>
                    <a:ext cx="231480" cy="15696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2" name=""/>
                  <p:cNvSpPr/>
                  <p:nvPr/>
                </p:nvSpPr>
                <p:spPr>
                  <a:xfrm flipV="1">
                    <a:off x="4664520" y="1384560"/>
                    <a:ext cx="225360" cy="153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3" name=""/>
                  <p:cNvSpPr/>
                  <p:nvPr/>
                </p:nvSpPr>
                <p:spPr>
                  <a:xfrm>
                    <a:off x="4662360" y="1384560"/>
                    <a:ext cx="230400" cy="149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94" name=""/>
            <p:cNvGrpSpPr/>
            <p:nvPr/>
          </p:nvGrpSpPr>
          <p:grpSpPr>
            <a:xfrm>
              <a:off x="4349880" y="2097000"/>
              <a:ext cx="2819160" cy="406800"/>
              <a:chOff x="4349880" y="2097000"/>
              <a:chExt cx="2819160" cy="406800"/>
            </a:xfrm>
          </p:grpSpPr>
          <p:sp>
            <p:nvSpPr>
              <p:cNvPr id="1795" name=""/>
              <p:cNvSpPr/>
              <p:nvPr/>
            </p:nvSpPr>
            <p:spPr>
              <a:xfrm>
                <a:off x="4349880" y="2371680"/>
                <a:ext cx="29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4948200" y="2097000"/>
                <a:ext cx="1004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4968720" y="2257560"/>
                <a:ext cx="220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6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ight Truck     GE-3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98" name=""/>
              <p:cNvGrpSpPr/>
              <p:nvPr/>
            </p:nvGrpSpPr>
            <p:grpSpPr>
              <a:xfrm>
                <a:off x="4657680" y="2247840"/>
                <a:ext cx="231840" cy="237960"/>
                <a:chOff x="4657680" y="2247840"/>
                <a:chExt cx="231840" cy="237960"/>
              </a:xfrm>
            </p:grpSpPr>
            <p:grpSp>
              <p:nvGrpSpPr>
                <p:cNvPr id="1799" name=""/>
                <p:cNvGrpSpPr/>
                <p:nvPr/>
              </p:nvGrpSpPr>
              <p:grpSpPr>
                <a:xfrm>
                  <a:off x="4730760" y="2247840"/>
                  <a:ext cx="74520" cy="28800"/>
                  <a:chOff x="4730760" y="2247840"/>
                  <a:chExt cx="74520" cy="28800"/>
                </a:xfrm>
              </p:grpSpPr>
              <p:sp>
                <p:nvSpPr>
                  <p:cNvPr id="1800" name=""/>
                  <p:cNvSpPr/>
                  <p:nvPr/>
                </p:nvSpPr>
                <p:spPr>
                  <a:xfrm>
                    <a:off x="4730760" y="224784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1" name=""/>
                  <p:cNvSpPr/>
                  <p:nvPr/>
                </p:nvSpPr>
                <p:spPr>
                  <a:xfrm>
                    <a:off x="4778280" y="224964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02" name=""/>
                <p:cNvGrpSpPr/>
                <p:nvPr/>
              </p:nvGrpSpPr>
              <p:grpSpPr>
                <a:xfrm>
                  <a:off x="4657680" y="2295360"/>
                  <a:ext cx="231840" cy="190440"/>
                  <a:chOff x="4657680" y="2295360"/>
                  <a:chExt cx="231840" cy="190440"/>
                </a:xfrm>
              </p:grpSpPr>
              <p:sp>
                <p:nvSpPr>
                  <p:cNvPr id="1803" name=""/>
                  <p:cNvSpPr/>
                  <p:nvPr/>
                </p:nvSpPr>
                <p:spPr>
                  <a:xfrm>
                    <a:off x="4657680" y="2295720"/>
                    <a:ext cx="231840" cy="15696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4" name=""/>
                  <p:cNvSpPr/>
                  <p:nvPr/>
                </p:nvSpPr>
                <p:spPr>
                  <a:xfrm flipV="1">
                    <a:off x="4657680" y="2295360"/>
                    <a:ext cx="230760" cy="1558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5" name=""/>
                  <p:cNvSpPr/>
                  <p:nvPr/>
                </p:nvSpPr>
                <p:spPr>
                  <a:xfrm>
                    <a:off x="4668120" y="2458440"/>
                    <a:ext cx="27000" cy="2736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6" name=""/>
                  <p:cNvSpPr/>
                  <p:nvPr/>
                </p:nvSpPr>
                <p:spPr>
                  <a:xfrm>
                    <a:off x="4850280" y="2458440"/>
                    <a:ext cx="27000" cy="2736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807" name=""/>
            <p:cNvGrpSpPr/>
            <p:nvPr/>
          </p:nvGrpSpPr>
          <p:grpSpPr>
            <a:xfrm>
              <a:off x="4206960" y="803160"/>
              <a:ext cx="284040" cy="291960"/>
              <a:chOff x="4206960" y="803160"/>
              <a:chExt cx="284040" cy="291960"/>
            </a:xfrm>
          </p:grpSpPr>
          <p:sp>
            <p:nvSpPr>
              <p:cNvPr id="1808" name=""/>
              <p:cNvSpPr/>
              <p:nvPr/>
            </p:nvSpPr>
            <p:spPr>
              <a:xfrm>
                <a:off x="4348080" y="803160"/>
                <a:ext cx="180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09" name=""/>
              <p:cNvGrpSpPr/>
              <p:nvPr/>
            </p:nvGrpSpPr>
            <p:grpSpPr>
              <a:xfrm>
                <a:off x="4206960" y="861480"/>
                <a:ext cx="284040" cy="233640"/>
                <a:chOff x="4206960" y="861480"/>
                <a:chExt cx="284040" cy="233640"/>
              </a:xfrm>
            </p:grpSpPr>
            <p:sp>
              <p:nvSpPr>
                <p:cNvPr id="1810" name=""/>
                <p:cNvSpPr/>
                <p:nvPr/>
              </p:nvSpPr>
              <p:spPr>
                <a:xfrm>
                  <a:off x="4206960" y="861840"/>
                  <a:ext cx="284040" cy="192600"/>
                </a:xfrm>
                <a:prstGeom prst="rect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 flipV="1">
                  <a:off x="4206960" y="861480"/>
                  <a:ext cx="282600" cy="1911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4219920" y="1061640"/>
                  <a:ext cx="33120" cy="33480"/>
                </a:xfrm>
                <a:prstGeom prst="ellipse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4443120" y="1061640"/>
                  <a:ext cx="33120" cy="33480"/>
                </a:xfrm>
                <a:prstGeom prst="ellipse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4" name=""/>
            <p:cNvGrpSpPr/>
            <p:nvPr/>
          </p:nvGrpSpPr>
          <p:grpSpPr>
            <a:xfrm>
              <a:off x="4352760" y="950760"/>
              <a:ext cx="2703600" cy="398880"/>
              <a:chOff x="4352760" y="950760"/>
              <a:chExt cx="2703600" cy="398880"/>
            </a:xfrm>
          </p:grpSpPr>
          <p:sp>
            <p:nvSpPr>
              <p:cNvPr id="1815" name=""/>
              <p:cNvSpPr/>
              <p:nvPr/>
            </p:nvSpPr>
            <p:spPr>
              <a:xfrm>
                <a:off x="4962600" y="1103400"/>
                <a:ext cx="2093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Commander     RO-12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352760" y="1179360"/>
                <a:ext cx="30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962600" y="950760"/>
                <a:ext cx="99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8" name=""/>
              <p:cNvGrpSpPr/>
              <p:nvPr/>
            </p:nvGrpSpPr>
            <p:grpSpPr>
              <a:xfrm>
                <a:off x="4659480" y="1069920"/>
                <a:ext cx="237960" cy="195480"/>
                <a:chOff x="4659480" y="1069920"/>
                <a:chExt cx="237960" cy="195480"/>
              </a:xfrm>
            </p:grpSpPr>
            <p:sp>
              <p:nvSpPr>
                <p:cNvPr id="1819" name=""/>
                <p:cNvSpPr/>
                <p:nvPr/>
              </p:nvSpPr>
              <p:spPr>
                <a:xfrm>
                  <a:off x="4659480" y="1108080"/>
                  <a:ext cx="237960" cy="157320"/>
                </a:xfrm>
                <a:prstGeom prst="rect">
                  <a:avLst/>
                </a:prstGeom>
                <a:solidFill>
                  <a:srgbClr val="cc33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4764240" y="106992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21" name=""/>
            <p:cNvGrpSpPr/>
            <p:nvPr/>
          </p:nvGrpSpPr>
          <p:grpSpPr>
            <a:xfrm>
              <a:off x="4352760" y="1585800"/>
              <a:ext cx="2743200" cy="246240"/>
              <a:chOff x="4352760" y="1585800"/>
              <a:chExt cx="2743200" cy="246240"/>
            </a:xfrm>
          </p:grpSpPr>
          <p:sp>
            <p:nvSpPr>
              <p:cNvPr id="1822" name=""/>
              <p:cNvSpPr/>
              <p:nvPr/>
            </p:nvSpPr>
            <p:spPr>
              <a:xfrm>
                <a:off x="4895640" y="1585800"/>
                <a:ext cx="220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eavy Machine Gun     RO-1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3" name=""/>
              <p:cNvGrpSpPr/>
              <p:nvPr/>
            </p:nvGrpSpPr>
            <p:grpSpPr>
              <a:xfrm>
                <a:off x="4649400" y="1604520"/>
                <a:ext cx="245880" cy="206280"/>
                <a:chOff x="4649400" y="1604520"/>
                <a:chExt cx="245880" cy="206280"/>
              </a:xfrm>
            </p:grpSpPr>
            <p:grpSp>
              <p:nvGrpSpPr>
                <p:cNvPr id="1824" name=""/>
                <p:cNvGrpSpPr/>
                <p:nvPr/>
              </p:nvGrpSpPr>
              <p:grpSpPr>
                <a:xfrm>
                  <a:off x="4649400" y="1642680"/>
                  <a:ext cx="245880" cy="168120"/>
                  <a:chOff x="4649400" y="1642680"/>
                  <a:chExt cx="245880" cy="168120"/>
                </a:xfrm>
              </p:grpSpPr>
              <p:sp>
                <p:nvSpPr>
                  <p:cNvPr id="1825" name=""/>
                  <p:cNvSpPr/>
                  <p:nvPr/>
                </p:nvSpPr>
                <p:spPr>
                  <a:xfrm>
                    <a:off x="4649400" y="1642680"/>
                    <a:ext cx="245880" cy="16812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6" name=""/>
                  <p:cNvSpPr/>
                  <p:nvPr/>
                </p:nvSpPr>
                <p:spPr>
                  <a:xfrm flipV="1">
                    <a:off x="4660200" y="1656720"/>
                    <a:ext cx="220680" cy="1281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7" name=""/>
                  <p:cNvSpPr/>
                  <p:nvPr/>
                </p:nvSpPr>
                <p:spPr>
                  <a:xfrm>
                    <a:off x="4660200" y="1656720"/>
                    <a:ext cx="228600" cy="1393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8" name=""/>
                  <p:cNvSpPr/>
                  <p:nvPr/>
                </p:nvSpPr>
                <p:spPr>
                  <a:xfrm>
                    <a:off x="4658760" y="1652040"/>
                    <a:ext cx="61920" cy="1504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cc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29" name=""/>
                <p:cNvGrpSpPr/>
                <p:nvPr/>
              </p:nvGrpSpPr>
              <p:grpSpPr>
                <a:xfrm>
                  <a:off x="4735080" y="1604520"/>
                  <a:ext cx="74520" cy="28800"/>
                  <a:chOff x="4735080" y="1604520"/>
                  <a:chExt cx="74520" cy="28800"/>
                </a:xfrm>
              </p:grpSpPr>
              <p:sp>
                <p:nvSpPr>
                  <p:cNvPr id="1830" name=""/>
                  <p:cNvSpPr/>
                  <p:nvPr/>
                </p:nvSpPr>
                <p:spPr>
                  <a:xfrm>
                    <a:off x="4735080" y="160452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1" name=""/>
                  <p:cNvSpPr/>
                  <p:nvPr/>
                </p:nvSpPr>
                <p:spPr>
                  <a:xfrm>
                    <a:off x="4782600" y="16063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32" name=""/>
              <p:cNvSpPr/>
              <p:nvPr/>
            </p:nvSpPr>
            <p:spPr>
              <a:xfrm>
                <a:off x="4352760" y="1722240"/>
                <a:ext cx="2998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3" name=""/>
            <p:cNvGrpSpPr/>
            <p:nvPr/>
          </p:nvGrpSpPr>
          <p:grpSpPr>
            <a:xfrm>
              <a:off x="4351320" y="1749600"/>
              <a:ext cx="2793960" cy="353880"/>
              <a:chOff x="4351320" y="1749600"/>
              <a:chExt cx="2793960" cy="353880"/>
            </a:xfrm>
          </p:grpSpPr>
          <p:grpSp>
            <p:nvGrpSpPr>
              <p:cNvPr id="1834" name=""/>
              <p:cNvGrpSpPr/>
              <p:nvPr/>
            </p:nvGrpSpPr>
            <p:grpSpPr>
              <a:xfrm>
                <a:off x="4351320" y="1857240"/>
                <a:ext cx="2793960" cy="246240"/>
                <a:chOff x="4351320" y="1857240"/>
                <a:chExt cx="2793960" cy="246240"/>
              </a:xfrm>
            </p:grpSpPr>
            <p:sp>
              <p:nvSpPr>
                <p:cNvPr id="1835" name=""/>
                <p:cNvSpPr/>
                <p:nvPr/>
              </p:nvSpPr>
              <p:spPr>
                <a:xfrm>
                  <a:off x="4944960" y="1857240"/>
                  <a:ext cx="2200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81mm Mortar  GE-3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36" name=""/>
                <p:cNvGrpSpPr/>
                <p:nvPr/>
              </p:nvGrpSpPr>
              <p:grpSpPr>
                <a:xfrm>
                  <a:off x="4635360" y="1861920"/>
                  <a:ext cx="239760" cy="202320"/>
                  <a:chOff x="4635360" y="1861920"/>
                  <a:chExt cx="239760" cy="202320"/>
                </a:xfrm>
              </p:grpSpPr>
              <p:grpSp>
                <p:nvGrpSpPr>
                  <p:cNvPr id="1837" name=""/>
                  <p:cNvGrpSpPr/>
                  <p:nvPr/>
                </p:nvGrpSpPr>
                <p:grpSpPr>
                  <a:xfrm>
                    <a:off x="4635360" y="1907640"/>
                    <a:ext cx="239760" cy="156600"/>
                    <a:chOff x="4635360" y="1907640"/>
                    <a:chExt cx="239760" cy="156600"/>
                  </a:xfrm>
                </p:grpSpPr>
                <p:sp>
                  <p:nvSpPr>
                    <p:cNvPr id="1838" name=""/>
                    <p:cNvSpPr/>
                    <p:nvPr/>
                  </p:nvSpPr>
                  <p:spPr>
                    <a:xfrm>
                      <a:off x="4635360" y="1907640"/>
                      <a:ext cx="239760" cy="15660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9" name=""/>
                    <p:cNvSpPr/>
                    <p:nvPr/>
                  </p:nvSpPr>
                  <p:spPr>
                    <a:xfrm>
                      <a:off x="4719600" y="2032560"/>
                      <a:ext cx="68040" cy="0"/>
                    </a:xfrm>
                    <a:prstGeom prst="line">
                      <a:avLst/>
                    </a:prstGeom>
                    <a:ln w="158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0" name=""/>
                    <p:cNvSpPr/>
                    <p:nvPr/>
                  </p:nvSpPr>
                  <p:spPr>
                    <a:xfrm>
                      <a:off x="4751280" y="1927800"/>
                      <a:ext cx="0" cy="10584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41" name=""/>
                  <p:cNvGrpSpPr/>
                  <p:nvPr/>
                </p:nvGrpSpPr>
                <p:grpSpPr>
                  <a:xfrm>
                    <a:off x="4717800" y="1861920"/>
                    <a:ext cx="74520" cy="28080"/>
                    <a:chOff x="4717800" y="1861920"/>
                    <a:chExt cx="74520" cy="28080"/>
                  </a:xfrm>
                </p:grpSpPr>
                <p:sp>
                  <p:nvSpPr>
                    <p:cNvPr id="1842" name=""/>
                    <p:cNvSpPr/>
                    <p:nvPr/>
                  </p:nvSpPr>
                  <p:spPr>
                    <a:xfrm>
                      <a:off x="4717800" y="186192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3" name=""/>
                    <p:cNvSpPr/>
                    <p:nvPr/>
                  </p:nvSpPr>
                  <p:spPr>
                    <a:xfrm>
                      <a:off x="4765320" y="186336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844" name=""/>
                <p:cNvSpPr/>
                <p:nvPr/>
              </p:nvSpPr>
              <p:spPr>
                <a:xfrm>
                  <a:off x="4351320" y="1985760"/>
                  <a:ext cx="29988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5" name=""/>
              <p:cNvSpPr/>
              <p:nvPr/>
            </p:nvSpPr>
            <p:spPr>
              <a:xfrm>
                <a:off x="4897440" y="1749600"/>
                <a:ext cx="1600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Organic Fire Sup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3433320" y="0"/>
            <a:ext cx="2987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 FS-01-&gt;FS-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7" name=""/>
          <p:cNvGrpSpPr/>
          <p:nvPr/>
        </p:nvGrpSpPr>
        <p:grpSpPr>
          <a:xfrm>
            <a:off x="3240" y="581040"/>
            <a:ext cx="3530520" cy="1805040"/>
            <a:chOff x="3240" y="581040"/>
            <a:chExt cx="3530520" cy="1805040"/>
          </a:xfrm>
        </p:grpSpPr>
        <p:sp>
          <p:nvSpPr>
            <p:cNvPr id="1848" name=""/>
            <p:cNvSpPr/>
            <p:nvPr/>
          </p:nvSpPr>
          <p:spPr>
            <a:xfrm>
              <a:off x="77760" y="581040"/>
              <a:ext cx="2017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cc00"/>
                  </a:solidFill>
                  <a:latin typeface="Arial"/>
                </a:rPr>
                <a:t>Fire Support Element-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9" name=""/>
            <p:cNvGrpSpPr/>
            <p:nvPr/>
          </p:nvGrpSpPr>
          <p:grpSpPr>
            <a:xfrm>
              <a:off x="3240" y="941400"/>
              <a:ext cx="3530520" cy="1444680"/>
              <a:chOff x="3240" y="941400"/>
              <a:chExt cx="3530520" cy="1444680"/>
            </a:xfrm>
          </p:grpSpPr>
          <p:sp>
            <p:nvSpPr>
              <p:cNvPr id="1850" name=""/>
              <p:cNvSpPr/>
              <p:nvPr/>
            </p:nvSpPr>
            <p:spPr>
              <a:xfrm>
                <a:off x="243000" y="1160640"/>
                <a:ext cx="0" cy="520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463680" y="987480"/>
                <a:ext cx="2209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Light Artillery Battery (a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2" name=""/>
              <p:cNvGrpSpPr/>
              <p:nvPr/>
            </p:nvGrpSpPr>
            <p:grpSpPr>
              <a:xfrm>
                <a:off x="98280" y="941400"/>
                <a:ext cx="292320" cy="254160"/>
                <a:chOff x="98280" y="941400"/>
                <a:chExt cx="292320" cy="254160"/>
              </a:xfrm>
            </p:grpSpPr>
            <p:sp>
              <p:nvSpPr>
                <p:cNvPr id="1853" name=""/>
                <p:cNvSpPr/>
                <p:nvPr/>
              </p:nvSpPr>
              <p:spPr>
                <a:xfrm>
                  <a:off x="244440" y="9414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4" name=""/>
                <p:cNvGrpSpPr/>
                <p:nvPr/>
              </p:nvGrpSpPr>
              <p:grpSpPr>
                <a:xfrm>
                  <a:off x="98280" y="1004760"/>
                  <a:ext cx="292320" cy="190800"/>
                  <a:chOff x="98280" y="1004760"/>
                  <a:chExt cx="292320" cy="190800"/>
                </a:xfrm>
              </p:grpSpPr>
              <p:sp>
                <p:nvSpPr>
                  <p:cNvPr id="1855" name=""/>
                  <p:cNvSpPr/>
                  <p:nvPr/>
                </p:nvSpPr>
                <p:spPr>
                  <a:xfrm>
                    <a:off x="98280" y="1004760"/>
                    <a:ext cx="292320" cy="19080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6" name=""/>
                  <p:cNvSpPr/>
                  <p:nvPr/>
                </p:nvSpPr>
                <p:spPr>
                  <a:xfrm>
                    <a:off x="227160" y="1077840"/>
                    <a:ext cx="34920" cy="33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57" name=""/>
              <p:cNvGrpSpPr/>
              <p:nvPr/>
            </p:nvGrpSpPr>
            <p:grpSpPr>
              <a:xfrm>
                <a:off x="247680" y="1417680"/>
                <a:ext cx="2544840" cy="398520"/>
                <a:chOff x="247680" y="1417680"/>
                <a:chExt cx="2544840" cy="398520"/>
              </a:xfrm>
            </p:grpSpPr>
            <p:sp>
              <p:nvSpPr>
                <p:cNvPr id="1858" name=""/>
                <p:cNvSpPr/>
                <p:nvPr/>
              </p:nvSpPr>
              <p:spPr>
                <a:xfrm>
                  <a:off x="247680" y="1681200"/>
                  <a:ext cx="177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9" name=""/>
                <p:cNvGrpSpPr/>
                <p:nvPr/>
              </p:nvGrpSpPr>
              <p:grpSpPr>
                <a:xfrm>
                  <a:off x="374760" y="1542960"/>
                  <a:ext cx="239760" cy="216000"/>
                  <a:chOff x="374760" y="1542960"/>
                  <a:chExt cx="239760" cy="216000"/>
                </a:xfrm>
              </p:grpSpPr>
              <p:grpSp>
                <p:nvGrpSpPr>
                  <p:cNvPr id="1860" name=""/>
                  <p:cNvGrpSpPr/>
                  <p:nvPr/>
                </p:nvGrpSpPr>
                <p:grpSpPr>
                  <a:xfrm>
                    <a:off x="468360" y="1542960"/>
                    <a:ext cx="74520" cy="28800"/>
                    <a:chOff x="468360" y="1542960"/>
                    <a:chExt cx="74520" cy="28800"/>
                  </a:xfrm>
                </p:grpSpPr>
                <p:sp>
                  <p:nvSpPr>
                    <p:cNvPr id="1861" name=""/>
                    <p:cNvSpPr/>
                    <p:nvPr/>
                  </p:nvSpPr>
                  <p:spPr>
                    <a:xfrm>
                      <a:off x="468360" y="154296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2" name=""/>
                    <p:cNvSpPr/>
                    <p:nvPr/>
                  </p:nvSpPr>
                  <p:spPr>
                    <a:xfrm>
                      <a:off x="515880" y="154476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63" name=""/>
                  <p:cNvGrpSpPr/>
                  <p:nvPr/>
                </p:nvGrpSpPr>
                <p:grpSpPr>
                  <a:xfrm>
                    <a:off x="374760" y="1601640"/>
                    <a:ext cx="239760" cy="157320"/>
                    <a:chOff x="374760" y="1601640"/>
                    <a:chExt cx="239760" cy="157320"/>
                  </a:xfrm>
                </p:grpSpPr>
                <p:sp>
                  <p:nvSpPr>
                    <p:cNvPr id="1864" name=""/>
                    <p:cNvSpPr/>
                    <p:nvPr/>
                  </p:nvSpPr>
                  <p:spPr>
                    <a:xfrm>
                      <a:off x="374760" y="1601640"/>
                      <a:ext cx="239760" cy="15732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5" name=""/>
                    <p:cNvSpPr/>
                    <p:nvPr/>
                  </p:nvSpPr>
                  <p:spPr>
                    <a:xfrm>
                      <a:off x="477720" y="1662120"/>
                      <a:ext cx="28800" cy="2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866" name=""/>
                <p:cNvSpPr/>
                <p:nvPr/>
              </p:nvSpPr>
              <p:spPr>
                <a:xfrm>
                  <a:off x="725400" y="1417680"/>
                  <a:ext cx="20494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Off-board Direct Fire Sup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709560" y="1569960"/>
                  <a:ext cx="2082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2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75mm Field Gun (b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8" name=""/>
              <p:cNvGrpSpPr/>
              <p:nvPr/>
            </p:nvGrpSpPr>
            <p:grpSpPr>
              <a:xfrm>
                <a:off x="244440" y="1160640"/>
                <a:ext cx="2765520" cy="345960"/>
                <a:chOff x="244440" y="1160640"/>
                <a:chExt cx="2765520" cy="345960"/>
              </a:xfrm>
            </p:grpSpPr>
            <p:sp>
              <p:nvSpPr>
                <p:cNvPr id="1869" name=""/>
                <p:cNvSpPr/>
                <p:nvPr/>
              </p:nvSpPr>
              <p:spPr>
                <a:xfrm>
                  <a:off x="244440" y="1382760"/>
                  <a:ext cx="182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70" name=""/>
                <p:cNvGrpSpPr/>
                <p:nvPr/>
              </p:nvGrpSpPr>
              <p:grpSpPr>
                <a:xfrm>
                  <a:off x="390600" y="1260360"/>
                  <a:ext cx="231840" cy="196920"/>
                  <a:chOff x="390600" y="1260360"/>
                  <a:chExt cx="231840" cy="196920"/>
                </a:xfrm>
              </p:grpSpPr>
              <p:grpSp>
                <p:nvGrpSpPr>
                  <p:cNvPr id="1871" name=""/>
                  <p:cNvGrpSpPr/>
                  <p:nvPr/>
                </p:nvGrpSpPr>
                <p:grpSpPr>
                  <a:xfrm>
                    <a:off x="390600" y="1300320"/>
                    <a:ext cx="231840" cy="156960"/>
                    <a:chOff x="390600" y="1300320"/>
                    <a:chExt cx="231840" cy="156960"/>
                  </a:xfrm>
                </p:grpSpPr>
                <p:sp>
                  <p:nvSpPr>
                    <p:cNvPr id="1872" name=""/>
                    <p:cNvSpPr/>
                    <p:nvPr/>
                  </p:nvSpPr>
                  <p:spPr>
                    <a:xfrm>
                      <a:off x="390600" y="1300320"/>
                      <a:ext cx="231840" cy="15696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3" name=""/>
                    <p:cNvSpPr/>
                    <p:nvPr/>
                  </p:nvSpPr>
                  <p:spPr>
                    <a:xfrm>
                      <a:off x="473040" y="1351080"/>
                      <a:ext cx="57240" cy="554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080" bIns="-28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74" name=""/>
                  <p:cNvSpPr/>
                  <p:nvPr/>
                </p:nvSpPr>
                <p:spPr>
                  <a:xfrm>
                    <a:off x="493560" y="12603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75" name=""/>
                <p:cNvSpPr/>
                <p:nvPr/>
              </p:nvSpPr>
              <p:spPr>
                <a:xfrm>
                  <a:off x="727200" y="1160640"/>
                  <a:ext cx="1336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On-board Attachmen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711360" y="1260360"/>
                  <a:ext cx="229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Forward Observer           RO-2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7" name=""/>
              <p:cNvSpPr/>
              <p:nvPr/>
            </p:nvSpPr>
            <p:spPr>
              <a:xfrm>
                <a:off x="3240" y="1863720"/>
                <a:ext cx="353052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spcBef>
                    <a:spcPts val="499"/>
                  </a:spcBef>
                  <a:buClr>
                    <a:srgbClr val="000000"/>
                  </a:buClr>
                  <a:buFont typeface="Arial"/>
                  <a:buAutoNum type="alphaLcParenR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he Forward Observer may be attached to any maneuver el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spcBef>
                    <a:spcPts val="499"/>
                  </a:spcBef>
                  <a:buClr>
                    <a:srgbClr val="000000"/>
                  </a:buClr>
                  <a:buFont typeface="Arial"/>
                  <a:buAutoNum type="alphaLcParenR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ndirect Fire weapon rating: -1 vs V, 0 vs T,G,sV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78" name=""/>
          <p:cNvGrpSpPr/>
          <p:nvPr/>
        </p:nvGrpSpPr>
        <p:grpSpPr>
          <a:xfrm>
            <a:off x="98280" y="2513160"/>
            <a:ext cx="3530880" cy="3029040"/>
            <a:chOff x="98280" y="2513160"/>
            <a:chExt cx="3530880" cy="3029040"/>
          </a:xfrm>
        </p:grpSpPr>
        <p:sp>
          <p:nvSpPr>
            <p:cNvPr id="1879" name=""/>
            <p:cNvSpPr/>
            <p:nvPr/>
          </p:nvSpPr>
          <p:spPr>
            <a:xfrm>
              <a:off x="98280" y="5019840"/>
              <a:ext cx="353088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he Forward Observer may be attached to any maneuver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direct Fire weapon rating: -1 vs V, 0 vs T,G,s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0" name=""/>
            <p:cNvGrpSpPr/>
            <p:nvPr/>
          </p:nvGrpSpPr>
          <p:grpSpPr>
            <a:xfrm>
              <a:off x="98280" y="2513160"/>
              <a:ext cx="2931480" cy="2273400"/>
              <a:chOff x="98280" y="2513160"/>
              <a:chExt cx="2931480" cy="2273400"/>
            </a:xfrm>
          </p:grpSpPr>
          <p:sp>
            <p:nvSpPr>
              <p:cNvPr id="1881" name=""/>
              <p:cNvSpPr/>
              <p:nvPr/>
            </p:nvSpPr>
            <p:spPr>
              <a:xfrm>
                <a:off x="263160" y="3092400"/>
                <a:ext cx="0" cy="1559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2" name=""/>
              <p:cNvGrpSpPr/>
              <p:nvPr/>
            </p:nvGrpSpPr>
            <p:grpSpPr>
              <a:xfrm>
                <a:off x="106200" y="2874960"/>
                <a:ext cx="291960" cy="239760"/>
                <a:chOff x="106200" y="2874960"/>
                <a:chExt cx="291960" cy="239760"/>
              </a:xfrm>
            </p:grpSpPr>
            <p:grpSp>
              <p:nvGrpSpPr>
                <p:cNvPr id="1883" name=""/>
                <p:cNvGrpSpPr/>
                <p:nvPr/>
              </p:nvGrpSpPr>
              <p:grpSpPr>
                <a:xfrm>
                  <a:off x="213840" y="2874960"/>
                  <a:ext cx="75960" cy="63360"/>
                  <a:chOff x="213840" y="2874960"/>
                  <a:chExt cx="75960" cy="63360"/>
                </a:xfrm>
              </p:grpSpPr>
              <p:sp>
                <p:nvSpPr>
                  <p:cNvPr id="1884" name=""/>
                  <p:cNvSpPr/>
                  <p:nvPr/>
                </p:nvSpPr>
                <p:spPr>
                  <a:xfrm>
                    <a:off x="213840" y="287496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5" name=""/>
                  <p:cNvSpPr/>
                  <p:nvPr/>
                </p:nvSpPr>
                <p:spPr>
                  <a:xfrm>
                    <a:off x="289800" y="287496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86" name=""/>
                <p:cNvGrpSpPr/>
                <p:nvPr/>
              </p:nvGrpSpPr>
              <p:grpSpPr>
                <a:xfrm>
                  <a:off x="106200" y="2924280"/>
                  <a:ext cx="291960" cy="190440"/>
                  <a:chOff x="106200" y="2924280"/>
                  <a:chExt cx="291960" cy="190440"/>
                </a:xfrm>
              </p:grpSpPr>
              <p:sp>
                <p:nvSpPr>
                  <p:cNvPr id="1887" name=""/>
                  <p:cNvSpPr/>
                  <p:nvPr/>
                </p:nvSpPr>
                <p:spPr>
                  <a:xfrm>
                    <a:off x="106200" y="2924280"/>
                    <a:ext cx="291960" cy="19044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8" name=""/>
                  <p:cNvSpPr/>
                  <p:nvPr/>
                </p:nvSpPr>
                <p:spPr>
                  <a:xfrm>
                    <a:off x="234720" y="2997000"/>
                    <a:ext cx="34560" cy="33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89" name=""/>
              <p:cNvSpPr/>
              <p:nvPr/>
            </p:nvSpPr>
            <p:spPr>
              <a:xfrm>
                <a:off x="98280" y="2513160"/>
                <a:ext cx="201744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cc00"/>
                    </a:solidFill>
                    <a:latin typeface="Arial"/>
                  </a:rPr>
                  <a:t>Fire Support Element-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483840" y="2919600"/>
                <a:ext cx="2210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Light Artillery Battalion (a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745920" y="3349800"/>
                <a:ext cx="20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Off-board Direct Fire Sup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2" name=""/>
              <p:cNvGrpSpPr/>
              <p:nvPr/>
            </p:nvGrpSpPr>
            <p:grpSpPr>
              <a:xfrm>
                <a:off x="264960" y="3092400"/>
                <a:ext cx="2764800" cy="345960"/>
                <a:chOff x="264960" y="3092400"/>
                <a:chExt cx="2764800" cy="345960"/>
              </a:xfrm>
            </p:grpSpPr>
            <p:sp>
              <p:nvSpPr>
                <p:cNvPr id="1893" name=""/>
                <p:cNvSpPr/>
                <p:nvPr/>
              </p:nvSpPr>
              <p:spPr>
                <a:xfrm>
                  <a:off x="264960" y="3314520"/>
                  <a:ext cx="1821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94" name=""/>
                <p:cNvGrpSpPr/>
                <p:nvPr/>
              </p:nvGrpSpPr>
              <p:grpSpPr>
                <a:xfrm>
                  <a:off x="410760" y="3192120"/>
                  <a:ext cx="231480" cy="196920"/>
                  <a:chOff x="410760" y="3192120"/>
                  <a:chExt cx="231480" cy="196920"/>
                </a:xfrm>
              </p:grpSpPr>
              <p:grpSp>
                <p:nvGrpSpPr>
                  <p:cNvPr id="1895" name=""/>
                  <p:cNvGrpSpPr/>
                  <p:nvPr/>
                </p:nvGrpSpPr>
                <p:grpSpPr>
                  <a:xfrm>
                    <a:off x="410760" y="3232080"/>
                    <a:ext cx="231480" cy="156960"/>
                    <a:chOff x="410760" y="3232080"/>
                    <a:chExt cx="231480" cy="156960"/>
                  </a:xfrm>
                </p:grpSpPr>
                <p:sp>
                  <p:nvSpPr>
                    <p:cNvPr id="1896" name=""/>
                    <p:cNvSpPr/>
                    <p:nvPr/>
                  </p:nvSpPr>
                  <p:spPr>
                    <a:xfrm>
                      <a:off x="410760" y="3232080"/>
                      <a:ext cx="231480" cy="15696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7" name=""/>
                    <p:cNvSpPr/>
                    <p:nvPr/>
                  </p:nvSpPr>
                  <p:spPr>
                    <a:xfrm>
                      <a:off x="492840" y="3282840"/>
                      <a:ext cx="56880" cy="554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080" bIns="-28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98" name=""/>
                  <p:cNvSpPr/>
                  <p:nvPr/>
                </p:nvSpPr>
                <p:spPr>
                  <a:xfrm>
                    <a:off x="513360" y="319212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99" name=""/>
                <p:cNvSpPr/>
                <p:nvPr/>
              </p:nvSpPr>
              <p:spPr>
                <a:xfrm>
                  <a:off x="747360" y="3092400"/>
                  <a:ext cx="13363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On-board Attachmen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731520" y="3192120"/>
                  <a:ext cx="2298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Forward Observer           RO-2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1" name=""/>
              <p:cNvGrpSpPr/>
              <p:nvPr/>
            </p:nvGrpSpPr>
            <p:grpSpPr>
              <a:xfrm>
                <a:off x="263160" y="3508560"/>
                <a:ext cx="2544840" cy="432000"/>
                <a:chOff x="263160" y="3508560"/>
                <a:chExt cx="2544840" cy="432000"/>
              </a:xfrm>
            </p:grpSpPr>
            <p:sp>
              <p:nvSpPr>
                <p:cNvPr id="1902" name=""/>
                <p:cNvSpPr/>
                <p:nvPr/>
              </p:nvSpPr>
              <p:spPr>
                <a:xfrm>
                  <a:off x="263160" y="3805560"/>
                  <a:ext cx="177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725040" y="3694320"/>
                  <a:ext cx="2082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2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75mm Field Gun (b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4" name=""/>
                <p:cNvGrpSpPr/>
                <p:nvPr/>
              </p:nvGrpSpPr>
              <p:grpSpPr>
                <a:xfrm>
                  <a:off x="390240" y="3659400"/>
                  <a:ext cx="291960" cy="254160"/>
                  <a:chOff x="390240" y="3659400"/>
                  <a:chExt cx="291960" cy="254160"/>
                </a:xfrm>
              </p:grpSpPr>
              <p:sp>
                <p:nvSpPr>
                  <p:cNvPr id="1905" name=""/>
                  <p:cNvSpPr/>
                  <p:nvPr/>
                </p:nvSpPr>
                <p:spPr>
                  <a:xfrm>
                    <a:off x="536040" y="365940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6" name=""/>
                  <p:cNvGrpSpPr/>
                  <p:nvPr/>
                </p:nvGrpSpPr>
                <p:grpSpPr>
                  <a:xfrm>
                    <a:off x="390240" y="3723120"/>
                    <a:ext cx="291960" cy="190440"/>
                    <a:chOff x="390240" y="3723120"/>
                    <a:chExt cx="291960" cy="190440"/>
                  </a:xfrm>
                </p:grpSpPr>
                <p:sp>
                  <p:nvSpPr>
                    <p:cNvPr id="1907" name=""/>
                    <p:cNvSpPr/>
                    <p:nvPr/>
                  </p:nvSpPr>
                  <p:spPr>
                    <a:xfrm>
                      <a:off x="390240" y="3723120"/>
                      <a:ext cx="291960" cy="19044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8" name=""/>
                    <p:cNvSpPr/>
                    <p:nvPr/>
                  </p:nvSpPr>
                  <p:spPr>
                    <a:xfrm>
                      <a:off x="518760" y="3795840"/>
                      <a:ext cx="34560" cy="33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040" bIns="-23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909" name=""/>
                <p:cNvSpPr/>
                <p:nvPr/>
              </p:nvSpPr>
              <p:spPr>
                <a:xfrm>
                  <a:off x="682200" y="3508560"/>
                  <a:ext cx="20494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99cc00"/>
                      </a:solidFill>
                      <a:latin typeface="Arial"/>
                    </a:rPr>
                    <a:t>1</a:t>
                  </a:r>
                  <a:r>
                    <a:rPr b="1" lang="en-US" sz="900" spc="-1" strike="noStrike" baseline="30000">
                      <a:solidFill>
                        <a:srgbClr val="99cc00"/>
                      </a:solidFill>
                      <a:latin typeface="Arial"/>
                    </a:rPr>
                    <a:t>st</a:t>
                  </a:r>
                  <a:r>
                    <a:rPr b="1" lang="en-US" sz="900" spc="-1" strike="noStrike">
                      <a:solidFill>
                        <a:srgbClr val="99cc00"/>
                      </a:solidFill>
                      <a:latin typeface="Arial"/>
                    </a:rPr>
                    <a:t> Light Artillery Battery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0" name=""/>
              <p:cNvGrpSpPr/>
              <p:nvPr/>
            </p:nvGrpSpPr>
            <p:grpSpPr>
              <a:xfrm>
                <a:off x="263160" y="3924360"/>
                <a:ext cx="2544840" cy="432000"/>
                <a:chOff x="263160" y="3924360"/>
                <a:chExt cx="2544840" cy="432000"/>
              </a:xfrm>
            </p:grpSpPr>
            <p:sp>
              <p:nvSpPr>
                <p:cNvPr id="1911" name=""/>
                <p:cNvSpPr/>
                <p:nvPr/>
              </p:nvSpPr>
              <p:spPr>
                <a:xfrm>
                  <a:off x="263160" y="4221360"/>
                  <a:ext cx="177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725040" y="4110120"/>
                  <a:ext cx="2082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2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75mm Field Gun (b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13" name=""/>
                <p:cNvGrpSpPr/>
                <p:nvPr/>
              </p:nvGrpSpPr>
              <p:grpSpPr>
                <a:xfrm>
                  <a:off x="390240" y="4075200"/>
                  <a:ext cx="291960" cy="254160"/>
                  <a:chOff x="390240" y="4075200"/>
                  <a:chExt cx="291960" cy="254160"/>
                </a:xfrm>
              </p:grpSpPr>
              <p:sp>
                <p:nvSpPr>
                  <p:cNvPr id="1914" name=""/>
                  <p:cNvSpPr/>
                  <p:nvPr/>
                </p:nvSpPr>
                <p:spPr>
                  <a:xfrm>
                    <a:off x="536040" y="407520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15" name=""/>
                  <p:cNvGrpSpPr/>
                  <p:nvPr/>
                </p:nvGrpSpPr>
                <p:grpSpPr>
                  <a:xfrm>
                    <a:off x="390240" y="4138920"/>
                    <a:ext cx="291960" cy="190440"/>
                    <a:chOff x="390240" y="4138920"/>
                    <a:chExt cx="291960" cy="190440"/>
                  </a:xfrm>
                </p:grpSpPr>
                <p:sp>
                  <p:nvSpPr>
                    <p:cNvPr id="1916" name=""/>
                    <p:cNvSpPr/>
                    <p:nvPr/>
                  </p:nvSpPr>
                  <p:spPr>
                    <a:xfrm>
                      <a:off x="390240" y="4138920"/>
                      <a:ext cx="291960" cy="19044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7" name=""/>
                    <p:cNvSpPr/>
                    <p:nvPr/>
                  </p:nvSpPr>
                  <p:spPr>
                    <a:xfrm>
                      <a:off x="518760" y="4211640"/>
                      <a:ext cx="34560" cy="33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040" bIns="-23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918" name=""/>
                <p:cNvSpPr/>
                <p:nvPr/>
              </p:nvSpPr>
              <p:spPr>
                <a:xfrm>
                  <a:off x="682200" y="3924360"/>
                  <a:ext cx="20494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99cc00"/>
                      </a:solidFill>
                      <a:latin typeface="Arial"/>
                    </a:rPr>
                    <a:t>2nd Light Artillery Battery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9" name=""/>
              <p:cNvGrpSpPr/>
              <p:nvPr/>
            </p:nvGrpSpPr>
            <p:grpSpPr>
              <a:xfrm>
                <a:off x="263160" y="4354560"/>
                <a:ext cx="2544840" cy="432000"/>
                <a:chOff x="263160" y="4354560"/>
                <a:chExt cx="2544840" cy="432000"/>
              </a:xfrm>
            </p:grpSpPr>
            <p:sp>
              <p:nvSpPr>
                <p:cNvPr id="1920" name=""/>
                <p:cNvSpPr/>
                <p:nvPr/>
              </p:nvSpPr>
              <p:spPr>
                <a:xfrm>
                  <a:off x="263160" y="4651560"/>
                  <a:ext cx="177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725040" y="4540320"/>
                  <a:ext cx="2082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2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75mm Field Gun (b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22" name=""/>
                <p:cNvGrpSpPr/>
                <p:nvPr/>
              </p:nvGrpSpPr>
              <p:grpSpPr>
                <a:xfrm>
                  <a:off x="390240" y="4505400"/>
                  <a:ext cx="291960" cy="254160"/>
                  <a:chOff x="390240" y="4505400"/>
                  <a:chExt cx="291960" cy="254160"/>
                </a:xfrm>
              </p:grpSpPr>
              <p:sp>
                <p:nvSpPr>
                  <p:cNvPr id="1923" name=""/>
                  <p:cNvSpPr/>
                  <p:nvPr/>
                </p:nvSpPr>
                <p:spPr>
                  <a:xfrm>
                    <a:off x="536040" y="450540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24" name=""/>
                  <p:cNvGrpSpPr/>
                  <p:nvPr/>
                </p:nvGrpSpPr>
                <p:grpSpPr>
                  <a:xfrm>
                    <a:off x="390240" y="4569120"/>
                    <a:ext cx="291960" cy="190440"/>
                    <a:chOff x="390240" y="4569120"/>
                    <a:chExt cx="291960" cy="190440"/>
                  </a:xfrm>
                </p:grpSpPr>
                <p:sp>
                  <p:nvSpPr>
                    <p:cNvPr id="1925" name=""/>
                    <p:cNvSpPr/>
                    <p:nvPr/>
                  </p:nvSpPr>
                  <p:spPr>
                    <a:xfrm>
                      <a:off x="390240" y="4569120"/>
                      <a:ext cx="291960" cy="19044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6" name=""/>
                    <p:cNvSpPr/>
                    <p:nvPr/>
                  </p:nvSpPr>
                  <p:spPr>
                    <a:xfrm>
                      <a:off x="518760" y="4641840"/>
                      <a:ext cx="34560" cy="33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040" bIns="-23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927" name=""/>
                <p:cNvSpPr/>
                <p:nvPr/>
              </p:nvSpPr>
              <p:spPr>
                <a:xfrm>
                  <a:off x="682200" y="4354560"/>
                  <a:ext cx="20494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99cc00"/>
                      </a:solidFill>
                      <a:latin typeface="Arial"/>
                    </a:rPr>
                    <a:t>3rd Light Artillery Battery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28" name=""/>
          <p:cNvGrpSpPr/>
          <p:nvPr/>
        </p:nvGrpSpPr>
        <p:grpSpPr>
          <a:xfrm>
            <a:off x="4087800" y="603360"/>
            <a:ext cx="3530520" cy="1805040"/>
            <a:chOff x="4087800" y="603360"/>
            <a:chExt cx="3530520" cy="1805040"/>
          </a:xfrm>
        </p:grpSpPr>
        <p:sp>
          <p:nvSpPr>
            <p:cNvPr id="1929" name=""/>
            <p:cNvSpPr/>
            <p:nvPr/>
          </p:nvSpPr>
          <p:spPr>
            <a:xfrm>
              <a:off x="4162320" y="603360"/>
              <a:ext cx="2017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cc00"/>
                  </a:solidFill>
                  <a:latin typeface="Arial"/>
                </a:rPr>
                <a:t>Fire Support Element-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0" name=""/>
            <p:cNvGrpSpPr/>
            <p:nvPr/>
          </p:nvGrpSpPr>
          <p:grpSpPr>
            <a:xfrm>
              <a:off x="4087800" y="963720"/>
              <a:ext cx="3530520" cy="1444680"/>
              <a:chOff x="4087800" y="963720"/>
              <a:chExt cx="3530520" cy="1444680"/>
            </a:xfrm>
          </p:grpSpPr>
          <p:sp>
            <p:nvSpPr>
              <p:cNvPr id="1931" name=""/>
              <p:cNvSpPr/>
              <p:nvPr/>
            </p:nvSpPr>
            <p:spPr>
              <a:xfrm>
                <a:off x="4327560" y="1182960"/>
                <a:ext cx="0" cy="520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4548240" y="1009800"/>
                <a:ext cx="2209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edium Howitzer Battery (a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33" name=""/>
              <p:cNvGrpSpPr/>
              <p:nvPr/>
            </p:nvGrpSpPr>
            <p:grpSpPr>
              <a:xfrm>
                <a:off x="4182840" y="963720"/>
                <a:ext cx="292320" cy="254160"/>
                <a:chOff x="4182840" y="963720"/>
                <a:chExt cx="292320" cy="254160"/>
              </a:xfrm>
            </p:grpSpPr>
            <p:sp>
              <p:nvSpPr>
                <p:cNvPr id="1934" name=""/>
                <p:cNvSpPr/>
                <p:nvPr/>
              </p:nvSpPr>
              <p:spPr>
                <a:xfrm>
                  <a:off x="4329000" y="9637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35" name=""/>
                <p:cNvGrpSpPr/>
                <p:nvPr/>
              </p:nvGrpSpPr>
              <p:grpSpPr>
                <a:xfrm>
                  <a:off x="4182840" y="1027080"/>
                  <a:ext cx="292320" cy="190800"/>
                  <a:chOff x="4182840" y="1027080"/>
                  <a:chExt cx="292320" cy="190800"/>
                </a:xfrm>
              </p:grpSpPr>
              <p:sp>
                <p:nvSpPr>
                  <p:cNvPr id="1936" name=""/>
                  <p:cNvSpPr/>
                  <p:nvPr/>
                </p:nvSpPr>
                <p:spPr>
                  <a:xfrm>
                    <a:off x="4182840" y="1027080"/>
                    <a:ext cx="292320" cy="19080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7" name=""/>
                  <p:cNvSpPr/>
                  <p:nvPr/>
                </p:nvSpPr>
                <p:spPr>
                  <a:xfrm>
                    <a:off x="4311720" y="1100160"/>
                    <a:ext cx="34920" cy="33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8" name=""/>
              <p:cNvGrpSpPr/>
              <p:nvPr/>
            </p:nvGrpSpPr>
            <p:grpSpPr>
              <a:xfrm>
                <a:off x="4332240" y="1440000"/>
                <a:ext cx="2544840" cy="398520"/>
                <a:chOff x="4332240" y="1440000"/>
                <a:chExt cx="2544840" cy="398520"/>
              </a:xfrm>
            </p:grpSpPr>
            <p:sp>
              <p:nvSpPr>
                <p:cNvPr id="1939" name=""/>
                <p:cNvSpPr/>
                <p:nvPr/>
              </p:nvSpPr>
              <p:spPr>
                <a:xfrm>
                  <a:off x="4332240" y="1703520"/>
                  <a:ext cx="177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40" name=""/>
                <p:cNvGrpSpPr/>
                <p:nvPr/>
              </p:nvGrpSpPr>
              <p:grpSpPr>
                <a:xfrm>
                  <a:off x="4459320" y="1565280"/>
                  <a:ext cx="239760" cy="216000"/>
                  <a:chOff x="4459320" y="1565280"/>
                  <a:chExt cx="239760" cy="216000"/>
                </a:xfrm>
              </p:grpSpPr>
              <p:grpSp>
                <p:nvGrpSpPr>
                  <p:cNvPr id="1941" name=""/>
                  <p:cNvGrpSpPr/>
                  <p:nvPr/>
                </p:nvGrpSpPr>
                <p:grpSpPr>
                  <a:xfrm>
                    <a:off x="4552920" y="1565280"/>
                    <a:ext cx="74520" cy="28800"/>
                    <a:chOff x="4552920" y="1565280"/>
                    <a:chExt cx="74520" cy="28800"/>
                  </a:xfrm>
                </p:grpSpPr>
                <p:sp>
                  <p:nvSpPr>
                    <p:cNvPr id="1942" name=""/>
                    <p:cNvSpPr/>
                    <p:nvPr/>
                  </p:nvSpPr>
                  <p:spPr>
                    <a:xfrm>
                      <a:off x="4552920" y="156528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3" name=""/>
                    <p:cNvSpPr/>
                    <p:nvPr/>
                  </p:nvSpPr>
                  <p:spPr>
                    <a:xfrm>
                      <a:off x="4600440" y="156708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44" name=""/>
                  <p:cNvGrpSpPr/>
                  <p:nvPr/>
                </p:nvGrpSpPr>
                <p:grpSpPr>
                  <a:xfrm>
                    <a:off x="4459320" y="1623960"/>
                    <a:ext cx="239760" cy="157320"/>
                    <a:chOff x="4459320" y="1623960"/>
                    <a:chExt cx="239760" cy="157320"/>
                  </a:xfrm>
                </p:grpSpPr>
                <p:sp>
                  <p:nvSpPr>
                    <p:cNvPr id="1945" name=""/>
                    <p:cNvSpPr/>
                    <p:nvPr/>
                  </p:nvSpPr>
                  <p:spPr>
                    <a:xfrm>
                      <a:off x="4459320" y="1623960"/>
                      <a:ext cx="239760" cy="15732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6" name=""/>
                    <p:cNvSpPr/>
                    <p:nvPr/>
                  </p:nvSpPr>
                  <p:spPr>
                    <a:xfrm>
                      <a:off x="4562280" y="1684440"/>
                      <a:ext cx="28800" cy="2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947" name=""/>
                <p:cNvSpPr/>
                <p:nvPr/>
              </p:nvSpPr>
              <p:spPr>
                <a:xfrm>
                  <a:off x="4809960" y="1440000"/>
                  <a:ext cx="20494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Off-board Direct Fire Sup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4794120" y="1592280"/>
                  <a:ext cx="2082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2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100mm Howitzer (b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9" name=""/>
              <p:cNvGrpSpPr/>
              <p:nvPr/>
            </p:nvGrpSpPr>
            <p:grpSpPr>
              <a:xfrm>
                <a:off x="4329000" y="1182960"/>
                <a:ext cx="2765520" cy="345960"/>
                <a:chOff x="4329000" y="1182960"/>
                <a:chExt cx="2765520" cy="345960"/>
              </a:xfrm>
            </p:grpSpPr>
            <p:sp>
              <p:nvSpPr>
                <p:cNvPr id="1950" name=""/>
                <p:cNvSpPr/>
                <p:nvPr/>
              </p:nvSpPr>
              <p:spPr>
                <a:xfrm>
                  <a:off x="4329000" y="1405080"/>
                  <a:ext cx="182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1" name=""/>
                <p:cNvGrpSpPr/>
                <p:nvPr/>
              </p:nvGrpSpPr>
              <p:grpSpPr>
                <a:xfrm>
                  <a:off x="4475160" y="1282680"/>
                  <a:ext cx="231840" cy="196920"/>
                  <a:chOff x="4475160" y="1282680"/>
                  <a:chExt cx="231840" cy="196920"/>
                </a:xfrm>
              </p:grpSpPr>
              <p:grpSp>
                <p:nvGrpSpPr>
                  <p:cNvPr id="1952" name=""/>
                  <p:cNvGrpSpPr/>
                  <p:nvPr/>
                </p:nvGrpSpPr>
                <p:grpSpPr>
                  <a:xfrm>
                    <a:off x="4475160" y="1322640"/>
                    <a:ext cx="231840" cy="156960"/>
                    <a:chOff x="4475160" y="1322640"/>
                    <a:chExt cx="231840" cy="156960"/>
                  </a:xfrm>
                </p:grpSpPr>
                <p:sp>
                  <p:nvSpPr>
                    <p:cNvPr id="1953" name=""/>
                    <p:cNvSpPr/>
                    <p:nvPr/>
                  </p:nvSpPr>
                  <p:spPr>
                    <a:xfrm>
                      <a:off x="4475160" y="1322640"/>
                      <a:ext cx="231840" cy="15696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4" name=""/>
                    <p:cNvSpPr/>
                    <p:nvPr/>
                  </p:nvSpPr>
                  <p:spPr>
                    <a:xfrm>
                      <a:off x="4557600" y="1373400"/>
                      <a:ext cx="57240" cy="554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080" bIns="-28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55" name=""/>
                  <p:cNvSpPr/>
                  <p:nvPr/>
                </p:nvSpPr>
                <p:spPr>
                  <a:xfrm>
                    <a:off x="4578120" y="128268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56" name=""/>
                <p:cNvSpPr/>
                <p:nvPr/>
              </p:nvSpPr>
              <p:spPr>
                <a:xfrm>
                  <a:off x="4811760" y="1182960"/>
                  <a:ext cx="1336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On-board Attachmen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4795920" y="1282680"/>
                  <a:ext cx="2298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Forward Observer           RO-2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8" name=""/>
              <p:cNvSpPr/>
              <p:nvPr/>
            </p:nvSpPr>
            <p:spPr>
              <a:xfrm>
                <a:off x="4087800" y="1886040"/>
                <a:ext cx="353052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spcBef>
                    <a:spcPts val="499"/>
                  </a:spcBef>
                  <a:buClr>
                    <a:srgbClr val="000000"/>
                  </a:buClr>
                  <a:buFont typeface="Arial"/>
                  <a:buAutoNum type="alphaLcParenR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he Forward Observer may be attached to any maneuver el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spcBef>
                    <a:spcPts val="499"/>
                  </a:spcBef>
                  <a:buClr>
                    <a:srgbClr val="000000"/>
                  </a:buClr>
                  <a:buFont typeface="Arial"/>
                  <a:buAutoNum type="alphaLcParenR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ndirect Fire weapon rating: 0 vs V, +1 vs T,G,sV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59" name=""/>
          <p:cNvGrpSpPr/>
          <p:nvPr/>
        </p:nvGrpSpPr>
        <p:grpSpPr>
          <a:xfrm>
            <a:off x="4183200" y="2433600"/>
            <a:ext cx="3530520" cy="3029040"/>
            <a:chOff x="4183200" y="2433600"/>
            <a:chExt cx="3530520" cy="3029040"/>
          </a:xfrm>
        </p:grpSpPr>
        <p:sp>
          <p:nvSpPr>
            <p:cNvPr id="1960" name=""/>
            <p:cNvSpPr/>
            <p:nvPr/>
          </p:nvSpPr>
          <p:spPr>
            <a:xfrm>
              <a:off x="4183200" y="4940280"/>
              <a:ext cx="353052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he Forward Observer may be attached to any maneuver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direct Fire weapon rating: -1 vs V, 0 vs T,G,s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1" name=""/>
            <p:cNvGrpSpPr/>
            <p:nvPr/>
          </p:nvGrpSpPr>
          <p:grpSpPr>
            <a:xfrm>
              <a:off x="4183200" y="2433600"/>
              <a:ext cx="2931480" cy="2273400"/>
              <a:chOff x="4183200" y="2433600"/>
              <a:chExt cx="2931480" cy="2273400"/>
            </a:xfrm>
          </p:grpSpPr>
          <p:sp>
            <p:nvSpPr>
              <p:cNvPr id="1962" name=""/>
              <p:cNvSpPr/>
              <p:nvPr/>
            </p:nvSpPr>
            <p:spPr>
              <a:xfrm>
                <a:off x="4348080" y="3012840"/>
                <a:ext cx="0" cy="1559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63" name=""/>
              <p:cNvGrpSpPr/>
              <p:nvPr/>
            </p:nvGrpSpPr>
            <p:grpSpPr>
              <a:xfrm>
                <a:off x="4191120" y="2795400"/>
                <a:ext cx="291960" cy="239760"/>
                <a:chOff x="4191120" y="2795400"/>
                <a:chExt cx="291960" cy="239760"/>
              </a:xfrm>
            </p:grpSpPr>
            <p:grpSp>
              <p:nvGrpSpPr>
                <p:cNvPr id="1964" name=""/>
                <p:cNvGrpSpPr/>
                <p:nvPr/>
              </p:nvGrpSpPr>
              <p:grpSpPr>
                <a:xfrm>
                  <a:off x="4298760" y="2795400"/>
                  <a:ext cx="75960" cy="63360"/>
                  <a:chOff x="4298760" y="2795400"/>
                  <a:chExt cx="75960" cy="63360"/>
                </a:xfrm>
              </p:grpSpPr>
              <p:sp>
                <p:nvSpPr>
                  <p:cNvPr id="1965" name=""/>
                  <p:cNvSpPr/>
                  <p:nvPr/>
                </p:nvSpPr>
                <p:spPr>
                  <a:xfrm>
                    <a:off x="4298760" y="279540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6" name=""/>
                  <p:cNvSpPr/>
                  <p:nvPr/>
                </p:nvSpPr>
                <p:spPr>
                  <a:xfrm>
                    <a:off x="4374720" y="279540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7" name=""/>
                <p:cNvGrpSpPr/>
                <p:nvPr/>
              </p:nvGrpSpPr>
              <p:grpSpPr>
                <a:xfrm>
                  <a:off x="4191120" y="2844720"/>
                  <a:ext cx="291960" cy="190440"/>
                  <a:chOff x="4191120" y="2844720"/>
                  <a:chExt cx="291960" cy="190440"/>
                </a:xfrm>
              </p:grpSpPr>
              <p:sp>
                <p:nvSpPr>
                  <p:cNvPr id="1968" name=""/>
                  <p:cNvSpPr/>
                  <p:nvPr/>
                </p:nvSpPr>
                <p:spPr>
                  <a:xfrm>
                    <a:off x="4191120" y="2844720"/>
                    <a:ext cx="291960" cy="19044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9" name=""/>
                  <p:cNvSpPr/>
                  <p:nvPr/>
                </p:nvSpPr>
                <p:spPr>
                  <a:xfrm>
                    <a:off x="4319640" y="2917440"/>
                    <a:ext cx="34560" cy="33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70" name=""/>
              <p:cNvSpPr/>
              <p:nvPr/>
            </p:nvSpPr>
            <p:spPr>
              <a:xfrm>
                <a:off x="4183200" y="2433600"/>
                <a:ext cx="201744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cc00"/>
                    </a:solidFill>
                    <a:latin typeface="Arial"/>
                  </a:rPr>
                  <a:t>Fire Support Element-0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4568760" y="2840040"/>
                <a:ext cx="2210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edium Howitzer Battalion (a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4830840" y="3270240"/>
                <a:ext cx="20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Off-board Direct Fire Sup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3" name=""/>
              <p:cNvGrpSpPr/>
              <p:nvPr/>
            </p:nvGrpSpPr>
            <p:grpSpPr>
              <a:xfrm>
                <a:off x="4349880" y="3012840"/>
                <a:ext cx="2764800" cy="345960"/>
                <a:chOff x="4349880" y="3012840"/>
                <a:chExt cx="2764800" cy="345960"/>
              </a:xfrm>
            </p:grpSpPr>
            <p:sp>
              <p:nvSpPr>
                <p:cNvPr id="1974" name=""/>
                <p:cNvSpPr/>
                <p:nvPr/>
              </p:nvSpPr>
              <p:spPr>
                <a:xfrm>
                  <a:off x="4349880" y="3234960"/>
                  <a:ext cx="1821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75" name=""/>
                <p:cNvGrpSpPr/>
                <p:nvPr/>
              </p:nvGrpSpPr>
              <p:grpSpPr>
                <a:xfrm>
                  <a:off x="4495680" y="3112560"/>
                  <a:ext cx="231480" cy="196920"/>
                  <a:chOff x="4495680" y="3112560"/>
                  <a:chExt cx="231480" cy="196920"/>
                </a:xfrm>
              </p:grpSpPr>
              <p:grpSp>
                <p:nvGrpSpPr>
                  <p:cNvPr id="1976" name=""/>
                  <p:cNvGrpSpPr/>
                  <p:nvPr/>
                </p:nvGrpSpPr>
                <p:grpSpPr>
                  <a:xfrm>
                    <a:off x="4495680" y="3152520"/>
                    <a:ext cx="231480" cy="156960"/>
                    <a:chOff x="4495680" y="3152520"/>
                    <a:chExt cx="231480" cy="156960"/>
                  </a:xfrm>
                </p:grpSpPr>
                <p:sp>
                  <p:nvSpPr>
                    <p:cNvPr id="1977" name=""/>
                    <p:cNvSpPr/>
                    <p:nvPr/>
                  </p:nvSpPr>
                  <p:spPr>
                    <a:xfrm>
                      <a:off x="4495680" y="3152520"/>
                      <a:ext cx="231480" cy="15696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8" name=""/>
                    <p:cNvSpPr/>
                    <p:nvPr/>
                  </p:nvSpPr>
                  <p:spPr>
                    <a:xfrm>
                      <a:off x="4577760" y="3203280"/>
                      <a:ext cx="56880" cy="554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080" bIns="-28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79" name=""/>
                  <p:cNvSpPr/>
                  <p:nvPr/>
                </p:nvSpPr>
                <p:spPr>
                  <a:xfrm>
                    <a:off x="4598280" y="311256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0" name=""/>
                <p:cNvSpPr/>
                <p:nvPr/>
              </p:nvSpPr>
              <p:spPr>
                <a:xfrm>
                  <a:off x="4832280" y="3012840"/>
                  <a:ext cx="13363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On-board Attachmen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4816440" y="3112560"/>
                  <a:ext cx="2298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Forward Observer           RO-2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2" name=""/>
              <p:cNvGrpSpPr/>
              <p:nvPr/>
            </p:nvGrpSpPr>
            <p:grpSpPr>
              <a:xfrm>
                <a:off x="4348080" y="3429000"/>
                <a:ext cx="2544840" cy="432000"/>
                <a:chOff x="4348080" y="3429000"/>
                <a:chExt cx="2544840" cy="432000"/>
              </a:xfrm>
            </p:grpSpPr>
            <p:sp>
              <p:nvSpPr>
                <p:cNvPr id="1983" name=""/>
                <p:cNvSpPr/>
                <p:nvPr/>
              </p:nvSpPr>
              <p:spPr>
                <a:xfrm>
                  <a:off x="4348080" y="3726000"/>
                  <a:ext cx="177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4809960" y="3614760"/>
                  <a:ext cx="2082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2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100mm Howitzer (b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85" name=""/>
                <p:cNvGrpSpPr/>
                <p:nvPr/>
              </p:nvGrpSpPr>
              <p:grpSpPr>
                <a:xfrm>
                  <a:off x="4475160" y="3579840"/>
                  <a:ext cx="291960" cy="254160"/>
                  <a:chOff x="4475160" y="3579840"/>
                  <a:chExt cx="291960" cy="254160"/>
                </a:xfrm>
              </p:grpSpPr>
              <p:sp>
                <p:nvSpPr>
                  <p:cNvPr id="1986" name=""/>
                  <p:cNvSpPr/>
                  <p:nvPr/>
                </p:nvSpPr>
                <p:spPr>
                  <a:xfrm>
                    <a:off x="4620960" y="357984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87" name=""/>
                  <p:cNvGrpSpPr/>
                  <p:nvPr/>
                </p:nvGrpSpPr>
                <p:grpSpPr>
                  <a:xfrm>
                    <a:off x="4475160" y="3643560"/>
                    <a:ext cx="291960" cy="190440"/>
                    <a:chOff x="4475160" y="3643560"/>
                    <a:chExt cx="291960" cy="190440"/>
                  </a:xfrm>
                </p:grpSpPr>
                <p:sp>
                  <p:nvSpPr>
                    <p:cNvPr id="1988" name=""/>
                    <p:cNvSpPr/>
                    <p:nvPr/>
                  </p:nvSpPr>
                  <p:spPr>
                    <a:xfrm>
                      <a:off x="4475160" y="3643560"/>
                      <a:ext cx="291960" cy="19044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9" name=""/>
                    <p:cNvSpPr/>
                    <p:nvPr/>
                  </p:nvSpPr>
                  <p:spPr>
                    <a:xfrm>
                      <a:off x="4603680" y="3716280"/>
                      <a:ext cx="34560" cy="33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040" bIns="-23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990" name=""/>
                <p:cNvSpPr/>
                <p:nvPr/>
              </p:nvSpPr>
              <p:spPr>
                <a:xfrm>
                  <a:off x="4767120" y="3429000"/>
                  <a:ext cx="20494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99cc00"/>
                      </a:solidFill>
                      <a:latin typeface="Arial"/>
                    </a:rPr>
                    <a:t>1</a:t>
                  </a:r>
                  <a:r>
                    <a:rPr b="1" lang="en-US" sz="900" spc="-1" strike="noStrike" baseline="30000">
                      <a:solidFill>
                        <a:srgbClr val="99cc00"/>
                      </a:solidFill>
                      <a:latin typeface="Arial"/>
                    </a:rPr>
                    <a:t>st</a:t>
                  </a:r>
                  <a:r>
                    <a:rPr b="1" lang="en-US" sz="900" spc="-1" strike="noStrike">
                      <a:solidFill>
                        <a:srgbClr val="99cc00"/>
                      </a:solidFill>
                      <a:latin typeface="Arial"/>
                    </a:rPr>
                    <a:t> Medium Howitzer Battery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1" name=""/>
              <p:cNvGrpSpPr/>
              <p:nvPr/>
            </p:nvGrpSpPr>
            <p:grpSpPr>
              <a:xfrm>
                <a:off x="4348080" y="3844800"/>
                <a:ext cx="2544840" cy="432000"/>
                <a:chOff x="4348080" y="3844800"/>
                <a:chExt cx="2544840" cy="432000"/>
              </a:xfrm>
            </p:grpSpPr>
            <p:sp>
              <p:nvSpPr>
                <p:cNvPr id="1992" name=""/>
                <p:cNvSpPr/>
                <p:nvPr/>
              </p:nvSpPr>
              <p:spPr>
                <a:xfrm>
                  <a:off x="4348080" y="4141800"/>
                  <a:ext cx="177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4809960" y="4030560"/>
                  <a:ext cx="2082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2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100mm Howitzer (b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94" name=""/>
                <p:cNvGrpSpPr/>
                <p:nvPr/>
              </p:nvGrpSpPr>
              <p:grpSpPr>
                <a:xfrm>
                  <a:off x="4475160" y="3995640"/>
                  <a:ext cx="291960" cy="254160"/>
                  <a:chOff x="4475160" y="3995640"/>
                  <a:chExt cx="291960" cy="254160"/>
                </a:xfrm>
              </p:grpSpPr>
              <p:sp>
                <p:nvSpPr>
                  <p:cNvPr id="1995" name=""/>
                  <p:cNvSpPr/>
                  <p:nvPr/>
                </p:nvSpPr>
                <p:spPr>
                  <a:xfrm>
                    <a:off x="4620960" y="399564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96" name=""/>
                  <p:cNvGrpSpPr/>
                  <p:nvPr/>
                </p:nvGrpSpPr>
                <p:grpSpPr>
                  <a:xfrm>
                    <a:off x="4475160" y="4059360"/>
                    <a:ext cx="291960" cy="190440"/>
                    <a:chOff x="4475160" y="4059360"/>
                    <a:chExt cx="291960" cy="190440"/>
                  </a:xfrm>
                </p:grpSpPr>
                <p:sp>
                  <p:nvSpPr>
                    <p:cNvPr id="1997" name=""/>
                    <p:cNvSpPr/>
                    <p:nvPr/>
                  </p:nvSpPr>
                  <p:spPr>
                    <a:xfrm>
                      <a:off x="4475160" y="4059360"/>
                      <a:ext cx="291960" cy="19044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8" name=""/>
                    <p:cNvSpPr/>
                    <p:nvPr/>
                  </p:nvSpPr>
                  <p:spPr>
                    <a:xfrm>
                      <a:off x="4603680" y="4132080"/>
                      <a:ext cx="34560" cy="33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040" bIns="-23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999" name=""/>
                <p:cNvSpPr/>
                <p:nvPr/>
              </p:nvSpPr>
              <p:spPr>
                <a:xfrm>
                  <a:off x="4767120" y="3844800"/>
                  <a:ext cx="20494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99cc00"/>
                      </a:solidFill>
                      <a:latin typeface="Arial"/>
                    </a:rPr>
                    <a:t>2nd Medium Howitzer Battery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0" name=""/>
              <p:cNvGrpSpPr/>
              <p:nvPr/>
            </p:nvGrpSpPr>
            <p:grpSpPr>
              <a:xfrm>
                <a:off x="4348080" y="4275000"/>
                <a:ext cx="2544840" cy="432000"/>
                <a:chOff x="4348080" y="4275000"/>
                <a:chExt cx="2544840" cy="432000"/>
              </a:xfrm>
            </p:grpSpPr>
            <p:sp>
              <p:nvSpPr>
                <p:cNvPr id="2001" name=""/>
                <p:cNvSpPr/>
                <p:nvPr/>
              </p:nvSpPr>
              <p:spPr>
                <a:xfrm>
                  <a:off x="4348080" y="4572000"/>
                  <a:ext cx="177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4809960" y="4460760"/>
                  <a:ext cx="2082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2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100mm Howitzer (b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3" name=""/>
                <p:cNvGrpSpPr/>
                <p:nvPr/>
              </p:nvGrpSpPr>
              <p:grpSpPr>
                <a:xfrm>
                  <a:off x="4475160" y="4425840"/>
                  <a:ext cx="291960" cy="254160"/>
                  <a:chOff x="4475160" y="4425840"/>
                  <a:chExt cx="291960" cy="254160"/>
                </a:xfrm>
              </p:grpSpPr>
              <p:sp>
                <p:nvSpPr>
                  <p:cNvPr id="2004" name=""/>
                  <p:cNvSpPr/>
                  <p:nvPr/>
                </p:nvSpPr>
                <p:spPr>
                  <a:xfrm>
                    <a:off x="4620960" y="442584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05" name=""/>
                  <p:cNvGrpSpPr/>
                  <p:nvPr/>
                </p:nvGrpSpPr>
                <p:grpSpPr>
                  <a:xfrm>
                    <a:off x="4475160" y="4489560"/>
                    <a:ext cx="291960" cy="190440"/>
                    <a:chOff x="4475160" y="4489560"/>
                    <a:chExt cx="291960" cy="190440"/>
                  </a:xfrm>
                </p:grpSpPr>
                <p:sp>
                  <p:nvSpPr>
                    <p:cNvPr id="2006" name=""/>
                    <p:cNvSpPr/>
                    <p:nvPr/>
                  </p:nvSpPr>
                  <p:spPr>
                    <a:xfrm>
                      <a:off x="4475160" y="4489560"/>
                      <a:ext cx="291960" cy="190440"/>
                    </a:xfrm>
                    <a:prstGeom prst="rect">
                      <a:avLst/>
                    </a:prstGeom>
                    <a:solidFill>
                      <a:srgbClr val="cc33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7" name=""/>
                    <p:cNvSpPr/>
                    <p:nvPr/>
                  </p:nvSpPr>
                  <p:spPr>
                    <a:xfrm>
                      <a:off x="4603680" y="4562280"/>
                      <a:ext cx="34560" cy="33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040" bIns="-23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008" name=""/>
                <p:cNvSpPr/>
                <p:nvPr/>
              </p:nvSpPr>
              <p:spPr>
                <a:xfrm>
                  <a:off x="4767120" y="4275000"/>
                  <a:ext cx="20494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99cc00"/>
                      </a:solidFill>
                      <a:latin typeface="Arial"/>
                    </a:rPr>
                    <a:t>3rd Medium Howitzer Battery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9T14:46:52Z</dcterms:created>
  <dc:creator>James Baker</dc:creator>
  <dc:description/>
  <dc:language>en-US</dc:language>
  <cp:lastModifiedBy>James Baker</cp:lastModifiedBy>
  <cp:lastPrinted>2001-06-22T00:28:46Z</cp:lastPrinted>
  <dcterms:modified xsi:type="dcterms:W3CDTF">2001-06-22T00:29:14Z</dcterms:modified>
  <cp:revision>94</cp:revision>
  <dc:subject/>
  <dc:title>PowerPoint Presentation</dc:title>
</cp:coreProperties>
</file>