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450-4992-4EB3-8B64-5CB447AC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355-81FA-453B-A2BB-4D531F0F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383-47FA-4856-A0BD-02538D2B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967-54CC-4AD8-8488-553CE2A5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933-5E4A-42C2-B601-44608A91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0DF-DA93-4C03-B198-DD59C41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653-0BC1-4EB2-8964-C761FC75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0D2-B31F-4108-BA20-D57B2D29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119-E026-4329-883A-EB5EB07C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67D-54B2-4439-807A-CBD4E4F2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686-C038-4789-B299-E8A77DD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F37-E8C7-49AF-B96A-1E2CD439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5F1E-3349-4647-AACD-6AEA35243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0" y="7424640"/>
            <a:ext cx="0" cy="28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3440" y="3576600"/>
            <a:ext cx="0" cy="28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5680" y="-360"/>
            <a:ext cx="660708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ssian Cavalry Regiment BG-19 , ME-29,34,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51000" y="2932200"/>
            <a:ext cx="2697120" cy="494280"/>
            <a:chOff x="351000" y="2932200"/>
            <a:chExt cx="2697120" cy="494280"/>
          </a:xfrm>
        </p:grpSpPr>
        <p:grpSp>
          <p:nvGrpSpPr>
            <p:cNvPr id="45" name=""/>
            <p:cNvGrpSpPr/>
            <p:nvPr/>
          </p:nvGrpSpPr>
          <p:grpSpPr>
            <a:xfrm>
              <a:off x="654120" y="3051000"/>
              <a:ext cx="2239920" cy="375480"/>
              <a:chOff x="654120" y="3051000"/>
              <a:chExt cx="2239920" cy="375480"/>
            </a:xfrm>
          </p:grpSpPr>
          <p:sp>
            <p:nvSpPr>
              <p:cNvPr id="46" name=""/>
              <p:cNvSpPr/>
              <p:nvPr/>
            </p:nvSpPr>
            <p:spPr>
              <a:xfrm>
                <a:off x="708120" y="30510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654120" y="3193920"/>
                <a:ext cx="231840" cy="232560"/>
                <a:chOff x="654120" y="3193920"/>
                <a:chExt cx="231840" cy="23256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654120" y="3236760"/>
                  <a:ext cx="231840" cy="189720"/>
                  <a:chOff x="654120" y="3236760"/>
                  <a:chExt cx="231840" cy="18972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654120" y="323676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665280" y="339984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846360" y="339984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731880" y="3193920"/>
                  <a:ext cx="74520" cy="28080"/>
                  <a:chOff x="731880" y="3193920"/>
                  <a:chExt cx="74520" cy="2808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31880" y="3193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79400" y="31953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" name=""/>
              <p:cNvSpPr/>
              <p:nvPr/>
            </p:nvSpPr>
            <p:spPr>
              <a:xfrm>
                <a:off x="966960" y="3259080"/>
                <a:ext cx="1927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mbers                                RU-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66960" y="3139920"/>
                <a:ext cx="76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351000" y="2932200"/>
              <a:ext cx="2697120" cy="205920"/>
              <a:chOff x="351000" y="2932200"/>
              <a:chExt cx="2697120" cy="205920"/>
            </a:xfrm>
          </p:grpSpPr>
          <p:sp>
            <p:nvSpPr>
              <p:cNvPr id="58" name=""/>
              <p:cNvSpPr/>
              <p:nvPr/>
            </p:nvSpPr>
            <p:spPr>
              <a:xfrm>
                <a:off x="351000" y="30607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654120" y="2932200"/>
                <a:ext cx="231480" cy="205920"/>
                <a:chOff x="654120" y="2932200"/>
                <a:chExt cx="231480" cy="2059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654120" y="2981160"/>
                  <a:ext cx="231480" cy="156960"/>
                  <a:chOff x="654120" y="2981160"/>
                  <a:chExt cx="231480" cy="156960"/>
                </a:xfrm>
              </p:grpSpPr>
              <p:grpSp>
                <p:nvGrpSpPr>
                  <p:cNvPr id="61" name=""/>
                  <p:cNvGrpSpPr/>
                  <p:nvPr/>
                </p:nvGrpSpPr>
                <p:grpSpPr>
                  <a:xfrm>
                    <a:off x="654120" y="2981160"/>
                    <a:ext cx="231480" cy="156960"/>
                    <a:chOff x="654120" y="2981160"/>
                    <a:chExt cx="231480" cy="15696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654120" y="298116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V="1">
                      <a:off x="654120" y="298404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768240" y="298116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" name=""/>
                  <p:cNvSpPr/>
                  <p:nvPr/>
                </p:nvSpPr>
                <p:spPr>
                  <a:xfrm>
                    <a:off x="756000" y="3046320"/>
                    <a:ext cx="284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23960" y="2932200"/>
                  <a:ext cx="74520" cy="28080"/>
                  <a:chOff x="723960" y="2932200"/>
                  <a:chExt cx="74520" cy="280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23960" y="29322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71480" y="2933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9" name=""/>
              <p:cNvSpPr/>
              <p:nvPr/>
            </p:nvSpPr>
            <p:spPr>
              <a:xfrm>
                <a:off x="966960" y="2998800"/>
                <a:ext cx="2081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mm obr. 37 AT guns        RU-6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355680" y="355932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47640" y="3459240"/>
            <a:ext cx="245880" cy="214200"/>
            <a:chOff x="647640" y="3459240"/>
            <a:chExt cx="245880" cy="214200"/>
          </a:xfrm>
        </p:grpSpPr>
        <p:grpSp>
          <p:nvGrpSpPr>
            <p:cNvPr id="72" name=""/>
            <p:cNvGrpSpPr/>
            <p:nvPr/>
          </p:nvGrpSpPr>
          <p:grpSpPr>
            <a:xfrm>
              <a:off x="647640" y="3505320"/>
              <a:ext cx="245880" cy="168120"/>
              <a:chOff x="647640" y="3505320"/>
              <a:chExt cx="245880" cy="168120"/>
            </a:xfrm>
          </p:grpSpPr>
          <p:sp>
            <p:nvSpPr>
              <p:cNvPr id="73" name=""/>
              <p:cNvSpPr/>
              <p:nvPr/>
            </p:nvSpPr>
            <p:spPr>
              <a:xfrm>
                <a:off x="647640" y="3505320"/>
                <a:ext cx="245880" cy="1681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8800" y="3519720"/>
                <a:ext cx="228600" cy="13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58800" y="3519360"/>
                <a:ext cx="220320" cy="12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3760" y="3519720"/>
                <a:ext cx="52560" cy="13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33320" y="3459240"/>
              <a:ext cx="74520" cy="28080"/>
              <a:chOff x="733320" y="3459240"/>
              <a:chExt cx="74520" cy="28080"/>
            </a:xfrm>
          </p:grpSpPr>
          <p:sp>
            <p:nvSpPr>
              <p:cNvPr id="78" name=""/>
              <p:cNvSpPr/>
              <p:nvPr/>
            </p:nvSpPr>
            <p:spPr>
              <a:xfrm>
                <a:off x="733320" y="3459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80840" y="34606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966960" y="3487680"/>
            <a:ext cx="18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vy AA. Machine Gun         RU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6960" y="2392200"/>
            <a:ext cx="140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41520"/>
            <a:ext cx="0" cy="390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6960" y="762120"/>
            <a:ext cx="175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HEADQUARTERS ELEMENT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7120" y="906480"/>
            <a:ext cx="2346480" cy="487080"/>
            <a:chOff x="357120" y="906480"/>
            <a:chExt cx="2346480" cy="487080"/>
          </a:xfrm>
        </p:grpSpPr>
        <p:grpSp>
          <p:nvGrpSpPr>
            <p:cNvPr id="85" name=""/>
            <p:cNvGrpSpPr/>
            <p:nvPr/>
          </p:nvGrpSpPr>
          <p:grpSpPr>
            <a:xfrm>
              <a:off x="655560" y="1076400"/>
              <a:ext cx="2048040" cy="317160"/>
              <a:chOff x="655560" y="1076400"/>
              <a:chExt cx="2048040" cy="317160"/>
            </a:xfrm>
          </p:grpSpPr>
          <p:sp>
            <p:nvSpPr>
              <p:cNvPr id="86" name=""/>
              <p:cNvSpPr/>
              <p:nvPr/>
            </p:nvSpPr>
            <p:spPr>
              <a:xfrm>
                <a:off x="703440" y="107640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655560" y="1203480"/>
                <a:ext cx="231480" cy="190080"/>
                <a:chOff x="655560" y="1203480"/>
                <a:chExt cx="231480" cy="190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57080" y="12034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655560" y="1236600"/>
                  <a:ext cx="231480" cy="156960"/>
                  <a:chOff x="655560" y="1236600"/>
                  <a:chExt cx="231480" cy="1569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655560" y="123660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V="1">
                    <a:off x="655560" y="1236600"/>
                    <a:ext cx="23004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966960" y="1241280"/>
                <a:ext cx="173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valry                            RU-6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66960" y="1139760"/>
                <a:ext cx="76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57120" y="906480"/>
              <a:ext cx="2271960" cy="260280"/>
              <a:chOff x="357120" y="906480"/>
              <a:chExt cx="2271960" cy="260280"/>
            </a:xfrm>
          </p:grpSpPr>
          <p:sp>
            <p:nvSpPr>
              <p:cNvPr id="95" name=""/>
              <p:cNvSpPr/>
              <p:nvPr/>
            </p:nvSpPr>
            <p:spPr>
              <a:xfrm>
                <a:off x="966960" y="906480"/>
                <a:ext cx="83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7120" y="10987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66960" y="1022400"/>
                <a:ext cx="1662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652320" y="976320"/>
                <a:ext cx="238320" cy="190440"/>
                <a:chOff x="652320" y="976320"/>
                <a:chExt cx="238320" cy="1904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52320" y="1009800"/>
                  <a:ext cx="23832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60320" y="9763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"/>
          <p:cNvSpPr/>
          <p:nvPr/>
        </p:nvSpPr>
        <p:spPr>
          <a:xfrm>
            <a:off x="967320" y="438120"/>
            <a:ext cx="1183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66960" y="609480"/>
            <a:ext cx="173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valry Regiment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6960" y="1405080"/>
            <a:ext cx="133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3880" y="1673280"/>
            <a:ext cx="357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6960" y="1528920"/>
            <a:ext cx="1001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E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6960" y="1633680"/>
            <a:ext cx="1638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1 Scout Cavalry Plat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53880" y="4362480"/>
            <a:ext cx="2911680" cy="637920"/>
            <a:chOff x="353880" y="4362480"/>
            <a:chExt cx="2911680" cy="637920"/>
          </a:xfrm>
        </p:grpSpPr>
        <p:sp>
          <p:nvSpPr>
            <p:cNvPr id="108" name=""/>
            <p:cNvSpPr/>
            <p:nvPr/>
          </p:nvSpPr>
          <p:spPr>
            <a:xfrm>
              <a:off x="966960" y="4362480"/>
              <a:ext cx="1753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9040" y="4537080"/>
              <a:ext cx="0" cy="28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54120" y="4680000"/>
              <a:ext cx="231840" cy="232560"/>
              <a:chOff x="654120" y="4680000"/>
              <a:chExt cx="231840" cy="23256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54120" y="4722840"/>
                <a:ext cx="231840" cy="189720"/>
                <a:chOff x="654120" y="4722840"/>
                <a:chExt cx="231840" cy="1897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54120" y="4722840"/>
                  <a:ext cx="23184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65280" y="4885920"/>
                  <a:ext cx="2700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46360" y="4885920"/>
                  <a:ext cx="2844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31880" y="4680000"/>
                <a:ext cx="74520" cy="28080"/>
                <a:chOff x="731880" y="4680000"/>
                <a:chExt cx="74520" cy="280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31880" y="4680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79400" y="46814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966960" y="4878360"/>
              <a:ext cx="229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0-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 Horse or Wagon SCGW-P03/P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66960" y="47404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3880" y="4529160"/>
              <a:ext cx="36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66960" y="4600800"/>
              <a:ext cx="20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0-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2mm Mortar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   RU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66960" y="4473720"/>
              <a:ext cx="153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54120" y="4399200"/>
              <a:ext cx="231840" cy="203040"/>
              <a:chOff x="654120" y="4399200"/>
              <a:chExt cx="231840" cy="203040"/>
            </a:xfrm>
          </p:grpSpPr>
          <p:sp>
            <p:nvSpPr>
              <p:cNvPr id="124" name=""/>
              <p:cNvSpPr/>
              <p:nvPr/>
            </p:nvSpPr>
            <p:spPr>
              <a:xfrm>
                <a:off x="654120" y="4445280"/>
                <a:ext cx="23184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35120" y="4469040"/>
                <a:ext cx="68040" cy="109440"/>
                <a:chOff x="735120" y="4469040"/>
                <a:chExt cx="68040" cy="109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68240" y="4469040"/>
                  <a:ext cx="0" cy="1094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35120" y="4572000"/>
                  <a:ext cx="6804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31880" y="4399200"/>
                <a:ext cx="74520" cy="28080"/>
                <a:chOff x="731880" y="4399200"/>
                <a:chExt cx="74520" cy="280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31880" y="43992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79400" y="4400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1" name=""/>
          <p:cNvGrpSpPr/>
          <p:nvPr/>
        </p:nvGrpSpPr>
        <p:grpSpPr>
          <a:xfrm>
            <a:off x="200160" y="363600"/>
            <a:ext cx="347400" cy="299880"/>
            <a:chOff x="200160" y="363600"/>
            <a:chExt cx="347400" cy="299880"/>
          </a:xfrm>
        </p:grpSpPr>
        <p:sp>
          <p:nvSpPr>
            <p:cNvPr id="132" name=""/>
            <p:cNvSpPr/>
            <p:nvPr/>
          </p:nvSpPr>
          <p:spPr>
            <a:xfrm>
              <a:off x="200160" y="426960"/>
              <a:ext cx="347400" cy="2365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00160" y="426960"/>
              <a:ext cx="345960" cy="23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7800" y="363600"/>
              <a:ext cx="133200" cy="63360"/>
              <a:chOff x="307800" y="363600"/>
              <a:chExt cx="133200" cy="63360"/>
            </a:xfrm>
          </p:grpSpPr>
          <p:sp>
            <p:nvSpPr>
              <p:cNvPr id="135" name=""/>
              <p:cNvSpPr/>
              <p:nvPr/>
            </p:nvSpPr>
            <p:spPr>
              <a:xfrm>
                <a:off x="374040" y="363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7800" y="363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000" y="363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628560" y="1542960"/>
            <a:ext cx="283680" cy="240840"/>
            <a:chOff x="628560" y="1542960"/>
            <a:chExt cx="283680" cy="240840"/>
          </a:xfrm>
        </p:grpSpPr>
        <p:grpSp>
          <p:nvGrpSpPr>
            <p:cNvPr id="139" name=""/>
            <p:cNvGrpSpPr/>
            <p:nvPr/>
          </p:nvGrpSpPr>
          <p:grpSpPr>
            <a:xfrm>
              <a:off x="628560" y="1590480"/>
              <a:ext cx="283680" cy="193320"/>
              <a:chOff x="628560" y="1590480"/>
              <a:chExt cx="283680" cy="193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28560" y="1590480"/>
                <a:ext cx="283680" cy="193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28560" y="1590480"/>
                <a:ext cx="281880" cy="191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04880" y="1542960"/>
              <a:ext cx="131760" cy="27000"/>
              <a:chOff x="704880" y="1542960"/>
              <a:chExt cx="131760" cy="27000"/>
            </a:xfrm>
          </p:grpSpPr>
          <p:sp>
            <p:nvSpPr>
              <p:cNvPr id="143" name=""/>
              <p:cNvSpPr/>
              <p:nvPr/>
            </p:nvSpPr>
            <p:spPr>
              <a:xfrm>
                <a:off x="704880" y="15429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5640" y="1542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9640" y="15429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57120" y="1798560"/>
            <a:ext cx="2038320" cy="286920"/>
            <a:chOff x="357120" y="1798560"/>
            <a:chExt cx="2038320" cy="286920"/>
          </a:xfrm>
        </p:grpSpPr>
        <p:sp>
          <p:nvSpPr>
            <p:cNvPr id="147" name=""/>
            <p:cNvSpPr/>
            <p:nvPr/>
          </p:nvSpPr>
          <p:spPr>
            <a:xfrm>
              <a:off x="357120" y="198108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66960" y="1798560"/>
              <a:ext cx="81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6960" y="1932120"/>
              <a:ext cx="142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-5 Cavalry Squadron 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628560" y="1828800"/>
              <a:ext cx="284040" cy="256680"/>
              <a:chOff x="628560" y="1828800"/>
              <a:chExt cx="284040" cy="2566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28560" y="1892160"/>
                <a:ext cx="284040" cy="193320"/>
                <a:chOff x="628560" y="1892160"/>
                <a:chExt cx="284040" cy="1933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28560" y="1892160"/>
                  <a:ext cx="284040" cy="193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628560" y="1892160"/>
                  <a:ext cx="282240" cy="191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771480" y="1828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966960" y="2001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7120" y="2084400"/>
            <a:ext cx="2400480" cy="271800"/>
            <a:chOff x="357120" y="2084400"/>
            <a:chExt cx="2400480" cy="271800"/>
          </a:xfrm>
        </p:grpSpPr>
        <p:sp>
          <p:nvSpPr>
            <p:cNvPr id="157" name=""/>
            <p:cNvSpPr/>
            <p:nvPr/>
          </p:nvSpPr>
          <p:spPr>
            <a:xfrm>
              <a:off x="357120" y="2266560"/>
              <a:ext cx="3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28560" y="2104920"/>
              <a:ext cx="283680" cy="251280"/>
              <a:chOff x="628560" y="2104920"/>
              <a:chExt cx="283680" cy="251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28560" y="2161440"/>
                <a:ext cx="283680" cy="194760"/>
                <a:chOff x="628560" y="2161440"/>
                <a:chExt cx="283680" cy="1947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28560" y="2161440"/>
                  <a:ext cx="283680" cy="1947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1160" y="2178000"/>
                  <a:ext cx="263880" cy="162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641160" y="2178000"/>
                  <a:ext cx="254160" cy="149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35400" y="2178000"/>
                  <a:ext cx="60480" cy="162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69680" y="210492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966960" y="2084400"/>
              <a:ext cx="81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6960" y="2198520"/>
              <a:ext cx="179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td. Machinegun Squadron (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54120" y="3719520"/>
            <a:ext cx="231840" cy="232560"/>
            <a:chOff x="654120" y="3719520"/>
            <a:chExt cx="231840" cy="232560"/>
          </a:xfrm>
        </p:grpSpPr>
        <p:grpSp>
          <p:nvGrpSpPr>
            <p:cNvPr id="168" name=""/>
            <p:cNvGrpSpPr/>
            <p:nvPr/>
          </p:nvGrpSpPr>
          <p:grpSpPr>
            <a:xfrm>
              <a:off x="654120" y="3762360"/>
              <a:ext cx="231840" cy="189720"/>
              <a:chOff x="654120" y="3762360"/>
              <a:chExt cx="231840" cy="189720"/>
            </a:xfrm>
          </p:grpSpPr>
          <p:sp>
            <p:nvSpPr>
              <p:cNvPr id="169" name=""/>
              <p:cNvSpPr/>
              <p:nvPr/>
            </p:nvSpPr>
            <p:spPr>
              <a:xfrm>
                <a:off x="654120" y="3762360"/>
                <a:ext cx="231840" cy="15660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65280" y="3925440"/>
                <a:ext cx="27000" cy="266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46360" y="3925440"/>
                <a:ext cx="28440" cy="266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31880" y="3719520"/>
              <a:ext cx="74520" cy="28080"/>
              <a:chOff x="731880" y="3719520"/>
              <a:chExt cx="74520" cy="2808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880" y="37195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9400" y="37209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966960" y="3774960"/>
            <a:ext cx="2136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Z AA Truck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RU-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66960" y="3646440"/>
            <a:ext cx="76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4120" y="2565360"/>
            <a:ext cx="2116080" cy="375480"/>
            <a:chOff x="654120" y="2565360"/>
            <a:chExt cx="2116080" cy="375480"/>
          </a:xfrm>
        </p:grpSpPr>
        <p:sp>
          <p:nvSpPr>
            <p:cNvPr id="178" name=""/>
            <p:cNvSpPr/>
            <p:nvPr/>
          </p:nvSpPr>
          <p:spPr>
            <a:xfrm>
              <a:off x="698400" y="2565360"/>
              <a:ext cx="0" cy="28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54120" y="2708280"/>
              <a:ext cx="231840" cy="232560"/>
              <a:chOff x="654120" y="2708280"/>
              <a:chExt cx="231840" cy="2325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54120" y="2751120"/>
                <a:ext cx="231840" cy="189720"/>
                <a:chOff x="654120" y="2751120"/>
                <a:chExt cx="231840" cy="1897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54120" y="2751120"/>
                  <a:ext cx="23184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65280" y="2914200"/>
                  <a:ext cx="2700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46360" y="2914200"/>
                  <a:ext cx="2844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31880" y="2708280"/>
                <a:ext cx="74520" cy="28080"/>
                <a:chOff x="731880" y="2708280"/>
                <a:chExt cx="74520" cy="2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31880" y="2708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9400" y="2709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966960" y="2782800"/>
              <a:ext cx="180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mbers                                RU-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66960" y="26542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60360" y="2465280"/>
            <a:ext cx="2687760" cy="206280"/>
            <a:chOff x="360360" y="2465280"/>
            <a:chExt cx="2687760" cy="206280"/>
          </a:xfrm>
        </p:grpSpPr>
        <p:sp>
          <p:nvSpPr>
            <p:cNvPr id="190" name=""/>
            <p:cNvSpPr/>
            <p:nvPr/>
          </p:nvSpPr>
          <p:spPr>
            <a:xfrm>
              <a:off x="360360" y="25938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54120" y="2465280"/>
              <a:ext cx="231480" cy="206280"/>
              <a:chOff x="654120" y="2465280"/>
              <a:chExt cx="231480" cy="2062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54120" y="2514240"/>
                <a:ext cx="231480" cy="157320"/>
                <a:chOff x="654120" y="2514240"/>
                <a:chExt cx="231480" cy="157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54120" y="2514240"/>
                  <a:ext cx="23148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5640" y="2579400"/>
                  <a:ext cx="284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23960" y="2465280"/>
                <a:ext cx="74520" cy="28080"/>
                <a:chOff x="723960" y="2465280"/>
                <a:chExt cx="74520" cy="28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23960" y="2465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71480" y="2466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966960" y="2522520"/>
              <a:ext cx="20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6.2mm Regt. Gun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RU-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74760" y="3962520"/>
            <a:ext cx="2328840" cy="420120"/>
            <a:chOff x="374760" y="3962520"/>
            <a:chExt cx="2328840" cy="420120"/>
          </a:xfrm>
        </p:grpSpPr>
        <p:grpSp>
          <p:nvGrpSpPr>
            <p:cNvPr id="200" name=""/>
            <p:cNvGrpSpPr/>
            <p:nvPr/>
          </p:nvGrpSpPr>
          <p:grpSpPr>
            <a:xfrm>
              <a:off x="660240" y="4067280"/>
              <a:ext cx="2043360" cy="315360"/>
              <a:chOff x="660240" y="4067280"/>
              <a:chExt cx="2043360" cy="315360"/>
            </a:xfrm>
          </p:grpSpPr>
          <p:sp>
            <p:nvSpPr>
              <p:cNvPr id="201" name=""/>
              <p:cNvSpPr/>
              <p:nvPr/>
            </p:nvSpPr>
            <p:spPr>
              <a:xfrm>
                <a:off x="693720" y="406728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660240" y="4190760"/>
                <a:ext cx="231480" cy="183240"/>
                <a:chOff x="660240" y="4190760"/>
                <a:chExt cx="231480" cy="18324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660240" y="4217040"/>
                  <a:ext cx="231480" cy="156960"/>
                  <a:chOff x="660240" y="4217040"/>
                  <a:chExt cx="231480" cy="1569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60240" y="4217400"/>
                    <a:ext cx="23148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660240" y="4217040"/>
                    <a:ext cx="230040" cy="155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39440" y="4190760"/>
                  <a:ext cx="74160" cy="26640"/>
                  <a:chOff x="739440" y="4190760"/>
                  <a:chExt cx="74160" cy="266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739440" y="41907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86960" y="41907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9" name=""/>
              <p:cNvSpPr/>
              <p:nvPr/>
            </p:nvSpPr>
            <p:spPr>
              <a:xfrm>
                <a:off x="966960" y="4260600"/>
                <a:ext cx="173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rse Transport           SCGW-P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66960" y="4140000"/>
                <a:ext cx="76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74760" y="3962520"/>
              <a:ext cx="1962000" cy="196560"/>
              <a:chOff x="374760" y="3962520"/>
              <a:chExt cx="1962000" cy="196560"/>
            </a:xfrm>
          </p:grpSpPr>
          <p:sp>
            <p:nvSpPr>
              <p:cNvPr id="212" name=""/>
              <p:cNvSpPr/>
              <p:nvPr/>
            </p:nvSpPr>
            <p:spPr>
              <a:xfrm>
                <a:off x="374760" y="4073400"/>
                <a:ext cx="36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66960" y="4009680"/>
                <a:ext cx="1369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Sappers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f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RU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55560" y="3962520"/>
                <a:ext cx="231840" cy="196560"/>
                <a:chOff x="655560" y="3962520"/>
                <a:chExt cx="231840" cy="19656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735120" y="3962520"/>
                  <a:ext cx="74520" cy="28080"/>
                  <a:chOff x="735120" y="3962520"/>
                  <a:chExt cx="74520" cy="28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735120" y="39625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82640" y="39639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55560" y="4002120"/>
                  <a:ext cx="231840" cy="156960"/>
                  <a:chOff x="655560" y="4002120"/>
                  <a:chExt cx="231840" cy="1569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655560" y="400212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26840" y="4049280"/>
                    <a:ext cx="0" cy="500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8240" y="405180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8920" y="4053240"/>
                    <a:ext cx="0" cy="460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22160" y="4051800"/>
                    <a:ext cx="936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24" name=""/>
          <p:cNvSpPr/>
          <p:nvPr/>
        </p:nvSpPr>
        <p:spPr>
          <a:xfrm>
            <a:off x="3048120" y="426960"/>
            <a:ext cx="45702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a) covers cavalry regiments, other than of the few 1941 'light cavalry' divisions from 1939 to 1945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b) a recon platoon (ME-29) was added to RHQ in July 1943 and a guard/bugler squad in September 1943 (another RU-66 dismounting as SMG RU-18 or rifle RU-1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) 1939 cavalry divisions had five line squadron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d) the Machine Gun squadron has a platoon of 2 MMG per line squadron present; the 1939 regiment therefore has an additional 2 MMG. In 1943 the platoons were sometimes formally absorbed by the line squadron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e) the 1939 cavalry regiment only has 1 76mm gun [3 real pieces]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f) the 1939 division also had a chemical plato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g) 2 82mm regimental mortars are added under the January 1942 shtat, increased to 4 in February 1943 [this is an interpretation of the initially 2 platoons of 3 real tubes, then 3 platoons of 4 real tubes in 1943]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h) the cavalry division had two horse artillery battalions in 1939 of 2 76mm and 1 122mm batteries, the July 1941 establishment had 2 batteries of 76mm and 2 of 120mm mortars, reduced by 1 battery under the January 1942 establishment. The February 1943 establishment increased strength to 2 field gun batteries and 3 120mm mortar batteries. 76mm guns changed to more modern types as the war progresse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i) the division had an anti-aircraft battery in 1939, an anti-aircraft battalion in 1940, none under the July 1941 organisation, one 37mm battery under the January 1942 organisation. [It is unclear whether the pre-1941 battery/ies was of 37mm guns or AAMG]. By the February 1943 organisation the AA battery comprised 3 platoons of DShK AAMG RU-26.1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j) Divisions also included recon elements and other supporting troops but these would tend to operate independently of the cavalry regiment. In 1939 the cavalry division had a mechanised regiment, modified to a tank regiment before 1941. Deleted during 1941 a small tank regiment was added in 1943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5400" y="5105520"/>
            <a:ext cx="175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DIVISIONAL ATTACHM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1800" y="5300640"/>
            <a:ext cx="3524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9480" y="5145120"/>
            <a:ext cx="291960" cy="244080"/>
            <a:chOff x="609480" y="5145120"/>
            <a:chExt cx="291960" cy="244080"/>
          </a:xfrm>
        </p:grpSpPr>
        <p:sp>
          <p:nvSpPr>
            <p:cNvPr id="228" name=""/>
            <p:cNvSpPr/>
            <p:nvPr/>
          </p:nvSpPr>
          <p:spPr>
            <a:xfrm>
              <a:off x="757080" y="51451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09480" y="5199120"/>
              <a:ext cx="291960" cy="190080"/>
              <a:chOff x="609480" y="5199120"/>
              <a:chExt cx="291960" cy="190080"/>
            </a:xfrm>
          </p:grpSpPr>
          <p:sp>
            <p:nvSpPr>
              <p:cNvPr id="230" name=""/>
              <p:cNvSpPr/>
              <p:nvPr/>
            </p:nvSpPr>
            <p:spPr>
              <a:xfrm>
                <a:off x="611640" y="5199120"/>
                <a:ext cx="289800" cy="1900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09480" y="5200200"/>
                <a:ext cx="14004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49520" y="5199120"/>
                <a:ext cx="14976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0480" y="5279760"/>
                <a:ext cx="118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992160" y="5251320"/>
            <a:ext cx="173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1 AA Battery (i)                   </a:t>
            </a: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E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1800" y="5576760"/>
            <a:ext cx="3524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1080" y="5518080"/>
            <a:ext cx="1748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1 AA MG Platoon (i)            </a:t>
            </a: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E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5680" y="6300720"/>
            <a:ext cx="3524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5751360"/>
            <a:ext cx="175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DIVISION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38280" y="6140520"/>
            <a:ext cx="291600" cy="253440"/>
            <a:chOff x="638280" y="6140520"/>
            <a:chExt cx="291600" cy="253440"/>
          </a:xfrm>
        </p:grpSpPr>
        <p:sp>
          <p:nvSpPr>
            <p:cNvPr id="240" name=""/>
            <p:cNvSpPr/>
            <p:nvPr/>
          </p:nvSpPr>
          <p:spPr>
            <a:xfrm>
              <a:off x="784080" y="6140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8280" y="6203880"/>
              <a:ext cx="291600" cy="190080"/>
              <a:chOff x="638280" y="6203880"/>
              <a:chExt cx="291600" cy="190080"/>
            </a:xfrm>
          </p:grpSpPr>
          <p:sp>
            <p:nvSpPr>
              <p:cNvPr id="242" name=""/>
              <p:cNvSpPr/>
              <p:nvPr/>
            </p:nvSpPr>
            <p:spPr>
              <a:xfrm>
                <a:off x="638280" y="6203880"/>
                <a:ext cx="291600" cy="1900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3920" y="6276600"/>
                <a:ext cx="34560" cy="32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1003320" y="6235560"/>
            <a:ext cx="165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Lt. Howitzer Battery (h)    </a:t>
            </a:r>
            <a:r>
              <a:rPr b="1" lang="en-US" sz="800" spc="-1" strike="noStrike">
                <a:solidFill>
                  <a:srgbClr val="669900"/>
                </a:solidFill>
                <a:latin typeface="Arial"/>
              </a:rPr>
              <a:t>FS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200" y="59738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28560" y="5823000"/>
            <a:ext cx="301320" cy="266400"/>
            <a:chOff x="628560" y="5823000"/>
            <a:chExt cx="301320" cy="266400"/>
          </a:xfrm>
        </p:grpSpPr>
        <p:sp>
          <p:nvSpPr>
            <p:cNvPr id="247" name=""/>
            <p:cNvSpPr/>
            <p:nvPr/>
          </p:nvSpPr>
          <p:spPr>
            <a:xfrm>
              <a:off x="779400" y="58230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28560" y="5892840"/>
              <a:ext cx="301320" cy="196560"/>
              <a:chOff x="628560" y="5892840"/>
              <a:chExt cx="301320" cy="196560"/>
            </a:xfrm>
          </p:grpSpPr>
          <p:sp>
            <p:nvSpPr>
              <p:cNvPr id="249" name=""/>
              <p:cNvSpPr/>
              <p:nvPr/>
            </p:nvSpPr>
            <p:spPr>
              <a:xfrm>
                <a:off x="628560" y="5892840"/>
                <a:ext cx="301320" cy="1965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34400" y="6049800"/>
                <a:ext cx="853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4360" y="5918400"/>
                <a:ext cx="0" cy="133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023120" y="5942160"/>
            <a:ext cx="1719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Hvy. Mortar Battery (h)       </a:t>
            </a:r>
            <a:r>
              <a:rPr b="1" lang="en-US" sz="800" spc="-1" strike="noStrike">
                <a:solidFill>
                  <a:srgbClr val="669900"/>
                </a:solidFill>
                <a:latin typeface="Arial"/>
              </a:rPr>
              <a:t>FS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09480" y="5430960"/>
            <a:ext cx="291960" cy="232560"/>
            <a:chOff x="609480" y="5430960"/>
            <a:chExt cx="291960" cy="232560"/>
          </a:xfrm>
        </p:grpSpPr>
        <p:grpSp>
          <p:nvGrpSpPr>
            <p:cNvPr id="254" name=""/>
            <p:cNvGrpSpPr/>
            <p:nvPr/>
          </p:nvGrpSpPr>
          <p:grpSpPr>
            <a:xfrm>
              <a:off x="695880" y="5430960"/>
              <a:ext cx="119520" cy="24480"/>
              <a:chOff x="695880" y="5430960"/>
              <a:chExt cx="119520" cy="24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95880" y="5430960"/>
                <a:ext cx="24480" cy="2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1960" y="5430960"/>
                <a:ext cx="25560" cy="2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0920" y="5430960"/>
                <a:ext cx="24480" cy="2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09480" y="5464080"/>
              <a:ext cx="291960" cy="199440"/>
              <a:chOff x="609480" y="5464080"/>
              <a:chExt cx="291960" cy="199440"/>
            </a:xfrm>
          </p:grpSpPr>
          <p:sp>
            <p:nvSpPr>
              <p:cNvPr id="259" name=""/>
              <p:cNvSpPr/>
              <p:nvPr/>
            </p:nvSpPr>
            <p:spPr>
              <a:xfrm>
                <a:off x="609480" y="5464080"/>
                <a:ext cx="291960" cy="199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22440" y="5481000"/>
                <a:ext cx="26208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2440" y="5481000"/>
                <a:ext cx="271440" cy="165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0280" y="5474880"/>
                <a:ext cx="73440" cy="17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361800" y="4495680"/>
            <a:ext cx="0" cy="1857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095640" y="7286760"/>
            <a:ext cx="247680" cy="828360"/>
            <a:chOff x="3095640" y="7286760"/>
            <a:chExt cx="247680" cy="828360"/>
          </a:xfrm>
        </p:grpSpPr>
        <p:sp>
          <p:nvSpPr>
            <p:cNvPr id="265" name=""/>
            <p:cNvSpPr/>
            <p:nvPr/>
          </p:nvSpPr>
          <p:spPr>
            <a:xfrm>
              <a:off x="3095640" y="7286760"/>
              <a:ext cx="0" cy="82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95640" y="7286760"/>
              <a:ext cx="247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95640" y="8115120"/>
              <a:ext cx="247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030320" y="53816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8600" y="5181480"/>
            <a:ext cx="247680" cy="523800"/>
            <a:chOff x="228600" y="5181480"/>
            <a:chExt cx="247680" cy="523800"/>
          </a:xfrm>
        </p:grpSpPr>
        <p:sp>
          <p:nvSpPr>
            <p:cNvPr id="270" name=""/>
            <p:cNvSpPr/>
            <p:nvPr/>
          </p:nvSpPr>
          <p:spPr>
            <a:xfrm>
              <a:off x="228600" y="5181480"/>
              <a:ext cx="0" cy="523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8600" y="5181480"/>
              <a:ext cx="247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5705280"/>
              <a:ext cx="247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058760" y="610560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47920" y="5019840"/>
            <a:ext cx="2505240" cy="1274040"/>
            <a:chOff x="3247920" y="5019840"/>
            <a:chExt cx="2505240" cy="1274040"/>
          </a:xfrm>
        </p:grpSpPr>
        <p:sp>
          <p:nvSpPr>
            <p:cNvPr id="275" name=""/>
            <p:cNvSpPr/>
            <p:nvPr/>
          </p:nvSpPr>
          <p:spPr>
            <a:xfrm>
              <a:off x="3392640" y="5135760"/>
              <a:ext cx="0" cy="73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92640" y="5569200"/>
              <a:ext cx="25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92640" y="5867640"/>
              <a:ext cx="25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247920" y="5019840"/>
              <a:ext cx="283680" cy="240840"/>
              <a:chOff x="3247920" y="5019840"/>
              <a:chExt cx="283680" cy="2408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3247920" y="5067360"/>
                <a:ext cx="283680" cy="193320"/>
                <a:chOff x="3247920" y="5067360"/>
                <a:chExt cx="283680" cy="193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247920" y="5067360"/>
                  <a:ext cx="283680" cy="193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3247920" y="5067360"/>
                  <a:ext cx="281880" cy="191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324240" y="5019840"/>
                <a:ext cx="131760" cy="27000"/>
                <a:chOff x="3324240" y="5019840"/>
                <a:chExt cx="131760" cy="27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324240" y="50198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75000" y="5019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429000" y="50198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3848040" y="5213520"/>
              <a:ext cx="190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out Cavalry Platoon '39-'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48040" y="5056200"/>
              <a:ext cx="14893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- 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48400" y="5376960"/>
              <a:ext cx="79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/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56991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511440" y="5734080"/>
              <a:ext cx="231480" cy="203040"/>
              <a:chOff x="3511440" y="5734080"/>
              <a:chExt cx="231480" cy="20304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511440" y="5780160"/>
                <a:ext cx="231480" cy="156960"/>
                <a:chOff x="3511440" y="5780160"/>
                <a:chExt cx="231480" cy="156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511440" y="578016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3511440" y="5780160"/>
                  <a:ext cx="23004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589200" y="5734080"/>
                <a:ext cx="74160" cy="27000"/>
                <a:chOff x="3589200" y="5734080"/>
                <a:chExt cx="74160" cy="27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589200" y="5734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636720" y="57340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7" name=""/>
            <p:cNvGrpSpPr/>
            <p:nvPr/>
          </p:nvGrpSpPr>
          <p:grpSpPr>
            <a:xfrm>
              <a:off x="3513240" y="5446800"/>
              <a:ext cx="231480" cy="203040"/>
              <a:chOff x="3513240" y="5446800"/>
              <a:chExt cx="231480" cy="203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3513240" y="5492880"/>
                <a:ext cx="231480" cy="156960"/>
                <a:chOff x="3513240" y="5492880"/>
                <a:chExt cx="231480" cy="156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513240" y="549288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3513240" y="5492880"/>
                  <a:ext cx="23004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591000" y="5446800"/>
                <a:ext cx="74160" cy="27000"/>
                <a:chOff x="3591000" y="5446800"/>
                <a:chExt cx="74160" cy="270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591000" y="54468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638520" y="54468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3847680" y="5537520"/>
              <a:ext cx="1049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avalry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RU-6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7680" y="5840640"/>
              <a:ext cx="1049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avalry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RU-6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47920" y="6050160"/>
              <a:ext cx="245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Dismount as either Rifle Infantry RU-17 or Scouts RU-21. Retain recon ability in either ca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28600" y="6600960"/>
            <a:ext cx="2727360" cy="2969280"/>
            <a:chOff x="228600" y="6600960"/>
            <a:chExt cx="2727360" cy="2969280"/>
          </a:xfrm>
        </p:grpSpPr>
        <p:grpSp>
          <p:nvGrpSpPr>
            <p:cNvPr id="308" name=""/>
            <p:cNvGrpSpPr/>
            <p:nvPr/>
          </p:nvGrpSpPr>
          <p:grpSpPr>
            <a:xfrm>
              <a:off x="568440" y="8462880"/>
              <a:ext cx="2116080" cy="374760"/>
              <a:chOff x="568440" y="8462880"/>
              <a:chExt cx="2116080" cy="374760"/>
            </a:xfrm>
          </p:grpSpPr>
          <p:sp>
            <p:nvSpPr>
              <p:cNvPr id="309" name=""/>
              <p:cNvSpPr/>
              <p:nvPr/>
            </p:nvSpPr>
            <p:spPr>
              <a:xfrm>
                <a:off x="612720" y="8462880"/>
                <a:ext cx="0" cy="28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68440" y="8605440"/>
                <a:ext cx="231840" cy="232200"/>
                <a:chOff x="568440" y="8605440"/>
                <a:chExt cx="231840" cy="23220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568440" y="8648280"/>
                  <a:ext cx="231840" cy="189360"/>
                  <a:chOff x="568440" y="8648280"/>
                  <a:chExt cx="231840" cy="1893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568440" y="8648280"/>
                    <a:ext cx="231840" cy="1562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600" y="881100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60680" y="881100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646200" y="8605440"/>
                  <a:ext cx="74520" cy="28080"/>
                  <a:chOff x="646200" y="8605440"/>
                  <a:chExt cx="74520" cy="280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646200" y="8605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93720" y="8606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8" name=""/>
              <p:cNvSpPr/>
              <p:nvPr/>
            </p:nvSpPr>
            <p:spPr>
              <a:xfrm>
                <a:off x="881280" y="8679960"/>
                <a:ext cx="180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0-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Horse Transport         SCGW-P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81280" y="8551440"/>
                <a:ext cx="76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68440" y="7967520"/>
              <a:ext cx="2116080" cy="374760"/>
              <a:chOff x="568440" y="7967520"/>
              <a:chExt cx="211608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612720" y="7967520"/>
                <a:ext cx="0" cy="28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568440" y="8110080"/>
                <a:ext cx="231840" cy="232200"/>
                <a:chOff x="568440" y="8110080"/>
                <a:chExt cx="231840" cy="23220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568440" y="8152920"/>
                  <a:ext cx="231840" cy="189360"/>
                  <a:chOff x="568440" y="8152920"/>
                  <a:chExt cx="231840" cy="1893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568440" y="8152920"/>
                    <a:ext cx="231840" cy="1562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79600" y="831564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60680" y="831564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646200" y="8110080"/>
                  <a:ext cx="74520" cy="28080"/>
                  <a:chOff x="646200" y="8110080"/>
                  <a:chExt cx="74520" cy="28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46200" y="8110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93720" y="8111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0" name=""/>
              <p:cNvSpPr/>
              <p:nvPr/>
            </p:nvSpPr>
            <p:spPr>
              <a:xfrm>
                <a:off x="881280" y="8184600"/>
                <a:ext cx="180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0-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Horse Transport          SCGW-P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1280" y="8056080"/>
                <a:ext cx="76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79600" y="7526160"/>
              <a:ext cx="2047320" cy="316440"/>
              <a:chOff x="579600" y="7526160"/>
              <a:chExt cx="2047320" cy="316440"/>
            </a:xfrm>
          </p:grpSpPr>
          <p:sp>
            <p:nvSpPr>
              <p:cNvPr id="333" name=""/>
              <p:cNvSpPr/>
              <p:nvPr/>
            </p:nvSpPr>
            <p:spPr>
              <a:xfrm>
                <a:off x="627120" y="752616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579600" y="7652880"/>
                <a:ext cx="231480" cy="189720"/>
                <a:chOff x="579600" y="7652880"/>
                <a:chExt cx="231480" cy="18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80760" y="76528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579600" y="7685640"/>
                  <a:ext cx="231480" cy="156960"/>
                  <a:chOff x="579600" y="7685640"/>
                  <a:chExt cx="231480" cy="156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79600" y="768564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579600" y="7685640"/>
                    <a:ext cx="23004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9" name=""/>
              <p:cNvSpPr/>
              <p:nvPr/>
            </p:nvSpPr>
            <p:spPr>
              <a:xfrm>
                <a:off x="890640" y="7690680"/>
                <a:ext cx="173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8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valry                            RU-6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90640" y="7589160"/>
                <a:ext cx="761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370080" y="847872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4320" y="837864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0-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mm Mortar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c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RU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1440" y="82375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71680" y="8359560"/>
              <a:ext cx="231840" cy="203040"/>
              <a:chOff x="571680" y="8359560"/>
              <a:chExt cx="231840" cy="20304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649440" y="8359560"/>
                <a:ext cx="74520" cy="28080"/>
                <a:chOff x="649440" y="8359560"/>
                <a:chExt cx="74520" cy="28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649440" y="83595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96960" y="83610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1680" y="8405640"/>
                <a:ext cx="231840" cy="156960"/>
                <a:chOff x="571680" y="8405640"/>
                <a:chExt cx="231840" cy="15696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571680" y="8405640"/>
                  <a:ext cx="231840" cy="156960"/>
                  <a:chOff x="571680" y="8405640"/>
                  <a:chExt cx="231840" cy="1569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571680" y="840564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>
                    <a:off x="573840" y="840780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71680" y="840780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52680" y="8429400"/>
                  <a:ext cx="68040" cy="109080"/>
                  <a:chOff x="652680" y="8429400"/>
                  <a:chExt cx="68040" cy="1090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85800" y="8429400"/>
                    <a:ext cx="0" cy="1090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52680" y="853200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56" name=""/>
            <p:cNvSpPr/>
            <p:nvPr/>
          </p:nvSpPr>
          <p:spPr>
            <a:xfrm>
              <a:off x="365040" y="75484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4800" y="7468920"/>
              <a:ext cx="20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8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ifle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                  RU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77800" y="7424640"/>
              <a:ext cx="231840" cy="199440"/>
              <a:chOff x="577800" y="7424640"/>
              <a:chExt cx="231840" cy="19944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52680" y="7424640"/>
                <a:ext cx="74520" cy="28080"/>
                <a:chOff x="652680" y="7424640"/>
                <a:chExt cx="74520" cy="280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52680" y="7424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00200" y="7426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77800" y="7467480"/>
                <a:ext cx="231840" cy="156600"/>
                <a:chOff x="577800" y="7467480"/>
                <a:chExt cx="231840" cy="1566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77800" y="7467480"/>
                  <a:ext cx="23184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79960" y="7469280"/>
                  <a:ext cx="225720" cy="15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7800" y="7469640"/>
                  <a:ext cx="230760" cy="149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352440" y="8956440"/>
              <a:ext cx="24573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Replace 2 Rifle with SMG RU-18 after 19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 ATR were added in Jan 19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) 50mm Mortars were added in 1940 and deleted in Jan. 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92440" y="6757920"/>
              <a:ext cx="190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valry Squad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2440" y="6600960"/>
              <a:ext cx="148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Maneuver Element- 3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58920" y="7983360"/>
              <a:ext cx="29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68440" y="7872480"/>
              <a:ext cx="241200" cy="199080"/>
              <a:chOff x="568440" y="7872480"/>
              <a:chExt cx="241200" cy="19908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68440" y="7914960"/>
                <a:ext cx="241200" cy="156600"/>
                <a:chOff x="568440" y="7914960"/>
                <a:chExt cx="241200" cy="1566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70240" y="7914960"/>
                  <a:ext cx="23940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568440" y="7916400"/>
                  <a:ext cx="115920" cy="154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84360" y="7914960"/>
                  <a:ext cx="123840" cy="154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663480" y="78724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66840" y="6899040"/>
              <a:ext cx="2260080" cy="486000"/>
              <a:chOff x="366840" y="6899040"/>
              <a:chExt cx="2260080" cy="4860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579600" y="7068600"/>
                <a:ext cx="2047320" cy="316440"/>
                <a:chOff x="579600" y="7068600"/>
                <a:chExt cx="2047320" cy="316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27120" y="7068600"/>
                  <a:ext cx="0" cy="209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579600" y="7195320"/>
                  <a:ext cx="231480" cy="189720"/>
                  <a:chOff x="579600" y="7195320"/>
                  <a:chExt cx="231480" cy="1897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680760" y="71953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79600" y="7228080"/>
                    <a:ext cx="231480" cy="156960"/>
                    <a:chOff x="579600" y="7228080"/>
                    <a:chExt cx="231480" cy="1569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579600" y="722808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V="1">
                      <a:off x="579600" y="7228080"/>
                      <a:ext cx="23004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4" name=""/>
                <p:cNvSpPr/>
                <p:nvPr/>
              </p:nvSpPr>
              <p:spPr>
                <a:xfrm>
                  <a:off x="890640" y="7233120"/>
                  <a:ext cx="17362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avalry                            RU-6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90640" y="7131600"/>
                  <a:ext cx="7614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66840" y="6899040"/>
                <a:ext cx="2185920" cy="259200"/>
                <a:chOff x="366840" y="6899040"/>
                <a:chExt cx="2185920" cy="2592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890640" y="6899040"/>
                  <a:ext cx="8384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66840" y="70905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90640" y="7014600"/>
                  <a:ext cx="16621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    RU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576360" y="6968520"/>
                  <a:ext cx="238320" cy="189720"/>
                  <a:chOff x="576360" y="6968520"/>
                  <a:chExt cx="238320" cy="1897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576360" y="7001640"/>
                    <a:ext cx="23832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84360" y="6968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3" name=""/>
            <p:cNvSpPr/>
            <p:nvPr/>
          </p:nvSpPr>
          <p:spPr>
            <a:xfrm>
              <a:off x="371520" y="6792840"/>
              <a:ext cx="0" cy="16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228600" y="6645240"/>
              <a:ext cx="283680" cy="254520"/>
              <a:chOff x="228600" y="6645240"/>
              <a:chExt cx="283680" cy="254520"/>
            </a:xfrm>
          </p:grpSpPr>
          <p:sp>
            <p:nvSpPr>
              <p:cNvPr id="395" name=""/>
              <p:cNvSpPr/>
              <p:nvPr/>
            </p:nvSpPr>
            <p:spPr>
              <a:xfrm>
                <a:off x="371520" y="664524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28600" y="6706440"/>
                <a:ext cx="283680" cy="193320"/>
                <a:chOff x="228600" y="6706440"/>
                <a:chExt cx="283680" cy="1933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28600" y="6706800"/>
                  <a:ext cx="283680" cy="192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228600" y="6706440"/>
                  <a:ext cx="281880" cy="191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9" name=""/>
          <p:cNvSpPr/>
          <p:nvPr/>
        </p:nvSpPr>
        <p:spPr>
          <a:xfrm>
            <a:off x="3254400" y="6580080"/>
            <a:ext cx="0" cy="134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0160" y="6657840"/>
            <a:ext cx="275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ed Machinegun Squadron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0160" y="6500880"/>
            <a:ext cx="148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Maneuver Element-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52960" y="8228160"/>
            <a:ext cx="273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The MG squadron often operated as separate 2 unit platoons attached to the Cavalry squadr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117960" y="6497640"/>
            <a:ext cx="283680" cy="252000"/>
            <a:chOff x="3117960" y="6497640"/>
            <a:chExt cx="283680" cy="252000"/>
          </a:xfrm>
        </p:grpSpPr>
        <p:grpSp>
          <p:nvGrpSpPr>
            <p:cNvPr id="404" name=""/>
            <p:cNvGrpSpPr/>
            <p:nvPr/>
          </p:nvGrpSpPr>
          <p:grpSpPr>
            <a:xfrm>
              <a:off x="3117960" y="6554520"/>
              <a:ext cx="283680" cy="195120"/>
              <a:chOff x="3117960" y="6554520"/>
              <a:chExt cx="283680" cy="195120"/>
            </a:xfrm>
          </p:grpSpPr>
          <p:sp>
            <p:nvSpPr>
              <p:cNvPr id="405" name=""/>
              <p:cNvSpPr/>
              <p:nvPr/>
            </p:nvSpPr>
            <p:spPr>
              <a:xfrm>
                <a:off x="3117960" y="6554520"/>
                <a:ext cx="283680" cy="1951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30560" y="6571080"/>
                <a:ext cx="263880" cy="16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30560" y="6571080"/>
                <a:ext cx="254160" cy="14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24800" y="6571080"/>
                <a:ext cx="60480" cy="16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3259080" y="6497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257640" y="6802560"/>
            <a:ext cx="2345400" cy="486000"/>
            <a:chOff x="3257640" y="6802560"/>
            <a:chExt cx="2345400" cy="486000"/>
          </a:xfrm>
        </p:grpSpPr>
        <p:grpSp>
          <p:nvGrpSpPr>
            <p:cNvPr id="411" name=""/>
            <p:cNvGrpSpPr/>
            <p:nvPr/>
          </p:nvGrpSpPr>
          <p:grpSpPr>
            <a:xfrm>
              <a:off x="3555720" y="6972120"/>
              <a:ext cx="2047320" cy="316440"/>
              <a:chOff x="3555720" y="6972120"/>
              <a:chExt cx="2047320" cy="316440"/>
            </a:xfrm>
          </p:grpSpPr>
          <p:sp>
            <p:nvSpPr>
              <p:cNvPr id="412" name=""/>
              <p:cNvSpPr/>
              <p:nvPr/>
            </p:nvSpPr>
            <p:spPr>
              <a:xfrm>
                <a:off x="3603240" y="697212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555720" y="7098840"/>
                <a:ext cx="231480" cy="189720"/>
                <a:chOff x="3555720" y="7098840"/>
                <a:chExt cx="231480" cy="1897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656880" y="70988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55720" y="7131600"/>
                  <a:ext cx="231480" cy="156960"/>
                  <a:chOff x="3555720" y="7131600"/>
                  <a:chExt cx="231480" cy="1569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55720" y="713160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>
                    <a:off x="3555720" y="7131600"/>
                    <a:ext cx="23004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8" name=""/>
              <p:cNvSpPr/>
              <p:nvPr/>
            </p:nvSpPr>
            <p:spPr>
              <a:xfrm>
                <a:off x="3866760" y="7136640"/>
                <a:ext cx="173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valry                         RU-6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66760" y="7035120"/>
                <a:ext cx="761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3257640" y="6802560"/>
              <a:ext cx="2271240" cy="259200"/>
              <a:chOff x="3257640" y="6802560"/>
              <a:chExt cx="2271240" cy="259200"/>
            </a:xfrm>
          </p:grpSpPr>
          <p:sp>
            <p:nvSpPr>
              <p:cNvPr id="421" name=""/>
              <p:cNvSpPr/>
              <p:nvPr/>
            </p:nvSpPr>
            <p:spPr>
              <a:xfrm>
                <a:off x="3867120" y="6802560"/>
                <a:ext cx="83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257640" y="699444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867120" y="6918120"/>
                <a:ext cx="166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3552480" y="6872040"/>
                <a:ext cx="237960" cy="189720"/>
                <a:chOff x="3552480" y="6872040"/>
                <a:chExt cx="237960" cy="18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552480" y="6905160"/>
                  <a:ext cx="23796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60120" y="68720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7" name=""/>
          <p:cNvSpPr/>
          <p:nvPr/>
        </p:nvSpPr>
        <p:spPr>
          <a:xfrm>
            <a:off x="3255840" y="7426440"/>
            <a:ext cx="36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48160" y="7307280"/>
            <a:ext cx="245880" cy="214200"/>
            <a:chOff x="3548160" y="7307280"/>
            <a:chExt cx="245880" cy="214200"/>
          </a:xfrm>
        </p:grpSpPr>
        <p:grpSp>
          <p:nvGrpSpPr>
            <p:cNvPr id="429" name=""/>
            <p:cNvGrpSpPr/>
            <p:nvPr/>
          </p:nvGrpSpPr>
          <p:grpSpPr>
            <a:xfrm>
              <a:off x="3548160" y="7353360"/>
              <a:ext cx="245880" cy="168120"/>
              <a:chOff x="3548160" y="7353360"/>
              <a:chExt cx="245880" cy="168120"/>
            </a:xfrm>
          </p:grpSpPr>
          <p:sp>
            <p:nvSpPr>
              <p:cNvPr id="430" name=""/>
              <p:cNvSpPr/>
              <p:nvPr/>
            </p:nvSpPr>
            <p:spPr>
              <a:xfrm>
                <a:off x="3548160" y="7353360"/>
                <a:ext cx="245880" cy="1681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59320" y="7367760"/>
                <a:ext cx="228600" cy="13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3559320" y="7367400"/>
                <a:ext cx="220320" cy="12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54280" y="7367760"/>
                <a:ext cx="52560" cy="13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633480" y="7307280"/>
              <a:ext cx="73800" cy="28080"/>
              <a:chOff x="3633480" y="7307280"/>
              <a:chExt cx="73800" cy="28080"/>
            </a:xfrm>
          </p:grpSpPr>
          <p:sp>
            <p:nvSpPr>
              <p:cNvPr id="435" name=""/>
              <p:cNvSpPr/>
              <p:nvPr/>
            </p:nvSpPr>
            <p:spPr>
              <a:xfrm>
                <a:off x="3633480" y="730728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680640" y="730872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867120" y="7335720"/>
            <a:ext cx="18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8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 Machine Gun        RU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554280" y="7567560"/>
            <a:ext cx="231840" cy="232560"/>
            <a:chOff x="3554280" y="7567560"/>
            <a:chExt cx="231840" cy="232560"/>
          </a:xfrm>
        </p:grpSpPr>
        <p:grpSp>
          <p:nvGrpSpPr>
            <p:cNvPr id="439" name=""/>
            <p:cNvGrpSpPr/>
            <p:nvPr/>
          </p:nvGrpSpPr>
          <p:grpSpPr>
            <a:xfrm>
              <a:off x="3554280" y="7610400"/>
              <a:ext cx="231840" cy="189720"/>
              <a:chOff x="3554280" y="7610400"/>
              <a:chExt cx="231840" cy="189720"/>
            </a:xfrm>
          </p:grpSpPr>
          <p:sp>
            <p:nvSpPr>
              <p:cNvPr id="440" name=""/>
              <p:cNvSpPr/>
              <p:nvPr/>
            </p:nvSpPr>
            <p:spPr>
              <a:xfrm>
                <a:off x="3554280" y="7610400"/>
                <a:ext cx="231840" cy="15660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65440" y="7773480"/>
                <a:ext cx="27000" cy="266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46520" y="7773480"/>
                <a:ext cx="28440" cy="266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632040" y="7567560"/>
              <a:ext cx="74520" cy="28080"/>
              <a:chOff x="3632040" y="7567560"/>
              <a:chExt cx="74520" cy="28080"/>
            </a:xfrm>
          </p:grpSpPr>
          <p:sp>
            <p:nvSpPr>
              <p:cNvPr id="444" name=""/>
              <p:cNvSpPr/>
              <p:nvPr/>
            </p:nvSpPr>
            <p:spPr>
              <a:xfrm>
                <a:off x="3632040" y="7567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679560" y="75690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3867120" y="7623000"/>
            <a:ext cx="2136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8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se Transpor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CWG-P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67120" y="7494480"/>
            <a:ext cx="762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5480" y="774396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99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55840" y="7912080"/>
            <a:ext cx="36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557520" y="7792920"/>
            <a:ext cx="245880" cy="235080"/>
            <a:chOff x="3557520" y="7792920"/>
            <a:chExt cx="245880" cy="235080"/>
          </a:xfrm>
        </p:grpSpPr>
        <p:grpSp>
          <p:nvGrpSpPr>
            <p:cNvPr id="451" name=""/>
            <p:cNvGrpSpPr/>
            <p:nvPr/>
          </p:nvGrpSpPr>
          <p:grpSpPr>
            <a:xfrm>
              <a:off x="3557520" y="7829280"/>
              <a:ext cx="245880" cy="168120"/>
              <a:chOff x="3557520" y="7829280"/>
              <a:chExt cx="245880" cy="168120"/>
            </a:xfrm>
          </p:grpSpPr>
          <p:sp>
            <p:nvSpPr>
              <p:cNvPr id="452" name=""/>
              <p:cNvSpPr/>
              <p:nvPr/>
            </p:nvSpPr>
            <p:spPr>
              <a:xfrm>
                <a:off x="3557520" y="7829280"/>
                <a:ext cx="245880" cy="1681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568680" y="7843680"/>
                <a:ext cx="228600" cy="13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3568680" y="7843320"/>
                <a:ext cx="220320" cy="12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63640" y="7843680"/>
                <a:ext cx="52560" cy="13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643200" y="7792920"/>
              <a:ext cx="74520" cy="27000"/>
              <a:chOff x="3643200" y="7792920"/>
              <a:chExt cx="74520" cy="27000"/>
            </a:xfrm>
          </p:grpSpPr>
          <p:sp>
            <p:nvSpPr>
              <p:cNvPr id="457" name=""/>
              <p:cNvSpPr/>
              <p:nvPr/>
            </p:nvSpPr>
            <p:spPr>
              <a:xfrm>
                <a:off x="3643200" y="7792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90720" y="7792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3563640" y="80010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59120" y="8001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886200" y="7859880"/>
            <a:ext cx="18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chanka                     RU-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85960" y="7927920"/>
            <a:ext cx="2136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-2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-tank Rifl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b)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U-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13:17:25Z</dcterms:created>
  <dc:creator>JBaker</dc:creator>
  <dc:description/>
  <dc:language>en-US</dc:language>
  <cp:lastModifiedBy>James Baker</cp:lastModifiedBy>
  <dcterms:modified xsi:type="dcterms:W3CDTF">2003-02-09T12:51:47Z</dcterms:modified>
  <cp:revision>26</cp:revision>
  <dc:subject/>
  <dc:title>Symbols</dc:title>
</cp:coreProperties>
</file>