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586-8A41-4A19-AAE0-118CCBB2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BC7-85BA-412A-9E00-3940BA95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D23-85F8-4521-B870-7C097A26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9B9-2397-4AB6-8EF8-0F2ECD64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3CA-5D3A-4055-B1E3-262F5F18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4D1-E998-49EB-AAD9-A69A017F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22B-4261-4879-B9B4-57938563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B33-C1D4-4FE7-9412-AA273A8F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814-67B9-4DB9-AE6C-189AF1EB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310-DD95-4A3E-8015-7F5B16DF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22C-D106-4290-A8E1-2AA4C1B7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E2D-4942-4F6E-9F44-3D67C883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FDAD-6950-4193-AC4D-0D2B7A8ED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ssian Mechanized Corp Composition 1942-19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414440"/>
            <a:ext cx="40194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 September 1942 a Mechanized Corp consisted of the following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ps H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Mechanized Brigades BG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Tank Brigade BG-37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Tank Regiments BG-22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Tank Brigades BG-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uards Mortar Battalion BG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cycle Battalion BG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mored Car Battalion BG-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 Company ME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January 1943 add the follow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rtar Regiment FS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 Regiment (Mixed) BG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February 1943 change the follow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 the Engineer Company to an Engineer Battalion BG-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March 1943 add the follow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tiaircraft Regiment BG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April 1943 add the follow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titank Regiment BG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May 1943 add the follow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Separate) Antitank Battalion BG-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422360"/>
            <a:ext cx="38098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August 1943 add, change or remove the follow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 Regiment (SU76) BG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 Regiment (SU-85) BG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hang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titank Regiment BG-30 – replace 45mm guns with 76,2mm gu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v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Separate) Antitank Battalion BG-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 Regiment (Mixed) BG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nal Mechanized Corp TO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ps H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Mechanized Brigades BG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Tank Brigade BG-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Heavy SU Regiment BG-2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 1 Heavy Tank Regiment BG-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Medium SU Regiment BG-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Light SU Regiment BG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Antiaircraft Regiment BG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Mortar Regiment FS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Guards Mortar Regiment FS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Armored Reconnaissance Battalion BG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 Motorcycle Battalion BG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Engineer Battalion BG-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5" name=""/>
          <p:cNvGrpSpPr/>
          <p:nvPr/>
        </p:nvGrpSpPr>
        <p:grpSpPr>
          <a:xfrm>
            <a:off x="480960" y="254160"/>
            <a:ext cx="3522600" cy="4206960"/>
            <a:chOff x="480960" y="254160"/>
            <a:chExt cx="3522600" cy="4206960"/>
          </a:xfrm>
        </p:grpSpPr>
        <p:sp>
          <p:nvSpPr>
            <p:cNvPr id="1636" name=""/>
            <p:cNvSpPr/>
            <p:nvPr/>
          </p:nvSpPr>
          <p:spPr>
            <a:xfrm>
              <a:off x="503280" y="254160"/>
              <a:ext cx="32605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-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vy Tank Regiment February 1944 – May 1945 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uards Heavy Tank Regiment Feb ’44-May ‘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80960" y="3751200"/>
              <a:ext cx="30733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 replace Kv-1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S-I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U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V-85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urchill IV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500040" y="952560"/>
              <a:ext cx="3503520" cy="2500200"/>
              <a:chOff x="500040" y="952560"/>
              <a:chExt cx="3503520" cy="2500200"/>
            </a:xfrm>
          </p:grpSpPr>
          <p:sp>
            <p:nvSpPr>
              <p:cNvPr id="1639" name=""/>
              <p:cNvSpPr/>
              <p:nvPr/>
            </p:nvSpPr>
            <p:spPr>
              <a:xfrm flipH="1">
                <a:off x="636480" y="1190520"/>
                <a:ext cx="15840" cy="18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0" name=""/>
              <p:cNvGrpSpPr/>
              <p:nvPr/>
            </p:nvGrpSpPr>
            <p:grpSpPr>
              <a:xfrm>
                <a:off x="500040" y="952560"/>
                <a:ext cx="284040" cy="252360"/>
                <a:chOff x="500040" y="952560"/>
                <a:chExt cx="284040" cy="252360"/>
              </a:xfrm>
            </p:grpSpPr>
            <p:grpSp>
              <p:nvGrpSpPr>
                <p:cNvPr id="1641" name=""/>
                <p:cNvGrpSpPr/>
                <p:nvPr/>
              </p:nvGrpSpPr>
              <p:grpSpPr>
                <a:xfrm>
                  <a:off x="500040" y="1011240"/>
                  <a:ext cx="284040" cy="193680"/>
                  <a:chOff x="500040" y="1011240"/>
                  <a:chExt cx="284040" cy="193680"/>
                </a:xfrm>
              </p:grpSpPr>
              <p:sp>
                <p:nvSpPr>
                  <p:cNvPr id="1642" name=""/>
                  <p:cNvSpPr/>
                  <p:nvPr/>
                </p:nvSpPr>
                <p:spPr>
                  <a:xfrm>
                    <a:off x="500040" y="101124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551880" y="105948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4" name=""/>
                <p:cNvGrpSpPr/>
                <p:nvPr/>
              </p:nvGrpSpPr>
              <p:grpSpPr>
                <a:xfrm>
                  <a:off x="603000" y="952560"/>
                  <a:ext cx="75600" cy="63360"/>
                  <a:chOff x="603000" y="952560"/>
                  <a:chExt cx="75600" cy="63360"/>
                </a:xfrm>
              </p:grpSpPr>
              <p:sp>
                <p:nvSpPr>
                  <p:cNvPr id="1645" name=""/>
                  <p:cNvSpPr/>
                  <p:nvPr/>
                </p:nvSpPr>
                <p:spPr>
                  <a:xfrm>
                    <a:off x="603000" y="9525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678600" y="9525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7" name=""/>
              <p:cNvGrpSpPr/>
              <p:nvPr/>
            </p:nvGrpSpPr>
            <p:grpSpPr>
              <a:xfrm>
                <a:off x="642600" y="1054080"/>
                <a:ext cx="3294360" cy="369720"/>
                <a:chOff x="642600" y="1054080"/>
                <a:chExt cx="3294360" cy="36972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1252440" y="1208160"/>
                  <a:ext cx="2684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KV-1 76mm Heavy Tank  (a)  RU-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642600" y="133200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1252440" y="105408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1" name=""/>
                <p:cNvGrpSpPr/>
                <p:nvPr/>
              </p:nvGrpSpPr>
              <p:grpSpPr>
                <a:xfrm>
                  <a:off x="933480" y="1212840"/>
                  <a:ext cx="231840" cy="208080"/>
                  <a:chOff x="933480" y="1212840"/>
                  <a:chExt cx="231840" cy="208080"/>
                </a:xfrm>
              </p:grpSpPr>
              <p:grpSp>
                <p:nvGrpSpPr>
                  <p:cNvPr id="1652" name=""/>
                  <p:cNvGrpSpPr/>
                  <p:nvPr/>
                </p:nvGrpSpPr>
                <p:grpSpPr>
                  <a:xfrm>
                    <a:off x="984240" y="1212840"/>
                    <a:ext cx="131760" cy="27000"/>
                    <a:chOff x="984240" y="1212840"/>
                    <a:chExt cx="131760" cy="27000"/>
                  </a:xfrm>
                </p:grpSpPr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984240" y="12128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1035000" y="12128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1089000" y="12128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6" name=""/>
                  <p:cNvGrpSpPr/>
                  <p:nvPr/>
                </p:nvGrpSpPr>
                <p:grpSpPr>
                  <a:xfrm>
                    <a:off x="933480" y="1263600"/>
                    <a:ext cx="231840" cy="157320"/>
                    <a:chOff x="933480" y="1263600"/>
                    <a:chExt cx="231840" cy="157320"/>
                  </a:xfrm>
                </p:grpSpPr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933480" y="1263600"/>
                      <a:ext cx="23184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>
                      <a:off x="975960" y="1302840"/>
                      <a:ext cx="1486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59" name=""/>
              <p:cNvGrpSpPr/>
              <p:nvPr/>
            </p:nvGrpSpPr>
            <p:grpSpPr>
              <a:xfrm>
                <a:off x="641520" y="2438280"/>
                <a:ext cx="2845800" cy="271440"/>
                <a:chOff x="641520" y="2438280"/>
                <a:chExt cx="2845800" cy="271440"/>
              </a:xfrm>
            </p:grpSpPr>
            <p:sp>
              <p:nvSpPr>
                <p:cNvPr id="1660" name=""/>
                <p:cNvSpPr/>
                <p:nvPr/>
              </p:nvSpPr>
              <p:spPr>
                <a:xfrm flipH="1">
                  <a:off x="641520" y="2611440"/>
                  <a:ext cx="29808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1" name=""/>
                <p:cNvGrpSpPr/>
                <p:nvPr/>
              </p:nvGrpSpPr>
              <p:grpSpPr>
                <a:xfrm>
                  <a:off x="871200" y="2438280"/>
                  <a:ext cx="284040" cy="258480"/>
                  <a:chOff x="871200" y="2438280"/>
                  <a:chExt cx="284040" cy="25848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>
                    <a:off x="1012320" y="2438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63" name=""/>
                  <p:cNvGrpSpPr/>
                  <p:nvPr/>
                </p:nvGrpSpPr>
                <p:grpSpPr>
                  <a:xfrm>
                    <a:off x="871200" y="2503080"/>
                    <a:ext cx="284040" cy="193680"/>
                    <a:chOff x="871200" y="2503080"/>
                    <a:chExt cx="284040" cy="193680"/>
                  </a:xfrm>
                </p:grpSpPr>
                <p:sp>
                  <p:nvSpPr>
                    <p:cNvPr id="1664" name=""/>
                    <p:cNvSpPr/>
                    <p:nvPr/>
                  </p:nvSpPr>
                  <p:spPr>
                    <a:xfrm>
                      <a:off x="871200" y="2503080"/>
                      <a:ext cx="28404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5" name=""/>
                    <p:cNvSpPr/>
                    <p:nvPr/>
                  </p:nvSpPr>
                  <p:spPr>
                    <a:xfrm>
                      <a:off x="923040" y="2551320"/>
                      <a:ext cx="182160" cy="925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66" name=""/>
                <p:cNvSpPr/>
                <p:nvPr/>
              </p:nvSpPr>
              <p:spPr>
                <a:xfrm>
                  <a:off x="1226880" y="2494080"/>
                  <a:ext cx="2260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8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KV-1  76mm Heavy Tank  (a)     RU-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7" name=""/>
              <p:cNvGrpSpPr/>
              <p:nvPr/>
            </p:nvGrpSpPr>
            <p:grpSpPr>
              <a:xfrm>
                <a:off x="666360" y="1452600"/>
                <a:ext cx="3161160" cy="466200"/>
                <a:chOff x="666360" y="1452600"/>
                <a:chExt cx="3161160" cy="46620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1228680" y="1452600"/>
                  <a:ext cx="2421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Armored Car Recon Plato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1276200" y="1684440"/>
                  <a:ext cx="2551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BA-64                                   RU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flipH="1">
                  <a:off x="666360" y="180828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1285920" y="158904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Rec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2" name=""/>
                <p:cNvGrpSpPr/>
                <p:nvPr/>
              </p:nvGrpSpPr>
              <p:grpSpPr>
                <a:xfrm>
                  <a:off x="960480" y="1677960"/>
                  <a:ext cx="231840" cy="240840"/>
                  <a:chOff x="960480" y="1677960"/>
                  <a:chExt cx="231840" cy="240840"/>
                </a:xfrm>
              </p:grpSpPr>
              <p:grpSp>
                <p:nvGrpSpPr>
                  <p:cNvPr id="1673" name=""/>
                  <p:cNvGrpSpPr/>
                  <p:nvPr/>
                </p:nvGrpSpPr>
                <p:grpSpPr>
                  <a:xfrm>
                    <a:off x="1011240" y="1677960"/>
                    <a:ext cx="131760" cy="27000"/>
                    <a:chOff x="1011240" y="1677960"/>
                    <a:chExt cx="131760" cy="27000"/>
                  </a:xfrm>
                </p:grpSpPr>
                <p:sp>
                  <p:nvSpPr>
                    <p:cNvPr id="1674" name=""/>
                    <p:cNvSpPr/>
                    <p:nvPr/>
                  </p:nvSpPr>
                  <p:spPr>
                    <a:xfrm>
                      <a:off x="1011240" y="16779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1062000" y="16779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6" name=""/>
                    <p:cNvSpPr/>
                    <p:nvPr/>
                  </p:nvSpPr>
                  <p:spPr>
                    <a:xfrm>
                      <a:off x="1116000" y="16779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7" name=""/>
                  <p:cNvGrpSpPr/>
                  <p:nvPr/>
                </p:nvGrpSpPr>
                <p:grpSpPr>
                  <a:xfrm>
                    <a:off x="960480" y="1728360"/>
                    <a:ext cx="231840" cy="190440"/>
                    <a:chOff x="960480" y="1728360"/>
                    <a:chExt cx="231840" cy="190440"/>
                  </a:xfrm>
                </p:grpSpPr>
                <p:sp>
                  <p:nvSpPr>
                    <p:cNvPr id="1678" name=""/>
                    <p:cNvSpPr/>
                    <p:nvPr/>
                  </p:nvSpPr>
                  <p:spPr>
                    <a:xfrm>
                      <a:off x="960480" y="1728720"/>
                      <a:ext cx="23184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9" name=""/>
                    <p:cNvSpPr/>
                    <p:nvPr/>
                  </p:nvSpPr>
                  <p:spPr>
                    <a:xfrm>
                      <a:off x="970920" y="1891800"/>
                      <a:ext cx="2700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0" name=""/>
                    <p:cNvSpPr/>
                    <p:nvPr/>
                  </p:nvSpPr>
                  <p:spPr>
                    <a:xfrm>
                      <a:off x="1152720" y="1891800"/>
                      <a:ext cx="2736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1" name=""/>
                    <p:cNvSpPr/>
                    <p:nvPr/>
                  </p:nvSpPr>
                  <p:spPr>
                    <a:xfrm>
                      <a:off x="993600" y="1770120"/>
                      <a:ext cx="16164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2" name=""/>
                    <p:cNvSpPr/>
                    <p:nvPr/>
                  </p:nvSpPr>
                  <p:spPr>
                    <a:xfrm flipV="1">
                      <a:off x="962640" y="1728360"/>
                      <a:ext cx="227880" cy="15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3" name=""/>
              <p:cNvGrpSpPr/>
              <p:nvPr/>
            </p:nvGrpSpPr>
            <p:grpSpPr>
              <a:xfrm>
                <a:off x="639720" y="1992240"/>
                <a:ext cx="3363840" cy="263160"/>
                <a:chOff x="639720" y="1992240"/>
                <a:chExt cx="3363840" cy="263160"/>
              </a:xfrm>
            </p:grpSpPr>
            <p:grpSp>
              <p:nvGrpSpPr>
                <p:cNvPr id="1684" name=""/>
                <p:cNvGrpSpPr/>
                <p:nvPr/>
              </p:nvGrpSpPr>
              <p:grpSpPr>
                <a:xfrm>
                  <a:off x="639720" y="1992240"/>
                  <a:ext cx="549360" cy="257040"/>
                  <a:chOff x="639720" y="1992240"/>
                  <a:chExt cx="549360" cy="257040"/>
                </a:xfrm>
              </p:grpSpPr>
              <p:sp>
                <p:nvSpPr>
                  <p:cNvPr id="1685" name=""/>
                  <p:cNvSpPr/>
                  <p:nvPr/>
                </p:nvSpPr>
                <p:spPr>
                  <a:xfrm>
                    <a:off x="639720" y="215712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904680" y="1992240"/>
                    <a:ext cx="284400" cy="257040"/>
                    <a:chOff x="904680" y="1992240"/>
                    <a:chExt cx="284400" cy="257040"/>
                  </a:xfrm>
                </p:grpSpPr>
                <p:grpSp>
                  <p:nvGrpSpPr>
                    <p:cNvPr id="1687" name=""/>
                    <p:cNvGrpSpPr/>
                    <p:nvPr/>
                  </p:nvGrpSpPr>
                  <p:grpSpPr>
                    <a:xfrm>
                      <a:off x="904680" y="2055600"/>
                      <a:ext cx="284400" cy="193680"/>
                      <a:chOff x="904680" y="2055600"/>
                      <a:chExt cx="284400" cy="193680"/>
                    </a:xfrm>
                  </p:grpSpPr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904680" y="2055600"/>
                        <a:ext cx="284400" cy="19368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9" name=""/>
                      <p:cNvSpPr/>
                      <p:nvPr/>
                    </p:nvSpPr>
                    <p:spPr>
                      <a:xfrm flipV="1">
                        <a:off x="907560" y="2058480"/>
                        <a:ext cx="276840" cy="18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0" name=""/>
                      <p:cNvSpPr/>
                      <p:nvPr/>
                    </p:nvSpPr>
                    <p:spPr>
                      <a:xfrm>
                        <a:off x="904680" y="2058480"/>
                        <a:ext cx="2829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91" name=""/>
                    <p:cNvSpPr/>
                    <p:nvPr/>
                  </p:nvSpPr>
                  <p:spPr>
                    <a:xfrm>
                      <a:off x="1046160" y="19922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92" name=""/>
                <p:cNvSpPr/>
                <p:nvPr/>
              </p:nvSpPr>
              <p:spPr>
                <a:xfrm>
                  <a:off x="1203120" y="2039760"/>
                  <a:ext cx="2800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Submachine Gun Co. (Tank Riders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3" name=""/>
              <p:cNvGrpSpPr/>
              <p:nvPr/>
            </p:nvGrpSpPr>
            <p:grpSpPr>
              <a:xfrm>
                <a:off x="646200" y="2882880"/>
                <a:ext cx="2652120" cy="569880"/>
                <a:chOff x="646200" y="2882880"/>
                <a:chExt cx="2652120" cy="569880"/>
              </a:xfrm>
            </p:grpSpPr>
            <p:sp>
              <p:nvSpPr>
                <p:cNvPr id="1694" name=""/>
                <p:cNvSpPr/>
                <p:nvPr/>
              </p:nvSpPr>
              <p:spPr>
                <a:xfrm>
                  <a:off x="968400" y="3085920"/>
                  <a:ext cx="0" cy="23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5" name=""/>
                <p:cNvGrpSpPr/>
                <p:nvPr/>
              </p:nvGrpSpPr>
              <p:grpSpPr>
                <a:xfrm>
                  <a:off x="930240" y="3219120"/>
                  <a:ext cx="231480" cy="233640"/>
                  <a:chOff x="930240" y="3219120"/>
                  <a:chExt cx="231480" cy="233640"/>
                </a:xfrm>
              </p:grpSpPr>
              <p:grpSp>
                <p:nvGrpSpPr>
                  <p:cNvPr id="1696" name=""/>
                  <p:cNvGrpSpPr/>
                  <p:nvPr/>
                </p:nvGrpSpPr>
                <p:grpSpPr>
                  <a:xfrm>
                    <a:off x="930240" y="3262320"/>
                    <a:ext cx="231480" cy="190440"/>
                    <a:chOff x="930240" y="3262320"/>
                    <a:chExt cx="231480" cy="190440"/>
                  </a:xfrm>
                </p:grpSpPr>
                <p:sp>
                  <p:nvSpPr>
                    <p:cNvPr id="1697" name=""/>
                    <p:cNvSpPr/>
                    <p:nvPr/>
                  </p:nvSpPr>
                  <p:spPr>
                    <a:xfrm>
                      <a:off x="930240" y="326232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8" name=""/>
                    <p:cNvSpPr/>
                    <p:nvPr/>
                  </p:nvSpPr>
                  <p:spPr>
                    <a:xfrm>
                      <a:off x="941040" y="3425760"/>
                      <a:ext cx="2664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9" name=""/>
                    <p:cNvSpPr/>
                    <p:nvPr/>
                  </p:nvSpPr>
                  <p:spPr>
                    <a:xfrm>
                      <a:off x="1122120" y="3425760"/>
                      <a:ext cx="2808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0" name=""/>
                  <p:cNvGrpSpPr/>
                  <p:nvPr/>
                </p:nvGrpSpPr>
                <p:grpSpPr>
                  <a:xfrm>
                    <a:off x="1007640" y="3219120"/>
                    <a:ext cx="73800" cy="28800"/>
                    <a:chOff x="1007640" y="3219120"/>
                    <a:chExt cx="73800" cy="28800"/>
                  </a:xfrm>
                </p:grpSpPr>
                <p:sp>
                  <p:nvSpPr>
                    <p:cNvPr id="1701" name=""/>
                    <p:cNvSpPr/>
                    <p:nvPr/>
                  </p:nvSpPr>
                  <p:spPr>
                    <a:xfrm>
                      <a:off x="1007640" y="321912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2" name=""/>
                    <p:cNvSpPr/>
                    <p:nvPr/>
                  </p:nvSpPr>
                  <p:spPr>
                    <a:xfrm>
                      <a:off x="1054800" y="322092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03" name=""/>
                <p:cNvSpPr/>
                <p:nvPr/>
              </p:nvSpPr>
              <p:spPr>
                <a:xfrm>
                  <a:off x="1191960" y="323676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(Lend Lease)  RU-42*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4" name=""/>
                <p:cNvGrpSpPr/>
                <p:nvPr/>
              </p:nvGrpSpPr>
              <p:grpSpPr>
                <a:xfrm>
                  <a:off x="646200" y="2882880"/>
                  <a:ext cx="2652120" cy="215640"/>
                  <a:chOff x="646200" y="2882880"/>
                  <a:chExt cx="2652120" cy="215640"/>
                </a:xfrm>
              </p:grpSpPr>
              <p:sp>
                <p:nvSpPr>
                  <p:cNvPr id="1705" name=""/>
                  <p:cNvSpPr/>
                  <p:nvPr/>
                </p:nvSpPr>
                <p:spPr>
                  <a:xfrm>
                    <a:off x="646200" y="3006720"/>
                    <a:ext cx="35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6" name=""/>
                  <p:cNvGrpSpPr/>
                  <p:nvPr/>
                </p:nvGrpSpPr>
                <p:grpSpPr>
                  <a:xfrm>
                    <a:off x="930240" y="2903400"/>
                    <a:ext cx="231480" cy="193680"/>
                    <a:chOff x="930240" y="2903400"/>
                    <a:chExt cx="231480" cy="193680"/>
                  </a:xfrm>
                </p:grpSpPr>
                <p:grpSp>
                  <p:nvGrpSpPr>
                    <p:cNvPr id="1707" name=""/>
                    <p:cNvGrpSpPr/>
                    <p:nvPr/>
                  </p:nvGrpSpPr>
                  <p:grpSpPr>
                    <a:xfrm>
                      <a:off x="1007640" y="2903400"/>
                      <a:ext cx="74520" cy="28800"/>
                      <a:chOff x="1007640" y="2903400"/>
                      <a:chExt cx="74520" cy="28800"/>
                    </a:xfrm>
                  </p:grpSpPr>
                  <p:sp>
                    <p:nvSpPr>
                      <p:cNvPr id="1708" name=""/>
                      <p:cNvSpPr/>
                      <p:nvPr/>
                    </p:nvSpPr>
                    <p:spPr>
                      <a:xfrm>
                        <a:off x="1007640" y="29034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9" name=""/>
                      <p:cNvSpPr/>
                      <p:nvPr/>
                    </p:nvSpPr>
                    <p:spPr>
                      <a:xfrm>
                        <a:off x="1055160" y="290520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0" name=""/>
                    <p:cNvGrpSpPr/>
                    <p:nvPr/>
                  </p:nvGrpSpPr>
                  <p:grpSpPr>
                    <a:xfrm>
                      <a:off x="930240" y="2940120"/>
                      <a:ext cx="231480" cy="156960"/>
                      <a:chOff x="930240" y="2940120"/>
                      <a:chExt cx="231480" cy="156960"/>
                    </a:xfrm>
                  </p:grpSpPr>
                  <p:sp>
                    <p:nvSpPr>
                      <p:cNvPr id="1711" name=""/>
                      <p:cNvSpPr/>
                      <p:nvPr/>
                    </p:nvSpPr>
                    <p:spPr>
                      <a:xfrm>
                        <a:off x="930240" y="294012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2" name=""/>
                      <p:cNvSpPr/>
                      <p:nvPr/>
                    </p:nvSpPr>
                    <p:spPr>
                      <a:xfrm>
                        <a:off x="1001520" y="2987280"/>
                        <a:ext cx="0" cy="5004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3" name=""/>
                      <p:cNvSpPr/>
                      <p:nvPr/>
                    </p:nvSpPr>
                    <p:spPr>
                      <a:xfrm>
                        <a:off x="1042920" y="2989800"/>
                        <a:ext cx="0" cy="4752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4" name=""/>
                      <p:cNvSpPr/>
                      <p:nvPr/>
                    </p:nvSpPr>
                    <p:spPr>
                      <a:xfrm>
                        <a:off x="1083240" y="2991240"/>
                        <a:ext cx="0" cy="4608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5" name=""/>
                      <p:cNvSpPr/>
                      <p:nvPr/>
                    </p:nvSpPr>
                    <p:spPr>
                      <a:xfrm>
                        <a:off x="996480" y="2989800"/>
                        <a:ext cx="9360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16" name=""/>
                  <p:cNvSpPr/>
                  <p:nvPr/>
                </p:nvSpPr>
                <p:spPr>
                  <a:xfrm>
                    <a:off x="1217520" y="2882880"/>
                    <a:ext cx="20808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appers                               RU-2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17" name=""/>
          <p:cNvSpPr/>
          <p:nvPr/>
        </p:nvSpPr>
        <p:spPr>
          <a:xfrm>
            <a:off x="5402160" y="1722600"/>
            <a:ext cx="17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5075280" y="2317680"/>
            <a:ext cx="582120" cy="299520"/>
            <a:chOff x="5075280" y="2317680"/>
            <a:chExt cx="582120" cy="299520"/>
          </a:xfrm>
        </p:grpSpPr>
        <p:sp>
          <p:nvSpPr>
            <p:cNvPr id="1719" name=""/>
            <p:cNvSpPr/>
            <p:nvPr/>
          </p:nvSpPr>
          <p:spPr>
            <a:xfrm>
              <a:off x="5075280" y="251136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5310360" y="2317680"/>
              <a:ext cx="347040" cy="299520"/>
              <a:chOff x="5310360" y="2317680"/>
              <a:chExt cx="347040" cy="299520"/>
            </a:xfrm>
          </p:grpSpPr>
          <p:grpSp>
            <p:nvGrpSpPr>
              <p:cNvPr id="1721" name=""/>
              <p:cNvGrpSpPr/>
              <p:nvPr/>
            </p:nvGrpSpPr>
            <p:grpSpPr>
              <a:xfrm>
                <a:off x="5310360" y="2381040"/>
                <a:ext cx="347040" cy="236160"/>
                <a:chOff x="5310360" y="2381040"/>
                <a:chExt cx="347040" cy="236160"/>
              </a:xfrm>
            </p:grpSpPr>
            <p:sp>
              <p:nvSpPr>
                <p:cNvPr id="1722" name=""/>
                <p:cNvSpPr/>
                <p:nvPr/>
              </p:nvSpPr>
              <p:spPr>
                <a:xfrm>
                  <a:off x="5310360" y="2381040"/>
                  <a:ext cx="347040" cy="2361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flipV="1">
                  <a:off x="5313960" y="238464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5310360" y="238464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5" name=""/>
              <p:cNvGrpSpPr/>
              <p:nvPr/>
            </p:nvGrpSpPr>
            <p:grpSpPr>
              <a:xfrm>
                <a:off x="5454720" y="2317680"/>
                <a:ext cx="75600" cy="63360"/>
                <a:chOff x="5454720" y="2317680"/>
                <a:chExt cx="75600" cy="63360"/>
              </a:xfrm>
            </p:grpSpPr>
            <p:sp>
              <p:nvSpPr>
                <p:cNvPr id="1726" name=""/>
                <p:cNvSpPr/>
                <p:nvPr/>
              </p:nvSpPr>
              <p:spPr>
                <a:xfrm>
                  <a:off x="5454720" y="2317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5530320" y="2317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8" name=""/>
          <p:cNvSpPr/>
          <p:nvPr/>
        </p:nvSpPr>
        <p:spPr>
          <a:xfrm>
            <a:off x="5676840" y="2349360"/>
            <a:ext cx="278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otorized Submachinegun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5035680" y="939960"/>
            <a:ext cx="23760" cy="410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4883040" y="727200"/>
            <a:ext cx="347400" cy="299520"/>
            <a:chOff x="4883040" y="727200"/>
            <a:chExt cx="347400" cy="299520"/>
          </a:xfrm>
        </p:grpSpPr>
        <p:grpSp>
          <p:nvGrpSpPr>
            <p:cNvPr id="1731" name=""/>
            <p:cNvGrpSpPr/>
            <p:nvPr/>
          </p:nvGrpSpPr>
          <p:grpSpPr>
            <a:xfrm>
              <a:off x="5019480" y="727200"/>
              <a:ext cx="76320" cy="63360"/>
              <a:chOff x="5019480" y="727200"/>
              <a:chExt cx="76320" cy="63360"/>
            </a:xfrm>
          </p:grpSpPr>
          <p:sp>
            <p:nvSpPr>
              <p:cNvPr id="1732" name=""/>
              <p:cNvSpPr/>
              <p:nvPr/>
            </p:nvSpPr>
            <p:spPr>
              <a:xfrm>
                <a:off x="5019480" y="727200"/>
                <a:ext cx="763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5019480" y="727200"/>
                <a:ext cx="763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4883040" y="790560"/>
              <a:ext cx="347400" cy="236160"/>
              <a:chOff x="4883040" y="790560"/>
              <a:chExt cx="347400" cy="236160"/>
            </a:xfrm>
          </p:grpSpPr>
          <p:sp>
            <p:nvSpPr>
              <p:cNvPr id="1735" name=""/>
              <p:cNvSpPr/>
              <p:nvPr/>
            </p:nvSpPr>
            <p:spPr>
              <a:xfrm>
                <a:off x="4883040" y="790560"/>
                <a:ext cx="347400" cy="2361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946760" y="849600"/>
                <a:ext cx="222840" cy="11268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7" name=""/>
          <p:cNvGrpSpPr/>
          <p:nvPr/>
        </p:nvGrpSpPr>
        <p:grpSpPr>
          <a:xfrm>
            <a:off x="5070600" y="826920"/>
            <a:ext cx="2638440" cy="498600"/>
            <a:chOff x="5070600" y="826920"/>
            <a:chExt cx="2638440" cy="498600"/>
          </a:xfrm>
        </p:grpSpPr>
        <p:sp>
          <p:nvSpPr>
            <p:cNvPr id="1738" name=""/>
            <p:cNvSpPr/>
            <p:nvPr/>
          </p:nvSpPr>
          <p:spPr>
            <a:xfrm>
              <a:off x="5070600" y="124128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9" name=""/>
            <p:cNvGrpSpPr/>
            <p:nvPr/>
          </p:nvGrpSpPr>
          <p:grpSpPr>
            <a:xfrm>
              <a:off x="5396040" y="826920"/>
              <a:ext cx="2313000" cy="498600"/>
              <a:chOff x="5396040" y="826920"/>
              <a:chExt cx="2313000" cy="498600"/>
            </a:xfrm>
          </p:grpSpPr>
          <p:sp>
            <p:nvSpPr>
              <p:cNvPr id="1740" name=""/>
              <p:cNvSpPr/>
              <p:nvPr/>
            </p:nvSpPr>
            <p:spPr>
              <a:xfrm>
                <a:off x="5473800" y="82692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627880" y="98424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2" name=""/>
              <p:cNvGrpSpPr/>
              <p:nvPr/>
            </p:nvGrpSpPr>
            <p:grpSpPr>
              <a:xfrm>
                <a:off x="5396040" y="1103040"/>
                <a:ext cx="2313000" cy="222480"/>
                <a:chOff x="5396040" y="1103040"/>
                <a:chExt cx="2313000" cy="222480"/>
              </a:xfrm>
            </p:grpSpPr>
            <p:grpSp>
              <p:nvGrpSpPr>
                <p:cNvPr id="1743" name=""/>
                <p:cNvGrpSpPr/>
                <p:nvPr/>
              </p:nvGrpSpPr>
              <p:grpSpPr>
                <a:xfrm>
                  <a:off x="5396040" y="1123920"/>
                  <a:ext cx="231840" cy="201600"/>
                  <a:chOff x="5396040" y="1123920"/>
                  <a:chExt cx="231840" cy="201600"/>
                </a:xfrm>
              </p:grpSpPr>
              <p:grpSp>
                <p:nvGrpSpPr>
                  <p:cNvPr id="1744" name=""/>
                  <p:cNvGrpSpPr/>
                  <p:nvPr/>
                </p:nvGrpSpPr>
                <p:grpSpPr>
                  <a:xfrm>
                    <a:off x="5396040" y="1168200"/>
                    <a:ext cx="231840" cy="157320"/>
                    <a:chOff x="5396040" y="1168200"/>
                    <a:chExt cx="231840" cy="157320"/>
                  </a:xfrm>
                </p:grpSpPr>
                <p:sp>
                  <p:nvSpPr>
                    <p:cNvPr id="1745" name=""/>
                    <p:cNvSpPr/>
                    <p:nvPr/>
                  </p:nvSpPr>
                  <p:spPr>
                    <a:xfrm>
                      <a:off x="5396040" y="1168200"/>
                      <a:ext cx="23184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6" name=""/>
                    <p:cNvSpPr/>
                    <p:nvPr/>
                  </p:nvSpPr>
                  <p:spPr>
                    <a:xfrm>
                      <a:off x="5438520" y="1207440"/>
                      <a:ext cx="1486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7" name=""/>
                  <p:cNvGrpSpPr/>
                  <p:nvPr/>
                </p:nvGrpSpPr>
                <p:grpSpPr>
                  <a:xfrm>
                    <a:off x="5473800" y="1123920"/>
                    <a:ext cx="74520" cy="28080"/>
                    <a:chOff x="5473800" y="1123920"/>
                    <a:chExt cx="74520" cy="28080"/>
                  </a:xfrm>
                </p:grpSpPr>
                <p:sp>
                  <p:nvSpPr>
                    <p:cNvPr id="1748" name=""/>
                    <p:cNvSpPr/>
                    <p:nvPr/>
                  </p:nvSpPr>
                  <p:spPr>
                    <a:xfrm>
                      <a:off x="5473800" y="11239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9" name=""/>
                    <p:cNvSpPr/>
                    <p:nvPr/>
                  </p:nvSpPr>
                  <p:spPr>
                    <a:xfrm>
                      <a:off x="5521320" y="11253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50" name=""/>
                <p:cNvSpPr/>
                <p:nvPr/>
              </p:nvSpPr>
              <p:spPr>
                <a:xfrm>
                  <a:off x="5627880" y="11030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S-II Heavy Tank                  RU-0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51" name=""/>
          <p:cNvGrpSpPr/>
          <p:nvPr/>
        </p:nvGrpSpPr>
        <p:grpSpPr>
          <a:xfrm>
            <a:off x="5062680" y="1928880"/>
            <a:ext cx="3161880" cy="264960"/>
            <a:chOff x="5062680" y="1928880"/>
            <a:chExt cx="3161880" cy="264960"/>
          </a:xfrm>
        </p:grpSpPr>
        <p:sp>
          <p:nvSpPr>
            <p:cNvPr id="1752" name=""/>
            <p:cNvSpPr/>
            <p:nvPr/>
          </p:nvSpPr>
          <p:spPr>
            <a:xfrm>
              <a:off x="5062680" y="208440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3" name=""/>
            <p:cNvGrpSpPr/>
            <p:nvPr/>
          </p:nvGrpSpPr>
          <p:grpSpPr>
            <a:xfrm>
              <a:off x="5368680" y="1928880"/>
              <a:ext cx="284040" cy="258480"/>
              <a:chOff x="5368680" y="1928880"/>
              <a:chExt cx="284040" cy="258480"/>
            </a:xfrm>
          </p:grpSpPr>
          <p:grpSp>
            <p:nvGrpSpPr>
              <p:cNvPr id="1754" name=""/>
              <p:cNvGrpSpPr/>
              <p:nvPr/>
            </p:nvGrpSpPr>
            <p:grpSpPr>
              <a:xfrm>
                <a:off x="5368680" y="1993680"/>
                <a:ext cx="284040" cy="193680"/>
                <a:chOff x="5368680" y="1993680"/>
                <a:chExt cx="284040" cy="193680"/>
              </a:xfrm>
            </p:grpSpPr>
            <p:sp>
              <p:nvSpPr>
                <p:cNvPr id="1755" name=""/>
                <p:cNvSpPr/>
                <p:nvPr/>
              </p:nvSpPr>
              <p:spPr>
                <a:xfrm>
                  <a:off x="5368680" y="199368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5420520" y="2041920"/>
                  <a:ext cx="182160" cy="925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7" name=""/>
              <p:cNvGrpSpPr/>
              <p:nvPr/>
            </p:nvGrpSpPr>
            <p:grpSpPr>
              <a:xfrm>
                <a:off x="5471640" y="1928880"/>
                <a:ext cx="75960" cy="63360"/>
                <a:chOff x="5471640" y="1928880"/>
                <a:chExt cx="75960" cy="63360"/>
              </a:xfrm>
            </p:grpSpPr>
            <p:sp>
              <p:nvSpPr>
                <p:cNvPr id="1758" name=""/>
                <p:cNvSpPr/>
                <p:nvPr/>
              </p:nvSpPr>
              <p:spPr>
                <a:xfrm>
                  <a:off x="5471640" y="1928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547600" y="1928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0" name=""/>
            <p:cNvSpPr/>
            <p:nvPr/>
          </p:nvSpPr>
          <p:spPr>
            <a:xfrm>
              <a:off x="5653080" y="1978200"/>
              <a:ext cx="257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Heavy Tank Regiments 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ME-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5308560" y="304920"/>
            <a:ext cx="351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ards Heavy Tank Brigade November ’44 – May ‘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5484960" y="1306080"/>
            <a:ext cx="2052360" cy="377640"/>
            <a:chOff x="5484960" y="1306080"/>
            <a:chExt cx="2052360" cy="377640"/>
          </a:xfrm>
        </p:grpSpPr>
        <p:grpSp>
          <p:nvGrpSpPr>
            <p:cNvPr id="1763" name=""/>
            <p:cNvGrpSpPr/>
            <p:nvPr/>
          </p:nvGrpSpPr>
          <p:grpSpPr>
            <a:xfrm>
              <a:off x="5484960" y="1325520"/>
              <a:ext cx="2052360" cy="358200"/>
              <a:chOff x="5484960" y="1325520"/>
              <a:chExt cx="2052360" cy="358200"/>
            </a:xfrm>
          </p:grpSpPr>
          <p:sp>
            <p:nvSpPr>
              <p:cNvPr id="1764" name=""/>
              <p:cNvSpPr/>
              <p:nvPr/>
            </p:nvSpPr>
            <p:spPr>
              <a:xfrm>
                <a:off x="5907240" y="1325520"/>
                <a:ext cx="1630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69900"/>
                    </a:solidFill>
                    <a:latin typeface="Arial"/>
                  </a:rPr>
                  <a:t>Armored Car Plato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5" name=""/>
              <p:cNvGrpSpPr/>
              <p:nvPr/>
            </p:nvGrpSpPr>
            <p:grpSpPr>
              <a:xfrm>
                <a:off x="5484960" y="1461960"/>
                <a:ext cx="1820880" cy="221760"/>
                <a:chOff x="5484960" y="1461960"/>
                <a:chExt cx="1820880" cy="22176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5484960" y="1568520"/>
                  <a:ext cx="253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6000840" y="1552680"/>
                  <a:ext cx="13050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BA-64  (a)              RU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8" name=""/>
                <p:cNvGrpSpPr/>
                <p:nvPr/>
              </p:nvGrpSpPr>
              <p:grpSpPr>
                <a:xfrm>
                  <a:off x="5634000" y="1461960"/>
                  <a:ext cx="231480" cy="221760"/>
                  <a:chOff x="5634000" y="1461960"/>
                  <a:chExt cx="231480" cy="221760"/>
                </a:xfrm>
              </p:grpSpPr>
              <p:grpSp>
                <p:nvGrpSpPr>
                  <p:cNvPr id="1769" name=""/>
                  <p:cNvGrpSpPr/>
                  <p:nvPr/>
                </p:nvGrpSpPr>
                <p:grpSpPr>
                  <a:xfrm>
                    <a:off x="5634000" y="1493280"/>
                    <a:ext cx="231480" cy="190440"/>
                    <a:chOff x="5634000" y="1493280"/>
                    <a:chExt cx="231480" cy="190440"/>
                  </a:xfrm>
                </p:grpSpPr>
                <p:sp>
                  <p:nvSpPr>
                    <p:cNvPr id="1770" name=""/>
                    <p:cNvSpPr/>
                    <p:nvPr/>
                  </p:nvSpPr>
                  <p:spPr>
                    <a:xfrm>
                      <a:off x="5634000" y="149364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1" name=""/>
                    <p:cNvSpPr/>
                    <p:nvPr/>
                  </p:nvSpPr>
                  <p:spPr>
                    <a:xfrm>
                      <a:off x="5644440" y="1656720"/>
                      <a:ext cx="2700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2" name=""/>
                    <p:cNvSpPr/>
                    <p:nvPr/>
                  </p:nvSpPr>
                  <p:spPr>
                    <a:xfrm>
                      <a:off x="5826240" y="1656720"/>
                      <a:ext cx="2736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3" name=""/>
                    <p:cNvSpPr/>
                    <p:nvPr/>
                  </p:nvSpPr>
                  <p:spPr>
                    <a:xfrm>
                      <a:off x="5667120" y="1535040"/>
                      <a:ext cx="1612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4" name=""/>
                    <p:cNvSpPr/>
                    <p:nvPr/>
                  </p:nvSpPr>
                  <p:spPr>
                    <a:xfrm flipV="1">
                      <a:off x="5636160" y="1493280"/>
                      <a:ext cx="227520" cy="15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5" name=""/>
                  <p:cNvGrpSpPr/>
                  <p:nvPr/>
                </p:nvGrpSpPr>
                <p:grpSpPr>
                  <a:xfrm>
                    <a:off x="5711760" y="1461960"/>
                    <a:ext cx="74160" cy="27000"/>
                    <a:chOff x="5711760" y="1461960"/>
                    <a:chExt cx="74160" cy="27000"/>
                  </a:xfrm>
                </p:grpSpPr>
                <p:sp>
                  <p:nvSpPr>
                    <p:cNvPr id="1776" name=""/>
                    <p:cNvSpPr/>
                    <p:nvPr/>
                  </p:nvSpPr>
                  <p:spPr>
                    <a:xfrm>
                      <a:off x="5711760" y="14619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7" name=""/>
                    <p:cNvSpPr/>
                    <p:nvPr/>
                  </p:nvSpPr>
                  <p:spPr>
                    <a:xfrm>
                      <a:off x="5759280" y="146196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778" name=""/>
            <p:cNvSpPr/>
            <p:nvPr/>
          </p:nvSpPr>
          <p:spPr>
            <a:xfrm flipV="1">
              <a:off x="5494320" y="1306080"/>
              <a:ext cx="756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5051520" y="4197240"/>
            <a:ext cx="2622240" cy="419760"/>
            <a:chOff x="5051520" y="4197240"/>
            <a:chExt cx="2622240" cy="419760"/>
          </a:xfrm>
        </p:grpSpPr>
        <p:sp>
          <p:nvSpPr>
            <p:cNvPr id="1780" name=""/>
            <p:cNvSpPr/>
            <p:nvPr/>
          </p:nvSpPr>
          <p:spPr>
            <a:xfrm>
              <a:off x="5051520" y="432576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592600" y="4216320"/>
              <a:ext cx="2081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Antitank Selfpropelled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1  Su-76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5317920" y="4197240"/>
              <a:ext cx="231480" cy="212760"/>
              <a:chOff x="5317920" y="4197240"/>
              <a:chExt cx="231480" cy="212760"/>
            </a:xfrm>
          </p:grpSpPr>
          <p:grpSp>
            <p:nvGrpSpPr>
              <p:cNvPr id="1783" name=""/>
              <p:cNvGrpSpPr/>
              <p:nvPr/>
            </p:nvGrpSpPr>
            <p:grpSpPr>
              <a:xfrm>
                <a:off x="5392800" y="4197240"/>
                <a:ext cx="74520" cy="28080"/>
                <a:chOff x="5392800" y="4197240"/>
                <a:chExt cx="74520" cy="2808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5392800" y="41972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440320" y="4198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5317920" y="4252680"/>
                <a:ext cx="231480" cy="157320"/>
                <a:chOff x="5317920" y="4252680"/>
                <a:chExt cx="231480" cy="15732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5317920" y="4252680"/>
                  <a:ext cx="23148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V="1">
                  <a:off x="5317920" y="4255560"/>
                  <a:ext cx="11412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5432040" y="4252680"/>
                  <a:ext cx="114480" cy="154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90" name=""/>
          <p:cNvGrpSpPr/>
          <p:nvPr/>
        </p:nvGrpSpPr>
        <p:grpSpPr>
          <a:xfrm>
            <a:off x="5499000" y="2627280"/>
            <a:ext cx="2606760" cy="628200"/>
            <a:chOff x="5499000" y="2627280"/>
            <a:chExt cx="2606760" cy="628200"/>
          </a:xfrm>
        </p:grpSpPr>
        <p:grpSp>
          <p:nvGrpSpPr>
            <p:cNvPr id="1791" name=""/>
            <p:cNvGrpSpPr/>
            <p:nvPr/>
          </p:nvGrpSpPr>
          <p:grpSpPr>
            <a:xfrm>
              <a:off x="5797440" y="2889000"/>
              <a:ext cx="1825560" cy="366480"/>
              <a:chOff x="5797440" y="2889000"/>
              <a:chExt cx="1825560" cy="366480"/>
            </a:xfrm>
          </p:grpSpPr>
          <p:sp>
            <p:nvSpPr>
              <p:cNvPr id="1792" name=""/>
              <p:cNvSpPr/>
              <p:nvPr/>
            </p:nvSpPr>
            <p:spPr>
              <a:xfrm>
                <a:off x="5848200" y="28890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022800" y="3039840"/>
                <a:ext cx="1600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Jeep (Lend Lease)    US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4" name=""/>
              <p:cNvGrpSpPr/>
              <p:nvPr/>
            </p:nvGrpSpPr>
            <p:grpSpPr>
              <a:xfrm>
                <a:off x="5797440" y="3014640"/>
                <a:ext cx="231840" cy="223560"/>
                <a:chOff x="5797440" y="3014640"/>
                <a:chExt cx="231840" cy="223560"/>
              </a:xfrm>
            </p:grpSpPr>
            <p:sp>
              <p:nvSpPr>
                <p:cNvPr id="1795" name=""/>
                <p:cNvSpPr/>
                <p:nvPr/>
              </p:nvSpPr>
              <p:spPr>
                <a:xfrm>
                  <a:off x="5898960" y="30146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6" name=""/>
                <p:cNvGrpSpPr/>
                <p:nvPr/>
              </p:nvGrpSpPr>
              <p:grpSpPr>
                <a:xfrm>
                  <a:off x="5797440" y="3047760"/>
                  <a:ext cx="231840" cy="190440"/>
                  <a:chOff x="5797440" y="3047760"/>
                  <a:chExt cx="231840" cy="190440"/>
                </a:xfrm>
              </p:grpSpPr>
              <p:sp>
                <p:nvSpPr>
                  <p:cNvPr id="1797" name=""/>
                  <p:cNvSpPr/>
                  <p:nvPr/>
                </p:nvSpPr>
                <p:spPr>
                  <a:xfrm>
                    <a:off x="5797440" y="304776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5808600" y="321120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5989680" y="3211200"/>
                    <a:ext cx="284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00" name=""/>
              <p:cNvSpPr/>
              <p:nvPr/>
            </p:nvSpPr>
            <p:spPr>
              <a:xfrm>
                <a:off x="6107040" y="291456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5499000" y="2627280"/>
              <a:ext cx="2606760" cy="360000"/>
              <a:chOff x="5499000" y="2627280"/>
              <a:chExt cx="2606760" cy="360000"/>
            </a:xfrm>
          </p:grpSpPr>
          <p:sp>
            <p:nvSpPr>
              <p:cNvPr id="1802" name=""/>
              <p:cNvSpPr/>
              <p:nvPr/>
            </p:nvSpPr>
            <p:spPr>
              <a:xfrm>
                <a:off x="6026040" y="2627280"/>
                <a:ext cx="838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499000" y="28764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024600" y="27716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RU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5797440" y="2754360"/>
                <a:ext cx="238320" cy="190440"/>
                <a:chOff x="5797440" y="2754360"/>
                <a:chExt cx="238320" cy="19044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5797440" y="2787840"/>
                  <a:ext cx="23832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905440" y="2754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08" name=""/>
          <p:cNvGrpSpPr/>
          <p:nvPr/>
        </p:nvGrpSpPr>
        <p:grpSpPr>
          <a:xfrm>
            <a:off x="5491080" y="3322800"/>
            <a:ext cx="2644560" cy="263160"/>
            <a:chOff x="5491080" y="3322800"/>
            <a:chExt cx="2644560" cy="263160"/>
          </a:xfrm>
        </p:grpSpPr>
        <p:grpSp>
          <p:nvGrpSpPr>
            <p:cNvPr id="1809" name=""/>
            <p:cNvGrpSpPr/>
            <p:nvPr/>
          </p:nvGrpSpPr>
          <p:grpSpPr>
            <a:xfrm>
              <a:off x="5491080" y="3322800"/>
              <a:ext cx="549360" cy="257040"/>
              <a:chOff x="5491080" y="3322800"/>
              <a:chExt cx="549360" cy="257040"/>
            </a:xfrm>
          </p:grpSpPr>
          <p:sp>
            <p:nvSpPr>
              <p:cNvPr id="1810" name=""/>
              <p:cNvSpPr/>
              <p:nvPr/>
            </p:nvSpPr>
            <p:spPr>
              <a:xfrm>
                <a:off x="5491080" y="3487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1" name=""/>
              <p:cNvGrpSpPr/>
              <p:nvPr/>
            </p:nvGrpSpPr>
            <p:grpSpPr>
              <a:xfrm>
                <a:off x="5756040" y="3322800"/>
                <a:ext cx="284400" cy="257040"/>
                <a:chOff x="5756040" y="3322800"/>
                <a:chExt cx="284400" cy="257040"/>
              </a:xfrm>
            </p:grpSpPr>
            <p:grpSp>
              <p:nvGrpSpPr>
                <p:cNvPr id="1812" name=""/>
                <p:cNvGrpSpPr/>
                <p:nvPr/>
              </p:nvGrpSpPr>
              <p:grpSpPr>
                <a:xfrm>
                  <a:off x="5756040" y="3386160"/>
                  <a:ext cx="284400" cy="193680"/>
                  <a:chOff x="5756040" y="3386160"/>
                  <a:chExt cx="284400" cy="193680"/>
                </a:xfrm>
              </p:grpSpPr>
              <p:sp>
                <p:nvSpPr>
                  <p:cNvPr id="1813" name=""/>
                  <p:cNvSpPr/>
                  <p:nvPr/>
                </p:nvSpPr>
                <p:spPr>
                  <a:xfrm>
                    <a:off x="5756040" y="3386160"/>
                    <a:ext cx="28440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 flipV="1">
                    <a:off x="5758920" y="3389040"/>
                    <a:ext cx="27684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5756040" y="3389040"/>
                    <a:ext cx="28296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6" name=""/>
                <p:cNvSpPr/>
                <p:nvPr/>
              </p:nvSpPr>
              <p:spPr>
                <a:xfrm>
                  <a:off x="5897520" y="33228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7" name=""/>
            <p:cNvSpPr/>
            <p:nvPr/>
          </p:nvSpPr>
          <p:spPr>
            <a:xfrm>
              <a:off x="6054480" y="337032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Submachine Gun Co.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 flipH="1">
            <a:off x="5483160" y="2624040"/>
            <a:ext cx="7920" cy="86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5076720" y="3686040"/>
            <a:ext cx="2644560" cy="384840"/>
            <a:chOff x="5076720" y="3686040"/>
            <a:chExt cx="2644560" cy="384840"/>
          </a:xfrm>
        </p:grpSpPr>
        <p:grpSp>
          <p:nvGrpSpPr>
            <p:cNvPr id="1820" name=""/>
            <p:cNvGrpSpPr/>
            <p:nvPr/>
          </p:nvGrpSpPr>
          <p:grpSpPr>
            <a:xfrm>
              <a:off x="5076720" y="3686040"/>
              <a:ext cx="549360" cy="257040"/>
              <a:chOff x="5076720" y="3686040"/>
              <a:chExt cx="549360" cy="257040"/>
            </a:xfrm>
          </p:grpSpPr>
          <p:sp>
            <p:nvSpPr>
              <p:cNvPr id="1821" name=""/>
              <p:cNvSpPr/>
              <p:nvPr/>
            </p:nvSpPr>
            <p:spPr>
              <a:xfrm>
                <a:off x="5076720" y="38509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2" name=""/>
              <p:cNvGrpSpPr/>
              <p:nvPr/>
            </p:nvGrpSpPr>
            <p:grpSpPr>
              <a:xfrm>
                <a:off x="5341680" y="3686040"/>
                <a:ext cx="284400" cy="257040"/>
                <a:chOff x="5341680" y="3686040"/>
                <a:chExt cx="284400" cy="257040"/>
              </a:xfrm>
            </p:grpSpPr>
            <p:grpSp>
              <p:nvGrpSpPr>
                <p:cNvPr id="1823" name=""/>
                <p:cNvGrpSpPr/>
                <p:nvPr/>
              </p:nvGrpSpPr>
              <p:grpSpPr>
                <a:xfrm>
                  <a:off x="5341680" y="3749400"/>
                  <a:ext cx="284400" cy="193680"/>
                  <a:chOff x="5341680" y="3749400"/>
                  <a:chExt cx="284400" cy="193680"/>
                </a:xfrm>
              </p:grpSpPr>
              <p:sp>
                <p:nvSpPr>
                  <p:cNvPr id="1824" name=""/>
                  <p:cNvSpPr/>
                  <p:nvPr/>
                </p:nvSpPr>
                <p:spPr>
                  <a:xfrm>
                    <a:off x="5341680" y="3749400"/>
                    <a:ext cx="28440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 flipV="1">
                    <a:off x="5344560" y="3752280"/>
                    <a:ext cx="27684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5341680" y="3752280"/>
                    <a:ext cx="28296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7" name=""/>
                <p:cNvSpPr/>
                <p:nvPr/>
              </p:nvSpPr>
              <p:spPr>
                <a:xfrm>
                  <a:off x="5483160" y="36860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8" name=""/>
            <p:cNvSpPr/>
            <p:nvPr/>
          </p:nvSpPr>
          <p:spPr>
            <a:xfrm>
              <a:off x="5640120" y="373356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Submachine Gun Co.(Tank Riders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5056200" y="4699080"/>
            <a:ext cx="2670120" cy="588240"/>
            <a:chOff x="5056200" y="4699080"/>
            <a:chExt cx="2670120" cy="588240"/>
          </a:xfrm>
        </p:grpSpPr>
        <p:sp>
          <p:nvSpPr>
            <p:cNvPr id="1830" name=""/>
            <p:cNvSpPr/>
            <p:nvPr/>
          </p:nvSpPr>
          <p:spPr>
            <a:xfrm>
              <a:off x="5056200" y="504684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1" name=""/>
            <p:cNvGrpSpPr/>
            <p:nvPr/>
          </p:nvGrpSpPr>
          <p:grpSpPr>
            <a:xfrm>
              <a:off x="5305320" y="4913280"/>
              <a:ext cx="291960" cy="250560"/>
              <a:chOff x="5305320" y="4913280"/>
              <a:chExt cx="291960" cy="250560"/>
            </a:xfrm>
          </p:grpSpPr>
          <p:sp>
            <p:nvSpPr>
              <p:cNvPr id="1832" name=""/>
              <p:cNvSpPr/>
              <p:nvPr/>
            </p:nvSpPr>
            <p:spPr>
              <a:xfrm>
                <a:off x="5451480" y="49132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3" name=""/>
              <p:cNvGrpSpPr/>
              <p:nvPr/>
            </p:nvGrpSpPr>
            <p:grpSpPr>
              <a:xfrm>
                <a:off x="5305320" y="4973760"/>
                <a:ext cx="291960" cy="190080"/>
                <a:chOff x="5305320" y="4973760"/>
                <a:chExt cx="291960" cy="190080"/>
              </a:xfrm>
            </p:grpSpPr>
            <p:sp>
              <p:nvSpPr>
                <p:cNvPr id="1834" name=""/>
                <p:cNvSpPr/>
                <p:nvPr/>
              </p:nvSpPr>
              <p:spPr>
                <a:xfrm>
                  <a:off x="5305320" y="4973760"/>
                  <a:ext cx="291960" cy="1900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5407920" y="5125680"/>
                  <a:ext cx="8280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5446440" y="4998240"/>
                  <a:ext cx="0" cy="128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7" name=""/>
            <p:cNvSpPr/>
            <p:nvPr/>
          </p:nvSpPr>
          <p:spPr>
            <a:xfrm>
              <a:off x="5081760" y="4699080"/>
              <a:ext cx="21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645160" y="495000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Mortar Company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(c)  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FS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9" name=""/>
          <p:cNvSpPr/>
          <p:nvPr/>
        </p:nvSpPr>
        <p:spPr>
          <a:xfrm>
            <a:off x="5121360" y="5546880"/>
            <a:ext cx="307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d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336600" y="120600"/>
            <a:ext cx="300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ized Brigade March 1942 – May 19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537840" y="860400"/>
            <a:ext cx="11160" cy="544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552600" y="2898720"/>
            <a:ext cx="3148920" cy="257040"/>
            <a:chOff x="552600" y="2898720"/>
            <a:chExt cx="3148920" cy="257040"/>
          </a:xfrm>
        </p:grpSpPr>
        <p:grpSp>
          <p:nvGrpSpPr>
            <p:cNvPr id="1843" name=""/>
            <p:cNvGrpSpPr/>
            <p:nvPr/>
          </p:nvGrpSpPr>
          <p:grpSpPr>
            <a:xfrm>
              <a:off x="552600" y="2898720"/>
              <a:ext cx="551520" cy="257040"/>
              <a:chOff x="552600" y="2898720"/>
              <a:chExt cx="551520" cy="257040"/>
            </a:xfrm>
          </p:grpSpPr>
          <p:sp>
            <p:nvSpPr>
              <p:cNvPr id="1844" name=""/>
              <p:cNvSpPr/>
              <p:nvPr/>
            </p:nvSpPr>
            <p:spPr>
              <a:xfrm>
                <a:off x="552600" y="3103200"/>
                <a:ext cx="38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5" name=""/>
              <p:cNvGrpSpPr/>
              <p:nvPr/>
            </p:nvGrpSpPr>
            <p:grpSpPr>
              <a:xfrm>
                <a:off x="812520" y="2898720"/>
                <a:ext cx="291600" cy="257040"/>
                <a:chOff x="812520" y="2898720"/>
                <a:chExt cx="291600" cy="257040"/>
              </a:xfrm>
            </p:grpSpPr>
            <p:grpSp>
              <p:nvGrpSpPr>
                <p:cNvPr id="1846" name=""/>
                <p:cNvGrpSpPr/>
                <p:nvPr/>
              </p:nvGrpSpPr>
              <p:grpSpPr>
                <a:xfrm>
                  <a:off x="812520" y="2965320"/>
                  <a:ext cx="291600" cy="190440"/>
                  <a:chOff x="812520" y="2965320"/>
                  <a:chExt cx="291600" cy="190440"/>
                </a:xfrm>
              </p:grpSpPr>
              <p:sp>
                <p:nvSpPr>
                  <p:cNvPr id="1847" name=""/>
                  <p:cNvSpPr/>
                  <p:nvPr/>
                </p:nvSpPr>
                <p:spPr>
                  <a:xfrm>
                    <a:off x="812520" y="2965320"/>
                    <a:ext cx="291600" cy="19044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 flipV="1">
                    <a:off x="815400" y="2967840"/>
                    <a:ext cx="284040" cy="186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>
                    <a:off x="812520" y="2968200"/>
                    <a:ext cx="290160" cy="181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0" name=""/>
                <p:cNvGrpSpPr/>
                <p:nvPr/>
              </p:nvGrpSpPr>
              <p:grpSpPr>
                <a:xfrm>
                  <a:off x="912240" y="2898720"/>
                  <a:ext cx="83160" cy="66240"/>
                  <a:chOff x="912240" y="2898720"/>
                  <a:chExt cx="83160" cy="66240"/>
                </a:xfrm>
              </p:grpSpPr>
              <p:sp>
                <p:nvSpPr>
                  <p:cNvPr id="1851" name=""/>
                  <p:cNvSpPr/>
                  <p:nvPr/>
                </p:nvSpPr>
                <p:spPr>
                  <a:xfrm>
                    <a:off x="912240" y="2898720"/>
                    <a:ext cx="0" cy="662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>
                    <a:off x="995400" y="2898720"/>
                    <a:ext cx="0" cy="662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53" name=""/>
            <p:cNvSpPr/>
            <p:nvPr/>
          </p:nvSpPr>
          <p:spPr>
            <a:xfrm>
              <a:off x="1218960" y="2931840"/>
              <a:ext cx="248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Motorized (Motz) Rifle Battal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BG-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4" name=""/>
          <p:cNvSpPr/>
          <p:nvPr/>
        </p:nvSpPr>
        <p:spPr>
          <a:xfrm>
            <a:off x="849240" y="2620800"/>
            <a:ext cx="17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5" name=""/>
          <p:cNvGrpSpPr/>
          <p:nvPr/>
        </p:nvGrpSpPr>
        <p:grpSpPr>
          <a:xfrm>
            <a:off x="554040" y="3251160"/>
            <a:ext cx="2644920" cy="263520"/>
            <a:chOff x="554040" y="3251160"/>
            <a:chExt cx="2644920" cy="263520"/>
          </a:xfrm>
        </p:grpSpPr>
        <p:grpSp>
          <p:nvGrpSpPr>
            <p:cNvPr id="1856" name=""/>
            <p:cNvGrpSpPr/>
            <p:nvPr/>
          </p:nvGrpSpPr>
          <p:grpSpPr>
            <a:xfrm>
              <a:off x="554040" y="3251160"/>
              <a:ext cx="549360" cy="257040"/>
              <a:chOff x="554040" y="3251160"/>
              <a:chExt cx="549360" cy="257040"/>
            </a:xfrm>
          </p:grpSpPr>
          <p:sp>
            <p:nvSpPr>
              <p:cNvPr id="1857" name=""/>
              <p:cNvSpPr/>
              <p:nvPr/>
            </p:nvSpPr>
            <p:spPr>
              <a:xfrm>
                <a:off x="554040" y="34160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8" name=""/>
              <p:cNvGrpSpPr/>
              <p:nvPr/>
            </p:nvGrpSpPr>
            <p:grpSpPr>
              <a:xfrm>
                <a:off x="819000" y="3251160"/>
                <a:ext cx="284400" cy="257040"/>
                <a:chOff x="819000" y="3251160"/>
                <a:chExt cx="284400" cy="257040"/>
              </a:xfrm>
            </p:grpSpPr>
            <p:grpSp>
              <p:nvGrpSpPr>
                <p:cNvPr id="1859" name=""/>
                <p:cNvGrpSpPr/>
                <p:nvPr/>
              </p:nvGrpSpPr>
              <p:grpSpPr>
                <a:xfrm>
                  <a:off x="819000" y="3314520"/>
                  <a:ext cx="284400" cy="193680"/>
                  <a:chOff x="819000" y="3314520"/>
                  <a:chExt cx="284400" cy="193680"/>
                </a:xfrm>
              </p:grpSpPr>
              <p:sp>
                <p:nvSpPr>
                  <p:cNvPr id="1860" name=""/>
                  <p:cNvSpPr/>
                  <p:nvPr/>
                </p:nvSpPr>
                <p:spPr>
                  <a:xfrm>
                    <a:off x="819000" y="3314520"/>
                    <a:ext cx="28440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 flipV="1">
                    <a:off x="821880" y="3317400"/>
                    <a:ext cx="27684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819000" y="3317400"/>
                    <a:ext cx="28296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3" name=""/>
                <p:cNvSpPr/>
                <p:nvPr/>
              </p:nvSpPr>
              <p:spPr>
                <a:xfrm>
                  <a:off x="960480" y="32511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4" name=""/>
            <p:cNvSpPr/>
            <p:nvPr/>
          </p:nvSpPr>
          <p:spPr>
            <a:xfrm>
              <a:off x="1117440" y="329904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Submachine Gun Co.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ME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366840" y="585360"/>
            <a:ext cx="364680" cy="312840"/>
            <a:chOff x="366840" y="585360"/>
            <a:chExt cx="364680" cy="312840"/>
          </a:xfrm>
        </p:grpSpPr>
        <p:grpSp>
          <p:nvGrpSpPr>
            <p:cNvPr id="1866" name=""/>
            <p:cNvGrpSpPr/>
            <p:nvPr/>
          </p:nvGrpSpPr>
          <p:grpSpPr>
            <a:xfrm>
              <a:off x="522360" y="585360"/>
              <a:ext cx="75960" cy="64080"/>
              <a:chOff x="522360" y="585360"/>
              <a:chExt cx="75960" cy="64080"/>
            </a:xfrm>
          </p:grpSpPr>
          <p:sp>
            <p:nvSpPr>
              <p:cNvPr id="1867" name=""/>
              <p:cNvSpPr/>
              <p:nvPr/>
            </p:nvSpPr>
            <p:spPr>
              <a:xfrm>
                <a:off x="522360" y="585720"/>
                <a:ext cx="759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522360" y="585360"/>
                <a:ext cx="759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366840" y="660240"/>
              <a:ext cx="364680" cy="237960"/>
              <a:chOff x="366840" y="660240"/>
              <a:chExt cx="364680" cy="237960"/>
            </a:xfrm>
          </p:grpSpPr>
          <p:sp>
            <p:nvSpPr>
              <p:cNvPr id="1870" name=""/>
              <p:cNvSpPr/>
              <p:nvPr/>
            </p:nvSpPr>
            <p:spPr>
              <a:xfrm>
                <a:off x="368640" y="660240"/>
                <a:ext cx="362880" cy="237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22640" y="719280"/>
                <a:ext cx="256320" cy="11376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368640" y="660240"/>
                <a:ext cx="358920" cy="23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66840" y="660240"/>
                <a:ext cx="364680" cy="232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4" name=""/>
          <p:cNvSpPr/>
          <p:nvPr/>
        </p:nvSpPr>
        <p:spPr>
          <a:xfrm>
            <a:off x="4694400" y="946080"/>
            <a:ext cx="17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FIRE SUPPORT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5" name=""/>
          <p:cNvGrpSpPr/>
          <p:nvPr/>
        </p:nvGrpSpPr>
        <p:grpSpPr>
          <a:xfrm>
            <a:off x="539640" y="1001880"/>
            <a:ext cx="2636280" cy="1528560"/>
            <a:chOff x="539640" y="1001880"/>
            <a:chExt cx="2636280" cy="1528560"/>
          </a:xfrm>
        </p:grpSpPr>
        <p:sp>
          <p:nvSpPr>
            <p:cNvPr id="1876" name=""/>
            <p:cNvSpPr/>
            <p:nvPr/>
          </p:nvSpPr>
          <p:spPr>
            <a:xfrm>
              <a:off x="890280" y="100188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076040" y="1187640"/>
              <a:ext cx="838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539640" y="1398600"/>
              <a:ext cx="2606760" cy="501480"/>
              <a:chOff x="539640" y="1398600"/>
              <a:chExt cx="2606760" cy="501480"/>
            </a:xfrm>
          </p:grpSpPr>
          <p:sp>
            <p:nvSpPr>
              <p:cNvPr id="1879" name=""/>
              <p:cNvSpPr/>
              <p:nvPr/>
            </p:nvSpPr>
            <p:spPr>
              <a:xfrm>
                <a:off x="888840" y="15336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39640" y="15210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065240" y="14162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RU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063440" y="1684440"/>
                <a:ext cx="1600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Jeep        RU-P17 or US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3" name=""/>
              <p:cNvGrpSpPr/>
              <p:nvPr/>
            </p:nvGrpSpPr>
            <p:grpSpPr>
              <a:xfrm>
                <a:off x="838080" y="1398600"/>
                <a:ext cx="238320" cy="190440"/>
                <a:chOff x="838080" y="1398600"/>
                <a:chExt cx="238320" cy="19044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838080" y="1432080"/>
                  <a:ext cx="23832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946080" y="1398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838080" y="1658880"/>
                <a:ext cx="231840" cy="223560"/>
                <a:chOff x="838080" y="1658880"/>
                <a:chExt cx="231840" cy="223560"/>
              </a:xfrm>
            </p:grpSpPr>
            <p:sp>
              <p:nvSpPr>
                <p:cNvPr id="1887" name=""/>
                <p:cNvSpPr/>
                <p:nvPr/>
              </p:nvSpPr>
              <p:spPr>
                <a:xfrm>
                  <a:off x="939600" y="1658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8" name=""/>
                <p:cNvGrpSpPr/>
                <p:nvPr/>
              </p:nvGrpSpPr>
              <p:grpSpPr>
                <a:xfrm>
                  <a:off x="838080" y="1692000"/>
                  <a:ext cx="231840" cy="190440"/>
                  <a:chOff x="838080" y="1692000"/>
                  <a:chExt cx="231840" cy="190440"/>
                </a:xfrm>
              </p:grpSpPr>
              <p:sp>
                <p:nvSpPr>
                  <p:cNvPr id="1889" name=""/>
                  <p:cNvSpPr/>
                  <p:nvPr/>
                </p:nvSpPr>
                <p:spPr>
                  <a:xfrm>
                    <a:off x="838080" y="169200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849240" y="185544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1030320" y="1855440"/>
                    <a:ext cx="284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92" name=""/>
              <p:cNvSpPr/>
              <p:nvPr/>
            </p:nvSpPr>
            <p:spPr>
              <a:xfrm>
                <a:off x="1271520" y="153684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550800" y="2006640"/>
              <a:ext cx="2625120" cy="523800"/>
              <a:chOff x="550800" y="2006640"/>
              <a:chExt cx="2625120" cy="523800"/>
            </a:xfrm>
          </p:grpSpPr>
          <p:sp>
            <p:nvSpPr>
              <p:cNvPr id="1894" name=""/>
              <p:cNvSpPr/>
              <p:nvPr/>
            </p:nvSpPr>
            <p:spPr>
              <a:xfrm>
                <a:off x="899640" y="215424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50800" y="214128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6" name=""/>
              <p:cNvGrpSpPr/>
              <p:nvPr/>
            </p:nvGrpSpPr>
            <p:grpSpPr>
              <a:xfrm>
                <a:off x="833040" y="2296800"/>
                <a:ext cx="231480" cy="233640"/>
                <a:chOff x="833040" y="2296800"/>
                <a:chExt cx="231480" cy="233640"/>
              </a:xfrm>
            </p:grpSpPr>
            <p:grpSp>
              <p:nvGrpSpPr>
                <p:cNvPr id="1897" name=""/>
                <p:cNvGrpSpPr/>
                <p:nvPr/>
              </p:nvGrpSpPr>
              <p:grpSpPr>
                <a:xfrm>
                  <a:off x="833040" y="2340000"/>
                  <a:ext cx="231480" cy="190440"/>
                  <a:chOff x="833040" y="2340000"/>
                  <a:chExt cx="231480" cy="190440"/>
                </a:xfrm>
              </p:grpSpPr>
              <p:sp>
                <p:nvSpPr>
                  <p:cNvPr id="1898" name=""/>
                  <p:cNvSpPr/>
                  <p:nvPr/>
                </p:nvSpPr>
                <p:spPr>
                  <a:xfrm>
                    <a:off x="833040" y="234000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>
                    <a:off x="843840" y="2503440"/>
                    <a:ext cx="266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1024920" y="2503440"/>
                    <a:ext cx="2808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1" name=""/>
                <p:cNvGrpSpPr/>
                <p:nvPr/>
              </p:nvGrpSpPr>
              <p:grpSpPr>
                <a:xfrm>
                  <a:off x="910440" y="2296800"/>
                  <a:ext cx="73800" cy="28800"/>
                  <a:chOff x="910440" y="2296800"/>
                  <a:chExt cx="73800" cy="28800"/>
                </a:xfrm>
              </p:grpSpPr>
              <p:sp>
                <p:nvSpPr>
                  <p:cNvPr id="1902" name=""/>
                  <p:cNvSpPr/>
                  <p:nvPr/>
                </p:nvSpPr>
                <p:spPr>
                  <a:xfrm>
                    <a:off x="910440" y="229680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957600" y="22986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04" name=""/>
              <p:cNvSpPr/>
              <p:nvPr/>
            </p:nvSpPr>
            <p:spPr>
              <a:xfrm>
                <a:off x="1095120" y="2017440"/>
                <a:ext cx="208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ifle Infantry           RU-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093320" y="23144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         RU-62 or RU-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6" name=""/>
              <p:cNvGrpSpPr/>
              <p:nvPr/>
            </p:nvGrpSpPr>
            <p:grpSpPr>
              <a:xfrm>
                <a:off x="833040" y="2006640"/>
                <a:ext cx="231480" cy="207360"/>
                <a:chOff x="833040" y="2006640"/>
                <a:chExt cx="231480" cy="207360"/>
              </a:xfrm>
            </p:grpSpPr>
            <p:grpSp>
              <p:nvGrpSpPr>
                <p:cNvPr id="1907" name=""/>
                <p:cNvGrpSpPr/>
                <p:nvPr/>
              </p:nvGrpSpPr>
              <p:grpSpPr>
                <a:xfrm>
                  <a:off x="833040" y="2057040"/>
                  <a:ext cx="231480" cy="156960"/>
                  <a:chOff x="833040" y="2057040"/>
                  <a:chExt cx="231480" cy="156960"/>
                </a:xfrm>
              </p:grpSpPr>
              <p:sp>
                <p:nvSpPr>
                  <p:cNvPr id="1908" name=""/>
                  <p:cNvSpPr/>
                  <p:nvPr/>
                </p:nvSpPr>
                <p:spPr>
                  <a:xfrm>
                    <a:off x="833040" y="205704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 flipV="1">
                    <a:off x="835200" y="2059200"/>
                    <a:ext cx="2253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833040" y="205920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1" name=""/>
                <p:cNvGrpSpPr/>
                <p:nvPr/>
              </p:nvGrpSpPr>
              <p:grpSpPr>
                <a:xfrm>
                  <a:off x="910800" y="2006640"/>
                  <a:ext cx="74520" cy="27720"/>
                  <a:chOff x="910800" y="2006640"/>
                  <a:chExt cx="74520" cy="27720"/>
                </a:xfrm>
              </p:grpSpPr>
              <p:sp>
                <p:nvSpPr>
                  <p:cNvPr id="1912" name=""/>
                  <p:cNvSpPr/>
                  <p:nvPr/>
                </p:nvSpPr>
                <p:spPr>
                  <a:xfrm>
                    <a:off x="910800" y="200664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958320" y="200808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14" name=""/>
              <p:cNvSpPr/>
              <p:nvPr/>
            </p:nvSpPr>
            <p:spPr>
              <a:xfrm>
                <a:off x="1282320" y="216828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5" name=""/>
          <p:cNvGrpSpPr/>
          <p:nvPr/>
        </p:nvGrpSpPr>
        <p:grpSpPr>
          <a:xfrm>
            <a:off x="4433760" y="1284120"/>
            <a:ext cx="3133800" cy="333000"/>
            <a:chOff x="4433760" y="1284120"/>
            <a:chExt cx="3133800" cy="333000"/>
          </a:xfrm>
        </p:grpSpPr>
        <p:grpSp>
          <p:nvGrpSpPr>
            <p:cNvPr id="1916" name=""/>
            <p:cNvGrpSpPr/>
            <p:nvPr/>
          </p:nvGrpSpPr>
          <p:grpSpPr>
            <a:xfrm>
              <a:off x="4433760" y="1380960"/>
              <a:ext cx="3133800" cy="215640"/>
              <a:chOff x="4433760" y="1380960"/>
              <a:chExt cx="3133800" cy="215640"/>
            </a:xfrm>
          </p:grpSpPr>
          <p:sp>
            <p:nvSpPr>
              <p:cNvPr id="1917" name=""/>
              <p:cNvSpPr/>
              <p:nvPr/>
            </p:nvSpPr>
            <p:spPr>
              <a:xfrm>
                <a:off x="4433760" y="1490400"/>
                <a:ext cx="369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176800" y="1380960"/>
                <a:ext cx="239076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Artillery Battalion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4755960" y="1371240"/>
              <a:ext cx="374400" cy="245880"/>
              <a:chOff x="4755960" y="1371240"/>
              <a:chExt cx="374400" cy="245880"/>
            </a:xfrm>
          </p:grpSpPr>
          <p:sp>
            <p:nvSpPr>
              <p:cNvPr id="1920" name=""/>
              <p:cNvSpPr/>
              <p:nvPr/>
            </p:nvSpPr>
            <p:spPr>
              <a:xfrm>
                <a:off x="4755960" y="1371240"/>
                <a:ext cx="374400" cy="2458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917240" y="1465200"/>
                <a:ext cx="4428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2" name=""/>
            <p:cNvGrpSpPr/>
            <p:nvPr/>
          </p:nvGrpSpPr>
          <p:grpSpPr>
            <a:xfrm>
              <a:off x="4908240" y="1284120"/>
              <a:ext cx="76320" cy="63360"/>
              <a:chOff x="4908240" y="1284120"/>
              <a:chExt cx="76320" cy="63360"/>
            </a:xfrm>
          </p:grpSpPr>
          <p:sp>
            <p:nvSpPr>
              <p:cNvPr id="1923" name=""/>
              <p:cNvSpPr/>
              <p:nvPr/>
            </p:nvSpPr>
            <p:spPr>
              <a:xfrm>
                <a:off x="4908240" y="1284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984560" y="1284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5" name=""/>
          <p:cNvGrpSpPr/>
          <p:nvPr/>
        </p:nvGrpSpPr>
        <p:grpSpPr>
          <a:xfrm>
            <a:off x="4433760" y="1911240"/>
            <a:ext cx="3133800" cy="334440"/>
            <a:chOff x="4433760" y="1911240"/>
            <a:chExt cx="3133800" cy="334440"/>
          </a:xfrm>
        </p:grpSpPr>
        <p:grpSp>
          <p:nvGrpSpPr>
            <p:cNvPr id="1926" name=""/>
            <p:cNvGrpSpPr/>
            <p:nvPr/>
          </p:nvGrpSpPr>
          <p:grpSpPr>
            <a:xfrm>
              <a:off x="4433760" y="1911240"/>
              <a:ext cx="3133800" cy="312480"/>
              <a:chOff x="4433760" y="1911240"/>
              <a:chExt cx="3133800" cy="312480"/>
            </a:xfrm>
          </p:grpSpPr>
          <p:grpSp>
            <p:nvGrpSpPr>
              <p:cNvPr id="1927" name=""/>
              <p:cNvGrpSpPr/>
              <p:nvPr/>
            </p:nvGrpSpPr>
            <p:grpSpPr>
              <a:xfrm>
                <a:off x="4433760" y="2008080"/>
                <a:ext cx="3133800" cy="215640"/>
                <a:chOff x="4433760" y="2008080"/>
                <a:chExt cx="3133800" cy="215640"/>
              </a:xfrm>
            </p:grpSpPr>
            <p:sp>
              <p:nvSpPr>
                <p:cNvPr id="1928" name=""/>
                <p:cNvSpPr/>
                <p:nvPr/>
              </p:nvSpPr>
              <p:spPr>
                <a:xfrm>
                  <a:off x="4433760" y="2117520"/>
                  <a:ext cx="369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5176800" y="2008080"/>
                  <a:ext cx="2390760" cy="21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Mortar  Battalion (Mtz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0" name=""/>
              <p:cNvGrpSpPr/>
              <p:nvPr/>
            </p:nvGrpSpPr>
            <p:grpSpPr>
              <a:xfrm>
                <a:off x="4908600" y="1911240"/>
                <a:ext cx="75960" cy="63360"/>
                <a:chOff x="4908600" y="1911240"/>
                <a:chExt cx="75960" cy="63360"/>
              </a:xfrm>
            </p:grpSpPr>
            <p:sp>
              <p:nvSpPr>
                <p:cNvPr id="1931" name=""/>
                <p:cNvSpPr/>
                <p:nvPr/>
              </p:nvSpPr>
              <p:spPr>
                <a:xfrm>
                  <a:off x="4908600" y="1911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984560" y="1911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3" name=""/>
            <p:cNvGrpSpPr/>
            <p:nvPr/>
          </p:nvGrpSpPr>
          <p:grpSpPr>
            <a:xfrm>
              <a:off x="4755960" y="2000160"/>
              <a:ext cx="374400" cy="245520"/>
              <a:chOff x="4755960" y="2000160"/>
              <a:chExt cx="374400" cy="245520"/>
            </a:xfrm>
          </p:grpSpPr>
          <p:sp>
            <p:nvSpPr>
              <p:cNvPr id="1934" name=""/>
              <p:cNvSpPr/>
              <p:nvPr/>
            </p:nvSpPr>
            <p:spPr>
              <a:xfrm>
                <a:off x="4755960" y="2000160"/>
                <a:ext cx="374400" cy="2455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5" name=""/>
              <p:cNvGrpSpPr/>
              <p:nvPr/>
            </p:nvGrpSpPr>
            <p:grpSpPr>
              <a:xfrm>
                <a:off x="4889520" y="2034360"/>
                <a:ext cx="106200" cy="171360"/>
                <a:chOff x="4889520" y="2034360"/>
                <a:chExt cx="106200" cy="17136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4941360" y="2034360"/>
                  <a:ext cx="0" cy="17136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889520" y="2195640"/>
                  <a:ext cx="10620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38" name=""/>
          <p:cNvGrpSpPr/>
          <p:nvPr/>
        </p:nvGrpSpPr>
        <p:grpSpPr>
          <a:xfrm>
            <a:off x="561960" y="3649680"/>
            <a:ext cx="3417840" cy="266400"/>
            <a:chOff x="561960" y="3649680"/>
            <a:chExt cx="3417840" cy="266400"/>
          </a:xfrm>
        </p:grpSpPr>
        <p:sp>
          <p:nvSpPr>
            <p:cNvPr id="1939" name=""/>
            <p:cNvSpPr/>
            <p:nvPr/>
          </p:nvSpPr>
          <p:spPr>
            <a:xfrm>
              <a:off x="561960" y="3819600"/>
              <a:ext cx="32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220760" y="3700440"/>
              <a:ext cx="2759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Antiaircraft Batter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(a)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ME-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1" name=""/>
            <p:cNvGrpSpPr/>
            <p:nvPr/>
          </p:nvGrpSpPr>
          <p:grpSpPr>
            <a:xfrm>
              <a:off x="808200" y="3649680"/>
              <a:ext cx="283680" cy="264600"/>
              <a:chOff x="808200" y="3649680"/>
              <a:chExt cx="283680" cy="264600"/>
            </a:xfrm>
          </p:grpSpPr>
          <p:grpSp>
            <p:nvGrpSpPr>
              <p:cNvPr id="1942" name=""/>
              <p:cNvGrpSpPr/>
              <p:nvPr/>
            </p:nvGrpSpPr>
            <p:grpSpPr>
              <a:xfrm>
                <a:off x="808200" y="3720960"/>
                <a:ext cx="283680" cy="193320"/>
                <a:chOff x="808200" y="3720960"/>
                <a:chExt cx="283680" cy="1933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808200" y="3720960"/>
                  <a:ext cx="283680" cy="193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V="1">
                  <a:off x="808200" y="3724560"/>
                  <a:ext cx="139680" cy="187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947880" y="3720960"/>
                  <a:ext cx="14004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881640" y="3818520"/>
                  <a:ext cx="1400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920880" y="3649680"/>
                <a:ext cx="76320" cy="63360"/>
                <a:chOff x="920880" y="3649680"/>
                <a:chExt cx="76320" cy="6336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920880" y="3649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997200" y="3649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0" name=""/>
          <p:cNvGrpSpPr/>
          <p:nvPr/>
        </p:nvGrpSpPr>
        <p:grpSpPr>
          <a:xfrm>
            <a:off x="555480" y="4003560"/>
            <a:ext cx="2814840" cy="294840"/>
            <a:chOff x="555480" y="4003560"/>
            <a:chExt cx="2814840" cy="294840"/>
          </a:xfrm>
        </p:grpSpPr>
        <p:grpSp>
          <p:nvGrpSpPr>
            <p:cNvPr id="1951" name=""/>
            <p:cNvGrpSpPr/>
            <p:nvPr/>
          </p:nvGrpSpPr>
          <p:grpSpPr>
            <a:xfrm>
              <a:off x="890640" y="4003560"/>
              <a:ext cx="274680" cy="294840"/>
              <a:chOff x="890640" y="4003560"/>
              <a:chExt cx="274680" cy="294840"/>
            </a:xfrm>
          </p:grpSpPr>
          <p:grpSp>
            <p:nvGrpSpPr>
              <p:cNvPr id="1952" name=""/>
              <p:cNvGrpSpPr/>
              <p:nvPr/>
            </p:nvGrpSpPr>
            <p:grpSpPr>
              <a:xfrm>
                <a:off x="890640" y="4073400"/>
                <a:ext cx="274680" cy="225000"/>
                <a:chOff x="890640" y="4073400"/>
                <a:chExt cx="274680" cy="22500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890640" y="4073400"/>
                  <a:ext cx="274680" cy="1857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V="1">
                  <a:off x="890640" y="4073400"/>
                  <a:ext cx="273240" cy="184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903240" y="4266000"/>
                  <a:ext cx="32040" cy="324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118880" y="4266000"/>
                  <a:ext cx="32040" cy="324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7" name=""/>
              <p:cNvSpPr/>
              <p:nvPr/>
            </p:nvSpPr>
            <p:spPr>
              <a:xfrm>
                <a:off x="1031760" y="40035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>
              <a:off x="555480" y="41814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289160" y="407952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Reconnaissance Co.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ME-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4411800" y="2852640"/>
            <a:ext cx="30733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December 1943, replace the Antiaircraft Battery with Antiaircraft Battalion BG-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December 1942 add Submachine Gun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December 1942 add Antitank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ebruary 1943, add Antiaircraft Machinegun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ebruary 1943 add Engineer-Sapper Compan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March 1943 add Antitank Rif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550800" y="1008000"/>
            <a:ext cx="38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998640"/>
            <a:ext cx="0" cy="111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547560" y="6132600"/>
            <a:ext cx="2936520" cy="253800"/>
            <a:chOff x="547560" y="6132600"/>
            <a:chExt cx="2936520" cy="253800"/>
          </a:xfrm>
        </p:grpSpPr>
        <p:sp>
          <p:nvSpPr>
            <p:cNvPr id="1964" name=""/>
            <p:cNvSpPr/>
            <p:nvPr/>
          </p:nvSpPr>
          <p:spPr>
            <a:xfrm>
              <a:off x="547560" y="6286680"/>
              <a:ext cx="386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5" name=""/>
            <p:cNvGrpSpPr/>
            <p:nvPr/>
          </p:nvGrpSpPr>
          <p:grpSpPr>
            <a:xfrm>
              <a:off x="826560" y="6132600"/>
              <a:ext cx="311040" cy="252360"/>
              <a:chOff x="826560" y="6132600"/>
              <a:chExt cx="311040" cy="252360"/>
            </a:xfrm>
          </p:grpSpPr>
          <p:grpSp>
            <p:nvGrpSpPr>
              <p:cNvPr id="1966" name=""/>
              <p:cNvGrpSpPr/>
              <p:nvPr/>
            </p:nvGrpSpPr>
            <p:grpSpPr>
              <a:xfrm>
                <a:off x="826560" y="6191280"/>
                <a:ext cx="311040" cy="193680"/>
                <a:chOff x="826560" y="6191280"/>
                <a:chExt cx="311040" cy="19368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826560" y="6191280"/>
                  <a:ext cx="311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922320" y="6249600"/>
                  <a:ext cx="0" cy="6156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978120" y="6252840"/>
                  <a:ext cx="0" cy="5868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1032480" y="6254280"/>
                  <a:ext cx="0" cy="572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915840" y="6252840"/>
                  <a:ext cx="12600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2" name=""/>
              <p:cNvSpPr/>
              <p:nvPr/>
            </p:nvSpPr>
            <p:spPr>
              <a:xfrm>
                <a:off x="981360" y="6132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3" name=""/>
            <p:cNvSpPr/>
            <p:nvPr/>
          </p:nvSpPr>
          <p:spPr>
            <a:xfrm>
              <a:off x="1199160" y="6170760"/>
              <a:ext cx="228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Engineer-Sapper Co. (Mtz.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e)  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560520" y="5364000"/>
            <a:ext cx="2630520" cy="615600"/>
            <a:chOff x="560520" y="5364000"/>
            <a:chExt cx="2630520" cy="615600"/>
          </a:xfrm>
        </p:grpSpPr>
        <p:grpSp>
          <p:nvGrpSpPr>
            <p:cNvPr id="1975" name=""/>
            <p:cNvGrpSpPr/>
            <p:nvPr/>
          </p:nvGrpSpPr>
          <p:grpSpPr>
            <a:xfrm>
              <a:off x="560520" y="5364000"/>
              <a:ext cx="2622240" cy="234720"/>
              <a:chOff x="560520" y="5364000"/>
              <a:chExt cx="2622240" cy="234720"/>
            </a:xfrm>
          </p:grpSpPr>
          <p:sp>
            <p:nvSpPr>
              <p:cNvPr id="1976" name=""/>
              <p:cNvSpPr/>
              <p:nvPr/>
            </p:nvSpPr>
            <p:spPr>
              <a:xfrm>
                <a:off x="560520" y="549252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101600" y="53830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9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tank Rifle (f)                        RU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8" name=""/>
              <p:cNvGrpSpPr/>
              <p:nvPr/>
            </p:nvGrpSpPr>
            <p:grpSpPr>
              <a:xfrm>
                <a:off x="826920" y="5364000"/>
                <a:ext cx="231480" cy="212760"/>
                <a:chOff x="826920" y="5364000"/>
                <a:chExt cx="231480" cy="212760"/>
              </a:xfrm>
            </p:grpSpPr>
            <p:grpSp>
              <p:nvGrpSpPr>
                <p:cNvPr id="1979" name=""/>
                <p:cNvGrpSpPr/>
                <p:nvPr/>
              </p:nvGrpSpPr>
              <p:grpSpPr>
                <a:xfrm>
                  <a:off x="901800" y="5364000"/>
                  <a:ext cx="74520" cy="28080"/>
                  <a:chOff x="901800" y="5364000"/>
                  <a:chExt cx="74520" cy="28080"/>
                </a:xfrm>
              </p:grpSpPr>
              <p:sp>
                <p:nvSpPr>
                  <p:cNvPr id="1980" name=""/>
                  <p:cNvSpPr/>
                  <p:nvPr/>
                </p:nvSpPr>
                <p:spPr>
                  <a:xfrm>
                    <a:off x="901800" y="53640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949320" y="5365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2" name=""/>
                <p:cNvGrpSpPr/>
                <p:nvPr/>
              </p:nvGrpSpPr>
              <p:grpSpPr>
                <a:xfrm>
                  <a:off x="826920" y="5419440"/>
                  <a:ext cx="231480" cy="157320"/>
                  <a:chOff x="826920" y="5419440"/>
                  <a:chExt cx="231480" cy="15732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826920" y="541944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 flipV="1">
                    <a:off x="826920" y="542232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941040" y="5419440"/>
                    <a:ext cx="11448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86" name=""/>
            <p:cNvGrpSpPr/>
            <p:nvPr/>
          </p:nvGrpSpPr>
          <p:grpSpPr>
            <a:xfrm>
              <a:off x="849600" y="5603760"/>
              <a:ext cx="2341440" cy="375840"/>
              <a:chOff x="849600" y="5603760"/>
              <a:chExt cx="2341440" cy="375840"/>
            </a:xfrm>
          </p:grpSpPr>
          <p:sp>
            <p:nvSpPr>
              <p:cNvPr id="1987" name=""/>
              <p:cNvSpPr/>
              <p:nvPr/>
            </p:nvSpPr>
            <p:spPr>
              <a:xfrm>
                <a:off x="916200" y="560376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8" name=""/>
              <p:cNvGrpSpPr/>
              <p:nvPr/>
            </p:nvGrpSpPr>
            <p:grpSpPr>
              <a:xfrm>
                <a:off x="849600" y="5746680"/>
                <a:ext cx="231480" cy="232560"/>
                <a:chOff x="849600" y="5746680"/>
                <a:chExt cx="231480" cy="232560"/>
              </a:xfrm>
            </p:grpSpPr>
            <p:grpSp>
              <p:nvGrpSpPr>
                <p:cNvPr id="1989" name=""/>
                <p:cNvGrpSpPr/>
                <p:nvPr/>
              </p:nvGrpSpPr>
              <p:grpSpPr>
                <a:xfrm>
                  <a:off x="849600" y="5789520"/>
                  <a:ext cx="231480" cy="189720"/>
                  <a:chOff x="849600" y="5789520"/>
                  <a:chExt cx="231480" cy="189720"/>
                </a:xfrm>
              </p:grpSpPr>
              <p:sp>
                <p:nvSpPr>
                  <p:cNvPr id="1990" name=""/>
                  <p:cNvSpPr/>
                  <p:nvPr/>
                </p:nvSpPr>
                <p:spPr>
                  <a:xfrm>
                    <a:off x="849600" y="5789520"/>
                    <a:ext cx="23148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860400" y="5952600"/>
                    <a:ext cx="266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1041480" y="5952600"/>
                    <a:ext cx="2808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3" name=""/>
                <p:cNvGrpSpPr/>
                <p:nvPr/>
              </p:nvGrpSpPr>
              <p:grpSpPr>
                <a:xfrm>
                  <a:off x="927000" y="5746680"/>
                  <a:ext cx="73800" cy="28080"/>
                  <a:chOff x="927000" y="5746680"/>
                  <a:chExt cx="73800" cy="2808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927000" y="574668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974160" y="57481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96" name=""/>
              <p:cNvSpPr/>
              <p:nvPr/>
            </p:nvSpPr>
            <p:spPr>
              <a:xfrm>
                <a:off x="1109880" y="57639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(Lend Lease)    RU-42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144800" y="561960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8" name=""/>
          <p:cNvGrpSpPr/>
          <p:nvPr/>
        </p:nvGrpSpPr>
        <p:grpSpPr>
          <a:xfrm>
            <a:off x="536400" y="4738680"/>
            <a:ext cx="2625840" cy="523800"/>
            <a:chOff x="536400" y="4738680"/>
            <a:chExt cx="2625840" cy="523800"/>
          </a:xfrm>
        </p:grpSpPr>
        <p:grpSp>
          <p:nvGrpSpPr>
            <p:cNvPr id="1999" name=""/>
            <p:cNvGrpSpPr/>
            <p:nvPr/>
          </p:nvGrpSpPr>
          <p:grpSpPr>
            <a:xfrm>
              <a:off x="819000" y="4886280"/>
              <a:ext cx="2341440" cy="376200"/>
              <a:chOff x="819000" y="4886280"/>
              <a:chExt cx="2341440" cy="376200"/>
            </a:xfrm>
          </p:grpSpPr>
          <p:sp>
            <p:nvSpPr>
              <p:cNvPr id="2000" name=""/>
              <p:cNvSpPr/>
              <p:nvPr/>
            </p:nvSpPr>
            <p:spPr>
              <a:xfrm>
                <a:off x="885600" y="488628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1" name=""/>
              <p:cNvGrpSpPr/>
              <p:nvPr/>
            </p:nvGrpSpPr>
            <p:grpSpPr>
              <a:xfrm>
                <a:off x="819000" y="5029200"/>
                <a:ext cx="231840" cy="232560"/>
                <a:chOff x="819000" y="5029200"/>
                <a:chExt cx="231840" cy="232560"/>
              </a:xfrm>
            </p:grpSpPr>
            <p:grpSp>
              <p:nvGrpSpPr>
                <p:cNvPr id="2002" name=""/>
                <p:cNvGrpSpPr/>
                <p:nvPr/>
              </p:nvGrpSpPr>
              <p:grpSpPr>
                <a:xfrm>
                  <a:off x="819000" y="5072040"/>
                  <a:ext cx="231840" cy="189720"/>
                  <a:chOff x="819000" y="5072040"/>
                  <a:chExt cx="231840" cy="189720"/>
                </a:xfrm>
              </p:grpSpPr>
              <p:sp>
                <p:nvSpPr>
                  <p:cNvPr id="2003" name=""/>
                  <p:cNvSpPr/>
                  <p:nvPr/>
                </p:nvSpPr>
                <p:spPr>
                  <a:xfrm>
                    <a:off x="819000" y="507204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830160" y="523512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1011240" y="523512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6" name=""/>
                <p:cNvGrpSpPr/>
                <p:nvPr/>
              </p:nvGrpSpPr>
              <p:grpSpPr>
                <a:xfrm>
                  <a:off x="896760" y="5029200"/>
                  <a:ext cx="74520" cy="28080"/>
                  <a:chOff x="896760" y="5029200"/>
                  <a:chExt cx="74520" cy="28080"/>
                </a:xfrm>
              </p:grpSpPr>
              <p:sp>
                <p:nvSpPr>
                  <p:cNvPr id="2007" name=""/>
                  <p:cNvSpPr/>
                  <p:nvPr/>
                </p:nvSpPr>
                <p:spPr>
                  <a:xfrm>
                    <a:off x="896760" y="50292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944280" y="50306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09" name=""/>
              <p:cNvSpPr/>
              <p:nvPr/>
            </p:nvSpPr>
            <p:spPr>
              <a:xfrm>
                <a:off x="1079280" y="50468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(Lend Lease)  RU-42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09520" y="488628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536400" y="4738680"/>
              <a:ext cx="2625840" cy="226800"/>
              <a:chOff x="536400" y="4738680"/>
              <a:chExt cx="2625840" cy="226800"/>
            </a:xfrm>
          </p:grpSpPr>
          <p:sp>
            <p:nvSpPr>
              <p:cNvPr id="2012" name=""/>
              <p:cNvSpPr/>
              <p:nvPr/>
            </p:nvSpPr>
            <p:spPr>
              <a:xfrm>
                <a:off x="536400" y="4873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3" name=""/>
              <p:cNvGrpSpPr/>
              <p:nvPr/>
            </p:nvGrpSpPr>
            <p:grpSpPr>
              <a:xfrm>
                <a:off x="811080" y="4738680"/>
                <a:ext cx="245880" cy="214200"/>
                <a:chOff x="811080" y="4738680"/>
                <a:chExt cx="245880" cy="214200"/>
              </a:xfrm>
            </p:grpSpPr>
            <p:grpSp>
              <p:nvGrpSpPr>
                <p:cNvPr id="2014" name=""/>
                <p:cNvGrpSpPr/>
                <p:nvPr/>
              </p:nvGrpSpPr>
              <p:grpSpPr>
                <a:xfrm>
                  <a:off x="811080" y="4784760"/>
                  <a:ext cx="245880" cy="168120"/>
                  <a:chOff x="811080" y="4784760"/>
                  <a:chExt cx="245880" cy="168120"/>
                </a:xfrm>
              </p:grpSpPr>
              <p:sp>
                <p:nvSpPr>
                  <p:cNvPr id="2015" name=""/>
                  <p:cNvSpPr/>
                  <p:nvPr/>
                </p:nvSpPr>
                <p:spPr>
                  <a:xfrm>
                    <a:off x="811080" y="4784760"/>
                    <a:ext cx="245880" cy="1681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822240" y="479916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 flipV="1">
                    <a:off x="822240" y="4798800"/>
                    <a:ext cx="22032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817200" y="4799160"/>
                    <a:ext cx="52560" cy="13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9" name=""/>
                <p:cNvGrpSpPr/>
                <p:nvPr/>
              </p:nvGrpSpPr>
              <p:grpSpPr>
                <a:xfrm>
                  <a:off x="896400" y="4738680"/>
                  <a:ext cx="73800" cy="28080"/>
                  <a:chOff x="896400" y="4738680"/>
                  <a:chExt cx="73800" cy="2808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>
                    <a:off x="896400" y="473868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943560" y="47401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2" name=""/>
              <p:cNvSpPr/>
              <p:nvPr/>
            </p:nvSpPr>
            <p:spPr>
              <a:xfrm>
                <a:off x="1080720" y="474984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aircraft Machine Gun (d)  RU-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3" name=""/>
          <p:cNvGrpSpPr/>
          <p:nvPr/>
        </p:nvGrpSpPr>
        <p:grpSpPr>
          <a:xfrm>
            <a:off x="555480" y="4344840"/>
            <a:ext cx="2924280" cy="252360"/>
            <a:chOff x="555480" y="4344840"/>
            <a:chExt cx="2924280" cy="252360"/>
          </a:xfrm>
        </p:grpSpPr>
        <p:sp>
          <p:nvSpPr>
            <p:cNvPr id="2024" name=""/>
            <p:cNvSpPr/>
            <p:nvPr/>
          </p:nvSpPr>
          <p:spPr>
            <a:xfrm>
              <a:off x="1270080" y="4344840"/>
              <a:ext cx="2209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Antitank Battery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c)      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ME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5" name=""/>
            <p:cNvGrpSpPr/>
            <p:nvPr/>
          </p:nvGrpSpPr>
          <p:grpSpPr>
            <a:xfrm>
              <a:off x="896760" y="4346280"/>
              <a:ext cx="284040" cy="250920"/>
              <a:chOff x="896760" y="4346280"/>
              <a:chExt cx="284040" cy="250920"/>
            </a:xfrm>
          </p:grpSpPr>
          <p:sp>
            <p:nvSpPr>
              <p:cNvPr id="2026" name=""/>
              <p:cNvSpPr/>
              <p:nvPr/>
            </p:nvSpPr>
            <p:spPr>
              <a:xfrm>
                <a:off x="1037880" y="43462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7" name=""/>
              <p:cNvGrpSpPr/>
              <p:nvPr/>
            </p:nvGrpSpPr>
            <p:grpSpPr>
              <a:xfrm>
                <a:off x="896760" y="4403520"/>
                <a:ext cx="284040" cy="193680"/>
                <a:chOff x="896760" y="4403520"/>
                <a:chExt cx="284040" cy="193680"/>
              </a:xfrm>
            </p:grpSpPr>
            <p:sp>
              <p:nvSpPr>
                <p:cNvPr id="2028" name=""/>
                <p:cNvSpPr/>
                <p:nvPr/>
              </p:nvSpPr>
              <p:spPr>
                <a:xfrm>
                  <a:off x="896760" y="440352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V="1">
                  <a:off x="896760" y="4407480"/>
                  <a:ext cx="139680" cy="187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036440" y="4403520"/>
                  <a:ext cx="1396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1" name=""/>
            <p:cNvSpPr/>
            <p:nvPr/>
          </p:nvSpPr>
          <p:spPr>
            <a:xfrm>
              <a:off x="555480" y="448596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"/>
          <p:cNvSpPr/>
          <p:nvPr/>
        </p:nvSpPr>
        <p:spPr>
          <a:xfrm>
            <a:off x="336600" y="120600"/>
            <a:ext cx="346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ized (Motz) Rifle Battalion Sept 42 – May 19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828720" y="1122480"/>
            <a:ext cx="1825560" cy="366480"/>
            <a:chOff x="828720" y="1122480"/>
            <a:chExt cx="1825560" cy="366480"/>
          </a:xfrm>
        </p:grpSpPr>
        <p:sp>
          <p:nvSpPr>
            <p:cNvPr id="2034" name=""/>
            <p:cNvSpPr/>
            <p:nvPr/>
          </p:nvSpPr>
          <p:spPr>
            <a:xfrm>
              <a:off x="879480" y="1122480"/>
              <a:ext cx="0" cy="28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054080" y="1273320"/>
              <a:ext cx="160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eep        RU-P17 or US-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6" name=""/>
            <p:cNvGrpSpPr/>
            <p:nvPr/>
          </p:nvGrpSpPr>
          <p:grpSpPr>
            <a:xfrm>
              <a:off x="828720" y="1247760"/>
              <a:ext cx="231840" cy="223560"/>
              <a:chOff x="828720" y="1247760"/>
              <a:chExt cx="231840" cy="223560"/>
            </a:xfrm>
          </p:grpSpPr>
          <p:sp>
            <p:nvSpPr>
              <p:cNvPr id="2037" name=""/>
              <p:cNvSpPr/>
              <p:nvPr/>
            </p:nvSpPr>
            <p:spPr>
              <a:xfrm>
                <a:off x="930240" y="1247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8" name=""/>
              <p:cNvGrpSpPr/>
              <p:nvPr/>
            </p:nvGrpSpPr>
            <p:grpSpPr>
              <a:xfrm>
                <a:off x="828720" y="1280880"/>
                <a:ext cx="231840" cy="190440"/>
                <a:chOff x="828720" y="1280880"/>
                <a:chExt cx="231840" cy="190440"/>
              </a:xfrm>
            </p:grpSpPr>
            <p:sp>
              <p:nvSpPr>
                <p:cNvPr id="2039" name=""/>
                <p:cNvSpPr/>
                <p:nvPr/>
              </p:nvSpPr>
              <p:spPr>
                <a:xfrm>
                  <a:off x="828720" y="1280880"/>
                  <a:ext cx="23184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839880" y="1444320"/>
                  <a:ext cx="2700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020960" y="1444320"/>
                  <a:ext cx="2844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2" name=""/>
            <p:cNvSpPr/>
            <p:nvPr/>
          </p:nvSpPr>
          <p:spPr>
            <a:xfrm>
              <a:off x="1212840" y="1133640"/>
              <a:ext cx="63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3" name=""/>
          <p:cNvGrpSpPr/>
          <p:nvPr/>
        </p:nvGrpSpPr>
        <p:grpSpPr>
          <a:xfrm>
            <a:off x="538200" y="3684600"/>
            <a:ext cx="2622600" cy="523800"/>
            <a:chOff x="538200" y="3684600"/>
            <a:chExt cx="2622600" cy="523800"/>
          </a:xfrm>
        </p:grpSpPr>
        <p:grpSp>
          <p:nvGrpSpPr>
            <p:cNvPr id="2044" name=""/>
            <p:cNvGrpSpPr/>
            <p:nvPr/>
          </p:nvGrpSpPr>
          <p:grpSpPr>
            <a:xfrm>
              <a:off x="801720" y="3832200"/>
              <a:ext cx="1355760" cy="376200"/>
              <a:chOff x="801720" y="3832200"/>
              <a:chExt cx="1355760" cy="376200"/>
            </a:xfrm>
          </p:grpSpPr>
          <p:sp>
            <p:nvSpPr>
              <p:cNvPr id="2045" name=""/>
              <p:cNvSpPr/>
              <p:nvPr/>
            </p:nvSpPr>
            <p:spPr>
              <a:xfrm>
                <a:off x="868320" y="38322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6" name=""/>
              <p:cNvGrpSpPr/>
              <p:nvPr/>
            </p:nvGrpSpPr>
            <p:grpSpPr>
              <a:xfrm>
                <a:off x="801720" y="3975120"/>
                <a:ext cx="231840" cy="232560"/>
                <a:chOff x="801720" y="3975120"/>
                <a:chExt cx="231840" cy="232560"/>
              </a:xfrm>
            </p:grpSpPr>
            <p:grpSp>
              <p:nvGrpSpPr>
                <p:cNvPr id="2047" name=""/>
                <p:cNvGrpSpPr/>
                <p:nvPr/>
              </p:nvGrpSpPr>
              <p:grpSpPr>
                <a:xfrm>
                  <a:off x="801720" y="4017960"/>
                  <a:ext cx="231840" cy="189720"/>
                  <a:chOff x="801720" y="4017960"/>
                  <a:chExt cx="231840" cy="189720"/>
                </a:xfrm>
              </p:grpSpPr>
              <p:sp>
                <p:nvSpPr>
                  <p:cNvPr id="2048" name=""/>
                  <p:cNvSpPr/>
                  <p:nvPr/>
                </p:nvSpPr>
                <p:spPr>
                  <a:xfrm>
                    <a:off x="801720" y="401796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812880" y="418104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993960" y="418104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1" name=""/>
                <p:cNvGrpSpPr/>
                <p:nvPr/>
              </p:nvGrpSpPr>
              <p:grpSpPr>
                <a:xfrm>
                  <a:off x="879480" y="3975120"/>
                  <a:ext cx="74520" cy="28080"/>
                  <a:chOff x="879480" y="3975120"/>
                  <a:chExt cx="74520" cy="28080"/>
                </a:xfrm>
              </p:grpSpPr>
              <p:sp>
                <p:nvSpPr>
                  <p:cNvPr id="2052" name=""/>
                  <p:cNvSpPr/>
                  <p:nvPr/>
                </p:nvSpPr>
                <p:spPr>
                  <a:xfrm>
                    <a:off x="879480" y="39751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927000" y="3976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54" name=""/>
              <p:cNvSpPr/>
              <p:nvPr/>
            </p:nvSpPr>
            <p:spPr>
              <a:xfrm>
                <a:off x="1062000" y="3992760"/>
                <a:ext cx="1095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TZ Tract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166760" y="383220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6" name=""/>
            <p:cNvGrpSpPr/>
            <p:nvPr/>
          </p:nvGrpSpPr>
          <p:grpSpPr>
            <a:xfrm>
              <a:off x="538200" y="3684600"/>
              <a:ext cx="2622600" cy="234720"/>
              <a:chOff x="538200" y="3684600"/>
              <a:chExt cx="2622600" cy="234720"/>
            </a:xfrm>
          </p:grpSpPr>
          <p:sp>
            <p:nvSpPr>
              <p:cNvPr id="2057" name=""/>
              <p:cNvSpPr/>
              <p:nvPr/>
            </p:nvSpPr>
            <p:spPr>
              <a:xfrm>
                <a:off x="538200" y="38131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8" name=""/>
              <p:cNvGrpSpPr/>
              <p:nvPr/>
            </p:nvGrpSpPr>
            <p:grpSpPr>
              <a:xfrm>
                <a:off x="809640" y="3684600"/>
                <a:ext cx="231480" cy="205920"/>
                <a:chOff x="809640" y="3684600"/>
                <a:chExt cx="231480" cy="205920"/>
              </a:xfrm>
            </p:grpSpPr>
            <p:grpSp>
              <p:nvGrpSpPr>
                <p:cNvPr id="2059" name=""/>
                <p:cNvGrpSpPr/>
                <p:nvPr/>
              </p:nvGrpSpPr>
              <p:grpSpPr>
                <a:xfrm>
                  <a:off x="809640" y="3733560"/>
                  <a:ext cx="231480" cy="156960"/>
                  <a:chOff x="809640" y="3733560"/>
                  <a:chExt cx="231480" cy="156960"/>
                </a:xfrm>
              </p:grpSpPr>
              <p:grpSp>
                <p:nvGrpSpPr>
                  <p:cNvPr id="2060" name=""/>
                  <p:cNvGrpSpPr/>
                  <p:nvPr/>
                </p:nvGrpSpPr>
                <p:grpSpPr>
                  <a:xfrm>
                    <a:off x="809640" y="3733560"/>
                    <a:ext cx="231480" cy="156960"/>
                    <a:chOff x="809640" y="3733560"/>
                    <a:chExt cx="231480" cy="156960"/>
                  </a:xfrm>
                </p:grpSpPr>
                <p:sp>
                  <p:nvSpPr>
                    <p:cNvPr id="2061" name=""/>
                    <p:cNvSpPr/>
                    <p:nvPr/>
                  </p:nvSpPr>
                  <p:spPr>
                    <a:xfrm>
                      <a:off x="809640" y="373356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2" name=""/>
                    <p:cNvSpPr/>
                    <p:nvPr/>
                  </p:nvSpPr>
                  <p:spPr>
                    <a:xfrm flipV="1">
                      <a:off x="809640" y="373644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3" name=""/>
                    <p:cNvSpPr/>
                    <p:nvPr/>
                  </p:nvSpPr>
                  <p:spPr>
                    <a:xfrm>
                      <a:off x="923760" y="373356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64" name=""/>
                  <p:cNvSpPr/>
                  <p:nvPr/>
                </p:nvSpPr>
                <p:spPr>
                  <a:xfrm>
                    <a:off x="911520" y="3798720"/>
                    <a:ext cx="284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5" name=""/>
                <p:cNvGrpSpPr/>
                <p:nvPr/>
              </p:nvGrpSpPr>
              <p:grpSpPr>
                <a:xfrm>
                  <a:off x="879480" y="3684600"/>
                  <a:ext cx="74520" cy="28080"/>
                  <a:chOff x="879480" y="3684600"/>
                  <a:chExt cx="74520" cy="28080"/>
                </a:xfrm>
              </p:grpSpPr>
              <p:sp>
                <p:nvSpPr>
                  <p:cNvPr id="2066" name=""/>
                  <p:cNvSpPr/>
                  <p:nvPr/>
                </p:nvSpPr>
                <p:spPr>
                  <a:xfrm>
                    <a:off x="879480" y="36846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>
                    <a:off x="927000" y="36860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68" name=""/>
              <p:cNvSpPr/>
              <p:nvPr/>
            </p:nvSpPr>
            <p:spPr>
              <a:xfrm>
                <a:off x="1079640" y="37036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5mm Antitank Gun   (c)         RU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9" name=""/>
          <p:cNvSpPr/>
          <p:nvPr/>
        </p:nvSpPr>
        <p:spPr>
          <a:xfrm>
            <a:off x="1009800" y="703440"/>
            <a:ext cx="17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0" name=""/>
          <p:cNvGrpSpPr/>
          <p:nvPr/>
        </p:nvGrpSpPr>
        <p:grpSpPr>
          <a:xfrm>
            <a:off x="530280" y="860400"/>
            <a:ext cx="2606760" cy="360000"/>
            <a:chOff x="530280" y="860400"/>
            <a:chExt cx="2606760" cy="360000"/>
          </a:xfrm>
        </p:grpSpPr>
        <p:sp>
          <p:nvSpPr>
            <p:cNvPr id="2071" name=""/>
            <p:cNvSpPr/>
            <p:nvPr/>
          </p:nvSpPr>
          <p:spPr>
            <a:xfrm>
              <a:off x="1057320" y="860400"/>
              <a:ext cx="83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30280" y="110952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055520" y="100476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RU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828720" y="987480"/>
              <a:ext cx="237960" cy="190440"/>
              <a:chOff x="828720" y="987480"/>
              <a:chExt cx="237960" cy="190440"/>
            </a:xfrm>
          </p:grpSpPr>
          <p:sp>
            <p:nvSpPr>
              <p:cNvPr id="2075" name=""/>
              <p:cNvSpPr/>
              <p:nvPr/>
            </p:nvSpPr>
            <p:spPr>
              <a:xfrm>
                <a:off x="828720" y="1020960"/>
                <a:ext cx="23796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936360" y="9874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7" name=""/>
          <p:cNvGrpSpPr/>
          <p:nvPr/>
        </p:nvGrpSpPr>
        <p:grpSpPr>
          <a:xfrm>
            <a:off x="530280" y="2158920"/>
            <a:ext cx="2644560" cy="263160"/>
            <a:chOff x="530280" y="2158920"/>
            <a:chExt cx="2644560" cy="263160"/>
          </a:xfrm>
        </p:grpSpPr>
        <p:grpSp>
          <p:nvGrpSpPr>
            <p:cNvPr id="2078" name=""/>
            <p:cNvGrpSpPr/>
            <p:nvPr/>
          </p:nvGrpSpPr>
          <p:grpSpPr>
            <a:xfrm>
              <a:off x="530280" y="2158920"/>
              <a:ext cx="549360" cy="257040"/>
              <a:chOff x="530280" y="2158920"/>
              <a:chExt cx="549360" cy="257040"/>
            </a:xfrm>
          </p:grpSpPr>
          <p:sp>
            <p:nvSpPr>
              <p:cNvPr id="2079" name=""/>
              <p:cNvSpPr/>
              <p:nvPr/>
            </p:nvSpPr>
            <p:spPr>
              <a:xfrm>
                <a:off x="530280" y="23238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795240" y="2158920"/>
                <a:ext cx="284400" cy="257040"/>
                <a:chOff x="795240" y="2158920"/>
                <a:chExt cx="284400" cy="257040"/>
              </a:xfrm>
            </p:grpSpPr>
            <p:grpSp>
              <p:nvGrpSpPr>
                <p:cNvPr id="2081" name=""/>
                <p:cNvGrpSpPr/>
                <p:nvPr/>
              </p:nvGrpSpPr>
              <p:grpSpPr>
                <a:xfrm>
                  <a:off x="795240" y="2222280"/>
                  <a:ext cx="284400" cy="193680"/>
                  <a:chOff x="795240" y="2222280"/>
                  <a:chExt cx="284400" cy="193680"/>
                </a:xfrm>
              </p:grpSpPr>
              <p:sp>
                <p:nvSpPr>
                  <p:cNvPr id="2082" name=""/>
                  <p:cNvSpPr/>
                  <p:nvPr/>
                </p:nvSpPr>
                <p:spPr>
                  <a:xfrm>
                    <a:off x="795240" y="2222280"/>
                    <a:ext cx="28440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 flipV="1">
                    <a:off x="798120" y="2225160"/>
                    <a:ext cx="27684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795240" y="2225160"/>
                    <a:ext cx="28296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5" name=""/>
                <p:cNvSpPr/>
                <p:nvPr/>
              </p:nvSpPr>
              <p:spPr>
                <a:xfrm>
                  <a:off x="936720" y="2158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6" name=""/>
            <p:cNvSpPr/>
            <p:nvPr/>
          </p:nvSpPr>
          <p:spPr>
            <a:xfrm>
              <a:off x="1093680" y="220644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Rifle Company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(a)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352440" y="612720"/>
            <a:ext cx="347400" cy="5279760"/>
            <a:chOff x="352440" y="612720"/>
            <a:chExt cx="347400" cy="5279760"/>
          </a:xfrm>
        </p:grpSpPr>
        <p:sp>
          <p:nvSpPr>
            <p:cNvPr id="2088" name=""/>
            <p:cNvSpPr/>
            <p:nvPr/>
          </p:nvSpPr>
          <p:spPr>
            <a:xfrm>
              <a:off x="523800" y="959760"/>
              <a:ext cx="0" cy="493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9" name=""/>
            <p:cNvGrpSpPr/>
            <p:nvPr/>
          </p:nvGrpSpPr>
          <p:grpSpPr>
            <a:xfrm>
              <a:off x="352440" y="612720"/>
              <a:ext cx="347400" cy="359280"/>
              <a:chOff x="352440" y="612720"/>
              <a:chExt cx="347400" cy="359280"/>
            </a:xfrm>
          </p:grpSpPr>
          <p:grpSp>
            <p:nvGrpSpPr>
              <p:cNvPr id="2090" name=""/>
              <p:cNvGrpSpPr/>
              <p:nvPr/>
            </p:nvGrpSpPr>
            <p:grpSpPr>
              <a:xfrm>
                <a:off x="487440" y="612720"/>
                <a:ext cx="75960" cy="76680"/>
                <a:chOff x="487440" y="612720"/>
                <a:chExt cx="75960" cy="76680"/>
              </a:xfrm>
            </p:grpSpPr>
            <p:sp>
              <p:nvSpPr>
                <p:cNvPr id="2091" name=""/>
                <p:cNvSpPr/>
                <p:nvPr/>
              </p:nvSpPr>
              <p:spPr>
                <a:xfrm>
                  <a:off x="487440" y="612720"/>
                  <a:ext cx="0" cy="766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63400" y="612720"/>
                  <a:ext cx="0" cy="766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3" name=""/>
              <p:cNvGrpSpPr/>
              <p:nvPr/>
            </p:nvGrpSpPr>
            <p:grpSpPr>
              <a:xfrm>
                <a:off x="352440" y="685800"/>
                <a:ext cx="347400" cy="286200"/>
                <a:chOff x="352440" y="685800"/>
                <a:chExt cx="347400" cy="286200"/>
              </a:xfrm>
            </p:grpSpPr>
            <p:sp>
              <p:nvSpPr>
                <p:cNvPr id="2094" name=""/>
                <p:cNvSpPr/>
                <p:nvPr/>
              </p:nvSpPr>
              <p:spPr>
                <a:xfrm>
                  <a:off x="352440" y="685800"/>
                  <a:ext cx="347400" cy="2862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356040" y="689760"/>
                  <a:ext cx="338760" cy="279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352440" y="690120"/>
                  <a:ext cx="345960" cy="272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97" name=""/>
          <p:cNvGrpSpPr/>
          <p:nvPr/>
        </p:nvGrpSpPr>
        <p:grpSpPr>
          <a:xfrm>
            <a:off x="544680" y="5529240"/>
            <a:ext cx="2670120" cy="588240"/>
            <a:chOff x="544680" y="5529240"/>
            <a:chExt cx="2670120" cy="588240"/>
          </a:xfrm>
        </p:grpSpPr>
        <p:sp>
          <p:nvSpPr>
            <p:cNvPr id="2098" name=""/>
            <p:cNvSpPr/>
            <p:nvPr/>
          </p:nvSpPr>
          <p:spPr>
            <a:xfrm>
              <a:off x="544680" y="58770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9" name=""/>
            <p:cNvGrpSpPr/>
            <p:nvPr/>
          </p:nvGrpSpPr>
          <p:grpSpPr>
            <a:xfrm>
              <a:off x="793800" y="5743440"/>
              <a:ext cx="291960" cy="250560"/>
              <a:chOff x="793800" y="5743440"/>
              <a:chExt cx="291960" cy="250560"/>
            </a:xfrm>
          </p:grpSpPr>
          <p:sp>
            <p:nvSpPr>
              <p:cNvPr id="2100" name=""/>
              <p:cNvSpPr/>
              <p:nvPr/>
            </p:nvSpPr>
            <p:spPr>
              <a:xfrm>
                <a:off x="939960" y="574344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1" name=""/>
              <p:cNvGrpSpPr/>
              <p:nvPr/>
            </p:nvGrpSpPr>
            <p:grpSpPr>
              <a:xfrm>
                <a:off x="793800" y="5803920"/>
                <a:ext cx="291960" cy="190080"/>
                <a:chOff x="793800" y="5803920"/>
                <a:chExt cx="291960" cy="190080"/>
              </a:xfrm>
            </p:grpSpPr>
            <p:sp>
              <p:nvSpPr>
                <p:cNvPr id="2102" name=""/>
                <p:cNvSpPr/>
                <p:nvPr/>
              </p:nvSpPr>
              <p:spPr>
                <a:xfrm>
                  <a:off x="793800" y="5803920"/>
                  <a:ext cx="291960" cy="1900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896400" y="5955840"/>
                  <a:ext cx="8280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934920" y="5828400"/>
                  <a:ext cx="0" cy="128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5" name=""/>
            <p:cNvSpPr/>
            <p:nvPr/>
          </p:nvSpPr>
          <p:spPr>
            <a:xfrm>
              <a:off x="570240" y="5529240"/>
              <a:ext cx="21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133640" y="578016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Mortar Company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(c)  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FS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530280" y="1546200"/>
            <a:ext cx="2625840" cy="523800"/>
            <a:chOff x="530280" y="1546200"/>
            <a:chExt cx="2625840" cy="523800"/>
          </a:xfrm>
        </p:grpSpPr>
        <p:grpSp>
          <p:nvGrpSpPr>
            <p:cNvPr id="2108" name=""/>
            <p:cNvGrpSpPr/>
            <p:nvPr/>
          </p:nvGrpSpPr>
          <p:grpSpPr>
            <a:xfrm>
              <a:off x="812880" y="1693800"/>
              <a:ext cx="2341440" cy="376200"/>
              <a:chOff x="812880" y="1693800"/>
              <a:chExt cx="2341440" cy="376200"/>
            </a:xfrm>
          </p:grpSpPr>
          <p:sp>
            <p:nvSpPr>
              <p:cNvPr id="2109" name=""/>
              <p:cNvSpPr/>
              <p:nvPr/>
            </p:nvSpPr>
            <p:spPr>
              <a:xfrm>
                <a:off x="879480" y="16938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0" name=""/>
              <p:cNvGrpSpPr/>
              <p:nvPr/>
            </p:nvGrpSpPr>
            <p:grpSpPr>
              <a:xfrm>
                <a:off x="812880" y="1836720"/>
                <a:ext cx="231840" cy="232560"/>
                <a:chOff x="812880" y="1836720"/>
                <a:chExt cx="231840" cy="232560"/>
              </a:xfrm>
            </p:grpSpPr>
            <p:grpSp>
              <p:nvGrpSpPr>
                <p:cNvPr id="2111" name=""/>
                <p:cNvGrpSpPr/>
                <p:nvPr/>
              </p:nvGrpSpPr>
              <p:grpSpPr>
                <a:xfrm>
                  <a:off x="812880" y="1879560"/>
                  <a:ext cx="231840" cy="189720"/>
                  <a:chOff x="812880" y="1879560"/>
                  <a:chExt cx="231840" cy="189720"/>
                </a:xfrm>
              </p:grpSpPr>
              <p:sp>
                <p:nvSpPr>
                  <p:cNvPr id="2112" name=""/>
                  <p:cNvSpPr/>
                  <p:nvPr/>
                </p:nvSpPr>
                <p:spPr>
                  <a:xfrm>
                    <a:off x="812880" y="187956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>
                    <a:off x="824040" y="204264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1005120" y="204264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5" name=""/>
                <p:cNvGrpSpPr/>
                <p:nvPr/>
              </p:nvGrpSpPr>
              <p:grpSpPr>
                <a:xfrm>
                  <a:off x="890640" y="1836720"/>
                  <a:ext cx="74520" cy="28080"/>
                  <a:chOff x="890640" y="1836720"/>
                  <a:chExt cx="74520" cy="28080"/>
                </a:xfrm>
              </p:grpSpPr>
              <p:sp>
                <p:nvSpPr>
                  <p:cNvPr id="2116" name=""/>
                  <p:cNvSpPr/>
                  <p:nvPr/>
                </p:nvSpPr>
                <p:spPr>
                  <a:xfrm>
                    <a:off x="890640" y="18367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>
                    <a:off x="938160" y="18381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18" name=""/>
              <p:cNvSpPr/>
              <p:nvPr/>
            </p:nvSpPr>
            <p:spPr>
              <a:xfrm>
                <a:off x="1073160" y="18543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         RU-62 or  RU-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9" name=""/>
            <p:cNvGrpSpPr/>
            <p:nvPr/>
          </p:nvGrpSpPr>
          <p:grpSpPr>
            <a:xfrm>
              <a:off x="530280" y="1546200"/>
              <a:ext cx="2625840" cy="226800"/>
              <a:chOff x="530280" y="1546200"/>
              <a:chExt cx="2625840" cy="226800"/>
            </a:xfrm>
          </p:grpSpPr>
          <p:sp>
            <p:nvSpPr>
              <p:cNvPr id="2120" name=""/>
              <p:cNvSpPr/>
              <p:nvPr/>
            </p:nvSpPr>
            <p:spPr>
              <a:xfrm>
                <a:off x="530280" y="16812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1074600" y="155736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ifle Infantry  RU-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2" name=""/>
              <p:cNvGrpSpPr/>
              <p:nvPr/>
            </p:nvGrpSpPr>
            <p:grpSpPr>
              <a:xfrm>
                <a:off x="812880" y="1546200"/>
                <a:ext cx="231480" cy="208080"/>
                <a:chOff x="812880" y="1546200"/>
                <a:chExt cx="231480" cy="208080"/>
              </a:xfrm>
            </p:grpSpPr>
            <p:grpSp>
              <p:nvGrpSpPr>
                <p:cNvPr id="2123" name=""/>
                <p:cNvGrpSpPr/>
                <p:nvPr/>
              </p:nvGrpSpPr>
              <p:grpSpPr>
                <a:xfrm>
                  <a:off x="812880" y="1596960"/>
                  <a:ext cx="231480" cy="157320"/>
                  <a:chOff x="812880" y="1596960"/>
                  <a:chExt cx="231480" cy="157320"/>
                </a:xfrm>
              </p:grpSpPr>
              <p:sp>
                <p:nvSpPr>
                  <p:cNvPr id="2124" name=""/>
                  <p:cNvSpPr/>
                  <p:nvPr/>
                </p:nvSpPr>
                <p:spPr>
                  <a:xfrm>
                    <a:off x="812880" y="159696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V="1">
                    <a:off x="815040" y="1598760"/>
                    <a:ext cx="22536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6" name=""/>
                  <p:cNvSpPr/>
                  <p:nvPr/>
                </p:nvSpPr>
                <p:spPr>
                  <a:xfrm>
                    <a:off x="812880" y="159912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7" name=""/>
                <p:cNvGrpSpPr/>
                <p:nvPr/>
              </p:nvGrpSpPr>
              <p:grpSpPr>
                <a:xfrm>
                  <a:off x="890640" y="1546200"/>
                  <a:ext cx="74520" cy="28080"/>
                  <a:chOff x="890640" y="1546200"/>
                  <a:chExt cx="74520" cy="28080"/>
                </a:xfrm>
              </p:grpSpPr>
              <p:sp>
                <p:nvSpPr>
                  <p:cNvPr id="2128" name=""/>
                  <p:cNvSpPr/>
                  <p:nvPr/>
                </p:nvSpPr>
                <p:spPr>
                  <a:xfrm>
                    <a:off x="890640" y="15462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938160" y="15476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130" name=""/>
            <p:cNvSpPr/>
            <p:nvPr/>
          </p:nvSpPr>
          <p:spPr>
            <a:xfrm>
              <a:off x="1262160" y="1679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530280" y="2548080"/>
            <a:ext cx="2622600" cy="523440"/>
            <a:chOff x="530280" y="2548080"/>
            <a:chExt cx="2622600" cy="523440"/>
          </a:xfrm>
        </p:grpSpPr>
        <p:grpSp>
          <p:nvGrpSpPr>
            <p:cNvPr id="2132" name=""/>
            <p:cNvGrpSpPr/>
            <p:nvPr/>
          </p:nvGrpSpPr>
          <p:grpSpPr>
            <a:xfrm>
              <a:off x="793800" y="2695680"/>
              <a:ext cx="2341440" cy="375840"/>
              <a:chOff x="793800" y="2695680"/>
              <a:chExt cx="2341440" cy="375840"/>
            </a:xfrm>
          </p:grpSpPr>
          <p:sp>
            <p:nvSpPr>
              <p:cNvPr id="2133" name=""/>
              <p:cNvSpPr/>
              <p:nvPr/>
            </p:nvSpPr>
            <p:spPr>
              <a:xfrm>
                <a:off x="860400" y="269568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4" name=""/>
              <p:cNvGrpSpPr/>
              <p:nvPr/>
            </p:nvGrpSpPr>
            <p:grpSpPr>
              <a:xfrm>
                <a:off x="793800" y="2838600"/>
                <a:ext cx="231840" cy="232560"/>
                <a:chOff x="793800" y="2838600"/>
                <a:chExt cx="231840" cy="232560"/>
              </a:xfrm>
            </p:grpSpPr>
            <p:grpSp>
              <p:nvGrpSpPr>
                <p:cNvPr id="2135" name=""/>
                <p:cNvGrpSpPr/>
                <p:nvPr/>
              </p:nvGrpSpPr>
              <p:grpSpPr>
                <a:xfrm>
                  <a:off x="793800" y="2881440"/>
                  <a:ext cx="231840" cy="189720"/>
                  <a:chOff x="793800" y="2881440"/>
                  <a:chExt cx="231840" cy="189720"/>
                </a:xfrm>
              </p:grpSpPr>
              <p:sp>
                <p:nvSpPr>
                  <p:cNvPr id="2136" name=""/>
                  <p:cNvSpPr/>
                  <p:nvPr/>
                </p:nvSpPr>
                <p:spPr>
                  <a:xfrm>
                    <a:off x="793800" y="288144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804960" y="304452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986040" y="304452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9" name=""/>
                <p:cNvGrpSpPr/>
                <p:nvPr/>
              </p:nvGrpSpPr>
              <p:grpSpPr>
                <a:xfrm>
                  <a:off x="871560" y="2838600"/>
                  <a:ext cx="74520" cy="28080"/>
                  <a:chOff x="871560" y="2838600"/>
                  <a:chExt cx="74520" cy="28080"/>
                </a:xfrm>
              </p:grpSpPr>
              <p:sp>
                <p:nvSpPr>
                  <p:cNvPr id="2140" name=""/>
                  <p:cNvSpPr/>
                  <p:nvPr/>
                </p:nvSpPr>
                <p:spPr>
                  <a:xfrm>
                    <a:off x="871560" y="28386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919080" y="28400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42" name=""/>
              <p:cNvSpPr/>
              <p:nvPr/>
            </p:nvSpPr>
            <p:spPr>
              <a:xfrm>
                <a:off x="1054080" y="28558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            RU-62 or RU-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3" name=""/>
            <p:cNvGrpSpPr/>
            <p:nvPr/>
          </p:nvGrpSpPr>
          <p:grpSpPr>
            <a:xfrm>
              <a:off x="530280" y="2548080"/>
              <a:ext cx="2622600" cy="234720"/>
              <a:chOff x="530280" y="2548080"/>
              <a:chExt cx="2622600" cy="234720"/>
            </a:xfrm>
          </p:grpSpPr>
          <p:sp>
            <p:nvSpPr>
              <p:cNvPr id="2144" name=""/>
              <p:cNvSpPr/>
              <p:nvPr/>
            </p:nvSpPr>
            <p:spPr>
              <a:xfrm>
                <a:off x="530280" y="26766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5" name=""/>
              <p:cNvGrpSpPr/>
              <p:nvPr/>
            </p:nvGrpSpPr>
            <p:grpSpPr>
              <a:xfrm>
                <a:off x="785880" y="2548080"/>
                <a:ext cx="245880" cy="214200"/>
                <a:chOff x="785880" y="2548080"/>
                <a:chExt cx="245880" cy="214200"/>
              </a:xfrm>
            </p:grpSpPr>
            <p:grpSp>
              <p:nvGrpSpPr>
                <p:cNvPr id="2146" name=""/>
                <p:cNvGrpSpPr/>
                <p:nvPr/>
              </p:nvGrpSpPr>
              <p:grpSpPr>
                <a:xfrm>
                  <a:off x="785880" y="2594160"/>
                  <a:ext cx="245880" cy="168120"/>
                  <a:chOff x="785880" y="2594160"/>
                  <a:chExt cx="245880" cy="168120"/>
                </a:xfrm>
              </p:grpSpPr>
              <p:sp>
                <p:nvSpPr>
                  <p:cNvPr id="2147" name=""/>
                  <p:cNvSpPr/>
                  <p:nvPr/>
                </p:nvSpPr>
                <p:spPr>
                  <a:xfrm>
                    <a:off x="785880" y="2594160"/>
                    <a:ext cx="245880" cy="1681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797040" y="260856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 flipV="1">
                    <a:off x="797040" y="2608200"/>
                    <a:ext cx="22032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792000" y="2608560"/>
                    <a:ext cx="52560" cy="13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1" name=""/>
                <p:cNvGrpSpPr/>
                <p:nvPr/>
              </p:nvGrpSpPr>
              <p:grpSpPr>
                <a:xfrm>
                  <a:off x="871200" y="2548080"/>
                  <a:ext cx="73800" cy="28080"/>
                  <a:chOff x="871200" y="2548080"/>
                  <a:chExt cx="73800" cy="28080"/>
                </a:xfrm>
              </p:grpSpPr>
              <p:sp>
                <p:nvSpPr>
                  <p:cNvPr id="2152" name=""/>
                  <p:cNvSpPr/>
                  <p:nvPr/>
                </p:nvSpPr>
                <p:spPr>
                  <a:xfrm>
                    <a:off x="871200" y="254808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918360" y="25495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54" name=""/>
              <p:cNvSpPr/>
              <p:nvPr/>
            </p:nvSpPr>
            <p:spPr>
              <a:xfrm>
                <a:off x="1071720" y="25671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Machine Gun             RU-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5" name=""/>
            <p:cNvSpPr/>
            <p:nvPr/>
          </p:nvSpPr>
          <p:spPr>
            <a:xfrm>
              <a:off x="1163520" y="2695680"/>
              <a:ext cx="63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534960" y="3106800"/>
            <a:ext cx="2622240" cy="523440"/>
            <a:chOff x="534960" y="3106800"/>
            <a:chExt cx="2622240" cy="523440"/>
          </a:xfrm>
        </p:grpSpPr>
        <p:grpSp>
          <p:nvGrpSpPr>
            <p:cNvPr id="2157" name=""/>
            <p:cNvGrpSpPr/>
            <p:nvPr/>
          </p:nvGrpSpPr>
          <p:grpSpPr>
            <a:xfrm>
              <a:off x="534960" y="3106800"/>
              <a:ext cx="2622240" cy="234720"/>
              <a:chOff x="534960" y="3106800"/>
              <a:chExt cx="2622240" cy="234720"/>
            </a:xfrm>
          </p:grpSpPr>
          <p:sp>
            <p:nvSpPr>
              <p:cNvPr id="2158" name=""/>
              <p:cNvSpPr/>
              <p:nvPr/>
            </p:nvSpPr>
            <p:spPr>
              <a:xfrm>
                <a:off x="534960" y="32353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076040" y="31258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tank Rifle   (b)                      RU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0" name=""/>
              <p:cNvGrpSpPr/>
              <p:nvPr/>
            </p:nvGrpSpPr>
            <p:grpSpPr>
              <a:xfrm>
                <a:off x="801360" y="3106800"/>
                <a:ext cx="231480" cy="212760"/>
                <a:chOff x="801360" y="3106800"/>
                <a:chExt cx="231480" cy="212760"/>
              </a:xfrm>
            </p:grpSpPr>
            <p:grpSp>
              <p:nvGrpSpPr>
                <p:cNvPr id="2161" name=""/>
                <p:cNvGrpSpPr/>
                <p:nvPr/>
              </p:nvGrpSpPr>
              <p:grpSpPr>
                <a:xfrm>
                  <a:off x="876240" y="3106800"/>
                  <a:ext cx="74520" cy="28080"/>
                  <a:chOff x="876240" y="3106800"/>
                  <a:chExt cx="74520" cy="2808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>
                    <a:off x="876240" y="31068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923760" y="31082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4" name=""/>
                <p:cNvGrpSpPr/>
                <p:nvPr/>
              </p:nvGrpSpPr>
              <p:grpSpPr>
                <a:xfrm>
                  <a:off x="801360" y="3162240"/>
                  <a:ext cx="231480" cy="157320"/>
                  <a:chOff x="801360" y="3162240"/>
                  <a:chExt cx="231480" cy="157320"/>
                </a:xfrm>
              </p:grpSpPr>
              <p:sp>
                <p:nvSpPr>
                  <p:cNvPr id="2165" name=""/>
                  <p:cNvSpPr/>
                  <p:nvPr/>
                </p:nvSpPr>
                <p:spPr>
                  <a:xfrm>
                    <a:off x="801360" y="316224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 flipV="1">
                    <a:off x="801360" y="316512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915480" y="3162240"/>
                    <a:ext cx="11448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68" name=""/>
            <p:cNvGrpSpPr/>
            <p:nvPr/>
          </p:nvGrpSpPr>
          <p:grpSpPr>
            <a:xfrm>
              <a:off x="798480" y="3254400"/>
              <a:ext cx="2341440" cy="375840"/>
              <a:chOff x="798480" y="3254400"/>
              <a:chExt cx="2341440" cy="375840"/>
            </a:xfrm>
          </p:grpSpPr>
          <p:sp>
            <p:nvSpPr>
              <p:cNvPr id="2169" name=""/>
              <p:cNvSpPr/>
              <p:nvPr/>
            </p:nvSpPr>
            <p:spPr>
              <a:xfrm>
                <a:off x="865080" y="32544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0" name=""/>
              <p:cNvGrpSpPr/>
              <p:nvPr/>
            </p:nvGrpSpPr>
            <p:grpSpPr>
              <a:xfrm>
                <a:off x="798480" y="3397320"/>
                <a:ext cx="231480" cy="232560"/>
                <a:chOff x="798480" y="3397320"/>
                <a:chExt cx="231480" cy="232560"/>
              </a:xfrm>
            </p:grpSpPr>
            <p:grpSp>
              <p:nvGrpSpPr>
                <p:cNvPr id="2171" name=""/>
                <p:cNvGrpSpPr/>
                <p:nvPr/>
              </p:nvGrpSpPr>
              <p:grpSpPr>
                <a:xfrm>
                  <a:off x="798480" y="3440160"/>
                  <a:ext cx="231480" cy="189720"/>
                  <a:chOff x="798480" y="3440160"/>
                  <a:chExt cx="231480" cy="189720"/>
                </a:xfrm>
              </p:grpSpPr>
              <p:sp>
                <p:nvSpPr>
                  <p:cNvPr id="2172" name=""/>
                  <p:cNvSpPr/>
                  <p:nvPr/>
                </p:nvSpPr>
                <p:spPr>
                  <a:xfrm>
                    <a:off x="798480" y="3440160"/>
                    <a:ext cx="23148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809280" y="3603240"/>
                    <a:ext cx="266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990360" y="3603240"/>
                    <a:ext cx="2808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5" name=""/>
                <p:cNvGrpSpPr/>
                <p:nvPr/>
              </p:nvGrpSpPr>
              <p:grpSpPr>
                <a:xfrm>
                  <a:off x="875880" y="3397320"/>
                  <a:ext cx="73800" cy="28080"/>
                  <a:chOff x="875880" y="3397320"/>
                  <a:chExt cx="73800" cy="28080"/>
                </a:xfrm>
              </p:grpSpPr>
              <p:sp>
                <p:nvSpPr>
                  <p:cNvPr id="2176" name=""/>
                  <p:cNvSpPr/>
                  <p:nvPr/>
                </p:nvSpPr>
                <p:spPr>
                  <a:xfrm>
                    <a:off x="875880" y="339732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923040" y="33987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78" name=""/>
              <p:cNvSpPr/>
              <p:nvPr/>
            </p:nvSpPr>
            <p:spPr>
              <a:xfrm>
                <a:off x="1058760" y="34146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  (b)     RU-62 or RU-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222200" y="327348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0" name=""/>
          <p:cNvSpPr/>
          <p:nvPr/>
        </p:nvSpPr>
        <p:spPr>
          <a:xfrm>
            <a:off x="3565440" y="5718240"/>
            <a:ext cx="363852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December 1942 begin replaceing ME-26 with 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December 1942 increase the number of ATR to 9 and the Transport to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December 1942 add the Antitank Company, Mortar Company , Sapper Platoon, and Submachine Gun Plato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519120" y="4262400"/>
            <a:ext cx="2652840" cy="569880"/>
            <a:chOff x="519120" y="4262400"/>
            <a:chExt cx="2652840" cy="569880"/>
          </a:xfrm>
        </p:grpSpPr>
        <p:sp>
          <p:nvSpPr>
            <p:cNvPr id="2182" name=""/>
            <p:cNvSpPr/>
            <p:nvPr/>
          </p:nvSpPr>
          <p:spPr>
            <a:xfrm>
              <a:off x="841680" y="4465440"/>
              <a:ext cx="0" cy="23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3" name=""/>
            <p:cNvGrpSpPr/>
            <p:nvPr/>
          </p:nvGrpSpPr>
          <p:grpSpPr>
            <a:xfrm>
              <a:off x="803520" y="4598640"/>
              <a:ext cx="231840" cy="233640"/>
              <a:chOff x="803520" y="4598640"/>
              <a:chExt cx="231840" cy="233640"/>
            </a:xfrm>
          </p:grpSpPr>
          <p:grpSp>
            <p:nvGrpSpPr>
              <p:cNvPr id="2184" name=""/>
              <p:cNvGrpSpPr/>
              <p:nvPr/>
            </p:nvGrpSpPr>
            <p:grpSpPr>
              <a:xfrm>
                <a:off x="803520" y="4641840"/>
                <a:ext cx="231840" cy="190440"/>
                <a:chOff x="803520" y="4641840"/>
                <a:chExt cx="231840" cy="190440"/>
              </a:xfrm>
            </p:grpSpPr>
            <p:sp>
              <p:nvSpPr>
                <p:cNvPr id="2185" name=""/>
                <p:cNvSpPr/>
                <p:nvPr/>
              </p:nvSpPr>
              <p:spPr>
                <a:xfrm>
                  <a:off x="803520" y="4641840"/>
                  <a:ext cx="23184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814680" y="4805280"/>
                  <a:ext cx="2700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995760" y="4805280"/>
                  <a:ext cx="2844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881280" y="4598640"/>
                <a:ext cx="74520" cy="28800"/>
                <a:chOff x="881280" y="4598640"/>
                <a:chExt cx="74520" cy="28800"/>
              </a:xfrm>
            </p:grpSpPr>
            <p:sp>
              <p:nvSpPr>
                <p:cNvPr id="2189" name=""/>
                <p:cNvSpPr/>
                <p:nvPr/>
              </p:nvSpPr>
              <p:spPr>
                <a:xfrm>
                  <a:off x="881280" y="45986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928800" y="4600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1" name=""/>
            <p:cNvSpPr/>
            <p:nvPr/>
          </p:nvSpPr>
          <p:spPr>
            <a:xfrm>
              <a:off x="1065240" y="461628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um Truck (Lend Lease)  RU-42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2" name=""/>
            <p:cNvGrpSpPr/>
            <p:nvPr/>
          </p:nvGrpSpPr>
          <p:grpSpPr>
            <a:xfrm>
              <a:off x="519120" y="4262400"/>
              <a:ext cx="2652840" cy="215640"/>
              <a:chOff x="519120" y="4262400"/>
              <a:chExt cx="2652840" cy="215640"/>
            </a:xfrm>
          </p:grpSpPr>
          <p:sp>
            <p:nvSpPr>
              <p:cNvPr id="2193" name=""/>
              <p:cNvSpPr/>
              <p:nvPr/>
            </p:nvSpPr>
            <p:spPr>
              <a:xfrm>
                <a:off x="519120" y="43862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4" name=""/>
              <p:cNvGrpSpPr/>
              <p:nvPr/>
            </p:nvGrpSpPr>
            <p:grpSpPr>
              <a:xfrm>
                <a:off x="803520" y="4282920"/>
                <a:ext cx="231840" cy="193680"/>
                <a:chOff x="803520" y="4282920"/>
                <a:chExt cx="231840" cy="193680"/>
              </a:xfrm>
            </p:grpSpPr>
            <p:grpSp>
              <p:nvGrpSpPr>
                <p:cNvPr id="2195" name=""/>
                <p:cNvGrpSpPr/>
                <p:nvPr/>
              </p:nvGrpSpPr>
              <p:grpSpPr>
                <a:xfrm>
                  <a:off x="881280" y="4282920"/>
                  <a:ext cx="74520" cy="28800"/>
                  <a:chOff x="881280" y="4282920"/>
                  <a:chExt cx="74520" cy="28800"/>
                </a:xfrm>
              </p:grpSpPr>
              <p:sp>
                <p:nvSpPr>
                  <p:cNvPr id="2196" name=""/>
                  <p:cNvSpPr/>
                  <p:nvPr/>
                </p:nvSpPr>
                <p:spPr>
                  <a:xfrm>
                    <a:off x="881280" y="42829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928800" y="42847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8" name=""/>
                <p:cNvGrpSpPr/>
                <p:nvPr/>
              </p:nvGrpSpPr>
              <p:grpSpPr>
                <a:xfrm>
                  <a:off x="803520" y="4319640"/>
                  <a:ext cx="231840" cy="156960"/>
                  <a:chOff x="803520" y="4319640"/>
                  <a:chExt cx="231840" cy="156960"/>
                </a:xfrm>
              </p:grpSpPr>
              <p:sp>
                <p:nvSpPr>
                  <p:cNvPr id="2199" name=""/>
                  <p:cNvSpPr/>
                  <p:nvPr/>
                </p:nvSpPr>
                <p:spPr>
                  <a:xfrm>
                    <a:off x="803520" y="431964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874800" y="4366800"/>
                    <a:ext cx="0" cy="5004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916200" y="4369320"/>
                    <a:ext cx="0" cy="4752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956880" y="4370760"/>
                    <a:ext cx="0" cy="4608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870120" y="4369320"/>
                    <a:ext cx="936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04" name=""/>
              <p:cNvSpPr/>
              <p:nvPr/>
            </p:nvSpPr>
            <p:spPr>
              <a:xfrm>
                <a:off x="1090800" y="42624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appers   (e)                            RU-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5" name=""/>
          <p:cNvGrpSpPr/>
          <p:nvPr/>
        </p:nvGrpSpPr>
        <p:grpSpPr>
          <a:xfrm>
            <a:off x="512640" y="4883040"/>
            <a:ext cx="2625840" cy="523800"/>
            <a:chOff x="512640" y="4883040"/>
            <a:chExt cx="2625840" cy="523800"/>
          </a:xfrm>
        </p:grpSpPr>
        <p:grpSp>
          <p:nvGrpSpPr>
            <p:cNvPr id="2206" name=""/>
            <p:cNvGrpSpPr/>
            <p:nvPr/>
          </p:nvGrpSpPr>
          <p:grpSpPr>
            <a:xfrm>
              <a:off x="795240" y="5030640"/>
              <a:ext cx="2341440" cy="376200"/>
              <a:chOff x="795240" y="5030640"/>
              <a:chExt cx="2341440" cy="376200"/>
            </a:xfrm>
          </p:grpSpPr>
          <p:sp>
            <p:nvSpPr>
              <p:cNvPr id="2207" name=""/>
              <p:cNvSpPr/>
              <p:nvPr/>
            </p:nvSpPr>
            <p:spPr>
              <a:xfrm>
                <a:off x="861840" y="503064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8" name=""/>
              <p:cNvGrpSpPr/>
              <p:nvPr/>
            </p:nvGrpSpPr>
            <p:grpSpPr>
              <a:xfrm>
                <a:off x="795240" y="5173560"/>
                <a:ext cx="231840" cy="232560"/>
                <a:chOff x="795240" y="5173560"/>
                <a:chExt cx="231840" cy="232560"/>
              </a:xfrm>
            </p:grpSpPr>
            <p:grpSp>
              <p:nvGrpSpPr>
                <p:cNvPr id="2209" name=""/>
                <p:cNvGrpSpPr/>
                <p:nvPr/>
              </p:nvGrpSpPr>
              <p:grpSpPr>
                <a:xfrm>
                  <a:off x="795240" y="5216400"/>
                  <a:ext cx="231840" cy="189720"/>
                  <a:chOff x="795240" y="5216400"/>
                  <a:chExt cx="231840" cy="189720"/>
                </a:xfrm>
              </p:grpSpPr>
              <p:sp>
                <p:nvSpPr>
                  <p:cNvPr id="2210" name=""/>
                  <p:cNvSpPr/>
                  <p:nvPr/>
                </p:nvSpPr>
                <p:spPr>
                  <a:xfrm>
                    <a:off x="795240" y="521640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806400" y="537948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987480" y="537948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3" name=""/>
                <p:cNvGrpSpPr/>
                <p:nvPr/>
              </p:nvGrpSpPr>
              <p:grpSpPr>
                <a:xfrm>
                  <a:off x="873000" y="5173560"/>
                  <a:ext cx="74520" cy="28080"/>
                  <a:chOff x="873000" y="5173560"/>
                  <a:chExt cx="74520" cy="28080"/>
                </a:xfrm>
              </p:grpSpPr>
              <p:sp>
                <p:nvSpPr>
                  <p:cNvPr id="2214" name=""/>
                  <p:cNvSpPr/>
                  <p:nvPr/>
                </p:nvSpPr>
                <p:spPr>
                  <a:xfrm>
                    <a:off x="873000" y="51735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920520" y="5175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16" name=""/>
              <p:cNvSpPr/>
              <p:nvPr/>
            </p:nvSpPr>
            <p:spPr>
              <a:xfrm>
                <a:off x="1055520" y="51912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         RU-62 or  RU-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512640" y="4883040"/>
              <a:ext cx="2625840" cy="226800"/>
              <a:chOff x="512640" y="4883040"/>
              <a:chExt cx="2625840" cy="226800"/>
            </a:xfrm>
          </p:grpSpPr>
          <p:sp>
            <p:nvSpPr>
              <p:cNvPr id="2218" name=""/>
              <p:cNvSpPr/>
              <p:nvPr/>
            </p:nvSpPr>
            <p:spPr>
              <a:xfrm>
                <a:off x="512640" y="50180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056960" y="489420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ubmachine Gun Infantry  RU-1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0" name=""/>
              <p:cNvGrpSpPr/>
              <p:nvPr/>
            </p:nvGrpSpPr>
            <p:grpSpPr>
              <a:xfrm>
                <a:off x="795240" y="4883040"/>
                <a:ext cx="231480" cy="208080"/>
                <a:chOff x="795240" y="4883040"/>
                <a:chExt cx="231480" cy="208080"/>
              </a:xfrm>
            </p:grpSpPr>
            <p:grpSp>
              <p:nvGrpSpPr>
                <p:cNvPr id="2221" name=""/>
                <p:cNvGrpSpPr/>
                <p:nvPr/>
              </p:nvGrpSpPr>
              <p:grpSpPr>
                <a:xfrm>
                  <a:off x="795240" y="4933800"/>
                  <a:ext cx="231480" cy="157320"/>
                  <a:chOff x="795240" y="4933800"/>
                  <a:chExt cx="231480" cy="157320"/>
                </a:xfrm>
              </p:grpSpPr>
              <p:sp>
                <p:nvSpPr>
                  <p:cNvPr id="2222" name=""/>
                  <p:cNvSpPr/>
                  <p:nvPr/>
                </p:nvSpPr>
                <p:spPr>
                  <a:xfrm>
                    <a:off x="795240" y="493380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 flipV="1">
                    <a:off x="797400" y="4935600"/>
                    <a:ext cx="22536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795240" y="493596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5" name=""/>
                <p:cNvGrpSpPr/>
                <p:nvPr/>
              </p:nvGrpSpPr>
              <p:grpSpPr>
                <a:xfrm>
                  <a:off x="873000" y="4883040"/>
                  <a:ext cx="74520" cy="28080"/>
                  <a:chOff x="873000" y="4883040"/>
                  <a:chExt cx="74520" cy="28080"/>
                </a:xfrm>
              </p:grpSpPr>
              <p:sp>
                <p:nvSpPr>
                  <p:cNvPr id="2226" name=""/>
                  <p:cNvSpPr/>
                  <p:nvPr/>
                </p:nvSpPr>
                <p:spPr>
                  <a:xfrm>
                    <a:off x="873000" y="48830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920520" y="4884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28" name=""/>
            <p:cNvSpPr/>
            <p:nvPr/>
          </p:nvSpPr>
          <p:spPr>
            <a:xfrm>
              <a:off x="1244520" y="501624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"/>
          <p:cNvSpPr/>
          <p:nvPr/>
        </p:nvSpPr>
        <p:spPr>
          <a:xfrm>
            <a:off x="669960" y="252360"/>
            <a:ext cx="249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Maneuver Element - 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Recon Company Sept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320760" y="811080"/>
            <a:ext cx="3198600" cy="4376520"/>
            <a:chOff x="320760" y="811080"/>
            <a:chExt cx="3198600" cy="4376520"/>
          </a:xfrm>
        </p:grpSpPr>
        <p:grpSp>
          <p:nvGrpSpPr>
            <p:cNvPr id="2231" name=""/>
            <p:cNvGrpSpPr/>
            <p:nvPr/>
          </p:nvGrpSpPr>
          <p:grpSpPr>
            <a:xfrm>
              <a:off x="1057320" y="3394080"/>
              <a:ext cx="2322360" cy="1106280"/>
              <a:chOff x="1057320" y="3394080"/>
              <a:chExt cx="2322360" cy="1106280"/>
            </a:xfrm>
          </p:grpSpPr>
          <p:sp>
            <p:nvSpPr>
              <p:cNvPr id="2232" name=""/>
              <p:cNvSpPr/>
              <p:nvPr/>
            </p:nvSpPr>
            <p:spPr>
              <a:xfrm>
                <a:off x="1076400" y="3394080"/>
                <a:ext cx="0" cy="10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298520" y="42847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otorcycle w/sidecar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U-4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285920" y="4110120"/>
                <a:ext cx="1433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5" name=""/>
              <p:cNvGrpSpPr/>
              <p:nvPr/>
            </p:nvGrpSpPr>
            <p:grpSpPr>
              <a:xfrm>
                <a:off x="1057320" y="4252680"/>
                <a:ext cx="231480" cy="239400"/>
                <a:chOff x="1057320" y="4252680"/>
                <a:chExt cx="231480" cy="239400"/>
              </a:xfrm>
            </p:grpSpPr>
            <p:grpSp>
              <p:nvGrpSpPr>
                <p:cNvPr id="2236" name=""/>
                <p:cNvGrpSpPr/>
                <p:nvPr/>
              </p:nvGrpSpPr>
              <p:grpSpPr>
                <a:xfrm>
                  <a:off x="1136520" y="4252680"/>
                  <a:ext cx="73800" cy="28080"/>
                  <a:chOff x="1136520" y="4252680"/>
                  <a:chExt cx="73800" cy="28080"/>
                </a:xfrm>
              </p:grpSpPr>
              <p:sp>
                <p:nvSpPr>
                  <p:cNvPr id="2237" name=""/>
                  <p:cNvSpPr/>
                  <p:nvPr/>
                </p:nvSpPr>
                <p:spPr>
                  <a:xfrm>
                    <a:off x="1136520" y="425268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1183680" y="42541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9" name=""/>
                <p:cNvGrpSpPr/>
                <p:nvPr/>
              </p:nvGrpSpPr>
              <p:grpSpPr>
                <a:xfrm>
                  <a:off x="1057320" y="4301640"/>
                  <a:ext cx="231480" cy="190440"/>
                  <a:chOff x="1057320" y="4301640"/>
                  <a:chExt cx="231480" cy="190440"/>
                </a:xfrm>
              </p:grpSpPr>
              <p:sp>
                <p:nvSpPr>
                  <p:cNvPr id="2240" name=""/>
                  <p:cNvSpPr/>
                  <p:nvPr/>
                </p:nvSpPr>
                <p:spPr>
                  <a:xfrm>
                    <a:off x="1057320" y="430164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1158840" y="4465080"/>
                    <a:ext cx="2628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42" name=""/>
            <p:cNvSpPr/>
            <p:nvPr/>
          </p:nvSpPr>
          <p:spPr>
            <a:xfrm>
              <a:off x="446040" y="4971960"/>
              <a:ext cx="307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 replace with BA-10 - RU-61or BA-64B - RU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55760" y="1077840"/>
              <a:ext cx="1440" cy="364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4" name=""/>
            <p:cNvGrpSpPr/>
            <p:nvPr/>
          </p:nvGrpSpPr>
          <p:grpSpPr>
            <a:xfrm>
              <a:off x="458640" y="4595760"/>
              <a:ext cx="2681280" cy="242640"/>
              <a:chOff x="458640" y="4595760"/>
              <a:chExt cx="2681280" cy="242640"/>
            </a:xfrm>
          </p:grpSpPr>
          <p:grpSp>
            <p:nvGrpSpPr>
              <p:cNvPr id="2245" name=""/>
              <p:cNvGrpSpPr/>
              <p:nvPr/>
            </p:nvGrpSpPr>
            <p:grpSpPr>
              <a:xfrm>
                <a:off x="458640" y="4595760"/>
                <a:ext cx="554040" cy="225000"/>
                <a:chOff x="458640" y="4595760"/>
                <a:chExt cx="554040" cy="225000"/>
              </a:xfrm>
            </p:grpSpPr>
            <p:sp>
              <p:nvSpPr>
                <p:cNvPr id="2246" name=""/>
                <p:cNvSpPr/>
                <p:nvPr/>
              </p:nvSpPr>
              <p:spPr>
                <a:xfrm>
                  <a:off x="458640" y="471168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7" name=""/>
                <p:cNvGrpSpPr/>
                <p:nvPr/>
              </p:nvGrpSpPr>
              <p:grpSpPr>
                <a:xfrm>
                  <a:off x="720720" y="4595760"/>
                  <a:ext cx="291960" cy="225000"/>
                  <a:chOff x="720720" y="4595760"/>
                  <a:chExt cx="291960" cy="225000"/>
                </a:xfrm>
              </p:grpSpPr>
              <p:grpSp>
                <p:nvGrpSpPr>
                  <p:cNvPr id="2248" name=""/>
                  <p:cNvGrpSpPr/>
                  <p:nvPr/>
                </p:nvGrpSpPr>
                <p:grpSpPr>
                  <a:xfrm>
                    <a:off x="720720" y="4629960"/>
                    <a:ext cx="291960" cy="190800"/>
                    <a:chOff x="720720" y="4629960"/>
                    <a:chExt cx="291960" cy="190800"/>
                  </a:xfrm>
                </p:grpSpPr>
                <p:grpSp>
                  <p:nvGrpSpPr>
                    <p:cNvPr id="2249" name=""/>
                    <p:cNvGrpSpPr/>
                    <p:nvPr/>
                  </p:nvGrpSpPr>
                  <p:grpSpPr>
                    <a:xfrm>
                      <a:off x="720720" y="4630320"/>
                      <a:ext cx="291960" cy="190440"/>
                      <a:chOff x="720720" y="4630320"/>
                      <a:chExt cx="291960" cy="190440"/>
                    </a:xfrm>
                  </p:grpSpPr>
                  <p:sp>
                    <p:nvSpPr>
                      <p:cNvPr id="2250" name=""/>
                      <p:cNvSpPr/>
                      <p:nvPr/>
                    </p:nvSpPr>
                    <p:spPr>
                      <a:xfrm>
                        <a:off x="720720" y="4630320"/>
                        <a:ext cx="291960" cy="19044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1" name=""/>
                      <p:cNvSpPr/>
                      <p:nvPr/>
                    </p:nvSpPr>
                    <p:spPr>
                      <a:xfrm>
                        <a:off x="774360" y="4677840"/>
                        <a:ext cx="184320" cy="907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280" bIns="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2" name=""/>
                    <p:cNvSpPr/>
                    <p:nvPr/>
                  </p:nvSpPr>
                  <p:spPr>
                    <a:xfrm flipV="1">
                      <a:off x="720720" y="4629960"/>
                      <a:ext cx="287640" cy="190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3" name=""/>
                  <p:cNvGrpSpPr/>
                  <p:nvPr/>
                </p:nvGrpSpPr>
                <p:grpSpPr>
                  <a:xfrm>
                    <a:off x="799920" y="4595760"/>
                    <a:ext cx="131040" cy="26640"/>
                    <a:chOff x="799920" y="4595760"/>
                    <a:chExt cx="131040" cy="26640"/>
                  </a:xfrm>
                </p:grpSpPr>
                <p:sp>
                  <p:nvSpPr>
                    <p:cNvPr id="2254" name=""/>
                    <p:cNvSpPr/>
                    <p:nvPr/>
                  </p:nvSpPr>
                  <p:spPr>
                    <a:xfrm>
                      <a:off x="799920" y="45957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5" name=""/>
                    <p:cNvSpPr/>
                    <p:nvPr/>
                  </p:nvSpPr>
                  <p:spPr>
                    <a:xfrm>
                      <a:off x="850320" y="459576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6" name=""/>
                    <p:cNvSpPr/>
                    <p:nvPr/>
                  </p:nvSpPr>
                  <p:spPr>
                    <a:xfrm>
                      <a:off x="904320" y="45957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57" name=""/>
              <p:cNvSpPr/>
              <p:nvPr/>
            </p:nvSpPr>
            <p:spPr>
              <a:xfrm>
                <a:off x="1058760" y="46227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Armored Scout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460440" y="811080"/>
              <a:ext cx="2606760" cy="887040"/>
              <a:chOff x="460440" y="811080"/>
              <a:chExt cx="2606760" cy="887040"/>
            </a:xfrm>
          </p:grpSpPr>
          <p:sp>
            <p:nvSpPr>
              <p:cNvPr id="2259" name=""/>
              <p:cNvSpPr/>
              <p:nvPr/>
            </p:nvSpPr>
            <p:spPr>
              <a:xfrm>
                <a:off x="873000" y="81108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0" name=""/>
              <p:cNvGrpSpPr/>
              <p:nvPr/>
            </p:nvGrpSpPr>
            <p:grpSpPr>
              <a:xfrm>
                <a:off x="460440" y="1010880"/>
                <a:ext cx="2606760" cy="687240"/>
                <a:chOff x="460440" y="1010880"/>
                <a:chExt cx="2606760" cy="687240"/>
              </a:xfrm>
            </p:grpSpPr>
            <p:grpSp>
              <p:nvGrpSpPr>
                <p:cNvPr id="2261" name=""/>
                <p:cNvGrpSpPr/>
                <p:nvPr/>
              </p:nvGrpSpPr>
              <p:grpSpPr>
                <a:xfrm>
                  <a:off x="460440" y="1010880"/>
                  <a:ext cx="2606760" cy="360000"/>
                  <a:chOff x="460440" y="1010880"/>
                  <a:chExt cx="2606760" cy="360000"/>
                </a:xfrm>
              </p:grpSpPr>
              <p:sp>
                <p:nvSpPr>
                  <p:cNvPr id="2262" name=""/>
                  <p:cNvSpPr/>
                  <p:nvPr/>
                </p:nvSpPr>
                <p:spPr>
                  <a:xfrm>
                    <a:off x="987480" y="1010880"/>
                    <a:ext cx="8380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460440" y="126000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985680" y="1155240"/>
                    <a:ext cx="20815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RU-1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5" name=""/>
                  <p:cNvGrpSpPr/>
                  <p:nvPr/>
                </p:nvGrpSpPr>
                <p:grpSpPr>
                  <a:xfrm>
                    <a:off x="758880" y="1137960"/>
                    <a:ext cx="237960" cy="190440"/>
                    <a:chOff x="758880" y="1137960"/>
                    <a:chExt cx="237960" cy="190440"/>
                  </a:xfrm>
                </p:grpSpPr>
                <p:sp>
                  <p:nvSpPr>
                    <p:cNvPr id="2266" name=""/>
                    <p:cNvSpPr/>
                    <p:nvPr/>
                  </p:nvSpPr>
                  <p:spPr>
                    <a:xfrm>
                      <a:off x="758880" y="1171440"/>
                      <a:ext cx="23796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7" name=""/>
                    <p:cNvSpPr/>
                    <p:nvPr/>
                  </p:nvSpPr>
                  <p:spPr>
                    <a:xfrm>
                      <a:off x="866520" y="113796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8" name=""/>
                <p:cNvGrpSpPr/>
                <p:nvPr/>
              </p:nvGrpSpPr>
              <p:grpSpPr>
                <a:xfrm>
                  <a:off x="809640" y="1331640"/>
                  <a:ext cx="1825560" cy="366480"/>
                  <a:chOff x="809640" y="1331640"/>
                  <a:chExt cx="1825560" cy="366480"/>
                </a:xfrm>
              </p:grpSpPr>
              <p:sp>
                <p:nvSpPr>
                  <p:cNvPr id="2269" name=""/>
                  <p:cNvSpPr/>
                  <p:nvPr/>
                </p:nvSpPr>
                <p:spPr>
                  <a:xfrm>
                    <a:off x="860400" y="1331640"/>
                    <a:ext cx="0" cy="282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1035000" y="1482480"/>
                    <a:ext cx="16002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Jeep         U-P17 or US-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71" name=""/>
                  <p:cNvGrpSpPr/>
                  <p:nvPr/>
                </p:nvGrpSpPr>
                <p:grpSpPr>
                  <a:xfrm>
                    <a:off x="809640" y="1456920"/>
                    <a:ext cx="231840" cy="223560"/>
                    <a:chOff x="809640" y="1456920"/>
                    <a:chExt cx="231840" cy="223560"/>
                  </a:xfrm>
                </p:grpSpPr>
                <p:sp>
                  <p:nvSpPr>
                    <p:cNvPr id="2272" name=""/>
                    <p:cNvSpPr/>
                    <p:nvPr/>
                  </p:nvSpPr>
                  <p:spPr>
                    <a:xfrm>
                      <a:off x="911160" y="14569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73" name=""/>
                    <p:cNvGrpSpPr/>
                    <p:nvPr/>
                  </p:nvGrpSpPr>
                  <p:grpSpPr>
                    <a:xfrm>
                      <a:off x="809640" y="1490040"/>
                      <a:ext cx="231840" cy="190440"/>
                      <a:chOff x="809640" y="1490040"/>
                      <a:chExt cx="231840" cy="190440"/>
                    </a:xfrm>
                  </p:grpSpPr>
                  <p:sp>
                    <p:nvSpPr>
                      <p:cNvPr id="2274" name=""/>
                      <p:cNvSpPr/>
                      <p:nvPr/>
                    </p:nvSpPr>
                    <p:spPr>
                      <a:xfrm>
                        <a:off x="809640" y="149004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5" name=""/>
                      <p:cNvSpPr/>
                      <p:nvPr/>
                    </p:nvSpPr>
                    <p:spPr>
                      <a:xfrm>
                        <a:off x="820800" y="165348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6" name=""/>
                      <p:cNvSpPr/>
                      <p:nvPr/>
                    </p:nvSpPr>
                    <p:spPr>
                      <a:xfrm>
                        <a:off x="1001880" y="165348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77" name=""/>
                  <p:cNvSpPr/>
                  <p:nvPr/>
                </p:nvSpPr>
                <p:spPr>
                  <a:xfrm>
                    <a:off x="1193760" y="1342800"/>
                    <a:ext cx="6336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78" name=""/>
            <p:cNvGrpSpPr/>
            <p:nvPr/>
          </p:nvGrpSpPr>
          <p:grpSpPr>
            <a:xfrm>
              <a:off x="1335240" y="3130560"/>
              <a:ext cx="2081160" cy="360360"/>
              <a:chOff x="1335240" y="3130560"/>
              <a:chExt cx="2081160" cy="360360"/>
            </a:xfrm>
          </p:grpSpPr>
          <p:sp>
            <p:nvSpPr>
              <p:cNvPr id="2279" name=""/>
              <p:cNvSpPr/>
              <p:nvPr/>
            </p:nvSpPr>
            <p:spPr>
              <a:xfrm>
                <a:off x="1336680" y="3130560"/>
                <a:ext cx="83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335240" y="32752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          RU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1" name=""/>
            <p:cNvSpPr/>
            <p:nvPr/>
          </p:nvSpPr>
          <p:spPr>
            <a:xfrm>
              <a:off x="790560" y="340848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2" name=""/>
            <p:cNvGrpSpPr/>
            <p:nvPr/>
          </p:nvGrpSpPr>
          <p:grpSpPr>
            <a:xfrm>
              <a:off x="1049400" y="3286080"/>
              <a:ext cx="237960" cy="190440"/>
              <a:chOff x="1049400" y="3286080"/>
              <a:chExt cx="237960" cy="190440"/>
            </a:xfrm>
          </p:grpSpPr>
          <p:sp>
            <p:nvSpPr>
              <p:cNvPr id="2283" name=""/>
              <p:cNvSpPr/>
              <p:nvPr/>
            </p:nvSpPr>
            <p:spPr>
              <a:xfrm>
                <a:off x="1049400" y="3319560"/>
                <a:ext cx="23796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157040" y="3286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798480" y="3767040"/>
              <a:ext cx="2614680" cy="365040"/>
              <a:chOff x="798480" y="3767040"/>
              <a:chExt cx="2614680" cy="365040"/>
            </a:xfrm>
          </p:grpSpPr>
          <p:sp>
            <p:nvSpPr>
              <p:cNvPr id="2286" name=""/>
              <p:cNvSpPr/>
              <p:nvPr/>
            </p:nvSpPr>
            <p:spPr>
              <a:xfrm>
                <a:off x="798480" y="4025880"/>
                <a:ext cx="36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7" name=""/>
              <p:cNvGrpSpPr/>
              <p:nvPr/>
            </p:nvGrpSpPr>
            <p:grpSpPr>
              <a:xfrm>
                <a:off x="1054080" y="3889440"/>
                <a:ext cx="245880" cy="214200"/>
                <a:chOff x="1054080" y="3889440"/>
                <a:chExt cx="245880" cy="214200"/>
              </a:xfrm>
            </p:grpSpPr>
            <p:grpSp>
              <p:nvGrpSpPr>
                <p:cNvPr id="2288" name=""/>
                <p:cNvGrpSpPr/>
                <p:nvPr/>
              </p:nvGrpSpPr>
              <p:grpSpPr>
                <a:xfrm>
                  <a:off x="1054080" y="3935520"/>
                  <a:ext cx="245880" cy="168120"/>
                  <a:chOff x="1054080" y="3935520"/>
                  <a:chExt cx="245880" cy="168120"/>
                </a:xfrm>
              </p:grpSpPr>
              <p:sp>
                <p:nvSpPr>
                  <p:cNvPr id="2289" name=""/>
                  <p:cNvSpPr/>
                  <p:nvPr/>
                </p:nvSpPr>
                <p:spPr>
                  <a:xfrm>
                    <a:off x="1054080" y="3935520"/>
                    <a:ext cx="245880" cy="1681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1065240" y="394992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 flipV="1">
                    <a:off x="1065240" y="3949560"/>
                    <a:ext cx="22032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1060200" y="3949920"/>
                    <a:ext cx="52560" cy="13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3" name=""/>
                <p:cNvGrpSpPr/>
                <p:nvPr/>
              </p:nvGrpSpPr>
              <p:grpSpPr>
                <a:xfrm>
                  <a:off x="1139400" y="3889440"/>
                  <a:ext cx="73800" cy="28080"/>
                  <a:chOff x="1139400" y="3889440"/>
                  <a:chExt cx="73800" cy="28080"/>
                </a:xfrm>
              </p:grpSpPr>
              <p:sp>
                <p:nvSpPr>
                  <p:cNvPr id="2294" name=""/>
                  <p:cNvSpPr/>
                  <p:nvPr/>
                </p:nvSpPr>
                <p:spPr>
                  <a:xfrm>
                    <a:off x="1139400" y="388944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1186560" y="38908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96" name=""/>
              <p:cNvSpPr/>
              <p:nvPr/>
            </p:nvSpPr>
            <p:spPr>
              <a:xfrm>
                <a:off x="1332000" y="39164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Machine Gun     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U-2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293840" y="3767040"/>
                <a:ext cx="1433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Rec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8" name=""/>
            <p:cNvSpPr/>
            <p:nvPr/>
          </p:nvSpPr>
          <p:spPr>
            <a:xfrm flipH="1">
              <a:off x="433080" y="3051000"/>
              <a:ext cx="298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9" name=""/>
            <p:cNvGrpSpPr/>
            <p:nvPr/>
          </p:nvGrpSpPr>
          <p:grpSpPr>
            <a:xfrm>
              <a:off x="795240" y="3471840"/>
              <a:ext cx="2581200" cy="325080"/>
              <a:chOff x="795240" y="3471840"/>
              <a:chExt cx="2581200" cy="325080"/>
            </a:xfrm>
          </p:grpSpPr>
          <p:grpSp>
            <p:nvGrpSpPr>
              <p:cNvPr id="2300" name=""/>
              <p:cNvGrpSpPr/>
              <p:nvPr/>
            </p:nvGrpSpPr>
            <p:grpSpPr>
              <a:xfrm>
                <a:off x="795240" y="3574800"/>
                <a:ext cx="2581200" cy="222120"/>
                <a:chOff x="795240" y="3574800"/>
                <a:chExt cx="2581200" cy="222120"/>
              </a:xfrm>
            </p:grpSpPr>
            <p:sp>
              <p:nvSpPr>
                <p:cNvPr id="2301" name=""/>
                <p:cNvSpPr/>
                <p:nvPr/>
              </p:nvSpPr>
              <p:spPr>
                <a:xfrm>
                  <a:off x="795240" y="36986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1295280" y="35812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fantry                                RU-1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3" name=""/>
                <p:cNvGrpSpPr/>
                <p:nvPr/>
              </p:nvGrpSpPr>
              <p:grpSpPr>
                <a:xfrm>
                  <a:off x="1055520" y="3574800"/>
                  <a:ext cx="231840" cy="200160"/>
                  <a:chOff x="1055520" y="3574800"/>
                  <a:chExt cx="231840" cy="200160"/>
                </a:xfrm>
              </p:grpSpPr>
              <p:grpSp>
                <p:nvGrpSpPr>
                  <p:cNvPr id="2304" name=""/>
                  <p:cNvGrpSpPr/>
                  <p:nvPr/>
                </p:nvGrpSpPr>
                <p:grpSpPr>
                  <a:xfrm>
                    <a:off x="1130400" y="3574800"/>
                    <a:ext cx="74520" cy="28800"/>
                    <a:chOff x="1130400" y="3574800"/>
                    <a:chExt cx="74520" cy="28800"/>
                  </a:xfrm>
                </p:grpSpPr>
                <p:sp>
                  <p:nvSpPr>
                    <p:cNvPr id="2305" name=""/>
                    <p:cNvSpPr/>
                    <p:nvPr/>
                  </p:nvSpPr>
                  <p:spPr>
                    <a:xfrm>
                      <a:off x="1130400" y="35748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6" name=""/>
                    <p:cNvSpPr/>
                    <p:nvPr/>
                  </p:nvSpPr>
                  <p:spPr>
                    <a:xfrm>
                      <a:off x="1177920" y="35766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7" name=""/>
                  <p:cNvGrpSpPr/>
                  <p:nvPr/>
                </p:nvGrpSpPr>
                <p:grpSpPr>
                  <a:xfrm>
                    <a:off x="1055520" y="3618000"/>
                    <a:ext cx="231840" cy="156960"/>
                    <a:chOff x="1055520" y="3618000"/>
                    <a:chExt cx="231840" cy="156960"/>
                  </a:xfrm>
                </p:grpSpPr>
                <p:sp>
                  <p:nvSpPr>
                    <p:cNvPr id="2308" name=""/>
                    <p:cNvSpPr/>
                    <p:nvPr/>
                  </p:nvSpPr>
                  <p:spPr>
                    <a:xfrm>
                      <a:off x="1055520" y="3618000"/>
                      <a:ext cx="23184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9" name=""/>
                    <p:cNvSpPr/>
                    <p:nvPr/>
                  </p:nvSpPr>
                  <p:spPr>
                    <a:xfrm flipV="1">
                      <a:off x="1057680" y="3620160"/>
                      <a:ext cx="22572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0" name=""/>
                    <p:cNvSpPr/>
                    <p:nvPr/>
                  </p:nvSpPr>
                  <p:spPr>
                    <a:xfrm>
                      <a:off x="1055520" y="3620160"/>
                      <a:ext cx="23076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11" name=""/>
              <p:cNvSpPr/>
              <p:nvPr/>
            </p:nvSpPr>
            <p:spPr>
              <a:xfrm>
                <a:off x="1303200" y="3471840"/>
                <a:ext cx="1433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Rec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2" name=""/>
            <p:cNvSpPr/>
            <p:nvPr/>
          </p:nvSpPr>
          <p:spPr>
            <a:xfrm flipH="1">
              <a:off x="785880" y="3076560"/>
              <a:ext cx="7920" cy="9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227240" y="2886120"/>
              <a:ext cx="172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otorcycle Plato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4" name=""/>
            <p:cNvGrpSpPr/>
            <p:nvPr/>
          </p:nvGrpSpPr>
          <p:grpSpPr>
            <a:xfrm>
              <a:off x="719280" y="2874960"/>
              <a:ext cx="290520" cy="309600"/>
              <a:chOff x="719280" y="2874960"/>
              <a:chExt cx="290520" cy="309600"/>
            </a:xfrm>
          </p:grpSpPr>
          <p:sp>
            <p:nvSpPr>
              <p:cNvPr id="2315" name=""/>
              <p:cNvSpPr/>
              <p:nvPr/>
            </p:nvSpPr>
            <p:spPr>
              <a:xfrm>
                <a:off x="719280" y="2946240"/>
                <a:ext cx="290520" cy="1969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6" name=""/>
              <p:cNvGrpSpPr/>
              <p:nvPr/>
            </p:nvGrpSpPr>
            <p:grpSpPr>
              <a:xfrm>
                <a:off x="719280" y="2874960"/>
                <a:ext cx="289080" cy="309600"/>
                <a:chOff x="719280" y="2874960"/>
                <a:chExt cx="289080" cy="309600"/>
              </a:xfrm>
            </p:grpSpPr>
            <p:sp>
              <p:nvSpPr>
                <p:cNvPr id="2317" name=""/>
                <p:cNvSpPr/>
                <p:nvPr/>
              </p:nvSpPr>
              <p:spPr>
                <a:xfrm>
                  <a:off x="846360" y="3151080"/>
                  <a:ext cx="34920" cy="3348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8" name=""/>
                <p:cNvGrpSpPr/>
                <p:nvPr/>
              </p:nvGrpSpPr>
              <p:grpSpPr>
                <a:xfrm>
                  <a:off x="719280" y="2874960"/>
                  <a:ext cx="289080" cy="266400"/>
                  <a:chOff x="719280" y="2874960"/>
                  <a:chExt cx="289080" cy="266400"/>
                </a:xfrm>
              </p:grpSpPr>
              <p:sp>
                <p:nvSpPr>
                  <p:cNvPr id="2319" name=""/>
                  <p:cNvSpPr/>
                  <p:nvPr/>
                </p:nvSpPr>
                <p:spPr>
                  <a:xfrm flipV="1">
                    <a:off x="719280" y="2945880"/>
                    <a:ext cx="289080" cy="195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20" name=""/>
                  <p:cNvGrpSpPr/>
                  <p:nvPr/>
                </p:nvGrpSpPr>
                <p:grpSpPr>
                  <a:xfrm>
                    <a:off x="778320" y="2874960"/>
                    <a:ext cx="131760" cy="27000"/>
                    <a:chOff x="778320" y="2874960"/>
                    <a:chExt cx="131760" cy="27000"/>
                  </a:xfrm>
                </p:grpSpPr>
                <p:sp>
                  <p:nvSpPr>
                    <p:cNvPr id="2321" name=""/>
                    <p:cNvSpPr/>
                    <p:nvPr/>
                  </p:nvSpPr>
                  <p:spPr>
                    <a:xfrm>
                      <a:off x="778320" y="28749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2" name=""/>
                    <p:cNvSpPr/>
                    <p:nvPr/>
                  </p:nvSpPr>
                  <p:spPr>
                    <a:xfrm>
                      <a:off x="829080" y="28749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3" name=""/>
                    <p:cNvSpPr/>
                    <p:nvPr/>
                  </p:nvSpPr>
                  <p:spPr>
                    <a:xfrm>
                      <a:off x="883080" y="28749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24" name=""/>
            <p:cNvGrpSpPr/>
            <p:nvPr/>
          </p:nvGrpSpPr>
          <p:grpSpPr>
            <a:xfrm>
              <a:off x="472680" y="1844640"/>
              <a:ext cx="2579760" cy="855000"/>
              <a:chOff x="472680" y="1844640"/>
              <a:chExt cx="2579760" cy="855000"/>
            </a:xfrm>
          </p:grpSpPr>
          <p:sp>
            <p:nvSpPr>
              <p:cNvPr id="2325" name=""/>
              <p:cNvSpPr/>
              <p:nvPr/>
            </p:nvSpPr>
            <p:spPr>
              <a:xfrm flipH="1">
                <a:off x="472680" y="1993680"/>
                <a:ext cx="29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909360" y="2011320"/>
                <a:ext cx="0" cy="59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898200" y="2338200"/>
                <a:ext cx="25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904680" y="2584440"/>
                <a:ext cx="25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422360" y="1987560"/>
                <a:ext cx="163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mored Car Plato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422360" y="215244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422000" y="2287440"/>
                <a:ext cx="1411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BA-20 (a)       RU-P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1422000" y="2543040"/>
                <a:ext cx="1411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BA-20 (a)       RU-P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3" name=""/>
              <p:cNvGrpSpPr/>
              <p:nvPr/>
            </p:nvGrpSpPr>
            <p:grpSpPr>
              <a:xfrm>
                <a:off x="1054080" y="2212920"/>
                <a:ext cx="231480" cy="221760"/>
                <a:chOff x="1054080" y="2212920"/>
                <a:chExt cx="231480" cy="221760"/>
              </a:xfrm>
            </p:grpSpPr>
            <p:grpSp>
              <p:nvGrpSpPr>
                <p:cNvPr id="2334" name=""/>
                <p:cNvGrpSpPr/>
                <p:nvPr/>
              </p:nvGrpSpPr>
              <p:grpSpPr>
                <a:xfrm>
                  <a:off x="1054080" y="2244240"/>
                  <a:ext cx="231480" cy="190440"/>
                  <a:chOff x="1054080" y="2244240"/>
                  <a:chExt cx="231480" cy="190440"/>
                </a:xfrm>
              </p:grpSpPr>
              <p:sp>
                <p:nvSpPr>
                  <p:cNvPr id="2335" name=""/>
                  <p:cNvSpPr/>
                  <p:nvPr/>
                </p:nvSpPr>
                <p:spPr>
                  <a:xfrm>
                    <a:off x="1054080" y="224460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1064520" y="240768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1246320" y="2407680"/>
                    <a:ext cx="2736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1087200" y="2286000"/>
                    <a:ext cx="1612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 flipV="1">
                    <a:off x="1056240" y="2244240"/>
                    <a:ext cx="2275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0" name=""/>
                <p:cNvGrpSpPr/>
                <p:nvPr/>
              </p:nvGrpSpPr>
              <p:grpSpPr>
                <a:xfrm>
                  <a:off x="1131840" y="2212920"/>
                  <a:ext cx="74160" cy="27000"/>
                  <a:chOff x="1131840" y="2212920"/>
                  <a:chExt cx="74160" cy="27000"/>
                </a:xfrm>
              </p:grpSpPr>
              <p:sp>
                <p:nvSpPr>
                  <p:cNvPr id="2341" name=""/>
                  <p:cNvSpPr/>
                  <p:nvPr/>
                </p:nvSpPr>
                <p:spPr>
                  <a:xfrm>
                    <a:off x="1131840" y="22129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1179360" y="22129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3" name=""/>
              <p:cNvGrpSpPr/>
              <p:nvPr/>
            </p:nvGrpSpPr>
            <p:grpSpPr>
              <a:xfrm>
                <a:off x="1054080" y="2477880"/>
                <a:ext cx="231480" cy="221760"/>
                <a:chOff x="1054080" y="2477880"/>
                <a:chExt cx="231480" cy="221760"/>
              </a:xfrm>
            </p:grpSpPr>
            <p:grpSp>
              <p:nvGrpSpPr>
                <p:cNvPr id="2344" name=""/>
                <p:cNvGrpSpPr/>
                <p:nvPr/>
              </p:nvGrpSpPr>
              <p:grpSpPr>
                <a:xfrm>
                  <a:off x="1054080" y="2509200"/>
                  <a:ext cx="231480" cy="190440"/>
                  <a:chOff x="1054080" y="2509200"/>
                  <a:chExt cx="231480" cy="190440"/>
                </a:xfrm>
              </p:grpSpPr>
              <p:sp>
                <p:nvSpPr>
                  <p:cNvPr id="2345" name=""/>
                  <p:cNvSpPr/>
                  <p:nvPr/>
                </p:nvSpPr>
                <p:spPr>
                  <a:xfrm>
                    <a:off x="1054080" y="250956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1064520" y="267264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1246320" y="2672640"/>
                    <a:ext cx="2736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1087200" y="2550960"/>
                    <a:ext cx="1612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 flipV="1">
                    <a:off x="1056240" y="2509200"/>
                    <a:ext cx="2275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0" name=""/>
                <p:cNvGrpSpPr/>
                <p:nvPr/>
              </p:nvGrpSpPr>
              <p:grpSpPr>
                <a:xfrm>
                  <a:off x="1131840" y="2477880"/>
                  <a:ext cx="74160" cy="27000"/>
                  <a:chOff x="1131840" y="2477880"/>
                  <a:chExt cx="74160" cy="27000"/>
                </a:xfrm>
              </p:grpSpPr>
              <p:sp>
                <p:nvSpPr>
                  <p:cNvPr id="2351" name=""/>
                  <p:cNvSpPr/>
                  <p:nvPr/>
                </p:nvSpPr>
                <p:spPr>
                  <a:xfrm>
                    <a:off x="1131840" y="24778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1179360" y="24778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53" name=""/>
              <p:cNvGrpSpPr/>
              <p:nvPr/>
            </p:nvGrpSpPr>
            <p:grpSpPr>
              <a:xfrm>
                <a:off x="768240" y="1844640"/>
                <a:ext cx="284040" cy="293040"/>
                <a:chOff x="768240" y="1844640"/>
                <a:chExt cx="284040" cy="293040"/>
              </a:xfrm>
            </p:grpSpPr>
            <p:grpSp>
              <p:nvGrpSpPr>
                <p:cNvPr id="2354" name=""/>
                <p:cNvGrpSpPr/>
                <p:nvPr/>
              </p:nvGrpSpPr>
              <p:grpSpPr>
                <a:xfrm>
                  <a:off x="768240" y="1904760"/>
                  <a:ext cx="284040" cy="232920"/>
                  <a:chOff x="768240" y="1904760"/>
                  <a:chExt cx="284040" cy="232920"/>
                </a:xfrm>
              </p:grpSpPr>
              <p:sp>
                <p:nvSpPr>
                  <p:cNvPr id="2355" name=""/>
                  <p:cNvSpPr/>
                  <p:nvPr/>
                </p:nvSpPr>
                <p:spPr>
                  <a:xfrm>
                    <a:off x="768240" y="1904760"/>
                    <a:ext cx="284040" cy="192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781200" y="2104560"/>
                    <a:ext cx="33120" cy="331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1004040" y="2104560"/>
                    <a:ext cx="33480" cy="331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808560" y="1955520"/>
                    <a:ext cx="198000" cy="918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 flipV="1">
                    <a:off x="771120" y="1904760"/>
                    <a:ext cx="279360" cy="186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0" name=""/>
                <p:cNvGrpSpPr/>
                <p:nvPr/>
              </p:nvGrpSpPr>
              <p:grpSpPr>
                <a:xfrm>
                  <a:off x="834840" y="1844640"/>
                  <a:ext cx="131760" cy="27000"/>
                  <a:chOff x="834840" y="1844640"/>
                  <a:chExt cx="131760" cy="27000"/>
                </a:xfrm>
              </p:grpSpPr>
              <p:sp>
                <p:nvSpPr>
                  <p:cNvPr id="2361" name=""/>
                  <p:cNvSpPr/>
                  <p:nvPr/>
                </p:nvSpPr>
                <p:spPr>
                  <a:xfrm>
                    <a:off x="834840" y="18446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885600" y="18446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939600" y="18446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64" name=""/>
            <p:cNvGrpSpPr/>
            <p:nvPr/>
          </p:nvGrpSpPr>
          <p:grpSpPr>
            <a:xfrm>
              <a:off x="320760" y="817560"/>
              <a:ext cx="274680" cy="294840"/>
              <a:chOff x="320760" y="817560"/>
              <a:chExt cx="274680" cy="294840"/>
            </a:xfrm>
          </p:grpSpPr>
          <p:grpSp>
            <p:nvGrpSpPr>
              <p:cNvPr id="2365" name=""/>
              <p:cNvGrpSpPr/>
              <p:nvPr/>
            </p:nvGrpSpPr>
            <p:grpSpPr>
              <a:xfrm>
                <a:off x="320760" y="887400"/>
                <a:ext cx="274680" cy="225000"/>
                <a:chOff x="320760" y="887400"/>
                <a:chExt cx="274680" cy="22500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320760" y="887400"/>
                  <a:ext cx="274680" cy="1857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V="1">
                  <a:off x="320760" y="887400"/>
                  <a:ext cx="273240" cy="184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333360" y="1080000"/>
                  <a:ext cx="32040" cy="324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49000" y="1080000"/>
                  <a:ext cx="32040" cy="324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0" name=""/>
              <p:cNvSpPr/>
              <p:nvPr/>
            </p:nvSpPr>
            <p:spPr>
              <a:xfrm>
                <a:off x="461880" y="8175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1" name=""/>
          <p:cNvGrpSpPr/>
          <p:nvPr/>
        </p:nvGrpSpPr>
        <p:grpSpPr>
          <a:xfrm>
            <a:off x="266760" y="5273640"/>
            <a:ext cx="3474720" cy="1355760"/>
            <a:chOff x="266760" y="5273640"/>
            <a:chExt cx="3474720" cy="1355760"/>
          </a:xfrm>
        </p:grpSpPr>
        <p:grpSp>
          <p:nvGrpSpPr>
            <p:cNvPr id="2372" name=""/>
            <p:cNvGrpSpPr/>
            <p:nvPr/>
          </p:nvGrpSpPr>
          <p:grpSpPr>
            <a:xfrm>
              <a:off x="730080" y="6284880"/>
              <a:ext cx="2868480" cy="344520"/>
              <a:chOff x="730080" y="6284880"/>
              <a:chExt cx="2868480" cy="344520"/>
            </a:xfrm>
          </p:grpSpPr>
          <p:sp>
            <p:nvSpPr>
              <p:cNvPr id="2373" name=""/>
              <p:cNvSpPr/>
              <p:nvPr/>
            </p:nvSpPr>
            <p:spPr>
              <a:xfrm>
                <a:off x="920520" y="6292800"/>
                <a:ext cx="0" cy="16992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4" name=""/>
              <p:cNvGrpSpPr/>
              <p:nvPr/>
            </p:nvGrpSpPr>
            <p:grpSpPr>
              <a:xfrm>
                <a:off x="730080" y="6383160"/>
                <a:ext cx="231480" cy="246240"/>
                <a:chOff x="730080" y="6383160"/>
                <a:chExt cx="231480" cy="246240"/>
              </a:xfrm>
            </p:grpSpPr>
            <p:grpSp>
              <p:nvGrpSpPr>
                <p:cNvPr id="2375" name=""/>
                <p:cNvGrpSpPr/>
                <p:nvPr/>
              </p:nvGrpSpPr>
              <p:grpSpPr>
                <a:xfrm>
                  <a:off x="807840" y="6383160"/>
                  <a:ext cx="74520" cy="28800"/>
                  <a:chOff x="807840" y="6383160"/>
                  <a:chExt cx="74520" cy="28800"/>
                </a:xfrm>
              </p:grpSpPr>
              <p:sp>
                <p:nvSpPr>
                  <p:cNvPr id="2376" name=""/>
                  <p:cNvSpPr/>
                  <p:nvPr/>
                </p:nvSpPr>
                <p:spPr>
                  <a:xfrm>
                    <a:off x="807840" y="63831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>
                    <a:off x="855360" y="63849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8" name=""/>
                <p:cNvGrpSpPr/>
                <p:nvPr/>
              </p:nvGrpSpPr>
              <p:grpSpPr>
                <a:xfrm>
                  <a:off x="730080" y="6438960"/>
                  <a:ext cx="231480" cy="190440"/>
                  <a:chOff x="730080" y="6438960"/>
                  <a:chExt cx="231480" cy="190440"/>
                </a:xfrm>
              </p:grpSpPr>
              <p:sp>
                <p:nvSpPr>
                  <p:cNvPr id="2379" name=""/>
                  <p:cNvSpPr/>
                  <p:nvPr/>
                </p:nvSpPr>
                <p:spPr>
                  <a:xfrm>
                    <a:off x="730080" y="643896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>
                    <a:off x="740880" y="6602400"/>
                    <a:ext cx="266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921960" y="6602400"/>
                    <a:ext cx="2808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82" name=""/>
              <p:cNvSpPr/>
              <p:nvPr/>
            </p:nvSpPr>
            <p:spPr>
              <a:xfrm>
                <a:off x="1056960" y="637848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Prime Mover                       RU-P2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031400" y="628488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4" name=""/>
            <p:cNvSpPr/>
            <p:nvPr/>
          </p:nvSpPr>
          <p:spPr>
            <a:xfrm>
              <a:off x="541080" y="5273640"/>
              <a:ext cx="3200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Maneuver Element- 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37920" y="557676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Separate) Antitank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6" name=""/>
            <p:cNvGrpSpPr/>
            <p:nvPr/>
          </p:nvGrpSpPr>
          <p:grpSpPr>
            <a:xfrm>
              <a:off x="414360" y="6060960"/>
              <a:ext cx="3155400" cy="306360"/>
              <a:chOff x="414360" y="6060960"/>
              <a:chExt cx="3155400" cy="306360"/>
            </a:xfrm>
          </p:grpSpPr>
          <p:sp>
            <p:nvSpPr>
              <p:cNvPr id="2387" name=""/>
              <p:cNvSpPr/>
              <p:nvPr/>
            </p:nvSpPr>
            <p:spPr>
              <a:xfrm>
                <a:off x="892080" y="6060960"/>
                <a:ext cx="0" cy="16992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414360" y="6232320"/>
                <a:ext cx="29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028520" y="6121080"/>
                <a:ext cx="254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85mm Anti-Aircraft Gun       RU-P1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0" name=""/>
              <p:cNvGrpSpPr/>
              <p:nvPr/>
            </p:nvGrpSpPr>
            <p:grpSpPr>
              <a:xfrm>
                <a:off x="714240" y="6121080"/>
                <a:ext cx="231480" cy="204840"/>
                <a:chOff x="714240" y="6121080"/>
                <a:chExt cx="231480" cy="204840"/>
              </a:xfrm>
            </p:grpSpPr>
            <p:grpSp>
              <p:nvGrpSpPr>
                <p:cNvPr id="2391" name=""/>
                <p:cNvGrpSpPr/>
                <p:nvPr/>
              </p:nvGrpSpPr>
              <p:grpSpPr>
                <a:xfrm>
                  <a:off x="791640" y="6121080"/>
                  <a:ext cx="73800" cy="28800"/>
                  <a:chOff x="791640" y="6121080"/>
                  <a:chExt cx="73800" cy="28800"/>
                </a:xfrm>
              </p:grpSpPr>
              <p:sp>
                <p:nvSpPr>
                  <p:cNvPr id="2392" name=""/>
                  <p:cNvSpPr/>
                  <p:nvPr/>
                </p:nvSpPr>
                <p:spPr>
                  <a:xfrm>
                    <a:off x="791640" y="61210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838800" y="61228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4" name=""/>
                <p:cNvGrpSpPr/>
                <p:nvPr/>
              </p:nvGrpSpPr>
              <p:grpSpPr>
                <a:xfrm>
                  <a:off x="714240" y="6168960"/>
                  <a:ext cx="231480" cy="156960"/>
                  <a:chOff x="714240" y="6168960"/>
                  <a:chExt cx="231480" cy="156960"/>
                </a:xfrm>
              </p:grpSpPr>
              <p:sp>
                <p:nvSpPr>
                  <p:cNvPr id="2395" name=""/>
                  <p:cNvSpPr/>
                  <p:nvPr/>
                </p:nvSpPr>
                <p:spPr>
                  <a:xfrm>
                    <a:off x="714240" y="616896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 flipV="1">
                    <a:off x="714240" y="6172200"/>
                    <a:ext cx="113760" cy="15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828000" y="6168960"/>
                    <a:ext cx="1137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8" name=""/>
            <p:cNvGrpSpPr/>
            <p:nvPr/>
          </p:nvGrpSpPr>
          <p:grpSpPr>
            <a:xfrm>
              <a:off x="408960" y="5786280"/>
              <a:ext cx="3161160" cy="341280"/>
              <a:chOff x="408960" y="5786280"/>
              <a:chExt cx="3161160" cy="341280"/>
            </a:xfrm>
          </p:grpSpPr>
          <p:sp>
            <p:nvSpPr>
              <p:cNvPr id="2399" name=""/>
              <p:cNvSpPr/>
              <p:nvPr/>
            </p:nvSpPr>
            <p:spPr>
              <a:xfrm>
                <a:off x="1019160" y="5881320"/>
                <a:ext cx="255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           RU-1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408960" y="6005160"/>
                <a:ext cx="29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028520" y="578628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2" name=""/>
              <p:cNvGrpSpPr/>
              <p:nvPr/>
            </p:nvGrpSpPr>
            <p:grpSpPr>
              <a:xfrm>
                <a:off x="706320" y="5870520"/>
                <a:ext cx="237960" cy="210960"/>
                <a:chOff x="706320" y="5870520"/>
                <a:chExt cx="237960" cy="210960"/>
              </a:xfrm>
            </p:grpSpPr>
            <p:sp>
              <p:nvSpPr>
                <p:cNvPr id="2403" name=""/>
                <p:cNvSpPr/>
                <p:nvPr/>
              </p:nvSpPr>
              <p:spPr>
                <a:xfrm>
                  <a:off x="706320" y="5924160"/>
                  <a:ext cx="23796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804600" y="5870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05" name=""/>
            <p:cNvGrpSpPr/>
            <p:nvPr/>
          </p:nvGrpSpPr>
          <p:grpSpPr>
            <a:xfrm>
              <a:off x="266760" y="5530680"/>
              <a:ext cx="284040" cy="250920"/>
              <a:chOff x="266760" y="5530680"/>
              <a:chExt cx="284040" cy="250920"/>
            </a:xfrm>
          </p:grpSpPr>
          <p:sp>
            <p:nvSpPr>
              <p:cNvPr id="2406" name=""/>
              <p:cNvSpPr/>
              <p:nvPr/>
            </p:nvSpPr>
            <p:spPr>
              <a:xfrm>
                <a:off x="407880" y="55306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7" name=""/>
              <p:cNvGrpSpPr/>
              <p:nvPr/>
            </p:nvGrpSpPr>
            <p:grpSpPr>
              <a:xfrm>
                <a:off x="266760" y="5587920"/>
                <a:ext cx="284040" cy="193680"/>
                <a:chOff x="266760" y="5587920"/>
                <a:chExt cx="284040" cy="19368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266760" y="558792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V="1">
                  <a:off x="266760" y="5591880"/>
                  <a:ext cx="139680" cy="187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406440" y="5587920"/>
                  <a:ext cx="1396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1" name=""/>
            <p:cNvSpPr/>
            <p:nvPr/>
          </p:nvSpPr>
          <p:spPr>
            <a:xfrm>
              <a:off x="419040" y="5781600"/>
              <a:ext cx="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4884840" y="461880"/>
            <a:ext cx="3291480" cy="1192320"/>
            <a:chOff x="4884840" y="461880"/>
            <a:chExt cx="3291480" cy="1192320"/>
          </a:xfrm>
        </p:grpSpPr>
        <p:sp>
          <p:nvSpPr>
            <p:cNvPr id="2413" name=""/>
            <p:cNvSpPr/>
            <p:nvPr/>
          </p:nvSpPr>
          <p:spPr>
            <a:xfrm>
              <a:off x="4908240" y="461880"/>
              <a:ext cx="3200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Maneuver Element- 05-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4" name=""/>
            <p:cNvGrpSpPr/>
            <p:nvPr/>
          </p:nvGrpSpPr>
          <p:grpSpPr>
            <a:xfrm>
              <a:off x="4884840" y="852480"/>
              <a:ext cx="3291480" cy="801720"/>
              <a:chOff x="4884840" y="852480"/>
              <a:chExt cx="3291480" cy="801720"/>
            </a:xfrm>
          </p:grpSpPr>
          <p:sp>
            <p:nvSpPr>
              <p:cNvPr id="2415" name=""/>
              <p:cNvSpPr/>
              <p:nvPr/>
            </p:nvSpPr>
            <p:spPr>
              <a:xfrm>
                <a:off x="5281200" y="865080"/>
                <a:ext cx="2742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lf-propelled Artillery Battery (Lt.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033520" y="1089000"/>
                <a:ext cx="0" cy="4298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7" name=""/>
              <p:cNvGrpSpPr/>
              <p:nvPr/>
            </p:nvGrpSpPr>
            <p:grpSpPr>
              <a:xfrm>
                <a:off x="4884840" y="852480"/>
                <a:ext cx="291240" cy="275760"/>
                <a:chOff x="4884840" y="852480"/>
                <a:chExt cx="291240" cy="275760"/>
              </a:xfrm>
            </p:grpSpPr>
            <p:sp>
              <p:nvSpPr>
                <p:cNvPr id="2418" name=""/>
                <p:cNvSpPr/>
                <p:nvPr/>
              </p:nvSpPr>
              <p:spPr>
                <a:xfrm>
                  <a:off x="5030640" y="8524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9" name=""/>
                <p:cNvGrpSpPr/>
                <p:nvPr/>
              </p:nvGrpSpPr>
              <p:grpSpPr>
                <a:xfrm>
                  <a:off x="4884840" y="938160"/>
                  <a:ext cx="291240" cy="190080"/>
                  <a:chOff x="4884840" y="938160"/>
                  <a:chExt cx="291240" cy="190080"/>
                </a:xfrm>
              </p:grpSpPr>
              <p:sp>
                <p:nvSpPr>
                  <p:cNvPr id="2420" name=""/>
                  <p:cNvSpPr/>
                  <p:nvPr/>
                </p:nvSpPr>
                <p:spPr>
                  <a:xfrm>
                    <a:off x="4886280" y="938160"/>
                    <a:ext cx="289800" cy="1900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4922280" y="979920"/>
                    <a:ext cx="207720" cy="907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 flipV="1">
                    <a:off x="4884840" y="939240"/>
                    <a:ext cx="140040" cy="188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>
                    <a:off x="5024880" y="938160"/>
                    <a:ext cx="15012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4" name=""/>
              <p:cNvGrpSpPr/>
              <p:nvPr/>
            </p:nvGrpSpPr>
            <p:grpSpPr>
              <a:xfrm>
                <a:off x="5043240" y="1055520"/>
                <a:ext cx="3133080" cy="369720"/>
                <a:chOff x="5043240" y="1055520"/>
                <a:chExt cx="3133080" cy="369720"/>
              </a:xfrm>
            </p:grpSpPr>
            <p:sp>
              <p:nvSpPr>
                <p:cNvPr id="2425" name=""/>
                <p:cNvSpPr/>
                <p:nvPr/>
              </p:nvSpPr>
              <p:spPr>
                <a:xfrm>
                  <a:off x="5652360" y="1179000"/>
                  <a:ext cx="2523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U-76 Light SP Gun        RU-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flipH="1">
                  <a:off x="5043240" y="1293120"/>
                  <a:ext cx="298080" cy="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585760" y="1055520"/>
                  <a:ext cx="76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8" name=""/>
                <p:cNvGrpSpPr/>
                <p:nvPr/>
              </p:nvGrpSpPr>
              <p:grpSpPr>
                <a:xfrm>
                  <a:off x="5333400" y="1180440"/>
                  <a:ext cx="240480" cy="199440"/>
                  <a:chOff x="5333400" y="1180440"/>
                  <a:chExt cx="240480" cy="199440"/>
                </a:xfrm>
              </p:grpSpPr>
              <p:grpSp>
                <p:nvGrpSpPr>
                  <p:cNvPr id="2429" name=""/>
                  <p:cNvGrpSpPr/>
                  <p:nvPr/>
                </p:nvGrpSpPr>
                <p:grpSpPr>
                  <a:xfrm>
                    <a:off x="5377320" y="1180440"/>
                    <a:ext cx="131040" cy="26640"/>
                    <a:chOff x="5377320" y="1180440"/>
                    <a:chExt cx="131040" cy="26640"/>
                  </a:xfrm>
                </p:grpSpPr>
                <p:sp>
                  <p:nvSpPr>
                    <p:cNvPr id="2430" name=""/>
                    <p:cNvSpPr/>
                    <p:nvPr/>
                  </p:nvSpPr>
                  <p:spPr>
                    <a:xfrm>
                      <a:off x="5377320" y="118044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1" name=""/>
                    <p:cNvSpPr/>
                    <p:nvPr/>
                  </p:nvSpPr>
                  <p:spPr>
                    <a:xfrm>
                      <a:off x="5427720" y="118044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2" name=""/>
                    <p:cNvSpPr/>
                    <p:nvPr/>
                  </p:nvSpPr>
                  <p:spPr>
                    <a:xfrm>
                      <a:off x="5481720" y="118044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3" name=""/>
                  <p:cNvGrpSpPr/>
                  <p:nvPr/>
                </p:nvGrpSpPr>
                <p:grpSpPr>
                  <a:xfrm>
                    <a:off x="5333400" y="1222920"/>
                    <a:ext cx="240480" cy="156960"/>
                    <a:chOff x="5333400" y="1222920"/>
                    <a:chExt cx="240480" cy="156960"/>
                  </a:xfrm>
                </p:grpSpPr>
                <p:sp>
                  <p:nvSpPr>
                    <p:cNvPr id="2434" name=""/>
                    <p:cNvSpPr/>
                    <p:nvPr/>
                  </p:nvSpPr>
                  <p:spPr>
                    <a:xfrm>
                      <a:off x="5334480" y="1222920"/>
                      <a:ext cx="23940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5" name=""/>
                    <p:cNvSpPr/>
                    <p:nvPr/>
                  </p:nvSpPr>
                  <p:spPr>
                    <a:xfrm>
                      <a:off x="5364360" y="1257120"/>
                      <a:ext cx="17136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6" name=""/>
                    <p:cNvSpPr/>
                    <p:nvPr/>
                  </p:nvSpPr>
                  <p:spPr>
                    <a:xfrm flipV="1">
                      <a:off x="5333400" y="122400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7" name=""/>
                    <p:cNvSpPr/>
                    <p:nvPr/>
                  </p:nvSpPr>
                  <p:spPr>
                    <a:xfrm>
                      <a:off x="5448960" y="1222920"/>
                      <a:ext cx="12384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38" name=""/>
              <p:cNvGrpSpPr/>
              <p:nvPr/>
            </p:nvGrpSpPr>
            <p:grpSpPr>
              <a:xfrm>
                <a:off x="5028480" y="1407960"/>
                <a:ext cx="3147840" cy="246240"/>
                <a:chOff x="5028480" y="1407960"/>
                <a:chExt cx="3147840" cy="246240"/>
              </a:xfrm>
            </p:grpSpPr>
            <p:sp>
              <p:nvSpPr>
                <p:cNvPr id="2439" name=""/>
                <p:cNvSpPr/>
                <p:nvPr/>
              </p:nvSpPr>
              <p:spPr>
                <a:xfrm flipH="1">
                  <a:off x="5028480" y="1529640"/>
                  <a:ext cx="294840" cy="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0" name=""/>
                <p:cNvGrpSpPr/>
                <p:nvPr/>
              </p:nvGrpSpPr>
              <p:grpSpPr>
                <a:xfrm>
                  <a:off x="5328720" y="1409040"/>
                  <a:ext cx="240480" cy="199440"/>
                  <a:chOff x="5328720" y="1409040"/>
                  <a:chExt cx="240480" cy="199440"/>
                </a:xfrm>
              </p:grpSpPr>
              <p:grpSp>
                <p:nvGrpSpPr>
                  <p:cNvPr id="2441" name=""/>
                  <p:cNvGrpSpPr/>
                  <p:nvPr/>
                </p:nvGrpSpPr>
                <p:grpSpPr>
                  <a:xfrm>
                    <a:off x="5382360" y="1409040"/>
                    <a:ext cx="131040" cy="26640"/>
                    <a:chOff x="5382360" y="1409040"/>
                    <a:chExt cx="131040" cy="26640"/>
                  </a:xfrm>
                </p:grpSpPr>
                <p:sp>
                  <p:nvSpPr>
                    <p:cNvPr id="2442" name=""/>
                    <p:cNvSpPr/>
                    <p:nvPr/>
                  </p:nvSpPr>
                  <p:spPr>
                    <a:xfrm>
                      <a:off x="5382360" y="140904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3" name=""/>
                    <p:cNvSpPr/>
                    <p:nvPr/>
                  </p:nvSpPr>
                  <p:spPr>
                    <a:xfrm>
                      <a:off x="5432760" y="140904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4" name=""/>
                    <p:cNvSpPr/>
                    <p:nvPr/>
                  </p:nvSpPr>
                  <p:spPr>
                    <a:xfrm>
                      <a:off x="5486760" y="140904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45" name=""/>
                  <p:cNvGrpSpPr/>
                  <p:nvPr/>
                </p:nvGrpSpPr>
                <p:grpSpPr>
                  <a:xfrm>
                    <a:off x="5328720" y="1451520"/>
                    <a:ext cx="240480" cy="156960"/>
                    <a:chOff x="5328720" y="1451520"/>
                    <a:chExt cx="240480" cy="156960"/>
                  </a:xfrm>
                </p:grpSpPr>
                <p:sp>
                  <p:nvSpPr>
                    <p:cNvPr id="2446" name=""/>
                    <p:cNvSpPr/>
                    <p:nvPr/>
                  </p:nvSpPr>
                  <p:spPr>
                    <a:xfrm>
                      <a:off x="5329800" y="1451520"/>
                      <a:ext cx="23940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7" name=""/>
                    <p:cNvSpPr/>
                    <p:nvPr/>
                  </p:nvSpPr>
                  <p:spPr>
                    <a:xfrm>
                      <a:off x="5359680" y="1485720"/>
                      <a:ext cx="17136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8" name=""/>
                    <p:cNvSpPr/>
                    <p:nvPr/>
                  </p:nvSpPr>
                  <p:spPr>
                    <a:xfrm flipV="1">
                      <a:off x="5328720" y="145260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9" name=""/>
                    <p:cNvSpPr/>
                    <p:nvPr/>
                  </p:nvSpPr>
                  <p:spPr>
                    <a:xfrm>
                      <a:off x="5444280" y="1451520"/>
                      <a:ext cx="12384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450" name=""/>
                <p:cNvSpPr/>
                <p:nvPr/>
              </p:nvSpPr>
              <p:spPr>
                <a:xfrm>
                  <a:off x="5652360" y="1407960"/>
                  <a:ext cx="2523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U-76 Light SP Gun        RU-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51" name=""/>
          <p:cNvGrpSpPr/>
          <p:nvPr/>
        </p:nvGrpSpPr>
        <p:grpSpPr>
          <a:xfrm>
            <a:off x="4800600" y="1868400"/>
            <a:ext cx="3454200" cy="1635480"/>
            <a:chOff x="4800600" y="1868400"/>
            <a:chExt cx="3454200" cy="1635480"/>
          </a:xfrm>
        </p:grpSpPr>
        <p:grpSp>
          <p:nvGrpSpPr>
            <p:cNvPr id="2452" name=""/>
            <p:cNvGrpSpPr/>
            <p:nvPr/>
          </p:nvGrpSpPr>
          <p:grpSpPr>
            <a:xfrm>
              <a:off x="4800600" y="1868400"/>
              <a:ext cx="3454200" cy="1182240"/>
              <a:chOff x="4800600" y="1868400"/>
              <a:chExt cx="3454200" cy="1182240"/>
            </a:xfrm>
          </p:grpSpPr>
          <p:sp>
            <p:nvSpPr>
              <p:cNvPr id="2453" name=""/>
              <p:cNvSpPr/>
              <p:nvPr/>
            </p:nvSpPr>
            <p:spPr>
              <a:xfrm>
                <a:off x="4800600" y="1868400"/>
                <a:ext cx="320040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9900"/>
                    </a:solidFill>
                    <a:latin typeface="Arial"/>
                  </a:rPr>
                  <a:t>Maneuver Element- 05-M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4" name=""/>
              <p:cNvGrpSpPr/>
              <p:nvPr/>
            </p:nvGrpSpPr>
            <p:grpSpPr>
              <a:xfrm>
                <a:off x="4962240" y="2248920"/>
                <a:ext cx="3292560" cy="801720"/>
                <a:chOff x="4962240" y="2248920"/>
                <a:chExt cx="3292560" cy="80172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5358960" y="2261520"/>
                  <a:ext cx="2743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lf-propelled Artillery Battery (Med.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5111280" y="2485440"/>
                  <a:ext cx="0" cy="42984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7" name=""/>
                <p:cNvGrpSpPr/>
                <p:nvPr/>
              </p:nvGrpSpPr>
              <p:grpSpPr>
                <a:xfrm>
                  <a:off x="4962240" y="2248920"/>
                  <a:ext cx="291600" cy="275760"/>
                  <a:chOff x="4962240" y="2248920"/>
                  <a:chExt cx="291600" cy="275760"/>
                </a:xfrm>
              </p:grpSpPr>
              <p:sp>
                <p:nvSpPr>
                  <p:cNvPr id="2458" name=""/>
                  <p:cNvSpPr/>
                  <p:nvPr/>
                </p:nvSpPr>
                <p:spPr>
                  <a:xfrm>
                    <a:off x="5108400" y="22489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59" name=""/>
                  <p:cNvGrpSpPr/>
                  <p:nvPr/>
                </p:nvGrpSpPr>
                <p:grpSpPr>
                  <a:xfrm>
                    <a:off x="4962240" y="2334600"/>
                    <a:ext cx="291600" cy="190080"/>
                    <a:chOff x="4962240" y="2334600"/>
                    <a:chExt cx="291600" cy="190080"/>
                  </a:xfrm>
                </p:grpSpPr>
                <p:sp>
                  <p:nvSpPr>
                    <p:cNvPr id="2460" name=""/>
                    <p:cNvSpPr/>
                    <p:nvPr/>
                  </p:nvSpPr>
                  <p:spPr>
                    <a:xfrm>
                      <a:off x="4963680" y="2334600"/>
                      <a:ext cx="290160" cy="1900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1" name=""/>
                    <p:cNvSpPr/>
                    <p:nvPr/>
                  </p:nvSpPr>
                  <p:spPr>
                    <a:xfrm>
                      <a:off x="4999680" y="2376360"/>
                      <a:ext cx="208080" cy="907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2" name=""/>
                    <p:cNvSpPr/>
                    <p:nvPr/>
                  </p:nvSpPr>
                  <p:spPr>
                    <a:xfrm flipV="1">
                      <a:off x="4962240" y="2335680"/>
                      <a:ext cx="140040" cy="188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3" name=""/>
                    <p:cNvSpPr/>
                    <p:nvPr/>
                  </p:nvSpPr>
                  <p:spPr>
                    <a:xfrm>
                      <a:off x="5102280" y="2334600"/>
                      <a:ext cx="150120" cy="188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64" name=""/>
                <p:cNvGrpSpPr/>
                <p:nvPr/>
              </p:nvGrpSpPr>
              <p:grpSpPr>
                <a:xfrm>
                  <a:off x="5120640" y="2451960"/>
                  <a:ext cx="3134160" cy="369720"/>
                  <a:chOff x="5120640" y="2451960"/>
                  <a:chExt cx="3134160" cy="369720"/>
                </a:xfrm>
              </p:grpSpPr>
              <p:sp>
                <p:nvSpPr>
                  <p:cNvPr id="2465" name=""/>
                  <p:cNvSpPr/>
                  <p:nvPr/>
                </p:nvSpPr>
                <p:spPr>
                  <a:xfrm>
                    <a:off x="5730480" y="2575440"/>
                    <a:ext cx="2524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SU-122 Medium SP Gun  (a) RU-0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 flipH="1">
                    <a:off x="5120640" y="2689560"/>
                    <a:ext cx="298440" cy="0"/>
                  </a:xfrm>
                  <a:prstGeom prst="line">
                    <a:avLst/>
                  </a:prstGeom>
                  <a:ln w="158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5663880" y="2451960"/>
                    <a:ext cx="7621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99cc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68" name=""/>
                  <p:cNvGrpSpPr/>
                  <p:nvPr/>
                </p:nvGrpSpPr>
                <p:grpSpPr>
                  <a:xfrm>
                    <a:off x="5411520" y="2576880"/>
                    <a:ext cx="240840" cy="199440"/>
                    <a:chOff x="5411520" y="2576880"/>
                    <a:chExt cx="240840" cy="199440"/>
                  </a:xfrm>
                </p:grpSpPr>
                <p:grpSp>
                  <p:nvGrpSpPr>
                    <p:cNvPr id="2469" name=""/>
                    <p:cNvGrpSpPr/>
                    <p:nvPr/>
                  </p:nvGrpSpPr>
                  <p:grpSpPr>
                    <a:xfrm>
                      <a:off x="5455800" y="2576880"/>
                      <a:ext cx="131760" cy="26640"/>
                      <a:chOff x="5455800" y="2576880"/>
                      <a:chExt cx="131760" cy="26640"/>
                    </a:xfrm>
                  </p:grpSpPr>
                  <p:sp>
                    <p:nvSpPr>
                      <p:cNvPr id="2470" name=""/>
                      <p:cNvSpPr/>
                      <p:nvPr/>
                    </p:nvSpPr>
                    <p:spPr>
                      <a:xfrm>
                        <a:off x="5455800" y="257688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1" name=""/>
                      <p:cNvSpPr/>
                      <p:nvPr/>
                    </p:nvSpPr>
                    <p:spPr>
                      <a:xfrm>
                        <a:off x="5506560" y="25768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2" name=""/>
                      <p:cNvSpPr/>
                      <p:nvPr/>
                    </p:nvSpPr>
                    <p:spPr>
                      <a:xfrm>
                        <a:off x="5560560" y="257688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73" name=""/>
                    <p:cNvGrpSpPr/>
                    <p:nvPr/>
                  </p:nvGrpSpPr>
                  <p:grpSpPr>
                    <a:xfrm>
                      <a:off x="5411520" y="2619360"/>
                      <a:ext cx="240840" cy="156960"/>
                      <a:chOff x="5411520" y="2619360"/>
                      <a:chExt cx="240840" cy="156960"/>
                    </a:xfrm>
                  </p:grpSpPr>
                  <p:sp>
                    <p:nvSpPr>
                      <p:cNvPr id="2474" name=""/>
                      <p:cNvSpPr/>
                      <p:nvPr/>
                    </p:nvSpPr>
                    <p:spPr>
                      <a:xfrm>
                        <a:off x="5412600" y="261936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5" name=""/>
                      <p:cNvSpPr/>
                      <p:nvPr/>
                    </p:nvSpPr>
                    <p:spPr>
                      <a:xfrm>
                        <a:off x="5442480" y="2653560"/>
                        <a:ext cx="171720" cy="7488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6" name=""/>
                      <p:cNvSpPr/>
                      <p:nvPr/>
                    </p:nvSpPr>
                    <p:spPr>
                      <a:xfrm flipV="1">
                        <a:off x="5411520" y="2620440"/>
                        <a:ext cx="115560" cy="1555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7" name=""/>
                      <p:cNvSpPr/>
                      <p:nvPr/>
                    </p:nvSpPr>
                    <p:spPr>
                      <a:xfrm>
                        <a:off x="5527080" y="2619360"/>
                        <a:ext cx="124200" cy="1558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478" name=""/>
                <p:cNvGrpSpPr/>
                <p:nvPr/>
              </p:nvGrpSpPr>
              <p:grpSpPr>
                <a:xfrm>
                  <a:off x="5106600" y="2804400"/>
                  <a:ext cx="3148200" cy="246240"/>
                  <a:chOff x="5106600" y="2804400"/>
                  <a:chExt cx="3148200" cy="246240"/>
                </a:xfrm>
              </p:grpSpPr>
              <p:sp>
                <p:nvSpPr>
                  <p:cNvPr id="2479" name=""/>
                  <p:cNvSpPr/>
                  <p:nvPr/>
                </p:nvSpPr>
                <p:spPr>
                  <a:xfrm flipH="1">
                    <a:off x="5106600" y="2926080"/>
                    <a:ext cx="295200" cy="0"/>
                  </a:xfrm>
                  <a:prstGeom prst="line">
                    <a:avLst/>
                  </a:prstGeom>
                  <a:ln w="158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80" name=""/>
                  <p:cNvGrpSpPr/>
                  <p:nvPr/>
                </p:nvGrpSpPr>
                <p:grpSpPr>
                  <a:xfrm>
                    <a:off x="5406840" y="2805480"/>
                    <a:ext cx="240840" cy="199440"/>
                    <a:chOff x="5406840" y="2805480"/>
                    <a:chExt cx="240840" cy="199440"/>
                  </a:xfrm>
                </p:grpSpPr>
                <p:grpSp>
                  <p:nvGrpSpPr>
                    <p:cNvPr id="2481" name=""/>
                    <p:cNvGrpSpPr/>
                    <p:nvPr/>
                  </p:nvGrpSpPr>
                  <p:grpSpPr>
                    <a:xfrm>
                      <a:off x="5460840" y="2805480"/>
                      <a:ext cx="131760" cy="26640"/>
                      <a:chOff x="5460840" y="2805480"/>
                      <a:chExt cx="131760" cy="26640"/>
                    </a:xfrm>
                  </p:grpSpPr>
                  <p:sp>
                    <p:nvSpPr>
                      <p:cNvPr id="2482" name=""/>
                      <p:cNvSpPr/>
                      <p:nvPr/>
                    </p:nvSpPr>
                    <p:spPr>
                      <a:xfrm>
                        <a:off x="5460840" y="280548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3" name=""/>
                      <p:cNvSpPr/>
                      <p:nvPr/>
                    </p:nvSpPr>
                    <p:spPr>
                      <a:xfrm>
                        <a:off x="5511600" y="28054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4" name=""/>
                      <p:cNvSpPr/>
                      <p:nvPr/>
                    </p:nvSpPr>
                    <p:spPr>
                      <a:xfrm>
                        <a:off x="5565600" y="280548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85" name=""/>
                    <p:cNvGrpSpPr/>
                    <p:nvPr/>
                  </p:nvGrpSpPr>
                  <p:grpSpPr>
                    <a:xfrm>
                      <a:off x="5406840" y="2847960"/>
                      <a:ext cx="240840" cy="156960"/>
                      <a:chOff x="5406840" y="2847960"/>
                      <a:chExt cx="240840" cy="156960"/>
                    </a:xfrm>
                  </p:grpSpPr>
                  <p:sp>
                    <p:nvSpPr>
                      <p:cNvPr id="2486" name=""/>
                      <p:cNvSpPr/>
                      <p:nvPr/>
                    </p:nvSpPr>
                    <p:spPr>
                      <a:xfrm>
                        <a:off x="5407920" y="284796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7" name=""/>
                      <p:cNvSpPr/>
                      <p:nvPr/>
                    </p:nvSpPr>
                    <p:spPr>
                      <a:xfrm>
                        <a:off x="5437800" y="2882160"/>
                        <a:ext cx="171720" cy="7488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8" name=""/>
                      <p:cNvSpPr/>
                      <p:nvPr/>
                    </p:nvSpPr>
                    <p:spPr>
                      <a:xfrm flipV="1">
                        <a:off x="5406840" y="2849040"/>
                        <a:ext cx="115560" cy="1555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9" name=""/>
                      <p:cNvSpPr/>
                      <p:nvPr/>
                    </p:nvSpPr>
                    <p:spPr>
                      <a:xfrm>
                        <a:off x="5522400" y="2847960"/>
                        <a:ext cx="124200" cy="1558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90" name=""/>
                  <p:cNvSpPr/>
                  <p:nvPr/>
                </p:nvSpPr>
                <p:spPr>
                  <a:xfrm>
                    <a:off x="5730480" y="2804400"/>
                    <a:ext cx="2524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SU-122 Medium SP Gun  (a)   RU-0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91" name=""/>
            <p:cNvSpPr/>
            <p:nvPr/>
          </p:nvSpPr>
          <p:spPr>
            <a:xfrm>
              <a:off x="5046480" y="3103200"/>
              <a:ext cx="30736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fter August 1942, replace with SU-85, RU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fter September 1944 replace all with SU-100, RU-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2" name=""/>
          <p:cNvGrpSpPr/>
          <p:nvPr/>
        </p:nvGrpSpPr>
        <p:grpSpPr>
          <a:xfrm>
            <a:off x="4983120" y="3778200"/>
            <a:ext cx="3370320" cy="1893960"/>
            <a:chOff x="4983120" y="3778200"/>
            <a:chExt cx="3370320" cy="1893960"/>
          </a:xfrm>
        </p:grpSpPr>
        <p:sp>
          <p:nvSpPr>
            <p:cNvPr id="2493" name=""/>
            <p:cNvSpPr/>
            <p:nvPr/>
          </p:nvSpPr>
          <p:spPr>
            <a:xfrm>
              <a:off x="5081760" y="5149800"/>
              <a:ext cx="30733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February 1944 replace SU-152  with ISU-122, RU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ternate Card is RU-P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983120" y="3778200"/>
              <a:ext cx="3200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Maneuver Element- 05-Hv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5" name=""/>
            <p:cNvGrpSpPr/>
            <p:nvPr/>
          </p:nvGrpSpPr>
          <p:grpSpPr>
            <a:xfrm>
              <a:off x="5060880" y="4194360"/>
              <a:ext cx="3292560" cy="801720"/>
              <a:chOff x="5060880" y="4194360"/>
              <a:chExt cx="3292560" cy="801720"/>
            </a:xfrm>
          </p:grpSpPr>
          <p:sp>
            <p:nvSpPr>
              <p:cNvPr id="2496" name=""/>
              <p:cNvSpPr/>
              <p:nvPr/>
            </p:nvSpPr>
            <p:spPr>
              <a:xfrm>
                <a:off x="5457600" y="4206960"/>
                <a:ext cx="2743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lf-propelled Artillery Battery (Hvy.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5209920" y="4430880"/>
                <a:ext cx="0" cy="4298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8" name=""/>
              <p:cNvGrpSpPr/>
              <p:nvPr/>
            </p:nvGrpSpPr>
            <p:grpSpPr>
              <a:xfrm>
                <a:off x="5060880" y="4194360"/>
                <a:ext cx="291600" cy="275760"/>
                <a:chOff x="5060880" y="4194360"/>
                <a:chExt cx="291600" cy="275760"/>
              </a:xfrm>
            </p:grpSpPr>
            <p:sp>
              <p:nvSpPr>
                <p:cNvPr id="2499" name=""/>
                <p:cNvSpPr/>
                <p:nvPr/>
              </p:nvSpPr>
              <p:spPr>
                <a:xfrm>
                  <a:off x="5207040" y="41943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0" name=""/>
                <p:cNvGrpSpPr/>
                <p:nvPr/>
              </p:nvGrpSpPr>
              <p:grpSpPr>
                <a:xfrm>
                  <a:off x="5060880" y="4280040"/>
                  <a:ext cx="291600" cy="190080"/>
                  <a:chOff x="5060880" y="4280040"/>
                  <a:chExt cx="291600" cy="190080"/>
                </a:xfrm>
              </p:grpSpPr>
              <p:sp>
                <p:nvSpPr>
                  <p:cNvPr id="2501" name=""/>
                  <p:cNvSpPr/>
                  <p:nvPr/>
                </p:nvSpPr>
                <p:spPr>
                  <a:xfrm>
                    <a:off x="5062320" y="4280040"/>
                    <a:ext cx="290160" cy="1900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5098320" y="4321800"/>
                    <a:ext cx="208080" cy="907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 flipV="1">
                    <a:off x="5060880" y="4281120"/>
                    <a:ext cx="140040" cy="188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5200920" y="4280040"/>
                    <a:ext cx="15012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05" name=""/>
              <p:cNvGrpSpPr/>
              <p:nvPr/>
            </p:nvGrpSpPr>
            <p:grpSpPr>
              <a:xfrm>
                <a:off x="5219280" y="4397400"/>
                <a:ext cx="3134160" cy="369720"/>
                <a:chOff x="5219280" y="4397400"/>
                <a:chExt cx="3134160" cy="36972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5829120" y="4520880"/>
                  <a:ext cx="2524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U-152 Heavy SP Gun  (a,b) RU-0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flipH="1">
                  <a:off x="5219280" y="4635000"/>
                  <a:ext cx="298440" cy="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5762520" y="439740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9" name=""/>
                <p:cNvGrpSpPr/>
                <p:nvPr/>
              </p:nvGrpSpPr>
              <p:grpSpPr>
                <a:xfrm>
                  <a:off x="5510160" y="4522320"/>
                  <a:ext cx="240840" cy="199440"/>
                  <a:chOff x="5510160" y="4522320"/>
                  <a:chExt cx="240840" cy="199440"/>
                </a:xfrm>
              </p:grpSpPr>
              <p:grpSp>
                <p:nvGrpSpPr>
                  <p:cNvPr id="2510" name=""/>
                  <p:cNvGrpSpPr/>
                  <p:nvPr/>
                </p:nvGrpSpPr>
                <p:grpSpPr>
                  <a:xfrm>
                    <a:off x="5554440" y="4522320"/>
                    <a:ext cx="131760" cy="26640"/>
                    <a:chOff x="5554440" y="4522320"/>
                    <a:chExt cx="131760" cy="26640"/>
                  </a:xfrm>
                </p:grpSpPr>
                <p:sp>
                  <p:nvSpPr>
                    <p:cNvPr id="2511" name=""/>
                    <p:cNvSpPr/>
                    <p:nvPr/>
                  </p:nvSpPr>
                  <p:spPr>
                    <a:xfrm>
                      <a:off x="5554440" y="45223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2" name=""/>
                    <p:cNvSpPr/>
                    <p:nvPr/>
                  </p:nvSpPr>
                  <p:spPr>
                    <a:xfrm>
                      <a:off x="5605200" y="45223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3" name=""/>
                    <p:cNvSpPr/>
                    <p:nvPr/>
                  </p:nvSpPr>
                  <p:spPr>
                    <a:xfrm>
                      <a:off x="5659200" y="45223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4" name=""/>
                  <p:cNvGrpSpPr/>
                  <p:nvPr/>
                </p:nvGrpSpPr>
                <p:grpSpPr>
                  <a:xfrm>
                    <a:off x="5510160" y="4564800"/>
                    <a:ext cx="240840" cy="156960"/>
                    <a:chOff x="5510160" y="4564800"/>
                    <a:chExt cx="240840" cy="156960"/>
                  </a:xfrm>
                </p:grpSpPr>
                <p:sp>
                  <p:nvSpPr>
                    <p:cNvPr id="2515" name=""/>
                    <p:cNvSpPr/>
                    <p:nvPr/>
                  </p:nvSpPr>
                  <p:spPr>
                    <a:xfrm>
                      <a:off x="5511240" y="4564800"/>
                      <a:ext cx="23976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6" name=""/>
                    <p:cNvSpPr/>
                    <p:nvPr/>
                  </p:nvSpPr>
                  <p:spPr>
                    <a:xfrm>
                      <a:off x="5541120" y="4599000"/>
                      <a:ext cx="17172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7" name=""/>
                    <p:cNvSpPr/>
                    <p:nvPr/>
                  </p:nvSpPr>
                  <p:spPr>
                    <a:xfrm flipV="1">
                      <a:off x="5510160" y="456588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8" name=""/>
                    <p:cNvSpPr/>
                    <p:nvPr/>
                  </p:nvSpPr>
                  <p:spPr>
                    <a:xfrm>
                      <a:off x="5625720" y="4564800"/>
                      <a:ext cx="12420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19" name=""/>
              <p:cNvGrpSpPr/>
              <p:nvPr/>
            </p:nvGrpSpPr>
            <p:grpSpPr>
              <a:xfrm>
                <a:off x="5205240" y="4749840"/>
                <a:ext cx="3148200" cy="246240"/>
                <a:chOff x="5205240" y="4749840"/>
                <a:chExt cx="3148200" cy="246240"/>
              </a:xfrm>
            </p:grpSpPr>
            <p:sp>
              <p:nvSpPr>
                <p:cNvPr id="2520" name=""/>
                <p:cNvSpPr/>
                <p:nvPr/>
              </p:nvSpPr>
              <p:spPr>
                <a:xfrm flipH="1">
                  <a:off x="5205240" y="4871520"/>
                  <a:ext cx="295200" cy="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1" name=""/>
                <p:cNvGrpSpPr/>
                <p:nvPr/>
              </p:nvGrpSpPr>
              <p:grpSpPr>
                <a:xfrm>
                  <a:off x="5505480" y="4750920"/>
                  <a:ext cx="240840" cy="199440"/>
                  <a:chOff x="5505480" y="4750920"/>
                  <a:chExt cx="240840" cy="199440"/>
                </a:xfrm>
              </p:grpSpPr>
              <p:grpSp>
                <p:nvGrpSpPr>
                  <p:cNvPr id="2522" name=""/>
                  <p:cNvGrpSpPr/>
                  <p:nvPr/>
                </p:nvGrpSpPr>
                <p:grpSpPr>
                  <a:xfrm>
                    <a:off x="5559480" y="4750920"/>
                    <a:ext cx="131760" cy="26640"/>
                    <a:chOff x="5559480" y="4750920"/>
                    <a:chExt cx="131760" cy="26640"/>
                  </a:xfrm>
                </p:grpSpPr>
                <p:sp>
                  <p:nvSpPr>
                    <p:cNvPr id="2523" name=""/>
                    <p:cNvSpPr/>
                    <p:nvPr/>
                  </p:nvSpPr>
                  <p:spPr>
                    <a:xfrm>
                      <a:off x="5559480" y="47509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4" name=""/>
                    <p:cNvSpPr/>
                    <p:nvPr/>
                  </p:nvSpPr>
                  <p:spPr>
                    <a:xfrm>
                      <a:off x="5610240" y="47509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5" name=""/>
                    <p:cNvSpPr/>
                    <p:nvPr/>
                  </p:nvSpPr>
                  <p:spPr>
                    <a:xfrm>
                      <a:off x="5664240" y="47509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6" name=""/>
                  <p:cNvGrpSpPr/>
                  <p:nvPr/>
                </p:nvGrpSpPr>
                <p:grpSpPr>
                  <a:xfrm>
                    <a:off x="5505480" y="4793400"/>
                    <a:ext cx="240840" cy="156960"/>
                    <a:chOff x="5505480" y="4793400"/>
                    <a:chExt cx="240840" cy="156960"/>
                  </a:xfrm>
                </p:grpSpPr>
                <p:sp>
                  <p:nvSpPr>
                    <p:cNvPr id="2527" name=""/>
                    <p:cNvSpPr/>
                    <p:nvPr/>
                  </p:nvSpPr>
                  <p:spPr>
                    <a:xfrm>
                      <a:off x="5506560" y="4793400"/>
                      <a:ext cx="23976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8" name=""/>
                    <p:cNvSpPr/>
                    <p:nvPr/>
                  </p:nvSpPr>
                  <p:spPr>
                    <a:xfrm>
                      <a:off x="5536440" y="4827600"/>
                      <a:ext cx="17172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9" name=""/>
                    <p:cNvSpPr/>
                    <p:nvPr/>
                  </p:nvSpPr>
                  <p:spPr>
                    <a:xfrm flipV="1">
                      <a:off x="5505480" y="479448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0" name=""/>
                    <p:cNvSpPr/>
                    <p:nvPr/>
                  </p:nvSpPr>
                  <p:spPr>
                    <a:xfrm>
                      <a:off x="5621040" y="4793400"/>
                      <a:ext cx="12420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31" name=""/>
                <p:cNvSpPr/>
                <p:nvPr/>
              </p:nvSpPr>
              <p:spPr>
                <a:xfrm>
                  <a:off x="5829120" y="4749840"/>
                  <a:ext cx="2524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U-152 Heavy SP Gun  (a,b)   RU-0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2" name=""/>
          <p:cNvGrpSpPr/>
          <p:nvPr/>
        </p:nvGrpSpPr>
        <p:grpSpPr>
          <a:xfrm>
            <a:off x="509760" y="150840"/>
            <a:ext cx="3300120" cy="1832040"/>
            <a:chOff x="509760" y="150840"/>
            <a:chExt cx="3300120" cy="1832040"/>
          </a:xfrm>
        </p:grpSpPr>
        <p:sp>
          <p:nvSpPr>
            <p:cNvPr id="2533" name=""/>
            <p:cNvSpPr/>
            <p:nvPr/>
          </p:nvSpPr>
          <p:spPr>
            <a:xfrm>
              <a:off x="719280" y="1015920"/>
              <a:ext cx="0" cy="82548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4" name=""/>
            <p:cNvGrpSpPr/>
            <p:nvPr/>
          </p:nvGrpSpPr>
          <p:grpSpPr>
            <a:xfrm>
              <a:off x="566640" y="777960"/>
              <a:ext cx="284040" cy="252360"/>
              <a:chOff x="566640" y="777960"/>
              <a:chExt cx="284040" cy="252360"/>
            </a:xfrm>
          </p:grpSpPr>
          <p:grpSp>
            <p:nvGrpSpPr>
              <p:cNvPr id="2535" name=""/>
              <p:cNvGrpSpPr/>
              <p:nvPr/>
            </p:nvGrpSpPr>
            <p:grpSpPr>
              <a:xfrm>
                <a:off x="566640" y="836640"/>
                <a:ext cx="284040" cy="193680"/>
                <a:chOff x="566640" y="836640"/>
                <a:chExt cx="284040" cy="193680"/>
              </a:xfrm>
            </p:grpSpPr>
            <p:sp>
              <p:nvSpPr>
                <p:cNvPr id="2536" name=""/>
                <p:cNvSpPr/>
                <p:nvPr/>
              </p:nvSpPr>
              <p:spPr>
                <a:xfrm>
                  <a:off x="566640" y="83664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618480" y="884880"/>
                  <a:ext cx="182160" cy="925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669600" y="777960"/>
                <a:ext cx="76320" cy="63720"/>
                <a:chOff x="669600" y="777960"/>
                <a:chExt cx="76320" cy="63720"/>
              </a:xfrm>
            </p:grpSpPr>
            <p:sp>
              <p:nvSpPr>
                <p:cNvPr id="2539" name=""/>
                <p:cNvSpPr/>
                <p:nvPr/>
              </p:nvSpPr>
              <p:spPr>
                <a:xfrm>
                  <a:off x="669600" y="7779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745920" y="7779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1" name=""/>
            <p:cNvGrpSpPr/>
            <p:nvPr/>
          </p:nvGrpSpPr>
          <p:grpSpPr>
            <a:xfrm>
              <a:off x="718920" y="787320"/>
              <a:ext cx="3090960" cy="443160"/>
              <a:chOff x="718920" y="787320"/>
              <a:chExt cx="3090960" cy="443160"/>
            </a:xfrm>
          </p:grpSpPr>
          <p:sp>
            <p:nvSpPr>
              <p:cNvPr id="2542" name=""/>
              <p:cNvSpPr/>
              <p:nvPr/>
            </p:nvSpPr>
            <p:spPr>
              <a:xfrm>
                <a:off x="1328760" y="984240"/>
                <a:ext cx="248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34 76mm Medium Tank       RU-5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718920" y="110808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338120" y="78732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5" name=""/>
              <p:cNvGrpSpPr/>
              <p:nvPr/>
            </p:nvGrpSpPr>
            <p:grpSpPr>
              <a:xfrm>
                <a:off x="1009800" y="988920"/>
                <a:ext cx="231480" cy="208080"/>
                <a:chOff x="1009800" y="988920"/>
                <a:chExt cx="231480" cy="208080"/>
              </a:xfrm>
            </p:grpSpPr>
            <p:grpSp>
              <p:nvGrpSpPr>
                <p:cNvPr id="2546" name=""/>
                <p:cNvGrpSpPr/>
                <p:nvPr/>
              </p:nvGrpSpPr>
              <p:grpSpPr>
                <a:xfrm>
                  <a:off x="1060200" y="988920"/>
                  <a:ext cx="131040" cy="27000"/>
                  <a:chOff x="1060200" y="988920"/>
                  <a:chExt cx="131040" cy="27000"/>
                </a:xfrm>
              </p:grpSpPr>
              <p:sp>
                <p:nvSpPr>
                  <p:cNvPr id="2547" name=""/>
                  <p:cNvSpPr/>
                  <p:nvPr/>
                </p:nvSpPr>
                <p:spPr>
                  <a:xfrm>
                    <a:off x="1060200" y="9889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1110600" y="98892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1164600" y="9889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0" name=""/>
                <p:cNvGrpSpPr/>
                <p:nvPr/>
              </p:nvGrpSpPr>
              <p:grpSpPr>
                <a:xfrm>
                  <a:off x="1009800" y="1039680"/>
                  <a:ext cx="231480" cy="157320"/>
                  <a:chOff x="1009800" y="1039680"/>
                  <a:chExt cx="231480" cy="157320"/>
                </a:xfrm>
              </p:grpSpPr>
              <p:sp>
                <p:nvSpPr>
                  <p:cNvPr id="2551" name=""/>
                  <p:cNvSpPr/>
                  <p:nvPr/>
                </p:nvSpPr>
                <p:spPr>
                  <a:xfrm>
                    <a:off x="1009800" y="103968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1052280" y="1078920"/>
                    <a:ext cx="14832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53" name=""/>
            <p:cNvGrpSpPr/>
            <p:nvPr/>
          </p:nvGrpSpPr>
          <p:grpSpPr>
            <a:xfrm>
              <a:off x="723600" y="1220760"/>
              <a:ext cx="2585880" cy="246240"/>
              <a:chOff x="723600" y="1220760"/>
              <a:chExt cx="2585880" cy="246240"/>
            </a:xfrm>
          </p:grpSpPr>
          <p:sp>
            <p:nvSpPr>
              <p:cNvPr id="2554" name=""/>
              <p:cNvSpPr/>
              <p:nvPr/>
            </p:nvSpPr>
            <p:spPr>
              <a:xfrm>
                <a:off x="1328400" y="12207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KV1 Heavy Tank        RU-4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H="1">
                <a:off x="723600" y="1342800"/>
                <a:ext cx="2948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6" name=""/>
              <p:cNvGrpSpPr/>
              <p:nvPr/>
            </p:nvGrpSpPr>
            <p:grpSpPr>
              <a:xfrm>
                <a:off x="1002960" y="1220760"/>
                <a:ext cx="231480" cy="208080"/>
                <a:chOff x="1002960" y="1220760"/>
                <a:chExt cx="231480" cy="208080"/>
              </a:xfrm>
            </p:grpSpPr>
            <p:grpSp>
              <p:nvGrpSpPr>
                <p:cNvPr id="2557" name=""/>
                <p:cNvGrpSpPr/>
                <p:nvPr/>
              </p:nvGrpSpPr>
              <p:grpSpPr>
                <a:xfrm>
                  <a:off x="1053360" y="1220760"/>
                  <a:ext cx="131040" cy="27000"/>
                  <a:chOff x="1053360" y="1220760"/>
                  <a:chExt cx="131040" cy="27000"/>
                </a:xfrm>
              </p:grpSpPr>
              <p:sp>
                <p:nvSpPr>
                  <p:cNvPr id="2558" name=""/>
                  <p:cNvSpPr/>
                  <p:nvPr/>
                </p:nvSpPr>
                <p:spPr>
                  <a:xfrm>
                    <a:off x="1053360" y="12207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1103760" y="12207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1157760" y="12207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1" name=""/>
                <p:cNvGrpSpPr/>
                <p:nvPr/>
              </p:nvGrpSpPr>
              <p:grpSpPr>
                <a:xfrm>
                  <a:off x="1002960" y="1271520"/>
                  <a:ext cx="231480" cy="157320"/>
                  <a:chOff x="1002960" y="1271520"/>
                  <a:chExt cx="231480" cy="157320"/>
                </a:xfrm>
              </p:grpSpPr>
              <p:sp>
                <p:nvSpPr>
                  <p:cNvPr id="2562" name=""/>
                  <p:cNvSpPr/>
                  <p:nvPr/>
                </p:nvSpPr>
                <p:spPr>
                  <a:xfrm>
                    <a:off x="1002960" y="127152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1045440" y="1310760"/>
                    <a:ext cx="14832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64" name=""/>
            <p:cNvGrpSpPr/>
            <p:nvPr/>
          </p:nvGrpSpPr>
          <p:grpSpPr>
            <a:xfrm>
              <a:off x="733320" y="1441440"/>
              <a:ext cx="2871720" cy="254160"/>
              <a:chOff x="733320" y="1441440"/>
              <a:chExt cx="2871720" cy="254160"/>
            </a:xfrm>
          </p:grpSpPr>
          <p:sp>
            <p:nvSpPr>
              <p:cNvPr id="2565" name=""/>
              <p:cNvSpPr/>
              <p:nvPr/>
            </p:nvSpPr>
            <p:spPr>
              <a:xfrm flipH="1">
                <a:off x="733320" y="156204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328400" y="1449360"/>
                <a:ext cx="2276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34  76mm Medium Tank  RU-5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7" name=""/>
              <p:cNvGrpSpPr/>
              <p:nvPr/>
            </p:nvGrpSpPr>
            <p:grpSpPr>
              <a:xfrm>
                <a:off x="1002960" y="1441440"/>
                <a:ext cx="231840" cy="207360"/>
                <a:chOff x="1002960" y="1441440"/>
                <a:chExt cx="231840" cy="207360"/>
              </a:xfrm>
            </p:grpSpPr>
            <p:grpSp>
              <p:nvGrpSpPr>
                <p:cNvPr id="2568" name=""/>
                <p:cNvGrpSpPr/>
                <p:nvPr/>
              </p:nvGrpSpPr>
              <p:grpSpPr>
                <a:xfrm>
                  <a:off x="1053720" y="1441440"/>
                  <a:ext cx="131760" cy="26640"/>
                  <a:chOff x="1053720" y="1441440"/>
                  <a:chExt cx="131760" cy="26640"/>
                </a:xfrm>
              </p:grpSpPr>
              <p:sp>
                <p:nvSpPr>
                  <p:cNvPr id="2569" name=""/>
                  <p:cNvSpPr/>
                  <p:nvPr/>
                </p:nvSpPr>
                <p:spPr>
                  <a:xfrm>
                    <a:off x="1053720" y="1441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1104480" y="14414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1158480" y="1441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2" name=""/>
                <p:cNvGrpSpPr/>
                <p:nvPr/>
              </p:nvGrpSpPr>
              <p:grpSpPr>
                <a:xfrm>
                  <a:off x="1002960" y="1491840"/>
                  <a:ext cx="231840" cy="156960"/>
                  <a:chOff x="1002960" y="1491840"/>
                  <a:chExt cx="231840" cy="156960"/>
                </a:xfrm>
              </p:grpSpPr>
              <p:sp>
                <p:nvSpPr>
                  <p:cNvPr id="2573" name=""/>
                  <p:cNvSpPr/>
                  <p:nvPr/>
                </p:nvSpPr>
                <p:spPr>
                  <a:xfrm>
                    <a:off x="1002960" y="149184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1045440" y="153108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75" name=""/>
            <p:cNvSpPr/>
            <p:nvPr/>
          </p:nvSpPr>
          <p:spPr>
            <a:xfrm>
              <a:off x="509760" y="150840"/>
              <a:ext cx="24904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Maneuver Element - 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xed Tank Battalion March ‘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6" name=""/>
            <p:cNvGrpSpPr/>
            <p:nvPr/>
          </p:nvGrpSpPr>
          <p:grpSpPr>
            <a:xfrm>
              <a:off x="741240" y="1728720"/>
              <a:ext cx="2871720" cy="254160"/>
              <a:chOff x="741240" y="1728720"/>
              <a:chExt cx="2871720" cy="254160"/>
            </a:xfrm>
          </p:grpSpPr>
          <p:sp>
            <p:nvSpPr>
              <p:cNvPr id="2577" name=""/>
              <p:cNvSpPr/>
              <p:nvPr/>
            </p:nvSpPr>
            <p:spPr>
              <a:xfrm flipH="1">
                <a:off x="741240" y="184932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336320" y="1736640"/>
                <a:ext cx="2276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60  Light  Tank                  RU-5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9" name=""/>
              <p:cNvGrpSpPr/>
              <p:nvPr/>
            </p:nvGrpSpPr>
            <p:grpSpPr>
              <a:xfrm>
                <a:off x="1010880" y="1728720"/>
                <a:ext cx="231840" cy="207360"/>
                <a:chOff x="1010880" y="1728720"/>
                <a:chExt cx="231840" cy="207360"/>
              </a:xfrm>
            </p:grpSpPr>
            <p:grpSp>
              <p:nvGrpSpPr>
                <p:cNvPr id="2580" name=""/>
                <p:cNvGrpSpPr/>
                <p:nvPr/>
              </p:nvGrpSpPr>
              <p:grpSpPr>
                <a:xfrm>
                  <a:off x="1061640" y="1728720"/>
                  <a:ext cx="131760" cy="26640"/>
                  <a:chOff x="1061640" y="1728720"/>
                  <a:chExt cx="131760" cy="26640"/>
                </a:xfrm>
              </p:grpSpPr>
              <p:sp>
                <p:nvSpPr>
                  <p:cNvPr id="2581" name=""/>
                  <p:cNvSpPr/>
                  <p:nvPr/>
                </p:nvSpPr>
                <p:spPr>
                  <a:xfrm>
                    <a:off x="1061640" y="17287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1112400" y="17287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1166400" y="17287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4" name=""/>
                <p:cNvGrpSpPr/>
                <p:nvPr/>
              </p:nvGrpSpPr>
              <p:grpSpPr>
                <a:xfrm>
                  <a:off x="1010880" y="1779120"/>
                  <a:ext cx="231840" cy="156960"/>
                  <a:chOff x="1010880" y="1779120"/>
                  <a:chExt cx="231840" cy="156960"/>
                </a:xfrm>
              </p:grpSpPr>
              <p:sp>
                <p:nvSpPr>
                  <p:cNvPr id="2585" name=""/>
                  <p:cNvSpPr/>
                  <p:nvPr/>
                </p:nvSpPr>
                <p:spPr>
                  <a:xfrm>
                    <a:off x="1010880" y="177912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1053360" y="181836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87" name=""/>
          <p:cNvGrpSpPr/>
          <p:nvPr/>
        </p:nvGrpSpPr>
        <p:grpSpPr>
          <a:xfrm>
            <a:off x="550800" y="2327400"/>
            <a:ext cx="3300120" cy="1765440"/>
            <a:chOff x="550800" y="2327400"/>
            <a:chExt cx="3300120" cy="1765440"/>
          </a:xfrm>
        </p:grpSpPr>
        <p:sp>
          <p:nvSpPr>
            <p:cNvPr id="2588" name=""/>
            <p:cNvSpPr/>
            <p:nvPr/>
          </p:nvSpPr>
          <p:spPr>
            <a:xfrm flipH="1">
              <a:off x="752400" y="3192480"/>
              <a:ext cx="7920" cy="7650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9" name=""/>
            <p:cNvGrpSpPr/>
            <p:nvPr/>
          </p:nvGrpSpPr>
          <p:grpSpPr>
            <a:xfrm>
              <a:off x="608040" y="2954160"/>
              <a:ext cx="284040" cy="252360"/>
              <a:chOff x="608040" y="2954160"/>
              <a:chExt cx="284040" cy="252360"/>
            </a:xfrm>
          </p:grpSpPr>
          <p:grpSp>
            <p:nvGrpSpPr>
              <p:cNvPr id="2590" name=""/>
              <p:cNvGrpSpPr/>
              <p:nvPr/>
            </p:nvGrpSpPr>
            <p:grpSpPr>
              <a:xfrm>
                <a:off x="608040" y="3012840"/>
                <a:ext cx="284040" cy="193680"/>
                <a:chOff x="608040" y="3012840"/>
                <a:chExt cx="284040" cy="19368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608040" y="301284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59880" y="3061080"/>
                  <a:ext cx="182160" cy="925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711000" y="2954160"/>
                <a:ext cx="76320" cy="63720"/>
                <a:chOff x="711000" y="2954160"/>
                <a:chExt cx="76320" cy="637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711000" y="29541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787320" y="29541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6" name=""/>
            <p:cNvGrpSpPr/>
            <p:nvPr/>
          </p:nvGrpSpPr>
          <p:grpSpPr>
            <a:xfrm>
              <a:off x="759960" y="2963880"/>
              <a:ext cx="3090960" cy="443160"/>
              <a:chOff x="759960" y="2963880"/>
              <a:chExt cx="3090960" cy="443160"/>
            </a:xfrm>
          </p:grpSpPr>
          <p:sp>
            <p:nvSpPr>
              <p:cNvPr id="2597" name=""/>
              <p:cNvSpPr/>
              <p:nvPr/>
            </p:nvSpPr>
            <p:spPr>
              <a:xfrm>
                <a:off x="1369800" y="3160800"/>
                <a:ext cx="248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34 76mm Medium Tank       RU-5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759960" y="328464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379160" y="296388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0" name=""/>
              <p:cNvGrpSpPr/>
              <p:nvPr/>
            </p:nvGrpSpPr>
            <p:grpSpPr>
              <a:xfrm>
                <a:off x="1050840" y="3165480"/>
                <a:ext cx="231480" cy="208080"/>
                <a:chOff x="1050840" y="3165480"/>
                <a:chExt cx="231480" cy="208080"/>
              </a:xfrm>
            </p:grpSpPr>
            <p:grpSp>
              <p:nvGrpSpPr>
                <p:cNvPr id="2601" name=""/>
                <p:cNvGrpSpPr/>
                <p:nvPr/>
              </p:nvGrpSpPr>
              <p:grpSpPr>
                <a:xfrm>
                  <a:off x="1101240" y="3165480"/>
                  <a:ext cx="131040" cy="27000"/>
                  <a:chOff x="1101240" y="3165480"/>
                  <a:chExt cx="131040" cy="27000"/>
                </a:xfrm>
              </p:grpSpPr>
              <p:sp>
                <p:nvSpPr>
                  <p:cNvPr id="2602" name=""/>
                  <p:cNvSpPr/>
                  <p:nvPr/>
                </p:nvSpPr>
                <p:spPr>
                  <a:xfrm>
                    <a:off x="1101240" y="31654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>
                    <a:off x="1151640" y="31654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1205640" y="31654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5" name=""/>
                <p:cNvGrpSpPr/>
                <p:nvPr/>
              </p:nvGrpSpPr>
              <p:grpSpPr>
                <a:xfrm>
                  <a:off x="1050840" y="3216240"/>
                  <a:ext cx="231480" cy="157320"/>
                  <a:chOff x="1050840" y="3216240"/>
                  <a:chExt cx="231480" cy="157320"/>
                </a:xfrm>
              </p:grpSpPr>
              <p:sp>
                <p:nvSpPr>
                  <p:cNvPr id="2606" name=""/>
                  <p:cNvSpPr/>
                  <p:nvPr/>
                </p:nvSpPr>
                <p:spPr>
                  <a:xfrm>
                    <a:off x="1050840" y="321624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1093320" y="3255480"/>
                    <a:ext cx="14832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08" name=""/>
            <p:cNvGrpSpPr/>
            <p:nvPr/>
          </p:nvGrpSpPr>
          <p:grpSpPr>
            <a:xfrm>
              <a:off x="766800" y="3838680"/>
              <a:ext cx="2871720" cy="254160"/>
              <a:chOff x="766800" y="3838680"/>
              <a:chExt cx="2871720" cy="254160"/>
            </a:xfrm>
          </p:grpSpPr>
          <p:sp>
            <p:nvSpPr>
              <p:cNvPr id="2609" name=""/>
              <p:cNvSpPr/>
              <p:nvPr/>
            </p:nvSpPr>
            <p:spPr>
              <a:xfrm flipH="1">
                <a:off x="766800" y="395928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361880" y="3846600"/>
                <a:ext cx="2276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34  76mm Medium Tank  RU-5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1" name=""/>
              <p:cNvGrpSpPr/>
              <p:nvPr/>
            </p:nvGrpSpPr>
            <p:grpSpPr>
              <a:xfrm>
                <a:off x="1036440" y="3838680"/>
                <a:ext cx="231840" cy="207360"/>
                <a:chOff x="1036440" y="3838680"/>
                <a:chExt cx="231840" cy="207360"/>
              </a:xfrm>
            </p:grpSpPr>
            <p:grpSp>
              <p:nvGrpSpPr>
                <p:cNvPr id="2612" name=""/>
                <p:cNvGrpSpPr/>
                <p:nvPr/>
              </p:nvGrpSpPr>
              <p:grpSpPr>
                <a:xfrm>
                  <a:off x="1087200" y="3838680"/>
                  <a:ext cx="131760" cy="26640"/>
                  <a:chOff x="1087200" y="3838680"/>
                  <a:chExt cx="131760" cy="26640"/>
                </a:xfrm>
              </p:grpSpPr>
              <p:sp>
                <p:nvSpPr>
                  <p:cNvPr id="2613" name=""/>
                  <p:cNvSpPr/>
                  <p:nvPr/>
                </p:nvSpPr>
                <p:spPr>
                  <a:xfrm>
                    <a:off x="1087200" y="38386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1137960" y="3838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1191960" y="38386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6" name=""/>
                <p:cNvGrpSpPr/>
                <p:nvPr/>
              </p:nvGrpSpPr>
              <p:grpSpPr>
                <a:xfrm>
                  <a:off x="1036440" y="3889080"/>
                  <a:ext cx="231840" cy="156960"/>
                  <a:chOff x="1036440" y="3889080"/>
                  <a:chExt cx="231840" cy="156960"/>
                </a:xfrm>
              </p:grpSpPr>
              <p:sp>
                <p:nvSpPr>
                  <p:cNvPr id="2617" name=""/>
                  <p:cNvSpPr/>
                  <p:nvPr/>
                </p:nvSpPr>
                <p:spPr>
                  <a:xfrm>
                    <a:off x="1036440" y="388908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1078920" y="392832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19" name=""/>
            <p:cNvSpPr/>
            <p:nvPr/>
          </p:nvSpPr>
          <p:spPr>
            <a:xfrm>
              <a:off x="550800" y="2327400"/>
              <a:ext cx="2490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Maneuver Element - 4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34 Tank Battalion July ‘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100160" y="3524400"/>
              <a:ext cx="22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34  Tank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519120" y="4290840"/>
            <a:ext cx="3300120" cy="1983240"/>
            <a:chOff x="519120" y="4290840"/>
            <a:chExt cx="3300120" cy="1983240"/>
          </a:xfrm>
        </p:grpSpPr>
        <p:sp>
          <p:nvSpPr>
            <p:cNvPr id="2622" name=""/>
            <p:cNvSpPr/>
            <p:nvPr/>
          </p:nvSpPr>
          <p:spPr>
            <a:xfrm>
              <a:off x="728640" y="5156280"/>
              <a:ext cx="0" cy="9698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3" name=""/>
            <p:cNvGrpSpPr/>
            <p:nvPr/>
          </p:nvGrpSpPr>
          <p:grpSpPr>
            <a:xfrm>
              <a:off x="576360" y="4917960"/>
              <a:ext cx="284040" cy="252360"/>
              <a:chOff x="576360" y="4917960"/>
              <a:chExt cx="284040" cy="252360"/>
            </a:xfrm>
          </p:grpSpPr>
          <p:grpSp>
            <p:nvGrpSpPr>
              <p:cNvPr id="2624" name=""/>
              <p:cNvGrpSpPr/>
              <p:nvPr/>
            </p:nvGrpSpPr>
            <p:grpSpPr>
              <a:xfrm>
                <a:off x="576360" y="4976640"/>
                <a:ext cx="284040" cy="193680"/>
                <a:chOff x="576360" y="4976640"/>
                <a:chExt cx="284040" cy="19368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76360" y="497664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28200" y="5024880"/>
                  <a:ext cx="182160" cy="925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7" name=""/>
              <p:cNvGrpSpPr/>
              <p:nvPr/>
            </p:nvGrpSpPr>
            <p:grpSpPr>
              <a:xfrm>
                <a:off x="679320" y="4917960"/>
                <a:ext cx="76320" cy="63720"/>
                <a:chOff x="679320" y="4917960"/>
                <a:chExt cx="76320" cy="63720"/>
              </a:xfrm>
            </p:grpSpPr>
            <p:sp>
              <p:nvSpPr>
                <p:cNvPr id="2628" name=""/>
                <p:cNvSpPr/>
                <p:nvPr/>
              </p:nvSpPr>
              <p:spPr>
                <a:xfrm>
                  <a:off x="679320" y="49179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755640" y="49179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30" name=""/>
            <p:cNvGrpSpPr/>
            <p:nvPr/>
          </p:nvGrpSpPr>
          <p:grpSpPr>
            <a:xfrm>
              <a:off x="728280" y="4927680"/>
              <a:ext cx="3090960" cy="443160"/>
              <a:chOff x="728280" y="4927680"/>
              <a:chExt cx="3090960" cy="443160"/>
            </a:xfrm>
          </p:grpSpPr>
          <p:sp>
            <p:nvSpPr>
              <p:cNvPr id="2631" name=""/>
              <p:cNvSpPr/>
              <p:nvPr/>
            </p:nvSpPr>
            <p:spPr>
              <a:xfrm>
                <a:off x="1338120" y="5124600"/>
                <a:ext cx="248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70 Light Tank       RU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>
                <a:off x="728280" y="524844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1347480" y="492768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4" name=""/>
              <p:cNvGrpSpPr/>
              <p:nvPr/>
            </p:nvGrpSpPr>
            <p:grpSpPr>
              <a:xfrm>
                <a:off x="1019160" y="5129280"/>
                <a:ext cx="231480" cy="208080"/>
                <a:chOff x="1019160" y="5129280"/>
                <a:chExt cx="231480" cy="208080"/>
              </a:xfrm>
            </p:grpSpPr>
            <p:grpSp>
              <p:nvGrpSpPr>
                <p:cNvPr id="2635" name=""/>
                <p:cNvGrpSpPr/>
                <p:nvPr/>
              </p:nvGrpSpPr>
              <p:grpSpPr>
                <a:xfrm>
                  <a:off x="1069560" y="5129280"/>
                  <a:ext cx="131040" cy="27000"/>
                  <a:chOff x="1069560" y="5129280"/>
                  <a:chExt cx="131040" cy="27000"/>
                </a:xfrm>
              </p:grpSpPr>
              <p:sp>
                <p:nvSpPr>
                  <p:cNvPr id="2636" name=""/>
                  <p:cNvSpPr/>
                  <p:nvPr/>
                </p:nvSpPr>
                <p:spPr>
                  <a:xfrm>
                    <a:off x="1069560" y="51292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1119960" y="51292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>
                    <a:off x="1173960" y="51292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9" name=""/>
                <p:cNvGrpSpPr/>
                <p:nvPr/>
              </p:nvGrpSpPr>
              <p:grpSpPr>
                <a:xfrm>
                  <a:off x="1019160" y="5180040"/>
                  <a:ext cx="231480" cy="157320"/>
                  <a:chOff x="1019160" y="5180040"/>
                  <a:chExt cx="231480" cy="157320"/>
                </a:xfrm>
              </p:grpSpPr>
              <p:sp>
                <p:nvSpPr>
                  <p:cNvPr id="2640" name=""/>
                  <p:cNvSpPr/>
                  <p:nvPr/>
                </p:nvSpPr>
                <p:spPr>
                  <a:xfrm>
                    <a:off x="1019160" y="518004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>
                    <a:off x="1061640" y="5219280"/>
                    <a:ext cx="14832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42" name=""/>
            <p:cNvGrpSpPr/>
            <p:nvPr/>
          </p:nvGrpSpPr>
          <p:grpSpPr>
            <a:xfrm>
              <a:off x="743040" y="5438880"/>
              <a:ext cx="2871720" cy="254160"/>
              <a:chOff x="743040" y="5438880"/>
              <a:chExt cx="2871720" cy="254160"/>
            </a:xfrm>
          </p:grpSpPr>
          <p:sp>
            <p:nvSpPr>
              <p:cNvPr id="2643" name=""/>
              <p:cNvSpPr/>
              <p:nvPr/>
            </p:nvSpPr>
            <p:spPr>
              <a:xfrm flipH="1">
                <a:off x="743040" y="555948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1338120" y="5446800"/>
                <a:ext cx="2276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34  76mm Medium Tank  RU-5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5" name=""/>
              <p:cNvGrpSpPr/>
              <p:nvPr/>
            </p:nvGrpSpPr>
            <p:grpSpPr>
              <a:xfrm>
                <a:off x="1012680" y="5438880"/>
                <a:ext cx="231840" cy="207360"/>
                <a:chOff x="1012680" y="5438880"/>
                <a:chExt cx="231840" cy="207360"/>
              </a:xfrm>
            </p:grpSpPr>
            <p:grpSp>
              <p:nvGrpSpPr>
                <p:cNvPr id="2646" name=""/>
                <p:cNvGrpSpPr/>
                <p:nvPr/>
              </p:nvGrpSpPr>
              <p:grpSpPr>
                <a:xfrm>
                  <a:off x="1063440" y="5438880"/>
                  <a:ext cx="131760" cy="26640"/>
                  <a:chOff x="1063440" y="5438880"/>
                  <a:chExt cx="131760" cy="26640"/>
                </a:xfrm>
              </p:grpSpPr>
              <p:sp>
                <p:nvSpPr>
                  <p:cNvPr id="2647" name=""/>
                  <p:cNvSpPr/>
                  <p:nvPr/>
                </p:nvSpPr>
                <p:spPr>
                  <a:xfrm>
                    <a:off x="1063440" y="5438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>
                    <a:off x="1114200" y="54388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1168200" y="5438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0" name=""/>
                <p:cNvGrpSpPr/>
                <p:nvPr/>
              </p:nvGrpSpPr>
              <p:grpSpPr>
                <a:xfrm>
                  <a:off x="1012680" y="5489280"/>
                  <a:ext cx="231840" cy="156960"/>
                  <a:chOff x="1012680" y="5489280"/>
                  <a:chExt cx="231840" cy="156960"/>
                </a:xfrm>
              </p:grpSpPr>
              <p:sp>
                <p:nvSpPr>
                  <p:cNvPr id="2651" name=""/>
                  <p:cNvSpPr/>
                  <p:nvPr/>
                </p:nvSpPr>
                <p:spPr>
                  <a:xfrm>
                    <a:off x="1012680" y="548928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1055160" y="552852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53" name=""/>
            <p:cNvSpPr/>
            <p:nvPr/>
          </p:nvSpPr>
          <p:spPr>
            <a:xfrm>
              <a:off x="519120" y="4290840"/>
              <a:ext cx="2490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Maneuver Element - 4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Tank Battalion July ‘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4" name=""/>
            <p:cNvGrpSpPr/>
            <p:nvPr/>
          </p:nvGrpSpPr>
          <p:grpSpPr>
            <a:xfrm>
              <a:off x="750960" y="5749920"/>
              <a:ext cx="2871720" cy="254160"/>
              <a:chOff x="750960" y="5749920"/>
              <a:chExt cx="2871720" cy="254160"/>
            </a:xfrm>
          </p:grpSpPr>
          <p:sp>
            <p:nvSpPr>
              <p:cNvPr id="2655" name=""/>
              <p:cNvSpPr/>
              <p:nvPr/>
            </p:nvSpPr>
            <p:spPr>
              <a:xfrm flipH="1">
                <a:off x="750960" y="587052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346040" y="5757840"/>
                <a:ext cx="2276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70  Light  Tank                  RU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7" name=""/>
              <p:cNvGrpSpPr/>
              <p:nvPr/>
            </p:nvGrpSpPr>
            <p:grpSpPr>
              <a:xfrm>
                <a:off x="1020600" y="5749920"/>
                <a:ext cx="231840" cy="207360"/>
                <a:chOff x="1020600" y="5749920"/>
                <a:chExt cx="231840" cy="207360"/>
              </a:xfrm>
            </p:grpSpPr>
            <p:grpSp>
              <p:nvGrpSpPr>
                <p:cNvPr id="2658" name=""/>
                <p:cNvGrpSpPr/>
                <p:nvPr/>
              </p:nvGrpSpPr>
              <p:grpSpPr>
                <a:xfrm>
                  <a:off x="1071360" y="5749920"/>
                  <a:ext cx="131760" cy="26640"/>
                  <a:chOff x="1071360" y="5749920"/>
                  <a:chExt cx="131760" cy="26640"/>
                </a:xfrm>
              </p:grpSpPr>
              <p:sp>
                <p:nvSpPr>
                  <p:cNvPr id="2659" name=""/>
                  <p:cNvSpPr/>
                  <p:nvPr/>
                </p:nvSpPr>
                <p:spPr>
                  <a:xfrm>
                    <a:off x="1071360" y="57499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1122120" y="57499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>
                    <a:off x="1176120" y="57499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2" name=""/>
                <p:cNvGrpSpPr/>
                <p:nvPr/>
              </p:nvGrpSpPr>
              <p:grpSpPr>
                <a:xfrm>
                  <a:off x="1020600" y="5800320"/>
                  <a:ext cx="231840" cy="156960"/>
                  <a:chOff x="1020600" y="5800320"/>
                  <a:chExt cx="231840" cy="156960"/>
                </a:xfrm>
              </p:grpSpPr>
              <p:sp>
                <p:nvSpPr>
                  <p:cNvPr id="2663" name=""/>
                  <p:cNvSpPr/>
                  <p:nvPr/>
                </p:nvSpPr>
                <p:spPr>
                  <a:xfrm>
                    <a:off x="1020600" y="580032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>
                    <a:off x="1063080" y="583956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65" name=""/>
            <p:cNvGrpSpPr/>
            <p:nvPr/>
          </p:nvGrpSpPr>
          <p:grpSpPr>
            <a:xfrm>
              <a:off x="733320" y="6019920"/>
              <a:ext cx="2871720" cy="254160"/>
              <a:chOff x="733320" y="6019920"/>
              <a:chExt cx="2871720" cy="254160"/>
            </a:xfrm>
          </p:grpSpPr>
          <p:sp>
            <p:nvSpPr>
              <p:cNvPr id="2666" name=""/>
              <p:cNvSpPr/>
              <p:nvPr/>
            </p:nvSpPr>
            <p:spPr>
              <a:xfrm flipH="1">
                <a:off x="733320" y="614052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328400" y="6027840"/>
                <a:ext cx="2276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70  Light  Tank                  RU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8" name=""/>
              <p:cNvGrpSpPr/>
              <p:nvPr/>
            </p:nvGrpSpPr>
            <p:grpSpPr>
              <a:xfrm>
                <a:off x="1002960" y="6019920"/>
                <a:ext cx="231840" cy="207360"/>
                <a:chOff x="1002960" y="6019920"/>
                <a:chExt cx="231840" cy="207360"/>
              </a:xfrm>
            </p:grpSpPr>
            <p:grpSp>
              <p:nvGrpSpPr>
                <p:cNvPr id="2669" name=""/>
                <p:cNvGrpSpPr/>
                <p:nvPr/>
              </p:nvGrpSpPr>
              <p:grpSpPr>
                <a:xfrm>
                  <a:off x="1053720" y="6019920"/>
                  <a:ext cx="131760" cy="26640"/>
                  <a:chOff x="1053720" y="6019920"/>
                  <a:chExt cx="131760" cy="26640"/>
                </a:xfrm>
              </p:grpSpPr>
              <p:sp>
                <p:nvSpPr>
                  <p:cNvPr id="2670" name=""/>
                  <p:cNvSpPr/>
                  <p:nvPr/>
                </p:nvSpPr>
                <p:spPr>
                  <a:xfrm>
                    <a:off x="1053720" y="60199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>
                    <a:off x="1104480" y="60199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>
                    <a:off x="1158480" y="60199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3" name=""/>
                <p:cNvGrpSpPr/>
                <p:nvPr/>
              </p:nvGrpSpPr>
              <p:grpSpPr>
                <a:xfrm>
                  <a:off x="1002960" y="6070320"/>
                  <a:ext cx="231840" cy="156960"/>
                  <a:chOff x="1002960" y="6070320"/>
                  <a:chExt cx="231840" cy="156960"/>
                </a:xfrm>
              </p:grpSpPr>
              <p:sp>
                <p:nvSpPr>
                  <p:cNvPr id="2674" name=""/>
                  <p:cNvSpPr/>
                  <p:nvPr/>
                </p:nvSpPr>
                <p:spPr>
                  <a:xfrm>
                    <a:off x="1002960" y="607032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>
                    <a:off x="1045440" y="610956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676" name=""/>
          <p:cNvGrpSpPr/>
          <p:nvPr/>
        </p:nvGrpSpPr>
        <p:grpSpPr>
          <a:xfrm>
            <a:off x="4968720" y="3394080"/>
            <a:ext cx="3448080" cy="2929320"/>
            <a:chOff x="4968720" y="3394080"/>
            <a:chExt cx="3448080" cy="2929320"/>
          </a:xfrm>
        </p:grpSpPr>
        <p:sp>
          <p:nvSpPr>
            <p:cNvPr id="2677" name=""/>
            <p:cNvSpPr/>
            <p:nvPr/>
          </p:nvSpPr>
          <p:spPr>
            <a:xfrm>
              <a:off x="4983120" y="3394080"/>
              <a:ext cx="32605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Maneuver Element - 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uards Breakthrough Tank Regiment October 19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8720" y="5613480"/>
              <a:ext cx="30733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 replace Kv-1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S-I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U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V-85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urchill IV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9" name=""/>
            <p:cNvGrpSpPr/>
            <p:nvPr/>
          </p:nvGrpSpPr>
          <p:grpSpPr>
            <a:xfrm>
              <a:off x="4979880" y="4092480"/>
              <a:ext cx="3436920" cy="1292040"/>
              <a:chOff x="4979880" y="4092480"/>
              <a:chExt cx="3436920" cy="1292040"/>
            </a:xfrm>
          </p:grpSpPr>
          <p:sp>
            <p:nvSpPr>
              <p:cNvPr id="2680" name=""/>
              <p:cNvSpPr/>
              <p:nvPr/>
            </p:nvSpPr>
            <p:spPr>
              <a:xfrm flipH="1">
                <a:off x="5124240" y="4330800"/>
                <a:ext cx="7920" cy="98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1" name=""/>
              <p:cNvGrpSpPr/>
              <p:nvPr/>
            </p:nvGrpSpPr>
            <p:grpSpPr>
              <a:xfrm>
                <a:off x="4979880" y="4092480"/>
                <a:ext cx="284040" cy="252360"/>
                <a:chOff x="4979880" y="4092480"/>
                <a:chExt cx="284040" cy="252360"/>
              </a:xfrm>
            </p:grpSpPr>
            <p:grpSp>
              <p:nvGrpSpPr>
                <p:cNvPr id="2682" name=""/>
                <p:cNvGrpSpPr/>
                <p:nvPr/>
              </p:nvGrpSpPr>
              <p:grpSpPr>
                <a:xfrm>
                  <a:off x="4979880" y="4151160"/>
                  <a:ext cx="284040" cy="193680"/>
                  <a:chOff x="4979880" y="4151160"/>
                  <a:chExt cx="284040" cy="193680"/>
                </a:xfrm>
              </p:grpSpPr>
              <p:sp>
                <p:nvSpPr>
                  <p:cNvPr id="2683" name=""/>
                  <p:cNvSpPr/>
                  <p:nvPr/>
                </p:nvSpPr>
                <p:spPr>
                  <a:xfrm>
                    <a:off x="4979880" y="415116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5031720" y="419940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5" name=""/>
                <p:cNvGrpSpPr/>
                <p:nvPr/>
              </p:nvGrpSpPr>
              <p:grpSpPr>
                <a:xfrm>
                  <a:off x="5082840" y="4092480"/>
                  <a:ext cx="75600" cy="63360"/>
                  <a:chOff x="5082840" y="4092480"/>
                  <a:chExt cx="75600" cy="63360"/>
                </a:xfrm>
              </p:grpSpPr>
              <p:sp>
                <p:nvSpPr>
                  <p:cNvPr id="2686" name=""/>
                  <p:cNvSpPr/>
                  <p:nvPr/>
                </p:nvSpPr>
                <p:spPr>
                  <a:xfrm>
                    <a:off x="5082840" y="40924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5158440" y="40924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8" name=""/>
              <p:cNvGrpSpPr/>
              <p:nvPr/>
            </p:nvGrpSpPr>
            <p:grpSpPr>
              <a:xfrm>
                <a:off x="5122440" y="4194000"/>
                <a:ext cx="3294360" cy="369720"/>
                <a:chOff x="5122440" y="4194000"/>
                <a:chExt cx="3294360" cy="369720"/>
              </a:xfrm>
            </p:grpSpPr>
            <p:sp>
              <p:nvSpPr>
                <p:cNvPr id="2689" name=""/>
                <p:cNvSpPr/>
                <p:nvPr/>
              </p:nvSpPr>
              <p:spPr>
                <a:xfrm>
                  <a:off x="5732280" y="4348080"/>
                  <a:ext cx="2684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T34 76mm Medium Tank (a)       RU-5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 flipH="1">
                  <a:off x="5122440" y="447192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5732280" y="419400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2" name=""/>
                <p:cNvGrpSpPr/>
                <p:nvPr/>
              </p:nvGrpSpPr>
              <p:grpSpPr>
                <a:xfrm>
                  <a:off x="5413320" y="4352760"/>
                  <a:ext cx="231840" cy="208080"/>
                  <a:chOff x="5413320" y="4352760"/>
                  <a:chExt cx="231840" cy="208080"/>
                </a:xfrm>
              </p:grpSpPr>
              <p:grpSp>
                <p:nvGrpSpPr>
                  <p:cNvPr id="2693" name=""/>
                  <p:cNvGrpSpPr/>
                  <p:nvPr/>
                </p:nvGrpSpPr>
                <p:grpSpPr>
                  <a:xfrm>
                    <a:off x="5464080" y="4352760"/>
                    <a:ext cx="131760" cy="27000"/>
                    <a:chOff x="5464080" y="4352760"/>
                    <a:chExt cx="131760" cy="27000"/>
                  </a:xfrm>
                </p:grpSpPr>
                <p:sp>
                  <p:nvSpPr>
                    <p:cNvPr id="2694" name=""/>
                    <p:cNvSpPr/>
                    <p:nvPr/>
                  </p:nvSpPr>
                  <p:spPr>
                    <a:xfrm>
                      <a:off x="5464080" y="43527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5" name=""/>
                    <p:cNvSpPr/>
                    <p:nvPr/>
                  </p:nvSpPr>
                  <p:spPr>
                    <a:xfrm>
                      <a:off x="5514840" y="43527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6" name=""/>
                    <p:cNvSpPr/>
                    <p:nvPr/>
                  </p:nvSpPr>
                  <p:spPr>
                    <a:xfrm>
                      <a:off x="5568840" y="43527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7" name=""/>
                  <p:cNvGrpSpPr/>
                  <p:nvPr/>
                </p:nvGrpSpPr>
                <p:grpSpPr>
                  <a:xfrm>
                    <a:off x="5413320" y="4403520"/>
                    <a:ext cx="231840" cy="157320"/>
                    <a:chOff x="5413320" y="4403520"/>
                    <a:chExt cx="231840" cy="157320"/>
                  </a:xfrm>
                </p:grpSpPr>
                <p:sp>
                  <p:nvSpPr>
                    <p:cNvPr id="2698" name=""/>
                    <p:cNvSpPr/>
                    <p:nvPr/>
                  </p:nvSpPr>
                  <p:spPr>
                    <a:xfrm>
                      <a:off x="5413320" y="4403520"/>
                      <a:ext cx="23184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9" name=""/>
                    <p:cNvSpPr/>
                    <p:nvPr/>
                  </p:nvSpPr>
                  <p:spPr>
                    <a:xfrm>
                      <a:off x="5455800" y="4442760"/>
                      <a:ext cx="1486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00" name=""/>
              <p:cNvGrpSpPr/>
              <p:nvPr/>
            </p:nvGrpSpPr>
            <p:grpSpPr>
              <a:xfrm>
                <a:off x="5120640" y="5113440"/>
                <a:ext cx="2846880" cy="271080"/>
                <a:chOff x="5120640" y="5113440"/>
                <a:chExt cx="2846880" cy="271080"/>
              </a:xfrm>
            </p:grpSpPr>
            <p:sp>
              <p:nvSpPr>
                <p:cNvPr id="2701" name=""/>
                <p:cNvSpPr/>
                <p:nvPr/>
              </p:nvSpPr>
              <p:spPr>
                <a:xfrm flipH="1">
                  <a:off x="5120640" y="528624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2" name=""/>
                <p:cNvGrpSpPr/>
                <p:nvPr/>
              </p:nvGrpSpPr>
              <p:grpSpPr>
                <a:xfrm>
                  <a:off x="5351040" y="5113440"/>
                  <a:ext cx="284040" cy="258480"/>
                  <a:chOff x="5351040" y="5113440"/>
                  <a:chExt cx="284040" cy="258480"/>
                </a:xfrm>
              </p:grpSpPr>
              <p:sp>
                <p:nvSpPr>
                  <p:cNvPr id="2703" name=""/>
                  <p:cNvSpPr/>
                  <p:nvPr/>
                </p:nvSpPr>
                <p:spPr>
                  <a:xfrm>
                    <a:off x="5492160" y="51134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04" name=""/>
                  <p:cNvGrpSpPr/>
                  <p:nvPr/>
                </p:nvGrpSpPr>
                <p:grpSpPr>
                  <a:xfrm>
                    <a:off x="5351040" y="5178240"/>
                    <a:ext cx="284040" cy="193680"/>
                    <a:chOff x="5351040" y="5178240"/>
                    <a:chExt cx="284040" cy="193680"/>
                  </a:xfrm>
                </p:grpSpPr>
                <p:sp>
                  <p:nvSpPr>
                    <p:cNvPr id="2705" name=""/>
                    <p:cNvSpPr/>
                    <p:nvPr/>
                  </p:nvSpPr>
                  <p:spPr>
                    <a:xfrm>
                      <a:off x="5351040" y="5178240"/>
                      <a:ext cx="28404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6" name=""/>
                    <p:cNvSpPr/>
                    <p:nvPr/>
                  </p:nvSpPr>
                  <p:spPr>
                    <a:xfrm>
                      <a:off x="5402880" y="5226480"/>
                      <a:ext cx="182160" cy="925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07" name=""/>
                <p:cNvSpPr/>
                <p:nvPr/>
              </p:nvSpPr>
              <p:spPr>
                <a:xfrm>
                  <a:off x="5706720" y="5168880"/>
                  <a:ext cx="226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8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KV-1  76mm Heavy Tank  (a)     RU-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5146200" y="4592520"/>
                <a:ext cx="3161160" cy="466200"/>
                <a:chOff x="5146200" y="4592520"/>
                <a:chExt cx="3161160" cy="46620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5708520" y="4592520"/>
                  <a:ext cx="2421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Armored Car Recon Plato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5756040" y="4824360"/>
                  <a:ext cx="2551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BA-64                                   RU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5146200" y="494820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5765760" y="472896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Rec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3" name=""/>
                <p:cNvGrpSpPr/>
                <p:nvPr/>
              </p:nvGrpSpPr>
              <p:grpSpPr>
                <a:xfrm>
                  <a:off x="5440320" y="4817880"/>
                  <a:ext cx="231840" cy="240840"/>
                  <a:chOff x="5440320" y="4817880"/>
                  <a:chExt cx="231840" cy="240840"/>
                </a:xfrm>
              </p:grpSpPr>
              <p:grpSp>
                <p:nvGrpSpPr>
                  <p:cNvPr id="2714" name=""/>
                  <p:cNvGrpSpPr/>
                  <p:nvPr/>
                </p:nvGrpSpPr>
                <p:grpSpPr>
                  <a:xfrm>
                    <a:off x="5491080" y="4817880"/>
                    <a:ext cx="131760" cy="27000"/>
                    <a:chOff x="5491080" y="4817880"/>
                    <a:chExt cx="131760" cy="27000"/>
                  </a:xfrm>
                </p:grpSpPr>
                <p:sp>
                  <p:nvSpPr>
                    <p:cNvPr id="2715" name=""/>
                    <p:cNvSpPr/>
                    <p:nvPr/>
                  </p:nvSpPr>
                  <p:spPr>
                    <a:xfrm>
                      <a:off x="5491080" y="48178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6" name=""/>
                    <p:cNvSpPr/>
                    <p:nvPr/>
                  </p:nvSpPr>
                  <p:spPr>
                    <a:xfrm>
                      <a:off x="5541840" y="48178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7" name=""/>
                    <p:cNvSpPr/>
                    <p:nvPr/>
                  </p:nvSpPr>
                  <p:spPr>
                    <a:xfrm>
                      <a:off x="5595840" y="48178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8" name=""/>
                  <p:cNvGrpSpPr/>
                  <p:nvPr/>
                </p:nvGrpSpPr>
                <p:grpSpPr>
                  <a:xfrm>
                    <a:off x="5440320" y="4868280"/>
                    <a:ext cx="231840" cy="190440"/>
                    <a:chOff x="5440320" y="4868280"/>
                    <a:chExt cx="231840" cy="190440"/>
                  </a:xfrm>
                </p:grpSpPr>
                <p:sp>
                  <p:nvSpPr>
                    <p:cNvPr id="2719" name=""/>
                    <p:cNvSpPr/>
                    <p:nvPr/>
                  </p:nvSpPr>
                  <p:spPr>
                    <a:xfrm>
                      <a:off x="5440320" y="4868640"/>
                      <a:ext cx="23184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0" name=""/>
                    <p:cNvSpPr/>
                    <p:nvPr/>
                  </p:nvSpPr>
                  <p:spPr>
                    <a:xfrm>
                      <a:off x="5450760" y="5031720"/>
                      <a:ext cx="2700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1" name=""/>
                    <p:cNvSpPr/>
                    <p:nvPr/>
                  </p:nvSpPr>
                  <p:spPr>
                    <a:xfrm>
                      <a:off x="5632560" y="5031720"/>
                      <a:ext cx="2736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2" name=""/>
                    <p:cNvSpPr/>
                    <p:nvPr/>
                  </p:nvSpPr>
                  <p:spPr>
                    <a:xfrm>
                      <a:off x="5473440" y="4910040"/>
                      <a:ext cx="16164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3" name=""/>
                    <p:cNvSpPr/>
                    <p:nvPr/>
                  </p:nvSpPr>
                  <p:spPr>
                    <a:xfrm flipV="1">
                      <a:off x="5442480" y="4868280"/>
                      <a:ext cx="227880" cy="15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724" name=""/>
          <p:cNvSpPr/>
          <p:nvPr/>
        </p:nvSpPr>
        <p:spPr>
          <a:xfrm flipH="1">
            <a:off x="5124600" y="1270080"/>
            <a:ext cx="7920" cy="4032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5" name=""/>
          <p:cNvGrpSpPr/>
          <p:nvPr/>
        </p:nvGrpSpPr>
        <p:grpSpPr>
          <a:xfrm>
            <a:off x="4979880" y="1031760"/>
            <a:ext cx="284040" cy="252360"/>
            <a:chOff x="4979880" y="1031760"/>
            <a:chExt cx="284040" cy="252360"/>
          </a:xfrm>
        </p:grpSpPr>
        <p:grpSp>
          <p:nvGrpSpPr>
            <p:cNvPr id="2726" name=""/>
            <p:cNvGrpSpPr/>
            <p:nvPr/>
          </p:nvGrpSpPr>
          <p:grpSpPr>
            <a:xfrm>
              <a:off x="4979880" y="1090440"/>
              <a:ext cx="284040" cy="193680"/>
              <a:chOff x="4979880" y="1090440"/>
              <a:chExt cx="284040" cy="193680"/>
            </a:xfrm>
          </p:grpSpPr>
          <p:sp>
            <p:nvSpPr>
              <p:cNvPr id="2727" name=""/>
              <p:cNvSpPr/>
              <p:nvPr/>
            </p:nvSpPr>
            <p:spPr>
              <a:xfrm>
                <a:off x="4979880" y="1090440"/>
                <a:ext cx="28404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031720" y="1138680"/>
                <a:ext cx="182160" cy="9252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9" name=""/>
            <p:cNvGrpSpPr/>
            <p:nvPr/>
          </p:nvGrpSpPr>
          <p:grpSpPr>
            <a:xfrm>
              <a:off x="5082840" y="1031760"/>
              <a:ext cx="76320" cy="63720"/>
              <a:chOff x="5082840" y="1031760"/>
              <a:chExt cx="76320" cy="63720"/>
            </a:xfrm>
          </p:grpSpPr>
          <p:sp>
            <p:nvSpPr>
              <p:cNvPr id="2730" name=""/>
              <p:cNvSpPr/>
              <p:nvPr/>
            </p:nvSpPr>
            <p:spPr>
              <a:xfrm>
                <a:off x="5082840" y="10317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159160" y="10317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2" name=""/>
          <p:cNvGrpSpPr/>
          <p:nvPr/>
        </p:nvGrpSpPr>
        <p:grpSpPr>
          <a:xfrm>
            <a:off x="5132160" y="1041480"/>
            <a:ext cx="3090960" cy="443160"/>
            <a:chOff x="5132160" y="1041480"/>
            <a:chExt cx="3090960" cy="443160"/>
          </a:xfrm>
        </p:grpSpPr>
        <p:sp>
          <p:nvSpPr>
            <p:cNvPr id="2733" name=""/>
            <p:cNvSpPr/>
            <p:nvPr/>
          </p:nvSpPr>
          <p:spPr>
            <a:xfrm>
              <a:off x="5742000" y="1238400"/>
              <a:ext cx="248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KV-1 Heavy Tank       RU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H="1">
              <a:off x="5132160" y="1362240"/>
              <a:ext cx="29844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751360" y="104148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6" name=""/>
            <p:cNvGrpSpPr/>
            <p:nvPr/>
          </p:nvGrpSpPr>
          <p:grpSpPr>
            <a:xfrm>
              <a:off x="5423040" y="1243080"/>
              <a:ext cx="231480" cy="208080"/>
              <a:chOff x="5423040" y="1243080"/>
              <a:chExt cx="231480" cy="208080"/>
            </a:xfrm>
          </p:grpSpPr>
          <p:grpSp>
            <p:nvGrpSpPr>
              <p:cNvPr id="2737" name=""/>
              <p:cNvGrpSpPr/>
              <p:nvPr/>
            </p:nvGrpSpPr>
            <p:grpSpPr>
              <a:xfrm>
                <a:off x="5473440" y="1243080"/>
                <a:ext cx="131040" cy="27000"/>
                <a:chOff x="5473440" y="1243080"/>
                <a:chExt cx="131040" cy="2700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5473440" y="12430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5523840" y="124308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5577840" y="12430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5423040" y="1293840"/>
                <a:ext cx="231480" cy="157320"/>
                <a:chOff x="5423040" y="1293840"/>
                <a:chExt cx="231480" cy="157320"/>
              </a:xfrm>
            </p:grpSpPr>
            <p:sp>
              <p:nvSpPr>
                <p:cNvPr id="2742" name=""/>
                <p:cNvSpPr/>
                <p:nvPr/>
              </p:nvSpPr>
              <p:spPr>
                <a:xfrm>
                  <a:off x="5423040" y="1293840"/>
                  <a:ext cx="23148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5465520" y="1333080"/>
                  <a:ext cx="148320" cy="7488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44" name=""/>
          <p:cNvGrpSpPr/>
          <p:nvPr/>
        </p:nvGrpSpPr>
        <p:grpSpPr>
          <a:xfrm>
            <a:off x="5146560" y="1552680"/>
            <a:ext cx="2871720" cy="254160"/>
            <a:chOff x="5146560" y="1552680"/>
            <a:chExt cx="2871720" cy="254160"/>
          </a:xfrm>
        </p:grpSpPr>
        <p:sp>
          <p:nvSpPr>
            <p:cNvPr id="2745" name=""/>
            <p:cNvSpPr/>
            <p:nvPr/>
          </p:nvSpPr>
          <p:spPr>
            <a:xfrm flipH="1">
              <a:off x="5146560" y="1673280"/>
              <a:ext cx="29520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741640" y="1560600"/>
              <a:ext cx="227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KV-1  Heavy Tank     RU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7" name=""/>
            <p:cNvGrpSpPr/>
            <p:nvPr/>
          </p:nvGrpSpPr>
          <p:grpSpPr>
            <a:xfrm>
              <a:off x="5416200" y="1552680"/>
              <a:ext cx="231840" cy="207360"/>
              <a:chOff x="5416200" y="1552680"/>
              <a:chExt cx="231840" cy="207360"/>
            </a:xfrm>
          </p:grpSpPr>
          <p:grpSp>
            <p:nvGrpSpPr>
              <p:cNvPr id="2748" name=""/>
              <p:cNvGrpSpPr/>
              <p:nvPr/>
            </p:nvGrpSpPr>
            <p:grpSpPr>
              <a:xfrm>
                <a:off x="5466960" y="1552680"/>
                <a:ext cx="131760" cy="26640"/>
                <a:chOff x="5466960" y="1552680"/>
                <a:chExt cx="131760" cy="26640"/>
              </a:xfrm>
            </p:grpSpPr>
            <p:sp>
              <p:nvSpPr>
                <p:cNvPr id="2749" name=""/>
                <p:cNvSpPr/>
                <p:nvPr/>
              </p:nvSpPr>
              <p:spPr>
                <a:xfrm>
                  <a:off x="5466960" y="1552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5517720" y="15526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5571720" y="1552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2" name=""/>
              <p:cNvGrpSpPr/>
              <p:nvPr/>
            </p:nvGrpSpPr>
            <p:grpSpPr>
              <a:xfrm>
                <a:off x="5416200" y="1603080"/>
                <a:ext cx="231840" cy="156960"/>
                <a:chOff x="5416200" y="1603080"/>
                <a:chExt cx="231840" cy="156960"/>
              </a:xfrm>
            </p:grpSpPr>
            <p:sp>
              <p:nvSpPr>
                <p:cNvPr id="2753" name=""/>
                <p:cNvSpPr/>
                <p:nvPr/>
              </p:nvSpPr>
              <p:spPr>
                <a:xfrm>
                  <a:off x="5416200" y="1603080"/>
                  <a:ext cx="23184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5458680" y="1642320"/>
                  <a:ext cx="148680" cy="7488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55" name=""/>
          <p:cNvSpPr/>
          <p:nvPr/>
        </p:nvSpPr>
        <p:spPr>
          <a:xfrm>
            <a:off x="4923000" y="404640"/>
            <a:ext cx="302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Maneuver Element - 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vy  Tank Regiment November 19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984920" y="1871640"/>
            <a:ext cx="30733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replace Kv-1 with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S-I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V-8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urchill IV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7" name=""/>
          <p:cNvGrpSpPr/>
          <p:nvPr/>
        </p:nvGrpSpPr>
        <p:grpSpPr>
          <a:xfrm>
            <a:off x="439560" y="336600"/>
            <a:ext cx="3753720" cy="1446480"/>
            <a:chOff x="439560" y="336600"/>
            <a:chExt cx="3753720" cy="1446480"/>
          </a:xfrm>
        </p:grpSpPr>
        <p:sp>
          <p:nvSpPr>
            <p:cNvPr id="2758" name=""/>
            <p:cNvSpPr/>
            <p:nvPr/>
          </p:nvSpPr>
          <p:spPr>
            <a:xfrm>
              <a:off x="609480" y="982800"/>
              <a:ext cx="0" cy="7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68320" y="336600"/>
              <a:ext cx="2830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Fire Support Element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0" name=""/>
            <p:cNvGrpSpPr/>
            <p:nvPr/>
          </p:nvGrpSpPr>
          <p:grpSpPr>
            <a:xfrm>
              <a:off x="439560" y="635040"/>
              <a:ext cx="2805120" cy="343080"/>
              <a:chOff x="439560" y="635040"/>
              <a:chExt cx="2805120" cy="343080"/>
            </a:xfrm>
          </p:grpSpPr>
          <p:sp>
            <p:nvSpPr>
              <p:cNvPr id="2761" name=""/>
              <p:cNvSpPr/>
              <p:nvPr/>
            </p:nvSpPr>
            <p:spPr>
              <a:xfrm>
                <a:off x="844200" y="731880"/>
                <a:ext cx="2400480" cy="246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Mortar  Battalion (Mtz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2" name=""/>
              <p:cNvGrpSpPr/>
              <p:nvPr/>
            </p:nvGrpSpPr>
            <p:grpSpPr>
              <a:xfrm>
                <a:off x="574200" y="635040"/>
                <a:ext cx="77400" cy="63720"/>
                <a:chOff x="574200" y="635040"/>
                <a:chExt cx="77400" cy="6372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574200" y="63504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51600" y="63504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5" name=""/>
              <p:cNvGrpSpPr/>
              <p:nvPr/>
            </p:nvGrpSpPr>
            <p:grpSpPr>
              <a:xfrm>
                <a:off x="439560" y="722520"/>
                <a:ext cx="375840" cy="245520"/>
                <a:chOff x="439560" y="722520"/>
                <a:chExt cx="375840" cy="24552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439560" y="722520"/>
                  <a:ext cx="375840" cy="2455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7" name=""/>
                <p:cNvGrpSpPr/>
                <p:nvPr/>
              </p:nvGrpSpPr>
              <p:grpSpPr>
                <a:xfrm>
                  <a:off x="573840" y="756720"/>
                  <a:ext cx="106560" cy="171360"/>
                  <a:chOff x="573840" y="756720"/>
                  <a:chExt cx="106560" cy="171360"/>
                </a:xfrm>
              </p:grpSpPr>
              <p:sp>
                <p:nvSpPr>
                  <p:cNvPr id="2768" name=""/>
                  <p:cNvSpPr/>
                  <p:nvPr/>
                </p:nvSpPr>
                <p:spPr>
                  <a:xfrm>
                    <a:off x="626040" y="756720"/>
                    <a:ext cx="0" cy="17136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>
                    <a:off x="573840" y="918000"/>
                    <a:ext cx="1065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70" name=""/>
            <p:cNvGrpSpPr/>
            <p:nvPr/>
          </p:nvGrpSpPr>
          <p:grpSpPr>
            <a:xfrm>
              <a:off x="610920" y="1146240"/>
              <a:ext cx="3582360" cy="268200"/>
              <a:chOff x="610920" y="1146240"/>
              <a:chExt cx="3582360" cy="268200"/>
            </a:xfrm>
          </p:grpSpPr>
          <p:grpSp>
            <p:nvGrpSpPr>
              <p:cNvPr id="2771" name=""/>
              <p:cNvGrpSpPr/>
              <p:nvPr/>
            </p:nvGrpSpPr>
            <p:grpSpPr>
              <a:xfrm>
                <a:off x="847440" y="1146240"/>
                <a:ext cx="3345840" cy="268200"/>
                <a:chOff x="847440" y="1146240"/>
                <a:chExt cx="3345840" cy="268200"/>
              </a:xfrm>
            </p:grpSpPr>
            <p:grpSp>
              <p:nvGrpSpPr>
                <p:cNvPr id="2772" name=""/>
                <p:cNvGrpSpPr/>
                <p:nvPr/>
              </p:nvGrpSpPr>
              <p:grpSpPr>
                <a:xfrm>
                  <a:off x="847440" y="1146240"/>
                  <a:ext cx="302040" cy="265680"/>
                  <a:chOff x="847440" y="1146240"/>
                  <a:chExt cx="302040" cy="265680"/>
                </a:xfrm>
              </p:grpSpPr>
              <p:sp>
                <p:nvSpPr>
                  <p:cNvPr id="2773" name=""/>
                  <p:cNvSpPr/>
                  <p:nvPr/>
                </p:nvSpPr>
                <p:spPr>
                  <a:xfrm>
                    <a:off x="998640" y="1146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74" name=""/>
                  <p:cNvGrpSpPr/>
                  <p:nvPr/>
                </p:nvGrpSpPr>
                <p:grpSpPr>
                  <a:xfrm>
                    <a:off x="847440" y="1215720"/>
                    <a:ext cx="302040" cy="196200"/>
                    <a:chOff x="847440" y="1215720"/>
                    <a:chExt cx="302040" cy="196200"/>
                  </a:xfrm>
                </p:grpSpPr>
                <p:sp>
                  <p:nvSpPr>
                    <p:cNvPr id="2775" name=""/>
                    <p:cNvSpPr/>
                    <p:nvPr/>
                  </p:nvSpPr>
                  <p:spPr>
                    <a:xfrm>
                      <a:off x="847440" y="1215720"/>
                      <a:ext cx="302040" cy="1962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6" name=""/>
                    <p:cNvSpPr/>
                    <p:nvPr/>
                  </p:nvSpPr>
                  <p:spPr>
                    <a:xfrm>
                      <a:off x="953640" y="1372320"/>
                      <a:ext cx="8568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7" name=""/>
                    <p:cNvSpPr/>
                    <p:nvPr/>
                  </p:nvSpPr>
                  <p:spPr>
                    <a:xfrm>
                      <a:off x="993600" y="1241280"/>
                      <a:ext cx="0" cy="1328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78" name=""/>
                <p:cNvSpPr/>
                <p:nvPr/>
              </p:nvSpPr>
              <p:spPr>
                <a:xfrm>
                  <a:off x="1271160" y="1168200"/>
                  <a:ext cx="2922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 Medium Mortar Company (Mtz)   FS-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9" name=""/>
              <p:cNvSpPr/>
              <p:nvPr/>
            </p:nvSpPr>
            <p:spPr>
              <a:xfrm flipV="1">
                <a:off x="610920" y="1295280"/>
                <a:ext cx="24588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0" name=""/>
            <p:cNvGrpSpPr/>
            <p:nvPr/>
          </p:nvGrpSpPr>
          <p:grpSpPr>
            <a:xfrm>
              <a:off x="607680" y="1508400"/>
              <a:ext cx="3504600" cy="274680"/>
              <a:chOff x="607680" y="1508400"/>
              <a:chExt cx="3504600" cy="274680"/>
            </a:xfrm>
          </p:grpSpPr>
          <p:grpSp>
            <p:nvGrpSpPr>
              <p:cNvPr id="2781" name=""/>
              <p:cNvGrpSpPr/>
              <p:nvPr/>
            </p:nvGrpSpPr>
            <p:grpSpPr>
              <a:xfrm>
                <a:off x="831600" y="1508400"/>
                <a:ext cx="3280680" cy="274680"/>
                <a:chOff x="831600" y="1508400"/>
                <a:chExt cx="3280680" cy="274680"/>
              </a:xfrm>
            </p:grpSpPr>
            <p:sp>
              <p:nvSpPr>
                <p:cNvPr id="2782" name=""/>
                <p:cNvSpPr/>
                <p:nvPr/>
              </p:nvSpPr>
              <p:spPr>
                <a:xfrm>
                  <a:off x="1248840" y="1536840"/>
                  <a:ext cx="286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 Heavy Mortar Company (Mtz)      FS-0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3" name=""/>
                <p:cNvGrpSpPr/>
                <p:nvPr/>
              </p:nvGrpSpPr>
              <p:grpSpPr>
                <a:xfrm>
                  <a:off x="831600" y="1508400"/>
                  <a:ext cx="301680" cy="265680"/>
                  <a:chOff x="831600" y="1508400"/>
                  <a:chExt cx="301680" cy="265680"/>
                </a:xfrm>
              </p:grpSpPr>
              <p:sp>
                <p:nvSpPr>
                  <p:cNvPr id="2784" name=""/>
                  <p:cNvSpPr/>
                  <p:nvPr/>
                </p:nvSpPr>
                <p:spPr>
                  <a:xfrm>
                    <a:off x="982440" y="15084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85" name=""/>
                  <p:cNvGrpSpPr/>
                  <p:nvPr/>
                </p:nvGrpSpPr>
                <p:grpSpPr>
                  <a:xfrm>
                    <a:off x="831600" y="1577880"/>
                    <a:ext cx="301680" cy="196200"/>
                    <a:chOff x="831600" y="1577880"/>
                    <a:chExt cx="301680" cy="196200"/>
                  </a:xfrm>
                </p:grpSpPr>
                <p:sp>
                  <p:nvSpPr>
                    <p:cNvPr id="2786" name=""/>
                    <p:cNvSpPr/>
                    <p:nvPr/>
                  </p:nvSpPr>
                  <p:spPr>
                    <a:xfrm>
                      <a:off x="831600" y="1577880"/>
                      <a:ext cx="301680" cy="1962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7" name=""/>
                    <p:cNvSpPr/>
                    <p:nvPr/>
                  </p:nvSpPr>
                  <p:spPr>
                    <a:xfrm>
                      <a:off x="937440" y="1734480"/>
                      <a:ext cx="8568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8" name=""/>
                    <p:cNvSpPr/>
                    <p:nvPr/>
                  </p:nvSpPr>
                  <p:spPr>
                    <a:xfrm>
                      <a:off x="977400" y="1603440"/>
                      <a:ext cx="0" cy="1328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789" name=""/>
              <p:cNvSpPr/>
              <p:nvPr/>
            </p:nvSpPr>
            <p:spPr>
              <a:xfrm>
                <a:off x="607680" y="1683000"/>
                <a:ext cx="230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0" name=""/>
          <p:cNvGrpSpPr/>
          <p:nvPr/>
        </p:nvGrpSpPr>
        <p:grpSpPr>
          <a:xfrm>
            <a:off x="4995720" y="306360"/>
            <a:ext cx="3208320" cy="1185840"/>
            <a:chOff x="4995720" y="306360"/>
            <a:chExt cx="3208320" cy="1185840"/>
          </a:xfrm>
        </p:grpSpPr>
        <p:sp>
          <p:nvSpPr>
            <p:cNvPr id="2791" name=""/>
            <p:cNvSpPr/>
            <p:nvPr/>
          </p:nvSpPr>
          <p:spPr>
            <a:xfrm>
              <a:off x="5373720" y="306360"/>
              <a:ext cx="2830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Fire Support Element-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449680" y="573120"/>
              <a:ext cx="240048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vy Mortar 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3" name=""/>
            <p:cNvGrpSpPr/>
            <p:nvPr/>
          </p:nvGrpSpPr>
          <p:grpSpPr>
            <a:xfrm>
              <a:off x="4995720" y="450720"/>
              <a:ext cx="3154320" cy="1041480"/>
              <a:chOff x="4995720" y="450720"/>
              <a:chExt cx="3154320" cy="1041480"/>
            </a:xfrm>
          </p:grpSpPr>
          <p:sp>
            <p:nvSpPr>
              <p:cNvPr id="2794" name=""/>
              <p:cNvSpPr/>
              <p:nvPr/>
            </p:nvSpPr>
            <p:spPr>
              <a:xfrm>
                <a:off x="5141520" y="677880"/>
                <a:ext cx="0" cy="67932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5" name=""/>
              <p:cNvGrpSpPr/>
              <p:nvPr/>
            </p:nvGrpSpPr>
            <p:grpSpPr>
              <a:xfrm>
                <a:off x="4995720" y="450720"/>
                <a:ext cx="301320" cy="266400"/>
                <a:chOff x="4995720" y="450720"/>
                <a:chExt cx="301320" cy="266400"/>
              </a:xfrm>
            </p:grpSpPr>
            <p:sp>
              <p:nvSpPr>
                <p:cNvPr id="2796" name=""/>
                <p:cNvSpPr/>
                <p:nvPr/>
              </p:nvSpPr>
              <p:spPr>
                <a:xfrm>
                  <a:off x="5146560" y="4507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7" name=""/>
                <p:cNvGrpSpPr/>
                <p:nvPr/>
              </p:nvGrpSpPr>
              <p:grpSpPr>
                <a:xfrm>
                  <a:off x="4995720" y="520560"/>
                  <a:ext cx="301320" cy="196560"/>
                  <a:chOff x="4995720" y="520560"/>
                  <a:chExt cx="301320" cy="196560"/>
                </a:xfrm>
              </p:grpSpPr>
              <p:sp>
                <p:nvSpPr>
                  <p:cNvPr id="2798" name=""/>
                  <p:cNvSpPr/>
                  <p:nvPr/>
                </p:nvSpPr>
                <p:spPr>
                  <a:xfrm>
                    <a:off x="4995720" y="520560"/>
                    <a:ext cx="301320" cy="1965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5101560" y="677520"/>
                    <a:ext cx="8532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>
                    <a:off x="5141520" y="546120"/>
                    <a:ext cx="0" cy="13320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1" name=""/>
              <p:cNvGrpSpPr/>
              <p:nvPr/>
            </p:nvGrpSpPr>
            <p:grpSpPr>
              <a:xfrm>
                <a:off x="5141520" y="828720"/>
                <a:ext cx="3008520" cy="345960"/>
                <a:chOff x="5141520" y="828720"/>
                <a:chExt cx="3008520" cy="345960"/>
              </a:xfrm>
            </p:grpSpPr>
            <p:sp>
              <p:nvSpPr>
                <p:cNvPr id="2802" name=""/>
                <p:cNvSpPr/>
                <p:nvPr/>
              </p:nvSpPr>
              <p:spPr>
                <a:xfrm>
                  <a:off x="5141520" y="1050840"/>
                  <a:ext cx="182880" cy="0"/>
                </a:xfrm>
                <a:prstGeom prst="line">
                  <a:avLst/>
                </a:prstGeom>
                <a:ln w="1908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3" name=""/>
                <p:cNvGrpSpPr/>
                <p:nvPr/>
              </p:nvGrpSpPr>
              <p:grpSpPr>
                <a:xfrm>
                  <a:off x="5287680" y="928440"/>
                  <a:ext cx="231480" cy="196560"/>
                  <a:chOff x="5287680" y="928440"/>
                  <a:chExt cx="231480" cy="196560"/>
                </a:xfrm>
              </p:grpSpPr>
              <p:grpSp>
                <p:nvGrpSpPr>
                  <p:cNvPr id="2804" name=""/>
                  <p:cNvGrpSpPr/>
                  <p:nvPr/>
                </p:nvGrpSpPr>
                <p:grpSpPr>
                  <a:xfrm>
                    <a:off x="5287680" y="968040"/>
                    <a:ext cx="231480" cy="156960"/>
                    <a:chOff x="5287680" y="968040"/>
                    <a:chExt cx="231480" cy="156960"/>
                  </a:xfrm>
                </p:grpSpPr>
                <p:sp>
                  <p:nvSpPr>
                    <p:cNvPr id="2805" name=""/>
                    <p:cNvSpPr/>
                    <p:nvPr/>
                  </p:nvSpPr>
                  <p:spPr>
                    <a:xfrm>
                      <a:off x="5287680" y="96804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6" name=""/>
                    <p:cNvSpPr/>
                    <p:nvPr/>
                  </p:nvSpPr>
                  <p:spPr>
                    <a:xfrm>
                      <a:off x="5370120" y="1018800"/>
                      <a:ext cx="57240" cy="55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7" name=""/>
                  <p:cNvSpPr/>
                  <p:nvPr/>
                </p:nvSpPr>
                <p:spPr>
                  <a:xfrm>
                    <a:off x="5390640" y="9284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8" name=""/>
                <p:cNvSpPr/>
                <p:nvPr/>
              </p:nvSpPr>
              <p:spPr>
                <a:xfrm>
                  <a:off x="5624280" y="828720"/>
                  <a:ext cx="1832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5608440" y="928440"/>
                  <a:ext cx="2541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Forward Observer           RU-2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0" name=""/>
              <p:cNvGrpSpPr/>
              <p:nvPr/>
            </p:nvGrpSpPr>
            <p:grpSpPr>
              <a:xfrm>
                <a:off x="5146560" y="1133280"/>
                <a:ext cx="3003480" cy="358920"/>
                <a:chOff x="5146560" y="1133280"/>
                <a:chExt cx="3003480" cy="358920"/>
              </a:xfrm>
            </p:grpSpPr>
            <p:sp>
              <p:nvSpPr>
                <p:cNvPr id="2811" name=""/>
                <p:cNvSpPr/>
                <p:nvPr/>
              </p:nvSpPr>
              <p:spPr>
                <a:xfrm>
                  <a:off x="5146560" y="1357200"/>
                  <a:ext cx="177840" cy="0"/>
                </a:xfrm>
                <a:prstGeom prst="line">
                  <a:avLst/>
                </a:prstGeom>
                <a:ln w="1908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2" name=""/>
                <p:cNvGrpSpPr/>
                <p:nvPr/>
              </p:nvGrpSpPr>
              <p:grpSpPr>
                <a:xfrm>
                  <a:off x="5283000" y="1218960"/>
                  <a:ext cx="239760" cy="203040"/>
                  <a:chOff x="5283000" y="1218960"/>
                  <a:chExt cx="239760" cy="203040"/>
                </a:xfrm>
              </p:grpSpPr>
              <p:grpSp>
                <p:nvGrpSpPr>
                  <p:cNvPr id="2813" name=""/>
                  <p:cNvGrpSpPr/>
                  <p:nvPr/>
                </p:nvGrpSpPr>
                <p:grpSpPr>
                  <a:xfrm>
                    <a:off x="5283000" y="1264680"/>
                    <a:ext cx="239760" cy="157320"/>
                    <a:chOff x="5283000" y="1264680"/>
                    <a:chExt cx="239760" cy="157320"/>
                  </a:xfrm>
                </p:grpSpPr>
                <p:sp>
                  <p:nvSpPr>
                    <p:cNvPr id="2814" name=""/>
                    <p:cNvSpPr/>
                    <p:nvPr/>
                  </p:nvSpPr>
                  <p:spPr>
                    <a:xfrm>
                      <a:off x="5283000" y="1264680"/>
                      <a:ext cx="23976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5" name=""/>
                    <p:cNvSpPr/>
                    <p:nvPr/>
                  </p:nvSpPr>
                  <p:spPr>
                    <a:xfrm>
                      <a:off x="5367240" y="1390320"/>
                      <a:ext cx="6804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6" name=""/>
                    <p:cNvSpPr/>
                    <p:nvPr/>
                  </p:nvSpPr>
                  <p:spPr>
                    <a:xfrm>
                      <a:off x="5398920" y="128520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7" name=""/>
                  <p:cNvGrpSpPr/>
                  <p:nvPr/>
                </p:nvGrpSpPr>
                <p:grpSpPr>
                  <a:xfrm>
                    <a:off x="5366880" y="1218960"/>
                    <a:ext cx="74520" cy="28080"/>
                    <a:chOff x="5366880" y="1218960"/>
                    <a:chExt cx="74520" cy="28080"/>
                  </a:xfrm>
                </p:grpSpPr>
                <p:sp>
                  <p:nvSpPr>
                    <p:cNvPr id="2818" name=""/>
                    <p:cNvSpPr/>
                    <p:nvPr/>
                  </p:nvSpPr>
                  <p:spPr>
                    <a:xfrm>
                      <a:off x="5366880" y="12189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9" name=""/>
                    <p:cNvSpPr/>
                    <p:nvPr/>
                  </p:nvSpPr>
                  <p:spPr>
                    <a:xfrm>
                      <a:off x="5414400" y="12204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20" name=""/>
                <p:cNvSpPr/>
                <p:nvPr/>
              </p:nvSpPr>
              <p:spPr>
                <a:xfrm>
                  <a:off x="5608440" y="1245960"/>
                  <a:ext cx="2541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120mm Mortar        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5624640" y="1133280"/>
                  <a:ext cx="204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ff-board Direct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22" name=""/>
          <p:cNvGrpSpPr/>
          <p:nvPr/>
        </p:nvGrpSpPr>
        <p:grpSpPr>
          <a:xfrm>
            <a:off x="433440" y="1927080"/>
            <a:ext cx="3696480" cy="1811520"/>
            <a:chOff x="433440" y="1927080"/>
            <a:chExt cx="3696480" cy="1811520"/>
          </a:xfrm>
        </p:grpSpPr>
        <p:sp>
          <p:nvSpPr>
            <p:cNvPr id="2823" name=""/>
            <p:cNvSpPr/>
            <p:nvPr/>
          </p:nvSpPr>
          <p:spPr>
            <a:xfrm>
              <a:off x="846000" y="218916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rtar Regiment January 194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27120" y="2428920"/>
              <a:ext cx="6120" cy="121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46000" y="1927080"/>
              <a:ext cx="283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Fire Support Element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6" name=""/>
            <p:cNvGrpSpPr/>
            <p:nvPr/>
          </p:nvGrpSpPr>
          <p:grpSpPr>
            <a:xfrm>
              <a:off x="433440" y="2106360"/>
              <a:ext cx="375840" cy="333000"/>
              <a:chOff x="433440" y="2106360"/>
              <a:chExt cx="375840" cy="333000"/>
            </a:xfrm>
          </p:grpSpPr>
          <p:grpSp>
            <p:nvGrpSpPr>
              <p:cNvPr id="2827" name=""/>
              <p:cNvGrpSpPr/>
              <p:nvPr/>
            </p:nvGrpSpPr>
            <p:grpSpPr>
              <a:xfrm>
                <a:off x="568080" y="2106360"/>
                <a:ext cx="77760" cy="63360"/>
                <a:chOff x="568080" y="2106360"/>
                <a:chExt cx="77760" cy="63360"/>
              </a:xfrm>
            </p:grpSpPr>
            <p:sp>
              <p:nvSpPr>
                <p:cNvPr id="2828" name=""/>
                <p:cNvSpPr/>
                <p:nvPr/>
              </p:nvSpPr>
              <p:spPr>
                <a:xfrm>
                  <a:off x="568080" y="21063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645840" y="21063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0" name=""/>
              <p:cNvGrpSpPr/>
              <p:nvPr/>
            </p:nvGrpSpPr>
            <p:grpSpPr>
              <a:xfrm>
                <a:off x="433440" y="2193480"/>
                <a:ext cx="375840" cy="245880"/>
                <a:chOff x="433440" y="2193480"/>
                <a:chExt cx="375840" cy="245880"/>
              </a:xfrm>
            </p:grpSpPr>
            <p:sp>
              <p:nvSpPr>
                <p:cNvPr id="2831" name=""/>
                <p:cNvSpPr/>
                <p:nvPr/>
              </p:nvSpPr>
              <p:spPr>
                <a:xfrm>
                  <a:off x="433440" y="2193480"/>
                  <a:ext cx="375840" cy="2458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2" name=""/>
                <p:cNvGrpSpPr/>
                <p:nvPr/>
              </p:nvGrpSpPr>
              <p:grpSpPr>
                <a:xfrm>
                  <a:off x="567720" y="2227680"/>
                  <a:ext cx="106560" cy="171720"/>
                  <a:chOff x="567720" y="2227680"/>
                  <a:chExt cx="106560" cy="171720"/>
                </a:xfrm>
              </p:grpSpPr>
              <p:sp>
                <p:nvSpPr>
                  <p:cNvPr id="2833" name=""/>
                  <p:cNvSpPr/>
                  <p:nvPr/>
                </p:nvSpPr>
                <p:spPr>
                  <a:xfrm>
                    <a:off x="619920" y="2227680"/>
                    <a:ext cx="0" cy="17172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567720" y="2389320"/>
                    <a:ext cx="1065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35" name=""/>
            <p:cNvGrpSpPr/>
            <p:nvPr/>
          </p:nvGrpSpPr>
          <p:grpSpPr>
            <a:xfrm>
              <a:off x="625320" y="3463920"/>
              <a:ext cx="3504600" cy="274680"/>
              <a:chOff x="625320" y="3463920"/>
              <a:chExt cx="3504600" cy="274680"/>
            </a:xfrm>
          </p:grpSpPr>
          <p:grpSp>
            <p:nvGrpSpPr>
              <p:cNvPr id="2836" name=""/>
              <p:cNvGrpSpPr/>
              <p:nvPr/>
            </p:nvGrpSpPr>
            <p:grpSpPr>
              <a:xfrm>
                <a:off x="849240" y="3463920"/>
                <a:ext cx="3280680" cy="274680"/>
                <a:chOff x="849240" y="3463920"/>
                <a:chExt cx="3280680" cy="274680"/>
              </a:xfrm>
            </p:grpSpPr>
            <p:sp>
              <p:nvSpPr>
                <p:cNvPr id="2837" name=""/>
                <p:cNvSpPr/>
                <p:nvPr/>
              </p:nvSpPr>
              <p:spPr>
                <a:xfrm>
                  <a:off x="1266480" y="3492360"/>
                  <a:ext cx="286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3 Heavy Mortar Battalion      FS-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8" name=""/>
                <p:cNvGrpSpPr/>
                <p:nvPr/>
              </p:nvGrpSpPr>
              <p:grpSpPr>
                <a:xfrm>
                  <a:off x="849240" y="3463920"/>
                  <a:ext cx="301680" cy="265680"/>
                  <a:chOff x="849240" y="3463920"/>
                  <a:chExt cx="301680" cy="265680"/>
                </a:xfrm>
              </p:grpSpPr>
              <p:sp>
                <p:nvSpPr>
                  <p:cNvPr id="2839" name=""/>
                  <p:cNvSpPr/>
                  <p:nvPr/>
                </p:nvSpPr>
                <p:spPr>
                  <a:xfrm>
                    <a:off x="1000080" y="34639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40" name=""/>
                  <p:cNvGrpSpPr/>
                  <p:nvPr/>
                </p:nvGrpSpPr>
                <p:grpSpPr>
                  <a:xfrm>
                    <a:off x="849240" y="3533400"/>
                    <a:ext cx="301680" cy="196200"/>
                    <a:chOff x="849240" y="3533400"/>
                    <a:chExt cx="301680" cy="196200"/>
                  </a:xfrm>
                </p:grpSpPr>
                <p:sp>
                  <p:nvSpPr>
                    <p:cNvPr id="2841" name=""/>
                    <p:cNvSpPr/>
                    <p:nvPr/>
                  </p:nvSpPr>
                  <p:spPr>
                    <a:xfrm>
                      <a:off x="849240" y="3533400"/>
                      <a:ext cx="301680" cy="1962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2" name=""/>
                    <p:cNvSpPr/>
                    <p:nvPr/>
                  </p:nvSpPr>
                  <p:spPr>
                    <a:xfrm>
                      <a:off x="955080" y="3690000"/>
                      <a:ext cx="8568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3" name=""/>
                    <p:cNvSpPr/>
                    <p:nvPr/>
                  </p:nvSpPr>
                  <p:spPr>
                    <a:xfrm>
                      <a:off x="995040" y="3558960"/>
                      <a:ext cx="0" cy="1328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44" name=""/>
              <p:cNvSpPr/>
              <p:nvPr/>
            </p:nvSpPr>
            <p:spPr>
              <a:xfrm>
                <a:off x="625320" y="3638520"/>
                <a:ext cx="230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5" name=""/>
            <p:cNvGrpSpPr/>
            <p:nvPr/>
          </p:nvGrpSpPr>
          <p:grpSpPr>
            <a:xfrm>
              <a:off x="660240" y="2463840"/>
              <a:ext cx="2606760" cy="887040"/>
              <a:chOff x="660240" y="2463840"/>
              <a:chExt cx="2606760" cy="887040"/>
            </a:xfrm>
          </p:grpSpPr>
          <p:sp>
            <p:nvSpPr>
              <p:cNvPr id="2846" name=""/>
              <p:cNvSpPr/>
              <p:nvPr/>
            </p:nvSpPr>
            <p:spPr>
              <a:xfrm>
                <a:off x="1073160" y="246384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7" name=""/>
              <p:cNvGrpSpPr/>
              <p:nvPr/>
            </p:nvGrpSpPr>
            <p:grpSpPr>
              <a:xfrm>
                <a:off x="660240" y="2663640"/>
                <a:ext cx="2606760" cy="687240"/>
                <a:chOff x="660240" y="2663640"/>
                <a:chExt cx="2606760" cy="687240"/>
              </a:xfrm>
            </p:grpSpPr>
            <p:grpSp>
              <p:nvGrpSpPr>
                <p:cNvPr id="2848" name=""/>
                <p:cNvGrpSpPr/>
                <p:nvPr/>
              </p:nvGrpSpPr>
              <p:grpSpPr>
                <a:xfrm>
                  <a:off x="660240" y="2663640"/>
                  <a:ext cx="2606760" cy="360000"/>
                  <a:chOff x="660240" y="2663640"/>
                  <a:chExt cx="2606760" cy="360000"/>
                </a:xfrm>
              </p:grpSpPr>
              <p:sp>
                <p:nvSpPr>
                  <p:cNvPr id="2849" name=""/>
                  <p:cNvSpPr/>
                  <p:nvPr/>
                </p:nvSpPr>
                <p:spPr>
                  <a:xfrm>
                    <a:off x="1187280" y="2663640"/>
                    <a:ext cx="8380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>
                    <a:off x="660240" y="291276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>
                    <a:off x="1185480" y="2808000"/>
                    <a:ext cx="20815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RU-1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52" name=""/>
                  <p:cNvGrpSpPr/>
                  <p:nvPr/>
                </p:nvGrpSpPr>
                <p:grpSpPr>
                  <a:xfrm>
                    <a:off x="958680" y="2790720"/>
                    <a:ext cx="237960" cy="190440"/>
                    <a:chOff x="958680" y="2790720"/>
                    <a:chExt cx="237960" cy="190440"/>
                  </a:xfrm>
                </p:grpSpPr>
                <p:sp>
                  <p:nvSpPr>
                    <p:cNvPr id="2853" name=""/>
                    <p:cNvSpPr/>
                    <p:nvPr/>
                  </p:nvSpPr>
                  <p:spPr>
                    <a:xfrm>
                      <a:off x="958680" y="2824200"/>
                      <a:ext cx="23796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4" name=""/>
                    <p:cNvSpPr/>
                    <p:nvPr/>
                  </p:nvSpPr>
                  <p:spPr>
                    <a:xfrm>
                      <a:off x="1066320" y="279072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55" name=""/>
                <p:cNvGrpSpPr/>
                <p:nvPr/>
              </p:nvGrpSpPr>
              <p:grpSpPr>
                <a:xfrm>
                  <a:off x="1009440" y="2984400"/>
                  <a:ext cx="1825560" cy="366480"/>
                  <a:chOff x="1009440" y="2984400"/>
                  <a:chExt cx="1825560" cy="366480"/>
                </a:xfrm>
              </p:grpSpPr>
              <p:sp>
                <p:nvSpPr>
                  <p:cNvPr id="2856" name=""/>
                  <p:cNvSpPr/>
                  <p:nvPr/>
                </p:nvSpPr>
                <p:spPr>
                  <a:xfrm>
                    <a:off x="1060200" y="2984400"/>
                    <a:ext cx="0" cy="282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1234800" y="3135240"/>
                    <a:ext cx="16002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Jeep         U-P17 or US-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58" name=""/>
                  <p:cNvGrpSpPr/>
                  <p:nvPr/>
                </p:nvGrpSpPr>
                <p:grpSpPr>
                  <a:xfrm>
                    <a:off x="1009440" y="3109680"/>
                    <a:ext cx="231840" cy="223560"/>
                    <a:chOff x="1009440" y="3109680"/>
                    <a:chExt cx="231840" cy="223560"/>
                  </a:xfrm>
                </p:grpSpPr>
                <p:sp>
                  <p:nvSpPr>
                    <p:cNvPr id="2859" name=""/>
                    <p:cNvSpPr/>
                    <p:nvPr/>
                  </p:nvSpPr>
                  <p:spPr>
                    <a:xfrm>
                      <a:off x="1110960" y="31096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60" name=""/>
                    <p:cNvGrpSpPr/>
                    <p:nvPr/>
                  </p:nvGrpSpPr>
                  <p:grpSpPr>
                    <a:xfrm>
                      <a:off x="1009440" y="3142800"/>
                      <a:ext cx="231840" cy="190440"/>
                      <a:chOff x="1009440" y="3142800"/>
                      <a:chExt cx="231840" cy="190440"/>
                    </a:xfrm>
                  </p:grpSpPr>
                  <p:sp>
                    <p:nvSpPr>
                      <p:cNvPr id="2861" name=""/>
                      <p:cNvSpPr/>
                      <p:nvPr/>
                    </p:nvSpPr>
                    <p:spPr>
                      <a:xfrm>
                        <a:off x="1009440" y="314280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2" name=""/>
                      <p:cNvSpPr/>
                      <p:nvPr/>
                    </p:nvSpPr>
                    <p:spPr>
                      <a:xfrm>
                        <a:off x="1020600" y="330624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3" name=""/>
                      <p:cNvSpPr/>
                      <p:nvPr/>
                    </p:nvSpPr>
                    <p:spPr>
                      <a:xfrm>
                        <a:off x="1201680" y="330624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864" name=""/>
                  <p:cNvSpPr/>
                  <p:nvPr/>
                </p:nvSpPr>
                <p:spPr>
                  <a:xfrm>
                    <a:off x="1393560" y="2995560"/>
                    <a:ext cx="6336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865" name=""/>
          <p:cNvGrpSpPr/>
          <p:nvPr/>
        </p:nvGrpSpPr>
        <p:grpSpPr>
          <a:xfrm>
            <a:off x="495360" y="3887640"/>
            <a:ext cx="3208320" cy="1819440"/>
            <a:chOff x="495360" y="3887640"/>
            <a:chExt cx="3208320" cy="1819440"/>
          </a:xfrm>
        </p:grpSpPr>
        <p:sp>
          <p:nvSpPr>
            <p:cNvPr id="2866" name=""/>
            <p:cNvSpPr/>
            <p:nvPr/>
          </p:nvSpPr>
          <p:spPr>
            <a:xfrm>
              <a:off x="873360" y="3887640"/>
              <a:ext cx="2830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Fire Support Element-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949320" y="4154400"/>
              <a:ext cx="240048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vy Mortar  Battalion Jan. 194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H="1">
              <a:off x="633600" y="4259160"/>
              <a:ext cx="7920" cy="131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9" name=""/>
            <p:cNvGrpSpPr/>
            <p:nvPr/>
          </p:nvGrpSpPr>
          <p:grpSpPr>
            <a:xfrm>
              <a:off x="495360" y="4032000"/>
              <a:ext cx="301320" cy="266400"/>
              <a:chOff x="495360" y="4032000"/>
              <a:chExt cx="301320" cy="266400"/>
            </a:xfrm>
          </p:grpSpPr>
          <p:sp>
            <p:nvSpPr>
              <p:cNvPr id="2870" name=""/>
              <p:cNvSpPr/>
              <p:nvPr/>
            </p:nvSpPr>
            <p:spPr>
              <a:xfrm>
                <a:off x="646200" y="403200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1" name=""/>
              <p:cNvGrpSpPr/>
              <p:nvPr/>
            </p:nvGrpSpPr>
            <p:grpSpPr>
              <a:xfrm>
                <a:off x="495360" y="4101840"/>
                <a:ext cx="301320" cy="196560"/>
                <a:chOff x="495360" y="4101840"/>
                <a:chExt cx="301320" cy="196560"/>
              </a:xfrm>
            </p:grpSpPr>
            <p:sp>
              <p:nvSpPr>
                <p:cNvPr id="2872" name=""/>
                <p:cNvSpPr/>
                <p:nvPr/>
              </p:nvSpPr>
              <p:spPr>
                <a:xfrm>
                  <a:off x="495360" y="4101840"/>
                  <a:ext cx="301320" cy="1965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601200" y="4258800"/>
                  <a:ext cx="8532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641160" y="4127400"/>
                  <a:ext cx="0" cy="1332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5" name=""/>
            <p:cNvGrpSpPr/>
            <p:nvPr/>
          </p:nvGrpSpPr>
          <p:grpSpPr>
            <a:xfrm>
              <a:off x="654120" y="5348160"/>
              <a:ext cx="3003480" cy="358920"/>
              <a:chOff x="654120" y="5348160"/>
              <a:chExt cx="3003480" cy="358920"/>
            </a:xfrm>
          </p:grpSpPr>
          <p:sp>
            <p:nvSpPr>
              <p:cNvPr id="2876" name=""/>
              <p:cNvSpPr/>
              <p:nvPr/>
            </p:nvSpPr>
            <p:spPr>
              <a:xfrm>
                <a:off x="654120" y="5572080"/>
                <a:ext cx="17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7" name=""/>
              <p:cNvGrpSpPr/>
              <p:nvPr/>
            </p:nvGrpSpPr>
            <p:grpSpPr>
              <a:xfrm>
                <a:off x="790560" y="5433840"/>
                <a:ext cx="239760" cy="203040"/>
                <a:chOff x="790560" y="5433840"/>
                <a:chExt cx="239760" cy="203040"/>
              </a:xfrm>
            </p:grpSpPr>
            <p:grpSp>
              <p:nvGrpSpPr>
                <p:cNvPr id="2878" name=""/>
                <p:cNvGrpSpPr/>
                <p:nvPr/>
              </p:nvGrpSpPr>
              <p:grpSpPr>
                <a:xfrm>
                  <a:off x="790560" y="5479560"/>
                  <a:ext cx="239760" cy="157320"/>
                  <a:chOff x="790560" y="5479560"/>
                  <a:chExt cx="239760" cy="157320"/>
                </a:xfrm>
              </p:grpSpPr>
              <p:sp>
                <p:nvSpPr>
                  <p:cNvPr id="2879" name=""/>
                  <p:cNvSpPr/>
                  <p:nvPr/>
                </p:nvSpPr>
                <p:spPr>
                  <a:xfrm>
                    <a:off x="790560" y="5479560"/>
                    <a:ext cx="23976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>
                    <a:off x="874800" y="5605200"/>
                    <a:ext cx="680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>
                    <a:off x="906480" y="5500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2" name=""/>
                <p:cNvGrpSpPr/>
                <p:nvPr/>
              </p:nvGrpSpPr>
              <p:grpSpPr>
                <a:xfrm>
                  <a:off x="874440" y="5433840"/>
                  <a:ext cx="74520" cy="28080"/>
                  <a:chOff x="874440" y="5433840"/>
                  <a:chExt cx="74520" cy="28080"/>
                </a:xfrm>
              </p:grpSpPr>
              <p:sp>
                <p:nvSpPr>
                  <p:cNvPr id="2883" name=""/>
                  <p:cNvSpPr/>
                  <p:nvPr/>
                </p:nvSpPr>
                <p:spPr>
                  <a:xfrm>
                    <a:off x="874440" y="54338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921960" y="54352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5" name=""/>
              <p:cNvSpPr/>
              <p:nvPr/>
            </p:nvSpPr>
            <p:spPr>
              <a:xfrm>
                <a:off x="1116000" y="546084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Heavy Mortar Battery      FS-13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132200" y="5348160"/>
                <a:ext cx="2049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7" name=""/>
            <p:cNvGrpSpPr/>
            <p:nvPr/>
          </p:nvGrpSpPr>
          <p:grpSpPr>
            <a:xfrm>
              <a:off x="625680" y="4408200"/>
              <a:ext cx="2606760" cy="887040"/>
              <a:chOff x="625680" y="4408200"/>
              <a:chExt cx="2606760" cy="887040"/>
            </a:xfrm>
          </p:grpSpPr>
          <p:sp>
            <p:nvSpPr>
              <p:cNvPr id="2888" name=""/>
              <p:cNvSpPr/>
              <p:nvPr/>
            </p:nvSpPr>
            <p:spPr>
              <a:xfrm>
                <a:off x="1038600" y="440820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9" name=""/>
              <p:cNvGrpSpPr/>
              <p:nvPr/>
            </p:nvGrpSpPr>
            <p:grpSpPr>
              <a:xfrm>
                <a:off x="625680" y="4608000"/>
                <a:ext cx="2606760" cy="687240"/>
                <a:chOff x="625680" y="4608000"/>
                <a:chExt cx="2606760" cy="687240"/>
              </a:xfrm>
            </p:grpSpPr>
            <p:grpSp>
              <p:nvGrpSpPr>
                <p:cNvPr id="2890" name=""/>
                <p:cNvGrpSpPr/>
                <p:nvPr/>
              </p:nvGrpSpPr>
              <p:grpSpPr>
                <a:xfrm>
                  <a:off x="625680" y="4608000"/>
                  <a:ext cx="2606760" cy="360000"/>
                  <a:chOff x="625680" y="4608000"/>
                  <a:chExt cx="2606760" cy="360000"/>
                </a:xfrm>
              </p:grpSpPr>
              <p:sp>
                <p:nvSpPr>
                  <p:cNvPr id="2891" name=""/>
                  <p:cNvSpPr/>
                  <p:nvPr/>
                </p:nvSpPr>
                <p:spPr>
                  <a:xfrm>
                    <a:off x="1152720" y="4608000"/>
                    <a:ext cx="8380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>
                    <a:off x="625680" y="485712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1150920" y="4752360"/>
                    <a:ext cx="20815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RU-1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94" name=""/>
                  <p:cNvGrpSpPr/>
                  <p:nvPr/>
                </p:nvGrpSpPr>
                <p:grpSpPr>
                  <a:xfrm>
                    <a:off x="924120" y="4735080"/>
                    <a:ext cx="237960" cy="190440"/>
                    <a:chOff x="924120" y="4735080"/>
                    <a:chExt cx="237960" cy="190440"/>
                  </a:xfrm>
                </p:grpSpPr>
                <p:sp>
                  <p:nvSpPr>
                    <p:cNvPr id="2895" name=""/>
                    <p:cNvSpPr/>
                    <p:nvPr/>
                  </p:nvSpPr>
                  <p:spPr>
                    <a:xfrm>
                      <a:off x="924120" y="4768560"/>
                      <a:ext cx="23796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6" name=""/>
                    <p:cNvSpPr/>
                    <p:nvPr/>
                  </p:nvSpPr>
                  <p:spPr>
                    <a:xfrm>
                      <a:off x="1031760" y="473508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97" name=""/>
                <p:cNvGrpSpPr/>
                <p:nvPr/>
              </p:nvGrpSpPr>
              <p:grpSpPr>
                <a:xfrm>
                  <a:off x="974880" y="4928760"/>
                  <a:ext cx="1825560" cy="366480"/>
                  <a:chOff x="974880" y="4928760"/>
                  <a:chExt cx="1825560" cy="366480"/>
                </a:xfrm>
              </p:grpSpPr>
              <p:sp>
                <p:nvSpPr>
                  <p:cNvPr id="2898" name=""/>
                  <p:cNvSpPr/>
                  <p:nvPr/>
                </p:nvSpPr>
                <p:spPr>
                  <a:xfrm>
                    <a:off x="1025640" y="4928760"/>
                    <a:ext cx="0" cy="282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1200240" y="5079600"/>
                    <a:ext cx="16002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Jeep         U-P17 or US-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00" name=""/>
                  <p:cNvGrpSpPr/>
                  <p:nvPr/>
                </p:nvGrpSpPr>
                <p:grpSpPr>
                  <a:xfrm>
                    <a:off x="974880" y="5054040"/>
                    <a:ext cx="231840" cy="223560"/>
                    <a:chOff x="974880" y="5054040"/>
                    <a:chExt cx="231840" cy="223560"/>
                  </a:xfrm>
                </p:grpSpPr>
                <p:sp>
                  <p:nvSpPr>
                    <p:cNvPr id="2901" name=""/>
                    <p:cNvSpPr/>
                    <p:nvPr/>
                  </p:nvSpPr>
                  <p:spPr>
                    <a:xfrm>
                      <a:off x="1076400" y="50540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02" name=""/>
                    <p:cNvGrpSpPr/>
                    <p:nvPr/>
                  </p:nvGrpSpPr>
                  <p:grpSpPr>
                    <a:xfrm>
                      <a:off x="974880" y="5087160"/>
                      <a:ext cx="231840" cy="190440"/>
                      <a:chOff x="974880" y="5087160"/>
                      <a:chExt cx="231840" cy="190440"/>
                    </a:xfrm>
                  </p:grpSpPr>
                  <p:sp>
                    <p:nvSpPr>
                      <p:cNvPr id="2903" name=""/>
                      <p:cNvSpPr/>
                      <p:nvPr/>
                    </p:nvSpPr>
                    <p:spPr>
                      <a:xfrm>
                        <a:off x="974880" y="508716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4" name=""/>
                      <p:cNvSpPr/>
                      <p:nvPr/>
                    </p:nvSpPr>
                    <p:spPr>
                      <a:xfrm>
                        <a:off x="986040" y="525060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5" name=""/>
                      <p:cNvSpPr/>
                      <p:nvPr/>
                    </p:nvSpPr>
                    <p:spPr>
                      <a:xfrm>
                        <a:off x="1167120" y="52506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906" name=""/>
                  <p:cNvSpPr/>
                  <p:nvPr/>
                </p:nvSpPr>
                <p:spPr>
                  <a:xfrm>
                    <a:off x="1359000" y="4939920"/>
                    <a:ext cx="6336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907" name=""/>
          <p:cNvGrpSpPr/>
          <p:nvPr/>
        </p:nvGrpSpPr>
        <p:grpSpPr>
          <a:xfrm>
            <a:off x="5046840" y="1932120"/>
            <a:ext cx="3208320" cy="1185840"/>
            <a:chOff x="5046840" y="1932120"/>
            <a:chExt cx="3208320" cy="1185840"/>
          </a:xfrm>
        </p:grpSpPr>
        <p:sp>
          <p:nvSpPr>
            <p:cNvPr id="2908" name=""/>
            <p:cNvSpPr/>
            <p:nvPr/>
          </p:nvSpPr>
          <p:spPr>
            <a:xfrm>
              <a:off x="5424840" y="1932120"/>
              <a:ext cx="2830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Fire Support Element-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500800" y="2198880"/>
              <a:ext cx="240048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uards Mortar  Battery May 19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0" name=""/>
            <p:cNvGrpSpPr/>
            <p:nvPr/>
          </p:nvGrpSpPr>
          <p:grpSpPr>
            <a:xfrm>
              <a:off x="5046840" y="2076480"/>
              <a:ext cx="3154320" cy="1041480"/>
              <a:chOff x="5046840" y="2076480"/>
              <a:chExt cx="3154320" cy="1041480"/>
            </a:xfrm>
          </p:grpSpPr>
          <p:sp>
            <p:nvSpPr>
              <p:cNvPr id="2911" name=""/>
              <p:cNvSpPr/>
              <p:nvPr/>
            </p:nvSpPr>
            <p:spPr>
              <a:xfrm>
                <a:off x="5192640" y="2303640"/>
                <a:ext cx="0" cy="67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2" name=""/>
              <p:cNvGrpSpPr/>
              <p:nvPr/>
            </p:nvGrpSpPr>
            <p:grpSpPr>
              <a:xfrm>
                <a:off x="5046840" y="2076480"/>
                <a:ext cx="301320" cy="266400"/>
                <a:chOff x="5046840" y="2076480"/>
                <a:chExt cx="301320" cy="266400"/>
              </a:xfrm>
            </p:grpSpPr>
            <p:sp>
              <p:nvSpPr>
                <p:cNvPr id="2913" name=""/>
                <p:cNvSpPr/>
                <p:nvPr/>
              </p:nvSpPr>
              <p:spPr>
                <a:xfrm>
                  <a:off x="5197680" y="20764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4" name=""/>
                <p:cNvGrpSpPr/>
                <p:nvPr/>
              </p:nvGrpSpPr>
              <p:grpSpPr>
                <a:xfrm>
                  <a:off x="5046840" y="2146320"/>
                  <a:ext cx="301320" cy="196560"/>
                  <a:chOff x="5046840" y="2146320"/>
                  <a:chExt cx="301320" cy="196560"/>
                </a:xfrm>
              </p:grpSpPr>
              <p:sp>
                <p:nvSpPr>
                  <p:cNvPr id="2915" name=""/>
                  <p:cNvSpPr/>
                  <p:nvPr/>
                </p:nvSpPr>
                <p:spPr>
                  <a:xfrm>
                    <a:off x="5046840" y="2146320"/>
                    <a:ext cx="301320" cy="1965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>
                    <a:off x="5152680" y="2303280"/>
                    <a:ext cx="8532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>
                    <a:off x="5192640" y="2171880"/>
                    <a:ext cx="0" cy="13320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18" name=""/>
              <p:cNvGrpSpPr/>
              <p:nvPr/>
            </p:nvGrpSpPr>
            <p:grpSpPr>
              <a:xfrm>
                <a:off x="5192640" y="2454480"/>
                <a:ext cx="3008520" cy="345960"/>
                <a:chOff x="5192640" y="2454480"/>
                <a:chExt cx="3008520" cy="345960"/>
              </a:xfrm>
            </p:grpSpPr>
            <p:sp>
              <p:nvSpPr>
                <p:cNvPr id="2919" name=""/>
                <p:cNvSpPr/>
                <p:nvPr/>
              </p:nvSpPr>
              <p:spPr>
                <a:xfrm>
                  <a:off x="5192640" y="2676600"/>
                  <a:ext cx="182880" cy="0"/>
                </a:xfrm>
                <a:prstGeom prst="line">
                  <a:avLst/>
                </a:prstGeom>
                <a:ln w="1908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0" name=""/>
                <p:cNvGrpSpPr/>
                <p:nvPr/>
              </p:nvGrpSpPr>
              <p:grpSpPr>
                <a:xfrm>
                  <a:off x="5338800" y="2554200"/>
                  <a:ext cx="231480" cy="196560"/>
                  <a:chOff x="5338800" y="2554200"/>
                  <a:chExt cx="231480" cy="196560"/>
                </a:xfrm>
              </p:grpSpPr>
              <p:grpSp>
                <p:nvGrpSpPr>
                  <p:cNvPr id="2921" name=""/>
                  <p:cNvGrpSpPr/>
                  <p:nvPr/>
                </p:nvGrpSpPr>
                <p:grpSpPr>
                  <a:xfrm>
                    <a:off x="5338800" y="2593800"/>
                    <a:ext cx="231480" cy="156960"/>
                    <a:chOff x="5338800" y="2593800"/>
                    <a:chExt cx="231480" cy="156960"/>
                  </a:xfrm>
                </p:grpSpPr>
                <p:sp>
                  <p:nvSpPr>
                    <p:cNvPr id="2922" name=""/>
                    <p:cNvSpPr/>
                    <p:nvPr/>
                  </p:nvSpPr>
                  <p:spPr>
                    <a:xfrm>
                      <a:off x="5338800" y="259380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3" name=""/>
                    <p:cNvSpPr/>
                    <p:nvPr/>
                  </p:nvSpPr>
                  <p:spPr>
                    <a:xfrm>
                      <a:off x="5421240" y="2644560"/>
                      <a:ext cx="57240" cy="55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24" name=""/>
                  <p:cNvSpPr/>
                  <p:nvPr/>
                </p:nvSpPr>
                <p:spPr>
                  <a:xfrm>
                    <a:off x="5441760" y="25542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25" name=""/>
                <p:cNvSpPr/>
                <p:nvPr/>
              </p:nvSpPr>
              <p:spPr>
                <a:xfrm>
                  <a:off x="5675400" y="2454480"/>
                  <a:ext cx="1832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5659560" y="2554200"/>
                  <a:ext cx="2541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Forward Observer           RU-2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7" name=""/>
              <p:cNvGrpSpPr/>
              <p:nvPr/>
            </p:nvGrpSpPr>
            <p:grpSpPr>
              <a:xfrm>
                <a:off x="5197680" y="2759040"/>
                <a:ext cx="3003480" cy="358920"/>
                <a:chOff x="5197680" y="2759040"/>
                <a:chExt cx="3003480" cy="358920"/>
              </a:xfrm>
            </p:grpSpPr>
            <p:sp>
              <p:nvSpPr>
                <p:cNvPr id="2928" name=""/>
                <p:cNvSpPr/>
                <p:nvPr/>
              </p:nvSpPr>
              <p:spPr>
                <a:xfrm>
                  <a:off x="5197680" y="2982960"/>
                  <a:ext cx="177840" cy="0"/>
                </a:xfrm>
                <a:prstGeom prst="line">
                  <a:avLst/>
                </a:prstGeom>
                <a:ln w="1908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9" name=""/>
                <p:cNvGrpSpPr/>
                <p:nvPr/>
              </p:nvGrpSpPr>
              <p:grpSpPr>
                <a:xfrm>
                  <a:off x="5334120" y="2844720"/>
                  <a:ext cx="239760" cy="203040"/>
                  <a:chOff x="5334120" y="2844720"/>
                  <a:chExt cx="239760" cy="203040"/>
                </a:xfrm>
              </p:grpSpPr>
              <p:grpSp>
                <p:nvGrpSpPr>
                  <p:cNvPr id="2930" name=""/>
                  <p:cNvGrpSpPr/>
                  <p:nvPr/>
                </p:nvGrpSpPr>
                <p:grpSpPr>
                  <a:xfrm>
                    <a:off x="5334120" y="2890440"/>
                    <a:ext cx="239760" cy="157320"/>
                    <a:chOff x="5334120" y="2890440"/>
                    <a:chExt cx="239760" cy="157320"/>
                  </a:xfrm>
                </p:grpSpPr>
                <p:sp>
                  <p:nvSpPr>
                    <p:cNvPr id="2931" name=""/>
                    <p:cNvSpPr/>
                    <p:nvPr/>
                  </p:nvSpPr>
                  <p:spPr>
                    <a:xfrm>
                      <a:off x="5334120" y="2890440"/>
                      <a:ext cx="23976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2" name=""/>
                    <p:cNvSpPr/>
                    <p:nvPr/>
                  </p:nvSpPr>
                  <p:spPr>
                    <a:xfrm>
                      <a:off x="5418360" y="3016080"/>
                      <a:ext cx="6804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3" name=""/>
                    <p:cNvSpPr/>
                    <p:nvPr/>
                  </p:nvSpPr>
                  <p:spPr>
                    <a:xfrm>
                      <a:off x="5450040" y="291096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4" name=""/>
                  <p:cNvGrpSpPr/>
                  <p:nvPr/>
                </p:nvGrpSpPr>
                <p:grpSpPr>
                  <a:xfrm>
                    <a:off x="5418000" y="2844720"/>
                    <a:ext cx="74520" cy="28080"/>
                    <a:chOff x="5418000" y="2844720"/>
                    <a:chExt cx="74520" cy="28080"/>
                  </a:xfrm>
                </p:grpSpPr>
                <p:sp>
                  <p:nvSpPr>
                    <p:cNvPr id="2935" name=""/>
                    <p:cNvSpPr/>
                    <p:nvPr/>
                  </p:nvSpPr>
                  <p:spPr>
                    <a:xfrm>
                      <a:off x="5418000" y="28447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6" name=""/>
                    <p:cNvSpPr/>
                    <p:nvPr/>
                  </p:nvSpPr>
                  <p:spPr>
                    <a:xfrm>
                      <a:off x="5465520" y="28461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37" name=""/>
                <p:cNvSpPr/>
                <p:nvPr/>
              </p:nvSpPr>
              <p:spPr>
                <a:xfrm>
                  <a:off x="5659560" y="2871720"/>
                  <a:ext cx="2541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BM-13 Rocket Launchers        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5675760" y="2759040"/>
                  <a:ext cx="204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ff-board Direct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9" name=""/>
          <p:cNvSpPr/>
          <p:nvPr/>
        </p:nvSpPr>
        <p:spPr>
          <a:xfrm>
            <a:off x="5141880" y="3465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5627520" y="4781520"/>
            <a:ext cx="20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1" name=""/>
          <p:cNvGrpSpPr/>
          <p:nvPr/>
        </p:nvGrpSpPr>
        <p:grpSpPr>
          <a:xfrm>
            <a:off x="5024520" y="3330720"/>
            <a:ext cx="3208320" cy="2114640"/>
            <a:chOff x="5024520" y="3330720"/>
            <a:chExt cx="3208320" cy="2114640"/>
          </a:xfrm>
        </p:grpSpPr>
        <p:sp>
          <p:nvSpPr>
            <p:cNvPr id="2942" name=""/>
            <p:cNvSpPr/>
            <p:nvPr/>
          </p:nvSpPr>
          <p:spPr>
            <a:xfrm>
              <a:off x="5567400" y="385164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3" name=""/>
            <p:cNvGrpSpPr/>
            <p:nvPr/>
          </p:nvGrpSpPr>
          <p:grpSpPr>
            <a:xfrm>
              <a:off x="5024520" y="3330720"/>
              <a:ext cx="3208320" cy="2114640"/>
              <a:chOff x="5024520" y="3330720"/>
              <a:chExt cx="3208320" cy="2114640"/>
            </a:xfrm>
          </p:grpSpPr>
          <p:sp>
            <p:nvSpPr>
              <p:cNvPr id="2944" name=""/>
              <p:cNvSpPr/>
              <p:nvPr/>
            </p:nvSpPr>
            <p:spPr>
              <a:xfrm>
                <a:off x="5402520" y="3330720"/>
                <a:ext cx="283032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9900"/>
                    </a:solidFill>
                    <a:latin typeface="Arial"/>
                  </a:rPr>
                  <a:t>Fire Support Element-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478480" y="3597480"/>
                <a:ext cx="2400480" cy="246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uards Mortar  Battalion  May 194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H="1">
                <a:off x="5162760" y="3702240"/>
                <a:ext cx="7920" cy="1631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7" name=""/>
              <p:cNvGrpSpPr/>
              <p:nvPr/>
            </p:nvGrpSpPr>
            <p:grpSpPr>
              <a:xfrm>
                <a:off x="5024520" y="3544920"/>
                <a:ext cx="301320" cy="196560"/>
                <a:chOff x="5024520" y="3544920"/>
                <a:chExt cx="301320" cy="196560"/>
              </a:xfrm>
            </p:grpSpPr>
            <p:sp>
              <p:nvSpPr>
                <p:cNvPr id="2948" name=""/>
                <p:cNvSpPr/>
                <p:nvPr/>
              </p:nvSpPr>
              <p:spPr>
                <a:xfrm>
                  <a:off x="5024520" y="3544920"/>
                  <a:ext cx="301320" cy="1965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5130360" y="3701880"/>
                  <a:ext cx="8532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5170320" y="3570480"/>
                  <a:ext cx="0" cy="1332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1" name=""/>
              <p:cNvGrpSpPr/>
              <p:nvPr/>
            </p:nvGrpSpPr>
            <p:grpSpPr>
              <a:xfrm>
                <a:off x="5183280" y="5172120"/>
                <a:ext cx="3003480" cy="273240"/>
                <a:chOff x="5183280" y="5172120"/>
                <a:chExt cx="3003480" cy="273240"/>
              </a:xfrm>
            </p:grpSpPr>
            <p:sp>
              <p:nvSpPr>
                <p:cNvPr id="2952" name=""/>
                <p:cNvSpPr/>
                <p:nvPr/>
              </p:nvSpPr>
              <p:spPr>
                <a:xfrm>
                  <a:off x="5183280" y="5310360"/>
                  <a:ext cx="17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3" name=""/>
                <p:cNvGrpSpPr/>
                <p:nvPr/>
              </p:nvGrpSpPr>
              <p:grpSpPr>
                <a:xfrm>
                  <a:off x="5319720" y="5172120"/>
                  <a:ext cx="239760" cy="203040"/>
                  <a:chOff x="5319720" y="5172120"/>
                  <a:chExt cx="239760" cy="203040"/>
                </a:xfrm>
              </p:grpSpPr>
              <p:grpSp>
                <p:nvGrpSpPr>
                  <p:cNvPr id="2954" name=""/>
                  <p:cNvGrpSpPr/>
                  <p:nvPr/>
                </p:nvGrpSpPr>
                <p:grpSpPr>
                  <a:xfrm>
                    <a:off x="5319720" y="5217840"/>
                    <a:ext cx="239760" cy="157320"/>
                    <a:chOff x="5319720" y="5217840"/>
                    <a:chExt cx="239760" cy="157320"/>
                  </a:xfrm>
                </p:grpSpPr>
                <p:sp>
                  <p:nvSpPr>
                    <p:cNvPr id="2955" name=""/>
                    <p:cNvSpPr/>
                    <p:nvPr/>
                  </p:nvSpPr>
                  <p:spPr>
                    <a:xfrm>
                      <a:off x="5319720" y="5217840"/>
                      <a:ext cx="23976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6" name=""/>
                    <p:cNvSpPr/>
                    <p:nvPr/>
                  </p:nvSpPr>
                  <p:spPr>
                    <a:xfrm>
                      <a:off x="5403960" y="5343480"/>
                      <a:ext cx="6804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7" name=""/>
                    <p:cNvSpPr/>
                    <p:nvPr/>
                  </p:nvSpPr>
                  <p:spPr>
                    <a:xfrm>
                      <a:off x="5435640" y="523836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8" name=""/>
                  <p:cNvGrpSpPr/>
                  <p:nvPr/>
                </p:nvGrpSpPr>
                <p:grpSpPr>
                  <a:xfrm>
                    <a:off x="5403600" y="5172120"/>
                    <a:ext cx="74520" cy="28080"/>
                    <a:chOff x="5403600" y="5172120"/>
                    <a:chExt cx="74520" cy="28080"/>
                  </a:xfrm>
                </p:grpSpPr>
                <p:sp>
                  <p:nvSpPr>
                    <p:cNvPr id="2959" name=""/>
                    <p:cNvSpPr/>
                    <p:nvPr/>
                  </p:nvSpPr>
                  <p:spPr>
                    <a:xfrm>
                      <a:off x="5403600" y="51721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0" name=""/>
                    <p:cNvSpPr/>
                    <p:nvPr/>
                  </p:nvSpPr>
                  <p:spPr>
                    <a:xfrm>
                      <a:off x="5451120" y="51735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61" name=""/>
                <p:cNvSpPr/>
                <p:nvPr/>
              </p:nvSpPr>
              <p:spPr>
                <a:xfrm>
                  <a:off x="5645160" y="5199120"/>
                  <a:ext cx="2541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Guards Mortar Battery      FS-14        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2" name=""/>
              <p:cNvGrpSpPr/>
              <p:nvPr/>
            </p:nvGrpSpPr>
            <p:grpSpPr>
              <a:xfrm>
                <a:off x="5154840" y="4051440"/>
                <a:ext cx="2606760" cy="687240"/>
                <a:chOff x="5154840" y="4051440"/>
                <a:chExt cx="2606760" cy="687240"/>
              </a:xfrm>
            </p:grpSpPr>
            <p:grpSp>
              <p:nvGrpSpPr>
                <p:cNvPr id="2963" name=""/>
                <p:cNvGrpSpPr/>
                <p:nvPr/>
              </p:nvGrpSpPr>
              <p:grpSpPr>
                <a:xfrm>
                  <a:off x="5154840" y="4051440"/>
                  <a:ext cx="2606760" cy="360000"/>
                  <a:chOff x="5154840" y="4051440"/>
                  <a:chExt cx="2606760" cy="360000"/>
                </a:xfrm>
              </p:grpSpPr>
              <p:sp>
                <p:nvSpPr>
                  <p:cNvPr id="2964" name=""/>
                  <p:cNvSpPr/>
                  <p:nvPr/>
                </p:nvSpPr>
                <p:spPr>
                  <a:xfrm>
                    <a:off x="5681880" y="4051440"/>
                    <a:ext cx="8380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>
                    <a:off x="5154840" y="430056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>
                    <a:off x="5680080" y="4195800"/>
                    <a:ext cx="20815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RU-1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7" name=""/>
                  <p:cNvGrpSpPr/>
                  <p:nvPr/>
                </p:nvGrpSpPr>
                <p:grpSpPr>
                  <a:xfrm>
                    <a:off x="5453280" y="4178520"/>
                    <a:ext cx="237960" cy="190440"/>
                    <a:chOff x="5453280" y="4178520"/>
                    <a:chExt cx="237960" cy="190440"/>
                  </a:xfrm>
                </p:grpSpPr>
                <p:sp>
                  <p:nvSpPr>
                    <p:cNvPr id="2968" name=""/>
                    <p:cNvSpPr/>
                    <p:nvPr/>
                  </p:nvSpPr>
                  <p:spPr>
                    <a:xfrm>
                      <a:off x="5453280" y="4212000"/>
                      <a:ext cx="23796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9" name=""/>
                    <p:cNvSpPr/>
                    <p:nvPr/>
                  </p:nvSpPr>
                  <p:spPr>
                    <a:xfrm>
                      <a:off x="5560920" y="417852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970" name=""/>
                <p:cNvGrpSpPr/>
                <p:nvPr/>
              </p:nvGrpSpPr>
              <p:grpSpPr>
                <a:xfrm>
                  <a:off x="5504040" y="4372200"/>
                  <a:ext cx="1825560" cy="366480"/>
                  <a:chOff x="5504040" y="4372200"/>
                  <a:chExt cx="1825560" cy="366480"/>
                </a:xfrm>
              </p:grpSpPr>
              <p:sp>
                <p:nvSpPr>
                  <p:cNvPr id="2971" name=""/>
                  <p:cNvSpPr/>
                  <p:nvPr/>
                </p:nvSpPr>
                <p:spPr>
                  <a:xfrm>
                    <a:off x="5554800" y="4372200"/>
                    <a:ext cx="0" cy="282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>
                    <a:off x="5729400" y="4523040"/>
                    <a:ext cx="16002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Jeep         U-P17 or US-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73" name=""/>
                  <p:cNvGrpSpPr/>
                  <p:nvPr/>
                </p:nvGrpSpPr>
                <p:grpSpPr>
                  <a:xfrm>
                    <a:off x="5504040" y="4497480"/>
                    <a:ext cx="231840" cy="223560"/>
                    <a:chOff x="5504040" y="4497480"/>
                    <a:chExt cx="231840" cy="223560"/>
                  </a:xfrm>
                </p:grpSpPr>
                <p:sp>
                  <p:nvSpPr>
                    <p:cNvPr id="2974" name=""/>
                    <p:cNvSpPr/>
                    <p:nvPr/>
                  </p:nvSpPr>
                  <p:spPr>
                    <a:xfrm>
                      <a:off x="5605560" y="44974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75" name=""/>
                    <p:cNvGrpSpPr/>
                    <p:nvPr/>
                  </p:nvGrpSpPr>
                  <p:grpSpPr>
                    <a:xfrm>
                      <a:off x="5504040" y="4530600"/>
                      <a:ext cx="231840" cy="190440"/>
                      <a:chOff x="5504040" y="4530600"/>
                      <a:chExt cx="231840" cy="190440"/>
                    </a:xfrm>
                  </p:grpSpPr>
                  <p:sp>
                    <p:nvSpPr>
                      <p:cNvPr id="2976" name=""/>
                      <p:cNvSpPr/>
                      <p:nvPr/>
                    </p:nvSpPr>
                    <p:spPr>
                      <a:xfrm>
                        <a:off x="5504040" y="453060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7" name=""/>
                      <p:cNvSpPr/>
                      <p:nvPr/>
                    </p:nvSpPr>
                    <p:spPr>
                      <a:xfrm>
                        <a:off x="5515200" y="469404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8" name=""/>
                      <p:cNvSpPr/>
                      <p:nvPr/>
                    </p:nvSpPr>
                    <p:spPr>
                      <a:xfrm>
                        <a:off x="5696280" y="469404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979" name=""/>
                  <p:cNvSpPr/>
                  <p:nvPr/>
                </p:nvSpPr>
                <p:spPr>
                  <a:xfrm>
                    <a:off x="5888160" y="4383360"/>
                    <a:ext cx="6336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0" name=""/>
              <p:cNvGrpSpPr/>
              <p:nvPr/>
            </p:nvGrpSpPr>
            <p:grpSpPr>
              <a:xfrm>
                <a:off x="5572440" y="4791240"/>
                <a:ext cx="2625120" cy="226800"/>
                <a:chOff x="5572440" y="4791240"/>
                <a:chExt cx="2625120" cy="226800"/>
              </a:xfrm>
            </p:grpSpPr>
            <p:sp>
              <p:nvSpPr>
                <p:cNvPr id="2981" name=""/>
                <p:cNvSpPr/>
                <p:nvPr/>
              </p:nvSpPr>
              <p:spPr>
                <a:xfrm>
                  <a:off x="5572440" y="492624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2" name=""/>
                <p:cNvGrpSpPr/>
                <p:nvPr/>
              </p:nvGrpSpPr>
              <p:grpSpPr>
                <a:xfrm>
                  <a:off x="5846760" y="4791240"/>
                  <a:ext cx="245520" cy="214200"/>
                  <a:chOff x="5846760" y="4791240"/>
                  <a:chExt cx="245520" cy="214200"/>
                </a:xfrm>
              </p:grpSpPr>
              <p:grpSp>
                <p:nvGrpSpPr>
                  <p:cNvPr id="2983" name=""/>
                  <p:cNvGrpSpPr/>
                  <p:nvPr/>
                </p:nvGrpSpPr>
                <p:grpSpPr>
                  <a:xfrm>
                    <a:off x="5846760" y="4837320"/>
                    <a:ext cx="245520" cy="168120"/>
                    <a:chOff x="5846760" y="4837320"/>
                    <a:chExt cx="245520" cy="168120"/>
                  </a:xfrm>
                </p:grpSpPr>
                <p:sp>
                  <p:nvSpPr>
                    <p:cNvPr id="2984" name=""/>
                    <p:cNvSpPr/>
                    <p:nvPr/>
                  </p:nvSpPr>
                  <p:spPr>
                    <a:xfrm>
                      <a:off x="5846760" y="4837320"/>
                      <a:ext cx="245520" cy="1681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5" name=""/>
                    <p:cNvSpPr/>
                    <p:nvPr/>
                  </p:nvSpPr>
                  <p:spPr>
                    <a:xfrm>
                      <a:off x="5857560" y="4851720"/>
                      <a:ext cx="228240" cy="139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6" name=""/>
                    <p:cNvSpPr/>
                    <p:nvPr/>
                  </p:nvSpPr>
                  <p:spPr>
                    <a:xfrm flipV="1">
                      <a:off x="5857560" y="4851360"/>
                      <a:ext cx="219960" cy="128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7" name=""/>
                    <p:cNvSpPr/>
                    <p:nvPr/>
                  </p:nvSpPr>
                  <p:spPr>
                    <a:xfrm>
                      <a:off x="5852520" y="4851720"/>
                      <a:ext cx="52200" cy="13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66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88" name=""/>
                  <p:cNvGrpSpPr/>
                  <p:nvPr/>
                </p:nvGrpSpPr>
                <p:grpSpPr>
                  <a:xfrm>
                    <a:off x="5932080" y="4791240"/>
                    <a:ext cx="73800" cy="28080"/>
                    <a:chOff x="5932080" y="4791240"/>
                    <a:chExt cx="73800" cy="28080"/>
                  </a:xfrm>
                </p:grpSpPr>
                <p:sp>
                  <p:nvSpPr>
                    <p:cNvPr id="2989" name=""/>
                    <p:cNvSpPr/>
                    <p:nvPr/>
                  </p:nvSpPr>
                  <p:spPr>
                    <a:xfrm>
                      <a:off x="5932080" y="479124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0" name=""/>
                    <p:cNvSpPr/>
                    <p:nvPr/>
                  </p:nvSpPr>
                  <p:spPr>
                    <a:xfrm>
                      <a:off x="5979240" y="47926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91" name=""/>
                <p:cNvSpPr/>
                <p:nvPr/>
              </p:nvSpPr>
              <p:spPr>
                <a:xfrm>
                  <a:off x="6116400" y="480240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tiaircraft Machine Gun   RU-2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2" name=""/>
              <p:cNvSpPr/>
              <p:nvPr/>
            </p:nvSpPr>
            <p:spPr>
              <a:xfrm flipV="1">
                <a:off x="5570640" y="4716360"/>
                <a:ext cx="0" cy="21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"/>
          <p:cNvSpPr/>
          <p:nvPr/>
        </p:nvSpPr>
        <p:spPr>
          <a:xfrm>
            <a:off x="5627520" y="4781520"/>
            <a:ext cx="20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4" name=""/>
          <p:cNvGrpSpPr/>
          <p:nvPr/>
        </p:nvGrpSpPr>
        <p:grpSpPr>
          <a:xfrm>
            <a:off x="509760" y="468360"/>
            <a:ext cx="3719520" cy="2301120"/>
            <a:chOff x="509760" y="468360"/>
            <a:chExt cx="3719520" cy="2301120"/>
          </a:xfrm>
        </p:grpSpPr>
        <p:grpSp>
          <p:nvGrpSpPr>
            <p:cNvPr id="2995" name=""/>
            <p:cNvGrpSpPr/>
            <p:nvPr/>
          </p:nvGrpSpPr>
          <p:grpSpPr>
            <a:xfrm>
              <a:off x="603360" y="568440"/>
              <a:ext cx="291600" cy="267840"/>
              <a:chOff x="603360" y="568440"/>
              <a:chExt cx="291600" cy="267840"/>
            </a:xfrm>
          </p:grpSpPr>
          <p:grpSp>
            <p:nvGrpSpPr>
              <p:cNvPr id="2996" name=""/>
              <p:cNvGrpSpPr/>
              <p:nvPr/>
            </p:nvGrpSpPr>
            <p:grpSpPr>
              <a:xfrm>
                <a:off x="681120" y="568440"/>
                <a:ext cx="131760" cy="64800"/>
                <a:chOff x="681120" y="568440"/>
                <a:chExt cx="131760" cy="64800"/>
              </a:xfrm>
            </p:grpSpPr>
            <p:sp>
              <p:nvSpPr>
                <p:cNvPr id="2997" name=""/>
                <p:cNvSpPr/>
                <p:nvPr/>
              </p:nvSpPr>
              <p:spPr>
                <a:xfrm>
                  <a:off x="748080" y="569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8" name=""/>
                <p:cNvGrpSpPr/>
                <p:nvPr/>
              </p:nvGrpSpPr>
              <p:grpSpPr>
                <a:xfrm>
                  <a:off x="681120" y="568440"/>
                  <a:ext cx="131760" cy="64800"/>
                  <a:chOff x="681120" y="568440"/>
                  <a:chExt cx="131760" cy="64800"/>
                </a:xfrm>
              </p:grpSpPr>
              <p:sp>
                <p:nvSpPr>
                  <p:cNvPr id="2999" name=""/>
                  <p:cNvSpPr/>
                  <p:nvPr/>
                </p:nvSpPr>
                <p:spPr>
                  <a:xfrm>
                    <a:off x="681120" y="5698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>
                    <a:off x="812880" y="5684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1" name=""/>
              <p:cNvGrpSpPr/>
              <p:nvPr/>
            </p:nvGrpSpPr>
            <p:grpSpPr>
              <a:xfrm>
                <a:off x="603360" y="646200"/>
                <a:ext cx="291600" cy="190080"/>
                <a:chOff x="603360" y="646200"/>
                <a:chExt cx="291600" cy="190080"/>
              </a:xfrm>
            </p:grpSpPr>
            <p:sp>
              <p:nvSpPr>
                <p:cNvPr id="3002" name=""/>
                <p:cNvSpPr/>
                <p:nvPr/>
              </p:nvSpPr>
              <p:spPr>
                <a:xfrm>
                  <a:off x="603360" y="646200"/>
                  <a:ext cx="291600" cy="1900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29000" y="71892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04" name=""/>
            <p:cNvGrpSpPr/>
            <p:nvPr/>
          </p:nvGrpSpPr>
          <p:grpSpPr>
            <a:xfrm>
              <a:off x="509760" y="468360"/>
              <a:ext cx="3719520" cy="2301120"/>
              <a:chOff x="509760" y="468360"/>
              <a:chExt cx="3719520" cy="2301120"/>
            </a:xfrm>
          </p:grpSpPr>
          <p:grpSp>
            <p:nvGrpSpPr>
              <p:cNvPr id="3005" name=""/>
              <p:cNvGrpSpPr/>
              <p:nvPr/>
            </p:nvGrpSpPr>
            <p:grpSpPr>
              <a:xfrm>
                <a:off x="717480" y="468360"/>
                <a:ext cx="3511800" cy="1784520"/>
                <a:chOff x="717480" y="468360"/>
                <a:chExt cx="3511800" cy="1784520"/>
              </a:xfrm>
            </p:grpSpPr>
            <p:sp>
              <p:nvSpPr>
                <p:cNvPr id="3006" name=""/>
                <p:cNvSpPr/>
                <p:nvPr/>
              </p:nvSpPr>
              <p:spPr>
                <a:xfrm>
                  <a:off x="1130400" y="988920"/>
                  <a:ext cx="1753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HEADQUARTERS ELE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965160" y="468360"/>
                  <a:ext cx="28306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669900"/>
                      </a:solidFill>
                      <a:latin typeface="Arial"/>
                    </a:rPr>
                    <a:t>Fire Support Element-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1041480" y="735120"/>
                  <a:ext cx="3187800" cy="246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ight Artillery Regiment August 194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flipH="1">
                  <a:off x="725400" y="839880"/>
                  <a:ext cx="7920" cy="128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0" name=""/>
                <p:cNvGrpSpPr/>
                <p:nvPr/>
              </p:nvGrpSpPr>
              <p:grpSpPr>
                <a:xfrm>
                  <a:off x="717480" y="1189080"/>
                  <a:ext cx="2606760" cy="687240"/>
                  <a:chOff x="717480" y="1189080"/>
                  <a:chExt cx="2606760" cy="687240"/>
                </a:xfrm>
              </p:grpSpPr>
              <p:grpSp>
                <p:nvGrpSpPr>
                  <p:cNvPr id="3011" name=""/>
                  <p:cNvGrpSpPr/>
                  <p:nvPr/>
                </p:nvGrpSpPr>
                <p:grpSpPr>
                  <a:xfrm>
                    <a:off x="717480" y="1189080"/>
                    <a:ext cx="2606760" cy="360000"/>
                    <a:chOff x="717480" y="1189080"/>
                    <a:chExt cx="2606760" cy="360000"/>
                  </a:xfrm>
                </p:grpSpPr>
                <p:sp>
                  <p:nvSpPr>
                    <p:cNvPr id="3012" name=""/>
                    <p:cNvSpPr/>
                    <p:nvPr/>
                  </p:nvSpPr>
                  <p:spPr>
                    <a:xfrm>
                      <a:off x="1244520" y="1189080"/>
                      <a:ext cx="83808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3" name=""/>
                    <p:cNvSpPr/>
                    <p:nvPr/>
                  </p:nvSpPr>
                  <p:spPr>
                    <a:xfrm>
                      <a:off x="717480" y="1438200"/>
                      <a:ext cx="352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4" name=""/>
                    <p:cNvSpPr/>
                    <p:nvPr/>
                  </p:nvSpPr>
                  <p:spPr>
                    <a:xfrm>
                      <a:off x="1242720" y="1333440"/>
                      <a:ext cx="208152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er    RU-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15" name=""/>
                    <p:cNvGrpSpPr/>
                    <p:nvPr/>
                  </p:nvGrpSpPr>
                  <p:grpSpPr>
                    <a:xfrm>
                      <a:off x="1015920" y="1316160"/>
                      <a:ext cx="237960" cy="190440"/>
                      <a:chOff x="1015920" y="1316160"/>
                      <a:chExt cx="237960" cy="190440"/>
                    </a:xfrm>
                  </p:grpSpPr>
                  <p:sp>
                    <p:nvSpPr>
                      <p:cNvPr id="3016" name=""/>
                      <p:cNvSpPr/>
                      <p:nvPr/>
                    </p:nvSpPr>
                    <p:spPr>
                      <a:xfrm>
                        <a:off x="1015920" y="1349640"/>
                        <a:ext cx="23796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anchorCtr="1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HQ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7" name=""/>
                      <p:cNvSpPr/>
                      <p:nvPr/>
                    </p:nvSpPr>
                    <p:spPr>
                      <a:xfrm>
                        <a:off x="1123560" y="131616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18" name=""/>
                  <p:cNvGrpSpPr/>
                  <p:nvPr/>
                </p:nvGrpSpPr>
                <p:grpSpPr>
                  <a:xfrm>
                    <a:off x="1066680" y="1509840"/>
                    <a:ext cx="1825560" cy="366480"/>
                    <a:chOff x="1066680" y="1509840"/>
                    <a:chExt cx="1825560" cy="366480"/>
                  </a:xfrm>
                </p:grpSpPr>
                <p:sp>
                  <p:nvSpPr>
                    <p:cNvPr id="3019" name=""/>
                    <p:cNvSpPr/>
                    <p:nvPr/>
                  </p:nvSpPr>
                  <p:spPr>
                    <a:xfrm>
                      <a:off x="1117440" y="1509840"/>
                      <a:ext cx="0" cy="282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0" name=""/>
                    <p:cNvSpPr/>
                    <p:nvPr/>
                  </p:nvSpPr>
                  <p:spPr>
                    <a:xfrm>
                      <a:off x="1292040" y="1660680"/>
                      <a:ext cx="16002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ep         U-P17 or US-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21" name=""/>
                    <p:cNvGrpSpPr/>
                    <p:nvPr/>
                  </p:nvGrpSpPr>
                  <p:grpSpPr>
                    <a:xfrm>
                      <a:off x="1066680" y="1635120"/>
                      <a:ext cx="231840" cy="223560"/>
                      <a:chOff x="1066680" y="1635120"/>
                      <a:chExt cx="231840" cy="223560"/>
                    </a:xfrm>
                  </p:grpSpPr>
                  <p:sp>
                    <p:nvSpPr>
                      <p:cNvPr id="3022" name=""/>
                      <p:cNvSpPr/>
                      <p:nvPr/>
                    </p:nvSpPr>
                    <p:spPr>
                      <a:xfrm>
                        <a:off x="1168200" y="163512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23" name=""/>
                      <p:cNvGrpSpPr/>
                      <p:nvPr/>
                    </p:nvGrpSpPr>
                    <p:grpSpPr>
                      <a:xfrm>
                        <a:off x="1066680" y="1668240"/>
                        <a:ext cx="231840" cy="190440"/>
                        <a:chOff x="1066680" y="1668240"/>
                        <a:chExt cx="231840" cy="190440"/>
                      </a:xfrm>
                    </p:grpSpPr>
                    <p:sp>
                      <p:nvSpPr>
                        <p:cNvPr id="3024" name=""/>
                        <p:cNvSpPr/>
                        <p:nvPr/>
                      </p:nvSpPr>
                      <p:spPr>
                        <a:xfrm>
                          <a:off x="1066680" y="166824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25" name=""/>
                        <p:cNvSpPr/>
                        <p:nvPr/>
                      </p:nvSpPr>
                      <p:spPr>
                        <a:xfrm>
                          <a:off x="1077840" y="183168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26" name=""/>
                        <p:cNvSpPr/>
                        <p:nvPr/>
                      </p:nvSpPr>
                      <p:spPr>
                        <a:xfrm>
                          <a:off x="1258920" y="183168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027" name=""/>
                    <p:cNvSpPr/>
                    <p:nvPr/>
                  </p:nvSpPr>
                  <p:spPr>
                    <a:xfrm>
                      <a:off x="1450800" y="1521000"/>
                      <a:ext cx="6336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28" name=""/>
                <p:cNvGrpSpPr/>
                <p:nvPr/>
              </p:nvGrpSpPr>
              <p:grpSpPr>
                <a:xfrm>
                  <a:off x="736560" y="1947960"/>
                  <a:ext cx="3003480" cy="304920"/>
                  <a:chOff x="736560" y="1947960"/>
                  <a:chExt cx="3003480" cy="304920"/>
                </a:xfrm>
              </p:grpSpPr>
              <p:sp>
                <p:nvSpPr>
                  <p:cNvPr id="3029" name=""/>
                  <p:cNvSpPr/>
                  <p:nvPr/>
                </p:nvSpPr>
                <p:spPr>
                  <a:xfrm>
                    <a:off x="736560" y="2117880"/>
                    <a:ext cx="1774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0" name=""/>
                  <p:cNvSpPr/>
                  <p:nvPr/>
                </p:nvSpPr>
                <p:spPr>
                  <a:xfrm>
                    <a:off x="1198440" y="2006640"/>
                    <a:ext cx="2541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3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Light Artillery Battalion      FS-04         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31" name=""/>
                  <p:cNvGrpSpPr/>
                  <p:nvPr/>
                </p:nvGrpSpPr>
                <p:grpSpPr>
                  <a:xfrm>
                    <a:off x="931680" y="1947960"/>
                    <a:ext cx="291600" cy="253800"/>
                    <a:chOff x="931680" y="1947960"/>
                    <a:chExt cx="291600" cy="253800"/>
                  </a:xfrm>
                </p:grpSpPr>
                <p:grpSp>
                  <p:nvGrpSpPr>
                    <p:cNvPr id="3032" name=""/>
                    <p:cNvGrpSpPr/>
                    <p:nvPr/>
                  </p:nvGrpSpPr>
                  <p:grpSpPr>
                    <a:xfrm>
                      <a:off x="1039320" y="1947960"/>
                      <a:ext cx="75960" cy="63720"/>
                      <a:chOff x="1039320" y="1947960"/>
                      <a:chExt cx="75960" cy="63720"/>
                    </a:xfrm>
                  </p:grpSpPr>
                  <p:sp>
                    <p:nvSpPr>
                      <p:cNvPr id="3033" name=""/>
                      <p:cNvSpPr/>
                      <p:nvPr/>
                    </p:nvSpPr>
                    <p:spPr>
                      <a:xfrm>
                        <a:off x="1039320" y="1947960"/>
                        <a:ext cx="0" cy="6372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4" name=""/>
                      <p:cNvSpPr/>
                      <p:nvPr/>
                    </p:nvSpPr>
                    <p:spPr>
                      <a:xfrm>
                        <a:off x="1115280" y="1947960"/>
                        <a:ext cx="0" cy="6372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5" name=""/>
                    <p:cNvGrpSpPr/>
                    <p:nvPr/>
                  </p:nvGrpSpPr>
                  <p:grpSpPr>
                    <a:xfrm>
                      <a:off x="931680" y="2011680"/>
                      <a:ext cx="291600" cy="190080"/>
                      <a:chOff x="931680" y="2011680"/>
                      <a:chExt cx="291600" cy="190080"/>
                    </a:xfrm>
                  </p:grpSpPr>
                  <p:sp>
                    <p:nvSpPr>
                      <p:cNvPr id="3036" name=""/>
                      <p:cNvSpPr/>
                      <p:nvPr/>
                    </p:nvSpPr>
                    <p:spPr>
                      <a:xfrm>
                        <a:off x="931680" y="2011680"/>
                        <a:ext cx="291600" cy="19008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7" name=""/>
                      <p:cNvSpPr/>
                      <p:nvPr/>
                    </p:nvSpPr>
                    <p:spPr>
                      <a:xfrm>
                        <a:off x="1057320" y="2084400"/>
                        <a:ext cx="34560" cy="324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760" bIns="-23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038" name=""/>
              <p:cNvSpPr/>
              <p:nvPr/>
            </p:nvSpPr>
            <p:spPr>
              <a:xfrm>
                <a:off x="509760" y="2432160"/>
                <a:ext cx="307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499"/>
                  </a:spcBef>
                  <a:buClr>
                    <a:srgbClr val="000000"/>
                  </a:buClr>
                  <a:buFont typeface="Arial"/>
                  <a:buAutoNum type="alphaL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Artillery Battalion has only 2 batteries instead of 3 that are listed for FS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ssian Tank Corp Composition 1942-19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414440"/>
            <a:ext cx="40194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 late March 1942 a Tank Corp consisted of the following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rps H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 MediumTank Brigades BG-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torized Rifle Brigade BG-4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gineer Company ME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onnaissance Company BG-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 May 1942 a Tank Corp consisted of the following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rps H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Medium Tank Brigades BG-37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vy Tank Brigade BG-35, (Replace in July by a third Medium Tank Brigad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torized Rifle Brigade BG-4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ntiaircraft Battalion BG-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uards Mortar Battalion FS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torcycle Battalion BG-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gineer Company ME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 January 1943 add the following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rtar Regiment FS-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 Regiment (Mixed) BG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 February 1943 change the following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and the Engineer Company to an Engineer Battalion BG-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 March 1943 add the following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ntiaircraft Regiment BG-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 April 1943 add the following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ntitank Regiment BG-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Separate) Antitank Battalion BG-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422360"/>
            <a:ext cx="38098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 August 1943 add, change or remove the following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d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vy SU Regiment (SU152) BG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 Regiment (SU-85) BG-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mov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Separate) Antitank Battalion BG-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ntitank Regiment BG-3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 August 1944 add the following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ight Artillery Regiment (Mtz) FS-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inal Tank Corp TO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rps H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Medium Tank Brigades BG-3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Motorized Rifle Brigade BG-4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Heavy SU Regiment BG-2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 1 Heavy Tank Regiment BG-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Medium SU Regiment BG-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Light SU Regiment BG-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Light Artillery Regiment FS-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Antiaircraft Regiment BG-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Mortar Regiment FS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Guards Mortar Regiment FS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Armored Reconnaissance Battalion BG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 Motorcycle Battalion BG-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Engineer Battalion BG-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6600" y="120600"/>
            <a:ext cx="300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Brigade Sept. 1942 – May 19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37840" y="860400"/>
            <a:ext cx="11160" cy="544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52600" y="2898720"/>
            <a:ext cx="3148920" cy="257040"/>
            <a:chOff x="552600" y="2898720"/>
            <a:chExt cx="3148920" cy="257040"/>
          </a:xfrm>
        </p:grpSpPr>
        <p:grpSp>
          <p:nvGrpSpPr>
            <p:cNvPr id="50" name=""/>
            <p:cNvGrpSpPr/>
            <p:nvPr/>
          </p:nvGrpSpPr>
          <p:grpSpPr>
            <a:xfrm>
              <a:off x="552600" y="2898720"/>
              <a:ext cx="551520" cy="257040"/>
              <a:chOff x="552600" y="2898720"/>
              <a:chExt cx="551520" cy="257040"/>
            </a:xfrm>
          </p:grpSpPr>
          <p:sp>
            <p:nvSpPr>
              <p:cNvPr id="51" name=""/>
              <p:cNvSpPr/>
              <p:nvPr/>
            </p:nvSpPr>
            <p:spPr>
              <a:xfrm>
                <a:off x="552600" y="3103200"/>
                <a:ext cx="38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812520" y="2898720"/>
                <a:ext cx="291600" cy="257040"/>
                <a:chOff x="812520" y="2898720"/>
                <a:chExt cx="291600" cy="257040"/>
              </a:xfrm>
            </p:grpSpPr>
            <p:grpSp>
              <p:nvGrpSpPr>
                <p:cNvPr id="53" name=""/>
                <p:cNvGrpSpPr/>
                <p:nvPr/>
              </p:nvGrpSpPr>
              <p:grpSpPr>
                <a:xfrm>
                  <a:off x="812520" y="2965320"/>
                  <a:ext cx="291600" cy="190440"/>
                  <a:chOff x="812520" y="2965320"/>
                  <a:chExt cx="291600" cy="19044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812520" y="2965320"/>
                    <a:ext cx="291600" cy="19044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flipV="1">
                    <a:off x="815400" y="2967840"/>
                    <a:ext cx="284040" cy="186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812520" y="2968200"/>
                    <a:ext cx="290160" cy="181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912240" y="2898720"/>
                  <a:ext cx="83160" cy="66240"/>
                  <a:chOff x="912240" y="2898720"/>
                  <a:chExt cx="83160" cy="6624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>
                    <a:off x="912240" y="2898720"/>
                    <a:ext cx="0" cy="662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995400" y="2898720"/>
                    <a:ext cx="0" cy="662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0" name=""/>
            <p:cNvSpPr/>
            <p:nvPr/>
          </p:nvSpPr>
          <p:spPr>
            <a:xfrm>
              <a:off x="1218960" y="2931840"/>
              <a:ext cx="248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Motorized (Mech) Rifle Battal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BG-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49240" y="2620800"/>
            <a:ext cx="17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6120" y="3632040"/>
            <a:ext cx="2644920" cy="263520"/>
            <a:chOff x="546120" y="3632040"/>
            <a:chExt cx="2644920" cy="263520"/>
          </a:xfrm>
        </p:grpSpPr>
        <p:grpSp>
          <p:nvGrpSpPr>
            <p:cNvPr id="63" name=""/>
            <p:cNvGrpSpPr/>
            <p:nvPr/>
          </p:nvGrpSpPr>
          <p:grpSpPr>
            <a:xfrm>
              <a:off x="546120" y="3632040"/>
              <a:ext cx="549360" cy="257040"/>
              <a:chOff x="546120" y="3632040"/>
              <a:chExt cx="549360" cy="257040"/>
            </a:xfrm>
          </p:grpSpPr>
          <p:sp>
            <p:nvSpPr>
              <p:cNvPr id="64" name=""/>
              <p:cNvSpPr/>
              <p:nvPr/>
            </p:nvSpPr>
            <p:spPr>
              <a:xfrm>
                <a:off x="546120" y="37969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11080" y="3632040"/>
                <a:ext cx="284400" cy="257040"/>
                <a:chOff x="811080" y="3632040"/>
                <a:chExt cx="284400" cy="2570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811080" y="3695400"/>
                  <a:ext cx="284400" cy="193680"/>
                  <a:chOff x="811080" y="3695400"/>
                  <a:chExt cx="284400" cy="1936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811080" y="3695400"/>
                    <a:ext cx="28440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V="1">
                    <a:off x="813960" y="3698280"/>
                    <a:ext cx="27684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1080" y="3698280"/>
                    <a:ext cx="28296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>
                  <a:off x="952560" y="36320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" name=""/>
            <p:cNvSpPr/>
            <p:nvPr/>
          </p:nvSpPr>
          <p:spPr>
            <a:xfrm>
              <a:off x="1109520" y="367992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Submachine Gun Co.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ME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66840" y="585360"/>
            <a:ext cx="364680" cy="312840"/>
            <a:chOff x="366840" y="585360"/>
            <a:chExt cx="364680" cy="312840"/>
          </a:xfrm>
        </p:grpSpPr>
        <p:grpSp>
          <p:nvGrpSpPr>
            <p:cNvPr id="73" name=""/>
            <p:cNvGrpSpPr/>
            <p:nvPr/>
          </p:nvGrpSpPr>
          <p:grpSpPr>
            <a:xfrm>
              <a:off x="522360" y="585360"/>
              <a:ext cx="75960" cy="64080"/>
              <a:chOff x="522360" y="585360"/>
              <a:chExt cx="75960" cy="64080"/>
            </a:xfrm>
          </p:grpSpPr>
          <p:sp>
            <p:nvSpPr>
              <p:cNvPr id="74" name=""/>
              <p:cNvSpPr/>
              <p:nvPr/>
            </p:nvSpPr>
            <p:spPr>
              <a:xfrm>
                <a:off x="522360" y="585720"/>
                <a:ext cx="759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522360" y="585360"/>
                <a:ext cx="759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66840" y="660240"/>
              <a:ext cx="364680" cy="237960"/>
              <a:chOff x="366840" y="660240"/>
              <a:chExt cx="364680" cy="237960"/>
            </a:xfrm>
          </p:grpSpPr>
          <p:sp>
            <p:nvSpPr>
              <p:cNvPr id="77" name=""/>
              <p:cNvSpPr/>
              <p:nvPr/>
            </p:nvSpPr>
            <p:spPr>
              <a:xfrm>
                <a:off x="368640" y="660240"/>
                <a:ext cx="362880" cy="237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2640" y="719280"/>
                <a:ext cx="256320" cy="11376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368640" y="660240"/>
                <a:ext cx="358920" cy="23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6840" y="660240"/>
                <a:ext cx="364680" cy="232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4694400" y="946080"/>
            <a:ext cx="17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FIRE SUPPORT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39640" y="1001880"/>
            <a:ext cx="2636280" cy="1528560"/>
            <a:chOff x="539640" y="1001880"/>
            <a:chExt cx="2636280" cy="1528560"/>
          </a:xfrm>
        </p:grpSpPr>
        <p:sp>
          <p:nvSpPr>
            <p:cNvPr id="83" name=""/>
            <p:cNvSpPr/>
            <p:nvPr/>
          </p:nvSpPr>
          <p:spPr>
            <a:xfrm>
              <a:off x="890280" y="100188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76040" y="1187640"/>
              <a:ext cx="838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39640" y="1398600"/>
              <a:ext cx="2606760" cy="501480"/>
              <a:chOff x="539640" y="1398600"/>
              <a:chExt cx="2606760" cy="501480"/>
            </a:xfrm>
          </p:grpSpPr>
          <p:sp>
            <p:nvSpPr>
              <p:cNvPr id="86" name=""/>
              <p:cNvSpPr/>
              <p:nvPr/>
            </p:nvSpPr>
            <p:spPr>
              <a:xfrm>
                <a:off x="888840" y="15336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39640" y="15210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5240" y="14162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RU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063440" y="1684440"/>
                <a:ext cx="1600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Jeep        RU-P17 or US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838080" y="1398600"/>
                <a:ext cx="238320" cy="190440"/>
                <a:chOff x="838080" y="1398600"/>
                <a:chExt cx="238320" cy="1904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838080" y="1432080"/>
                  <a:ext cx="23832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946080" y="1398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838080" y="1658880"/>
                <a:ext cx="231840" cy="223560"/>
                <a:chOff x="838080" y="1658880"/>
                <a:chExt cx="231840" cy="2235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939600" y="1658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838080" y="1692000"/>
                  <a:ext cx="231840" cy="190440"/>
                  <a:chOff x="838080" y="1692000"/>
                  <a:chExt cx="231840" cy="1904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838080" y="169200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49240" y="185544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030320" y="1855440"/>
                    <a:ext cx="284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9" name=""/>
              <p:cNvSpPr/>
              <p:nvPr/>
            </p:nvSpPr>
            <p:spPr>
              <a:xfrm>
                <a:off x="1271520" y="153684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50800" y="2006640"/>
              <a:ext cx="2625120" cy="523800"/>
              <a:chOff x="550800" y="2006640"/>
              <a:chExt cx="2625120" cy="523800"/>
            </a:xfrm>
          </p:grpSpPr>
          <p:sp>
            <p:nvSpPr>
              <p:cNvPr id="101" name=""/>
              <p:cNvSpPr/>
              <p:nvPr/>
            </p:nvSpPr>
            <p:spPr>
              <a:xfrm>
                <a:off x="899640" y="215424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0800" y="214128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833040" y="2296800"/>
                <a:ext cx="231480" cy="233640"/>
                <a:chOff x="833040" y="2296800"/>
                <a:chExt cx="231480" cy="23364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833040" y="2340000"/>
                  <a:ext cx="231480" cy="190440"/>
                  <a:chOff x="833040" y="2340000"/>
                  <a:chExt cx="231480" cy="1904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833040" y="234000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43840" y="2503440"/>
                    <a:ext cx="266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024920" y="2503440"/>
                    <a:ext cx="2808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910440" y="2296800"/>
                  <a:ext cx="73800" cy="28800"/>
                  <a:chOff x="910440" y="2296800"/>
                  <a:chExt cx="73800" cy="288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910440" y="229680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957600" y="22986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" name=""/>
              <p:cNvSpPr/>
              <p:nvPr/>
            </p:nvSpPr>
            <p:spPr>
              <a:xfrm>
                <a:off x="1095120" y="2017440"/>
                <a:ext cx="208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ifle Infantry           RU-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93320" y="23144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         RU-62 or RU-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833040" y="2006640"/>
                <a:ext cx="231480" cy="207360"/>
                <a:chOff x="833040" y="2006640"/>
                <a:chExt cx="231480" cy="20736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833040" y="2057040"/>
                  <a:ext cx="231480" cy="156960"/>
                  <a:chOff x="833040" y="2057040"/>
                  <a:chExt cx="231480" cy="1569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833040" y="205704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835200" y="2059200"/>
                    <a:ext cx="2253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33040" y="205920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910800" y="2006640"/>
                  <a:ext cx="74520" cy="27720"/>
                  <a:chOff x="910800" y="2006640"/>
                  <a:chExt cx="74520" cy="277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910800" y="200664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958320" y="200808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" name=""/>
              <p:cNvSpPr/>
              <p:nvPr/>
            </p:nvSpPr>
            <p:spPr>
              <a:xfrm>
                <a:off x="1282320" y="216828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4433760" y="1284120"/>
            <a:ext cx="3133800" cy="333000"/>
            <a:chOff x="4433760" y="1284120"/>
            <a:chExt cx="3133800" cy="333000"/>
          </a:xfrm>
        </p:grpSpPr>
        <p:grpSp>
          <p:nvGrpSpPr>
            <p:cNvPr id="123" name=""/>
            <p:cNvGrpSpPr/>
            <p:nvPr/>
          </p:nvGrpSpPr>
          <p:grpSpPr>
            <a:xfrm>
              <a:off x="4433760" y="1380960"/>
              <a:ext cx="3133800" cy="215640"/>
              <a:chOff x="4433760" y="1380960"/>
              <a:chExt cx="3133800" cy="215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33760" y="1490400"/>
                <a:ext cx="369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76800" y="1380960"/>
                <a:ext cx="239076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Artillery Battalion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755960" y="1371240"/>
              <a:ext cx="374400" cy="245880"/>
              <a:chOff x="4755960" y="1371240"/>
              <a:chExt cx="374400" cy="245880"/>
            </a:xfrm>
          </p:grpSpPr>
          <p:sp>
            <p:nvSpPr>
              <p:cNvPr id="127" name=""/>
              <p:cNvSpPr/>
              <p:nvPr/>
            </p:nvSpPr>
            <p:spPr>
              <a:xfrm>
                <a:off x="4755960" y="1371240"/>
                <a:ext cx="374400" cy="2458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17240" y="1465200"/>
                <a:ext cx="4428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908240" y="1284120"/>
              <a:ext cx="76320" cy="63360"/>
              <a:chOff x="4908240" y="1284120"/>
              <a:chExt cx="76320" cy="63360"/>
            </a:xfrm>
          </p:grpSpPr>
          <p:sp>
            <p:nvSpPr>
              <p:cNvPr id="130" name=""/>
              <p:cNvSpPr/>
              <p:nvPr/>
            </p:nvSpPr>
            <p:spPr>
              <a:xfrm>
                <a:off x="4908240" y="1284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84560" y="1284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4433760" y="1911240"/>
            <a:ext cx="3133800" cy="334440"/>
            <a:chOff x="4433760" y="1911240"/>
            <a:chExt cx="3133800" cy="334440"/>
          </a:xfrm>
        </p:grpSpPr>
        <p:grpSp>
          <p:nvGrpSpPr>
            <p:cNvPr id="133" name=""/>
            <p:cNvGrpSpPr/>
            <p:nvPr/>
          </p:nvGrpSpPr>
          <p:grpSpPr>
            <a:xfrm>
              <a:off x="4433760" y="1911240"/>
              <a:ext cx="3133800" cy="312480"/>
              <a:chOff x="4433760" y="1911240"/>
              <a:chExt cx="3133800" cy="3124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4433760" y="2008080"/>
                <a:ext cx="3133800" cy="215640"/>
                <a:chOff x="4433760" y="2008080"/>
                <a:chExt cx="3133800" cy="2156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33760" y="2117520"/>
                  <a:ext cx="369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176800" y="2008080"/>
                  <a:ext cx="2390760" cy="21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Mortar  Battalion (Mtz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908600" y="1911240"/>
                <a:ext cx="75960" cy="63360"/>
                <a:chOff x="4908600" y="1911240"/>
                <a:chExt cx="75960" cy="633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908600" y="1911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984560" y="1911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4755960" y="2000160"/>
              <a:ext cx="374400" cy="245520"/>
              <a:chOff x="4755960" y="2000160"/>
              <a:chExt cx="374400" cy="245520"/>
            </a:xfrm>
          </p:grpSpPr>
          <p:sp>
            <p:nvSpPr>
              <p:cNvPr id="141" name=""/>
              <p:cNvSpPr/>
              <p:nvPr/>
            </p:nvSpPr>
            <p:spPr>
              <a:xfrm>
                <a:off x="4755960" y="2000160"/>
                <a:ext cx="374400" cy="2455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4889520" y="2034360"/>
                <a:ext cx="106200" cy="171360"/>
                <a:chOff x="4889520" y="2034360"/>
                <a:chExt cx="106200" cy="1713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941360" y="2034360"/>
                  <a:ext cx="0" cy="17136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89520" y="2195640"/>
                  <a:ext cx="10620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5" name=""/>
          <p:cNvGrpSpPr/>
          <p:nvPr/>
        </p:nvGrpSpPr>
        <p:grpSpPr>
          <a:xfrm>
            <a:off x="538200" y="4394160"/>
            <a:ext cx="3417840" cy="266400"/>
            <a:chOff x="538200" y="4394160"/>
            <a:chExt cx="3417840" cy="266400"/>
          </a:xfrm>
        </p:grpSpPr>
        <p:sp>
          <p:nvSpPr>
            <p:cNvPr id="146" name=""/>
            <p:cNvSpPr/>
            <p:nvPr/>
          </p:nvSpPr>
          <p:spPr>
            <a:xfrm>
              <a:off x="538200" y="4564080"/>
              <a:ext cx="32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97000" y="4444920"/>
              <a:ext cx="2759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Antiaircraft Battal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(a)      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BG-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784440" y="4394160"/>
              <a:ext cx="283680" cy="264600"/>
              <a:chOff x="784440" y="4394160"/>
              <a:chExt cx="283680" cy="2646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784440" y="4465440"/>
                <a:ext cx="283680" cy="193320"/>
                <a:chOff x="784440" y="4465440"/>
                <a:chExt cx="283680" cy="1933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84440" y="4465440"/>
                  <a:ext cx="283680" cy="193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784440" y="4469040"/>
                  <a:ext cx="139680" cy="187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24120" y="4465440"/>
                  <a:ext cx="14004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7880" y="4563000"/>
                  <a:ext cx="1400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897120" y="4394160"/>
                <a:ext cx="76320" cy="63360"/>
                <a:chOff x="897120" y="4394160"/>
                <a:chExt cx="76320" cy="63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897120" y="43941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73440" y="43941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7" name=""/>
          <p:cNvGrpSpPr/>
          <p:nvPr/>
        </p:nvGrpSpPr>
        <p:grpSpPr>
          <a:xfrm>
            <a:off x="534960" y="3276720"/>
            <a:ext cx="3613320" cy="273960"/>
            <a:chOff x="534960" y="3276720"/>
            <a:chExt cx="3613320" cy="273960"/>
          </a:xfrm>
        </p:grpSpPr>
        <p:sp>
          <p:nvSpPr>
            <p:cNvPr id="158" name=""/>
            <p:cNvSpPr/>
            <p:nvPr/>
          </p:nvSpPr>
          <p:spPr>
            <a:xfrm>
              <a:off x="534960" y="3468600"/>
              <a:ext cx="53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44520" y="3335040"/>
              <a:ext cx="2903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Mechanized Tank Regiment (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 BG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811080" y="3276720"/>
              <a:ext cx="292320" cy="253080"/>
              <a:chOff x="811080" y="3276720"/>
              <a:chExt cx="292320" cy="2530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811080" y="3319560"/>
                <a:ext cx="292320" cy="210240"/>
                <a:chOff x="811080" y="3319560"/>
                <a:chExt cx="292320" cy="210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811080" y="3319560"/>
                  <a:ext cx="292320" cy="21024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64720" y="3372120"/>
                  <a:ext cx="187560" cy="10044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931680" y="3276720"/>
                <a:ext cx="55800" cy="46440"/>
                <a:chOff x="931680" y="3276720"/>
                <a:chExt cx="55800" cy="464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931680" y="3276720"/>
                  <a:ext cx="0" cy="46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987480" y="3276720"/>
                  <a:ext cx="0" cy="46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7" name=""/>
          <p:cNvGrpSpPr/>
          <p:nvPr/>
        </p:nvGrpSpPr>
        <p:grpSpPr>
          <a:xfrm>
            <a:off x="530280" y="3970440"/>
            <a:ext cx="2814120" cy="294840"/>
            <a:chOff x="530280" y="3970440"/>
            <a:chExt cx="2814120" cy="294840"/>
          </a:xfrm>
        </p:grpSpPr>
        <p:grpSp>
          <p:nvGrpSpPr>
            <p:cNvPr id="168" name=""/>
            <p:cNvGrpSpPr/>
            <p:nvPr/>
          </p:nvGrpSpPr>
          <p:grpSpPr>
            <a:xfrm>
              <a:off x="865080" y="3970440"/>
              <a:ext cx="274320" cy="294840"/>
              <a:chOff x="865080" y="3970440"/>
              <a:chExt cx="274320" cy="294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865080" y="4040280"/>
                <a:ext cx="274320" cy="225000"/>
                <a:chOff x="865080" y="4040280"/>
                <a:chExt cx="274320" cy="225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865080" y="4040280"/>
                  <a:ext cx="274320" cy="1857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865080" y="4040280"/>
                  <a:ext cx="272880" cy="184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77680" y="4232880"/>
                  <a:ext cx="32040" cy="324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092960" y="4232880"/>
                  <a:ext cx="32040" cy="324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005840" y="397044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30280" y="414828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63600" y="4046400"/>
              <a:ext cx="20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Reconnaissance Co.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ME-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411800" y="2852640"/>
            <a:ext cx="3073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ebruary 1943, replace the Antiaircraft Battalion with Antiaircraft Machinegun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ebruary 1943, add a Antitank Rifle Compan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ebruary 1943, add Engineer Company ME-1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April 1944 replace Mechanized Tank Regiment BG-22 with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Mechanized Tank Regiment BG-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800" y="1008000"/>
            <a:ext cx="38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998640"/>
            <a:ext cx="0" cy="111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7560" y="6132600"/>
            <a:ext cx="2936520" cy="253800"/>
            <a:chOff x="547560" y="6132600"/>
            <a:chExt cx="2936520" cy="253800"/>
          </a:xfrm>
        </p:grpSpPr>
        <p:sp>
          <p:nvSpPr>
            <p:cNvPr id="181" name=""/>
            <p:cNvSpPr/>
            <p:nvPr/>
          </p:nvSpPr>
          <p:spPr>
            <a:xfrm>
              <a:off x="547560" y="6286680"/>
              <a:ext cx="386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826560" y="6132600"/>
              <a:ext cx="311040" cy="252360"/>
              <a:chOff x="826560" y="6132600"/>
              <a:chExt cx="311040" cy="25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826560" y="6191280"/>
                <a:ext cx="311040" cy="193680"/>
                <a:chOff x="826560" y="6191280"/>
                <a:chExt cx="311040" cy="193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26560" y="6191280"/>
                  <a:ext cx="311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922320" y="6249600"/>
                  <a:ext cx="0" cy="6156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78120" y="6252840"/>
                  <a:ext cx="0" cy="5868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032480" y="6254280"/>
                  <a:ext cx="0" cy="572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915840" y="6252840"/>
                  <a:ext cx="12600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981360" y="6132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199160" y="6170760"/>
              <a:ext cx="228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Engineer-Sapper Co. (Mtz.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(c) 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60520" y="5364000"/>
            <a:ext cx="2630520" cy="615600"/>
            <a:chOff x="560520" y="5364000"/>
            <a:chExt cx="2630520" cy="615600"/>
          </a:xfrm>
        </p:grpSpPr>
        <p:grpSp>
          <p:nvGrpSpPr>
            <p:cNvPr id="192" name=""/>
            <p:cNvGrpSpPr/>
            <p:nvPr/>
          </p:nvGrpSpPr>
          <p:grpSpPr>
            <a:xfrm>
              <a:off x="560520" y="5364000"/>
              <a:ext cx="2622240" cy="234720"/>
              <a:chOff x="560520" y="5364000"/>
              <a:chExt cx="2622240" cy="234720"/>
            </a:xfrm>
          </p:grpSpPr>
          <p:sp>
            <p:nvSpPr>
              <p:cNvPr id="193" name=""/>
              <p:cNvSpPr/>
              <p:nvPr/>
            </p:nvSpPr>
            <p:spPr>
              <a:xfrm>
                <a:off x="560520" y="549252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01600" y="53830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9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tank Rifle (b)                        RU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826920" y="5364000"/>
                <a:ext cx="231480" cy="212760"/>
                <a:chOff x="826920" y="5364000"/>
                <a:chExt cx="231480" cy="21276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901800" y="5364000"/>
                  <a:ext cx="74520" cy="28080"/>
                  <a:chOff x="901800" y="5364000"/>
                  <a:chExt cx="74520" cy="2808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901800" y="53640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949320" y="5365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826920" y="5419440"/>
                  <a:ext cx="231480" cy="157320"/>
                  <a:chOff x="826920" y="5419440"/>
                  <a:chExt cx="231480" cy="1573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826920" y="541944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V="1">
                    <a:off x="826920" y="542232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941040" y="5419440"/>
                    <a:ext cx="11448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3" name=""/>
            <p:cNvGrpSpPr/>
            <p:nvPr/>
          </p:nvGrpSpPr>
          <p:grpSpPr>
            <a:xfrm>
              <a:off x="849600" y="5603760"/>
              <a:ext cx="2341440" cy="375840"/>
              <a:chOff x="849600" y="5603760"/>
              <a:chExt cx="2341440" cy="375840"/>
            </a:xfrm>
          </p:grpSpPr>
          <p:sp>
            <p:nvSpPr>
              <p:cNvPr id="204" name=""/>
              <p:cNvSpPr/>
              <p:nvPr/>
            </p:nvSpPr>
            <p:spPr>
              <a:xfrm>
                <a:off x="916200" y="560376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49600" y="5746680"/>
                <a:ext cx="231480" cy="232560"/>
                <a:chOff x="849600" y="5746680"/>
                <a:chExt cx="231480" cy="23256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849600" y="5789520"/>
                  <a:ext cx="231480" cy="189720"/>
                  <a:chOff x="849600" y="5789520"/>
                  <a:chExt cx="231480" cy="1897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849600" y="5789520"/>
                    <a:ext cx="23148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60400" y="5952600"/>
                    <a:ext cx="266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1041480" y="5952600"/>
                    <a:ext cx="2808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927000" y="5746680"/>
                  <a:ext cx="73800" cy="28080"/>
                  <a:chOff x="927000" y="5746680"/>
                  <a:chExt cx="73800" cy="2808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927000" y="574668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974160" y="57481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" name=""/>
              <p:cNvSpPr/>
              <p:nvPr/>
            </p:nvSpPr>
            <p:spPr>
              <a:xfrm>
                <a:off x="1109880" y="57639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(Lend Lease)    RU-42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44800" y="561960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536400" y="4738680"/>
            <a:ext cx="2625840" cy="523800"/>
            <a:chOff x="536400" y="4738680"/>
            <a:chExt cx="2625840" cy="523800"/>
          </a:xfrm>
        </p:grpSpPr>
        <p:grpSp>
          <p:nvGrpSpPr>
            <p:cNvPr id="216" name=""/>
            <p:cNvGrpSpPr/>
            <p:nvPr/>
          </p:nvGrpSpPr>
          <p:grpSpPr>
            <a:xfrm>
              <a:off x="819000" y="4886280"/>
              <a:ext cx="2341440" cy="376200"/>
              <a:chOff x="819000" y="4886280"/>
              <a:chExt cx="2341440" cy="376200"/>
            </a:xfrm>
          </p:grpSpPr>
          <p:sp>
            <p:nvSpPr>
              <p:cNvPr id="217" name=""/>
              <p:cNvSpPr/>
              <p:nvPr/>
            </p:nvSpPr>
            <p:spPr>
              <a:xfrm>
                <a:off x="885600" y="488628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819000" y="5029200"/>
                <a:ext cx="231840" cy="232560"/>
                <a:chOff x="819000" y="5029200"/>
                <a:chExt cx="231840" cy="2325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819000" y="5072040"/>
                  <a:ext cx="231840" cy="189720"/>
                  <a:chOff x="819000" y="5072040"/>
                  <a:chExt cx="231840" cy="18972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819000" y="507204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830160" y="523512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1011240" y="523512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896760" y="5029200"/>
                  <a:ext cx="74520" cy="28080"/>
                  <a:chOff x="896760" y="5029200"/>
                  <a:chExt cx="74520" cy="280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896760" y="50292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944280" y="50306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6" name=""/>
              <p:cNvSpPr/>
              <p:nvPr/>
            </p:nvSpPr>
            <p:spPr>
              <a:xfrm>
                <a:off x="1079280" y="50468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(Lend Lease)  RU-42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09520" y="488628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36400" y="4738680"/>
              <a:ext cx="2625840" cy="226800"/>
              <a:chOff x="536400" y="4738680"/>
              <a:chExt cx="2625840" cy="226800"/>
            </a:xfrm>
          </p:grpSpPr>
          <p:sp>
            <p:nvSpPr>
              <p:cNvPr id="229" name=""/>
              <p:cNvSpPr/>
              <p:nvPr/>
            </p:nvSpPr>
            <p:spPr>
              <a:xfrm>
                <a:off x="536400" y="4873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811080" y="4738680"/>
                <a:ext cx="245880" cy="214200"/>
                <a:chOff x="811080" y="4738680"/>
                <a:chExt cx="245880" cy="21420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811080" y="4784760"/>
                  <a:ext cx="245880" cy="168120"/>
                  <a:chOff x="811080" y="4784760"/>
                  <a:chExt cx="245880" cy="16812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811080" y="4784760"/>
                    <a:ext cx="245880" cy="1681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822240" y="479916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822240" y="4798800"/>
                    <a:ext cx="22032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17200" y="4799160"/>
                    <a:ext cx="52560" cy="13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896400" y="4738680"/>
                  <a:ext cx="73800" cy="28080"/>
                  <a:chOff x="896400" y="4738680"/>
                  <a:chExt cx="73800" cy="2808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896400" y="473868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943560" y="47401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"/>
              <p:cNvSpPr/>
              <p:nvPr/>
            </p:nvSpPr>
            <p:spPr>
              <a:xfrm>
                <a:off x="1080720" y="474984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aircraft Machine Gun (a)  RU-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789120" y="3618000"/>
            <a:ext cx="2341440" cy="375840"/>
            <a:chOff x="789120" y="3618000"/>
            <a:chExt cx="2341440" cy="375840"/>
          </a:xfrm>
        </p:grpSpPr>
        <p:sp>
          <p:nvSpPr>
            <p:cNvPr id="241" name=""/>
            <p:cNvSpPr/>
            <p:nvPr/>
          </p:nvSpPr>
          <p:spPr>
            <a:xfrm>
              <a:off x="855720" y="3618000"/>
              <a:ext cx="0" cy="28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89120" y="3760920"/>
              <a:ext cx="231480" cy="232560"/>
              <a:chOff x="789120" y="3760920"/>
              <a:chExt cx="231480" cy="23256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789120" y="3803760"/>
                <a:ext cx="231480" cy="189720"/>
                <a:chOff x="789120" y="3803760"/>
                <a:chExt cx="231480" cy="1897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89120" y="3803760"/>
                  <a:ext cx="231480" cy="156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99920" y="3966840"/>
                  <a:ext cx="26640" cy="2664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981000" y="3966840"/>
                  <a:ext cx="28080" cy="2664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866520" y="3760920"/>
                <a:ext cx="73800" cy="28080"/>
                <a:chOff x="866520" y="3760920"/>
                <a:chExt cx="73800" cy="28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866520" y="376092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913680" y="37623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1049400" y="377820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um Truck             RU-62 or RU-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2840" y="3637080"/>
              <a:ext cx="63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36600" y="120600"/>
            <a:ext cx="346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ized (Mech) Rifle Battalion Sept 42 – May 19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52440" y="612720"/>
            <a:ext cx="2836800" cy="4476600"/>
            <a:chOff x="352440" y="612720"/>
            <a:chExt cx="2836800" cy="4476600"/>
          </a:xfrm>
        </p:grpSpPr>
        <p:grpSp>
          <p:nvGrpSpPr>
            <p:cNvPr id="254" name=""/>
            <p:cNvGrpSpPr/>
            <p:nvPr/>
          </p:nvGrpSpPr>
          <p:grpSpPr>
            <a:xfrm>
              <a:off x="828720" y="1122480"/>
              <a:ext cx="1825560" cy="366480"/>
              <a:chOff x="828720" y="1122480"/>
              <a:chExt cx="1825560" cy="366480"/>
            </a:xfrm>
          </p:grpSpPr>
          <p:sp>
            <p:nvSpPr>
              <p:cNvPr id="255" name=""/>
              <p:cNvSpPr/>
              <p:nvPr/>
            </p:nvSpPr>
            <p:spPr>
              <a:xfrm>
                <a:off x="879480" y="112248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054080" y="1273320"/>
                <a:ext cx="1600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Jeep        RU-P17 or US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828720" y="1247760"/>
                <a:ext cx="231840" cy="223560"/>
                <a:chOff x="828720" y="1247760"/>
                <a:chExt cx="231840" cy="223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930240" y="1247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828720" y="1280880"/>
                  <a:ext cx="231840" cy="190440"/>
                  <a:chOff x="828720" y="1280880"/>
                  <a:chExt cx="231840" cy="190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828720" y="128088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839880" y="144432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020960" y="1444320"/>
                    <a:ext cx="284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3" name=""/>
              <p:cNvSpPr/>
              <p:nvPr/>
            </p:nvSpPr>
            <p:spPr>
              <a:xfrm>
                <a:off x="1212840" y="113364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30280" y="4049640"/>
              <a:ext cx="2622600" cy="523800"/>
              <a:chOff x="530280" y="4049640"/>
              <a:chExt cx="2622600" cy="52380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793800" y="4197240"/>
                <a:ext cx="1355760" cy="376200"/>
                <a:chOff x="793800" y="4197240"/>
                <a:chExt cx="1355760" cy="3762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860400" y="419724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793800" y="4340160"/>
                  <a:ext cx="231840" cy="232560"/>
                  <a:chOff x="793800" y="4340160"/>
                  <a:chExt cx="231840" cy="23256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793800" y="4383000"/>
                    <a:ext cx="231840" cy="189720"/>
                    <a:chOff x="793800" y="4383000"/>
                    <a:chExt cx="231840" cy="18972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793800" y="4383000"/>
                      <a:ext cx="23184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04960" y="4546080"/>
                      <a:ext cx="2700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986040" y="4546080"/>
                      <a:ext cx="284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871560" y="4340160"/>
                    <a:ext cx="74520" cy="28080"/>
                    <a:chOff x="871560" y="4340160"/>
                    <a:chExt cx="74520" cy="280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71560" y="4340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919080" y="4341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5" name=""/>
                <p:cNvSpPr/>
                <p:nvPr/>
              </p:nvSpPr>
              <p:spPr>
                <a:xfrm>
                  <a:off x="1054080" y="4357800"/>
                  <a:ext cx="1095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TZ Tracto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158840" y="4197240"/>
                  <a:ext cx="633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530280" y="4049640"/>
                <a:ext cx="2622600" cy="234720"/>
                <a:chOff x="530280" y="4049640"/>
                <a:chExt cx="2622600" cy="234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30280" y="41781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801720" y="4049640"/>
                  <a:ext cx="231480" cy="205920"/>
                  <a:chOff x="801720" y="4049640"/>
                  <a:chExt cx="231480" cy="205920"/>
                </a:xfrm>
              </p:grpSpPr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801720" y="4098600"/>
                    <a:ext cx="231480" cy="156960"/>
                    <a:chOff x="801720" y="4098600"/>
                    <a:chExt cx="231480" cy="156960"/>
                  </a:xfrm>
                </p:grpSpPr>
                <p:grpSp>
                  <p:nvGrpSpPr>
                    <p:cNvPr id="281" name=""/>
                    <p:cNvGrpSpPr/>
                    <p:nvPr/>
                  </p:nvGrpSpPr>
                  <p:grpSpPr>
                    <a:xfrm>
                      <a:off x="801720" y="4098600"/>
                      <a:ext cx="231480" cy="156960"/>
                      <a:chOff x="801720" y="4098600"/>
                      <a:chExt cx="231480" cy="156960"/>
                    </a:xfrm>
                  </p:grpSpPr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801720" y="409860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 flipV="1">
                        <a:off x="801720" y="4101480"/>
                        <a:ext cx="11412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915840" y="4098600"/>
                        <a:ext cx="114480" cy="1537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903600" y="4163760"/>
                      <a:ext cx="28440" cy="2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871560" y="4049640"/>
                    <a:ext cx="74520" cy="28080"/>
                    <a:chOff x="871560" y="4049640"/>
                    <a:chExt cx="74520" cy="2808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71560" y="40496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919080" y="40510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9" name=""/>
                <p:cNvSpPr/>
                <p:nvPr/>
              </p:nvSpPr>
              <p:spPr>
                <a:xfrm>
                  <a:off x="1071720" y="40687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5mm Antitank Gun                 RU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0" name=""/>
            <p:cNvSpPr/>
            <p:nvPr/>
          </p:nvSpPr>
          <p:spPr>
            <a:xfrm>
              <a:off x="1009800" y="70344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530280" y="860400"/>
              <a:ext cx="2606760" cy="360000"/>
              <a:chOff x="530280" y="860400"/>
              <a:chExt cx="2606760" cy="360000"/>
            </a:xfrm>
          </p:grpSpPr>
          <p:sp>
            <p:nvSpPr>
              <p:cNvPr id="292" name=""/>
              <p:cNvSpPr/>
              <p:nvPr/>
            </p:nvSpPr>
            <p:spPr>
              <a:xfrm>
                <a:off x="1057320" y="86040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30280" y="11095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55520" y="100476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RU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828720" y="987480"/>
                <a:ext cx="237960" cy="190440"/>
                <a:chOff x="828720" y="987480"/>
                <a:chExt cx="237960" cy="190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828720" y="1020960"/>
                  <a:ext cx="23796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936360" y="9874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530280" y="2158920"/>
              <a:ext cx="2654280" cy="732600"/>
              <a:chOff x="530280" y="2158920"/>
              <a:chExt cx="2654280" cy="73260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530280" y="2158920"/>
                <a:ext cx="2644560" cy="263160"/>
                <a:chOff x="530280" y="2158920"/>
                <a:chExt cx="2644560" cy="2631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530280" y="2158920"/>
                  <a:ext cx="549360" cy="257040"/>
                  <a:chOff x="530280" y="2158920"/>
                  <a:chExt cx="549360" cy="2570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530280" y="232380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795240" y="2158920"/>
                    <a:ext cx="284400" cy="257040"/>
                    <a:chOff x="795240" y="2158920"/>
                    <a:chExt cx="284400" cy="257040"/>
                  </a:xfrm>
                </p:grpSpPr>
                <p:grpSp>
                  <p:nvGrpSpPr>
                    <p:cNvPr id="303" name=""/>
                    <p:cNvGrpSpPr/>
                    <p:nvPr/>
                  </p:nvGrpSpPr>
                  <p:grpSpPr>
                    <a:xfrm>
                      <a:off x="795240" y="2222280"/>
                      <a:ext cx="284400" cy="193680"/>
                      <a:chOff x="795240" y="2222280"/>
                      <a:chExt cx="284400" cy="193680"/>
                    </a:xfrm>
                  </p:grpSpPr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795240" y="2222280"/>
                        <a:ext cx="284400" cy="19368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 flipV="1">
                        <a:off x="798120" y="2225160"/>
                        <a:ext cx="276840" cy="18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795240" y="2225160"/>
                        <a:ext cx="2829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936720" y="21589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8" name=""/>
                <p:cNvSpPr/>
                <p:nvPr/>
              </p:nvSpPr>
              <p:spPr>
                <a:xfrm>
                  <a:off x="1093680" y="22064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Rifle Company (Mtz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(a)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2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30280" y="2505240"/>
                <a:ext cx="2654280" cy="386280"/>
                <a:chOff x="530280" y="2505240"/>
                <a:chExt cx="2654280" cy="386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30280" y="265752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809640" y="2505240"/>
                  <a:ext cx="284040" cy="257040"/>
                  <a:chOff x="809640" y="2505240"/>
                  <a:chExt cx="284040" cy="25704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809640" y="2568600"/>
                    <a:ext cx="284040" cy="193680"/>
                    <a:chOff x="809640" y="2568600"/>
                    <a:chExt cx="284040" cy="19368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809640" y="2568600"/>
                      <a:ext cx="28404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V="1">
                      <a:off x="812520" y="2571480"/>
                      <a:ext cx="27648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809640" y="2571480"/>
                      <a:ext cx="282600" cy="184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6" name=""/>
                  <p:cNvSpPr/>
                  <p:nvPr/>
                </p:nvSpPr>
                <p:spPr>
                  <a:xfrm>
                    <a:off x="950760" y="2505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1103400" y="2554200"/>
                  <a:ext cx="208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Submachine Gun Co (Tank Riders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525600" y="3470400"/>
              <a:ext cx="2622240" cy="234720"/>
              <a:chOff x="525600" y="3470400"/>
              <a:chExt cx="2622240" cy="234720"/>
            </a:xfrm>
          </p:grpSpPr>
          <p:sp>
            <p:nvSpPr>
              <p:cNvPr id="319" name=""/>
              <p:cNvSpPr/>
              <p:nvPr/>
            </p:nvSpPr>
            <p:spPr>
              <a:xfrm>
                <a:off x="525600" y="35989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066680" y="34894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tank Rifle                           RU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792000" y="3470400"/>
                <a:ext cx="231480" cy="212760"/>
                <a:chOff x="792000" y="3470400"/>
                <a:chExt cx="231480" cy="21276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866880" y="3470400"/>
                  <a:ext cx="74520" cy="28080"/>
                  <a:chOff x="866880" y="3470400"/>
                  <a:chExt cx="74520" cy="2808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866880" y="34704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914400" y="34718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792000" y="3525840"/>
                  <a:ext cx="231480" cy="157320"/>
                  <a:chOff x="792000" y="3525840"/>
                  <a:chExt cx="231480" cy="15732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792000" y="352584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V="1">
                    <a:off x="792000" y="352872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906120" y="3525840"/>
                    <a:ext cx="11448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9" name=""/>
            <p:cNvGrpSpPr/>
            <p:nvPr/>
          </p:nvGrpSpPr>
          <p:grpSpPr>
            <a:xfrm>
              <a:off x="352440" y="612720"/>
              <a:ext cx="347400" cy="4348080"/>
              <a:chOff x="352440" y="612720"/>
              <a:chExt cx="347400" cy="4348080"/>
            </a:xfrm>
          </p:grpSpPr>
          <p:sp>
            <p:nvSpPr>
              <p:cNvPr id="330" name=""/>
              <p:cNvSpPr/>
              <p:nvPr/>
            </p:nvSpPr>
            <p:spPr>
              <a:xfrm>
                <a:off x="523800" y="898560"/>
                <a:ext cx="0" cy="406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352440" y="612720"/>
                <a:ext cx="347400" cy="296640"/>
                <a:chOff x="352440" y="612720"/>
                <a:chExt cx="347400" cy="29664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487440" y="612720"/>
                  <a:ext cx="75960" cy="63720"/>
                  <a:chOff x="487440" y="612720"/>
                  <a:chExt cx="75960" cy="637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487440" y="61272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3400" y="61272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52440" y="673200"/>
                  <a:ext cx="347400" cy="236160"/>
                  <a:chOff x="352440" y="673200"/>
                  <a:chExt cx="347400" cy="23616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352440" y="673200"/>
                    <a:ext cx="34740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356040" y="676800"/>
                    <a:ext cx="33876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52440" y="676800"/>
                    <a:ext cx="34596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9" name=""/>
            <p:cNvGrpSpPr/>
            <p:nvPr/>
          </p:nvGrpSpPr>
          <p:grpSpPr>
            <a:xfrm>
              <a:off x="519120" y="4622760"/>
              <a:ext cx="2670120" cy="466560"/>
              <a:chOff x="519120" y="4622760"/>
              <a:chExt cx="2670120" cy="466560"/>
            </a:xfrm>
          </p:grpSpPr>
          <p:sp>
            <p:nvSpPr>
              <p:cNvPr id="340" name=""/>
              <p:cNvSpPr/>
              <p:nvPr/>
            </p:nvSpPr>
            <p:spPr>
              <a:xfrm>
                <a:off x="519120" y="49705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768240" y="4836960"/>
                <a:ext cx="291960" cy="250560"/>
                <a:chOff x="768240" y="4836960"/>
                <a:chExt cx="291960" cy="2505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914400" y="48369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768240" y="4897440"/>
                  <a:ext cx="291960" cy="190080"/>
                  <a:chOff x="768240" y="4897440"/>
                  <a:chExt cx="291960" cy="1900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68240" y="4897440"/>
                    <a:ext cx="291960" cy="1900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870840" y="5049360"/>
                    <a:ext cx="828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909360" y="4921920"/>
                    <a:ext cx="0" cy="128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7" name=""/>
              <p:cNvSpPr/>
              <p:nvPr/>
            </p:nvSpPr>
            <p:spPr>
              <a:xfrm>
                <a:off x="544680" y="4622760"/>
                <a:ext cx="2128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FIRE SUPPORT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108080" y="48736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rtar Company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530280" y="1546200"/>
              <a:ext cx="2625840" cy="523800"/>
              <a:chOff x="530280" y="1546200"/>
              <a:chExt cx="2625840" cy="52380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812880" y="1693800"/>
                <a:ext cx="2341440" cy="376200"/>
                <a:chOff x="812880" y="1693800"/>
                <a:chExt cx="2341440" cy="3762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79480" y="169380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2" name=""/>
                <p:cNvGrpSpPr/>
                <p:nvPr/>
              </p:nvGrpSpPr>
              <p:grpSpPr>
                <a:xfrm>
                  <a:off x="812880" y="1836720"/>
                  <a:ext cx="231840" cy="232560"/>
                  <a:chOff x="812880" y="1836720"/>
                  <a:chExt cx="231840" cy="23256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812880" y="1879560"/>
                    <a:ext cx="231840" cy="189720"/>
                    <a:chOff x="812880" y="1879560"/>
                    <a:chExt cx="231840" cy="1897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812880" y="1879560"/>
                      <a:ext cx="23184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824040" y="2042640"/>
                      <a:ext cx="2700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1005120" y="2042640"/>
                      <a:ext cx="284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890640" y="1836720"/>
                    <a:ext cx="74520" cy="28080"/>
                    <a:chOff x="890640" y="1836720"/>
                    <a:chExt cx="74520" cy="280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90640" y="18367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938160" y="18381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60" name=""/>
                <p:cNvSpPr/>
                <p:nvPr/>
              </p:nvSpPr>
              <p:spPr>
                <a:xfrm>
                  <a:off x="1073160" y="185436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         RU-62 or  RU-4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530280" y="1546200"/>
                <a:ext cx="2625840" cy="226800"/>
                <a:chOff x="530280" y="1546200"/>
                <a:chExt cx="2625840" cy="2268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30280" y="168120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074600" y="1557360"/>
                  <a:ext cx="2081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ifle Infantry  RU-1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812880" y="1546200"/>
                  <a:ext cx="231480" cy="208080"/>
                  <a:chOff x="812880" y="1546200"/>
                  <a:chExt cx="231480" cy="20808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812880" y="1596960"/>
                    <a:ext cx="231480" cy="157320"/>
                    <a:chOff x="812880" y="1596960"/>
                    <a:chExt cx="231480" cy="15732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812880" y="1596960"/>
                      <a:ext cx="23148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V="1">
                      <a:off x="815040" y="1598760"/>
                      <a:ext cx="22536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812880" y="1599120"/>
                      <a:ext cx="23040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890640" y="1546200"/>
                    <a:ext cx="74520" cy="28080"/>
                    <a:chOff x="890640" y="1546200"/>
                    <a:chExt cx="74520" cy="280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890640" y="154620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938160" y="15476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72" name=""/>
              <p:cNvSpPr/>
              <p:nvPr/>
            </p:nvSpPr>
            <p:spPr>
              <a:xfrm>
                <a:off x="1262160" y="167940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30280" y="2852640"/>
              <a:ext cx="2622600" cy="523440"/>
              <a:chOff x="530280" y="2852640"/>
              <a:chExt cx="2622600" cy="52344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793800" y="3000240"/>
                <a:ext cx="2341440" cy="375840"/>
                <a:chOff x="793800" y="3000240"/>
                <a:chExt cx="2341440" cy="375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60400" y="300024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793800" y="3143160"/>
                  <a:ext cx="231840" cy="232560"/>
                  <a:chOff x="793800" y="3143160"/>
                  <a:chExt cx="231840" cy="232560"/>
                </a:xfrm>
              </p:grpSpPr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793800" y="3186000"/>
                    <a:ext cx="231840" cy="189720"/>
                    <a:chOff x="793800" y="3186000"/>
                    <a:chExt cx="231840" cy="1897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793800" y="3186000"/>
                      <a:ext cx="23184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804960" y="3349080"/>
                      <a:ext cx="2700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986040" y="3349080"/>
                      <a:ext cx="284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871560" y="3143160"/>
                    <a:ext cx="74520" cy="28080"/>
                    <a:chOff x="871560" y="3143160"/>
                    <a:chExt cx="74520" cy="280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871560" y="3143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919080" y="3144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4" name=""/>
                <p:cNvSpPr/>
                <p:nvPr/>
              </p:nvSpPr>
              <p:spPr>
                <a:xfrm>
                  <a:off x="1054080" y="31604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            RU-62 or RU-4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30280" y="2852640"/>
                <a:ext cx="2622600" cy="234720"/>
                <a:chOff x="530280" y="2852640"/>
                <a:chExt cx="2622600" cy="234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30280" y="29811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785880" y="2852640"/>
                  <a:ext cx="245880" cy="214200"/>
                  <a:chOff x="785880" y="2852640"/>
                  <a:chExt cx="245880" cy="214200"/>
                </a:xfrm>
              </p:grpSpPr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785880" y="2898720"/>
                    <a:ext cx="245880" cy="168120"/>
                    <a:chOff x="785880" y="2898720"/>
                    <a:chExt cx="245880" cy="16812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785880" y="2898720"/>
                      <a:ext cx="245880" cy="1681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797040" y="2913120"/>
                      <a:ext cx="228600" cy="139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V="1">
                      <a:off x="797040" y="2912760"/>
                      <a:ext cx="220320" cy="128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792000" y="2913120"/>
                      <a:ext cx="52560" cy="13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66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871200" y="2852640"/>
                    <a:ext cx="73800" cy="28080"/>
                    <a:chOff x="871200" y="2852640"/>
                    <a:chExt cx="73800" cy="2808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871200" y="285264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18360" y="28540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96" name=""/>
                <p:cNvSpPr/>
                <p:nvPr/>
              </p:nvSpPr>
              <p:spPr>
                <a:xfrm>
                  <a:off x="1071720" y="28717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Machine Gun             RU-2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1163520" y="300024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01480" y="5329080"/>
            <a:ext cx="36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April 1943 replace ME-26 with 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43720" y="770040"/>
            <a:ext cx="17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013360" y="219240"/>
            <a:ext cx="3529080" cy="6190560"/>
            <a:chOff x="5013360" y="219240"/>
            <a:chExt cx="3529080" cy="6190560"/>
          </a:xfrm>
        </p:grpSpPr>
        <p:sp>
          <p:nvSpPr>
            <p:cNvPr id="401" name=""/>
            <p:cNvSpPr/>
            <p:nvPr/>
          </p:nvSpPr>
          <p:spPr>
            <a:xfrm>
              <a:off x="5016600" y="219240"/>
              <a:ext cx="3260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-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parate Tank Regiment July 1942 – May 19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56280" y="4232160"/>
              <a:ext cx="3073320" cy="21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 replace with BA-10 - RU-61or BA-64B - RU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 replace with T-70 - RU-01, M3 Stuart – RU-37, Valentine – RU-33, or Matilda II – BR-6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January 1943, increase the total number of Medium Tanks to 9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January 1943 decrease the number of light tanks to 3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February 1944 remove the Light Tank Compan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February replace the Antitank Rifle Company with Submachine Compan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 replace T34/76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arly ’43: T34/43        RU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d ’44: T34/85          RU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arly ’44: M4(76)       RU-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013360" y="917640"/>
              <a:ext cx="3529080" cy="3022200"/>
              <a:chOff x="5013360" y="917640"/>
              <a:chExt cx="3529080" cy="3022200"/>
            </a:xfrm>
          </p:grpSpPr>
          <p:sp>
            <p:nvSpPr>
              <p:cNvPr id="404" name=""/>
              <p:cNvSpPr/>
              <p:nvPr/>
            </p:nvSpPr>
            <p:spPr>
              <a:xfrm flipH="1">
                <a:off x="5149800" y="1155600"/>
                <a:ext cx="15840" cy="270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5013360" y="917640"/>
                <a:ext cx="284040" cy="252360"/>
                <a:chOff x="5013360" y="917640"/>
                <a:chExt cx="284040" cy="25236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5013360" y="976320"/>
                  <a:ext cx="284040" cy="193680"/>
                  <a:chOff x="5013360" y="976320"/>
                  <a:chExt cx="284040" cy="19368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5013360" y="97632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5065200" y="102456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5116320" y="917640"/>
                  <a:ext cx="75600" cy="63360"/>
                  <a:chOff x="5116320" y="917640"/>
                  <a:chExt cx="75600" cy="633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5116320" y="9176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191920" y="9176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5155920" y="1019160"/>
                <a:ext cx="3294360" cy="369720"/>
                <a:chOff x="5155920" y="1019160"/>
                <a:chExt cx="3294360" cy="369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765760" y="1173240"/>
                  <a:ext cx="2684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T34 76mm Medium Tank (g)       RU-5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5155920" y="129708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765760" y="101916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5446800" y="1177920"/>
                  <a:ext cx="231840" cy="208080"/>
                  <a:chOff x="5446800" y="1177920"/>
                  <a:chExt cx="231840" cy="208080"/>
                </a:xfrm>
              </p:grpSpPr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5497560" y="1177920"/>
                    <a:ext cx="131760" cy="27000"/>
                    <a:chOff x="5497560" y="1177920"/>
                    <a:chExt cx="131760" cy="2700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5497560" y="11779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5548320" y="11779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5602320" y="11779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446800" y="1228680"/>
                    <a:ext cx="231840" cy="157320"/>
                    <a:chOff x="5446800" y="1228680"/>
                    <a:chExt cx="231840" cy="1573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5446800" y="1228680"/>
                      <a:ext cx="23184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5489280" y="1267920"/>
                      <a:ext cx="1486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24" name=""/>
              <p:cNvGrpSpPr/>
              <p:nvPr/>
            </p:nvGrpSpPr>
            <p:grpSpPr>
              <a:xfrm>
                <a:off x="5171760" y="2116080"/>
                <a:ext cx="2846880" cy="271440"/>
                <a:chOff x="5171760" y="2116080"/>
                <a:chExt cx="2846880" cy="271440"/>
              </a:xfrm>
            </p:grpSpPr>
            <p:sp>
              <p:nvSpPr>
                <p:cNvPr id="425" name=""/>
                <p:cNvSpPr/>
                <p:nvPr/>
              </p:nvSpPr>
              <p:spPr>
                <a:xfrm flipH="1">
                  <a:off x="5171760" y="228924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5402160" y="2116080"/>
                  <a:ext cx="284040" cy="258480"/>
                  <a:chOff x="5402160" y="2116080"/>
                  <a:chExt cx="284040" cy="25848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5543280" y="21160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402160" y="2180880"/>
                    <a:ext cx="284040" cy="193680"/>
                    <a:chOff x="5402160" y="2180880"/>
                    <a:chExt cx="284040" cy="19368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5402160" y="2180880"/>
                      <a:ext cx="28404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5454000" y="2229120"/>
                      <a:ext cx="182160" cy="925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1" name=""/>
                <p:cNvSpPr/>
                <p:nvPr/>
              </p:nvSpPr>
              <p:spPr>
                <a:xfrm>
                  <a:off x="5757840" y="2171880"/>
                  <a:ext cx="226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6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T34  76mm Medium Tank  (c,g)     RU-5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5152680" y="2530440"/>
                <a:ext cx="2645280" cy="258480"/>
                <a:chOff x="5152680" y="2530440"/>
                <a:chExt cx="2645280" cy="258480"/>
              </a:xfrm>
            </p:grpSpPr>
            <p:sp>
              <p:nvSpPr>
                <p:cNvPr id="433" name=""/>
                <p:cNvSpPr/>
                <p:nvPr/>
              </p:nvSpPr>
              <p:spPr>
                <a:xfrm flipH="1">
                  <a:off x="5152680" y="269388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5408640" y="2530440"/>
                  <a:ext cx="284040" cy="258480"/>
                  <a:chOff x="5408640" y="2530440"/>
                  <a:chExt cx="284040" cy="25848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5549760" y="25304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408640" y="2595240"/>
                    <a:ext cx="284040" cy="193680"/>
                    <a:chOff x="5408640" y="2595240"/>
                    <a:chExt cx="284040" cy="19368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5408640" y="2595240"/>
                      <a:ext cx="28404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5460480" y="2643480"/>
                      <a:ext cx="182160" cy="925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9" name=""/>
                <p:cNvSpPr/>
                <p:nvPr/>
              </p:nvSpPr>
              <p:spPr>
                <a:xfrm>
                  <a:off x="5816520" y="2566800"/>
                  <a:ext cx="1981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T60 Light Tank (b,d,e)     RU-5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179680" y="1417680"/>
                <a:ext cx="3161160" cy="465840"/>
                <a:chOff x="5179680" y="1417680"/>
                <a:chExt cx="3161160" cy="4658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742000" y="1417680"/>
                  <a:ext cx="2421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Armored Car Recon Plato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789880" y="1649160"/>
                  <a:ext cx="2550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BA-20(a)                                   RU-P0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>
                  <a:off x="5179680" y="177300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799240" y="155376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Rec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5473800" y="1642680"/>
                  <a:ext cx="231840" cy="240840"/>
                  <a:chOff x="5473800" y="1642680"/>
                  <a:chExt cx="231840" cy="240840"/>
                </a:xfrm>
              </p:grpSpPr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5524560" y="1642680"/>
                    <a:ext cx="131760" cy="27000"/>
                    <a:chOff x="5524560" y="1642680"/>
                    <a:chExt cx="131760" cy="2700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24560" y="16426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5575320" y="16426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5629320" y="16426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5473800" y="1693080"/>
                    <a:ext cx="231840" cy="190440"/>
                    <a:chOff x="5473800" y="1693080"/>
                    <a:chExt cx="231840" cy="19044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5473800" y="1693440"/>
                      <a:ext cx="23184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5484240" y="1856520"/>
                      <a:ext cx="2700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5666040" y="1856520"/>
                      <a:ext cx="2736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5506920" y="1734840"/>
                      <a:ext cx="16164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flipV="1">
                      <a:off x="5475960" y="1693080"/>
                      <a:ext cx="227880" cy="15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5149800" y="2995560"/>
                <a:ext cx="2663640" cy="605880"/>
                <a:chOff x="5149800" y="2995560"/>
                <a:chExt cx="2663640" cy="60588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5149800" y="2995560"/>
                  <a:ext cx="2663640" cy="234720"/>
                  <a:chOff x="5149800" y="2995560"/>
                  <a:chExt cx="2663640" cy="23472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5149800" y="3124080"/>
                    <a:ext cx="357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699160" y="3014640"/>
                    <a:ext cx="21142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6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ntitank Rifle    (f)                     RU-2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5420160" y="2995560"/>
                    <a:ext cx="234720" cy="212760"/>
                    <a:chOff x="5420160" y="2995560"/>
                    <a:chExt cx="234720" cy="212760"/>
                  </a:xfrm>
                </p:grpSpPr>
                <p:grpSp>
                  <p:nvGrpSpPr>
                    <p:cNvPr id="461" name=""/>
                    <p:cNvGrpSpPr/>
                    <p:nvPr/>
                  </p:nvGrpSpPr>
                  <p:grpSpPr>
                    <a:xfrm>
                      <a:off x="5496120" y="2995560"/>
                      <a:ext cx="75240" cy="28080"/>
                      <a:chOff x="5496120" y="2995560"/>
                      <a:chExt cx="75240" cy="28080"/>
                    </a:xfrm>
                  </p:grpSpPr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5496120" y="2995560"/>
                        <a:ext cx="288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5544000" y="2997000"/>
                        <a:ext cx="2736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4" name=""/>
                    <p:cNvGrpSpPr/>
                    <p:nvPr/>
                  </p:nvGrpSpPr>
                  <p:grpSpPr>
                    <a:xfrm>
                      <a:off x="5420160" y="3051000"/>
                      <a:ext cx="234720" cy="157320"/>
                      <a:chOff x="5420160" y="3051000"/>
                      <a:chExt cx="234720" cy="157320"/>
                    </a:xfrm>
                  </p:grpSpPr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5420160" y="3051000"/>
                        <a:ext cx="234720" cy="15732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6" name=""/>
                      <p:cNvSpPr/>
                      <p:nvPr/>
                    </p:nvSpPr>
                    <p:spPr>
                      <a:xfrm flipV="1">
                        <a:off x="5420160" y="3053880"/>
                        <a:ext cx="115560" cy="1522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7" name=""/>
                      <p:cNvSpPr/>
                      <p:nvPr/>
                    </p:nvSpPr>
                    <p:spPr>
                      <a:xfrm>
                        <a:off x="5535720" y="3051000"/>
                        <a:ext cx="115920" cy="1540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5462640" y="3225600"/>
                  <a:ext cx="2341440" cy="375840"/>
                  <a:chOff x="5462640" y="3225600"/>
                  <a:chExt cx="2341440" cy="37584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29240" y="3225600"/>
                    <a:ext cx="0" cy="282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5462640" y="3368520"/>
                    <a:ext cx="231480" cy="232560"/>
                    <a:chOff x="5462640" y="3368520"/>
                    <a:chExt cx="231480" cy="232560"/>
                  </a:xfrm>
                </p:grpSpPr>
                <p:grpSp>
                  <p:nvGrpSpPr>
                    <p:cNvPr id="471" name=""/>
                    <p:cNvGrpSpPr/>
                    <p:nvPr/>
                  </p:nvGrpSpPr>
                  <p:grpSpPr>
                    <a:xfrm>
                      <a:off x="5462640" y="3411360"/>
                      <a:ext cx="231480" cy="189720"/>
                      <a:chOff x="5462640" y="3411360"/>
                      <a:chExt cx="231480" cy="189720"/>
                    </a:xfrm>
                  </p:grpSpPr>
                  <p:sp>
                    <p:nvSpPr>
                      <p:cNvPr id="472" name=""/>
                      <p:cNvSpPr/>
                      <p:nvPr/>
                    </p:nvSpPr>
                    <p:spPr>
                      <a:xfrm>
                        <a:off x="5462640" y="3411360"/>
                        <a:ext cx="231480" cy="15660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3" name=""/>
                      <p:cNvSpPr/>
                      <p:nvPr/>
                    </p:nvSpPr>
                    <p:spPr>
                      <a:xfrm>
                        <a:off x="5473440" y="357444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4" name=""/>
                      <p:cNvSpPr/>
                      <p:nvPr/>
                    </p:nvSpPr>
                    <p:spPr>
                      <a:xfrm>
                        <a:off x="5654520" y="357444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5" name=""/>
                    <p:cNvGrpSpPr/>
                    <p:nvPr/>
                  </p:nvGrpSpPr>
                  <p:grpSpPr>
                    <a:xfrm>
                      <a:off x="5540040" y="3368520"/>
                      <a:ext cx="73800" cy="28080"/>
                      <a:chOff x="5540040" y="3368520"/>
                      <a:chExt cx="73800" cy="28080"/>
                    </a:xfrm>
                  </p:grpSpPr>
                  <p:sp>
                    <p:nvSpPr>
                      <p:cNvPr id="476" name=""/>
                      <p:cNvSpPr/>
                      <p:nvPr/>
                    </p:nvSpPr>
                    <p:spPr>
                      <a:xfrm>
                        <a:off x="5540040" y="336852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" name=""/>
                      <p:cNvSpPr/>
                      <p:nvPr/>
                    </p:nvSpPr>
                    <p:spPr>
                      <a:xfrm>
                        <a:off x="5587200" y="336996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78" name=""/>
                  <p:cNvSpPr/>
                  <p:nvPr/>
                </p:nvSpPr>
                <p:spPr>
                  <a:xfrm>
                    <a:off x="5722920" y="338580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3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Medium Truck          RU-62 or RU-4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886360" y="3244680"/>
                    <a:ext cx="6336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0" name=""/>
              <p:cNvGrpSpPr/>
              <p:nvPr/>
            </p:nvGrpSpPr>
            <p:grpSpPr>
              <a:xfrm>
                <a:off x="5178600" y="3676680"/>
                <a:ext cx="3363840" cy="263160"/>
                <a:chOff x="5178600" y="3676680"/>
                <a:chExt cx="3363840" cy="26316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5178600" y="3676680"/>
                  <a:ext cx="549360" cy="257040"/>
                  <a:chOff x="5178600" y="3676680"/>
                  <a:chExt cx="549360" cy="2570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5178600" y="384156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443560" y="3676680"/>
                    <a:ext cx="284400" cy="257040"/>
                    <a:chOff x="5443560" y="3676680"/>
                    <a:chExt cx="284400" cy="257040"/>
                  </a:xfrm>
                </p:grpSpPr>
                <p:grpSp>
                  <p:nvGrpSpPr>
                    <p:cNvPr id="484" name=""/>
                    <p:cNvGrpSpPr/>
                    <p:nvPr/>
                  </p:nvGrpSpPr>
                  <p:grpSpPr>
                    <a:xfrm>
                      <a:off x="5443560" y="3740040"/>
                      <a:ext cx="284400" cy="193680"/>
                      <a:chOff x="5443560" y="3740040"/>
                      <a:chExt cx="284400" cy="193680"/>
                    </a:xfrm>
                  </p:grpSpPr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5443560" y="3740040"/>
                        <a:ext cx="284400" cy="19368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 flipV="1">
                        <a:off x="5446440" y="3742920"/>
                        <a:ext cx="276840" cy="18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5443560" y="3742920"/>
                        <a:ext cx="2829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5585040" y="36766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89" name=""/>
                <p:cNvSpPr/>
                <p:nvPr/>
              </p:nvSpPr>
              <p:spPr>
                <a:xfrm>
                  <a:off x="5742000" y="3724200"/>
                  <a:ext cx="2800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Submachine Gun Co. (Tank Riders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(f)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36600" y="120600"/>
            <a:ext cx="254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iaircraft Battalion March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828720" y="1122480"/>
            <a:ext cx="1825560" cy="366480"/>
            <a:chOff x="828720" y="1122480"/>
            <a:chExt cx="1825560" cy="366480"/>
          </a:xfrm>
        </p:grpSpPr>
        <p:sp>
          <p:nvSpPr>
            <p:cNvPr id="492" name=""/>
            <p:cNvSpPr/>
            <p:nvPr/>
          </p:nvSpPr>
          <p:spPr>
            <a:xfrm>
              <a:off x="879480" y="1122480"/>
              <a:ext cx="0" cy="28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54080" y="1273320"/>
              <a:ext cx="160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eep        RU-P17 or US-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28720" y="1247760"/>
              <a:ext cx="231840" cy="223560"/>
              <a:chOff x="828720" y="1247760"/>
              <a:chExt cx="231840" cy="223560"/>
            </a:xfrm>
          </p:grpSpPr>
          <p:sp>
            <p:nvSpPr>
              <p:cNvPr id="495" name=""/>
              <p:cNvSpPr/>
              <p:nvPr/>
            </p:nvSpPr>
            <p:spPr>
              <a:xfrm>
                <a:off x="930240" y="1247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828720" y="1280880"/>
                <a:ext cx="231840" cy="190440"/>
                <a:chOff x="828720" y="1280880"/>
                <a:chExt cx="231840" cy="1904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828720" y="1280880"/>
                  <a:ext cx="23184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39880" y="1444320"/>
                  <a:ext cx="2700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020960" y="1444320"/>
                  <a:ext cx="2844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1212840" y="1133640"/>
              <a:ext cx="63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1009800" y="703440"/>
            <a:ext cx="17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30280" y="860400"/>
            <a:ext cx="2606760" cy="360000"/>
            <a:chOff x="530280" y="860400"/>
            <a:chExt cx="2606760" cy="360000"/>
          </a:xfrm>
        </p:grpSpPr>
        <p:sp>
          <p:nvSpPr>
            <p:cNvPr id="503" name=""/>
            <p:cNvSpPr/>
            <p:nvPr/>
          </p:nvSpPr>
          <p:spPr>
            <a:xfrm>
              <a:off x="1057320" y="860400"/>
              <a:ext cx="83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0280" y="110952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55520" y="100476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RU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828720" y="987480"/>
              <a:ext cx="237960" cy="190440"/>
              <a:chOff x="828720" y="987480"/>
              <a:chExt cx="237960" cy="190440"/>
            </a:xfrm>
          </p:grpSpPr>
          <p:sp>
            <p:nvSpPr>
              <p:cNvPr id="507" name=""/>
              <p:cNvSpPr/>
              <p:nvPr/>
            </p:nvSpPr>
            <p:spPr>
              <a:xfrm>
                <a:off x="828720" y="1020960"/>
                <a:ext cx="23796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36360" y="9874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9" name=""/>
          <p:cNvSpPr/>
          <p:nvPr/>
        </p:nvSpPr>
        <p:spPr>
          <a:xfrm>
            <a:off x="717480" y="1581120"/>
            <a:ext cx="212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ANTIAIRCRAFT 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3800" y="898560"/>
            <a:ext cx="9720" cy="11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82760" y="617400"/>
            <a:ext cx="75960" cy="63720"/>
            <a:chOff x="482760" y="617400"/>
            <a:chExt cx="75960" cy="63720"/>
          </a:xfrm>
        </p:grpSpPr>
        <p:sp>
          <p:nvSpPr>
            <p:cNvPr id="512" name=""/>
            <p:cNvSpPr/>
            <p:nvPr/>
          </p:nvSpPr>
          <p:spPr>
            <a:xfrm>
              <a:off x="482760" y="6174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8720" y="6174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84120" y="685800"/>
            <a:ext cx="283680" cy="193320"/>
            <a:chOff x="384120" y="685800"/>
            <a:chExt cx="283680" cy="193320"/>
          </a:xfrm>
        </p:grpSpPr>
        <p:sp>
          <p:nvSpPr>
            <p:cNvPr id="515" name=""/>
            <p:cNvSpPr/>
            <p:nvPr/>
          </p:nvSpPr>
          <p:spPr>
            <a:xfrm>
              <a:off x="384120" y="685800"/>
              <a:ext cx="283680" cy="19332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4120" y="689400"/>
              <a:ext cx="139680" cy="18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3800" y="685800"/>
              <a:ext cx="140040" cy="18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560" y="783360"/>
              <a:ext cx="140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30280" y="1870200"/>
            <a:ext cx="2739960" cy="250560"/>
            <a:chOff x="530280" y="1870200"/>
            <a:chExt cx="2739960" cy="250560"/>
          </a:xfrm>
        </p:grpSpPr>
        <p:sp>
          <p:nvSpPr>
            <p:cNvPr id="520" name=""/>
            <p:cNvSpPr/>
            <p:nvPr/>
          </p:nvSpPr>
          <p:spPr>
            <a:xfrm>
              <a:off x="530280" y="202428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776160" y="1870200"/>
              <a:ext cx="2494080" cy="250560"/>
              <a:chOff x="776160" y="1870200"/>
              <a:chExt cx="2494080" cy="25056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776160" y="1870200"/>
                <a:ext cx="283680" cy="248760"/>
                <a:chOff x="776160" y="1870200"/>
                <a:chExt cx="283680" cy="248760"/>
              </a:xfrm>
            </p:grpSpPr>
            <p:grpSp>
              <p:nvGrpSpPr>
                <p:cNvPr id="523" name=""/>
                <p:cNvGrpSpPr/>
                <p:nvPr/>
              </p:nvGrpSpPr>
              <p:grpSpPr>
                <a:xfrm>
                  <a:off x="776160" y="1925640"/>
                  <a:ext cx="283680" cy="193320"/>
                  <a:chOff x="776160" y="1925640"/>
                  <a:chExt cx="283680" cy="19332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776160" y="1925640"/>
                    <a:ext cx="283680" cy="193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V="1">
                    <a:off x="776160" y="1929240"/>
                    <a:ext cx="139680" cy="187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915840" y="1925640"/>
                    <a:ext cx="14004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849600" y="2023200"/>
                    <a:ext cx="1400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8" name=""/>
                <p:cNvSpPr/>
                <p:nvPr/>
              </p:nvSpPr>
              <p:spPr>
                <a:xfrm>
                  <a:off x="917280" y="1870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9" name=""/>
              <p:cNvSpPr/>
              <p:nvPr/>
            </p:nvSpPr>
            <p:spPr>
              <a:xfrm>
                <a:off x="1189080" y="19051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Antiaircraft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6213600" y="2050920"/>
            <a:ext cx="2208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41960" y="31082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60360" y="2421000"/>
            <a:ext cx="3328920" cy="2574720"/>
            <a:chOff x="360360" y="2421000"/>
            <a:chExt cx="3328920" cy="2574720"/>
          </a:xfrm>
        </p:grpSpPr>
        <p:sp>
          <p:nvSpPr>
            <p:cNvPr id="533" name=""/>
            <p:cNvSpPr/>
            <p:nvPr/>
          </p:nvSpPr>
          <p:spPr>
            <a:xfrm>
              <a:off x="361800" y="2421000"/>
              <a:ext cx="3200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 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0360" y="2638440"/>
              <a:ext cx="27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Mixed) SU Regiment Jan, 194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6120" y="3098880"/>
              <a:ext cx="0" cy="1776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396720" y="2948040"/>
              <a:ext cx="291960" cy="190440"/>
              <a:chOff x="396720" y="2948040"/>
              <a:chExt cx="291960" cy="190440"/>
            </a:xfrm>
          </p:grpSpPr>
          <p:sp>
            <p:nvSpPr>
              <p:cNvPr id="537" name=""/>
              <p:cNvSpPr/>
              <p:nvPr/>
            </p:nvSpPr>
            <p:spPr>
              <a:xfrm>
                <a:off x="398160" y="2948040"/>
                <a:ext cx="290520" cy="19044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34160" y="2989800"/>
                <a:ext cx="208080" cy="9072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396720" y="2949480"/>
                <a:ext cx="14040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7120" y="2948040"/>
                <a:ext cx="15048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555120" y="3065400"/>
              <a:ext cx="3134160" cy="834480"/>
              <a:chOff x="555120" y="3065400"/>
              <a:chExt cx="3134160" cy="8344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555120" y="3065400"/>
                <a:ext cx="3134160" cy="370080"/>
                <a:chOff x="555120" y="3065400"/>
                <a:chExt cx="3134160" cy="37008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1165320" y="3189240"/>
                  <a:ext cx="2523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U-76 Light SP Gun        RU-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55120" y="330372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098720" y="3065400"/>
                  <a:ext cx="76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846000" y="3191040"/>
                  <a:ext cx="240840" cy="199440"/>
                  <a:chOff x="846000" y="3191040"/>
                  <a:chExt cx="240840" cy="199440"/>
                </a:xfrm>
              </p:grpSpPr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890280" y="3191040"/>
                    <a:ext cx="131760" cy="26640"/>
                    <a:chOff x="890280" y="3191040"/>
                    <a:chExt cx="131760" cy="2664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890280" y="31910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941040" y="31910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995040" y="31910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846000" y="3233520"/>
                    <a:ext cx="240840" cy="156960"/>
                    <a:chOff x="846000" y="3233520"/>
                    <a:chExt cx="240840" cy="15696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847080" y="3233520"/>
                      <a:ext cx="23976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876960" y="3267720"/>
                      <a:ext cx="17172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V="1">
                      <a:off x="846000" y="323460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961560" y="3233520"/>
                      <a:ext cx="12420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56" name=""/>
              <p:cNvGrpSpPr/>
              <p:nvPr/>
            </p:nvGrpSpPr>
            <p:grpSpPr>
              <a:xfrm>
                <a:off x="930240" y="3386160"/>
                <a:ext cx="2052360" cy="513720"/>
                <a:chOff x="930240" y="3386160"/>
                <a:chExt cx="2052360" cy="51372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930240" y="3541680"/>
                  <a:ext cx="2052360" cy="358200"/>
                  <a:chOff x="930240" y="3541680"/>
                  <a:chExt cx="2052360" cy="35820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1352520" y="3541680"/>
                    <a:ext cx="16300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669900"/>
                        </a:solidFill>
                        <a:latin typeface="Arial"/>
                      </a:rPr>
                      <a:t>Armored Car Plato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930240" y="3678120"/>
                    <a:ext cx="1969560" cy="221760"/>
                    <a:chOff x="930240" y="3678120"/>
                    <a:chExt cx="1969560" cy="22176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930240" y="378468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1446840" y="3743280"/>
                      <a:ext cx="145296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-64                RU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62" name=""/>
                    <p:cNvGrpSpPr/>
                    <p:nvPr/>
                  </p:nvGrpSpPr>
                  <p:grpSpPr>
                    <a:xfrm>
                      <a:off x="1079280" y="3678120"/>
                      <a:ext cx="231480" cy="221760"/>
                      <a:chOff x="1079280" y="3678120"/>
                      <a:chExt cx="231480" cy="221760"/>
                    </a:xfrm>
                  </p:grpSpPr>
                  <p:grpSp>
                    <p:nvGrpSpPr>
                      <p:cNvPr id="563" name=""/>
                      <p:cNvGrpSpPr/>
                      <p:nvPr/>
                    </p:nvGrpSpPr>
                    <p:grpSpPr>
                      <a:xfrm>
                        <a:off x="1079280" y="3709440"/>
                        <a:ext cx="231480" cy="190440"/>
                        <a:chOff x="1079280" y="3709440"/>
                        <a:chExt cx="231480" cy="190440"/>
                      </a:xfrm>
                    </p:grpSpPr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1079280" y="3709800"/>
                          <a:ext cx="231480" cy="156960"/>
                        </a:xfrm>
                        <a:prstGeom prst="rect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>
                          <a:off x="1089720" y="387288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>
                          <a:off x="1271520" y="3872880"/>
                          <a:ext cx="2736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>
                          <a:off x="1112400" y="3751200"/>
                          <a:ext cx="161280" cy="7488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 flipV="1">
                          <a:off x="1081440" y="3709440"/>
                          <a:ext cx="227520" cy="15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9" name=""/>
                      <p:cNvGrpSpPr/>
                      <p:nvPr/>
                    </p:nvGrpSpPr>
                    <p:grpSpPr>
                      <a:xfrm>
                        <a:off x="1157040" y="3678120"/>
                        <a:ext cx="74160" cy="27000"/>
                        <a:chOff x="1157040" y="3678120"/>
                        <a:chExt cx="74160" cy="27000"/>
                      </a:xfrm>
                    </p:grpSpPr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>
                          <a:off x="1157040" y="367812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>
                          <a:off x="1204560" y="367812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572" name=""/>
                <p:cNvSpPr/>
                <p:nvPr/>
              </p:nvSpPr>
              <p:spPr>
                <a:xfrm flipV="1">
                  <a:off x="939960" y="3386160"/>
                  <a:ext cx="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3" name=""/>
            <p:cNvGrpSpPr/>
            <p:nvPr/>
          </p:nvGrpSpPr>
          <p:grpSpPr>
            <a:xfrm>
              <a:off x="530280" y="3968640"/>
              <a:ext cx="3147840" cy="477720"/>
              <a:chOff x="530280" y="3968640"/>
              <a:chExt cx="3147840" cy="477720"/>
            </a:xfrm>
          </p:grpSpPr>
          <p:sp>
            <p:nvSpPr>
              <p:cNvPr id="574" name=""/>
              <p:cNvSpPr/>
              <p:nvPr/>
            </p:nvSpPr>
            <p:spPr>
              <a:xfrm>
                <a:off x="1154160" y="3968640"/>
                <a:ext cx="25239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69900"/>
                    </a:solidFill>
                    <a:latin typeface="Arial"/>
                  </a:rPr>
                  <a:t>ME-05-M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elf-propelled Artillery Battery (Med.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30280" y="4173480"/>
                <a:ext cx="541080" cy="235080"/>
                <a:chOff x="530280" y="4173480"/>
                <a:chExt cx="541080" cy="235080"/>
              </a:xfrm>
            </p:grpSpPr>
            <p:sp>
              <p:nvSpPr>
                <p:cNvPr id="576" name=""/>
                <p:cNvSpPr/>
                <p:nvPr/>
              </p:nvSpPr>
              <p:spPr>
                <a:xfrm flipH="1">
                  <a:off x="530280" y="4329000"/>
                  <a:ext cx="2952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7" name=""/>
                <p:cNvGrpSpPr/>
                <p:nvPr/>
              </p:nvGrpSpPr>
              <p:grpSpPr>
                <a:xfrm>
                  <a:off x="830160" y="4173480"/>
                  <a:ext cx="241200" cy="235080"/>
                  <a:chOff x="830160" y="4173480"/>
                  <a:chExt cx="241200" cy="235080"/>
                </a:xfrm>
              </p:grpSpPr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830160" y="4251240"/>
                    <a:ext cx="241200" cy="157320"/>
                    <a:chOff x="830160" y="4251240"/>
                    <a:chExt cx="241200" cy="15732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831240" y="4251240"/>
                      <a:ext cx="24012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861120" y="4285800"/>
                      <a:ext cx="1720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flipV="1">
                      <a:off x="830160" y="4251960"/>
                      <a:ext cx="11592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946080" y="4251240"/>
                      <a:ext cx="12420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3" name=""/>
                  <p:cNvSpPr/>
                  <p:nvPr/>
                </p:nvSpPr>
                <p:spPr>
                  <a:xfrm>
                    <a:off x="954000" y="41734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84" name=""/>
            <p:cNvGrpSpPr/>
            <p:nvPr/>
          </p:nvGrpSpPr>
          <p:grpSpPr>
            <a:xfrm>
              <a:off x="530280" y="4518000"/>
              <a:ext cx="3147840" cy="477720"/>
              <a:chOff x="530280" y="4518000"/>
              <a:chExt cx="3147840" cy="477720"/>
            </a:xfrm>
          </p:grpSpPr>
          <p:sp>
            <p:nvSpPr>
              <p:cNvPr id="585" name=""/>
              <p:cNvSpPr/>
              <p:nvPr/>
            </p:nvSpPr>
            <p:spPr>
              <a:xfrm>
                <a:off x="1154160" y="4518000"/>
                <a:ext cx="25239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69900"/>
                    </a:solidFill>
                    <a:latin typeface="Arial"/>
                  </a:rPr>
                  <a:t>ME-05-L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elf-propelled Artillery Battery (Lt.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530280" y="4722840"/>
                <a:ext cx="541080" cy="235080"/>
                <a:chOff x="530280" y="4722840"/>
                <a:chExt cx="541080" cy="235080"/>
              </a:xfrm>
            </p:grpSpPr>
            <p:sp>
              <p:nvSpPr>
                <p:cNvPr id="587" name=""/>
                <p:cNvSpPr/>
                <p:nvPr/>
              </p:nvSpPr>
              <p:spPr>
                <a:xfrm flipH="1">
                  <a:off x="530280" y="4878360"/>
                  <a:ext cx="2952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8" name=""/>
                <p:cNvGrpSpPr/>
                <p:nvPr/>
              </p:nvGrpSpPr>
              <p:grpSpPr>
                <a:xfrm>
                  <a:off x="830160" y="4722840"/>
                  <a:ext cx="241200" cy="235080"/>
                  <a:chOff x="830160" y="4722840"/>
                  <a:chExt cx="241200" cy="235080"/>
                </a:xfrm>
              </p:grpSpPr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830160" y="4800600"/>
                    <a:ext cx="241200" cy="157320"/>
                    <a:chOff x="830160" y="4800600"/>
                    <a:chExt cx="241200" cy="15732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831240" y="4800600"/>
                      <a:ext cx="24012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861120" y="4835160"/>
                      <a:ext cx="1720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flipV="1">
                      <a:off x="830160" y="4801320"/>
                      <a:ext cx="11592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946080" y="4800600"/>
                      <a:ext cx="12420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4" name=""/>
                  <p:cNvSpPr/>
                  <p:nvPr/>
                </p:nvSpPr>
                <p:spPr>
                  <a:xfrm>
                    <a:off x="954000" y="472284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95" name=""/>
          <p:cNvGrpSpPr/>
          <p:nvPr/>
        </p:nvGrpSpPr>
        <p:grpSpPr>
          <a:xfrm>
            <a:off x="4834080" y="190440"/>
            <a:ext cx="3328560" cy="2033640"/>
            <a:chOff x="4834080" y="190440"/>
            <a:chExt cx="3328560" cy="2033640"/>
          </a:xfrm>
        </p:grpSpPr>
        <p:sp>
          <p:nvSpPr>
            <p:cNvPr id="596" name=""/>
            <p:cNvSpPr/>
            <p:nvPr/>
          </p:nvSpPr>
          <p:spPr>
            <a:xfrm>
              <a:off x="4835880" y="190440"/>
              <a:ext cx="3200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 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34080" y="407880"/>
              <a:ext cx="27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SU Regiment April 194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19840" y="868320"/>
              <a:ext cx="7920" cy="126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4870800" y="717480"/>
              <a:ext cx="291600" cy="190440"/>
              <a:chOff x="4870800" y="717480"/>
              <a:chExt cx="291600" cy="190440"/>
            </a:xfrm>
          </p:grpSpPr>
          <p:sp>
            <p:nvSpPr>
              <p:cNvPr id="600" name=""/>
              <p:cNvSpPr/>
              <p:nvPr/>
            </p:nvSpPr>
            <p:spPr>
              <a:xfrm>
                <a:off x="4872240" y="717480"/>
                <a:ext cx="290160" cy="19044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08240" y="759240"/>
                <a:ext cx="208080" cy="9072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4870800" y="718920"/>
                <a:ext cx="14004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010840" y="717480"/>
                <a:ext cx="15012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5029560" y="834840"/>
              <a:ext cx="3133080" cy="834480"/>
              <a:chOff x="5029560" y="834840"/>
              <a:chExt cx="3133080" cy="83448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5029560" y="834840"/>
                <a:ext cx="3133080" cy="370080"/>
                <a:chOff x="5029560" y="834840"/>
                <a:chExt cx="3133080" cy="37008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5639040" y="958680"/>
                  <a:ext cx="252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T-34                     RU-0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>
                  <a:off x="5029560" y="1073160"/>
                  <a:ext cx="29808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572440" y="834840"/>
                  <a:ext cx="761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9" name=""/>
                <p:cNvGrpSpPr/>
                <p:nvPr/>
              </p:nvGrpSpPr>
              <p:grpSpPr>
                <a:xfrm>
                  <a:off x="5319720" y="960480"/>
                  <a:ext cx="240840" cy="199440"/>
                  <a:chOff x="5319720" y="960480"/>
                  <a:chExt cx="240840" cy="199440"/>
                </a:xfrm>
              </p:grpSpPr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5364000" y="960480"/>
                    <a:ext cx="131760" cy="26640"/>
                    <a:chOff x="5364000" y="960480"/>
                    <a:chExt cx="131760" cy="2664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5364000" y="9604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5414760" y="9604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5468760" y="9604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319720" y="1002960"/>
                    <a:ext cx="240840" cy="156960"/>
                    <a:chOff x="5319720" y="1002960"/>
                    <a:chExt cx="240840" cy="15696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5320800" y="1002960"/>
                      <a:ext cx="23976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5350680" y="1037160"/>
                      <a:ext cx="17172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flipV="1">
                      <a:off x="5319720" y="100404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5435280" y="1002960"/>
                      <a:ext cx="12420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19" name=""/>
              <p:cNvGrpSpPr/>
              <p:nvPr/>
            </p:nvGrpSpPr>
            <p:grpSpPr>
              <a:xfrm>
                <a:off x="5403960" y="1155600"/>
                <a:ext cx="2052360" cy="513720"/>
                <a:chOff x="5403960" y="1155600"/>
                <a:chExt cx="2052360" cy="51372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5403960" y="1311120"/>
                  <a:ext cx="2052360" cy="358200"/>
                  <a:chOff x="5403960" y="1311120"/>
                  <a:chExt cx="2052360" cy="35820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>
                    <a:off x="5826240" y="1311120"/>
                    <a:ext cx="16300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669900"/>
                        </a:solidFill>
                        <a:latin typeface="Arial"/>
                      </a:rPr>
                      <a:t>Armored Car Plato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5403960" y="1447560"/>
                    <a:ext cx="1829520" cy="221760"/>
                    <a:chOff x="5403960" y="1447560"/>
                    <a:chExt cx="1829520" cy="22176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5403960" y="155412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5920920" y="1512720"/>
                      <a:ext cx="131256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-64            RU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25" name=""/>
                    <p:cNvGrpSpPr/>
                    <p:nvPr/>
                  </p:nvGrpSpPr>
                  <p:grpSpPr>
                    <a:xfrm>
                      <a:off x="5553000" y="1447560"/>
                      <a:ext cx="231480" cy="221760"/>
                      <a:chOff x="5553000" y="1447560"/>
                      <a:chExt cx="231480" cy="221760"/>
                    </a:xfrm>
                  </p:grpSpPr>
                  <p:grpSp>
                    <p:nvGrpSpPr>
                      <p:cNvPr id="626" name=""/>
                      <p:cNvGrpSpPr/>
                      <p:nvPr/>
                    </p:nvGrpSpPr>
                    <p:grpSpPr>
                      <a:xfrm>
                        <a:off x="5553000" y="1478880"/>
                        <a:ext cx="231480" cy="190440"/>
                        <a:chOff x="5553000" y="1478880"/>
                        <a:chExt cx="231480" cy="190440"/>
                      </a:xfrm>
                    </p:grpSpPr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5553000" y="1479240"/>
                          <a:ext cx="231480" cy="156960"/>
                        </a:xfrm>
                        <a:prstGeom prst="rect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8" name=""/>
                        <p:cNvSpPr/>
                        <p:nvPr/>
                      </p:nvSpPr>
                      <p:spPr>
                        <a:xfrm>
                          <a:off x="5563440" y="164232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9" name=""/>
                        <p:cNvSpPr/>
                        <p:nvPr/>
                      </p:nvSpPr>
                      <p:spPr>
                        <a:xfrm>
                          <a:off x="5745240" y="1642320"/>
                          <a:ext cx="2736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0" name=""/>
                        <p:cNvSpPr/>
                        <p:nvPr/>
                      </p:nvSpPr>
                      <p:spPr>
                        <a:xfrm>
                          <a:off x="5586120" y="1520640"/>
                          <a:ext cx="161280" cy="7488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 flipV="1">
                          <a:off x="5555160" y="1478880"/>
                          <a:ext cx="227520" cy="15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2" name=""/>
                      <p:cNvGrpSpPr/>
                      <p:nvPr/>
                    </p:nvGrpSpPr>
                    <p:grpSpPr>
                      <a:xfrm>
                        <a:off x="5630760" y="1447560"/>
                        <a:ext cx="74160" cy="27000"/>
                        <a:chOff x="5630760" y="1447560"/>
                        <a:chExt cx="74160" cy="27000"/>
                      </a:xfrm>
                    </p:grpSpPr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>
                          <a:off x="5630760" y="144756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>
                          <a:off x="5678280" y="144756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635" name=""/>
                <p:cNvSpPr/>
                <p:nvPr/>
              </p:nvSpPr>
              <p:spPr>
                <a:xfrm flipV="1">
                  <a:off x="5413320" y="1155600"/>
                  <a:ext cx="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6" name=""/>
            <p:cNvGrpSpPr/>
            <p:nvPr/>
          </p:nvGrpSpPr>
          <p:grpSpPr>
            <a:xfrm>
              <a:off x="5011920" y="1746360"/>
              <a:ext cx="3147840" cy="477720"/>
              <a:chOff x="5011920" y="1746360"/>
              <a:chExt cx="3147840" cy="477720"/>
            </a:xfrm>
          </p:grpSpPr>
          <p:sp>
            <p:nvSpPr>
              <p:cNvPr id="637" name=""/>
              <p:cNvSpPr/>
              <p:nvPr/>
            </p:nvSpPr>
            <p:spPr>
              <a:xfrm>
                <a:off x="5635800" y="1746360"/>
                <a:ext cx="25239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69900"/>
                    </a:solidFill>
                    <a:latin typeface="Arial"/>
                  </a:rPr>
                  <a:t>ME-05-L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5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elf-propelled Artillery Battery (Lt.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5011920" y="1951200"/>
                <a:ext cx="541080" cy="235080"/>
                <a:chOff x="5011920" y="1951200"/>
                <a:chExt cx="541080" cy="235080"/>
              </a:xfrm>
            </p:grpSpPr>
            <p:sp>
              <p:nvSpPr>
                <p:cNvPr id="639" name=""/>
                <p:cNvSpPr/>
                <p:nvPr/>
              </p:nvSpPr>
              <p:spPr>
                <a:xfrm flipH="1">
                  <a:off x="5011920" y="2106720"/>
                  <a:ext cx="2952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0" name=""/>
                <p:cNvGrpSpPr/>
                <p:nvPr/>
              </p:nvGrpSpPr>
              <p:grpSpPr>
                <a:xfrm>
                  <a:off x="5311800" y="1951200"/>
                  <a:ext cx="241200" cy="235080"/>
                  <a:chOff x="5311800" y="1951200"/>
                  <a:chExt cx="241200" cy="235080"/>
                </a:xfrm>
              </p:grpSpPr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5311800" y="2028960"/>
                    <a:ext cx="241200" cy="157320"/>
                    <a:chOff x="5311800" y="2028960"/>
                    <a:chExt cx="241200" cy="15732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5312880" y="2028960"/>
                      <a:ext cx="24012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5342760" y="2063520"/>
                      <a:ext cx="1720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flipV="1">
                      <a:off x="5311800" y="2029680"/>
                      <a:ext cx="11592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5427720" y="2028960"/>
                      <a:ext cx="12420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6" name=""/>
                  <p:cNvSpPr/>
                  <p:nvPr/>
                </p:nvSpPr>
                <p:spPr>
                  <a:xfrm>
                    <a:off x="5435640" y="19512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47" name=""/>
          <p:cNvGrpSpPr/>
          <p:nvPr/>
        </p:nvGrpSpPr>
        <p:grpSpPr>
          <a:xfrm>
            <a:off x="4890960" y="2400480"/>
            <a:ext cx="3328920" cy="2025360"/>
            <a:chOff x="4890960" y="2400480"/>
            <a:chExt cx="3328920" cy="2025360"/>
          </a:xfrm>
        </p:grpSpPr>
        <p:sp>
          <p:nvSpPr>
            <p:cNvPr id="648" name=""/>
            <p:cNvSpPr/>
            <p:nvPr/>
          </p:nvSpPr>
          <p:spPr>
            <a:xfrm>
              <a:off x="4892400" y="2400480"/>
              <a:ext cx="3200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 2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90960" y="2617560"/>
              <a:ext cx="27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dium SU Regiment April 194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76720" y="3078000"/>
              <a:ext cx="0" cy="1225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4927320" y="2927160"/>
              <a:ext cx="291960" cy="190440"/>
              <a:chOff x="4927320" y="2927160"/>
              <a:chExt cx="291960" cy="190440"/>
            </a:xfrm>
          </p:grpSpPr>
          <p:sp>
            <p:nvSpPr>
              <p:cNvPr id="652" name=""/>
              <p:cNvSpPr/>
              <p:nvPr/>
            </p:nvSpPr>
            <p:spPr>
              <a:xfrm>
                <a:off x="4928760" y="2927160"/>
                <a:ext cx="290520" cy="19044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964760" y="2968920"/>
                <a:ext cx="208080" cy="9072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4927320" y="2928600"/>
                <a:ext cx="14040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067720" y="2927160"/>
                <a:ext cx="15048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5085720" y="3044880"/>
              <a:ext cx="3134160" cy="832680"/>
              <a:chOff x="5085720" y="3044880"/>
              <a:chExt cx="3134160" cy="83268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5085720" y="3044880"/>
                <a:ext cx="3134160" cy="369720"/>
                <a:chOff x="5085720" y="3044880"/>
                <a:chExt cx="3134160" cy="36972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695920" y="3168360"/>
                  <a:ext cx="2523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T-34                    RU-0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5085720" y="328284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629320" y="3044880"/>
                  <a:ext cx="76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5376600" y="3170160"/>
                  <a:ext cx="240840" cy="199080"/>
                  <a:chOff x="5376600" y="3170160"/>
                  <a:chExt cx="240840" cy="199080"/>
                </a:xfrm>
              </p:grpSpPr>
              <p:grpSp>
                <p:nvGrpSpPr>
                  <p:cNvPr id="662" name=""/>
                  <p:cNvGrpSpPr/>
                  <p:nvPr/>
                </p:nvGrpSpPr>
                <p:grpSpPr>
                  <a:xfrm>
                    <a:off x="5420880" y="3170160"/>
                    <a:ext cx="131760" cy="26640"/>
                    <a:chOff x="5420880" y="3170160"/>
                    <a:chExt cx="131760" cy="26640"/>
                  </a:xfrm>
                </p:grpSpPr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5420880" y="31701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5471640" y="3170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5525640" y="31701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5376600" y="3212640"/>
                    <a:ext cx="240840" cy="156600"/>
                    <a:chOff x="5376600" y="3212640"/>
                    <a:chExt cx="240840" cy="15660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5377680" y="3212640"/>
                      <a:ext cx="23976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5407560" y="3246840"/>
                      <a:ext cx="171720" cy="745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V="1">
                      <a:off x="5376600" y="3213360"/>
                      <a:ext cx="115560" cy="155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5492160" y="3212640"/>
                      <a:ext cx="12420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71" name=""/>
              <p:cNvGrpSpPr/>
              <p:nvPr/>
            </p:nvGrpSpPr>
            <p:grpSpPr>
              <a:xfrm>
                <a:off x="5460840" y="3365280"/>
                <a:ext cx="2052360" cy="512280"/>
                <a:chOff x="5460840" y="3365280"/>
                <a:chExt cx="2052360" cy="512280"/>
              </a:xfrm>
            </p:grpSpPr>
            <p:grpSp>
              <p:nvGrpSpPr>
                <p:cNvPr id="672" name=""/>
                <p:cNvGrpSpPr/>
                <p:nvPr/>
              </p:nvGrpSpPr>
              <p:grpSpPr>
                <a:xfrm>
                  <a:off x="5460840" y="3520440"/>
                  <a:ext cx="2052360" cy="357120"/>
                  <a:chOff x="5460840" y="3520440"/>
                  <a:chExt cx="2052360" cy="35712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>
                    <a:off x="5883120" y="3520440"/>
                    <a:ext cx="16300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669900"/>
                        </a:solidFill>
                        <a:latin typeface="Arial"/>
                      </a:rPr>
                      <a:t>Armored Car Plato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5460840" y="3656520"/>
                    <a:ext cx="1794600" cy="221040"/>
                    <a:chOff x="5460840" y="3656520"/>
                    <a:chExt cx="1794600" cy="22104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460840" y="376272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5977800" y="3721320"/>
                      <a:ext cx="12776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-64           RU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77" name=""/>
                    <p:cNvGrpSpPr/>
                    <p:nvPr/>
                  </p:nvGrpSpPr>
                  <p:grpSpPr>
                    <a:xfrm>
                      <a:off x="5609880" y="3656520"/>
                      <a:ext cx="231480" cy="221040"/>
                      <a:chOff x="5609880" y="3656520"/>
                      <a:chExt cx="231480" cy="221040"/>
                    </a:xfrm>
                  </p:grpSpPr>
                  <p:grpSp>
                    <p:nvGrpSpPr>
                      <p:cNvPr id="678" name=""/>
                      <p:cNvGrpSpPr/>
                      <p:nvPr/>
                    </p:nvGrpSpPr>
                    <p:grpSpPr>
                      <a:xfrm>
                        <a:off x="5609880" y="3687840"/>
                        <a:ext cx="231480" cy="189720"/>
                        <a:chOff x="5609880" y="3687840"/>
                        <a:chExt cx="231480" cy="189720"/>
                      </a:xfrm>
                    </p:grpSpPr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>
                          <a:off x="5609880" y="3687840"/>
                          <a:ext cx="231480" cy="156960"/>
                        </a:xfrm>
                        <a:prstGeom prst="rect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0" name=""/>
                        <p:cNvSpPr/>
                        <p:nvPr/>
                      </p:nvSpPr>
                      <p:spPr>
                        <a:xfrm>
                          <a:off x="5620320" y="385056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>
                          <a:off x="5802120" y="3850560"/>
                          <a:ext cx="2736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2" name=""/>
                        <p:cNvSpPr/>
                        <p:nvPr/>
                      </p:nvSpPr>
                      <p:spPr>
                        <a:xfrm>
                          <a:off x="5643000" y="3729240"/>
                          <a:ext cx="161280" cy="7488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3" name=""/>
                        <p:cNvSpPr/>
                        <p:nvPr/>
                      </p:nvSpPr>
                      <p:spPr>
                        <a:xfrm flipV="1">
                          <a:off x="5612040" y="3687840"/>
                          <a:ext cx="227520" cy="151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84" name=""/>
                      <p:cNvGrpSpPr/>
                      <p:nvPr/>
                    </p:nvGrpSpPr>
                    <p:grpSpPr>
                      <a:xfrm>
                        <a:off x="5687640" y="3656520"/>
                        <a:ext cx="74160" cy="26640"/>
                        <a:chOff x="5687640" y="3656520"/>
                        <a:chExt cx="74160" cy="26640"/>
                      </a:xfrm>
                    </p:grpSpPr>
                    <p:sp>
                      <p:nvSpPr>
                        <p:cNvPr id="685" name=""/>
                        <p:cNvSpPr/>
                        <p:nvPr/>
                      </p:nvSpPr>
                      <p:spPr>
                        <a:xfrm>
                          <a:off x="5687640" y="365652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6" name=""/>
                        <p:cNvSpPr/>
                        <p:nvPr/>
                      </p:nvSpPr>
                      <p:spPr>
                        <a:xfrm>
                          <a:off x="5735160" y="3656520"/>
                          <a:ext cx="266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687" name=""/>
                <p:cNvSpPr/>
                <p:nvPr/>
              </p:nvSpPr>
              <p:spPr>
                <a:xfrm flipV="1">
                  <a:off x="5470560" y="3365280"/>
                  <a:ext cx="0" cy="38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"/>
            <p:cNvGrpSpPr/>
            <p:nvPr/>
          </p:nvGrpSpPr>
          <p:grpSpPr>
            <a:xfrm>
              <a:off x="5060880" y="3948120"/>
              <a:ext cx="3147840" cy="477720"/>
              <a:chOff x="5060880" y="3948120"/>
              <a:chExt cx="3147840" cy="477720"/>
            </a:xfrm>
          </p:grpSpPr>
          <p:sp>
            <p:nvSpPr>
              <p:cNvPr id="689" name=""/>
              <p:cNvSpPr/>
              <p:nvPr/>
            </p:nvSpPr>
            <p:spPr>
              <a:xfrm>
                <a:off x="5684760" y="3948120"/>
                <a:ext cx="25239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69900"/>
                    </a:solidFill>
                    <a:latin typeface="Arial"/>
                  </a:rPr>
                  <a:t>ME-05-M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elf-propelled Artillery Battery (Med.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"/>
              <p:cNvGrpSpPr/>
              <p:nvPr/>
            </p:nvGrpSpPr>
            <p:grpSpPr>
              <a:xfrm>
                <a:off x="5060880" y="4152600"/>
                <a:ext cx="541080" cy="234360"/>
                <a:chOff x="5060880" y="4152600"/>
                <a:chExt cx="541080" cy="234360"/>
              </a:xfrm>
            </p:grpSpPr>
            <p:sp>
              <p:nvSpPr>
                <p:cNvPr id="691" name=""/>
                <p:cNvSpPr/>
                <p:nvPr/>
              </p:nvSpPr>
              <p:spPr>
                <a:xfrm flipH="1">
                  <a:off x="5060880" y="4307760"/>
                  <a:ext cx="2952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2" name=""/>
                <p:cNvGrpSpPr/>
                <p:nvPr/>
              </p:nvGrpSpPr>
              <p:grpSpPr>
                <a:xfrm>
                  <a:off x="5360760" y="4152600"/>
                  <a:ext cx="241200" cy="234360"/>
                  <a:chOff x="5360760" y="4152600"/>
                  <a:chExt cx="241200" cy="234360"/>
                </a:xfrm>
              </p:grpSpPr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5360760" y="4230000"/>
                    <a:ext cx="241200" cy="156960"/>
                    <a:chOff x="5360760" y="4230000"/>
                    <a:chExt cx="241200" cy="15696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5361840" y="4230000"/>
                      <a:ext cx="24012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5391720" y="4264200"/>
                      <a:ext cx="1720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V="1">
                      <a:off x="5360760" y="4231080"/>
                      <a:ext cx="11592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5476680" y="4230000"/>
                      <a:ext cx="12420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8" name=""/>
                  <p:cNvSpPr/>
                  <p:nvPr/>
                </p:nvSpPr>
                <p:spPr>
                  <a:xfrm>
                    <a:off x="5484600" y="4152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99" name=""/>
          <p:cNvGrpSpPr/>
          <p:nvPr/>
        </p:nvGrpSpPr>
        <p:grpSpPr>
          <a:xfrm>
            <a:off x="4813200" y="4560840"/>
            <a:ext cx="3328920" cy="2025720"/>
            <a:chOff x="4813200" y="4560840"/>
            <a:chExt cx="3328920" cy="2025720"/>
          </a:xfrm>
        </p:grpSpPr>
        <p:sp>
          <p:nvSpPr>
            <p:cNvPr id="700" name=""/>
            <p:cNvSpPr/>
            <p:nvPr/>
          </p:nvSpPr>
          <p:spPr>
            <a:xfrm>
              <a:off x="4814640" y="4560840"/>
              <a:ext cx="3200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 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13200" y="4778280"/>
              <a:ext cx="27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vy SU Regiment August 194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98960" y="5238720"/>
              <a:ext cx="0" cy="12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849560" y="5087880"/>
              <a:ext cx="291960" cy="190800"/>
              <a:chOff x="4849560" y="5087880"/>
              <a:chExt cx="291960" cy="190800"/>
            </a:xfrm>
          </p:grpSpPr>
          <p:sp>
            <p:nvSpPr>
              <p:cNvPr id="704" name=""/>
              <p:cNvSpPr/>
              <p:nvPr/>
            </p:nvSpPr>
            <p:spPr>
              <a:xfrm>
                <a:off x="4851000" y="5087880"/>
                <a:ext cx="290520" cy="19080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87000" y="5129640"/>
                <a:ext cx="208080" cy="9108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4849560" y="5088960"/>
                <a:ext cx="14040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989960" y="5087880"/>
                <a:ext cx="15048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5007960" y="5205600"/>
              <a:ext cx="3134160" cy="833400"/>
              <a:chOff x="5007960" y="5205600"/>
              <a:chExt cx="3134160" cy="83340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5007960" y="5205600"/>
                <a:ext cx="3134160" cy="369720"/>
                <a:chOff x="5007960" y="5205600"/>
                <a:chExt cx="3134160" cy="369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618160" y="5329080"/>
                  <a:ext cx="2523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KV-1                    RU-0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H="1">
                  <a:off x="5007960" y="5443560"/>
                  <a:ext cx="2984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551560" y="5205600"/>
                  <a:ext cx="76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3" name=""/>
                <p:cNvGrpSpPr/>
                <p:nvPr/>
              </p:nvGrpSpPr>
              <p:grpSpPr>
                <a:xfrm>
                  <a:off x="5298840" y="5330880"/>
                  <a:ext cx="240840" cy="199080"/>
                  <a:chOff x="5298840" y="5330880"/>
                  <a:chExt cx="240840" cy="199080"/>
                </a:xfrm>
              </p:grpSpPr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343120" y="5330880"/>
                    <a:ext cx="131760" cy="26640"/>
                    <a:chOff x="5343120" y="5330880"/>
                    <a:chExt cx="131760" cy="2664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5343120" y="53308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5393880" y="53308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5447880" y="53308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8" name=""/>
                  <p:cNvGrpSpPr/>
                  <p:nvPr/>
                </p:nvGrpSpPr>
                <p:grpSpPr>
                  <a:xfrm>
                    <a:off x="5298840" y="5373360"/>
                    <a:ext cx="240840" cy="156600"/>
                    <a:chOff x="5298840" y="5373360"/>
                    <a:chExt cx="240840" cy="156600"/>
                  </a:xfrm>
                </p:grpSpPr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5299920" y="5373360"/>
                      <a:ext cx="23976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5329800" y="5407560"/>
                      <a:ext cx="171720" cy="745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V="1">
                      <a:off x="5298840" y="5374080"/>
                      <a:ext cx="115560" cy="155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5414400" y="5373360"/>
                      <a:ext cx="12420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23" name=""/>
              <p:cNvGrpSpPr/>
              <p:nvPr/>
            </p:nvGrpSpPr>
            <p:grpSpPr>
              <a:xfrm>
                <a:off x="5383080" y="5525640"/>
                <a:ext cx="2052360" cy="513360"/>
                <a:chOff x="5383080" y="5525640"/>
                <a:chExt cx="2052360" cy="51336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5383080" y="5681160"/>
                  <a:ext cx="2052360" cy="357840"/>
                  <a:chOff x="5383080" y="5681160"/>
                  <a:chExt cx="2052360" cy="35784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5805360" y="5681160"/>
                    <a:ext cx="16300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669900"/>
                        </a:solidFill>
                        <a:latin typeface="Arial"/>
                      </a:rPr>
                      <a:t>Armored Car Plato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5383080" y="5817240"/>
                    <a:ext cx="1829520" cy="221760"/>
                    <a:chOff x="5383080" y="5817240"/>
                    <a:chExt cx="1829520" cy="22176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5383080" y="592344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5900040" y="5882040"/>
                      <a:ext cx="131256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-64            RU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29" name=""/>
                    <p:cNvGrpSpPr/>
                    <p:nvPr/>
                  </p:nvGrpSpPr>
                  <p:grpSpPr>
                    <a:xfrm>
                      <a:off x="5532120" y="5817240"/>
                      <a:ext cx="231480" cy="221760"/>
                      <a:chOff x="5532120" y="5817240"/>
                      <a:chExt cx="231480" cy="221760"/>
                    </a:xfrm>
                  </p:grpSpPr>
                  <p:grpSp>
                    <p:nvGrpSpPr>
                      <p:cNvPr id="730" name=""/>
                      <p:cNvGrpSpPr/>
                      <p:nvPr/>
                    </p:nvGrpSpPr>
                    <p:grpSpPr>
                      <a:xfrm>
                        <a:off x="5532120" y="5848560"/>
                        <a:ext cx="231480" cy="190440"/>
                        <a:chOff x="5532120" y="5848560"/>
                        <a:chExt cx="231480" cy="190440"/>
                      </a:xfrm>
                    </p:grpSpPr>
                    <p:sp>
                      <p:nvSpPr>
                        <p:cNvPr id="731" name=""/>
                        <p:cNvSpPr/>
                        <p:nvPr/>
                      </p:nvSpPr>
                      <p:spPr>
                        <a:xfrm>
                          <a:off x="5532120" y="5848920"/>
                          <a:ext cx="231480" cy="156960"/>
                        </a:xfrm>
                        <a:prstGeom prst="rect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2" name=""/>
                        <p:cNvSpPr/>
                        <p:nvPr/>
                      </p:nvSpPr>
                      <p:spPr>
                        <a:xfrm>
                          <a:off x="5542560" y="601200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3" name=""/>
                        <p:cNvSpPr/>
                        <p:nvPr/>
                      </p:nvSpPr>
                      <p:spPr>
                        <a:xfrm>
                          <a:off x="5724360" y="6012000"/>
                          <a:ext cx="2736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4" name=""/>
                        <p:cNvSpPr/>
                        <p:nvPr/>
                      </p:nvSpPr>
                      <p:spPr>
                        <a:xfrm>
                          <a:off x="5565240" y="5890320"/>
                          <a:ext cx="161280" cy="7488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5" name=""/>
                        <p:cNvSpPr/>
                        <p:nvPr/>
                      </p:nvSpPr>
                      <p:spPr>
                        <a:xfrm flipV="1">
                          <a:off x="5534280" y="5848560"/>
                          <a:ext cx="227520" cy="15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36" name=""/>
                      <p:cNvGrpSpPr/>
                      <p:nvPr/>
                    </p:nvGrpSpPr>
                    <p:grpSpPr>
                      <a:xfrm>
                        <a:off x="5609880" y="5817240"/>
                        <a:ext cx="74160" cy="27000"/>
                        <a:chOff x="5609880" y="5817240"/>
                        <a:chExt cx="74160" cy="27000"/>
                      </a:xfrm>
                    </p:grpSpPr>
                    <p:sp>
                      <p:nvSpPr>
                        <p:cNvPr id="737" name=""/>
                        <p:cNvSpPr/>
                        <p:nvPr/>
                      </p:nvSpPr>
                      <p:spPr>
                        <a:xfrm>
                          <a:off x="5609880" y="581724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>
                          <a:off x="5657400" y="581724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739" name=""/>
                <p:cNvSpPr/>
                <p:nvPr/>
              </p:nvSpPr>
              <p:spPr>
                <a:xfrm flipV="1">
                  <a:off x="5392800" y="5525640"/>
                  <a:ext cx="0" cy="38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0" name=""/>
            <p:cNvGrpSpPr/>
            <p:nvPr/>
          </p:nvGrpSpPr>
          <p:grpSpPr>
            <a:xfrm>
              <a:off x="4983120" y="6108840"/>
              <a:ext cx="3147840" cy="477720"/>
              <a:chOff x="4983120" y="6108840"/>
              <a:chExt cx="3147840" cy="477720"/>
            </a:xfrm>
          </p:grpSpPr>
          <p:sp>
            <p:nvSpPr>
              <p:cNvPr id="741" name=""/>
              <p:cNvSpPr/>
              <p:nvPr/>
            </p:nvSpPr>
            <p:spPr>
              <a:xfrm>
                <a:off x="5607000" y="6108840"/>
                <a:ext cx="25239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69900"/>
                    </a:solidFill>
                    <a:latin typeface="Arial"/>
                  </a:rPr>
                  <a:t>ME-05-HV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elf-propelled Artillery Battery (Heavy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2" name=""/>
              <p:cNvGrpSpPr/>
              <p:nvPr/>
            </p:nvGrpSpPr>
            <p:grpSpPr>
              <a:xfrm>
                <a:off x="4983120" y="6313680"/>
                <a:ext cx="541080" cy="235080"/>
                <a:chOff x="4983120" y="6313680"/>
                <a:chExt cx="541080" cy="235080"/>
              </a:xfrm>
            </p:grpSpPr>
            <p:sp>
              <p:nvSpPr>
                <p:cNvPr id="743" name=""/>
                <p:cNvSpPr/>
                <p:nvPr/>
              </p:nvSpPr>
              <p:spPr>
                <a:xfrm flipH="1">
                  <a:off x="4983120" y="6469200"/>
                  <a:ext cx="2952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4" name=""/>
                <p:cNvGrpSpPr/>
                <p:nvPr/>
              </p:nvGrpSpPr>
              <p:grpSpPr>
                <a:xfrm>
                  <a:off x="5283000" y="6313680"/>
                  <a:ext cx="241200" cy="235080"/>
                  <a:chOff x="5283000" y="6313680"/>
                  <a:chExt cx="241200" cy="235080"/>
                </a:xfrm>
              </p:grpSpPr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5283000" y="6391440"/>
                    <a:ext cx="241200" cy="157320"/>
                    <a:chOff x="5283000" y="6391440"/>
                    <a:chExt cx="241200" cy="15732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5284080" y="6391440"/>
                      <a:ext cx="24012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5313960" y="6426000"/>
                      <a:ext cx="1720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flipV="1">
                      <a:off x="5283000" y="6392160"/>
                      <a:ext cx="11592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5398920" y="6391440"/>
                      <a:ext cx="12420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0" name=""/>
                  <p:cNvSpPr/>
                  <p:nvPr/>
                </p:nvSpPr>
                <p:spPr>
                  <a:xfrm>
                    <a:off x="5406840" y="63136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369720" y="217440"/>
            <a:ext cx="3714840" cy="3607200"/>
            <a:chOff x="369720" y="217440"/>
            <a:chExt cx="3714840" cy="3607200"/>
          </a:xfrm>
        </p:grpSpPr>
        <p:grpSp>
          <p:nvGrpSpPr>
            <p:cNvPr id="752" name=""/>
            <p:cNvGrpSpPr/>
            <p:nvPr/>
          </p:nvGrpSpPr>
          <p:grpSpPr>
            <a:xfrm>
              <a:off x="369720" y="217440"/>
              <a:ext cx="3328560" cy="2808000"/>
              <a:chOff x="369720" y="217440"/>
              <a:chExt cx="3328560" cy="2808000"/>
            </a:xfrm>
          </p:grpSpPr>
          <p:sp>
            <p:nvSpPr>
              <p:cNvPr id="753" name=""/>
              <p:cNvSpPr/>
              <p:nvPr/>
            </p:nvSpPr>
            <p:spPr>
              <a:xfrm>
                <a:off x="371520" y="217440"/>
                <a:ext cx="320040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9900"/>
                    </a:solidFill>
                    <a:latin typeface="Arial"/>
                  </a:rPr>
                  <a:t>Battle Group 2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69720" y="434880"/>
                <a:ext cx="2743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 Regiment February 1944 – May 194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55480" y="895320"/>
                <a:ext cx="0" cy="2033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406440" y="744480"/>
                <a:ext cx="291600" cy="190440"/>
                <a:chOff x="406440" y="744480"/>
                <a:chExt cx="291600" cy="1904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407880" y="744480"/>
                  <a:ext cx="290160" cy="19044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43880" y="786240"/>
                  <a:ext cx="208080" cy="907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V="1">
                  <a:off x="406440" y="745920"/>
                  <a:ext cx="14004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46480" y="744480"/>
                  <a:ext cx="15012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565200" y="861840"/>
                <a:ext cx="3133080" cy="834480"/>
                <a:chOff x="565200" y="861840"/>
                <a:chExt cx="3133080" cy="834480"/>
              </a:xfrm>
            </p:grpSpPr>
            <p:grpSp>
              <p:nvGrpSpPr>
                <p:cNvPr id="762" name=""/>
                <p:cNvGrpSpPr/>
                <p:nvPr/>
              </p:nvGrpSpPr>
              <p:grpSpPr>
                <a:xfrm>
                  <a:off x="565200" y="861840"/>
                  <a:ext cx="3133080" cy="370080"/>
                  <a:chOff x="565200" y="861840"/>
                  <a:chExt cx="3133080" cy="37008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1174680" y="985680"/>
                    <a:ext cx="2523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T-34  (a)                   RU-0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>
                    <a:off x="565200" y="1100160"/>
                    <a:ext cx="29808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108080" y="861840"/>
                    <a:ext cx="7614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99cc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855360" y="987480"/>
                    <a:ext cx="240840" cy="199440"/>
                    <a:chOff x="855360" y="987480"/>
                    <a:chExt cx="240840" cy="199440"/>
                  </a:xfrm>
                </p:grpSpPr>
                <p:grpSp>
                  <p:nvGrpSpPr>
                    <p:cNvPr id="767" name=""/>
                    <p:cNvGrpSpPr/>
                    <p:nvPr/>
                  </p:nvGrpSpPr>
                  <p:grpSpPr>
                    <a:xfrm>
                      <a:off x="899640" y="987480"/>
                      <a:ext cx="131760" cy="26640"/>
                      <a:chOff x="899640" y="987480"/>
                      <a:chExt cx="131760" cy="26640"/>
                    </a:xfrm>
                  </p:grpSpPr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899640" y="98748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950400" y="9874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0" name=""/>
                      <p:cNvSpPr/>
                      <p:nvPr/>
                    </p:nvSpPr>
                    <p:spPr>
                      <a:xfrm>
                        <a:off x="1004400" y="98748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1" name=""/>
                    <p:cNvGrpSpPr/>
                    <p:nvPr/>
                  </p:nvGrpSpPr>
                  <p:grpSpPr>
                    <a:xfrm>
                      <a:off x="855360" y="1029960"/>
                      <a:ext cx="240840" cy="156960"/>
                      <a:chOff x="855360" y="1029960"/>
                      <a:chExt cx="240840" cy="156960"/>
                    </a:xfrm>
                  </p:grpSpPr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856440" y="102996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886320" y="1064160"/>
                        <a:ext cx="171720" cy="7488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 flipV="1">
                        <a:off x="855360" y="1031040"/>
                        <a:ext cx="115560" cy="1555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5" name=""/>
                      <p:cNvSpPr/>
                      <p:nvPr/>
                    </p:nvSpPr>
                    <p:spPr>
                      <a:xfrm>
                        <a:off x="970920" y="1029960"/>
                        <a:ext cx="124200" cy="1558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939600" y="1182600"/>
                  <a:ext cx="2052360" cy="513720"/>
                  <a:chOff x="939600" y="1182600"/>
                  <a:chExt cx="2052360" cy="513720"/>
                </a:xfrm>
              </p:grpSpPr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939600" y="1338120"/>
                    <a:ext cx="2052360" cy="358200"/>
                    <a:chOff x="939600" y="1338120"/>
                    <a:chExt cx="2052360" cy="35820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1361880" y="1338120"/>
                      <a:ext cx="16300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Armored Car Plato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79" name=""/>
                    <p:cNvGrpSpPr/>
                    <p:nvPr/>
                  </p:nvGrpSpPr>
                  <p:grpSpPr>
                    <a:xfrm>
                      <a:off x="939600" y="1474560"/>
                      <a:ext cx="1969560" cy="221760"/>
                      <a:chOff x="939600" y="1474560"/>
                      <a:chExt cx="1969560" cy="221760"/>
                    </a:xfrm>
                  </p:grpSpPr>
                  <p:sp>
                    <p:nvSpPr>
                      <p:cNvPr id="780" name=""/>
                      <p:cNvSpPr/>
                      <p:nvPr/>
                    </p:nvSpPr>
                    <p:spPr>
                      <a:xfrm>
                        <a:off x="939600" y="1581120"/>
                        <a:ext cx="2538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1" name=""/>
                      <p:cNvSpPr/>
                      <p:nvPr/>
                    </p:nvSpPr>
                    <p:spPr>
                      <a:xfrm>
                        <a:off x="1456200" y="1539720"/>
                        <a:ext cx="1452960" cy="152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1</a:t>
                        </a: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BA-64                RU-10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82" name=""/>
                      <p:cNvGrpSpPr/>
                      <p:nvPr/>
                    </p:nvGrpSpPr>
                    <p:grpSpPr>
                      <a:xfrm>
                        <a:off x="1088640" y="1474560"/>
                        <a:ext cx="231480" cy="221760"/>
                        <a:chOff x="1088640" y="1474560"/>
                        <a:chExt cx="231480" cy="221760"/>
                      </a:xfrm>
                    </p:grpSpPr>
                    <p:grpSp>
                      <p:nvGrpSpPr>
                        <p:cNvPr id="783" name=""/>
                        <p:cNvGrpSpPr/>
                        <p:nvPr/>
                      </p:nvGrpSpPr>
                      <p:grpSpPr>
                        <a:xfrm>
                          <a:off x="1088640" y="1505880"/>
                          <a:ext cx="231480" cy="190440"/>
                          <a:chOff x="1088640" y="1505880"/>
                          <a:chExt cx="231480" cy="190440"/>
                        </a:xfrm>
                      </p:grpSpPr>
                      <p:sp>
                        <p:nvSpPr>
                          <p:cNvPr id="784" name=""/>
                          <p:cNvSpPr/>
                          <p:nvPr/>
                        </p:nvSpPr>
                        <p:spPr>
                          <a:xfrm>
                            <a:off x="1088640" y="1506240"/>
                            <a:ext cx="231480" cy="156960"/>
                          </a:xfrm>
                          <a:prstGeom prst="rect">
                            <a:avLst/>
                          </a:prstGeom>
                          <a:solidFill>
                            <a:srgbClr val="66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85" name=""/>
                          <p:cNvSpPr/>
                          <p:nvPr/>
                        </p:nvSpPr>
                        <p:spPr>
                          <a:xfrm>
                            <a:off x="1099080" y="1669320"/>
                            <a:ext cx="27000" cy="27000"/>
                          </a:xfrm>
                          <a:prstGeom prst="ellipse">
                            <a:avLst/>
                          </a:prstGeom>
                          <a:solidFill>
                            <a:srgbClr val="66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86" name=""/>
                          <p:cNvSpPr/>
                          <p:nvPr/>
                        </p:nvSpPr>
                        <p:spPr>
                          <a:xfrm>
                            <a:off x="1280880" y="1669320"/>
                            <a:ext cx="27360" cy="27000"/>
                          </a:xfrm>
                          <a:prstGeom prst="ellipse">
                            <a:avLst/>
                          </a:prstGeom>
                          <a:solidFill>
                            <a:srgbClr val="66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87" name=""/>
                          <p:cNvSpPr/>
                          <p:nvPr/>
                        </p:nvSpPr>
                        <p:spPr>
                          <a:xfrm>
                            <a:off x="1121760" y="1547640"/>
                            <a:ext cx="161280" cy="74880"/>
                          </a:xfrm>
                          <a:prstGeom prst="ellipse">
                            <a:avLst/>
                          </a:prstGeom>
                          <a:solidFill>
                            <a:srgbClr val="66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6480" bIns="6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88" name=""/>
                          <p:cNvSpPr/>
                          <p:nvPr/>
                        </p:nvSpPr>
                        <p:spPr>
                          <a:xfrm flipV="1">
                            <a:off x="1090800" y="1505880"/>
                            <a:ext cx="227520" cy="1522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89" name=""/>
                        <p:cNvGrpSpPr/>
                        <p:nvPr/>
                      </p:nvGrpSpPr>
                      <p:grpSpPr>
                        <a:xfrm>
                          <a:off x="1166400" y="1474560"/>
                          <a:ext cx="74160" cy="27000"/>
                          <a:chOff x="1166400" y="1474560"/>
                          <a:chExt cx="74160" cy="27000"/>
                        </a:xfrm>
                      </p:grpSpPr>
                      <p:sp>
                        <p:nvSpPr>
                          <p:cNvPr id="790" name=""/>
                          <p:cNvSpPr/>
                          <p:nvPr/>
                        </p:nvSpPr>
                        <p:spPr>
                          <a:xfrm>
                            <a:off x="1166400" y="1474560"/>
                            <a:ext cx="284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91" name=""/>
                          <p:cNvSpPr/>
                          <p:nvPr/>
                        </p:nvSpPr>
                        <p:spPr>
                          <a:xfrm>
                            <a:off x="1213920" y="1474560"/>
                            <a:ext cx="266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792" name=""/>
                  <p:cNvSpPr/>
                  <p:nvPr/>
                </p:nvSpPr>
                <p:spPr>
                  <a:xfrm flipV="1">
                    <a:off x="948960" y="1182600"/>
                    <a:ext cx="0" cy="3808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93" name=""/>
              <p:cNvGrpSpPr/>
              <p:nvPr/>
            </p:nvGrpSpPr>
            <p:grpSpPr>
              <a:xfrm>
                <a:off x="539640" y="1765080"/>
                <a:ext cx="3147840" cy="477720"/>
                <a:chOff x="539640" y="1765080"/>
                <a:chExt cx="3147840" cy="4777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1163520" y="1765080"/>
                  <a:ext cx="252396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669900"/>
                      </a:solidFill>
                      <a:latin typeface="Arial"/>
                    </a:rPr>
                    <a:t>ME-05-LT 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4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elf-propelled Artillery Battery (Light.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5" name=""/>
                <p:cNvGrpSpPr/>
                <p:nvPr/>
              </p:nvGrpSpPr>
              <p:grpSpPr>
                <a:xfrm>
                  <a:off x="539640" y="1969920"/>
                  <a:ext cx="541080" cy="235080"/>
                  <a:chOff x="539640" y="1969920"/>
                  <a:chExt cx="541080" cy="23508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flipH="1">
                    <a:off x="539640" y="2125440"/>
                    <a:ext cx="29520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839520" y="1969920"/>
                    <a:ext cx="241200" cy="235080"/>
                    <a:chOff x="839520" y="1969920"/>
                    <a:chExt cx="241200" cy="235080"/>
                  </a:xfrm>
                </p:grpSpPr>
                <p:grpSp>
                  <p:nvGrpSpPr>
                    <p:cNvPr id="798" name=""/>
                    <p:cNvGrpSpPr/>
                    <p:nvPr/>
                  </p:nvGrpSpPr>
                  <p:grpSpPr>
                    <a:xfrm>
                      <a:off x="839520" y="2047680"/>
                      <a:ext cx="241200" cy="157320"/>
                      <a:chOff x="839520" y="2047680"/>
                      <a:chExt cx="241200" cy="157320"/>
                    </a:xfrm>
                  </p:grpSpPr>
                  <p:sp>
                    <p:nvSpPr>
                      <p:cNvPr id="799" name=""/>
                      <p:cNvSpPr/>
                      <p:nvPr/>
                    </p:nvSpPr>
                    <p:spPr>
                      <a:xfrm>
                        <a:off x="840600" y="2047680"/>
                        <a:ext cx="240120" cy="15732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870480" y="2082240"/>
                        <a:ext cx="172080" cy="7488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1" name=""/>
                      <p:cNvSpPr/>
                      <p:nvPr/>
                    </p:nvSpPr>
                    <p:spPr>
                      <a:xfrm flipV="1">
                        <a:off x="839520" y="2048400"/>
                        <a:ext cx="115920" cy="1558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2" name=""/>
                      <p:cNvSpPr/>
                      <p:nvPr/>
                    </p:nvSpPr>
                    <p:spPr>
                      <a:xfrm>
                        <a:off x="955440" y="2047680"/>
                        <a:ext cx="124200" cy="1562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963360" y="196992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04" name=""/>
              <p:cNvGrpSpPr/>
              <p:nvPr/>
            </p:nvGrpSpPr>
            <p:grpSpPr>
              <a:xfrm>
                <a:off x="554040" y="2406600"/>
                <a:ext cx="3047400" cy="263160"/>
                <a:chOff x="554040" y="2406600"/>
                <a:chExt cx="3047400" cy="263160"/>
              </a:xfrm>
            </p:grpSpPr>
            <p:grpSp>
              <p:nvGrpSpPr>
                <p:cNvPr id="805" name=""/>
                <p:cNvGrpSpPr/>
                <p:nvPr/>
              </p:nvGrpSpPr>
              <p:grpSpPr>
                <a:xfrm>
                  <a:off x="554040" y="2406600"/>
                  <a:ext cx="548640" cy="257040"/>
                  <a:chOff x="554040" y="2406600"/>
                  <a:chExt cx="548640" cy="25704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>
                    <a:off x="554040" y="2571480"/>
                    <a:ext cx="35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818640" y="2406600"/>
                    <a:ext cx="284040" cy="257040"/>
                    <a:chOff x="818640" y="2406600"/>
                    <a:chExt cx="284040" cy="257040"/>
                  </a:xfrm>
                </p:grpSpPr>
                <p:grpSp>
                  <p:nvGrpSpPr>
                    <p:cNvPr id="808" name=""/>
                    <p:cNvGrpSpPr/>
                    <p:nvPr/>
                  </p:nvGrpSpPr>
                  <p:grpSpPr>
                    <a:xfrm>
                      <a:off x="818640" y="2469960"/>
                      <a:ext cx="284040" cy="193680"/>
                      <a:chOff x="818640" y="2469960"/>
                      <a:chExt cx="284040" cy="193680"/>
                    </a:xfrm>
                  </p:grpSpPr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818640" y="2469960"/>
                        <a:ext cx="284040" cy="19368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" name=""/>
                      <p:cNvSpPr/>
                      <p:nvPr/>
                    </p:nvSpPr>
                    <p:spPr>
                      <a:xfrm flipV="1">
                        <a:off x="821520" y="2472840"/>
                        <a:ext cx="276480" cy="18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" name=""/>
                      <p:cNvSpPr/>
                      <p:nvPr/>
                    </p:nvSpPr>
                    <p:spPr>
                      <a:xfrm>
                        <a:off x="818640" y="2472840"/>
                        <a:ext cx="28260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959760" y="24066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13" name=""/>
                <p:cNvSpPr/>
                <p:nvPr/>
              </p:nvSpPr>
              <p:spPr>
                <a:xfrm>
                  <a:off x="1117080" y="2454120"/>
                  <a:ext cx="2484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Submachine Gun Co. (Tank Riders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576000" y="2790720"/>
                <a:ext cx="3041280" cy="234720"/>
                <a:chOff x="576000" y="2790720"/>
                <a:chExt cx="3041280" cy="2347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576000" y="2919240"/>
                  <a:ext cx="40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203480" y="2809800"/>
                  <a:ext cx="2413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9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titank Rifle (Tank Riders)                  RU-2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7" name=""/>
                <p:cNvGrpSpPr/>
                <p:nvPr/>
              </p:nvGrpSpPr>
              <p:grpSpPr>
                <a:xfrm>
                  <a:off x="884880" y="2790720"/>
                  <a:ext cx="267840" cy="212760"/>
                  <a:chOff x="884880" y="2790720"/>
                  <a:chExt cx="267840" cy="212760"/>
                </a:xfrm>
              </p:grpSpPr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971280" y="2790720"/>
                    <a:ext cx="85680" cy="28080"/>
                    <a:chOff x="971280" y="2790720"/>
                    <a:chExt cx="85680" cy="2808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971280" y="2790720"/>
                      <a:ext cx="3276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1026000" y="2792160"/>
                      <a:ext cx="3096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884880" y="2846160"/>
                    <a:ext cx="267840" cy="157320"/>
                    <a:chOff x="884880" y="2846160"/>
                    <a:chExt cx="267840" cy="15732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84880" y="2846160"/>
                      <a:ext cx="26784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flipV="1">
                      <a:off x="884880" y="2849040"/>
                      <a:ext cx="132120" cy="15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1017000" y="2846160"/>
                      <a:ext cx="132480" cy="154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825" name=""/>
            <p:cNvSpPr/>
            <p:nvPr/>
          </p:nvSpPr>
          <p:spPr>
            <a:xfrm>
              <a:off x="446040" y="3058920"/>
              <a:ext cx="3638520" cy="76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34, RU-02 for Light and Medium Regiments, KV-1, RU-04 for Heavy Regi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Batteries, ME-05-LT for Light Regiments, Medium Batteries, ME-05-MED for Medium Regiments, and Heavy Batteries, ME-05-HVY for Heavy Regi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551480" y="392040"/>
            <a:ext cx="3686040" cy="2922480"/>
            <a:chOff x="4551480" y="392040"/>
            <a:chExt cx="3686040" cy="2922480"/>
          </a:xfrm>
        </p:grpSpPr>
        <p:grpSp>
          <p:nvGrpSpPr>
            <p:cNvPr id="827" name=""/>
            <p:cNvGrpSpPr/>
            <p:nvPr/>
          </p:nvGrpSpPr>
          <p:grpSpPr>
            <a:xfrm>
              <a:off x="4551480" y="392040"/>
              <a:ext cx="3193920" cy="1769040"/>
              <a:chOff x="4551480" y="392040"/>
              <a:chExt cx="3193920" cy="1769040"/>
            </a:xfrm>
          </p:grpSpPr>
          <p:sp>
            <p:nvSpPr>
              <p:cNvPr id="828" name=""/>
              <p:cNvSpPr/>
              <p:nvPr/>
            </p:nvSpPr>
            <p:spPr>
              <a:xfrm>
                <a:off x="4552920" y="392040"/>
                <a:ext cx="31924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9900"/>
                    </a:solidFill>
                    <a:latin typeface="Arial"/>
                  </a:rPr>
                  <a:t>Battle Group 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51480" y="587520"/>
                <a:ext cx="2736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ntitank Regiment April 1943 – May 194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737240" y="1000080"/>
                <a:ext cx="19080" cy="10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1" name=""/>
              <p:cNvGrpSpPr/>
              <p:nvPr/>
            </p:nvGrpSpPr>
            <p:grpSpPr>
              <a:xfrm>
                <a:off x="4591080" y="793800"/>
                <a:ext cx="306000" cy="264240"/>
                <a:chOff x="4591080" y="793800"/>
                <a:chExt cx="306000" cy="264240"/>
              </a:xfrm>
            </p:grpSpPr>
            <p:grpSp>
              <p:nvGrpSpPr>
                <p:cNvPr id="832" name=""/>
                <p:cNvGrpSpPr/>
                <p:nvPr/>
              </p:nvGrpSpPr>
              <p:grpSpPr>
                <a:xfrm>
                  <a:off x="4591080" y="856440"/>
                  <a:ext cx="306000" cy="201600"/>
                  <a:chOff x="4591080" y="856440"/>
                  <a:chExt cx="306000" cy="20160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4591080" y="856440"/>
                    <a:ext cx="306000" cy="201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V="1">
                    <a:off x="4591080" y="860040"/>
                    <a:ext cx="151200" cy="195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4742280" y="856440"/>
                    <a:ext cx="150480" cy="198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4691880" y="793800"/>
                  <a:ext cx="75600" cy="56520"/>
                  <a:chOff x="4691880" y="793800"/>
                  <a:chExt cx="75600" cy="5652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>
                    <a:off x="4691880" y="793800"/>
                    <a:ext cx="0" cy="56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4767480" y="793800"/>
                    <a:ext cx="0" cy="56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9" name=""/>
              <p:cNvGrpSpPr/>
              <p:nvPr/>
            </p:nvGrpSpPr>
            <p:grpSpPr>
              <a:xfrm>
                <a:off x="4753080" y="1914480"/>
                <a:ext cx="2732760" cy="246600"/>
                <a:chOff x="4753080" y="1914480"/>
                <a:chExt cx="2732760" cy="24660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4753080" y="2052360"/>
                  <a:ext cx="321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1" name=""/>
                <p:cNvGrpSpPr/>
                <p:nvPr/>
              </p:nvGrpSpPr>
              <p:grpSpPr>
                <a:xfrm>
                  <a:off x="4998240" y="1914480"/>
                  <a:ext cx="2487600" cy="246600"/>
                  <a:chOff x="4998240" y="1914480"/>
                  <a:chExt cx="2487600" cy="246600"/>
                </a:xfrm>
              </p:grpSpPr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4998240" y="1914480"/>
                    <a:ext cx="283320" cy="222840"/>
                    <a:chOff x="4998240" y="1914480"/>
                    <a:chExt cx="283320" cy="222840"/>
                  </a:xfrm>
                </p:grpSpPr>
                <p:grpSp>
                  <p:nvGrpSpPr>
                    <p:cNvPr id="843" name=""/>
                    <p:cNvGrpSpPr/>
                    <p:nvPr/>
                  </p:nvGrpSpPr>
                  <p:grpSpPr>
                    <a:xfrm>
                      <a:off x="4998240" y="1964160"/>
                      <a:ext cx="283320" cy="173160"/>
                      <a:chOff x="4998240" y="1964160"/>
                      <a:chExt cx="283320" cy="173160"/>
                    </a:xfrm>
                  </p:grpSpPr>
                  <p:sp>
                    <p:nvSpPr>
                      <p:cNvPr id="844" name=""/>
                      <p:cNvSpPr/>
                      <p:nvPr/>
                    </p:nvSpPr>
                    <p:spPr>
                      <a:xfrm>
                        <a:off x="4998240" y="1964160"/>
                        <a:ext cx="283320" cy="1731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" name=""/>
                      <p:cNvSpPr/>
                      <p:nvPr/>
                    </p:nvSpPr>
                    <p:spPr>
                      <a:xfrm flipV="1">
                        <a:off x="4998240" y="1967040"/>
                        <a:ext cx="139320" cy="168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6" name=""/>
                      <p:cNvSpPr/>
                      <p:nvPr/>
                    </p:nvSpPr>
                    <p:spPr>
                      <a:xfrm>
                        <a:off x="5137560" y="1964160"/>
                        <a:ext cx="139680" cy="1695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7" name=""/>
                      <p:cNvSpPr/>
                      <p:nvPr/>
                    </p:nvSpPr>
                    <p:spPr>
                      <a:xfrm>
                        <a:off x="5071680" y="2051640"/>
                        <a:ext cx="13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5139000" y="1914480"/>
                      <a:ext cx="0" cy="565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9" name=""/>
                  <p:cNvSpPr/>
                  <p:nvPr/>
                </p:nvSpPr>
                <p:spPr>
                  <a:xfrm>
                    <a:off x="5410080" y="1945440"/>
                    <a:ext cx="20757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5 Antitank Battery (a)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    </a:t>
                    </a: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ME-07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0" name=""/>
              <p:cNvGrpSpPr/>
              <p:nvPr/>
            </p:nvGrpSpPr>
            <p:grpSpPr>
              <a:xfrm>
                <a:off x="4761000" y="1033560"/>
                <a:ext cx="2599920" cy="827280"/>
                <a:chOff x="4761000" y="1033560"/>
                <a:chExt cx="2599920" cy="82728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5110920" y="1033560"/>
                  <a:ext cx="1749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HEADQUARTERS ELE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296320" y="1199880"/>
                  <a:ext cx="835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3" name=""/>
                <p:cNvGrpSpPr/>
                <p:nvPr/>
              </p:nvGrpSpPr>
              <p:grpSpPr>
                <a:xfrm>
                  <a:off x="4761000" y="1389240"/>
                  <a:ext cx="2599920" cy="471600"/>
                  <a:chOff x="4761000" y="1389240"/>
                  <a:chExt cx="2599920" cy="47160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5109120" y="1509840"/>
                    <a:ext cx="0" cy="253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4761000" y="1498680"/>
                    <a:ext cx="351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285160" y="1404720"/>
                    <a:ext cx="20757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RU-1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283360" y="1645200"/>
                    <a:ext cx="15958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Jeep        RU-P17 or US-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58" name=""/>
                  <p:cNvGrpSpPr/>
                  <p:nvPr/>
                </p:nvGrpSpPr>
                <p:grpSpPr>
                  <a:xfrm>
                    <a:off x="5058360" y="1389240"/>
                    <a:ext cx="237600" cy="169920"/>
                    <a:chOff x="5058360" y="1389240"/>
                    <a:chExt cx="237600" cy="169920"/>
                  </a:xfrm>
                </p:grpSpPr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5058360" y="1419120"/>
                      <a:ext cx="237600" cy="14004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5166000" y="1389240"/>
                      <a:ext cx="26640" cy="24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1" name=""/>
                  <p:cNvGrpSpPr/>
                  <p:nvPr/>
                </p:nvGrpSpPr>
                <p:grpSpPr>
                  <a:xfrm>
                    <a:off x="5058360" y="1622160"/>
                    <a:ext cx="231120" cy="199800"/>
                    <a:chOff x="5058360" y="1622160"/>
                    <a:chExt cx="231120" cy="199800"/>
                  </a:xfrm>
                </p:grpSpPr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5159520" y="1622160"/>
                      <a:ext cx="26640" cy="24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63" name=""/>
                    <p:cNvGrpSpPr/>
                    <p:nvPr/>
                  </p:nvGrpSpPr>
                  <p:grpSpPr>
                    <a:xfrm>
                      <a:off x="5058360" y="1651680"/>
                      <a:ext cx="231120" cy="170280"/>
                      <a:chOff x="5058360" y="1651680"/>
                      <a:chExt cx="231120" cy="170280"/>
                    </a:xfrm>
                  </p:grpSpPr>
                  <p:sp>
                    <p:nvSpPr>
                      <p:cNvPr id="864" name=""/>
                      <p:cNvSpPr/>
                      <p:nvPr/>
                    </p:nvSpPr>
                    <p:spPr>
                      <a:xfrm>
                        <a:off x="5058360" y="1651680"/>
                        <a:ext cx="231120" cy="14040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5069160" y="1797840"/>
                        <a:ext cx="26640" cy="241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5249880" y="1797840"/>
                        <a:ext cx="28080" cy="241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67" name=""/>
                  <p:cNvSpPr/>
                  <p:nvPr/>
                </p:nvSpPr>
                <p:spPr>
                  <a:xfrm>
                    <a:off x="5490720" y="1513080"/>
                    <a:ext cx="6318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68" name=""/>
            <p:cNvSpPr/>
            <p:nvPr/>
          </p:nvSpPr>
          <p:spPr>
            <a:xfrm>
              <a:off x="4599000" y="2363760"/>
              <a:ext cx="363852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duce the number of guns in a Antitank Regiment Battery to 2 instead of 3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titank Regiments were equipped with either 45mm, RU-13, 57mm, RU-14, or 76.2mm, RU-15 antitank guns after June 1943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y April 1944 a 6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battery was added and the 45mm gun was removed from servic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51000" y="3935520"/>
            <a:ext cx="3306240" cy="2200680"/>
            <a:chOff x="351000" y="3935520"/>
            <a:chExt cx="3306240" cy="2200680"/>
          </a:xfrm>
        </p:grpSpPr>
        <p:sp>
          <p:nvSpPr>
            <p:cNvPr id="870" name=""/>
            <p:cNvSpPr/>
            <p:nvPr/>
          </p:nvSpPr>
          <p:spPr>
            <a:xfrm>
              <a:off x="536400" y="4543560"/>
              <a:ext cx="0" cy="148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351000" y="3935520"/>
              <a:ext cx="3306240" cy="2200680"/>
              <a:chOff x="351000" y="3935520"/>
              <a:chExt cx="3306240" cy="2200680"/>
            </a:xfrm>
          </p:grpSpPr>
          <p:sp>
            <p:nvSpPr>
              <p:cNvPr id="872" name=""/>
              <p:cNvSpPr/>
              <p:nvPr/>
            </p:nvSpPr>
            <p:spPr>
              <a:xfrm>
                <a:off x="352440" y="3935520"/>
                <a:ext cx="31924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9900"/>
                    </a:solidFill>
                    <a:latin typeface="Arial"/>
                  </a:rPr>
                  <a:t>Battle Group 2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51000" y="4130640"/>
                <a:ext cx="2736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ntiaircraft Regiment April 194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552600" y="5457960"/>
                <a:ext cx="2732760" cy="246600"/>
                <a:chOff x="552600" y="5457960"/>
                <a:chExt cx="2732760" cy="2466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52600" y="5595840"/>
                  <a:ext cx="321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6" name=""/>
                <p:cNvGrpSpPr/>
                <p:nvPr/>
              </p:nvGrpSpPr>
              <p:grpSpPr>
                <a:xfrm>
                  <a:off x="797760" y="5457960"/>
                  <a:ext cx="2487600" cy="246600"/>
                  <a:chOff x="797760" y="5457960"/>
                  <a:chExt cx="2487600" cy="246600"/>
                </a:xfrm>
              </p:grpSpPr>
              <p:grpSp>
                <p:nvGrpSpPr>
                  <p:cNvPr id="877" name=""/>
                  <p:cNvGrpSpPr/>
                  <p:nvPr/>
                </p:nvGrpSpPr>
                <p:grpSpPr>
                  <a:xfrm>
                    <a:off x="797760" y="5457960"/>
                    <a:ext cx="283320" cy="222120"/>
                    <a:chOff x="797760" y="5457960"/>
                    <a:chExt cx="283320" cy="222120"/>
                  </a:xfrm>
                </p:grpSpPr>
                <p:grpSp>
                  <p:nvGrpSpPr>
                    <p:cNvPr id="878" name=""/>
                    <p:cNvGrpSpPr/>
                    <p:nvPr/>
                  </p:nvGrpSpPr>
                  <p:grpSpPr>
                    <a:xfrm>
                      <a:off x="797760" y="5507280"/>
                      <a:ext cx="283320" cy="172800"/>
                      <a:chOff x="797760" y="5507280"/>
                      <a:chExt cx="283320" cy="172800"/>
                    </a:xfrm>
                  </p:grpSpPr>
                  <p:sp>
                    <p:nvSpPr>
                      <p:cNvPr id="879" name=""/>
                      <p:cNvSpPr/>
                      <p:nvPr/>
                    </p:nvSpPr>
                    <p:spPr>
                      <a:xfrm>
                        <a:off x="797760" y="5507280"/>
                        <a:ext cx="283320" cy="17280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0" name=""/>
                      <p:cNvSpPr/>
                      <p:nvPr/>
                    </p:nvSpPr>
                    <p:spPr>
                      <a:xfrm flipV="1">
                        <a:off x="797760" y="5510520"/>
                        <a:ext cx="139320" cy="1677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1" name=""/>
                      <p:cNvSpPr/>
                      <p:nvPr/>
                    </p:nvSpPr>
                    <p:spPr>
                      <a:xfrm>
                        <a:off x="937080" y="5507280"/>
                        <a:ext cx="139680" cy="1692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2" name=""/>
                      <p:cNvSpPr/>
                      <p:nvPr/>
                    </p:nvSpPr>
                    <p:spPr>
                      <a:xfrm>
                        <a:off x="871200" y="5594400"/>
                        <a:ext cx="13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938520" y="5457960"/>
                      <a:ext cx="0" cy="565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4" name=""/>
                  <p:cNvSpPr/>
                  <p:nvPr/>
                </p:nvSpPr>
                <p:spPr>
                  <a:xfrm>
                    <a:off x="1209600" y="5488920"/>
                    <a:ext cx="20757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4 Antiaircraft Battery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    </a:t>
                    </a: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ME-0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5" name=""/>
              <p:cNvGrpSpPr/>
              <p:nvPr/>
            </p:nvGrpSpPr>
            <p:grpSpPr>
              <a:xfrm>
                <a:off x="560520" y="4576680"/>
                <a:ext cx="2599920" cy="827640"/>
                <a:chOff x="560520" y="4576680"/>
                <a:chExt cx="2599920" cy="82764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910440" y="4576680"/>
                  <a:ext cx="1749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HEADQUARTERS ELE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1095840" y="4743000"/>
                  <a:ext cx="835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8" name=""/>
                <p:cNvGrpSpPr/>
                <p:nvPr/>
              </p:nvGrpSpPr>
              <p:grpSpPr>
                <a:xfrm>
                  <a:off x="560520" y="4932720"/>
                  <a:ext cx="2599920" cy="471600"/>
                  <a:chOff x="560520" y="4932720"/>
                  <a:chExt cx="2599920" cy="47160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908640" y="5053320"/>
                    <a:ext cx="0" cy="253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60520" y="5042160"/>
                    <a:ext cx="351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084680" y="4948200"/>
                    <a:ext cx="20757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RU-1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1082880" y="5188680"/>
                    <a:ext cx="15958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Jeep        RU-P17 or US-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857880" y="4932720"/>
                    <a:ext cx="237600" cy="169920"/>
                    <a:chOff x="857880" y="4932720"/>
                    <a:chExt cx="237600" cy="16992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857880" y="4962600"/>
                      <a:ext cx="237600" cy="14004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965520" y="4932720"/>
                      <a:ext cx="26640" cy="24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857880" y="5165640"/>
                    <a:ext cx="231120" cy="199800"/>
                    <a:chOff x="857880" y="5165640"/>
                    <a:chExt cx="231120" cy="19980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959040" y="5165640"/>
                      <a:ext cx="26640" cy="24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98" name=""/>
                    <p:cNvGrpSpPr/>
                    <p:nvPr/>
                  </p:nvGrpSpPr>
                  <p:grpSpPr>
                    <a:xfrm>
                      <a:off x="857880" y="5195160"/>
                      <a:ext cx="231120" cy="170280"/>
                      <a:chOff x="857880" y="5195160"/>
                      <a:chExt cx="231120" cy="170280"/>
                    </a:xfrm>
                  </p:grpSpPr>
                  <p:sp>
                    <p:nvSpPr>
                      <p:cNvPr id="899" name=""/>
                      <p:cNvSpPr/>
                      <p:nvPr/>
                    </p:nvSpPr>
                    <p:spPr>
                      <a:xfrm>
                        <a:off x="857880" y="5195160"/>
                        <a:ext cx="231120" cy="14040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0" name=""/>
                      <p:cNvSpPr/>
                      <p:nvPr/>
                    </p:nvSpPr>
                    <p:spPr>
                      <a:xfrm>
                        <a:off x="868680" y="5341320"/>
                        <a:ext cx="26640" cy="241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" name=""/>
                      <p:cNvSpPr/>
                      <p:nvPr/>
                    </p:nvSpPr>
                    <p:spPr>
                      <a:xfrm>
                        <a:off x="1049400" y="5341320"/>
                        <a:ext cx="28080" cy="241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02" name=""/>
                  <p:cNvSpPr/>
                  <p:nvPr/>
                </p:nvSpPr>
                <p:spPr>
                  <a:xfrm>
                    <a:off x="1290240" y="5056560"/>
                    <a:ext cx="6318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3" name=""/>
              <p:cNvGrpSpPr/>
              <p:nvPr/>
            </p:nvGrpSpPr>
            <p:grpSpPr>
              <a:xfrm>
                <a:off x="544680" y="5889600"/>
                <a:ext cx="3112560" cy="246600"/>
                <a:chOff x="544680" y="5889600"/>
                <a:chExt cx="3112560" cy="24660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544680" y="6027480"/>
                  <a:ext cx="321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5" name=""/>
                <p:cNvGrpSpPr/>
                <p:nvPr/>
              </p:nvGrpSpPr>
              <p:grpSpPr>
                <a:xfrm>
                  <a:off x="789840" y="5889600"/>
                  <a:ext cx="282960" cy="222840"/>
                  <a:chOff x="789840" y="5889600"/>
                  <a:chExt cx="282960" cy="222840"/>
                </a:xfrm>
              </p:grpSpPr>
              <p:grpSp>
                <p:nvGrpSpPr>
                  <p:cNvPr id="906" name=""/>
                  <p:cNvGrpSpPr/>
                  <p:nvPr/>
                </p:nvGrpSpPr>
                <p:grpSpPr>
                  <a:xfrm>
                    <a:off x="789840" y="5939280"/>
                    <a:ext cx="282960" cy="173160"/>
                    <a:chOff x="789840" y="5939280"/>
                    <a:chExt cx="282960" cy="173160"/>
                  </a:xfrm>
                </p:grpSpPr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789840" y="5939280"/>
                      <a:ext cx="282960" cy="1731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 flipV="1">
                      <a:off x="789840" y="5942160"/>
                      <a:ext cx="139320" cy="168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929160" y="5939280"/>
                      <a:ext cx="139680" cy="169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863280" y="6026760"/>
                      <a:ext cx="1396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1" name=""/>
                  <p:cNvSpPr/>
                  <p:nvPr/>
                </p:nvSpPr>
                <p:spPr>
                  <a:xfrm>
                    <a:off x="930600" y="5889600"/>
                    <a:ext cx="0" cy="56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2" name=""/>
                <p:cNvSpPr/>
                <p:nvPr/>
              </p:nvSpPr>
              <p:spPr>
                <a:xfrm>
                  <a:off x="1201680" y="5920560"/>
                  <a:ext cx="2455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4 Antiaircraft Machine Gun Platoon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355680" y="4356000"/>
                <a:ext cx="374040" cy="333000"/>
                <a:chOff x="355680" y="4356000"/>
                <a:chExt cx="374040" cy="333000"/>
              </a:xfrm>
            </p:grpSpPr>
            <p:grpSp>
              <p:nvGrpSpPr>
                <p:cNvPr id="914" name=""/>
                <p:cNvGrpSpPr/>
                <p:nvPr/>
              </p:nvGrpSpPr>
              <p:grpSpPr>
                <a:xfrm>
                  <a:off x="491760" y="4356000"/>
                  <a:ext cx="74160" cy="57240"/>
                  <a:chOff x="491760" y="4356000"/>
                  <a:chExt cx="74160" cy="5724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491760" y="4356000"/>
                    <a:ext cx="0" cy="572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65920" y="4356000"/>
                    <a:ext cx="0" cy="572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7" name=""/>
                <p:cNvGrpSpPr/>
                <p:nvPr/>
              </p:nvGrpSpPr>
              <p:grpSpPr>
                <a:xfrm>
                  <a:off x="355680" y="4446360"/>
                  <a:ext cx="374040" cy="242640"/>
                  <a:chOff x="355680" y="4446360"/>
                  <a:chExt cx="374040" cy="24264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355680" y="4446360"/>
                    <a:ext cx="374040" cy="24264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V="1">
                    <a:off x="355680" y="4451040"/>
                    <a:ext cx="183960" cy="235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539640" y="4446360"/>
                    <a:ext cx="184680" cy="23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52520" y="4568760"/>
                    <a:ext cx="1846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22" name=""/>
          <p:cNvGrpSpPr/>
          <p:nvPr/>
        </p:nvGrpSpPr>
        <p:grpSpPr>
          <a:xfrm>
            <a:off x="4676760" y="3902040"/>
            <a:ext cx="3379680" cy="2200680"/>
            <a:chOff x="4676760" y="3902040"/>
            <a:chExt cx="3379680" cy="2200680"/>
          </a:xfrm>
        </p:grpSpPr>
        <p:grpSp>
          <p:nvGrpSpPr>
            <p:cNvPr id="923" name=""/>
            <p:cNvGrpSpPr/>
            <p:nvPr/>
          </p:nvGrpSpPr>
          <p:grpSpPr>
            <a:xfrm>
              <a:off x="4676760" y="3902040"/>
              <a:ext cx="3379680" cy="2200680"/>
              <a:chOff x="4676760" y="3902040"/>
              <a:chExt cx="3379680" cy="2200680"/>
            </a:xfrm>
          </p:grpSpPr>
          <p:sp>
            <p:nvSpPr>
              <p:cNvPr id="924" name=""/>
              <p:cNvSpPr/>
              <p:nvPr/>
            </p:nvSpPr>
            <p:spPr>
              <a:xfrm>
                <a:off x="4678200" y="3902040"/>
                <a:ext cx="31924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9900"/>
                    </a:solidFill>
                    <a:latin typeface="Arial"/>
                  </a:rPr>
                  <a:t>Battle Group 29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676760" y="4097160"/>
                <a:ext cx="337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ank Corp Antiaircraft Regiment June 194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"/>
              <p:cNvGrpSpPr/>
              <p:nvPr/>
            </p:nvGrpSpPr>
            <p:grpSpPr>
              <a:xfrm>
                <a:off x="4878360" y="5424480"/>
                <a:ext cx="2733120" cy="246600"/>
                <a:chOff x="4878360" y="5424480"/>
                <a:chExt cx="2733120" cy="24660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4878360" y="5562360"/>
                  <a:ext cx="321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5123520" y="5424480"/>
                  <a:ext cx="2487960" cy="246600"/>
                  <a:chOff x="5123520" y="5424480"/>
                  <a:chExt cx="2487960" cy="246600"/>
                </a:xfrm>
              </p:grpSpPr>
              <p:grpSp>
                <p:nvGrpSpPr>
                  <p:cNvPr id="929" name=""/>
                  <p:cNvGrpSpPr/>
                  <p:nvPr/>
                </p:nvGrpSpPr>
                <p:grpSpPr>
                  <a:xfrm>
                    <a:off x="5123520" y="5424480"/>
                    <a:ext cx="283320" cy="222840"/>
                    <a:chOff x="5123520" y="5424480"/>
                    <a:chExt cx="283320" cy="222840"/>
                  </a:xfrm>
                </p:grpSpPr>
                <p:grpSp>
                  <p:nvGrpSpPr>
                    <p:cNvPr id="930" name=""/>
                    <p:cNvGrpSpPr/>
                    <p:nvPr/>
                  </p:nvGrpSpPr>
                  <p:grpSpPr>
                    <a:xfrm>
                      <a:off x="5123520" y="5474160"/>
                      <a:ext cx="283320" cy="173160"/>
                      <a:chOff x="5123520" y="5474160"/>
                      <a:chExt cx="283320" cy="173160"/>
                    </a:xfrm>
                  </p:grpSpPr>
                  <p:sp>
                    <p:nvSpPr>
                      <p:cNvPr id="931" name=""/>
                      <p:cNvSpPr/>
                      <p:nvPr/>
                    </p:nvSpPr>
                    <p:spPr>
                      <a:xfrm>
                        <a:off x="5123520" y="5474160"/>
                        <a:ext cx="283320" cy="1731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2" name=""/>
                      <p:cNvSpPr/>
                      <p:nvPr/>
                    </p:nvSpPr>
                    <p:spPr>
                      <a:xfrm flipV="1">
                        <a:off x="5123520" y="5477040"/>
                        <a:ext cx="139320" cy="168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3" name=""/>
                      <p:cNvSpPr/>
                      <p:nvPr/>
                    </p:nvSpPr>
                    <p:spPr>
                      <a:xfrm>
                        <a:off x="5262840" y="5474160"/>
                        <a:ext cx="139680" cy="1695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4" name=""/>
                      <p:cNvSpPr/>
                      <p:nvPr/>
                    </p:nvSpPr>
                    <p:spPr>
                      <a:xfrm>
                        <a:off x="5196960" y="5561640"/>
                        <a:ext cx="13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5264280" y="5424480"/>
                      <a:ext cx="0" cy="565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6" name=""/>
                  <p:cNvSpPr/>
                  <p:nvPr/>
                </p:nvSpPr>
                <p:spPr>
                  <a:xfrm>
                    <a:off x="5535360" y="5455440"/>
                    <a:ext cx="20761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3 Antiaircraft Battery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    </a:t>
                    </a: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ME-0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7" name=""/>
              <p:cNvGrpSpPr/>
              <p:nvPr/>
            </p:nvGrpSpPr>
            <p:grpSpPr>
              <a:xfrm>
                <a:off x="4886280" y="4543560"/>
                <a:ext cx="2599920" cy="827280"/>
                <a:chOff x="4886280" y="4543560"/>
                <a:chExt cx="2599920" cy="82728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5236200" y="4543560"/>
                  <a:ext cx="1749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HEADQUARTERS ELE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421600" y="4709880"/>
                  <a:ext cx="835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0" name=""/>
                <p:cNvGrpSpPr/>
                <p:nvPr/>
              </p:nvGrpSpPr>
              <p:grpSpPr>
                <a:xfrm>
                  <a:off x="4886280" y="4899240"/>
                  <a:ext cx="2599920" cy="471600"/>
                  <a:chOff x="4886280" y="4899240"/>
                  <a:chExt cx="2599920" cy="4716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5234400" y="5019840"/>
                    <a:ext cx="0" cy="253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886280" y="5008680"/>
                    <a:ext cx="351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5410440" y="4914720"/>
                    <a:ext cx="20757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RU-1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5408640" y="5155200"/>
                    <a:ext cx="15958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Jeep        RU-P17 or US-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5" name=""/>
                  <p:cNvGrpSpPr/>
                  <p:nvPr/>
                </p:nvGrpSpPr>
                <p:grpSpPr>
                  <a:xfrm>
                    <a:off x="5183640" y="4899240"/>
                    <a:ext cx="237600" cy="169920"/>
                    <a:chOff x="5183640" y="4899240"/>
                    <a:chExt cx="237600" cy="169920"/>
                  </a:xfrm>
                </p:grpSpPr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5183640" y="4929120"/>
                      <a:ext cx="237600" cy="14004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5291280" y="4899240"/>
                      <a:ext cx="26640" cy="24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183640" y="5132160"/>
                    <a:ext cx="231120" cy="199800"/>
                    <a:chOff x="5183640" y="5132160"/>
                    <a:chExt cx="231120" cy="19980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5284800" y="5132160"/>
                      <a:ext cx="26640" cy="24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50" name=""/>
                    <p:cNvGrpSpPr/>
                    <p:nvPr/>
                  </p:nvGrpSpPr>
                  <p:grpSpPr>
                    <a:xfrm>
                      <a:off x="5183640" y="5161680"/>
                      <a:ext cx="231120" cy="170280"/>
                      <a:chOff x="5183640" y="5161680"/>
                      <a:chExt cx="231120" cy="170280"/>
                    </a:xfrm>
                  </p:grpSpPr>
                  <p:sp>
                    <p:nvSpPr>
                      <p:cNvPr id="951" name=""/>
                      <p:cNvSpPr/>
                      <p:nvPr/>
                    </p:nvSpPr>
                    <p:spPr>
                      <a:xfrm>
                        <a:off x="5183640" y="5161680"/>
                        <a:ext cx="231120" cy="14040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2" name=""/>
                      <p:cNvSpPr/>
                      <p:nvPr/>
                    </p:nvSpPr>
                    <p:spPr>
                      <a:xfrm>
                        <a:off x="5194440" y="5307840"/>
                        <a:ext cx="26640" cy="241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3" name=""/>
                      <p:cNvSpPr/>
                      <p:nvPr/>
                    </p:nvSpPr>
                    <p:spPr>
                      <a:xfrm>
                        <a:off x="5375160" y="5307840"/>
                        <a:ext cx="28080" cy="241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54" name=""/>
                  <p:cNvSpPr/>
                  <p:nvPr/>
                </p:nvSpPr>
                <p:spPr>
                  <a:xfrm>
                    <a:off x="5616000" y="5023080"/>
                    <a:ext cx="6318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5" name=""/>
              <p:cNvGrpSpPr/>
              <p:nvPr/>
            </p:nvGrpSpPr>
            <p:grpSpPr>
              <a:xfrm>
                <a:off x="4870440" y="5856120"/>
                <a:ext cx="3112560" cy="246600"/>
                <a:chOff x="4870440" y="5856120"/>
                <a:chExt cx="3112560" cy="2466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4870440" y="5994000"/>
                  <a:ext cx="321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7" name=""/>
                <p:cNvGrpSpPr/>
                <p:nvPr/>
              </p:nvGrpSpPr>
              <p:grpSpPr>
                <a:xfrm>
                  <a:off x="5115600" y="5856120"/>
                  <a:ext cx="282960" cy="222840"/>
                  <a:chOff x="5115600" y="5856120"/>
                  <a:chExt cx="282960" cy="222840"/>
                </a:xfrm>
              </p:grpSpPr>
              <p:grpSp>
                <p:nvGrpSpPr>
                  <p:cNvPr id="958" name=""/>
                  <p:cNvGrpSpPr/>
                  <p:nvPr/>
                </p:nvGrpSpPr>
                <p:grpSpPr>
                  <a:xfrm>
                    <a:off x="5115600" y="5905800"/>
                    <a:ext cx="282960" cy="173160"/>
                    <a:chOff x="5115600" y="5905800"/>
                    <a:chExt cx="282960" cy="173160"/>
                  </a:xfrm>
                </p:grpSpPr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5115600" y="5905800"/>
                      <a:ext cx="282960" cy="1731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 flipV="1">
                      <a:off x="5115600" y="5908680"/>
                      <a:ext cx="139320" cy="168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5254920" y="5905800"/>
                      <a:ext cx="139680" cy="169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5189040" y="5993280"/>
                      <a:ext cx="1396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3" name=""/>
                  <p:cNvSpPr/>
                  <p:nvPr/>
                </p:nvSpPr>
                <p:spPr>
                  <a:xfrm>
                    <a:off x="5256360" y="5856120"/>
                    <a:ext cx="0" cy="56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4" name=""/>
                <p:cNvSpPr/>
                <p:nvPr/>
              </p:nvSpPr>
              <p:spPr>
                <a:xfrm>
                  <a:off x="5527440" y="5887080"/>
                  <a:ext cx="2455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Antiaircraft Machine Gun Platoon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4681440" y="4322880"/>
                <a:ext cx="374400" cy="333000"/>
                <a:chOff x="4681440" y="4322880"/>
                <a:chExt cx="374400" cy="33300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4817880" y="4322880"/>
                  <a:ext cx="74520" cy="57240"/>
                  <a:chOff x="4817880" y="4322880"/>
                  <a:chExt cx="74520" cy="572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4817880" y="4322880"/>
                    <a:ext cx="0" cy="572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4892400" y="4322880"/>
                    <a:ext cx="0" cy="572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4681440" y="4413240"/>
                  <a:ext cx="374400" cy="242640"/>
                  <a:chOff x="4681440" y="4413240"/>
                  <a:chExt cx="374400" cy="24264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>
                    <a:off x="4681440" y="4413240"/>
                    <a:ext cx="374400" cy="24264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flipV="1">
                    <a:off x="4681440" y="4417920"/>
                    <a:ext cx="184320" cy="235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4865760" y="4413240"/>
                    <a:ext cx="184680" cy="23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4778280" y="4535640"/>
                    <a:ext cx="1846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74" name=""/>
            <p:cNvSpPr/>
            <p:nvPr/>
          </p:nvSpPr>
          <p:spPr>
            <a:xfrm>
              <a:off x="4854600" y="4645080"/>
              <a:ext cx="7920" cy="135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"/>
          <p:cNvGrpSpPr/>
          <p:nvPr/>
        </p:nvGrpSpPr>
        <p:grpSpPr>
          <a:xfrm>
            <a:off x="325440" y="279360"/>
            <a:ext cx="3289320" cy="3442680"/>
            <a:chOff x="325440" y="279360"/>
            <a:chExt cx="3289320" cy="3442680"/>
          </a:xfrm>
        </p:grpSpPr>
        <p:sp>
          <p:nvSpPr>
            <p:cNvPr id="976" name=""/>
            <p:cNvSpPr/>
            <p:nvPr/>
          </p:nvSpPr>
          <p:spPr>
            <a:xfrm>
              <a:off x="942840" y="216036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38120" y="633240"/>
              <a:ext cx="0" cy="294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325440" y="279360"/>
              <a:ext cx="3289320" cy="3442680"/>
              <a:chOff x="325440" y="279360"/>
              <a:chExt cx="3289320" cy="344268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434880" y="780840"/>
                <a:ext cx="2606760" cy="1334880"/>
                <a:chOff x="434880" y="780840"/>
                <a:chExt cx="2606760" cy="1334880"/>
              </a:xfrm>
            </p:grpSpPr>
            <p:grpSp>
              <p:nvGrpSpPr>
                <p:cNvPr id="980" name=""/>
                <p:cNvGrpSpPr/>
                <p:nvPr/>
              </p:nvGrpSpPr>
              <p:grpSpPr>
                <a:xfrm>
                  <a:off x="439560" y="1615680"/>
                  <a:ext cx="2573280" cy="500040"/>
                  <a:chOff x="439560" y="1615680"/>
                  <a:chExt cx="2573280" cy="500040"/>
                </a:xfrm>
              </p:grpSpPr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696600" y="1749240"/>
                    <a:ext cx="2254320" cy="366480"/>
                    <a:chOff x="696600" y="1749240"/>
                    <a:chExt cx="2254320" cy="36648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741240" y="1749240"/>
                      <a:ext cx="1440" cy="282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933120" y="1900080"/>
                      <a:ext cx="20178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cycle w/sidecar           RU-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933120" y="1760400"/>
                      <a:ext cx="66708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85" name=""/>
                    <p:cNvGrpSpPr/>
                    <p:nvPr/>
                  </p:nvGrpSpPr>
                  <p:grpSpPr>
                    <a:xfrm>
                      <a:off x="696600" y="1875960"/>
                      <a:ext cx="231480" cy="225360"/>
                      <a:chOff x="696600" y="1875960"/>
                      <a:chExt cx="231480" cy="225360"/>
                    </a:xfrm>
                  </p:grpSpPr>
                  <p:grpSp>
                    <p:nvGrpSpPr>
                      <p:cNvPr id="986" name=""/>
                      <p:cNvGrpSpPr/>
                      <p:nvPr/>
                    </p:nvGrpSpPr>
                    <p:grpSpPr>
                      <a:xfrm>
                        <a:off x="776160" y="1875960"/>
                        <a:ext cx="74520" cy="28800"/>
                        <a:chOff x="776160" y="1875960"/>
                        <a:chExt cx="74520" cy="28800"/>
                      </a:xfrm>
                    </p:grpSpPr>
                    <p:sp>
                      <p:nvSpPr>
                        <p:cNvPr id="987" name=""/>
                        <p:cNvSpPr/>
                        <p:nvPr/>
                      </p:nvSpPr>
                      <p:spPr>
                        <a:xfrm>
                          <a:off x="776160" y="187596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88" name=""/>
                        <p:cNvSpPr/>
                        <p:nvPr/>
                      </p:nvSpPr>
                      <p:spPr>
                        <a:xfrm>
                          <a:off x="823680" y="187776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89" name=""/>
                      <p:cNvGrpSpPr/>
                      <p:nvPr/>
                    </p:nvGrpSpPr>
                    <p:grpSpPr>
                      <a:xfrm>
                        <a:off x="696600" y="1910880"/>
                        <a:ext cx="231480" cy="190440"/>
                        <a:chOff x="696600" y="1910880"/>
                        <a:chExt cx="231480" cy="190440"/>
                      </a:xfrm>
                    </p:grpSpPr>
                    <p:sp>
                      <p:nvSpPr>
                        <p:cNvPr id="990" name=""/>
                        <p:cNvSpPr/>
                        <p:nvPr/>
                      </p:nvSpPr>
                      <p:spPr>
                        <a:xfrm>
                          <a:off x="696600" y="1910880"/>
                          <a:ext cx="231480" cy="157320"/>
                        </a:xfrm>
                        <a:prstGeom prst="rect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1" name=""/>
                        <p:cNvSpPr/>
                        <p:nvPr/>
                      </p:nvSpPr>
                      <p:spPr>
                        <a:xfrm>
                          <a:off x="798120" y="207432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66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439560" y="1615680"/>
                    <a:ext cx="2573280" cy="230040"/>
                    <a:chOff x="439560" y="1615680"/>
                    <a:chExt cx="2573280" cy="23004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439560" y="1739520"/>
                      <a:ext cx="352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931680" y="1630080"/>
                      <a:ext cx="208116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pers                               RU-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95" name=""/>
                    <p:cNvGrpSpPr/>
                    <p:nvPr/>
                  </p:nvGrpSpPr>
                  <p:grpSpPr>
                    <a:xfrm>
                      <a:off x="695160" y="1615680"/>
                      <a:ext cx="231840" cy="195480"/>
                      <a:chOff x="695160" y="1615680"/>
                      <a:chExt cx="231840" cy="195480"/>
                    </a:xfrm>
                  </p:grpSpPr>
                  <p:grpSp>
                    <p:nvGrpSpPr>
                      <p:cNvPr id="996" name=""/>
                      <p:cNvGrpSpPr/>
                      <p:nvPr/>
                    </p:nvGrpSpPr>
                    <p:grpSpPr>
                      <a:xfrm>
                        <a:off x="774720" y="1615680"/>
                        <a:ext cx="74520" cy="28800"/>
                        <a:chOff x="774720" y="1615680"/>
                        <a:chExt cx="74520" cy="28800"/>
                      </a:xfrm>
                    </p:grpSpPr>
                    <p:sp>
                      <p:nvSpPr>
                        <p:cNvPr id="997" name=""/>
                        <p:cNvSpPr/>
                        <p:nvPr/>
                      </p:nvSpPr>
                      <p:spPr>
                        <a:xfrm>
                          <a:off x="774720" y="161568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8" name=""/>
                        <p:cNvSpPr/>
                        <p:nvPr/>
                      </p:nvSpPr>
                      <p:spPr>
                        <a:xfrm>
                          <a:off x="822240" y="161748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99" name=""/>
                      <p:cNvGrpSpPr/>
                      <p:nvPr/>
                    </p:nvGrpSpPr>
                    <p:grpSpPr>
                      <a:xfrm>
                        <a:off x="695160" y="1653840"/>
                        <a:ext cx="231840" cy="157320"/>
                        <a:chOff x="695160" y="1653840"/>
                        <a:chExt cx="231840" cy="157320"/>
                      </a:xfrm>
                    </p:grpSpPr>
                    <p:sp>
                      <p:nvSpPr>
                        <p:cNvPr id="1000" name=""/>
                        <p:cNvSpPr/>
                        <p:nvPr/>
                      </p:nvSpPr>
                      <p:spPr>
                        <a:xfrm>
                          <a:off x="695160" y="1653840"/>
                          <a:ext cx="231840" cy="157320"/>
                        </a:xfrm>
                        <a:prstGeom prst="rect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1" name=""/>
                        <p:cNvSpPr/>
                        <p:nvPr/>
                      </p:nvSpPr>
                      <p:spPr>
                        <a:xfrm>
                          <a:off x="766440" y="1701360"/>
                          <a:ext cx="0" cy="5004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" bIns="3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2" name=""/>
                        <p:cNvSpPr/>
                        <p:nvPr/>
                      </p:nvSpPr>
                      <p:spPr>
                        <a:xfrm>
                          <a:off x="807840" y="1703520"/>
                          <a:ext cx="0" cy="4752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>
                          <a:off x="848520" y="1704960"/>
                          <a:ext cx="0" cy="4644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>
                          <a:off x="761760" y="1703520"/>
                          <a:ext cx="93600" cy="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005" name=""/>
                <p:cNvGrpSpPr/>
                <p:nvPr/>
              </p:nvGrpSpPr>
              <p:grpSpPr>
                <a:xfrm>
                  <a:off x="434880" y="780840"/>
                  <a:ext cx="2606760" cy="791640"/>
                  <a:chOff x="434880" y="780840"/>
                  <a:chExt cx="2606760" cy="791640"/>
                </a:xfrm>
              </p:grpSpPr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704520" y="1206360"/>
                    <a:ext cx="2254320" cy="366120"/>
                    <a:chOff x="704520" y="1206360"/>
                    <a:chExt cx="2254320" cy="36612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755640" y="1206360"/>
                      <a:ext cx="0" cy="282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947520" y="1356840"/>
                      <a:ext cx="201132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cycle w/sidecar           RU-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947520" y="1217160"/>
                      <a:ext cx="6336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10" name=""/>
                    <p:cNvGrpSpPr/>
                    <p:nvPr/>
                  </p:nvGrpSpPr>
                  <p:grpSpPr>
                    <a:xfrm>
                      <a:off x="704520" y="1331640"/>
                      <a:ext cx="231840" cy="236520"/>
                      <a:chOff x="704520" y="1331640"/>
                      <a:chExt cx="231840" cy="236520"/>
                    </a:xfrm>
                  </p:grpSpPr>
                  <p:sp>
                    <p:nvSpPr>
                      <p:cNvPr id="1011" name=""/>
                      <p:cNvSpPr/>
                      <p:nvPr/>
                    </p:nvSpPr>
                    <p:spPr>
                      <a:xfrm>
                        <a:off x="806400" y="133164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12" name=""/>
                      <p:cNvGrpSpPr/>
                      <p:nvPr/>
                    </p:nvGrpSpPr>
                    <p:grpSpPr>
                      <a:xfrm>
                        <a:off x="704520" y="1377720"/>
                        <a:ext cx="231840" cy="190440"/>
                        <a:chOff x="704520" y="1377720"/>
                        <a:chExt cx="231840" cy="190440"/>
                      </a:xfrm>
                    </p:grpSpPr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>
                          <a:off x="704520" y="1377720"/>
                          <a:ext cx="231840" cy="157320"/>
                        </a:xfrm>
                        <a:prstGeom prst="rect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4" name=""/>
                        <p:cNvSpPr/>
                        <p:nvPr/>
                      </p:nvSpPr>
                      <p:spPr>
                        <a:xfrm>
                          <a:off x="806400" y="154116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66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015" name=""/>
                  <p:cNvSpPr/>
                  <p:nvPr/>
                </p:nvSpPr>
                <p:spPr>
                  <a:xfrm>
                    <a:off x="947520" y="780840"/>
                    <a:ext cx="17542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HEADQUARTERS ELE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434880" y="937800"/>
                    <a:ext cx="2606760" cy="360360"/>
                    <a:chOff x="434880" y="937800"/>
                    <a:chExt cx="2606760" cy="36036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961920" y="937800"/>
                      <a:ext cx="83808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434880" y="1187280"/>
                      <a:ext cx="352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960480" y="1082520"/>
                      <a:ext cx="208116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er                        RU-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20" name=""/>
                    <p:cNvGrpSpPr/>
                    <p:nvPr/>
                  </p:nvGrpSpPr>
                  <p:grpSpPr>
                    <a:xfrm>
                      <a:off x="693720" y="1064880"/>
                      <a:ext cx="237960" cy="190440"/>
                      <a:chOff x="693720" y="1064880"/>
                      <a:chExt cx="237960" cy="190440"/>
                    </a:xfrm>
                  </p:grpSpPr>
                  <p:sp>
                    <p:nvSpPr>
                      <p:cNvPr id="1021" name=""/>
                      <p:cNvSpPr/>
                      <p:nvPr/>
                    </p:nvSpPr>
                    <p:spPr>
                      <a:xfrm>
                        <a:off x="693720" y="1098360"/>
                        <a:ext cx="23796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anchorCtr="1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HQ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2" name=""/>
                      <p:cNvSpPr/>
                      <p:nvPr/>
                    </p:nvSpPr>
                    <p:spPr>
                      <a:xfrm>
                        <a:off x="801360" y="10648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23" name=""/>
              <p:cNvGrpSpPr/>
              <p:nvPr/>
            </p:nvGrpSpPr>
            <p:grpSpPr>
              <a:xfrm>
                <a:off x="444600" y="2352600"/>
                <a:ext cx="2651040" cy="344160"/>
                <a:chOff x="444600" y="2352600"/>
                <a:chExt cx="2651040" cy="34416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444600" y="2511360"/>
                  <a:ext cx="357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52560" y="2357280"/>
                  <a:ext cx="1735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952560" y="2481120"/>
                  <a:ext cx="214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Motorcycle Company  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2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7" name=""/>
                <p:cNvGrpSpPr/>
                <p:nvPr/>
              </p:nvGrpSpPr>
              <p:grpSpPr>
                <a:xfrm>
                  <a:off x="652680" y="2352600"/>
                  <a:ext cx="284040" cy="299520"/>
                  <a:chOff x="652680" y="2352600"/>
                  <a:chExt cx="284040" cy="299520"/>
                </a:xfrm>
              </p:grpSpPr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652680" y="2418840"/>
                    <a:ext cx="284040" cy="233280"/>
                    <a:chOff x="652680" y="2418840"/>
                    <a:chExt cx="284040" cy="23328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652680" y="2419200"/>
                      <a:ext cx="284040" cy="1918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flipV="1">
                      <a:off x="652680" y="2418840"/>
                      <a:ext cx="282600" cy="190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776520" y="26190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66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795600" y="2352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3" name=""/>
              <p:cNvGrpSpPr/>
              <p:nvPr/>
            </p:nvGrpSpPr>
            <p:grpSpPr>
              <a:xfrm>
                <a:off x="455760" y="3246120"/>
                <a:ext cx="2651040" cy="475920"/>
                <a:chOff x="455760" y="3246120"/>
                <a:chExt cx="2651040" cy="47592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959040" y="3246120"/>
                  <a:ext cx="175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IRE SUPPORT ELEMENT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5" name=""/>
                <p:cNvGrpSpPr/>
                <p:nvPr/>
              </p:nvGrpSpPr>
              <p:grpSpPr>
                <a:xfrm>
                  <a:off x="455760" y="3382560"/>
                  <a:ext cx="2651040" cy="339480"/>
                  <a:chOff x="455760" y="3382560"/>
                  <a:chExt cx="2651040" cy="33948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>
                    <a:off x="455760" y="3576240"/>
                    <a:ext cx="357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963720" y="3382560"/>
                    <a:ext cx="6843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FS-08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963720" y="3506400"/>
                    <a:ext cx="21430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Mortar Platoon (Mtz)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9" name=""/>
                  <p:cNvGrpSpPr/>
                  <p:nvPr/>
                </p:nvGrpSpPr>
                <p:grpSpPr>
                  <a:xfrm>
                    <a:off x="659160" y="3412800"/>
                    <a:ext cx="284040" cy="284040"/>
                    <a:chOff x="659160" y="3412800"/>
                    <a:chExt cx="284040" cy="284040"/>
                  </a:xfrm>
                </p:grpSpPr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659160" y="3463560"/>
                      <a:ext cx="284040" cy="19224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784440" y="3663720"/>
                      <a:ext cx="31680" cy="331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66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42" name=""/>
                    <p:cNvGrpSpPr/>
                    <p:nvPr/>
                  </p:nvGrpSpPr>
                  <p:grpSpPr>
                    <a:xfrm>
                      <a:off x="760680" y="3492360"/>
                      <a:ext cx="82080" cy="134280"/>
                      <a:chOff x="760680" y="3492360"/>
                      <a:chExt cx="82080" cy="134280"/>
                    </a:xfrm>
                  </p:grpSpPr>
                  <p:sp>
                    <p:nvSpPr>
                      <p:cNvPr id="1043" name=""/>
                      <p:cNvSpPr/>
                      <p:nvPr/>
                    </p:nvSpPr>
                    <p:spPr>
                      <a:xfrm>
                        <a:off x="800640" y="3492360"/>
                        <a:ext cx="0" cy="13428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4" name=""/>
                      <p:cNvSpPr/>
                      <p:nvPr/>
                    </p:nvSpPr>
                    <p:spPr>
                      <a:xfrm>
                        <a:off x="760680" y="3618720"/>
                        <a:ext cx="8208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5" name=""/>
                    <p:cNvGrpSpPr/>
                    <p:nvPr/>
                  </p:nvGrpSpPr>
                  <p:grpSpPr>
                    <a:xfrm>
                      <a:off x="735120" y="3412800"/>
                      <a:ext cx="131760" cy="27000"/>
                      <a:chOff x="735120" y="3412800"/>
                      <a:chExt cx="131760" cy="27000"/>
                    </a:xfrm>
                  </p:grpSpPr>
                  <p:sp>
                    <p:nvSpPr>
                      <p:cNvPr id="1046" name=""/>
                      <p:cNvSpPr/>
                      <p:nvPr/>
                    </p:nvSpPr>
                    <p:spPr>
                      <a:xfrm>
                        <a:off x="735120" y="341280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7" name=""/>
                      <p:cNvSpPr/>
                      <p:nvPr/>
                    </p:nvSpPr>
                    <p:spPr>
                      <a:xfrm>
                        <a:off x="785880" y="34128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8" name=""/>
                      <p:cNvSpPr/>
                      <p:nvPr/>
                    </p:nvSpPr>
                    <p:spPr>
                      <a:xfrm>
                        <a:off x="839880" y="341280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049" name=""/>
              <p:cNvSpPr/>
              <p:nvPr/>
            </p:nvSpPr>
            <p:spPr>
              <a:xfrm>
                <a:off x="950400" y="279360"/>
                <a:ext cx="1363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9900"/>
                    </a:solidFill>
                    <a:latin typeface="Arial"/>
                  </a:rPr>
                  <a:t>BATTLE GROUP-3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947880" y="495000"/>
                <a:ext cx="200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otorcycle Battalion May 194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25440" y="371160"/>
                <a:ext cx="347400" cy="356760"/>
                <a:chOff x="325440" y="371160"/>
                <a:chExt cx="347400" cy="35676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325440" y="442440"/>
                  <a:ext cx="347400" cy="285480"/>
                  <a:chOff x="325440" y="442440"/>
                  <a:chExt cx="347400" cy="2854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>
                    <a:off x="325440" y="442440"/>
                    <a:ext cx="347400" cy="2358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 flipV="1">
                    <a:off x="325440" y="442440"/>
                    <a:ext cx="345240" cy="233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478080" y="687600"/>
                    <a:ext cx="40320" cy="403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460440" y="371160"/>
                  <a:ext cx="75960" cy="63360"/>
                  <a:chOff x="460440" y="371160"/>
                  <a:chExt cx="75960" cy="6336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>
                    <a:off x="460440" y="3711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536400" y="3711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9" name=""/>
              <p:cNvGrpSpPr/>
              <p:nvPr/>
            </p:nvGrpSpPr>
            <p:grpSpPr>
              <a:xfrm>
                <a:off x="426960" y="2844720"/>
                <a:ext cx="3187800" cy="263160"/>
                <a:chOff x="426960" y="2844720"/>
                <a:chExt cx="3187800" cy="263160"/>
              </a:xfrm>
            </p:grpSpPr>
            <p:grpSp>
              <p:nvGrpSpPr>
                <p:cNvPr id="1060" name=""/>
                <p:cNvGrpSpPr/>
                <p:nvPr/>
              </p:nvGrpSpPr>
              <p:grpSpPr>
                <a:xfrm>
                  <a:off x="426960" y="2844720"/>
                  <a:ext cx="549360" cy="257040"/>
                  <a:chOff x="426960" y="2844720"/>
                  <a:chExt cx="549360" cy="2570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426960" y="300960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691920" y="2844720"/>
                    <a:ext cx="284400" cy="257040"/>
                    <a:chOff x="691920" y="2844720"/>
                    <a:chExt cx="284400" cy="257040"/>
                  </a:xfrm>
                </p:grpSpPr>
                <p:grpSp>
                  <p:nvGrpSpPr>
                    <p:cNvPr id="1063" name=""/>
                    <p:cNvGrpSpPr/>
                    <p:nvPr/>
                  </p:nvGrpSpPr>
                  <p:grpSpPr>
                    <a:xfrm>
                      <a:off x="691920" y="2908080"/>
                      <a:ext cx="284400" cy="193680"/>
                      <a:chOff x="691920" y="2908080"/>
                      <a:chExt cx="284400" cy="193680"/>
                    </a:xfrm>
                  </p:grpSpPr>
                  <p:sp>
                    <p:nvSpPr>
                      <p:cNvPr id="1064" name=""/>
                      <p:cNvSpPr/>
                      <p:nvPr/>
                    </p:nvSpPr>
                    <p:spPr>
                      <a:xfrm>
                        <a:off x="691920" y="2908080"/>
                        <a:ext cx="284400" cy="19368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5" name=""/>
                      <p:cNvSpPr/>
                      <p:nvPr/>
                    </p:nvSpPr>
                    <p:spPr>
                      <a:xfrm flipV="1">
                        <a:off x="694800" y="2910960"/>
                        <a:ext cx="276840" cy="18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6" name=""/>
                      <p:cNvSpPr/>
                      <p:nvPr/>
                    </p:nvSpPr>
                    <p:spPr>
                      <a:xfrm>
                        <a:off x="691920" y="2910960"/>
                        <a:ext cx="2829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833400" y="28447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8" name=""/>
                <p:cNvSpPr/>
                <p:nvPr/>
              </p:nvSpPr>
              <p:spPr>
                <a:xfrm>
                  <a:off x="990720" y="2892240"/>
                  <a:ext cx="2624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Rifle Company, Mixed Rifle &amp; SMG (Mtz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2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9" name=""/>
          <p:cNvSpPr/>
          <p:nvPr/>
        </p:nvSpPr>
        <p:spPr>
          <a:xfrm flipV="1">
            <a:off x="371520" y="4204800"/>
            <a:ext cx="345960" cy="23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06520" y="41338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61800" y="4041720"/>
            <a:ext cx="2978280" cy="1673280"/>
            <a:chOff x="361800" y="4041720"/>
            <a:chExt cx="2978280" cy="1673280"/>
          </a:xfrm>
        </p:grpSpPr>
        <p:sp>
          <p:nvSpPr>
            <p:cNvPr id="1072" name=""/>
            <p:cNvSpPr/>
            <p:nvPr/>
          </p:nvSpPr>
          <p:spPr>
            <a:xfrm flipH="1">
              <a:off x="474840" y="4395960"/>
              <a:ext cx="9360" cy="111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480960" y="4543560"/>
              <a:ext cx="2606760" cy="517320"/>
              <a:chOff x="480960" y="4543560"/>
              <a:chExt cx="2606760" cy="517320"/>
            </a:xfrm>
          </p:grpSpPr>
          <p:sp>
            <p:nvSpPr>
              <p:cNvPr id="1074" name=""/>
              <p:cNvSpPr/>
              <p:nvPr/>
            </p:nvSpPr>
            <p:spPr>
              <a:xfrm>
                <a:off x="993600" y="454356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5" name=""/>
              <p:cNvGrpSpPr/>
              <p:nvPr/>
            </p:nvGrpSpPr>
            <p:grpSpPr>
              <a:xfrm>
                <a:off x="480960" y="4700520"/>
                <a:ext cx="2606760" cy="360360"/>
                <a:chOff x="480960" y="4700520"/>
                <a:chExt cx="2606760" cy="36036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1008000" y="4700520"/>
                  <a:ext cx="838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80960" y="495000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006560" y="48452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-20                        RU-P0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739800" y="4827600"/>
                  <a:ext cx="237960" cy="190440"/>
                  <a:chOff x="739800" y="4827600"/>
                  <a:chExt cx="237960" cy="19044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739800" y="4861080"/>
                    <a:ext cx="23796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847440" y="48276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82" name=""/>
            <p:cNvGrpSpPr/>
            <p:nvPr/>
          </p:nvGrpSpPr>
          <p:grpSpPr>
            <a:xfrm>
              <a:off x="361800" y="4041720"/>
              <a:ext cx="2633760" cy="470880"/>
              <a:chOff x="361800" y="4041720"/>
              <a:chExt cx="2633760" cy="470880"/>
            </a:xfrm>
          </p:grpSpPr>
          <p:sp>
            <p:nvSpPr>
              <p:cNvPr id="1083" name=""/>
              <p:cNvSpPr/>
              <p:nvPr/>
            </p:nvSpPr>
            <p:spPr>
              <a:xfrm>
                <a:off x="996120" y="4041720"/>
                <a:ext cx="1363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9900"/>
                    </a:solidFill>
                    <a:latin typeface="Arial"/>
                  </a:rPr>
                  <a:t>BATTLE GROUP-3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993600" y="4257720"/>
                <a:ext cx="2001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rmored Car Battalion May 194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5" name=""/>
              <p:cNvGrpSpPr/>
              <p:nvPr/>
            </p:nvGrpSpPr>
            <p:grpSpPr>
              <a:xfrm>
                <a:off x="361800" y="4133880"/>
                <a:ext cx="357120" cy="378720"/>
                <a:chOff x="361800" y="4133880"/>
                <a:chExt cx="357120" cy="37872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582480" y="4133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7" name=""/>
                <p:cNvGrpSpPr/>
                <p:nvPr/>
              </p:nvGrpSpPr>
              <p:grpSpPr>
                <a:xfrm>
                  <a:off x="361800" y="4219560"/>
                  <a:ext cx="357120" cy="293040"/>
                  <a:chOff x="361800" y="4219560"/>
                  <a:chExt cx="357120" cy="29304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361800" y="4219560"/>
                    <a:ext cx="357120" cy="2422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78360" y="4470840"/>
                    <a:ext cx="41760" cy="4176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658440" y="4470840"/>
                    <a:ext cx="42120" cy="4176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412920" y="4283640"/>
                    <a:ext cx="249120" cy="11556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flipV="1">
                    <a:off x="365400" y="4219560"/>
                    <a:ext cx="351360" cy="234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93" name=""/>
            <p:cNvGrpSpPr/>
            <p:nvPr/>
          </p:nvGrpSpPr>
          <p:grpSpPr>
            <a:xfrm>
              <a:off x="476280" y="5094360"/>
              <a:ext cx="2863800" cy="620640"/>
              <a:chOff x="476280" y="5094360"/>
              <a:chExt cx="2863800" cy="620640"/>
            </a:xfrm>
          </p:grpSpPr>
          <p:sp>
            <p:nvSpPr>
              <p:cNvPr id="1094" name=""/>
              <p:cNvSpPr/>
              <p:nvPr/>
            </p:nvSpPr>
            <p:spPr>
              <a:xfrm>
                <a:off x="1119240" y="5330880"/>
                <a:ext cx="22208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69900"/>
                    </a:solidFill>
                    <a:latin typeface="Arial"/>
                  </a:rPr>
                  <a:t>ME-3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 Armored Car Company (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5" name=""/>
              <p:cNvGrpSpPr/>
              <p:nvPr/>
            </p:nvGrpSpPr>
            <p:grpSpPr>
              <a:xfrm>
                <a:off x="712800" y="5364000"/>
                <a:ext cx="284040" cy="288720"/>
                <a:chOff x="712800" y="5364000"/>
                <a:chExt cx="284040" cy="288720"/>
              </a:xfrm>
            </p:grpSpPr>
            <p:grpSp>
              <p:nvGrpSpPr>
                <p:cNvPr id="1096" name=""/>
                <p:cNvGrpSpPr/>
                <p:nvPr/>
              </p:nvGrpSpPr>
              <p:grpSpPr>
                <a:xfrm>
                  <a:off x="712800" y="5419080"/>
                  <a:ext cx="284040" cy="233640"/>
                  <a:chOff x="712800" y="5419080"/>
                  <a:chExt cx="284040" cy="233640"/>
                </a:xfrm>
              </p:grpSpPr>
              <p:sp>
                <p:nvSpPr>
                  <p:cNvPr id="1097" name=""/>
                  <p:cNvSpPr/>
                  <p:nvPr/>
                </p:nvSpPr>
                <p:spPr>
                  <a:xfrm>
                    <a:off x="712800" y="5419440"/>
                    <a:ext cx="284040" cy="192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725760" y="5619600"/>
                    <a:ext cx="33120" cy="331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948600" y="5619600"/>
                    <a:ext cx="33480" cy="331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753120" y="5470200"/>
                    <a:ext cx="198000" cy="918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V="1">
                    <a:off x="715680" y="5419080"/>
                    <a:ext cx="279360" cy="1868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2" name=""/>
                <p:cNvSpPr/>
                <p:nvPr/>
              </p:nvSpPr>
              <p:spPr>
                <a:xfrm>
                  <a:off x="853920" y="53640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3" name=""/>
              <p:cNvSpPr/>
              <p:nvPr/>
            </p:nvSpPr>
            <p:spPr>
              <a:xfrm>
                <a:off x="1160640" y="5094360"/>
                <a:ext cx="1753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ANEUVER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6280" y="552456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5" name=""/>
          <p:cNvSpPr/>
          <p:nvPr/>
        </p:nvSpPr>
        <p:spPr>
          <a:xfrm>
            <a:off x="407880" y="5811840"/>
            <a:ext cx="363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April 1943 replace ME-32 with ME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5003640" y="262080"/>
            <a:ext cx="3205080" cy="1877760"/>
            <a:chOff x="5003640" y="262080"/>
            <a:chExt cx="3205080" cy="1877760"/>
          </a:xfrm>
        </p:grpSpPr>
        <p:grpSp>
          <p:nvGrpSpPr>
            <p:cNvPr id="1107" name=""/>
            <p:cNvGrpSpPr/>
            <p:nvPr/>
          </p:nvGrpSpPr>
          <p:grpSpPr>
            <a:xfrm>
              <a:off x="5165640" y="679680"/>
              <a:ext cx="2625480" cy="536400"/>
              <a:chOff x="5165640" y="679680"/>
              <a:chExt cx="2625480" cy="536400"/>
            </a:xfrm>
          </p:grpSpPr>
          <p:sp>
            <p:nvSpPr>
              <p:cNvPr id="1108" name=""/>
              <p:cNvSpPr/>
              <p:nvPr/>
            </p:nvSpPr>
            <p:spPr>
              <a:xfrm>
                <a:off x="5709960" y="10004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RU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5165640" y="679680"/>
                <a:ext cx="2028600" cy="474480"/>
                <a:chOff x="5165640" y="679680"/>
                <a:chExt cx="2028600" cy="47448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5439960" y="679680"/>
                  <a:ext cx="175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HEADQUARTERS ELE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5692680" y="836640"/>
                  <a:ext cx="838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5165640" y="108612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3" name=""/>
                <p:cNvGrpSpPr/>
                <p:nvPr/>
              </p:nvGrpSpPr>
              <p:grpSpPr>
                <a:xfrm>
                  <a:off x="5464080" y="963720"/>
                  <a:ext cx="237960" cy="190440"/>
                  <a:chOff x="5464080" y="963720"/>
                  <a:chExt cx="237960" cy="19044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5464080" y="997200"/>
                    <a:ext cx="23796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5571720" y="9637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16" name=""/>
            <p:cNvSpPr/>
            <p:nvPr/>
          </p:nvSpPr>
          <p:spPr>
            <a:xfrm>
              <a:off x="5178240" y="828720"/>
              <a:ext cx="936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5187600" y="1297080"/>
              <a:ext cx="2845080" cy="470160"/>
              <a:chOff x="5187600" y="1297080"/>
              <a:chExt cx="2845080" cy="47016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5187600" y="1503720"/>
                <a:ext cx="2845080" cy="263520"/>
                <a:chOff x="5187600" y="1503720"/>
                <a:chExt cx="2845080" cy="26352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5532120" y="1503720"/>
                  <a:ext cx="284040" cy="263520"/>
                  <a:chOff x="5532120" y="1503720"/>
                  <a:chExt cx="284040" cy="26352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5673240" y="15037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5532120" y="1573560"/>
                    <a:ext cx="284040" cy="193680"/>
                    <a:chOff x="5532120" y="1573560"/>
                    <a:chExt cx="284040" cy="193680"/>
                  </a:xfrm>
                </p:grpSpPr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5532120" y="1573560"/>
                      <a:ext cx="28404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5619600" y="1631880"/>
                      <a:ext cx="0" cy="6156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>
                      <a:off x="5670360" y="1635120"/>
                      <a:ext cx="0" cy="5868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>
                      <a:off x="5720040" y="1636560"/>
                      <a:ext cx="0" cy="5724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>
                      <a:off x="5613480" y="1635120"/>
                      <a:ext cx="11484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27" name=""/>
                <p:cNvSpPr/>
                <p:nvPr/>
              </p:nvSpPr>
              <p:spPr>
                <a:xfrm>
                  <a:off x="5187600" y="167832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5951160" y="1541520"/>
                  <a:ext cx="2081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Engineer-Sapper Co. (a)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1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9" name=""/>
              <p:cNvSpPr/>
              <p:nvPr/>
            </p:nvSpPr>
            <p:spPr>
              <a:xfrm>
                <a:off x="5433840" y="129708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ANEUVER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5003640" y="608040"/>
              <a:ext cx="347040" cy="280800"/>
              <a:chOff x="5003640" y="608040"/>
              <a:chExt cx="347040" cy="280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5141520" y="608040"/>
                <a:ext cx="76320" cy="49320"/>
                <a:chOff x="5141520" y="608040"/>
                <a:chExt cx="76320" cy="493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141520" y="608040"/>
                  <a:ext cx="0" cy="493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217840" y="608040"/>
                  <a:ext cx="0" cy="493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5003640" y="652680"/>
                <a:ext cx="347040" cy="236160"/>
                <a:chOff x="5003640" y="652680"/>
                <a:chExt cx="347040" cy="23616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03640" y="652680"/>
                  <a:ext cx="347040" cy="2361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V="1">
                  <a:off x="5007240" y="65628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003640" y="65628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"/>
            <p:cNvGrpSpPr/>
            <p:nvPr/>
          </p:nvGrpSpPr>
          <p:grpSpPr>
            <a:xfrm>
              <a:off x="5447520" y="262080"/>
              <a:ext cx="2761200" cy="428040"/>
              <a:chOff x="5447520" y="262080"/>
              <a:chExt cx="2761200" cy="428040"/>
            </a:xfrm>
          </p:grpSpPr>
          <p:sp>
            <p:nvSpPr>
              <p:cNvPr id="1139" name=""/>
              <p:cNvSpPr/>
              <p:nvPr/>
            </p:nvSpPr>
            <p:spPr>
              <a:xfrm>
                <a:off x="5447520" y="262080"/>
                <a:ext cx="1363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9900"/>
                    </a:solidFill>
                    <a:latin typeface="Arial"/>
                  </a:rPr>
                  <a:t>BATTLE GROUP-3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483160" y="459000"/>
                <a:ext cx="2725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Engineer-Sapper Battalion Feb. ‘43 – May ‘4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5020920" y="1924200"/>
              <a:ext cx="304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May 1944 increase the number of companies to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4932360" y="2583000"/>
            <a:ext cx="3193920" cy="1768680"/>
            <a:chOff x="4932360" y="2583000"/>
            <a:chExt cx="3193920" cy="1768680"/>
          </a:xfrm>
        </p:grpSpPr>
        <p:sp>
          <p:nvSpPr>
            <p:cNvPr id="1143" name=""/>
            <p:cNvSpPr/>
            <p:nvPr/>
          </p:nvSpPr>
          <p:spPr>
            <a:xfrm>
              <a:off x="4933800" y="2583000"/>
              <a:ext cx="31924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 3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932360" y="2778120"/>
              <a:ext cx="273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Separate) Antitank Battalion May 194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118120" y="3190680"/>
              <a:ext cx="19080" cy="1042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4971960" y="2984400"/>
              <a:ext cx="306000" cy="263880"/>
              <a:chOff x="4971960" y="2984400"/>
              <a:chExt cx="306000" cy="263880"/>
            </a:xfrm>
          </p:grpSpPr>
          <p:grpSp>
            <p:nvGrpSpPr>
              <p:cNvPr id="1147" name=""/>
              <p:cNvGrpSpPr/>
              <p:nvPr/>
            </p:nvGrpSpPr>
            <p:grpSpPr>
              <a:xfrm>
                <a:off x="4971960" y="3046680"/>
                <a:ext cx="306000" cy="201600"/>
                <a:chOff x="4971960" y="3046680"/>
                <a:chExt cx="306000" cy="20160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4971960" y="3046680"/>
                  <a:ext cx="306000" cy="201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V="1">
                  <a:off x="4971960" y="3050280"/>
                  <a:ext cx="151200" cy="19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123160" y="3046680"/>
                  <a:ext cx="150480" cy="19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5072760" y="2984400"/>
                <a:ext cx="75600" cy="56520"/>
                <a:chOff x="5072760" y="2984400"/>
                <a:chExt cx="75600" cy="5652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5072760" y="2984400"/>
                  <a:ext cx="0" cy="56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148360" y="2984400"/>
                  <a:ext cx="0" cy="56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4" name=""/>
            <p:cNvGrpSpPr/>
            <p:nvPr/>
          </p:nvGrpSpPr>
          <p:grpSpPr>
            <a:xfrm>
              <a:off x="5133960" y="4105080"/>
              <a:ext cx="2732760" cy="246600"/>
              <a:chOff x="5133960" y="4105080"/>
              <a:chExt cx="2732760" cy="246600"/>
            </a:xfrm>
          </p:grpSpPr>
          <p:sp>
            <p:nvSpPr>
              <p:cNvPr id="1155" name=""/>
              <p:cNvSpPr/>
              <p:nvPr/>
            </p:nvSpPr>
            <p:spPr>
              <a:xfrm>
                <a:off x="5133960" y="4242960"/>
                <a:ext cx="32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5379120" y="4105080"/>
                <a:ext cx="2487600" cy="246600"/>
                <a:chOff x="5379120" y="4105080"/>
                <a:chExt cx="2487600" cy="246600"/>
              </a:xfrm>
            </p:grpSpPr>
            <p:grpSp>
              <p:nvGrpSpPr>
                <p:cNvPr id="1157" name=""/>
                <p:cNvGrpSpPr/>
                <p:nvPr/>
              </p:nvGrpSpPr>
              <p:grpSpPr>
                <a:xfrm>
                  <a:off x="5379120" y="4105080"/>
                  <a:ext cx="283320" cy="222120"/>
                  <a:chOff x="5379120" y="4105080"/>
                  <a:chExt cx="283320" cy="222120"/>
                </a:xfrm>
              </p:grpSpPr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5379120" y="4154400"/>
                    <a:ext cx="283320" cy="172800"/>
                    <a:chOff x="5379120" y="4154400"/>
                    <a:chExt cx="283320" cy="17280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5379120" y="4154400"/>
                      <a:ext cx="283320" cy="1728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flipV="1">
                      <a:off x="5379120" y="4157640"/>
                      <a:ext cx="139320" cy="167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5518440" y="4154400"/>
                      <a:ext cx="139680" cy="169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5452560" y="4241520"/>
                      <a:ext cx="1396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3" name=""/>
                  <p:cNvSpPr/>
                  <p:nvPr/>
                </p:nvSpPr>
                <p:spPr>
                  <a:xfrm>
                    <a:off x="5519880" y="4105080"/>
                    <a:ext cx="0" cy="56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4" name=""/>
                <p:cNvSpPr/>
                <p:nvPr/>
              </p:nvSpPr>
              <p:spPr>
                <a:xfrm>
                  <a:off x="5790960" y="4136040"/>
                  <a:ext cx="2075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Antitank Battery (a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4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5" name=""/>
            <p:cNvGrpSpPr/>
            <p:nvPr/>
          </p:nvGrpSpPr>
          <p:grpSpPr>
            <a:xfrm>
              <a:off x="5141880" y="3224160"/>
              <a:ext cx="2599920" cy="826920"/>
              <a:chOff x="5141880" y="3224160"/>
              <a:chExt cx="2599920" cy="826920"/>
            </a:xfrm>
          </p:grpSpPr>
          <p:sp>
            <p:nvSpPr>
              <p:cNvPr id="1166" name=""/>
              <p:cNvSpPr/>
              <p:nvPr/>
            </p:nvSpPr>
            <p:spPr>
              <a:xfrm>
                <a:off x="5491800" y="3224160"/>
                <a:ext cx="1749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677200" y="3390480"/>
                <a:ext cx="835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8" name=""/>
              <p:cNvGrpSpPr/>
              <p:nvPr/>
            </p:nvGrpSpPr>
            <p:grpSpPr>
              <a:xfrm>
                <a:off x="5141880" y="3579840"/>
                <a:ext cx="2599920" cy="471240"/>
                <a:chOff x="5141880" y="3579840"/>
                <a:chExt cx="2599920" cy="47124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5490000" y="3700440"/>
                  <a:ext cx="0" cy="252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141880" y="3689280"/>
                  <a:ext cx="35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666040" y="3595320"/>
                  <a:ext cx="2075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RU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664240" y="3835440"/>
                  <a:ext cx="1595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Jeep        RU-P17 or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3" name=""/>
                <p:cNvGrpSpPr/>
                <p:nvPr/>
              </p:nvGrpSpPr>
              <p:grpSpPr>
                <a:xfrm>
                  <a:off x="5439240" y="3579840"/>
                  <a:ext cx="237600" cy="169920"/>
                  <a:chOff x="5439240" y="3579840"/>
                  <a:chExt cx="237600" cy="16992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5439240" y="3609720"/>
                    <a:ext cx="237600" cy="14004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546880" y="3579840"/>
                    <a:ext cx="2664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6" name=""/>
                <p:cNvGrpSpPr/>
                <p:nvPr/>
              </p:nvGrpSpPr>
              <p:grpSpPr>
                <a:xfrm>
                  <a:off x="5439240" y="3812760"/>
                  <a:ext cx="231120" cy="199800"/>
                  <a:chOff x="5439240" y="3812760"/>
                  <a:chExt cx="231120" cy="19980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5540400" y="3812760"/>
                    <a:ext cx="2664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8" name=""/>
                  <p:cNvGrpSpPr/>
                  <p:nvPr/>
                </p:nvGrpSpPr>
                <p:grpSpPr>
                  <a:xfrm>
                    <a:off x="5439240" y="3842280"/>
                    <a:ext cx="231120" cy="170280"/>
                    <a:chOff x="5439240" y="3842280"/>
                    <a:chExt cx="231120" cy="170280"/>
                  </a:xfrm>
                </p:grpSpPr>
                <p:sp>
                  <p:nvSpPr>
                    <p:cNvPr id="1179" name=""/>
                    <p:cNvSpPr/>
                    <p:nvPr/>
                  </p:nvSpPr>
                  <p:spPr>
                    <a:xfrm>
                      <a:off x="5439240" y="3842280"/>
                      <a:ext cx="231120" cy="14004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5450040" y="3988440"/>
                      <a:ext cx="26640" cy="241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5630760" y="3988440"/>
                      <a:ext cx="28080" cy="241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82" name=""/>
                <p:cNvSpPr/>
                <p:nvPr/>
              </p:nvSpPr>
              <p:spPr>
                <a:xfrm>
                  <a:off x="5871600" y="3703320"/>
                  <a:ext cx="631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"/>
          <p:cNvGrpSpPr/>
          <p:nvPr/>
        </p:nvGrpSpPr>
        <p:grpSpPr>
          <a:xfrm>
            <a:off x="5313240" y="906480"/>
            <a:ext cx="2606760" cy="784800"/>
            <a:chOff x="5313240" y="906480"/>
            <a:chExt cx="2606760" cy="784800"/>
          </a:xfrm>
        </p:grpSpPr>
        <p:sp>
          <p:nvSpPr>
            <p:cNvPr id="1184" name=""/>
            <p:cNvSpPr/>
            <p:nvPr/>
          </p:nvSpPr>
          <p:spPr>
            <a:xfrm>
              <a:off x="5792760" y="90648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5313240" y="1063440"/>
              <a:ext cx="2606760" cy="627840"/>
              <a:chOff x="5313240" y="1063440"/>
              <a:chExt cx="2606760" cy="627840"/>
            </a:xfrm>
          </p:grpSpPr>
          <p:grpSp>
            <p:nvGrpSpPr>
              <p:cNvPr id="1186" name=""/>
              <p:cNvGrpSpPr/>
              <p:nvPr/>
            </p:nvGrpSpPr>
            <p:grpSpPr>
              <a:xfrm>
                <a:off x="5611680" y="1325160"/>
                <a:ext cx="1825560" cy="366120"/>
                <a:chOff x="5611680" y="1325160"/>
                <a:chExt cx="1825560" cy="36612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5662440" y="1325160"/>
                  <a:ext cx="0" cy="28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5837040" y="1475640"/>
                  <a:ext cx="16002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Jeep        RU-P17 or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9" name=""/>
                <p:cNvGrpSpPr/>
                <p:nvPr/>
              </p:nvGrpSpPr>
              <p:grpSpPr>
                <a:xfrm>
                  <a:off x="5611680" y="1450080"/>
                  <a:ext cx="231840" cy="223200"/>
                  <a:chOff x="5611680" y="1450080"/>
                  <a:chExt cx="231840" cy="22320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5713200" y="14500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1" name=""/>
                  <p:cNvGrpSpPr/>
                  <p:nvPr/>
                </p:nvGrpSpPr>
                <p:grpSpPr>
                  <a:xfrm>
                    <a:off x="5611680" y="1482840"/>
                    <a:ext cx="231840" cy="190440"/>
                    <a:chOff x="5611680" y="1482840"/>
                    <a:chExt cx="231840" cy="190440"/>
                  </a:xfrm>
                </p:grpSpPr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5611680" y="1482840"/>
                      <a:ext cx="23184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>
                      <a:off x="5622840" y="1646280"/>
                      <a:ext cx="2700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5803920" y="1646280"/>
                      <a:ext cx="2844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95" name=""/>
                <p:cNvSpPr/>
                <p:nvPr/>
              </p:nvSpPr>
              <p:spPr>
                <a:xfrm>
                  <a:off x="5995800" y="1335960"/>
                  <a:ext cx="633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5313240" y="1063440"/>
                <a:ext cx="2606760" cy="359640"/>
                <a:chOff x="5313240" y="1063440"/>
                <a:chExt cx="2606760" cy="35964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5840280" y="1063440"/>
                  <a:ext cx="838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313240" y="131220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838480" y="1207440"/>
                  <a:ext cx="2081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RU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5611680" y="1190160"/>
                  <a:ext cx="237960" cy="189720"/>
                  <a:chOff x="5611680" y="1190160"/>
                  <a:chExt cx="237960" cy="18972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>
                    <a:off x="5611680" y="1223280"/>
                    <a:ext cx="23796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5719320" y="11901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03" name=""/>
          <p:cNvGrpSpPr/>
          <p:nvPr/>
        </p:nvGrpSpPr>
        <p:grpSpPr>
          <a:xfrm>
            <a:off x="5288040" y="1778040"/>
            <a:ext cx="2644560" cy="263160"/>
            <a:chOff x="5288040" y="1778040"/>
            <a:chExt cx="2644560" cy="263160"/>
          </a:xfrm>
        </p:grpSpPr>
        <p:grpSp>
          <p:nvGrpSpPr>
            <p:cNvPr id="1204" name=""/>
            <p:cNvGrpSpPr/>
            <p:nvPr/>
          </p:nvGrpSpPr>
          <p:grpSpPr>
            <a:xfrm>
              <a:off x="5288040" y="1778040"/>
              <a:ext cx="548640" cy="257040"/>
              <a:chOff x="5288040" y="1778040"/>
              <a:chExt cx="548640" cy="257040"/>
            </a:xfrm>
          </p:grpSpPr>
          <p:sp>
            <p:nvSpPr>
              <p:cNvPr id="1205" name=""/>
              <p:cNvSpPr/>
              <p:nvPr/>
            </p:nvSpPr>
            <p:spPr>
              <a:xfrm>
                <a:off x="5288040" y="194292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6" name=""/>
              <p:cNvGrpSpPr/>
              <p:nvPr/>
            </p:nvGrpSpPr>
            <p:grpSpPr>
              <a:xfrm>
                <a:off x="5552640" y="1778040"/>
                <a:ext cx="284040" cy="257040"/>
                <a:chOff x="5552640" y="1778040"/>
                <a:chExt cx="284040" cy="257040"/>
              </a:xfrm>
            </p:grpSpPr>
            <p:grpSp>
              <p:nvGrpSpPr>
                <p:cNvPr id="1207" name=""/>
                <p:cNvGrpSpPr/>
                <p:nvPr/>
              </p:nvGrpSpPr>
              <p:grpSpPr>
                <a:xfrm>
                  <a:off x="5552640" y="1841400"/>
                  <a:ext cx="284040" cy="193680"/>
                  <a:chOff x="5552640" y="1841400"/>
                  <a:chExt cx="284040" cy="193680"/>
                </a:xfrm>
              </p:grpSpPr>
              <p:sp>
                <p:nvSpPr>
                  <p:cNvPr id="1208" name=""/>
                  <p:cNvSpPr/>
                  <p:nvPr/>
                </p:nvSpPr>
                <p:spPr>
                  <a:xfrm>
                    <a:off x="5552640" y="184140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 flipV="1">
                    <a:off x="5555520" y="184428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5552640" y="184428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1" name=""/>
                <p:cNvSpPr/>
                <p:nvPr/>
              </p:nvSpPr>
              <p:spPr>
                <a:xfrm>
                  <a:off x="5693760" y="17780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2" name=""/>
            <p:cNvSpPr/>
            <p:nvPr/>
          </p:nvSpPr>
          <p:spPr>
            <a:xfrm>
              <a:off x="5851440" y="182556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Rifle Company (Mtz) 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5308560" y="2216160"/>
            <a:ext cx="2622240" cy="234720"/>
            <a:chOff x="5308560" y="2216160"/>
            <a:chExt cx="2622240" cy="234720"/>
          </a:xfrm>
        </p:grpSpPr>
        <p:sp>
          <p:nvSpPr>
            <p:cNvPr id="1214" name=""/>
            <p:cNvSpPr/>
            <p:nvPr/>
          </p:nvSpPr>
          <p:spPr>
            <a:xfrm>
              <a:off x="5308560" y="234468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49640" y="223524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titank Rifle                           RU-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5574960" y="2216160"/>
              <a:ext cx="231480" cy="212760"/>
              <a:chOff x="5574960" y="2216160"/>
              <a:chExt cx="231480" cy="212760"/>
            </a:xfrm>
          </p:grpSpPr>
          <p:grpSp>
            <p:nvGrpSpPr>
              <p:cNvPr id="1217" name=""/>
              <p:cNvGrpSpPr/>
              <p:nvPr/>
            </p:nvGrpSpPr>
            <p:grpSpPr>
              <a:xfrm>
                <a:off x="5649840" y="2216160"/>
                <a:ext cx="74520" cy="28080"/>
                <a:chOff x="5649840" y="2216160"/>
                <a:chExt cx="74520" cy="2808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5649840" y="22161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697360" y="22176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5574960" y="2271600"/>
                <a:ext cx="231480" cy="157320"/>
                <a:chOff x="5574960" y="2271600"/>
                <a:chExt cx="231480" cy="1573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5574960" y="2271600"/>
                  <a:ext cx="23148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V="1">
                  <a:off x="5574960" y="2274480"/>
                  <a:ext cx="11412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689080" y="2271600"/>
                  <a:ext cx="114480" cy="154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24" name=""/>
          <p:cNvSpPr/>
          <p:nvPr/>
        </p:nvSpPr>
        <p:spPr>
          <a:xfrm flipH="1">
            <a:off x="5273280" y="1101600"/>
            <a:ext cx="33480" cy="296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5135400" y="816120"/>
            <a:ext cx="347400" cy="295920"/>
            <a:chOff x="5135400" y="816120"/>
            <a:chExt cx="347400" cy="295920"/>
          </a:xfrm>
        </p:grpSpPr>
        <p:grpSp>
          <p:nvGrpSpPr>
            <p:cNvPr id="1226" name=""/>
            <p:cNvGrpSpPr/>
            <p:nvPr/>
          </p:nvGrpSpPr>
          <p:grpSpPr>
            <a:xfrm>
              <a:off x="5270400" y="816120"/>
              <a:ext cx="75960" cy="63360"/>
              <a:chOff x="5270400" y="816120"/>
              <a:chExt cx="75960" cy="63360"/>
            </a:xfrm>
          </p:grpSpPr>
          <p:sp>
            <p:nvSpPr>
              <p:cNvPr id="1227" name=""/>
              <p:cNvSpPr/>
              <p:nvPr/>
            </p:nvSpPr>
            <p:spPr>
              <a:xfrm>
                <a:off x="5270400" y="816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346360" y="816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5135400" y="876240"/>
              <a:ext cx="347400" cy="235800"/>
              <a:chOff x="5135400" y="876240"/>
              <a:chExt cx="347400" cy="235800"/>
            </a:xfrm>
          </p:grpSpPr>
          <p:sp>
            <p:nvSpPr>
              <p:cNvPr id="1230" name=""/>
              <p:cNvSpPr/>
              <p:nvPr/>
            </p:nvSpPr>
            <p:spPr>
              <a:xfrm>
                <a:off x="5135400" y="876240"/>
                <a:ext cx="347400" cy="23580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5139000" y="879480"/>
                <a:ext cx="338760" cy="230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135400" y="879840"/>
                <a:ext cx="345960" cy="225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"/>
          <p:cNvGrpSpPr/>
          <p:nvPr/>
        </p:nvGrpSpPr>
        <p:grpSpPr>
          <a:xfrm>
            <a:off x="5300640" y="3708360"/>
            <a:ext cx="2670120" cy="466560"/>
            <a:chOff x="5300640" y="3708360"/>
            <a:chExt cx="2670120" cy="466560"/>
          </a:xfrm>
        </p:grpSpPr>
        <p:sp>
          <p:nvSpPr>
            <p:cNvPr id="1234" name=""/>
            <p:cNvSpPr/>
            <p:nvPr/>
          </p:nvSpPr>
          <p:spPr>
            <a:xfrm>
              <a:off x="5300640" y="405612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5549760" y="3922560"/>
              <a:ext cx="291960" cy="250560"/>
              <a:chOff x="5549760" y="3922560"/>
              <a:chExt cx="291960" cy="250560"/>
            </a:xfrm>
          </p:grpSpPr>
          <p:sp>
            <p:nvSpPr>
              <p:cNvPr id="1236" name=""/>
              <p:cNvSpPr/>
              <p:nvPr/>
            </p:nvSpPr>
            <p:spPr>
              <a:xfrm>
                <a:off x="5695920" y="39225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7" name=""/>
              <p:cNvGrpSpPr/>
              <p:nvPr/>
            </p:nvGrpSpPr>
            <p:grpSpPr>
              <a:xfrm>
                <a:off x="5549760" y="3983040"/>
                <a:ext cx="291960" cy="190080"/>
                <a:chOff x="5549760" y="3983040"/>
                <a:chExt cx="291960" cy="19008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5549760" y="3983040"/>
                  <a:ext cx="291960" cy="1900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652360" y="4134960"/>
                  <a:ext cx="8280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690880" y="4007520"/>
                  <a:ext cx="0" cy="128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1" name=""/>
            <p:cNvSpPr/>
            <p:nvPr/>
          </p:nvSpPr>
          <p:spPr>
            <a:xfrm>
              <a:off x="5326200" y="3708360"/>
              <a:ext cx="21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89600" y="395928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Mortar Company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FS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5492880" y="249120"/>
            <a:ext cx="3193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ized Rifle Battalion March 1942 – May 19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216400" y="4610160"/>
            <a:ext cx="2765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April 1943 replace ME-26 with 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January 1943 add Submachine Gun 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ctober 1943 add Antitank G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5297400" y="3075120"/>
            <a:ext cx="2622600" cy="523800"/>
            <a:chOff x="5297400" y="3075120"/>
            <a:chExt cx="2622600" cy="523800"/>
          </a:xfrm>
        </p:grpSpPr>
        <p:grpSp>
          <p:nvGrpSpPr>
            <p:cNvPr id="1246" name=""/>
            <p:cNvGrpSpPr/>
            <p:nvPr/>
          </p:nvGrpSpPr>
          <p:grpSpPr>
            <a:xfrm>
              <a:off x="5560920" y="3222720"/>
              <a:ext cx="1355760" cy="376200"/>
              <a:chOff x="5560920" y="3222720"/>
              <a:chExt cx="1355760" cy="376200"/>
            </a:xfrm>
          </p:grpSpPr>
          <p:sp>
            <p:nvSpPr>
              <p:cNvPr id="1247" name=""/>
              <p:cNvSpPr/>
              <p:nvPr/>
            </p:nvSpPr>
            <p:spPr>
              <a:xfrm>
                <a:off x="5627520" y="322272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8" name=""/>
              <p:cNvGrpSpPr/>
              <p:nvPr/>
            </p:nvGrpSpPr>
            <p:grpSpPr>
              <a:xfrm>
                <a:off x="5560920" y="3365640"/>
                <a:ext cx="231840" cy="232560"/>
                <a:chOff x="5560920" y="3365640"/>
                <a:chExt cx="231840" cy="232560"/>
              </a:xfrm>
            </p:grpSpPr>
            <p:grpSp>
              <p:nvGrpSpPr>
                <p:cNvPr id="1249" name=""/>
                <p:cNvGrpSpPr/>
                <p:nvPr/>
              </p:nvGrpSpPr>
              <p:grpSpPr>
                <a:xfrm>
                  <a:off x="5560920" y="3408480"/>
                  <a:ext cx="231840" cy="189720"/>
                  <a:chOff x="5560920" y="3408480"/>
                  <a:chExt cx="231840" cy="18972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>
                    <a:off x="5560920" y="340848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5572080" y="357156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5753160" y="357156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3" name=""/>
                <p:cNvGrpSpPr/>
                <p:nvPr/>
              </p:nvGrpSpPr>
              <p:grpSpPr>
                <a:xfrm>
                  <a:off x="5638680" y="3365640"/>
                  <a:ext cx="74520" cy="28080"/>
                  <a:chOff x="5638680" y="3365640"/>
                  <a:chExt cx="74520" cy="28080"/>
                </a:xfrm>
              </p:grpSpPr>
              <p:sp>
                <p:nvSpPr>
                  <p:cNvPr id="1254" name=""/>
                  <p:cNvSpPr/>
                  <p:nvPr/>
                </p:nvSpPr>
                <p:spPr>
                  <a:xfrm>
                    <a:off x="5638680" y="33656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5686200" y="33670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56" name=""/>
              <p:cNvSpPr/>
              <p:nvPr/>
            </p:nvSpPr>
            <p:spPr>
              <a:xfrm>
                <a:off x="5821200" y="3383280"/>
                <a:ext cx="1095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TZ Tract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925960" y="322272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5297400" y="3075120"/>
              <a:ext cx="2622600" cy="234720"/>
              <a:chOff x="5297400" y="3075120"/>
              <a:chExt cx="2622600" cy="234720"/>
            </a:xfrm>
          </p:grpSpPr>
          <p:sp>
            <p:nvSpPr>
              <p:cNvPr id="1259" name=""/>
              <p:cNvSpPr/>
              <p:nvPr/>
            </p:nvSpPr>
            <p:spPr>
              <a:xfrm>
                <a:off x="5297400" y="32036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0" name=""/>
              <p:cNvGrpSpPr/>
              <p:nvPr/>
            </p:nvGrpSpPr>
            <p:grpSpPr>
              <a:xfrm>
                <a:off x="5568840" y="3075120"/>
                <a:ext cx="231480" cy="205920"/>
                <a:chOff x="5568840" y="3075120"/>
                <a:chExt cx="231480" cy="205920"/>
              </a:xfrm>
            </p:grpSpPr>
            <p:grpSp>
              <p:nvGrpSpPr>
                <p:cNvPr id="1261" name=""/>
                <p:cNvGrpSpPr/>
                <p:nvPr/>
              </p:nvGrpSpPr>
              <p:grpSpPr>
                <a:xfrm>
                  <a:off x="5568840" y="3124080"/>
                  <a:ext cx="231480" cy="156960"/>
                  <a:chOff x="5568840" y="3124080"/>
                  <a:chExt cx="231480" cy="156960"/>
                </a:xfrm>
              </p:grpSpPr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5568840" y="3124080"/>
                    <a:ext cx="231480" cy="156960"/>
                    <a:chOff x="5568840" y="3124080"/>
                    <a:chExt cx="231480" cy="15696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5568840" y="312408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 flipV="1">
                      <a:off x="5568840" y="312696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>
                      <a:off x="5682960" y="312408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6" name=""/>
                  <p:cNvSpPr/>
                  <p:nvPr/>
                </p:nvSpPr>
                <p:spPr>
                  <a:xfrm>
                    <a:off x="5670720" y="3189240"/>
                    <a:ext cx="284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7" name=""/>
                <p:cNvGrpSpPr/>
                <p:nvPr/>
              </p:nvGrpSpPr>
              <p:grpSpPr>
                <a:xfrm>
                  <a:off x="5638680" y="3075120"/>
                  <a:ext cx="74520" cy="28080"/>
                  <a:chOff x="5638680" y="3075120"/>
                  <a:chExt cx="74520" cy="2808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5638680" y="30751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686200" y="3076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70" name=""/>
              <p:cNvSpPr/>
              <p:nvPr/>
            </p:nvSpPr>
            <p:spPr>
              <a:xfrm>
                <a:off x="5838840" y="30942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5mm Antitank Gun (c)              RU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5288040" y="2592360"/>
            <a:ext cx="3144240" cy="264600"/>
            <a:chOff x="5288040" y="2592360"/>
            <a:chExt cx="3144240" cy="264600"/>
          </a:xfrm>
        </p:grpSpPr>
        <p:sp>
          <p:nvSpPr>
            <p:cNvPr id="1272" name=""/>
            <p:cNvSpPr/>
            <p:nvPr/>
          </p:nvSpPr>
          <p:spPr>
            <a:xfrm>
              <a:off x="5288040" y="274464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5567040" y="2592360"/>
              <a:ext cx="284040" cy="257040"/>
              <a:chOff x="5567040" y="2592360"/>
              <a:chExt cx="284040" cy="25704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5567040" y="2655720"/>
                <a:ext cx="284040" cy="193680"/>
                <a:chOff x="5567040" y="2655720"/>
                <a:chExt cx="284040" cy="19368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5567040" y="265572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V="1">
                  <a:off x="5569920" y="265860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567040" y="265860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8" name=""/>
              <p:cNvSpPr/>
              <p:nvPr/>
            </p:nvSpPr>
            <p:spPr>
              <a:xfrm>
                <a:off x="5708160" y="2592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9" name=""/>
            <p:cNvSpPr/>
            <p:nvPr/>
          </p:nvSpPr>
          <p:spPr>
            <a:xfrm>
              <a:off x="5860800" y="2641320"/>
              <a:ext cx="257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Submachine Gun Co (Tank Riders) (b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914400" y="1341360"/>
            <a:ext cx="17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595440" y="2004840"/>
            <a:ext cx="2844720" cy="299520"/>
            <a:chOff x="595440" y="2004840"/>
            <a:chExt cx="2844720" cy="299520"/>
          </a:xfrm>
        </p:grpSpPr>
        <p:grpSp>
          <p:nvGrpSpPr>
            <p:cNvPr id="1282" name=""/>
            <p:cNvGrpSpPr/>
            <p:nvPr/>
          </p:nvGrpSpPr>
          <p:grpSpPr>
            <a:xfrm>
              <a:off x="595440" y="2004840"/>
              <a:ext cx="582120" cy="299520"/>
              <a:chOff x="595440" y="2004840"/>
              <a:chExt cx="582120" cy="299520"/>
            </a:xfrm>
          </p:grpSpPr>
          <p:sp>
            <p:nvSpPr>
              <p:cNvPr id="1283" name=""/>
              <p:cNvSpPr/>
              <p:nvPr/>
            </p:nvSpPr>
            <p:spPr>
              <a:xfrm>
                <a:off x="595440" y="21985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4" name=""/>
              <p:cNvGrpSpPr/>
              <p:nvPr/>
            </p:nvGrpSpPr>
            <p:grpSpPr>
              <a:xfrm>
                <a:off x="830520" y="2004840"/>
                <a:ext cx="347040" cy="299520"/>
                <a:chOff x="830520" y="2004840"/>
                <a:chExt cx="347040" cy="299520"/>
              </a:xfrm>
            </p:grpSpPr>
            <p:grpSp>
              <p:nvGrpSpPr>
                <p:cNvPr id="1285" name=""/>
                <p:cNvGrpSpPr/>
                <p:nvPr/>
              </p:nvGrpSpPr>
              <p:grpSpPr>
                <a:xfrm>
                  <a:off x="830520" y="2068200"/>
                  <a:ext cx="347040" cy="236160"/>
                  <a:chOff x="830520" y="2068200"/>
                  <a:chExt cx="347040" cy="236160"/>
                </a:xfrm>
              </p:grpSpPr>
              <p:sp>
                <p:nvSpPr>
                  <p:cNvPr id="1286" name=""/>
                  <p:cNvSpPr/>
                  <p:nvPr/>
                </p:nvSpPr>
                <p:spPr>
                  <a:xfrm>
                    <a:off x="830520" y="206820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 flipV="1">
                    <a:off x="834120" y="207180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830520" y="207180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9" name=""/>
                <p:cNvGrpSpPr/>
                <p:nvPr/>
              </p:nvGrpSpPr>
              <p:grpSpPr>
                <a:xfrm>
                  <a:off x="974880" y="2004840"/>
                  <a:ext cx="75600" cy="63360"/>
                  <a:chOff x="974880" y="2004840"/>
                  <a:chExt cx="75600" cy="6336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974880" y="20048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1050480" y="20048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92" name=""/>
            <p:cNvSpPr/>
            <p:nvPr/>
          </p:nvSpPr>
          <p:spPr>
            <a:xfrm>
              <a:off x="1197000" y="2036520"/>
              <a:ext cx="224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Motorized Rifle Battal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BG-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 flipH="1">
            <a:off x="563040" y="822240"/>
            <a:ext cx="16200" cy="184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403200" y="609480"/>
            <a:ext cx="347400" cy="299520"/>
            <a:chOff x="403200" y="609480"/>
            <a:chExt cx="347400" cy="299520"/>
          </a:xfrm>
        </p:grpSpPr>
        <p:grpSp>
          <p:nvGrpSpPr>
            <p:cNvPr id="1295" name=""/>
            <p:cNvGrpSpPr/>
            <p:nvPr/>
          </p:nvGrpSpPr>
          <p:grpSpPr>
            <a:xfrm>
              <a:off x="539640" y="609480"/>
              <a:ext cx="76320" cy="63360"/>
              <a:chOff x="539640" y="609480"/>
              <a:chExt cx="76320" cy="63360"/>
            </a:xfrm>
          </p:grpSpPr>
          <p:sp>
            <p:nvSpPr>
              <p:cNvPr id="1296" name=""/>
              <p:cNvSpPr/>
              <p:nvPr/>
            </p:nvSpPr>
            <p:spPr>
              <a:xfrm>
                <a:off x="539640" y="609480"/>
                <a:ext cx="763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539640" y="609480"/>
                <a:ext cx="763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403200" y="672840"/>
              <a:ext cx="347400" cy="236160"/>
              <a:chOff x="403200" y="672840"/>
              <a:chExt cx="347400" cy="236160"/>
            </a:xfrm>
          </p:grpSpPr>
          <p:sp>
            <p:nvSpPr>
              <p:cNvPr id="1299" name=""/>
              <p:cNvSpPr/>
              <p:nvPr/>
            </p:nvSpPr>
            <p:spPr>
              <a:xfrm>
                <a:off x="403200" y="672840"/>
                <a:ext cx="347400" cy="2361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66920" y="731880"/>
                <a:ext cx="222840" cy="11268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1" name=""/>
          <p:cNvGrpSpPr/>
          <p:nvPr/>
        </p:nvGrpSpPr>
        <p:grpSpPr>
          <a:xfrm>
            <a:off x="590400" y="709560"/>
            <a:ext cx="2638440" cy="498600"/>
            <a:chOff x="590400" y="709560"/>
            <a:chExt cx="2638440" cy="498600"/>
          </a:xfrm>
        </p:grpSpPr>
        <p:sp>
          <p:nvSpPr>
            <p:cNvPr id="1302" name=""/>
            <p:cNvSpPr/>
            <p:nvPr/>
          </p:nvSpPr>
          <p:spPr>
            <a:xfrm>
              <a:off x="590400" y="112392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915840" y="709560"/>
              <a:ext cx="2313000" cy="498600"/>
              <a:chOff x="915840" y="709560"/>
              <a:chExt cx="2313000" cy="498600"/>
            </a:xfrm>
          </p:grpSpPr>
          <p:sp>
            <p:nvSpPr>
              <p:cNvPr id="1304" name=""/>
              <p:cNvSpPr/>
              <p:nvPr/>
            </p:nvSpPr>
            <p:spPr>
              <a:xfrm>
                <a:off x="993600" y="70956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147680" y="86688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6" name=""/>
              <p:cNvGrpSpPr/>
              <p:nvPr/>
            </p:nvGrpSpPr>
            <p:grpSpPr>
              <a:xfrm>
                <a:off x="915840" y="985680"/>
                <a:ext cx="2313000" cy="222480"/>
                <a:chOff x="915840" y="985680"/>
                <a:chExt cx="2313000" cy="222480"/>
              </a:xfrm>
            </p:grpSpPr>
            <p:grpSp>
              <p:nvGrpSpPr>
                <p:cNvPr id="1307" name=""/>
                <p:cNvGrpSpPr/>
                <p:nvPr/>
              </p:nvGrpSpPr>
              <p:grpSpPr>
                <a:xfrm>
                  <a:off x="915840" y="1006560"/>
                  <a:ext cx="231840" cy="201600"/>
                  <a:chOff x="915840" y="1006560"/>
                  <a:chExt cx="231840" cy="201600"/>
                </a:xfrm>
              </p:grpSpPr>
              <p:grpSp>
                <p:nvGrpSpPr>
                  <p:cNvPr id="1308" name=""/>
                  <p:cNvGrpSpPr/>
                  <p:nvPr/>
                </p:nvGrpSpPr>
                <p:grpSpPr>
                  <a:xfrm>
                    <a:off x="915840" y="1050840"/>
                    <a:ext cx="231840" cy="157320"/>
                    <a:chOff x="915840" y="1050840"/>
                    <a:chExt cx="231840" cy="157320"/>
                  </a:xfrm>
                </p:grpSpPr>
                <p:sp>
                  <p:nvSpPr>
                    <p:cNvPr id="1309" name=""/>
                    <p:cNvSpPr/>
                    <p:nvPr/>
                  </p:nvSpPr>
                  <p:spPr>
                    <a:xfrm>
                      <a:off x="915840" y="1050840"/>
                      <a:ext cx="23184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>
                      <a:off x="958320" y="1090080"/>
                      <a:ext cx="1486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1" name=""/>
                  <p:cNvGrpSpPr/>
                  <p:nvPr/>
                </p:nvGrpSpPr>
                <p:grpSpPr>
                  <a:xfrm>
                    <a:off x="993600" y="1006560"/>
                    <a:ext cx="74520" cy="28080"/>
                    <a:chOff x="993600" y="1006560"/>
                    <a:chExt cx="74520" cy="28080"/>
                  </a:xfrm>
                </p:grpSpPr>
                <p:sp>
                  <p:nvSpPr>
                    <p:cNvPr id="1312" name=""/>
                    <p:cNvSpPr/>
                    <p:nvPr/>
                  </p:nvSpPr>
                  <p:spPr>
                    <a:xfrm>
                      <a:off x="993600" y="10065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3" name=""/>
                    <p:cNvSpPr/>
                    <p:nvPr/>
                  </p:nvSpPr>
                  <p:spPr>
                    <a:xfrm>
                      <a:off x="1041120" y="10080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14" name=""/>
                <p:cNvSpPr/>
                <p:nvPr/>
              </p:nvSpPr>
              <p:spPr>
                <a:xfrm>
                  <a:off x="1147680" y="9856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KV-1 76mm Tank                  RU-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15" name=""/>
          <p:cNvGrpSpPr/>
          <p:nvPr/>
        </p:nvGrpSpPr>
        <p:grpSpPr>
          <a:xfrm>
            <a:off x="590400" y="1582560"/>
            <a:ext cx="3162600" cy="264960"/>
            <a:chOff x="590400" y="1582560"/>
            <a:chExt cx="3162600" cy="264960"/>
          </a:xfrm>
        </p:grpSpPr>
        <p:sp>
          <p:nvSpPr>
            <p:cNvPr id="1316" name=""/>
            <p:cNvSpPr/>
            <p:nvPr/>
          </p:nvSpPr>
          <p:spPr>
            <a:xfrm>
              <a:off x="590400" y="173808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7" name=""/>
            <p:cNvGrpSpPr/>
            <p:nvPr/>
          </p:nvGrpSpPr>
          <p:grpSpPr>
            <a:xfrm>
              <a:off x="896760" y="1582560"/>
              <a:ext cx="284400" cy="258480"/>
              <a:chOff x="896760" y="1582560"/>
              <a:chExt cx="284400" cy="258480"/>
            </a:xfrm>
          </p:grpSpPr>
          <p:grpSp>
            <p:nvGrpSpPr>
              <p:cNvPr id="1318" name=""/>
              <p:cNvGrpSpPr/>
              <p:nvPr/>
            </p:nvGrpSpPr>
            <p:grpSpPr>
              <a:xfrm>
                <a:off x="896760" y="1647360"/>
                <a:ext cx="284400" cy="193680"/>
                <a:chOff x="896760" y="1647360"/>
                <a:chExt cx="284400" cy="19368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896760" y="1647360"/>
                  <a:ext cx="28440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948960" y="1695600"/>
                  <a:ext cx="182520" cy="925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1000080" y="1582560"/>
                <a:ext cx="76320" cy="63360"/>
                <a:chOff x="1000080" y="1582560"/>
                <a:chExt cx="76320" cy="6336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1000080" y="1582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1076400" y="1582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4" name=""/>
            <p:cNvSpPr/>
            <p:nvPr/>
          </p:nvSpPr>
          <p:spPr>
            <a:xfrm>
              <a:off x="1181160" y="1631880"/>
              <a:ext cx="257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Heavy Tank Battalion (b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ME-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828720" y="187200"/>
            <a:ext cx="286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vy Tank Brigade March ‘42 – Oct ‘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581040" y="2516040"/>
            <a:ext cx="2739960" cy="250560"/>
            <a:chOff x="581040" y="2516040"/>
            <a:chExt cx="2739960" cy="250560"/>
          </a:xfrm>
        </p:grpSpPr>
        <p:sp>
          <p:nvSpPr>
            <p:cNvPr id="1327" name=""/>
            <p:cNvSpPr/>
            <p:nvPr/>
          </p:nvSpPr>
          <p:spPr>
            <a:xfrm>
              <a:off x="581040" y="267012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826920" y="2516040"/>
              <a:ext cx="2494080" cy="250560"/>
              <a:chOff x="826920" y="2516040"/>
              <a:chExt cx="2494080" cy="250560"/>
            </a:xfrm>
          </p:grpSpPr>
          <p:grpSp>
            <p:nvGrpSpPr>
              <p:cNvPr id="1329" name=""/>
              <p:cNvGrpSpPr/>
              <p:nvPr/>
            </p:nvGrpSpPr>
            <p:grpSpPr>
              <a:xfrm>
                <a:off x="826920" y="2516040"/>
                <a:ext cx="283680" cy="248760"/>
                <a:chOff x="826920" y="2516040"/>
                <a:chExt cx="283680" cy="248760"/>
              </a:xfrm>
            </p:grpSpPr>
            <p:grpSp>
              <p:nvGrpSpPr>
                <p:cNvPr id="1330" name=""/>
                <p:cNvGrpSpPr/>
                <p:nvPr/>
              </p:nvGrpSpPr>
              <p:grpSpPr>
                <a:xfrm>
                  <a:off x="826920" y="2571480"/>
                  <a:ext cx="283680" cy="193320"/>
                  <a:chOff x="826920" y="2571480"/>
                  <a:chExt cx="283680" cy="19332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>
                    <a:off x="826920" y="2571480"/>
                    <a:ext cx="283680" cy="193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 flipV="1">
                    <a:off x="826920" y="2575080"/>
                    <a:ext cx="139680" cy="187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966600" y="2571480"/>
                    <a:ext cx="14004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900360" y="2669040"/>
                    <a:ext cx="1400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5" name=""/>
                <p:cNvSpPr/>
                <p:nvPr/>
              </p:nvSpPr>
              <p:spPr>
                <a:xfrm>
                  <a:off x="968040" y="25160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6" name=""/>
              <p:cNvSpPr/>
              <p:nvPr/>
            </p:nvSpPr>
            <p:spPr>
              <a:xfrm>
                <a:off x="1239840" y="25509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Antiaircraft Battery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7" name=""/>
          <p:cNvSpPr/>
          <p:nvPr/>
        </p:nvSpPr>
        <p:spPr>
          <a:xfrm>
            <a:off x="507960" y="3024360"/>
            <a:ext cx="27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July 1942, add Armored Car Platoon and Antitank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"/>
          <p:cNvGrpSpPr/>
          <p:nvPr/>
        </p:nvGrpSpPr>
        <p:grpSpPr>
          <a:xfrm>
            <a:off x="403200" y="187200"/>
            <a:ext cx="3354120" cy="6555960"/>
            <a:chOff x="403200" y="187200"/>
            <a:chExt cx="3354120" cy="6555960"/>
          </a:xfrm>
        </p:grpSpPr>
        <p:sp>
          <p:nvSpPr>
            <p:cNvPr id="1339" name=""/>
            <p:cNvSpPr/>
            <p:nvPr/>
          </p:nvSpPr>
          <p:spPr>
            <a:xfrm>
              <a:off x="922320" y="160488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587520" y="2817720"/>
              <a:ext cx="2844720" cy="299520"/>
              <a:chOff x="587520" y="2817720"/>
              <a:chExt cx="2844720" cy="299520"/>
            </a:xfrm>
          </p:grpSpPr>
          <p:grpSp>
            <p:nvGrpSpPr>
              <p:cNvPr id="1341" name=""/>
              <p:cNvGrpSpPr/>
              <p:nvPr/>
            </p:nvGrpSpPr>
            <p:grpSpPr>
              <a:xfrm>
                <a:off x="587520" y="2817720"/>
                <a:ext cx="582120" cy="299520"/>
                <a:chOff x="587520" y="2817720"/>
                <a:chExt cx="582120" cy="29952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587520" y="301140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3" name=""/>
                <p:cNvGrpSpPr/>
                <p:nvPr/>
              </p:nvGrpSpPr>
              <p:grpSpPr>
                <a:xfrm>
                  <a:off x="822600" y="2817720"/>
                  <a:ext cx="347040" cy="299520"/>
                  <a:chOff x="822600" y="2817720"/>
                  <a:chExt cx="347040" cy="299520"/>
                </a:xfrm>
              </p:grpSpPr>
              <p:grpSp>
                <p:nvGrpSpPr>
                  <p:cNvPr id="1344" name=""/>
                  <p:cNvGrpSpPr/>
                  <p:nvPr/>
                </p:nvGrpSpPr>
                <p:grpSpPr>
                  <a:xfrm>
                    <a:off x="822600" y="2881080"/>
                    <a:ext cx="347040" cy="236160"/>
                    <a:chOff x="822600" y="2881080"/>
                    <a:chExt cx="347040" cy="236160"/>
                  </a:xfrm>
                </p:grpSpPr>
                <p:sp>
                  <p:nvSpPr>
                    <p:cNvPr id="1345" name=""/>
                    <p:cNvSpPr/>
                    <p:nvPr/>
                  </p:nvSpPr>
                  <p:spPr>
                    <a:xfrm>
                      <a:off x="822600" y="2881080"/>
                      <a:ext cx="347040" cy="2361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6" name=""/>
                    <p:cNvSpPr/>
                    <p:nvPr/>
                  </p:nvSpPr>
                  <p:spPr>
                    <a:xfrm flipV="1">
                      <a:off x="826200" y="2884680"/>
                      <a:ext cx="338400" cy="23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>
                      <a:off x="822600" y="2884680"/>
                      <a:ext cx="345600" cy="22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8" name=""/>
                  <p:cNvGrpSpPr/>
                  <p:nvPr/>
                </p:nvGrpSpPr>
                <p:grpSpPr>
                  <a:xfrm>
                    <a:off x="966960" y="2817720"/>
                    <a:ext cx="75600" cy="63360"/>
                    <a:chOff x="966960" y="2817720"/>
                    <a:chExt cx="75600" cy="63360"/>
                  </a:xfrm>
                </p:grpSpPr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966960" y="28177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1042560" y="28177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351" name=""/>
              <p:cNvSpPr/>
              <p:nvPr/>
            </p:nvSpPr>
            <p:spPr>
              <a:xfrm>
                <a:off x="1189080" y="2849400"/>
                <a:ext cx="2243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torized Rifle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3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 flipH="1">
              <a:off x="563040" y="822240"/>
              <a:ext cx="16200" cy="421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3" name=""/>
            <p:cNvGrpSpPr/>
            <p:nvPr/>
          </p:nvGrpSpPr>
          <p:grpSpPr>
            <a:xfrm>
              <a:off x="403200" y="609480"/>
              <a:ext cx="347400" cy="299520"/>
              <a:chOff x="403200" y="609480"/>
              <a:chExt cx="347400" cy="299520"/>
            </a:xfrm>
          </p:grpSpPr>
          <p:grpSp>
            <p:nvGrpSpPr>
              <p:cNvPr id="1354" name=""/>
              <p:cNvGrpSpPr/>
              <p:nvPr/>
            </p:nvGrpSpPr>
            <p:grpSpPr>
              <a:xfrm>
                <a:off x="539640" y="609480"/>
                <a:ext cx="76320" cy="63360"/>
                <a:chOff x="539640" y="609480"/>
                <a:chExt cx="76320" cy="6336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539640" y="609480"/>
                  <a:ext cx="763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539640" y="609480"/>
                  <a:ext cx="763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7" name=""/>
              <p:cNvGrpSpPr/>
              <p:nvPr/>
            </p:nvGrpSpPr>
            <p:grpSpPr>
              <a:xfrm>
                <a:off x="403200" y="672840"/>
                <a:ext cx="347400" cy="236160"/>
                <a:chOff x="403200" y="672840"/>
                <a:chExt cx="347400" cy="236160"/>
              </a:xfrm>
            </p:grpSpPr>
            <p:sp>
              <p:nvSpPr>
                <p:cNvPr id="1358" name=""/>
                <p:cNvSpPr/>
                <p:nvPr/>
              </p:nvSpPr>
              <p:spPr>
                <a:xfrm>
                  <a:off x="403200" y="672840"/>
                  <a:ext cx="347400" cy="2361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466920" y="731880"/>
                  <a:ext cx="222840" cy="11268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0" name=""/>
            <p:cNvGrpSpPr/>
            <p:nvPr/>
          </p:nvGrpSpPr>
          <p:grpSpPr>
            <a:xfrm>
              <a:off x="590400" y="709560"/>
              <a:ext cx="2638440" cy="498600"/>
              <a:chOff x="590400" y="709560"/>
              <a:chExt cx="2638440" cy="498600"/>
            </a:xfrm>
          </p:grpSpPr>
          <p:sp>
            <p:nvSpPr>
              <p:cNvPr id="1361" name=""/>
              <p:cNvSpPr/>
              <p:nvPr/>
            </p:nvSpPr>
            <p:spPr>
              <a:xfrm>
                <a:off x="590400" y="11239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2" name=""/>
              <p:cNvGrpSpPr/>
              <p:nvPr/>
            </p:nvGrpSpPr>
            <p:grpSpPr>
              <a:xfrm>
                <a:off x="915840" y="709560"/>
                <a:ext cx="2313000" cy="498600"/>
                <a:chOff x="915840" y="709560"/>
                <a:chExt cx="2313000" cy="49860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993600" y="709560"/>
                  <a:ext cx="175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HEADQUARTERS ELE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147680" y="866880"/>
                  <a:ext cx="838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5" name=""/>
                <p:cNvGrpSpPr/>
                <p:nvPr/>
              </p:nvGrpSpPr>
              <p:grpSpPr>
                <a:xfrm>
                  <a:off x="915840" y="985680"/>
                  <a:ext cx="2313000" cy="222480"/>
                  <a:chOff x="915840" y="985680"/>
                  <a:chExt cx="2313000" cy="222480"/>
                </a:xfrm>
              </p:grpSpPr>
              <p:grpSp>
                <p:nvGrpSpPr>
                  <p:cNvPr id="1366" name=""/>
                  <p:cNvGrpSpPr/>
                  <p:nvPr/>
                </p:nvGrpSpPr>
                <p:grpSpPr>
                  <a:xfrm>
                    <a:off x="915840" y="1006560"/>
                    <a:ext cx="231840" cy="201600"/>
                    <a:chOff x="915840" y="1006560"/>
                    <a:chExt cx="231840" cy="201600"/>
                  </a:xfrm>
                </p:grpSpPr>
                <p:grpSp>
                  <p:nvGrpSpPr>
                    <p:cNvPr id="1367" name=""/>
                    <p:cNvGrpSpPr/>
                    <p:nvPr/>
                  </p:nvGrpSpPr>
                  <p:grpSpPr>
                    <a:xfrm>
                      <a:off x="915840" y="1050840"/>
                      <a:ext cx="231840" cy="157320"/>
                      <a:chOff x="915840" y="1050840"/>
                      <a:chExt cx="231840" cy="157320"/>
                    </a:xfrm>
                  </p:grpSpPr>
                  <p:sp>
                    <p:nvSpPr>
                      <p:cNvPr id="1368" name=""/>
                      <p:cNvSpPr/>
                      <p:nvPr/>
                    </p:nvSpPr>
                    <p:spPr>
                      <a:xfrm>
                        <a:off x="915840" y="1050840"/>
                        <a:ext cx="231840" cy="15732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/>
                      <p:nvPr/>
                    </p:nvSpPr>
                    <p:spPr>
                      <a:xfrm>
                        <a:off x="958320" y="1090080"/>
                        <a:ext cx="148680" cy="7488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0" name=""/>
                    <p:cNvGrpSpPr/>
                    <p:nvPr/>
                  </p:nvGrpSpPr>
                  <p:grpSpPr>
                    <a:xfrm>
                      <a:off x="993600" y="1006560"/>
                      <a:ext cx="74520" cy="28080"/>
                      <a:chOff x="993600" y="1006560"/>
                      <a:chExt cx="74520" cy="28080"/>
                    </a:xfrm>
                  </p:grpSpPr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993600" y="100656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1041120" y="100800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73" name=""/>
                  <p:cNvSpPr/>
                  <p:nvPr/>
                </p:nvSpPr>
                <p:spPr>
                  <a:xfrm>
                    <a:off x="1147680" y="98568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T34 76mm Tank                  RU-0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74" name=""/>
            <p:cNvGrpSpPr/>
            <p:nvPr/>
          </p:nvGrpSpPr>
          <p:grpSpPr>
            <a:xfrm>
              <a:off x="582480" y="1811160"/>
              <a:ext cx="3162600" cy="264960"/>
              <a:chOff x="582480" y="1811160"/>
              <a:chExt cx="3162600" cy="264960"/>
            </a:xfrm>
          </p:grpSpPr>
          <p:sp>
            <p:nvSpPr>
              <p:cNvPr id="1375" name=""/>
              <p:cNvSpPr/>
              <p:nvPr/>
            </p:nvSpPr>
            <p:spPr>
              <a:xfrm>
                <a:off x="582480" y="1966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6" name=""/>
              <p:cNvGrpSpPr/>
              <p:nvPr/>
            </p:nvGrpSpPr>
            <p:grpSpPr>
              <a:xfrm>
                <a:off x="888840" y="1811160"/>
                <a:ext cx="284400" cy="258480"/>
                <a:chOff x="888840" y="1811160"/>
                <a:chExt cx="284400" cy="258480"/>
              </a:xfrm>
            </p:grpSpPr>
            <p:grpSp>
              <p:nvGrpSpPr>
                <p:cNvPr id="1377" name=""/>
                <p:cNvGrpSpPr/>
                <p:nvPr/>
              </p:nvGrpSpPr>
              <p:grpSpPr>
                <a:xfrm>
                  <a:off x="888840" y="1875960"/>
                  <a:ext cx="284400" cy="193680"/>
                  <a:chOff x="888840" y="1875960"/>
                  <a:chExt cx="284400" cy="193680"/>
                </a:xfrm>
              </p:grpSpPr>
              <p:sp>
                <p:nvSpPr>
                  <p:cNvPr id="1378" name=""/>
                  <p:cNvSpPr/>
                  <p:nvPr/>
                </p:nvSpPr>
                <p:spPr>
                  <a:xfrm>
                    <a:off x="888840" y="1875960"/>
                    <a:ext cx="28440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941040" y="1924200"/>
                    <a:ext cx="18252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0" name=""/>
                <p:cNvGrpSpPr/>
                <p:nvPr/>
              </p:nvGrpSpPr>
              <p:grpSpPr>
                <a:xfrm>
                  <a:off x="992160" y="1811160"/>
                  <a:ext cx="76320" cy="63360"/>
                  <a:chOff x="992160" y="1811160"/>
                  <a:chExt cx="76320" cy="6336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992160" y="18111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1068480" y="18111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3" name=""/>
              <p:cNvSpPr/>
              <p:nvPr/>
            </p:nvSpPr>
            <p:spPr>
              <a:xfrm>
                <a:off x="1173240" y="1860480"/>
                <a:ext cx="2571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Mixed Tank Battalion (b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ME-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828720" y="187200"/>
              <a:ext cx="2274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-3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nk Brigade March ‘42 – Oct ‘4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5" name=""/>
            <p:cNvGrpSpPr/>
            <p:nvPr/>
          </p:nvGrpSpPr>
          <p:grpSpPr>
            <a:xfrm>
              <a:off x="579600" y="3268800"/>
              <a:ext cx="2739960" cy="250560"/>
              <a:chOff x="579600" y="3268800"/>
              <a:chExt cx="2739960" cy="250560"/>
            </a:xfrm>
          </p:grpSpPr>
          <p:sp>
            <p:nvSpPr>
              <p:cNvPr id="1386" name=""/>
              <p:cNvSpPr/>
              <p:nvPr/>
            </p:nvSpPr>
            <p:spPr>
              <a:xfrm>
                <a:off x="579600" y="342288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7" name=""/>
              <p:cNvGrpSpPr/>
              <p:nvPr/>
            </p:nvGrpSpPr>
            <p:grpSpPr>
              <a:xfrm>
                <a:off x="825480" y="3268800"/>
                <a:ext cx="2494080" cy="250560"/>
                <a:chOff x="825480" y="3268800"/>
                <a:chExt cx="2494080" cy="250560"/>
              </a:xfrm>
            </p:grpSpPr>
            <p:grpSp>
              <p:nvGrpSpPr>
                <p:cNvPr id="1388" name=""/>
                <p:cNvGrpSpPr/>
                <p:nvPr/>
              </p:nvGrpSpPr>
              <p:grpSpPr>
                <a:xfrm>
                  <a:off x="825480" y="3268800"/>
                  <a:ext cx="283680" cy="248760"/>
                  <a:chOff x="825480" y="3268800"/>
                  <a:chExt cx="283680" cy="248760"/>
                </a:xfrm>
              </p:grpSpPr>
              <p:grpSp>
                <p:nvGrpSpPr>
                  <p:cNvPr id="1389" name=""/>
                  <p:cNvGrpSpPr/>
                  <p:nvPr/>
                </p:nvGrpSpPr>
                <p:grpSpPr>
                  <a:xfrm>
                    <a:off x="825480" y="3324240"/>
                    <a:ext cx="283680" cy="193320"/>
                    <a:chOff x="825480" y="3324240"/>
                    <a:chExt cx="283680" cy="193320"/>
                  </a:xfrm>
                </p:grpSpPr>
                <p:sp>
                  <p:nvSpPr>
                    <p:cNvPr id="1390" name=""/>
                    <p:cNvSpPr/>
                    <p:nvPr/>
                  </p:nvSpPr>
                  <p:spPr>
                    <a:xfrm>
                      <a:off x="825480" y="3324240"/>
                      <a:ext cx="283680" cy="193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1" name=""/>
                    <p:cNvSpPr/>
                    <p:nvPr/>
                  </p:nvSpPr>
                  <p:spPr>
                    <a:xfrm flipV="1">
                      <a:off x="825480" y="3327840"/>
                      <a:ext cx="139680" cy="187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2" name=""/>
                    <p:cNvSpPr/>
                    <p:nvPr/>
                  </p:nvSpPr>
                  <p:spPr>
                    <a:xfrm>
                      <a:off x="965160" y="3324240"/>
                      <a:ext cx="14004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3" name=""/>
                    <p:cNvSpPr/>
                    <p:nvPr/>
                  </p:nvSpPr>
                  <p:spPr>
                    <a:xfrm>
                      <a:off x="898920" y="3421800"/>
                      <a:ext cx="1400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4" name=""/>
                  <p:cNvSpPr/>
                  <p:nvPr/>
                </p:nvSpPr>
                <p:spPr>
                  <a:xfrm>
                    <a:off x="966600" y="32688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5" name=""/>
                <p:cNvSpPr/>
                <p:nvPr/>
              </p:nvSpPr>
              <p:spPr>
                <a:xfrm>
                  <a:off x="1238400" y="33037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Antiaircraft Battery (d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6" name=""/>
            <p:cNvGrpSpPr/>
            <p:nvPr/>
          </p:nvGrpSpPr>
          <p:grpSpPr>
            <a:xfrm>
              <a:off x="581040" y="2124000"/>
              <a:ext cx="3161880" cy="264960"/>
              <a:chOff x="581040" y="2124000"/>
              <a:chExt cx="3161880" cy="264960"/>
            </a:xfrm>
          </p:grpSpPr>
          <p:sp>
            <p:nvSpPr>
              <p:cNvPr id="1397" name=""/>
              <p:cNvSpPr/>
              <p:nvPr/>
            </p:nvSpPr>
            <p:spPr>
              <a:xfrm>
                <a:off x="581040" y="227952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8" name=""/>
              <p:cNvGrpSpPr/>
              <p:nvPr/>
            </p:nvGrpSpPr>
            <p:grpSpPr>
              <a:xfrm>
                <a:off x="887040" y="2124000"/>
                <a:ext cx="284040" cy="258480"/>
                <a:chOff x="887040" y="2124000"/>
                <a:chExt cx="284040" cy="258480"/>
              </a:xfrm>
            </p:grpSpPr>
            <p:grpSp>
              <p:nvGrpSpPr>
                <p:cNvPr id="1399" name=""/>
                <p:cNvGrpSpPr/>
                <p:nvPr/>
              </p:nvGrpSpPr>
              <p:grpSpPr>
                <a:xfrm>
                  <a:off x="887040" y="2188800"/>
                  <a:ext cx="284040" cy="193680"/>
                  <a:chOff x="887040" y="2188800"/>
                  <a:chExt cx="284040" cy="193680"/>
                </a:xfrm>
              </p:grpSpPr>
              <p:sp>
                <p:nvSpPr>
                  <p:cNvPr id="1400" name=""/>
                  <p:cNvSpPr/>
                  <p:nvPr/>
                </p:nvSpPr>
                <p:spPr>
                  <a:xfrm>
                    <a:off x="887040" y="218880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938880" y="223704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2" name=""/>
                <p:cNvGrpSpPr/>
                <p:nvPr/>
              </p:nvGrpSpPr>
              <p:grpSpPr>
                <a:xfrm>
                  <a:off x="990000" y="2124000"/>
                  <a:ext cx="75960" cy="63360"/>
                  <a:chOff x="990000" y="2124000"/>
                  <a:chExt cx="75960" cy="63360"/>
                </a:xfrm>
              </p:grpSpPr>
              <p:sp>
                <p:nvSpPr>
                  <p:cNvPr id="1403" name=""/>
                  <p:cNvSpPr/>
                  <p:nvPr/>
                </p:nvSpPr>
                <p:spPr>
                  <a:xfrm>
                    <a:off x="990000" y="21240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1065960" y="21240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05" name=""/>
              <p:cNvSpPr/>
              <p:nvPr/>
            </p:nvSpPr>
            <p:spPr>
              <a:xfrm>
                <a:off x="1171440" y="2173320"/>
                <a:ext cx="2571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T34 Tank Battalion (b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ME-4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1004760" y="1189080"/>
              <a:ext cx="2052360" cy="376560"/>
              <a:chOff x="1004760" y="1189080"/>
              <a:chExt cx="2052360" cy="376560"/>
            </a:xfrm>
          </p:grpSpPr>
          <p:grpSp>
            <p:nvGrpSpPr>
              <p:cNvPr id="1407" name=""/>
              <p:cNvGrpSpPr/>
              <p:nvPr/>
            </p:nvGrpSpPr>
            <p:grpSpPr>
              <a:xfrm>
                <a:off x="1004760" y="1207800"/>
                <a:ext cx="2052360" cy="357840"/>
                <a:chOff x="1004760" y="1207800"/>
                <a:chExt cx="2052360" cy="35784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1427040" y="1207800"/>
                  <a:ext cx="16300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669900"/>
                      </a:solidFill>
                      <a:latin typeface="Arial"/>
                    </a:rPr>
                    <a:t>Armored Car Platoo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9" name=""/>
                <p:cNvGrpSpPr/>
                <p:nvPr/>
              </p:nvGrpSpPr>
              <p:grpSpPr>
                <a:xfrm>
                  <a:off x="1004760" y="1343880"/>
                  <a:ext cx="1820880" cy="221760"/>
                  <a:chOff x="1004760" y="1343880"/>
                  <a:chExt cx="1820880" cy="221760"/>
                </a:xfrm>
              </p:grpSpPr>
              <p:sp>
                <p:nvSpPr>
                  <p:cNvPr id="1410" name=""/>
                  <p:cNvSpPr/>
                  <p:nvPr/>
                </p:nvSpPr>
                <p:spPr>
                  <a:xfrm>
                    <a:off x="1004760" y="1450080"/>
                    <a:ext cx="253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1520640" y="1434240"/>
                    <a:ext cx="13050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BA-64  (a)              RU-1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12" name=""/>
                  <p:cNvGrpSpPr/>
                  <p:nvPr/>
                </p:nvGrpSpPr>
                <p:grpSpPr>
                  <a:xfrm>
                    <a:off x="1153800" y="1343880"/>
                    <a:ext cx="231480" cy="221760"/>
                    <a:chOff x="1153800" y="1343880"/>
                    <a:chExt cx="231480" cy="221760"/>
                  </a:xfrm>
                </p:grpSpPr>
                <p:grpSp>
                  <p:nvGrpSpPr>
                    <p:cNvPr id="1413" name=""/>
                    <p:cNvGrpSpPr/>
                    <p:nvPr/>
                  </p:nvGrpSpPr>
                  <p:grpSpPr>
                    <a:xfrm>
                      <a:off x="1153800" y="1375200"/>
                      <a:ext cx="231480" cy="190440"/>
                      <a:chOff x="1153800" y="1375200"/>
                      <a:chExt cx="231480" cy="190440"/>
                    </a:xfrm>
                  </p:grpSpPr>
                  <p:sp>
                    <p:nvSpPr>
                      <p:cNvPr id="1414" name=""/>
                      <p:cNvSpPr/>
                      <p:nvPr/>
                    </p:nvSpPr>
                    <p:spPr>
                      <a:xfrm>
                        <a:off x="1153800" y="137556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>
                        <a:off x="1164240" y="153864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6" name=""/>
                      <p:cNvSpPr/>
                      <p:nvPr/>
                    </p:nvSpPr>
                    <p:spPr>
                      <a:xfrm>
                        <a:off x="1346040" y="1538640"/>
                        <a:ext cx="2736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7" name=""/>
                      <p:cNvSpPr/>
                      <p:nvPr/>
                    </p:nvSpPr>
                    <p:spPr>
                      <a:xfrm>
                        <a:off x="1186920" y="1416960"/>
                        <a:ext cx="161280" cy="7488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8" name=""/>
                      <p:cNvSpPr/>
                      <p:nvPr/>
                    </p:nvSpPr>
                    <p:spPr>
                      <a:xfrm flipV="1">
                        <a:off x="1155960" y="1375200"/>
                        <a:ext cx="227520" cy="1522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19" name=""/>
                    <p:cNvGrpSpPr/>
                    <p:nvPr/>
                  </p:nvGrpSpPr>
                  <p:grpSpPr>
                    <a:xfrm>
                      <a:off x="1231560" y="1343880"/>
                      <a:ext cx="74160" cy="27000"/>
                      <a:chOff x="1231560" y="1343880"/>
                      <a:chExt cx="74160" cy="27000"/>
                    </a:xfrm>
                  </p:grpSpPr>
                  <p:sp>
                    <p:nvSpPr>
                      <p:cNvPr id="1420" name=""/>
                      <p:cNvSpPr/>
                      <p:nvPr/>
                    </p:nvSpPr>
                    <p:spPr>
                      <a:xfrm>
                        <a:off x="1231560" y="134388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1" name=""/>
                      <p:cNvSpPr/>
                      <p:nvPr/>
                    </p:nvSpPr>
                    <p:spPr>
                      <a:xfrm>
                        <a:off x="1279080" y="13438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422" name=""/>
              <p:cNvSpPr/>
              <p:nvPr/>
            </p:nvSpPr>
            <p:spPr>
              <a:xfrm flipV="1">
                <a:off x="1014480" y="1189080"/>
                <a:ext cx="7920" cy="24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595440" y="2479680"/>
              <a:ext cx="3161880" cy="264960"/>
              <a:chOff x="595440" y="2479680"/>
              <a:chExt cx="3161880" cy="264960"/>
            </a:xfrm>
          </p:grpSpPr>
          <p:sp>
            <p:nvSpPr>
              <p:cNvPr id="1424" name=""/>
              <p:cNvSpPr/>
              <p:nvPr/>
            </p:nvSpPr>
            <p:spPr>
              <a:xfrm>
                <a:off x="595440" y="263520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5" name=""/>
              <p:cNvGrpSpPr/>
              <p:nvPr/>
            </p:nvGrpSpPr>
            <p:grpSpPr>
              <a:xfrm>
                <a:off x="901440" y="2479680"/>
                <a:ext cx="284040" cy="258480"/>
                <a:chOff x="901440" y="2479680"/>
                <a:chExt cx="284040" cy="258480"/>
              </a:xfrm>
            </p:grpSpPr>
            <p:grpSp>
              <p:nvGrpSpPr>
                <p:cNvPr id="1426" name=""/>
                <p:cNvGrpSpPr/>
                <p:nvPr/>
              </p:nvGrpSpPr>
              <p:grpSpPr>
                <a:xfrm>
                  <a:off x="901440" y="2544480"/>
                  <a:ext cx="284040" cy="193680"/>
                  <a:chOff x="901440" y="2544480"/>
                  <a:chExt cx="284040" cy="193680"/>
                </a:xfrm>
              </p:grpSpPr>
              <p:sp>
                <p:nvSpPr>
                  <p:cNvPr id="1427" name=""/>
                  <p:cNvSpPr/>
                  <p:nvPr/>
                </p:nvSpPr>
                <p:spPr>
                  <a:xfrm>
                    <a:off x="901440" y="254448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953280" y="259272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1004400" y="2479680"/>
                  <a:ext cx="75960" cy="63360"/>
                  <a:chOff x="1004400" y="2479680"/>
                  <a:chExt cx="75960" cy="6336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1004400" y="2479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1080360" y="2479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32" name=""/>
              <p:cNvSpPr/>
              <p:nvPr/>
            </p:nvSpPr>
            <p:spPr>
              <a:xfrm>
                <a:off x="1185840" y="2529000"/>
                <a:ext cx="2571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Tank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(b,e) 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ME-4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573120" y="4908600"/>
              <a:ext cx="2622240" cy="234720"/>
              <a:chOff x="573120" y="4908600"/>
              <a:chExt cx="2622240" cy="234720"/>
            </a:xfrm>
          </p:grpSpPr>
          <p:sp>
            <p:nvSpPr>
              <p:cNvPr id="1434" name=""/>
              <p:cNvSpPr/>
              <p:nvPr/>
            </p:nvSpPr>
            <p:spPr>
              <a:xfrm>
                <a:off x="573120" y="50371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114200" y="49276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Antitank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(a)    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6" name=""/>
              <p:cNvGrpSpPr/>
              <p:nvPr/>
            </p:nvGrpSpPr>
            <p:grpSpPr>
              <a:xfrm>
                <a:off x="839520" y="4908600"/>
                <a:ext cx="231480" cy="212760"/>
                <a:chOff x="839520" y="4908600"/>
                <a:chExt cx="231480" cy="212760"/>
              </a:xfrm>
            </p:grpSpPr>
            <p:grpSp>
              <p:nvGrpSpPr>
                <p:cNvPr id="1437" name=""/>
                <p:cNvGrpSpPr/>
                <p:nvPr/>
              </p:nvGrpSpPr>
              <p:grpSpPr>
                <a:xfrm>
                  <a:off x="914400" y="4908600"/>
                  <a:ext cx="74520" cy="28080"/>
                  <a:chOff x="914400" y="4908600"/>
                  <a:chExt cx="74520" cy="28080"/>
                </a:xfrm>
              </p:grpSpPr>
              <p:sp>
                <p:nvSpPr>
                  <p:cNvPr id="1438" name=""/>
                  <p:cNvSpPr/>
                  <p:nvPr/>
                </p:nvSpPr>
                <p:spPr>
                  <a:xfrm>
                    <a:off x="914400" y="49086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961920" y="49100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0" name=""/>
                <p:cNvGrpSpPr/>
                <p:nvPr/>
              </p:nvGrpSpPr>
              <p:grpSpPr>
                <a:xfrm>
                  <a:off x="839520" y="4964040"/>
                  <a:ext cx="231480" cy="157320"/>
                  <a:chOff x="839520" y="4964040"/>
                  <a:chExt cx="231480" cy="157320"/>
                </a:xfrm>
              </p:grpSpPr>
              <p:sp>
                <p:nvSpPr>
                  <p:cNvPr id="1441" name=""/>
                  <p:cNvSpPr/>
                  <p:nvPr/>
                </p:nvSpPr>
                <p:spPr>
                  <a:xfrm>
                    <a:off x="839520" y="496404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 flipV="1">
                    <a:off x="839520" y="496692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953640" y="4964040"/>
                    <a:ext cx="11448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44" name=""/>
            <p:cNvGrpSpPr/>
            <p:nvPr/>
          </p:nvGrpSpPr>
          <p:grpSpPr>
            <a:xfrm>
              <a:off x="593640" y="4197240"/>
              <a:ext cx="2630520" cy="615600"/>
              <a:chOff x="593640" y="4197240"/>
              <a:chExt cx="2630520" cy="615600"/>
            </a:xfrm>
          </p:grpSpPr>
          <p:grpSp>
            <p:nvGrpSpPr>
              <p:cNvPr id="1445" name=""/>
              <p:cNvGrpSpPr/>
              <p:nvPr/>
            </p:nvGrpSpPr>
            <p:grpSpPr>
              <a:xfrm>
                <a:off x="593640" y="4197240"/>
                <a:ext cx="2622240" cy="234720"/>
                <a:chOff x="593640" y="4197240"/>
                <a:chExt cx="2622240" cy="23472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593640" y="432576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1134720" y="42163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9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titank Rifle (c)                        RU-2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8" name=""/>
                <p:cNvGrpSpPr/>
                <p:nvPr/>
              </p:nvGrpSpPr>
              <p:grpSpPr>
                <a:xfrm>
                  <a:off x="860040" y="4197240"/>
                  <a:ext cx="231480" cy="212760"/>
                  <a:chOff x="860040" y="4197240"/>
                  <a:chExt cx="231480" cy="212760"/>
                </a:xfrm>
              </p:grpSpPr>
              <p:grpSp>
                <p:nvGrpSpPr>
                  <p:cNvPr id="1449" name=""/>
                  <p:cNvGrpSpPr/>
                  <p:nvPr/>
                </p:nvGrpSpPr>
                <p:grpSpPr>
                  <a:xfrm>
                    <a:off x="934920" y="4197240"/>
                    <a:ext cx="74520" cy="28080"/>
                    <a:chOff x="934920" y="4197240"/>
                    <a:chExt cx="74520" cy="28080"/>
                  </a:xfrm>
                </p:grpSpPr>
                <p:sp>
                  <p:nvSpPr>
                    <p:cNvPr id="1450" name=""/>
                    <p:cNvSpPr/>
                    <p:nvPr/>
                  </p:nvSpPr>
                  <p:spPr>
                    <a:xfrm>
                      <a:off x="934920" y="41972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982440" y="41986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2" name=""/>
                  <p:cNvGrpSpPr/>
                  <p:nvPr/>
                </p:nvGrpSpPr>
                <p:grpSpPr>
                  <a:xfrm>
                    <a:off x="860040" y="4252680"/>
                    <a:ext cx="231480" cy="157320"/>
                    <a:chOff x="860040" y="4252680"/>
                    <a:chExt cx="231480" cy="157320"/>
                  </a:xfrm>
                </p:grpSpPr>
                <p:sp>
                  <p:nvSpPr>
                    <p:cNvPr id="1453" name=""/>
                    <p:cNvSpPr/>
                    <p:nvPr/>
                  </p:nvSpPr>
                  <p:spPr>
                    <a:xfrm>
                      <a:off x="860040" y="4252680"/>
                      <a:ext cx="23148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4" name=""/>
                    <p:cNvSpPr/>
                    <p:nvPr/>
                  </p:nvSpPr>
                  <p:spPr>
                    <a:xfrm flipV="1">
                      <a:off x="860040" y="4255560"/>
                      <a:ext cx="114120" cy="15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5" name=""/>
                    <p:cNvSpPr/>
                    <p:nvPr/>
                  </p:nvSpPr>
                  <p:spPr>
                    <a:xfrm>
                      <a:off x="974160" y="4252680"/>
                      <a:ext cx="114480" cy="154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56" name=""/>
              <p:cNvGrpSpPr/>
              <p:nvPr/>
            </p:nvGrpSpPr>
            <p:grpSpPr>
              <a:xfrm>
                <a:off x="882720" y="4437000"/>
                <a:ext cx="2341440" cy="375840"/>
                <a:chOff x="882720" y="4437000"/>
                <a:chExt cx="2341440" cy="37584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949320" y="443700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8" name=""/>
                <p:cNvGrpSpPr/>
                <p:nvPr/>
              </p:nvGrpSpPr>
              <p:grpSpPr>
                <a:xfrm>
                  <a:off x="882720" y="4579920"/>
                  <a:ext cx="231480" cy="232560"/>
                  <a:chOff x="882720" y="4579920"/>
                  <a:chExt cx="231480" cy="232560"/>
                </a:xfrm>
              </p:grpSpPr>
              <p:grpSp>
                <p:nvGrpSpPr>
                  <p:cNvPr id="1459" name=""/>
                  <p:cNvGrpSpPr/>
                  <p:nvPr/>
                </p:nvGrpSpPr>
                <p:grpSpPr>
                  <a:xfrm>
                    <a:off x="882720" y="4622760"/>
                    <a:ext cx="231480" cy="189720"/>
                    <a:chOff x="882720" y="4622760"/>
                    <a:chExt cx="231480" cy="189720"/>
                  </a:xfrm>
                </p:grpSpPr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882720" y="4622760"/>
                      <a:ext cx="23148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1" name=""/>
                    <p:cNvSpPr/>
                    <p:nvPr/>
                  </p:nvSpPr>
                  <p:spPr>
                    <a:xfrm>
                      <a:off x="893520" y="4785840"/>
                      <a:ext cx="266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2" name=""/>
                    <p:cNvSpPr/>
                    <p:nvPr/>
                  </p:nvSpPr>
                  <p:spPr>
                    <a:xfrm>
                      <a:off x="1074600" y="4785840"/>
                      <a:ext cx="2808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63" name=""/>
                  <p:cNvGrpSpPr/>
                  <p:nvPr/>
                </p:nvGrpSpPr>
                <p:grpSpPr>
                  <a:xfrm>
                    <a:off x="960120" y="4579920"/>
                    <a:ext cx="73800" cy="28080"/>
                    <a:chOff x="960120" y="4579920"/>
                    <a:chExt cx="73800" cy="28080"/>
                  </a:xfrm>
                </p:grpSpPr>
                <p:sp>
                  <p:nvSpPr>
                    <p:cNvPr id="1464" name=""/>
                    <p:cNvSpPr/>
                    <p:nvPr/>
                  </p:nvSpPr>
                  <p:spPr>
                    <a:xfrm>
                      <a:off x="960120" y="457992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5" name=""/>
                    <p:cNvSpPr/>
                    <p:nvPr/>
                  </p:nvSpPr>
                  <p:spPr>
                    <a:xfrm>
                      <a:off x="1007280" y="45813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66" name=""/>
                <p:cNvSpPr/>
                <p:nvPr/>
              </p:nvSpPr>
              <p:spPr>
                <a:xfrm>
                  <a:off x="1143000" y="459720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(Lend Lease)    RU-42*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1177920" y="4452840"/>
                  <a:ext cx="63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8" name=""/>
            <p:cNvGrpSpPr/>
            <p:nvPr/>
          </p:nvGrpSpPr>
          <p:grpSpPr>
            <a:xfrm>
              <a:off x="579600" y="3616200"/>
              <a:ext cx="2625120" cy="523800"/>
              <a:chOff x="579600" y="3616200"/>
              <a:chExt cx="2625120" cy="523800"/>
            </a:xfrm>
          </p:grpSpPr>
          <p:grpSp>
            <p:nvGrpSpPr>
              <p:cNvPr id="1469" name=""/>
              <p:cNvGrpSpPr/>
              <p:nvPr/>
            </p:nvGrpSpPr>
            <p:grpSpPr>
              <a:xfrm>
                <a:off x="861840" y="3763800"/>
                <a:ext cx="2340720" cy="376200"/>
                <a:chOff x="861840" y="3763800"/>
                <a:chExt cx="2340720" cy="37620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928080" y="376380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1" name=""/>
                <p:cNvGrpSpPr/>
                <p:nvPr/>
              </p:nvGrpSpPr>
              <p:grpSpPr>
                <a:xfrm>
                  <a:off x="861840" y="3906720"/>
                  <a:ext cx="231480" cy="232560"/>
                  <a:chOff x="861840" y="3906720"/>
                  <a:chExt cx="231480" cy="232560"/>
                </a:xfrm>
              </p:grpSpPr>
              <p:grpSp>
                <p:nvGrpSpPr>
                  <p:cNvPr id="1472" name=""/>
                  <p:cNvGrpSpPr/>
                  <p:nvPr/>
                </p:nvGrpSpPr>
                <p:grpSpPr>
                  <a:xfrm>
                    <a:off x="861840" y="3949560"/>
                    <a:ext cx="231480" cy="189720"/>
                    <a:chOff x="861840" y="3949560"/>
                    <a:chExt cx="231480" cy="189720"/>
                  </a:xfrm>
                </p:grpSpPr>
                <p:sp>
                  <p:nvSpPr>
                    <p:cNvPr id="1473" name=""/>
                    <p:cNvSpPr/>
                    <p:nvPr/>
                  </p:nvSpPr>
                  <p:spPr>
                    <a:xfrm>
                      <a:off x="861840" y="3949560"/>
                      <a:ext cx="23148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4" name=""/>
                    <p:cNvSpPr/>
                    <p:nvPr/>
                  </p:nvSpPr>
                  <p:spPr>
                    <a:xfrm>
                      <a:off x="872640" y="4112640"/>
                      <a:ext cx="266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5" name=""/>
                    <p:cNvSpPr/>
                    <p:nvPr/>
                  </p:nvSpPr>
                  <p:spPr>
                    <a:xfrm>
                      <a:off x="1053720" y="4112640"/>
                      <a:ext cx="2808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939240" y="3906720"/>
                    <a:ext cx="73800" cy="28080"/>
                    <a:chOff x="939240" y="3906720"/>
                    <a:chExt cx="73800" cy="2808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939240" y="390672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986400" y="39081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79" name=""/>
                <p:cNvSpPr/>
                <p:nvPr/>
              </p:nvSpPr>
              <p:spPr>
                <a:xfrm>
                  <a:off x="1121760" y="392436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(Lend Lease)  RU-4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1152000" y="3763800"/>
                  <a:ext cx="632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579600" y="3616200"/>
                <a:ext cx="2625120" cy="226800"/>
                <a:chOff x="579600" y="3616200"/>
                <a:chExt cx="2625120" cy="22680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579600" y="375120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3" name=""/>
                <p:cNvGrpSpPr/>
                <p:nvPr/>
              </p:nvGrpSpPr>
              <p:grpSpPr>
                <a:xfrm>
                  <a:off x="853920" y="3616200"/>
                  <a:ext cx="245520" cy="214200"/>
                  <a:chOff x="853920" y="3616200"/>
                  <a:chExt cx="245520" cy="214200"/>
                </a:xfrm>
              </p:grpSpPr>
              <p:grpSp>
                <p:nvGrpSpPr>
                  <p:cNvPr id="1484" name=""/>
                  <p:cNvGrpSpPr/>
                  <p:nvPr/>
                </p:nvGrpSpPr>
                <p:grpSpPr>
                  <a:xfrm>
                    <a:off x="853920" y="3662280"/>
                    <a:ext cx="245520" cy="168120"/>
                    <a:chOff x="853920" y="3662280"/>
                    <a:chExt cx="245520" cy="168120"/>
                  </a:xfrm>
                </p:grpSpPr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853920" y="3662280"/>
                      <a:ext cx="245520" cy="1681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6" name=""/>
                    <p:cNvSpPr/>
                    <p:nvPr/>
                  </p:nvSpPr>
                  <p:spPr>
                    <a:xfrm>
                      <a:off x="864720" y="3676680"/>
                      <a:ext cx="228240" cy="139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7" name=""/>
                    <p:cNvSpPr/>
                    <p:nvPr/>
                  </p:nvSpPr>
                  <p:spPr>
                    <a:xfrm flipV="1">
                      <a:off x="864720" y="3676320"/>
                      <a:ext cx="219960" cy="128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859680" y="3676680"/>
                      <a:ext cx="52200" cy="13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66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9" name=""/>
                  <p:cNvGrpSpPr/>
                  <p:nvPr/>
                </p:nvGrpSpPr>
                <p:grpSpPr>
                  <a:xfrm>
                    <a:off x="939240" y="3616200"/>
                    <a:ext cx="73800" cy="28080"/>
                    <a:chOff x="939240" y="3616200"/>
                    <a:chExt cx="73800" cy="28080"/>
                  </a:xfrm>
                </p:grpSpPr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939240" y="361620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1" name=""/>
                    <p:cNvSpPr/>
                    <p:nvPr/>
                  </p:nvSpPr>
                  <p:spPr>
                    <a:xfrm>
                      <a:off x="986400" y="361764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92" name=""/>
                <p:cNvSpPr/>
                <p:nvPr/>
              </p:nvSpPr>
              <p:spPr>
                <a:xfrm>
                  <a:off x="1123560" y="362736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tiaircraft Machine Gun (d)  RU-2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3" name=""/>
            <p:cNvSpPr/>
            <p:nvPr/>
          </p:nvSpPr>
          <p:spPr>
            <a:xfrm>
              <a:off x="439560" y="5300640"/>
              <a:ext cx="2765520" cy="14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July 1942, add Armored Car Platoon and Antitank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July replace Mixed Tank Battalions with T34 and Light Battal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January 1943 add Antitank Rif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April 1943 replace Antiaircraft Battery with Antiaircraft Machinegu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April 1943, begin replacing light tanks with medium tank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5070600" y="264960"/>
            <a:ext cx="3060720" cy="5373000"/>
            <a:chOff x="5070600" y="264960"/>
            <a:chExt cx="3060720" cy="5373000"/>
          </a:xfrm>
        </p:grpSpPr>
        <p:sp>
          <p:nvSpPr>
            <p:cNvPr id="1495" name=""/>
            <p:cNvSpPr/>
            <p:nvPr/>
          </p:nvSpPr>
          <p:spPr>
            <a:xfrm>
              <a:off x="5070600" y="264960"/>
              <a:ext cx="2825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-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nk Brigade Oct ‘43 – May ‘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6" name=""/>
            <p:cNvGrpSpPr/>
            <p:nvPr/>
          </p:nvGrpSpPr>
          <p:grpSpPr>
            <a:xfrm>
              <a:off x="5319720" y="2071440"/>
              <a:ext cx="2516040" cy="377280"/>
              <a:chOff x="5319720" y="2071440"/>
              <a:chExt cx="2516040" cy="377280"/>
            </a:xfrm>
          </p:grpSpPr>
          <p:sp>
            <p:nvSpPr>
              <p:cNvPr id="1497" name=""/>
              <p:cNvSpPr/>
              <p:nvPr/>
            </p:nvSpPr>
            <p:spPr>
              <a:xfrm>
                <a:off x="5319720" y="22251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8" name=""/>
              <p:cNvGrpSpPr/>
              <p:nvPr/>
            </p:nvGrpSpPr>
            <p:grpSpPr>
              <a:xfrm>
                <a:off x="5603760" y="2071440"/>
                <a:ext cx="2232000" cy="377280"/>
                <a:chOff x="5603760" y="2071440"/>
                <a:chExt cx="2232000" cy="377280"/>
              </a:xfrm>
            </p:grpSpPr>
            <p:grpSp>
              <p:nvGrpSpPr>
                <p:cNvPr id="1499" name=""/>
                <p:cNvGrpSpPr/>
                <p:nvPr/>
              </p:nvGrpSpPr>
              <p:grpSpPr>
                <a:xfrm>
                  <a:off x="5603760" y="2071440"/>
                  <a:ext cx="284040" cy="258480"/>
                  <a:chOff x="5603760" y="2071440"/>
                  <a:chExt cx="284040" cy="258480"/>
                </a:xfrm>
              </p:grpSpPr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5603760" y="2136240"/>
                    <a:ext cx="284040" cy="193680"/>
                    <a:chOff x="5603760" y="2136240"/>
                    <a:chExt cx="284040" cy="193680"/>
                  </a:xfrm>
                </p:grpSpPr>
                <p:sp>
                  <p:nvSpPr>
                    <p:cNvPr id="1501" name=""/>
                    <p:cNvSpPr/>
                    <p:nvPr/>
                  </p:nvSpPr>
                  <p:spPr>
                    <a:xfrm>
                      <a:off x="5603760" y="2136240"/>
                      <a:ext cx="28404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655600" y="2184480"/>
                      <a:ext cx="182160" cy="925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3" name=""/>
                  <p:cNvGrpSpPr/>
                  <p:nvPr/>
                </p:nvGrpSpPr>
                <p:grpSpPr>
                  <a:xfrm>
                    <a:off x="5706720" y="2071440"/>
                    <a:ext cx="75960" cy="63360"/>
                    <a:chOff x="5706720" y="2071440"/>
                    <a:chExt cx="75960" cy="63360"/>
                  </a:xfrm>
                </p:grpSpPr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706720" y="20714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782680" y="20714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06" name=""/>
                <p:cNvSpPr/>
                <p:nvPr/>
              </p:nvSpPr>
              <p:spPr>
                <a:xfrm>
                  <a:off x="5887800" y="2111400"/>
                  <a:ext cx="1947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Medium Tank Battalion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2-Company battal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7" name=""/>
            <p:cNvGrpSpPr/>
            <p:nvPr/>
          </p:nvGrpSpPr>
          <p:grpSpPr>
            <a:xfrm>
              <a:off x="5286600" y="3062160"/>
              <a:ext cx="2844720" cy="432360"/>
              <a:chOff x="5286600" y="3062160"/>
              <a:chExt cx="2844720" cy="432360"/>
            </a:xfrm>
          </p:grpSpPr>
          <p:grpSp>
            <p:nvGrpSpPr>
              <p:cNvPr id="1508" name=""/>
              <p:cNvGrpSpPr/>
              <p:nvPr/>
            </p:nvGrpSpPr>
            <p:grpSpPr>
              <a:xfrm>
                <a:off x="5286600" y="3062160"/>
                <a:ext cx="582120" cy="299520"/>
                <a:chOff x="5286600" y="3062160"/>
                <a:chExt cx="582120" cy="2995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5286600" y="32558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5521680" y="3062160"/>
                  <a:ext cx="347040" cy="299520"/>
                  <a:chOff x="5521680" y="3062160"/>
                  <a:chExt cx="347040" cy="299520"/>
                </a:xfrm>
              </p:grpSpPr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5521680" y="3125520"/>
                    <a:ext cx="347040" cy="236160"/>
                    <a:chOff x="5521680" y="3125520"/>
                    <a:chExt cx="347040" cy="2361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5521680" y="3125520"/>
                      <a:ext cx="347040" cy="2361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 flipV="1">
                      <a:off x="5525280" y="3129120"/>
                      <a:ext cx="338400" cy="23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5521680" y="3129120"/>
                      <a:ext cx="345600" cy="22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5" name=""/>
                  <p:cNvGrpSpPr/>
                  <p:nvPr/>
                </p:nvGrpSpPr>
                <p:grpSpPr>
                  <a:xfrm>
                    <a:off x="5666040" y="3062160"/>
                    <a:ext cx="75600" cy="63360"/>
                    <a:chOff x="5666040" y="3062160"/>
                    <a:chExt cx="75600" cy="63360"/>
                  </a:xfrm>
                </p:grpSpPr>
                <p:sp>
                  <p:nvSpPr>
                    <p:cNvPr id="1516" name=""/>
                    <p:cNvSpPr/>
                    <p:nvPr/>
                  </p:nvSpPr>
                  <p:spPr>
                    <a:xfrm>
                      <a:off x="5666040" y="30621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741640" y="30621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518" name=""/>
              <p:cNvSpPr/>
              <p:nvPr/>
            </p:nvSpPr>
            <p:spPr>
              <a:xfrm>
                <a:off x="5888160" y="3093840"/>
                <a:ext cx="2243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torized Rifle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 motorized rifle Co., 1 tank rider SMG Co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9" name=""/>
            <p:cNvSpPr/>
            <p:nvPr/>
          </p:nvSpPr>
          <p:spPr>
            <a:xfrm>
              <a:off x="5295960" y="966600"/>
              <a:ext cx="12600" cy="410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0" name=""/>
            <p:cNvGrpSpPr/>
            <p:nvPr/>
          </p:nvGrpSpPr>
          <p:grpSpPr>
            <a:xfrm>
              <a:off x="5119920" y="753840"/>
              <a:ext cx="347040" cy="299520"/>
              <a:chOff x="5119920" y="753840"/>
              <a:chExt cx="347040" cy="299520"/>
            </a:xfrm>
          </p:grpSpPr>
          <p:grpSp>
            <p:nvGrpSpPr>
              <p:cNvPr id="1521" name=""/>
              <p:cNvGrpSpPr/>
              <p:nvPr/>
            </p:nvGrpSpPr>
            <p:grpSpPr>
              <a:xfrm>
                <a:off x="5256000" y="753840"/>
                <a:ext cx="75960" cy="63360"/>
                <a:chOff x="5256000" y="753840"/>
                <a:chExt cx="75960" cy="6336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5256000" y="753840"/>
                  <a:ext cx="759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V="1">
                  <a:off x="5256000" y="753840"/>
                  <a:ext cx="759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5119920" y="817200"/>
                <a:ext cx="347040" cy="236160"/>
                <a:chOff x="5119920" y="817200"/>
                <a:chExt cx="347040" cy="236160"/>
              </a:xfrm>
            </p:grpSpPr>
            <p:sp>
              <p:nvSpPr>
                <p:cNvPr id="1525" name=""/>
                <p:cNvSpPr/>
                <p:nvPr/>
              </p:nvSpPr>
              <p:spPr>
                <a:xfrm>
                  <a:off x="5119920" y="817200"/>
                  <a:ext cx="347040" cy="2361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5183640" y="876240"/>
                  <a:ext cx="222840" cy="11268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7" name=""/>
            <p:cNvSpPr/>
            <p:nvPr/>
          </p:nvSpPr>
          <p:spPr>
            <a:xfrm>
              <a:off x="5934240" y="183492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5300640" y="2531880"/>
              <a:ext cx="2681280" cy="242640"/>
              <a:chOff x="5300640" y="2531880"/>
              <a:chExt cx="2681280" cy="242640"/>
            </a:xfrm>
          </p:grpSpPr>
          <p:grpSp>
            <p:nvGrpSpPr>
              <p:cNvPr id="1529" name=""/>
              <p:cNvGrpSpPr/>
              <p:nvPr/>
            </p:nvGrpSpPr>
            <p:grpSpPr>
              <a:xfrm>
                <a:off x="5300640" y="2531880"/>
                <a:ext cx="554040" cy="225000"/>
                <a:chOff x="5300640" y="2531880"/>
                <a:chExt cx="554040" cy="22500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5300640" y="264780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1" name=""/>
                <p:cNvGrpSpPr/>
                <p:nvPr/>
              </p:nvGrpSpPr>
              <p:grpSpPr>
                <a:xfrm>
                  <a:off x="5562720" y="2531880"/>
                  <a:ext cx="291960" cy="225000"/>
                  <a:chOff x="5562720" y="2531880"/>
                  <a:chExt cx="291960" cy="225000"/>
                </a:xfrm>
              </p:grpSpPr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5562720" y="2566080"/>
                    <a:ext cx="291960" cy="190800"/>
                    <a:chOff x="5562720" y="2566080"/>
                    <a:chExt cx="291960" cy="190800"/>
                  </a:xfrm>
                </p:grpSpPr>
                <p:grpSp>
                  <p:nvGrpSpPr>
                    <p:cNvPr id="1533" name=""/>
                    <p:cNvGrpSpPr/>
                    <p:nvPr/>
                  </p:nvGrpSpPr>
                  <p:grpSpPr>
                    <a:xfrm>
                      <a:off x="5562720" y="2566440"/>
                      <a:ext cx="291960" cy="190440"/>
                      <a:chOff x="5562720" y="2566440"/>
                      <a:chExt cx="291960" cy="190440"/>
                    </a:xfrm>
                  </p:grpSpPr>
                  <p:sp>
                    <p:nvSpPr>
                      <p:cNvPr id="1534" name=""/>
                      <p:cNvSpPr/>
                      <p:nvPr/>
                    </p:nvSpPr>
                    <p:spPr>
                      <a:xfrm>
                        <a:off x="5562720" y="2566440"/>
                        <a:ext cx="291960" cy="19044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5" name=""/>
                      <p:cNvSpPr/>
                      <p:nvPr/>
                    </p:nvSpPr>
                    <p:spPr>
                      <a:xfrm>
                        <a:off x="5616360" y="2613960"/>
                        <a:ext cx="184320" cy="907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280" bIns="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36" name=""/>
                    <p:cNvSpPr/>
                    <p:nvPr/>
                  </p:nvSpPr>
                  <p:spPr>
                    <a:xfrm flipV="1">
                      <a:off x="5562720" y="2566080"/>
                      <a:ext cx="287640" cy="190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7" name=""/>
                  <p:cNvGrpSpPr/>
                  <p:nvPr/>
                </p:nvGrpSpPr>
                <p:grpSpPr>
                  <a:xfrm>
                    <a:off x="5641920" y="2531880"/>
                    <a:ext cx="131040" cy="26640"/>
                    <a:chOff x="5641920" y="2531880"/>
                    <a:chExt cx="131040" cy="26640"/>
                  </a:xfrm>
                </p:grpSpPr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641920" y="25318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692320" y="253188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746320" y="25318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541" name=""/>
              <p:cNvSpPr/>
              <p:nvPr/>
            </p:nvSpPr>
            <p:spPr>
              <a:xfrm>
                <a:off x="5900760" y="25588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Armored Scout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5295960" y="3692520"/>
              <a:ext cx="2625840" cy="523440"/>
              <a:chOff x="5295960" y="3692520"/>
              <a:chExt cx="2625840" cy="523440"/>
            </a:xfrm>
          </p:grpSpPr>
          <p:sp>
            <p:nvSpPr>
              <p:cNvPr id="1543" name=""/>
              <p:cNvSpPr/>
              <p:nvPr/>
            </p:nvSpPr>
            <p:spPr>
              <a:xfrm>
                <a:off x="5645160" y="384012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4" name=""/>
              <p:cNvGrpSpPr/>
              <p:nvPr/>
            </p:nvGrpSpPr>
            <p:grpSpPr>
              <a:xfrm>
                <a:off x="5295960" y="3692520"/>
                <a:ext cx="520560" cy="214200"/>
                <a:chOff x="5295960" y="3692520"/>
                <a:chExt cx="520560" cy="21420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5295960" y="38271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6" name=""/>
                <p:cNvGrpSpPr/>
                <p:nvPr/>
              </p:nvGrpSpPr>
              <p:grpSpPr>
                <a:xfrm>
                  <a:off x="5570640" y="3692520"/>
                  <a:ext cx="245880" cy="214200"/>
                  <a:chOff x="5570640" y="3692520"/>
                  <a:chExt cx="245880" cy="214200"/>
                </a:xfrm>
              </p:grpSpPr>
              <p:grpSp>
                <p:nvGrpSpPr>
                  <p:cNvPr id="1547" name=""/>
                  <p:cNvGrpSpPr/>
                  <p:nvPr/>
                </p:nvGrpSpPr>
                <p:grpSpPr>
                  <a:xfrm>
                    <a:off x="5570640" y="3738600"/>
                    <a:ext cx="245880" cy="168120"/>
                    <a:chOff x="5570640" y="3738600"/>
                    <a:chExt cx="245880" cy="168120"/>
                  </a:xfrm>
                </p:grpSpPr>
                <p:sp>
                  <p:nvSpPr>
                    <p:cNvPr id="1548" name=""/>
                    <p:cNvSpPr/>
                    <p:nvPr/>
                  </p:nvSpPr>
                  <p:spPr>
                    <a:xfrm>
                      <a:off x="5570640" y="3738600"/>
                      <a:ext cx="245880" cy="1681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9" name=""/>
                    <p:cNvSpPr/>
                    <p:nvPr/>
                  </p:nvSpPr>
                  <p:spPr>
                    <a:xfrm>
                      <a:off x="5581800" y="3753000"/>
                      <a:ext cx="228600" cy="139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0" name=""/>
                    <p:cNvSpPr/>
                    <p:nvPr/>
                  </p:nvSpPr>
                  <p:spPr>
                    <a:xfrm flipV="1">
                      <a:off x="5581800" y="3752640"/>
                      <a:ext cx="220320" cy="128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1" name=""/>
                    <p:cNvSpPr/>
                    <p:nvPr/>
                  </p:nvSpPr>
                  <p:spPr>
                    <a:xfrm>
                      <a:off x="5576760" y="3753000"/>
                      <a:ext cx="52560" cy="13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66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52" name=""/>
                  <p:cNvGrpSpPr/>
                  <p:nvPr/>
                </p:nvGrpSpPr>
                <p:grpSpPr>
                  <a:xfrm>
                    <a:off x="5655960" y="3692520"/>
                    <a:ext cx="73800" cy="28080"/>
                    <a:chOff x="5655960" y="3692520"/>
                    <a:chExt cx="73800" cy="28080"/>
                  </a:xfrm>
                </p:grpSpPr>
                <p:sp>
                  <p:nvSpPr>
                    <p:cNvPr id="1553" name=""/>
                    <p:cNvSpPr/>
                    <p:nvPr/>
                  </p:nvSpPr>
                  <p:spPr>
                    <a:xfrm>
                      <a:off x="5655960" y="369252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4" name=""/>
                    <p:cNvSpPr/>
                    <p:nvPr/>
                  </p:nvSpPr>
                  <p:spPr>
                    <a:xfrm>
                      <a:off x="5703120" y="36939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55" name=""/>
              <p:cNvGrpSpPr/>
              <p:nvPr/>
            </p:nvGrpSpPr>
            <p:grpSpPr>
              <a:xfrm>
                <a:off x="5578560" y="3983040"/>
                <a:ext cx="231840" cy="232560"/>
                <a:chOff x="5578560" y="3983040"/>
                <a:chExt cx="231840" cy="232560"/>
              </a:xfrm>
            </p:grpSpPr>
            <p:grpSp>
              <p:nvGrpSpPr>
                <p:cNvPr id="1556" name=""/>
                <p:cNvGrpSpPr/>
                <p:nvPr/>
              </p:nvGrpSpPr>
              <p:grpSpPr>
                <a:xfrm>
                  <a:off x="5578560" y="4025880"/>
                  <a:ext cx="231840" cy="189720"/>
                  <a:chOff x="5578560" y="4025880"/>
                  <a:chExt cx="231840" cy="18972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>
                    <a:off x="5578560" y="402588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5589720" y="418896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5770800" y="418896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5656320" y="3983040"/>
                  <a:ext cx="74520" cy="28080"/>
                  <a:chOff x="5656320" y="3983040"/>
                  <a:chExt cx="74520" cy="2808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5656320" y="39830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5703840" y="3984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63" name=""/>
              <p:cNvSpPr/>
              <p:nvPr/>
            </p:nvSpPr>
            <p:spPr>
              <a:xfrm>
                <a:off x="5840280" y="370332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aircraft Machine Gun  RU-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38840" y="40003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(Lend Lease)  RU-42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5294520" y="4228920"/>
              <a:ext cx="2652120" cy="569880"/>
              <a:chOff x="5294520" y="4228920"/>
              <a:chExt cx="2652120" cy="569880"/>
            </a:xfrm>
          </p:grpSpPr>
          <p:sp>
            <p:nvSpPr>
              <p:cNvPr id="1566" name=""/>
              <p:cNvSpPr/>
              <p:nvPr/>
            </p:nvSpPr>
            <p:spPr>
              <a:xfrm>
                <a:off x="5616720" y="4431960"/>
                <a:ext cx="0" cy="23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7" name=""/>
              <p:cNvGrpSpPr/>
              <p:nvPr/>
            </p:nvGrpSpPr>
            <p:grpSpPr>
              <a:xfrm>
                <a:off x="5578560" y="4565160"/>
                <a:ext cx="231480" cy="233640"/>
                <a:chOff x="5578560" y="4565160"/>
                <a:chExt cx="231480" cy="233640"/>
              </a:xfrm>
            </p:grpSpPr>
            <p:grpSp>
              <p:nvGrpSpPr>
                <p:cNvPr id="1568" name=""/>
                <p:cNvGrpSpPr/>
                <p:nvPr/>
              </p:nvGrpSpPr>
              <p:grpSpPr>
                <a:xfrm>
                  <a:off x="5578560" y="4608360"/>
                  <a:ext cx="231480" cy="190440"/>
                  <a:chOff x="5578560" y="4608360"/>
                  <a:chExt cx="231480" cy="19044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5578560" y="460836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5589360" y="4771800"/>
                    <a:ext cx="266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5770440" y="4771800"/>
                    <a:ext cx="2808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5655960" y="4565160"/>
                  <a:ext cx="73800" cy="28800"/>
                  <a:chOff x="5655960" y="4565160"/>
                  <a:chExt cx="73800" cy="2880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>
                    <a:off x="5655960" y="45651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5703120" y="45669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5" name=""/>
              <p:cNvSpPr/>
              <p:nvPr/>
            </p:nvSpPr>
            <p:spPr>
              <a:xfrm>
                <a:off x="5840280" y="45828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(Lend Lease)  RU-42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6" name=""/>
              <p:cNvGrpSpPr/>
              <p:nvPr/>
            </p:nvGrpSpPr>
            <p:grpSpPr>
              <a:xfrm>
                <a:off x="5294520" y="4228920"/>
                <a:ext cx="2652120" cy="215640"/>
                <a:chOff x="5294520" y="4228920"/>
                <a:chExt cx="2652120" cy="215640"/>
              </a:xfrm>
            </p:grpSpPr>
            <p:sp>
              <p:nvSpPr>
                <p:cNvPr id="1577" name=""/>
                <p:cNvSpPr/>
                <p:nvPr/>
              </p:nvSpPr>
              <p:spPr>
                <a:xfrm>
                  <a:off x="5294520" y="435276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8" name=""/>
                <p:cNvGrpSpPr/>
                <p:nvPr/>
              </p:nvGrpSpPr>
              <p:grpSpPr>
                <a:xfrm>
                  <a:off x="5578560" y="4249440"/>
                  <a:ext cx="231480" cy="193680"/>
                  <a:chOff x="5578560" y="4249440"/>
                  <a:chExt cx="231480" cy="193680"/>
                </a:xfrm>
              </p:grpSpPr>
              <p:grpSp>
                <p:nvGrpSpPr>
                  <p:cNvPr id="1579" name=""/>
                  <p:cNvGrpSpPr/>
                  <p:nvPr/>
                </p:nvGrpSpPr>
                <p:grpSpPr>
                  <a:xfrm>
                    <a:off x="5655960" y="4249440"/>
                    <a:ext cx="74520" cy="28800"/>
                    <a:chOff x="5655960" y="4249440"/>
                    <a:chExt cx="74520" cy="28800"/>
                  </a:xfrm>
                </p:grpSpPr>
                <p:sp>
                  <p:nvSpPr>
                    <p:cNvPr id="1580" name=""/>
                    <p:cNvSpPr/>
                    <p:nvPr/>
                  </p:nvSpPr>
                  <p:spPr>
                    <a:xfrm>
                      <a:off x="5655960" y="42494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1" name=""/>
                    <p:cNvSpPr/>
                    <p:nvPr/>
                  </p:nvSpPr>
                  <p:spPr>
                    <a:xfrm>
                      <a:off x="5703480" y="42512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2" name=""/>
                  <p:cNvGrpSpPr/>
                  <p:nvPr/>
                </p:nvGrpSpPr>
                <p:grpSpPr>
                  <a:xfrm>
                    <a:off x="5578560" y="4286160"/>
                    <a:ext cx="231480" cy="156960"/>
                    <a:chOff x="5578560" y="4286160"/>
                    <a:chExt cx="231480" cy="156960"/>
                  </a:xfrm>
                </p:grpSpPr>
                <p:sp>
                  <p:nvSpPr>
                    <p:cNvPr id="1583" name=""/>
                    <p:cNvSpPr/>
                    <p:nvPr/>
                  </p:nvSpPr>
                  <p:spPr>
                    <a:xfrm>
                      <a:off x="5578560" y="428616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5649840" y="4333320"/>
                      <a:ext cx="0" cy="5004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5691240" y="4335840"/>
                      <a:ext cx="0" cy="4752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6" name=""/>
                    <p:cNvSpPr/>
                    <p:nvPr/>
                  </p:nvSpPr>
                  <p:spPr>
                    <a:xfrm>
                      <a:off x="5731560" y="4337280"/>
                      <a:ext cx="0" cy="4608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7" name=""/>
                    <p:cNvSpPr/>
                    <p:nvPr/>
                  </p:nvSpPr>
                  <p:spPr>
                    <a:xfrm>
                      <a:off x="5644800" y="4335840"/>
                      <a:ext cx="9360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88" name=""/>
                <p:cNvSpPr/>
                <p:nvPr/>
              </p:nvSpPr>
              <p:spPr>
                <a:xfrm>
                  <a:off x="5865840" y="422892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appers                               RU-2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9" name=""/>
            <p:cNvSpPr/>
            <p:nvPr/>
          </p:nvSpPr>
          <p:spPr>
            <a:xfrm>
              <a:off x="5592960" y="286848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BATTLE GROU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570640" y="349884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1" name=""/>
            <p:cNvGrpSpPr/>
            <p:nvPr/>
          </p:nvGrpSpPr>
          <p:grpSpPr>
            <a:xfrm>
              <a:off x="5326200" y="4927320"/>
              <a:ext cx="2622240" cy="234720"/>
              <a:chOff x="5326200" y="4927320"/>
              <a:chExt cx="2622240" cy="234720"/>
            </a:xfrm>
          </p:grpSpPr>
          <p:sp>
            <p:nvSpPr>
              <p:cNvPr id="1592" name=""/>
              <p:cNvSpPr/>
              <p:nvPr/>
            </p:nvSpPr>
            <p:spPr>
              <a:xfrm>
                <a:off x="5326200" y="50558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867280" y="49464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Antitank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5592600" y="4927320"/>
                <a:ext cx="231480" cy="212760"/>
                <a:chOff x="5592600" y="4927320"/>
                <a:chExt cx="231480" cy="212760"/>
              </a:xfrm>
            </p:grpSpPr>
            <p:grpSp>
              <p:nvGrpSpPr>
                <p:cNvPr id="1595" name=""/>
                <p:cNvGrpSpPr/>
                <p:nvPr/>
              </p:nvGrpSpPr>
              <p:grpSpPr>
                <a:xfrm>
                  <a:off x="5667480" y="4927320"/>
                  <a:ext cx="74520" cy="28080"/>
                  <a:chOff x="5667480" y="4927320"/>
                  <a:chExt cx="74520" cy="2808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5667480" y="49273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5715000" y="49287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8" name=""/>
                <p:cNvGrpSpPr/>
                <p:nvPr/>
              </p:nvGrpSpPr>
              <p:grpSpPr>
                <a:xfrm>
                  <a:off x="5592600" y="4982760"/>
                  <a:ext cx="231480" cy="157320"/>
                  <a:chOff x="5592600" y="4982760"/>
                  <a:chExt cx="231480" cy="157320"/>
                </a:xfrm>
              </p:grpSpPr>
              <p:sp>
                <p:nvSpPr>
                  <p:cNvPr id="1599" name=""/>
                  <p:cNvSpPr/>
                  <p:nvPr/>
                </p:nvSpPr>
                <p:spPr>
                  <a:xfrm>
                    <a:off x="5592600" y="498276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 flipV="1">
                    <a:off x="5592600" y="498564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5706720" y="4982760"/>
                    <a:ext cx="11448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02" name=""/>
            <p:cNvGrpSpPr/>
            <p:nvPr/>
          </p:nvGrpSpPr>
          <p:grpSpPr>
            <a:xfrm>
              <a:off x="5324400" y="877680"/>
              <a:ext cx="2638440" cy="856800"/>
              <a:chOff x="5324400" y="877680"/>
              <a:chExt cx="2638440" cy="856800"/>
            </a:xfrm>
          </p:grpSpPr>
          <p:grpSp>
            <p:nvGrpSpPr>
              <p:cNvPr id="1603" name=""/>
              <p:cNvGrpSpPr/>
              <p:nvPr/>
            </p:nvGrpSpPr>
            <p:grpSpPr>
              <a:xfrm>
                <a:off x="5324400" y="877680"/>
                <a:ext cx="2638440" cy="498600"/>
                <a:chOff x="5324400" y="877680"/>
                <a:chExt cx="2638440" cy="49860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5324400" y="12920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649840" y="877680"/>
                  <a:ext cx="2313000" cy="498600"/>
                  <a:chOff x="5649840" y="877680"/>
                  <a:chExt cx="2313000" cy="49860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5727600" y="877680"/>
                    <a:ext cx="17542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HEADQUARTERS ELE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5881680" y="1035000"/>
                    <a:ext cx="8380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8" name=""/>
                  <p:cNvGrpSpPr/>
                  <p:nvPr/>
                </p:nvGrpSpPr>
                <p:grpSpPr>
                  <a:xfrm>
                    <a:off x="5649840" y="1153800"/>
                    <a:ext cx="2313000" cy="222480"/>
                    <a:chOff x="5649840" y="1153800"/>
                    <a:chExt cx="2313000" cy="222480"/>
                  </a:xfrm>
                </p:grpSpPr>
                <p:grpSp>
                  <p:nvGrpSpPr>
                    <p:cNvPr id="1609" name=""/>
                    <p:cNvGrpSpPr/>
                    <p:nvPr/>
                  </p:nvGrpSpPr>
                  <p:grpSpPr>
                    <a:xfrm>
                      <a:off x="5649840" y="1174680"/>
                      <a:ext cx="231840" cy="201600"/>
                      <a:chOff x="5649840" y="1174680"/>
                      <a:chExt cx="231840" cy="201600"/>
                    </a:xfrm>
                  </p:grpSpPr>
                  <p:grpSp>
                    <p:nvGrpSpPr>
                      <p:cNvPr id="1610" name=""/>
                      <p:cNvGrpSpPr/>
                      <p:nvPr/>
                    </p:nvGrpSpPr>
                    <p:grpSpPr>
                      <a:xfrm>
                        <a:off x="5649840" y="1218960"/>
                        <a:ext cx="231840" cy="157320"/>
                        <a:chOff x="5649840" y="1218960"/>
                        <a:chExt cx="231840" cy="157320"/>
                      </a:xfrm>
                    </p:grpSpPr>
                    <p:sp>
                      <p:nvSpPr>
                        <p:cNvPr id="1611" name=""/>
                        <p:cNvSpPr/>
                        <p:nvPr/>
                      </p:nvSpPr>
                      <p:spPr>
                        <a:xfrm>
                          <a:off x="5649840" y="1218960"/>
                          <a:ext cx="231840" cy="157320"/>
                        </a:xfrm>
                        <a:prstGeom prst="rect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2" name=""/>
                        <p:cNvSpPr/>
                        <p:nvPr/>
                      </p:nvSpPr>
                      <p:spPr>
                        <a:xfrm>
                          <a:off x="5692320" y="1258200"/>
                          <a:ext cx="148680" cy="7488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13" name=""/>
                      <p:cNvGrpSpPr/>
                      <p:nvPr/>
                    </p:nvGrpSpPr>
                    <p:grpSpPr>
                      <a:xfrm>
                        <a:off x="5727600" y="1174680"/>
                        <a:ext cx="74520" cy="28080"/>
                        <a:chOff x="5727600" y="1174680"/>
                        <a:chExt cx="74520" cy="28080"/>
                      </a:xfrm>
                    </p:grpSpPr>
                    <p:sp>
                      <p:nvSpPr>
                        <p:cNvPr id="1614" name=""/>
                        <p:cNvSpPr/>
                        <p:nvPr/>
                      </p:nvSpPr>
                      <p:spPr>
                        <a:xfrm>
                          <a:off x="5727600" y="117468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5" name=""/>
                        <p:cNvSpPr/>
                        <p:nvPr/>
                      </p:nvSpPr>
                      <p:spPr>
                        <a:xfrm>
                          <a:off x="5775120" y="1176120"/>
                          <a:ext cx="270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6" name=""/>
                    <p:cNvSpPr/>
                    <p:nvPr/>
                  </p:nvSpPr>
                  <p:spPr>
                    <a:xfrm>
                      <a:off x="5881680" y="1153800"/>
                      <a:ext cx="208116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34 76mm Tank (a)                RU-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17" name=""/>
              <p:cNvGrpSpPr/>
              <p:nvPr/>
            </p:nvGrpSpPr>
            <p:grpSpPr>
              <a:xfrm>
                <a:off x="5738760" y="1356840"/>
                <a:ext cx="2052360" cy="377640"/>
                <a:chOff x="5738760" y="1356840"/>
                <a:chExt cx="2052360" cy="377640"/>
              </a:xfrm>
            </p:grpSpPr>
            <p:grpSp>
              <p:nvGrpSpPr>
                <p:cNvPr id="1618" name=""/>
                <p:cNvGrpSpPr/>
                <p:nvPr/>
              </p:nvGrpSpPr>
              <p:grpSpPr>
                <a:xfrm>
                  <a:off x="5738760" y="1376280"/>
                  <a:ext cx="2052360" cy="358200"/>
                  <a:chOff x="5738760" y="1376280"/>
                  <a:chExt cx="2052360" cy="35820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6161040" y="1376280"/>
                    <a:ext cx="16300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669900"/>
                        </a:solidFill>
                        <a:latin typeface="Arial"/>
                      </a:rPr>
                      <a:t>Armored Car Plato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20" name=""/>
                  <p:cNvGrpSpPr/>
                  <p:nvPr/>
                </p:nvGrpSpPr>
                <p:grpSpPr>
                  <a:xfrm>
                    <a:off x="5738760" y="1512720"/>
                    <a:ext cx="1697400" cy="221760"/>
                    <a:chOff x="5738760" y="1512720"/>
                    <a:chExt cx="1697400" cy="221760"/>
                  </a:xfrm>
                </p:grpSpPr>
                <p:sp>
                  <p:nvSpPr>
                    <p:cNvPr id="1621" name=""/>
                    <p:cNvSpPr/>
                    <p:nvPr/>
                  </p:nvSpPr>
                  <p:spPr>
                    <a:xfrm>
                      <a:off x="5738760" y="161928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2" name=""/>
                    <p:cNvSpPr/>
                    <p:nvPr/>
                  </p:nvSpPr>
                  <p:spPr>
                    <a:xfrm>
                      <a:off x="6254280" y="1603440"/>
                      <a:ext cx="11818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-64                RU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23" name=""/>
                    <p:cNvGrpSpPr/>
                    <p:nvPr/>
                  </p:nvGrpSpPr>
                  <p:grpSpPr>
                    <a:xfrm>
                      <a:off x="5887800" y="1512720"/>
                      <a:ext cx="231480" cy="221760"/>
                      <a:chOff x="5887800" y="1512720"/>
                      <a:chExt cx="231480" cy="221760"/>
                    </a:xfrm>
                  </p:grpSpPr>
                  <p:grpSp>
                    <p:nvGrpSpPr>
                      <p:cNvPr id="1624" name=""/>
                      <p:cNvGrpSpPr/>
                      <p:nvPr/>
                    </p:nvGrpSpPr>
                    <p:grpSpPr>
                      <a:xfrm>
                        <a:off x="5887800" y="1544040"/>
                        <a:ext cx="231480" cy="190440"/>
                        <a:chOff x="5887800" y="1544040"/>
                        <a:chExt cx="231480" cy="190440"/>
                      </a:xfrm>
                    </p:grpSpPr>
                    <p:sp>
                      <p:nvSpPr>
                        <p:cNvPr id="1625" name=""/>
                        <p:cNvSpPr/>
                        <p:nvPr/>
                      </p:nvSpPr>
                      <p:spPr>
                        <a:xfrm>
                          <a:off x="5887800" y="1544400"/>
                          <a:ext cx="231480" cy="156960"/>
                        </a:xfrm>
                        <a:prstGeom prst="rect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26" name=""/>
                        <p:cNvSpPr/>
                        <p:nvPr/>
                      </p:nvSpPr>
                      <p:spPr>
                        <a:xfrm>
                          <a:off x="5898240" y="170748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27" name=""/>
                        <p:cNvSpPr/>
                        <p:nvPr/>
                      </p:nvSpPr>
                      <p:spPr>
                        <a:xfrm>
                          <a:off x="6080040" y="1707480"/>
                          <a:ext cx="27360" cy="2700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28" name=""/>
                        <p:cNvSpPr/>
                        <p:nvPr/>
                      </p:nvSpPr>
                      <p:spPr>
                        <a:xfrm>
                          <a:off x="5920920" y="1585800"/>
                          <a:ext cx="161280" cy="74880"/>
                        </a:xfrm>
                        <a:prstGeom prst="ellipse">
                          <a:avLst/>
                        </a:prstGeom>
                        <a:solidFill>
                          <a:srgbClr val="6699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29" name=""/>
                        <p:cNvSpPr/>
                        <p:nvPr/>
                      </p:nvSpPr>
                      <p:spPr>
                        <a:xfrm flipV="1">
                          <a:off x="5889960" y="1544040"/>
                          <a:ext cx="227520" cy="15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30" name=""/>
                      <p:cNvGrpSpPr/>
                      <p:nvPr/>
                    </p:nvGrpSpPr>
                    <p:grpSpPr>
                      <a:xfrm>
                        <a:off x="5965560" y="1512720"/>
                        <a:ext cx="74160" cy="27000"/>
                        <a:chOff x="5965560" y="1512720"/>
                        <a:chExt cx="74160" cy="27000"/>
                      </a:xfrm>
                    </p:grpSpPr>
                    <p:sp>
                      <p:nvSpPr>
                        <p:cNvPr id="1631" name=""/>
                        <p:cNvSpPr/>
                        <p:nvPr/>
                      </p:nvSpPr>
                      <p:spPr>
                        <a:xfrm>
                          <a:off x="5965560" y="151272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32" name=""/>
                        <p:cNvSpPr/>
                        <p:nvPr/>
                      </p:nvSpPr>
                      <p:spPr>
                        <a:xfrm>
                          <a:off x="6013080" y="151272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633" name=""/>
                <p:cNvSpPr/>
                <p:nvPr/>
              </p:nvSpPr>
              <p:spPr>
                <a:xfrm flipV="1">
                  <a:off x="5748480" y="1356840"/>
                  <a:ext cx="7920" cy="244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4" name=""/>
            <p:cNvSpPr/>
            <p:nvPr/>
          </p:nvSpPr>
          <p:spPr>
            <a:xfrm>
              <a:off x="5249880" y="5300640"/>
              <a:ext cx="276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early 1944, may replace T34 76mm Tank with T34 85mm Tank, RU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4:46:52Z</dcterms:created>
  <dc:creator>James Baker</dc:creator>
  <dc:description/>
  <dc:language>en-US</dc:language>
  <cp:lastModifiedBy>James Baker</cp:lastModifiedBy>
  <dcterms:modified xsi:type="dcterms:W3CDTF">2010-06-18T09:22:22Z</dcterms:modified>
  <cp:revision>114</cp:revision>
  <dc:subject/>
  <dc:title>PowerPoint Presentation</dc:title>
</cp:coreProperties>
</file>