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113-137B-4E53-AAB7-C8B949FC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C34-6DFD-4E82-88F5-6856E4D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65E-B8B5-4337-9B52-2A60DC85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4D1-A97F-49F9-8E8E-8CC411B7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B38-2F0C-410B-B7F5-5B2F30AB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27B-1386-44A7-927A-5DFF8FFC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C89-F4FD-4CC7-BAD3-28331FA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CE8-50F8-4C71-A9CD-03A28D24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273-2EC2-4DC6-AD3D-DF235C95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EE0-5E72-4C35-A348-30094FE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57A-52EA-49F9-88E8-966FD11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3EF-9FC8-48F5-AAE2-E381D607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3ED-F9DF-4706-BDB3-A9844D386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4120" y="-360"/>
            <a:ext cx="66070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ssian Ski Troo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G-14-&gt;BG-15, ME-26-&gt;ME-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70120" y="88596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57120" y="1011240"/>
            <a:ext cx="2606760" cy="360000"/>
            <a:chOff x="357120" y="1011240"/>
            <a:chExt cx="2606760" cy="360000"/>
          </a:xfrm>
        </p:grpSpPr>
        <p:sp>
          <p:nvSpPr>
            <p:cNvPr id="44" name=""/>
            <p:cNvSpPr/>
            <p:nvPr/>
          </p:nvSpPr>
          <p:spPr>
            <a:xfrm>
              <a:off x="884160" y="101124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7120" y="12603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2360" y="115560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55560" y="1138320"/>
              <a:ext cx="237960" cy="190440"/>
              <a:chOff x="655560" y="1138320"/>
              <a:chExt cx="237960" cy="190440"/>
            </a:xfrm>
          </p:grpSpPr>
          <p:sp>
            <p:nvSpPr>
              <p:cNvPr id="48" name=""/>
              <p:cNvSpPr/>
              <p:nvPr/>
            </p:nvSpPr>
            <p:spPr>
              <a:xfrm>
                <a:off x="655560" y="117180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0" y="1138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351000" y="3008160"/>
            <a:ext cx="2655720" cy="524160"/>
            <a:chOff x="351000" y="3008160"/>
            <a:chExt cx="2655720" cy="524160"/>
          </a:xfrm>
        </p:grpSpPr>
        <p:grpSp>
          <p:nvGrpSpPr>
            <p:cNvPr id="51" name=""/>
            <p:cNvGrpSpPr/>
            <p:nvPr/>
          </p:nvGrpSpPr>
          <p:grpSpPr>
            <a:xfrm>
              <a:off x="614520" y="3156120"/>
              <a:ext cx="2392200" cy="376200"/>
              <a:chOff x="614520" y="3156120"/>
              <a:chExt cx="2392200" cy="376200"/>
            </a:xfrm>
          </p:grpSpPr>
          <p:sp>
            <p:nvSpPr>
              <p:cNvPr id="52" name=""/>
              <p:cNvSpPr/>
              <p:nvPr/>
            </p:nvSpPr>
            <p:spPr>
              <a:xfrm>
                <a:off x="669960" y="315612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614520" y="3298680"/>
                <a:ext cx="231480" cy="233640"/>
                <a:chOff x="614520" y="3298680"/>
                <a:chExt cx="231480" cy="23364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614520" y="3341880"/>
                  <a:ext cx="231480" cy="190440"/>
                  <a:chOff x="614520" y="3341880"/>
                  <a:chExt cx="231480" cy="1904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614520" y="334188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25320" y="350532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06400" y="350532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91920" y="3298680"/>
                  <a:ext cx="73800" cy="28800"/>
                  <a:chOff x="691920" y="3298680"/>
                  <a:chExt cx="73800" cy="28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91920" y="32986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39080" y="3300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" name=""/>
              <p:cNvSpPr/>
              <p:nvPr/>
            </p:nvSpPr>
            <p:spPr>
              <a:xfrm>
                <a:off x="870120" y="3316320"/>
                <a:ext cx="2136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mbers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b)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     RU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0120" y="317808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51000" y="3008160"/>
              <a:ext cx="2600280" cy="234720"/>
              <a:chOff x="351000" y="3008160"/>
              <a:chExt cx="2600280" cy="234720"/>
            </a:xfrm>
          </p:grpSpPr>
          <p:sp>
            <p:nvSpPr>
              <p:cNvPr id="64" name=""/>
              <p:cNvSpPr/>
              <p:nvPr/>
            </p:nvSpPr>
            <p:spPr>
              <a:xfrm>
                <a:off x="351000" y="31370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622440" y="3008160"/>
                <a:ext cx="231480" cy="205920"/>
                <a:chOff x="622440" y="3008160"/>
                <a:chExt cx="231480" cy="20592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622440" y="3057120"/>
                  <a:ext cx="231480" cy="156960"/>
                  <a:chOff x="622440" y="3057120"/>
                  <a:chExt cx="231480" cy="15696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622440" y="3057120"/>
                    <a:ext cx="231480" cy="156960"/>
                    <a:chOff x="622440" y="3057120"/>
                    <a:chExt cx="231480" cy="15696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22440" y="305712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V="1">
                      <a:off x="622440" y="306000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736560" y="305712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" name=""/>
                  <p:cNvSpPr/>
                  <p:nvPr/>
                </p:nvSpPr>
                <p:spPr>
                  <a:xfrm>
                    <a:off x="723960" y="312228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691920" y="3008160"/>
                  <a:ext cx="73800" cy="28080"/>
                  <a:chOff x="691920" y="3008160"/>
                  <a:chExt cx="73800" cy="280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691920" y="30081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39080" y="30096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" name=""/>
              <p:cNvSpPr/>
              <p:nvPr/>
            </p:nvSpPr>
            <p:spPr>
              <a:xfrm>
                <a:off x="870120" y="3027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obr. 37 AT guns       RU-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358920" y="286380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0120" y="275436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itank Rifl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RU-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7400" y="2735280"/>
            <a:ext cx="231480" cy="212760"/>
            <a:chOff x="617400" y="2735280"/>
            <a:chExt cx="231480" cy="212760"/>
          </a:xfrm>
        </p:grpSpPr>
        <p:grpSp>
          <p:nvGrpSpPr>
            <p:cNvPr id="79" name=""/>
            <p:cNvGrpSpPr/>
            <p:nvPr/>
          </p:nvGrpSpPr>
          <p:grpSpPr>
            <a:xfrm>
              <a:off x="692280" y="2735280"/>
              <a:ext cx="74520" cy="28080"/>
              <a:chOff x="692280" y="2735280"/>
              <a:chExt cx="74520" cy="28080"/>
            </a:xfrm>
          </p:grpSpPr>
          <p:sp>
            <p:nvSpPr>
              <p:cNvPr id="80" name=""/>
              <p:cNvSpPr/>
              <p:nvPr/>
            </p:nvSpPr>
            <p:spPr>
              <a:xfrm>
                <a:off x="692280" y="2735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39800" y="2736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17400" y="2790720"/>
              <a:ext cx="231480" cy="157320"/>
              <a:chOff x="617400" y="2790720"/>
              <a:chExt cx="231480" cy="157320"/>
            </a:xfrm>
          </p:grpSpPr>
          <p:sp>
            <p:nvSpPr>
              <p:cNvPr id="83" name=""/>
              <p:cNvSpPr/>
              <p:nvPr/>
            </p:nvSpPr>
            <p:spPr>
              <a:xfrm>
                <a:off x="617400" y="2790720"/>
                <a:ext cx="23148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17400" y="2793600"/>
                <a:ext cx="1141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1520" y="2790720"/>
                <a:ext cx="114480" cy="15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345960" y="2606760"/>
            <a:ext cx="36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2478240"/>
            <a:ext cx="245880" cy="214200"/>
            <a:chOff x="609480" y="2478240"/>
            <a:chExt cx="245880" cy="214200"/>
          </a:xfrm>
        </p:grpSpPr>
        <p:grpSp>
          <p:nvGrpSpPr>
            <p:cNvPr id="88" name=""/>
            <p:cNvGrpSpPr/>
            <p:nvPr/>
          </p:nvGrpSpPr>
          <p:grpSpPr>
            <a:xfrm>
              <a:off x="609480" y="2524320"/>
              <a:ext cx="245880" cy="168120"/>
              <a:chOff x="609480" y="2524320"/>
              <a:chExt cx="245880" cy="168120"/>
            </a:xfrm>
          </p:grpSpPr>
          <p:sp>
            <p:nvSpPr>
              <p:cNvPr id="89" name=""/>
              <p:cNvSpPr/>
              <p:nvPr/>
            </p:nvSpPr>
            <p:spPr>
              <a:xfrm>
                <a:off x="609480" y="2524320"/>
                <a:ext cx="245880" cy="168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0640" y="2538720"/>
                <a:ext cx="228600" cy="13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20640" y="2538360"/>
                <a:ext cx="220320" cy="12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5600" y="2538720"/>
                <a:ext cx="5256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95160" y="2478240"/>
              <a:ext cx="74520" cy="28080"/>
              <a:chOff x="695160" y="2478240"/>
              <a:chExt cx="74520" cy="28080"/>
            </a:xfrm>
          </p:grpSpPr>
          <p:sp>
            <p:nvSpPr>
              <p:cNvPr id="94" name=""/>
              <p:cNvSpPr/>
              <p:nvPr/>
            </p:nvSpPr>
            <p:spPr>
              <a:xfrm>
                <a:off x="695160" y="2478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680" y="2479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853920" y="2496960"/>
            <a:ext cx="208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vy AA. Machine Gun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RU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70120" y="235440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1800" y="1584360"/>
            <a:ext cx="31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128268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0120" y="1409760"/>
            <a:ext cx="173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BG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0120" y="153360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-5 Ski Battal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803160"/>
            <a:ext cx="0" cy="302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2640" y="56196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0120" y="723960"/>
            <a:ext cx="173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ki Brigade (a,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70120" y="168120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880" y="1968480"/>
            <a:ext cx="357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1840" y="181440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840" y="1938240"/>
            <a:ext cx="214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Scout Co.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200" y="4316400"/>
            <a:ext cx="35528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s Zaloga and Sharp (SEP1942 Brigade TOE, OCT1942 Battalion T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operating in Snow conditions, all units in the ski brigade use skis and sledges. This allows them to move at their normal movement even through deep sn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8640" y="735120"/>
            <a:ext cx="0" cy="12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0560" y="51444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8040" y="676440"/>
            <a:ext cx="173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ki Battalion 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1280" y="168768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3320" y="2006640"/>
            <a:ext cx="35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185256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97640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Ski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05400" y="819000"/>
            <a:ext cx="2606400" cy="517320"/>
            <a:chOff x="4505400" y="819000"/>
            <a:chExt cx="2606400" cy="517320"/>
          </a:xfrm>
        </p:grpSpPr>
        <p:sp>
          <p:nvSpPr>
            <p:cNvPr id="118" name=""/>
            <p:cNvSpPr/>
            <p:nvPr/>
          </p:nvSpPr>
          <p:spPr>
            <a:xfrm>
              <a:off x="5018040" y="8190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440" y="97632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5400" y="12254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30640" y="11206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763880" y="1103400"/>
              <a:ext cx="238320" cy="190440"/>
              <a:chOff x="4763880" y="1103400"/>
              <a:chExt cx="238320" cy="190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763880" y="1136880"/>
                <a:ext cx="23832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71880" y="1103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10080" y="1328760"/>
            <a:ext cx="2573280" cy="230040"/>
            <a:chOff x="4510080" y="1328760"/>
            <a:chExt cx="2573280" cy="230040"/>
          </a:xfrm>
        </p:grpSpPr>
        <p:sp>
          <p:nvSpPr>
            <p:cNvPr id="126" name=""/>
            <p:cNvSpPr/>
            <p:nvPr/>
          </p:nvSpPr>
          <p:spPr>
            <a:xfrm>
              <a:off x="4510080" y="14526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2200" y="13431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ppers                               RU-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765680" y="1328760"/>
              <a:ext cx="231840" cy="195480"/>
              <a:chOff x="4765680" y="1328760"/>
              <a:chExt cx="231840" cy="195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4845240" y="1328760"/>
                <a:ext cx="74520" cy="28800"/>
                <a:chOff x="4845240" y="1328760"/>
                <a:chExt cx="74520" cy="28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845240" y="13287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892760" y="1330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765680" y="1366920"/>
                <a:ext cx="231840" cy="157320"/>
                <a:chOff x="4765680" y="1366920"/>
                <a:chExt cx="231840" cy="157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765680" y="1366920"/>
                  <a:ext cx="23184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36960" y="1414440"/>
                  <a:ext cx="0" cy="500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78360" y="1416600"/>
                  <a:ext cx="0" cy="4752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19040" y="1418040"/>
                  <a:ext cx="0" cy="464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832280" y="1416600"/>
                  <a:ext cx="936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"/>
          <p:cNvGrpSpPr/>
          <p:nvPr/>
        </p:nvGrpSpPr>
        <p:grpSpPr>
          <a:xfrm>
            <a:off x="353880" y="3478320"/>
            <a:ext cx="2657160" cy="740520"/>
            <a:chOff x="353880" y="3478320"/>
            <a:chExt cx="2657160" cy="740520"/>
          </a:xfrm>
        </p:grpSpPr>
        <p:sp>
          <p:nvSpPr>
            <p:cNvPr id="139" name=""/>
            <p:cNvSpPr/>
            <p:nvPr/>
          </p:nvSpPr>
          <p:spPr>
            <a:xfrm>
              <a:off x="870120" y="34783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53880" y="3598920"/>
              <a:ext cx="2657160" cy="619920"/>
              <a:chOff x="353880" y="3598920"/>
              <a:chExt cx="2657160" cy="6199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18840" y="3843360"/>
                <a:ext cx="2392200" cy="375480"/>
                <a:chOff x="618840" y="3843360"/>
                <a:chExt cx="2392200" cy="375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74280" y="3843360"/>
                  <a:ext cx="0" cy="28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618840" y="3985920"/>
                  <a:ext cx="231480" cy="232200"/>
                  <a:chOff x="618840" y="3985920"/>
                  <a:chExt cx="231480" cy="23220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618840" y="4028760"/>
                    <a:ext cx="231480" cy="189360"/>
                    <a:chOff x="618840" y="4028760"/>
                    <a:chExt cx="231480" cy="18936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18840" y="4028760"/>
                      <a:ext cx="231480" cy="1562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29640" y="4191480"/>
                      <a:ext cx="266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810720" y="4191480"/>
                      <a:ext cx="2808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96240" y="3985920"/>
                    <a:ext cx="73800" cy="28080"/>
                    <a:chOff x="696240" y="3985920"/>
                    <a:chExt cx="73800" cy="280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6240" y="39859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43400" y="39873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"/>
                <p:cNvSpPr/>
                <p:nvPr/>
              </p:nvSpPr>
              <p:spPr>
                <a:xfrm>
                  <a:off x="874080" y="4003200"/>
                  <a:ext cx="2136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mbers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(b)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RU-2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74080" y="386532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53880" y="3598920"/>
                <a:ext cx="2589120" cy="342360"/>
                <a:chOff x="353880" y="3598920"/>
                <a:chExt cx="2589120" cy="342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53880" y="3835440"/>
                  <a:ext cx="365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61840" y="37256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2mm Mortar                       RU-2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77680" y="3598920"/>
                  <a:ext cx="1538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620640" y="3705120"/>
                  <a:ext cx="231840" cy="202320"/>
                  <a:chOff x="620640" y="3705120"/>
                  <a:chExt cx="231840" cy="202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620640" y="375084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01640" y="3774600"/>
                    <a:ext cx="68040" cy="109080"/>
                    <a:chOff x="701640" y="3774600"/>
                    <a:chExt cx="68040" cy="10908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34760" y="3774600"/>
                      <a:ext cx="0" cy="10908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640" y="387720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98400" y="3705120"/>
                    <a:ext cx="74520" cy="27720"/>
                    <a:chOff x="698400" y="3705120"/>
                    <a:chExt cx="74520" cy="2772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8400" y="370512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45920" y="370656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65" name=""/>
          <p:cNvSpPr/>
          <p:nvPr/>
        </p:nvSpPr>
        <p:spPr>
          <a:xfrm>
            <a:off x="347760" y="2247840"/>
            <a:ext cx="35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87520" y="2085840"/>
            <a:ext cx="284040" cy="262080"/>
            <a:chOff x="587520" y="2085840"/>
            <a:chExt cx="284040" cy="262080"/>
          </a:xfrm>
        </p:grpSpPr>
        <p:grpSp>
          <p:nvGrpSpPr>
            <p:cNvPr id="167" name=""/>
            <p:cNvGrpSpPr/>
            <p:nvPr/>
          </p:nvGrpSpPr>
          <p:grpSpPr>
            <a:xfrm>
              <a:off x="587520" y="2154240"/>
              <a:ext cx="284040" cy="193680"/>
              <a:chOff x="587520" y="2154240"/>
              <a:chExt cx="284040" cy="193680"/>
            </a:xfrm>
          </p:grpSpPr>
          <p:sp>
            <p:nvSpPr>
              <p:cNvPr id="168" name=""/>
              <p:cNvSpPr/>
              <p:nvPr/>
            </p:nvSpPr>
            <p:spPr>
              <a:xfrm>
                <a:off x="587520" y="215424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590400" y="215712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7520" y="215712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28640" y="2085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55720" y="2093760"/>
            <a:ext cx="173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5720" y="221760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SMG Co.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9880" y="1409760"/>
            <a:ext cx="347040" cy="293400"/>
            <a:chOff x="569880" y="1409760"/>
            <a:chExt cx="347040" cy="293400"/>
          </a:xfrm>
        </p:grpSpPr>
        <p:grpSp>
          <p:nvGrpSpPr>
            <p:cNvPr id="175" name=""/>
            <p:cNvGrpSpPr/>
            <p:nvPr/>
          </p:nvGrpSpPr>
          <p:grpSpPr>
            <a:xfrm>
              <a:off x="569880" y="1466640"/>
              <a:ext cx="347040" cy="236520"/>
              <a:chOff x="569880" y="1466640"/>
              <a:chExt cx="347040" cy="2365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69880" y="1466640"/>
                <a:ext cx="347040" cy="236520"/>
                <a:chOff x="569880" y="1466640"/>
                <a:chExt cx="347040" cy="236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69880" y="1466640"/>
                  <a:ext cx="347040" cy="2365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573480" y="1469880"/>
                  <a:ext cx="338400" cy="231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9880" y="1470240"/>
                  <a:ext cx="345600" cy="225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726840" y="1662120"/>
                <a:ext cx="6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6320" y="1638360"/>
                <a:ext cx="20520" cy="2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12440" y="1409760"/>
              <a:ext cx="76320" cy="63360"/>
              <a:chOff x="712440" y="1409760"/>
              <a:chExt cx="76320" cy="63360"/>
            </a:xfrm>
          </p:grpSpPr>
          <p:sp>
            <p:nvSpPr>
              <p:cNvPr id="183" name=""/>
              <p:cNvSpPr/>
              <p:nvPr/>
            </p:nvSpPr>
            <p:spPr>
              <a:xfrm>
                <a:off x="712440" y="1409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8760" y="1409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185760" y="684360"/>
            <a:ext cx="347040" cy="236160"/>
            <a:chOff x="185760" y="684360"/>
            <a:chExt cx="347040" cy="236160"/>
          </a:xfrm>
        </p:grpSpPr>
        <p:grpSp>
          <p:nvGrpSpPr>
            <p:cNvPr id="186" name=""/>
            <p:cNvGrpSpPr/>
            <p:nvPr/>
          </p:nvGrpSpPr>
          <p:grpSpPr>
            <a:xfrm>
              <a:off x="185760" y="684360"/>
              <a:ext cx="347040" cy="236160"/>
              <a:chOff x="185760" y="684360"/>
              <a:chExt cx="347040" cy="236160"/>
            </a:xfrm>
          </p:grpSpPr>
          <p:sp>
            <p:nvSpPr>
              <p:cNvPr id="187" name=""/>
              <p:cNvSpPr/>
              <p:nvPr/>
            </p:nvSpPr>
            <p:spPr>
              <a:xfrm>
                <a:off x="185760" y="684360"/>
                <a:ext cx="34704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89360" y="687960"/>
                <a:ext cx="338400" cy="231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5760" y="687960"/>
                <a:ext cx="345600" cy="22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42720" y="879480"/>
              <a:ext cx="6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2200" y="855720"/>
              <a:ext cx="20520" cy="2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5440" y="622440"/>
            <a:ext cx="76320" cy="63360"/>
            <a:chOff x="325440" y="622440"/>
            <a:chExt cx="76320" cy="63360"/>
          </a:xfrm>
        </p:grpSpPr>
        <p:sp>
          <p:nvSpPr>
            <p:cNvPr id="193" name=""/>
            <p:cNvSpPr/>
            <p:nvPr/>
          </p:nvSpPr>
          <p:spPr>
            <a:xfrm>
              <a:off x="325440" y="622440"/>
              <a:ext cx="763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25440" y="622440"/>
              <a:ext cx="763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334040" y="533520"/>
            <a:ext cx="347040" cy="292680"/>
            <a:chOff x="4334040" y="533520"/>
            <a:chExt cx="347040" cy="292680"/>
          </a:xfrm>
        </p:grpSpPr>
        <p:grpSp>
          <p:nvGrpSpPr>
            <p:cNvPr id="196" name=""/>
            <p:cNvGrpSpPr/>
            <p:nvPr/>
          </p:nvGrpSpPr>
          <p:grpSpPr>
            <a:xfrm>
              <a:off x="4334040" y="590040"/>
              <a:ext cx="347040" cy="236160"/>
              <a:chOff x="4334040" y="590040"/>
              <a:chExt cx="347040" cy="2361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4334040" y="590040"/>
                <a:ext cx="347040" cy="236160"/>
                <a:chOff x="4334040" y="590040"/>
                <a:chExt cx="347040" cy="2361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334040" y="590040"/>
                  <a:ext cx="34704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337640" y="5936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334040" y="5936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491000" y="785160"/>
                <a:ext cx="6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70480" y="761400"/>
                <a:ext cx="20520" cy="2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476600" y="533520"/>
              <a:ext cx="76320" cy="63000"/>
              <a:chOff x="4476600" y="533520"/>
              <a:chExt cx="76320" cy="63000"/>
            </a:xfrm>
          </p:grpSpPr>
          <p:sp>
            <p:nvSpPr>
              <p:cNvPr id="204" name=""/>
              <p:cNvSpPr/>
              <p:nvPr/>
            </p:nvSpPr>
            <p:spPr>
              <a:xfrm>
                <a:off x="4476600" y="5335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52920" y="53352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3684600" y="2892600"/>
            <a:ext cx="4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2000" y="2876400"/>
            <a:ext cx="12600" cy="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718160" y="1844640"/>
            <a:ext cx="284040" cy="243000"/>
            <a:chOff x="4718160" y="1844640"/>
            <a:chExt cx="284040" cy="243000"/>
          </a:xfrm>
        </p:grpSpPr>
        <p:sp>
          <p:nvSpPr>
            <p:cNvPr id="209" name=""/>
            <p:cNvSpPr/>
            <p:nvPr/>
          </p:nvSpPr>
          <p:spPr>
            <a:xfrm>
              <a:off x="4862520" y="1844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718160" y="1893960"/>
              <a:ext cx="284040" cy="193680"/>
              <a:chOff x="4718160" y="1893960"/>
              <a:chExt cx="284040" cy="19368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4718160" y="1893960"/>
                <a:ext cx="284040" cy="193680"/>
                <a:chOff x="4718160" y="1893960"/>
                <a:chExt cx="284040" cy="1936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718160" y="189396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721040" y="189684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18160" y="189684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46320" y="2053800"/>
                <a:ext cx="56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29400" y="2034360"/>
                <a:ext cx="16560" cy="1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4503600" y="166860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1558800"/>
            <a:ext cx="208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ut                                    RU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838760" y="1544760"/>
            <a:ext cx="74520" cy="28080"/>
            <a:chOff x="4838760" y="1544760"/>
            <a:chExt cx="74520" cy="28080"/>
          </a:xfrm>
        </p:grpSpPr>
        <p:sp>
          <p:nvSpPr>
            <p:cNvPr id="220" name=""/>
            <p:cNvSpPr/>
            <p:nvPr/>
          </p:nvSpPr>
          <p:spPr>
            <a:xfrm>
              <a:off x="4838760" y="1544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6280" y="1546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024520" y="14572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Re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764240" y="1589040"/>
            <a:ext cx="231480" cy="157320"/>
            <a:chOff x="4764240" y="1589040"/>
            <a:chExt cx="231480" cy="157320"/>
          </a:xfrm>
        </p:grpSpPr>
        <p:sp>
          <p:nvSpPr>
            <p:cNvPr id="224" name=""/>
            <p:cNvSpPr/>
            <p:nvPr/>
          </p:nvSpPr>
          <p:spPr>
            <a:xfrm>
              <a:off x="4764240" y="1589040"/>
              <a:ext cx="23148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766400" y="1590840"/>
              <a:ext cx="2253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64240" y="1591200"/>
              <a:ext cx="230400" cy="14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95440" y="1781280"/>
            <a:ext cx="284040" cy="261360"/>
            <a:chOff x="595440" y="1781280"/>
            <a:chExt cx="284040" cy="261360"/>
          </a:xfrm>
        </p:grpSpPr>
        <p:grpSp>
          <p:nvGrpSpPr>
            <p:cNvPr id="228" name=""/>
            <p:cNvGrpSpPr/>
            <p:nvPr/>
          </p:nvGrpSpPr>
          <p:grpSpPr>
            <a:xfrm>
              <a:off x="595440" y="1849320"/>
              <a:ext cx="284040" cy="193320"/>
              <a:chOff x="595440" y="1849320"/>
              <a:chExt cx="284040" cy="193320"/>
            </a:xfrm>
          </p:grpSpPr>
          <p:sp>
            <p:nvSpPr>
              <p:cNvPr id="229" name=""/>
              <p:cNvSpPr/>
              <p:nvPr/>
            </p:nvSpPr>
            <p:spPr>
              <a:xfrm>
                <a:off x="595440" y="1849320"/>
                <a:ext cx="28404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98320" y="1851840"/>
                <a:ext cx="27648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440" y="1852200"/>
                <a:ext cx="2826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36560" y="178128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352760" y="2284560"/>
            <a:ext cx="2746440" cy="936360"/>
            <a:chOff x="4352760" y="2284560"/>
            <a:chExt cx="2746440" cy="936360"/>
          </a:xfrm>
        </p:grpSpPr>
        <p:sp>
          <p:nvSpPr>
            <p:cNvPr id="234" name=""/>
            <p:cNvSpPr/>
            <p:nvPr/>
          </p:nvSpPr>
          <p:spPr>
            <a:xfrm>
              <a:off x="5019480" y="2583000"/>
              <a:ext cx="14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92440" y="28321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18040" y="27273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751280" y="2710080"/>
              <a:ext cx="238320" cy="190440"/>
              <a:chOff x="4751280" y="2710080"/>
              <a:chExt cx="238320" cy="190440"/>
            </a:xfrm>
          </p:grpSpPr>
          <p:sp>
            <p:nvSpPr>
              <p:cNvPr id="238" name=""/>
              <p:cNvSpPr/>
              <p:nvPr/>
            </p:nvSpPr>
            <p:spPr>
              <a:xfrm>
                <a:off x="4751280" y="2743560"/>
                <a:ext cx="23832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59280" y="2710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497480" y="2998800"/>
              <a:ext cx="2581200" cy="222120"/>
              <a:chOff x="4497480" y="2998800"/>
              <a:chExt cx="2581200" cy="222120"/>
            </a:xfrm>
          </p:grpSpPr>
          <p:sp>
            <p:nvSpPr>
              <p:cNvPr id="241" name=""/>
              <p:cNvSpPr/>
              <p:nvPr/>
            </p:nvSpPr>
            <p:spPr>
              <a:xfrm>
                <a:off x="4497480" y="31226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7520" y="30052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couts                                 RU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4757760" y="2998800"/>
                <a:ext cx="231840" cy="200160"/>
                <a:chOff x="4757760" y="2998800"/>
                <a:chExt cx="231840" cy="20016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4832640" y="2998800"/>
                  <a:ext cx="74520" cy="28800"/>
                  <a:chOff x="4832640" y="2998800"/>
                  <a:chExt cx="74520" cy="288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4832640" y="29988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880160" y="30006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757760" y="3042000"/>
                  <a:ext cx="231840" cy="156960"/>
                  <a:chOff x="4757760" y="3042000"/>
                  <a:chExt cx="231840" cy="1569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757760" y="304200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4759920" y="304416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757760" y="304416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1" name=""/>
            <p:cNvSpPr/>
            <p:nvPr/>
          </p:nvSpPr>
          <p:spPr>
            <a:xfrm>
              <a:off x="4495680" y="2508480"/>
              <a:ext cx="0" cy="61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07600" y="2284560"/>
              <a:ext cx="1576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669900"/>
                  </a:solidFill>
                  <a:latin typeface="Arial"/>
                </a:rPr>
                <a:t>MANEUVER ELEMENT-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5440" y="2433600"/>
              <a:ext cx="172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cout Company 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352760" y="2328840"/>
              <a:ext cx="284040" cy="262080"/>
              <a:chOff x="4352760" y="2328840"/>
              <a:chExt cx="284040" cy="26208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352760" y="2397240"/>
                <a:ext cx="284040" cy="193680"/>
                <a:chOff x="4352760" y="2397240"/>
                <a:chExt cx="284040" cy="193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352760" y="23972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4355640" y="24001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52760" y="24001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493880" y="23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016600" y="2905200"/>
              <a:ext cx="140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343400" y="3610080"/>
            <a:ext cx="2747880" cy="1355400"/>
            <a:chOff x="4343400" y="3610080"/>
            <a:chExt cx="2747880" cy="1355400"/>
          </a:xfrm>
        </p:grpSpPr>
        <p:grpSp>
          <p:nvGrpSpPr>
            <p:cNvPr id="262" name=""/>
            <p:cNvGrpSpPr/>
            <p:nvPr/>
          </p:nvGrpSpPr>
          <p:grpSpPr>
            <a:xfrm>
              <a:off x="4484520" y="4608360"/>
              <a:ext cx="2592360" cy="357120"/>
              <a:chOff x="4484520" y="4608360"/>
              <a:chExt cx="2592360" cy="357120"/>
            </a:xfrm>
          </p:grpSpPr>
          <p:sp>
            <p:nvSpPr>
              <p:cNvPr id="263" name=""/>
              <p:cNvSpPr/>
              <p:nvPr/>
            </p:nvSpPr>
            <p:spPr>
              <a:xfrm>
                <a:off x="4484520" y="48592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95720" y="47498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mm Mortar                      RU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2480" y="46083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4752720" y="4730760"/>
                <a:ext cx="231840" cy="203040"/>
                <a:chOff x="4752720" y="4730760"/>
                <a:chExt cx="231840" cy="2030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830480" y="4730760"/>
                  <a:ext cx="74520" cy="28080"/>
                  <a:chOff x="4830480" y="4730760"/>
                  <a:chExt cx="74520" cy="280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830480" y="4730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878000" y="4732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752720" y="4776840"/>
                  <a:ext cx="231840" cy="156960"/>
                  <a:chOff x="4752720" y="4776840"/>
                  <a:chExt cx="231840" cy="15696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752720" y="4776840"/>
                    <a:ext cx="231840" cy="156960"/>
                    <a:chOff x="4752720" y="4776840"/>
                    <a:chExt cx="231840" cy="1569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752720" y="477684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V="1">
                      <a:off x="4754880" y="4779000"/>
                      <a:ext cx="22572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752720" y="477900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833720" y="4800600"/>
                    <a:ext cx="68040" cy="109080"/>
                    <a:chOff x="4833720" y="4800600"/>
                    <a:chExt cx="68040" cy="10908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866840" y="4800600"/>
                      <a:ext cx="0" cy="10908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833720" y="490320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78" name=""/>
            <p:cNvSpPr/>
            <p:nvPr/>
          </p:nvSpPr>
          <p:spPr>
            <a:xfrm>
              <a:off x="5011560" y="3908520"/>
              <a:ext cx="140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/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84520" y="41576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0120" y="40528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   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743360" y="4035600"/>
              <a:ext cx="238320" cy="190440"/>
              <a:chOff x="4743360" y="4035600"/>
              <a:chExt cx="238320" cy="190440"/>
            </a:xfrm>
          </p:grpSpPr>
          <p:sp>
            <p:nvSpPr>
              <p:cNvPr id="282" name=""/>
              <p:cNvSpPr/>
              <p:nvPr/>
            </p:nvSpPr>
            <p:spPr>
              <a:xfrm>
                <a:off x="4743360" y="4069080"/>
                <a:ext cx="23832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1360" y="4035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489560" y="4260960"/>
              <a:ext cx="2581200" cy="222120"/>
              <a:chOff x="4489560" y="4260960"/>
              <a:chExt cx="2581200" cy="222120"/>
            </a:xfrm>
          </p:grpSpPr>
          <p:sp>
            <p:nvSpPr>
              <p:cNvPr id="285" name=""/>
              <p:cNvSpPr/>
              <p:nvPr/>
            </p:nvSpPr>
            <p:spPr>
              <a:xfrm>
                <a:off x="4489560" y="43848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89600" y="4267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ifle                                    RU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749840" y="4260960"/>
                <a:ext cx="231840" cy="200160"/>
                <a:chOff x="4749840" y="4260960"/>
                <a:chExt cx="231840" cy="20016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4824720" y="4260960"/>
                  <a:ext cx="74520" cy="28800"/>
                  <a:chOff x="4824720" y="4260960"/>
                  <a:chExt cx="74520" cy="28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824720" y="4260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872240" y="4262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749840" y="4304160"/>
                  <a:ext cx="231840" cy="156960"/>
                  <a:chOff x="4749840" y="4304160"/>
                  <a:chExt cx="231840" cy="15696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4749840" y="43041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>
                    <a:off x="4752000" y="430632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749840" y="430632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5" name=""/>
            <p:cNvSpPr/>
            <p:nvPr/>
          </p:nvSpPr>
          <p:spPr>
            <a:xfrm>
              <a:off x="4487760" y="3857760"/>
              <a:ext cx="0" cy="10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99680" y="3610080"/>
              <a:ext cx="1576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669900"/>
                  </a:solidFill>
                  <a:latin typeface="Arial"/>
                </a:rPr>
                <a:t>MANEUVER ELEMENT-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97520" y="3759120"/>
              <a:ext cx="17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ki Company 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4343400" y="3672000"/>
              <a:ext cx="284040" cy="242280"/>
              <a:chOff x="4343400" y="3672000"/>
              <a:chExt cx="284040" cy="242280"/>
            </a:xfrm>
          </p:grpSpPr>
          <p:sp>
            <p:nvSpPr>
              <p:cNvPr id="299" name=""/>
              <p:cNvSpPr/>
              <p:nvPr/>
            </p:nvSpPr>
            <p:spPr>
              <a:xfrm>
                <a:off x="4487760" y="367200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343400" y="3720960"/>
                <a:ext cx="284040" cy="193320"/>
                <a:chOff x="4343400" y="3720960"/>
                <a:chExt cx="284040" cy="19332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4343400" y="3720960"/>
                  <a:ext cx="284040" cy="193320"/>
                  <a:chOff x="4343400" y="3720960"/>
                  <a:chExt cx="284040" cy="1933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4343400" y="3720960"/>
                    <a:ext cx="28404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4346280" y="3723480"/>
                    <a:ext cx="27648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343400" y="3723840"/>
                    <a:ext cx="282600" cy="184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4471560" y="3880440"/>
                  <a:ext cx="56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54640" y="3861000"/>
                  <a:ext cx="16560" cy="19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4491000" y="4484520"/>
              <a:ext cx="2581200" cy="222120"/>
              <a:chOff x="4491000" y="4484520"/>
              <a:chExt cx="2581200" cy="222120"/>
            </a:xfrm>
          </p:grpSpPr>
          <p:sp>
            <p:nvSpPr>
              <p:cNvPr id="308" name=""/>
              <p:cNvSpPr/>
              <p:nvPr/>
            </p:nvSpPr>
            <p:spPr>
              <a:xfrm>
                <a:off x="4491000" y="46083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91040" y="44910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MG                                   RU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4751280" y="4484520"/>
                <a:ext cx="231840" cy="200160"/>
                <a:chOff x="4751280" y="4484520"/>
                <a:chExt cx="231840" cy="20016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4826160" y="4484520"/>
                  <a:ext cx="74520" cy="28800"/>
                  <a:chOff x="4826160" y="4484520"/>
                  <a:chExt cx="74520" cy="28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4826160" y="4484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873680" y="4486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4751280" y="4527720"/>
                  <a:ext cx="231840" cy="156960"/>
                  <a:chOff x="4751280" y="4527720"/>
                  <a:chExt cx="231840" cy="1569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751280" y="45277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V="1">
                    <a:off x="4753440" y="452988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751280" y="452988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3:17:25Z</dcterms:created>
  <dc:creator>JBaker</dc:creator>
  <dc:description/>
  <dc:language>en-US</dc:language>
  <cp:lastModifiedBy>James Baker</cp:lastModifiedBy>
  <dcterms:modified xsi:type="dcterms:W3CDTF">2003-02-02T12:36:36Z</dcterms:modified>
  <cp:revision>18</cp:revision>
  <dc:subject/>
  <dc:title>Symbols</dc:title>
</cp:coreProperties>
</file>