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01C-B434-4B73-B205-21224EBD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26B-CC13-4866-B275-06F9A0BA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05B5-1409-47CC-B732-23B4AF3C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D2B-BF45-49BD-B8C8-C58FC024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DCD-529C-41F1-9F39-709927E2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01A0-12EE-4BD7-A891-1A370954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D0F4-14B0-4029-92EC-A016E82C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139-48F6-4018-9A0C-8A29D331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007B-1C71-45E5-A9E4-817C91D4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8CA6-5A28-4382-86E1-7DA854B3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25F-577D-41D2-8261-7B8B472B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C59A-97C8-49B7-8C25-07161982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A335-A1CD-41C2-B37D-8FAB857AE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2880" y="190332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I German, 19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6400" y="2196000"/>
            <a:ext cx="197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GE02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Battalion, 19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3800" y="2367000"/>
            <a:ext cx="1800" cy="57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9000" y="2771640"/>
            <a:ext cx="164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73160" y="246384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84080" y="2533680"/>
            <a:ext cx="238320" cy="194760"/>
            <a:chOff x="784080" y="2533680"/>
            <a:chExt cx="238320" cy="194760"/>
          </a:xfrm>
        </p:grpSpPr>
        <p:sp>
          <p:nvSpPr>
            <p:cNvPr id="48" name=""/>
            <p:cNvSpPr/>
            <p:nvPr/>
          </p:nvSpPr>
          <p:spPr>
            <a:xfrm>
              <a:off x="784080" y="2570040"/>
              <a:ext cx="238320" cy="158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8840" y="253368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070280" y="2598840"/>
            <a:ext cx="182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3800" y="2647800"/>
            <a:ext cx="27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51000" y="2158920"/>
            <a:ext cx="347040" cy="299880"/>
            <a:chOff x="351000" y="2158920"/>
            <a:chExt cx="347040" cy="299880"/>
          </a:xfrm>
        </p:grpSpPr>
        <p:grpSp>
          <p:nvGrpSpPr>
            <p:cNvPr id="53" name=""/>
            <p:cNvGrpSpPr/>
            <p:nvPr/>
          </p:nvGrpSpPr>
          <p:grpSpPr>
            <a:xfrm>
              <a:off x="492120" y="2158920"/>
              <a:ext cx="76320" cy="63360"/>
              <a:chOff x="492120" y="2158920"/>
              <a:chExt cx="76320" cy="63360"/>
            </a:xfrm>
          </p:grpSpPr>
          <p:sp>
            <p:nvSpPr>
              <p:cNvPr id="54" name=""/>
              <p:cNvSpPr/>
              <p:nvPr/>
            </p:nvSpPr>
            <p:spPr>
              <a:xfrm>
                <a:off x="492120" y="215892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68440" y="215892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51000" y="2222640"/>
              <a:ext cx="347040" cy="236160"/>
              <a:chOff x="351000" y="2222640"/>
              <a:chExt cx="347040" cy="236160"/>
            </a:xfrm>
          </p:grpSpPr>
          <p:sp>
            <p:nvSpPr>
              <p:cNvPr id="57" name=""/>
              <p:cNvSpPr/>
              <p:nvPr/>
            </p:nvSpPr>
            <p:spPr>
              <a:xfrm>
                <a:off x="351000" y="2222640"/>
                <a:ext cx="347040" cy="236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354600" y="2226240"/>
                <a:ext cx="338400" cy="231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51000" y="2226240"/>
                <a:ext cx="345600" cy="22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"/>
          <p:cNvSpPr/>
          <p:nvPr/>
        </p:nvSpPr>
        <p:spPr>
          <a:xfrm>
            <a:off x="1069920" y="2898720"/>
            <a:ext cx="202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Infantry Company          WW1-ME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3800" y="2943360"/>
            <a:ext cx="31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93880" y="27734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0960" y="2838600"/>
            <a:ext cx="284040" cy="1936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754200" y="2841120"/>
            <a:ext cx="276120" cy="18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0960" y="2841480"/>
            <a:ext cx="282600" cy="184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2880" y="161460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31480" y="1546200"/>
            <a:ext cx="1755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-08 HMG                 WW1-GE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95240" y="1490760"/>
            <a:ext cx="236520" cy="201600"/>
            <a:chOff x="795240" y="1490760"/>
            <a:chExt cx="236520" cy="201600"/>
          </a:xfrm>
        </p:grpSpPr>
        <p:grpSp>
          <p:nvGrpSpPr>
            <p:cNvPr id="69" name=""/>
            <p:cNvGrpSpPr/>
            <p:nvPr/>
          </p:nvGrpSpPr>
          <p:grpSpPr>
            <a:xfrm>
              <a:off x="873000" y="1490760"/>
              <a:ext cx="74520" cy="28080"/>
              <a:chOff x="873000" y="1490760"/>
              <a:chExt cx="74520" cy="28080"/>
            </a:xfrm>
          </p:grpSpPr>
          <p:sp>
            <p:nvSpPr>
              <p:cNvPr id="70" name=""/>
              <p:cNvSpPr/>
              <p:nvPr/>
            </p:nvSpPr>
            <p:spPr>
              <a:xfrm>
                <a:off x="873000" y="14907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20520" y="14922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795240" y="1531800"/>
              <a:ext cx="23184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7040" y="1538280"/>
              <a:ext cx="50760" cy="1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801720" y="1526760"/>
              <a:ext cx="230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12880" y="1555920"/>
              <a:ext cx="21888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822240" y="573480"/>
            <a:ext cx="186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GE01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Regiment, 19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760320"/>
            <a:ext cx="5040" cy="114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35080" y="1141560"/>
            <a:ext cx="164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35080" y="84132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800280" y="911160"/>
            <a:ext cx="237960" cy="195480"/>
            <a:chOff x="800280" y="911160"/>
            <a:chExt cx="237960" cy="195480"/>
          </a:xfrm>
        </p:grpSpPr>
        <p:sp>
          <p:nvSpPr>
            <p:cNvPr id="81" name=""/>
            <p:cNvSpPr/>
            <p:nvPr/>
          </p:nvSpPr>
          <p:spPr>
            <a:xfrm>
              <a:off x="800280" y="947880"/>
              <a:ext cx="237960" cy="158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4680" y="9111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132560" y="976320"/>
            <a:ext cx="1765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025640"/>
            <a:ext cx="27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66840" y="600120"/>
            <a:ext cx="347040" cy="236160"/>
            <a:chOff x="366840" y="600120"/>
            <a:chExt cx="347040" cy="236160"/>
          </a:xfrm>
        </p:grpSpPr>
        <p:sp>
          <p:nvSpPr>
            <p:cNvPr id="86" name=""/>
            <p:cNvSpPr/>
            <p:nvPr/>
          </p:nvSpPr>
          <p:spPr>
            <a:xfrm>
              <a:off x="366840" y="600120"/>
              <a:ext cx="347040" cy="236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70440" y="603720"/>
              <a:ext cx="338400" cy="23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6840" y="603720"/>
              <a:ext cx="34560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131480" y="1269720"/>
            <a:ext cx="2020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3 Infantry Battal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W1-BG-GE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1720" y="1320840"/>
            <a:ext cx="31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73000" y="1130400"/>
            <a:ext cx="76320" cy="63360"/>
            <a:chOff x="873000" y="1130400"/>
            <a:chExt cx="76320" cy="63360"/>
          </a:xfrm>
        </p:grpSpPr>
        <p:sp>
          <p:nvSpPr>
            <p:cNvPr id="92" name=""/>
            <p:cNvSpPr/>
            <p:nvPr/>
          </p:nvSpPr>
          <p:spPr>
            <a:xfrm>
              <a:off x="873000" y="1130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49320" y="1130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31880" y="1193760"/>
            <a:ext cx="347400" cy="236160"/>
            <a:chOff x="731880" y="1193760"/>
            <a:chExt cx="347400" cy="236160"/>
          </a:xfrm>
        </p:grpSpPr>
        <p:sp>
          <p:nvSpPr>
            <p:cNvPr id="95" name=""/>
            <p:cNvSpPr/>
            <p:nvPr/>
          </p:nvSpPr>
          <p:spPr>
            <a:xfrm>
              <a:off x="731880" y="1193760"/>
              <a:ext cx="347400" cy="236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35480" y="1197360"/>
              <a:ext cx="338760" cy="23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880" y="1197360"/>
              <a:ext cx="34596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74840" y="547560"/>
            <a:ext cx="131760" cy="65160"/>
            <a:chOff x="474840" y="547560"/>
            <a:chExt cx="131760" cy="65160"/>
          </a:xfrm>
        </p:grpSpPr>
        <p:sp>
          <p:nvSpPr>
            <p:cNvPr id="99" name=""/>
            <p:cNvSpPr/>
            <p:nvPr/>
          </p:nvSpPr>
          <p:spPr>
            <a:xfrm>
              <a:off x="541440" y="5493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4840" y="5493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6600" y="5475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135080" y="1420920"/>
            <a:ext cx="9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033800" y="4163760"/>
            <a:ext cx="2304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44960" y="4192560"/>
            <a:ext cx="219240" cy="13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57080" y="1735200"/>
            <a:ext cx="301680" cy="274680"/>
            <a:chOff x="757080" y="1735200"/>
            <a:chExt cx="301680" cy="274680"/>
          </a:xfrm>
        </p:grpSpPr>
        <p:grpSp>
          <p:nvGrpSpPr>
            <p:cNvPr id="106" name=""/>
            <p:cNvGrpSpPr/>
            <p:nvPr/>
          </p:nvGrpSpPr>
          <p:grpSpPr>
            <a:xfrm>
              <a:off x="757080" y="1805040"/>
              <a:ext cx="295200" cy="199440"/>
              <a:chOff x="757080" y="1805040"/>
              <a:chExt cx="295200" cy="199440"/>
            </a:xfrm>
          </p:grpSpPr>
          <p:sp>
            <p:nvSpPr>
              <p:cNvPr id="107" name=""/>
              <p:cNvSpPr/>
              <p:nvPr/>
            </p:nvSpPr>
            <p:spPr>
              <a:xfrm>
                <a:off x="757080" y="1805040"/>
                <a:ext cx="295200" cy="19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57080" y="1812600"/>
                <a:ext cx="64440" cy="185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 flipV="1">
              <a:off x="765000" y="1798200"/>
              <a:ext cx="293760" cy="18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9400" y="1835280"/>
              <a:ext cx="279360" cy="17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7920" y="17352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119240" y="1844640"/>
            <a:ext cx="206064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MG Company 1914-15 WW1-ME-GE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76280" y="1531800"/>
            <a:ext cx="152280" cy="457200"/>
            <a:chOff x="476280" y="1531800"/>
            <a:chExt cx="152280" cy="457200"/>
          </a:xfrm>
        </p:grpSpPr>
        <p:sp>
          <p:nvSpPr>
            <p:cNvPr id="114" name=""/>
            <p:cNvSpPr/>
            <p:nvPr/>
          </p:nvSpPr>
          <p:spPr>
            <a:xfrm>
              <a:off x="476280" y="1531800"/>
              <a:ext cx="0" cy="45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6280" y="1531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6280" y="1989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158840" y="1711440"/>
            <a:ext cx="4255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91000" y="424080"/>
            <a:ext cx="2135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 WW1-ME-GE01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Company, 19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60920" y="1033560"/>
            <a:ext cx="19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Infantry Platoon, 1914   WW1-SMEG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84720" y="109548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62360" y="66672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484440" y="736560"/>
            <a:ext cx="238320" cy="195480"/>
            <a:chOff x="3484440" y="736560"/>
            <a:chExt cx="238320" cy="195480"/>
          </a:xfrm>
        </p:grpSpPr>
        <p:sp>
          <p:nvSpPr>
            <p:cNvPr id="123" name=""/>
            <p:cNvSpPr/>
            <p:nvPr/>
          </p:nvSpPr>
          <p:spPr>
            <a:xfrm>
              <a:off x="3484440" y="773280"/>
              <a:ext cx="238320" cy="158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89200" y="7365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759480" y="801720"/>
            <a:ext cx="18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84720" y="84312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25600"/>
            <a:ext cx="0" cy="57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9400" y="3715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36760" y="420840"/>
            <a:ext cx="284400" cy="193680"/>
            <a:chOff x="3236760" y="420840"/>
            <a:chExt cx="284400" cy="193680"/>
          </a:xfrm>
        </p:grpSpPr>
        <p:sp>
          <p:nvSpPr>
            <p:cNvPr id="130" name=""/>
            <p:cNvSpPr/>
            <p:nvPr/>
          </p:nvSpPr>
          <p:spPr>
            <a:xfrm>
              <a:off x="3236760" y="420840"/>
              <a:ext cx="284400" cy="193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239640" y="423720"/>
              <a:ext cx="276840" cy="18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36760" y="423720"/>
              <a:ext cx="282960" cy="18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459240" y="969840"/>
            <a:ext cx="274680" cy="233640"/>
            <a:chOff x="3459240" y="969840"/>
            <a:chExt cx="274680" cy="233640"/>
          </a:xfrm>
        </p:grpSpPr>
        <p:grpSp>
          <p:nvGrpSpPr>
            <p:cNvPr id="134" name=""/>
            <p:cNvGrpSpPr/>
            <p:nvPr/>
          </p:nvGrpSpPr>
          <p:grpSpPr>
            <a:xfrm>
              <a:off x="3530520" y="969840"/>
              <a:ext cx="131760" cy="27000"/>
              <a:chOff x="3530520" y="969840"/>
              <a:chExt cx="131760" cy="27000"/>
            </a:xfrm>
          </p:grpSpPr>
          <p:sp>
            <p:nvSpPr>
              <p:cNvPr id="135" name=""/>
              <p:cNvSpPr/>
              <p:nvPr/>
            </p:nvSpPr>
            <p:spPr>
              <a:xfrm>
                <a:off x="3530520" y="9698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581280" y="9698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35280" y="9698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459240" y="1017720"/>
              <a:ext cx="274680" cy="185760"/>
              <a:chOff x="3459240" y="1017720"/>
              <a:chExt cx="274680" cy="185760"/>
            </a:xfrm>
          </p:grpSpPr>
          <p:sp>
            <p:nvSpPr>
              <p:cNvPr id="139" name=""/>
              <p:cNvSpPr/>
              <p:nvPr/>
            </p:nvSpPr>
            <p:spPr>
              <a:xfrm>
                <a:off x="3459240" y="1017720"/>
                <a:ext cx="274680" cy="185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3461760" y="1020240"/>
                <a:ext cx="267480" cy="18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459240" y="1020240"/>
                <a:ext cx="273240" cy="177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" name=""/>
          <p:cNvSpPr/>
          <p:nvPr/>
        </p:nvSpPr>
        <p:spPr>
          <a:xfrm>
            <a:off x="1082520" y="3027240"/>
            <a:ext cx="924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9120" y="321948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87560" y="3154680"/>
            <a:ext cx="189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0-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-08 HMG                 WW1-GE08 from regimental MG compan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71480" y="3095640"/>
            <a:ext cx="236520" cy="201600"/>
            <a:chOff x="771480" y="3095640"/>
            <a:chExt cx="236520" cy="201600"/>
          </a:xfrm>
        </p:grpSpPr>
        <p:grpSp>
          <p:nvGrpSpPr>
            <p:cNvPr id="146" name=""/>
            <p:cNvGrpSpPr/>
            <p:nvPr/>
          </p:nvGrpSpPr>
          <p:grpSpPr>
            <a:xfrm>
              <a:off x="849240" y="3095640"/>
              <a:ext cx="74520" cy="28080"/>
              <a:chOff x="849240" y="3095640"/>
              <a:chExt cx="74520" cy="28080"/>
            </a:xfrm>
          </p:grpSpPr>
          <p:sp>
            <p:nvSpPr>
              <p:cNvPr id="147" name=""/>
              <p:cNvSpPr/>
              <p:nvPr/>
            </p:nvSpPr>
            <p:spPr>
              <a:xfrm>
                <a:off x="849240" y="30956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6760" y="30970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771480" y="3137040"/>
              <a:ext cx="23184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1480" y="3143160"/>
              <a:ext cx="50760" cy="1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77960" y="3131640"/>
              <a:ext cx="230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9120" y="3160800"/>
              <a:ext cx="21888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23800" y="2641680"/>
            <a:ext cx="1800" cy="579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6320" y="1401840"/>
            <a:ext cx="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454560" y="1290600"/>
            <a:ext cx="274320" cy="232920"/>
            <a:chOff x="3454560" y="1290600"/>
            <a:chExt cx="274320" cy="232920"/>
          </a:xfrm>
        </p:grpSpPr>
        <p:grpSp>
          <p:nvGrpSpPr>
            <p:cNvPr id="156" name=""/>
            <p:cNvGrpSpPr/>
            <p:nvPr/>
          </p:nvGrpSpPr>
          <p:grpSpPr>
            <a:xfrm>
              <a:off x="3525840" y="1290600"/>
              <a:ext cx="131040" cy="26640"/>
              <a:chOff x="3525840" y="1290600"/>
              <a:chExt cx="131040" cy="26640"/>
            </a:xfrm>
          </p:grpSpPr>
          <p:sp>
            <p:nvSpPr>
              <p:cNvPr id="157" name=""/>
              <p:cNvSpPr/>
              <p:nvPr/>
            </p:nvSpPr>
            <p:spPr>
              <a:xfrm>
                <a:off x="3525840" y="129060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576240" y="1290600"/>
                <a:ext cx="2808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630240" y="129060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454560" y="1338120"/>
              <a:ext cx="274320" cy="185400"/>
              <a:chOff x="3454560" y="1338120"/>
              <a:chExt cx="274320" cy="185400"/>
            </a:xfrm>
          </p:grpSpPr>
          <p:sp>
            <p:nvSpPr>
              <p:cNvPr id="161" name=""/>
              <p:cNvSpPr/>
              <p:nvPr/>
            </p:nvSpPr>
            <p:spPr>
              <a:xfrm>
                <a:off x="3454560" y="1338120"/>
                <a:ext cx="274320" cy="185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3457080" y="1340280"/>
                <a:ext cx="267120" cy="18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454560" y="1340640"/>
                <a:ext cx="272880" cy="17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"/>
          <p:cNvSpPr/>
          <p:nvPr/>
        </p:nvSpPr>
        <p:spPr>
          <a:xfrm>
            <a:off x="3797280" y="1316520"/>
            <a:ext cx="239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bmaneuver Element WW1-SME-GE01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Platoon, 19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91000" y="174132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76200" y="1655640"/>
            <a:ext cx="169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ifle                           WW1-GE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99000" y="1611360"/>
            <a:ext cx="231480" cy="196560"/>
            <a:chOff x="3699000" y="1611360"/>
            <a:chExt cx="231480" cy="196560"/>
          </a:xfrm>
        </p:grpSpPr>
        <p:sp>
          <p:nvSpPr>
            <p:cNvPr id="168" name=""/>
            <p:cNvSpPr/>
            <p:nvPr/>
          </p:nvSpPr>
          <p:spPr>
            <a:xfrm>
              <a:off x="3699000" y="1650960"/>
              <a:ext cx="23148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700440" y="1653840"/>
              <a:ext cx="2264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99000" y="1654200"/>
              <a:ext cx="230040" cy="14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776760" y="1611360"/>
              <a:ext cx="73800" cy="27000"/>
              <a:chOff x="3776760" y="1611360"/>
              <a:chExt cx="73800" cy="27000"/>
            </a:xfrm>
          </p:grpSpPr>
          <p:sp>
            <p:nvSpPr>
              <p:cNvPr id="172" name=""/>
              <p:cNvSpPr/>
              <p:nvPr/>
            </p:nvSpPr>
            <p:spPr>
              <a:xfrm>
                <a:off x="3776760" y="161136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823920" y="16113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" name=""/>
          <p:cNvSpPr/>
          <p:nvPr/>
        </p:nvSpPr>
        <p:spPr>
          <a:xfrm>
            <a:off x="752400" y="3681720"/>
            <a:ext cx="179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GE0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äge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attalion, 19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9800" y="3852720"/>
            <a:ext cx="1800" cy="57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35000" y="4257720"/>
            <a:ext cx="164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19160" y="394956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30080" y="4019400"/>
            <a:ext cx="238320" cy="195480"/>
            <a:chOff x="730080" y="4019400"/>
            <a:chExt cx="238320" cy="195480"/>
          </a:xfrm>
        </p:grpSpPr>
        <p:sp>
          <p:nvSpPr>
            <p:cNvPr id="179" name=""/>
            <p:cNvSpPr/>
            <p:nvPr/>
          </p:nvSpPr>
          <p:spPr>
            <a:xfrm>
              <a:off x="730080" y="4056120"/>
              <a:ext cx="238320" cy="158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4840" y="40194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016280" y="4084560"/>
            <a:ext cx="182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9800" y="4133880"/>
            <a:ext cx="27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97000" y="3645000"/>
            <a:ext cx="347040" cy="299160"/>
            <a:chOff x="297000" y="3645000"/>
            <a:chExt cx="347040" cy="299160"/>
          </a:xfrm>
        </p:grpSpPr>
        <p:grpSp>
          <p:nvGrpSpPr>
            <p:cNvPr id="184" name=""/>
            <p:cNvGrpSpPr/>
            <p:nvPr/>
          </p:nvGrpSpPr>
          <p:grpSpPr>
            <a:xfrm>
              <a:off x="438120" y="3645000"/>
              <a:ext cx="76320" cy="63360"/>
              <a:chOff x="438120" y="3645000"/>
              <a:chExt cx="76320" cy="6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38120" y="364500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14440" y="364500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97000" y="3708360"/>
              <a:ext cx="347040" cy="235800"/>
              <a:chOff x="297000" y="3708360"/>
              <a:chExt cx="347040" cy="235800"/>
            </a:xfrm>
          </p:grpSpPr>
          <p:sp>
            <p:nvSpPr>
              <p:cNvPr id="188" name=""/>
              <p:cNvSpPr/>
              <p:nvPr/>
            </p:nvSpPr>
            <p:spPr>
              <a:xfrm>
                <a:off x="297000" y="3708360"/>
                <a:ext cx="347040" cy="235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300600" y="3711600"/>
                <a:ext cx="338400" cy="23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97000" y="3711960"/>
                <a:ext cx="345600" cy="22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1016280" y="4384800"/>
            <a:ext cx="200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Infantry Company         WW1-ME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9800" y="4429080"/>
            <a:ext cx="31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96960" y="4259160"/>
            <a:ext cx="284040" cy="258840"/>
            <a:chOff x="696960" y="4259160"/>
            <a:chExt cx="284040" cy="258840"/>
          </a:xfrm>
        </p:grpSpPr>
        <p:sp>
          <p:nvSpPr>
            <p:cNvPr id="194" name=""/>
            <p:cNvSpPr/>
            <p:nvPr/>
          </p:nvSpPr>
          <p:spPr>
            <a:xfrm>
              <a:off x="839880" y="42591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6960" y="4324320"/>
              <a:ext cx="284040" cy="193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700200" y="4327200"/>
              <a:ext cx="27612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6960" y="4327560"/>
              <a:ext cx="28260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036800" y="4824360"/>
            <a:ext cx="9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3040" y="501660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41480" y="4895640"/>
            <a:ext cx="1787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-08 HMG                  WW1-GE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25400" y="4892760"/>
            <a:ext cx="236520" cy="201600"/>
            <a:chOff x="725400" y="4892760"/>
            <a:chExt cx="236520" cy="201600"/>
          </a:xfrm>
        </p:grpSpPr>
        <p:grpSp>
          <p:nvGrpSpPr>
            <p:cNvPr id="202" name=""/>
            <p:cNvGrpSpPr/>
            <p:nvPr/>
          </p:nvGrpSpPr>
          <p:grpSpPr>
            <a:xfrm>
              <a:off x="803160" y="4892760"/>
              <a:ext cx="74520" cy="28800"/>
              <a:chOff x="803160" y="4892760"/>
              <a:chExt cx="74520" cy="28800"/>
            </a:xfrm>
          </p:grpSpPr>
          <p:sp>
            <p:nvSpPr>
              <p:cNvPr id="203" name=""/>
              <p:cNvSpPr/>
              <p:nvPr/>
            </p:nvSpPr>
            <p:spPr>
              <a:xfrm>
                <a:off x="803160" y="48927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50680" y="48945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725400" y="4934160"/>
              <a:ext cx="23184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5400" y="4940640"/>
              <a:ext cx="50760" cy="14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731880" y="4929120"/>
              <a:ext cx="230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3040" y="4957920"/>
              <a:ext cx="21888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469800" y="4429080"/>
            <a:ext cx="1800" cy="57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4840" y="467532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81120" y="4506840"/>
            <a:ext cx="301680" cy="274680"/>
            <a:chOff x="681120" y="4506840"/>
            <a:chExt cx="301680" cy="274680"/>
          </a:xfrm>
        </p:grpSpPr>
        <p:grpSp>
          <p:nvGrpSpPr>
            <p:cNvPr id="212" name=""/>
            <p:cNvGrpSpPr/>
            <p:nvPr/>
          </p:nvGrpSpPr>
          <p:grpSpPr>
            <a:xfrm>
              <a:off x="681120" y="4576680"/>
              <a:ext cx="295200" cy="199440"/>
              <a:chOff x="681120" y="4576680"/>
              <a:chExt cx="295200" cy="199440"/>
            </a:xfrm>
          </p:grpSpPr>
          <p:sp>
            <p:nvSpPr>
              <p:cNvPr id="213" name=""/>
              <p:cNvSpPr/>
              <p:nvPr/>
            </p:nvSpPr>
            <p:spPr>
              <a:xfrm>
                <a:off x="681120" y="4576680"/>
                <a:ext cx="295200" cy="19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81120" y="4584240"/>
                <a:ext cx="64440" cy="185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flipV="1">
              <a:off x="689040" y="4569840"/>
              <a:ext cx="293760" cy="18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3440" y="4606920"/>
              <a:ext cx="279360" cy="17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1960" y="45068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003320" y="4624560"/>
            <a:ext cx="210816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MG Company  1914-15  WW1-ME-GE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84120" y="4600440"/>
            <a:ext cx="152280" cy="457200"/>
            <a:chOff x="384120" y="4600440"/>
            <a:chExt cx="152280" cy="457200"/>
          </a:xfrm>
        </p:grpSpPr>
        <p:sp>
          <p:nvSpPr>
            <p:cNvPr id="220" name=""/>
            <p:cNvSpPr/>
            <p:nvPr/>
          </p:nvSpPr>
          <p:spPr>
            <a:xfrm>
              <a:off x="384120" y="4600440"/>
              <a:ext cx="0" cy="45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4120" y="4600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4120" y="5057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073160" y="4722840"/>
            <a:ext cx="4255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14760" y="1908360"/>
            <a:ext cx="218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 WW1-ME-GE02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chinegun Company, 1914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08480" y="257976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86120" y="215100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508200" y="2220840"/>
            <a:ext cx="238320" cy="195480"/>
            <a:chOff x="3508200" y="2220840"/>
            <a:chExt cx="238320" cy="195480"/>
          </a:xfrm>
        </p:grpSpPr>
        <p:sp>
          <p:nvSpPr>
            <p:cNvPr id="228" name=""/>
            <p:cNvSpPr/>
            <p:nvPr/>
          </p:nvSpPr>
          <p:spPr>
            <a:xfrm>
              <a:off x="3508200" y="2257560"/>
              <a:ext cx="238320" cy="158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12960" y="22208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783960" y="2286000"/>
            <a:ext cx="173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00560" y="232740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03440" y="2009880"/>
            <a:ext cx="0" cy="57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74600" y="2527200"/>
            <a:ext cx="1755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-08 HMG                 WW1-GE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02080" y="2505240"/>
            <a:ext cx="231480" cy="156960"/>
            <a:chOff x="3502080" y="2505240"/>
            <a:chExt cx="231480" cy="156960"/>
          </a:xfrm>
        </p:grpSpPr>
        <p:sp>
          <p:nvSpPr>
            <p:cNvPr id="235" name=""/>
            <p:cNvSpPr/>
            <p:nvPr/>
          </p:nvSpPr>
          <p:spPr>
            <a:xfrm>
              <a:off x="3502080" y="2505240"/>
              <a:ext cx="23148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02080" y="2511360"/>
              <a:ext cx="50760" cy="1461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 flipV="1">
            <a:off x="3508200" y="2499840"/>
            <a:ext cx="230400" cy="14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19360" y="2529000"/>
            <a:ext cx="219240" cy="136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581280" y="2463840"/>
            <a:ext cx="74520" cy="27000"/>
            <a:chOff x="3581280" y="2463840"/>
            <a:chExt cx="74520" cy="27000"/>
          </a:xfrm>
        </p:grpSpPr>
        <p:sp>
          <p:nvSpPr>
            <p:cNvPr id="240" name=""/>
            <p:cNvSpPr/>
            <p:nvPr/>
          </p:nvSpPr>
          <p:spPr>
            <a:xfrm>
              <a:off x="3581280" y="24638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28800" y="24638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255840" y="1827360"/>
            <a:ext cx="301680" cy="273960"/>
            <a:chOff x="3255840" y="1827360"/>
            <a:chExt cx="301680" cy="273960"/>
          </a:xfrm>
        </p:grpSpPr>
        <p:grpSp>
          <p:nvGrpSpPr>
            <p:cNvPr id="243" name=""/>
            <p:cNvGrpSpPr/>
            <p:nvPr/>
          </p:nvGrpSpPr>
          <p:grpSpPr>
            <a:xfrm>
              <a:off x="3255840" y="1896840"/>
              <a:ext cx="295200" cy="199080"/>
              <a:chOff x="3255840" y="1896840"/>
              <a:chExt cx="295200" cy="199080"/>
            </a:xfrm>
          </p:grpSpPr>
          <p:sp>
            <p:nvSpPr>
              <p:cNvPr id="244" name=""/>
              <p:cNvSpPr/>
              <p:nvPr/>
            </p:nvSpPr>
            <p:spPr>
              <a:xfrm>
                <a:off x="3255840" y="1896840"/>
                <a:ext cx="295200" cy="19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55840" y="1904400"/>
                <a:ext cx="64440" cy="1854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 flipV="1">
              <a:off x="3263760" y="1890360"/>
              <a:ext cx="293760" cy="18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78160" y="1927080"/>
              <a:ext cx="279360" cy="17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06680" y="182736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I British 19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7" name=""/>
          <p:cNvGrpSpPr/>
          <p:nvPr/>
        </p:nvGrpSpPr>
        <p:grpSpPr>
          <a:xfrm>
            <a:off x="3386160" y="1738440"/>
            <a:ext cx="2876040" cy="1050840"/>
            <a:chOff x="3386160" y="1738440"/>
            <a:chExt cx="2876040" cy="1050840"/>
          </a:xfrm>
        </p:grpSpPr>
        <p:sp>
          <p:nvSpPr>
            <p:cNvPr id="2388" name=""/>
            <p:cNvSpPr/>
            <p:nvPr/>
          </p:nvSpPr>
          <p:spPr>
            <a:xfrm>
              <a:off x="3519360" y="1873440"/>
              <a:ext cx="0" cy="82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3519360" y="2705040"/>
              <a:ext cx="37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3519360" y="2436840"/>
              <a:ext cx="37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3519360" y="2170080"/>
              <a:ext cx="37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2" name=""/>
            <p:cNvGrpSpPr/>
            <p:nvPr/>
          </p:nvGrpSpPr>
          <p:grpSpPr>
            <a:xfrm>
              <a:off x="3798720" y="2048040"/>
              <a:ext cx="231480" cy="198360"/>
              <a:chOff x="3798720" y="2048040"/>
              <a:chExt cx="231480" cy="198360"/>
            </a:xfrm>
          </p:grpSpPr>
          <p:grpSp>
            <p:nvGrpSpPr>
              <p:cNvPr id="2393" name=""/>
              <p:cNvGrpSpPr/>
              <p:nvPr/>
            </p:nvGrpSpPr>
            <p:grpSpPr>
              <a:xfrm>
                <a:off x="3798720" y="2089440"/>
                <a:ext cx="231480" cy="156960"/>
                <a:chOff x="3798720" y="2089440"/>
                <a:chExt cx="231480" cy="156960"/>
              </a:xfrm>
            </p:grpSpPr>
            <p:sp>
              <p:nvSpPr>
                <p:cNvPr id="2394" name=""/>
                <p:cNvSpPr/>
                <p:nvPr/>
              </p:nvSpPr>
              <p:spPr>
                <a:xfrm>
                  <a:off x="3798720" y="2089440"/>
                  <a:ext cx="23148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 flipV="1">
                  <a:off x="3800880" y="2091600"/>
                  <a:ext cx="22536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3798720" y="2091600"/>
                  <a:ext cx="230400" cy="14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7" name=""/>
              <p:cNvGrpSpPr/>
              <p:nvPr/>
            </p:nvGrpSpPr>
            <p:grpSpPr>
              <a:xfrm>
                <a:off x="3876120" y="2048040"/>
                <a:ext cx="73800" cy="28080"/>
                <a:chOff x="3876120" y="2048040"/>
                <a:chExt cx="73800" cy="28080"/>
              </a:xfrm>
            </p:grpSpPr>
            <p:sp>
              <p:nvSpPr>
                <p:cNvPr id="2398" name=""/>
                <p:cNvSpPr/>
                <p:nvPr/>
              </p:nvSpPr>
              <p:spPr>
                <a:xfrm>
                  <a:off x="3876120" y="204804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3923280" y="204948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00" name=""/>
            <p:cNvGrpSpPr/>
            <p:nvPr/>
          </p:nvGrpSpPr>
          <p:grpSpPr>
            <a:xfrm>
              <a:off x="3386160" y="1738440"/>
              <a:ext cx="264960" cy="221760"/>
              <a:chOff x="3386160" y="1738440"/>
              <a:chExt cx="264960" cy="221760"/>
            </a:xfrm>
          </p:grpSpPr>
          <p:grpSp>
            <p:nvGrpSpPr>
              <p:cNvPr id="2401" name=""/>
              <p:cNvGrpSpPr/>
              <p:nvPr/>
            </p:nvGrpSpPr>
            <p:grpSpPr>
              <a:xfrm>
                <a:off x="3452400" y="1738440"/>
                <a:ext cx="131040" cy="26640"/>
                <a:chOff x="3452400" y="1738440"/>
                <a:chExt cx="131040" cy="26640"/>
              </a:xfrm>
            </p:grpSpPr>
            <p:sp>
              <p:nvSpPr>
                <p:cNvPr id="2402" name=""/>
                <p:cNvSpPr/>
                <p:nvPr/>
              </p:nvSpPr>
              <p:spPr>
                <a:xfrm>
                  <a:off x="3452400" y="173844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3502800" y="173844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3556800" y="173844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5" name=""/>
              <p:cNvGrpSpPr/>
              <p:nvPr/>
            </p:nvGrpSpPr>
            <p:grpSpPr>
              <a:xfrm>
                <a:off x="3386160" y="1780920"/>
                <a:ext cx="264960" cy="179280"/>
                <a:chOff x="3386160" y="1780920"/>
                <a:chExt cx="264960" cy="179280"/>
              </a:xfrm>
            </p:grpSpPr>
            <p:sp>
              <p:nvSpPr>
                <p:cNvPr id="2406" name=""/>
                <p:cNvSpPr/>
                <p:nvPr/>
              </p:nvSpPr>
              <p:spPr>
                <a:xfrm>
                  <a:off x="3386160" y="1780920"/>
                  <a:ext cx="264960" cy="1792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 flipV="1">
                  <a:off x="3388680" y="1783080"/>
                  <a:ext cx="258120" cy="17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3386160" y="1783440"/>
                  <a:ext cx="263520" cy="17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09" name=""/>
            <p:cNvGrpSpPr/>
            <p:nvPr/>
          </p:nvGrpSpPr>
          <p:grpSpPr>
            <a:xfrm>
              <a:off x="3798720" y="2314800"/>
              <a:ext cx="231480" cy="198360"/>
              <a:chOff x="3798720" y="2314800"/>
              <a:chExt cx="231480" cy="198360"/>
            </a:xfrm>
          </p:grpSpPr>
          <p:grpSp>
            <p:nvGrpSpPr>
              <p:cNvPr id="2410" name=""/>
              <p:cNvGrpSpPr/>
              <p:nvPr/>
            </p:nvGrpSpPr>
            <p:grpSpPr>
              <a:xfrm>
                <a:off x="3798720" y="2356200"/>
                <a:ext cx="231480" cy="156960"/>
                <a:chOff x="3798720" y="2356200"/>
                <a:chExt cx="231480" cy="156960"/>
              </a:xfrm>
            </p:grpSpPr>
            <p:sp>
              <p:nvSpPr>
                <p:cNvPr id="2411" name=""/>
                <p:cNvSpPr/>
                <p:nvPr/>
              </p:nvSpPr>
              <p:spPr>
                <a:xfrm>
                  <a:off x="3798720" y="2356200"/>
                  <a:ext cx="23148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 flipV="1">
                  <a:off x="3800880" y="2358360"/>
                  <a:ext cx="22536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3798720" y="2358360"/>
                  <a:ext cx="230400" cy="14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4" name=""/>
              <p:cNvGrpSpPr/>
              <p:nvPr/>
            </p:nvGrpSpPr>
            <p:grpSpPr>
              <a:xfrm>
                <a:off x="3876120" y="2314800"/>
                <a:ext cx="73800" cy="28080"/>
                <a:chOff x="3876120" y="2314800"/>
                <a:chExt cx="73800" cy="28080"/>
              </a:xfrm>
            </p:grpSpPr>
            <p:sp>
              <p:nvSpPr>
                <p:cNvPr id="2415" name=""/>
                <p:cNvSpPr/>
                <p:nvPr/>
              </p:nvSpPr>
              <p:spPr>
                <a:xfrm>
                  <a:off x="3876120" y="231480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3923280" y="231624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17" name=""/>
            <p:cNvGrpSpPr/>
            <p:nvPr/>
          </p:nvGrpSpPr>
          <p:grpSpPr>
            <a:xfrm>
              <a:off x="3800160" y="2590920"/>
              <a:ext cx="231480" cy="198360"/>
              <a:chOff x="3800160" y="2590920"/>
              <a:chExt cx="231480" cy="198360"/>
            </a:xfrm>
          </p:grpSpPr>
          <p:grpSp>
            <p:nvGrpSpPr>
              <p:cNvPr id="2418" name=""/>
              <p:cNvGrpSpPr/>
              <p:nvPr/>
            </p:nvGrpSpPr>
            <p:grpSpPr>
              <a:xfrm>
                <a:off x="3800160" y="2632320"/>
                <a:ext cx="231480" cy="156960"/>
                <a:chOff x="3800160" y="2632320"/>
                <a:chExt cx="231480" cy="156960"/>
              </a:xfrm>
            </p:grpSpPr>
            <p:sp>
              <p:nvSpPr>
                <p:cNvPr id="2419" name=""/>
                <p:cNvSpPr/>
                <p:nvPr/>
              </p:nvSpPr>
              <p:spPr>
                <a:xfrm>
                  <a:off x="3800160" y="2632320"/>
                  <a:ext cx="23148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 flipV="1">
                  <a:off x="3802320" y="2634480"/>
                  <a:ext cx="22536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3800160" y="2634480"/>
                  <a:ext cx="230400" cy="14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2" name=""/>
              <p:cNvGrpSpPr/>
              <p:nvPr/>
            </p:nvGrpSpPr>
            <p:grpSpPr>
              <a:xfrm>
                <a:off x="3877560" y="2590920"/>
                <a:ext cx="73800" cy="28080"/>
                <a:chOff x="3877560" y="2590920"/>
                <a:chExt cx="73800" cy="28080"/>
              </a:xfrm>
            </p:grpSpPr>
            <p:sp>
              <p:nvSpPr>
                <p:cNvPr id="2423" name=""/>
                <p:cNvSpPr/>
                <p:nvPr/>
              </p:nvSpPr>
              <p:spPr>
                <a:xfrm>
                  <a:off x="3877560" y="259092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3924720" y="259236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5" name=""/>
            <p:cNvSpPr/>
            <p:nvPr/>
          </p:nvSpPr>
          <p:spPr>
            <a:xfrm>
              <a:off x="3808080" y="1744920"/>
              <a:ext cx="2454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ubmaneuver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Element WW1-SME-BR04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Platoon, 19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109400" y="2121120"/>
              <a:ext cx="13755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ifle                 WW1-BR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113720" y="2397240"/>
              <a:ext cx="1369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ifle-Grenade  WW1-BR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111200" y="2664000"/>
              <a:ext cx="13543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omber           WW1-BR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9" name=""/>
          <p:cNvGrpSpPr/>
          <p:nvPr/>
        </p:nvGrpSpPr>
        <p:grpSpPr>
          <a:xfrm>
            <a:off x="3327480" y="2819520"/>
            <a:ext cx="2506680" cy="819720"/>
            <a:chOff x="3327480" y="2819520"/>
            <a:chExt cx="2506680" cy="819720"/>
          </a:xfrm>
        </p:grpSpPr>
        <p:sp>
          <p:nvSpPr>
            <p:cNvPr id="2430" name=""/>
            <p:cNvSpPr/>
            <p:nvPr/>
          </p:nvSpPr>
          <p:spPr>
            <a:xfrm>
              <a:off x="3467160" y="3549600"/>
              <a:ext cx="231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921120" y="3508560"/>
              <a:ext cx="13748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ickers HMG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W1-BR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684600" y="2841480"/>
              <a:ext cx="21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 WW1-ME-BR05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G Platoon, 1916-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856320" y="308448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856320" y="3219480"/>
              <a:ext cx="1383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WW1-BR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478320" y="3260520"/>
              <a:ext cx="14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473640" y="2981160"/>
              <a:ext cx="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7" name=""/>
            <p:cNvGrpSpPr/>
            <p:nvPr/>
          </p:nvGrpSpPr>
          <p:grpSpPr>
            <a:xfrm>
              <a:off x="3571920" y="3133800"/>
              <a:ext cx="238320" cy="218160"/>
              <a:chOff x="3571920" y="3133800"/>
              <a:chExt cx="238320" cy="218160"/>
            </a:xfrm>
          </p:grpSpPr>
          <p:sp>
            <p:nvSpPr>
              <p:cNvPr id="2438" name=""/>
              <p:cNvSpPr/>
              <p:nvPr/>
            </p:nvSpPr>
            <p:spPr>
              <a:xfrm>
                <a:off x="3676680" y="31338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3571920" y="3193560"/>
                <a:ext cx="238320" cy="15840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0" name=""/>
            <p:cNvGrpSpPr/>
            <p:nvPr/>
          </p:nvGrpSpPr>
          <p:grpSpPr>
            <a:xfrm>
              <a:off x="3327480" y="2819520"/>
              <a:ext cx="283680" cy="238680"/>
              <a:chOff x="3327480" y="2819520"/>
              <a:chExt cx="283680" cy="238680"/>
            </a:xfrm>
          </p:grpSpPr>
          <p:grpSp>
            <p:nvGrpSpPr>
              <p:cNvPr id="2441" name=""/>
              <p:cNvGrpSpPr/>
              <p:nvPr/>
            </p:nvGrpSpPr>
            <p:grpSpPr>
              <a:xfrm>
                <a:off x="3327480" y="2865240"/>
                <a:ext cx="283680" cy="192960"/>
                <a:chOff x="3327480" y="2865240"/>
                <a:chExt cx="283680" cy="192960"/>
              </a:xfrm>
            </p:grpSpPr>
            <p:sp>
              <p:nvSpPr>
                <p:cNvPr id="2442" name=""/>
                <p:cNvSpPr/>
                <p:nvPr/>
              </p:nvSpPr>
              <p:spPr>
                <a:xfrm>
                  <a:off x="3327480" y="2865240"/>
                  <a:ext cx="283680" cy="192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3327480" y="2872440"/>
                  <a:ext cx="62280" cy="1796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 flipV="1">
                  <a:off x="3327480" y="2874960"/>
                  <a:ext cx="281880" cy="17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3340800" y="2886480"/>
                  <a:ext cx="268200" cy="16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6" name=""/>
              <p:cNvGrpSpPr/>
              <p:nvPr/>
            </p:nvGrpSpPr>
            <p:grpSpPr>
              <a:xfrm>
                <a:off x="3403440" y="2819520"/>
                <a:ext cx="131760" cy="26640"/>
                <a:chOff x="3403440" y="2819520"/>
                <a:chExt cx="131760" cy="26640"/>
              </a:xfrm>
            </p:grpSpPr>
            <p:sp>
              <p:nvSpPr>
                <p:cNvPr id="2447" name=""/>
                <p:cNvSpPr/>
                <p:nvPr/>
              </p:nvSpPr>
              <p:spPr>
                <a:xfrm>
                  <a:off x="3403440" y="28195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3454200" y="28195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3508200" y="28195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50" name=""/>
            <p:cNvGrpSpPr/>
            <p:nvPr/>
          </p:nvGrpSpPr>
          <p:grpSpPr>
            <a:xfrm>
              <a:off x="3579840" y="3438360"/>
              <a:ext cx="231840" cy="200880"/>
              <a:chOff x="3579840" y="3438360"/>
              <a:chExt cx="231840" cy="200880"/>
            </a:xfrm>
          </p:grpSpPr>
          <p:grpSp>
            <p:nvGrpSpPr>
              <p:cNvPr id="2451" name=""/>
              <p:cNvGrpSpPr/>
              <p:nvPr/>
            </p:nvGrpSpPr>
            <p:grpSpPr>
              <a:xfrm>
                <a:off x="3659400" y="3438360"/>
                <a:ext cx="74520" cy="27720"/>
                <a:chOff x="3659400" y="3438360"/>
                <a:chExt cx="74520" cy="27720"/>
              </a:xfrm>
            </p:grpSpPr>
            <p:sp>
              <p:nvSpPr>
                <p:cNvPr id="2452" name=""/>
                <p:cNvSpPr/>
                <p:nvPr/>
              </p:nvSpPr>
              <p:spPr>
                <a:xfrm>
                  <a:off x="3659400" y="3438360"/>
                  <a:ext cx="2844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3706920" y="3439800"/>
                  <a:ext cx="2700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4" name=""/>
              <p:cNvGrpSpPr/>
              <p:nvPr/>
            </p:nvGrpSpPr>
            <p:grpSpPr>
              <a:xfrm>
                <a:off x="3579840" y="3482280"/>
                <a:ext cx="231840" cy="156960"/>
                <a:chOff x="3579840" y="3482280"/>
                <a:chExt cx="231840" cy="156960"/>
              </a:xfrm>
            </p:grpSpPr>
            <p:sp>
              <p:nvSpPr>
                <p:cNvPr id="2455" name=""/>
                <p:cNvSpPr/>
                <p:nvPr/>
              </p:nvSpPr>
              <p:spPr>
                <a:xfrm>
                  <a:off x="3579840" y="3482280"/>
                  <a:ext cx="23184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3579840" y="3488400"/>
                  <a:ext cx="51120" cy="146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 flipV="1">
                  <a:off x="3579840" y="3489840"/>
                  <a:ext cx="23040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3591000" y="3499560"/>
                  <a:ext cx="219240" cy="13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59" name=""/>
          <p:cNvGrpSpPr/>
          <p:nvPr/>
        </p:nvGrpSpPr>
        <p:grpSpPr>
          <a:xfrm>
            <a:off x="3309840" y="293760"/>
            <a:ext cx="2543040" cy="1336320"/>
            <a:chOff x="3309840" y="293760"/>
            <a:chExt cx="2543040" cy="1336320"/>
          </a:xfrm>
        </p:grpSpPr>
        <p:sp>
          <p:nvSpPr>
            <p:cNvPr id="2460" name=""/>
            <p:cNvSpPr/>
            <p:nvPr/>
          </p:nvSpPr>
          <p:spPr>
            <a:xfrm>
              <a:off x="3439800" y="1090800"/>
              <a:ext cx="231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665160" y="367200"/>
              <a:ext cx="2178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 WW1-ME-BR04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Company, 19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3836880" y="60948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836880" y="744480"/>
              <a:ext cx="1383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WW1-BR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3458880" y="785880"/>
              <a:ext cx="14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3454200" y="506520"/>
              <a:ext cx="0" cy="88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6" name=""/>
            <p:cNvGrpSpPr/>
            <p:nvPr/>
          </p:nvGrpSpPr>
          <p:grpSpPr>
            <a:xfrm>
              <a:off x="3309840" y="293760"/>
              <a:ext cx="284040" cy="252360"/>
              <a:chOff x="3309840" y="293760"/>
              <a:chExt cx="284040" cy="252360"/>
            </a:xfrm>
          </p:grpSpPr>
          <p:sp>
            <p:nvSpPr>
              <p:cNvPr id="2467" name=""/>
              <p:cNvSpPr/>
              <p:nvPr/>
            </p:nvSpPr>
            <p:spPr>
              <a:xfrm>
                <a:off x="3450960" y="2937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8" name=""/>
              <p:cNvGrpSpPr/>
              <p:nvPr/>
            </p:nvGrpSpPr>
            <p:grpSpPr>
              <a:xfrm>
                <a:off x="3309840" y="352440"/>
                <a:ext cx="284040" cy="193680"/>
                <a:chOff x="3309840" y="352440"/>
                <a:chExt cx="284040" cy="193680"/>
              </a:xfrm>
            </p:grpSpPr>
            <p:sp>
              <p:nvSpPr>
                <p:cNvPr id="2469" name=""/>
                <p:cNvSpPr/>
                <p:nvPr/>
              </p:nvSpPr>
              <p:spPr>
                <a:xfrm>
                  <a:off x="3309840" y="352440"/>
                  <a:ext cx="284040" cy="1936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 flipV="1">
                  <a:off x="3312720" y="35532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3309840" y="35532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72" name=""/>
            <p:cNvGrpSpPr/>
            <p:nvPr/>
          </p:nvGrpSpPr>
          <p:grpSpPr>
            <a:xfrm>
              <a:off x="3557520" y="954000"/>
              <a:ext cx="264960" cy="222480"/>
              <a:chOff x="3557520" y="954000"/>
              <a:chExt cx="264960" cy="222480"/>
            </a:xfrm>
          </p:grpSpPr>
          <p:grpSp>
            <p:nvGrpSpPr>
              <p:cNvPr id="2473" name=""/>
              <p:cNvGrpSpPr/>
              <p:nvPr/>
            </p:nvGrpSpPr>
            <p:grpSpPr>
              <a:xfrm>
                <a:off x="3623760" y="954000"/>
                <a:ext cx="131040" cy="27000"/>
                <a:chOff x="3623760" y="954000"/>
                <a:chExt cx="131040" cy="27000"/>
              </a:xfrm>
            </p:grpSpPr>
            <p:sp>
              <p:nvSpPr>
                <p:cNvPr id="2474" name=""/>
                <p:cNvSpPr/>
                <p:nvPr/>
              </p:nvSpPr>
              <p:spPr>
                <a:xfrm>
                  <a:off x="3623760" y="95400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3674160" y="95400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3728160" y="95400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7" name=""/>
              <p:cNvGrpSpPr/>
              <p:nvPr/>
            </p:nvGrpSpPr>
            <p:grpSpPr>
              <a:xfrm>
                <a:off x="3557520" y="996840"/>
                <a:ext cx="264960" cy="179640"/>
                <a:chOff x="3557520" y="996840"/>
                <a:chExt cx="264960" cy="179640"/>
              </a:xfrm>
            </p:grpSpPr>
            <p:sp>
              <p:nvSpPr>
                <p:cNvPr id="2478" name=""/>
                <p:cNvSpPr/>
                <p:nvPr/>
              </p:nvSpPr>
              <p:spPr>
                <a:xfrm>
                  <a:off x="3557520" y="996840"/>
                  <a:ext cx="264960" cy="17964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 flipV="1">
                  <a:off x="3560040" y="999000"/>
                  <a:ext cx="258120" cy="17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3557520" y="999360"/>
                  <a:ext cx="263520" cy="17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81" name=""/>
            <p:cNvGrpSpPr/>
            <p:nvPr/>
          </p:nvGrpSpPr>
          <p:grpSpPr>
            <a:xfrm>
              <a:off x="3552480" y="658800"/>
              <a:ext cx="238320" cy="218880"/>
              <a:chOff x="3552480" y="658800"/>
              <a:chExt cx="238320" cy="218880"/>
            </a:xfrm>
          </p:grpSpPr>
          <p:sp>
            <p:nvSpPr>
              <p:cNvPr id="2482" name=""/>
              <p:cNvSpPr/>
              <p:nvPr/>
            </p:nvSpPr>
            <p:spPr>
              <a:xfrm>
                <a:off x="3657240" y="6588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3552480" y="718920"/>
                <a:ext cx="238320" cy="1587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4" name=""/>
            <p:cNvSpPr/>
            <p:nvPr/>
          </p:nvSpPr>
          <p:spPr>
            <a:xfrm>
              <a:off x="3884400" y="1040040"/>
              <a:ext cx="19684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Infantry Platoon ‘16  WW1-SME-BR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3889440" y="1306440"/>
              <a:ext cx="15159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wis LMG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WW1-BR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447720" y="1384200"/>
              <a:ext cx="219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7" name=""/>
            <p:cNvGrpSpPr/>
            <p:nvPr/>
          </p:nvGrpSpPr>
          <p:grpSpPr>
            <a:xfrm>
              <a:off x="3578040" y="1254240"/>
              <a:ext cx="231840" cy="201240"/>
              <a:chOff x="3578040" y="1254240"/>
              <a:chExt cx="231840" cy="201240"/>
            </a:xfrm>
          </p:grpSpPr>
          <p:grpSp>
            <p:nvGrpSpPr>
              <p:cNvPr id="2488" name=""/>
              <p:cNvGrpSpPr/>
              <p:nvPr/>
            </p:nvGrpSpPr>
            <p:grpSpPr>
              <a:xfrm>
                <a:off x="3657600" y="1254240"/>
                <a:ext cx="74520" cy="28080"/>
                <a:chOff x="3657600" y="1254240"/>
                <a:chExt cx="74520" cy="28080"/>
              </a:xfrm>
            </p:grpSpPr>
            <p:sp>
              <p:nvSpPr>
                <p:cNvPr id="2489" name=""/>
                <p:cNvSpPr/>
                <p:nvPr/>
              </p:nvSpPr>
              <p:spPr>
                <a:xfrm>
                  <a:off x="3657600" y="12542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3705120" y="12556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1" name=""/>
              <p:cNvGrpSpPr/>
              <p:nvPr/>
            </p:nvGrpSpPr>
            <p:grpSpPr>
              <a:xfrm>
                <a:off x="3578040" y="1298520"/>
                <a:ext cx="231840" cy="156960"/>
                <a:chOff x="3578040" y="1298520"/>
                <a:chExt cx="231840" cy="156960"/>
              </a:xfrm>
            </p:grpSpPr>
            <p:sp>
              <p:nvSpPr>
                <p:cNvPr id="2492" name=""/>
                <p:cNvSpPr/>
                <p:nvPr/>
              </p:nvSpPr>
              <p:spPr>
                <a:xfrm>
                  <a:off x="3578040" y="1298520"/>
                  <a:ext cx="23184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3578040" y="1304640"/>
                  <a:ext cx="51120" cy="146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 flipV="1">
                  <a:off x="3578040" y="1306080"/>
                  <a:ext cx="23040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3589200" y="1315800"/>
                  <a:ext cx="219240" cy="13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96" name=""/>
            <p:cNvSpPr/>
            <p:nvPr/>
          </p:nvSpPr>
          <p:spPr>
            <a:xfrm>
              <a:off x="3860640" y="1514520"/>
              <a:ext cx="14922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a) x2 Lewis Gun by fall 19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7" name=""/>
          <p:cNvGrpSpPr/>
          <p:nvPr/>
        </p:nvGrpSpPr>
        <p:grpSpPr>
          <a:xfrm>
            <a:off x="3402000" y="3778200"/>
            <a:ext cx="2600280" cy="1336320"/>
            <a:chOff x="3402000" y="3778200"/>
            <a:chExt cx="2600280" cy="1336320"/>
          </a:xfrm>
        </p:grpSpPr>
        <p:grpSp>
          <p:nvGrpSpPr>
            <p:cNvPr id="2498" name=""/>
            <p:cNvGrpSpPr/>
            <p:nvPr/>
          </p:nvGrpSpPr>
          <p:grpSpPr>
            <a:xfrm>
              <a:off x="3402000" y="3778200"/>
              <a:ext cx="2600280" cy="1161720"/>
              <a:chOff x="3402000" y="3778200"/>
              <a:chExt cx="2600280" cy="1161720"/>
            </a:xfrm>
          </p:grpSpPr>
          <p:sp>
            <p:nvSpPr>
              <p:cNvPr id="2499" name=""/>
              <p:cNvSpPr/>
              <p:nvPr/>
            </p:nvSpPr>
            <p:spPr>
              <a:xfrm>
                <a:off x="3532320" y="4575240"/>
                <a:ext cx="231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3757680" y="3851640"/>
                <a:ext cx="2244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aneuver Element WW1-ME-BR06</a:t>
                </a: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anadian</a:t>
                </a: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fantry Company, 19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3929040" y="409428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3929040" y="4229280"/>
                <a:ext cx="1383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 WW1-BR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3551400" y="4270320"/>
                <a:ext cx="14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3546360" y="3990960"/>
                <a:ext cx="0" cy="88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5" name=""/>
              <p:cNvGrpSpPr/>
              <p:nvPr/>
            </p:nvGrpSpPr>
            <p:grpSpPr>
              <a:xfrm>
                <a:off x="3402000" y="3778200"/>
                <a:ext cx="284040" cy="252360"/>
                <a:chOff x="3402000" y="3778200"/>
                <a:chExt cx="284040" cy="252360"/>
              </a:xfrm>
            </p:grpSpPr>
            <p:sp>
              <p:nvSpPr>
                <p:cNvPr id="2506" name=""/>
                <p:cNvSpPr/>
                <p:nvPr/>
              </p:nvSpPr>
              <p:spPr>
                <a:xfrm>
                  <a:off x="3543120" y="37782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07" name=""/>
                <p:cNvGrpSpPr/>
                <p:nvPr/>
              </p:nvGrpSpPr>
              <p:grpSpPr>
                <a:xfrm>
                  <a:off x="3402000" y="3836880"/>
                  <a:ext cx="284040" cy="193680"/>
                  <a:chOff x="3402000" y="3836880"/>
                  <a:chExt cx="284040" cy="193680"/>
                </a:xfrm>
              </p:grpSpPr>
              <p:sp>
                <p:nvSpPr>
                  <p:cNvPr id="2508" name=""/>
                  <p:cNvSpPr/>
                  <p:nvPr/>
                </p:nvSpPr>
                <p:spPr>
                  <a:xfrm>
                    <a:off x="3402000" y="3836880"/>
                    <a:ext cx="284040" cy="19368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9" name=""/>
                  <p:cNvSpPr/>
                  <p:nvPr/>
                </p:nvSpPr>
                <p:spPr>
                  <a:xfrm flipV="1">
                    <a:off x="3404880" y="3839760"/>
                    <a:ext cx="276480" cy="18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0" name=""/>
                  <p:cNvSpPr/>
                  <p:nvPr/>
                </p:nvSpPr>
                <p:spPr>
                  <a:xfrm>
                    <a:off x="3402000" y="3839760"/>
                    <a:ext cx="282600" cy="18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11" name=""/>
              <p:cNvGrpSpPr/>
              <p:nvPr/>
            </p:nvGrpSpPr>
            <p:grpSpPr>
              <a:xfrm>
                <a:off x="3649680" y="4438800"/>
                <a:ext cx="264960" cy="221760"/>
                <a:chOff x="3649680" y="4438800"/>
                <a:chExt cx="264960" cy="221760"/>
              </a:xfrm>
            </p:grpSpPr>
            <p:grpSp>
              <p:nvGrpSpPr>
                <p:cNvPr id="2512" name=""/>
                <p:cNvGrpSpPr/>
                <p:nvPr/>
              </p:nvGrpSpPr>
              <p:grpSpPr>
                <a:xfrm>
                  <a:off x="3715920" y="4438800"/>
                  <a:ext cx="131040" cy="26640"/>
                  <a:chOff x="3715920" y="4438800"/>
                  <a:chExt cx="131040" cy="26640"/>
                </a:xfrm>
              </p:grpSpPr>
              <p:sp>
                <p:nvSpPr>
                  <p:cNvPr id="2513" name=""/>
                  <p:cNvSpPr/>
                  <p:nvPr/>
                </p:nvSpPr>
                <p:spPr>
                  <a:xfrm>
                    <a:off x="3715920" y="443880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4" name=""/>
                  <p:cNvSpPr/>
                  <p:nvPr/>
                </p:nvSpPr>
                <p:spPr>
                  <a:xfrm>
                    <a:off x="3766320" y="443880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5" name=""/>
                  <p:cNvSpPr/>
                  <p:nvPr/>
                </p:nvSpPr>
                <p:spPr>
                  <a:xfrm>
                    <a:off x="3820320" y="443880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6" name=""/>
                <p:cNvGrpSpPr/>
                <p:nvPr/>
              </p:nvGrpSpPr>
              <p:grpSpPr>
                <a:xfrm>
                  <a:off x="3649680" y="4481280"/>
                  <a:ext cx="264960" cy="179280"/>
                  <a:chOff x="3649680" y="4481280"/>
                  <a:chExt cx="264960" cy="179280"/>
                </a:xfrm>
              </p:grpSpPr>
              <p:sp>
                <p:nvSpPr>
                  <p:cNvPr id="2517" name=""/>
                  <p:cNvSpPr/>
                  <p:nvPr/>
                </p:nvSpPr>
                <p:spPr>
                  <a:xfrm>
                    <a:off x="3649680" y="4481280"/>
                    <a:ext cx="264960" cy="17928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8" name=""/>
                  <p:cNvSpPr/>
                  <p:nvPr/>
                </p:nvSpPr>
                <p:spPr>
                  <a:xfrm flipV="1">
                    <a:off x="3652200" y="4483440"/>
                    <a:ext cx="258120" cy="17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9" name=""/>
                  <p:cNvSpPr/>
                  <p:nvPr/>
                </p:nvSpPr>
                <p:spPr>
                  <a:xfrm>
                    <a:off x="3649680" y="4483800"/>
                    <a:ext cx="263520" cy="171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20" name=""/>
              <p:cNvGrpSpPr/>
              <p:nvPr/>
            </p:nvGrpSpPr>
            <p:grpSpPr>
              <a:xfrm>
                <a:off x="3645000" y="4143240"/>
                <a:ext cx="237960" cy="218880"/>
                <a:chOff x="3645000" y="4143240"/>
                <a:chExt cx="237960" cy="218880"/>
              </a:xfrm>
            </p:grpSpPr>
            <p:sp>
              <p:nvSpPr>
                <p:cNvPr id="2521" name=""/>
                <p:cNvSpPr/>
                <p:nvPr/>
              </p:nvSpPr>
              <p:spPr>
                <a:xfrm>
                  <a:off x="3749400" y="414324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3645000" y="4203360"/>
                  <a:ext cx="237960" cy="1587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3" name=""/>
              <p:cNvSpPr/>
              <p:nvPr/>
            </p:nvSpPr>
            <p:spPr>
              <a:xfrm>
                <a:off x="3976560" y="4524840"/>
                <a:ext cx="200664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4 Canadian Inf. Plt. ’16  WW1-SME-BR0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3981600" y="4791240"/>
                <a:ext cx="151596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ewis LMG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WW1-BR1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3540240" y="4869000"/>
                <a:ext cx="218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6" name=""/>
              <p:cNvGrpSpPr/>
              <p:nvPr/>
            </p:nvGrpSpPr>
            <p:grpSpPr>
              <a:xfrm>
                <a:off x="3670200" y="4738680"/>
                <a:ext cx="231840" cy="201240"/>
                <a:chOff x="3670200" y="4738680"/>
                <a:chExt cx="231840" cy="201240"/>
              </a:xfrm>
            </p:grpSpPr>
            <p:grpSp>
              <p:nvGrpSpPr>
                <p:cNvPr id="2527" name=""/>
                <p:cNvGrpSpPr/>
                <p:nvPr/>
              </p:nvGrpSpPr>
              <p:grpSpPr>
                <a:xfrm>
                  <a:off x="3749760" y="4738680"/>
                  <a:ext cx="74520" cy="28080"/>
                  <a:chOff x="3749760" y="4738680"/>
                  <a:chExt cx="74520" cy="28080"/>
                </a:xfrm>
              </p:grpSpPr>
              <p:sp>
                <p:nvSpPr>
                  <p:cNvPr id="2528" name=""/>
                  <p:cNvSpPr/>
                  <p:nvPr/>
                </p:nvSpPr>
                <p:spPr>
                  <a:xfrm>
                    <a:off x="3749760" y="47386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9" name=""/>
                  <p:cNvSpPr/>
                  <p:nvPr/>
                </p:nvSpPr>
                <p:spPr>
                  <a:xfrm>
                    <a:off x="3797280" y="47401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0" name=""/>
                <p:cNvGrpSpPr/>
                <p:nvPr/>
              </p:nvGrpSpPr>
              <p:grpSpPr>
                <a:xfrm>
                  <a:off x="3670200" y="4782960"/>
                  <a:ext cx="231840" cy="156960"/>
                  <a:chOff x="3670200" y="4782960"/>
                  <a:chExt cx="231840" cy="156960"/>
                </a:xfrm>
              </p:grpSpPr>
              <p:sp>
                <p:nvSpPr>
                  <p:cNvPr id="2531" name=""/>
                  <p:cNvSpPr/>
                  <p:nvPr/>
                </p:nvSpPr>
                <p:spPr>
                  <a:xfrm>
                    <a:off x="3670200" y="4782960"/>
                    <a:ext cx="23184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2" name=""/>
                  <p:cNvSpPr/>
                  <p:nvPr/>
                </p:nvSpPr>
                <p:spPr>
                  <a:xfrm>
                    <a:off x="3670200" y="4789080"/>
                    <a:ext cx="51120" cy="1461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3" name=""/>
                  <p:cNvSpPr/>
                  <p:nvPr/>
                </p:nvSpPr>
                <p:spPr>
                  <a:xfrm flipV="1">
                    <a:off x="3670200" y="4790520"/>
                    <a:ext cx="230400" cy="1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4" name=""/>
                  <p:cNvSpPr/>
                  <p:nvPr/>
                </p:nvSpPr>
                <p:spPr>
                  <a:xfrm>
                    <a:off x="3681360" y="4800240"/>
                    <a:ext cx="219240" cy="136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35" name=""/>
            <p:cNvSpPr/>
            <p:nvPr/>
          </p:nvSpPr>
          <p:spPr>
            <a:xfrm>
              <a:off x="3952800" y="4998960"/>
              <a:ext cx="14922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a) x2 Lewis Gun by fall 19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6" name=""/>
          <p:cNvGrpSpPr/>
          <p:nvPr/>
        </p:nvGrpSpPr>
        <p:grpSpPr>
          <a:xfrm>
            <a:off x="3387600" y="5154480"/>
            <a:ext cx="2781360" cy="1382760"/>
            <a:chOff x="3387600" y="5154480"/>
            <a:chExt cx="2781360" cy="1382760"/>
          </a:xfrm>
        </p:grpSpPr>
        <p:grpSp>
          <p:nvGrpSpPr>
            <p:cNvPr id="2537" name=""/>
            <p:cNvGrpSpPr/>
            <p:nvPr/>
          </p:nvGrpSpPr>
          <p:grpSpPr>
            <a:xfrm>
              <a:off x="3387600" y="5154480"/>
              <a:ext cx="2781360" cy="1050840"/>
              <a:chOff x="3387600" y="5154480"/>
              <a:chExt cx="2781360" cy="1050840"/>
            </a:xfrm>
          </p:grpSpPr>
          <p:sp>
            <p:nvSpPr>
              <p:cNvPr id="2538" name=""/>
              <p:cNvSpPr/>
              <p:nvPr/>
            </p:nvSpPr>
            <p:spPr>
              <a:xfrm>
                <a:off x="3521160" y="5289480"/>
                <a:ext cx="0" cy="82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3521160" y="6121440"/>
                <a:ext cx="371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3521160" y="5853240"/>
                <a:ext cx="371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3521160" y="5586480"/>
                <a:ext cx="371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2" name=""/>
              <p:cNvGrpSpPr/>
              <p:nvPr/>
            </p:nvGrpSpPr>
            <p:grpSpPr>
              <a:xfrm>
                <a:off x="3800520" y="5464080"/>
                <a:ext cx="231840" cy="198360"/>
                <a:chOff x="3800520" y="5464080"/>
                <a:chExt cx="231840" cy="198360"/>
              </a:xfrm>
            </p:grpSpPr>
            <p:grpSp>
              <p:nvGrpSpPr>
                <p:cNvPr id="2543" name=""/>
                <p:cNvGrpSpPr/>
                <p:nvPr/>
              </p:nvGrpSpPr>
              <p:grpSpPr>
                <a:xfrm>
                  <a:off x="3800520" y="5505480"/>
                  <a:ext cx="231840" cy="156960"/>
                  <a:chOff x="3800520" y="5505480"/>
                  <a:chExt cx="231840" cy="156960"/>
                </a:xfrm>
              </p:grpSpPr>
              <p:sp>
                <p:nvSpPr>
                  <p:cNvPr id="2544" name=""/>
                  <p:cNvSpPr/>
                  <p:nvPr/>
                </p:nvSpPr>
                <p:spPr>
                  <a:xfrm>
                    <a:off x="3800520" y="5505480"/>
                    <a:ext cx="23184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5" name=""/>
                  <p:cNvSpPr/>
                  <p:nvPr/>
                </p:nvSpPr>
                <p:spPr>
                  <a:xfrm flipV="1">
                    <a:off x="3802680" y="5507640"/>
                    <a:ext cx="225720" cy="15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6" name=""/>
                  <p:cNvSpPr/>
                  <p:nvPr/>
                </p:nvSpPr>
                <p:spPr>
                  <a:xfrm>
                    <a:off x="3800520" y="550764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7" name=""/>
                <p:cNvGrpSpPr/>
                <p:nvPr/>
              </p:nvGrpSpPr>
              <p:grpSpPr>
                <a:xfrm>
                  <a:off x="3878280" y="5464080"/>
                  <a:ext cx="74520" cy="28080"/>
                  <a:chOff x="3878280" y="5464080"/>
                  <a:chExt cx="74520" cy="28080"/>
                </a:xfrm>
              </p:grpSpPr>
              <p:sp>
                <p:nvSpPr>
                  <p:cNvPr id="2548" name=""/>
                  <p:cNvSpPr/>
                  <p:nvPr/>
                </p:nvSpPr>
                <p:spPr>
                  <a:xfrm>
                    <a:off x="3878280" y="54640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9" name=""/>
                  <p:cNvSpPr/>
                  <p:nvPr/>
                </p:nvSpPr>
                <p:spPr>
                  <a:xfrm>
                    <a:off x="3925800" y="54655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50" name=""/>
              <p:cNvGrpSpPr/>
              <p:nvPr/>
            </p:nvGrpSpPr>
            <p:grpSpPr>
              <a:xfrm>
                <a:off x="3387600" y="5154480"/>
                <a:ext cx="265320" cy="222480"/>
                <a:chOff x="3387600" y="5154480"/>
                <a:chExt cx="265320" cy="222480"/>
              </a:xfrm>
            </p:grpSpPr>
            <p:grpSp>
              <p:nvGrpSpPr>
                <p:cNvPr id="2551" name=""/>
                <p:cNvGrpSpPr/>
                <p:nvPr/>
              </p:nvGrpSpPr>
              <p:grpSpPr>
                <a:xfrm>
                  <a:off x="3454200" y="5154480"/>
                  <a:ext cx="131760" cy="27000"/>
                  <a:chOff x="3454200" y="5154480"/>
                  <a:chExt cx="131760" cy="27000"/>
                </a:xfrm>
              </p:grpSpPr>
              <p:sp>
                <p:nvSpPr>
                  <p:cNvPr id="2552" name=""/>
                  <p:cNvSpPr/>
                  <p:nvPr/>
                </p:nvSpPr>
                <p:spPr>
                  <a:xfrm>
                    <a:off x="3454200" y="51544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3" name=""/>
                  <p:cNvSpPr/>
                  <p:nvPr/>
                </p:nvSpPr>
                <p:spPr>
                  <a:xfrm>
                    <a:off x="3504960" y="51544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4" name=""/>
                  <p:cNvSpPr/>
                  <p:nvPr/>
                </p:nvSpPr>
                <p:spPr>
                  <a:xfrm>
                    <a:off x="3558960" y="51544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5" name=""/>
                <p:cNvGrpSpPr/>
                <p:nvPr/>
              </p:nvGrpSpPr>
              <p:grpSpPr>
                <a:xfrm>
                  <a:off x="3387600" y="5197320"/>
                  <a:ext cx="265320" cy="179640"/>
                  <a:chOff x="3387600" y="5197320"/>
                  <a:chExt cx="265320" cy="179640"/>
                </a:xfrm>
              </p:grpSpPr>
              <p:sp>
                <p:nvSpPr>
                  <p:cNvPr id="2556" name=""/>
                  <p:cNvSpPr/>
                  <p:nvPr/>
                </p:nvSpPr>
                <p:spPr>
                  <a:xfrm>
                    <a:off x="3387600" y="5197320"/>
                    <a:ext cx="265320" cy="17964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7" name=""/>
                  <p:cNvSpPr/>
                  <p:nvPr/>
                </p:nvSpPr>
                <p:spPr>
                  <a:xfrm flipV="1">
                    <a:off x="3390120" y="5199480"/>
                    <a:ext cx="258480" cy="17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8" name=""/>
                  <p:cNvSpPr/>
                  <p:nvPr/>
                </p:nvSpPr>
                <p:spPr>
                  <a:xfrm>
                    <a:off x="3387600" y="5199840"/>
                    <a:ext cx="263880" cy="171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59" name=""/>
              <p:cNvGrpSpPr/>
              <p:nvPr/>
            </p:nvGrpSpPr>
            <p:grpSpPr>
              <a:xfrm>
                <a:off x="3800520" y="5730840"/>
                <a:ext cx="231840" cy="198360"/>
                <a:chOff x="3800520" y="5730840"/>
                <a:chExt cx="231840" cy="198360"/>
              </a:xfrm>
            </p:grpSpPr>
            <p:grpSp>
              <p:nvGrpSpPr>
                <p:cNvPr id="2560" name=""/>
                <p:cNvGrpSpPr/>
                <p:nvPr/>
              </p:nvGrpSpPr>
              <p:grpSpPr>
                <a:xfrm>
                  <a:off x="3800520" y="5772240"/>
                  <a:ext cx="231840" cy="156960"/>
                  <a:chOff x="3800520" y="5772240"/>
                  <a:chExt cx="231840" cy="156960"/>
                </a:xfrm>
              </p:grpSpPr>
              <p:sp>
                <p:nvSpPr>
                  <p:cNvPr id="2561" name=""/>
                  <p:cNvSpPr/>
                  <p:nvPr/>
                </p:nvSpPr>
                <p:spPr>
                  <a:xfrm>
                    <a:off x="3800520" y="5772240"/>
                    <a:ext cx="23184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2" name=""/>
                  <p:cNvSpPr/>
                  <p:nvPr/>
                </p:nvSpPr>
                <p:spPr>
                  <a:xfrm flipV="1">
                    <a:off x="3802680" y="5774400"/>
                    <a:ext cx="225720" cy="15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3" name=""/>
                  <p:cNvSpPr/>
                  <p:nvPr/>
                </p:nvSpPr>
                <p:spPr>
                  <a:xfrm>
                    <a:off x="3800520" y="577440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4" name=""/>
                <p:cNvGrpSpPr/>
                <p:nvPr/>
              </p:nvGrpSpPr>
              <p:grpSpPr>
                <a:xfrm>
                  <a:off x="3878280" y="5730840"/>
                  <a:ext cx="74520" cy="28080"/>
                  <a:chOff x="3878280" y="5730840"/>
                  <a:chExt cx="74520" cy="28080"/>
                </a:xfrm>
              </p:grpSpPr>
              <p:sp>
                <p:nvSpPr>
                  <p:cNvPr id="2565" name=""/>
                  <p:cNvSpPr/>
                  <p:nvPr/>
                </p:nvSpPr>
                <p:spPr>
                  <a:xfrm>
                    <a:off x="3878280" y="57308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6" name=""/>
                  <p:cNvSpPr/>
                  <p:nvPr/>
                </p:nvSpPr>
                <p:spPr>
                  <a:xfrm>
                    <a:off x="3925800" y="57322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67" name=""/>
              <p:cNvGrpSpPr/>
              <p:nvPr/>
            </p:nvGrpSpPr>
            <p:grpSpPr>
              <a:xfrm>
                <a:off x="3801960" y="6006960"/>
                <a:ext cx="231840" cy="198360"/>
                <a:chOff x="3801960" y="6006960"/>
                <a:chExt cx="231840" cy="198360"/>
              </a:xfrm>
            </p:grpSpPr>
            <p:grpSp>
              <p:nvGrpSpPr>
                <p:cNvPr id="2568" name=""/>
                <p:cNvGrpSpPr/>
                <p:nvPr/>
              </p:nvGrpSpPr>
              <p:grpSpPr>
                <a:xfrm>
                  <a:off x="3801960" y="6048360"/>
                  <a:ext cx="231840" cy="156960"/>
                  <a:chOff x="3801960" y="6048360"/>
                  <a:chExt cx="231840" cy="156960"/>
                </a:xfrm>
              </p:grpSpPr>
              <p:sp>
                <p:nvSpPr>
                  <p:cNvPr id="2569" name=""/>
                  <p:cNvSpPr/>
                  <p:nvPr/>
                </p:nvSpPr>
                <p:spPr>
                  <a:xfrm>
                    <a:off x="3801960" y="6048360"/>
                    <a:ext cx="23184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 flipV="1">
                    <a:off x="3804120" y="6050520"/>
                    <a:ext cx="225720" cy="15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1" name=""/>
                  <p:cNvSpPr/>
                  <p:nvPr/>
                </p:nvSpPr>
                <p:spPr>
                  <a:xfrm>
                    <a:off x="3801960" y="605052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2" name=""/>
                <p:cNvGrpSpPr/>
                <p:nvPr/>
              </p:nvGrpSpPr>
              <p:grpSpPr>
                <a:xfrm>
                  <a:off x="3879720" y="6006960"/>
                  <a:ext cx="74520" cy="28080"/>
                  <a:chOff x="3879720" y="6006960"/>
                  <a:chExt cx="74520" cy="28080"/>
                </a:xfrm>
              </p:grpSpPr>
              <p:sp>
                <p:nvSpPr>
                  <p:cNvPr id="2573" name=""/>
                  <p:cNvSpPr/>
                  <p:nvPr/>
                </p:nvSpPr>
                <p:spPr>
                  <a:xfrm>
                    <a:off x="3879720" y="60069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4" name=""/>
                  <p:cNvSpPr/>
                  <p:nvPr/>
                </p:nvSpPr>
                <p:spPr>
                  <a:xfrm>
                    <a:off x="3927240" y="60084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75" name=""/>
              <p:cNvSpPr/>
              <p:nvPr/>
            </p:nvSpPr>
            <p:spPr>
              <a:xfrm>
                <a:off x="3809880" y="5161320"/>
                <a:ext cx="2359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ubmaneuver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Element WW1-SME-BR05</a:t>
                </a: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anadian Infantry Platoon, 19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4112640" y="5537160"/>
                <a:ext cx="144252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oss Rifle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WW1-BR0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4115520" y="5813280"/>
                <a:ext cx="142740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ifle-Grenade    WW1-BR0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4112640" y="6089760"/>
                <a:ext cx="144108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omber              WW1-BR0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9" name=""/>
            <p:cNvSpPr/>
            <p:nvPr/>
          </p:nvSpPr>
          <p:spPr>
            <a:xfrm>
              <a:off x="3513240" y="6324480"/>
              <a:ext cx="2430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) Or Rifle WW1-BR02 (1st Canadian Division, all others from July 1916)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0" name=""/>
          <p:cNvGrpSpPr/>
          <p:nvPr/>
        </p:nvGrpSpPr>
        <p:grpSpPr>
          <a:xfrm>
            <a:off x="228600" y="3056040"/>
            <a:ext cx="2898360" cy="1399680"/>
            <a:chOff x="228600" y="3056040"/>
            <a:chExt cx="2898360" cy="1399680"/>
          </a:xfrm>
        </p:grpSpPr>
        <p:sp>
          <p:nvSpPr>
            <p:cNvPr id="2581" name=""/>
            <p:cNvSpPr/>
            <p:nvPr/>
          </p:nvSpPr>
          <p:spPr>
            <a:xfrm>
              <a:off x="684360" y="3129480"/>
              <a:ext cx="1979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le Group- WW1-BG-BR09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nadian Infantry Brigade, 19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03200" y="3309840"/>
              <a:ext cx="0" cy="64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950760" y="3792600"/>
              <a:ext cx="164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ATTLE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950760" y="349236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947520" y="3627360"/>
              <a:ext cx="18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 WW1-BR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01760" y="367668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946440" y="3920760"/>
              <a:ext cx="2180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4 Canadian Inf. Btn.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‘1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W1-BG-BR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93840" y="397188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9" name=""/>
            <p:cNvGrpSpPr/>
            <p:nvPr/>
          </p:nvGrpSpPr>
          <p:grpSpPr>
            <a:xfrm>
              <a:off x="588960" y="3532320"/>
              <a:ext cx="237960" cy="218880"/>
              <a:chOff x="588960" y="3532320"/>
              <a:chExt cx="237960" cy="218880"/>
            </a:xfrm>
          </p:grpSpPr>
          <p:sp>
            <p:nvSpPr>
              <p:cNvPr id="2590" name=""/>
              <p:cNvSpPr/>
              <p:nvPr/>
            </p:nvSpPr>
            <p:spPr>
              <a:xfrm>
                <a:off x="693360" y="35323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588960" y="3592440"/>
                <a:ext cx="237960" cy="1587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2" name=""/>
            <p:cNvGrpSpPr/>
            <p:nvPr/>
          </p:nvGrpSpPr>
          <p:grpSpPr>
            <a:xfrm>
              <a:off x="527040" y="3797280"/>
              <a:ext cx="347040" cy="291600"/>
              <a:chOff x="527040" y="3797280"/>
              <a:chExt cx="347040" cy="291600"/>
            </a:xfrm>
          </p:grpSpPr>
          <p:grpSp>
            <p:nvGrpSpPr>
              <p:cNvPr id="2593" name=""/>
              <p:cNvGrpSpPr/>
              <p:nvPr/>
            </p:nvGrpSpPr>
            <p:grpSpPr>
              <a:xfrm>
                <a:off x="663480" y="3797280"/>
                <a:ext cx="76320" cy="63360"/>
                <a:chOff x="663480" y="3797280"/>
                <a:chExt cx="76320" cy="63360"/>
              </a:xfrm>
            </p:grpSpPr>
            <p:sp>
              <p:nvSpPr>
                <p:cNvPr id="2594" name=""/>
                <p:cNvSpPr/>
                <p:nvPr/>
              </p:nvSpPr>
              <p:spPr>
                <a:xfrm>
                  <a:off x="663480" y="37972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739800" y="37972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6" name=""/>
              <p:cNvGrpSpPr/>
              <p:nvPr/>
            </p:nvGrpSpPr>
            <p:grpSpPr>
              <a:xfrm>
                <a:off x="527040" y="3852720"/>
                <a:ext cx="347040" cy="236160"/>
                <a:chOff x="527040" y="3852720"/>
                <a:chExt cx="347040" cy="236160"/>
              </a:xfrm>
            </p:grpSpPr>
            <p:sp>
              <p:nvSpPr>
                <p:cNvPr id="2597" name=""/>
                <p:cNvSpPr/>
                <p:nvPr/>
              </p:nvSpPr>
              <p:spPr>
                <a:xfrm>
                  <a:off x="527040" y="3852720"/>
                  <a:ext cx="347040" cy="2361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flipV="1">
                  <a:off x="530640" y="3856320"/>
                  <a:ext cx="33840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527040" y="3856320"/>
                  <a:ext cx="34560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0" name=""/>
            <p:cNvGrpSpPr/>
            <p:nvPr/>
          </p:nvGrpSpPr>
          <p:grpSpPr>
            <a:xfrm>
              <a:off x="228600" y="3056040"/>
              <a:ext cx="347400" cy="320040"/>
              <a:chOff x="228600" y="3056040"/>
              <a:chExt cx="347400" cy="320040"/>
            </a:xfrm>
          </p:grpSpPr>
          <p:grpSp>
            <p:nvGrpSpPr>
              <p:cNvPr id="2601" name=""/>
              <p:cNvGrpSpPr/>
              <p:nvPr/>
            </p:nvGrpSpPr>
            <p:grpSpPr>
              <a:xfrm>
                <a:off x="228600" y="3139920"/>
                <a:ext cx="347400" cy="236160"/>
                <a:chOff x="228600" y="3139920"/>
                <a:chExt cx="347400" cy="236160"/>
              </a:xfrm>
            </p:grpSpPr>
            <p:sp>
              <p:nvSpPr>
                <p:cNvPr id="2602" name=""/>
                <p:cNvSpPr/>
                <p:nvPr/>
              </p:nvSpPr>
              <p:spPr>
                <a:xfrm>
                  <a:off x="228600" y="3139920"/>
                  <a:ext cx="347400" cy="2361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flipV="1">
                  <a:off x="232200" y="3143520"/>
                  <a:ext cx="33876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228600" y="3143520"/>
                  <a:ext cx="34596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5" name=""/>
              <p:cNvSpPr/>
              <p:nvPr/>
            </p:nvSpPr>
            <p:spPr>
              <a:xfrm>
                <a:off x="376200" y="3056040"/>
                <a:ext cx="52560" cy="11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000" bIns="90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6" name=""/>
            <p:cNvSpPr/>
            <p:nvPr/>
          </p:nvSpPr>
          <p:spPr>
            <a:xfrm>
              <a:off x="393840" y="430704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981000" y="4083120"/>
              <a:ext cx="164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961920" y="4260960"/>
              <a:ext cx="198144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okes Light Mortar         WW1-BR12   (2 per division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9" name=""/>
            <p:cNvGrpSpPr/>
            <p:nvPr/>
          </p:nvGrpSpPr>
          <p:grpSpPr>
            <a:xfrm>
              <a:off x="590400" y="4176720"/>
              <a:ext cx="239760" cy="208080"/>
              <a:chOff x="590400" y="4176720"/>
              <a:chExt cx="239760" cy="208080"/>
            </a:xfrm>
          </p:grpSpPr>
          <p:grpSp>
            <p:nvGrpSpPr>
              <p:cNvPr id="2610" name=""/>
              <p:cNvGrpSpPr/>
              <p:nvPr/>
            </p:nvGrpSpPr>
            <p:grpSpPr>
              <a:xfrm>
                <a:off x="590400" y="4227480"/>
                <a:ext cx="239760" cy="157320"/>
                <a:chOff x="590400" y="4227480"/>
                <a:chExt cx="239760" cy="157320"/>
              </a:xfrm>
            </p:grpSpPr>
            <p:sp>
              <p:nvSpPr>
                <p:cNvPr id="2611" name=""/>
                <p:cNvSpPr/>
                <p:nvPr/>
              </p:nvSpPr>
              <p:spPr>
                <a:xfrm>
                  <a:off x="590400" y="4227480"/>
                  <a:ext cx="239760" cy="157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 flipV="1">
                  <a:off x="677880" y="4343040"/>
                  <a:ext cx="6336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709560" y="4259520"/>
                  <a:ext cx="0" cy="8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4" name=""/>
              <p:cNvGrpSpPr/>
              <p:nvPr/>
            </p:nvGrpSpPr>
            <p:grpSpPr>
              <a:xfrm>
                <a:off x="672840" y="4176720"/>
                <a:ext cx="74160" cy="27000"/>
                <a:chOff x="672840" y="4176720"/>
                <a:chExt cx="74160" cy="27000"/>
              </a:xfrm>
            </p:grpSpPr>
            <p:sp>
              <p:nvSpPr>
                <p:cNvPr id="2615" name=""/>
                <p:cNvSpPr/>
                <p:nvPr/>
              </p:nvSpPr>
              <p:spPr>
                <a:xfrm>
                  <a:off x="672840" y="41767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720360" y="41767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17" name=""/>
            <p:cNvSpPr/>
            <p:nvPr/>
          </p:nvSpPr>
          <p:spPr>
            <a:xfrm flipH="1">
              <a:off x="396720" y="3762360"/>
              <a:ext cx="5040" cy="539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949320" y="3367080"/>
              <a:ext cx="1378440" cy="1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9" name=""/>
          <p:cNvGrpSpPr/>
          <p:nvPr/>
        </p:nvGrpSpPr>
        <p:grpSpPr>
          <a:xfrm>
            <a:off x="312840" y="438120"/>
            <a:ext cx="2874240" cy="1369440"/>
            <a:chOff x="312840" y="438120"/>
            <a:chExt cx="2874240" cy="1369440"/>
          </a:xfrm>
        </p:grpSpPr>
        <p:sp>
          <p:nvSpPr>
            <p:cNvPr id="2620" name=""/>
            <p:cNvSpPr/>
            <p:nvPr/>
          </p:nvSpPr>
          <p:spPr>
            <a:xfrm>
              <a:off x="477720" y="1658880"/>
              <a:ext cx="3114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76160" y="492480"/>
              <a:ext cx="184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le Group- WW1-BG-BR07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Regiment, 19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80960" y="657360"/>
              <a:ext cx="0" cy="64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1042920" y="1136520"/>
              <a:ext cx="164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ATTLE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1042920" y="83664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1039680" y="971640"/>
              <a:ext cx="18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 WW1-BR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74840" y="1020600"/>
              <a:ext cx="274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038600" y="1265040"/>
              <a:ext cx="2148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4 Infantry Battalion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‘1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W1-BG-BR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485640" y="1316160"/>
              <a:ext cx="311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9" name=""/>
            <p:cNvGrpSpPr/>
            <p:nvPr/>
          </p:nvGrpSpPr>
          <p:grpSpPr>
            <a:xfrm>
              <a:off x="681120" y="876240"/>
              <a:ext cx="237960" cy="218880"/>
              <a:chOff x="681120" y="876240"/>
              <a:chExt cx="237960" cy="218880"/>
            </a:xfrm>
          </p:grpSpPr>
          <p:sp>
            <p:nvSpPr>
              <p:cNvPr id="2630" name=""/>
              <p:cNvSpPr/>
              <p:nvPr/>
            </p:nvSpPr>
            <p:spPr>
              <a:xfrm>
                <a:off x="785520" y="87624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81120" y="936360"/>
                <a:ext cx="237960" cy="1587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2" name=""/>
            <p:cNvGrpSpPr/>
            <p:nvPr/>
          </p:nvGrpSpPr>
          <p:grpSpPr>
            <a:xfrm>
              <a:off x="619200" y="1141560"/>
              <a:ext cx="347040" cy="291600"/>
              <a:chOff x="619200" y="1141560"/>
              <a:chExt cx="347040" cy="291600"/>
            </a:xfrm>
          </p:grpSpPr>
          <p:grpSp>
            <p:nvGrpSpPr>
              <p:cNvPr id="2633" name=""/>
              <p:cNvGrpSpPr/>
              <p:nvPr/>
            </p:nvGrpSpPr>
            <p:grpSpPr>
              <a:xfrm>
                <a:off x="755640" y="1141560"/>
                <a:ext cx="76320" cy="63360"/>
                <a:chOff x="755640" y="1141560"/>
                <a:chExt cx="76320" cy="63360"/>
              </a:xfrm>
            </p:grpSpPr>
            <p:sp>
              <p:nvSpPr>
                <p:cNvPr id="2634" name=""/>
                <p:cNvSpPr/>
                <p:nvPr/>
              </p:nvSpPr>
              <p:spPr>
                <a:xfrm>
                  <a:off x="755640" y="11415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>
                  <a:off x="831960" y="11415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6" name=""/>
              <p:cNvGrpSpPr/>
              <p:nvPr/>
            </p:nvGrpSpPr>
            <p:grpSpPr>
              <a:xfrm>
                <a:off x="619200" y="1197000"/>
                <a:ext cx="347040" cy="236160"/>
                <a:chOff x="619200" y="1197000"/>
                <a:chExt cx="347040" cy="236160"/>
              </a:xfrm>
            </p:grpSpPr>
            <p:sp>
              <p:nvSpPr>
                <p:cNvPr id="2637" name=""/>
                <p:cNvSpPr/>
                <p:nvPr/>
              </p:nvSpPr>
              <p:spPr>
                <a:xfrm>
                  <a:off x="619200" y="1197000"/>
                  <a:ext cx="347040" cy="2361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 flipV="1">
                  <a:off x="622800" y="1200600"/>
                  <a:ext cx="33840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619200" y="1200600"/>
                  <a:ext cx="34560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0" name=""/>
            <p:cNvSpPr/>
            <p:nvPr/>
          </p:nvSpPr>
          <p:spPr>
            <a:xfrm>
              <a:off x="1065240" y="1434960"/>
              <a:ext cx="164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046160" y="1612800"/>
              <a:ext cx="199080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okes Light Trench Mortar  WW1-BR12 (2 per division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2" name=""/>
            <p:cNvGrpSpPr/>
            <p:nvPr/>
          </p:nvGrpSpPr>
          <p:grpSpPr>
            <a:xfrm>
              <a:off x="674640" y="1528920"/>
              <a:ext cx="239760" cy="207360"/>
              <a:chOff x="674640" y="1528920"/>
              <a:chExt cx="239760" cy="207360"/>
            </a:xfrm>
          </p:grpSpPr>
          <p:grpSp>
            <p:nvGrpSpPr>
              <p:cNvPr id="2643" name=""/>
              <p:cNvGrpSpPr/>
              <p:nvPr/>
            </p:nvGrpSpPr>
            <p:grpSpPr>
              <a:xfrm>
                <a:off x="674640" y="1579320"/>
                <a:ext cx="239760" cy="156960"/>
                <a:chOff x="674640" y="1579320"/>
                <a:chExt cx="239760" cy="15696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674640" y="1579320"/>
                  <a:ext cx="23976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flipV="1">
                  <a:off x="762120" y="1694880"/>
                  <a:ext cx="6336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793800" y="1611000"/>
                  <a:ext cx="0" cy="83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7" name=""/>
              <p:cNvGrpSpPr/>
              <p:nvPr/>
            </p:nvGrpSpPr>
            <p:grpSpPr>
              <a:xfrm>
                <a:off x="757080" y="1528920"/>
                <a:ext cx="74160" cy="26640"/>
                <a:chOff x="757080" y="1528920"/>
                <a:chExt cx="74160" cy="26640"/>
              </a:xfrm>
            </p:grpSpPr>
            <p:sp>
              <p:nvSpPr>
                <p:cNvPr id="2648" name=""/>
                <p:cNvSpPr/>
                <p:nvPr/>
              </p:nvSpPr>
              <p:spPr>
                <a:xfrm>
                  <a:off x="757080" y="15289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804600" y="152892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50" name=""/>
            <p:cNvGrpSpPr/>
            <p:nvPr/>
          </p:nvGrpSpPr>
          <p:grpSpPr>
            <a:xfrm>
              <a:off x="312840" y="438120"/>
              <a:ext cx="347040" cy="298080"/>
              <a:chOff x="312840" y="438120"/>
              <a:chExt cx="347040" cy="298080"/>
            </a:xfrm>
          </p:grpSpPr>
          <p:grpSp>
            <p:nvGrpSpPr>
              <p:cNvPr id="2651" name=""/>
              <p:cNvGrpSpPr/>
              <p:nvPr/>
            </p:nvGrpSpPr>
            <p:grpSpPr>
              <a:xfrm>
                <a:off x="312840" y="500040"/>
                <a:ext cx="347040" cy="236160"/>
                <a:chOff x="312840" y="500040"/>
                <a:chExt cx="347040" cy="236160"/>
              </a:xfrm>
            </p:grpSpPr>
            <p:sp>
              <p:nvSpPr>
                <p:cNvPr id="2652" name=""/>
                <p:cNvSpPr/>
                <p:nvPr/>
              </p:nvSpPr>
              <p:spPr>
                <a:xfrm>
                  <a:off x="312840" y="500040"/>
                  <a:ext cx="347040" cy="2361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 flipV="1">
                  <a:off x="316440" y="503640"/>
                  <a:ext cx="33840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312840" y="503640"/>
                  <a:ext cx="34560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5" name=""/>
              <p:cNvGrpSpPr/>
              <p:nvPr/>
            </p:nvGrpSpPr>
            <p:grpSpPr>
              <a:xfrm>
                <a:off x="420840" y="438120"/>
                <a:ext cx="131760" cy="63360"/>
                <a:chOff x="420840" y="438120"/>
                <a:chExt cx="131760" cy="63360"/>
              </a:xfrm>
            </p:grpSpPr>
            <p:sp>
              <p:nvSpPr>
                <p:cNvPr id="2656" name=""/>
                <p:cNvSpPr/>
                <p:nvPr/>
              </p:nvSpPr>
              <p:spPr>
                <a:xfrm>
                  <a:off x="487440" y="4381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57" name=""/>
                <p:cNvGrpSpPr/>
                <p:nvPr/>
              </p:nvGrpSpPr>
              <p:grpSpPr>
                <a:xfrm>
                  <a:off x="420840" y="438120"/>
                  <a:ext cx="131760" cy="63360"/>
                  <a:chOff x="420840" y="438120"/>
                  <a:chExt cx="131760" cy="63360"/>
                </a:xfrm>
              </p:grpSpPr>
              <p:sp>
                <p:nvSpPr>
                  <p:cNvPr id="2658" name=""/>
                  <p:cNvSpPr/>
                  <p:nvPr/>
                </p:nvSpPr>
                <p:spPr>
                  <a:xfrm>
                    <a:off x="420840" y="438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>
                    <a:off x="552600" y="438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660" name=""/>
            <p:cNvSpPr/>
            <p:nvPr/>
          </p:nvSpPr>
          <p:spPr>
            <a:xfrm>
              <a:off x="480960" y="1114560"/>
              <a:ext cx="0" cy="539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1035000" y="720720"/>
              <a:ext cx="1378440" cy="1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2" name=""/>
          <p:cNvSpPr/>
          <p:nvPr/>
        </p:nvSpPr>
        <p:spPr>
          <a:xfrm>
            <a:off x="693720" y="1865520"/>
            <a:ext cx="202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BR08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Battalion, 19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411120" y="2055960"/>
            <a:ext cx="3240" cy="87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960480" y="2500200"/>
            <a:ext cx="164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960480" y="221940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957240" y="2335320"/>
            <a:ext cx="184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 WW1-BR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411120" y="2384280"/>
            <a:ext cx="274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958680" y="2635200"/>
            <a:ext cx="202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4 Infantry Company  ‘16   WW1-ME-BR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403200" y="2679840"/>
            <a:ext cx="311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598320" y="2239920"/>
            <a:ext cx="238320" cy="218880"/>
            <a:chOff x="598320" y="2239920"/>
            <a:chExt cx="238320" cy="218880"/>
          </a:xfrm>
        </p:grpSpPr>
        <p:sp>
          <p:nvSpPr>
            <p:cNvPr id="2671" name=""/>
            <p:cNvSpPr/>
            <p:nvPr/>
          </p:nvSpPr>
          <p:spPr>
            <a:xfrm>
              <a:off x="703080" y="22399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598320" y="2300040"/>
              <a:ext cx="238320" cy="1587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237960" y="1811160"/>
            <a:ext cx="347040" cy="291600"/>
            <a:chOff x="237960" y="1811160"/>
            <a:chExt cx="347040" cy="291600"/>
          </a:xfrm>
        </p:grpSpPr>
        <p:grpSp>
          <p:nvGrpSpPr>
            <p:cNvPr id="2674" name=""/>
            <p:cNvGrpSpPr/>
            <p:nvPr/>
          </p:nvGrpSpPr>
          <p:grpSpPr>
            <a:xfrm>
              <a:off x="374400" y="1811160"/>
              <a:ext cx="76320" cy="63360"/>
              <a:chOff x="374400" y="1811160"/>
              <a:chExt cx="76320" cy="63360"/>
            </a:xfrm>
          </p:grpSpPr>
          <p:sp>
            <p:nvSpPr>
              <p:cNvPr id="2675" name=""/>
              <p:cNvSpPr/>
              <p:nvPr/>
            </p:nvSpPr>
            <p:spPr>
              <a:xfrm>
                <a:off x="374400" y="18111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450720" y="18111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7" name=""/>
            <p:cNvGrpSpPr/>
            <p:nvPr/>
          </p:nvGrpSpPr>
          <p:grpSpPr>
            <a:xfrm>
              <a:off x="237960" y="1866600"/>
              <a:ext cx="347040" cy="236160"/>
              <a:chOff x="237960" y="1866600"/>
              <a:chExt cx="347040" cy="236160"/>
            </a:xfrm>
          </p:grpSpPr>
          <p:sp>
            <p:nvSpPr>
              <p:cNvPr id="2678" name=""/>
              <p:cNvSpPr/>
              <p:nvPr/>
            </p:nvSpPr>
            <p:spPr>
              <a:xfrm>
                <a:off x="237960" y="1866600"/>
                <a:ext cx="347040" cy="2361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V="1">
                <a:off x="241560" y="187020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237960" y="187020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1" name=""/>
          <p:cNvGrpSpPr/>
          <p:nvPr/>
        </p:nvGrpSpPr>
        <p:grpSpPr>
          <a:xfrm>
            <a:off x="565200" y="2522520"/>
            <a:ext cx="284040" cy="252360"/>
            <a:chOff x="565200" y="2522520"/>
            <a:chExt cx="284040" cy="252360"/>
          </a:xfrm>
        </p:grpSpPr>
        <p:sp>
          <p:nvSpPr>
            <p:cNvPr id="2682" name=""/>
            <p:cNvSpPr/>
            <p:nvPr/>
          </p:nvSpPr>
          <p:spPr>
            <a:xfrm>
              <a:off x="706320" y="25225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3" name=""/>
            <p:cNvGrpSpPr/>
            <p:nvPr/>
          </p:nvGrpSpPr>
          <p:grpSpPr>
            <a:xfrm>
              <a:off x="565200" y="2581200"/>
              <a:ext cx="284040" cy="193680"/>
              <a:chOff x="565200" y="2581200"/>
              <a:chExt cx="284040" cy="193680"/>
            </a:xfrm>
          </p:grpSpPr>
          <p:sp>
            <p:nvSpPr>
              <p:cNvPr id="2684" name=""/>
              <p:cNvSpPr/>
              <p:nvPr/>
            </p:nvSpPr>
            <p:spPr>
              <a:xfrm>
                <a:off x="565200" y="2581200"/>
                <a:ext cx="284040" cy="1936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568080" y="258408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565200" y="258408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87" name=""/>
          <p:cNvSpPr/>
          <p:nvPr/>
        </p:nvSpPr>
        <p:spPr>
          <a:xfrm>
            <a:off x="984960" y="2876400"/>
            <a:ext cx="198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MG Plato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WW1-ME-BR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399960" y="2932200"/>
            <a:ext cx="311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9" name=""/>
          <p:cNvGrpSpPr/>
          <p:nvPr/>
        </p:nvGrpSpPr>
        <p:grpSpPr>
          <a:xfrm>
            <a:off x="584280" y="2800440"/>
            <a:ext cx="283680" cy="239400"/>
            <a:chOff x="584280" y="2800440"/>
            <a:chExt cx="283680" cy="239400"/>
          </a:xfrm>
        </p:grpSpPr>
        <p:grpSp>
          <p:nvGrpSpPr>
            <p:cNvPr id="2690" name=""/>
            <p:cNvGrpSpPr/>
            <p:nvPr/>
          </p:nvGrpSpPr>
          <p:grpSpPr>
            <a:xfrm>
              <a:off x="584280" y="2846520"/>
              <a:ext cx="283680" cy="193320"/>
              <a:chOff x="584280" y="2846520"/>
              <a:chExt cx="283680" cy="193320"/>
            </a:xfrm>
          </p:grpSpPr>
          <p:sp>
            <p:nvSpPr>
              <p:cNvPr id="2691" name=""/>
              <p:cNvSpPr/>
              <p:nvPr/>
            </p:nvSpPr>
            <p:spPr>
              <a:xfrm>
                <a:off x="584280" y="2846520"/>
                <a:ext cx="283680" cy="193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584280" y="2853720"/>
                <a:ext cx="62280" cy="180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 flipV="1">
                <a:off x="584280" y="2855880"/>
                <a:ext cx="281880" cy="17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597600" y="2867760"/>
                <a:ext cx="26820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5" name=""/>
            <p:cNvGrpSpPr/>
            <p:nvPr/>
          </p:nvGrpSpPr>
          <p:grpSpPr>
            <a:xfrm>
              <a:off x="660240" y="2800440"/>
              <a:ext cx="131760" cy="27000"/>
              <a:chOff x="660240" y="2800440"/>
              <a:chExt cx="131760" cy="27000"/>
            </a:xfrm>
          </p:grpSpPr>
          <p:sp>
            <p:nvSpPr>
              <p:cNvPr id="2696" name=""/>
              <p:cNvSpPr/>
              <p:nvPr/>
            </p:nvSpPr>
            <p:spPr>
              <a:xfrm>
                <a:off x="660240" y="28004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11000" y="28004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65000" y="28004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9" name=""/>
          <p:cNvSpPr/>
          <p:nvPr/>
        </p:nvSpPr>
        <p:spPr>
          <a:xfrm>
            <a:off x="949320" y="2101680"/>
            <a:ext cx="137844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9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639720" y="4721760"/>
            <a:ext cx="20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BR10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ian Infantry Battalion, 19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357120" y="4954680"/>
            <a:ext cx="0" cy="10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906480" y="5327640"/>
            <a:ext cx="164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906480" y="505620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903240" y="5162400"/>
            <a:ext cx="177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 WW1-B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357120" y="5211720"/>
            <a:ext cx="274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903960" y="5462640"/>
            <a:ext cx="2021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4 Canadian Inf. Co.  ‘16    WW1-ME-BR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349200" y="5506920"/>
            <a:ext cx="311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8" name=""/>
          <p:cNvGrpSpPr/>
          <p:nvPr/>
        </p:nvGrpSpPr>
        <p:grpSpPr>
          <a:xfrm>
            <a:off x="544680" y="5067360"/>
            <a:ext cx="237960" cy="218880"/>
            <a:chOff x="544680" y="5067360"/>
            <a:chExt cx="237960" cy="218880"/>
          </a:xfrm>
        </p:grpSpPr>
        <p:sp>
          <p:nvSpPr>
            <p:cNvPr id="2709" name=""/>
            <p:cNvSpPr/>
            <p:nvPr/>
          </p:nvSpPr>
          <p:spPr>
            <a:xfrm>
              <a:off x="649080" y="50673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44680" y="5127480"/>
              <a:ext cx="237960" cy="1587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1" name=""/>
          <p:cNvGrpSpPr/>
          <p:nvPr/>
        </p:nvGrpSpPr>
        <p:grpSpPr>
          <a:xfrm>
            <a:off x="184320" y="4676760"/>
            <a:ext cx="347040" cy="291600"/>
            <a:chOff x="184320" y="4676760"/>
            <a:chExt cx="347040" cy="291600"/>
          </a:xfrm>
        </p:grpSpPr>
        <p:grpSp>
          <p:nvGrpSpPr>
            <p:cNvPr id="2712" name=""/>
            <p:cNvGrpSpPr/>
            <p:nvPr/>
          </p:nvGrpSpPr>
          <p:grpSpPr>
            <a:xfrm>
              <a:off x="320760" y="4676760"/>
              <a:ext cx="76320" cy="63360"/>
              <a:chOff x="320760" y="4676760"/>
              <a:chExt cx="76320" cy="63360"/>
            </a:xfrm>
          </p:grpSpPr>
          <p:sp>
            <p:nvSpPr>
              <p:cNvPr id="2713" name=""/>
              <p:cNvSpPr/>
              <p:nvPr/>
            </p:nvSpPr>
            <p:spPr>
              <a:xfrm>
                <a:off x="320760" y="46767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397080" y="46767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5" name=""/>
            <p:cNvGrpSpPr/>
            <p:nvPr/>
          </p:nvGrpSpPr>
          <p:grpSpPr>
            <a:xfrm>
              <a:off x="184320" y="4732200"/>
              <a:ext cx="347040" cy="236160"/>
              <a:chOff x="184320" y="4732200"/>
              <a:chExt cx="347040" cy="236160"/>
            </a:xfrm>
          </p:grpSpPr>
          <p:sp>
            <p:nvSpPr>
              <p:cNvPr id="2716" name=""/>
              <p:cNvSpPr/>
              <p:nvPr/>
            </p:nvSpPr>
            <p:spPr>
              <a:xfrm>
                <a:off x="184320" y="4732200"/>
                <a:ext cx="347040" cy="2361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V="1">
                <a:off x="187920" y="473580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184320" y="473580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19" name=""/>
          <p:cNvGrpSpPr/>
          <p:nvPr/>
        </p:nvGrpSpPr>
        <p:grpSpPr>
          <a:xfrm>
            <a:off x="511200" y="5349960"/>
            <a:ext cx="284040" cy="252360"/>
            <a:chOff x="511200" y="5349960"/>
            <a:chExt cx="284040" cy="252360"/>
          </a:xfrm>
        </p:grpSpPr>
        <p:sp>
          <p:nvSpPr>
            <p:cNvPr id="2720" name=""/>
            <p:cNvSpPr/>
            <p:nvPr/>
          </p:nvSpPr>
          <p:spPr>
            <a:xfrm>
              <a:off x="652320" y="53499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1" name=""/>
            <p:cNvGrpSpPr/>
            <p:nvPr/>
          </p:nvGrpSpPr>
          <p:grpSpPr>
            <a:xfrm>
              <a:off x="511200" y="5408640"/>
              <a:ext cx="284040" cy="193680"/>
              <a:chOff x="511200" y="5408640"/>
              <a:chExt cx="284040" cy="193680"/>
            </a:xfrm>
          </p:grpSpPr>
          <p:sp>
            <p:nvSpPr>
              <p:cNvPr id="2722" name=""/>
              <p:cNvSpPr/>
              <p:nvPr/>
            </p:nvSpPr>
            <p:spPr>
              <a:xfrm>
                <a:off x="511200" y="5408640"/>
                <a:ext cx="284040" cy="1936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 flipV="1">
                <a:off x="514080" y="541152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511200" y="541152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5" name=""/>
          <p:cNvSpPr/>
          <p:nvPr/>
        </p:nvSpPr>
        <p:spPr>
          <a:xfrm>
            <a:off x="357120" y="6041880"/>
            <a:ext cx="311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888480" y="6002280"/>
            <a:ext cx="185112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t HMG                         WW1-BR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7" name=""/>
          <p:cNvGrpSpPr/>
          <p:nvPr/>
        </p:nvGrpSpPr>
        <p:grpSpPr>
          <a:xfrm>
            <a:off x="541440" y="5925960"/>
            <a:ext cx="231840" cy="201240"/>
            <a:chOff x="541440" y="5925960"/>
            <a:chExt cx="231840" cy="201240"/>
          </a:xfrm>
        </p:grpSpPr>
        <p:grpSp>
          <p:nvGrpSpPr>
            <p:cNvPr id="2728" name=""/>
            <p:cNvGrpSpPr/>
            <p:nvPr/>
          </p:nvGrpSpPr>
          <p:grpSpPr>
            <a:xfrm>
              <a:off x="621000" y="5925960"/>
              <a:ext cx="74520" cy="28080"/>
              <a:chOff x="621000" y="5925960"/>
              <a:chExt cx="74520" cy="28080"/>
            </a:xfrm>
          </p:grpSpPr>
          <p:sp>
            <p:nvSpPr>
              <p:cNvPr id="2729" name=""/>
              <p:cNvSpPr/>
              <p:nvPr/>
            </p:nvSpPr>
            <p:spPr>
              <a:xfrm>
                <a:off x="621000" y="59259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668520" y="59274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1" name=""/>
            <p:cNvGrpSpPr/>
            <p:nvPr/>
          </p:nvGrpSpPr>
          <p:grpSpPr>
            <a:xfrm>
              <a:off x="541440" y="5970240"/>
              <a:ext cx="231840" cy="156960"/>
              <a:chOff x="541440" y="5970240"/>
              <a:chExt cx="231840" cy="156960"/>
            </a:xfrm>
          </p:grpSpPr>
          <p:sp>
            <p:nvSpPr>
              <p:cNvPr id="2732" name=""/>
              <p:cNvSpPr/>
              <p:nvPr/>
            </p:nvSpPr>
            <p:spPr>
              <a:xfrm>
                <a:off x="541440" y="597024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541440" y="5976360"/>
                <a:ext cx="51120" cy="14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V="1">
                <a:off x="541440" y="5977800"/>
                <a:ext cx="23040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552600" y="5987520"/>
                <a:ext cx="21924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6" name=""/>
          <p:cNvSpPr/>
          <p:nvPr/>
        </p:nvSpPr>
        <p:spPr>
          <a:xfrm>
            <a:off x="906480" y="5856120"/>
            <a:ext cx="164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923040" y="5703840"/>
            <a:ext cx="198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MG Plato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WW1-ME-BR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347760" y="5769000"/>
            <a:ext cx="311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9" name=""/>
          <p:cNvGrpSpPr/>
          <p:nvPr/>
        </p:nvGrpSpPr>
        <p:grpSpPr>
          <a:xfrm>
            <a:off x="522360" y="5627520"/>
            <a:ext cx="283680" cy="239400"/>
            <a:chOff x="522360" y="5627520"/>
            <a:chExt cx="283680" cy="239400"/>
          </a:xfrm>
        </p:grpSpPr>
        <p:grpSp>
          <p:nvGrpSpPr>
            <p:cNvPr id="2740" name=""/>
            <p:cNvGrpSpPr/>
            <p:nvPr/>
          </p:nvGrpSpPr>
          <p:grpSpPr>
            <a:xfrm>
              <a:off x="522360" y="5673600"/>
              <a:ext cx="283680" cy="193320"/>
              <a:chOff x="522360" y="5673600"/>
              <a:chExt cx="283680" cy="193320"/>
            </a:xfrm>
          </p:grpSpPr>
          <p:sp>
            <p:nvSpPr>
              <p:cNvPr id="2741" name=""/>
              <p:cNvSpPr/>
              <p:nvPr/>
            </p:nvSpPr>
            <p:spPr>
              <a:xfrm>
                <a:off x="522360" y="5673600"/>
                <a:ext cx="283680" cy="193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522360" y="5680800"/>
                <a:ext cx="62280" cy="180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 flipV="1">
                <a:off x="522360" y="5682960"/>
                <a:ext cx="281880" cy="17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35680" y="5694840"/>
                <a:ext cx="26820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598320" y="5627520"/>
              <a:ext cx="131760" cy="27000"/>
              <a:chOff x="598320" y="5627520"/>
              <a:chExt cx="131760" cy="27000"/>
            </a:xfrm>
          </p:grpSpPr>
          <p:sp>
            <p:nvSpPr>
              <p:cNvPr id="2746" name=""/>
              <p:cNvSpPr/>
              <p:nvPr/>
            </p:nvSpPr>
            <p:spPr>
              <a:xfrm>
                <a:off x="598320" y="5627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649080" y="56275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03080" y="5627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49" name=""/>
          <p:cNvSpPr/>
          <p:nvPr/>
        </p:nvSpPr>
        <p:spPr>
          <a:xfrm>
            <a:off x="911160" y="4948200"/>
            <a:ext cx="137844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9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I British 19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1" name=""/>
          <p:cNvGrpSpPr/>
          <p:nvPr/>
        </p:nvGrpSpPr>
        <p:grpSpPr>
          <a:xfrm>
            <a:off x="3309840" y="293760"/>
            <a:ext cx="2543400" cy="882720"/>
            <a:chOff x="3309840" y="293760"/>
            <a:chExt cx="2543400" cy="882720"/>
          </a:xfrm>
        </p:grpSpPr>
        <p:sp>
          <p:nvSpPr>
            <p:cNvPr id="2752" name=""/>
            <p:cNvSpPr/>
            <p:nvPr/>
          </p:nvSpPr>
          <p:spPr>
            <a:xfrm>
              <a:off x="3449520" y="1090440"/>
              <a:ext cx="231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3665520" y="367200"/>
              <a:ext cx="217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 WW1-ME-BR07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Company, 19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3836880" y="60948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3836880" y="744480"/>
              <a:ext cx="1383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WW1-BR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3459240" y="785880"/>
              <a:ext cx="14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3454560" y="534960"/>
              <a:ext cx="0" cy="53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8" name=""/>
            <p:cNvGrpSpPr/>
            <p:nvPr/>
          </p:nvGrpSpPr>
          <p:grpSpPr>
            <a:xfrm>
              <a:off x="3309840" y="293760"/>
              <a:ext cx="284040" cy="252360"/>
              <a:chOff x="3309840" y="293760"/>
              <a:chExt cx="284040" cy="252360"/>
            </a:xfrm>
          </p:grpSpPr>
          <p:sp>
            <p:nvSpPr>
              <p:cNvPr id="2759" name=""/>
              <p:cNvSpPr/>
              <p:nvPr/>
            </p:nvSpPr>
            <p:spPr>
              <a:xfrm>
                <a:off x="3450960" y="2937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0" name=""/>
              <p:cNvGrpSpPr/>
              <p:nvPr/>
            </p:nvGrpSpPr>
            <p:grpSpPr>
              <a:xfrm>
                <a:off x="3309840" y="352440"/>
                <a:ext cx="284040" cy="193680"/>
                <a:chOff x="3309840" y="352440"/>
                <a:chExt cx="284040" cy="193680"/>
              </a:xfrm>
            </p:grpSpPr>
            <p:sp>
              <p:nvSpPr>
                <p:cNvPr id="2761" name=""/>
                <p:cNvSpPr/>
                <p:nvPr/>
              </p:nvSpPr>
              <p:spPr>
                <a:xfrm>
                  <a:off x="3309840" y="352440"/>
                  <a:ext cx="284040" cy="1936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 flipV="1">
                  <a:off x="3312720" y="35532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3309840" y="35532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64" name=""/>
            <p:cNvGrpSpPr/>
            <p:nvPr/>
          </p:nvGrpSpPr>
          <p:grpSpPr>
            <a:xfrm>
              <a:off x="3557520" y="954000"/>
              <a:ext cx="265320" cy="222480"/>
              <a:chOff x="3557520" y="954000"/>
              <a:chExt cx="265320" cy="222480"/>
            </a:xfrm>
          </p:grpSpPr>
          <p:grpSp>
            <p:nvGrpSpPr>
              <p:cNvPr id="2765" name=""/>
              <p:cNvGrpSpPr/>
              <p:nvPr/>
            </p:nvGrpSpPr>
            <p:grpSpPr>
              <a:xfrm>
                <a:off x="3624120" y="954000"/>
                <a:ext cx="131760" cy="27000"/>
                <a:chOff x="3624120" y="954000"/>
                <a:chExt cx="131760" cy="27000"/>
              </a:xfrm>
            </p:grpSpPr>
            <p:sp>
              <p:nvSpPr>
                <p:cNvPr id="2766" name=""/>
                <p:cNvSpPr/>
                <p:nvPr/>
              </p:nvSpPr>
              <p:spPr>
                <a:xfrm>
                  <a:off x="3624120" y="9540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3674880" y="9540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3728880" y="9540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9" name=""/>
              <p:cNvGrpSpPr/>
              <p:nvPr/>
            </p:nvGrpSpPr>
            <p:grpSpPr>
              <a:xfrm>
                <a:off x="3557520" y="996840"/>
                <a:ext cx="265320" cy="179640"/>
                <a:chOff x="3557520" y="996840"/>
                <a:chExt cx="265320" cy="179640"/>
              </a:xfrm>
            </p:grpSpPr>
            <p:sp>
              <p:nvSpPr>
                <p:cNvPr id="2770" name=""/>
                <p:cNvSpPr/>
                <p:nvPr/>
              </p:nvSpPr>
              <p:spPr>
                <a:xfrm>
                  <a:off x="3557520" y="996840"/>
                  <a:ext cx="265320" cy="17964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flipV="1">
                  <a:off x="3560040" y="999000"/>
                  <a:ext cx="258480" cy="17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3557520" y="999360"/>
                  <a:ext cx="263880" cy="17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73" name=""/>
            <p:cNvGrpSpPr/>
            <p:nvPr/>
          </p:nvGrpSpPr>
          <p:grpSpPr>
            <a:xfrm>
              <a:off x="3552840" y="658800"/>
              <a:ext cx="237960" cy="218880"/>
              <a:chOff x="3552840" y="658800"/>
              <a:chExt cx="237960" cy="218880"/>
            </a:xfrm>
          </p:grpSpPr>
          <p:sp>
            <p:nvSpPr>
              <p:cNvPr id="2774" name=""/>
              <p:cNvSpPr/>
              <p:nvPr/>
            </p:nvSpPr>
            <p:spPr>
              <a:xfrm>
                <a:off x="3657240" y="6588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3552840" y="718920"/>
                <a:ext cx="237960" cy="1587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6" name=""/>
            <p:cNvSpPr/>
            <p:nvPr/>
          </p:nvSpPr>
          <p:spPr>
            <a:xfrm>
              <a:off x="3884760" y="1040040"/>
              <a:ext cx="19684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Infantry Platoon ‘17  WW1-SME-BR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7" name=""/>
          <p:cNvGrpSpPr/>
          <p:nvPr/>
        </p:nvGrpSpPr>
        <p:grpSpPr>
          <a:xfrm>
            <a:off x="3386160" y="1738440"/>
            <a:ext cx="2876400" cy="1317240"/>
            <a:chOff x="3386160" y="1738440"/>
            <a:chExt cx="2876400" cy="1317240"/>
          </a:xfrm>
        </p:grpSpPr>
        <p:sp>
          <p:nvSpPr>
            <p:cNvPr id="2778" name=""/>
            <p:cNvSpPr/>
            <p:nvPr/>
          </p:nvSpPr>
          <p:spPr>
            <a:xfrm>
              <a:off x="3519360" y="1882800"/>
              <a:ext cx="0" cy="110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3519360" y="2705040"/>
              <a:ext cx="371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3519360" y="2436840"/>
              <a:ext cx="371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3519360" y="2170080"/>
              <a:ext cx="371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2" name=""/>
            <p:cNvGrpSpPr/>
            <p:nvPr/>
          </p:nvGrpSpPr>
          <p:grpSpPr>
            <a:xfrm>
              <a:off x="3798720" y="2048040"/>
              <a:ext cx="231840" cy="198360"/>
              <a:chOff x="3798720" y="2048040"/>
              <a:chExt cx="231840" cy="198360"/>
            </a:xfrm>
          </p:grpSpPr>
          <p:grpSp>
            <p:nvGrpSpPr>
              <p:cNvPr id="2783" name=""/>
              <p:cNvGrpSpPr/>
              <p:nvPr/>
            </p:nvGrpSpPr>
            <p:grpSpPr>
              <a:xfrm>
                <a:off x="3798720" y="2089440"/>
                <a:ext cx="231840" cy="156960"/>
                <a:chOff x="3798720" y="2089440"/>
                <a:chExt cx="231840" cy="156960"/>
              </a:xfrm>
            </p:grpSpPr>
            <p:sp>
              <p:nvSpPr>
                <p:cNvPr id="2784" name=""/>
                <p:cNvSpPr/>
                <p:nvPr/>
              </p:nvSpPr>
              <p:spPr>
                <a:xfrm>
                  <a:off x="3798720" y="2089440"/>
                  <a:ext cx="23184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 flipV="1">
                  <a:off x="3800880" y="2091600"/>
                  <a:ext cx="22572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3798720" y="209160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7" name=""/>
              <p:cNvGrpSpPr/>
              <p:nvPr/>
            </p:nvGrpSpPr>
            <p:grpSpPr>
              <a:xfrm>
                <a:off x="3876480" y="2048040"/>
                <a:ext cx="74520" cy="28080"/>
                <a:chOff x="3876480" y="2048040"/>
                <a:chExt cx="74520" cy="28080"/>
              </a:xfrm>
            </p:grpSpPr>
            <p:sp>
              <p:nvSpPr>
                <p:cNvPr id="2788" name=""/>
                <p:cNvSpPr/>
                <p:nvPr/>
              </p:nvSpPr>
              <p:spPr>
                <a:xfrm>
                  <a:off x="3876480" y="20480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3924000" y="20494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90" name=""/>
            <p:cNvGrpSpPr/>
            <p:nvPr/>
          </p:nvGrpSpPr>
          <p:grpSpPr>
            <a:xfrm>
              <a:off x="3386160" y="1738440"/>
              <a:ext cx="264960" cy="221760"/>
              <a:chOff x="3386160" y="1738440"/>
              <a:chExt cx="264960" cy="221760"/>
            </a:xfrm>
          </p:grpSpPr>
          <p:grpSp>
            <p:nvGrpSpPr>
              <p:cNvPr id="2791" name=""/>
              <p:cNvGrpSpPr/>
              <p:nvPr/>
            </p:nvGrpSpPr>
            <p:grpSpPr>
              <a:xfrm>
                <a:off x="3452400" y="1738440"/>
                <a:ext cx="131040" cy="26640"/>
                <a:chOff x="3452400" y="1738440"/>
                <a:chExt cx="131040" cy="26640"/>
              </a:xfrm>
            </p:grpSpPr>
            <p:sp>
              <p:nvSpPr>
                <p:cNvPr id="2792" name=""/>
                <p:cNvSpPr/>
                <p:nvPr/>
              </p:nvSpPr>
              <p:spPr>
                <a:xfrm>
                  <a:off x="3452400" y="173844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3502800" y="173844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3556800" y="173844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5" name=""/>
              <p:cNvGrpSpPr/>
              <p:nvPr/>
            </p:nvGrpSpPr>
            <p:grpSpPr>
              <a:xfrm>
                <a:off x="3386160" y="1780920"/>
                <a:ext cx="264960" cy="179280"/>
                <a:chOff x="3386160" y="1780920"/>
                <a:chExt cx="264960" cy="179280"/>
              </a:xfrm>
            </p:grpSpPr>
            <p:sp>
              <p:nvSpPr>
                <p:cNvPr id="2796" name=""/>
                <p:cNvSpPr/>
                <p:nvPr/>
              </p:nvSpPr>
              <p:spPr>
                <a:xfrm>
                  <a:off x="3386160" y="1780920"/>
                  <a:ext cx="264960" cy="1792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 flipV="1">
                  <a:off x="3388680" y="1783080"/>
                  <a:ext cx="258120" cy="17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3386160" y="1783440"/>
                  <a:ext cx="263520" cy="17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99" name=""/>
            <p:cNvGrpSpPr/>
            <p:nvPr/>
          </p:nvGrpSpPr>
          <p:grpSpPr>
            <a:xfrm>
              <a:off x="3798720" y="2314440"/>
              <a:ext cx="231840" cy="198360"/>
              <a:chOff x="3798720" y="2314440"/>
              <a:chExt cx="231840" cy="198360"/>
            </a:xfrm>
          </p:grpSpPr>
          <p:grpSp>
            <p:nvGrpSpPr>
              <p:cNvPr id="2800" name=""/>
              <p:cNvGrpSpPr/>
              <p:nvPr/>
            </p:nvGrpSpPr>
            <p:grpSpPr>
              <a:xfrm>
                <a:off x="3798720" y="2355840"/>
                <a:ext cx="231840" cy="156960"/>
                <a:chOff x="3798720" y="2355840"/>
                <a:chExt cx="231840" cy="156960"/>
              </a:xfrm>
            </p:grpSpPr>
            <p:sp>
              <p:nvSpPr>
                <p:cNvPr id="2801" name=""/>
                <p:cNvSpPr/>
                <p:nvPr/>
              </p:nvSpPr>
              <p:spPr>
                <a:xfrm>
                  <a:off x="3798720" y="2355840"/>
                  <a:ext cx="23184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 flipV="1">
                  <a:off x="3800880" y="2358000"/>
                  <a:ext cx="22572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3798720" y="235800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4" name=""/>
              <p:cNvGrpSpPr/>
              <p:nvPr/>
            </p:nvGrpSpPr>
            <p:grpSpPr>
              <a:xfrm>
                <a:off x="3876480" y="2314440"/>
                <a:ext cx="74520" cy="28080"/>
                <a:chOff x="3876480" y="2314440"/>
                <a:chExt cx="74520" cy="28080"/>
              </a:xfrm>
            </p:grpSpPr>
            <p:sp>
              <p:nvSpPr>
                <p:cNvPr id="2805" name=""/>
                <p:cNvSpPr/>
                <p:nvPr/>
              </p:nvSpPr>
              <p:spPr>
                <a:xfrm>
                  <a:off x="3876480" y="23144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3924000" y="23158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07" name=""/>
            <p:cNvGrpSpPr/>
            <p:nvPr/>
          </p:nvGrpSpPr>
          <p:grpSpPr>
            <a:xfrm>
              <a:off x="3800520" y="2590920"/>
              <a:ext cx="231840" cy="198360"/>
              <a:chOff x="3800520" y="2590920"/>
              <a:chExt cx="231840" cy="198360"/>
            </a:xfrm>
          </p:grpSpPr>
          <p:grpSp>
            <p:nvGrpSpPr>
              <p:cNvPr id="2808" name=""/>
              <p:cNvGrpSpPr/>
              <p:nvPr/>
            </p:nvGrpSpPr>
            <p:grpSpPr>
              <a:xfrm>
                <a:off x="3800520" y="2632320"/>
                <a:ext cx="231840" cy="156960"/>
                <a:chOff x="3800520" y="2632320"/>
                <a:chExt cx="231840" cy="156960"/>
              </a:xfrm>
            </p:grpSpPr>
            <p:sp>
              <p:nvSpPr>
                <p:cNvPr id="2809" name=""/>
                <p:cNvSpPr/>
                <p:nvPr/>
              </p:nvSpPr>
              <p:spPr>
                <a:xfrm>
                  <a:off x="3800520" y="2632320"/>
                  <a:ext cx="23184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V="1">
                  <a:off x="3802680" y="2634480"/>
                  <a:ext cx="22572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3800520" y="263448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2" name=""/>
              <p:cNvGrpSpPr/>
              <p:nvPr/>
            </p:nvGrpSpPr>
            <p:grpSpPr>
              <a:xfrm>
                <a:off x="3878280" y="2590920"/>
                <a:ext cx="74520" cy="28080"/>
                <a:chOff x="3878280" y="2590920"/>
                <a:chExt cx="74520" cy="28080"/>
              </a:xfrm>
            </p:grpSpPr>
            <p:sp>
              <p:nvSpPr>
                <p:cNvPr id="2813" name=""/>
                <p:cNvSpPr/>
                <p:nvPr/>
              </p:nvSpPr>
              <p:spPr>
                <a:xfrm>
                  <a:off x="3878280" y="25909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3925800" y="25923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15" name=""/>
            <p:cNvSpPr/>
            <p:nvPr/>
          </p:nvSpPr>
          <p:spPr>
            <a:xfrm>
              <a:off x="3808440" y="1744920"/>
              <a:ext cx="2454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ubmaneuver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Element WW1-SME-BR07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Platoon, 19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109760" y="2120760"/>
              <a:ext cx="13755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ifle                 WW1-BR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114440" y="2397240"/>
              <a:ext cx="1369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ifle-Grenade  WW1-BR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111560" y="2664000"/>
              <a:ext cx="13543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omber           WW1-BR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118040" y="2906640"/>
              <a:ext cx="13636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wis LMG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WW1-BR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3505320" y="2984400"/>
              <a:ext cx="390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1" name=""/>
            <p:cNvGrpSpPr/>
            <p:nvPr/>
          </p:nvGrpSpPr>
          <p:grpSpPr>
            <a:xfrm>
              <a:off x="3807000" y="2854440"/>
              <a:ext cx="231480" cy="201240"/>
              <a:chOff x="3807000" y="2854440"/>
              <a:chExt cx="231480" cy="201240"/>
            </a:xfrm>
          </p:grpSpPr>
          <p:grpSp>
            <p:nvGrpSpPr>
              <p:cNvPr id="2822" name=""/>
              <p:cNvGrpSpPr/>
              <p:nvPr/>
            </p:nvGrpSpPr>
            <p:grpSpPr>
              <a:xfrm>
                <a:off x="3886200" y="2854440"/>
                <a:ext cx="73800" cy="28080"/>
                <a:chOff x="3886200" y="2854440"/>
                <a:chExt cx="73800" cy="28080"/>
              </a:xfrm>
            </p:grpSpPr>
            <p:sp>
              <p:nvSpPr>
                <p:cNvPr id="2823" name=""/>
                <p:cNvSpPr/>
                <p:nvPr/>
              </p:nvSpPr>
              <p:spPr>
                <a:xfrm>
                  <a:off x="3886200" y="285444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3933360" y="285588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5" name=""/>
              <p:cNvGrpSpPr/>
              <p:nvPr/>
            </p:nvGrpSpPr>
            <p:grpSpPr>
              <a:xfrm>
                <a:off x="3807000" y="2898720"/>
                <a:ext cx="231480" cy="156960"/>
                <a:chOff x="3807000" y="2898720"/>
                <a:chExt cx="231480" cy="156960"/>
              </a:xfrm>
            </p:grpSpPr>
            <p:sp>
              <p:nvSpPr>
                <p:cNvPr id="2826" name=""/>
                <p:cNvSpPr/>
                <p:nvPr/>
              </p:nvSpPr>
              <p:spPr>
                <a:xfrm>
                  <a:off x="3807000" y="2898720"/>
                  <a:ext cx="23148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3807000" y="2904840"/>
                  <a:ext cx="50760" cy="146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 flipV="1">
                  <a:off x="3807000" y="2906280"/>
                  <a:ext cx="23004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3817800" y="2916000"/>
                  <a:ext cx="218880" cy="13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30" name=""/>
          <p:cNvGrpSpPr/>
          <p:nvPr/>
        </p:nvGrpSpPr>
        <p:grpSpPr>
          <a:xfrm>
            <a:off x="255600" y="438120"/>
            <a:ext cx="2874600" cy="995040"/>
            <a:chOff x="255600" y="438120"/>
            <a:chExt cx="2874600" cy="995040"/>
          </a:xfrm>
        </p:grpSpPr>
        <p:sp>
          <p:nvSpPr>
            <p:cNvPr id="2831" name=""/>
            <p:cNvSpPr/>
            <p:nvPr/>
          </p:nvSpPr>
          <p:spPr>
            <a:xfrm>
              <a:off x="719280" y="49248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le Group- WW1-BG-BR1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Regiment, 19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23720" y="676440"/>
              <a:ext cx="0" cy="64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985680" y="1136520"/>
              <a:ext cx="164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ATTLE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985680" y="83664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982440" y="971640"/>
              <a:ext cx="18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 WW1-BR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17600" y="102060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981720" y="1265040"/>
              <a:ext cx="2148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4 Infantry Battalion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‘17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W1-BG-BR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28760" y="131616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9" name=""/>
            <p:cNvGrpSpPr/>
            <p:nvPr/>
          </p:nvGrpSpPr>
          <p:grpSpPr>
            <a:xfrm>
              <a:off x="623880" y="876240"/>
              <a:ext cx="237960" cy="218880"/>
              <a:chOff x="623880" y="876240"/>
              <a:chExt cx="237960" cy="218880"/>
            </a:xfrm>
          </p:grpSpPr>
          <p:sp>
            <p:nvSpPr>
              <p:cNvPr id="2840" name=""/>
              <p:cNvSpPr/>
              <p:nvPr/>
            </p:nvSpPr>
            <p:spPr>
              <a:xfrm>
                <a:off x="728280" y="87624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623880" y="936360"/>
                <a:ext cx="237960" cy="1587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2" name=""/>
            <p:cNvGrpSpPr/>
            <p:nvPr/>
          </p:nvGrpSpPr>
          <p:grpSpPr>
            <a:xfrm>
              <a:off x="561960" y="1141560"/>
              <a:ext cx="347040" cy="291600"/>
              <a:chOff x="561960" y="1141560"/>
              <a:chExt cx="347040" cy="291600"/>
            </a:xfrm>
          </p:grpSpPr>
          <p:grpSp>
            <p:nvGrpSpPr>
              <p:cNvPr id="2843" name=""/>
              <p:cNvGrpSpPr/>
              <p:nvPr/>
            </p:nvGrpSpPr>
            <p:grpSpPr>
              <a:xfrm>
                <a:off x="698400" y="1141560"/>
                <a:ext cx="76320" cy="63360"/>
                <a:chOff x="698400" y="1141560"/>
                <a:chExt cx="76320" cy="63360"/>
              </a:xfrm>
            </p:grpSpPr>
            <p:sp>
              <p:nvSpPr>
                <p:cNvPr id="2844" name=""/>
                <p:cNvSpPr/>
                <p:nvPr/>
              </p:nvSpPr>
              <p:spPr>
                <a:xfrm>
                  <a:off x="698400" y="11415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774720" y="11415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6" name=""/>
              <p:cNvGrpSpPr/>
              <p:nvPr/>
            </p:nvGrpSpPr>
            <p:grpSpPr>
              <a:xfrm>
                <a:off x="561960" y="1197000"/>
                <a:ext cx="347040" cy="236160"/>
                <a:chOff x="561960" y="1197000"/>
                <a:chExt cx="347040" cy="236160"/>
              </a:xfrm>
            </p:grpSpPr>
            <p:sp>
              <p:nvSpPr>
                <p:cNvPr id="2847" name=""/>
                <p:cNvSpPr/>
                <p:nvPr/>
              </p:nvSpPr>
              <p:spPr>
                <a:xfrm>
                  <a:off x="561960" y="1197000"/>
                  <a:ext cx="347040" cy="2361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 flipV="1">
                  <a:off x="565560" y="1200600"/>
                  <a:ext cx="33840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>
                  <a:off x="561960" y="1200600"/>
                  <a:ext cx="34560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50" name=""/>
            <p:cNvGrpSpPr/>
            <p:nvPr/>
          </p:nvGrpSpPr>
          <p:grpSpPr>
            <a:xfrm>
              <a:off x="255600" y="438120"/>
              <a:ext cx="347040" cy="298080"/>
              <a:chOff x="255600" y="438120"/>
              <a:chExt cx="347040" cy="298080"/>
            </a:xfrm>
          </p:grpSpPr>
          <p:grpSp>
            <p:nvGrpSpPr>
              <p:cNvPr id="2851" name=""/>
              <p:cNvGrpSpPr/>
              <p:nvPr/>
            </p:nvGrpSpPr>
            <p:grpSpPr>
              <a:xfrm>
                <a:off x="255600" y="500040"/>
                <a:ext cx="347040" cy="236160"/>
                <a:chOff x="255600" y="500040"/>
                <a:chExt cx="347040" cy="236160"/>
              </a:xfrm>
            </p:grpSpPr>
            <p:sp>
              <p:nvSpPr>
                <p:cNvPr id="2852" name=""/>
                <p:cNvSpPr/>
                <p:nvPr/>
              </p:nvSpPr>
              <p:spPr>
                <a:xfrm>
                  <a:off x="255600" y="500040"/>
                  <a:ext cx="347040" cy="2361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 flipV="1">
                  <a:off x="259200" y="503640"/>
                  <a:ext cx="33840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255600" y="503640"/>
                  <a:ext cx="34560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5" name=""/>
              <p:cNvGrpSpPr/>
              <p:nvPr/>
            </p:nvGrpSpPr>
            <p:grpSpPr>
              <a:xfrm>
                <a:off x="363600" y="438120"/>
                <a:ext cx="131760" cy="63360"/>
                <a:chOff x="363600" y="438120"/>
                <a:chExt cx="131760" cy="63360"/>
              </a:xfrm>
            </p:grpSpPr>
            <p:sp>
              <p:nvSpPr>
                <p:cNvPr id="2856" name=""/>
                <p:cNvSpPr/>
                <p:nvPr/>
              </p:nvSpPr>
              <p:spPr>
                <a:xfrm>
                  <a:off x="430200" y="4381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57" name=""/>
                <p:cNvGrpSpPr/>
                <p:nvPr/>
              </p:nvGrpSpPr>
              <p:grpSpPr>
                <a:xfrm>
                  <a:off x="363600" y="438120"/>
                  <a:ext cx="131760" cy="63360"/>
                  <a:chOff x="363600" y="438120"/>
                  <a:chExt cx="131760" cy="63360"/>
                </a:xfrm>
              </p:grpSpPr>
              <p:sp>
                <p:nvSpPr>
                  <p:cNvPr id="2858" name=""/>
                  <p:cNvSpPr/>
                  <p:nvPr/>
                </p:nvSpPr>
                <p:spPr>
                  <a:xfrm>
                    <a:off x="363600" y="438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9" name=""/>
                  <p:cNvSpPr/>
                  <p:nvPr/>
                </p:nvSpPr>
                <p:spPr>
                  <a:xfrm>
                    <a:off x="495360" y="438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860" name=""/>
            <p:cNvSpPr/>
            <p:nvPr/>
          </p:nvSpPr>
          <p:spPr>
            <a:xfrm>
              <a:off x="977760" y="720720"/>
              <a:ext cx="1378440" cy="1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1" name=""/>
          <p:cNvSpPr/>
          <p:nvPr/>
        </p:nvSpPr>
        <p:spPr>
          <a:xfrm>
            <a:off x="403200" y="2992320"/>
            <a:ext cx="311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990720" y="2768760"/>
            <a:ext cx="1641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971640" y="2946240"/>
            <a:ext cx="19810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kes Light Mortar         WW1-BR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4" name=""/>
          <p:cNvGrpSpPr/>
          <p:nvPr/>
        </p:nvGrpSpPr>
        <p:grpSpPr>
          <a:xfrm>
            <a:off x="600120" y="2862360"/>
            <a:ext cx="239760" cy="207360"/>
            <a:chOff x="600120" y="2862360"/>
            <a:chExt cx="239760" cy="207360"/>
          </a:xfrm>
        </p:grpSpPr>
        <p:grpSp>
          <p:nvGrpSpPr>
            <p:cNvPr id="2865" name=""/>
            <p:cNvGrpSpPr/>
            <p:nvPr/>
          </p:nvGrpSpPr>
          <p:grpSpPr>
            <a:xfrm>
              <a:off x="600120" y="2912760"/>
              <a:ext cx="239760" cy="156960"/>
              <a:chOff x="600120" y="2912760"/>
              <a:chExt cx="239760" cy="156960"/>
            </a:xfrm>
          </p:grpSpPr>
          <p:sp>
            <p:nvSpPr>
              <p:cNvPr id="2866" name=""/>
              <p:cNvSpPr/>
              <p:nvPr/>
            </p:nvSpPr>
            <p:spPr>
              <a:xfrm>
                <a:off x="600120" y="2912760"/>
                <a:ext cx="23976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flipV="1">
                <a:off x="687600" y="3028320"/>
                <a:ext cx="63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719280" y="2944440"/>
                <a:ext cx="0" cy="8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9" name=""/>
            <p:cNvGrpSpPr/>
            <p:nvPr/>
          </p:nvGrpSpPr>
          <p:grpSpPr>
            <a:xfrm>
              <a:off x="682560" y="2862360"/>
              <a:ext cx="74160" cy="26640"/>
              <a:chOff x="682560" y="2862360"/>
              <a:chExt cx="74160" cy="26640"/>
            </a:xfrm>
          </p:grpSpPr>
          <p:sp>
            <p:nvSpPr>
              <p:cNvPr id="2870" name=""/>
              <p:cNvSpPr/>
              <p:nvPr/>
            </p:nvSpPr>
            <p:spPr>
              <a:xfrm>
                <a:off x="682560" y="28623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730080" y="286236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2" name=""/>
          <p:cNvSpPr/>
          <p:nvPr/>
        </p:nvSpPr>
        <p:spPr>
          <a:xfrm>
            <a:off x="693720" y="1646640"/>
            <a:ext cx="202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BR12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Battalion, 19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409680" y="1751040"/>
            <a:ext cx="4680" cy="148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960480" y="2243160"/>
            <a:ext cx="164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960480" y="199080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957240" y="2106720"/>
            <a:ext cx="184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 WW1-BR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411120" y="2155680"/>
            <a:ext cx="274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958680" y="2378160"/>
            <a:ext cx="202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4 Infantry Company  ‘17   WW1-ME-BR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403200" y="2422440"/>
            <a:ext cx="311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0" name=""/>
          <p:cNvGrpSpPr/>
          <p:nvPr/>
        </p:nvGrpSpPr>
        <p:grpSpPr>
          <a:xfrm>
            <a:off x="598320" y="2011320"/>
            <a:ext cx="238320" cy="218880"/>
            <a:chOff x="598320" y="2011320"/>
            <a:chExt cx="238320" cy="218880"/>
          </a:xfrm>
        </p:grpSpPr>
        <p:sp>
          <p:nvSpPr>
            <p:cNvPr id="2881" name=""/>
            <p:cNvSpPr/>
            <p:nvPr/>
          </p:nvSpPr>
          <p:spPr>
            <a:xfrm>
              <a:off x="703080" y="20113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598320" y="2071440"/>
              <a:ext cx="238320" cy="1587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3" name=""/>
          <p:cNvGrpSpPr/>
          <p:nvPr/>
        </p:nvGrpSpPr>
        <p:grpSpPr>
          <a:xfrm>
            <a:off x="237960" y="1592280"/>
            <a:ext cx="347040" cy="291600"/>
            <a:chOff x="237960" y="1592280"/>
            <a:chExt cx="347040" cy="291600"/>
          </a:xfrm>
        </p:grpSpPr>
        <p:grpSp>
          <p:nvGrpSpPr>
            <p:cNvPr id="2884" name=""/>
            <p:cNvGrpSpPr/>
            <p:nvPr/>
          </p:nvGrpSpPr>
          <p:grpSpPr>
            <a:xfrm>
              <a:off x="374400" y="1592280"/>
              <a:ext cx="76320" cy="63360"/>
              <a:chOff x="374400" y="1592280"/>
              <a:chExt cx="76320" cy="63360"/>
            </a:xfrm>
          </p:grpSpPr>
          <p:sp>
            <p:nvSpPr>
              <p:cNvPr id="2885" name=""/>
              <p:cNvSpPr/>
              <p:nvPr/>
            </p:nvSpPr>
            <p:spPr>
              <a:xfrm>
                <a:off x="374400" y="15922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450720" y="15922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7" name=""/>
            <p:cNvGrpSpPr/>
            <p:nvPr/>
          </p:nvGrpSpPr>
          <p:grpSpPr>
            <a:xfrm>
              <a:off x="237960" y="1647720"/>
              <a:ext cx="347040" cy="236160"/>
              <a:chOff x="237960" y="1647720"/>
              <a:chExt cx="347040" cy="236160"/>
            </a:xfrm>
          </p:grpSpPr>
          <p:sp>
            <p:nvSpPr>
              <p:cNvPr id="2888" name=""/>
              <p:cNvSpPr/>
              <p:nvPr/>
            </p:nvSpPr>
            <p:spPr>
              <a:xfrm>
                <a:off x="237960" y="1647720"/>
                <a:ext cx="347040" cy="2361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241560" y="165132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237960" y="165132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1" name=""/>
          <p:cNvGrpSpPr/>
          <p:nvPr/>
        </p:nvGrpSpPr>
        <p:grpSpPr>
          <a:xfrm>
            <a:off x="565200" y="2265480"/>
            <a:ext cx="284040" cy="252360"/>
            <a:chOff x="565200" y="2265480"/>
            <a:chExt cx="284040" cy="252360"/>
          </a:xfrm>
        </p:grpSpPr>
        <p:sp>
          <p:nvSpPr>
            <p:cNvPr id="2892" name=""/>
            <p:cNvSpPr/>
            <p:nvPr/>
          </p:nvSpPr>
          <p:spPr>
            <a:xfrm>
              <a:off x="706320" y="22654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3" name=""/>
            <p:cNvGrpSpPr/>
            <p:nvPr/>
          </p:nvGrpSpPr>
          <p:grpSpPr>
            <a:xfrm>
              <a:off x="565200" y="2324160"/>
              <a:ext cx="284040" cy="193680"/>
              <a:chOff x="565200" y="2324160"/>
              <a:chExt cx="284040" cy="193680"/>
            </a:xfrm>
          </p:grpSpPr>
          <p:sp>
            <p:nvSpPr>
              <p:cNvPr id="2894" name=""/>
              <p:cNvSpPr/>
              <p:nvPr/>
            </p:nvSpPr>
            <p:spPr>
              <a:xfrm>
                <a:off x="565200" y="2324160"/>
                <a:ext cx="284040" cy="1936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568080" y="232704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565200" y="232704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7" name=""/>
          <p:cNvSpPr/>
          <p:nvPr/>
        </p:nvSpPr>
        <p:spPr>
          <a:xfrm>
            <a:off x="984960" y="2647800"/>
            <a:ext cx="198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MG Plato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WW1-ME-BR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399960" y="2703600"/>
            <a:ext cx="311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9" name=""/>
          <p:cNvGrpSpPr/>
          <p:nvPr/>
        </p:nvGrpSpPr>
        <p:grpSpPr>
          <a:xfrm>
            <a:off x="584280" y="2571840"/>
            <a:ext cx="283680" cy="239400"/>
            <a:chOff x="584280" y="2571840"/>
            <a:chExt cx="283680" cy="239400"/>
          </a:xfrm>
        </p:grpSpPr>
        <p:grpSp>
          <p:nvGrpSpPr>
            <p:cNvPr id="2900" name=""/>
            <p:cNvGrpSpPr/>
            <p:nvPr/>
          </p:nvGrpSpPr>
          <p:grpSpPr>
            <a:xfrm>
              <a:off x="584280" y="2617920"/>
              <a:ext cx="283680" cy="193320"/>
              <a:chOff x="584280" y="2617920"/>
              <a:chExt cx="283680" cy="193320"/>
            </a:xfrm>
          </p:grpSpPr>
          <p:sp>
            <p:nvSpPr>
              <p:cNvPr id="2901" name=""/>
              <p:cNvSpPr/>
              <p:nvPr/>
            </p:nvSpPr>
            <p:spPr>
              <a:xfrm>
                <a:off x="584280" y="2617920"/>
                <a:ext cx="283680" cy="193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584280" y="2625120"/>
                <a:ext cx="62280" cy="180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584280" y="2627280"/>
                <a:ext cx="281880" cy="17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97600" y="2639160"/>
                <a:ext cx="26820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5" name=""/>
            <p:cNvGrpSpPr/>
            <p:nvPr/>
          </p:nvGrpSpPr>
          <p:grpSpPr>
            <a:xfrm>
              <a:off x="660240" y="2571840"/>
              <a:ext cx="131760" cy="27000"/>
              <a:chOff x="660240" y="2571840"/>
              <a:chExt cx="131760" cy="27000"/>
            </a:xfrm>
          </p:grpSpPr>
          <p:sp>
            <p:nvSpPr>
              <p:cNvPr id="2906" name=""/>
              <p:cNvSpPr/>
              <p:nvPr/>
            </p:nvSpPr>
            <p:spPr>
              <a:xfrm>
                <a:off x="660240" y="25718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11000" y="25718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765000" y="25718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9" name=""/>
          <p:cNvSpPr/>
          <p:nvPr/>
        </p:nvSpPr>
        <p:spPr>
          <a:xfrm>
            <a:off x="949320" y="1873080"/>
            <a:ext cx="137844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9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414360" y="3232080"/>
            <a:ext cx="311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950760" y="3201840"/>
            <a:ext cx="18939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t HMG                         WW1-BR10 (Canadian Divisions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2" name=""/>
          <p:cNvGrpSpPr/>
          <p:nvPr/>
        </p:nvGrpSpPr>
        <p:grpSpPr>
          <a:xfrm>
            <a:off x="598320" y="3116160"/>
            <a:ext cx="231840" cy="201240"/>
            <a:chOff x="598320" y="3116160"/>
            <a:chExt cx="231840" cy="201240"/>
          </a:xfrm>
        </p:grpSpPr>
        <p:grpSp>
          <p:nvGrpSpPr>
            <p:cNvPr id="2913" name=""/>
            <p:cNvGrpSpPr/>
            <p:nvPr/>
          </p:nvGrpSpPr>
          <p:grpSpPr>
            <a:xfrm>
              <a:off x="677880" y="3116160"/>
              <a:ext cx="74520" cy="28080"/>
              <a:chOff x="677880" y="3116160"/>
              <a:chExt cx="74520" cy="28080"/>
            </a:xfrm>
          </p:grpSpPr>
          <p:sp>
            <p:nvSpPr>
              <p:cNvPr id="2914" name=""/>
              <p:cNvSpPr/>
              <p:nvPr/>
            </p:nvSpPr>
            <p:spPr>
              <a:xfrm>
                <a:off x="677880" y="31161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25400" y="31176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6" name=""/>
            <p:cNvGrpSpPr/>
            <p:nvPr/>
          </p:nvGrpSpPr>
          <p:grpSpPr>
            <a:xfrm>
              <a:off x="598320" y="3160440"/>
              <a:ext cx="231840" cy="156960"/>
              <a:chOff x="598320" y="3160440"/>
              <a:chExt cx="231840" cy="156960"/>
            </a:xfrm>
          </p:grpSpPr>
          <p:sp>
            <p:nvSpPr>
              <p:cNvPr id="2917" name=""/>
              <p:cNvSpPr/>
              <p:nvPr/>
            </p:nvSpPr>
            <p:spPr>
              <a:xfrm>
                <a:off x="598320" y="316044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598320" y="3166560"/>
                <a:ext cx="51120" cy="14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598320" y="3168000"/>
                <a:ext cx="23040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609480" y="3177720"/>
                <a:ext cx="21924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I British 19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2" name=""/>
          <p:cNvGrpSpPr/>
          <p:nvPr/>
        </p:nvGrpSpPr>
        <p:grpSpPr>
          <a:xfrm>
            <a:off x="3309840" y="293760"/>
            <a:ext cx="2543400" cy="882720"/>
            <a:chOff x="3309840" y="293760"/>
            <a:chExt cx="2543400" cy="882720"/>
          </a:xfrm>
        </p:grpSpPr>
        <p:sp>
          <p:nvSpPr>
            <p:cNvPr id="2923" name=""/>
            <p:cNvSpPr/>
            <p:nvPr/>
          </p:nvSpPr>
          <p:spPr>
            <a:xfrm>
              <a:off x="3449520" y="1090440"/>
              <a:ext cx="231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665520" y="367200"/>
              <a:ext cx="217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 WW1-ME-BR08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Company, 19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836880" y="60948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836880" y="744480"/>
              <a:ext cx="1383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WW1-BR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459240" y="785880"/>
              <a:ext cx="14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454560" y="534960"/>
              <a:ext cx="0" cy="53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9" name=""/>
            <p:cNvGrpSpPr/>
            <p:nvPr/>
          </p:nvGrpSpPr>
          <p:grpSpPr>
            <a:xfrm>
              <a:off x="3309840" y="293760"/>
              <a:ext cx="284040" cy="252360"/>
              <a:chOff x="3309840" y="293760"/>
              <a:chExt cx="284040" cy="252360"/>
            </a:xfrm>
          </p:grpSpPr>
          <p:sp>
            <p:nvSpPr>
              <p:cNvPr id="2930" name=""/>
              <p:cNvSpPr/>
              <p:nvPr/>
            </p:nvSpPr>
            <p:spPr>
              <a:xfrm>
                <a:off x="3450960" y="2937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1" name=""/>
              <p:cNvGrpSpPr/>
              <p:nvPr/>
            </p:nvGrpSpPr>
            <p:grpSpPr>
              <a:xfrm>
                <a:off x="3309840" y="352440"/>
                <a:ext cx="284040" cy="193680"/>
                <a:chOff x="3309840" y="352440"/>
                <a:chExt cx="284040" cy="193680"/>
              </a:xfrm>
            </p:grpSpPr>
            <p:sp>
              <p:nvSpPr>
                <p:cNvPr id="2932" name=""/>
                <p:cNvSpPr/>
                <p:nvPr/>
              </p:nvSpPr>
              <p:spPr>
                <a:xfrm>
                  <a:off x="3309840" y="352440"/>
                  <a:ext cx="284040" cy="1936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 flipV="1">
                  <a:off x="3312720" y="35532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3309840" y="35532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35" name=""/>
            <p:cNvGrpSpPr/>
            <p:nvPr/>
          </p:nvGrpSpPr>
          <p:grpSpPr>
            <a:xfrm>
              <a:off x="3557520" y="954000"/>
              <a:ext cx="265320" cy="222480"/>
              <a:chOff x="3557520" y="954000"/>
              <a:chExt cx="265320" cy="222480"/>
            </a:xfrm>
          </p:grpSpPr>
          <p:grpSp>
            <p:nvGrpSpPr>
              <p:cNvPr id="2936" name=""/>
              <p:cNvGrpSpPr/>
              <p:nvPr/>
            </p:nvGrpSpPr>
            <p:grpSpPr>
              <a:xfrm>
                <a:off x="3624120" y="954000"/>
                <a:ext cx="131760" cy="27000"/>
                <a:chOff x="3624120" y="954000"/>
                <a:chExt cx="131760" cy="27000"/>
              </a:xfrm>
            </p:grpSpPr>
            <p:sp>
              <p:nvSpPr>
                <p:cNvPr id="2937" name=""/>
                <p:cNvSpPr/>
                <p:nvPr/>
              </p:nvSpPr>
              <p:spPr>
                <a:xfrm>
                  <a:off x="3624120" y="9540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3674880" y="9540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3728880" y="9540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0" name=""/>
              <p:cNvGrpSpPr/>
              <p:nvPr/>
            </p:nvGrpSpPr>
            <p:grpSpPr>
              <a:xfrm>
                <a:off x="3557520" y="996840"/>
                <a:ext cx="265320" cy="179640"/>
                <a:chOff x="3557520" y="996840"/>
                <a:chExt cx="265320" cy="179640"/>
              </a:xfrm>
            </p:grpSpPr>
            <p:sp>
              <p:nvSpPr>
                <p:cNvPr id="2941" name=""/>
                <p:cNvSpPr/>
                <p:nvPr/>
              </p:nvSpPr>
              <p:spPr>
                <a:xfrm>
                  <a:off x="3557520" y="996840"/>
                  <a:ext cx="265320" cy="17964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 flipV="1">
                  <a:off x="3560040" y="999000"/>
                  <a:ext cx="258480" cy="17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3557520" y="999360"/>
                  <a:ext cx="263880" cy="17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4" name=""/>
            <p:cNvGrpSpPr/>
            <p:nvPr/>
          </p:nvGrpSpPr>
          <p:grpSpPr>
            <a:xfrm>
              <a:off x="3552840" y="658800"/>
              <a:ext cx="237960" cy="218880"/>
              <a:chOff x="3552840" y="658800"/>
              <a:chExt cx="237960" cy="218880"/>
            </a:xfrm>
          </p:grpSpPr>
          <p:sp>
            <p:nvSpPr>
              <p:cNvPr id="2945" name=""/>
              <p:cNvSpPr/>
              <p:nvPr/>
            </p:nvSpPr>
            <p:spPr>
              <a:xfrm>
                <a:off x="3657240" y="6588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3552840" y="718920"/>
                <a:ext cx="237960" cy="1587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7" name=""/>
            <p:cNvSpPr/>
            <p:nvPr/>
          </p:nvSpPr>
          <p:spPr>
            <a:xfrm>
              <a:off x="3884760" y="1040040"/>
              <a:ext cx="19684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Infantry Platoon ‘18  WW1-SME-BR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8" name=""/>
          <p:cNvGrpSpPr/>
          <p:nvPr/>
        </p:nvGrpSpPr>
        <p:grpSpPr>
          <a:xfrm>
            <a:off x="3529080" y="1309680"/>
            <a:ext cx="2876400" cy="736200"/>
            <a:chOff x="3529080" y="1309680"/>
            <a:chExt cx="2876400" cy="736200"/>
          </a:xfrm>
        </p:grpSpPr>
        <p:sp>
          <p:nvSpPr>
            <p:cNvPr id="2949" name=""/>
            <p:cNvSpPr/>
            <p:nvPr/>
          </p:nvSpPr>
          <p:spPr>
            <a:xfrm>
              <a:off x="3662280" y="1454040"/>
              <a:ext cx="0" cy="52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662280" y="1741320"/>
              <a:ext cx="371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1" name=""/>
            <p:cNvGrpSpPr/>
            <p:nvPr/>
          </p:nvGrpSpPr>
          <p:grpSpPr>
            <a:xfrm>
              <a:off x="3941640" y="1619280"/>
              <a:ext cx="231840" cy="198360"/>
              <a:chOff x="3941640" y="1619280"/>
              <a:chExt cx="231840" cy="198360"/>
            </a:xfrm>
          </p:grpSpPr>
          <p:grpSp>
            <p:nvGrpSpPr>
              <p:cNvPr id="2952" name=""/>
              <p:cNvGrpSpPr/>
              <p:nvPr/>
            </p:nvGrpSpPr>
            <p:grpSpPr>
              <a:xfrm>
                <a:off x="3941640" y="1660680"/>
                <a:ext cx="231840" cy="156960"/>
                <a:chOff x="3941640" y="1660680"/>
                <a:chExt cx="231840" cy="156960"/>
              </a:xfrm>
            </p:grpSpPr>
            <p:sp>
              <p:nvSpPr>
                <p:cNvPr id="2953" name=""/>
                <p:cNvSpPr/>
                <p:nvPr/>
              </p:nvSpPr>
              <p:spPr>
                <a:xfrm>
                  <a:off x="3941640" y="1660680"/>
                  <a:ext cx="23184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 flipV="1">
                  <a:off x="3943800" y="1662840"/>
                  <a:ext cx="22572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3941640" y="166284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6" name=""/>
              <p:cNvGrpSpPr/>
              <p:nvPr/>
            </p:nvGrpSpPr>
            <p:grpSpPr>
              <a:xfrm>
                <a:off x="4019400" y="1619280"/>
                <a:ext cx="74520" cy="28080"/>
                <a:chOff x="4019400" y="1619280"/>
                <a:chExt cx="74520" cy="28080"/>
              </a:xfrm>
            </p:grpSpPr>
            <p:sp>
              <p:nvSpPr>
                <p:cNvPr id="2957" name=""/>
                <p:cNvSpPr/>
                <p:nvPr/>
              </p:nvSpPr>
              <p:spPr>
                <a:xfrm>
                  <a:off x="4019400" y="16192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4066920" y="16207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59" name=""/>
            <p:cNvGrpSpPr/>
            <p:nvPr/>
          </p:nvGrpSpPr>
          <p:grpSpPr>
            <a:xfrm>
              <a:off x="3529080" y="1309680"/>
              <a:ext cx="264960" cy="221760"/>
              <a:chOff x="3529080" y="1309680"/>
              <a:chExt cx="264960" cy="221760"/>
            </a:xfrm>
          </p:grpSpPr>
          <p:grpSp>
            <p:nvGrpSpPr>
              <p:cNvPr id="2960" name=""/>
              <p:cNvGrpSpPr/>
              <p:nvPr/>
            </p:nvGrpSpPr>
            <p:grpSpPr>
              <a:xfrm>
                <a:off x="3595320" y="1309680"/>
                <a:ext cx="131040" cy="26640"/>
                <a:chOff x="3595320" y="1309680"/>
                <a:chExt cx="131040" cy="26640"/>
              </a:xfrm>
            </p:grpSpPr>
            <p:sp>
              <p:nvSpPr>
                <p:cNvPr id="2961" name=""/>
                <p:cNvSpPr/>
                <p:nvPr/>
              </p:nvSpPr>
              <p:spPr>
                <a:xfrm>
                  <a:off x="3595320" y="130968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3645720" y="130968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3699720" y="130968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4" name=""/>
              <p:cNvGrpSpPr/>
              <p:nvPr/>
            </p:nvGrpSpPr>
            <p:grpSpPr>
              <a:xfrm>
                <a:off x="3529080" y="1352160"/>
                <a:ext cx="264960" cy="179280"/>
                <a:chOff x="3529080" y="1352160"/>
                <a:chExt cx="264960" cy="179280"/>
              </a:xfrm>
            </p:grpSpPr>
            <p:sp>
              <p:nvSpPr>
                <p:cNvPr id="2965" name=""/>
                <p:cNvSpPr/>
                <p:nvPr/>
              </p:nvSpPr>
              <p:spPr>
                <a:xfrm>
                  <a:off x="3529080" y="1352160"/>
                  <a:ext cx="264960" cy="1792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 flipV="1">
                  <a:off x="3531600" y="1354320"/>
                  <a:ext cx="258120" cy="17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3529080" y="1354680"/>
                  <a:ext cx="263520" cy="17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68" name=""/>
            <p:cNvSpPr/>
            <p:nvPr/>
          </p:nvSpPr>
          <p:spPr>
            <a:xfrm>
              <a:off x="3951360" y="1316160"/>
              <a:ext cx="2454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ubmaneuver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Element WW1-SME-BR08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Platoon, 19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252680" y="1692000"/>
              <a:ext cx="13755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ifle                 WW1-BR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260960" y="1896840"/>
              <a:ext cx="13636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wis LMG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WW1-BR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3657600" y="1974600"/>
              <a:ext cx="39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2" name=""/>
            <p:cNvGrpSpPr/>
            <p:nvPr/>
          </p:nvGrpSpPr>
          <p:grpSpPr>
            <a:xfrm>
              <a:off x="3940200" y="1844640"/>
              <a:ext cx="231840" cy="201240"/>
              <a:chOff x="3940200" y="1844640"/>
              <a:chExt cx="231840" cy="201240"/>
            </a:xfrm>
          </p:grpSpPr>
          <p:grpSp>
            <p:nvGrpSpPr>
              <p:cNvPr id="2973" name=""/>
              <p:cNvGrpSpPr/>
              <p:nvPr/>
            </p:nvGrpSpPr>
            <p:grpSpPr>
              <a:xfrm>
                <a:off x="4019760" y="1844640"/>
                <a:ext cx="74520" cy="28080"/>
                <a:chOff x="4019760" y="1844640"/>
                <a:chExt cx="74520" cy="28080"/>
              </a:xfrm>
            </p:grpSpPr>
            <p:sp>
              <p:nvSpPr>
                <p:cNvPr id="2974" name=""/>
                <p:cNvSpPr/>
                <p:nvPr/>
              </p:nvSpPr>
              <p:spPr>
                <a:xfrm>
                  <a:off x="4019760" y="18446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4067280" y="18460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6" name=""/>
              <p:cNvGrpSpPr/>
              <p:nvPr/>
            </p:nvGrpSpPr>
            <p:grpSpPr>
              <a:xfrm>
                <a:off x="3940200" y="1888920"/>
                <a:ext cx="231840" cy="156960"/>
                <a:chOff x="3940200" y="1888920"/>
                <a:chExt cx="231840" cy="156960"/>
              </a:xfrm>
            </p:grpSpPr>
            <p:sp>
              <p:nvSpPr>
                <p:cNvPr id="2977" name=""/>
                <p:cNvSpPr/>
                <p:nvPr/>
              </p:nvSpPr>
              <p:spPr>
                <a:xfrm>
                  <a:off x="3940200" y="1888920"/>
                  <a:ext cx="23184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3940200" y="1895040"/>
                  <a:ext cx="51120" cy="146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 flipV="1">
                  <a:off x="3940200" y="1896480"/>
                  <a:ext cx="23040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3951360" y="1906200"/>
                  <a:ext cx="219240" cy="13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81" name=""/>
          <p:cNvGrpSpPr/>
          <p:nvPr/>
        </p:nvGrpSpPr>
        <p:grpSpPr>
          <a:xfrm>
            <a:off x="255600" y="438120"/>
            <a:ext cx="2874600" cy="995040"/>
            <a:chOff x="255600" y="438120"/>
            <a:chExt cx="2874600" cy="995040"/>
          </a:xfrm>
        </p:grpSpPr>
        <p:sp>
          <p:nvSpPr>
            <p:cNvPr id="2982" name=""/>
            <p:cNvSpPr/>
            <p:nvPr/>
          </p:nvSpPr>
          <p:spPr>
            <a:xfrm>
              <a:off x="719280" y="49248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le Group- WW1-BG-BR13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Regiment, 19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23720" y="676440"/>
              <a:ext cx="0" cy="64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985680" y="1136520"/>
              <a:ext cx="164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ATTLE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985680" y="83664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982440" y="971640"/>
              <a:ext cx="18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 WW1-BR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17600" y="102060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981720" y="1265040"/>
              <a:ext cx="2148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4 Infantry Battalion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‘18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W1-BG-BR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28760" y="131616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0" name=""/>
            <p:cNvGrpSpPr/>
            <p:nvPr/>
          </p:nvGrpSpPr>
          <p:grpSpPr>
            <a:xfrm>
              <a:off x="623880" y="876240"/>
              <a:ext cx="237960" cy="218880"/>
              <a:chOff x="623880" y="876240"/>
              <a:chExt cx="237960" cy="218880"/>
            </a:xfrm>
          </p:grpSpPr>
          <p:sp>
            <p:nvSpPr>
              <p:cNvPr id="2991" name=""/>
              <p:cNvSpPr/>
              <p:nvPr/>
            </p:nvSpPr>
            <p:spPr>
              <a:xfrm>
                <a:off x="728280" y="87624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623880" y="936360"/>
                <a:ext cx="237960" cy="1587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3" name=""/>
            <p:cNvGrpSpPr/>
            <p:nvPr/>
          </p:nvGrpSpPr>
          <p:grpSpPr>
            <a:xfrm>
              <a:off x="561960" y="1141560"/>
              <a:ext cx="347040" cy="291600"/>
              <a:chOff x="561960" y="1141560"/>
              <a:chExt cx="347040" cy="291600"/>
            </a:xfrm>
          </p:grpSpPr>
          <p:grpSp>
            <p:nvGrpSpPr>
              <p:cNvPr id="2994" name=""/>
              <p:cNvGrpSpPr/>
              <p:nvPr/>
            </p:nvGrpSpPr>
            <p:grpSpPr>
              <a:xfrm>
                <a:off x="698400" y="1141560"/>
                <a:ext cx="76320" cy="63360"/>
                <a:chOff x="698400" y="1141560"/>
                <a:chExt cx="76320" cy="63360"/>
              </a:xfrm>
            </p:grpSpPr>
            <p:sp>
              <p:nvSpPr>
                <p:cNvPr id="2995" name=""/>
                <p:cNvSpPr/>
                <p:nvPr/>
              </p:nvSpPr>
              <p:spPr>
                <a:xfrm>
                  <a:off x="698400" y="11415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774720" y="11415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7" name=""/>
              <p:cNvGrpSpPr/>
              <p:nvPr/>
            </p:nvGrpSpPr>
            <p:grpSpPr>
              <a:xfrm>
                <a:off x="561960" y="1197000"/>
                <a:ext cx="347040" cy="236160"/>
                <a:chOff x="561960" y="1197000"/>
                <a:chExt cx="347040" cy="236160"/>
              </a:xfrm>
            </p:grpSpPr>
            <p:sp>
              <p:nvSpPr>
                <p:cNvPr id="2998" name=""/>
                <p:cNvSpPr/>
                <p:nvPr/>
              </p:nvSpPr>
              <p:spPr>
                <a:xfrm>
                  <a:off x="561960" y="1197000"/>
                  <a:ext cx="347040" cy="2361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 flipV="1">
                  <a:off x="565560" y="1200600"/>
                  <a:ext cx="33840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561960" y="1200600"/>
                  <a:ext cx="34560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01" name=""/>
            <p:cNvGrpSpPr/>
            <p:nvPr/>
          </p:nvGrpSpPr>
          <p:grpSpPr>
            <a:xfrm>
              <a:off x="255600" y="438120"/>
              <a:ext cx="347040" cy="298080"/>
              <a:chOff x="255600" y="438120"/>
              <a:chExt cx="347040" cy="298080"/>
            </a:xfrm>
          </p:grpSpPr>
          <p:grpSp>
            <p:nvGrpSpPr>
              <p:cNvPr id="3002" name=""/>
              <p:cNvGrpSpPr/>
              <p:nvPr/>
            </p:nvGrpSpPr>
            <p:grpSpPr>
              <a:xfrm>
                <a:off x="255600" y="500040"/>
                <a:ext cx="347040" cy="236160"/>
                <a:chOff x="255600" y="500040"/>
                <a:chExt cx="347040" cy="236160"/>
              </a:xfrm>
            </p:grpSpPr>
            <p:sp>
              <p:nvSpPr>
                <p:cNvPr id="3003" name=""/>
                <p:cNvSpPr/>
                <p:nvPr/>
              </p:nvSpPr>
              <p:spPr>
                <a:xfrm>
                  <a:off x="255600" y="500040"/>
                  <a:ext cx="347040" cy="2361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 flipV="1">
                  <a:off x="259200" y="503640"/>
                  <a:ext cx="33840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255600" y="503640"/>
                  <a:ext cx="34560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6" name=""/>
              <p:cNvGrpSpPr/>
              <p:nvPr/>
            </p:nvGrpSpPr>
            <p:grpSpPr>
              <a:xfrm>
                <a:off x="363600" y="438120"/>
                <a:ext cx="131760" cy="63360"/>
                <a:chOff x="363600" y="438120"/>
                <a:chExt cx="131760" cy="63360"/>
              </a:xfrm>
            </p:grpSpPr>
            <p:sp>
              <p:nvSpPr>
                <p:cNvPr id="3007" name=""/>
                <p:cNvSpPr/>
                <p:nvPr/>
              </p:nvSpPr>
              <p:spPr>
                <a:xfrm>
                  <a:off x="430200" y="4381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08" name=""/>
                <p:cNvGrpSpPr/>
                <p:nvPr/>
              </p:nvGrpSpPr>
              <p:grpSpPr>
                <a:xfrm>
                  <a:off x="363600" y="438120"/>
                  <a:ext cx="131760" cy="63360"/>
                  <a:chOff x="363600" y="438120"/>
                  <a:chExt cx="131760" cy="63360"/>
                </a:xfrm>
              </p:grpSpPr>
              <p:sp>
                <p:nvSpPr>
                  <p:cNvPr id="3009" name=""/>
                  <p:cNvSpPr/>
                  <p:nvPr/>
                </p:nvSpPr>
                <p:spPr>
                  <a:xfrm>
                    <a:off x="363600" y="438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0" name=""/>
                  <p:cNvSpPr/>
                  <p:nvPr/>
                </p:nvSpPr>
                <p:spPr>
                  <a:xfrm>
                    <a:off x="495360" y="438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011" name=""/>
            <p:cNvSpPr/>
            <p:nvPr/>
          </p:nvSpPr>
          <p:spPr>
            <a:xfrm>
              <a:off x="977760" y="720720"/>
              <a:ext cx="1378440" cy="1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2" name=""/>
          <p:cNvSpPr/>
          <p:nvPr/>
        </p:nvSpPr>
        <p:spPr>
          <a:xfrm>
            <a:off x="403200" y="3325680"/>
            <a:ext cx="311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990720" y="3073320"/>
            <a:ext cx="1641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971640" y="3279600"/>
            <a:ext cx="19810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kes Light Mortar         WW1-BR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5" name=""/>
          <p:cNvGrpSpPr/>
          <p:nvPr/>
        </p:nvGrpSpPr>
        <p:grpSpPr>
          <a:xfrm>
            <a:off x="600120" y="3195720"/>
            <a:ext cx="239760" cy="207360"/>
            <a:chOff x="600120" y="3195720"/>
            <a:chExt cx="239760" cy="207360"/>
          </a:xfrm>
        </p:grpSpPr>
        <p:grpSp>
          <p:nvGrpSpPr>
            <p:cNvPr id="3016" name=""/>
            <p:cNvGrpSpPr/>
            <p:nvPr/>
          </p:nvGrpSpPr>
          <p:grpSpPr>
            <a:xfrm>
              <a:off x="600120" y="3246120"/>
              <a:ext cx="239760" cy="156960"/>
              <a:chOff x="600120" y="3246120"/>
              <a:chExt cx="239760" cy="156960"/>
            </a:xfrm>
          </p:grpSpPr>
          <p:sp>
            <p:nvSpPr>
              <p:cNvPr id="3017" name=""/>
              <p:cNvSpPr/>
              <p:nvPr/>
            </p:nvSpPr>
            <p:spPr>
              <a:xfrm>
                <a:off x="600120" y="3246120"/>
                <a:ext cx="23976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687600" y="3361680"/>
                <a:ext cx="63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19280" y="3277800"/>
                <a:ext cx="0" cy="8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0" name=""/>
            <p:cNvGrpSpPr/>
            <p:nvPr/>
          </p:nvGrpSpPr>
          <p:grpSpPr>
            <a:xfrm>
              <a:off x="682560" y="3195720"/>
              <a:ext cx="74160" cy="26640"/>
              <a:chOff x="682560" y="3195720"/>
              <a:chExt cx="74160" cy="26640"/>
            </a:xfrm>
          </p:grpSpPr>
          <p:sp>
            <p:nvSpPr>
              <p:cNvPr id="3021" name=""/>
              <p:cNvSpPr/>
              <p:nvPr/>
            </p:nvSpPr>
            <p:spPr>
              <a:xfrm>
                <a:off x="682560" y="31957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30080" y="319572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3" name=""/>
          <p:cNvSpPr/>
          <p:nvPr/>
        </p:nvSpPr>
        <p:spPr>
          <a:xfrm>
            <a:off x="693720" y="1646640"/>
            <a:ext cx="202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BR14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Battalion, 19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409680" y="1827360"/>
            <a:ext cx="4680" cy="148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960480" y="2243160"/>
            <a:ext cx="164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960480" y="199080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957240" y="2106720"/>
            <a:ext cx="184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 WW1-BR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411120" y="2155680"/>
            <a:ext cx="274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958680" y="2378160"/>
            <a:ext cx="202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4 Infantry Company  ‘18   WW1-ME-BR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403200" y="2422440"/>
            <a:ext cx="311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1" name=""/>
          <p:cNvGrpSpPr/>
          <p:nvPr/>
        </p:nvGrpSpPr>
        <p:grpSpPr>
          <a:xfrm>
            <a:off x="598320" y="2011320"/>
            <a:ext cx="238320" cy="218880"/>
            <a:chOff x="598320" y="2011320"/>
            <a:chExt cx="238320" cy="218880"/>
          </a:xfrm>
        </p:grpSpPr>
        <p:sp>
          <p:nvSpPr>
            <p:cNvPr id="3032" name=""/>
            <p:cNvSpPr/>
            <p:nvPr/>
          </p:nvSpPr>
          <p:spPr>
            <a:xfrm>
              <a:off x="703080" y="20113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98320" y="2071440"/>
              <a:ext cx="238320" cy="1587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4" name=""/>
          <p:cNvGrpSpPr/>
          <p:nvPr/>
        </p:nvGrpSpPr>
        <p:grpSpPr>
          <a:xfrm>
            <a:off x="237960" y="1592280"/>
            <a:ext cx="347040" cy="291600"/>
            <a:chOff x="237960" y="1592280"/>
            <a:chExt cx="347040" cy="291600"/>
          </a:xfrm>
        </p:grpSpPr>
        <p:grpSp>
          <p:nvGrpSpPr>
            <p:cNvPr id="3035" name=""/>
            <p:cNvGrpSpPr/>
            <p:nvPr/>
          </p:nvGrpSpPr>
          <p:grpSpPr>
            <a:xfrm>
              <a:off x="374400" y="1592280"/>
              <a:ext cx="76320" cy="63360"/>
              <a:chOff x="374400" y="1592280"/>
              <a:chExt cx="76320" cy="63360"/>
            </a:xfrm>
          </p:grpSpPr>
          <p:sp>
            <p:nvSpPr>
              <p:cNvPr id="3036" name=""/>
              <p:cNvSpPr/>
              <p:nvPr/>
            </p:nvSpPr>
            <p:spPr>
              <a:xfrm>
                <a:off x="374400" y="15922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450720" y="15922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8" name=""/>
            <p:cNvGrpSpPr/>
            <p:nvPr/>
          </p:nvGrpSpPr>
          <p:grpSpPr>
            <a:xfrm>
              <a:off x="237960" y="1647720"/>
              <a:ext cx="347040" cy="236160"/>
              <a:chOff x="237960" y="1647720"/>
              <a:chExt cx="347040" cy="236160"/>
            </a:xfrm>
          </p:grpSpPr>
          <p:sp>
            <p:nvSpPr>
              <p:cNvPr id="3039" name=""/>
              <p:cNvSpPr/>
              <p:nvPr/>
            </p:nvSpPr>
            <p:spPr>
              <a:xfrm>
                <a:off x="237960" y="1647720"/>
                <a:ext cx="347040" cy="2361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241560" y="165132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237960" y="165132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2" name=""/>
          <p:cNvGrpSpPr/>
          <p:nvPr/>
        </p:nvGrpSpPr>
        <p:grpSpPr>
          <a:xfrm>
            <a:off x="565200" y="2265480"/>
            <a:ext cx="284040" cy="252360"/>
            <a:chOff x="565200" y="2265480"/>
            <a:chExt cx="284040" cy="252360"/>
          </a:xfrm>
        </p:grpSpPr>
        <p:sp>
          <p:nvSpPr>
            <p:cNvPr id="3043" name=""/>
            <p:cNvSpPr/>
            <p:nvPr/>
          </p:nvSpPr>
          <p:spPr>
            <a:xfrm>
              <a:off x="706320" y="22654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4" name=""/>
            <p:cNvGrpSpPr/>
            <p:nvPr/>
          </p:nvGrpSpPr>
          <p:grpSpPr>
            <a:xfrm>
              <a:off x="565200" y="2324160"/>
              <a:ext cx="284040" cy="193680"/>
              <a:chOff x="565200" y="2324160"/>
              <a:chExt cx="284040" cy="193680"/>
            </a:xfrm>
          </p:grpSpPr>
          <p:sp>
            <p:nvSpPr>
              <p:cNvPr id="3045" name=""/>
              <p:cNvSpPr/>
              <p:nvPr/>
            </p:nvSpPr>
            <p:spPr>
              <a:xfrm>
                <a:off x="565200" y="2324160"/>
                <a:ext cx="284040" cy="1936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568080" y="232704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565200" y="232704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8" name=""/>
          <p:cNvSpPr/>
          <p:nvPr/>
        </p:nvSpPr>
        <p:spPr>
          <a:xfrm>
            <a:off x="984960" y="2933640"/>
            <a:ext cx="198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MG Plato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WW1-ME-BR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399960" y="2989440"/>
            <a:ext cx="311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0" name=""/>
          <p:cNvGrpSpPr/>
          <p:nvPr/>
        </p:nvGrpSpPr>
        <p:grpSpPr>
          <a:xfrm>
            <a:off x="584280" y="2857680"/>
            <a:ext cx="283680" cy="238680"/>
            <a:chOff x="584280" y="2857680"/>
            <a:chExt cx="283680" cy="238680"/>
          </a:xfrm>
        </p:grpSpPr>
        <p:grpSp>
          <p:nvGrpSpPr>
            <p:cNvPr id="3051" name=""/>
            <p:cNvGrpSpPr/>
            <p:nvPr/>
          </p:nvGrpSpPr>
          <p:grpSpPr>
            <a:xfrm>
              <a:off x="584280" y="2903400"/>
              <a:ext cx="283680" cy="192960"/>
              <a:chOff x="584280" y="2903400"/>
              <a:chExt cx="283680" cy="192960"/>
            </a:xfrm>
          </p:grpSpPr>
          <p:sp>
            <p:nvSpPr>
              <p:cNvPr id="3052" name=""/>
              <p:cNvSpPr/>
              <p:nvPr/>
            </p:nvSpPr>
            <p:spPr>
              <a:xfrm>
                <a:off x="584280" y="2903400"/>
                <a:ext cx="283680" cy="192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84280" y="2910600"/>
                <a:ext cx="62280" cy="179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584280" y="2913120"/>
                <a:ext cx="281880" cy="17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97600" y="2924640"/>
                <a:ext cx="26820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6" name=""/>
            <p:cNvGrpSpPr/>
            <p:nvPr/>
          </p:nvGrpSpPr>
          <p:grpSpPr>
            <a:xfrm>
              <a:off x="660240" y="2857680"/>
              <a:ext cx="131760" cy="26640"/>
              <a:chOff x="660240" y="2857680"/>
              <a:chExt cx="131760" cy="26640"/>
            </a:xfrm>
          </p:grpSpPr>
          <p:sp>
            <p:nvSpPr>
              <p:cNvPr id="3057" name=""/>
              <p:cNvSpPr/>
              <p:nvPr/>
            </p:nvSpPr>
            <p:spPr>
              <a:xfrm>
                <a:off x="660240" y="28576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711000" y="28576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765000" y="28576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0" name=""/>
          <p:cNvSpPr/>
          <p:nvPr/>
        </p:nvSpPr>
        <p:spPr>
          <a:xfrm>
            <a:off x="949320" y="1873080"/>
            <a:ext cx="137844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9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967320" y="2664000"/>
            <a:ext cx="1975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4 Shock Infantry Co.       WW1-ME-BR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412920" y="2708280"/>
            <a:ext cx="311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3" name=""/>
          <p:cNvGrpSpPr/>
          <p:nvPr/>
        </p:nvGrpSpPr>
        <p:grpSpPr>
          <a:xfrm>
            <a:off x="574560" y="2550960"/>
            <a:ext cx="284040" cy="252360"/>
            <a:chOff x="574560" y="2550960"/>
            <a:chExt cx="284040" cy="252360"/>
          </a:xfrm>
        </p:grpSpPr>
        <p:sp>
          <p:nvSpPr>
            <p:cNvPr id="3064" name=""/>
            <p:cNvSpPr/>
            <p:nvPr/>
          </p:nvSpPr>
          <p:spPr>
            <a:xfrm>
              <a:off x="715680" y="25509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5" name=""/>
            <p:cNvGrpSpPr/>
            <p:nvPr/>
          </p:nvGrpSpPr>
          <p:grpSpPr>
            <a:xfrm>
              <a:off x="574560" y="2609640"/>
              <a:ext cx="284040" cy="193680"/>
              <a:chOff x="574560" y="2609640"/>
              <a:chExt cx="284040" cy="193680"/>
            </a:xfrm>
          </p:grpSpPr>
          <p:sp>
            <p:nvSpPr>
              <p:cNvPr id="3066" name=""/>
              <p:cNvSpPr/>
              <p:nvPr/>
            </p:nvSpPr>
            <p:spPr>
              <a:xfrm>
                <a:off x="574560" y="2609640"/>
                <a:ext cx="284040" cy="1936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 flipV="1">
                <a:off x="577440" y="261252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74560" y="261252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9" name=""/>
          <p:cNvSpPr/>
          <p:nvPr/>
        </p:nvSpPr>
        <p:spPr>
          <a:xfrm>
            <a:off x="961920" y="2514600"/>
            <a:ext cx="2383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0" name=""/>
          <p:cNvGrpSpPr/>
          <p:nvPr/>
        </p:nvGrpSpPr>
        <p:grpSpPr>
          <a:xfrm>
            <a:off x="276120" y="2343240"/>
            <a:ext cx="200160" cy="457200"/>
            <a:chOff x="276120" y="2343240"/>
            <a:chExt cx="200160" cy="457200"/>
          </a:xfrm>
        </p:grpSpPr>
        <p:sp>
          <p:nvSpPr>
            <p:cNvPr id="3071" name=""/>
            <p:cNvSpPr/>
            <p:nvPr/>
          </p:nvSpPr>
          <p:spPr>
            <a:xfrm>
              <a:off x="276120" y="234324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276120" y="280044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276120" y="23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4" name=""/>
          <p:cNvGrpSpPr/>
          <p:nvPr/>
        </p:nvGrpSpPr>
        <p:grpSpPr>
          <a:xfrm>
            <a:off x="3309840" y="2179800"/>
            <a:ext cx="2533680" cy="1527840"/>
            <a:chOff x="3309840" y="2179800"/>
            <a:chExt cx="2533680" cy="1527840"/>
          </a:xfrm>
        </p:grpSpPr>
        <p:grpSp>
          <p:nvGrpSpPr>
            <p:cNvPr id="3075" name=""/>
            <p:cNvGrpSpPr/>
            <p:nvPr/>
          </p:nvGrpSpPr>
          <p:grpSpPr>
            <a:xfrm>
              <a:off x="3309840" y="2179800"/>
              <a:ext cx="2533680" cy="1066320"/>
              <a:chOff x="3309840" y="2179800"/>
              <a:chExt cx="2533680" cy="1066320"/>
            </a:xfrm>
          </p:grpSpPr>
          <p:sp>
            <p:nvSpPr>
              <p:cNvPr id="3076" name=""/>
              <p:cNvSpPr/>
              <p:nvPr/>
            </p:nvSpPr>
            <p:spPr>
              <a:xfrm>
                <a:off x="3665520" y="2252880"/>
                <a:ext cx="2178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aneuver Element WW1-ME-BR09</a:t>
                </a: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hock Infantry Company (a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3836880" y="249552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3836880" y="2630520"/>
                <a:ext cx="1383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 WW1-BR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3459240" y="2671920"/>
                <a:ext cx="14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3454560" y="2392200"/>
                <a:ext cx="0" cy="76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1" name=""/>
              <p:cNvGrpSpPr/>
              <p:nvPr/>
            </p:nvGrpSpPr>
            <p:grpSpPr>
              <a:xfrm>
                <a:off x="3309840" y="2179800"/>
                <a:ext cx="284040" cy="252360"/>
                <a:chOff x="3309840" y="2179800"/>
                <a:chExt cx="284040" cy="252360"/>
              </a:xfrm>
            </p:grpSpPr>
            <p:sp>
              <p:nvSpPr>
                <p:cNvPr id="3082" name=""/>
                <p:cNvSpPr/>
                <p:nvPr/>
              </p:nvSpPr>
              <p:spPr>
                <a:xfrm>
                  <a:off x="3450960" y="21798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83" name=""/>
                <p:cNvGrpSpPr/>
                <p:nvPr/>
              </p:nvGrpSpPr>
              <p:grpSpPr>
                <a:xfrm>
                  <a:off x="3309840" y="2238480"/>
                  <a:ext cx="284040" cy="193680"/>
                  <a:chOff x="3309840" y="2238480"/>
                  <a:chExt cx="284040" cy="193680"/>
                </a:xfrm>
              </p:grpSpPr>
              <p:sp>
                <p:nvSpPr>
                  <p:cNvPr id="3084" name=""/>
                  <p:cNvSpPr/>
                  <p:nvPr/>
                </p:nvSpPr>
                <p:spPr>
                  <a:xfrm>
                    <a:off x="3309840" y="2238480"/>
                    <a:ext cx="284040" cy="19368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5" name=""/>
                  <p:cNvSpPr/>
                  <p:nvPr/>
                </p:nvSpPr>
                <p:spPr>
                  <a:xfrm flipV="1">
                    <a:off x="3312720" y="2241360"/>
                    <a:ext cx="276480" cy="18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6" name=""/>
                  <p:cNvSpPr/>
                  <p:nvPr/>
                </p:nvSpPr>
                <p:spPr>
                  <a:xfrm>
                    <a:off x="3309840" y="2241360"/>
                    <a:ext cx="282600" cy="18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87" name=""/>
              <p:cNvGrpSpPr/>
              <p:nvPr/>
            </p:nvGrpSpPr>
            <p:grpSpPr>
              <a:xfrm>
                <a:off x="3552840" y="2544840"/>
                <a:ext cx="237960" cy="218880"/>
                <a:chOff x="3552840" y="2544840"/>
                <a:chExt cx="237960" cy="218880"/>
              </a:xfrm>
            </p:grpSpPr>
            <p:sp>
              <p:nvSpPr>
                <p:cNvPr id="3088" name=""/>
                <p:cNvSpPr/>
                <p:nvPr/>
              </p:nvSpPr>
              <p:spPr>
                <a:xfrm>
                  <a:off x="3657240" y="254484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3552840" y="2604960"/>
                  <a:ext cx="237960" cy="1587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0" name=""/>
              <p:cNvSpPr/>
              <p:nvPr/>
            </p:nvSpPr>
            <p:spPr>
              <a:xfrm>
                <a:off x="3452760" y="2941560"/>
                <a:ext cx="18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1" name=""/>
              <p:cNvGrpSpPr/>
              <p:nvPr/>
            </p:nvGrpSpPr>
            <p:grpSpPr>
              <a:xfrm>
                <a:off x="3554280" y="2819520"/>
                <a:ext cx="231840" cy="198360"/>
                <a:chOff x="3554280" y="2819520"/>
                <a:chExt cx="231840" cy="198360"/>
              </a:xfrm>
            </p:grpSpPr>
            <p:grpSp>
              <p:nvGrpSpPr>
                <p:cNvPr id="3092" name=""/>
                <p:cNvGrpSpPr/>
                <p:nvPr/>
              </p:nvGrpSpPr>
              <p:grpSpPr>
                <a:xfrm>
                  <a:off x="3554280" y="2860920"/>
                  <a:ext cx="231840" cy="156960"/>
                  <a:chOff x="3554280" y="2860920"/>
                  <a:chExt cx="231840" cy="156960"/>
                </a:xfrm>
              </p:grpSpPr>
              <p:sp>
                <p:nvSpPr>
                  <p:cNvPr id="3093" name=""/>
                  <p:cNvSpPr/>
                  <p:nvPr/>
                </p:nvSpPr>
                <p:spPr>
                  <a:xfrm>
                    <a:off x="3554280" y="2860920"/>
                    <a:ext cx="23184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4" name=""/>
                  <p:cNvSpPr/>
                  <p:nvPr/>
                </p:nvSpPr>
                <p:spPr>
                  <a:xfrm flipV="1">
                    <a:off x="3556440" y="2863080"/>
                    <a:ext cx="225720" cy="15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5" name=""/>
                  <p:cNvSpPr/>
                  <p:nvPr/>
                </p:nvSpPr>
                <p:spPr>
                  <a:xfrm>
                    <a:off x="3554280" y="286308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6" name=""/>
                <p:cNvGrpSpPr/>
                <p:nvPr/>
              </p:nvGrpSpPr>
              <p:grpSpPr>
                <a:xfrm>
                  <a:off x="3632040" y="2819520"/>
                  <a:ext cx="74520" cy="28080"/>
                  <a:chOff x="3632040" y="2819520"/>
                  <a:chExt cx="74520" cy="28080"/>
                </a:xfrm>
              </p:grpSpPr>
              <p:sp>
                <p:nvSpPr>
                  <p:cNvPr id="3097" name=""/>
                  <p:cNvSpPr/>
                  <p:nvPr/>
                </p:nvSpPr>
                <p:spPr>
                  <a:xfrm>
                    <a:off x="3632040" y="28195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8" name=""/>
                  <p:cNvSpPr/>
                  <p:nvPr/>
                </p:nvSpPr>
                <p:spPr>
                  <a:xfrm>
                    <a:off x="3679560" y="28209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99" name=""/>
              <p:cNvSpPr/>
              <p:nvPr/>
            </p:nvSpPr>
            <p:spPr>
              <a:xfrm>
                <a:off x="3865320" y="2892600"/>
                <a:ext cx="137556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8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ifle                 WW1-BR0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3873600" y="3097080"/>
                <a:ext cx="136368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8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ewis LMG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WW1-BR1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3457440" y="3165480"/>
                <a:ext cx="195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2" name=""/>
              <p:cNvGrpSpPr/>
              <p:nvPr/>
            </p:nvGrpSpPr>
            <p:grpSpPr>
              <a:xfrm>
                <a:off x="3552840" y="3044880"/>
                <a:ext cx="231840" cy="201240"/>
                <a:chOff x="3552840" y="3044880"/>
                <a:chExt cx="231840" cy="201240"/>
              </a:xfrm>
            </p:grpSpPr>
            <p:grpSp>
              <p:nvGrpSpPr>
                <p:cNvPr id="3103" name=""/>
                <p:cNvGrpSpPr/>
                <p:nvPr/>
              </p:nvGrpSpPr>
              <p:grpSpPr>
                <a:xfrm>
                  <a:off x="3632400" y="3044880"/>
                  <a:ext cx="74520" cy="28080"/>
                  <a:chOff x="3632400" y="3044880"/>
                  <a:chExt cx="74520" cy="28080"/>
                </a:xfrm>
              </p:grpSpPr>
              <p:sp>
                <p:nvSpPr>
                  <p:cNvPr id="3104" name=""/>
                  <p:cNvSpPr/>
                  <p:nvPr/>
                </p:nvSpPr>
                <p:spPr>
                  <a:xfrm>
                    <a:off x="3632400" y="30448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5" name=""/>
                  <p:cNvSpPr/>
                  <p:nvPr/>
                </p:nvSpPr>
                <p:spPr>
                  <a:xfrm>
                    <a:off x="3679920" y="30463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6" name=""/>
                <p:cNvGrpSpPr/>
                <p:nvPr/>
              </p:nvGrpSpPr>
              <p:grpSpPr>
                <a:xfrm>
                  <a:off x="3552840" y="3089160"/>
                  <a:ext cx="231840" cy="156960"/>
                  <a:chOff x="3552840" y="3089160"/>
                  <a:chExt cx="231840" cy="156960"/>
                </a:xfrm>
              </p:grpSpPr>
              <p:sp>
                <p:nvSpPr>
                  <p:cNvPr id="3107" name=""/>
                  <p:cNvSpPr/>
                  <p:nvPr/>
                </p:nvSpPr>
                <p:spPr>
                  <a:xfrm>
                    <a:off x="3552840" y="3089160"/>
                    <a:ext cx="23184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8" name=""/>
                  <p:cNvSpPr/>
                  <p:nvPr/>
                </p:nvSpPr>
                <p:spPr>
                  <a:xfrm>
                    <a:off x="3552840" y="3095280"/>
                    <a:ext cx="51120" cy="1461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9" name=""/>
                  <p:cNvSpPr/>
                  <p:nvPr/>
                </p:nvSpPr>
                <p:spPr>
                  <a:xfrm flipV="1">
                    <a:off x="3552840" y="3096720"/>
                    <a:ext cx="230400" cy="1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0" name=""/>
                  <p:cNvSpPr/>
                  <p:nvPr/>
                </p:nvSpPr>
                <p:spPr>
                  <a:xfrm>
                    <a:off x="3564000" y="3106440"/>
                    <a:ext cx="219240" cy="136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111" name=""/>
            <p:cNvSpPr/>
            <p:nvPr/>
          </p:nvSpPr>
          <p:spPr>
            <a:xfrm>
              <a:off x="3562200" y="3324240"/>
              <a:ext cx="20574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a) Applies to infantry companies of “elite” divisions on the Western Front: Canadian, Australian, 9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18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and 51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t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I Belg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3" name=""/>
          <p:cNvGrpSpPr/>
          <p:nvPr/>
        </p:nvGrpSpPr>
        <p:grpSpPr>
          <a:xfrm>
            <a:off x="3236760" y="371520"/>
            <a:ext cx="2687760" cy="831960"/>
            <a:chOff x="3236760" y="371520"/>
            <a:chExt cx="2687760" cy="831960"/>
          </a:xfrm>
        </p:grpSpPr>
        <p:sp>
          <p:nvSpPr>
            <p:cNvPr id="3114" name=""/>
            <p:cNvSpPr/>
            <p:nvPr/>
          </p:nvSpPr>
          <p:spPr>
            <a:xfrm>
              <a:off x="3384720" y="843120"/>
              <a:ext cx="14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591000" y="424080"/>
              <a:ext cx="2333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 WW1-ME-BE0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758400" y="1033560"/>
              <a:ext cx="207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-3 Infantry Platoon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W1-SME-BE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3384720" y="1095480"/>
              <a:ext cx="14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3762360" y="66672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9" name=""/>
            <p:cNvGrpSpPr/>
            <p:nvPr/>
          </p:nvGrpSpPr>
          <p:grpSpPr>
            <a:xfrm>
              <a:off x="3484440" y="736560"/>
              <a:ext cx="238320" cy="195480"/>
              <a:chOff x="3484440" y="736560"/>
              <a:chExt cx="238320" cy="195480"/>
            </a:xfrm>
          </p:grpSpPr>
          <p:sp>
            <p:nvSpPr>
              <p:cNvPr id="3120" name=""/>
              <p:cNvSpPr/>
              <p:nvPr/>
            </p:nvSpPr>
            <p:spPr>
              <a:xfrm>
                <a:off x="3484440" y="773280"/>
                <a:ext cx="23832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3589200" y="7365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2" name=""/>
            <p:cNvSpPr/>
            <p:nvPr/>
          </p:nvSpPr>
          <p:spPr>
            <a:xfrm>
              <a:off x="3759120" y="801720"/>
              <a:ext cx="184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 WW1-BE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3379680" y="525600"/>
              <a:ext cx="0" cy="57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3381480" y="3715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5" name=""/>
            <p:cNvGrpSpPr/>
            <p:nvPr/>
          </p:nvGrpSpPr>
          <p:grpSpPr>
            <a:xfrm>
              <a:off x="3236760" y="420840"/>
              <a:ext cx="284400" cy="193680"/>
              <a:chOff x="3236760" y="420840"/>
              <a:chExt cx="284400" cy="193680"/>
            </a:xfrm>
          </p:grpSpPr>
          <p:sp>
            <p:nvSpPr>
              <p:cNvPr id="3126" name=""/>
              <p:cNvSpPr/>
              <p:nvPr/>
            </p:nvSpPr>
            <p:spPr>
              <a:xfrm>
                <a:off x="3236760" y="420840"/>
                <a:ext cx="284400" cy="1936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 flipV="1">
                <a:off x="3239640" y="423720"/>
                <a:ext cx="27684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3236760" y="423720"/>
                <a:ext cx="28296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9" name=""/>
            <p:cNvGrpSpPr/>
            <p:nvPr/>
          </p:nvGrpSpPr>
          <p:grpSpPr>
            <a:xfrm>
              <a:off x="3459240" y="969840"/>
              <a:ext cx="274680" cy="233640"/>
              <a:chOff x="3459240" y="969840"/>
              <a:chExt cx="274680" cy="233640"/>
            </a:xfrm>
          </p:grpSpPr>
          <p:grpSp>
            <p:nvGrpSpPr>
              <p:cNvPr id="3130" name=""/>
              <p:cNvGrpSpPr/>
              <p:nvPr/>
            </p:nvGrpSpPr>
            <p:grpSpPr>
              <a:xfrm>
                <a:off x="3530520" y="969840"/>
                <a:ext cx="131760" cy="27000"/>
                <a:chOff x="3530520" y="969840"/>
                <a:chExt cx="131760" cy="27000"/>
              </a:xfrm>
            </p:grpSpPr>
            <p:sp>
              <p:nvSpPr>
                <p:cNvPr id="3131" name=""/>
                <p:cNvSpPr/>
                <p:nvPr/>
              </p:nvSpPr>
              <p:spPr>
                <a:xfrm>
                  <a:off x="3530520" y="9698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>
                  <a:off x="3581280" y="9698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3635280" y="9698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4" name=""/>
              <p:cNvGrpSpPr/>
              <p:nvPr/>
            </p:nvGrpSpPr>
            <p:grpSpPr>
              <a:xfrm>
                <a:off x="3459240" y="1017720"/>
                <a:ext cx="274680" cy="185760"/>
                <a:chOff x="3459240" y="1017720"/>
                <a:chExt cx="274680" cy="185760"/>
              </a:xfrm>
            </p:grpSpPr>
            <p:sp>
              <p:nvSpPr>
                <p:cNvPr id="3135" name=""/>
                <p:cNvSpPr/>
                <p:nvPr/>
              </p:nvSpPr>
              <p:spPr>
                <a:xfrm>
                  <a:off x="3459240" y="1017720"/>
                  <a:ext cx="274680" cy="185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 flipV="1">
                  <a:off x="3461760" y="1020240"/>
                  <a:ext cx="267480" cy="18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3459240" y="1020240"/>
                  <a:ext cx="273240" cy="17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38" name=""/>
          <p:cNvGrpSpPr/>
          <p:nvPr/>
        </p:nvGrpSpPr>
        <p:grpSpPr>
          <a:xfrm>
            <a:off x="3454560" y="1290600"/>
            <a:ext cx="2813040" cy="517680"/>
            <a:chOff x="3454560" y="1290600"/>
            <a:chExt cx="2813040" cy="517680"/>
          </a:xfrm>
        </p:grpSpPr>
        <p:sp>
          <p:nvSpPr>
            <p:cNvPr id="3139" name=""/>
            <p:cNvSpPr/>
            <p:nvPr/>
          </p:nvSpPr>
          <p:spPr>
            <a:xfrm>
              <a:off x="3586320" y="1420920"/>
              <a:ext cx="0" cy="33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0" name=""/>
            <p:cNvGrpSpPr/>
            <p:nvPr/>
          </p:nvGrpSpPr>
          <p:grpSpPr>
            <a:xfrm>
              <a:off x="3525840" y="1290600"/>
              <a:ext cx="131760" cy="27000"/>
              <a:chOff x="3525840" y="1290600"/>
              <a:chExt cx="131760" cy="27000"/>
            </a:xfrm>
          </p:grpSpPr>
          <p:sp>
            <p:nvSpPr>
              <p:cNvPr id="3141" name=""/>
              <p:cNvSpPr/>
              <p:nvPr/>
            </p:nvSpPr>
            <p:spPr>
              <a:xfrm>
                <a:off x="3525840" y="12906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3576600" y="12906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3630600" y="12906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4" name=""/>
            <p:cNvGrpSpPr/>
            <p:nvPr/>
          </p:nvGrpSpPr>
          <p:grpSpPr>
            <a:xfrm>
              <a:off x="3454560" y="1338120"/>
              <a:ext cx="274320" cy="185760"/>
              <a:chOff x="3454560" y="1338120"/>
              <a:chExt cx="274320" cy="185760"/>
            </a:xfrm>
          </p:grpSpPr>
          <p:sp>
            <p:nvSpPr>
              <p:cNvPr id="3145" name=""/>
              <p:cNvSpPr/>
              <p:nvPr/>
            </p:nvSpPr>
            <p:spPr>
              <a:xfrm>
                <a:off x="3454560" y="1338120"/>
                <a:ext cx="274320" cy="185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 flipV="1">
                <a:off x="3457080" y="1340640"/>
                <a:ext cx="267120" cy="18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3454560" y="1340640"/>
                <a:ext cx="272880" cy="17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8" name=""/>
            <p:cNvSpPr/>
            <p:nvPr/>
          </p:nvSpPr>
          <p:spPr>
            <a:xfrm>
              <a:off x="3797280" y="1316520"/>
              <a:ext cx="247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maneuver Element WW1-SME-BE0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Plato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3591000" y="1741320"/>
              <a:ext cx="14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3976200" y="1655640"/>
              <a:ext cx="166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Rifle                          WW1-BE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3699000" y="1650960"/>
              <a:ext cx="231480" cy="157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 flipV="1">
              <a:off x="3700440" y="1653840"/>
              <a:ext cx="227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3699000" y="1654200"/>
              <a:ext cx="23004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4" name=""/>
            <p:cNvGrpSpPr/>
            <p:nvPr/>
          </p:nvGrpSpPr>
          <p:grpSpPr>
            <a:xfrm>
              <a:off x="3776760" y="1611360"/>
              <a:ext cx="74520" cy="27000"/>
              <a:chOff x="3776760" y="1611360"/>
              <a:chExt cx="74520" cy="27000"/>
            </a:xfrm>
          </p:grpSpPr>
          <p:sp>
            <p:nvSpPr>
              <p:cNvPr id="3155" name=""/>
              <p:cNvSpPr/>
              <p:nvPr/>
            </p:nvSpPr>
            <p:spPr>
              <a:xfrm>
                <a:off x="3776760" y="16113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824280" y="16113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57" name=""/>
          <p:cNvGrpSpPr/>
          <p:nvPr/>
        </p:nvGrpSpPr>
        <p:grpSpPr>
          <a:xfrm>
            <a:off x="366840" y="541440"/>
            <a:ext cx="2842560" cy="1303200"/>
            <a:chOff x="366840" y="541440"/>
            <a:chExt cx="2842560" cy="1303200"/>
          </a:xfrm>
        </p:grpSpPr>
        <p:sp>
          <p:nvSpPr>
            <p:cNvPr id="3158" name=""/>
            <p:cNvSpPr/>
            <p:nvPr/>
          </p:nvSpPr>
          <p:spPr>
            <a:xfrm>
              <a:off x="542880" y="1766880"/>
              <a:ext cx="3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1129680" y="1698480"/>
              <a:ext cx="1820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tchkiss HMG               WW1-BE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0" name=""/>
            <p:cNvGrpSpPr/>
            <p:nvPr/>
          </p:nvGrpSpPr>
          <p:grpSpPr>
            <a:xfrm>
              <a:off x="795240" y="1643040"/>
              <a:ext cx="236520" cy="201600"/>
              <a:chOff x="795240" y="1643040"/>
              <a:chExt cx="236520" cy="201600"/>
            </a:xfrm>
          </p:grpSpPr>
          <p:grpSp>
            <p:nvGrpSpPr>
              <p:cNvPr id="3161" name=""/>
              <p:cNvGrpSpPr/>
              <p:nvPr/>
            </p:nvGrpSpPr>
            <p:grpSpPr>
              <a:xfrm>
                <a:off x="873000" y="1643040"/>
                <a:ext cx="74880" cy="27000"/>
                <a:chOff x="873000" y="1643040"/>
                <a:chExt cx="74880" cy="27000"/>
              </a:xfrm>
            </p:grpSpPr>
            <p:sp>
              <p:nvSpPr>
                <p:cNvPr id="3162" name=""/>
                <p:cNvSpPr/>
                <p:nvPr/>
              </p:nvSpPr>
              <p:spPr>
                <a:xfrm>
                  <a:off x="873000" y="164304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920880" y="16430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4" name=""/>
              <p:cNvSpPr/>
              <p:nvPr/>
            </p:nvSpPr>
            <p:spPr>
              <a:xfrm>
                <a:off x="795240" y="1684440"/>
                <a:ext cx="23184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797040" y="1690560"/>
                <a:ext cx="50760" cy="14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flipV="1">
                <a:off x="801720" y="1679040"/>
                <a:ext cx="23004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812880" y="1708200"/>
                <a:ext cx="21888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8" name=""/>
            <p:cNvSpPr/>
            <p:nvPr/>
          </p:nvSpPr>
          <p:spPr>
            <a:xfrm>
              <a:off x="822240" y="573480"/>
              <a:ext cx="173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le Group- WW1-BE0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Regi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539640" y="758880"/>
              <a:ext cx="3240" cy="10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1135080" y="1293840"/>
              <a:ext cx="164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ATTLE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1135080" y="99360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800280" y="1100160"/>
              <a:ext cx="237960" cy="158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905040" y="10447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1131840" y="1128600"/>
              <a:ext cx="181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WW1-BE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39640" y="1177920"/>
              <a:ext cx="27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1131120" y="1422000"/>
              <a:ext cx="2078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3 Infantry Battalion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W1-BG-BE0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541440" y="1473120"/>
              <a:ext cx="31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8" name=""/>
            <p:cNvGrpSpPr/>
            <p:nvPr/>
          </p:nvGrpSpPr>
          <p:grpSpPr>
            <a:xfrm>
              <a:off x="731880" y="1282680"/>
              <a:ext cx="347400" cy="299520"/>
              <a:chOff x="731880" y="1282680"/>
              <a:chExt cx="347400" cy="299520"/>
            </a:xfrm>
          </p:grpSpPr>
          <p:grpSp>
            <p:nvGrpSpPr>
              <p:cNvPr id="3179" name=""/>
              <p:cNvGrpSpPr/>
              <p:nvPr/>
            </p:nvGrpSpPr>
            <p:grpSpPr>
              <a:xfrm>
                <a:off x="873000" y="1282680"/>
                <a:ext cx="76320" cy="63360"/>
                <a:chOff x="873000" y="1282680"/>
                <a:chExt cx="76320" cy="63360"/>
              </a:xfrm>
            </p:grpSpPr>
            <p:sp>
              <p:nvSpPr>
                <p:cNvPr id="3180" name=""/>
                <p:cNvSpPr/>
                <p:nvPr/>
              </p:nvSpPr>
              <p:spPr>
                <a:xfrm>
                  <a:off x="873000" y="1282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>
                  <a:off x="949320" y="1282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2" name=""/>
              <p:cNvGrpSpPr/>
              <p:nvPr/>
            </p:nvGrpSpPr>
            <p:grpSpPr>
              <a:xfrm>
                <a:off x="731880" y="1346040"/>
                <a:ext cx="347400" cy="236160"/>
                <a:chOff x="731880" y="1346040"/>
                <a:chExt cx="347400" cy="236160"/>
              </a:xfrm>
            </p:grpSpPr>
            <p:sp>
              <p:nvSpPr>
                <p:cNvPr id="3183" name=""/>
                <p:cNvSpPr/>
                <p:nvPr/>
              </p:nvSpPr>
              <p:spPr>
                <a:xfrm>
                  <a:off x="731880" y="1346040"/>
                  <a:ext cx="347400" cy="2361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 flipV="1">
                  <a:off x="735480" y="1349640"/>
                  <a:ext cx="33876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>
                  <a:off x="731880" y="1349640"/>
                  <a:ext cx="34596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86" name=""/>
            <p:cNvGrpSpPr/>
            <p:nvPr/>
          </p:nvGrpSpPr>
          <p:grpSpPr>
            <a:xfrm>
              <a:off x="366840" y="541440"/>
              <a:ext cx="347400" cy="295200"/>
              <a:chOff x="366840" y="541440"/>
              <a:chExt cx="347400" cy="295200"/>
            </a:xfrm>
          </p:grpSpPr>
          <p:sp>
            <p:nvSpPr>
              <p:cNvPr id="3187" name=""/>
              <p:cNvSpPr/>
              <p:nvPr/>
            </p:nvSpPr>
            <p:spPr>
              <a:xfrm>
                <a:off x="366840" y="600120"/>
                <a:ext cx="347400" cy="236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 flipV="1">
                <a:off x="369720" y="603360"/>
                <a:ext cx="339840" cy="23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366840" y="603360"/>
                <a:ext cx="34596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0" name=""/>
              <p:cNvGrpSpPr/>
              <p:nvPr/>
            </p:nvGrpSpPr>
            <p:grpSpPr>
              <a:xfrm>
                <a:off x="474840" y="541440"/>
                <a:ext cx="131760" cy="63360"/>
                <a:chOff x="474840" y="541440"/>
                <a:chExt cx="131760" cy="63360"/>
              </a:xfrm>
            </p:grpSpPr>
            <p:sp>
              <p:nvSpPr>
                <p:cNvPr id="3191" name=""/>
                <p:cNvSpPr/>
                <p:nvPr/>
              </p:nvSpPr>
              <p:spPr>
                <a:xfrm>
                  <a:off x="541440" y="5414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>
                  <a:off x="474840" y="5414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>
                  <a:off x="606600" y="5414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94" name=""/>
            <p:cNvSpPr/>
            <p:nvPr/>
          </p:nvSpPr>
          <p:spPr>
            <a:xfrm>
              <a:off x="1135080" y="1573200"/>
              <a:ext cx="9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135080" y="855720"/>
              <a:ext cx="164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6" name=""/>
          <p:cNvGrpSpPr/>
          <p:nvPr/>
        </p:nvGrpSpPr>
        <p:grpSpPr>
          <a:xfrm>
            <a:off x="351000" y="2158920"/>
            <a:ext cx="2752560" cy="1006560"/>
            <a:chOff x="351000" y="2158920"/>
            <a:chExt cx="2752560" cy="1006560"/>
          </a:xfrm>
        </p:grpSpPr>
        <p:sp>
          <p:nvSpPr>
            <p:cNvPr id="3197" name=""/>
            <p:cNvSpPr/>
            <p:nvPr/>
          </p:nvSpPr>
          <p:spPr>
            <a:xfrm>
              <a:off x="523800" y="2781360"/>
              <a:ext cx="27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06400" y="2196000"/>
              <a:ext cx="19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le Group- WW1-BG-BE02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23800" y="2367000"/>
              <a:ext cx="1800" cy="71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1089000" y="2905200"/>
              <a:ext cx="164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1073160" y="259704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784080" y="2703600"/>
              <a:ext cx="238320" cy="158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888840" y="26668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069920" y="2732040"/>
              <a:ext cx="184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 WW1-BE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5" name=""/>
            <p:cNvGrpSpPr/>
            <p:nvPr/>
          </p:nvGrpSpPr>
          <p:grpSpPr>
            <a:xfrm>
              <a:off x="351000" y="2158920"/>
              <a:ext cx="347040" cy="299880"/>
              <a:chOff x="351000" y="2158920"/>
              <a:chExt cx="347040" cy="299880"/>
            </a:xfrm>
          </p:grpSpPr>
          <p:grpSp>
            <p:nvGrpSpPr>
              <p:cNvPr id="3206" name=""/>
              <p:cNvGrpSpPr/>
              <p:nvPr/>
            </p:nvGrpSpPr>
            <p:grpSpPr>
              <a:xfrm>
                <a:off x="492120" y="2158920"/>
                <a:ext cx="76320" cy="63360"/>
                <a:chOff x="492120" y="2158920"/>
                <a:chExt cx="76320" cy="63360"/>
              </a:xfrm>
            </p:grpSpPr>
            <p:sp>
              <p:nvSpPr>
                <p:cNvPr id="3207" name=""/>
                <p:cNvSpPr/>
                <p:nvPr/>
              </p:nvSpPr>
              <p:spPr>
                <a:xfrm>
                  <a:off x="492120" y="2158920"/>
                  <a:ext cx="0" cy="6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>
                  <a:off x="568440" y="2158920"/>
                  <a:ext cx="0" cy="6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9" name=""/>
              <p:cNvGrpSpPr/>
              <p:nvPr/>
            </p:nvGrpSpPr>
            <p:grpSpPr>
              <a:xfrm>
                <a:off x="351000" y="2222640"/>
                <a:ext cx="347040" cy="236160"/>
                <a:chOff x="351000" y="2222640"/>
                <a:chExt cx="347040" cy="236160"/>
              </a:xfrm>
            </p:grpSpPr>
            <p:sp>
              <p:nvSpPr>
                <p:cNvPr id="3210" name=""/>
                <p:cNvSpPr/>
                <p:nvPr/>
              </p:nvSpPr>
              <p:spPr>
                <a:xfrm>
                  <a:off x="351000" y="2222640"/>
                  <a:ext cx="347040" cy="2361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1" name=""/>
                <p:cNvSpPr/>
                <p:nvPr/>
              </p:nvSpPr>
              <p:spPr>
                <a:xfrm flipV="1">
                  <a:off x="354600" y="2226240"/>
                  <a:ext cx="33840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2" name=""/>
                <p:cNvSpPr/>
                <p:nvPr/>
              </p:nvSpPr>
              <p:spPr>
                <a:xfrm>
                  <a:off x="351000" y="2226240"/>
                  <a:ext cx="34560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3" name=""/>
            <p:cNvSpPr/>
            <p:nvPr/>
          </p:nvSpPr>
          <p:spPr>
            <a:xfrm>
              <a:off x="1069920" y="3032280"/>
              <a:ext cx="203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-4 Infantry Company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WW1-ME-BE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523800" y="3076560"/>
              <a:ext cx="31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5" name=""/>
            <p:cNvGrpSpPr/>
            <p:nvPr/>
          </p:nvGrpSpPr>
          <p:grpSpPr>
            <a:xfrm>
              <a:off x="750960" y="2906640"/>
              <a:ext cx="284040" cy="258840"/>
              <a:chOff x="750960" y="2906640"/>
              <a:chExt cx="284040" cy="258840"/>
            </a:xfrm>
          </p:grpSpPr>
          <p:sp>
            <p:nvSpPr>
              <p:cNvPr id="3216" name=""/>
              <p:cNvSpPr/>
              <p:nvPr/>
            </p:nvSpPr>
            <p:spPr>
              <a:xfrm>
                <a:off x="893880" y="29066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750960" y="2971800"/>
                <a:ext cx="284040" cy="1936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 flipV="1">
                <a:off x="754200" y="2974320"/>
                <a:ext cx="27612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750960" y="2974680"/>
                <a:ext cx="282600" cy="18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0" name=""/>
            <p:cNvSpPr/>
            <p:nvPr/>
          </p:nvSpPr>
          <p:spPr>
            <a:xfrm>
              <a:off x="1068480" y="2465280"/>
              <a:ext cx="164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I French 19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2" name=""/>
          <p:cNvGrpSpPr/>
          <p:nvPr/>
        </p:nvGrpSpPr>
        <p:grpSpPr>
          <a:xfrm>
            <a:off x="3297240" y="271440"/>
            <a:ext cx="2657520" cy="882720"/>
            <a:chOff x="3297240" y="271440"/>
            <a:chExt cx="2657520" cy="882720"/>
          </a:xfrm>
        </p:grpSpPr>
        <p:sp>
          <p:nvSpPr>
            <p:cNvPr id="3223" name=""/>
            <p:cNvSpPr/>
            <p:nvPr/>
          </p:nvSpPr>
          <p:spPr>
            <a:xfrm>
              <a:off x="3427560" y="1068480"/>
              <a:ext cx="244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3652920" y="344880"/>
              <a:ext cx="20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 WW1-ME-FR0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Company, 19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836880" y="58752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3823920" y="722160"/>
              <a:ext cx="1377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WW1-FR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3446640" y="763560"/>
              <a:ext cx="153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 flipH="1">
              <a:off x="3441240" y="484200"/>
              <a:ext cx="1800" cy="57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9" name=""/>
            <p:cNvGrpSpPr/>
            <p:nvPr/>
          </p:nvGrpSpPr>
          <p:grpSpPr>
            <a:xfrm>
              <a:off x="3297240" y="271440"/>
              <a:ext cx="299520" cy="252360"/>
              <a:chOff x="3297240" y="271440"/>
              <a:chExt cx="299520" cy="252360"/>
            </a:xfrm>
          </p:grpSpPr>
          <p:sp>
            <p:nvSpPr>
              <p:cNvPr id="3230" name=""/>
              <p:cNvSpPr/>
              <p:nvPr/>
            </p:nvSpPr>
            <p:spPr>
              <a:xfrm>
                <a:off x="3445920" y="2714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31" name=""/>
              <p:cNvGrpSpPr/>
              <p:nvPr/>
            </p:nvGrpSpPr>
            <p:grpSpPr>
              <a:xfrm>
                <a:off x="3297240" y="330120"/>
                <a:ext cx="299520" cy="193680"/>
                <a:chOff x="3297240" y="330120"/>
                <a:chExt cx="299520" cy="193680"/>
              </a:xfrm>
            </p:grpSpPr>
            <p:sp>
              <p:nvSpPr>
                <p:cNvPr id="3232" name=""/>
                <p:cNvSpPr/>
                <p:nvPr/>
              </p:nvSpPr>
              <p:spPr>
                <a:xfrm>
                  <a:off x="3297240" y="330120"/>
                  <a:ext cx="299520" cy="19368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 flipV="1">
                  <a:off x="3300120" y="333000"/>
                  <a:ext cx="291600" cy="18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>
                  <a:off x="3297240" y="333000"/>
                  <a:ext cx="29808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35" name=""/>
            <p:cNvGrpSpPr/>
            <p:nvPr/>
          </p:nvGrpSpPr>
          <p:grpSpPr>
            <a:xfrm>
              <a:off x="3544920" y="932040"/>
              <a:ext cx="280800" cy="222120"/>
              <a:chOff x="3544920" y="932040"/>
              <a:chExt cx="280800" cy="222120"/>
            </a:xfrm>
          </p:grpSpPr>
          <p:grpSp>
            <p:nvGrpSpPr>
              <p:cNvPr id="3236" name=""/>
              <p:cNvGrpSpPr/>
              <p:nvPr/>
            </p:nvGrpSpPr>
            <p:grpSpPr>
              <a:xfrm>
                <a:off x="3616200" y="932040"/>
                <a:ext cx="137880" cy="26640"/>
                <a:chOff x="3616200" y="932040"/>
                <a:chExt cx="137880" cy="26640"/>
              </a:xfrm>
            </p:grpSpPr>
            <p:sp>
              <p:nvSpPr>
                <p:cNvPr id="3237" name=""/>
                <p:cNvSpPr/>
                <p:nvPr/>
              </p:nvSpPr>
              <p:spPr>
                <a:xfrm>
                  <a:off x="3616200" y="93204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8" name=""/>
                <p:cNvSpPr/>
                <p:nvPr/>
              </p:nvSpPr>
              <p:spPr>
                <a:xfrm>
                  <a:off x="3669120" y="932040"/>
                  <a:ext cx="2952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>
                  <a:off x="3726000" y="93204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0" name=""/>
              <p:cNvGrpSpPr/>
              <p:nvPr/>
            </p:nvGrpSpPr>
            <p:grpSpPr>
              <a:xfrm>
                <a:off x="3544920" y="974880"/>
                <a:ext cx="280800" cy="179280"/>
                <a:chOff x="3544920" y="974880"/>
                <a:chExt cx="280800" cy="179280"/>
              </a:xfrm>
            </p:grpSpPr>
            <p:sp>
              <p:nvSpPr>
                <p:cNvPr id="3241" name=""/>
                <p:cNvSpPr/>
                <p:nvPr/>
              </p:nvSpPr>
              <p:spPr>
                <a:xfrm>
                  <a:off x="3544920" y="974880"/>
                  <a:ext cx="280800" cy="17928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2" name=""/>
                <p:cNvSpPr/>
                <p:nvPr/>
              </p:nvSpPr>
              <p:spPr>
                <a:xfrm flipV="1">
                  <a:off x="3547800" y="977040"/>
                  <a:ext cx="273600" cy="17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3" name=""/>
                <p:cNvSpPr/>
                <p:nvPr/>
              </p:nvSpPr>
              <p:spPr>
                <a:xfrm>
                  <a:off x="3544920" y="977400"/>
                  <a:ext cx="279360" cy="17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44" name=""/>
            <p:cNvGrpSpPr/>
            <p:nvPr/>
          </p:nvGrpSpPr>
          <p:grpSpPr>
            <a:xfrm>
              <a:off x="3540240" y="636480"/>
              <a:ext cx="252360" cy="219240"/>
              <a:chOff x="3540240" y="636480"/>
              <a:chExt cx="252360" cy="219240"/>
            </a:xfrm>
          </p:grpSpPr>
          <p:sp>
            <p:nvSpPr>
              <p:cNvPr id="3245" name=""/>
              <p:cNvSpPr/>
              <p:nvPr/>
            </p:nvSpPr>
            <p:spPr>
              <a:xfrm>
                <a:off x="3651120" y="6364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3540240" y="696960"/>
                <a:ext cx="252360" cy="1587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7" name=""/>
            <p:cNvSpPr/>
            <p:nvPr/>
          </p:nvSpPr>
          <p:spPr>
            <a:xfrm>
              <a:off x="3871800" y="1018080"/>
              <a:ext cx="20829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Infantry Platoon ‘14  WW1-SME-FR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8" name=""/>
          <p:cNvGrpSpPr/>
          <p:nvPr/>
        </p:nvGrpSpPr>
        <p:grpSpPr>
          <a:xfrm>
            <a:off x="3533760" y="1274760"/>
            <a:ext cx="2847960" cy="507960"/>
            <a:chOff x="3533760" y="1274760"/>
            <a:chExt cx="2847960" cy="507960"/>
          </a:xfrm>
        </p:grpSpPr>
        <p:sp>
          <p:nvSpPr>
            <p:cNvPr id="3249" name=""/>
            <p:cNvSpPr/>
            <p:nvPr/>
          </p:nvSpPr>
          <p:spPr>
            <a:xfrm>
              <a:off x="3666960" y="1401840"/>
              <a:ext cx="0" cy="311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3666960" y="1706400"/>
              <a:ext cx="371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1" name=""/>
            <p:cNvGrpSpPr/>
            <p:nvPr/>
          </p:nvGrpSpPr>
          <p:grpSpPr>
            <a:xfrm>
              <a:off x="3946680" y="1584360"/>
              <a:ext cx="231480" cy="198360"/>
              <a:chOff x="3946680" y="1584360"/>
              <a:chExt cx="231480" cy="198360"/>
            </a:xfrm>
          </p:grpSpPr>
          <p:grpSp>
            <p:nvGrpSpPr>
              <p:cNvPr id="3252" name=""/>
              <p:cNvGrpSpPr/>
              <p:nvPr/>
            </p:nvGrpSpPr>
            <p:grpSpPr>
              <a:xfrm>
                <a:off x="3946680" y="1625760"/>
                <a:ext cx="231480" cy="156960"/>
                <a:chOff x="3946680" y="1625760"/>
                <a:chExt cx="231480" cy="156960"/>
              </a:xfrm>
            </p:grpSpPr>
            <p:sp>
              <p:nvSpPr>
                <p:cNvPr id="3253" name=""/>
                <p:cNvSpPr/>
                <p:nvPr/>
              </p:nvSpPr>
              <p:spPr>
                <a:xfrm>
                  <a:off x="3946680" y="1625760"/>
                  <a:ext cx="231480" cy="1569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 flipV="1">
                  <a:off x="3948840" y="1627920"/>
                  <a:ext cx="22536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>
                  <a:off x="3946680" y="1627920"/>
                  <a:ext cx="230400" cy="14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6" name=""/>
              <p:cNvGrpSpPr/>
              <p:nvPr/>
            </p:nvGrpSpPr>
            <p:grpSpPr>
              <a:xfrm>
                <a:off x="4024440" y="1584360"/>
                <a:ext cx="74520" cy="27000"/>
                <a:chOff x="4024440" y="1584360"/>
                <a:chExt cx="74520" cy="27000"/>
              </a:xfrm>
            </p:grpSpPr>
            <p:sp>
              <p:nvSpPr>
                <p:cNvPr id="3257" name=""/>
                <p:cNvSpPr/>
                <p:nvPr/>
              </p:nvSpPr>
              <p:spPr>
                <a:xfrm>
                  <a:off x="4024440" y="15843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>
                  <a:off x="4071960" y="15843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59" name=""/>
            <p:cNvGrpSpPr/>
            <p:nvPr/>
          </p:nvGrpSpPr>
          <p:grpSpPr>
            <a:xfrm>
              <a:off x="3533760" y="1274760"/>
              <a:ext cx="264960" cy="222120"/>
              <a:chOff x="3533760" y="1274760"/>
              <a:chExt cx="264960" cy="222120"/>
            </a:xfrm>
          </p:grpSpPr>
          <p:grpSp>
            <p:nvGrpSpPr>
              <p:cNvPr id="3260" name=""/>
              <p:cNvGrpSpPr/>
              <p:nvPr/>
            </p:nvGrpSpPr>
            <p:grpSpPr>
              <a:xfrm>
                <a:off x="3600360" y="1274760"/>
                <a:ext cx="131760" cy="27000"/>
                <a:chOff x="3600360" y="1274760"/>
                <a:chExt cx="131760" cy="27000"/>
              </a:xfrm>
            </p:grpSpPr>
            <p:sp>
              <p:nvSpPr>
                <p:cNvPr id="3261" name=""/>
                <p:cNvSpPr/>
                <p:nvPr/>
              </p:nvSpPr>
              <p:spPr>
                <a:xfrm>
                  <a:off x="3600360" y="12747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3651120" y="12747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3" name=""/>
                <p:cNvSpPr/>
                <p:nvPr/>
              </p:nvSpPr>
              <p:spPr>
                <a:xfrm>
                  <a:off x="3705120" y="12747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4" name=""/>
              <p:cNvGrpSpPr/>
              <p:nvPr/>
            </p:nvGrpSpPr>
            <p:grpSpPr>
              <a:xfrm>
                <a:off x="3533760" y="1317600"/>
                <a:ext cx="264960" cy="179280"/>
                <a:chOff x="3533760" y="1317600"/>
                <a:chExt cx="264960" cy="179280"/>
              </a:xfrm>
            </p:grpSpPr>
            <p:sp>
              <p:nvSpPr>
                <p:cNvPr id="3265" name=""/>
                <p:cNvSpPr/>
                <p:nvPr/>
              </p:nvSpPr>
              <p:spPr>
                <a:xfrm>
                  <a:off x="3533760" y="1317600"/>
                  <a:ext cx="264960" cy="17928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 flipV="1">
                  <a:off x="3536280" y="1319760"/>
                  <a:ext cx="258120" cy="17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>
                  <a:off x="3533760" y="1320120"/>
                  <a:ext cx="263520" cy="17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68" name=""/>
            <p:cNvSpPr/>
            <p:nvPr/>
          </p:nvSpPr>
          <p:spPr>
            <a:xfrm>
              <a:off x="3956040" y="1281600"/>
              <a:ext cx="242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ubmaneuver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Element WW1-SME-FR0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Platoon, 19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260960" y="1649520"/>
              <a:ext cx="12952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ifle              WW1-FR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320760" y="517680"/>
            <a:ext cx="2854080" cy="1001160"/>
            <a:chOff x="320760" y="517680"/>
            <a:chExt cx="2854080" cy="1001160"/>
          </a:xfrm>
        </p:grpSpPr>
        <p:sp>
          <p:nvSpPr>
            <p:cNvPr id="3271" name=""/>
            <p:cNvSpPr/>
            <p:nvPr/>
          </p:nvSpPr>
          <p:spPr>
            <a:xfrm>
              <a:off x="776160" y="568800"/>
              <a:ext cx="178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le Group- WW1-BG-FR0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Regiment, 19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485640" y="749160"/>
              <a:ext cx="0" cy="64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1042920" y="1222200"/>
              <a:ext cx="164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ATTLE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1042920" y="92232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1039680" y="1057320"/>
              <a:ext cx="184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 WW1-FR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493560" y="110664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1038600" y="1350720"/>
              <a:ext cx="213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3 Infantry Battalion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‘1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W1-BG-FR0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85640" y="1401840"/>
              <a:ext cx="311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9" name=""/>
            <p:cNvGrpSpPr/>
            <p:nvPr/>
          </p:nvGrpSpPr>
          <p:grpSpPr>
            <a:xfrm>
              <a:off x="681120" y="961920"/>
              <a:ext cx="237960" cy="219240"/>
              <a:chOff x="681120" y="961920"/>
              <a:chExt cx="237960" cy="219240"/>
            </a:xfrm>
          </p:grpSpPr>
          <p:sp>
            <p:nvSpPr>
              <p:cNvPr id="3280" name=""/>
              <p:cNvSpPr/>
              <p:nvPr/>
            </p:nvSpPr>
            <p:spPr>
              <a:xfrm>
                <a:off x="785880" y="961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681120" y="1022400"/>
                <a:ext cx="237960" cy="1587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2" name=""/>
            <p:cNvGrpSpPr/>
            <p:nvPr/>
          </p:nvGrpSpPr>
          <p:grpSpPr>
            <a:xfrm>
              <a:off x="619200" y="1227240"/>
              <a:ext cx="347400" cy="291600"/>
              <a:chOff x="619200" y="1227240"/>
              <a:chExt cx="347400" cy="291600"/>
            </a:xfrm>
          </p:grpSpPr>
          <p:grpSp>
            <p:nvGrpSpPr>
              <p:cNvPr id="3283" name=""/>
              <p:cNvGrpSpPr/>
              <p:nvPr/>
            </p:nvGrpSpPr>
            <p:grpSpPr>
              <a:xfrm>
                <a:off x="755640" y="1227240"/>
                <a:ext cx="76320" cy="63360"/>
                <a:chOff x="755640" y="1227240"/>
                <a:chExt cx="76320" cy="63360"/>
              </a:xfrm>
            </p:grpSpPr>
            <p:sp>
              <p:nvSpPr>
                <p:cNvPr id="3284" name=""/>
                <p:cNvSpPr/>
                <p:nvPr/>
              </p:nvSpPr>
              <p:spPr>
                <a:xfrm>
                  <a:off x="755640" y="12272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831960" y="12272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6" name=""/>
              <p:cNvGrpSpPr/>
              <p:nvPr/>
            </p:nvGrpSpPr>
            <p:grpSpPr>
              <a:xfrm>
                <a:off x="619200" y="1282680"/>
                <a:ext cx="347400" cy="236160"/>
                <a:chOff x="619200" y="1282680"/>
                <a:chExt cx="347400" cy="236160"/>
              </a:xfrm>
            </p:grpSpPr>
            <p:sp>
              <p:nvSpPr>
                <p:cNvPr id="3287" name=""/>
                <p:cNvSpPr/>
                <p:nvPr/>
              </p:nvSpPr>
              <p:spPr>
                <a:xfrm>
                  <a:off x="619200" y="1282680"/>
                  <a:ext cx="347400" cy="2361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 flipV="1">
                  <a:off x="622800" y="1286280"/>
                  <a:ext cx="33876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>
                  <a:off x="619200" y="1286280"/>
                  <a:ext cx="34596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90" name=""/>
            <p:cNvGrpSpPr/>
            <p:nvPr/>
          </p:nvGrpSpPr>
          <p:grpSpPr>
            <a:xfrm>
              <a:off x="320760" y="517680"/>
              <a:ext cx="347040" cy="298080"/>
              <a:chOff x="320760" y="517680"/>
              <a:chExt cx="347040" cy="298080"/>
            </a:xfrm>
          </p:grpSpPr>
          <p:grpSp>
            <p:nvGrpSpPr>
              <p:cNvPr id="3291" name=""/>
              <p:cNvGrpSpPr/>
              <p:nvPr/>
            </p:nvGrpSpPr>
            <p:grpSpPr>
              <a:xfrm>
                <a:off x="320760" y="579600"/>
                <a:ext cx="347040" cy="236160"/>
                <a:chOff x="320760" y="579600"/>
                <a:chExt cx="347040" cy="236160"/>
              </a:xfrm>
            </p:grpSpPr>
            <p:sp>
              <p:nvSpPr>
                <p:cNvPr id="3292" name=""/>
                <p:cNvSpPr/>
                <p:nvPr/>
              </p:nvSpPr>
              <p:spPr>
                <a:xfrm>
                  <a:off x="320760" y="579600"/>
                  <a:ext cx="347040" cy="2361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3" name=""/>
                <p:cNvSpPr/>
                <p:nvPr/>
              </p:nvSpPr>
              <p:spPr>
                <a:xfrm flipV="1">
                  <a:off x="324360" y="583200"/>
                  <a:ext cx="33840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320760" y="583200"/>
                  <a:ext cx="34560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5" name=""/>
              <p:cNvGrpSpPr/>
              <p:nvPr/>
            </p:nvGrpSpPr>
            <p:grpSpPr>
              <a:xfrm>
                <a:off x="428760" y="517680"/>
                <a:ext cx="131760" cy="63360"/>
                <a:chOff x="428760" y="517680"/>
                <a:chExt cx="131760" cy="63360"/>
              </a:xfrm>
            </p:grpSpPr>
            <p:sp>
              <p:nvSpPr>
                <p:cNvPr id="3296" name=""/>
                <p:cNvSpPr/>
                <p:nvPr/>
              </p:nvSpPr>
              <p:spPr>
                <a:xfrm>
                  <a:off x="495360" y="517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97" name=""/>
                <p:cNvGrpSpPr/>
                <p:nvPr/>
              </p:nvGrpSpPr>
              <p:grpSpPr>
                <a:xfrm>
                  <a:off x="428760" y="517680"/>
                  <a:ext cx="131760" cy="63360"/>
                  <a:chOff x="428760" y="517680"/>
                  <a:chExt cx="131760" cy="63360"/>
                </a:xfrm>
              </p:grpSpPr>
              <p:sp>
                <p:nvSpPr>
                  <p:cNvPr id="3298" name=""/>
                  <p:cNvSpPr/>
                  <p:nvPr/>
                </p:nvSpPr>
                <p:spPr>
                  <a:xfrm>
                    <a:off x="428760" y="5176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9" name=""/>
                  <p:cNvSpPr/>
                  <p:nvPr/>
                </p:nvSpPr>
                <p:spPr>
                  <a:xfrm>
                    <a:off x="560520" y="5176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300" name=""/>
            <p:cNvSpPr/>
            <p:nvPr/>
          </p:nvSpPr>
          <p:spPr>
            <a:xfrm>
              <a:off x="1044360" y="806400"/>
              <a:ext cx="1378440" cy="1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1" name=""/>
          <p:cNvGrpSpPr/>
          <p:nvPr/>
        </p:nvGrpSpPr>
        <p:grpSpPr>
          <a:xfrm>
            <a:off x="252360" y="1704960"/>
            <a:ext cx="2734200" cy="1305000"/>
            <a:chOff x="252360" y="1704960"/>
            <a:chExt cx="2734200" cy="1305000"/>
          </a:xfrm>
        </p:grpSpPr>
        <p:sp>
          <p:nvSpPr>
            <p:cNvPr id="3302" name=""/>
            <p:cNvSpPr/>
            <p:nvPr/>
          </p:nvSpPr>
          <p:spPr>
            <a:xfrm>
              <a:off x="708120" y="1749960"/>
              <a:ext cx="186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le Group- WW1-BG-FRB02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Battalion, 19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425520" y="1911240"/>
              <a:ext cx="324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974880" y="2432160"/>
              <a:ext cx="164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974880" y="213192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971640" y="2266920"/>
              <a:ext cx="184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 WW1-FR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425520" y="231624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972720" y="2567160"/>
              <a:ext cx="201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Infantry Company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‘14   WW1-ME-FR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417600" y="261144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0" name=""/>
            <p:cNvGrpSpPr/>
            <p:nvPr/>
          </p:nvGrpSpPr>
          <p:grpSpPr>
            <a:xfrm>
              <a:off x="612720" y="2171880"/>
              <a:ext cx="238320" cy="218880"/>
              <a:chOff x="612720" y="2171880"/>
              <a:chExt cx="238320" cy="218880"/>
            </a:xfrm>
          </p:grpSpPr>
          <p:sp>
            <p:nvSpPr>
              <p:cNvPr id="3311" name=""/>
              <p:cNvSpPr/>
              <p:nvPr/>
            </p:nvSpPr>
            <p:spPr>
              <a:xfrm>
                <a:off x="717480" y="21718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612720" y="2232000"/>
                <a:ext cx="238320" cy="1587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3" name=""/>
            <p:cNvGrpSpPr/>
            <p:nvPr/>
          </p:nvGrpSpPr>
          <p:grpSpPr>
            <a:xfrm>
              <a:off x="252360" y="1704960"/>
              <a:ext cx="347400" cy="291600"/>
              <a:chOff x="252360" y="1704960"/>
              <a:chExt cx="347400" cy="291600"/>
            </a:xfrm>
          </p:grpSpPr>
          <p:grpSp>
            <p:nvGrpSpPr>
              <p:cNvPr id="3314" name=""/>
              <p:cNvGrpSpPr/>
              <p:nvPr/>
            </p:nvGrpSpPr>
            <p:grpSpPr>
              <a:xfrm>
                <a:off x="388800" y="1704960"/>
                <a:ext cx="76320" cy="63360"/>
                <a:chOff x="388800" y="1704960"/>
                <a:chExt cx="76320" cy="63360"/>
              </a:xfrm>
            </p:grpSpPr>
            <p:sp>
              <p:nvSpPr>
                <p:cNvPr id="3315" name=""/>
                <p:cNvSpPr/>
                <p:nvPr/>
              </p:nvSpPr>
              <p:spPr>
                <a:xfrm>
                  <a:off x="388800" y="17049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6" name=""/>
                <p:cNvSpPr/>
                <p:nvPr/>
              </p:nvSpPr>
              <p:spPr>
                <a:xfrm>
                  <a:off x="465120" y="17049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7" name=""/>
              <p:cNvGrpSpPr/>
              <p:nvPr/>
            </p:nvGrpSpPr>
            <p:grpSpPr>
              <a:xfrm>
                <a:off x="252360" y="1760400"/>
                <a:ext cx="347400" cy="236160"/>
                <a:chOff x="252360" y="1760400"/>
                <a:chExt cx="347400" cy="236160"/>
              </a:xfrm>
            </p:grpSpPr>
            <p:sp>
              <p:nvSpPr>
                <p:cNvPr id="3318" name=""/>
                <p:cNvSpPr/>
                <p:nvPr/>
              </p:nvSpPr>
              <p:spPr>
                <a:xfrm>
                  <a:off x="252360" y="1760400"/>
                  <a:ext cx="347400" cy="2361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9" name=""/>
                <p:cNvSpPr/>
                <p:nvPr/>
              </p:nvSpPr>
              <p:spPr>
                <a:xfrm flipV="1">
                  <a:off x="255960" y="1764000"/>
                  <a:ext cx="33876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0" name=""/>
                <p:cNvSpPr/>
                <p:nvPr/>
              </p:nvSpPr>
              <p:spPr>
                <a:xfrm>
                  <a:off x="252360" y="1764000"/>
                  <a:ext cx="34596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21" name=""/>
            <p:cNvGrpSpPr/>
            <p:nvPr/>
          </p:nvGrpSpPr>
          <p:grpSpPr>
            <a:xfrm>
              <a:off x="579600" y="2454120"/>
              <a:ext cx="284040" cy="252360"/>
              <a:chOff x="579600" y="2454120"/>
              <a:chExt cx="284040" cy="252360"/>
            </a:xfrm>
          </p:grpSpPr>
          <p:sp>
            <p:nvSpPr>
              <p:cNvPr id="3322" name=""/>
              <p:cNvSpPr/>
              <p:nvPr/>
            </p:nvSpPr>
            <p:spPr>
              <a:xfrm>
                <a:off x="720720" y="24541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3" name=""/>
              <p:cNvGrpSpPr/>
              <p:nvPr/>
            </p:nvGrpSpPr>
            <p:grpSpPr>
              <a:xfrm>
                <a:off x="579600" y="2512800"/>
                <a:ext cx="284040" cy="193680"/>
                <a:chOff x="579600" y="2512800"/>
                <a:chExt cx="284040" cy="193680"/>
              </a:xfrm>
            </p:grpSpPr>
            <p:sp>
              <p:nvSpPr>
                <p:cNvPr id="3324" name=""/>
                <p:cNvSpPr/>
                <p:nvPr/>
              </p:nvSpPr>
              <p:spPr>
                <a:xfrm>
                  <a:off x="579600" y="2512800"/>
                  <a:ext cx="284040" cy="19368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5" name=""/>
                <p:cNvSpPr/>
                <p:nvPr/>
              </p:nvSpPr>
              <p:spPr>
                <a:xfrm flipV="1">
                  <a:off x="582480" y="251568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6" name=""/>
                <p:cNvSpPr/>
                <p:nvPr/>
              </p:nvSpPr>
              <p:spPr>
                <a:xfrm>
                  <a:off x="579600" y="251568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7" name=""/>
            <p:cNvSpPr/>
            <p:nvPr/>
          </p:nvSpPr>
          <p:spPr>
            <a:xfrm>
              <a:off x="417600" y="292428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947520" y="2868480"/>
              <a:ext cx="19195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tchkiss MG                     WW1-FR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9" name=""/>
            <p:cNvGrpSpPr/>
            <p:nvPr/>
          </p:nvGrpSpPr>
          <p:grpSpPr>
            <a:xfrm>
              <a:off x="601560" y="2808360"/>
              <a:ext cx="231840" cy="201600"/>
              <a:chOff x="601560" y="2808360"/>
              <a:chExt cx="231840" cy="201600"/>
            </a:xfrm>
          </p:grpSpPr>
          <p:grpSp>
            <p:nvGrpSpPr>
              <p:cNvPr id="3330" name=""/>
              <p:cNvGrpSpPr/>
              <p:nvPr/>
            </p:nvGrpSpPr>
            <p:grpSpPr>
              <a:xfrm>
                <a:off x="681120" y="2808360"/>
                <a:ext cx="74520" cy="28080"/>
                <a:chOff x="681120" y="2808360"/>
                <a:chExt cx="74520" cy="28080"/>
              </a:xfrm>
            </p:grpSpPr>
            <p:sp>
              <p:nvSpPr>
                <p:cNvPr id="3331" name=""/>
                <p:cNvSpPr/>
                <p:nvPr/>
              </p:nvSpPr>
              <p:spPr>
                <a:xfrm>
                  <a:off x="681120" y="28083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2" name=""/>
                <p:cNvSpPr/>
                <p:nvPr/>
              </p:nvSpPr>
              <p:spPr>
                <a:xfrm>
                  <a:off x="728640" y="28098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3" name=""/>
              <p:cNvGrpSpPr/>
              <p:nvPr/>
            </p:nvGrpSpPr>
            <p:grpSpPr>
              <a:xfrm>
                <a:off x="601560" y="2852640"/>
                <a:ext cx="231840" cy="157320"/>
                <a:chOff x="601560" y="2852640"/>
                <a:chExt cx="231840" cy="157320"/>
              </a:xfrm>
            </p:grpSpPr>
            <p:sp>
              <p:nvSpPr>
                <p:cNvPr id="3334" name=""/>
                <p:cNvSpPr/>
                <p:nvPr/>
              </p:nvSpPr>
              <p:spPr>
                <a:xfrm>
                  <a:off x="601560" y="2852640"/>
                  <a:ext cx="231840" cy="15732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5" name=""/>
                <p:cNvSpPr/>
                <p:nvPr/>
              </p:nvSpPr>
              <p:spPr>
                <a:xfrm>
                  <a:off x="601560" y="2859120"/>
                  <a:ext cx="50760" cy="146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6" name=""/>
                <p:cNvSpPr/>
                <p:nvPr/>
              </p:nvSpPr>
              <p:spPr>
                <a:xfrm flipV="1">
                  <a:off x="601560" y="2860200"/>
                  <a:ext cx="23040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7" name=""/>
                <p:cNvSpPr/>
                <p:nvPr/>
              </p:nvSpPr>
              <p:spPr>
                <a:xfrm>
                  <a:off x="612720" y="2870280"/>
                  <a:ext cx="219240" cy="13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38" name=""/>
            <p:cNvSpPr/>
            <p:nvPr/>
          </p:nvSpPr>
          <p:spPr>
            <a:xfrm>
              <a:off x="966960" y="2722680"/>
              <a:ext cx="164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968400" y="2011320"/>
              <a:ext cx="1378440" cy="1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I French 19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1" name=""/>
          <p:cNvGrpSpPr/>
          <p:nvPr/>
        </p:nvGrpSpPr>
        <p:grpSpPr>
          <a:xfrm>
            <a:off x="3297240" y="271440"/>
            <a:ext cx="2657520" cy="882720"/>
            <a:chOff x="3297240" y="271440"/>
            <a:chExt cx="2657520" cy="882720"/>
          </a:xfrm>
        </p:grpSpPr>
        <p:sp>
          <p:nvSpPr>
            <p:cNvPr id="3342" name=""/>
            <p:cNvSpPr/>
            <p:nvPr/>
          </p:nvSpPr>
          <p:spPr>
            <a:xfrm>
              <a:off x="3427560" y="1068480"/>
              <a:ext cx="244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652920" y="344880"/>
              <a:ext cx="20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 WW1-ME-FR02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Company, 19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836880" y="58752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3823920" y="722160"/>
              <a:ext cx="1377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WW1-FR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3446640" y="763560"/>
              <a:ext cx="153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 flipH="1">
              <a:off x="3441240" y="484200"/>
              <a:ext cx="1800" cy="57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8" name=""/>
            <p:cNvGrpSpPr/>
            <p:nvPr/>
          </p:nvGrpSpPr>
          <p:grpSpPr>
            <a:xfrm>
              <a:off x="3297240" y="271440"/>
              <a:ext cx="299520" cy="252360"/>
              <a:chOff x="3297240" y="271440"/>
              <a:chExt cx="299520" cy="252360"/>
            </a:xfrm>
          </p:grpSpPr>
          <p:sp>
            <p:nvSpPr>
              <p:cNvPr id="3349" name=""/>
              <p:cNvSpPr/>
              <p:nvPr/>
            </p:nvSpPr>
            <p:spPr>
              <a:xfrm>
                <a:off x="3445920" y="2714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50" name=""/>
              <p:cNvGrpSpPr/>
              <p:nvPr/>
            </p:nvGrpSpPr>
            <p:grpSpPr>
              <a:xfrm>
                <a:off x="3297240" y="330120"/>
                <a:ext cx="299520" cy="193680"/>
                <a:chOff x="3297240" y="330120"/>
                <a:chExt cx="299520" cy="193680"/>
              </a:xfrm>
            </p:grpSpPr>
            <p:sp>
              <p:nvSpPr>
                <p:cNvPr id="3351" name=""/>
                <p:cNvSpPr/>
                <p:nvPr/>
              </p:nvSpPr>
              <p:spPr>
                <a:xfrm>
                  <a:off x="3297240" y="330120"/>
                  <a:ext cx="299520" cy="19368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2" name=""/>
                <p:cNvSpPr/>
                <p:nvPr/>
              </p:nvSpPr>
              <p:spPr>
                <a:xfrm flipV="1">
                  <a:off x="3300120" y="333000"/>
                  <a:ext cx="291600" cy="18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3" name=""/>
                <p:cNvSpPr/>
                <p:nvPr/>
              </p:nvSpPr>
              <p:spPr>
                <a:xfrm>
                  <a:off x="3297240" y="333000"/>
                  <a:ext cx="29808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54" name=""/>
            <p:cNvGrpSpPr/>
            <p:nvPr/>
          </p:nvGrpSpPr>
          <p:grpSpPr>
            <a:xfrm>
              <a:off x="3544920" y="932040"/>
              <a:ext cx="280800" cy="222120"/>
              <a:chOff x="3544920" y="932040"/>
              <a:chExt cx="280800" cy="222120"/>
            </a:xfrm>
          </p:grpSpPr>
          <p:grpSp>
            <p:nvGrpSpPr>
              <p:cNvPr id="3355" name=""/>
              <p:cNvGrpSpPr/>
              <p:nvPr/>
            </p:nvGrpSpPr>
            <p:grpSpPr>
              <a:xfrm>
                <a:off x="3616200" y="932040"/>
                <a:ext cx="137880" cy="26640"/>
                <a:chOff x="3616200" y="932040"/>
                <a:chExt cx="137880" cy="26640"/>
              </a:xfrm>
            </p:grpSpPr>
            <p:sp>
              <p:nvSpPr>
                <p:cNvPr id="3356" name=""/>
                <p:cNvSpPr/>
                <p:nvPr/>
              </p:nvSpPr>
              <p:spPr>
                <a:xfrm>
                  <a:off x="3616200" y="93204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7" name=""/>
                <p:cNvSpPr/>
                <p:nvPr/>
              </p:nvSpPr>
              <p:spPr>
                <a:xfrm>
                  <a:off x="3669120" y="932040"/>
                  <a:ext cx="2952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8" name=""/>
                <p:cNvSpPr/>
                <p:nvPr/>
              </p:nvSpPr>
              <p:spPr>
                <a:xfrm>
                  <a:off x="3726000" y="93204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9" name=""/>
              <p:cNvGrpSpPr/>
              <p:nvPr/>
            </p:nvGrpSpPr>
            <p:grpSpPr>
              <a:xfrm>
                <a:off x="3544920" y="974880"/>
                <a:ext cx="280800" cy="179280"/>
                <a:chOff x="3544920" y="974880"/>
                <a:chExt cx="280800" cy="179280"/>
              </a:xfrm>
            </p:grpSpPr>
            <p:sp>
              <p:nvSpPr>
                <p:cNvPr id="3360" name=""/>
                <p:cNvSpPr/>
                <p:nvPr/>
              </p:nvSpPr>
              <p:spPr>
                <a:xfrm>
                  <a:off x="3544920" y="974880"/>
                  <a:ext cx="280800" cy="17928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1" name=""/>
                <p:cNvSpPr/>
                <p:nvPr/>
              </p:nvSpPr>
              <p:spPr>
                <a:xfrm flipV="1">
                  <a:off x="3547800" y="977040"/>
                  <a:ext cx="273600" cy="17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2" name=""/>
                <p:cNvSpPr/>
                <p:nvPr/>
              </p:nvSpPr>
              <p:spPr>
                <a:xfrm>
                  <a:off x="3544920" y="977400"/>
                  <a:ext cx="279360" cy="17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63" name=""/>
            <p:cNvGrpSpPr/>
            <p:nvPr/>
          </p:nvGrpSpPr>
          <p:grpSpPr>
            <a:xfrm>
              <a:off x="3540240" y="636480"/>
              <a:ext cx="252360" cy="219240"/>
              <a:chOff x="3540240" y="636480"/>
              <a:chExt cx="252360" cy="219240"/>
            </a:xfrm>
          </p:grpSpPr>
          <p:sp>
            <p:nvSpPr>
              <p:cNvPr id="3364" name=""/>
              <p:cNvSpPr/>
              <p:nvPr/>
            </p:nvSpPr>
            <p:spPr>
              <a:xfrm>
                <a:off x="3651120" y="6364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3540240" y="696960"/>
                <a:ext cx="252360" cy="1587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6" name=""/>
            <p:cNvSpPr/>
            <p:nvPr/>
          </p:nvSpPr>
          <p:spPr>
            <a:xfrm>
              <a:off x="3871800" y="1018080"/>
              <a:ext cx="20829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Infantry Platoon ‘15  WW1-SME-FR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7" name=""/>
          <p:cNvGrpSpPr/>
          <p:nvPr/>
        </p:nvGrpSpPr>
        <p:grpSpPr>
          <a:xfrm>
            <a:off x="320760" y="517680"/>
            <a:ext cx="2854080" cy="1001160"/>
            <a:chOff x="320760" y="517680"/>
            <a:chExt cx="2854080" cy="1001160"/>
          </a:xfrm>
        </p:grpSpPr>
        <p:sp>
          <p:nvSpPr>
            <p:cNvPr id="3368" name=""/>
            <p:cNvSpPr/>
            <p:nvPr/>
          </p:nvSpPr>
          <p:spPr>
            <a:xfrm>
              <a:off x="776160" y="568800"/>
              <a:ext cx="178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le Group- WW1-BG-FR03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Regiment, 19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485640" y="749160"/>
              <a:ext cx="0" cy="64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1042920" y="1222200"/>
              <a:ext cx="164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ATTLE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1042920" y="92232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1039680" y="1057320"/>
              <a:ext cx="184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 WW1-FR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493560" y="110664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1038600" y="1350720"/>
              <a:ext cx="213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3 Infantry Battalion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‘1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W1-BG-FR0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85640" y="1401840"/>
              <a:ext cx="311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6" name=""/>
            <p:cNvGrpSpPr/>
            <p:nvPr/>
          </p:nvGrpSpPr>
          <p:grpSpPr>
            <a:xfrm>
              <a:off x="681120" y="961920"/>
              <a:ext cx="237960" cy="219240"/>
              <a:chOff x="681120" y="961920"/>
              <a:chExt cx="237960" cy="219240"/>
            </a:xfrm>
          </p:grpSpPr>
          <p:sp>
            <p:nvSpPr>
              <p:cNvPr id="3377" name=""/>
              <p:cNvSpPr/>
              <p:nvPr/>
            </p:nvSpPr>
            <p:spPr>
              <a:xfrm>
                <a:off x="785880" y="961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681120" y="1022400"/>
                <a:ext cx="237960" cy="1587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9" name=""/>
            <p:cNvGrpSpPr/>
            <p:nvPr/>
          </p:nvGrpSpPr>
          <p:grpSpPr>
            <a:xfrm>
              <a:off x="619200" y="1227240"/>
              <a:ext cx="347400" cy="291600"/>
              <a:chOff x="619200" y="1227240"/>
              <a:chExt cx="347400" cy="291600"/>
            </a:xfrm>
          </p:grpSpPr>
          <p:grpSp>
            <p:nvGrpSpPr>
              <p:cNvPr id="3380" name=""/>
              <p:cNvGrpSpPr/>
              <p:nvPr/>
            </p:nvGrpSpPr>
            <p:grpSpPr>
              <a:xfrm>
                <a:off x="755640" y="1227240"/>
                <a:ext cx="76320" cy="63360"/>
                <a:chOff x="755640" y="1227240"/>
                <a:chExt cx="76320" cy="63360"/>
              </a:xfrm>
            </p:grpSpPr>
            <p:sp>
              <p:nvSpPr>
                <p:cNvPr id="3381" name=""/>
                <p:cNvSpPr/>
                <p:nvPr/>
              </p:nvSpPr>
              <p:spPr>
                <a:xfrm>
                  <a:off x="755640" y="12272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831960" y="12272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3" name=""/>
              <p:cNvGrpSpPr/>
              <p:nvPr/>
            </p:nvGrpSpPr>
            <p:grpSpPr>
              <a:xfrm>
                <a:off x="619200" y="1282680"/>
                <a:ext cx="347400" cy="236160"/>
                <a:chOff x="619200" y="1282680"/>
                <a:chExt cx="347400" cy="236160"/>
              </a:xfrm>
            </p:grpSpPr>
            <p:sp>
              <p:nvSpPr>
                <p:cNvPr id="3384" name=""/>
                <p:cNvSpPr/>
                <p:nvPr/>
              </p:nvSpPr>
              <p:spPr>
                <a:xfrm>
                  <a:off x="619200" y="1282680"/>
                  <a:ext cx="347400" cy="2361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 flipV="1">
                  <a:off x="622800" y="1286280"/>
                  <a:ext cx="33876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>
                  <a:off x="619200" y="1286280"/>
                  <a:ext cx="34596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87" name=""/>
            <p:cNvGrpSpPr/>
            <p:nvPr/>
          </p:nvGrpSpPr>
          <p:grpSpPr>
            <a:xfrm>
              <a:off x="320760" y="517680"/>
              <a:ext cx="347040" cy="298080"/>
              <a:chOff x="320760" y="517680"/>
              <a:chExt cx="347040" cy="298080"/>
            </a:xfrm>
          </p:grpSpPr>
          <p:grpSp>
            <p:nvGrpSpPr>
              <p:cNvPr id="3388" name=""/>
              <p:cNvGrpSpPr/>
              <p:nvPr/>
            </p:nvGrpSpPr>
            <p:grpSpPr>
              <a:xfrm>
                <a:off x="320760" y="579600"/>
                <a:ext cx="347040" cy="236160"/>
                <a:chOff x="320760" y="579600"/>
                <a:chExt cx="347040" cy="236160"/>
              </a:xfrm>
            </p:grpSpPr>
            <p:sp>
              <p:nvSpPr>
                <p:cNvPr id="3389" name=""/>
                <p:cNvSpPr/>
                <p:nvPr/>
              </p:nvSpPr>
              <p:spPr>
                <a:xfrm>
                  <a:off x="320760" y="579600"/>
                  <a:ext cx="347040" cy="2361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0" name=""/>
                <p:cNvSpPr/>
                <p:nvPr/>
              </p:nvSpPr>
              <p:spPr>
                <a:xfrm flipV="1">
                  <a:off x="324360" y="583200"/>
                  <a:ext cx="33840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>
                  <a:off x="320760" y="583200"/>
                  <a:ext cx="34560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2" name=""/>
              <p:cNvGrpSpPr/>
              <p:nvPr/>
            </p:nvGrpSpPr>
            <p:grpSpPr>
              <a:xfrm>
                <a:off x="428760" y="517680"/>
                <a:ext cx="131760" cy="63360"/>
                <a:chOff x="428760" y="517680"/>
                <a:chExt cx="131760" cy="63360"/>
              </a:xfrm>
            </p:grpSpPr>
            <p:sp>
              <p:nvSpPr>
                <p:cNvPr id="3393" name=""/>
                <p:cNvSpPr/>
                <p:nvPr/>
              </p:nvSpPr>
              <p:spPr>
                <a:xfrm>
                  <a:off x="495360" y="517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94" name=""/>
                <p:cNvGrpSpPr/>
                <p:nvPr/>
              </p:nvGrpSpPr>
              <p:grpSpPr>
                <a:xfrm>
                  <a:off x="428760" y="517680"/>
                  <a:ext cx="131760" cy="63360"/>
                  <a:chOff x="428760" y="517680"/>
                  <a:chExt cx="131760" cy="63360"/>
                </a:xfrm>
              </p:grpSpPr>
              <p:sp>
                <p:nvSpPr>
                  <p:cNvPr id="3395" name=""/>
                  <p:cNvSpPr/>
                  <p:nvPr/>
                </p:nvSpPr>
                <p:spPr>
                  <a:xfrm>
                    <a:off x="428760" y="5176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6" name=""/>
                  <p:cNvSpPr/>
                  <p:nvPr/>
                </p:nvSpPr>
                <p:spPr>
                  <a:xfrm>
                    <a:off x="560520" y="5176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397" name=""/>
            <p:cNvSpPr/>
            <p:nvPr/>
          </p:nvSpPr>
          <p:spPr>
            <a:xfrm>
              <a:off x="1044360" y="806400"/>
              <a:ext cx="1378440" cy="1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8" name=""/>
          <p:cNvGrpSpPr/>
          <p:nvPr/>
        </p:nvGrpSpPr>
        <p:grpSpPr>
          <a:xfrm>
            <a:off x="252360" y="1704960"/>
            <a:ext cx="2734200" cy="1305000"/>
            <a:chOff x="252360" y="1704960"/>
            <a:chExt cx="2734200" cy="1305000"/>
          </a:xfrm>
        </p:grpSpPr>
        <p:sp>
          <p:nvSpPr>
            <p:cNvPr id="3399" name=""/>
            <p:cNvSpPr/>
            <p:nvPr/>
          </p:nvSpPr>
          <p:spPr>
            <a:xfrm>
              <a:off x="708120" y="1749960"/>
              <a:ext cx="186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le Group- WW1-BG-FRB04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Battalion, 19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425520" y="1911240"/>
              <a:ext cx="324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974880" y="2432160"/>
              <a:ext cx="164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974880" y="213192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971640" y="2266920"/>
              <a:ext cx="184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 WW1-FR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425520" y="231624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972720" y="2567160"/>
              <a:ext cx="201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Infantry Company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‘15   WW1-ME-FR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417600" y="261144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7" name=""/>
            <p:cNvGrpSpPr/>
            <p:nvPr/>
          </p:nvGrpSpPr>
          <p:grpSpPr>
            <a:xfrm>
              <a:off x="612720" y="2171880"/>
              <a:ext cx="238320" cy="218880"/>
              <a:chOff x="612720" y="2171880"/>
              <a:chExt cx="238320" cy="218880"/>
            </a:xfrm>
          </p:grpSpPr>
          <p:sp>
            <p:nvSpPr>
              <p:cNvPr id="3408" name=""/>
              <p:cNvSpPr/>
              <p:nvPr/>
            </p:nvSpPr>
            <p:spPr>
              <a:xfrm>
                <a:off x="717480" y="21718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612720" y="2232000"/>
                <a:ext cx="238320" cy="1587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0" name=""/>
            <p:cNvGrpSpPr/>
            <p:nvPr/>
          </p:nvGrpSpPr>
          <p:grpSpPr>
            <a:xfrm>
              <a:off x="252360" y="1704960"/>
              <a:ext cx="347400" cy="291600"/>
              <a:chOff x="252360" y="1704960"/>
              <a:chExt cx="347400" cy="291600"/>
            </a:xfrm>
          </p:grpSpPr>
          <p:grpSp>
            <p:nvGrpSpPr>
              <p:cNvPr id="3411" name=""/>
              <p:cNvGrpSpPr/>
              <p:nvPr/>
            </p:nvGrpSpPr>
            <p:grpSpPr>
              <a:xfrm>
                <a:off x="388800" y="1704960"/>
                <a:ext cx="76320" cy="63360"/>
                <a:chOff x="388800" y="1704960"/>
                <a:chExt cx="76320" cy="63360"/>
              </a:xfrm>
            </p:grpSpPr>
            <p:sp>
              <p:nvSpPr>
                <p:cNvPr id="3412" name=""/>
                <p:cNvSpPr/>
                <p:nvPr/>
              </p:nvSpPr>
              <p:spPr>
                <a:xfrm>
                  <a:off x="388800" y="17049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3" name=""/>
                <p:cNvSpPr/>
                <p:nvPr/>
              </p:nvSpPr>
              <p:spPr>
                <a:xfrm>
                  <a:off x="465120" y="17049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4" name=""/>
              <p:cNvGrpSpPr/>
              <p:nvPr/>
            </p:nvGrpSpPr>
            <p:grpSpPr>
              <a:xfrm>
                <a:off x="252360" y="1760400"/>
                <a:ext cx="347400" cy="236160"/>
                <a:chOff x="252360" y="1760400"/>
                <a:chExt cx="347400" cy="236160"/>
              </a:xfrm>
            </p:grpSpPr>
            <p:sp>
              <p:nvSpPr>
                <p:cNvPr id="3415" name=""/>
                <p:cNvSpPr/>
                <p:nvPr/>
              </p:nvSpPr>
              <p:spPr>
                <a:xfrm>
                  <a:off x="252360" y="1760400"/>
                  <a:ext cx="347400" cy="2361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6" name=""/>
                <p:cNvSpPr/>
                <p:nvPr/>
              </p:nvSpPr>
              <p:spPr>
                <a:xfrm flipV="1">
                  <a:off x="255960" y="1764000"/>
                  <a:ext cx="33876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7" name=""/>
                <p:cNvSpPr/>
                <p:nvPr/>
              </p:nvSpPr>
              <p:spPr>
                <a:xfrm>
                  <a:off x="252360" y="1764000"/>
                  <a:ext cx="34596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18" name=""/>
            <p:cNvGrpSpPr/>
            <p:nvPr/>
          </p:nvGrpSpPr>
          <p:grpSpPr>
            <a:xfrm>
              <a:off x="579600" y="2454120"/>
              <a:ext cx="284040" cy="252360"/>
              <a:chOff x="579600" y="2454120"/>
              <a:chExt cx="284040" cy="252360"/>
            </a:xfrm>
          </p:grpSpPr>
          <p:sp>
            <p:nvSpPr>
              <p:cNvPr id="3419" name=""/>
              <p:cNvSpPr/>
              <p:nvPr/>
            </p:nvSpPr>
            <p:spPr>
              <a:xfrm>
                <a:off x="720720" y="24541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20" name=""/>
              <p:cNvGrpSpPr/>
              <p:nvPr/>
            </p:nvGrpSpPr>
            <p:grpSpPr>
              <a:xfrm>
                <a:off x="579600" y="2512800"/>
                <a:ext cx="284040" cy="193680"/>
                <a:chOff x="579600" y="2512800"/>
                <a:chExt cx="284040" cy="193680"/>
              </a:xfrm>
            </p:grpSpPr>
            <p:sp>
              <p:nvSpPr>
                <p:cNvPr id="3421" name=""/>
                <p:cNvSpPr/>
                <p:nvPr/>
              </p:nvSpPr>
              <p:spPr>
                <a:xfrm>
                  <a:off x="579600" y="2512800"/>
                  <a:ext cx="284040" cy="19368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2" name=""/>
                <p:cNvSpPr/>
                <p:nvPr/>
              </p:nvSpPr>
              <p:spPr>
                <a:xfrm flipV="1">
                  <a:off x="582480" y="251568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>
                  <a:off x="579600" y="251568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24" name=""/>
            <p:cNvSpPr/>
            <p:nvPr/>
          </p:nvSpPr>
          <p:spPr>
            <a:xfrm>
              <a:off x="417600" y="292428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948960" y="2868480"/>
              <a:ext cx="1864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-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tchkiss MG                WW1-FR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6" name=""/>
            <p:cNvGrpSpPr/>
            <p:nvPr/>
          </p:nvGrpSpPr>
          <p:grpSpPr>
            <a:xfrm>
              <a:off x="601560" y="2808360"/>
              <a:ext cx="231840" cy="201600"/>
              <a:chOff x="601560" y="2808360"/>
              <a:chExt cx="231840" cy="201600"/>
            </a:xfrm>
          </p:grpSpPr>
          <p:grpSp>
            <p:nvGrpSpPr>
              <p:cNvPr id="3427" name=""/>
              <p:cNvGrpSpPr/>
              <p:nvPr/>
            </p:nvGrpSpPr>
            <p:grpSpPr>
              <a:xfrm>
                <a:off x="681120" y="2808360"/>
                <a:ext cx="74520" cy="28080"/>
                <a:chOff x="681120" y="2808360"/>
                <a:chExt cx="74520" cy="28080"/>
              </a:xfrm>
            </p:grpSpPr>
            <p:sp>
              <p:nvSpPr>
                <p:cNvPr id="3428" name=""/>
                <p:cNvSpPr/>
                <p:nvPr/>
              </p:nvSpPr>
              <p:spPr>
                <a:xfrm>
                  <a:off x="681120" y="28083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728640" y="28098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0" name=""/>
              <p:cNvGrpSpPr/>
              <p:nvPr/>
            </p:nvGrpSpPr>
            <p:grpSpPr>
              <a:xfrm>
                <a:off x="601560" y="2852640"/>
                <a:ext cx="231840" cy="157320"/>
                <a:chOff x="601560" y="2852640"/>
                <a:chExt cx="231840" cy="157320"/>
              </a:xfrm>
            </p:grpSpPr>
            <p:sp>
              <p:nvSpPr>
                <p:cNvPr id="3431" name=""/>
                <p:cNvSpPr/>
                <p:nvPr/>
              </p:nvSpPr>
              <p:spPr>
                <a:xfrm>
                  <a:off x="601560" y="2852640"/>
                  <a:ext cx="231840" cy="15732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>
                  <a:off x="601560" y="2859120"/>
                  <a:ext cx="50760" cy="146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 flipV="1">
                  <a:off x="601560" y="2860200"/>
                  <a:ext cx="23040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612720" y="2870280"/>
                  <a:ext cx="219240" cy="13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35" name=""/>
            <p:cNvSpPr/>
            <p:nvPr/>
          </p:nvSpPr>
          <p:spPr>
            <a:xfrm>
              <a:off x="966960" y="2722680"/>
              <a:ext cx="164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968400" y="2011320"/>
              <a:ext cx="1378440" cy="1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7" name=""/>
          <p:cNvGrpSpPr/>
          <p:nvPr/>
        </p:nvGrpSpPr>
        <p:grpSpPr>
          <a:xfrm>
            <a:off x="3533760" y="1274760"/>
            <a:ext cx="2847960" cy="745920"/>
            <a:chOff x="3533760" y="1274760"/>
            <a:chExt cx="2847960" cy="745920"/>
          </a:xfrm>
        </p:grpSpPr>
        <p:sp>
          <p:nvSpPr>
            <p:cNvPr id="3438" name=""/>
            <p:cNvSpPr/>
            <p:nvPr/>
          </p:nvSpPr>
          <p:spPr>
            <a:xfrm>
              <a:off x="3666960" y="1944720"/>
              <a:ext cx="371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3666960" y="1401840"/>
              <a:ext cx="0" cy="53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3666960" y="1706400"/>
              <a:ext cx="371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1" name=""/>
            <p:cNvGrpSpPr/>
            <p:nvPr/>
          </p:nvGrpSpPr>
          <p:grpSpPr>
            <a:xfrm>
              <a:off x="3946680" y="1584360"/>
              <a:ext cx="231480" cy="198360"/>
              <a:chOff x="3946680" y="1584360"/>
              <a:chExt cx="231480" cy="198360"/>
            </a:xfrm>
          </p:grpSpPr>
          <p:grpSp>
            <p:nvGrpSpPr>
              <p:cNvPr id="3442" name=""/>
              <p:cNvGrpSpPr/>
              <p:nvPr/>
            </p:nvGrpSpPr>
            <p:grpSpPr>
              <a:xfrm>
                <a:off x="3946680" y="1625760"/>
                <a:ext cx="231480" cy="156960"/>
                <a:chOff x="3946680" y="1625760"/>
                <a:chExt cx="231480" cy="156960"/>
              </a:xfrm>
            </p:grpSpPr>
            <p:sp>
              <p:nvSpPr>
                <p:cNvPr id="3443" name=""/>
                <p:cNvSpPr/>
                <p:nvPr/>
              </p:nvSpPr>
              <p:spPr>
                <a:xfrm>
                  <a:off x="3946680" y="1625760"/>
                  <a:ext cx="231480" cy="1569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 flipV="1">
                  <a:off x="3948840" y="1627920"/>
                  <a:ext cx="22536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>
                  <a:off x="3946680" y="1627920"/>
                  <a:ext cx="230400" cy="14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6" name=""/>
              <p:cNvGrpSpPr/>
              <p:nvPr/>
            </p:nvGrpSpPr>
            <p:grpSpPr>
              <a:xfrm>
                <a:off x="4024440" y="1584360"/>
                <a:ext cx="74520" cy="27000"/>
                <a:chOff x="4024440" y="1584360"/>
                <a:chExt cx="74520" cy="27000"/>
              </a:xfrm>
            </p:grpSpPr>
            <p:sp>
              <p:nvSpPr>
                <p:cNvPr id="3447" name=""/>
                <p:cNvSpPr/>
                <p:nvPr/>
              </p:nvSpPr>
              <p:spPr>
                <a:xfrm>
                  <a:off x="4024440" y="15843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>
                  <a:off x="4071960" y="15843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49" name=""/>
            <p:cNvGrpSpPr/>
            <p:nvPr/>
          </p:nvGrpSpPr>
          <p:grpSpPr>
            <a:xfrm>
              <a:off x="3533760" y="1274760"/>
              <a:ext cx="264960" cy="222120"/>
              <a:chOff x="3533760" y="1274760"/>
              <a:chExt cx="264960" cy="222120"/>
            </a:xfrm>
          </p:grpSpPr>
          <p:grpSp>
            <p:nvGrpSpPr>
              <p:cNvPr id="3450" name=""/>
              <p:cNvGrpSpPr/>
              <p:nvPr/>
            </p:nvGrpSpPr>
            <p:grpSpPr>
              <a:xfrm>
                <a:off x="3600360" y="1274760"/>
                <a:ext cx="131760" cy="27000"/>
                <a:chOff x="3600360" y="1274760"/>
                <a:chExt cx="131760" cy="27000"/>
              </a:xfrm>
            </p:grpSpPr>
            <p:sp>
              <p:nvSpPr>
                <p:cNvPr id="3451" name=""/>
                <p:cNvSpPr/>
                <p:nvPr/>
              </p:nvSpPr>
              <p:spPr>
                <a:xfrm>
                  <a:off x="3600360" y="12747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>
                  <a:off x="3651120" y="12747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>
                  <a:off x="3705120" y="12747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4" name=""/>
              <p:cNvGrpSpPr/>
              <p:nvPr/>
            </p:nvGrpSpPr>
            <p:grpSpPr>
              <a:xfrm>
                <a:off x="3533760" y="1317600"/>
                <a:ext cx="264960" cy="179280"/>
                <a:chOff x="3533760" y="1317600"/>
                <a:chExt cx="264960" cy="179280"/>
              </a:xfrm>
            </p:grpSpPr>
            <p:sp>
              <p:nvSpPr>
                <p:cNvPr id="3455" name=""/>
                <p:cNvSpPr/>
                <p:nvPr/>
              </p:nvSpPr>
              <p:spPr>
                <a:xfrm>
                  <a:off x="3533760" y="1317600"/>
                  <a:ext cx="264960" cy="17928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 flipV="1">
                  <a:off x="3536280" y="1319760"/>
                  <a:ext cx="258120" cy="17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>
                  <a:off x="3533760" y="1320120"/>
                  <a:ext cx="263520" cy="17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58" name=""/>
            <p:cNvSpPr/>
            <p:nvPr/>
          </p:nvSpPr>
          <p:spPr>
            <a:xfrm>
              <a:off x="3956040" y="1281600"/>
              <a:ext cx="242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ubmaneuver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Element WW1-SME-FR02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Platoon, 19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4260960" y="1649520"/>
              <a:ext cx="12952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ifle              WW1-FR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0" name=""/>
            <p:cNvGrpSpPr/>
            <p:nvPr/>
          </p:nvGrpSpPr>
          <p:grpSpPr>
            <a:xfrm>
              <a:off x="3946680" y="1822320"/>
              <a:ext cx="231480" cy="198360"/>
              <a:chOff x="3946680" y="1822320"/>
              <a:chExt cx="231480" cy="198360"/>
            </a:xfrm>
          </p:grpSpPr>
          <p:grpSp>
            <p:nvGrpSpPr>
              <p:cNvPr id="3461" name=""/>
              <p:cNvGrpSpPr/>
              <p:nvPr/>
            </p:nvGrpSpPr>
            <p:grpSpPr>
              <a:xfrm>
                <a:off x="3946680" y="1863720"/>
                <a:ext cx="231480" cy="156960"/>
                <a:chOff x="3946680" y="1863720"/>
                <a:chExt cx="231480" cy="156960"/>
              </a:xfrm>
            </p:grpSpPr>
            <p:sp>
              <p:nvSpPr>
                <p:cNvPr id="3462" name=""/>
                <p:cNvSpPr/>
                <p:nvPr/>
              </p:nvSpPr>
              <p:spPr>
                <a:xfrm>
                  <a:off x="3946680" y="1863720"/>
                  <a:ext cx="231480" cy="1569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 flipV="1">
                  <a:off x="3948840" y="1865880"/>
                  <a:ext cx="22536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>
                  <a:off x="3946680" y="1865880"/>
                  <a:ext cx="230400" cy="14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5" name=""/>
              <p:cNvGrpSpPr/>
              <p:nvPr/>
            </p:nvGrpSpPr>
            <p:grpSpPr>
              <a:xfrm>
                <a:off x="4024440" y="1822320"/>
                <a:ext cx="74520" cy="27000"/>
                <a:chOff x="4024440" y="1822320"/>
                <a:chExt cx="74520" cy="27000"/>
              </a:xfrm>
            </p:grpSpPr>
            <p:sp>
              <p:nvSpPr>
                <p:cNvPr id="3466" name=""/>
                <p:cNvSpPr/>
                <p:nvPr/>
              </p:nvSpPr>
              <p:spPr>
                <a:xfrm>
                  <a:off x="4024440" y="18223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>
                  <a:off x="4071960" y="18223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68" name=""/>
            <p:cNvSpPr/>
            <p:nvPr/>
          </p:nvSpPr>
          <p:spPr>
            <a:xfrm>
              <a:off x="4260960" y="1887480"/>
              <a:ext cx="12952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renadier     WW1-FR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"/>
          <p:cNvSpPr/>
          <p:nvPr/>
        </p:nvSpPr>
        <p:spPr>
          <a:xfrm>
            <a:off x="485640" y="1754280"/>
            <a:ext cx="311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I French April 1916-19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776160" y="568800"/>
            <a:ext cx="178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FR05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Regiment, 1916-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485640" y="749160"/>
            <a:ext cx="0" cy="98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1042920" y="1222200"/>
            <a:ext cx="164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LE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1042920" y="92232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1039680" y="1057320"/>
            <a:ext cx="1840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 WW1-FR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493560" y="1106640"/>
            <a:ext cx="274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1037880" y="1350720"/>
            <a:ext cx="232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3 Infantry Battal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‘16-'18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W1-BG-FR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485640" y="1401840"/>
            <a:ext cx="311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9" name=""/>
          <p:cNvGrpSpPr/>
          <p:nvPr/>
        </p:nvGrpSpPr>
        <p:grpSpPr>
          <a:xfrm>
            <a:off x="681120" y="961920"/>
            <a:ext cx="237960" cy="219240"/>
            <a:chOff x="681120" y="961920"/>
            <a:chExt cx="237960" cy="219240"/>
          </a:xfrm>
        </p:grpSpPr>
        <p:sp>
          <p:nvSpPr>
            <p:cNvPr id="3480" name=""/>
            <p:cNvSpPr/>
            <p:nvPr/>
          </p:nvSpPr>
          <p:spPr>
            <a:xfrm>
              <a:off x="785880" y="9619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681120" y="1022400"/>
              <a:ext cx="237960" cy="1587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2" name=""/>
          <p:cNvSpPr/>
          <p:nvPr/>
        </p:nvSpPr>
        <p:spPr>
          <a:xfrm>
            <a:off x="4452840" y="278280"/>
            <a:ext cx="208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 WW1-ME-FR0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Company, 1916-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4637160" y="52056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4624200" y="655560"/>
            <a:ext cx="1377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WW1-FR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4246560" y="696960"/>
            <a:ext cx="154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 flipH="1">
            <a:off x="4239720" y="417600"/>
            <a:ext cx="3240" cy="115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7" name=""/>
          <p:cNvGrpSpPr/>
          <p:nvPr/>
        </p:nvGrpSpPr>
        <p:grpSpPr>
          <a:xfrm>
            <a:off x="4097160" y="204840"/>
            <a:ext cx="299880" cy="252360"/>
            <a:chOff x="4097160" y="204840"/>
            <a:chExt cx="299880" cy="252360"/>
          </a:xfrm>
        </p:grpSpPr>
        <p:sp>
          <p:nvSpPr>
            <p:cNvPr id="3488" name=""/>
            <p:cNvSpPr/>
            <p:nvPr/>
          </p:nvSpPr>
          <p:spPr>
            <a:xfrm>
              <a:off x="4246200" y="2048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9" name=""/>
            <p:cNvGrpSpPr/>
            <p:nvPr/>
          </p:nvGrpSpPr>
          <p:grpSpPr>
            <a:xfrm>
              <a:off x="4097160" y="263520"/>
              <a:ext cx="299880" cy="193680"/>
              <a:chOff x="4097160" y="263520"/>
              <a:chExt cx="299880" cy="193680"/>
            </a:xfrm>
          </p:grpSpPr>
          <p:sp>
            <p:nvSpPr>
              <p:cNvPr id="3490" name=""/>
              <p:cNvSpPr/>
              <p:nvPr/>
            </p:nvSpPr>
            <p:spPr>
              <a:xfrm>
                <a:off x="4097160" y="263520"/>
                <a:ext cx="299880" cy="19368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 flipV="1">
                <a:off x="4100040" y="266400"/>
                <a:ext cx="29196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4097160" y="266400"/>
                <a:ext cx="29844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93" name=""/>
          <p:cNvGrpSpPr/>
          <p:nvPr/>
        </p:nvGrpSpPr>
        <p:grpSpPr>
          <a:xfrm>
            <a:off x="4340160" y="569880"/>
            <a:ext cx="252360" cy="219240"/>
            <a:chOff x="4340160" y="569880"/>
            <a:chExt cx="252360" cy="219240"/>
          </a:xfrm>
        </p:grpSpPr>
        <p:sp>
          <p:nvSpPr>
            <p:cNvPr id="3494" name=""/>
            <p:cNvSpPr/>
            <p:nvPr/>
          </p:nvSpPr>
          <p:spPr>
            <a:xfrm>
              <a:off x="4451040" y="5698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4340160" y="630360"/>
              <a:ext cx="252360" cy="1587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6" name=""/>
          <p:cNvSpPr/>
          <p:nvPr/>
        </p:nvSpPr>
        <p:spPr>
          <a:xfrm>
            <a:off x="4227480" y="1001880"/>
            <a:ext cx="244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7" name=""/>
          <p:cNvGrpSpPr/>
          <p:nvPr/>
        </p:nvGrpSpPr>
        <p:grpSpPr>
          <a:xfrm>
            <a:off x="4344840" y="865080"/>
            <a:ext cx="280800" cy="222120"/>
            <a:chOff x="4344840" y="865080"/>
            <a:chExt cx="280800" cy="222120"/>
          </a:xfrm>
        </p:grpSpPr>
        <p:grpSp>
          <p:nvGrpSpPr>
            <p:cNvPr id="3498" name=""/>
            <p:cNvGrpSpPr/>
            <p:nvPr/>
          </p:nvGrpSpPr>
          <p:grpSpPr>
            <a:xfrm>
              <a:off x="4416120" y="865080"/>
              <a:ext cx="137880" cy="26640"/>
              <a:chOff x="4416120" y="865080"/>
              <a:chExt cx="137880" cy="26640"/>
            </a:xfrm>
          </p:grpSpPr>
          <p:sp>
            <p:nvSpPr>
              <p:cNvPr id="3499" name=""/>
              <p:cNvSpPr/>
              <p:nvPr/>
            </p:nvSpPr>
            <p:spPr>
              <a:xfrm>
                <a:off x="4416120" y="865080"/>
                <a:ext cx="2808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4469040" y="865080"/>
                <a:ext cx="2952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4525920" y="865080"/>
                <a:ext cx="2808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2" name=""/>
            <p:cNvGrpSpPr/>
            <p:nvPr/>
          </p:nvGrpSpPr>
          <p:grpSpPr>
            <a:xfrm>
              <a:off x="4344840" y="907920"/>
              <a:ext cx="280800" cy="179280"/>
              <a:chOff x="4344840" y="907920"/>
              <a:chExt cx="280800" cy="179280"/>
            </a:xfrm>
          </p:grpSpPr>
          <p:sp>
            <p:nvSpPr>
              <p:cNvPr id="3503" name=""/>
              <p:cNvSpPr/>
              <p:nvPr/>
            </p:nvSpPr>
            <p:spPr>
              <a:xfrm>
                <a:off x="4344840" y="907920"/>
                <a:ext cx="280800" cy="17928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 flipV="1">
                <a:off x="4347720" y="910080"/>
                <a:ext cx="273600" cy="17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4344840" y="910440"/>
                <a:ext cx="279360" cy="17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6" name=""/>
          <p:cNvSpPr/>
          <p:nvPr/>
        </p:nvSpPr>
        <p:spPr>
          <a:xfrm>
            <a:off x="4672080" y="970200"/>
            <a:ext cx="259704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4 Infantry Platoon Apr‘16-Oct'17  WW1-SME-FR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7" name=""/>
          <p:cNvGrpSpPr/>
          <p:nvPr/>
        </p:nvGrpSpPr>
        <p:grpSpPr>
          <a:xfrm>
            <a:off x="619200" y="1227240"/>
            <a:ext cx="347400" cy="291600"/>
            <a:chOff x="619200" y="1227240"/>
            <a:chExt cx="347400" cy="291600"/>
          </a:xfrm>
        </p:grpSpPr>
        <p:grpSp>
          <p:nvGrpSpPr>
            <p:cNvPr id="3508" name=""/>
            <p:cNvGrpSpPr/>
            <p:nvPr/>
          </p:nvGrpSpPr>
          <p:grpSpPr>
            <a:xfrm>
              <a:off x="755640" y="1227240"/>
              <a:ext cx="76320" cy="63360"/>
              <a:chOff x="755640" y="1227240"/>
              <a:chExt cx="76320" cy="63360"/>
            </a:xfrm>
          </p:grpSpPr>
          <p:sp>
            <p:nvSpPr>
              <p:cNvPr id="3509" name=""/>
              <p:cNvSpPr/>
              <p:nvPr/>
            </p:nvSpPr>
            <p:spPr>
              <a:xfrm>
                <a:off x="755640" y="1227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831960" y="1227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1" name=""/>
            <p:cNvGrpSpPr/>
            <p:nvPr/>
          </p:nvGrpSpPr>
          <p:grpSpPr>
            <a:xfrm>
              <a:off x="619200" y="1282680"/>
              <a:ext cx="347400" cy="236160"/>
              <a:chOff x="619200" y="1282680"/>
              <a:chExt cx="347400" cy="236160"/>
            </a:xfrm>
          </p:grpSpPr>
          <p:sp>
            <p:nvSpPr>
              <p:cNvPr id="3512" name=""/>
              <p:cNvSpPr/>
              <p:nvPr/>
            </p:nvSpPr>
            <p:spPr>
              <a:xfrm>
                <a:off x="619200" y="1282680"/>
                <a:ext cx="347400" cy="2361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 flipV="1">
                <a:off x="622800" y="1286280"/>
                <a:ext cx="33876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619200" y="1286280"/>
                <a:ext cx="34596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15" name=""/>
          <p:cNvGrpSpPr/>
          <p:nvPr/>
        </p:nvGrpSpPr>
        <p:grpSpPr>
          <a:xfrm>
            <a:off x="320760" y="517680"/>
            <a:ext cx="347040" cy="298080"/>
            <a:chOff x="320760" y="517680"/>
            <a:chExt cx="347040" cy="298080"/>
          </a:xfrm>
        </p:grpSpPr>
        <p:grpSp>
          <p:nvGrpSpPr>
            <p:cNvPr id="3516" name=""/>
            <p:cNvGrpSpPr/>
            <p:nvPr/>
          </p:nvGrpSpPr>
          <p:grpSpPr>
            <a:xfrm>
              <a:off x="320760" y="579600"/>
              <a:ext cx="347040" cy="236160"/>
              <a:chOff x="320760" y="579600"/>
              <a:chExt cx="347040" cy="236160"/>
            </a:xfrm>
          </p:grpSpPr>
          <p:sp>
            <p:nvSpPr>
              <p:cNvPr id="3517" name=""/>
              <p:cNvSpPr/>
              <p:nvPr/>
            </p:nvSpPr>
            <p:spPr>
              <a:xfrm>
                <a:off x="320760" y="579600"/>
                <a:ext cx="347040" cy="2361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 flipV="1">
                <a:off x="324360" y="58320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320760" y="58320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0" name=""/>
            <p:cNvGrpSpPr/>
            <p:nvPr/>
          </p:nvGrpSpPr>
          <p:grpSpPr>
            <a:xfrm>
              <a:off x="428760" y="517680"/>
              <a:ext cx="131760" cy="63360"/>
              <a:chOff x="428760" y="517680"/>
              <a:chExt cx="131760" cy="63360"/>
            </a:xfrm>
          </p:grpSpPr>
          <p:sp>
            <p:nvSpPr>
              <p:cNvPr id="3521" name=""/>
              <p:cNvSpPr/>
              <p:nvPr/>
            </p:nvSpPr>
            <p:spPr>
              <a:xfrm>
                <a:off x="495360" y="5176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22" name=""/>
              <p:cNvGrpSpPr/>
              <p:nvPr/>
            </p:nvGrpSpPr>
            <p:grpSpPr>
              <a:xfrm>
                <a:off x="428760" y="517680"/>
                <a:ext cx="131760" cy="63360"/>
                <a:chOff x="428760" y="517680"/>
                <a:chExt cx="131760" cy="63360"/>
              </a:xfrm>
            </p:grpSpPr>
            <p:sp>
              <p:nvSpPr>
                <p:cNvPr id="3523" name=""/>
                <p:cNvSpPr/>
                <p:nvPr/>
              </p:nvSpPr>
              <p:spPr>
                <a:xfrm>
                  <a:off x="428760" y="517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"/>
                <p:cNvSpPr/>
                <p:nvPr/>
              </p:nvSpPr>
              <p:spPr>
                <a:xfrm>
                  <a:off x="560520" y="517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525" name=""/>
          <p:cNvSpPr/>
          <p:nvPr/>
        </p:nvSpPr>
        <p:spPr>
          <a:xfrm>
            <a:off x="1044360" y="806400"/>
            <a:ext cx="137844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9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708120" y="2083320"/>
            <a:ext cx="186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FRB06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Battalion, 1916-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425520" y="2244600"/>
            <a:ext cx="3240" cy="100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974880" y="2765520"/>
            <a:ext cx="1641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974880" y="246528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970200" y="2600280"/>
            <a:ext cx="201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       WW1-FR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425520" y="2649600"/>
            <a:ext cx="274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973440" y="2900520"/>
            <a:ext cx="2184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Infantry Compan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‘16-'18   WW1-ME-FR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417600" y="2944800"/>
            <a:ext cx="311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4" name=""/>
          <p:cNvGrpSpPr/>
          <p:nvPr/>
        </p:nvGrpSpPr>
        <p:grpSpPr>
          <a:xfrm>
            <a:off x="612720" y="2505240"/>
            <a:ext cx="238320" cy="218880"/>
            <a:chOff x="612720" y="2505240"/>
            <a:chExt cx="238320" cy="218880"/>
          </a:xfrm>
        </p:grpSpPr>
        <p:sp>
          <p:nvSpPr>
            <p:cNvPr id="3535" name=""/>
            <p:cNvSpPr/>
            <p:nvPr/>
          </p:nvSpPr>
          <p:spPr>
            <a:xfrm>
              <a:off x="717480" y="250524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12720" y="2565360"/>
              <a:ext cx="238320" cy="1587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7" name=""/>
          <p:cNvGrpSpPr/>
          <p:nvPr/>
        </p:nvGrpSpPr>
        <p:grpSpPr>
          <a:xfrm>
            <a:off x="252360" y="2038320"/>
            <a:ext cx="347400" cy="291600"/>
            <a:chOff x="252360" y="2038320"/>
            <a:chExt cx="347400" cy="291600"/>
          </a:xfrm>
        </p:grpSpPr>
        <p:grpSp>
          <p:nvGrpSpPr>
            <p:cNvPr id="3538" name=""/>
            <p:cNvGrpSpPr/>
            <p:nvPr/>
          </p:nvGrpSpPr>
          <p:grpSpPr>
            <a:xfrm>
              <a:off x="388800" y="2038320"/>
              <a:ext cx="76320" cy="63360"/>
              <a:chOff x="388800" y="2038320"/>
              <a:chExt cx="76320" cy="63360"/>
            </a:xfrm>
          </p:grpSpPr>
          <p:sp>
            <p:nvSpPr>
              <p:cNvPr id="3539" name=""/>
              <p:cNvSpPr/>
              <p:nvPr/>
            </p:nvSpPr>
            <p:spPr>
              <a:xfrm>
                <a:off x="388800" y="20383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465120" y="20383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1" name=""/>
            <p:cNvGrpSpPr/>
            <p:nvPr/>
          </p:nvGrpSpPr>
          <p:grpSpPr>
            <a:xfrm>
              <a:off x="252360" y="2093760"/>
              <a:ext cx="347400" cy="236160"/>
              <a:chOff x="252360" y="2093760"/>
              <a:chExt cx="347400" cy="236160"/>
            </a:xfrm>
          </p:grpSpPr>
          <p:sp>
            <p:nvSpPr>
              <p:cNvPr id="3542" name=""/>
              <p:cNvSpPr/>
              <p:nvPr/>
            </p:nvSpPr>
            <p:spPr>
              <a:xfrm>
                <a:off x="252360" y="2093760"/>
                <a:ext cx="347400" cy="2361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 flipV="1">
                <a:off x="255960" y="2097360"/>
                <a:ext cx="33876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252360" y="2097360"/>
                <a:ext cx="34596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45" name=""/>
          <p:cNvGrpSpPr/>
          <p:nvPr/>
        </p:nvGrpSpPr>
        <p:grpSpPr>
          <a:xfrm>
            <a:off x="579600" y="2787480"/>
            <a:ext cx="284040" cy="252360"/>
            <a:chOff x="579600" y="2787480"/>
            <a:chExt cx="284040" cy="252360"/>
          </a:xfrm>
        </p:grpSpPr>
        <p:sp>
          <p:nvSpPr>
            <p:cNvPr id="3546" name=""/>
            <p:cNvSpPr/>
            <p:nvPr/>
          </p:nvSpPr>
          <p:spPr>
            <a:xfrm>
              <a:off x="720720" y="27874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7" name=""/>
            <p:cNvGrpSpPr/>
            <p:nvPr/>
          </p:nvGrpSpPr>
          <p:grpSpPr>
            <a:xfrm>
              <a:off x="579600" y="2846160"/>
              <a:ext cx="284040" cy="193680"/>
              <a:chOff x="579600" y="2846160"/>
              <a:chExt cx="284040" cy="193680"/>
            </a:xfrm>
          </p:grpSpPr>
          <p:sp>
            <p:nvSpPr>
              <p:cNvPr id="3548" name=""/>
              <p:cNvSpPr/>
              <p:nvPr/>
            </p:nvSpPr>
            <p:spPr>
              <a:xfrm>
                <a:off x="579600" y="2846160"/>
                <a:ext cx="284040" cy="19368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 flipV="1">
                <a:off x="582480" y="284904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579600" y="284904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51" name=""/>
          <p:cNvSpPr/>
          <p:nvPr/>
        </p:nvSpPr>
        <p:spPr>
          <a:xfrm>
            <a:off x="417600" y="3257640"/>
            <a:ext cx="311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947520" y="3201840"/>
            <a:ext cx="206712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-4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tchkiss MG                       WW1-FR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3" name=""/>
          <p:cNvGrpSpPr/>
          <p:nvPr/>
        </p:nvGrpSpPr>
        <p:grpSpPr>
          <a:xfrm>
            <a:off x="601560" y="3141720"/>
            <a:ext cx="231840" cy="201600"/>
            <a:chOff x="601560" y="3141720"/>
            <a:chExt cx="231840" cy="201600"/>
          </a:xfrm>
        </p:grpSpPr>
        <p:grpSp>
          <p:nvGrpSpPr>
            <p:cNvPr id="3554" name=""/>
            <p:cNvGrpSpPr/>
            <p:nvPr/>
          </p:nvGrpSpPr>
          <p:grpSpPr>
            <a:xfrm>
              <a:off x="681120" y="3141720"/>
              <a:ext cx="74520" cy="28080"/>
              <a:chOff x="681120" y="3141720"/>
              <a:chExt cx="74520" cy="28080"/>
            </a:xfrm>
          </p:grpSpPr>
          <p:sp>
            <p:nvSpPr>
              <p:cNvPr id="3555" name=""/>
              <p:cNvSpPr/>
              <p:nvPr/>
            </p:nvSpPr>
            <p:spPr>
              <a:xfrm>
                <a:off x="681120" y="31417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728640" y="31431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7" name=""/>
            <p:cNvGrpSpPr/>
            <p:nvPr/>
          </p:nvGrpSpPr>
          <p:grpSpPr>
            <a:xfrm>
              <a:off x="601560" y="3186000"/>
              <a:ext cx="231840" cy="157320"/>
              <a:chOff x="601560" y="3186000"/>
              <a:chExt cx="231840" cy="157320"/>
            </a:xfrm>
          </p:grpSpPr>
          <p:sp>
            <p:nvSpPr>
              <p:cNvPr id="3558" name=""/>
              <p:cNvSpPr/>
              <p:nvPr/>
            </p:nvSpPr>
            <p:spPr>
              <a:xfrm>
                <a:off x="601560" y="3186000"/>
                <a:ext cx="231840" cy="15732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601560" y="3192480"/>
                <a:ext cx="50760" cy="14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 flipV="1">
                <a:off x="601560" y="3193560"/>
                <a:ext cx="23040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612720" y="3203640"/>
                <a:ext cx="21924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62" name=""/>
          <p:cNvSpPr/>
          <p:nvPr/>
        </p:nvSpPr>
        <p:spPr>
          <a:xfrm>
            <a:off x="966960" y="3056040"/>
            <a:ext cx="1641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968400" y="2344680"/>
            <a:ext cx="137844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9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3867120" y="2800440"/>
            <a:ext cx="37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3867120" y="2257560"/>
            <a:ext cx="0" cy="104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3867120" y="2562120"/>
            <a:ext cx="37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7" name=""/>
          <p:cNvGrpSpPr/>
          <p:nvPr/>
        </p:nvGrpSpPr>
        <p:grpSpPr>
          <a:xfrm>
            <a:off x="4146480" y="2440080"/>
            <a:ext cx="231480" cy="198360"/>
            <a:chOff x="4146480" y="2440080"/>
            <a:chExt cx="231480" cy="198360"/>
          </a:xfrm>
        </p:grpSpPr>
        <p:grpSp>
          <p:nvGrpSpPr>
            <p:cNvPr id="3568" name=""/>
            <p:cNvGrpSpPr/>
            <p:nvPr/>
          </p:nvGrpSpPr>
          <p:grpSpPr>
            <a:xfrm>
              <a:off x="4146480" y="2481480"/>
              <a:ext cx="231480" cy="156960"/>
              <a:chOff x="4146480" y="2481480"/>
              <a:chExt cx="231480" cy="156960"/>
            </a:xfrm>
          </p:grpSpPr>
          <p:sp>
            <p:nvSpPr>
              <p:cNvPr id="3569" name=""/>
              <p:cNvSpPr/>
              <p:nvPr/>
            </p:nvSpPr>
            <p:spPr>
              <a:xfrm>
                <a:off x="4146480" y="2481480"/>
                <a:ext cx="231480" cy="1569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 flipV="1">
                <a:off x="4148640" y="2483640"/>
                <a:ext cx="22536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4146480" y="2483640"/>
                <a:ext cx="230400" cy="14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2" name=""/>
            <p:cNvGrpSpPr/>
            <p:nvPr/>
          </p:nvGrpSpPr>
          <p:grpSpPr>
            <a:xfrm>
              <a:off x="4224240" y="2440080"/>
              <a:ext cx="74520" cy="27000"/>
              <a:chOff x="4224240" y="2440080"/>
              <a:chExt cx="74520" cy="27000"/>
            </a:xfrm>
          </p:grpSpPr>
          <p:sp>
            <p:nvSpPr>
              <p:cNvPr id="3573" name=""/>
              <p:cNvSpPr/>
              <p:nvPr/>
            </p:nvSpPr>
            <p:spPr>
              <a:xfrm>
                <a:off x="4224240" y="24400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4271760" y="24400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5" name=""/>
          <p:cNvGrpSpPr/>
          <p:nvPr/>
        </p:nvGrpSpPr>
        <p:grpSpPr>
          <a:xfrm>
            <a:off x="3733920" y="2130480"/>
            <a:ext cx="264960" cy="222120"/>
            <a:chOff x="3733920" y="2130480"/>
            <a:chExt cx="264960" cy="222120"/>
          </a:xfrm>
        </p:grpSpPr>
        <p:grpSp>
          <p:nvGrpSpPr>
            <p:cNvPr id="3576" name=""/>
            <p:cNvGrpSpPr/>
            <p:nvPr/>
          </p:nvGrpSpPr>
          <p:grpSpPr>
            <a:xfrm>
              <a:off x="3800520" y="2130480"/>
              <a:ext cx="131760" cy="27000"/>
              <a:chOff x="3800520" y="2130480"/>
              <a:chExt cx="131760" cy="27000"/>
            </a:xfrm>
          </p:grpSpPr>
          <p:sp>
            <p:nvSpPr>
              <p:cNvPr id="3577" name=""/>
              <p:cNvSpPr/>
              <p:nvPr/>
            </p:nvSpPr>
            <p:spPr>
              <a:xfrm>
                <a:off x="3800520" y="21304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3851280" y="21304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3905280" y="21304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0" name=""/>
            <p:cNvGrpSpPr/>
            <p:nvPr/>
          </p:nvGrpSpPr>
          <p:grpSpPr>
            <a:xfrm>
              <a:off x="3733920" y="2173320"/>
              <a:ext cx="264960" cy="179280"/>
              <a:chOff x="3733920" y="2173320"/>
              <a:chExt cx="264960" cy="179280"/>
            </a:xfrm>
          </p:grpSpPr>
          <p:sp>
            <p:nvSpPr>
              <p:cNvPr id="3581" name=""/>
              <p:cNvSpPr/>
              <p:nvPr/>
            </p:nvSpPr>
            <p:spPr>
              <a:xfrm>
                <a:off x="3733920" y="2173320"/>
                <a:ext cx="264960" cy="17928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 flipV="1">
                <a:off x="3736440" y="2175480"/>
                <a:ext cx="258120" cy="17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3733920" y="2175840"/>
                <a:ext cx="263520" cy="17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4" name=""/>
          <p:cNvSpPr/>
          <p:nvPr/>
        </p:nvSpPr>
        <p:spPr>
          <a:xfrm>
            <a:off x="4156200" y="2136960"/>
            <a:ext cx="242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bmaneuve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lement WW1-SME-FR0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Platoon, Apr'16-Oct'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4460760" y="2505240"/>
            <a:ext cx="19432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fle                       WW1-FR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6" name=""/>
          <p:cNvGrpSpPr/>
          <p:nvPr/>
        </p:nvGrpSpPr>
        <p:grpSpPr>
          <a:xfrm>
            <a:off x="4146480" y="2678040"/>
            <a:ext cx="231480" cy="198360"/>
            <a:chOff x="4146480" y="2678040"/>
            <a:chExt cx="231480" cy="198360"/>
          </a:xfrm>
        </p:grpSpPr>
        <p:grpSp>
          <p:nvGrpSpPr>
            <p:cNvPr id="3587" name=""/>
            <p:cNvGrpSpPr/>
            <p:nvPr/>
          </p:nvGrpSpPr>
          <p:grpSpPr>
            <a:xfrm>
              <a:off x="4146480" y="2719440"/>
              <a:ext cx="231480" cy="156960"/>
              <a:chOff x="4146480" y="2719440"/>
              <a:chExt cx="231480" cy="156960"/>
            </a:xfrm>
          </p:grpSpPr>
          <p:sp>
            <p:nvSpPr>
              <p:cNvPr id="3588" name=""/>
              <p:cNvSpPr/>
              <p:nvPr/>
            </p:nvSpPr>
            <p:spPr>
              <a:xfrm>
                <a:off x="4146480" y="2719440"/>
                <a:ext cx="231480" cy="1569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 flipV="1">
                <a:off x="4148640" y="2721600"/>
                <a:ext cx="22536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4146480" y="2721600"/>
                <a:ext cx="230400" cy="14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1" name=""/>
            <p:cNvGrpSpPr/>
            <p:nvPr/>
          </p:nvGrpSpPr>
          <p:grpSpPr>
            <a:xfrm>
              <a:off x="4224240" y="2678040"/>
              <a:ext cx="74520" cy="27000"/>
              <a:chOff x="4224240" y="2678040"/>
              <a:chExt cx="74520" cy="27000"/>
            </a:xfrm>
          </p:grpSpPr>
          <p:sp>
            <p:nvSpPr>
              <p:cNvPr id="3592" name=""/>
              <p:cNvSpPr/>
              <p:nvPr/>
            </p:nvSpPr>
            <p:spPr>
              <a:xfrm>
                <a:off x="4224240" y="26780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4271760" y="26780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94" name=""/>
          <p:cNvSpPr/>
          <p:nvPr/>
        </p:nvSpPr>
        <p:spPr>
          <a:xfrm>
            <a:off x="4460760" y="2733840"/>
            <a:ext cx="18766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nadier               WW1-FR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5" name=""/>
          <p:cNvGrpSpPr/>
          <p:nvPr/>
        </p:nvGrpSpPr>
        <p:grpSpPr>
          <a:xfrm>
            <a:off x="676440" y="1627200"/>
            <a:ext cx="231480" cy="201600"/>
            <a:chOff x="676440" y="1627200"/>
            <a:chExt cx="231480" cy="201600"/>
          </a:xfrm>
        </p:grpSpPr>
        <p:grpSp>
          <p:nvGrpSpPr>
            <p:cNvPr id="3596" name=""/>
            <p:cNvGrpSpPr/>
            <p:nvPr/>
          </p:nvGrpSpPr>
          <p:grpSpPr>
            <a:xfrm>
              <a:off x="755640" y="1627200"/>
              <a:ext cx="73800" cy="28800"/>
              <a:chOff x="755640" y="1627200"/>
              <a:chExt cx="73800" cy="28800"/>
            </a:xfrm>
          </p:grpSpPr>
          <p:sp>
            <p:nvSpPr>
              <p:cNvPr id="3597" name=""/>
              <p:cNvSpPr/>
              <p:nvPr/>
            </p:nvSpPr>
            <p:spPr>
              <a:xfrm>
                <a:off x="755640" y="162720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802800" y="16290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9" name=""/>
            <p:cNvSpPr/>
            <p:nvPr/>
          </p:nvSpPr>
          <p:spPr>
            <a:xfrm>
              <a:off x="676440" y="1671840"/>
              <a:ext cx="231480" cy="156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 flipV="1">
              <a:off x="676440" y="1679400"/>
              <a:ext cx="2300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82560" y="1683000"/>
              <a:ext cx="21888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777960" y="17370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3" name=""/>
          <p:cNvSpPr/>
          <p:nvPr/>
        </p:nvSpPr>
        <p:spPr>
          <a:xfrm>
            <a:off x="1014840" y="1725480"/>
            <a:ext cx="210384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mm Gun                                WW1-FR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1033560" y="1579680"/>
            <a:ext cx="1641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4227480" y="1268280"/>
            <a:ext cx="244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6" name=""/>
          <p:cNvGrpSpPr/>
          <p:nvPr/>
        </p:nvGrpSpPr>
        <p:grpSpPr>
          <a:xfrm>
            <a:off x="4344840" y="1131840"/>
            <a:ext cx="280800" cy="222120"/>
            <a:chOff x="4344840" y="1131840"/>
            <a:chExt cx="280800" cy="222120"/>
          </a:xfrm>
        </p:grpSpPr>
        <p:grpSp>
          <p:nvGrpSpPr>
            <p:cNvPr id="3607" name=""/>
            <p:cNvGrpSpPr/>
            <p:nvPr/>
          </p:nvGrpSpPr>
          <p:grpSpPr>
            <a:xfrm>
              <a:off x="4416120" y="1131840"/>
              <a:ext cx="137880" cy="26640"/>
              <a:chOff x="4416120" y="1131840"/>
              <a:chExt cx="137880" cy="26640"/>
            </a:xfrm>
          </p:grpSpPr>
          <p:sp>
            <p:nvSpPr>
              <p:cNvPr id="3608" name=""/>
              <p:cNvSpPr/>
              <p:nvPr/>
            </p:nvSpPr>
            <p:spPr>
              <a:xfrm>
                <a:off x="4416120" y="1131840"/>
                <a:ext cx="2808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4469040" y="1131840"/>
                <a:ext cx="2952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4525920" y="1131840"/>
                <a:ext cx="2808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1" name=""/>
            <p:cNvGrpSpPr/>
            <p:nvPr/>
          </p:nvGrpSpPr>
          <p:grpSpPr>
            <a:xfrm>
              <a:off x="4344840" y="1174680"/>
              <a:ext cx="280800" cy="179280"/>
              <a:chOff x="4344840" y="1174680"/>
              <a:chExt cx="280800" cy="179280"/>
            </a:xfrm>
          </p:grpSpPr>
          <p:sp>
            <p:nvSpPr>
              <p:cNvPr id="3612" name=""/>
              <p:cNvSpPr/>
              <p:nvPr/>
            </p:nvSpPr>
            <p:spPr>
              <a:xfrm>
                <a:off x="4344840" y="1174680"/>
                <a:ext cx="280800" cy="17928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 flipV="1">
                <a:off x="4347720" y="1176840"/>
                <a:ext cx="273600" cy="17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4344840" y="1177200"/>
                <a:ext cx="279360" cy="17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15" name=""/>
          <p:cNvSpPr/>
          <p:nvPr/>
        </p:nvSpPr>
        <p:spPr>
          <a:xfrm>
            <a:off x="4672080" y="1232280"/>
            <a:ext cx="252072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4 Infantry Platoon Oct‘17-Oct'18  WW1-SME-FR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>
            <a:off x="4227480" y="1563840"/>
            <a:ext cx="254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7" name=""/>
          <p:cNvGrpSpPr/>
          <p:nvPr/>
        </p:nvGrpSpPr>
        <p:grpSpPr>
          <a:xfrm>
            <a:off x="4344840" y="1427040"/>
            <a:ext cx="280800" cy="222120"/>
            <a:chOff x="4344840" y="1427040"/>
            <a:chExt cx="280800" cy="222120"/>
          </a:xfrm>
        </p:grpSpPr>
        <p:grpSp>
          <p:nvGrpSpPr>
            <p:cNvPr id="3618" name=""/>
            <p:cNvGrpSpPr/>
            <p:nvPr/>
          </p:nvGrpSpPr>
          <p:grpSpPr>
            <a:xfrm>
              <a:off x="4416120" y="1427040"/>
              <a:ext cx="137880" cy="26640"/>
              <a:chOff x="4416120" y="1427040"/>
              <a:chExt cx="137880" cy="26640"/>
            </a:xfrm>
          </p:grpSpPr>
          <p:sp>
            <p:nvSpPr>
              <p:cNvPr id="3619" name=""/>
              <p:cNvSpPr/>
              <p:nvPr/>
            </p:nvSpPr>
            <p:spPr>
              <a:xfrm>
                <a:off x="4416120" y="1427040"/>
                <a:ext cx="2808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4469040" y="1427040"/>
                <a:ext cx="2952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4525920" y="1427040"/>
                <a:ext cx="2808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2" name=""/>
            <p:cNvGrpSpPr/>
            <p:nvPr/>
          </p:nvGrpSpPr>
          <p:grpSpPr>
            <a:xfrm>
              <a:off x="4344840" y="1469880"/>
              <a:ext cx="280800" cy="179280"/>
              <a:chOff x="4344840" y="1469880"/>
              <a:chExt cx="280800" cy="179280"/>
            </a:xfrm>
          </p:grpSpPr>
          <p:sp>
            <p:nvSpPr>
              <p:cNvPr id="3623" name=""/>
              <p:cNvSpPr/>
              <p:nvPr/>
            </p:nvSpPr>
            <p:spPr>
              <a:xfrm>
                <a:off x="4344840" y="1469880"/>
                <a:ext cx="280800" cy="17928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 flipV="1">
                <a:off x="4347720" y="1472040"/>
                <a:ext cx="273600" cy="17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4344840" y="1472400"/>
                <a:ext cx="279360" cy="17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26" name=""/>
          <p:cNvSpPr/>
          <p:nvPr/>
        </p:nvSpPr>
        <p:spPr>
          <a:xfrm>
            <a:off x="4672080" y="1513080"/>
            <a:ext cx="294012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8 Inf. Groupe de Combat Oct‘18-Nov'18  WW1-SME-FR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4705200" y="1114560"/>
            <a:ext cx="18108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4695840" y="1371600"/>
            <a:ext cx="18108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9" name=""/>
          <p:cNvGrpSpPr/>
          <p:nvPr/>
        </p:nvGrpSpPr>
        <p:grpSpPr>
          <a:xfrm>
            <a:off x="4133880" y="922320"/>
            <a:ext cx="142920" cy="676080"/>
            <a:chOff x="4133880" y="922320"/>
            <a:chExt cx="142920" cy="676080"/>
          </a:xfrm>
        </p:grpSpPr>
        <p:sp>
          <p:nvSpPr>
            <p:cNvPr id="3630" name=""/>
            <p:cNvSpPr/>
            <p:nvPr/>
          </p:nvSpPr>
          <p:spPr>
            <a:xfrm>
              <a:off x="4133880" y="922320"/>
              <a:ext cx="0" cy="67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4133880" y="92232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4133880" y="159840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3" name=""/>
          <p:cNvSpPr/>
          <p:nvPr/>
        </p:nvSpPr>
        <p:spPr>
          <a:xfrm>
            <a:off x="4133880" y="1809720"/>
            <a:ext cx="31622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April 1916 to the end of the war, only the platoon organization changes. Use the platoon from the appropriate time perio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3867120" y="3057480"/>
            <a:ext cx="37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5" name=""/>
          <p:cNvGrpSpPr/>
          <p:nvPr/>
        </p:nvGrpSpPr>
        <p:grpSpPr>
          <a:xfrm>
            <a:off x="4156200" y="2935440"/>
            <a:ext cx="231480" cy="198360"/>
            <a:chOff x="4156200" y="2935440"/>
            <a:chExt cx="231480" cy="198360"/>
          </a:xfrm>
        </p:grpSpPr>
        <p:grpSp>
          <p:nvGrpSpPr>
            <p:cNvPr id="3636" name=""/>
            <p:cNvGrpSpPr/>
            <p:nvPr/>
          </p:nvGrpSpPr>
          <p:grpSpPr>
            <a:xfrm>
              <a:off x="4156200" y="2976840"/>
              <a:ext cx="231480" cy="156960"/>
              <a:chOff x="4156200" y="2976840"/>
              <a:chExt cx="231480" cy="156960"/>
            </a:xfrm>
          </p:grpSpPr>
          <p:sp>
            <p:nvSpPr>
              <p:cNvPr id="3637" name=""/>
              <p:cNvSpPr/>
              <p:nvPr/>
            </p:nvSpPr>
            <p:spPr>
              <a:xfrm>
                <a:off x="4156200" y="2976840"/>
                <a:ext cx="231480" cy="1569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 flipV="1">
                <a:off x="4158360" y="2979000"/>
                <a:ext cx="22536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4156200" y="2979000"/>
                <a:ext cx="230400" cy="14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0" name=""/>
            <p:cNvGrpSpPr/>
            <p:nvPr/>
          </p:nvGrpSpPr>
          <p:grpSpPr>
            <a:xfrm>
              <a:off x="4233960" y="2935440"/>
              <a:ext cx="74520" cy="27000"/>
              <a:chOff x="4233960" y="2935440"/>
              <a:chExt cx="74520" cy="27000"/>
            </a:xfrm>
          </p:grpSpPr>
          <p:sp>
            <p:nvSpPr>
              <p:cNvPr id="3641" name=""/>
              <p:cNvSpPr/>
              <p:nvPr/>
            </p:nvSpPr>
            <p:spPr>
              <a:xfrm>
                <a:off x="4233960" y="29354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4281480" y="29354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3" name=""/>
          <p:cNvSpPr/>
          <p:nvPr/>
        </p:nvSpPr>
        <p:spPr>
          <a:xfrm>
            <a:off x="4470480" y="2990880"/>
            <a:ext cx="208584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fle-Grenadier       WW1-FR07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3854520" y="3295800"/>
            <a:ext cx="311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4494960" y="3240000"/>
            <a:ext cx="15339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uchat MG        WW1-FR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6" name=""/>
          <p:cNvGrpSpPr/>
          <p:nvPr/>
        </p:nvGrpSpPr>
        <p:grpSpPr>
          <a:xfrm>
            <a:off x="4152960" y="3189240"/>
            <a:ext cx="231840" cy="201600"/>
            <a:chOff x="4152960" y="3189240"/>
            <a:chExt cx="231840" cy="201600"/>
          </a:xfrm>
        </p:grpSpPr>
        <p:grpSp>
          <p:nvGrpSpPr>
            <p:cNvPr id="3647" name=""/>
            <p:cNvGrpSpPr/>
            <p:nvPr/>
          </p:nvGrpSpPr>
          <p:grpSpPr>
            <a:xfrm>
              <a:off x="4232520" y="3189240"/>
              <a:ext cx="74520" cy="28080"/>
              <a:chOff x="4232520" y="3189240"/>
              <a:chExt cx="74520" cy="28080"/>
            </a:xfrm>
          </p:grpSpPr>
          <p:sp>
            <p:nvSpPr>
              <p:cNvPr id="3648" name=""/>
              <p:cNvSpPr/>
              <p:nvPr/>
            </p:nvSpPr>
            <p:spPr>
              <a:xfrm>
                <a:off x="4232520" y="31892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4280040" y="31906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0" name=""/>
            <p:cNvGrpSpPr/>
            <p:nvPr/>
          </p:nvGrpSpPr>
          <p:grpSpPr>
            <a:xfrm>
              <a:off x="4152960" y="3233520"/>
              <a:ext cx="231840" cy="157320"/>
              <a:chOff x="4152960" y="3233520"/>
              <a:chExt cx="231840" cy="157320"/>
            </a:xfrm>
          </p:grpSpPr>
          <p:sp>
            <p:nvSpPr>
              <p:cNvPr id="3651" name=""/>
              <p:cNvSpPr/>
              <p:nvPr/>
            </p:nvSpPr>
            <p:spPr>
              <a:xfrm>
                <a:off x="4152960" y="3233520"/>
                <a:ext cx="231840" cy="15732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4152960" y="3240000"/>
                <a:ext cx="50760" cy="14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V="1">
                <a:off x="4152960" y="3241080"/>
                <a:ext cx="23040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4164120" y="3251160"/>
                <a:ext cx="21924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55" name=""/>
          <p:cNvSpPr/>
          <p:nvPr/>
        </p:nvSpPr>
        <p:spPr>
          <a:xfrm>
            <a:off x="3895560" y="4238640"/>
            <a:ext cx="371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3895560" y="3705120"/>
            <a:ext cx="1800" cy="75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3895560" y="4000680"/>
            <a:ext cx="371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8" name=""/>
          <p:cNvGrpSpPr/>
          <p:nvPr/>
        </p:nvGrpSpPr>
        <p:grpSpPr>
          <a:xfrm>
            <a:off x="4175280" y="3878280"/>
            <a:ext cx="231480" cy="198360"/>
            <a:chOff x="4175280" y="3878280"/>
            <a:chExt cx="231480" cy="198360"/>
          </a:xfrm>
        </p:grpSpPr>
        <p:grpSp>
          <p:nvGrpSpPr>
            <p:cNvPr id="3659" name=""/>
            <p:cNvGrpSpPr/>
            <p:nvPr/>
          </p:nvGrpSpPr>
          <p:grpSpPr>
            <a:xfrm>
              <a:off x="4175280" y="3919680"/>
              <a:ext cx="231480" cy="156960"/>
              <a:chOff x="4175280" y="3919680"/>
              <a:chExt cx="231480" cy="156960"/>
            </a:xfrm>
          </p:grpSpPr>
          <p:sp>
            <p:nvSpPr>
              <p:cNvPr id="3660" name=""/>
              <p:cNvSpPr/>
              <p:nvPr/>
            </p:nvSpPr>
            <p:spPr>
              <a:xfrm>
                <a:off x="4175280" y="3919680"/>
                <a:ext cx="231480" cy="1569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V="1">
                <a:off x="4177440" y="3921840"/>
                <a:ext cx="22536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4175280" y="3921840"/>
                <a:ext cx="230400" cy="14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3" name=""/>
            <p:cNvGrpSpPr/>
            <p:nvPr/>
          </p:nvGrpSpPr>
          <p:grpSpPr>
            <a:xfrm>
              <a:off x="4253040" y="3878280"/>
              <a:ext cx="74520" cy="27000"/>
              <a:chOff x="4253040" y="3878280"/>
              <a:chExt cx="74520" cy="27000"/>
            </a:xfrm>
          </p:grpSpPr>
          <p:sp>
            <p:nvSpPr>
              <p:cNvPr id="3664" name=""/>
              <p:cNvSpPr/>
              <p:nvPr/>
            </p:nvSpPr>
            <p:spPr>
              <a:xfrm>
                <a:off x="4253040" y="38782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4300560" y="38782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66" name=""/>
          <p:cNvGrpSpPr/>
          <p:nvPr/>
        </p:nvGrpSpPr>
        <p:grpSpPr>
          <a:xfrm>
            <a:off x="3762360" y="3568680"/>
            <a:ext cx="264960" cy="222120"/>
            <a:chOff x="3762360" y="3568680"/>
            <a:chExt cx="264960" cy="222120"/>
          </a:xfrm>
        </p:grpSpPr>
        <p:grpSp>
          <p:nvGrpSpPr>
            <p:cNvPr id="3667" name=""/>
            <p:cNvGrpSpPr/>
            <p:nvPr/>
          </p:nvGrpSpPr>
          <p:grpSpPr>
            <a:xfrm>
              <a:off x="3828960" y="3568680"/>
              <a:ext cx="131760" cy="27000"/>
              <a:chOff x="3828960" y="3568680"/>
              <a:chExt cx="131760" cy="27000"/>
            </a:xfrm>
          </p:grpSpPr>
          <p:sp>
            <p:nvSpPr>
              <p:cNvPr id="3668" name=""/>
              <p:cNvSpPr/>
              <p:nvPr/>
            </p:nvSpPr>
            <p:spPr>
              <a:xfrm>
                <a:off x="3828960" y="35686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3879720" y="35686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3933720" y="35686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1" name=""/>
            <p:cNvGrpSpPr/>
            <p:nvPr/>
          </p:nvGrpSpPr>
          <p:grpSpPr>
            <a:xfrm>
              <a:off x="3762360" y="3611520"/>
              <a:ext cx="264960" cy="179280"/>
              <a:chOff x="3762360" y="3611520"/>
              <a:chExt cx="264960" cy="179280"/>
            </a:xfrm>
          </p:grpSpPr>
          <p:sp>
            <p:nvSpPr>
              <p:cNvPr id="3672" name=""/>
              <p:cNvSpPr/>
              <p:nvPr/>
            </p:nvSpPr>
            <p:spPr>
              <a:xfrm>
                <a:off x="3762360" y="3611520"/>
                <a:ext cx="264960" cy="17928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 flipV="1">
                <a:off x="3764880" y="3613680"/>
                <a:ext cx="258120" cy="17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3762360" y="3614040"/>
                <a:ext cx="263520" cy="17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75" name=""/>
          <p:cNvSpPr/>
          <p:nvPr/>
        </p:nvSpPr>
        <p:spPr>
          <a:xfrm>
            <a:off x="4184640" y="3575520"/>
            <a:ext cx="242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bmaneuve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lement WW1-SME-FR04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Platoon, Oct'17-Oct'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4489560" y="3943440"/>
            <a:ext cx="194292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fle                WW1-FR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7" name=""/>
          <p:cNvGrpSpPr/>
          <p:nvPr/>
        </p:nvGrpSpPr>
        <p:grpSpPr>
          <a:xfrm>
            <a:off x="4175280" y="4116240"/>
            <a:ext cx="231480" cy="198360"/>
            <a:chOff x="4175280" y="4116240"/>
            <a:chExt cx="231480" cy="198360"/>
          </a:xfrm>
        </p:grpSpPr>
        <p:grpSp>
          <p:nvGrpSpPr>
            <p:cNvPr id="3678" name=""/>
            <p:cNvGrpSpPr/>
            <p:nvPr/>
          </p:nvGrpSpPr>
          <p:grpSpPr>
            <a:xfrm>
              <a:off x="4175280" y="4157640"/>
              <a:ext cx="231480" cy="156960"/>
              <a:chOff x="4175280" y="4157640"/>
              <a:chExt cx="231480" cy="156960"/>
            </a:xfrm>
          </p:grpSpPr>
          <p:sp>
            <p:nvSpPr>
              <p:cNvPr id="3679" name=""/>
              <p:cNvSpPr/>
              <p:nvPr/>
            </p:nvSpPr>
            <p:spPr>
              <a:xfrm>
                <a:off x="4175280" y="4157640"/>
                <a:ext cx="231480" cy="1569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 flipV="1">
                <a:off x="4177440" y="4159800"/>
                <a:ext cx="22536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4175280" y="4159800"/>
                <a:ext cx="230400" cy="14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2" name=""/>
            <p:cNvGrpSpPr/>
            <p:nvPr/>
          </p:nvGrpSpPr>
          <p:grpSpPr>
            <a:xfrm>
              <a:off x="4253040" y="4116240"/>
              <a:ext cx="74520" cy="27000"/>
              <a:chOff x="4253040" y="4116240"/>
              <a:chExt cx="74520" cy="27000"/>
            </a:xfrm>
          </p:grpSpPr>
          <p:sp>
            <p:nvSpPr>
              <p:cNvPr id="3683" name=""/>
              <p:cNvSpPr/>
              <p:nvPr/>
            </p:nvSpPr>
            <p:spPr>
              <a:xfrm>
                <a:off x="4253040" y="41162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4300560" y="41162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85" name=""/>
          <p:cNvSpPr/>
          <p:nvPr/>
        </p:nvSpPr>
        <p:spPr>
          <a:xfrm>
            <a:off x="4489560" y="4172040"/>
            <a:ext cx="187632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nadier       WW1-FR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3882960" y="4467240"/>
            <a:ext cx="311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4524480" y="4411800"/>
            <a:ext cx="13600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uchat MG  WW1-FR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8" name=""/>
          <p:cNvGrpSpPr/>
          <p:nvPr/>
        </p:nvGrpSpPr>
        <p:grpSpPr>
          <a:xfrm>
            <a:off x="4181400" y="4361040"/>
            <a:ext cx="231840" cy="201600"/>
            <a:chOff x="4181400" y="4361040"/>
            <a:chExt cx="231840" cy="201600"/>
          </a:xfrm>
        </p:grpSpPr>
        <p:grpSp>
          <p:nvGrpSpPr>
            <p:cNvPr id="3689" name=""/>
            <p:cNvGrpSpPr/>
            <p:nvPr/>
          </p:nvGrpSpPr>
          <p:grpSpPr>
            <a:xfrm>
              <a:off x="4260960" y="4361040"/>
              <a:ext cx="74520" cy="28080"/>
              <a:chOff x="4260960" y="4361040"/>
              <a:chExt cx="74520" cy="28080"/>
            </a:xfrm>
          </p:grpSpPr>
          <p:sp>
            <p:nvSpPr>
              <p:cNvPr id="3690" name=""/>
              <p:cNvSpPr/>
              <p:nvPr/>
            </p:nvSpPr>
            <p:spPr>
              <a:xfrm>
                <a:off x="4260960" y="43610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4308480" y="43624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2" name=""/>
            <p:cNvGrpSpPr/>
            <p:nvPr/>
          </p:nvGrpSpPr>
          <p:grpSpPr>
            <a:xfrm>
              <a:off x="4181400" y="4405320"/>
              <a:ext cx="231840" cy="157320"/>
              <a:chOff x="4181400" y="4405320"/>
              <a:chExt cx="231840" cy="157320"/>
            </a:xfrm>
          </p:grpSpPr>
          <p:sp>
            <p:nvSpPr>
              <p:cNvPr id="3693" name=""/>
              <p:cNvSpPr/>
              <p:nvPr/>
            </p:nvSpPr>
            <p:spPr>
              <a:xfrm>
                <a:off x="4181400" y="4405320"/>
                <a:ext cx="231840" cy="15732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4181400" y="4411800"/>
                <a:ext cx="50760" cy="14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 flipV="1">
                <a:off x="4181400" y="4412880"/>
                <a:ext cx="23040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4192560" y="4422960"/>
                <a:ext cx="21924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97" name=""/>
          <p:cNvSpPr/>
          <p:nvPr/>
        </p:nvSpPr>
        <p:spPr>
          <a:xfrm>
            <a:off x="3924360" y="4829040"/>
            <a:ext cx="1440" cy="4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3924360" y="5105520"/>
            <a:ext cx="371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9" name=""/>
          <p:cNvGrpSpPr/>
          <p:nvPr/>
        </p:nvGrpSpPr>
        <p:grpSpPr>
          <a:xfrm>
            <a:off x="4203720" y="4983120"/>
            <a:ext cx="231480" cy="198360"/>
            <a:chOff x="4203720" y="4983120"/>
            <a:chExt cx="231480" cy="198360"/>
          </a:xfrm>
        </p:grpSpPr>
        <p:grpSp>
          <p:nvGrpSpPr>
            <p:cNvPr id="3700" name=""/>
            <p:cNvGrpSpPr/>
            <p:nvPr/>
          </p:nvGrpSpPr>
          <p:grpSpPr>
            <a:xfrm>
              <a:off x="4203720" y="5024520"/>
              <a:ext cx="231480" cy="156960"/>
              <a:chOff x="4203720" y="5024520"/>
              <a:chExt cx="231480" cy="156960"/>
            </a:xfrm>
          </p:grpSpPr>
          <p:sp>
            <p:nvSpPr>
              <p:cNvPr id="3701" name=""/>
              <p:cNvSpPr/>
              <p:nvPr/>
            </p:nvSpPr>
            <p:spPr>
              <a:xfrm>
                <a:off x="4203720" y="5024520"/>
                <a:ext cx="231480" cy="1569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 flipV="1">
                <a:off x="4205880" y="5026680"/>
                <a:ext cx="22536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4203720" y="5026680"/>
                <a:ext cx="230400" cy="14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4" name=""/>
            <p:cNvGrpSpPr/>
            <p:nvPr/>
          </p:nvGrpSpPr>
          <p:grpSpPr>
            <a:xfrm>
              <a:off x="4281480" y="4983120"/>
              <a:ext cx="74520" cy="27000"/>
              <a:chOff x="4281480" y="4983120"/>
              <a:chExt cx="74520" cy="27000"/>
            </a:xfrm>
          </p:grpSpPr>
          <p:sp>
            <p:nvSpPr>
              <p:cNvPr id="3705" name=""/>
              <p:cNvSpPr/>
              <p:nvPr/>
            </p:nvSpPr>
            <p:spPr>
              <a:xfrm>
                <a:off x="4281480" y="49831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4329000" y="49831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07" name=""/>
          <p:cNvGrpSpPr/>
          <p:nvPr/>
        </p:nvGrpSpPr>
        <p:grpSpPr>
          <a:xfrm>
            <a:off x="3790800" y="4673520"/>
            <a:ext cx="264960" cy="222120"/>
            <a:chOff x="3790800" y="4673520"/>
            <a:chExt cx="264960" cy="222120"/>
          </a:xfrm>
        </p:grpSpPr>
        <p:grpSp>
          <p:nvGrpSpPr>
            <p:cNvPr id="3708" name=""/>
            <p:cNvGrpSpPr/>
            <p:nvPr/>
          </p:nvGrpSpPr>
          <p:grpSpPr>
            <a:xfrm>
              <a:off x="3857400" y="4673520"/>
              <a:ext cx="131760" cy="27000"/>
              <a:chOff x="3857400" y="4673520"/>
              <a:chExt cx="131760" cy="27000"/>
            </a:xfrm>
          </p:grpSpPr>
          <p:sp>
            <p:nvSpPr>
              <p:cNvPr id="3709" name=""/>
              <p:cNvSpPr/>
              <p:nvPr/>
            </p:nvSpPr>
            <p:spPr>
              <a:xfrm>
                <a:off x="3857400" y="4673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3908160" y="46735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3962160" y="4673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2" name=""/>
            <p:cNvGrpSpPr/>
            <p:nvPr/>
          </p:nvGrpSpPr>
          <p:grpSpPr>
            <a:xfrm>
              <a:off x="3790800" y="4716360"/>
              <a:ext cx="264960" cy="179280"/>
              <a:chOff x="3790800" y="4716360"/>
              <a:chExt cx="264960" cy="179280"/>
            </a:xfrm>
          </p:grpSpPr>
          <p:sp>
            <p:nvSpPr>
              <p:cNvPr id="3713" name=""/>
              <p:cNvSpPr/>
              <p:nvPr/>
            </p:nvSpPr>
            <p:spPr>
              <a:xfrm>
                <a:off x="3790800" y="4716360"/>
                <a:ext cx="264960" cy="17928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 flipV="1">
                <a:off x="3793320" y="4718520"/>
                <a:ext cx="258120" cy="17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3790800" y="4718880"/>
                <a:ext cx="263520" cy="17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16" name=""/>
          <p:cNvSpPr/>
          <p:nvPr/>
        </p:nvSpPr>
        <p:spPr>
          <a:xfrm>
            <a:off x="4213080" y="4680360"/>
            <a:ext cx="2673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bmaneuve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lement WW1-SME-FR05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Groupe de Combat, Oct'18-Nov'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4518000" y="5048280"/>
            <a:ext cx="194328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fle Grenadier         WW1-FR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3911760" y="5324400"/>
            <a:ext cx="311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4551480" y="5268960"/>
            <a:ext cx="162072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uchat MG           WW1-FR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0" name=""/>
          <p:cNvGrpSpPr/>
          <p:nvPr/>
        </p:nvGrpSpPr>
        <p:grpSpPr>
          <a:xfrm>
            <a:off x="4210200" y="5218200"/>
            <a:ext cx="231480" cy="201600"/>
            <a:chOff x="4210200" y="5218200"/>
            <a:chExt cx="231480" cy="201600"/>
          </a:xfrm>
        </p:grpSpPr>
        <p:grpSp>
          <p:nvGrpSpPr>
            <p:cNvPr id="3721" name=""/>
            <p:cNvGrpSpPr/>
            <p:nvPr/>
          </p:nvGrpSpPr>
          <p:grpSpPr>
            <a:xfrm>
              <a:off x="4289400" y="5218200"/>
              <a:ext cx="73800" cy="28080"/>
              <a:chOff x="4289400" y="5218200"/>
              <a:chExt cx="73800" cy="28080"/>
            </a:xfrm>
          </p:grpSpPr>
          <p:sp>
            <p:nvSpPr>
              <p:cNvPr id="3722" name=""/>
              <p:cNvSpPr/>
              <p:nvPr/>
            </p:nvSpPr>
            <p:spPr>
              <a:xfrm>
                <a:off x="4289400" y="5218200"/>
                <a:ext cx="2808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4336560" y="521964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4" name=""/>
            <p:cNvGrpSpPr/>
            <p:nvPr/>
          </p:nvGrpSpPr>
          <p:grpSpPr>
            <a:xfrm>
              <a:off x="4210200" y="5262480"/>
              <a:ext cx="231480" cy="157320"/>
              <a:chOff x="4210200" y="5262480"/>
              <a:chExt cx="231480" cy="157320"/>
            </a:xfrm>
          </p:grpSpPr>
          <p:sp>
            <p:nvSpPr>
              <p:cNvPr id="3725" name=""/>
              <p:cNvSpPr/>
              <p:nvPr/>
            </p:nvSpPr>
            <p:spPr>
              <a:xfrm>
                <a:off x="4210200" y="5262480"/>
                <a:ext cx="231480" cy="15732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210200" y="5268960"/>
                <a:ext cx="50400" cy="14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 flipV="1">
                <a:off x="4210200" y="5270040"/>
                <a:ext cx="23004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221000" y="5280120"/>
                <a:ext cx="21888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373560" y="3603600"/>
            <a:ext cx="0" cy="10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73560" y="2414520"/>
            <a:ext cx="0" cy="79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2880" y="190332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I German, 19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2880" y="161460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31480" y="1546200"/>
            <a:ext cx="185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-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-08 HMG                 WW1-GE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95240" y="1490760"/>
            <a:ext cx="236520" cy="201600"/>
            <a:chOff x="795240" y="1490760"/>
            <a:chExt cx="236520" cy="201600"/>
          </a:xfrm>
        </p:grpSpPr>
        <p:grpSp>
          <p:nvGrpSpPr>
            <p:cNvPr id="256" name=""/>
            <p:cNvGrpSpPr/>
            <p:nvPr/>
          </p:nvGrpSpPr>
          <p:grpSpPr>
            <a:xfrm>
              <a:off x="873000" y="1490760"/>
              <a:ext cx="74520" cy="28080"/>
              <a:chOff x="873000" y="1490760"/>
              <a:chExt cx="74520" cy="28080"/>
            </a:xfrm>
          </p:grpSpPr>
          <p:sp>
            <p:nvSpPr>
              <p:cNvPr id="257" name=""/>
              <p:cNvSpPr/>
              <p:nvPr/>
            </p:nvSpPr>
            <p:spPr>
              <a:xfrm>
                <a:off x="873000" y="14907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920520" y="14922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795240" y="1531800"/>
              <a:ext cx="23184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7040" y="1538280"/>
              <a:ext cx="50760" cy="1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01720" y="1526760"/>
              <a:ext cx="230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2880" y="1555920"/>
              <a:ext cx="21888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822240" y="573480"/>
            <a:ext cx="185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GE04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Regiment, 19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9640" y="760320"/>
            <a:ext cx="5040" cy="114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35080" y="1141560"/>
            <a:ext cx="164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35080" y="84132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00280" y="911160"/>
            <a:ext cx="237960" cy="195480"/>
            <a:chOff x="800280" y="911160"/>
            <a:chExt cx="237960" cy="195480"/>
          </a:xfrm>
        </p:grpSpPr>
        <p:sp>
          <p:nvSpPr>
            <p:cNvPr id="268" name=""/>
            <p:cNvSpPr/>
            <p:nvPr/>
          </p:nvSpPr>
          <p:spPr>
            <a:xfrm>
              <a:off x="800280" y="947880"/>
              <a:ext cx="237960" cy="158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04680" y="9111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132200" y="976320"/>
            <a:ext cx="182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1025640"/>
            <a:ext cx="27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66840" y="600120"/>
            <a:ext cx="347040" cy="236160"/>
            <a:chOff x="366840" y="600120"/>
            <a:chExt cx="347040" cy="236160"/>
          </a:xfrm>
        </p:grpSpPr>
        <p:sp>
          <p:nvSpPr>
            <p:cNvPr id="273" name=""/>
            <p:cNvSpPr/>
            <p:nvPr/>
          </p:nvSpPr>
          <p:spPr>
            <a:xfrm>
              <a:off x="366840" y="600120"/>
              <a:ext cx="347040" cy="236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70440" y="603720"/>
              <a:ext cx="338400" cy="23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6840" y="603720"/>
              <a:ext cx="34560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131120" y="1269720"/>
            <a:ext cx="208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3 Infantry Battal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W1-BG-GE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1720" y="1320840"/>
            <a:ext cx="31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873000" y="1130400"/>
            <a:ext cx="76320" cy="63360"/>
            <a:chOff x="873000" y="1130400"/>
            <a:chExt cx="76320" cy="63360"/>
          </a:xfrm>
        </p:grpSpPr>
        <p:sp>
          <p:nvSpPr>
            <p:cNvPr id="279" name=""/>
            <p:cNvSpPr/>
            <p:nvPr/>
          </p:nvSpPr>
          <p:spPr>
            <a:xfrm>
              <a:off x="873000" y="1130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49320" y="1130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31880" y="1193760"/>
            <a:ext cx="347400" cy="236160"/>
            <a:chOff x="731880" y="1193760"/>
            <a:chExt cx="347400" cy="236160"/>
          </a:xfrm>
        </p:grpSpPr>
        <p:sp>
          <p:nvSpPr>
            <p:cNvPr id="282" name=""/>
            <p:cNvSpPr/>
            <p:nvPr/>
          </p:nvSpPr>
          <p:spPr>
            <a:xfrm>
              <a:off x="731880" y="1193760"/>
              <a:ext cx="347400" cy="236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35480" y="1197360"/>
              <a:ext cx="338760" cy="23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1880" y="1197360"/>
              <a:ext cx="34596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74840" y="547560"/>
            <a:ext cx="131760" cy="65160"/>
            <a:chOff x="474840" y="547560"/>
            <a:chExt cx="131760" cy="65160"/>
          </a:xfrm>
        </p:grpSpPr>
        <p:sp>
          <p:nvSpPr>
            <p:cNvPr id="286" name=""/>
            <p:cNvSpPr/>
            <p:nvPr/>
          </p:nvSpPr>
          <p:spPr>
            <a:xfrm>
              <a:off x="541440" y="5493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4840" y="5493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6600" y="5475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135080" y="1420920"/>
            <a:ext cx="9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033800" y="4163760"/>
            <a:ext cx="2304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44960" y="4192560"/>
            <a:ext cx="219240" cy="13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9304200" y="4189320"/>
            <a:ext cx="239760" cy="198360"/>
            <a:chOff x="9304200" y="4189320"/>
            <a:chExt cx="239760" cy="198360"/>
          </a:xfrm>
        </p:grpSpPr>
        <p:grpSp>
          <p:nvGrpSpPr>
            <p:cNvPr id="293" name=""/>
            <p:cNvGrpSpPr/>
            <p:nvPr/>
          </p:nvGrpSpPr>
          <p:grpSpPr>
            <a:xfrm>
              <a:off x="9304200" y="4230720"/>
              <a:ext cx="239760" cy="156960"/>
              <a:chOff x="9304200" y="4230720"/>
              <a:chExt cx="239760" cy="156960"/>
            </a:xfrm>
          </p:grpSpPr>
          <p:sp>
            <p:nvSpPr>
              <p:cNvPr id="294" name=""/>
              <p:cNvSpPr/>
              <p:nvPr/>
            </p:nvSpPr>
            <p:spPr>
              <a:xfrm>
                <a:off x="9304200" y="4230720"/>
                <a:ext cx="23976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9407520" y="429084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9386640" y="4189320"/>
              <a:ext cx="74160" cy="27000"/>
              <a:chOff x="9386640" y="4189320"/>
              <a:chExt cx="74160" cy="27000"/>
            </a:xfrm>
          </p:grpSpPr>
          <p:sp>
            <p:nvSpPr>
              <p:cNvPr id="297" name=""/>
              <p:cNvSpPr/>
              <p:nvPr/>
            </p:nvSpPr>
            <p:spPr>
              <a:xfrm>
                <a:off x="9386640" y="41893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9434160" y="41893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757080" y="1735200"/>
            <a:ext cx="301680" cy="274680"/>
            <a:chOff x="757080" y="1735200"/>
            <a:chExt cx="301680" cy="274680"/>
          </a:xfrm>
        </p:grpSpPr>
        <p:grpSp>
          <p:nvGrpSpPr>
            <p:cNvPr id="300" name=""/>
            <p:cNvGrpSpPr/>
            <p:nvPr/>
          </p:nvGrpSpPr>
          <p:grpSpPr>
            <a:xfrm>
              <a:off x="757080" y="1805040"/>
              <a:ext cx="295200" cy="199440"/>
              <a:chOff x="757080" y="1805040"/>
              <a:chExt cx="295200" cy="199440"/>
            </a:xfrm>
          </p:grpSpPr>
          <p:sp>
            <p:nvSpPr>
              <p:cNvPr id="301" name=""/>
              <p:cNvSpPr/>
              <p:nvPr/>
            </p:nvSpPr>
            <p:spPr>
              <a:xfrm>
                <a:off x="757080" y="1805040"/>
                <a:ext cx="295200" cy="19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57080" y="1812600"/>
                <a:ext cx="64440" cy="185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765000" y="1798200"/>
              <a:ext cx="293760" cy="18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9400" y="1835280"/>
              <a:ext cx="279360" cy="17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07920" y="17352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1119240" y="1844640"/>
            <a:ext cx="210024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-2 MG Company 1914-15 WW1-ME-GE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76280" y="1531800"/>
            <a:ext cx="152280" cy="457200"/>
            <a:chOff x="476280" y="1531800"/>
            <a:chExt cx="152280" cy="457200"/>
          </a:xfrm>
        </p:grpSpPr>
        <p:sp>
          <p:nvSpPr>
            <p:cNvPr id="308" name=""/>
            <p:cNvSpPr/>
            <p:nvPr/>
          </p:nvSpPr>
          <p:spPr>
            <a:xfrm>
              <a:off x="476280" y="1531800"/>
              <a:ext cx="0" cy="45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6280" y="1531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6280" y="1989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1158840" y="1711440"/>
            <a:ext cx="4255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6400" y="2196000"/>
            <a:ext cx="194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GE05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Battalion, 19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3800" y="2367000"/>
            <a:ext cx="1800" cy="57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89000" y="2771640"/>
            <a:ext cx="164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73160" y="246384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784080" y="2533680"/>
            <a:ext cx="238320" cy="194760"/>
            <a:chOff x="784080" y="2533680"/>
            <a:chExt cx="238320" cy="194760"/>
          </a:xfrm>
        </p:grpSpPr>
        <p:sp>
          <p:nvSpPr>
            <p:cNvPr id="317" name=""/>
            <p:cNvSpPr/>
            <p:nvPr/>
          </p:nvSpPr>
          <p:spPr>
            <a:xfrm>
              <a:off x="784080" y="2570040"/>
              <a:ext cx="238320" cy="158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88840" y="253368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070280" y="2598840"/>
            <a:ext cx="182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3800" y="2647800"/>
            <a:ext cx="27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51000" y="2158920"/>
            <a:ext cx="347040" cy="299880"/>
            <a:chOff x="351000" y="2158920"/>
            <a:chExt cx="347040" cy="299880"/>
          </a:xfrm>
        </p:grpSpPr>
        <p:grpSp>
          <p:nvGrpSpPr>
            <p:cNvPr id="322" name=""/>
            <p:cNvGrpSpPr/>
            <p:nvPr/>
          </p:nvGrpSpPr>
          <p:grpSpPr>
            <a:xfrm>
              <a:off x="492120" y="2158920"/>
              <a:ext cx="76320" cy="63360"/>
              <a:chOff x="492120" y="2158920"/>
              <a:chExt cx="76320" cy="63360"/>
            </a:xfrm>
          </p:grpSpPr>
          <p:sp>
            <p:nvSpPr>
              <p:cNvPr id="323" name=""/>
              <p:cNvSpPr/>
              <p:nvPr/>
            </p:nvSpPr>
            <p:spPr>
              <a:xfrm>
                <a:off x="492120" y="215892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68440" y="215892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351000" y="2222640"/>
              <a:ext cx="347040" cy="236160"/>
              <a:chOff x="351000" y="2222640"/>
              <a:chExt cx="347040" cy="236160"/>
            </a:xfrm>
          </p:grpSpPr>
          <p:sp>
            <p:nvSpPr>
              <p:cNvPr id="326" name=""/>
              <p:cNvSpPr/>
              <p:nvPr/>
            </p:nvSpPr>
            <p:spPr>
              <a:xfrm>
                <a:off x="351000" y="2222640"/>
                <a:ext cx="347040" cy="236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54600" y="2226240"/>
                <a:ext cx="338400" cy="231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1000" y="2226240"/>
                <a:ext cx="345600" cy="22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1072800" y="2898720"/>
            <a:ext cx="205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Infantry Company 1915  WW1-ME-GE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3800" y="2943360"/>
            <a:ext cx="31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93880" y="27734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0960" y="2838600"/>
            <a:ext cx="284040" cy="1936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754200" y="2841120"/>
            <a:ext cx="276120" cy="18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0960" y="2841480"/>
            <a:ext cx="282600" cy="184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82520" y="3027240"/>
            <a:ext cx="924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9120" y="321948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87560" y="3154680"/>
            <a:ext cx="194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-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-08 HMG                 WW1-GE08 (from regimental MG compan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849240" y="3095640"/>
            <a:ext cx="74520" cy="28080"/>
            <a:chOff x="849240" y="3095640"/>
            <a:chExt cx="74520" cy="28080"/>
          </a:xfrm>
        </p:grpSpPr>
        <p:sp>
          <p:nvSpPr>
            <p:cNvPr id="339" name=""/>
            <p:cNvSpPr/>
            <p:nvPr/>
          </p:nvSpPr>
          <p:spPr>
            <a:xfrm>
              <a:off x="849240" y="309564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96760" y="309708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771480" y="3137040"/>
            <a:ext cx="231840" cy="156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71480" y="3143160"/>
            <a:ext cx="50760" cy="1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77960" y="3131640"/>
            <a:ext cx="230040" cy="14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89120" y="3160800"/>
            <a:ext cx="218880" cy="136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3800" y="2641680"/>
            <a:ext cx="1800" cy="579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2400" y="3681720"/>
            <a:ext cx="173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G06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äge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attalion, 19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9800" y="3852720"/>
            <a:ext cx="1800" cy="57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35000" y="4257720"/>
            <a:ext cx="164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19160" y="394956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0080" y="4019400"/>
            <a:ext cx="238320" cy="195480"/>
            <a:chOff x="730080" y="4019400"/>
            <a:chExt cx="238320" cy="195480"/>
          </a:xfrm>
        </p:grpSpPr>
        <p:sp>
          <p:nvSpPr>
            <p:cNvPr id="351" name=""/>
            <p:cNvSpPr/>
            <p:nvPr/>
          </p:nvSpPr>
          <p:spPr>
            <a:xfrm>
              <a:off x="730080" y="4056120"/>
              <a:ext cx="238320" cy="158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4840" y="40194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015560" y="4084560"/>
            <a:ext cx="1910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9800" y="4133880"/>
            <a:ext cx="27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97000" y="3645000"/>
            <a:ext cx="347040" cy="299160"/>
            <a:chOff x="297000" y="3645000"/>
            <a:chExt cx="347040" cy="299160"/>
          </a:xfrm>
        </p:grpSpPr>
        <p:grpSp>
          <p:nvGrpSpPr>
            <p:cNvPr id="356" name=""/>
            <p:cNvGrpSpPr/>
            <p:nvPr/>
          </p:nvGrpSpPr>
          <p:grpSpPr>
            <a:xfrm>
              <a:off x="438120" y="3645000"/>
              <a:ext cx="76320" cy="63360"/>
              <a:chOff x="438120" y="3645000"/>
              <a:chExt cx="76320" cy="63360"/>
            </a:xfrm>
          </p:grpSpPr>
          <p:sp>
            <p:nvSpPr>
              <p:cNvPr id="357" name=""/>
              <p:cNvSpPr/>
              <p:nvPr/>
            </p:nvSpPr>
            <p:spPr>
              <a:xfrm>
                <a:off x="438120" y="364500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4440" y="364500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297000" y="3708360"/>
              <a:ext cx="347040" cy="235800"/>
              <a:chOff x="297000" y="3708360"/>
              <a:chExt cx="347040" cy="235800"/>
            </a:xfrm>
          </p:grpSpPr>
          <p:sp>
            <p:nvSpPr>
              <p:cNvPr id="360" name=""/>
              <p:cNvSpPr/>
              <p:nvPr/>
            </p:nvSpPr>
            <p:spPr>
              <a:xfrm>
                <a:off x="297000" y="3708360"/>
                <a:ext cx="347040" cy="235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300600" y="3711600"/>
                <a:ext cx="338400" cy="23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7000" y="3711960"/>
                <a:ext cx="345600" cy="22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1020240" y="4384800"/>
            <a:ext cx="2096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Jäger Company 1915-16  WW1-ME-GE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9800" y="4429080"/>
            <a:ext cx="31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9880" y="42591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96960" y="4324320"/>
            <a:ext cx="284040" cy="1936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700200" y="4327200"/>
            <a:ext cx="276120" cy="18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96960" y="4327560"/>
            <a:ext cx="282600" cy="18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036800" y="4835520"/>
            <a:ext cx="9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3040" y="499572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41480" y="4935600"/>
            <a:ext cx="19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-08 HMG                     WW1-GE08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71400" y="4878360"/>
            <a:ext cx="233640" cy="198360"/>
            <a:chOff x="671400" y="4878360"/>
            <a:chExt cx="233640" cy="198360"/>
          </a:xfrm>
        </p:grpSpPr>
        <p:grpSp>
          <p:nvGrpSpPr>
            <p:cNvPr id="373" name=""/>
            <p:cNvGrpSpPr/>
            <p:nvPr/>
          </p:nvGrpSpPr>
          <p:grpSpPr>
            <a:xfrm>
              <a:off x="752400" y="4878360"/>
              <a:ext cx="74520" cy="28800"/>
              <a:chOff x="752400" y="4878360"/>
              <a:chExt cx="74520" cy="28800"/>
            </a:xfrm>
          </p:grpSpPr>
          <p:sp>
            <p:nvSpPr>
              <p:cNvPr id="374" name=""/>
              <p:cNvSpPr/>
              <p:nvPr/>
            </p:nvSpPr>
            <p:spPr>
              <a:xfrm>
                <a:off x="752400" y="48783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99920" y="48801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673200" y="4919760"/>
              <a:ext cx="23184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71400" y="4926240"/>
              <a:ext cx="50760" cy="14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74640" y="4914720"/>
              <a:ext cx="2304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1120" y="4937040"/>
              <a:ext cx="218880" cy="13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469800" y="4429080"/>
            <a:ext cx="1800" cy="57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2760" y="468936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49440" y="4521240"/>
            <a:ext cx="300960" cy="274680"/>
            <a:chOff x="649440" y="4521240"/>
            <a:chExt cx="300960" cy="274680"/>
          </a:xfrm>
        </p:grpSpPr>
        <p:grpSp>
          <p:nvGrpSpPr>
            <p:cNvPr id="383" name=""/>
            <p:cNvGrpSpPr/>
            <p:nvPr/>
          </p:nvGrpSpPr>
          <p:grpSpPr>
            <a:xfrm>
              <a:off x="649440" y="4591080"/>
              <a:ext cx="294840" cy="199440"/>
              <a:chOff x="649440" y="4591080"/>
              <a:chExt cx="294840" cy="199440"/>
            </a:xfrm>
          </p:grpSpPr>
          <p:sp>
            <p:nvSpPr>
              <p:cNvPr id="384" name=""/>
              <p:cNvSpPr/>
              <p:nvPr/>
            </p:nvSpPr>
            <p:spPr>
              <a:xfrm>
                <a:off x="649440" y="4591080"/>
                <a:ext cx="294840" cy="19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9440" y="4598640"/>
                <a:ext cx="64440" cy="185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 flipV="1">
              <a:off x="657000" y="4584240"/>
              <a:ext cx="293400" cy="18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1400" y="4621320"/>
              <a:ext cx="279000" cy="17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9920" y="45212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011240" y="4630680"/>
            <a:ext cx="204624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MG Company  1914-15  WW1-ME-GE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384120" y="4592520"/>
            <a:ext cx="152280" cy="457200"/>
            <a:chOff x="384120" y="4592520"/>
            <a:chExt cx="152280" cy="457200"/>
          </a:xfrm>
        </p:grpSpPr>
        <p:sp>
          <p:nvSpPr>
            <p:cNvPr id="391" name=""/>
            <p:cNvSpPr/>
            <p:nvPr/>
          </p:nvSpPr>
          <p:spPr>
            <a:xfrm>
              <a:off x="384120" y="4592520"/>
              <a:ext cx="0" cy="45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4120" y="4592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4120" y="5049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028880" y="4727520"/>
            <a:ext cx="42516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91000" y="424080"/>
            <a:ext cx="206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 WW1-ME-GE0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Company, 19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0560" y="1033560"/>
            <a:ext cx="210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Infantry Platoon, 1915   WW1-SME-GE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384720" y="109548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62360" y="66672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3484440" y="736560"/>
            <a:ext cx="238320" cy="195480"/>
            <a:chOff x="3484440" y="736560"/>
            <a:chExt cx="238320" cy="195480"/>
          </a:xfrm>
        </p:grpSpPr>
        <p:sp>
          <p:nvSpPr>
            <p:cNvPr id="400" name=""/>
            <p:cNvSpPr/>
            <p:nvPr/>
          </p:nvSpPr>
          <p:spPr>
            <a:xfrm>
              <a:off x="3484440" y="773280"/>
              <a:ext cx="238320" cy="158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89200" y="7365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3759480" y="801720"/>
            <a:ext cx="18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84720" y="84312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79680" y="525600"/>
            <a:ext cx="0" cy="57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236760" y="371520"/>
            <a:ext cx="284400" cy="243000"/>
            <a:chOff x="3236760" y="371520"/>
            <a:chExt cx="284400" cy="243000"/>
          </a:xfrm>
        </p:grpSpPr>
        <p:sp>
          <p:nvSpPr>
            <p:cNvPr id="406" name=""/>
            <p:cNvSpPr/>
            <p:nvPr/>
          </p:nvSpPr>
          <p:spPr>
            <a:xfrm>
              <a:off x="3379680" y="3715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3236760" y="420840"/>
              <a:ext cx="284400" cy="193680"/>
              <a:chOff x="3236760" y="420840"/>
              <a:chExt cx="284400" cy="193680"/>
            </a:xfrm>
          </p:grpSpPr>
          <p:sp>
            <p:nvSpPr>
              <p:cNvPr id="408" name=""/>
              <p:cNvSpPr/>
              <p:nvPr/>
            </p:nvSpPr>
            <p:spPr>
              <a:xfrm>
                <a:off x="3236760" y="420840"/>
                <a:ext cx="284400" cy="1936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3239640" y="423720"/>
                <a:ext cx="276840" cy="18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236760" y="423720"/>
                <a:ext cx="282960" cy="18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1" name=""/>
          <p:cNvGrpSpPr/>
          <p:nvPr/>
        </p:nvGrpSpPr>
        <p:grpSpPr>
          <a:xfrm>
            <a:off x="3530520" y="969840"/>
            <a:ext cx="131760" cy="27000"/>
            <a:chOff x="3530520" y="969840"/>
            <a:chExt cx="131760" cy="27000"/>
          </a:xfrm>
        </p:grpSpPr>
        <p:sp>
          <p:nvSpPr>
            <p:cNvPr id="412" name=""/>
            <p:cNvSpPr/>
            <p:nvPr/>
          </p:nvSpPr>
          <p:spPr>
            <a:xfrm>
              <a:off x="3530520" y="9698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81280" y="9698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35280" y="9698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3459240" y="1017720"/>
            <a:ext cx="274680" cy="185760"/>
            <a:chOff x="3459240" y="1017720"/>
            <a:chExt cx="274680" cy="185760"/>
          </a:xfrm>
        </p:grpSpPr>
        <p:sp>
          <p:nvSpPr>
            <p:cNvPr id="416" name=""/>
            <p:cNvSpPr/>
            <p:nvPr/>
          </p:nvSpPr>
          <p:spPr>
            <a:xfrm>
              <a:off x="3459240" y="1017720"/>
              <a:ext cx="274680" cy="185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3461760" y="1020240"/>
              <a:ext cx="267480" cy="18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59240" y="1020240"/>
              <a:ext cx="273240" cy="17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3511440" y="1252440"/>
            <a:ext cx="131760" cy="27000"/>
            <a:chOff x="3511440" y="1252440"/>
            <a:chExt cx="131760" cy="27000"/>
          </a:xfrm>
        </p:grpSpPr>
        <p:sp>
          <p:nvSpPr>
            <p:cNvPr id="420" name=""/>
            <p:cNvSpPr/>
            <p:nvPr/>
          </p:nvSpPr>
          <p:spPr>
            <a:xfrm>
              <a:off x="3511440" y="12524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62200" y="12524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16200" y="12524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576600" y="136224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44840" y="1290600"/>
            <a:ext cx="274680" cy="1857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448080" y="1293480"/>
            <a:ext cx="266760" cy="1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44840" y="1293840"/>
            <a:ext cx="273240" cy="176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787920" y="1268640"/>
            <a:ext cx="245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bmaneuver Element WW1-SME-GE02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Platoon, 19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165420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965760" y="1568520"/>
            <a:ext cx="1787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5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ifle                              WW1-GE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689280" y="1563840"/>
            <a:ext cx="231840" cy="1569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691080" y="1566720"/>
            <a:ext cx="22680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89280" y="1566720"/>
            <a:ext cx="230400" cy="149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67040" y="152388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4920" y="152388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75160" y="186840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78000" y="1797120"/>
            <a:ext cx="176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dgrenatentrupp       WW1-GE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691080" y="1790640"/>
            <a:ext cx="231480" cy="1573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692520" y="1793520"/>
            <a:ext cx="22716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691080" y="1793880"/>
            <a:ext cx="230040" cy="149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768840" y="1755720"/>
            <a:ext cx="74520" cy="27000"/>
            <a:chOff x="3768840" y="1755720"/>
            <a:chExt cx="74520" cy="27000"/>
          </a:xfrm>
        </p:grpSpPr>
        <p:sp>
          <p:nvSpPr>
            <p:cNvPr id="441" name=""/>
            <p:cNvSpPr/>
            <p:nvPr/>
          </p:nvSpPr>
          <p:spPr>
            <a:xfrm>
              <a:off x="3768840" y="17557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17557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792600" y="1905120"/>
            <a:ext cx="28440" cy="27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83080" y="2351520"/>
            <a:ext cx="196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 WW1-MEG04 Jäger Company, 1915-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228840" y="2298600"/>
            <a:ext cx="284400" cy="243000"/>
            <a:chOff x="3228840" y="2298600"/>
            <a:chExt cx="284400" cy="243000"/>
          </a:xfrm>
        </p:grpSpPr>
        <p:sp>
          <p:nvSpPr>
            <p:cNvPr id="446" name=""/>
            <p:cNvSpPr/>
            <p:nvPr/>
          </p:nvSpPr>
          <p:spPr>
            <a:xfrm>
              <a:off x="3371760" y="229860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3228840" y="2347920"/>
              <a:ext cx="284400" cy="193680"/>
              <a:chOff x="3228840" y="2347920"/>
              <a:chExt cx="284400" cy="193680"/>
            </a:xfrm>
          </p:grpSpPr>
          <p:sp>
            <p:nvSpPr>
              <p:cNvPr id="448" name=""/>
              <p:cNvSpPr/>
              <p:nvPr/>
            </p:nvSpPr>
            <p:spPr>
              <a:xfrm>
                <a:off x="3228840" y="2347920"/>
                <a:ext cx="284400" cy="1936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3231720" y="2350800"/>
                <a:ext cx="276840" cy="18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28840" y="2350800"/>
                <a:ext cx="282960" cy="18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3378240" y="300816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755880" y="257976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478320" y="2649600"/>
            <a:ext cx="237960" cy="194760"/>
            <a:chOff x="3478320" y="2649600"/>
            <a:chExt cx="237960" cy="194760"/>
          </a:xfrm>
        </p:grpSpPr>
        <p:sp>
          <p:nvSpPr>
            <p:cNvPr id="454" name=""/>
            <p:cNvSpPr/>
            <p:nvPr/>
          </p:nvSpPr>
          <p:spPr>
            <a:xfrm>
              <a:off x="3478320" y="2685960"/>
              <a:ext cx="237960" cy="158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82720" y="2649600"/>
              <a:ext cx="266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753360" y="2714760"/>
            <a:ext cx="1765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378240" y="275580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763800" y="2922480"/>
            <a:ext cx="1756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fle                            WW1-GE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3486240" y="2878200"/>
            <a:ext cx="231840" cy="196920"/>
            <a:chOff x="3486240" y="2878200"/>
            <a:chExt cx="231840" cy="196920"/>
          </a:xfrm>
        </p:grpSpPr>
        <p:grpSp>
          <p:nvGrpSpPr>
            <p:cNvPr id="460" name=""/>
            <p:cNvGrpSpPr/>
            <p:nvPr/>
          </p:nvGrpSpPr>
          <p:grpSpPr>
            <a:xfrm>
              <a:off x="3486240" y="2917800"/>
              <a:ext cx="231840" cy="157320"/>
              <a:chOff x="3486240" y="2917800"/>
              <a:chExt cx="231840" cy="157320"/>
            </a:xfrm>
          </p:grpSpPr>
          <p:sp>
            <p:nvSpPr>
              <p:cNvPr id="461" name=""/>
              <p:cNvSpPr/>
              <p:nvPr/>
            </p:nvSpPr>
            <p:spPr>
              <a:xfrm>
                <a:off x="3486240" y="2917800"/>
                <a:ext cx="23184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3487680" y="2920680"/>
                <a:ext cx="22716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486240" y="2921040"/>
                <a:ext cx="23004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3564000" y="2878200"/>
              <a:ext cx="74520" cy="27000"/>
              <a:chOff x="3564000" y="2878200"/>
              <a:chExt cx="74520" cy="27000"/>
            </a:xfrm>
          </p:grpSpPr>
          <p:sp>
            <p:nvSpPr>
              <p:cNvPr id="465" name=""/>
              <p:cNvSpPr/>
              <p:nvPr/>
            </p:nvSpPr>
            <p:spPr>
              <a:xfrm>
                <a:off x="3564000" y="28782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611520" y="28782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7" name=""/>
          <p:cNvSpPr/>
          <p:nvPr/>
        </p:nvSpPr>
        <p:spPr>
          <a:xfrm>
            <a:off x="3371760" y="322272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774960" y="3151080"/>
            <a:ext cx="176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dgrenatentrupp       WW1-GE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487680" y="3110040"/>
            <a:ext cx="231840" cy="191520"/>
            <a:chOff x="3487680" y="3110040"/>
            <a:chExt cx="231840" cy="191520"/>
          </a:xfrm>
        </p:grpSpPr>
        <p:sp>
          <p:nvSpPr>
            <p:cNvPr id="470" name=""/>
            <p:cNvSpPr/>
            <p:nvPr/>
          </p:nvSpPr>
          <p:spPr>
            <a:xfrm>
              <a:off x="3487680" y="3144600"/>
              <a:ext cx="231840" cy="156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3489120" y="3147840"/>
              <a:ext cx="22716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487680" y="3147840"/>
              <a:ext cx="230040" cy="14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3565440" y="3110040"/>
              <a:ext cx="74520" cy="26640"/>
              <a:chOff x="3565440" y="3110040"/>
              <a:chExt cx="74520" cy="26640"/>
            </a:xfrm>
          </p:grpSpPr>
          <p:sp>
            <p:nvSpPr>
              <p:cNvPr id="474" name=""/>
              <p:cNvSpPr/>
              <p:nvPr/>
            </p:nvSpPr>
            <p:spPr>
              <a:xfrm>
                <a:off x="3565440" y="31100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612960" y="31100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3589200" y="3259080"/>
              <a:ext cx="28440" cy="2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222720" y="3436920"/>
            <a:ext cx="310680" cy="261720"/>
            <a:chOff x="3222720" y="3436920"/>
            <a:chExt cx="310680" cy="261720"/>
          </a:xfrm>
        </p:grpSpPr>
        <p:grpSp>
          <p:nvGrpSpPr>
            <p:cNvPr id="478" name=""/>
            <p:cNvGrpSpPr/>
            <p:nvPr/>
          </p:nvGrpSpPr>
          <p:grpSpPr>
            <a:xfrm>
              <a:off x="3222720" y="3495960"/>
              <a:ext cx="310680" cy="202680"/>
              <a:chOff x="3222720" y="3495960"/>
              <a:chExt cx="310680" cy="202680"/>
            </a:xfrm>
          </p:grpSpPr>
          <p:sp>
            <p:nvSpPr>
              <p:cNvPr id="479" name=""/>
              <p:cNvSpPr/>
              <p:nvPr/>
            </p:nvSpPr>
            <p:spPr>
              <a:xfrm>
                <a:off x="3222720" y="3495960"/>
                <a:ext cx="310680" cy="20268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3331800" y="3645000"/>
                <a:ext cx="82080" cy="18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372840" y="3536640"/>
                <a:ext cx="0" cy="1083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3378240" y="343692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3635280" y="3513600"/>
            <a:ext cx="196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 WW1-MEG05 Independent Mortar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55880" y="379872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478320" y="3868560"/>
            <a:ext cx="237960" cy="195480"/>
            <a:chOff x="3478320" y="3868560"/>
            <a:chExt cx="237960" cy="195480"/>
          </a:xfrm>
        </p:grpSpPr>
        <p:sp>
          <p:nvSpPr>
            <p:cNvPr id="486" name=""/>
            <p:cNvSpPr/>
            <p:nvPr/>
          </p:nvSpPr>
          <p:spPr>
            <a:xfrm>
              <a:off x="3478320" y="3905280"/>
              <a:ext cx="237960" cy="158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82720" y="38685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751200" y="3933720"/>
            <a:ext cx="2113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378240" y="398304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487680" y="4111560"/>
            <a:ext cx="239760" cy="192240"/>
            <a:chOff x="3487680" y="4111560"/>
            <a:chExt cx="239760" cy="192240"/>
          </a:xfrm>
        </p:grpSpPr>
        <p:grpSp>
          <p:nvGrpSpPr>
            <p:cNvPr id="491" name=""/>
            <p:cNvGrpSpPr/>
            <p:nvPr/>
          </p:nvGrpSpPr>
          <p:grpSpPr>
            <a:xfrm>
              <a:off x="3487680" y="4146480"/>
              <a:ext cx="239760" cy="157320"/>
              <a:chOff x="3487680" y="4146480"/>
              <a:chExt cx="239760" cy="157320"/>
            </a:xfrm>
          </p:grpSpPr>
          <p:sp>
            <p:nvSpPr>
              <p:cNvPr id="492" name=""/>
              <p:cNvSpPr/>
              <p:nvPr/>
            </p:nvSpPr>
            <p:spPr>
              <a:xfrm>
                <a:off x="3487680" y="4146480"/>
                <a:ext cx="239760" cy="15732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3571920" y="4262400"/>
                <a:ext cx="63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603600" y="4178160"/>
                <a:ext cx="0" cy="84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3570120" y="4111560"/>
              <a:ext cx="74520" cy="27000"/>
              <a:chOff x="3570120" y="4111560"/>
              <a:chExt cx="74520" cy="27000"/>
            </a:xfrm>
          </p:grpSpPr>
          <p:sp>
            <p:nvSpPr>
              <p:cNvPr id="496" name=""/>
              <p:cNvSpPr/>
              <p:nvPr/>
            </p:nvSpPr>
            <p:spPr>
              <a:xfrm>
                <a:off x="3570120" y="41115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17640" y="41115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8" name=""/>
          <p:cNvSpPr/>
          <p:nvPr/>
        </p:nvSpPr>
        <p:spPr>
          <a:xfrm>
            <a:off x="3376440" y="421956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70280" y="4140360"/>
            <a:ext cx="2096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cm Heavy Trench Mortar      WW1-GE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3489480" y="4327560"/>
            <a:ext cx="239400" cy="191520"/>
            <a:chOff x="3489480" y="4327560"/>
            <a:chExt cx="239400" cy="191520"/>
          </a:xfrm>
        </p:grpSpPr>
        <p:grpSp>
          <p:nvGrpSpPr>
            <p:cNvPr id="501" name=""/>
            <p:cNvGrpSpPr/>
            <p:nvPr/>
          </p:nvGrpSpPr>
          <p:grpSpPr>
            <a:xfrm>
              <a:off x="3489480" y="4362120"/>
              <a:ext cx="239400" cy="156960"/>
              <a:chOff x="3489480" y="4362120"/>
              <a:chExt cx="239400" cy="156960"/>
            </a:xfrm>
          </p:grpSpPr>
          <p:sp>
            <p:nvSpPr>
              <p:cNvPr id="502" name=""/>
              <p:cNvSpPr/>
              <p:nvPr/>
            </p:nvSpPr>
            <p:spPr>
              <a:xfrm>
                <a:off x="3489480" y="4362120"/>
                <a:ext cx="239400" cy="1569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3573360" y="4477320"/>
                <a:ext cx="6300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605040" y="4393440"/>
                <a:ext cx="0" cy="83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3571560" y="4327560"/>
              <a:ext cx="74520" cy="26640"/>
              <a:chOff x="3571560" y="4327560"/>
              <a:chExt cx="74520" cy="26640"/>
            </a:xfrm>
          </p:grpSpPr>
          <p:sp>
            <p:nvSpPr>
              <p:cNvPr id="506" name=""/>
              <p:cNvSpPr/>
              <p:nvPr/>
            </p:nvSpPr>
            <p:spPr>
              <a:xfrm>
                <a:off x="3571560" y="43275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619080" y="43275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8" name=""/>
          <p:cNvSpPr/>
          <p:nvPr/>
        </p:nvSpPr>
        <p:spPr>
          <a:xfrm>
            <a:off x="3378240" y="443556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72080" y="4356000"/>
            <a:ext cx="2111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cm Medium Trench Mortar    WW1-GE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486240" y="4543560"/>
            <a:ext cx="239760" cy="191520"/>
            <a:chOff x="3486240" y="4543560"/>
            <a:chExt cx="239760" cy="191520"/>
          </a:xfrm>
        </p:grpSpPr>
        <p:grpSp>
          <p:nvGrpSpPr>
            <p:cNvPr id="511" name=""/>
            <p:cNvGrpSpPr/>
            <p:nvPr/>
          </p:nvGrpSpPr>
          <p:grpSpPr>
            <a:xfrm>
              <a:off x="3486240" y="4578120"/>
              <a:ext cx="239760" cy="156960"/>
              <a:chOff x="3486240" y="4578120"/>
              <a:chExt cx="239760" cy="156960"/>
            </a:xfrm>
          </p:grpSpPr>
          <p:sp>
            <p:nvSpPr>
              <p:cNvPr id="512" name=""/>
              <p:cNvSpPr/>
              <p:nvPr/>
            </p:nvSpPr>
            <p:spPr>
              <a:xfrm>
                <a:off x="3486240" y="4578120"/>
                <a:ext cx="239760" cy="1569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3570480" y="4693320"/>
                <a:ext cx="6336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602160" y="4609440"/>
                <a:ext cx="0" cy="83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3568680" y="4543560"/>
              <a:ext cx="74520" cy="26640"/>
              <a:chOff x="3568680" y="4543560"/>
              <a:chExt cx="74520" cy="26640"/>
            </a:xfrm>
          </p:grpSpPr>
          <p:sp>
            <p:nvSpPr>
              <p:cNvPr id="516" name=""/>
              <p:cNvSpPr/>
              <p:nvPr/>
            </p:nvSpPr>
            <p:spPr>
              <a:xfrm>
                <a:off x="3568680" y="45435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616200" y="45435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8" name=""/>
          <p:cNvSpPr/>
          <p:nvPr/>
        </p:nvSpPr>
        <p:spPr>
          <a:xfrm>
            <a:off x="3375000" y="465120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69560" y="4572000"/>
            <a:ext cx="2113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62cm Light Trench Mortar      WW1-GE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71840" y="4824360"/>
            <a:ext cx="265608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e per division 1915-1918). Note that the combat values of the mortars change in later years-substitute the appropriate uni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62 WW1-GE16 in 1916, WW1-GE17 in 1917-19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cm WW1-GE19 in 1916, WW1-GE20 in 1917-1918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85840" y="4105440"/>
            <a:ext cx="1440" cy="487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I German, 1916 B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74680" y="166536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31960" y="1892520"/>
            <a:ext cx="223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Ind. Assault Co. ,1916          WW1-ME-GE07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82600" y="197316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09760" y="1803240"/>
            <a:ext cx="284040" cy="258840"/>
            <a:chOff x="509760" y="1803240"/>
            <a:chExt cx="284040" cy="258840"/>
          </a:xfrm>
        </p:grpSpPr>
        <p:sp>
          <p:nvSpPr>
            <p:cNvPr id="527" name=""/>
            <p:cNvSpPr/>
            <p:nvPr/>
          </p:nvSpPr>
          <p:spPr>
            <a:xfrm>
              <a:off x="652680" y="18032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9760" y="1868400"/>
              <a:ext cx="284040" cy="193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13000" y="1870920"/>
              <a:ext cx="27612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9760" y="1871280"/>
              <a:ext cx="2826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 flipV="1">
            <a:off x="533520" y="1534680"/>
            <a:ext cx="230040" cy="14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44680" y="1563840"/>
            <a:ext cx="218880" cy="136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4040" y="581400"/>
            <a:ext cx="181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GE07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Regiment, 19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71440" y="700200"/>
            <a:ext cx="4680" cy="17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66880" y="1149480"/>
            <a:ext cx="1641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66880" y="84924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531720" y="919080"/>
            <a:ext cx="238320" cy="195480"/>
            <a:chOff x="531720" y="919080"/>
            <a:chExt cx="238320" cy="195480"/>
          </a:xfrm>
        </p:grpSpPr>
        <p:sp>
          <p:nvSpPr>
            <p:cNvPr id="538" name=""/>
            <p:cNvSpPr/>
            <p:nvPr/>
          </p:nvSpPr>
          <p:spPr>
            <a:xfrm>
              <a:off x="531720" y="955800"/>
              <a:ext cx="238320" cy="158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36480" y="9190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863280" y="984240"/>
            <a:ext cx="193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1440" y="1033560"/>
            <a:ext cx="27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98280" y="608040"/>
            <a:ext cx="347400" cy="236160"/>
            <a:chOff x="98280" y="608040"/>
            <a:chExt cx="347400" cy="236160"/>
          </a:xfrm>
        </p:grpSpPr>
        <p:sp>
          <p:nvSpPr>
            <p:cNvPr id="543" name=""/>
            <p:cNvSpPr/>
            <p:nvPr/>
          </p:nvSpPr>
          <p:spPr>
            <a:xfrm>
              <a:off x="98280" y="608040"/>
              <a:ext cx="347400" cy="236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101880" y="611640"/>
              <a:ext cx="338760" cy="23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280" y="611640"/>
              <a:ext cx="34596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862560" y="1277640"/>
            <a:ext cx="2244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3 Infantry Battal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W1-BG-GE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3520" y="132876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604800" y="1138320"/>
            <a:ext cx="76320" cy="63360"/>
            <a:chOff x="604800" y="1138320"/>
            <a:chExt cx="76320" cy="63360"/>
          </a:xfrm>
        </p:grpSpPr>
        <p:sp>
          <p:nvSpPr>
            <p:cNvPr id="549" name=""/>
            <p:cNvSpPr/>
            <p:nvPr/>
          </p:nvSpPr>
          <p:spPr>
            <a:xfrm>
              <a:off x="604800" y="11383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1120" y="11383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463680" y="1201680"/>
            <a:ext cx="347040" cy="236160"/>
            <a:chOff x="463680" y="1201680"/>
            <a:chExt cx="347040" cy="236160"/>
          </a:xfrm>
        </p:grpSpPr>
        <p:sp>
          <p:nvSpPr>
            <p:cNvPr id="552" name=""/>
            <p:cNvSpPr/>
            <p:nvPr/>
          </p:nvSpPr>
          <p:spPr>
            <a:xfrm>
              <a:off x="463680" y="1201680"/>
              <a:ext cx="347040" cy="236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467280" y="1205280"/>
              <a:ext cx="338400" cy="23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3680" y="1205280"/>
              <a:ext cx="34560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206280" y="555480"/>
            <a:ext cx="131760" cy="65160"/>
            <a:chOff x="206280" y="555480"/>
            <a:chExt cx="131760" cy="65160"/>
          </a:xfrm>
        </p:grpSpPr>
        <p:sp>
          <p:nvSpPr>
            <p:cNvPr id="556" name=""/>
            <p:cNvSpPr/>
            <p:nvPr/>
          </p:nvSpPr>
          <p:spPr>
            <a:xfrm>
              <a:off x="272880" y="5572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06280" y="5572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38040" y="5554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66880" y="1428840"/>
            <a:ext cx="9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88880" y="1496880"/>
            <a:ext cx="301680" cy="274680"/>
            <a:chOff x="488880" y="1496880"/>
            <a:chExt cx="301680" cy="274680"/>
          </a:xfrm>
        </p:grpSpPr>
        <p:grpSp>
          <p:nvGrpSpPr>
            <p:cNvPr id="561" name=""/>
            <p:cNvGrpSpPr/>
            <p:nvPr/>
          </p:nvGrpSpPr>
          <p:grpSpPr>
            <a:xfrm>
              <a:off x="488880" y="1566720"/>
              <a:ext cx="295200" cy="199440"/>
              <a:chOff x="488880" y="1566720"/>
              <a:chExt cx="295200" cy="199440"/>
            </a:xfrm>
          </p:grpSpPr>
          <p:sp>
            <p:nvSpPr>
              <p:cNvPr id="562" name=""/>
              <p:cNvSpPr/>
              <p:nvPr/>
            </p:nvSpPr>
            <p:spPr>
              <a:xfrm>
                <a:off x="488880" y="1566720"/>
                <a:ext cx="295200" cy="19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88880" y="1574280"/>
                <a:ext cx="64440" cy="185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 flipV="1">
              <a:off x="496800" y="1559880"/>
              <a:ext cx="293760" cy="18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1200" y="1596960"/>
              <a:ext cx="279360" cy="17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39720" y="14968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851040" y="1606680"/>
            <a:ext cx="220824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-3 MG Company 1916           WW1-ME-GE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536400" y="2125800"/>
            <a:ext cx="239760" cy="191520"/>
            <a:chOff x="536400" y="2125800"/>
            <a:chExt cx="239760" cy="191520"/>
          </a:xfrm>
        </p:grpSpPr>
        <p:grpSp>
          <p:nvGrpSpPr>
            <p:cNvPr id="569" name=""/>
            <p:cNvGrpSpPr/>
            <p:nvPr/>
          </p:nvGrpSpPr>
          <p:grpSpPr>
            <a:xfrm>
              <a:off x="536400" y="2160360"/>
              <a:ext cx="239760" cy="156960"/>
              <a:chOff x="536400" y="2160360"/>
              <a:chExt cx="239760" cy="156960"/>
            </a:xfrm>
          </p:grpSpPr>
          <p:sp>
            <p:nvSpPr>
              <p:cNvPr id="570" name=""/>
              <p:cNvSpPr/>
              <p:nvPr/>
            </p:nvSpPr>
            <p:spPr>
              <a:xfrm>
                <a:off x="536400" y="2160360"/>
                <a:ext cx="239760" cy="1569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620640" y="2275560"/>
                <a:ext cx="6336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52320" y="2191680"/>
                <a:ext cx="0" cy="83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618840" y="2125800"/>
              <a:ext cx="74520" cy="26640"/>
              <a:chOff x="618840" y="2125800"/>
              <a:chExt cx="74520" cy="26640"/>
            </a:xfrm>
          </p:grpSpPr>
          <p:sp>
            <p:nvSpPr>
              <p:cNvPr id="574" name=""/>
              <p:cNvSpPr/>
              <p:nvPr/>
            </p:nvSpPr>
            <p:spPr>
              <a:xfrm>
                <a:off x="618840" y="21258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66360" y="21258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6" name=""/>
          <p:cNvSpPr/>
          <p:nvPr/>
        </p:nvSpPr>
        <p:spPr>
          <a:xfrm>
            <a:off x="820440" y="2154240"/>
            <a:ext cx="20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62cm Light Trench Mortar    WW1-GE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17560" y="2370240"/>
            <a:ext cx="2141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8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nadethrower                       WW1-GE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74680" y="223992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4680" y="244476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33520" y="2341440"/>
            <a:ext cx="239760" cy="192240"/>
            <a:chOff x="533520" y="2341440"/>
            <a:chExt cx="239760" cy="192240"/>
          </a:xfrm>
        </p:grpSpPr>
        <p:grpSp>
          <p:nvGrpSpPr>
            <p:cNvPr id="581" name=""/>
            <p:cNvGrpSpPr/>
            <p:nvPr/>
          </p:nvGrpSpPr>
          <p:grpSpPr>
            <a:xfrm>
              <a:off x="533520" y="2341440"/>
              <a:ext cx="239760" cy="192240"/>
              <a:chOff x="533520" y="2341440"/>
              <a:chExt cx="239760" cy="192240"/>
            </a:xfrm>
          </p:grpSpPr>
          <p:grpSp>
            <p:nvGrpSpPr>
              <p:cNvPr id="582" name=""/>
              <p:cNvGrpSpPr/>
              <p:nvPr/>
            </p:nvGrpSpPr>
            <p:grpSpPr>
              <a:xfrm>
                <a:off x="533520" y="2376360"/>
                <a:ext cx="239760" cy="157320"/>
                <a:chOff x="533520" y="2376360"/>
                <a:chExt cx="239760" cy="15732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533520" y="2376360"/>
                  <a:ext cx="239760" cy="1573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flipV="1">
                  <a:off x="617760" y="2492280"/>
                  <a:ext cx="63360" cy="14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649440" y="2408040"/>
                  <a:ext cx="0" cy="842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615960" y="2341440"/>
                <a:ext cx="74520" cy="27000"/>
                <a:chOff x="615960" y="2341440"/>
                <a:chExt cx="74520" cy="2700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615960" y="23414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663480" y="23414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9" name=""/>
            <p:cNvSpPr/>
            <p:nvPr/>
          </p:nvSpPr>
          <p:spPr>
            <a:xfrm>
              <a:off x="546120" y="2389320"/>
              <a:ext cx="209520" cy="13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41440" y="2387160"/>
              <a:ext cx="220680" cy="135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569880" y="2686320"/>
            <a:ext cx="2048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GE08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Battalion, 19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82600" y="2857680"/>
            <a:ext cx="3240" cy="12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52480" y="3262320"/>
            <a:ext cx="164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6640" y="295416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47560" y="3024360"/>
            <a:ext cx="238320" cy="194760"/>
            <a:chOff x="547560" y="3024360"/>
            <a:chExt cx="238320" cy="194760"/>
          </a:xfrm>
        </p:grpSpPr>
        <p:sp>
          <p:nvSpPr>
            <p:cNvPr id="596" name=""/>
            <p:cNvSpPr/>
            <p:nvPr/>
          </p:nvSpPr>
          <p:spPr>
            <a:xfrm>
              <a:off x="547560" y="3060720"/>
              <a:ext cx="238320" cy="158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2320" y="302436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833760" y="3089160"/>
            <a:ext cx="182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7280" y="3138480"/>
            <a:ext cx="27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14480" y="2649600"/>
            <a:ext cx="347040" cy="299160"/>
            <a:chOff x="114480" y="2649600"/>
            <a:chExt cx="347040" cy="299160"/>
          </a:xfrm>
        </p:grpSpPr>
        <p:grpSp>
          <p:nvGrpSpPr>
            <p:cNvPr id="601" name=""/>
            <p:cNvGrpSpPr/>
            <p:nvPr/>
          </p:nvGrpSpPr>
          <p:grpSpPr>
            <a:xfrm>
              <a:off x="255600" y="2649600"/>
              <a:ext cx="76320" cy="63360"/>
              <a:chOff x="255600" y="2649600"/>
              <a:chExt cx="76320" cy="63360"/>
            </a:xfrm>
          </p:grpSpPr>
          <p:sp>
            <p:nvSpPr>
              <p:cNvPr id="602" name=""/>
              <p:cNvSpPr/>
              <p:nvPr/>
            </p:nvSpPr>
            <p:spPr>
              <a:xfrm>
                <a:off x="255600" y="264960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31920" y="264960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114480" y="2712960"/>
              <a:ext cx="347040" cy="235800"/>
              <a:chOff x="114480" y="2712960"/>
              <a:chExt cx="347040" cy="235800"/>
            </a:xfrm>
          </p:grpSpPr>
          <p:sp>
            <p:nvSpPr>
              <p:cNvPr id="605" name=""/>
              <p:cNvSpPr/>
              <p:nvPr/>
            </p:nvSpPr>
            <p:spPr>
              <a:xfrm>
                <a:off x="114480" y="2712960"/>
                <a:ext cx="347040" cy="235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118080" y="2716200"/>
                <a:ext cx="338400" cy="23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14480" y="2716560"/>
                <a:ext cx="345600" cy="22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8" name=""/>
          <p:cNvSpPr/>
          <p:nvPr/>
        </p:nvSpPr>
        <p:spPr>
          <a:xfrm>
            <a:off x="836280" y="3389400"/>
            <a:ext cx="205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Infantry Company 1916  WW1-ME-GE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7280" y="343368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57360" y="32637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4440" y="3328920"/>
            <a:ext cx="284040" cy="1936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517680" y="3331800"/>
            <a:ext cx="276120" cy="18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14440" y="3332160"/>
            <a:ext cx="282600" cy="184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541440" y="3622320"/>
            <a:ext cx="230040" cy="14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52600" y="3651120"/>
            <a:ext cx="218880" cy="136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93760" y="366876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9080" y="412740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914400" y="3999240"/>
            <a:ext cx="205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-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-08 HMG                 WW1-GE08 from regimental MG compan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74560" y="4003560"/>
            <a:ext cx="236520" cy="201600"/>
            <a:chOff x="574560" y="4003560"/>
            <a:chExt cx="236520" cy="201600"/>
          </a:xfrm>
        </p:grpSpPr>
        <p:grpSp>
          <p:nvGrpSpPr>
            <p:cNvPr id="620" name=""/>
            <p:cNvGrpSpPr/>
            <p:nvPr/>
          </p:nvGrpSpPr>
          <p:grpSpPr>
            <a:xfrm>
              <a:off x="652320" y="4003560"/>
              <a:ext cx="74520" cy="28080"/>
              <a:chOff x="652320" y="4003560"/>
              <a:chExt cx="74520" cy="28080"/>
            </a:xfrm>
          </p:grpSpPr>
          <p:sp>
            <p:nvSpPr>
              <p:cNvPr id="621" name=""/>
              <p:cNvSpPr/>
              <p:nvPr/>
            </p:nvSpPr>
            <p:spPr>
              <a:xfrm>
                <a:off x="652320" y="40035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99840" y="40050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>
              <a:off x="574560" y="4044600"/>
              <a:ext cx="23184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360" y="4051080"/>
              <a:ext cx="50760" cy="1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581040" y="4039560"/>
              <a:ext cx="230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2200" y="4068720"/>
              <a:ext cx="21888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928800" y="3884760"/>
            <a:ext cx="9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525600" y="3500280"/>
            <a:ext cx="300960" cy="274680"/>
            <a:chOff x="525600" y="3500280"/>
            <a:chExt cx="300960" cy="274680"/>
          </a:xfrm>
        </p:grpSpPr>
        <p:grpSp>
          <p:nvGrpSpPr>
            <p:cNvPr id="629" name=""/>
            <p:cNvGrpSpPr/>
            <p:nvPr/>
          </p:nvGrpSpPr>
          <p:grpSpPr>
            <a:xfrm>
              <a:off x="525600" y="3570120"/>
              <a:ext cx="294840" cy="199440"/>
              <a:chOff x="525600" y="3570120"/>
              <a:chExt cx="294840" cy="199440"/>
            </a:xfrm>
          </p:grpSpPr>
          <p:sp>
            <p:nvSpPr>
              <p:cNvPr id="630" name=""/>
              <p:cNvSpPr/>
              <p:nvPr/>
            </p:nvSpPr>
            <p:spPr>
              <a:xfrm>
                <a:off x="525600" y="3570120"/>
                <a:ext cx="294840" cy="19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25600" y="3577680"/>
                <a:ext cx="64440" cy="185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 flipV="1">
              <a:off x="533160" y="3563280"/>
              <a:ext cx="293400" cy="18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7560" y="3600360"/>
              <a:ext cx="279000" cy="17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6080" y="35002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887400" y="3610080"/>
            <a:ext cx="2077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MG Company 1916         WW1-ME-GE08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regim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65240" y="3575160"/>
            <a:ext cx="218520" cy="655200"/>
            <a:chOff x="165240" y="3575160"/>
            <a:chExt cx="218520" cy="655200"/>
          </a:xfrm>
        </p:grpSpPr>
        <p:sp>
          <p:nvSpPr>
            <p:cNvPr id="637" name=""/>
            <p:cNvSpPr/>
            <p:nvPr/>
          </p:nvSpPr>
          <p:spPr>
            <a:xfrm>
              <a:off x="165240" y="3575160"/>
              <a:ext cx="0" cy="65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65240" y="3575160"/>
              <a:ext cx="21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5240" y="4230360"/>
              <a:ext cx="21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906480" y="3798720"/>
            <a:ext cx="4255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558720" y="4270320"/>
            <a:ext cx="239760" cy="192240"/>
            <a:chOff x="558720" y="4270320"/>
            <a:chExt cx="239760" cy="192240"/>
          </a:xfrm>
        </p:grpSpPr>
        <p:grpSp>
          <p:nvGrpSpPr>
            <p:cNvPr id="642" name=""/>
            <p:cNvGrpSpPr/>
            <p:nvPr/>
          </p:nvGrpSpPr>
          <p:grpSpPr>
            <a:xfrm>
              <a:off x="558720" y="4305240"/>
              <a:ext cx="239760" cy="157320"/>
              <a:chOff x="558720" y="4305240"/>
              <a:chExt cx="239760" cy="157320"/>
            </a:xfrm>
          </p:grpSpPr>
          <p:sp>
            <p:nvSpPr>
              <p:cNvPr id="643" name=""/>
              <p:cNvSpPr/>
              <p:nvPr/>
            </p:nvSpPr>
            <p:spPr>
              <a:xfrm>
                <a:off x="558720" y="4305240"/>
                <a:ext cx="239760" cy="15732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642960" y="4421160"/>
                <a:ext cx="63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74640" y="4336920"/>
                <a:ext cx="0" cy="84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641160" y="4270320"/>
              <a:ext cx="74520" cy="27000"/>
              <a:chOff x="641160" y="4270320"/>
              <a:chExt cx="74520" cy="27000"/>
            </a:xfrm>
          </p:grpSpPr>
          <p:sp>
            <p:nvSpPr>
              <p:cNvPr id="647" name=""/>
              <p:cNvSpPr/>
              <p:nvPr/>
            </p:nvSpPr>
            <p:spPr>
              <a:xfrm>
                <a:off x="641160" y="42703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88680" y="42703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9" name=""/>
          <p:cNvSpPr/>
          <p:nvPr/>
        </p:nvSpPr>
        <p:spPr>
          <a:xfrm>
            <a:off x="843120" y="4299120"/>
            <a:ext cx="1997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62cm Light Trench Mortar  WW1-GE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97000" y="438480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41320" y="4543920"/>
            <a:ext cx="200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-4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sstrupp                        WW1-GE06 (Elite, Verdun Feb &amp; Mar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558720" y="4487760"/>
            <a:ext cx="231840" cy="196920"/>
            <a:chOff x="558720" y="4487760"/>
            <a:chExt cx="231840" cy="196920"/>
          </a:xfrm>
        </p:grpSpPr>
        <p:grpSp>
          <p:nvGrpSpPr>
            <p:cNvPr id="653" name=""/>
            <p:cNvGrpSpPr/>
            <p:nvPr/>
          </p:nvGrpSpPr>
          <p:grpSpPr>
            <a:xfrm>
              <a:off x="558720" y="4527360"/>
              <a:ext cx="231840" cy="157320"/>
              <a:chOff x="558720" y="4527360"/>
              <a:chExt cx="231840" cy="157320"/>
            </a:xfrm>
          </p:grpSpPr>
          <p:sp>
            <p:nvSpPr>
              <p:cNvPr id="654" name=""/>
              <p:cNvSpPr/>
              <p:nvPr/>
            </p:nvSpPr>
            <p:spPr>
              <a:xfrm>
                <a:off x="558720" y="4527360"/>
                <a:ext cx="23184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560160" y="4530240"/>
                <a:ext cx="22716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58720" y="4530600"/>
                <a:ext cx="23004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636480" y="4487760"/>
              <a:ext cx="74520" cy="27000"/>
              <a:chOff x="636480" y="4487760"/>
              <a:chExt cx="74520" cy="27000"/>
            </a:xfrm>
          </p:grpSpPr>
          <p:sp>
            <p:nvSpPr>
              <p:cNvPr id="658" name=""/>
              <p:cNvSpPr/>
              <p:nvPr/>
            </p:nvSpPr>
            <p:spPr>
              <a:xfrm>
                <a:off x="636480" y="44877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4000" y="44877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0" name=""/>
          <p:cNvSpPr/>
          <p:nvPr/>
        </p:nvSpPr>
        <p:spPr>
          <a:xfrm>
            <a:off x="289080" y="459756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20760" y="648828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5720" y="4856400"/>
            <a:ext cx="181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GE09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äge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attalion, 19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3120" y="5027760"/>
            <a:ext cx="324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68320" y="5432400"/>
            <a:ext cx="164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52480" y="512460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63400" y="5194440"/>
            <a:ext cx="238320" cy="194760"/>
            <a:chOff x="563400" y="5194440"/>
            <a:chExt cx="238320" cy="194760"/>
          </a:xfrm>
        </p:grpSpPr>
        <p:sp>
          <p:nvSpPr>
            <p:cNvPr id="667" name=""/>
            <p:cNvSpPr/>
            <p:nvPr/>
          </p:nvSpPr>
          <p:spPr>
            <a:xfrm>
              <a:off x="563400" y="5230800"/>
              <a:ext cx="238320" cy="158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8160" y="519444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848880" y="5259240"/>
            <a:ext cx="1910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3120" y="5308560"/>
            <a:ext cx="27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130320" y="4819680"/>
            <a:ext cx="347040" cy="299160"/>
            <a:chOff x="130320" y="4819680"/>
            <a:chExt cx="347040" cy="299160"/>
          </a:xfrm>
        </p:grpSpPr>
        <p:grpSp>
          <p:nvGrpSpPr>
            <p:cNvPr id="672" name=""/>
            <p:cNvGrpSpPr/>
            <p:nvPr/>
          </p:nvGrpSpPr>
          <p:grpSpPr>
            <a:xfrm>
              <a:off x="271440" y="4819680"/>
              <a:ext cx="76320" cy="63360"/>
              <a:chOff x="271440" y="4819680"/>
              <a:chExt cx="76320" cy="63360"/>
            </a:xfrm>
          </p:grpSpPr>
          <p:sp>
            <p:nvSpPr>
              <p:cNvPr id="673" name=""/>
              <p:cNvSpPr/>
              <p:nvPr/>
            </p:nvSpPr>
            <p:spPr>
              <a:xfrm>
                <a:off x="271440" y="481968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47760" y="481968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130320" y="4883040"/>
              <a:ext cx="347040" cy="235800"/>
              <a:chOff x="130320" y="4883040"/>
              <a:chExt cx="347040" cy="235800"/>
            </a:xfrm>
          </p:grpSpPr>
          <p:sp>
            <p:nvSpPr>
              <p:cNvPr id="676" name=""/>
              <p:cNvSpPr/>
              <p:nvPr/>
            </p:nvSpPr>
            <p:spPr>
              <a:xfrm>
                <a:off x="130320" y="4883040"/>
                <a:ext cx="347040" cy="235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133920" y="4886280"/>
                <a:ext cx="338400" cy="23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0320" y="4886640"/>
                <a:ext cx="345600" cy="22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853560" y="5559480"/>
            <a:ext cx="2096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Jäger Company 1915-16  WW1-ME-GE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03120" y="5603760"/>
            <a:ext cx="31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3200" y="54338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0280" y="5499000"/>
            <a:ext cx="284040" cy="1936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533520" y="5501880"/>
            <a:ext cx="276120" cy="18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0280" y="5502240"/>
            <a:ext cx="282600" cy="184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61840" y="6045120"/>
            <a:ext cx="924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98440" y="623736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66880" y="6176880"/>
            <a:ext cx="1925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-1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-08 HMG                WW1-GE08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550800" y="6113520"/>
            <a:ext cx="236520" cy="201600"/>
            <a:chOff x="550800" y="6113520"/>
            <a:chExt cx="236520" cy="201600"/>
          </a:xfrm>
        </p:grpSpPr>
        <p:grpSp>
          <p:nvGrpSpPr>
            <p:cNvPr id="689" name=""/>
            <p:cNvGrpSpPr/>
            <p:nvPr/>
          </p:nvGrpSpPr>
          <p:grpSpPr>
            <a:xfrm>
              <a:off x="628560" y="6113520"/>
              <a:ext cx="74520" cy="28080"/>
              <a:chOff x="628560" y="6113520"/>
              <a:chExt cx="74520" cy="28080"/>
            </a:xfrm>
          </p:grpSpPr>
          <p:sp>
            <p:nvSpPr>
              <p:cNvPr id="690" name=""/>
              <p:cNvSpPr/>
              <p:nvPr/>
            </p:nvSpPr>
            <p:spPr>
              <a:xfrm>
                <a:off x="628560" y="61135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76080" y="61149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550800" y="6154560"/>
              <a:ext cx="23184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50800" y="6161040"/>
              <a:ext cx="50760" cy="1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557280" y="6149520"/>
              <a:ext cx="230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8440" y="6178320"/>
              <a:ext cx="218880" cy="13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304920" y="6221520"/>
            <a:ext cx="144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07800" y="5872320"/>
            <a:ext cx="33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14440" y="5703840"/>
            <a:ext cx="301680" cy="274680"/>
            <a:chOff x="514440" y="5703840"/>
            <a:chExt cx="301680" cy="274680"/>
          </a:xfrm>
        </p:grpSpPr>
        <p:grpSp>
          <p:nvGrpSpPr>
            <p:cNvPr id="699" name=""/>
            <p:cNvGrpSpPr/>
            <p:nvPr/>
          </p:nvGrpSpPr>
          <p:grpSpPr>
            <a:xfrm>
              <a:off x="514440" y="5773680"/>
              <a:ext cx="295200" cy="199440"/>
              <a:chOff x="514440" y="5773680"/>
              <a:chExt cx="295200" cy="199440"/>
            </a:xfrm>
          </p:grpSpPr>
          <p:sp>
            <p:nvSpPr>
              <p:cNvPr id="700" name=""/>
              <p:cNvSpPr/>
              <p:nvPr/>
            </p:nvSpPr>
            <p:spPr>
              <a:xfrm>
                <a:off x="514440" y="5773680"/>
                <a:ext cx="295200" cy="19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4440" y="5781240"/>
                <a:ext cx="64440" cy="185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 flipV="1">
              <a:off x="522360" y="5766840"/>
              <a:ext cx="293760" cy="18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36760" y="5803920"/>
              <a:ext cx="279360" cy="17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65280" y="57038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860400" y="5813280"/>
            <a:ext cx="211608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MG Company  1916         WW1-ME-GE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17440" y="5807160"/>
            <a:ext cx="152280" cy="457200"/>
            <a:chOff x="217440" y="5807160"/>
            <a:chExt cx="152280" cy="457200"/>
          </a:xfrm>
        </p:grpSpPr>
        <p:sp>
          <p:nvSpPr>
            <p:cNvPr id="707" name=""/>
            <p:cNvSpPr/>
            <p:nvPr/>
          </p:nvSpPr>
          <p:spPr>
            <a:xfrm>
              <a:off x="217440" y="5807160"/>
              <a:ext cx="0" cy="45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17440" y="58071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7440" y="62643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876240" y="5942160"/>
            <a:ext cx="4255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27040" y="6373800"/>
            <a:ext cx="239760" cy="192240"/>
            <a:chOff x="527040" y="6373800"/>
            <a:chExt cx="239760" cy="192240"/>
          </a:xfrm>
        </p:grpSpPr>
        <p:grpSp>
          <p:nvGrpSpPr>
            <p:cNvPr id="712" name=""/>
            <p:cNvGrpSpPr/>
            <p:nvPr/>
          </p:nvGrpSpPr>
          <p:grpSpPr>
            <a:xfrm>
              <a:off x="527040" y="6408720"/>
              <a:ext cx="239760" cy="157320"/>
              <a:chOff x="527040" y="6408720"/>
              <a:chExt cx="239760" cy="157320"/>
            </a:xfrm>
          </p:grpSpPr>
          <p:sp>
            <p:nvSpPr>
              <p:cNvPr id="713" name=""/>
              <p:cNvSpPr/>
              <p:nvPr/>
            </p:nvSpPr>
            <p:spPr>
              <a:xfrm>
                <a:off x="527040" y="6408720"/>
                <a:ext cx="239760" cy="15732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611280" y="6524640"/>
                <a:ext cx="63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42960" y="6440400"/>
                <a:ext cx="0" cy="84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609480" y="6373800"/>
              <a:ext cx="74520" cy="27000"/>
              <a:chOff x="609480" y="6373800"/>
              <a:chExt cx="74520" cy="27000"/>
            </a:xfrm>
          </p:grpSpPr>
          <p:sp>
            <p:nvSpPr>
              <p:cNvPr id="717" name=""/>
              <p:cNvSpPr/>
              <p:nvPr/>
            </p:nvSpPr>
            <p:spPr>
              <a:xfrm>
                <a:off x="609480" y="63738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57000" y="63738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9" name=""/>
          <p:cNvSpPr/>
          <p:nvPr/>
        </p:nvSpPr>
        <p:spPr>
          <a:xfrm>
            <a:off x="810360" y="6402240"/>
            <a:ext cx="19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6cm Light Trench Mortar   WW1-GE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633840" y="1548720"/>
            <a:ext cx="18432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GE11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ault Detachme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(1 per Army, Dec. 1916-Dec. 1917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354480" y="1766880"/>
            <a:ext cx="3240" cy="87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16440" y="2171880"/>
            <a:ext cx="1641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00600" y="187956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3611520" y="1933560"/>
            <a:ext cx="238320" cy="194760"/>
            <a:chOff x="3611520" y="1933560"/>
            <a:chExt cx="238320" cy="194760"/>
          </a:xfrm>
        </p:grpSpPr>
        <p:sp>
          <p:nvSpPr>
            <p:cNvPr id="725" name=""/>
            <p:cNvSpPr/>
            <p:nvPr/>
          </p:nvSpPr>
          <p:spPr>
            <a:xfrm>
              <a:off x="3611520" y="1969920"/>
              <a:ext cx="238320" cy="158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716280" y="193356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3897720" y="1998720"/>
            <a:ext cx="182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351240" y="2048040"/>
            <a:ext cx="274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178080" y="1511280"/>
            <a:ext cx="347040" cy="299160"/>
            <a:chOff x="3178080" y="1511280"/>
            <a:chExt cx="347040" cy="299160"/>
          </a:xfrm>
        </p:grpSpPr>
        <p:grpSp>
          <p:nvGrpSpPr>
            <p:cNvPr id="730" name=""/>
            <p:cNvGrpSpPr/>
            <p:nvPr/>
          </p:nvGrpSpPr>
          <p:grpSpPr>
            <a:xfrm>
              <a:off x="3319200" y="1511280"/>
              <a:ext cx="76320" cy="63360"/>
              <a:chOff x="3319200" y="1511280"/>
              <a:chExt cx="76320" cy="63360"/>
            </a:xfrm>
          </p:grpSpPr>
          <p:sp>
            <p:nvSpPr>
              <p:cNvPr id="731" name=""/>
              <p:cNvSpPr/>
              <p:nvPr/>
            </p:nvSpPr>
            <p:spPr>
              <a:xfrm>
                <a:off x="3319200" y="151128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395520" y="151128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3178080" y="1574640"/>
              <a:ext cx="347040" cy="235800"/>
              <a:chOff x="3178080" y="1574640"/>
              <a:chExt cx="347040" cy="235800"/>
            </a:xfrm>
          </p:grpSpPr>
          <p:sp>
            <p:nvSpPr>
              <p:cNvPr id="734" name=""/>
              <p:cNvSpPr/>
              <p:nvPr/>
            </p:nvSpPr>
            <p:spPr>
              <a:xfrm>
                <a:off x="3178080" y="1574640"/>
                <a:ext cx="347040" cy="235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3181680" y="1577880"/>
                <a:ext cx="338400" cy="23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178080" y="1578240"/>
                <a:ext cx="345600" cy="22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7" name=""/>
          <p:cNvSpPr/>
          <p:nvPr/>
        </p:nvSpPr>
        <p:spPr>
          <a:xfrm>
            <a:off x="3898800" y="2298600"/>
            <a:ext cx="2414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-4 Stormtroop Company 1916-17  WW1-ME-G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351240" y="2343240"/>
            <a:ext cx="311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720960" y="2173320"/>
            <a:ext cx="180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78400" y="2238480"/>
            <a:ext cx="284040" cy="1936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3581280" y="2241720"/>
            <a:ext cx="276480" cy="18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78400" y="2241720"/>
            <a:ext cx="282240" cy="18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605040" y="2532240"/>
            <a:ext cx="230400" cy="142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616200" y="2560680"/>
            <a:ext cx="219240" cy="136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344760" y="2612880"/>
            <a:ext cx="338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954600" y="2765520"/>
            <a:ext cx="9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3576600" y="2444760"/>
            <a:ext cx="301680" cy="274680"/>
            <a:chOff x="3576600" y="2444760"/>
            <a:chExt cx="301680" cy="274680"/>
          </a:xfrm>
        </p:grpSpPr>
        <p:grpSp>
          <p:nvGrpSpPr>
            <p:cNvPr id="748" name=""/>
            <p:cNvGrpSpPr/>
            <p:nvPr/>
          </p:nvGrpSpPr>
          <p:grpSpPr>
            <a:xfrm>
              <a:off x="3576600" y="2514600"/>
              <a:ext cx="295200" cy="199440"/>
              <a:chOff x="3576600" y="2514600"/>
              <a:chExt cx="295200" cy="199440"/>
            </a:xfrm>
          </p:grpSpPr>
          <p:sp>
            <p:nvSpPr>
              <p:cNvPr id="749" name=""/>
              <p:cNvSpPr/>
              <p:nvPr/>
            </p:nvSpPr>
            <p:spPr>
              <a:xfrm>
                <a:off x="3576600" y="2514600"/>
                <a:ext cx="295200" cy="19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576600" y="2522160"/>
                <a:ext cx="64440" cy="185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 flipV="1">
              <a:off x="3584520" y="2507760"/>
              <a:ext cx="293760" cy="18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598920" y="2544840"/>
              <a:ext cx="279360" cy="17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727440" y="24447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3938760" y="2577960"/>
            <a:ext cx="210636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-2 MG Company 1917-18  WW1-ME-GE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897720" y="2968560"/>
            <a:ext cx="205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thrower                          WW1-GE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349800" y="3024360"/>
            <a:ext cx="30636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3610080" y="3146400"/>
            <a:ext cx="239760" cy="192240"/>
            <a:chOff x="3610080" y="3146400"/>
            <a:chExt cx="239760" cy="192240"/>
          </a:xfrm>
        </p:grpSpPr>
        <p:grpSp>
          <p:nvGrpSpPr>
            <p:cNvPr id="758" name=""/>
            <p:cNvGrpSpPr/>
            <p:nvPr/>
          </p:nvGrpSpPr>
          <p:grpSpPr>
            <a:xfrm>
              <a:off x="3610080" y="3181320"/>
              <a:ext cx="239760" cy="157320"/>
              <a:chOff x="3610080" y="3181320"/>
              <a:chExt cx="239760" cy="157320"/>
            </a:xfrm>
          </p:grpSpPr>
          <p:sp>
            <p:nvSpPr>
              <p:cNvPr id="759" name=""/>
              <p:cNvSpPr/>
              <p:nvPr/>
            </p:nvSpPr>
            <p:spPr>
              <a:xfrm>
                <a:off x="3610080" y="3181320"/>
                <a:ext cx="239760" cy="15732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3694320" y="3297240"/>
                <a:ext cx="63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726000" y="3213000"/>
                <a:ext cx="0" cy="84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3692520" y="3146400"/>
              <a:ext cx="74520" cy="27000"/>
              <a:chOff x="3692520" y="3146400"/>
              <a:chExt cx="74520" cy="27000"/>
            </a:xfrm>
          </p:grpSpPr>
          <p:sp>
            <p:nvSpPr>
              <p:cNvPr id="763" name=""/>
              <p:cNvSpPr/>
              <p:nvPr/>
            </p:nvSpPr>
            <p:spPr>
              <a:xfrm>
                <a:off x="3692520" y="31464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740040" y="31464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5" name=""/>
          <p:cNvSpPr/>
          <p:nvPr/>
        </p:nvSpPr>
        <p:spPr>
          <a:xfrm>
            <a:off x="3870360" y="3182760"/>
            <a:ext cx="2099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-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62cm Light Trench Mortar  WW1-GE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354480" y="3252960"/>
            <a:ext cx="32364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3606840" y="2911320"/>
            <a:ext cx="239400" cy="189000"/>
            <a:chOff x="3606840" y="2911320"/>
            <a:chExt cx="239400" cy="189000"/>
          </a:xfrm>
        </p:grpSpPr>
        <p:grpSp>
          <p:nvGrpSpPr>
            <p:cNvPr id="768" name=""/>
            <p:cNvGrpSpPr/>
            <p:nvPr/>
          </p:nvGrpSpPr>
          <p:grpSpPr>
            <a:xfrm>
              <a:off x="3689280" y="2911320"/>
              <a:ext cx="74520" cy="27000"/>
              <a:chOff x="3689280" y="2911320"/>
              <a:chExt cx="74520" cy="27000"/>
            </a:xfrm>
          </p:grpSpPr>
          <p:sp>
            <p:nvSpPr>
              <p:cNvPr id="769" name=""/>
              <p:cNvSpPr/>
              <p:nvPr/>
            </p:nvSpPr>
            <p:spPr>
              <a:xfrm>
                <a:off x="3689280" y="29113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736800" y="29113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3606840" y="2943000"/>
              <a:ext cx="239400" cy="157320"/>
              <a:chOff x="3606840" y="2943000"/>
              <a:chExt cx="239400" cy="157320"/>
            </a:xfrm>
          </p:grpSpPr>
          <p:sp>
            <p:nvSpPr>
              <p:cNvPr id="772" name=""/>
              <p:cNvSpPr/>
              <p:nvPr/>
            </p:nvSpPr>
            <p:spPr>
              <a:xfrm>
                <a:off x="3606840" y="2943000"/>
                <a:ext cx="23940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727440" y="2985840"/>
                <a:ext cx="0" cy="10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3727440" y="2950920"/>
                <a:ext cx="47520" cy="36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 flipV="1">
                <a:off x="3684600" y="2949120"/>
                <a:ext cx="39600" cy="3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V="1">
                <a:off x="3614760" y="2944440"/>
                <a:ext cx="22680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612960" y="2944800"/>
                <a:ext cx="23040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8" name=""/>
          <p:cNvSpPr/>
          <p:nvPr/>
        </p:nvSpPr>
        <p:spPr>
          <a:xfrm>
            <a:off x="3867840" y="3441600"/>
            <a:ext cx="2103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62cm Infantry Gun                 WW1-GE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352680" y="3487680"/>
            <a:ext cx="285840" cy="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3603600" y="3378240"/>
            <a:ext cx="239760" cy="198360"/>
            <a:chOff x="3603600" y="3378240"/>
            <a:chExt cx="239760" cy="198360"/>
          </a:xfrm>
        </p:grpSpPr>
        <p:grpSp>
          <p:nvGrpSpPr>
            <p:cNvPr id="781" name=""/>
            <p:cNvGrpSpPr/>
            <p:nvPr/>
          </p:nvGrpSpPr>
          <p:grpSpPr>
            <a:xfrm>
              <a:off x="3603600" y="3419640"/>
              <a:ext cx="239760" cy="156960"/>
              <a:chOff x="3603600" y="3419640"/>
              <a:chExt cx="239760" cy="156960"/>
            </a:xfrm>
          </p:grpSpPr>
          <p:sp>
            <p:nvSpPr>
              <p:cNvPr id="782" name=""/>
              <p:cNvSpPr/>
              <p:nvPr/>
            </p:nvSpPr>
            <p:spPr>
              <a:xfrm>
                <a:off x="3603600" y="3419640"/>
                <a:ext cx="23976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706920" y="347976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3686040" y="3378240"/>
              <a:ext cx="74160" cy="27000"/>
              <a:chOff x="3686040" y="3378240"/>
              <a:chExt cx="74160" cy="27000"/>
            </a:xfrm>
          </p:grpSpPr>
          <p:sp>
            <p:nvSpPr>
              <p:cNvPr id="785" name=""/>
              <p:cNvSpPr/>
              <p:nvPr/>
            </p:nvSpPr>
            <p:spPr>
              <a:xfrm>
                <a:off x="3686040" y="33782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33560" y="337824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7" name=""/>
          <p:cNvSpPr/>
          <p:nvPr/>
        </p:nvSpPr>
        <p:spPr>
          <a:xfrm>
            <a:off x="3352680" y="2522520"/>
            <a:ext cx="1800" cy="99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654360" y="329040"/>
            <a:ext cx="185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GE10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 Marksman Btn, 19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371760" y="500040"/>
            <a:ext cx="1800" cy="57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936960" y="905040"/>
            <a:ext cx="164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21120" y="59688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3632040" y="666720"/>
            <a:ext cx="238320" cy="194760"/>
            <a:chOff x="3632040" y="666720"/>
            <a:chExt cx="238320" cy="194760"/>
          </a:xfrm>
        </p:grpSpPr>
        <p:sp>
          <p:nvSpPr>
            <p:cNvPr id="793" name=""/>
            <p:cNvSpPr/>
            <p:nvPr/>
          </p:nvSpPr>
          <p:spPr>
            <a:xfrm>
              <a:off x="3632040" y="703080"/>
              <a:ext cx="238320" cy="158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736800" y="66672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3918240" y="731880"/>
            <a:ext cx="182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371760" y="781200"/>
            <a:ext cx="27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3340080" y="291960"/>
            <a:ext cx="76320" cy="63360"/>
            <a:chOff x="3340080" y="291960"/>
            <a:chExt cx="76320" cy="63360"/>
          </a:xfrm>
        </p:grpSpPr>
        <p:sp>
          <p:nvSpPr>
            <p:cNvPr id="798" name=""/>
            <p:cNvSpPr/>
            <p:nvPr/>
          </p:nvSpPr>
          <p:spPr>
            <a:xfrm>
              <a:off x="3340080" y="29196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416400" y="29196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3916440" y="1031760"/>
            <a:ext cx="196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MG Company               WW1-ME-GE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371760" y="1076400"/>
            <a:ext cx="31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3602160" y="974880"/>
            <a:ext cx="276120" cy="18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598920" y="974880"/>
            <a:ext cx="282600" cy="18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3581280" y="903240"/>
            <a:ext cx="301680" cy="274680"/>
            <a:chOff x="3581280" y="903240"/>
            <a:chExt cx="301680" cy="274680"/>
          </a:xfrm>
        </p:grpSpPr>
        <p:grpSp>
          <p:nvGrpSpPr>
            <p:cNvPr id="805" name=""/>
            <p:cNvGrpSpPr/>
            <p:nvPr/>
          </p:nvGrpSpPr>
          <p:grpSpPr>
            <a:xfrm>
              <a:off x="3581280" y="973080"/>
              <a:ext cx="295200" cy="199440"/>
              <a:chOff x="3581280" y="973080"/>
              <a:chExt cx="295200" cy="199440"/>
            </a:xfrm>
          </p:grpSpPr>
          <p:sp>
            <p:nvSpPr>
              <p:cNvPr id="806" name=""/>
              <p:cNvSpPr/>
              <p:nvPr/>
            </p:nvSpPr>
            <p:spPr>
              <a:xfrm>
                <a:off x="3581280" y="973080"/>
                <a:ext cx="295200" cy="19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81280" y="980640"/>
                <a:ext cx="64440" cy="185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8" name=""/>
            <p:cNvSpPr/>
            <p:nvPr/>
          </p:nvSpPr>
          <p:spPr>
            <a:xfrm flipV="1">
              <a:off x="3589200" y="966240"/>
              <a:ext cx="293760" cy="18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603600" y="1003320"/>
              <a:ext cx="279360" cy="17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32120" y="9032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3303720" y="1265400"/>
            <a:ext cx="24541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August 1916-Elite, one per divi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3197160" y="352080"/>
            <a:ext cx="352440" cy="241200"/>
            <a:chOff x="3197160" y="352080"/>
            <a:chExt cx="352440" cy="241200"/>
          </a:xfrm>
        </p:grpSpPr>
        <p:grpSp>
          <p:nvGrpSpPr>
            <p:cNvPr id="813" name=""/>
            <p:cNvGrpSpPr/>
            <p:nvPr/>
          </p:nvGrpSpPr>
          <p:grpSpPr>
            <a:xfrm>
              <a:off x="3197160" y="357120"/>
              <a:ext cx="347040" cy="236160"/>
              <a:chOff x="3197160" y="357120"/>
              <a:chExt cx="347040" cy="236160"/>
            </a:xfrm>
          </p:grpSpPr>
          <p:sp>
            <p:nvSpPr>
              <p:cNvPr id="814" name=""/>
              <p:cNvSpPr/>
              <p:nvPr/>
            </p:nvSpPr>
            <p:spPr>
              <a:xfrm>
                <a:off x="3197160" y="357120"/>
                <a:ext cx="347040" cy="23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197160" y="366120"/>
                <a:ext cx="75960" cy="219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 flipV="1">
              <a:off x="3203280" y="352080"/>
              <a:ext cx="346320" cy="214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214440" y="380880"/>
              <a:ext cx="328680" cy="204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211560" y="3727440"/>
            <a:ext cx="2476080" cy="982440"/>
            <a:chOff x="3211560" y="3727440"/>
            <a:chExt cx="2476080" cy="982440"/>
          </a:xfrm>
        </p:grpSpPr>
        <p:sp>
          <p:nvSpPr>
            <p:cNvPr id="819" name=""/>
            <p:cNvSpPr/>
            <p:nvPr/>
          </p:nvSpPr>
          <p:spPr>
            <a:xfrm>
              <a:off x="3668760" y="3764160"/>
              <a:ext cx="2017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le Group- WW1-BG-G12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 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usketen-Bataillone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(1915-1916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386160" y="3935520"/>
              <a:ext cx="1440" cy="57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951360" y="4340160"/>
              <a:ext cx="164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935520" y="403236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3646440" y="4102200"/>
              <a:ext cx="238320" cy="194760"/>
              <a:chOff x="3646440" y="4102200"/>
              <a:chExt cx="238320" cy="194760"/>
            </a:xfrm>
          </p:grpSpPr>
          <p:sp>
            <p:nvSpPr>
              <p:cNvPr id="824" name=""/>
              <p:cNvSpPr/>
              <p:nvPr/>
            </p:nvSpPr>
            <p:spPr>
              <a:xfrm>
                <a:off x="3646440" y="4138560"/>
                <a:ext cx="238320" cy="158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751200" y="41022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>
              <a:off x="3932640" y="4167360"/>
              <a:ext cx="175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WW1-G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386160" y="4216320"/>
              <a:ext cx="27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3354480" y="3727440"/>
              <a:ext cx="75960" cy="63360"/>
              <a:chOff x="3354480" y="3727440"/>
              <a:chExt cx="75960" cy="63360"/>
            </a:xfrm>
          </p:grpSpPr>
          <p:sp>
            <p:nvSpPr>
              <p:cNvPr id="829" name=""/>
              <p:cNvSpPr/>
              <p:nvPr/>
            </p:nvSpPr>
            <p:spPr>
              <a:xfrm>
                <a:off x="3354480" y="372744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430440" y="372744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3935520" y="4466160"/>
              <a:ext cx="173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</a:rPr>
                <a:t>Musketen-Kompanie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(1915-1916)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WW1-MEG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86160" y="4511520"/>
              <a:ext cx="31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3616200" y="4409640"/>
              <a:ext cx="27648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13320" y="4410000"/>
              <a:ext cx="28224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3595680" y="4338720"/>
              <a:ext cx="301680" cy="274680"/>
              <a:chOff x="3595680" y="4338720"/>
              <a:chExt cx="301680" cy="274680"/>
            </a:xfrm>
          </p:grpSpPr>
          <p:grpSp>
            <p:nvGrpSpPr>
              <p:cNvPr id="836" name=""/>
              <p:cNvGrpSpPr/>
              <p:nvPr/>
            </p:nvGrpSpPr>
            <p:grpSpPr>
              <a:xfrm>
                <a:off x="3595680" y="4408560"/>
                <a:ext cx="295200" cy="199440"/>
                <a:chOff x="3595680" y="4408560"/>
                <a:chExt cx="295200" cy="19944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3595680" y="4408560"/>
                  <a:ext cx="295200" cy="1994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595680" y="4416120"/>
                  <a:ext cx="64440" cy="185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9" name=""/>
              <p:cNvSpPr/>
              <p:nvPr/>
            </p:nvSpPr>
            <p:spPr>
              <a:xfrm flipV="1">
                <a:off x="3603600" y="4401720"/>
                <a:ext cx="293760" cy="182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18000" y="4438800"/>
                <a:ext cx="279360" cy="174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46520" y="4338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3211560" y="3787560"/>
              <a:ext cx="352440" cy="241200"/>
              <a:chOff x="3211560" y="3787560"/>
              <a:chExt cx="352440" cy="241200"/>
            </a:xfrm>
          </p:grpSpPr>
          <p:grpSp>
            <p:nvGrpSpPr>
              <p:cNvPr id="843" name=""/>
              <p:cNvGrpSpPr/>
              <p:nvPr/>
            </p:nvGrpSpPr>
            <p:grpSpPr>
              <a:xfrm>
                <a:off x="3211560" y="3792600"/>
                <a:ext cx="347040" cy="236160"/>
                <a:chOff x="3211560" y="3792600"/>
                <a:chExt cx="347040" cy="23616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3211560" y="3792600"/>
                  <a:ext cx="347040" cy="236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3211560" y="3801600"/>
                  <a:ext cx="75960" cy="219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"/>
              <p:cNvSpPr/>
              <p:nvPr/>
            </p:nvSpPr>
            <p:spPr>
              <a:xfrm flipV="1">
                <a:off x="3217680" y="3787560"/>
                <a:ext cx="346320" cy="2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228840" y="3816360"/>
                <a:ext cx="328680" cy="204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I German, 1916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60440" y="3395880"/>
            <a:ext cx="211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 WW1-ME-GE08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Company, 19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30000" y="4005360"/>
            <a:ext cx="210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Infantry Platoon, 1916   WW1-SME-GE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54160" y="406728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31800" y="363852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53880" y="3708360"/>
            <a:ext cx="238320" cy="195480"/>
            <a:chOff x="353880" y="3708360"/>
            <a:chExt cx="238320" cy="195480"/>
          </a:xfrm>
        </p:grpSpPr>
        <p:sp>
          <p:nvSpPr>
            <p:cNvPr id="854" name=""/>
            <p:cNvSpPr/>
            <p:nvPr/>
          </p:nvSpPr>
          <p:spPr>
            <a:xfrm>
              <a:off x="353880" y="3745080"/>
              <a:ext cx="238320" cy="158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58640" y="37083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628920" y="3773520"/>
            <a:ext cx="18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54160" y="381492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49120" y="3497400"/>
            <a:ext cx="0" cy="57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106200" y="3343320"/>
            <a:ext cx="284400" cy="243000"/>
            <a:chOff x="106200" y="3343320"/>
            <a:chExt cx="284400" cy="243000"/>
          </a:xfrm>
        </p:grpSpPr>
        <p:sp>
          <p:nvSpPr>
            <p:cNvPr id="860" name=""/>
            <p:cNvSpPr/>
            <p:nvPr/>
          </p:nvSpPr>
          <p:spPr>
            <a:xfrm>
              <a:off x="249120" y="33433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106200" y="3392640"/>
              <a:ext cx="284400" cy="193680"/>
              <a:chOff x="106200" y="3392640"/>
              <a:chExt cx="284400" cy="193680"/>
            </a:xfrm>
          </p:grpSpPr>
          <p:sp>
            <p:nvSpPr>
              <p:cNvPr id="862" name=""/>
              <p:cNvSpPr/>
              <p:nvPr/>
            </p:nvSpPr>
            <p:spPr>
              <a:xfrm>
                <a:off x="106200" y="3392640"/>
                <a:ext cx="284400" cy="1936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109080" y="3395520"/>
                <a:ext cx="276840" cy="18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06200" y="3395520"/>
                <a:ext cx="282960" cy="18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5" name=""/>
          <p:cNvGrpSpPr/>
          <p:nvPr/>
        </p:nvGrpSpPr>
        <p:grpSpPr>
          <a:xfrm>
            <a:off x="399960" y="3941640"/>
            <a:ext cx="131760" cy="27000"/>
            <a:chOff x="399960" y="3941640"/>
            <a:chExt cx="131760" cy="27000"/>
          </a:xfrm>
        </p:grpSpPr>
        <p:sp>
          <p:nvSpPr>
            <p:cNvPr id="866" name=""/>
            <p:cNvSpPr/>
            <p:nvPr/>
          </p:nvSpPr>
          <p:spPr>
            <a:xfrm>
              <a:off x="399960" y="39416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50720" y="39416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04720" y="39416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328680" y="3989520"/>
            <a:ext cx="274680" cy="185760"/>
            <a:chOff x="328680" y="3989520"/>
            <a:chExt cx="274680" cy="185760"/>
          </a:xfrm>
        </p:grpSpPr>
        <p:sp>
          <p:nvSpPr>
            <p:cNvPr id="870" name=""/>
            <p:cNvSpPr/>
            <p:nvPr/>
          </p:nvSpPr>
          <p:spPr>
            <a:xfrm>
              <a:off x="328680" y="3989520"/>
              <a:ext cx="274680" cy="185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331200" y="3992040"/>
              <a:ext cx="267480" cy="18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28680" y="3992040"/>
              <a:ext cx="273240" cy="17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 flipH="1">
            <a:off x="632880" y="4433760"/>
            <a:ext cx="180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573120" y="4314960"/>
            <a:ext cx="134640" cy="27000"/>
            <a:chOff x="573120" y="4314960"/>
            <a:chExt cx="134640" cy="27000"/>
          </a:xfrm>
        </p:grpSpPr>
        <p:sp>
          <p:nvSpPr>
            <p:cNvPr id="875" name=""/>
            <p:cNvSpPr/>
            <p:nvPr/>
          </p:nvSpPr>
          <p:spPr>
            <a:xfrm>
              <a:off x="573120" y="4314960"/>
              <a:ext cx="2736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24960" y="43149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0400" y="4314960"/>
              <a:ext cx="2736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501480" y="4354560"/>
            <a:ext cx="281160" cy="185760"/>
            <a:chOff x="501480" y="4354560"/>
            <a:chExt cx="281160" cy="185760"/>
          </a:xfrm>
        </p:grpSpPr>
        <p:sp>
          <p:nvSpPr>
            <p:cNvPr id="879" name=""/>
            <p:cNvSpPr/>
            <p:nvPr/>
          </p:nvSpPr>
          <p:spPr>
            <a:xfrm>
              <a:off x="501480" y="4354560"/>
              <a:ext cx="281160" cy="185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504360" y="4357080"/>
              <a:ext cx="273960" cy="18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1480" y="4357080"/>
              <a:ext cx="279720" cy="17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844560" y="4332600"/>
            <a:ext cx="241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bmaneuver Element WW1-SME-GE0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Platoon, 19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38280" y="4734000"/>
            <a:ext cx="149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023120" y="4648320"/>
            <a:ext cx="175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ifle                             WW1-GE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746280" y="4603680"/>
            <a:ext cx="236160" cy="196920"/>
            <a:chOff x="746280" y="4603680"/>
            <a:chExt cx="236160" cy="196920"/>
          </a:xfrm>
        </p:grpSpPr>
        <p:sp>
          <p:nvSpPr>
            <p:cNvPr id="886" name=""/>
            <p:cNvSpPr/>
            <p:nvPr/>
          </p:nvSpPr>
          <p:spPr>
            <a:xfrm>
              <a:off x="746280" y="4643280"/>
              <a:ext cx="23616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747720" y="4646160"/>
              <a:ext cx="2318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6280" y="4646520"/>
              <a:ext cx="234720" cy="14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825480" y="4603680"/>
              <a:ext cx="75600" cy="27000"/>
              <a:chOff x="825480" y="4603680"/>
              <a:chExt cx="75600" cy="27000"/>
            </a:xfrm>
          </p:grpSpPr>
          <p:sp>
            <p:nvSpPr>
              <p:cNvPr id="890" name=""/>
              <p:cNvSpPr/>
              <p:nvPr/>
            </p:nvSpPr>
            <p:spPr>
              <a:xfrm>
                <a:off x="825480" y="46036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73720" y="4603680"/>
                <a:ext cx="2736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2" name=""/>
          <p:cNvSpPr/>
          <p:nvPr/>
        </p:nvSpPr>
        <p:spPr>
          <a:xfrm>
            <a:off x="631800" y="4940280"/>
            <a:ext cx="149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034640" y="4869000"/>
            <a:ext cx="176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dgrenatentrupp       WW1-GE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747720" y="4827600"/>
            <a:ext cx="236160" cy="192240"/>
            <a:chOff x="747720" y="4827600"/>
            <a:chExt cx="236160" cy="192240"/>
          </a:xfrm>
        </p:grpSpPr>
        <p:sp>
          <p:nvSpPr>
            <p:cNvPr id="895" name=""/>
            <p:cNvSpPr/>
            <p:nvPr/>
          </p:nvSpPr>
          <p:spPr>
            <a:xfrm>
              <a:off x="747720" y="4862520"/>
              <a:ext cx="236160" cy="157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749160" y="4865400"/>
              <a:ext cx="2314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47720" y="4865760"/>
              <a:ext cx="23436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826920" y="4827600"/>
              <a:ext cx="75600" cy="27000"/>
              <a:chOff x="826920" y="4827600"/>
              <a:chExt cx="75600" cy="27000"/>
            </a:xfrm>
          </p:grpSpPr>
          <p:sp>
            <p:nvSpPr>
              <p:cNvPr id="899" name=""/>
              <p:cNvSpPr/>
              <p:nvPr/>
            </p:nvSpPr>
            <p:spPr>
              <a:xfrm>
                <a:off x="826920" y="482760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75160" y="4827600"/>
                <a:ext cx="2736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>
              <a:off x="851040" y="4977000"/>
              <a:ext cx="28800" cy="2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2" name=""/>
          <p:cNvSpPr/>
          <p:nvPr/>
        </p:nvSpPr>
        <p:spPr>
          <a:xfrm>
            <a:off x="539640" y="795600"/>
            <a:ext cx="210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 WW1-ME-GE06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chinegun Company, 19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11360" y="103824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33440" y="1108080"/>
            <a:ext cx="237960" cy="194760"/>
            <a:chOff x="433440" y="1108080"/>
            <a:chExt cx="237960" cy="194760"/>
          </a:xfrm>
        </p:grpSpPr>
        <p:sp>
          <p:nvSpPr>
            <p:cNvPr id="905" name=""/>
            <p:cNvSpPr/>
            <p:nvPr/>
          </p:nvSpPr>
          <p:spPr>
            <a:xfrm>
              <a:off x="433440" y="1144440"/>
              <a:ext cx="237960" cy="158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37840" y="1108080"/>
              <a:ext cx="266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709200" y="1173240"/>
            <a:ext cx="173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25440" y="121428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8680" y="89676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00560" y="1414440"/>
            <a:ext cx="174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-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-08 HMG             WW1-GE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333360" y="1351080"/>
            <a:ext cx="330120" cy="201600"/>
            <a:chOff x="333360" y="1351080"/>
            <a:chExt cx="330120" cy="201600"/>
          </a:xfrm>
        </p:grpSpPr>
        <p:sp>
          <p:nvSpPr>
            <p:cNvPr id="912" name=""/>
            <p:cNvSpPr/>
            <p:nvPr/>
          </p:nvSpPr>
          <p:spPr>
            <a:xfrm>
              <a:off x="333360" y="1466640"/>
              <a:ext cx="14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426960" y="1392120"/>
              <a:ext cx="231480" cy="156960"/>
              <a:chOff x="426960" y="1392120"/>
              <a:chExt cx="231480" cy="156960"/>
            </a:xfrm>
          </p:grpSpPr>
          <p:sp>
            <p:nvSpPr>
              <p:cNvPr id="914" name=""/>
              <p:cNvSpPr/>
              <p:nvPr/>
            </p:nvSpPr>
            <p:spPr>
              <a:xfrm>
                <a:off x="426960" y="1392120"/>
                <a:ext cx="23148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26960" y="1398240"/>
                <a:ext cx="50760" cy="1461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6" name=""/>
            <p:cNvSpPr/>
            <p:nvPr/>
          </p:nvSpPr>
          <p:spPr>
            <a:xfrm flipV="1">
              <a:off x="433440" y="1387080"/>
              <a:ext cx="230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44600" y="1415880"/>
              <a:ext cx="218880" cy="13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506520" y="1351080"/>
              <a:ext cx="74520" cy="26640"/>
              <a:chOff x="506520" y="1351080"/>
              <a:chExt cx="74520" cy="26640"/>
            </a:xfrm>
          </p:grpSpPr>
          <p:sp>
            <p:nvSpPr>
              <p:cNvPr id="919" name=""/>
              <p:cNvSpPr/>
              <p:nvPr/>
            </p:nvSpPr>
            <p:spPr>
              <a:xfrm>
                <a:off x="506520" y="13510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54040" y="13510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1" name=""/>
          <p:cNvGrpSpPr/>
          <p:nvPr/>
        </p:nvGrpSpPr>
        <p:grpSpPr>
          <a:xfrm>
            <a:off x="181080" y="714240"/>
            <a:ext cx="301680" cy="274680"/>
            <a:chOff x="181080" y="714240"/>
            <a:chExt cx="301680" cy="274680"/>
          </a:xfrm>
        </p:grpSpPr>
        <p:grpSp>
          <p:nvGrpSpPr>
            <p:cNvPr id="922" name=""/>
            <p:cNvGrpSpPr/>
            <p:nvPr/>
          </p:nvGrpSpPr>
          <p:grpSpPr>
            <a:xfrm>
              <a:off x="181080" y="784080"/>
              <a:ext cx="295200" cy="199440"/>
              <a:chOff x="181080" y="784080"/>
              <a:chExt cx="295200" cy="199440"/>
            </a:xfrm>
          </p:grpSpPr>
          <p:sp>
            <p:nvSpPr>
              <p:cNvPr id="923" name=""/>
              <p:cNvSpPr/>
              <p:nvPr/>
            </p:nvSpPr>
            <p:spPr>
              <a:xfrm>
                <a:off x="181080" y="784080"/>
                <a:ext cx="295200" cy="19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81080" y="791640"/>
                <a:ext cx="64440" cy="185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 flipV="1">
              <a:off x="189000" y="777240"/>
              <a:ext cx="293760" cy="18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03400" y="814320"/>
              <a:ext cx="279360" cy="17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31920" y="7142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128520" y="1744560"/>
            <a:ext cx="2582640" cy="1468440"/>
            <a:chOff x="128520" y="1744560"/>
            <a:chExt cx="2582640" cy="1468440"/>
          </a:xfrm>
        </p:grpSpPr>
        <p:sp>
          <p:nvSpPr>
            <p:cNvPr id="929" name=""/>
            <p:cNvSpPr/>
            <p:nvPr/>
          </p:nvSpPr>
          <p:spPr>
            <a:xfrm>
              <a:off x="272880" y="1868400"/>
              <a:ext cx="0" cy="127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82400" y="1797120"/>
              <a:ext cx="222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 WW1-ME-GE07 Independent Assault Company, 19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128520" y="1744560"/>
              <a:ext cx="284040" cy="243000"/>
              <a:chOff x="128520" y="1744560"/>
              <a:chExt cx="284040" cy="243000"/>
            </a:xfrm>
          </p:grpSpPr>
          <p:sp>
            <p:nvSpPr>
              <p:cNvPr id="932" name=""/>
              <p:cNvSpPr/>
              <p:nvPr/>
            </p:nvSpPr>
            <p:spPr>
              <a:xfrm>
                <a:off x="271080" y="174456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3" name=""/>
              <p:cNvGrpSpPr/>
              <p:nvPr/>
            </p:nvGrpSpPr>
            <p:grpSpPr>
              <a:xfrm>
                <a:off x="128520" y="1793880"/>
                <a:ext cx="284040" cy="193680"/>
                <a:chOff x="128520" y="1793880"/>
                <a:chExt cx="284040" cy="19368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128520" y="1793880"/>
                  <a:ext cx="284040" cy="1936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V="1">
                  <a:off x="131400" y="1796760"/>
                  <a:ext cx="276480" cy="18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128520" y="1796760"/>
                  <a:ext cx="282600" cy="184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77560" y="2454120"/>
              <a:ext cx="14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5560" y="202536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50880" y="2160360"/>
              <a:ext cx="192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osstrupp                          WW1-GE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7560" y="2201760"/>
              <a:ext cx="14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64560" y="2368440"/>
              <a:ext cx="1925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osstrupp                        WW1-GE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385560" y="2323800"/>
              <a:ext cx="231840" cy="196920"/>
              <a:chOff x="385560" y="2323800"/>
              <a:chExt cx="231840" cy="196920"/>
            </a:xfrm>
          </p:grpSpPr>
          <p:grpSp>
            <p:nvGrpSpPr>
              <p:cNvPr id="943" name=""/>
              <p:cNvGrpSpPr/>
              <p:nvPr/>
            </p:nvGrpSpPr>
            <p:grpSpPr>
              <a:xfrm>
                <a:off x="385560" y="2363400"/>
                <a:ext cx="231840" cy="157320"/>
                <a:chOff x="385560" y="2363400"/>
                <a:chExt cx="231840" cy="15732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385560" y="2363400"/>
                  <a:ext cx="23184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V="1">
                  <a:off x="387000" y="2366280"/>
                  <a:ext cx="22716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385560" y="2366640"/>
                  <a:ext cx="230040" cy="14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7" name=""/>
              <p:cNvGrpSpPr/>
              <p:nvPr/>
            </p:nvGrpSpPr>
            <p:grpSpPr>
              <a:xfrm>
                <a:off x="463320" y="2323800"/>
                <a:ext cx="74520" cy="27000"/>
                <a:chOff x="463320" y="2323800"/>
                <a:chExt cx="74520" cy="2700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463320" y="23238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10840" y="23238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0" name=""/>
            <p:cNvSpPr/>
            <p:nvPr/>
          </p:nvSpPr>
          <p:spPr>
            <a:xfrm>
              <a:off x="668160" y="2597040"/>
              <a:ext cx="191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lamethrower                     WW1-GE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1440" y="2668320"/>
              <a:ext cx="14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79080" y="3020760"/>
              <a:ext cx="239760" cy="192240"/>
              <a:chOff x="379080" y="3020760"/>
              <a:chExt cx="239760" cy="192240"/>
            </a:xfrm>
          </p:grpSpPr>
          <p:grpSp>
            <p:nvGrpSpPr>
              <p:cNvPr id="953" name=""/>
              <p:cNvGrpSpPr/>
              <p:nvPr/>
            </p:nvGrpSpPr>
            <p:grpSpPr>
              <a:xfrm>
                <a:off x="379080" y="3055680"/>
                <a:ext cx="239760" cy="157320"/>
                <a:chOff x="379080" y="3055680"/>
                <a:chExt cx="239760" cy="157320"/>
              </a:xfrm>
            </p:grpSpPr>
            <p:sp>
              <p:nvSpPr>
                <p:cNvPr id="954" name=""/>
                <p:cNvSpPr/>
                <p:nvPr/>
              </p:nvSpPr>
              <p:spPr>
                <a:xfrm>
                  <a:off x="379080" y="3055680"/>
                  <a:ext cx="239760" cy="1573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V="1">
                  <a:off x="463320" y="3171600"/>
                  <a:ext cx="63360" cy="14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95000" y="3087360"/>
                  <a:ext cx="0" cy="842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61520" y="3020760"/>
                <a:ext cx="74520" cy="27000"/>
                <a:chOff x="461520" y="3020760"/>
                <a:chExt cx="74520" cy="2700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461520" y="30207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09040" y="30207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0" name=""/>
            <p:cNvSpPr/>
            <p:nvPr/>
          </p:nvSpPr>
          <p:spPr>
            <a:xfrm>
              <a:off x="639720" y="3057480"/>
              <a:ext cx="196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.62cm Light Trench Mortar WW1-GE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76120" y="3135240"/>
              <a:ext cx="1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69600" y="2831760"/>
              <a:ext cx="1911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G-08 HMG                      WW1-GE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74320" y="2892240"/>
              <a:ext cx="14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"/>
            <p:cNvGrpSpPr/>
            <p:nvPr/>
          </p:nvGrpSpPr>
          <p:grpSpPr>
            <a:xfrm>
              <a:off x="384120" y="2776320"/>
              <a:ext cx="236520" cy="201600"/>
              <a:chOff x="384120" y="2776320"/>
              <a:chExt cx="236520" cy="201600"/>
            </a:xfrm>
          </p:grpSpPr>
          <p:grpSp>
            <p:nvGrpSpPr>
              <p:cNvPr id="965" name=""/>
              <p:cNvGrpSpPr/>
              <p:nvPr/>
            </p:nvGrpSpPr>
            <p:grpSpPr>
              <a:xfrm>
                <a:off x="384120" y="2817360"/>
                <a:ext cx="231480" cy="156960"/>
                <a:chOff x="384120" y="2817360"/>
                <a:chExt cx="231480" cy="1569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384120" y="281736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384120" y="2823480"/>
                  <a:ext cx="50760" cy="146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8" name=""/>
              <p:cNvSpPr/>
              <p:nvPr/>
            </p:nvSpPr>
            <p:spPr>
              <a:xfrm flipV="1">
                <a:off x="390240" y="2812320"/>
                <a:ext cx="230400" cy="142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01400" y="2841120"/>
                <a:ext cx="219240" cy="136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0" name=""/>
              <p:cNvGrpSpPr/>
              <p:nvPr/>
            </p:nvGrpSpPr>
            <p:grpSpPr>
              <a:xfrm>
                <a:off x="463320" y="2776320"/>
                <a:ext cx="74520" cy="26640"/>
                <a:chOff x="463320" y="2776320"/>
                <a:chExt cx="74520" cy="2664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463320" y="27763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10840" y="27763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3" name=""/>
            <p:cNvGrpSpPr/>
            <p:nvPr/>
          </p:nvGrpSpPr>
          <p:grpSpPr>
            <a:xfrm>
              <a:off x="376200" y="2539800"/>
              <a:ext cx="239400" cy="189000"/>
              <a:chOff x="376200" y="2539800"/>
              <a:chExt cx="239400" cy="18900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458640" y="2539800"/>
                <a:ext cx="74520" cy="27000"/>
                <a:chOff x="458640" y="2539800"/>
                <a:chExt cx="74520" cy="2700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458640" y="25398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06160" y="25398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376200" y="2571480"/>
                <a:ext cx="239400" cy="157320"/>
                <a:chOff x="376200" y="2571480"/>
                <a:chExt cx="239400" cy="15732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376200" y="2571480"/>
                  <a:ext cx="23940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96800" y="2614320"/>
                  <a:ext cx="0" cy="10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flipV="1">
                  <a:off x="496800" y="2579400"/>
                  <a:ext cx="47520" cy="36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H="1" flipV="1">
                  <a:off x="453960" y="2577600"/>
                  <a:ext cx="39600" cy="36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V="1">
                  <a:off x="384120" y="2572920"/>
                  <a:ext cx="22680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382320" y="2573280"/>
                  <a:ext cx="230400" cy="14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4" name=""/>
            <p:cNvGrpSpPr/>
            <p:nvPr/>
          </p:nvGrpSpPr>
          <p:grpSpPr>
            <a:xfrm>
              <a:off x="393480" y="2081160"/>
              <a:ext cx="231840" cy="196200"/>
              <a:chOff x="393480" y="2081160"/>
              <a:chExt cx="231840" cy="19620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393480" y="2120400"/>
                <a:ext cx="231840" cy="156960"/>
                <a:chOff x="393480" y="2120400"/>
                <a:chExt cx="231840" cy="15696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393480" y="212040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V="1">
                  <a:off x="394920" y="2123280"/>
                  <a:ext cx="227160" cy="151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93480" y="2123280"/>
                  <a:ext cx="230040" cy="148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471240" y="2081160"/>
                <a:ext cx="74520" cy="26640"/>
                <a:chOff x="471240" y="2081160"/>
                <a:chExt cx="74520" cy="2664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471240" y="20811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18760" y="20811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2" name=""/>
          <p:cNvSpPr/>
          <p:nvPr/>
        </p:nvSpPr>
        <p:spPr>
          <a:xfrm>
            <a:off x="3635280" y="84600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844800" y="641880"/>
            <a:ext cx="28022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 WW1-ME-GE09            Assault Detachment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ohr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led battalion of 6th Division at Herbebois, Verdun, 1916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3490920" y="698400"/>
            <a:ext cx="284040" cy="243000"/>
            <a:chOff x="3490920" y="698400"/>
            <a:chExt cx="284040" cy="243000"/>
          </a:xfrm>
        </p:grpSpPr>
        <p:sp>
          <p:nvSpPr>
            <p:cNvPr id="995" name=""/>
            <p:cNvSpPr/>
            <p:nvPr/>
          </p:nvSpPr>
          <p:spPr>
            <a:xfrm>
              <a:off x="3633480" y="69840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3490920" y="747720"/>
              <a:ext cx="284040" cy="193680"/>
              <a:chOff x="3490920" y="747720"/>
              <a:chExt cx="284040" cy="193680"/>
            </a:xfrm>
          </p:grpSpPr>
          <p:sp>
            <p:nvSpPr>
              <p:cNvPr id="997" name=""/>
              <p:cNvSpPr/>
              <p:nvPr/>
            </p:nvSpPr>
            <p:spPr>
              <a:xfrm>
                <a:off x="3490920" y="747720"/>
                <a:ext cx="284040" cy="1936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V="1">
                <a:off x="3493800" y="750600"/>
                <a:ext cx="276480" cy="18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490920" y="750600"/>
                <a:ext cx="282600" cy="18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0" name=""/>
          <p:cNvSpPr/>
          <p:nvPr/>
        </p:nvSpPr>
        <p:spPr>
          <a:xfrm>
            <a:off x="3639960" y="143208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017960" y="101916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013280" y="1138320"/>
            <a:ext cx="192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sstrupp                          WW1-GE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639960" y="117936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026960" y="1346040"/>
            <a:ext cx="192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sstrupp                        WW1-GE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3747960" y="1301760"/>
            <a:ext cx="231840" cy="196920"/>
            <a:chOff x="3747960" y="1301760"/>
            <a:chExt cx="231840" cy="196920"/>
          </a:xfrm>
        </p:grpSpPr>
        <p:grpSp>
          <p:nvGrpSpPr>
            <p:cNvPr id="1006" name=""/>
            <p:cNvGrpSpPr/>
            <p:nvPr/>
          </p:nvGrpSpPr>
          <p:grpSpPr>
            <a:xfrm>
              <a:off x="3747960" y="1341360"/>
              <a:ext cx="231840" cy="157320"/>
              <a:chOff x="3747960" y="1341360"/>
              <a:chExt cx="231840" cy="157320"/>
            </a:xfrm>
          </p:grpSpPr>
          <p:sp>
            <p:nvSpPr>
              <p:cNvPr id="1007" name=""/>
              <p:cNvSpPr/>
              <p:nvPr/>
            </p:nvSpPr>
            <p:spPr>
              <a:xfrm>
                <a:off x="3747960" y="1341360"/>
                <a:ext cx="23184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V="1">
                <a:off x="3749400" y="1344240"/>
                <a:ext cx="22716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747960" y="1344600"/>
                <a:ext cx="23004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3825720" y="1301760"/>
              <a:ext cx="74520" cy="27000"/>
              <a:chOff x="3825720" y="1301760"/>
              <a:chExt cx="74520" cy="27000"/>
            </a:xfrm>
          </p:grpSpPr>
          <p:sp>
            <p:nvSpPr>
              <p:cNvPr id="1011" name=""/>
              <p:cNvSpPr/>
              <p:nvPr/>
            </p:nvSpPr>
            <p:spPr>
              <a:xfrm>
                <a:off x="3825720" y="13017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873240" y="13017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3" name=""/>
          <p:cNvSpPr/>
          <p:nvPr/>
        </p:nvSpPr>
        <p:spPr>
          <a:xfrm>
            <a:off x="4030560" y="1574640"/>
            <a:ext cx="19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thrower                     WW1-GE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633840" y="164628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3741840" y="1998720"/>
            <a:ext cx="239760" cy="191520"/>
            <a:chOff x="3741840" y="1998720"/>
            <a:chExt cx="239760" cy="191520"/>
          </a:xfrm>
        </p:grpSpPr>
        <p:grpSp>
          <p:nvGrpSpPr>
            <p:cNvPr id="1016" name=""/>
            <p:cNvGrpSpPr/>
            <p:nvPr/>
          </p:nvGrpSpPr>
          <p:grpSpPr>
            <a:xfrm>
              <a:off x="3741840" y="2033280"/>
              <a:ext cx="239760" cy="156960"/>
              <a:chOff x="3741840" y="2033280"/>
              <a:chExt cx="239760" cy="156960"/>
            </a:xfrm>
          </p:grpSpPr>
          <p:sp>
            <p:nvSpPr>
              <p:cNvPr id="1017" name=""/>
              <p:cNvSpPr/>
              <p:nvPr/>
            </p:nvSpPr>
            <p:spPr>
              <a:xfrm>
                <a:off x="3741840" y="2033280"/>
                <a:ext cx="239760" cy="1569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V="1">
                <a:off x="3826080" y="2148480"/>
                <a:ext cx="6336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857760" y="2064600"/>
                <a:ext cx="0" cy="83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0" name=""/>
            <p:cNvGrpSpPr/>
            <p:nvPr/>
          </p:nvGrpSpPr>
          <p:grpSpPr>
            <a:xfrm>
              <a:off x="3824280" y="1998720"/>
              <a:ext cx="74520" cy="26640"/>
              <a:chOff x="3824280" y="1998720"/>
              <a:chExt cx="74520" cy="26640"/>
            </a:xfrm>
          </p:grpSpPr>
          <p:sp>
            <p:nvSpPr>
              <p:cNvPr id="1021" name=""/>
              <p:cNvSpPr/>
              <p:nvPr/>
            </p:nvSpPr>
            <p:spPr>
              <a:xfrm>
                <a:off x="3824280" y="19987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871800" y="19987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3" name=""/>
          <p:cNvSpPr/>
          <p:nvPr/>
        </p:nvSpPr>
        <p:spPr>
          <a:xfrm>
            <a:off x="4002120" y="2035080"/>
            <a:ext cx="1968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62cm Light Trench Mortar WW1-GE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638520" y="2112840"/>
            <a:ext cx="15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032000" y="1809720"/>
            <a:ext cx="191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-08 HMG                      WW1-GE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637080" y="187020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3746520" y="1754280"/>
            <a:ext cx="236520" cy="201600"/>
            <a:chOff x="3746520" y="1754280"/>
            <a:chExt cx="236520" cy="201600"/>
          </a:xfrm>
        </p:grpSpPr>
        <p:grpSp>
          <p:nvGrpSpPr>
            <p:cNvPr id="1028" name=""/>
            <p:cNvGrpSpPr/>
            <p:nvPr/>
          </p:nvGrpSpPr>
          <p:grpSpPr>
            <a:xfrm>
              <a:off x="3746520" y="1795320"/>
              <a:ext cx="231480" cy="156960"/>
              <a:chOff x="3746520" y="1795320"/>
              <a:chExt cx="231480" cy="156960"/>
            </a:xfrm>
          </p:grpSpPr>
          <p:sp>
            <p:nvSpPr>
              <p:cNvPr id="1029" name=""/>
              <p:cNvSpPr/>
              <p:nvPr/>
            </p:nvSpPr>
            <p:spPr>
              <a:xfrm>
                <a:off x="3746520" y="1795320"/>
                <a:ext cx="23148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746520" y="1801440"/>
                <a:ext cx="50760" cy="1461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1" name=""/>
            <p:cNvSpPr/>
            <p:nvPr/>
          </p:nvSpPr>
          <p:spPr>
            <a:xfrm flipV="1">
              <a:off x="3752640" y="1790280"/>
              <a:ext cx="2304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763800" y="1819080"/>
              <a:ext cx="219240" cy="13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3" name=""/>
            <p:cNvGrpSpPr/>
            <p:nvPr/>
          </p:nvGrpSpPr>
          <p:grpSpPr>
            <a:xfrm>
              <a:off x="3825720" y="1754280"/>
              <a:ext cx="74520" cy="26640"/>
              <a:chOff x="3825720" y="1754280"/>
              <a:chExt cx="74520" cy="26640"/>
            </a:xfrm>
          </p:grpSpPr>
          <p:sp>
            <p:nvSpPr>
              <p:cNvPr id="1034" name=""/>
              <p:cNvSpPr/>
              <p:nvPr/>
            </p:nvSpPr>
            <p:spPr>
              <a:xfrm>
                <a:off x="3825720" y="17542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873240" y="17542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3738600" y="1517760"/>
            <a:ext cx="239400" cy="188280"/>
            <a:chOff x="3738600" y="1517760"/>
            <a:chExt cx="239400" cy="188280"/>
          </a:xfrm>
        </p:grpSpPr>
        <p:grpSp>
          <p:nvGrpSpPr>
            <p:cNvPr id="1037" name=""/>
            <p:cNvGrpSpPr/>
            <p:nvPr/>
          </p:nvGrpSpPr>
          <p:grpSpPr>
            <a:xfrm>
              <a:off x="3821040" y="1517760"/>
              <a:ext cx="74520" cy="26640"/>
              <a:chOff x="3821040" y="1517760"/>
              <a:chExt cx="74520" cy="26640"/>
            </a:xfrm>
          </p:grpSpPr>
          <p:sp>
            <p:nvSpPr>
              <p:cNvPr id="1038" name=""/>
              <p:cNvSpPr/>
              <p:nvPr/>
            </p:nvSpPr>
            <p:spPr>
              <a:xfrm>
                <a:off x="3821040" y="15177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868560" y="15177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3738600" y="1549080"/>
              <a:ext cx="239400" cy="156960"/>
              <a:chOff x="3738600" y="1549080"/>
              <a:chExt cx="239400" cy="156960"/>
            </a:xfrm>
          </p:grpSpPr>
          <p:sp>
            <p:nvSpPr>
              <p:cNvPr id="1041" name=""/>
              <p:cNvSpPr/>
              <p:nvPr/>
            </p:nvSpPr>
            <p:spPr>
              <a:xfrm>
                <a:off x="3738600" y="1549080"/>
                <a:ext cx="23940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859200" y="1591560"/>
                <a:ext cx="0" cy="10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3859200" y="1556280"/>
                <a:ext cx="47520" cy="3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 flipV="1">
                <a:off x="3816360" y="1555200"/>
                <a:ext cx="39600" cy="3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3746520" y="1550520"/>
                <a:ext cx="226800" cy="15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744720" y="1550520"/>
                <a:ext cx="230400" cy="148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7" name=""/>
          <p:cNvGrpSpPr/>
          <p:nvPr/>
        </p:nvGrpSpPr>
        <p:grpSpPr>
          <a:xfrm>
            <a:off x="3755880" y="1058760"/>
            <a:ext cx="231840" cy="196920"/>
            <a:chOff x="3755880" y="1058760"/>
            <a:chExt cx="231840" cy="196920"/>
          </a:xfrm>
        </p:grpSpPr>
        <p:grpSp>
          <p:nvGrpSpPr>
            <p:cNvPr id="1048" name=""/>
            <p:cNvGrpSpPr/>
            <p:nvPr/>
          </p:nvGrpSpPr>
          <p:grpSpPr>
            <a:xfrm>
              <a:off x="3755880" y="1098360"/>
              <a:ext cx="231840" cy="157320"/>
              <a:chOff x="3755880" y="1098360"/>
              <a:chExt cx="231840" cy="157320"/>
            </a:xfrm>
          </p:grpSpPr>
          <p:sp>
            <p:nvSpPr>
              <p:cNvPr id="1049" name=""/>
              <p:cNvSpPr/>
              <p:nvPr/>
            </p:nvSpPr>
            <p:spPr>
              <a:xfrm>
                <a:off x="3755880" y="1098360"/>
                <a:ext cx="23184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3757320" y="1101240"/>
                <a:ext cx="22716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755880" y="1101600"/>
                <a:ext cx="23004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3833640" y="1058760"/>
              <a:ext cx="74520" cy="27000"/>
              <a:chOff x="3833640" y="1058760"/>
              <a:chExt cx="74520" cy="27000"/>
            </a:xfrm>
          </p:grpSpPr>
          <p:sp>
            <p:nvSpPr>
              <p:cNvPr id="1053" name=""/>
              <p:cNvSpPr/>
              <p:nvPr/>
            </p:nvSpPr>
            <p:spPr>
              <a:xfrm>
                <a:off x="3833640" y="10587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881160" y="10587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5" name=""/>
          <p:cNvSpPr/>
          <p:nvPr/>
        </p:nvSpPr>
        <p:spPr>
          <a:xfrm>
            <a:off x="4000320" y="2293920"/>
            <a:ext cx="1988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62cm Infantry Gun             WW1-GE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638520" y="2371680"/>
            <a:ext cx="15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3735360" y="2230560"/>
            <a:ext cx="239760" cy="198360"/>
            <a:chOff x="3735360" y="2230560"/>
            <a:chExt cx="239760" cy="198360"/>
          </a:xfrm>
        </p:grpSpPr>
        <p:grpSp>
          <p:nvGrpSpPr>
            <p:cNvPr id="1058" name=""/>
            <p:cNvGrpSpPr/>
            <p:nvPr/>
          </p:nvGrpSpPr>
          <p:grpSpPr>
            <a:xfrm>
              <a:off x="3735360" y="2271960"/>
              <a:ext cx="239760" cy="156960"/>
              <a:chOff x="3735360" y="2271960"/>
              <a:chExt cx="239760" cy="156960"/>
            </a:xfrm>
          </p:grpSpPr>
          <p:sp>
            <p:nvSpPr>
              <p:cNvPr id="1059" name=""/>
              <p:cNvSpPr/>
              <p:nvPr/>
            </p:nvSpPr>
            <p:spPr>
              <a:xfrm>
                <a:off x="3735360" y="2271960"/>
                <a:ext cx="23976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838680" y="233208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3817800" y="2230560"/>
              <a:ext cx="74160" cy="27000"/>
              <a:chOff x="3817800" y="2230560"/>
              <a:chExt cx="74160" cy="27000"/>
            </a:xfrm>
          </p:grpSpPr>
          <p:sp>
            <p:nvSpPr>
              <p:cNvPr id="1062" name=""/>
              <p:cNvSpPr/>
              <p:nvPr/>
            </p:nvSpPr>
            <p:spPr>
              <a:xfrm>
                <a:off x="3817800" y="22305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865320" y="22305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3473280" y="2550960"/>
            <a:ext cx="3146400" cy="1515960"/>
            <a:chOff x="3473280" y="2550960"/>
            <a:chExt cx="3146400" cy="1515960"/>
          </a:xfrm>
        </p:grpSpPr>
        <p:sp>
          <p:nvSpPr>
            <p:cNvPr id="1065" name=""/>
            <p:cNvSpPr/>
            <p:nvPr/>
          </p:nvSpPr>
          <p:spPr>
            <a:xfrm>
              <a:off x="3617640" y="2722320"/>
              <a:ext cx="0" cy="127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827520" y="2552400"/>
              <a:ext cx="2792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 WW1-ME-GE10            Assault Group – Bavarian Ersatz Division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(Summer 1916 – 1 per first wave infantry company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3473280" y="2550960"/>
              <a:ext cx="284040" cy="242280"/>
              <a:chOff x="3473280" y="2550960"/>
              <a:chExt cx="284040" cy="242280"/>
            </a:xfrm>
          </p:grpSpPr>
          <p:sp>
            <p:nvSpPr>
              <p:cNvPr id="1068" name=""/>
              <p:cNvSpPr/>
              <p:nvPr/>
            </p:nvSpPr>
            <p:spPr>
              <a:xfrm>
                <a:off x="3615840" y="2550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9" name=""/>
              <p:cNvGrpSpPr/>
              <p:nvPr/>
            </p:nvGrpSpPr>
            <p:grpSpPr>
              <a:xfrm>
                <a:off x="3473280" y="2599920"/>
                <a:ext cx="284040" cy="193320"/>
                <a:chOff x="3473280" y="2599920"/>
                <a:chExt cx="284040" cy="19332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3473280" y="2599920"/>
                  <a:ext cx="284040" cy="193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V="1">
                  <a:off x="3476160" y="2602440"/>
                  <a:ext cx="276480" cy="18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3473280" y="2602800"/>
                  <a:ext cx="282600" cy="184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3" name=""/>
            <p:cNvSpPr/>
            <p:nvPr/>
          </p:nvSpPr>
          <p:spPr>
            <a:xfrm>
              <a:off x="3622680" y="3308040"/>
              <a:ext cx="14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000320" y="287928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622680" y="3055680"/>
              <a:ext cx="14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08960" y="3222360"/>
              <a:ext cx="19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-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osstrupp                      WW1-GE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3730680" y="3177720"/>
              <a:ext cx="231480" cy="196920"/>
              <a:chOff x="3730680" y="3177720"/>
              <a:chExt cx="231480" cy="196920"/>
            </a:xfrm>
          </p:grpSpPr>
          <p:grpSp>
            <p:nvGrpSpPr>
              <p:cNvPr id="1078" name=""/>
              <p:cNvGrpSpPr/>
              <p:nvPr/>
            </p:nvGrpSpPr>
            <p:grpSpPr>
              <a:xfrm>
                <a:off x="3730680" y="3217320"/>
                <a:ext cx="231480" cy="157320"/>
                <a:chOff x="3730680" y="3217320"/>
                <a:chExt cx="231480" cy="15732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3730680" y="3217320"/>
                  <a:ext cx="23148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V="1">
                  <a:off x="3731760" y="3220200"/>
                  <a:ext cx="22680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3730680" y="3220560"/>
                  <a:ext cx="229680" cy="14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3808080" y="3177720"/>
                <a:ext cx="73800" cy="27000"/>
                <a:chOff x="3808080" y="3177720"/>
                <a:chExt cx="73800" cy="2700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3808080" y="317772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855240" y="31777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5" name=""/>
            <p:cNvSpPr/>
            <p:nvPr/>
          </p:nvSpPr>
          <p:spPr>
            <a:xfrm>
              <a:off x="4012920" y="3450960"/>
              <a:ext cx="191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lamethrower                     WW1-GE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616200" y="3522240"/>
              <a:ext cx="14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7" name=""/>
            <p:cNvGrpSpPr/>
            <p:nvPr/>
          </p:nvGrpSpPr>
          <p:grpSpPr>
            <a:xfrm>
              <a:off x="3724200" y="3874680"/>
              <a:ext cx="239760" cy="192240"/>
              <a:chOff x="3724200" y="3874680"/>
              <a:chExt cx="239760" cy="192240"/>
            </a:xfrm>
          </p:grpSpPr>
          <p:grpSp>
            <p:nvGrpSpPr>
              <p:cNvPr id="1088" name=""/>
              <p:cNvGrpSpPr/>
              <p:nvPr/>
            </p:nvGrpSpPr>
            <p:grpSpPr>
              <a:xfrm>
                <a:off x="3724200" y="3909600"/>
                <a:ext cx="239760" cy="157320"/>
                <a:chOff x="3724200" y="3909600"/>
                <a:chExt cx="239760" cy="15732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3724200" y="3909600"/>
                  <a:ext cx="239760" cy="1573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V="1">
                  <a:off x="3808440" y="4025520"/>
                  <a:ext cx="63360" cy="14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3840120" y="3941280"/>
                  <a:ext cx="0" cy="842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06640" y="3874680"/>
                <a:ext cx="74520" cy="27000"/>
                <a:chOff x="3806640" y="3874680"/>
                <a:chExt cx="74520" cy="270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3806640" y="38746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54160" y="38746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5" name=""/>
            <p:cNvSpPr/>
            <p:nvPr/>
          </p:nvSpPr>
          <p:spPr>
            <a:xfrm>
              <a:off x="3984480" y="3911400"/>
              <a:ext cx="199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.62cm Light Trench Mortar  WW1-GE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620880" y="3989160"/>
              <a:ext cx="1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014360" y="3686040"/>
              <a:ext cx="1911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G-08 HMG                      WW1-GE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619440" y="3746160"/>
              <a:ext cx="14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9" name=""/>
            <p:cNvGrpSpPr/>
            <p:nvPr/>
          </p:nvGrpSpPr>
          <p:grpSpPr>
            <a:xfrm>
              <a:off x="3728880" y="3630240"/>
              <a:ext cx="236520" cy="201600"/>
              <a:chOff x="3728880" y="3630240"/>
              <a:chExt cx="236520" cy="201600"/>
            </a:xfrm>
          </p:grpSpPr>
          <p:grpSp>
            <p:nvGrpSpPr>
              <p:cNvPr id="1100" name=""/>
              <p:cNvGrpSpPr/>
              <p:nvPr/>
            </p:nvGrpSpPr>
            <p:grpSpPr>
              <a:xfrm>
                <a:off x="3728880" y="3671280"/>
                <a:ext cx="231480" cy="156960"/>
                <a:chOff x="3728880" y="3671280"/>
                <a:chExt cx="231480" cy="15696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3728880" y="367128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3728880" y="3677400"/>
                  <a:ext cx="50760" cy="146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3" name=""/>
              <p:cNvSpPr/>
              <p:nvPr/>
            </p:nvSpPr>
            <p:spPr>
              <a:xfrm flipV="1">
                <a:off x="3735000" y="3666240"/>
                <a:ext cx="230400" cy="142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746160" y="3695040"/>
                <a:ext cx="219240" cy="136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5" name=""/>
              <p:cNvGrpSpPr/>
              <p:nvPr/>
            </p:nvGrpSpPr>
            <p:grpSpPr>
              <a:xfrm>
                <a:off x="3808080" y="3630240"/>
                <a:ext cx="74520" cy="26640"/>
                <a:chOff x="3808080" y="3630240"/>
                <a:chExt cx="74520" cy="2664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3808080" y="36302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3855600" y="36302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8" name=""/>
            <p:cNvGrpSpPr/>
            <p:nvPr/>
          </p:nvGrpSpPr>
          <p:grpSpPr>
            <a:xfrm>
              <a:off x="3720960" y="3393720"/>
              <a:ext cx="239400" cy="189000"/>
              <a:chOff x="3720960" y="3393720"/>
              <a:chExt cx="239400" cy="189000"/>
            </a:xfrm>
          </p:grpSpPr>
          <p:grpSp>
            <p:nvGrpSpPr>
              <p:cNvPr id="1109" name=""/>
              <p:cNvGrpSpPr/>
              <p:nvPr/>
            </p:nvGrpSpPr>
            <p:grpSpPr>
              <a:xfrm>
                <a:off x="3803400" y="3393720"/>
                <a:ext cx="74520" cy="27000"/>
                <a:chOff x="3803400" y="3393720"/>
                <a:chExt cx="74520" cy="2700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3803400" y="33937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3850920" y="33937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3720960" y="3425400"/>
                <a:ext cx="239400" cy="157320"/>
                <a:chOff x="3720960" y="3425400"/>
                <a:chExt cx="239400" cy="1573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3720960" y="3425400"/>
                  <a:ext cx="23940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3841560" y="3468240"/>
                  <a:ext cx="0" cy="10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3841560" y="3433320"/>
                  <a:ext cx="47520" cy="36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flipH="1" flipV="1">
                  <a:off x="3798720" y="3431520"/>
                  <a:ext cx="39600" cy="36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flipV="1">
                  <a:off x="3728880" y="3426840"/>
                  <a:ext cx="22680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3727080" y="3427200"/>
                  <a:ext cx="230400" cy="14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9" name=""/>
            <p:cNvGrpSpPr/>
            <p:nvPr/>
          </p:nvGrpSpPr>
          <p:grpSpPr>
            <a:xfrm>
              <a:off x="3720960" y="2930400"/>
              <a:ext cx="238320" cy="194760"/>
              <a:chOff x="3720960" y="2930400"/>
              <a:chExt cx="238320" cy="194760"/>
            </a:xfrm>
          </p:grpSpPr>
          <p:sp>
            <p:nvSpPr>
              <p:cNvPr id="1120" name=""/>
              <p:cNvSpPr/>
              <p:nvPr/>
            </p:nvSpPr>
            <p:spPr>
              <a:xfrm>
                <a:off x="3720960" y="2966760"/>
                <a:ext cx="238320" cy="158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25720" y="29304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2" name=""/>
            <p:cNvSpPr/>
            <p:nvPr/>
          </p:nvSpPr>
          <p:spPr>
            <a:xfrm>
              <a:off x="3995640" y="2995200"/>
              <a:ext cx="18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 WW1-GE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3475080" y="4211640"/>
            <a:ext cx="3155760" cy="1042920"/>
            <a:chOff x="3475080" y="4211640"/>
            <a:chExt cx="3155760" cy="1042920"/>
          </a:xfrm>
        </p:grpSpPr>
        <p:sp>
          <p:nvSpPr>
            <p:cNvPr id="1124" name=""/>
            <p:cNvSpPr/>
            <p:nvPr/>
          </p:nvSpPr>
          <p:spPr>
            <a:xfrm>
              <a:off x="3619440" y="4398840"/>
              <a:ext cx="0" cy="76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828960" y="4264560"/>
              <a:ext cx="2801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 WW1-ME-GE11      Stormtroop Company  1916-19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3475080" y="4211640"/>
              <a:ext cx="284040" cy="243000"/>
              <a:chOff x="3475080" y="4211640"/>
              <a:chExt cx="284040" cy="243000"/>
            </a:xfrm>
          </p:grpSpPr>
          <p:sp>
            <p:nvSpPr>
              <p:cNvPr id="1127" name=""/>
              <p:cNvSpPr/>
              <p:nvPr/>
            </p:nvSpPr>
            <p:spPr>
              <a:xfrm>
                <a:off x="3617640" y="421164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8" name=""/>
              <p:cNvGrpSpPr/>
              <p:nvPr/>
            </p:nvGrpSpPr>
            <p:grpSpPr>
              <a:xfrm>
                <a:off x="3475080" y="4260960"/>
                <a:ext cx="284040" cy="193680"/>
                <a:chOff x="3475080" y="4260960"/>
                <a:chExt cx="284040" cy="19368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3475080" y="4260960"/>
                  <a:ext cx="284040" cy="1936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V="1">
                  <a:off x="3477960" y="4263840"/>
                  <a:ext cx="276480" cy="18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3475080" y="4263840"/>
                  <a:ext cx="282600" cy="184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2" name=""/>
            <p:cNvSpPr/>
            <p:nvPr/>
          </p:nvSpPr>
          <p:spPr>
            <a:xfrm>
              <a:off x="3624120" y="4944960"/>
              <a:ext cx="14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002120" y="453240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997440" y="4651200"/>
              <a:ext cx="192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osstrupp                          WW1-GE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624120" y="4692600"/>
              <a:ext cx="14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10400" y="4859280"/>
              <a:ext cx="189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osstrupp                         WW1-GE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7" name=""/>
            <p:cNvGrpSpPr/>
            <p:nvPr/>
          </p:nvGrpSpPr>
          <p:grpSpPr>
            <a:xfrm>
              <a:off x="3732120" y="4815000"/>
              <a:ext cx="231840" cy="196200"/>
              <a:chOff x="3732120" y="4815000"/>
              <a:chExt cx="231840" cy="196200"/>
            </a:xfrm>
          </p:grpSpPr>
          <p:grpSp>
            <p:nvGrpSpPr>
              <p:cNvPr id="1138" name=""/>
              <p:cNvGrpSpPr/>
              <p:nvPr/>
            </p:nvGrpSpPr>
            <p:grpSpPr>
              <a:xfrm>
                <a:off x="3732120" y="4854240"/>
                <a:ext cx="231840" cy="156960"/>
                <a:chOff x="3732120" y="4854240"/>
                <a:chExt cx="231840" cy="156960"/>
              </a:xfrm>
            </p:grpSpPr>
            <p:sp>
              <p:nvSpPr>
                <p:cNvPr id="1139" name=""/>
                <p:cNvSpPr/>
                <p:nvPr/>
              </p:nvSpPr>
              <p:spPr>
                <a:xfrm>
                  <a:off x="3732120" y="485424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V="1">
                  <a:off x="3733560" y="4857120"/>
                  <a:ext cx="227160" cy="151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3732120" y="4857120"/>
                  <a:ext cx="230040" cy="148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3809880" y="4815000"/>
                <a:ext cx="74520" cy="26640"/>
                <a:chOff x="3809880" y="4815000"/>
                <a:chExt cx="74520" cy="2664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3809880" y="48150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3857400" y="48150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5" name=""/>
            <p:cNvSpPr/>
            <p:nvPr/>
          </p:nvSpPr>
          <p:spPr>
            <a:xfrm>
              <a:off x="4016160" y="5108400"/>
              <a:ext cx="1911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G-08 HMG                      WW1-GE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621240" y="5168880"/>
              <a:ext cx="14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7" name=""/>
            <p:cNvGrpSpPr/>
            <p:nvPr/>
          </p:nvGrpSpPr>
          <p:grpSpPr>
            <a:xfrm>
              <a:off x="3730680" y="5052960"/>
              <a:ext cx="236520" cy="201600"/>
              <a:chOff x="3730680" y="5052960"/>
              <a:chExt cx="236520" cy="201600"/>
            </a:xfrm>
          </p:grpSpPr>
          <p:grpSp>
            <p:nvGrpSpPr>
              <p:cNvPr id="1148" name=""/>
              <p:cNvGrpSpPr/>
              <p:nvPr/>
            </p:nvGrpSpPr>
            <p:grpSpPr>
              <a:xfrm>
                <a:off x="3730680" y="5094000"/>
                <a:ext cx="231480" cy="156960"/>
                <a:chOff x="3730680" y="5094000"/>
                <a:chExt cx="231480" cy="15696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3730680" y="509400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3730680" y="5100120"/>
                  <a:ext cx="50760" cy="146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1" name=""/>
              <p:cNvSpPr/>
              <p:nvPr/>
            </p:nvSpPr>
            <p:spPr>
              <a:xfrm flipV="1">
                <a:off x="3736800" y="5088960"/>
                <a:ext cx="230400" cy="142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747960" y="5117760"/>
                <a:ext cx="219240" cy="136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3" name=""/>
              <p:cNvGrpSpPr/>
              <p:nvPr/>
            </p:nvGrpSpPr>
            <p:grpSpPr>
              <a:xfrm>
                <a:off x="3809880" y="5052960"/>
                <a:ext cx="74520" cy="26640"/>
                <a:chOff x="3809880" y="5052960"/>
                <a:chExt cx="74520" cy="26640"/>
              </a:xfrm>
            </p:grpSpPr>
            <p:sp>
              <p:nvSpPr>
                <p:cNvPr id="1154" name=""/>
                <p:cNvSpPr/>
                <p:nvPr/>
              </p:nvSpPr>
              <p:spPr>
                <a:xfrm>
                  <a:off x="3809880" y="50529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3857400" y="50529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6" name=""/>
            <p:cNvGrpSpPr/>
            <p:nvPr/>
          </p:nvGrpSpPr>
          <p:grpSpPr>
            <a:xfrm>
              <a:off x="3740040" y="4572000"/>
              <a:ext cx="231840" cy="196920"/>
              <a:chOff x="3740040" y="4572000"/>
              <a:chExt cx="231840" cy="196920"/>
            </a:xfrm>
          </p:grpSpPr>
          <p:grpSp>
            <p:nvGrpSpPr>
              <p:cNvPr id="1157" name=""/>
              <p:cNvGrpSpPr/>
              <p:nvPr/>
            </p:nvGrpSpPr>
            <p:grpSpPr>
              <a:xfrm>
                <a:off x="3740040" y="4611600"/>
                <a:ext cx="231840" cy="157320"/>
                <a:chOff x="3740040" y="4611600"/>
                <a:chExt cx="231840" cy="15732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3740040" y="4611600"/>
                  <a:ext cx="23184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V="1">
                  <a:off x="3741480" y="4614480"/>
                  <a:ext cx="22716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3740040" y="4614840"/>
                  <a:ext cx="230040" cy="14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3817800" y="4572000"/>
                <a:ext cx="74520" cy="27000"/>
                <a:chOff x="3817800" y="4572000"/>
                <a:chExt cx="74520" cy="270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3817800" y="45720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3865320" y="45720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4" name=""/>
          <p:cNvGrpSpPr/>
          <p:nvPr/>
        </p:nvGrpSpPr>
        <p:grpSpPr>
          <a:xfrm>
            <a:off x="3444840" y="5334120"/>
            <a:ext cx="2327400" cy="837720"/>
            <a:chOff x="3444840" y="5334120"/>
            <a:chExt cx="2327400" cy="837720"/>
          </a:xfrm>
        </p:grpSpPr>
        <p:sp>
          <p:nvSpPr>
            <p:cNvPr id="1165" name=""/>
            <p:cNvSpPr/>
            <p:nvPr/>
          </p:nvSpPr>
          <p:spPr>
            <a:xfrm>
              <a:off x="3803760" y="5414760"/>
              <a:ext cx="1968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 WW1-MEG12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usketen-Kompanie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(1915-1916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597480" y="6086160"/>
              <a:ext cx="14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975120" y="565776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8" name=""/>
            <p:cNvGrpSpPr/>
            <p:nvPr/>
          </p:nvGrpSpPr>
          <p:grpSpPr>
            <a:xfrm>
              <a:off x="3697200" y="5727600"/>
              <a:ext cx="238320" cy="194400"/>
              <a:chOff x="3697200" y="5727600"/>
              <a:chExt cx="238320" cy="194400"/>
            </a:xfrm>
          </p:grpSpPr>
          <p:sp>
            <p:nvSpPr>
              <p:cNvPr id="1169" name=""/>
              <p:cNvSpPr/>
              <p:nvPr/>
            </p:nvSpPr>
            <p:spPr>
              <a:xfrm>
                <a:off x="3697200" y="5763960"/>
                <a:ext cx="238320" cy="158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801960" y="57276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1" name=""/>
            <p:cNvSpPr/>
            <p:nvPr/>
          </p:nvSpPr>
          <p:spPr>
            <a:xfrm>
              <a:off x="3972960" y="5792760"/>
              <a:ext cx="173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WW1-GE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589560" y="5833800"/>
              <a:ext cx="14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592440" y="5516280"/>
              <a:ext cx="0" cy="57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965760" y="6033960"/>
              <a:ext cx="1730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5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dsen LMG             WW1-GE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5" name=""/>
            <p:cNvGrpSpPr/>
            <p:nvPr/>
          </p:nvGrpSpPr>
          <p:grpSpPr>
            <a:xfrm>
              <a:off x="3691080" y="6011640"/>
              <a:ext cx="231480" cy="156960"/>
              <a:chOff x="3691080" y="6011640"/>
              <a:chExt cx="231480" cy="156960"/>
            </a:xfrm>
          </p:grpSpPr>
          <p:sp>
            <p:nvSpPr>
              <p:cNvPr id="1176" name=""/>
              <p:cNvSpPr/>
              <p:nvPr/>
            </p:nvSpPr>
            <p:spPr>
              <a:xfrm>
                <a:off x="3691080" y="6011640"/>
                <a:ext cx="23148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691080" y="6017760"/>
                <a:ext cx="50760" cy="1461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 flipV="1">
              <a:off x="3697200" y="6006960"/>
              <a:ext cx="230400" cy="14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708360" y="6035400"/>
              <a:ext cx="2192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3770280" y="5970600"/>
              <a:ext cx="74520" cy="26640"/>
              <a:chOff x="3770280" y="5970600"/>
              <a:chExt cx="74520" cy="26640"/>
            </a:xfrm>
          </p:grpSpPr>
          <p:sp>
            <p:nvSpPr>
              <p:cNvPr id="1181" name=""/>
              <p:cNvSpPr/>
              <p:nvPr/>
            </p:nvSpPr>
            <p:spPr>
              <a:xfrm>
                <a:off x="3770280" y="59706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817800" y="59706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3444840" y="5334120"/>
              <a:ext cx="301680" cy="273960"/>
              <a:chOff x="3444840" y="5334120"/>
              <a:chExt cx="301680" cy="273960"/>
            </a:xfrm>
          </p:grpSpPr>
          <p:grpSp>
            <p:nvGrpSpPr>
              <p:cNvPr id="1184" name=""/>
              <p:cNvGrpSpPr/>
              <p:nvPr/>
            </p:nvGrpSpPr>
            <p:grpSpPr>
              <a:xfrm>
                <a:off x="3444840" y="5403600"/>
                <a:ext cx="295200" cy="199080"/>
                <a:chOff x="3444840" y="5403600"/>
                <a:chExt cx="295200" cy="19908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3444840" y="5403600"/>
                  <a:ext cx="295200" cy="199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3444840" y="5411160"/>
                  <a:ext cx="64440" cy="185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7" name=""/>
              <p:cNvSpPr/>
              <p:nvPr/>
            </p:nvSpPr>
            <p:spPr>
              <a:xfrm flipV="1">
                <a:off x="3452760" y="5397120"/>
                <a:ext cx="293760" cy="18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467160" y="5433840"/>
                <a:ext cx="279360" cy="174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595680" y="533412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I German, 19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831960" y="1582920"/>
            <a:ext cx="215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Ind. Assault Co. ,1917   WW1-ME-GE14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82600" y="166356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509760" y="1501920"/>
            <a:ext cx="284040" cy="258120"/>
            <a:chOff x="509760" y="1501920"/>
            <a:chExt cx="284040" cy="258120"/>
          </a:xfrm>
        </p:grpSpPr>
        <p:sp>
          <p:nvSpPr>
            <p:cNvPr id="1194" name=""/>
            <p:cNvSpPr/>
            <p:nvPr/>
          </p:nvSpPr>
          <p:spPr>
            <a:xfrm>
              <a:off x="652680" y="150192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09760" y="1566720"/>
              <a:ext cx="284040" cy="193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513000" y="1569600"/>
              <a:ext cx="276120" cy="18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09760" y="1569600"/>
              <a:ext cx="28260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554040" y="581400"/>
            <a:ext cx="182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GE13 Infantry Regiment, 19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71440" y="708120"/>
            <a:ext cx="3240" cy="9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66880" y="1149480"/>
            <a:ext cx="1641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866880" y="84924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531720" y="919080"/>
            <a:ext cx="238320" cy="195480"/>
            <a:chOff x="531720" y="919080"/>
            <a:chExt cx="238320" cy="195480"/>
          </a:xfrm>
        </p:grpSpPr>
        <p:sp>
          <p:nvSpPr>
            <p:cNvPr id="1203" name=""/>
            <p:cNvSpPr/>
            <p:nvPr/>
          </p:nvSpPr>
          <p:spPr>
            <a:xfrm>
              <a:off x="531720" y="955800"/>
              <a:ext cx="238320" cy="158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6480" y="9190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864000" y="984240"/>
            <a:ext cx="182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71440" y="1033560"/>
            <a:ext cx="27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98280" y="608040"/>
            <a:ext cx="347400" cy="236160"/>
            <a:chOff x="98280" y="608040"/>
            <a:chExt cx="347400" cy="236160"/>
          </a:xfrm>
        </p:grpSpPr>
        <p:sp>
          <p:nvSpPr>
            <p:cNvPr id="1208" name=""/>
            <p:cNvSpPr/>
            <p:nvPr/>
          </p:nvSpPr>
          <p:spPr>
            <a:xfrm>
              <a:off x="98280" y="608040"/>
              <a:ext cx="347400" cy="236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01880" y="611640"/>
              <a:ext cx="338760" cy="23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98280" y="611640"/>
              <a:ext cx="34596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862920" y="1277640"/>
            <a:ext cx="208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3 Infantry Battal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W1-BG-GE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63520" y="132876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604800" y="1138320"/>
            <a:ext cx="76320" cy="63360"/>
            <a:chOff x="604800" y="1138320"/>
            <a:chExt cx="76320" cy="63360"/>
          </a:xfrm>
        </p:grpSpPr>
        <p:sp>
          <p:nvSpPr>
            <p:cNvPr id="1214" name=""/>
            <p:cNvSpPr/>
            <p:nvPr/>
          </p:nvSpPr>
          <p:spPr>
            <a:xfrm>
              <a:off x="604800" y="11383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81120" y="11383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63680" y="1201680"/>
            <a:ext cx="347040" cy="236160"/>
            <a:chOff x="463680" y="1201680"/>
            <a:chExt cx="347040" cy="236160"/>
          </a:xfrm>
        </p:grpSpPr>
        <p:sp>
          <p:nvSpPr>
            <p:cNvPr id="1217" name=""/>
            <p:cNvSpPr/>
            <p:nvPr/>
          </p:nvSpPr>
          <p:spPr>
            <a:xfrm>
              <a:off x="463680" y="1201680"/>
              <a:ext cx="347040" cy="236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467280" y="1205280"/>
              <a:ext cx="338400" cy="23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80" y="1205280"/>
              <a:ext cx="34560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206280" y="555480"/>
            <a:ext cx="131760" cy="65160"/>
            <a:chOff x="206280" y="555480"/>
            <a:chExt cx="131760" cy="65160"/>
          </a:xfrm>
        </p:grpSpPr>
        <p:sp>
          <p:nvSpPr>
            <p:cNvPr id="1221" name=""/>
            <p:cNvSpPr/>
            <p:nvPr/>
          </p:nvSpPr>
          <p:spPr>
            <a:xfrm>
              <a:off x="272880" y="5572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06280" y="5572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38040" y="5554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" name=""/>
          <p:cNvSpPr/>
          <p:nvPr/>
        </p:nvSpPr>
        <p:spPr>
          <a:xfrm>
            <a:off x="866880" y="1428840"/>
            <a:ext cx="9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74560" y="3810240"/>
            <a:ext cx="201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GE15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Musketen-Bataillone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(1917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91960" y="3981600"/>
            <a:ext cx="1800" cy="57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57160" y="4386240"/>
            <a:ext cx="164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41320" y="407844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552600" y="4148280"/>
            <a:ext cx="237960" cy="194760"/>
            <a:chOff x="552600" y="4148280"/>
            <a:chExt cx="237960" cy="194760"/>
          </a:xfrm>
        </p:grpSpPr>
        <p:sp>
          <p:nvSpPr>
            <p:cNvPr id="1230" name=""/>
            <p:cNvSpPr/>
            <p:nvPr/>
          </p:nvSpPr>
          <p:spPr>
            <a:xfrm>
              <a:off x="552600" y="4184640"/>
              <a:ext cx="237960" cy="158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57000" y="4148280"/>
              <a:ext cx="266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838440" y="4213080"/>
            <a:ext cx="182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91960" y="4262400"/>
            <a:ext cx="27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260280" y="3773520"/>
            <a:ext cx="76320" cy="63360"/>
            <a:chOff x="260280" y="3773520"/>
            <a:chExt cx="76320" cy="63360"/>
          </a:xfrm>
        </p:grpSpPr>
        <p:sp>
          <p:nvSpPr>
            <p:cNvPr id="1235" name=""/>
            <p:cNvSpPr/>
            <p:nvPr/>
          </p:nvSpPr>
          <p:spPr>
            <a:xfrm>
              <a:off x="260280" y="377352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36600" y="377352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841320" y="4572000"/>
            <a:ext cx="229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Musketen-Kompanie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(1917)  WW1-ME-GE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91960" y="4557600"/>
            <a:ext cx="31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522360" y="4455720"/>
            <a:ext cx="276120" cy="18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19120" y="4456080"/>
            <a:ext cx="282600" cy="184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501480" y="4384800"/>
            <a:ext cx="301680" cy="274680"/>
            <a:chOff x="501480" y="4384800"/>
            <a:chExt cx="301680" cy="274680"/>
          </a:xfrm>
        </p:grpSpPr>
        <p:grpSp>
          <p:nvGrpSpPr>
            <p:cNvPr id="1242" name=""/>
            <p:cNvGrpSpPr/>
            <p:nvPr/>
          </p:nvGrpSpPr>
          <p:grpSpPr>
            <a:xfrm>
              <a:off x="501480" y="4454640"/>
              <a:ext cx="295200" cy="199440"/>
              <a:chOff x="501480" y="4454640"/>
              <a:chExt cx="295200" cy="199440"/>
            </a:xfrm>
          </p:grpSpPr>
          <p:sp>
            <p:nvSpPr>
              <p:cNvPr id="1243" name=""/>
              <p:cNvSpPr/>
              <p:nvPr/>
            </p:nvSpPr>
            <p:spPr>
              <a:xfrm>
                <a:off x="501480" y="4454640"/>
                <a:ext cx="295200" cy="19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01480" y="4462200"/>
                <a:ext cx="64440" cy="185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5" name=""/>
            <p:cNvSpPr/>
            <p:nvPr/>
          </p:nvSpPr>
          <p:spPr>
            <a:xfrm flipV="1">
              <a:off x="509400" y="4447800"/>
              <a:ext cx="293760" cy="18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23800" y="4484880"/>
              <a:ext cx="279360" cy="17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52320" y="43848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117360" y="3833280"/>
            <a:ext cx="352440" cy="241200"/>
            <a:chOff x="117360" y="3833280"/>
            <a:chExt cx="352440" cy="241200"/>
          </a:xfrm>
        </p:grpSpPr>
        <p:grpSp>
          <p:nvGrpSpPr>
            <p:cNvPr id="1249" name=""/>
            <p:cNvGrpSpPr/>
            <p:nvPr/>
          </p:nvGrpSpPr>
          <p:grpSpPr>
            <a:xfrm>
              <a:off x="117360" y="3838320"/>
              <a:ext cx="347040" cy="236160"/>
              <a:chOff x="117360" y="3838320"/>
              <a:chExt cx="347040" cy="236160"/>
            </a:xfrm>
          </p:grpSpPr>
          <p:sp>
            <p:nvSpPr>
              <p:cNvPr id="1250" name=""/>
              <p:cNvSpPr/>
              <p:nvPr/>
            </p:nvSpPr>
            <p:spPr>
              <a:xfrm>
                <a:off x="117360" y="3838320"/>
                <a:ext cx="347040" cy="23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17360" y="3847320"/>
                <a:ext cx="75960" cy="219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2" name=""/>
            <p:cNvSpPr/>
            <p:nvPr/>
          </p:nvSpPr>
          <p:spPr>
            <a:xfrm flipV="1">
              <a:off x="123480" y="3833280"/>
              <a:ext cx="346320" cy="214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34640" y="3862080"/>
              <a:ext cx="328680" cy="204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569880" y="2016360"/>
            <a:ext cx="188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GE14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Battalion, 19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90520" y="2187720"/>
            <a:ext cx="144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852480" y="2592360"/>
            <a:ext cx="164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36640" y="228456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547560" y="2354400"/>
            <a:ext cx="238320" cy="194760"/>
            <a:chOff x="547560" y="2354400"/>
            <a:chExt cx="238320" cy="194760"/>
          </a:xfrm>
        </p:grpSpPr>
        <p:sp>
          <p:nvSpPr>
            <p:cNvPr id="1259" name=""/>
            <p:cNvSpPr/>
            <p:nvPr/>
          </p:nvSpPr>
          <p:spPr>
            <a:xfrm>
              <a:off x="547560" y="2390760"/>
              <a:ext cx="238320" cy="158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52320" y="235440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833040" y="2419200"/>
            <a:ext cx="193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87280" y="2468520"/>
            <a:ext cx="274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114480" y="1979640"/>
            <a:ext cx="347040" cy="299160"/>
            <a:chOff x="114480" y="1979640"/>
            <a:chExt cx="347040" cy="299160"/>
          </a:xfrm>
        </p:grpSpPr>
        <p:grpSp>
          <p:nvGrpSpPr>
            <p:cNvPr id="1264" name=""/>
            <p:cNvGrpSpPr/>
            <p:nvPr/>
          </p:nvGrpSpPr>
          <p:grpSpPr>
            <a:xfrm>
              <a:off x="255600" y="1979640"/>
              <a:ext cx="76320" cy="63360"/>
              <a:chOff x="255600" y="1979640"/>
              <a:chExt cx="76320" cy="63360"/>
            </a:xfrm>
          </p:grpSpPr>
          <p:sp>
            <p:nvSpPr>
              <p:cNvPr id="1265" name=""/>
              <p:cNvSpPr/>
              <p:nvPr/>
            </p:nvSpPr>
            <p:spPr>
              <a:xfrm>
                <a:off x="255600" y="197964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31920" y="197964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7" name=""/>
            <p:cNvGrpSpPr/>
            <p:nvPr/>
          </p:nvGrpSpPr>
          <p:grpSpPr>
            <a:xfrm>
              <a:off x="114480" y="2043000"/>
              <a:ext cx="347040" cy="235800"/>
              <a:chOff x="114480" y="2043000"/>
              <a:chExt cx="347040" cy="235800"/>
            </a:xfrm>
          </p:grpSpPr>
          <p:sp>
            <p:nvSpPr>
              <p:cNvPr id="1268" name=""/>
              <p:cNvSpPr/>
              <p:nvPr/>
            </p:nvSpPr>
            <p:spPr>
              <a:xfrm>
                <a:off x="114480" y="2043000"/>
                <a:ext cx="347040" cy="235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V="1">
                <a:off x="118080" y="2046240"/>
                <a:ext cx="338400" cy="23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114480" y="2046600"/>
                <a:ext cx="345600" cy="22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1" name=""/>
          <p:cNvSpPr/>
          <p:nvPr/>
        </p:nvSpPr>
        <p:spPr>
          <a:xfrm>
            <a:off x="835560" y="2719440"/>
            <a:ext cx="213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Infantry Company 1917     WW1-ME-GE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87280" y="2763720"/>
            <a:ext cx="311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57360" y="2593800"/>
            <a:ext cx="144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14440" y="2658960"/>
            <a:ext cx="284040" cy="1936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517680" y="2661840"/>
            <a:ext cx="276120" cy="18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14440" y="2662200"/>
            <a:ext cx="282600" cy="184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541440" y="2952360"/>
            <a:ext cx="230040" cy="14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52600" y="2981160"/>
            <a:ext cx="218880" cy="136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90520" y="2490840"/>
            <a:ext cx="3240" cy="1089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81160" y="3041640"/>
            <a:ext cx="338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1" name=""/>
          <p:cNvGrpSpPr/>
          <p:nvPr/>
        </p:nvGrpSpPr>
        <p:grpSpPr>
          <a:xfrm>
            <a:off x="512640" y="2873520"/>
            <a:ext cx="301680" cy="273960"/>
            <a:chOff x="512640" y="2873520"/>
            <a:chExt cx="301680" cy="273960"/>
          </a:xfrm>
        </p:grpSpPr>
        <p:grpSp>
          <p:nvGrpSpPr>
            <p:cNvPr id="1282" name=""/>
            <p:cNvGrpSpPr/>
            <p:nvPr/>
          </p:nvGrpSpPr>
          <p:grpSpPr>
            <a:xfrm>
              <a:off x="512640" y="2943000"/>
              <a:ext cx="295200" cy="199080"/>
              <a:chOff x="512640" y="2943000"/>
              <a:chExt cx="295200" cy="199080"/>
            </a:xfrm>
          </p:grpSpPr>
          <p:sp>
            <p:nvSpPr>
              <p:cNvPr id="1283" name=""/>
              <p:cNvSpPr/>
              <p:nvPr/>
            </p:nvSpPr>
            <p:spPr>
              <a:xfrm>
                <a:off x="512640" y="2943000"/>
                <a:ext cx="295200" cy="19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12640" y="2950560"/>
                <a:ext cx="64440" cy="1854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5" name=""/>
            <p:cNvSpPr/>
            <p:nvPr/>
          </p:nvSpPr>
          <p:spPr>
            <a:xfrm flipV="1">
              <a:off x="520560" y="2936520"/>
              <a:ext cx="293760" cy="18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960" y="2973240"/>
              <a:ext cx="279360" cy="17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63480" y="287352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8" name=""/>
          <p:cNvSpPr/>
          <p:nvPr/>
        </p:nvSpPr>
        <p:spPr>
          <a:xfrm>
            <a:off x="874800" y="2982960"/>
            <a:ext cx="221436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MG Company 1917-18     WW1-ME-GE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558720" y="3473280"/>
            <a:ext cx="239760" cy="192240"/>
            <a:chOff x="558720" y="3473280"/>
            <a:chExt cx="239760" cy="192240"/>
          </a:xfrm>
        </p:grpSpPr>
        <p:grpSp>
          <p:nvGrpSpPr>
            <p:cNvPr id="1290" name=""/>
            <p:cNvGrpSpPr/>
            <p:nvPr/>
          </p:nvGrpSpPr>
          <p:grpSpPr>
            <a:xfrm>
              <a:off x="558720" y="3508200"/>
              <a:ext cx="239760" cy="157320"/>
              <a:chOff x="558720" y="3508200"/>
              <a:chExt cx="239760" cy="157320"/>
            </a:xfrm>
          </p:grpSpPr>
          <p:sp>
            <p:nvSpPr>
              <p:cNvPr id="1291" name=""/>
              <p:cNvSpPr/>
              <p:nvPr/>
            </p:nvSpPr>
            <p:spPr>
              <a:xfrm>
                <a:off x="558720" y="3508200"/>
                <a:ext cx="239760" cy="15732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V="1">
                <a:off x="642960" y="3624120"/>
                <a:ext cx="63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74640" y="3539880"/>
                <a:ext cx="0" cy="84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641160" y="3473280"/>
              <a:ext cx="74520" cy="27000"/>
              <a:chOff x="641160" y="3473280"/>
              <a:chExt cx="74520" cy="27000"/>
            </a:xfrm>
          </p:grpSpPr>
          <p:sp>
            <p:nvSpPr>
              <p:cNvPr id="1295" name=""/>
              <p:cNvSpPr/>
              <p:nvPr/>
            </p:nvSpPr>
            <p:spPr>
              <a:xfrm>
                <a:off x="641160" y="34732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88680" y="34732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7" name=""/>
          <p:cNvSpPr/>
          <p:nvPr/>
        </p:nvSpPr>
        <p:spPr>
          <a:xfrm>
            <a:off x="843120" y="3502080"/>
            <a:ext cx="1997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62cm Light Trench Mortar  WW1-GE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97000" y="3587760"/>
            <a:ext cx="31104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841320" y="3268800"/>
            <a:ext cx="2073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nadethrower                   WW1-GE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8440" y="3343320"/>
            <a:ext cx="31104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557280" y="3240000"/>
            <a:ext cx="239760" cy="192240"/>
            <a:chOff x="557280" y="3240000"/>
            <a:chExt cx="239760" cy="192240"/>
          </a:xfrm>
        </p:grpSpPr>
        <p:grpSp>
          <p:nvGrpSpPr>
            <p:cNvPr id="1302" name=""/>
            <p:cNvGrpSpPr/>
            <p:nvPr/>
          </p:nvGrpSpPr>
          <p:grpSpPr>
            <a:xfrm>
              <a:off x="557280" y="3240000"/>
              <a:ext cx="239760" cy="192240"/>
              <a:chOff x="557280" y="3240000"/>
              <a:chExt cx="239760" cy="192240"/>
            </a:xfrm>
          </p:grpSpPr>
          <p:grpSp>
            <p:nvGrpSpPr>
              <p:cNvPr id="1303" name=""/>
              <p:cNvGrpSpPr/>
              <p:nvPr/>
            </p:nvGrpSpPr>
            <p:grpSpPr>
              <a:xfrm>
                <a:off x="557280" y="3274920"/>
                <a:ext cx="239760" cy="157320"/>
                <a:chOff x="557280" y="3274920"/>
                <a:chExt cx="239760" cy="157320"/>
              </a:xfrm>
            </p:grpSpPr>
            <p:sp>
              <p:nvSpPr>
                <p:cNvPr id="1304" name=""/>
                <p:cNvSpPr/>
                <p:nvPr/>
              </p:nvSpPr>
              <p:spPr>
                <a:xfrm>
                  <a:off x="557280" y="3274920"/>
                  <a:ext cx="239760" cy="1573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 flipV="1">
                  <a:off x="641520" y="3390840"/>
                  <a:ext cx="63360" cy="14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73200" y="3306600"/>
                  <a:ext cx="0" cy="842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7" name=""/>
              <p:cNvGrpSpPr/>
              <p:nvPr/>
            </p:nvGrpSpPr>
            <p:grpSpPr>
              <a:xfrm>
                <a:off x="639720" y="3240000"/>
                <a:ext cx="74520" cy="27000"/>
                <a:chOff x="639720" y="3240000"/>
                <a:chExt cx="74520" cy="2700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639720" y="32400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87240" y="32400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0" name=""/>
            <p:cNvSpPr/>
            <p:nvPr/>
          </p:nvSpPr>
          <p:spPr>
            <a:xfrm>
              <a:off x="569880" y="3287880"/>
              <a:ext cx="209520" cy="13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565200" y="3285720"/>
              <a:ext cx="220680" cy="135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2" name=""/>
          <p:cNvSpPr/>
          <p:nvPr/>
        </p:nvSpPr>
        <p:spPr>
          <a:xfrm>
            <a:off x="868320" y="3117960"/>
            <a:ext cx="164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693960" y="581400"/>
            <a:ext cx="20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 WW1-ME-GE1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chinegun Company, 1917-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65680" y="82404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3587760" y="893880"/>
            <a:ext cx="237960" cy="194760"/>
            <a:chOff x="3587760" y="893880"/>
            <a:chExt cx="237960" cy="194760"/>
          </a:xfrm>
        </p:grpSpPr>
        <p:sp>
          <p:nvSpPr>
            <p:cNvPr id="1316" name=""/>
            <p:cNvSpPr/>
            <p:nvPr/>
          </p:nvSpPr>
          <p:spPr>
            <a:xfrm>
              <a:off x="3587760" y="930240"/>
              <a:ext cx="237960" cy="158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692160" y="893880"/>
              <a:ext cx="266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3863520" y="958680"/>
            <a:ext cx="173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479760" y="100008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483000" y="68256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853800" y="1200240"/>
            <a:ext cx="1738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-08 HMG                WW1-GE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3487680" y="1136520"/>
            <a:ext cx="330120" cy="201600"/>
            <a:chOff x="3487680" y="1136520"/>
            <a:chExt cx="330120" cy="201600"/>
          </a:xfrm>
        </p:grpSpPr>
        <p:sp>
          <p:nvSpPr>
            <p:cNvPr id="1323" name=""/>
            <p:cNvSpPr/>
            <p:nvPr/>
          </p:nvSpPr>
          <p:spPr>
            <a:xfrm>
              <a:off x="3487680" y="1252080"/>
              <a:ext cx="14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4" name=""/>
            <p:cNvGrpSpPr/>
            <p:nvPr/>
          </p:nvGrpSpPr>
          <p:grpSpPr>
            <a:xfrm>
              <a:off x="3581280" y="1177560"/>
              <a:ext cx="231480" cy="156960"/>
              <a:chOff x="3581280" y="1177560"/>
              <a:chExt cx="231480" cy="156960"/>
            </a:xfrm>
          </p:grpSpPr>
          <p:sp>
            <p:nvSpPr>
              <p:cNvPr id="1325" name=""/>
              <p:cNvSpPr/>
              <p:nvPr/>
            </p:nvSpPr>
            <p:spPr>
              <a:xfrm>
                <a:off x="3581280" y="1177560"/>
                <a:ext cx="23148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3581280" y="1183680"/>
                <a:ext cx="50760" cy="1461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7" name=""/>
            <p:cNvSpPr/>
            <p:nvPr/>
          </p:nvSpPr>
          <p:spPr>
            <a:xfrm flipV="1">
              <a:off x="3587760" y="1172520"/>
              <a:ext cx="230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598920" y="1201320"/>
              <a:ext cx="218880" cy="13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9" name=""/>
            <p:cNvGrpSpPr/>
            <p:nvPr/>
          </p:nvGrpSpPr>
          <p:grpSpPr>
            <a:xfrm>
              <a:off x="3660840" y="1136520"/>
              <a:ext cx="74520" cy="26640"/>
              <a:chOff x="3660840" y="1136520"/>
              <a:chExt cx="74520" cy="26640"/>
            </a:xfrm>
          </p:grpSpPr>
          <p:sp>
            <p:nvSpPr>
              <p:cNvPr id="1330" name=""/>
              <p:cNvSpPr/>
              <p:nvPr/>
            </p:nvSpPr>
            <p:spPr>
              <a:xfrm>
                <a:off x="3660840" y="11365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3708360" y="11365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2" name=""/>
          <p:cNvGrpSpPr/>
          <p:nvPr/>
        </p:nvGrpSpPr>
        <p:grpSpPr>
          <a:xfrm>
            <a:off x="3335400" y="500040"/>
            <a:ext cx="301680" cy="274680"/>
            <a:chOff x="3335400" y="500040"/>
            <a:chExt cx="301680" cy="274680"/>
          </a:xfrm>
        </p:grpSpPr>
        <p:grpSp>
          <p:nvGrpSpPr>
            <p:cNvPr id="1333" name=""/>
            <p:cNvGrpSpPr/>
            <p:nvPr/>
          </p:nvGrpSpPr>
          <p:grpSpPr>
            <a:xfrm>
              <a:off x="3335400" y="569880"/>
              <a:ext cx="295200" cy="199440"/>
              <a:chOff x="3335400" y="569880"/>
              <a:chExt cx="295200" cy="199440"/>
            </a:xfrm>
          </p:grpSpPr>
          <p:sp>
            <p:nvSpPr>
              <p:cNvPr id="1334" name=""/>
              <p:cNvSpPr/>
              <p:nvPr/>
            </p:nvSpPr>
            <p:spPr>
              <a:xfrm>
                <a:off x="3335400" y="569880"/>
                <a:ext cx="295200" cy="19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335400" y="577440"/>
                <a:ext cx="64440" cy="185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6" name=""/>
            <p:cNvSpPr/>
            <p:nvPr/>
          </p:nvSpPr>
          <p:spPr>
            <a:xfrm flipV="1">
              <a:off x="3343320" y="563040"/>
              <a:ext cx="293760" cy="18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357720" y="600120"/>
              <a:ext cx="279360" cy="17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486240" y="5000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306600" y="1447920"/>
            <a:ext cx="2583000" cy="1753560"/>
            <a:chOff x="3306600" y="1447920"/>
            <a:chExt cx="2583000" cy="1753560"/>
          </a:xfrm>
        </p:grpSpPr>
        <p:sp>
          <p:nvSpPr>
            <p:cNvPr id="1340" name=""/>
            <p:cNvSpPr/>
            <p:nvPr/>
          </p:nvSpPr>
          <p:spPr>
            <a:xfrm>
              <a:off x="3451320" y="1579680"/>
              <a:ext cx="0" cy="154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660840" y="1500480"/>
              <a:ext cx="222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 WW1-ME-GE14 Independent Assault Company, 19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2" name=""/>
            <p:cNvGrpSpPr/>
            <p:nvPr/>
          </p:nvGrpSpPr>
          <p:grpSpPr>
            <a:xfrm>
              <a:off x="3306600" y="1447920"/>
              <a:ext cx="284400" cy="242280"/>
              <a:chOff x="3306600" y="1447920"/>
              <a:chExt cx="284400" cy="242280"/>
            </a:xfrm>
          </p:grpSpPr>
          <p:sp>
            <p:nvSpPr>
              <p:cNvPr id="1343" name=""/>
              <p:cNvSpPr/>
              <p:nvPr/>
            </p:nvSpPr>
            <p:spPr>
              <a:xfrm>
                <a:off x="3449520" y="14479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4" name=""/>
              <p:cNvGrpSpPr/>
              <p:nvPr/>
            </p:nvGrpSpPr>
            <p:grpSpPr>
              <a:xfrm>
                <a:off x="3306600" y="1496880"/>
                <a:ext cx="284400" cy="193320"/>
                <a:chOff x="3306600" y="1496880"/>
                <a:chExt cx="284400" cy="19332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3306600" y="1496880"/>
                  <a:ext cx="284400" cy="193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 flipV="1">
                  <a:off x="3309480" y="1499400"/>
                  <a:ext cx="276840" cy="18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3306600" y="1499760"/>
                  <a:ext cx="282960" cy="184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8" name=""/>
            <p:cNvSpPr/>
            <p:nvPr/>
          </p:nvSpPr>
          <p:spPr>
            <a:xfrm>
              <a:off x="3456000" y="2157480"/>
              <a:ext cx="14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833640" y="172872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828960" y="1863720"/>
              <a:ext cx="192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osstrupp                          WW1-GE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456000" y="1905120"/>
              <a:ext cx="14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841920" y="2071800"/>
              <a:ext cx="189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osstrupp                         WW1-GE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3" name=""/>
            <p:cNvGrpSpPr/>
            <p:nvPr/>
          </p:nvGrpSpPr>
          <p:grpSpPr>
            <a:xfrm>
              <a:off x="3564000" y="2027160"/>
              <a:ext cx="231840" cy="196920"/>
              <a:chOff x="3564000" y="2027160"/>
              <a:chExt cx="231840" cy="196920"/>
            </a:xfrm>
          </p:grpSpPr>
          <p:grpSp>
            <p:nvGrpSpPr>
              <p:cNvPr id="1354" name=""/>
              <p:cNvGrpSpPr/>
              <p:nvPr/>
            </p:nvGrpSpPr>
            <p:grpSpPr>
              <a:xfrm>
                <a:off x="3564000" y="2066760"/>
                <a:ext cx="231840" cy="157320"/>
                <a:chOff x="3564000" y="2066760"/>
                <a:chExt cx="231840" cy="157320"/>
              </a:xfrm>
            </p:grpSpPr>
            <p:sp>
              <p:nvSpPr>
                <p:cNvPr id="1355" name=""/>
                <p:cNvSpPr/>
                <p:nvPr/>
              </p:nvSpPr>
              <p:spPr>
                <a:xfrm>
                  <a:off x="3564000" y="2066760"/>
                  <a:ext cx="23184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flipV="1">
                  <a:off x="3565440" y="2069640"/>
                  <a:ext cx="22716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3564000" y="2070000"/>
                  <a:ext cx="230040" cy="14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8" name=""/>
              <p:cNvGrpSpPr/>
              <p:nvPr/>
            </p:nvGrpSpPr>
            <p:grpSpPr>
              <a:xfrm>
                <a:off x="3641760" y="2027160"/>
                <a:ext cx="74520" cy="27000"/>
                <a:chOff x="3641760" y="2027160"/>
                <a:chExt cx="74520" cy="2700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3641760" y="20271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3689280" y="20271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61" name=""/>
            <p:cNvSpPr/>
            <p:nvPr/>
          </p:nvSpPr>
          <p:spPr>
            <a:xfrm>
              <a:off x="3846600" y="2300400"/>
              <a:ext cx="191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lamethrower                     WW1-GE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449520" y="2371680"/>
              <a:ext cx="14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3" name=""/>
            <p:cNvGrpSpPr/>
            <p:nvPr/>
          </p:nvGrpSpPr>
          <p:grpSpPr>
            <a:xfrm>
              <a:off x="3557520" y="3009960"/>
              <a:ext cx="239760" cy="191520"/>
              <a:chOff x="3557520" y="3009960"/>
              <a:chExt cx="239760" cy="191520"/>
            </a:xfrm>
          </p:grpSpPr>
          <p:grpSp>
            <p:nvGrpSpPr>
              <p:cNvPr id="1364" name=""/>
              <p:cNvGrpSpPr/>
              <p:nvPr/>
            </p:nvGrpSpPr>
            <p:grpSpPr>
              <a:xfrm>
                <a:off x="3557520" y="3044520"/>
                <a:ext cx="239760" cy="156960"/>
                <a:chOff x="3557520" y="3044520"/>
                <a:chExt cx="239760" cy="15696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3557520" y="3044520"/>
                  <a:ext cx="239760" cy="15696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 flipV="1">
                  <a:off x="3641760" y="3159720"/>
                  <a:ext cx="63360" cy="1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3673440" y="3075840"/>
                  <a:ext cx="0" cy="838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8" name=""/>
              <p:cNvGrpSpPr/>
              <p:nvPr/>
            </p:nvGrpSpPr>
            <p:grpSpPr>
              <a:xfrm>
                <a:off x="3639960" y="3009960"/>
                <a:ext cx="74520" cy="26640"/>
                <a:chOff x="3639960" y="3009960"/>
                <a:chExt cx="74520" cy="2664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3639960" y="30099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3687480" y="30099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1" name=""/>
            <p:cNvSpPr/>
            <p:nvPr/>
          </p:nvSpPr>
          <p:spPr>
            <a:xfrm>
              <a:off x="3817800" y="3046320"/>
              <a:ext cx="196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.62cm Light Trench Mortar WW1-GE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454560" y="3124080"/>
              <a:ext cx="1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847680" y="2535120"/>
              <a:ext cx="1911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G-08 HMG                      WW1-GE0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452760" y="2595600"/>
              <a:ext cx="14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3562200" y="2479680"/>
              <a:ext cx="236520" cy="201600"/>
              <a:chOff x="3562200" y="2479680"/>
              <a:chExt cx="236520" cy="20160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562200" y="2520720"/>
                <a:ext cx="231480" cy="156960"/>
                <a:chOff x="3562200" y="2520720"/>
                <a:chExt cx="231480" cy="1569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562200" y="252072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562200" y="2526840"/>
                  <a:ext cx="50760" cy="146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9" name=""/>
              <p:cNvSpPr/>
              <p:nvPr/>
            </p:nvSpPr>
            <p:spPr>
              <a:xfrm flipV="1">
                <a:off x="3568320" y="2515680"/>
                <a:ext cx="230400" cy="142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3579480" y="2544480"/>
                <a:ext cx="219240" cy="136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1" name=""/>
              <p:cNvGrpSpPr/>
              <p:nvPr/>
            </p:nvGrpSpPr>
            <p:grpSpPr>
              <a:xfrm>
                <a:off x="3641400" y="2479680"/>
                <a:ext cx="74520" cy="26640"/>
                <a:chOff x="3641400" y="2479680"/>
                <a:chExt cx="74520" cy="2664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3641400" y="24796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3688920" y="24796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4" name=""/>
            <p:cNvGrpSpPr/>
            <p:nvPr/>
          </p:nvGrpSpPr>
          <p:grpSpPr>
            <a:xfrm>
              <a:off x="3554280" y="2243160"/>
              <a:ext cx="239400" cy="189000"/>
              <a:chOff x="3554280" y="2243160"/>
              <a:chExt cx="239400" cy="189000"/>
            </a:xfrm>
          </p:grpSpPr>
          <p:grpSp>
            <p:nvGrpSpPr>
              <p:cNvPr id="1385" name=""/>
              <p:cNvGrpSpPr/>
              <p:nvPr/>
            </p:nvGrpSpPr>
            <p:grpSpPr>
              <a:xfrm>
                <a:off x="3636720" y="2243160"/>
                <a:ext cx="74520" cy="27000"/>
                <a:chOff x="3636720" y="2243160"/>
                <a:chExt cx="74520" cy="2700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3636720" y="22431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3684240" y="22431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3554280" y="2274840"/>
                <a:ext cx="239400" cy="157320"/>
                <a:chOff x="3554280" y="2274840"/>
                <a:chExt cx="239400" cy="15732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3554280" y="2274840"/>
                  <a:ext cx="23940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3674880" y="2317680"/>
                  <a:ext cx="0" cy="10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 flipV="1">
                  <a:off x="3674880" y="2282760"/>
                  <a:ext cx="47520" cy="36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H="1" flipV="1">
                  <a:off x="3632040" y="2280960"/>
                  <a:ext cx="39600" cy="36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V="1">
                  <a:off x="3562200" y="2276280"/>
                  <a:ext cx="22680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3560400" y="2276640"/>
                  <a:ext cx="230400" cy="14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5" name=""/>
            <p:cNvGrpSpPr/>
            <p:nvPr/>
          </p:nvGrpSpPr>
          <p:grpSpPr>
            <a:xfrm>
              <a:off x="3571920" y="1784520"/>
              <a:ext cx="231840" cy="196200"/>
              <a:chOff x="3571920" y="1784520"/>
              <a:chExt cx="231840" cy="196200"/>
            </a:xfrm>
          </p:grpSpPr>
          <p:grpSp>
            <p:nvGrpSpPr>
              <p:cNvPr id="1396" name=""/>
              <p:cNvGrpSpPr/>
              <p:nvPr/>
            </p:nvGrpSpPr>
            <p:grpSpPr>
              <a:xfrm>
                <a:off x="3571920" y="1823760"/>
                <a:ext cx="231840" cy="156960"/>
                <a:chOff x="3571920" y="1823760"/>
                <a:chExt cx="231840" cy="15696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3571920" y="182376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 flipV="1">
                  <a:off x="3573360" y="1826640"/>
                  <a:ext cx="227160" cy="151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3571920" y="1826640"/>
                  <a:ext cx="230040" cy="148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3649680" y="1784520"/>
                <a:ext cx="74520" cy="26640"/>
                <a:chOff x="3649680" y="1784520"/>
                <a:chExt cx="74520" cy="2664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3649680" y="17845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3697200" y="17845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3" name=""/>
            <p:cNvSpPr/>
            <p:nvPr/>
          </p:nvSpPr>
          <p:spPr>
            <a:xfrm>
              <a:off x="3841560" y="2801880"/>
              <a:ext cx="192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G-08/15 LMG                  WW1-GE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444840" y="2862360"/>
              <a:ext cx="14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5" name=""/>
            <p:cNvGrpSpPr/>
            <p:nvPr/>
          </p:nvGrpSpPr>
          <p:grpSpPr>
            <a:xfrm>
              <a:off x="3554280" y="2746440"/>
              <a:ext cx="236520" cy="201600"/>
              <a:chOff x="3554280" y="2746440"/>
              <a:chExt cx="236520" cy="201600"/>
            </a:xfrm>
          </p:grpSpPr>
          <p:grpSp>
            <p:nvGrpSpPr>
              <p:cNvPr id="1406" name=""/>
              <p:cNvGrpSpPr/>
              <p:nvPr/>
            </p:nvGrpSpPr>
            <p:grpSpPr>
              <a:xfrm>
                <a:off x="3554280" y="2787480"/>
                <a:ext cx="231480" cy="156960"/>
                <a:chOff x="3554280" y="2787480"/>
                <a:chExt cx="231480" cy="1569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3554280" y="278748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3554280" y="2793600"/>
                  <a:ext cx="50760" cy="146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9" name=""/>
              <p:cNvSpPr/>
              <p:nvPr/>
            </p:nvSpPr>
            <p:spPr>
              <a:xfrm flipV="1">
                <a:off x="3560400" y="2782440"/>
                <a:ext cx="230400" cy="142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571560" y="2811240"/>
                <a:ext cx="219240" cy="136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1" name=""/>
              <p:cNvGrpSpPr/>
              <p:nvPr/>
            </p:nvGrpSpPr>
            <p:grpSpPr>
              <a:xfrm>
                <a:off x="3633480" y="2746440"/>
                <a:ext cx="74520" cy="26640"/>
                <a:chOff x="3633480" y="2746440"/>
                <a:chExt cx="74520" cy="26640"/>
              </a:xfrm>
            </p:grpSpPr>
            <p:sp>
              <p:nvSpPr>
                <p:cNvPr id="1412" name=""/>
                <p:cNvSpPr/>
                <p:nvPr/>
              </p:nvSpPr>
              <p:spPr>
                <a:xfrm>
                  <a:off x="3633480" y="27464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3681000" y="27464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14" name=""/>
          <p:cNvSpPr/>
          <p:nvPr/>
        </p:nvSpPr>
        <p:spPr>
          <a:xfrm>
            <a:off x="3668760" y="3327840"/>
            <a:ext cx="214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 WW1-ME-GE15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Company, 19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838320" y="3936960"/>
            <a:ext cx="210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Infantry Platoon, 1917   WW1-SME-GE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462480" y="3998880"/>
            <a:ext cx="152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851280" y="357012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3562200" y="3639960"/>
            <a:ext cx="249120" cy="195480"/>
            <a:chOff x="3562200" y="3639960"/>
            <a:chExt cx="249120" cy="195480"/>
          </a:xfrm>
        </p:grpSpPr>
        <p:sp>
          <p:nvSpPr>
            <p:cNvPr id="1419" name=""/>
            <p:cNvSpPr/>
            <p:nvPr/>
          </p:nvSpPr>
          <p:spPr>
            <a:xfrm>
              <a:off x="3562200" y="3676680"/>
              <a:ext cx="249120" cy="158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671640" y="363996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1" name=""/>
          <p:cNvSpPr/>
          <p:nvPr/>
        </p:nvSpPr>
        <p:spPr>
          <a:xfrm>
            <a:off x="3837240" y="3705120"/>
            <a:ext cx="18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462480" y="3746520"/>
            <a:ext cx="152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>
            <a:off x="3457080" y="3429000"/>
            <a:ext cx="180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4" name=""/>
          <p:cNvGrpSpPr/>
          <p:nvPr/>
        </p:nvGrpSpPr>
        <p:grpSpPr>
          <a:xfrm>
            <a:off x="3314880" y="3274920"/>
            <a:ext cx="296280" cy="243000"/>
            <a:chOff x="3314880" y="3274920"/>
            <a:chExt cx="296280" cy="243000"/>
          </a:xfrm>
        </p:grpSpPr>
        <p:sp>
          <p:nvSpPr>
            <p:cNvPr id="1425" name=""/>
            <p:cNvSpPr/>
            <p:nvPr/>
          </p:nvSpPr>
          <p:spPr>
            <a:xfrm>
              <a:off x="3463920" y="32749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6" name=""/>
            <p:cNvGrpSpPr/>
            <p:nvPr/>
          </p:nvGrpSpPr>
          <p:grpSpPr>
            <a:xfrm>
              <a:off x="3314880" y="3324240"/>
              <a:ext cx="296280" cy="193680"/>
              <a:chOff x="3314880" y="3324240"/>
              <a:chExt cx="296280" cy="193680"/>
            </a:xfrm>
          </p:grpSpPr>
          <p:sp>
            <p:nvSpPr>
              <p:cNvPr id="1427" name=""/>
              <p:cNvSpPr/>
              <p:nvPr/>
            </p:nvSpPr>
            <p:spPr>
              <a:xfrm>
                <a:off x="3314880" y="3324240"/>
                <a:ext cx="296280" cy="1936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V="1">
                <a:off x="3317760" y="3327120"/>
                <a:ext cx="288360" cy="18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314880" y="3327120"/>
                <a:ext cx="294840" cy="18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0" name=""/>
          <p:cNvGrpSpPr/>
          <p:nvPr/>
        </p:nvGrpSpPr>
        <p:grpSpPr>
          <a:xfrm>
            <a:off x="3608280" y="3873600"/>
            <a:ext cx="137880" cy="27000"/>
            <a:chOff x="3608280" y="3873600"/>
            <a:chExt cx="137880" cy="27000"/>
          </a:xfrm>
        </p:grpSpPr>
        <p:sp>
          <p:nvSpPr>
            <p:cNvPr id="1431" name=""/>
            <p:cNvSpPr/>
            <p:nvPr/>
          </p:nvSpPr>
          <p:spPr>
            <a:xfrm>
              <a:off x="3608280" y="387360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661200" y="3873600"/>
              <a:ext cx="2952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718080" y="387360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3537000" y="3921120"/>
            <a:ext cx="287280" cy="185760"/>
            <a:chOff x="3537000" y="3921120"/>
            <a:chExt cx="287280" cy="185760"/>
          </a:xfrm>
        </p:grpSpPr>
        <p:sp>
          <p:nvSpPr>
            <p:cNvPr id="1435" name=""/>
            <p:cNvSpPr/>
            <p:nvPr/>
          </p:nvSpPr>
          <p:spPr>
            <a:xfrm>
              <a:off x="3537000" y="3921120"/>
              <a:ext cx="287280" cy="185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3539880" y="3923640"/>
              <a:ext cx="279720" cy="18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537000" y="3923640"/>
              <a:ext cx="285840" cy="17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3841920" y="4349880"/>
            <a:ext cx="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3781440" y="4246560"/>
            <a:ext cx="131760" cy="27000"/>
            <a:chOff x="3781440" y="4246560"/>
            <a:chExt cx="131760" cy="27000"/>
          </a:xfrm>
        </p:grpSpPr>
        <p:sp>
          <p:nvSpPr>
            <p:cNvPr id="1440" name=""/>
            <p:cNvSpPr/>
            <p:nvPr/>
          </p:nvSpPr>
          <p:spPr>
            <a:xfrm>
              <a:off x="3781440" y="42465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832200" y="42465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886200" y="42465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3710160" y="4286160"/>
            <a:ext cx="274320" cy="185760"/>
            <a:chOff x="3710160" y="4286160"/>
            <a:chExt cx="274320" cy="185760"/>
          </a:xfrm>
        </p:grpSpPr>
        <p:sp>
          <p:nvSpPr>
            <p:cNvPr id="1444" name=""/>
            <p:cNvSpPr/>
            <p:nvPr/>
          </p:nvSpPr>
          <p:spPr>
            <a:xfrm>
              <a:off x="3710160" y="4286160"/>
              <a:ext cx="274320" cy="185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V="1">
              <a:off x="3712680" y="4288680"/>
              <a:ext cx="267120" cy="18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710160" y="4288680"/>
              <a:ext cx="272880" cy="17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7" name=""/>
          <p:cNvSpPr/>
          <p:nvPr/>
        </p:nvSpPr>
        <p:spPr>
          <a:xfrm>
            <a:off x="4052880" y="4264560"/>
            <a:ext cx="244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bmaneuver Element WW1-SME-GE04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Platoon, 19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846600" y="468936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231440" y="4603680"/>
            <a:ext cx="1729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ifle                            WW1-GE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0" name=""/>
          <p:cNvGrpSpPr/>
          <p:nvPr/>
        </p:nvGrpSpPr>
        <p:grpSpPr>
          <a:xfrm>
            <a:off x="3954600" y="4559400"/>
            <a:ext cx="231480" cy="196920"/>
            <a:chOff x="3954600" y="4559400"/>
            <a:chExt cx="231480" cy="196920"/>
          </a:xfrm>
        </p:grpSpPr>
        <p:sp>
          <p:nvSpPr>
            <p:cNvPr id="1451" name=""/>
            <p:cNvSpPr/>
            <p:nvPr/>
          </p:nvSpPr>
          <p:spPr>
            <a:xfrm>
              <a:off x="3954600" y="4599000"/>
              <a:ext cx="23148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V="1">
              <a:off x="3956040" y="4602240"/>
              <a:ext cx="22716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954600" y="4602240"/>
              <a:ext cx="23004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4" name=""/>
            <p:cNvGrpSpPr/>
            <p:nvPr/>
          </p:nvGrpSpPr>
          <p:grpSpPr>
            <a:xfrm>
              <a:off x="4032360" y="4559400"/>
              <a:ext cx="74520" cy="27000"/>
              <a:chOff x="4032360" y="4559400"/>
              <a:chExt cx="74520" cy="27000"/>
            </a:xfrm>
          </p:grpSpPr>
          <p:sp>
            <p:nvSpPr>
              <p:cNvPr id="1455" name=""/>
              <p:cNvSpPr/>
              <p:nvPr/>
            </p:nvSpPr>
            <p:spPr>
              <a:xfrm>
                <a:off x="4032360" y="45594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079880" y="45594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7" name=""/>
          <p:cNvSpPr/>
          <p:nvPr/>
        </p:nvSpPr>
        <p:spPr>
          <a:xfrm>
            <a:off x="3629160" y="5110560"/>
            <a:ext cx="2311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 WW1-ME-GE16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Musketen-Kompanie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(1917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422520" y="5781600"/>
            <a:ext cx="146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800520" y="535320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3522600" y="5423040"/>
            <a:ext cx="238320" cy="194760"/>
            <a:chOff x="3522600" y="5423040"/>
            <a:chExt cx="238320" cy="194760"/>
          </a:xfrm>
        </p:grpSpPr>
        <p:sp>
          <p:nvSpPr>
            <p:cNvPr id="1461" name=""/>
            <p:cNvSpPr/>
            <p:nvPr/>
          </p:nvSpPr>
          <p:spPr>
            <a:xfrm>
              <a:off x="3522600" y="5459400"/>
              <a:ext cx="238320" cy="158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627360" y="542304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3" name=""/>
          <p:cNvSpPr/>
          <p:nvPr/>
        </p:nvSpPr>
        <p:spPr>
          <a:xfrm>
            <a:off x="3798360" y="5487840"/>
            <a:ext cx="173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414600" y="5529240"/>
            <a:ext cx="146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H="1">
            <a:off x="3417480" y="5211720"/>
            <a:ext cx="180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789720" y="5729400"/>
            <a:ext cx="174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5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wis LMG                 WW1-GE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3516480" y="5707080"/>
            <a:ext cx="231480" cy="156960"/>
            <a:chOff x="3516480" y="5707080"/>
            <a:chExt cx="231480" cy="156960"/>
          </a:xfrm>
        </p:grpSpPr>
        <p:sp>
          <p:nvSpPr>
            <p:cNvPr id="1468" name=""/>
            <p:cNvSpPr/>
            <p:nvPr/>
          </p:nvSpPr>
          <p:spPr>
            <a:xfrm>
              <a:off x="3516480" y="5707080"/>
              <a:ext cx="23148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516480" y="5713200"/>
              <a:ext cx="50760" cy="1461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0" name=""/>
          <p:cNvSpPr/>
          <p:nvPr/>
        </p:nvSpPr>
        <p:spPr>
          <a:xfrm flipV="1">
            <a:off x="3522600" y="5702040"/>
            <a:ext cx="230400" cy="14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533760" y="5730840"/>
            <a:ext cx="219240" cy="136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2" name=""/>
          <p:cNvGrpSpPr/>
          <p:nvPr/>
        </p:nvGrpSpPr>
        <p:grpSpPr>
          <a:xfrm>
            <a:off x="3595680" y="5665680"/>
            <a:ext cx="74520" cy="27000"/>
            <a:chOff x="3595680" y="5665680"/>
            <a:chExt cx="74520" cy="27000"/>
          </a:xfrm>
        </p:grpSpPr>
        <p:sp>
          <p:nvSpPr>
            <p:cNvPr id="1473" name=""/>
            <p:cNvSpPr/>
            <p:nvPr/>
          </p:nvSpPr>
          <p:spPr>
            <a:xfrm>
              <a:off x="3595680" y="56656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643200" y="56656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3270240" y="5029200"/>
            <a:ext cx="301680" cy="274680"/>
            <a:chOff x="3270240" y="5029200"/>
            <a:chExt cx="301680" cy="274680"/>
          </a:xfrm>
        </p:grpSpPr>
        <p:grpSp>
          <p:nvGrpSpPr>
            <p:cNvPr id="1476" name=""/>
            <p:cNvGrpSpPr/>
            <p:nvPr/>
          </p:nvGrpSpPr>
          <p:grpSpPr>
            <a:xfrm>
              <a:off x="3270240" y="5099040"/>
              <a:ext cx="295200" cy="199440"/>
              <a:chOff x="3270240" y="5099040"/>
              <a:chExt cx="295200" cy="199440"/>
            </a:xfrm>
          </p:grpSpPr>
          <p:sp>
            <p:nvSpPr>
              <p:cNvPr id="1477" name=""/>
              <p:cNvSpPr/>
              <p:nvPr/>
            </p:nvSpPr>
            <p:spPr>
              <a:xfrm>
                <a:off x="3270240" y="5099040"/>
                <a:ext cx="295200" cy="19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70240" y="5106600"/>
                <a:ext cx="64440" cy="185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9" name=""/>
            <p:cNvSpPr/>
            <p:nvPr/>
          </p:nvSpPr>
          <p:spPr>
            <a:xfrm flipV="1">
              <a:off x="3278160" y="5092200"/>
              <a:ext cx="293760" cy="18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292560" y="5129280"/>
              <a:ext cx="279360" cy="17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421080" y="50292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I German, 19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831960" y="1582920"/>
            <a:ext cx="211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Ind. Assault Co. ,1918   WW1-ME-GE17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82600" y="166356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5" name=""/>
          <p:cNvGrpSpPr/>
          <p:nvPr/>
        </p:nvGrpSpPr>
        <p:grpSpPr>
          <a:xfrm>
            <a:off x="509760" y="1501920"/>
            <a:ext cx="284040" cy="258120"/>
            <a:chOff x="509760" y="1501920"/>
            <a:chExt cx="284040" cy="258120"/>
          </a:xfrm>
        </p:grpSpPr>
        <p:sp>
          <p:nvSpPr>
            <p:cNvPr id="1486" name=""/>
            <p:cNvSpPr/>
            <p:nvPr/>
          </p:nvSpPr>
          <p:spPr>
            <a:xfrm>
              <a:off x="652680" y="150192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09760" y="1566720"/>
              <a:ext cx="284040" cy="193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V="1">
              <a:off x="513000" y="1569600"/>
              <a:ext cx="276120" cy="18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9760" y="1569600"/>
              <a:ext cx="28260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0" name=""/>
          <p:cNvSpPr/>
          <p:nvPr/>
        </p:nvSpPr>
        <p:spPr>
          <a:xfrm>
            <a:off x="554040" y="581400"/>
            <a:ext cx="197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GE16 Infantry Regiment, 19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71440" y="708120"/>
            <a:ext cx="3240" cy="9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866880" y="1149480"/>
            <a:ext cx="1641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866880" y="84924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4" name=""/>
          <p:cNvGrpSpPr/>
          <p:nvPr/>
        </p:nvGrpSpPr>
        <p:grpSpPr>
          <a:xfrm>
            <a:off x="531720" y="919080"/>
            <a:ext cx="238320" cy="195480"/>
            <a:chOff x="531720" y="919080"/>
            <a:chExt cx="238320" cy="195480"/>
          </a:xfrm>
        </p:grpSpPr>
        <p:sp>
          <p:nvSpPr>
            <p:cNvPr id="1495" name=""/>
            <p:cNvSpPr/>
            <p:nvPr/>
          </p:nvSpPr>
          <p:spPr>
            <a:xfrm>
              <a:off x="531720" y="955800"/>
              <a:ext cx="238320" cy="158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6480" y="9190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" name=""/>
          <p:cNvSpPr/>
          <p:nvPr/>
        </p:nvSpPr>
        <p:spPr>
          <a:xfrm>
            <a:off x="864000" y="984240"/>
            <a:ext cx="182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71440" y="1033560"/>
            <a:ext cx="27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9" name=""/>
          <p:cNvGrpSpPr/>
          <p:nvPr/>
        </p:nvGrpSpPr>
        <p:grpSpPr>
          <a:xfrm>
            <a:off x="98280" y="608040"/>
            <a:ext cx="347400" cy="236160"/>
            <a:chOff x="98280" y="608040"/>
            <a:chExt cx="347400" cy="236160"/>
          </a:xfrm>
        </p:grpSpPr>
        <p:sp>
          <p:nvSpPr>
            <p:cNvPr id="1500" name=""/>
            <p:cNvSpPr/>
            <p:nvPr/>
          </p:nvSpPr>
          <p:spPr>
            <a:xfrm>
              <a:off x="98280" y="608040"/>
              <a:ext cx="347400" cy="236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101880" y="611640"/>
              <a:ext cx="338760" cy="23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98280" y="611640"/>
              <a:ext cx="34596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3" name=""/>
          <p:cNvSpPr/>
          <p:nvPr/>
        </p:nvSpPr>
        <p:spPr>
          <a:xfrm>
            <a:off x="862920" y="1277640"/>
            <a:ext cx="208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3 Infantry Battal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W1-BG-GE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63520" y="132876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5" name=""/>
          <p:cNvGrpSpPr/>
          <p:nvPr/>
        </p:nvGrpSpPr>
        <p:grpSpPr>
          <a:xfrm>
            <a:off x="604800" y="1138320"/>
            <a:ext cx="76320" cy="63360"/>
            <a:chOff x="604800" y="1138320"/>
            <a:chExt cx="76320" cy="63360"/>
          </a:xfrm>
        </p:grpSpPr>
        <p:sp>
          <p:nvSpPr>
            <p:cNvPr id="1506" name=""/>
            <p:cNvSpPr/>
            <p:nvPr/>
          </p:nvSpPr>
          <p:spPr>
            <a:xfrm>
              <a:off x="604800" y="11383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81120" y="11383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463680" y="1201680"/>
            <a:ext cx="347040" cy="236160"/>
            <a:chOff x="463680" y="1201680"/>
            <a:chExt cx="347040" cy="236160"/>
          </a:xfrm>
        </p:grpSpPr>
        <p:sp>
          <p:nvSpPr>
            <p:cNvPr id="1509" name=""/>
            <p:cNvSpPr/>
            <p:nvPr/>
          </p:nvSpPr>
          <p:spPr>
            <a:xfrm>
              <a:off x="463680" y="1201680"/>
              <a:ext cx="347040" cy="236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V="1">
              <a:off x="467280" y="1205280"/>
              <a:ext cx="338400" cy="23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63680" y="1205280"/>
              <a:ext cx="34560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206280" y="555480"/>
            <a:ext cx="131760" cy="65160"/>
            <a:chOff x="206280" y="555480"/>
            <a:chExt cx="131760" cy="65160"/>
          </a:xfrm>
        </p:grpSpPr>
        <p:sp>
          <p:nvSpPr>
            <p:cNvPr id="1513" name=""/>
            <p:cNvSpPr/>
            <p:nvPr/>
          </p:nvSpPr>
          <p:spPr>
            <a:xfrm>
              <a:off x="272880" y="5572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6280" y="5572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38040" y="5554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866880" y="1428840"/>
            <a:ext cx="9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569880" y="2016360"/>
            <a:ext cx="187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GE17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Battalion, 19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90520" y="2187720"/>
            <a:ext cx="144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852480" y="2592360"/>
            <a:ext cx="164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836640" y="228456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547560" y="2354400"/>
            <a:ext cx="238320" cy="194760"/>
            <a:chOff x="547560" y="2354400"/>
            <a:chExt cx="238320" cy="194760"/>
          </a:xfrm>
        </p:grpSpPr>
        <p:sp>
          <p:nvSpPr>
            <p:cNvPr id="1522" name=""/>
            <p:cNvSpPr/>
            <p:nvPr/>
          </p:nvSpPr>
          <p:spPr>
            <a:xfrm>
              <a:off x="547560" y="2390760"/>
              <a:ext cx="238320" cy="158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52320" y="235440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4" name=""/>
          <p:cNvSpPr/>
          <p:nvPr/>
        </p:nvSpPr>
        <p:spPr>
          <a:xfrm>
            <a:off x="833040" y="2419200"/>
            <a:ext cx="193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87280" y="2468520"/>
            <a:ext cx="27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114480" y="1979640"/>
            <a:ext cx="347040" cy="299160"/>
            <a:chOff x="114480" y="1979640"/>
            <a:chExt cx="347040" cy="299160"/>
          </a:xfrm>
        </p:grpSpPr>
        <p:grpSp>
          <p:nvGrpSpPr>
            <p:cNvPr id="1527" name=""/>
            <p:cNvGrpSpPr/>
            <p:nvPr/>
          </p:nvGrpSpPr>
          <p:grpSpPr>
            <a:xfrm>
              <a:off x="255600" y="1979640"/>
              <a:ext cx="76320" cy="63360"/>
              <a:chOff x="255600" y="1979640"/>
              <a:chExt cx="76320" cy="63360"/>
            </a:xfrm>
          </p:grpSpPr>
          <p:sp>
            <p:nvSpPr>
              <p:cNvPr id="1528" name=""/>
              <p:cNvSpPr/>
              <p:nvPr/>
            </p:nvSpPr>
            <p:spPr>
              <a:xfrm>
                <a:off x="255600" y="197964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31920" y="197964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0" name=""/>
            <p:cNvGrpSpPr/>
            <p:nvPr/>
          </p:nvGrpSpPr>
          <p:grpSpPr>
            <a:xfrm>
              <a:off x="114480" y="2043000"/>
              <a:ext cx="347040" cy="235800"/>
              <a:chOff x="114480" y="2043000"/>
              <a:chExt cx="347040" cy="235800"/>
            </a:xfrm>
          </p:grpSpPr>
          <p:sp>
            <p:nvSpPr>
              <p:cNvPr id="1531" name=""/>
              <p:cNvSpPr/>
              <p:nvPr/>
            </p:nvSpPr>
            <p:spPr>
              <a:xfrm>
                <a:off x="114480" y="2043000"/>
                <a:ext cx="347040" cy="235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118080" y="2046240"/>
                <a:ext cx="338400" cy="23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14480" y="2046600"/>
                <a:ext cx="345600" cy="22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4" name=""/>
          <p:cNvSpPr/>
          <p:nvPr/>
        </p:nvSpPr>
        <p:spPr>
          <a:xfrm>
            <a:off x="835560" y="2719440"/>
            <a:ext cx="213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Infantry Company 1918     WW1-ME-GE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87280" y="276372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57360" y="25938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514440" y="2658960"/>
            <a:ext cx="284040" cy="1936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517680" y="2661840"/>
            <a:ext cx="276120" cy="18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14440" y="2662200"/>
            <a:ext cx="282600" cy="184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V="1">
            <a:off x="541440" y="2952360"/>
            <a:ext cx="230040" cy="14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52600" y="2981160"/>
            <a:ext cx="218880" cy="136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90520" y="2490840"/>
            <a:ext cx="3240" cy="1089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81160" y="304164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512640" y="2873520"/>
            <a:ext cx="301680" cy="273960"/>
            <a:chOff x="512640" y="2873520"/>
            <a:chExt cx="301680" cy="273960"/>
          </a:xfrm>
        </p:grpSpPr>
        <p:grpSp>
          <p:nvGrpSpPr>
            <p:cNvPr id="1545" name=""/>
            <p:cNvGrpSpPr/>
            <p:nvPr/>
          </p:nvGrpSpPr>
          <p:grpSpPr>
            <a:xfrm>
              <a:off x="512640" y="2943000"/>
              <a:ext cx="295200" cy="199080"/>
              <a:chOff x="512640" y="2943000"/>
              <a:chExt cx="295200" cy="199080"/>
            </a:xfrm>
          </p:grpSpPr>
          <p:sp>
            <p:nvSpPr>
              <p:cNvPr id="1546" name=""/>
              <p:cNvSpPr/>
              <p:nvPr/>
            </p:nvSpPr>
            <p:spPr>
              <a:xfrm>
                <a:off x="512640" y="2943000"/>
                <a:ext cx="295200" cy="19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12640" y="2950560"/>
                <a:ext cx="64440" cy="1854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8" name=""/>
            <p:cNvSpPr/>
            <p:nvPr/>
          </p:nvSpPr>
          <p:spPr>
            <a:xfrm flipV="1">
              <a:off x="520560" y="2936520"/>
              <a:ext cx="293760" cy="18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34960" y="2973240"/>
              <a:ext cx="279360" cy="17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63480" y="287352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1" name=""/>
          <p:cNvSpPr/>
          <p:nvPr/>
        </p:nvSpPr>
        <p:spPr>
          <a:xfrm>
            <a:off x="874800" y="2982960"/>
            <a:ext cx="221436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MG Company 1918           WW1-ME-GE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2" name=""/>
          <p:cNvGrpSpPr/>
          <p:nvPr/>
        </p:nvGrpSpPr>
        <p:grpSpPr>
          <a:xfrm>
            <a:off x="558720" y="3473280"/>
            <a:ext cx="239760" cy="192240"/>
            <a:chOff x="558720" y="3473280"/>
            <a:chExt cx="239760" cy="192240"/>
          </a:xfrm>
        </p:grpSpPr>
        <p:grpSp>
          <p:nvGrpSpPr>
            <p:cNvPr id="1553" name=""/>
            <p:cNvGrpSpPr/>
            <p:nvPr/>
          </p:nvGrpSpPr>
          <p:grpSpPr>
            <a:xfrm>
              <a:off x="558720" y="3508200"/>
              <a:ext cx="239760" cy="157320"/>
              <a:chOff x="558720" y="3508200"/>
              <a:chExt cx="239760" cy="157320"/>
            </a:xfrm>
          </p:grpSpPr>
          <p:sp>
            <p:nvSpPr>
              <p:cNvPr id="1554" name=""/>
              <p:cNvSpPr/>
              <p:nvPr/>
            </p:nvSpPr>
            <p:spPr>
              <a:xfrm>
                <a:off x="558720" y="3508200"/>
                <a:ext cx="239760" cy="15732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V="1">
                <a:off x="642960" y="3624120"/>
                <a:ext cx="63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74640" y="3539880"/>
                <a:ext cx="0" cy="84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641160" y="3473280"/>
              <a:ext cx="74520" cy="27000"/>
              <a:chOff x="641160" y="3473280"/>
              <a:chExt cx="74520" cy="27000"/>
            </a:xfrm>
          </p:grpSpPr>
          <p:sp>
            <p:nvSpPr>
              <p:cNvPr id="1558" name=""/>
              <p:cNvSpPr/>
              <p:nvPr/>
            </p:nvSpPr>
            <p:spPr>
              <a:xfrm>
                <a:off x="641160" y="34732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88680" y="34732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0" name=""/>
          <p:cNvSpPr/>
          <p:nvPr/>
        </p:nvSpPr>
        <p:spPr>
          <a:xfrm>
            <a:off x="843120" y="3502080"/>
            <a:ext cx="1968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62cm Light Trench Mortar WW1-GE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97000" y="358776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841320" y="3268800"/>
            <a:ext cx="2073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nadethrower                   WW1-GE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98440" y="334332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4" name=""/>
          <p:cNvGrpSpPr/>
          <p:nvPr/>
        </p:nvGrpSpPr>
        <p:grpSpPr>
          <a:xfrm>
            <a:off x="557280" y="3240000"/>
            <a:ext cx="239760" cy="192240"/>
            <a:chOff x="557280" y="3240000"/>
            <a:chExt cx="239760" cy="192240"/>
          </a:xfrm>
        </p:grpSpPr>
        <p:grpSp>
          <p:nvGrpSpPr>
            <p:cNvPr id="1565" name=""/>
            <p:cNvGrpSpPr/>
            <p:nvPr/>
          </p:nvGrpSpPr>
          <p:grpSpPr>
            <a:xfrm>
              <a:off x="557280" y="3240000"/>
              <a:ext cx="239760" cy="192240"/>
              <a:chOff x="557280" y="3240000"/>
              <a:chExt cx="239760" cy="192240"/>
            </a:xfrm>
          </p:grpSpPr>
          <p:grpSp>
            <p:nvGrpSpPr>
              <p:cNvPr id="1566" name=""/>
              <p:cNvGrpSpPr/>
              <p:nvPr/>
            </p:nvGrpSpPr>
            <p:grpSpPr>
              <a:xfrm>
                <a:off x="557280" y="3274920"/>
                <a:ext cx="239760" cy="157320"/>
                <a:chOff x="557280" y="3274920"/>
                <a:chExt cx="239760" cy="15732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557280" y="3274920"/>
                  <a:ext cx="239760" cy="1573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flipV="1">
                  <a:off x="641520" y="3390840"/>
                  <a:ext cx="63360" cy="14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673200" y="3306600"/>
                  <a:ext cx="0" cy="842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0" name=""/>
              <p:cNvGrpSpPr/>
              <p:nvPr/>
            </p:nvGrpSpPr>
            <p:grpSpPr>
              <a:xfrm>
                <a:off x="639720" y="3240000"/>
                <a:ext cx="74520" cy="27000"/>
                <a:chOff x="639720" y="3240000"/>
                <a:chExt cx="74520" cy="27000"/>
              </a:xfrm>
            </p:grpSpPr>
            <p:sp>
              <p:nvSpPr>
                <p:cNvPr id="1571" name=""/>
                <p:cNvSpPr/>
                <p:nvPr/>
              </p:nvSpPr>
              <p:spPr>
                <a:xfrm>
                  <a:off x="639720" y="32400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687240" y="32400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73" name=""/>
            <p:cNvSpPr/>
            <p:nvPr/>
          </p:nvSpPr>
          <p:spPr>
            <a:xfrm>
              <a:off x="569880" y="3287880"/>
              <a:ext cx="209520" cy="13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565200" y="3285720"/>
              <a:ext cx="220680" cy="135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868320" y="3117960"/>
            <a:ext cx="164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676680" y="2626200"/>
            <a:ext cx="217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 WW1-ME-GE18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Company, 19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846960" y="3235320"/>
            <a:ext cx="198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Infantry Platoon, 1918   WW1-SMEG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470400" y="329724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848040" y="286848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0" name=""/>
          <p:cNvGrpSpPr/>
          <p:nvPr/>
        </p:nvGrpSpPr>
        <p:grpSpPr>
          <a:xfrm>
            <a:off x="3570120" y="2938320"/>
            <a:ext cx="238320" cy="195480"/>
            <a:chOff x="3570120" y="2938320"/>
            <a:chExt cx="238320" cy="195480"/>
          </a:xfrm>
        </p:grpSpPr>
        <p:sp>
          <p:nvSpPr>
            <p:cNvPr id="1581" name=""/>
            <p:cNvSpPr/>
            <p:nvPr/>
          </p:nvSpPr>
          <p:spPr>
            <a:xfrm>
              <a:off x="3570120" y="2975040"/>
              <a:ext cx="238320" cy="158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674880" y="29383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3" name=""/>
          <p:cNvSpPr/>
          <p:nvPr/>
        </p:nvSpPr>
        <p:spPr>
          <a:xfrm>
            <a:off x="3845160" y="3003480"/>
            <a:ext cx="18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470400" y="304488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465360" y="272736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3322800" y="2573280"/>
            <a:ext cx="284040" cy="243000"/>
            <a:chOff x="3322800" y="2573280"/>
            <a:chExt cx="284040" cy="243000"/>
          </a:xfrm>
        </p:grpSpPr>
        <p:sp>
          <p:nvSpPr>
            <p:cNvPr id="1587" name=""/>
            <p:cNvSpPr/>
            <p:nvPr/>
          </p:nvSpPr>
          <p:spPr>
            <a:xfrm>
              <a:off x="3465360" y="25732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8" name=""/>
            <p:cNvGrpSpPr/>
            <p:nvPr/>
          </p:nvGrpSpPr>
          <p:grpSpPr>
            <a:xfrm>
              <a:off x="3322800" y="2622600"/>
              <a:ext cx="284040" cy="193680"/>
              <a:chOff x="3322800" y="2622600"/>
              <a:chExt cx="284040" cy="193680"/>
            </a:xfrm>
          </p:grpSpPr>
          <p:sp>
            <p:nvSpPr>
              <p:cNvPr id="1589" name=""/>
              <p:cNvSpPr/>
              <p:nvPr/>
            </p:nvSpPr>
            <p:spPr>
              <a:xfrm>
                <a:off x="3322800" y="2622600"/>
                <a:ext cx="284040" cy="1936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V="1">
                <a:off x="3325680" y="2625480"/>
                <a:ext cx="276480" cy="18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322800" y="2625480"/>
                <a:ext cx="282600" cy="18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2" name=""/>
          <p:cNvGrpSpPr/>
          <p:nvPr/>
        </p:nvGrpSpPr>
        <p:grpSpPr>
          <a:xfrm>
            <a:off x="3616200" y="3171960"/>
            <a:ext cx="131760" cy="27000"/>
            <a:chOff x="3616200" y="3171960"/>
            <a:chExt cx="131760" cy="27000"/>
          </a:xfrm>
        </p:grpSpPr>
        <p:sp>
          <p:nvSpPr>
            <p:cNvPr id="1593" name=""/>
            <p:cNvSpPr/>
            <p:nvPr/>
          </p:nvSpPr>
          <p:spPr>
            <a:xfrm>
              <a:off x="3616200" y="31719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666960" y="31719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720960" y="31719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6" name=""/>
          <p:cNvGrpSpPr/>
          <p:nvPr/>
        </p:nvGrpSpPr>
        <p:grpSpPr>
          <a:xfrm>
            <a:off x="3544920" y="3219480"/>
            <a:ext cx="274680" cy="185760"/>
            <a:chOff x="3544920" y="3219480"/>
            <a:chExt cx="274680" cy="185760"/>
          </a:xfrm>
        </p:grpSpPr>
        <p:sp>
          <p:nvSpPr>
            <p:cNvPr id="1597" name=""/>
            <p:cNvSpPr/>
            <p:nvPr/>
          </p:nvSpPr>
          <p:spPr>
            <a:xfrm>
              <a:off x="3544920" y="3219480"/>
              <a:ext cx="274680" cy="185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V="1">
              <a:off x="3547440" y="3222000"/>
              <a:ext cx="267480" cy="18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544920" y="3222000"/>
              <a:ext cx="273240" cy="17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0" name=""/>
          <p:cNvSpPr/>
          <p:nvPr/>
        </p:nvSpPr>
        <p:spPr>
          <a:xfrm>
            <a:off x="3693960" y="4339080"/>
            <a:ext cx="196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 WW1-MEG19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chinegun Company, 19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865680" y="458136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3587760" y="4651200"/>
            <a:ext cx="237960" cy="195480"/>
            <a:chOff x="3587760" y="4651200"/>
            <a:chExt cx="237960" cy="195480"/>
          </a:xfrm>
        </p:grpSpPr>
        <p:sp>
          <p:nvSpPr>
            <p:cNvPr id="1603" name=""/>
            <p:cNvSpPr/>
            <p:nvPr/>
          </p:nvSpPr>
          <p:spPr>
            <a:xfrm>
              <a:off x="3587760" y="4687920"/>
              <a:ext cx="237960" cy="158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692160" y="46512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5" name=""/>
          <p:cNvSpPr/>
          <p:nvPr/>
        </p:nvSpPr>
        <p:spPr>
          <a:xfrm>
            <a:off x="3863520" y="4716360"/>
            <a:ext cx="173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WW1-GE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479760" y="475776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483000" y="444024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854880" y="4957920"/>
            <a:ext cx="174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-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-08 HMG             WW1-GE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3487680" y="4894200"/>
            <a:ext cx="330120" cy="201600"/>
            <a:chOff x="3487680" y="4894200"/>
            <a:chExt cx="330120" cy="201600"/>
          </a:xfrm>
        </p:grpSpPr>
        <p:sp>
          <p:nvSpPr>
            <p:cNvPr id="1610" name=""/>
            <p:cNvSpPr/>
            <p:nvPr/>
          </p:nvSpPr>
          <p:spPr>
            <a:xfrm>
              <a:off x="3487680" y="5009760"/>
              <a:ext cx="14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3581280" y="4935240"/>
              <a:ext cx="231480" cy="156960"/>
              <a:chOff x="3581280" y="4935240"/>
              <a:chExt cx="231480" cy="156960"/>
            </a:xfrm>
          </p:grpSpPr>
          <p:sp>
            <p:nvSpPr>
              <p:cNvPr id="1612" name=""/>
              <p:cNvSpPr/>
              <p:nvPr/>
            </p:nvSpPr>
            <p:spPr>
              <a:xfrm>
                <a:off x="3581280" y="4935240"/>
                <a:ext cx="23148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581280" y="4941360"/>
                <a:ext cx="50760" cy="1461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4" name=""/>
            <p:cNvSpPr/>
            <p:nvPr/>
          </p:nvSpPr>
          <p:spPr>
            <a:xfrm flipV="1">
              <a:off x="3587760" y="4930200"/>
              <a:ext cx="230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598920" y="4959000"/>
              <a:ext cx="218880" cy="13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6" name=""/>
            <p:cNvGrpSpPr/>
            <p:nvPr/>
          </p:nvGrpSpPr>
          <p:grpSpPr>
            <a:xfrm>
              <a:off x="3660840" y="4894200"/>
              <a:ext cx="74520" cy="26640"/>
              <a:chOff x="3660840" y="4894200"/>
              <a:chExt cx="74520" cy="26640"/>
            </a:xfrm>
          </p:grpSpPr>
          <p:sp>
            <p:nvSpPr>
              <p:cNvPr id="1617" name=""/>
              <p:cNvSpPr/>
              <p:nvPr/>
            </p:nvSpPr>
            <p:spPr>
              <a:xfrm>
                <a:off x="3660840" y="48942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708360" y="48942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9" name=""/>
          <p:cNvGrpSpPr/>
          <p:nvPr/>
        </p:nvGrpSpPr>
        <p:grpSpPr>
          <a:xfrm>
            <a:off x="3335400" y="4257720"/>
            <a:ext cx="301680" cy="274680"/>
            <a:chOff x="3335400" y="4257720"/>
            <a:chExt cx="301680" cy="274680"/>
          </a:xfrm>
        </p:grpSpPr>
        <p:grpSp>
          <p:nvGrpSpPr>
            <p:cNvPr id="1620" name=""/>
            <p:cNvGrpSpPr/>
            <p:nvPr/>
          </p:nvGrpSpPr>
          <p:grpSpPr>
            <a:xfrm>
              <a:off x="3335400" y="4327560"/>
              <a:ext cx="295200" cy="199440"/>
              <a:chOff x="3335400" y="4327560"/>
              <a:chExt cx="295200" cy="199440"/>
            </a:xfrm>
          </p:grpSpPr>
          <p:sp>
            <p:nvSpPr>
              <p:cNvPr id="1621" name=""/>
              <p:cNvSpPr/>
              <p:nvPr/>
            </p:nvSpPr>
            <p:spPr>
              <a:xfrm>
                <a:off x="3335400" y="4327560"/>
                <a:ext cx="295200" cy="19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335400" y="4335120"/>
                <a:ext cx="64440" cy="185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3" name=""/>
            <p:cNvSpPr/>
            <p:nvPr/>
          </p:nvSpPr>
          <p:spPr>
            <a:xfrm flipV="1">
              <a:off x="3343320" y="4320720"/>
              <a:ext cx="293760" cy="18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357720" y="4357800"/>
              <a:ext cx="279360" cy="17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486240" y="42577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3314880" y="465120"/>
            <a:ext cx="2624040" cy="1988640"/>
            <a:chOff x="3314880" y="465120"/>
            <a:chExt cx="2624040" cy="1988640"/>
          </a:xfrm>
        </p:grpSpPr>
        <p:sp>
          <p:nvSpPr>
            <p:cNvPr id="1627" name=""/>
            <p:cNvSpPr/>
            <p:nvPr/>
          </p:nvSpPr>
          <p:spPr>
            <a:xfrm>
              <a:off x="3459240" y="612720"/>
              <a:ext cx="0" cy="176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668760" y="518040"/>
              <a:ext cx="222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 WW1-MEG17 Independent Assault Company, 19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9" name=""/>
            <p:cNvGrpSpPr/>
            <p:nvPr/>
          </p:nvGrpSpPr>
          <p:grpSpPr>
            <a:xfrm>
              <a:off x="3314880" y="465120"/>
              <a:ext cx="284040" cy="243000"/>
              <a:chOff x="3314880" y="465120"/>
              <a:chExt cx="284040" cy="243000"/>
            </a:xfrm>
          </p:grpSpPr>
          <p:sp>
            <p:nvSpPr>
              <p:cNvPr id="1630" name=""/>
              <p:cNvSpPr/>
              <p:nvPr/>
            </p:nvSpPr>
            <p:spPr>
              <a:xfrm>
                <a:off x="3457440" y="46512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1" name=""/>
              <p:cNvGrpSpPr/>
              <p:nvPr/>
            </p:nvGrpSpPr>
            <p:grpSpPr>
              <a:xfrm>
                <a:off x="3314880" y="514440"/>
                <a:ext cx="284040" cy="193680"/>
                <a:chOff x="3314880" y="514440"/>
                <a:chExt cx="284040" cy="193680"/>
              </a:xfrm>
            </p:grpSpPr>
            <p:sp>
              <p:nvSpPr>
                <p:cNvPr id="1632" name=""/>
                <p:cNvSpPr/>
                <p:nvPr/>
              </p:nvSpPr>
              <p:spPr>
                <a:xfrm>
                  <a:off x="3314880" y="514440"/>
                  <a:ext cx="284040" cy="1936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flipV="1">
                  <a:off x="3317760" y="517320"/>
                  <a:ext cx="276480" cy="18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3314880" y="517320"/>
                  <a:ext cx="282600" cy="184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5" name=""/>
            <p:cNvSpPr/>
            <p:nvPr/>
          </p:nvSpPr>
          <p:spPr>
            <a:xfrm>
              <a:off x="3463920" y="1174680"/>
              <a:ext cx="14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841920" y="74628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837240" y="880920"/>
              <a:ext cx="192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osstrupp                          WW1-GE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463920" y="922320"/>
              <a:ext cx="14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849840" y="1089000"/>
              <a:ext cx="189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osstrupp                         WW1-GE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0" name=""/>
            <p:cNvGrpSpPr/>
            <p:nvPr/>
          </p:nvGrpSpPr>
          <p:grpSpPr>
            <a:xfrm>
              <a:off x="3571920" y="1044720"/>
              <a:ext cx="231840" cy="196200"/>
              <a:chOff x="3571920" y="1044720"/>
              <a:chExt cx="231840" cy="196200"/>
            </a:xfrm>
          </p:grpSpPr>
          <p:grpSp>
            <p:nvGrpSpPr>
              <p:cNvPr id="1641" name=""/>
              <p:cNvGrpSpPr/>
              <p:nvPr/>
            </p:nvGrpSpPr>
            <p:grpSpPr>
              <a:xfrm>
                <a:off x="3571920" y="1083960"/>
                <a:ext cx="231840" cy="156960"/>
                <a:chOff x="3571920" y="1083960"/>
                <a:chExt cx="231840" cy="156960"/>
              </a:xfrm>
            </p:grpSpPr>
            <p:sp>
              <p:nvSpPr>
                <p:cNvPr id="1642" name=""/>
                <p:cNvSpPr/>
                <p:nvPr/>
              </p:nvSpPr>
              <p:spPr>
                <a:xfrm>
                  <a:off x="3571920" y="108396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flipV="1">
                  <a:off x="3573360" y="1086840"/>
                  <a:ext cx="227160" cy="151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3571920" y="1086840"/>
                  <a:ext cx="230040" cy="148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5" name=""/>
              <p:cNvGrpSpPr/>
              <p:nvPr/>
            </p:nvGrpSpPr>
            <p:grpSpPr>
              <a:xfrm>
                <a:off x="3649680" y="1044720"/>
                <a:ext cx="74520" cy="26640"/>
                <a:chOff x="3649680" y="1044720"/>
                <a:chExt cx="74520" cy="26640"/>
              </a:xfrm>
            </p:grpSpPr>
            <p:sp>
              <p:nvSpPr>
                <p:cNvPr id="1646" name=""/>
                <p:cNvSpPr/>
                <p:nvPr/>
              </p:nvSpPr>
              <p:spPr>
                <a:xfrm>
                  <a:off x="3649680" y="10447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3697200" y="10447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48" name=""/>
            <p:cNvSpPr/>
            <p:nvPr/>
          </p:nvSpPr>
          <p:spPr>
            <a:xfrm>
              <a:off x="3854520" y="1317600"/>
              <a:ext cx="191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lamethrower                     WW1-GE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457440" y="1389240"/>
              <a:ext cx="14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0" name=""/>
            <p:cNvGrpSpPr/>
            <p:nvPr/>
          </p:nvGrpSpPr>
          <p:grpSpPr>
            <a:xfrm>
              <a:off x="3565440" y="2027160"/>
              <a:ext cx="239760" cy="192240"/>
              <a:chOff x="3565440" y="2027160"/>
              <a:chExt cx="239760" cy="192240"/>
            </a:xfrm>
          </p:grpSpPr>
          <p:grpSp>
            <p:nvGrpSpPr>
              <p:cNvPr id="1651" name=""/>
              <p:cNvGrpSpPr/>
              <p:nvPr/>
            </p:nvGrpSpPr>
            <p:grpSpPr>
              <a:xfrm>
                <a:off x="3565440" y="2062080"/>
                <a:ext cx="239760" cy="157320"/>
                <a:chOff x="3565440" y="2062080"/>
                <a:chExt cx="239760" cy="157320"/>
              </a:xfrm>
            </p:grpSpPr>
            <p:sp>
              <p:nvSpPr>
                <p:cNvPr id="1652" name=""/>
                <p:cNvSpPr/>
                <p:nvPr/>
              </p:nvSpPr>
              <p:spPr>
                <a:xfrm>
                  <a:off x="3565440" y="2062080"/>
                  <a:ext cx="239760" cy="1573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 flipV="1">
                  <a:off x="3649680" y="2178000"/>
                  <a:ext cx="63360" cy="14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3681360" y="2093760"/>
                  <a:ext cx="0" cy="842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5" name=""/>
              <p:cNvGrpSpPr/>
              <p:nvPr/>
            </p:nvGrpSpPr>
            <p:grpSpPr>
              <a:xfrm>
                <a:off x="3647880" y="2027160"/>
                <a:ext cx="74520" cy="27000"/>
                <a:chOff x="3647880" y="2027160"/>
                <a:chExt cx="74520" cy="27000"/>
              </a:xfrm>
            </p:grpSpPr>
            <p:sp>
              <p:nvSpPr>
                <p:cNvPr id="1656" name=""/>
                <p:cNvSpPr/>
                <p:nvPr/>
              </p:nvSpPr>
              <p:spPr>
                <a:xfrm>
                  <a:off x="3647880" y="20271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3695400" y="20271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8" name=""/>
            <p:cNvSpPr/>
            <p:nvPr/>
          </p:nvSpPr>
          <p:spPr>
            <a:xfrm>
              <a:off x="3825720" y="2063880"/>
              <a:ext cx="196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.62cm Light Trench Mortar WW1-GE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462480" y="2141640"/>
              <a:ext cx="1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855600" y="1552680"/>
              <a:ext cx="1911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G-08 HMG                      WW1-GE0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460680" y="1612800"/>
              <a:ext cx="14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2" name=""/>
            <p:cNvGrpSpPr/>
            <p:nvPr/>
          </p:nvGrpSpPr>
          <p:grpSpPr>
            <a:xfrm>
              <a:off x="3570120" y="1496880"/>
              <a:ext cx="236520" cy="201600"/>
              <a:chOff x="3570120" y="1496880"/>
              <a:chExt cx="236520" cy="201600"/>
            </a:xfrm>
          </p:grpSpPr>
          <p:grpSp>
            <p:nvGrpSpPr>
              <p:cNvPr id="1663" name=""/>
              <p:cNvGrpSpPr/>
              <p:nvPr/>
            </p:nvGrpSpPr>
            <p:grpSpPr>
              <a:xfrm>
                <a:off x="3570120" y="1537920"/>
                <a:ext cx="231480" cy="156960"/>
                <a:chOff x="3570120" y="1537920"/>
                <a:chExt cx="231480" cy="156960"/>
              </a:xfrm>
            </p:grpSpPr>
            <p:sp>
              <p:nvSpPr>
                <p:cNvPr id="1664" name=""/>
                <p:cNvSpPr/>
                <p:nvPr/>
              </p:nvSpPr>
              <p:spPr>
                <a:xfrm>
                  <a:off x="3570120" y="153792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3570120" y="1544040"/>
                  <a:ext cx="50760" cy="146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6" name=""/>
              <p:cNvSpPr/>
              <p:nvPr/>
            </p:nvSpPr>
            <p:spPr>
              <a:xfrm flipV="1">
                <a:off x="3576240" y="1532880"/>
                <a:ext cx="230400" cy="142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587400" y="1561680"/>
                <a:ext cx="219240" cy="136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8" name=""/>
              <p:cNvGrpSpPr/>
              <p:nvPr/>
            </p:nvGrpSpPr>
            <p:grpSpPr>
              <a:xfrm>
                <a:off x="3649320" y="1496880"/>
                <a:ext cx="74520" cy="26640"/>
                <a:chOff x="3649320" y="1496880"/>
                <a:chExt cx="74520" cy="2664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3649320" y="14968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3696840" y="14968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71" name=""/>
            <p:cNvGrpSpPr/>
            <p:nvPr/>
          </p:nvGrpSpPr>
          <p:grpSpPr>
            <a:xfrm>
              <a:off x="3562200" y="1260360"/>
              <a:ext cx="239400" cy="189000"/>
              <a:chOff x="3562200" y="1260360"/>
              <a:chExt cx="239400" cy="18900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3644640" y="1260360"/>
                <a:ext cx="74520" cy="27000"/>
                <a:chOff x="3644640" y="1260360"/>
                <a:chExt cx="74520" cy="27000"/>
              </a:xfrm>
            </p:grpSpPr>
            <p:sp>
              <p:nvSpPr>
                <p:cNvPr id="1673" name=""/>
                <p:cNvSpPr/>
                <p:nvPr/>
              </p:nvSpPr>
              <p:spPr>
                <a:xfrm>
                  <a:off x="3644640" y="12603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692160" y="12603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3562200" y="1292040"/>
                <a:ext cx="239400" cy="157320"/>
                <a:chOff x="3562200" y="1292040"/>
                <a:chExt cx="239400" cy="15732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3562200" y="1292040"/>
                  <a:ext cx="23940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682800" y="1334880"/>
                  <a:ext cx="0" cy="10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 flipV="1">
                  <a:off x="3682800" y="1299960"/>
                  <a:ext cx="47520" cy="36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 flipH="1" flipV="1">
                  <a:off x="3639960" y="1298160"/>
                  <a:ext cx="39600" cy="36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 flipV="1">
                  <a:off x="3570120" y="1293480"/>
                  <a:ext cx="22680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3568320" y="1293840"/>
                  <a:ext cx="230400" cy="14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82" name=""/>
            <p:cNvGrpSpPr/>
            <p:nvPr/>
          </p:nvGrpSpPr>
          <p:grpSpPr>
            <a:xfrm>
              <a:off x="3579840" y="801720"/>
              <a:ext cx="231840" cy="196920"/>
              <a:chOff x="3579840" y="801720"/>
              <a:chExt cx="231840" cy="196920"/>
            </a:xfrm>
          </p:grpSpPr>
          <p:grpSp>
            <p:nvGrpSpPr>
              <p:cNvPr id="1683" name=""/>
              <p:cNvGrpSpPr/>
              <p:nvPr/>
            </p:nvGrpSpPr>
            <p:grpSpPr>
              <a:xfrm>
                <a:off x="3579840" y="841320"/>
                <a:ext cx="231840" cy="157320"/>
                <a:chOff x="3579840" y="841320"/>
                <a:chExt cx="231840" cy="157320"/>
              </a:xfrm>
            </p:grpSpPr>
            <p:sp>
              <p:nvSpPr>
                <p:cNvPr id="1684" name=""/>
                <p:cNvSpPr/>
                <p:nvPr/>
              </p:nvSpPr>
              <p:spPr>
                <a:xfrm>
                  <a:off x="3579840" y="841320"/>
                  <a:ext cx="23184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 flipV="1">
                  <a:off x="3581280" y="844200"/>
                  <a:ext cx="22716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3579840" y="844560"/>
                  <a:ext cx="230040" cy="14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7" name=""/>
              <p:cNvGrpSpPr/>
              <p:nvPr/>
            </p:nvGrpSpPr>
            <p:grpSpPr>
              <a:xfrm>
                <a:off x="3657600" y="801720"/>
                <a:ext cx="74520" cy="27000"/>
                <a:chOff x="3657600" y="801720"/>
                <a:chExt cx="74520" cy="27000"/>
              </a:xfrm>
            </p:grpSpPr>
            <p:sp>
              <p:nvSpPr>
                <p:cNvPr id="1688" name=""/>
                <p:cNvSpPr/>
                <p:nvPr/>
              </p:nvSpPr>
              <p:spPr>
                <a:xfrm>
                  <a:off x="3657600" y="8017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3705120" y="8017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0" name=""/>
            <p:cNvSpPr/>
            <p:nvPr/>
          </p:nvSpPr>
          <p:spPr>
            <a:xfrm>
              <a:off x="3849840" y="1819440"/>
              <a:ext cx="192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5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G-08/15 LMG                  WW1-GE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452760" y="1879560"/>
              <a:ext cx="14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2" name=""/>
            <p:cNvGrpSpPr/>
            <p:nvPr/>
          </p:nvGrpSpPr>
          <p:grpSpPr>
            <a:xfrm>
              <a:off x="3562200" y="1763640"/>
              <a:ext cx="236520" cy="201600"/>
              <a:chOff x="3562200" y="1763640"/>
              <a:chExt cx="236520" cy="201600"/>
            </a:xfrm>
          </p:grpSpPr>
          <p:grpSp>
            <p:nvGrpSpPr>
              <p:cNvPr id="1693" name=""/>
              <p:cNvGrpSpPr/>
              <p:nvPr/>
            </p:nvGrpSpPr>
            <p:grpSpPr>
              <a:xfrm>
                <a:off x="3562200" y="1804680"/>
                <a:ext cx="231480" cy="156960"/>
                <a:chOff x="3562200" y="1804680"/>
                <a:chExt cx="231480" cy="156960"/>
              </a:xfrm>
            </p:grpSpPr>
            <p:sp>
              <p:nvSpPr>
                <p:cNvPr id="1694" name=""/>
                <p:cNvSpPr/>
                <p:nvPr/>
              </p:nvSpPr>
              <p:spPr>
                <a:xfrm>
                  <a:off x="3562200" y="180468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3562200" y="1810800"/>
                  <a:ext cx="50760" cy="146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6" name=""/>
              <p:cNvSpPr/>
              <p:nvPr/>
            </p:nvSpPr>
            <p:spPr>
              <a:xfrm flipV="1">
                <a:off x="3568320" y="1799640"/>
                <a:ext cx="230400" cy="142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579480" y="1828440"/>
                <a:ext cx="219240" cy="136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8" name=""/>
              <p:cNvGrpSpPr/>
              <p:nvPr/>
            </p:nvGrpSpPr>
            <p:grpSpPr>
              <a:xfrm>
                <a:off x="3641400" y="1763640"/>
                <a:ext cx="74520" cy="26640"/>
                <a:chOff x="3641400" y="1763640"/>
                <a:chExt cx="74520" cy="26640"/>
              </a:xfrm>
            </p:grpSpPr>
            <p:sp>
              <p:nvSpPr>
                <p:cNvPr id="1699" name=""/>
                <p:cNvSpPr/>
                <p:nvPr/>
              </p:nvSpPr>
              <p:spPr>
                <a:xfrm>
                  <a:off x="3641400" y="17636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3688920" y="17636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01" name=""/>
            <p:cNvSpPr/>
            <p:nvPr/>
          </p:nvSpPr>
          <p:spPr>
            <a:xfrm>
              <a:off x="3865680" y="2306520"/>
              <a:ext cx="207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renadethrower                  WW1-GE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460680" y="2381400"/>
              <a:ext cx="21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3" name=""/>
            <p:cNvGrpSpPr/>
            <p:nvPr/>
          </p:nvGrpSpPr>
          <p:grpSpPr>
            <a:xfrm>
              <a:off x="3581280" y="2262240"/>
              <a:ext cx="239760" cy="191520"/>
              <a:chOff x="3581280" y="2262240"/>
              <a:chExt cx="239760" cy="191520"/>
            </a:xfrm>
          </p:grpSpPr>
          <p:grpSp>
            <p:nvGrpSpPr>
              <p:cNvPr id="1704" name=""/>
              <p:cNvGrpSpPr/>
              <p:nvPr/>
            </p:nvGrpSpPr>
            <p:grpSpPr>
              <a:xfrm>
                <a:off x="3581280" y="2262240"/>
                <a:ext cx="239760" cy="191520"/>
                <a:chOff x="3581280" y="2262240"/>
                <a:chExt cx="239760" cy="191520"/>
              </a:xfrm>
            </p:grpSpPr>
            <p:grpSp>
              <p:nvGrpSpPr>
                <p:cNvPr id="1705" name=""/>
                <p:cNvGrpSpPr/>
                <p:nvPr/>
              </p:nvGrpSpPr>
              <p:grpSpPr>
                <a:xfrm>
                  <a:off x="3581280" y="2296800"/>
                  <a:ext cx="239760" cy="156960"/>
                  <a:chOff x="3581280" y="2296800"/>
                  <a:chExt cx="239760" cy="156960"/>
                </a:xfrm>
              </p:grpSpPr>
              <p:sp>
                <p:nvSpPr>
                  <p:cNvPr id="1706" name=""/>
                  <p:cNvSpPr/>
                  <p:nvPr/>
                </p:nvSpPr>
                <p:spPr>
                  <a:xfrm>
                    <a:off x="3581280" y="2296800"/>
                    <a:ext cx="23976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 flipV="1">
                    <a:off x="3665520" y="2412000"/>
                    <a:ext cx="63360" cy="10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3697200" y="2328120"/>
                    <a:ext cx="0" cy="838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09" name=""/>
                <p:cNvGrpSpPr/>
                <p:nvPr/>
              </p:nvGrpSpPr>
              <p:grpSpPr>
                <a:xfrm>
                  <a:off x="3663720" y="2262240"/>
                  <a:ext cx="74520" cy="26640"/>
                  <a:chOff x="3663720" y="2262240"/>
                  <a:chExt cx="74520" cy="26640"/>
                </a:xfrm>
              </p:grpSpPr>
              <p:sp>
                <p:nvSpPr>
                  <p:cNvPr id="1710" name=""/>
                  <p:cNvSpPr/>
                  <p:nvPr/>
                </p:nvSpPr>
                <p:spPr>
                  <a:xfrm>
                    <a:off x="3663720" y="22622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3711240" y="22622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12" name=""/>
              <p:cNvSpPr/>
              <p:nvPr/>
            </p:nvSpPr>
            <p:spPr>
              <a:xfrm>
                <a:off x="3593880" y="2309760"/>
                <a:ext cx="209520" cy="13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3589200" y="2307960"/>
                <a:ext cx="220680" cy="134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4" name=""/>
          <p:cNvSpPr/>
          <p:nvPr/>
        </p:nvSpPr>
        <p:spPr>
          <a:xfrm>
            <a:off x="3675240" y="3633840"/>
            <a:ext cx="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5" name=""/>
          <p:cNvGrpSpPr/>
          <p:nvPr/>
        </p:nvGrpSpPr>
        <p:grpSpPr>
          <a:xfrm>
            <a:off x="3614760" y="3498840"/>
            <a:ext cx="131760" cy="27000"/>
            <a:chOff x="3614760" y="3498840"/>
            <a:chExt cx="131760" cy="27000"/>
          </a:xfrm>
        </p:grpSpPr>
        <p:sp>
          <p:nvSpPr>
            <p:cNvPr id="1716" name=""/>
            <p:cNvSpPr/>
            <p:nvPr/>
          </p:nvSpPr>
          <p:spPr>
            <a:xfrm>
              <a:off x="3614760" y="34988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665520" y="34988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719520" y="34988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9" name=""/>
          <p:cNvGrpSpPr/>
          <p:nvPr/>
        </p:nvGrpSpPr>
        <p:grpSpPr>
          <a:xfrm>
            <a:off x="3543480" y="3538440"/>
            <a:ext cx="274320" cy="185760"/>
            <a:chOff x="3543480" y="3538440"/>
            <a:chExt cx="274320" cy="185760"/>
          </a:xfrm>
        </p:grpSpPr>
        <p:sp>
          <p:nvSpPr>
            <p:cNvPr id="1720" name=""/>
            <p:cNvSpPr/>
            <p:nvPr/>
          </p:nvSpPr>
          <p:spPr>
            <a:xfrm>
              <a:off x="3543480" y="3538440"/>
              <a:ext cx="274320" cy="185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V="1">
              <a:off x="3546000" y="3540960"/>
              <a:ext cx="267120" cy="18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543480" y="3540960"/>
              <a:ext cx="272880" cy="17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3" name=""/>
          <p:cNvSpPr/>
          <p:nvPr/>
        </p:nvSpPr>
        <p:spPr>
          <a:xfrm>
            <a:off x="3886200" y="3516840"/>
            <a:ext cx="243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bmaneuver Element WW1-SME-GE05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Platoon, 19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679920" y="390996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064400" y="3824280"/>
            <a:ext cx="1787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ifle                              WW1-GE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787920" y="3819600"/>
            <a:ext cx="231480" cy="1569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 flipV="1">
            <a:off x="3789360" y="3822480"/>
            <a:ext cx="22716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787920" y="3822840"/>
            <a:ext cx="230040" cy="14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3865680" y="3780000"/>
            <a:ext cx="74520" cy="27000"/>
            <a:chOff x="3865680" y="3780000"/>
            <a:chExt cx="74520" cy="27000"/>
          </a:xfrm>
        </p:grpSpPr>
        <p:sp>
          <p:nvSpPr>
            <p:cNvPr id="1730" name=""/>
            <p:cNvSpPr/>
            <p:nvPr/>
          </p:nvSpPr>
          <p:spPr>
            <a:xfrm>
              <a:off x="3865680" y="37800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913200" y="37800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2" name=""/>
          <p:cNvSpPr/>
          <p:nvPr/>
        </p:nvSpPr>
        <p:spPr>
          <a:xfrm>
            <a:off x="4076280" y="4073400"/>
            <a:ext cx="1793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-08/15 LMG              WW1-GE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678120" y="413388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3787920" y="4017960"/>
            <a:ext cx="236520" cy="201600"/>
            <a:chOff x="3787920" y="4017960"/>
            <a:chExt cx="236520" cy="201600"/>
          </a:xfrm>
        </p:grpSpPr>
        <p:grpSp>
          <p:nvGrpSpPr>
            <p:cNvPr id="1735" name=""/>
            <p:cNvGrpSpPr/>
            <p:nvPr/>
          </p:nvGrpSpPr>
          <p:grpSpPr>
            <a:xfrm>
              <a:off x="3787920" y="4059000"/>
              <a:ext cx="231480" cy="156960"/>
              <a:chOff x="3787920" y="4059000"/>
              <a:chExt cx="231480" cy="156960"/>
            </a:xfrm>
          </p:grpSpPr>
          <p:sp>
            <p:nvSpPr>
              <p:cNvPr id="1736" name=""/>
              <p:cNvSpPr/>
              <p:nvPr/>
            </p:nvSpPr>
            <p:spPr>
              <a:xfrm>
                <a:off x="3787920" y="4059000"/>
                <a:ext cx="23148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787920" y="4065120"/>
                <a:ext cx="50760" cy="1461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8" name=""/>
            <p:cNvSpPr/>
            <p:nvPr/>
          </p:nvSpPr>
          <p:spPr>
            <a:xfrm flipV="1">
              <a:off x="3794040" y="4053960"/>
              <a:ext cx="2304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805200" y="4082760"/>
              <a:ext cx="219240" cy="13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0" name=""/>
            <p:cNvGrpSpPr/>
            <p:nvPr/>
          </p:nvGrpSpPr>
          <p:grpSpPr>
            <a:xfrm>
              <a:off x="3867120" y="4017960"/>
              <a:ext cx="74520" cy="26640"/>
              <a:chOff x="3867120" y="4017960"/>
              <a:chExt cx="74520" cy="26640"/>
            </a:xfrm>
          </p:grpSpPr>
          <p:sp>
            <p:nvSpPr>
              <p:cNvPr id="1741" name=""/>
              <p:cNvSpPr/>
              <p:nvPr/>
            </p:nvSpPr>
            <p:spPr>
              <a:xfrm>
                <a:off x="3867120" y="40179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914640" y="40179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228600" y="124920"/>
            <a:ext cx="536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I German, Task Orientation of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ger Assault Battalion (Mar. 21, 191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 flipH="1">
            <a:off x="326520" y="795240"/>
            <a:ext cx="1800" cy="12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36400" y="658080"/>
            <a:ext cx="21067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 WW1-ME-GE20 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ssault Company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ssigned to 79th Res. Div.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6" name=""/>
          <p:cNvGrpSpPr/>
          <p:nvPr/>
        </p:nvGrpSpPr>
        <p:grpSpPr>
          <a:xfrm>
            <a:off x="182520" y="614520"/>
            <a:ext cx="293400" cy="242280"/>
            <a:chOff x="182520" y="614520"/>
            <a:chExt cx="293400" cy="242280"/>
          </a:xfrm>
        </p:grpSpPr>
        <p:sp>
          <p:nvSpPr>
            <p:cNvPr id="1747" name=""/>
            <p:cNvSpPr/>
            <p:nvPr/>
          </p:nvSpPr>
          <p:spPr>
            <a:xfrm>
              <a:off x="330120" y="6145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8" name=""/>
            <p:cNvGrpSpPr/>
            <p:nvPr/>
          </p:nvGrpSpPr>
          <p:grpSpPr>
            <a:xfrm>
              <a:off x="182520" y="663480"/>
              <a:ext cx="293400" cy="193320"/>
              <a:chOff x="182520" y="663480"/>
              <a:chExt cx="293400" cy="193320"/>
            </a:xfrm>
          </p:grpSpPr>
          <p:sp>
            <p:nvSpPr>
              <p:cNvPr id="1749" name=""/>
              <p:cNvSpPr/>
              <p:nvPr/>
            </p:nvSpPr>
            <p:spPr>
              <a:xfrm>
                <a:off x="182520" y="663480"/>
                <a:ext cx="293400" cy="193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V="1">
                <a:off x="185400" y="666000"/>
                <a:ext cx="285840" cy="189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182520" y="666360"/>
                <a:ext cx="291960" cy="184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2" name=""/>
          <p:cNvSpPr/>
          <p:nvPr/>
        </p:nvSpPr>
        <p:spPr>
          <a:xfrm>
            <a:off x="331920" y="1403280"/>
            <a:ext cx="150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717480" y="97488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704880" y="1109520"/>
            <a:ext cx="18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sstrupp                          WW1-G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31920" y="1150920"/>
            <a:ext cx="150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717840" y="1317600"/>
            <a:ext cx="18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sstrupp                         WW1-G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439560" y="1273320"/>
            <a:ext cx="239040" cy="196200"/>
            <a:chOff x="439560" y="1273320"/>
            <a:chExt cx="239040" cy="196200"/>
          </a:xfrm>
        </p:grpSpPr>
        <p:grpSp>
          <p:nvGrpSpPr>
            <p:cNvPr id="1758" name=""/>
            <p:cNvGrpSpPr/>
            <p:nvPr/>
          </p:nvGrpSpPr>
          <p:grpSpPr>
            <a:xfrm>
              <a:off x="439560" y="1312560"/>
              <a:ext cx="239040" cy="156960"/>
              <a:chOff x="439560" y="1312560"/>
              <a:chExt cx="239040" cy="156960"/>
            </a:xfrm>
          </p:grpSpPr>
          <p:sp>
            <p:nvSpPr>
              <p:cNvPr id="1759" name=""/>
              <p:cNvSpPr/>
              <p:nvPr/>
            </p:nvSpPr>
            <p:spPr>
              <a:xfrm>
                <a:off x="439560" y="1312560"/>
                <a:ext cx="2390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441000" y="1315440"/>
                <a:ext cx="234360" cy="15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39560" y="1315440"/>
                <a:ext cx="237240" cy="148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519840" y="1273320"/>
              <a:ext cx="76680" cy="26640"/>
              <a:chOff x="519840" y="1273320"/>
              <a:chExt cx="76680" cy="26640"/>
            </a:xfrm>
          </p:grpSpPr>
          <p:sp>
            <p:nvSpPr>
              <p:cNvPr id="1763" name=""/>
              <p:cNvSpPr/>
              <p:nvPr/>
            </p:nvSpPr>
            <p:spPr>
              <a:xfrm>
                <a:off x="519840" y="1273320"/>
                <a:ext cx="2916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68800" y="1273320"/>
                <a:ext cx="2772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5" name=""/>
          <p:cNvSpPr/>
          <p:nvPr/>
        </p:nvSpPr>
        <p:spPr>
          <a:xfrm>
            <a:off x="722160" y="1776240"/>
            <a:ext cx="19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5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thrower                     WW1-GE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25440" y="1847880"/>
            <a:ext cx="150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7" name=""/>
          <p:cNvGrpSpPr/>
          <p:nvPr/>
        </p:nvGrpSpPr>
        <p:grpSpPr>
          <a:xfrm>
            <a:off x="430200" y="1719360"/>
            <a:ext cx="246960" cy="188280"/>
            <a:chOff x="430200" y="1719360"/>
            <a:chExt cx="246960" cy="188280"/>
          </a:xfrm>
        </p:grpSpPr>
        <p:grpSp>
          <p:nvGrpSpPr>
            <p:cNvPr id="1768" name=""/>
            <p:cNvGrpSpPr/>
            <p:nvPr/>
          </p:nvGrpSpPr>
          <p:grpSpPr>
            <a:xfrm>
              <a:off x="515160" y="1719360"/>
              <a:ext cx="76680" cy="26640"/>
              <a:chOff x="515160" y="1719360"/>
              <a:chExt cx="76680" cy="26640"/>
            </a:xfrm>
          </p:grpSpPr>
          <p:sp>
            <p:nvSpPr>
              <p:cNvPr id="1769" name=""/>
              <p:cNvSpPr/>
              <p:nvPr/>
            </p:nvSpPr>
            <p:spPr>
              <a:xfrm>
                <a:off x="515160" y="1719360"/>
                <a:ext cx="2916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564120" y="1719360"/>
                <a:ext cx="2772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1" name=""/>
            <p:cNvGrpSpPr/>
            <p:nvPr/>
          </p:nvGrpSpPr>
          <p:grpSpPr>
            <a:xfrm>
              <a:off x="430200" y="1750680"/>
              <a:ext cx="246960" cy="156960"/>
              <a:chOff x="430200" y="1750680"/>
              <a:chExt cx="246960" cy="156960"/>
            </a:xfrm>
          </p:grpSpPr>
          <p:sp>
            <p:nvSpPr>
              <p:cNvPr id="1772" name=""/>
              <p:cNvSpPr/>
              <p:nvPr/>
            </p:nvSpPr>
            <p:spPr>
              <a:xfrm>
                <a:off x="430200" y="1750680"/>
                <a:ext cx="24696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54760" y="1793160"/>
                <a:ext cx="0" cy="10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V="1">
                <a:off x="554760" y="1757880"/>
                <a:ext cx="48960" cy="3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H="1" flipV="1">
                <a:off x="510120" y="1756800"/>
                <a:ext cx="40680" cy="3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V="1">
                <a:off x="438120" y="1752120"/>
                <a:ext cx="234000" cy="15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36320" y="1752120"/>
                <a:ext cx="237960" cy="148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8" name=""/>
          <p:cNvGrpSpPr/>
          <p:nvPr/>
        </p:nvGrpSpPr>
        <p:grpSpPr>
          <a:xfrm>
            <a:off x="447840" y="1030320"/>
            <a:ext cx="238680" cy="196920"/>
            <a:chOff x="447840" y="1030320"/>
            <a:chExt cx="238680" cy="196920"/>
          </a:xfrm>
        </p:grpSpPr>
        <p:grpSp>
          <p:nvGrpSpPr>
            <p:cNvPr id="1779" name=""/>
            <p:cNvGrpSpPr/>
            <p:nvPr/>
          </p:nvGrpSpPr>
          <p:grpSpPr>
            <a:xfrm>
              <a:off x="447840" y="1069920"/>
              <a:ext cx="238680" cy="157320"/>
              <a:chOff x="447840" y="1069920"/>
              <a:chExt cx="238680" cy="157320"/>
            </a:xfrm>
          </p:grpSpPr>
          <p:sp>
            <p:nvSpPr>
              <p:cNvPr id="1780" name=""/>
              <p:cNvSpPr/>
              <p:nvPr/>
            </p:nvSpPr>
            <p:spPr>
              <a:xfrm>
                <a:off x="447840" y="1069920"/>
                <a:ext cx="23868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>
                <a:off x="449280" y="1072800"/>
                <a:ext cx="23400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47840" y="1073160"/>
                <a:ext cx="23688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3" name=""/>
            <p:cNvGrpSpPr/>
            <p:nvPr/>
          </p:nvGrpSpPr>
          <p:grpSpPr>
            <a:xfrm>
              <a:off x="528120" y="1030320"/>
              <a:ext cx="76320" cy="27000"/>
              <a:chOff x="528120" y="1030320"/>
              <a:chExt cx="76320" cy="27000"/>
            </a:xfrm>
          </p:grpSpPr>
          <p:sp>
            <p:nvSpPr>
              <p:cNvPr id="1784" name=""/>
              <p:cNvSpPr/>
              <p:nvPr/>
            </p:nvSpPr>
            <p:spPr>
              <a:xfrm>
                <a:off x="528120" y="1030320"/>
                <a:ext cx="2916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76720" y="1030320"/>
                <a:ext cx="2772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6" name=""/>
          <p:cNvSpPr/>
          <p:nvPr/>
        </p:nvSpPr>
        <p:spPr>
          <a:xfrm>
            <a:off x="717480" y="1539720"/>
            <a:ext cx="192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-08/15 LMG                  WW1-GE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20760" y="1600200"/>
            <a:ext cx="150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8" name=""/>
          <p:cNvGrpSpPr/>
          <p:nvPr/>
        </p:nvGrpSpPr>
        <p:grpSpPr>
          <a:xfrm>
            <a:off x="430200" y="1484280"/>
            <a:ext cx="244080" cy="201600"/>
            <a:chOff x="430200" y="1484280"/>
            <a:chExt cx="244080" cy="201600"/>
          </a:xfrm>
        </p:grpSpPr>
        <p:grpSp>
          <p:nvGrpSpPr>
            <p:cNvPr id="1789" name=""/>
            <p:cNvGrpSpPr/>
            <p:nvPr/>
          </p:nvGrpSpPr>
          <p:grpSpPr>
            <a:xfrm>
              <a:off x="430200" y="1525320"/>
              <a:ext cx="239040" cy="156960"/>
              <a:chOff x="430200" y="1525320"/>
              <a:chExt cx="239040" cy="156960"/>
            </a:xfrm>
          </p:grpSpPr>
          <p:sp>
            <p:nvSpPr>
              <p:cNvPr id="1790" name=""/>
              <p:cNvSpPr/>
              <p:nvPr/>
            </p:nvSpPr>
            <p:spPr>
              <a:xfrm>
                <a:off x="430200" y="1525320"/>
                <a:ext cx="2390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30200" y="1531440"/>
                <a:ext cx="52200" cy="1461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2" name=""/>
            <p:cNvSpPr/>
            <p:nvPr/>
          </p:nvSpPr>
          <p:spPr>
            <a:xfrm flipV="1">
              <a:off x="436320" y="1520280"/>
              <a:ext cx="23796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840" y="1549080"/>
              <a:ext cx="226440" cy="13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4" name=""/>
            <p:cNvGrpSpPr/>
            <p:nvPr/>
          </p:nvGrpSpPr>
          <p:grpSpPr>
            <a:xfrm>
              <a:off x="511920" y="1484280"/>
              <a:ext cx="76680" cy="26640"/>
              <a:chOff x="511920" y="1484280"/>
              <a:chExt cx="76680" cy="26640"/>
            </a:xfrm>
          </p:grpSpPr>
          <p:sp>
            <p:nvSpPr>
              <p:cNvPr id="1795" name=""/>
              <p:cNvSpPr/>
              <p:nvPr/>
            </p:nvSpPr>
            <p:spPr>
              <a:xfrm>
                <a:off x="511920" y="1484280"/>
                <a:ext cx="2916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60880" y="1484280"/>
                <a:ext cx="2772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7" name=""/>
          <p:cNvSpPr/>
          <p:nvPr/>
        </p:nvSpPr>
        <p:spPr>
          <a:xfrm>
            <a:off x="726120" y="2016000"/>
            <a:ext cx="1901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62cm Infantry Gun          WW1-GE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324000" y="2070000"/>
            <a:ext cx="160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436680" y="1960560"/>
            <a:ext cx="246960" cy="198360"/>
            <a:chOff x="436680" y="1960560"/>
            <a:chExt cx="246960" cy="198360"/>
          </a:xfrm>
        </p:grpSpPr>
        <p:grpSp>
          <p:nvGrpSpPr>
            <p:cNvPr id="1800" name=""/>
            <p:cNvGrpSpPr/>
            <p:nvPr/>
          </p:nvGrpSpPr>
          <p:grpSpPr>
            <a:xfrm>
              <a:off x="436680" y="2001960"/>
              <a:ext cx="246960" cy="156960"/>
              <a:chOff x="436680" y="2001960"/>
              <a:chExt cx="246960" cy="156960"/>
            </a:xfrm>
          </p:grpSpPr>
          <p:sp>
            <p:nvSpPr>
              <p:cNvPr id="1801" name=""/>
              <p:cNvSpPr/>
              <p:nvPr/>
            </p:nvSpPr>
            <p:spPr>
              <a:xfrm>
                <a:off x="436680" y="2001960"/>
                <a:ext cx="24696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43240" y="2062080"/>
                <a:ext cx="29160" cy="2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3" name=""/>
            <p:cNvGrpSpPr/>
            <p:nvPr/>
          </p:nvGrpSpPr>
          <p:grpSpPr>
            <a:xfrm>
              <a:off x="521640" y="1960560"/>
              <a:ext cx="76320" cy="27000"/>
              <a:chOff x="521640" y="1960560"/>
              <a:chExt cx="76320" cy="27000"/>
            </a:xfrm>
          </p:grpSpPr>
          <p:sp>
            <p:nvSpPr>
              <p:cNvPr id="1804" name=""/>
              <p:cNvSpPr/>
              <p:nvPr/>
            </p:nvSpPr>
            <p:spPr>
              <a:xfrm>
                <a:off x="521640" y="1960560"/>
                <a:ext cx="2916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570600" y="1960560"/>
                <a:ext cx="2736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6" name=""/>
          <p:cNvSpPr/>
          <p:nvPr/>
        </p:nvSpPr>
        <p:spPr>
          <a:xfrm>
            <a:off x="334800" y="2556000"/>
            <a:ext cx="0" cy="12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544680" y="2393280"/>
            <a:ext cx="215244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 WW1-ME-GE21 2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ssault Company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ssigned to 50th Res. Div.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8" name=""/>
          <p:cNvGrpSpPr/>
          <p:nvPr/>
        </p:nvGrpSpPr>
        <p:grpSpPr>
          <a:xfrm>
            <a:off x="190440" y="2349360"/>
            <a:ext cx="284400" cy="243000"/>
            <a:chOff x="190440" y="2349360"/>
            <a:chExt cx="284400" cy="243000"/>
          </a:xfrm>
        </p:grpSpPr>
        <p:sp>
          <p:nvSpPr>
            <p:cNvPr id="1809" name=""/>
            <p:cNvSpPr/>
            <p:nvPr/>
          </p:nvSpPr>
          <p:spPr>
            <a:xfrm>
              <a:off x="333360" y="23493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0" name=""/>
            <p:cNvGrpSpPr/>
            <p:nvPr/>
          </p:nvGrpSpPr>
          <p:grpSpPr>
            <a:xfrm>
              <a:off x="190440" y="2398680"/>
              <a:ext cx="284400" cy="193680"/>
              <a:chOff x="190440" y="2398680"/>
              <a:chExt cx="284400" cy="193680"/>
            </a:xfrm>
          </p:grpSpPr>
          <p:sp>
            <p:nvSpPr>
              <p:cNvPr id="1811" name=""/>
              <p:cNvSpPr/>
              <p:nvPr/>
            </p:nvSpPr>
            <p:spPr>
              <a:xfrm>
                <a:off x="190440" y="2398680"/>
                <a:ext cx="284400" cy="1936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V="1">
                <a:off x="193320" y="2401560"/>
                <a:ext cx="276840" cy="18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190440" y="2401560"/>
                <a:ext cx="282960" cy="18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4" name=""/>
          <p:cNvSpPr/>
          <p:nvPr/>
        </p:nvSpPr>
        <p:spPr>
          <a:xfrm>
            <a:off x="339840" y="313848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17480" y="270972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12800" y="2844720"/>
            <a:ext cx="192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sstrupp                          WW1-GE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39840" y="288612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25760" y="3052800"/>
            <a:ext cx="1898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sstrupp                         WW1-GE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447840" y="3008160"/>
            <a:ext cx="231480" cy="196920"/>
            <a:chOff x="447840" y="3008160"/>
            <a:chExt cx="231480" cy="196920"/>
          </a:xfrm>
        </p:grpSpPr>
        <p:grpSp>
          <p:nvGrpSpPr>
            <p:cNvPr id="1820" name=""/>
            <p:cNvGrpSpPr/>
            <p:nvPr/>
          </p:nvGrpSpPr>
          <p:grpSpPr>
            <a:xfrm>
              <a:off x="447840" y="3047760"/>
              <a:ext cx="231480" cy="157320"/>
              <a:chOff x="447840" y="3047760"/>
              <a:chExt cx="231480" cy="157320"/>
            </a:xfrm>
          </p:grpSpPr>
          <p:sp>
            <p:nvSpPr>
              <p:cNvPr id="1821" name=""/>
              <p:cNvSpPr/>
              <p:nvPr/>
            </p:nvSpPr>
            <p:spPr>
              <a:xfrm>
                <a:off x="447840" y="3047760"/>
                <a:ext cx="23148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48920" y="3050640"/>
                <a:ext cx="22680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47840" y="3051000"/>
                <a:ext cx="22968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4" name=""/>
            <p:cNvGrpSpPr/>
            <p:nvPr/>
          </p:nvGrpSpPr>
          <p:grpSpPr>
            <a:xfrm>
              <a:off x="525240" y="3008160"/>
              <a:ext cx="73800" cy="27000"/>
              <a:chOff x="525240" y="3008160"/>
              <a:chExt cx="73800" cy="27000"/>
            </a:xfrm>
          </p:grpSpPr>
          <p:sp>
            <p:nvSpPr>
              <p:cNvPr id="1825" name=""/>
              <p:cNvSpPr/>
              <p:nvPr/>
            </p:nvSpPr>
            <p:spPr>
              <a:xfrm>
                <a:off x="525240" y="300816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72400" y="30081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7" name=""/>
          <p:cNvSpPr/>
          <p:nvPr/>
        </p:nvSpPr>
        <p:spPr>
          <a:xfrm>
            <a:off x="714240" y="3535200"/>
            <a:ext cx="19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thrower                     WW1-GE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33360" y="359100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9" name=""/>
          <p:cNvGrpSpPr/>
          <p:nvPr/>
        </p:nvGrpSpPr>
        <p:grpSpPr>
          <a:xfrm>
            <a:off x="441360" y="3713040"/>
            <a:ext cx="239760" cy="192240"/>
            <a:chOff x="441360" y="3713040"/>
            <a:chExt cx="239760" cy="192240"/>
          </a:xfrm>
        </p:grpSpPr>
        <p:grpSp>
          <p:nvGrpSpPr>
            <p:cNvPr id="1830" name=""/>
            <p:cNvGrpSpPr/>
            <p:nvPr/>
          </p:nvGrpSpPr>
          <p:grpSpPr>
            <a:xfrm>
              <a:off x="441360" y="3747960"/>
              <a:ext cx="239760" cy="157320"/>
              <a:chOff x="441360" y="3747960"/>
              <a:chExt cx="239760" cy="157320"/>
            </a:xfrm>
          </p:grpSpPr>
          <p:sp>
            <p:nvSpPr>
              <p:cNvPr id="1831" name=""/>
              <p:cNvSpPr/>
              <p:nvPr/>
            </p:nvSpPr>
            <p:spPr>
              <a:xfrm>
                <a:off x="441360" y="3747960"/>
                <a:ext cx="239760" cy="15732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V="1">
                <a:off x="525600" y="3863880"/>
                <a:ext cx="63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557280" y="3779640"/>
                <a:ext cx="0" cy="84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4" name=""/>
            <p:cNvGrpSpPr/>
            <p:nvPr/>
          </p:nvGrpSpPr>
          <p:grpSpPr>
            <a:xfrm>
              <a:off x="523800" y="3713040"/>
              <a:ext cx="74520" cy="27000"/>
              <a:chOff x="523800" y="3713040"/>
              <a:chExt cx="74520" cy="27000"/>
            </a:xfrm>
          </p:grpSpPr>
          <p:sp>
            <p:nvSpPr>
              <p:cNvPr id="1835" name=""/>
              <p:cNvSpPr/>
              <p:nvPr/>
            </p:nvSpPr>
            <p:spPr>
              <a:xfrm>
                <a:off x="523800" y="37130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571320" y="37130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7" name=""/>
          <p:cNvSpPr/>
          <p:nvPr/>
        </p:nvSpPr>
        <p:spPr>
          <a:xfrm>
            <a:off x="701640" y="3749760"/>
            <a:ext cx="1997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62cm Light Trench Mortar  WW1-GE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38040" y="3827520"/>
            <a:ext cx="15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9" name=""/>
          <p:cNvGrpSpPr/>
          <p:nvPr/>
        </p:nvGrpSpPr>
        <p:grpSpPr>
          <a:xfrm>
            <a:off x="438120" y="3486240"/>
            <a:ext cx="239400" cy="189000"/>
            <a:chOff x="438120" y="3486240"/>
            <a:chExt cx="239400" cy="189000"/>
          </a:xfrm>
        </p:grpSpPr>
        <p:grpSp>
          <p:nvGrpSpPr>
            <p:cNvPr id="1840" name=""/>
            <p:cNvGrpSpPr/>
            <p:nvPr/>
          </p:nvGrpSpPr>
          <p:grpSpPr>
            <a:xfrm>
              <a:off x="520560" y="3486240"/>
              <a:ext cx="74520" cy="27000"/>
              <a:chOff x="520560" y="3486240"/>
              <a:chExt cx="74520" cy="27000"/>
            </a:xfrm>
          </p:grpSpPr>
          <p:sp>
            <p:nvSpPr>
              <p:cNvPr id="1841" name=""/>
              <p:cNvSpPr/>
              <p:nvPr/>
            </p:nvSpPr>
            <p:spPr>
              <a:xfrm>
                <a:off x="520560" y="34862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68080" y="34862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438120" y="3517920"/>
              <a:ext cx="239400" cy="157320"/>
              <a:chOff x="438120" y="3517920"/>
              <a:chExt cx="239400" cy="157320"/>
            </a:xfrm>
          </p:grpSpPr>
          <p:sp>
            <p:nvSpPr>
              <p:cNvPr id="1844" name=""/>
              <p:cNvSpPr/>
              <p:nvPr/>
            </p:nvSpPr>
            <p:spPr>
              <a:xfrm>
                <a:off x="438120" y="3517920"/>
                <a:ext cx="23940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558720" y="3560760"/>
                <a:ext cx="0" cy="10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V="1">
                <a:off x="558720" y="3525840"/>
                <a:ext cx="47520" cy="36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H="1" flipV="1">
                <a:off x="515880" y="3524040"/>
                <a:ext cx="39600" cy="3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V="1">
                <a:off x="446040" y="3519360"/>
                <a:ext cx="22680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44240" y="3519720"/>
                <a:ext cx="23040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0" name=""/>
          <p:cNvGrpSpPr/>
          <p:nvPr/>
        </p:nvGrpSpPr>
        <p:grpSpPr>
          <a:xfrm>
            <a:off x="455760" y="2765520"/>
            <a:ext cx="231480" cy="196920"/>
            <a:chOff x="455760" y="2765520"/>
            <a:chExt cx="231480" cy="196920"/>
          </a:xfrm>
        </p:grpSpPr>
        <p:grpSp>
          <p:nvGrpSpPr>
            <p:cNvPr id="1851" name=""/>
            <p:cNvGrpSpPr/>
            <p:nvPr/>
          </p:nvGrpSpPr>
          <p:grpSpPr>
            <a:xfrm>
              <a:off x="455760" y="2805120"/>
              <a:ext cx="231480" cy="157320"/>
              <a:chOff x="455760" y="2805120"/>
              <a:chExt cx="231480" cy="157320"/>
            </a:xfrm>
          </p:grpSpPr>
          <p:sp>
            <p:nvSpPr>
              <p:cNvPr id="1852" name=""/>
              <p:cNvSpPr/>
              <p:nvPr/>
            </p:nvSpPr>
            <p:spPr>
              <a:xfrm>
                <a:off x="455760" y="2805120"/>
                <a:ext cx="23148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V="1">
                <a:off x="456840" y="2808000"/>
                <a:ext cx="22680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55760" y="2808360"/>
                <a:ext cx="22968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"/>
            <p:cNvGrpSpPr/>
            <p:nvPr/>
          </p:nvGrpSpPr>
          <p:grpSpPr>
            <a:xfrm>
              <a:off x="533160" y="2765520"/>
              <a:ext cx="73800" cy="27000"/>
              <a:chOff x="533160" y="2765520"/>
              <a:chExt cx="73800" cy="27000"/>
            </a:xfrm>
          </p:grpSpPr>
          <p:sp>
            <p:nvSpPr>
              <p:cNvPr id="1856" name=""/>
              <p:cNvSpPr/>
              <p:nvPr/>
            </p:nvSpPr>
            <p:spPr>
              <a:xfrm>
                <a:off x="533160" y="276552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580320" y="27655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8" name=""/>
          <p:cNvSpPr/>
          <p:nvPr/>
        </p:nvSpPr>
        <p:spPr>
          <a:xfrm>
            <a:off x="725400" y="3298680"/>
            <a:ext cx="192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-08/15 LMG                  WW1-GE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28680" y="335916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0" name=""/>
          <p:cNvGrpSpPr/>
          <p:nvPr/>
        </p:nvGrpSpPr>
        <p:grpSpPr>
          <a:xfrm>
            <a:off x="438120" y="3243240"/>
            <a:ext cx="236520" cy="201600"/>
            <a:chOff x="438120" y="3243240"/>
            <a:chExt cx="236520" cy="201600"/>
          </a:xfrm>
        </p:grpSpPr>
        <p:grpSp>
          <p:nvGrpSpPr>
            <p:cNvPr id="1861" name=""/>
            <p:cNvGrpSpPr/>
            <p:nvPr/>
          </p:nvGrpSpPr>
          <p:grpSpPr>
            <a:xfrm>
              <a:off x="438120" y="3284280"/>
              <a:ext cx="231480" cy="156960"/>
              <a:chOff x="438120" y="3284280"/>
              <a:chExt cx="231480" cy="156960"/>
            </a:xfrm>
          </p:grpSpPr>
          <p:sp>
            <p:nvSpPr>
              <p:cNvPr id="1862" name=""/>
              <p:cNvSpPr/>
              <p:nvPr/>
            </p:nvSpPr>
            <p:spPr>
              <a:xfrm>
                <a:off x="438120" y="3284280"/>
                <a:ext cx="23148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38120" y="3290400"/>
                <a:ext cx="50760" cy="1461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4" name=""/>
            <p:cNvSpPr/>
            <p:nvPr/>
          </p:nvSpPr>
          <p:spPr>
            <a:xfrm flipV="1">
              <a:off x="444240" y="3279240"/>
              <a:ext cx="2304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55400" y="3308040"/>
              <a:ext cx="219240" cy="13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6" name=""/>
            <p:cNvGrpSpPr/>
            <p:nvPr/>
          </p:nvGrpSpPr>
          <p:grpSpPr>
            <a:xfrm>
              <a:off x="517320" y="3243240"/>
              <a:ext cx="74520" cy="26640"/>
              <a:chOff x="517320" y="3243240"/>
              <a:chExt cx="74520" cy="26640"/>
            </a:xfrm>
          </p:grpSpPr>
          <p:sp>
            <p:nvSpPr>
              <p:cNvPr id="1867" name=""/>
              <p:cNvSpPr/>
              <p:nvPr/>
            </p:nvSpPr>
            <p:spPr>
              <a:xfrm>
                <a:off x="517320" y="32432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564840" y="32432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9" name=""/>
          <p:cNvSpPr/>
          <p:nvPr/>
        </p:nvSpPr>
        <p:spPr>
          <a:xfrm>
            <a:off x="3100320" y="654120"/>
            <a:ext cx="0" cy="163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309840" y="596160"/>
            <a:ext cx="21304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 WW1-ME-GE22 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Assault Company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ssigned to 50th Res. Div.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1" name=""/>
          <p:cNvGrpSpPr/>
          <p:nvPr/>
        </p:nvGrpSpPr>
        <p:grpSpPr>
          <a:xfrm>
            <a:off x="2955960" y="552600"/>
            <a:ext cx="284040" cy="242280"/>
            <a:chOff x="2955960" y="552600"/>
            <a:chExt cx="284040" cy="242280"/>
          </a:xfrm>
        </p:grpSpPr>
        <p:sp>
          <p:nvSpPr>
            <p:cNvPr id="1872" name=""/>
            <p:cNvSpPr/>
            <p:nvPr/>
          </p:nvSpPr>
          <p:spPr>
            <a:xfrm>
              <a:off x="3098520" y="5526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3" name=""/>
            <p:cNvGrpSpPr/>
            <p:nvPr/>
          </p:nvGrpSpPr>
          <p:grpSpPr>
            <a:xfrm>
              <a:off x="2955960" y="601560"/>
              <a:ext cx="284040" cy="193320"/>
              <a:chOff x="2955960" y="601560"/>
              <a:chExt cx="284040" cy="193320"/>
            </a:xfrm>
          </p:grpSpPr>
          <p:sp>
            <p:nvSpPr>
              <p:cNvPr id="1874" name=""/>
              <p:cNvSpPr/>
              <p:nvPr/>
            </p:nvSpPr>
            <p:spPr>
              <a:xfrm>
                <a:off x="2955960" y="601560"/>
                <a:ext cx="284040" cy="193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V="1">
                <a:off x="2958840" y="604080"/>
                <a:ext cx="276480" cy="189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2955960" y="604440"/>
                <a:ext cx="282600" cy="184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7" name=""/>
          <p:cNvSpPr/>
          <p:nvPr/>
        </p:nvSpPr>
        <p:spPr>
          <a:xfrm>
            <a:off x="3105000" y="134136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483000" y="91296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3478320" y="1047600"/>
            <a:ext cx="192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sstrupp                          WW1-GE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105000" y="108900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491280" y="1255680"/>
            <a:ext cx="1898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sstrupp                         WW1-GE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3213000" y="1211400"/>
            <a:ext cx="231840" cy="196200"/>
            <a:chOff x="3213000" y="1211400"/>
            <a:chExt cx="231840" cy="196200"/>
          </a:xfrm>
        </p:grpSpPr>
        <p:grpSp>
          <p:nvGrpSpPr>
            <p:cNvPr id="1883" name=""/>
            <p:cNvGrpSpPr/>
            <p:nvPr/>
          </p:nvGrpSpPr>
          <p:grpSpPr>
            <a:xfrm>
              <a:off x="3213000" y="1250640"/>
              <a:ext cx="231840" cy="156960"/>
              <a:chOff x="3213000" y="1250640"/>
              <a:chExt cx="231840" cy="156960"/>
            </a:xfrm>
          </p:grpSpPr>
          <p:sp>
            <p:nvSpPr>
              <p:cNvPr id="1884" name=""/>
              <p:cNvSpPr/>
              <p:nvPr/>
            </p:nvSpPr>
            <p:spPr>
              <a:xfrm>
                <a:off x="3213000" y="125064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V="1">
                <a:off x="3214440" y="1253520"/>
                <a:ext cx="227160" cy="15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213000" y="1253520"/>
                <a:ext cx="230040" cy="148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7" name=""/>
            <p:cNvGrpSpPr/>
            <p:nvPr/>
          </p:nvGrpSpPr>
          <p:grpSpPr>
            <a:xfrm>
              <a:off x="3290760" y="1211400"/>
              <a:ext cx="74520" cy="26640"/>
              <a:chOff x="3290760" y="1211400"/>
              <a:chExt cx="74520" cy="26640"/>
            </a:xfrm>
          </p:grpSpPr>
          <p:sp>
            <p:nvSpPr>
              <p:cNvPr id="1888" name=""/>
              <p:cNvSpPr/>
              <p:nvPr/>
            </p:nvSpPr>
            <p:spPr>
              <a:xfrm>
                <a:off x="3290760" y="12114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38280" y="12114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0" name=""/>
          <p:cNvSpPr/>
          <p:nvPr/>
        </p:nvSpPr>
        <p:spPr>
          <a:xfrm>
            <a:off x="3495600" y="1714680"/>
            <a:ext cx="19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thrower                     WW1-GE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098880" y="178596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2" name=""/>
          <p:cNvGrpSpPr/>
          <p:nvPr/>
        </p:nvGrpSpPr>
        <p:grpSpPr>
          <a:xfrm>
            <a:off x="3203640" y="1657440"/>
            <a:ext cx="239400" cy="189000"/>
            <a:chOff x="3203640" y="1657440"/>
            <a:chExt cx="239400" cy="189000"/>
          </a:xfrm>
        </p:grpSpPr>
        <p:grpSp>
          <p:nvGrpSpPr>
            <p:cNvPr id="1893" name=""/>
            <p:cNvGrpSpPr/>
            <p:nvPr/>
          </p:nvGrpSpPr>
          <p:grpSpPr>
            <a:xfrm>
              <a:off x="3286080" y="1657440"/>
              <a:ext cx="74520" cy="27000"/>
              <a:chOff x="3286080" y="1657440"/>
              <a:chExt cx="74520" cy="27000"/>
            </a:xfrm>
          </p:grpSpPr>
          <p:sp>
            <p:nvSpPr>
              <p:cNvPr id="1894" name=""/>
              <p:cNvSpPr/>
              <p:nvPr/>
            </p:nvSpPr>
            <p:spPr>
              <a:xfrm>
                <a:off x="3286080" y="16574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333600" y="16574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6" name=""/>
            <p:cNvGrpSpPr/>
            <p:nvPr/>
          </p:nvGrpSpPr>
          <p:grpSpPr>
            <a:xfrm>
              <a:off x="3203640" y="1689120"/>
              <a:ext cx="239400" cy="157320"/>
              <a:chOff x="3203640" y="1689120"/>
              <a:chExt cx="239400" cy="157320"/>
            </a:xfrm>
          </p:grpSpPr>
          <p:sp>
            <p:nvSpPr>
              <p:cNvPr id="1897" name=""/>
              <p:cNvSpPr/>
              <p:nvPr/>
            </p:nvSpPr>
            <p:spPr>
              <a:xfrm>
                <a:off x="3203640" y="1689120"/>
                <a:ext cx="23940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3324240" y="1731960"/>
                <a:ext cx="0" cy="10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flipV="1">
                <a:off x="3324240" y="1697040"/>
                <a:ext cx="47520" cy="36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H="1" flipV="1">
                <a:off x="3281400" y="1695240"/>
                <a:ext cx="39600" cy="3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V="1">
                <a:off x="3211560" y="1690560"/>
                <a:ext cx="22680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3209760" y="1690920"/>
                <a:ext cx="23040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3" name=""/>
          <p:cNvGrpSpPr/>
          <p:nvPr/>
        </p:nvGrpSpPr>
        <p:grpSpPr>
          <a:xfrm>
            <a:off x="3220920" y="968400"/>
            <a:ext cx="231840" cy="196920"/>
            <a:chOff x="3220920" y="968400"/>
            <a:chExt cx="231840" cy="196920"/>
          </a:xfrm>
        </p:grpSpPr>
        <p:grpSp>
          <p:nvGrpSpPr>
            <p:cNvPr id="1904" name=""/>
            <p:cNvGrpSpPr/>
            <p:nvPr/>
          </p:nvGrpSpPr>
          <p:grpSpPr>
            <a:xfrm>
              <a:off x="3220920" y="1008000"/>
              <a:ext cx="231840" cy="157320"/>
              <a:chOff x="3220920" y="1008000"/>
              <a:chExt cx="231840" cy="157320"/>
            </a:xfrm>
          </p:grpSpPr>
          <p:sp>
            <p:nvSpPr>
              <p:cNvPr id="1905" name=""/>
              <p:cNvSpPr/>
              <p:nvPr/>
            </p:nvSpPr>
            <p:spPr>
              <a:xfrm>
                <a:off x="3220920" y="1008000"/>
                <a:ext cx="23184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V="1">
                <a:off x="3222360" y="1010880"/>
                <a:ext cx="22716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3220920" y="1011240"/>
                <a:ext cx="23004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3298680" y="968400"/>
              <a:ext cx="74520" cy="27000"/>
              <a:chOff x="3298680" y="968400"/>
              <a:chExt cx="74520" cy="27000"/>
            </a:xfrm>
          </p:grpSpPr>
          <p:sp>
            <p:nvSpPr>
              <p:cNvPr id="1909" name=""/>
              <p:cNvSpPr/>
              <p:nvPr/>
            </p:nvSpPr>
            <p:spPr>
              <a:xfrm>
                <a:off x="3298680" y="9684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3346200" y="9684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1" name=""/>
          <p:cNvSpPr/>
          <p:nvPr/>
        </p:nvSpPr>
        <p:spPr>
          <a:xfrm>
            <a:off x="3490920" y="1477800"/>
            <a:ext cx="192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-08/15 LMG                  WW1-GE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094200" y="153828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3" name=""/>
          <p:cNvGrpSpPr/>
          <p:nvPr/>
        </p:nvGrpSpPr>
        <p:grpSpPr>
          <a:xfrm>
            <a:off x="3203640" y="1422360"/>
            <a:ext cx="236520" cy="201600"/>
            <a:chOff x="3203640" y="1422360"/>
            <a:chExt cx="236520" cy="201600"/>
          </a:xfrm>
        </p:grpSpPr>
        <p:grpSp>
          <p:nvGrpSpPr>
            <p:cNvPr id="1914" name=""/>
            <p:cNvGrpSpPr/>
            <p:nvPr/>
          </p:nvGrpSpPr>
          <p:grpSpPr>
            <a:xfrm>
              <a:off x="3203640" y="1463400"/>
              <a:ext cx="231480" cy="156960"/>
              <a:chOff x="3203640" y="1463400"/>
              <a:chExt cx="231480" cy="156960"/>
            </a:xfrm>
          </p:grpSpPr>
          <p:sp>
            <p:nvSpPr>
              <p:cNvPr id="1915" name=""/>
              <p:cNvSpPr/>
              <p:nvPr/>
            </p:nvSpPr>
            <p:spPr>
              <a:xfrm>
                <a:off x="3203640" y="1463400"/>
                <a:ext cx="23148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203640" y="1469520"/>
                <a:ext cx="50760" cy="1461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7" name=""/>
            <p:cNvSpPr/>
            <p:nvPr/>
          </p:nvSpPr>
          <p:spPr>
            <a:xfrm flipV="1">
              <a:off x="3209760" y="1458360"/>
              <a:ext cx="2304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220920" y="1487160"/>
              <a:ext cx="219240" cy="13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9" name=""/>
            <p:cNvGrpSpPr/>
            <p:nvPr/>
          </p:nvGrpSpPr>
          <p:grpSpPr>
            <a:xfrm>
              <a:off x="3282840" y="1422360"/>
              <a:ext cx="74520" cy="26640"/>
              <a:chOff x="3282840" y="1422360"/>
              <a:chExt cx="74520" cy="26640"/>
            </a:xfrm>
          </p:grpSpPr>
          <p:sp>
            <p:nvSpPr>
              <p:cNvPr id="1920" name=""/>
              <p:cNvSpPr/>
              <p:nvPr/>
            </p:nvSpPr>
            <p:spPr>
              <a:xfrm>
                <a:off x="3282840" y="14223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330360" y="14223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2" name=""/>
          <p:cNvSpPr/>
          <p:nvPr/>
        </p:nvSpPr>
        <p:spPr>
          <a:xfrm>
            <a:off x="3498840" y="1954080"/>
            <a:ext cx="1930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62cm Infantry Gun           WW1-GE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097080" y="200808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4" name=""/>
          <p:cNvGrpSpPr/>
          <p:nvPr/>
        </p:nvGrpSpPr>
        <p:grpSpPr>
          <a:xfrm>
            <a:off x="3209760" y="1898640"/>
            <a:ext cx="239760" cy="198360"/>
            <a:chOff x="3209760" y="1898640"/>
            <a:chExt cx="239760" cy="198360"/>
          </a:xfrm>
        </p:grpSpPr>
        <p:grpSp>
          <p:nvGrpSpPr>
            <p:cNvPr id="1925" name=""/>
            <p:cNvGrpSpPr/>
            <p:nvPr/>
          </p:nvGrpSpPr>
          <p:grpSpPr>
            <a:xfrm>
              <a:off x="3209760" y="1940040"/>
              <a:ext cx="239760" cy="156960"/>
              <a:chOff x="3209760" y="1940040"/>
              <a:chExt cx="239760" cy="156960"/>
            </a:xfrm>
          </p:grpSpPr>
          <p:sp>
            <p:nvSpPr>
              <p:cNvPr id="1926" name=""/>
              <p:cNvSpPr/>
              <p:nvPr/>
            </p:nvSpPr>
            <p:spPr>
              <a:xfrm>
                <a:off x="3209760" y="1940040"/>
                <a:ext cx="23976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3313080" y="200016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8" name=""/>
            <p:cNvGrpSpPr/>
            <p:nvPr/>
          </p:nvGrpSpPr>
          <p:grpSpPr>
            <a:xfrm>
              <a:off x="3292200" y="1898640"/>
              <a:ext cx="74160" cy="27000"/>
              <a:chOff x="3292200" y="1898640"/>
              <a:chExt cx="74160" cy="27000"/>
            </a:xfrm>
          </p:grpSpPr>
          <p:sp>
            <p:nvSpPr>
              <p:cNvPr id="1929" name=""/>
              <p:cNvSpPr/>
              <p:nvPr/>
            </p:nvSpPr>
            <p:spPr>
              <a:xfrm>
                <a:off x="3292200" y="18986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3339720" y="189864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1" name=""/>
          <p:cNvSpPr/>
          <p:nvPr/>
        </p:nvSpPr>
        <p:spPr>
          <a:xfrm>
            <a:off x="3496680" y="2225520"/>
            <a:ext cx="19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-08 HMG                        WW1-GE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102120" y="228600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3211560" y="2170080"/>
            <a:ext cx="236520" cy="201600"/>
            <a:chOff x="3211560" y="2170080"/>
            <a:chExt cx="236520" cy="201600"/>
          </a:xfrm>
        </p:grpSpPr>
        <p:grpSp>
          <p:nvGrpSpPr>
            <p:cNvPr id="1934" name=""/>
            <p:cNvGrpSpPr/>
            <p:nvPr/>
          </p:nvGrpSpPr>
          <p:grpSpPr>
            <a:xfrm>
              <a:off x="3211560" y="2211120"/>
              <a:ext cx="231480" cy="156960"/>
              <a:chOff x="3211560" y="2211120"/>
              <a:chExt cx="231480" cy="156960"/>
            </a:xfrm>
          </p:grpSpPr>
          <p:sp>
            <p:nvSpPr>
              <p:cNvPr id="1935" name=""/>
              <p:cNvSpPr/>
              <p:nvPr/>
            </p:nvSpPr>
            <p:spPr>
              <a:xfrm>
                <a:off x="3211560" y="2211120"/>
                <a:ext cx="23148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3211560" y="2217240"/>
                <a:ext cx="50760" cy="1461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7" name=""/>
            <p:cNvSpPr/>
            <p:nvPr/>
          </p:nvSpPr>
          <p:spPr>
            <a:xfrm flipV="1">
              <a:off x="3217680" y="2206080"/>
              <a:ext cx="2304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8840" y="2234880"/>
              <a:ext cx="219240" cy="13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9" name=""/>
            <p:cNvGrpSpPr/>
            <p:nvPr/>
          </p:nvGrpSpPr>
          <p:grpSpPr>
            <a:xfrm>
              <a:off x="3290760" y="2170080"/>
              <a:ext cx="74520" cy="26640"/>
              <a:chOff x="3290760" y="2170080"/>
              <a:chExt cx="74520" cy="26640"/>
            </a:xfrm>
          </p:grpSpPr>
          <p:sp>
            <p:nvSpPr>
              <p:cNvPr id="1940" name=""/>
              <p:cNvSpPr/>
              <p:nvPr/>
            </p:nvSpPr>
            <p:spPr>
              <a:xfrm>
                <a:off x="3290760" y="21700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3338280" y="21700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2" name=""/>
          <p:cNvGrpSpPr/>
          <p:nvPr/>
        </p:nvGrpSpPr>
        <p:grpSpPr>
          <a:xfrm>
            <a:off x="3192480" y="4030560"/>
            <a:ext cx="239760" cy="192240"/>
            <a:chOff x="3192480" y="4030560"/>
            <a:chExt cx="239760" cy="192240"/>
          </a:xfrm>
        </p:grpSpPr>
        <p:grpSp>
          <p:nvGrpSpPr>
            <p:cNvPr id="1943" name=""/>
            <p:cNvGrpSpPr/>
            <p:nvPr/>
          </p:nvGrpSpPr>
          <p:grpSpPr>
            <a:xfrm>
              <a:off x="3192480" y="4065480"/>
              <a:ext cx="239760" cy="157320"/>
              <a:chOff x="3192480" y="4065480"/>
              <a:chExt cx="239760" cy="157320"/>
            </a:xfrm>
          </p:grpSpPr>
          <p:sp>
            <p:nvSpPr>
              <p:cNvPr id="1944" name=""/>
              <p:cNvSpPr/>
              <p:nvPr/>
            </p:nvSpPr>
            <p:spPr>
              <a:xfrm>
                <a:off x="3192480" y="4065480"/>
                <a:ext cx="239760" cy="15732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V="1">
                <a:off x="3276720" y="4181400"/>
                <a:ext cx="63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3308400" y="4097160"/>
                <a:ext cx="0" cy="84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7" name=""/>
            <p:cNvGrpSpPr/>
            <p:nvPr/>
          </p:nvGrpSpPr>
          <p:grpSpPr>
            <a:xfrm>
              <a:off x="3274920" y="4030560"/>
              <a:ext cx="74520" cy="27000"/>
              <a:chOff x="3274920" y="4030560"/>
              <a:chExt cx="74520" cy="27000"/>
            </a:xfrm>
          </p:grpSpPr>
          <p:sp>
            <p:nvSpPr>
              <p:cNvPr id="1948" name=""/>
              <p:cNvSpPr/>
              <p:nvPr/>
            </p:nvSpPr>
            <p:spPr>
              <a:xfrm>
                <a:off x="3274920" y="40305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3322440" y="40305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0" name=""/>
          <p:cNvSpPr/>
          <p:nvPr/>
        </p:nvSpPr>
        <p:spPr>
          <a:xfrm>
            <a:off x="3452760" y="4067280"/>
            <a:ext cx="1997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62cm Light Trench Mortar  WW1-GE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089160" y="4145040"/>
            <a:ext cx="15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078000" y="2592360"/>
            <a:ext cx="0" cy="155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287880" y="2471040"/>
            <a:ext cx="21142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 WW1-ME-GE23 4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ssault Company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ssigned to 18th Div.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4" name=""/>
          <p:cNvGrpSpPr/>
          <p:nvPr/>
        </p:nvGrpSpPr>
        <p:grpSpPr>
          <a:xfrm>
            <a:off x="2933640" y="2427120"/>
            <a:ext cx="284400" cy="243000"/>
            <a:chOff x="2933640" y="2427120"/>
            <a:chExt cx="284400" cy="243000"/>
          </a:xfrm>
        </p:grpSpPr>
        <p:sp>
          <p:nvSpPr>
            <p:cNvPr id="1955" name=""/>
            <p:cNvSpPr/>
            <p:nvPr/>
          </p:nvSpPr>
          <p:spPr>
            <a:xfrm>
              <a:off x="3076560" y="242712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6" name=""/>
            <p:cNvGrpSpPr/>
            <p:nvPr/>
          </p:nvGrpSpPr>
          <p:grpSpPr>
            <a:xfrm>
              <a:off x="2933640" y="2476440"/>
              <a:ext cx="284400" cy="193680"/>
              <a:chOff x="2933640" y="2476440"/>
              <a:chExt cx="284400" cy="193680"/>
            </a:xfrm>
          </p:grpSpPr>
          <p:sp>
            <p:nvSpPr>
              <p:cNvPr id="1957" name=""/>
              <p:cNvSpPr/>
              <p:nvPr/>
            </p:nvSpPr>
            <p:spPr>
              <a:xfrm>
                <a:off x="2933640" y="2476440"/>
                <a:ext cx="284400" cy="1936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V="1">
                <a:off x="2936520" y="2479320"/>
                <a:ext cx="276840" cy="18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2933640" y="2479320"/>
                <a:ext cx="282960" cy="18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0" name=""/>
          <p:cNvSpPr/>
          <p:nvPr/>
        </p:nvSpPr>
        <p:spPr>
          <a:xfrm>
            <a:off x="3083040" y="321624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460680" y="278748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455280" y="2922480"/>
            <a:ext cx="201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sstrupp                             WW1-GE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083040" y="296388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468240" y="3130560"/>
            <a:ext cx="198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sstrupp                            WW1-GE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5" name=""/>
          <p:cNvGrpSpPr/>
          <p:nvPr/>
        </p:nvGrpSpPr>
        <p:grpSpPr>
          <a:xfrm>
            <a:off x="3191040" y="3086280"/>
            <a:ext cx="231480" cy="196200"/>
            <a:chOff x="3191040" y="3086280"/>
            <a:chExt cx="231480" cy="196200"/>
          </a:xfrm>
        </p:grpSpPr>
        <p:grpSp>
          <p:nvGrpSpPr>
            <p:cNvPr id="1966" name=""/>
            <p:cNvGrpSpPr/>
            <p:nvPr/>
          </p:nvGrpSpPr>
          <p:grpSpPr>
            <a:xfrm>
              <a:off x="3191040" y="3125520"/>
              <a:ext cx="231480" cy="156960"/>
              <a:chOff x="3191040" y="3125520"/>
              <a:chExt cx="231480" cy="156960"/>
            </a:xfrm>
          </p:grpSpPr>
          <p:sp>
            <p:nvSpPr>
              <p:cNvPr id="1967" name=""/>
              <p:cNvSpPr/>
              <p:nvPr/>
            </p:nvSpPr>
            <p:spPr>
              <a:xfrm>
                <a:off x="3191040" y="3125520"/>
                <a:ext cx="23148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flipV="1">
                <a:off x="3192120" y="3128400"/>
                <a:ext cx="226800" cy="15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191040" y="3128400"/>
                <a:ext cx="229680" cy="148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0" name=""/>
            <p:cNvGrpSpPr/>
            <p:nvPr/>
          </p:nvGrpSpPr>
          <p:grpSpPr>
            <a:xfrm>
              <a:off x="3268440" y="3086280"/>
              <a:ext cx="73800" cy="26640"/>
              <a:chOff x="3268440" y="3086280"/>
              <a:chExt cx="73800" cy="26640"/>
            </a:xfrm>
          </p:grpSpPr>
          <p:sp>
            <p:nvSpPr>
              <p:cNvPr id="1971" name=""/>
              <p:cNvSpPr/>
              <p:nvPr/>
            </p:nvSpPr>
            <p:spPr>
              <a:xfrm>
                <a:off x="3268440" y="3086280"/>
                <a:ext cx="2808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315600" y="308628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3" name=""/>
          <p:cNvSpPr/>
          <p:nvPr/>
        </p:nvSpPr>
        <p:spPr>
          <a:xfrm>
            <a:off x="3472920" y="3589200"/>
            <a:ext cx="197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5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thrower                       WW1-GE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3076560" y="366084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5" name=""/>
          <p:cNvGrpSpPr/>
          <p:nvPr/>
        </p:nvGrpSpPr>
        <p:grpSpPr>
          <a:xfrm>
            <a:off x="3181320" y="3532320"/>
            <a:ext cx="239400" cy="188280"/>
            <a:chOff x="3181320" y="3532320"/>
            <a:chExt cx="239400" cy="188280"/>
          </a:xfrm>
        </p:grpSpPr>
        <p:grpSp>
          <p:nvGrpSpPr>
            <p:cNvPr id="1976" name=""/>
            <p:cNvGrpSpPr/>
            <p:nvPr/>
          </p:nvGrpSpPr>
          <p:grpSpPr>
            <a:xfrm>
              <a:off x="3263760" y="3532320"/>
              <a:ext cx="74520" cy="26640"/>
              <a:chOff x="3263760" y="3532320"/>
              <a:chExt cx="74520" cy="26640"/>
            </a:xfrm>
          </p:grpSpPr>
          <p:sp>
            <p:nvSpPr>
              <p:cNvPr id="1977" name=""/>
              <p:cNvSpPr/>
              <p:nvPr/>
            </p:nvSpPr>
            <p:spPr>
              <a:xfrm>
                <a:off x="3263760" y="35323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311280" y="35323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9" name=""/>
            <p:cNvGrpSpPr/>
            <p:nvPr/>
          </p:nvGrpSpPr>
          <p:grpSpPr>
            <a:xfrm>
              <a:off x="3181320" y="3563640"/>
              <a:ext cx="239400" cy="156960"/>
              <a:chOff x="3181320" y="3563640"/>
              <a:chExt cx="239400" cy="156960"/>
            </a:xfrm>
          </p:grpSpPr>
          <p:sp>
            <p:nvSpPr>
              <p:cNvPr id="1980" name=""/>
              <p:cNvSpPr/>
              <p:nvPr/>
            </p:nvSpPr>
            <p:spPr>
              <a:xfrm>
                <a:off x="3181320" y="3563640"/>
                <a:ext cx="23940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301920" y="3606120"/>
                <a:ext cx="0" cy="10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V="1">
                <a:off x="3301920" y="3570840"/>
                <a:ext cx="47520" cy="3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H="1" flipV="1">
                <a:off x="3259080" y="3569760"/>
                <a:ext cx="39600" cy="3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V="1">
                <a:off x="3189240" y="3565080"/>
                <a:ext cx="226800" cy="15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187440" y="3565080"/>
                <a:ext cx="230400" cy="148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6" name=""/>
          <p:cNvGrpSpPr/>
          <p:nvPr/>
        </p:nvGrpSpPr>
        <p:grpSpPr>
          <a:xfrm>
            <a:off x="3198960" y="2843280"/>
            <a:ext cx="231480" cy="196920"/>
            <a:chOff x="3198960" y="2843280"/>
            <a:chExt cx="231480" cy="196920"/>
          </a:xfrm>
        </p:grpSpPr>
        <p:grpSp>
          <p:nvGrpSpPr>
            <p:cNvPr id="1987" name=""/>
            <p:cNvGrpSpPr/>
            <p:nvPr/>
          </p:nvGrpSpPr>
          <p:grpSpPr>
            <a:xfrm>
              <a:off x="3198960" y="2882880"/>
              <a:ext cx="231480" cy="157320"/>
              <a:chOff x="3198960" y="2882880"/>
              <a:chExt cx="231480" cy="157320"/>
            </a:xfrm>
          </p:grpSpPr>
          <p:sp>
            <p:nvSpPr>
              <p:cNvPr id="1988" name=""/>
              <p:cNvSpPr/>
              <p:nvPr/>
            </p:nvSpPr>
            <p:spPr>
              <a:xfrm>
                <a:off x="3198960" y="2882880"/>
                <a:ext cx="23148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3200040" y="2885760"/>
                <a:ext cx="22680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198960" y="2886120"/>
                <a:ext cx="22968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1" name=""/>
            <p:cNvGrpSpPr/>
            <p:nvPr/>
          </p:nvGrpSpPr>
          <p:grpSpPr>
            <a:xfrm>
              <a:off x="3276360" y="2843280"/>
              <a:ext cx="73800" cy="27000"/>
              <a:chOff x="3276360" y="2843280"/>
              <a:chExt cx="73800" cy="27000"/>
            </a:xfrm>
          </p:grpSpPr>
          <p:sp>
            <p:nvSpPr>
              <p:cNvPr id="1992" name=""/>
              <p:cNvSpPr/>
              <p:nvPr/>
            </p:nvSpPr>
            <p:spPr>
              <a:xfrm>
                <a:off x="3276360" y="284328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323520" y="28432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4" name=""/>
          <p:cNvSpPr/>
          <p:nvPr/>
        </p:nvSpPr>
        <p:spPr>
          <a:xfrm>
            <a:off x="3468240" y="3352680"/>
            <a:ext cx="197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-08/15 LMG                    WW1-GE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3071880" y="341316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3181320" y="3297240"/>
            <a:ext cx="236520" cy="201600"/>
            <a:chOff x="3181320" y="3297240"/>
            <a:chExt cx="236520" cy="201600"/>
          </a:xfrm>
        </p:grpSpPr>
        <p:grpSp>
          <p:nvGrpSpPr>
            <p:cNvPr id="1997" name=""/>
            <p:cNvGrpSpPr/>
            <p:nvPr/>
          </p:nvGrpSpPr>
          <p:grpSpPr>
            <a:xfrm>
              <a:off x="3181320" y="3338280"/>
              <a:ext cx="231480" cy="156960"/>
              <a:chOff x="3181320" y="3338280"/>
              <a:chExt cx="231480" cy="156960"/>
            </a:xfrm>
          </p:grpSpPr>
          <p:sp>
            <p:nvSpPr>
              <p:cNvPr id="1998" name=""/>
              <p:cNvSpPr/>
              <p:nvPr/>
            </p:nvSpPr>
            <p:spPr>
              <a:xfrm>
                <a:off x="3181320" y="3338280"/>
                <a:ext cx="23148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181320" y="3344400"/>
                <a:ext cx="50760" cy="1461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0" name=""/>
            <p:cNvSpPr/>
            <p:nvPr/>
          </p:nvSpPr>
          <p:spPr>
            <a:xfrm flipV="1">
              <a:off x="3187440" y="3333240"/>
              <a:ext cx="2304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198600" y="3362040"/>
              <a:ext cx="219240" cy="13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2" name=""/>
            <p:cNvGrpSpPr/>
            <p:nvPr/>
          </p:nvGrpSpPr>
          <p:grpSpPr>
            <a:xfrm>
              <a:off x="3260520" y="3297240"/>
              <a:ext cx="74520" cy="26640"/>
              <a:chOff x="3260520" y="3297240"/>
              <a:chExt cx="74520" cy="26640"/>
            </a:xfrm>
          </p:grpSpPr>
          <p:sp>
            <p:nvSpPr>
              <p:cNvPr id="2003" name=""/>
              <p:cNvSpPr/>
              <p:nvPr/>
            </p:nvSpPr>
            <p:spPr>
              <a:xfrm>
                <a:off x="3260520" y="32972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308040" y="32972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5" name=""/>
          <p:cNvSpPr/>
          <p:nvPr/>
        </p:nvSpPr>
        <p:spPr>
          <a:xfrm>
            <a:off x="3476520" y="3828960"/>
            <a:ext cx="195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62cm Infantry Gun            WW1-GE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075120" y="3882960"/>
            <a:ext cx="15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7" name=""/>
          <p:cNvGrpSpPr/>
          <p:nvPr/>
        </p:nvGrpSpPr>
        <p:grpSpPr>
          <a:xfrm>
            <a:off x="3187800" y="3773520"/>
            <a:ext cx="239760" cy="198360"/>
            <a:chOff x="3187800" y="3773520"/>
            <a:chExt cx="239760" cy="198360"/>
          </a:xfrm>
        </p:grpSpPr>
        <p:grpSp>
          <p:nvGrpSpPr>
            <p:cNvPr id="2008" name=""/>
            <p:cNvGrpSpPr/>
            <p:nvPr/>
          </p:nvGrpSpPr>
          <p:grpSpPr>
            <a:xfrm>
              <a:off x="3187800" y="3814920"/>
              <a:ext cx="239760" cy="156960"/>
              <a:chOff x="3187800" y="3814920"/>
              <a:chExt cx="239760" cy="156960"/>
            </a:xfrm>
          </p:grpSpPr>
          <p:sp>
            <p:nvSpPr>
              <p:cNvPr id="2009" name=""/>
              <p:cNvSpPr/>
              <p:nvPr/>
            </p:nvSpPr>
            <p:spPr>
              <a:xfrm>
                <a:off x="3187800" y="3814920"/>
                <a:ext cx="23976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291120" y="387504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270240" y="3773520"/>
              <a:ext cx="74160" cy="27000"/>
              <a:chOff x="3270240" y="3773520"/>
              <a:chExt cx="74160" cy="27000"/>
            </a:xfrm>
          </p:grpSpPr>
          <p:sp>
            <p:nvSpPr>
              <p:cNvPr id="2012" name=""/>
              <p:cNvSpPr/>
              <p:nvPr/>
            </p:nvSpPr>
            <p:spPr>
              <a:xfrm>
                <a:off x="3270240" y="37735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317760" y="37735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I British 19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776160" y="568800"/>
            <a:ext cx="178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BR01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Regiment, 19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485640" y="749160"/>
            <a:ext cx="0" cy="64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1042920" y="1222200"/>
            <a:ext cx="164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LE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042920" y="92232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1039680" y="1057320"/>
            <a:ext cx="184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 WW1-BR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93560" y="1106640"/>
            <a:ext cx="274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1038600" y="1350720"/>
            <a:ext cx="2148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4 Infantry Battal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‘14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W1-BG-BR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485640" y="1401840"/>
            <a:ext cx="311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3" name=""/>
          <p:cNvGrpSpPr/>
          <p:nvPr/>
        </p:nvGrpSpPr>
        <p:grpSpPr>
          <a:xfrm>
            <a:off x="681120" y="961920"/>
            <a:ext cx="237960" cy="218880"/>
            <a:chOff x="681120" y="961920"/>
            <a:chExt cx="237960" cy="218880"/>
          </a:xfrm>
        </p:grpSpPr>
        <p:sp>
          <p:nvSpPr>
            <p:cNvPr id="2024" name=""/>
            <p:cNvSpPr/>
            <p:nvPr/>
          </p:nvSpPr>
          <p:spPr>
            <a:xfrm>
              <a:off x="785520" y="9619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81120" y="1022040"/>
              <a:ext cx="237960" cy="1587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6" name=""/>
          <p:cNvSpPr/>
          <p:nvPr/>
        </p:nvSpPr>
        <p:spPr>
          <a:xfrm>
            <a:off x="3427560" y="1068480"/>
            <a:ext cx="244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652920" y="344880"/>
            <a:ext cx="20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 WW1-ME-BR01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Company, 19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836880" y="58752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824280" y="722160"/>
            <a:ext cx="1383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WW1-BR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446640" y="763560"/>
            <a:ext cx="153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 flipH="1">
            <a:off x="3441240" y="484200"/>
            <a:ext cx="180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2" name=""/>
          <p:cNvGrpSpPr/>
          <p:nvPr/>
        </p:nvGrpSpPr>
        <p:grpSpPr>
          <a:xfrm>
            <a:off x="3297240" y="271440"/>
            <a:ext cx="299520" cy="252360"/>
            <a:chOff x="3297240" y="271440"/>
            <a:chExt cx="299520" cy="252360"/>
          </a:xfrm>
        </p:grpSpPr>
        <p:sp>
          <p:nvSpPr>
            <p:cNvPr id="2033" name=""/>
            <p:cNvSpPr/>
            <p:nvPr/>
          </p:nvSpPr>
          <p:spPr>
            <a:xfrm>
              <a:off x="3445920" y="2714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4" name=""/>
            <p:cNvGrpSpPr/>
            <p:nvPr/>
          </p:nvGrpSpPr>
          <p:grpSpPr>
            <a:xfrm>
              <a:off x="3297240" y="330120"/>
              <a:ext cx="299520" cy="193680"/>
              <a:chOff x="3297240" y="330120"/>
              <a:chExt cx="299520" cy="193680"/>
            </a:xfrm>
          </p:grpSpPr>
          <p:sp>
            <p:nvSpPr>
              <p:cNvPr id="2035" name=""/>
              <p:cNvSpPr/>
              <p:nvPr/>
            </p:nvSpPr>
            <p:spPr>
              <a:xfrm>
                <a:off x="3297240" y="330120"/>
                <a:ext cx="299520" cy="1936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V="1">
                <a:off x="3300120" y="333000"/>
                <a:ext cx="29160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297240" y="333000"/>
                <a:ext cx="29808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8" name=""/>
          <p:cNvGrpSpPr/>
          <p:nvPr/>
        </p:nvGrpSpPr>
        <p:grpSpPr>
          <a:xfrm>
            <a:off x="3544920" y="932040"/>
            <a:ext cx="280440" cy="221760"/>
            <a:chOff x="3544920" y="932040"/>
            <a:chExt cx="280440" cy="221760"/>
          </a:xfrm>
        </p:grpSpPr>
        <p:grpSp>
          <p:nvGrpSpPr>
            <p:cNvPr id="2039" name=""/>
            <p:cNvGrpSpPr/>
            <p:nvPr/>
          </p:nvGrpSpPr>
          <p:grpSpPr>
            <a:xfrm>
              <a:off x="3615120" y="932040"/>
              <a:ext cx="138960" cy="26640"/>
              <a:chOff x="3615120" y="932040"/>
              <a:chExt cx="138960" cy="26640"/>
            </a:xfrm>
          </p:grpSpPr>
          <p:sp>
            <p:nvSpPr>
              <p:cNvPr id="2040" name=""/>
              <p:cNvSpPr/>
              <p:nvPr/>
            </p:nvSpPr>
            <p:spPr>
              <a:xfrm>
                <a:off x="3615120" y="9320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668760" y="932040"/>
                <a:ext cx="2988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725640" y="9320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3544920" y="974520"/>
              <a:ext cx="280440" cy="179280"/>
              <a:chOff x="3544920" y="974520"/>
              <a:chExt cx="280440" cy="179280"/>
            </a:xfrm>
          </p:grpSpPr>
          <p:sp>
            <p:nvSpPr>
              <p:cNvPr id="2044" name=""/>
              <p:cNvSpPr/>
              <p:nvPr/>
            </p:nvSpPr>
            <p:spPr>
              <a:xfrm>
                <a:off x="3544920" y="974520"/>
                <a:ext cx="280440" cy="1792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flipV="1">
                <a:off x="3547800" y="976680"/>
                <a:ext cx="273240" cy="17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544920" y="977040"/>
                <a:ext cx="279000" cy="17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47" name=""/>
          <p:cNvGrpSpPr/>
          <p:nvPr/>
        </p:nvGrpSpPr>
        <p:grpSpPr>
          <a:xfrm>
            <a:off x="3540240" y="636480"/>
            <a:ext cx="252000" cy="218880"/>
            <a:chOff x="3540240" y="636480"/>
            <a:chExt cx="252000" cy="218880"/>
          </a:xfrm>
        </p:grpSpPr>
        <p:sp>
          <p:nvSpPr>
            <p:cNvPr id="2048" name=""/>
            <p:cNvSpPr/>
            <p:nvPr/>
          </p:nvSpPr>
          <p:spPr>
            <a:xfrm>
              <a:off x="3651120" y="6364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540240" y="696600"/>
              <a:ext cx="252000" cy="1587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0" name=""/>
          <p:cNvSpPr/>
          <p:nvPr/>
        </p:nvSpPr>
        <p:spPr>
          <a:xfrm>
            <a:off x="3871800" y="1018080"/>
            <a:ext cx="20829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4 Infantry Platoon ‘14  WW1-SME-BR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1" name=""/>
          <p:cNvGrpSpPr/>
          <p:nvPr/>
        </p:nvGrpSpPr>
        <p:grpSpPr>
          <a:xfrm>
            <a:off x="3533760" y="1274760"/>
            <a:ext cx="2847960" cy="507960"/>
            <a:chOff x="3533760" y="1274760"/>
            <a:chExt cx="2847960" cy="507960"/>
          </a:xfrm>
        </p:grpSpPr>
        <p:sp>
          <p:nvSpPr>
            <p:cNvPr id="2052" name=""/>
            <p:cNvSpPr/>
            <p:nvPr/>
          </p:nvSpPr>
          <p:spPr>
            <a:xfrm>
              <a:off x="3666960" y="1401840"/>
              <a:ext cx="0" cy="311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666960" y="1706400"/>
              <a:ext cx="371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4" name=""/>
            <p:cNvGrpSpPr/>
            <p:nvPr/>
          </p:nvGrpSpPr>
          <p:grpSpPr>
            <a:xfrm>
              <a:off x="3946680" y="1625760"/>
              <a:ext cx="231480" cy="156960"/>
              <a:chOff x="3946680" y="1625760"/>
              <a:chExt cx="231480" cy="156960"/>
            </a:xfrm>
          </p:grpSpPr>
          <p:sp>
            <p:nvSpPr>
              <p:cNvPr id="2055" name=""/>
              <p:cNvSpPr/>
              <p:nvPr/>
            </p:nvSpPr>
            <p:spPr>
              <a:xfrm>
                <a:off x="3946680" y="1625760"/>
                <a:ext cx="23148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flipV="1">
                <a:off x="3948840" y="1627920"/>
                <a:ext cx="22536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946680" y="1627920"/>
                <a:ext cx="230400" cy="14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8" name=""/>
            <p:cNvGrpSpPr/>
            <p:nvPr/>
          </p:nvGrpSpPr>
          <p:grpSpPr>
            <a:xfrm>
              <a:off x="4024440" y="1584360"/>
              <a:ext cx="74520" cy="27000"/>
              <a:chOff x="4024440" y="1584360"/>
              <a:chExt cx="74520" cy="27000"/>
            </a:xfrm>
          </p:grpSpPr>
          <p:sp>
            <p:nvSpPr>
              <p:cNvPr id="2059" name=""/>
              <p:cNvSpPr/>
              <p:nvPr/>
            </p:nvSpPr>
            <p:spPr>
              <a:xfrm>
                <a:off x="4024440" y="15843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4071960" y="15843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1" name=""/>
            <p:cNvGrpSpPr/>
            <p:nvPr/>
          </p:nvGrpSpPr>
          <p:grpSpPr>
            <a:xfrm>
              <a:off x="3533760" y="1274760"/>
              <a:ext cx="264960" cy="221760"/>
              <a:chOff x="3533760" y="1274760"/>
              <a:chExt cx="264960" cy="221760"/>
            </a:xfrm>
          </p:grpSpPr>
          <p:grpSp>
            <p:nvGrpSpPr>
              <p:cNvPr id="2062" name=""/>
              <p:cNvGrpSpPr/>
              <p:nvPr/>
            </p:nvGrpSpPr>
            <p:grpSpPr>
              <a:xfrm>
                <a:off x="3600000" y="1274760"/>
                <a:ext cx="131040" cy="26640"/>
                <a:chOff x="3600000" y="1274760"/>
                <a:chExt cx="131040" cy="26640"/>
              </a:xfrm>
            </p:grpSpPr>
            <p:sp>
              <p:nvSpPr>
                <p:cNvPr id="2063" name=""/>
                <p:cNvSpPr/>
                <p:nvPr/>
              </p:nvSpPr>
              <p:spPr>
                <a:xfrm>
                  <a:off x="3600000" y="127476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3650400" y="127476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3704400" y="127476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6" name=""/>
              <p:cNvGrpSpPr/>
              <p:nvPr/>
            </p:nvGrpSpPr>
            <p:grpSpPr>
              <a:xfrm>
                <a:off x="3533760" y="1317240"/>
                <a:ext cx="264960" cy="179280"/>
                <a:chOff x="3533760" y="1317240"/>
                <a:chExt cx="264960" cy="179280"/>
              </a:xfrm>
            </p:grpSpPr>
            <p:sp>
              <p:nvSpPr>
                <p:cNvPr id="2067" name=""/>
                <p:cNvSpPr/>
                <p:nvPr/>
              </p:nvSpPr>
              <p:spPr>
                <a:xfrm>
                  <a:off x="3533760" y="1317240"/>
                  <a:ext cx="264960" cy="1792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3536280" y="1319400"/>
                  <a:ext cx="258120" cy="17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3533760" y="1319760"/>
                  <a:ext cx="263520" cy="17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70" name=""/>
            <p:cNvSpPr/>
            <p:nvPr/>
          </p:nvSpPr>
          <p:spPr>
            <a:xfrm>
              <a:off x="3956040" y="1281600"/>
              <a:ext cx="242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ubmaneuver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Element WW1-SME-BR0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Platoon, 19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260960" y="1649520"/>
              <a:ext cx="129528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ifle              WW1-BR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2" name=""/>
          <p:cNvGrpSpPr/>
          <p:nvPr/>
        </p:nvGrpSpPr>
        <p:grpSpPr>
          <a:xfrm>
            <a:off x="619200" y="1227240"/>
            <a:ext cx="347040" cy="291600"/>
            <a:chOff x="619200" y="1227240"/>
            <a:chExt cx="347040" cy="291600"/>
          </a:xfrm>
        </p:grpSpPr>
        <p:grpSp>
          <p:nvGrpSpPr>
            <p:cNvPr id="2073" name=""/>
            <p:cNvGrpSpPr/>
            <p:nvPr/>
          </p:nvGrpSpPr>
          <p:grpSpPr>
            <a:xfrm>
              <a:off x="755640" y="1227240"/>
              <a:ext cx="76320" cy="63360"/>
              <a:chOff x="755640" y="1227240"/>
              <a:chExt cx="76320" cy="63360"/>
            </a:xfrm>
          </p:grpSpPr>
          <p:sp>
            <p:nvSpPr>
              <p:cNvPr id="2074" name=""/>
              <p:cNvSpPr/>
              <p:nvPr/>
            </p:nvSpPr>
            <p:spPr>
              <a:xfrm>
                <a:off x="755640" y="1227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831960" y="1227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19200" y="1282680"/>
              <a:ext cx="347040" cy="236160"/>
              <a:chOff x="619200" y="1282680"/>
              <a:chExt cx="347040" cy="236160"/>
            </a:xfrm>
          </p:grpSpPr>
          <p:sp>
            <p:nvSpPr>
              <p:cNvPr id="2077" name=""/>
              <p:cNvSpPr/>
              <p:nvPr/>
            </p:nvSpPr>
            <p:spPr>
              <a:xfrm>
                <a:off x="619200" y="1282680"/>
                <a:ext cx="347040" cy="2361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V="1">
                <a:off x="622800" y="128628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619200" y="128628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0" name=""/>
          <p:cNvGrpSpPr/>
          <p:nvPr/>
        </p:nvGrpSpPr>
        <p:grpSpPr>
          <a:xfrm>
            <a:off x="320760" y="517680"/>
            <a:ext cx="347040" cy="298080"/>
            <a:chOff x="320760" y="517680"/>
            <a:chExt cx="347040" cy="298080"/>
          </a:xfrm>
        </p:grpSpPr>
        <p:grpSp>
          <p:nvGrpSpPr>
            <p:cNvPr id="2081" name=""/>
            <p:cNvGrpSpPr/>
            <p:nvPr/>
          </p:nvGrpSpPr>
          <p:grpSpPr>
            <a:xfrm>
              <a:off x="320760" y="579600"/>
              <a:ext cx="347040" cy="236160"/>
              <a:chOff x="320760" y="579600"/>
              <a:chExt cx="347040" cy="236160"/>
            </a:xfrm>
          </p:grpSpPr>
          <p:sp>
            <p:nvSpPr>
              <p:cNvPr id="2082" name=""/>
              <p:cNvSpPr/>
              <p:nvPr/>
            </p:nvSpPr>
            <p:spPr>
              <a:xfrm>
                <a:off x="320760" y="579600"/>
                <a:ext cx="347040" cy="2361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324360" y="58320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20760" y="58320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428760" y="517680"/>
              <a:ext cx="131760" cy="63360"/>
              <a:chOff x="428760" y="517680"/>
              <a:chExt cx="131760" cy="63360"/>
            </a:xfrm>
          </p:grpSpPr>
          <p:sp>
            <p:nvSpPr>
              <p:cNvPr id="2086" name=""/>
              <p:cNvSpPr/>
              <p:nvPr/>
            </p:nvSpPr>
            <p:spPr>
              <a:xfrm>
                <a:off x="495360" y="5176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7" name=""/>
              <p:cNvGrpSpPr/>
              <p:nvPr/>
            </p:nvGrpSpPr>
            <p:grpSpPr>
              <a:xfrm>
                <a:off x="428760" y="517680"/>
                <a:ext cx="131760" cy="63360"/>
                <a:chOff x="428760" y="517680"/>
                <a:chExt cx="131760" cy="63360"/>
              </a:xfrm>
            </p:grpSpPr>
            <p:sp>
              <p:nvSpPr>
                <p:cNvPr id="2088" name=""/>
                <p:cNvSpPr/>
                <p:nvPr/>
              </p:nvSpPr>
              <p:spPr>
                <a:xfrm>
                  <a:off x="428760" y="517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560520" y="517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90" name=""/>
          <p:cNvSpPr/>
          <p:nvPr/>
        </p:nvSpPr>
        <p:spPr>
          <a:xfrm>
            <a:off x="1044360" y="806400"/>
            <a:ext cx="137844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9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1" name=""/>
          <p:cNvGrpSpPr/>
          <p:nvPr/>
        </p:nvGrpSpPr>
        <p:grpSpPr>
          <a:xfrm>
            <a:off x="252360" y="1704960"/>
            <a:ext cx="2745360" cy="1304640"/>
            <a:chOff x="252360" y="1704960"/>
            <a:chExt cx="2745360" cy="1304640"/>
          </a:xfrm>
        </p:grpSpPr>
        <p:sp>
          <p:nvSpPr>
            <p:cNvPr id="2092" name=""/>
            <p:cNvSpPr/>
            <p:nvPr/>
          </p:nvSpPr>
          <p:spPr>
            <a:xfrm>
              <a:off x="708120" y="1749960"/>
              <a:ext cx="186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le Group- WW1-BG-BRB02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Battalion, 19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25520" y="1911240"/>
              <a:ext cx="324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974880" y="2432160"/>
              <a:ext cx="164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974880" y="213192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971640" y="2266920"/>
              <a:ext cx="18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 WW1-BR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425520" y="231624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973080" y="2567160"/>
              <a:ext cx="202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Infantry Company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‘14   WW1-ME-BR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417600" y="261144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0" name=""/>
            <p:cNvGrpSpPr/>
            <p:nvPr/>
          </p:nvGrpSpPr>
          <p:grpSpPr>
            <a:xfrm>
              <a:off x="612720" y="2171880"/>
              <a:ext cx="238320" cy="218880"/>
              <a:chOff x="612720" y="2171880"/>
              <a:chExt cx="238320" cy="218880"/>
            </a:xfrm>
          </p:grpSpPr>
          <p:sp>
            <p:nvSpPr>
              <p:cNvPr id="2101" name=""/>
              <p:cNvSpPr/>
              <p:nvPr/>
            </p:nvSpPr>
            <p:spPr>
              <a:xfrm>
                <a:off x="717480" y="21718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612720" y="2232000"/>
                <a:ext cx="238320" cy="1587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3" name=""/>
            <p:cNvGrpSpPr/>
            <p:nvPr/>
          </p:nvGrpSpPr>
          <p:grpSpPr>
            <a:xfrm>
              <a:off x="252360" y="1704960"/>
              <a:ext cx="347040" cy="291600"/>
              <a:chOff x="252360" y="1704960"/>
              <a:chExt cx="347040" cy="291600"/>
            </a:xfrm>
          </p:grpSpPr>
          <p:grpSp>
            <p:nvGrpSpPr>
              <p:cNvPr id="2104" name=""/>
              <p:cNvGrpSpPr/>
              <p:nvPr/>
            </p:nvGrpSpPr>
            <p:grpSpPr>
              <a:xfrm>
                <a:off x="388800" y="1704960"/>
                <a:ext cx="76320" cy="63360"/>
                <a:chOff x="388800" y="1704960"/>
                <a:chExt cx="76320" cy="63360"/>
              </a:xfrm>
            </p:grpSpPr>
            <p:sp>
              <p:nvSpPr>
                <p:cNvPr id="2105" name=""/>
                <p:cNvSpPr/>
                <p:nvPr/>
              </p:nvSpPr>
              <p:spPr>
                <a:xfrm>
                  <a:off x="388800" y="17049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465120" y="17049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7" name=""/>
              <p:cNvGrpSpPr/>
              <p:nvPr/>
            </p:nvGrpSpPr>
            <p:grpSpPr>
              <a:xfrm>
                <a:off x="252360" y="1760400"/>
                <a:ext cx="347040" cy="236160"/>
                <a:chOff x="252360" y="1760400"/>
                <a:chExt cx="347040" cy="236160"/>
              </a:xfrm>
            </p:grpSpPr>
            <p:sp>
              <p:nvSpPr>
                <p:cNvPr id="2108" name=""/>
                <p:cNvSpPr/>
                <p:nvPr/>
              </p:nvSpPr>
              <p:spPr>
                <a:xfrm>
                  <a:off x="252360" y="1760400"/>
                  <a:ext cx="347040" cy="2361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 flipV="1">
                  <a:off x="255960" y="1764000"/>
                  <a:ext cx="33840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52360" y="1764000"/>
                  <a:ext cx="34560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1" name=""/>
            <p:cNvGrpSpPr/>
            <p:nvPr/>
          </p:nvGrpSpPr>
          <p:grpSpPr>
            <a:xfrm>
              <a:off x="579600" y="2454120"/>
              <a:ext cx="284040" cy="252360"/>
              <a:chOff x="579600" y="2454120"/>
              <a:chExt cx="284040" cy="252360"/>
            </a:xfrm>
          </p:grpSpPr>
          <p:sp>
            <p:nvSpPr>
              <p:cNvPr id="2112" name=""/>
              <p:cNvSpPr/>
              <p:nvPr/>
            </p:nvSpPr>
            <p:spPr>
              <a:xfrm>
                <a:off x="720720" y="24541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3" name=""/>
              <p:cNvGrpSpPr/>
              <p:nvPr/>
            </p:nvGrpSpPr>
            <p:grpSpPr>
              <a:xfrm>
                <a:off x="579600" y="2512800"/>
                <a:ext cx="284040" cy="193680"/>
                <a:chOff x="579600" y="2512800"/>
                <a:chExt cx="284040" cy="193680"/>
              </a:xfrm>
            </p:grpSpPr>
            <p:sp>
              <p:nvSpPr>
                <p:cNvPr id="2114" name=""/>
                <p:cNvSpPr/>
                <p:nvPr/>
              </p:nvSpPr>
              <p:spPr>
                <a:xfrm>
                  <a:off x="579600" y="2512800"/>
                  <a:ext cx="284040" cy="1936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 flipV="1">
                  <a:off x="582480" y="251568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579600" y="251568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17" name=""/>
            <p:cNvSpPr/>
            <p:nvPr/>
          </p:nvSpPr>
          <p:spPr>
            <a:xfrm>
              <a:off x="417600" y="292428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947880" y="2868480"/>
              <a:ext cx="1855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xim HMG                     WW1-BR0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9" name=""/>
            <p:cNvGrpSpPr/>
            <p:nvPr/>
          </p:nvGrpSpPr>
          <p:grpSpPr>
            <a:xfrm>
              <a:off x="601560" y="2808360"/>
              <a:ext cx="231840" cy="201240"/>
              <a:chOff x="601560" y="2808360"/>
              <a:chExt cx="231840" cy="201240"/>
            </a:xfrm>
          </p:grpSpPr>
          <p:grpSp>
            <p:nvGrpSpPr>
              <p:cNvPr id="2120" name=""/>
              <p:cNvGrpSpPr/>
              <p:nvPr/>
            </p:nvGrpSpPr>
            <p:grpSpPr>
              <a:xfrm>
                <a:off x="681120" y="2808360"/>
                <a:ext cx="74520" cy="28080"/>
                <a:chOff x="681120" y="2808360"/>
                <a:chExt cx="74520" cy="28080"/>
              </a:xfrm>
            </p:grpSpPr>
            <p:sp>
              <p:nvSpPr>
                <p:cNvPr id="2121" name=""/>
                <p:cNvSpPr/>
                <p:nvPr/>
              </p:nvSpPr>
              <p:spPr>
                <a:xfrm>
                  <a:off x="681120" y="28083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728640" y="28098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3" name=""/>
              <p:cNvGrpSpPr/>
              <p:nvPr/>
            </p:nvGrpSpPr>
            <p:grpSpPr>
              <a:xfrm>
                <a:off x="601560" y="2852640"/>
                <a:ext cx="231840" cy="156960"/>
                <a:chOff x="601560" y="2852640"/>
                <a:chExt cx="231840" cy="156960"/>
              </a:xfrm>
            </p:grpSpPr>
            <p:sp>
              <p:nvSpPr>
                <p:cNvPr id="2124" name=""/>
                <p:cNvSpPr/>
                <p:nvPr/>
              </p:nvSpPr>
              <p:spPr>
                <a:xfrm>
                  <a:off x="601560" y="2852640"/>
                  <a:ext cx="23184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601560" y="2858760"/>
                  <a:ext cx="51120" cy="146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 flipV="1">
                  <a:off x="601560" y="2860200"/>
                  <a:ext cx="23040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612720" y="2869920"/>
                  <a:ext cx="219240" cy="13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28" name=""/>
            <p:cNvSpPr/>
            <p:nvPr/>
          </p:nvSpPr>
          <p:spPr>
            <a:xfrm>
              <a:off x="966960" y="2722680"/>
              <a:ext cx="164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968400" y="2011320"/>
              <a:ext cx="1378440" cy="1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"/>
          <p:cNvSpPr/>
          <p:nvPr/>
        </p:nvSpPr>
        <p:spPr>
          <a:xfrm>
            <a:off x="390600" y="4400640"/>
            <a:ext cx="0" cy="122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228600" y="200160"/>
            <a:ext cx="2819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I British 19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08120" y="1521360"/>
            <a:ext cx="211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BR04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Battalion, 19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425520" y="169704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974880" y="2165400"/>
            <a:ext cx="1641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974880" y="186516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971640" y="2000160"/>
            <a:ext cx="184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 WW1-BR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25520" y="2049480"/>
            <a:ext cx="274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973080" y="2300400"/>
            <a:ext cx="202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4 Infantry Company  ‘15   WW1-ME-BR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417600" y="2344680"/>
            <a:ext cx="311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0" name=""/>
          <p:cNvGrpSpPr/>
          <p:nvPr/>
        </p:nvGrpSpPr>
        <p:grpSpPr>
          <a:xfrm>
            <a:off x="612720" y="1905120"/>
            <a:ext cx="238320" cy="218880"/>
            <a:chOff x="612720" y="1905120"/>
            <a:chExt cx="238320" cy="218880"/>
          </a:xfrm>
        </p:grpSpPr>
        <p:sp>
          <p:nvSpPr>
            <p:cNvPr id="2141" name=""/>
            <p:cNvSpPr/>
            <p:nvPr/>
          </p:nvSpPr>
          <p:spPr>
            <a:xfrm>
              <a:off x="717480" y="19051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12720" y="1965240"/>
              <a:ext cx="238320" cy="1587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3" name=""/>
          <p:cNvGrpSpPr/>
          <p:nvPr/>
        </p:nvGrpSpPr>
        <p:grpSpPr>
          <a:xfrm>
            <a:off x="252360" y="1476360"/>
            <a:ext cx="347040" cy="291600"/>
            <a:chOff x="252360" y="1476360"/>
            <a:chExt cx="347040" cy="291600"/>
          </a:xfrm>
        </p:grpSpPr>
        <p:grpSp>
          <p:nvGrpSpPr>
            <p:cNvPr id="2144" name=""/>
            <p:cNvGrpSpPr/>
            <p:nvPr/>
          </p:nvGrpSpPr>
          <p:grpSpPr>
            <a:xfrm>
              <a:off x="388800" y="1476360"/>
              <a:ext cx="76320" cy="63360"/>
              <a:chOff x="388800" y="1476360"/>
              <a:chExt cx="76320" cy="63360"/>
            </a:xfrm>
          </p:grpSpPr>
          <p:sp>
            <p:nvSpPr>
              <p:cNvPr id="2145" name=""/>
              <p:cNvSpPr/>
              <p:nvPr/>
            </p:nvSpPr>
            <p:spPr>
              <a:xfrm>
                <a:off x="388800" y="14763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465120" y="14763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7" name=""/>
            <p:cNvGrpSpPr/>
            <p:nvPr/>
          </p:nvGrpSpPr>
          <p:grpSpPr>
            <a:xfrm>
              <a:off x="252360" y="1531800"/>
              <a:ext cx="347040" cy="236160"/>
              <a:chOff x="252360" y="1531800"/>
              <a:chExt cx="347040" cy="236160"/>
            </a:xfrm>
          </p:grpSpPr>
          <p:sp>
            <p:nvSpPr>
              <p:cNvPr id="2148" name=""/>
              <p:cNvSpPr/>
              <p:nvPr/>
            </p:nvSpPr>
            <p:spPr>
              <a:xfrm>
                <a:off x="252360" y="1531800"/>
                <a:ext cx="347040" cy="2361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flipV="1">
                <a:off x="255960" y="153540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52360" y="153540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1" name=""/>
          <p:cNvGrpSpPr/>
          <p:nvPr/>
        </p:nvGrpSpPr>
        <p:grpSpPr>
          <a:xfrm>
            <a:off x="579600" y="2187720"/>
            <a:ext cx="284040" cy="252360"/>
            <a:chOff x="579600" y="2187720"/>
            <a:chExt cx="284040" cy="252360"/>
          </a:xfrm>
        </p:grpSpPr>
        <p:sp>
          <p:nvSpPr>
            <p:cNvPr id="2152" name=""/>
            <p:cNvSpPr/>
            <p:nvPr/>
          </p:nvSpPr>
          <p:spPr>
            <a:xfrm>
              <a:off x="720720" y="21877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3" name=""/>
            <p:cNvGrpSpPr/>
            <p:nvPr/>
          </p:nvGrpSpPr>
          <p:grpSpPr>
            <a:xfrm>
              <a:off x="579600" y="2246400"/>
              <a:ext cx="284040" cy="193680"/>
              <a:chOff x="579600" y="2246400"/>
              <a:chExt cx="284040" cy="193680"/>
            </a:xfrm>
          </p:grpSpPr>
          <p:sp>
            <p:nvSpPr>
              <p:cNvPr id="2154" name=""/>
              <p:cNvSpPr/>
              <p:nvPr/>
            </p:nvSpPr>
            <p:spPr>
              <a:xfrm>
                <a:off x="579600" y="2246400"/>
                <a:ext cx="284040" cy="1936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flipV="1">
                <a:off x="582480" y="224928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79600" y="224928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7" name=""/>
          <p:cNvSpPr/>
          <p:nvPr/>
        </p:nvSpPr>
        <p:spPr>
          <a:xfrm>
            <a:off x="417600" y="2657520"/>
            <a:ext cx="311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948240" y="2617920"/>
            <a:ext cx="18615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ckers HMG                    WW1-BR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9" name=""/>
          <p:cNvGrpSpPr/>
          <p:nvPr/>
        </p:nvGrpSpPr>
        <p:grpSpPr>
          <a:xfrm>
            <a:off x="601560" y="2541600"/>
            <a:ext cx="231840" cy="201240"/>
            <a:chOff x="601560" y="2541600"/>
            <a:chExt cx="231840" cy="201240"/>
          </a:xfrm>
        </p:grpSpPr>
        <p:grpSp>
          <p:nvGrpSpPr>
            <p:cNvPr id="2160" name=""/>
            <p:cNvGrpSpPr/>
            <p:nvPr/>
          </p:nvGrpSpPr>
          <p:grpSpPr>
            <a:xfrm>
              <a:off x="681120" y="2541600"/>
              <a:ext cx="74520" cy="28080"/>
              <a:chOff x="681120" y="2541600"/>
              <a:chExt cx="74520" cy="28080"/>
            </a:xfrm>
          </p:grpSpPr>
          <p:sp>
            <p:nvSpPr>
              <p:cNvPr id="2161" name=""/>
              <p:cNvSpPr/>
              <p:nvPr/>
            </p:nvSpPr>
            <p:spPr>
              <a:xfrm>
                <a:off x="681120" y="25416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728640" y="25430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3" name=""/>
            <p:cNvGrpSpPr/>
            <p:nvPr/>
          </p:nvGrpSpPr>
          <p:grpSpPr>
            <a:xfrm>
              <a:off x="601560" y="2585880"/>
              <a:ext cx="231840" cy="156960"/>
              <a:chOff x="601560" y="2585880"/>
              <a:chExt cx="231840" cy="156960"/>
            </a:xfrm>
          </p:grpSpPr>
          <p:sp>
            <p:nvSpPr>
              <p:cNvPr id="2164" name=""/>
              <p:cNvSpPr/>
              <p:nvPr/>
            </p:nvSpPr>
            <p:spPr>
              <a:xfrm>
                <a:off x="601560" y="258588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01560" y="2592000"/>
                <a:ext cx="51120" cy="14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V="1">
                <a:off x="601560" y="2593440"/>
                <a:ext cx="23040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12720" y="2603160"/>
                <a:ext cx="21924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8" name=""/>
          <p:cNvSpPr/>
          <p:nvPr/>
        </p:nvSpPr>
        <p:spPr>
          <a:xfrm>
            <a:off x="966960" y="2455920"/>
            <a:ext cx="1641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425520" y="2887560"/>
            <a:ext cx="311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961920" y="2847960"/>
            <a:ext cx="18525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wis LMG                       WW1-BR11 (from July 191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1" name=""/>
          <p:cNvGrpSpPr/>
          <p:nvPr/>
        </p:nvGrpSpPr>
        <p:grpSpPr>
          <a:xfrm>
            <a:off x="609480" y="2771640"/>
            <a:ext cx="231840" cy="201240"/>
            <a:chOff x="609480" y="2771640"/>
            <a:chExt cx="231840" cy="201240"/>
          </a:xfrm>
        </p:grpSpPr>
        <p:grpSp>
          <p:nvGrpSpPr>
            <p:cNvPr id="2172" name=""/>
            <p:cNvGrpSpPr/>
            <p:nvPr/>
          </p:nvGrpSpPr>
          <p:grpSpPr>
            <a:xfrm>
              <a:off x="689040" y="2771640"/>
              <a:ext cx="74520" cy="28080"/>
              <a:chOff x="689040" y="2771640"/>
              <a:chExt cx="74520" cy="28080"/>
            </a:xfrm>
          </p:grpSpPr>
          <p:sp>
            <p:nvSpPr>
              <p:cNvPr id="2173" name=""/>
              <p:cNvSpPr/>
              <p:nvPr/>
            </p:nvSpPr>
            <p:spPr>
              <a:xfrm>
                <a:off x="689040" y="27716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36560" y="27730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5" name=""/>
            <p:cNvGrpSpPr/>
            <p:nvPr/>
          </p:nvGrpSpPr>
          <p:grpSpPr>
            <a:xfrm>
              <a:off x="609480" y="2815920"/>
              <a:ext cx="231840" cy="156960"/>
              <a:chOff x="609480" y="2815920"/>
              <a:chExt cx="231840" cy="156960"/>
            </a:xfrm>
          </p:grpSpPr>
          <p:sp>
            <p:nvSpPr>
              <p:cNvPr id="2176" name=""/>
              <p:cNvSpPr/>
              <p:nvPr/>
            </p:nvSpPr>
            <p:spPr>
              <a:xfrm>
                <a:off x="609480" y="281592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609480" y="2822040"/>
                <a:ext cx="51120" cy="14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V="1">
                <a:off x="609480" y="2823480"/>
                <a:ext cx="23040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620640" y="2833200"/>
                <a:ext cx="21924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0" name=""/>
          <p:cNvSpPr/>
          <p:nvPr/>
        </p:nvSpPr>
        <p:spPr>
          <a:xfrm>
            <a:off x="669960" y="4254840"/>
            <a:ext cx="20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 WW1-BG-BR06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ian Infantry Battalion, 19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936720" y="4898880"/>
            <a:ext cx="1641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936720" y="459900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933480" y="4734000"/>
            <a:ext cx="184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                    WW1-BR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387360" y="4782960"/>
            <a:ext cx="274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934200" y="5033880"/>
            <a:ext cx="2021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4 Canadian Inf. Co.  ‘15    WW1-ME-BR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79440" y="5078520"/>
            <a:ext cx="311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574560" y="4638600"/>
            <a:ext cx="238320" cy="218880"/>
            <a:chOff x="574560" y="4638600"/>
            <a:chExt cx="238320" cy="218880"/>
          </a:xfrm>
        </p:grpSpPr>
        <p:sp>
          <p:nvSpPr>
            <p:cNvPr id="2188" name=""/>
            <p:cNvSpPr/>
            <p:nvPr/>
          </p:nvSpPr>
          <p:spPr>
            <a:xfrm>
              <a:off x="679320" y="46386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74560" y="4698720"/>
              <a:ext cx="238320" cy="1587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214200" y="4210200"/>
            <a:ext cx="347040" cy="291600"/>
            <a:chOff x="214200" y="4210200"/>
            <a:chExt cx="347040" cy="291600"/>
          </a:xfrm>
        </p:grpSpPr>
        <p:grpSp>
          <p:nvGrpSpPr>
            <p:cNvPr id="2191" name=""/>
            <p:cNvGrpSpPr/>
            <p:nvPr/>
          </p:nvGrpSpPr>
          <p:grpSpPr>
            <a:xfrm>
              <a:off x="350640" y="4210200"/>
              <a:ext cx="76320" cy="63360"/>
              <a:chOff x="350640" y="4210200"/>
              <a:chExt cx="76320" cy="63360"/>
            </a:xfrm>
          </p:grpSpPr>
          <p:sp>
            <p:nvSpPr>
              <p:cNvPr id="2192" name=""/>
              <p:cNvSpPr/>
              <p:nvPr/>
            </p:nvSpPr>
            <p:spPr>
              <a:xfrm>
                <a:off x="350640" y="4210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26960" y="4210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4" name=""/>
            <p:cNvGrpSpPr/>
            <p:nvPr/>
          </p:nvGrpSpPr>
          <p:grpSpPr>
            <a:xfrm>
              <a:off x="214200" y="4265640"/>
              <a:ext cx="347040" cy="236160"/>
              <a:chOff x="214200" y="4265640"/>
              <a:chExt cx="347040" cy="236160"/>
            </a:xfrm>
          </p:grpSpPr>
          <p:sp>
            <p:nvSpPr>
              <p:cNvPr id="2195" name=""/>
              <p:cNvSpPr/>
              <p:nvPr/>
            </p:nvSpPr>
            <p:spPr>
              <a:xfrm>
                <a:off x="214200" y="4265640"/>
                <a:ext cx="347040" cy="2361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V="1">
                <a:off x="217800" y="426924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214200" y="426924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8" name=""/>
          <p:cNvGrpSpPr/>
          <p:nvPr/>
        </p:nvGrpSpPr>
        <p:grpSpPr>
          <a:xfrm>
            <a:off x="541440" y="4921200"/>
            <a:ext cx="284040" cy="252360"/>
            <a:chOff x="541440" y="4921200"/>
            <a:chExt cx="284040" cy="252360"/>
          </a:xfrm>
        </p:grpSpPr>
        <p:sp>
          <p:nvSpPr>
            <p:cNvPr id="2199" name=""/>
            <p:cNvSpPr/>
            <p:nvPr/>
          </p:nvSpPr>
          <p:spPr>
            <a:xfrm>
              <a:off x="682560" y="49212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0" name=""/>
            <p:cNvGrpSpPr/>
            <p:nvPr/>
          </p:nvGrpSpPr>
          <p:grpSpPr>
            <a:xfrm>
              <a:off x="541440" y="4979880"/>
              <a:ext cx="284040" cy="193680"/>
              <a:chOff x="541440" y="4979880"/>
              <a:chExt cx="284040" cy="193680"/>
            </a:xfrm>
          </p:grpSpPr>
          <p:sp>
            <p:nvSpPr>
              <p:cNvPr id="2201" name=""/>
              <p:cNvSpPr/>
              <p:nvPr/>
            </p:nvSpPr>
            <p:spPr>
              <a:xfrm>
                <a:off x="541440" y="4979880"/>
                <a:ext cx="284040" cy="1936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544320" y="498276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41440" y="498276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4" name=""/>
          <p:cNvSpPr/>
          <p:nvPr/>
        </p:nvSpPr>
        <p:spPr>
          <a:xfrm>
            <a:off x="379440" y="5391000"/>
            <a:ext cx="311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910440" y="5351400"/>
            <a:ext cx="187992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t HMG                          WW1-BR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6" name=""/>
          <p:cNvGrpSpPr/>
          <p:nvPr/>
        </p:nvGrpSpPr>
        <p:grpSpPr>
          <a:xfrm>
            <a:off x="563400" y="5275440"/>
            <a:ext cx="231840" cy="201240"/>
            <a:chOff x="563400" y="5275440"/>
            <a:chExt cx="231840" cy="201240"/>
          </a:xfrm>
        </p:grpSpPr>
        <p:grpSp>
          <p:nvGrpSpPr>
            <p:cNvPr id="2207" name=""/>
            <p:cNvGrpSpPr/>
            <p:nvPr/>
          </p:nvGrpSpPr>
          <p:grpSpPr>
            <a:xfrm>
              <a:off x="642960" y="5275440"/>
              <a:ext cx="74520" cy="28080"/>
              <a:chOff x="642960" y="5275440"/>
              <a:chExt cx="74520" cy="28080"/>
            </a:xfrm>
          </p:grpSpPr>
          <p:sp>
            <p:nvSpPr>
              <p:cNvPr id="2208" name=""/>
              <p:cNvSpPr/>
              <p:nvPr/>
            </p:nvSpPr>
            <p:spPr>
              <a:xfrm>
                <a:off x="642960" y="52754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690480" y="52768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0" name=""/>
            <p:cNvGrpSpPr/>
            <p:nvPr/>
          </p:nvGrpSpPr>
          <p:grpSpPr>
            <a:xfrm>
              <a:off x="563400" y="5319720"/>
              <a:ext cx="231840" cy="156960"/>
              <a:chOff x="563400" y="5319720"/>
              <a:chExt cx="231840" cy="156960"/>
            </a:xfrm>
          </p:grpSpPr>
          <p:sp>
            <p:nvSpPr>
              <p:cNvPr id="2211" name=""/>
              <p:cNvSpPr/>
              <p:nvPr/>
            </p:nvSpPr>
            <p:spPr>
              <a:xfrm>
                <a:off x="563400" y="531972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63400" y="5325840"/>
                <a:ext cx="51120" cy="14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V="1">
                <a:off x="563400" y="5327280"/>
                <a:ext cx="23040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4560" y="5337000"/>
                <a:ext cx="21924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5" name=""/>
          <p:cNvSpPr/>
          <p:nvPr/>
        </p:nvSpPr>
        <p:spPr>
          <a:xfrm>
            <a:off x="928800" y="5189400"/>
            <a:ext cx="1641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7360" y="5621400"/>
            <a:ext cx="311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923760" y="5581800"/>
            <a:ext cx="190044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wis LMG                       WW1-BR11  (from July 191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8" name=""/>
          <p:cNvGrpSpPr/>
          <p:nvPr/>
        </p:nvGrpSpPr>
        <p:grpSpPr>
          <a:xfrm>
            <a:off x="571680" y="5505480"/>
            <a:ext cx="231480" cy="201240"/>
            <a:chOff x="571680" y="5505480"/>
            <a:chExt cx="231480" cy="201240"/>
          </a:xfrm>
        </p:grpSpPr>
        <p:grpSp>
          <p:nvGrpSpPr>
            <p:cNvPr id="2219" name=""/>
            <p:cNvGrpSpPr/>
            <p:nvPr/>
          </p:nvGrpSpPr>
          <p:grpSpPr>
            <a:xfrm>
              <a:off x="650880" y="5505480"/>
              <a:ext cx="73800" cy="28080"/>
              <a:chOff x="650880" y="5505480"/>
              <a:chExt cx="73800" cy="28080"/>
            </a:xfrm>
          </p:grpSpPr>
          <p:sp>
            <p:nvSpPr>
              <p:cNvPr id="2220" name=""/>
              <p:cNvSpPr/>
              <p:nvPr/>
            </p:nvSpPr>
            <p:spPr>
              <a:xfrm>
                <a:off x="650880" y="5505480"/>
                <a:ext cx="2808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98040" y="550692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2" name=""/>
            <p:cNvGrpSpPr/>
            <p:nvPr/>
          </p:nvGrpSpPr>
          <p:grpSpPr>
            <a:xfrm>
              <a:off x="571680" y="5549760"/>
              <a:ext cx="231480" cy="156960"/>
              <a:chOff x="571680" y="5549760"/>
              <a:chExt cx="231480" cy="156960"/>
            </a:xfrm>
          </p:grpSpPr>
          <p:sp>
            <p:nvSpPr>
              <p:cNvPr id="2223" name=""/>
              <p:cNvSpPr/>
              <p:nvPr/>
            </p:nvSpPr>
            <p:spPr>
              <a:xfrm>
                <a:off x="571680" y="5549760"/>
                <a:ext cx="23148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71680" y="5555880"/>
                <a:ext cx="50760" cy="14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V="1">
                <a:off x="571680" y="5557320"/>
                <a:ext cx="23004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82480" y="5567040"/>
                <a:ext cx="21888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7" name=""/>
          <p:cNvGrpSpPr/>
          <p:nvPr/>
        </p:nvGrpSpPr>
        <p:grpSpPr>
          <a:xfrm>
            <a:off x="3365640" y="2389320"/>
            <a:ext cx="3112920" cy="2223360"/>
            <a:chOff x="3365640" y="2389320"/>
            <a:chExt cx="3112920" cy="2223360"/>
          </a:xfrm>
        </p:grpSpPr>
        <p:grpSp>
          <p:nvGrpSpPr>
            <p:cNvPr id="2228" name=""/>
            <p:cNvGrpSpPr/>
            <p:nvPr/>
          </p:nvGrpSpPr>
          <p:grpSpPr>
            <a:xfrm>
              <a:off x="3365640" y="2389320"/>
              <a:ext cx="3112920" cy="1510920"/>
              <a:chOff x="3365640" y="2389320"/>
              <a:chExt cx="3112920" cy="1510920"/>
            </a:xfrm>
          </p:grpSpPr>
          <p:sp>
            <p:nvSpPr>
              <p:cNvPr id="2229" name=""/>
              <p:cNvSpPr/>
              <p:nvPr/>
            </p:nvSpPr>
            <p:spPr>
              <a:xfrm>
                <a:off x="3495600" y="3186000"/>
                <a:ext cx="231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720960" y="2462400"/>
                <a:ext cx="212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aneuver Element WW1-ME-BR03</a:t>
                </a: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anadian Infantry Company, 19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892680" y="270504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3892680" y="2840040"/>
                <a:ext cx="1383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 WW1-BR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3514680" y="2881440"/>
                <a:ext cx="14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3510000" y="2602080"/>
                <a:ext cx="0" cy="57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5" name=""/>
              <p:cNvGrpSpPr/>
              <p:nvPr/>
            </p:nvGrpSpPr>
            <p:grpSpPr>
              <a:xfrm>
                <a:off x="3365640" y="2389320"/>
                <a:ext cx="284040" cy="252360"/>
                <a:chOff x="3365640" y="2389320"/>
                <a:chExt cx="284040" cy="252360"/>
              </a:xfrm>
            </p:grpSpPr>
            <p:sp>
              <p:nvSpPr>
                <p:cNvPr id="2236" name=""/>
                <p:cNvSpPr/>
                <p:nvPr/>
              </p:nvSpPr>
              <p:spPr>
                <a:xfrm>
                  <a:off x="3506760" y="23893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7" name=""/>
                <p:cNvGrpSpPr/>
                <p:nvPr/>
              </p:nvGrpSpPr>
              <p:grpSpPr>
                <a:xfrm>
                  <a:off x="3365640" y="2448000"/>
                  <a:ext cx="284040" cy="193680"/>
                  <a:chOff x="3365640" y="2448000"/>
                  <a:chExt cx="284040" cy="193680"/>
                </a:xfrm>
              </p:grpSpPr>
              <p:sp>
                <p:nvSpPr>
                  <p:cNvPr id="2238" name=""/>
                  <p:cNvSpPr/>
                  <p:nvPr/>
                </p:nvSpPr>
                <p:spPr>
                  <a:xfrm>
                    <a:off x="3365640" y="2448000"/>
                    <a:ext cx="284040" cy="19368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 flipV="1">
                    <a:off x="3368520" y="2450880"/>
                    <a:ext cx="276480" cy="18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3365640" y="2450880"/>
                    <a:ext cx="282600" cy="18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41" name=""/>
              <p:cNvGrpSpPr/>
              <p:nvPr/>
            </p:nvGrpSpPr>
            <p:grpSpPr>
              <a:xfrm>
                <a:off x="3613320" y="3049560"/>
                <a:ext cx="264960" cy="221760"/>
                <a:chOff x="3613320" y="3049560"/>
                <a:chExt cx="264960" cy="221760"/>
              </a:xfrm>
            </p:grpSpPr>
            <p:grpSp>
              <p:nvGrpSpPr>
                <p:cNvPr id="2242" name=""/>
                <p:cNvGrpSpPr/>
                <p:nvPr/>
              </p:nvGrpSpPr>
              <p:grpSpPr>
                <a:xfrm>
                  <a:off x="3679560" y="3049560"/>
                  <a:ext cx="131040" cy="26640"/>
                  <a:chOff x="3679560" y="3049560"/>
                  <a:chExt cx="131040" cy="26640"/>
                </a:xfrm>
              </p:grpSpPr>
              <p:sp>
                <p:nvSpPr>
                  <p:cNvPr id="2243" name=""/>
                  <p:cNvSpPr/>
                  <p:nvPr/>
                </p:nvSpPr>
                <p:spPr>
                  <a:xfrm>
                    <a:off x="3679560" y="304956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>
                    <a:off x="3729960" y="304956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>
                    <a:off x="3783960" y="304956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6" name=""/>
                <p:cNvGrpSpPr/>
                <p:nvPr/>
              </p:nvGrpSpPr>
              <p:grpSpPr>
                <a:xfrm>
                  <a:off x="3613320" y="3092040"/>
                  <a:ext cx="264960" cy="179280"/>
                  <a:chOff x="3613320" y="3092040"/>
                  <a:chExt cx="264960" cy="179280"/>
                </a:xfrm>
              </p:grpSpPr>
              <p:sp>
                <p:nvSpPr>
                  <p:cNvPr id="2247" name=""/>
                  <p:cNvSpPr/>
                  <p:nvPr/>
                </p:nvSpPr>
                <p:spPr>
                  <a:xfrm>
                    <a:off x="3613320" y="3092040"/>
                    <a:ext cx="264960" cy="17928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8" name=""/>
                  <p:cNvSpPr/>
                  <p:nvPr/>
                </p:nvSpPr>
                <p:spPr>
                  <a:xfrm flipV="1">
                    <a:off x="3615840" y="3094200"/>
                    <a:ext cx="258120" cy="17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9" name=""/>
                  <p:cNvSpPr/>
                  <p:nvPr/>
                </p:nvSpPr>
                <p:spPr>
                  <a:xfrm>
                    <a:off x="3613320" y="3094560"/>
                    <a:ext cx="263520" cy="171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50" name=""/>
              <p:cNvGrpSpPr/>
              <p:nvPr/>
            </p:nvGrpSpPr>
            <p:grpSpPr>
              <a:xfrm>
                <a:off x="3608280" y="2754360"/>
                <a:ext cx="238320" cy="218880"/>
                <a:chOff x="3608280" y="2754360"/>
                <a:chExt cx="238320" cy="218880"/>
              </a:xfrm>
            </p:grpSpPr>
            <p:sp>
              <p:nvSpPr>
                <p:cNvPr id="2251" name=""/>
                <p:cNvSpPr/>
                <p:nvPr/>
              </p:nvSpPr>
              <p:spPr>
                <a:xfrm>
                  <a:off x="3713040" y="27543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3608280" y="2814480"/>
                  <a:ext cx="238320" cy="1587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3" name=""/>
              <p:cNvSpPr/>
              <p:nvPr/>
            </p:nvSpPr>
            <p:spPr>
              <a:xfrm>
                <a:off x="3940200" y="3135600"/>
                <a:ext cx="196848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anadian Inf. Plt. ‘15  WW1-SME-BR0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3735360" y="3519360"/>
                <a:ext cx="0" cy="31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3735360" y="3824280"/>
                <a:ext cx="371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6" name=""/>
              <p:cNvGrpSpPr/>
              <p:nvPr/>
            </p:nvGrpSpPr>
            <p:grpSpPr>
              <a:xfrm>
                <a:off x="4014720" y="3701880"/>
                <a:ext cx="231840" cy="198360"/>
                <a:chOff x="4014720" y="3701880"/>
                <a:chExt cx="231840" cy="198360"/>
              </a:xfrm>
            </p:grpSpPr>
            <p:grpSp>
              <p:nvGrpSpPr>
                <p:cNvPr id="2257" name=""/>
                <p:cNvGrpSpPr/>
                <p:nvPr/>
              </p:nvGrpSpPr>
              <p:grpSpPr>
                <a:xfrm>
                  <a:off x="4014720" y="3743280"/>
                  <a:ext cx="231840" cy="156960"/>
                  <a:chOff x="4014720" y="3743280"/>
                  <a:chExt cx="231840" cy="156960"/>
                </a:xfrm>
              </p:grpSpPr>
              <p:sp>
                <p:nvSpPr>
                  <p:cNvPr id="2258" name=""/>
                  <p:cNvSpPr/>
                  <p:nvPr/>
                </p:nvSpPr>
                <p:spPr>
                  <a:xfrm>
                    <a:off x="4014720" y="3743280"/>
                    <a:ext cx="23184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 flipV="1">
                    <a:off x="4016880" y="3745440"/>
                    <a:ext cx="225720" cy="15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0" name=""/>
                  <p:cNvSpPr/>
                  <p:nvPr/>
                </p:nvSpPr>
                <p:spPr>
                  <a:xfrm>
                    <a:off x="4014720" y="374544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1" name=""/>
                <p:cNvGrpSpPr/>
                <p:nvPr/>
              </p:nvGrpSpPr>
              <p:grpSpPr>
                <a:xfrm>
                  <a:off x="4092480" y="3701880"/>
                  <a:ext cx="74520" cy="28080"/>
                  <a:chOff x="4092480" y="3701880"/>
                  <a:chExt cx="74520" cy="28080"/>
                </a:xfrm>
              </p:grpSpPr>
              <p:sp>
                <p:nvSpPr>
                  <p:cNvPr id="2262" name=""/>
                  <p:cNvSpPr/>
                  <p:nvPr/>
                </p:nvSpPr>
                <p:spPr>
                  <a:xfrm>
                    <a:off x="4092480" y="37018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3" name=""/>
                  <p:cNvSpPr/>
                  <p:nvPr/>
                </p:nvSpPr>
                <p:spPr>
                  <a:xfrm>
                    <a:off x="4140000" y="37033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64" name=""/>
              <p:cNvGrpSpPr/>
              <p:nvPr/>
            </p:nvGrpSpPr>
            <p:grpSpPr>
              <a:xfrm>
                <a:off x="3602160" y="3392640"/>
                <a:ext cx="264960" cy="221760"/>
                <a:chOff x="3602160" y="3392640"/>
                <a:chExt cx="264960" cy="221760"/>
              </a:xfrm>
            </p:grpSpPr>
            <p:grpSp>
              <p:nvGrpSpPr>
                <p:cNvPr id="2265" name=""/>
                <p:cNvGrpSpPr/>
                <p:nvPr/>
              </p:nvGrpSpPr>
              <p:grpSpPr>
                <a:xfrm>
                  <a:off x="3668400" y="3392640"/>
                  <a:ext cx="131040" cy="26640"/>
                  <a:chOff x="3668400" y="3392640"/>
                  <a:chExt cx="131040" cy="26640"/>
                </a:xfrm>
              </p:grpSpPr>
              <p:sp>
                <p:nvSpPr>
                  <p:cNvPr id="2266" name=""/>
                  <p:cNvSpPr/>
                  <p:nvPr/>
                </p:nvSpPr>
                <p:spPr>
                  <a:xfrm>
                    <a:off x="3668400" y="339264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7" name=""/>
                  <p:cNvSpPr/>
                  <p:nvPr/>
                </p:nvSpPr>
                <p:spPr>
                  <a:xfrm>
                    <a:off x="3718800" y="339264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8" name=""/>
                  <p:cNvSpPr/>
                  <p:nvPr/>
                </p:nvSpPr>
                <p:spPr>
                  <a:xfrm>
                    <a:off x="3772800" y="339264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9" name=""/>
                <p:cNvGrpSpPr/>
                <p:nvPr/>
              </p:nvGrpSpPr>
              <p:grpSpPr>
                <a:xfrm>
                  <a:off x="3602160" y="3435120"/>
                  <a:ext cx="264960" cy="179280"/>
                  <a:chOff x="3602160" y="3435120"/>
                  <a:chExt cx="264960" cy="179280"/>
                </a:xfrm>
              </p:grpSpPr>
              <p:sp>
                <p:nvSpPr>
                  <p:cNvPr id="2270" name=""/>
                  <p:cNvSpPr/>
                  <p:nvPr/>
                </p:nvSpPr>
                <p:spPr>
                  <a:xfrm>
                    <a:off x="3602160" y="3435120"/>
                    <a:ext cx="264960" cy="17928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1" name=""/>
                  <p:cNvSpPr/>
                  <p:nvPr/>
                </p:nvSpPr>
                <p:spPr>
                  <a:xfrm flipV="1">
                    <a:off x="3604680" y="3437280"/>
                    <a:ext cx="258120" cy="17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>
                    <a:off x="3602160" y="3437640"/>
                    <a:ext cx="263520" cy="171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73" name=""/>
              <p:cNvSpPr/>
              <p:nvPr/>
            </p:nvSpPr>
            <p:spPr>
              <a:xfrm>
                <a:off x="4024440" y="3399120"/>
                <a:ext cx="2454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ubmaneuver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Element WW1-SME-BR03</a:t>
                </a: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fantry Platoon, 19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4329000" y="3767040"/>
                <a:ext cx="162900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4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oss Rifle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(a,b)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WW1-BR0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5" name=""/>
            <p:cNvSpPr/>
            <p:nvPr/>
          </p:nvSpPr>
          <p:spPr>
            <a:xfrm>
              <a:off x="3535200" y="4044960"/>
              <a:ext cx="2240280" cy="56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spAutoFit/>
            </a:bodyPr>
            <a:p>
              <a:pPr marL="457200" indent="-45720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ifle WW1-BR03 (1st Canadian Division from July 1915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eginning Oct. 1915 may exchange x1 Rifle/Ross Rifle for x1 Bomber WW1-BR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6" name=""/>
          <p:cNvGrpSpPr/>
          <p:nvPr/>
        </p:nvGrpSpPr>
        <p:grpSpPr>
          <a:xfrm>
            <a:off x="311040" y="479520"/>
            <a:ext cx="2876040" cy="953640"/>
            <a:chOff x="311040" y="479520"/>
            <a:chExt cx="2876040" cy="953640"/>
          </a:xfrm>
        </p:grpSpPr>
        <p:sp>
          <p:nvSpPr>
            <p:cNvPr id="2277" name=""/>
            <p:cNvSpPr/>
            <p:nvPr/>
          </p:nvSpPr>
          <p:spPr>
            <a:xfrm>
              <a:off x="776160" y="501840"/>
              <a:ext cx="186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le Group- WW1-BG-BR03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Regiment, 19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85640" y="739800"/>
              <a:ext cx="0" cy="57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042920" y="1136520"/>
              <a:ext cx="164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ATTLE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042920" y="83664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039680" y="971640"/>
              <a:ext cx="18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 WW1-BR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93560" y="102060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038600" y="1265040"/>
              <a:ext cx="2148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4 Infantry Battalion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‘1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W1-BG-BR0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85640" y="1316160"/>
              <a:ext cx="311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5" name=""/>
            <p:cNvGrpSpPr/>
            <p:nvPr/>
          </p:nvGrpSpPr>
          <p:grpSpPr>
            <a:xfrm>
              <a:off x="681120" y="876240"/>
              <a:ext cx="237960" cy="218880"/>
              <a:chOff x="681120" y="876240"/>
              <a:chExt cx="237960" cy="218880"/>
            </a:xfrm>
          </p:grpSpPr>
          <p:sp>
            <p:nvSpPr>
              <p:cNvPr id="2286" name=""/>
              <p:cNvSpPr/>
              <p:nvPr/>
            </p:nvSpPr>
            <p:spPr>
              <a:xfrm>
                <a:off x="785520" y="87624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681120" y="936360"/>
                <a:ext cx="237960" cy="1587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8" name=""/>
            <p:cNvGrpSpPr/>
            <p:nvPr/>
          </p:nvGrpSpPr>
          <p:grpSpPr>
            <a:xfrm>
              <a:off x="619200" y="1141560"/>
              <a:ext cx="347040" cy="291600"/>
              <a:chOff x="619200" y="1141560"/>
              <a:chExt cx="347040" cy="291600"/>
            </a:xfrm>
          </p:grpSpPr>
          <p:grpSp>
            <p:nvGrpSpPr>
              <p:cNvPr id="2289" name=""/>
              <p:cNvGrpSpPr/>
              <p:nvPr/>
            </p:nvGrpSpPr>
            <p:grpSpPr>
              <a:xfrm>
                <a:off x="755640" y="1141560"/>
                <a:ext cx="76320" cy="63360"/>
                <a:chOff x="755640" y="1141560"/>
                <a:chExt cx="76320" cy="63360"/>
              </a:xfrm>
            </p:grpSpPr>
            <p:sp>
              <p:nvSpPr>
                <p:cNvPr id="2290" name=""/>
                <p:cNvSpPr/>
                <p:nvPr/>
              </p:nvSpPr>
              <p:spPr>
                <a:xfrm>
                  <a:off x="755640" y="11415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831960" y="11415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2" name=""/>
              <p:cNvGrpSpPr/>
              <p:nvPr/>
            </p:nvGrpSpPr>
            <p:grpSpPr>
              <a:xfrm>
                <a:off x="619200" y="1197000"/>
                <a:ext cx="347040" cy="236160"/>
                <a:chOff x="619200" y="1197000"/>
                <a:chExt cx="347040" cy="236160"/>
              </a:xfrm>
            </p:grpSpPr>
            <p:sp>
              <p:nvSpPr>
                <p:cNvPr id="2293" name=""/>
                <p:cNvSpPr/>
                <p:nvPr/>
              </p:nvSpPr>
              <p:spPr>
                <a:xfrm>
                  <a:off x="619200" y="1197000"/>
                  <a:ext cx="347040" cy="2361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 flipV="1">
                  <a:off x="622800" y="1200600"/>
                  <a:ext cx="33840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619200" y="1200600"/>
                  <a:ext cx="34560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96" name=""/>
            <p:cNvGrpSpPr/>
            <p:nvPr/>
          </p:nvGrpSpPr>
          <p:grpSpPr>
            <a:xfrm>
              <a:off x="311040" y="479520"/>
              <a:ext cx="347040" cy="298080"/>
              <a:chOff x="311040" y="479520"/>
              <a:chExt cx="347040" cy="298080"/>
            </a:xfrm>
          </p:grpSpPr>
          <p:grpSp>
            <p:nvGrpSpPr>
              <p:cNvPr id="2297" name=""/>
              <p:cNvGrpSpPr/>
              <p:nvPr/>
            </p:nvGrpSpPr>
            <p:grpSpPr>
              <a:xfrm>
                <a:off x="311040" y="541440"/>
                <a:ext cx="347040" cy="236160"/>
                <a:chOff x="311040" y="541440"/>
                <a:chExt cx="347040" cy="236160"/>
              </a:xfrm>
            </p:grpSpPr>
            <p:sp>
              <p:nvSpPr>
                <p:cNvPr id="2298" name=""/>
                <p:cNvSpPr/>
                <p:nvPr/>
              </p:nvSpPr>
              <p:spPr>
                <a:xfrm>
                  <a:off x="311040" y="541440"/>
                  <a:ext cx="347040" cy="2361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 flipV="1">
                  <a:off x="314640" y="545040"/>
                  <a:ext cx="33840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311040" y="545040"/>
                  <a:ext cx="34560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1" name=""/>
              <p:cNvGrpSpPr/>
              <p:nvPr/>
            </p:nvGrpSpPr>
            <p:grpSpPr>
              <a:xfrm>
                <a:off x="419040" y="479520"/>
                <a:ext cx="131760" cy="63360"/>
                <a:chOff x="419040" y="479520"/>
                <a:chExt cx="131760" cy="63360"/>
              </a:xfrm>
            </p:grpSpPr>
            <p:sp>
              <p:nvSpPr>
                <p:cNvPr id="2302" name=""/>
                <p:cNvSpPr/>
                <p:nvPr/>
              </p:nvSpPr>
              <p:spPr>
                <a:xfrm>
                  <a:off x="485640" y="4795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03" name=""/>
                <p:cNvGrpSpPr/>
                <p:nvPr/>
              </p:nvGrpSpPr>
              <p:grpSpPr>
                <a:xfrm>
                  <a:off x="419040" y="479520"/>
                  <a:ext cx="131760" cy="63360"/>
                  <a:chOff x="419040" y="479520"/>
                  <a:chExt cx="131760" cy="63360"/>
                </a:xfrm>
              </p:grpSpPr>
              <p:sp>
                <p:nvSpPr>
                  <p:cNvPr id="2304" name=""/>
                  <p:cNvSpPr/>
                  <p:nvPr/>
                </p:nvSpPr>
                <p:spPr>
                  <a:xfrm>
                    <a:off x="419040" y="4795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>
                    <a:off x="550800" y="4795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306" name=""/>
            <p:cNvSpPr/>
            <p:nvPr/>
          </p:nvSpPr>
          <p:spPr>
            <a:xfrm>
              <a:off x="1044360" y="730080"/>
              <a:ext cx="1378440" cy="1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7" name=""/>
          <p:cNvSpPr/>
          <p:nvPr/>
        </p:nvSpPr>
        <p:spPr>
          <a:xfrm>
            <a:off x="968400" y="1749600"/>
            <a:ext cx="137844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9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3297240" y="271440"/>
            <a:ext cx="3065400" cy="1868400"/>
            <a:chOff x="3297240" y="271440"/>
            <a:chExt cx="3065400" cy="1868400"/>
          </a:xfrm>
        </p:grpSpPr>
        <p:grpSp>
          <p:nvGrpSpPr>
            <p:cNvPr id="2309" name=""/>
            <p:cNvGrpSpPr/>
            <p:nvPr/>
          </p:nvGrpSpPr>
          <p:grpSpPr>
            <a:xfrm>
              <a:off x="3297240" y="271440"/>
              <a:ext cx="2543040" cy="882360"/>
              <a:chOff x="3297240" y="271440"/>
              <a:chExt cx="2543040" cy="882360"/>
            </a:xfrm>
          </p:grpSpPr>
          <p:sp>
            <p:nvSpPr>
              <p:cNvPr id="2310" name=""/>
              <p:cNvSpPr/>
              <p:nvPr/>
            </p:nvSpPr>
            <p:spPr>
              <a:xfrm>
                <a:off x="3427560" y="1068480"/>
                <a:ext cx="2314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3652920" y="344880"/>
                <a:ext cx="213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aneuver Element WW1-ME-BR02</a:t>
                </a: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fantry Company, 19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3824280" y="58752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3824280" y="722160"/>
                <a:ext cx="1383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 WW1-BR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3446640" y="763560"/>
                <a:ext cx="145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flipH="1">
                <a:off x="3441240" y="484200"/>
                <a:ext cx="1800" cy="57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6" name=""/>
              <p:cNvGrpSpPr/>
              <p:nvPr/>
            </p:nvGrpSpPr>
            <p:grpSpPr>
              <a:xfrm>
                <a:off x="3297240" y="271440"/>
                <a:ext cx="284040" cy="252360"/>
                <a:chOff x="3297240" y="271440"/>
                <a:chExt cx="284040" cy="252360"/>
              </a:xfrm>
            </p:grpSpPr>
            <p:sp>
              <p:nvSpPr>
                <p:cNvPr id="2317" name=""/>
                <p:cNvSpPr/>
                <p:nvPr/>
              </p:nvSpPr>
              <p:spPr>
                <a:xfrm>
                  <a:off x="3438360" y="2714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8" name=""/>
                <p:cNvGrpSpPr/>
                <p:nvPr/>
              </p:nvGrpSpPr>
              <p:grpSpPr>
                <a:xfrm>
                  <a:off x="3297240" y="330120"/>
                  <a:ext cx="284040" cy="193680"/>
                  <a:chOff x="3297240" y="330120"/>
                  <a:chExt cx="284040" cy="193680"/>
                </a:xfrm>
              </p:grpSpPr>
              <p:sp>
                <p:nvSpPr>
                  <p:cNvPr id="2319" name=""/>
                  <p:cNvSpPr/>
                  <p:nvPr/>
                </p:nvSpPr>
                <p:spPr>
                  <a:xfrm>
                    <a:off x="3297240" y="330120"/>
                    <a:ext cx="284040" cy="19368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0" name=""/>
                  <p:cNvSpPr/>
                  <p:nvPr/>
                </p:nvSpPr>
                <p:spPr>
                  <a:xfrm flipV="1">
                    <a:off x="3300120" y="333000"/>
                    <a:ext cx="276480" cy="18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1" name=""/>
                  <p:cNvSpPr/>
                  <p:nvPr/>
                </p:nvSpPr>
                <p:spPr>
                  <a:xfrm>
                    <a:off x="3297240" y="333000"/>
                    <a:ext cx="282600" cy="18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22" name=""/>
              <p:cNvGrpSpPr/>
              <p:nvPr/>
            </p:nvGrpSpPr>
            <p:grpSpPr>
              <a:xfrm>
                <a:off x="3544920" y="932040"/>
                <a:ext cx="264960" cy="221760"/>
                <a:chOff x="3544920" y="932040"/>
                <a:chExt cx="264960" cy="221760"/>
              </a:xfrm>
            </p:grpSpPr>
            <p:grpSp>
              <p:nvGrpSpPr>
                <p:cNvPr id="2323" name=""/>
                <p:cNvGrpSpPr/>
                <p:nvPr/>
              </p:nvGrpSpPr>
              <p:grpSpPr>
                <a:xfrm>
                  <a:off x="3611160" y="932040"/>
                  <a:ext cx="131040" cy="26640"/>
                  <a:chOff x="3611160" y="932040"/>
                  <a:chExt cx="131040" cy="26640"/>
                </a:xfrm>
              </p:grpSpPr>
              <p:sp>
                <p:nvSpPr>
                  <p:cNvPr id="2324" name=""/>
                  <p:cNvSpPr/>
                  <p:nvPr/>
                </p:nvSpPr>
                <p:spPr>
                  <a:xfrm>
                    <a:off x="3611160" y="93204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>
                    <a:off x="3661560" y="93204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>
                    <a:off x="3715560" y="93204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27" name=""/>
                <p:cNvGrpSpPr/>
                <p:nvPr/>
              </p:nvGrpSpPr>
              <p:grpSpPr>
                <a:xfrm>
                  <a:off x="3544920" y="974520"/>
                  <a:ext cx="264960" cy="179280"/>
                  <a:chOff x="3544920" y="974520"/>
                  <a:chExt cx="264960" cy="179280"/>
                </a:xfrm>
              </p:grpSpPr>
              <p:sp>
                <p:nvSpPr>
                  <p:cNvPr id="2328" name=""/>
                  <p:cNvSpPr/>
                  <p:nvPr/>
                </p:nvSpPr>
                <p:spPr>
                  <a:xfrm>
                    <a:off x="3544920" y="974520"/>
                    <a:ext cx="264960" cy="17928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 flipV="1">
                    <a:off x="3547440" y="976680"/>
                    <a:ext cx="258120" cy="17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>
                    <a:off x="3544920" y="977040"/>
                    <a:ext cx="263520" cy="171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31" name=""/>
              <p:cNvGrpSpPr/>
              <p:nvPr/>
            </p:nvGrpSpPr>
            <p:grpSpPr>
              <a:xfrm>
                <a:off x="3540240" y="636480"/>
                <a:ext cx="237960" cy="218880"/>
                <a:chOff x="3540240" y="636480"/>
                <a:chExt cx="237960" cy="218880"/>
              </a:xfrm>
            </p:grpSpPr>
            <p:sp>
              <p:nvSpPr>
                <p:cNvPr id="2332" name=""/>
                <p:cNvSpPr/>
                <p:nvPr/>
              </p:nvSpPr>
              <p:spPr>
                <a:xfrm>
                  <a:off x="3644640" y="6364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3540240" y="696600"/>
                  <a:ext cx="237960" cy="1587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4" name=""/>
              <p:cNvSpPr/>
              <p:nvPr/>
            </p:nvSpPr>
            <p:spPr>
              <a:xfrm>
                <a:off x="3871800" y="1018080"/>
                <a:ext cx="196848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4 Infantry Platoon ‘15  WW1-SME-BR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5" name=""/>
            <p:cNvSpPr/>
            <p:nvPr/>
          </p:nvSpPr>
          <p:spPr>
            <a:xfrm>
              <a:off x="3467160" y="1927080"/>
              <a:ext cx="22399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a) Beginning Oct. 1915 may exchange x1 Rifle for x1 Bomber WW1-BR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6" name=""/>
            <p:cNvGrpSpPr/>
            <p:nvPr/>
          </p:nvGrpSpPr>
          <p:grpSpPr>
            <a:xfrm>
              <a:off x="3533760" y="1274760"/>
              <a:ext cx="2828880" cy="507960"/>
              <a:chOff x="3533760" y="1274760"/>
              <a:chExt cx="2828880" cy="507960"/>
            </a:xfrm>
          </p:grpSpPr>
          <p:sp>
            <p:nvSpPr>
              <p:cNvPr id="2337" name=""/>
              <p:cNvSpPr/>
              <p:nvPr/>
            </p:nvSpPr>
            <p:spPr>
              <a:xfrm>
                <a:off x="3666960" y="1401840"/>
                <a:ext cx="0" cy="31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3666960" y="1706400"/>
                <a:ext cx="371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9" name=""/>
              <p:cNvGrpSpPr/>
              <p:nvPr/>
            </p:nvGrpSpPr>
            <p:grpSpPr>
              <a:xfrm>
                <a:off x="3533760" y="1274760"/>
                <a:ext cx="264960" cy="221760"/>
                <a:chOff x="3533760" y="1274760"/>
                <a:chExt cx="264960" cy="221760"/>
              </a:xfrm>
            </p:grpSpPr>
            <p:grpSp>
              <p:nvGrpSpPr>
                <p:cNvPr id="2340" name=""/>
                <p:cNvGrpSpPr/>
                <p:nvPr/>
              </p:nvGrpSpPr>
              <p:grpSpPr>
                <a:xfrm>
                  <a:off x="3600000" y="1274760"/>
                  <a:ext cx="131040" cy="26640"/>
                  <a:chOff x="3600000" y="1274760"/>
                  <a:chExt cx="131040" cy="26640"/>
                </a:xfrm>
              </p:grpSpPr>
              <p:sp>
                <p:nvSpPr>
                  <p:cNvPr id="2341" name=""/>
                  <p:cNvSpPr/>
                  <p:nvPr/>
                </p:nvSpPr>
                <p:spPr>
                  <a:xfrm>
                    <a:off x="3600000" y="127476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3650400" y="127476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>
                    <a:off x="3704400" y="127476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4" name=""/>
                <p:cNvGrpSpPr/>
                <p:nvPr/>
              </p:nvGrpSpPr>
              <p:grpSpPr>
                <a:xfrm>
                  <a:off x="3533760" y="1317240"/>
                  <a:ext cx="264960" cy="179280"/>
                  <a:chOff x="3533760" y="1317240"/>
                  <a:chExt cx="264960" cy="179280"/>
                </a:xfrm>
              </p:grpSpPr>
              <p:sp>
                <p:nvSpPr>
                  <p:cNvPr id="2345" name=""/>
                  <p:cNvSpPr/>
                  <p:nvPr/>
                </p:nvSpPr>
                <p:spPr>
                  <a:xfrm>
                    <a:off x="3533760" y="1317240"/>
                    <a:ext cx="264960" cy="17928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 flipV="1">
                    <a:off x="3536280" y="1319400"/>
                    <a:ext cx="258120" cy="17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3533760" y="1319760"/>
                    <a:ext cx="263520" cy="171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48" name=""/>
              <p:cNvSpPr/>
              <p:nvPr/>
            </p:nvSpPr>
            <p:spPr>
              <a:xfrm>
                <a:off x="3956040" y="1281600"/>
                <a:ext cx="2406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ubmaneuver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Element WW1-SME-BR02</a:t>
                </a: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fantry Platoon, 19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4260960" y="1649520"/>
                <a:ext cx="1295280" cy="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4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ifle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WW1-BR0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0" name=""/>
              <p:cNvGrpSpPr/>
              <p:nvPr/>
            </p:nvGrpSpPr>
            <p:grpSpPr>
              <a:xfrm>
                <a:off x="3946680" y="1584360"/>
                <a:ext cx="231480" cy="198360"/>
                <a:chOff x="3946680" y="1584360"/>
                <a:chExt cx="231480" cy="198360"/>
              </a:xfrm>
            </p:grpSpPr>
            <p:grpSp>
              <p:nvGrpSpPr>
                <p:cNvPr id="2351" name=""/>
                <p:cNvGrpSpPr/>
                <p:nvPr/>
              </p:nvGrpSpPr>
              <p:grpSpPr>
                <a:xfrm>
                  <a:off x="3946680" y="1625760"/>
                  <a:ext cx="231480" cy="156960"/>
                  <a:chOff x="3946680" y="1625760"/>
                  <a:chExt cx="231480" cy="156960"/>
                </a:xfrm>
              </p:grpSpPr>
              <p:sp>
                <p:nvSpPr>
                  <p:cNvPr id="2352" name=""/>
                  <p:cNvSpPr/>
                  <p:nvPr/>
                </p:nvSpPr>
                <p:spPr>
                  <a:xfrm>
                    <a:off x="3946680" y="1625760"/>
                    <a:ext cx="23148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3" name=""/>
                  <p:cNvSpPr/>
                  <p:nvPr/>
                </p:nvSpPr>
                <p:spPr>
                  <a:xfrm flipV="1">
                    <a:off x="3948840" y="1627920"/>
                    <a:ext cx="225360" cy="15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4" name=""/>
                  <p:cNvSpPr/>
                  <p:nvPr/>
                </p:nvSpPr>
                <p:spPr>
                  <a:xfrm>
                    <a:off x="3946680" y="1627920"/>
                    <a:ext cx="230400" cy="149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5" name=""/>
                <p:cNvGrpSpPr/>
                <p:nvPr/>
              </p:nvGrpSpPr>
              <p:grpSpPr>
                <a:xfrm>
                  <a:off x="4025880" y="1584360"/>
                  <a:ext cx="74520" cy="27000"/>
                  <a:chOff x="4025880" y="1584360"/>
                  <a:chExt cx="74520" cy="27000"/>
                </a:xfrm>
              </p:grpSpPr>
              <p:sp>
                <p:nvSpPr>
                  <p:cNvPr id="2356" name=""/>
                  <p:cNvSpPr/>
                  <p:nvPr/>
                </p:nvSpPr>
                <p:spPr>
                  <a:xfrm>
                    <a:off x="4025880" y="15843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7" name=""/>
                  <p:cNvSpPr/>
                  <p:nvPr/>
                </p:nvSpPr>
                <p:spPr>
                  <a:xfrm>
                    <a:off x="4073400" y="15843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358" name=""/>
          <p:cNvGrpSpPr/>
          <p:nvPr/>
        </p:nvGrpSpPr>
        <p:grpSpPr>
          <a:xfrm>
            <a:off x="228600" y="3056040"/>
            <a:ext cx="2898360" cy="994680"/>
            <a:chOff x="228600" y="3056040"/>
            <a:chExt cx="2898360" cy="994680"/>
          </a:xfrm>
        </p:grpSpPr>
        <p:sp>
          <p:nvSpPr>
            <p:cNvPr id="2359" name=""/>
            <p:cNvSpPr/>
            <p:nvPr/>
          </p:nvSpPr>
          <p:spPr>
            <a:xfrm>
              <a:off x="684360" y="3129480"/>
              <a:ext cx="1979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le Group- WW1-BG-BR05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nadian Infantry Brigade, 19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393840" y="3309840"/>
              <a:ext cx="0" cy="62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950760" y="3754440"/>
              <a:ext cx="164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ATTLE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960480" y="346392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947520" y="3589200"/>
              <a:ext cx="18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 WW1-BR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01760" y="363852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946440" y="3882600"/>
              <a:ext cx="2180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4 Canadian Inf. Btn.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‘1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W1-BG-BR0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393840" y="39337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7" name=""/>
            <p:cNvGrpSpPr/>
            <p:nvPr/>
          </p:nvGrpSpPr>
          <p:grpSpPr>
            <a:xfrm>
              <a:off x="588960" y="3494160"/>
              <a:ext cx="237960" cy="218880"/>
              <a:chOff x="588960" y="3494160"/>
              <a:chExt cx="237960" cy="218880"/>
            </a:xfrm>
          </p:grpSpPr>
          <p:sp>
            <p:nvSpPr>
              <p:cNvPr id="2368" name=""/>
              <p:cNvSpPr/>
              <p:nvPr/>
            </p:nvSpPr>
            <p:spPr>
              <a:xfrm>
                <a:off x="693360" y="34941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588960" y="3554280"/>
                <a:ext cx="237960" cy="1587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0" name=""/>
            <p:cNvGrpSpPr/>
            <p:nvPr/>
          </p:nvGrpSpPr>
          <p:grpSpPr>
            <a:xfrm>
              <a:off x="527040" y="3759120"/>
              <a:ext cx="347040" cy="291600"/>
              <a:chOff x="527040" y="3759120"/>
              <a:chExt cx="347040" cy="291600"/>
            </a:xfrm>
          </p:grpSpPr>
          <p:grpSp>
            <p:nvGrpSpPr>
              <p:cNvPr id="2371" name=""/>
              <p:cNvGrpSpPr/>
              <p:nvPr/>
            </p:nvGrpSpPr>
            <p:grpSpPr>
              <a:xfrm>
                <a:off x="663480" y="3759120"/>
                <a:ext cx="76320" cy="63360"/>
                <a:chOff x="663480" y="3759120"/>
                <a:chExt cx="76320" cy="63360"/>
              </a:xfrm>
            </p:grpSpPr>
            <p:sp>
              <p:nvSpPr>
                <p:cNvPr id="2372" name=""/>
                <p:cNvSpPr/>
                <p:nvPr/>
              </p:nvSpPr>
              <p:spPr>
                <a:xfrm>
                  <a:off x="663480" y="37591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739800" y="37591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4" name=""/>
              <p:cNvGrpSpPr/>
              <p:nvPr/>
            </p:nvGrpSpPr>
            <p:grpSpPr>
              <a:xfrm>
                <a:off x="527040" y="3814560"/>
                <a:ext cx="347040" cy="236160"/>
                <a:chOff x="527040" y="3814560"/>
                <a:chExt cx="347040" cy="236160"/>
              </a:xfrm>
            </p:grpSpPr>
            <p:sp>
              <p:nvSpPr>
                <p:cNvPr id="2375" name=""/>
                <p:cNvSpPr/>
                <p:nvPr/>
              </p:nvSpPr>
              <p:spPr>
                <a:xfrm>
                  <a:off x="527040" y="3814560"/>
                  <a:ext cx="347040" cy="2361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 flipV="1">
                  <a:off x="530640" y="3818160"/>
                  <a:ext cx="33840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527040" y="3818160"/>
                  <a:ext cx="34560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78" name=""/>
            <p:cNvGrpSpPr/>
            <p:nvPr/>
          </p:nvGrpSpPr>
          <p:grpSpPr>
            <a:xfrm>
              <a:off x="228600" y="3056040"/>
              <a:ext cx="347400" cy="320040"/>
              <a:chOff x="228600" y="3056040"/>
              <a:chExt cx="347400" cy="320040"/>
            </a:xfrm>
          </p:grpSpPr>
          <p:grpSp>
            <p:nvGrpSpPr>
              <p:cNvPr id="2379" name=""/>
              <p:cNvGrpSpPr/>
              <p:nvPr/>
            </p:nvGrpSpPr>
            <p:grpSpPr>
              <a:xfrm>
                <a:off x="228600" y="3139920"/>
                <a:ext cx="347400" cy="236160"/>
                <a:chOff x="228600" y="3139920"/>
                <a:chExt cx="347400" cy="236160"/>
              </a:xfrm>
            </p:grpSpPr>
            <p:sp>
              <p:nvSpPr>
                <p:cNvPr id="2380" name=""/>
                <p:cNvSpPr/>
                <p:nvPr/>
              </p:nvSpPr>
              <p:spPr>
                <a:xfrm>
                  <a:off x="228600" y="3139920"/>
                  <a:ext cx="347400" cy="2361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 flipV="1">
                  <a:off x="232200" y="3143520"/>
                  <a:ext cx="33876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228600" y="3143520"/>
                  <a:ext cx="34596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3" name=""/>
              <p:cNvSpPr/>
              <p:nvPr/>
            </p:nvSpPr>
            <p:spPr>
              <a:xfrm>
                <a:off x="376200" y="3056040"/>
                <a:ext cx="52560" cy="11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000" bIns="90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4" name=""/>
            <p:cNvSpPr/>
            <p:nvPr/>
          </p:nvSpPr>
          <p:spPr>
            <a:xfrm>
              <a:off x="958680" y="3357720"/>
              <a:ext cx="1378440" cy="1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5" name=""/>
          <p:cNvSpPr/>
          <p:nvPr/>
        </p:nvSpPr>
        <p:spPr>
          <a:xfrm>
            <a:off x="930240" y="4473720"/>
            <a:ext cx="137844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9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15:50:32Z</dcterms:created>
  <dc:creator>JXBake00</dc:creator>
  <dc:description/>
  <dc:language>en-US</dc:language>
  <cp:lastModifiedBy>James Baker</cp:lastModifiedBy>
  <dcterms:modified xsi:type="dcterms:W3CDTF">2003-01-08T10:37:26Z</dcterms:modified>
  <cp:revision>28</cp:revision>
  <dc:subject/>
  <dc:title>Symbols</dc:title>
</cp:coreProperties>
</file>