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54D-6C9A-4E6E-AB46-4BF9FBA6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779-3598-4025-A8ED-524ACC92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163-7BDC-4386-AD7E-D95968A5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7B1-CA5A-403A-97B1-1F1D44B7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186-0C6C-4928-96A9-715B21B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E7A-A651-4BA4-96AC-DE02A7B7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97F-3497-4C9D-ACE0-2358F533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C36-F49B-432C-B68D-048995B0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1A2-6816-4E54-ACEA-FE73975C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7DA-F0F0-458C-8885-C8EA061A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A05-339A-4C97-B098-9092E08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8C5-CC60-4C56-B580-3751BE9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566003-F20D-4E6D-9720-9A272C8EDF3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2185560" y="3965400"/>
            <a:ext cx="100980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243080" y="1671480"/>
            <a:ext cx="94608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5200" y="353520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40160" y="3513240"/>
            <a:ext cx="341280" cy="298440"/>
            <a:chOff x="2540160" y="3513240"/>
            <a:chExt cx="341280" cy="298440"/>
          </a:xfrm>
        </p:grpSpPr>
        <p:sp>
          <p:nvSpPr>
            <p:cNvPr id="45" name=""/>
            <p:cNvSpPr/>
            <p:nvPr/>
          </p:nvSpPr>
          <p:spPr>
            <a:xfrm>
              <a:off x="2589120" y="365940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584440" y="365940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2589120" y="366408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40160" y="351324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379600" y="383688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70240" y="387036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185560" y="4811760"/>
            <a:ext cx="100188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7280" y="439596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32240" y="4373640"/>
            <a:ext cx="341280" cy="298440"/>
            <a:chOff x="2532240" y="4373640"/>
            <a:chExt cx="341280" cy="298440"/>
          </a:xfrm>
        </p:grpSpPr>
        <p:sp>
          <p:nvSpPr>
            <p:cNvPr id="54" name=""/>
            <p:cNvSpPr/>
            <p:nvPr/>
          </p:nvSpPr>
          <p:spPr>
            <a:xfrm>
              <a:off x="2581200" y="451980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576520" y="451980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2581200" y="452448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32240" y="437364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71680" y="469728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362320" y="473076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171880" y="2954160"/>
            <a:ext cx="100944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62440" y="252900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037040" y="2506680"/>
            <a:ext cx="341280" cy="298440"/>
            <a:chOff x="4037040" y="2506680"/>
            <a:chExt cx="341280" cy="298440"/>
          </a:xfrm>
        </p:grpSpPr>
        <p:sp>
          <p:nvSpPr>
            <p:cNvPr id="63" name=""/>
            <p:cNvSpPr/>
            <p:nvPr/>
          </p:nvSpPr>
          <p:spPr>
            <a:xfrm>
              <a:off x="4086000" y="2652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081320" y="2652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086000" y="2657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7040" y="2506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76840" y="287820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866760" y="28638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43560" y="2529000"/>
            <a:ext cx="68076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718160" y="2506680"/>
            <a:ext cx="341280" cy="298440"/>
            <a:chOff x="4718160" y="2506680"/>
            <a:chExt cx="341280" cy="298440"/>
          </a:xfrm>
        </p:grpSpPr>
        <p:sp>
          <p:nvSpPr>
            <p:cNvPr id="71" name=""/>
            <p:cNvSpPr/>
            <p:nvPr/>
          </p:nvSpPr>
          <p:spPr>
            <a:xfrm>
              <a:off x="4767120" y="2652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762440" y="2652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4767120" y="2657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18160" y="2506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557600" y="287820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548240" y="286380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24320" y="252900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398920" y="2506680"/>
            <a:ext cx="341280" cy="298440"/>
            <a:chOff x="5398920" y="2506680"/>
            <a:chExt cx="341280" cy="298440"/>
          </a:xfrm>
        </p:grpSpPr>
        <p:sp>
          <p:nvSpPr>
            <p:cNvPr id="79" name=""/>
            <p:cNvSpPr/>
            <p:nvPr/>
          </p:nvSpPr>
          <p:spPr>
            <a:xfrm>
              <a:off x="5447880" y="2652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443200" y="2652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447880" y="2657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8920" y="2506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238720" y="287820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29360" y="286380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81320" y="252900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355920" y="2506680"/>
            <a:ext cx="341280" cy="298440"/>
            <a:chOff x="3355920" y="2506680"/>
            <a:chExt cx="341280" cy="298440"/>
          </a:xfrm>
        </p:grpSpPr>
        <p:sp>
          <p:nvSpPr>
            <p:cNvPr id="87" name=""/>
            <p:cNvSpPr/>
            <p:nvPr/>
          </p:nvSpPr>
          <p:spPr>
            <a:xfrm>
              <a:off x="3404880" y="2652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400200" y="2652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404880" y="2657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55920" y="2506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195720" y="287820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185640" y="28638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1160" y="252900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525760" y="2506680"/>
            <a:ext cx="341280" cy="298440"/>
            <a:chOff x="2525760" y="2506680"/>
            <a:chExt cx="341280" cy="298440"/>
          </a:xfrm>
        </p:grpSpPr>
        <p:sp>
          <p:nvSpPr>
            <p:cNvPr id="95" name=""/>
            <p:cNvSpPr/>
            <p:nvPr/>
          </p:nvSpPr>
          <p:spPr>
            <a:xfrm>
              <a:off x="2574720" y="2652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570040" y="2652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2574720" y="2657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25760" y="2506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5200" y="283068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355480" y="28638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85920" y="1650600"/>
            <a:ext cx="0" cy="131292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89600" y="252900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893920" y="28638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7240" y="282744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Brave C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42720" y="5821200"/>
            <a:ext cx="405900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6000" y="539892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574848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H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91040" y="573408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60600" y="5326200"/>
            <a:ext cx="341280" cy="349200"/>
            <a:chOff x="3360600" y="5326200"/>
            <a:chExt cx="341280" cy="349200"/>
          </a:xfrm>
        </p:grpSpPr>
        <p:sp>
          <p:nvSpPr>
            <p:cNvPr id="110" name=""/>
            <p:cNvSpPr/>
            <p:nvPr/>
          </p:nvSpPr>
          <p:spPr>
            <a:xfrm>
              <a:off x="3409920" y="552312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60600" y="5326200"/>
              <a:ext cx="34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man Old Style"/>
                </a:rPr>
                <a:t>.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6760" y="5570640"/>
              <a:ext cx="54000" cy="52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862440" y="539892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76840" y="574848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H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866760" y="573408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45000" y="539892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59400" y="574848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H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49320" y="573408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67120" y="353844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041720" y="3516480"/>
            <a:ext cx="341280" cy="298440"/>
            <a:chOff x="4041720" y="3516480"/>
            <a:chExt cx="341280" cy="298440"/>
          </a:xfrm>
        </p:grpSpPr>
        <p:sp>
          <p:nvSpPr>
            <p:cNvPr id="121" name=""/>
            <p:cNvSpPr/>
            <p:nvPr/>
          </p:nvSpPr>
          <p:spPr>
            <a:xfrm>
              <a:off x="4090680" y="36626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086000" y="36626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4090680" y="36673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41720" y="35164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1520" y="38876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871440" y="38736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8240" y="353844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722840" y="3516480"/>
            <a:ext cx="341280" cy="298440"/>
            <a:chOff x="4722840" y="3516480"/>
            <a:chExt cx="341280" cy="298440"/>
          </a:xfrm>
        </p:grpSpPr>
        <p:sp>
          <p:nvSpPr>
            <p:cNvPr id="129" name=""/>
            <p:cNvSpPr/>
            <p:nvPr/>
          </p:nvSpPr>
          <p:spPr>
            <a:xfrm>
              <a:off x="4771800" y="36626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767120" y="36626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4771800" y="36673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22840" y="35164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562640" y="38876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552560" y="38736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29360" y="3538440"/>
            <a:ext cx="68076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03960" y="3516480"/>
            <a:ext cx="341280" cy="298440"/>
            <a:chOff x="5403960" y="3516480"/>
            <a:chExt cx="341280" cy="298440"/>
          </a:xfrm>
        </p:grpSpPr>
        <p:sp>
          <p:nvSpPr>
            <p:cNvPr id="137" name=""/>
            <p:cNvSpPr/>
            <p:nvPr/>
          </p:nvSpPr>
          <p:spPr>
            <a:xfrm>
              <a:off x="5452920" y="36626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48240" y="36626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452920" y="36673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3960" y="35164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243400" y="38876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234040" y="387360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86000" y="353844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60600" y="3516480"/>
            <a:ext cx="341280" cy="298440"/>
            <a:chOff x="3360600" y="3516480"/>
            <a:chExt cx="341280" cy="298440"/>
          </a:xfrm>
        </p:grpSpPr>
        <p:sp>
          <p:nvSpPr>
            <p:cNvPr id="145" name=""/>
            <p:cNvSpPr/>
            <p:nvPr/>
          </p:nvSpPr>
          <p:spPr>
            <a:xfrm>
              <a:off x="3409560" y="36626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404880" y="36626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3409560" y="36673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0600" y="35164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00400" y="38876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91040" y="387360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94280" y="353844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899320" y="387360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11920" y="383688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Brave C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67120" y="440064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041720" y="4378320"/>
            <a:ext cx="341280" cy="298440"/>
            <a:chOff x="4041720" y="4378320"/>
            <a:chExt cx="341280" cy="298440"/>
          </a:xfrm>
        </p:grpSpPr>
        <p:sp>
          <p:nvSpPr>
            <p:cNvPr id="156" name=""/>
            <p:cNvSpPr/>
            <p:nvPr/>
          </p:nvSpPr>
          <p:spPr>
            <a:xfrm>
              <a:off x="4090680" y="452448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086000" y="452448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090680" y="452916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41720" y="437832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881520" y="4749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71440" y="473544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48240" y="440064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722840" y="4378320"/>
            <a:ext cx="341280" cy="298440"/>
            <a:chOff x="4722840" y="4378320"/>
            <a:chExt cx="341280" cy="298440"/>
          </a:xfrm>
        </p:grpSpPr>
        <p:sp>
          <p:nvSpPr>
            <p:cNvPr id="164" name=""/>
            <p:cNvSpPr/>
            <p:nvPr/>
          </p:nvSpPr>
          <p:spPr>
            <a:xfrm>
              <a:off x="4771800" y="452448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767120" y="452448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4771800" y="452916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2840" y="437832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562640" y="4749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52560" y="473544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9360" y="4400640"/>
            <a:ext cx="68076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403960" y="4378320"/>
            <a:ext cx="341280" cy="298440"/>
            <a:chOff x="5403960" y="4378320"/>
            <a:chExt cx="341280" cy="298440"/>
          </a:xfrm>
        </p:grpSpPr>
        <p:sp>
          <p:nvSpPr>
            <p:cNvPr id="172" name=""/>
            <p:cNvSpPr/>
            <p:nvPr/>
          </p:nvSpPr>
          <p:spPr>
            <a:xfrm>
              <a:off x="5452920" y="452448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448240" y="452448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52920" y="452916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03960" y="437832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243400" y="4749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34040" y="473544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86000" y="440064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360600" y="4378320"/>
            <a:ext cx="341280" cy="298440"/>
            <a:chOff x="3360600" y="4378320"/>
            <a:chExt cx="341280" cy="298440"/>
          </a:xfrm>
        </p:grpSpPr>
        <p:sp>
          <p:nvSpPr>
            <p:cNvPr id="180" name=""/>
            <p:cNvSpPr/>
            <p:nvPr/>
          </p:nvSpPr>
          <p:spPr>
            <a:xfrm>
              <a:off x="3409560" y="452448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404880" y="452448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409560" y="452916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60600" y="437832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200400" y="4749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191040" y="473544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94280" y="440064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899320" y="473544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11920" y="469908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Brave C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02080" y="540396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6480" y="575316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L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07120" y="573876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78520" y="540396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92920" y="575316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L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982840" y="573876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1080" y="540396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75480" y="575316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L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665400" y="573876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040" y="102888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65200" y="1006560"/>
            <a:ext cx="404640" cy="298440"/>
            <a:chOff x="565200" y="1006560"/>
            <a:chExt cx="404640" cy="298440"/>
          </a:xfrm>
        </p:grpSpPr>
        <p:sp>
          <p:nvSpPr>
            <p:cNvPr id="200" name=""/>
            <p:cNvSpPr/>
            <p:nvPr/>
          </p:nvSpPr>
          <p:spPr>
            <a:xfrm>
              <a:off x="642960" y="115272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37920" y="115272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642600" y="1157400"/>
              <a:ext cx="23796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5200" y="1006560"/>
              <a:ext cx="404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33440" y="133020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23360" y="136368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092240" y="1454040"/>
            <a:ext cx="15408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43080" y="1428840"/>
            <a:ext cx="0" cy="49608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80960" y="123660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555920" y="1214280"/>
            <a:ext cx="341280" cy="298440"/>
            <a:chOff x="1555920" y="1214280"/>
            <a:chExt cx="341280" cy="298440"/>
          </a:xfrm>
        </p:grpSpPr>
        <p:sp>
          <p:nvSpPr>
            <p:cNvPr id="210" name=""/>
            <p:cNvSpPr/>
            <p:nvPr/>
          </p:nvSpPr>
          <p:spPr>
            <a:xfrm>
              <a:off x="1604880" y="13604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600200" y="13604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1604880" y="13651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55920" y="12142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395360" y="153828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386000" y="157176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54400" y="5392800"/>
            <a:ext cx="68076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68440" y="569448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359080" y="5370480"/>
            <a:ext cx="668160" cy="357120"/>
            <a:chOff x="2359080" y="5370480"/>
            <a:chExt cx="668160" cy="357120"/>
          </a:xfrm>
        </p:grpSpPr>
        <p:sp>
          <p:nvSpPr>
            <p:cNvPr id="219" name=""/>
            <p:cNvSpPr/>
            <p:nvPr/>
          </p:nvSpPr>
          <p:spPr>
            <a:xfrm>
              <a:off x="2577960" y="55166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28640" y="53704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359080" y="5727600"/>
              <a:ext cx="66816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8320" y="5565960"/>
              <a:ext cx="54000" cy="52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041720" y="5326200"/>
            <a:ext cx="341280" cy="349200"/>
            <a:chOff x="4041720" y="5326200"/>
            <a:chExt cx="341280" cy="349200"/>
          </a:xfrm>
        </p:grpSpPr>
        <p:sp>
          <p:nvSpPr>
            <p:cNvPr id="224" name=""/>
            <p:cNvSpPr/>
            <p:nvPr/>
          </p:nvSpPr>
          <p:spPr>
            <a:xfrm>
              <a:off x="4091040" y="552312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41720" y="5326200"/>
              <a:ext cx="34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man Old Style"/>
                </a:rPr>
                <a:t>.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87880" y="5570640"/>
              <a:ext cx="54000" cy="52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718160" y="5330880"/>
            <a:ext cx="341280" cy="349200"/>
            <a:chOff x="4718160" y="5330880"/>
            <a:chExt cx="341280" cy="349200"/>
          </a:xfrm>
        </p:grpSpPr>
        <p:sp>
          <p:nvSpPr>
            <p:cNvPr id="228" name=""/>
            <p:cNvSpPr/>
            <p:nvPr/>
          </p:nvSpPr>
          <p:spPr>
            <a:xfrm>
              <a:off x="4767480" y="552780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8160" y="5330880"/>
              <a:ext cx="34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man Old Style"/>
                </a:rPr>
                <a:t>.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64320" y="5575320"/>
              <a:ext cx="54000" cy="52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477040" y="5330880"/>
            <a:ext cx="341280" cy="349200"/>
            <a:chOff x="5477040" y="5330880"/>
            <a:chExt cx="341280" cy="349200"/>
          </a:xfrm>
        </p:grpSpPr>
        <p:sp>
          <p:nvSpPr>
            <p:cNvPr id="232" name=""/>
            <p:cNvSpPr/>
            <p:nvPr/>
          </p:nvSpPr>
          <p:spPr>
            <a:xfrm>
              <a:off x="5526360" y="552780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77040" y="5330880"/>
              <a:ext cx="34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man Old Style"/>
                </a:rPr>
                <a:t>.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23200" y="5575320"/>
              <a:ext cx="54000" cy="52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157800" y="5330880"/>
            <a:ext cx="341280" cy="349200"/>
            <a:chOff x="6157800" y="5330880"/>
            <a:chExt cx="341280" cy="349200"/>
          </a:xfrm>
        </p:grpSpPr>
        <p:sp>
          <p:nvSpPr>
            <p:cNvPr id="236" name=""/>
            <p:cNvSpPr/>
            <p:nvPr/>
          </p:nvSpPr>
          <p:spPr>
            <a:xfrm>
              <a:off x="6207120" y="552780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7800" y="5330880"/>
              <a:ext cx="34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man Old Style"/>
                </a:rPr>
                <a:t>.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03960" y="5575320"/>
              <a:ext cx="54000" cy="52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834240" y="5335560"/>
            <a:ext cx="341280" cy="349200"/>
            <a:chOff x="6834240" y="5335560"/>
            <a:chExt cx="341280" cy="349200"/>
          </a:xfrm>
        </p:grpSpPr>
        <p:sp>
          <p:nvSpPr>
            <p:cNvPr id="240" name=""/>
            <p:cNvSpPr/>
            <p:nvPr/>
          </p:nvSpPr>
          <p:spPr>
            <a:xfrm>
              <a:off x="6883560" y="553248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34240" y="5335560"/>
              <a:ext cx="34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man Old Style"/>
                </a:rPr>
                <a:t>.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80400" y="5580000"/>
              <a:ext cx="54000" cy="52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862440" y="638640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76840" y="673560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67120" y="6364440"/>
            <a:ext cx="668160" cy="357120"/>
            <a:chOff x="3867120" y="6364440"/>
            <a:chExt cx="668160" cy="357120"/>
          </a:xfrm>
        </p:grpSpPr>
        <p:sp>
          <p:nvSpPr>
            <p:cNvPr id="246" name=""/>
            <p:cNvSpPr/>
            <p:nvPr/>
          </p:nvSpPr>
          <p:spPr>
            <a:xfrm>
              <a:off x="4086000" y="6510240"/>
              <a:ext cx="2476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081320" y="6510240"/>
              <a:ext cx="2476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37040" y="636444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867120" y="6721560"/>
              <a:ext cx="66816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543560" y="6386400"/>
            <a:ext cx="68076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718160" y="6364440"/>
            <a:ext cx="341280" cy="298440"/>
            <a:chOff x="4718160" y="6364440"/>
            <a:chExt cx="341280" cy="298440"/>
          </a:xfrm>
        </p:grpSpPr>
        <p:sp>
          <p:nvSpPr>
            <p:cNvPr id="252" name=""/>
            <p:cNvSpPr/>
            <p:nvPr/>
          </p:nvSpPr>
          <p:spPr>
            <a:xfrm>
              <a:off x="4767120" y="6510240"/>
              <a:ext cx="24732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762080" y="6510240"/>
              <a:ext cx="247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18160" y="636444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557600" y="673560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48240" y="672156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24320" y="638640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398920" y="6364440"/>
            <a:ext cx="341280" cy="298440"/>
            <a:chOff x="5398920" y="6364440"/>
            <a:chExt cx="341280" cy="298440"/>
          </a:xfrm>
        </p:grpSpPr>
        <p:sp>
          <p:nvSpPr>
            <p:cNvPr id="259" name=""/>
            <p:cNvSpPr/>
            <p:nvPr/>
          </p:nvSpPr>
          <p:spPr>
            <a:xfrm>
              <a:off x="5448240" y="6510240"/>
              <a:ext cx="2476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43560" y="6510240"/>
              <a:ext cx="2476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98920" y="636444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38720" y="673560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229360" y="672156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81320" y="638640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95720" y="673560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185640" y="6364440"/>
            <a:ext cx="668520" cy="357120"/>
            <a:chOff x="3185640" y="6364440"/>
            <a:chExt cx="668520" cy="357120"/>
          </a:xfrm>
        </p:grpSpPr>
        <p:sp>
          <p:nvSpPr>
            <p:cNvPr id="267" name=""/>
            <p:cNvSpPr/>
            <p:nvPr/>
          </p:nvSpPr>
          <p:spPr>
            <a:xfrm>
              <a:off x="3405240" y="6510240"/>
              <a:ext cx="24732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400200" y="6510240"/>
              <a:ext cx="2476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5920" y="636444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185640" y="6721560"/>
              <a:ext cx="66852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889600" y="638640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893920" y="672156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07240" y="668484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Brave C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171520" y="6797520"/>
            <a:ext cx="99684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51160" y="638640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5200" y="668808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355840" y="6364440"/>
            <a:ext cx="668160" cy="357120"/>
            <a:chOff x="2355840" y="6364440"/>
            <a:chExt cx="668160" cy="357120"/>
          </a:xfrm>
        </p:grpSpPr>
        <p:sp>
          <p:nvSpPr>
            <p:cNvPr id="278" name=""/>
            <p:cNvSpPr/>
            <p:nvPr/>
          </p:nvSpPr>
          <p:spPr>
            <a:xfrm>
              <a:off x="2574720" y="6510240"/>
              <a:ext cx="2476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570040" y="6510240"/>
              <a:ext cx="2476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25760" y="636444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355840" y="6721560"/>
              <a:ext cx="66816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>
            <a:off x="2171880" y="2055960"/>
            <a:ext cx="9921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2440" y="165564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037040" y="1633680"/>
            <a:ext cx="341280" cy="298440"/>
            <a:chOff x="4037040" y="1633680"/>
            <a:chExt cx="341280" cy="298440"/>
          </a:xfrm>
        </p:grpSpPr>
        <p:sp>
          <p:nvSpPr>
            <p:cNvPr id="285" name=""/>
            <p:cNvSpPr/>
            <p:nvPr/>
          </p:nvSpPr>
          <p:spPr>
            <a:xfrm>
              <a:off x="4086000" y="1779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081320" y="1779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086000" y="1784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7040" y="1633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876840" y="2004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866760" y="19908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43560" y="1655640"/>
            <a:ext cx="68076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718160" y="1633680"/>
            <a:ext cx="341280" cy="298440"/>
            <a:chOff x="4718160" y="1633680"/>
            <a:chExt cx="341280" cy="298440"/>
          </a:xfrm>
        </p:grpSpPr>
        <p:sp>
          <p:nvSpPr>
            <p:cNvPr id="293" name=""/>
            <p:cNvSpPr/>
            <p:nvPr/>
          </p:nvSpPr>
          <p:spPr>
            <a:xfrm>
              <a:off x="4767120" y="1779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4762440" y="1779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767120" y="1784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18160" y="1633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557600" y="2004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548240" y="199080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24320" y="165564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98920" y="1633680"/>
            <a:ext cx="341280" cy="298440"/>
            <a:chOff x="5398920" y="1633680"/>
            <a:chExt cx="341280" cy="298440"/>
          </a:xfrm>
        </p:grpSpPr>
        <p:sp>
          <p:nvSpPr>
            <p:cNvPr id="301" name=""/>
            <p:cNvSpPr/>
            <p:nvPr/>
          </p:nvSpPr>
          <p:spPr>
            <a:xfrm>
              <a:off x="5447880" y="1779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443200" y="1779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5447880" y="1784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98920" y="1633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238720" y="2004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229360" y="199080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81320" y="165564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355920" y="1633680"/>
            <a:ext cx="341280" cy="298440"/>
            <a:chOff x="3355920" y="1633680"/>
            <a:chExt cx="341280" cy="298440"/>
          </a:xfrm>
        </p:grpSpPr>
        <p:sp>
          <p:nvSpPr>
            <p:cNvPr id="309" name=""/>
            <p:cNvSpPr/>
            <p:nvPr/>
          </p:nvSpPr>
          <p:spPr>
            <a:xfrm>
              <a:off x="3404880" y="1779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400200" y="1779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3404880" y="1784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55920" y="1633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195720" y="2004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185640" y="19908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1160" y="165564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525760" y="1633680"/>
            <a:ext cx="341280" cy="298440"/>
            <a:chOff x="2525760" y="1633680"/>
            <a:chExt cx="341280" cy="298440"/>
          </a:xfrm>
        </p:grpSpPr>
        <p:sp>
          <p:nvSpPr>
            <p:cNvPr id="317" name=""/>
            <p:cNvSpPr/>
            <p:nvPr/>
          </p:nvSpPr>
          <p:spPr>
            <a:xfrm>
              <a:off x="2574720" y="177984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570040" y="177984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574720" y="178452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25760" y="163368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365200" y="195732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355480" y="19908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89600" y="165564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893920" y="199080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07240" y="195408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Brave C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173320" y="3512880"/>
            <a:ext cx="0" cy="131292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246320" y="3510000"/>
            <a:ext cx="94608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59000" y="3098880"/>
            <a:ext cx="68076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533600" y="3076560"/>
            <a:ext cx="341280" cy="298440"/>
            <a:chOff x="1533600" y="3076560"/>
            <a:chExt cx="341280" cy="298440"/>
          </a:xfrm>
        </p:grpSpPr>
        <p:sp>
          <p:nvSpPr>
            <p:cNvPr id="330" name=""/>
            <p:cNvSpPr/>
            <p:nvPr/>
          </p:nvSpPr>
          <p:spPr>
            <a:xfrm>
              <a:off x="1582560" y="322272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577880" y="322272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582560" y="322740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33600" y="307656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373040" y="340056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363680" y="343368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0600" y="6364440"/>
            <a:ext cx="0" cy="22176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242720" y="6389640"/>
            <a:ext cx="96660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6280" y="5978520"/>
            <a:ext cx="681120" cy="795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550880" y="5956200"/>
            <a:ext cx="341280" cy="298440"/>
            <a:chOff x="1550880" y="5956200"/>
            <a:chExt cx="341280" cy="298440"/>
          </a:xfrm>
        </p:grpSpPr>
        <p:sp>
          <p:nvSpPr>
            <p:cNvPr id="340" name=""/>
            <p:cNvSpPr/>
            <p:nvPr/>
          </p:nvSpPr>
          <p:spPr>
            <a:xfrm>
              <a:off x="1599840" y="6102360"/>
              <a:ext cx="24768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595160" y="610236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1599840" y="6107040"/>
              <a:ext cx="2383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50880" y="595620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90680" y="628020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380600" y="631332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62440" y="725472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76840" y="760428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867120" y="7232760"/>
            <a:ext cx="668160" cy="357120"/>
            <a:chOff x="3867120" y="7232760"/>
            <a:chExt cx="668160" cy="357120"/>
          </a:xfrm>
        </p:grpSpPr>
        <p:sp>
          <p:nvSpPr>
            <p:cNvPr id="349" name=""/>
            <p:cNvSpPr/>
            <p:nvPr/>
          </p:nvSpPr>
          <p:spPr>
            <a:xfrm>
              <a:off x="4086000" y="7378560"/>
              <a:ext cx="2476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081320" y="7378560"/>
              <a:ext cx="2476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37040" y="723276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867120" y="7589880"/>
              <a:ext cx="66816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543560" y="7254720"/>
            <a:ext cx="68076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718160" y="7232760"/>
            <a:ext cx="341280" cy="298440"/>
            <a:chOff x="4718160" y="7232760"/>
            <a:chExt cx="341280" cy="298440"/>
          </a:xfrm>
        </p:grpSpPr>
        <p:sp>
          <p:nvSpPr>
            <p:cNvPr id="355" name=""/>
            <p:cNvSpPr/>
            <p:nvPr/>
          </p:nvSpPr>
          <p:spPr>
            <a:xfrm>
              <a:off x="4767120" y="7378560"/>
              <a:ext cx="24732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762080" y="7378560"/>
              <a:ext cx="247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18160" y="723276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4557600" y="760428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548240" y="758988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24320" y="725472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398920" y="7232760"/>
            <a:ext cx="341280" cy="298440"/>
            <a:chOff x="5398920" y="7232760"/>
            <a:chExt cx="341280" cy="298440"/>
          </a:xfrm>
        </p:grpSpPr>
        <p:sp>
          <p:nvSpPr>
            <p:cNvPr id="362" name=""/>
            <p:cNvSpPr/>
            <p:nvPr/>
          </p:nvSpPr>
          <p:spPr>
            <a:xfrm>
              <a:off x="5448240" y="7378560"/>
              <a:ext cx="2476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443560" y="7378560"/>
              <a:ext cx="2476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98920" y="723276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238720" y="760428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229360" y="7589880"/>
            <a:ext cx="66816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81320" y="725472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95720" y="760428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8/6/4 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185640" y="7232760"/>
            <a:ext cx="668520" cy="357120"/>
            <a:chOff x="3185640" y="7232760"/>
            <a:chExt cx="668520" cy="357120"/>
          </a:xfrm>
        </p:grpSpPr>
        <p:sp>
          <p:nvSpPr>
            <p:cNvPr id="370" name=""/>
            <p:cNvSpPr/>
            <p:nvPr/>
          </p:nvSpPr>
          <p:spPr>
            <a:xfrm>
              <a:off x="3405240" y="7378560"/>
              <a:ext cx="24732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400200" y="7378560"/>
              <a:ext cx="2476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55920" y="723276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 I 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185640" y="7589880"/>
              <a:ext cx="66852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889600" y="725472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893920" y="758988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07240" y="755316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Brave C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171520" y="7666200"/>
            <a:ext cx="99684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51160" y="725472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65200" y="7556400"/>
            <a:ext cx="6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Leader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Ra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355840" y="7232760"/>
            <a:ext cx="668160" cy="357120"/>
            <a:chOff x="2355840" y="7232760"/>
            <a:chExt cx="668160" cy="357120"/>
          </a:xfrm>
        </p:grpSpPr>
        <p:sp>
          <p:nvSpPr>
            <p:cNvPr id="381" name=""/>
            <p:cNvSpPr/>
            <p:nvPr/>
          </p:nvSpPr>
          <p:spPr>
            <a:xfrm>
              <a:off x="2574720" y="7378560"/>
              <a:ext cx="2476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570040" y="7378560"/>
              <a:ext cx="2476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25760" y="7232760"/>
              <a:ext cx="3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55840" y="7589880"/>
              <a:ext cx="66816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178080" y="812628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92480" y="8475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L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182400" y="846144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4520" y="812628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68560" y="8475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L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37080" y="8126280"/>
            <a:ext cx="681120" cy="79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51480" y="8475840"/>
            <a:ext cx="650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(Leader)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Unit</a:t>
            </a:r>
            <a:br>
              <a:rPr sz="700"/>
            </a:br>
            <a:r>
              <a:rPr b="1" lang="en-US" sz="700" spc="-1" strike="noStrike">
                <a:solidFill>
                  <a:srgbClr val="ffffff"/>
                </a:solidFill>
                <a:latin typeface="Arial Narrow"/>
              </a:rPr>
              <a:t>Vet L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541400" y="8461440"/>
            <a:ext cx="66852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180880" y="8551800"/>
            <a:ext cx="99684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352680" y="8053560"/>
            <a:ext cx="341280" cy="349200"/>
            <a:chOff x="3352680" y="8053560"/>
            <a:chExt cx="341280" cy="349200"/>
          </a:xfrm>
        </p:grpSpPr>
        <p:grpSp>
          <p:nvGrpSpPr>
            <p:cNvPr id="395" name=""/>
            <p:cNvGrpSpPr/>
            <p:nvPr/>
          </p:nvGrpSpPr>
          <p:grpSpPr>
            <a:xfrm>
              <a:off x="3352680" y="8053560"/>
              <a:ext cx="341280" cy="349200"/>
              <a:chOff x="3352680" y="8053560"/>
              <a:chExt cx="341280" cy="349200"/>
            </a:xfrm>
          </p:grpSpPr>
          <p:sp>
            <p:nvSpPr>
              <p:cNvPr id="396" name=""/>
              <p:cNvSpPr/>
              <p:nvPr/>
            </p:nvSpPr>
            <p:spPr>
              <a:xfrm>
                <a:off x="3402000" y="8250480"/>
                <a:ext cx="24768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52680" y="8053560"/>
                <a:ext cx="341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Bookman Old Style"/>
                  </a:rPr>
                  <a:t>.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98840" y="8298000"/>
                <a:ext cx="540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H="1">
              <a:off x="3405240" y="8250120"/>
              <a:ext cx="2476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858840" y="8053560"/>
            <a:ext cx="668520" cy="407880"/>
            <a:chOff x="3858840" y="8053560"/>
            <a:chExt cx="668520" cy="407880"/>
          </a:xfrm>
        </p:grpSpPr>
        <p:sp>
          <p:nvSpPr>
            <p:cNvPr id="401" name=""/>
            <p:cNvSpPr/>
            <p:nvPr/>
          </p:nvSpPr>
          <p:spPr>
            <a:xfrm flipH="1">
              <a:off x="3858840" y="8461440"/>
              <a:ext cx="66852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033800" y="8053560"/>
              <a:ext cx="341280" cy="349200"/>
              <a:chOff x="4033800" y="8053560"/>
              <a:chExt cx="341280" cy="349200"/>
            </a:xfrm>
          </p:grpSpPr>
          <p:sp>
            <p:nvSpPr>
              <p:cNvPr id="403" name=""/>
              <p:cNvSpPr/>
              <p:nvPr/>
            </p:nvSpPr>
            <p:spPr>
              <a:xfrm>
                <a:off x="4083120" y="8250480"/>
                <a:ext cx="24768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33800" y="8053560"/>
                <a:ext cx="341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Bookman Old Style"/>
                  </a:rPr>
                  <a:t>.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79960" y="8298000"/>
                <a:ext cx="540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flipH="1">
              <a:off x="4076640" y="825516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710240" y="8058240"/>
            <a:ext cx="341280" cy="349200"/>
            <a:chOff x="4710240" y="8058240"/>
            <a:chExt cx="341280" cy="349200"/>
          </a:xfrm>
        </p:grpSpPr>
        <p:grpSp>
          <p:nvGrpSpPr>
            <p:cNvPr id="408" name=""/>
            <p:cNvGrpSpPr/>
            <p:nvPr/>
          </p:nvGrpSpPr>
          <p:grpSpPr>
            <a:xfrm>
              <a:off x="4710240" y="8058240"/>
              <a:ext cx="341280" cy="349200"/>
              <a:chOff x="4710240" y="8058240"/>
              <a:chExt cx="341280" cy="349200"/>
            </a:xfrm>
          </p:grpSpPr>
          <p:sp>
            <p:nvSpPr>
              <p:cNvPr id="409" name=""/>
              <p:cNvSpPr/>
              <p:nvPr/>
            </p:nvSpPr>
            <p:spPr>
              <a:xfrm>
                <a:off x="4759560" y="8255160"/>
                <a:ext cx="24768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10240" y="8058240"/>
                <a:ext cx="341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Bookman Old Style"/>
                  </a:rPr>
                  <a:t>.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56400" y="8302680"/>
                <a:ext cx="540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flipH="1">
              <a:off x="4757760" y="8255160"/>
              <a:ext cx="2476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8:45:56Z</dcterms:created>
  <dc:creator>Richard Hasenauer </dc:creator>
  <dc:description/>
  <dc:language>en-US</dc:language>
  <cp:lastModifiedBy>Richard Hasenauer </cp:lastModifiedBy>
  <dcterms:modified xsi:type="dcterms:W3CDTF">2010-08-14T09:51:49Z</dcterms:modified>
  <cp:revision>3</cp:revision>
  <dc:subject/>
  <dc:title>Slide 1</dc:title>
</cp:coreProperties>
</file>