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830-1983-4963-83FF-30C3E1563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EED-8A56-4F09-8644-305C55A9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1BAE-7C34-423E-8EA3-3184EFEAE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438-9FD7-447C-B81A-3A50FBF0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255B-D8FC-411C-AAF9-2479B2BB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83B5-38DA-40B9-AE5C-4729EBA6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B47F-E207-4795-81A4-4B89A8D2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0C8-2F05-46F9-AAB3-947FDE34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C051-D0F1-4175-8F77-4692C4D8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88F7-422D-4DE5-B273-3576B2BF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EA96-BCDB-493E-B5CA-3814E8CD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B3C5-F83E-4920-A716-142D5D0B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5069-E011-4007-8246-8EDAABEB5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52800" y="48564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48040" y="47160"/>
            <a:ext cx="43243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lustee – Union Order of Battle and lab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212840" y="5338800"/>
            <a:ext cx="533520" cy="515520"/>
            <a:chOff x="1212840" y="5338800"/>
            <a:chExt cx="533520" cy="515520"/>
          </a:xfrm>
        </p:grpSpPr>
        <p:sp>
          <p:nvSpPr>
            <p:cNvPr id="44" name=""/>
            <p:cNvSpPr/>
            <p:nvPr/>
          </p:nvSpPr>
          <p:spPr>
            <a:xfrm>
              <a:off x="1436400" y="533880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1212840" y="5470200"/>
              <a:ext cx="533520" cy="384120"/>
              <a:chOff x="1212840" y="5470200"/>
              <a:chExt cx="533520" cy="384120"/>
            </a:xfrm>
          </p:grpSpPr>
          <p:sp>
            <p:nvSpPr>
              <p:cNvPr id="46" name=""/>
              <p:cNvSpPr/>
              <p:nvPr/>
            </p:nvSpPr>
            <p:spPr>
              <a:xfrm>
                <a:off x="1212840" y="5470560"/>
                <a:ext cx="53352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1212840" y="5470200"/>
                <a:ext cx="530280" cy="384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" name=""/>
          <p:cNvGrpSpPr/>
          <p:nvPr/>
        </p:nvGrpSpPr>
        <p:grpSpPr>
          <a:xfrm>
            <a:off x="2101680" y="5727600"/>
            <a:ext cx="533520" cy="478800"/>
            <a:chOff x="2101680" y="5727600"/>
            <a:chExt cx="533520" cy="478800"/>
          </a:xfrm>
        </p:grpSpPr>
        <p:grpSp>
          <p:nvGrpSpPr>
            <p:cNvPr id="49" name=""/>
            <p:cNvGrpSpPr/>
            <p:nvPr/>
          </p:nvGrpSpPr>
          <p:grpSpPr>
            <a:xfrm>
              <a:off x="2101680" y="5822280"/>
              <a:ext cx="533520" cy="384120"/>
              <a:chOff x="2101680" y="5822280"/>
              <a:chExt cx="533520" cy="384120"/>
            </a:xfrm>
          </p:grpSpPr>
          <p:sp>
            <p:nvSpPr>
              <p:cNvPr id="50" name=""/>
              <p:cNvSpPr/>
              <p:nvPr/>
            </p:nvSpPr>
            <p:spPr>
              <a:xfrm>
                <a:off x="2101680" y="5822640"/>
                <a:ext cx="53352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2101680" y="5822280"/>
                <a:ext cx="530280" cy="384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2292120" y="5727600"/>
              <a:ext cx="152280" cy="91800"/>
              <a:chOff x="2292120" y="5727600"/>
              <a:chExt cx="152280" cy="91800"/>
            </a:xfrm>
          </p:grpSpPr>
          <p:sp>
            <p:nvSpPr>
              <p:cNvPr id="53" name=""/>
              <p:cNvSpPr/>
              <p:nvPr/>
            </p:nvSpPr>
            <p:spPr>
              <a:xfrm>
                <a:off x="2444400" y="572760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292120" y="572760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368440" y="572760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" name=""/>
          <p:cNvGrpSpPr/>
          <p:nvPr/>
        </p:nvGrpSpPr>
        <p:grpSpPr>
          <a:xfrm>
            <a:off x="2901960" y="5711760"/>
            <a:ext cx="533160" cy="479160"/>
            <a:chOff x="2901960" y="5711760"/>
            <a:chExt cx="533160" cy="479160"/>
          </a:xfrm>
        </p:grpSpPr>
        <p:grpSp>
          <p:nvGrpSpPr>
            <p:cNvPr id="57" name=""/>
            <p:cNvGrpSpPr/>
            <p:nvPr/>
          </p:nvGrpSpPr>
          <p:grpSpPr>
            <a:xfrm>
              <a:off x="3130560" y="5711760"/>
              <a:ext cx="75960" cy="91800"/>
              <a:chOff x="3130560" y="5711760"/>
              <a:chExt cx="75960" cy="91800"/>
            </a:xfrm>
          </p:grpSpPr>
          <p:sp>
            <p:nvSpPr>
              <p:cNvPr id="58" name=""/>
              <p:cNvSpPr/>
              <p:nvPr/>
            </p:nvSpPr>
            <p:spPr>
              <a:xfrm>
                <a:off x="3130560" y="571176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06520" y="571176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2901960" y="5806800"/>
              <a:ext cx="533160" cy="384120"/>
              <a:chOff x="2901960" y="5806800"/>
              <a:chExt cx="533160" cy="384120"/>
            </a:xfrm>
          </p:grpSpPr>
          <p:sp>
            <p:nvSpPr>
              <p:cNvPr id="61" name=""/>
              <p:cNvSpPr/>
              <p:nvPr/>
            </p:nvSpPr>
            <p:spPr>
              <a:xfrm>
                <a:off x="2901960" y="5807160"/>
                <a:ext cx="53316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2901960" y="5806800"/>
                <a:ext cx="529920" cy="38412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4241880" y="5737320"/>
            <a:ext cx="533160" cy="473040"/>
            <a:chOff x="4241880" y="5737320"/>
            <a:chExt cx="533160" cy="473040"/>
          </a:xfrm>
        </p:grpSpPr>
        <p:grpSp>
          <p:nvGrpSpPr>
            <p:cNvPr id="64" name=""/>
            <p:cNvGrpSpPr/>
            <p:nvPr/>
          </p:nvGrpSpPr>
          <p:grpSpPr>
            <a:xfrm>
              <a:off x="4241880" y="5829480"/>
              <a:ext cx="533160" cy="380880"/>
              <a:chOff x="4241880" y="5829480"/>
              <a:chExt cx="533160" cy="380880"/>
            </a:xfrm>
          </p:grpSpPr>
          <p:sp>
            <p:nvSpPr>
              <p:cNvPr id="65" name=""/>
              <p:cNvSpPr/>
              <p:nvPr/>
            </p:nvSpPr>
            <p:spPr>
              <a:xfrm>
                <a:off x="4241880" y="5829480"/>
                <a:ext cx="533160" cy="380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462560" y="5973840"/>
                <a:ext cx="91800" cy="92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4508280" y="5737320"/>
              <a:ext cx="0" cy="9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7520" y="90360"/>
            <a:ext cx="900000" cy="1714320"/>
            <a:chOff x="47520" y="90360"/>
            <a:chExt cx="900000" cy="1714320"/>
          </a:xfrm>
        </p:grpSpPr>
        <p:grpSp>
          <p:nvGrpSpPr>
            <p:cNvPr id="69" name=""/>
            <p:cNvGrpSpPr/>
            <p:nvPr/>
          </p:nvGrpSpPr>
          <p:grpSpPr>
            <a:xfrm>
              <a:off x="179280" y="90360"/>
              <a:ext cx="637920" cy="512280"/>
              <a:chOff x="179280" y="90360"/>
              <a:chExt cx="637920" cy="51228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412200" y="90360"/>
                <a:ext cx="170280" cy="152640"/>
                <a:chOff x="412200" y="90360"/>
                <a:chExt cx="170280" cy="1526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412200" y="90360"/>
                  <a:ext cx="84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97880" y="90360"/>
                  <a:ext cx="8460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179280" y="221760"/>
                <a:ext cx="637920" cy="380880"/>
                <a:chOff x="179280" y="221760"/>
                <a:chExt cx="637920" cy="3808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226800" y="221760"/>
                  <a:ext cx="533520" cy="3808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79280" y="290160"/>
                  <a:ext cx="6379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istrict of Florid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" name=""/>
            <p:cNvGrpSpPr/>
            <p:nvPr/>
          </p:nvGrpSpPr>
          <p:grpSpPr>
            <a:xfrm>
              <a:off x="47520" y="803160"/>
              <a:ext cx="900000" cy="1001520"/>
              <a:chOff x="47520" y="803160"/>
              <a:chExt cx="900000" cy="1001520"/>
            </a:xfrm>
          </p:grpSpPr>
          <p:sp>
            <p:nvSpPr>
              <p:cNvPr id="77" name=""/>
              <p:cNvSpPr/>
              <p:nvPr/>
            </p:nvSpPr>
            <p:spPr>
              <a:xfrm>
                <a:off x="98280" y="803160"/>
                <a:ext cx="798120" cy="100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98280" y="1420200"/>
                <a:ext cx="798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7520" y="839160"/>
                <a:ext cx="9000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ymour   Ab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" name=""/>
          <p:cNvGrpSpPr/>
          <p:nvPr/>
        </p:nvGrpSpPr>
        <p:grpSpPr>
          <a:xfrm>
            <a:off x="1042920" y="165240"/>
            <a:ext cx="798480" cy="1617480"/>
            <a:chOff x="1042920" y="165240"/>
            <a:chExt cx="798480" cy="1617480"/>
          </a:xfrm>
        </p:grpSpPr>
        <p:grpSp>
          <p:nvGrpSpPr>
            <p:cNvPr id="81" name=""/>
            <p:cNvGrpSpPr/>
            <p:nvPr/>
          </p:nvGrpSpPr>
          <p:grpSpPr>
            <a:xfrm>
              <a:off x="1176120" y="165240"/>
              <a:ext cx="533160" cy="515520"/>
              <a:chOff x="1176120" y="165240"/>
              <a:chExt cx="533160" cy="51552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1176120" y="296640"/>
                <a:ext cx="533160" cy="384120"/>
                <a:chOff x="1176120" y="296640"/>
                <a:chExt cx="533160" cy="3841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1176120" y="297000"/>
                  <a:ext cx="533160" cy="3812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V="1">
                  <a:off x="1176120" y="296640"/>
                  <a:ext cx="529920" cy="3841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176120" y="297000"/>
                  <a:ext cx="533160" cy="38124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1401120" y="16524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042920" y="781200"/>
              <a:ext cx="798480" cy="1001520"/>
              <a:chOff x="1042920" y="781200"/>
              <a:chExt cx="798480" cy="1001520"/>
            </a:xfrm>
          </p:grpSpPr>
          <p:sp>
            <p:nvSpPr>
              <p:cNvPr id="88" name=""/>
              <p:cNvSpPr/>
              <p:nvPr/>
            </p:nvSpPr>
            <p:spPr>
              <a:xfrm>
                <a:off x="1042920" y="781200"/>
                <a:ext cx="798480" cy="100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042920" y="1042920"/>
                <a:ext cx="798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42920" y="1398600"/>
                <a:ext cx="798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116000" y="839520"/>
                <a:ext cx="652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ymou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87200" y="1071360"/>
                <a:ext cx="711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arton Ab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2117880" y="533520"/>
            <a:ext cx="533160" cy="478800"/>
            <a:chOff x="2117880" y="533520"/>
            <a:chExt cx="533160" cy="478800"/>
          </a:xfrm>
        </p:grpSpPr>
        <p:grpSp>
          <p:nvGrpSpPr>
            <p:cNvPr id="94" name=""/>
            <p:cNvGrpSpPr/>
            <p:nvPr/>
          </p:nvGrpSpPr>
          <p:grpSpPr>
            <a:xfrm>
              <a:off x="2307960" y="533520"/>
              <a:ext cx="151920" cy="91800"/>
              <a:chOff x="2307960" y="533520"/>
              <a:chExt cx="151920" cy="91800"/>
            </a:xfrm>
          </p:grpSpPr>
          <p:sp>
            <p:nvSpPr>
              <p:cNvPr id="95" name=""/>
              <p:cNvSpPr/>
              <p:nvPr/>
            </p:nvSpPr>
            <p:spPr>
              <a:xfrm>
                <a:off x="245988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30796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38392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117880" y="628560"/>
              <a:ext cx="533160" cy="383760"/>
              <a:chOff x="2117880" y="628560"/>
              <a:chExt cx="533160" cy="383760"/>
            </a:xfrm>
          </p:grpSpPr>
          <p:sp>
            <p:nvSpPr>
              <p:cNvPr id="99" name=""/>
              <p:cNvSpPr/>
              <p:nvPr/>
            </p:nvSpPr>
            <p:spPr>
              <a:xfrm>
                <a:off x="2117880" y="628560"/>
                <a:ext cx="533160" cy="380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2117880" y="628560"/>
                <a:ext cx="529920" cy="383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117880" y="628560"/>
                <a:ext cx="533160" cy="3808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1981080" y="1079640"/>
            <a:ext cx="806400" cy="1001520"/>
            <a:chOff x="1981080" y="1079640"/>
            <a:chExt cx="806400" cy="1001520"/>
          </a:xfrm>
        </p:grpSpPr>
        <p:sp>
          <p:nvSpPr>
            <p:cNvPr id="103" name=""/>
            <p:cNvSpPr/>
            <p:nvPr/>
          </p:nvSpPr>
          <p:spPr>
            <a:xfrm>
              <a:off x="1984320" y="1079640"/>
              <a:ext cx="798480" cy="10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84320" y="134136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84320" y="169668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7400" y="1137960"/>
              <a:ext cx="652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rt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81080" y="1369800"/>
              <a:ext cx="806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7NY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rn 14/9/6 R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917800" y="533520"/>
            <a:ext cx="533520" cy="478800"/>
            <a:chOff x="2917800" y="533520"/>
            <a:chExt cx="533520" cy="478800"/>
          </a:xfrm>
        </p:grpSpPr>
        <p:grpSp>
          <p:nvGrpSpPr>
            <p:cNvPr id="109" name=""/>
            <p:cNvGrpSpPr/>
            <p:nvPr/>
          </p:nvGrpSpPr>
          <p:grpSpPr>
            <a:xfrm>
              <a:off x="3108240" y="533520"/>
              <a:ext cx="152280" cy="91800"/>
              <a:chOff x="3108240" y="533520"/>
              <a:chExt cx="152280" cy="91800"/>
            </a:xfrm>
          </p:grpSpPr>
          <p:sp>
            <p:nvSpPr>
              <p:cNvPr id="110" name=""/>
              <p:cNvSpPr/>
              <p:nvPr/>
            </p:nvSpPr>
            <p:spPr>
              <a:xfrm>
                <a:off x="326052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10824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18456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917800" y="628560"/>
              <a:ext cx="533520" cy="383760"/>
              <a:chOff x="2917800" y="628560"/>
              <a:chExt cx="533520" cy="383760"/>
            </a:xfrm>
          </p:grpSpPr>
          <p:sp>
            <p:nvSpPr>
              <p:cNvPr id="114" name=""/>
              <p:cNvSpPr/>
              <p:nvPr/>
            </p:nvSpPr>
            <p:spPr>
              <a:xfrm>
                <a:off x="2917800" y="62856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2917800" y="628560"/>
                <a:ext cx="530280" cy="383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917800" y="628560"/>
                <a:ext cx="533520" cy="3808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781360" y="1079640"/>
            <a:ext cx="806400" cy="1001520"/>
            <a:chOff x="2781360" y="1079640"/>
            <a:chExt cx="806400" cy="1001520"/>
          </a:xfrm>
        </p:grpSpPr>
        <p:sp>
          <p:nvSpPr>
            <p:cNvPr id="118" name=""/>
            <p:cNvSpPr/>
            <p:nvPr/>
          </p:nvSpPr>
          <p:spPr>
            <a:xfrm>
              <a:off x="2784600" y="1079640"/>
              <a:ext cx="798480" cy="10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84600" y="134136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84600" y="169668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57680" y="1137960"/>
              <a:ext cx="652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rt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81360" y="1369800"/>
              <a:ext cx="806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8NY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et 10/7/4 R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718080" y="533520"/>
            <a:ext cx="533160" cy="478800"/>
            <a:chOff x="3718080" y="533520"/>
            <a:chExt cx="533160" cy="478800"/>
          </a:xfrm>
        </p:grpSpPr>
        <p:grpSp>
          <p:nvGrpSpPr>
            <p:cNvPr id="124" name=""/>
            <p:cNvGrpSpPr/>
            <p:nvPr/>
          </p:nvGrpSpPr>
          <p:grpSpPr>
            <a:xfrm>
              <a:off x="3908160" y="533520"/>
              <a:ext cx="151920" cy="91800"/>
              <a:chOff x="3908160" y="533520"/>
              <a:chExt cx="151920" cy="91800"/>
            </a:xfrm>
          </p:grpSpPr>
          <p:sp>
            <p:nvSpPr>
              <p:cNvPr id="125" name=""/>
              <p:cNvSpPr/>
              <p:nvPr/>
            </p:nvSpPr>
            <p:spPr>
              <a:xfrm>
                <a:off x="406008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90816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8412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718080" y="628560"/>
              <a:ext cx="533160" cy="383760"/>
              <a:chOff x="3718080" y="628560"/>
              <a:chExt cx="533160" cy="383760"/>
            </a:xfrm>
          </p:grpSpPr>
          <p:sp>
            <p:nvSpPr>
              <p:cNvPr id="129" name=""/>
              <p:cNvSpPr/>
              <p:nvPr/>
            </p:nvSpPr>
            <p:spPr>
              <a:xfrm>
                <a:off x="3718080" y="628560"/>
                <a:ext cx="533160" cy="380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3718080" y="628560"/>
                <a:ext cx="529920" cy="38376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18080" y="628560"/>
                <a:ext cx="533160" cy="3808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" name=""/>
          <p:cNvGrpSpPr/>
          <p:nvPr/>
        </p:nvGrpSpPr>
        <p:grpSpPr>
          <a:xfrm>
            <a:off x="3581280" y="1079640"/>
            <a:ext cx="806400" cy="1001520"/>
            <a:chOff x="3581280" y="1079640"/>
            <a:chExt cx="806400" cy="1001520"/>
          </a:xfrm>
        </p:grpSpPr>
        <p:sp>
          <p:nvSpPr>
            <p:cNvPr id="133" name=""/>
            <p:cNvSpPr/>
            <p:nvPr/>
          </p:nvSpPr>
          <p:spPr>
            <a:xfrm>
              <a:off x="3584520" y="1079640"/>
              <a:ext cx="798480" cy="10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84520" y="134136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84520" y="169668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1137960"/>
              <a:ext cx="652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rt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1280" y="1369800"/>
              <a:ext cx="806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15NY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rn 14/9/6 R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981080" y="2209680"/>
            <a:ext cx="3206880" cy="1623960"/>
            <a:chOff x="1981080" y="2209680"/>
            <a:chExt cx="3206880" cy="1623960"/>
          </a:xfrm>
        </p:grpSpPr>
        <p:grpSp>
          <p:nvGrpSpPr>
            <p:cNvPr id="139" name=""/>
            <p:cNvGrpSpPr/>
            <p:nvPr/>
          </p:nvGrpSpPr>
          <p:grpSpPr>
            <a:xfrm>
              <a:off x="1981080" y="2209680"/>
              <a:ext cx="806400" cy="1623960"/>
              <a:chOff x="1981080" y="2209680"/>
              <a:chExt cx="806400" cy="162396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2117520" y="2209680"/>
                <a:ext cx="533520" cy="479160"/>
                <a:chOff x="2117520" y="2209680"/>
                <a:chExt cx="533520" cy="479160"/>
              </a:xfrm>
            </p:grpSpPr>
            <p:grpSp>
              <p:nvGrpSpPr>
                <p:cNvPr id="141" name=""/>
                <p:cNvGrpSpPr/>
                <p:nvPr/>
              </p:nvGrpSpPr>
              <p:grpSpPr>
                <a:xfrm>
                  <a:off x="2307960" y="2209680"/>
                  <a:ext cx="152280" cy="92160"/>
                  <a:chOff x="2307960" y="2209680"/>
                  <a:chExt cx="152280" cy="9216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2460240" y="2209680"/>
                    <a:ext cx="0" cy="9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2307960" y="2209680"/>
                    <a:ext cx="0" cy="9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2384280" y="2209680"/>
                    <a:ext cx="0" cy="9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2117520" y="2304720"/>
                  <a:ext cx="533520" cy="384120"/>
                  <a:chOff x="2117520" y="2304720"/>
                  <a:chExt cx="533520" cy="38412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2117520" y="2305080"/>
                    <a:ext cx="533520" cy="38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V="1">
                    <a:off x="2117520" y="2304720"/>
                    <a:ext cx="530280" cy="38412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2117520" y="2305080"/>
                    <a:ext cx="533520" cy="38124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9" name=""/>
              <p:cNvGrpSpPr/>
              <p:nvPr/>
            </p:nvGrpSpPr>
            <p:grpSpPr>
              <a:xfrm>
                <a:off x="1981080" y="2832120"/>
                <a:ext cx="806400" cy="1001520"/>
                <a:chOff x="1981080" y="2832120"/>
                <a:chExt cx="806400" cy="10015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984320" y="2832120"/>
                  <a:ext cx="798480" cy="1001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84320" y="3093840"/>
                  <a:ext cx="7984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84320" y="3449160"/>
                  <a:ext cx="7984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057400" y="2890440"/>
                  <a:ext cx="6523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awle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981080" y="3122280"/>
                  <a:ext cx="8064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7CN          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n 9/6/4 RP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5" name=""/>
            <p:cNvGrpSpPr/>
            <p:nvPr/>
          </p:nvGrpSpPr>
          <p:grpSpPr>
            <a:xfrm>
              <a:off x="2781360" y="2209680"/>
              <a:ext cx="806400" cy="1623960"/>
              <a:chOff x="2781360" y="2209680"/>
              <a:chExt cx="806400" cy="162396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2917800" y="2209680"/>
                <a:ext cx="533160" cy="498240"/>
                <a:chOff x="2917800" y="2209680"/>
                <a:chExt cx="533160" cy="498240"/>
              </a:xfrm>
            </p:grpSpPr>
            <p:grpSp>
              <p:nvGrpSpPr>
                <p:cNvPr id="157" name=""/>
                <p:cNvGrpSpPr/>
                <p:nvPr/>
              </p:nvGrpSpPr>
              <p:grpSpPr>
                <a:xfrm>
                  <a:off x="3089160" y="2209680"/>
                  <a:ext cx="361800" cy="122040"/>
                  <a:chOff x="3089160" y="2209680"/>
                  <a:chExt cx="361800" cy="122040"/>
                </a:xfrm>
              </p:grpSpPr>
              <p:grpSp>
                <p:nvGrpSpPr>
                  <p:cNvPr id="158" name=""/>
                  <p:cNvGrpSpPr/>
                  <p:nvPr/>
                </p:nvGrpSpPr>
                <p:grpSpPr>
                  <a:xfrm>
                    <a:off x="3089160" y="2225520"/>
                    <a:ext cx="152280" cy="92160"/>
                    <a:chOff x="3089160" y="2225520"/>
                    <a:chExt cx="152280" cy="92160"/>
                  </a:xfrm>
                </p:grpSpPr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41440" y="2225520"/>
                      <a:ext cx="0" cy="921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3089160" y="2225520"/>
                      <a:ext cx="0" cy="921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3165480" y="2225520"/>
                      <a:ext cx="0" cy="921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2" name=""/>
                  <p:cNvSpPr/>
                  <p:nvPr/>
                </p:nvSpPr>
                <p:spPr>
                  <a:xfrm>
                    <a:off x="3308040" y="2209680"/>
                    <a:ext cx="14292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-)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2917800" y="2323800"/>
                  <a:ext cx="533160" cy="384120"/>
                  <a:chOff x="2917800" y="2323800"/>
                  <a:chExt cx="533160" cy="3841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2917800" y="2324160"/>
                    <a:ext cx="533160" cy="38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V="1">
                    <a:off x="2917800" y="2323800"/>
                    <a:ext cx="529920" cy="38412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2917800" y="2324160"/>
                    <a:ext cx="533160" cy="38124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7" name=""/>
              <p:cNvGrpSpPr/>
              <p:nvPr/>
            </p:nvGrpSpPr>
            <p:grpSpPr>
              <a:xfrm>
                <a:off x="2781360" y="2832120"/>
                <a:ext cx="806400" cy="1001520"/>
                <a:chOff x="2781360" y="2832120"/>
                <a:chExt cx="806400" cy="10015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2784600" y="2832120"/>
                  <a:ext cx="798480" cy="1001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784600" y="3093840"/>
                  <a:ext cx="7984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784600" y="3449160"/>
                  <a:ext cx="7984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857680" y="2890440"/>
                  <a:ext cx="6523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awle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781360" y="3122280"/>
                  <a:ext cx="8064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7NH          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n 9/6/4 RP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4381560" y="2209680"/>
              <a:ext cx="806400" cy="1623960"/>
              <a:chOff x="4381560" y="2209680"/>
              <a:chExt cx="806400" cy="162396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4518000" y="2209680"/>
                <a:ext cx="533520" cy="479160"/>
                <a:chOff x="4518000" y="2209680"/>
                <a:chExt cx="533520" cy="479160"/>
              </a:xfrm>
            </p:grpSpPr>
            <p:grpSp>
              <p:nvGrpSpPr>
                <p:cNvPr id="175" name=""/>
                <p:cNvGrpSpPr/>
                <p:nvPr/>
              </p:nvGrpSpPr>
              <p:grpSpPr>
                <a:xfrm>
                  <a:off x="4708440" y="2209680"/>
                  <a:ext cx="152280" cy="92160"/>
                  <a:chOff x="4708440" y="2209680"/>
                  <a:chExt cx="152280" cy="9216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4860720" y="2209680"/>
                    <a:ext cx="0" cy="9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4708440" y="2209680"/>
                    <a:ext cx="0" cy="9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784760" y="2209680"/>
                    <a:ext cx="0" cy="9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9" name=""/>
                <p:cNvGrpSpPr/>
                <p:nvPr/>
              </p:nvGrpSpPr>
              <p:grpSpPr>
                <a:xfrm>
                  <a:off x="4518000" y="2304720"/>
                  <a:ext cx="533520" cy="384120"/>
                  <a:chOff x="4518000" y="2304720"/>
                  <a:chExt cx="533520" cy="384120"/>
                </a:xfrm>
              </p:grpSpPr>
              <p:sp>
                <p:nvSpPr>
                  <p:cNvPr id="180" name=""/>
                  <p:cNvSpPr/>
                  <p:nvPr/>
                </p:nvSpPr>
                <p:spPr>
                  <a:xfrm>
                    <a:off x="4518000" y="2305080"/>
                    <a:ext cx="533520" cy="38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flipV="1">
                    <a:off x="4518000" y="2304720"/>
                    <a:ext cx="530280" cy="38412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4518000" y="2305080"/>
                    <a:ext cx="533520" cy="38124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381560" y="2832120"/>
                <a:ext cx="806400" cy="1001520"/>
                <a:chOff x="4381560" y="2832120"/>
                <a:chExt cx="806400" cy="10015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384800" y="2832120"/>
                  <a:ext cx="798480" cy="1001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384800" y="3093840"/>
                  <a:ext cx="7984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384800" y="3449160"/>
                  <a:ext cx="7984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457880" y="2890440"/>
                  <a:ext cx="6523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awle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381560" y="3122280"/>
                  <a:ext cx="806400" cy="4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8 US Col (E)         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Raw 14/9/6 RM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3581280" y="2209680"/>
              <a:ext cx="806400" cy="1623960"/>
              <a:chOff x="3581280" y="2209680"/>
              <a:chExt cx="806400" cy="162396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3717720" y="2209680"/>
                <a:ext cx="533160" cy="498240"/>
                <a:chOff x="3717720" y="2209680"/>
                <a:chExt cx="533160" cy="49824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3889080" y="2209680"/>
                  <a:ext cx="361800" cy="122040"/>
                  <a:chOff x="3889080" y="2209680"/>
                  <a:chExt cx="361800" cy="122040"/>
                </a:xfrm>
              </p:grpSpPr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3889080" y="2225520"/>
                    <a:ext cx="152280" cy="92160"/>
                    <a:chOff x="3889080" y="2225520"/>
                    <a:chExt cx="152280" cy="921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4041360" y="2225520"/>
                      <a:ext cx="0" cy="921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3889080" y="2225520"/>
                      <a:ext cx="0" cy="921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3965400" y="2225520"/>
                      <a:ext cx="0" cy="921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360" bIns="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6" name=""/>
                  <p:cNvSpPr/>
                  <p:nvPr/>
                </p:nvSpPr>
                <p:spPr>
                  <a:xfrm>
                    <a:off x="4107960" y="2209680"/>
                    <a:ext cx="14292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-)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717720" y="2323800"/>
                  <a:ext cx="533160" cy="384120"/>
                  <a:chOff x="3717720" y="2323800"/>
                  <a:chExt cx="533160" cy="38412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3717720" y="2324160"/>
                    <a:ext cx="533160" cy="38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V="1">
                    <a:off x="3717720" y="2323800"/>
                    <a:ext cx="529920" cy="38412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717720" y="2324160"/>
                    <a:ext cx="533160" cy="38124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1" name=""/>
              <p:cNvGrpSpPr/>
              <p:nvPr/>
            </p:nvGrpSpPr>
            <p:grpSpPr>
              <a:xfrm>
                <a:off x="3581280" y="2832120"/>
                <a:ext cx="806400" cy="1001520"/>
                <a:chOff x="3581280" y="2832120"/>
                <a:chExt cx="806400" cy="10015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584520" y="2832120"/>
                  <a:ext cx="798480" cy="1001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584520" y="3093840"/>
                  <a:ext cx="7984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584520" y="3449160"/>
                  <a:ext cx="7984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657600" y="2890440"/>
                  <a:ext cx="6523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awle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81280" y="3122280"/>
                  <a:ext cx="806400" cy="2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7NH          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rn 9/6/4 RM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7" name=""/>
          <p:cNvGrpSpPr/>
          <p:nvPr/>
        </p:nvGrpSpPr>
        <p:grpSpPr>
          <a:xfrm>
            <a:off x="1062000" y="1841400"/>
            <a:ext cx="798480" cy="1617480"/>
            <a:chOff x="1062000" y="1841400"/>
            <a:chExt cx="798480" cy="1617480"/>
          </a:xfrm>
        </p:grpSpPr>
        <p:grpSp>
          <p:nvGrpSpPr>
            <p:cNvPr id="208" name=""/>
            <p:cNvGrpSpPr/>
            <p:nvPr/>
          </p:nvGrpSpPr>
          <p:grpSpPr>
            <a:xfrm>
              <a:off x="1195200" y="1841400"/>
              <a:ext cx="533160" cy="515520"/>
              <a:chOff x="1195200" y="1841400"/>
              <a:chExt cx="533160" cy="51552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1195200" y="1972800"/>
                <a:ext cx="533160" cy="384120"/>
                <a:chOff x="1195200" y="1972800"/>
                <a:chExt cx="533160" cy="38412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1195200" y="1973160"/>
                  <a:ext cx="533160" cy="3812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1195200" y="1972800"/>
                  <a:ext cx="529920" cy="3841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1195200" y="1973160"/>
                  <a:ext cx="533160" cy="38124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1420200" y="184140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1062000" y="2457360"/>
              <a:ext cx="798480" cy="1001520"/>
              <a:chOff x="1062000" y="2457360"/>
              <a:chExt cx="798480" cy="1001520"/>
            </a:xfrm>
          </p:grpSpPr>
          <p:sp>
            <p:nvSpPr>
              <p:cNvPr id="215" name=""/>
              <p:cNvSpPr/>
              <p:nvPr/>
            </p:nvSpPr>
            <p:spPr>
              <a:xfrm>
                <a:off x="1062000" y="2457360"/>
                <a:ext cx="798480" cy="100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062000" y="2719080"/>
                <a:ext cx="798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062000" y="3074760"/>
                <a:ext cx="798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35080" y="2515680"/>
                <a:ext cx="652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ymou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06280" y="2747520"/>
                <a:ext cx="7113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Hawley Lacklus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" name=""/>
          <p:cNvGrpSpPr/>
          <p:nvPr/>
        </p:nvGrpSpPr>
        <p:grpSpPr>
          <a:xfrm>
            <a:off x="1068480" y="3584520"/>
            <a:ext cx="806400" cy="1617480"/>
            <a:chOff x="1068480" y="3584520"/>
            <a:chExt cx="806400" cy="1617480"/>
          </a:xfrm>
        </p:grpSpPr>
        <p:grpSp>
          <p:nvGrpSpPr>
            <p:cNvPr id="221" name=""/>
            <p:cNvGrpSpPr/>
            <p:nvPr/>
          </p:nvGrpSpPr>
          <p:grpSpPr>
            <a:xfrm>
              <a:off x="1204920" y="3584520"/>
              <a:ext cx="533160" cy="515520"/>
              <a:chOff x="1204920" y="3584520"/>
              <a:chExt cx="533160" cy="5155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1204920" y="3715920"/>
                <a:ext cx="533160" cy="384120"/>
                <a:chOff x="1204920" y="3715920"/>
                <a:chExt cx="533160" cy="3841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1204920" y="3716280"/>
                  <a:ext cx="533160" cy="3812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1204920" y="3715920"/>
                  <a:ext cx="529920" cy="38412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204920" y="3716280"/>
                  <a:ext cx="533160" cy="381240"/>
                </a:xfrm>
                <a:prstGeom prst="line">
                  <a:avLst/>
                </a:prstGeom>
                <a:ln w="2844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1429920" y="358452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068480" y="4200480"/>
              <a:ext cx="806400" cy="1001520"/>
              <a:chOff x="1068480" y="4200480"/>
              <a:chExt cx="806400" cy="1001520"/>
            </a:xfrm>
          </p:grpSpPr>
          <p:sp>
            <p:nvSpPr>
              <p:cNvPr id="228" name=""/>
              <p:cNvSpPr/>
              <p:nvPr/>
            </p:nvSpPr>
            <p:spPr>
              <a:xfrm>
                <a:off x="1071720" y="4200480"/>
                <a:ext cx="798480" cy="100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071720" y="4462200"/>
                <a:ext cx="798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071720" y="4817880"/>
                <a:ext cx="798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44800" y="4259160"/>
                <a:ext cx="652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Seymou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068480" y="4491000"/>
                <a:ext cx="806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ontgomery Ab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1981080" y="3962520"/>
            <a:ext cx="1615320" cy="1623960"/>
            <a:chOff x="1981080" y="3962520"/>
            <a:chExt cx="1615320" cy="1623960"/>
          </a:xfrm>
        </p:grpSpPr>
        <p:grpSp>
          <p:nvGrpSpPr>
            <p:cNvPr id="234" name=""/>
            <p:cNvGrpSpPr/>
            <p:nvPr/>
          </p:nvGrpSpPr>
          <p:grpSpPr>
            <a:xfrm>
              <a:off x="1981080" y="3962520"/>
              <a:ext cx="815400" cy="1623960"/>
              <a:chOff x="1981080" y="3962520"/>
              <a:chExt cx="815400" cy="162396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126880" y="3962520"/>
                <a:ext cx="533160" cy="479160"/>
                <a:chOff x="2126880" y="3962520"/>
                <a:chExt cx="533160" cy="47916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2316960" y="3962520"/>
                  <a:ext cx="151920" cy="92160"/>
                  <a:chOff x="2316960" y="3962520"/>
                  <a:chExt cx="151920" cy="9216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2468880" y="3962520"/>
                    <a:ext cx="0" cy="9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2316960" y="3962520"/>
                    <a:ext cx="0" cy="9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392920" y="3962520"/>
                    <a:ext cx="0" cy="9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2126880" y="4057560"/>
                  <a:ext cx="533160" cy="384120"/>
                  <a:chOff x="2126880" y="4057560"/>
                  <a:chExt cx="533160" cy="38412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2126880" y="4057920"/>
                    <a:ext cx="533160" cy="38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flipV="1">
                    <a:off x="2126880" y="4057560"/>
                    <a:ext cx="529920" cy="38412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2126880" y="4057920"/>
                    <a:ext cx="533160" cy="38124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44" name=""/>
              <p:cNvSpPr/>
              <p:nvPr/>
            </p:nvSpPr>
            <p:spPr>
              <a:xfrm>
                <a:off x="1993680" y="4584960"/>
                <a:ext cx="798120" cy="100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993680" y="4847040"/>
                <a:ext cx="798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993680" y="5202360"/>
                <a:ext cx="798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81080" y="4643640"/>
                <a:ext cx="81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ontgomer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90440" y="4875480"/>
                <a:ext cx="8060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5USCT       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Raw 12/8/5 R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2781000" y="3962520"/>
              <a:ext cx="815400" cy="1623960"/>
              <a:chOff x="2781000" y="3962520"/>
              <a:chExt cx="815400" cy="162396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2926800" y="3962520"/>
                <a:ext cx="533160" cy="479160"/>
                <a:chOff x="2926800" y="3962520"/>
                <a:chExt cx="533160" cy="47916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3116880" y="3962520"/>
                  <a:ext cx="151920" cy="92160"/>
                  <a:chOff x="3116880" y="3962520"/>
                  <a:chExt cx="151920" cy="9216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3268800" y="3962520"/>
                    <a:ext cx="0" cy="9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116880" y="3962520"/>
                    <a:ext cx="0" cy="9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3192840" y="3962520"/>
                    <a:ext cx="0" cy="92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2926800" y="4057560"/>
                  <a:ext cx="533160" cy="384120"/>
                  <a:chOff x="2926800" y="4057560"/>
                  <a:chExt cx="533160" cy="38412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2926800" y="4057920"/>
                    <a:ext cx="533160" cy="38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 flipV="1">
                    <a:off x="2926800" y="4057560"/>
                    <a:ext cx="529920" cy="38412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2926800" y="4057920"/>
                    <a:ext cx="533160" cy="381240"/>
                  </a:xfrm>
                  <a:prstGeom prst="line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59" name=""/>
              <p:cNvSpPr/>
              <p:nvPr/>
            </p:nvSpPr>
            <p:spPr>
              <a:xfrm>
                <a:off x="2793600" y="4584960"/>
                <a:ext cx="798120" cy="100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793600" y="4847040"/>
                <a:ext cx="798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793600" y="5202360"/>
                <a:ext cx="7981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781000" y="4643640"/>
                <a:ext cx="81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Montgomer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90360" y="4875480"/>
                <a:ext cx="80604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54MA       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Vet 12/8/5 R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" name=""/>
          <p:cNvGrpSpPr/>
          <p:nvPr/>
        </p:nvGrpSpPr>
        <p:grpSpPr>
          <a:xfrm>
            <a:off x="1087560" y="5905440"/>
            <a:ext cx="806400" cy="1001520"/>
            <a:chOff x="1087560" y="5905440"/>
            <a:chExt cx="806400" cy="1001520"/>
          </a:xfrm>
        </p:grpSpPr>
        <p:sp>
          <p:nvSpPr>
            <p:cNvPr id="265" name=""/>
            <p:cNvSpPr/>
            <p:nvPr/>
          </p:nvSpPr>
          <p:spPr>
            <a:xfrm>
              <a:off x="1090800" y="5905440"/>
              <a:ext cx="798480" cy="10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90800" y="616716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90800" y="652284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63880" y="5964120"/>
              <a:ext cx="652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ymo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87560" y="6195960"/>
              <a:ext cx="806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nry     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971720" y="6318360"/>
            <a:ext cx="1616040" cy="1001520"/>
            <a:chOff x="1971720" y="6318360"/>
            <a:chExt cx="1616040" cy="1001520"/>
          </a:xfrm>
        </p:grpSpPr>
        <p:sp>
          <p:nvSpPr>
            <p:cNvPr id="271" name=""/>
            <p:cNvSpPr/>
            <p:nvPr/>
          </p:nvSpPr>
          <p:spPr>
            <a:xfrm>
              <a:off x="1984680" y="6318360"/>
              <a:ext cx="798480" cy="10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4680" y="658008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84680" y="693540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71720" y="6376680"/>
              <a:ext cx="814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n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81440" y="6608520"/>
              <a:ext cx="806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MA Mtd Inf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rn 10/7/4 R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84600" y="6318360"/>
              <a:ext cx="798480" cy="10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84600" y="658008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84600" y="693540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72000" y="6376680"/>
              <a:ext cx="814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n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781360" y="6608520"/>
              <a:ext cx="806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d MA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rn 6/4/2 B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705120" y="6308640"/>
            <a:ext cx="1616040" cy="1001880"/>
            <a:chOff x="3705120" y="6308640"/>
            <a:chExt cx="1616040" cy="1001880"/>
          </a:xfrm>
        </p:grpSpPr>
        <p:sp>
          <p:nvSpPr>
            <p:cNvPr id="282" name=""/>
            <p:cNvSpPr/>
            <p:nvPr/>
          </p:nvSpPr>
          <p:spPr>
            <a:xfrm>
              <a:off x="3718080" y="6308640"/>
              <a:ext cx="798480" cy="100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718080" y="657072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18080" y="692604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05120" y="6367320"/>
              <a:ext cx="814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n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14840" y="6599160"/>
              <a:ext cx="806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lder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 USB Vet 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18000" y="6308640"/>
              <a:ext cx="798480" cy="100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518000" y="657072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18000" y="692604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05400" y="6367320"/>
              <a:ext cx="814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n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14760" y="6599160"/>
              <a:ext cx="806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lder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 USB Vet 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81200" y="257040"/>
            <a:ext cx="16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52560" y="237960"/>
            <a:ext cx="0" cy="744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42840" y="476280"/>
            <a:ext cx="23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33400" y="476280"/>
            <a:ext cx="2095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971800" y="48564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48564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52480" y="2162160"/>
            <a:ext cx="282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42840" y="2152800"/>
            <a:ext cx="23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162160" y="217188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62440" y="218124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53000" y="217188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52920" y="217188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52560" y="3895560"/>
            <a:ext cx="23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71560" y="3914640"/>
            <a:ext cx="122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71880" y="391464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71800" y="391464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62200" y="5667480"/>
            <a:ext cx="25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43080" y="567684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1160" y="566748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566748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861080" y="7385040"/>
            <a:ext cx="533160" cy="473040"/>
            <a:chOff x="4861080" y="7385040"/>
            <a:chExt cx="533160" cy="473040"/>
          </a:xfrm>
        </p:grpSpPr>
        <p:grpSp>
          <p:nvGrpSpPr>
            <p:cNvPr id="313" name=""/>
            <p:cNvGrpSpPr/>
            <p:nvPr/>
          </p:nvGrpSpPr>
          <p:grpSpPr>
            <a:xfrm>
              <a:off x="4861080" y="7477200"/>
              <a:ext cx="533160" cy="380880"/>
              <a:chOff x="4861080" y="7477200"/>
              <a:chExt cx="533160" cy="380880"/>
            </a:xfrm>
          </p:grpSpPr>
          <p:sp>
            <p:nvSpPr>
              <p:cNvPr id="314" name=""/>
              <p:cNvSpPr/>
              <p:nvPr/>
            </p:nvSpPr>
            <p:spPr>
              <a:xfrm>
                <a:off x="4861080" y="7477200"/>
                <a:ext cx="533160" cy="380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081760" y="7621560"/>
                <a:ext cx="91800" cy="92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5127480" y="7385040"/>
              <a:ext cx="0" cy="9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324320" y="7908840"/>
            <a:ext cx="1616040" cy="1058760"/>
            <a:chOff x="4324320" y="7908840"/>
            <a:chExt cx="1616040" cy="1058760"/>
          </a:xfrm>
        </p:grpSpPr>
        <p:sp>
          <p:nvSpPr>
            <p:cNvPr id="318" name=""/>
            <p:cNvSpPr/>
            <p:nvPr/>
          </p:nvSpPr>
          <p:spPr>
            <a:xfrm>
              <a:off x="4336920" y="7908840"/>
              <a:ext cx="798480" cy="105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36920" y="817092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36920" y="859320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24320" y="7967520"/>
              <a:ext cx="814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ymo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34040" y="8161200"/>
              <a:ext cx="806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tcalf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 RI SecB    Vet 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37200" y="7908840"/>
              <a:ext cx="798480" cy="105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37200" y="817092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37200" y="858348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24600" y="7967520"/>
              <a:ext cx="814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ymo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33960" y="8161200"/>
              <a:ext cx="806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tcalf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 RI Sec C    Vet 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146400" y="7385040"/>
            <a:ext cx="533160" cy="473040"/>
            <a:chOff x="3146400" y="7385040"/>
            <a:chExt cx="533160" cy="473040"/>
          </a:xfrm>
        </p:grpSpPr>
        <p:grpSp>
          <p:nvGrpSpPr>
            <p:cNvPr id="329" name=""/>
            <p:cNvGrpSpPr/>
            <p:nvPr/>
          </p:nvGrpSpPr>
          <p:grpSpPr>
            <a:xfrm>
              <a:off x="3146400" y="7477200"/>
              <a:ext cx="533160" cy="380880"/>
              <a:chOff x="3146400" y="7477200"/>
              <a:chExt cx="533160" cy="380880"/>
            </a:xfrm>
          </p:grpSpPr>
          <p:sp>
            <p:nvSpPr>
              <p:cNvPr id="330" name=""/>
              <p:cNvSpPr/>
              <p:nvPr/>
            </p:nvSpPr>
            <p:spPr>
              <a:xfrm>
                <a:off x="3146400" y="7477200"/>
                <a:ext cx="533160" cy="380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67080" y="7621560"/>
                <a:ext cx="91800" cy="92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413160" y="7385040"/>
              <a:ext cx="0" cy="9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610000" y="7908840"/>
            <a:ext cx="1616040" cy="1001880"/>
            <a:chOff x="2610000" y="7908840"/>
            <a:chExt cx="1616040" cy="1001880"/>
          </a:xfrm>
        </p:grpSpPr>
        <p:sp>
          <p:nvSpPr>
            <p:cNvPr id="334" name=""/>
            <p:cNvSpPr/>
            <p:nvPr/>
          </p:nvSpPr>
          <p:spPr>
            <a:xfrm>
              <a:off x="2622960" y="7908840"/>
              <a:ext cx="798480" cy="100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22960" y="817092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22960" y="852624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10000" y="7967520"/>
              <a:ext cx="814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ymo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619720" y="8199360"/>
              <a:ext cx="806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amilton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 US E Vet 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22880" y="7908840"/>
              <a:ext cx="798480" cy="100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22880" y="817092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22880" y="852624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10280" y="7967520"/>
              <a:ext cx="814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ymo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19640" y="8199360"/>
              <a:ext cx="806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amilton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 US E Vet 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346040" y="7385040"/>
            <a:ext cx="533160" cy="473040"/>
            <a:chOff x="1346040" y="7385040"/>
            <a:chExt cx="533160" cy="473040"/>
          </a:xfrm>
        </p:grpSpPr>
        <p:grpSp>
          <p:nvGrpSpPr>
            <p:cNvPr id="345" name=""/>
            <p:cNvGrpSpPr/>
            <p:nvPr/>
          </p:nvGrpSpPr>
          <p:grpSpPr>
            <a:xfrm>
              <a:off x="1346040" y="7477200"/>
              <a:ext cx="533160" cy="380880"/>
              <a:chOff x="1346040" y="7477200"/>
              <a:chExt cx="533160" cy="380880"/>
            </a:xfrm>
          </p:grpSpPr>
          <p:sp>
            <p:nvSpPr>
              <p:cNvPr id="346" name=""/>
              <p:cNvSpPr/>
              <p:nvPr/>
            </p:nvSpPr>
            <p:spPr>
              <a:xfrm>
                <a:off x="1346040" y="7477200"/>
                <a:ext cx="533160" cy="380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566720" y="7621560"/>
                <a:ext cx="91800" cy="92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1612800" y="7385040"/>
              <a:ext cx="0" cy="9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809640" y="7908840"/>
            <a:ext cx="1616040" cy="1001880"/>
            <a:chOff x="809640" y="7908840"/>
            <a:chExt cx="1616040" cy="1001880"/>
          </a:xfrm>
        </p:grpSpPr>
        <p:sp>
          <p:nvSpPr>
            <p:cNvPr id="350" name=""/>
            <p:cNvSpPr/>
            <p:nvPr/>
          </p:nvSpPr>
          <p:spPr>
            <a:xfrm>
              <a:off x="822600" y="7908840"/>
              <a:ext cx="798480" cy="100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22600" y="817092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22600" y="852624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09640" y="7967520"/>
              <a:ext cx="814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ymo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9360" y="8199360"/>
              <a:ext cx="806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ngdon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 USM Vet 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22520" y="7908840"/>
              <a:ext cx="798480" cy="100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22520" y="817092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22520" y="852624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09920" y="7967520"/>
              <a:ext cx="814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ymo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19280" y="8199360"/>
              <a:ext cx="80640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angdon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 USM Vet 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952560" y="5648400"/>
            <a:ext cx="23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61920" y="7667640"/>
            <a:ext cx="34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14480" y="7658280"/>
            <a:ext cx="119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676680" y="7658280"/>
            <a:ext cx="119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752480" y="5667480"/>
            <a:ext cx="343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152800" y="48564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048040" y="47160"/>
            <a:ext cx="46576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lustee – Confederate Order of Battle and lab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412560" y="90360"/>
            <a:ext cx="170280" cy="152640"/>
            <a:chOff x="412560" y="90360"/>
            <a:chExt cx="170280" cy="152640"/>
          </a:xfrm>
        </p:grpSpPr>
        <p:sp>
          <p:nvSpPr>
            <p:cNvPr id="368" name=""/>
            <p:cNvSpPr/>
            <p:nvPr/>
          </p:nvSpPr>
          <p:spPr>
            <a:xfrm>
              <a:off x="412560" y="903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8240" y="9036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27160" y="222120"/>
            <a:ext cx="533160" cy="4860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9280" y="309600"/>
            <a:ext cx="6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istrict of East   Flori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7520" y="803160"/>
            <a:ext cx="900360" cy="1001880"/>
            <a:chOff x="47520" y="803160"/>
            <a:chExt cx="900360" cy="1001880"/>
          </a:xfrm>
        </p:grpSpPr>
        <p:sp>
          <p:nvSpPr>
            <p:cNvPr id="373" name=""/>
            <p:cNvSpPr/>
            <p:nvPr/>
          </p:nvSpPr>
          <p:spPr>
            <a:xfrm>
              <a:off x="98640" y="803160"/>
              <a:ext cx="798480" cy="100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8640" y="142056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7520" y="839520"/>
              <a:ext cx="900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negan     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176480" y="296640"/>
            <a:ext cx="533160" cy="384120"/>
            <a:chOff x="1176480" y="296640"/>
            <a:chExt cx="533160" cy="384120"/>
          </a:xfrm>
        </p:grpSpPr>
        <p:sp>
          <p:nvSpPr>
            <p:cNvPr id="377" name=""/>
            <p:cNvSpPr/>
            <p:nvPr/>
          </p:nvSpPr>
          <p:spPr>
            <a:xfrm>
              <a:off x="1176480" y="297000"/>
              <a:ext cx="53316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1176480" y="296640"/>
              <a:ext cx="529920" cy="384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76480" y="297000"/>
              <a:ext cx="533160" cy="38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401840" y="1652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042920" y="781200"/>
            <a:ext cx="798480" cy="1001520"/>
            <a:chOff x="1042920" y="781200"/>
            <a:chExt cx="798480" cy="1001520"/>
          </a:xfrm>
        </p:grpSpPr>
        <p:sp>
          <p:nvSpPr>
            <p:cNvPr id="382" name=""/>
            <p:cNvSpPr/>
            <p:nvPr/>
          </p:nvSpPr>
          <p:spPr>
            <a:xfrm>
              <a:off x="1042920" y="781200"/>
              <a:ext cx="798480" cy="10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42920" y="104292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42920" y="139860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16000" y="839520"/>
              <a:ext cx="652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neg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87200" y="1071360"/>
              <a:ext cx="711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quitt Galla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346480" y="533520"/>
            <a:ext cx="0" cy="9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22440" y="533520"/>
            <a:ext cx="0" cy="9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117880" y="628200"/>
            <a:ext cx="533160" cy="384120"/>
            <a:chOff x="2117880" y="628200"/>
            <a:chExt cx="533160" cy="384120"/>
          </a:xfrm>
        </p:grpSpPr>
        <p:sp>
          <p:nvSpPr>
            <p:cNvPr id="390" name=""/>
            <p:cNvSpPr/>
            <p:nvPr/>
          </p:nvSpPr>
          <p:spPr>
            <a:xfrm>
              <a:off x="2117880" y="628560"/>
              <a:ext cx="53316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2117880" y="628200"/>
              <a:ext cx="529920" cy="384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17880" y="628560"/>
              <a:ext cx="533160" cy="38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981080" y="1079640"/>
            <a:ext cx="806400" cy="1001520"/>
            <a:chOff x="1981080" y="1079640"/>
            <a:chExt cx="806400" cy="1001520"/>
          </a:xfrm>
        </p:grpSpPr>
        <p:sp>
          <p:nvSpPr>
            <p:cNvPr id="394" name=""/>
            <p:cNvSpPr/>
            <p:nvPr/>
          </p:nvSpPr>
          <p:spPr>
            <a:xfrm>
              <a:off x="1984320" y="1079640"/>
              <a:ext cx="798480" cy="10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4320" y="134136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84320" y="169668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57400" y="1137960"/>
              <a:ext cx="652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quit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81080" y="1369800"/>
              <a:ext cx="806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FL Bn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rn 12/8/5 R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781200" y="257040"/>
            <a:ext cx="16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52560" y="247680"/>
            <a:ext cx="0" cy="710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42840" y="476280"/>
            <a:ext cx="23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33400" y="476280"/>
            <a:ext cx="44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971800" y="48564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09880" y="48564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781360" y="533520"/>
            <a:ext cx="806400" cy="1547640"/>
            <a:chOff x="2781360" y="533520"/>
            <a:chExt cx="806400" cy="1547640"/>
          </a:xfrm>
        </p:grpSpPr>
        <p:grpSp>
          <p:nvGrpSpPr>
            <p:cNvPr id="406" name=""/>
            <p:cNvGrpSpPr/>
            <p:nvPr/>
          </p:nvGrpSpPr>
          <p:grpSpPr>
            <a:xfrm>
              <a:off x="3108600" y="533520"/>
              <a:ext cx="152280" cy="91800"/>
              <a:chOff x="3108600" y="533520"/>
              <a:chExt cx="152280" cy="91800"/>
            </a:xfrm>
          </p:grpSpPr>
          <p:sp>
            <p:nvSpPr>
              <p:cNvPr id="407" name=""/>
              <p:cNvSpPr/>
              <p:nvPr/>
            </p:nvSpPr>
            <p:spPr>
              <a:xfrm>
                <a:off x="326088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0860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18492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2918160" y="628200"/>
              <a:ext cx="533160" cy="384120"/>
              <a:chOff x="2918160" y="628200"/>
              <a:chExt cx="533160" cy="384120"/>
            </a:xfrm>
          </p:grpSpPr>
          <p:sp>
            <p:nvSpPr>
              <p:cNvPr id="411" name=""/>
              <p:cNvSpPr/>
              <p:nvPr/>
            </p:nvSpPr>
            <p:spPr>
              <a:xfrm>
                <a:off x="2918160" y="628560"/>
                <a:ext cx="53316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2918160" y="628200"/>
                <a:ext cx="529920" cy="384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918160" y="628560"/>
                <a:ext cx="533160" cy="381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781360" y="1079640"/>
              <a:ext cx="806400" cy="1001520"/>
              <a:chOff x="2781360" y="1079640"/>
              <a:chExt cx="806400" cy="1001520"/>
            </a:xfrm>
          </p:grpSpPr>
          <p:sp>
            <p:nvSpPr>
              <p:cNvPr id="415" name=""/>
              <p:cNvSpPr/>
              <p:nvPr/>
            </p:nvSpPr>
            <p:spPr>
              <a:xfrm>
                <a:off x="2784600" y="1079640"/>
                <a:ext cx="798480" cy="100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784600" y="1341360"/>
                <a:ext cx="798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84600" y="1696680"/>
                <a:ext cx="798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857680" y="1137960"/>
                <a:ext cx="652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lquit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781360" y="1369800"/>
                <a:ext cx="806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6GA           Vet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12/8/5 R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3581280" y="533520"/>
            <a:ext cx="806400" cy="1547640"/>
            <a:chOff x="3581280" y="533520"/>
            <a:chExt cx="806400" cy="1547640"/>
          </a:xfrm>
        </p:grpSpPr>
        <p:grpSp>
          <p:nvGrpSpPr>
            <p:cNvPr id="421" name=""/>
            <p:cNvGrpSpPr/>
            <p:nvPr/>
          </p:nvGrpSpPr>
          <p:grpSpPr>
            <a:xfrm>
              <a:off x="3908520" y="533520"/>
              <a:ext cx="152280" cy="91800"/>
              <a:chOff x="3908520" y="533520"/>
              <a:chExt cx="152280" cy="91800"/>
            </a:xfrm>
          </p:grpSpPr>
          <p:sp>
            <p:nvSpPr>
              <p:cNvPr id="422" name=""/>
              <p:cNvSpPr/>
              <p:nvPr/>
            </p:nvSpPr>
            <p:spPr>
              <a:xfrm>
                <a:off x="406080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90852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98484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3718080" y="628200"/>
              <a:ext cx="533160" cy="384120"/>
              <a:chOff x="3718080" y="628200"/>
              <a:chExt cx="533160" cy="384120"/>
            </a:xfrm>
          </p:grpSpPr>
          <p:sp>
            <p:nvSpPr>
              <p:cNvPr id="426" name=""/>
              <p:cNvSpPr/>
              <p:nvPr/>
            </p:nvSpPr>
            <p:spPr>
              <a:xfrm>
                <a:off x="3718080" y="628560"/>
                <a:ext cx="53316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3718080" y="628200"/>
                <a:ext cx="529920" cy="384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718080" y="628560"/>
                <a:ext cx="533160" cy="381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3581280" y="1079640"/>
              <a:ext cx="806400" cy="1001520"/>
              <a:chOff x="3581280" y="1079640"/>
              <a:chExt cx="806400" cy="1001520"/>
            </a:xfrm>
          </p:grpSpPr>
          <p:sp>
            <p:nvSpPr>
              <p:cNvPr id="430" name=""/>
              <p:cNvSpPr/>
              <p:nvPr/>
            </p:nvSpPr>
            <p:spPr>
              <a:xfrm>
                <a:off x="3584520" y="1079640"/>
                <a:ext cx="798480" cy="100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584520" y="1341360"/>
                <a:ext cx="798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584520" y="1696680"/>
                <a:ext cx="798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657600" y="1137960"/>
                <a:ext cx="652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lquit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581280" y="1369800"/>
                <a:ext cx="8064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9GA       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Vet 12/8/5 R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5" name=""/>
          <p:cNvGrpSpPr/>
          <p:nvPr/>
        </p:nvGrpSpPr>
        <p:grpSpPr>
          <a:xfrm>
            <a:off x="4381560" y="533520"/>
            <a:ext cx="806400" cy="1547640"/>
            <a:chOff x="4381560" y="533520"/>
            <a:chExt cx="806400" cy="1547640"/>
          </a:xfrm>
        </p:grpSpPr>
        <p:grpSp>
          <p:nvGrpSpPr>
            <p:cNvPr id="436" name=""/>
            <p:cNvGrpSpPr/>
            <p:nvPr/>
          </p:nvGrpSpPr>
          <p:grpSpPr>
            <a:xfrm>
              <a:off x="4708800" y="533520"/>
              <a:ext cx="152280" cy="91800"/>
              <a:chOff x="4708800" y="533520"/>
              <a:chExt cx="152280" cy="91800"/>
            </a:xfrm>
          </p:grpSpPr>
          <p:sp>
            <p:nvSpPr>
              <p:cNvPr id="437" name=""/>
              <p:cNvSpPr/>
              <p:nvPr/>
            </p:nvSpPr>
            <p:spPr>
              <a:xfrm>
                <a:off x="486108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0880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8512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4518360" y="628200"/>
              <a:ext cx="533160" cy="384120"/>
              <a:chOff x="4518360" y="628200"/>
              <a:chExt cx="533160" cy="384120"/>
            </a:xfrm>
          </p:grpSpPr>
          <p:sp>
            <p:nvSpPr>
              <p:cNvPr id="441" name=""/>
              <p:cNvSpPr/>
              <p:nvPr/>
            </p:nvSpPr>
            <p:spPr>
              <a:xfrm>
                <a:off x="4518360" y="628560"/>
                <a:ext cx="53316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4518360" y="628200"/>
                <a:ext cx="529920" cy="384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518360" y="628560"/>
                <a:ext cx="533160" cy="381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4381560" y="1079640"/>
              <a:ext cx="806400" cy="1001520"/>
              <a:chOff x="4381560" y="1079640"/>
              <a:chExt cx="806400" cy="1001520"/>
            </a:xfrm>
          </p:grpSpPr>
          <p:sp>
            <p:nvSpPr>
              <p:cNvPr id="445" name=""/>
              <p:cNvSpPr/>
              <p:nvPr/>
            </p:nvSpPr>
            <p:spPr>
              <a:xfrm>
                <a:off x="4384800" y="1079640"/>
                <a:ext cx="798480" cy="100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384800" y="1341360"/>
                <a:ext cx="798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384800" y="1696680"/>
                <a:ext cx="798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457880" y="1137960"/>
                <a:ext cx="652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lquit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81560" y="1369800"/>
                <a:ext cx="8064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3GA       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Vet 8/5/3 R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0" name=""/>
          <p:cNvGrpSpPr/>
          <p:nvPr/>
        </p:nvGrpSpPr>
        <p:grpSpPr>
          <a:xfrm>
            <a:off x="5181480" y="533520"/>
            <a:ext cx="806400" cy="1547640"/>
            <a:chOff x="5181480" y="533520"/>
            <a:chExt cx="806400" cy="1547640"/>
          </a:xfrm>
        </p:grpSpPr>
        <p:grpSp>
          <p:nvGrpSpPr>
            <p:cNvPr id="451" name=""/>
            <p:cNvGrpSpPr/>
            <p:nvPr/>
          </p:nvGrpSpPr>
          <p:grpSpPr>
            <a:xfrm>
              <a:off x="5508720" y="533520"/>
              <a:ext cx="152280" cy="91800"/>
              <a:chOff x="5508720" y="533520"/>
              <a:chExt cx="152280" cy="91800"/>
            </a:xfrm>
          </p:grpSpPr>
          <p:sp>
            <p:nvSpPr>
              <p:cNvPr id="452" name=""/>
              <p:cNvSpPr/>
              <p:nvPr/>
            </p:nvSpPr>
            <p:spPr>
              <a:xfrm>
                <a:off x="566100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0872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8504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5318280" y="628200"/>
              <a:ext cx="533160" cy="384120"/>
              <a:chOff x="5318280" y="628200"/>
              <a:chExt cx="533160" cy="384120"/>
            </a:xfrm>
          </p:grpSpPr>
          <p:sp>
            <p:nvSpPr>
              <p:cNvPr id="456" name=""/>
              <p:cNvSpPr/>
              <p:nvPr/>
            </p:nvSpPr>
            <p:spPr>
              <a:xfrm>
                <a:off x="5318280" y="628560"/>
                <a:ext cx="53316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5318280" y="628200"/>
                <a:ext cx="529920" cy="384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8280" y="628560"/>
                <a:ext cx="533160" cy="381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5181480" y="1079640"/>
              <a:ext cx="806400" cy="1001520"/>
              <a:chOff x="5181480" y="1079640"/>
              <a:chExt cx="806400" cy="1001520"/>
            </a:xfrm>
          </p:grpSpPr>
          <p:sp>
            <p:nvSpPr>
              <p:cNvPr id="460" name=""/>
              <p:cNvSpPr/>
              <p:nvPr/>
            </p:nvSpPr>
            <p:spPr>
              <a:xfrm>
                <a:off x="5184720" y="1079640"/>
                <a:ext cx="798480" cy="100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184720" y="1341360"/>
                <a:ext cx="798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184720" y="1696680"/>
                <a:ext cx="798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257800" y="1137960"/>
                <a:ext cx="652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lquit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81480" y="1369800"/>
                <a:ext cx="8064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7GA       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Vet 12/8/5 R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5981760" y="533520"/>
            <a:ext cx="806400" cy="1547640"/>
            <a:chOff x="5981760" y="533520"/>
            <a:chExt cx="806400" cy="1547640"/>
          </a:xfrm>
        </p:grpSpPr>
        <p:grpSp>
          <p:nvGrpSpPr>
            <p:cNvPr id="466" name=""/>
            <p:cNvGrpSpPr/>
            <p:nvPr/>
          </p:nvGrpSpPr>
          <p:grpSpPr>
            <a:xfrm>
              <a:off x="6309000" y="533520"/>
              <a:ext cx="152280" cy="91800"/>
              <a:chOff x="6309000" y="533520"/>
              <a:chExt cx="152280" cy="91800"/>
            </a:xfrm>
          </p:grpSpPr>
          <p:sp>
            <p:nvSpPr>
              <p:cNvPr id="467" name=""/>
              <p:cNvSpPr/>
              <p:nvPr/>
            </p:nvSpPr>
            <p:spPr>
              <a:xfrm>
                <a:off x="646128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30900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385320" y="533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6118560" y="628200"/>
              <a:ext cx="533160" cy="384120"/>
              <a:chOff x="6118560" y="628200"/>
              <a:chExt cx="533160" cy="384120"/>
            </a:xfrm>
          </p:grpSpPr>
          <p:sp>
            <p:nvSpPr>
              <p:cNvPr id="471" name=""/>
              <p:cNvSpPr/>
              <p:nvPr/>
            </p:nvSpPr>
            <p:spPr>
              <a:xfrm>
                <a:off x="6118560" y="628560"/>
                <a:ext cx="53316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6118560" y="628200"/>
                <a:ext cx="529920" cy="384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18560" y="628560"/>
                <a:ext cx="533160" cy="381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5981760" y="1079640"/>
              <a:ext cx="806400" cy="1001520"/>
              <a:chOff x="5981760" y="1079640"/>
              <a:chExt cx="806400" cy="1001520"/>
            </a:xfrm>
          </p:grpSpPr>
          <p:sp>
            <p:nvSpPr>
              <p:cNvPr id="475" name=""/>
              <p:cNvSpPr/>
              <p:nvPr/>
            </p:nvSpPr>
            <p:spPr>
              <a:xfrm>
                <a:off x="5985000" y="1079640"/>
                <a:ext cx="798480" cy="100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85000" y="1341360"/>
                <a:ext cx="798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985000" y="1696680"/>
                <a:ext cx="798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058080" y="1137960"/>
                <a:ext cx="652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lquit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981760" y="1369800"/>
                <a:ext cx="8064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28GA       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Vet 12/8/5 R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0" name=""/>
          <p:cNvSpPr/>
          <p:nvPr/>
        </p:nvSpPr>
        <p:spPr>
          <a:xfrm>
            <a:off x="4552920" y="48564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53200" y="48564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10360" y="46656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1628640" y="2108160"/>
            <a:ext cx="1616040" cy="1573200"/>
            <a:chOff x="1628640" y="2108160"/>
            <a:chExt cx="1616040" cy="1573200"/>
          </a:xfrm>
        </p:grpSpPr>
        <p:sp>
          <p:nvSpPr>
            <p:cNvPr id="484" name=""/>
            <p:cNvSpPr/>
            <p:nvPr/>
          </p:nvSpPr>
          <p:spPr>
            <a:xfrm>
              <a:off x="2165400" y="2200320"/>
              <a:ext cx="53316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386080" y="2344680"/>
              <a:ext cx="9216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432160" y="2108160"/>
              <a:ext cx="0" cy="9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641600" y="2679840"/>
              <a:ext cx="798480" cy="10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641600" y="294192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41600" y="329724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28640" y="2738520"/>
              <a:ext cx="81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quit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38360" y="2970360"/>
              <a:ext cx="806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heaton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et 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41520" y="2679840"/>
              <a:ext cx="798480" cy="10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41520" y="294192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441520" y="329724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28920" y="2738520"/>
              <a:ext cx="814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quit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38280" y="2970360"/>
              <a:ext cx="806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heaton 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et 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4251240" y="2108160"/>
            <a:ext cx="533520" cy="473040"/>
            <a:chOff x="4251240" y="2108160"/>
            <a:chExt cx="533520" cy="473040"/>
          </a:xfrm>
        </p:grpSpPr>
        <p:sp>
          <p:nvSpPr>
            <p:cNvPr id="498" name=""/>
            <p:cNvSpPr/>
            <p:nvPr/>
          </p:nvSpPr>
          <p:spPr>
            <a:xfrm>
              <a:off x="4251240" y="2200320"/>
              <a:ext cx="53352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71920" y="2344680"/>
              <a:ext cx="92160" cy="92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18000" y="2108160"/>
              <a:ext cx="0" cy="9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333600" y="2679840"/>
            <a:ext cx="2416320" cy="1001520"/>
            <a:chOff x="3333600" y="2679840"/>
            <a:chExt cx="2416320" cy="1001520"/>
          </a:xfrm>
        </p:grpSpPr>
        <p:sp>
          <p:nvSpPr>
            <p:cNvPr id="502" name=""/>
            <p:cNvSpPr/>
            <p:nvPr/>
          </p:nvSpPr>
          <p:spPr>
            <a:xfrm>
              <a:off x="3346560" y="2679840"/>
              <a:ext cx="798480" cy="10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346560" y="294156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346560" y="329724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33600" y="2738520"/>
              <a:ext cx="81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quit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43320" y="2970360"/>
              <a:ext cx="806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amble 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et L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4133880" y="2679840"/>
              <a:ext cx="816120" cy="1001520"/>
              <a:chOff x="4133880" y="2679840"/>
              <a:chExt cx="816120" cy="1001520"/>
            </a:xfrm>
          </p:grpSpPr>
          <p:sp>
            <p:nvSpPr>
              <p:cNvPr id="508" name=""/>
              <p:cNvSpPr/>
              <p:nvPr/>
            </p:nvSpPr>
            <p:spPr>
              <a:xfrm>
                <a:off x="4146480" y="2679840"/>
                <a:ext cx="798840" cy="100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146480" y="2941560"/>
                <a:ext cx="798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146480" y="3297240"/>
                <a:ext cx="798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33880" y="2738160"/>
                <a:ext cx="81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lquit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143600" y="2970000"/>
                <a:ext cx="8064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amble   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Vet L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4933800" y="2679840"/>
              <a:ext cx="816120" cy="1001520"/>
              <a:chOff x="4933800" y="2679840"/>
              <a:chExt cx="816120" cy="1001520"/>
            </a:xfrm>
          </p:grpSpPr>
          <p:sp>
            <p:nvSpPr>
              <p:cNvPr id="514" name=""/>
              <p:cNvSpPr/>
              <p:nvPr/>
            </p:nvSpPr>
            <p:spPr>
              <a:xfrm>
                <a:off x="4946400" y="2679840"/>
                <a:ext cx="798840" cy="100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946400" y="2941560"/>
                <a:ext cx="798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46400" y="3297240"/>
                <a:ext cx="798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933800" y="2738160"/>
                <a:ext cx="81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olquit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943520" y="2970000"/>
                <a:ext cx="8064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amble   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Vet M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9" name=""/>
          <p:cNvSpPr/>
          <p:nvPr/>
        </p:nvSpPr>
        <p:spPr>
          <a:xfrm>
            <a:off x="1895400" y="457200"/>
            <a:ext cx="0" cy="19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86040" y="2400480"/>
            <a:ext cx="23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43200" y="239076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165400" y="395280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189080" y="3763440"/>
            <a:ext cx="533520" cy="384120"/>
            <a:chOff x="1189080" y="3763440"/>
            <a:chExt cx="533520" cy="384120"/>
          </a:xfrm>
        </p:grpSpPr>
        <p:sp>
          <p:nvSpPr>
            <p:cNvPr id="524" name=""/>
            <p:cNvSpPr/>
            <p:nvPr/>
          </p:nvSpPr>
          <p:spPr>
            <a:xfrm>
              <a:off x="1189080" y="3763800"/>
              <a:ext cx="53352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1189080" y="3763440"/>
              <a:ext cx="530280" cy="384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89080" y="3763800"/>
              <a:ext cx="533520" cy="38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414440" y="363204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055520" y="4248000"/>
            <a:ext cx="798480" cy="1001880"/>
            <a:chOff x="1055520" y="4248000"/>
            <a:chExt cx="798480" cy="1001880"/>
          </a:xfrm>
        </p:grpSpPr>
        <p:sp>
          <p:nvSpPr>
            <p:cNvPr id="529" name=""/>
            <p:cNvSpPr/>
            <p:nvPr/>
          </p:nvSpPr>
          <p:spPr>
            <a:xfrm>
              <a:off x="1055520" y="4248000"/>
              <a:ext cx="798480" cy="100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55520" y="451008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55520" y="486576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28600" y="4306680"/>
              <a:ext cx="652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neg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99800" y="4538520"/>
              <a:ext cx="711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arrison 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130480" y="4000680"/>
            <a:ext cx="533520" cy="478800"/>
            <a:chOff x="2130480" y="4000680"/>
            <a:chExt cx="533520" cy="478800"/>
          </a:xfrm>
        </p:grpSpPr>
        <p:sp>
          <p:nvSpPr>
            <p:cNvPr id="535" name=""/>
            <p:cNvSpPr/>
            <p:nvPr/>
          </p:nvSpPr>
          <p:spPr>
            <a:xfrm>
              <a:off x="2359080" y="4000680"/>
              <a:ext cx="0" cy="9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435400" y="4000680"/>
              <a:ext cx="0" cy="9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2130480" y="4095720"/>
              <a:ext cx="533520" cy="383760"/>
              <a:chOff x="2130480" y="4095720"/>
              <a:chExt cx="533520" cy="383760"/>
            </a:xfrm>
          </p:grpSpPr>
          <p:sp>
            <p:nvSpPr>
              <p:cNvPr id="538" name=""/>
              <p:cNvSpPr/>
              <p:nvPr/>
            </p:nvSpPr>
            <p:spPr>
              <a:xfrm>
                <a:off x="2130480" y="40957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2130480" y="4095720"/>
                <a:ext cx="530280" cy="3837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130480" y="4095720"/>
                <a:ext cx="533520" cy="3808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1" name=""/>
          <p:cNvGrpSpPr/>
          <p:nvPr/>
        </p:nvGrpSpPr>
        <p:grpSpPr>
          <a:xfrm>
            <a:off x="1994040" y="4546440"/>
            <a:ext cx="806400" cy="1001880"/>
            <a:chOff x="1994040" y="4546440"/>
            <a:chExt cx="806400" cy="1001880"/>
          </a:xfrm>
        </p:grpSpPr>
        <p:sp>
          <p:nvSpPr>
            <p:cNvPr id="542" name=""/>
            <p:cNvSpPr/>
            <p:nvPr/>
          </p:nvSpPr>
          <p:spPr>
            <a:xfrm>
              <a:off x="1997280" y="4546440"/>
              <a:ext cx="798480" cy="100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97280" y="480852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97280" y="516384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70360" y="4605120"/>
              <a:ext cx="652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arris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94040" y="4836960"/>
              <a:ext cx="806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FL Bn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rn 10/7/4 R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955800" y="3943440"/>
            <a:ext cx="23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27280" y="3943440"/>
            <a:ext cx="375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984400" y="395280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22840" y="395280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793960" y="4000680"/>
            <a:ext cx="806400" cy="1547640"/>
            <a:chOff x="2793960" y="4000680"/>
            <a:chExt cx="806400" cy="1547640"/>
          </a:xfrm>
        </p:grpSpPr>
        <p:grpSp>
          <p:nvGrpSpPr>
            <p:cNvPr id="552" name=""/>
            <p:cNvGrpSpPr/>
            <p:nvPr/>
          </p:nvGrpSpPr>
          <p:grpSpPr>
            <a:xfrm>
              <a:off x="3121200" y="4000680"/>
              <a:ext cx="152280" cy="91800"/>
              <a:chOff x="3121200" y="4000680"/>
              <a:chExt cx="152280" cy="91800"/>
            </a:xfrm>
          </p:grpSpPr>
          <p:sp>
            <p:nvSpPr>
              <p:cNvPr id="553" name=""/>
              <p:cNvSpPr/>
              <p:nvPr/>
            </p:nvSpPr>
            <p:spPr>
              <a:xfrm>
                <a:off x="3273480" y="400068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121200" y="400068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197520" y="400068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2930760" y="4095360"/>
              <a:ext cx="533160" cy="384120"/>
              <a:chOff x="2930760" y="4095360"/>
              <a:chExt cx="533160" cy="384120"/>
            </a:xfrm>
          </p:grpSpPr>
          <p:sp>
            <p:nvSpPr>
              <p:cNvPr id="557" name=""/>
              <p:cNvSpPr/>
              <p:nvPr/>
            </p:nvSpPr>
            <p:spPr>
              <a:xfrm>
                <a:off x="2930760" y="4095720"/>
                <a:ext cx="53316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2930760" y="4095360"/>
                <a:ext cx="529920" cy="384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930760" y="4095720"/>
                <a:ext cx="533160" cy="381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2793960" y="4546800"/>
              <a:ext cx="806400" cy="1001520"/>
              <a:chOff x="2793960" y="4546800"/>
              <a:chExt cx="806400" cy="1001520"/>
            </a:xfrm>
          </p:grpSpPr>
          <p:sp>
            <p:nvSpPr>
              <p:cNvPr id="561" name=""/>
              <p:cNvSpPr/>
              <p:nvPr/>
            </p:nvSpPr>
            <p:spPr>
              <a:xfrm>
                <a:off x="2797200" y="4546800"/>
                <a:ext cx="798480" cy="100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797200" y="4808520"/>
                <a:ext cx="798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797200" y="5163840"/>
                <a:ext cx="798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870280" y="4605120"/>
                <a:ext cx="652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Harris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793960" y="4836960"/>
                <a:ext cx="806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32GA           Vet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10/7/4 R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6" name=""/>
          <p:cNvGrpSpPr/>
          <p:nvPr/>
        </p:nvGrpSpPr>
        <p:grpSpPr>
          <a:xfrm>
            <a:off x="3921120" y="4000680"/>
            <a:ext cx="152280" cy="91800"/>
            <a:chOff x="3921120" y="4000680"/>
            <a:chExt cx="152280" cy="91800"/>
          </a:xfrm>
        </p:grpSpPr>
        <p:sp>
          <p:nvSpPr>
            <p:cNvPr id="567" name=""/>
            <p:cNvSpPr/>
            <p:nvPr/>
          </p:nvSpPr>
          <p:spPr>
            <a:xfrm>
              <a:off x="4073400" y="4000680"/>
              <a:ext cx="0" cy="9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21120" y="4000680"/>
              <a:ext cx="0" cy="9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997440" y="4000680"/>
              <a:ext cx="0" cy="9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3730680" y="4095360"/>
            <a:ext cx="533520" cy="384120"/>
            <a:chOff x="3730680" y="4095360"/>
            <a:chExt cx="533520" cy="384120"/>
          </a:xfrm>
        </p:grpSpPr>
        <p:sp>
          <p:nvSpPr>
            <p:cNvPr id="571" name=""/>
            <p:cNvSpPr/>
            <p:nvPr/>
          </p:nvSpPr>
          <p:spPr>
            <a:xfrm>
              <a:off x="3730680" y="4095720"/>
              <a:ext cx="53352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730680" y="4095360"/>
              <a:ext cx="530280" cy="384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730680" y="4095720"/>
              <a:ext cx="533520" cy="38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3597120" y="4808520"/>
            <a:ext cx="798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606840" y="5164200"/>
            <a:ext cx="7984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3597120" y="4546440"/>
            <a:ext cx="860400" cy="1001880"/>
            <a:chOff x="3597120" y="4546440"/>
            <a:chExt cx="860400" cy="1001880"/>
          </a:xfrm>
        </p:grpSpPr>
        <p:sp>
          <p:nvSpPr>
            <p:cNvPr id="577" name=""/>
            <p:cNvSpPr/>
            <p:nvPr/>
          </p:nvSpPr>
          <p:spPr>
            <a:xfrm>
              <a:off x="3597120" y="4546440"/>
              <a:ext cx="845280" cy="100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74160" y="4605480"/>
              <a:ext cx="690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arris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603960" y="4836960"/>
              <a:ext cx="853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4GA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et 15/10/6 R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4432320" y="4000680"/>
            <a:ext cx="806400" cy="1547640"/>
            <a:chOff x="4432320" y="4000680"/>
            <a:chExt cx="806400" cy="1547640"/>
          </a:xfrm>
        </p:grpSpPr>
        <p:grpSp>
          <p:nvGrpSpPr>
            <p:cNvPr id="581" name=""/>
            <p:cNvGrpSpPr/>
            <p:nvPr/>
          </p:nvGrpSpPr>
          <p:grpSpPr>
            <a:xfrm>
              <a:off x="4759560" y="4000680"/>
              <a:ext cx="152280" cy="91800"/>
              <a:chOff x="4759560" y="4000680"/>
              <a:chExt cx="152280" cy="91800"/>
            </a:xfrm>
          </p:grpSpPr>
          <p:sp>
            <p:nvSpPr>
              <p:cNvPr id="582" name=""/>
              <p:cNvSpPr/>
              <p:nvPr/>
            </p:nvSpPr>
            <p:spPr>
              <a:xfrm>
                <a:off x="4911840" y="400068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759560" y="400068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835880" y="400068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4569120" y="4095360"/>
              <a:ext cx="533160" cy="384120"/>
              <a:chOff x="4569120" y="4095360"/>
              <a:chExt cx="533160" cy="384120"/>
            </a:xfrm>
          </p:grpSpPr>
          <p:sp>
            <p:nvSpPr>
              <p:cNvPr id="586" name=""/>
              <p:cNvSpPr/>
              <p:nvPr/>
            </p:nvSpPr>
            <p:spPr>
              <a:xfrm>
                <a:off x="4569120" y="4095720"/>
                <a:ext cx="53316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4569120" y="4095360"/>
                <a:ext cx="529920" cy="384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569120" y="4095720"/>
                <a:ext cx="533160" cy="381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4432320" y="4546800"/>
              <a:ext cx="806400" cy="1001520"/>
              <a:chOff x="4432320" y="4546800"/>
              <a:chExt cx="806400" cy="1001520"/>
            </a:xfrm>
          </p:grpSpPr>
          <p:sp>
            <p:nvSpPr>
              <p:cNvPr id="590" name=""/>
              <p:cNvSpPr/>
              <p:nvPr/>
            </p:nvSpPr>
            <p:spPr>
              <a:xfrm>
                <a:off x="4435560" y="4546800"/>
                <a:ext cx="798480" cy="100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435560" y="4808520"/>
                <a:ext cx="798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435560" y="5163840"/>
                <a:ext cx="7984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508640" y="4605120"/>
                <a:ext cx="652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Harris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432320" y="4836960"/>
                <a:ext cx="806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1GA Regt       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Vet 5/4/3 R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5232240" y="4546440"/>
            <a:ext cx="806400" cy="1001880"/>
            <a:chOff x="5232240" y="4546440"/>
            <a:chExt cx="806400" cy="1001880"/>
          </a:xfrm>
        </p:grpSpPr>
        <p:sp>
          <p:nvSpPr>
            <p:cNvPr id="596" name=""/>
            <p:cNvSpPr/>
            <p:nvPr/>
          </p:nvSpPr>
          <p:spPr>
            <a:xfrm>
              <a:off x="5235480" y="4546440"/>
              <a:ext cx="798480" cy="100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235480" y="480852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35480" y="516384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08560" y="4605120"/>
              <a:ext cx="652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arris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232240" y="4836960"/>
              <a:ext cx="806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8GA Art.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Vet 5/3/2 R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622760" y="395280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70560" y="394344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17720" y="3952800"/>
            <a:ext cx="0" cy="187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898640" y="5838840"/>
            <a:ext cx="23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5359320" y="3981600"/>
            <a:ext cx="533520" cy="478800"/>
            <a:chOff x="5359320" y="3981600"/>
            <a:chExt cx="533520" cy="478800"/>
          </a:xfrm>
        </p:grpSpPr>
        <p:sp>
          <p:nvSpPr>
            <p:cNvPr id="606" name=""/>
            <p:cNvSpPr/>
            <p:nvPr/>
          </p:nvSpPr>
          <p:spPr>
            <a:xfrm>
              <a:off x="5587920" y="3981600"/>
              <a:ext cx="0" cy="9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664240" y="3981600"/>
              <a:ext cx="0" cy="9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5359320" y="4076640"/>
              <a:ext cx="533520" cy="383760"/>
              <a:chOff x="5359320" y="4076640"/>
              <a:chExt cx="533520" cy="383760"/>
            </a:xfrm>
          </p:grpSpPr>
          <p:sp>
            <p:nvSpPr>
              <p:cNvPr id="609" name=""/>
              <p:cNvSpPr/>
              <p:nvPr/>
            </p:nvSpPr>
            <p:spPr>
              <a:xfrm>
                <a:off x="5359320" y="407664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5359320" y="4076640"/>
                <a:ext cx="530280" cy="38376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359320" y="4076640"/>
                <a:ext cx="533520" cy="3808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2" name=""/>
          <p:cNvSpPr/>
          <p:nvPr/>
        </p:nvSpPr>
        <p:spPr>
          <a:xfrm>
            <a:off x="2178000" y="5667480"/>
            <a:ext cx="53352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398680" y="5811840"/>
            <a:ext cx="92160" cy="92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444760" y="5575320"/>
            <a:ext cx="0" cy="9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654200" y="6099120"/>
            <a:ext cx="798480" cy="10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654200" y="6361200"/>
            <a:ext cx="7984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54200" y="6716880"/>
            <a:ext cx="7984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641600" y="6157800"/>
            <a:ext cx="814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rri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50960" y="6389640"/>
            <a:ext cx="806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erard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et 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454120" y="6099120"/>
            <a:ext cx="798840" cy="10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454120" y="6361200"/>
            <a:ext cx="798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454120" y="6716880"/>
            <a:ext cx="79884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441520" y="6157800"/>
            <a:ext cx="814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rri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51240" y="6389640"/>
            <a:ext cx="806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uerard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et 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455480" y="7029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231920" y="7160760"/>
            <a:ext cx="533520" cy="384120"/>
            <a:chOff x="1231920" y="7160760"/>
            <a:chExt cx="533520" cy="384120"/>
          </a:xfrm>
        </p:grpSpPr>
        <p:sp>
          <p:nvSpPr>
            <p:cNvPr id="627" name=""/>
            <p:cNvSpPr/>
            <p:nvPr/>
          </p:nvSpPr>
          <p:spPr>
            <a:xfrm>
              <a:off x="1231920" y="7161120"/>
              <a:ext cx="533520" cy="381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1231920" y="7160760"/>
              <a:ext cx="530280" cy="384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2120760" y="7418520"/>
            <a:ext cx="533520" cy="478800"/>
            <a:chOff x="2120760" y="7418520"/>
            <a:chExt cx="533520" cy="478800"/>
          </a:xfrm>
        </p:grpSpPr>
        <p:grpSp>
          <p:nvGrpSpPr>
            <p:cNvPr id="630" name=""/>
            <p:cNvGrpSpPr/>
            <p:nvPr/>
          </p:nvGrpSpPr>
          <p:grpSpPr>
            <a:xfrm>
              <a:off x="2120760" y="7513200"/>
              <a:ext cx="533520" cy="384120"/>
              <a:chOff x="2120760" y="7513200"/>
              <a:chExt cx="533520" cy="384120"/>
            </a:xfrm>
          </p:grpSpPr>
          <p:sp>
            <p:nvSpPr>
              <p:cNvPr id="631" name=""/>
              <p:cNvSpPr/>
              <p:nvPr/>
            </p:nvSpPr>
            <p:spPr>
              <a:xfrm>
                <a:off x="2120760" y="7513560"/>
                <a:ext cx="53352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2120760" y="7513200"/>
                <a:ext cx="530280" cy="384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2311560" y="7418520"/>
              <a:ext cx="152280" cy="91800"/>
              <a:chOff x="2311560" y="7418520"/>
              <a:chExt cx="152280" cy="91800"/>
            </a:xfrm>
          </p:grpSpPr>
          <p:sp>
            <p:nvSpPr>
              <p:cNvPr id="634" name=""/>
              <p:cNvSpPr/>
              <p:nvPr/>
            </p:nvSpPr>
            <p:spPr>
              <a:xfrm>
                <a:off x="2463840" y="7418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311560" y="7418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387880" y="741852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7" name=""/>
          <p:cNvGrpSpPr/>
          <p:nvPr/>
        </p:nvGrpSpPr>
        <p:grpSpPr>
          <a:xfrm>
            <a:off x="1106640" y="7596360"/>
            <a:ext cx="806400" cy="1001520"/>
            <a:chOff x="1106640" y="7596360"/>
            <a:chExt cx="806400" cy="1001520"/>
          </a:xfrm>
        </p:grpSpPr>
        <p:sp>
          <p:nvSpPr>
            <p:cNvPr id="638" name=""/>
            <p:cNvSpPr/>
            <p:nvPr/>
          </p:nvSpPr>
          <p:spPr>
            <a:xfrm>
              <a:off x="1109880" y="7596360"/>
              <a:ext cx="798480" cy="10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109880" y="785808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109880" y="821376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82960" y="7655040"/>
              <a:ext cx="652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ineg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06640" y="7886880"/>
              <a:ext cx="806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mith      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1990800" y="8008920"/>
            <a:ext cx="1616040" cy="1001880"/>
            <a:chOff x="1990800" y="8008920"/>
            <a:chExt cx="1616040" cy="1001880"/>
          </a:xfrm>
        </p:grpSpPr>
        <p:sp>
          <p:nvSpPr>
            <p:cNvPr id="644" name=""/>
            <p:cNvSpPr/>
            <p:nvPr/>
          </p:nvSpPr>
          <p:spPr>
            <a:xfrm>
              <a:off x="2003760" y="8008920"/>
              <a:ext cx="798480" cy="100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03760" y="827100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003760" y="862632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90800" y="8067600"/>
              <a:ext cx="814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000520" y="8299440"/>
              <a:ext cx="806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GA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rn 6/4/2 S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03680" y="8008920"/>
              <a:ext cx="798480" cy="100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803680" y="827100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803680" y="8626320"/>
              <a:ext cx="79848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791080" y="8067600"/>
              <a:ext cx="814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mi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00440" y="8299440"/>
              <a:ext cx="806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 FL           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rn 5/3/2 B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790640" y="7358040"/>
            <a:ext cx="120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162160" y="736776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990880" y="734868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71640" y="7338960"/>
            <a:ext cx="23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911320" y="7408800"/>
            <a:ext cx="533520" cy="478800"/>
            <a:chOff x="2911320" y="7408800"/>
            <a:chExt cx="533520" cy="478800"/>
          </a:xfrm>
        </p:grpSpPr>
        <p:grpSp>
          <p:nvGrpSpPr>
            <p:cNvPr id="659" name=""/>
            <p:cNvGrpSpPr/>
            <p:nvPr/>
          </p:nvGrpSpPr>
          <p:grpSpPr>
            <a:xfrm>
              <a:off x="2911320" y="7503480"/>
              <a:ext cx="533520" cy="384120"/>
              <a:chOff x="2911320" y="7503480"/>
              <a:chExt cx="533520" cy="384120"/>
            </a:xfrm>
          </p:grpSpPr>
          <p:sp>
            <p:nvSpPr>
              <p:cNvPr id="660" name=""/>
              <p:cNvSpPr/>
              <p:nvPr/>
            </p:nvSpPr>
            <p:spPr>
              <a:xfrm>
                <a:off x="2911320" y="7503840"/>
                <a:ext cx="533520" cy="381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2911320" y="7503480"/>
                <a:ext cx="530280" cy="38412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3102120" y="7408800"/>
              <a:ext cx="152280" cy="91800"/>
              <a:chOff x="3102120" y="7408800"/>
              <a:chExt cx="152280" cy="91800"/>
            </a:xfrm>
          </p:grpSpPr>
          <p:sp>
            <p:nvSpPr>
              <p:cNvPr id="663" name=""/>
              <p:cNvSpPr/>
              <p:nvPr/>
            </p:nvSpPr>
            <p:spPr>
              <a:xfrm>
                <a:off x="3254400" y="740880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102120" y="740880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178440" y="7408800"/>
                <a:ext cx="0" cy="9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5:20:33Z</dcterms:created>
  <dc:creator>Jim Baker</dc:creator>
  <dc:description/>
  <dc:language>en-US</dc:language>
  <cp:lastModifiedBy>James Baker</cp:lastModifiedBy>
  <cp:lastPrinted>2005-12-14T02:54:53Z</cp:lastPrinted>
  <dcterms:modified xsi:type="dcterms:W3CDTF">2005-12-14T03:40:14Z</dcterms:modified>
  <cp:revision>13</cp:revision>
  <dc:subject/>
  <dc:title>Olustee – Union Order of Battle</dc:title>
</cp:coreProperties>
</file>